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7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4.jpeg" ContentType="image/jpeg"/>
  <Override PartName="/ppt/media/image5.jpeg" ContentType="image/jpeg"/>
  <Override PartName="/ppt/media/image35.png" ContentType="image/png"/>
  <Override PartName="/ppt/media/image20.png" ContentType="image/png"/>
  <Override PartName="/ppt/media/image18.png" ContentType="image/png"/>
  <Override PartName="/ppt/media/image12.png" ContentType="image/png"/>
  <Override PartName="/ppt/media/image30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6.png" ContentType="image/png"/>
  <Override PartName="/ppt/media/image33.png" ContentType="image/png"/>
  <Override PartName="/ppt/media/image34.png" ContentType="image/png"/>
  <Override PartName="/ppt/media/image25.jpeg" ContentType="image/jpeg"/>
  <Override PartName="/ppt/media/image32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7.jpeg" ContentType="image/jpe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46F-98A5-4609-AC20-733D1DE3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C10-26DD-45BA-9169-6B36A209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742-AF40-4403-A1E5-57CCECE9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0F8-80C1-493B-A44A-367D5C13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AFE-EF7E-4C61-A993-0FC62184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4ED-1BE9-4E61-934C-E541D878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536-DD2A-4628-BF5B-6798A96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979-8451-42A9-865F-55D99012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559-790C-4505-AB20-D501326D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17C-C69A-4B34-A15A-AF3DC47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1AB-BEDE-4751-88F8-9B1ED9BA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2CB-C118-4877-9806-99DB500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21E8-1946-42D2-8758-303A8C5D4B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762120"/>
          <a:ext cx="8534160" cy="44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828800" y="1447920"/>
            <a:ext cx="6324480" cy="8251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Física de Plas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86920" y="2666880"/>
            <a:ext cx="722916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Uma Breve, Brevíssima 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3" name=""/>
          <p:cNvGrpSpPr/>
          <p:nvPr/>
        </p:nvGrpSpPr>
        <p:grpSpPr>
          <a:xfrm>
            <a:off x="685800" y="304920"/>
            <a:ext cx="7543800" cy="2590560"/>
            <a:chOff x="685800" y="304920"/>
            <a:chExt cx="7543800" cy="2590560"/>
          </a:xfrm>
        </p:grpSpPr>
        <p:sp>
          <p:nvSpPr>
            <p:cNvPr id="1364" name=""/>
            <p:cNvSpPr/>
            <p:nvPr/>
          </p:nvSpPr>
          <p:spPr>
            <a:xfrm>
              <a:off x="685800" y="304920"/>
              <a:ext cx="7543800" cy="25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5" name=""/>
            <p:cNvGraphicFramePr/>
            <p:nvPr/>
          </p:nvGraphicFramePr>
          <p:xfrm>
            <a:off x="914400" y="531720"/>
            <a:ext cx="228600" cy="22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531720"/>
                      <a:ext cx="22860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7" name=""/>
            <p:cNvSpPr/>
            <p:nvPr/>
          </p:nvSpPr>
          <p:spPr>
            <a:xfrm>
              <a:off x="1048680" y="457200"/>
              <a:ext cx="22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ifusão Ambipo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914400" y="838080"/>
              <a:ext cx="7162920" cy="167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066680" y="914400"/>
              <a:ext cx="7147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Não Havendo Campos Elétrico e Magnético Aplicados ao Plasma, 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3300"/>
                  </a:solidFill>
                  <a:latin typeface="Comic Sans MS"/>
                </a:rPr>
                <a:t>Elétrons e Íons</a:t>
              </a: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 que Estiverem em Grande Número Numa Região 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Plasma Tenderão a </a:t>
              </a:r>
              <a:r>
                <a:rPr b="1" lang="pt-BR" sz="1600" spc="-1" strike="noStrike">
                  <a:solidFill>
                    <a:srgbClr val="ff3300"/>
                  </a:solidFill>
                  <a:latin typeface="Comic Sans MS"/>
                </a:rPr>
                <a:t>Difundirem-se</a:t>
              </a: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. Elétrons Difundem-se Mais Rapi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damente que os Íons. Essa </a:t>
              </a:r>
              <a:r>
                <a:rPr b="1" lang="pt-BR" sz="1600" spc="-1" strike="noStrike">
                  <a:solidFill>
                    <a:srgbClr val="ff3300"/>
                  </a:solidFill>
                  <a:latin typeface="Comic Sans MS"/>
                </a:rPr>
                <a:t>Separação de Cargas</a:t>
              </a: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 Gera um </a:t>
              </a:r>
              <a:r>
                <a:rPr b="1" lang="pt-BR" sz="1600" spc="-1" strike="noStrike">
                  <a:solidFill>
                    <a:srgbClr val="ff3300"/>
                  </a:solidFill>
                  <a:latin typeface="Comic Sans MS"/>
                </a:rPr>
                <a:t>Camp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3300"/>
                  </a:solidFill>
                  <a:latin typeface="Comic Sans MS"/>
                </a:rPr>
                <a:t>Elétrico de Polarização</a:t>
              </a: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 Que </a:t>
              </a:r>
              <a:r>
                <a:rPr b="1" lang="pt-BR" sz="1600" spc="-1" strike="noStrike">
                  <a:solidFill>
                    <a:srgbClr val="ff3300"/>
                  </a:solidFill>
                  <a:latin typeface="Comic Sans MS"/>
                </a:rPr>
                <a:t>Aumenta a Taxa de Difusão dos Í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E </a:t>
              </a:r>
              <a:r>
                <a:rPr b="1" lang="pt-BR" sz="1600" spc="-1" strike="noStrike">
                  <a:solidFill>
                    <a:srgbClr val="ff3300"/>
                  </a:solidFill>
                  <a:latin typeface="Comic Sans MS"/>
                </a:rPr>
                <a:t>Diminui a dos Elétrons</a:t>
              </a: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 Até que Ocorra um Equilíbri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0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7543800" cy="316080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685800" y="304920"/>
            <a:ext cx="754380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2" name=""/>
          <p:cNvGraphicFramePr/>
          <p:nvPr/>
        </p:nvGraphicFramePr>
        <p:xfrm>
          <a:off x="914400" y="531720"/>
          <a:ext cx="22860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17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4" name=""/>
          <p:cNvSpPr/>
          <p:nvPr/>
        </p:nvSpPr>
        <p:spPr>
          <a:xfrm>
            <a:off x="986400" y="457200"/>
            <a:ext cx="54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cilações de Plasma ou Oscilações de Langmu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14400" y="838080"/>
            <a:ext cx="7162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66680" y="914400"/>
            <a:ext cx="714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São </a:t>
            </a:r>
            <a:r>
              <a:rPr b="1" lang="pt-BR" sz="1600" spc="-1" strike="noStrike">
                <a:solidFill>
                  <a:srgbClr val="ff3300"/>
                </a:solidFill>
                <a:latin typeface="Comic Sans MS"/>
              </a:rPr>
              <a:t>Ondas Longitudinais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de Natureza </a:t>
            </a:r>
            <a:r>
              <a:rPr b="1" lang="pt-BR" sz="1600" spc="-1" strike="noStrike">
                <a:solidFill>
                  <a:srgbClr val="ff3300"/>
                </a:solidFill>
                <a:latin typeface="Comic Sans MS"/>
              </a:rPr>
              <a:t>eletrostática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pt-BR" sz="1600" spc="-1" strike="noStrike">
                <a:solidFill>
                  <a:srgbClr val="ff3300"/>
                </a:solidFill>
                <a:latin typeface="Comic Sans MS"/>
              </a:rPr>
              <a:t>indepen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1" lang="pt-BR" sz="1600" spc="-1" strike="noStrike">
                <a:solidFill>
                  <a:srgbClr val="ff3300"/>
                </a:solidFill>
                <a:latin typeface="Comic Sans MS"/>
              </a:rPr>
              <a:t>Tempo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pt-BR" sz="1600" spc="-1" strike="noStrike">
                <a:solidFill>
                  <a:srgbClr val="ff3300"/>
                </a:solidFill>
                <a:latin typeface="Comic Sans MS"/>
              </a:rPr>
              <a:t>Estacionárias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. As Oscilações Ocorrem na </a:t>
            </a:r>
            <a:r>
              <a:rPr b="1" lang="pt-BR" sz="1600" spc="-1" strike="noStrike">
                <a:solidFill>
                  <a:srgbClr val="ff3300"/>
                </a:solidFill>
                <a:latin typeface="Comic Sans MS"/>
              </a:rPr>
              <a:t>Freqüência de Plasma do Elét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3"/>
          <a:stretch/>
        </p:blipFill>
        <p:spPr>
          <a:xfrm>
            <a:off x="457200" y="2521080"/>
            <a:ext cx="8153280" cy="372744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-69840" y="0"/>
            <a:ext cx="92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apítulo-2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ovimento de Partículas Carregadas em Campos EM Estáticos Un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380880" y="1447920"/>
            <a:ext cx="2361960" cy="1082520"/>
            <a:chOff x="380880" y="1447920"/>
            <a:chExt cx="2361960" cy="1082520"/>
          </a:xfrm>
        </p:grpSpPr>
        <p:sp>
          <p:nvSpPr>
            <p:cNvPr id="1381" name=""/>
            <p:cNvSpPr/>
            <p:nvPr/>
          </p:nvSpPr>
          <p:spPr>
            <a:xfrm>
              <a:off x="380880" y="1447920"/>
              <a:ext cx="236196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2" name=""/>
                <p:cNvSpPr txBox="1"/>
                <p:nvPr/>
              </p:nvSpPr>
              <p:spPr>
                <a:xfrm>
                  <a:off x="838080" y="1447920"/>
                  <a:ext cx="1523880" cy="10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3" name=""/>
          <p:cNvGrpSpPr/>
          <p:nvPr/>
        </p:nvGrpSpPr>
        <p:grpSpPr>
          <a:xfrm>
            <a:off x="1523880" y="4267080"/>
            <a:ext cx="2590920" cy="1066680"/>
            <a:chOff x="1523880" y="4267080"/>
            <a:chExt cx="2590920" cy="1066680"/>
          </a:xfrm>
        </p:grpSpPr>
        <p:sp>
          <p:nvSpPr>
            <p:cNvPr id="1384" name=""/>
            <p:cNvSpPr/>
            <p:nvPr/>
          </p:nvSpPr>
          <p:spPr>
            <a:xfrm>
              <a:off x="1523880" y="4267080"/>
              <a:ext cx="259092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5" name=""/>
                <p:cNvSpPr txBox="1"/>
                <p:nvPr/>
              </p:nvSpPr>
              <p:spPr>
                <a:xfrm>
                  <a:off x="1676520" y="4343040"/>
                  <a:ext cx="228600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6" name=""/>
          <p:cNvGrpSpPr/>
          <p:nvPr/>
        </p:nvGrpSpPr>
        <p:grpSpPr>
          <a:xfrm>
            <a:off x="1523880" y="4267080"/>
            <a:ext cx="2590560" cy="1067040"/>
            <a:chOff x="1523880" y="4267080"/>
            <a:chExt cx="2590560" cy="1067040"/>
          </a:xfrm>
        </p:grpSpPr>
        <p:sp>
          <p:nvSpPr>
            <p:cNvPr id="1387" name=""/>
            <p:cNvSpPr/>
            <p:nvPr/>
          </p:nvSpPr>
          <p:spPr>
            <a:xfrm>
              <a:off x="1523880" y="4267080"/>
              <a:ext cx="259056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8" name=""/>
                <p:cNvSpPr txBox="1"/>
                <p:nvPr/>
              </p:nvSpPr>
              <p:spPr>
                <a:xfrm>
                  <a:off x="1904760" y="4419720"/>
                  <a:ext cx="18288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/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>
                                <m:e/>
                                <m:sub/>
                              </m:sSub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9" name=""/>
          <p:cNvGrpSpPr/>
          <p:nvPr/>
        </p:nvGrpSpPr>
        <p:grpSpPr>
          <a:xfrm>
            <a:off x="4495680" y="3581280"/>
            <a:ext cx="2210040" cy="1067040"/>
            <a:chOff x="4495680" y="3581280"/>
            <a:chExt cx="2210040" cy="1067040"/>
          </a:xfrm>
        </p:grpSpPr>
        <p:sp>
          <p:nvSpPr>
            <p:cNvPr id="1390" name=""/>
            <p:cNvSpPr/>
            <p:nvPr/>
          </p:nvSpPr>
          <p:spPr>
            <a:xfrm>
              <a:off x="4495680" y="3581280"/>
              <a:ext cx="221004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1" name=""/>
                <p:cNvSpPr txBox="1"/>
                <p:nvPr/>
              </p:nvSpPr>
              <p:spPr>
                <a:xfrm>
                  <a:off x="4572000" y="3581280"/>
                  <a:ext cx="205740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b>
                                    <m:e/>
                                    <m:sub/>
                                  </m:sSub>
                                </m:sub>
                              </m:sSub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</m:acc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>
                                <m:e/>
                                <m:sub/>
                              </m:sSub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2" name=""/>
          <p:cNvGrpSpPr/>
          <p:nvPr/>
        </p:nvGrpSpPr>
        <p:grpSpPr>
          <a:xfrm>
            <a:off x="4495680" y="1143000"/>
            <a:ext cx="3657600" cy="1676520"/>
            <a:chOff x="4495680" y="1143000"/>
            <a:chExt cx="3657600" cy="1676520"/>
          </a:xfrm>
        </p:grpSpPr>
        <p:sp>
          <p:nvSpPr>
            <p:cNvPr id="1393" name=""/>
            <p:cNvSpPr/>
            <p:nvPr/>
          </p:nvSpPr>
          <p:spPr>
            <a:xfrm>
              <a:off x="4495680" y="1143000"/>
              <a:ext cx="3657600" cy="167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4" name=""/>
                <p:cNvSpPr txBox="1"/>
                <p:nvPr/>
              </p:nvSpPr>
              <p:spPr>
                <a:xfrm>
                  <a:off x="4724280" y="1143000"/>
                  <a:ext cx="25909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5" name=""/>
                <p:cNvSpPr txBox="1"/>
                <p:nvPr/>
              </p:nvSpPr>
              <p:spPr>
                <a:xfrm>
                  <a:off x="4724280" y="1905120"/>
                  <a:ext cx="342900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r>
                            <m:t xml:space="preserve">q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6" name=""/>
          <p:cNvGrpSpPr/>
          <p:nvPr/>
        </p:nvGrpSpPr>
        <p:grpSpPr>
          <a:xfrm>
            <a:off x="3037320" y="1371600"/>
            <a:ext cx="1022040" cy="838080"/>
            <a:chOff x="3037320" y="1371600"/>
            <a:chExt cx="1022040" cy="838080"/>
          </a:xfrm>
        </p:grpSpPr>
        <p:sp>
          <p:nvSpPr>
            <p:cNvPr id="1397" name=""/>
            <p:cNvSpPr/>
            <p:nvPr/>
          </p:nvSpPr>
          <p:spPr>
            <a:xfrm>
              <a:off x="3124080" y="1828800"/>
              <a:ext cx="914400" cy="38088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037320" y="137160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0" y="457200"/>
            <a:ext cx="3774600" cy="436320"/>
            <a:chOff x="0" y="457200"/>
            <a:chExt cx="3774600" cy="436320"/>
          </a:xfrm>
        </p:grpSpPr>
        <p:sp>
          <p:nvSpPr>
            <p:cNvPr id="1400" name=""/>
            <p:cNvSpPr/>
            <p:nvPr/>
          </p:nvSpPr>
          <p:spPr>
            <a:xfrm>
              <a:off x="140400" y="457200"/>
              <a:ext cx="36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-Campo Eletrostático Unifor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1" name=""/>
            <p:cNvGraphicFramePr/>
            <p:nvPr/>
          </p:nvGraphicFramePr>
          <p:xfrm rot="10800000">
            <a:off x="0" y="766080"/>
            <a:ext cx="3733920" cy="12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0" y="766080"/>
                      <a:ext cx="373392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3" name=""/>
          <p:cNvGrpSpPr/>
          <p:nvPr/>
        </p:nvGrpSpPr>
        <p:grpSpPr>
          <a:xfrm>
            <a:off x="0" y="3048120"/>
            <a:ext cx="4007160" cy="444240"/>
            <a:chOff x="0" y="3048120"/>
            <a:chExt cx="4007160" cy="444240"/>
          </a:xfrm>
        </p:grpSpPr>
        <p:sp>
          <p:nvSpPr>
            <p:cNvPr id="1404" name=""/>
            <p:cNvSpPr/>
            <p:nvPr/>
          </p:nvSpPr>
          <p:spPr>
            <a:xfrm>
              <a:off x="36360" y="3048120"/>
              <a:ext cx="397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2-Campo Magnetostático Unifor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5" name=""/>
            <p:cNvGraphicFramePr/>
            <p:nvPr/>
          </p:nvGraphicFramePr>
          <p:xfrm rot="10800000">
            <a:off x="0" y="3357720"/>
            <a:ext cx="3962520" cy="134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0" y="3357720"/>
                      <a:ext cx="3962520" cy="13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7" name=""/>
          <p:cNvGrpSpPr/>
          <p:nvPr/>
        </p:nvGrpSpPr>
        <p:grpSpPr>
          <a:xfrm>
            <a:off x="4724280" y="4876920"/>
            <a:ext cx="1676520" cy="1066680"/>
            <a:chOff x="4724280" y="4876920"/>
            <a:chExt cx="1676520" cy="1066680"/>
          </a:xfrm>
        </p:grpSpPr>
        <p:sp>
          <p:nvSpPr>
            <p:cNvPr id="1408" name=""/>
            <p:cNvSpPr/>
            <p:nvPr/>
          </p:nvSpPr>
          <p:spPr>
            <a:xfrm>
              <a:off x="4724280" y="4876920"/>
              <a:ext cx="167652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4952880" y="4890960"/>
                  <a:ext cx="129528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b>
                                    <m:e/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//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0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10" name=""/>
          <p:cNvGrpSpPr/>
          <p:nvPr/>
        </p:nvGrpSpPr>
        <p:grpSpPr>
          <a:xfrm>
            <a:off x="7010280" y="3733920"/>
            <a:ext cx="1905120" cy="1600200"/>
            <a:chOff x="7010280" y="3733920"/>
            <a:chExt cx="1905120" cy="1600200"/>
          </a:xfrm>
        </p:grpSpPr>
        <p:grpSp>
          <p:nvGrpSpPr>
            <p:cNvPr id="1411" name=""/>
            <p:cNvGrpSpPr/>
            <p:nvPr/>
          </p:nvGrpSpPr>
          <p:grpSpPr>
            <a:xfrm>
              <a:off x="7010280" y="4343400"/>
              <a:ext cx="1905120" cy="990720"/>
              <a:chOff x="7010280" y="4343400"/>
              <a:chExt cx="1905120" cy="990720"/>
            </a:xfrm>
          </p:grpSpPr>
          <p:sp>
            <p:nvSpPr>
              <p:cNvPr id="1412" name=""/>
              <p:cNvSpPr/>
              <p:nvPr/>
            </p:nvSpPr>
            <p:spPr>
              <a:xfrm>
                <a:off x="7010280" y="4343400"/>
                <a:ext cx="1905120" cy="99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13" name=""/>
                  <p:cNvSpPr txBox="1"/>
                  <p:nvPr/>
                </p:nvSpPr>
                <p:spPr>
                  <a:xfrm>
                    <a:off x="7086600" y="4495680"/>
                    <a:ext cx="1828800" cy="58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/>
                                </m:sSub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14" name=""/>
            <p:cNvSpPr/>
            <p:nvPr/>
          </p:nvSpPr>
          <p:spPr>
            <a:xfrm>
              <a:off x="7380720" y="3733920"/>
              <a:ext cx="10220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Sol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1523880" y="4267080"/>
            <a:ext cx="2590920" cy="1066680"/>
            <a:chOff x="1523880" y="4267080"/>
            <a:chExt cx="2590920" cy="1066680"/>
          </a:xfrm>
        </p:grpSpPr>
        <p:sp>
          <p:nvSpPr>
            <p:cNvPr id="1416" name=""/>
            <p:cNvSpPr/>
            <p:nvPr/>
          </p:nvSpPr>
          <p:spPr>
            <a:xfrm>
              <a:off x="1523880" y="4267080"/>
              <a:ext cx="259092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7" name=""/>
                <p:cNvSpPr txBox="1"/>
                <p:nvPr/>
              </p:nvSpPr>
              <p:spPr>
                <a:xfrm>
                  <a:off x="1676520" y="4343040"/>
                  <a:ext cx="2286000" cy="9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18" name="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3900600" cy="235728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  <p:grpSp>
        <p:nvGrpSpPr>
          <p:cNvPr id="1419" name=""/>
          <p:cNvGrpSpPr/>
          <p:nvPr/>
        </p:nvGrpSpPr>
        <p:grpSpPr>
          <a:xfrm>
            <a:off x="6400800" y="5486400"/>
            <a:ext cx="2209680" cy="1371600"/>
            <a:chOff x="6400800" y="5486400"/>
            <a:chExt cx="2209680" cy="1371600"/>
          </a:xfrm>
        </p:grpSpPr>
        <p:sp>
          <p:nvSpPr>
            <p:cNvPr id="1420" name=""/>
            <p:cNvSpPr/>
            <p:nvPr/>
          </p:nvSpPr>
          <p:spPr>
            <a:xfrm>
              <a:off x="6400800" y="5486400"/>
              <a:ext cx="2209680" cy="1371600"/>
            </a:xfrm>
            <a:prstGeom prst="cloudCallout">
              <a:avLst>
                <a:gd name="adj1" fmla="val 17027"/>
                <a:gd name="adj2" fmla="val -78356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1" name=""/>
                <p:cNvSpPr txBox="1"/>
                <p:nvPr/>
              </p:nvSpPr>
              <p:spPr>
                <a:xfrm>
                  <a:off x="6705720" y="5715000"/>
                  <a:ext cx="137160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q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2" name=""/>
          <p:cNvGrpSpPr/>
          <p:nvPr/>
        </p:nvGrpSpPr>
        <p:grpSpPr>
          <a:xfrm>
            <a:off x="152280" y="2362320"/>
            <a:ext cx="4038840" cy="2819160"/>
            <a:chOff x="152280" y="2362320"/>
            <a:chExt cx="4038840" cy="2819160"/>
          </a:xfrm>
        </p:grpSpPr>
        <p:sp>
          <p:nvSpPr>
            <p:cNvPr id="1423" name=""/>
            <p:cNvSpPr/>
            <p:nvPr/>
          </p:nvSpPr>
          <p:spPr>
            <a:xfrm>
              <a:off x="152280" y="2362320"/>
              <a:ext cx="4038840" cy="281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4" name=""/>
                <p:cNvSpPr txBox="1"/>
                <p:nvPr/>
              </p:nvSpPr>
              <p:spPr>
                <a:xfrm>
                  <a:off x="1219320" y="2362320"/>
                  <a:ext cx="167616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b>
                                    <m:e/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//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/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5" name=""/>
                <p:cNvSpPr txBox="1"/>
                <p:nvPr/>
              </p:nvSpPr>
              <p:spPr>
                <a:xfrm>
                  <a:off x="228600" y="4191120"/>
                  <a:ext cx="38862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/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/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/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q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m</m:t>
                              </m:r>
                            </m:den>
                          </m:f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sSub>
                                    <m:e/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//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acc>
                        </m:e>
                      </m:d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6" name=""/>
                <p:cNvSpPr txBox="1"/>
                <p:nvPr/>
              </p:nvSpPr>
              <p:spPr>
                <a:xfrm>
                  <a:off x="685800" y="3352680"/>
                  <a:ext cx="28004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/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/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q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sSub>
                                    <m:e/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//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acc>
                        </m:e>
                      </m:d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7" name=""/>
          <p:cNvGrpSpPr/>
          <p:nvPr/>
        </p:nvGrpSpPr>
        <p:grpSpPr>
          <a:xfrm>
            <a:off x="0" y="0"/>
            <a:ext cx="5867280" cy="412560"/>
            <a:chOff x="0" y="0"/>
            <a:chExt cx="5867280" cy="412560"/>
          </a:xfrm>
        </p:grpSpPr>
        <p:sp>
          <p:nvSpPr>
            <p:cNvPr id="1428" name=""/>
            <p:cNvSpPr/>
            <p:nvPr/>
          </p:nvSpPr>
          <p:spPr>
            <a:xfrm>
              <a:off x="81000" y="0"/>
              <a:ext cx="577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3-Campos Eletrostático e Magnetostático Unifor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9" name=""/>
            <p:cNvGraphicFramePr/>
            <p:nvPr/>
          </p:nvGraphicFramePr>
          <p:xfrm rot="10800000">
            <a:off x="0" y="309240"/>
            <a:ext cx="5867280" cy="102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0" y="309240"/>
                      <a:ext cx="586728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31" name=""/>
          <p:cNvGrpSpPr/>
          <p:nvPr/>
        </p:nvGrpSpPr>
        <p:grpSpPr>
          <a:xfrm>
            <a:off x="5867280" y="2743200"/>
            <a:ext cx="3048120" cy="1905120"/>
            <a:chOff x="5867280" y="2743200"/>
            <a:chExt cx="3048120" cy="1905120"/>
          </a:xfrm>
        </p:grpSpPr>
        <p:sp>
          <p:nvSpPr>
            <p:cNvPr id="1432" name=""/>
            <p:cNvSpPr/>
            <p:nvPr/>
          </p:nvSpPr>
          <p:spPr>
            <a:xfrm>
              <a:off x="5867280" y="2743200"/>
              <a:ext cx="3048120" cy="190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3" name=""/>
                <p:cNvSpPr txBox="1"/>
                <p:nvPr/>
              </p:nvSpPr>
              <p:spPr>
                <a:xfrm>
                  <a:off x="6095880" y="2895480"/>
                  <a:ext cx="274320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b>
                                    <m:e/>
                                    <m:sub/>
                                  </m:sSub>
                                </m:sub>
                              </m:sSub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sSub>
                                <m:e/>
                                <m:sub/>
                              </m:sSub>
                            </m:sub>
                          </m:sSub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>
                                <m:e/>
                                <m:sub/>
                              </m:sSub>
                            </m:sub>
                          </m:sSub>
                        </m:e>
                      </m:acc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34" name=""/>
            <p:cNvSpPr/>
            <p:nvPr/>
          </p:nvSpPr>
          <p:spPr>
            <a:xfrm>
              <a:off x="6553080" y="3733920"/>
              <a:ext cx="1828800" cy="838080"/>
            </a:xfrm>
            <a:prstGeom prst="cloudCallout">
              <a:avLst>
                <a:gd name="adj1" fmla="val -40365"/>
                <a:gd name="adj2" fmla="val -594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ução Adi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1219320" y="762120"/>
            <a:ext cx="6933960" cy="5943600"/>
            <a:chOff x="1219320" y="762120"/>
            <a:chExt cx="6933960" cy="5943600"/>
          </a:xfrm>
        </p:grpSpPr>
        <p:sp>
          <p:nvSpPr>
            <p:cNvPr id="1436" name=""/>
            <p:cNvSpPr/>
            <p:nvPr/>
          </p:nvSpPr>
          <p:spPr>
            <a:xfrm>
              <a:off x="1219320" y="762120"/>
              <a:ext cx="6933960" cy="594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3428640" y="1523880"/>
              <a:ext cx="2666880" cy="762120"/>
              <a:chOff x="3428640" y="1523880"/>
              <a:chExt cx="2666880" cy="762120"/>
            </a:xfrm>
          </p:grpSpPr>
          <p:sp>
            <p:nvSpPr>
              <p:cNvPr id="1438" name=""/>
              <p:cNvSpPr/>
              <p:nvPr/>
            </p:nvSpPr>
            <p:spPr>
              <a:xfrm>
                <a:off x="3428640" y="1523880"/>
                <a:ext cx="2666880" cy="762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39" name=""/>
                  <p:cNvSpPr txBox="1"/>
                  <p:nvPr/>
                </p:nvSpPr>
                <p:spPr>
                  <a:xfrm>
                    <a:off x="3504600" y="1600200"/>
                    <a:ext cx="2568240" cy="633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sSub>
                              <m:e/>
                              <m:sub/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40" name=""/>
            <p:cNvGrpSpPr/>
            <p:nvPr/>
          </p:nvGrpSpPr>
          <p:grpSpPr>
            <a:xfrm>
              <a:off x="1447560" y="2819520"/>
              <a:ext cx="2590560" cy="990360"/>
              <a:chOff x="1447560" y="2819520"/>
              <a:chExt cx="2590560" cy="990360"/>
            </a:xfrm>
          </p:grpSpPr>
          <p:sp>
            <p:nvSpPr>
              <p:cNvPr id="1441" name=""/>
              <p:cNvSpPr/>
              <p:nvPr/>
            </p:nvSpPr>
            <p:spPr>
              <a:xfrm>
                <a:off x="1447560" y="2819520"/>
                <a:ext cx="2590560" cy="990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42" name=""/>
                  <p:cNvSpPr txBox="1"/>
                  <p:nvPr/>
                </p:nvSpPr>
                <p:spPr>
                  <a:xfrm>
                    <a:off x="1599840" y="2819520"/>
                    <a:ext cx="2433240" cy="96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sSub>
                                  <m:e/>
                                  <m:sub/>
                                </m:sSub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sSub>
                              <m:e/>
                              <m:sub/>
                            </m:sSub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43" name=""/>
            <p:cNvGrpSpPr/>
            <p:nvPr/>
          </p:nvGrpSpPr>
          <p:grpSpPr>
            <a:xfrm>
              <a:off x="4331880" y="2819520"/>
              <a:ext cx="1022040" cy="838080"/>
              <a:chOff x="4331880" y="2819520"/>
              <a:chExt cx="1022040" cy="838080"/>
            </a:xfrm>
          </p:grpSpPr>
          <p:sp>
            <p:nvSpPr>
              <p:cNvPr id="1444" name=""/>
              <p:cNvSpPr/>
              <p:nvPr/>
            </p:nvSpPr>
            <p:spPr>
              <a:xfrm>
                <a:off x="4418640" y="3276720"/>
                <a:ext cx="914040" cy="380880"/>
              </a:xfrm>
              <a:custGeom>
                <a:avLst/>
                <a:gdLst>
                  <a:gd name="textAreaLeft" fmla="*/ 142560 w 914040"/>
                  <a:gd name="textAreaRight" fmla="*/ 799920 w 914040"/>
                  <a:gd name="textAreaTop" fmla="*/ 95040 h 380880"/>
                  <a:gd name="textAreaBottom" fmla="*/ 2858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331880" y="2819520"/>
                <a:ext cx="102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olu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5638680" y="2971800"/>
              <a:ext cx="2209320" cy="762120"/>
              <a:chOff x="5638680" y="2971800"/>
              <a:chExt cx="2209320" cy="762120"/>
            </a:xfrm>
          </p:grpSpPr>
          <p:sp>
            <p:nvSpPr>
              <p:cNvPr id="1447" name=""/>
              <p:cNvSpPr/>
              <p:nvPr/>
            </p:nvSpPr>
            <p:spPr>
              <a:xfrm>
                <a:off x="5638680" y="2971800"/>
                <a:ext cx="2209320" cy="762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48" name=""/>
                  <p:cNvSpPr txBox="1"/>
                  <p:nvPr/>
                </p:nvSpPr>
                <p:spPr>
                  <a:xfrm>
                    <a:off x="5790600" y="3048120"/>
                    <a:ext cx="1752480" cy="61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sSub>
                              <m:e/>
                              <m:sub/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49" name=""/>
            <p:cNvGrpSpPr/>
            <p:nvPr/>
          </p:nvGrpSpPr>
          <p:grpSpPr>
            <a:xfrm>
              <a:off x="1676160" y="4191120"/>
              <a:ext cx="1752120" cy="838080"/>
              <a:chOff x="1676160" y="4191120"/>
              <a:chExt cx="1752120" cy="838080"/>
            </a:xfrm>
          </p:grpSpPr>
          <p:sp>
            <p:nvSpPr>
              <p:cNvPr id="1450" name=""/>
              <p:cNvSpPr/>
              <p:nvPr/>
            </p:nvSpPr>
            <p:spPr>
              <a:xfrm>
                <a:off x="1676160" y="4191120"/>
                <a:ext cx="175212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1" name=""/>
                  <p:cNvSpPr txBox="1"/>
                  <p:nvPr/>
                </p:nvSpPr>
                <p:spPr>
                  <a:xfrm>
                    <a:off x="1752120" y="4191120"/>
                    <a:ext cx="1523520" cy="82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/>
                                </m:sSub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52" name=""/>
            <p:cNvSpPr/>
            <p:nvPr/>
          </p:nvSpPr>
          <p:spPr>
            <a:xfrm>
              <a:off x="3716280" y="4267080"/>
              <a:ext cx="399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Deriva Eletromagnética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 Veloc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nstante do Referencial K’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23880" y="2362320"/>
              <a:ext cx="27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Referencial K’ Observ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2361960" y="5486400"/>
              <a:ext cx="4876560" cy="1066680"/>
              <a:chOff x="2361960" y="5486400"/>
              <a:chExt cx="4876560" cy="1066680"/>
            </a:xfrm>
          </p:grpSpPr>
          <p:sp>
            <p:nvSpPr>
              <p:cNvPr id="1455" name=""/>
              <p:cNvSpPr/>
              <p:nvPr/>
            </p:nvSpPr>
            <p:spPr>
              <a:xfrm>
                <a:off x="2361960" y="5486400"/>
                <a:ext cx="4876560" cy="10666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6" name=""/>
                  <p:cNvSpPr txBox="1"/>
                  <p:nvPr/>
                </p:nvSpPr>
                <p:spPr>
                  <a:xfrm>
                    <a:off x="2590200" y="5486400"/>
                    <a:ext cx="4495680" cy="106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/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sSub>
                                      <m:e/>
                                      <m:sub/>
                                    </m:sSub>
                                  </m:sub>
                                </m:sSub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/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e>
                                </m:acc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57" name=""/>
            <p:cNvSpPr/>
            <p:nvPr/>
          </p:nvSpPr>
          <p:spPr>
            <a:xfrm>
              <a:off x="4267080" y="502920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ol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457200" y="457200"/>
            <a:ext cx="8229600" cy="1676520"/>
            <a:chOff x="457200" y="457200"/>
            <a:chExt cx="8229600" cy="1676520"/>
          </a:xfrm>
        </p:grpSpPr>
        <p:grpSp>
          <p:nvGrpSpPr>
            <p:cNvPr id="1459" name=""/>
            <p:cNvGrpSpPr/>
            <p:nvPr/>
          </p:nvGrpSpPr>
          <p:grpSpPr>
            <a:xfrm>
              <a:off x="3352680" y="457200"/>
              <a:ext cx="2895480" cy="990720"/>
              <a:chOff x="3352680" y="457200"/>
              <a:chExt cx="2895480" cy="990720"/>
            </a:xfrm>
          </p:grpSpPr>
          <p:sp>
            <p:nvSpPr>
              <p:cNvPr id="1460" name=""/>
              <p:cNvSpPr/>
              <p:nvPr/>
            </p:nvSpPr>
            <p:spPr>
              <a:xfrm>
                <a:off x="3352680" y="457200"/>
                <a:ext cx="2895480" cy="99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1" name=""/>
                  <p:cNvSpPr txBox="1"/>
                  <p:nvPr/>
                </p:nvSpPr>
                <p:spPr>
                  <a:xfrm>
                    <a:off x="3430800" y="533520"/>
                    <a:ext cx="2817360" cy="91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62" name=""/>
            <p:cNvGrpSpPr/>
            <p:nvPr/>
          </p:nvGrpSpPr>
          <p:grpSpPr>
            <a:xfrm>
              <a:off x="6629400" y="1143000"/>
              <a:ext cx="2057400" cy="990720"/>
              <a:chOff x="6629400" y="1143000"/>
              <a:chExt cx="2057400" cy="990720"/>
            </a:xfrm>
          </p:grpSpPr>
          <p:sp>
            <p:nvSpPr>
              <p:cNvPr id="1463" name=""/>
              <p:cNvSpPr/>
              <p:nvPr/>
            </p:nvSpPr>
            <p:spPr>
              <a:xfrm>
                <a:off x="6629400" y="1143000"/>
                <a:ext cx="2057400" cy="99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4" name=""/>
                  <p:cNvSpPr txBox="1"/>
                  <p:nvPr/>
                </p:nvSpPr>
                <p:spPr>
                  <a:xfrm>
                    <a:off x="6781680" y="1371600"/>
                    <a:ext cx="1752840" cy="53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/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/>
                                  <m:sub/>
                                </m:sSub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65" name=""/>
            <p:cNvGrpSpPr/>
            <p:nvPr/>
          </p:nvGrpSpPr>
          <p:grpSpPr>
            <a:xfrm>
              <a:off x="457200" y="1143000"/>
              <a:ext cx="2057400" cy="990720"/>
              <a:chOff x="457200" y="1143000"/>
              <a:chExt cx="2057400" cy="990720"/>
            </a:xfrm>
          </p:grpSpPr>
          <p:sp>
            <p:nvSpPr>
              <p:cNvPr id="1466" name=""/>
              <p:cNvSpPr/>
              <p:nvPr/>
            </p:nvSpPr>
            <p:spPr>
              <a:xfrm>
                <a:off x="457200" y="1143000"/>
                <a:ext cx="2057400" cy="99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7" name=""/>
                  <p:cNvSpPr txBox="1"/>
                  <p:nvPr/>
                </p:nvSpPr>
                <p:spPr>
                  <a:xfrm>
                    <a:off x="609480" y="1295280"/>
                    <a:ext cx="1752840" cy="621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/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/>
                                </m:sSub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468" name=""/>
          <p:cNvGrpSpPr/>
          <p:nvPr/>
        </p:nvGrpSpPr>
        <p:grpSpPr>
          <a:xfrm>
            <a:off x="457200" y="457200"/>
            <a:ext cx="8229600" cy="1676520"/>
            <a:chOff x="457200" y="457200"/>
            <a:chExt cx="8229600" cy="1676520"/>
          </a:xfrm>
        </p:grpSpPr>
        <p:grpSp>
          <p:nvGrpSpPr>
            <p:cNvPr id="1469" name=""/>
            <p:cNvGrpSpPr/>
            <p:nvPr/>
          </p:nvGrpSpPr>
          <p:grpSpPr>
            <a:xfrm>
              <a:off x="457200" y="457200"/>
              <a:ext cx="8229600" cy="1676520"/>
              <a:chOff x="457200" y="457200"/>
              <a:chExt cx="8229600" cy="167652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3352680" y="457200"/>
                <a:ext cx="2895480" cy="990720"/>
                <a:chOff x="3352680" y="457200"/>
                <a:chExt cx="2895480" cy="9907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3352680" y="457200"/>
                  <a:ext cx="2895480" cy="99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ccccff"/>
                    </a:gs>
                    <a:gs pos="50000">
                      <a:srgbClr val="ffffff"/>
                    </a:gs>
                    <a:gs pos="100000">
                      <a:srgbClr val="cccc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52300" dir="83643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72" name=""/>
                    <p:cNvSpPr txBox="1"/>
                    <p:nvPr/>
                  </p:nvSpPr>
                  <p:spPr>
                    <a:xfrm>
                      <a:off x="3430800" y="533520"/>
                      <a:ext cx="2817360" cy="911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m</m:t>
                          </m:r>
                          <m:f>
                            <m:num>
                              <m:r>
                                <m:t xml:space="preserve">d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+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473" name=""/>
              <p:cNvGrpSpPr/>
              <p:nvPr/>
            </p:nvGrpSpPr>
            <p:grpSpPr>
              <a:xfrm>
                <a:off x="6629400" y="1143000"/>
                <a:ext cx="2057400" cy="990720"/>
                <a:chOff x="6629400" y="1143000"/>
                <a:chExt cx="2057400" cy="99072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6629400" y="1143000"/>
                  <a:ext cx="2057400" cy="99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52300" dir="83643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75" name=""/>
                    <p:cNvSpPr txBox="1"/>
                    <p:nvPr/>
                  </p:nvSpPr>
                  <p:spPr>
                    <a:xfrm>
                      <a:off x="6781680" y="1371600"/>
                      <a:ext cx="1752840" cy="534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sSub>
                                    <m:e/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//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acc>
                          <m:r>
                            <m:t xml:space="preserve">+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sSub>
                                    <m:e/>
                                    <m:sub/>
                                  </m:sSub>
                                </m:sub>
                              </m:sSub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476" name=""/>
              <p:cNvGrpSpPr/>
              <p:nvPr/>
            </p:nvGrpSpPr>
            <p:grpSpPr>
              <a:xfrm>
                <a:off x="457200" y="1143000"/>
                <a:ext cx="2057400" cy="990720"/>
                <a:chOff x="457200" y="1143000"/>
                <a:chExt cx="2057400" cy="99072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457200" y="1143000"/>
                  <a:ext cx="2057400" cy="99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52300" dir="83643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78" name=""/>
                    <p:cNvSpPr txBox="1"/>
                    <p:nvPr/>
                  </p:nvSpPr>
                  <p:spPr>
                    <a:xfrm>
                      <a:off x="609480" y="1295280"/>
                      <a:ext cx="1752840" cy="621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b>
                                    <m:e/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//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acc>
                          <m:r>
                            <m:t xml:space="preserve">+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b>
                                    <m:e/>
                                    <m:sub/>
                                  </m:sSub>
                                </m:sub>
                              </m:sSub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1479" name=""/>
            <p:cNvGrpSpPr/>
            <p:nvPr/>
          </p:nvGrpSpPr>
          <p:grpSpPr>
            <a:xfrm>
              <a:off x="6629400" y="1143000"/>
              <a:ext cx="2057400" cy="990720"/>
              <a:chOff x="6629400" y="1143000"/>
              <a:chExt cx="2057400" cy="990720"/>
            </a:xfrm>
          </p:grpSpPr>
          <p:sp>
            <p:nvSpPr>
              <p:cNvPr id="1480" name=""/>
              <p:cNvSpPr/>
              <p:nvPr/>
            </p:nvSpPr>
            <p:spPr>
              <a:xfrm>
                <a:off x="6629400" y="1143000"/>
                <a:ext cx="2057400" cy="99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81" name=""/>
                  <p:cNvSpPr txBox="1"/>
                  <p:nvPr/>
                </p:nvSpPr>
                <p:spPr>
                  <a:xfrm>
                    <a:off x="6781680" y="1371600"/>
                    <a:ext cx="1752840" cy="53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/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/>
                                  <m:sub/>
                                </m:sSub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82" name=""/>
            <p:cNvGrpSpPr/>
            <p:nvPr/>
          </p:nvGrpSpPr>
          <p:grpSpPr>
            <a:xfrm>
              <a:off x="457200" y="1143000"/>
              <a:ext cx="2057400" cy="990720"/>
              <a:chOff x="457200" y="1143000"/>
              <a:chExt cx="2057400" cy="990720"/>
            </a:xfrm>
          </p:grpSpPr>
          <p:sp>
            <p:nvSpPr>
              <p:cNvPr id="1483" name=""/>
              <p:cNvSpPr/>
              <p:nvPr/>
            </p:nvSpPr>
            <p:spPr>
              <a:xfrm>
                <a:off x="457200" y="1143000"/>
                <a:ext cx="2057400" cy="99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84" name=""/>
                  <p:cNvSpPr txBox="1"/>
                  <p:nvPr/>
                </p:nvSpPr>
                <p:spPr>
                  <a:xfrm>
                    <a:off x="609480" y="1295280"/>
                    <a:ext cx="1752840" cy="621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/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/>
                                </m:sSub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85" name=""/>
            <p:cNvGrpSpPr/>
            <p:nvPr/>
          </p:nvGrpSpPr>
          <p:grpSpPr>
            <a:xfrm>
              <a:off x="3352680" y="457200"/>
              <a:ext cx="2895480" cy="990720"/>
              <a:chOff x="3352680" y="457200"/>
              <a:chExt cx="2895480" cy="990720"/>
            </a:xfrm>
          </p:grpSpPr>
          <p:sp>
            <p:nvSpPr>
              <p:cNvPr id="1486" name=""/>
              <p:cNvSpPr/>
              <p:nvPr/>
            </p:nvSpPr>
            <p:spPr>
              <a:xfrm>
                <a:off x="3352680" y="457200"/>
                <a:ext cx="2895480" cy="99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87" name=""/>
                  <p:cNvSpPr txBox="1"/>
                  <p:nvPr/>
                </p:nvSpPr>
                <p:spPr>
                  <a:xfrm>
                    <a:off x="3430800" y="533520"/>
                    <a:ext cx="2817360" cy="91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" descr=""/>
          <p:cNvPicPr/>
          <p:nvPr/>
        </p:nvPicPr>
        <p:blipFill>
          <a:blip r:embed="rId1"/>
          <a:stretch/>
        </p:blipFill>
        <p:spPr>
          <a:xfrm>
            <a:off x="2060640" y="1066680"/>
            <a:ext cx="5013360" cy="525780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  <p:pic>
        <p:nvPicPr>
          <p:cNvPr id="14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49900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  <p:grpSp>
        <p:nvGrpSpPr>
          <p:cNvPr id="1490" name=""/>
          <p:cNvGrpSpPr/>
          <p:nvPr/>
        </p:nvGrpSpPr>
        <p:grpSpPr>
          <a:xfrm>
            <a:off x="1676520" y="228600"/>
            <a:ext cx="5867280" cy="412560"/>
            <a:chOff x="1676520" y="228600"/>
            <a:chExt cx="5867280" cy="412560"/>
          </a:xfrm>
        </p:grpSpPr>
        <p:sp>
          <p:nvSpPr>
            <p:cNvPr id="1491" name=""/>
            <p:cNvSpPr/>
            <p:nvPr/>
          </p:nvSpPr>
          <p:spPr>
            <a:xfrm>
              <a:off x="1796760" y="228600"/>
              <a:ext cx="51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Órbita Helicoidal e Deriva Eletromagné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2" name=""/>
            <p:cNvGraphicFramePr/>
            <p:nvPr/>
          </p:nvGraphicFramePr>
          <p:xfrm rot="10800000">
            <a:off x="1676520" y="537840"/>
            <a:ext cx="5867280" cy="10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1676520" y="537840"/>
                      <a:ext cx="586728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"/>
          <p:cNvGrpSpPr/>
          <p:nvPr/>
        </p:nvGrpSpPr>
        <p:grpSpPr>
          <a:xfrm>
            <a:off x="1723680" y="0"/>
            <a:ext cx="5481360" cy="1125000"/>
            <a:chOff x="1723680" y="0"/>
            <a:chExt cx="5481360" cy="1125000"/>
          </a:xfrm>
        </p:grpSpPr>
        <p:sp>
          <p:nvSpPr>
            <p:cNvPr id="1495" name=""/>
            <p:cNvSpPr/>
            <p:nvPr/>
          </p:nvSpPr>
          <p:spPr>
            <a:xfrm>
              <a:off x="1828800" y="0"/>
              <a:ext cx="5334120" cy="109368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723680" y="208080"/>
              <a:ext cx="548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     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apítulo-3: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vimento de Partículas Carregadas em Cam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gnéticos Estáticos e Não-Unifor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304920" y="1143000"/>
            <a:ext cx="8534160" cy="23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85800" y="1371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mpo Magnético Não-Uniforme No Espaço: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Grande Dificulda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5800" y="1828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vestigar Movimento de Partícula Carregada em Campo Magnético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Ligeiramen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ão-Homogêne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o Espa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457200" y="1447920"/>
          <a:ext cx="22860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457200" y="1905120"/>
          <a:ext cx="2286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4" name=""/>
          <p:cNvGrpSpPr/>
          <p:nvPr/>
        </p:nvGrpSpPr>
        <p:grpSpPr>
          <a:xfrm>
            <a:off x="457200" y="2514600"/>
            <a:ext cx="8077320" cy="838080"/>
            <a:chOff x="457200" y="2514600"/>
            <a:chExt cx="8077320" cy="838080"/>
          </a:xfrm>
        </p:grpSpPr>
        <p:sp>
          <p:nvSpPr>
            <p:cNvPr id="1505" name=""/>
            <p:cNvSpPr/>
            <p:nvPr/>
          </p:nvSpPr>
          <p:spPr>
            <a:xfrm>
              <a:off x="457200" y="2514600"/>
              <a:ext cx="807732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457200" y="2514600"/>
              <a:ext cx="8077320" cy="785520"/>
              <a:chOff x="457200" y="2514600"/>
              <a:chExt cx="8077320" cy="785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457200" y="2514600"/>
                <a:ext cx="80773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Ligeiramente 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Variação Espacial do Campo Magnético dentro da Órbi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              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da Partícula é Pequeno Comparado com a Magnitude d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08" name=""/>
                  <p:cNvSpPr txBox="1"/>
                  <p:nvPr/>
                </p:nvSpPr>
                <p:spPr>
                  <a:xfrm>
                    <a:off x="8001000" y="2819160"/>
                    <a:ext cx="312840" cy="456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1509" name="" descr=""/>
          <p:cNvPicPr/>
          <p:nvPr/>
        </p:nvPicPr>
        <p:blipFill>
          <a:blip r:embed="rId5"/>
          <a:stretch/>
        </p:blipFill>
        <p:spPr>
          <a:xfrm>
            <a:off x="609480" y="3581280"/>
            <a:ext cx="3657600" cy="3133800"/>
          </a:xfrm>
          <a:prstGeom prst="rect">
            <a:avLst/>
          </a:prstGeom>
          <a:ln w="0">
            <a:noFill/>
          </a:ln>
          <a:effectLst>
            <a:outerShdw dist="77353" dir="562478" blurRad="0" rotWithShape="0">
              <a:srgbClr val="000000"/>
            </a:outerShdw>
          </a:effectLst>
        </p:spPr>
      </p:pic>
      <p:pic>
        <p:nvPicPr>
          <p:cNvPr id="1510" name="" descr=""/>
          <p:cNvPicPr/>
          <p:nvPr/>
        </p:nvPicPr>
        <p:blipFill>
          <a:blip r:embed="rId6"/>
          <a:stretch/>
        </p:blipFill>
        <p:spPr>
          <a:xfrm>
            <a:off x="4572000" y="3660840"/>
            <a:ext cx="4191120" cy="310176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228600" y="304920"/>
            <a:ext cx="8534160" cy="2786400"/>
            <a:chOff x="228600" y="304920"/>
            <a:chExt cx="8534160" cy="2786400"/>
          </a:xfrm>
        </p:grpSpPr>
        <p:sp>
          <p:nvSpPr>
            <p:cNvPr id="1512" name=""/>
            <p:cNvSpPr/>
            <p:nvPr/>
          </p:nvSpPr>
          <p:spPr>
            <a:xfrm>
              <a:off x="228600" y="304920"/>
              <a:ext cx="8534160" cy="251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09480" y="53352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3300"/>
                  </a:solidFill>
                  <a:latin typeface="Comic Sans MS"/>
                </a:rPr>
                <a:t>Teoria da Órbita de 1ª Ordem ou </a:t>
              </a:r>
              <a:r>
                <a:rPr b="0" lang="pt-BR" sz="1800" spc="-1" strike="noStrike">
                  <a:solidFill>
                    <a:srgbClr val="3333cc"/>
                  </a:solidFill>
                  <a:latin typeface="Comic Sans MS"/>
                </a:rPr>
                <a:t>Aproximação de Alfvé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4" name=""/>
            <p:cNvGraphicFramePr/>
            <p:nvPr/>
          </p:nvGraphicFramePr>
          <p:xfrm>
            <a:off x="380880" y="609840"/>
            <a:ext cx="228600" cy="22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0984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6" name=""/>
            <p:cNvGrpSpPr/>
            <p:nvPr/>
          </p:nvGrpSpPr>
          <p:grpSpPr>
            <a:xfrm>
              <a:off x="380880" y="914400"/>
              <a:ext cx="8153280" cy="2176920"/>
              <a:chOff x="380880" y="914400"/>
              <a:chExt cx="8153280" cy="2176920"/>
            </a:xfrm>
          </p:grpSpPr>
          <p:sp>
            <p:nvSpPr>
              <p:cNvPr id="1517" name=""/>
              <p:cNvSpPr/>
              <p:nvPr/>
            </p:nvSpPr>
            <p:spPr>
              <a:xfrm>
                <a:off x="380880" y="914400"/>
                <a:ext cx="8077320" cy="1676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57200" y="990720"/>
                <a:ext cx="8076960" cy="21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3300"/>
                    </a:solidFill>
                    <a:latin typeface="Comic Sans MS"/>
                  </a:rPr>
                  <a:t>Consiste em considerar </a:t>
                </a:r>
                <a:r>
                  <a:rPr b="0" lang="pt-BR" sz="1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</a:t>
                </a:r>
                <a:r>
                  <a:rPr b="0" lang="pt-BR" sz="1800" spc="-1" strike="noStrike">
                    <a:solidFill>
                      <a:srgbClr val="3333cc"/>
                    </a:solidFill>
                    <a:latin typeface="Comic Sans MS"/>
                  </a:rPr>
                  <a:t>B&lt;&lt; B</a:t>
                </a:r>
                <a:r>
                  <a:rPr b="0" lang="pt-BR" sz="1800" spc="-1" strike="noStrike">
                    <a:solidFill>
                      <a:srgbClr val="ff3300"/>
                    </a:solidFill>
                    <a:latin typeface="Comic Sans MS"/>
                  </a:rPr>
                  <a:t> em uma distância da ordem de </a:t>
                </a:r>
                <a:r>
                  <a:rPr b="0" lang="pt-BR" sz="1800" spc="-1" strike="noStrike">
                    <a:solidFill>
                      <a:srgbClr val="3333cc"/>
                    </a:solidFill>
                    <a:latin typeface="Comic Sans MS"/>
                  </a:rPr>
                  <a:t>r</a:t>
                </a:r>
                <a:r>
                  <a:rPr b="0" lang="pt-BR" sz="1800" spc="-1" strike="noStrike" baseline="-25000">
                    <a:solidFill>
                      <a:srgbClr val="3333cc"/>
                    </a:solidFill>
                    <a:latin typeface="Comic Sans MS"/>
                  </a:rPr>
                  <a:t>c</a:t>
                </a:r>
                <a:r>
                  <a:rPr b="0" lang="pt-BR" sz="1800" spc="-1" strike="noStrike">
                    <a:solidFill>
                      <a:srgbClr val="ff3300"/>
                    </a:solidFill>
                    <a:latin typeface="Comic Sans MS"/>
                  </a:rPr>
                  <a:t>. </a:t>
                </a:r>
                <a:r>
                  <a:rPr b="0" lang="pt-BR" sz="1800" spc="-1" strike="noStrike">
                    <a:solidFill>
                      <a:srgbClr val="3333cc"/>
                    </a:solidFill>
                    <a:latin typeface="Comic Sans MS"/>
                  </a:rPr>
                  <a:t>Analisar 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3333cc"/>
                    </a:solidFill>
                    <a:latin typeface="Comic Sans MS"/>
                  </a:rPr>
                  <a:t>Movimento do Centro de Guia</a:t>
                </a:r>
                <a:r>
                  <a:rPr b="0" lang="pt-BR" sz="1800" spc="-1" strike="noStrike">
                    <a:solidFill>
                      <a:srgbClr val="ff3300"/>
                    </a:solidFill>
                    <a:latin typeface="Comic Sans MS"/>
                  </a:rPr>
                  <a:t>. Os giros rápidos da partícula são de pou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3300"/>
                    </a:solidFill>
                    <a:latin typeface="Comic Sans MS"/>
                  </a:rPr>
                  <a:t>Interesse. Pequenas oscilações (amplitude &lt;&lt; </a:t>
                </a:r>
                <a:r>
                  <a:rPr b="0" lang="pt-BR" sz="1800" spc="-1" strike="noStrike">
                    <a:solidFill>
                      <a:srgbClr val="3333cc"/>
                    </a:solidFill>
                    <a:latin typeface="Comic Sans MS"/>
                  </a:rPr>
                  <a:t>r</a:t>
                </a:r>
                <a:r>
                  <a:rPr b="0" lang="pt-BR" sz="1800" spc="-1" strike="noStrike" baseline="-25000">
                    <a:solidFill>
                      <a:srgbClr val="3333cc"/>
                    </a:solidFill>
                    <a:latin typeface="Comic Sans MS"/>
                  </a:rPr>
                  <a:t>c</a:t>
                </a:r>
                <a:r>
                  <a:rPr b="0" lang="pt-BR" sz="1800" spc="-1" strike="noStrike">
                    <a:solidFill>
                      <a:srgbClr val="ff3300"/>
                    </a:solidFill>
                    <a:latin typeface="Comic Sans MS"/>
                  </a:rPr>
                  <a:t>) que ocorrem em um giro da partícul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pt-BR" sz="1800" spc="-1" strike="noStrike">
                    <a:solidFill>
                      <a:srgbClr val="ff3300"/>
                    </a:solidFill>
                    <a:latin typeface="Comic Sans MS"/>
                  </a:rPr>
                  <a:t>são submetidas à médias em um período de giro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9" name=""/>
          <p:cNvSpPr/>
          <p:nvPr/>
        </p:nvSpPr>
        <p:spPr>
          <a:xfrm>
            <a:off x="304920" y="2971800"/>
            <a:ext cx="8534160" cy="388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33520" y="3048120"/>
            <a:ext cx="5562000" cy="525240"/>
            <a:chOff x="533520" y="3048120"/>
            <a:chExt cx="5562000" cy="525240"/>
          </a:xfrm>
        </p:grpSpPr>
        <p:sp>
          <p:nvSpPr>
            <p:cNvPr id="1521" name=""/>
            <p:cNvSpPr/>
            <p:nvPr/>
          </p:nvSpPr>
          <p:spPr>
            <a:xfrm>
              <a:off x="761760" y="320040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Tens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2" name=""/>
            <p:cNvGraphicFramePr/>
            <p:nvPr/>
          </p:nvGraphicFramePr>
          <p:xfrm>
            <a:off x="533520" y="3276720"/>
            <a:ext cx="22824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276720"/>
                      <a:ext cx="2282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524" name=""/>
                <p:cNvSpPr txBox="1"/>
                <p:nvPr/>
              </p:nvSpPr>
              <p:spPr>
                <a:xfrm>
                  <a:off x="1599840" y="3048120"/>
                  <a:ext cx="60300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525" name=""/>
            <p:cNvSpPr/>
            <p:nvPr/>
          </p:nvSpPr>
          <p:spPr>
            <a:xfrm>
              <a:off x="2133360" y="3200400"/>
              <a:ext cx="39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descreve a Variação Espacial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6" name=""/>
                <p:cNvSpPr txBox="1"/>
                <p:nvPr/>
              </p:nvSpPr>
              <p:spPr>
                <a:xfrm>
                  <a:off x="5638680" y="3048120"/>
                  <a:ext cx="34092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27" name="" descr=""/>
          <p:cNvPicPr/>
          <p:nvPr/>
        </p:nvPicPr>
        <p:blipFill>
          <a:blip r:embed="rId5"/>
          <a:stretch/>
        </p:blipFill>
        <p:spPr>
          <a:xfrm>
            <a:off x="2286000" y="3657600"/>
            <a:ext cx="4114800" cy="320040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1000080" y="4572000"/>
                <a:ext cx="13525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2971800" y="3733920"/>
            <a:ext cx="2743200" cy="2895480"/>
          </a:xfrm>
          <a:prstGeom prst="irregularSeal2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228600" y="228600"/>
            <a:ext cx="85345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380880" y="380880"/>
            <a:ext cx="7315200" cy="368280"/>
            <a:chOff x="380880" y="380880"/>
            <a:chExt cx="7315200" cy="368280"/>
          </a:xfrm>
        </p:grpSpPr>
        <p:sp>
          <p:nvSpPr>
            <p:cNvPr id="1532" name=""/>
            <p:cNvSpPr/>
            <p:nvPr/>
          </p:nvSpPr>
          <p:spPr>
            <a:xfrm>
              <a:off x="609480" y="38088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3300"/>
                  </a:solidFill>
                  <a:latin typeface="Comic Sans MS"/>
                </a:rPr>
                <a:t>Invariantes Adiába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33" name=""/>
            <p:cNvGraphicFramePr/>
            <p:nvPr/>
          </p:nvGraphicFramePr>
          <p:xfrm>
            <a:off x="380880" y="456840"/>
            <a:ext cx="228600" cy="22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5684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35" name=""/>
          <p:cNvSpPr/>
          <p:nvPr/>
        </p:nvSpPr>
        <p:spPr>
          <a:xfrm>
            <a:off x="37339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609480" y="838080"/>
            <a:ext cx="7391520" cy="1852200"/>
            <a:chOff x="609480" y="838080"/>
            <a:chExt cx="7391520" cy="1852200"/>
          </a:xfrm>
        </p:grpSpPr>
        <p:sp>
          <p:nvSpPr>
            <p:cNvPr id="1537" name=""/>
            <p:cNvSpPr/>
            <p:nvPr/>
          </p:nvSpPr>
          <p:spPr>
            <a:xfrm>
              <a:off x="609480" y="838080"/>
              <a:ext cx="739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1º-</a:t>
              </a:r>
              <a:r>
                <a:rPr b="0" lang="pt-BR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nvariante Adiabático: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Momento Magnético Orbital é Constant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09480" y="1371240"/>
              <a:ext cx="739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2º-</a:t>
              </a:r>
              <a:r>
                <a:rPr b="0" lang="pt-BR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nvariante Adiabático: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Invariante Longitud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9" name=""/>
                <p:cNvSpPr txBox="1"/>
                <p:nvPr/>
              </p:nvSpPr>
              <p:spPr>
                <a:xfrm>
                  <a:off x="6019560" y="1295280"/>
                  <a:ext cx="182880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nary>
                        <m:naryPr>
                          <m:chr m:val="∮"/>
                          <m:subHide m:val="1"/>
                          <m:supHide m:val="1"/>
                        </m:naryPr>
                        <m:sub/>
                        <m:sup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l</m:t>
                              </m:r>
                            </m:e>
                          </m:acc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∮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//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d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0" name=""/>
            <p:cNvSpPr/>
            <p:nvPr/>
          </p:nvSpPr>
          <p:spPr>
            <a:xfrm>
              <a:off x="609480" y="1904760"/>
              <a:ext cx="7391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3º-</a:t>
              </a:r>
              <a:r>
                <a:rPr b="0" lang="pt-BR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nvariante Adiabático: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Fluxo Magnético Total Englobado Pela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uperfície de Der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228600" y="3352680"/>
            <a:ext cx="8534520" cy="274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533520" y="3505320"/>
            <a:ext cx="7315200" cy="368280"/>
            <a:chOff x="533520" y="3505320"/>
            <a:chExt cx="7315200" cy="368280"/>
          </a:xfrm>
        </p:grpSpPr>
        <p:sp>
          <p:nvSpPr>
            <p:cNvPr id="1543" name=""/>
            <p:cNvSpPr/>
            <p:nvPr/>
          </p:nvSpPr>
          <p:spPr>
            <a:xfrm>
              <a:off x="762120" y="350532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elocidades de Deriva de Gradiente e Curv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4" name=""/>
            <p:cNvGraphicFramePr/>
            <p:nvPr/>
          </p:nvGraphicFramePr>
          <p:xfrm>
            <a:off x="533520" y="3581280"/>
            <a:ext cx="22860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58128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6" name=""/>
          <p:cNvGrpSpPr/>
          <p:nvPr/>
        </p:nvGrpSpPr>
        <p:grpSpPr>
          <a:xfrm>
            <a:off x="1752480" y="4038480"/>
            <a:ext cx="5105160" cy="914400"/>
            <a:chOff x="1752480" y="4038480"/>
            <a:chExt cx="5105160" cy="914400"/>
          </a:xfrm>
        </p:grpSpPr>
        <p:sp>
          <p:nvSpPr>
            <p:cNvPr id="1547" name=""/>
            <p:cNvSpPr/>
            <p:nvPr/>
          </p:nvSpPr>
          <p:spPr>
            <a:xfrm>
              <a:off x="1752480" y="4038480"/>
              <a:ext cx="51051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8" name=""/>
                <p:cNvSpPr txBox="1"/>
                <p:nvPr/>
              </p:nvSpPr>
              <p:spPr>
                <a:xfrm>
                  <a:off x="1828440" y="4114440"/>
                  <a:ext cx="480060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C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v</m:t>
                              </m:r>
                            </m:e>
                            <m:sub/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B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∇</m:t>
                      </m:r>
                      <m:r>
                        <m:t xml:space="preserve">B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//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B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[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)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]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49" name=""/>
          <p:cNvSpPr/>
          <p:nvPr/>
        </p:nvSpPr>
        <p:spPr>
          <a:xfrm>
            <a:off x="2514600" y="4952880"/>
            <a:ext cx="1523880" cy="990720"/>
          </a:xfrm>
          <a:prstGeom prst="upArrowCallout">
            <a:avLst>
              <a:gd name="adj1" fmla="val 38457"/>
              <a:gd name="adj2" fmla="val 3845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800600" y="4952880"/>
            <a:ext cx="1523880" cy="990720"/>
          </a:xfrm>
          <a:prstGeom prst="upArrowCallout">
            <a:avLst>
              <a:gd name="adj1" fmla="val 38457"/>
              <a:gd name="adj2" fmla="val 3845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rv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81680" cy="519408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  <p:pic>
        <p:nvPicPr>
          <p:cNvPr id="1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8160" cy="3111480"/>
          </a:xfrm>
          <a:prstGeom prst="rect">
            <a:avLst/>
          </a:prstGeom>
          <a:ln w="0">
            <a:noFill/>
          </a:ln>
        </p:spPr>
      </p:pic>
      <p:pic>
        <p:nvPicPr>
          <p:cNvPr id="1553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1554" name="" descr=""/>
          <p:cNvPicPr/>
          <p:nvPr/>
        </p:nvPicPr>
        <p:blipFill>
          <a:blip r:embed="rId4"/>
          <a:stretch/>
        </p:blipFill>
        <p:spPr>
          <a:xfrm>
            <a:off x="0" y="3124080"/>
            <a:ext cx="4800600" cy="3733920"/>
          </a:xfrm>
          <a:prstGeom prst="rect">
            <a:avLst/>
          </a:prstGeom>
          <a:ln w="0">
            <a:noFill/>
          </a:ln>
        </p:spPr>
      </p:pic>
      <p:pic>
        <p:nvPicPr>
          <p:cNvPr id="1555" name="" descr=""/>
          <p:cNvPicPr/>
          <p:nvPr/>
        </p:nvPicPr>
        <p:blipFill>
          <a:blip r:embed="rId5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91520" cy="566424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</p:pic>
      <p:sp>
        <p:nvSpPr>
          <p:cNvPr id="1557" name=""/>
          <p:cNvSpPr/>
          <p:nvPr/>
        </p:nvSpPr>
        <p:spPr>
          <a:xfrm>
            <a:off x="2286000" y="0"/>
            <a:ext cx="4572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rrafa e Espelhos Mag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2"/>
          <a:stretch/>
        </p:blipFill>
        <p:spPr>
          <a:xfrm>
            <a:off x="609480" y="671400"/>
            <a:ext cx="815364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1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08600" y="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apítulo-1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 rot="10800000">
          <a:off x="0" y="685080"/>
          <a:ext cx="3962520" cy="1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685080"/>
                    <a:ext cx="3962520" cy="1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-62280" y="380880"/>
            <a:ext cx="41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de Podemos Encontrar Plasma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914400"/>
            <a:ext cx="8369280" cy="368280"/>
            <a:chOff x="228600" y="914400"/>
            <a:chExt cx="8369280" cy="368280"/>
          </a:xfrm>
        </p:grpSpPr>
        <p:graphicFrame>
          <p:nvGraphicFramePr>
            <p:cNvPr id="51" name=""/>
            <p:cNvGraphicFramePr/>
            <p:nvPr/>
          </p:nvGraphicFramePr>
          <p:xfrm>
            <a:off x="228600" y="988920"/>
            <a:ext cx="22860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98892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364320" y="914400"/>
              <a:ext cx="82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 Planeta Terra: Ionosfera e Laboratórios de Pesquisa em Fusão Nuclear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" y="1295280"/>
            <a:ext cx="6756840" cy="368280"/>
            <a:chOff x="228600" y="1295280"/>
            <a:chExt cx="6756840" cy="368280"/>
          </a:xfrm>
        </p:grpSpPr>
        <p:graphicFrame>
          <p:nvGraphicFramePr>
            <p:cNvPr id="55" name=""/>
            <p:cNvGraphicFramePr/>
            <p:nvPr/>
          </p:nvGraphicFramePr>
          <p:xfrm>
            <a:off x="228600" y="1370160"/>
            <a:ext cx="22860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137016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431280" y="1295280"/>
              <a:ext cx="655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as Vizinhanças do Planeta Terra: Magnetosfera Terrestr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28600" y="1676520"/>
            <a:ext cx="4438080" cy="368280"/>
            <a:chOff x="228600" y="1676520"/>
            <a:chExt cx="4438080" cy="368280"/>
          </a:xfrm>
        </p:grpSpPr>
        <p:graphicFrame>
          <p:nvGraphicFramePr>
            <p:cNvPr id="59" name=""/>
            <p:cNvGraphicFramePr/>
            <p:nvPr/>
          </p:nvGraphicFramePr>
          <p:xfrm>
            <a:off x="228600" y="1750680"/>
            <a:ext cx="228600" cy="22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1750680"/>
                      <a:ext cx="22860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94200" y="1676520"/>
              <a:ext cx="427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 Outros Planetas do Sistema Solar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28600" y="2133720"/>
            <a:ext cx="5834160" cy="368280"/>
            <a:chOff x="228600" y="2133720"/>
            <a:chExt cx="5834160" cy="368280"/>
          </a:xfrm>
        </p:grpSpPr>
        <p:graphicFrame>
          <p:nvGraphicFramePr>
            <p:cNvPr id="63" name=""/>
            <p:cNvGraphicFramePr/>
            <p:nvPr/>
          </p:nvGraphicFramePr>
          <p:xfrm>
            <a:off x="228600" y="2208240"/>
            <a:ext cx="228600" cy="228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2208240"/>
                      <a:ext cx="22860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"/>
            <p:cNvSpPr/>
            <p:nvPr/>
          </p:nvSpPr>
          <p:spPr>
            <a:xfrm>
              <a:off x="435240" y="2133720"/>
              <a:ext cx="562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 Espaço Interplanetário e no Meio Inter-estelar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8600" y="2514600"/>
            <a:ext cx="3421080" cy="368280"/>
            <a:chOff x="228600" y="2514600"/>
            <a:chExt cx="3421080" cy="368280"/>
          </a:xfrm>
        </p:grpSpPr>
        <p:graphicFrame>
          <p:nvGraphicFramePr>
            <p:cNvPr id="67" name=""/>
            <p:cNvGraphicFramePr/>
            <p:nvPr/>
          </p:nvGraphicFramePr>
          <p:xfrm>
            <a:off x="228600" y="2589480"/>
            <a:ext cx="228240" cy="228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600" y="2589480"/>
                      <a:ext cx="2282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408960" y="2514600"/>
              <a:ext cx="324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 Sol e em outras Estrela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3048120"/>
            <a:ext cx="3429000" cy="3352320"/>
            <a:chOff x="533520" y="3048120"/>
            <a:chExt cx="3429000" cy="3352320"/>
          </a:xfrm>
        </p:grpSpPr>
        <p:pic>
          <p:nvPicPr>
            <p:cNvPr id="71" name="" descr=""/>
            <p:cNvPicPr/>
            <p:nvPr/>
          </p:nvPicPr>
          <p:blipFill>
            <a:blip r:embed="rId13"/>
            <a:stretch/>
          </p:blipFill>
          <p:spPr>
            <a:xfrm>
              <a:off x="533520" y="3733560"/>
              <a:ext cx="3429000" cy="2666880"/>
            </a:xfrm>
            <a:prstGeom prst="rect">
              <a:avLst/>
            </a:prstGeom>
            <a:ln w="0">
              <a:noFill/>
            </a:ln>
            <a:effectLst>
              <a:outerShdw dist="77353" dir="562478" blurRad="0" rotWithShape="0">
                <a:srgbClr val="808080"/>
              </a:outerShdw>
            </a:effectLst>
          </p:spPr>
        </p:pic>
        <p:sp>
          <p:nvSpPr>
            <p:cNvPr id="72" name=""/>
            <p:cNvSpPr/>
            <p:nvPr/>
          </p:nvSpPr>
          <p:spPr>
            <a:xfrm>
              <a:off x="533520" y="3048120"/>
              <a:ext cx="3429000" cy="57132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Esquema da Interação do Plasma Ejetado pelo Sol com o Campo Magnético da Ter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52880" y="3124080"/>
            <a:ext cx="3200400" cy="3457440"/>
            <a:chOff x="4952880" y="3124080"/>
            <a:chExt cx="3200400" cy="3457440"/>
          </a:xfrm>
        </p:grpSpPr>
        <p:pic>
          <p:nvPicPr>
            <p:cNvPr id="74" name="" descr=""/>
            <p:cNvPicPr/>
            <p:nvPr/>
          </p:nvPicPr>
          <p:blipFill>
            <a:blip r:embed="rId14"/>
            <a:stretch/>
          </p:blipFill>
          <p:spPr>
            <a:xfrm>
              <a:off x="5029200" y="3657600"/>
              <a:ext cx="3124080" cy="2923920"/>
            </a:xfrm>
            <a:prstGeom prst="rect">
              <a:avLst/>
            </a:prstGeom>
            <a:ln w="0">
              <a:noFill/>
            </a:ln>
            <a:effectLst>
              <a:outerShdw dist="77353" dir="562478" blurRad="0" rotWithShape="0">
                <a:srgbClr val="808080"/>
              </a:outerShdw>
            </a:effectLst>
          </p:spPr>
        </p:pic>
        <p:sp>
          <p:nvSpPr>
            <p:cNvPr id="75" name=""/>
            <p:cNvSpPr/>
            <p:nvPr/>
          </p:nvSpPr>
          <p:spPr>
            <a:xfrm>
              <a:off x="4952880" y="3124080"/>
              <a:ext cx="3200400" cy="45720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Plasma Superaquecido da Corona S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"/>
          <p:cNvGrpSpPr/>
          <p:nvPr/>
        </p:nvGrpSpPr>
        <p:grpSpPr>
          <a:xfrm>
            <a:off x="1771920" y="0"/>
            <a:ext cx="5391000" cy="1093680"/>
            <a:chOff x="1771920" y="0"/>
            <a:chExt cx="5391000" cy="1093680"/>
          </a:xfrm>
        </p:grpSpPr>
        <p:sp>
          <p:nvSpPr>
            <p:cNvPr id="1560" name=""/>
            <p:cNvSpPr/>
            <p:nvPr/>
          </p:nvSpPr>
          <p:spPr>
            <a:xfrm>
              <a:off x="1828800" y="0"/>
              <a:ext cx="5334120" cy="109368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771920" y="0"/>
              <a:ext cx="531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     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apítulo-4: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vimento de Partículas Carregadas e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mpos Eletromagnéticos Variáveis No 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2" name=""/>
          <p:cNvGrpSpPr/>
          <p:nvPr/>
        </p:nvGrpSpPr>
        <p:grpSpPr>
          <a:xfrm>
            <a:off x="685800" y="1981080"/>
            <a:ext cx="7848360" cy="2590560"/>
            <a:chOff x="685800" y="1981080"/>
            <a:chExt cx="7848360" cy="2590560"/>
          </a:xfrm>
        </p:grpSpPr>
        <p:sp>
          <p:nvSpPr>
            <p:cNvPr id="1563" name=""/>
            <p:cNvSpPr/>
            <p:nvPr/>
          </p:nvSpPr>
          <p:spPr>
            <a:xfrm>
              <a:off x="685800" y="1981080"/>
              <a:ext cx="7848360" cy="25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838080" y="2133360"/>
              <a:ext cx="7467120" cy="916920"/>
              <a:chOff x="838080" y="2133360"/>
              <a:chExt cx="7467120" cy="916920"/>
            </a:xfrm>
          </p:grpSpPr>
          <p:graphicFrame>
            <p:nvGraphicFramePr>
              <p:cNvPr id="1565" name=""/>
              <p:cNvGraphicFramePr/>
              <p:nvPr/>
            </p:nvGraphicFramePr>
            <p:xfrm>
              <a:off x="838080" y="2209680"/>
              <a:ext cx="228240" cy="228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8080" y="2209680"/>
                        <a:ext cx="22824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67" name=""/>
              <p:cNvSpPr/>
              <p:nvPr/>
            </p:nvSpPr>
            <p:spPr>
              <a:xfrm>
                <a:off x="1066320" y="2133360"/>
                <a:ext cx="7238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Deriva de Polarização: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o campo elétrico dependente do tem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roduz uma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corrente de polarização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líquida de maneira q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O plasma comporta-se como um </a:t>
                </a:r>
                <a:r>
                  <a:rPr b="0" lang="en-US" sz="1800" spc="-1" strike="noStrike" u="sng">
                    <a:solidFill>
                      <a:srgbClr val="3333cc"/>
                    </a:solidFill>
                    <a:uFillTx/>
                    <a:latin typeface="Comic Sans MS"/>
                  </a:rPr>
                  <a:t>dielétrico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1143000" y="3276360"/>
              <a:ext cx="2361960" cy="1066680"/>
              <a:chOff x="1143000" y="3276360"/>
              <a:chExt cx="2361960" cy="1066680"/>
            </a:xfrm>
          </p:grpSpPr>
          <p:sp>
            <p:nvSpPr>
              <p:cNvPr id="1569" name=""/>
              <p:cNvSpPr/>
              <p:nvPr/>
            </p:nvSpPr>
            <p:spPr>
              <a:xfrm>
                <a:off x="1143000" y="3276360"/>
                <a:ext cx="2361960" cy="10666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70" name=""/>
                  <p:cNvSpPr txBox="1"/>
                  <p:nvPr/>
                </p:nvSpPr>
                <p:spPr>
                  <a:xfrm>
                    <a:off x="1371600" y="3357360"/>
                    <a:ext cx="1904760" cy="90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/>
                                    </m:sSub>
                                  </m:e>
                                </m:acc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571" name=""/>
            <p:cNvGrpSpPr/>
            <p:nvPr/>
          </p:nvGrpSpPr>
          <p:grpSpPr>
            <a:xfrm>
              <a:off x="4724280" y="3352680"/>
              <a:ext cx="3200400" cy="914400"/>
              <a:chOff x="4724280" y="3352680"/>
              <a:chExt cx="3200400" cy="914400"/>
            </a:xfrm>
          </p:grpSpPr>
          <p:sp>
            <p:nvSpPr>
              <p:cNvPr id="1572" name=""/>
              <p:cNvSpPr/>
              <p:nvPr/>
            </p:nvSpPr>
            <p:spPr>
              <a:xfrm>
                <a:off x="4724280" y="3352680"/>
                <a:ext cx="3200400" cy="91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73" name=""/>
                  <p:cNvSpPr txBox="1"/>
                  <p:nvPr/>
                </p:nvSpPr>
                <p:spPr>
                  <a:xfrm>
                    <a:off x="4800600" y="3428640"/>
                    <a:ext cx="3047760" cy="75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V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/>
                                    </m:sSub>
                                  </m:e>
                                </m:acc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574" name=""/>
          <p:cNvGrpSpPr/>
          <p:nvPr/>
        </p:nvGrpSpPr>
        <p:grpSpPr>
          <a:xfrm>
            <a:off x="4724280" y="3352680"/>
            <a:ext cx="3200400" cy="914400"/>
            <a:chOff x="4724280" y="3352680"/>
            <a:chExt cx="3200400" cy="914400"/>
          </a:xfrm>
        </p:grpSpPr>
        <p:sp>
          <p:nvSpPr>
            <p:cNvPr id="1575" name=""/>
            <p:cNvSpPr/>
            <p:nvPr/>
          </p:nvSpPr>
          <p:spPr>
            <a:xfrm>
              <a:off x="4724280" y="3352680"/>
              <a:ext cx="32004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6" name=""/>
                <p:cNvSpPr txBox="1"/>
                <p:nvPr/>
              </p:nvSpPr>
              <p:spPr>
                <a:xfrm>
                  <a:off x="4876560" y="3490920"/>
                  <a:ext cx="27432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)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7" name=""/>
          <p:cNvGrpSpPr/>
          <p:nvPr/>
        </p:nvGrpSpPr>
        <p:grpSpPr>
          <a:xfrm>
            <a:off x="1143000" y="3276720"/>
            <a:ext cx="2362320" cy="1066680"/>
            <a:chOff x="1143000" y="3276720"/>
            <a:chExt cx="2362320" cy="1066680"/>
          </a:xfrm>
        </p:grpSpPr>
        <p:sp>
          <p:nvSpPr>
            <p:cNvPr id="1578" name=""/>
            <p:cNvSpPr/>
            <p:nvPr/>
          </p:nvSpPr>
          <p:spPr>
            <a:xfrm>
              <a:off x="1143000" y="3276720"/>
              <a:ext cx="236232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9" name=""/>
                <p:cNvSpPr txBox="1"/>
                <p:nvPr/>
              </p:nvSpPr>
              <p:spPr>
                <a:xfrm>
                  <a:off x="1371600" y="3352680"/>
                  <a:ext cx="1854360" cy="83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0" name=""/>
          <p:cNvGrpSpPr/>
          <p:nvPr/>
        </p:nvGrpSpPr>
        <p:grpSpPr>
          <a:xfrm>
            <a:off x="329400" y="2665800"/>
            <a:ext cx="7935120" cy="3349080"/>
            <a:chOff x="329400" y="2665800"/>
            <a:chExt cx="7935120" cy="3349080"/>
          </a:xfrm>
        </p:grpSpPr>
        <p:sp>
          <p:nvSpPr>
            <p:cNvPr id="1581" name=""/>
            <p:cNvSpPr/>
            <p:nvPr/>
          </p:nvSpPr>
          <p:spPr>
            <a:xfrm>
              <a:off x="6435720" y="3249720"/>
              <a:ext cx="1828800" cy="1066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flipV="1" rot="10193400">
              <a:off x="462960" y="3265200"/>
              <a:ext cx="702792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30" y="115"/>
                  </a:moveTo>
                  <a:arcTo wR="10800" hR="10800" stAng="-5901393" swAng="4197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9230" y="115"/>
                  </a:moveTo>
                  <a:arcTo wR="10800" hR="10800" stAng="-5901393" swAng="4197679"/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3" name="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8229600" cy="530388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4" name=""/>
          <p:cNvGrpSpPr/>
          <p:nvPr/>
        </p:nvGrpSpPr>
        <p:grpSpPr>
          <a:xfrm>
            <a:off x="2057400" y="0"/>
            <a:ext cx="4876920" cy="990720"/>
            <a:chOff x="2057400" y="0"/>
            <a:chExt cx="4876920" cy="990720"/>
          </a:xfrm>
        </p:grpSpPr>
        <p:sp>
          <p:nvSpPr>
            <p:cNvPr id="1585" name=""/>
            <p:cNvSpPr/>
            <p:nvPr/>
          </p:nvSpPr>
          <p:spPr>
            <a:xfrm>
              <a:off x="2209680" y="0"/>
              <a:ext cx="4724640" cy="9907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057400" y="0"/>
              <a:ext cx="480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apítulo-5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mentos da Teoria Cinética do Plas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533520" y="1523880"/>
            <a:ext cx="7543800" cy="449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685800" y="1828800"/>
            <a:ext cx="4401360" cy="368280"/>
            <a:chOff x="685800" y="1828800"/>
            <a:chExt cx="4401360" cy="368280"/>
          </a:xfrm>
        </p:grpSpPr>
        <p:graphicFrame>
          <p:nvGraphicFramePr>
            <p:cNvPr id="1589" name=""/>
            <p:cNvGraphicFramePr/>
            <p:nvPr/>
          </p:nvGraphicFramePr>
          <p:xfrm>
            <a:off x="685800" y="1903320"/>
            <a:ext cx="228600" cy="22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90332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1" name=""/>
            <p:cNvSpPr/>
            <p:nvPr/>
          </p:nvSpPr>
          <p:spPr>
            <a:xfrm>
              <a:off x="829800" y="1828800"/>
              <a:ext cx="425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quação de Boltzmann Não-Colis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828800" y="2286000"/>
            <a:ext cx="4419720" cy="700200"/>
            <a:chOff x="1828800" y="2286000"/>
            <a:chExt cx="4419720" cy="700200"/>
          </a:xfrm>
        </p:grpSpPr>
        <p:sp>
          <p:nvSpPr>
            <p:cNvPr id="1593" name=""/>
            <p:cNvSpPr/>
            <p:nvPr/>
          </p:nvSpPr>
          <p:spPr>
            <a:xfrm>
              <a:off x="1828800" y="2286000"/>
              <a:ext cx="441972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4" name=""/>
                <p:cNvSpPr txBox="1"/>
                <p:nvPr/>
              </p:nvSpPr>
              <p:spPr>
                <a:xfrm>
                  <a:off x="1981080" y="2362320"/>
                  <a:ext cx="40388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(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∇</m:t>
                          </m:r>
                        </m:e>
                        <m: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∇</m:t>
                          </m:r>
                        </m:e>
                        <m: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5" name=""/>
          <p:cNvGrpSpPr/>
          <p:nvPr/>
        </p:nvGrpSpPr>
        <p:grpSpPr>
          <a:xfrm>
            <a:off x="1828800" y="3505320"/>
            <a:ext cx="5105520" cy="850320"/>
            <a:chOff x="1828800" y="3505320"/>
            <a:chExt cx="5105520" cy="850320"/>
          </a:xfrm>
        </p:grpSpPr>
        <p:sp>
          <p:nvSpPr>
            <p:cNvPr id="1596" name=""/>
            <p:cNvSpPr/>
            <p:nvPr/>
          </p:nvSpPr>
          <p:spPr>
            <a:xfrm>
              <a:off x="1828800" y="3505320"/>
              <a:ext cx="510552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7" name=""/>
                <p:cNvSpPr txBox="1"/>
                <p:nvPr/>
              </p:nvSpPr>
              <p:spPr>
                <a:xfrm>
                  <a:off x="1905120" y="3581280"/>
                  <a:ext cx="4952880" cy="77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(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∇</m:t>
                          </m:r>
                        </m:e>
                        <m: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∇</m:t>
                          </m:r>
                        </m:e>
                        <m: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δf</m:t>
                                      </m:r>
                                    </m:e>
                                    <m:sub>
                                      <m:r>
                                        <m:t xml:space="preserve">α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</m:acc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8" name=""/>
          <p:cNvGrpSpPr/>
          <p:nvPr/>
        </p:nvGrpSpPr>
        <p:grpSpPr>
          <a:xfrm>
            <a:off x="685800" y="3124080"/>
            <a:ext cx="3886560" cy="368280"/>
            <a:chOff x="685800" y="3124080"/>
            <a:chExt cx="3886560" cy="368280"/>
          </a:xfrm>
        </p:grpSpPr>
        <p:graphicFrame>
          <p:nvGraphicFramePr>
            <p:cNvPr id="1599" name=""/>
            <p:cNvGraphicFramePr/>
            <p:nvPr/>
          </p:nvGraphicFramePr>
          <p:xfrm>
            <a:off x="685800" y="3124080"/>
            <a:ext cx="22860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12408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1" name=""/>
            <p:cNvSpPr/>
            <p:nvPr/>
          </p:nvSpPr>
          <p:spPr>
            <a:xfrm>
              <a:off x="828360" y="3124080"/>
              <a:ext cx="37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quação de Boltzmann Colis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762120" y="4419720"/>
            <a:ext cx="5319720" cy="459720"/>
            <a:chOff x="762120" y="4419720"/>
            <a:chExt cx="5319720" cy="459720"/>
          </a:xfrm>
        </p:grpSpPr>
        <p:sp>
          <p:nvSpPr>
            <p:cNvPr id="1603" name=""/>
            <p:cNvSpPr/>
            <p:nvPr/>
          </p:nvSpPr>
          <p:spPr>
            <a:xfrm>
              <a:off x="849240" y="4419720"/>
              <a:ext cx="523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Modelo da Relaxação para o Termo Colisional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04" name=""/>
            <p:cNvGraphicFramePr/>
            <p:nvPr/>
          </p:nvGraphicFramePr>
          <p:xfrm>
            <a:off x="762120" y="4572000"/>
            <a:ext cx="22860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2120" y="457200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6" name=""/>
          <p:cNvGrpSpPr/>
          <p:nvPr/>
        </p:nvGrpSpPr>
        <p:grpSpPr>
          <a:xfrm>
            <a:off x="914400" y="4876920"/>
            <a:ext cx="2514600" cy="838080"/>
            <a:chOff x="914400" y="4876920"/>
            <a:chExt cx="2514600" cy="838080"/>
          </a:xfrm>
        </p:grpSpPr>
        <p:sp>
          <p:nvSpPr>
            <p:cNvPr id="1607" name=""/>
            <p:cNvSpPr/>
            <p:nvPr/>
          </p:nvSpPr>
          <p:spPr>
            <a:xfrm>
              <a:off x="914400" y="4876920"/>
              <a:ext cx="25146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8" name=""/>
                <p:cNvSpPr txBox="1"/>
                <p:nvPr/>
              </p:nvSpPr>
              <p:spPr>
                <a:xfrm>
                  <a:off x="990720" y="4952880"/>
                  <a:ext cx="243828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δf</m:t>
                                      </m:r>
                                    </m:e>
                                    <m:sub>
                                      <m:r>
                                        <m:t xml:space="preserve">α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  <m:r>
                                    <m:t xml:space="preserve">,</m:t>
                                  </m:r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</m:acc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9" name=""/>
          <p:cNvGrpSpPr/>
          <p:nvPr/>
        </p:nvGrpSpPr>
        <p:grpSpPr>
          <a:xfrm>
            <a:off x="4419720" y="4952880"/>
            <a:ext cx="3276360" cy="685800"/>
            <a:chOff x="4419720" y="4952880"/>
            <a:chExt cx="3276360" cy="685800"/>
          </a:xfrm>
        </p:grpSpPr>
        <p:sp>
          <p:nvSpPr>
            <p:cNvPr id="1610" name=""/>
            <p:cNvSpPr/>
            <p:nvPr/>
          </p:nvSpPr>
          <p:spPr>
            <a:xfrm>
              <a:off x="4419720" y="4952880"/>
              <a:ext cx="327636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1" name=""/>
                <p:cNvSpPr txBox="1"/>
                <p:nvPr/>
              </p:nvSpPr>
              <p:spPr>
                <a:xfrm>
                  <a:off x="4572000" y="4994280"/>
                  <a:ext cx="30348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α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2" name=""/>
          <p:cNvSpPr/>
          <p:nvPr/>
        </p:nvSpPr>
        <p:spPr>
          <a:xfrm>
            <a:off x="6095880" y="990720"/>
            <a:ext cx="2895840" cy="1523880"/>
          </a:xfrm>
          <a:prstGeom prst="cloudCallout">
            <a:avLst>
              <a:gd name="adj1" fmla="val -55592"/>
              <a:gd name="adj2" fmla="val 108958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lasma Homogêneo e Não há Força Ex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rot="1626000">
            <a:off x="7009920" y="2437920"/>
            <a:ext cx="1292400" cy="259092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21600" h="21600">
                <a:moveTo>
                  <a:pt x="5093" y="6989"/>
                </a:moveTo>
                <a:arcTo wR="-6862" hR="-6862" stAng="-8775957" swAng="-8848214"/>
                <a:lnTo>
                  <a:pt x="6453" y="914"/>
                </a:lnTo>
                <a:arcTo wR="10800" hR="10800" stAng="-6824171" swAng="8848214"/>
                <a:lnTo>
                  <a:pt x="22027" y="18297"/>
                </a:lnTo>
                <a:lnTo>
                  <a:pt x="15551" y="19587"/>
                </a:lnTo>
                <a:lnTo>
                  <a:pt x="14261" y="13111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2209680" y="0"/>
            <a:ext cx="4724640" cy="990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05120" y="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apítulo-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ores Médios e Variáveis Macroscóp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09480" y="1143000"/>
            <a:ext cx="7543800" cy="510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762120" y="1447920"/>
            <a:ext cx="4044600" cy="368280"/>
            <a:chOff x="762120" y="1447920"/>
            <a:chExt cx="4044600" cy="368280"/>
          </a:xfrm>
        </p:grpSpPr>
        <p:graphicFrame>
          <p:nvGraphicFramePr>
            <p:cNvPr id="1618" name=""/>
            <p:cNvGraphicFramePr/>
            <p:nvPr/>
          </p:nvGraphicFramePr>
          <p:xfrm>
            <a:off x="762120" y="1522080"/>
            <a:ext cx="228600" cy="22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522080"/>
                      <a:ext cx="22860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0" name=""/>
            <p:cNvSpPr/>
            <p:nvPr/>
          </p:nvSpPr>
          <p:spPr>
            <a:xfrm>
              <a:off x="950040" y="1447920"/>
              <a:ext cx="38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nsidade Numérica e Veloc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62120" y="2743200"/>
            <a:ext cx="4623480" cy="368280"/>
            <a:chOff x="762120" y="2743200"/>
            <a:chExt cx="4623480" cy="368280"/>
          </a:xfrm>
        </p:grpSpPr>
        <p:graphicFrame>
          <p:nvGraphicFramePr>
            <p:cNvPr id="1622" name=""/>
            <p:cNvGraphicFramePr/>
            <p:nvPr/>
          </p:nvGraphicFramePr>
          <p:xfrm>
            <a:off x="762120" y="2743200"/>
            <a:ext cx="22824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2743200"/>
                      <a:ext cx="2282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4" name=""/>
            <p:cNvSpPr/>
            <p:nvPr/>
          </p:nvSpPr>
          <p:spPr>
            <a:xfrm>
              <a:off x="963720" y="2743200"/>
              <a:ext cx="442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ações de Transporte Macroscóp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143000" y="1905120"/>
            <a:ext cx="2895480" cy="685800"/>
            <a:chOff x="1143000" y="1905120"/>
            <a:chExt cx="2895480" cy="685800"/>
          </a:xfrm>
        </p:grpSpPr>
        <p:sp>
          <p:nvSpPr>
            <p:cNvPr id="1626" name=""/>
            <p:cNvSpPr/>
            <p:nvPr/>
          </p:nvSpPr>
          <p:spPr>
            <a:xfrm>
              <a:off x="1143000" y="1905120"/>
              <a:ext cx="28954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7" name=""/>
                <p:cNvSpPr txBox="1"/>
                <p:nvPr/>
              </p:nvSpPr>
              <p:spPr>
                <a:xfrm>
                  <a:off x="1295280" y="2000160"/>
                  <a:ext cx="26672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(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v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28" name=""/>
          <p:cNvGrpSpPr/>
          <p:nvPr/>
        </p:nvGrpSpPr>
        <p:grpSpPr>
          <a:xfrm>
            <a:off x="4572000" y="1752480"/>
            <a:ext cx="2895480" cy="990720"/>
            <a:chOff x="4572000" y="1752480"/>
            <a:chExt cx="2895480" cy="990720"/>
          </a:xfrm>
        </p:grpSpPr>
        <p:sp>
          <p:nvSpPr>
            <p:cNvPr id="1629" name=""/>
            <p:cNvSpPr/>
            <p:nvPr/>
          </p:nvSpPr>
          <p:spPr>
            <a:xfrm>
              <a:off x="4572000" y="1752480"/>
              <a:ext cx="289548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0" name=""/>
                <p:cNvSpPr txBox="1"/>
                <p:nvPr/>
              </p:nvSpPr>
              <p:spPr>
                <a:xfrm>
                  <a:off x="4800600" y="1866960"/>
                  <a:ext cx="243828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sub>
                          </m:sSub>
                        </m:e>
                      </m:acc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,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v</m:t>
                              </m:r>
                            </m:e>
                          </m:nary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(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1" name=""/>
          <p:cNvGrpSpPr/>
          <p:nvPr/>
        </p:nvGrpSpPr>
        <p:grpSpPr>
          <a:xfrm>
            <a:off x="983520" y="3124080"/>
            <a:ext cx="7040160" cy="1600200"/>
            <a:chOff x="983520" y="3124080"/>
            <a:chExt cx="7040160" cy="1600200"/>
          </a:xfrm>
        </p:grpSpPr>
        <p:sp>
          <p:nvSpPr>
            <p:cNvPr id="1632" name=""/>
            <p:cNvSpPr/>
            <p:nvPr/>
          </p:nvSpPr>
          <p:spPr>
            <a:xfrm>
              <a:off x="990720" y="3124080"/>
              <a:ext cx="678168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83520" y="3200400"/>
              <a:ext cx="7040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s </a:t>
              </a:r>
              <a:r>
                <a:rPr b="0" lang="pt-BR" sz="1800" spc="-1" strike="noStrike">
                  <a:solidFill>
                    <a:srgbClr val="ff3300"/>
                  </a:solidFill>
                  <a:latin typeface="Comic Sans MS"/>
                </a:rPr>
                <a:t>equações diferenciai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que governam as variações temporai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 espaciais das variáveis macroscópicas são derivadas direta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Mente da </a:t>
              </a:r>
              <a:r>
                <a:rPr b="0" lang="pt-BR" sz="1800" spc="-1" strike="noStrike">
                  <a:solidFill>
                    <a:srgbClr val="ff3300"/>
                  </a:solidFill>
                  <a:latin typeface="Comic Sans MS"/>
                </a:rPr>
                <a:t>Equação de Boltzmann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sem resolve-la. Essa equaç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iferenciais são conhecidas como </a:t>
              </a:r>
              <a:r>
                <a:rPr b="0" lang="pt-BR" sz="1800" spc="-1" strike="noStrike">
                  <a:solidFill>
                    <a:srgbClr val="ff3300"/>
                  </a:solidFill>
                  <a:latin typeface="Comic Sans MS"/>
                </a:rPr>
                <a:t>Equações de 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3300"/>
                  </a:solidFill>
                  <a:latin typeface="Comic Sans MS"/>
                </a:rPr>
                <a:t>Macroscópica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cujas soluções são as </a:t>
              </a:r>
              <a:r>
                <a:rPr b="0" lang="pt-BR" sz="1800" spc="-1" strike="noStrike">
                  <a:solidFill>
                    <a:srgbClr val="ff3300"/>
                  </a:solidFill>
                  <a:latin typeface="Comic Sans MS"/>
                </a:rPr>
                <a:t>variáveis macroscóp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3352680" y="5181480"/>
            <a:ext cx="1523880" cy="703080"/>
            <a:chOff x="3352680" y="5181480"/>
            <a:chExt cx="1523880" cy="703080"/>
          </a:xfrm>
        </p:grpSpPr>
        <p:sp>
          <p:nvSpPr>
            <p:cNvPr id="1635" name=""/>
            <p:cNvSpPr/>
            <p:nvPr/>
          </p:nvSpPr>
          <p:spPr>
            <a:xfrm>
              <a:off x="3352680" y="5198760"/>
              <a:ext cx="15238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6" name=""/>
                <p:cNvSpPr txBox="1"/>
                <p:nvPr/>
              </p:nvSpPr>
              <p:spPr>
                <a:xfrm>
                  <a:off x="3428640" y="5181480"/>
                  <a:ext cx="137160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χ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457200" y="152280"/>
            <a:ext cx="82296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33520" y="228600"/>
                <a:ext cx="800100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f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39" name=""/>
          <p:cNvGrpSpPr/>
          <p:nvPr/>
        </p:nvGrpSpPr>
        <p:grpSpPr>
          <a:xfrm>
            <a:off x="0" y="4876920"/>
            <a:ext cx="9143640" cy="1676160"/>
            <a:chOff x="0" y="4876920"/>
            <a:chExt cx="9143640" cy="1676160"/>
          </a:xfrm>
        </p:grpSpPr>
        <p:grpSp>
          <p:nvGrpSpPr>
            <p:cNvPr id="1640" name=""/>
            <p:cNvGrpSpPr/>
            <p:nvPr/>
          </p:nvGrpSpPr>
          <p:grpSpPr>
            <a:xfrm>
              <a:off x="2411640" y="4876920"/>
              <a:ext cx="4348800" cy="609480"/>
              <a:chOff x="2411640" y="4876920"/>
              <a:chExt cx="4348800" cy="609480"/>
            </a:xfrm>
          </p:grpSpPr>
          <p:sp>
            <p:nvSpPr>
              <p:cNvPr id="1641" name=""/>
              <p:cNvSpPr/>
              <p:nvPr/>
            </p:nvSpPr>
            <p:spPr>
              <a:xfrm>
                <a:off x="2438280" y="4876920"/>
                <a:ext cx="4267080" cy="609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99"/>
                  </a:gs>
                  <a:gs pos="50000">
                    <a:srgbClr val="ffff00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411640" y="4952880"/>
                <a:ext cx="434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quação de Transporte Ger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0" y="5562720"/>
              <a:ext cx="9143640" cy="990360"/>
              <a:chOff x="0" y="5562720"/>
              <a:chExt cx="9143640" cy="990360"/>
            </a:xfrm>
          </p:grpSpPr>
          <p:sp>
            <p:nvSpPr>
              <p:cNvPr id="1644" name=""/>
              <p:cNvSpPr/>
              <p:nvPr/>
            </p:nvSpPr>
            <p:spPr>
              <a:xfrm>
                <a:off x="0" y="5562720"/>
                <a:ext cx="9143640" cy="990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45" name=""/>
                  <p:cNvSpPr txBox="1"/>
                  <p:nvPr/>
                </p:nvSpPr>
                <p:spPr>
                  <a:xfrm>
                    <a:off x="78840" y="5638680"/>
                    <a:ext cx="9064800" cy="91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χ</m:t>
                        </m:r>
                        <m:sSub>
                          <m:e>
                            <m:r>
                              <m:t xml:space="preserve">&gt;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χ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sSub>
                          <m:e>
                            <m:r>
                              <m:t xml:space="preserve">&gt;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&lt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b>
                        </m:sSub>
                        <m:r>
                          <m:t xml:space="preserve">χ</m:t>
                        </m:r>
                        <m:sSub>
                          <m:e>
                            <m:r>
                              <m:t xml:space="preserve">&gt;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α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t xml:space="preserve">χ</m:t>
                                    </m:r>
                                    <m:sSub>
                                      <m:e>
                                        <m:r>
                                          <m:t xml:space="preserve">&gt;</m:t>
                                        </m:r>
                                      </m:e>
                                      <m:sub>
                                        <m:r>
                                          <m:t xml:space="preserve">α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δt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646" name=""/>
          <p:cNvGrpSpPr/>
          <p:nvPr/>
        </p:nvGrpSpPr>
        <p:grpSpPr>
          <a:xfrm>
            <a:off x="685800" y="1676520"/>
            <a:ext cx="7772400" cy="2895480"/>
            <a:chOff x="685800" y="1676520"/>
            <a:chExt cx="7772400" cy="2895480"/>
          </a:xfrm>
        </p:grpSpPr>
        <p:sp>
          <p:nvSpPr>
            <p:cNvPr id="1647" name=""/>
            <p:cNvSpPr/>
            <p:nvPr/>
          </p:nvSpPr>
          <p:spPr>
            <a:xfrm>
              <a:off x="685800" y="1676520"/>
              <a:ext cx="7772400" cy="289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8" name=""/>
                <p:cNvSpPr txBox="1"/>
                <p:nvPr/>
              </p:nvSpPr>
              <p:spPr>
                <a:xfrm>
                  <a:off x="761760" y="1828800"/>
                  <a:ext cx="7391520" cy="124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χ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,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t</m:t>
                              </m:r>
                            </m:den>
                          </m:f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v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χ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∇</m:t>
                              </m:r>
                            </m:e>
                            <m:sub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sub>
                          </m:s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(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v</m:t>
                          </m:r>
                        </m:e>
                      </m:nary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9" name=""/>
                <p:cNvSpPr txBox="1"/>
                <p:nvPr/>
              </p:nvSpPr>
              <p:spPr>
                <a:xfrm>
                  <a:off x="1676160" y="3200400"/>
                  <a:ext cx="6782040" cy="126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t xml:space="preserve">v</m:t>
                          </m:r>
                        </m:sub>
                        <m:sup/>
                        <m:e>
                          <m:r>
                            <m:t xml:space="preserve">χ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∇</m:t>
                              </m:r>
                            </m:e>
                            <m:sub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</m:sub>
                          </m:s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(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v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χ</m:t>
                          </m:r>
                          <m:sSub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f</m:t>
                                          </m:r>
                                        </m:e>
                                        <m:sub>
                                          <m:r>
                                            <m:t xml:space="preserve">α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</m:acc>
                                      <m:r>
                                        <m:t xml:space="preserve">,</m:t>
                                      </m:r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</m:acc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δt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ol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v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983680" y="457200"/>
            <a:ext cx="34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 Estado de Equilíb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28600" y="1219320"/>
            <a:ext cx="8610480" cy="541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0880" y="144792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unção de Distribuição de Equilíbri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é a Solução Independente do Tempo da Equação de Boltzmann na Ausência de Forças Externas. É conhecida co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unção de Distribuição de Velocidades de Maxwell-Boltzm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209680" y="0"/>
            <a:ext cx="4724640" cy="990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057400" y="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Comic Sans MS"/>
              </a:rPr>
              <a:t>Capítulo-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 Estado de Equilí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304920" y="2438280"/>
            <a:ext cx="4419360" cy="1219320"/>
            <a:chOff x="304920" y="2438280"/>
            <a:chExt cx="4419360" cy="1219320"/>
          </a:xfrm>
        </p:grpSpPr>
        <p:sp>
          <p:nvSpPr>
            <p:cNvPr id="1656" name=""/>
            <p:cNvSpPr/>
            <p:nvPr/>
          </p:nvSpPr>
          <p:spPr>
            <a:xfrm>
              <a:off x="304920" y="2438280"/>
              <a:ext cx="4419360" cy="121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c39f"/>
                </a:gs>
                <a:gs pos="5000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7" name=""/>
                <p:cNvSpPr txBox="1"/>
                <p:nvPr/>
              </p:nvSpPr>
              <p:spPr>
                <a:xfrm>
                  <a:off x="456840" y="2495520"/>
                  <a:ext cx="4190760" cy="100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den>
                          </m:f>
                        </m:sup>
                      </m:sSup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58" name=""/>
          <p:cNvGrpSpPr/>
          <p:nvPr/>
        </p:nvGrpSpPr>
        <p:grpSpPr>
          <a:xfrm>
            <a:off x="4876920" y="2438280"/>
            <a:ext cx="3809880" cy="1219320"/>
            <a:chOff x="4876920" y="2438280"/>
            <a:chExt cx="3809880" cy="1219320"/>
          </a:xfrm>
        </p:grpSpPr>
        <p:sp>
          <p:nvSpPr>
            <p:cNvPr id="1659" name=""/>
            <p:cNvSpPr/>
            <p:nvPr/>
          </p:nvSpPr>
          <p:spPr>
            <a:xfrm>
              <a:off x="4876920" y="2438280"/>
              <a:ext cx="3809880" cy="121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c39f"/>
                </a:gs>
                <a:gs pos="5000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0" name=""/>
                <p:cNvSpPr txBox="1"/>
                <p:nvPr/>
              </p:nvSpPr>
              <p:spPr>
                <a:xfrm>
                  <a:off x="4952880" y="2590920"/>
                  <a:ext cx="3657240" cy="90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den>
                          </m:f>
                        </m:sup>
                      </m:sSup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1" name=""/>
          <p:cNvGrpSpPr/>
          <p:nvPr/>
        </p:nvGrpSpPr>
        <p:grpSpPr>
          <a:xfrm>
            <a:off x="914400" y="3733920"/>
            <a:ext cx="7391520" cy="2971800"/>
            <a:chOff x="914400" y="3733920"/>
            <a:chExt cx="7391520" cy="2971800"/>
          </a:xfrm>
        </p:grpSpPr>
        <p:sp>
          <p:nvSpPr>
            <p:cNvPr id="1662" name=""/>
            <p:cNvSpPr/>
            <p:nvPr/>
          </p:nvSpPr>
          <p:spPr>
            <a:xfrm>
              <a:off x="914400" y="3733920"/>
              <a:ext cx="7391520" cy="2971800"/>
            </a:xfrm>
            <a:prstGeom prst="horizontalScroll">
              <a:avLst>
                <a:gd name="adj" fmla="val 6675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911560" y="457200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Para i =x, y e 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64" name=""/>
            <p:cNvGraphicFramePr/>
            <p:nvPr/>
          </p:nvGraphicFramePr>
          <p:xfrm>
            <a:off x="1371600" y="4191120"/>
            <a:ext cx="228600" cy="22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419112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66" name=""/>
                <p:cNvSpPr txBox="1"/>
                <p:nvPr/>
              </p:nvSpPr>
              <p:spPr>
                <a:xfrm>
                  <a:off x="1752480" y="3886200"/>
                  <a:ext cx="320040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667" name=""/>
            <p:cNvGraphicFramePr/>
            <p:nvPr/>
          </p:nvGraphicFramePr>
          <p:xfrm>
            <a:off x="1371600" y="5105520"/>
            <a:ext cx="22860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1600" y="510552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69" name=""/>
                <p:cNvSpPr txBox="1"/>
                <p:nvPr/>
              </p:nvSpPr>
              <p:spPr>
                <a:xfrm>
                  <a:off x="1752480" y="4876920"/>
                  <a:ext cx="341640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T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670" name=""/>
            <p:cNvGraphicFramePr/>
            <p:nvPr/>
          </p:nvGraphicFramePr>
          <p:xfrm>
            <a:off x="1371600" y="5867640"/>
            <a:ext cx="22860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71600" y="586764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2" name=""/>
            <p:cNvSpPr/>
            <p:nvPr/>
          </p:nvSpPr>
          <p:spPr>
            <a:xfrm>
              <a:off x="1491840" y="5791320"/>
              <a:ext cx="408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Teorema da Equipartição de Energ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3" name=""/>
                <p:cNvSpPr txBox="1"/>
                <p:nvPr/>
              </p:nvSpPr>
              <p:spPr>
                <a:xfrm>
                  <a:off x="5791320" y="5562720"/>
                  <a:ext cx="20574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&lt;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k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0" y="152280"/>
            <a:ext cx="8991720" cy="670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93360" y="30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ação da Continu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6" name=""/>
          <p:cNvGraphicFramePr/>
          <p:nvPr/>
        </p:nvGraphicFramePr>
        <p:xfrm>
          <a:off x="533520" y="380880"/>
          <a:ext cx="22860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8" name=""/>
          <p:cNvGrpSpPr/>
          <p:nvPr/>
        </p:nvGrpSpPr>
        <p:grpSpPr>
          <a:xfrm>
            <a:off x="228600" y="2286000"/>
            <a:ext cx="6046560" cy="368280"/>
            <a:chOff x="228600" y="2286000"/>
            <a:chExt cx="6046560" cy="368280"/>
          </a:xfrm>
        </p:grpSpPr>
        <p:sp>
          <p:nvSpPr>
            <p:cNvPr id="1679" name=""/>
            <p:cNvSpPr/>
            <p:nvPr/>
          </p:nvSpPr>
          <p:spPr>
            <a:xfrm>
              <a:off x="329040" y="2286000"/>
              <a:ext cx="59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ação do Momento Linear- Equação do Mov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80" name=""/>
            <p:cNvGraphicFramePr/>
            <p:nvPr/>
          </p:nvGraphicFramePr>
          <p:xfrm>
            <a:off x="228600" y="2362320"/>
            <a:ext cx="22860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236232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82" name=""/>
          <p:cNvGrpSpPr/>
          <p:nvPr/>
        </p:nvGrpSpPr>
        <p:grpSpPr>
          <a:xfrm>
            <a:off x="0" y="2666880"/>
            <a:ext cx="8763120" cy="1676520"/>
            <a:chOff x="0" y="2666880"/>
            <a:chExt cx="8763120" cy="1676520"/>
          </a:xfrm>
        </p:grpSpPr>
        <p:sp>
          <p:nvSpPr>
            <p:cNvPr id="1683" name=""/>
            <p:cNvSpPr/>
            <p:nvPr/>
          </p:nvSpPr>
          <p:spPr>
            <a:xfrm>
              <a:off x="0" y="2666880"/>
              <a:ext cx="8763120" cy="167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4" name=""/>
                <p:cNvSpPr txBox="1"/>
                <p:nvPr/>
              </p:nvSpPr>
              <p:spPr>
                <a:xfrm>
                  <a:off x="76320" y="3352680"/>
                  <a:ext cx="868680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mα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∂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+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∇</m:t>
                          </m:r>
                        </m:e>
                      </m:d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mα</m:t>
                          </m:r>
                        </m:sub>
                      </m:sSub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mα</m:t>
                          </m:r>
                        </m:sub>
                      </m:sSub>
                      <m:acc>
                        <m:accPr>
                          <m:chr m:val="⃗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℘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5" name=""/>
                <p:cNvSpPr txBox="1"/>
                <p:nvPr/>
              </p:nvSpPr>
              <p:spPr>
                <a:xfrm>
                  <a:off x="1981080" y="2666880"/>
                  <a:ext cx="167652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6" name=""/>
                <p:cNvSpPr txBox="1"/>
                <p:nvPr/>
              </p:nvSpPr>
              <p:spPr>
                <a:xfrm>
                  <a:off x="304920" y="2666880"/>
                  <a:ext cx="11430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χ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7" name=""/>
          <p:cNvGrpSpPr/>
          <p:nvPr/>
        </p:nvGrpSpPr>
        <p:grpSpPr>
          <a:xfrm>
            <a:off x="1600200" y="685800"/>
            <a:ext cx="5029200" cy="1447920"/>
            <a:chOff x="1600200" y="685800"/>
            <a:chExt cx="5029200" cy="1447920"/>
          </a:xfrm>
        </p:grpSpPr>
        <p:sp>
          <p:nvSpPr>
            <p:cNvPr id="1688" name=""/>
            <p:cNvSpPr/>
            <p:nvPr/>
          </p:nvSpPr>
          <p:spPr>
            <a:xfrm>
              <a:off x="1600200" y="685800"/>
              <a:ext cx="5029200" cy="1447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9" name=""/>
                <p:cNvSpPr txBox="1"/>
                <p:nvPr/>
              </p:nvSpPr>
              <p:spPr>
                <a:xfrm>
                  <a:off x="2514600" y="1219320"/>
                  <a:ext cx="3352680" cy="88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t xml:space="preserve">mα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mα</m:t>
                          </m:r>
                        </m:sub>
                      </m:sSub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0" name=""/>
                <p:cNvSpPr txBox="1"/>
                <p:nvPr/>
              </p:nvSpPr>
              <p:spPr>
                <a:xfrm>
                  <a:off x="1752480" y="685800"/>
                  <a:ext cx="114300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χ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1" name=""/>
          <p:cNvGrpSpPr/>
          <p:nvPr/>
        </p:nvGrpSpPr>
        <p:grpSpPr>
          <a:xfrm>
            <a:off x="228600" y="4495680"/>
            <a:ext cx="2491920" cy="368280"/>
            <a:chOff x="228600" y="4495680"/>
            <a:chExt cx="2491920" cy="368280"/>
          </a:xfrm>
        </p:grpSpPr>
        <p:sp>
          <p:nvSpPr>
            <p:cNvPr id="1692" name=""/>
            <p:cNvSpPr/>
            <p:nvPr/>
          </p:nvSpPr>
          <p:spPr>
            <a:xfrm>
              <a:off x="419760" y="449568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ação da Energ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93" name=""/>
            <p:cNvGraphicFramePr/>
            <p:nvPr/>
          </p:nvGraphicFramePr>
          <p:xfrm>
            <a:off x="228600" y="4572000"/>
            <a:ext cx="22860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95" name=""/>
          <p:cNvGrpSpPr/>
          <p:nvPr/>
        </p:nvGrpSpPr>
        <p:grpSpPr>
          <a:xfrm>
            <a:off x="380880" y="5029200"/>
            <a:ext cx="8153640" cy="1523880"/>
            <a:chOff x="380880" y="5029200"/>
            <a:chExt cx="8153640" cy="1523880"/>
          </a:xfrm>
        </p:grpSpPr>
        <p:sp>
          <p:nvSpPr>
            <p:cNvPr id="1696" name=""/>
            <p:cNvSpPr/>
            <p:nvPr/>
          </p:nvSpPr>
          <p:spPr>
            <a:xfrm>
              <a:off x="380880" y="5029200"/>
              <a:ext cx="8153640" cy="152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7" name=""/>
                <p:cNvSpPr txBox="1"/>
                <p:nvPr/>
              </p:nvSpPr>
              <p:spPr>
                <a:xfrm>
                  <a:off x="762120" y="5715000"/>
                  <a:ext cx="74674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℘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t xml:space="preserve">+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</m:e>
                      </m:acc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8" name=""/>
                <p:cNvSpPr txBox="1"/>
                <p:nvPr/>
              </p:nvSpPr>
              <p:spPr>
                <a:xfrm>
                  <a:off x="609480" y="5105520"/>
                  <a:ext cx="9144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χ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9" name=""/>
          <p:cNvGrpSpPr/>
          <p:nvPr/>
        </p:nvGrpSpPr>
        <p:grpSpPr>
          <a:xfrm>
            <a:off x="152280" y="685800"/>
            <a:ext cx="8717040" cy="1600200"/>
            <a:chOff x="152280" y="685800"/>
            <a:chExt cx="8717040" cy="1600200"/>
          </a:xfrm>
        </p:grpSpPr>
        <p:sp>
          <p:nvSpPr>
            <p:cNvPr id="1700" name=""/>
            <p:cNvSpPr/>
            <p:nvPr/>
          </p:nvSpPr>
          <p:spPr>
            <a:xfrm>
              <a:off x="152280" y="685800"/>
              <a:ext cx="838188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8600" y="762120"/>
              <a:ext cx="8640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3300"/>
                  </a:solidFill>
                  <a:latin typeface="Comic Sans MS"/>
                  <a:ea typeface="Times New Roman"/>
                </a:rPr>
                <a:t>Ondas de Alfvén:</a:t>
              </a: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erturbação no plasma condutor e imerso num campo magnético faz com que as linhas de campo magnético oscileper pendicular-mente, como se fossem cordas elásticas. As ondas de Alfvén propagam-se ao longo do campo magnético, e o fluxo de plasma é perpendicular às linhas de indução magnétic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2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267080" cy="403092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  <p:grpSp>
        <p:nvGrpSpPr>
          <p:cNvPr id="1703" name=""/>
          <p:cNvGrpSpPr/>
          <p:nvPr/>
        </p:nvGrpSpPr>
        <p:grpSpPr>
          <a:xfrm>
            <a:off x="-34560" y="0"/>
            <a:ext cx="4835160" cy="537840"/>
            <a:chOff x="-34560" y="0"/>
            <a:chExt cx="4835160" cy="537840"/>
          </a:xfrm>
        </p:grpSpPr>
        <p:sp>
          <p:nvSpPr>
            <p:cNvPr id="1704" name=""/>
            <p:cNvSpPr/>
            <p:nvPr/>
          </p:nvSpPr>
          <p:spPr>
            <a:xfrm>
              <a:off x="-34560" y="0"/>
              <a:ext cx="48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Ondas Magneto-Hidrodinâm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5" name=""/>
            <p:cNvGraphicFramePr/>
            <p:nvPr/>
          </p:nvGraphicFramePr>
          <p:xfrm rot="10800000">
            <a:off x="0" y="456480"/>
            <a:ext cx="4648320" cy="8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0" y="456480"/>
                      <a:ext cx="4648320" cy="8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7" name=""/>
          <p:cNvGrpSpPr/>
          <p:nvPr/>
        </p:nvGrpSpPr>
        <p:grpSpPr>
          <a:xfrm>
            <a:off x="42840" y="152280"/>
            <a:ext cx="9080640" cy="1143000"/>
            <a:chOff x="42840" y="152280"/>
            <a:chExt cx="9080640" cy="1143000"/>
          </a:xfrm>
        </p:grpSpPr>
        <p:sp>
          <p:nvSpPr>
            <p:cNvPr id="1708" name=""/>
            <p:cNvSpPr/>
            <p:nvPr/>
          </p:nvSpPr>
          <p:spPr>
            <a:xfrm>
              <a:off x="228600" y="152280"/>
              <a:ext cx="868680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2840" y="304560"/>
              <a:ext cx="9080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  <a:ea typeface="Times New Roman"/>
                </a:rPr>
                <a:t>Ondas Sonoras: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 São ondas Sonoras em um plasma condutor e imerso num camp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magnético.São ondas longitudinais que geram regiões de compressão e raref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no plasm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486400" cy="340992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"/>
          <p:cNvGrpSpPr/>
          <p:nvPr/>
        </p:nvGrpSpPr>
        <p:grpSpPr>
          <a:xfrm>
            <a:off x="152280" y="152280"/>
            <a:ext cx="8991720" cy="2090160"/>
            <a:chOff x="152280" y="152280"/>
            <a:chExt cx="8991720" cy="2090160"/>
          </a:xfrm>
        </p:grpSpPr>
        <p:sp>
          <p:nvSpPr>
            <p:cNvPr id="1712" name=""/>
            <p:cNvSpPr/>
            <p:nvPr/>
          </p:nvSpPr>
          <p:spPr>
            <a:xfrm>
              <a:off x="152280" y="152280"/>
              <a:ext cx="8839440" cy="12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2280" y="228240"/>
              <a:ext cx="8991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3300"/>
                  </a:solidFill>
                  <a:latin typeface="Comic Sans MS"/>
                  <a:ea typeface="Times New Roman"/>
                </a:rPr>
                <a:t>Ondas Magneto-Sônicas: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 São ondas longitudinais que se propagam perpendicula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Mente às linhas de campo magnético, provocando compressões e rarefações tan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do plasma quanto das linhas de campo magnético. As ondas rápida e lenta são com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ressivas e geram choqu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501336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5" name="" descr=""/>
          <p:cNvPicPr/>
          <p:nvPr/>
        </p:nvPicPr>
        <p:blipFill>
          <a:blip r:embed="rId1"/>
          <a:stretch/>
        </p:blipFill>
        <p:spPr>
          <a:xfrm>
            <a:off x="2192400" y="533520"/>
            <a:ext cx="4333680" cy="571500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848720" cy="5749920"/>
          </a:xfrm>
          <a:prstGeom prst="rect">
            <a:avLst/>
          </a:prstGeom>
          <a:ln w="0">
            <a:noFill/>
          </a:ln>
        </p:spPr>
      </p:pic>
      <p:pic>
        <p:nvPicPr>
          <p:cNvPr id="1717" name="" descr=""/>
          <p:cNvPicPr/>
          <p:nvPr/>
        </p:nvPicPr>
        <p:blipFill>
          <a:blip r:embed="rId3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152280"/>
            <a:ext cx="3733920" cy="3240000"/>
            <a:chOff x="228600" y="152280"/>
            <a:chExt cx="3733920" cy="324000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685440"/>
              <a:ext cx="3733920" cy="2706840"/>
            </a:xfrm>
            <a:prstGeom prst="rect">
              <a:avLst/>
            </a:prstGeom>
            <a:ln w="0">
              <a:noFill/>
            </a:ln>
            <a:effectLst>
              <a:outerShdw dist="52300" dir="836435" blurRad="0" rotWithShape="0">
                <a:srgbClr val="808080"/>
              </a:outerShdw>
            </a:effectLst>
          </p:spPr>
        </p:pic>
        <p:sp>
          <p:nvSpPr>
            <p:cNvPr id="78" name=""/>
            <p:cNvSpPr/>
            <p:nvPr/>
          </p:nvSpPr>
          <p:spPr>
            <a:xfrm>
              <a:off x="914400" y="152280"/>
              <a:ext cx="2362320" cy="45720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Plasma Solar ou Vento Sol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endo Expelido pelo 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228600"/>
            <a:ext cx="3733560" cy="3924360"/>
            <a:chOff x="5105520" y="228600"/>
            <a:chExt cx="3733560" cy="39243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5562720" y="1295280"/>
              <a:ext cx="2857320" cy="2857680"/>
            </a:xfrm>
            <a:prstGeom prst="rect">
              <a:avLst/>
            </a:prstGeom>
            <a:ln w="0">
              <a:noFill/>
            </a:ln>
            <a:effectLst>
              <a:outerShdw dist="52300" dir="836435" blurRad="0" rotWithShape="0">
                <a:srgbClr val="808080"/>
              </a:outerShdw>
            </a:effectLst>
          </p:spPr>
        </p:pic>
        <p:sp>
          <p:nvSpPr>
            <p:cNvPr id="81" name=""/>
            <p:cNvSpPr/>
            <p:nvPr/>
          </p:nvSpPr>
          <p:spPr>
            <a:xfrm>
              <a:off x="5105520" y="228600"/>
              <a:ext cx="3733560" cy="91440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Comic Sans MS"/>
                </a:rPr>
                <a:t>Lua de Júpiter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, chamada </a:t>
              </a:r>
              <a:r>
                <a:rPr b="1" lang="en-US" sz="1200" spc="-1" strike="noStrike">
                  <a:solidFill>
                    <a:srgbClr val="ff3300"/>
                  </a:solidFill>
                  <a:latin typeface="Comic Sans MS"/>
                </a:rPr>
                <a:t>IO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, expele material vulcânico em direção ao espaço. Esse material contribui para o Plasma das vizinhanças do Planeta Júpit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3581280"/>
            <a:ext cx="5715000" cy="3071880"/>
            <a:chOff x="304920" y="3581280"/>
            <a:chExt cx="5715000" cy="307188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304920" y="3581280"/>
              <a:ext cx="3314520" cy="30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809880" y="4572000"/>
              <a:ext cx="2210040" cy="144792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Comic Sans MS"/>
                </a:rPr>
                <a:t>Auroras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Também Existem no Planeta Júpiter. As auroras são aspectos da interação entre o vento solar e as magnetosferas planetária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8" name=""/>
          <p:cNvGraphicFramePr/>
          <p:nvPr/>
        </p:nvGraphicFramePr>
        <p:xfrm>
          <a:off x="304920" y="762120"/>
          <a:ext cx="8534160" cy="44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0" name=""/>
          <p:cNvSpPr/>
          <p:nvPr/>
        </p:nvSpPr>
        <p:spPr>
          <a:xfrm>
            <a:off x="2895480" y="2209680"/>
            <a:ext cx="3353040" cy="10083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F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457200" y="1676520"/>
            <a:ext cx="3200400" cy="3687120"/>
            <a:chOff x="457200" y="1676520"/>
            <a:chExt cx="3200400" cy="368712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57200" y="2209680"/>
              <a:ext cx="3144960" cy="3153960"/>
            </a:xfrm>
            <a:prstGeom prst="rect">
              <a:avLst/>
            </a:prstGeom>
            <a:ln w="0">
              <a:noFill/>
            </a:ln>
            <a:effectLst>
              <a:outerShdw dist="52300" dir="836435" blurRad="0" rotWithShape="0">
                <a:srgbClr val="808080"/>
              </a:outerShdw>
            </a:effectLst>
          </p:spPr>
        </p:pic>
        <p:sp>
          <p:nvSpPr>
            <p:cNvPr id="87" name=""/>
            <p:cNvSpPr/>
            <p:nvPr/>
          </p:nvSpPr>
          <p:spPr>
            <a:xfrm>
              <a:off x="457200" y="1676520"/>
              <a:ext cx="3200400" cy="45684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uroras Também Existem no Planeta Saturn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952880" y="1523880"/>
            <a:ext cx="3200400" cy="3970440"/>
            <a:chOff x="4952880" y="1523880"/>
            <a:chExt cx="3200400" cy="39704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5029200" y="2514600"/>
              <a:ext cx="3086280" cy="2979720"/>
            </a:xfrm>
            <a:prstGeom prst="rect">
              <a:avLst/>
            </a:prstGeom>
            <a:ln w="0">
              <a:noFill/>
            </a:ln>
            <a:effectLst>
              <a:outerShdw dist="52300" dir="836435" blurRad="0" rotWithShape="0">
                <a:srgbClr val="808080"/>
              </a:outerShdw>
            </a:effectLst>
          </p:spPr>
        </p:pic>
        <p:sp>
          <p:nvSpPr>
            <p:cNvPr id="90" name=""/>
            <p:cNvSpPr/>
            <p:nvPr/>
          </p:nvSpPr>
          <p:spPr>
            <a:xfrm>
              <a:off x="4952880" y="1523880"/>
              <a:ext cx="3200400" cy="91440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omic Sans MS"/>
                </a:rPr>
                <a:t>Explosão de uma Estrela Captada pelo </a:t>
              </a:r>
              <a:r>
                <a:rPr b="1" lang="pt-BR" sz="1200" spc="-1" strike="noStrike">
                  <a:solidFill>
                    <a:srgbClr val="ff3300"/>
                  </a:solidFill>
                  <a:latin typeface="Comic Sans MS"/>
                </a:rPr>
                <a:t>Telescópio Espacial Hubble</a:t>
              </a:r>
              <a:r>
                <a:rPr b="1" lang="pt-BR" sz="1200" spc="-1" strike="noStrike">
                  <a:solidFill>
                    <a:srgbClr val="000000"/>
                  </a:solidFill>
                  <a:latin typeface="Comic Sans MS"/>
                </a:rPr>
                <a:t>. Vejam os plasmas superaquecidos e incandescent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28600" y="152280"/>
            <a:ext cx="4114800" cy="3505320"/>
            <a:chOff x="228600" y="152280"/>
            <a:chExt cx="4114800" cy="350532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4114800" cy="2971800"/>
            </a:xfrm>
            <a:prstGeom prst="rect">
              <a:avLst/>
            </a:prstGeom>
            <a:ln w="0">
              <a:noFill/>
            </a:ln>
            <a:effectLst>
              <a:outerShdw dist="64600" dir="674838" blurRad="0" rotWithShape="0">
                <a:srgbClr val="808080"/>
              </a:outerShdw>
            </a:effectLst>
          </p:spPr>
        </p:pic>
        <p:sp>
          <p:nvSpPr>
            <p:cNvPr id="93" name=""/>
            <p:cNvSpPr/>
            <p:nvPr/>
          </p:nvSpPr>
          <p:spPr>
            <a:xfrm>
              <a:off x="228600" y="152280"/>
              <a:ext cx="2819160" cy="53352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3300"/>
                  </a:solidFill>
                  <a:latin typeface="Comic Sans MS"/>
                </a:rPr>
                <a:t>Tokamak Esférico do INPE</a:t>
              </a:r>
              <a:r>
                <a:rPr b="1" lang="pt-BR" sz="1200" spc="-1" strike="noStrike">
                  <a:solidFill>
                    <a:srgbClr val="000000"/>
                  </a:solidFill>
                  <a:latin typeface="Comic Sans MS"/>
                </a:rPr>
                <a:t> para a geração de Plasm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105520" y="457200"/>
            <a:ext cx="3365280" cy="2781360"/>
            <a:chOff x="5105520" y="457200"/>
            <a:chExt cx="3365280" cy="278136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105520" y="1066680"/>
              <a:ext cx="3365280" cy="2171880"/>
            </a:xfrm>
            <a:prstGeom prst="rect">
              <a:avLst/>
            </a:prstGeom>
            <a:ln w="0">
              <a:noFill/>
            </a:ln>
            <a:effectLst>
              <a:outerShdw dist="52300" dir="836435" blurRad="0" rotWithShape="0">
                <a:srgbClr val="808080"/>
              </a:outerShdw>
            </a:effectLst>
          </p:spPr>
        </p:pic>
        <p:sp>
          <p:nvSpPr>
            <p:cNvPr id="96" name=""/>
            <p:cNvSpPr/>
            <p:nvPr/>
          </p:nvSpPr>
          <p:spPr>
            <a:xfrm>
              <a:off x="5181480" y="457200"/>
              <a:ext cx="3200400" cy="76212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Comic Sans MS"/>
                </a:rPr>
                <a:t>Propulsor Iônico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para ser usado em satélites, e sondas espaciais. Ejeção de um feixe de íon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00400" y="3886200"/>
            <a:ext cx="3352680" cy="2819520"/>
            <a:chOff x="3200400" y="3886200"/>
            <a:chExt cx="3352680" cy="281952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3200400" y="4648320"/>
              <a:ext cx="3352680" cy="2057400"/>
            </a:xfrm>
            <a:prstGeom prst="rect">
              <a:avLst/>
            </a:prstGeom>
            <a:ln w="0">
              <a:noFill/>
            </a:ln>
            <a:effectLst>
              <a:outerShdw dist="64600" dir="674838" blurRad="0" rotWithShape="0">
                <a:srgbClr val="808080"/>
              </a:outerShdw>
            </a:effectLst>
          </p:spPr>
        </p:pic>
        <p:sp>
          <p:nvSpPr>
            <p:cNvPr id="99" name=""/>
            <p:cNvSpPr/>
            <p:nvPr/>
          </p:nvSpPr>
          <p:spPr>
            <a:xfrm>
              <a:off x="3200400" y="3886200"/>
              <a:ext cx="3352680" cy="685800"/>
            </a:xfrm>
            <a:prstGeom prst="flowChartAlternateProcess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4600" dir="67483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omic Sans MS"/>
                </a:rPr>
                <a:t>Dispositivo de propulsão baseado em Plasma chamado </a:t>
              </a:r>
              <a:r>
                <a:rPr b="1" lang="pt-BR" sz="1200" spc="-1" strike="noStrike">
                  <a:solidFill>
                    <a:srgbClr val="ff3300"/>
                  </a:solidFill>
                  <a:latin typeface="Comic Sans MS"/>
                </a:rPr>
                <a:t>Sistema Mini-Magnetosférico de Propulsão de Plasma</a:t>
              </a:r>
              <a:r>
                <a:rPr b="1" lang="pt-BR" sz="1200" spc="-1" strike="noStrike">
                  <a:solidFill>
                    <a:srgbClr val="0000ff"/>
                  </a:solidFill>
                  <a:latin typeface="Comic Sans MS"/>
                </a:rPr>
                <a:t>.</a:t>
              </a:r>
              <a:r>
                <a:rPr b="1" lang="pt-B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14120" y="2819520"/>
            <a:ext cx="4542480" cy="456840"/>
            <a:chOff x="114120" y="2819520"/>
            <a:chExt cx="4542480" cy="456840"/>
          </a:xfrm>
        </p:grpSpPr>
        <p:graphicFrame>
          <p:nvGraphicFramePr>
            <p:cNvPr id="101" name=""/>
            <p:cNvGraphicFramePr/>
            <p:nvPr/>
          </p:nvGraphicFramePr>
          <p:xfrm rot="10800000">
            <a:off x="152280" y="3124080"/>
            <a:ext cx="4495680" cy="15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152280" y="3124080"/>
                      <a:ext cx="4495680" cy="15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114120" y="2819520"/>
              <a:ext cx="454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ritérios para a Definição de um Plas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8600" y="914400"/>
            <a:ext cx="8305920" cy="1218960"/>
            <a:chOff x="228600" y="914400"/>
            <a:chExt cx="8305920" cy="1218960"/>
          </a:xfrm>
        </p:grpSpPr>
        <p:grpSp>
          <p:nvGrpSpPr>
            <p:cNvPr id="105" name=""/>
            <p:cNvGrpSpPr/>
            <p:nvPr/>
          </p:nvGrpSpPr>
          <p:grpSpPr>
            <a:xfrm>
              <a:off x="228600" y="914400"/>
              <a:ext cx="7848720" cy="1218960"/>
              <a:chOff x="228600" y="914400"/>
              <a:chExt cx="7848720" cy="121896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600" y="914400"/>
                <a:ext cx="7848720" cy="121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7" name=""/>
              <p:cNvGraphicFramePr/>
              <p:nvPr/>
            </p:nvGraphicFramePr>
            <p:xfrm>
              <a:off x="304920" y="1143000"/>
              <a:ext cx="228600" cy="22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4920" y="1143000"/>
                        <a:ext cx="22860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9" name=""/>
            <p:cNvSpPr/>
            <p:nvPr/>
          </p:nvSpPr>
          <p:spPr>
            <a:xfrm>
              <a:off x="533520" y="106668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lasma é um gás ionizado (por foto-ionização ou por descarga elétrica (colisões), por exemplo) que possui elétrons, íons positivos, prótons e partículas eletricamente neutras. Apresen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152280"/>
            <a:ext cx="4495680" cy="457200"/>
            <a:chOff x="152280" y="152280"/>
            <a:chExt cx="4495680" cy="457200"/>
          </a:xfrm>
        </p:grpSpPr>
        <p:graphicFrame>
          <p:nvGraphicFramePr>
            <p:cNvPr id="111" name=""/>
            <p:cNvGraphicFramePr/>
            <p:nvPr/>
          </p:nvGraphicFramePr>
          <p:xfrm rot="10800000">
            <a:off x="152280" y="456480"/>
            <a:ext cx="4495680" cy="152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10800000">
                      <a:off x="152280" y="456480"/>
                      <a:ext cx="4495680" cy="15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153720" y="152280"/>
              <a:ext cx="42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sma – O Quarto Estado da Maté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280" y="3505320"/>
            <a:ext cx="7543800" cy="2590560"/>
            <a:chOff x="152280" y="3505320"/>
            <a:chExt cx="7543800" cy="2590560"/>
          </a:xfrm>
        </p:grpSpPr>
        <p:sp>
          <p:nvSpPr>
            <p:cNvPr id="115" name=""/>
            <p:cNvSpPr/>
            <p:nvPr/>
          </p:nvSpPr>
          <p:spPr>
            <a:xfrm>
              <a:off x="152280" y="3505320"/>
              <a:ext cx="7543800" cy="25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304920" y="4800600"/>
              <a:ext cx="5500080" cy="368280"/>
              <a:chOff x="304920" y="4800600"/>
              <a:chExt cx="5500080" cy="368280"/>
            </a:xfrm>
          </p:grpSpPr>
          <p:graphicFrame>
            <p:nvGraphicFramePr>
              <p:cNvPr id="117" name=""/>
              <p:cNvGraphicFramePr/>
              <p:nvPr/>
            </p:nvGraphicFramePr>
            <p:xfrm>
              <a:off x="304920" y="4875120"/>
              <a:ext cx="228600" cy="228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04920" y="4875120"/>
                        <a:ext cx="22860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" name=""/>
              <p:cNvSpPr/>
              <p:nvPr/>
            </p:nvSpPr>
            <p:spPr>
              <a:xfrm>
                <a:off x="471600" y="4800600"/>
                <a:ext cx="533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utralidade Macroscópica de Cargas Elétricas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04920" y="3733920"/>
              <a:ext cx="2646360" cy="368280"/>
              <a:chOff x="304920" y="3733920"/>
              <a:chExt cx="2646360" cy="368280"/>
            </a:xfrm>
          </p:grpSpPr>
          <p:graphicFrame>
            <p:nvGraphicFramePr>
              <p:cNvPr id="121" name=""/>
              <p:cNvGraphicFramePr/>
              <p:nvPr/>
            </p:nvGraphicFramePr>
            <p:xfrm>
              <a:off x="304920" y="3808440"/>
              <a:ext cx="228600" cy="228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920" y="3808440"/>
                        <a:ext cx="228600" cy="22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" name=""/>
              <p:cNvSpPr/>
              <p:nvPr/>
            </p:nvSpPr>
            <p:spPr>
              <a:xfrm>
                <a:off x="416160" y="3733920"/>
                <a:ext cx="253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lindagem de Deby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04920" y="4267080"/>
              <a:ext cx="2723040" cy="368280"/>
              <a:chOff x="304920" y="4267080"/>
              <a:chExt cx="2723040" cy="368280"/>
            </a:xfrm>
          </p:grpSpPr>
          <p:graphicFrame>
            <p:nvGraphicFramePr>
              <p:cNvPr id="125" name=""/>
              <p:cNvGraphicFramePr/>
              <p:nvPr/>
            </p:nvGraphicFramePr>
            <p:xfrm>
              <a:off x="304920" y="4341960"/>
              <a:ext cx="228240" cy="2286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26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04920" y="4341960"/>
                        <a:ext cx="22824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"/>
              <p:cNvSpPr/>
              <p:nvPr/>
            </p:nvSpPr>
            <p:spPr>
              <a:xfrm>
                <a:off x="413280" y="4267080"/>
                <a:ext cx="26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arâmetro de Plasma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4920" y="5257800"/>
              <a:ext cx="2765160" cy="368280"/>
              <a:chOff x="304920" y="5257800"/>
              <a:chExt cx="2765160" cy="368280"/>
            </a:xfrm>
          </p:grpSpPr>
          <p:graphicFrame>
            <p:nvGraphicFramePr>
              <p:cNvPr id="129" name=""/>
              <p:cNvGraphicFramePr/>
              <p:nvPr/>
            </p:nvGraphicFramePr>
            <p:xfrm>
              <a:off x="304920" y="5332680"/>
              <a:ext cx="228600" cy="2286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3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04920" y="5332680"/>
                        <a:ext cx="22860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1" name=""/>
              <p:cNvSpPr/>
              <p:nvPr/>
            </p:nvSpPr>
            <p:spPr>
              <a:xfrm>
                <a:off x="409680" y="5257800"/>
                <a:ext cx="266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reqüência de Plasm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3048120" y="3657600"/>
            <a:ext cx="1523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48120" y="4267080"/>
            <a:ext cx="1523880" cy="465120"/>
            <a:chOff x="3048120" y="4267080"/>
            <a:chExt cx="1523880" cy="465120"/>
          </a:xfrm>
        </p:grpSpPr>
        <p:sp>
          <p:nvSpPr>
            <p:cNvPr id="134" name=""/>
            <p:cNvSpPr/>
            <p:nvPr/>
          </p:nvSpPr>
          <p:spPr>
            <a:xfrm>
              <a:off x="3048120" y="4267080"/>
              <a:ext cx="1523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3276720" y="4267080"/>
                  <a:ext cx="12193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5791320" y="4724280"/>
            <a:ext cx="1523880" cy="511200"/>
            <a:chOff x="5791320" y="4724280"/>
            <a:chExt cx="1523880" cy="511200"/>
          </a:xfrm>
        </p:grpSpPr>
        <p:sp>
          <p:nvSpPr>
            <p:cNvPr id="137" name=""/>
            <p:cNvSpPr/>
            <p:nvPr/>
          </p:nvSpPr>
          <p:spPr>
            <a:xfrm>
              <a:off x="5791320" y="4778280"/>
              <a:ext cx="1523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095880" y="4724280"/>
                  <a:ext cx="990360" cy="4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"/>
          <p:cNvGrpSpPr/>
          <p:nvPr/>
        </p:nvGrpSpPr>
        <p:grpSpPr>
          <a:xfrm>
            <a:off x="3048120" y="5105520"/>
            <a:ext cx="1523880" cy="549000"/>
            <a:chOff x="3048120" y="5105520"/>
            <a:chExt cx="1523880" cy="549000"/>
          </a:xfrm>
        </p:grpSpPr>
        <p:sp>
          <p:nvSpPr>
            <p:cNvPr id="140" name=""/>
            <p:cNvSpPr/>
            <p:nvPr/>
          </p:nvSpPr>
          <p:spPr>
            <a:xfrm>
              <a:off x="3048120" y="5197320"/>
              <a:ext cx="1523880" cy="456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200400" y="5105520"/>
                  <a:ext cx="127620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080" y="2362320"/>
            <a:ext cx="7543800" cy="426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676520" y="990720"/>
            <a:ext cx="2209680" cy="1295280"/>
            <a:chOff x="1676520" y="990720"/>
            <a:chExt cx="2209680" cy="1295280"/>
          </a:xfrm>
        </p:grpSpPr>
        <p:sp>
          <p:nvSpPr>
            <p:cNvPr id="144" name=""/>
            <p:cNvSpPr/>
            <p:nvPr/>
          </p:nvSpPr>
          <p:spPr>
            <a:xfrm>
              <a:off x="1676520" y="990720"/>
              <a:ext cx="2209680" cy="12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752480" y="1143000"/>
                  <a:ext cx="2031480" cy="101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e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" name=""/>
          <p:cNvGrpSpPr/>
          <p:nvPr/>
        </p:nvGrpSpPr>
        <p:grpSpPr>
          <a:xfrm>
            <a:off x="5181480" y="990720"/>
            <a:ext cx="2361960" cy="1295280"/>
            <a:chOff x="5181480" y="990720"/>
            <a:chExt cx="2361960" cy="1295280"/>
          </a:xfrm>
        </p:grpSpPr>
        <p:sp>
          <p:nvSpPr>
            <p:cNvPr id="147" name=""/>
            <p:cNvSpPr/>
            <p:nvPr/>
          </p:nvSpPr>
          <p:spPr>
            <a:xfrm>
              <a:off x="5181480" y="990720"/>
              <a:ext cx="2361960" cy="12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257440" y="1295640"/>
                  <a:ext cx="2210040" cy="89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ε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"/>
          <p:cNvGrpSpPr/>
          <p:nvPr/>
        </p:nvGrpSpPr>
        <p:grpSpPr>
          <a:xfrm>
            <a:off x="1228680" y="2952720"/>
            <a:ext cx="3191040" cy="1747800"/>
            <a:chOff x="1228680" y="2952720"/>
            <a:chExt cx="3191040" cy="1747800"/>
          </a:xfrm>
        </p:grpSpPr>
        <p:sp>
          <p:nvSpPr>
            <p:cNvPr id="150" name=""/>
            <p:cNvSpPr/>
            <p:nvPr/>
          </p:nvSpPr>
          <p:spPr>
            <a:xfrm>
              <a:off x="1228680" y="2952720"/>
              <a:ext cx="3191040" cy="1747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0880" y="3567600"/>
              <a:ext cx="514440" cy="514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666880" y="2438280"/>
            <a:ext cx="4654080" cy="2215800"/>
            <a:chOff x="2666880" y="2438280"/>
            <a:chExt cx="4654080" cy="2215800"/>
          </a:xfrm>
        </p:grpSpPr>
        <p:grpSp>
          <p:nvGrpSpPr>
            <p:cNvPr id="153" name=""/>
            <p:cNvGrpSpPr/>
            <p:nvPr/>
          </p:nvGrpSpPr>
          <p:grpSpPr>
            <a:xfrm>
              <a:off x="4930560" y="2438280"/>
              <a:ext cx="2390400" cy="2215800"/>
              <a:chOff x="4930560" y="2438280"/>
              <a:chExt cx="2390400" cy="22158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930560" y="2438280"/>
                <a:ext cx="2390400" cy="2215800"/>
                <a:chOff x="4930560" y="2438280"/>
                <a:chExt cx="2390400" cy="22158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231880" y="2762640"/>
                  <a:ext cx="48600" cy="47160"/>
                </a:xfrm>
                <a:custGeom>
                  <a:avLst/>
                  <a:gdLst/>
                  <a:ahLst/>
                  <a:rect l="l" t="t" r="r" b="b"/>
                  <a:pathLst>
                    <a:path w="170" h="166">
                      <a:moveTo>
                        <a:pt x="170" y="0"/>
                      </a:moveTo>
                      <a:lnTo>
                        <a:pt x="82" y="82"/>
                      </a:lnTo>
                      <a:lnTo>
                        <a:pt x="0" y="16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42600" y="2860200"/>
                  <a:ext cx="42480" cy="52920"/>
                </a:xfrm>
                <a:custGeom>
                  <a:avLst/>
                  <a:gdLst/>
                  <a:ahLst/>
                  <a:rect l="l" t="t" r="r" b="b"/>
                  <a:pathLst>
                    <a:path w="150" h="185">
                      <a:moveTo>
                        <a:pt x="150" y="0"/>
                      </a:moveTo>
                      <a:lnTo>
                        <a:pt x="73" y="92"/>
                      </a:lnTo>
                      <a:lnTo>
                        <a:pt x="0" y="185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065920" y="2968920"/>
                  <a:ext cx="36360" cy="57960"/>
                </a:xfrm>
                <a:custGeom>
                  <a:avLst/>
                  <a:gdLst/>
                  <a:ahLst/>
                  <a:rect l="l" t="t" r="r" b="b"/>
                  <a:pathLst>
                    <a:path w="128" h="205">
                      <a:moveTo>
                        <a:pt x="128" y="0"/>
                      </a:moveTo>
                      <a:lnTo>
                        <a:pt x="61" y="101"/>
                      </a:lnTo>
                      <a:lnTo>
                        <a:pt x="0" y="205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005080" y="3087720"/>
                  <a:ext cx="27720" cy="62280"/>
                </a:xfrm>
                <a:custGeom>
                  <a:avLst/>
                  <a:gdLst/>
                  <a:ahLst/>
                  <a:rect l="l" t="t" r="r" b="b"/>
                  <a:pathLst>
                    <a:path w="98" h="217">
                      <a:moveTo>
                        <a:pt x="98" y="0"/>
                      </a:moveTo>
                      <a:lnTo>
                        <a:pt x="47" y="107"/>
                      </a:lnTo>
                      <a:lnTo>
                        <a:pt x="0" y="217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61880" y="3214440"/>
                  <a:ext cx="19440" cy="66240"/>
                </a:xfrm>
                <a:custGeom>
                  <a:avLst/>
                  <a:gdLst/>
                  <a:ahLst/>
                  <a:rect l="l" t="t" r="r" b="b"/>
                  <a:pathLst>
                    <a:path w="68" h="232">
                      <a:moveTo>
                        <a:pt x="68" y="0"/>
                      </a:moveTo>
                      <a:lnTo>
                        <a:pt x="32" y="114"/>
                      </a:lnTo>
                      <a:lnTo>
                        <a:pt x="0" y="232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937040" y="3347280"/>
                  <a:ext cx="10080" cy="69120"/>
                </a:xfrm>
                <a:custGeom>
                  <a:avLst/>
                  <a:gdLst/>
                  <a:ahLst/>
                  <a:rect l="l" t="t" r="r" b="b"/>
                  <a:pathLst>
                    <a:path w="36" h="242">
                      <a:moveTo>
                        <a:pt x="36" y="0"/>
                      </a:moveTo>
                      <a:lnTo>
                        <a:pt x="16" y="120"/>
                      </a:lnTo>
                      <a:lnTo>
                        <a:pt x="0" y="242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30560" y="3485160"/>
                  <a:ext cx="1440" cy="64440"/>
                </a:xfrm>
                <a:custGeom>
                  <a:avLst/>
                  <a:gdLst/>
                  <a:ahLst/>
                  <a:rect l="l" t="t" r="r" b="b"/>
                  <a:pathLst>
                    <a:path w="6" h="226">
                      <a:moveTo>
                        <a:pt x="6" y="0"/>
                      </a:moveTo>
                      <a:lnTo>
                        <a:pt x="1" y="106"/>
                      </a:lnTo>
                      <a:lnTo>
                        <a:pt x="0" y="214"/>
                      </a:lnTo>
                      <a:lnTo>
                        <a:pt x="0" y="22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932720" y="3617640"/>
                  <a:ext cx="6120" cy="67680"/>
                </a:xfrm>
                <a:custGeom>
                  <a:avLst/>
                  <a:gdLst/>
                  <a:ahLst/>
                  <a:rect l="l" t="t" r="r" b="b"/>
                  <a:pathLst>
                    <a:path w="22" h="237">
                      <a:moveTo>
                        <a:pt x="0" y="0"/>
                      </a:moveTo>
                      <a:lnTo>
                        <a:pt x="9" y="117"/>
                      </a:lnTo>
                      <a:lnTo>
                        <a:pt x="22" y="237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49280" y="3753000"/>
                  <a:ext cx="14760" cy="67320"/>
                </a:xfrm>
                <a:custGeom>
                  <a:avLst/>
                  <a:gdLst/>
                  <a:ahLst/>
                  <a:rect l="l" t="t" r="r" b="b"/>
                  <a:pathLst>
                    <a:path w="52" h="236">
                      <a:moveTo>
                        <a:pt x="0" y="0"/>
                      </a:moveTo>
                      <a:lnTo>
                        <a:pt x="23" y="118"/>
                      </a:lnTo>
                      <a:lnTo>
                        <a:pt x="52" y="23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983480" y="3886200"/>
                  <a:ext cx="23760" cy="63720"/>
                </a:xfrm>
                <a:custGeom>
                  <a:avLst/>
                  <a:gdLst/>
                  <a:ahLst/>
                  <a:rect l="l" t="t" r="r" b="b"/>
                  <a:pathLst>
                    <a:path w="84" h="224">
                      <a:moveTo>
                        <a:pt x="0" y="0"/>
                      </a:moveTo>
                      <a:lnTo>
                        <a:pt x="18" y="56"/>
                      </a:lnTo>
                      <a:lnTo>
                        <a:pt x="39" y="113"/>
                      </a:lnTo>
                      <a:lnTo>
                        <a:pt x="84" y="224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036040" y="4012200"/>
                  <a:ext cx="331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10">
                      <a:moveTo>
                        <a:pt x="0" y="0"/>
                      </a:moveTo>
                      <a:lnTo>
                        <a:pt x="55" y="105"/>
                      </a:lnTo>
                      <a:lnTo>
                        <a:pt x="115" y="21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106600" y="4130280"/>
                  <a:ext cx="40320" cy="55440"/>
                </a:xfrm>
                <a:custGeom>
                  <a:avLst/>
                  <a:gdLst/>
                  <a:ahLst/>
                  <a:rect l="l" t="t" r="r" b="b"/>
                  <a:pathLst>
                    <a:path w="142" h="194">
                      <a:moveTo>
                        <a:pt x="0" y="0"/>
                      </a:moveTo>
                      <a:lnTo>
                        <a:pt x="69" y="97"/>
                      </a:lnTo>
                      <a:lnTo>
                        <a:pt x="142" y="194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91200" y="4237920"/>
                  <a:ext cx="47880" cy="51120"/>
                </a:xfrm>
                <a:custGeom>
                  <a:avLst/>
                  <a:gdLst/>
                  <a:ahLst/>
                  <a:rect l="l" t="t" r="r" b="b"/>
                  <a:pathLst>
                    <a:path w="168" h="180">
                      <a:moveTo>
                        <a:pt x="0" y="0"/>
                      </a:moveTo>
                      <a:lnTo>
                        <a:pt x="81" y="90"/>
                      </a:lnTo>
                      <a:lnTo>
                        <a:pt x="123" y="135"/>
                      </a:lnTo>
                      <a:lnTo>
                        <a:pt x="168" y="18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286240" y="4335840"/>
                  <a:ext cx="51480" cy="45000"/>
                </a:xfrm>
                <a:custGeom>
                  <a:avLst/>
                  <a:gdLst/>
                  <a:ahLst/>
                  <a:rect l="l" t="t" r="r" b="b"/>
                  <a:pathLst>
                    <a:path w="180" h="158">
                      <a:moveTo>
                        <a:pt x="0" y="0"/>
                      </a:moveTo>
                      <a:lnTo>
                        <a:pt x="88" y="80"/>
                      </a:lnTo>
                      <a:lnTo>
                        <a:pt x="180" y="158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92080" y="4422960"/>
                  <a:ext cx="56520" cy="39240"/>
                </a:xfrm>
                <a:custGeom>
                  <a:avLst/>
                  <a:gdLst/>
                  <a:ahLst/>
                  <a:rect l="l" t="t" r="r" b="b"/>
                  <a:pathLst>
                    <a:path w="198" h="137">
                      <a:moveTo>
                        <a:pt x="0" y="0"/>
                      </a:moveTo>
                      <a:lnTo>
                        <a:pt x="98" y="69"/>
                      </a:lnTo>
                      <a:lnTo>
                        <a:pt x="198" y="137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06920" y="4498560"/>
                  <a:ext cx="60840" cy="32400"/>
                </a:xfrm>
                <a:custGeom>
                  <a:avLst/>
                  <a:gdLst/>
                  <a:ahLst/>
                  <a:rect l="l" t="t" r="r" b="b"/>
                  <a:pathLst>
                    <a:path w="214" h="114">
                      <a:moveTo>
                        <a:pt x="0" y="0"/>
                      </a:moveTo>
                      <a:lnTo>
                        <a:pt x="106" y="58"/>
                      </a:lnTo>
                      <a:lnTo>
                        <a:pt x="214" y="114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631120" y="4559760"/>
                  <a:ext cx="64080" cy="24480"/>
                </a:xfrm>
                <a:custGeom>
                  <a:avLst/>
                  <a:gdLst/>
                  <a:ahLst/>
                  <a:rect l="l" t="t" r="r" b="b"/>
                  <a:pathLst>
                    <a:path w="224" h="86">
                      <a:moveTo>
                        <a:pt x="0" y="0"/>
                      </a:moveTo>
                      <a:lnTo>
                        <a:pt x="110" y="44"/>
                      </a:lnTo>
                      <a:lnTo>
                        <a:pt x="224" y="8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760720" y="4605480"/>
                  <a:ext cx="67320" cy="16920"/>
                </a:xfrm>
                <a:custGeom>
                  <a:avLst/>
                  <a:gdLst/>
                  <a:ahLst/>
                  <a:rect l="l" t="t" r="r" b="b"/>
                  <a:pathLst>
                    <a:path w="236" h="61">
                      <a:moveTo>
                        <a:pt x="0" y="0"/>
                      </a:moveTo>
                      <a:lnTo>
                        <a:pt x="117" y="32"/>
                      </a:lnTo>
                      <a:lnTo>
                        <a:pt x="236" y="61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895360" y="4635720"/>
                  <a:ext cx="69120" cy="9360"/>
                </a:xfrm>
                <a:custGeom>
                  <a:avLst/>
                  <a:gdLst/>
                  <a:ahLst/>
                  <a:rect l="l" t="t" r="r" b="b"/>
                  <a:pathLst>
                    <a:path w="242" h="34">
                      <a:moveTo>
                        <a:pt x="0" y="0"/>
                      </a:moveTo>
                      <a:lnTo>
                        <a:pt x="119" y="18"/>
                      </a:lnTo>
                      <a:lnTo>
                        <a:pt x="242" y="34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33240" y="4651560"/>
                  <a:ext cx="69480" cy="2520"/>
                </a:xfrm>
                <a:custGeom>
                  <a:avLst/>
                  <a:gdLst/>
                  <a:ahLst/>
                  <a:rect l="l" t="t" r="r" b="b"/>
                  <a:pathLst>
                    <a:path w="244" h="10">
                      <a:moveTo>
                        <a:pt x="0" y="0"/>
                      </a:moveTo>
                      <a:lnTo>
                        <a:pt x="120" y="5"/>
                      </a:lnTo>
                      <a:lnTo>
                        <a:pt x="244" y="1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167520" y="4650480"/>
                  <a:ext cx="68040" cy="3240"/>
                </a:xfrm>
                <a:custGeom>
                  <a:avLst/>
                  <a:gdLst/>
                  <a:ahLst/>
                  <a:rect l="l" t="t" r="r" b="b"/>
                  <a:pathLst>
                    <a:path w="238" h="12">
                      <a:moveTo>
                        <a:pt x="0" y="12"/>
                      </a:moveTo>
                      <a:lnTo>
                        <a:pt x="59" y="8"/>
                      </a:lnTo>
                      <a:lnTo>
                        <a:pt x="119" y="6"/>
                      </a:lnTo>
                      <a:lnTo>
                        <a:pt x="178" y="2"/>
                      </a:lnTo>
                      <a:lnTo>
                        <a:pt x="238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303600" y="4632120"/>
                  <a:ext cx="68040" cy="10800"/>
                </a:xfrm>
                <a:custGeom>
                  <a:avLst/>
                  <a:gdLst/>
                  <a:ahLst/>
                  <a:rect l="l" t="t" r="r" b="b"/>
                  <a:pathLst>
                    <a:path w="238" h="38">
                      <a:moveTo>
                        <a:pt x="0" y="38"/>
                      </a:moveTo>
                      <a:lnTo>
                        <a:pt x="59" y="29"/>
                      </a:lnTo>
                      <a:lnTo>
                        <a:pt x="119" y="20"/>
                      </a:lnTo>
                      <a:lnTo>
                        <a:pt x="178" y="10"/>
                      </a:lnTo>
                      <a:lnTo>
                        <a:pt x="207" y="4"/>
                      </a:lnTo>
                      <a:lnTo>
                        <a:pt x="238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438600" y="4600080"/>
                  <a:ext cx="66240" cy="17640"/>
                </a:xfrm>
                <a:custGeom>
                  <a:avLst/>
                  <a:gdLst/>
                  <a:ahLst/>
                  <a:rect l="l" t="t" r="r" b="b"/>
                  <a:pathLst>
                    <a:path w="232" h="62">
                      <a:moveTo>
                        <a:pt x="0" y="62"/>
                      </a:moveTo>
                      <a:lnTo>
                        <a:pt x="13" y="57"/>
                      </a:lnTo>
                      <a:lnTo>
                        <a:pt x="20" y="55"/>
                      </a:lnTo>
                      <a:lnTo>
                        <a:pt x="21" y="54"/>
                      </a:lnTo>
                      <a:lnTo>
                        <a:pt x="23" y="54"/>
                      </a:lnTo>
                      <a:lnTo>
                        <a:pt x="28" y="54"/>
                      </a:lnTo>
                      <a:lnTo>
                        <a:pt x="57" y="47"/>
                      </a:lnTo>
                      <a:lnTo>
                        <a:pt x="116" y="32"/>
                      </a:lnTo>
                      <a:lnTo>
                        <a:pt x="232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9640" y="4552920"/>
                  <a:ext cx="64080" cy="25560"/>
                </a:xfrm>
                <a:custGeom>
                  <a:avLst/>
                  <a:gdLst/>
                  <a:ahLst/>
                  <a:rect l="l" t="t" r="r" b="b"/>
                  <a:pathLst>
                    <a:path w="224" h="91">
                      <a:moveTo>
                        <a:pt x="0" y="91"/>
                      </a:moveTo>
                      <a:lnTo>
                        <a:pt x="55" y="68"/>
                      </a:lnTo>
                      <a:lnTo>
                        <a:pt x="112" y="46"/>
                      </a:lnTo>
                      <a:lnTo>
                        <a:pt x="139" y="34"/>
                      </a:lnTo>
                      <a:lnTo>
                        <a:pt x="167" y="22"/>
                      </a:lnTo>
                      <a:lnTo>
                        <a:pt x="224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696000" y="4490640"/>
                  <a:ext cx="60480" cy="33120"/>
                </a:xfrm>
                <a:custGeom>
                  <a:avLst/>
                  <a:gdLst/>
                  <a:ahLst/>
                  <a:rect l="l" t="t" r="r" b="b"/>
                  <a:pathLst>
                    <a:path w="212" h="116">
                      <a:moveTo>
                        <a:pt x="0" y="116"/>
                      </a:moveTo>
                      <a:lnTo>
                        <a:pt x="106" y="59"/>
                      </a:lnTo>
                      <a:lnTo>
                        <a:pt x="159" y="30"/>
                      </a:lnTo>
                      <a:lnTo>
                        <a:pt x="212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815880" y="4414680"/>
                  <a:ext cx="55440" cy="39240"/>
                </a:xfrm>
                <a:custGeom>
                  <a:avLst/>
                  <a:gdLst/>
                  <a:ahLst/>
                  <a:rect l="l" t="t" r="r" b="b"/>
                  <a:pathLst>
                    <a:path w="194" h="138">
                      <a:moveTo>
                        <a:pt x="0" y="138"/>
                      </a:moveTo>
                      <a:lnTo>
                        <a:pt x="48" y="104"/>
                      </a:lnTo>
                      <a:lnTo>
                        <a:pt x="97" y="70"/>
                      </a:lnTo>
                      <a:lnTo>
                        <a:pt x="194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925680" y="4326480"/>
                  <a:ext cx="50040" cy="44280"/>
                </a:xfrm>
                <a:custGeom>
                  <a:avLst/>
                  <a:gdLst/>
                  <a:ahLst/>
                  <a:rect l="l" t="t" r="r" b="b"/>
                  <a:pathLst>
                    <a:path w="177" h="156">
                      <a:moveTo>
                        <a:pt x="0" y="156"/>
                      </a:moveTo>
                      <a:lnTo>
                        <a:pt x="40" y="119"/>
                      </a:lnTo>
                      <a:lnTo>
                        <a:pt x="81" y="84"/>
                      </a:lnTo>
                      <a:lnTo>
                        <a:pt x="121" y="48"/>
                      </a:lnTo>
                      <a:lnTo>
                        <a:pt x="161" y="12"/>
                      </a:lnTo>
                      <a:lnTo>
                        <a:pt x="177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024680" y="422784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163" h="178">
                      <a:moveTo>
                        <a:pt x="0" y="178"/>
                      </a:moveTo>
                      <a:lnTo>
                        <a:pt x="82" y="90"/>
                      </a:lnTo>
                      <a:lnTo>
                        <a:pt x="122" y="45"/>
                      </a:lnTo>
                      <a:lnTo>
                        <a:pt x="163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113600" y="4119120"/>
                  <a:ext cx="39240" cy="55440"/>
                </a:xfrm>
                <a:custGeom>
                  <a:avLst/>
                  <a:gdLst/>
                  <a:ahLst/>
                  <a:rect l="l" t="t" r="r" b="b"/>
                  <a:pathLst>
                    <a:path w="138" h="194">
                      <a:moveTo>
                        <a:pt x="0" y="194"/>
                      </a:moveTo>
                      <a:lnTo>
                        <a:pt x="34" y="145"/>
                      </a:lnTo>
                      <a:lnTo>
                        <a:pt x="69" y="97"/>
                      </a:lnTo>
                      <a:lnTo>
                        <a:pt x="138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188840" y="4001760"/>
                  <a:ext cx="31320" cy="59760"/>
                </a:xfrm>
                <a:custGeom>
                  <a:avLst/>
                  <a:gdLst/>
                  <a:ahLst/>
                  <a:rect l="l" t="t" r="r" b="b"/>
                  <a:pathLst>
                    <a:path w="110" h="210">
                      <a:moveTo>
                        <a:pt x="0" y="210"/>
                      </a:moveTo>
                      <a:lnTo>
                        <a:pt x="27" y="157"/>
                      </a:lnTo>
                      <a:lnTo>
                        <a:pt x="56" y="104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247520" y="3874680"/>
                  <a:ext cx="23400" cy="64440"/>
                </a:xfrm>
                <a:custGeom>
                  <a:avLst/>
                  <a:gdLst/>
                  <a:ahLst/>
                  <a:rect l="l" t="t" r="r" b="b"/>
                  <a:pathLst>
                    <a:path w="82" h="226">
                      <a:moveTo>
                        <a:pt x="0" y="226"/>
                      </a:moveTo>
                      <a:lnTo>
                        <a:pt x="42" y="113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290360" y="3741480"/>
                  <a:ext cx="14040" cy="66600"/>
                </a:xfrm>
                <a:custGeom>
                  <a:avLst/>
                  <a:gdLst/>
                  <a:ahLst/>
                  <a:rect l="l" t="t" r="r" b="b"/>
                  <a:pathLst>
                    <a:path w="50" h="234">
                      <a:moveTo>
                        <a:pt x="0" y="234"/>
                      </a:moveTo>
                      <a:lnTo>
                        <a:pt x="26" y="116"/>
                      </a:lnTo>
                      <a:lnTo>
                        <a:pt x="38" y="57"/>
                      </a:lnTo>
                      <a:lnTo>
                        <a:pt x="43" y="28"/>
                      </a:lnTo>
                      <a:lnTo>
                        <a:pt x="5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14480" y="3603960"/>
                  <a:ext cx="5400" cy="69120"/>
                </a:xfrm>
                <a:custGeom>
                  <a:avLst/>
                  <a:gdLst/>
                  <a:ahLst/>
                  <a:rect l="l" t="t" r="r" b="b"/>
                  <a:pathLst>
                    <a:path w="20" h="242">
                      <a:moveTo>
                        <a:pt x="0" y="242"/>
                      </a:moveTo>
                      <a:lnTo>
                        <a:pt x="6" y="181"/>
                      </a:lnTo>
                      <a:lnTo>
                        <a:pt x="8" y="151"/>
                      </a:lnTo>
                      <a:lnTo>
                        <a:pt x="11" y="121"/>
                      </a:lnTo>
                      <a:lnTo>
                        <a:pt x="16" y="60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18440" y="3466800"/>
                  <a:ext cx="2520" cy="67680"/>
                </a:xfrm>
                <a:custGeom>
                  <a:avLst/>
                  <a:gdLst/>
                  <a:ahLst/>
                  <a:rect l="l" t="t" r="r" b="b"/>
                  <a:pathLst>
                    <a:path w="10" h="238">
                      <a:moveTo>
                        <a:pt x="10" y="238"/>
                      </a:moveTo>
                      <a:lnTo>
                        <a:pt x="5" y="1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00080" y="3332160"/>
                  <a:ext cx="11160" cy="67320"/>
                </a:xfrm>
                <a:custGeom>
                  <a:avLst/>
                  <a:gdLst/>
                  <a:ahLst/>
                  <a:rect l="l" t="t" r="r" b="b"/>
                  <a:pathLst>
                    <a:path w="40" h="235">
                      <a:moveTo>
                        <a:pt x="40" y="235"/>
                      </a:moveTo>
                      <a:lnTo>
                        <a:pt x="22" y="1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64800" y="3200040"/>
                  <a:ext cx="19800" cy="64800"/>
                </a:xfrm>
                <a:custGeom>
                  <a:avLst/>
                  <a:gdLst/>
                  <a:ahLst/>
                  <a:rect l="l" t="t" r="r" b="b"/>
                  <a:pathLst>
                    <a:path w="69" h="228">
                      <a:moveTo>
                        <a:pt x="69" y="228"/>
                      </a:moveTo>
                      <a:lnTo>
                        <a:pt x="35" y="1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211520" y="3075120"/>
                  <a:ext cx="28440" cy="61560"/>
                </a:xfrm>
                <a:custGeom>
                  <a:avLst/>
                  <a:gdLst/>
                  <a:ahLst/>
                  <a:rect l="l" t="t" r="r" b="b"/>
                  <a:pathLst>
                    <a:path w="101" h="216">
                      <a:moveTo>
                        <a:pt x="101" y="216"/>
                      </a:moveTo>
                      <a:lnTo>
                        <a:pt x="53" y="10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141680" y="2958480"/>
                  <a:ext cx="36360" cy="56880"/>
                </a:xfrm>
                <a:custGeom>
                  <a:avLst/>
                  <a:gdLst/>
                  <a:ahLst/>
                  <a:rect l="l" t="t" r="r" b="b"/>
                  <a:pathLst>
                    <a:path w="128" h="200">
                      <a:moveTo>
                        <a:pt x="128" y="200"/>
                      </a:moveTo>
                      <a:lnTo>
                        <a:pt x="65" y="9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058160" y="2851560"/>
                  <a:ext cx="42480" cy="51120"/>
                </a:xfrm>
                <a:custGeom>
                  <a:avLst/>
                  <a:gdLst/>
                  <a:ahLst/>
                  <a:rect l="l" t="t" r="r" b="b"/>
                  <a:pathLst>
                    <a:path w="150" h="180">
                      <a:moveTo>
                        <a:pt x="150" y="180"/>
                      </a:moveTo>
                      <a:lnTo>
                        <a:pt x="76" y="8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954120" y="2747160"/>
                  <a:ext cx="55800" cy="52920"/>
                </a:xfrm>
                <a:custGeom>
                  <a:avLst/>
                  <a:gdLst/>
                  <a:ahLst/>
                  <a:rect l="l" t="t" r="r" b="b"/>
                  <a:pathLst>
                    <a:path w="196" h="186">
                      <a:moveTo>
                        <a:pt x="196" y="186"/>
                      </a:moveTo>
                      <a:lnTo>
                        <a:pt x="60" y="5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847920" y="2661480"/>
                  <a:ext cx="54000" cy="41400"/>
                </a:xfrm>
                <a:custGeom>
                  <a:avLst/>
                  <a:gdLst/>
                  <a:ahLst/>
                  <a:rect l="l" t="t" r="r" b="b"/>
                  <a:pathLst>
                    <a:path w="190" h="146">
                      <a:moveTo>
                        <a:pt x="190" y="146"/>
                      </a:moveTo>
                      <a:lnTo>
                        <a:pt x="95" y="71"/>
                      </a:lnTo>
                      <a:lnTo>
                        <a:pt x="47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733440" y="2588400"/>
                  <a:ext cx="58320" cy="34560"/>
                </a:xfrm>
                <a:custGeom>
                  <a:avLst/>
                  <a:gdLst/>
                  <a:ahLst/>
                  <a:rect l="l" t="t" r="r" b="b"/>
                  <a:pathLst>
                    <a:path w="204" h="122">
                      <a:moveTo>
                        <a:pt x="204" y="122"/>
                      </a:moveTo>
                      <a:lnTo>
                        <a:pt x="103" y="59"/>
                      </a:lnTo>
                      <a:lnTo>
                        <a:pt x="51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611040" y="2529000"/>
                  <a:ext cx="62280" cy="27720"/>
                </a:xfrm>
                <a:custGeom>
                  <a:avLst/>
                  <a:gdLst/>
                  <a:ahLst/>
                  <a:rect l="l" t="t" r="r" b="b"/>
                  <a:pathLst>
                    <a:path w="218" h="98">
                      <a:moveTo>
                        <a:pt x="218" y="98"/>
                      </a:moveTo>
                      <a:lnTo>
                        <a:pt x="108" y="4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482160" y="2485080"/>
                  <a:ext cx="65160" cy="19800"/>
                </a:xfrm>
                <a:custGeom>
                  <a:avLst/>
                  <a:gdLst/>
                  <a:ahLst/>
                  <a:rect l="l" t="t" r="r" b="b"/>
                  <a:pathLst>
                    <a:path w="230" h="71">
                      <a:moveTo>
                        <a:pt x="230" y="71"/>
                      </a:moveTo>
                      <a:lnTo>
                        <a:pt x="115" y="3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348960" y="2455200"/>
                  <a:ext cx="66600" cy="12960"/>
                </a:xfrm>
                <a:custGeom>
                  <a:avLst/>
                  <a:gdLst/>
                  <a:ahLst/>
                  <a:rect l="l" t="t" r="r" b="b"/>
                  <a:pathLst>
                    <a:path w="235" h="46">
                      <a:moveTo>
                        <a:pt x="235" y="46"/>
                      </a:moveTo>
                      <a:lnTo>
                        <a:pt x="117" y="21"/>
                      </a:lnTo>
                      <a:lnTo>
                        <a:pt x="58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11440" y="2440440"/>
                  <a:ext cx="68400" cy="5400"/>
                </a:xfrm>
                <a:custGeom>
                  <a:avLst/>
                  <a:gdLst/>
                  <a:ahLst/>
                  <a:rect l="l" t="t" r="r" b="b"/>
                  <a:pathLst>
                    <a:path w="240" h="21">
                      <a:moveTo>
                        <a:pt x="240" y="21"/>
                      </a:moveTo>
                      <a:lnTo>
                        <a:pt x="121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070320" y="2438280"/>
                  <a:ext cx="72360" cy="1080"/>
                </a:xfrm>
                <a:custGeom>
                  <a:avLst/>
                  <a:gdLst/>
                  <a:ahLst/>
                  <a:rect l="l" t="t" r="r" b="b"/>
                  <a:pathLst>
                    <a:path w="254" h="4">
                      <a:moveTo>
                        <a:pt x="254" y="0"/>
                      </a:moveTo>
                      <a:lnTo>
                        <a:pt x="193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34240" y="2443320"/>
                  <a:ext cx="67680" cy="7200"/>
                </a:xfrm>
                <a:custGeom>
                  <a:avLst/>
                  <a:gdLst/>
                  <a:ahLst/>
                  <a:rect l="l" t="t" r="r" b="b"/>
                  <a:pathLst>
                    <a:path w="237" h="26">
                      <a:moveTo>
                        <a:pt x="237" y="0"/>
                      </a:moveTo>
                      <a:lnTo>
                        <a:pt x="118" y="12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0320" y="2461680"/>
                  <a:ext cx="66600" cy="15120"/>
                </a:xfrm>
                <a:custGeom>
                  <a:avLst/>
                  <a:gdLst/>
                  <a:ahLst/>
                  <a:rect l="l" t="t" r="r" b="b"/>
                  <a:pathLst>
                    <a:path w="234" h="54">
                      <a:moveTo>
                        <a:pt x="234" y="0"/>
                      </a:moveTo>
                      <a:lnTo>
                        <a:pt x="116" y="25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70720" y="2495880"/>
                  <a:ext cx="64080" cy="21960"/>
                </a:xfrm>
                <a:custGeom>
                  <a:avLst/>
                  <a:gdLst/>
                  <a:ahLst/>
                  <a:rect l="l" t="t" r="r" b="b"/>
                  <a:pathLst>
                    <a:path w="224" h="78">
                      <a:moveTo>
                        <a:pt x="224" y="0"/>
                      </a:moveTo>
                      <a:lnTo>
                        <a:pt x="110" y="37"/>
                      </a:lnTo>
                      <a:lnTo>
                        <a:pt x="0" y="78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545800" y="2544480"/>
                  <a:ext cx="61560" cy="30240"/>
                </a:xfrm>
                <a:custGeom>
                  <a:avLst/>
                  <a:gdLst/>
                  <a:ahLst/>
                  <a:rect l="l" t="t" r="r" b="b"/>
                  <a:pathLst>
                    <a:path w="216" h="106">
                      <a:moveTo>
                        <a:pt x="216" y="0"/>
                      </a:moveTo>
                      <a:lnTo>
                        <a:pt x="106" y="51"/>
                      </a:lnTo>
                      <a:lnTo>
                        <a:pt x="0" y="10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8080" y="2608200"/>
                  <a:ext cx="58320" cy="3708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205" y="0"/>
                      </a:moveTo>
                      <a:lnTo>
                        <a:pt x="101" y="62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20080" y="2685600"/>
                  <a:ext cx="52200" cy="42480"/>
                </a:xfrm>
                <a:custGeom>
                  <a:avLst/>
                  <a:gdLst/>
                  <a:ahLst/>
                  <a:rect l="l" t="t" r="r" b="b"/>
                  <a:pathLst>
                    <a:path w="184" h="150">
                      <a:moveTo>
                        <a:pt x="184" y="0"/>
                      </a:moveTo>
                      <a:lnTo>
                        <a:pt x="89" y="73"/>
                      </a:lnTo>
                      <a:lnTo>
                        <a:pt x="0" y="15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516720" y="365076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6">
                      <a:moveTo>
                        <a:pt x="65" y="26"/>
                      </a:moveTo>
                      <a:lnTo>
                        <a:pt x="92" y="6"/>
                      </a:lnTo>
                      <a:lnTo>
                        <a:pt x="62" y="0"/>
                      </a:lnTo>
                      <a:lnTo>
                        <a:pt x="51" y="12"/>
                      </a:lnTo>
                      <a:lnTo>
                        <a:pt x="27" y="38"/>
                      </a:lnTo>
                      <a:lnTo>
                        <a:pt x="18" y="51"/>
                      </a:lnTo>
                      <a:lnTo>
                        <a:pt x="12" y="67"/>
                      </a:lnTo>
                      <a:lnTo>
                        <a:pt x="5" y="82"/>
                      </a:lnTo>
                      <a:lnTo>
                        <a:pt x="2" y="99"/>
                      </a:lnTo>
                      <a:lnTo>
                        <a:pt x="0" y="134"/>
                      </a:lnTo>
                      <a:lnTo>
                        <a:pt x="0" y="150"/>
                      </a:lnTo>
                      <a:lnTo>
                        <a:pt x="2" y="167"/>
                      </a:lnTo>
                      <a:lnTo>
                        <a:pt x="5" y="183"/>
                      </a:lnTo>
                      <a:lnTo>
                        <a:pt x="12" y="200"/>
                      </a:lnTo>
                      <a:lnTo>
                        <a:pt x="18" y="213"/>
                      </a:lnTo>
                      <a:lnTo>
                        <a:pt x="27" y="228"/>
                      </a:lnTo>
                      <a:lnTo>
                        <a:pt x="37" y="242"/>
                      </a:lnTo>
                      <a:lnTo>
                        <a:pt x="51" y="255"/>
                      </a:lnTo>
                      <a:lnTo>
                        <a:pt x="63" y="267"/>
                      </a:lnTo>
                      <a:lnTo>
                        <a:pt x="77" y="277"/>
                      </a:lnTo>
                      <a:lnTo>
                        <a:pt x="90" y="285"/>
                      </a:lnTo>
                      <a:lnTo>
                        <a:pt x="106" y="293"/>
                      </a:lnTo>
                      <a:lnTo>
                        <a:pt x="121" y="298"/>
                      </a:lnTo>
                      <a:lnTo>
                        <a:pt x="138" y="303"/>
                      </a:lnTo>
                      <a:lnTo>
                        <a:pt x="155" y="305"/>
                      </a:lnTo>
                      <a:lnTo>
                        <a:pt x="173" y="306"/>
                      </a:lnTo>
                      <a:lnTo>
                        <a:pt x="189" y="305"/>
                      </a:lnTo>
                      <a:lnTo>
                        <a:pt x="206" y="303"/>
                      </a:lnTo>
                      <a:lnTo>
                        <a:pt x="222" y="298"/>
                      </a:lnTo>
                      <a:lnTo>
                        <a:pt x="225" y="296"/>
                      </a:lnTo>
                      <a:lnTo>
                        <a:pt x="230" y="295"/>
                      </a:lnTo>
                      <a:lnTo>
                        <a:pt x="239" y="293"/>
                      </a:lnTo>
                      <a:lnTo>
                        <a:pt x="253" y="285"/>
                      </a:lnTo>
                      <a:lnTo>
                        <a:pt x="259" y="280"/>
                      </a:lnTo>
                      <a:lnTo>
                        <a:pt x="263" y="278"/>
                      </a:lnTo>
                      <a:lnTo>
                        <a:pt x="267" y="277"/>
                      </a:lnTo>
                      <a:lnTo>
                        <a:pt x="281" y="267"/>
                      </a:lnTo>
                      <a:lnTo>
                        <a:pt x="296" y="255"/>
                      </a:lnTo>
                      <a:lnTo>
                        <a:pt x="307" y="242"/>
                      </a:lnTo>
                      <a:lnTo>
                        <a:pt x="311" y="235"/>
                      </a:lnTo>
                      <a:lnTo>
                        <a:pt x="314" y="232"/>
                      </a:lnTo>
                      <a:lnTo>
                        <a:pt x="317" y="229"/>
                      </a:lnTo>
                      <a:lnTo>
                        <a:pt x="318" y="225"/>
                      </a:lnTo>
                      <a:lnTo>
                        <a:pt x="321" y="221"/>
                      </a:lnTo>
                      <a:lnTo>
                        <a:pt x="325" y="214"/>
                      </a:lnTo>
                      <a:lnTo>
                        <a:pt x="333" y="201"/>
                      </a:lnTo>
                      <a:lnTo>
                        <a:pt x="325" y="187"/>
                      </a:lnTo>
                      <a:lnTo>
                        <a:pt x="318" y="176"/>
                      </a:lnTo>
                      <a:lnTo>
                        <a:pt x="314" y="184"/>
                      </a:lnTo>
                      <a:lnTo>
                        <a:pt x="310" y="193"/>
                      </a:lnTo>
                      <a:lnTo>
                        <a:pt x="306" y="201"/>
                      </a:lnTo>
                      <a:lnTo>
                        <a:pt x="302" y="210"/>
                      </a:lnTo>
                      <a:lnTo>
                        <a:pt x="297" y="217"/>
                      </a:lnTo>
                      <a:lnTo>
                        <a:pt x="292" y="225"/>
                      </a:lnTo>
                      <a:lnTo>
                        <a:pt x="280" y="241"/>
                      </a:lnTo>
                      <a:lnTo>
                        <a:pt x="267" y="250"/>
                      </a:lnTo>
                      <a:lnTo>
                        <a:pt x="256" y="259"/>
                      </a:lnTo>
                      <a:lnTo>
                        <a:pt x="242" y="267"/>
                      </a:lnTo>
                      <a:lnTo>
                        <a:pt x="230" y="273"/>
                      </a:lnTo>
                      <a:lnTo>
                        <a:pt x="215" y="278"/>
                      </a:lnTo>
                      <a:lnTo>
                        <a:pt x="202" y="281"/>
                      </a:lnTo>
                      <a:lnTo>
                        <a:pt x="187" y="284"/>
                      </a:lnTo>
                      <a:lnTo>
                        <a:pt x="173" y="285"/>
                      </a:lnTo>
                      <a:lnTo>
                        <a:pt x="157" y="284"/>
                      </a:lnTo>
                      <a:lnTo>
                        <a:pt x="143" y="281"/>
                      </a:lnTo>
                      <a:lnTo>
                        <a:pt x="128" y="278"/>
                      </a:lnTo>
                      <a:lnTo>
                        <a:pt x="114" y="273"/>
                      </a:lnTo>
                      <a:lnTo>
                        <a:pt x="101" y="267"/>
                      </a:lnTo>
                      <a:lnTo>
                        <a:pt x="88" y="259"/>
                      </a:lnTo>
                      <a:lnTo>
                        <a:pt x="65" y="241"/>
                      </a:lnTo>
                      <a:lnTo>
                        <a:pt x="54" y="228"/>
                      </a:lnTo>
                      <a:lnTo>
                        <a:pt x="45" y="217"/>
                      </a:lnTo>
                      <a:lnTo>
                        <a:pt x="37" y="203"/>
                      </a:lnTo>
                      <a:lnTo>
                        <a:pt x="31" y="191"/>
                      </a:lnTo>
                      <a:lnTo>
                        <a:pt x="26" y="176"/>
                      </a:lnTo>
                      <a:lnTo>
                        <a:pt x="23" y="162"/>
                      </a:lnTo>
                      <a:lnTo>
                        <a:pt x="21" y="148"/>
                      </a:lnTo>
                      <a:lnTo>
                        <a:pt x="21" y="134"/>
                      </a:lnTo>
                      <a:lnTo>
                        <a:pt x="23" y="103"/>
                      </a:lnTo>
                      <a:lnTo>
                        <a:pt x="31" y="75"/>
                      </a:lnTo>
                      <a:lnTo>
                        <a:pt x="45" y="49"/>
                      </a:lnTo>
                      <a:lnTo>
                        <a:pt x="54" y="36"/>
                      </a:lnTo>
                      <a:lnTo>
                        <a:pt x="65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22840" y="3652560"/>
                  <a:ext cx="84600" cy="7920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1" y="0"/>
                      </a:moveTo>
                      <a:lnTo>
                        <a:pt x="44" y="20"/>
                      </a:lnTo>
                      <a:lnTo>
                        <a:pt x="33" y="30"/>
                      </a:lnTo>
                      <a:lnTo>
                        <a:pt x="24" y="43"/>
                      </a:lnTo>
                      <a:lnTo>
                        <a:pt x="10" y="69"/>
                      </a:lnTo>
                      <a:lnTo>
                        <a:pt x="2" y="97"/>
                      </a:lnTo>
                      <a:lnTo>
                        <a:pt x="0" y="128"/>
                      </a:lnTo>
                      <a:lnTo>
                        <a:pt x="0" y="142"/>
                      </a:lnTo>
                      <a:lnTo>
                        <a:pt x="2" y="156"/>
                      </a:lnTo>
                      <a:lnTo>
                        <a:pt x="5" y="170"/>
                      </a:lnTo>
                      <a:lnTo>
                        <a:pt x="10" y="185"/>
                      </a:lnTo>
                      <a:lnTo>
                        <a:pt x="16" y="197"/>
                      </a:lnTo>
                      <a:lnTo>
                        <a:pt x="24" y="211"/>
                      </a:lnTo>
                      <a:lnTo>
                        <a:pt x="33" y="222"/>
                      </a:lnTo>
                      <a:lnTo>
                        <a:pt x="44" y="235"/>
                      </a:lnTo>
                      <a:lnTo>
                        <a:pt x="67" y="253"/>
                      </a:lnTo>
                      <a:lnTo>
                        <a:pt x="80" y="261"/>
                      </a:lnTo>
                      <a:lnTo>
                        <a:pt x="93" y="267"/>
                      </a:lnTo>
                      <a:lnTo>
                        <a:pt x="107" y="272"/>
                      </a:lnTo>
                      <a:lnTo>
                        <a:pt x="122" y="275"/>
                      </a:lnTo>
                      <a:lnTo>
                        <a:pt x="136" y="278"/>
                      </a:lnTo>
                      <a:lnTo>
                        <a:pt x="152" y="279"/>
                      </a:lnTo>
                      <a:lnTo>
                        <a:pt x="166" y="278"/>
                      </a:lnTo>
                      <a:lnTo>
                        <a:pt x="181" y="275"/>
                      </a:lnTo>
                      <a:lnTo>
                        <a:pt x="194" y="272"/>
                      </a:lnTo>
                      <a:lnTo>
                        <a:pt x="209" y="267"/>
                      </a:lnTo>
                      <a:lnTo>
                        <a:pt x="221" y="261"/>
                      </a:lnTo>
                      <a:lnTo>
                        <a:pt x="235" y="253"/>
                      </a:lnTo>
                      <a:lnTo>
                        <a:pt x="246" y="244"/>
                      </a:lnTo>
                      <a:lnTo>
                        <a:pt x="259" y="235"/>
                      </a:lnTo>
                      <a:lnTo>
                        <a:pt x="271" y="219"/>
                      </a:lnTo>
                      <a:lnTo>
                        <a:pt x="276" y="211"/>
                      </a:lnTo>
                      <a:lnTo>
                        <a:pt x="281" y="204"/>
                      </a:lnTo>
                      <a:lnTo>
                        <a:pt x="285" y="195"/>
                      </a:lnTo>
                      <a:lnTo>
                        <a:pt x="289" y="187"/>
                      </a:lnTo>
                      <a:lnTo>
                        <a:pt x="293" y="178"/>
                      </a:lnTo>
                      <a:lnTo>
                        <a:pt x="297" y="170"/>
                      </a:lnTo>
                      <a:lnTo>
                        <a:pt x="280" y="145"/>
                      </a:lnTo>
                      <a:lnTo>
                        <a:pt x="277" y="154"/>
                      </a:lnTo>
                      <a:lnTo>
                        <a:pt x="275" y="164"/>
                      </a:lnTo>
                      <a:lnTo>
                        <a:pt x="271" y="173"/>
                      </a:lnTo>
                      <a:lnTo>
                        <a:pt x="269" y="178"/>
                      </a:lnTo>
                      <a:lnTo>
                        <a:pt x="268" y="180"/>
                      </a:lnTo>
                      <a:lnTo>
                        <a:pt x="268" y="184"/>
                      </a:lnTo>
                      <a:lnTo>
                        <a:pt x="256" y="202"/>
                      </a:lnTo>
                      <a:lnTo>
                        <a:pt x="250" y="210"/>
                      </a:lnTo>
                      <a:lnTo>
                        <a:pt x="244" y="219"/>
                      </a:lnTo>
                      <a:lnTo>
                        <a:pt x="233" y="227"/>
                      </a:lnTo>
                      <a:lnTo>
                        <a:pt x="230" y="227"/>
                      </a:lnTo>
                      <a:lnTo>
                        <a:pt x="229" y="227"/>
                      </a:lnTo>
                      <a:lnTo>
                        <a:pt x="229" y="228"/>
                      </a:lnTo>
                      <a:lnTo>
                        <a:pt x="227" y="230"/>
                      </a:lnTo>
                      <a:lnTo>
                        <a:pt x="222" y="235"/>
                      </a:lnTo>
                      <a:lnTo>
                        <a:pt x="211" y="241"/>
                      </a:lnTo>
                      <a:lnTo>
                        <a:pt x="205" y="244"/>
                      </a:lnTo>
                      <a:lnTo>
                        <a:pt x="201" y="247"/>
                      </a:lnTo>
                      <a:lnTo>
                        <a:pt x="194" y="248"/>
                      </a:lnTo>
                      <a:lnTo>
                        <a:pt x="188" y="250"/>
                      </a:lnTo>
                      <a:lnTo>
                        <a:pt x="177" y="254"/>
                      </a:lnTo>
                      <a:lnTo>
                        <a:pt x="163" y="256"/>
                      </a:lnTo>
                      <a:lnTo>
                        <a:pt x="152" y="257"/>
                      </a:lnTo>
                      <a:lnTo>
                        <a:pt x="139" y="256"/>
                      </a:lnTo>
                      <a:lnTo>
                        <a:pt x="125" y="254"/>
                      </a:lnTo>
                      <a:lnTo>
                        <a:pt x="101" y="247"/>
                      </a:lnTo>
                      <a:lnTo>
                        <a:pt x="90" y="241"/>
                      </a:lnTo>
                      <a:lnTo>
                        <a:pt x="80" y="235"/>
                      </a:lnTo>
                      <a:lnTo>
                        <a:pt x="60" y="219"/>
                      </a:lnTo>
                      <a:lnTo>
                        <a:pt x="42" y="198"/>
                      </a:lnTo>
                      <a:lnTo>
                        <a:pt x="35" y="187"/>
                      </a:lnTo>
                      <a:lnTo>
                        <a:pt x="31" y="177"/>
                      </a:lnTo>
                      <a:lnTo>
                        <a:pt x="26" y="164"/>
                      </a:lnTo>
                      <a:lnTo>
                        <a:pt x="24" y="153"/>
                      </a:lnTo>
                      <a:lnTo>
                        <a:pt x="22" y="128"/>
                      </a:lnTo>
                      <a:lnTo>
                        <a:pt x="24" y="101"/>
                      </a:lnTo>
                      <a:lnTo>
                        <a:pt x="31" y="77"/>
                      </a:lnTo>
                      <a:lnTo>
                        <a:pt x="42" y="55"/>
                      </a:lnTo>
                      <a:lnTo>
                        <a:pt x="60" y="36"/>
                      </a:lnTo>
                      <a:lnTo>
                        <a:pt x="77" y="20"/>
                      </a:lnTo>
                      <a:lnTo>
                        <a:pt x="99" y="9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10240" y="3649680"/>
                  <a:ext cx="104400" cy="94680"/>
                </a:xfrm>
                <a:custGeom>
                  <a:avLst/>
                  <a:gdLst/>
                  <a:ahLst/>
                  <a:rect l="l" t="t" r="r" b="b"/>
                  <a:pathLst>
                    <a:path w="366" h="331">
                      <a:moveTo>
                        <a:pt x="73" y="15"/>
                      </a:moveTo>
                      <a:lnTo>
                        <a:pt x="84" y="3"/>
                      </a:lnTo>
                      <a:lnTo>
                        <a:pt x="57" y="0"/>
                      </a:lnTo>
                      <a:lnTo>
                        <a:pt x="42" y="13"/>
                      </a:lnTo>
                      <a:lnTo>
                        <a:pt x="31" y="29"/>
                      </a:lnTo>
                      <a:lnTo>
                        <a:pt x="14" y="62"/>
                      </a:lnTo>
                      <a:lnTo>
                        <a:pt x="4" y="97"/>
                      </a:lnTo>
                      <a:lnTo>
                        <a:pt x="0" y="137"/>
                      </a:lnTo>
                      <a:lnTo>
                        <a:pt x="0" y="155"/>
                      </a:lnTo>
                      <a:lnTo>
                        <a:pt x="4" y="174"/>
                      </a:lnTo>
                      <a:lnTo>
                        <a:pt x="7" y="193"/>
                      </a:lnTo>
                      <a:lnTo>
                        <a:pt x="14" y="211"/>
                      </a:lnTo>
                      <a:lnTo>
                        <a:pt x="21" y="227"/>
                      </a:lnTo>
                      <a:lnTo>
                        <a:pt x="31" y="244"/>
                      </a:lnTo>
                      <a:lnTo>
                        <a:pt x="42" y="258"/>
                      </a:lnTo>
                      <a:lnTo>
                        <a:pt x="57" y="274"/>
                      </a:lnTo>
                      <a:lnTo>
                        <a:pt x="70" y="287"/>
                      </a:lnTo>
                      <a:lnTo>
                        <a:pt x="86" y="298"/>
                      </a:lnTo>
                      <a:lnTo>
                        <a:pt x="102" y="308"/>
                      </a:lnTo>
                      <a:lnTo>
                        <a:pt x="119" y="316"/>
                      </a:lnTo>
                      <a:lnTo>
                        <a:pt x="136" y="322"/>
                      </a:lnTo>
                      <a:lnTo>
                        <a:pt x="155" y="326"/>
                      </a:lnTo>
                      <a:lnTo>
                        <a:pt x="175" y="330"/>
                      </a:lnTo>
                      <a:lnTo>
                        <a:pt x="195" y="331"/>
                      </a:lnTo>
                      <a:lnTo>
                        <a:pt x="213" y="330"/>
                      </a:lnTo>
                      <a:lnTo>
                        <a:pt x="222" y="327"/>
                      </a:lnTo>
                      <a:lnTo>
                        <a:pt x="227" y="326"/>
                      </a:lnTo>
                      <a:lnTo>
                        <a:pt x="233" y="326"/>
                      </a:lnTo>
                      <a:lnTo>
                        <a:pt x="251" y="322"/>
                      </a:lnTo>
                      <a:lnTo>
                        <a:pt x="269" y="316"/>
                      </a:lnTo>
                      <a:lnTo>
                        <a:pt x="285" y="308"/>
                      </a:lnTo>
                      <a:lnTo>
                        <a:pt x="286" y="306"/>
                      </a:lnTo>
                      <a:lnTo>
                        <a:pt x="288" y="305"/>
                      </a:lnTo>
                      <a:lnTo>
                        <a:pt x="293" y="303"/>
                      </a:lnTo>
                      <a:lnTo>
                        <a:pt x="302" y="298"/>
                      </a:lnTo>
                      <a:lnTo>
                        <a:pt x="316" y="287"/>
                      </a:lnTo>
                      <a:lnTo>
                        <a:pt x="332" y="274"/>
                      </a:lnTo>
                      <a:lnTo>
                        <a:pt x="350" y="252"/>
                      </a:lnTo>
                      <a:lnTo>
                        <a:pt x="366" y="229"/>
                      </a:lnTo>
                      <a:lnTo>
                        <a:pt x="355" y="204"/>
                      </a:lnTo>
                      <a:lnTo>
                        <a:pt x="347" y="217"/>
                      </a:lnTo>
                      <a:lnTo>
                        <a:pt x="343" y="224"/>
                      </a:lnTo>
                      <a:lnTo>
                        <a:pt x="340" y="228"/>
                      </a:lnTo>
                      <a:lnTo>
                        <a:pt x="339" y="232"/>
                      </a:lnTo>
                      <a:lnTo>
                        <a:pt x="336" y="235"/>
                      </a:lnTo>
                      <a:lnTo>
                        <a:pt x="333" y="238"/>
                      </a:lnTo>
                      <a:lnTo>
                        <a:pt x="329" y="245"/>
                      </a:lnTo>
                      <a:lnTo>
                        <a:pt x="318" y="258"/>
                      </a:lnTo>
                      <a:lnTo>
                        <a:pt x="303" y="270"/>
                      </a:lnTo>
                      <a:lnTo>
                        <a:pt x="289" y="280"/>
                      </a:lnTo>
                      <a:lnTo>
                        <a:pt x="285" y="281"/>
                      </a:lnTo>
                      <a:lnTo>
                        <a:pt x="281" y="283"/>
                      </a:lnTo>
                      <a:lnTo>
                        <a:pt x="275" y="288"/>
                      </a:lnTo>
                      <a:lnTo>
                        <a:pt x="261" y="296"/>
                      </a:lnTo>
                      <a:lnTo>
                        <a:pt x="252" y="298"/>
                      </a:lnTo>
                      <a:lnTo>
                        <a:pt x="247" y="299"/>
                      </a:lnTo>
                      <a:lnTo>
                        <a:pt x="244" y="301"/>
                      </a:lnTo>
                      <a:lnTo>
                        <a:pt x="228" y="306"/>
                      </a:lnTo>
                      <a:lnTo>
                        <a:pt x="211" y="308"/>
                      </a:lnTo>
                      <a:lnTo>
                        <a:pt x="195" y="309"/>
                      </a:lnTo>
                      <a:lnTo>
                        <a:pt x="177" y="308"/>
                      </a:lnTo>
                      <a:lnTo>
                        <a:pt x="160" y="306"/>
                      </a:lnTo>
                      <a:lnTo>
                        <a:pt x="143" y="301"/>
                      </a:lnTo>
                      <a:lnTo>
                        <a:pt x="128" y="296"/>
                      </a:lnTo>
                      <a:lnTo>
                        <a:pt x="112" y="288"/>
                      </a:lnTo>
                      <a:lnTo>
                        <a:pt x="99" y="280"/>
                      </a:lnTo>
                      <a:lnTo>
                        <a:pt x="85" y="270"/>
                      </a:lnTo>
                      <a:lnTo>
                        <a:pt x="73" y="258"/>
                      </a:lnTo>
                      <a:lnTo>
                        <a:pt x="59" y="245"/>
                      </a:lnTo>
                      <a:lnTo>
                        <a:pt x="49" y="231"/>
                      </a:lnTo>
                      <a:lnTo>
                        <a:pt x="40" y="216"/>
                      </a:lnTo>
                      <a:lnTo>
                        <a:pt x="34" y="203"/>
                      </a:lnTo>
                      <a:lnTo>
                        <a:pt x="27" y="186"/>
                      </a:lnTo>
                      <a:lnTo>
                        <a:pt x="24" y="170"/>
                      </a:lnTo>
                      <a:lnTo>
                        <a:pt x="22" y="153"/>
                      </a:lnTo>
                      <a:lnTo>
                        <a:pt x="22" y="137"/>
                      </a:lnTo>
                      <a:lnTo>
                        <a:pt x="24" y="102"/>
                      </a:lnTo>
                      <a:lnTo>
                        <a:pt x="27" y="85"/>
                      </a:lnTo>
                      <a:lnTo>
                        <a:pt x="34" y="70"/>
                      </a:lnTo>
                      <a:lnTo>
                        <a:pt x="40" y="54"/>
                      </a:lnTo>
                      <a:lnTo>
                        <a:pt x="49" y="41"/>
                      </a:lnTo>
                      <a:lnTo>
                        <a:pt x="73" y="15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498360" y="3649320"/>
                  <a:ext cx="121680" cy="107280"/>
                </a:xfrm>
                <a:custGeom>
                  <a:avLst/>
                  <a:gdLst/>
                  <a:ahLst/>
                  <a:rect l="l" t="t" r="r" b="b"/>
                  <a:pathLst>
                    <a:path w="428" h="376">
                      <a:moveTo>
                        <a:pt x="56" y="0"/>
                      </a:moveTo>
                      <a:lnTo>
                        <a:pt x="44" y="0"/>
                      </a:lnTo>
                      <a:lnTo>
                        <a:pt x="24" y="30"/>
                      </a:lnTo>
                      <a:lnTo>
                        <a:pt x="16" y="46"/>
                      </a:lnTo>
                      <a:lnTo>
                        <a:pt x="10" y="64"/>
                      </a:lnTo>
                      <a:lnTo>
                        <a:pt x="2" y="99"/>
                      </a:lnTo>
                      <a:lnTo>
                        <a:pt x="0" y="139"/>
                      </a:lnTo>
                      <a:lnTo>
                        <a:pt x="0" y="162"/>
                      </a:lnTo>
                      <a:lnTo>
                        <a:pt x="3" y="185"/>
                      </a:lnTo>
                      <a:lnTo>
                        <a:pt x="9" y="207"/>
                      </a:lnTo>
                      <a:lnTo>
                        <a:pt x="17" y="230"/>
                      </a:lnTo>
                      <a:lnTo>
                        <a:pt x="25" y="249"/>
                      </a:lnTo>
                      <a:lnTo>
                        <a:pt x="37" y="269"/>
                      </a:lnTo>
                      <a:lnTo>
                        <a:pt x="52" y="288"/>
                      </a:lnTo>
                      <a:lnTo>
                        <a:pt x="69" y="307"/>
                      </a:lnTo>
                      <a:lnTo>
                        <a:pt x="86" y="322"/>
                      </a:lnTo>
                      <a:lnTo>
                        <a:pt x="105" y="336"/>
                      </a:lnTo>
                      <a:lnTo>
                        <a:pt x="125" y="348"/>
                      </a:lnTo>
                      <a:lnTo>
                        <a:pt x="146" y="358"/>
                      </a:lnTo>
                      <a:lnTo>
                        <a:pt x="167" y="366"/>
                      </a:lnTo>
                      <a:lnTo>
                        <a:pt x="189" y="371"/>
                      </a:lnTo>
                      <a:lnTo>
                        <a:pt x="213" y="375"/>
                      </a:lnTo>
                      <a:lnTo>
                        <a:pt x="238" y="376"/>
                      </a:lnTo>
                      <a:lnTo>
                        <a:pt x="261" y="375"/>
                      </a:lnTo>
                      <a:lnTo>
                        <a:pt x="272" y="373"/>
                      </a:lnTo>
                      <a:lnTo>
                        <a:pt x="274" y="371"/>
                      </a:lnTo>
                      <a:lnTo>
                        <a:pt x="278" y="371"/>
                      </a:lnTo>
                      <a:lnTo>
                        <a:pt x="285" y="371"/>
                      </a:lnTo>
                      <a:lnTo>
                        <a:pt x="289" y="369"/>
                      </a:lnTo>
                      <a:lnTo>
                        <a:pt x="291" y="368"/>
                      </a:lnTo>
                      <a:lnTo>
                        <a:pt x="295" y="368"/>
                      </a:lnTo>
                      <a:lnTo>
                        <a:pt x="306" y="366"/>
                      </a:lnTo>
                      <a:lnTo>
                        <a:pt x="329" y="358"/>
                      </a:lnTo>
                      <a:lnTo>
                        <a:pt x="338" y="352"/>
                      </a:lnTo>
                      <a:lnTo>
                        <a:pt x="348" y="348"/>
                      </a:lnTo>
                      <a:lnTo>
                        <a:pt x="369" y="336"/>
                      </a:lnTo>
                      <a:lnTo>
                        <a:pt x="387" y="322"/>
                      </a:lnTo>
                      <a:lnTo>
                        <a:pt x="396" y="314"/>
                      </a:lnTo>
                      <a:lnTo>
                        <a:pt x="406" y="307"/>
                      </a:lnTo>
                      <a:lnTo>
                        <a:pt x="410" y="300"/>
                      </a:lnTo>
                      <a:lnTo>
                        <a:pt x="413" y="297"/>
                      </a:lnTo>
                      <a:lnTo>
                        <a:pt x="416" y="294"/>
                      </a:lnTo>
                      <a:lnTo>
                        <a:pt x="428" y="282"/>
                      </a:lnTo>
                      <a:lnTo>
                        <a:pt x="420" y="256"/>
                      </a:lnTo>
                      <a:lnTo>
                        <a:pt x="415" y="259"/>
                      </a:lnTo>
                      <a:lnTo>
                        <a:pt x="412" y="264"/>
                      </a:lnTo>
                      <a:lnTo>
                        <a:pt x="405" y="273"/>
                      </a:lnTo>
                      <a:lnTo>
                        <a:pt x="390" y="291"/>
                      </a:lnTo>
                      <a:lnTo>
                        <a:pt x="381" y="298"/>
                      </a:lnTo>
                      <a:lnTo>
                        <a:pt x="376" y="301"/>
                      </a:lnTo>
                      <a:lnTo>
                        <a:pt x="373" y="306"/>
                      </a:lnTo>
                      <a:lnTo>
                        <a:pt x="364" y="311"/>
                      </a:lnTo>
                      <a:lnTo>
                        <a:pt x="356" y="318"/>
                      </a:lnTo>
                      <a:lnTo>
                        <a:pt x="338" y="328"/>
                      </a:lnTo>
                      <a:lnTo>
                        <a:pt x="320" y="339"/>
                      </a:lnTo>
                      <a:lnTo>
                        <a:pt x="299" y="344"/>
                      </a:lnTo>
                      <a:lnTo>
                        <a:pt x="289" y="346"/>
                      </a:lnTo>
                      <a:lnTo>
                        <a:pt x="280" y="350"/>
                      </a:lnTo>
                      <a:lnTo>
                        <a:pt x="269" y="351"/>
                      </a:lnTo>
                      <a:lnTo>
                        <a:pt x="259" y="353"/>
                      </a:lnTo>
                      <a:lnTo>
                        <a:pt x="238" y="354"/>
                      </a:lnTo>
                      <a:lnTo>
                        <a:pt x="215" y="353"/>
                      </a:lnTo>
                      <a:lnTo>
                        <a:pt x="194" y="350"/>
                      </a:lnTo>
                      <a:lnTo>
                        <a:pt x="174" y="344"/>
                      </a:lnTo>
                      <a:lnTo>
                        <a:pt x="154" y="339"/>
                      </a:lnTo>
                      <a:lnTo>
                        <a:pt x="135" y="328"/>
                      </a:lnTo>
                      <a:lnTo>
                        <a:pt x="118" y="318"/>
                      </a:lnTo>
                      <a:lnTo>
                        <a:pt x="101" y="306"/>
                      </a:lnTo>
                      <a:lnTo>
                        <a:pt x="85" y="291"/>
                      </a:lnTo>
                      <a:lnTo>
                        <a:pt x="69" y="274"/>
                      </a:lnTo>
                      <a:lnTo>
                        <a:pt x="57" y="257"/>
                      </a:lnTo>
                      <a:lnTo>
                        <a:pt x="45" y="239"/>
                      </a:lnTo>
                      <a:lnTo>
                        <a:pt x="37" y="221"/>
                      </a:lnTo>
                      <a:lnTo>
                        <a:pt x="30" y="200"/>
                      </a:lnTo>
                      <a:lnTo>
                        <a:pt x="25" y="181"/>
                      </a:lnTo>
                      <a:lnTo>
                        <a:pt x="22" y="159"/>
                      </a:lnTo>
                      <a:lnTo>
                        <a:pt x="22" y="139"/>
                      </a:lnTo>
                      <a:lnTo>
                        <a:pt x="24" y="99"/>
                      </a:lnTo>
                      <a:lnTo>
                        <a:pt x="27" y="80"/>
                      </a:lnTo>
                      <a:lnTo>
                        <a:pt x="34" y="63"/>
                      </a:lnTo>
                      <a:lnTo>
                        <a:pt x="49" y="30"/>
                      </a:lnTo>
                      <a:lnTo>
                        <a:pt x="73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504120" y="3649320"/>
                  <a:ext cx="113760" cy="101520"/>
                </a:xfrm>
                <a:custGeom>
                  <a:avLst/>
                  <a:gdLst/>
                  <a:ahLst/>
                  <a:rect l="l" t="t" r="r" b="b"/>
                  <a:pathLst>
                    <a:path w="398" h="354">
                      <a:moveTo>
                        <a:pt x="78" y="2"/>
                      </a:moveTo>
                      <a:lnTo>
                        <a:pt x="51" y="0"/>
                      </a:lnTo>
                      <a:lnTo>
                        <a:pt x="27" y="30"/>
                      </a:lnTo>
                      <a:lnTo>
                        <a:pt x="12" y="63"/>
                      </a:lnTo>
                      <a:lnTo>
                        <a:pt x="5" y="80"/>
                      </a:lnTo>
                      <a:lnTo>
                        <a:pt x="2" y="99"/>
                      </a:lnTo>
                      <a:lnTo>
                        <a:pt x="0" y="139"/>
                      </a:lnTo>
                      <a:lnTo>
                        <a:pt x="0" y="159"/>
                      </a:lnTo>
                      <a:lnTo>
                        <a:pt x="3" y="181"/>
                      </a:lnTo>
                      <a:lnTo>
                        <a:pt x="8" y="200"/>
                      </a:lnTo>
                      <a:lnTo>
                        <a:pt x="15" y="221"/>
                      </a:lnTo>
                      <a:lnTo>
                        <a:pt x="23" y="239"/>
                      </a:lnTo>
                      <a:lnTo>
                        <a:pt x="35" y="257"/>
                      </a:lnTo>
                      <a:lnTo>
                        <a:pt x="47" y="274"/>
                      </a:lnTo>
                      <a:lnTo>
                        <a:pt x="63" y="291"/>
                      </a:lnTo>
                      <a:lnTo>
                        <a:pt x="79" y="306"/>
                      </a:lnTo>
                      <a:lnTo>
                        <a:pt x="96" y="318"/>
                      </a:lnTo>
                      <a:lnTo>
                        <a:pt x="113" y="328"/>
                      </a:lnTo>
                      <a:lnTo>
                        <a:pt x="132" y="339"/>
                      </a:lnTo>
                      <a:lnTo>
                        <a:pt x="152" y="344"/>
                      </a:lnTo>
                      <a:lnTo>
                        <a:pt x="172" y="350"/>
                      </a:lnTo>
                      <a:lnTo>
                        <a:pt x="193" y="353"/>
                      </a:lnTo>
                      <a:lnTo>
                        <a:pt x="216" y="354"/>
                      </a:lnTo>
                      <a:lnTo>
                        <a:pt x="237" y="353"/>
                      </a:lnTo>
                      <a:lnTo>
                        <a:pt x="247" y="351"/>
                      </a:lnTo>
                      <a:lnTo>
                        <a:pt x="258" y="350"/>
                      </a:lnTo>
                      <a:lnTo>
                        <a:pt x="267" y="346"/>
                      </a:lnTo>
                      <a:lnTo>
                        <a:pt x="277" y="344"/>
                      </a:lnTo>
                      <a:lnTo>
                        <a:pt x="298" y="339"/>
                      </a:lnTo>
                      <a:lnTo>
                        <a:pt x="316" y="328"/>
                      </a:lnTo>
                      <a:lnTo>
                        <a:pt x="334" y="318"/>
                      </a:lnTo>
                      <a:lnTo>
                        <a:pt x="342" y="311"/>
                      </a:lnTo>
                      <a:lnTo>
                        <a:pt x="351" y="306"/>
                      </a:lnTo>
                      <a:lnTo>
                        <a:pt x="354" y="301"/>
                      </a:lnTo>
                      <a:lnTo>
                        <a:pt x="359" y="298"/>
                      </a:lnTo>
                      <a:lnTo>
                        <a:pt x="368" y="291"/>
                      </a:lnTo>
                      <a:lnTo>
                        <a:pt x="383" y="273"/>
                      </a:lnTo>
                      <a:lnTo>
                        <a:pt x="390" y="264"/>
                      </a:lnTo>
                      <a:lnTo>
                        <a:pt x="393" y="259"/>
                      </a:lnTo>
                      <a:lnTo>
                        <a:pt x="398" y="256"/>
                      </a:lnTo>
                      <a:lnTo>
                        <a:pt x="387" y="231"/>
                      </a:lnTo>
                      <a:lnTo>
                        <a:pt x="371" y="254"/>
                      </a:lnTo>
                      <a:lnTo>
                        <a:pt x="353" y="276"/>
                      </a:lnTo>
                      <a:lnTo>
                        <a:pt x="337" y="289"/>
                      </a:lnTo>
                      <a:lnTo>
                        <a:pt x="323" y="300"/>
                      </a:lnTo>
                      <a:lnTo>
                        <a:pt x="314" y="305"/>
                      </a:lnTo>
                      <a:lnTo>
                        <a:pt x="309" y="307"/>
                      </a:lnTo>
                      <a:lnTo>
                        <a:pt x="307" y="308"/>
                      </a:lnTo>
                      <a:lnTo>
                        <a:pt x="306" y="310"/>
                      </a:lnTo>
                      <a:lnTo>
                        <a:pt x="290" y="318"/>
                      </a:lnTo>
                      <a:lnTo>
                        <a:pt x="272" y="324"/>
                      </a:lnTo>
                      <a:lnTo>
                        <a:pt x="254" y="328"/>
                      </a:lnTo>
                      <a:lnTo>
                        <a:pt x="248" y="328"/>
                      </a:lnTo>
                      <a:lnTo>
                        <a:pt x="243" y="329"/>
                      </a:lnTo>
                      <a:lnTo>
                        <a:pt x="234" y="332"/>
                      </a:lnTo>
                      <a:lnTo>
                        <a:pt x="216" y="333"/>
                      </a:lnTo>
                      <a:lnTo>
                        <a:pt x="196" y="332"/>
                      </a:lnTo>
                      <a:lnTo>
                        <a:pt x="176" y="328"/>
                      </a:lnTo>
                      <a:lnTo>
                        <a:pt x="157" y="324"/>
                      </a:lnTo>
                      <a:lnTo>
                        <a:pt x="140" y="318"/>
                      </a:lnTo>
                      <a:lnTo>
                        <a:pt x="123" y="310"/>
                      </a:lnTo>
                      <a:lnTo>
                        <a:pt x="107" y="300"/>
                      </a:lnTo>
                      <a:lnTo>
                        <a:pt x="91" y="289"/>
                      </a:lnTo>
                      <a:lnTo>
                        <a:pt x="78" y="276"/>
                      </a:lnTo>
                      <a:lnTo>
                        <a:pt x="63" y="260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3"/>
                      </a:lnTo>
                      <a:lnTo>
                        <a:pt x="28" y="195"/>
                      </a:lnTo>
                      <a:lnTo>
                        <a:pt x="25" y="176"/>
                      </a:lnTo>
                      <a:lnTo>
                        <a:pt x="21" y="157"/>
                      </a:lnTo>
                      <a:lnTo>
                        <a:pt x="21" y="139"/>
                      </a:lnTo>
                      <a:lnTo>
                        <a:pt x="25" y="99"/>
                      </a:lnTo>
                      <a:lnTo>
                        <a:pt x="35" y="64"/>
                      </a:lnTo>
                      <a:lnTo>
                        <a:pt x="52" y="31"/>
                      </a:lnTo>
                      <a:lnTo>
                        <a:pt x="63" y="15"/>
                      </a:lnTo>
                      <a:lnTo>
                        <a:pt x="78" y="2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528600" y="3654720"/>
                  <a:ext cx="74160" cy="71280"/>
                </a:xfrm>
                <a:custGeom>
                  <a:avLst/>
                  <a:gdLst/>
                  <a:ahLst/>
                  <a:rect l="l" t="t" r="r" b="b"/>
                  <a:pathLst>
                    <a:path w="258" h="248">
                      <a:moveTo>
                        <a:pt x="21" y="119"/>
                      </a:moveTo>
                      <a:lnTo>
                        <a:pt x="22" y="96"/>
                      </a:lnTo>
                      <a:lnTo>
                        <a:pt x="29" y="77"/>
                      </a:lnTo>
                      <a:lnTo>
                        <a:pt x="38" y="58"/>
                      </a:lnTo>
                      <a:lnTo>
                        <a:pt x="53" y="42"/>
                      </a:lnTo>
                      <a:lnTo>
                        <a:pt x="64" y="29"/>
                      </a:lnTo>
                      <a:lnTo>
                        <a:pt x="78" y="21"/>
                      </a:lnTo>
                      <a:lnTo>
                        <a:pt x="92" y="16"/>
                      </a:lnTo>
                      <a:lnTo>
                        <a:pt x="107" y="12"/>
                      </a:lnTo>
                      <a:lnTo>
                        <a:pt x="77" y="0"/>
                      </a:lnTo>
                      <a:lnTo>
                        <a:pt x="55" y="11"/>
                      </a:lnTo>
                      <a:lnTo>
                        <a:pt x="38" y="27"/>
                      </a:lnTo>
                      <a:lnTo>
                        <a:pt x="20" y="46"/>
                      </a:lnTo>
                      <a:lnTo>
                        <a:pt x="9" y="68"/>
                      </a:lnTo>
                      <a:lnTo>
                        <a:pt x="2" y="92"/>
                      </a:lnTo>
                      <a:lnTo>
                        <a:pt x="0" y="119"/>
                      </a:lnTo>
                      <a:lnTo>
                        <a:pt x="2" y="144"/>
                      </a:lnTo>
                      <a:lnTo>
                        <a:pt x="4" y="155"/>
                      </a:lnTo>
                      <a:lnTo>
                        <a:pt x="9" y="168"/>
                      </a:lnTo>
                      <a:lnTo>
                        <a:pt x="13" y="178"/>
                      </a:lnTo>
                      <a:lnTo>
                        <a:pt x="20" y="189"/>
                      </a:lnTo>
                      <a:lnTo>
                        <a:pt x="38" y="210"/>
                      </a:lnTo>
                      <a:lnTo>
                        <a:pt x="58" y="226"/>
                      </a:lnTo>
                      <a:lnTo>
                        <a:pt x="68" y="232"/>
                      </a:lnTo>
                      <a:lnTo>
                        <a:pt x="79" y="238"/>
                      </a:lnTo>
                      <a:lnTo>
                        <a:pt x="103" y="245"/>
                      </a:lnTo>
                      <a:lnTo>
                        <a:pt x="117" y="247"/>
                      </a:lnTo>
                      <a:lnTo>
                        <a:pt x="130" y="248"/>
                      </a:lnTo>
                      <a:lnTo>
                        <a:pt x="141" y="247"/>
                      </a:lnTo>
                      <a:lnTo>
                        <a:pt x="155" y="245"/>
                      </a:lnTo>
                      <a:lnTo>
                        <a:pt x="166" y="241"/>
                      </a:lnTo>
                      <a:lnTo>
                        <a:pt x="172" y="239"/>
                      </a:lnTo>
                      <a:lnTo>
                        <a:pt x="179" y="238"/>
                      </a:lnTo>
                      <a:lnTo>
                        <a:pt x="183" y="235"/>
                      </a:lnTo>
                      <a:lnTo>
                        <a:pt x="189" y="232"/>
                      </a:lnTo>
                      <a:lnTo>
                        <a:pt x="200" y="226"/>
                      </a:lnTo>
                      <a:lnTo>
                        <a:pt x="205" y="221"/>
                      </a:lnTo>
                      <a:lnTo>
                        <a:pt x="207" y="219"/>
                      </a:lnTo>
                      <a:lnTo>
                        <a:pt x="207" y="218"/>
                      </a:lnTo>
                      <a:lnTo>
                        <a:pt x="208" y="218"/>
                      </a:lnTo>
                      <a:lnTo>
                        <a:pt x="211" y="218"/>
                      </a:lnTo>
                      <a:lnTo>
                        <a:pt x="222" y="210"/>
                      </a:lnTo>
                      <a:lnTo>
                        <a:pt x="228" y="201"/>
                      </a:lnTo>
                      <a:lnTo>
                        <a:pt x="234" y="193"/>
                      </a:lnTo>
                      <a:lnTo>
                        <a:pt x="246" y="175"/>
                      </a:lnTo>
                      <a:lnTo>
                        <a:pt x="246" y="171"/>
                      </a:lnTo>
                      <a:lnTo>
                        <a:pt x="247" y="169"/>
                      </a:lnTo>
                      <a:lnTo>
                        <a:pt x="249" y="164"/>
                      </a:lnTo>
                      <a:lnTo>
                        <a:pt x="253" y="155"/>
                      </a:lnTo>
                      <a:lnTo>
                        <a:pt x="255" y="145"/>
                      </a:lnTo>
                      <a:lnTo>
                        <a:pt x="258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6" y="139"/>
                      </a:lnTo>
                      <a:lnTo>
                        <a:pt x="230" y="160"/>
                      </a:lnTo>
                      <a:lnTo>
                        <a:pt x="220" y="178"/>
                      </a:lnTo>
                      <a:lnTo>
                        <a:pt x="213" y="186"/>
                      </a:lnTo>
                      <a:lnTo>
                        <a:pt x="206" y="195"/>
                      </a:lnTo>
                      <a:lnTo>
                        <a:pt x="197" y="202"/>
                      </a:lnTo>
                      <a:lnTo>
                        <a:pt x="189" y="209"/>
                      </a:lnTo>
                      <a:lnTo>
                        <a:pt x="171" y="219"/>
                      </a:lnTo>
                      <a:lnTo>
                        <a:pt x="151" y="224"/>
                      </a:lnTo>
                      <a:lnTo>
                        <a:pt x="130" y="227"/>
                      </a:lnTo>
                      <a:lnTo>
                        <a:pt x="107" y="224"/>
                      </a:lnTo>
                      <a:lnTo>
                        <a:pt x="88" y="219"/>
                      </a:lnTo>
                      <a:lnTo>
                        <a:pt x="69" y="209"/>
                      </a:lnTo>
                      <a:lnTo>
                        <a:pt x="53" y="195"/>
                      </a:lnTo>
                      <a:lnTo>
                        <a:pt x="38" y="178"/>
                      </a:lnTo>
                      <a:lnTo>
                        <a:pt x="29" y="160"/>
                      </a:lnTo>
                      <a:lnTo>
                        <a:pt x="22" y="139"/>
                      </a:lnTo>
                      <a:lnTo>
                        <a:pt x="21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534720" y="365904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7" h="215">
                      <a:moveTo>
                        <a:pt x="32" y="30"/>
                      </a:moveTo>
                      <a:lnTo>
                        <a:pt x="17" y="46"/>
                      </a:lnTo>
                      <a:lnTo>
                        <a:pt x="8" y="65"/>
                      </a:lnTo>
                      <a:lnTo>
                        <a:pt x="1" y="84"/>
                      </a:lnTo>
                      <a:lnTo>
                        <a:pt x="0" y="107"/>
                      </a:lnTo>
                      <a:lnTo>
                        <a:pt x="1" y="127"/>
                      </a:lnTo>
                      <a:lnTo>
                        <a:pt x="8" y="148"/>
                      </a:lnTo>
                      <a:lnTo>
                        <a:pt x="17" y="166"/>
                      </a:lnTo>
                      <a:lnTo>
                        <a:pt x="32" y="183"/>
                      </a:lnTo>
                      <a:lnTo>
                        <a:pt x="48" y="197"/>
                      </a:lnTo>
                      <a:lnTo>
                        <a:pt x="67" y="207"/>
                      </a:lnTo>
                      <a:lnTo>
                        <a:pt x="86" y="212"/>
                      </a:lnTo>
                      <a:lnTo>
                        <a:pt x="109" y="215"/>
                      </a:lnTo>
                      <a:lnTo>
                        <a:pt x="130" y="212"/>
                      </a:lnTo>
                      <a:lnTo>
                        <a:pt x="150" y="207"/>
                      </a:lnTo>
                      <a:lnTo>
                        <a:pt x="168" y="197"/>
                      </a:lnTo>
                      <a:lnTo>
                        <a:pt x="176" y="190"/>
                      </a:lnTo>
                      <a:lnTo>
                        <a:pt x="185" y="183"/>
                      </a:lnTo>
                      <a:lnTo>
                        <a:pt x="192" y="174"/>
                      </a:lnTo>
                      <a:lnTo>
                        <a:pt x="199" y="166"/>
                      </a:lnTo>
                      <a:lnTo>
                        <a:pt x="209" y="148"/>
                      </a:lnTo>
                      <a:lnTo>
                        <a:pt x="215" y="127"/>
                      </a:lnTo>
                      <a:lnTo>
                        <a:pt x="217" y="107"/>
                      </a:lnTo>
                      <a:lnTo>
                        <a:pt x="217" y="99"/>
                      </a:lnTo>
                      <a:lnTo>
                        <a:pt x="199" y="80"/>
                      </a:lnTo>
                      <a:lnTo>
                        <a:pt x="192" y="73"/>
                      </a:lnTo>
                      <a:lnTo>
                        <a:pt x="190" y="71"/>
                      </a:lnTo>
                      <a:lnTo>
                        <a:pt x="189" y="70"/>
                      </a:lnTo>
                      <a:lnTo>
                        <a:pt x="186" y="67"/>
                      </a:lnTo>
                      <a:lnTo>
                        <a:pt x="193" y="85"/>
                      </a:lnTo>
                      <a:lnTo>
                        <a:pt x="195" y="107"/>
                      </a:lnTo>
                      <a:lnTo>
                        <a:pt x="193" y="123"/>
                      </a:lnTo>
                      <a:lnTo>
                        <a:pt x="189" y="139"/>
                      </a:lnTo>
                      <a:lnTo>
                        <a:pt x="184" y="146"/>
                      </a:lnTo>
                      <a:lnTo>
                        <a:pt x="182" y="149"/>
                      </a:lnTo>
                      <a:lnTo>
                        <a:pt x="181" y="153"/>
                      </a:lnTo>
                      <a:lnTo>
                        <a:pt x="170" y="167"/>
                      </a:lnTo>
                      <a:lnTo>
                        <a:pt x="162" y="172"/>
                      </a:lnTo>
                      <a:lnTo>
                        <a:pt x="156" y="177"/>
                      </a:lnTo>
                      <a:lnTo>
                        <a:pt x="148" y="182"/>
                      </a:lnTo>
                      <a:lnTo>
                        <a:pt x="141" y="186"/>
                      </a:lnTo>
                      <a:lnTo>
                        <a:pt x="125" y="191"/>
                      </a:lnTo>
                      <a:lnTo>
                        <a:pt x="109" y="193"/>
                      </a:lnTo>
                      <a:lnTo>
                        <a:pt x="91" y="191"/>
                      </a:lnTo>
                      <a:lnTo>
                        <a:pt x="75" y="186"/>
                      </a:lnTo>
                      <a:lnTo>
                        <a:pt x="60" y="177"/>
                      </a:lnTo>
                      <a:lnTo>
                        <a:pt x="48" y="167"/>
                      </a:lnTo>
                      <a:lnTo>
                        <a:pt x="37" y="153"/>
                      </a:lnTo>
                      <a:lnTo>
                        <a:pt x="29" y="139"/>
                      </a:lnTo>
                      <a:lnTo>
                        <a:pt x="24" y="123"/>
                      </a:lnTo>
                      <a:lnTo>
                        <a:pt x="23" y="107"/>
                      </a:lnTo>
                      <a:lnTo>
                        <a:pt x="24" y="89"/>
                      </a:lnTo>
                      <a:lnTo>
                        <a:pt x="29" y="73"/>
                      </a:lnTo>
                      <a:lnTo>
                        <a:pt x="37" y="58"/>
                      </a:lnTo>
                      <a:lnTo>
                        <a:pt x="48" y="46"/>
                      </a:lnTo>
                      <a:lnTo>
                        <a:pt x="60" y="33"/>
                      </a:lnTo>
                      <a:lnTo>
                        <a:pt x="75" y="25"/>
                      </a:lnTo>
                      <a:lnTo>
                        <a:pt x="91" y="21"/>
                      </a:lnTo>
                      <a:lnTo>
                        <a:pt x="109" y="20"/>
                      </a:lnTo>
                      <a:lnTo>
                        <a:pt x="117" y="20"/>
                      </a:lnTo>
                      <a:lnTo>
                        <a:pt x="126" y="22"/>
                      </a:lnTo>
                      <a:lnTo>
                        <a:pt x="106" y="9"/>
                      </a:lnTo>
                      <a:lnTo>
                        <a:pt x="86" y="0"/>
                      </a:lnTo>
                      <a:lnTo>
                        <a:pt x="71" y="4"/>
                      </a:lnTo>
                      <a:lnTo>
                        <a:pt x="57" y="9"/>
                      </a:lnTo>
                      <a:lnTo>
                        <a:pt x="43" y="17"/>
                      </a:lnTo>
                      <a:lnTo>
                        <a:pt x="32" y="30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541200" y="3664080"/>
                  <a:ext cx="49680" cy="49680"/>
                </a:xfrm>
                <a:custGeom>
                  <a:avLst/>
                  <a:gdLst/>
                  <a:ahLst/>
                  <a:rect l="l" t="t" r="r" b="b"/>
                  <a:pathLst>
                    <a:path w="172" h="173">
                      <a:moveTo>
                        <a:pt x="103" y="2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1"/>
                      </a:lnTo>
                      <a:lnTo>
                        <a:pt x="52" y="5"/>
                      </a:lnTo>
                      <a:lnTo>
                        <a:pt x="37" y="13"/>
                      </a:lnTo>
                      <a:lnTo>
                        <a:pt x="25" y="26"/>
                      </a:lnTo>
                      <a:lnTo>
                        <a:pt x="14" y="38"/>
                      </a:lnTo>
                      <a:lnTo>
                        <a:pt x="6" y="53"/>
                      </a:lnTo>
                      <a:lnTo>
                        <a:pt x="1" y="69"/>
                      </a:lnTo>
                      <a:lnTo>
                        <a:pt x="0" y="87"/>
                      </a:lnTo>
                      <a:lnTo>
                        <a:pt x="1" y="103"/>
                      </a:lnTo>
                      <a:lnTo>
                        <a:pt x="6" y="119"/>
                      </a:lnTo>
                      <a:lnTo>
                        <a:pt x="14" y="133"/>
                      </a:lnTo>
                      <a:lnTo>
                        <a:pt x="25" y="147"/>
                      </a:lnTo>
                      <a:lnTo>
                        <a:pt x="37" y="157"/>
                      </a:lnTo>
                      <a:lnTo>
                        <a:pt x="52" y="166"/>
                      </a:lnTo>
                      <a:lnTo>
                        <a:pt x="68" y="171"/>
                      </a:lnTo>
                      <a:lnTo>
                        <a:pt x="86" y="173"/>
                      </a:lnTo>
                      <a:lnTo>
                        <a:pt x="102" y="171"/>
                      </a:lnTo>
                      <a:lnTo>
                        <a:pt x="118" y="166"/>
                      </a:lnTo>
                      <a:lnTo>
                        <a:pt x="125" y="162"/>
                      </a:lnTo>
                      <a:lnTo>
                        <a:pt x="133" y="157"/>
                      </a:lnTo>
                      <a:lnTo>
                        <a:pt x="139" y="152"/>
                      </a:lnTo>
                      <a:lnTo>
                        <a:pt x="147" y="147"/>
                      </a:lnTo>
                      <a:lnTo>
                        <a:pt x="158" y="133"/>
                      </a:lnTo>
                      <a:lnTo>
                        <a:pt x="159" y="129"/>
                      </a:lnTo>
                      <a:lnTo>
                        <a:pt x="161" y="126"/>
                      </a:lnTo>
                      <a:lnTo>
                        <a:pt x="166" y="119"/>
                      </a:lnTo>
                      <a:lnTo>
                        <a:pt x="170" y="103"/>
                      </a:lnTo>
                      <a:lnTo>
                        <a:pt x="172" y="87"/>
                      </a:lnTo>
                      <a:lnTo>
                        <a:pt x="170" y="65"/>
                      </a:lnTo>
                      <a:lnTo>
                        <a:pt x="163" y="47"/>
                      </a:lnTo>
                      <a:lnTo>
                        <a:pt x="134" y="22"/>
                      </a:lnTo>
                      <a:lnTo>
                        <a:pt x="118" y="11"/>
                      </a:lnTo>
                      <a:lnTo>
                        <a:pt x="103" y="2"/>
                      </a:lnTo>
                      <a:close/>
                      <a:moveTo>
                        <a:pt x="22" y="87"/>
                      </a:moveTo>
                      <a:lnTo>
                        <a:pt x="23" y="73"/>
                      </a:lnTo>
                      <a:lnTo>
                        <a:pt x="26" y="61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1"/>
                      </a:lnTo>
                      <a:lnTo>
                        <a:pt x="60" y="26"/>
                      </a:lnTo>
                      <a:lnTo>
                        <a:pt x="73" y="22"/>
                      </a:lnTo>
                      <a:lnTo>
                        <a:pt x="86" y="21"/>
                      </a:lnTo>
                      <a:lnTo>
                        <a:pt x="97" y="22"/>
                      </a:lnTo>
                      <a:lnTo>
                        <a:pt x="110" y="26"/>
                      </a:lnTo>
                      <a:lnTo>
                        <a:pt x="120" y="31"/>
                      </a:lnTo>
                      <a:lnTo>
                        <a:pt x="132" y="41"/>
                      </a:lnTo>
                      <a:lnTo>
                        <a:pt x="139" y="50"/>
                      </a:lnTo>
                      <a:lnTo>
                        <a:pt x="145" y="61"/>
                      </a:lnTo>
                      <a:lnTo>
                        <a:pt x="149" y="73"/>
                      </a:lnTo>
                      <a:lnTo>
                        <a:pt x="151" y="87"/>
                      </a:lnTo>
                      <a:lnTo>
                        <a:pt x="149" y="98"/>
                      </a:lnTo>
                      <a:lnTo>
                        <a:pt x="146" y="104"/>
                      </a:lnTo>
                      <a:lnTo>
                        <a:pt x="145" y="111"/>
                      </a:lnTo>
                      <a:lnTo>
                        <a:pt x="142" y="115"/>
                      </a:lnTo>
                      <a:lnTo>
                        <a:pt x="139" y="121"/>
                      </a:lnTo>
                      <a:lnTo>
                        <a:pt x="132" y="132"/>
                      </a:lnTo>
                      <a:lnTo>
                        <a:pt x="120" y="140"/>
                      </a:lnTo>
                      <a:lnTo>
                        <a:pt x="115" y="143"/>
                      </a:lnTo>
                      <a:lnTo>
                        <a:pt x="110" y="146"/>
                      </a:lnTo>
                      <a:lnTo>
                        <a:pt x="103" y="147"/>
                      </a:lnTo>
                      <a:lnTo>
                        <a:pt x="97" y="149"/>
                      </a:lnTo>
                      <a:lnTo>
                        <a:pt x="86" y="152"/>
                      </a:lnTo>
                      <a:lnTo>
                        <a:pt x="73" y="149"/>
                      </a:lnTo>
                      <a:lnTo>
                        <a:pt x="60" y="146"/>
                      </a:lnTo>
                      <a:lnTo>
                        <a:pt x="49" y="140"/>
                      </a:lnTo>
                      <a:lnTo>
                        <a:pt x="40" y="132"/>
                      </a:lnTo>
                      <a:lnTo>
                        <a:pt x="32" y="121"/>
                      </a:lnTo>
                      <a:lnTo>
                        <a:pt x="26" y="111"/>
                      </a:lnTo>
                      <a:lnTo>
                        <a:pt x="23" y="98"/>
                      </a:lnTo>
                      <a:lnTo>
                        <a:pt x="22" y="87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547320" y="367020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18" y="20"/>
                      </a:moveTo>
                      <a:lnTo>
                        <a:pt x="10" y="29"/>
                      </a:lnTo>
                      <a:lnTo>
                        <a:pt x="4" y="40"/>
                      </a:lnTo>
                      <a:lnTo>
                        <a:pt x="1" y="52"/>
                      </a:lnTo>
                      <a:lnTo>
                        <a:pt x="0" y="66"/>
                      </a:lnTo>
                      <a:lnTo>
                        <a:pt x="1" y="77"/>
                      </a:lnTo>
                      <a:lnTo>
                        <a:pt x="4" y="90"/>
                      </a:lnTo>
                      <a:lnTo>
                        <a:pt x="10" y="100"/>
                      </a:lnTo>
                      <a:lnTo>
                        <a:pt x="18" y="111"/>
                      </a:lnTo>
                      <a:lnTo>
                        <a:pt x="27" y="119"/>
                      </a:lnTo>
                      <a:lnTo>
                        <a:pt x="38" y="125"/>
                      </a:lnTo>
                      <a:lnTo>
                        <a:pt x="51" y="128"/>
                      </a:lnTo>
                      <a:lnTo>
                        <a:pt x="64" y="131"/>
                      </a:lnTo>
                      <a:lnTo>
                        <a:pt x="75" y="128"/>
                      </a:lnTo>
                      <a:lnTo>
                        <a:pt x="81" y="126"/>
                      </a:lnTo>
                      <a:lnTo>
                        <a:pt x="88" y="125"/>
                      </a:lnTo>
                      <a:lnTo>
                        <a:pt x="93" y="122"/>
                      </a:lnTo>
                      <a:lnTo>
                        <a:pt x="98" y="119"/>
                      </a:lnTo>
                      <a:lnTo>
                        <a:pt x="110" y="111"/>
                      </a:lnTo>
                      <a:lnTo>
                        <a:pt x="117" y="100"/>
                      </a:lnTo>
                      <a:lnTo>
                        <a:pt x="120" y="94"/>
                      </a:lnTo>
                      <a:lnTo>
                        <a:pt x="123" y="90"/>
                      </a:lnTo>
                      <a:lnTo>
                        <a:pt x="124" y="83"/>
                      </a:lnTo>
                      <a:lnTo>
                        <a:pt x="127" y="77"/>
                      </a:lnTo>
                      <a:lnTo>
                        <a:pt x="129" y="66"/>
                      </a:lnTo>
                      <a:lnTo>
                        <a:pt x="127" y="52"/>
                      </a:lnTo>
                      <a:lnTo>
                        <a:pt x="123" y="40"/>
                      </a:lnTo>
                      <a:lnTo>
                        <a:pt x="117" y="29"/>
                      </a:lnTo>
                      <a:lnTo>
                        <a:pt x="110" y="20"/>
                      </a:lnTo>
                      <a:lnTo>
                        <a:pt x="98" y="10"/>
                      </a:lnTo>
                      <a:lnTo>
                        <a:pt x="88" y="5"/>
                      </a:lnTo>
                      <a:lnTo>
                        <a:pt x="75" y="1"/>
                      </a:lnTo>
                      <a:lnTo>
                        <a:pt x="64" y="0"/>
                      </a:lnTo>
                      <a:lnTo>
                        <a:pt x="51" y="1"/>
                      </a:lnTo>
                      <a:lnTo>
                        <a:pt x="38" y="5"/>
                      </a:lnTo>
                      <a:lnTo>
                        <a:pt x="27" y="10"/>
                      </a:lnTo>
                      <a:lnTo>
                        <a:pt x="18" y="20"/>
                      </a:lnTo>
                      <a:close/>
                      <a:moveTo>
                        <a:pt x="21" y="66"/>
                      </a:moveTo>
                      <a:lnTo>
                        <a:pt x="23" y="49"/>
                      </a:lnTo>
                      <a:lnTo>
                        <a:pt x="34" y="34"/>
                      </a:lnTo>
                      <a:lnTo>
                        <a:pt x="39" y="27"/>
                      </a:lnTo>
                      <a:lnTo>
                        <a:pt x="47" y="24"/>
                      </a:lnTo>
                      <a:lnTo>
                        <a:pt x="64" y="22"/>
                      </a:lnTo>
                      <a:lnTo>
                        <a:pt x="72" y="22"/>
                      </a:lnTo>
                      <a:lnTo>
                        <a:pt x="80" y="24"/>
                      </a:lnTo>
                      <a:lnTo>
                        <a:pt x="87" y="27"/>
                      </a:lnTo>
                      <a:lnTo>
                        <a:pt x="95" y="34"/>
                      </a:lnTo>
                      <a:lnTo>
                        <a:pt x="104" y="49"/>
                      </a:lnTo>
                      <a:lnTo>
                        <a:pt x="106" y="57"/>
                      </a:lnTo>
                      <a:lnTo>
                        <a:pt x="107" y="66"/>
                      </a:lnTo>
                      <a:lnTo>
                        <a:pt x="106" y="73"/>
                      </a:lnTo>
                      <a:lnTo>
                        <a:pt x="104" y="82"/>
                      </a:lnTo>
                      <a:lnTo>
                        <a:pt x="99" y="89"/>
                      </a:lnTo>
                      <a:lnTo>
                        <a:pt x="95" y="97"/>
                      </a:lnTo>
                      <a:lnTo>
                        <a:pt x="87" y="101"/>
                      </a:lnTo>
                      <a:lnTo>
                        <a:pt x="80" y="106"/>
                      </a:lnTo>
                      <a:lnTo>
                        <a:pt x="72" y="108"/>
                      </a:lnTo>
                      <a:lnTo>
                        <a:pt x="68" y="108"/>
                      </a:lnTo>
                      <a:lnTo>
                        <a:pt x="65" y="108"/>
                      </a:lnTo>
                      <a:lnTo>
                        <a:pt x="64" y="108"/>
                      </a:lnTo>
                      <a:lnTo>
                        <a:pt x="64" y="109"/>
                      </a:lnTo>
                      <a:lnTo>
                        <a:pt x="55" y="108"/>
                      </a:lnTo>
                      <a:lnTo>
                        <a:pt x="47" y="106"/>
                      </a:lnTo>
                      <a:lnTo>
                        <a:pt x="39" y="101"/>
                      </a:lnTo>
                      <a:lnTo>
                        <a:pt x="34" y="97"/>
                      </a:lnTo>
                      <a:lnTo>
                        <a:pt x="27" y="89"/>
                      </a:lnTo>
                      <a:lnTo>
                        <a:pt x="23" y="82"/>
                      </a:lnTo>
                      <a:lnTo>
                        <a:pt x="21" y="66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553800" y="3676320"/>
                  <a:ext cx="24480" cy="24840"/>
                </a:xfrm>
                <a:custGeom>
                  <a:avLst/>
                  <a:gdLst/>
                  <a:ahLst/>
                  <a:rect l="l" t="t" r="r" b="b"/>
                  <a:pathLst>
                    <a:path w="86" h="87">
                      <a:moveTo>
                        <a:pt x="13" y="12"/>
                      </a:moveTo>
                      <a:lnTo>
                        <a:pt x="2" y="27"/>
                      </a:lnTo>
                      <a:lnTo>
                        <a:pt x="0" y="44"/>
                      </a:lnTo>
                      <a:lnTo>
                        <a:pt x="2" y="60"/>
                      </a:lnTo>
                      <a:lnTo>
                        <a:pt x="6" y="67"/>
                      </a:lnTo>
                      <a:lnTo>
                        <a:pt x="13" y="75"/>
                      </a:lnTo>
                      <a:lnTo>
                        <a:pt x="18" y="79"/>
                      </a:lnTo>
                      <a:lnTo>
                        <a:pt x="26" y="84"/>
                      </a:lnTo>
                      <a:lnTo>
                        <a:pt x="34" y="86"/>
                      </a:lnTo>
                      <a:lnTo>
                        <a:pt x="43" y="87"/>
                      </a:lnTo>
                      <a:lnTo>
                        <a:pt x="43" y="86"/>
                      </a:lnTo>
                      <a:lnTo>
                        <a:pt x="44" y="86"/>
                      </a:lnTo>
                      <a:lnTo>
                        <a:pt x="47" y="86"/>
                      </a:lnTo>
                      <a:lnTo>
                        <a:pt x="51" y="86"/>
                      </a:lnTo>
                      <a:lnTo>
                        <a:pt x="59" y="84"/>
                      </a:lnTo>
                      <a:lnTo>
                        <a:pt x="66" y="79"/>
                      </a:lnTo>
                      <a:lnTo>
                        <a:pt x="74" y="75"/>
                      </a:lnTo>
                      <a:lnTo>
                        <a:pt x="78" y="67"/>
                      </a:lnTo>
                      <a:lnTo>
                        <a:pt x="83" y="60"/>
                      </a:lnTo>
                      <a:lnTo>
                        <a:pt x="85" y="51"/>
                      </a:lnTo>
                      <a:lnTo>
                        <a:pt x="86" y="44"/>
                      </a:lnTo>
                      <a:lnTo>
                        <a:pt x="85" y="35"/>
                      </a:lnTo>
                      <a:lnTo>
                        <a:pt x="83" y="27"/>
                      </a:lnTo>
                      <a:lnTo>
                        <a:pt x="74" y="12"/>
                      </a:lnTo>
                      <a:lnTo>
                        <a:pt x="66" y="5"/>
                      </a:lnTo>
                      <a:lnTo>
                        <a:pt x="59" y="2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2"/>
                      </a:lnTo>
                      <a:lnTo>
                        <a:pt x="18" y="5"/>
                      </a:lnTo>
                      <a:lnTo>
                        <a:pt x="13" y="12"/>
                      </a:lnTo>
                      <a:close/>
                      <a:moveTo>
                        <a:pt x="22" y="44"/>
                      </a:moveTo>
                      <a:lnTo>
                        <a:pt x="23" y="35"/>
                      </a:lnTo>
                      <a:lnTo>
                        <a:pt x="27" y="28"/>
                      </a:lnTo>
                      <a:lnTo>
                        <a:pt x="34" y="24"/>
                      </a:lnTo>
                      <a:lnTo>
                        <a:pt x="43" y="22"/>
                      </a:lnTo>
                      <a:lnTo>
                        <a:pt x="51" y="24"/>
                      </a:lnTo>
                      <a:lnTo>
                        <a:pt x="58" y="28"/>
                      </a:lnTo>
                      <a:lnTo>
                        <a:pt x="62" y="35"/>
                      </a:lnTo>
                      <a:lnTo>
                        <a:pt x="65" y="44"/>
                      </a:lnTo>
                      <a:lnTo>
                        <a:pt x="62" y="51"/>
                      </a:lnTo>
                      <a:lnTo>
                        <a:pt x="60" y="54"/>
                      </a:lnTo>
                      <a:lnTo>
                        <a:pt x="58" y="59"/>
                      </a:lnTo>
                      <a:lnTo>
                        <a:pt x="51" y="62"/>
                      </a:lnTo>
                      <a:lnTo>
                        <a:pt x="47" y="63"/>
                      </a:lnTo>
                      <a:lnTo>
                        <a:pt x="44" y="63"/>
                      </a:lnTo>
                      <a:lnTo>
                        <a:pt x="43" y="63"/>
                      </a:lnTo>
                      <a:lnTo>
                        <a:pt x="43" y="64"/>
                      </a:lnTo>
                      <a:lnTo>
                        <a:pt x="34" y="62"/>
                      </a:lnTo>
                      <a:lnTo>
                        <a:pt x="27" y="59"/>
                      </a:lnTo>
                      <a:lnTo>
                        <a:pt x="24" y="54"/>
                      </a:lnTo>
                      <a:lnTo>
                        <a:pt x="23" y="51"/>
                      </a:lnTo>
                      <a:lnTo>
                        <a:pt x="22" y="44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559920" y="368280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5" y="6"/>
                      </a:moveTo>
                      <a:lnTo>
                        <a:pt x="1" y="13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5" y="37"/>
                      </a:lnTo>
                      <a:lnTo>
                        <a:pt x="12" y="40"/>
                      </a:lnTo>
                      <a:lnTo>
                        <a:pt x="21" y="42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5" y="41"/>
                      </a:lnTo>
                      <a:lnTo>
                        <a:pt x="29" y="40"/>
                      </a:lnTo>
                      <a:lnTo>
                        <a:pt x="36" y="37"/>
                      </a:lnTo>
                      <a:lnTo>
                        <a:pt x="38" y="32"/>
                      </a:lnTo>
                      <a:lnTo>
                        <a:pt x="40" y="29"/>
                      </a:lnTo>
                      <a:lnTo>
                        <a:pt x="43" y="22"/>
                      </a:lnTo>
                      <a:lnTo>
                        <a:pt x="40" y="13"/>
                      </a:lnTo>
                      <a:lnTo>
                        <a:pt x="36" y="6"/>
                      </a:lnTo>
                      <a:lnTo>
                        <a:pt x="29" y="2"/>
                      </a:lnTo>
                      <a:lnTo>
                        <a:pt x="21" y="0"/>
                      </a:lnTo>
                      <a:lnTo>
                        <a:pt x="12" y="2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423840" y="368784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0" y="26"/>
                      </a:lnTo>
                      <a:lnTo>
                        <a:pt x="0" y="48"/>
                      </a:lnTo>
                      <a:lnTo>
                        <a:pt x="2" y="72"/>
                      </a:lnTo>
                      <a:lnTo>
                        <a:pt x="11" y="118"/>
                      </a:lnTo>
                      <a:lnTo>
                        <a:pt x="22" y="161"/>
                      </a:lnTo>
                      <a:lnTo>
                        <a:pt x="39" y="203"/>
                      </a:lnTo>
                      <a:lnTo>
                        <a:pt x="59" y="242"/>
                      </a:lnTo>
                      <a:lnTo>
                        <a:pt x="83" y="281"/>
                      </a:lnTo>
                      <a:lnTo>
                        <a:pt x="96" y="299"/>
                      </a:lnTo>
                      <a:lnTo>
                        <a:pt x="111" y="318"/>
                      </a:lnTo>
                      <a:lnTo>
                        <a:pt x="145" y="354"/>
                      </a:lnTo>
                      <a:lnTo>
                        <a:pt x="181" y="388"/>
                      </a:lnTo>
                      <a:lnTo>
                        <a:pt x="221" y="418"/>
                      </a:lnTo>
                      <a:lnTo>
                        <a:pt x="260" y="443"/>
                      </a:lnTo>
                      <a:lnTo>
                        <a:pt x="305" y="463"/>
                      </a:lnTo>
                      <a:lnTo>
                        <a:pt x="349" y="479"/>
                      </a:lnTo>
                      <a:lnTo>
                        <a:pt x="396" y="491"/>
                      </a:lnTo>
                      <a:lnTo>
                        <a:pt x="445" y="497"/>
                      </a:lnTo>
                      <a:lnTo>
                        <a:pt x="496" y="500"/>
                      </a:lnTo>
                      <a:lnTo>
                        <a:pt x="526" y="498"/>
                      </a:lnTo>
                      <a:lnTo>
                        <a:pt x="556" y="496"/>
                      </a:lnTo>
                      <a:lnTo>
                        <a:pt x="586" y="492"/>
                      </a:lnTo>
                      <a:lnTo>
                        <a:pt x="615" y="486"/>
                      </a:lnTo>
                      <a:lnTo>
                        <a:pt x="636" y="459"/>
                      </a:lnTo>
                      <a:lnTo>
                        <a:pt x="602" y="467"/>
                      </a:lnTo>
                      <a:lnTo>
                        <a:pt x="568" y="472"/>
                      </a:lnTo>
                      <a:lnTo>
                        <a:pt x="531" y="476"/>
                      </a:lnTo>
                      <a:lnTo>
                        <a:pt x="513" y="477"/>
                      </a:lnTo>
                      <a:lnTo>
                        <a:pt x="504" y="477"/>
                      </a:lnTo>
                      <a:lnTo>
                        <a:pt x="500" y="477"/>
                      </a:lnTo>
                      <a:lnTo>
                        <a:pt x="497" y="477"/>
                      </a:lnTo>
                      <a:lnTo>
                        <a:pt x="496" y="477"/>
                      </a:lnTo>
                      <a:lnTo>
                        <a:pt x="496" y="478"/>
                      </a:lnTo>
                      <a:lnTo>
                        <a:pt x="446" y="476"/>
                      </a:lnTo>
                      <a:lnTo>
                        <a:pt x="400" y="469"/>
                      </a:lnTo>
                      <a:lnTo>
                        <a:pt x="354" y="458"/>
                      </a:lnTo>
                      <a:lnTo>
                        <a:pt x="312" y="443"/>
                      </a:lnTo>
                      <a:lnTo>
                        <a:pt x="271" y="423"/>
                      </a:lnTo>
                      <a:lnTo>
                        <a:pt x="232" y="399"/>
                      </a:lnTo>
                      <a:lnTo>
                        <a:pt x="195" y="370"/>
                      </a:lnTo>
                      <a:lnTo>
                        <a:pt x="159" y="339"/>
                      </a:lnTo>
                      <a:lnTo>
                        <a:pt x="125" y="302"/>
                      </a:lnTo>
                      <a:lnTo>
                        <a:pt x="97" y="265"/>
                      </a:lnTo>
                      <a:lnTo>
                        <a:pt x="83" y="244"/>
                      </a:lnTo>
                      <a:lnTo>
                        <a:pt x="72" y="225"/>
                      </a:lnTo>
                      <a:lnTo>
                        <a:pt x="54" y="184"/>
                      </a:lnTo>
                      <a:lnTo>
                        <a:pt x="38" y="141"/>
                      </a:lnTo>
                      <a:lnTo>
                        <a:pt x="28" y="97"/>
                      </a:lnTo>
                      <a:lnTo>
                        <a:pt x="23" y="73"/>
                      </a:lnTo>
                      <a:lnTo>
                        <a:pt x="21" y="51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429600" y="3681000"/>
                  <a:ext cx="181080" cy="143640"/>
                </a:xfrm>
                <a:custGeom>
                  <a:avLst/>
                  <a:gdLst/>
                  <a:ahLst/>
                  <a:rect l="l" t="t" r="r" b="b"/>
                  <a:pathLst>
                    <a:path w="634" h="502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" y="75"/>
                      </a:lnTo>
                      <a:lnTo>
                        <a:pt x="3" y="97"/>
                      </a:lnTo>
                      <a:lnTo>
                        <a:pt x="8" y="121"/>
                      </a:lnTo>
                      <a:lnTo>
                        <a:pt x="18" y="165"/>
                      </a:lnTo>
                      <a:lnTo>
                        <a:pt x="34" y="208"/>
                      </a:lnTo>
                      <a:lnTo>
                        <a:pt x="52" y="249"/>
                      </a:lnTo>
                      <a:lnTo>
                        <a:pt x="63" y="268"/>
                      </a:lnTo>
                      <a:lnTo>
                        <a:pt x="77" y="289"/>
                      </a:lnTo>
                      <a:lnTo>
                        <a:pt x="105" y="326"/>
                      </a:lnTo>
                      <a:lnTo>
                        <a:pt x="139" y="363"/>
                      </a:lnTo>
                      <a:lnTo>
                        <a:pt x="175" y="394"/>
                      </a:lnTo>
                      <a:lnTo>
                        <a:pt x="212" y="423"/>
                      </a:lnTo>
                      <a:lnTo>
                        <a:pt x="251" y="447"/>
                      </a:lnTo>
                      <a:lnTo>
                        <a:pt x="292" y="467"/>
                      </a:lnTo>
                      <a:lnTo>
                        <a:pt x="334" y="482"/>
                      </a:lnTo>
                      <a:lnTo>
                        <a:pt x="380" y="493"/>
                      </a:lnTo>
                      <a:lnTo>
                        <a:pt x="426" y="500"/>
                      </a:lnTo>
                      <a:lnTo>
                        <a:pt x="476" y="502"/>
                      </a:lnTo>
                      <a:lnTo>
                        <a:pt x="476" y="501"/>
                      </a:lnTo>
                      <a:lnTo>
                        <a:pt x="477" y="501"/>
                      </a:lnTo>
                      <a:lnTo>
                        <a:pt x="480" y="501"/>
                      </a:lnTo>
                      <a:lnTo>
                        <a:pt x="484" y="501"/>
                      </a:lnTo>
                      <a:lnTo>
                        <a:pt x="493" y="501"/>
                      </a:lnTo>
                      <a:lnTo>
                        <a:pt x="511" y="500"/>
                      </a:lnTo>
                      <a:lnTo>
                        <a:pt x="548" y="496"/>
                      </a:lnTo>
                      <a:lnTo>
                        <a:pt x="582" y="491"/>
                      </a:lnTo>
                      <a:lnTo>
                        <a:pt x="616" y="483"/>
                      </a:lnTo>
                      <a:lnTo>
                        <a:pt x="634" y="453"/>
                      </a:lnTo>
                      <a:lnTo>
                        <a:pt x="595" y="465"/>
                      </a:lnTo>
                      <a:lnTo>
                        <a:pt x="557" y="474"/>
                      </a:lnTo>
                      <a:lnTo>
                        <a:pt x="536" y="476"/>
                      </a:lnTo>
                      <a:lnTo>
                        <a:pt x="517" y="478"/>
                      </a:lnTo>
                      <a:lnTo>
                        <a:pt x="476" y="481"/>
                      </a:lnTo>
                      <a:lnTo>
                        <a:pt x="429" y="478"/>
                      </a:lnTo>
                      <a:lnTo>
                        <a:pt x="384" y="471"/>
                      </a:lnTo>
                      <a:lnTo>
                        <a:pt x="341" y="460"/>
                      </a:lnTo>
                      <a:lnTo>
                        <a:pt x="302" y="447"/>
                      </a:lnTo>
                      <a:lnTo>
                        <a:pt x="262" y="427"/>
                      </a:lnTo>
                      <a:lnTo>
                        <a:pt x="224" y="405"/>
                      </a:lnTo>
                      <a:lnTo>
                        <a:pt x="188" y="377"/>
                      </a:lnTo>
                      <a:lnTo>
                        <a:pt x="155" y="347"/>
                      </a:lnTo>
                      <a:lnTo>
                        <a:pt x="138" y="329"/>
                      </a:lnTo>
                      <a:lnTo>
                        <a:pt x="124" y="312"/>
                      </a:lnTo>
                      <a:lnTo>
                        <a:pt x="96" y="275"/>
                      </a:lnTo>
                      <a:lnTo>
                        <a:pt x="84" y="256"/>
                      </a:lnTo>
                      <a:lnTo>
                        <a:pt x="74" y="238"/>
                      </a:lnTo>
                      <a:lnTo>
                        <a:pt x="56" y="199"/>
                      </a:lnTo>
                      <a:lnTo>
                        <a:pt x="40" y="159"/>
                      </a:lnTo>
                      <a:lnTo>
                        <a:pt x="34" y="137"/>
                      </a:lnTo>
                      <a:lnTo>
                        <a:pt x="31" y="117"/>
                      </a:lnTo>
                      <a:lnTo>
                        <a:pt x="26" y="94"/>
                      </a:lnTo>
                      <a:lnTo>
                        <a:pt x="24" y="72"/>
                      </a:lnTo>
                      <a:lnTo>
                        <a:pt x="23" y="27"/>
                      </a:lnTo>
                      <a:lnTo>
                        <a:pt x="2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454800" y="3660480"/>
                  <a:ext cx="16740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8">
                      <a:moveTo>
                        <a:pt x="34" y="0"/>
                      </a:moveTo>
                      <a:lnTo>
                        <a:pt x="9" y="15"/>
                      </a:lnTo>
                      <a:lnTo>
                        <a:pt x="5" y="34"/>
                      </a:lnTo>
                      <a:lnTo>
                        <a:pt x="3" y="56"/>
                      </a:lnTo>
                      <a:lnTo>
                        <a:pt x="0" y="100"/>
                      </a:lnTo>
                      <a:lnTo>
                        <a:pt x="1" y="139"/>
                      </a:lnTo>
                      <a:lnTo>
                        <a:pt x="7" y="177"/>
                      </a:lnTo>
                      <a:lnTo>
                        <a:pt x="15" y="213"/>
                      </a:lnTo>
                      <a:lnTo>
                        <a:pt x="21" y="230"/>
                      </a:lnTo>
                      <a:lnTo>
                        <a:pt x="29" y="249"/>
                      </a:lnTo>
                      <a:lnTo>
                        <a:pt x="43" y="281"/>
                      </a:lnTo>
                      <a:lnTo>
                        <a:pt x="52" y="297"/>
                      </a:lnTo>
                      <a:lnTo>
                        <a:pt x="64" y="314"/>
                      </a:lnTo>
                      <a:lnTo>
                        <a:pt x="74" y="329"/>
                      </a:lnTo>
                      <a:lnTo>
                        <a:pt x="86" y="345"/>
                      </a:lnTo>
                      <a:lnTo>
                        <a:pt x="114" y="374"/>
                      </a:lnTo>
                      <a:lnTo>
                        <a:pt x="142" y="400"/>
                      </a:lnTo>
                      <a:lnTo>
                        <a:pt x="173" y="423"/>
                      </a:lnTo>
                      <a:lnTo>
                        <a:pt x="204" y="442"/>
                      </a:lnTo>
                      <a:lnTo>
                        <a:pt x="239" y="459"/>
                      </a:lnTo>
                      <a:lnTo>
                        <a:pt x="274" y="471"/>
                      </a:lnTo>
                      <a:lnTo>
                        <a:pt x="311" y="480"/>
                      </a:lnTo>
                      <a:lnTo>
                        <a:pt x="348" y="485"/>
                      </a:lnTo>
                      <a:lnTo>
                        <a:pt x="389" y="488"/>
                      </a:lnTo>
                      <a:lnTo>
                        <a:pt x="414" y="487"/>
                      </a:lnTo>
                      <a:lnTo>
                        <a:pt x="440" y="484"/>
                      </a:lnTo>
                      <a:lnTo>
                        <a:pt x="464" y="480"/>
                      </a:lnTo>
                      <a:lnTo>
                        <a:pt x="489" y="475"/>
                      </a:lnTo>
                      <a:lnTo>
                        <a:pt x="512" y="467"/>
                      </a:lnTo>
                      <a:lnTo>
                        <a:pt x="523" y="463"/>
                      </a:lnTo>
                      <a:lnTo>
                        <a:pt x="529" y="461"/>
                      </a:lnTo>
                      <a:lnTo>
                        <a:pt x="535" y="459"/>
                      </a:lnTo>
                      <a:lnTo>
                        <a:pt x="540" y="456"/>
                      </a:lnTo>
                      <a:lnTo>
                        <a:pt x="546" y="454"/>
                      </a:lnTo>
                      <a:lnTo>
                        <a:pt x="557" y="449"/>
                      </a:lnTo>
                      <a:lnTo>
                        <a:pt x="580" y="439"/>
                      </a:lnTo>
                      <a:lnTo>
                        <a:pt x="582" y="424"/>
                      </a:lnTo>
                      <a:lnTo>
                        <a:pt x="585" y="411"/>
                      </a:lnTo>
                      <a:lnTo>
                        <a:pt x="563" y="423"/>
                      </a:lnTo>
                      <a:lnTo>
                        <a:pt x="540" y="434"/>
                      </a:lnTo>
                      <a:lnTo>
                        <a:pt x="516" y="444"/>
                      </a:lnTo>
                      <a:lnTo>
                        <a:pt x="509" y="445"/>
                      </a:lnTo>
                      <a:lnTo>
                        <a:pt x="504" y="447"/>
                      </a:lnTo>
                      <a:lnTo>
                        <a:pt x="492" y="451"/>
                      </a:lnTo>
                      <a:lnTo>
                        <a:pt x="479" y="454"/>
                      </a:lnTo>
                      <a:lnTo>
                        <a:pt x="472" y="455"/>
                      </a:lnTo>
                      <a:lnTo>
                        <a:pt x="466" y="457"/>
                      </a:lnTo>
                      <a:lnTo>
                        <a:pt x="441" y="462"/>
                      </a:lnTo>
                      <a:lnTo>
                        <a:pt x="428" y="463"/>
                      </a:lnTo>
                      <a:lnTo>
                        <a:pt x="415" y="465"/>
                      </a:lnTo>
                      <a:lnTo>
                        <a:pt x="402" y="465"/>
                      </a:lnTo>
                      <a:lnTo>
                        <a:pt x="395" y="465"/>
                      </a:lnTo>
                      <a:lnTo>
                        <a:pt x="391" y="465"/>
                      </a:lnTo>
                      <a:lnTo>
                        <a:pt x="389" y="466"/>
                      </a:lnTo>
                      <a:lnTo>
                        <a:pt x="351" y="464"/>
                      </a:lnTo>
                      <a:lnTo>
                        <a:pt x="315" y="459"/>
                      </a:lnTo>
                      <a:lnTo>
                        <a:pt x="280" y="450"/>
                      </a:lnTo>
                      <a:lnTo>
                        <a:pt x="247" y="439"/>
                      </a:lnTo>
                      <a:lnTo>
                        <a:pt x="215" y="423"/>
                      </a:lnTo>
                      <a:lnTo>
                        <a:pt x="185" y="405"/>
                      </a:lnTo>
                      <a:lnTo>
                        <a:pt x="156" y="383"/>
                      </a:lnTo>
                      <a:lnTo>
                        <a:pt x="130" y="360"/>
                      </a:lnTo>
                      <a:lnTo>
                        <a:pt x="103" y="331"/>
                      </a:lnTo>
                      <a:lnTo>
                        <a:pt x="82" y="302"/>
                      </a:lnTo>
                      <a:lnTo>
                        <a:pt x="63" y="271"/>
                      </a:lnTo>
                      <a:lnTo>
                        <a:pt x="48" y="241"/>
                      </a:lnTo>
                      <a:lnTo>
                        <a:pt x="35" y="207"/>
                      </a:lnTo>
                      <a:lnTo>
                        <a:pt x="27" y="173"/>
                      </a:lnTo>
                      <a:lnTo>
                        <a:pt x="23" y="136"/>
                      </a:lnTo>
                      <a:lnTo>
                        <a:pt x="22" y="100"/>
                      </a:lnTo>
                      <a:lnTo>
                        <a:pt x="22" y="73"/>
                      </a:lnTo>
                      <a:lnTo>
                        <a:pt x="24" y="48"/>
                      </a:lnTo>
                      <a:lnTo>
                        <a:pt x="27" y="23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436440" y="3675600"/>
                  <a:ext cx="178200" cy="142920"/>
                </a:xfrm>
                <a:custGeom>
                  <a:avLst/>
                  <a:gdLst/>
                  <a:ahLst/>
                  <a:rect l="l" t="t" r="r" b="b"/>
                  <a:pathLst>
                    <a:path w="624" h="503">
                      <a:moveTo>
                        <a:pt x="0" y="22"/>
                      </a:moveTo>
                      <a:lnTo>
                        <a:pt x="0" y="49"/>
                      </a:lnTo>
                      <a:lnTo>
                        <a:pt x="1" y="94"/>
                      </a:lnTo>
                      <a:lnTo>
                        <a:pt x="3" y="116"/>
                      </a:lnTo>
                      <a:lnTo>
                        <a:pt x="8" y="139"/>
                      </a:lnTo>
                      <a:lnTo>
                        <a:pt x="11" y="159"/>
                      </a:lnTo>
                      <a:lnTo>
                        <a:pt x="17" y="181"/>
                      </a:lnTo>
                      <a:lnTo>
                        <a:pt x="33" y="221"/>
                      </a:lnTo>
                      <a:lnTo>
                        <a:pt x="51" y="260"/>
                      </a:lnTo>
                      <a:lnTo>
                        <a:pt x="61" y="278"/>
                      </a:lnTo>
                      <a:lnTo>
                        <a:pt x="73" y="297"/>
                      </a:lnTo>
                      <a:lnTo>
                        <a:pt x="101" y="334"/>
                      </a:lnTo>
                      <a:lnTo>
                        <a:pt x="115" y="351"/>
                      </a:lnTo>
                      <a:lnTo>
                        <a:pt x="132" y="369"/>
                      </a:lnTo>
                      <a:lnTo>
                        <a:pt x="165" y="399"/>
                      </a:lnTo>
                      <a:lnTo>
                        <a:pt x="201" y="427"/>
                      </a:lnTo>
                      <a:lnTo>
                        <a:pt x="239" y="449"/>
                      </a:lnTo>
                      <a:lnTo>
                        <a:pt x="279" y="469"/>
                      </a:lnTo>
                      <a:lnTo>
                        <a:pt x="318" y="482"/>
                      </a:lnTo>
                      <a:lnTo>
                        <a:pt x="361" y="493"/>
                      </a:lnTo>
                      <a:lnTo>
                        <a:pt x="406" y="500"/>
                      </a:lnTo>
                      <a:lnTo>
                        <a:pt x="453" y="503"/>
                      </a:lnTo>
                      <a:lnTo>
                        <a:pt x="494" y="500"/>
                      </a:lnTo>
                      <a:lnTo>
                        <a:pt x="513" y="498"/>
                      </a:lnTo>
                      <a:lnTo>
                        <a:pt x="534" y="496"/>
                      </a:lnTo>
                      <a:lnTo>
                        <a:pt x="572" y="487"/>
                      </a:lnTo>
                      <a:lnTo>
                        <a:pt x="611" y="475"/>
                      </a:lnTo>
                      <a:lnTo>
                        <a:pt x="624" y="447"/>
                      </a:lnTo>
                      <a:lnTo>
                        <a:pt x="584" y="461"/>
                      </a:lnTo>
                      <a:lnTo>
                        <a:pt x="572" y="463"/>
                      </a:lnTo>
                      <a:lnTo>
                        <a:pt x="569" y="463"/>
                      </a:lnTo>
                      <a:lnTo>
                        <a:pt x="567" y="464"/>
                      </a:lnTo>
                      <a:lnTo>
                        <a:pt x="562" y="466"/>
                      </a:lnTo>
                      <a:lnTo>
                        <a:pt x="542" y="472"/>
                      </a:lnTo>
                      <a:lnTo>
                        <a:pt x="519" y="475"/>
                      </a:lnTo>
                      <a:lnTo>
                        <a:pt x="508" y="476"/>
                      </a:lnTo>
                      <a:lnTo>
                        <a:pt x="497" y="479"/>
                      </a:lnTo>
                      <a:lnTo>
                        <a:pt x="475" y="480"/>
                      </a:lnTo>
                      <a:lnTo>
                        <a:pt x="463" y="480"/>
                      </a:lnTo>
                      <a:lnTo>
                        <a:pt x="458" y="480"/>
                      </a:lnTo>
                      <a:lnTo>
                        <a:pt x="453" y="481"/>
                      </a:lnTo>
                      <a:lnTo>
                        <a:pt x="408" y="479"/>
                      </a:lnTo>
                      <a:lnTo>
                        <a:pt x="366" y="473"/>
                      </a:lnTo>
                      <a:lnTo>
                        <a:pt x="325" y="463"/>
                      </a:lnTo>
                      <a:lnTo>
                        <a:pt x="286" y="449"/>
                      </a:lnTo>
                      <a:lnTo>
                        <a:pt x="248" y="431"/>
                      </a:lnTo>
                      <a:lnTo>
                        <a:pt x="213" y="410"/>
                      </a:lnTo>
                      <a:lnTo>
                        <a:pt x="179" y="383"/>
                      </a:lnTo>
                      <a:lnTo>
                        <a:pt x="147" y="354"/>
                      </a:lnTo>
                      <a:lnTo>
                        <a:pt x="116" y="321"/>
                      </a:lnTo>
                      <a:lnTo>
                        <a:pt x="91" y="287"/>
                      </a:lnTo>
                      <a:lnTo>
                        <a:pt x="69" y="251"/>
                      </a:lnTo>
                      <a:lnTo>
                        <a:pt x="52" y="213"/>
                      </a:lnTo>
                      <a:lnTo>
                        <a:pt x="37" y="174"/>
                      </a:lnTo>
                      <a:lnTo>
                        <a:pt x="31" y="153"/>
                      </a:lnTo>
                      <a:lnTo>
                        <a:pt x="28" y="134"/>
                      </a:lnTo>
                      <a:lnTo>
                        <a:pt x="22" y="92"/>
                      </a:lnTo>
                      <a:lnTo>
                        <a:pt x="21" y="49"/>
                      </a:lnTo>
                      <a:lnTo>
                        <a:pt x="21" y="23"/>
                      </a:lnTo>
                      <a:lnTo>
                        <a:pt x="23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442920" y="3669840"/>
                  <a:ext cx="175320" cy="142560"/>
                </a:xfrm>
                <a:custGeom>
                  <a:avLst/>
                  <a:gdLst/>
                  <a:ahLst/>
                  <a:rect l="l" t="t" r="r" b="b"/>
                  <a:pathLst>
                    <a:path w="615" h="500">
                      <a:moveTo>
                        <a:pt x="22" y="68"/>
                      </a:moveTo>
                      <a:lnTo>
                        <a:pt x="23" y="33"/>
                      </a:lnTo>
                      <a:lnTo>
                        <a:pt x="26" y="0"/>
                      </a:lnTo>
                      <a:lnTo>
                        <a:pt x="2" y="19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1" y="111"/>
                      </a:lnTo>
                      <a:lnTo>
                        <a:pt x="7" y="153"/>
                      </a:lnTo>
                      <a:lnTo>
                        <a:pt x="10" y="172"/>
                      </a:lnTo>
                      <a:lnTo>
                        <a:pt x="16" y="193"/>
                      </a:lnTo>
                      <a:lnTo>
                        <a:pt x="31" y="232"/>
                      </a:lnTo>
                      <a:lnTo>
                        <a:pt x="48" y="270"/>
                      </a:lnTo>
                      <a:lnTo>
                        <a:pt x="70" y="306"/>
                      </a:lnTo>
                      <a:lnTo>
                        <a:pt x="95" y="340"/>
                      </a:lnTo>
                      <a:lnTo>
                        <a:pt x="126" y="373"/>
                      </a:lnTo>
                      <a:lnTo>
                        <a:pt x="158" y="402"/>
                      </a:lnTo>
                      <a:lnTo>
                        <a:pt x="192" y="429"/>
                      </a:lnTo>
                      <a:lnTo>
                        <a:pt x="227" y="450"/>
                      </a:lnTo>
                      <a:lnTo>
                        <a:pt x="265" y="468"/>
                      </a:lnTo>
                      <a:lnTo>
                        <a:pt x="304" y="482"/>
                      </a:lnTo>
                      <a:lnTo>
                        <a:pt x="345" y="492"/>
                      </a:lnTo>
                      <a:lnTo>
                        <a:pt x="387" y="498"/>
                      </a:lnTo>
                      <a:lnTo>
                        <a:pt x="432" y="500"/>
                      </a:lnTo>
                      <a:lnTo>
                        <a:pt x="437" y="499"/>
                      </a:lnTo>
                      <a:lnTo>
                        <a:pt x="442" y="499"/>
                      </a:lnTo>
                      <a:lnTo>
                        <a:pt x="454" y="499"/>
                      </a:lnTo>
                      <a:lnTo>
                        <a:pt x="476" y="498"/>
                      </a:lnTo>
                      <a:lnTo>
                        <a:pt x="487" y="495"/>
                      </a:lnTo>
                      <a:lnTo>
                        <a:pt x="498" y="494"/>
                      </a:lnTo>
                      <a:lnTo>
                        <a:pt x="521" y="491"/>
                      </a:lnTo>
                      <a:lnTo>
                        <a:pt x="541" y="485"/>
                      </a:lnTo>
                      <a:lnTo>
                        <a:pt x="546" y="483"/>
                      </a:lnTo>
                      <a:lnTo>
                        <a:pt x="548" y="482"/>
                      </a:lnTo>
                      <a:lnTo>
                        <a:pt x="551" y="482"/>
                      </a:lnTo>
                      <a:lnTo>
                        <a:pt x="563" y="480"/>
                      </a:lnTo>
                      <a:lnTo>
                        <a:pt x="603" y="466"/>
                      </a:lnTo>
                      <a:lnTo>
                        <a:pt x="615" y="436"/>
                      </a:lnTo>
                      <a:lnTo>
                        <a:pt x="592" y="446"/>
                      </a:lnTo>
                      <a:lnTo>
                        <a:pt x="572" y="453"/>
                      </a:lnTo>
                      <a:lnTo>
                        <a:pt x="549" y="460"/>
                      </a:lnTo>
                      <a:lnTo>
                        <a:pt x="527" y="467"/>
                      </a:lnTo>
                      <a:lnTo>
                        <a:pt x="504" y="472"/>
                      </a:lnTo>
                      <a:lnTo>
                        <a:pt x="481" y="475"/>
                      </a:lnTo>
                      <a:lnTo>
                        <a:pt x="456" y="477"/>
                      </a:lnTo>
                      <a:lnTo>
                        <a:pt x="443" y="477"/>
                      </a:lnTo>
                      <a:lnTo>
                        <a:pt x="432" y="478"/>
                      </a:lnTo>
                      <a:lnTo>
                        <a:pt x="389" y="476"/>
                      </a:lnTo>
                      <a:lnTo>
                        <a:pt x="349" y="470"/>
                      </a:lnTo>
                      <a:lnTo>
                        <a:pt x="311" y="460"/>
                      </a:lnTo>
                      <a:lnTo>
                        <a:pt x="275" y="448"/>
                      </a:lnTo>
                      <a:lnTo>
                        <a:pt x="238" y="430"/>
                      </a:lnTo>
                      <a:lnTo>
                        <a:pt x="204" y="409"/>
                      </a:lnTo>
                      <a:lnTo>
                        <a:pt x="171" y="384"/>
                      </a:lnTo>
                      <a:lnTo>
                        <a:pt x="142" y="357"/>
                      </a:lnTo>
                      <a:lnTo>
                        <a:pt x="112" y="325"/>
                      </a:lnTo>
                      <a:lnTo>
                        <a:pt x="89" y="294"/>
                      </a:lnTo>
                      <a:lnTo>
                        <a:pt x="67" y="260"/>
                      </a:lnTo>
                      <a:lnTo>
                        <a:pt x="58" y="241"/>
                      </a:lnTo>
                      <a:lnTo>
                        <a:pt x="51" y="224"/>
                      </a:lnTo>
                      <a:lnTo>
                        <a:pt x="43" y="205"/>
                      </a:lnTo>
                      <a:lnTo>
                        <a:pt x="38" y="187"/>
                      </a:lnTo>
                      <a:lnTo>
                        <a:pt x="29" y="148"/>
                      </a:lnTo>
                      <a:lnTo>
                        <a:pt x="23" y="109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448320" y="3664440"/>
                  <a:ext cx="172080" cy="141480"/>
                </a:xfrm>
                <a:custGeom>
                  <a:avLst/>
                  <a:gdLst/>
                  <a:ahLst/>
                  <a:rect l="l" t="t" r="r" b="b"/>
                  <a:pathLst>
                    <a:path w="601" h="495">
                      <a:moveTo>
                        <a:pt x="4" y="17"/>
                      </a:moveTo>
                      <a:lnTo>
                        <a:pt x="1" y="50"/>
                      </a:lnTo>
                      <a:lnTo>
                        <a:pt x="0" y="85"/>
                      </a:lnTo>
                      <a:lnTo>
                        <a:pt x="1" y="126"/>
                      </a:lnTo>
                      <a:lnTo>
                        <a:pt x="7" y="165"/>
                      </a:lnTo>
                      <a:lnTo>
                        <a:pt x="16" y="204"/>
                      </a:lnTo>
                      <a:lnTo>
                        <a:pt x="21" y="222"/>
                      </a:lnTo>
                      <a:lnTo>
                        <a:pt x="29" y="241"/>
                      </a:lnTo>
                      <a:lnTo>
                        <a:pt x="36" y="258"/>
                      </a:lnTo>
                      <a:lnTo>
                        <a:pt x="45" y="277"/>
                      </a:lnTo>
                      <a:lnTo>
                        <a:pt x="67" y="311"/>
                      </a:lnTo>
                      <a:lnTo>
                        <a:pt x="90" y="342"/>
                      </a:lnTo>
                      <a:lnTo>
                        <a:pt x="120" y="374"/>
                      </a:lnTo>
                      <a:lnTo>
                        <a:pt x="149" y="401"/>
                      </a:lnTo>
                      <a:lnTo>
                        <a:pt x="182" y="426"/>
                      </a:lnTo>
                      <a:lnTo>
                        <a:pt x="216" y="447"/>
                      </a:lnTo>
                      <a:lnTo>
                        <a:pt x="253" y="465"/>
                      </a:lnTo>
                      <a:lnTo>
                        <a:pt x="289" y="477"/>
                      </a:lnTo>
                      <a:lnTo>
                        <a:pt x="327" y="487"/>
                      </a:lnTo>
                      <a:lnTo>
                        <a:pt x="367" y="493"/>
                      </a:lnTo>
                      <a:lnTo>
                        <a:pt x="410" y="495"/>
                      </a:lnTo>
                      <a:lnTo>
                        <a:pt x="421" y="494"/>
                      </a:lnTo>
                      <a:lnTo>
                        <a:pt x="434" y="494"/>
                      </a:lnTo>
                      <a:lnTo>
                        <a:pt x="459" y="492"/>
                      </a:lnTo>
                      <a:lnTo>
                        <a:pt x="482" y="489"/>
                      </a:lnTo>
                      <a:lnTo>
                        <a:pt x="505" y="484"/>
                      </a:lnTo>
                      <a:lnTo>
                        <a:pt x="527" y="477"/>
                      </a:lnTo>
                      <a:lnTo>
                        <a:pt x="550" y="470"/>
                      </a:lnTo>
                      <a:lnTo>
                        <a:pt x="570" y="463"/>
                      </a:lnTo>
                      <a:lnTo>
                        <a:pt x="593" y="453"/>
                      </a:lnTo>
                      <a:lnTo>
                        <a:pt x="601" y="424"/>
                      </a:lnTo>
                      <a:lnTo>
                        <a:pt x="578" y="434"/>
                      </a:lnTo>
                      <a:lnTo>
                        <a:pt x="567" y="439"/>
                      </a:lnTo>
                      <a:lnTo>
                        <a:pt x="561" y="441"/>
                      </a:lnTo>
                      <a:lnTo>
                        <a:pt x="556" y="444"/>
                      </a:lnTo>
                      <a:lnTo>
                        <a:pt x="550" y="446"/>
                      </a:lnTo>
                      <a:lnTo>
                        <a:pt x="544" y="448"/>
                      </a:lnTo>
                      <a:lnTo>
                        <a:pt x="533" y="452"/>
                      </a:lnTo>
                      <a:lnTo>
                        <a:pt x="510" y="460"/>
                      </a:lnTo>
                      <a:lnTo>
                        <a:pt x="485" y="465"/>
                      </a:lnTo>
                      <a:lnTo>
                        <a:pt x="461" y="469"/>
                      </a:lnTo>
                      <a:lnTo>
                        <a:pt x="435" y="472"/>
                      </a:lnTo>
                      <a:lnTo>
                        <a:pt x="410" y="473"/>
                      </a:lnTo>
                      <a:lnTo>
                        <a:pt x="369" y="470"/>
                      </a:lnTo>
                      <a:lnTo>
                        <a:pt x="332" y="465"/>
                      </a:lnTo>
                      <a:lnTo>
                        <a:pt x="295" y="456"/>
                      </a:lnTo>
                      <a:lnTo>
                        <a:pt x="260" y="444"/>
                      </a:lnTo>
                      <a:lnTo>
                        <a:pt x="225" y="427"/>
                      </a:lnTo>
                      <a:lnTo>
                        <a:pt x="194" y="408"/>
                      </a:lnTo>
                      <a:lnTo>
                        <a:pt x="163" y="385"/>
                      </a:lnTo>
                      <a:lnTo>
                        <a:pt x="135" y="359"/>
                      </a:lnTo>
                      <a:lnTo>
                        <a:pt x="107" y="330"/>
                      </a:lnTo>
                      <a:lnTo>
                        <a:pt x="95" y="314"/>
                      </a:lnTo>
                      <a:lnTo>
                        <a:pt x="85" y="299"/>
                      </a:lnTo>
                      <a:lnTo>
                        <a:pt x="73" y="282"/>
                      </a:lnTo>
                      <a:lnTo>
                        <a:pt x="64" y="266"/>
                      </a:lnTo>
                      <a:lnTo>
                        <a:pt x="50" y="234"/>
                      </a:lnTo>
                      <a:lnTo>
                        <a:pt x="42" y="215"/>
                      </a:lnTo>
                      <a:lnTo>
                        <a:pt x="36" y="198"/>
                      </a:lnTo>
                      <a:lnTo>
                        <a:pt x="28" y="162"/>
                      </a:lnTo>
                      <a:lnTo>
                        <a:pt x="22" y="124"/>
                      </a:lnTo>
                      <a:lnTo>
                        <a:pt x="21" y="85"/>
                      </a:lnTo>
                      <a:lnTo>
                        <a:pt x="24" y="41"/>
                      </a:lnTo>
                      <a:lnTo>
                        <a:pt x="26" y="19"/>
                      </a:lnTo>
                      <a:lnTo>
                        <a:pt x="30" y="0"/>
                      </a:lnTo>
                      <a:lnTo>
                        <a:pt x="4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460920" y="3657240"/>
                  <a:ext cx="162360" cy="136080"/>
                </a:xfrm>
                <a:custGeom>
                  <a:avLst/>
                  <a:gdLst/>
                  <a:ahLst/>
                  <a:rect l="l" t="t" r="r" b="b"/>
                  <a:pathLst>
                    <a:path w="568" h="478">
                      <a:moveTo>
                        <a:pt x="12" y="12"/>
                      </a:moveTo>
                      <a:lnTo>
                        <a:pt x="5" y="35"/>
                      </a:lnTo>
                      <a:lnTo>
                        <a:pt x="2" y="60"/>
                      </a:lnTo>
                      <a:lnTo>
                        <a:pt x="0" y="85"/>
                      </a:lnTo>
                      <a:lnTo>
                        <a:pt x="0" y="112"/>
                      </a:lnTo>
                      <a:lnTo>
                        <a:pt x="1" y="148"/>
                      </a:lnTo>
                      <a:lnTo>
                        <a:pt x="5" y="185"/>
                      </a:lnTo>
                      <a:lnTo>
                        <a:pt x="13" y="219"/>
                      </a:lnTo>
                      <a:lnTo>
                        <a:pt x="26" y="253"/>
                      </a:lnTo>
                      <a:lnTo>
                        <a:pt x="41" y="283"/>
                      </a:lnTo>
                      <a:lnTo>
                        <a:pt x="60" y="314"/>
                      </a:lnTo>
                      <a:lnTo>
                        <a:pt x="81" y="343"/>
                      </a:lnTo>
                      <a:lnTo>
                        <a:pt x="108" y="372"/>
                      </a:lnTo>
                      <a:lnTo>
                        <a:pt x="134" y="395"/>
                      </a:lnTo>
                      <a:lnTo>
                        <a:pt x="163" y="417"/>
                      </a:lnTo>
                      <a:lnTo>
                        <a:pt x="193" y="435"/>
                      </a:lnTo>
                      <a:lnTo>
                        <a:pt x="225" y="451"/>
                      </a:lnTo>
                      <a:lnTo>
                        <a:pt x="258" y="462"/>
                      </a:lnTo>
                      <a:lnTo>
                        <a:pt x="293" y="471"/>
                      </a:lnTo>
                      <a:lnTo>
                        <a:pt x="329" y="476"/>
                      </a:lnTo>
                      <a:lnTo>
                        <a:pt x="367" y="478"/>
                      </a:lnTo>
                      <a:lnTo>
                        <a:pt x="369" y="477"/>
                      </a:lnTo>
                      <a:lnTo>
                        <a:pt x="373" y="477"/>
                      </a:lnTo>
                      <a:lnTo>
                        <a:pt x="380" y="477"/>
                      </a:lnTo>
                      <a:lnTo>
                        <a:pt x="393" y="477"/>
                      </a:lnTo>
                      <a:lnTo>
                        <a:pt x="406" y="475"/>
                      </a:lnTo>
                      <a:lnTo>
                        <a:pt x="419" y="474"/>
                      </a:lnTo>
                      <a:lnTo>
                        <a:pt x="444" y="469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0" y="463"/>
                      </a:lnTo>
                      <a:lnTo>
                        <a:pt x="482" y="459"/>
                      </a:lnTo>
                      <a:lnTo>
                        <a:pt x="487" y="457"/>
                      </a:lnTo>
                      <a:lnTo>
                        <a:pt x="494" y="456"/>
                      </a:lnTo>
                      <a:lnTo>
                        <a:pt x="518" y="446"/>
                      </a:lnTo>
                      <a:lnTo>
                        <a:pt x="541" y="435"/>
                      </a:lnTo>
                      <a:lnTo>
                        <a:pt x="563" y="423"/>
                      </a:lnTo>
                      <a:lnTo>
                        <a:pt x="568" y="393"/>
                      </a:lnTo>
                      <a:lnTo>
                        <a:pt x="555" y="400"/>
                      </a:lnTo>
                      <a:lnTo>
                        <a:pt x="544" y="408"/>
                      </a:lnTo>
                      <a:lnTo>
                        <a:pt x="521" y="420"/>
                      </a:lnTo>
                      <a:lnTo>
                        <a:pt x="509" y="425"/>
                      </a:lnTo>
                      <a:lnTo>
                        <a:pt x="498" y="431"/>
                      </a:lnTo>
                      <a:lnTo>
                        <a:pt x="485" y="435"/>
                      </a:lnTo>
                      <a:lnTo>
                        <a:pt x="474" y="441"/>
                      </a:lnTo>
                      <a:lnTo>
                        <a:pt x="448" y="448"/>
                      </a:lnTo>
                      <a:lnTo>
                        <a:pt x="434" y="450"/>
                      </a:lnTo>
                      <a:lnTo>
                        <a:pt x="427" y="451"/>
                      </a:lnTo>
                      <a:lnTo>
                        <a:pt x="422" y="453"/>
                      </a:lnTo>
                      <a:lnTo>
                        <a:pt x="394" y="457"/>
                      </a:lnTo>
                      <a:lnTo>
                        <a:pt x="367" y="458"/>
                      </a:lnTo>
                      <a:lnTo>
                        <a:pt x="331" y="456"/>
                      </a:lnTo>
                      <a:lnTo>
                        <a:pt x="297" y="451"/>
                      </a:lnTo>
                      <a:lnTo>
                        <a:pt x="264" y="442"/>
                      </a:lnTo>
                      <a:lnTo>
                        <a:pt x="233" y="432"/>
                      </a:lnTo>
                      <a:lnTo>
                        <a:pt x="203" y="417"/>
                      </a:lnTo>
                      <a:lnTo>
                        <a:pt x="174" y="400"/>
                      </a:lnTo>
                      <a:lnTo>
                        <a:pt x="147" y="378"/>
                      </a:lnTo>
                      <a:lnTo>
                        <a:pt x="122" y="356"/>
                      </a:lnTo>
                      <a:lnTo>
                        <a:pt x="97" y="329"/>
                      </a:lnTo>
                      <a:lnTo>
                        <a:pt x="77" y="301"/>
                      </a:lnTo>
                      <a:lnTo>
                        <a:pt x="60" y="273"/>
                      </a:lnTo>
                      <a:lnTo>
                        <a:pt x="46" y="244"/>
                      </a:lnTo>
                      <a:lnTo>
                        <a:pt x="35" y="212"/>
                      </a:lnTo>
                      <a:lnTo>
                        <a:pt x="27" y="180"/>
                      </a:lnTo>
                      <a:lnTo>
                        <a:pt x="22" y="146"/>
                      </a:lnTo>
                      <a:lnTo>
                        <a:pt x="21" y="112"/>
                      </a:lnTo>
                      <a:lnTo>
                        <a:pt x="22" y="81"/>
                      </a:lnTo>
                      <a:lnTo>
                        <a:pt x="26" y="53"/>
                      </a:lnTo>
                      <a:lnTo>
                        <a:pt x="32" y="26"/>
                      </a:lnTo>
                      <a:lnTo>
                        <a:pt x="39" y="0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467400" y="3654360"/>
                  <a:ext cx="155880" cy="133560"/>
                </a:xfrm>
                <a:custGeom>
                  <a:avLst/>
                  <a:gdLst/>
                  <a:ahLst/>
                  <a:rect l="l" t="t" r="r" b="b"/>
                  <a:pathLst>
                    <a:path w="548" h="468">
                      <a:moveTo>
                        <a:pt x="45" y="0"/>
                      </a:moveTo>
                      <a:lnTo>
                        <a:pt x="18" y="10"/>
                      </a:lnTo>
                      <a:lnTo>
                        <a:pt x="11" y="36"/>
                      </a:lnTo>
                      <a:lnTo>
                        <a:pt x="5" y="63"/>
                      </a:lnTo>
                      <a:lnTo>
                        <a:pt x="1" y="91"/>
                      </a:lnTo>
                      <a:lnTo>
                        <a:pt x="0" y="122"/>
                      </a:lnTo>
                      <a:lnTo>
                        <a:pt x="1" y="156"/>
                      </a:lnTo>
                      <a:lnTo>
                        <a:pt x="6" y="190"/>
                      </a:lnTo>
                      <a:lnTo>
                        <a:pt x="14" y="222"/>
                      </a:lnTo>
                      <a:lnTo>
                        <a:pt x="25" y="254"/>
                      </a:lnTo>
                      <a:lnTo>
                        <a:pt x="39" y="283"/>
                      </a:lnTo>
                      <a:lnTo>
                        <a:pt x="56" y="311"/>
                      </a:lnTo>
                      <a:lnTo>
                        <a:pt x="76" y="339"/>
                      </a:lnTo>
                      <a:lnTo>
                        <a:pt x="101" y="366"/>
                      </a:lnTo>
                      <a:lnTo>
                        <a:pt x="126" y="388"/>
                      </a:lnTo>
                      <a:lnTo>
                        <a:pt x="153" y="410"/>
                      </a:lnTo>
                      <a:lnTo>
                        <a:pt x="182" y="427"/>
                      </a:lnTo>
                      <a:lnTo>
                        <a:pt x="212" y="442"/>
                      </a:lnTo>
                      <a:lnTo>
                        <a:pt x="243" y="452"/>
                      </a:lnTo>
                      <a:lnTo>
                        <a:pt x="276" y="461"/>
                      </a:lnTo>
                      <a:lnTo>
                        <a:pt x="310" y="466"/>
                      </a:lnTo>
                      <a:lnTo>
                        <a:pt x="346" y="468"/>
                      </a:lnTo>
                      <a:lnTo>
                        <a:pt x="373" y="467"/>
                      </a:lnTo>
                      <a:lnTo>
                        <a:pt x="401" y="463"/>
                      </a:lnTo>
                      <a:lnTo>
                        <a:pt x="406" y="461"/>
                      </a:lnTo>
                      <a:lnTo>
                        <a:pt x="413" y="460"/>
                      </a:lnTo>
                      <a:lnTo>
                        <a:pt x="427" y="458"/>
                      </a:lnTo>
                      <a:lnTo>
                        <a:pt x="453" y="451"/>
                      </a:lnTo>
                      <a:lnTo>
                        <a:pt x="464" y="445"/>
                      </a:lnTo>
                      <a:lnTo>
                        <a:pt x="477" y="441"/>
                      </a:lnTo>
                      <a:lnTo>
                        <a:pt x="488" y="435"/>
                      </a:lnTo>
                      <a:lnTo>
                        <a:pt x="500" y="430"/>
                      </a:lnTo>
                      <a:lnTo>
                        <a:pt x="523" y="418"/>
                      </a:lnTo>
                      <a:lnTo>
                        <a:pt x="534" y="410"/>
                      </a:lnTo>
                      <a:lnTo>
                        <a:pt x="547" y="403"/>
                      </a:lnTo>
                      <a:lnTo>
                        <a:pt x="547" y="388"/>
                      </a:lnTo>
                      <a:lnTo>
                        <a:pt x="548" y="375"/>
                      </a:lnTo>
                      <a:lnTo>
                        <a:pt x="525" y="390"/>
                      </a:lnTo>
                      <a:lnTo>
                        <a:pt x="503" y="404"/>
                      </a:lnTo>
                      <a:lnTo>
                        <a:pt x="478" y="417"/>
                      </a:lnTo>
                      <a:lnTo>
                        <a:pt x="465" y="421"/>
                      </a:lnTo>
                      <a:lnTo>
                        <a:pt x="454" y="427"/>
                      </a:lnTo>
                      <a:lnTo>
                        <a:pt x="440" y="430"/>
                      </a:lnTo>
                      <a:lnTo>
                        <a:pt x="428" y="435"/>
                      </a:lnTo>
                      <a:lnTo>
                        <a:pt x="414" y="437"/>
                      </a:lnTo>
                      <a:lnTo>
                        <a:pt x="407" y="438"/>
                      </a:lnTo>
                      <a:lnTo>
                        <a:pt x="402" y="441"/>
                      </a:lnTo>
                      <a:lnTo>
                        <a:pt x="394" y="441"/>
                      </a:lnTo>
                      <a:lnTo>
                        <a:pt x="387" y="442"/>
                      </a:lnTo>
                      <a:lnTo>
                        <a:pt x="373" y="444"/>
                      </a:lnTo>
                      <a:lnTo>
                        <a:pt x="346" y="445"/>
                      </a:lnTo>
                      <a:lnTo>
                        <a:pt x="312" y="443"/>
                      </a:lnTo>
                      <a:lnTo>
                        <a:pt x="280" y="438"/>
                      </a:lnTo>
                      <a:lnTo>
                        <a:pt x="249" y="430"/>
                      </a:lnTo>
                      <a:lnTo>
                        <a:pt x="220" y="421"/>
                      </a:lnTo>
                      <a:lnTo>
                        <a:pt x="192" y="407"/>
                      </a:lnTo>
                      <a:lnTo>
                        <a:pt x="166" y="391"/>
                      </a:lnTo>
                      <a:lnTo>
                        <a:pt x="140" y="371"/>
                      </a:lnTo>
                      <a:lnTo>
                        <a:pt x="117" y="351"/>
                      </a:lnTo>
                      <a:lnTo>
                        <a:pt x="94" y="326"/>
                      </a:lnTo>
                      <a:lnTo>
                        <a:pt x="75" y="300"/>
                      </a:lnTo>
                      <a:lnTo>
                        <a:pt x="58" y="273"/>
                      </a:lnTo>
                      <a:lnTo>
                        <a:pt x="46" y="246"/>
                      </a:lnTo>
                      <a:lnTo>
                        <a:pt x="34" y="216"/>
                      </a:lnTo>
                      <a:lnTo>
                        <a:pt x="30" y="200"/>
                      </a:lnTo>
                      <a:lnTo>
                        <a:pt x="28" y="185"/>
                      </a:lnTo>
                      <a:lnTo>
                        <a:pt x="23" y="154"/>
                      </a:lnTo>
                      <a:lnTo>
                        <a:pt x="22" y="122"/>
                      </a:lnTo>
                      <a:lnTo>
                        <a:pt x="23" y="89"/>
                      </a:lnTo>
                      <a:lnTo>
                        <a:pt x="28" y="59"/>
                      </a:lnTo>
                      <a:lnTo>
                        <a:pt x="34" y="28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485760" y="364968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8">
                      <a:moveTo>
                        <a:pt x="22" y="138"/>
                      </a:moveTo>
                      <a:lnTo>
                        <a:pt x="24" y="99"/>
                      </a:lnTo>
                      <a:lnTo>
                        <a:pt x="31" y="64"/>
                      </a:lnTo>
                      <a:lnTo>
                        <a:pt x="42" y="30"/>
                      </a:lnTo>
                      <a:lnTo>
                        <a:pt x="60" y="0"/>
                      </a:lnTo>
                      <a:lnTo>
                        <a:pt x="34" y="3"/>
                      </a:lnTo>
                      <a:lnTo>
                        <a:pt x="18" y="34"/>
                      </a:lnTo>
                      <a:lnTo>
                        <a:pt x="8" y="67"/>
                      </a:lnTo>
                      <a:lnTo>
                        <a:pt x="1" y="101"/>
                      </a:lnTo>
                      <a:lnTo>
                        <a:pt x="0" y="138"/>
                      </a:lnTo>
                      <a:lnTo>
                        <a:pt x="1" y="165"/>
                      </a:lnTo>
                      <a:lnTo>
                        <a:pt x="5" y="192"/>
                      </a:lnTo>
                      <a:lnTo>
                        <a:pt x="10" y="218"/>
                      </a:lnTo>
                      <a:lnTo>
                        <a:pt x="20" y="245"/>
                      </a:lnTo>
                      <a:lnTo>
                        <a:pt x="31" y="268"/>
                      </a:lnTo>
                      <a:lnTo>
                        <a:pt x="45" y="292"/>
                      </a:lnTo>
                      <a:lnTo>
                        <a:pt x="62" y="314"/>
                      </a:lnTo>
                      <a:lnTo>
                        <a:pt x="83" y="336"/>
                      </a:lnTo>
                      <a:lnTo>
                        <a:pt x="103" y="355"/>
                      </a:lnTo>
                      <a:lnTo>
                        <a:pt x="125" y="372"/>
                      </a:lnTo>
                      <a:lnTo>
                        <a:pt x="147" y="385"/>
                      </a:lnTo>
                      <a:lnTo>
                        <a:pt x="172" y="398"/>
                      </a:lnTo>
                      <a:lnTo>
                        <a:pt x="197" y="406"/>
                      </a:lnTo>
                      <a:lnTo>
                        <a:pt x="224" y="412"/>
                      </a:lnTo>
                      <a:lnTo>
                        <a:pt x="252" y="416"/>
                      </a:lnTo>
                      <a:lnTo>
                        <a:pt x="281" y="418"/>
                      </a:lnTo>
                      <a:lnTo>
                        <a:pt x="308" y="416"/>
                      </a:lnTo>
                      <a:lnTo>
                        <a:pt x="336" y="412"/>
                      </a:lnTo>
                      <a:lnTo>
                        <a:pt x="341" y="410"/>
                      </a:lnTo>
                      <a:lnTo>
                        <a:pt x="348" y="409"/>
                      </a:lnTo>
                      <a:lnTo>
                        <a:pt x="362" y="406"/>
                      </a:lnTo>
                      <a:lnTo>
                        <a:pt x="374" y="401"/>
                      </a:lnTo>
                      <a:lnTo>
                        <a:pt x="388" y="398"/>
                      </a:lnTo>
                      <a:lnTo>
                        <a:pt x="399" y="391"/>
                      </a:lnTo>
                      <a:lnTo>
                        <a:pt x="401" y="389"/>
                      </a:lnTo>
                      <a:lnTo>
                        <a:pt x="402" y="387"/>
                      </a:lnTo>
                      <a:lnTo>
                        <a:pt x="405" y="387"/>
                      </a:lnTo>
                      <a:lnTo>
                        <a:pt x="412" y="385"/>
                      </a:lnTo>
                      <a:lnTo>
                        <a:pt x="423" y="378"/>
                      </a:lnTo>
                      <a:lnTo>
                        <a:pt x="435" y="372"/>
                      </a:lnTo>
                      <a:lnTo>
                        <a:pt x="446" y="362"/>
                      </a:lnTo>
                      <a:lnTo>
                        <a:pt x="457" y="355"/>
                      </a:lnTo>
                      <a:lnTo>
                        <a:pt x="480" y="336"/>
                      </a:lnTo>
                      <a:lnTo>
                        <a:pt x="481" y="334"/>
                      </a:lnTo>
                      <a:lnTo>
                        <a:pt x="476" y="308"/>
                      </a:lnTo>
                      <a:lnTo>
                        <a:pt x="469" y="314"/>
                      </a:lnTo>
                      <a:lnTo>
                        <a:pt x="464" y="321"/>
                      </a:lnTo>
                      <a:lnTo>
                        <a:pt x="443" y="338"/>
                      </a:lnTo>
                      <a:lnTo>
                        <a:pt x="423" y="352"/>
                      </a:lnTo>
                      <a:lnTo>
                        <a:pt x="412" y="358"/>
                      </a:lnTo>
                      <a:lnTo>
                        <a:pt x="401" y="365"/>
                      </a:lnTo>
                      <a:lnTo>
                        <a:pt x="390" y="370"/>
                      </a:lnTo>
                      <a:lnTo>
                        <a:pt x="380" y="377"/>
                      </a:lnTo>
                      <a:lnTo>
                        <a:pt x="373" y="378"/>
                      </a:lnTo>
                      <a:lnTo>
                        <a:pt x="367" y="381"/>
                      </a:lnTo>
                      <a:lnTo>
                        <a:pt x="356" y="385"/>
                      </a:lnTo>
                      <a:lnTo>
                        <a:pt x="344" y="387"/>
                      </a:lnTo>
                      <a:lnTo>
                        <a:pt x="332" y="391"/>
                      </a:lnTo>
                      <a:lnTo>
                        <a:pt x="319" y="392"/>
                      </a:lnTo>
                      <a:lnTo>
                        <a:pt x="306" y="394"/>
                      </a:lnTo>
                      <a:lnTo>
                        <a:pt x="281" y="397"/>
                      </a:lnTo>
                      <a:lnTo>
                        <a:pt x="254" y="394"/>
                      </a:lnTo>
                      <a:lnTo>
                        <a:pt x="228" y="391"/>
                      </a:lnTo>
                      <a:lnTo>
                        <a:pt x="203" y="385"/>
                      </a:lnTo>
                      <a:lnTo>
                        <a:pt x="180" y="377"/>
                      </a:lnTo>
                      <a:lnTo>
                        <a:pt x="158" y="365"/>
                      </a:lnTo>
                      <a:lnTo>
                        <a:pt x="136" y="352"/>
                      </a:lnTo>
                      <a:lnTo>
                        <a:pt x="116" y="338"/>
                      </a:lnTo>
                      <a:lnTo>
                        <a:pt x="97" y="321"/>
                      </a:lnTo>
                      <a:lnTo>
                        <a:pt x="78" y="300"/>
                      </a:lnTo>
                      <a:lnTo>
                        <a:pt x="63" y="280"/>
                      </a:lnTo>
                      <a:lnTo>
                        <a:pt x="56" y="268"/>
                      </a:lnTo>
                      <a:lnTo>
                        <a:pt x="50" y="258"/>
                      </a:lnTo>
                      <a:lnTo>
                        <a:pt x="40" y="237"/>
                      </a:lnTo>
                      <a:lnTo>
                        <a:pt x="32" y="213"/>
                      </a:lnTo>
                      <a:lnTo>
                        <a:pt x="26" y="189"/>
                      </a:lnTo>
                      <a:lnTo>
                        <a:pt x="23" y="163"/>
                      </a:lnTo>
                      <a:lnTo>
                        <a:pt x="22" y="138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491880" y="3649320"/>
                  <a:ext cx="129600" cy="113400"/>
                </a:xfrm>
                <a:custGeom>
                  <a:avLst/>
                  <a:gdLst/>
                  <a:ahLst/>
                  <a:rect l="l" t="t" r="r" b="b"/>
                  <a:pathLst>
                    <a:path w="454" h="398">
                      <a:moveTo>
                        <a:pt x="38" y="1"/>
                      </a:moveTo>
                      <a:lnTo>
                        <a:pt x="20" y="31"/>
                      </a:lnTo>
                      <a:lnTo>
                        <a:pt x="9" y="65"/>
                      </a:lnTo>
                      <a:lnTo>
                        <a:pt x="2" y="100"/>
                      </a:lnTo>
                      <a:lnTo>
                        <a:pt x="0" y="139"/>
                      </a:lnTo>
                      <a:lnTo>
                        <a:pt x="1" y="164"/>
                      </a:lnTo>
                      <a:lnTo>
                        <a:pt x="4" y="190"/>
                      </a:lnTo>
                      <a:lnTo>
                        <a:pt x="10" y="214"/>
                      </a:lnTo>
                      <a:lnTo>
                        <a:pt x="18" y="238"/>
                      </a:lnTo>
                      <a:lnTo>
                        <a:pt x="28" y="259"/>
                      </a:lnTo>
                      <a:lnTo>
                        <a:pt x="34" y="269"/>
                      </a:lnTo>
                      <a:lnTo>
                        <a:pt x="41" y="281"/>
                      </a:lnTo>
                      <a:lnTo>
                        <a:pt x="56" y="301"/>
                      </a:lnTo>
                      <a:lnTo>
                        <a:pt x="75" y="322"/>
                      </a:lnTo>
                      <a:lnTo>
                        <a:pt x="94" y="339"/>
                      </a:lnTo>
                      <a:lnTo>
                        <a:pt x="114" y="353"/>
                      </a:lnTo>
                      <a:lnTo>
                        <a:pt x="136" y="366"/>
                      </a:lnTo>
                      <a:lnTo>
                        <a:pt x="158" y="378"/>
                      </a:lnTo>
                      <a:lnTo>
                        <a:pt x="181" y="386"/>
                      </a:lnTo>
                      <a:lnTo>
                        <a:pt x="206" y="392"/>
                      </a:lnTo>
                      <a:lnTo>
                        <a:pt x="232" y="395"/>
                      </a:lnTo>
                      <a:lnTo>
                        <a:pt x="259" y="398"/>
                      </a:lnTo>
                      <a:lnTo>
                        <a:pt x="284" y="395"/>
                      </a:lnTo>
                      <a:lnTo>
                        <a:pt x="297" y="393"/>
                      </a:lnTo>
                      <a:lnTo>
                        <a:pt x="310" y="392"/>
                      </a:lnTo>
                      <a:lnTo>
                        <a:pt x="322" y="388"/>
                      </a:lnTo>
                      <a:lnTo>
                        <a:pt x="334" y="386"/>
                      </a:lnTo>
                      <a:lnTo>
                        <a:pt x="345" y="382"/>
                      </a:lnTo>
                      <a:lnTo>
                        <a:pt x="351" y="379"/>
                      </a:lnTo>
                      <a:lnTo>
                        <a:pt x="358" y="378"/>
                      </a:lnTo>
                      <a:lnTo>
                        <a:pt x="368" y="371"/>
                      </a:lnTo>
                      <a:lnTo>
                        <a:pt x="379" y="366"/>
                      </a:lnTo>
                      <a:lnTo>
                        <a:pt x="390" y="359"/>
                      </a:lnTo>
                      <a:lnTo>
                        <a:pt x="401" y="353"/>
                      </a:lnTo>
                      <a:lnTo>
                        <a:pt x="421" y="339"/>
                      </a:lnTo>
                      <a:lnTo>
                        <a:pt x="442" y="322"/>
                      </a:lnTo>
                      <a:lnTo>
                        <a:pt x="447" y="315"/>
                      </a:lnTo>
                      <a:lnTo>
                        <a:pt x="454" y="309"/>
                      </a:lnTo>
                      <a:lnTo>
                        <a:pt x="449" y="282"/>
                      </a:lnTo>
                      <a:lnTo>
                        <a:pt x="437" y="294"/>
                      </a:lnTo>
                      <a:lnTo>
                        <a:pt x="434" y="297"/>
                      </a:lnTo>
                      <a:lnTo>
                        <a:pt x="431" y="300"/>
                      </a:lnTo>
                      <a:lnTo>
                        <a:pt x="427" y="307"/>
                      </a:lnTo>
                      <a:lnTo>
                        <a:pt x="417" y="314"/>
                      </a:lnTo>
                      <a:lnTo>
                        <a:pt x="408" y="322"/>
                      </a:lnTo>
                      <a:lnTo>
                        <a:pt x="390" y="336"/>
                      </a:lnTo>
                      <a:lnTo>
                        <a:pt x="369" y="348"/>
                      </a:lnTo>
                      <a:lnTo>
                        <a:pt x="359" y="352"/>
                      </a:lnTo>
                      <a:lnTo>
                        <a:pt x="350" y="358"/>
                      </a:lnTo>
                      <a:lnTo>
                        <a:pt x="327" y="366"/>
                      </a:lnTo>
                      <a:lnTo>
                        <a:pt x="316" y="368"/>
                      </a:lnTo>
                      <a:lnTo>
                        <a:pt x="312" y="368"/>
                      </a:lnTo>
                      <a:lnTo>
                        <a:pt x="310" y="369"/>
                      </a:lnTo>
                      <a:lnTo>
                        <a:pt x="306" y="371"/>
                      </a:lnTo>
                      <a:lnTo>
                        <a:pt x="299" y="371"/>
                      </a:lnTo>
                      <a:lnTo>
                        <a:pt x="295" y="371"/>
                      </a:lnTo>
                      <a:lnTo>
                        <a:pt x="293" y="373"/>
                      </a:lnTo>
                      <a:lnTo>
                        <a:pt x="282" y="375"/>
                      </a:lnTo>
                      <a:lnTo>
                        <a:pt x="259" y="376"/>
                      </a:lnTo>
                      <a:lnTo>
                        <a:pt x="234" y="375"/>
                      </a:lnTo>
                      <a:lnTo>
                        <a:pt x="210" y="371"/>
                      </a:lnTo>
                      <a:lnTo>
                        <a:pt x="188" y="366"/>
                      </a:lnTo>
                      <a:lnTo>
                        <a:pt x="167" y="358"/>
                      </a:lnTo>
                      <a:lnTo>
                        <a:pt x="146" y="348"/>
                      </a:lnTo>
                      <a:lnTo>
                        <a:pt x="126" y="336"/>
                      </a:lnTo>
                      <a:lnTo>
                        <a:pt x="107" y="322"/>
                      </a:lnTo>
                      <a:lnTo>
                        <a:pt x="90" y="307"/>
                      </a:lnTo>
                      <a:lnTo>
                        <a:pt x="73" y="288"/>
                      </a:lnTo>
                      <a:lnTo>
                        <a:pt x="58" y="269"/>
                      </a:lnTo>
                      <a:lnTo>
                        <a:pt x="46" y="249"/>
                      </a:lnTo>
                      <a:lnTo>
                        <a:pt x="38" y="230"/>
                      </a:lnTo>
                      <a:lnTo>
                        <a:pt x="30" y="207"/>
                      </a:lnTo>
                      <a:lnTo>
                        <a:pt x="24" y="185"/>
                      </a:lnTo>
                      <a:lnTo>
                        <a:pt x="21" y="162"/>
                      </a:lnTo>
                      <a:lnTo>
                        <a:pt x="21" y="139"/>
                      </a:lnTo>
                      <a:lnTo>
                        <a:pt x="23" y="99"/>
                      </a:lnTo>
                      <a:lnTo>
                        <a:pt x="31" y="64"/>
                      </a:lnTo>
                      <a:lnTo>
                        <a:pt x="37" y="46"/>
                      </a:lnTo>
                      <a:lnTo>
                        <a:pt x="45" y="30"/>
                      </a:lnTo>
                      <a:lnTo>
                        <a:pt x="65" y="0"/>
                      </a:lnTo>
                      <a:lnTo>
                        <a:pt x="38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479280" y="3650760"/>
                  <a:ext cx="144000" cy="124200"/>
                </a:xfrm>
                <a:custGeom>
                  <a:avLst/>
                  <a:gdLst/>
                  <a:ahLst/>
                  <a:rect l="l" t="t" r="r" b="b"/>
                  <a:pathLst>
                    <a:path w="505" h="437">
                      <a:moveTo>
                        <a:pt x="22" y="135"/>
                      </a:moveTo>
                      <a:lnTo>
                        <a:pt x="23" y="98"/>
                      </a:lnTo>
                      <a:lnTo>
                        <a:pt x="30" y="64"/>
                      </a:lnTo>
                      <a:lnTo>
                        <a:pt x="40" y="31"/>
                      </a:lnTo>
                      <a:lnTo>
                        <a:pt x="56" y="0"/>
                      </a:lnTo>
                      <a:lnTo>
                        <a:pt x="28" y="6"/>
                      </a:lnTo>
                      <a:lnTo>
                        <a:pt x="15" y="35"/>
                      </a:lnTo>
                      <a:lnTo>
                        <a:pt x="7" y="67"/>
                      </a:lnTo>
                      <a:lnTo>
                        <a:pt x="2" y="100"/>
                      </a:lnTo>
                      <a:lnTo>
                        <a:pt x="0" y="135"/>
                      </a:lnTo>
                      <a:lnTo>
                        <a:pt x="2" y="164"/>
                      </a:lnTo>
                      <a:lnTo>
                        <a:pt x="5" y="194"/>
                      </a:lnTo>
                      <a:lnTo>
                        <a:pt x="7" y="208"/>
                      </a:lnTo>
                      <a:lnTo>
                        <a:pt x="12" y="222"/>
                      </a:lnTo>
                      <a:lnTo>
                        <a:pt x="22" y="251"/>
                      </a:lnTo>
                      <a:lnTo>
                        <a:pt x="34" y="276"/>
                      </a:lnTo>
                      <a:lnTo>
                        <a:pt x="49" y="301"/>
                      </a:lnTo>
                      <a:lnTo>
                        <a:pt x="57" y="312"/>
                      </a:lnTo>
                      <a:lnTo>
                        <a:pt x="67" y="324"/>
                      </a:lnTo>
                      <a:lnTo>
                        <a:pt x="89" y="348"/>
                      </a:lnTo>
                      <a:lnTo>
                        <a:pt x="110" y="367"/>
                      </a:lnTo>
                      <a:lnTo>
                        <a:pt x="134" y="386"/>
                      </a:lnTo>
                      <a:lnTo>
                        <a:pt x="159" y="400"/>
                      </a:lnTo>
                      <a:lnTo>
                        <a:pt x="186" y="414"/>
                      </a:lnTo>
                      <a:lnTo>
                        <a:pt x="212" y="423"/>
                      </a:lnTo>
                      <a:lnTo>
                        <a:pt x="242" y="431"/>
                      </a:lnTo>
                      <a:lnTo>
                        <a:pt x="271" y="434"/>
                      </a:lnTo>
                      <a:lnTo>
                        <a:pt x="303" y="437"/>
                      </a:lnTo>
                      <a:lnTo>
                        <a:pt x="330" y="434"/>
                      </a:lnTo>
                      <a:lnTo>
                        <a:pt x="344" y="432"/>
                      </a:lnTo>
                      <a:lnTo>
                        <a:pt x="351" y="431"/>
                      </a:lnTo>
                      <a:lnTo>
                        <a:pt x="359" y="431"/>
                      </a:lnTo>
                      <a:lnTo>
                        <a:pt x="364" y="429"/>
                      </a:lnTo>
                      <a:lnTo>
                        <a:pt x="371" y="428"/>
                      </a:lnTo>
                      <a:lnTo>
                        <a:pt x="385" y="425"/>
                      </a:lnTo>
                      <a:lnTo>
                        <a:pt x="397" y="421"/>
                      </a:lnTo>
                      <a:lnTo>
                        <a:pt x="411" y="417"/>
                      </a:lnTo>
                      <a:lnTo>
                        <a:pt x="422" y="411"/>
                      </a:lnTo>
                      <a:lnTo>
                        <a:pt x="424" y="408"/>
                      </a:lnTo>
                      <a:lnTo>
                        <a:pt x="426" y="407"/>
                      </a:lnTo>
                      <a:lnTo>
                        <a:pt x="428" y="407"/>
                      </a:lnTo>
                      <a:lnTo>
                        <a:pt x="435" y="405"/>
                      </a:lnTo>
                      <a:lnTo>
                        <a:pt x="460" y="392"/>
                      </a:lnTo>
                      <a:lnTo>
                        <a:pt x="482" y="376"/>
                      </a:lnTo>
                      <a:lnTo>
                        <a:pt x="505" y="359"/>
                      </a:lnTo>
                      <a:lnTo>
                        <a:pt x="503" y="331"/>
                      </a:lnTo>
                      <a:lnTo>
                        <a:pt x="502" y="333"/>
                      </a:lnTo>
                      <a:lnTo>
                        <a:pt x="479" y="352"/>
                      </a:lnTo>
                      <a:lnTo>
                        <a:pt x="468" y="359"/>
                      </a:lnTo>
                      <a:lnTo>
                        <a:pt x="457" y="369"/>
                      </a:lnTo>
                      <a:lnTo>
                        <a:pt x="445" y="375"/>
                      </a:lnTo>
                      <a:lnTo>
                        <a:pt x="434" y="382"/>
                      </a:lnTo>
                      <a:lnTo>
                        <a:pt x="427" y="384"/>
                      </a:lnTo>
                      <a:lnTo>
                        <a:pt x="424" y="384"/>
                      </a:lnTo>
                      <a:lnTo>
                        <a:pt x="423" y="386"/>
                      </a:lnTo>
                      <a:lnTo>
                        <a:pt x="421" y="388"/>
                      </a:lnTo>
                      <a:lnTo>
                        <a:pt x="410" y="395"/>
                      </a:lnTo>
                      <a:lnTo>
                        <a:pt x="396" y="398"/>
                      </a:lnTo>
                      <a:lnTo>
                        <a:pt x="384" y="403"/>
                      </a:lnTo>
                      <a:lnTo>
                        <a:pt x="370" y="406"/>
                      </a:lnTo>
                      <a:lnTo>
                        <a:pt x="363" y="407"/>
                      </a:lnTo>
                      <a:lnTo>
                        <a:pt x="358" y="409"/>
                      </a:lnTo>
                      <a:lnTo>
                        <a:pt x="330" y="413"/>
                      </a:lnTo>
                      <a:lnTo>
                        <a:pt x="303" y="415"/>
                      </a:lnTo>
                      <a:lnTo>
                        <a:pt x="274" y="413"/>
                      </a:lnTo>
                      <a:lnTo>
                        <a:pt x="246" y="409"/>
                      </a:lnTo>
                      <a:lnTo>
                        <a:pt x="219" y="403"/>
                      </a:lnTo>
                      <a:lnTo>
                        <a:pt x="194" y="395"/>
                      </a:lnTo>
                      <a:lnTo>
                        <a:pt x="169" y="382"/>
                      </a:lnTo>
                      <a:lnTo>
                        <a:pt x="147" y="369"/>
                      </a:lnTo>
                      <a:lnTo>
                        <a:pt x="125" y="352"/>
                      </a:lnTo>
                      <a:lnTo>
                        <a:pt x="105" y="333"/>
                      </a:lnTo>
                      <a:lnTo>
                        <a:pt x="84" y="311"/>
                      </a:lnTo>
                      <a:lnTo>
                        <a:pt x="67" y="289"/>
                      </a:lnTo>
                      <a:lnTo>
                        <a:pt x="53" y="265"/>
                      </a:lnTo>
                      <a:lnTo>
                        <a:pt x="42" y="242"/>
                      </a:lnTo>
                      <a:lnTo>
                        <a:pt x="32" y="215"/>
                      </a:lnTo>
                      <a:lnTo>
                        <a:pt x="27" y="189"/>
                      </a:lnTo>
                      <a:lnTo>
                        <a:pt x="23" y="162"/>
                      </a:lnTo>
                      <a:lnTo>
                        <a:pt x="22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73160" y="3651840"/>
                  <a:ext cx="150120" cy="129600"/>
                </a:xfrm>
                <a:custGeom>
                  <a:avLst/>
                  <a:gdLst/>
                  <a:ahLst/>
                  <a:rect l="l" t="t" r="r" b="b"/>
                  <a:pathLst>
                    <a:path w="526" h="452">
                      <a:moveTo>
                        <a:pt x="21" y="129"/>
                      </a:moveTo>
                      <a:lnTo>
                        <a:pt x="23" y="94"/>
                      </a:lnTo>
                      <a:lnTo>
                        <a:pt x="28" y="61"/>
                      </a:lnTo>
                      <a:lnTo>
                        <a:pt x="36" y="29"/>
                      </a:lnTo>
                      <a:lnTo>
                        <a:pt x="49" y="0"/>
                      </a:lnTo>
                      <a:lnTo>
                        <a:pt x="23" y="7"/>
                      </a:lnTo>
                      <a:lnTo>
                        <a:pt x="12" y="35"/>
                      </a:lnTo>
                      <a:lnTo>
                        <a:pt x="6" y="66"/>
                      </a:lnTo>
                      <a:lnTo>
                        <a:pt x="1" y="96"/>
                      </a:lnTo>
                      <a:lnTo>
                        <a:pt x="0" y="129"/>
                      </a:lnTo>
                      <a:lnTo>
                        <a:pt x="1" y="161"/>
                      </a:lnTo>
                      <a:lnTo>
                        <a:pt x="6" y="192"/>
                      </a:lnTo>
                      <a:lnTo>
                        <a:pt x="8" y="207"/>
                      </a:lnTo>
                      <a:lnTo>
                        <a:pt x="12" y="223"/>
                      </a:lnTo>
                      <a:lnTo>
                        <a:pt x="24" y="253"/>
                      </a:lnTo>
                      <a:lnTo>
                        <a:pt x="36" y="280"/>
                      </a:lnTo>
                      <a:lnTo>
                        <a:pt x="53" y="307"/>
                      </a:lnTo>
                      <a:lnTo>
                        <a:pt x="72" y="333"/>
                      </a:lnTo>
                      <a:lnTo>
                        <a:pt x="95" y="358"/>
                      </a:lnTo>
                      <a:lnTo>
                        <a:pt x="118" y="378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8" y="428"/>
                      </a:lnTo>
                      <a:lnTo>
                        <a:pt x="227" y="437"/>
                      </a:lnTo>
                      <a:lnTo>
                        <a:pt x="258" y="445"/>
                      </a:lnTo>
                      <a:lnTo>
                        <a:pt x="290" y="450"/>
                      </a:lnTo>
                      <a:lnTo>
                        <a:pt x="324" y="452"/>
                      </a:lnTo>
                      <a:lnTo>
                        <a:pt x="351" y="451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80" y="448"/>
                      </a:lnTo>
                      <a:lnTo>
                        <a:pt x="385" y="445"/>
                      </a:lnTo>
                      <a:lnTo>
                        <a:pt x="392" y="444"/>
                      </a:lnTo>
                      <a:lnTo>
                        <a:pt x="406" y="442"/>
                      </a:lnTo>
                      <a:lnTo>
                        <a:pt x="418" y="437"/>
                      </a:lnTo>
                      <a:lnTo>
                        <a:pt x="432" y="434"/>
                      </a:lnTo>
                      <a:lnTo>
                        <a:pt x="443" y="428"/>
                      </a:lnTo>
                      <a:lnTo>
                        <a:pt x="456" y="424"/>
                      </a:lnTo>
                      <a:lnTo>
                        <a:pt x="481" y="411"/>
                      </a:lnTo>
                      <a:lnTo>
                        <a:pt x="503" y="397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3"/>
                      </a:lnTo>
                      <a:lnTo>
                        <a:pt x="503" y="370"/>
                      </a:lnTo>
                      <a:lnTo>
                        <a:pt x="481" y="386"/>
                      </a:lnTo>
                      <a:lnTo>
                        <a:pt x="456" y="399"/>
                      </a:lnTo>
                      <a:lnTo>
                        <a:pt x="449" y="401"/>
                      </a:lnTo>
                      <a:lnTo>
                        <a:pt x="447" y="401"/>
                      </a:lnTo>
                      <a:lnTo>
                        <a:pt x="445" y="402"/>
                      </a:lnTo>
                      <a:lnTo>
                        <a:pt x="443" y="405"/>
                      </a:lnTo>
                      <a:lnTo>
                        <a:pt x="432" y="411"/>
                      </a:lnTo>
                      <a:lnTo>
                        <a:pt x="418" y="415"/>
                      </a:lnTo>
                      <a:lnTo>
                        <a:pt x="406" y="419"/>
                      </a:lnTo>
                      <a:lnTo>
                        <a:pt x="392" y="422"/>
                      </a:lnTo>
                      <a:lnTo>
                        <a:pt x="385" y="423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5" y="426"/>
                      </a:lnTo>
                      <a:lnTo>
                        <a:pt x="351" y="428"/>
                      </a:lnTo>
                      <a:lnTo>
                        <a:pt x="324" y="431"/>
                      </a:lnTo>
                      <a:lnTo>
                        <a:pt x="292" y="428"/>
                      </a:lnTo>
                      <a:lnTo>
                        <a:pt x="263" y="425"/>
                      </a:lnTo>
                      <a:lnTo>
                        <a:pt x="233" y="417"/>
                      </a:lnTo>
                      <a:lnTo>
                        <a:pt x="207" y="408"/>
                      </a:lnTo>
                      <a:lnTo>
                        <a:pt x="180" y="394"/>
                      </a:lnTo>
                      <a:lnTo>
                        <a:pt x="155" y="380"/>
                      </a:lnTo>
                      <a:lnTo>
                        <a:pt x="131" y="361"/>
                      </a:lnTo>
                      <a:lnTo>
                        <a:pt x="110" y="342"/>
                      </a:lnTo>
                      <a:lnTo>
                        <a:pt x="88" y="318"/>
                      </a:lnTo>
                      <a:lnTo>
                        <a:pt x="78" y="306"/>
                      </a:lnTo>
                      <a:lnTo>
                        <a:pt x="70" y="295"/>
                      </a:lnTo>
                      <a:lnTo>
                        <a:pt x="55" y="270"/>
                      </a:lnTo>
                      <a:lnTo>
                        <a:pt x="43" y="245"/>
                      </a:lnTo>
                      <a:lnTo>
                        <a:pt x="33" y="216"/>
                      </a:lnTo>
                      <a:lnTo>
                        <a:pt x="28" y="202"/>
                      </a:lnTo>
                      <a:lnTo>
                        <a:pt x="26" y="188"/>
                      </a:lnTo>
                      <a:lnTo>
                        <a:pt x="23" y="158"/>
                      </a:lnTo>
                      <a:lnTo>
                        <a:pt x="21" y="129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404400" y="375264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4" h="398">
                      <a:moveTo>
                        <a:pt x="0" y="23"/>
                      </a:moveTo>
                      <a:lnTo>
                        <a:pt x="2" y="55"/>
                      </a:lnTo>
                      <a:lnTo>
                        <a:pt x="24" y="98"/>
                      </a:lnTo>
                      <a:lnTo>
                        <a:pt x="54" y="141"/>
                      </a:lnTo>
                      <a:lnTo>
                        <a:pt x="85" y="181"/>
                      </a:lnTo>
                      <a:lnTo>
                        <a:pt x="123" y="221"/>
                      </a:lnTo>
                      <a:lnTo>
                        <a:pt x="159" y="255"/>
                      </a:lnTo>
                      <a:lnTo>
                        <a:pt x="199" y="287"/>
                      </a:lnTo>
                      <a:lnTo>
                        <a:pt x="240" y="314"/>
                      </a:lnTo>
                      <a:lnTo>
                        <a:pt x="283" y="339"/>
                      </a:lnTo>
                      <a:lnTo>
                        <a:pt x="326" y="358"/>
                      </a:lnTo>
                      <a:lnTo>
                        <a:pt x="372" y="375"/>
                      </a:lnTo>
                      <a:lnTo>
                        <a:pt x="420" y="388"/>
                      </a:lnTo>
                      <a:lnTo>
                        <a:pt x="470" y="398"/>
                      </a:lnTo>
                      <a:lnTo>
                        <a:pt x="497" y="390"/>
                      </a:lnTo>
                      <a:lnTo>
                        <a:pt x="524" y="382"/>
                      </a:lnTo>
                      <a:lnTo>
                        <a:pt x="469" y="375"/>
                      </a:lnTo>
                      <a:lnTo>
                        <a:pt x="441" y="371"/>
                      </a:lnTo>
                      <a:lnTo>
                        <a:pt x="415" y="365"/>
                      </a:lnTo>
                      <a:lnTo>
                        <a:pt x="364" y="349"/>
                      </a:lnTo>
                      <a:lnTo>
                        <a:pt x="316" y="331"/>
                      </a:lnTo>
                      <a:lnTo>
                        <a:pt x="267" y="306"/>
                      </a:lnTo>
                      <a:lnTo>
                        <a:pt x="223" y="277"/>
                      </a:lnTo>
                      <a:lnTo>
                        <a:pt x="178" y="243"/>
                      </a:lnTo>
                      <a:lnTo>
                        <a:pt x="139" y="206"/>
                      </a:lnTo>
                      <a:lnTo>
                        <a:pt x="115" y="181"/>
                      </a:lnTo>
                      <a:lnTo>
                        <a:pt x="93" y="158"/>
                      </a:lnTo>
                      <a:lnTo>
                        <a:pt x="73" y="132"/>
                      </a:lnTo>
                      <a:lnTo>
                        <a:pt x="56" y="107"/>
                      </a:lnTo>
                      <a:lnTo>
                        <a:pt x="39" y="79"/>
                      </a:lnTo>
                      <a:lnTo>
                        <a:pt x="24" y="53"/>
                      </a:lnTo>
                      <a:lnTo>
                        <a:pt x="11" y="26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04400" y="3737520"/>
                  <a:ext cx="161640" cy="123840"/>
                </a:xfrm>
                <a:custGeom>
                  <a:avLst/>
                  <a:gdLst/>
                  <a:ahLst/>
                  <a:rect l="l" t="t" r="r" b="b"/>
                  <a:pathLst>
                    <a:path w="567" h="433">
                      <a:moveTo>
                        <a:pt x="7" y="0"/>
                      </a:moveTo>
                      <a:lnTo>
                        <a:pt x="2" y="25"/>
                      </a:lnTo>
                      <a:lnTo>
                        <a:pt x="0" y="51"/>
                      </a:lnTo>
                      <a:lnTo>
                        <a:pt x="11" y="77"/>
                      </a:lnTo>
                      <a:lnTo>
                        <a:pt x="24" y="104"/>
                      </a:lnTo>
                      <a:lnTo>
                        <a:pt x="39" y="130"/>
                      </a:lnTo>
                      <a:lnTo>
                        <a:pt x="56" y="158"/>
                      </a:lnTo>
                      <a:lnTo>
                        <a:pt x="73" y="183"/>
                      </a:lnTo>
                      <a:lnTo>
                        <a:pt x="93" y="209"/>
                      </a:lnTo>
                      <a:lnTo>
                        <a:pt x="115" y="232"/>
                      </a:lnTo>
                      <a:lnTo>
                        <a:pt x="139" y="257"/>
                      </a:lnTo>
                      <a:lnTo>
                        <a:pt x="178" y="294"/>
                      </a:lnTo>
                      <a:lnTo>
                        <a:pt x="223" y="328"/>
                      </a:lnTo>
                      <a:lnTo>
                        <a:pt x="267" y="357"/>
                      </a:lnTo>
                      <a:lnTo>
                        <a:pt x="316" y="382"/>
                      </a:lnTo>
                      <a:lnTo>
                        <a:pt x="364" y="400"/>
                      </a:lnTo>
                      <a:lnTo>
                        <a:pt x="415" y="416"/>
                      </a:lnTo>
                      <a:lnTo>
                        <a:pt x="441" y="422"/>
                      </a:lnTo>
                      <a:lnTo>
                        <a:pt x="469" y="426"/>
                      </a:lnTo>
                      <a:lnTo>
                        <a:pt x="524" y="433"/>
                      </a:lnTo>
                      <a:lnTo>
                        <a:pt x="567" y="413"/>
                      </a:lnTo>
                      <a:lnTo>
                        <a:pt x="566" y="413"/>
                      </a:lnTo>
                      <a:lnTo>
                        <a:pt x="536" y="412"/>
                      </a:lnTo>
                      <a:lnTo>
                        <a:pt x="506" y="409"/>
                      </a:lnTo>
                      <a:lnTo>
                        <a:pt x="477" y="406"/>
                      </a:lnTo>
                      <a:lnTo>
                        <a:pt x="448" y="401"/>
                      </a:lnTo>
                      <a:lnTo>
                        <a:pt x="393" y="388"/>
                      </a:lnTo>
                      <a:lnTo>
                        <a:pt x="342" y="370"/>
                      </a:lnTo>
                      <a:lnTo>
                        <a:pt x="291" y="345"/>
                      </a:lnTo>
                      <a:lnTo>
                        <a:pt x="242" y="315"/>
                      </a:lnTo>
                      <a:lnTo>
                        <a:pt x="218" y="298"/>
                      </a:lnTo>
                      <a:lnTo>
                        <a:pt x="195" y="280"/>
                      </a:lnTo>
                      <a:lnTo>
                        <a:pt x="153" y="242"/>
                      </a:lnTo>
                      <a:lnTo>
                        <a:pt x="127" y="213"/>
                      </a:lnTo>
                      <a:lnTo>
                        <a:pt x="104" y="186"/>
                      </a:lnTo>
                      <a:lnTo>
                        <a:pt x="82" y="157"/>
                      </a:lnTo>
                      <a:lnTo>
                        <a:pt x="63" y="127"/>
                      </a:lnTo>
                      <a:lnTo>
                        <a:pt x="45" y="95"/>
                      </a:lnTo>
                      <a:lnTo>
                        <a:pt x="30" y="65"/>
                      </a:lnTo>
                      <a:lnTo>
                        <a:pt x="17" y="3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406200" y="3724920"/>
                  <a:ext cx="170280" cy="129960"/>
                </a:xfrm>
                <a:custGeom>
                  <a:avLst/>
                  <a:gdLst/>
                  <a:ahLst/>
                  <a:rect l="l" t="t" r="r" b="b"/>
                  <a:pathLst>
                    <a:path w="597" h="457">
                      <a:moveTo>
                        <a:pt x="10" y="0"/>
                      </a:moveTo>
                      <a:lnTo>
                        <a:pt x="0" y="44"/>
                      </a:lnTo>
                      <a:lnTo>
                        <a:pt x="10" y="76"/>
                      </a:lnTo>
                      <a:lnTo>
                        <a:pt x="23" y="109"/>
                      </a:lnTo>
                      <a:lnTo>
                        <a:pt x="38" y="139"/>
                      </a:lnTo>
                      <a:lnTo>
                        <a:pt x="56" y="171"/>
                      </a:lnTo>
                      <a:lnTo>
                        <a:pt x="75" y="201"/>
                      </a:lnTo>
                      <a:lnTo>
                        <a:pt x="97" y="230"/>
                      </a:lnTo>
                      <a:lnTo>
                        <a:pt x="120" y="257"/>
                      </a:lnTo>
                      <a:lnTo>
                        <a:pt x="146" y="286"/>
                      </a:lnTo>
                      <a:lnTo>
                        <a:pt x="188" y="324"/>
                      </a:lnTo>
                      <a:lnTo>
                        <a:pt x="211" y="342"/>
                      </a:lnTo>
                      <a:lnTo>
                        <a:pt x="235" y="359"/>
                      </a:lnTo>
                      <a:lnTo>
                        <a:pt x="284" y="389"/>
                      </a:lnTo>
                      <a:lnTo>
                        <a:pt x="335" y="414"/>
                      </a:lnTo>
                      <a:lnTo>
                        <a:pt x="386" y="432"/>
                      </a:lnTo>
                      <a:lnTo>
                        <a:pt x="441" y="445"/>
                      </a:lnTo>
                      <a:lnTo>
                        <a:pt x="470" y="450"/>
                      </a:lnTo>
                      <a:lnTo>
                        <a:pt x="499" y="453"/>
                      </a:lnTo>
                      <a:lnTo>
                        <a:pt x="529" y="456"/>
                      </a:lnTo>
                      <a:lnTo>
                        <a:pt x="559" y="457"/>
                      </a:lnTo>
                      <a:lnTo>
                        <a:pt x="560" y="457"/>
                      </a:lnTo>
                      <a:lnTo>
                        <a:pt x="597" y="434"/>
                      </a:lnTo>
                      <a:lnTo>
                        <a:pt x="559" y="435"/>
                      </a:lnTo>
                      <a:lnTo>
                        <a:pt x="530" y="434"/>
                      </a:lnTo>
                      <a:lnTo>
                        <a:pt x="501" y="432"/>
                      </a:lnTo>
                      <a:lnTo>
                        <a:pt x="473" y="428"/>
                      </a:lnTo>
                      <a:lnTo>
                        <a:pt x="446" y="424"/>
                      </a:lnTo>
                      <a:lnTo>
                        <a:pt x="392" y="410"/>
                      </a:lnTo>
                      <a:lnTo>
                        <a:pt x="368" y="402"/>
                      </a:lnTo>
                      <a:lnTo>
                        <a:pt x="343" y="393"/>
                      </a:lnTo>
                      <a:lnTo>
                        <a:pt x="318" y="382"/>
                      </a:lnTo>
                      <a:lnTo>
                        <a:pt x="294" y="369"/>
                      </a:lnTo>
                      <a:lnTo>
                        <a:pt x="247" y="342"/>
                      </a:lnTo>
                      <a:lnTo>
                        <a:pt x="203" y="308"/>
                      </a:lnTo>
                      <a:lnTo>
                        <a:pt x="182" y="290"/>
                      </a:lnTo>
                      <a:lnTo>
                        <a:pt x="161" y="271"/>
                      </a:lnTo>
                      <a:lnTo>
                        <a:pt x="133" y="240"/>
                      </a:lnTo>
                      <a:lnTo>
                        <a:pt x="107" y="210"/>
                      </a:lnTo>
                      <a:lnTo>
                        <a:pt x="94" y="193"/>
                      </a:lnTo>
                      <a:lnTo>
                        <a:pt x="84" y="177"/>
                      </a:lnTo>
                      <a:lnTo>
                        <a:pt x="65" y="144"/>
                      </a:lnTo>
                      <a:lnTo>
                        <a:pt x="55" y="126"/>
                      </a:lnTo>
                      <a:lnTo>
                        <a:pt x="47" y="109"/>
                      </a:lnTo>
                      <a:lnTo>
                        <a:pt x="32" y="74"/>
                      </a:lnTo>
                      <a:lnTo>
                        <a:pt x="19" y="3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409080" y="3714120"/>
                  <a:ext cx="176400" cy="135360"/>
                </a:xfrm>
                <a:custGeom>
                  <a:avLst/>
                  <a:gdLst/>
                  <a:ahLst/>
                  <a:rect l="l" t="t" r="r" b="b"/>
                  <a:pathLst>
                    <a:path w="617" h="474">
                      <a:moveTo>
                        <a:pt x="15" y="0"/>
                      </a:moveTo>
                      <a:lnTo>
                        <a:pt x="0" y="39"/>
                      </a:lnTo>
                      <a:lnTo>
                        <a:pt x="9" y="75"/>
                      </a:lnTo>
                      <a:lnTo>
                        <a:pt x="22" y="113"/>
                      </a:lnTo>
                      <a:lnTo>
                        <a:pt x="37" y="148"/>
                      </a:lnTo>
                      <a:lnTo>
                        <a:pt x="45" y="165"/>
                      </a:lnTo>
                      <a:lnTo>
                        <a:pt x="55" y="183"/>
                      </a:lnTo>
                      <a:lnTo>
                        <a:pt x="74" y="216"/>
                      </a:lnTo>
                      <a:lnTo>
                        <a:pt x="84" y="232"/>
                      </a:lnTo>
                      <a:lnTo>
                        <a:pt x="97" y="249"/>
                      </a:lnTo>
                      <a:lnTo>
                        <a:pt x="123" y="279"/>
                      </a:lnTo>
                      <a:lnTo>
                        <a:pt x="151" y="310"/>
                      </a:lnTo>
                      <a:lnTo>
                        <a:pt x="172" y="329"/>
                      </a:lnTo>
                      <a:lnTo>
                        <a:pt x="193" y="347"/>
                      </a:lnTo>
                      <a:lnTo>
                        <a:pt x="237" y="381"/>
                      </a:lnTo>
                      <a:lnTo>
                        <a:pt x="284" y="408"/>
                      </a:lnTo>
                      <a:lnTo>
                        <a:pt x="308" y="421"/>
                      </a:lnTo>
                      <a:lnTo>
                        <a:pt x="333" y="432"/>
                      </a:lnTo>
                      <a:lnTo>
                        <a:pt x="358" y="441"/>
                      </a:lnTo>
                      <a:lnTo>
                        <a:pt x="382" y="449"/>
                      </a:lnTo>
                      <a:lnTo>
                        <a:pt x="436" y="463"/>
                      </a:lnTo>
                      <a:lnTo>
                        <a:pt x="463" y="467"/>
                      </a:lnTo>
                      <a:lnTo>
                        <a:pt x="491" y="471"/>
                      </a:lnTo>
                      <a:lnTo>
                        <a:pt x="520" y="473"/>
                      </a:lnTo>
                      <a:lnTo>
                        <a:pt x="549" y="474"/>
                      </a:lnTo>
                      <a:lnTo>
                        <a:pt x="587" y="473"/>
                      </a:lnTo>
                      <a:lnTo>
                        <a:pt x="593" y="466"/>
                      </a:lnTo>
                      <a:lnTo>
                        <a:pt x="595" y="464"/>
                      </a:lnTo>
                      <a:lnTo>
                        <a:pt x="597" y="463"/>
                      </a:lnTo>
                      <a:lnTo>
                        <a:pt x="601" y="461"/>
                      </a:lnTo>
                      <a:lnTo>
                        <a:pt x="617" y="449"/>
                      </a:lnTo>
                      <a:lnTo>
                        <a:pt x="583" y="452"/>
                      </a:lnTo>
                      <a:lnTo>
                        <a:pt x="549" y="453"/>
                      </a:lnTo>
                      <a:lnTo>
                        <a:pt x="521" y="452"/>
                      </a:lnTo>
                      <a:lnTo>
                        <a:pt x="494" y="449"/>
                      </a:lnTo>
                      <a:lnTo>
                        <a:pt x="440" y="442"/>
                      </a:lnTo>
                      <a:lnTo>
                        <a:pt x="389" y="429"/>
                      </a:lnTo>
                      <a:lnTo>
                        <a:pt x="341" y="413"/>
                      </a:lnTo>
                      <a:lnTo>
                        <a:pt x="293" y="390"/>
                      </a:lnTo>
                      <a:lnTo>
                        <a:pt x="249" y="363"/>
                      </a:lnTo>
                      <a:lnTo>
                        <a:pt x="227" y="347"/>
                      </a:lnTo>
                      <a:lnTo>
                        <a:pt x="207" y="330"/>
                      </a:lnTo>
                      <a:lnTo>
                        <a:pt x="167" y="294"/>
                      </a:lnTo>
                      <a:lnTo>
                        <a:pt x="136" y="261"/>
                      </a:lnTo>
                      <a:lnTo>
                        <a:pt x="109" y="227"/>
                      </a:lnTo>
                      <a:lnTo>
                        <a:pt x="85" y="192"/>
                      </a:lnTo>
                      <a:lnTo>
                        <a:pt x="74" y="174"/>
                      </a:lnTo>
                      <a:lnTo>
                        <a:pt x="65" y="157"/>
                      </a:lnTo>
                      <a:lnTo>
                        <a:pt x="55" y="137"/>
                      </a:lnTo>
                      <a:lnTo>
                        <a:pt x="47" y="119"/>
                      </a:lnTo>
                      <a:lnTo>
                        <a:pt x="33" y="81"/>
                      </a:lnTo>
                      <a:lnTo>
                        <a:pt x="26" y="60"/>
                      </a:lnTo>
                      <a:lnTo>
                        <a:pt x="22" y="41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413760" y="3704760"/>
                  <a:ext cx="179640" cy="138600"/>
                </a:xfrm>
                <a:custGeom>
                  <a:avLst/>
                  <a:gdLst/>
                  <a:ahLst/>
                  <a:rect l="l" t="t" r="r" b="b"/>
                  <a:pathLst>
                    <a:path w="629" h="487">
                      <a:moveTo>
                        <a:pt x="18" y="0"/>
                      </a:moveTo>
                      <a:lnTo>
                        <a:pt x="0" y="34"/>
                      </a:lnTo>
                      <a:lnTo>
                        <a:pt x="7" y="75"/>
                      </a:lnTo>
                      <a:lnTo>
                        <a:pt x="11" y="94"/>
                      </a:lnTo>
                      <a:lnTo>
                        <a:pt x="18" y="115"/>
                      </a:lnTo>
                      <a:lnTo>
                        <a:pt x="32" y="153"/>
                      </a:lnTo>
                      <a:lnTo>
                        <a:pt x="40" y="171"/>
                      </a:lnTo>
                      <a:lnTo>
                        <a:pt x="50" y="191"/>
                      </a:lnTo>
                      <a:lnTo>
                        <a:pt x="59" y="208"/>
                      </a:lnTo>
                      <a:lnTo>
                        <a:pt x="70" y="226"/>
                      </a:lnTo>
                      <a:lnTo>
                        <a:pt x="94" y="261"/>
                      </a:lnTo>
                      <a:lnTo>
                        <a:pt x="121" y="295"/>
                      </a:lnTo>
                      <a:lnTo>
                        <a:pt x="152" y="328"/>
                      </a:lnTo>
                      <a:lnTo>
                        <a:pt x="192" y="364"/>
                      </a:lnTo>
                      <a:lnTo>
                        <a:pt x="212" y="381"/>
                      </a:lnTo>
                      <a:lnTo>
                        <a:pt x="234" y="397"/>
                      </a:lnTo>
                      <a:lnTo>
                        <a:pt x="278" y="424"/>
                      </a:lnTo>
                      <a:lnTo>
                        <a:pt x="326" y="447"/>
                      </a:lnTo>
                      <a:lnTo>
                        <a:pt x="374" y="463"/>
                      </a:lnTo>
                      <a:lnTo>
                        <a:pt x="425" y="476"/>
                      </a:lnTo>
                      <a:lnTo>
                        <a:pt x="479" y="483"/>
                      </a:lnTo>
                      <a:lnTo>
                        <a:pt x="506" y="486"/>
                      </a:lnTo>
                      <a:lnTo>
                        <a:pt x="534" y="487"/>
                      </a:lnTo>
                      <a:lnTo>
                        <a:pt x="568" y="486"/>
                      </a:lnTo>
                      <a:lnTo>
                        <a:pt x="602" y="483"/>
                      </a:lnTo>
                      <a:lnTo>
                        <a:pt x="624" y="463"/>
                      </a:lnTo>
                      <a:lnTo>
                        <a:pt x="629" y="457"/>
                      </a:lnTo>
                      <a:lnTo>
                        <a:pt x="582" y="463"/>
                      </a:lnTo>
                      <a:lnTo>
                        <a:pt x="534" y="465"/>
                      </a:lnTo>
                      <a:lnTo>
                        <a:pt x="507" y="464"/>
                      </a:lnTo>
                      <a:lnTo>
                        <a:pt x="481" y="462"/>
                      </a:lnTo>
                      <a:lnTo>
                        <a:pt x="430" y="455"/>
                      </a:lnTo>
                      <a:lnTo>
                        <a:pt x="405" y="449"/>
                      </a:lnTo>
                      <a:lnTo>
                        <a:pt x="381" y="442"/>
                      </a:lnTo>
                      <a:lnTo>
                        <a:pt x="335" y="427"/>
                      </a:lnTo>
                      <a:lnTo>
                        <a:pt x="288" y="404"/>
                      </a:lnTo>
                      <a:lnTo>
                        <a:pt x="246" y="379"/>
                      </a:lnTo>
                      <a:lnTo>
                        <a:pt x="204" y="347"/>
                      </a:lnTo>
                      <a:lnTo>
                        <a:pt x="167" y="313"/>
                      </a:lnTo>
                      <a:lnTo>
                        <a:pt x="150" y="295"/>
                      </a:lnTo>
                      <a:lnTo>
                        <a:pt x="135" y="278"/>
                      </a:lnTo>
                      <a:lnTo>
                        <a:pt x="120" y="260"/>
                      </a:lnTo>
                      <a:lnTo>
                        <a:pt x="108" y="243"/>
                      </a:lnTo>
                      <a:lnTo>
                        <a:pt x="94" y="224"/>
                      </a:lnTo>
                      <a:lnTo>
                        <a:pt x="83" y="206"/>
                      </a:lnTo>
                      <a:lnTo>
                        <a:pt x="64" y="168"/>
                      </a:lnTo>
                      <a:lnTo>
                        <a:pt x="45" y="127"/>
                      </a:lnTo>
                      <a:lnTo>
                        <a:pt x="33" y="86"/>
                      </a:lnTo>
                      <a:lnTo>
                        <a:pt x="23" y="4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418800" y="3695400"/>
                  <a:ext cx="181080" cy="141480"/>
                </a:xfrm>
                <a:custGeom>
                  <a:avLst/>
                  <a:gdLst/>
                  <a:ahLst/>
                  <a:rect l="l" t="t" r="r" b="b"/>
                  <a:pathLst>
                    <a:path w="635" h="495">
                      <a:moveTo>
                        <a:pt x="20" y="0"/>
                      </a:moveTo>
                      <a:lnTo>
                        <a:pt x="0" y="30"/>
                      </a:lnTo>
                      <a:lnTo>
                        <a:pt x="5" y="73"/>
                      </a:lnTo>
                      <a:lnTo>
                        <a:pt x="15" y="116"/>
                      </a:lnTo>
                      <a:lnTo>
                        <a:pt x="27" y="157"/>
                      </a:lnTo>
                      <a:lnTo>
                        <a:pt x="46" y="198"/>
                      </a:lnTo>
                      <a:lnTo>
                        <a:pt x="65" y="236"/>
                      </a:lnTo>
                      <a:lnTo>
                        <a:pt x="76" y="254"/>
                      </a:lnTo>
                      <a:lnTo>
                        <a:pt x="90" y="273"/>
                      </a:lnTo>
                      <a:lnTo>
                        <a:pt x="102" y="290"/>
                      </a:lnTo>
                      <a:lnTo>
                        <a:pt x="117" y="308"/>
                      </a:lnTo>
                      <a:lnTo>
                        <a:pt x="132" y="325"/>
                      </a:lnTo>
                      <a:lnTo>
                        <a:pt x="149" y="343"/>
                      </a:lnTo>
                      <a:lnTo>
                        <a:pt x="186" y="377"/>
                      </a:lnTo>
                      <a:lnTo>
                        <a:pt x="228" y="409"/>
                      </a:lnTo>
                      <a:lnTo>
                        <a:pt x="270" y="434"/>
                      </a:lnTo>
                      <a:lnTo>
                        <a:pt x="317" y="457"/>
                      </a:lnTo>
                      <a:lnTo>
                        <a:pt x="363" y="472"/>
                      </a:lnTo>
                      <a:lnTo>
                        <a:pt x="387" y="479"/>
                      </a:lnTo>
                      <a:lnTo>
                        <a:pt x="412" y="485"/>
                      </a:lnTo>
                      <a:lnTo>
                        <a:pt x="463" y="492"/>
                      </a:lnTo>
                      <a:lnTo>
                        <a:pt x="489" y="494"/>
                      </a:lnTo>
                      <a:lnTo>
                        <a:pt x="516" y="495"/>
                      </a:lnTo>
                      <a:lnTo>
                        <a:pt x="564" y="493"/>
                      </a:lnTo>
                      <a:lnTo>
                        <a:pt x="611" y="487"/>
                      </a:lnTo>
                      <a:lnTo>
                        <a:pt x="635" y="460"/>
                      </a:lnTo>
                      <a:lnTo>
                        <a:pt x="606" y="466"/>
                      </a:lnTo>
                      <a:lnTo>
                        <a:pt x="576" y="470"/>
                      </a:lnTo>
                      <a:lnTo>
                        <a:pt x="546" y="472"/>
                      </a:lnTo>
                      <a:lnTo>
                        <a:pt x="516" y="474"/>
                      </a:lnTo>
                      <a:lnTo>
                        <a:pt x="465" y="471"/>
                      </a:lnTo>
                      <a:lnTo>
                        <a:pt x="416" y="465"/>
                      </a:lnTo>
                      <a:lnTo>
                        <a:pt x="369" y="453"/>
                      </a:lnTo>
                      <a:lnTo>
                        <a:pt x="325" y="437"/>
                      </a:lnTo>
                      <a:lnTo>
                        <a:pt x="280" y="417"/>
                      </a:lnTo>
                      <a:lnTo>
                        <a:pt x="241" y="392"/>
                      </a:lnTo>
                      <a:lnTo>
                        <a:pt x="201" y="362"/>
                      </a:lnTo>
                      <a:lnTo>
                        <a:pt x="165" y="328"/>
                      </a:lnTo>
                      <a:lnTo>
                        <a:pt x="131" y="292"/>
                      </a:lnTo>
                      <a:lnTo>
                        <a:pt x="116" y="273"/>
                      </a:lnTo>
                      <a:lnTo>
                        <a:pt x="103" y="255"/>
                      </a:lnTo>
                      <a:lnTo>
                        <a:pt x="79" y="216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1" y="92"/>
                      </a:lnTo>
                      <a:lnTo>
                        <a:pt x="22" y="46"/>
                      </a:lnTo>
                      <a:lnTo>
                        <a:pt x="20" y="2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414840" y="3806640"/>
                  <a:ext cx="79200" cy="59760"/>
                </a:xfrm>
                <a:custGeom>
                  <a:avLst/>
                  <a:gdLst/>
                  <a:ahLst/>
                  <a:rect l="l" t="t" r="r" b="b"/>
                  <a:pathLst>
                    <a:path w="276" h="210">
                      <a:moveTo>
                        <a:pt x="54" y="61"/>
                      </a:moveTo>
                      <a:lnTo>
                        <a:pt x="26" y="30"/>
                      </a:lnTo>
                      <a:lnTo>
                        <a:pt x="0" y="0"/>
                      </a:lnTo>
                      <a:lnTo>
                        <a:pt x="15" y="26"/>
                      </a:lnTo>
                      <a:lnTo>
                        <a:pt x="32" y="53"/>
                      </a:lnTo>
                      <a:lnTo>
                        <a:pt x="51" y="78"/>
                      </a:lnTo>
                      <a:lnTo>
                        <a:pt x="75" y="104"/>
                      </a:lnTo>
                      <a:lnTo>
                        <a:pt x="96" y="123"/>
                      </a:lnTo>
                      <a:lnTo>
                        <a:pt x="119" y="142"/>
                      </a:lnTo>
                      <a:lnTo>
                        <a:pt x="143" y="158"/>
                      </a:lnTo>
                      <a:lnTo>
                        <a:pt x="168" y="173"/>
                      </a:lnTo>
                      <a:lnTo>
                        <a:pt x="193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6" y="210"/>
                      </a:lnTo>
                      <a:lnTo>
                        <a:pt x="246" y="197"/>
                      </a:lnTo>
                      <a:lnTo>
                        <a:pt x="216" y="182"/>
                      </a:lnTo>
                      <a:lnTo>
                        <a:pt x="187" y="165"/>
                      </a:lnTo>
                      <a:lnTo>
                        <a:pt x="160" y="148"/>
                      </a:lnTo>
                      <a:lnTo>
                        <a:pt x="131" y="128"/>
                      </a:lnTo>
                      <a:lnTo>
                        <a:pt x="105" y="107"/>
                      </a:lnTo>
                      <a:lnTo>
                        <a:pt x="79" y="85"/>
                      </a:lnTo>
                      <a:lnTo>
                        <a:pt x="54" y="61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407280" y="3785040"/>
                  <a:ext cx="11124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2">
                      <a:moveTo>
                        <a:pt x="27" y="76"/>
                      </a:moveTo>
                      <a:lnTo>
                        <a:pt x="53" y="106"/>
                      </a:lnTo>
                      <a:lnTo>
                        <a:pt x="81" y="137"/>
                      </a:lnTo>
                      <a:lnTo>
                        <a:pt x="106" y="161"/>
                      </a:lnTo>
                      <a:lnTo>
                        <a:pt x="132" y="183"/>
                      </a:lnTo>
                      <a:lnTo>
                        <a:pt x="158" y="204"/>
                      </a:lnTo>
                      <a:lnTo>
                        <a:pt x="187" y="224"/>
                      </a:lnTo>
                      <a:lnTo>
                        <a:pt x="214" y="241"/>
                      </a:lnTo>
                      <a:lnTo>
                        <a:pt x="243" y="258"/>
                      </a:lnTo>
                      <a:lnTo>
                        <a:pt x="273" y="273"/>
                      </a:lnTo>
                      <a:lnTo>
                        <a:pt x="303" y="286"/>
                      </a:lnTo>
                      <a:lnTo>
                        <a:pt x="336" y="290"/>
                      </a:lnTo>
                      <a:lnTo>
                        <a:pt x="373" y="292"/>
                      </a:lnTo>
                      <a:lnTo>
                        <a:pt x="391" y="292"/>
                      </a:lnTo>
                      <a:lnTo>
                        <a:pt x="349" y="280"/>
                      </a:lnTo>
                      <a:lnTo>
                        <a:pt x="309" y="265"/>
                      </a:lnTo>
                      <a:lnTo>
                        <a:pt x="271" y="247"/>
                      </a:lnTo>
                      <a:lnTo>
                        <a:pt x="234" y="227"/>
                      </a:lnTo>
                      <a:lnTo>
                        <a:pt x="197" y="204"/>
                      </a:lnTo>
                      <a:lnTo>
                        <a:pt x="162" y="180"/>
                      </a:lnTo>
                      <a:lnTo>
                        <a:pt x="128" y="152"/>
                      </a:lnTo>
                      <a:lnTo>
                        <a:pt x="96" y="122"/>
                      </a:lnTo>
                      <a:lnTo>
                        <a:pt x="68" y="91"/>
                      </a:lnTo>
                      <a:lnTo>
                        <a:pt x="43" y="62"/>
                      </a:lnTo>
                      <a:lnTo>
                        <a:pt x="19" y="30"/>
                      </a:lnTo>
                      <a:lnTo>
                        <a:pt x="0" y="0"/>
                      </a:lnTo>
                      <a:lnTo>
                        <a:pt x="11" y="38"/>
                      </a:lnTo>
                      <a:lnTo>
                        <a:pt x="18" y="56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404400" y="376776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8" h="352">
                      <a:moveTo>
                        <a:pt x="9" y="60"/>
                      </a:moveTo>
                      <a:lnTo>
                        <a:pt x="28" y="90"/>
                      </a:lnTo>
                      <a:lnTo>
                        <a:pt x="52" y="122"/>
                      </a:lnTo>
                      <a:lnTo>
                        <a:pt x="77" y="151"/>
                      </a:lnTo>
                      <a:lnTo>
                        <a:pt x="105" y="182"/>
                      </a:lnTo>
                      <a:lnTo>
                        <a:pt x="137" y="212"/>
                      </a:lnTo>
                      <a:lnTo>
                        <a:pt x="171" y="240"/>
                      </a:lnTo>
                      <a:lnTo>
                        <a:pt x="206" y="264"/>
                      </a:lnTo>
                      <a:lnTo>
                        <a:pt x="243" y="287"/>
                      </a:lnTo>
                      <a:lnTo>
                        <a:pt x="280" y="307"/>
                      </a:lnTo>
                      <a:lnTo>
                        <a:pt x="318" y="325"/>
                      </a:lnTo>
                      <a:lnTo>
                        <a:pt x="358" y="340"/>
                      </a:lnTo>
                      <a:lnTo>
                        <a:pt x="400" y="352"/>
                      </a:lnTo>
                      <a:lnTo>
                        <a:pt x="434" y="349"/>
                      </a:lnTo>
                      <a:lnTo>
                        <a:pt x="468" y="343"/>
                      </a:lnTo>
                      <a:lnTo>
                        <a:pt x="418" y="333"/>
                      </a:lnTo>
                      <a:lnTo>
                        <a:pt x="370" y="320"/>
                      </a:lnTo>
                      <a:lnTo>
                        <a:pt x="324" y="303"/>
                      </a:lnTo>
                      <a:lnTo>
                        <a:pt x="281" y="284"/>
                      </a:lnTo>
                      <a:lnTo>
                        <a:pt x="238" y="259"/>
                      </a:lnTo>
                      <a:lnTo>
                        <a:pt x="197" y="232"/>
                      </a:lnTo>
                      <a:lnTo>
                        <a:pt x="157" y="200"/>
                      </a:lnTo>
                      <a:lnTo>
                        <a:pt x="121" y="166"/>
                      </a:lnTo>
                      <a:lnTo>
                        <a:pt x="83" y="126"/>
                      </a:lnTo>
                      <a:lnTo>
                        <a:pt x="52" y="86"/>
                      </a:lnTo>
                      <a:lnTo>
                        <a:pt x="22" y="43"/>
                      </a:lnTo>
                      <a:lnTo>
                        <a:pt x="0" y="0"/>
                      </a:lnTo>
                      <a:lnTo>
                        <a:pt x="3" y="29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404400" y="3649320"/>
                  <a:ext cx="218880" cy="219240"/>
                </a:xfrm>
                <a:custGeom>
                  <a:avLst/>
                  <a:gdLst/>
                  <a:ahLst/>
                  <a:rect l="l" t="t" r="r" b="b"/>
                  <a:pathLst>
                    <a:path w="768" h="767">
                      <a:moveTo>
                        <a:pt x="384" y="0"/>
                      </a:moveTo>
                      <a:lnTo>
                        <a:pt x="344" y="1"/>
                      </a:lnTo>
                      <a:lnTo>
                        <a:pt x="307" y="6"/>
                      </a:lnTo>
                      <a:lnTo>
                        <a:pt x="270" y="14"/>
                      </a:lnTo>
                      <a:lnTo>
                        <a:pt x="236" y="27"/>
                      </a:lnTo>
                      <a:lnTo>
                        <a:pt x="202" y="41"/>
                      </a:lnTo>
                      <a:lnTo>
                        <a:pt x="170" y="62"/>
                      </a:lnTo>
                      <a:lnTo>
                        <a:pt x="140" y="85"/>
                      </a:lnTo>
                      <a:lnTo>
                        <a:pt x="113" y="112"/>
                      </a:lnTo>
                      <a:lnTo>
                        <a:pt x="85" y="139"/>
                      </a:lnTo>
                      <a:lnTo>
                        <a:pt x="63" y="170"/>
                      </a:lnTo>
                      <a:lnTo>
                        <a:pt x="42" y="201"/>
                      </a:lnTo>
                      <a:lnTo>
                        <a:pt x="28" y="235"/>
                      </a:lnTo>
                      <a:lnTo>
                        <a:pt x="15" y="269"/>
                      </a:lnTo>
                      <a:lnTo>
                        <a:pt x="7" y="306"/>
                      </a:lnTo>
                      <a:lnTo>
                        <a:pt x="2" y="343"/>
                      </a:lnTo>
                      <a:lnTo>
                        <a:pt x="0" y="383"/>
                      </a:lnTo>
                      <a:lnTo>
                        <a:pt x="2" y="421"/>
                      </a:lnTo>
                      <a:lnTo>
                        <a:pt x="7" y="459"/>
                      </a:lnTo>
                      <a:lnTo>
                        <a:pt x="15" y="495"/>
                      </a:lnTo>
                      <a:lnTo>
                        <a:pt x="28" y="530"/>
                      </a:lnTo>
                      <a:lnTo>
                        <a:pt x="42" y="563"/>
                      </a:lnTo>
                      <a:lnTo>
                        <a:pt x="63" y="595"/>
                      </a:lnTo>
                      <a:lnTo>
                        <a:pt x="73" y="610"/>
                      </a:lnTo>
                      <a:lnTo>
                        <a:pt x="85" y="625"/>
                      </a:lnTo>
                      <a:lnTo>
                        <a:pt x="113" y="655"/>
                      </a:lnTo>
                      <a:lnTo>
                        <a:pt x="140" y="680"/>
                      </a:lnTo>
                      <a:lnTo>
                        <a:pt x="170" y="702"/>
                      </a:lnTo>
                      <a:lnTo>
                        <a:pt x="202" y="722"/>
                      </a:lnTo>
                      <a:lnTo>
                        <a:pt x="236" y="739"/>
                      </a:lnTo>
                      <a:lnTo>
                        <a:pt x="270" y="750"/>
                      </a:lnTo>
                      <a:lnTo>
                        <a:pt x="307" y="759"/>
                      </a:lnTo>
                      <a:lnTo>
                        <a:pt x="344" y="765"/>
                      </a:lnTo>
                      <a:lnTo>
                        <a:pt x="384" y="767"/>
                      </a:lnTo>
                      <a:lnTo>
                        <a:pt x="422" y="765"/>
                      </a:lnTo>
                      <a:lnTo>
                        <a:pt x="440" y="761"/>
                      </a:lnTo>
                      <a:lnTo>
                        <a:pt x="460" y="759"/>
                      </a:lnTo>
                      <a:lnTo>
                        <a:pt x="496" y="750"/>
                      </a:lnTo>
                      <a:lnTo>
                        <a:pt x="499" y="748"/>
                      </a:lnTo>
                      <a:lnTo>
                        <a:pt x="504" y="747"/>
                      </a:lnTo>
                      <a:lnTo>
                        <a:pt x="513" y="744"/>
                      </a:lnTo>
                      <a:lnTo>
                        <a:pt x="531" y="739"/>
                      </a:lnTo>
                      <a:lnTo>
                        <a:pt x="547" y="730"/>
                      </a:lnTo>
                      <a:lnTo>
                        <a:pt x="555" y="725"/>
                      </a:lnTo>
                      <a:lnTo>
                        <a:pt x="564" y="722"/>
                      </a:lnTo>
                      <a:lnTo>
                        <a:pt x="596" y="702"/>
                      </a:lnTo>
                      <a:lnTo>
                        <a:pt x="610" y="691"/>
                      </a:lnTo>
                      <a:lnTo>
                        <a:pt x="626" y="680"/>
                      </a:lnTo>
                      <a:lnTo>
                        <a:pt x="656" y="655"/>
                      </a:lnTo>
                      <a:lnTo>
                        <a:pt x="681" y="625"/>
                      </a:lnTo>
                      <a:lnTo>
                        <a:pt x="692" y="610"/>
                      </a:lnTo>
                      <a:lnTo>
                        <a:pt x="703" y="595"/>
                      </a:lnTo>
                      <a:lnTo>
                        <a:pt x="723" y="563"/>
                      </a:lnTo>
                      <a:lnTo>
                        <a:pt x="726" y="554"/>
                      </a:lnTo>
                      <a:lnTo>
                        <a:pt x="731" y="546"/>
                      </a:lnTo>
                      <a:lnTo>
                        <a:pt x="740" y="530"/>
                      </a:lnTo>
                      <a:lnTo>
                        <a:pt x="745" y="512"/>
                      </a:lnTo>
                      <a:lnTo>
                        <a:pt x="748" y="503"/>
                      </a:lnTo>
                      <a:lnTo>
                        <a:pt x="749" y="498"/>
                      </a:lnTo>
                      <a:lnTo>
                        <a:pt x="751" y="495"/>
                      </a:lnTo>
                      <a:lnTo>
                        <a:pt x="760" y="459"/>
                      </a:lnTo>
                      <a:lnTo>
                        <a:pt x="762" y="439"/>
                      </a:lnTo>
                      <a:lnTo>
                        <a:pt x="766" y="421"/>
                      </a:lnTo>
                      <a:lnTo>
                        <a:pt x="768" y="383"/>
                      </a:lnTo>
                      <a:lnTo>
                        <a:pt x="766" y="343"/>
                      </a:lnTo>
                      <a:lnTo>
                        <a:pt x="760" y="306"/>
                      </a:lnTo>
                      <a:lnTo>
                        <a:pt x="751" y="269"/>
                      </a:lnTo>
                      <a:lnTo>
                        <a:pt x="740" y="235"/>
                      </a:lnTo>
                      <a:lnTo>
                        <a:pt x="723" y="201"/>
                      </a:lnTo>
                      <a:lnTo>
                        <a:pt x="703" y="170"/>
                      </a:lnTo>
                      <a:lnTo>
                        <a:pt x="681" y="139"/>
                      </a:lnTo>
                      <a:lnTo>
                        <a:pt x="656" y="112"/>
                      </a:lnTo>
                      <a:lnTo>
                        <a:pt x="626" y="85"/>
                      </a:lnTo>
                      <a:lnTo>
                        <a:pt x="610" y="72"/>
                      </a:lnTo>
                      <a:lnTo>
                        <a:pt x="596" y="62"/>
                      </a:lnTo>
                      <a:lnTo>
                        <a:pt x="564" y="41"/>
                      </a:lnTo>
                      <a:lnTo>
                        <a:pt x="531" y="27"/>
                      </a:lnTo>
                      <a:lnTo>
                        <a:pt x="496" y="14"/>
                      </a:lnTo>
                      <a:lnTo>
                        <a:pt x="460" y="6"/>
                      </a:lnTo>
                      <a:lnTo>
                        <a:pt x="422" y="1"/>
                      </a:lnTo>
                      <a:lnTo>
                        <a:pt x="3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462720" y="3748680"/>
                  <a:ext cx="10116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468480" y="3754080"/>
                  <a:ext cx="89640" cy="14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222960" y="3353760"/>
                  <a:ext cx="153720" cy="155880"/>
                </a:xfrm>
                <a:custGeom>
                  <a:avLst/>
                  <a:gdLst/>
                  <a:ahLst/>
                  <a:rect l="l" t="t" r="r" b="b"/>
                  <a:pathLst>
                    <a:path w="537" h="547">
                      <a:moveTo>
                        <a:pt x="537" y="346"/>
                      </a:moveTo>
                      <a:lnTo>
                        <a:pt x="528" y="319"/>
                      </a:lnTo>
                      <a:lnTo>
                        <a:pt x="519" y="294"/>
                      </a:lnTo>
                      <a:lnTo>
                        <a:pt x="500" y="245"/>
                      </a:lnTo>
                      <a:lnTo>
                        <a:pt x="501" y="274"/>
                      </a:lnTo>
                      <a:lnTo>
                        <a:pt x="500" y="278"/>
                      </a:lnTo>
                      <a:lnTo>
                        <a:pt x="500" y="284"/>
                      </a:lnTo>
                      <a:lnTo>
                        <a:pt x="500" y="295"/>
                      </a:lnTo>
                      <a:lnTo>
                        <a:pt x="496" y="318"/>
                      </a:lnTo>
                      <a:lnTo>
                        <a:pt x="491" y="338"/>
                      </a:lnTo>
                      <a:lnTo>
                        <a:pt x="484" y="360"/>
                      </a:lnTo>
                      <a:lnTo>
                        <a:pt x="478" y="369"/>
                      </a:lnTo>
                      <a:lnTo>
                        <a:pt x="474" y="379"/>
                      </a:lnTo>
                      <a:lnTo>
                        <a:pt x="462" y="398"/>
                      </a:lnTo>
                      <a:lnTo>
                        <a:pt x="449" y="416"/>
                      </a:lnTo>
                      <a:lnTo>
                        <a:pt x="434" y="435"/>
                      </a:lnTo>
                      <a:lnTo>
                        <a:pt x="416" y="449"/>
                      </a:lnTo>
                      <a:lnTo>
                        <a:pt x="398" y="464"/>
                      </a:lnTo>
                      <a:lnTo>
                        <a:pt x="378" y="475"/>
                      </a:lnTo>
                      <a:lnTo>
                        <a:pt x="368" y="480"/>
                      </a:lnTo>
                      <a:lnTo>
                        <a:pt x="359" y="486"/>
                      </a:lnTo>
                      <a:lnTo>
                        <a:pt x="337" y="492"/>
                      </a:lnTo>
                      <a:lnTo>
                        <a:pt x="317" y="498"/>
                      </a:lnTo>
                      <a:lnTo>
                        <a:pt x="294" y="502"/>
                      </a:lnTo>
                      <a:lnTo>
                        <a:pt x="283" y="502"/>
                      </a:lnTo>
                      <a:lnTo>
                        <a:pt x="277" y="502"/>
                      </a:lnTo>
                      <a:lnTo>
                        <a:pt x="273" y="503"/>
                      </a:lnTo>
                      <a:lnTo>
                        <a:pt x="249" y="502"/>
                      </a:lnTo>
                      <a:lnTo>
                        <a:pt x="226" y="498"/>
                      </a:lnTo>
                      <a:lnTo>
                        <a:pt x="205" y="492"/>
                      </a:lnTo>
                      <a:lnTo>
                        <a:pt x="184" y="486"/>
                      </a:lnTo>
                      <a:lnTo>
                        <a:pt x="164" y="475"/>
                      </a:lnTo>
                      <a:lnTo>
                        <a:pt x="146" y="464"/>
                      </a:lnTo>
                      <a:lnTo>
                        <a:pt x="128" y="449"/>
                      </a:lnTo>
                      <a:lnTo>
                        <a:pt x="111" y="435"/>
                      </a:lnTo>
                      <a:lnTo>
                        <a:pt x="94" y="416"/>
                      </a:lnTo>
                      <a:lnTo>
                        <a:pt x="80" y="398"/>
                      </a:lnTo>
                      <a:lnTo>
                        <a:pt x="68" y="379"/>
                      </a:lnTo>
                      <a:lnTo>
                        <a:pt x="60" y="360"/>
                      </a:lnTo>
                      <a:lnTo>
                        <a:pt x="52" y="338"/>
                      </a:lnTo>
                      <a:lnTo>
                        <a:pt x="47" y="318"/>
                      </a:lnTo>
                      <a:lnTo>
                        <a:pt x="44" y="295"/>
                      </a:lnTo>
                      <a:lnTo>
                        <a:pt x="44" y="274"/>
                      </a:lnTo>
                      <a:lnTo>
                        <a:pt x="47" y="227"/>
                      </a:lnTo>
                      <a:lnTo>
                        <a:pt x="60" y="185"/>
                      </a:lnTo>
                      <a:lnTo>
                        <a:pt x="68" y="165"/>
                      </a:lnTo>
                      <a:lnTo>
                        <a:pt x="80" y="147"/>
                      </a:lnTo>
                      <a:lnTo>
                        <a:pt x="94" y="129"/>
                      </a:lnTo>
                      <a:lnTo>
                        <a:pt x="111" y="113"/>
                      </a:lnTo>
                      <a:lnTo>
                        <a:pt x="146" y="82"/>
                      </a:lnTo>
                      <a:lnTo>
                        <a:pt x="164" y="70"/>
                      </a:lnTo>
                      <a:lnTo>
                        <a:pt x="184" y="62"/>
                      </a:lnTo>
                      <a:lnTo>
                        <a:pt x="205" y="54"/>
                      </a:lnTo>
                      <a:lnTo>
                        <a:pt x="226" y="48"/>
                      </a:lnTo>
                      <a:lnTo>
                        <a:pt x="273" y="45"/>
                      </a:lnTo>
                      <a:lnTo>
                        <a:pt x="290" y="45"/>
                      </a:lnTo>
                      <a:lnTo>
                        <a:pt x="308" y="47"/>
                      </a:lnTo>
                      <a:lnTo>
                        <a:pt x="342" y="55"/>
                      </a:lnTo>
                      <a:lnTo>
                        <a:pt x="374" y="68"/>
                      </a:lnTo>
                      <a:lnTo>
                        <a:pt x="388" y="76"/>
                      </a:lnTo>
                      <a:lnTo>
                        <a:pt x="404" y="88"/>
                      </a:lnTo>
                      <a:lnTo>
                        <a:pt x="370" y="46"/>
                      </a:lnTo>
                      <a:lnTo>
                        <a:pt x="352" y="25"/>
                      </a:lnTo>
                      <a:lnTo>
                        <a:pt x="335" y="7"/>
                      </a:lnTo>
                      <a:lnTo>
                        <a:pt x="303" y="2"/>
                      </a:lnTo>
                      <a:lnTo>
                        <a:pt x="273" y="0"/>
                      </a:lnTo>
                      <a:lnTo>
                        <a:pt x="244" y="2"/>
                      </a:lnTo>
                      <a:lnTo>
                        <a:pt x="217" y="5"/>
                      </a:lnTo>
                      <a:lnTo>
                        <a:pt x="191" y="11"/>
                      </a:lnTo>
                      <a:lnTo>
                        <a:pt x="167" y="20"/>
                      </a:lnTo>
                      <a:lnTo>
                        <a:pt x="142" y="30"/>
                      </a:lnTo>
                      <a:lnTo>
                        <a:pt x="120" y="45"/>
                      </a:lnTo>
                      <a:lnTo>
                        <a:pt x="98" y="60"/>
                      </a:lnTo>
                      <a:lnTo>
                        <a:pt x="78" y="80"/>
                      </a:lnTo>
                      <a:lnTo>
                        <a:pt x="59" y="99"/>
                      </a:lnTo>
                      <a:lnTo>
                        <a:pt x="43" y="121"/>
                      </a:lnTo>
                      <a:lnTo>
                        <a:pt x="29" y="143"/>
                      </a:lnTo>
                      <a:lnTo>
                        <a:pt x="19" y="168"/>
                      </a:lnTo>
                      <a:lnTo>
                        <a:pt x="10" y="192"/>
                      </a:lnTo>
                      <a:lnTo>
                        <a:pt x="4" y="218"/>
                      </a:lnTo>
                      <a:lnTo>
                        <a:pt x="1" y="245"/>
                      </a:lnTo>
                      <a:lnTo>
                        <a:pt x="0" y="274"/>
                      </a:lnTo>
                      <a:lnTo>
                        <a:pt x="1" y="301"/>
                      </a:lnTo>
                      <a:lnTo>
                        <a:pt x="4" y="328"/>
                      </a:lnTo>
                      <a:lnTo>
                        <a:pt x="10" y="353"/>
                      </a:lnTo>
                      <a:lnTo>
                        <a:pt x="19" y="378"/>
                      </a:lnTo>
                      <a:lnTo>
                        <a:pt x="29" y="401"/>
                      </a:lnTo>
                      <a:lnTo>
                        <a:pt x="35" y="412"/>
                      </a:lnTo>
                      <a:lnTo>
                        <a:pt x="43" y="424"/>
                      </a:lnTo>
                      <a:lnTo>
                        <a:pt x="49" y="435"/>
                      </a:lnTo>
                      <a:lnTo>
                        <a:pt x="59" y="446"/>
                      </a:lnTo>
                      <a:lnTo>
                        <a:pt x="78" y="468"/>
                      </a:lnTo>
                      <a:lnTo>
                        <a:pt x="98" y="485"/>
                      </a:lnTo>
                      <a:lnTo>
                        <a:pt x="120" y="502"/>
                      </a:lnTo>
                      <a:lnTo>
                        <a:pt x="142" y="514"/>
                      </a:lnTo>
                      <a:lnTo>
                        <a:pt x="167" y="526"/>
                      </a:lnTo>
                      <a:lnTo>
                        <a:pt x="191" y="534"/>
                      </a:lnTo>
                      <a:lnTo>
                        <a:pt x="217" y="541"/>
                      </a:lnTo>
                      <a:lnTo>
                        <a:pt x="244" y="545"/>
                      </a:lnTo>
                      <a:lnTo>
                        <a:pt x="273" y="547"/>
                      </a:lnTo>
                      <a:lnTo>
                        <a:pt x="300" y="545"/>
                      </a:lnTo>
                      <a:lnTo>
                        <a:pt x="327" y="541"/>
                      </a:lnTo>
                      <a:lnTo>
                        <a:pt x="352" y="534"/>
                      </a:lnTo>
                      <a:lnTo>
                        <a:pt x="377" y="526"/>
                      </a:lnTo>
                      <a:lnTo>
                        <a:pt x="400" y="514"/>
                      </a:lnTo>
                      <a:lnTo>
                        <a:pt x="411" y="507"/>
                      </a:lnTo>
                      <a:lnTo>
                        <a:pt x="413" y="505"/>
                      </a:lnTo>
                      <a:lnTo>
                        <a:pt x="415" y="504"/>
                      </a:lnTo>
                      <a:lnTo>
                        <a:pt x="417" y="504"/>
                      </a:lnTo>
                      <a:lnTo>
                        <a:pt x="424" y="502"/>
                      </a:lnTo>
                      <a:lnTo>
                        <a:pt x="434" y="492"/>
                      </a:lnTo>
                      <a:lnTo>
                        <a:pt x="445" y="485"/>
                      </a:lnTo>
                      <a:lnTo>
                        <a:pt x="455" y="475"/>
                      </a:lnTo>
                      <a:lnTo>
                        <a:pt x="467" y="468"/>
                      </a:lnTo>
                      <a:lnTo>
                        <a:pt x="478" y="453"/>
                      </a:lnTo>
                      <a:lnTo>
                        <a:pt x="489" y="439"/>
                      </a:lnTo>
                      <a:lnTo>
                        <a:pt x="510" y="410"/>
                      </a:lnTo>
                      <a:lnTo>
                        <a:pt x="526" y="378"/>
                      </a:lnTo>
                      <a:lnTo>
                        <a:pt x="537" y="346"/>
                      </a:lnTo>
                      <a:close/>
                    </a:path>
                  </a:pathLst>
                </a:custGeom>
                <a:solidFill>
                  <a:srgbClr val="ff81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235920" y="3366360"/>
                  <a:ext cx="130320" cy="130680"/>
                </a:xfrm>
                <a:custGeom>
                  <a:avLst/>
                  <a:gdLst/>
                  <a:ahLst/>
                  <a:rect l="l" t="t" r="r" b="b"/>
                  <a:pathLst>
                    <a:path w="457" h="458">
                      <a:moveTo>
                        <a:pt x="457" y="229"/>
                      </a:moveTo>
                      <a:lnTo>
                        <a:pt x="456" y="200"/>
                      </a:lnTo>
                      <a:lnTo>
                        <a:pt x="434" y="158"/>
                      </a:lnTo>
                      <a:lnTo>
                        <a:pt x="413" y="119"/>
                      </a:lnTo>
                      <a:lnTo>
                        <a:pt x="386" y="79"/>
                      </a:lnTo>
                      <a:lnTo>
                        <a:pt x="360" y="43"/>
                      </a:lnTo>
                      <a:lnTo>
                        <a:pt x="344" y="31"/>
                      </a:lnTo>
                      <a:lnTo>
                        <a:pt x="330" y="23"/>
                      </a:lnTo>
                      <a:lnTo>
                        <a:pt x="298" y="10"/>
                      </a:lnTo>
                      <a:lnTo>
                        <a:pt x="264" y="2"/>
                      </a:lnTo>
                      <a:lnTo>
                        <a:pt x="246" y="0"/>
                      </a:lnTo>
                      <a:lnTo>
                        <a:pt x="229" y="0"/>
                      </a:lnTo>
                      <a:lnTo>
                        <a:pt x="182" y="3"/>
                      </a:lnTo>
                      <a:lnTo>
                        <a:pt x="161" y="9"/>
                      </a:lnTo>
                      <a:lnTo>
                        <a:pt x="140" y="17"/>
                      </a:lnTo>
                      <a:lnTo>
                        <a:pt x="120" y="25"/>
                      </a:lnTo>
                      <a:lnTo>
                        <a:pt x="102" y="37"/>
                      </a:lnTo>
                      <a:lnTo>
                        <a:pt x="67" y="68"/>
                      </a:lnTo>
                      <a:lnTo>
                        <a:pt x="50" y="84"/>
                      </a:lnTo>
                      <a:lnTo>
                        <a:pt x="36" y="102"/>
                      </a:lnTo>
                      <a:lnTo>
                        <a:pt x="24" y="120"/>
                      </a:lnTo>
                      <a:lnTo>
                        <a:pt x="16" y="140"/>
                      </a:lnTo>
                      <a:lnTo>
                        <a:pt x="3" y="182"/>
                      </a:lnTo>
                      <a:lnTo>
                        <a:pt x="0" y="229"/>
                      </a:lnTo>
                      <a:lnTo>
                        <a:pt x="0" y="250"/>
                      </a:lnTo>
                      <a:lnTo>
                        <a:pt x="3" y="273"/>
                      </a:lnTo>
                      <a:lnTo>
                        <a:pt x="8" y="293"/>
                      </a:lnTo>
                      <a:lnTo>
                        <a:pt x="16" y="315"/>
                      </a:lnTo>
                      <a:lnTo>
                        <a:pt x="24" y="334"/>
                      </a:lnTo>
                      <a:lnTo>
                        <a:pt x="36" y="353"/>
                      </a:lnTo>
                      <a:lnTo>
                        <a:pt x="50" y="371"/>
                      </a:lnTo>
                      <a:lnTo>
                        <a:pt x="67" y="390"/>
                      </a:lnTo>
                      <a:lnTo>
                        <a:pt x="84" y="404"/>
                      </a:lnTo>
                      <a:lnTo>
                        <a:pt x="102" y="419"/>
                      </a:lnTo>
                      <a:lnTo>
                        <a:pt x="120" y="430"/>
                      </a:lnTo>
                      <a:lnTo>
                        <a:pt x="140" y="441"/>
                      </a:lnTo>
                      <a:lnTo>
                        <a:pt x="161" y="447"/>
                      </a:lnTo>
                      <a:lnTo>
                        <a:pt x="182" y="453"/>
                      </a:lnTo>
                      <a:lnTo>
                        <a:pt x="205" y="457"/>
                      </a:lnTo>
                      <a:lnTo>
                        <a:pt x="229" y="458"/>
                      </a:lnTo>
                      <a:lnTo>
                        <a:pt x="233" y="457"/>
                      </a:lnTo>
                      <a:lnTo>
                        <a:pt x="239" y="457"/>
                      </a:lnTo>
                      <a:lnTo>
                        <a:pt x="250" y="457"/>
                      </a:lnTo>
                      <a:lnTo>
                        <a:pt x="273" y="453"/>
                      </a:lnTo>
                      <a:lnTo>
                        <a:pt x="293" y="447"/>
                      </a:lnTo>
                      <a:lnTo>
                        <a:pt x="315" y="441"/>
                      </a:lnTo>
                      <a:lnTo>
                        <a:pt x="324" y="435"/>
                      </a:lnTo>
                      <a:lnTo>
                        <a:pt x="334" y="430"/>
                      </a:lnTo>
                      <a:lnTo>
                        <a:pt x="354" y="419"/>
                      </a:lnTo>
                      <a:lnTo>
                        <a:pt x="372" y="404"/>
                      </a:lnTo>
                      <a:lnTo>
                        <a:pt x="390" y="390"/>
                      </a:lnTo>
                      <a:lnTo>
                        <a:pt x="405" y="371"/>
                      </a:lnTo>
                      <a:lnTo>
                        <a:pt x="418" y="353"/>
                      </a:lnTo>
                      <a:lnTo>
                        <a:pt x="430" y="334"/>
                      </a:lnTo>
                      <a:lnTo>
                        <a:pt x="434" y="324"/>
                      </a:lnTo>
                      <a:lnTo>
                        <a:pt x="440" y="315"/>
                      </a:lnTo>
                      <a:lnTo>
                        <a:pt x="447" y="293"/>
                      </a:lnTo>
                      <a:lnTo>
                        <a:pt x="452" y="273"/>
                      </a:lnTo>
                      <a:lnTo>
                        <a:pt x="456" y="250"/>
                      </a:lnTo>
                      <a:lnTo>
                        <a:pt x="456" y="239"/>
                      </a:lnTo>
                      <a:lnTo>
                        <a:pt x="456" y="233"/>
                      </a:lnTo>
                      <a:lnTo>
                        <a:pt x="457" y="229"/>
                      </a:lnTo>
                      <a:close/>
                      <a:moveTo>
                        <a:pt x="229" y="46"/>
                      </a:moveTo>
                      <a:lnTo>
                        <a:pt x="246" y="46"/>
                      </a:lnTo>
                      <a:lnTo>
                        <a:pt x="264" y="50"/>
                      </a:lnTo>
                      <a:lnTo>
                        <a:pt x="281" y="53"/>
                      </a:lnTo>
                      <a:lnTo>
                        <a:pt x="298" y="60"/>
                      </a:lnTo>
                      <a:lnTo>
                        <a:pt x="313" y="67"/>
                      </a:lnTo>
                      <a:lnTo>
                        <a:pt x="329" y="77"/>
                      </a:lnTo>
                      <a:lnTo>
                        <a:pt x="342" y="87"/>
                      </a:lnTo>
                      <a:lnTo>
                        <a:pt x="357" y="101"/>
                      </a:lnTo>
                      <a:lnTo>
                        <a:pt x="369" y="113"/>
                      </a:lnTo>
                      <a:lnTo>
                        <a:pt x="381" y="128"/>
                      </a:lnTo>
                      <a:lnTo>
                        <a:pt x="390" y="142"/>
                      </a:lnTo>
                      <a:lnTo>
                        <a:pt x="398" y="158"/>
                      </a:lnTo>
                      <a:lnTo>
                        <a:pt x="403" y="174"/>
                      </a:lnTo>
                      <a:lnTo>
                        <a:pt x="408" y="191"/>
                      </a:lnTo>
                      <a:lnTo>
                        <a:pt x="410" y="209"/>
                      </a:lnTo>
                      <a:lnTo>
                        <a:pt x="411" y="229"/>
                      </a:lnTo>
                      <a:lnTo>
                        <a:pt x="410" y="229"/>
                      </a:lnTo>
                      <a:lnTo>
                        <a:pt x="410" y="230"/>
                      </a:lnTo>
                      <a:lnTo>
                        <a:pt x="410" y="232"/>
                      </a:lnTo>
                      <a:lnTo>
                        <a:pt x="410" y="237"/>
                      </a:lnTo>
                      <a:lnTo>
                        <a:pt x="410" y="246"/>
                      </a:lnTo>
                      <a:lnTo>
                        <a:pt x="408" y="264"/>
                      </a:lnTo>
                      <a:lnTo>
                        <a:pt x="403" y="281"/>
                      </a:lnTo>
                      <a:lnTo>
                        <a:pt x="401" y="284"/>
                      </a:lnTo>
                      <a:lnTo>
                        <a:pt x="400" y="289"/>
                      </a:lnTo>
                      <a:lnTo>
                        <a:pt x="398" y="298"/>
                      </a:lnTo>
                      <a:lnTo>
                        <a:pt x="393" y="305"/>
                      </a:lnTo>
                      <a:lnTo>
                        <a:pt x="391" y="308"/>
                      </a:lnTo>
                      <a:lnTo>
                        <a:pt x="390" y="313"/>
                      </a:lnTo>
                      <a:lnTo>
                        <a:pt x="381" y="328"/>
                      </a:lnTo>
                      <a:lnTo>
                        <a:pt x="369" y="342"/>
                      </a:lnTo>
                      <a:lnTo>
                        <a:pt x="363" y="349"/>
                      </a:lnTo>
                      <a:lnTo>
                        <a:pt x="360" y="350"/>
                      </a:lnTo>
                      <a:lnTo>
                        <a:pt x="359" y="352"/>
                      </a:lnTo>
                      <a:lnTo>
                        <a:pt x="357" y="357"/>
                      </a:lnTo>
                      <a:lnTo>
                        <a:pt x="352" y="359"/>
                      </a:lnTo>
                      <a:lnTo>
                        <a:pt x="350" y="360"/>
                      </a:lnTo>
                      <a:lnTo>
                        <a:pt x="349" y="362"/>
                      </a:lnTo>
                      <a:lnTo>
                        <a:pt x="342" y="369"/>
                      </a:lnTo>
                      <a:lnTo>
                        <a:pt x="329" y="381"/>
                      </a:lnTo>
                      <a:lnTo>
                        <a:pt x="313" y="390"/>
                      </a:lnTo>
                      <a:lnTo>
                        <a:pt x="308" y="391"/>
                      </a:lnTo>
                      <a:lnTo>
                        <a:pt x="305" y="393"/>
                      </a:lnTo>
                      <a:lnTo>
                        <a:pt x="298" y="398"/>
                      </a:lnTo>
                      <a:lnTo>
                        <a:pt x="289" y="400"/>
                      </a:lnTo>
                      <a:lnTo>
                        <a:pt x="284" y="401"/>
                      </a:lnTo>
                      <a:lnTo>
                        <a:pt x="281" y="403"/>
                      </a:lnTo>
                      <a:lnTo>
                        <a:pt x="264" y="408"/>
                      </a:lnTo>
                      <a:lnTo>
                        <a:pt x="246" y="410"/>
                      </a:lnTo>
                      <a:lnTo>
                        <a:pt x="237" y="410"/>
                      </a:lnTo>
                      <a:lnTo>
                        <a:pt x="232" y="410"/>
                      </a:lnTo>
                      <a:lnTo>
                        <a:pt x="230" y="410"/>
                      </a:lnTo>
                      <a:lnTo>
                        <a:pt x="229" y="410"/>
                      </a:lnTo>
                      <a:lnTo>
                        <a:pt x="229" y="411"/>
                      </a:lnTo>
                      <a:lnTo>
                        <a:pt x="210" y="410"/>
                      </a:lnTo>
                      <a:lnTo>
                        <a:pt x="191" y="408"/>
                      </a:lnTo>
                      <a:lnTo>
                        <a:pt x="173" y="403"/>
                      </a:lnTo>
                      <a:lnTo>
                        <a:pt x="157" y="398"/>
                      </a:lnTo>
                      <a:lnTo>
                        <a:pt x="142" y="390"/>
                      </a:lnTo>
                      <a:lnTo>
                        <a:pt x="127" y="381"/>
                      </a:lnTo>
                      <a:lnTo>
                        <a:pt x="112" y="369"/>
                      </a:lnTo>
                      <a:lnTo>
                        <a:pt x="100" y="357"/>
                      </a:lnTo>
                      <a:lnTo>
                        <a:pt x="86" y="342"/>
                      </a:lnTo>
                      <a:lnTo>
                        <a:pt x="76" y="328"/>
                      </a:lnTo>
                      <a:lnTo>
                        <a:pt x="66" y="313"/>
                      </a:lnTo>
                      <a:lnTo>
                        <a:pt x="59" y="298"/>
                      </a:lnTo>
                      <a:lnTo>
                        <a:pt x="52" y="281"/>
                      </a:lnTo>
                      <a:lnTo>
                        <a:pt x="49" y="264"/>
                      </a:lnTo>
                      <a:lnTo>
                        <a:pt x="46" y="246"/>
                      </a:lnTo>
                      <a:lnTo>
                        <a:pt x="46" y="229"/>
                      </a:lnTo>
                      <a:lnTo>
                        <a:pt x="49" y="191"/>
                      </a:lnTo>
                      <a:lnTo>
                        <a:pt x="59" y="158"/>
                      </a:lnTo>
                      <a:lnTo>
                        <a:pt x="76" y="128"/>
                      </a:lnTo>
                      <a:lnTo>
                        <a:pt x="86" y="113"/>
                      </a:lnTo>
                      <a:lnTo>
                        <a:pt x="100" y="101"/>
                      </a:lnTo>
                      <a:lnTo>
                        <a:pt x="112" y="87"/>
                      </a:lnTo>
                      <a:lnTo>
                        <a:pt x="127" y="77"/>
                      </a:lnTo>
                      <a:lnTo>
                        <a:pt x="157" y="60"/>
                      </a:lnTo>
                      <a:lnTo>
                        <a:pt x="173" y="53"/>
                      </a:lnTo>
                      <a:lnTo>
                        <a:pt x="191" y="50"/>
                      </a:lnTo>
                      <a:lnTo>
                        <a:pt x="229" y="46"/>
                      </a:lnTo>
                      <a:close/>
                    </a:path>
                  </a:pathLst>
                </a:custGeom>
                <a:solidFill>
                  <a:srgbClr val="ff8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248880" y="3379320"/>
                  <a:ext cx="104400" cy="104400"/>
                </a:xfrm>
                <a:custGeom>
                  <a:avLst/>
                  <a:gdLst/>
                  <a:ahLst/>
                  <a:rect l="l" t="t" r="r" b="b"/>
                  <a:pathLst>
                    <a:path w="365" h="365">
                      <a:moveTo>
                        <a:pt x="311" y="55"/>
                      </a:moveTo>
                      <a:lnTo>
                        <a:pt x="296" y="41"/>
                      </a:lnTo>
                      <a:lnTo>
                        <a:pt x="283" y="31"/>
                      </a:lnTo>
                      <a:lnTo>
                        <a:pt x="267" y="21"/>
                      </a:lnTo>
                      <a:lnTo>
                        <a:pt x="252" y="14"/>
                      </a:lnTo>
                      <a:lnTo>
                        <a:pt x="235" y="7"/>
                      </a:lnTo>
                      <a:lnTo>
                        <a:pt x="218" y="4"/>
                      </a:lnTo>
                      <a:lnTo>
                        <a:pt x="200" y="0"/>
                      </a:lnTo>
                      <a:lnTo>
                        <a:pt x="183" y="0"/>
                      </a:lnTo>
                      <a:lnTo>
                        <a:pt x="145" y="4"/>
                      </a:lnTo>
                      <a:lnTo>
                        <a:pt x="127" y="7"/>
                      </a:lnTo>
                      <a:lnTo>
                        <a:pt x="111" y="14"/>
                      </a:lnTo>
                      <a:lnTo>
                        <a:pt x="81" y="31"/>
                      </a:lnTo>
                      <a:lnTo>
                        <a:pt x="66" y="41"/>
                      </a:lnTo>
                      <a:lnTo>
                        <a:pt x="54" y="55"/>
                      </a:lnTo>
                      <a:lnTo>
                        <a:pt x="40" y="67"/>
                      </a:lnTo>
                      <a:lnTo>
                        <a:pt x="30" y="82"/>
                      </a:lnTo>
                      <a:lnTo>
                        <a:pt x="13" y="112"/>
                      </a:lnTo>
                      <a:lnTo>
                        <a:pt x="3" y="145"/>
                      </a:lnTo>
                      <a:lnTo>
                        <a:pt x="0" y="183"/>
                      </a:lnTo>
                      <a:lnTo>
                        <a:pt x="0" y="200"/>
                      </a:lnTo>
                      <a:lnTo>
                        <a:pt x="3" y="218"/>
                      </a:lnTo>
                      <a:lnTo>
                        <a:pt x="6" y="235"/>
                      </a:lnTo>
                      <a:lnTo>
                        <a:pt x="13" y="252"/>
                      </a:lnTo>
                      <a:lnTo>
                        <a:pt x="20" y="267"/>
                      </a:lnTo>
                      <a:lnTo>
                        <a:pt x="30" y="282"/>
                      </a:lnTo>
                      <a:lnTo>
                        <a:pt x="40" y="296"/>
                      </a:lnTo>
                      <a:lnTo>
                        <a:pt x="54" y="311"/>
                      </a:lnTo>
                      <a:lnTo>
                        <a:pt x="66" y="323"/>
                      </a:lnTo>
                      <a:lnTo>
                        <a:pt x="81" y="335"/>
                      </a:lnTo>
                      <a:lnTo>
                        <a:pt x="96" y="344"/>
                      </a:lnTo>
                      <a:lnTo>
                        <a:pt x="111" y="352"/>
                      </a:lnTo>
                      <a:lnTo>
                        <a:pt x="127" y="357"/>
                      </a:lnTo>
                      <a:lnTo>
                        <a:pt x="145" y="362"/>
                      </a:lnTo>
                      <a:lnTo>
                        <a:pt x="164" y="364"/>
                      </a:lnTo>
                      <a:lnTo>
                        <a:pt x="183" y="365"/>
                      </a:lnTo>
                      <a:lnTo>
                        <a:pt x="183" y="364"/>
                      </a:lnTo>
                      <a:lnTo>
                        <a:pt x="184" y="364"/>
                      </a:lnTo>
                      <a:lnTo>
                        <a:pt x="186" y="364"/>
                      </a:lnTo>
                      <a:lnTo>
                        <a:pt x="191" y="364"/>
                      </a:lnTo>
                      <a:lnTo>
                        <a:pt x="200" y="364"/>
                      </a:lnTo>
                      <a:lnTo>
                        <a:pt x="218" y="362"/>
                      </a:lnTo>
                      <a:lnTo>
                        <a:pt x="235" y="357"/>
                      </a:lnTo>
                      <a:lnTo>
                        <a:pt x="238" y="355"/>
                      </a:lnTo>
                      <a:lnTo>
                        <a:pt x="243" y="354"/>
                      </a:lnTo>
                      <a:lnTo>
                        <a:pt x="252" y="352"/>
                      </a:lnTo>
                      <a:lnTo>
                        <a:pt x="259" y="347"/>
                      </a:lnTo>
                      <a:lnTo>
                        <a:pt x="262" y="345"/>
                      </a:lnTo>
                      <a:lnTo>
                        <a:pt x="267" y="344"/>
                      </a:lnTo>
                      <a:lnTo>
                        <a:pt x="283" y="335"/>
                      </a:lnTo>
                      <a:lnTo>
                        <a:pt x="296" y="323"/>
                      </a:lnTo>
                      <a:lnTo>
                        <a:pt x="303" y="316"/>
                      </a:lnTo>
                      <a:lnTo>
                        <a:pt x="304" y="314"/>
                      </a:lnTo>
                      <a:lnTo>
                        <a:pt x="306" y="313"/>
                      </a:lnTo>
                      <a:lnTo>
                        <a:pt x="311" y="311"/>
                      </a:lnTo>
                      <a:lnTo>
                        <a:pt x="313" y="306"/>
                      </a:lnTo>
                      <a:lnTo>
                        <a:pt x="314" y="304"/>
                      </a:lnTo>
                      <a:lnTo>
                        <a:pt x="317" y="303"/>
                      </a:lnTo>
                      <a:lnTo>
                        <a:pt x="323" y="296"/>
                      </a:lnTo>
                      <a:lnTo>
                        <a:pt x="335" y="282"/>
                      </a:lnTo>
                      <a:lnTo>
                        <a:pt x="344" y="267"/>
                      </a:lnTo>
                      <a:lnTo>
                        <a:pt x="345" y="262"/>
                      </a:lnTo>
                      <a:lnTo>
                        <a:pt x="347" y="259"/>
                      </a:lnTo>
                      <a:lnTo>
                        <a:pt x="352" y="252"/>
                      </a:lnTo>
                      <a:lnTo>
                        <a:pt x="354" y="243"/>
                      </a:lnTo>
                      <a:lnTo>
                        <a:pt x="355" y="238"/>
                      </a:lnTo>
                      <a:lnTo>
                        <a:pt x="357" y="235"/>
                      </a:lnTo>
                      <a:lnTo>
                        <a:pt x="362" y="218"/>
                      </a:lnTo>
                      <a:lnTo>
                        <a:pt x="364" y="200"/>
                      </a:lnTo>
                      <a:lnTo>
                        <a:pt x="364" y="191"/>
                      </a:lnTo>
                      <a:lnTo>
                        <a:pt x="364" y="186"/>
                      </a:lnTo>
                      <a:lnTo>
                        <a:pt x="364" y="184"/>
                      </a:lnTo>
                      <a:lnTo>
                        <a:pt x="364" y="183"/>
                      </a:lnTo>
                      <a:lnTo>
                        <a:pt x="365" y="183"/>
                      </a:lnTo>
                      <a:lnTo>
                        <a:pt x="364" y="163"/>
                      </a:lnTo>
                      <a:lnTo>
                        <a:pt x="362" y="145"/>
                      </a:lnTo>
                      <a:lnTo>
                        <a:pt x="357" y="128"/>
                      </a:lnTo>
                      <a:lnTo>
                        <a:pt x="352" y="112"/>
                      </a:lnTo>
                      <a:lnTo>
                        <a:pt x="344" y="96"/>
                      </a:lnTo>
                      <a:lnTo>
                        <a:pt x="335" y="82"/>
                      </a:lnTo>
                      <a:lnTo>
                        <a:pt x="323" y="67"/>
                      </a:lnTo>
                      <a:lnTo>
                        <a:pt x="311" y="55"/>
                      </a:lnTo>
                      <a:close/>
                      <a:moveTo>
                        <a:pt x="279" y="85"/>
                      </a:moveTo>
                      <a:lnTo>
                        <a:pt x="295" y="106"/>
                      </a:lnTo>
                      <a:lnTo>
                        <a:pt x="309" y="129"/>
                      </a:lnTo>
                      <a:lnTo>
                        <a:pt x="315" y="154"/>
                      </a:lnTo>
                      <a:lnTo>
                        <a:pt x="318" y="168"/>
                      </a:lnTo>
                      <a:lnTo>
                        <a:pt x="319" y="183"/>
                      </a:lnTo>
                      <a:lnTo>
                        <a:pt x="318" y="185"/>
                      </a:lnTo>
                      <a:lnTo>
                        <a:pt x="318" y="188"/>
                      </a:lnTo>
                      <a:lnTo>
                        <a:pt x="318" y="195"/>
                      </a:lnTo>
                      <a:lnTo>
                        <a:pt x="315" y="209"/>
                      </a:lnTo>
                      <a:lnTo>
                        <a:pt x="309" y="234"/>
                      </a:lnTo>
                      <a:lnTo>
                        <a:pt x="302" y="245"/>
                      </a:lnTo>
                      <a:lnTo>
                        <a:pt x="295" y="257"/>
                      </a:lnTo>
                      <a:lnTo>
                        <a:pt x="279" y="280"/>
                      </a:lnTo>
                      <a:lnTo>
                        <a:pt x="268" y="288"/>
                      </a:lnTo>
                      <a:lnTo>
                        <a:pt x="266" y="288"/>
                      </a:lnTo>
                      <a:lnTo>
                        <a:pt x="264" y="288"/>
                      </a:lnTo>
                      <a:lnTo>
                        <a:pt x="264" y="289"/>
                      </a:lnTo>
                      <a:lnTo>
                        <a:pt x="262" y="291"/>
                      </a:lnTo>
                      <a:lnTo>
                        <a:pt x="258" y="296"/>
                      </a:lnTo>
                      <a:lnTo>
                        <a:pt x="245" y="303"/>
                      </a:lnTo>
                      <a:lnTo>
                        <a:pt x="234" y="308"/>
                      </a:lnTo>
                      <a:lnTo>
                        <a:pt x="209" y="315"/>
                      </a:lnTo>
                      <a:lnTo>
                        <a:pt x="195" y="318"/>
                      </a:lnTo>
                      <a:lnTo>
                        <a:pt x="188" y="318"/>
                      </a:lnTo>
                      <a:lnTo>
                        <a:pt x="185" y="318"/>
                      </a:lnTo>
                      <a:lnTo>
                        <a:pt x="183" y="319"/>
                      </a:lnTo>
                      <a:lnTo>
                        <a:pt x="168" y="318"/>
                      </a:lnTo>
                      <a:lnTo>
                        <a:pt x="154" y="315"/>
                      </a:lnTo>
                      <a:lnTo>
                        <a:pt x="130" y="308"/>
                      </a:lnTo>
                      <a:lnTo>
                        <a:pt x="117" y="303"/>
                      </a:lnTo>
                      <a:lnTo>
                        <a:pt x="106" y="296"/>
                      </a:lnTo>
                      <a:lnTo>
                        <a:pt x="85" y="280"/>
                      </a:lnTo>
                      <a:lnTo>
                        <a:pt x="67" y="257"/>
                      </a:lnTo>
                      <a:lnTo>
                        <a:pt x="59" y="245"/>
                      </a:lnTo>
                      <a:lnTo>
                        <a:pt x="55" y="234"/>
                      </a:lnTo>
                      <a:lnTo>
                        <a:pt x="48" y="209"/>
                      </a:lnTo>
                      <a:lnTo>
                        <a:pt x="46" y="195"/>
                      </a:lnTo>
                      <a:lnTo>
                        <a:pt x="46" y="183"/>
                      </a:lnTo>
                      <a:lnTo>
                        <a:pt x="48" y="154"/>
                      </a:lnTo>
                      <a:lnTo>
                        <a:pt x="55" y="129"/>
                      </a:lnTo>
                      <a:lnTo>
                        <a:pt x="67" y="106"/>
                      </a:lnTo>
                      <a:lnTo>
                        <a:pt x="85" y="85"/>
                      </a:lnTo>
                      <a:lnTo>
                        <a:pt x="106" y="67"/>
                      </a:lnTo>
                      <a:lnTo>
                        <a:pt x="130" y="56"/>
                      </a:lnTo>
                      <a:lnTo>
                        <a:pt x="154" y="49"/>
                      </a:lnTo>
                      <a:lnTo>
                        <a:pt x="183" y="47"/>
                      </a:lnTo>
                      <a:lnTo>
                        <a:pt x="195" y="47"/>
                      </a:lnTo>
                      <a:lnTo>
                        <a:pt x="209" y="49"/>
                      </a:lnTo>
                      <a:lnTo>
                        <a:pt x="234" y="56"/>
                      </a:lnTo>
                      <a:lnTo>
                        <a:pt x="245" y="60"/>
                      </a:lnTo>
                      <a:lnTo>
                        <a:pt x="258" y="67"/>
                      </a:lnTo>
                      <a:lnTo>
                        <a:pt x="268" y="75"/>
                      </a:lnTo>
                      <a:lnTo>
                        <a:pt x="279" y="85"/>
                      </a:lnTo>
                      <a:close/>
                    </a:path>
                  </a:pathLst>
                </a:custGeom>
                <a:solidFill>
                  <a:srgbClr val="ff8a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61840" y="3392640"/>
                  <a:ext cx="77760" cy="77400"/>
                </a:xfrm>
                <a:custGeom>
                  <a:avLst/>
                  <a:gdLst/>
                  <a:ahLst/>
                  <a:rect l="l" t="t" r="r" b="b"/>
                  <a:pathLst>
                    <a:path w="273" h="272">
                      <a:moveTo>
                        <a:pt x="273" y="136"/>
                      </a:moveTo>
                      <a:lnTo>
                        <a:pt x="272" y="121"/>
                      </a:lnTo>
                      <a:lnTo>
                        <a:pt x="269" y="107"/>
                      </a:lnTo>
                      <a:lnTo>
                        <a:pt x="263" y="82"/>
                      </a:lnTo>
                      <a:lnTo>
                        <a:pt x="249" y="59"/>
                      </a:lnTo>
                      <a:lnTo>
                        <a:pt x="233" y="38"/>
                      </a:lnTo>
                      <a:lnTo>
                        <a:pt x="222" y="28"/>
                      </a:lnTo>
                      <a:lnTo>
                        <a:pt x="212" y="20"/>
                      </a:lnTo>
                      <a:lnTo>
                        <a:pt x="199" y="13"/>
                      </a:lnTo>
                      <a:lnTo>
                        <a:pt x="188" y="9"/>
                      </a:lnTo>
                      <a:lnTo>
                        <a:pt x="163" y="2"/>
                      </a:lnTo>
                      <a:lnTo>
                        <a:pt x="149" y="0"/>
                      </a:lnTo>
                      <a:lnTo>
                        <a:pt x="137" y="0"/>
                      </a:lnTo>
                      <a:lnTo>
                        <a:pt x="108" y="2"/>
                      </a:lnTo>
                      <a:lnTo>
                        <a:pt x="84" y="9"/>
                      </a:lnTo>
                      <a:lnTo>
                        <a:pt x="60" y="20"/>
                      </a:lnTo>
                      <a:lnTo>
                        <a:pt x="39" y="38"/>
                      </a:lnTo>
                      <a:lnTo>
                        <a:pt x="21" y="59"/>
                      </a:lnTo>
                      <a:lnTo>
                        <a:pt x="9" y="82"/>
                      </a:lnTo>
                      <a:lnTo>
                        <a:pt x="2" y="107"/>
                      </a:lnTo>
                      <a:lnTo>
                        <a:pt x="0" y="136"/>
                      </a:lnTo>
                      <a:lnTo>
                        <a:pt x="0" y="148"/>
                      </a:lnTo>
                      <a:lnTo>
                        <a:pt x="2" y="162"/>
                      </a:lnTo>
                      <a:lnTo>
                        <a:pt x="9" y="187"/>
                      </a:lnTo>
                      <a:lnTo>
                        <a:pt x="13" y="198"/>
                      </a:lnTo>
                      <a:lnTo>
                        <a:pt x="21" y="210"/>
                      </a:lnTo>
                      <a:lnTo>
                        <a:pt x="39" y="233"/>
                      </a:lnTo>
                      <a:lnTo>
                        <a:pt x="60" y="249"/>
                      </a:lnTo>
                      <a:lnTo>
                        <a:pt x="71" y="256"/>
                      </a:lnTo>
                      <a:lnTo>
                        <a:pt x="84" y="261"/>
                      </a:lnTo>
                      <a:lnTo>
                        <a:pt x="108" y="268"/>
                      </a:lnTo>
                      <a:lnTo>
                        <a:pt x="122" y="271"/>
                      </a:lnTo>
                      <a:lnTo>
                        <a:pt x="137" y="272"/>
                      </a:lnTo>
                      <a:lnTo>
                        <a:pt x="139" y="271"/>
                      </a:lnTo>
                      <a:lnTo>
                        <a:pt x="142" y="271"/>
                      </a:lnTo>
                      <a:lnTo>
                        <a:pt x="149" y="271"/>
                      </a:lnTo>
                      <a:lnTo>
                        <a:pt x="163" y="268"/>
                      </a:lnTo>
                      <a:lnTo>
                        <a:pt x="188" y="261"/>
                      </a:lnTo>
                      <a:lnTo>
                        <a:pt x="199" y="256"/>
                      </a:lnTo>
                      <a:lnTo>
                        <a:pt x="212" y="249"/>
                      </a:lnTo>
                      <a:lnTo>
                        <a:pt x="216" y="244"/>
                      </a:lnTo>
                      <a:lnTo>
                        <a:pt x="218" y="242"/>
                      </a:lnTo>
                      <a:lnTo>
                        <a:pt x="218" y="241"/>
                      </a:lnTo>
                      <a:lnTo>
                        <a:pt x="220" y="241"/>
                      </a:lnTo>
                      <a:lnTo>
                        <a:pt x="222" y="241"/>
                      </a:lnTo>
                      <a:lnTo>
                        <a:pt x="233" y="233"/>
                      </a:lnTo>
                      <a:lnTo>
                        <a:pt x="249" y="210"/>
                      </a:lnTo>
                      <a:lnTo>
                        <a:pt x="256" y="198"/>
                      </a:lnTo>
                      <a:lnTo>
                        <a:pt x="263" y="187"/>
                      </a:lnTo>
                      <a:lnTo>
                        <a:pt x="269" y="162"/>
                      </a:lnTo>
                      <a:lnTo>
                        <a:pt x="272" y="148"/>
                      </a:lnTo>
                      <a:lnTo>
                        <a:pt x="272" y="141"/>
                      </a:lnTo>
                      <a:lnTo>
                        <a:pt x="272" y="138"/>
                      </a:lnTo>
                      <a:lnTo>
                        <a:pt x="273" y="136"/>
                      </a:lnTo>
                      <a:close/>
                      <a:moveTo>
                        <a:pt x="137" y="45"/>
                      </a:moveTo>
                      <a:lnTo>
                        <a:pt x="154" y="46"/>
                      </a:lnTo>
                      <a:lnTo>
                        <a:pt x="162" y="47"/>
                      </a:lnTo>
                      <a:lnTo>
                        <a:pt x="171" y="51"/>
                      </a:lnTo>
                      <a:lnTo>
                        <a:pt x="186" y="59"/>
                      </a:lnTo>
                      <a:lnTo>
                        <a:pt x="200" y="71"/>
                      </a:lnTo>
                      <a:lnTo>
                        <a:pt x="211" y="85"/>
                      </a:lnTo>
                      <a:lnTo>
                        <a:pt x="220" y="100"/>
                      </a:lnTo>
                      <a:lnTo>
                        <a:pt x="224" y="116"/>
                      </a:lnTo>
                      <a:lnTo>
                        <a:pt x="226" y="136"/>
                      </a:lnTo>
                      <a:lnTo>
                        <a:pt x="225" y="136"/>
                      </a:lnTo>
                      <a:lnTo>
                        <a:pt x="225" y="137"/>
                      </a:lnTo>
                      <a:lnTo>
                        <a:pt x="225" y="139"/>
                      </a:lnTo>
                      <a:lnTo>
                        <a:pt x="225" y="144"/>
                      </a:lnTo>
                      <a:lnTo>
                        <a:pt x="224" y="153"/>
                      </a:lnTo>
                      <a:lnTo>
                        <a:pt x="222" y="161"/>
                      </a:lnTo>
                      <a:lnTo>
                        <a:pt x="220" y="170"/>
                      </a:lnTo>
                      <a:lnTo>
                        <a:pt x="215" y="176"/>
                      </a:lnTo>
                      <a:lnTo>
                        <a:pt x="211" y="184"/>
                      </a:lnTo>
                      <a:lnTo>
                        <a:pt x="205" y="191"/>
                      </a:lnTo>
                      <a:lnTo>
                        <a:pt x="200" y="199"/>
                      </a:lnTo>
                      <a:lnTo>
                        <a:pt x="196" y="201"/>
                      </a:lnTo>
                      <a:lnTo>
                        <a:pt x="194" y="203"/>
                      </a:lnTo>
                      <a:lnTo>
                        <a:pt x="192" y="205"/>
                      </a:lnTo>
                      <a:lnTo>
                        <a:pt x="186" y="210"/>
                      </a:lnTo>
                      <a:lnTo>
                        <a:pt x="178" y="215"/>
                      </a:lnTo>
                      <a:lnTo>
                        <a:pt x="171" y="220"/>
                      </a:lnTo>
                      <a:lnTo>
                        <a:pt x="162" y="222"/>
                      </a:lnTo>
                      <a:lnTo>
                        <a:pt x="154" y="224"/>
                      </a:lnTo>
                      <a:lnTo>
                        <a:pt x="145" y="225"/>
                      </a:lnTo>
                      <a:lnTo>
                        <a:pt x="140" y="225"/>
                      </a:lnTo>
                      <a:lnTo>
                        <a:pt x="138" y="225"/>
                      </a:lnTo>
                      <a:lnTo>
                        <a:pt x="137" y="225"/>
                      </a:lnTo>
                      <a:lnTo>
                        <a:pt x="137" y="226"/>
                      </a:lnTo>
                      <a:lnTo>
                        <a:pt x="118" y="224"/>
                      </a:lnTo>
                      <a:lnTo>
                        <a:pt x="101" y="220"/>
                      </a:lnTo>
                      <a:lnTo>
                        <a:pt x="85" y="210"/>
                      </a:lnTo>
                      <a:lnTo>
                        <a:pt x="72" y="199"/>
                      </a:lnTo>
                      <a:lnTo>
                        <a:pt x="60" y="184"/>
                      </a:lnTo>
                      <a:lnTo>
                        <a:pt x="52" y="170"/>
                      </a:lnTo>
                      <a:lnTo>
                        <a:pt x="48" y="161"/>
                      </a:lnTo>
                      <a:lnTo>
                        <a:pt x="47" y="153"/>
                      </a:lnTo>
                      <a:lnTo>
                        <a:pt x="46" y="136"/>
                      </a:lnTo>
                      <a:lnTo>
                        <a:pt x="47" y="116"/>
                      </a:lnTo>
                      <a:lnTo>
                        <a:pt x="52" y="100"/>
                      </a:lnTo>
                      <a:lnTo>
                        <a:pt x="60" y="85"/>
                      </a:lnTo>
                      <a:lnTo>
                        <a:pt x="72" y="71"/>
                      </a:lnTo>
                      <a:lnTo>
                        <a:pt x="85" y="59"/>
                      </a:lnTo>
                      <a:lnTo>
                        <a:pt x="101" y="51"/>
                      </a:lnTo>
                      <a:lnTo>
                        <a:pt x="118" y="46"/>
                      </a:lnTo>
                      <a:lnTo>
                        <a:pt x="137" y="45"/>
                      </a:lnTo>
                      <a:close/>
                    </a:path>
                  </a:pathLst>
                </a:custGeom>
                <a:solidFill>
                  <a:srgbClr val="ff8f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275160" y="3405600"/>
                  <a:ext cx="51480" cy="51840"/>
                </a:xfrm>
                <a:custGeom>
                  <a:avLst/>
                  <a:gdLst/>
                  <a:ahLst/>
                  <a:rect l="l" t="t" r="r" b="b"/>
                  <a:pathLst>
                    <a:path w="180" h="181">
                      <a:moveTo>
                        <a:pt x="154" y="26"/>
                      </a:moveTo>
                      <a:lnTo>
                        <a:pt x="140" y="14"/>
                      </a:lnTo>
                      <a:lnTo>
                        <a:pt x="125" y="6"/>
                      </a:lnTo>
                      <a:lnTo>
                        <a:pt x="116" y="2"/>
                      </a:lnTo>
                      <a:lnTo>
                        <a:pt x="108" y="1"/>
                      </a:lnTo>
                      <a:lnTo>
                        <a:pt x="91" y="0"/>
                      </a:lnTo>
                      <a:lnTo>
                        <a:pt x="72" y="1"/>
                      </a:lnTo>
                      <a:lnTo>
                        <a:pt x="55" y="6"/>
                      </a:lnTo>
                      <a:lnTo>
                        <a:pt x="39" y="14"/>
                      </a:lnTo>
                      <a:lnTo>
                        <a:pt x="26" y="26"/>
                      </a:lnTo>
                      <a:lnTo>
                        <a:pt x="14" y="40"/>
                      </a:lnTo>
                      <a:lnTo>
                        <a:pt x="6" y="55"/>
                      </a:lnTo>
                      <a:lnTo>
                        <a:pt x="1" y="71"/>
                      </a:lnTo>
                      <a:lnTo>
                        <a:pt x="0" y="91"/>
                      </a:lnTo>
                      <a:lnTo>
                        <a:pt x="1" y="108"/>
                      </a:lnTo>
                      <a:lnTo>
                        <a:pt x="2" y="116"/>
                      </a:lnTo>
                      <a:lnTo>
                        <a:pt x="6" y="125"/>
                      </a:lnTo>
                      <a:lnTo>
                        <a:pt x="14" y="139"/>
                      </a:lnTo>
                      <a:lnTo>
                        <a:pt x="26" y="154"/>
                      </a:lnTo>
                      <a:lnTo>
                        <a:pt x="39" y="165"/>
                      </a:lnTo>
                      <a:lnTo>
                        <a:pt x="55" y="175"/>
                      </a:lnTo>
                      <a:lnTo>
                        <a:pt x="72" y="179"/>
                      </a:lnTo>
                      <a:lnTo>
                        <a:pt x="91" y="181"/>
                      </a:lnTo>
                      <a:lnTo>
                        <a:pt x="91" y="180"/>
                      </a:lnTo>
                      <a:lnTo>
                        <a:pt x="92" y="180"/>
                      </a:lnTo>
                      <a:lnTo>
                        <a:pt x="94" y="180"/>
                      </a:lnTo>
                      <a:lnTo>
                        <a:pt x="99" y="180"/>
                      </a:lnTo>
                      <a:lnTo>
                        <a:pt x="108" y="179"/>
                      </a:lnTo>
                      <a:lnTo>
                        <a:pt x="116" y="177"/>
                      </a:lnTo>
                      <a:lnTo>
                        <a:pt x="125" y="175"/>
                      </a:lnTo>
                      <a:lnTo>
                        <a:pt x="132" y="170"/>
                      </a:lnTo>
                      <a:lnTo>
                        <a:pt x="140" y="165"/>
                      </a:lnTo>
                      <a:lnTo>
                        <a:pt x="146" y="160"/>
                      </a:lnTo>
                      <a:lnTo>
                        <a:pt x="148" y="158"/>
                      </a:lnTo>
                      <a:lnTo>
                        <a:pt x="150" y="156"/>
                      </a:lnTo>
                      <a:lnTo>
                        <a:pt x="154" y="154"/>
                      </a:lnTo>
                      <a:lnTo>
                        <a:pt x="159" y="146"/>
                      </a:lnTo>
                      <a:lnTo>
                        <a:pt x="165" y="139"/>
                      </a:lnTo>
                      <a:lnTo>
                        <a:pt x="169" y="131"/>
                      </a:lnTo>
                      <a:lnTo>
                        <a:pt x="174" y="125"/>
                      </a:lnTo>
                      <a:lnTo>
                        <a:pt x="176" y="116"/>
                      </a:lnTo>
                      <a:lnTo>
                        <a:pt x="178" y="108"/>
                      </a:lnTo>
                      <a:lnTo>
                        <a:pt x="179" y="99"/>
                      </a:lnTo>
                      <a:lnTo>
                        <a:pt x="179" y="94"/>
                      </a:lnTo>
                      <a:lnTo>
                        <a:pt x="179" y="92"/>
                      </a:lnTo>
                      <a:lnTo>
                        <a:pt x="179" y="91"/>
                      </a:lnTo>
                      <a:lnTo>
                        <a:pt x="180" y="91"/>
                      </a:lnTo>
                      <a:lnTo>
                        <a:pt x="178" y="71"/>
                      </a:lnTo>
                      <a:lnTo>
                        <a:pt x="174" y="55"/>
                      </a:lnTo>
                      <a:lnTo>
                        <a:pt x="165" y="40"/>
                      </a:lnTo>
                      <a:lnTo>
                        <a:pt x="154" y="26"/>
                      </a:lnTo>
                      <a:close/>
                      <a:moveTo>
                        <a:pt x="91" y="44"/>
                      </a:moveTo>
                      <a:lnTo>
                        <a:pt x="99" y="44"/>
                      </a:lnTo>
                      <a:lnTo>
                        <a:pt x="108" y="48"/>
                      </a:lnTo>
                      <a:lnTo>
                        <a:pt x="124" y="58"/>
                      </a:lnTo>
                      <a:lnTo>
                        <a:pt x="133" y="72"/>
                      </a:lnTo>
                      <a:lnTo>
                        <a:pt x="135" y="82"/>
                      </a:lnTo>
                      <a:lnTo>
                        <a:pt x="136" y="91"/>
                      </a:lnTo>
                      <a:lnTo>
                        <a:pt x="135" y="91"/>
                      </a:lnTo>
                      <a:lnTo>
                        <a:pt x="135" y="92"/>
                      </a:lnTo>
                      <a:lnTo>
                        <a:pt x="135" y="94"/>
                      </a:lnTo>
                      <a:lnTo>
                        <a:pt x="135" y="99"/>
                      </a:lnTo>
                      <a:lnTo>
                        <a:pt x="133" y="108"/>
                      </a:lnTo>
                      <a:lnTo>
                        <a:pt x="124" y="124"/>
                      </a:lnTo>
                      <a:lnTo>
                        <a:pt x="115" y="129"/>
                      </a:lnTo>
                      <a:lnTo>
                        <a:pt x="108" y="134"/>
                      </a:lnTo>
                      <a:lnTo>
                        <a:pt x="99" y="136"/>
                      </a:lnTo>
                      <a:lnTo>
                        <a:pt x="94" y="136"/>
                      </a:lnTo>
                      <a:lnTo>
                        <a:pt x="92" y="136"/>
                      </a:lnTo>
                      <a:lnTo>
                        <a:pt x="91" y="136"/>
                      </a:lnTo>
                      <a:lnTo>
                        <a:pt x="91" y="137"/>
                      </a:lnTo>
                      <a:lnTo>
                        <a:pt x="82" y="136"/>
                      </a:lnTo>
                      <a:lnTo>
                        <a:pt x="73" y="134"/>
                      </a:lnTo>
                      <a:lnTo>
                        <a:pt x="65" y="129"/>
                      </a:lnTo>
                      <a:lnTo>
                        <a:pt x="58" y="124"/>
                      </a:lnTo>
                      <a:lnTo>
                        <a:pt x="48" y="108"/>
                      </a:lnTo>
                      <a:lnTo>
                        <a:pt x="44" y="99"/>
                      </a:lnTo>
                      <a:lnTo>
                        <a:pt x="44" y="91"/>
                      </a:lnTo>
                      <a:lnTo>
                        <a:pt x="48" y="72"/>
                      </a:lnTo>
                      <a:lnTo>
                        <a:pt x="58" y="58"/>
                      </a:lnTo>
                      <a:lnTo>
                        <a:pt x="73" y="48"/>
                      </a:lnTo>
                      <a:lnTo>
                        <a:pt x="91" y="44"/>
                      </a:lnTo>
                      <a:close/>
                    </a:path>
                  </a:pathLst>
                </a:custGeom>
                <a:solidFill>
                  <a:srgbClr val="ff94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287760" y="341820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92" h="93">
                      <a:moveTo>
                        <a:pt x="80" y="14"/>
                      </a:moveTo>
                      <a:lnTo>
                        <a:pt x="64" y="4"/>
                      </a:lnTo>
                      <a:lnTo>
                        <a:pt x="55" y="0"/>
                      </a:lnTo>
                      <a:lnTo>
                        <a:pt x="47" y="0"/>
                      </a:lnTo>
                      <a:lnTo>
                        <a:pt x="29" y="4"/>
                      </a:lnTo>
                      <a:lnTo>
                        <a:pt x="14" y="14"/>
                      </a:lnTo>
                      <a:lnTo>
                        <a:pt x="4" y="28"/>
                      </a:lnTo>
                      <a:lnTo>
                        <a:pt x="0" y="47"/>
                      </a:lnTo>
                      <a:lnTo>
                        <a:pt x="0" y="55"/>
                      </a:lnTo>
                      <a:lnTo>
                        <a:pt x="4" y="64"/>
                      </a:lnTo>
                      <a:lnTo>
                        <a:pt x="14" y="80"/>
                      </a:lnTo>
                      <a:lnTo>
                        <a:pt x="21" y="85"/>
                      </a:lnTo>
                      <a:lnTo>
                        <a:pt x="29" y="90"/>
                      </a:lnTo>
                      <a:lnTo>
                        <a:pt x="38" y="92"/>
                      </a:lnTo>
                      <a:lnTo>
                        <a:pt x="47" y="93"/>
                      </a:lnTo>
                      <a:lnTo>
                        <a:pt x="47" y="92"/>
                      </a:lnTo>
                      <a:lnTo>
                        <a:pt x="48" y="92"/>
                      </a:lnTo>
                      <a:lnTo>
                        <a:pt x="50" y="92"/>
                      </a:lnTo>
                      <a:lnTo>
                        <a:pt x="55" y="92"/>
                      </a:lnTo>
                      <a:lnTo>
                        <a:pt x="64" y="90"/>
                      </a:lnTo>
                      <a:lnTo>
                        <a:pt x="71" y="85"/>
                      </a:lnTo>
                      <a:lnTo>
                        <a:pt x="80" y="80"/>
                      </a:lnTo>
                      <a:lnTo>
                        <a:pt x="89" y="64"/>
                      </a:lnTo>
                      <a:lnTo>
                        <a:pt x="91" y="55"/>
                      </a:lnTo>
                      <a:lnTo>
                        <a:pt x="91" y="50"/>
                      </a:lnTo>
                      <a:lnTo>
                        <a:pt x="91" y="48"/>
                      </a:lnTo>
                      <a:lnTo>
                        <a:pt x="91" y="47"/>
                      </a:lnTo>
                      <a:lnTo>
                        <a:pt x="92" y="47"/>
                      </a:lnTo>
                      <a:lnTo>
                        <a:pt x="91" y="38"/>
                      </a:lnTo>
                      <a:lnTo>
                        <a:pt x="89" y="28"/>
                      </a:lnTo>
                      <a:lnTo>
                        <a:pt x="80" y="14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171120" y="3308760"/>
                  <a:ext cx="215640" cy="252720"/>
                </a:xfrm>
                <a:custGeom>
                  <a:avLst/>
                  <a:gdLst/>
                  <a:ahLst/>
                  <a:rect l="l" t="t" r="r" b="b"/>
                  <a:pathLst>
                    <a:path w="755" h="885">
                      <a:moveTo>
                        <a:pt x="753" y="711"/>
                      </a:moveTo>
                      <a:lnTo>
                        <a:pt x="745" y="719"/>
                      </a:lnTo>
                      <a:lnTo>
                        <a:pt x="713" y="746"/>
                      </a:lnTo>
                      <a:lnTo>
                        <a:pt x="681" y="771"/>
                      </a:lnTo>
                      <a:lnTo>
                        <a:pt x="647" y="791"/>
                      </a:lnTo>
                      <a:lnTo>
                        <a:pt x="629" y="799"/>
                      </a:lnTo>
                      <a:lnTo>
                        <a:pt x="612" y="808"/>
                      </a:lnTo>
                      <a:lnTo>
                        <a:pt x="602" y="811"/>
                      </a:lnTo>
                      <a:lnTo>
                        <a:pt x="593" y="814"/>
                      </a:lnTo>
                      <a:lnTo>
                        <a:pt x="575" y="821"/>
                      </a:lnTo>
                      <a:lnTo>
                        <a:pt x="536" y="831"/>
                      </a:lnTo>
                      <a:lnTo>
                        <a:pt x="516" y="833"/>
                      </a:lnTo>
                      <a:lnTo>
                        <a:pt x="510" y="833"/>
                      </a:lnTo>
                      <a:lnTo>
                        <a:pt x="506" y="834"/>
                      </a:lnTo>
                      <a:lnTo>
                        <a:pt x="497" y="837"/>
                      </a:lnTo>
                      <a:lnTo>
                        <a:pt x="456" y="839"/>
                      </a:lnTo>
                      <a:lnTo>
                        <a:pt x="413" y="837"/>
                      </a:lnTo>
                      <a:lnTo>
                        <a:pt x="373" y="831"/>
                      </a:lnTo>
                      <a:lnTo>
                        <a:pt x="335" y="821"/>
                      </a:lnTo>
                      <a:lnTo>
                        <a:pt x="298" y="808"/>
                      </a:lnTo>
                      <a:lnTo>
                        <a:pt x="262" y="791"/>
                      </a:lnTo>
                      <a:lnTo>
                        <a:pt x="228" y="771"/>
                      </a:lnTo>
                      <a:lnTo>
                        <a:pt x="195" y="746"/>
                      </a:lnTo>
                      <a:lnTo>
                        <a:pt x="166" y="719"/>
                      </a:lnTo>
                      <a:lnTo>
                        <a:pt x="136" y="687"/>
                      </a:lnTo>
                      <a:lnTo>
                        <a:pt x="112" y="655"/>
                      </a:lnTo>
                      <a:lnTo>
                        <a:pt x="91" y="621"/>
                      </a:lnTo>
                      <a:lnTo>
                        <a:pt x="82" y="603"/>
                      </a:lnTo>
                      <a:lnTo>
                        <a:pt x="75" y="586"/>
                      </a:lnTo>
                      <a:lnTo>
                        <a:pt x="67" y="567"/>
                      </a:lnTo>
                      <a:lnTo>
                        <a:pt x="61" y="549"/>
                      </a:lnTo>
                      <a:lnTo>
                        <a:pt x="52" y="510"/>
                      </a:lnTo>
                      <a:lnTo>
                        <a:pt x="47" y="470"/>
                      </a:lnTo>
                      <a:lnTo>
                        <a:pt x="45" y="430"/>
                      </a:lnTo>
                      <a:lnTo>
                        <a:pt x="47" y="387"/>
                      </a:lnTo>
                      <a:lnTo>
                        <a:pt x="52" y="347"/>
                      </a:lnTo>
                      <a:lnTo>
                        <a:pt x="61" y="308"/>
                      </a:lnTo>
                      <a:lnTo>
                        <a:pt x="75" y="272"/>
                      </a:lnTo>
                      <a:lnTo>
                        <a:pt x="91" y="236"/>
                      </a:lnTo>
                      <a:lnTo>
                        <a:pt x="112" y="203"/>
                      </a:lnTo>
                      <a:lnTo>
                        <a:pt x="136" y="170"/>
                      </a:lnTo>
                      <a:lnTo>
                        <a:pt x="166" y="141"/>
                      </a:lnTo>
                      <a:lnTo>
                        <a:pt x="186" y="119"/>
                      </a:lnTo>
                      <a:lnTo>
                        <a:pt x="208" y="102"/>
                      </a:lnTo>
                      <a:lnTo>
                        <a:pt x="254" y="71"/>
                      </a:lnTo>
                      <a:lnTo>
                        <a:pt x="303" y="48"/>
                      </a:lnTo>
                      <a:lnTo>
                        <a:pt x="328" y="37"/>
                      </a:lnTo>
                      <a:lnTo>
                        <a:pt x="355" y="32"/>
                      </a:lnTo>
                      <a:lnTo>
                        <a:pt x="299" y="0"/>
                      </a:lnTo>
                      <a:lnTo>
                        <a:pt x="253" y="18"/>
                      </a:lnTo>
                      <a:lnTo>
                        <a:pt x="211" y="43"/>
                      </a:lnTo>
                      <a:lnTo>
                        <a:pt x="170" y="72"/>
                      </a:lnTo>
                      <a:lnTo>
                        <a:pt x="133" y="108"/>
                      </a:lnTo>
                      <a:lnTo>
                        <a:pt x="101" y="141"/>
                      </a:lnTo>
                      <a:lnTo>
                        <a:pt x="74" y="177"/>
                      </a:lnTo>
                      <a:lnTo>
                        <a:pt x="51" y="214"/>
                      </a:lnTo>
                      <a:lnTo>
                        <a:pt x="33" y="254"/>
                      </a:lnTo>
                      <a:lnTo>
                        <a:pt x="17" y="294"/>
                      </a:lnTo>
                      <a:lnTo>
                        <a:pt x="8" y="338"/>
                      </a:lnTo>
                      <a:lnTo>
                        <a:pt x="1" y="382"/>
                      </a:lnTo>
                      <a:lnTo>
                        <a:pt x="0" y="430"/>
                      </a:lnTo>
                      <a:lnTo>
                        <a:pt x="1" y="475"/>
                      </a:lnTo>
                      <a:lnTo>
                        <a:pt x="3" y="497"/>
                      </a:lnTo>
                      <a:lnTo>
                        <a:pt x="8" y="519"/>
                      </a:lnTo>
                      <a:lnTo>
                        <a:pt x="17" y="562"/>
                      </a:lnTo>
                      <a:lnTo>
                        <a:pt x="24" y="583"/>
                      </a:lnTo>
                      <a:lnTo>
                        <a:pt x="33" y="604"/>
                      </a:lnTo>
                      <a:lnTo>
                        <a:pt x="51" y="643"/>
                      </a:lnTo>
                      <a:lnTo>
                        <a:pt x="61" y="661"/>
                      </a:lnTo>
                      <a:lnTo>
                        <a:pt x="74" y="680"/>
                      </a:lnTo>
                      <a:lnTo>
                        <a:pt x="101" y="716"/>
                      </a:lnTo>
                      <a:lnTo>
                        <a:pt x="116" y="733"/>
                      </a:lnTo>
                      <a:lnTo>
                        <a:pt x="133" y="752"/>
                      </a:lnTo>
                      <a:lnTo>
                        <a:pt x="166" y="782"/>
                      </a:lnTo>
                      <a:lnTo>
                        <a:pt x="202" y="809"/>
                      </a:lnTo>
                      <a:lnTo>
                        <a:pt x="239" y="832"/>
                      </a:lnTo>
                      <a:lnTo>
                        <a:pt x="280" y="851"/>
                      </a:lnTo>
                      <a:lnTo>
                        <a:pt x="320" y="865"/>
                      </a:lnTo>
                      <a:lnTo>
                        <a:pt x="364" y="876"/>
                      </a:lnTo>
                      <a:lnTo>
                        <a:pt x="408" y="883"/>
                      </a:lnTo>
                      <a:lnTo>
                        <a:pt x="456" y="885"/>
                      </a:lnTo>
                      <a:lnTo>
                        <a:pt x="476" y="884"/>
                      </a:lnTo>
                      <a:lnTo>
                        <a:pt x="481" y="883"/>
                      </a:lnTo>
                      <a:lnTo>
                        <a:pt x="486" y="883"/>
                      </a:lnTo>
                      <a:lnTo>
                        <a:pt x="498" y="883"/>
                      </a:lnTo>
                      <a:lnTo>
                        <a:pt x="539" y="877"/>
                      </a:lnTo>
                      <a:lnTo>
                        <a:pt x="577" y="868"/>
                      </a:lnTo>
                      <a:lnTo>
                        <a:pt x="616" y="857"/>
                      </a:lnTo>
                      <a:lnTo>
                        <a:pt x="652" y="841"/>
                      </a:lnTo>
                      <a:lnTo>
                        <a:pt x="669" y="832"/>
                      </a:lnTo>
                      <a:lnTo>
                        <a:pt x="687" y="823"/>
                      </a:lnTo>
                      <a:lnTo>
                        <a:pt x="703" y="812"/>
                      </a:lnTo>
                      <a:lnTo>
                        <a:pt x="720" y="800"/>
                      </a:lnTo>
                      <a:lnTo>
                        <a:pt x="736" y="788"/>
                      </a:lnTo>
                      <a:lnTo>
                        <a:pt x="744" y="781"/>
                      </a:lnTo>
                      <a:lnTo>
                        <a:pt x="753" y="775"/>
                      </a:lnTo>
                      <a:lnTo>
                        <a:pt x="755" y="745"/>
                      </a:lnTo>
                      <a:lnTo>
                        <a:pt x="754" y="727"/>
                      </a:lnTo>
                      <a:lnTo>
                        <a:pt x="753" y="711"/>
                      </a:lnTo>
                      <a:close/>
                    </a:path>
                  </a:pathLst>
                </a:custGeom>
                <a:solidFill>
                  <a:srgbClr val="ff6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83720" y="3317760"/>
                  <a:ext cx="202320" cy="230760"/>
                </a:xfrm>
                <a:custGeom>
                  <a:avLst/>
                  <a:gdLst/>
                  <a:ahLst/>
                  <a:rect l="l" t="t" r="r" b="b"/>
                  <a:pathLst>
                    <a:path w="708" h="807">
                      <a:moveTo>
                        <a:pt x="700" y="687"/>
                      </a:moveTo>
                      <a:lnTo>
                        <a:pt x="708" y="679"/>
                      </a:lnTo>
                      <a:lnTo>
                        <a:pt x="706" y="646"/>
                      </a:lnTo>
                      <a:lnTo>
                        <a:pt x="704" y="616"/>
                      </a:lnTo>
                      <a:lnTo>
                        <a:pt x="687" y="636"/>
                      </a:lnTo>
                      <a:lnTo>
                        <a:pt x="668" y="656"/>
                      </a:lnTo>
                      <a:lnTo>
                        <a:pt x="653" y="667"/>
                      </a:lnTo>
                      <a:lnTo>
                        <a:pt x="640" y="680"/>
                      </a:lnTo>
                      <a:lnTo>
                        <a:pt x="632" y="684"/>
                      </a:lnTo>
                      <a:lnTo>
                        <a:pt x="625" y="690"/>
                      </a:lnTo>
                      <a:lnTo>
                        <a:pt x="612" y="701"/>
                      </a:lnTo>
                      <a:lnTo>
                        <a:pt x="596" y="711"/>
                      </a:lnTo>
                      <a:lnTo>
                        <a:pt x="581" y="720"/>
                      </a:lnTo>
                      <a:lnTo>
                        <a:pt x="565" y="728"/>
                      </a:lnTo>
                      <a:lnTo>
                        <a:pt x="560" y="729"/>
                      </a:lnTo>
                      <a:lnTo>
                        <a:pt x="557" y="731"/>
                      </a:lnTo>
                      <a:lnTo>
                        <a:pt x="550" y="736"/>
                      </a:lnTo>
                      <a:lnTo>
                        <a:pt x="516" y="747"/>
                      </a:lnTo>
                      <a:lnTo>
                        <a:pt x="482" y="756"/>
                      </a:lnTo>
                      <a:lnTo>
                        <a:pt x="464" y="758"/>
                      </a:lnTo>
                      <a:lnTo>
                        <a:pt x="447" y="760"/>
                      </a:lnTo>
                      <a:lnTo>
                        <a:pt x="411" y="763"/>
                      </a:lnTo>
                      <a:lnTo>
                        <a:pt x="372" y="760"/>
                      </a:lnTo>
                      <a:lnTo>
                        <a:pt x="337" y="756"/>
                      </a:lnTo>
                      <a:lnTo>
                        <a:pt x="302" y="747"/>
                      </a:lnTo>
                      <a:lnTo>
                        <a:pt x="270" y="736"/>
                      </a:lnTo>
                      <a:lnTo>
                        <a:pt x="237" y="720"/>
                      </a:lnTo>
                      <a:lnTo>
                        <a:pt x="208" y="701"/>
                      </a:lnTo>
                      <a:lnTo>
                        <a:pt x="178" y="680"/>
                      </a:lnTo>
                      <a:lnTo>
                        <a:pt x="152" y="656"/>
                      </a:lnTo>
                      <a:lnTo>
                        <a:pt x="126" y="628"/>
                      </a:lnTo>
                      <a:lnTo>
                        <a:pt x="105" y="598"/>
                      </a:lnTo>
                      <a:lnTo>
                        <a:pt x="94" y="582"/>
                      </a:lnTo>
                      <a:lnTo>
                        <a:pt x="87" y="568"/>
                      </a:lnTo>
                      <a:lnTo>
                        <a:pt x="72" y="537"/>
                      </a:lnTo>
                      <a:lnTo>
                        <a:pt x="59" y="503"/>
                      </a:lnTo>
                      <a:lnTo>
                        <a:pt x="51" y="469"/>
                      </a:lnTo>
                      <a:lnTo>
                        <a:pt x="48" y="451"/>
                      </a:lnTo>
                      <a:lnTo>
                        <a:pt x="47" y="434"/>
                      </a:lnTo>
                      <a:lnTo>
                        <a:pt x="46" y="398"/>
                      </a:lnTo>
                      <a:lnTo>
                        <a:pt x="47" y="359"/>
                      </a:lnTo>
                      <a:lnTo>
                        <a:pt x="51" y="324"/>
                      </a:lnTo>
                      <a:lnTo>
                        <a:pt x="59" y="289"/>
                      </a:lnTo>
                      <a:lnTo>
                        <a:pt x="72" y="257"/>
                      </a:lnTo>
                      <a:lnTo>
                        <a:pt x="87" y="224"/>
                      </a:lnTo>
                      <a:lnTo>
                        <a:pt x="105" y="195"/>
                      </a:lnTo>
                      <a:lnTo>
                        <a:pt x="126" y="165"/>
                      </a:lnTo>
                      <a:lnTo>
                        <a:pt x="152" y="139"/>
                      </a:lnTo>
                      <a:lnTo>
                        <a:pt x="174" y="118"/>
                      </a:lnTo>
                      <a:lnTo>
                        <a:pt x="198" y="98"/>
                      </a:lnTo>
                      <a:lnTo>
                        <a:pt x="223" y="81"/>
                      </a:lnTo>
                      <a:lnTo>
                        <a:pt x="249" y="69"/>
                      </a:lnTo>
                      <a:lnTo>
                        <a:pt x="275" y="56"/>
                      </a:lnTo>
                      <a:lnTo>
                        <a:pt x="303" y="47"/>
                      </a:lnTo>
                      <a:lnTo>
                        <a:pt x="333" y="39"/>
                      </a:lnTo>
                      <a:lnTo>
                        <a:pt x="363" y="36"/>
                      </a:lnTo>
                      <a:lnTo>
                        <a:pt x="336" y="17"/>
                      </a:lnTo>
                      <a:lnTo>
                        <a:pt x="310" y="0"/>
                      </a:lnTo>
                      <a:lnTo>
                        <a:pt x="283" y="5"/>
                      </a:lnTo>
                      <a:lnTo>
                        <a:pt x="258" y="16"/>
                      </a:lnTo>
                      <a:lnTo>
                        <a:pt x="209" y="39"/>
                      </a:lnTo>
                      <a:lnTo>
                        <a:pt x="163" y="70"/>
                      </a:lnTo>
                      <a:lnTo>
                        <a:pt x="141" y="87"/>
                      </a:lnTo>
                      <a:lnTo>
                        <a:pt x="121" y="109"/>
                      </a:lnTo>
                      <a:lnTo>
                        <a:pt x="91" y="138"/>
                      </a:lnTo>
                      <a:lnTo>
                        <a:pt x="67" y="171"/>
                      </a:lnTo>
                      <a:lnTo>
                        <a:pt x="46" y="204"/>
                      </a:lnTo>
                      <a:lnTo>
                        <a:pt x="30" y="240"/>
                      </a:lnTo>
                      <a:lnTo>
                        <a:pt x="16" y="276"/>
                      </a:lnTo>
                      <a:lnTo>
                        <a:pt x="7" y="315"/>
                      </a:lnTo>
                      <a:lnTo>
                        <a:pt x="2" y="355"/>
                      </a:lnTo>
                      <a:lnTo>
                        <a:pt x="0" y="398"/>
                      </a:lnTo>
                      <a:lnTo>
                        <a:pt x="2" y="438"/>
                      </a:lnTo>
                      <a:lnTo>
                        <a:pt x="7" y="478"/>
                      </a:lnTo>
                      <a:lnTo>
                        <a:pt x="16" y="517"/>
                      </a:lnTo>
                      <a:lnTo>
                        <a:pt x="22" y="535"/>
                      </a:lnTo>
                      <a:lnTo>
                        <a:pt x="30" y="554"/>
                      </a:lnTo>
                      <a:lnTo>
                        <a:pt x="37" y="571"/>
                      </a:lnTo>
                      <a:lnTo>
                        <a:pt x="46" y="589"/>
                      </a:lnTo>
                      <a:lnTo>
                        <a:pt x="67" y="623"/>
                      </a:lnTo>
                      <a:lnTo>
                        <a:pt x="91" y="655"/>
                      </a:lnTo>
                      <a:lnTo>
                        <a:pt x="121" y="687"/>
                      </a:lnTo>
                      <a:lnTo>
                        <a:pt x="150" y="714"/>
                      </a:lnTo>
                      <a:lnTo>
                        <a:pt x="183" y="739"/>
                      </a:lnTo>
                      <a:lnTo>
                        <a:pt x="217" y="759"/>
                      </a:lnTo>
                      <a:lnTo>
                        <a:pt x="253" y="776"/>
                      </a:lnTo>
                      <a:lnTo>
                        <a:pt x="290" y="789"/>
                      </a:lnTo>
                      <a:lnTo>
                        <a:pt x="328" y="799"/>
                      </a:lnTo>
                      <a:lnTo>
                        <a:pt x="368" y="805"/>
                      </a:lnTo>
                      <a:lnTo>
                        <a:pt x="411" y="807"/>
                      </a:lnTo>
                      <a:lnTo>
                        <a:pt x="452" y="805"/>
                      </a:lnTo>
                      <a:lnTo>
                        <a:pt x="461" y="802"/>
                      </a:lnTo>
                      <a:lnTo>
                        <a:pt x="465" y="801"/>
                      </a:lnTo>
                      <a:lnTo>
                        <a:pt x="471" y="801"/>
                      </a:lnTo>
                      <a:lnTo>
                        <a:pt x="491" y="799"/>
                      </a:lnTo>
                      <a:lnTo>
                        <a:pt x="530" y="789"/>
                      </a:lnTo>
                      <a:lnTo>
                        <a:pt x="548" y="782"/>
                      </a:lnTo>
                      <a:lnTo>
                        <a:pt x="557" y="779"/>
                      </a:lnTo>
                      <a:lnTo>
                        <a:pt x="567" y="776"/>
                      </a:lnTo>
                      <a:lnTo>
                        <a:pt x="584" y="767"/>
                      </a:lnTo>
                      <a:lnTo>
                        <a:pt x="602" y="759"/>
                      </a:lnTo>
                      <a:lnTo>
                        <a:pt x="636" y="739"/>
                      </a:lnTo>
                      <a:lnTo>
                        <a:pt x="668" y="714"/>
                      </a:lnTo>
                      <a:lnTo>
                        <a:pt x="700" y="687"/>
                      </a:lnTo>
                      <a:close/>
                    </a:path>
                  </a:pathLst>
                </a:custGeom>
                <a:solidFill>
                  <a:srgbClr val="ff7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196680" y="3328200"/>
                  <a:ext cx="187920" cy="207720"/>
                </a:xfrm>
                <a:custGeom>
                  <a:avLst/>
                  <a:gdLst/>
                  <a:ahLst/>
                  <a:rect l="l" t="t" r="r" b="b"/>
                  <a:pathLst>
                    <a:path w="658" h="727">
                      <a:moveTo>
                        <a:pt x="622" y="620"/>
                      </a:moveTo>
                      <a:lnTo>
                        <a:pt x="641" y="600"/>
                      </a:lnTo>
                      <a:lnTo>
                        <a:pt x="658" y="580"/>
                      </a:lnTo>
                      <a:lnTo>
                        <a:pt x="653" y="544"/>
                      </a:lnTo>
                      <a:lnTo>
                        <a:pt x="647" y="511"/>
                      </a:lnTo>
                      <a:lnTo>
                        <a:pt x="635" y="529"/>
                      </a:lnTo>
                      <a:lnTo>
                        <a:pt x="621" y="550"/>
                      </a:lnTo>
                      <a:lnTo>
                        <a:pt x="606" y="568"/>
                      </a:lnTo>
                      <a:lnTo>
                        <a:pt x="597" y="577"/>
                      </a:lnTo>
                      <a:lnTo>
                        <a:pt x="593" y="582"/>
                      </a:lnTo>
                      <a:lnTo>
                        <a:pt x="590" y="584"/>
                      </a:lnTo>
                      <a:lnTo>
                        <a:pt x="589" y="584"/>
                      </a:lnTo>
                      <a:lnTo>
                        <a:pt x="589" y="585"/>
                      </a:lnTo>
                      <a:lnTo>
                        <a:pt x="589" y="587"/>
                      </a:lnTo>
                      <a:lnTo>
                        <a:pt x="564" y="608"/>
                      </a:lnTo>
                      <a:lnTo>
                        <a:pt x="539" y="627"/>
                      </a:lnTo>
                      <a:lnTo>
                        <a:pt x="526" y="635"/>
                      </a:lnTo>
                      <a:lnTo>
                        <a:pt x="519" y="638"/>
                      </a:lnTo>
                      <a:lnTo>
                        <a:pt x="513" y="643"/>
                      </a:lnTo>
                      <a:lnTo>
                        <a:pt x="486" y="656"/>
                      </a:lnTo>
                      <a:lnTo>
                        <a:pt x="457" y="665"/>
                      </a:lnTo>
                      <a:lnTo>
                        <a:pt x="427" y="673"/>
                      </a:lnTo>
                      <a:lnTo>
                        <a:pt x="411" y="676"/>
                      </a:lnTo>
                      <a:lnTo>
                        <a:pt x="397" y="678"/>
                      </a:lnTo>
                      <a:lnTo>
                        <a:pt x="365" y="680"/>
                      </a:lnTo>
                      <a:lnTo>
                        <a:pt x="332" y="678"/>
                      </a:lnTo>
                      <a:lnTo>
                        <a:pt x="301" y="673"/>
                      </a:lnTo>
                      <a:lnTo>
                        <a:pt x="271" y="665"/>
                      </a:lnTo>
                      <a:lnTo>
                        <a:pt x="242" y="656"/>
                      </a:lnTo>
                      <a:lnTo>
                        <a:pt x="214" y="643"/>
                      </a:lnTo>
                      <a:lnTo>
                        <a:pt x="188" y="627"/>
                      </a:lnTo>
                      <a:lnTo>
                        <a:pt x="162" y="608"/>
                      </a:lnTo>
                      <a:lnTo>
                        <a:pt x="139" y="587"/>
                      </a:lnTo>
                      <a:lnTo>
                        <a:pt x="117" y="562"/>
                      </a:lnTo>
                      <a:lnTo>
                        <a:pt x="97" y="537"/>
                      </a:lnTo>
                      <a:lnTo>
                        <a:pt x="80" y="510"/>
                      </a:lnTo>
                      <a:lnTo>
                        <a:pt x="68" y="483"/>
                      </a:lnTo>
                      <a:lnTo>
                        <a:pt x="58" y="453"/>
                      </a:lnTo>
                      <a:lnTo>
                        <a:pt x="51" y="424"/>
                      </a:lnTo>
                      <a:lnTo>
                        <a:pt x="47" y="408"/>
                      </a:lnTo>
                      <a:lnTo>
                        <a:pt x="46" y="393"/>
                      </a:lnTo>
                      <a:lnTo>
                        <a:pt x="45" y="362"/>
                      </a:lnTo>
                      <a:lnTo>
                        <a:pt x="46" y="329"/>
                      </a:lnTo>
                      <a:lnTo>
                        <a:pt x="51" y="298"/>
                      </a:lnTo>
                      <a:lnTo>
                        <a:pt x="58" y="268"/>
                      </a:lnTo>
                      <a:lnTo>
                        <a:pt x="68" y="239"/>
                      </a:lnTo>
                      <a:lnTo>
                        <a:pt x="80" y="211"/>
                      </a:lnTo>
                      <a:lnTo>
                        <a:pt x="97" y="185"/>
                      </a:lnTo>
                      <a:lnTo>
                        <a:pt x="117" y="159"/>
                      </a:lnTo>
                      <a:lnTo>
                        <a:pt x="139" y="136"/>
                      </a:lnTo>
                      <a:lnTo>
                        <a:pt x="162" y="113"/>
                      </a:lnTo>
                      <a:lnTo>
                        <a:pt x="188" y="94"/>
                      </a:lnTo>
                      <a:lnTo>
                        <a:pt x="214" y="78"/>
                      </a:lnTo>
                      <a:lnTo>
                        <a:pt x="242" y="66"/>
                      </a:lnTo>
                      <a:lnTo>
                        <a:pt x="271" y="56"/>
                      </a:lnTo>
                      <a:lnTo>
                        <a:pt x="301" y="49"/>
                      </a:lnTo>
                      <a:lnTo>
                        <a:pt x="332" y="44"/>
                      </a:lnTo>
                      <a:lnTo>
                        <a:pt x="365" y="43"/>
                      </a:lnTo>
                      <a:lnTo>
                        <a:pt x="370" y="43"/>
                      </a:lnTo>
                      <a:lnTo>
                        <a:pt x="343" y="19"/>
                      </a:lnTo>
                      <a:lnTo>
                        <a:pt x="317" y="0"/>
                      </a:lnTo>
                      <a:lnTo>
                        <a:pt x="287" y="3"/>
                      </a:lnTo>
                      <a:lnTo>
                        <a:pt x="257" y="11"/>
                      </a:lnTo>
                      <a:lnTo>
                        <a:pt x="229" y="20"/>
                      </a:lnTo>
                      <a:lnTo>
                        <a:pt x="203" y="33"/>
                      </a:lnTo>
                      <a:lnTo>
                        <a:pt x="177" y="45"/>
                      </a:lnTo>
                      <a:lnTo>
                        <a:pt x="152" y="62"/>
                      </a:lnTo>
                      <a:lnTo>
                        <a:pt x="128" y="82"/>
                      </a:lnTo>
                      <a:lnTo>
                        <a:pt x="106" y="103"/>
                      </a:lnTo>
                      <a:lnTo>
                        <a:pt x="80" y="129"/>
                      </a:lnTo>
                      <a:lnTo>
                        <a:pt x="59" y="159"/>
                      </a:lnTo>
                      <a:lnTo>
                        <a:pt x="41" y="188"/>
                      </a:lnTo>
                      <a:lnTo>
                        <a:pt x="26" y="221"/>
                      </a:lnTo>
                      <a:lnTo>
                        <a:pt x="13" y="253"/>
                      </a:lnTo>
                      <a:lnTo>
                        <a:pt x="5" y="288"/>
                      </a:lnTo>
                      <a:lnTo>
                        <a:pt x="1" y="323"/>
                      </a:lnTo>
                      <a:lnTo>
                        <a:pt x="0" y="362"/>
                      </a:lnTo>
                      <a:lnTo>
                        <a:pt x="1" y="398"/>
                      </a:lnTo>
                      <a:lnTo>
                        <a:pt x="2" y="415"/>
                      </a:lnTo>
                      <a:lnTo>
                        <a:pt x="5" y="433"/>
                      </a:lnTo>
                      <a:lnTo>
                        <a:pt x="13" y="467"/>
                      </a:lnTo>
                      <a:lnTo>
                        <a:pt x="26" y="501"/>
                      </a:lnTo>
                      <a:lnTo>
                        <a:pt x="41" y="532"/>
                      </a:lnTo>
                      <a:lnTo>
                        <a:pt x="48" y="546"/>
                      </a:lnTo>
                      <a:lnTo>
                        <a:pt x="59" y="562"/>
                      </a:lnTo>
                      <a:lnTo>
                        <a:pt x="80" y="592"/>
                      </a:lnTo>
                      <a:lnTo>
                        <a:pt x="106" y="620"/>
                      </a:lnTo>
                      <a:lnTo>
                        <a:pt x="132" y="644"/>
                      </a:lnTo>
                      <a:lnTo>
                        <a:pt x="162" y="665"/>
                      </a:lnTo>
                      <a:lnTo>
                        <a:pt x="191" y="684"/>
                      </a:lnTo>
                      <a:lnTo>
                        <a:pt x="224" y="700"/>
                      </a:lnTo>
                      <a:lnTo>
                        <a:pt x="256" y="711"/>
                      </a:lnTo>
                      <a:lnTo>
                        <a:pt x="291" y="720"/>
                      </a:lnTo>
                      <a:lnTo>
                        <a:pt x="326" y="724"/>
                      </a:lnTo>
                      <a:lnTo>
                        <a:pt x="365" y="727"/>
                      </a:lnTo>
                      <a:lnTo>
                        <a:pt x="401" y="724"/>
                      </a:lnTo>
                      <a:lnTo>
                        <a:pt x="418" y="722"/>
                      </a:lnTo>
                      <a:lnTo>
                        <a:pt x="436" y="720"/>
                      </a:lnTo>
                      <a:lnTo>
                        <a:pt x="470" y="711"/>
                      </a:lnTo>
                      <a:lnTo>
                        <a:pt x="504" y="700"/>
                      </a:lnTo>
                      <a:lnTo>
                        <a:pt x="511" y="695"/>
                      </a:lnTo>
                      <a:lnTo>
                        <a:pt x="514" y="693"/>
                      </a:lnTo>
                      <a:lnTo>
                        <a:pt x="519" y="692"/>
                      </a:lnTo>
                      <a:lnTo>
                        <a:pt x="535" y="684"/>
                      </a:lnTo>
                      <a:lnTo>
                        <a:pt x="550" y="675"/>
                      </a:lnTo>
                      <a:lnTo>
                        <a:pt x="566" y="665"/>
                      </a:lnTo>
                      <a:lnTo>
                        <a:pt x="579" y="654"/>
                      </a:lnTo>
                      <a:lnTo>
                        <a:pt x="586" y="648"/>
                      </a:lnTo>
                      <a:lnTo>
                        <a:pt x="594" y="644"/>
                      </a:lnTo>
                      <a:lnTo>
                        <a:pt x="607" y="631"/>
                      </a:lnTo>
                      <a:lnTo>
                        <a:pt x="622" y="620"/>
                      </a:lnTo>
                      <a:close/>
                    </a:path>
                  </a:pathLst>
                </a:custGeom>
                <a:solidFill>
                  <a:srgbClr val="ff77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10000" y="3340800"/>
                  <a:ext cx="172080" cy="181800"/>
                </a:xfrm>
                <a:custGeom>
                  <a:avLst/>
                  <a:gdLst/>
                  <a:ahLst/>
                  <a:rect l="l" t="t" r="r" b="b"/>
                  <a:pathLst>
                    <a:path w="602" h="637">
                      <a:moveTo>
                        <a:pt x="544" y="544"/>
                      </a:moveTo>
                      <a:lnTo>
                        <a:pt x="544" y="542"/>
                      </a:lnTo>
                      <a:lnTo>
                        <a:pt x="544" y="541"/>
                      </a:lnTo>
                      <a:lnTo>
                        <a:pt x="545" y="541"/>
                      </a:lnTo>
                      <a:lnTo>
                        <a:pt x="548" y="539"/>
                      </a:lnTo>
                      <a:lnTo>
                        <a:pt x="552" y="534"/>
                      </a:lnTo>
                      <a:lnTo>
                        <a:pt x="561" y="525"/>
                      </a:lnTo>
                      <a:lnTo>
                        <a:pt x="576" y="507"/>
                      </a:lnTo>
                      <a:lnTo>
                        <a:pt x="590" y="486"/>
                      </a:lnTo>
                      <a:lnTo>
                        <a:pt x="602" y="468"/>
                      </a:lnTo>
                      <a:lnTo>
                        <a:pt x="593" y="429"/>
                      </a:lnTo>
                      <a:lnTo>
                        <a:pt x="584" y="391"/>
                      </a:lnTo>
                      <a:lnTo>
                        <a:pt x="573" y="423"/>
                      </a:lnTo>
                      <a:lnTo>
                        <a:pt x="557" y="455"/>
                      </a:lnTo>
                      <a:lnTo>
                        <a:pt x="536" y="484"/>
                      </a:lnTo>
                      <a:lnTo>
                        <a:pt x="525" y="498"/>
                      </a:lnTo>
                      <a:lnTo>
                        <a:pt x="514" y="513"/>
                      </a:lnTo>
                      <a:lnTo>
                        <a:pt x="502" y="520"/>
                      </a:lnTo>
                      <a:lnTo>
                        <a:pt x="492" y="530"/>
                      </a:lnTo>
                      <a:lnTo>
                        <a:pt x="481" y="537"/>
                      </a:lnTo>
                      <a:lnTo>
                        <a:pt x="471" y="547"/>
                      </a:lnTo>
                      <a:lnTo>
                        <a:pt x="464" y="549"/>
                      </a:lnTo>
                      <a:lnTo>
                        <a:pt x="462" y="549"/>
                      </a:lnTo>
                      <a:lnTo>
                        <a:pt x="460" y="550"/>
                      </a:lnTo>
                      <a:lnTo>
                        <a:pt x="458" y="552"/>
                      </a:lnTo>
                      <a:lnTo>
                        <a:pt x="447" y="559"/>
                      </a:lnTo>
                      <a:lnTo>
                        <a:pt x="424" y="571"/>
                      </a:lnTo>
                      <a:lnTo>
                        <a:pt x="399" y="579"/>
                      </a:lnTo>
                      <a:lnTo>
                        <a:pt x="374" y="586"/>
                      </a:lnTo>
                      <a:lnTo>
                        <a:pt x="347" y="590"/>
                      </a:lnTo>
                      <a:lnTo>
                        <a:pt x="320" y="592"/>
                      </a:lnTo>
                      <a:lnTo>
                        <a:pt x="291" y="590"/>
                      </a:lnTo>
                      <a:lnTo>
                        <a:pt x="264" y="586"/>
                      </a:lnTo>
                      <a:lnTo>
                        <a:pt x="238" y="579"/>
                      </a:lnTo>
                      <a:lnTo>
                        <a:pt x="214" y="571"/>
                      </a:lnTo>
                      <a:lnTo>
                        <a:pt x="189" y="559"/>
                      </a:lnTo>
                      <a:lnTo>
                        <a:pt x="167" y="547"/>
                      </a:lnTo>
                      <a:lnTo>
                        <a:pt x="145" y="530"/>
                      </a:lnTo>
                      <a:lnTo>
                        <a:pt x="125" y="513"/>
                      </a:lnTo>
                      <a:lnTo>
                        <a:pt x="106" y="491"/>
                      </a:lnTo>
                      <a:lnTo>
                        <a:pt x="96" y="480"/>
                      </a:lnTo>
                      <a:lnTo>
                        <a:pt x="90" y="469"/>
                      </a:lnTo>
                      <a:lnTo>
                        <a:pt x="82" y="457"/>
                      </a:lnTo>
                      <a:lnTo>
                        <a:pt x="76" y="446"/>
                      </a:lnTo>
                      <a:lnTo>
                        <a:pt x="66" y="423"/>
                      </a:lnTo>
                      <a:lnTo>
                        <a:pt x="57" y="398"/>
                      </a:lnTo>
                      <a:lnTo>
                        <a:pt x="51" y="373"/>
                      </a:lnTo>
                      <a:lnTo>
                        <a:pt x="48" y="346"/>
                      </a:lnTo>
                      <a:lnTo>
                        <a:pt x="47" y="319"/>
                      </a:lnTo>
                      <a:lnTo>
                        <a:pt x="48" y="290"/>
                      </a:lnTo>
                      <a:lnTo>
                        <a:pt x="51" y="263"/>
                      </a:lnTo>
                      <a:lnTo>
                        <a:pt x="57" y="237"/>
                      </a:lnTo>
                      <a:lnTo>
                        <a:pt x="66" y="213"/>
                      </a:lnTo>
                      <a:lnTo>
                        <a:pt x="76" y="188"/>
                      </a:lnTo>
                      <a:lnTo>
                        <a:pt x="90" y="166"/>
                      </a:lnTo>
                      <a:lnTo>
                        <a:pt x="106" y="144"/>
                      </a:lnTo>
                      <a:lnTo>
                        <a:pt x="125" y="125"/>
                      </a:lnTo>
                      <a:lnTo>
                        <a:pt x="145" y="105"/>
                      </a:lnTo>
                      <a:lnTo>
                        <a:pt x="167" y="90"/>
                      </a:lnTo>
                      <a:lnTo>
                        <a:pt x="189" y="75"/>
                      </a:lnTo>
                      <a:lnTo>
                        <a:pt x="214" y="65"/>
                      </a:lnTo>
                      <a:lnTo>
                        <a:pt x="238" y="56"/>
                      </a:lnTo>
                      <a:lnTo>
                        <a:pt x="264" y="50"/>
                      </a:lnTo>
                      <a:lnTo>
                        <a:pt x="291" y="47"/>
                      </a:lnTo>
                      <a:lnTo>
                        <a:pt x="320" y="45"/>
                      </a:lnTo>
                      <a:lnTo>
                        <a:pt x="350" y="47"/>
                      </a:lnTo>
                      <a:lnTo>
                        <a:pt x="382" y="52"/>
                      </a:lnTo>
                      <a:lnTo>
                        <a:pt x="373" y="45"/>
                      </a:lnTo>
                      <a:lnTo>
                        <a:pt x="349" y="22"/>
                      </a:lnTo>
                      <a:lnTo>
                        <a:pt x="325" y="0"/>
                      </a:lnTo>
                      <a:lnTo>
                        <a:pt x="320" y="0"/>
                      </a:lnTo>
                      <a:lnTo>
                        <a:pt x="287" y="1"/>
                      </a:lnTo>
                      <a:lnTo>
                        <a:pt x="256" y="6"/>
                      </a:lnTo>
                      <a:lnTo>
                        <a:pt x="226" y="13"/>
                      </a:lnTo>
                      <a:lnTo>
                        <a:pt x="197" y="23"/>
                      </a:lnTo>
                      <a:lnTo>
                        <a:pt x="169" y="35"/>
                      </a:lnTo>
                      <a:lnTo>
                        <a:pt x="143" y="51"/>
                      </a:lnTo>
                      <a:lnTo>
                        <a:pt x="117" y="70"/>
                      </a:lnTo>
                      <a:lnTo>
                        <a:pt x="94" y="93"/>
                      </a:lnTo>
                      <a:lnTo>
                        <a:pt x="72" y="116"/>
                      </a:lnTo>
                      <a:lnTo>
                        <a:pt x="52" y="142"/>
                      </a:lnTo>
                      <a:lnTo>
                        <a:pt x="35" y="168"/>
                      </a:lnTo>
                      <a:lnTo>
                        <a:pt x="23" y="196"/>
                      </a:lnTo>
                      <a:lnTo>
                        <a:pt x="13" y="225"/>
                      </a:lnTo>
                      <a:lnTo>
                        <a:pt x="6" y="255"/>
                      </a:lnTo>
                      <a:lnTo>
                        <a:pt x="1" y="286"/>
                      </a:lnTo>
                      <a:lnTo>
                        <a:pt x="0" y="319"/>
                      </a:lnTo>
                      <a:lnTo>
                        <a:pt x="1" y="350"/>
                      </a:lnTo>
                      <a:lnTo>
                        <a:pt x="2" y="365"/>
                      </a:lnTo>
                      <a:lnTo>
                        <a:pt x="6" y="381"/>
                      </a:lnTo>
                      <a:lnTo>
                        <a:pt x="13" y="410"/>
                      </a:lnTo>
                      <a:lnTo>
                        <a:pt x="23" y="440"/>
                      </a:lnTo>
                      <a:lnTo>
                        <a:pt x="35" y="467"/>
                      </a:lnTo>
                      <a:lnTo>
                        <a:pt x="52" y="494"/>
                      </a:lnTo>
                      <a:lnTo>
                        <a:pt x="72" y="519"/>
                      </a:lnTo>
                      <a:lnTo>
                        <a:pt x="94" y="544"/>
                      </a:lnTo>
                      <a:lnTo>
                        <a:pt x="117" y="565"/>
                      </a:lnTo>
                      <a:lnTo>
                        <a:pt x="143" y="584"/>
                      </a:lnTo>
                      <a:lnTo>
                        <a:pt x="169" y="600"/>
                      </a:lnTo>
                      <a:lnTo>
                        <a:pt x="197" y="613"/>
                      </a:lnTo>
                      <a:lnTo>
                        <a:pt x="226" y="622"/>
                      </a:lnTo>
                      <a:lnTo>
                        <a:pt x="256" y="630"/>
                      </a:lnTo>
                      <a:lnTo>
                        <a:pt x="287" y="635"/>
                      </a:lnTo>
                      <a:lnTo>
                        <a:pt x="320" y="637"/>
                      </a:lnTo>
                      <a:lnTo>
                        <a:pt x="352" y="635"/>
                      </a:lnTo>
                      <a:lnTo>
                        <a:pt x="366" y="633"/>
                      </a:lnTo>
                      <a:lnTo>
                        <a:pt x="382" y="630"/>
                      </a:lnTo>
                      <a:lnTo>
                        <a:pt x="412" y="622"/>
                      </a:lnTo>
                      <a:lnTo>
                        <a:pt x="441" y="613"/>
                      </a:lnTo>
                      <a:lnTo>
                        <a:pt x="468" y="600"/>
                      </a:lnTo>
                      <a:lnTo>
                        <a:pt x="474" y="595"/>
                      </a:lnTo>
                      <a:lnTo>
                        <a:pt x="481" y="592"/>
                      </a:lnTo>
                      <a:lnTo>
                        <a:pt x="494" y="584"/>
                      </a:lnTo>
                      <a:lnTo>
                        <a:pt x="519" y="565"/>
                      </a:lnTo>
                      <a:lnTo>
                        <a:pt x="544" y="544"/>
                      </a:lnTo>
                      <a:close/>
                    </a:path>
                  </a:pathLst>
                </a:custGeom>
                <a:solidFill>
                  <a:srgbClr val="ff7c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44840" y="3295440"/>
                  <a:ext cx="240120" cy="292320"/>
                </a:xfrm>
                <a:custGeom>
                  <a:avLst/>
                  <a:gdLst/>
                  <a:ahLst/>
                  <a:rect l="l" t="t" r="r" b="b"/>
                  <a:pathLst>
                    <a:path w="841" h="1025">
                      <a:moveTo>
                        <a:pt x="336" y="22"/>
                      </a:moveTo>
                      <a:lnTo>
                        <a:pt x="278" y="0"/>
                      </a:lnTo>
                      <a:lnTo>
                        <a:pt x="246" y="20"/>
                      </a:lnTo>
                      <a:lnTo>
                        <a:pt x="217" y="41"/>
                      </a:lnTo>
                      <a:lnTo>
                        <a:pt x="188" y="65"/>
                      </a:lnTo>
                      <a:lnTo>
                        <a:pt x="161" y="91"/>
                      </a:lnTo>
                      <a:lnTo>
                        <a:pt x="123" y="131"/>
                      </a:lnTo>
                      <a:lnTo>
                        <a:pt x="90" y="174"/>
                      </a:lnTo>
                      <a:lnTo>
                        <a:pt x="63" y="218"/>
                      </a:lnTo>
                      <a:lnTo>
                        <a:pt x="40" y="267"/>
                      </a:lnTo>
                      <a:lnTo>
                        <a:pt x="22" y="316"/>
                      </a:lnTo>
                      <a:lnTo>
                        <a:pt x="9" y="368"/>
                      </a:lnTo>
                      <a:lnTo>
                        <a:pt x="2" y="421"/>
                      </a:lnTo>
                      <a:lnTo>
                        <a:pt x="0" y="478"/>
                      </a:lnTo>
                      <a:lnTo>
                        <a:pt x="0" y="505"/>
                      </a:lnTo>
                      <a:lnTo>
                        <a:pt x="2" y="533"/>
                      </a:lnTo>
                      <a:lnTo>
                        <a:pt x="5" y="559"/>
                      </a:lnTo>
                      <a:lnTo>
                        <a:pt x="9" y="586"/>
                      </a:lnTo>
                      <a:lnTo>
                        <a:pt x="14" y="611"/>
                      </a:lnTo>
                      <a:lnTo>
                        <a:pt x="22" y="638"/>
                      </a:lnTo>
                      <a:lnTo>
                        <a:pt x="40" y="687"/>
                      </a:lnTo>
                      <a:lnTo>
                        <a:pt x="50" y="710"/>
                      </a:lnTo>
                      <a:lnTo>
                        <a:pt x="63" y="734"/>
                      </a:lnTo>
                      <a:lnTo>
                        <a:pt x="90" y="779"/>
                      </a:lnTo>
                      <a:lnTo>
                        <a:pt x="123" y="822"/>
                      </a:lnTo>
                      <a:lnTo>
                        <a:pt x="141" y="843"/>
                      </a:lnTo>
                      <a:lnTo>
                        <a:pt x="161" y="864"/>
                      </a:lnTo>
                      <a:lnTo>
                        <a:pt x="201" y="901"/>
                      </a:lnTo>
                      <a:lnTo>
                        <a:pt x="221" y="918"/>
                      </a:lnTo>
                      <a:lnTo>
                        <a:pt x="244" y="933"/>
                      </a:lnTo>
                      <a:lnTo>
                        <a:pt x="288" y="961"/>
                      </a:lnTo>
                      <a:lnTo>
                        <a:pt x="312" y="973"/>
                      </a:lnTo>
                      <a:lnTo>
                        <a:pt x="337" y="984"/>
                      </a:lnTo>
                      <a:lnTo>
                        <a:pt x="361" y="994"/>
                      </a:lnTo>
                      <a:lnTo>
                        <a:pt x="386" y="1001"/>
                      </a:lnTo>
                      <a:lnTo>
                        <a:pt x="437" y="1015"/>
                      </a:lnTo>
                      <a:lnTo>
                        <a:pt x="490" y="1022"/>
                      </a:lnTo>
                      <a:lnTo>
                        <a:pt x="518" y="1024"/>
                      </a:lnTo>
                      <a:lnTo>
                        <a:pt x="548" y="1025"/>
                      </a:lnTo>
                      <a:lnTo>
                        <a:pt x="586" y="1023"/>
                      </a:lnTo>
                      <a:lnTo>
                        <a:pt x="625" y="1020"/>
                      </a:lnTo>
                      <a:lnTo>
                        <a:pt x="661" y="1013"/>
                      </a:lnTo>
                      <a:lnTo>
                        <a:pt x="679" y="1008"/>
                      </a:lnTo>
                      <a:lnTo>
                        <a:pt x="688" y="1006"/>
                      </a:lnTo>
                      <a:lnTo>
                        <a:pt x="693" y="1005"/>
                      </a:lnTo>
                      <a:lnTo>
                        <a:pt x="699" y="1005"/>
                      </a:lnTo>
                      <a:lnTo>
                        <a:pt x="733" y="992"/>
                      </a:lnTo>
                      <a:lnTo>
                        <a:pt x="750" y="986"/>
                      </a:lnTo>
                      <a:lnTo>
                        <a:pt x="768" y="980"/>
                      </a:lnTo>
                      <a:lnTo>
                        <a:pt x="784" y="971"/>
                      </a:lnTo>
                      <a:lnTo>
                        <a:pt x="792" y="966"/>
                      </a:lnTo>
                      <a:lnTo>
                        <a:pt x="801" y="963"/>
                      </a:lnTo>
                      <a:lnTo>
                        <a:pt x="817" y="954"/>
                      </a:lnTo>
                      <a:lnTo>
                        <a:pt x="824" y="949"/>
                      </a:lnTo>
                      <a:lnTo>
                        <a:pt x="834" y="946"/>
                      </a:lnTo>
                      <a:lnTo>
                        <a:pt x="835" y="930"/>
                      </a:lnTo>
                      <a:lnTo>
                        <a:pt x="837" y="915"/>
                      </a:lnTo>
                      <a:lnTo>
                        <a:pt x="841" y="886"/>
                      </a:lnTo>
                      <a:lnTo>
                        <a:pt x="807" y="906"/>
                      </a:lnTo>
                      <a:lnTo>
                        <a:pt x="773" y="925"/>
                      </a:lnTo>
                      <a:lnTo>
                        <a:pt x="755" y="933"/>
                      </a:lnTo>
                      <a:lnTo>
                        <a:pt x="746" y="937"/>
                      </a:lnTo>
                      <a:lnTo>
                        <a:pt x="738" y="941"/>
                      </a:lnTo>
                      <a:lnTo>
                        <a:pt x="720" y="948"/>
                      </a:lnTo>
                      <a:lnTo>
                        <a:pt x="703" y="955"/>
                      </a:lnTo>
                      <a:lnTo>
                        <a:pt x="684" y="959"/>
                      </a:lnTo>
                      <a:lnTo>
                        <a:pt x="666" y="964"/>
                      </a:lnTo>
                      <a:lnTo>
                        <a:pt x="627" y="972"/>
                      </a:lnTo>
                      <a:lnTo>
                        <a:pt x="607" y="974"/>
                      </a:lnTo>
                      <a:lnTo>
                        <a:pt x="588" y="977"/>
                      </a:lnTo>
                      <a:lnTo>
                        <a:pt x="567" y="978"/>
                      </a:lnTo>
                      <a:lnTo>
                        <a:pt x="557" y="978"/>
                      </a:lnTo>
                      <a:lnTo>
                        <a:pt x="548" y="979"/>
                      </a:lnTo>
                      <a:lnTo>
                        <a:pt x="521" y="978"/>
                      </a:lnTo>
                      <a:lnTo>
                        <a:pt x="496" y="975"/>
                      </a:lnTo>
                      <a:lnTo>
                        <a:pt x="447" y="969"/>
                      </a:lnTo>
                      <a:lnTo>
                        <a:pt x="398" y="957"/>
                      </a:lnTo>
                      <a:lnTo>
                        <a:pt x="354" y="941"/>
                      </a:lnTo>
                      <a:lnTo>
                        <a:pt x="310" y="921"/>
                      </a:lnTo>
                      <a:lnTo>
                        <a:pt x="269" y="896"/>
                      </a:lnTo>
                      <a:lnTo>
                        <a:pt x="229" y="867"/>
                      </a:lnTo>
                      <a:lnTo>
                        <a:pt x="192" y="833"/>
                      </a:lnTo>
                      <a:lnTo>
                        <a:pt x="157" y="794"/>
                      </a:lnTo>
                      <a:lnTo>
                        <a:pt x="141" y="774"/>
                      </a:lnTo>
                      <a:lnTo>
                        <a:pt x="127" y="754"/>
                      </a:lnTo>
                      <a:lnTo>
                        <a:pt x="114" y="733"/>
                      </a:lnTo>
                      <a:lnTo>
                        <a:pt x="102" y="712"/>
                      </a:lnTo>
                      <a:lnTo>
                        <a:pt x="82" y="669"/>
                      </a:lnTo>
                      <a:lnTo>
                        <a:pt x="73" y="645"/>
                      </a:lnTo>
                      <a:lnTo>
                        <a:pt x="66" y="623"/>
                      </a:lnTo>
                      <a:lnTo>
                        <a:pt x="59" y="599"/>
                      </a:lnTo>
                      <a:lnTo>
                        <a:pt x="55" y="576"/>
                      </a:lnTo>
                      <a:lnTo>
                        <a:pt x="50" y="551"/>
                      </a:lnTo>
                      <a:lnTo>
                        <a:pt x="48" y="528"/>
                      </a:lnTo>
                      <a:lnTo>
                        <a:pt x="46" y="478"/>
                      </a:lnTo>
                      <a:lnTo>
                        <a:pt x="48" y="425"/>
                      </a:lnTo>
                      <a:lnTo>
                        <a:pt x="55" y="377"/>
                      </a:lnTo>
                      <a:lnTo>
                        <a:pt x="66" y="329"/>
                      </a:lnTo>
                      <a:lnTo>
                        <a:pt x="82" y="285"/>
                      </a:lnTo>
                      <a:lnTo>
                        <a:pt x="102" y="241"/>
                      </a:lnTo>
                      <a:lnTo>
                        <a:pt x="127" y="200"/>
                      </a:lnTo>
                      <a:lnTo>
                        <a:pt x="157" y="160"/>
                      </a:lnTo>
                      <a:lnTo>
                        <a:pt x="192" y="123"/>
                      </a:lnTo>
                      <a:lnTo>
                        <a:pt x="225" y="91"/>
                      </a:lnTo>
                      <a:lnTo>
                        <a:pt x="260" y="65"/>
                      </a:lnTo>
                      <a:lnTo>
                        <a:pt x="296" y="41"/>
                      </a:lnTo>
                      <a:lnTo>
                        <a:pt x="336" y="22"/>
                      </a:lnTo>
                      <a:close/>
                    </a:path>
                  </a:pathLst>
                </a:custGeom>
                <a:solidFill>
                  <a:srgbClr val="ff64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131520" y="3291120"/>
                  <a:ext cx="250920" cy="309240"/>
                </a:xfrm>
                <a:custGeom>
                  <a:avLst/>
                  <a:gdLst/>
                  <a:ahLst/>
                  <a:rect l="l" t="t" r="r" b="b"/>
                  <a:pathLst>
                    <a:path w="879" h="1085">
                      <a:moveTo>
                        <a:pt x="323" y="16"/>
                      </a:moveTo>
                      <a:lnTo>
                        <a:pt x="264" y="0"/>
                      </a:lnTo>
                      <a:lnTo>
                        <a:pt x="239" y="15"/>
                      </a:lnTo>
                      <a:lnTo>
                        <a:pt x="216" y="33"/>
                      </a:lnTo>
                      <a:lnTo>
                        <a:pt x="194" y="53"/>
                      </a:lnTo>
                      <a:lnTo>
                        <a:pt x="173" y="74"/>
                      </a:lnTo>
                      <a:lnTo>
                        <a:pt x="131" y="118"/>
                      </a:lnTo>
                      <a:lnTo>
                        <a:pt x="96" y="165"/>
                      </a:lnTo>
                      <a:lnTo>
                        <a:pt x="67" y="214"/>
                      </a:lnTo>
                      <a:lnTo>
                        <a:pt x="43" y="266"/>
                      </a:lnTo>
                      <a:lnTo>
                        <a:pt x="24" y="319"/>
                      </a:lnTo>
                      <a:lnTo>
                        <a:pt x="10" y="375"/>
                      </a:lnTo>
                      <a:lnTo>
                        <a:pt x="2" y="432"/>
                      </a:lnTo>
                      <a:lnTo>
                        <a:pt x="0" y="494"/>
                      </a:lnTo>
                      <a:lnTo>
                        <a:pt x="0" y="523"/>
                      </a:lnTo>
                      <a:lnTo>
                        <a:pt x="2" y="554"/>
                      </a:lnTo>
                      <a:lnTo>
                        <a:pt x="4" y="582"/>
                      </a:lnTo>
                      <a:lnTo>
                        <a:pt x="10" y="612"/>
                      </a:lnTo>
                      <a:lnTo>
                        <a:pt x="16" y="639"/>
                      </a:lnTo>
                      <a:lnTo>
                        <a:pt x="24" y="667"/>
                      </a:lnTo>
                      <a:lnTo>
                        <a:pt x="32" y="693"/>
                      </a:lnTo>
                      <a:lnTo>
                        <a:pt x="43" y="720"/>
                      </a:lnTo>
                      <a:lnTo>
                        <a:pt x="53" y="745"/>
                      </a:lnTo>
                      <a:lnTo>
                        <a:pt x="67" y="771"/>
                      </a:lnTo>
                      <a:lnTo>
                        <a:pt x="80" y="795"/>
                      </a:lnTo>
                      <a:lnTo>
                        <a:pt x="96" y="820"/>
                      </a:lnTo>
                      <a:lnTo>
                        <a:pt x="112" y="843"/>
                      </a:lnTo>
                      <a:lnTo>
                        <a:pt x="131" y="867"/>
                      </a:lnTo>
                      <a:lnTo>
                        <a:pt x="151" y="889"/>
                      </a:lnTo>
                      <a:lnTo>
                        <a:pt x="173" y="913"/>
                      </a:lnTo>
                      <a:lnTo>
                        <a:pt x="195" y="934"/>
                      </a:lnTo>
                      <a:lnTo>
                        <a:pt x="218" y="953"/>
                      </a:lnTo>
                      <a:lnTo>
                        <a:pt x="240" y="971"/>
                      </a:lnTo>
                      <a:lnTo>
                        <a:pt x="264" y="988"/>
                      </a:lnTo>
                      <a:lnTo>
                        <a:pt x="313" y="1017"/>
                      </a:lnTo>
                      <a:lnTo>
                        <a:pt x="365" y="1042"/>
                      </a:lnTo>
                      <a:lnTo>
                        <a:pt x="418" y="1061"/>
                      </a:lnTo>
                      <a:lnTo>
                        <a:pt x="474" y="1074"/>
                      </a:lnTo>
                      <a:lnTo>
                        <a:pt x="502" y="1079"/>
                      </a:lnTo>
                      <a:lnTo>
                        <a:pt x="532" y="1082"/>
                      </a:lnTo>
                      <a:lnTo>
                        <a:pt x="561" y="1084"/>
                      </a:lnTo>
                      <a:lnTo>
                        <a:pt x="593" y="1085"/>
                      </a:lnTo>
                      <a:lnTo>
                        <a:pt x="629" y="1084"/>
                      </a:lnTo>
                      <a:lnTo>
                        <a:pt x="665" y="1081"/>
                      </a:lnTo>
                      <a:lnTo>
                        <a:pt x="673" y="1079"/>
                      </a:lnTo>
                      <a:lnTo>
                        <a:pt x="682" y="1078"/>
                      </a:lnTo>
                      <a:lnTo>
                        <a:pt x="701" y="1075"/>
                      </a:lnTo>
                      <a:lnTo>
                        <a:pt x="708" y="1073"/>
                      </a:lnTo>
                      <a:lnTo>
                        <a:pt x="718" y="1072"/>
                      </a:lnTo>
                      <a:lnTo>
                        <a:pt x="736" y="1070"/>
                      </a:lnTo>
                      <a:lnTo>
                        <a:pt x="752" y="1064"/>
                      </a:lnTo>
                      <a:lnTo>
                        <a:pt x="769" y="1059"/>
                      </a:lnTo>
                      <a:lnTo>
                        <a:pt x="784" y="1054"/>
                      </a:lnTo>
                      <a:lnTo>
                        <a:pt x="801" y="1049"/>
                      </a:lnTo>
                      <a:lnTo>
                        <a:pt x="833" y="1037"/>
                      </a:lnTo>
                      <a:lnTo>
                        <a:pt x="865" y="1022"/>
                      </a:lnTo>
                      <a:lnTo>
                        <a:pt x="879" y="962"/>
                      </a:lnTo>
                      <a:lnTo>
                        <a:pt x="869" y="965"/>
                      </a:lnTo>
                      <a:lnTo>
                        <a:pt x="862" y="970"/>
                      </a:lnTo>
                      <a:lnTo>
                        <a:pt x="846" y="979"/>
                      </a:lnTo>
                      <a:lnTo>
                        <a:pt x="837" y="982"/>
                      </a:lnTo>
                      <a:lnTo>
                        <a:pt x="829" y="987"/>
                      </a:lnTo>
                      <a:lnTo>
                        <a:pt x="813" y="996"/>
                      </a:lnTo>
                      <a:lnTo>
                        <a:pt x="795" y="1002"/>
                      </a:lnTo>
                      <a:lnTo>
                        <a:pt x="778" y="1008"/>
                      </a:lnTo>
                      <a:lnTo>
                        <a:pt x="744" y="1021"/>
                      </a:lnTo>
                      <a:lnTo>
                        <a:pt x="738" y="1021"/>
                      </a:lnTo>
                      <a:lnTo>
                        <a:pt x="733" y="1022"/>
                      </a:lnTo>
                      <a:lnTo>
                        <a:pt x="724" y="1024"/>
                      </a:lnTo>
                      <a:lnTo>
                        <a:pt x="706" y="1029"/>
                      </a:lnTo>
                      <a:lnTo>
                        <a:pt x="670" y="1036"/>
                      </a:lnTo>
                      <a:lnTo>
                        <a:pt x="631" y="1039"/>
                      </a:lnTo>
                      <a:lnTo>
                        <a:pt x="593" y="1041"/>
                      </a:lnTo>
                      <a:lnTo>
                        <a:pt x="563" y="1040"/>
                      </a:lnTo>
                      <a:lnTo>
                        <a:pt x="535" y="1038"/>
                      </a:lnTo>
                      <a:lnTo>
                        <a:pt x="482" y="1031"/>
                      </a:lnTo>
                      <a:lnTo>
                        <a:pt x="431" y="1017"/>
                      </a:lnTo>
                      <a:lnTo>
                        <a:pt x="406" y="1010"/>
                      </a:lnTo>
                      <a:lnTo>
                        <a:pt x="382" y="1000"/>
                      </a:lnTo>
                      <a:lnTo>
                        <a:pt x="357" y="989"/>
                      </a:lnTo>
                      <a:lnTo>
                        <a:pt x="333" y="977"/>
                      </a:lnTo>
                      <a:lnTo>
                        <a:pt x="289" y="949"/>
                      </a:lnTo>
                      <a:lnTo>
                        <a:pt x="266" y="934"/>
                      </a:lnTo>
                      <a:lnTo>
                        <a:pt x="246" y="917"/>
                      </a:lnTo>
                      <a:lnTo>
                        <a:pt x="206" y="880"/>
                      </a:lnTo>
                      <a:lnTo>
                        <a:pt x="186" y="859"/>
                      </a:lnTo>
                      <a:lnTo>
                        <a:pt x="168" y="838"/>
                      </a:lnTo>
                      <a:lnTo>
                        <a:pt x="135" y="795"/>
                      </a:lnTo>
                      <a:lnTo>
                        <a:pt x="108" y="750"/>
                      </a:lnTo>
                      <a:lnTo>
                        <a:pt x="95" y="726"/>
                      </a:lnTo>
                      <a:lnTo>
                        <a:pt x="85" y="703"/>
                      </a:lnTo>
                      <a:lnTo>
                        <a:pt x="67" y="654"/>
                      </a:lnTo>
                      <a:lnTo>
                        <a:pt x="59" y="627"/>
                      </a:lnTo>
                      <a:lnTo>
                        <a:pt x="54" y="602"/>
                      </a:lnTo>
                      <a:lnTo>
                        <a:pt x="50" y="575"/>
                      </a:lnTo>
                      <a:lnTo>
                        <a:pt x="47" y="549"/>
                      </a:lnTo>
                      <a:lnTo>
                        <a:pt x="45" y="521"/>
                      </a:lnTo>
                      <a:lnTo>
                        <a:pt x="45" y="494"/>
                      </a:lnTo>
                      <a:lnTo>
                        <a:pt x="47" y="437"/>
                      </a:lnTo>
                      <a:lnTo>
                        <a:pt x="54" y="384"/>
                      </a:lnTo>
                      <a:lnTo>
                        <a:pt x="67" y="332"/>
                      </a:lnTo>
                      <a:lnTo>
                        <a:pt x="85" y="283"/>
                      </a:lnTo>
                      <a:lnTo>
                        <a:pt x="108" y="234"/>
                      </a:lnTo>
                      <a:lnTo>
                        <a:pt x="135" y="190"/>
                      </a:lnTo>
                      <a:lnTo>
                        <a:pt x="168" y="147"/>
                      </a:lnTo>
                      <a:lnTo>
                        <a:pt x="206" y="107"/>
                      </a:lnTo>
                      <a:lnTo>
                        <a:pt x="233" y="81"/>
                      </a:lnTo>
                      <a:lnTo>
                        <a:pt x="262" y="57"/>
                      </a:lnTo>
                      <a:lnTo>
                        <a:pt x="291" y="36"/>
                      </a:lnTo>
                      <a:lnTo>
                        <a:pt x="323" y="16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105240" y="3285360"/>
                  <a:ext cx="269280" cy="341280"/>
                </a:xfrm>
                <a:custGeom>
                  <a:avLst/>
                  <a:gdLst/>
                  <a:ahLst/>
                  <a:rect l="l" t="t" r="r" b="b"/>
                  <a:pathLst>
                    <a:path w="941" h="1197">
                      <a:moveTo>
                        <a:pt x="234" y="62"/>
                      </a:moveTo>
                      <a:lnTo>
                        <a:pt x="263" y="33"/>
                      </a:lnTo>
                      <a:lnTo>
                        <a:pt x="296" y="7"/>
                      </a:lnTo>
                      <a:lnTo>
                        <a:pt x="264" y="2"/>
                      </a:lnTo>
                      <a:lnTo>
                        <a:pt x="234" y="0"/>
                      </a:lnTo>
                      <a:lnTo>
                        <a:pt x="217" y="14"/>
                      </a:lnTo>
                      <a:lnTo>
                        <a:pt x="201" y="30"/>
                      </a:lnTo>
                      <a:lnTo>
                        <a:pt x="152" y="81"/>
                      </a:lnTo>
                      <a:lnTo>
                        <a:pt x="112" y="134"/>
                      </a:lnTo>
                      <a:lnTo>
                        <a:pt x="93" y="161"/>
                      </a:lnTo>
                      <a:lnTo>
                        <a:pt x="77" y="191"/>
                      </a:lnTo>
                      <a:lnTo>
                        <a:pt x="50" y="251"/>
                      </a:lnTo>
                      <a:lnTo>
                        <a:pt x="37" y="280"/>
                      </a:lnTo>
                      <a:lnTo>
                        <a:pt x="27" y="312"/>
                      </a:lnTo>
                      <a:lnTo>
                        <a:pt x="12" y="376"/>
                      </a:lnTo>
                      <a:lnTo>
                        <a:pt x="2" y="443"/>
                      </a:lnTo>
                      <a:lnTo>
                        <a:pt x="0" y="477"/>
                      </a:lnTo>
                      <a:lnTo>
                        <a:pt x="0" y="514"/>
                      </a:lnTo>
                      <a:lnTo>
                        <a:pt x="0" y="548"/>
                      </a:lnTo>
                      <a:lnTo>
                        <a:pt x="2" y="582"/>
                      </a:lnTo>
                      <a:lnTo>
                        <a:pt x="6" y="615"/>
                      </a:lnTo>
                      <a:lnTo>
                        <a:pt x="12" y="649"/>
                      </a:lnTo>
                      <a:lnTo>
                        <a:pt x="18" y="680"/>
                      </a:lnTo>
                      <a:lnTo>
                        <a:pt x="27" y="712"/>
                      </a:lnTo>
                      <a:lnTo>
                        <a:pt x="37" y="743"/>
                      </a:lnTo>
                      <a:lnTo>
                        <a:pt x="50" y="774"/>
                      </a:lnTo>
                      <a:lnTo>
                        <a:pt x="62" y="803"/>
                      </a:lnTo>
                      <a:lnTo>
                        <a:pt x="77" y="832"/>
                      </a:lnTo>
                      <a:lnTo>
                        <a:pt x="93" y="861"/>
                      </a:lnTo>
                      <a:lnTo>
                        <a:pt x="112" y="890"/>
                      </a:lnTo>
                      <a:lnTo>
                        <a:pt x="130" y="916"/>
                      </a:lnTo>
                      <a:lnTo>
                        <a:pt x="152" y="943"/>
                      </a:lnTo>
                      <a:lnTo>
                        <a:pt x="175" y="969"/>
                      </a:lnTo>
                      <a:lnTo>
                        <a:pt x="201" y="997"/>
                      </a:lnTo>
                      <a:lnTo>
                        <a:pt x="226" y="1020"/>
                      </a:lnTo>
                      <a:lnTo>
                        <a:pt x="252" y="1043"/>
                      </a:lnTo>
                      <a:lnTo>
                        <a:pt x="305" y="1084"/>
                      </a:lnTo>
                      <a:lnTo>
                        <a:pt x="332" y="1101"/>
                      </a:lnTo>
                      <a:lnTo>
                        <a:pt x="362" y="1118"/>
                      </a:lnTo>
                      <a:lnTo>
                        <a:pt x="391" y="1133"/>
                      </a:lnTo>
                      <a:lnTo>
                        <a:pt x="422" y="1146"/>
                      </a:lnTo>
                      <a:lnTo>
                        <a:pt x="451" y="1158"/>
                      </a:lnTo>
                      <a:lnTo>
                        <a:pt x="483" y="1168"/>
                      </a:lnTo>
                      <a:lnTo>
                        <a:pt x="548" y="1184"/>
                      </a:lnTo>
                      <a:lnTo>
                        <a:pt x="581" y="1189"/>
                      </a:lnTo>
                      <a:lnTo>
                        <a:pt x="615" y="1194"/>
                      </a:lnTo>
                      <a:lnTo>
                        <a:pt x="649" y="1196"/>
                      </a:lnTo>
                      <a:lnTo>
                        <a:pt x="685" y="1197"/>
                      </a:lnTo>
                      <a:lnTo>
                        <a:pt x="714" y="1196"/>
                      </a:lnTo>
                      <a:lnTo>
                        <a:pt x="745" y="1194"/>
                      </a:lnTo>
                      <a:lnTo>
                        <a:pt x="774" y="1191"/>
                      </a:lnTo>
                      <a:lnTo>
                        <a:pt x="789" y="1188"/>
                      </a:lnTo>
                      <a:lnTo>
                        <a:pt x="805" y="1187"/>
                      </a:lnTo>
                      <a:lnTo>
                        <a:pt x="819" y="1184"/>
                      </a:lnTo>
                      <a:lnTo>
                        <a:pt x="833" y="1181"/>
                      </a:lnTo>
                      <a:lnTo>
                        <a:pt x="863" y="1176"/>
                      </a:lnTo>
                      <a:lnTo>
                        <a:pt x="890" y="1168"/>
                      </a:lnTo>
                      <a:lnTo>
                        <a:pt x="904" y="1163"/>
                      </a:lnTo>
                      <a:lnTo>
                        <a:pt x="910" y="1161"/>
                      </a:lnTo>
                      <a:lnTo>
                        <a:pt x="912" y="1160"/>
                      </a:lnTo>
                      <a:lnTo>
                        <a:pt x="914" y="1160"/>
                      </a:lnTo>
                      <a:lnTo>
                        <a:pt x="918" y="1160"/>
                      </a:lnTo>
                      <a:lnTo>
                        <a:pt x="941" y="1101"/>
                      </a:lnTo>
                      <a:lnTo>
                        <a:pt x="909" y="1112"/>
                      </a:lnTo>
                      <a:lnTo>
                        <a:pt x="893" y="1117"/>
                      </a:lnTo>
                      <a:lnTo>
                        <a:pt x="886" y="1119"/>
                      </a:lnTo>
                      <a:lnTo>
                        <a:pt x="879" y="1122"/>
                      </a:lnTo>
                      <a:lnTo>
                        <a:pt x="847" y="1130"/>
                      </a:lnTo>
                      <a:lnTo>
                        <a:pt x="831" y="1134"/>
                      </a:lnTo>
                      <a:lnTo>
                        <a:pt x="816" y="1138"/>
                      </a:lnTo>
                      <a:lnTo>
                        <a:pt x="799" y="1141"/>
                      </a:lnTo>
                      <a:lnTo>
                        <a:pt x="783" y="1144"/>
                      </a:lnTo>
                      <a:lnTo>
                        <a:pt x="752" y="1149"/>
                      </a:lnTo>
                      <a:lnTo>
                        <a:pt x="718" y="1151"/>
                      </a:lnTo>
                      <a:lnTo>
                        <a:pt x="701" y="1151"/>
                      </a:lnTo>
                      <a:lnTo>
                        <a:pt x="685" y="1152"/>
                      </a:lnTo>
                      <a:lnTo>
                        <a:pt x="651" y="1151"/>
                      </a:lnTo>
                      <a:lnTo>
                        <a:pt x="619" y="1149"/>
                      </a:lnTo>
                      <a:lnTo>
                        <a:pt x="557" y="1139"/>
                      </a:lnTo>
                      <a:lnTo>
                        <a:pt x="526" y="1133"/>
                      </a:lnTo>
                      <a:lnTo>
                        <a:pt x="497" y="1125"/>
                      </a:lnTo>
                      <a:lnTo>
                        <a:pt x="439" y="1104"/>
                      </a:lnTo>
                      <a:lnTo>
                        <a:pt x="383" y="1077"/>
                      </a:lnTo>
                      <a:lnTo>
                        <a:pt x="356" y="1061"/>
                      </a:lnTo>
                      <a:lnTo>
                        <a:pt x="331" y="1045"/>
                      </a:lnTo>
                      <a:lnTo>
                        <a:pt x="280" y="1007"/>
                      </a:lnTo>
                      <a:lnTo>
                        <a:pt x="234" y="964"/>
                      </a:lnTo>
                      <a:lnTo>
                        <a:pt x="210" y="939"/>
                      </a:lnTo>
                      <a:lnTo>
                        <a:pt x="188" y="915"/>
                      </a:lnTo>
                      <a:lnTo>
                        <a:pt x="168" y="890"/>
                      </a:lnTo>
                      <a:lnTo>
                        <a:pt x="151" y="865"/>
                      </a:lnTo>
                      <a:lnTo>
                        <a:pt x="133" y="838"/>
                      </a:lnTo>
                      <a:lnTo>
                        <a:pt x="118" y="812"/>
                      </a:lnTo>
                      <a:lnTo>
                        <a:pt x="104" y="785"/>
                      </a:lnTo>
                      <a:lnTo>
                        <a:pt x="93" y="757"/>
                      </a:lnTo>
                      <a:lnTo>
                        <a:pt x="81" y="728"/>
                      </a:lnTo>
                      <a:lnTo>
                        <a:pt x="71" y="700"/>
                      </a:lnTo>
                      <a:lnTo>
                        <a:pt x="63" y="669"/>
                      </a:lnTo>
                      <a:lnTo>
                        <a:pt x="58" y="639"/>
                      </a:lnTo>
                      <a:lnTo>
                        <a:pt x="52" y="608"/>
                      </a:lnTo>
                      <a:lnTo>
                        <a:pt x="49" y="577"/>
                      </a:lnTo>
                      <a:lnTo>
                        <a:pt x="46" y="545"/>
                      </a:lnTo>
                      <a:lnTo>
                        <a:pt x="46" y="514"/>
                      </a:lnTo>
                      <a:lnTo>
                        <a:pt x="46" y="480"/>
                      </a:lnTo>
                      <a:lnTo>
                        <a:pt x="49" y="448"/>
                      </a:lnTo>
                      <a:lnTo>
                        <a:pt x="58" y="386"/>
                      </a:lnTo>
                      <a:lnTo>
                        <a:pt x="71" y="325"/>
                      </a:lnTo>
                      <a:lnTo>
                        <a:pt x="93" y="268"/>
                      </a:lnTo>
                      <a:lnTo>
                        <a:pt x="118" y="212"/>
                      </a:lnTo>
                      <a:lnTo>
                        <a:pt x="133" y="185"/>
                      </a:lnTo>
                      <a:lnTo>
                        <a:pt x="151" y="160"/>
                      </a:lnTo>
                      <a:lnTo>
                        <a:pt x="188" y="109"/>
                      </a:lnTo>
                      <a:lnTo>
                        <a:pt x="234" y="62"/>
                      </a:lnTo>
                      <a:close/>
                    </a:path>
                  </a:pathLst>
                </a:custGeom>
                <a:solidFill>
                  <a:srgbClr val="ff55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118560" y="3286800"/>
                  <a:ext cx="259920" cy="326520"/>
                </a:xfrm>
                <a:custGeom>
                  <a:avLst/>
                  <a:gdLst/>
                  <a:ahLst/>
                  <a:rect l="l" t="t" r="r" b="b"/>
                  <a:pathLst>
                    <a:path w="911" h="1145">
                      <a:moveTo>
                        <a:pt x="250" y="0"/>
                      </a:moveTo>
                      <a:lnTo>
                        <a:pt x="217" y="26"/>
                      </a:lnTo>
                      <a:lnTo>
                        <a:pt x="188" y="55"/>
                      </a:lnTo>
                      <a:lnTo>
                        <a:pt x="142" y="102"/>
                      </a:lnTo>
                      <a:lnTo>
                        <a:pt x="105" y="153"/>
                      </a:lnTo>
                      <a:lnTo>
                        <a:pt x="87" y="178"/>
                      </a:lnTo>
                      <a:lnTo>
                        <a:pt x="72" y="205"/>
                      </a:lnTo>
                      <a:lnTo>
                        <a:pt x="47" y="261"/>
                      </a:lnTo>
                      <a:lnTo>
                        <a:pt x="25" y="318"/>
                      </a:lnTo>
                      <a:lnTo>
                        <a:pt x="12" y="379"/>
                      </a:lnTo>
                      <a:lnTo>
                        <a:pt x="3" y="441"/>
                      </a:lnTo>
                      <a:lnTo>
                        <a:pt x="0" y="473"/>
                      </a:lnTo>
                      <a:lnTo>
                        <a:pt x="0" y="507"/>
                      </a:lnTo>
                      <a:lnTo>
                        <a:pt x="0" y="538"/>
                      </a:lnTo>
                      <a:lnTo>
                        <a:pt x="3" y="570"/>
                      </a:lnTo>
                      <a:lnTo>
                        <a:pt x="6" y="601"/>
                      </a:lnTo>
                      <a:lnTo>
                        <a:pt x="12" y="632"/>
                      </a:lnTo>
                      <a:lnTo>
                        <a:pt x="17" y="662"/>
                      </a:lnTo>
                      <a:lnTo>
                        <a:pt x="25" y="693"/>
                      </a:lnTo>
                      <a:lnTo>
                        <a:pt x="35" y="721"/>
                      </a:lnTo>
                      <a:lnTo>
                        <a:pt x="47" y="750"/>
                      </a:lnTo>
                      <a:lnTo>
                        <a:pt x="58" y="778"/>
                      </a:lnTo>
                      <a:lnTo>
                        <a:pt x="72" y="805"/>
                      </a:lnTo>
                      <a:lnTo>
                        <a:pt x="87" y="831"/>
                      </a:lnTo>
                      <a:lnTo>
                        <a:pt x="105" y="858"/>
                      </a:lnTo>
                      <a:lnTo>
                        <a:pt x="122" y="883"/>
                      </a:lnTo>
                      <a:lnTo>
                        <a:pt x="142" y="908"/>
                      </a:lnTo>
                      <a:lnTo>
                        <a:pt x="164" y="932"/>
                      </a:lnTo>
                      <a:lnTo>
                        <a:pt x="188" y="957"/>
                      </a:lnTo>
                      <a:lnTo>
                        <a:pt x="234" y="1000"/>
                      </a:lnTo>
                      <a:lnTo>
                        <a:pt x="285" y="1038"/>
                      </a:lnTo>
                      <a:lnTo>
                        <a:pt x="310" y="1054"/>
                      </a:lnTo>
                      <a:lnTo>
                        <a:pt x="337" y="1070"/>
                      </a:lnTo>
                      <a:lnTo>
                        <a:pt x="393" y="1097"/>
                      </a:lnTo>
                      <a:lnTo>
                        <a:pt x="451" y="1118"/>
                      </a:lnTo>
                      <a:lnTo>
                        <a:pt x="480" y="1126"/>
                      </a:lnTo>
                      <a:lnTo>
                        <a:pt x="511" y="1132"/>
                      </a:lnTo>
                      <a:lnTo>
                        <a:pt x="573" y="1142"/>
                      </a:lnTo>
                      <a:lnTo>
                        <a:pt x="605" y="1144"/>
                      </a:lnTo>
                      <a:lnTo>
                        <a:pt x="639" y="1145"/>
                      </a:lnTo>
                      <a:lnTo>
                        <a:pt x="655" y="1144"/>
                      </a:lnTo>
                      <a:lnTo>
                        <a:pt x="672" y="1144"/>
                      </a:lnTo>
                      <a:lnTo>
                        <a:pt x="706" y="1142"/>
                      </a:lnTo>
                      <a:lnTo>
                        <a:pt x="737" y="1137"/>
                      </a:lnTo>
                      <a:lnTo>
                        <a:pt x="753" y="1134"/>
                      </a:lnTo>
                      <a:lnTo>
                        <a:pt x="770" y="1131"/>
                      </a:lnTo>
                      <a:lnTo>
                        <a:pt x="785" y="1127"/>
                      </a:lnTo>
                      <a:lnTo>
                        <a:pt x="801" y="1123"/>
                      </a:lnTo>
                      <a:lnTo>
                        <a:pt x="833" y="1115"/>
                      </a:lnTo>
                      <a:lnTo>
                        <a:pt x="840" y="1112"/>
                      </a:lnTo>
                      <a:lnTo>
                        <a:pt x="847" y="1110"/>
                      </a:lnTo>
                      <a:lnTo>
                        <a:pt x="863" y="1105"/>
                      </a:lnTo>
                      <a:lnTo>
                        <a:pt x="895" y="1094"/>
                      </a:lnTo>
                      <a:lnTo>
                        <a:pt x="911" y="1035"/>
                      </a:lnTo>
                      <a:lnTo>
                        <a:pt x="879" y="1050"/>
                      </a:lnTo>
                      <a:lnTo>
                        <a:pt x="847" y="1062"/>
                      </a:lnTo>
                      <a:lnTo>
                        <a:pt x="830" y="1067"/>
                      </a:lnTo>
                      <a:lnTo>
                        <a:pt x="815" y="1072"/>
                      </a:lnTo>
                      <a:lnTo>
                        <a:pt x="798" y="1077"/>
                      </a:lnTo>
                      <a:lnTo>
                        <a:pt x="782" y="1083"/>
                      </a:lnTo>
                      <a:lnTo>
                        <a:pt x="764" y="1085"/>
                      </a:lnTo>
                      <a:lnTo>
                        <a:pt x="754" y="1086"/>
                      </a:lnTo>
                      <a:lnTo>
                        <a:pt x="747" y="1088"/>
                      </a:lnTo>
                      <a:lnTo>
                        <a:pt x="728" y="1091"/>
                      </a:lnTo>
                      <a:lnTo>
                        <a:pt x="719" y="1092"/>
                      </a:lnTo>
                      <a:lnTo>
                        <a:pt x="711" y="1094"/>
                      </a:lnTo>
                      <a:lnTo>
                        <a:pt x="675" y="1097"/>
                      </a:lnTo>
                      <a:lnTo>
                        <a:pt x="639" y="1098"/>
                      </a:lnTo>
                      <a:lnTo>
                        <a:pt x="607" y="1097"/>
                      </a:lnTo>
                      <a:lnTo>
                        <a:pt x="578" y="1095"/>
                      </a:lnTo>
                      <a:lnTo>
                        <a:pt x="548" y="1092"/>
                      </a:lnTo>
                      <a:lnTo>
                        <a:pt x="520" y="1087"/>
                      </a:lnTo>
                      <a:lnTo>
                        <a:pt x="464" y="1074"/>
                      </a:lnTo>
                      <a:lnTo>
                        <a:pt x="411" y="1055"/>
                      </a:lnTo>
                      <a:lnTo>
                        <a:pt x="359" y="1030"/>
                      </a:lnTo>
                      <a:lnTo>
                        <a:pt x="310" y="1001"/>
                      </a:lnTo>
                      <a:lnTo>
                        <a:pt x="286" y="984"/>
                      </a:lnTo>
                      <a:lnTo>
                        <a:pt x="264" y="966"/>
                      </a:lnTo>
                      <a:lnTo>
                        <a:pt x="241" y="947"/>
                      </a:lnTo>
                      <a:lnTo>
                        <a:pt x="219" y="926"/>
                      </a:lnTo>
                      <a:lnTo>
                        <a:pt x="197" y="902"/>
                      </a:lnTo>
                      <a:lnTo>
                        <a:pt x="177" y="880"/>
                      </a:lnTo>
                      <a:lnTo>
                        <a:pt x="158" y="856"/>
                      </a:lnTo>
                      <a:lnTo>
                        <a:pt x="142" y="833"/>
                      </a:lnTo>
                      <a:lnTo>
                        <a:pt x="126" y="808"/>
                      </a:lnTo>
                      <a:lnTo>
                        <a:pt x="113" y="784"/>
                      </a:lnTo>
                      <a:lnTo>
                        <a:pt x="99" y="758"/>
                      </a:lnTo>
                      <a:lnTo>
                        <a:pt x="89" y="733"/>
                      </a:lnTo>
                      <a:lnTo>
                        <a:pt x="78" y="706"/>
                      </a:lnTo>
                      <a:lnTo>
                        <a:pt x="70" y="680"/>
                      </a:lnTo>
                      <a:lnTo>
                        <a:pt x="62" y="652"/>
                      </a:lnTo>
                      <a:lnTo>
                        <a:pt x="56" y="625"/>
                      </a:lnTo>
                      <a:lnTo>
                        <a:pt x="50" y="595"/>
                      </a:lnTo>
                      <a:lnTo>
                        <a:pt x="48" y="567"/>
                      </a:lnTo>
                      <a:lnTo>
                        <a:pt x="46" y="536"/>
                      </a:lnTo>
                      <a:lnTo>
                        <a:pt x="46" y="507"/>
                      </a:lnTo>
                      <a:lnTo>
                        <a:pt x="48" y="445"/>
                      </a:lnTo>
                      <a:lnTo>
                        <a:pt x="56" y="388"/>
                      </a:lnTo>
                      <a:lnTo>
                        <a:pt x="70" y="332"/>
                      </a:lnTo>
                      <a:lnTo>
                        <a:pt x="89" y="279"/>
                      </a:lnTo>
                      <a:lnTo>
                        <a:pt x="113" y="227"/>
                      </a:lnTo>
                      <a:lnTo>
                        <a:pt x="142" y="178"/>
                      </a:lnTo>
                      <a:lnTo>
                        <a:pt x="177" y="131"/>
                      </a:lnTo>
                      <a:lnTo>
                        <a:pt x="219" y="87"/>
                      </a:lnTo>
                      <a:lnTo>
                        <a:pt x="240" y="66"/>
                      </a:lnTo>
                      <a:lnTo>
                        <a:pt x="262" y="46"/>
                      </a:lnTo>
                      <a:lnTo>
                        <a:pt x="285" y="28"/>
                      </a:lnTo>
                      <a:lnTo>
                        <a:pt x="310" y="13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ff5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092640" y="3283560"/>
                  <a:ext cx="275040" cy="356040"/>
                </a:xfrm>
                <a:custGeom>
                  <a:avLst/>
                  <a:gdLst/>
                  <a:ahLst/>
                  <a:rect l="l" t="t" r="r" b="b"/>
                  <a:pathLst>
                    <a:path w="962" h="1248">
                      <a:moveTo>
                        <a:pt x="245" y="35"/>
                      </a:moveTo>
                      <a:lnTo>
                        <a:pt x="261" y="19"/>
                      </a:lnTo>
                      <a:lnTo>
                        <a:pt x="278" y="5"/>
                      </a:lnTo>
                      <a:lnTo>
                        <a:pt x="246" y="2"/>
                      </a:lnTo>
                      <a:lnTo>
                        <a:pt x="214" y="0"/>
                      </a:lnTo>
                      <a:lnTo>
                        <a:pt x="212" y="0"/>
                      </a:lnTo>
                      <a:lnTo>
                        <a:pt x="212" y="2"/>
                      </a:lnTo>
                      <a:lnTo>
                        <a:pt x="185" y="28"/>
                      </a:lnTo>
                      <a:lnTo>
                        <a:pt x="161" y="56"/>
                      </a:lnTo>
                      <a:lnTo>
                        <a:pt x="118" y="114"/>
                      </a:lnTo>
                      <a:lnTo>
                        <a:pt x="80" y="174"/>
                      </a:lnTo>
                      <a:lnTo>
                        <a:pt x="64" y="205"/>
                      </a:lnTo>
                      <a:lnTo>
                        <a:pt x="52" y="237"/>
                      </a:lnTo>
                      <a:lnTo>
                        <a:pt x="38" y="269"/>
                      </a:lnTo>
                      <a:lnTo>
                        <a:pt x="28" y="303"/>
                      </a:lnTo>
                      <a:lnTo>
                        <a:pt x="12" y="372"/>
                      </a:lnTo>
                      <a:lnTo>
                        <a:pt x="2" y="444"/>
                      </a:lnTo>
                      <a:lnTo>
                        <a:pt x="0" y="480"/>
                      </a:lnTo>
                      <a:lnTo>
                        <a:pt x="0" y="519"/>
                      </a:lnTo>
                      <a:lnTo>
                        <a:pt x="0" y="555"/>
                      </a:lnTo>
                      <a:lnTo>
                        <a:pt x="2" y="592"/>
                      </a:lnTo>
                      <a:lnTo>
                        <a:pt x="5" y="627"/>
                      </a:lnTo>
                      <a:lnTo>
                        <a:pt x="12" y="664"/>
                      </a:lnTo>
                      <a:lnTo>
                        <a:pt x="19" y="698"/>
                      </a:lnTo>
                      <a:lnTo>
                        <a:pt x="28" y="732"/>
                      </a:lnTo>
                      <a:lnTo>
                        <a:pt x="38" y="765"/>
                      </a:lnTo>
                      <a:lnTo>
                        <a:pt x="52" y="799"/>
                      </a:lnTo>
                      <a:lnTo>
                        <a:pt x="64" y="829"/>
                      </a:lnTo>
                      <a:lnTo>
                        <a:pt x="80" y="861"/>
                      </a:lnTo>
                      <a:lnTo>
                        <a:pt x="97" y="892"/>
                      </a:lnTo>
                      <a:lnTo>
                        <a:pt x="118" y="922"/>
                      </a:lnTo>
                      <a:lnTo>
                        <a:pt x="138" y="951"/>
                      </a:lnTo>
                      <a:lnTo>
                        <a:pt x="161" y="979"/>
                      </a:lnTo>
                      <a:lnTo>
                        <a:pt x="185" y="1006"/>
                      </a:lnTo>
                      <a:lnTo>
                        <a:pt x="212" y="1035"/>
                      </a:lnTo>
                      <a:lnTo>
                        <a:pt x="238" y="1059"/>
                      </a:lnTo>
                      <a:lnTo>
                        <a:pt x="266" y="1083"/>
                      </a:lnTo>
                      <a:lnTo>
                        <a:pt x="295" y="1106"/>
                      </a:lnTo>
                      <a:lnTo>
                        <a:pt x="324" y="1127"/>
                      </a:lnTo>
                      <a:lnTo>
                        <a:pt x="384" y="1164"/>
                      </a:lnTo>
                      <a:lnTo>
                        <a:pt x="415" y="1180"/>
                      </a:lnTo>
                      <a:lnTo>
                        <a:pt x="448" y="1194"/>
                      </a:lnTo>
                      <a:lnTo>
                        <a:pt x="479" y="1206"/>
                      </a:lnTo>
                      <a:lnTo>
                        <a:pt x="513" y="1217"/>
                      </a:lnTo>
                      <a:lnTo>
                        <a:pt x="547" y="1226"/>
                      </a:lnTo>
                      <a:lnTo>
                        <a:pt x="583" y="1234"/>
                      </a:lnTo>
                      <a:lnTo>
                        <a:pt x="618" y="1240"/>
                      </a:lnTo>
                      <a:lnTo>
                        <a:pt x="654" y="1244"/>
                      </a:lnTo>
                      <a:lnTo>
                        <a:pt x="690" y="1247"/>
                      </a:lnTo>
                      <a:lnTo>
                        <a:pt x="729" y="1248"/>
                      </a:lnTo>
                      <a:lnTo>
                        <a:pt x="781" y="1245"/>
                      </a:lnTo>
                      <a:lnTo>
                        <a:pt x="833" y="1241"/>
                      </a:lnTo>
                      <a:lnTo>
                        <a:pt x="858" y="1236"/>
                      </a:lnTo>
                      <a:lnTo>
                        <a:pt x="884" y="1232"/>
                      </a:lnTo>
                      <a:lnTo>
                        <a:pt x="909" y="1226"/>
                      </a:lnTo>
                      <a:lnTo>
                        <a:pt x="915" y="1224"/>
                      </a:lnTo>
                      <a:lnTo>
                        <a:pt x="922" y="1223"/>
                      </a:lnTo>
                      <a:lnTo>
                        <a:pt x="935" y="1220"/>
                      </a:lnTo>
                      <a:lnTo>
                        <a:pt x="949" y="1192"/>
                      </a:lnTo>
                      <a:lnTo>
                        <a:pt x="962" y="1165"/>
                      </a:lnTo>
                      <a:lnTo>
                        <a:pt x="958" y="1165"/>
                      </a:lnTo>
                      <a:lnTo>
                        <a:pt x="956" y="1165"/>
                      </a:lnTo>
                      <a:lnTo>
                        <a:pt x="954" y="1166"/>
                      </a:lnTo>
                      <a:lnTo>
                        <a:pt x="948" y="1168"/>
                      </a:lnTo>
                      <a:lnTo>
                        <a:pt x="934" y="1173"/>
                      </a:lnTo>
                      <a:lnTo>
                        <a:pt x="907" y="1181"/>
                      </a:lnTo>
                      <a:lnTo>
                        <a:pt x="877" y="1186"/>
                      </a:lnTo>
                      <a:lnTo>
                        <a:pt x="863" y="1189"/>
                      </a:lnTo>
                      <a:lnTo>
                        <a:pt x="849" y="1192"/>
                      </a:lnTo>
                      <a:lnTo>
                        <a:pt x="833" y="1193"/>
                      </a:lnTo>
                      <a:lnTo>
                        <a:pt x="818" y="1196"/>
                      </a:lnTo>
                      <a:lnTo>
                        <a:pt x="789" y="1199"/>
                      </a:lnTo>
                      <a:lnTo>
                        <a:pt x="758" y="1201"/>
                      </a:lnTo>
                      <a:lnTo>
                        <a:pt x="729" y="1202"/>
                      </a:lnTo>
                      <a:lnTo>
                        <a:pt x="693" y="1201"/>
                      </a:lnTo>
                      <a:lnTo>
                        <a:pt x="659" y="1199"/>
                      </a:lnTo>
                      <a:lnTo>
                        <a:pt x="625" y="1194"/>
                      </a:lnTo>
                      <a:lnTo>
                        <a:pt x="592" y="1189"/>
                      </a:lnTo>
                      <a:lnTo>
                        <a:pt x="527" y="1173"/>
                      </a:lnTo>
                      <a:lnTo>
                        <a:pt x="495" y="1163"/>
                      </a:lnTo>
                      <a:lnTo>
                        <a:pt x="466" y="1151"/>
                      </a:lnTo>
                      <a:lnTo>
                        <a:pt x="435" y="1138"/>
                      </a:lnTo>
                      <a:lnTo>
                        <a:pt x="406" y="1123"/>
                      </a:lnTo>
                      <a:lnTo>
                        <a:pt x="376" y="1106"/>
                      </a:lnTo>
                      <a:lnTo>
                        <a:pt x="349" y="1089"/>
                      </a:lnTo>
                      <a:lnTo>
                        <a:pt x="296" y="1048"/>
                      </a:lnTo>
                      <a:lnTo>
                        <a:pt x="270" y="1025"/>
                      </a:lnTo>
                      <a:lnTo>
                        <a:pt x="245" y="1002"/>
                      </a:lnTo>
                      <a:lnTo>
                        <a:pt x="219" y="974"/>
                      </a:lnTo>
                      <a:lnTo>
                        <a:pt x="196" y="948"/>
                      </a:lnTo>
                      <a:lnTo>
                        <a:pt x="174" y="921"/>
                      </a:lnTo>
                      <a:lnTo>
                        <a:pt x="156" y="895"/>
                      </a:lnTo>
                      <a:lnTo>
                        <a:pt x="137" y="866"/>
                      </a:lnTo>
                      <a:lnTo>
                        <a:pt x="121" y="837"/>
                      </a:lnTo>
                      <a:lnTo>
                        <a:pt x="106" y="808"/>
                      </a:lnTo>
                      <a:lnTo>
                        <a:pt x="94" y="779"/>
                      </a:lnTo>
                      <a:lnTo>
                        <a:pt x="81" y="748"/>
                      </a:lnTo>
                      <a:lnTo>
                        <a:pt x="71" y="717"/>
                      </a:lnTo>
                      <a:lnTo>
                        <a:pt x="62" y="685"/>
                      </a:lnTo>
                      <a:lnTo>
                        <a:pt x="56" y="654"/>
                      </a:lnTo>
                      <a:lnTo>
                        <a:pt x="50" y="620"/>
                      </a:lnTo>
                      <a:lnTo>
                        <a:pt x="46" y="587"/>
                      </a:lnTo>
                      <a:lnTo>
                        <a:pt x="44" y="553"/>
                      </a:lnTo>
                      <a:lnTo>
                        <a:pt x="44" y="519"/>
                      </a:lnTo>
                      <a:lnTo>
                        <a:pt x="44" y="482"/>
                      </a:lnTo>
                      <a:lnTo>
                        <a:pt x="46" y="448"/>
                      </a:lnTo>
                      <a:lnTo>
                        <a:pt x="56" y="381"/>
                      </a:lnTo>
                      <a:lnTo>
                        <a:pt x="71" y="317"/>
                      </a:lnTo>
                      <a:lnTo>
                        <a:pt x="81" y="285"/>
                      </a:lnTo>
                      <a:lnTo>
                        <a:pt x="94" y="256"/>
                      </a:lnTo>
                      <a:lnTo>
                        <a:pt x="121" y="196"/>
                      </a:lnTo>
                      <a:lnTo>
                        <a:pt x="137" y="166"/>
                      </a:lnTo>
                      <a:lnTo>
                        <a:pt x="156" y="139"/>
                      </a:lnTo>
                      <a:lnTo>
                        <a:pt x="196" y="86"/>
                      </a:lnTo>
                      <a:lnTo>
                        <a:pt x="245" y="35"/>
                      </a:lnTo>
                      <a:close/>
                    </a:path>
                  </a:pathLst>
                </a:custGeom>
                <a:solidFill>
                  <a:srgbClr val="ff51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157440" y="3301200"/>
                  <a:ext cx="228600" cy="273600"/>
                </a:xfrm>
                <a:custGeom>
                  <a:avLst/>
                  <a:gdLst/>
                  <a:ahLst/>
                  <a:rect l="l" t="t" r="r" b="b"/>
                  <a:pathLst>
                    <a:path w="799" h="957">
                      <a:moveTo>
                        <a:pt x="290" y="0"/>
                      </a:moveTo>
                      <a:lnTo>
                        <a:pt x="250" y="19"/>
                      </a:lnTo>
                      <a:lnTo>
                        <a:pt x="214" y="43"/>
                      </a:lnTo>
                      <a:lnTo>
                        <a:pt x="179" y="69"/>
                      </a:lnTo>
                      <a:lnTo>
                        <a:pt x="146" y="101"/>
                      </a:lnTo>
                      <a:lnTo>
                        <a:pt x="111" y="138"/>
                      </a:lnTo>
                      <a:lnTo>
                        <a:pt x="81" y="178"/>
                      </a:lnTo>
                      <a:lnTo>
                        <a:pt x="56" y="219"/>
                      </a:lnTo>
                      <a:lnTo>
                        <a:pt x="36" y="263"/>
                      </a:lnTo>
                      <a:lnTo>
                        <a:pt x="20" y="307"/>
                      </a:lnTo>
                      <a:lnTo>
                        <a:pt x="9" y="355"/>
                      </a:lnTo>
                      <a:lnTo>
                        <a:pt x="2" y="403"/>
                      </a:lnTo>
                      <a:lnTo>
                        <a:pt x="0" y="456"/>
                      </a:lnTo>
                      <a:lnTo>
                        <a:pt x="2" y="506"/>
                      </a:lnTo>
                      <a:lnTo>
                        <a:pt x="4" y="529"/>
                      </a:lnTo>
                      <a:lnTo>
                        <a:pt x="9" y="554"/>
                      </a:lnTo>
                      <a:lnTo>
                        <a:pt x="13" y="577"/>
                      </a:lnTo>
                      <a:lnTo>
                        <a:pt x="20" y="601"/>
                      </a:lnTo>
                      <a:lnTo>
                        <a:pt x="27" y="623"/>
                      </a:lnTo>
                      <a:lnTo>
                        <a:pt x="36" y="647"/>
                      </a:lnTo>
                      <a:lnTo>
                        <a:pt x="56" y="690"/>
                      </a:lnTo>
                      <a:lnTo>
                        <a:pt x="68" y="711"/>
                      </a:lnTo>
                      <a:lnTo>
                        <a:pt x="81" y="732"/>
                      </a:lnTo>
                      <a:lnTo>
                        <a:pt x="95" y="752"/>
                      </a:lnTo>
                      <a:lnTo>
                        <a:pt x="111" y="772"/>
                      </a:lnTo>
                      <a:lnTo>
                        <a:pt x="146" y="811"/>
                      </a:lnTo>
                      <a:lnTo>
                        <a:pt x="183" y="845"/>
                      </a:lnTo>
                      <a:lnTo>
                        <a:pt x="223" y="874"/>
                      </a:lnTo>
                      <a:lnTo>
                        <a:pt x="264" y="899"/>
                      </a:lnTo>
                      <a:lnTo>
                        <a:pt x="308" y="919"/>
                      </a:lnTo>
                      <a:lnTo>
                        <a:pt x="352" y="935"/>
                      </a:lnTo>
                      <a:lnTo>
                        <a:pt x="401" y="947"/>
                      </a:lnTo>
                      <a:lnTo>
                        <a:pt x="450" y="953"/>
                      </a:lnTo>
                      <a:lnTo>
                        <a:pt x="475" y="956"/>
                      </a:lnTo>
                      <a:lnTo>
                        <a:pt x="502" y="957"/>
                      </a:lnTo>
                      <a:lnTo>
                        <a:pt x="511" y="956"/>
                      </a:lnTo>
                      <a:lnTo>
                        <a:pt x="521" y="956"/>
                      </a:lnTo>
                      <a:lnTo>
                        <a:pt x="542" y="955"/>
                      </a:lnTo>
                      <a:lnTo>
                        <a:pt x="561" y="952"/>
                      </a:lnTo>
                      <a:lnTo>
                        <a:pt x="581" y="950"/>
                      </a:lnTo>
                      <a:lnTo>
                        <a:pt x="620" y="942"/>
                      </a:lnTo>
                      <a:lnTo>
                        <a:pt x="638" y="937"/>
                      </a:lnTo>
                      <a:lnTo>
                        <a:pt x="657" y="933"/>
                      </a:lnTo>
                      <a:lnTo>
                        <a:pt x="674" y="926"/>
                      </a:lnTo>
                      <a:lnTo>
                        <a:pt x="692" y="919"/>
                      </a:lnTo>
                      <a:lnTo>
                        <a:pt x="700" y="915"/>
                      </a:lnTo>
                      <a:lnTo>
                        <a:pt x="709" y="911"/>
                      </a:lnTo>
                      <a:lnTo>
                        <a:pt x="727" y="903"/>
                      </a:lnTo>
                      <a:lnTo>
                        <a:pt x="761" y="884"/>
                      </a:lnTo>
                      <a:lnTo>
                        <a:pt x="795" y="864"/>
                      </a:lnTo>
                      <a:lnTo>
                        <a:pt x="799" y="801"/>
                      </a:lnTo>
                      <a:lnTo>
                        <a:pt x="790" y="807"/>
                      </a:lnTo>
                      <a:lnTo>
                        <a:pt x="782" y="814"/>
                      </a:lnTo>
                      <a:lnTo>
                        <a:pt x="766" y="826"/>
                      </a:lnTo>
                      <a:lnTo>
                        <a:pt x="749" y="838"/>
                      </a:lnTo>
                      <a:lnTo>
                        <a:pt x="733" y="849"/>
                      </a:lnTo>
                      <a:lnTo>
                        <a:pt x="715" y="858"/>
                      </a:lnTo>
                      <a:lnTo>
                        <a:pt x="698" y="867"/>
                      </a:lnTo>
                      <a:lnTo>
                        <a:pt x="662" y="883"/>
                      </a:lnTo>
                      <a:lnTo>
                        <a:pt x="623" y="894"/>
                      </a:lnTo>
                      <a:lnTo>
                        <a:pt x="585" y="903"/>
                      </a:lnTo>
                      <a:lnTo>
                        <a:pt x="544" y="909"/>
                      </a:lnTo>
                      <a:lnTo>
                        <a:pt x="532" y="909"/>
                      </a:lnTo>
                      <a:lnTo>
                        <a:pt x="527" y="909"/>
                      </a:lnTo>
                      <a:lnTo>
                        <a:pt x="522" y="910"/>
                      </a:lnTo>
                      <a:lnTo>
                        <a:pt x="502" y="911"/>
                      </a:lnTo>
                      <a:lnTo>
                        <a:pt x="454" y="909"/>
                      </a:lnTo>
                      <a:lnTo>
                        <a:pt x="410" y="902"/>
                      </a:lnTo>
                      <a:lnTo>
                        <a:pt x="366" y="891"/>
                      </a:lnTo>
                      <a:lnTo>
                        <a:pt x="326" y="877"/>
                      </a:lnTo>
                      <a:lnTo>
                        <a:pt x="285" y="858"/>
                      </a:lnTo>
                      <a:lnTo>
                        <a:pt x="248" y="835"/>
                      </a:lnTo>
                      <a:lnTo>
                        <a:pt x="212" y="808"/>
                      </a:lnTo>
                      <a:lnTo>
                        <a:pt x="179" y="778"/>
                      </a:lnTo>
                      <a:lnTo>
                        <a:pt x="162" y="759"/>
                      </a:lnTo>
                      <a:lnTo>
                        <a:pt x="147" y="742"/>
                      </a:lnTo>
                      <a:lnTo>
                        <a:pt x="120" y="706"/>
                      </a:lnTo>
                      <a:lnTo>
                        <a:pt x="107" y="687"/>
                      </a:lnTo>
                      <a:lnTo>
                        <a:pt x="97" y="669"/>
                      </a:lnTo>
                      <a:lnTo>
                        <a:pt x="79" y="630"/>
                      </a:lnTo>
                      <a:lnTo>
                        <a:pt x="70" y="609"/>
                      </a:lnTo>
                      <a:lnTo>
                        <a:pt x="63" y="588"/>
                      </a:lnTo>
                      <a:lnTo>
                        <a:pt x="54" y="545"/>
                      </a:lnTo>
                      <a:lnTo>
                        <a:pt x="49" y="523"/>
                      </a:lnTo>
                      <a:lnTo>
                        <a:pt x="47" y="501"/>
                      </a:lnTo>
                      <a:lnTo>
                        <a:pt x="46" y="456"/>
                      </a:lnTo>
                      <a:lnTo>
                        <a:pt x="47" y="408"/>
                      </a:lnTo>
                      <a:lnTo>
                        <a:pt x="54" y="364"/>
                      </a:lnTo>
                      <a:lnTo>
                        <a:pt x="63" y="320"/>
                      </a:lnTo>
                      <a:lnTo>
                        <a:pt x="79" y="280"/>
                      </a:lnTo>
                      <a:lnTo>
                        <a:pt x="97" y="240"/>
                      </a:lnTo>
                      <a:lnTo>
                        <a:pt x="120" y="203"/>
                      </a:lnTo>
                      <a:lnTo>
                        <a:pt x="147" y="167"/>
                      </a:lnTo>
                      <a:lnTo>
                        <a:pt x="179" y="134"/>
                      </a:lnTo>
                      <a:lnTo>
                        <a:pt x="216" y="98"/>
                      </a:lnTo>
                      <a:lnTo>
                        <a:pt x="257" y="69"/>
                      </a:lnTo>
                      <a:lnTo>
                        <a:pt x="299" y="44"/>
                      </a:lnTo>
                      <a:lnTo>
                        <a:pt x="345" y="26"/>
                      </a:lnTo>
                      <a:lnTo>
                        <a:pt x="290" y="0"/>
                      </a:lnTo>
                      <a:close/>
                    </a:path>
                  </a:pathLst>
                </a:custGeom>
                <a:solidFill>
                  <a:srgbClr val="ff69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74920" y="3332160"/>
                  <a:ext cx="270360" cy="416160"/>
                </a:xfrm>
                <a:custGeom>
                  <a:avLst/>
                  <a:gdLst/>
                  <a:ahLst/>
                  <a:rect l="l" t="t" r="r" b="b"/>
                  <a:pathLst>
                    <a:path w="946" h="1458">
                      <a:moveTo>
                        <a:pt x="865" y="1458"/>
                      </a:moveTo>
                      <a:lnTo>
                        <a:pt x="906" y="1444"/>
                      </a:lnTo>
                      <a:lnTo>
                        <a:pt x="946" y="1428"/>
                      </a:lnTo>
                      <a:lnTo>
                        <a:pt x="904" y="1419"/>
                      </a:lnTo>
                      <a:lnTo>
                        <a:pt x="864" y="1410"/>
                      </a:lnTo>
                      <a:lnTo>
                        <a:pt x="786" y="1387"/>
                      </a:lnTo>
                      <a:lnTo>
                        <a:pt x="710" y="1358"/>
                      </a:lnTo>
                      <a:lnTo>
                        <a:pt x="636" y="1324"/>
                      </a:lnTo>
                      <a:lnTo>
                        <a:pt x="600" y="1303"/>
                      </a:lnTo>
                      <a:lnTo>
                        <a:pt x="565" y="1282"/>
                      </a:lnTo>
                      <a:lnTo>
                        <a:pt x="530" y="1259"/>
                      </a:lnTo>
                      <a:lnTo>
                        <a:pt x="497" y="1235"/>
                      </a:lnTo>
                      <a:lnTo>
                        <a:pt x="463" y="1209"/>
                      </a:lnTo>
                      <a:lnTo>
                        <a:pt x="430" y="1182"/>
                      </a:lnTo>
                      <a:lnTo>
                        <a:pt x="368" y="1123"/>
                      </a:lnTo>
                      <a:lnTo>
                        <a:pt x="328" y="1081"/>
                      </a:lnTo>
                      <a:lnTo>
                        <a:pt x="309" y="1059"/>
                      </a:lnTo>
                      <a:lnTo>
                        <a:pt x="292" y="1039"/>
                      </a:lnTo>
                      <a:lnTo>
                        <a:pt x="256" y="996"/>
                      </a:lnTo>
                      <a:lnTo>
                        <a:pt x="226" y="953"/>
                      </a:lnTo>
                      <a:lnTo>
                        <a:pt x="196" y="907"/>
                      </a:lnTo>
                      <a:lnTo>
                        <a:pt x="170" y="862"/>
                      </a:lnTo>
                      <a:lnTo>
                        <a:pt x="146" y="814"/>
                      </a:lnTo>
                      <a:lnTo>
                        <a:pt x="135" y="791"/>
                      </a:lnTo>
                      <a:lnTo>
                        <a:pt x="126" y="768"/>
                      </a:lnTo>
                      <a:lnTo>
                        <a:pt x="107" y="718"/>
                      </a:lnTo>
                      <a:lnTo>
                        <a:pt x="91" y="668"/>
                      </a:lnTo>
                      <a:lnTo>
                        <a:pt x="76" y="617"/>
                      </a:lnTo>
                      <a:lnTo>
                        <a:pt x="66" y="566"/>
                      </a:lnTo>
                      <a:lnTo>
                        <a:pt x="60" y="539"/>
                      </a:lnTo>
                      <a:lnTo>
                        <a:pt x="57" y="513"/>
                      </a:lnTo>
                      <a:lnTo>
                        <a:pt x="51" y="460"/>
                      </a:lnTo>
                      <a:lnTo>
                        <a:pt x="48" y="404"/>
                      </a:lnTo>
                      <a:lnTo>
                        <a:pt x="47" y="350"/>
                      </a:lnTo>
                      <a:lnTo>
                        <a:pt x="50" y="258"/>
                      </a:lnTo>
                      <a:lnTo>
                        <a:pt x="53" y="212"/>
                      </a:lnTo>
                      <a:lnTo>
                        <a:pt x="60" y="169"/>
                      </a:lnTo>
                      <a:lnTo>
                        <a:pt x="67" y="125"/>
                      </a:lnTo>
                      <a:lnTo>
                        <a:pt x="77" y="83"/>
                      </a:lnTo>
                      <a:lnTo>
                        <a:pt x="101" y="0"/>
                      </a:lnTo>
                      <a:lnTo>
                        <a:pt x="36" y="57"/>
                      </a:lnTo>
                      <a:lnTo>
                        <a:pt x="21" y="126"/>
                      </a:lnTo>
                      <a:lnTo>
                        <a:pt x="9" y="199"/>
                      </a:lnTo>
                      <a:lnTo>
                        <a:pt x="2" y="273"/>
                      </a:lnTo>
                      <a:lnTo>
                        <a:pt x="0" y="350"/>
                      </a:lnTo>
                      <a:lnTo>
                        <a:pt x="1" y="407"/>
                      </a:lnTo>
                      <a:lnTo>
                        <a:pt x="5" y="465"/>
                      </a:lnTo>
                      <a:lnTo>
                        <a:pt x="10" y="521"/>
                      </a:lnTo>
                      <a:lnTo>
                        <a:pt x="21" y="576"/>
                      </a:lnTo>
                      <a:lnTo>
                        <a:pt x="31" y="630"/>
                      </a:lnTo>
                      <a:lnTo>
                        <a:pt x="46" y="683"/>
                      </a:lnTo>
                      <a:lnTo>
                        <a:pt x="63" y="734"/>
                      </a:lnTo>
                      <a:lnTo>
                        <a:pt x="83" y="786"/>
                      </a:lnTo>
                      <a:lnTo>
                        <a:pt x="105" y="835"/>
                      </a:lnTo>
                      <a:lnTo>
                        <a:pt x="116" y="859"/>
                      </a:lnTo>
                      <a:lnTo>
                        <a:pt x="129" y="884"/>
                      </a:lnTo>
                      <a:lnTo>
                        <a:pt x="157" y="931"/>
                      </a:lnTo>
                      <a:lnTo>
                        <a:pt x="187" y="979"/>
                      </a:lnTo>
                      <a:lnTo>
                        <a:pt x="220" y="1024"/>
                      </a:lnTo>
                      <a:lnTo>
                        <a:pt x="255" y="1070"/>
                      </a:lnTo>
                      <a:lnTo>
                        <a:pt x="293" y="1113"/>
                      </a:lnTo>
                      <a:lnTo>
                        <a:pt x="335" y="1156"/>
                      </a:lnTo>
                      <a:lnTo>
                        <a:pt x="393" y="1210"/>
                      </a:lnTo>
                      <a:lnTo>
                        <a:pt x="422" y="1236"/>
                      </a:lnTo>
                      <a:lnTo>
                        <a:pt x="454" y="1261"/>
                      </a:lnTo>
                      <a:lnTo>
                        <a:pt x="484" y="1284"/>
                      </a:lnTo>
                      <a:lnTo>
                        <a:pt x="516" y="1305"/>
                      </a:lnTo>
                      <a:lnTo>
                        <a:pt x="583" y="1346"/>
                      </a:lnTo>
                      <a:lnTo>
                        <a:pt x="650" y="1380"/>
                      </a:lnTo>
                      <a:lnTo>
                        <a:pt x="719" y="1412"/>
                      </a:lnTo>
                      <a:lnTo>
                        <a:pt x="790" y="1437"/>
                      </a:lnTo>
                      <a:lnTo>
                        <a:pt x="827" y="1448"/>
                      </a:lnTo>
                      <a:lnTo>
                        <a:pt x="865" y="1458"/>
                      </a:lnTo>
                      <a:close/>
                    </a:path>
                  </a:pathLst>
                </a:custGeom>
                <a:solidFill>
                  <a:srgbClr val="ff25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040800" y="3288600"/>
                  <a:ext cx="286920" cy="403200"/>
                </a:xfrm>
                <a:custGeom>
                  <a:avLst/>
                  <a:gdLst/>
                  <a:ahLst/>
                  <a:rect l="l" t="t" r="r" b="b"/>
                  <a:pathLst>
                    <a:path w="1005" h="1412">
                      <a:moveTo>
                        <a:pt x="965" y="1405"/>
                      </a:moveTo>
                      <a:lnTo>
                        <a:pt x="1005" y="1362"/>
                      </a:lnTo>
                      <a:lnTo>
                        <a:pt x="992" y="1362"/>
                      </a:lnTo>
                      <a:lnTo>
                        <a:pt x="981" y="1363"/>
                      </a:lnTo>
                      <a:lnTo>
                        <a:pt x="958" y="1366"/>
                      </a:lnTo>
                      <a:lnTo>
                        <a:pt x="935" y="1366"/>
                      </a:lnTo>
                      <a:lnTo>
                        <a:pt x="912" y="1367"/>
                      </a:lnTo>
                      <a:lnTo>
                        <a:pt x="866" y="1366"/>
                      </a:lnTo>
                      <a:lnTo>
                        <a:pt x="822" y="1362"/>
                      </a:lnTo>
                      <a:lnTo>
                        <a:pt x="779" y="1357"/>
                      </a:lnTo>
                      <a:lnTo>
                        <a:pt x="737" y="1351"/>
                      </a:lnTo>
                      <a:lnTo>
                        <a:pt x="695" y="1341"/>
                      </a:lnTo>
                      <a:lnTo>
                        <a:pt x="656" y="1331"/>
                      </a:lnTo>
                      <a:lnTo>
                        <a:pt x="616" y="1318"/>
                      </a:lnTo>
                      <a:lnTo>
                        <a:pt x="578" y="1303"/>
                      </a:lnTo>
                      <a:lnTo>
                        <a:pt x="540" y="1286"/>
                      </a:lnTo>
                      <a:lnTo>
                        <a:pt x="503" y="1267"/>
                      </a:lnTo>
                      <a:lnTo>
                        <a:pt x="466" y="1246"/>
                      </a:lnTo>
                      <a:lnTo>
                        <a:pt x="431" y="1224"/>
                      </a:lnTo>
                      <a:lnTo>
                        <a:pt x="396" y="1198"/>
                      </a:lnTo>
                      <a:lnTo>
                        <a:pt x="363" y="1172"/>
                      </a:lnTo>
                      <a:lnTo>
                        <a:pt x="330" y="1143"/>
                      </a:lnTo>
                      <a:lnTo>
                        <a:pt x="300" y="1113"/>
                      </a:lnTo>
                      <a:lnTo>
                        <a:pt x="267" y="1080"/>
                      </a:lnTo>
                      <a:lnTo>
                        <a:pt x="238" y="1047"/>
                      </a:lnTo>
                      <a:lnTo>
                        <a:pt x="211" y="1013"/>
                      </a:lnTo>
                      <a:lnTo>
                        <a:pt x="187" y="979"/>
                      </a:lnTo>
                      <a:lnTo>
                        <a:pt x="164" y="943"/>
                      </a:lnTo>
                      <a:lnTo>
                        <a:pt x="143" y="907"/>
                      </a:lnTo>
                      <a:lnTo>
                        <a:pt x="124" y="869"/>
                      </a:lnTo>
                      <a:lnTo>
                        <a:pt x="108" y="833"/>
                      </a:lnTo>
                      <a:lnTo>
                        <a:pt x="92" y="793"/>
                      </a:lnTo>
                      <a:lnTo>
                        <a:pt x="80" y="753"/>
                      </a:lnTo>
                      <a:lnTo>
                        <a:pt x="68" y="713"/>
                      </a:lnTo>
                      <a:lnTo>
                        <a:pt x="60" y="673"/>
                      </a:lnTo>
                      <a:lnTo>
                        <a:pt x="52" y="630"/>
                      </a:lnTo>
                      <a:lnTo>
                        <a:pt x="48" y="588"/>
                      </a:lnTo>
                      <a:lnTo>
                        <a:pt x="44" y="544"/>
                      </a:lnTo>
                      <a:lnTo>
                        <a:pt x="44" y="501"/>
                      </a:lnTo>
                      <a:lnTo>
                        <a:pt x="47" y="429"/>
                      </a:lnTo>
                      <a:lnTo>
                        <a:pt x="54" y="362"/>
                      </a:lnTo>
                      <a:lnTo>
                        <a:pt x="66" y="295"/>
                      </a:lnTo>
                      <a:lnTo>
                        <a:pt x="84" y="233"/>
                      </a:lnTo>
                      <a:lnTo>
                        <a:pt x="106" y="171"/>
                      </a:lnTo>
                      <a:lnTo>
                        <a:pt x="133" y="112"/>
                      </a:lnTo>
                      <a:lnTo>
                        <a:pt x="166" y="54"/>
                      </a:lnTo>
                      <a:lnTo>
                        <a:pt x="204" y="0"/>
                      </a:lnTo>
                      <a:lnTo>
                        <a:pt x="169" y="5"/>
                      </a:lnTo>
                      <a:lnTo>
                        <a:pt x="139" y="15"/>
                      </a:lnTo>
                      <a:lnTo>
                        <a:pt x="105" y="69"/>
                      </a:lnTo>
                      <a:lnTo>
                        <a:pt x="77" y="125"/>
                      </a:lnTo>
                      <a:lnTo>
                        <a:pt x="52" y="183"/>
                      </a:lnTo>
                      <a:lnTo>
                        <a:pt x="34" y="243"/>
                      </a:lnTo>
                      <a:lnTo>
                        <a:pt x="18" y="303"/>
                      </a:lnTo>
                      <a:lnTo>
                        <a:pt x="8" y="368"/>
                      </a:lnTo>
                      <a:lnTo>
                        <a:pt x="1" y="433"/>
                      </a:lnTo>
                      <a:lnTo>
                        <a:pt x="0" y="501"/>
                      </a:lnTo>
                      <a:lnTo>
                        <a:pt x="0" y="546"/>
                      </a:lnTo>
                      <a:lnTo>
                        <a:pt x="4" y="592"/>
                      </a:lnTo>
                      <a:lnTo>
                        <a:pt x="8" y="637"/>
                      </a:lnTo>
                      <a:lnTo>
                        <a:pt x="16" y="682"/>
                      </a:lnTo>
                      <a:lnTo>
                        <a:pt x="24" y="725"/>
                      </a:lnTo>
                      <a:lnTo>
                        <a:pt x="37" y="768"/>
                      </a:lnTo>
                      <a:lnTo>
                        <a:pt x="49" y="809"/>
                      </a:lnTo>
                      <a:lnTo>
                        <a:pt x="66" y="851"/>
                      </a:lnTo>
                      <a:lnTo>
                        <a:pt x="83" y="890"/>
                      </a:lnTo>
                      <a:lnTo>
                        <a:pt x="102" y="929"/>
                      </a:lnTo>
                      <a:lnTo>
                        <a:pt x="124" y="967"/>
                      </a:lnTo>
                      <a:lnTo>
                        <a:pt x="149" y="1005"/>
                      </a:lnTo>
                      <a:lnTo>
                        <a:pt x="175" y="1040"/>
                      </a:lnTo>
                      <a:lnTo>
                        <a:pt x="203" y="1077"/>
                      </a:lnTo>
                      <a:lnTo>
                        <a:pt x="234" y="1111"/>
                      </a:lnTo>
                      <a:lnTo>
                        <a:pt x="267" y="1146"/>
                      </a:lnTo>
                      <a:lnTo>
                        <a:pt x="300" y="1176"/>
                      </a:lnTo>
                      <a:lnTo>
                        <a:pt x="334" y="1207"/>
                      </a:lnTo>
                      <a:lnTo>
                        <a:pt x="369" y="1235"/>
                      </a:lnTo>
                      <a:lnTo>
                        <a:pt x="406" y="1261"/>
                      </a:lnTo>
                      <a:lnTo>
                        <a:pt x="442" y="1285"/>
                      </a:lnTo>
                      <a:lnTo>
                        <a:pt x="481" y="1307"/>
                      </a:lnTo>
                      <a:lnTo>
                        <a:pt x="520" y="1326"/>
                      </a:lnTo>
                      <a:lnTo>
                        <a:pt x="560" y="1345"/>
                      </a:lnTo>
                      <a:lnTo>
                        <a:pt x="600" y="1360"/>
                      </a:lnTo>
                      <a:lnTo>
                        <a:pt x="642" y="1374"/>
                      </a:lnTo>
                      <a:lnTo>
                        <a:pt x="684" y="1385"/>
                      </a:lnTo>
                      <a:lnTo>
                        <a:pt x="728" y="1395"/>
                      </a:lnTo>
                      <a:lnTo>
                        <a:pt x="772" y="1402"/>
                      </a:lnTo>
                      <a:lnTo>
                        <a:pt x="818" y="1408"/>
                      </a:lnTo>
                      <a:lnTo>
                        <a:pt x="864" y="1411"/>
                      </a:lnTo>
                      <a:lnTo>
                        <a:pt x="912" y="1412"/>
                      </a:lnTo>
                      <a:lnTo>
                        <a:pt x="959" y="1412"/>
                      </a:lnTo>
                      <a:lnTo>
                        <a:pt x="962" y="1407"/>
                      </a:lnTo>
                      <a:lnTo>
                        <a:pt x="965" y="1405"/>
                      </a:lnTo>
                      <a:close/>
                    </a:path>
                  </a:pathLst>
                </a:custGeom>
                <a:solidFill>
                  <a:srgbClr val="ff3d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53400" y="3285720"/>
                  <a:ext cx="286200" cy="392760"/>
                </a:xfrm>
                <a:custGeom>
                  <a:avLst/>
                  <a:gdLst/>
                  <a:ahLst/>
                  <a:rect l="l" t="t" r="r" b="b"/>
                  <a:pathLst>
                    <a:path w="1004" h="1378">
                      <a:moveTo>
                        <a:pt x="961" y="1373"/>
                      </a:moveTo>
                      <a:lnTo>
                        <a:pt x="971" y="1360"/>
                      </a:lnTo>
                      <a:lnTo>
                        <a:pt x="982" y="1347"/>
                      </a:lnTo>
                      <a:lnTo>
                        <a:pt x="1004" y="1322"/>
                      </a:lnTo>
                      <a:lnTo>
                        <a:pt x="970" y="1326"/>
                      </a:lnTo>
                      <a:lnTo>
                        <a:pt x="961" y="1326"/>
                      </a:lnTo>
                      <a:lnTo>
                        <a:pt x="956" y="1326"/>
                      </a:lnTo>
                      <a:lnTo>
                        <a:pt x="954" y="1326"/>
                      </a:lnTo>
                      <a:lnTo>
                        <a:pt x="953" y="1326"/>
                      </a:lnTo>
                      <a:lnTo>
                        <a:pt x="953" y="1327"/>
                      </a:lnTo>
                      <a:lnTo>
                        <a:pt x="937" y="1329"/>
                      </a:lnTo>
                      <a:lnTo>
                        <a:pt x="902" y="1331"/>
                      </a:lnTo>
                      <a:lnTo>
                        <a:pt x="868" y="1333"/>
                      </a:lnTo>
                      <a:lnTo>
                        <a:pt x="825" y="1331"/>
                      </a:lnTo>
                      <a:lnTo>
                        <a:pt x="783" y="1328"/>
                      </a:lnTo>
                      <a:lnTo>
                        <a:pt x="742" y="1322"/>
                      </a:lnTo>
                      <a:lnTo>
                        <a:pt x="702" y="1317"/>
                      </a:lnTo>
                      <a:lnTo>
                        <a:pt x="663" y="1308"/>
                      </a:lnTo>
                      <a:lnTo>
                        <a:pt x="625" y="1297"/>
                      </a:lnTo>
                      <a:lnTo>
                        <a:pt x="588" y="1285"/>
                      </a:lnTo>
                      <a:lnTo>
                        <a:pt x="551" y="1272"/>
                      </a:lnTo>
                      <a:lnTo>
                        <a:pt x="515" y="1255"/>
                      </a:lnTo>
                      <a:lnTo>
                        <a:pt x="480" y="1237"/>
                      </a:lnTo>
                      <a:lnTo>
                        <a:pt x="445" y="1218"/>
                      </a:lnTo>
                      <a:lnTo>
                        <a:pt x="412" y="1196"/>
                      </a:lnTo>
                      <a:lnTo>
                        <a:pt x="379" y="1173"/>
                      </a:lnTo>
                      <a:lnTo>
                        <a:pt x="347" y="1148"/>
                      </a:lnTo>
                      <a:lnTo>
                        <a:pt x="317" y="1120"/>
                      </a:lnTo>
                      <a:lnTo>
                        <a:pt x="287" y="1092"/>
                      </a:lnTo>
                      <a:lnTo>
                        <a:pt x="257" y="1060"/>
                      </a:lnTo>
                      <a:lnTo>
                        <a:pt x="231" y="1030"/>
                      </a:lnTo>
                      <a:lnTo>
                        <a:pt x="205" y="997"/>
                      </a:lnTo>
                      <a:lnTo>
                        <a:pt x="182" y="965"/>
                      </a:lnTo>
                      <a:lnTo>
                        <a:pt x="159" y="931"/>
                      </a:lnTo>
                      <a:lnTo>
                        <a:pt x="140" y="897"/>
                      </a:lnTo>
                      <a:lnTo>
                        <a:pt x="122" y="862"/>
                      </a:lnTo>
                      <a:lnTo>
                        <a:pt x="107" y="827"/>
                      </a:lnTo>
                      <a:lnTo>
                        <a:pt x="92" y="789"/>
                      </a:lnTo>
                      <a:lnTo>
                        <a:pt x="80" y="752"/>
                      </a:lnTo>
                      <a:lnTo>
                        <a:pt x="70" y="713"/>
                      </a:lnTo>
                      <a:lnTo>
                        <a:pt x="62" y="675"/>
                      </a:lnTo>
                      <a:lnTo>
                        <a:pt x="54" y="634"/>
                      </a:lnTo>
                      <a:lnTo>
                        <a:pt x="50" y="594"/>
                      </a:lnTo>
                      <a:lnTo>
                        <a:pt x="47" y="552"/>
                      </a:lnTo>
                      <a:lnTo>
                        <a:pt x="47" y="512"/>
                      </a:lnTo>
                      <a:lnTo>
                        <a:pt x="49" y="438"/>
                      </a:lnTo>
                      <a:lnTo>
                        <a:pt x="57" y="369"/>
                      </a:lnTo>
                      <a:lnTo>
                        <a:pt x="71" y="302"/>
                      </a:lnTo>
                      <a:lnTo>
                        <a:pt x="91" y="237"/>
                      </a:lnTo>
                      <a:lnTo>
                        <a:pt x="103" y="204"/>
                      </a:lnTo>
                      <a:lnTo>
                        <a:pt x="116" y="174"/>
                      </a:lnTo>
                      <a:lnTo>
                        <a:pt x="147" y="114"/>
                      </a:lnTo>
                      <a:lnTo>
                        <a:pt x="183" y="56"/>
                      </a:lnTo>
                      <a:lnTo>
                        <a:pt x="226" y="0"/>
                      </a:lnTo>
                      <a:lnTo>
                        <a:pt x="191" y="4"/>
                      </a:lnTo>
                      <a:lnTo>
                        <a:pt x="160" y="11"/>
                      </a:lnTo>
                      <a:lnTo>
                        <a:pt x="122" y="65"/>
                      </a:lnTo>
                      <a:lnTo>
                        <a:pt x="89" y="123"/>
                      </a:lnTo>
                      <a:lnTo>
                        <a:pt x="62" y="182"/>
                      </a:lnTo>
                      <a:lnTo>
                        <a:pt x="40" y="244"/>
                      </a:lnTo>
                      <a:lnTo>
                        <a:pt x="22" y="306"/>
                      </a:lnTo>
                      <a:lnTo>
                        <a:pt x="10" y="373"/>
                      </a:lnTo>
                      <a:lnTo>
                        <a:pt x="3" y="440"/>
                      </a:lnTo>
                      <a:lnTo>
                        <a:pt x="0" y="512"/>
                      </a:lnTo>
                      <a:lnTo>
                        <a:pt x="0" y="555"/>
                      </a:lnTo>
                      <a:lnTo>
                        <a:pt x="4" y="599"/>
                      </a:lnTo>
                      <a:lnTo>
                        <a:pt x="8" y="641"/>
                      </a:lnTo>
                      <a:lnTo>
                        <a:pt x="16" y="684"/>
                      </a:lnTo>
                      <a:lnTo>
                        <a:pt x="24" y="724"/>
                      </a:lnTo>
                      <a:lnTo>
                        <a:pt x="36" y="764"/>
                      </a:lnTo>
                      <a:lnTo>
                        <a:pt x="48" y="804"/>
                      </a:lnTo>
                      <a:lnTo>
                        <a:pt x="64" y="844"/>
                      </a:lnTo>
                      <a:lnTo>
                        <a:pt x="80" y="880"/>
                      </a:lnTo>
                      <a:lnTo>
                        <a:pt x="99" y="918"/>
                      </a:lnTo>
                      <a:lnTo>
                        <a:pt x="120" y="954"/>
                      </a:lnTo>
                      <a:lnTo>
                        <a:pt x="143" y="990"/>
                      </a:lnTo>
                      <a:lnTo>
                        <a:pt x="167" y="1024"/>
                      </a:lnTo>
                      <a:lnTo>
                        <a:pt x="194" y="1058"/>
                      </a:lnTo>
                      <a:lnTo>
                        <a:pt x="223" y="1091"/>
                      </a:lnTo>
                      <a:lnTo>
                        <a:pt x="256" y="1124"/>
                      </a:lnTo>
                      <a:lnTo>
                        <a:pt x="286" y="1154"/>
                      </a:lnTo>
                      <a:lnTo>
                        <a:pt x="319" y="1183"/>
                      </a:lnTo>
                      <a:lnTo>
                        <a:pt x="352" y="1209"/>
                      </a:lnTo>
                      <a:lnTo>
                        <a:pt x="387" y="1235"/>
                      </a:lnTo>
                      <a:lnTo>
                        <a:pt x="422" y="1257"/>
                      </a:lnTo>
                      <a:lnTo>
                        <a:pt x="459" y="1278"/>
                      </a:lnTo>
                      <a:lnTo>
                        <a:pt x="496" y="1297"/>
                      </a:lnTo>
                      <a:lnTo>
                        <a:pt x="534" y="1314"/>
                      </a:lnTo>
                      <a:lnTo>
                        <a:pt x="572" y="1329"/>
                      </a:lnTo>
                      <a:lnTo>
                        <a:pt x="612" y="1342"/>
                      </a:lnTo>
                      <a:lnTo>
                        <a:pt x="651" y="1352"/>
                      </a:lnTo>
                      <a:lnTo>
                        <a:pt x="693" y="1362"/>
                      </a:lnTo>
                      <a:lnTo>
                        <a:pt x="735" y="1368"/>
                      </a:lnTo>
                      <a:lnTo>
                        <a:pt x="778" y="1373"/>
                      </a:lnTo>
                      <a:lnTo>
                        <a:pt x="822" y="1377"/>
                      </a:lnTo>
                      <a:lnTo>
                        <a:pt x="868" y="1378"/>
                      </a:lnTo>
                      <a:lnTo>
                        <a:pt x="891" y="1377"/>
                      </a:lnTo>
                      <a:lnTo>
                        <a:pt x="914" y="1377"/>
                      </a:lnTo>
                      <a:lnTo>
                        <a:pt x="937" y="1374"/>
                      </a:lnTo>
                      <a:lnTo>
                        <a:pt x="948" y="1373"/>
                      </a:lnTo>
                      <a:lnTo>
                        <a:pt x="961" y="1373"/>
                      </a:lnTo>
                      <a:close/>
                    </a:path>
                  </a:pathLst>
                </a:custGeom>
                <a:solidFill>
                  <a:srgbClr val="ff42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066360" y="3284280"/>
                  <a:ext cx="284040" cy="381960"/>
                </a:xfrm>
                <a:custGeom>
                  <a:avLst/>
                  <a:gdLst/>
                  <a:ahLst/>
                  <a:rect l="l" t="t" r="r" b="b"/>
                  <a:pathLst>
                    <a:path w="994" h="1338">
                      <a:moveTo>
                        <a:pt x="821" y="1338"/>
                      </a:moveTo>
                      <a:lnTo>
                        <a:pt x="855" y="1336"/>
                      </a:lnTo>
                      <a:lnTo>
                        <a:pt x="890" y="1334"/>
                      </a:lnTo>
                      <a:lnTo>
                        <a:pt x="906" y="1332"/>
                      </a:lnTo>
                      <a:lnTo>
                        <a:pt x="906" y="1331"/>
                      </a:lnTo>
                      <a:lnTo>
                        <a:pt x="907" y="1331"/>
                      </a:lnTo>
                      <a:lnTo>
                        <a:pt x="909" y="1331"/>
                      </a:lnTo>
                      <a:lnTo>
                        <a:pt x="914" y="1331"/>
                      </a:lnTo>
                      <a:lnTo>
                        <a:pt x="923" y="1331"/>
                      </a:lnTo>
                      <a:lnTo>
                        <a:pt x="957" y="1327"/>
                      </a:lnTo>
                      <a:lnTo>
                        <a:pt x="975" y="1300"/>
                      </a:lnTo>
                      <a:lnTo>
                        <a:pt x="994" y="1273"/>
                      </a:lnTo>
                      <a:lnTo>
                        <a:pt x="951" y="1281"/>
                      </a:lnTo>
                      <a:lnTo>
                        <a:pt x="908" y="1286"/>
                      </a:lnTo>
                      <a:lnTo>
                        <a:pt x="885" y="1288"/>
                      </a:lnTo>
                      <a:lnTo>
                        <a:pt x="864" y="1290"/>
                      </a:lnTo>
                      <a:lnTo>
                        <a:pt x="821" y="1291"/>
                      </a:lnTo>
                      <a:lnTo>
                        <a:pt x="780" y="1290"/>
                      </a:lnTo>
                      <a:lnTo>
                        <a:pt x="741" y="1286"/>
                      </a:lnTo>
                      <a:lnTo>
                        <a:pt x="703" y="1282"/>
                      </a:lnTo>
                      <a:lnTo>
                        <a:pt x="665" y="1276"/>
                      </a:lnTo>
                      <a:lnTo>
                        <a:pt x="628" y="1268"/>
                      </a:lnTo>
                      <a:lnTo>
                        <a:pt x="592" y="1258"/>
                      </a:lnTo>
                      <a:lnTo>
                        <a:pt x="557" y="1247"/>
                      </a:lnTo>
                      <a:lnTo>
                        <a:pt x="523" y="1234"/>
                      </a:lnTo>
                      <a:lnTo>
                        <a:pt x="489" y="1218"/>
                      </a:lnTo>
                      <a:lnTo>
                        <a:pt x="456" y="1201"/>
                      </a:lnTo>
                      <a:lnTo>
                        <a:pt x="423" y="1182"/>
                      </a:lnTo>
                      <a:lnTo>
                        <a:pt x="392" y="1163"/>
                      </a:lnTo>
                      <a:lnTo>
                        <a:pt x="360" y="1140"/>
                      </a:lnTo>
                      <a:lnTo>
                        <a:pt x="331" y="1116"/>
                      </a:lnTo>
                      <a:lnTo>
                        <a:pt x="302" y="1090"/>
                      </a:lnTo>
                      <a:lnTo>
                        <a:pt x="273" y="1064"/>
                      </a:lnTo>
                      <a:lnTo>
                        <a:pt x="245" y="1035"/>
                      </a:lnTo>
                      <a:lnTo>
                        <a:pt x="219" y="1005"/>
                      </a:lnTo>
                      <a:lnTo>
                        <a:pt x="194" y="975"/>
                      </a:lnTo>
                      <a:lnTo>
                        <a:pt x="172" y="944"/>
                      </a:lnTo>
                      <a:lnTo>
                        <a:pt x="151" y="911"/>
                      </a:lnTo>
                      <a:lnTo>
                        <a:pt x="133" y="879"/>
                      </a:lnTo>
                      <a:lnTo>
                        <a:pt x="116" y="847"/>
                      </a:lnTo>
                      <a:lnTo>
                        <a:pt x="102" y="814"/>
                      </a:lnTo>
                      <a:lnTo>
                        <a:pt x="87" y="777"/>
                      </a:lnTo>
                      <a:lnTo>
                        <a:pt x="76" y="742"/>
                      </a:lnTo>
                      <a:lnTo>
                        <a:pt x="66" y="706"/>
                      </a:lnTo>
                      <a:lnTo>
                        <a:pt x="59" y="670"/>
                      </a:lnTo>
                      <a:lnTo>
                        <a:pt x="52" y="631"/>
                      </a:lnTo>
                      <a:lnTo>
                        <a:pt x="49" y="594"/>
                      </a:lnTo>
                      <a:lnTo>
                        <a:pt x="45" y="555"/>
                      </a:lnTo>
                      <a:lnTo>
                        <a:pt x="45" y="517"/>
                      </a:lnTo>
                      <a:lnTo>
                        <a:pt x="48" y="443"/>
                      </a:lnTo>
                      <a:lnTo>
                        <a:pt x="58" y="372"/>
                      </a:lnTo>
                      <a:lnTo>
                        <a:pt x="73" y="302"/>
                      </a:lnTo>
                      <a:lnTo>
                        <a:pt x="95" y="238"/>
                      </a:lnTo>
                      <a:lnTo>
                        <a:pt x="122" y="173"/>
                      </a:lnTo>
                      <a:lnTo>
                        <a:pt x="158" y="113"/>
                      </a:lnTo>
                      <a:lnTo>
                        <a:pt x="197" y="55"/>
                      </a:lnTo>
                      <a:lnTo>
                        <a:pt x="245" y="0"/>
                      </a:lnTo>
                      <a:lnTo>
                        <a:pt x="210" y="1"/>
                      </a:lnTo>
                      <a:lnTo>
                        <a:pt x="179" y="5"/>
                      </a:lnTo>
                      <a:lnTo>
                        <a:pt x="136" y="61"/>
                      </a:lnTo>
                      <a:lnTo>
                        <a:pt x="100" y="119"/>
                      </a:lnTo>
                      <a:lnTo>
                        <a:pt x="69" y="179"/>
                      </a:lnTo>
                      <a:lnTo>
                        <a:pt x="56" y="209"/>
                      </a:lnTo>
                      <a:lnTo>
                        <a:pt x="44" y="242"/>
                      </a:lnTo>
                      <a:lnTo>
                        <a:pt x="24" y="307"/>
                      </a:lnTo>
                      <a:lnTo>
                        <a:pt x="10" y="374"/>
                      </a:lnTo>
                      <a:lnTo>
                        <a:pt x="2" y="443"/>
                      </a:lnTo>
                      <a:lnTo>
                        <a:pt x="0" y="517"/>
                      </a:lnTo>
                      <a:lnTo>
                        <a:pt x="0" y="557"/>
                      </a:lnTo>
                      <a:lnTo>
                        <a:pt x="3" y="599"/>
                      </a:lnTo>
                      <a:lnTo>
                        <a:pt x="7" y="639"/>
                      </a:lnTo>
                      <a:lnTo>
                        <a:pt x="15" y="680"/>
                      </a:lnTo>
                      <a:lnTo>
                        <a:pt x="23" y="718"/>
                      </a:lnTo>
                      <a:lnTo>
                        <a:pt x="33" y="757"/>
                      </a:lnTo>
                      <a:lnTo>
                        <a:pt x="45" y="794"/>
                      </a:lnTo>
                      <a:lnTo>
                        <a:pt x="60" y="832"/>
                      </a:lnTo>
                      <a:lnTo>
                        <a:pt x="75" y="867"/>
                      </a:lnTo>
                      <a:lnTo>
                        <a:pt x="93" y="902"/>
                      </a:lnTo>
                      <a:lnTo>
                        <a:pt x="112" y="936"/>
                      </a:lnTo>
                      <a:lnTo>
                        <a:pt x="135" y="970"/>
                      </a:lnTo>
                      <a:lnTo>
                        <a:pt x="158" y="1002"/>
                      </a:lnTo>
                      <a:lnTo>
                        <a:pt x="184" y="1035"/>
                      </a:lnTo>
                      <a:lnTo>
                        <a:pt x="210" y="1065"/>
                      </a:lnTo>
                      <a:lnTo>
                        <a:pt x="240" y="1097"/>
                      </a:lnTo>
                      <a:lnTo>
                        <a:pt x="270" y="1125"/>
                      </a:lnTo>
                      <a:lnTo>
                        <a:pt x="300" y="1153"/>
                      </a:lnTo>
                      <a:lnTo>
                        <a:pt x="332" y="1178"/>
                      </a:lnTo>
                      <a:lnTo>
                        <a:pt x="365" y="1201"/>
                      </a:lnTo>
                      <a:lnTo>
                        <a:pt x="398" y="1223"/>
                      </a:lnTo>
                      <a:lnTo>
                        <a:pt x="433" y="1242"/>
                      </a:lnTo>
                      <a:lnTo>
                        <a:pt x="468" y="1260"/>
                      </a:lnTo>
                      <a:lnTo>
                        <a:pt x="504" y="1277"/>
                      </a:lnTo>
                      <a:lnTo>
                        <a:pt x="541" y="1290"/>
                      </a:lnTo>
                      <a:lnTo>
                        <a:pt x="578" y="1302"/>
                      </a:lnTo>
                      <a:lnTo>
                        <a:pt x="616" y="1313"/>
                      </a:lnTo>
                      <a:lnTo>
                        <a:pt x="655" y="1322"/>
                      </a:lnTo>
                      <a:lnTo>
                        <a:pt x="695" y="1327"/>
                      </a:lnTo>
                      <a:lnTo>
                        <a:pt x="736" y="1333"/>
                      </a:lnTo>
                      <a:lnTo>
                        <a:pt x="778" y="1336"/>
                      </a:lnTo>
                      <a:lnTo>
                        <a:pt x="821" y="1338"/>
                      </a:lnTo>
                      <a:close/>
                    </a:path>
                  </a:pathLst>
                </a:custGeom>
                <a:solidFill>
                  <a:srgbClr val="ff47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01560" y="3308040"/>
                  <a:ext cx="281880" cy="420840"/>
                </a:xfrm>
                <a:custGeom>
                  <a:avLst/>
                  <a:gdLst/>
                  <a:ahLst/>
                  <a:rect l="l" t="t" r="r" b="b"/>
                  <a:pathLst>
                    <a:path w="987" h="1473">
                      <a:moveTo>
                        <a:pt x="924" y="1473"/>
                      </a:moveTo>
                      <a:lnTo>
                        <a:pt x="955" y="1454"/>
                      </a:lnTo>
                      <a:lnTo>
                        <a:pt x="987" y="1434"/>
                      </a:lnTo>
                      <a:lnTo>
                        <a:pt x="939" y="1429"/>
                      </a:lnTo>
                      <a:lnTo>
                        <a:pt x="894" y="1424"/>
                      </a:lnTo>
                      <a:lnTo>
                        <a:pt x="848" y="1416"/>
                      </a:lnTo>
                      <a:lnTo>
                        <a:pt x="804" y="1407"/>
                      </a:lnTo>
                      <a:lnTo>
                        <a:pt x="760" y="1394"/>
                      </a:lnTo>
                      <a:lnTo>
                        <a:pt x="718" y="1382"/>
                      </a:lnTo>
                      <a:lnTo>
                        <a:pt x="676" y="1367"/>
                      </a:lnTo>
                      <a:lnTo>
                        <a:pt x="636" y="1350"/>
                      </a:lnTo>
                      <a:lnTo>
                        <a:pt x="595" y="1331"/>
                      </a:lnTo>
                      <a:lnTo>
                        <a:pt x="556" y="1309"/>
                      </a:lnTo>
                      <a:lnTo>
                        <a:pt x="517" y="1285"/>
                      </a:lnTo>
                      <a:lnTo>
                        <a:pt x="480" y="1261"/>
                      </a:lnTo>
                      <a:lnTo>
                        <a:pt x="442" y="1233"/>
                      </a:lnTo>
                      <a:lnTo>
                        <a:pt x="407" y="1205"/>
                      </a:lnTo>
                      <a:lnTo>
                        <a:pt x="372" y="1174"/>
                      </a:lnTo>
                      <a:lnTo>
                        <a:pt x="338" y="1141"/>
                      </a:lnTo>
                      <a:lnTo>
                        <a:pt x="301" y="1103"/>
                      </a:lnTo>
                      <a:lnTo>
                        <a:pt x="268" y="1065"/>
                      </a:lnTo>
                      <a:lnTo>
                        <a:pt x="237" y="1026"/>
                      </a:lnTo>
                      <a:lnTo>
                        <a:pt x="209" y="986"/>
                      </a:lnTo>
                      <a:lnTo>
                        <a:pt x="194" y="964"/>
                      </a:lnTo>
                      <a:lnTo>
                        <a:pt x="182" y="944"/>
                      </a:lnTo>
                      <a:lnTo>
                        <a:pt x="158" y="903"/>
                      </a:lnTo>
                      <a:lnTo>
                        <a:pt x="136" y="860"/>
                      </a:lnTo>
                      <a:lnTo>
                        <a:pt x="117" y="817"/>
                      </a:lnTo>
                      <a:lnTo>
                        <a:pt x="100" y="772"/>
                      </a:lnTo>
                      <a:lnTo>
                        <a:pt x="85" y="726"/>
                      </a:lnTo>
                      <a:lnTo>
                        <a:pt x="73" y="679"/>
                      </a:lnTo>
                      <a:lnTo>
                        <a:pt x="63" y="632"/>
                      </a:lnTo>
                      <a:lnTo>
                        <a:pt x="55" y="582"/>
                      </a:lnTo>
                      <a:lnTo>
                        <a:pt x="49" y="534"/>
                      </a:lnTo>
                      <a:lnTo>
                        <a:pt x="46" y="483"/>
                      </a:lnTo>
                      <a:lnTo>
                        <a:pt x="44" y="433"/>
                      </a:lnTo>
                      <a:lnTo>
                        <a:pt x="46" y="373"/>
                      </a:lnTo>
                      <a:lnTo>
                        <a:pt x="50" y="316"/>
                      </a:lnTo>
                      <a:lnTo>
                        <a:pt x="57" y="259"/>
                      </a:lnTo>
                      <a:lnTo>
                        <a:pt x="68" y="205"/>
                      </a:lnTo>
                      <a:lnTo>
                        <a:pt x="81" y="150"/>
                      </a:lnTo>
                      <a:lnTo>
                        <a:pt x="98" y="99"/>
                      </a:lnTo>
                      <a:lnTo>
                        <a:pt x="117" y="48"/>
                      </a:lnTo>
                      <a:lnTo>
                        <a:pt x="140" y="0"/>
                      </a:lnTo>
                      <a:lnTo>
                        <a:pt x="104" y="17"/>
                      </a:lnTo>
                      <a:lnTo>
                        <a:pt x="74" y="38"/>
                      </a:lnTo>
                      <a:lnTo>
                        <a:pt x="56" y="83"/>
                      </a:lnTo>
                      <a:lnTo>
                        <a:pt x="41" y="130"/>
                      </a:lnTo>
                      <a:lnTo>
                        <a:pt x="29" y="178"/>
                      </a:lnTo>
                      <a:lnTo>
                        <a:pt x="18" y="227"/>
                      </a:lnTo>
                      <a:lnTo>
                        <a:pt x="10" y="276"/>
                      </a:lnTo>
                      <a:lnTo>
                        <a:pt x="5" y="327"/>
                      </a:lnTo>
                      <a:lnTo>
                        <a:pt x="1" y="379"/>
                      </a:lnTo>
                      <a:lnTo>
                        <a:pt x="0" y="433"/>
                      </a:lnTo>
                      <a:lnTo>
                        <a:pt x="1" y="485"/>
                      </a:lnTo>
                      <a:lnTo>
                        <a:pt x="5" y="538"/>
                      </a:lnTo>
                      <a:lnTo>
                        <a:pt x="10" y="589"/>
                      </a:lnTo>
                      <a:lnTo>
                        <a:pt x="18" y="640"/>
                      </a:lnTo>
                      <a:lnTo>
                        <a:pt x="29" y="689"/>
                      </a:lnTo>
                      <a:lnTo>
                        <a:pt x="42" y="739"/>
                      </a:lnTo>
                      <a:lnTo>
                        <a:pt x="57" y="786"/>
                      </a:lnTo>
                      <a:lnTo>
                        <a:pt x="76" y="834"/>
                      </a:lnTo>
                      <a:lnTo>
                        <a:pt x="95" y="879"/>
                      </a:lnTo>
                      <a:lnTo>
                        <a:pt x="118" y="925"/>
                      </a:lnTo>
                      <a:lnTo>
                        <a:pt x="142" y="968"/>
                      </a:lnTo>
                      <a:lnTo>
                        <a:pt x="170" y="1012"/>
                      </a:lnTo>
                      <a:lnTo>
                        <a:pt x="200" y="1053"/>
                      </a:lnTo>
                      <a:lnTo>
                        <a:pt x="233" y="1095"/>
                      </a:lnTo>
                      <a:lnTo>
                        <a:pt x="268" y="1134"/>
                      </a:lnTo>
                      <a:lnTo>
                        <a:pt x="305" y="1174"/>
                      </a:lnTo>
                      <a:lnTo>
                        <a:pt x="338" y="1205"/>
                      </a:lnTo>
                      <a:lnTo>
                        <a:pt x="372" y="1234"/>
                      </a:lnTo>
                      <a:lnTo>
                        <a:pt x="406" y="1263"/>
                      </a:lnTo>
                      <a:lnTo>
                        <a:pt x="442" y="1290"/>
                      </a:lnTo>
                      <a:lnTo>
                        <a:pt x="478" y="1314"/>
                      </a:lnTo>
                      <a:lnTo>
                        <a:pt x="515" y="1337"/>
                      </a:lnTo>
                      <a:lnTo>
                        <a:pt x="552" y="1359"/>
                      </a:lnTo>
                      <a:lnTo>
                        <a:pt x="591" y="1379"/>
                      </a:lnTo>
                      <a:lnTo>
                        <a:pt x="629" y="1396"/>
                      </a:lnTo>
                      <a:lnTo>
                        <a:pt x="669" y="1412"/>
                      </a:lnTo>
                      <a:lnTo>
                        <a:pt x="709" y="1427"/>
                      </a:lnTo>
                      <a:lnTo>
                        <a:pt x="751" y="1439"/>
                      </a:lnTo>
                      <a:lnTo>
                        <a:pt x="793" y="1450"/>
                      </a:lnTo>
                      <a:lnTo>
                        <a:pt x="836" y="1459"/>
                      </a:lnTo>
                      <a:lnTo>
                        <a:pt x="879" y="1467"/>
                      </a:lnTo>
                      <a:lnTo>
                        <a:pt x="924" y="1473"/>
                      </a:lnTo>
                      <a:close/>
                    </a:path>
                  </a:pathLst>
                </a:custGeom>
                <a:solidFill>
                  <a:srgbClr val="ff2f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014160" y="3299400"/>
                  <a:ext cx="285840" cy="417960"/>
                </a:xfrm>
                <a:custGeom>
                  <a:avLst/>
                  <a:gdLst/>
                  <a:ahLst/>
                  <a:rect l="l" t="t" r="r" b="b"/>
                  <a:pathLst>
                    <a:path w="1000" h="1464">
                      <a:moveTo>
                        <a:pt x="943" y="1464"/>
                      </a:moveTo>
                      <a:lnTo>
                        <a:pt x="1000" y="1420"/>
                      </a:lnTo>
                      <a:lnTo>
                        <a:pt x="951" y="1417"/>
                      </a:lnTo>
                      <a:lnTo>
                        <a:pt x="903" y="1414"/>
                      </a:lnTo>
                      <a:lnTo>
                        <a:pt x="855" y="1408"/>
                      </a:lnTo>
                      <a:lnTo>
                        <a:pt x="810" y="1400"/>
                      </a:lnTo>
                      <a:lnTo>
                        <a:pt x="763" y="1390"/>
                      </a:lnTo>
                      <a:lnTo>
                        <a:pt x="719" y="1378"/>
                      </a:lnTo>
                      <a:lnTo>
                        <a:pt x="676" y="1363"/>
                      </a:lnTo>
                      <a:lnTo>
                        <a:pt x="634" y="1348"/>
                      </a:lnTo>
                      <a:lnTo>
                        <a:pt x="592" y="1329"/>
                      </a:lnTo>
                      <a:lnTo>
                        <a:pt x="551" y="1307"/>
                      </a:lnTo>
                      <a:lnTo>
                        <a:pt x="512" y="1284"/>
                      </a:lnTo>
                      <a:lnTo>
                        <a:pt x="473" y="1260"/>
                      </a:lnTo>
                      <a:lnTo>
                        <a:pt x="435" y="1231"/>
                      </a:lnTo>
                      <a:lnTo>
                        <a:pt x="397" y="1203"/>
                      </a:lnTo>
                      <a:lnTo>
                        <a:pt x="361" y="1171"/>
                      </a:lnTo>
                      <a:lnTo>
                        <a:pt x="327" y="1138"/>
                      </a:lnTo>
                      <a:lnTo>
                        <a:pt x="292" y="1102"/>
                      </a:lnTo>
                      <a:lnTo>
                        <a:pt x="260" y="1066"/>
                      </a:lnTo>
                      <a:lnTo>
                        <a:pt x="229" y="1028"/>
                      </a:lnTo>
                      <a:lnTo>
                        <a:pt x="203" y="991"/>
                      </a:lnTo>
                      <a:lnTo>
                        <a:pt x="177" y="951"/>
                      </a:lnTo>
                      <a:lnTo>
                        <a:pt x="155" y="912"/>
                      </a:lnTo>
                      <a:lnTo>
                        <a:pt x="133" y="871"/>
                      </a:lnTo>
                      <a:lnTo>
                        <a:pt x="116" y="830"/>
                      </a:lnTo>
                      <a:lnTo>
                        <a:pt x="99" y="786"/>
                      </a:lnTo>
                      <a:lnTo>
                        <a:pt x="84" y="743"/>
                      </a:lnTo>
                      <a:lnTo>
                        <a:pt x="72" y="697"/>
                      </a:lnTo>
                      <a:lnTo>
                        <a:pt x="63" y="653"/>
                      </a:lnTo>
                      <a:lnTo>
                        <a:pt x="55" y="605"/>
                      </a:lnTo>
                      <a:lnTo>
                        <a:pt x="49" y="559"/>
                      </a:lnTo>
                      <a:lnTo>
                        <a:pt x="46" y="510"/>
                      </a:lnTo>
                      <a:lnTo>
                        <a:pt x="46" y="463"/>
                      </a:lnTo>
                      <a:lnTo>
                        <a:pt x="47" y="398"/>
                      </a:lnTo>
                      <a:lnTo>
                        <a:pt x="53" y="337"/>
                      </a:lnTo>
                      <a:lnTo>
                        <a:pt x="60" y="277"/>
                      </a:lnTo>
                      <a:lnTo>
                        <a:pt x="74" y="219"/>
                      </a:lnTo>
                      <a:lnTo>
                        <a:pt x="90" y="161"/>
                      </a:lnTo>
                      <a:lnTo>
                        <a:pt x="110" y="105"/>
                      </a:lnTo>
                      <a:lnTo>
                        <a:pt x="134" y="51"/>
                      </a:lnTo>
                      <a:lnTo>
                        <a:pt x="163" y="0"/>
                      </a:lnTo>
                      <a:lnTo>
                        <a:pt x="96" y="30"/>
                      </a:lnTo>
                      <a:lnTo>
                        <a:pt x="73" y="78"/>
                      </a:lnTo>
                      <a:lnTo>
                        <a:pt x="54" y="129"/>
                      </a:lnTo>
                      <a:lnTo>
                        <a:pt x="37" y="180"/>
                      </a:lnTo>
                      <a:lnTo>
                        <a:pt x="24" y="235"/>
                      </a:lnTo>
                      <a:lnTo>
                        <a:pt x="13" y="289"/>
                      </a:lnTo>
                      <a:lnTo>
                        <a:pt x="6" y="346"/>
                      </a:lnTo>
                      <a:lnTo>
                        <a:pt x="2" y="403"/>
                      </a:lnTo>
                      <a:lnTo>
                        <a:pt x="0" y="463"/>
                      </a:lnTo>
                      <a:lnTo>
                        <a:pt x="2" y="513"/>
                      </a:lnTo>
                      <a:lnTo>
                        <a:pt x="5" y="564"/>
                      </a:lnTo>
                      <a:lnTo>
                        <a:pt x="11" y="612"/>
                      </a:lnTo>
                      <a:lnTo>
                        <a:pt x="19" y="662"/>
                      </a:lnTo>
                      <a:lnTo>
                        <a:pt x="29" y="709"/>
                      </a:lnTo>
                      <a:lnTo>
                        <a:pt x="41" y="756"/>
                      </a:lnTo>
                      <a:lnTo>
                        <a:pt x="56" y="802"/>
                      </a:lnTo>
                      <a:lnTo>
                        <a:pt x="73" y="847"/>
                      </a:lnTo>
                      <a:lnTo>
                        <a:pt x="92" y="890"/>
                      </a:lnTo>
                      <a:lnTo>
                        <a:pt x="114" y="933"/>
                      </a:lnTo>
                      <a:lnTo>
                        <a:pt x="138" y="974"/>
                      </a:lnTo>
                      <a:lnTo>
                        <a:pt x="150" y="994"/>
                      </a:lnTo>
                      <a:lnTo>
                        <a:pt x="165" y="1016"/>
                      </a:lnTo>
                      <a:lnTo>
                        <a:pt x="193" y="1056"/>
                      </a:lnTo>
                      <a:lnTo>
                        <a:pt x="224" y="1095"/>
                      </a:lnTo>
                      <a:lnTo>
                        <a:pt x="257" y="1133"/>
                      </a:lnTo>
                      <a:lnTo>
                        <a:pt x="294" y="1171"/>
                      </a:lnTo>
                      <a:lnTo>
                        <a:pt x="328" y="1204"/>
                      </a:lnTo>
                      <a:lnTo>
                        <a:pt x="363" y="1235"/>
                      </a:lnTo>
                      <a:lnTo>
                        <a:pt x="398" y="1263"/>
                      </a:lnTo>
                      <a:lnTo>
                        <a:pt x="436" y="1291"/>
                      </a:lnTo>
                      <a:lnTo>
                        <a:pt x="473" y="1315"/>
                      </a:lnTo>
                      <a:lnTo>
                        <a:pt x="512" y="1339"/>
                      </a:lnTo>
                      <a:lnTo>
                        <a:pt x="551" y="1361"/>
                      </a:lnTo>
                      <a:lnTo>
                        <a:pt x="592" y="1380"/>
                      </a:lnTo>
                      <a:lnTo>
                        <a:pt x="632" y="1397"/>
                      </a:lnTo>
                      <a:lnTo>
                        <a:pt x="674" y="1412"/>
                      </a:lnTo>
                      <a:lnTo>
                        <a:pt x="716" y="1424"/>
                      </a:lnTo>
                      <a:lnTo>
                        <a:pt x="760" y="1437"/>
                      </a:lnTo>
                      <a:lnTo>
                        <a:pt x="804" y="1446"/>
                      </a:lnTo>
                      <a:lnTo>
                        <a:pt x="850" y="1454"/>
                      </a:lnTo>
                      <a:lnTo>
                        <a:pt x="895" y="1459"/>
                      </a:lnTo>
                      <a:lnTo>
                        <a:pt x="943" y="1464"/>
                      </a:lnTo>
                      <a:close/>
                    </a:path>
                  </a:pathLst>
                </a:custGeom>
                <a:solidFill>
                  <a:srgbClr val="ff34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26760" y="3293280"/>
                  <a:ext cx="287640" cy="411480"/>
                </a:xfrm>
                <a:custGeom>
                  <a:avLst/>
                  <a:gdLst/>
                  <a:ahLst/>
                  <a:rect l="l" t="t" r="r" b="b"/>
                  <a:pathLst>
                    <a:path w="1005" h="1443">
                      <a:moveTo>
                        <a:pt x="1005" y="1397"/>
                      </a:moveTo>
                      <a:lnTo>
                        <a:pt x="958" y="1397"/>
                      </a:lnTo>
                      <a:lnTo>
                        <a:pt x="910" y="1396"/>
                      </a:lnTo>
                      <a:lnTo>
                        <a:pt x="864" y="1393"/>
                      </a:lnTo>
                      <a:lnTo>
                        <a:pt x="818" y="1387"/>
                      </a:lnTo>
                      <a:lnTo>
                        <a:pt x="774" y="1380"/>
                      </a:lnTo>
                      <a:lnTo>
                        <a:pt x="730" y="1370"/>
                      </a:lnTo>
                      <a:lnTo>
                        <a:pt x="688" y="1359"/>
                      </a:lnTo>
                      <a:lnTo>
                        <a:pt x="646" y="1345"/>
                      </a:lnTo>
                      <a:lnTo>
                        <a:pt x="606" y="1330"/>
                      </a:lnTo>
                      <a:lnTo>
                        <a:pt x="566" y="1311"/>
                      </a:lnTo>
                      <a:lnTo>
                        <a:pt x="527" y="1292"/>
                      </a:lnTo>
                      <a:lnTo>
                        <a:pt x="488" y="1270"/>
                      </a:lnTo>
                      <a:lnTo>
                        <a:pt x="452" y="1246"/>
                      </a:lnTo>
                      <a:lnTo>
                        <a:pt x="415" y="1220"/>
                      </a:lnTo>
                      <a:lnTo>
                        <a:pt x="380" y="1192"/>
                      </a:lnTo>
                      <a:lnTo>
                        <a:pt x="346" y="1161"/>
                      </a:lnTo>
                      <a:lnTo>
                        <a:pt x="313" y="1131"/>
                      </a:lnTo>
                      <a:lnTo>
                        <a:pt x="280" y="1096"/>
                      </a:lnTo>
                      <a:lnTo>
                        <a:pt x="249" y="1062"/>
                      </a:lnTo>
                      <a:lnTo>
                        <a:pt x="221" y="1025"/>
                      </a:lnTo>
                      <a:lnTo>
                        <a:pt x="195" y="990"/>
                      </a:lnTo>
                      <a:lnTo>
                        <a:pt x="170" y="952"/>
                      </a:lnTo>
                      <a:lnTo>
                        <a:pt x="148" y="914"/>
                      </a:lnTo>
                      <a:lnTo>
                        <a:pt x="129" y="875"/>
                      </a:lnTo>
                      <a:lnTo>
                        <a:pt x="112" y="836"/>
                      </a:lnTo>
                      <a:lnTo>
                        <a:pt x="95" y="794"/>
                      </a:lnTo>
                      <a:lnTo>
                        <a:pt x="83" y="753"/>
                      </a:lnTo>
                      <a:lnTo>
                        <a:pt x="70" y="710"/>
                      </a:lnTo>
                      <a:lnTo>
                        <a:pt x="62" y="667"/>
                      </a:lnTo>
                      <a:lnTo>
                        <a:pt x="54" y="622"/>
                      </a:lnTo>
                      <a:lnTo>
                        <a:pt x="50" y="577"/>
                      </a:lnTo>
                      <a:lnTo>
                        <a:pt x="46" y="531"/>
                      </a:lnTo>
                      <a:lnTo>
                        <a:pt x="46" y="486"/>
                      </a:lnTo>
                      <a:lnTo>
                        <a:pt x="47" y="418"/>
                      </a:lnTo>
                      <a:lnTo>
                        <a:pt x="54" y="353"/>
                      </a:lnTo>
                      <a:lnTo>
                        <a:pt x="64" y="288"/>
                      </a:lnTo>
                      <a:lnTo>
                        <a:pt x="80" y="228"/>
                      </a:lnTo>
                      <a:lnTo>
                        <a:pt x="98" y="168"/>
                      </a:lnTo>
                      <a:lnTo>
                        <a:pt x="123" y="110"/>
                      </a:lnTo>
                      <a:lnTo>
                        <a:pt x="151" y="54"/>
                      </a:lnTo>
                      <a:lnTo>
                        <a:pt x="185" y="0"/>
                      </a:lnTo>
                      <a:lnTo>
                        <a:pt x="149" y="11"/>
                      </a:lnTo>
                      <a:lnTo>
                        <a:pt x="117" y="23"/>
                      </a:lnTo>
                      <a:lnTo>
                        <a:pt x="88" y="74"/>
                      </a:lnTo>
                      <a:lnTo>
                        <a:pt x="64" y="128"/>
                      </a:lnTo>
                      <a:lnTo>
                        <a:pt x="44" y="184"/>
                      </a:lnTo>
                      <a:lnTo>
                        <a:pt x="28" y="242"/>
                      </a:lnTo>
                      <a:lnTo>
                        <a:pt x="14" y="300"/>
                      </a:lnTo>
                      <a:lnTo>
                        <a:pt x="7" y="360"/>
                      </a:lnTo>
                      <a:lnTo>
                        <a:pt x="1" y="421"/>
                      </a:lnTo>
                      <a:lnTo>
                        <a:pt x="0" y="486"/>
                      </a:lnTo>
                      <a:lnTo>
                        <a:pt x="0" y="533"/>
                      </a:lnTo>
                      <a:lnTo>
                        <a:pt x="3" y="582"/>
                      </a:lnTo>
                      <a:lnTo>
                        <a:pt x="9" y="628"/>
                      </a:lnTo>
                      <a:lnTo>
                        <a:pt x="17" y="676"/>
                      </a:lnTo>
                      <a:lnTo>
                        <a:pt x="26" y="720"/>
                      </a:lnTo>
                      <a:lnTo>
                        <a:pt x="38" y="766"/>
                      </a:lnTo>
                      <a:lnTo>
                        <a:pt x="53" y="809"/>
                      </a:lnTo>
                      <a:lnTo>
                        <a:pt x="70" y="853"/>
                      </a:lnTo>
                      <a:lnTo>
                        <a:pt x="87" y="894"/>
                      </a:lnTo>
                      <a:lnTo>
                        <a:pt x="109" y="935"/>
                      </a:lnTo>
                      <a:lnTo>
                        <a:pt x="131" y="974"/>
                      </a:lnTo>
                      <a:lnTo>
                        <a:pt x="157" y="1014"/>
                      </a:lnTo>
                      <a:lnTo>
                        <a:pt x="183" y="1051"/>
                      </a:lnTo>
                      <a:lnTo>
                        <a:pt x="214" y="1089"/>
                      </a:lnTo>
                      <a:lnTo>
                        <a:pt x="246" y="1125"/>
                      </a:lnTo>
                      <a:lnTo>
                        <a:pt x="281" y="1161"/>
                      </a:lnTo>
                      <a:lnTo>
                        <a:pt x="315" y="1194"/>
                      </a:lnTo>
                      <a:lnTo>
                        <a:pt x="351" y="1226"/>
                      </a:lnTo>
                      <a:lnTo>
                        <a:pt x="389" y="1254"/>
                      </a:lnTo>
                      <a:lnTo>
                        <a:pt x="427" y="1283"/>
                      </a:lnTo>
                      <a:lnTo>
                        <a:pt x="466" y="1307"/>
                      </a:lnTo>
                      <a:lnTo>
                        <a:pt x="505" y="1330"/>
                      </a:lnTo>
                      <a:lnTo>
                        <a:pt x="546" y="1352"/>
                      </a:lnTo>
                      <a:lnTo>
                        <a:pt x="588" y="1371"/>
                      </a:lnTo>
                      <a:lnTo>
                        <a:pt x="630" y="1386"/>
                      </a:lnTo>
                      <a:lnTo>
                        <a:pt x="673" y="1401"/>
                      </a:lnTo>
                      <a:lnTo>
                        <a:pt x="717" y="1413"/>
                      </a:lnTo>
                      <a:lnTo>
                        <a:pt x="764" y="1423"/>
                      </a:lnTo>
                      <a:lnTo>
                        <a:pt x="809" y="1431"/>
                      </a:lnTo>
                      <a:lnTo>
                        <a:pt x="857" y="1437"/>
                      </a:lnTo>
                      <a:lnTo>
                        <a:pt x="905" y="1440"/>
                      </a:lnTo>
                      <a:lnTo>
                        <a:pt x="954" y="1443"/>
                      </a:lnTo>
                      <a:lnTo>
                        <a:pt x="979" y="1420"/>
                      </a:lnTo>
                      <a:lnTo>
                        <a:pt x="1005" y="1397"/>
                      </a:lnTo>
                      <a:close/>
                    </a:path>
                  </a:pathLst>
                </a:custGeom>
                <a:solidFill>
                  <a:srgbClr val="ff39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987880" y="3318840"/>
                  <a:ext cx="277920" cy="420120"/>
                </a:xfrm>
                <a:custGeom>
                  <a:avLst/>
                  <a:gdLst/>
                  <a:ahLst/>
                  <a:rect l="l" t="t" r="r" b="b"/>
                  <a:pathLst>
                    <a:path w="970" h="1473">
                      <a:moveTo>
                        <a:pt x="899" y="1473"/>
                      </a:moveTo>
                      <a:lnTo>
                        <a:pt x="934" y="1455"/>
                      </a:lnTo>
                      <a:lnTo>
                        <a:pt x="970" y="1435"/>
                      </a:lnTo>
                      <a:lnTo>
                        <a:pt x="925" y="1429"/>
                      </a:lnTo>
                      <a:lnTo>
                        <a:pt x="882" y="1421"/>
                      </a:lnTo>
                      <a:lnTo>
                        <a:pt x="839" y="1412"/>
                      </a:lnTo>
                      <a:lnTo>
                        <a:pt x="797" y="1401"/>
                      </a:lnTo>
                      <a:lnTo>
                        <a:pt x="755" y="1389"/>
                      </a:lnTo>
                      <a:lnTo>
                        <a:pt x="715" y="1374"/>
                      </a:lnTo>
                      <a:lnTo>
                        <a:pt x="675" y="1358"/>
                      </a:lnTo>
                      <a:lnTo>
                        <a:pt x="637" y="1341"/>
                      </a:lnTo>
                      <a:lnTo>
                        <a:pt x="598" y="1321"/>
                      </a:lnTo>
                      <a:lnTo>
                        <a:pt x="561" y="1299"/>
                      </a:lnTo>
                      <a:lnTo>
                        <a:pt x="524" y="1276"/>
                      </a:lnTo>
                      <a:lnTo>
                        <a:pt x="488" y="1252"/>
                      </a:lnTo>
                      <a:lnTo>
                        <a:pt x="452" y="1225"/>
                      </a:lnTo>
                      <a:lnTo>
                        <a:pt x="418" y="1196"/>
                      </a:lnTo>
                      <a:lnTo>
                        <a:pt x="384" y="1167"/>
                      </a:lnTo>
                      <a:lnTo>
                        <a:pt x="351" y="1136"/>
                      </a:lnTo>
                      <a:lnTo>
                        <a:pt x="314" y="1096"/>
                      </a:lnTo>
                      <a:lnTo>
                        <a:pt x="279" y="1057"/>
                      </a:lnTo>
                      <a:lnTo>
                        <a:pt x="246" y="1015"/>
                      </a:lnTo>
                      <a:lnTo>
                        <a:pt x="216" y="974"/>
                      </a:lnTo>
                      <a:lnTo>
                        <a:pt x="188" y="930"/>
                      </a:lnTo>
                      <a:lnTo>
                        <a:pt x="164" y="887"/>
                      </a:lnTo>
                      <a:lnTo>
                        <a:pt x="141" y="841"/>
                      </a:lnTo>
                      <a:lnTo>
                        <a:pt x="122" y="796"/>
                      </a:lnTo>
                      <a:lnTo>
                        <a:pt x="103" y="748"/>
                      </a:lnTo>
                      <a:lnTo>
                        <a:pt x="88" y="701"/>
                      </a:lnTo>
                      <a:lnTo>
                        <a:pt x="75" y="651"/>
                      </a:lnTo>
                      <a:lnTo>
                        <a:pt x="64" y="602"/>
                      </a:lnTo>
                      <a:lnTo>
                        <a:pt x="56" y="551"/>
                      </a:lnTo>
                      <a:lnTo>
                        <a:pt x="51" y="500"/>
                      </a:lnTo>
                      <a:lnTo>
                        <a:pt x="47" y="447"/>
                      </a:lnTo>
                      <a:lnTo>
                        <a:pt x="46" y="395"/>
                      </a:lnTo>
                      <a:lnTo>
                        <a:pt x="47" y="341"/>
                      </a:lnTo>
                      <a:lnTo>
                        <a:pt x="51" y="289"/>
                      </a:lnTo>
                      <a:lnTo>
                        <a:pt x="56" y="238"/>
                      </a:lnTo>
                      <a:lnTo>
                        <a:pt x="64" y="189"/>
                      </a:lnTo>
                      <a:lnTo>
                        <a:pt x="75" y="140"/>
                      </a:lnTo>
                      <a:lnTo>
                        <a:pt x="87" y="92"/>
                      </a:lnTo>
                      <a:lnTo>
                        <a:pt x="102" y="45"/>
                      </a:lnTo>
                      <a:lnTo>
                        <a:pt x="120" y="0"/>
                      </a:lnTo>
                      <a:lnTo>
                        <a:pt x="85" y="22"/>
                      </a:lnTo>
                      <a:lnTo>
                        <a:pt x="54" y="45"/>
                      </a:lnTo>
                      <a:lnTo>
                        <a:pt x="30" y="128"/>
                      </a:lnTo>
                      <a:lnTo>
                        <a:pt x="20" y="170"/>
                      </a:lnTo>
                      <a:lnTo>
                        <a:pt x="13" y="214"/>
                      </a:lnTo>
                      <a:lnTo>
                        <a:pt x="6" y="257"/>
                      </a:lnTo>
                      <a:lnTo>
                        <a:pt x="3" y="303"/>
                      </a:lnTo>
                      <a:lnTo>
                        <a:pt x="0" y="395"/>
                      </a:lnTo>
                      <a:lnTo>
                        <a:pt x="1" y="449"/>
                      </a:lnTo>
                      <a:lnTo>
                        <a:pt x="4" y="505"/>
                      </a:lnTo>
                      <a:lnTo>
                        <a:pt x="10" y="558"/>
                      </a:lnTo>
                      <a:lnTo>
                        <a:pt x="13" y="584"/>
                      </a:lnTo>
                      <a:lnTo>
                        <a:pt x="19" y="611"/>
                      </a:lnTo>
                      <a:lnTo>
                        <a:pt x="29" y="662"/>
                      </a:lnTo>
                      <a:lnTo>
                        <a:pt x="44" y="713"/>
                      </a:lnTo>
                      <a:lnTo>
                        <a:pt x="60" y="763"/>
                      </a:lnTo>
                      <a:lnTo>
                        <a:pt x="79" y="813"/>
                      </a:lnTo>
                      <a:lnTo>
                        <a:pt x="88" y="836"/>
                      </a:lnTo>
                      <a:lnTo>
                        <a:pt x="99" y="859"/>
                      </a:lnTo>
                      <a:lnTo>
                        <a:pt x="123" y="907"/>
                      </a:lnTo>
                      <a:lnTo>
                        <a:pt x="149" y="952"/>
                      </a:lnTo>
                      <a:lnTo>
                        <a:pt x="179" y="998"/>
                      </a:lnTo>
                      <a:lnTo>
                        <a:pt x="209" y="1041"/>
                      </a:lnTo>
                      <a:lnTo>
                        <a:pt x="245" y="1084"/>
                      </a:lnTo>
                      <a:lnTo>
                        <a:pt x="262" y="1104"/>
                      </a:lnTo>
                      <a:lnTo>
                        <a:pt x="281" y="1126"/>
                      </a:lnTo>
                      <a:lnTo>
                        <a:pt x="321" y="1168"/>
                      </a:lnTo>
                      <a:lnTo>
                        <a:pt x="383" y="1227"/>
                      </a:lnTo>
                      <a:lnTo>
                        <a:pt x="416" y="1254"/>
                      </a:lnTo>
                      <a:lnTo>
                        <a:pt x="450" y="1280"/>
                      </a:lnTo>
                      <a:lnTo>
                        <a:pt x="483" y="1304"/>
                      </a:lnTo>
                      <a:lnTo>
                        <a:pt x="518" y="1327"/>
                      </a:lnTo>
                      <a:lnTo>
                        <a:pt x="553" y="1348"/>
                      </a:lnTo>
                      <a:lnTo>
                        <a:pt x="589" y="1369"/>
                      </a:lnTo>
                      <a:lnTo>
                        <a:pt x="663" y="1403"/>
                      </a:lnTo>
                      <a:lnTo>
                        <a:pt x="739" y="1432"/>
                      </a:lnTo>
                      <a:lnTo>
                        <a:pt x="817" y="1455"/>
                      </a:lnTo>
                      <a:lnTo>
                        <a:pt x="857" y="1464"/>
                      </a:lnTo>
                      <a:lnTo>
                        <a:pt x="899" y="1473"/>
                      </a:lnTo>
                      <a:close/>
                    </a:path>
                  </a:pathLst>
                </a:custGeom>
                <a:solidFill>
                  <a:srgbClr val="ff2a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79680" y="3283560"/>
                  <a:ext cx="280800" cy="369360"/>
                </a:xfrm>
                <a:custGeom>
                  <a:avLst/>
                  <a:gdLst/>
                  <a:ahLst/>
                  <a:rect l="l" t="t" r="r" b="b"/>
                  <a:pathLst>
                    <a:path w="982" h="1293">
                      <a:moveTo>
                        <a:pt x="949" y="1275"/>
                      </a:moveTo>
                      <a:lnTo>
                        <a:pt x="965" y="1248"/>
                      </a:lnTo>
                      <a:lnTo>
                        <a:pt x="982" y="1220"/>
                      </a:lnTo>
                      <a:lnTo>
                        <a:pt x="969" y="1223"/>
                      </a:lnTo>
                      <a:lnTo>
                        <a:pt x="962" y="1224"/>
                      </a:lnTo>
                      <a:lnTo>
                        <a:pt x="956" y="1226"/>
                      </a:lnTo>
                      <a:lnTo>
                        <a:pt x="931" y="1232"/>
                      </a:lnTo>
                      <a:lnTo>
                        <a:pt x="905" y="1236"/>
                      </a:lnTo>
                      <a:lnTo>
                        <a:pt x="880" y="1241"/>
                      </a:lnTo>
                      <a:lnTo>
                        <a:pt x="828" y="1245"/>
                      </a:lnTo>
                      <a:lnTo>
                        <a:pt x="776" y="1248"/>
                      </a:lnTo>
                      <a:lnTo>
                        <a:pt x="737" y="1247"/>
                      </a:lnTo>
                      <a:lnTo>
                        <a:pt x="701" y="1244"/>
                      </a:lnTo>
                      <a:lnTo>
                        <a:pt x="665" y="1240"/>
                      </a:lnTo>
                      <a:lnTo>
                        <a:pt x="630" y="1234"/>
                      </a:lnTo>
                      <a:lnTo>
                        <a:pt x="594" y="1226"/>
                      </a:lnTo>
                      <a:lnTo>
                        <a:pt x="560" y="1217"/>
                      </a:lnTo>
                      <a:lnTo>
                        <a:pt x="526" y="1206"/>
                      </a:lnTo>
                      <a:lnTo>
                        <a:pt x="495" y="1194"/>
                      </a:lnTo>
                      <a:lnTo>
                        <a:pt x="462" y="1180"/>
                      </a:lnTo>
                      <a:lnTo>
                        <a:pt x="431" y="1164"/>
                      </a:lnTo>
                      <a:lnTo>
                        <a:pt x="371" y="1127"/>
                      </a:lnTo>
                      <a:lnTo>
                        <a:pt x="342" y="1106"/>
                      </a:lnTo>
                      <a:lnTo>
                        <a:pt x="313" y="1083"/>
                      </a:lnTo>
                      <a:lnTo>
                        <a:pt x="285" y="1059"/>
                      </a:lnTo>
                      <a:lnTo>
                        <a:pt x="259" y="1035"/>
                      </a:lnTo>
                      <a:lnTo>
                        <a:pt x="232" y="1006"/>
                      </a:lnTo>
                      <a:lnTo>
                        <a:pt x="208" y="979"/>
                      </a:lnTo>
                      <a:lnTo>
                        <a:pt x="185" y="951"/>
                      </a:lnTo>
                      <a:lnTo>
                        <a:pt x="165" y="922"/>
                      </a:lnTo>
                      <a:lnTo>
                        <a:pt x="144" y="892"/>
                      </a:lnTo>
                      <a:lnTo>
                        <a:pt x="127" y="861"/>
                      </a:lnTo>
                      <a:lnTo>
                        <a:pt x="111" y="829"/>
                      </a:lnTo>
                      <a:lnTo>
                        <a:pt x="99" y="799"/>
                      </a:lnTo>
                      <a:lnTo>
                        <a:pt x="85" y="765"/>
                      </a:lnTo>
                      <a:lnTo>
                        <a:pt x="75" y="732"/>
                      </a:lnTo>
                      <a:lnTo>
                        <a:pt x="66" y="698"/>
                      </a:lnTo>
                      <a:lnTo>
                        <a:pt x="59" y="664"/>
                      </a:lnTo>
                      <a:lnTo>
                        <a:pt x="52" y="627"/>
                      </a:lnTo>
                      <a:lnTo>
                        <a:pt x="49" y="592"/>
                      </a:lnTo>
                      <a:lnTo>
                        <a:pt x="47" y="555"/>
                      </a:lnTo>
                      <a:lnTo>
                        <a:pt x="47" y="519"/>
                      </a:lnTo>
                      <a:lnTo>
                        <a:pt x="47" y="480"/>
                      </a:lnTo>
                      <a:lnTo>
                        <a:pt x="49" y="444"/>
                      </a:lnTo>
                      <a:lnTo>
                        <a:pt x="59" y="372"/>
                      </a:lnTo>
                      <a:lnTo>
                        <a:pt x="75" y="303"/>
                      </a:lnTo>
                      <a:lnTo>
                        <a:pt x="85" y="269"/>
                      </a:lnTo>
                      <a:lnTo>
                        <a:pt x="99" y="237"/>
                      </a:lnTo>
                      <a:lnTo>
                        <a:pt x="111" y="205"/>
                      </a:lnTo>
                      <a:lnTo>
                        <a:pt x="127" y="174"/>
                      </a:lnTo>
                      <a:lnTo>
                        <a:pt x="165" y="114"/>
                      </a:lnTo>
                      <a:lnTo>
                        <a:pt x="208" y="56"/>
                      </a:lnTo>
                      <a:lnTo>
                        <a:pt x="232" y="28"/>
                      </a:lnTo>
                      <a:lnTo>
                        <a:pt x="259" y="2"/>
                      </a:lnTo>
                      <a:lnTo>
                        <a:pt x="259" y="0"/>
                      </a:lnTo>
                      <a:lnTo>
                        <a:pt x="261" y="0"/>
                      </a:lnTo>
                      <a:lnTo>
                        <a:pt x="241" y="0"/>
                      </a:lnTo>
                      <a:lnTo>
                        <a:pt x="200" y="2"/>
                      </a:lnTo>
                      <a:lnTo>
                        <a:pt x="152" y="57"/>
                      </a:lnTo>
                      <a:lnTo>
                        <a:pt x="113" y="115"/>
                      </a:lnTo>
                      <a:lnTo>
                        <a:pt x="77" y="175"/>
                      </a:lnTo>
                      <a:lnTo>
                        <a:pt x="50" y="240"/>
                      </a:lnTo>
                      <a:lnTo>
                        <a:pt x="28" y="304"/>
                      </a:lnTo>
                      <a:lnTo>
                        <a:pt x="13" y="374"/>
                      </a:lnTo>
                      <a:lnTo>
                        <a:pt x="3" y="445"/>
                      </a:lnTo>
                      <a:lnTo>
                        <a:pt x="0" y="519"/>
                      </a:lnTo>
                      <a:lnTo>
                        <a:pt x="0" y="557"/>
                      </a:lnTo>
                      <a:lnTo>
                        <a:pt x="4" y="596"/>
                      </a:lnTo>
                      <a:lnTo>
                        <a:pt x="7" y="633"/>
                      </a:lnTo>
                      <a:lnTo>
                        <a:pt x="14" y="672"/>
                      </a:lnTo>
                      <a:lnTo>
                        <a:pt x="21" y="708"/>
                      </a:lnTo>
                      <a:lnTo>
                        <a:pt x="31" y="744"/>
                      </a:lnTo>
                      <a:lnTo>
                        <a:pt x="42" y="779"/>
                      </a:lnTo>
                      <a:lnTo>
                        <a:pt x="57" y="816"/>
                      </a:lnTo>
                      <a:lnTo>
                        <a:pt x="71" y="849"/>
                      </a:lnTo>
                      <a:lnTo>
                        <a:pt x="88" y="881"/>
                      </a:lnTo>
                      <a:lnTo>
                        <a:pt x="106" y="913"/>
                      </a:lnTo>
                      <a:lnTo>
                        <a:pt x="127" y="946"/>
                      </a:lnTo>
                      <a:lnTo>
                        <a:pt x="149" y="977"/>
                      </a:lnTo>
                      <a:lnTo>
                        <a:pt x="174" y="1007"/>
                      </a:lnTo>
                      <a:lnTo>
                        <a:pt x="200" y="1037"/>
                      </a:lnTo>
                      <a:lnTo>
                        <a:pt x="228" y="1066"/>
                      </a:lnTo>
                      <a:lnTo>
                        <a:pt x="257" y="1092"/>
                      </a:lnTo>
                      <a:lnTo>
                        <a:pt x="286" y="1118"/>
                      </a:lnTo>
                      <a:lnTo>
                        <a:pt x="315" y="1142"/>
                      </a:lnTo>
                      <a:lnTo>
                        <a:pt x="347" y="1165"/>
                      </a:lnTo>
                      <a:lnTo>
                        <a:pt x="378" y="1184"/>
                      </a:lnTo>
                      <a:lnTo>
                        <a:pt x="411" y="1203"/>
                      </a:lnTo>
                      <a:lnTo>
                        <a:pt x="444" y="1220"/>
                      </a:lnTo>
                      <a:lnTo>
                        <a:pt x="478" y="1236"/>
                      </a:lnTo>
                      <a:lnTo>
                        <a:pt x="512" y="1249"/>
                      </a:lnTo>
                      <a:lnTo>
                        <a:pt x="547" y="1260"/>
                      </a:lnTo>
                      <a:lnTo>
                        <a:pt x="583" y="1270"/>
                      </a:lnTo>
                      <a:lnTo>
                        <a:pt x="620" y="1278"/>
                      </a:lnTo>
                      <a:lnTo>
                        <a:pt x="658" y="1284"/>
                      </a:lnTo>
                      <a:lnTo>
                        <a:pt x="696" y="1288"/>
                      </a:lnTo>
                      <a:lnTo>
                        <a:pt x="735" y="1292"/>
                      </a:lnTo>
                      <a:lnTo>
                        <a:pt x="776" y="1293"/>
                      </a:lnTo>
                      <a:lnTo>
                        <a:pt x="819" y="1292"/>
                      </a:lnTo>
                      <a:lnTo>
                        <a:pt x="840" y="1290"/>
                      </a:lnTo>
                      <a:lnTo>
                        <a:pt x="863" y="1288"/>
                      </a:lnTo>
                      <a:lnTo>
                        <a:pt x="906" y="1283"/>
                      </a:lnTo>
                      <a:lnTo>
                        <a:pt x="949" y="1275"/>
                      </a:lnTo>
                      <a:close/>
                    </a:path>
                  </a:pathLst>
                </a:custGeom>
                <a:solidFill>
                  <a:srgbClr val="ff4c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49000" y="3365280"/>
                  <a:ext cx="248760" cy="393480"/>
                </a:xfrm>
                <a:custGeom>
                  <a:avLst/>
                  <a:gdLst/>
                  <a:ahLst/>
                  <a:rect l="l" t="t" r="r" b="b"/>
                  <a:pathLst>
                    <a:path w="868" h="1378">
                      <a:moveTo>
                        <a:pt x="768" y="1378"/>
                      </a:moveTo>
                      <a:lnTo>
                        <a:pt x="818" y="1372"/>
                      </a:lnTo>
                      <a:lnTo>
                        <a:pt x="868" y="1364"/>
                      </a:lnTo>
                      <a:lnTo>
                        <a:pt x="801" y="1340"/>
                      </a:lnTo>
                      <a:lnTo>
                        <a:pt x="738" y="1313"/>
                      </a:lnTo>
                      <a:lnTo>
                        <a:pt x="675" y="1283"/>
                      </a:lnTo>
                      <a:lnTo>
                        <a:pt x="615" y="1249"/>
                      </a:lnTo>
                      <a:lnTo>
                        <a:pt x="555" y="1209"/>
                      </a:lnTo>
                      <a:lnTo>
                        <a:pt x="499" y="1166"/>
                      </a:lnTo>
                      <a:lnTo>
                        <a:pt x="443" y="1119"/>
                      </a:lnTo>
                      <a:lnTo>
                        <a:pt x="391" y="1069"/>
                      </a:lnTo>
                      <a:lnTo>
                        <a:pt x="348" y="1024"/>
                      </a:lnTo>
                      <a:lnTo>
                        <a:pt x="308" y="979"/>
                      </a:lnTo>
                      <a:lnTo>
                        <a:pt x="289" y="955"/>
                      </a:lnTo>
                      <a:lnTo>
                        <a:pt x="272" y="932"/>
                      </a:lnTo>
                      <a:lnTo>
                        <a:pt x="239" y="886"/>
                      </a:lnTo>
                      <a:lnTo>
                        <a:pt x="222" y="861"/>
                      </a:lnTo>
                      <a:lnTo>
                        <a:pt x="207" y="837"/>
                      </a:lnTo>
                      <a:lnTo>
                        <a:pt x="179" y="788"/>
                      </a:lnTo>
                      <a:lnTo>
                        <a:pt x="153" y="737"/>
                      </a:lnTo>
                      <a:lnTo>
                        <a:pt x="131" y="686"/>
                      </a:lnTo>
                      <a:lnTo>
                        <a:pt x="110" y="633"/>
                      </a:lnTo>
                      <a:lnTo>
                        <a:pt x="93" y="580"/>
                      </a:lnTo>
                      <a:lnTo>
                        <a:pt x="78" y="524"/>
                      </a:lnTo>
                      <a:lnTo>
                        <a:pt x="71" y="496"/>
                      </a:lnTo>
                      <a:lnTo>
                        <a:pt x="67" y="468"/>
                      </a:lnTo>
                      <a:lnTo>
                        <a:pt x="56" y="411"/>
                      </a:lnTo>
                      <a:lnTo>
                        <a:pt x="52" y="381"/>
                      </a:lnTo>
                      <a:lnTo>
                        <a:pt x="50" y="353"/>
                      </a:lnTo>
                      <a:lnTo>
                        <a:pt x="46" y="293"/>
                      </a:lnTo>
                      <a:lnTo>
                        <a:pt x="45" y="233"/>
                      </a:lnTo>
                      <a:lnTo>
                        <a:pt x="46" y="173"/>
                      </a:lnTo>
                      <a:lnTo>
                        <a:pt x="50" y="114"/>
                      </a:lnTo>
                      <a:lnTo>
                        <a:pt x="56" y="56"/>
                      </a:lnTo>
                      <a:lnTo>
                        <a:pt x="67" y="0"/>
                      </a:lnTo>
                      <a:lnTo>
                        <a:pt x="36" y="35"/>
                      </a:lnTo>
                      <a:lnTo>
                        <a:pt x="9" y="73"/>
                      </a:lnTo>
                      <a:lnTo>
                        <a:pt x="2" y="151"/>
                      </a:lnTo>
                      <a:lnTo>
                        <a:pt x="0" y="191"/>
                      </a:lnTo>
                      <a:lnTo>
                        <a:pt x="0" y="233"/>
                      </a:lnTo>
                      <a:lnTo>
                        <a:pt x="1" y="295"/>
                      </a:lnTo>
                      <a:lnTo>
                        <a:pt x="4" y="357"/>
                      </a:lnTo>
                      <a:lnTo>
                        <a:pt x="6" y="387"/>
                      </a:lnTo>
                      <a:lnTo>
                        <a:pt x="11" y="417"/>
                      </a:lnTo>
                      <a:lnTo>
                        <a:pt x="21" y="478"/>
                      </a:lnTo>
                      <a:lnTo>
                        <a:pt x="34" y="535"/>
                      </a:lnTo>
                      <a:lnTo>
                        <a:pt x="40" y="564"/>
                      </a:lnTo>
                      <a:lnTo>
                        <a:pt x="50" y="593"/>
                      </a:lnTo>
                      <a:lnTo>
                        <a:pt x="57" y="620"/>
                      </a:lnTo>
                      <a:lnTo>
                        <a:pt x="68" y="649"/>
                      </a:lnTo>
                      <a:lnTo>
                        <a:pt x="89" y="704"/>
                      </a:lnTo>
                      <a:lnTo>
                        <a:pt x="99" y="730"/>
                      </a:lnTo>
                      <a:lnTo>
                        <a:pt x="112" y="758"/>
                      </a:lnTo>
                      <a:lnTo>
                        <a:pt x="138" y="810"/>
                      </a:lnTo>
                      <a:lnTo>
                        <a:pt x="152" y="835"/>
                      </a:lnTo>
                      <a:lnTo>
                        <a:pt x="167" y="861"/>
                      </a:lnTo>
                      <a:lnTo>
                        <a:pt x="200" y="912"/>
                      </a:lnTo>
                      <a:lnTo>
                        <a:pt x="235" y="961"/>
                      </a:lnTo>
                      <a:lnTo>
                        <a:pt x="254" y="984"/>
                      </a:lnTo>
                      <a:lnTo>
                        <a:pt x="274" y="1009"/>
                      </a:lnTo>
                      <a:lnTo>
                        <a:pt x="293" y="1032"/>
                      </a:lnTo>
                      <a:lnTo>
                        <a:pt x="315" y="1056"/>
                      </a:lnTo>
                      <a:lnTo>
                        <a:pt x="359" y="1102"/>
                      </a:lnTo>
                      <a:lnTo>
                        <a:pt x="406" y="1146"/>
                      </a:lnTo>
                      <a:lnTo>
                        <a:pt x="454" y="1188"/>
                      </a:lnTo>
                      <a:lnTo>
                        <a:pt x="503" y="1227"/>
                      </a:lnTo>
                      <a:lnTo>
                        <a:pt x="554" y="1263"/>
                      </a:lnTo>
                      <a:lnTo>
                        <a:pt x="605" y="1295"/>
                      </a:lnTo>
                      <a:lnTo>
                        <a:pt x="658" y="1326"/>
                      </a:lnTo>
                      <a:lnTo>
                        <a:pt x="712" y="1353"/>
                      </a:lnTo>
                      <a:lnTo>
                        <a:pt x="768" y="1378"/>
                      </a:lnTo>
                      <a:close/>
                    </a:path>
                  </a:pathLst>
                </a:custGeom>
                <a:solidFill>
                  <a:srgbClr val="ff1c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962320" y="3348000"/>
                  <a:ext cx="259920" cy="406440"/>
                </a:xfrm>
                <a:custGeom>
                  <a:avLst/>
                  <a:gdLst/>
                  <a:ahLst/>
                  <a:rect l="l" t="t" r="r" b="b"/>
                  <a:pathLst>
                    <a:path w="909" h="1424">
                      <a:moveTo>
                        <a:pt x="823" y="1424"/>
                      </a:moveTo>
                      <a:lnTo>
                        <a:pt x="866" y="1413"/>
                      </a:lnTo>
                      <a:lnTo>
                        <a:pt x="909" y="1401"/>
                      </a:lnTo>
                      <a:lnTo>
                        <a:pt x="871" y="1391"/>
                      </a:lnTo>
                      <a:lnTo>
                        <a:pt x="834" y="1380"/>
                      </a:lnTo>
                      <a:lnTo>
                        <a:pt x="763" y="1355"/>
                      </a:lnTo>
                      <a:lnTo>
                        <a:pt x="694" y="1323"/>
                      </a:lnTo>
                      <a:lnTo>
                        <a:pt x="627" y="1289"/>
                      </a:lnTo>
                      <a:lnTo>
                        <a:pt x="560" y="1248"/>
                      </a:lnTo>
                      <a:lnTo>
                        <a:pt x="528" y="1227"/>
                      </a:lnTo>
                      <a:lnTo>
                        <a:pt x="498" y="1204"/>
                      </a:lnTo>
                      <a:lnTo>
                        <a:pt x="466" y="1179"/>
                      </a:lnTo>
                      <a:lnTo>
                        <a:pt x="437" y="1153"/>
                      </a:lnTo>
                      <a:lnTo>
                        <a:pt x="379" y="1099"/>
                      </a:lnTo>
                      <a:lnTo>
                        <a:pt x="337" y="1056"/>
                      </a:lnTo>
                      <a:lnTo>
                        <a:pt x="299" y="1013"/>
                      </a:lnTo>
                      <a:lnTo>
                        <a:pt x="264" y="967"/>
                      </a:lnTo>
                      <a:lnTo>
                        <a:pt x="231" y="922"/>
                      </a:lnTo>
                      <a:lnTo>
                        <a:pt x="201" y="874"/>
                      </a:lnTo>
                      <a:lnTo>
                        <a:pt x="173" y="827"/>
                      </a:lnTo>
                      <a:lnTo>
                        <a:pt x="160" y="802"/>
                      </a:lnTo>
                      <a:lnTo>
                        <a:pt x="149" y="778"/>
                      </a:lnTo>
                      <a:lnTo>
                        <a:pt x="127" y="729"/>
                      </a:lnTo>
                      <a:lnTo>
                        <a:pt x="107" y="677"/>
                      </a:lnTo>
                      <a:lnTo>
                        <a:pt x="90" y="626"/>
                      </a:lnTo>
                      <a:lnTo>
                        <a:pt x="75" y="573"/>
                      </a:lnTo>
                      <a:lnTo>
                        <a:pt x="65" y="519"/>
                      </a:lnTo>
                      <a:lnTo>
                        <a:pt x="54" y="464"/>
                      </a:lnTo>
                      <a:lnTo>
                        <a:pt x="49" y="408"/>
                      </a:lnTo>
                      <a:lnTo>
                        <a:pt x="45" y="350"/>
                      </a:lnTo>
                      <a:lnTo>
                        <a:pt x="44" y="293"/>
                      </a:lnTo>
                      <a:lnTo>
                        <a:pt x="46" y="216"/>
                      </a:lnTo>
                      <a:lnTo>
                        <a:pt x="53" y="142"/>
                      </a:lnTo>
                      <a:lnTo>
                        <a:pt x="65" y="69"/>
                      </a:lnTo>
                      <a:lnTo>
                        <a:pt x="80" y="0"/>
                      </a:lnTo>
                      <a:lnTo>
                        <a:pt x="61" y="19"/>
                      </a:lnTo>
                      <a:lnTo>
                        <a:pt x="22" y="60"/>
                      </a:lnTo>
                      <a:lnTo>
                        <a:pt x="11" y="116"/>
                      </a:lnTo>
                      <a:lnTo>
                        <a:pt x="5" y="174"/>
                      </a:lnTo>
                      <a:lnTo>
                        <a:pt x="1" y="233"/>
                      </a:lnTo>
                      <a:lnTo>
                        <a:pt x="0" y="293"/>
                      </a:lnTo>
                      <a:lnTo>
                        <a:pt x="1" y="353"/>
                      </a:lnTo>
                      <a:lnTo>
                        <a:pt x="5" y="413"/>
                      </a:lnTo>
                      <a:lnTo>
                        <a:pt x="7" y="441"/>
                      </a:lnTo>
                      <a:lnTo>
                        <a:pt x="11" y="471"/>
                      </a:lnTo>
                      <a:lnTo>
                        <a:pt x="22" y="528"/>
                      </a:lnTo>
                      <a:lnTo>
                        <a:pt x="26" y="556"/>
                      </a:lnTo>
                      <a:lnTo>
                        <a:pt x="33" y="584"/>
                      </a:lnTo>
                      <a:lnTo>
                        <a:pt x="48" y="640"/>
                      </a:lnTo>
                      <a:lnTo>
                        <a:pt x="65" y="693"/>
                      </a:lnTo>
                      <a:lnTo>
                        <a:pt x="86" y="746"/>
                      </a:lnTo>
                      <a:lnTo>
                        <a:pt x="108" y="797"/>
                      </a:lnTo>
                      <a:lnTo>
                        <a:pt x="134" y="848"/>
                      </a:lnTo>
                      <a:lnTo>
                        <a:pt x="162" y="897"/>
                      </a:lnTo>
                      <a:lnTo>
                        <a:pt x="177" y="921"/>
                      </a:lnTo>
                      <a:lnTo>
                        <a:pt x="194" y="946"/>
                      </a:lnTo>
                      <a:lnTo>
                        <a:pt x="227" y="992"/>
                      </a:lnTo>
                      <a:lnTo>
                        <a:pt x="244" y="1015"/>
                      </a:lnTo>
                      <a:lnTo>
                        <a:pt x="263" y="1039"/>
                      </a:lnTo>
                      <a:lnTo>
                        <a:pt x="303" y="1084"/>
                      </a:lnTo>
                      <a:lnTo>
                        <a:pt x="346" y="1129"/>
                      </a:lnTo>
                      <a:lnTo>
                        <a:pt x="398" y="1179"/>
                      </a:lnTo>
                      <a:lnTo>
                        <a:pt x="454" y="1226"/>
                      </a:lnTo>
                      <a:lnTo>
                        <a:pt x="510" y="1269"/>
                      </a:lnTo>
                      <a:lnTo>
                        <a:pt x="570" y="1309"/>
                      </a:lnTo>
                      <a:lnTo>
                        <a:pt x="630" y="1343"/>
                      </a:lnTo>
                      <a:lnTo>
                        <a:pt x="693" y="1373"/>
                      </a:lnTo>
                      <a:lnTo>
                        <a:pt x="756" y="1400"/>
                      </a:lnTo>
                      <a:lnTo>
                        <a:pt x="823" y="1424"/>
                      </a:lnTo>
                      <a:close/>
                    </a:path>
                  </a:pathLst>
                </a:custGeom>
                <a:solidFill>
                  <a:srgbClr val="ff21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13000" y="3441240"/>
                  <a:ext cx="193320" cy="314640"/>
                </a:xfrm>
                <a:custGeom>
                  <a:avLst/>
                  <a:gdLst/>
                  <a:ahLst/>
                  <a:rect l="l" t="t" r="r" b="b"/>
                  <a:pathLst>
                    <a:path w="675" h="1103">
                      <a:moveTo>
                        <a:pt x="34" y="0"/>
                      </a:moveTo>
                      <a:lnTo>
                        <a:pt x="13" y="66"/>
                      </a:lnTo>
                      <a:lnTo>
                        <a:pt x="0" y="138"/>
                      </a:lnTo>
                      <a:lnTo>
                        <a:pt x="5" y="193"/>
                      </a:lnTo>
                      <a:lnTo>
                        <a:pt x="16" y="249"/>
                      </a:lnTo>
                      <a:lnTo>
                        <a:pt x="28" y="303"/>
                      </a:lnTo>
                      <a:lnTo>
                        <a:pt x="43" y="358"/>
                      </a:lnTo>
                      <a:lnTo>
                        <a:pt x="59" y="410"/>
                      </a:lnTo>
                      <a:lnTo>
                        <a:pt x="78" y="462"/>
                      </a:lnTo>
                      <a:lnTo>
                        <a:pt x="99" y="513"/>
                      </a:lnTo>
                      <a:lnTo>
                        <a:pt x="123" y="564"/>
                      </a:lnTo>
                      <a:lnTo>
                        <a:pt x="147" y="613"/>
                      </a:lnTo>
                      <a:lnTo>
                        <a:pt x="175" y="662"/>
                      </a:lnTo>
                      <a:lnTo>
                        <a:pt x="205" y="708"/>
                      </a:lnTo>
                      <a:lnTo>
                        <a:pt x="238" y="756"/>
                      </a:lnTo>
                      <a:lnTo>
                        <a:pt x="271" y="801"/>
                      </a:lnTo>
                      <a:lnTo>
                        <a:pt x="308" y="846"/>
                      </a:lnTo>
                      <a:lnTo>
                        <a:pt x="348" y="890"/>
                      </a:lnTo>
                      <a:lnTo>
                        <a:pt x="390" y="934"/>
                      </a:lnTo>
                      <a:lnTo>
                        <a:pt x="427" y="970"/>
                      </a:lnTo>
                      <a:lnTo>
                        <a:pt x="467" y="1005"/>
                      </a:lnTo>
                      <a:lnTo>
                        <a:pt x="506" y="1039"/>
                      </a:lnTo>
                      <a:lnTo>
                        <a:pt x="548" y="1072"/>
                      </a:lnTo>
                      <a:lnTo>
                        <a:pt x="611" y="1089"/>
                      </a:lnTo>
                      <a:lnTo>
                        <a:pt x="675" y="1103"/>
                      </a:lnTo>
                      <a:lnTo>
                        <a:pt x="641" y="1081"/>
                      </a:lnTo>
                      <a:lnTo>
                        <a:pt x="609" y="1058"/>
                      </a:lnTo>
                      <a:lnTo>
                        <a:pt x="544" y="1011"/>
                      </a:lnTo>
                      <a:lnTo>
                        <a:pt x="512" y="985"/>
                      </a:lnTo>
                      <a:lnTo>
                        <a:pt x="482" y="958"/>
                      </a:lnTo>
                      <a:lnTo>
                        <a:pt x="423" y="901"/>
                      </a:lnTo>
                      <a:lnTo>
                        <a:pt x="376" y="852"/>
                      </a:lnTo>
                      <a:lnTo>
                        <a:pt x="353" y="827"/>
                      </a:lnTo>
                      <a:lnTo>
                        <a:pt x="333" y="803"/>
                      </a:lnTo>
                      <a:lnTo>
                        <a:pt x="293" y="753"/>
                      </a:lnTo>
                      <a:lnTo>
                        <a:pt x="274" y="727"/>
                      </a:lnTo>
                      <a:lnTo>
                        <a:pt x="257" y="702"/>
                      </a:lnTo>
                      <a:lnTo>
                        <a:pt x="222" y="649"/>
                      </a:lnTo>
                      <a:lnTo>
                        <a:pt x="205" y="622"/>
                      </a:lnTo>
                      <a:lnTo>
                        <a:pt x="190" y="596"/>
                      </a:lnTo>
                      <a:lnTo>
                        <a:pt x="162" y="541"/>
                      </a:lnTo>
                      <a:lnTo>
                        <a:pt x="137" y="487"/>
                      </a:lnTo>
                      <a:lnTo>
                        <a:pt x="113" y="429"/>
                      </a:lnTo>
                      <a:lnTo>
                        <a:pt x="102" y="400"/>
                      </a:lnTo>
                      <a:lnTo>
                        <a:pt x="93" y="371"/>
                      </a:lnTo>
                      <a:lnTo>
                        <a:pt x="76" y="312"/>
                      </a:lnTo>
                      <a:lnTo>
                        <a:pt x="68" y="282"/>
                      </a:lnTo>
                      <a:lnTo>
                        <a:pt x="62" y="252"/>
                      </a:lnTo>
                      <a:lnTo>
                        <a:pt x="50" y="190"/>
                      </a:lnTo>
                      <a:lnTo>
                        <a:pt x="42" y="128"/>
                      </a:lnTo>
                      <a:lnTo>
                        <a:pt x="36" y="64"/>
                      </a:lnTo>
                      <a:lnTo>
                        <a:pt x="34" y="31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0d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22720" y="3410280"/>
                  <a:ext cx="215640" cy="348840"/>
                </a:xfrm>
                <a:custGeom>
                  <a:avLst/>
                  <a:gdLst/>
                  <a:ahLst/>
                  <a:rect l="l" t="t" r="r" b="b"/>
                  <a:pathLst>
                    <a:path w="755" h="1221">
                      <a:moveTo>
                        <a:pt x="47" y="0"/>
                      </a:moveTo>
                      <a:lnTo>
                        <a:pt x="21" y="51"/>
                      </a:lnTo>
                      <a:lnTo>
                        <a:pt x="0" y="107"/>
                      </a:lnTo>
                      <a:lnTo>
                        <a:pt x="0" y="138"/>
                      </a:lnTo>
                      <a:lnTo>
                        <a:pt x="2" y="171"/>
                      </a:lnTo>
                      <a:lnTo>
                        <a:pt x="8" y="235"/>
                      </a:lnTo>
                      <a:lnTo>
                        <a:pt x="16" y="297"/>
                      </a:lnTo>
                      <a:lnTo>
                        <a:pt x="28" y="359"/>
                      </a:lnTo>
                      <a:lnTo>
                        <a:pt x="34" y="389"/>
                      </a:lnTo>
                      <a:lnTo>
                        <a:pt x="42" y="419"/>
                      </a:lnTo>
                      <a:lnTo>
                        <a:pt x="59" y="478"/>
                      </a:lnTo>
                      <a:lnTo>
                        <a:pt x="68" y="507"/>
                      </a:lnTo>
                      <a:lnTo>
                        <a:pt x="79" y="536"/>
                      </a:lnTo>
                      <a:lnTo>
                        <a:pt x="103" y="594"/>
                      </a:lnTo>
                      <a:lnTo>
                        <a:pt x="128" y="648"/>
                      </a:lnTo>
                      <a:lnTo>
                        <a:pt x="156" y="703"/>
                      </a:lnTo>
                      <a:lnTo>
                        <a:pt x="171" y="729"/>
                      </a:lnTo>
                      <a:lnTo>
                        <a:pt x="188" y="756"/>
                      </a:lnTo>
                      <a:lnTo>
                        <a:pt x="223" y="809"/>
                      </a:lnTo>
                      <a:lnTo>
                        <a:pt x="240" y="834"/>
                      </a:lnTo>
                      <a:lnTo>
                        <a:pt x="259" y="860"/>
                      </a:lnTo>
                      <a:lnTo>
                        <a:pt x="299" y="910"/>
                      </a:lnTo>
                      <a:lnTo>
                        <a:pt x="319" y="934"/>
                      </a:lnTo>
                      <a:lnTo>
                        <a:pt x="342" y="959"/>
                      </a:lnTo>
                      <a:lnTo>
                        <a:pt x="389" y="1008"/>
                      </a:lnTo>
                      <a:lnTo>
                        <a:pt x="448" y="1065"/>
                      </a:lnTo>
                      <a:lnTo>
                        <a:pt x="478" y="1092"/>
                      </a:lnTo>
                      <a:lnTo>
                        <a:pt x="510" y="1118"/>
                      </a:lnTo>
                      <a:lnTo>
                        <a:pt x="575" y="1165"/>
                      </a:lnTo>
                      <a:lnTo>
                        <a:pt x="607" y="1188"/>
                      </a:lnTo>
                      <a:lnTo>
                        <a:pt x="641" y="1210"/>
                      </a:lnTo>
                      <a:lnTo>
                        <a:pt x="697" y="1216"/>
                      </a:lnTo>
                      <a:lnTo>
                        <a:pt x="755" y="1221"/>
                      </a:lnTo>
                      <a:lnTo>
                        <a:pt x="709" y="1197"/>
                      </a:lnTo>
                      <a:lnTo>
                        <a:pt x="665" y="1171"/>
                      </a:lnTo>
                      <a:lnTo>
                        <a:pt x="622" y="1143"/>
                      </a:lnTo>
                      <a:lnTo>
                        <a:pt x="580" y="1114"/>
                      </a:lnTo>
                      <a:lnTo>
                        <a:pt x="538" y="1082"/>
                      </a:lnTo>
                      <a:lnTo>
                        <a:pt x="497" y="1049"/>
                      </a:lnTo>
                      <a:lnTo>
                        <a:pt x="458" y="1014"/>
                      </a:lnTo>
                      <a:lnTo>
                        <a:pt x="419" y="976"/>
                      </a:lnTo>
                      <a:lnTo>
                        <a:pt x="373" y="927"/>
                      </a:lnTo>
                      <a:lnTo>
                        <a:pt x="331" y="879"/>
                      </a:lnTo>
                      <a:lnTo>
                        <a:pt x="291" y="829"/>
                      </a:lnTo>
                      <a:lnTo>
                        <a:pt x="255" y="779"/>
                      </a:lnTo>
                      <a:lnTo>
                        <a:pt x="237" y="752"/>
                      </a:lnTo>
                      <a:lnTo>
                        <a:pt x="221" y="726"/>
                      </a:lnTo>
                      <a:lnTo>
                        <a:pt x="190" y="672"/>
                      </a:lnTo>
                      <a:lnTo>
                        <a:pt x="163" y="618"/>
                      </a:lnTo>
                      <a:lnTo>
                        <a:pt x="139" y="563"/>
                      </a:lnTo>
                      <a:lnTo>
                        <a:pt x="127" y="534"/>
                      </a:lnTo>
                      <a:lnTo>
                        <a:pt x="116" y="506"/>
                      </a:lnTo>
                      <a:lnTo>
                        <a:pt x="97" y="448"/>
                      </a:lnTo>
                      <a:lnTo>
                        <a:pt x="88" y="417"/>
                      </a:lnTo>
                      <a:lnTo>
                        <a:pt x="81" y="388"/>
                      </a:lnTo>
                      <a:lnTo>
                        <a:pt x="69" y="328"/>
                      </a:lnTo>
                      <a:lnTo>
                        <a:pt x="59" y="265"/>
                      </a:lnTo>
                      <a:lnTo>
                        <a:pt x="54" y="234"/>
                      </a:lnTo>
                      <a:lnTo>
                        <a:pt x="52" y="203"/>
                      </a:lnTo>
                      <a:lnTo>
                        <a:pt x="48" y="170"/>
                      </a:lnTo>
                      <a:lnTo>
                        <a:pt x="47" y="138"/>
                      </a:lnTo>
                      <a:lnTo>
                        <a:pt x="46" y="74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12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936040" y="3385800"/>
                  <a:ext cx="233280" cy="373320"/>
                </a:xfrm>
                <a:custGeom>
                  <a:avLst/>
                  <a:gdLst/>
                  <a:ahLst/>
                  <a:rect l="l" t="t" r="r" b="b"/>
                  <a:pathLst>
                    <a:path w="815" h="1307">
                      <a:moveTo>
                        <a:pt x="1" y="86"/>
                      </a:moveTo>
                      <a:lnTo>
                        <a:pt x="0" y="160"/>
                      </a:lnTo>
                      <a:lnTo>
                        <a:pt x="1" y="224"/>
                      </a:lnTo>
                      <a:lnTo>
                        <a:pt x="2" y="256"/>
                      </a:lnTo>
                      <a:lnTo>
                        <a:pt x="6" y="289"/>
                      </a:lnTo>
                      <a:lnTo>
                        <a:pt x="8" y="320"/>
                      </a:lnTo>
                      <a:lnTo>
                        <a:pt x="13" y="351"/>
                      </a:lnTo>
                      <a:lnTo>
                        <a:pt x="23" y="414"/>
                      </a:lnTo>
                      <a:lnTo>
                        <a:pt x="35" y="474"/>
                      </a:lnTo>
                      <a:lnTo>
                        <a:pt x="42" y="503"/>
                      </a:lnTo>
                      <a:lnTo>
                        <a:pt x="51" y="534"/>
                      </a:lnTo>
                      <a:lnTo>
                        <a:pt x="70" y="592"/>
                      </a:lnTo>
                      <a:lnTo>
                        <a:pt x="81" y="620"/>
                      </a:lnTo>
                      <a:lnTo>
                        <a:pt x="93" y="649"/>
                      </a:lnTo>
                      <a:lnTo>
                        <a:pt x="117" y="704"/>
                      </a:lnTo>
                      <a:lnTo>
                        <a:pt x="144" y="758"/>
                      </a:lnTo>
                      <a:lnTo>
                        <a:pt x="175" y="812"/>
                      </a:lnTo>
                      <a:lnTo>
                        <a:pt x="191" y="838"/>
                      </a:lnTo>
                      <a:lnTo>
                        <a:pt x="209" y="865"/>
                      </a:lnTo>
                      <a:lnTo>
                        <a:pt x="245" y="915"/>
                      </a:lnTo>
                      <a:lnTo>
                        <a:pt x="285" y="965"/>
                      </a:lnTo>
                      <a:lnTo>
                        <a:pt x="327" y="1013"/>
                      </a:lnTo>
                      <a:lnTo>
                        <a:pt x="373" y="1062"/>
                      </a:lnTo>
                      <a:lnTo>
                        <a:pt x="412" y="1100"/>
                      </a:lnTo>
                      <a:lnTo>
                        <a:pt x="451" y="1135"/>
                      </a:lnTo>
                      <a:lnTo>
                        <a:pt x="492" y="1168"/>
                      </a:lnTo>
                      <a:lnTo>
                        <a:pt x="534" y="1200"/>
                      </a:lnTo>
                      <a:lnTo>
                        <a:pt x="576" y="1229"/>
                      </a:lnTo>
                      <a:lnTo>
                        <a:pt x="619" y="1257"/>
                      </a:lnTo>
                      <a:lnTo>
                        <a:pt x="663" y="1283"/>
                      </a:lnTo>
                      <a:lnTo>
                        <a:pt x="709" y="1307"/>
                      </a:lnTo>
                      <a:lnTo>
                        <a:pt x="742" y="1307"/>
                      </a:lnTo>
                      <a:lnTo>
                        <a:pt x="760" y="1306"/>
                      </a:lnTo>
                      <a:lnTo>
                        <a:pt x="779" y="1306"/>
                      </a:lnTo>
                      <a:lnTo>
                        <a:pt x="815" y="1305"/>
                      </a:lnTo>
                      <a:lnTo>
                        <a:pt x="759" y="1280"/>
                      </a:lnTo>
                      <a:lnTo>
                        <a:pt x="705" y="1253"/>
                      </a:lnTo>
                      <a:lnTo>
                        <a:pt x="652" y="1222"/>
                      </a:lnTo>
                      <a:lnTo>
                        <a:pt x="601" y="1190"/>
                      </a:lnTo>
                      <a:lnTo>
                        <a:pt x="550" y="1154"/>
                      </a:lnTo>
                      <a:lnTo>
                        <a:pt x="501" y="1115"/>
                      </a:lnTo>
                      <a:lnTo>
                        <a:pt x="453" y="1073"/>
                      </a:lnTo>
                      <a:lnTo>
                        <a:pt x="406" y="1029"/>
                      </a:lnTo>
                      <a:lnTo>
                        <a:pt x="362" y="983"/>
                      </a:lnTo>
                      <a:lnTo>
                        <a:pt x="340" y="959"/>
                      </a:lnTo>
                      <a:lnTo>
                        <a:pt x="321" y="936"/>
                      </a:lnTo>
                      <a:lnTo>
                        <a:pt x="301" y="911"/>
                      </a:lnTo>
                      <a:lnTo>
                        <a:pt x="282" y="888"/>
                      </a:lnTo>
                      <a:lnTo>
                        <a:pt x="247" y="839"/>
                      </a:lnTo>
                      <a:lnTo>
                        <a:pt x="214" y="788"/>
                      </a:lnTo>
                      <a:lnTo>
                        <a:pt x="199" y="762"/>
                      </a:lnTo>
                      <a:lnTo>
                        <a:pt x="185" y="737"/>
                      </a:lnTo>
                      <a:lnTo>
                        <a:pt x="159" y="685"/>
                      </a:lnTo>
                      <a:lnTo>
                        <a:pt x="146" y="657"/>
                      </a:lnTo>
                      <a:lnTo>
                        <a:pt x="136" y="631"/>
                      </a:lnTo>
                      <a:lnTo>
                        <a:pt x="115" y="576"/>
                      </a:lnTo>
                      <a:lnTo>
                        <a:pt x="104" y="547"/>
                      </a:lnTo>
                      <a:lnTo>
                        <a:pt x="97" y="520"/>
                      </a:lnTo>
                      <a:lnTo>
                        <a:pt x="87" y="491"/>
                      </a:lnTo>
                      <a:lnTo>
                        <a:pt x="81" y="462"/>
                      </a:lnTo>
                      <a:lnTo>
                        <a:pt x="68" y="405"/>
                      </a:lnTo>
                      <a:lnTo>
                        <a:pt x="58" y="344"/>
                      </a:lnTo>
                      <a:lnTo>
                        <a:pt x="53" y="314"/>
                      </a:lnTo>
                      <a:lnTo>
                        <a:pt x="51" y="284"/>
                      </a:lnTo>
                      <a:lnTo>
                        <a:pt x="48" y="222"/>
                      </a:lnTo>
                      <a:lnTo>
                        <a:pt x="47" y="160"/>
                      </a:lnTo>
                      <a:lnTo>
                        <a:pt x="47" y="118"/>
                      </a:lnTo>
                      <a:lnTo>
                        <a:pt x="49" y="78"/>
                      </a:lnTo>
                      <a:lnTo>
                        <a:pt x="56" y="0"/>
                      </a:lnTo>
                      <a:lnTo>
                        <a:pt x="27" y="42"/>
                      </a:lnTo>
                      <a:lnTo>
                        <a:pt x="1" y="86"/>
                      </a:lnTo>
                      <a:close/>
                    </a:path>
                  </a:pathLst>
                </a:custGeom>
                <a:solidFill>
                  <a:srgbClr val="ff1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909760" y="3480480"/>
                  <a:ext cx="160200" cy="266400"/>
                </a:xfrm>
                <a:custGeom>
                  <a:avLst/>
                  <a:gdLst/>
                  <a:ahLst/>
                  <a:rect l="l" t="t" r="r" b="b"/>
                  <a:pathLst>
                    <a:path w="560" h="934">
                      <a:moveTo>
                        <a:pt x="0" y="144"/>
                      </a:moveTo>
                      <a:lnTo>
                        <a:pt x="1" y="201"/>
                      </a:lnTo>
                      <a:lnTo>
                        <a:pt x="13" y="242"/>
                      </a:lnTo>
                      <a:lnTo>
                        <a:pt x="26" y="286"/>
                      </a:lnTo>
                      <a:lnTo>
                        <a:pt x="41" y="328"/>
                      </a:lnTo>
                      <a:lnTo>
                        <a:pt x="58" y="371"/>
                      </a:lnTo>
                      <a:lnTo>
                        <a:pt x="75" y="411"/>
                      </a:lnTo>
                      <a:lnTo>
                        <a:pt x="94" y="452"/>
                      </a:lnTo>
                      <a:lnTo>
                        <a:pt x="115" y="492"/>
                      </a:lnTo>
                      <a:lnTo>
                        <a:pt x="139" y="533"/>
                      </a:lnTo>
                      <a:lnTo>
                        <a:pt x="161" y="570"/>
                      </a:lnTo>
                      <a:lnTo>
                        <a:pt x="187" y="609"/>
                      </a:lnTo>
                      <a:lnTo>
                        <a:pt x="213" y="646"/>
                      </a:lnTo>
                      <a:lnTo>
                        <a:pt x="243" y="684"/>
                      </a:lnTo>
                      <a:lnTo>
                        <a:pt x="271" y="719"/>
                      </a:lnTo>
                      <a:lnTo>
                        <a:pt x="303" y="755"/>
                      </a:lnTo>
                      <a:lnTo>
                        <a:pt x="335" y="790"/>
                      </a:lnTo>
                      <a:lnTo>
                        <a:pt x="370" y="826"/>
                      </a:lnTo>
                      <a:lnTo>
                        <a:pt x="386" y="842"/>
                      </a:lnTo>
                      <a:lnTo>
                        <a:pt x="403" y="858"/>
                      </a:lnTo>
                      <a:lnTo>
                        <a:pt x="439" y="880"/>
                      </a:lnTo>
                      <a:lnTo>
                        <a:pt x="479" y="900"/>
                      </a:lnTo>
                      <a:lnTo>
                        <a:pt x="518" y="917"/>
                      </a:lnTo>
                      <a:lnTo>
                        <a:pt x="560" y="934"/>
                      </a:lnTo>
                      <a:lnTo>
                        <a:pt x="518" y="901"/>
                      </a:lnTo>
                      <a:lnTo>
                        <a:pt x="479" y="867"/>
                      </a:lnTo>
                      <a:lnTo>
                        <a:pt x="439" y="832"/>
                      </a:lnTo>
                      <a:lnTo>
                        <a:pt x="402" y="796"/>
                      </a:lnTo>
                      <a:lnTo>
                        <a:pt x="360" y="752"/>
                      </a:lnTo>
                      <a:lnTo>
                        <a:pt x="320" y="708"/>
                      </a:lnTo>
                      <a:lnTo>
                        <a:pt x="283" y="663"/>
                      </a:lnTo>
                      <a:lnTo>
                        <a:pt x="250" y="618"/>
                      </a:lnTo>
                      <a:lnTo>
                        <a:pt x="217" y="570"/>
                      </a:lnTo>
                      <a:lnTo>
                        <a:pt x="187" y="524"/>
                      </a:lnTo>
                      <a:lnTo>
                        <a:pt x="159" y="475"/>
                      </a:lnTo>
                      <a:lnTo>
                        <a:pt x="135" y="426"/>
                      </a:lnTo>
                      <a:lnTo>
                        <a:pt x="111" y="375"/>
                      </a:lnTo>
                      <a:lnTo>
                        <a:pt x="90" y="324"/>
                      </a:lnTo>
                      <a:lnTo>
                        <a:pt x="71" y="272"/>
                      </a:lnTo>
                      <a:lnTo>
                        <a:pt x="55" y="220"/>
                      </a:lnTo>
                      <a:lnTo>
                        <a:pt x="40" y="165"/>
                      </a:lnTo>
                      <a:lnTo>
                        <a:pt x="28" y="111"/>
                      </a:lnTo>
                      <a:lnTo>
                        <a:pt x="17" y="55"/>
                      </a:lnTo>
                      <a:lnTo>
                        <a:pt x="12" y="0"/>
                      </a:lnTo>
                      <a:lnTo>
                        <a:pt x="6" y="34"/>
                      </a:lnTo>
                      <a:lnTo>
                        <a:pt x="3" y="7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09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910120" y="3537720"/>
                  <a:ext cx="114120" cy="187920"/>
                </a:xfrm>
                <a:custGeom>
                  <a:avLst/>
                  <a:gdLst/>
                  <a:ahLst/>
                  <a:rect l="l" t="t" r="r" b="b"/>
                  <a:pathLst>
                    <a:path w="402" h="657">
                      <a:moveTo>
                        <a:pt x="402" y="657"/>
                      </a:moveTo>
                      <a:lnTo>
                        <a:pt x="385" y="641"/>
                      </a:lnTo>
                      <a:lnTo>
                        <a:pt x="369" y="625"/>
                      </a:lnTo>
                      <a:lnTo>
                        <a:pt x="334" y="589"/>
                      </a:lnTo>
                      <a:lnTo>
                        <a:pt x="302" y="554"/>
                      </a:lnTo>
                      <a:lnTo>
                        <a:pt x="270" y="518"/>
                      </a:lnTo>
                      <a:lnTo>
                        <a:pt x="242" y="483"/>
                      </a:lnTo>
                      <a:lnTo>
                        <a:pt x="212" y="445"/>
                      </a:lnTo>
                      <a:lnTo>
                        <a:pt x="186" y="408"/>
                      </a:lnTo>
                      <a:lnTo>
                        <a:pt x="160" y="369"/>
                      </a:lnTo>
                      <a:lnTo>
                        <a:pt x="138" y="332"/>
                      </a:lnTo>
                      <a:lnTo>
                        <a:pt x="114" y="291"/>
                      </a:lnTo>
                      <a:lnTo>
                        <a:pt x="93" y="251"/>
                      </a:lnTo>
                      <a:lnTo>
                        <a:pt x="74" y="210"/>
                      </a:lnTo>
                      <a:lnTo>
                        <a:pt x="57" y="170"/>
                      </a:lnTo>
                      <a:lnTo>
                        <a:pt x="40" y="127"/>
                      </a:lnTo>
                      <a:lnTo>
                        <a:pt x="25" y="85"/>
                      </a:lnTo>
                      <a:lnTo>
                        <a:pt x="12" y="41"/>
                      </a:lnTo>
                      <a:lnTo>
                        <a:pt x="0" y="0"/>
                      </a:lnTo>
                      <a:lnTo>
                        <a:pt x="3" y="36"/>
                      </a:lnTo>
                      <a:lnTo>
                        <a:pt x="7" y="73"/>
                      </a:lnTo>
                      <a:lnTo>
                        <a:pt x="13" y="109"/>
                      </a:lnTo>
                      <a:lnTo>
                        <a:pt x="22" y="147"/>
                      </a:lnTo>
                      <a:lnTo>
                        <a:pt x="30" y="181"/>
                      </a:lnTo>
                      <a:lnTo>
                        <a:pt x="41" y="216"/>
                      </a:lnTo>
                      <a:lnTo>
                        <a:pt x="54" y="250"/>
                      </a:lnTo>
                      <a:lnTo>
                        <a:pt x="70" y="285"/>
                      </a:lnTo>
                      <a:lnTo>
                        <a:pt x="84" y="317"/>
                      </a:lnTo>
                      <a:lnTo>
                        <a:pt x="102" y="350"/>
                      </a:lnTo>
                      <a:lnTo>
                        <a:pt x="122" y="382"/>
                      </a:lnTo>
                      <a:lnTo>
                        <a:pt x="143" y="413"/>
                      </a:lnTo>
                      <a:lnTo>
                        <a:pt x="165" y="443"/>
                      </a:lnTo>
                      <a:lnTo>
                        <a:pt x="190" y="473"/>
                      </a:lnTo>
                      <a:lnTo>
                        <a:pt x="216" y="503"/>
                      </a:lnTo>
                      <a:lnTo>
                        <a:pt x="244" y="532"/>
                      </a:lnTo>
                      <a:lnTo>
                        <a:pt x="280" y="566"/>
                      </a:lnTo>
                      <a:lnTo>
                        <a:pt x="320" y="599"/>
                      </a:lnTo>
                      <a:lnTo>
                        <a:pt x="360" y="629"/>
                      </a:lnTo>
                      <a:lnTo>
                        <a:pt x="402" y="657"/>
                      </a:lnTo>
                      <a:close/>
                    </a:path>
                  </a:pathLst>
                </a:custGeom>
                <a:solidFill>
                  <a:srgbClr val="ff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909760" y="3283560"/>
                  <a:ext cx="477000" cy="475560"/>
                </a:xfrm>
                <a:custGeom>
                  <a:avLst/>
                  <a:gdLst/>
                  <a:ahLst/>
                  <a:rect l="l" t="t" r="r" b="b"/>
                  <a:pathLst>
                    <a:path w="1668" h="1666">
                      <a:moveTo>
                        <a:pt x="1668" y="834"/>
                      </a:moveTo>
                      <a:lnTo>
                        <a:pt x="1666" y="791"/>
                      </a:lnTo>
                      <a:lnTo>
                        <a:pt x="1662" y="749"/>
                      </a:lnTo>
                      <a:lnTo>
                        <a:pt x="1657" y="707"/>
                      </a:lnTo>
                      <a:lnTo>
                        <a:pt x="1651" y="667"/>
                      </a:lnTo>
                      <a:lnTo>
                        <a:pt x="1641" y="627"/>
                      </a:lnTo>
                      <a:lnTo>
                        <a:pt x="1631" y="589"/>
                      </a:lnTo>
                      <a:lnTo>
                        <a:pt x="1618" y="550"/>
                      </a:lnTo>
                      <a:lnTo>
                        <a:pt x="1605" y="514"/>
                      </a:lnTo>
                      <a:lnTo>
                        <a:pt x="1588" y="477"/>
                      </a:lnTo>
                      <a:lnTo>
                        <a:pt x="1570" y="442"/>
                      </a:lnTo>
                      <a:lnTo>
                        <a:pt x="1549" y="406"/>
                      </a:lnTo>
                      <a:lnTo>
                        <a:pt x="1528" y="372"/>
                      </a:lnTo>
                      <a:lnTo>
                        <a:pt x="1504" y="338"/>
                      </a:lnTo>
                      <a:lnTo>
                        <a:pt x="1478" y="307"/>
                      </a:lnTo>
                      <a:lnTo>
                        <a:pt x="1450" y="275"/>
                      </a:lnTo>
                      <a:lnTo>
                        <a:pt x="1422" y="245"/>
                      </a:lnTo>
                      <a:lnTo>
                        <a:pt x="1390" y="215"/>
                      </a:lnTo>
                      <a:lnTo>
                        <a:pt x="1359" y="188"/>
                      </a:lnTo>
                      <a:lnTo>
                        <a:pt x="1326" y="161"/>
                      </a:lnTo>
                      <a:lnTo>
                        <a:pt x="1293" y="138"/>
                      </a:lnTo>
                      <a:lnTo>
                        <a:pt x="1258" y="115"/>
                      </a:lnTo>
                      <a:lnTo>
                        <a:pt x="1224" y="96"/>
                      </a:lnTo>
                      <a:lnTo>
                        <a:pt x="1187" y="76"/>
                      </a:lnTo>
                      <a:lnTo>
                        <a:pt x="1152" y="62"/>
                      </a:lnTo>
                      <a:lnTo>
                        <a:pt x="1114" y="47"/>
                      </a:lnTo>
                      <a:lnTo>
                        <a:pt x="1076" y="35"/>
                      </a:lnTo>
                      <a:lnTo>
                        <a:pt x="1037" y="23"/>
                      </a:lnTo>
                      <a:lnTo>
                        <a:pt x="998" y="15"/>
                      </a:lnTo>
                      <a:lnTo>
                        <a:pt x="957" y="7"/>
                      </a:lnTo>
                      <a:lnTo>
                        <a:pt x="916" y="4"/>
                      </a:lnTo>
                      <a:lnTo>
                        <a:pt x="874" y="0"/>
                      </a:lnTo>
                      <a:lnTo>
                        <a:pt x="834" y="0"/>
                      </a:lnTo>
                      <a:lnTo>
                        <a:pt x="749" y="4"/>
                      </a:lnTo>
                      <a:lnTo>
                        <a:pt x="707" y="7"/>
                      </a:lnTo>
                      <a:lnTo>
                        <a:pt x="667" y="15"/>
                      </a:lnTo>
                      <a:lnTo>
                        <a:pt x="589" y="35"/>
                      </a:lnTo>
                      <a:lnTo>
                        <a:pt x="550" y="47"/>
                      </a:lnTo>
                      <a:lnTo>
                        <a:pt x="514" y="62"/>
                      </a:lnTo>
                      <a:lnTo>
                        <a:pt x="477" y="76"/>
                      </a:lnTo>
                      <a:lnTo>
                        <a:pt x="441" y="96"/>
                      </a:lnTo>
                      <a:lnTo>
                        <a:pt x="372" y="138"/>
                      </a:lnTo>
                      <a:lnTo>
                        <a:pt x="338" y="161"/>
                      </a:lnTo>
                      <a:lnTo>
                        <a:pt x="306" y="188"/>
                      </a:lnTo>
                      <a:lnTo>
                        <a:pt x="275" y="215"/>
                      </a:lnTo>
                      <a:lnTo>
                        <a:pt x="245" y="245"/>
                      </a:lnTo>
                      <a:lnTo>
                        <a:pt x="215" y="275"/>
                      </a:lnTo>
                      <a:lnTo>
                        <a:pt x="187" y="307"/>
                      </a:lnTo>
                      <a:lnTo>
                        <a:pt x="161" y="338"/>
                      </a:lnTo>
                      <a:lnTo>
                        <a:pt x="138" y="372"/>
                      </a:lnTo>
                      <a:lnTo>
                        <a:pt x="96" y="442"/>
                      </a:lnTo>
                      <a:lnTo>
                        <a:pt x="76" y="477"/>
                      </a:lnTo>
                      <a:lnTo>
                        <a:pt x="62" y="514"/>
                      </a:lnTo>
                      <a:lnTo>
                        <a:pt x="47" y="550"/>
                      </a:lnTo>
                      <a:lnTo>
                        <a:pt x="34" y="589"/>
                      </a:lnTo>
                      <a:lnTo>
                        <a:pt x="15" y="667"/>
                      </a:lnTo>
                      <a:lnTo>
                        <a:pt x="7" y="707"/>
                      </a:lnTo>
                      <a:lnTo>
                        <a:pt x="4" y="749"/>
                      </a:lnTo>
                      <a:lnTo>
                        <a:pt x="0" y="834"/>
                      </a:lnTo>
                      <a:lnTo>
                        <a:pt x="0" y="876"/>
                      </a:lnTo>
                      <a:lnTo>
                        <a:pt x="4" y="918"/>
                      </a:lnTo>
                      <a:lnTo>
                        <a:pt x="7" y="959"/>
                      </a:lnTo>
                      <a:lnTo>
                        <a:pt x="15" y="999"/>
                      </a:lnTo>
                      <a:lnTo>
                        <a:pt x="23" y="1038"/>
                      </a:lnTo>
                      <a:lnTo>
                        <a:pt x="34" y="1078"/>
                      </a:lnTo>
                      <a:lnTo>
                        <a:pt x="47" y="1115"/>
                      </a:lnTo>
                      <a:lnTo>
                        <a:pt x="62" y="1154"/>
                      </a:lnTo>
                      <a:lnTo>
                        <a:pt x="76" y="1189"/>
                      </a:lnTo>
                      <a:lnTo>
                        <a:pt x="96" y="1225"/>
                      </a:lnTo>
                      <a:lnTo>
                        <a:pt x="115" y="1259"/>
                      </a:lnTo>
                      <a:lnTo>
                        <a:pt x="138" y="1294"/>
                      </a:lnTo>
                      <a:lnTo>
                        <a:pt x="161" y="1327"/>
                      </a:lnTo>
                      <a:lnTo>
                        <a:pt x="187" y="1360"/>
                      </a:lnTo>
                      <a:lnTo>
                        <a:pt x="215" y="1392"/>
                      </a:lnTo>
                      <a:lnTo>
                        <a:pt x="245" y="1423"/>
                      </a:lnTo>
                      <a:lnTo>
                        <a:pt x="275" y="1452"/>
                      </a:lnTo>
                      <a:lnTo>
                        <a:pt x="306" y="1479"/>
                      </a:lnTo>
                      <a:lnTo>
                        <a:pt x="338" y="1505"/>
                      </a:lnTo>
                      <a:lnTo>
                        <a:pt x="372" y="1529"/>
                      </a:lnTo>
                      <a:lnTo>
                        <a:pt x="406" y="1550"/>
                      </a:lnTo>
                      <a:lnTo>
                        <a:pt x="441" y="1570"/>
                      </a:lnTo>
                      <a:lnTo>
                        <a:pt x="477" y="1588"/>
                      </a:lnTo>
                      <a:lnTo>
                        <a:pt x="514" y="1605"/>
                      </a:lnTo>
                      <a:lnTo>
                        <a:pt x="550" y="1618"/>
                      </a:lnTo>
                      <a:lnTo>
                        <a:pt x="589" y="1631"/>
                      </a:lnTo>
                      <a:lnTo>
                        <a:pt x="627" y="1641"/>
                      </a:lnTo>
                      <a:lnTo>
                        <a:pt x="667" y="1650"/>
                      </a:lnTo>
                      <a:lnTo>
                        <a:pt x="707" y="1656"/>
                      </a:lnTo>
                      <a:lnTo>
                        <a:pt x="749" y="1661"/>
                      </a:lnTo>
                      <a:lnTo>
                        <a:pt x="791" y="1665"/>
                      </a:lnTo>
                      <a:lnTo>
                        <a:pt x="834" y="1666"/>
                      </a:lnTo>
                      <a:lnTo>
                        <a:pt x="874" y="1665"/>
                      </a:lnTo>
                      <a:lnTo>
                        <a:pt x="895" y="1663"/>
                      </a:lnTo>
                      <a:lnTo>
                        <a:pt x="899" y="1661"/>
                      </a:lnTo>
                      <a:lnTo>
                        <a:pt x="905" y="1661"/>
                      </a:lnTo>
                      <a:lnTo>
                        <a:pt x="916" y="1661"/>
                      </a:lnTo>
                      <a:lnTo>
                        <a:pt x="957" y="1656"/>
                      </a:lnTo>
                      <a:lnTo>
                        <a:pt x="998" y="1650"/>
                      </a:lnTo>
                      <a:lnTo>
                        <a:pt x="1037" y="1641"/>
                      </a:lnTo>
                      <a:lnTo>
                        <a:pt x="1046" y="1638"/>
                      </a:lnTo>
                      <a:lnTo>
                        <a:pt x="1056" y="1635"/>
                      </a:lnTo>
                      <a:lnTo>
                        <a:pt x="1076" y="1631"/>
                      </a:lnTo>
                      <a:lnTo>
                        <a:pt x="1094" y="1624"/>
                      </a:lnTo>
                      <a:lnTo>
                        <a:pt x="1104" y="1621"/>
                      </a:lnTo>
                      <a:lnTo>
                        <a:pt x="1114" y="1618"/>
                      </a:lnTo>
                      <a:lnTo>
                        <a:pt x="1152" y="1605"/>
                      </a:lnTo>
                      <a:lnTo>
                        <a:pt x="1169" y="1596"/>
                      </a:lnTo>
                      <a:lnTo>
                        <a:pt x="1187" y="1588"/>
                      </a:lnTo>
                      <a:lnTo>
                        <a:pt x="1224" y="1570"/>
                      </a:lnTo>
                      <a:lnTo>
                        <a:pt x="1258" y="1550"/>
                      </a:lnTo>
                      <a:lnTo>
                        <a:pt x="1275" y="1539"/>
                      </a:lnTo>
                      <a:lnTo>
                        <a:pt x="1293" y="1529"/>
                      </a:lnTo>
                      <a:lnTo>
                        <a:pt x="1309" y="1516"/>
                      </a:lnTo>
                      <a:lnTo>
                        <a:pt x="1326" y="1505"/>
                      </a:lnTo>
                      <a:lnTo>
                        <a:pt x="1342" y="1491"/>
                      </a:lnTo>
                      <a:lnTo>
                        <a:pt x="1350" y="1485"/>
                      </a:lnTo>
                      <a:lnTo>
                        <a:pt x="1359" y="1479"/>
                      </a:lnTo>
                      <a:lnTo>
                        <a:pt x="1390" y="1452"/>
                      </a:lnTo>
                      <a:lnTo>
                        <a:pt x="1422" y="1423"/>
                      </a:lnTo>
                      <a:lnTo>
                        <a:pt x="1450" y="1392"/>
                      </a:lnTo>
                      <a:lnTo>
                        <a:pt x="1478" y="1360"/>
                      </a:lnTo>
                      <a:lnTo>
                        <a:pt x="1483" y="1351"/>
                      </a:lnTo>
                      <a:lnTo>
                        <a:pt x="1490" y="1343"/>
                      </a:lnTo>
                      <a:lnTo>
                        <a:pt x="1504" y="1327"/>
                      </a:lnTo>
                      <a:lnTo>
                        <a:pt x="1515" y="1310"/>
                      </a:lnTo>
                      <a:lnTo>
                        <a:pt x="1528" y="1294"/>
                      </a:lnTo>
                      <a:lnTo>
                        <a:pt x="1538" y="1276"/>
                      </a:lnTo>
                      <a:lnTo>
                        <a:pt x="1549" y="1259"/>
                      </a:lnTo>
                      <a:lnTo>
                        <a:pt x="1570" y="1225"/>
                      </a:lnTo>
                      <a:lnTo>
                        <a:pt x="1588" y="1189"/>
                      </a:lnTo>
                      <a:lnTo>
                        <a:pt x="1596" y="1171"/>
                      </a:lnTo>
                      <a:lnTo>
                        <a:pt x="1605" y="1154"/>
                      </a:lnTo>
                      <a:lnTo>
                        <a:pt x="1618" y="1115"/>
                      </a:lnTo>
                      <a:lnTo>
                        <a:pt x="1621" y="1105"/>
                      </a:lnTo>
                      <a:lnTo>
                        <a:pt x="1624" y="1096"/>
                      </a:lnTo>
                      <a:lnTo>
                        <a:pt x="1631" y="1078"/>
                      </a:lnTo>
                      <a:lnTo>
                        <a:pt x="1635" y="1057"/>
                      </a:lnTo>
                      <a:lnTo>
                        <a:pt x="1638" y="1047"/>
                      </a:lnTo>
                      <a:lnTo>
                        <a:pt x="1641" y="1038"/>
                      </a:lnTo>
                      <a:lnTo>
                        <a:pt x="1651" y="999"/>
                      </a:lnTo>
                      <a:lnTo>
                        <a:pt x="1657" y="959"/>
                      </a:lnTo>
                      <a:lnTo>
                        <a:pt x="1662" y="918"/>
                      </a:lnTo>
                      <a:lnTo>
                        <a:pt x="1662" y="906"/>
                      </a:lnTo>
                      <a:lnTo>
                        <a:pt x="1662" y="901"/>
                      </a:lnTo>
                      <a:lnTo>
                        <a:pt x="1664" y="896"/>
                      </a:lnTo>
                      <a:lnTo>
                        <a:pt x="1666" y="876"/>
                      </a:lnTo>
                      <a:lnTo>
                        <a:pt x="1668" y="8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35040" y="3416040"/>
                  <a:ext cx="239040" cy="218520"/>
                </a:xfrm>
                <a:custGeom>
                  <a:avLst/>
                  <a:gdLst/>
                  <a:ahLst/>
                  <a:rect l="l" t="t" r="r" b="b"/>
                  <a:pathLst>
                    <a:path w="836" h="768">
                      <a:moveTo>
                        <a:pt x="836" y="452"/>
                      </a:moveTo>
                      <a:lnTo>
                        <a:pt x="836" y="288"/>
                      </a:lnTo>
                      <a:lnTo>
                        <a:pt x="480" y="288"/>
                      </a:lnTo>
                      <a:lnTo>
                        <a:pt x="480" y="0"/>
                      </a:lnTo>
                      <a:lnTo>
                        <a:pt x="329" y="0"/>
                      </a:lnTo>
                      <a:lnTo>
                        <a:pt x="329" y="288"/>
                      </a:lnTo>
                      <a:lnTo>
                        <a:pt x="0" y="288"/>
                      </a:lnTo>
                      <a:lnTo>
                        <a:pt x="0" y="452"/>
                      </a:lnTo>
                      <a:lnTo>
                        <a:pt x="329" y="452"/>
                      </a:lnTo>
                      <a:lnTo>
                        <a:pt x="329" y="768"/>
                      </a:lnTo>
                      <a:lnTo>
                        <a:pt x="480" y="768"/>
                      </a:lnTo>
                      <a:lnTo>
                        <a:pt x="480" y="452"/>
                      </a:lnTo>
                      <a:lnTo>
                        <a:pt x="836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035040" y="3416040"/>
                  <a:ext cx="239040" cy="218520"/>
                </a:xfrm>
                <a:custGeom>
                  <a:avLst/>
                  <a:gdLst/>
                  <a:ahLst/>
                  <a:rect l="l" t="t" r="r" b="b"/>
                  <a:pathLst>
                    <a:path w="836" h="768">
                      <a:moveTo>
                        <a:pt x="836" y="288"/>
                      </a:moveTo>
                      <a:lnTo>
                        <a:pt x="480" y="288"/>
                      </a:lnTo>
                      <a:lnTo>
                        <a:pt x="480" y="0"/>
                      </a:lnTo>
                      <a:lnTo>
                        <a:pt x="329" y="0"/>
                      </a:lnTo>
                      <a:lnTo>
                        <a:pt x="329" y="288"/>
                      </a:lnTo>
                      <a:lnTo>
                        <a:pt x="0" y="288"/>
                      </a:lnTo>
                      <a:lnTo>
                        <a:pt x="0" y="452"/>
                      </a:lnTo>
                      <a:lnTo>
                        <a:pt x="329" y="452"/>
                      </a:lnTo>
                      <a:lnTo>
                        <a:pt x="329" y="768"/>
                      </a:lnTo>
                      <a:lnTo>
                        <a:pt x="480" y="768"/>
                      </a:lnTo>
                      <a:lnTo>
                        <a:pt x="480" y="452"/>
                      </a:lnTo>
                      <a:lnTo>
                        <a:pt x="836" y="452"/>
                      </a:lnTo>
                      <a:lnTo>
                        <a:pt x="836" y="28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745240" y="3609000"/>
                  <a:ext cx="94680" cy="87120"/>
                </a:xfrm>
                <a:custGeom>
                  <a:avLst/>
                  <a:gdLst/>
                  <a:ahLst/>
                  <a:rect l="l" t="t" r="r" b="b"/>
                  <a:pathLst>
                    <a:path w="334" h="306">
                      <a:moveTo>
                        <a:pt x="66" y="26"/>
                      </a:moveTo>
                      <a:lnTo>
                        <a:pt x="92" y="6"/>
                      </a:lnTo>
                      <a:lnTo>
                        <a:pt x="63" y="0"/>
                      </a:lnTo>
                      <a:lnTo>
                        <a:pt x="51" y="11"/>
                      </a:lnTo>
                      <a:lnTo>
                        <a:pt x="28" y="37"/>
                      </a:lnTo>
                      <a:lnTo>
                        <a:pt x="19" y="51"/>
                      </a:lnTo>
                      <a:lnTo>
                        <a:pt x="13" y="67"/>
                      </a:lnTo>
                      <a:lnTo>
                        <a:pt x="6" y="82"/>
                      </a:lnTo>
                      <a:lnTo>
                        <a:pt x="3" y="99"/>
                      </a:lnTo>
                      <a:lnTo>
                        <a:pt x="0" y="134"/>
                      </a:lnTo>
                      <a:lnTo>
                        <a:pt x="0" y="150"/>
                      </a:lnTo>
                      <a:lnTo>
                        <a:pt x="3" y="167"/>
                      </a:lnTo>
                      <a:lnTo>
                        <a:pt x="6" y="182"/>
                      </a:lnTo>
                      <a:lnTo>
                        <a:pt x="13" y="200"/>
                      </a:lnTo>
                      <a:lnTo>
                        <a:pt x="19" y="213"/>
                      </a:lnTo>
                      <a:lnTo>
                        <a:pt x="28" y="228"/>
                      </a:lnTo>
                      <a:lnTo>
                        <a:pt x="38" y="241"/>
                      </a:lnTo>
                      <a:lnTo>
                        <a:pt x="51" y="255"/>
                      </a:lnTo>
                      <a:lnTo>
                        <a:pt x="64" y="266"/>
                      </a:lnTo>
                      <a:lnTo>
                        <a:pt x="78" y="277"/>
                      </a:lnTo>
                      <a:lnTo>
                        <a:pt x="91" y="285"/>
                      </a:lnTo>
                      <a:lnTo>
                        <a:pt x="107" y="292"/>
                      </a:lnTo>
                      <a:lnTo>
                        <a:pt x="122" y="298"/>
                      </a:lnTo>
                      <a:lnTo>
                        <a:pt x="139" y="303"/>
                      </a:lnTo>
                      <a:lnTo>
                        <a:pt x="156" y="305"/>
                      </a:lnTo>
                      <a:lnTo>
                        <a:pt x="174" y="306"/>
                      </a:lnTo>
                      <a:lnTo>
                        <a:pt x="190" y="305"/>
                      </a:lnTo>
                      <a:lnTo>
                        <a:pt x="207" y="303"/>
                      </a:lnTo>
                      <a:lnTo>
                        <a:pt x="223" y="298"/>
                      </a:lnTo>
                      <a:lnTo>
                        <a:pt x="226" y="296"/>
                      </a:lnTo>
                      <a:lnTo>
                        <a:pt x="231" y="295"/>
                      </a:lnTo>
                      <a:lnTo>
                        <a:pt x="240" y="292"/>
                      </a:lnTo>
                      <a:lnTo>
                        <a:pt x="253" y="285"/>
                      </a:lnTo>
                      <a:lnTo>
                        <a:pt x="260" y="280"/>
                      </a:lnTo>
                      <a:lnTo>
                        <a:pt x="264" y="278"/>
                      </a:lnTo>
                      <a:lnTo>
                        <a:pt x="268" y="277"/>
                      </a:lnTo>
                      <a:lnTo>
                        <a:pt x="282" y="266"/>
                      </a:lnTo>
                      <a:lnTo>
                        <a:pt x="296" y="255"/>
                      </a:lnTo>
                      <a:lnTo>
                        <a:pt x="308" y="241"/>
                      </a:lnTo>
                      <a:lnTo>
                        <a:pt x="312" y="235"/>
                      </a:lnTo>
                      <a:lnTo>
                        <a:pt x="315" y="231"/>
                      </a:lnTo>
                      <a:lnTo>
                        <a:pt x="318" y="229"/>
                      </a:lnTo>
                      <a:lnTo>
                        <a:pt x="319" y="224"/>
                      </a:lnTo>
                      <a:lnTo>
                        <a:pt x="321" y="221"/>
                      </a:lnTo>
                      <a:lnTo>
                        <a:pt x="326" y="214"/>
                      </a:lnTo>
                      <a:lnTo>
                        <a:pt x="334" y="201"/>
                      </a:lnTo>
                      <a:lnTo>
                        <a:pt x="326" y="187"/>
                      </a:lnTo>
                      <a:lnTo>
                        <a:pt x="319" y="176"/>
                      </a:lnTo>
                      <a:lnTo>
                        <a:pt x="315" y="184"/>
                      </a:lnTo>
                      <a:lnTo>
                        <a:pt x="311" y="193"/>
                      </a:lnTo>
                      <a:lnTo>
                        <a:pt x="307" y="201"/>
                      </a:lnTo>
                      <a:lnTo>
                        <a:pt x="303" y="210"/>
                      </a:lnTo>
                      <a:lnTo>
                        <a:pt x="298" y="217"/>
                      </a:lnTo>
                      <a:lnTo>
                        <a:pt x="293" y="224"/>
                      </a:lnTo>
                      <a:lnTo>
                        <a:pt x="281" y="240"/>
                      </a:lnTo>
                      <a:lnTo>
                        <a:pt x="268" y="249"/>
                      </a:lnTo>
                      <a:lnTo>
                        <a:pt x="257" y="258"/>
                      </a:lnTo>
                      <a:lnTo>
                        <a:pt x="243" y="266"/>
                      </a:lnTo>
                      <a:lnTo>
                        <a:pt x="231" y="273"/>
                      </a:lnTo>
                      <a:lnTo>
                        <a:pt x="216" y="278"/>
                      </a:lnTo>
                      <a:lnTo>
                        <a:pt x="202" y="281"/>
                      </a:lnTo>
                      <a:lnTo>
                        <a:pt x="188" y="283"/>
                      </a:lnTo>
                      <a:lnTo>
                        <a:pt x="174" y="285"/>
                      </a:lnTo>
                      <a:lnTo>
                        <a:pt x="158" y="283"/>
                      </a:lnTo>
                      <a:lnTo>
                        <a:pt x="143" y="281"/>
                      </a:lnTo>
                      <a:lnTo>
                        <a:pt x="129" y="278"/>
                      </a:lnTo>
                      <a:lnTo>
                        <a:pt x="115" y="273"/>
                      </a:lnTo>
                      <a:lnTo>
                        <a:pt x="101" y="266"/>
                      </a:lnTo>
                      <a:lnTo>
                        <a:pt x="89" y="258"/>
                      </a:lnTo>
                      <a:lnTo>
                        <a:pt x="66" y="240"/>
                      </a:lnTo>
                      <a:lnTo>
                        <a:pt x="55" y="228"/>
                      </a:lnTo>
                      <a:lnTo>
                        <a:pt x="46" y="217"/>
                      </a:lnTo>
                      <a:lnTo>
                        <a:pt x="38" y="203"/>
                      </a:lnTo>
                      <a:lnTo>
                        <a:pt x="32" y="190"/>
                      </a:lnTo>
                      <a:lnTo>
                        <a:pt x="27" y="176"/>
                      </a:lnTo>
                      <a:lnTo>
                        <a:pt x="24" y="162"/>
                      </a:lnTo>
                      <a:lnTo>
                        <a:pt x="22" y="147"/>
                      </a:lnTo>
                      <a:lnTo>
                        <a:pt x="22" y="134"/>
                      </a:lnTo>
                      <a:lnTo>
                        <a:pt x="24" y="103"/>
                      </a:lnTo>
                      <a:lnTo>
                        <a:pt x="32" y="75"/>
                      </a:lnTo>
                      <a:lnTo>
                        <a:pt x="46" y="49"/>
                      </a:lnTo>
                      <a:lnTo>
                        <a:pt x="55" y="36"/>
                      </a:lnTo>
                      <a:lnTo>
                        <a:pt x="66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751720" y="3610800"/>
                  <a:ext cx="84600" cy="7920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0" y="0"/>
                      </a:moveTo>
                      <a:lnTo>
                        <a:pt x="44" y="20"/>
                      </a:lnTo>
                      <a:lnTo>
                        <a:pt x="33" y="30"/>
                      </a:lnTo>
                      <a:lnTo>
                        <a:pt x="24" y="43"/>
                      </a:lnTo>
                      <a:lnTo>
                        <a:pt x="10" y="69"/>
                      </a:lnTo>
                      <a:lnTo>
                        <a:pt x="2" y="97"/>
                      </a:lnTo>
                      <a:lnTo>
                        <a:pt x="0" y="128"/>
                      </a:lnTo>
                      <a:lnTo>
                        <a:pt x="0" y="141"/>
                      </a:lnTo>
                      <a:lnTo>
                        <a:pt x="2" y="156"/>
                      </a:lnTo>
                      <a:lnTo>
                        <a:pt x="5" y="170"/>
                      </a:lnTo>
                      <a:lnTo>
                        <a:pt x="10" y="184"/>
                      </a:lnTo>
                      <a:lnTo>
                        <a:pt x="16" y="197"/>
                      </a:lnTo>
                      <a:lnTo>
                        <a:pt x="24" y="211"/>
                      </a:lnTo>
                      <a:lnTo>
                        <a:pt x="33" y="222"/>
                      </a:lnTo>
                      <a:lnTo>
                        <a:pt x="44" y="234"/>
                      </a:lnTo>
                      <a:lnTo>
                        <a:pt x="67" y="252"/>
                      </a:lnTo>
                      <a:lnTo>
                        <a:pt x="79" y="260"/>
                      </a:lnTo>
                      <a:lnTo>
                        <a:pt x="93" y="267"/>
                      </a:lnTo>
                      <a:lnTo>
                        <a:pt x="107" y="272"/>
                      </a:lnTo>
                      <a:lnTo>
                        <a:pt x="121" y="275"/>
                      </a:lnTo>
                      <a:lnTo>
                        <a:pt x="136" y="277"/>
                      </a:lnTo>
                      <a:lnTo>
                        <a:pt x="152" y="279"/>
                      </a:lnTo>
                      <a:lnTo>
                        <a:pt x="166" y="277"/>
                      </a:lnTo>
                      <a:lnTo>
                        <a:pt x="180" y="275"/>
                      </a:lnTo>
                      <a:lnTo>
                        <a:pt x="194" y="272"/>
                      </a:lnTo>
                      <a:lnTo>
                        <a:pt x="209" y="267"/>
                      </a:lnTo>
                      <a:lnTo>
                        <a:pt x="221" y="260"/>
                      </a:lnTo>
                      <a:lnTo>
                        <a:pt x="235" y="252"/>
                      </a:lnTo>
                      <a:lnTo>
                        <a:pt x="246" y="243"/>
                      </a:lnTo>
                      <a:lnTo>
                        <a:pt x="259" y="234"/>
                      </a:lnTo>
                      <a:lnTo>
                        <a:pt x="271" y="218"/>
                      </a:lnTo>
                      <a:lnTo>
                        <a:pt x="276" y="211"/>
                      </a:lnTo>
                      <a:lnTo>
                        <a:pt x="281" y="204"/>
                      </a:lnTo>
                      <a:lnTo>
                        <a:pt x="285" y="195"/>
                      </a:lnTo>
                      <a:lnTo>
                        <a:pt x="289" y="187"/>
                      </a:lnTo>
                      <a:lnTo>
                        <a:pt x="293" y="178"/>
                      </a:lnTo>
                      <a:lnTo>
                        <a:pt x="297" y="170"/>
                      </a:lnTo>
                      <a:lnTo>
                        <a:pt x="280" y="145"/>
                      </a:lnTo>
                      <a:lnTo>
                        <a:pt x="277" y="154"/>
                      </a:lnTo>
                      <a:lnTo>
                        <a:pt x="274" y="164"/>
                      </a:lnTo>
                      <a:lnTo>
                        <a:pt x="271" y="173"/>
                      </a:lnTo>
                      <a:lnTo>
                        <a:pt x="269" y="178"/>
                      </a:lnTo>
                      <a:lnTo>
                        <a:pt x="268" y="180"/>
                      </a:lnTo>
                      <a:lnTo>
                        <a:pt x="268" y="183"/>
                      </a:lnTo>
                      <a:lnTo>
                        <a:pt x="256" y="201"/>
                      </a:lnTo>
                      <a:lnTo>
                        <a:pt x="249" y="209"/>
                      </a:lnTo>
                      <a:lnTo>
                        <a:pt x="244" y="218"/>
                      </a:lnTo>
                      <a:lnTo>
                        <a:pt x="232" y="226"/>
                      </a:lnTo>
                      <a:lnTo>
                        <a:pt x="230" y="226"/>
                      </a:lnTo>
                      <a:lnTo>
                        <a:pt x="229" y="226"/>
                      </a:lnTo>
                      <a:lnTo>
                        <a:pt x="229" y="228"/>
                      </a:lnTo>
                      <a:lnTo>
                        <a:pt x="227" y="230"/>
                      </a:lnTo>
                      <a:lnTo>
                        <a:pt x="222" y="234"/>
                      </a:lnTo>
                      <a:lnTo>
                        <a:pt x="211" y="241"/>
                      </a:lnTo>
                      <a:lnTo>
                        <a:pt x="205" y="243"/>
                      </a:lnTo>
                      <a:lnTo>
                        <a:pt x="201" y="247"/>
                      </a:lnTo>
                      <a:lnTo>
                        <a:pt x="194" y="248"/>
                      </a:lnTo>
                      <a:lnTo>
                        <a:pt x="188" y="250"/>
                      </a:lnTo>
                      <a:lnTo>
                        <a:pt x="177" y="254"/>
                      </a:lnTo>
                      <a:lnTo>
                        <a:pt x="163" y="256"/>
                      </a:lnTo>
                      <a:lnTo>
                        <a:pt x="152" y="257"/>
                      </a:lnTo>
                      <a:lnTo>
                        <a:pt x="138" y="256"/>
                      </a:lnTo>
                      <a:lnTo>
                        <a:pt x="125" y="254"/>
                      </a:lnTo>
                      <a:lnTo>
                        <a:pt x="101" y="247"/>
                      </a:lnTo>
                      <a:lnTo>
                        <a:pt x="90" y="241"/>
                      </a:lnTo>
                      <a:lnTo>
                        <a:pt x="79" y="234"/>
                      </a:lnTo>
                      <a:lnTo>
                        <a:pt x="60" y="218"/>
                      </a:lnTo>
                      <a:lnTo>
                        <a:pt x="42" y="198"/>
                      </a:lnTo>
                      <a:lnTo>
                        <a:pt x="35" y="187"/>
                      </a:lnTo>
                      <a:lnTo>
                        <a:pt x="31" y="176"/>
                      </a:lnTo>
                      <a:lnTo>
                        <a:pt x="26" y="164"/>
                      </a:lnTo>
                      <a:lnTo>
                        <a:pt x="24" y="153"/>
                      </a:lnTo>
                      <a:lnTo>
                        <a:pt x="22" y="128"/>
                      </a:lnTo>
                      <a:lnTo>
                        <a:pt x="24" y="101"/>
                      </a:lnTo>
                      <a:lnTo>
                        <a:pt x="31" y="77"/>
                      </a:lnTo>
                      <a:lnTo>
                        <a:pt x="42" y="55"/>
                      </a:lnTo>
                      <a:lnTo>
                        <a:pt x="60" y="36"/>
                      </a:lnTo>
                      <a:lnTo>
                        <a:pt x="77" y="20"/>
                      </a:lnTo>
                      <a:lnTo>
                        <a:pt x="99" y="9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739120" y="3607920"/>
                  <a:ext cx="104400" cy="94680"/>
                </a:xfrm>
                <a:custGeom>
                  <a:avLst/>
                  <a:gdLst/>
                  <a:ahLst/>
                  <a:rect l="l" t="t" r="r" b="b"/>
                  <a:pathLst>
                    <a:path w="366" h="331">
                      <a:moveTo>
                        <a:pt x="72" y="14"/>
                      </a:moveTo>
                      <a:lnTo>
                        <a:pt x="84" y="3"/>
                      </a:lnTo>
                      <a:lnTo>
                        <a:pt x="57" y="0"/>
                      </a:lnTo>
                      <a:lnTo>
                        <a:pt x="42" y="13"/>
                      </a:lnTo>
                      <a:lnTo>
                        <a:pt x="31" y="29"/>
                      </a:lnTo>
                      <a:lnTo>
                        <a:pt x="14" y="62"/>
                      </a:lnTo>
                      <a:lnTo>
                        <a:pt x="3" y="97"/>
                      </a:lnTo>
                      <a:lnTo>
                        <a:pt x="0" y="137"/>
                      </a:lnTo>
                      <a:lnTo>
                        <a:pt x="0" y="155"/>
                      </a:lnTo>
                      <a:lnTo>
                        <a:pt x="3" y="174"/>
                      </a:lnTo>
                      <a:lnTo>
                        <a:pt x="7" y="192"/>
                      </a:lnTo>
                      <a:lnTo>
                        <a:pt x="14" y="210"/>
                      </a:lnTo>
                      <a:lnTo>
                        <a:pt x="20" y="226"/>
                      </a:lnTo>
                      <a:lnTo>
                        <a:pt x="31" y="243"/>
                      </a:lnTo>
                      <a:lnTo>
                        <a:pt x="42" y="258"/>
                      </a:lnTo>
                      <a:lnTo>
                        <a:pt x="57" y="274"/>
                      </a:lnTo>
                      <a:lnTo>
                        <a:pt x="70" y="286"/>
                      </a:lnTo>
                      <a:lnTo>
                        <a:pt x="86" y="298"/>
                      </a:lnTo>
                      <a:lnTo>
                        <a:pt x="102" y="308"/>
                      </a:lnTo>
                      <a:lnTo>
                        <a:pt x="119" y="316"/>
                      </a:lnTo>
                      <a:lnTo>
                        <a:pt x="136" y="322"/>
                      </a:lnTo>
                      <a:lnTo>
                        <a:pt x="155" y="326"/>
                      </a:lnTo>
                      <a:lnTo>
                        <a:pt x="175" y="329"/>
                      </a:lnTo>
                      <a:lnTo>
                        <a:pt x="195" y="331"/>
                      </a:lnTo>
                      <a:lnTo>
                        <a:pt x="213" y="329"/>
                      </a:lnTo>
                      <a:lnTo>
                        <a:pt x="222" y="327"/>
                      </a:lnTo>
                      <a:lnTo>
                        <a:pt x="227" y="326"/>
                      </a:lnTo>
                      <a:lnTo>
                        <a:pt x="232" y="326"/>
                      </a:lnTo>
                      <a:lnTo>
                        <a:pt x="250" y="322"/>
                      </a:lnTo>
                      <a:lnTo>
                        <a:pt x="269" y="316"/>
                      </a:lnTo>
                      <a:lnTo>
                        <a:pt x="285" y="308"/>
                      </a:lnTo>
                      <a:lnTo>
                        <a:pt x="286" y="306"/>
                      </a:lnTo>
                      <a:lnTo>
                        <a:pt x="288" y="305"/>
                      </a:lnTo>
                      <a:lnTo>
                        <a:pt x="292" y="302"/>
                      </a:lnTo>
                      <a:lnTo>
                        <a:pt x="302" y="298"/>
                      </a:lnTo>
                      <a:lnTo>
                        <a:pt x="316" y="286"/>
                      </a:lnTo>
                      <a:lnTo>
                        <a:pt x="332" y="274"/>
                      </a:lnTo>
                      <a:lnTo>
                        <a:pt x="350" y="251"/>
                      </a:lnTo>
                      <a:lnTo>
                        <a:pt x="366" y="229"/>
                      </a:lnTo>
                      <a:lnTo>
                        <a:pt x="355" y="204"/>
                      </a:lnTo>
                      <a:lnTo>
                        <a:pt x="347" y="217"/>
                      </a:lnTo>
                      <a:lnTo>
                        <a:pt x="342" y="224"/>
                      </a:lnTo>
                      <a:lnTo>
                        <a:pt x="340" y="227"/>
                      </a:lnTo>
                      <a:lnTo>
                        <a:pt x="339" y="232"/>
                      </a:lnTo>
                      <a:lnTo>
                        <a:pt x="336" y="234"/>
                      </a:lnTo>
                      <a:lnTo>
                        <a:pt x="333" y="238"/>
                      </a:lnTo>
                      <a:lnTo>
                        <a:pt x="329" y="244"/>
                      </a:lnTo>
                      <a:lnTo>
                        <a:pt x="317" y="258"/>
                      </a:lnTo>
                      <a:lnTo>
                        <a:pt x="303" y="269"/>
                      </a:lnTo>
                      <a:lnTo>
                        <a:pt x="289" y="280"/>
                      </a:lnTo>
                      <a:lnTo>
                        <a:pt x="285" y="281"/>
                      </a:lnTo>
                      <a:lnTo>
                        <a:pt x="281" y="283"/>
                      </a:lnTo>
                      <a:lnTo>
                        <a:pt x="274" y="288"/>
                      </a:lnTo>
                      <a:lnTo>
                        <a:pt x="261" y="295"/>
                      </a:lnTo>
                      <a:lnTo>
                        <a:pt x="252" y="298"/>
                      </a:lnTo>
                      <a:lnTo>
                        <a:pt x="247" y="299"/>
                      </a:lnTo>
                      <a:lnTo>
                        <a:pt x="244" y="301"/>
                      </a:lnTo>
                      <a:lnTo>
                        <a:pt x="228" y="306"/>
                      </a:lnTo>
                      <a:lnTo>
                        <a:pt x="211" y="308"/>
                      </a:lnTo>
                      <a:lnTo>
                        <a:pt x="195" y="309"/>
                      </a:lnTo>
                      <a:lnTo>
                        <a:pt x="177" y="308"/>
                      </a:lnTo>
                      <a:lnTo>
                        <a:pt x="160" y="306"/>
                      </a:lnTo>
                      <a:lnTo>
                        <a:pt x="143" y="301"/>
                      </a:lnTo>
                      <a:lnTo>
                        <a:pt x="128" y="295"/>
                      </a:lnTo>
                      <a:lnTo>
                        <a:pt x="112" y="288"/>
                      </a:lnTo>
                      <a:lnTo>
                        <a:pt x="99" y="280"/>
                      </a:lnTo>
                      <a:lnTo>
                        <a:pt x="85" y="269"/>
                      </a:lnTo>
                      <a:lnTo>
                        <a:pt x="72" y="258"/>
                      </a:lnTo>
                      <a:lnTo>
                        <a:pt x="59" y="244"/>
                      </a:lnTo>
                      <a:lnTo>
                        <a:pt x="49" y="231"/>
                      </a:lnTo>
                      <a:lnTo>
                        <a:pt x="40" y="216"/>
                      </a:lnTo>
                      <a:lnTo>
                        <a:pt x="34" y="203"/>
                      </a:lnTo>
                      <a:lnTo>
                        <a:pt x="27" y="185"/>
                      </a:lnTo>
                      <a:lnTo>
                        <a:pt x="24" y="170"/>
                      </a:lnTo>
                      <a:lnTo>
                        <a:pt x="21" y="153"/>
                      </a:lnTo>
                      <a:lnTo>
                        <a:pt x="21" y="137"/>
                      </a:lnTo>
                      <a:lnTo>
                        <a:pt x="24" y="102"/>
                      </a:lnTo>
                      <a:lnTo>
                        <a:pt x="27" y="85"/>
                      </a:lnTo>
                      <a:lnTo>
                        <a:pt x="34" y="70"/>
                      </a:lnTo>
                      <a:lnTo>
                        <a:pt x="40" y="54"/>
                      </a:lnTo>
                      <a:lnTo>
                        <a:pt x="49" y="40"/>
                      </a:lnTo>
                      <a:lnTo>
                        <a:pt x="72" y="14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26520" y="3607560"/>
                  <a:ext cx="122400" cy="107280"/>
                </a:xfrm>
                <a:custGeom>
                  <a:avLst/>
                  <a:gdLst/>
                  <a:ahLst/>
                  <a:rect l="l" t="t" r="r" b="b"/>
                  <a:pathLst>
                    <a:path w="427" h="377">
                      <a:moveTo>
                        <a:pt x="55" y="0"/>
                      </a:moveTo>
                      <a:lnTo>
                        <a:pt x="44" y="0"/>
                      </a:lnTo>
                      <a:lnTo>
                        <a:pt x="24" y="31"/>
                      </a:lnTo>
                      <a:lnTo>
                        <a:pt x="16" y="47"/>
                      </a:lnTo>
                      <a:lnTo>
                        <a:pt x="10" y="65"/>
                      </a:lnTo>
                      <a:lnTo>
                        <a:pt x="2" y="100"/>
                      </a:lnTo>
                      <a:lnTo>
                        <a:pt x="0" y="140"/>
                      </a:lnTo>
                      <a:lnTo>
                        <a:pt x="0" y="162"/>
                      </a:lnTo>
                      <a:lnTo>
                        <a:pt x="3" y="186"/>
                      </a:lnTo>
                      <a:lnTo>
                        <a:pt x="9" y="208"/>
                      </a:lnTo>
                      <a:lnTo>
                        <a:pt x="17" y="230"/>
                      </a:lnTo>
                      <a:lnTo>
                        <a:pt x="25" y="250"/>
                      </a:lnTo>
                      <a:lnTo>
                        <a:pt x="37" y="270"/>
                      </a:lnTo>
                      <a:lnTo>
                        <a:pt x="52" y="288"/>
                      </a:lnTo>
                      <a:lnTo>
                        <a:pt x="69" y="308"/>
                      </a:lnTo>
                      <a:lnTo>
                        <a:pt x="86" y="322"/>
                      </a:lnTo>
                      <a:lnTo>
                        <a:pt x="105" y="337"/>
                      </a:lnTo>
                      <a:lnTo>
                        <a:pt x="125" y="348"/>
                      </a:lnTo>
                      <a:lnTo>
                        <a:pt x="146" y="359"/>
                      </a:lnTo>
                      <a:lnTo>
                        <a:pt x="167" y="366"/>
                      </a:lnTo>
                      <a:lnTo>
                        <a:pt x="189" y="372"/>
                      </a:lnTo>
                      <a:lnTo>
                        <a:pt x="213" y="376"/>
                      </a:lnTo>
                      <a:lnTo>
                        <a:pt x="238" y="377"/>
                      </a:lnTo>
                      <a:lnTo>
                        <a:pt x="261" y="376"/>
                      </a:lnTo>
                      <a:lnTo>
                        <a:pt x="272" y="373"/>
                      </a:lnTo>
                      <a:lnTo>
                        <a:pt x="274" y="372"/>
                      </a:lnTo>
                      <a:lnTo>
                        <a:pt x="278" y="372"/>
                      </a:lnTo>
                      <a:lnTo>
                        <a:pt x="284" y="372"/>
                      </a:lnTo>
                      <a:lnTo>
                        <a:pt x="289" y="370"/>
                      </a:lnTo>
                      <a:lnTo>
                        <a:pt x="291" y="369"/>
                      </a:lnTo>
                      <a:lnTo>
                        <a:pt x="295" y="369"/>
                      </a:lnTo>
                      <a:lnTo>
                        <a:pt x="306" y="366"/>
                      </a:lnTo>
                      <a:lnTo>
                        <a:pt x="329" y="359"/>
                      </a:lnTo>
                      <a:lnTo>
                        <a:pt x="338" y="353"/>
                      </a:lnTo>
                      <a:lnTo>
                        <a:pt x="348" y="348"/>
                      </a:lnTo>
                      <a:lnTo>
                        <a:pt x="368" y="337"/>
                      </a:lnTo>
                      <a:lnTo>
                        <a:pt x="386" y="322"/>
                      </a:lnTo>
                      <a:lnTo>
                        <a:pt x="396" y="314"/>
                      </a:lnTo>
                      <a:lnTo>
                        <a:pt x="406" y="308"/>
                      </a:lnTo>
                      <a:lnTo>
                        <a:pt x="410" y="301"/>
                      </a:lnTo>
                      <a:lnTo>
                        <a:pt x="413" y="297"/>
                      </a:lnTo>
                      <a:lnTo>
                        <a:pt x="416" y="295"/>
                      </a:lnTo>
                      <a:lnTo>
                        <a:pt x="427" y="283"/>
                      </a:lnTo>
                      <a:lnTo>
                        <a:pt x="419" y="257"/>
                      </a:lnTo>
                      <a:lnTo>
                        <a:pt x="415" y="260"/>
                      </a:lnTo>
                      <a:lnTo>
                        <a:pt x="411" y="264"/>
                      </a:lnTo>
                      <a:lnTo>
                        <a:pt x="405" y="274"/>
                      </a:lnTo>
                      <a:lnTo>
                        <a:pt x="390" y="292"/>
                      </a:lnTo>
                      <a:lnTo>
                        <a:pt x="381" y="298"/>
                      </a:lnTo>
                      <a:lnTo>
                        <a:pt x="376" y="302"/>
                      </a:lnTo>
                      <a:lnTo>
                        <a:pt x="373" y="306"/>
                      </a:lnTo>
                      <a:lnTo>
                        <a:pt x="364" y="312"/>
                      </a:lnTo>
                      <a:lnTo>
                        <a:pt x="356" y="319"/>
                      </a:lnTo>
                      <a:lnTo>
                        <a:pt x="338" y="329"/>
                      </a:lnTo>
                      <a:lnTo>
                        <a:pt x="320" y="339"/>
                      </a:lnTo>
                      <a:lnTo>
                        <a:pt x="299" y="345"/>
                      </a:lnTo>
                      <a:lnTo>
                        <a:pt x="289" y="347"/>
                      </a:lnTo>
                      <a:lnTo>
                        <a:pt x="280" y="351"/>
                      </a:lnTo>
                      <a:lnTo>
                        <a:pt x="269" y="352"/>
                      </a:lnTo>
                      <a:lnTo>
                        <a:pt x="258" y="354"/>
                      </a:lnTo>
                      <a:lnTo>
                        <a:pt x="238" y="355"/>
                      </a:lnTo>
                      <a:lnTo>
                        <a:pt x="215" y="354"/>
                      </a:lnTo>
                      <a:lnTo>
                        <a:pt x="194" y="351"/>
                      </a:lnTo>
                      <a:lnTo>
                        <a:pt x="173" y="345"/>
                      </a:lnTo>
                      <a:lnTo>
                        <a:pt x="154" y="339"/>
                      </a:lnTo>
                      <a:lnTo>
                        <a:pt x="135" y="329"/>
                      </a:lnTo>
                      <a:lnTo>
                        <a:pt x="118" y="319"/>
                      </a:lnTo>
                      <a:lnTo>
                        <a:pt x="101" y="306"/>
                      </a:lnTo>
                      <a:lnTo>
                        <a:pt x="85" y="292"/>
                      </a:lnTo>
                      <a:lnTo>
                        <a:pt x="69" y="275"/>
                      </a:lnTo>
                      <a:lnTo>
                        <a:pt x="57" y="258"/>
                      </a:lnTo>
                      <a:lnTo>
                        <a:pt x="45" y="240"/>
                      </a:lnTo>
                      <a:lnTo>
                        <a:pt x="37" y="221"/>
                      </a:lnTo>
                      <a:lnTo>
                        <a:pt x="29" y="201"/>
                      </a:lnTo>
                      <a:lnTo>
                        <a:pt x="25" y="182"/>
                      </a:lnTo>
                      <a:lnTo>
                        <a:pt x="21" y="160"/>
                      </a:lnTo>
                      <a:lnTo>
                        <a:pt x="21" y="140"/>
                      </a:lnTo>
                      <a:lnTo>
                        <a:pt x="24" y="100"/>
                      </a:lnTo>
                      <a:lnTo>
                        <a:pt x="27" y="81"/>
                      </a:lnTo>
                      <a:lnTo>
                        <a:pt x="34" y="64"/>
                      </a:lnTo>
                      <a:lnTo>
                        <a:pt x="49" y="31"/>
                      </a:lnTo>
                      <a:lnTo>
                        <a:pt x="72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733000" y="3607560"/>
                  <a:ext cx="113760" cy="10152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9" y="3"/>
                      </a:moveTo>
                      <a:lnTo>
                        <a:pt x="51" y="0"/>
                      </a:lnTo>
                      <a:lnTo>
                        <a:pt x="28" y="31"/>
                      </a:lnTo>
                      <a:lnTo>
                        <a:pt x="13" y="64"/>
                      </a:lnTo>
                      <a:lnTo>
                        <a:pt x="6" y="81"/>
                      </a:lnTo>
                      <a:lnTo>
                        <a:pt x="3" y="100"/>
                      </a:lnTo>
                      <a:lnTo>
                        <a:pt x="0" y="140"/>
                      </a:lnTo>
                      <a:lnTo>
                        <a:pt x="0" y="160"/>
                      </a:lnTo>
                      <a:lnTo>
                        <a:pt x="4" y="182"/>
                      </a:lnTo>
                      <a:lnTo>
                        <a:pt x="8" y="201"/>
                      </a:lnTo>
                      <a:lnTo>
                        <a:pt x="16" y="221"/>
                      </a:lnTo>
                      <a:lnTo>
                        <a:pt x="24" y="240"/>
                      </a:lnTo>
                      <a:lnTo>
                        <a:pt x="36" y="258"/>
                      </a:lnTo>
                      <a:lnTo>
                        <a:pt x="48" y="275"/>
                      </a:lnTo>
                      <a:lnTo>
                        <a:pt x="64" y="292"/>
                      </a:lnTo>
                      <a:lnTo>
                        <a:pt x="80" y="306"/>
                      </a:lnTo>
                      <a:lnTo>
                        <a:pt x="97" y="319"/>
                      </a:lnTo>
                      <a:lnTo>
                        <a:pt x="114" y="329"/>
                      </a:lnTo>
                      <a:lnTo>
                        <a:pt x="133" y="339"/>
                      </a:lnTo>
                      <a:lnTo>
                        <a:pt x="152" y="345"/>
                      </a:lnTo>
                      <a:lnTo>
                        <a:pt x="173" y="351"/>
                      </a:lnTo>
                      <a:lnTo>
                        <a:pt x="194" y="354"/>
                      </a:lnTo>
                      <a:lnTo>
                        <a:pt x="217" y="355"/>
                      </a:lnTo>
                      <a:lnTo>
                        <a:pt x="237" y="354"/>
                      </a:lnTo>
                      <a:lnTo>
                        <a:pt x="248" y="352"/>
                      </a:lnTo>
                      <a:lnTo>
                        <a:pt x="259" y="351"/>
                      </a:lnTo>
                      <a:lnTo>
                        <a:pt x="268" y="347"/>
                      </a:lnTo>
                      <a:lnTo>
                        <a:pt x="278" y="345"/>
                      </a:lnTo>
                      <a:lnTo>
                        <a:pt x="299" y="339"/>
                      </a:lnTo>
                      <a:lnTo>
                        <a:pt x="317" y="329"/>
                      </a:lnTo>
                      <a:lnTo>
                        <a:pt x="335" y="319"/>
                      </a:lnTo>
                      <a:lnTo>
                        <a:pt x="343" y="312"/>
                      </a:lnTo>
                      <a:lnTo>
                        <a:pt x="352" y="306"/>
                      </a:lnTo>
                      <a:lnTo>
                        <a:pt x="355" y="302"/>
                      </a:lnTo>
                      <a:lnTo>
                        <a:pt x="360" y="298"/>
                      </a:lnTo>
                      <a:lnTo>
                        <a:pt x="369" y="292"/>
                      </a:lnTo>
                      <a:lnTo>
                        <a:pt x="384" y="274"/>
                      </a:lnTo>
                      <a:lnTo>
                        <a:pt x="390" y="264"/>
                      </a:lnTo>
                      <a:lnTo>
                        <a:pt x="394" y="260"/>
                      </a:lnTo>
                      <a:lnTo>
                        <a:pt x="398" y="257"/>
                      </a:lnTo>
                      <a:lnTo>
                        <a:pt x="388" y="232"/>
                      </a:lnTo>
                      <a:lnTo>
                        <a:pt x="372" y="254"/>
                      </a:lnTo>
                      <a:lnTo>
                        <a:pt x="354" y="277"/>
                      </a:lnTo>
                      <a:lnTo>
                        <a:pt x="338" y="289"/>
                      </a:lnTo>
                      <a:lnTo>
                        <a:pt x="324" y="301"/>
                      </a:lnTo>
                      <a:lnTo>
                        <a:pt x="314" y="305"/>
                      </a:lnTo>
                      <a:lnTo>
                        <a:pt x="310" y="308"/>
                      </a:lnTo>
                      <a:lnTo>
                        <a:pt x="308" y="309"/>
                      </a:lnTo>
                      <a:lnTo>
                        <a:pt x="307" y="311"/>
                      </a:lnTo>
                      <a:lnTo>
                        <a:pt x="291" y="319"/>
                      </a:lnTo>
                      <a:lnTo>
                        <a:pt x="272" y="325"/>
                      </a:lnTo>
                      <a:lnTo>
                        <a:pt x="254" y="329"/>
                      </a:lnTo>
                      <a:lnTo>
                        <a:pt x="249" y="329"/>
                      </a:lnTo>
                      <a:lnTo>
                        <a:pt x="244" y="330"/>
                      </a:lnTo>
                      <a:lnTo>
                        <a:pt x="235" y="332"/>
                      </a:lnTo>
                      <a:lnTo>
                        <a:pt x="217" y="334"/>
                      </a:lnTo>
                      <a:lnTo>
                        <a:pt x="197" y="332"/>
                      </a:lnTo>
                      <a:lnTo>
                        <a:pt x="177" y="329"/>
                      </a:lnTo>
                      <a:lnTo>
                        <a:pt x="158" y="325"/>
                      </a:lnTo>
                      <a:lnTo>
                        <a:pt x="141" y="319"/>
                      </a:lnTo>
                      <a:lnTo>
                        <a:pt x="124" y="311"/>
                      </a:lnTo>
                      <a:lnTo>
                        <a:pt x="108" y="301"/>
                      </a:lnTo>
                      <a:lnTo>
                        <a:pt x="92" y="289"/>
                      </a:lnTo>
                      <a:lnTo>
                        <a:pt x="79" y="277"/>
                      </a:lnTo>
                      <a:lnTo>
                        <a:pt x="64" y="261"/>
                      </a:lnTo>
                      <a:lnTo>
                        <a:pt x="53" y="246"/>
                      </a:lnTo>
                      <a:lnTo>
                        <a:pt x="42" y="229"/>
                      </a:lnTo>
                      <a:lnTo>
                        <a:pt x="36" y="213"/>
                      </a:lnTo>
                      <a:lnTo>
                        <a:pt x="29" y="195"/>
                      </a:lnTo>
                      <a:lnTo>
                        <a:pt x="25" y="177"/>
                      </a:lnTo>
                      <a:lnTo>
                        <a:pt x="22" y="158"/>
                      </a:lnTo>
                      <a:lnTo>
                        <a:pt x="22" y="140"/>
                      </a:lnTo>
                      <a:lnTo>
                        <a:pt x="25" y="100"/>
                      </a:lnTo>
                      <a:lnTo>
                        <a:pt x="36" y="65"/>
                      </a:lnTo>
                      <a:lnTo>
                        <a:pt x="53" y="32"/>
                      </a:lnTo>
                      <a:lnTo>
                        <a:pt x="64" y="16"/>
                      </a:lnTo>
                      <a:lnTo>
                        <a:pt x="79" y="3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757480" y="3612960"/>
                  <a:ext cx="74160" cy="70560"/>
                </a:xfrm>
                <a:custGeom>
                  <a:avLst/>
                  <a:gdLst/>
                  <a:ahLst/>
                  <a:rect l="l" t="t" r="r" b="b"/>
                  <a:pathLst>
                    <a:path w="258" h="248">
                      <a:moveTo>
                        <a:pt x="21" y="119"/>
                      </a:moveTo>
                      <a:lnTo>
                        <a:pt x="22" y="96"/>
                      </a:lnTo>
                      <a:lnTo>
                        <a:pt x="29" y="77"/>
                      </a:lnTo>
                      <a:lnTo>
                        <a:pt x="38" y="58"/>
                      </a:lnTo>
                      <a:lnTo>
                        <a:pt x="53" y="42"/>
                      </a:lnTo>
                      <a:lnTo>
                        <a:pt x="64" y="29"/>
                      </a:lnTo>
                      <a:lnTo>
                        <a:pt x="78" y="21"/>
                      </a:lnTo>
                      <a:lnTo>
                        <a:pt x="91" y="16"/>
                      </a:lnTo>
                      <a:lnTo>
                        <a:pt x="107" y="12"/>
                      </a:lnTo>
                      <a:lnTo>
                        <a:pt x="77" y="0"/>
                      </a:lnTo>
                      <a:lnTo>
                        <a:pt x="55" y="11"/>
                      </a:lnTo>
                      <a:lnTo>
                        <a:pt x="38" y="27"/>
                      </a:lnTo>
                      <a:lnTo>
                        <a:pt x="20" y="46"/>
                      </a:lnTo>
                      <a:lnTo>
                        <a:pt x="9" y="68"/>
                      </a:lnTo>
                      <a:lnTo>
                        <a:pt x="2" y="92"/>
                      </a:lnTo>
                      <a:lnTo>
                        <a:pt x="0" y="119"/>
                      </a:lnTo>
                      <a:lnTo>
                        <a:pt x="2" y="144"/>
                      </a:lnTo>
                      <a:lnTo>
                        <a:pt x="4" y="155"/>
                      </a:lnTo>
                      <a:lnTo>
                        <a:pt x="9" y="167"/>
                      </a:lnTo>
                      <a:lnTo>
                        <a:pt x="13" y="178"/>
                      </a:lnTo>
                      <a:lnTo>
                        <a:pt x="20" y="189"/>
                      </a:lnTo>
                      <a:lnTo>
                        <a:pt x="38" y="209"/>
                      </a:lnTo>
                      <a:lnTo>
                        <a:pt x="57" y="225"/>
                      </a:lnTo>
                      <a:lnTo>
                        <a:pt x="68" y="232"/>
                      </a:lnTo>
                      <a:lnTo>
                        <a:pt x="79" y="238"/>
                      </a:lnTo>
                      <a:lnTo>
                        <a:pt x="103" y="245"/>
                      </a:lnTo>
                      <a:lnTo>
                        <a:pt x="116" y="247"/>
                      </a:lnTo>
                      <a:lnTo>
                        <a:pt x="130" y="248"/>
                      </a:lnTo>
                      <a:lnTo>
                        <a:pt x="141" y="247"/>
                      </a:lnTo>
                      <a:lnTo>
                        <a:pt x="155" y="245"/>
                      </a:lnTo>
                      <a:lnTo>
                        <a:pt x="166" y="241"/>
                      </a:lnTo>
                      <a:lnTo>
                        <a:pt x="172" y="239"/>
                      </a:lnTo>
                      <a:lnTo>
                        <a:pt x="179" y="238"/>
                      </a:lnTo>
                      <a:lnTo>
                        <a:pt x="183" y="234"/>
                      </a:lnTo>
                      <a:lnTo>
                        <a:pt x="189" y="232"/>
                      </a:lnTo>
                      <a:lnTo>
                        <a:pt x="200" y="225"/>
                      </a:lnTo>
                      <a:lnTo>
                        <a:pt x="205" y="221"/>
                      </a:lnTo>
                      <a:lnTo>
                        <a:pt x="207" y="219"/>
                      </a:lnTo>
                      <a:lnTo>
                        <a:pt x="207" y="217"/>
                      </a:lnTo>
                      <a:lnTo>
                        <a:pt x="208" y="217"/>
                      </a:lnTo>
                      <a:lnTo>
                        <a:pt x="210" y="217"/>
                      </a:lnTo>
                      <a:lnTo>
                        <a:pt x="222" y="209"/>
                      </a:lnTo>
                      <a:lnTo>
                        <a:pt x="227" y="200"/>
                      </a:lnTo>
                      <a:lnTo>
                        <a:pt x="234" y="192"/>
                      </a:lnTo>
                      <a:lnTo>
                        <a:pt x="246" y="174"/>
                      </a:lnTo>
                      <a:lnTo>
                        <a:pt x="246" y="171"/>
                      </a:lnTo>
                      <a:lnTo>
                        <a:pt x="247" y="169"/>
                      </a:lnTo>
                      <a:lnTo>
                        <a:pt x="249" y="164"/>
                      </a:lnTo>
                      <a:lnTo>
                        <a:pt x="252" y="155"/>
                      </a:lnTo>
                      <a:lnTo>
                        <a:pt x="255" y="145"/>
                      </a:lnTo>
                      <a:lnTo>
                        <a:pt x="258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5" y="139"/>
                      </a:lnTo>
                      <a:lnTo>
                        <a:pt x="230" y="160"/>
                      </a:lnTo>
                      <a:lnTo>
                        <a:pt x="220" y="178"/>
                      </a:lnTo>
                      <a:lnTo>
                        <a:pt x="213" y="186"/>
                      </a:lnTo>
                      <a:lnTo>
                        <a:pt x="206" y="195"/>
                      </a:lnTo>
                      <a:lnTo>
                        <a:pt x="197" y="202"/>
                      </a:lnTo>
                      <a:lnTo>
                        <a:pt x="189" y="208"/>
                      </a:lnTo>
                      <a:lnTo>
                        <a:pt x="171" y="219"/>
                      </a:lnTo>
                      <a:lnTo>
                        <a:pt x="150" y="224"/>
                      </a:lnTo>
                      <a:lnTo>
                        <a:pt x="130" y="226"/>
                      </a:lnTo>
                      <a:lnTo>
                        <a:pt x="107" y="224"/>
                      </a:lnTo>
                      <a:lnTo>
                        <a:pt x="88" y="219"/>
                      </a:lnTo>
                      <a:lnTo>
                        <a:pt x="69" y="208"/>
                      </a:lnTo>
                      <a:lnTo>
                        <a:pt x="53" y="195"/>
                      </a:lnTo>
                      <a:lnTo>
                        <a:pt x="38" y="178"/>
                      </a:lnTo>
                      <a:lnTo>
                        <a:pt x="29" y="160"/>
                      </a:lnTo>
                      <a:lnTo>
                        <a:pt x="22" y="139"/>
                      </a:lnTo>
                      <a:lnTo>
                        <a:pt x="21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763600" y="361728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7" h="214">
                      <a:moveTo>
                        <a:pt x="32" y="30"/>
                      </a:moveTo>
                      <a:lnTo>
                        <a:pt x="17" y="46"/>
                      </a:lnTo>
                      <a:lnTo>
                        <a:pt x="8" y="65"/>
                      </a:lnTo>
                      <a:lnTo>
                        <a:pt x="1" y="84"/>
                      </a:lnTo>
                      <a:lnTo>
                        <a:pt x="0" y="107"/>
                      </a:lnTo>
                      <a:lnTo>
                        <a:pt x="1" y="127"/>
                      </a:lnTo>
                      <a:lnTo>
                        <a:pt x="8" y="148"/>
                      </a:lnTo>
                      <a:lnTo>
                        <a:pt x="17" y="166"/>
                      </a:lnTo>
                      <a:lnTo>
                        <a:pt x="32" y="183"/>
                      </a:lnTo>
                      <a:lnTo>
                        <a:pt x="48" y="196"/>
                      </a:lnTo>
                      <a:lnTo>
                        <a:pt x="67" y="207"/>
                      </a:lnTo>
                      <a:lnTo>
                        <a:pt x="86" y="212"/>
                      </a:lnTo>
                      <a:lnTo>
                        <a:pt x="109" y="214"/>
                      </a:lnTo>
                      <a:lnTo>
                        <a:pt x="129" y="212"/>
                      </a:lnTo>
                      <a:lnTo>
                        <a:pt x="150" y="207"/>
                      </a:lnTo>
                      <a:lnTo>
                        <a:pt x="168" y="196"/>
                      </a:lnTo>
                      <a:lnTo>
                        <a:pt x="176" y="190"/>
                      </a:lnTo>
                      <a:lnTo>
                        <a:pt x="185" y="183"/>
                      </a:lnTo>
                      <a:lnTo>
                        <a:pt x="192" y="174"/>
                      </a:lnTo>
                      <a:lnTo>
                        <a:pt x="199" y="166"/>
                      </a:lnTo>
                      <a:lnTo>
                        <a:pt x="209" y="148"/>
                      </a:lnTo>
                      <a:lnTo>
                        <a:pt x="214" y="127"/>
                      </a:lnTo>
                      <a:lnTo>
                        <a:pt x="217" y="107"/>
                      </a:lnTo>
                      <a:lnTo>
                        <a:pt x="217" y="99"/>
                      </a:lnTo>
                      <a:lnTo>
                        <a:pt x="199" y="80"/>
                      </a:lnTo>
                      <a:lnTo>
                        <a:pt x="192" y="73"/>
                      </a:lnTo>
                      <a:lnTo>
                        <a:pt x="189" y="70"/>
                      </a:lnTo>
                      <a:lnTo>
                        <a:pt x="188" y="69"/>
                      </a:lnTo>
                      <a:lnTo>
                        <a:pt x="186" y="67"/>
                      </a:lnTo>
                      <a:lnTo>
                        <a:pt x="193" y="85"/>
                      </a:lnTo>
                      <a:lnTo>
                        <a:pt x="195" y="107"/>
                      </a:lnTo>
                      <a:lnTo>
                        <a:pt x="193" y="123"/>
                      </a:lnTo>
                      <a:lnTo>
                        <a:pt x="188" y="138"/>
                      </a:lnTo>
                      <a:lnTo>
                        <a:pt x="184" y="145"/>
                      </a:lnTo>
                      <a:lnTo>
                        <a:pt x="182" y="149"/>
                      </a:lnTo>
                      <a:lnTo>
                        <a:pt x="180" y="153"/>
                      </a:lnTo>
                      <a:lnTo>
                        <a:pt x="170" y="167"/>
                      </a:lnTo>
                      <a:lnTo>
                        <a:pt x="162" y="171"/>
                      </a:lnTo>
                      <a:lnTo>
                        <a:pt x="155" y="177"/>
                      </a:lnTo>
                      <a:lnTo>
                        <a:pt x="147" y="182"/>
                      </a:lnTo>
                      <a:lnTo>
                        <a:pt x="141" y="186"/>
                      </a:lnTo>
                      <a:lnTo>
                        <a:pt x="125" y="191"/>
                      </a:lnTo>
                      <a:lnTo>
                        <a:pt x="109" y="193"/>
                      </a:lnTo>
                      <a:lnTo>
                        <a:pt x="91" y="191"/>
                      </a:lnTo>
                      <a:lnTo>
                        <a:pt x="75" y="186"/>
                      </a:lnTo>
                      <a:lnTo>
                        <a:pt x="60" y="177"/>
                      </a:lnTo>
                      <a:lnTo>
                        <a:pt x="48" y="167"/>
                      </a:lnTo>
                      <a:lnTo>
                        <a:pt x="36" y="153"/>
                      </a:lnTo>
                      <a:lnTo>
                        <a:pt x="28" y="138"/>
                      </a:lnTo>
                      <a:lnTo>
                        <a:pt x="24" y="123"/>
                      </a:lnTo>
                      <a:lnTo>
                        <a:pt x="23" y="107"/>
                      </a:lnTo>
                      <a:lnTo>
                        <a:pt x="24" y="89"/>
                      </a:lnTo>
                      <a:lnTo>
                        <a:pt x="28" y="73"/>
                      </a:lnTo>
                      <a:lnTo>
                        <a:pt x="36" y="58"/>
                      </a:lnTo>
                      <a:lnTo>
                        <a:pt x="48" y="46"/>
                      </a:lnTo>
                      <a:lnTo>
                        <a:pt x="60" y="33"/>
                      </a:lnTo>
                      <a:lnTo>
                        <a:pt x="75" y="25"/>
                      </a:lnTo>
                      <a:lnTo>
                        <a:pt x="91" y="21"/>
                      </a:lnTo>
                      <a:lnTo>
                        <a:pt x="109" y="19"/>
                      </a:lnTo>
                      <a:lnTo>
                        <a:pt x="117" y="19"/>
                      </a:lnTo>
                      <a:lnTo>
                        <a:pt x="126" y="22"/>
                      </a:lnTo>
                      <a:lnTo>
                        <a:pt x="106" y="9"/>
                      </a:lnTo>
                      <a:lnTo>
                        <a:pt x="86" y="0"/>
                      </a:lnTo>
                      <a:lnTo>
                        <a:pt x="70" y="4"/>
                      </a:lnTo>
                      <a:lnTo>
                        <a:pt x="57" y="9"/>
                      </a:lnTo>
                      <a:lnTo>
                        <a:pt x="43" y="17"/>
                      </a:lnTo>
                      <a:lnTo>
                        <a:pt x="32" y="30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770080" y="3622320"/>
                  <a:ext cx="49680" cy="49320"/>
                </a:xfrm>
                <a:custGeom>
                  <a:avLst/>
                  <a:gdLst/>
                  <a:ahLst/>
                  <a:rect l="l" t="t" r="r" b="b"/>
                  <a:pathLst>
                    <a:path w="172" h="174">
                      <a:moveTo>
                        <a:pt x="103" y="3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2"/>
                      </a:lnTo>
                      <a:lnTo>
                        <a:pt x="52" y="6"/>
                      </a:lnTo>
                      <a:lnTo>
                        <a:pt x="37" y="14"/>
                      </a:lnTo>
                      <a:lnTo>
                        <a:pt x="25" y="27"/>
                      </a:lnTo>
                      <a:lnTo>
                        <a:pt x="13" y="39"/>
                      </a:lnTo>
                      <a:lnTo>
                        <a:pt x="5" y="54"/>
                      </a:lnTo>
                      <a:lnTo>
                        <a:pt x="1" y="70"/>
                      </a:lnTo>
                      <a:lnTo>
                        <a:pt x="0" y="88"/>
                      </a:lnTo>
                      <a:lnTo>
                        <a:pt x="1" y="104"/>
                      </a:lnTo>
                      <a:lnTo>
                        <a:pt x="5" y="119"/>
                      </a:lnTo>
                      <a:lnTo>
                        <a:pt x="13" y="134"/>
                      </a:lnTo>
                      <a:lnTo>
                        <a:pt x="25" y="148"/>
                      </a:lnTo>
                      <a:lnTo>
                        <a:pt x="37" y="158"/>
                      </a:lnTo>
                      <a:lnTo>
                        <a:pt x="52" y="167"/>
                      </a:lnTo>
                      <a:lnTo>
                        <a:pt x="68" y="172"/>
                      </a:lnTo>
                      <a:lnTo>
                        <a:pt x="86" y="174"/>
                      </a:lnTo>
                      <a:lnTo>
                        <a:pt x="102" y="172"/>
                      </a:lnTo>
                      <a:lnTo>
                        <a:pt x="118" y="167"/>
                      </a:lnTo>
                      <a:lnTo>
                        <a:pt x="124" y="163"/>
                      </a:lnTo>
                      <a:lnTo>
                        <a:pt x="132" y="158"/>
                      </a:lnTo>
                      <a:lnTo>
                        <a:pt x="139" y="152"/>
                      </a:lnTo>
                      <a:lnTo>
                        <a:pt x="147" y="148"/>
                      </a:lnTo>
                      <a:lnTo>
                        <a:pt x="157" y="134"/>
                      </a:lnTo>
                      <a:lnTo>
                        <a:pt x="159" y="130"/>
                      </a:lnTo>
                      <a:lnTo>
                        <a:pt x="161" y="126"/>
                      </a:lnTo>
                      <a:lnTo>
                        <a:pt x="165" y="119"/>
                      </a:lnTo>
                      <a:lnTo>
                        <a:pt x="170" y="104"/>
                      </a:lnTo>
                      <a:lnTo>
                        <a:pt x="172" y="88"/>
                      </a:lnTo>
                      <a:lnTo>
                        <a:pt x="170" y="66"/>
                      </a:lnTo>
                      <a:lnTo>
                        <a:pt x="163" y="48"/>
                      </a:lnTo>
                      <a:lnTo>
                        <a:pt x="134" y="23"/>
                      </a:lnTo>
                      <a:lnTo>
                        <a:pt x="118" y="12"/>
                      </a:lnTo>
                      <a:lnTo>
                        <a:pt x="103" y="3"/>
                      </a:lnTo>
                      <a:close/>
                      <a:moveTo>
                        <a:pt x="21" y="88"/>
                      </a:moveTo>
                      <a:lnTo>
                        <a:pt x="22" y="74"/>
                      </a:lnTo>
                      <a:lnTo>
                        <a:pt x="26" y="62"/>
                      </a:lnTo>
                      <a:lnTo>
                        <a:pt x="32" y="50"/>
                      </a:lnTo>
                      <a:lnTo>
                        <a:pt x="39" y="41"/>
                      </a:lnTo>
                      <a:lnTo>
                        <a:pt x="49" y="32"/>
                      </a:lnTo>
                      <a:lnTo>
                        <a:pt x="60" y="27"/>
                      </a:lnTo>
                      <a:lnTo>
                        <a:pt x="72" y="23"/>
                      </a:lnTo>
                      <a:lnTo>
                        <a:pt x="86" y="22"/>
                      </a:lnTo>
                      <a:lnTo>
                        <a:pt x="97" y="23"/>
                      </a:lnTo>
                      <a:lnTo>
                        <a:pt x="110" y="27"/>
                      </a:lnTo>
                      <a:lnTo>
                        <a:pt x="120" y="32"/>
                      </a:lnTo>
                      <a:lnTo>
                        <a:pt x="131" y="41"/>
                      </a:lnTo>
                      <a:lnTo>
                        <a:pt x="139" y="50"/>
                      </a:lnTo>
                      <a:lnTo>
                        <a:pt x="145" y="62"/>
                      </a:lnTo>
                      <a:lnTo>
                        <a:pt x="148" y="74"/>
                      </a:lnTo>
                      <a:lnTo>
                        <a:pt x="151" y="88"/>
                      </a:lnTo>
                      <a:lnTo>
                        <a:pt x="148" y="99"/>
                      </a:lnTo>
                      <a:lnTo>
                        <a:pt x="146" y="105"/>
                      </a:lnTo>
                      <a:lnTo>
                        <a:pt x="145" y="112"/>
                      </a:lnTo>
                      <a:lnTo>
                        <a:pt x="141" y="116"/>
                      </a:lnTo>
                      <a:lnTo>
                        <a:pt x="139" y="122"/>
                      </a:lnTo>
                      <a:lnTo>
                        <a:pt x="131" y="133"/>
                      </a:lnTo>
                      <a:lnTo>
                        <a:pt x="120" y="141"/>
                      </a:lnTo>
                      <a:lnTo>
                        <a:pt x="114" y="143"/>
                      </a:lnTo>
                      <a:lnTo>
                        <a:pt x="110" y="147"/>
                      </a:lnTo>
                      <a:lnTo>
                        <a:pt x="103" y="148"/>
                      </a:lnTo>
                      <a:lnTo>
                        <a:pt x="97" y="150"/>
                      </a:lnTo>
                      <a:lnTo>
                        <a:pt x="86" y="152"/>
                      </a:lnTo>
                      <a:lnTo>
                        <a:pt x="72" y="150"/>
                      </a:lnTo>
                      <a:lnTo>
                        <a:pt x="60" y="147"/>
                      </a:lnTo>
                      <a:lnTo>
                        <a:pt x="49" y="141"/>
                      </a:lnTo>
                      <a:lnTo>
                        <a:pt x="39" y="133"/>
                      </a:lnTo>
                      <a:lnTo>
                        <a:pt x="32" y="122"/>
                      </a:lnTo>
                      <a:lnTo>
                        <a:pt x="26" y="112"/>
                      </a:lnTo>
                      <a:lnTo>
                        <a:pt x="22" y="99"/>
                      </a:lnTo>
                      <a:lnTo>
                        <a:pt x="21" y="88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776560" y="362844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130" h="130">
                      <a:moveTo>
                        <a:pt x="18" y="19"/>
                      </a:moveTo>
                      <a:lnTo>
                        <a:pt x="11" y="28"/>
                      </a:lnTo>
                      <a:lnTo>
                        <a:pt x="5" y="40"/>
                      </a:lnTo>
                      <a:lnTo>
                        <a:pt x="1" y="52"/>
                      </a:lnTo>
                      <a:lnTo>
                        <a:pt x="0" y="66"/>
                      </a:lnTo>
                      <a:lnTo>
                        <a:pt x="1" y="77"/>
                      </a:lnTo>
                      <a:lnTo>
                        <a:pt x="5" y="90"/>
                      </a:lnTo>
                      <a:lnTo>
                        <a:pt x="11" y="100"/>
                      </a:lnTo>
                      <a:lnTo>
                        <a:pt x="18" y="111"/>
                      </a:lnTo>
                      <a:lnTo>
                        <a:pt x="28" y="119"/>
                      </a:lnTo>
                      <a:lnTo>
                        <a:pt x="39" y="125"/>
                      </a:lnTo>
                      <a:lnTo>
                        <a:pt x="51" y="128"/>
                      </a:lnTo>
                      <a:lnTo>
                        <a:pt x="65" y="130"/>
                      </a:lnTo>
                      <a:lnTo>
                        <a:pt x="76" y="128"/>
                      </a:lnTo>
                      <a:lnTo>
                        <a:pt x="82" y="126"/>
                      </a:lnTo>
                      <a:lnTo>
                        <a:pt x="89" y="125"/>
                      </a:lnTo>
                      <a:lnTo>
                        <a:pt x="93" y="121"/>
                      </a:lnTo>
                      <a:lnTo>
                        <a:pt x="99" y="119"/>
                      </a:lnTo>
                      <a:lnTo>
                        <a:pt x="110" y="111"/>
                      </a:lnTo>
                      <a:lnTo>
                        <a:pt x="118" y="100"/>
                      </a:lnTo>
                      <a:lnTo>
                        <a:pt x="120" y="94"/>
                      </a:lnTo>
                      <a:lnTo>
                        <a:pt x="124" y="90"/>
                      </a:lnTo>
                      <a:lnTo>
                        <a:pt x="125" y="83"/>
                      </a:lnTo>
                      <a:lnTo>
                        <a:pt x="127" y="77"/>
                      </a:lnTo>
                      <a:lnTo>
                        <a:pt x="130" y="66"/>
                      </a:lnTo>
                      <a:lnTo>
                        <a:pt x="127" y="52"/>
                      </a:lnTo>
                      <a:lnTo>
                        <a:pt x="124" y="40"/>
                      </a:lnTo>
                      <a:lnTo>
                        <a:pt x="118" y="28"/>
                      </a:lnTo>
                      <a:lnTo>
                        <a:pt x="110" y="19"/>
                      </a:lnTo>
                      <a:lnTo>
                        <a:pt x="99" y="10"/>
                      </a:lnTo>
                      <a:lnTo>
                        <a:pt x="89" y="5"/>
                      </a:lnTo>
                      <a:lnTo>
                        <a:pt x="76" y="1"/>
                      </a:lnTo>
                      <a:lnTo>
                        <a:pt x="65" y="0"/>
                      </a:lnTo>
                      <a:lnTo>
                        <a:pt x="51" y="1"/>
                      </a:lnTo>
                      <a:lnTo>
                        <a:pt x="39" y="5"/>
                      </a:lnTo>
                      <a:lnTo>
                        <a:pt x="28" y="10"/>
                      </a:lnTo>
                      <a:lnTo>
                        <a:pt x="18" y="19"/>
                      </a:lnTo>
                      <a:close/>
                      <a:moveTo>
                        <a:pt x="22" y="66"/>
                      </a:moveTo>
                      <a:lnTo>
                        <a:pt x="24" y="49"/>
                      </a:lnTo>
                      <a:lnTo>
                        <a:pt x="34" y="34"/>
                      </a:lnTo>
                      <a:lnTo>
                        <a:pt x="40" y="27"/>
                      </a:lnTo>
                      <a:lnTo>
                        <a:pt x="48" y="24"/>
                      </a:lnTo>
                      <a:lnTo>
                        <a:pt x="65" y="22"/>
                      </a:lnTo>
                      <a:lnTo>
                        <a:pt x="73" y="22"/>
                      </a:lnTo>
                      <a:lnTo>
                        <a:pt x="81" y="24"/>
                      </a:lnTo>
                      <a:lnTo>
                        <a:pt x="88" y="27"/>
                      </a:lnTo>
                      <a:lnTo>
                        <a:pt x="96" y="34"/>
                      </a:lnTo>
                      <a:lnTo>
                        <a:pt x="105" y="49"/>
                      </a:lnTo>
                      <a:lnTo>
                        <a:pt x="107" y="57"/>
                      </a:lnTo>
                      <a:lnTo>
                        <a:pt x="108" y="66"/>
                      </a:lnTo>
                      <a:lnTo>
                        <a:pt x="107" y="73"/>
                      </a:lnTo>
                      <a:lnTo>
                        <a:pt x="105" y="82"/>
                      </a:lnTo>
                      <a:lnTo>
                        <a:pt x="100" y="88"/>
                      </a:lnTo>
                      <a:lnTo>
                        <a:pt x="96" y="96"/>
                      </a:lnTo>
                      <a:lnTo>
                        <a:pt x="88" y="101"/>
                      </a:lnTo>
                      <a:lnTo>
                        <a:pt x="81" y="105"/>
                      </a:lnTo>
                      <a:lnTo>
                        <a:pt x="73" y="108"/>
                      </a:lnTo>
                      <a:lnTo>
                        <a:pt x="68" y="108"/>
                      </a:lnTo>
                      <a:lnTo>
                        <a:pt x="66" y="108"/>
                      </a:lnTo>
                      <a:lnTo>
                        <a:pt x="65" y="108"/>
                      </a:lnTo>
                      <a:lnTo>
                        <a:pt x="65" y="109"/>
                      </a:lnTo>
                      <a:lnTo>
                        <a:pt x="56" y="108"/>
                      </a:lnTo>
                      <a:lnTo>
                        <a:pt x="48" y="105"/>
                      </a:lnTo>
                      <a:lnTo>
                        <a:pt x="40" y="101"/>
                      </a:lnTo>
                      <a:lnTo>
                        <a:pt x="34" y="96"/>
                      </a:lnTo>
                      <a:lnTo>
                        <a:pt x="28" y="88"/>
                      </a:lnTo>
                      <a:lnTo>
                        <a:pt x="24" y="82"/>
                      </a:lnTo>
                      <a:lnTo>
                        <a:pt x="22" y="66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782680" y="3634920"/>
                  <a:ext cx="24480" cy="24480"/>
                </a:xfrm>
                <a:custGeom>
                  <a:avLst/>
                  <a:gdLst/>
                  <a:ahLst/>
                  <a:rect l="l" t="t" r="r" b="b"/>
                  <a:pathLst>
                    <a:path w="86" h="87">
                      <a:moveTo>
                        <a:pt x="12" y="12"/>
                      </a:moveTo>
                      <a:lnTo>
                        <a:pt x="2" y="27"/>
                      </a:lnTo>
                      <a:lnTo>
                        <a:pt x="0" y="44"/>
                      </a:lnTo>
                      <a:lnTo>
                        <a:pt x="2" y="60"/>
                      </a:lnTo>
                      <a:lnTo>
                        <a:pt x="6" y="66"/>
                      </a:lnTo>
                      <a:lnTo>
                        <a:pt x="12" y="74"/>
                      </a:lnTo>
                      <a:lnTo>
                        <a:pt x="18" y="79"/>
                      </a:lnTo>
                      <a:lnTo>
                        <a:pt x="26" y="83"/>
                      </a:lnTo>
                      <a:lnTo>
                        <a:pt x="34" y="86"/>
                      </a:lnTo>
                      <a:lnTo>
                        <a:pt x="43" y="87"/>
                      </a:lnTo>
                      <a:lnTo>
                        <a:pt x="43" y="86"/>
                      </a:lnTo>
                      <a:lnTo>
                        <a:pt x="44" y="86"/>
                      </a:lnTo>
                      <a:lnTo>
                        <a:pt x="46" y="86"/>
                      </a:lnTo>
                      <a:lnTo>
                        <a:pt x="51" y="86"/>
                      </a:lnTo>
                      <a:lnTo>
                        <a:pt x="59" y="83"/>
                      </a:lnTo>
                      <a:lnTo>
                        <a:pt x="66" y="79"/>
                      </a:lnTo>
                      <a:lnTo>
                        <a:pt x="74" y="74"/>
                      </a:lnTo>
                      <a:lnTo>
                        <a:pt x="78" y="66"/>
                      </a:lnTo>
                      <a:lnTo>
                        <a:pt x="83" y="60"/>
                      </a:lnTo>
                      <a:lnTo>
                        <a:pt x="85" y="51"/>
                      </a:lnTo>
                      <a:lnTo>
                        <a:pt x="86" y="44"/>
                      </a:lnTo>
                      <a:lnTo>
                        <a:pt x="85" y="35"/>
                      </a:lnTo>
                      <a:lnTo>
                        <a:pt x="83" y="27"/>
                      </a:lnTo>
                      <a:lnTo>
                        <a:pt x="74" y="12"/>
                      </a:lnTo>
                      <a:lnTo>
                        <a:pt x="66" y="5"/>
                      </a:lnTo>
                      <a:lnTo>
                        <a:pt x="59" y="2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2"/>
                      </a:lnTo>
                      <a:lnTo>
                        <a:pt x="18" y="5"/>
                      </a:lnTo>
                      <a:lnTo>
                        <a:pt x="12" y="12"/>
                      </a:lnTo>
                      <a:close/>
                      <a:moveTo>
                        <a:pt x="21" y="44"/>
                      </a:moveTo>
                      <a:lnTo>
                        <a:pt x="23" y="35"/>
                      </a:lnTo>
                      <a:lnTo>
                        <a:pt x="27" y="28"/>
                      </a:lnTo>
                      <a:lnTo>
                        <a:pt x="34" y="23"/>
                      </a:lnTo>
                      <a:lnTo>
                        <a:pt x="43" y="22"/>
                      </a:lnTo>
                      <a:lnTo>
                        <a:pt x="51" y="23"/>
                      </a:lnTo>
                      <a:lnTo>
                        <a:pt x="58" y="28"/>
                      </a:lnTo>
                      <a:lnTo>
                        <a:pt x="62" y="35"/>
                      </a:lnTo>
                      <a:lnTo>
                        <a:pt x="64" y="44"/>
                      </a:lnTo>
                      <a:lnTo>
                        <a:pt x="62" y="51"/>
                      </a:lnTo>
                      <a:lnTo>
                        <a:pt x="60" y="54"/>
                      </a:lnTo>
                      <a:lnTo>
                        <a:pt x="58" y="58"/>
                      </a:lnTo>
                      <a:lnTo>
                        <a:pt x="51" y="62"/>
                      </a:lnTo>
                      <a:lnTo>
                        <a:pt x="46" y="63"/>
                      </a:lnTo>
                      <a:lnTo>
                        <a:pt x="44" y="63"/>
                      </a:lnTo>
                      <a:lnTo>
                        <a:pt x="43" y="63"/>
                      </a:lnTo>
                      <a:lnTo>
                        <a:pt x="43" y="64"/>
                      </a:lnTo>
                      <a:lnTo>
                        <a:pt x="34" y="62"/>
                      </a:lnTo>
                      <a:lnTo>
                        <a:pt x="27" y="58"/>
                      </a:lnTo>
                      <a:lnTo>
                        <a:pt x="24" y="54"/>
                      </a:lnTo>
                      <a:lnTo>
                        <a:pt x="23" y="51"/>
                      </a:lnTo>
                      <a:lnTo>
                        <a:pt x="21" y="44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789160" y="36410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6" y="6"/>
                      </a:moveTo>
                      <a:lnTo>
                        <a:pt x="2" y="13"/>
                      </a:lnTo>
                      <a:lnTo>
                        <a:pt x="0" y="22"/>
                      </a:lnTo>
                      <a:lnTo>
                        <a:pt x="2" y="29"/>
                      </a:lnTo>
                      <a:lnTo>
                        <a:pt x="3" y="32"/>
                      </a:lnTo>
                      <a:lnTo>
                        <a:pt x="6" y="36"/>
                      </a:lnTo>
                      <a:lnTo>
                        <a:pt x="13" y="40"/>
                      </a:lnTo>
                      <a:lnTo>
                        <a:pt x="22" y="42"/>
                      </a:lnTo>
                      <a:lnTo>
                        <a:pt x="22" y="41"/>
                      </a:lnTo>
                      <a:lnTo>
                        <a:pt x="23" y="41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7" y="36"/>
                      </a:lnTo>
                      <a:lnTo>
                        <a:pt x="39" y="32"/>
                      </a:lnTo>
                      <a:lnTo>
                        <a:pt x="41" y="29"/>
                      </a:lnTo>
                      <a:lnTo>
                        <a:pt x="43" y="22"/>
                      </a:lnTo>
                      <a:lnTo>
                        <a:pt x="41" y="13"/>
                      </a:lnTo>
                      <a:lnTo>
                        <a:pt x="37" y="6"/>
                      </a:lnTo>
                      <a:lnTo>
                        <a:pt x="30" y="1"/>
                      </a:lnTo>
                      <a:lnTo>
                        <a:pt x="22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652720" y="364644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1" y="4"/>
                      </a:moveTo>
                      <a:lnTo>
                        <a:pt x="21" y="0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3" y="73"/>
                      </a:lnTo>
                      <a:lnTo>
                        <a:pt x="12" y="118"/>
                      </a:lnTo>
                      <a:lnTo>
                        <a:pt x="23" y="161"/>
                      </a:lnTo>
                      <a:lnTo>
                        <a:pt x="40" y="203"/>
                      </a:lnTo>
                      <a:lnTo>
                        <a:pt x="59" y="243"/>
                      </a:lnTo>
                      <a:lnTo>
                        <a:pt x="84" y="282"/>
                      </a:lnTo>
                      <a:lnTo>
                        <a:pt x="97" y="300"/>
                      </a:lnTo>
                      <a:lnTo>
                        <a:pt x="111" y="319"/>
                      </a:lnTo>
                      <a:lnTo>
                        <a:pt x="145" y="355"/>
                      </a:lnTo>
                      <a:lnTo>
                        <a:pt x="182" y="389"/>
                      </a:lnTo>
                      <a:lnTo>
                        <a:pt x="221" y="419"/>
                      </a:lnTo>
                      <a:lnTo>
                        <a:pt x="261" y="444"/>
                      </a:lnTo>
                      <a:lnTo>
                        <a:pt x="305" y="464"/>
                      </a:lnTo>
                      <a:lnTo>
                        <a:pt x="350" y="480"/>
                      </a:lnTo>
                      <a:lnTo>
                        <a:pt x="397" y="491"/>
                      </a:lnTo>
                      <a:lnTo>
                        <a:pt x="446" y="498"/>
                      </a:lnTo>
                      <a:lnTo>
                        <a:pt x="497" y="500"/>
                      </a:lnTo>
                      <a:lnTo>
                        <a:pt x="526" y="499"/>
                      </a:lnTo>
                      <a:lnTo>
                        <a:pt x="557" y="497"/>
                      </a:lnTo>
                      <a:lnTo>
                        <a:pt x="587" y="492"/>
                      </a:lnTo>
                      <a:lnTo>
                        <a:pt x="616" y="487"/>
                      </a:lnTo>
                      <a:lnTo>
                        <a:pt x="636" y="460"/>
                      </a:lnTo>
                      <a:lnTo>
                        <a:pt x="602" y="467"/>
                      </a:lnTo>
                      <a:lnTo>
                        <a:pt x="568" y="473"/>
                      </a:lnTo>
                      <a:lnTo>
                        <a:pt x="532" y="477"/>
                      </a:lnTo>
                      <a:lnTo>
                        <a:pt x="514" y="478"/>
                      </a:lnTo>
                      <a:lnTo>
                        <a:pt x="505" y="478"/>
                      </a:lnTo>
                      <a:lnTo>
                        <a:pt x="500" y="478"/>
                      </a:lnTo>
                      <a:lnTo>
                        <a:pt x="498" y="478"/>
                      </a:lnTo>
                      <a:lnTo>
                        <a:pt x="497" y="478"/>
                      </a:lnTo>
                      <a:lnTo>
                        <a:pt x="497" y="479"/>
                      </a:lnTo>
                      <a:lnTo>
                        <a:pt x="447" y="477"/>
                      </a:lnTo>
                      <a:lnTo>
                        <a:pt x="401" y="470"/>
                      </a:lnTo>
                      <a:lnTo>
                        <a:pt x="355" y="458"/>
                      </a:lnTo>
                      <a:lnTo>
                        <a:pt x="313" y="444"/>
                      </a:lnTo>
                      <a:lnTo>
                        <a:pt x="271" y="423"/>
                      </a:lnTo>
                      <a:lnTo>
                        <a:pt x="233" y="399"/>
                      </a:lnTo>
                      <a:lnTo>
                        <a:pt x="195" y="371"/>
                      </a:lnTo>
                      <a:lnTo>
                        <a:pt x="160" y="339"/>
                      </a:lnTo>
                      <a:lnTo>
                        <a:pt x="126" y="303"/>
                      </a:lnTo>
                      <a:lnTo>
                        <a:pt x="98" y="266"/>
                      </a:lnTo>
                      <a:lnTo>
                        <a:pt x="84" y="245"/>
                      </a:lnTo>
                      <a:lnTo>
                        <a:pt x="73" y="226"/>
                      </a:lnTo>
                      <a:lnTo>
                        <a:pt x="55" y="185"/>
                      </a:lnTo>
                      <a:lnTo>
                        <a:pt x="39" y="142"/>
                      </a:lnTo>
                      <a:lnTo>
                        <a:pt x="29" y="98"/>
                      </a:lnTo>
                      <a:lnTo>
                        <a:pt x="24" y="74"/>
                      </a:lnTo>
                      <a:lnTo>
                        <a:pt x="22" y="51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58480" y="3639600"/>
                  <a:ext cx="181080" cy="143280"/>
                </a:xfrm>
                <a:custGeom>
                  <a:avLst/>
                  <a:gdLst/>
                  <a:ahLst/>
                  <a:rect l="l" t="t" r="r" b="b"/>
                  <a:pathLst>
                    <a:path w="634" h="502">
                      <a:moveTo>
                        <a:pt x="0" y="23"/>
                      </a:moveTo>
                      <a:lnTo>
                        <a:pt x="0" y="27"/>
                      </a:lnTo>
                      <a:lnTo>
                        <a:pt x="1" y="74"/>
                      </a:lnTo>
                      <a:lnTo>
                        <a:pt x="3" y="97"/>
                      </a:lnTo>
                      <a:lnTo>
                        <a:pt x="8" y="121"/>
                      </a:lnTo>
                      <a:lnTo>
                        <a:pt x="18" y="165"/>
                      </a:lnTo>
                      <a:lnTo>
                        <a:pt x="34" y="208"/>
                      </a:lnTo>
                      <a:lnTo>
                        <a:pt x="52" y="249"/>
                      </a:lnTo>
                      <a:lnTo>
                        <a:pt x="63" y="268"/>
                      </a:lnTo>
                      <a:lnTo>
                        <a:pt x="77" y="289"/>
                      </a:lnTo>
                      <a:lnTo>
                        <a:pt x="105" y="326"/>
                      </a:lnTo>
                      <a:lnTo>
                        <a:pt x="139" y="362"/>
                      </a:lnTo>
                      <a:lnTo>
                        <a:pt x="174" y="394"/>
                      </a:lnTo>
                      <a:lnTo>
                        <a:pt x="212" y="422"/>
                      </a:lnTo>
                      <a:lnTo>
                        <a:pt x="250" y="446"/>
                      </a:lnTo>
                      <a:lnTo>
                        <a:pt x="292" y="467"/>
                      </a:lnTo>
                      <a:lnTo>
                        <a:pt x="334" y="481"/>
                      </a:lnTo>
                      <a:lnTo>
                        <a:pt x="380" y="493"/>
                      </a:lnTo>
                      <a:lnTo>
                        <a:pt x="426" y="500"/>
                      </a:lnTo>
                      <a:lnTo>
                        <a:pt x="476" y="502"/>
                      </a:lnTo>
                      <a:lnTo>
                        <a:pt x="476" y="501"/>
                      </a:lnTo>
                      <a:lnTo>
                        <a:pt x="477" y="501"/>
                      </a:lnTo>
                      <a:lnTo>
                        <a:pt x="479" y="501"/>
                      </a:lnTo>
                      <a:lnTo>
                        <a:pt x="484" y="501"/>
                      </a:lnTo>
                      <a:lnTo>
                        <a:pt x="493" y="501"/>
                      </a:lnTo>
                      <a:lnTo>
                        <a:pt x="511" y="500"/>
                      </a:lnTo>
                      <a:lnTo>
                        <a:pt x="547" y="496"/>
                      </a:lnTo>
                      <a:lnTo>
                        <a:pt x="581" y="490"/>
                      </a:lnTo>
                      <a:lnTo>
                        <a:pt x="615" y="483"/>
                      </a:lnTo>
                      <a:lnTo>
                        <a:pt x="634" y="453"/>
                      </a:lnTo>
                      <a:lnTo>
                        <a:pt x="595" y="464"/>
                      </a:lnTo>
                      <a:lnTo>
                        <a:pt x="556" y="473"/>
                      </a:lnTo>
                      <a:lnTo>
                        <a:pt x="536" y="476"/>
                      </a:lnTo>
                      <a:lnTo>
                        <a:pt x="517" y="478"/>
                      </a:lnTo>
                      <a:lnTo>
                        <a:pt x="476" y="480"/>
                      </a:lnTo>
                      <a:lnTo>
                        <a:pt x="428" y="478"/>
                      </a:lnTo>
                      <a:lnTo>
                        <a:pt x="384" y="471"/>
                      </a:lnTo>
                      <a:lnTo>
                        <a:pt x="341" y="460"/>
                      </a:lnTo>
                      <a:lnTo>
                        <a:pt x="301" y="446"/>
                      </a:lnTo>
                      <a:lnTo>
                        <a:pt x="262" y="427"/>
                      </a:lnTo>
                      <a:lnTo>
                        <a:pt x="224" y="404"/>
                      </a:lnTo>
                      <a:lnTo>
                        <a:pt x="188" y="377"/>
                      </a:lnTo>
                      <a:lnTo>
                        <a:pt x="155" y="346"/>
                      </a:lnTo>
                      <a:lnTo>
                        <a:pt x="138" y="328"/>
                      </a:lnTo>
                      <a:lnTo>
                        <a:pt x="123" y="311"/>
                      </a:lnTo>
                      <a:lnTo>
                        <a:pt x="96" y="275"/>
                      </a:lnTo>
                      <a:lnTo>
                        <a:pt x="84" y="256"/>
                      </a:lnTo>
                      <a:lnTo>
                        <a:pt x="73" y="238"/>
                      </a:lnTo>
                      <a:lnTo>
                        <a:pt x="55" y="199"/>
                      </a:lnTo>
                      <a:lnTo>
                        <a:pt x="39" y="158"/>
                      </a:lnTo>
                      <a:lnTo>
                        <a:pt x="34" y="137"/>
                      </a:lnTo>
                      <a:lnTo>
                        <a:pt x="30" y="116"/>
                      </a:lnTo>
                      <a:lnTo>
                        <a:pt x="26" y="94"/>
                      </a:lnTo>
                      <a:lnTo>
                        <a:pt x="24" y="72"/>
                      </a:lnTo>
                      <a:lnTo>
                        <a:pt x="22" y="27"/>
                      </a:lnTo>
                      <a:lnTo>
                        <a:pt x="22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683680" y="3618720"/>
                  <a:ext cx="16740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7">
                      <a:moveTo>
                        <a:pt x="34" y="0"/>
                      </a:moveTo>
                      <a:lnTo>
                        <a:pt x="9" y="15"/>
                      </a:lnTo>
                      <a:lnTo>
                        <a:pt x="5" y="34"/>
                      </a:lnTo>
                      <a:lnTo>
                        <a:pt x="2" y="56"/>
                      </a:lnTo>
                      <a:lnTo>
                        <a:pt x="0" y="100"/>
                      </a:lnTo>
                      <a:lnTo>
                        <a:pt x="1" y="138"/>
                      </a:lnTo>
                      <a:lnTo>
                        <a:pt x="7" y="177"/>
                      </a:lnTo>
                      <a:lnTo>
                        <a:pt x="15" y="213"/>
                      </a:lnTo>
                      <a:lnTo>
                        <a:pt x="20" y="230"/>
                      </a:lnTo>
                      <a:lnTo>
                        <a:pt x="28" y="248"/>
                      </a:lnTo>
                      <a:lnTo>
                        <a:pt x="43" y="281"/>
                      </a:lnTo>
                      <a:lnTo>
                        <a:pt x="52" y="297"/>
                      </a:lnTo>
                      <a:lnTo>
                        <a:pt x="64" y="314"/>
                      </a:lnTo>
                      <a:lnTo>
                        <a:pt x="74" y="329"/>
                      </a:lnTo>
                      <a:lnTo>
                        <a:pt x="86" y="345"/>
                      </a:lnTo>
                      <a:lnTo>
                        <a:pt x="113" y="374"/>
                      </a:lnTo>
                      <a:lnTo>
                        <a:pt x="142" y="400"/>
                      </a:lnTo>
                      <a:lnTo>
                        <a:pt x="172" y="423"/>
                      </a:lnTo>
                      <a:lnTo>
                        <a:pt x="204" y="442"/>
                      </a:lnTo>
                      <a:lnTo>
                        <a:pt x="239" y="459"/>
                      </a:lnTo>
                      <a:lnTo>
                        <a:pt x="273" y="470"/>
                      </a:lnTo>
                      <a:lnTo>
                        <a:pt x="311" y="480"/>
                      </a:lnTo>
                      <a:lnTo>
                        <a:pt x="348" y="485"/>
                      </a:lnTo>
                      <a:lnTo>
                        <a:pt x="389" y="487"/>
                      </a:lnTo>
                      <a:lnTo>
                        <a:pt x="414" y="486"/>
                      </a:lnTo>
                      <a:lnTo>
                        <a:pt x="440" y="484"/>
                      </a:lnTo>
                      <a:lnTo>
                        <a:pt x="464" y="480"/>
                      </a:lnTo>
                      <a:lnTo>
                        <a:pt x="489" y="475"/>
                      </a:lnTo>
                      <a:lnTo>
                        <a:pt x="511" y="467"/>
                      </a:lnTo>
                      <a:lnTo>
                        <a:pt x="523" y="463"/>
                      </a:lnTo>
                      <a:lnTo>
                        <a:pt x="528" y="460"/>
                      </a:lnTo>
                      <a:lnTo>
                        <a:pt x="535" y="459"/>
                      </a:lnTo>
                      <a:lnTo>
                        <a:pt x="540" y="456"/>
                      </a:lnTo>
                      <a:lnTo>
                        <a:pt x="545" y="453"/>
                      </a:lnTo>
                      <a:lnTo>
                        <a:pt x="557" y="449"/>
                      </a:lnTo>
                      <a:lnTo>
                        <a:pt x="579" y="439"/>
                      </a:lnTo>
                      <a:lnTo>
                        <a:pt x="582" y="424"/>
                      </a:lnTo>
                      <a:lnTo>
                        <a:pt x="585" y="410"/>
                      </a:lnTo>
                      <a:lnTo>
                        <a:pt x="562" y="423"/>
                      </a:lnTo>
                      <a:lnTo>
                        <a:pt x="540" y="434"/>
                      </a:lnTo>
                      <a:lnTo>
                        <a:pt x="516" y="443"/>
                      </a:lnTo>
                      <a:lnTo>
                        <a:pt x="509" y="444"/>
                      </a:lnTo>
                      <a:lnTo>
                        <a:pt x="503" y="447"/>
                      </a:lnTo>
                      <a:lnTo>
                        <a:pt x="492" y="451"/>
                      </a:lnTo>
                      <a:lnTo>
                        <a:pt x="479" y="453"/>
                      </a:lnTo>
                      <a:lnTo>
                        <a:pt x="472" y="455"/>
                      </a:lnTo>
                      <a:lnTo>
                        <a:pt x="466" y="457"/>
                      </a:lnTo>
                      <a:lnTo>
                        <a:pt x="441" y="461"/>
                      </a:lnTo>
                      <a:lnTo>
                        <a:pt x="427" y="463"/>
                      </a:lnTo>
                      <a:lnTo>
                        <a:pt x="415" y="465"/>
                      </a:lnTo>
                      <a:lnTo>
                        <a:pt x="401" y="465"/>
                      </a:lnTo>
                      <a:lnTo>
                        <a:pt x="395" y="465"/>
                      </a:lnTo>
                      <a:lnTo>
                        <a:pt x="391" y="465"/>
                      </a:lnTo>
                      <a:lnTo>
                        <a:pt x="389" y="466"/>
                      </a:lnTo>
                      <a:lnTo>
                        <a:pt x="350" y="464"/>
                      </a:lnTo>
                      <a:lnTo>
                        <a:pt x="315" y="459"/>
                      </a:lnTo>
                      <a:lnTo>
                        <a:pt x="280" y="450"/>
                      </a:lnTo>
                      <a:lnTo>
                        <a:pt x="247" y="439"/>
                      </a:lnTo>
                      <a:lnTo>
                        <a:pt x="214" y="423"/>
                      </a:lnTo>
                      <a:lnTo>
                        <a:pt x="185" y="405"/>
                      </a:lnTo>
                      <a:lnTo>
                        <a:pt x="155" y="383"/>
                      </a:lnTo>
                      <a:lnTo>
                        <a:pt x="129" y="359"/>
                      </a:lnTo>
                      <a:lnTo>
                        <a:pt x="103" y="331"/>
                      </a:lnTo>
                      <a:lnTo>
                        <a:pt x="82" y="302"/>
                      </a:lnTo>
                      <a:lnTo>
                        <a:pt x="62" y="271"/>
                      </a:lnTo>
                      <a:lnTo>
                        <a:pt x="48" y="240"/>
                      </a:lnTo>
                      <a:lnTo>
                        <a:pt x="35" y="206"/>
                      </a:lnTo>
                      <a:lnTo>
                        <a:pt x="27" y="172"/>
                      </a:lnTo>
                      <a:lnTo>
                        <a:pt x="23" y="136"/>
                      </a:lnTo>
                      <a:lnTo>
                        <a:pt x="22" y="100"/>
                      </a:lnTo>
                      <a:lnTo>
                        <a:pt x="22" y="73"/>
                      </a:lnTo>
                      <a:lnTo>
                        <a:pt x="24" y="48"/>
                      </a:lnTo>
                      <a:lnTo>
                        <a:pt x="27" y="23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665320" y="3633120"/>
                  <a:ext cx="178200" cy="144000"/>
                </a:xfrm>
                <a:custGeom>
                  <a:avLst/>
                  <a:gdLst/>
                  <a:ahLst/>
                  <a:rect l="l" t="t" r="r" b="b"/>
                  <a:pathLst>
                    <a:path w="625" h="502">
                      <a:moveTo>
                        <a:pt x="0" y="22"/>
                      </a:moveTo>
                      <a:lnTo>
                        <a:pt x="0" y="49"/>
                      </a:lnTo>
                      <a:lnTo>
                        <a:pt x="2" y="94"/>
                      </a:lnTo>
                      <a:lnTo>
                        <a:pt x="4" y="116"/>
                      </a:lnTo>
                      <a:lnTo>
                        <a:pt x="8" y="138"/>
                      </a:lnTo>
                      <a:lnTo>
                        <a:pt x="12" y="159"/>
                      </a:lnTo>
                      <a:lnTo>
                        <a:pt x="17" y="180"/>
                      </a:lnTo>
                      <a:lnTo>
                        <a:pt x="33" y="221"/>
                      </a:lnTo>
                      <a:lnTo>
                        <a:pt x="51" y="260"/>
                      </a:lnTo>
                      <a:lnTo>
                        <a:pt x="62" y="278"/>
                      </a:lnTo>
                      <a:lnTo>
                        <a:pt x="74" y="297"/>
                      </a:lnTo>
                      <a:lnTo>
                        <a:pt x="101" y="333"/>
                      </a:lnTo>
                      <a:lnTo>
                        <a:pt x="116" y="350"/>
                      </a:lnTo>
                      <a:lnTo>
                        <a:pt x="133" y="368"/>
                      </a:lnTo>
                      <a:lnTo>
                        <a:pt x="166" y="399"/>
                      </a:lnTo>
                      <a:lnTo>
                        <a:pt x="202" y="426"/>
                      </a:lnTo>
                      <a:lnTo>
                        <a:pt x="240" y="449"/>
                      </a:lnTo>
                      <a:lnTo>
                        <a:pt x="279" y="468"/>
                      </a:lnTo>
                      <a:lnTo>
                        <a:pt x="319" y="482"/>
                      </a:lnTo>
                      <a:lnTo>
                        <a:pt x="362" y="493"/>
                      </a:lnTo>
                      <a:lnTo>
                        <a:pt x="406" y="500"/>
                      </a:lnTo>
                      <a:lnTo>
                        <a:pt x="454" y="502"/>
                      </a:lnTo>
                      <a:lnTo>
                        <a:pt x="495" y="500"/>
                      </a:lnTo>
                      <a:lnTo>
                        <a:pt x="514" y="498"/>
                      </a:lnTo>
                      <a:lnTo>
                        <a:pt x="534" y="495"/>
                      </a:lnTo>
                      <a:lnTo>
                        <a:pt x="573" y="486"/>
                      </a:lnTo>
                      <a:lnTo>
                        <a:pt x="612" y="475"/>
                      </a:lnTo>
                      <a:lnTo>
                        <a:pt x="625" y="447"/>
                      </a:lnTo>
                      <a:lnTo>
                        <a:pt x="584" y="460"/>
                      </a:lnTo>
                      <a:lnTo>
                        <a:pt x="573" y="463"/>
                      </a:lnTo>
                      <a:lnTo>
                        <a:pt x="570" y="463"/>
                      </a:lnTo>
                      <a:lnTo>
                        <a:pt x="567" y="464"/>
                      </a:lnTo>
                      <a:lnTo>
                        <a:pt x="563" y="466"/>
                      </a:lnTo>
                      <a:lnTo>
                        <a:pt x="542" y="472"/>
                      </a:lnTo>
                      <a:lnTo>
                        <a:pt x="520" y="475"/>
                      </a:lnTo>
                      <a:lnTo>
                        <a:pt x="508" y="476"/>
                      </a:lnTo>
                      <a:lnTo>
                        <a:pt x="498" y="478"/>
                      </a:lnTo>
                      <a:lnTo>
                        <a:pt x="475" y="480"/>
                      </a:lnTo>
                      <a:lnTo>
                        <a:pt x="464" y="480"/>
                      </a:lnTo>
                      <a:lnTo>
                        <a:pt x="458" y="480"/>
                      </a:lnTo>
                      <a:lnTo>
                        <a:pt x="454" y="481"/>
                      </a:lnTo>
                      <a:lnTo>
                        <a:pt x="409" y="478"/>
                      </a:lnTo>
                      <a:lnTo>
                        <a:pt x="367" y="473"/>
                      </a:lnTo>
                      <a:lnTo>
                        <a:pt x="326" y="463"/>
                      </a:lnTo>
                      <a:lnTo>
                        <a:pt x="287" y="449"/>
                      </a:lnTo>
                      <a:lnTo>
                        <a:pt x="249" y="431"/>
                      </a:lnTo>
                      <a:lnTo>
                        <a:pt x="214" y="409"/>
                      </a:lnTo>
                      <a:lnTo>
                        <a:pt x="180" y="383"/>
                      </a:lnTo>
                      <a:lnTo>
                        <a:pt x="148" y="354"/>
                      </a:lnTo>
                      <a:lnTo>
                        <a:pt x="117" y="321"/>
                      </a:lnTo>
                      <a:lnTo>
                        <a:pt x="92" y="287"/>
                      </a:lnTo>
                      <a:lnTo>
                        <a:pt x="70" y="251"/>
                      </a:lnTo>
                      <a:lnTo>
                        <a:pt x="53" y="213"/>
                      </a:lnTo>
                      <a:lnTo>
                        <a:pt x="38" y="173"/>
                      </a:lnTo>
                      <a:lnTo>
                        <a:pt x="32" y="153"/>
                      </a:lnTo>
                      <a:lnTo>
                        <a:pt x="29" y="134"/>
                      </a:lnTo>
                      <a:lnTo>
                        <a:pt x="23" y="92"/>
                      </a:lnTo>
                      <a:lnTo>
                        <a:pt x="22" y="49"/>
                      </a:lnTo>
                      <a:lnTo>
                        <a:pt x="22" y="23"/>
                      </a:lnTo>
                      <a:lnTo>
                        <a:pt x="2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671080" y="3628080"/>
                  <a:ext cx="176040" cy="142560"/>
                </a:xfrm>
                <a:custGeom>
                  <a:avLst/>
                  <a:gdLst/>
                  <a:ahLst/>
                  <a:rect l="l" t="t" r="r" b="b"/>
                  <a:pathLst>
                    <a:path w="614" h="500">
                      <a:moveTo>
                        <a:pt x="21" y="68"/>
                      </a:moveTo>
                      <a:lnTo>
                        <a:pt x="23" y="33"/>
                      </a:lnTo>
                      <a:lnTo>
                        <a:pt x="26" y="0"/>
                      </a:lnTo>
                      <a:lnTo>
                        <a:pt x="2" y="19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1" y="111"/>
                      </a:lnTo>
                      <a:lnTo>
                        <a:pt x="7" y="153"/>
                      </a:lnTo>
                      <a:lnTo>
                        <a:pt x="10" y="172"/>
                      </a:lnTo>
                      <a:lnTo>
                        <a:pt x="16" y="192"/>
                      </a:lnTo>
                      <a:lnTo>
                        <a:pt x="31" y="232"/>
                      </a:lnTo>
                      <a:lnTo>
                        <a:pt x="48" y="270"/>
                      </a:lnTo>
                      <a:lnTo>
                        <a:pt x="70" y="306"/>
                      </a:lnTo>
                      <a:lnTo>
                        <a:pt x="95" y="340"/>
                      </a:lnTo>
                      <a:lnTo>
                        <a:pt x="126" y="373"/>
                      </a:lnTo>
                      <a:lnTo>
                        <a:pt x="158" y="402"/>
                      </a:lnTo>
                      <a:lnTo>
                        <a:pt x="192" y="428"/>
                      </a:lnTo>
                      <a:lnTo>
                        <a:pt x="227" y="450"/>
                      </a:lnTo>
                      <a:lnTo>
                        <a:pt x="265" y="468"/>
                      </a:lnTo>
                      <a:lnTo>
                        <a:pt x="304" y="482"/>
                      </a:lnTo>
                      <a:lnTo>
                        <a:pt x="345" y="492"/>
                      </a:lnTo>
                      <a:lnTo>
                        <a:pt x="387" y="497"/>
                      </a:lnTo>
                      <a:lnTo>
                        <a:pt x="432" y="500"/>
                      </a:lnTo>
                      <a:lnTo>
                        <a:pt x="436" y="499"/>
                      </a:lnTo>
                      <a:lnTo>
                        <a:pt x="442" y="499"/>
                      </a:lnTo>
                      <a:lnTo>
                        <a:pt x="453" y="499"/>
                      </a:lnTo>
                      <a:lnTo>
                        <a:pt x="476" y="497"/>
                      </a:lnTo>
                      <a:lnTo>
                        <a:pt x="486" y="495"/>
                      </a:lnTo>
                      <a:lnTo>
                        <a:pt x="498" y="494"/>
                      </a:lnTo>
                      <a:lnTo>
                        <a:pt x="520" y="491"/>
                      </a:lnTo>
                      <a:lnTo>
                        <a:pt x="541" y="485"/>
                      </a:lnTo>
                      <a:lnTo>
                        <a:pt x="545" y="483"/>
                      </a:lnTo>
                      <a:lnTo>
                        <a:pt x="548" y="482"/>
                      </a:lnTo>
                      <a:lnTo>
                        <a:pt x="551" y="482"/>
                      </a:lnTo>
                      <a:lnTo>
                        <a:pt x="562" y="479"/>
                      </a:lnTo>
                      <a:lnTo>
                        <a:pt x="603" y="466"/>
                      </a:lnTo>
                      <a:lnTo>
                        <a:pt x="614" y="436"/>
                      </a:lnTo>
                      <a:lnTo>
                        <a:pt x="592" y="445"/>
                      </a:lnTo>
                      <a:lnTo>
                        <a:pt x="571" y="453"/>
                      </a:lnTo>
                      <a:lnTo>
                        <a:pt x="549" y="460"/>
                      </a:lnTo>
                      <a:lnTo>
                        <a:pt x="527" y="467"/>
                      </a:lnTo>
                      <a:lnTo>
                        <a:pt x="503" y="471"/>
                      </a:lnTo>
                      <a:lnTo>
                        <a:pt x="481" y="475"/>
                      </a:lnTo>
                      <a:lnTo>
                        <a:pt x="456" y="477"/>
                      </a:lnTo>
                      <a:lnTo>
                        <a:pt x="443" y="477"/>
                      </a:lnTo>
                      <a:lnTo>
                        <a:pt x="432" y="478"/>
                      </a:lnTo>
                      <a:lnTo>
                        <a:pt x="389" y="476"/>
                      </a:lnTo>
                      <a:lnTo>
                        <a:pt x="349" y="470"/>
                      </a:lnTo>
                      <a:lnTo>
                        <a:pt x="311" y="460"/>
                      </a:lnTo>
                      <a:lnTo>
                        <a:pt x="274" y="448"/>
                      </a:lnTo>
                      <a:lnTo>
                        <a:pt x="238" y="429"/>
                      </a:lnTo>
                      <a:lnTo>
                        <a:pt x="204" y="409"/>
                      </a:lnTo>
                      <a:lnTo>
                        <a:pt x="171" y="384"/>
                      </a:lnTo>
                      <a:lnTo>
                        <a:pt x="142" y="357"/>
                      </a:lnTo>
                      <a:lnTo>
                        <a:pt x="112" y="325"/>
                      </a:lnTo>
                      <a:lnTo>
                        <a:pt x="88" y="293"/>
                      </a:lnTo>
                      <a:lnTo>
                        <a:pt x="67" y="259"/>
                      </a:lnTo>
                      <a:lnTo>
                        <a:pt x="58" y="241"/>
                      </a:lnTo>
                      <a:lnTo>
                        <a:pt x="51" y="224"/>
                      </a:lnTo>
                      <a:lnTo>
                        <a:pt x="43" y="205"/>
                      </a:lnTo>
                      <a:lnTo>
                        <a:pt x="37" y="187"/>
                      </a:lnTo>
                      <a:lnTo>
                        <a:pt x="28" y="148"/>
                      </a:lnTo>
                      <a:lnTo>
                        <a:pt x="23" y="109"/>
                      </a:lnTo>
                      <a:lnTo>
                        <a:pt x="21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77560" y="3622680"/>
                  <a:ext cx="172080" cy="141480"/>
                </a:xfrm>
                <a:custGeom>
                  <a:avLst/>
                  <a:gdLst/>
                  <a:ahLst/>
                  <a:rect l="l" t="t" r="r" b="b"/>
                  <a:pathLst>
                    <a:path w="601" h="495">
                      <a:moveTo>
                        <a:pt x="5" y="17"/>
                      </a:moveTo>
                      <a:lnTo>
                        <a:pt x="2" y="50"/>
                      </a:lnTo>
                      <a:lnTo>
                        <a:pt x="0" y="85"/>
                      </a:lnTo>
                      <a:lnTo>
                        <a:pt x="2" y="126"/>
                      </a:lnTo>
                      <a:lnTo>
                        <a:pt x="7" y="165"/>
                      </a:lnTo>
                      <a:lnTo>
                        <a:pt x="16" y="204"/>
                      </a:lnTo>
                      <a:lnTo>
                        <a:pt x="22" y="222"/>
                      </a:lnTo>
                      <a:lnTo>
                        <a:pt x="30" y="241"/>
                      </a:lnTo>
                      <a:lnTo>
                        <a:pt x="37" y="258"/>
                      </a:lnTo>
                      <a:lnTo>
                        <a:pt x="46" y="276"/>
                      </a:lnTo>
                      <a:lnTo>
                        <a:pt x="67" y="310"/>
                      </a:lnTo>
                      <a:lnTo>
                        <a:pt x="91" y="342"/>
                      </a:lnTo>
                      <a:lnTo>
                        <a:pt x="121" y="374"/>
                      </a:lnTo>
                      <a:lnTo>
                        <a:pt x="150" y="401"/>
                      </a:lnTo>
                      <a:lnTo>
                        <a:pt x="183" y="426"/>
                      </a:lnTo>
                      <a:lnTo>
                        <a:pt x="217" y="446"/>
                      </a:lnTo>
                      <a:lnTo>
                        <a:pt x="253" y="465"/>
                      </a:lnTo>
                      <a:lnTo>
                        <a:pt x="290" y="477"/>
                      </a:lnTo>
                      <a:lnTo>
                        <a:pt x="328" y="487"/>
                      </a:lnTo>
                      <a:lnTo>
                        <a:pt x="368" y="493"/>
                      </a:lnTo>
                      <a:lnTo>
                        <a:pt x="411" y="495"/>
                      </a:lnTo>
                      <a:lnTo>
                        <a:pt x="422" y="494"/>
                      </a:lnTo>
                      <a:lnTo>
                        <a:pt x="435" y="494"/>
                      </a:lnTo>
                      <a:lnTo>
                        <a:pt x="460" y="492"/>
                      </a:lnTo>
                      <a:lnTo>
                        <a:pt x="482" y="488"/>
                      </a:lnTo>
                      <a:lnTo>
                        <a:pt x="506" y="484"/>
                      </a:lnTo>
                      <a:lnTo>
                        <a:pt x="528" y="477"/>
                      </a:lnTo>
                      <a:lnTo>
                        <a:pt x="550" y="470"/>
                      </a:lnTo>
                      <a:lnTo>
                        <a:pt x="571" y="462"/>
                      </a:lnTo>
                      <a:lnTo>
                        <a:pt x="593" y="453"/>
                      </a:lnTo>
                      <a:lnTo>
                        <a:pt x="601" y="424"/>
                      </a:lnTo>
                      <a:lnTo>
                        <a:pt x="579" y="434"/>
                      </a:lnTo>
                      <a:lnTo>
                        <a:pt x="567" y="438"/>
                      </a:lnTo>
                      <a:lnTo>
                        <a:pt x="562" y="441"/>
                      </a:lnTo>
                      <a:lnTo>
                        <a:pt x="557" y="444"/>
                      </a:lnTo>
                      <a:lnTo>
                        <a:pt x="550" y="445"/>
                      </a:lnTo>
                      <a:lnTo>
                        <a:pt x="545" y="448"/>
                      </a:lnTo>
                      <a:lnTo>
                        <a:pt x="533" y="452"/>
                      </a:lnTo>
                      <a:lnTo>
                        <a:pt x="511" y="460"/>
                      </a:lnTo>
                      <a:lnTo>
                        <a:pt x="486" y="465"/>
                      </a:lnTo>
                      <a:lnTo>
                        <a:pt x="462" y="469"/>
                      </a:lnTo>
                      <a:lnTo>
                        <a:pt x="436" y="471"/>
                      </a:lnTo>
                      <a:lnTo>
                        <a:pt x="411" y="472"/>
                      </a:lnTo>
                      <a:lnTo>
                        <a:pt x="370" y="470"/>
                      </a:lnTo>
                      <a:lnTo>
                        <a:pt x="333" y="465"/>
                      </a:lnTo>
                      <a:lnTo>
                        <a:pt x="295" y="455"/>
                      </a:lnTo>
                      <a:lnTo>
                        <a:pt x="261" y="444"/>
                      </a:lnTo>
                      <a:lnTo>
                        <a:pt x="226" y="427"/>
                      </a:lnTo>
                      <a:lnTo>
                        <a:pt x="194" y="408"/>
                      </a:lnTo>
                      <a:lnTo>
                        <a:pt x="164" y="385"/>
                      </a:lnTo>
                      <a:lnTo>
                        <a:pt x="135" y="359"/>
                      </a:lnTo>
                      <a:lnTo>
                        <a:pt x="108" y="330"/>
                      </a:lnTo>
                      <a:lnTo>
                        <a:pt x="96" y="314"/>
                      </a:lnTo>
                      <a:lnTo>
                        <a:pt x="86" y="299"/>
                      </a:lnTo>
                      <a:lnTo>
                        <a:pt x="74" y="282"/>
                      </a:lnTo>
                      <a:lnTo>
                        <a:pt x="65" y="266"/>
                      </a:lnTo>
                      <a:lnTo>
                        <a:pt x="50" y="233"/>
                      </a:lnTo>
                      <a:lnTo>
                        <a:pt x="42" y="215"/>
                      </a:lnTo>
                      <a:lnTo>
                        <a:pt x="37" y="198"/>
                      </a:lnTo>
                      <a:lnTo>
                        <a:pt x="29" y="162"/>
                      </a:lnTo>
                      <a:lnTo>
                        <a:pt x="23" y="123"/>
                      </a:lnTo>
                      <a:lnTo>
                        <a:pt x="22" y="85"/>
                      </a:lnTo>
                      <a:lnTo>
                        <a:pt x="24" y="41"/>
                      </a:lnTo>
                      <a:lnTo>
                        <a:pt x="27" y="19"/>
                      </a:lnTo>
                      <a:lnTo>
                        <a:pt x="31" y="0"/>
                      </a:lnTo>
                      <a:lnTo>
                        <a:pt x="5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690160" y="361548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9">
                      <a:moveTo>
                        <a:pt x="12" y="13"/>
                      </a:moveTo>
                      <a:lnTo>
                        <a:pt x="5" y="36"/>
                      </a:lnTo>
                      <a:lnTo>
                        <a:pt x="2" y="61"/>
                      </a:lnTo>
                      <a:lnTo>
                        <a:pt x="0" y="86"/>
                      </a:lnTo>
                      <a:lnTo>
                        <a:pt x="0" y="113"/>
                      </a:lnTo>
                      <a:lnTo>
                        <a:pt x="1" y="149"/>
                      </a:lnTo>
                      <a:lnTo>
                        <a:pt x="5" y="185"/>
                      </a:lnTo>
                      <a:lnTo>
                        <a:pt x="13" y="219"/>
                      </a:lnTo>
                      <a:lnTo>
                        <a:pt x="26" y="253"/>
                      </a:lnTo>
                      <a:lnTo>
                        <a:pt x="40" y="284"/>
                      </a:lnTo>
                      <a:lnTo>
                        <a:pt x="60" y="315"/>
                      </a:lnTo>
                      <a:lnTo>
                        <a:pt x="81" y="344"/>
                      </a:lnTo>
                      <a:lnTo>
                        <a:pt x="107" y="372"/>
                      </a:lnTo>
                      <a:lnTo>
                        <a:pt x="133" y="396"/>
                      </a:lnTo>
                      <a:lnTo>
                        <a:pt x="163" y="418"/>
                      </a:lnTo>
                      <a:lnTo>
                        <a:pt x="192" y="436"/>
                      </a:lnTo>
                      <a:lnTo>
                        <a:pt x="225" y="452"/>
                      </a:lnTo>
                      <a:lnTo>
                        <a:pt x="258" y="463"/>
                      </a:lnTo>
                      <a:lnTo>
                        <a:pt x="293" y="472"/>
                      </a:lnTo>
                      <a:lnTo>
                        <a:pt x="328" y="477"/>
                      </a:lnTo>
                      <a:lnTo>
                        <a:pt x="367" y="479"/>
                      </a:lnTo>
                      <a:lnTo>
                        <a:pt x="369" y="478"/>
                      </a:lnTo>
                      <a:lnTo>
                        <a:pt x="373" y="478"/>
                      </a:lnTo>
                      <a:lnTo>
                        <a:pt x="379" y="478"/>
                      </a:lnTo>
                      <a:lnTo>
                        <a:pt x="393" y="478"/>
                      </a:lnTo>
                      <a:lnTo>
                        <a:pt x="405" y="476"/>
                      </a:lnTo>
                      <a:lnTo>
                        <a:pt x="419" y="474"/>
                      </a:lnTo>
                      <a:lnTo>
                        <a:pt x="444" y="470"/>
                      </a:lnTo>
                      <a:lnTo>
                        <a:pt x="450" y="468"/>
                      </a:lnTo>
                      <a:lnTo>
                        <a:pt x="457" y="466"/>
                      </a:lnTo>
                      <a:lnTo>
                        <a:pt x="470" y="464"/>
                      </a:lnTo>
                      <a:lnTo>
                        <a:pt x="481" y="460"/>
                      </a:lnTo>
                      <a:lnTo>
                        <a:pt x="487" y="457"/>
                      </a:lnTo>
                      <a:lnTo>
                        <a:pt x="494" y="456"/>
                      </a:lnTo>
                      <a:lnTo>
                        <a:pt x="518" y="447"/>
                      </a:lnTo>
                      <a:lnTo>
                        <a:pt x="540" y="436"/>
                      </a:lnTo>
                      <a:lnTo>
                        <a:pt x="563" y="423"/>
                      </a:lnTo>
                      <a:lnTo>
                        <a:pt x="568" y="394"/>
                      </a:lnTo>
                      <a:lnTo>
                        <a:pt x="555" y="401"/>
                      </a:lnTo>
                      <a:lnTo>
                        <a:pt x="544" y="409"/>
                      </a:lnTo>
                      <a:lnTo>
                        <a:pt x="521" y="421"/>
                      </a:lnTo>
                      <a:lnTo>
                        <a:pt x="509" y="426"/>
                      </a:lnTo>
                      <a:lnTo>
                        <a:pt x="497" y="431"/>
                      </a:lnTo>
                      <a:lnTo>
                        <a:pt x="485" y="436"/>
                      </a:lnTo>
                      <a:lnTo>
                        <a:pt x="474" y="442"/>
                      </a:lnTo>
                      <a:lnTo>
                        <a:pt x="447" y="448"/>
                      </a:lnTo>
                      <a:lnTo>
                        <a:pt x="434" y="451"/>
                      </a:lnTo>
                      <a:lnTo>
                        <a:pt x="427" y="452"/>
                      </a:lnTo>
                      <a:lnTo>
                        <a:pt x="421" y="454"/>
                      </a:lnTo>
                      <a:lnTo>
                        <a:pt x="394" y="457"/>
                      </a:lnTo>
                      <a:lnTo>
                        <a:pt x="367" y="459"/>
                      </a:lnTo>
                      <a:lnTo>
                        <a:pt x="331" y="456"/>
                      </a:lnTo>
                      <a:lnTo>
                        <a:pt x="297" y="452"/>
                      </a:lnTo>
                      <a:lnTo>
                        <a:pt x="264" y="443"/>
                      </a:lnTo>
                      <a:lnTo>
                        <a:pt x="233" y="432"/>
                      </a:lnTo>
                      <a:lnTo>
                        <a:pt x="203" y="418"/>
                      </a:lnTo>
                      <a:lnTo>
                        <a:pt x="174" y="401"/>
                      </a:lnTo>
                      <a:lnTo>
                        <a:pt x="147" y="379"/>
                      </a:lnTo>
                      <a:lnTo>
                        <a:pt x="122" y="357"/>
                      </a:lnTo>
                      <a:lnTo>
                        <a:pt x="97" y="329"/>
                      </a:lnTo>
                      <a:lnTo>
                        <a:pt x="77" y="302"/>
                      </a:lnTo>
                      <a:lnTo>
                        <a:pt x="60" y="274"/>
                      </a:lnTo>
                      <a:lnTo>
                        <a:pt x="46" y="244"/>
                      </a:lnTo>
                      <a:lnTo>
                        <a:pt x="35" y="213"/>
                      </a:lnTo>
                      <a:lnTo>
                        <a:pt x="27" y="181"/>
                      </a:lnTo>
                      <a:lnTo>
                        <a:pt x="22" y="147"/>
                      </a:lnTo>
                      <a:lnTo>
                        <a:pt x="21" y="113"/>
                      </a:lnTo>
                      <a:lnTo>
                        <a:pt x="22" y="82"/>
                      </a:lnTo>
                      <a:lnTo>
                        <a:pt x="26" y="54"/>
                      </a:lnTo>
                      <a:lnTo>
                        <a:pt x="31" y="27"/>
                      </a:lnTo>
                      <a:lnTo>
                        <a:pt x="39" y="0"/>
                      </a:lnTo>
                      <a:lnTo>
                        <a:pt x="12" y="1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696280" y="3612600"/>
                  <a:ext cx="155880" cy="133200"/>
                </a:xfrm>
                <a:custGeom>
                  <a:avLst/>
                  <a:gdLst/>
                  <a:ahLst/>
                  <a:rect l="l" t="t" r="r" b="b"/>
                  <a:pathLst>
                    <a:path w="548" h="469">
                      <a:moveTo>
                        <a:pt x="44" y="0"/>
                      </a:moveTo>
                      <a:lnTo>
                        <a:pt x="18" y="10"/>
                      </a:lnTo>
                      <a:lnTo>
                        <a:pt x="10" y="37"/>
                      </a:lnTo>
                      <a:lnTo>
                        <a:pt x="5" y="64"/>
                      </a:lnTo>
                      <a:lnTo>
                        <a:pt x="1" y="92"/>
                      </a:lnTo>
                      <a:lnTo>
                        <a:pt x="0" y="123"/>
                      </a:lnTo>
                      <a:lnTo>
                        <a:pt x="1" y="157"/>
                      </a:lnTo>
                      <a:lnTo>
                        <a:pt x="6" y="191"/>
                      </a:lnTo>
                      <a:lnTo>
                        <a:pt x="14" y="223"/>
                      </a:lnTo>
                      <a:lnTo>
                        <a:pt x="25" y="254"/>
                      </a:lnTo>
                      <a:lnTo>
                        <a:pt x="39" y="284"/>
                      </a:lnTo>
                      <a:lnTo>
                        <a:pt x="56" y="312"/>
                      </a:lnTo>
                      <a:lnTo>
                        <a:pt x="76" y="339"/>
                      </a:lnTo>
                      <a:lnTo>
                        <a:pt x="101" y="367"/>
                      </a:lnTo>
                      <a:lnTo>
                        <a:pt x="126" y="389"/>
                      </a:lnTo>
                      <a:lnTo>
                        <a:pt x="153" y="411"/>
                      </a:lnTo>
                      <a:lnTo>
                        <a:pt x="182" y="428"/>
                      </a:lnTo>
                      <a:lnTo>
                        <a:pt x="212" y="442"/>
                      </a:lnTo>
                      <a:lnTo>
                        <a:pt x="243" y="453"/>
                      </a:lnTo>
                      <a:lnTo>
                        <a:pt x="276" y="462"/>
                      </a:lnTo>
                      <a:lnTo>
                        <a:pt x="310" y="466"/>
                      </a:lnTo>
                      <a:lnTo>
                        <a:pt x="346" y="469"/>
                      </a:lnTo>
                      <a:lnTo>
                        <a:pt x="373" y="467"/>
                      </a:lnTo>
                      <a:lnTo>
                        <a:pt x="400" y="464"/>
                      </a:lnTo>
                      <a:lnTo>
                        <a:pt x="406" y="462"/>
                      </a:lnTo>
                      <a:lnTo>
                        <a:pt x="413" y="461"/>
                      </a:lnTo>
                      <a:lnTo>
                        <a:pt x="426" y="458"/>
                      </a:lnTo>
                      <a:lnTo>
                        <a:pt x="453" y="452"/>
                      </a:lnTo>
                      <a:lnTo>
                        <a:pt x="464" y="446"/>
                      </a:lnTo>
                      <a:lnTo>
                        <a:pt x="476" y="441"/>
                      </a:lnTo>
                      <a:lnTo>
                        <a:pt x="488" y="436"/>
                      </a:lnTo>
                      <a:lnTo>
                        <a:pt x="500" y="431"/>
                      </a:lnTo>
                      <a:lnTo>
                        <a:pt x="523" y="419"/>
                      </a:lnTo>
                      <a:lnTo>
                        <a:pt x="534" y="411"/>
                      </a:lnTo>
                      <a:lnTo>
                        <a:pt x="547" y="404"/>
                      </a:lnTo>
                      <a:lnTo>
                        <a:pt x="547" y="389"/>
                      </a:lnTo>
                      <a:lnTo>
                        <a:pt x="548" y="376"/>
                      </a:lnTo>
                      <a:lnTo>
                        <a:pt x="525" y="390"/>
                      </a:lnTo>
                      <a:lnTo>
                        <a:pt x="502" y="405"/>
                      </a:lnTo>
                      <a:lnTo>
                        <a:pt x="477" y="418"/>
                      </a:lnTo>
                      <a:lnTo>
                        <a:pt x="465" y="422"/>
                      </a:lnTo>
                      <a:lnTo>
                        <a:pt x="454" y="428"/>
                      </a:lnTo>
                      <a:lnTo>
                        <a:pt x="440" y="431"/>
                      </a:lnTo>
                      <a:lnTo>
                        <a:pt x="428" y="436"/>
                      </a:lnTo>
                      <a:lnTo>
                        <a:pt x="414" y="438"/>
                      </a:lnTo>
                      <a:lnTo>
                        <a:pt x="407" y="439"/>
                      </a:lnTo>
                      <a:lnTo>
                        <a:pt x="401" y="441"/>
                      </a:lnTo>
                      <a:lnTo>
                        <a:pt x="394" y="441"/>
                      </a:lnTo>
                      <a:lnTo>
                        <a:pt x="387" y="442"/>
                      </a:lnTo>
                      <a:lnTo>
                        <a:pt x="373" y="445"/>
                      </a:lnTo>
                      <a:lnTo>
                        <a:pt x="346" y="446"/>
                      </a:lnTo>
                      <a:lnTo>
                        <a:pt x="312" y="444"/>
                      </a:lnTo>
                      <a:lnTo>
                        <a:pt x="280" y="439"/>
                      </a:lnTo>
                      <a:lnTo>
                        <a:pt x="248" y="431"/>
                      </a:lnTo>
                      <a:lnTo>
                        <a:pt x="220" y="422"/>
                      </a:lnTo>
                      <a:lnTo>
                        <a:pt x="192" y="407"/>
                      </a:lnTo>
                      <a:lnTo>
                        <a:pt x="166" y="391"/>
                      </a:lnTo>
                      <a:lnTo>
                        <a:pt x="140" y="372"/>
                      </a:lnTo>
                      <a:lnTo>
                        <a:pt x="117" y="352"/>
                      </a:lnTo>
                      <a:lnTo>
                        <a:pt x="94" y="327"/>
                      </a:lnTo>
                      <a:lnTo>
                        <a:pt x="75" y="301"/>
                      </a:lnTo>
                      <a:lnTo>
                        <a:pt x="58" y="274"/>
                      </a:lnTo>
                      <a:lnTo>
                        <a:pt x="45" y="246"/>
                      </a:lnTo>
                      <a:lnTo>
                        <a:pt x="34" y="217"/>
                      </a:lnTo>
                      <a:lnTo>
                        <a:pt x="30" y="201"/>
                      </a:lnTo>
                      <a:lnTo>
                        <a:pt x="27" y="186"/>
                      </a:lnTo>
                      <a:lnTo>
                        <a:pt x="23" y="154"/>
                      </a:lnTo>
                      <a:lnTo>
                        <a:pt x="22" y="123"/>
                      </a:lnTo>
                      <a:lnTo>
                        <a:pt x="23" y="90"/>
                      </a:lnTo>
                      <a:lnTo>
                        <a:pt x="27" y="59"/>
                      </a:lnTo>
                      <a:lnTo>
                        <a:pt x="34" y="2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714640" y="360792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0" h="419">
                      <a:moveTo>
                        <a:pt x="21" y="139"/>
                      </a:moveTo>
                      <a:lnTo>
                        <a:pt x="24" y="100"/>
                      </a:lnTo>
                      <a:lnTo>
                        <a:pt x="30" y="65"/>
                      </a:lnTo>
                      <a:lnTo>
                        <a:pt x="42" y="31"/>
                      </a:lnTo>
                      <a:lnTo>
                        <a:pt x="60" y="0"/>
                      </a:lnTo>
                      <a:lnTo>
                        <a:pt x="34" y="4"/>
                      </a:lnTo>
                      <a:lnTo>
                        <a:pt x="18" y="34"/>
                      </a:lnTo>
                      <a:lnTo>
                        <a:pt x="8" y="67"/>
                      </a:lnTo>
                      <a:lnTo>
                        <a:pt x="1" y="101"/>
                      </a:lnTo>
                      <a:lnTo>
                        <a:pt x="0" y="139"/>
                      </a:lnTo>
                      <a:lnTo>
                        <a:pt x="1" y="166"/>
                      </a:lnTo>
                      <a:lnTo>
                        <a:pt x="4" y="193"/>
                      </a:lnTo>
                      <a:lnTo>
                        <a:pt x="10" y="219"/>
                      </a:lnTo>
                      <a:lnTo>
                        <a:pt x="20" y="245"/>
                      </a:lnTo>
                      <a:lnTo>
                        <a:pt x="30" y="269"/>
                      </a:lnTo>
                      <a:lnTo>
                        <a:pt x="45" y="293"/>
                      </a:lnTo>
                      <a:lnTo>
                        <a:pt x="62" y="314"/>
                      </a:lnTo>
                      <a:lnTo>
                        <a:pt x="83" y="337"/>
                      </a:lnTo>
                      <a:lnTo>
                        <a:pt x="103" y="355"/>
                      </a:lnTo>
                      <a:lnTo>
                        <a:pt x="124" y="372"/>
                      </a:lnTo>
                      <a:lnTo>
                        <a:pt x="147" y="386"/>
                      </a:lnTo>
                      <a:lnTo>
                        <a:pt x="172" y="398"/>
                      </a:lnTo>
                      <a:lnTo>
                        <a:pt x="197" y="406"/>
                      </a:lnTo>
                      <a:lnTo>
                        <a:pt x="224" y="413"/>
                      </a:lnTo>
                      <a:lnTo>
                        <a:pt x="251" y="417"/>
                      </a:lnTo>
                      <a:lnTo>
                        <a:pt x="281" y="419"/>
                      </a:lnTo>
                      <a:lnTo>
                        <a:pt x="308" y="417"/>
                      </a:lnTo>
                      <a:lnTo>
                        <a:pt x="335" y="413"/>
                      </a:lnTo>
                      <a:lnTo>
                        <a:pt x="341" y="411"/>
                      </a:lnTo>
                      <a:lnTo>
                        <a:pt x="348" y="410"/>
                      </a:lnTo>
                      <a:lnTo>
                        <a:pt x="361" y="406"/>
                      </a:lnTo>
                      <a:lnTo>
                        <a:pt x="374" y="402"/>
                      </a:lnTo>
                      <a:lnTo>
                        <a:pt x="388" y="398"/>
                      </a:lnTo>
                      <a:lnTo>
                        <a:pt x="399" y="392"/>
                      </a:lnTo>
                      <a:lnTo>
                        <a:pt x="401" y="389"/>
                      </a:lnTo>
                      <a:lnTo>
                        <a:pt x="402" y="388"/>
                      </a:lnTo>
                      <a:lnTo>
                        <a:pt x="405" y="388"/>
                      </a:lnTo>
                      <a:lnTo>
                        <a:pt x="411" y="386"/>
                      </a:lnTo>
                      <a:lnTo>
                        <a:pt x="423" y="379"/>
                      </a:lnTo>
                      <a:lnTo>
                        <a:pt x="435" y="372"/>
                      </a:lnTo>
                      <a:lnTo>
                        <a:pt x="445" y="363"/>
                      </a:lnTo>
                      <a:lnTo>
                        <a:pt x="457" y="355"/>
                      </a:lnTo>
                      <a:lnTo>
                        <a:pt x="479" y="337"/>
                      </a:lnTo>
                      <a:lnTo>
                        <a:pt x="480" y="335"/>
                      </a:lnTo>
                      <a:lnTo>
                        <a:pt x="476" y="309"/>
                      </a:lnTo>
                      <a:lnTo>
                        <a:pt x="469" y="314"/>
                      </a:lnTo>
                      <a:lnTo>
                        <a:pt x="463" y="321"/>
                      </a:lnTo>
                      <a:lnTo>
                        <a:pt x="443" y="338"/>
                      </a:lnTo>
                      <a:lnTo>
                        <a:pt x="423" y="353"/>
                      </a:lnTo>
                      <a:lnTo>
                        <a:pt x="411" y="359"/>
                      </a:lnTo>
                      <a:lnTo>
                        <a:pt x="401" y="365"/>
                      </a:lnTo>
                      <a:lnTo>
                        <a:pt x="390" y="371"/>
                      </a:lnTo>
                      <a:lnTo>
                        <a:pt x="380" y="378"/>
                      </a:lnTo>
                      <a:lnTo>
                        <a:pt x="373" y="379"/>
                      </a:lnTo>
                      <a:lnTo>
                        <a:pt x="367" y="381"/>
                      </a:lnTo>
                      <a:lnTo>
                        <a:pt x="356" y="386"/>
                      </a:lnTo>
                      <a:lnTo>
                        <a:pt x="343" y="388"/>
                      </a:lnTo>
                      <a:lnTo>
                        <a:pt x="332" y="392"/>
                      </a:lnTo>
                      <a:lnTo>
                        <a:pt x="318" y="393"/>
                      </a:lnTo>
                      <a:lnTo>
                        <a:pt x="306" y="395"/>
                      </a:lnTo>
                      <a:lnTo>
                        <a:pt x="281" y="397"/>
                      </a:lnTo>
                      <a:lnTo>
                        <a:pt x="254" y="395"/>
                      </a:lnTo>
                      <a:lnTo>
                        <a:pt x="228" y="392"/>
                      </a:lnTo>
                      <a:lnTo>
                        <a:pt x="203" y="386"/>
                      </a:lnTo>
                      <a:lnTo>
                        <a:pt x="180" y="378"/>
                      </a:lnTo>
                      <a:lnTo>
                        <a:pt x="157" y="365"/>
                      </a:lnTo>
                      <a:lnTo>
                        <a:pt x="136" y="353"/>
                      </a:lnTo>
                      <a:lnTo>
                        <a:pt x="115" y="338"/>
                      </a:lnTo>
                      <a:lnTo>
                        <a:pt x="97" y="321"/>
                      </a:lnTo>
                      <a:lnTo>
                        <a:pt x="78" y="301"/>
                      </a:lnTo>
                      <a:lnTo>
                        <a:pt x="63" y="280"/>
                      </a:lnTo>
                      <a:lnTo>
                        <a:pt x="55" y="269"/>
                      </a:lnTo>
                      <a:lnTo>
                        <a:pt x="50" y="259"/>
                      </a:lnTo>
                      <a:lnTo>
                        <a:pt x="39" y="237"/>
                      </a:lnTo>
                      <a:lnTo>
                        <a:pt x="32" y="214"/>
                      </a:lnTo>
                      <a:lnTo>
                        <a:pt x="26" y="190"/>
                      </a:lnTo>
                      <a:lnTo>
                        <a:pt x="22" y="164"/>
                      </a:lnTo>
                      <a:lnTo>
                        <a:pt x="21" y="139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720760" y="3607560"/>
                  <a:ext cx="129600" cy="113400"/>
                </a:xfrm>
                <a:custGeom>
                  <a:avLst/>
                  <a:gdLst/>
                  <a:ahLst/>
                  <a:rect l="l" t="t" r="r" b="b"/>
                  <a:pathLst>
                    <a:path w="455" h="398">
                      <a:moveTo>
                        <a:pt x="39" y="1"/>
                      </a:moveTo>
                      <a:lnTo>
                        <a:pt x="21" y="32"/>
                      </a:lnTo>
                      <a:lnTo>
                        <a:pt x="9" y="66"/>
                      </a:lnTo>
                      <a:lnTo>
                        <a:pt x="3" y="101"/>
                      </a:lnTo>
                      <a:lnTo>
                        <a:pt x="0" y="140"/>
                      </a:lnTo>
                      <a:lnTo>
                        <a:pt x="1" y="165"/>
                      </a:lnTo>
                      <a:lnTo>
                        <a:pt x="5" y="191"/>
                      </a:lnTo>
                      <a:lnTo>
                        <a:pt x="11" y="215"/>
                      </a:lnTo>
                      <a:lnTo>
                        <a:pt x="18" y="238"/>
                      </a:lnTo>
                      <a:lnTo>
                        <a:pt x="29" y="260"/>
                      </a:lnTo>
                      <a:lnTo>
                        <a:pt x="34" y="270"/>
                      </a:lnTo>
                      <a:lnTo>
                        <a:pt x="42" y="281"/>
                      </a:lnTo>
                      <a:lnTo>
                        <a:pt x="57" y="302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5" y="354"/>
                      </a:lnTo>
                      <a:lnTo>
                        <a:pt x="136" y="366"/>
                      </a:lnTo>
                      <a:lnTo>
                        <a:pt x="159" y="379"/>
                      </a:lnTo>
                      <a:lnTo>
                        <a:pt x="182" y="387"/>
                      </a:lnTo>
                      <a:lnTo>
                        <a:pt x="207" y="393"/>
                      </a:lnTo>
                      <a:lnTo>
                        <a:pt x="233" y="396"/>
                      </a:lnTo>
                      <a:lnTo>
                        <a:pt x="260" y="398"/>
                      </a:lnTo>
                      <a:lnTo>
                        <a:pt x="285" y="396"/>
                      </a:lnTo>
                      <a:lnTo>
                        <a:pt x="297" y="394"/>
                      </a:lnTo>
                      <a:lnTo>
                        <a:pt x="311" y="393"/>
                      </a:lnTo>
                      <a:lnTo>
                        <a:pt x="322" y="389"/>
                      </a:lnTo>
                      <a:lnTo>
                        <a:pt x="335" y="387"/>
                      </a:lnTo>
                      <a:lnTo>
                        <a:pt x="346" y="382"/>
                      </a:lnTo>
                      <a:lnTo>
                        <a:pt x="352" y="380"/>
                      </a:lnTo>
                      <a:lnTo>
                        <a:pt x="359" y="379"/>
                      </a:lnTo>
                      <a:lnTo>
                        <a:pt x="369" y="372"/>
                      </a:lnTo>
                      <a:lnTo>
                        <a:pt x="380" y="366"/>
                      </a:lnTo>
                      <a:lnTo>
                        <a:pt x="390" y="360"/>
                      </a:lnTo>
                      <a:lnTo>
                        <a:pt x="402" y="354"/>
                      </a:lnTo>
                      <a:lnTo>
                        <a:pt x="422" y="339"/>
                      </a:lnTo>
                      <a:lnTo>
                        <a:pt x="442" y="322"/>
                      </a:lnTo>
                      <a:lnTo>
                        <a:pt x="448" y="315"/>
                      </a:lnTo>
                      <a:lnTo>
                        <a:pt x="455" y="310"/>
                      </a:lnTo>
                      <a:lnTo>
                        <a:pt x="449" y="283"/>
                      </a:lnTo>
                      <a:lnTo>
                        <a:pt x="438" y="295"/>
                      </a:lnTo>
                      <a:lnTo>
                        <a:pt x="435" y="297"/>
                      </a:lnTo>
                      <a:lnTo>
                        <a:pt x="432" y="301"/>
                      </a:lnTo>
                      <a:lnTo>
                        <a:pt x="428" y="308"/>
                      </a:lnTo>
                      <a:lnTo>
                        <a:pt x="418" y="314"/>
                      </a:lnTo>
                      <a:lnTo>
                        <a:pt x="408" y="322"/>
                      </a:lnTo>
                      <a:lnTo>
                        <a:pt x="390" y="337"/>
                      </a:lnTo>
                      <a:lnTo>
                        <a:pt x="370" y="348"/>
                      </a:lnTo>
                      <a:lnTo>
                        <a:pt x="360" y="353"/>
                      </a:lnTo>
                      <a:lnTo>
                        <a:pt x="351" y="359"/>
                      </a:lnTo>
                      <a:lnTo>
                        <a:pt x="328" y="366"/>
                      </a:lnTo>
                      <a:lnTo>
                        <a:pt x="317" y="369"/>
                      </a:lnTo>
                      <a:lnTo>
                        <a:pt x="313" y="369"/>
                      </a:lnTo>
                      <a:lnTo>
                        <a:pt x="311" y="370"/>
                      </a:lnTo>
                      <a:lnTo>
                        <a:pt x="306" y="372"/>
                      </a:lnTo>
                      <a:lnTo>
                        <a:pt x="300" y="372"/>
                      </a:lnTo>
                      <a:lnTo>
                        <a:pt x="296" y="372"/>
                      </a:lnTo>
                      <a:lnTo>
                        <a:pt x="294" y="373"/>
                      </a:lnTo>
                      <a:lnTo>
                        <a:pt x="283" y="376"/>
                      </a:lnTo>
                      <a:lnTo>
                        <a:pt x="260" y="377"/>
                      </a:lnTo>
                      <a:lnTo>
                        <a:pt x="235" y="376"/>
                      </a:lnTo>
                      <a:lnTo>
                        <a:pt x="211" y="372"/>
                      </a:lnTo>
                      <a:lnTo>
                        <a:pt x="189" y="366"/>
                      </a:lnTo>
                      <a:lnTo>
                        <a:pt x="168" y="359"/>
                      </a:lnTo>
                      <a:lnTo>
                        <a:pt x="147" y="348"/>
                      </a:lnTo>
                      <a:lnTo>
                        <a:pt x="127" y="337"/>
                      </a:lnTo>
                      <a:lnTo>
                        <a:pt x="108" y="322"/>
                      </a:lnTo>
                      <a:lnTo>
                        <a:pt x="91" y="308"/>
                      </a:lnTo>
                      <a:lnTo>
                        <a:pt x="74" y="288"/>
                      </a:lnTo>
                      <a:lnTo>
                        <a:pt x="59" y="270"/>
                      </a:lnTo>
                      <a:lnTo>
                        <a:pt x="47" y="250"/>
                      </a:lnTo>
                      <a:lnTo>
                        <a:pt x="39" y="230"/>
                      </a:lnTo>
                      <a:lnTo>
                        <a:pt x="31" y="208"/>
                      </a:lnTo>
                      <a:lnTo>
                        <a:pt x="25" y="186"/>
                      </a:lnTo>
                      <a:lnTo>
                        <a:pt x="22" y="162"/>
                      </a:lnTo>
                      <a:lnTo>
                        <a:pt x="22" y="140"/>
                      </a:lnTo>
                      <a:lnTo>
                        <a:pt x="24" y="100"/>
                      </a:lnTo>
                      <a:lnTo>
                        <a:pt x="32" y="65"/>
                      </a:lnTo>
                      <a:lnTo>
                        <a:pt x="38" y="47"/>
                      </a:lnTo>
                      <a:lnTo>
                        <a:pt x="46" y="31"/>
                      </a:lnTo>
                      <a:lnTo>
                        <a:pt x="66" y="0"/>
                      </a:lnTo>
                      <a:lnTo>
                        <a:pt x="39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708160" y="3608640"/>
                  <a:ext cx="144000" cy="124920"/>
                </a:xfrm>
                <a:custGeom>
                  <a:avLst/>
                  <a:gdLst/>
                  <a:ahLst/>
                  <a:rect l="l" t="t" r="r" b="b"/>
                  <a:pathLst>
                    <a:path w="505" h="436">
                      <a:moveTo>
                        <a:pt x="22" y="135"/>
                      </a:moveTo>
                      <a:lnTo>
                        <a:pt x="23" y="97"/>
                      </a:lnTo>
                      <a:lnTo>
                        <a:pt x="30" y="63"/>
                      </a:lnTo>
                      <a:lnTo>
                        <a:pt x="40" y="30"/>
                      </a:lnTo>
                      <a:lnTo>
                        <a:pt x="56" y="0"/>
                      </a:lnTo>
                      <a:lnTo>
                        <a:pt x="27" y="5"/>
                      </a:lnTo>
                      <a:lnTo>
                        <a:pt x="15" y="35"/>
                      </a:lnTo>
                      <a:lnTo>
                        <a:pt x="7" y="67"/>
                      </a:lnTo>
                      <a:lnTo>
                        <a:pt x="1" y="100"/>
                      </a:lnTo>
                      <a:lnTo>
                        <a:pt x="0" y="135"/>
                      </a:lnTo>
                      <a:lnTo>
                        <a:pt x="1" y="164"/>
                      </a:lnTo>
                      <a:lnTo>
                        <a:pt x="5" y="194"/>
                      </a:lnTo>
                      <a:lnTo>
                        <a:pt x="7" y="207"/>
                      </a:lnTo>
                      <a:lnTo>
                        <a:pt x="12" y="222"/>
                      </a:lnTo>
                      <a:lnTo>
                        <a:pt x="22" y="250"/>
                      </a:lnTo>
                      <a:lnTo>
                        <a:pt x="34" y="275"/>
                      </a:lnTo>
                      <a:lnTo>
                        <a:pt x="49" y="300"/>
                      </a:lnTo>
                      <a:lnTo>
                        <a:pt x="57" y="312"/>
                      </a:lnTo>
                      <a:lnTo>
                        <a:pt x="67" y="324"/>
                      </a:lnTo>
                      <a:lnTo>
                        <a:pt x="89" y="348"/>
                      </a:lnTo>
                      <a:lnTo>
                        <a:pt x="110" y="367"/>
                      </a:lnTo>
                      <a:lnTo>
                        <a:pt x="134" y="385"/>
                      </a:lnTo>
                      <a:lnTo>
                        <a:pt x="159" y="400"/>
                      </a:lnTo>
                      <a:lnTo>
                        <a:pt x="186" y="414"/>
                      </a:lnTo>
                      <a:lnTo>
                        <a:pt x="212" y="423"/>
                      </a:lnTo>
                      <a:lnTo>
                        <a:pt x="242" y="431"/>
                      </a:lnTo>
                      <a:lnTo>
                        <a:pt x="271" y="434"/>
                      </a:lnTo>
                      <a:lnTo>
                        <a:pt x="303" y="436"/>
                      </a:lnTo>
                      <a:lnTo>
                        <a:pt x="330" y="434"/>
                      </a:lnTo>
                      <a:lnTo>
                        <a:pt x="344" y="432"/>
                      </a:lnTo>
                      <a:lnTo>
                        <a:pt x="351" y="431"/>
                      </a:lnTo>
                      <a:lnTo>
                        <a:pt x="358" y="431"/>
                      </a:lnTo>
                      <a:lnTo>
                        <a:pt x="364" y="428"/>
                      </a:lnTo>
                      <a:lnTo>
                        <a:pt x="371" y="427"/>
                      </a:lnTo>
                      <a:lnTo>
                        <a:pt x="385" y="425"/>
                      </a:lnTo>
                      <a:lnTo>
                        <a:pt x="397" y="420"/>
                      </a:lnTo>
                      <a:lnTo>
                        <a:pt x="411" y="417"/>
                      </a:lnTo>
                      <a:lnTo>
                        <a:pt x="422" y="410"/>
                      </a:lnTo>
                      <a:lnTo>
                        <a:pt x="424" y="408"/>
                      </a:lnTo>
                      <a:lnTo>
                        <a:pt x="425" y="407"/>
                      </a:lnTo>
                      <a:lnTo>
                        <a:pt x="428" y="407"/>
                      </a:lnTo>
                      <a:lnTo>
                        <a:pt x="434" y="405"/>
                      </a:lnTo>
                      <a:lnTo>
                        <a:pt x="459" y="392"/>
                      </a:lnTo>
                      <a:lnTo>
                        <a:pt x="482" y="376"/>
                      </a:lnTo>
                      <a:lnTo>
                        <a:pt x="505" y="359"/>
                      </a:lnTo>
                      <a:lnTo>
                        <a:pt x="502" y="331"/>
                      </a:lnTo>
                      <a:lnTo>
                        <a:pt x="501" y="333"/>
                      </a:lnTo>
                      <a:lnTo>
                        <a:pt x="479" y="351"/>
                      </a:lnTo>
                      <a:lnTo>
                        <a:pt x="467" y="359"/>
                      </a:lnTo>
                      <a:lnTo>
                        <a:pt x="457" y="368"/>
                      </a:lnTo>
                      <a:lnTo>
                        <a:pt x="445" y="375"/>
                      </a:lnTo>
                      <a:lnTo>
                        <a:pt x="433" y="382"/>
                      </a:lnTo>
                      <a:lnTo>
                        <a:pt x="427" y="384"/>
                      </a:lnTo>
                      <a:lnTo>
                        <a:pt x="424" y="384"/>
                      </a:lnTo>
                      <a:lnTo>
                        <a:pt x="423" y="385"/>
                      </a:lnTo>
                      <a:lnTo>
                        <a:pt x="421" y="388"/>
                      </a:lnTo>
                      <a:lnTo>
                        <a:pt x="410" y="394"/>
                      </a:lnTo>
                      <a:lnTo>
                        <a:pt x="396" y="398"/>
                      </a:lnTo>
                      <a:lnTo>
                        <a:pt x="383" y="402"/>
                      </a:lnTo>
                      <a:lnTo>
                        <a:pt x="370" y="406"/>
                      </a:lnTo>
                      <a:lnTo>
                        <a:pt x="363" y="407"/>
                      </a:lnTo>
                      <a:lnTo>
                        <a:pt x="357" y="409"/>
                      </a:lnTo>
                      <a:lnTo>
                        <a:pt x="330" y="413"/>
                      </a:lnTo>
                      <a:lnTo>
                        <a:pt x="303" y="415"/>
                      </a:lnTo>
                      <a:lnTo>
                        <a:pt x="273" y="413"/>
                      </a:lnTo>
                      <a:lnTo>
                        <a:pt x="246" y="409"/>
                      </a:lnTo>
                      <a:lnTo>
                        <a:pt x="219" y="402"/>
                      </a:lnTo>
                      <a:lnTo>
                        <a:pt x="194" y="394"/>
                      </a:lnTo>
                      <a:lnTo>
                        <a:pt x="169" y="382"/>
                      </a:lnTo>
                      <a:lnTo>
                        <a:pt x="146" y="368"/>
                      </a:lnTo>
                      <a:lnTo>
                        <a:pt x="125" y="351"/>
                      </a:lnTo>
                      <a:lnTo>
                        <a:pt x="105" y="333"/>
                      </a:lnTo>
                      <a:lnTo>
                        <a:pt x="84" y="310"/>
                      </a:lnTo>
                      <a:lnTo>
                        <a:pt x="67" y="289"/>
                      </a:lnTo>
                      <a:lnTo>
                        <a:pt x="52" y="265"/>
                      </a:lnTo>
                      <a:lnTo>
                        <a:pt x="42" y="241"/>
                      </a:lnTo>
                      <a:lnTo>
                        <a:pt x="32" y="215"/>
                      </a:lnTo>
                      <a:lnTo>
                        <a:pt x="26" y="189"/>
                      </a:lnTo>
                      <a:lnTo>
                        <a:pt x="23" y="162"/>
                      </a:lnTo>
                      <a:lnTo>
                        <a:pt x="22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702040" y="3610440"/>
                  <a:ext cx="150120" cy="128880"/>
                </a:xfrm>
                <a:custGeom>
                  <a:avLst/>
                  <a:gdLst/>
                  <a:ahLst/>
                  <a:rect l="l" t="t" r="r" b="b"/>
                  <a:pathLst>
                    <a:path w="526" h="453">
                      <a:moveTo>
                        <a:pt x="21" y="130"/>
                      </a:moveTo>
                      <a:lnTo>
                        <a:pt x="22" y="95"/>
                      </a:lnTo>
                      <a:lnTo>
                        <a:pt x="28" y="62"/>
                      </a:lnTo>
                      <a:lnTo>
                        <a:pt x="36" y="30"/>
                      </a:lnTo>
                      <a:lnTo>
                        <a:pt x="48" y="0"/>
                      </a:lnTo>
                      <a:lnTo>
                        <a:pt x="22" y="7"/>
                      </a:lnTo>
                      <a:lnTo>
                        <a:pt x="12" y="36"/>
                      </a:lnTo>
                      <a:lnTo>
                        <a:pt x="5" y="66"/>
                      </a:lnTo>
                      <a:lnTo>
                        <a:pt x="1" y="97"/>
                      </a:lnTo>
                      <a:lnTo>
                        <a:pt x="0" y="130"/>
                      </a:lnTo>
                      <a:lnTo>
                        <a:pt x="1" y="161"/>
                      </a:lnTo>
                      <a:lnTo>
                        <a:pt x="5" y="193"/>
                      </a:lnTo>
                      <a:lnTo>
                        <a:pt x="8" y="208"/>
                      </a:lnTo>
                      <a:lnTo>
                        <a:pt x="12" y="224"/>
                      </a:lnTo>
                      <a:lnTo>
                        <a:pt x="23" y="253"/>
                      </a:lnTo>
                      <a:lnTo>
                        <a:pt x="36" y="281"/>
                      </a:lnTo>
                      <a:lnTo>
                        <a:pt x="53" y="308"/>
                      </a:lnTo>
                      <a:lnTo>
                        <a:pt x="72" y="334"/>
                      </a:lnTo>
                      <a:lnTo>
                        <a:pt x="95" y="359"/>
                      </a:lnTo>
                      <a:lnTo>
                        <a:pt x="118" y="379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8" y="429"/>
                      </a:lnTo>
                      <a:lnTo>
                        <a:pt x="226" y="438"/>
                      </a:lnTo>
                      <a:lnTo>
                        <a:pt x="258" y="446"/>
                      </a:lnTo>
                      <a:lnTo>
                        <a:pt x="290" y="451"/>
                      </a:lnTo>
                      <a:lnTo>
                        <a:pt x="324" y="453"/>
                      </a:lnTo>
                      <a:lnTo>
                        <a:pt x="351" y="452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79" y="448"/>
                      </a:lnTo>
                      <a:lnTo>
                        <a:pt x="385" y="446"/>
                      </a:lnTo>
                      <a:lnTo>
                        <a:pt x="392" y="445"/>
                      </a:lnTo>
                      <a:lnTo>
                        <a:pt x="406" y="443"/>
                      </a:lnTo>
                      <a:lnTo>
                        <a:pt x="418" y="438"/>
                      </a:lnTo>
                      <a:lnTo>
                        <a:pt x="432" y="435"/>
                      </a:lnTo>
                      <a:lnTo>
                        <a:pt x="443" y="429"/>
                      </a:lnTo>
                      <a:lnTo>
                        <a:pt x="455" y="425"/>
                      </a:lnTo>
                      <a:lnTo>
                        <a:pt x="480" y="412"/>
                      </a:lnTo>
                      <a:lnTo>
                        <a:pt x="503" y="397"/>
                      </a:lnTo>
                      <a:lnTo>
                        <a:pt x="526" y="383"/>
                      </a:lnTo>
                      <a:lnTo>
                        <a:pt x="526" y="374"/>
                      </a:lnTo>
                      <a:lnTo>
                        <a:pt x="526" y="354"/>
                      </a:lnTo>
                      <a:lnTo>
                        <a:pt x="503" y="371"/>
                      </a:lnTo>
                      <a:lnTo>
                        <a:pt x="480" y="387"/>
                      </a:lnTo>
                      <a:lnTo>
                        <a:pt x="455" y="400"/>
                      </a:lnTo>
                      <a:lnTo>
                        <a:pt x="449" y="402"/>
                      </a:lnTo>
                      <a:lnTo>
                        <a:pt x="446" y="402"/>
                      </a:lnTo>
                      <a:lnTo>
                        <a:pt x="445" y="403"/>
                      </a:lnTo>
                      <a:lnTo>
                        <a:pt x="443" y="405"/>
                      </a:lnTo>
                      <a:lnTo>
                        <a:pt x="432" y="412"/>
                      </a:lnTo>
                      <a:lnTo>
                        <a:pt x="418" y="415"/>
                      </a:lnTo>
                      <a:lnTo>
                        <a:pt x="406" y="420"/>
                      </a:lnTo>
                      <a:lnTo>
                        <a:pt x="392" y="422"/>
                      </a:lnTo>
                      <a:lnTo>
                        <a:pt x="385" y="423"/>
                      </a:lnTo>
                      <a:lnTo>
                        <a:pt x="379" y="426"/>
                      </a:lnTo>
                      <a:lnTo>
                        <a:pt x="372" y="426"/>
                      </a:lnTo>
                      <a:lnTo>
                        <a:pt x="365" y="427"/>
                      </a:lnTo>
                      <a:lnTo>
                        <a:pt x="351" y="429"/>
                      </a:lnTo>
                      <a:lnTo>
                        <a:pt x="324" y="431"/>
                      </a:lnTo>
                      <a:lnTo>
                        <a:pt x="292" y="429"/>
                      </a:lnTo>
                      <a:lnTo>
                        <a:pt x="263" y="426"/>
                      </a:lnTo>
                      <a:lnTo>
                        <a:pt x="233" y="418"/>
                      </a:lnTo>
                      <a:lnTo>
                        <a:pt x="207" y="409"/>
                      </a:lnTo>
                      <a:lnTo>
                        <a:pt x="180" y="395"/>
                      </a:lnTo>
                      <a:lnTo>
                        <a:pt x="155" y="380"/>
                      </a:lnTo>
                      <a:lnTo>
                        <a:pt x="131" y="362"/>
                      </a:lnTo>
                      <a:lnTo>
                        <a:pt x="110" y="343"/>
                      </a:lnTo>
                      <a:lnTo>
                        <a:pt x="88" y="319"/>
                      </a:lnTo>
                      <a:lnTo>
                        <a:pt x="78" y="307"/>
                      </a:lnTo>
                      <a:lnTo>
                        <a:pt x="70" y="295"/>
                      </a:lnTo>
                      <a:lnTo>
                        <a:pt x="55" y="270"/>
                      </a:lnTo>
                      <a:lnTo>
                        <a:pt x="43" y="245"/>
                      </a:lnTo>
                      <a:lnTo>
                        <a:pt x="33" y="217"/>
                      </a:lnTo>
                      <a:lnTo>
                        <a:pt x="28" y="202"/>
                      </a:lnTo>
                      <a:lnTo>
                        <a:pt x="26" y="189"/>
                      </a:lnTo>
                      <a:lnTo>
                        <a:pt x="22" y="159"/>
                      </a:lnTo>
                      <a:lnTo>
                        <a:pt x="21" y="130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633280" y="3710160"/>
                  <a:ext cx="149040" cy="113400"/>
                </a:xfrm>
                <a:custGeom>
                  <a:avLst/>
                  <a:gdLst/>
                  <a:ahLst/>
                  <a:rect l="l" t="t" r="r" b="b"/>
                  <a:pathLst>
                    <a:path w="524" h="398">
                      <a:moveTo>
                        <a:pt x="0" y="23"/>
                      </a:moveTo>
                      <a:lnTo>
                        <a:pt x="1" y="54"/>
                      </a:lnTo>
                      <a:lnTo>
                        <a:pt x="24" y="97"/>
                      </a:lnTo>
                      <a:lnTo>
                        <a:pt x="53" y="140"/>
                      </a:lnTo>
                      <a:lnTo>
                        <a:pt x="85" y="181"/>
                      </a:lnTo>
                      <a:lnTo>
                        <a:pt x="123" y="221"/>
                      </a:lnTo>
                      <a:lnTo>
                        <a:pt x="159" y="255"/>
                      </a:lnTo>
                      <a:lnTo>
                        <a:pt x="199" y="287"/>
                      </a:lnTo>
                      <a:lnTo>
                        <a:pt x="239" y="314"/>
                      </a:lnTo>
                      <a:lnTo>
                        <a:pt x="282" y="339"/>
                      </a:lnTo>
                      <a:lnTo>
                        <a:pt x="326" y="358"/>
                      </a:lnTo>
                      <a:lnTo>
                        <a:pt x="372" y="375"/>
                      </a:lnTo>
                      <a:lnTo>
                        <a:pt x="420" y="388"/>
                      </a:lnTo>
                      <a:lnTo>
                        <a:pt x="470" y="398"/>
                      </a:lnTo>
                      <a:lnTo>
                        <a:pt x="497" y="390"/>
                      </a:lnTo>
                      <a:lnTo>
                        <a:pt x="524" y="382"/>
                      </a:lnTo>
                      <a:lnTo>
                        <a:pt x="468" y="375"/>
                      </a:lnTo>
                      <a:lnTo>
                        <a:pt x="441" y="371"/>
                      </a:lnTo>
                      <a:lnTo>
                        <a:pt x="415" y="365"/>
                      </a:lnTo>
                      <a:lnTo>
                        <a:pt x="364" y="349"/>
                      </a:lnTo>
                      <a:lnTo>
                        <a:pt x="315" y="331"/>
                      </a:lnTo>
                      <a:lnTo>
                        <a:pt x="267" y="306"/>
                      </a:lnTo>
                      <a:lnTo>
                        <a:pt x="222" y="276"/>
                      </a:lnTo>
                      <a:lnTo>
                        <a:pt x="178" y="242"/>
                      </a:lnTo>
                      <a:lnTo>
                        <a:pt x="138" y="206"/>
                      </a:lnTo>
                      <a:lnTo>
                        <a:pt x="115" y="181"/>
                      </a:lnTo>
                      <a:lnTo>
                        <a:pt x="93" y="157"/>
                      </a:lnTo>
                      <a:lnTo>
                        <a:pt x="73" y="131"/>
                      </a:lnTo>
                      <a:lnTo>
                        <a:pt x="56" y="106"/>
                      </a:lnTo>
                      <a:lnTo>
                        <a:pt x="39" y="79"/>
                      </a:lnTo>
                      <a:lnTo>
                        <a:pt x="24" y="53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633280" y="3695760"/>
                  <a:ext cx="161640" cy="123120"/>
                </a:xfrm>
                <a:custGeom>
                  <a:avLst/>
                  <a:gdLst/>
                  <a:ahLst/>
                  <a:rect l="l" t="t" r="r" b="b"/>
                  <a:pathLst>
                    <a:path w="567" h="433">
                      <a:moveTo>
                        <a:pt x="7" y="0"/>
                      </a:moveTo>
                      <a:lnTo>
                        <a:pt x="1" y="25"/>
                      </a:lnTo>
                      <a:lnTo>
                        <a:pt x="0" y="51"/>
                      </a:lnTo>
                      <a:lnTo>
                        <a:pt x="10" y="77"/>
                      </a:lnTo>
                      <a:lnTo>
                        <a:pt x="24" y="104"/>
                      </a:lnTo>
                      <a:lnTo>
                        <a:pt x="39" y="130"/>
                      </a:lnTo>
                      <a:lnTo>
                        <a:pt x="56" y="157"/>
                      </a:lnTo>
                      <a:lnTo>
                        <a:pt x="73" y="182"/>
                      </a:lnTo>
                      <a:lnTo>
                        <a:pt x="93" y="208"/>
                      </a:lnTo>
                      <a:lnTo>
                        <a:pt x="115" y="232"/>
                      </a:lnTo>
                      <a:lnTo>
                        <a:pt x="138" y="257"/>
                      </a:lnTo>
                      <a:lnTo>
                        <a:pt x="178" y="293"/>
                      </a:lnTo>
                      <a:lnTo>
                        <a:pt x="222" y="327"/>
                      </a:lnTo>
                      <a:lnTo>
                        <a:pt x="267" y="357"/>
                      </a:lnTo>
                      <a:lnTo>
                        <a:pt x="315" y="382"/>
                      </a:lnTo>
                      <a:lnTo>
                        <a:pt x="364" y="400"/>
                      </a:lnTo>
                      <a:lnTo>
                        <a:pt x="415" y="416"/>
                      </a:lnTo>
                      <a:lnTo>
                        <a:pt x="441" y="422"/>
                      </a:lnTo>
                      <a:lnTo>
                        <a:pt x="468" y="426"/>
                      </a:lnTo>
                      <a:lnTo>
                        <a:pt x="524" y="433"/>
                      </a:lnTo>
                      <a:lnTo>
                        <a:pt x="567" y="413"/>
                      </a:lnTo>
                      <a:lnTo>
                        <a:pt x="566" y="413"/>
                      </a:lnTo>
                      <a:lnTo>
                        <a:pt x="535" y="411"/>
                      </a:lnTo>
                      <a:lnTo>
                        <a:pt x="506" y="409"/>
                      </a:lnTo>
                      <a:lnTo>
                        <a:pt x="476" y="406"/>
                      </a:lnTo>
                      <a:lnTo>
                        <a:pt x="448" y="401"/>
                      </a:lnTo>
                      <a:lnTo>
                        <a:pt x="392" y="388"/>
                      </a:lnTo>
                      <a:lnTo>
                        <a:pt x="341" y="369"/>
                      </a:lnTo>
                      <a:lnTo>
                        <a:pt x="290" y="344"/>
                      </a:lnTo>
                      <a:lnTo>
                        <a:pt x="242" y="315"/>
                      </a:lnTo>
                      <a:lnTo>
                        <a:pt x="218" y="298"/>
                      </a:lnTo>
                      <a:lnTo>
                        <a:pt x="195" y="280"/>
                      </a:lnTo>
                      <a:lnTo>
                        <a:pt x="153" y="241"/>
                      </a:lnTo>
                      <a:lnTo>
                        <a:pt x="127" y="213"/>
                      </a:lnTo>
                      <a:lnTo>
                        <a:pt x="103" y="186"/>
                      </a:lnTo>
                      <a:lnTo>
                        <a:pt x="82" y="156"/>
                      </a:lnTo>
                      <a:lnTo>
                        <a:pt x="63" y="127"/>
                      </a:lnTo>
                      <a:lnTo>
                        <a:pt x="44" y="95"/>
                      </a:lnTo>
                      <a:lnTo>
                        <a:pt x="30" y="64"/>
                      </a:lnTo>
                      <a:lnTo>
                        <a:pt x="17" y="3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635080" y="3683520"/>
                  <a:ext cx="170280" cy="129960"/>
                </a:xfrm>
                <a:custGeom>
                  <a:avLst/>
                  <a:gdLst/>
                  <a:ahLst/>
                  <a:rect l="l" t="t" r="r" b="b"/>
                  <a:pathLst>
                    <a:path w="596" h="457">
                      <a:moveTo>
                        <a:pt x="10" y="0"/>
                      </a:moveTo>
                      <a:lnTo>
                        <a:pt x="0" y="44"/>
                      </a:lnTo>
                      <a:lnTo>
                        <a:pt x="10" y="76"/>
                      </a:lnTo>
                      <a:lnTo>
                        <a:pt x="23" y="108"/>
                      </a:lnTo>
                      <a:lnTo>
                        <a:pt x="37" y="139"/>
                      </a:lnTo>
                      <a:lnTo>
                        <a:pt x="56" y="171"/>
                      </a:lnTo>
                      <a:lnTo>
                        <a:pt x="75" y="200"/>
                      </a:lnTo>
                      <a:lnTo>
                        <a:pt x="96" y="230"/>
                      </a:lnTo>
                      <a:lnTo>
                        <a:pt x="120" y="257"/>
                      </a:lnTo>
                      <a:lnTo>
                        <a:pt x="146" y="285"/>
                      </a:lnTo>
                      <a:lnTo>
                        <a:pt x="188" y="324"/>
                      </a:lnTo>
                      <a:lnTo>
                        <a:pt x="211" y="342"/>
                      </a:lnTo>
                      <a:lnTo>
                        <a:pt x="235" y="359"/>
                      </a:lnTo>
                      <a:lnTo>
                        <a:pt x="283" y="388"/>
                      </a:lnTo>
                      <a:lnTo>
                        <a:pt x="334" y="413"/>
                      </a:lnTo>
                      <a:lnTo>
                        <a:pt x="385" y="432"/>
                      </a:lnTo>
                      <a:lnTo>
                        <a:pt x="441" y="445"/>
                      </a:lnTo>
                      <a:lnTo>
                        <a:pt x="469" y="450"/>
                      </a:lnTo>
                      <a:lnTo>
                        <a:pt x="499" y="453"/>
                      </a:lnTo>
                      <a:lnTo>
                        <a:pt x="528" y="455"/>
                      </a:lnTo>
                      <a:lnTo>
                        <a:pt x="559" y="457"/>
                      </a:lnTo>
                      <a:lnTo>
                        <a:pt x="560" y="457"/>
                      </a:lnTo>
                      <a:lnTo>
                        <a:pt x="596" y="434"/>
                      </a:lnTo>
                      <a:lnTo>
                        <a:pt x="559" y="435"/>
                      </a:lnTo>
                      <a:lnTo>
                        <a:pt x="529" y="434"/>
                      </a:lnTo>
                      <a:lnTo>
                        <a:pt x="501" y="432"/>
                      </a:lnTo>
                      <a:lnTo>
                        <a:pt x="473" y="428"/>
                      </a:lnTo>
                      <a:lnTo>
                        <a:pt x="446" y="424"/>
                      </a:lnTo>
                      <a:lnTo>
                        <a:pt x="392" y="410"/>
                      </a:lnTo>
                      <a:lnTo>
                        <a:pt x="367" y="402"/>
                      </a:lnTo>
                      <a:lnTo>
                        <a:pt x="342" y="393"/>
                      </a:lnTo>
                      <a:lnTo>
                        <a:pt x="317" y="382"/>
                      </a:lnTo>
                      <a:lnTo>
                        <a:pt x="294" y="369"/>
                      </a:lnTo>
                      <a:lnTo>
                        <a:pt x="247" y="342"/>
                      </a:lnTo>
                      <a:lnTo>
                        <a:pt x="203" y="308"/>
                      </a:lnTo>
                      <a:lnTo>
                        <a:pt x="181" y="290"/>
                      </a:lnTo>
                      <a:lnTo>
                        <a:pt x="161" y="271"/>
                      </a:lnTo>
                      <a:lnTo>
                        <a:pt x="133" y="240"/>
                      </a:lnTo>
                      <a:lnTo>
                        <a:pt x="107" y="209"/>
                      </a:lnTo>
                      <a:lnTo>
                        <a:pt x="94" y="192"/>
                      </a:lnTo>
                      <a:lnTo>
                        <a:pt x="84" y="176"/>
                      </a:lnTo>
                      <a:lnTo>
                        <a:pt x="65" y="144"/>
                      </a:lnTo>
                      <a:lnTo>
                        <a:pt x="54" y="125"/>
                      </a:lnTo>
                      <a:lnTo>
                        <a:pt x="46" y="108"/>
                      </a:lnTo>
                      <a:lnTo>
                        <a:pt x="32" y="73"/>
                      </a:lnTo>
                      <a:lnTo>
                        <a:pt x="19" y="3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637960" y="3672720"/>
                  <a:ext cx="176040" cy="134640"/>
                </a:xfrm>
                <a:custGeom>
                  <a:avLst/>
                  <a:gdLst/>
                  <a:ahLst/>
                  <a:rect l="l" t="t" r="r" b="b"/>
                  <a:pathLst>
                    <a:path w="617" h="474">
                      <a:moveTo>
                        <a:pt x="15" y="0"/>
                      </a:moveTo>
                      <a:lnTo>
                        <a:pt x="0" y="39"/>
                      </a:lnTo>
                      <a:lnTo>
                        <a:pt x="9" y="75"/>
                      </a:lnTo>
                      <a:lnTo>
                        <a:pt x="22" y="112"/>
                      </a:lnTo>
                      <a:lnTo>
                        <a:pt x="36" y="147"/>
                      </a:lnTo>
                      <a:lnTo>
                        <a:pt x="44" y="164"/>
                      </a:lnTo>
                      <a:lnTo>
                        <a:pt x="55" y="183"/>
                      </a:lnTo>
                      <a:lnTo>
                        <a:pt x="74" y="215"/>
                      </a:lnTo>
                      <a:lnTo>
                        <a:pt x="84" y="231"/>
                      </a:lnTo>
                      <a:lnTo>
                        <a:pt x="97" y="248"/>
                      </a:lnTo>
                      <a:lnTo>
                        <a:pt x="123" y="279"/>
                      </a:lnTo>
                      <a:lnTo>
                        <a:pt x="151" y="310"/>
                      </a:lnTo>
                      <a:lnTo>
                        <a:pt x="171" y="329"/>
                      </a:lnTo>
                      <a:lnTo>
                        <a:pt x="193" y="347"/>
                      </a:lnTo>
                      <a:lnTo>
                        <a:pt x="237" y="381"/>
                      </a:lnTo>
                      <a:lnTo>
                        <a:pt x="284" y="408"/>
                      </a:lnTo>
                      <a:lnTo>
                        <a:pt x="307" y="421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6" y="463"/>
                      </a:lnTo>
                      <a:lnTo>
                        <a:pt x="463" y="467"/>
                      </a:lnTo>
                      <a:lnTo>
                        <a:pt x="491" y="471"/>
                      </a:lnTo>
                      <a:lnTo>
                        <a:pt x="519" y="473"/>
                      </a:lnTo>
                      <a:lnTo>
                        <a:pt x="549" y="474"/>
                      </a:lnTo>
                      <a:lnTo>
                        <a:pt x="586" y="473"/>
                      </a:lnTo>
                      <a:lnTo>
                        <a:pt x="593" y="466"/>
                      </a:lnTo>
                      <a:lnTo>
                        <a:pt x="594" y="464"/>
                      </a:lnTo>
                      <a:lnTo>
                        <a:pt x="597" y="463"/>
                      </a:lnTo>
                      <a:lnTo>
                        <a:pt x="601" y="460"/>
                      </a:lnTo>
                      <a:lnTo>
                        <a:pt x="617" y="449"/>
                      </a:lnTo>
                      <a:lnTo>
                        <a:pt x="583" y="451"/>
                      </a:lnTo>
                      <a:lnTo>
                        <a:pt x="549" y="452"/>
                      </a:lnTo>
                      <a:lnTo>
                        <a:pt x="521" y="451"/>
                      </a:lnTo>
                      <a:lnTo>
                        <a:pt x="493" y="449"/>
                      </a:lnTo>
                      <a:lnTo>
                        <a:pt x="440" y="442"/>
                      </a:lnTo>
                      <a:lnTo>
                        <a:pt x="389" y="429"/>
                      </a:lnTo>
                      <a:lnTo>
                        <a:pt x="340" y="413"/>
                      </a:lnTo>
                      <a:lnTo>
                        <a:pt x="293" y="390"/>
                      </a:lnTo>
                      <a:lnTo>
                        <a:pt x="248" y="363"/>
                      </a:lnTo>
                      <a:lnTo>
                        <a:pt x="227" y="347"/>
                      </a:lnTo>
                      <a:lnTo>
                        <a:pt x="207" y="330"/>
                      </a:lnTo>
                      <a:lnTo>
                        <a:pt x="167" y="294"/>
                      </a:lnTo>
                      <a:lnTo>
                        <a:pt x="136" y="261"/>
                      </a:lnTo>
                      <a:lnTo>
                        <a:pt x="109" y="227"/>
                      </a:lnTo>
                      <a:lnTo>
                        <a:pt x="85" y="192"/>
                      </a:lnTo>
                      <a:lnTo>
                        <a:pt x="74" y="174"/>
                      </a:lnTo>
                      <a:lnTo>
                        <a:pt x="65" y="157"/>
                      </a:lnTo>
                      <a:lnTo>
                        <a:pt x="55" y="137"/>
                      </a:lnTo>
                      <a:lnTo>
                        <a:pt x="47" y="119"/>
                      </a:lnTo>
                      <a:lnTo>
                        <a:pt x="33" y="81"/>
                      </a:lnTo>
                      <a:lnTo>
                        <a:pt x="26" y="60"/>
                      </a:lnTo>
                      <a:lnTo>
                        <a:pt x="22" y="41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641920" y="3663000"/>
                  <a:ext cx="180000" cy="138600"/>
                </a:xfrm>
                <a:custGeom>
                  <a:avLst/>
                  <a:gdLst/>
                  <a:ahLst/>
                  <a:rect l="l" t="t" r="r" b="b"/>
                  <a:pathLst>
                    <a:path w="629" h="486">
                      <a:moveTo>
                        <a:pt x="18" y="0"/>
                      </a:moveTo>
                      <a:lnTo>
                        <a:pt x="0" y="34"/>
                      </a:lnTo>
                      <a:lnTo>
                        <a:pt x="7" y="75"/>
                      </a:lnTo>
                      <a:lnTo>
                        <a:pt x="11" y="94"/>
                      </a:lnTo>
                      <a:lnTo>
                        <a:pt x="18" y="115"/>
                      </a:lnTo>
                      <a:lnTo>
                        <a:pt x="32" y="153"/>
                      </a:lnTo>
                      <a:lnTo>
                        <a:pt x="40" y="171"/>
                      </a:lnTo>
                      <a:lnTo>
                        <a:pt x="50" y="191"/>
                      </a:lnTo>
                      <a:lnTo>
                        <a:pt x="59" y="208"/>
                      </a:lnTo>
                      <a:lnTo>
                        <a:pt x="70" y="226"/>
                      </a:lnTo>
                      <a:lnTo>
                        <a:pt x="94" y="261"/>
                      </a:lnTo>
                      <a:lnTo>
                        <a:pt x="121" y="295"/>
                      </a:lnTo>
                      <a:lnTo>
                        <a:pt x="152" y="328"/>
                      </a:lnTo>
                      <a:lnTo>
                        <a:pt x="192" y="364"/>
                      </a:lnTo>
                      <a:lnTo>
                        <a:pt x="212" y="381"/>
                      </a:lnTo>
                      <a:lnTo>
                        <a:pt x="233" y="397"/>
                      </a:lnTo>
                      <a:lnTo>
                        <a:pt x="278" y="424"/>
                      </a:lnTo>
                      <a:lnTo>
                        <a:pt x="325" y="447"/>
                      </a:lnTo>
                      <a:lnTo>
                        <a:pt x="374" y="463"/>
                      </a:lnTo>
                      <a:lnTo>
                        <a:pt x="425" y="476"/>
                      </a:lnTo>
                      <a:lnTo>
                        <a:pt x="478" y="483"/>
                      </a:lnTo>
                      <a:lnTo>
                        <a:pt x="506" y="485"/>
                      </a:lnTo>
                      <a:lnTo>
                        <a:pt x="534" y="486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4" y="463"/>
                      </a:lnTo>
                      <a:lnTo>
                        <a:pt x="629" y="457"/>
                      </a:lnTo>
                      <a:lnTo>
                        <a:pt x="582" y="463"/>
                      </a:lnTo>
                      <a:lnTo>
                        <a:pt x="534" y="465"/>
                      </a:lnTo>
                      <a:lnTo>
                        <a:pt x="507" y="464"/>
                      </a:lnTo>
                      <a:lnTo>
                        <a:pt x="481" y="461"/>
                      </a:lnTo>
                      <a:lnTo>
                        <a:pt x="430" y="455"/>
                      </a:lnTo>
                      <a:lnTo>
                        <a:pt x="405" y="449"/>
                      </a:lnTo>
                      <a:lnTo>
                        <a:pt x="381" y="442"/>
                      </a:lnTo>
                      <a:lnTo>
                        <a:pt x="334" y="426"/>
                      </a:lnTo>
                      <a:lnTo>
                        <a:pt x="288" y="404"/>
                      </a:lnTo>
                      <a:lnTo>
                        <a:pt x="246" y="379"/>
                      </a:lnTo>
                      <a:lnTo>
                        <a:pt x="204" y="347"/>
                      </a:lnTo>
                      <a:lnTo>
                        <a:pt x="167" y="313"/>
                      </a:lnTo>
                      <a:lnTo>
                        <a:pt x="150" y="295"/>
                      </a:lnTo>
                      <a:lnTo>
                        <a:pt x="135" y="278"/>
                      </a:lnTo>
                      <a:lnTo>
                        <a:pt x="120" y="260"/>
                      </a:lnTo>
                      <a:lnTo>
                        <a:pt x="108" y="243"/>
                      </a:lnTo>
                      <a:lnTo>
                        <a:pt x="94" y="223"/>
                      </a:lnTo>
                      <a:lnTo>
                        <a:pt x="83" y="205"/>
                      </a:lnTo>
                      <a:lnTo>
                        <a:pt x="63" y="168"/>
                      </a:lnTo>
                      <a:lnTo>
                        <a:pt x="45" y="127"/>
                      </a:lnTo>
                      <a:lnTo>
                        <a:pt x="33" y="86"/>
                      </a:lnTo>
                      <a:lnTo>
                        <a:pt x="23" y="4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647680" y="3653640"/>
                  <a:ext cx="181080" cy="141480"/>
                </a:xfrm>
                <a:custGeom>
                  <a:avLst/>
                  <a:gdLst/>
                  <a:ahLst/>
                  <a:rect l="l" t="t" r="r" b="b"/>
                  <a:pathLst>
                    <a:path w="635" h="496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5" y="74"/>
                      </a:lnTo>
                      <a:lnTo>
                        <a:pt x="15" y="117"/>
                      </a:lnTo>
                      <a:lnTo>
                        <a:pt x="27" y="158"/>
                      </a:lnTo>
                      <a:lnTo>
                        <a:pt x="45" y="199"/>
                      </a:lnTo>
                      <a:lnTo>
                        <a:pt x="65" y="236"/>
                      </a:lnTo>
                      <a:lnTo>
                        <a:pt x="76" y="254"/>
                      </a:lnTo>
                      <a:lnTo>
                        <a:pt x="90" y="274"/>
                      </a:lnTo>
                      <a:lnTo>
                        <a:pt x="102" y="291"/>
                      </a:lnTo>
                      <a:lnTo>
                        <a:pt x="117" y="309"/>
                      </a:lnTo>
                      <a:lnTo>
                        <a:pt x="132" y="326"/>
                      </a:lnTo>
                      <a:lnTo>
                        <a:pt x="149" y="344"/>
                      </a:lnTo>
                      <a:lnTo>
                        <a:pt x="186" y="378"/>
                      </a:lnTo>
                      <a:lnTo>
                        <a:pt x="228" y="410"/>
                      </a:lnTo>
                      <a:lnTo>
                        <a:pt x="270" y="435"/>
                      </a:lnTo>
                      <a:lnTo>
                        <a:pt x="316" y="457"/>
                      </a:lnTo>
                      <a:lnTo>
                        <a:pt x="363" y="473"/>
                      </a:lnTo>
                      <a:lnTo>
                        <a:pt x="387" y="480"/>
                      </a:lnTo>
                      <a:lnTo>
                        <a:pt x="412" y="486"/>
                      </a:lnTo>
                      <a:lnTo>
                        <a:pt x="463" y="492"/>
                      </a:lnTo>
                      <a:lnTo>
                        <a:pt x="489" y="495"/>
                      </a:lnTo>
                      <a:lnTo>
                        <a:pt x="516" y="496"/>
                      </a:lnTo>
                      <a:lnTo>
                        <a:pt x="564" y="494"/>
                      </a:lnTo>
                      <a:lnTo>
                        <a:pt x="611" y="488"/>
                      </a:lnTo>
                      <a:lnTo>
                        <a:pt x="635" y="461"/>
                      </a:lnTo>
                      <a:lnTo>
                        <a:pt x="606" y="466"/>
                      </a:lnTo>
                      <a:lnTo>
                        <a:pt x="576" y="471"/>
                      </a:lnTo>
                      <a:lnTo>
                        <a:pt x="545" y="473"/>
                      </a:lnTo>
                      <a:lnTo>
                        <a:pt x="516" y="474"/>
                      </a:lnTo>
                      <a:lnTo>
                        <a:pt x="465" y="472"/>
                      </a:lnTo>
                      <a:lnTo>
                        <a:pt x="416" y="465"/>
                      </a:lnTo>
                      <a:lnTo>
                        <a:pt x="369" y="454"/>
                      </a:lnTo>
                      <a:lnTo>
                        <a:pt x="324" y="438"/>
                      </a:lnTo>
                      <a:lnTo>
                        <a:pt x="280" y="418"/>
                      </a:lnTo>
                      <a:lnTo>
                        <a:pt x="240" y="393"/>
                      </a:lnTo>
                      <a:lnTo>
                        <a:pt x="201" y="363"/>
                      </a:lnTo>
                      <a:lnTo>
                        <a:pt x="164" y="329"/>
                      </a:lnTo>
                      <a:lnTo>
                        <a:pt x="130" y="293"/>
                      </a:lnTo>
                      <a:lnTo>
                        <a:pt x="116" y="274"/>
                      </a:lnTo>
                      <a:lnTo>
                        <a:pt x="103" y="256"/>
                      </a:lnTo>
                      <a:lnTo>
                        <a:pt x="78" y="217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1" y="92"/>
                      </a:lnTo>
                      <a:lnTo>
                        <a:pt x="22" y="47"/>
                      </a:lnTo>
                      <a:lnTo>
                        <a:pt x="19" y="2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643720" y="3765240"/>
                  <a:ext cx="79200" cy="59760"/>
                </a:xfrm>
                <a:custGeom>
                  <a:avLst/>
                  <a:gdLst/>
                  <a:ahLst/>
                  <a:rect l="l" t="t" r="r" b="b"/>
                  <a:pathLst>
                    <a:path w="276" h="211">
                      <a:moveTo>
                        <a:pt x="54" y="62"/>
                      </a:moveTo>
                      <a:lnTo>
                        <a:pt x="26" y="31"/>
                      </a:lnTo>
                      <a:lnTo>
                        <a:pt x="0" y="0"/>
                      </a:lnTo>
                      <a:lnTo>
                        <a:pt x="14" y="26"/>
                      </a:lnTo>
                      <a:lnTo>
                        <a:pt x="31" y="54"/>
                      </a:lnTo>
                      <a:lnTo>
                        <a:pt x="51" y="79"/>
                      </a:lnTo>
                      <a:lnTo>
                        <a:pt x="74" y="105"/>
                      </a:lnTo>
                      <a:lnTo>
                        <a:pt x="96" y="124"/>
                      </a:lnTo>
                      <a:lnTo>
                        <a:pt x="119" y="143"/>
                      </a:lnTo>
                      <a:lnTo>
                        <a:pt x="142" y="159"/>
                      </a:lnTo>
                      <a:lnTo>
                        <a:pt x="167" y="174"/>
                      </a:lnTo>
                      <a:lnTo>
                        <a:pt x="192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6" y="211"/>
                      </a:lnTo>
                      <a:lnTo>
                        <a:pt x="246" y="198"/>
                      </a:lnTo>
                      <a:lnTo>
                        <a:pt x="216" y="183"/>
                      </a:lnTo>
                      <a:lnTo>
                        <a:pt x="187" y="166"/>
                      </a:lnTo>
                      <a:lnTo>
                        <a:pt x="159" y="149"/>
                      </a:lnTo>
                      <a:lnTo>
                        <a:pt x="131" y="128"/>
                      </a:lnTo>
                      <a:lnTo>
                        <a:pt x="105" y="108"/>
                      </a:lnTo>
                      <a:lnTo>
                        <a:pt x="79" y="85"/>
                      </a:lnTo>
                      <a:lnTo>
                        <a:pt x="54" y="62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36160" y="3743280"/>
                  <a:ext cx="111240" cy="83160"/>
                </a:xfrm>
                <a:custGeom>
                  <a:avLst/>
                  <a:gdLst/>
                  <a:ahLst/>
                  <a:rect l="l" t="t" r="r" b="b"/>
                  <a:pathLst>
                    <a:path w="392" h="293">
                      <a:moveTo>
                        <a:pt x="28" y="76"/>
                      </a:moveTo>
                      <a:lnTo>
                        <a:pt x="54" y="107"/>
                      </a:lnTo>
                      <a:lnTo>
                        <a:pt x="82" y="138"/>
                      </a:lnTo>
                      <a:lnTo>
                        <a:pt x="107" y="161"/>
                      </a:lnTo>
                      <a:lnTo>
                        <a:pt x="133" y="184"/>
                      </a:lnTo>
                      <a:lnTo>
                        <a:pt x="159" y="204"/>
                      </a:lnTo>
                      <a:lnTo>
                        <a:pt x="187" y="225"/>
                      </a:lnTo>
                      <a:lnTo>
                        <a:pt x="215" y="242"/>
                      </a:lnTo>
                      <a:lnTo>
                        <a:pt x="244" y="259"/>
                      </a:lnTo>
                      <a:lnTo>
                        <a:pt x="274" y="274"/>
                      </a:lnTo>
                      <a:lnTo>
                        <a:pt x="304" y="287"/>
                      </a:lnTo>
                      <a:lnTo>
                        <a:pt x="337" y="291"/>
                      </a:lnTo>
                      <a:lnTo>
                        <a:pt x="373" y="293"/>
                      </a:lnTo>
                      <a:lnTo>
                        <a:pt x="392" y="293"/>
                      </a:lnTo>
                      <a:lnTo>
                        <a:pt x="350" y="280"/>
                      </a:lnTo>
                      <a:lnTo>
                        <a:pt x="310" y="266"/>
                      </a:lnTo>
                      <a:lnTo>
                        <a:pt x="271" y="248"/>
                      </a:lnTo>
                      <a:lnTo>
                        <a:pt x="235" y="228"/>
                      </a:lnTo>
                      <a:lnTo>
                        <a:pt x="198" y="204"/>
                      </a:lnTo>
                      <a:lnTo>
                        <a:pt x="163" y="181"/>
                      </a:lnTo>
                      <a:lnTo>
                        <a:pt x="128" y="152"/>
                      </a:lnTo>
                      <a:lnTo>
                        <a:pt x="97" y="123"/>
                      </a:lnTo>
                      <a:lnTo>
                        <a:pt x="68" y="92"/>
                      </a:lnTo>
                      <a:lnTo>
                        <a:pt x="43" y="63"/>
                      </a:lnTo>
                      <a:lnTo>
                        <a:pt x="20" y="31"/>
                      </a:lnTo>
                      <a:lnTo>
                        <a:pt x="0" y="0"/>
                      </a:lnTo>
                      <a:lnTo>
                        <a:pt x="12" y="39"/>
                      </a:lnTo>
                      <a:lnTo>
                        <a:pt x="19" y="57"/>
                      </a:lnTo>
                      <a:lnTo>
                        <a:pt x="28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633280" y="372636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9" h="353">
                      <a:moveTo>
                        <a:pt x="9" y="60"/>
                      </a:moveTo>
                      <a:lnTo>
                        <a:pt x="29" y="91"/>
                      </a:lnTo>
                      <a:lnTo>
                        <a:pt x="52" y="123"/>
                      </a:lnTo>
                      <a:lnTo>
                        <a:pt x="77" y="152"/>
                      </a:lnTo>
                      <a:lnTo>
                        <a:pt x="106" y="183"/>
                      </a:lnTo>
                      <a:lnTo>
                        <a:pt x="137" y="212"/>
                      </a:lnTo>
                      <a:lnTo>
                        <a:pt x="172" y="241"/>
                      </a:lnTo>
                      <a:lnTo>
                        <a:pt x="207" y="264"/>
                      </a:lnTo>
                      <a:lnTo>
                        <a:pt x="244" y="288"/>
                      </a:lnTo>
                      <a:lnTo>
                        <a:pt x="280" y="308"/>
                      </a:lnTo>
                      <a:lnTo>
                        <a:pt x="319" y="326"/>
                      </a:lnTo>
                      <a:lnTo>
                        <a:pt x="359" y="340"/>
                      </a:lnTo>
                      <a:lnTo>
                        <a:pt x="401" y="353"/>
                      </a:lnTo>
                      <a:lnTo>
                        <a:pt x="435" y="349"/>
                      </a:lnTo>
                      <a:lnTo>
                        <a:pt x="469" y="344"/>
                      </a:lnTo>
                      <a:lnTo>
                        <a:pt x="419" y="334"/>
                      </a:lnTo>
                      <a:lnTo>
                        <a:pt x="371" y="321"/>
                      </a:lnTo>
                      <a:lnTo>
                        <a:pt x="325" y="304"/>
                      </a:lnTo>
                      <a:lnTo>
                        <a:pt x="281" y="285"/>
                      </a:lnTo>
                      <a:lnTo>
                        <a:pt x="238" y="260"/>
                      </a:lnTo>
                      <a:lnTo>
                        <a:pt x="198" y="233"/>
                      </a:lnTo>
                      <a:lnTo>
                        <a:pt x="158" y="201"/>
                      </a:lnTo>
                      <a:lnTo>
                        <a:pt x="122" y="167"/>
                      </a:lnTo>
                      <a:lnTo>
                        <a:pt x="84" y="127"/>
                      </a:lnTo>
                      <a:lnTo>
                        <a:pt x="52" y="86"/>
                      </a:lnTo>
                      <a:lnTo>
                        <a:pt x="23" y="43"/>
                      </a:lnTo>
                      <a:lnTo>
                        <a:pt x="0" y="0"/>
                      </a:lnTo>
                      <a:lnTo>
                        <a:pt x="4" y="30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633280" y="3607560"/>
                  <a:ext cx="218880" cy="219240"/>
                </a:xfrm>
                <a:custGeom>
                  <a:avLst/>
                  <a:gdLst/>
                  <a:ahLst/>
                  <a:rect l="l" t="t" r="r" b="b"/>
                  <a:pathLst>
                    <a:path w="768" h="768">
                      <a:moveTo>
                        <a:pt x="383" y="0"/>
                      </a:moveTo>
                      <a:lnTo>
                        <a:pt x="344" y="1"/>
                      </a:lnTo>
                      <a:lnTo>
                        <a:pt x="306" y="7"/>
                      </a:lnTo>
                      <a:lnTo>
                        <a:pt x="270" y="15"/>
                      </a:lnTo>
                      <a:lnTo>
                        <a:pt x="236" y="27"/>
                      </a:lnTo>
                      <a:lnTo>
                        <a:pt x="202" y="42"/>
                      </a:lnTo>
                      <a:lnTo>
                        <a:pt x="170" y="63"/>
                      </a:lnTo>
                      <a:lnTo>
                        <a:pt x="140" y="85"/>
                      </a:lnTo>
                      <a:lnTo>
                        <a:pt x="112" y="113"/>
                      </a:lnTo>
                      <a:lnTo>
                        <a:pt x="85" y="140"/>
                      </a:lnTo>
                      <a:lnTo>
                        <a:pt x="63" y="170"/>
                      </a:lnTo>
                      <a:lnTo>
                        <a:pt x="42" y="202"/>
                      </a:lnTo>
                      <a:lnTo>
                        <a:pt x="27" y="236"/>
                      </a:lnTo>
                      <a:lnTo>
                        <a:pt x="15" y="270"/>
                      </a:lnTo>
                      <a:lnTo>
                        <a:pt x="7" y="306"/>
                      </a:lnTo>
                      <a:lnTo>
                        <a:pt x="1" y="344"/>
                      </a:lnTo>
                      <a:lnTo>
                        <a:pt x="0" y="384"/>
                      </a:lnTo>
                      <a:lnTo>
                        <a:pt x="1" y="422"/>
                      </a:lnTo>
                      <a:lnTo>
                        <a:pt x="7" y="459"/>
                      </a:lnTo>
                      <a:lnTo>
                        <a:pt x="15" y="496"/>
                      </a:lnTo>
                      <a:lnTo>
                        <a:pt x="27" y="531"/>
                      </a:lnTo>
                      <a:lnTo>
                        <a:pt x="42" y="564"/>
                      </a:lnTo>
                      <a:lnTo>
                        <a:pt x="63" y="596"/>
                      </a:lnTo>
                      <a:lnTo>
                        <a:pt x="73" y="610"/>
                      </a:lnTo>
                      <a:lnTo>
                        <a:pt x="85" y="626"/>
                      </a:lnTo>
                      <a:lnTo>
                        <a:pt x="112" y="656"/>
                      </a:lnTo>
                      <a:lnTo>
                        <a:pt x="140" y="681"/>
                      </a:lnTo>
                      <a:lnTo>
                        <a:pt x="170" y="703"/>
                      </a:lnTo>
                      <a:lnTo>
                        <a:pt x="202" y="723"/>
                      </a:lnTo>
                      <a:lnTo>
                        <a:pt x="236" y="740"/>
                      </a:lnTo>
                      <a:lnTo>
                        <a:pt x="270" y="751"/>
                      </a:lnTo>
                      <a:lnTo>
                        <a:pt x="306" y="760"/>
                      </a:lnTo>
                      <a:lnTo>
                        <a:pt x="344" y="766"/>
                      </a:lnTo>
                      <a:lnTo>
                        <a:pt x="383" y="768"/>
                      </a:lnTo>
                      <a:lnTo>
                        <a:pt x="422" y="766"/>
                      </a:lnTo>
                      <a:lnTo>
                        <a:pt x="440" y="762"/>
                      </a:lnTo>
                      <a:lnTo>
                        <a:pt x="459" y="760"/>
                      </a:lnTo>
                      <a:lnTo>
                        <a:pt x="496" y="751"/>
                      </a:lnTo>
                      <a:lnTo>
                        <a:pt x="499" y="749"/>
                      </a:lnTo>
                      <a:lnTo>
                        <a:pt x="504" y="747"/>
                      </a:lnTo>
                      <a:lnTo>
                        <a:pt x="513" y="745"/>
                      </a:lnTo>
                      <a:lnTo>
                        <a:pt x="531" y="740"/>
                      </a:lnTo>
                      <a:lnTo>
                        <a:pt x="547" y="730"/>
                      </a:lnTo>
                      <a:lnTo>
                        <a:pt x="555" y="726"/>
                      </a:lnTo>
                      <a:lnTo>
                        <a:pt x="564" y="723"/>
                      </a:lnTo>
                      <a:lnTo>
                        <a:pt x="595" y="703"/>
                      </a:lnTo>
                      <a:lnTo>
                        <a:pt x="610" y="692"/>
                      </a:lnTo>
                      <a:lnTo>
                        <a:pt x="626" y="681"/>
                      </a:lnTo>
                      <a:lnTo>
                        <a:pt x="656" y="656"/>
                      </a:lnTo>
                      <a:lnTo>
                        <a:pt x="680" y="626"/>
                      </a:lnTo>
                      <a:lnTo>
                        <a:pt x="692" y="610"/>
                      </a:lnTo>
                      <a:lnTo>
                        <a:pt x="703" y="596"/>
                      </a:lnTo>
                      <a:lnTo>
                        <a:pt x="722" y="564"/>
                      </a:lnTo>
                      <a:lnTo>
                        <a:pt x="726" y="555"/>
                      </a:lnTo>
                      <a:lnTo>
                        <a:pt x="730" y="547"/>
                      </a:lnTo>
                      <a:lnTo>
                        <a:pt x="739" y="531"/>
                      </a:lnTo>
                      <a:lnTo>
                        <a:pt x="745" y="513"/>
                      </a:lnTo>
                      <a:lnTo>
                        <a:pt x="747" y="504"/>
                      </a:lnTo>
                      <a:lnTo>
                        <a:pt x="748" y="499"/>
                      </a:lnTo>
                      <a:lnTo>
                        <a:pt x="751" y="496"/>
                      </a:lnTo>
                      <a:lnTo>
                        <a:pt x="760" y="459"/>
                      </a:lnTo>
                      <a:lnTo>
                        <a:pt x="762" y="440"/>
                      </a:lnTo>
                      <a:lnTo>
                        <a:pt x="765" y="422"/>
                      </a:lnTo>
                      <a:lnTo>
                        <a:pt x="768" y="384"/>
                      </a:lnTo>
                      <a:lnTo>
                        <a:pt x="765" y="344"/>
                      </a:lnTo>
                      <a:lnTo>
                        <a:pt x="760" y="306"/>
                      </a:lnTo>
                      <a:lnTo>
                        <a:pt x="751" y="270"/>
                      </a:lnTo>
                      <a:lnTo>
                        <a:pt x="739" y="236"/>
                      </a:lnTo>
                      <a:lnTo>
                        <a:pt x="722" y="202"/>
                      </a:lnTo>
                      <a:lnTo>
                        <a:pt x="703" y="170"/>
                      </a:lnTo>
                      <a:lnTo>
                        <a:pt x="680" y="140"/>
                      </a:lnTo>
                      <a:lnTo>
                        <a:pt x="656" y="113"/>
                      </a:lnTo>
                      <a:lnTo>
                        <a:pt x="626" y="85"/>
                      </a:lnTo>
                      <a:lnTo>
                        <a:pt x="610" y="73"/>
                      </a:lnTo>
                      <a:lnTo>
                        <a:pt x="595" y="63"/>
                      </a:lnTo>
                      <a:lnTo>
                        <a:pt x="564" y="42"/>
                      </a:lnTo>
                      <a:lnTo>
                        <a:pt x="531" y="27"/>
                      </a:lnTo>
                      <a:lnTo>
                        <a:pt x="496" y="15"/>
                      </a:lnTo>
                      <a:lnTo>
                        <a:pt x="459" y="7"/>
                      </a:lnTo>
                      <a:lnTo>
                        <a:pt x="422" y="1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691600" y="3707280"/>
                  <a:ext cx="1011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97360" y="3713040"/>
                  <a:ext cx="89640" cy="13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68960" y="2889360"/>
                  <a:ext cx="9468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6">
                      <a:moveTo>
                        <a:pt x="66" y="26"/>
                      </a:moveTo>
                      <a:lnTo>
                        <a:pt x="92" y="5"/>
                      </a:lnTo>
                      <a:lnTo>
                        <a:pt x="62" y="0"/>
                      </a:lnTo>
                      <a:lnTo>
                        <a:pt x="51" y="11"/>
                      </a:lnTo>
                      <a:lnTo>
                        <a:pt x="27" y="37"/>
                      </a:lnTo>
                      <a:lnTo>
                        <a:pt x="18" y="51"/>
                      </a:lnTo>
                      <a:lnTo>
                        <a:pt x="13" y="67"/>
                      </a:lnTo>
                      <a:lnTo>
                        <a:pt x="6" y="81"/>
                      </a:lnTo>
                      <a:lnTo>
                        <a:pt x="2" y="98"/>
                      </a:lnTo>
                      <a:lnTo>
                        <a:pt x="0" y="133"/>
                      </a:lnTo>
                      <a:lnTo>
                        <a:pt x="0" y="149"/>
                      </a:lnTo>
                      <a:lnTo>
                        <a:pt x="2" y="166"/>
                      </a:lnTo>
                      <a:lnTo>
                        <a:pt x="6" y="182"/>
                      </a:lnTo>
                      <a:lnTo>
                        <a:pt x="13" y="199"/>
                      </a:lnTo>
                      <a:lnTo>
                        <a:pt x="18" y="213"/>
                      </a:lnTo>
                      <a:lnTo>
                        <a:pt x="27" y="228"/>
                      </a:lnTo>
                      <a:lnTo>
                        <a:pt x="38" y="241"/>
                      </a:lnTo>
                      <a:lnTo>
                        <a:pt x="51" y="255"/>
                      </a:lnTo>
                      <a:lnTo>
                        <a:pt x="64" y="266"/>
                      </a:lnTo>
                      <a:lnTo>
                        <a:pt x="77" y="276"/>
                      </a:lnTo>
                      <a:lnTo>
                        <a:pt x="91" y="284"/>
                      </a:lnTo>
                      <a:lnTo>
                        <a:pt x="107" y="292"/>
                      </a:lnTo>
                      <a:lnTo>
                        <a:pt x="121" y="298"/>
                      </a:lnTo>
                      <a:lnTo>
                        <a:pt x="138" y="302"/>
                      </a:lnTo>
                      <a:lnTo>
                        <a:pt x="155" y="305"/>
                      </a:lnTo>
                      <a:lnTo>
                        <a:pt x="174" y="306"/>
                      </a:lnTo>
                      <a:lnTo>
                        <a:pt x="189" y="305"/>
                      </a:lnTo>
                      <a:lnTo>
                        <a:pt x="206" y="302"/>
                      </a:lnTo>
                      <a:lnTo>
                        <a:pt x="222" y="298"/>
                      </a:lnTo>
                      <a:lnTo>
                        <a:pt x="226" y="296"/>
                      </a:lnTo>
                      <a:lnTo>
                        <a:pt x="230" y="294"/>
                      </a:lnTo>
                      <a:lnTo>
                        <a:pt x="239" y="292"/>
                      </a:lnTo>
                      <a:lnTo>
                        <a:pt x="253" y="284"/>
                      </a:lnTo>
                      <a:lnTo>
                        <a:pt x="260" y="280"/>
                      </a:lnTo>
                      <a:lnTo>
                        <a:pt x="263" y="277"/>
                      </a:lnTo>
                      <a:lnTo>
                        <a:pt x="268" y="276"/>
                      </a:lnTo>
                      <a:lnTo>
                        <a:pt x="281" y="266"/>
                      </a:lnTo>
                      <a:lnTo>
                        <a:pt x="296" y="255"/>
                      </a:lnTo>
                      <a:lnTo>
                        <a:pt x="307" y="241"/>
                      </a:lnTo>
                      <a:lnTo>
                        <a:pt x="312" y="234"/>
                      </a:lnTo>
                      <a:lnTo>
                        <a:pt x="314" y="231"/>
                      </a:lnTo>
                      <a:lnTo>
                        <a:pt x="318" y="229"/>
                      </a:lnTo>
                      <a:lnTo>
                        <a:pt x="319" y="224"/>
                      </a:lnTo>
                      <a:lnTo>
                        <a:pt x="321" y="221"/>
                      </a:lnTo>
                      <a:lnTo>
                        <a:pt x="326" y="214"/>
                      </a:lnTo>
                      <a:lnTo>
                        <a:pt x="333" y="200"/>
                      </a:lnTo>
                      <a:lnTo>
                        <a:pt x="326" y="187"/>
                      </a:lnTo>
                      <a:lnTo>
                        <a:pt x="319" y="175"/>
                      </a:lnTo>
                      <a:lnTo>
                        <a:pt x="314" y="183"/>
                      </a:lnTo>
                      <a:lnTo>
                        <a:pt x="311" y="192"/>
                      </a:lnTo>
                      <a:lnTo>
                        <a:pt x="306" y="200"/>
                      </a:lnTo>
                      <a:lnTo>
                        <a:pt x="303" y="209"/>
                      </a:lnTo>
                      <a:lnTo>
                        <a:pt x="297" y="216"/>
                      </a:lnTo>
                      <a:lnTo>
                        <a:pt x="293" y="224"/>
                      </a:lnTo>
                      <a:lnTo>
                        <a:pt x="280" y="240"/>
                      </a:lnTo>
                      <a:lnTo>
                        <a:pt x="268" y="249"/>
                      </a:lnTo>
                      <a:lnTo>
                        <a:pt x="256" y="258"/>
                      </a:lnTo>
                      <a:lnTo>
                        <a:pt x="243" y="266"/>
                      </a:lnTo>
                      <a:lnTo>
                        <a:pt x="230" y="273"/>
                      </a:lnTo>
                      <a:lnTo>
                        <a:pt x="216" y="277"/>
                      </a:lnTo>
                      <a:lnTo>
                        <a:pt x="202" y="281"/>
                      </a:lnTo>
                      <a:lnTo>
                        <a:pt x="187" y="283"/>
                      </a:lnTo>
                      <a:lnTo>
                        <a:pt x="174" y="284"/>
                      </a:lnTo>
                      <a:lnTo>
                        <a:pt x="158" y="283"/>
                      </a:lnTo>
                      <a:lnTo>
                        <a:pt x="143" y="281"/>
                      </a:lnTo>
                      <a:lnTo>
                        <a:pt x="128" y="277"/>
                      </a:lnTo>
                      <a:lnTo>
                        <a:pt x="115" y="273"/>
                      </a:lnTo>
                      <a:lnTo>
                        <a:pt x="101" y="266"/>
                      </a:lnTo>
                      <a:lnTo>
                        <a:pt x="89" y="258"/>
                      </a:lnTo>
                      <a:lnTo>
                        <a:pt x="66" y="240"/>
                      </a:lnTo>
                      <a:lnTo>
                        <a:pt x="55" y="228"/>
                      </a:lnTo>
                      <a:lnTo>
                        <a:pt x="45" y="216"/>
                      </a:lnTo>
                      <a:lnTo>
                        <a:pt x="38" y="203"/>
                      </a:lnTo>
                      <a:lnTo>
                        <a:pt x="32" y="190"/>
                      </a:lnTo>
                      <a:lnTo>
                        <a:pt x="26" y="175"/>
                      </a:lnTo>
                      <a:lnTo>
                        <a:pt x="24" y="162"/>
                      </a:lnTo>
                      <a:lnTo>
                        <a:pt x="22" y="147"/>
                      </a:lnTo>
                      <a:lnTo>
                        <a:pt x="22" y="133"/>
                      </a:lnTo>
                      <a:lnTo>
                        <a:pt x="24" y="103"/>
                      </a:lnTo>
                      <a:lnTo>
                        <a:pt x="32" y="75"/>
                      </a:lnTo>
                      <a:lnTo>
                        <a:pt x="45" y="48"/>
                      </a:lnTo>
                      <a:lnTo>
                        <a:pt x="55" y="36"/>
                      </a:lnTo>
                      <a:lnTo>
                        <a:pt x="66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74360" y="2891160"/>
                  <a:ext cx="84960" cy="7992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0" y="0"/>
                      </a:moveTo>
                      <a:lnTo>
                        <a:pt x="44" y="21"/>
                      </a:lnTo>
                      <a:lnTo>
                        <a:pt x="33" y="31"/>
                      </a:lnTo>
                      <a:lnTo>
                        <a:pt x="23" y="43"/>
                      </a:lnTo>
                      <a:lnTo>
                        <a:pt x="10" y="70"/>
                      </a:lnTo>
                      <a:lnTo>
                        <a:pt x="2" y="98"/>
                      </a:lnTo>
                      <a:lnTo>
                        <a:pt x="0" y="128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4" y="170"/>
                      </a:lnTo>
                      <a:lnTo>
                        <a:pt x="10" y="185"/>
                      </a:lnTo>
                      <a:lnTo>
                        <a:pt x="16" y="198"/>
                      </a:lnTo>
                      <a:lnTo>
                        <a:pt x="23" y="211"/>
                      </a:lnTo>
                      <a:lnTo>
                        <a:pt x="33" y="223"/>
                      </a:lnTo>
                      <a:lnTo>
                        <a:pt x="44" y="235"/>
                      </a:lnTo>
                      <a:lnTo>
                        <a:pt x="67" y="253"/>
                      </a:lnTo>
                      <a:lnTo>
                        <a:pt x="79" y="261"/>
                      </a:lnTo>
                      <a:lnTo>
                        <a:pt x="93" y="268"/>
                      </a:lnTo>
                      <a:lnTo>
                        <a:pt x="106" y="272"/>
                      </a:lnTo>
                      <a:lnTo>
                        <a:pt x="121" y="276"/>
                      </a:lnTo>
                      <a:lnTo>
                        <a:pt x="136" y="278"/>
                      </a:lnTo>
                      <a:lnTo>
                        <a:pt x="152" y="279"/>
                      </a:lnTo>
                      <a:lnTo>
                        <a:pt x="165" y="278"/>
                      </a:lnTo>
                      <a:lnTo>
                        <a:pt x="180" y="276"/>
                      </a:lnTo>
                      <a:lnTo>
                        <a:pt x="194" y="272"/>
                      </a:lnTo>
                      <a:lnTo>
                        <a:pt x="208" y="268"/>
                      </a:lnTo>
                      <a:lnTo>
                        <a:pt x="221" y="261"/>
                      </a:lnTo>
                      <a:lnTo>
                        <a:pt x="234" y="253"/>
                      </a:lnTo>
                      <a:lnTo>
                        <a:pt x="246" y="244"/>
                      </a:lnTo>
                      <a:lnTo>
                        <a:pt x="258" y="235"/>
                      </a:lnTo>
                      <a:lnTo>
                        <a:pt x="271" y="219"/>
                      </a:lnTo>
                      <a:lnTo>
                        <a:pt x="275" y="211"/>
                      </a:lnTo>
                      <a:lnTo>
                        <a:pt x="281" y="204"/>
                      </a:lnTo>
                      <a:lnTo>
                        <a:pt x="284" y="195"/>
                      </a:lnTo>
                      <a:lnTo>
                        <a:pt x="289" y="187"/>
                      </a:lnTo>
                      <a:lnTo>
                        <a:pt x="292" y="178"/>
                      </a:lnTo>
                      <a:lnTo>
                        <a:pt x="297" y="170"/>
                      </a:lnTo>
                      <a:lnTo>
                        <a:pt x="280" y="145"/>
                      </a:lnTo>
                      <a:lnTo>
                        <a:pt x="276" y="155"/>
                      </a:lnTo>
                      <a:lnTo>
                        <a:pt x="274" y="165"/>
                      </a:lnTo>
                      <a:lnTo>
                        <a:pt x="271" y="174"/>
                      </a:lnTo>
                      <a:lnTo>
                        <a:pt x="268" y="178"/>
                      </a:lnTo>
                      <a:lnTo>
                        <a:pt x="267" y="181"/>
                      </a:lnTo>
                      <a:lnTo>
                        <a:pt x="267" y="184"/>
                      </a:lnTo>
                      <a:lnTo>
                        <a:pt x="256" y="202"/>
                      </a:lnTo>
                      <a:lnTo>
                        <a:pt x="249" y="210"/>
                      </a:lnTo>
                      <a:lnTo>
                        <a:pt x="243" y="219"/>
                      </a:lnTo>
                      <a:lnTo>
                        <a:pt x="232" y="227"/>
                      </a:lnTo>
                      <a:lnTo>
                        <a:pt x="230" y="227"/>
                      </a:lnTo>
                      <a:lnTo>
                        <a:pt x="229" y="227"/>
                      </a:lnTo>
                      <a:lnTo>
                        <a:pt x="229" y="228"/>
                      </a:lnTo>
                      <a:lnTo>
                        <a:pt x="226" y="231"/>
                      </a:lnTo>
                      <a:lnTo>
                        <a:pt x="222" y="235"/>
                      </a:lnTo>
                      <a:lnTo>
                        <a:pt x="211" y="242"/>
                      </a:lnTo>
                      <a:lnTo>
                        <a:pt x="205" y="244"/>
                      </a:lnTo>
                      <a:lnTo>
                        <a:pt x="200" y="248"/>
                      </a:lnTo>
                      <a:lnTo>
                        <a:pt x="194" y="249"/>
                      </a:lnTo>
                      <a:lnTo>
                        <a:pt x="188" y="251"/>
                      </a:lnTo>
                      <a:lnTo>
                        <a:pt x="177" y="254"/>
                      </a:lnTo>
                      <a:lnTo>
                        <a:pt x="163" y="257"/>
                      </a:lnTo>
                      <a:lnTo>
                        <a:pt x="152" y="258"/>
                      </a:lnTo>
                      <a:lnTo>
                        <a:pt x="138" y="257"/>
                      </a:lnTo>
                      <a:lnTo>
                        <a:pt x="124" y="254"/>
                      </a:lnTo>
                      <a:lnTo>
                        <a:pt x="101" y="248"/>
                      </a:lnTo>
                      <a:lnTo>
                        <a:pt x="89" y="242"/>
                      </a:lnTo>
                      <a:lnTo>
                        <a:pt x="79" y="235"/>
                      </a:lnTo>
                      <a:lnTo>
                        <a:pt x="60" y="219"/>
                      </a:lnTo>
                      <a:lnTo>
                        <a:pt x="42" y="199"/>
                      </a:lnTo>
                      <a:lnTo>
                        <a:pt x="35" y="187"/>
                      </a:lnTo>
                      <a:lnTo>
                        <a:pt x="30" y="177"/>
                      </a:lnTo>
                      <a:lnTo>
                        <a:pt x="26" y="165"/>
                      </a:lnTo>
                      <a:lnTo>
                        <a:pt x="23" y="153"/>
                      </a:lnTo>
                      <a:lnTo>
                        <a:pt x="21" y="128"/>
                      </a:lnTo>
                      <a:lnTo>
                        <a:pt x="23" y="101"/>
                      </a:lnTo>
                      <a:lnTo>
                        <a:pt x="30" y="77"/>
                      </a:lnTo>
                      <a:lnTo>
                        <a:pt x="42" y="56"/>
                      </a:lnTo>
                      <a:lnTo>
                        <a:pt x="60" y="37"/>
                      </a:lnTo>
                      <a:lnTo>
                        <a:pt x="77" y="21"/>
                      </a:lnTo>
                      <a:lnTo>
                        <a:pt x="98" y="9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62480" y="2888640"/>
                  <a:ext cx="104400" cy="93960"/>
                </a:xfrm>
                <a:custGeom>
                  <a:avLst/>
                  <a:gdLst/>
                  <a:ahLst/>
                  <a:rect l="l" t="t" r="r" b="b"/>
                  <a:pathLst>
                    <a:path w="366" h="331">
                      <a:moveTo>
                        <a:pt x="72" y="15"/>
                      </a:moveTo>
                      <a:lnTo>
                        <a:pt x="83" y="4"/>
                      </a:lnTo>
                      <a:lnTo>
                        <a:pt x="56" y="0"/>
                      </a:lnTo>
                      <a:lnTo>
                        <a:pt x="42" y="14"/>
                      </a:lnTo>
                      <a:lnTo>
                        <a:pt x="30" y="30"/>
                      </a:lnTo>
                      <a:lnTo>
                        <a:pt x="13" y="63"/>
                      </a:lnTo>
                      <a:lnTo>
                        <a:pt x="3" y="98"/>
                      </a:lnTo>
                      <a:lnTo>
                        <a:pt x="0" y="137"/>
                      </a:lnTo>
                      <a:lnTo>
                        <a:pt x="0" y="156"/>
                      </a:lnTo>
                      <a:lnTo>
                        <a:pt x="3" y="175"/>
                      </a:lnTo>
                      <a:lnTo>
                        <a:pt x="6" y="193"/>
                      </a:lnTo>
                      <a:lnTo>
                        <a:pt x="13" y="211"/>
                      </a:lnTo>
                      <a:lnTo>
                        <a:pt x="20" y="227"/>
                      </a:lnTo>
                      <a:lnTo>
                        <a:pt x="30" y="244"/>
                      </a:lnTo>
                      <a:lnTo>
                        <a:pt x="42" y="259"/>
                      </a:lnTo>
                      <a:lnTo>
                        <a:pt x="56" y="275"/>
                      </a:lnTo>
                      <a:lnTo>
                        <a:pt x="70" y="287"/>
                      </a:lnTo>
                      <a:lnTo>
                        <a:pt x="86" y="298"/>
                      </a:lnTo>
                      <a:lnTo>
                        <a:pt x="102" y="309"/>
                      </a:lnTo>
                      <a:lnTo>
                        <a:pt x="119" y="317"/>
                      </a:lnTo>
                      <a:lnTo>
                        <a:pt x="136" y="322"/>
                      </a:lnTo>
                      <a:lnTo>
                        <a:pt x="155" y="327"/>
                      </a:lnTo>
                      <a:lnTo>
                        <a:pt x="174" y="330"/>
                      </a:lnTo>
                      <a:lnTo>
                        <a:pt x="195" y="331"/>
                      </a:lnTo>
                      <a:lnTo>
                        <a:pt x="213" y="330"/>
                      </a:lnTo>
                      <a:lnTo>
                        <a:pt x="222" y="328"/>
                      </a:lnTo>
                      <a:lnTo>
                        <a:pt x="226" y="327"/>
                      </a:lnTo>
                      <a:lnTo>
                        <a:pt x="232" y="327"/>
                      </a:lnTo>
                      <a:lnTo>
                        <a:pt x="250" y="322"/>
                      </a:lnTo>
                      <a:lnTo>
                        <a:pt x="268" y="317"/>
                      </a:lnTo>
                      <a:lnTo>
                        <a:pt x="284" y="309"/>
                      </a:lnTo>
                      <a:lnTo>
                        <a:pt x="285" y="306"/>
                      </a:lnTo>
                      <a:lnTo>
                        <a:pt x="288" y="305"/>
                      </a:lnTo>
                      <a:lnTo>
                        <a:pt x="292" y="303"/>
                      </a:lnTo>
                      <a:lnTo>
                        <a:pt x="301" y="298"/>
                      </a:lnTo>
                      <a:lnTo>
                        <a:pt x="316" y="287"/>
                      </a:lnTo>
                      <a:lnTo>
                        <a:pt x="332" y="275"/>
                      </a:lnTo>
                      <a:lnTo>
                        <a:pt x="350" y="252"/>
                      </a:lnTo>
                      <a:lnTo>
                        <a:pt x="366" y="229"/>
                      </a:lnTo>
                      <a:lnTo>
                        <a:pt x="354" y="204"/>
                      </a:lnTo>
                      <a:lnTo>
                        <a:pt x="347" y="218"/>
                      </a:lnTo>
                      <a:lnTo>
                        <a:pt x="342" y="225"/>
                      </a:lnTo>
                      <a:lnTo>
                        <a:pt x="340" y="228"/>
                      </a:lnTo>
                      <a:lnTo>
                        <a:pt x="339" y="233"/>
                      </a:lnTo>
                      <a:lnTo>
                        <a:pt x="335" y="235"/>
                      </a:lnTo>
                      <a:lnTo>
                        <a:pt x="333" y="238"/>
                      </a:lnTo>
                      <a:lnTo>
                        <a:pt x="328" y="245"/>
                      </a:lnTo>
                      <a:lnTo>
                        <a:pt x="317" y="259"/>
                      </a:lnTo>
                      <a:lnTo>
                        <a:pt x="302" y="270"/>
                      </a:lnTo>
                      <a:lnTo>
                        <a:pt x="289" y="280"/>
                      </a:lnTo>
                      <a:lnTo>
                        <a:pt x="284" y="281"/>
                      </a:lnTo>
                      <a:lnTo>
                        <a:pt x="281" y="284"/>
                      </a:lnTo>
                      <a:lnTo>
                        <a:pt x="274" y="288"/>
                      </a:lnTo>
                      <a:lnTo>
                        <a:pt x="260" y="296"/>
                      </a:lnTo>
                      <a:lnTo>
                        <a:pt x="251" y="298"/>
                      </a:lnTo>
                      <a:lnTo>
                        <a:pt x="247" y="300"/>
                      </a:lnTo>
                      <a:lnTo>
                        <a:pt x="243" y="302"/>
                      </a:lnTo>
                      <a:lnTo>
                        <a:pt x="227" y="306"/>
                      </a:lnTo>
                      <a:lnTo>
                        <a:pt x="210" y="309"/>
                      </a:lnTo>
                      <a:lnTo>
                        <a:pt x="195" y="310"/>
                      </a:lnTo>
                      <a:lnTo>
                        <a:pt x="176" y="309"/>
                      </a:lnTo>
                      <a:lnTo>
                        <a:pt x="159" y="306"/>
                      </a:lnTo>
                      <a:lnTo>
                        <a:pt x="142" y="302"/>
                      </a:lnTo>
                      <a:lnTo>
                        <a:pt x="128" y="296"/>
                      </a:lnTo>
                      <a:lnTo>
                        <a:pt x="112" y="288"/>
                      </a:lnTo>
                      <a:lnTo>
                        <a:pt x="98" y="280"/>
                      </a:lnTo>
                      <a:lnTo>
                        <a:pt x="85" y="270"/>
                      </a:lnTo>
                      <a:lnTo>
                        <a:pt x="72" y="259"/>
                      </a:lnTo>
                      <a:lnTo>
                        <a:pt x="59" y="245"/>
                      </a:lnTo>
                      <a:lnTo>
                        <a:pt x="48" y="232"/>
                      </a:lnTo>
                      <a:lnTo>
                        <a:pt x="39" y="217"/>
                      </a:lnTo>
                      <a:lnTo>
                        <a:pt x="34" y="203"/>
                      </a:lnTo>
                      <a:lnTo>
                        <a:pt x="27" y="186"/>
                      </a:lnTo>
                      <a:lnTo>
                        <a:pt x="23" y="170"/>
                      </a:lnTo>
                      <a:lnTo>
                        <a:pt x="21" y="153"/>
                      </a:lnTo>
                      <a:lnTo>
                        <a:pt x="21" y="137"/>
                      </a:lnTo>
                      <a:lnTo>
                        <a:pt x="23" y="102"/>
                      </a:lnTo>
                      <a:lnTo>
                        <a:pt x="27" y="85"/>
                      </a:lnTo>
                      <a:lnTo>
                        <a:pt x="34" y="71"/>
                      </a:lnTo>
                      <a:lnTo>
                        <a:pt x="39" y="55"/>
                      </a:lnTo>
                      <a:lnTo>
                        <a:pt x="48" y="41"/>
                      </a:lnTo>
                      <a:lnTo>
                        <a:pt x="72" y="15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149880" y="2888280"/>
                  <a:ext cx="122400" cy="107280"/>
                </a:xfrm>
                <a:custGeom>
                  <a:avLst/>
                  <a:gdLst/>
                  <a:ahLst/>
                  <a:rect l="l" t="t" r="r" b="b"/>
                  <a:pathLst>
                    <a:path w="428" h="376">
                      <a:moveTo>
                        <a:pt x="56" y="0"/>
                      </a:moveTo>
                      <a:lnTo>
                        <a:pt x="45" y="0"/>
                      </a:lnTo>
                      <a:lnTo>
                        <a:pt x="24" y="31"/>
                      </a:lnTo>
                      <a:lnTo>
                        <a:pt x="16" y="46"/>
                      </a:lnTo>
                      <a:lnTo>
                        <a:pt x="11" y="65"/>
                      </a:lnTo>
                      <a:lnTo>
                        <a:pt x="3" y="100"/>
                      </a:lnTo>
                      <a:lnTo>
                        <a:pt x="0" y="139"/>
                      </a:lnTo>
                      <a:lnTo>
                        <a:pt x="0" y="162"/>
                      </a:lnTo>
                      <a:lnTo>
                        <a:pt x="4" y="186"/>
                      </a:lnTo>
                      <a:lnTo>
                        <a:pt x="10" y="207"/>
                      </a:lnTo>
                      <a:lnTo>
                        <a:pt x="17" y="230"/>
                      </a:lnTo>
                      <a:lnTo>
                        <a:pt x="25" y="249"/>
                      </a:lnTo>
                      <a:lnTo>
                        <a:pt x="38" y="270"/>
                      </a:lnTo>
                      <a:lnTo>
                        <a:pt x="53" y="288"/>
                      </a:lnTo>
                      <a:lnTo>
                        <a:pt x="70" y="307"/>
                      </a:lnTo>
                      <a:lnTo>
                        <a:pt x="87" y="322"/>
                      </a:lnTo>
                      <a:lnTo>
                        <a:pt x="106" y="337"/>
                      </a:lnTo>
                      <a:lnTo>
                        <a:pt x="125" y="348"/>
                      </a:lnTo>
                      <a:lnTo>
                        <a:pt x="147" y="358"/>
                      </a:lnTo>
                      <a:lnTo>
                        <a:pt x="167" y="366"/>
                      </a:lnTo>
                      <a:lnTo>
                        <a:pt x="190" y="372"/>
                      </a:lnTo>
                      <a:lnTo>
                        <a:pt x="214" y="375"/>
                      </a:lnTo>
                      <a:lnTo>
                        <a:pt x="239" y="376"/>
                      </a:lnTo>
                      <a:lnTo>
                        <a:pt x="261" y="375"/>
                      </a:lnTo>
                      <a:lnTo>
                        <a:pt x="273" y="373"/>
                      </a:lnTo>
                      <a:lnTo>
                        <a:pt x="275" y="372"/>
                      </a:lnTo>
                      <a:lnTo>
                        <a:pt x="278" y="372"/>
                      </a:lnTo>
                      <a:lnTo>
                        <a:pt x="285" y="372"/>
                      </a:lnTo>
                      <a:lnTo>
                        <a:pt x="290" y="370"/>
                      </a:lnTo>
                      <a:lnTo>
                        <a:pt x="292" y="368"/>
                      </a:lnTo>
                      <a:lnTo>
                        <a:pt x="295" y="368"/>
                      </a:lnTo>
                      <a:lnTo>
                        <a:pt x="307" y="366"/>
                      </a:lnTo>
                      <a:lnTo>
                        <a:pt x="329" y="358"/>
                      </a:lnTo>
                      <a:lnTo>
                        <a:pt x="338" y="353"/>
                      </a:lnTo>
                      <a:lnTo>
                        <a:pt x="349" y="348"/>
                      </a:lnTo>
                      <a:lnTo>
                        <a:pt x="369" y="337"/>
                      </a:lnTo>
                      <a:lnTo>
                        <a:pt x="387" y="322"/>
                      </a:lnTo>
                      <a:lnTo>
                        <a:pt x="396" y="314"/>
                      </a:lnTo>
                      <a:lnTo>
                        <a:pt x="406" y="307"/>
                      </a:lnTo>
                      <a:lnTo>
                        <a:pt x="411" y="300"/>
                      </a:lnTo>
                      <a:lnTo>
                        <a:pt x="413" y="297"/>
                      </a:lnTo>
                      <a:lnTo>
                        <a:pt x="417" y="295"/>
                      </a:lnTo>
                      <a:lnTo>
                        <a:pt x="428" y="282"/>
                      </a:lnTo>
                      <a:lnTo>
                        <a:pt x="420" y="256"/>
                      </a:lnTo>
                      <a:lnTo>
                        <a:pt x="415" y="260"/>
                      </a:lnTo>
                      <a:lnTo>
                        <a:pt x="412" y="264"/>
                      </a:lnTo>
                      <a:lnTo>
                        <a:pt x="405" y="273"/>
                      </a:lnTo>
                      <a:lnTo>
                        <a:pt x="391" y="291"/>
                      </a:lnTo>
                      <a:lnTo>
                        <a:pt x="381" y="298"/>
                      </a:lnTo>
                      <a:lnTo>
                        <a:pt x="377" y="302"/>
                      </a:lnTo>
                      <a:lnTo>
                        <a:pt x="373" y="306"/>
                      </a:lnTo>
                      <a:lnTo>
                        <a:pt x="364" y="312"/>
                      </a:lnTo>
                      <a:lnTo>
                        <a:pt x="356" y="319"/>
                      </a:lnTo>
                      <a:lnTo>
                        <a:pt x="338" y="329"/>
                      </a:lnTo>
                      <a:lnTo>
                        <a:pt x="320" y="339"/>
                      </a:lnTo>
                      <a:lnTo>
                        <a:pt x="300" y="345"/>
                      </a:lnTo>
                      <a:lnTo>
                        <a:pt x="290" y="347"/>
                      </a:lnTo>
                      <a:lnTo>
                        <a:pt x="281" y="350"/>
                      </a:lnTo>
                      <a:lnTo>
                        <a:pt x="269" y="351"/>
                      </a:lnTo>
                      <a:lnTo>
                        <a:pt x="259" y="354"/>
                      </a:lnTo>
                      <a:lnTo>
                        <a:pt x="239" y="355"/>
                      </a:lnTo>
                      <a:lnTo>
                        <a:pt x="216" y="354"/>
                      </a:lnTo>
                      <a:lnTo>
                        <a:pt x="194" y="350"/>
                      </a:lnTo>
                      <a:lnTo>
                        <a:pt x="174" y="345"/>
                      </a:lnTo>
                      <a:lnTo>
                        <a:pt x="155" y="339"/>
                      </a:lnTo>
                      <a:lnTo>
                        <a:pt x="135" y="329"/>
                      </a:lnTo>
                      <a:lnTo>
                        <a:pt x="118" y="319"/>
                      </a:lnTo>
                      <a:lnTo>
                        <a:pt x="101" y="306"/>
                      </a:lnTo>
                      <a:lnTo>
                        <a:pt x="86" y="291"/>
                      </a:lnTo>
                      <a:lnTo>
                        <a:pt x="70" y="274"/>
                      </a:lnTo>
                      <a:lnTo>
                        <a:pt x="57" y="257"/>
                      </a:lnTo>
                      <a:lnTo>
                        <a:pt x="46" y="239"/>
                      </a:lnTo>
                      <a:lnTo>
                        <a:pt x="38" y="221"/>
                      </a:lnTo>
                      <a:lnTo>
                        <a:pt x="30" y="201"/>
                      </a:lnTo>
                      <a:lnTo>
                        <a:pt x="25" y="181"/>
                      </a:lnTo>
                      <a:lnTo>
                        <a:pt x="22" y="160"/>
                      </a:lnTo>
                      <a:lnTo>
                        <a:pt x="22" y="139"/>
                      </a:lnTo>
                      <a:lnTo>
                        <a:pt x="24" y="100"/>
                      </a:lnTo>
                      <a:lnTo>
                        <a:pt x="28" y="81"/>
                      </a:lnTo>
                      <a:lnTo>
                        <a:pt x="34" y="64"/>
                      </a:lnTo>
                      <a:lnTo>
                        <a:pt x="49" y="31"/>
                      </a:lnTo>
                      <a:lnTo>
                        <a:pt x="73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56360" y="2888280"/>
                  <a:ext cx="113760" cy="10116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8" y="2"/>
                      </a:moveTo>
                      <a:lnTo>
                        <a:pt x="51" y="0"/>
                      </a:lnTo>
                      <a:lnTo>
                        <a:pt x="27" y="31"/>
                      </a:lnTo>
                      <a:lnTo>
                        <a:pt x="12" y="64"/>
                      </a:lnTo>
                      <a:lnTo>
                        <a:pt x="6" y="81"/>
                      </a:lnTo>
                      <a:lnTo>
                        <a:pt x="2" y="100"/>
                      </a:lnTo>
                      <a:lnTo>
                        <a:pt x="0" y="139"/>
                      </a:lnTo>
                      <a:lnTo>
                        <a:pt x="0" y="160"/>
                      </a:lnTo>
                      <a:lnTo>
                        <a:pt x="3" y="181"/>
                      </a:lnTo>
                      <a:lnTo>
                        <a:pt x="8" y="201"/>
                      </a:lnTo>
                      <a:lnTo>
                        <a:pt x="16" y="221"/>
                      </a:lnTo>
                      <a:lnTo>
                        <a:pt x="24" y="239"/>
                      </a:lnTo>
                      <a:lnTo>
                        <a:pt x="35" y="257"/>
                      </a:lnTo>
                      <a:lnTo>
                        <a:pt x="48" y="274"/>
                      </a:lnTo>
                      <a:lnTo>
                        <a:pt x="64" y="291"/>
                      </a:lnTo>
                      <a:lnTo>
                        <a:pt x="79" y="306"/>
                      </a:lnTo>
                      <a:lnTo>
                        <a:pt x="96" y="319"/>
                      </a:lnTo>
                      <a:lnTo>
                        <a:pt x="113" y="329"/>
                      </a:lnTo>
                      <a:lnTo>
                        <a:pt x="133" y="339"/>
                      </a:lnTo>
                      <a:lnTo>
                        <a:pt x="152" y="345"/>
                      </a:lnTo>
                      <a:lnTo>
                        <a:pt x="172" y="350"/>
                      </a:lnTo>
                      <a:lnTo>
                        <a:pt x="194" y="354"/>
                      </a:lnTo>
                      <a:lnTo>
                        <a:pt x="217" y="355"/>
                      </a:lnTo>
                      <a:lnTo>
                        <a:pt x="237" y="354"/>
                      </a:lnTo>
                      <a:lnTo>
                        <a:pt x="247" y="351"/>
                      </a:lnTo>
                      <a:lnTo>
                        <a:pt x="259" y="350"/>
                      </a:lnTo>
                      <a:lnTo>
                        <a:pt x="268" y="347"/>
                      </a:lnTo>
                      <a:lnTo>
                        <a:pt x="278" y="345"/>
                      </a:lnTo>
                      <a:lnTo>
                        <a:pt x="298" y="339"/>
                      </a:lnTo>
                      <a:lnTo>
                        <a:pt x="316" y="329"/>
                      </a:lnTo>
                      <a:lnTo>
                        <a:pt x="334" y="319"/>
                      </a:lnTo>
                      <a:lnTo>
                        <a:pt x="342" y="312"/>
                      </a:lnTo>
                      <a:lnTo>
                        <a:pt x="351" y="306"/>
                      </a:lnTo>
                      <a:lnTo>
                        <a:pt x="355" y="302"/>
                      </a:lnTo>
                      <a:lnTo>
                        <a:pt x="359" y="298"/>
                      </a:lnTo>
                      <a:lnTo>
                        <a:pt x="369" y="291"/>
                      </a:lnTo>
                      <a:lnTo>
                        <a:pt x="383" y="273"/>
                      </a:lnTo>
                      <a:lnTo>
                        <a:pt x="390" y="264"/>
                      </a:lnTo>
                      <a:lnTo>
                        <a:pt x="393" y="260"/>
                      </a:lnTo>
                      <a:lnTo>
                        <a:pt x="398" y="256"/>
                      </a:lnTo>
                      <a:lnTo>
                        <a:pt x="388" y="231"/>
                      </a:lnTo>
                      <a:lnTo>
                        <a:pt x="372" y="254"/>
                      </a:lnTo>
                      <a:lnTo>
                        <a:pt x="354" y="277"/>
                      </a:lnTo>
                      <a:lnTo>
                        <a:pt x="338" y="289"/>
                      </a:lnTo>
                      <a:lnTo>
                        <a:pt x="323" y="300"/>
                      </a:lnTo>
                      <a:lnTo>
                        <a:pt x="314" y="305"/>
                      </a:lnTo>
                      <a:lnTo>
                        <a:pt x="310" y="307"/>
                      </a:lnTo>
                      <a:lnTo>
                        <a:pt x="307" y="308"/>
                      </a:lnTo>
                      <a:lnTo>
                        <a:pt x="306" y="311"/>
                      </a:lnTo>
                      <a:lnTo>
                        <a:pt x="290" y="319"/>
                      </a:lnTo>
                      <a:lnTo>
                        <a:pt x="272" y="324"/>
                      </a:lnTo>
                      <a:lnTo>
                        <a:pt x="254" y="329"/>
                      </a:lnTo>
                      <a:lnTo>
                        <a:pt x="248" y="329"/>
                      </a:lnTo>
                      <a:lnTo>
                        <a:pt x="244" y="330"/>
                      </a:lnTo>
                      <a:lnTo>
                        <a:pt x="235" y="332"/>
                      </a:lnTo>
                      <a:lnTo>
                        <a:pt x="217" y="333"/>
                      </a:lnTo>
                      <a:lnTo>
                        <a:pt x="196" y="332"/>
                      </a:lnTo>
                      <a:lnTo>
                        <a:pt x="177" y="329"/>
                      </a:lnTo>
                      <a:lnTo>
                        <a:pt x="158" y="324"/>
                      </a:lnTo>
                      <a:lnTo>
                        <a:pt x="141" y="319"/>
                      </a:lnTo>
                      <a:lnTo>
                        <a:pt x="124" y="311"/>
                      </a:lnTo>
                      <a:lnTo>
                        <a:pt x="108" y="300"/>
                      </a:lnTo>
                      <a:lnTo>
                        <a:pt x="92" y="289"/>
                      </a:lnTo>
                      <a:lnTo>
                        <a:pt x="78" y="277"/>
                      </a:lnTo>
                      <a:lnTo>
                        <a:pt x="64" y="261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3"/>
                      </a:lnTo>
                      <a:lnTo>
                        <a:pt x="28" y="195"/>
                      </a:lnTo>
                      <a:lnTo>
                        <a:pt x="25" y="177"/>
                      </a:lnTo>
                      <a:lnTo>
                        <a:pt x="22" y="158"/>
                      </a:lnTo>
                      <a:lnTo>
                        <a:pt x="22" y="139"/>
                      </a:lnTo>
                      <a:lnTo>
                        <a:pt x="25" y="100"/>
                      </a:lnTo>
                      <a:lnTo>
                        <a:pt x="35" y="65"/>
                      </a:lnTo>
                      <a:lnTo>
                        <a:pt x="52" y="32"/>
                      </a:lnTo>
                      <a:lnTo>
                        <a:pt x="64" y="16"/>
                      </a:lnTo>
                      <a:lnTo>
                        <a:pt x="78" y="2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180840" y="2894040"/>
                  <a:ext cx="73800" cy="70560"/>
                </a:xfrm>
                <a:custGeom>
                  <a:avLst/>
                  <a:gdLst/>
                  <a:ahLst/>
                  <a:rect l="l" t="t" r="r" b="b"/>
                  <a:pathLst>
                    <a:path w="259" h="249">
                      <a:moveTo>
                        <a:pt x="22" y="119"/>
                      </a:moveTo>
                      <a:lnTo>
                        <a:pt x="23" y="97"/>
                      </a:lnTo>
                      <a:lnTo>
                        <a:pt x="30" y="78"/>
                      </a:lnTo>
                      <a:lnTo>
                        <a:pt x="39" y="58"/>
                      </a:lnTo>
                      <a:lnTo>
                        <a:pt x="53" y="42"/>
                      </a:lnTo>
                      <a:lnTo>
                        <a:pt x="65" y="30"/>
                      </a:lnTo>
                      <a:lnTo>
                        <a:pt x="78" y="22"/>
                      </a:lnTo>
                      <a:lnTo>
                        <a:pt x="92" y="16"/>
                      </a:lnTo>
                      <a:lnTo>
                        <a:pt x="108" y="13"/>
                      </a:lnTo>
                      <a:lnTo>
                        <a:pt x="77" y="0"/>
                      </a:lnTo>
                      <a:lnTo>
                        <a:pt x="56" y="12"/>
                      </a:lnTo>
                      <a:lnTo>
                        <a:pt x="39" y="28"/>
                      </a:lnTo>
                      <a:lnTo>
                        <a:pt x="21" y="47"/>
                      </a:lnTo>
                      <a:lnTo>
                        <a:pt x="9" y="68"/>
                      </a:lnTo>
                      <a:lnTo>
                        <a:pt x="2" y="92"/>
                      </a:lnTo>
                      <a:lnTo>
                        <a:pt x="0" y="119"/>
                      </a:lnTo>
                      <a:lnTo>
                        <a:pt x="2" y="144"/>
                      </a:lnTo>
                      <a:lnTo>
                        <a:pt x="5" y="156"/>
                      </a:lnTo>
                      <a:lnTo>
                        <a:pt x="9" y="168"/>
                      </a:lnTo>
                      <a:lnTo>
                        <a:pt x="14" y="178"/>
                      </a:lnTo>
                      <a:lnTo>
                        <a:pt x="21" y="190"/>
                      </a:lnTo>
                      <a:lnTo>
                        <a:pt x="39" y="210"/>
                      </a:lnTo>
                      <a:lnTo>
                        <a:pt x="58" y="226"/>
                      </a:lnTo>
                      <a:lnTo>
                        <a:pt x="68" y="233"/>
                      </a:lnTo>
                      <a:lnTo>
                        <a:pt x="80" y="239"/>
                      </a:lnTo>
                      <a:lnTo>
                        <a:pt x="103" y="245"/>
                      </a:lnTo>
                      <a:lnTo>
                        <a:pt x="117" y="248"/>
                      </a:lnTo>
                      <a:lnTo>
                        <a:pt x="131" y="249"/>
                      </a:lnTo>
                      <a:lnTo>
                        <a:pt x="142" y="248"/>
                      </a:lnTo>
                      <a:lnTo>
                        <a:pt x="156" y="245"/>
                      </a:lnTo>
                      <a:lnTo>
                        <a:pt x="167" y="242"/>
                      </a:lnTo>
                      <a:lnTo>
                        <a:pt x="173" y="240"/>
                      </a:lnTo>
                      <a:lnTo>
                        <a:pt x="179" y="239"/>
                      </a:lnTo>
                      <a:lnTo>
                        <a:pt x="184" y="235"/>
                      </a:lnTo>
                      <a:lnTo>
                        <a:pt x="190" y="233"/>
                      </a:lnTo>
                      <a:lnTo>
                        <a:pt x="201" y="226"/>
                      </a:lnTo>
                      <a:lnTo>
                        <a:pt x="205" y="222"/>
                      </a:lnTo>
                      <a:lnTo>
                        <a:pt x="208" y="219"/>
                      </a:lnTo>
                      <a:lnTo>
                        <a:pt x="208" y="218"/>
                      </a:lnTo>
                      <a:lnTo>
                        <a:pt x="209" y="218"/>
                      </a:lnTo>
                      <a:lnTo>
                        <a:pt x="211" y="218"/>
                      </a:lnTo>
                      <a:lnTo>
                        <a:pt x="222" y="210"/>
                      </a:lnTo>
                      <a:lnTo>
                        <a:pt x="228" y="201"/>
                      </a:lnTo>
                      <a:lnTo>
                        <a:pt x="235" y="193"/>
                      </a:lnTo>
                      <a:lnTo>
                        <a:pt x="246" y="175"/>
                      </a:lnTo>
                      <a:lnTo>
                        <a:pt x="246" y="172"/>
                      </a:lnTo>
                      <a:lnTo>
                        <a:pt x="247" y="169"/>
                      </a:lnTo>
                      <a:lnTo>
                        <a:pt x="250" y="165"/>
                      </a:lnTo>
                      <a:lnTo>
                        <a:pt x="253" y="156"/>
                      </a:lnTo>
                      <a:lnTo>
                        <a:pt x="255" y="146"/>
                      </a:lnTo>
                      <a:lnTo>
                        <a:pt x="259" y="136"/>
                      </a:lnTo>
                      <a:lnTo>
                        <a:pt x="238" y="112"/>
                      </a:lnTo>
                      <a:lnTo>
                        <a:pt x="238" y="119"/>
                      </a:lnTo>
                      <a:lnTo>
                        <a:pt x="236" y="140"/>
                      </a:lnTo>
                      <a:lnTo>
                        <a:pt x="230" y="160"/>
                      </a:lnTo>
                      <a:lnTo>
                        <a:pt x="220" y="178"/>
                      </a:lnTo>
                      <a:lnTo>
                        <a:pt x="213" y="186"/>
                      </a:lnTo>
                      <a:lnTo>
                        <a:pt x="207" y="195"/>
                      </a:lnTo>
                      <a:lnTo>
                        <a:pt x="197" y="202"/>
                      </a:lnTo>
                      <a:lnTo>
                        <a:pt x="190" y="209"/>
                      </a:lnTo>
                      <a:lnTo>
                        <a:pt x="171" y="219"/>
                      </a:lnTo>
                      <a:lnTo>
                        <a:pt x="151" y="225"/>
                      </a:lnTo>
                      <a:lnTo>
                        <a:pt x="131" y="227"/>
                      </a:lnTo>
                      <a:lnTo>
                        <a:pt x="108" y="225"/>
                      </a:lnTo>
                      <a:lnTo>
                        <a:pt x="89" y="219"/>
                      </a:lnTo>
                      <a:lnTo>
                        <a:pt x="69" y="209"/>
                      </a:lnTo>
                      <a:lnTo>
                        <a:pt x="53" y="195"/>
                      </a:lnTo>
                      <a:lnTo>
                        <a:pt x="39" y="178"/>
                      </a:lnTo>
                      <a:lnTo>
                        <a:pt x="30" y="160"/>
                      </a:lnTo>
                      <a:lnTo>
                        <a:pt x="23" y="140"/>
                      </a:lnTo>
                      <a:lnTo>
                        <a:pt x="22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186960" y="289728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6" h="214">
                      <a:moveTo>
                        <a:pt x="31" y="29"/>
                      </a:moveTo>
                      <a:lnTo>
                        <a:pt x="17" y="45"/>
                      </a:lnTo>
                      <a:lnTo>
                        <a:pt x="8" y="65"/>
                      </a:lnTo>
                      <a:lnTo>
                        <a:pt x="1" y="84"/>
                      </a:lnTo>
                      <a:lnTo>
                        <a:pt x="0" y="106"/>
                      </a:lnTo>
                      <a:lnTo>
                        <a:pt x="1" y="127"/>
                      </a:lnTo>
                      <a:lnTo>
                        <a:pt x="8" y="147"/>
                      </a:lnTo>
                      <a:lnTo>
                        <a:pt x="17" y="165"/>
                      </a:lnTo>
                      <a:lnTo>
                        <a:pt x="31" y="182"/>
                      </a:lnTo>
                      <a:lnTo>
                        <a:pt x="47" y="196"/>
                      </a:lnTo>
                      <a:lnTo>
                        <a:pt x="67" y="206"/>
                      </a:lnTo>
                      <a:lnTo>
                        <a:pt x="86" y="212"/>
                      </a:lnTo>
                      <a:lnTo>
                        <a:pt x="109" y="214"/>
                      </a:lnTo>
                      <a:lnTo>
                        <a:pt x="129" y="212"/>
                      </a:lnTo>
                      <a:lnTo>
                        <a:pt x="149" y="206"/>
                      </a:lnTo>
                      <a:lnTo>
                        <a:pt x="168" y="196"/>
                      </a:lnTo>
                      <a:lnTo>
                        <a:pt x="175" y="189"/>
                      </a:lnTo>
                      <a:lnTo>
                        <a:pt x="185" y="182"/>
                      </a:lnTo>
                      <a:lnTo>
                        <a:pt x="191" y="173"/>
                      </a:lnTo>
                      <a:lnTo>
                        <a:pt x="198" y="165"/>
                      </a:lnTo>
                      <a:lnTo>
                        <a:pt x="208" y="147"/>
                      </a:lnTo>
                      <a:lnTo>
                        <a:pt x="214" y="127"/>
                      </a:lnTo>
                      <a:lnTo>
                        <a:pt x="216" y="106"/>
                      </a:lnTo>
                      <a:lnTo>
                        <a:pt x="216" y="99"/>
                      </a:lnTo>
                      <a:lnTo>
                        <a:pt x="198" y="79"/>
                      </a:lnTo>
                      <a:lnTo>
                        <a:pt x="191" y="72"/>
                      </a:lnTo>
                      <a:lnTo>
                        <a:pt x="189" y="70"/>
                      </a:lnTo>
                      <a:lnTo>
                        <a:pt x="188" y="69"/>
                      </a:lnTo>
                      <a:lnTo>
                        <a:pt x="186" y="67"/>
                      </a:lnTo>
                      <a:lnTo>
                        <a:pt x="192" y="85"/>
                      </a:lnTo>
                      <a:lnTo>
                        <a:pt x="195" y="106"/>
                      </a:lnTo>
                      <a:lnTo>
                        <a:pt x="192" y="122"/>
                      </a:lnTo>
                      <a:lnTo>
                        <a:pt x="188" y="138"/>
                      </a:lnTo>
                      <a:lnTo>
                        <a:pt x="183" y="145"/>
                      </a:lnTo>
                      <a:lnTo>
                        <a:pt x="181" y="148"/>
                      </a:lnTo>
                      <a:lnTo>
                        <a:pt x="180" y="153"/>
                      </a:lnTo>
                      <a:lnTo>
                        <a:pt x="170" y="167"/>
                      </a:lnTo>
                      <a:lnTo>
                        <a:pt x="162" y="171"/>
                      </a:lnTo>
                      <a:lnTo>
                        <a:pt x="155" y="177"/>
                      </a:lnTo>
                      <a:lnTo>
                        <a:pt x="147" y="181"/>
                      </a:lnTo>
                      <a:lnTo>
                        <a:pt x="140" y="186"/>
                      </a:lnTo>
                      <a:lnTo>
                        <a:pt x="124" y="190"/>
                      </a:lnTo>
                      <a:lnTo>
                        <a:pt x="109" y="193"/>
                      </a:lnTo>
                      <a:lnTo>
                        <a:pt x="90" y="190"/>
                      </a:lnTo>
                      <a:lnTo>
                        <a:pt x="75" y="186"/>
                      </a:lnTo>
                      <a:lnTo>
                        <a:pt x="60" y="177"/>
                      </a:lnTo>
                      <a:lnTo>
                        <a:pt x="47" y="167"/>
                      </a:lnTo>
                      <a:lnTo>
                        <a:pt x="36" y="153"/>
                      </a:lnTo>
                      <a:lnTo>
                        <a:pt x="28" y="138"/>
                      </a:lnTo>
                      <a:lnTo>
                        <a:pt x="24" y="122"/>
                      </a:lnTo>
                      <a:lnTo>
                        <a:pt x="22" y="106"/>
                      </a:lnTo>
                      <a:lnTo>
                        <a:pt x="24" y="88"/>
                      </a:lnTo>
                      <a:lnTo>
                        <a:pt x="28" y="72"/>
                      </a:lnTo>
                      <a:lnTo>
                        <a:pt x="36" y="58"/>
                      </a:lnTo>
                      <a:lnTo>
                        <a:pt x="47" y="45"/>
                      </a:lnTo>
                      <a:lnTo>
                        <a:pt x="60" y="33"/>
                      </a:lnTo>
                      <a:lnTo>
                        <a:pt x="75" y="25"/>
                      </a:lnTo>
                      <a:lnTo>
                        <a:pt x="90" y="20"/>
                      </a:lnTo>
                      <a:lnTo>
                        <a:pt x="109" y="19"/>
                      </a:lnTo>
                      <a:lnTo>
                        <a:pt x="117" y="19"/>
                      </a:lnTo>
                      <a:lnTo>
                        <a:pt x="126" y="21"/>
                      </a:lnTo>
                      <a:lnTo>
                        <a:pt x="105" y="9"/>
                      </a:lnTo>
                      <a:lnTo>
                        <a:pt x="86" y="0"/>
                      </a:lnTo>
                      <a:lnTo>
                        <a:pt x="70" y="3"/>
                      </a:lnTo>
                      <a:lnTo>
                        <a:pt x="56" y="9"/>
                      </a:lnTo>
                      <a:lnTo>
                        <a:pt x="43" y="17"/>
                      </a:lnTo>
                      <a:lnTo>
                        <a:pt x="31" y="29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193440" y="2903040"/>
                  <a:ext cx="48960" cy="48960"/>
                </a:xfrm>
                <a:custGeom>
                  <a:avLst/>
                  <a:gdLst/>
                  <a:ahLst/>
                  <a:rect l="l" t="t" r="r" b="b"/>
                  <a:pathLst>
                    <a:path w="173" h="174">
                      <a:moveTo>
                        <a:pt x="104" y="2"/>
                      </a:moveTo>
                      <a:lnTo>
                        <a:pt x="95" y="0"/>
                      </a:lnTo>
                      <a:lnTo>
                        <a:pt x="87" y="0"/>
                      </a:lnTo>
                      <a:lnTo>
                        <a:pt x="68" y="1"/>
                      </a:lnTo>
                      <a:lnTo>
                        <a:pt x="53" y="6"/>
                      </a:lnTo>
                      <a:lnTo>
                        <a:pt x="38" y="14"/>
                      </a:lnTo>
                      <a:lnTo>
                        <a:pt x="25" y="26"/>
                      </a:lnTo>
                      <a:lnTo>
                        <a:pt x="14" y="39"/>
                      </a:lnTo>
                      <a:lnTo>
                        <a:pt x="6" y="53"/>
                      </a:lnTo>
                      <a:lnTo>
                        <a:pt x="2" y="69"/>
                      </a:lnTo>
                      <a:lnTo>
                        <a:pt x="0" y="87"/>
                      </a:lnTo>
                      <a:lnTo>
                        <a:pt x="2" y="103"/>
                      </a:lnTo>
                      <a:lnTo>
                        <a:pt x="6" y="119"/>
                      </a:lnTo>
                      <a:lnTo>
                        <a:pt x="14" y="134"/>
                      </a:lnTo>
                      <a:lnTo>
                        <a:pt x="25" y="148"/>
                      </a:lnTo>
                      <a:lnTo>
                        <a:pt x="38" y="158"/>
                      </a:lnTo>
                      <a:lnTo>
                        <a:pt x="53" y="167"/>
                      </a:lnTo>
                      <a:lnTo>
                        <a:pt x="68" y="171"/>
                      </a:lnTo>
                      <a:lnTo>
                        <a:pt x="87" y="174"/>
                      </a:lnTo>
                      <a:lnTo>
                        <a:pt x="102" y="171"/>
                      </a:lnTo>
                      <a:lnTo>
                        <a:pt x="118" y="167"/>
                      </a:lnTo>
                      <a:lnTo>
                        <a:pt x="125" y="162"/>
                      </a:lnTo>
                      <a:lnTo>
                        <a:pt x="133" y="158"/>
                      </a:lnTo>
                      <a:lnTo>
                        <a:pt x="140" y="152"/>
                      </a:lnTo>
                      <a:lnTo>
                        <a:pt x="148" y="148"/>
                      </a:lnTo>
                      <a:lnTo>
                        <a:pt x="158" y="134"/>
                      </a:lnTo>
                      <a:lnTo>
                        <a:pt x="159" y="129"/>
                      </a:lnTo>
                      <a:lnTo>
                        <a:pt x="161" y="126"/>
                      </a:lnTo>
                      <a:lnTo>
                        <a:pt x="166" y="119"/>
                      </a:lnTo>
                      <a:lnTo>
                        <a:pt x="170" y="103"/>
                      </a:lnTo>
                      <a:lnTo>
                        <a:pt x="173" y="87"/>
                      </a:lnTo>
                      <a:lnTo>
                        <a:pt x="170" y="66"/>
                      </a:lnTo>
                      <a:lnTo>
                        <a:pt x="164" y="48"/>
                      </a:lnTo>
                      <a:lnTo>
                        <a:pt x="134" y="23"/>
                      </a:lnTo>
                      <a:lnTo>
                        <a:pt x="118" y="12"/>
                      </a:lnTo>
                      <a:lnTo>
                        <a:pt x="104" y="2"/>
                      </a:lnTo>
                      <a:close/>
                      <a:moveTo>
                        <a:pt x="22" y="87"/>
                      </a:moveTo>
                      <a:lnTo>
                        <a:pt x="23" y="74"/>
                      </a:lnTo>
                      <a:lnTo>
                        <a:pt x="26" y="61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2"/>
                      </a:lnTo>
                      <a:lnTo>
                        <a:pt x="60" y="26"/>
                      </a:lnTo>
                      <a:lnTo>
                        <a:pt x="73" y="23"/>
                      </a:lnTo>
                      <a:lnTo>
                        <a:pt x="87" y="22"/>
                      </a:lnTo>
                      <a:lnTo>
                        <a:pt x="98" y="23"/>
                      </a:lnTo>
                      <a:lnTo>
                        <a:pt x="110" y="26"/>
                      </a:lnTo>
                      <a:lnTo>
                        <a:pt x="121" y="32"/>
                      </a:lnTo>
                      <a:lnTo>
                        <a:pt x="132" y="41"/>
                      </a:lnTo>
                      <a:lnTo>
                        <a:pt x="140" y="50"/>
                      </a:lnTo>
                      <a:lnTo>
                        <a:pt x="146" y="61"/>
                      </a:lnTo>
                      <a:lnTo>
                        <a:pt x="149" y="74"/>
                      </a:lnTo>
                      <a:lnTo>
                        <a:pt x="151" y="87"/>
                      </a:lnTo>
                      <a:lnTo>
                        <a:pt x="149" y="99"/>
                      </a:lnTo>
                      <a:lnTo>
                        <a:pt x="147" y="104"/>
                      </a:lnTo>
                      <a:lnTo>
                        <a:pt x="146" y="111"/>
                      </a:lnTo>
                      <a:lnTo>
                        <a:pt x="142" y="116"/>
                      </a:lnTo>
                      <a:lnTo>
                        <a:pt x="140" y="121"/>
                      </a:lnTo>
                      <a:lnTo>
                        <a:pt x="132" y="133"/>
                      </a:lnTo>
                      <a:lnTo>
                        <a:pt x="121" y="141"/>
                      </a:lnTo>
                      <a:lnTo>
                        <a:pt x="115" y="143"/>
                      </a:lnTo>
                      <a:lnTo>
                        <a:pt x="110" y="146"/>
                      </a:lnTo>
                      <a:lnTo>
                        <a:pt x="104" y="148"/>
                      </a:lnTo>
                      <a:lnTo>
                        <a:pt x="98" y="150"/>
                      </a:lnTo>
                      <a:lnTo>
                        <a:pt x="87" y="152"/>
                      </a:lnTo>
                      <a:lnTo>
                        <a:pt x="73" y="150"/>
                      </a:lnTo>
                      <a:lnTo>
                        <a:pt x="60" y="146"/>
                      </a:lnTo>
                      <a:lnTo>
                        <a:pt x="49" y="141"/>
                      </a:lnTo>
                      <a:lnTo>
                        <a:pt x="40" y="133"/>
                      </a:lnTo>
                      <a:lnTo>
                        <a:pt x="32" y="121"/>
                      </a:lnTo>
                      <a:lnTo>
                        <a:pt x="26" y="111"/>
                      </a:lnTo>
                      <a:lnTo>
                        <a:pt x="23" y="99"/>
                      </a:lnTo>
                      <a:lnTo>
                        <a:pt x="22" y="87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99560" y="2908800"/>
                  <a:ext cx="37080" cy="37440"/>
                </a:xfrm>
                <a:custGeom>
                  <a:avLst/>
                  <a:gdLst/>
                  <a:ahLst/>
                  <a:rect l="l" t="t" r="r" b="b"/>
                  <a:pathLst>
                    <a:path w="129" h="130">
                      <a:moveTo>
                        <a:pt x="18" y="19"/>
                      </a:moveTo>
                      <a:lnTo>
                        <a:pt x="10" y="28"/>
                      </a:lnTo>
                      <a:lnTo>
                        <a:pt x="4" y="39"/>
                      </a:lnTo>
                      <a:lnTo>
                        <a:pt x="1" y="52"/>
                      </a:lnTo>
                      <a:lnTo>
                        <a:pt x="0" y="65"/>
                      </a:lnTo>
                      <a:lnTo>
                        <a:pt x="1" y="77"/>
                      </a:lnTo>
                      <a:lnTo>
                        <a:pt x="4" y="89"/>
                      </a:lnTo>
                      <a:lnTo>
                        <a:pt x="10" y="99"/>
                      </a:lnTo>
                      <a:lnTo>
                        <a:pt x="18" y="111"/>
                      </a:lnTo>
                      <a:lnTo>
                        <a:pt x="27" y="119"/>
                      </a:lnTo>
                      <a:lnTo>
                        <a:pt x="38" y="124"/>
                      </a:lnTo>
                      <a:lnTo>
                        <a:pt x="51" y="128"/>
                      </a:lnTo>
                      <a:lnTo>
                        <a:pt x="65" y="130"/>
                      </a:lnTo>
                      <a:lnTo>
                        <a:pt x="76" y="128"/>
                      </a:lnTo>
                      <a:lnTo>
                        <a:pt x="82" y="126"/>
                      </a:lnTo>
                      <a:lnTo>
                        <a:pt x="88" y="124"/>
                      </a:lnTo>
                      <a:lnTo>
                        <a:pt x="93" y="121"/>
                      </a:lnTo>
                      <a:lnTo>
                        <a:pt x="99" y="119"/>
                      </a:lnTo>
                      <a:lnTo>
                        <a:pt x="110" y="111"/>
                      </a:lnTo>
                      <a:lnTo>
                        <a:pt x="118" y="99"/>
                      </a:lnTo>
                      <a:lnTo>
                        <a:pt x="120" y="94"/>
                      </a:lnTo>
                      <a:lnTo>
                        <a:pt x="124" y="89"/>
                      </a:lnTo>
                      <a:lnTo>
                        <a:pt x="125" y="82"/>
                      </a:lnTo>
                      <a:lnTo>
                        <a:pt x="127" y="77"/>
                      </a:lnTo>
                      <a:lnTo>
                        <a:pt x="129" y="65"/>
                      </a:lnTo>
                      <a:lnTo>
                        <a:pt x="127" y="52"/>
                      </a:lnTo>
                      <a:lnTo>
                        <a:pt x="124" y="39"/>
                      </a:lnTo>
                      <a:lnTo>
                        <a:pt x="118" y="28"/>
                      </a:lnTo>
                      <a:lnTo>
                        <a:pt x="110" y="19"/>
                      </a:lnTo>
                      <a:lnTo>
                        <a:pt x="99" y="10"/>
                      </a:lnTo>
                      <a:lnTo>
                        <a:pt x="88" y="4"/>
                      </a:lnTo>
                      <a:lnTo>
                        <a:pt x="76" y="1"/>
                      </a:lnTo>
                      <a:lnTo>
                        <a:pt x="65" y="0"/>
                      </a:lnTo>
                      <a:lnTo>
                        <a:pt x="51" y="1"/>
                      </a:lnTo>
                      <a:lnTo>
                        <a:pt x="38" y="4"/>
                      </a:lnTo>
                      <a:lnTo>
                        <a:pt x="27" y="10"/>
                      </a:lnTo>
                      <a:lnTo>
                        <a:pt x="18" y="19"/>
                      </a:lnTo>
                      <a:close/>
                      <a:moveTo>
                        <a:pt x="21" y="65"/>
                      </a:moveTo>
                      <a:lnTo>
                        <a:pt x="24" y="48"/>
                      </a:lnTo>
                      <a:lnTo>
                        <a:pt x="34" y="34"/>
                      </a:lnTo>
                      <a:lnTo>
                        <a:pt x="40" y="27"/>
                      </a:lnTo>
                      <a:lnTo>
                        <a:pt x="48" y="24"/>
                      </a:lnTo>
                      <a:lnTo>
                        <a:pt x="65" y="21"/>
                      </a:lnTo>
                      <a:lnTo>
                        <a:pt x="73" y="21"/>
                      </a:lnTo>
                      <a:lnTo>
                        <a:pt x="80" y="24"/>
                      </a:lnTo>
                      <a:lnTo>
                        <a:pt x="87" y="27"/>
                      </a:lnTo>
                      <a:lnTo>
                        <a:pt x="95" y="34"/>
                      </a:lnTo>
                      <a:lnTo>
                        <a:pt x="104" y="48"/>
                      </a:lnTo>
                      <a:lnTo>
                        <a:pt x="107" y="56"/>
                      </a:lnTo>
                      <a:lnTo>
                        <a:pt x="108" y="65"/>
                      </a:lnTo>
                      <a:lnTo>
                        <a:pt x="107" y="72"/>
                      </a:lnTo>
                      <a:lnTo>
                        <a:pt x="104" y="81"/>
                      </a:lnTo>
                      <a:lnTo>
                        <a:pt x="100" y="88"/>
                      </a:lnTo>
                      <a:lnTo>
                        <a:pt x="95" y="96"/>
                      </a:lnTo>
                      <a:lnTo>
                        <a:pt x="87" y="101"/>
                      </a:lnTo>
                      <a:lnTo>
                        <a:pt x="80" y="105"/>
                      </a:lnTo>
                      <a:lnTo>
                        <a:pt x="73" y="107"/>
                      </a:lnTo>
                      <a:lnTo>
                        <a:pt x="68" y="107"/>
                      </a:lnTo>
                      <a:lnTo>
                        <a:pt x="66" y="107"/>
                      </a:lnTo>
                      <a:lnTo>
                        <a:pt x="65" y="107"/>
                      </a:lnTo>
                      <a:lnTo>
                        <a:pt x="65" y="109"/>
                      </a:lnTo>
                      <a:lnTo>
                        <a:pt x="56" y="107"/>
                      </a:lnTo>
                      <a:lnTo>
                        <a:pt x="48" y="105"/>
                      </a:lnTo>
                      <a:lnTo>
                        <a:pt x="40" y="101"/>
                      </a:lnTo>
                      <a:lnTo>
                        <a:pt x="34" y="96"/>
                      </a:lnTo>
                      <a:lnTo>
                        <a:pt x="27" y="88"/>
                      </a:lnTo>
                      <a:lnTo>
                        <a:pt x="24" y="81"/>
                      </a:lnTo>
                      <a:lnTo>
                        <a:pt x="21" y="65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206040" y="2914920"/>
                  <a:ext cx="24480" cy="24840"/>
                </a:xfrm>
                <a:custGeom>
                  <a:avLst/>
                  <a:gdLst/>
                  <a:ahLst/>
                  <a:rect l="l" t="t" r="r" b="b"/>
                  <a:pathLst>
                    <a:path w="87" h="88">
                      <a:moveTo>
                        <a:pt x="13" y="13"/>
                      </a:moveTo>
                      <a:lnTo>
                        <a:pt x="3" y="27"/>
                      </a:lnTo>
                      <a:lnTo>
                        <a:pt x="0" y="44"/>
                      </a:lnTo>
                      <a:lnTo>
                        <a:pt x="3" y="60"/>
                      </a:lnTo>
                      <a:lnTo>
                        <a:pt x="6" y="67"/>
                      </a:lnTo>
                      <a:lnTo>
                        <a:pt x="13" y="75"/>
                      </a:lnTo>
                      <a:lnTo>
                        <a:pt x="19" y="80"/>
                      </a:lnTo>
                      <a:lnTo>
                        <a:pt x="27" y="84"/>
                      </a:lnTo>
                      <a:lnTo>
                        <a:pt x="35" y="86"/>
                      </a:lnTo>
                      <a:lnTo>
                        <a:pt x="44" y="88"/>
                      </a:lnTo>
                      <a:lnTo>
                        <a:pt x="44" y="86"/>
                      </a:lnTo>
                      <a:lnTo>
                        <a:pt x="45" y="86"/>
                      </a:lnTo>
                      <a:lnTo>
                        <a:pt x="47" y="86"/>
                      </a:lnTo>
                      <a:lnTo>
                        <a:pt x="52" y="86"/>
                      </a:lnTo>
                      <a:lnTo>
                        <a:pt x="59" y="84"/>
                      </a:lnTo>
                      <a:lnTo>
                        <a:pt x="66" y="80"/>
                      </a:lnTo>
                      <a:lnTo>
                        <a:pt x="74" y="75"/>
                      </a:lnTo>
                      <a:lnTo>
                        <a:pt x="79" y="67"/>
                      </a:lnTo>
                      <a:lnTo>
                        <a:pt x="83" y="60"/>
                      </a:lnTo>
                      <a:lnTo>
                        <a:pt x="86" y="51"/>
                      </a:lnTo>
                      <a:lnTo>
                        <a:pt x="87" y="44"/>
                      </a:lnTo>
                      <a:lnTo>
                        <a:pt x="86" y="35"/>
                      </a:lnTo>
                      <a:lnTo>
                        <a:pt x="83" y="27"/>
                      </a:lnTo>
                      <a:lnTo>
                        <a:pt x="74" y="13"/>
                      </a:lnTo>
                      <a:lnTo>
                        <a:pt x="66" y="6"/>
                      </a:lnTo>
                      <a:lnTo>
                        <a:pt x="59" y="3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27" y="3"/>
                      </a:lnTo>
                      <a:lnTo>
                        <a:pt x="19" y="6"/>
                      </a:lnTo>
                      <a:lnTo>
                        <a:pt x="13" y="13"/>
                      </a:lnTo>
                      <a:close/>
                      <a:moveTo>
                        <a:pt x="22" y="44"/>
                      </a:moveTo>
                      <a:lnTo>
                        <a:pt x="23" y="35"/>
                      </a:lnTo>
                      <a:lnTo>
                        <a:pt x="28" y="29"/>
                      </a:lnTo>
                      <a:lnTo>
                        <a:pt x="35" y="24"/>
                      </a:lnTo>
                      <a:lnTo>
                        <a:pt x="44" y="23"/>
                      </a:lnTo>
                      <a:lnTo>
                        <a:pt x="52" y="24"/>
                      </a:lnTo>
                      <a:lnTo>
                        <a:pt x="58" y="29"/>
                      </a:lnTo>
                      <a:lnTo>
                        <a:pt x="63" y="35"/>
                      </a:lnTo>
                      <a:lnTo>
                        <a:pt x="65" y="44"/>
                      </a:lnTo>
                      <a:lnTo>
                        <a:pt x="63" y="51"/>
                      </a:lnTo>
                      <a:lnTo>
                        <a:pt x="61" y="55"/>
                      </a:lnTo>
                      <a:lnTo>
                        <a:pt x="58" y="59"/>
                      </a:lnTo>
                      <a:lnTo>
                        <a:pt x="52" y="63"/>
                      </a:lnTo>
                      <a:lnTo>
                        <a:pt x="47" y="64"/>
                      </a:lnTo>
                      <a:lnTo>
                        <a:pt x="45" y="64"/>
                      </a:lnTo>
                      <a:lnTo>
                        <a:pt x="44" y="64"/>
                      </a:lnTo>
                      <a:lnTo>
                        <a:pt x="44" y="65"/>
                      </a:lnTo>
                      <a:lnTo>
                        <a:pt x="35" y="63"/>
                      </a:lnTo>
                      <a:lnTo>
                        <a:pt x="28" y="59"/>
                      </a:lnTo>
                      <a:lnTo>
                        <a:pt x="24" y="55"/>
                      </a:lnTo>
                      <a:lnTo>
                        <a:pt x="23" y="51"/>
                      </a:lnTo>
                      <a:lnTo>
                        <a:pt x="22" y="44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212160" y="292140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6" y="6"/>
                      </a:moveTo>
                      <a:lnTo>
                        <a:pt x="1" y="12"/>
                      </a:lnTo>
                      <a:lnTo>
                        <a:pt x="0" y="21"/>
                      </a:lnTo>
                      <a:lnTo>
                        <a:pt x="1" y="28"/>
                      </a:lnTo>
                      <a:lnTo>
                        <a:pt x="2" y="32"/>
                      </a:lnTo>
                      <a:lnTo>
                        <a:pt x="6" y="36"/>
                      </a:lnTo>
                      <a:lnTo>
                        <a:pt x="13" y="40"/>
                      </a:lnTo>
                      <a:lnTo>
                        <a:pt x="22" y="42"/>
                      </a:lnTo>
                      <a:lnTo>
                        <a:pt x="22" y="41"/>
                      </a:lnTo>
                      <a:lnTo>
                        <a:pt x="23" y="41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6" y="36"/>
                      </a:lnTo>
                      <a:lnTo>
                        <a:pt x="39" y="32"/>
                      </a:lnTo>
                      <a:lnTo>
                        <a:pt x="41" y="28"/>
                      </a:lnTo>
                      <a:lnTo>
                        <a:pt x="43" y="21"/>
                      </a:lnTo>
                      <a:lnTo>
                        <a:pt x="41" y="12"/>
                      </a:lnTo>
                      <a:lnTo>
                        <a:pt x="36" y="6"/>
                      </a:lnTo>
                      <a:lnTo>
                        <a:pt x="30" y="1"/>
                      </a:lnTo>
                      <a:lnTo>
                        <a:pt x="22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076080" y="292716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2" y="73"/>
                      </a:lnTo>
                      <a:lnTo>
                        <a:pt x="11" y="118"/>
                      </a:lnTo>
                      <a:lnTo>
                        <a:pt x="23" y="161"/>
                      </a:lnTo>
                      <a:lnTo>
                        <a:pt x="40" y="203"/>
                      </a:lnTo>
                      <a:lnTo>
                        <a:pt x="59" y="243"/>
                      </a:lnTo>
                      <a:lnTo>
                        <a:pt x="84" y="281"/>
                      </a:lnTo>
                      <a:lnTo>
                        <a:pt x="96" y="299"/>
                      </a:lnTo>
                      <a:lnTo>
                        <a:pt x="111" y="319"/>
                      </a:lnTo>
                      <a:lnTo>
                        <a:pt x="145" y="355"/>
                      </a:lnTo>
                      <a:lnTo>
                        <a:pt x="181" y="389"/>
                      </a:lnTo>
                      <a:lnTo>
                        <a:pt x="221" y="418"/>
                      </a:lnTo>
                      <a:lnTo>
                        <a:pt x="261" y="443"/>
                      </a:lnTo>
                      <a:lnTo>
                        <a:pt x="305" y="464"/>
                      </a:lnTo>
                      <a:lnTo>
                        <a:pt x="349" y="480"/>
                      </a:lnTo>
                      <a:lnTo>
                        <a:pt x="397" y="491"/>
                      </a:lnTo>
                      <a:lnTo>
                        <a:pt x="446" y="498"/>
                      </a:lnTo>
                      <a:lnTo>
                        <a:pt x="497" y="500"/>
                      </a:lnTo>
                      <a:lnTo>
                        <a:pt x="526" y="499"/>
                      </a:lnTo>
                      <a:lnTo>
                        <a:pt x="557" y="497"/>
                      </a:lnTo>
                      <a:lnTo>
                        <a:pt x="586" y="492"/>
                      </a:lnTo>
                      <a:lnTo>
                        <a:pt x="616" y="486"/>
                      </a:lnTo>
                      <a:lnTo>
                        <a:pt x="636" y="459"/>
                      </a:lnTo>
                      <a:lnTo>
                        <a:pt x="602" y="467"/>
                      </a:lnTo>
                      <a:lnTo>
                        <a:pt x="568" y="473"/>
                      </a:lnTo>
                      <a:lnTo>
                        <a:pt x="532" y="476"/>
                      </a:lnTo>
                      <a:lnTo>
                        <a:pt x="514" y="477"/>
                      </a:lnTo>
                      <a:lnTo>
                        <a:pt x="505" y="477"/>
                      </a:lnTo>
                      <a:lnTo>
                        <a:pt x="500" y="477"/>
                      </a:lnTo>
                      <a:lnTo>
                        <a:pt x="498" y="477"/>
                      </a:lnTo>
                      <a:lnTo>
                        <a:pt x="497" y="477"/>
                      </a:lnTo>
                      <a:lnTo>
                        <a:pt x="497" y="479"/>
                      </a:lnTo>
                      <a:lnTo>
                        <a:pt x="447" y="476"/>
                      </a:lnTo>
                      <a:lnTo>
                        <a:pt x="400" y="469"/>
                      </a:lnTo>
                      <a:lnTo>
                        <a:pt x="355" y="458"/>
                      </a:lnTo>
                      <a:lnTo>
                        <a:pt x="313" y="443"/>
                      </a:lnTo>
                      <a:lnTo>
                        <a:pt x="271" y="423"/>
                      </a:lnTo>
                      <a:lnTo>
                        <a:pt x="232" y="399"/>
                      </a:lnTo>
                      <a:lnTo>
                        <a:pt x="195" y="371"/>
                      </a:lnTo>
                      <a:lnTo>
                        <a:pt x="160" y="339"/>
                      </a:lnTo>
                      <a:lnTo>
                        <a:pt x="126" y="303"/>
                      </a:lnTo>
                      <a:lnTo>
                        <a:pt x="97" y="265"/>
                      </a:lnTo>
                      <a:lnTo>
                        <a:pt x="84" y="245"/>
                      </a:lnTo>
                      <a:lnTo>
                        <a:pt x="73" y="226"/>
                      </a:lnTo>
                      <a:lnTo>
                        <a:pt x="54" y="185"/>
                      </a:lnTo>
                      <a:lnTo>
                        <a:pt x="39" y="142"/>
                      </a:lnTo>
                      <a:lnTo>
                        <a:pt x="28" y="98"/>
                      </a:lnTo>
                      <a:lnTo>
                        <a:pt x="24" y="74"/>
                      </a:lnTo>
                      <a:lnTo>
                        <a:pt x="22" y="51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081840" y="2920320"/>
                  <a:ext cx="181080" cy="143280"/>
                </a:xfrm>
                <a:custGeom>
                  <a:avLst/>
                  <a:gdLst/>
                  <a:ahLst/>
                  <a:rect l="l" t="t" r="r" b="b"/>
                  <a:pathLst>
                    <a:path w="634" h="503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2" y="75"/>
                      </a:lnTo>
                      <a:lnTo>
                        <a:pt x="4" y="98"/>
                      </a:lnTo>
                      <a:lnTo>
                        <a:pt x="8" y="122"/>
                      </a:lnTo>
                      <a:lnTo>
                        <a:pt x="19" y="166"/>
                      </a:lnTo>
                      <a:lnTo>
                        <a:pt x="34" y="209"/>
                      </a:lnTo>
                      <a:lnTo>
                        <a:pt x="53" y="250"/>
                      </a:lnTo>
                      <a:lnTo>
                        <a:pt x="64" y="269"/>
                      </a:lnTo>
                      <a:lnTo>
                        <a:pt x="77" y="289"/>
                      </a:lnTo>
                      <a:lnTo>
                        <a:pt x="106" y="327"/>
                      </a:lnTo>
                      <a:lnTo>
                        <a:pt x="140" y="363"/>
                      </a:lnTo>
                      <a:lnTo>
                        <a:pt x="175" y="395"/>
                      </a:lnTo>
                      <a:lnTo>
                        <a:pt x="212" y="423"/>
                      </a:lnTo>
                      <a:lnTo>
                        <a:pt x="251" y="447"/>
                      </a:lnTo>
                      <a:lnTo>
                        <a:pt x="293" y="467"/>
                      </a:lnTo>
                      <a:lnTo>
                        <a:pt x="335" y="482"/>
                      </a:lnTo>
                      <a:lnTo>
                        <a:pt x="380" y="493"/>
                      </a:lnTo>
                      <a:lnTo>
                        <a:pt x="427" y="500"/>
                      </a:lnTo>
                      <a:lnTo>
                        <a:pt x="477" y="503"/>
                      </a:lnTo>
                      <a:lnTo>
                        <a:pt x="477" y="501"/>
                      </a:lnTo>
                      <a:lnTo>
                        <a:pt x="478" y="501"/>
                      </a:lnTo>
                      <a:lnTo>
                        <a:pt x="480" y="501"/>
                      </a:lnTo>
                      <a:lnTo>
                        <a:pt x="485" y="501"/>
                      </a:lnTo>
                      <a:lnTo>
                        <a:pt x="494" y="501"/>
                      </a:lnTo>
                      <a:lnTo>
                        <a:pt x="512" y="500"/>
                      </a:lnTo>
                      <a:lnTo>
                        <a:pt x="548" y="497"/>
                      </a:lnTo>
                      <a:lnTo>
                        <a:pt x="582" y="491"/>
                      </a:lnTo>
                      <a:lnTo>
                        <a:pt x="616" y="483"/>
                      </a:lnTo>
                      <a:lnTo>
                        <a:pt x="634" y="454"/>
                      </a:lnTo>
                      <a:lnTo>
                        <a:pt x="596" y="465"/>
                      </a:lnTo>
                      <a:lnTo>
                        <a:pt x="557" y="474"/>
                      </a:lnTo>
                      <a:lnTo>
                        <a:pt x="537" y="476"/>
                      </a:lnTo>
                      <a:lnTo>
                        <a:pt x="517" y="479"/>
                      </a:lnTo>
                      <a:lnTo>
                        <a:pt x="477" y="481"/>
                      </a:lnTo>
                      <a:lnTo>
                        <a:pt x="429" y="479"/>
                      </a:lnTo>
                      <a:lnTo>
                        <a:pt x="385" y="472"/>
                      </a:lnTo>
                      <a:lnTo>
                        <a:pt x="342" y="461"/>
                      </a:lnTo>
                      <a:lnTo>
                        <a:pt x="302" y="447"/>
                      </a:lnTo>
                      <a:lnTo>
                        <a:pt x="262" y="428"/>
                      </a:lnTo>
                      <a:lnTo>
                        <a:pt x="225" y="405"/>
                      </a:lnTo>
                      <a:lnTo>
                        <a:pt x="189" y="378"/>
                      </a:lnTo>
                      <a:lnTo>
                        <a:pt x="156" y="347"/>
                      </a:lnTo>
                      <a:lnTo>
                        <a:pt x="139" y="329"/>
                      </a:lnTo>
                      <a:lnTo>
                        <a:pt x="124" y="312"/>
                      </a:lnTo>
                      <a:lnTo>
                        <a:pt x="97" y="276"/>
                      </a:lnTo>
                      <a:lnTo>
                        <a:pt x="84" y="256"/>
                      </a:lnTo>
                      <a:lnTo>
                        <a:pt x="74" y="238"/>
                      </a:lnTo>
                      <a:lnTo>
                        <a:pt x="56" y="200"/>
                      </a:lnTo>
                      <a:lnTo>
                        <a:pt x="40" y="159"/>
                      </a:lnTo>
                      <a:lnTo>
                        <a:pt x="34" y="137"/>
                      </a:lnTo>
                      <a:lnTo>
                        <a:pt x="31" y="117"/>
                      </a:lnTo>
                      <a:lnTo>
                        <a:pt x="26" y="94"/>
                      </a:lnTo>
                      <a:lnTo>
                        <a:pt x="24" y="73"/>
                      </a:lnTo>
                      <a:lnTo>
                        <a:pt x="23" y="27"/>
                      </a:lnTo>
                      <a:lnTo>
                        <a:pt x="2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07040" y="2899080"/>
                  <a:ext cx="16704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7">
                      <a:moveTo>
                        <a:pt x="34" y="0"/>
                      </a:moveTo>
                      <a:lnTo>
                        <a:pt x="9" y="14"/>
                      </a:lnTo>
                      <a:lnTo>
                        <a:pt x="4" y="34"/>
                      </a:lnTo>
                      <a:lnTo>
                        <a:pt x="2" y="55"/>
                      </a:lnTo>
                      <a:lnTo>
                        <a:pt x="0" y="99"/>
                      </a:lnTo>
                      <a:lnTo>
                        <a:pt x="1" y="138"/>
                      </a:lnTo>
                      <a:lnTo>
                        <a:pt x="6" y="177"/>
                      </a:lnTo>
                      <a:lnTo>
                        <a:pt x="14" y="213"/>
                      </a:lnTo>
                      <a:lnTo>
                        <a:pt x="20" y="230"/>
                      </a:lnTo>
                      <a:lnTo>
                        <a:pt x="28" y="248"/>
                      </a:lnTo>
                      <a:lnTo>
                        <a:pt x="43" y="281"/>
                      </a:lnTo>
                      <a:lnTo>
                        <a:pt x="52" y="297"/>
                      </a:lnTo>
                      <a:lnTo>
                        <a:pt x="63" y="314"/>
                      </a:lnTo>
                      <a:lnTo>
                        <a:pt x="73" y="328"/>
                      </a:lnTo>
                      <a:lnTo>
                        <a:pt x="86" y="344"/>
                      </a:lnTo>
                      <a:lnTo>
                        <a:pt x="113" y="374"/>
                      </a:lnTo>
                      <a:lnTo>
                        <a:pt x="141" y="400"/>
                      </a:lnTo>
                      <a:lnTo>
                        <a:pt x="172" y="423"/>
                      </a:lnTo>
                      <a:lnTo>
                        <a:pt x="204" y="442"/>
                      </a:lnTo>
                      <a:lnTo>
                        <a:pt x="239" y="459"/>
                      </a:lnTo>
                      <a:lnTo>
                        <a:pt x="273" y="470"/>
                      </a:lnTo>
                      <a:lnTo>
                        <a:pt x="310" y="479"/>
                      </a:lnTo>
                      <a:lnTo>
                        <a:pt x="348" y="485"/>
                      </a:lnTo>
                      <a:lnTo>
                        <a:pt x="389" y="487"/>
                      </a:lnTo>
                      <a:lnTo>
                        <a:pt x="414" y="486"/>
                      </a:lnTo>
                      <a:lnTo>
                        <a:pt x="440" y="484"/>
                      </a:lnTo>
                      <a:lnTo>
                        <a:pt x="463" y="479"/>
                      </a:lnTo>
                      <a:lnTo>
                        <a:pt x="488" y="475"/>
                      </a:lnTo>
                      <a:lnTo>
                        <a:pt x="511" y="467"/>
                      </a:lnTo>
                      <a:lnTo>
                        <a:pt x="522" y="462"/>
                      </a:lnTo>
                      <a:lnTo>
                        <a:pt x="528" y="460"/>
                      </a:lnTo>
                      <a:lnTo>
                        <a:pt x="535" y="459"/>
                      </a:lnTo>
                      <a:lnTo>
                        <a:pt x="539" y="455"/>
                      </a:lnTo>
                      <a:lnTo>
                        <a:pt x="545" y="453"/>
                      </a:lnTo>
                      <a:lnTo>
                        <a:pt x="556" y="449"/>
                      </a:lnTo>
                      <a:lnTo>
                        <a:pt x="579" y="438"/>
                      </a:lnTo>
                      <a:lnTo>
                        <a:pt x="581" y="424"/>
                      </a:lnTo>
                      <a:lnTo>
                        <a:pt x="585" y="410"/>
                      </a:lnTo>
                      <a:lnTo>
                        <a:pt x="562" y="423"/>
                      </a:lnTo>
                      <a:lnTo>
                        <a:pt x="539" y="434"/>
                      </a:lnTo>
                      <a:lnTo>
                        <a:pt x="516" y="443"/>
                      </a:lnTo>
                      <a:lnTo>
                        <a:pt x="509" y="444"/>
                      </a:lnTo>
                      <a:lnTo>
                        <a:pt x="503" y="446"/>
                      </a:lnTo>
                      <a:lnTo>
                        <a:pt x="492" y="451"/>
                      </a:lnTo>
                      <a:lnTo>
                        <a:pt x="478" y="453"/>
                      </a:lnTo>
                      <a:lnTo>
                        <a:pt x="471" y="454"/>
                      </a:lnTo>
                      <a:lnTo>
                        <a:pt x="466" y="457"/>
                      </a:lnTo>
                      <a:lnTo>
                        <a:pt x="441" y="461"/>
                      </a:lnTo>
                      <a:lnTo>
                        <a:pt x="427" y="462"/>
                      </a:lnTo>
                      <a:lnTo>
                        <a:pt x="415" y="465"/>
                      </a:lnTo>
                      <a:lnTo>
                        <a:pt x="401" y="465"/>
                      </a:lnTo>
                      <a:lnTo>
                        <a:pt x="394" y="465"/>
                      </a:lnTo>
                      <a:lnTo>
                        <a:pt x="391" y="465"/>
                      </a:lnTo>
                      <a:lnTo>
                        <a:pt x="389" y="466"/>
                      </a:lnTo>
                      <a:lnTo>
                        <a:pt x="350" y="463"/>
                      </a:lnTo>
                      <a:lnTo>
                        <a:pt x="315" y="459"/>
                      </a:lnTo>
                      <a:lnTo>
                        <a:pt x="280" y="450"/>
                      </a:lnTo>
                      <a:lnTo>
                        <a:pt x="247" y="438"/>
                      </a:lnTo>
                      <a:lnTo>
                        <a:pt x="214" y="423"/>
                      </a:lnTo>
                      <a:lnTo>
                        <a:pt x="184" y="404"/>
                      </a:lnTo>
                      <a:lnTo>
                        <a:pt x="155" y="383"/>
                      </a:lnTo>
                      <a:lnTo>
                        <a:pt x="129" y="359"/>
                      </a:lnTo>
                      <a:lnTo>
                        <a:pt x="103" y="331"/>
                      </a:lnTo>
                      <a:lnTo>
                        <a:pt x="81" y="301"/>
                      </a:lnTo>
                      <a:lnTo>
                        <a:pt x="62" y="271"/>
                      </a:lnTo>
                      <a:lnTo>
                        <a:pt x="47" y="240"/>
                      </a:lnTo>
                      <a:lnTo>
                        <a:pt x="35" y="206"/>
                      </a:lnTo>
                      <a:lnTo>
                        <a:pt x="27" y="172"/>
                      </a:lnTo>
                      <a:lnTo>
                        <a:pt x="22" y="136"/>
                      </a:lnTo>
                      <a:lnTo>
                        <a:pt x="21" y="99"/>
                      </a:lnTo>
                      <a:lnTo>
                        <a:pt x="21" y="72"/>
                      </a:lnTo>
                      <a:lnTo>
                        <a:pt x="23" y="47"/>
                      </a:lnTo>
                      <a:lnTo>
                        <a:pt x="27" y="22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088680" y="2913840"/>
                  <a:ext cx="178200" cy="143280"/>
                </a:xfrm>
                <a:custGeom>
                  <a:avLst/>
                  <a:gdLst/>
                  <a:ahLst/>
                  <a:rect l="l" t="t" r="r" b="b"/>
                  <a:pathLst>
                    <a:path w="625" h="502">
                      <a:moveTo>
                        <a:pt x="0" y="21"/>
                      </a:moveTo>
                      <a:lnTo>
                        <a:pt x="0" y="48"/>
                      </a:lnTo>
                      <a:lnTo>
                        <a:pt x="1" y="94"/>
                      </a:lnTo>
                      <a:lnTo>
                        <a:pt x="3" y="115"/>
                      </a:lnTo>
                      <a:lnTo>
                        <a:pt x="8" y="138"/>
                      </a:lnTo>
                      <a:lnTo>
                        <a:pt x="11" y="158"/>
                      </a:lnTo>
                      <a:lnTo>
                        <a:pt x="17" y="180"/>
                      </a:lnTo>
                      <a:lnTo>
                        <a:pt x="33" y="221"/>
                      </a:lnTo>
                      <a:lnTo>
                        <a:pt x="51" y="259"/>
                      </a:lnTo>
                      <a:lnTo>
                        <a:pt x="61" y="277"/>
                      </a:lnTo>
                      <a:lnTo>
                        <a:pt x="74" y="297"/>
                      </a:lnTo>
                      <a:lnTo>
                        <a:pt x="101" y="333"/>
                      </a:lnTo>
                      <a:lnTo>
                        <a:pt x="116" y="350"/>
                      </a:lnTo>
                      <a:lnTo>
                        <a:pt x="133" y="368"/>
                      </a:lnTo>
                      <a:lnTo>
                        <a:pt x="166" y="399"/>
                      </a:lnTo>
                      <a:lnTo>
                        <a:pt x="202" y="426"/>
                      </a:lnTo>
                      <a:lnTo>
                        <a:pt x="239" y="449"/>
                      </a:lnTo>
                      <a:lnTo>
                        <a:pt x="279" y="468"/>
                      </a:lnTo>
                      <a:lnTo>
                        <a:pt x="319" y="482"/>
                      </a:lnTo>
                      <a:lnTo>
                        <a:pt x="362" y="493"/>
                      </a:lnTo>
                      <a:lnTo>
                        <a:pt x="406" y="500"/>
                      </a:lnTo>
                      <a:lnTo>
                        <a:pt x="454" y="502"/>
                      </a:lnTo>
                      <a:lnTo>
                        <a:pt x="494" y="500"/>
                      </a:lnTo>
                      <a:lnTo>
                        <a:pt x="514" y="497"/>
                      </a:lnTo>
                      <a:lnTo>
                        <a:pt x="534" y="495"/>
                      </a:lnTo>
                      <a:lnTo>
                        <a:pt x="573" y="486"/>
                      </a:lnTo>
                      <a:lnTo>
                        <a:pt x="611" y="475"/>
                      </a:lnTo>
                      <a:lnTo>
                        <a:pt x="625" y="446"/>
                      </a:lnTo>
                      <a:lnTo>
                        <a:pt x="584" y="460"/>
                      </a:lnTo>
                      <a:lnTo>
                        <a:pt x="573" y="462"/>
                      </a:lnTo>
                      <a:lnTo>
                        <a:pt x="569" y="462"/>
                      </a:lnTo>
                      <a:lnTo>
                        <a:pt x="567" y="463"/>
                      </a:lnTo>
                      <a:lnTo>
                        <a:pt x="562" y="466"/>
                      </a:lnTo>
                      <a:lnTo>
                        <a:pt x="542" y="471"/>
                      </a:lnTo>
                      <a:lnTo>
                        <a:pt x="519" y="475"/>
                      </a:lnTo>
                      <a:lnTo>
                        <a:pt x="508" y="476"/>
                      </a:lnTo>
                      <a:lnTo>
                        <a:pt x="498" y="478"/>
                      </a:lnTo>
                      <a:lnTo>
                        <a:pt x="475" y="479"/>
                      </a:lnTo>
                      <a:lnTo>
                        <a:pt x="464" y="479"/>
                      </a:lnTo>
                      <a:lnTo>
                        <a:pt x="458" y="479"/>
                      </a:lnTo>
                      <a:lnTo>
                        <a:pt x="454" y="480"/>
                      </a:lnTo>
                      <a:lnTo>
                        <a:pt x="408" y="478"/>
                      </a:lnTo>
                      <a:lnTo>
                        <a:pt x="366" y="473"/>
                      </a:lnTo>
                      <a:lnTo>
                        <a:pt x="325" y="462"/>
                      </a:lnTo>
                      <a:lnTo>
                        <a:pt x="287" y="449"/>
                      </a:lnTo>
                      <a:lnTo>
                        <a:pt x="248" y="431"/>
                      </a:lnTo>
                      <a:lnTo>
                        <a:pt x="213" y="409"/>
                      </a:lnTo>
                      <a:lnTo>
                        <a:pt x="179" y="383"/>
                      </a:lnTo>
                      <a:lnTo>
                        <a:pt x="147" y="353"/>
                      </a:lnTo>
                      <a:lnTo>
                        <a:pt x="117" y="321"/>
                      </a:lnTo>
                      <a:lnTo>
                        <a:pt x="92" y="287"/>
                      </a:lnTo>
                      <a:lnTo>
                        <a:pt x="69" y="250"/>
                      </a:lnTo>
                      <a:lnTo>
                        <a:pt x="52" y="213"/>
                      </a:lnTo>
                      <a:lnTo>
                        <a:pt x="37" y="173"/>
                      </a:lnTo>
                      <a:lnTo>
                        <a:pt x="32" y="153"/>
                      </a:lnTo>
                      <a:lnTo>
                        <a:pt x="28" y="134"/>
                      </a:lnTo>
                      <a:lnTo>
                        <a:pt x="23" y="92"/>
                      </a:lnTo>
                      <a:lnTo>
                        <a:pt x="22" y="48"/>
                      </a:lnTo>
                      <a:lnTo>
                        <a:pt x="22" y="22"/>
                      </a:lnTo>
                      <a:lnTo>
                        <a:pt x="24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94440" y="2908080"/>
                  <a:ext cx="176040" cy="142560"/>
                </a:xfrm>
                <a:custGeom>
                  <a:avLst/>
                  <a:gdLst/>
                  <a:ahLst/>
                  <a:rect l="l" t="t" r="r" b="b"/>
                  <a:pathLst>
                    <a:path w="614" h="500">
                      <a:moveTo>
                        <a:pt x="21" y="68"/>
                      </a:moveTo>
                      <a:lnTo>
                        <a:pt x="22" y="33"/>
                      </a:lnTo>
                      <a:lnTo>
                        <a:pt x="26" y="0"/>
                      </a:lnTo>
                      <a:lnTo>
                        <a:pt x="2" y="20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1" y="112"/>
                      </a:lnTo>
                      <a:lnTo>
                        <a:pt x="6" y="154"/>
                      </a:lnTo>
                      <a:lnTo>
                        <a:pt x="10" y="173"/>
                      </a:lnTo>
                      <a:lnTo>
                        <a:pt x="15" y="193"/>
                      </a:lnTo>
                      <a:lnTo>
                        <a:pt x="30" y="233"/>
                      </a:lnTo>
                      <a:lnTo>
                        <a:pt x="47" y="270"/>
                      </a:lnTo>
                      <a:lnTo>
                        <a:pt x="70" y="307"/>
                      </a:lnTo>
                      <a:lnTo>
                        <a:pt x="95" y="341"/>
                      </a:lnTo>
                      <a:lnTo>
                        <a:pt x="125" y="373"/>
                      </a:lnTo>
                      <a:lnTo>
                        <a:pt x="157" y="403"/>
                      </a:lnTo>
                      <a:lnTo>
                        <a:pt x="191" y="429"/>
                      </a:lnTo>
                      <a:lnTo>
                        <a:pt x="226" y="451"/>
                      </a:lnTo>
                      <a:lnTo>
                        <a:pt x="265" y="469"/>
                      </a:lnTo>
                      <a:lnTo>
                        <a:pt x="303" y="482"/>
                      </a:lnTo>
                      <a:lnTo>
                        <a:pt x="344" y="493"/>
                      </a:lnTo>
                      <a:lnTo>
                        <a:pt x="386" y="498"/>
                      </a:lnTo>
                      <a:lnTo>
                        <a:pt x="432" y="500"/>
                      </a:lnTo>
                      <a:lnTo>
                        <a:pt x="436" y="499"/>
                      </a:lnTo>
                      <a:lnTo>
                        <a:pt x="442" y="499"/>
                      </a:lnTo>
                      <a:lnTo>
                        <a:pt x="453" y="499"/>
                      </a:lnTo>
                      <a:lnTo>
                        <a:pt x="476" y="498"/>
                      </a:lnTo>
                      <a:lnTo>
                        <a:pt x="486" y="496"/>
                      </a:lnTo>
                      <a:lnTo>
                        <a:pt x="497" y="495"/>
                      </a:lnTo>
                      <a:lnTo>
                        <a:pt x="520" y="491"/>
                      </a:lnTo>
                      <a:lnTo>
                        <a:pt x="540" y="486"/>
                      </a:lnTo>
                      <a:lnTo>
                        <a:pt x="545" y="483"/>
                      </a:lnTo>
                      <a:lnTo>
                        <a:pt x="547" y="482"/>
                      </a:lnTo>
                      <a:lnTo>
                        <a:pt x="551" y="482"/>
                      </a:lnTo>
                      <a:lnTo>
                        <a:pt x="562" y="480"/>
                      </a:lnTo>
                      <a:lnTo>
                        <a:pt x="603" y="466"/>
                      </a:lnTo>
                      <a:lnTo>
                        <a:pt x="614" y="437"/>
                      </a:lnTo>
                      <a:lnTo>
                        <a:pt x="591" y="446"/>
                      </a:lnTo>
                      <a:lnTo>
                        <a:pt x="571" y="454"/>
                      </a:lnTo>
                      <a:lnTo>
                        <a:pt x="548" y="461"/>
                      </a:lnTo>
                      <a:lnTo>
                        <a:pt x="527" y="468"/>
                      </a:lnTo>
                      <a:lnTo>
                        <a:pt x="503" y="472"/>
                      </a:lnTo>
                      <a:lnTo>
                        <a:pt x="480" y="475"/>
                      </a:lnTo>
                      <a:lnTo>
                        <a:pt x="455" y="478"/>
                      </a:lnTo>
                      <a:lnTo>
                        <a:pt x="443" y="478"/>
                      </a:lnTo>
                      <a:lnTo>
                        <a:pt x="432" y="479"/>
                      </a:lnTo>
                      <a:lnTo>
                        <a:pt x="388" y="477"/>
                      </a:lnTo>
                      <a:lnTo>
                        <a:pt x="349" y="471"/>
                      </a:lnTo>
                      <a:lnTo>
                        <a:pt x="310" y="461"/>
                      </a:lnTo>
                      <a:lnTo>
                        <a:pt x="274" y="448"/>
                      </a:lnTo>
                      <a:lnTo>
                        <a:pt x="238" y="430"/>
                      </a:lnTo>
                      <a:lnTo>
                        <a:pt x="204" y="410"/>
                      </a:lnTo>
                      <a:lnTo>
                        <a:pt x="171" y="385"/>
                      </a:lnTo>
                      <a:lnTo>
                        <a:pt x="141" y="358"/>
                      </a:lnTo>
                      <a:lnTo>
                        <a:pt x="112" y="326"/>
                      </a:lnTo>
                      <a:lnTo>
                        <a:pt x="88" y="294"/>
                      </a:lnTo>
                      <a:lnTo>
                        <a:pt x="66" y="260"/>
                      </a:lnTo>
                      <a:lnTo>
                        <a:pt x="57" y="242"/>
                      </a:lnTo>
                      <a:lnTo>
                        <a:pt x="51" y="225"/>
                      </a:lnTo>
                      <a:lnTo>
                        <a:pt x="43" y="206"/>
                      </a:lnTo>
                      <a:lnTo>
                        <a:pt x="37" y="188"/>
                      </a:lnTo>
                      <a:lnTo>
                        <a:pt x="28" y="149"/>
                      </a:lnTo>
                      <a:lnTo>
                        <a:pt x="22" y="109"/>
                      </a:lnTo>
                      <a:lnTo>
                        <a:pt x="21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100560" y="2903760"/>
                  <a:ext cx="172080" cy="140760"/>
                </a:xfrm>
                <a:custGeom>
                  <a:avLst/>
                  <a:gdLst/>
                  <a:ahLst/>
                  <a:rect l="l" t="t" r="r" b="b"/>
                  <a:pathLst>
                    <a:path w="601" h="496">
                      <a:moveTo>
                        <a:pt x="5" y="17"/>
                      </a:moveTo>
                      <a:lnTo>
                        <a:pt x="1" y="50"/>
                      </a:lnTo>
                      <a:lnTo>
                        <a:pt x="0" y="85"/>
                      </a:lnTo>
                      <a:lnTo>
                        <a:pt x="1" y="126"/>
                      </a:lnTo>
                      <a:lnTo>
                        <a:pt x="7" y="166"/>
                      </a:lnTo>
                      <a:lnTo>
                        <a:pt x="16" y="205"/>
                      </a:lnTo>
                      <a:lnTo>
                        <a:pt x="22" y="223"/>
                      </a:lnTo>
                      <a:lnTo>
                        <a:pt x="30" y="242"/>
                      </a:lnTo>
                      <a:lnTo>
                        <a:pt x="36" y="259"/>
                      </a:lnTo>
                      <a:lnTo>
                        <a:pt x="45" y="277"/>
                      </a:lnTo>
                      <a:lnTo>
                        <a:pt x="67" y="311"/>
                      </a:lnTo>
                      <a:lnTo>
                        <a:pt x="91" y="343"/>
                      </a:lnTo>
                      <a:lnTo>
                        <a:pt x="120" y="375"/>
                      </a:lnTo>
                      <a:lnTo>
                        <a:pt x="150" y="402"/>
                      </a:lnTo>
                      <a:lnTo>
                        <a:pt x="183" y="427"/>
                      </a:lnTo>
                      <a:lnTo>
                        <a:pt x="217" y="447"/>
                      </a:lnTo>
                      <a:lnTo>
                        <a:pt x="253" y="465"/>
                      </a:lnTo>
                      <a:lnTo>
                        <a:pt x="289" y="478"/>
                      </a:lnTo>
                      <a:lnTo>
                        <a:pt x="328" y="488"/>
                      </a:lnTo>
                      <a:lnTo>
                        <a:pt x="367" y="494"/>
                      </a:lnTo>
                      <a:lnTo>
                        <a:pt x="411" y="496"/>
                      </a:lnTo>
                      <a:lnTo>
                        <a:pt x="422" y="495"/>
                      </a:lnTo>
                      <a:lnTo>
                        <a:pt x="434" y="495"/>
                      </a:lnTo>
                      <a:lnTo>
                        <a:pt x="459" y="492"/>
                      </a:lnTo>
                      <a:lnTo>
                        <a:pt x="482" y="489"/>
                      </a:lnTo>
                      <a:lnTo>
                        <a:pt x="506" y="485"/>
                      </a:lnTo>
                      <a:lnTo>
                        <a:pt x="527" y="478"/>
                      </a:lnTo>
                      <a:lnTo>
                        <a:pt x="550" y="471"/>
                      </a:lnTo>
                      <a:lnTo>
                        <a:pt x="570" y="463"/>
                      </a:lnTo>
                      <a:lnTo>
                        <a:pt x="593" y="454"/>
                      </a:lnTo>
                      <a:lnTo>
                        <a:pt x="601" y="424"/>
                      </a:lnTo>
                      <a:lnTo>
                        <a:pt x="578" y="435"/>
                      </a:lnTo>
                      <a:lnTo>
                        <a:pt x="567" y="439"/>
                      </a:lnTo>
                      <a:lnTo>
                        <a:pt x="561" y="441"/>
                      </a:lnTo>
                      <a:lnTo>
                        <a:pt x="557" y="445"/>
                      </a:lnTo>
                      <a:lnTo>
                        <a:pt x="550" y="446"/>
                      </a:lnTo>
                      <a:lnTo>
                        <a:pt x="544" y="448"/>
                      </a:lnTo>
                      <a:lnTo>
                        <a:pt x="533" y="453"/>
                      </a:lnTo>
                      <a:lnTo>
                        <a:pt x="510" y="461"/>
                      </a:lnTo>
                      <a:lnTo>
                        <a:pt x="485" y="465"/>
                      </a:lnTo>
                      <a:lnTo>
                        <a:pt x="462" y="470"/>
                      </a:lnTo>
                      <a:lnTo>
                        <a:pt x="436" y="472"/>
                      </a:lnTo>
                      <a:lnTo>
                        <a:pt x="411" y="473"/>
                      </a:lnTo>
                      <a:lnTo>
                        <a:pt x="370" y="471"/>
                      </a:lnTo>
                      <a:lnTo>
                        <a:pt x="332" y="465"/>
                      </a:lnTo>
                      <a:lnTo>
                        <a:pt x="295" y="456"/>
                      </a:lnTo>
                      <a:lnTo>
                        <a:pt x="261" y="445"/>
                      </a:lnTo>
                      <a:lnTo>
                        <a:pt x="226" y="428"/>
                      </a:lnTo>
                      <a:lnTo>
                        <a:pt x="194" y="409"/>
                      </a:lnTo>
                      <a:lnTo>
                        <a:pt x="163" y="386"/>
                      </a:lnTo>
                      <a:lnTo>
                        <a:pt x="135" y="360"/>
                      </a:lnTo>
                      <a:lnTo>
                        <a:pt x="108" y="330"/>
                      </a:lnTo>
                      <a:lnTo>
                        <a:pt x="95" y="314"/>
                      </a:lnTo>
                      <a:lnTo>
                        <a:pt x="85" y="300"/>
                      </a:lnTo>
                      <a:lnTo>
                        <a:pt x="74" y="283"/>
                      </a:lnTo>
                      <a:lnTo>
                        <a:pt x="65" y="267"/>
                      </a:lnTo>
                      <a:lnTo>
                        <a:pt x="50" y="234"/>
                      </a:lnTo>
                      <a:lnTo>
                        <a:pt x="42" y="216"/>
                      </a:lnTo>
                      <a:lnTo>
                        <a:pt x="36" y="199"/>
                      </a:lnTo>
                      <a:lnTo>
                        <a:pt x="28" y="163"/>
                      </a:lnTo>
                      <a:lnTo>
                        <a:pt x="23" y="124"/>
                      </a:lnTo>
                      <a:lnTo>
                        <a:pt x="22" y="85"/>
                      </a:lnTo>
                      <a:lnTo>
                        <a:pt x="24" y="41"/>
                      </a:lnTo>
                      <a:lnTo>
                        <a:pt x="26" y="20"/>
                      </a:lnTo>
                      <a:lnTo>
                        <a:pt x="31" y="0"/>
                      </a:lnTo>
                      <a:lnTo>
                        <a:pt x="5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113160" y="289548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9">
                      <a:moveTo>
                        <a:pt x="13" y="13"/>
                      </a:moveTo>
                      <a:lnTo>
                        <a:pt x="6" y="35"/>
                      </a:lnTo>
                      <a:lnTo>
                        <a:pt x="2" y="60"/>
                      </a:lnTo>
                      <a:lnTo>
                        <a:pt x="0" y="85"/>
                      </a:lnTo>
                      <a:lnTo>
                        <a:pt x="0" y="112"/>
                      </a:lnTo>
                      <a:lnTo>
                        <a:pt x="1" y="149"/>
                      </a:lnTo>
                      <a:lnTo>
                        <a:pt x="6" y="185"/>
                      </a:lnTo>
                      <a:lnTo>
                        <a:pt x="14" y="219"/>
                      </a:lnTo>
                      <a:lnTo>
                        <a:pt x="26" y="253"/>
                      </a:lnTo>
                      <a:lnTo>
                        <a:pt x="41" y="284"/>
                      </a:lnTo>
                      <a:lnTo>
                        <a:pt x="60" y="314"/>
                      </a:lnTo>
                      <a:lnTo>
                        <a:pt x="82" y="344"/>
                      </a:lnTo>
                      <a:lnTo>
                        <a:pt x="108" y="372"/>
                      </a:lnTo>
                      <a:lnTo>
                        <a:pt x="134" y="396"/>
                      </a:lnTo>
                      <a:lnTo>
                        <a:pt x="163" y="417"/>
                      </a:lnTo>
                      <a:lnTo>
                        <a:pt x="193" y="436"/>
                      </a:lnTo>
                      <a:lnTo>
                        <a:pt x="226" y="451"/>
                      </a:lnTo>
                      <a:lnTo>
                        <a:pt x="259" y="463"/>
                      </a:lnTo>
                      <a:lnTo>
                        <a:pt x="294" y="472"/>
                      </a:lnTo>
                      <a:lnTo>
                        <a:pt x="329" y="476"/>
                      </a:lnTo>
                      <a:lnTo>
                        <a:pt x="368" y="479"/>
                      </a:lnTo>
                      <a:lnTo>
                        <a:pt x="370" y="478"/>
                      </a:lnTo>
                      <a:lnTo>
                        <a:pt x="373" y="478"/>
                      </a:lnTo>
                      <a:lnTo>
                        <a:pt x="380" y="478"/>
                      </a:lnTo>
                      <a:lnTo>
                        <a:pt x="394" y="478"/>
                      </a:lnTo>
                      <a:lnTo>
                        <a:pt x="406" y="475"/>
                      </a:lnTo>
                      <a:lnTo>
                        <a:pt x="420" y="474"/>
                      </a:lnTo>
                      <a:lnTo>
                        <a:pt x="445" y="470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1" y="464"/>
                      </a:lnTo>
                      <a:lnTo>
                        <a:pt x="482" y="459"/>
                      </a:lnTo>
                      <a:lnTo>
                        <a:pt x="488" y="457"/>
                      </a:lnTo>
                      <a:lnTo>
                        <a:pt x="495" y="456"/>
                      </a:lnTo>
                      <a:lnTo>
                        <a:pt x="518" y="447"/>
                      </a:lnTo>
                      <a:lnTo>
                        <a:pt x="541" y="436"/>
                      </a:lnTo>
                      <a:lnTo>
                        <a:pt x="564" y="423"/>
                      </a:lnTo>
                      <a:lnTo>
                        <a:pt x="568" y="394"/>
                      </a:lnTo>
                      <a:lnTo>
                        <a:pt x="556" y="400"/>
                      </a:lnTo>
                      <a:lnTo>
                        <a:pt x="544" y="408"/>
                      </a:lnTo>
                      <a:lnTo>
                        <a:pt x="522" y="421"/>
                      </a:lnTo>
                      <a:lnTo>
                        <a:pt x="509" y="425"/>
                      </a:lnTo>
                      <a:lnTo>
                        <a:pt x="498" y="431"/>
                      </a:lnTo>
                      <a:lnTo>
                        <a:pt x="485" y="436"/>
                      </a:lnTo>
                      <a:lnTo>
                        <a:pt x="474" y="441"/>
                      </a:lnTo>
                      <a:lnTo>
                        <a:pt x="448" y="448"/>
                      </a:lnTo>
                      <a:lnTo>
                        <a:pt x="434" y="450"/>
                      </a:lnTo>
                      <a:lnTo>
                        <a:pt x="428" y="451"/>
                      </a:lnTo>
                      <a:lnTo>
                        <a:pt x="422" y="454"/>
                      </a:lnTo>
                      <a:lnTo>
                        <a:pt x="395" y="457"/>
                      </a:lnTo>
                      <a:lnTo>
                        <a:pt x="368" y="458"/>
                      </a:lnTo>
                      <a:lnTo>
                        <a:pt x="331" y="456"/>
                      </a:lnTo>
                      <a:lnTo>
                        <a:pt x="297" y="451"/>
                      </a:lnTo>
                      <a:lnTo>
                        <a:pt x="264" y="442"/>
                      </a:lnTo>
                      <a:lnTo>
                        <a:pt x="234" y="432"/>
                      </a:lnTo>
                      <a:lnTo>
                        <a:pt x="203" y="417"/>
                      </a:lnTo>
                      <a:lnTo>
                        <a:pt x="175" y="400"/>
                      </a:lnTo>
                      <a:lnTo>
                        <a:pt x="148" y="379"/>
                      </a:lnTo>
                      <a:lnTo>
                        <a:pt x="123" y="356"/>
                      </a:lnTo>
                      <a:lnTo>
                        <a:pt x="98" y="329"/>
                      </a:lnTo>
                      <a:lnTo>
                        <a:pt x="77" y="302"/>
                      </a:lnTo>
                      <a:lnTo>
                        <a:pt x="60" y="273"/>
                      </a:lnTo>
                      <a:lnTo>
                        <a:pt x="47" y="244"/>
                      </a:lnTo>
                      <a:lnTo>
                        <a:pt x="35" y="212"/>
                      </a:lnTo>
                      <a:lnTo>
                        <a:pt x="27" y="180"/>
                      </a:lnTo>
                      <a:lnTo>
                        <a:pt x="23" y="146"/>
                      </a:lnTo>
                      <a:lnTo>
                        <a:pt x="22" y="112"/>
                      </a:lnTo>
                      <a:lnTo>
                        <a:pt x="23" y="82"/>
                      </a:lnTo>
                      <a:lnTo>
                        <a:pt x="26" y="54"/>
                      </a:lnTo>
                      <a:lnTo>
                        <a:pt x="32" y="26"/>
                      </a:lnTo>
                      <a:lnTo>
                        <a:pt x="40" y="0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118920" y="2892600"/>
                  <a:ext cx="156600" cy="133560"/>
                </a:xfrm>
                <a:custGeom>
                  <a:avLst/>
                  <a:gdLst/>
                  <a:ahLst/>
                  <a:rect l="l" t="t" r="r" b="b"/>
                  <a:pathLst>
                    <a:path w="547" h="468">
                      <a:moveTo>
                        <a:pt x="44" y="0"/>
                      </a:moveTo>
                      <a:lnTo>
                        <a:pt x="18" y="10"/>
                      </a:lnTo>
                      <a:lnTo>
                        <a:pt x="10" y="36"/>
                      </a:lnTo>
                      <a:lnTo>
                        <a:pt x="4" y="64"/>
                      </a:lnTo>
                      <a:lnTo>
                        <a:pt x="1" y="92"/>
                      </a:lnTo>
                      <a:lnTo>
                        <a:pt x="0" y="122"/>
                      </a:lnTo>
                      <a:lnTo>
                        <a:pt x="1" y="156"/>
                      </a:lnTo>
                      <a:lnTo>
                        <a:pt x="5" y="190"/>
                      </a:lnTo>
                      <a:lnTo>
                        <a:pt x="13" y="222"/>
                      </a:lnTo>
                      <a:lnTo>
                        <a:pt x="25" y="254"/>
                      </a:lnTo>
                      <a:lnTo>
                        <a:pt x="38" y="283"/>
                      </a:lnTo>
                      <a:lnTo>
                        <a:pt x="55" y="312"/>
                      </a:lnTo>
                      <a:lnTo>
                        <a:pt x="76" y="339"/>
                      </a:lnTo>
                      <a:lnTo>
                        <a:pt x="101" y="366"/>
                      </a:lnTo>
                      <a:lnTo>
                        <a:pt x="126" y="389"/>
                      </a:lnTo>
                      <a:lnTo>
                        <a:pt x="153" y="410"/>
                      </a:lnTo>
                      <a:lnTo>
                        <a:pt x="181" y="427"/>
                      </a:lnTo>
                      <a:lnTo>
                        <a:pt x="212" y="442"/>
                      </a:lnTo>
                      <a:lnTo>
                        <a:pt x="242" y="452"/>
                      </a:lnTo>
                      <a:lnTo>
                        <a:pt x="275" y="461"/>
                      </a:lnTo>
                      <a:lnTo>
                        <a:pt x="309" y="466"/>
                      </a:lnTo>
                      <a:lnTo>
                        <a:pt x="346" y="468"/>
                      </a:lnTo>
                      <a:lnTo>
                        <a:pt x="373" y="467"/>
                      </a:lnTo>
                      <a:lnTo>
                        <a:pt x="400" y="464"/>
                      </a:lnTo>
                      <a:lnTo>
                        <a:pt x="406" y="461"/>
                      </a:lnTo>
                      <a:lnTo>
                        <a:pt x="412" y="460"/>
                      </a:lnTo>
                      <a:lnTo>
                        <a:pt x="426" y="458"/>
                      </a:lnTo>
                      <a:lnTo>
                        <a:pt x="452" y="451"/>
                      </a:lnTo>
                      <a:lnTo>
                        <a:pt x="463" y="446"/>
                      </a:lnTo>
                      <a:lnTo>
                        <a:pt x="476" y="441"/>
                      </a:lnTo>
                      <a:lnTo>
                        <a:pt x="487" y="435"/>
                      </a:lnTo>
                      <a:lnTo>
                        <a:pt x="500" y="431"/>
                      </a:lnTo>
                      <a:lnTo>
                        <a:pt x="522" y="418"/>
                      </a:lnTo>
                      <a:lnTo>
                        <a:pt x="534" y="410"/>
                      </a:lnTo>
                      <a:lnTo>
                        <a:pt x="546" y="404"/>
                      </a:lnTo>
                      <a:lnTo>
                        <a:pt x="546" y="389"/>
                      </a:lnTo>
                      <a:lnTo>
                        <a:pt x="547" y="375"/>
                      </a:lnTo>
                      <a:lnTo>
                        <a:pt x="525" y="390"/>
                      </a:lnTo>
                      <a:lnTo>
                        <a:pt x="502" y="405"/>
                      </a:lnTo>
                      <a:lnTo>
                        <a:pt x="477" y="417"/>
                      </a:lnTo>
                      <a:lnTo>
                        <a:pt x="465" y="422"/>
                      </a:lnTo>
                      <a:lnTo>
                        <a:pt x="453" y="427"/>
                      </a:lnTo>
                      <a:lnTo>
                        <a:pt x="440" y="431"/>
                      </a:lnTo>
                      <a:lnTo>
                        <a:pt x="427" y="435"/>
                      </a:lnTo>
                      <a:lnTo>
                        <a:pt x="414" y="438"/>
                      </a:lnTo>
                      <a:lnTo>
                        <a:pt x="407" y="439"/>
                      </a:lnTo>
                      <a:lnTo>
                        <a:pt x="401" y="441"/>
                      </a:lnTo>
                      <a:lnTo>
                        <a:pt x="393" y="441"/>
                      </a:lnTo>
                      <a:lnTo>
                        <a:pt x="386" y="442"/>
                      </a:lnTo>
                      <a:lnTo>
                        <a:pt x="373" y="444"/>
                      </a:lnTo>
                      <a:lnTo>
                        <a:pt x="346" y="446"/>
                      </a:lnTo>
                      <a:lnTo>
                        <a:pt x="312" y="443"/>
                      </a:lnTo>
                      <a:lnTo>
                        <a:pt x="280" y="439"/>
                      </a:lnTo>
                      <a:lnTo>
                        <a:pt x="248" y="431"/>
                      </a:lnTo>
                      <a:lnTo>
                        <a:pt x="220" y="422"/>
                      </a:lnTo>
                      <a:lnTo>
                        <a:pt x="191" y="407"/>
                      </a:lnTo>
                      <a:lnTo>
                        <a:pt x="165" y="391"/>
                      </a:lnTo>
                      <a:lnTo>
                        <a:pt x="139" y="372"/>
                      </a:lnTo>
                      <a:lnTo>
                        <a:pt x="117" y="351"/>
                      </a:lnTo>
                      <a:lnTo>
                        <a:pt x="94" y="327"/>
                      </a:lnTo>
                      <a:lnTo>
                        <a:pt x="75" y="300"/>
                      </a:lnTo>
                      <a:lnTo>
                        <a:pt x="58" y="273"/>
                      </a:lnTo>
                      <a:lnTo>
                        <a:pt x="45" y="246"/>
                      </a:lnTo>
                      <a:lnTo>
                        <a:pt x="34" y="217"/>
                      </a:lnTo>
                      <a:lnTo>
                        <a:pt x="29" y="201"/>
                      </a:lnTo>
                      <a:lnTo>
                        <a:pt x="27" y="186"/>
                      </a:lnTo>
                      <a:lnTo>
                        <a:pt x="22" y="154"/>
                      </a:lnTo>
                      <a:lnTo>
                        <a:pt x="21" y="122"/>
                      </a:lnTo>
                      <a:lnTo>
                        <a:pt x="22" y="90"/>
                      </a:lnTo>
                      <a:lnTo>
                        <a:pt x="27" y="59"/>
                      </a:lnTo>
                      <a:lnTo>
                        <a:pt x="34" y="2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137640" y="288828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9">
                      <a:moveTo>
                        <a:pt x="22" y="138"/>
                      </a:moveTo>
                      <a:lnTo>
                        <a:pt x="24" y="100"/>
                      </a:lnTo>
                      <a:lnTo>
                        <a:pt x="31" y="65"/>
                      </a:lnTo>
                      <a:lnTo>
                        <a:pt x="42" y="31"/>
                      </a:lnTo>
                      <a:lnTo>
                        <a:pt x="60" y="0"/>
                      </a:lnTo>
                      <a:lnTo>
                        <a:pt x="34" y="4"/>
                      </a:lnTo>
                      <a:lnTo>
                        <a:pt x="19" y="34"/>
                      </a:lnTo>
                      <a:lnTo>
                        <a:pt x="8" y="67"/>
                      </a:lnTo>
                      <a:lnTo>
                        <a:pt x="2" y="101"/>
                      </a:lnTo>
                      <a:lnTo>
                        <a:pt x="0" y="138"/>
                      </a:lnTo>
                      <a:lnTo>
                        <a:pt x="2" y="166"/>
                      </a:lnTo>
                      <a:lnTo>
                        <a:pt x="5" y="193"/>
                      </a:lnTo>
                      <a:lnTo>
                        <a:pt x="11" y="219"/>
                      </a:lnTo>
                      <a:lnTo>
                        <a:pt x="21" y="245"/>
                      </a:lnTo>
                      <a:lnTo>
                        <a:pt x="31" y="269"/>
                      </a:lnTo>
                      <a:lnTo>
                        <a:pt x="46" y="293"/>
                      </a:lnTo>
                      <a:lnTo>
                        <a:pt x="63" y="314"/>
                      </a:lnTo>
                      <a:lnTo>
                        <a:pt x="83" y="337"/>
                      </a:lnTo>
                      <a:lnTo>
                        <a:pt x="104" y="355"/>
                      </a:lnTo>
                      <a:lnTo>
                        <a:pt x="125" y="372"/>
                      </a:lnTo>
                      <a:lnTo>
                        <a:pt x="148" y="386"/>
                      </a:lnTo>
                      <a:lnTo>
                        <a:pt x="173" y="398"/>
                      </a:lnTo>
                      <a:lnTo>
                        <a:pt x="198" y="406"/>
                      </a:lnTo>
                      <a:lnTo>
                        <a:pt x="225" y="413"/>
                      </a:lnTo>
                      <a:lnTo>
                        <a:pt x="252" y="416"/>
                      </a:lnTo>
                      <a:lnTo>
                        <a:pt x="282" y="419"/>
                      </a:lnTo>
                      <a:lnTo>
                        <a:pt x="309" y="416"/>
                      </a:lnTo>
                      <a:lnTo>
                        <a:pt x="336" y="413"/>
                      </a:lnTo>
                      <a:lnTo>
                        <a:pt x="342" y="411"/>
                      </a:lnTo>
                      <a:lnTo>
                        <a:pt x="348" y="409"/>
                      </a:lnTo>
                      <a:lnTo>
                        <a:pt x="362" y="406"/>
                      </a:lnTo>
                      <a:lnTo>
                        <a:pt x="375" y="402"/>
                      </a:lnTo>
                      <a:lnTo>
                        <a:pt x="388" y="398"/>
                      </a:lnTo>
                      <a:lnTo>
                        <a:pt x="399" y="391"/>
                      </a:lnTo>
                      <a:lnTo>
                        <a:pt x="402" y="389"/>
                      </a:lnTo>
                      <a:lnTo>
                        <a:pt x="403" y="388"/>
                      </a:lnTo>
                      <a:lnTo>
                        <a:pt x="405" y="388"/>
                      </a:lnTo>
                      <a:lnTo>
                        <a:pt x="412" y="386"/>
                      </a:lnTo>
                      <a:lnTo>
                        <a:pt x="423" y="379"/>
                      </a:lnTo>
                      <a:lnTo>
                        <a:pt x="436" y="372"/>
                      </a:lnTo>
                      <a:lnTo>
                        <a:pt x="446" y="363"/>
                      </a:lnTo>
                      <a:lnTo>
                        <a:pt x="457" y="355"/>
                      </a:lnTo>
                      <a:lnTo>
                        <a:pt x="480" y="337"/>
                      </a:lnTo>
                      <a:lnTo>
                        <a:pt x="481" y="335"/>
                      </a:lnTo>
                      <a:lnTo>
                        <a:pt x="477" y="309"/>
                      </a:lnTo>
                      <a:lnTo>
                        <a:pt x="470" y="314"/>
                      </a:lnTo>
                      <a:lnTo>
                        <a:pt x="464" y="321"/>
                      </a:lnTo>
                      <a:lnTo>
                        <a:pt x="444" y="338"/>
                      </a:lnTo>
                      <a:lnTo>
                        <a:pt x="423" y="353"/>
                      </a:lnTo>
                      <a:lnTo>
                        <a:pt x="412" y="358"/>
                      </a:lnTo>
                      <a:lnTo>
                        <a:pt x="402" y="365"/>
                      </a:lnTo>
                      <a:lnTo>
                        <a:pt x="390" y="371"/>
                      </a:lnTo>
                      <a:lnTo>
                        <a:pt x="380" y="378"/>
                      </a:lnTo>
                      <a:lnTo>
                        <a:pt x="373" y="379"/>
                      </a:lnTo>
                      <a:lnTo>
                        <a:pt x="368" y="381"/>
                      </a:lnTo>
                      <a:lnTo>
                        <a:pt x="356" y="386"/>
                      </a:lnTo>
                      <a:lnTo>
                        <a:pt x="344" y="388"/>
                      </a:lnTo>
                      <a:lnTo>
                        <a:pt x="333" y="391"/>
                      </a:lnTo>
                      <a:lnTo>
                        <a:pt x="319" y="392"/>
                      </a:lnTo>
                      <a:lnTo>
                        <a:pt x="307" y="395"/>
                      </a:lnTo>
                      <a:lnTo>
                        <a:pt x="282" y="397"/>
                      </a:lnTo>
                      <a:lnTo>
                        <a:pt x="254" y="395"/>
                      </a:lnTo>
                      <a:lnTo>
                        <a:pt x="228" y="391"/>
                      </a:lnTo>
                      <a:lnTo>
                        <a:pt x="203" y="386"/>
                      </a:lnTo>
                      <a:lnTo>
                        <a:pt x="181" y="378"/>
                      </a:lnTo>
                      <a:lnTo>
                        <a:pt x="158" y="365"/>
                      </a:lnTo>
                      <a:lnTo>
                        <a:pt x="136" y="353"/>
                      </a:lnTo>
                      <a:lnTo>
                        <a:pt x="116" y="338"/>
                      </a:lnTo>
                      <a:lnTo>
                        <a:pt x="98" y="321"/>
                      </a:lnTo>
                      <a:lnTo>
                        <a:pt x="79" y="301"/>
                      </a:lnTo>
                      <a:lnTo>
                        <a:pt x="64" y="280"/>
                      </a:lnTo>
                      <a:lnTo>
                        <a:pt x="56" y="269"/>
                      </a:lnTo>
                      <a:lnTo>
                        <a:pt x="50" y="259"/>
                      </a:lnTo>
                      <a:lnTo>
                        <a:pt x="40" y="237"/>
                      </a:lnTo>
                      <a:lnTo>
                        <a:pt x="32" y="213"/>
                      </a:lnTo>
                      <a:lnTo>
                        <a:pt x="26" y="189"/>
                      </a:lnTo>
                      <a:lnTo>
                        <a:pt x="23" y="163"/>
                      </a:lnTo>
                      <a:lnTo>
                        <a:pt x="22" y="138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143760" y="2888280"/>
                  <a:ext cx="130320" cy="113040"/>
                </a:xfrm>
                <a:custGeom>
                  <a:avLst/>
                  <a:gdLst/>
                  <a:ahLst/>
                  <a:rect l="l" t="t" r="r" b="b"/>
                  <a:pathLst>
                    <a:path w="455" h="398">
                      <a:moveTo>
                        <a:pt x="38" y="1"/>
                      </a:moveTo>
                      <a:lnTo>
                        <a:pt x="20" y="32"/>
                      </a:lnTo>
                      <a:lnTo>
                        <a:pt x="9" y="66"/>
                      </a:lnTo>
                      <a:lnTo>
                        <a:pt x="2" y="101"/>
                      </a:lnTo>
                      <a:lnTo>
                        <a:pt x="0" y="139"/>
                      </a:lnTo>
                      <a:lnTo>
                        <a:pt x="1" y="164"/>
                      </a:lnTo>
                      <a:lnTo>
                        <a:pt x="4" y="190"/>
                      </a:lnTo>
                      <a:lnTo>
                        <a:pt x="10" y="214"/>
                      </a:lnTo>
                      <a:lnTo>
                        <a:pt x="18" y="238"/>
                      </a:lnTo>
                      <a:lnTo>
                        <a:pt x="28" y="260"/>
                      </a:lnTo>
                      <a:lnTo>
                        <a:pt x="34" y="270"/>
                      </a:lnTo>
                      <a:lnTo>
                        <a:pt x="42" y="281"/>
                      </a:lnTo>
                      <a:lnTo>
                        <a:pt x="57" y="302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4" y="354"/>
                      </a:lnTo>
                      <a:lnTo>
                        <a:pt x="136" y="366"/>
                      </a:lnTo>
                      <a:lnTo>
                        <a:pt x="159" y="379"/>
                      </a:lnTo>
                      <a:lnTo>
                        <a:pt x="181" y="387"/>
                      </a:lnTo>
                      <a:lnTo>
                        <a:pt x="206" y="392"/>
                      </a:lnTo>
                      <a:lnTo>
                        <a:pt x="232" y="396"/>
                      </a:lnTo>
                      <a:lnTo>
                        <a:pt x="260" y="398"/>
                      </a:lnTo>
                      <a:lnTo>
                        <a:pt x="285" y="396"/>
                      </a:lnTo>
                      <a:lnTo>
                        <a:pt x="297" y="393"/>
                      </a:lnTo>
                      <a:lnTo>
                        <a:pt x="311" y="392"/>
                      </a:lnTo>
                      <a:lnTo>
                        <a:pt x="322" y="389"/>
                      </a:lnTo>
                      <a:lnTo>
                        <a:pt x="334" y="387"/>
                      </a:lnTo>
                      <a:lnTo>
                        <a:pt x="346" y="382"/>
                      </a:lnTo>
                      <a:lnTo>
                        <a:pt x="351" y="380"/>
                      </a:lnTo>
                      <a:lnTo>
                        <a:pt x="358" y="379"/>
                      </a:lnTo>
                      <a:lnTo>
                        <a:pt x="368" y="372"/>
                      </a:lnTo>
                      <a:lnTo>
                        <a:pt x="380" y="366"/>
                      </a:lnTo>
                      <a:lnTo>
                        <a:pt x="390" y="359"/>
                      </a:lnTo>
                      <a:lnTo>
                        <a:pt x="401" y="354"/>
                      </a:lnTo>
                      <a:lnTo>
                        <a:pt x="422" y="339"/>
                      </a:lnTo>
                      <a:lnTo>
                        <a:pt x="442" y="322"/>
                      </a:lnTo>
                      <a:lnTo>
                        <a:pt x="448" y="315"/>
                      </a:lnTo>
                      <a:lnTo>
                        <a:pt x="455" y="310"/>
                      </a:lnTo>
                      <a:lnTo>
                        <a:pt x="449" y="282"/>
                      </a:lnTo>
                      <a:lnTo>
                        <a:pt x="438" y="295"/>
                      </a:lnTo>
                      <a:lnTo>
                        <a:pt x="434" y="297"/>
                      </a:lnTo>
                      <a:lnTo>
                        <a:pt x="432" y="300"/>
                      </a:lnTo>
                      <a:lnTo>
                        <a:pt x="427" y="307"/>
                      </a:lnTo>
                      <a:lnTo>
                        <a:pt x="417" y="314"/>
                      </a:lnTo>
                      <a:lnTo>
                        <a:pt x="408" y="322"/>
                      </a:lnTo>
                      <a:lnTo>
                        <a:pt x="390" y="337"/>
                      </a:lnTo>
                      <a:lnTo>
                        <a:pt x="370" y="348"/>
                      </a:lnTo>
                      <a:lnTo>
                        <a:pt x="359" y="353"/>
                      </a:lnTo>
                      <a:lnTo>
                        <a:pt x="350" y="358"/>
                      </a:lnTo>
                      <a:lnTo>
                        <a:pt x="328" y="366"/>
                      </a:lnTo>
                      <a:lnTo>
                        <a:pt x="316" y="368"/>
                      </a:lnTo>
                      <a:lnTo>
                        <a:pt x="313" y="368"/>
                      </a:lnTo>
                      <a:lnTo>
                        <a:pt x="311" y="370"/>
                      </a:lnTo>
                      <a:lnTo>
                        <a:pt x="306" y="372"/>
                      </a:lnTo>
                      <a:lnTo>
                        <a:pt x="299" y="372"/>
                      </a:lnTo>
                      <a:lnTo>
                        <a:pt x="296" y="372"/>
                      </a:lnTo>
                      <a:lnTo>
                        <a:pt x="294" y="373"/>
                      </a:lnTo>
                      <a:lnTo>
                        <a:pt x="282" y="375"/>
                      </a:lnTo>
                      <a:lnTo>
                        <a:pt x="260" y="376"/>
                      </a:lnTo>
                      <a:lnTo>
                        <a:pt x="235" y="375"/>
                      </a:lnTo>
                      <a:lnTo>
                        <a:pt x="211" y="372"/>
                      </a:lnTo>
                      <a:lnTo>
                        <a:pt x="188" y="366"/>
                      </a:lnTo>
                      <a:lnTo>
                        <a:pt x="168" y="358"/>
                      </a:lnTo>
                      <a:lnTo>
                        <a:pt x="146" y="348"/>
                      </a:lnTo>
                      <a:lnTo>
                        <a:pt x="127" y="337"/>
                      </a:lnTo>
                      <a:lnTo>
                        <a:pt x="108" y="322"/>
                      </a:lnTo>
                      <a:lnTo>
                        <a:pt x="91" y="307"/>
                      </a:lnTo>
                      <a:lnTo>
                        <a:pt x="74" y="288"/>
                      </a:lnTo>
                      <a:lnTo>
                        <a:pt x="59" y="270"/>
                      </a:lnTo>
                      <a:lnTo>
                        <a:pt x="46" y="249"/>
                      </a:lnTo>
                      <a:lnTo>
                        <a:pt x="38" y="230"/>
                      </a:lnTo>
                      <a:lnTo>
                        <a:pt x="31" y="207"/>
                      </a:lnTo>
                      <a:lnTo>
                        <a:pt x="25" y="186"/>
                      </a:lnTo>
                      <a:lnTo>
                        <a:pt x="21" y="162"/>
                      </a:lnTo>
                      <a:lnTo>
                        <a:pt x="21" y="139"/>
                      </a:lnTo>
                      <a:lnTo>
                        <a:pt x="24" y="100"/>
                      </a:lnTo>
                      <a:lnTo>
                        <a:pt x="32" y="65"/>
                      </a:lnTo>
                      <a:lnTo>
                        <a:pt x="37" y="46"/>
                      </a:lnTo>
                      <a:lnTo>
                        <a:pt x="45" y="31"/>
                      </a:lnTo>
                      <a:lnTo>
                        <a:pt x="66" y="0"/>
                      </a:lnTo>
                      <a:lnTo>
                        <a:pt x="38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131520" y="2889360"/>
                  <a:ext cx="144000" cy="124200"/>
                </a:xfrm>
                <a:custGeom>
                  <a:avLst/>
                  <a:gdLst/>
                  <a:ahLst/>
                  <a:rect l="l" t="t" r="r" b="b"/>
                  <a:pathLst>
                    <a:path w="504" h="436">
                      <a:moveTo>
                        <a:pt x="21" y="134"/>
                      </a:moveTo>
                      <a:lnTo>
                        <a:pt x="23" y="97"/>
                      </a:lnTo>
                      <a:lnTo>
                        <a:pt x="29" y="63"/>
                      </a:lnTo>
                      <a:lnTo>
                        <a:pt x="40" y="30"/>
                      </a:lnTo>
                      <a:lnTo>
                        <a:pt x="55" y="0"/>
                      </a:lnTo>
                      <a:lnTo>
                        <a:pt x="27" y="5"/>
                      </a:lnTo>
                      <a:lnTo>
                        <a:pt x="15" y="35"/>
                      </a:lnTo>
                      <a:lnTo>
                        <a:pt x="7" y="66"/>
                      </a:lnTo>
                      <a:lnTo>
                        <a:pt x="1" y="99"/>
                      </a:lnTo>
                      <a:lnTo>
                        <a:pt x="0" y="134"/>
                      </a:lnTo>
                      <a:lnTo>
                        <a:pt x="1" y="164"/>
                      </a:lnTo>
                      <a:lnTo>
                        <a:pt x="4" y="193"/>
                      </a:lnTo>
                      <a:lnTo>
                        <a:pt x="7" y="207"/>
                      </a:lnTo>
                      <a:lnTo>
                        <a:pt x="11" y="222"/>
                      </a:lnTo>
                      <a:lnTo>
                        <a:pt x="21" y="250"/>
                      </a:lnTo>
                      <a:lnTo>
                        <a:pt x="34" y="275"/>
                      </a:lnTo>
                      <a:lnTo>
                        <a:pt x="49" y="300"/>
                      </a:lnTo>
                      <a:lnTo>
                        <a:pt x="57" y="311"/>
                      </a:lnTo>
                      <a:lnTo>
                        <a:pt x="67" y="324"/>
                      </a:lnTo>
                      <a:lnTo>
                        <a:pt x="88" y="348"/>
                      </a:lnTo>
                      <a:lnTo>
                        <a:pt x="110" y="367"/>
                      </a:lnTo>
                      <a:lnTo>
                        <a:pt x="134" y="385"/>
                      </a:lnTo>
                      <a:lnTo>
                        <a:pt x="159" y="400"/>
                      </a:lnTo>
                      <a:lnTo>
                        <a:pt x="186" y="413"/>
                      </a:lnTo>
                      <a:lnTo>
                        <a:pt x="212" y="422"/>
                      </a:lnTo>
                      <a:lnTo>
                        <a:pt x="241" y="430"/>
                      </a:lnTo>
                      <a:lnTo>
                        <a:pt x="271" y="434"/>
                      </a:lnTo>
                      <a:lnTo>
                        <a:pt x="303" y="436"/>
                      </a:lnTo>
                      <a:lnTo>
                        <a:pt x="330" y="434"/>
                      </a:lnTo>
                      <a:lnTo>
                        <a:pt x="343" y="432"/>
                      </a:lnTo>
                      <a:lnTo>
                        <a:pt x="350" y="430"/>
                      </a:lnTo>
                      <a:lnTo>
                        <a:pt x="358" y="430"/>
                      </a:lnTo>
                      <a:lnTo>
                        <a:pt x="364" y="428"/>
                      </a:lnTo>
                      <a:lnTo>
                        <a:pt x="371" y="427"/>
                      </a:lnTo>
                      <a:lnTo>
                        <a:pt x="384" y="425"/>
                      </a:lnTo>
                      <a:lnTo>
                        <a:pt x="397" y="420"/>
                      </a:lnTo>
                      <a:lnTo>
                        <a:pt x="410" y="417"/>
                      </a:lnTo>
                      <a:lnTo>
                        <a:pt x="422" y="410"/>
                      </a:lnTo>
                      <a:lnTo>
                        <a:pt x="424" y="408"/>
                      </a:lnTo>
                      <a:lnTo>
                        <a:pt x="425" y="407"/>
                      </a:lnTo>
                      <a:lnTo>
                        <a:pt x="427" y="407"/>
                      </a:lnTo>
                      <a:lnTo>
                        <a:pt x="434" y="404"/>
                      </a:lnTo>
                      <a:lnTo>
                        <a:pt x="459" y="392"/>
                      </a:lnTo>
                      <a:lnTo>
                        <a:pt x="482" y="376"/>
                      </a:lnTo>
                      <a:lnTo>
                        <a:pt x="504" y="359"/>
                      </a:lnTo>
                      <a:lnTo>
                        <a:pt x="502" y="331"/>
                      </a:lnTo>
                      <a:lnTo>
                        <a:pt x="501" y="333"/>
                      </a:lnTo>
                      <a:lnTo>
                        <a:pt x="478" y="351"/>
                      </a:lnTo>
                      <a:lnTo>
                        <a:pt x="467" y="359"/>
                      </a:lnTo>
                      <a:lnTo>
                        <a:pt x="457" y="368"/>
                      </a:lnTo>
                      <a:lnTo>
                        <a:pt x="444" y="375"/>
                      </a:lnTo>
                      <a:lnTo>
                        <a:pt x="433" y="382"/>
                      </a:lnTo>
                      <a:lnTo>
                        <a:pt x="426" y="384"/>
                      </a:lnTo>
                      <a:lnTo>
                        <a:pt x="424" y="384"/>
                      </a:lnTo>
                      <a:lnTo>
                        <a:pt x="423" y="385"/>
                      </a:lnTo>
                      <a:lnTo>
                        <a:pt x="420" y="387"/>
                      </a:lnTo>
                      <a:lnTo>
                        <a:pt x="409" y="394"/>
                      </a:lnTo>
                      <a:lnTo>
                        <a:pt x="396" y="398"/>
                      </a:lnTo>
                      <a:lnTo>
                        <a:pt x="383" y="402"/>
                      </a:lnTo>
                      <a:lnTo>
                        <a:pt x="369" y="405"/>
                      </a:lnTo>
                      <a:lnTo>
                        <a:pt x="363" y="407"/>
                      </a:lnTo>
                      <a:lnTo>
                        <a:pt x="357" y="409"/>
                      </a:lnTo>
                      <a:lnTo>
                        <a:pt x="330" y="412"/>
                      </a:lnTo>
                      <a:lnTo>
                        <a:pt x="303" y="415"/>
                      </a:lnTo>
                      <a:lnTo>
                        <a:pt x="273" y="412"/>
                      </a:lnTo>
                      <a:lnTo>
                        <a:pt x="246" y="409"/>
                      </a:lnTo>
                      <a:lnTo>
                        <a:pt x="219" y="402"/>
                      </a:lnTo>
                      <a:lnTo>
                        <a:pt x="194" y="394"/>
                      </a:lnTo>
                      <a:lnTo>
                        <a:pt x="169" y="382"/>
                      </a:lnTo>
                      <a:lnTo>
                        <a:pt x="146" y="368"/>
                      </a:lnTo>
                      <a:lnTo>
                        <a:pt x="125" y="351"/>
                      </a:lnTo>
                      <a:lnTo>
                        <a:pt x="104" y="333"/>
                      </a:lnTo>
                      <a:lnTo>
                        <a:pt x="84" y="310"/>
                      </a:lnTo>
                      <a:lnTo>
                        <a:pt x="67" y="289"/>
                      </a:lnTo>
                      <a:lnTo>
                        <a:pt x="52" y="265"/>
                      </a:lnTo>
                      <a:lnTo>
                        <a:pt x="42" y="241"/>
                      </a:lnTo>
                      <a:lnTo>
                        <a:pt x="32" y="215"/>
                      </a:lnTo>
                      <a:lnTo>
                        <a:pt x="26" y="189"/>
                      </a:lnTo>
                      <a:lnTo>
                        <a:pt x="23" y="162"/>
                      </a:lnTo>
                      <a:lnTo>
                        <a:pt x="21" y="134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125400" y="2891160"/>
                  <a:ext cx="150120" cy="128880"/>
                </a:xfrm>
                <a:custGeom>
                  <a:avLst/>
                  <a:gdLst/>
                  <a:ahLst/>
                  <a:rect l="l" t="t" r="r" b="b"/>
                  <a:pathLst>
                    <a:path w="526" h="453">
                      <a:moveTo>
                        <a:pt x="22" y="129"/>
                      </a:moveTo>
                      <a:lnTo>
                        <a:pt x="23" y="94"/>
                      </a:lnTo>
                      <a:lnTo>
                        <a:pt x="29" y="61"/>
                      </a:lnTo>
                      <a:lnTo>
                        <a:pt x="37" y="30"/>
                      </a:lnTo>
                      <a:lnTo>
                        <a:pt x="49" y="0"/>
                      </a:lnTo>
                      <a:lnTo>
                        <a:pt x="23" y="7"/>
                      </a:lnTo>
                      <a:lnTo>
                        <a:pt x="13" y="35"/>
                      </a:lnTo>
                      <a:lnTo>
                        <a:pt x="6" y="66"/>
                      </a:lnTo>
                      <a:lnTo>
                        <a:pt x="1" y="97"/>
                      </a:lnTo>
                      <a:lnTo>
                        <a:pt x="0" y="129"/>
                      </a:lnTo>
                      <a:lnTo>
                        <a:pt x="1" y="161"/>
                      </a:lnTo>
                      <a:lnTo>
                        <a:pt x="6" y="193"/>
                      </a:lnTo>
                      <a:lnTo>
                        <a:pt x="8" y="208"/>
                      </a:lnTo>
                      <a:lnTo>
                        <a:pt x="13" y="224"/>
                      </a:lnTo>
                      <a:lnTo>
                        <a:pt x="24" y="253"/>
                      </a:lnTo>
                      <a:lnTo>
                        <a:pt x="37" y="280"/>
                      </a:lnTo>
                      <a:lnTo>
                        <a:pt x="54" y="307"/>
                      </a:lnTo>
                      <a:lnTo>
                        <a:pt x="73" y="334"/>
                      </a:lnTo>
                      <a:lnTo>
                        <a:pt x="96" y="358"/>
                      </a:lnTo>
                      <a:lnTo>
                        <a:pt x="118" y="379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9" y="429"/>
                      </a:lnTo>
                      <a:lnTo>
                        <a:pt x="227" y="438"/>
                      </a:lnTo>
                      <a:lnTo>
                        <a:pt x="259" y="446"/>
                      </a:lnTo>
                      <a:lnTo>
                        <a:pt x="291" y="450"/>
                      </a:lnTo>
                      <a:lnTo>
                        <a:pt x="325" y="453"/>
                      </a:lnTo>
                      <a:lnTo>
                        <a:pt x="352" y="451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80" y="448"/>
                      </a:lnTo>
                      <a:lnTo>
                        <a:pt x="386" y="446"/>
                      </a:lnTo>
                      <a:lnTo>
                        <a:pt x="393" y="445"/>
                      </a:lnTo>
                      <a:lnTo>
                        <a:pt x="406" y="442"/>
                      </a:lnTo>
                      <a:lnTo>
                        <a:pt x="419" y="438"/>
                      </a:lnTo>
                      <a:lnTo>
                        <a:pt x="432" y="434"/>
                      </a:lnTo>
                      <a:lnTo>
                        <a:pt x="444" y="429"/>
                      </a:lnTo>
                      <a:lnTo>
                        <a:pt x="456" y="424"/>
                      </a:lnTo>
                      <a:lnTo>
                        <a:pt x="481" y="412"/>
                      </a:lnTo>
                      <a:lnTo>
                        <a:pt x="504" y="397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4"/>
                      </a:lnTo>
                      <a:lnTo>
                        <a:pt x="504" y="371"/>
                      </a:lnTo>
                      <a:lnTo>
                        <a:pt x="481" y="387"/>
                      </a:lnTo>
                      <a:lnTo>
                        <a:pt x="456" y="399"/>
                      </a:lnTo>
                      <a:lnTo>
                        <a:pt x="449" y="402"/>
                      </a:lnTo>
                      <a:lnTo>
                        <a:pt x="447" y="402"/>
                      </a:lnTo>
                      <a:lnTo>
                        <a:pt x="446" y="403"/>
                      </a:lnTo>
                      <a:lnTo>
                        <a:pt x="444" y="405"/>
                      </a:lnTo>
                      <a:lnTo>
                        <a:pt x="432" y="412"/>
                      </a:lnTo>
                      <a:lnTo>
                        <a:pt x="419" y="415"/>
                      </a:lnTo>
                      <a:lnTo>
                        <a:pt x="406" y="420"/>
                      </a:lnTo>
                      <a:lnTo>
                        <a:pt x="393" y="422"/>
                      </a:lnTo>
                      <a:lnTo>
                        <a:pt x="386" y="423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5" y="427"/>
                      </a:lnTo>
                      <a:lnTo>
                        <a:pt x="352" y="429"/>
                      </a:lnTo>
                      <a:lnTo>
                        <a:pt x="325" y="431"/>
                      </a:lnTo>
                      <a:lnTo>
                        <a:pt x="293" y="429"/>
                      </a:lnTo>
                      <a:lnTo>
                        <a:pt x="263" y="425"/>
                      </a:lnTo>
                      <a:lnTo>
                        <a:pt x="234" y="417"/>
                      </a:lnTo>
                      <a:lnTo>
                        <a:pt x="208" y="408"/>
                      </a:lnTo>
                      <a:lnTo>
                        <a:pt x="181" y="395"/>
                      </a:lnTo>
                      <a:lnTo>
                        <a:pt x="156" y="380"/>
                      </a:lnTo>
                      <a:lnTo>
                        <a:pt x="132" y="362"/>
                      </a:lnTo>
                      <a:lnTo>
                        <a:pt x="110" y="343"/>
                      </a:lnTo>
                      <a:lnTo>
                        <a:pt x="89" y="319"/>
                      </a:lnTo>
                      <a:lnTo>
                        <a:pt x="79" y="306"/>
                      </a:lnTo>
                      <a:lnTo>
                        <a:pt x="71" y="295"/>
                      </a:lnTo>
                      <a:lnTo>
                        <a:pt x="56" y="270"/>
                      </a:lnTo>
                      <a:lnTo>
                        <a:pt x="43" y="245"/>
                      </a:lnTo>
                      <a:lnTo>
                        <a:pt x="33" y="217"/>
                      </a:lnTo>
                      <a:lnTo>
                        <a:pt x="29" y="202"/>
                      </a:lnTo>
                      <a:lnTo>
                        <a:pt x="26" y="188"/>
                      </a:lnTo>
                      <a:lnTo>
                        <a:pt x="23" y="159"/>
                      </a:lnTo>
                      <a:lnTo>
                        <a:pt x="22" y="129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055920" y="299124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4" h="398">
                      <a:moveTo>
                        <a:pt x="0" y="22"/>
                      </a:moveTo>
                      <a:lnTo>
                        <a:pt x="1" y="54"/>
                      </a:lnTo>
                      <a:lnTo>
                        <a:pt x="24" y="97"/>
                      </a:lnTo>
                      <a:lnTo>
                        <a:pt x="53" y="140"/>
                      </a:lnTo>
                      <a:lnTo>
                        <a:pt x="85" y="181"/>
                      </a:lnTo>
                      <a:lnTo>
                        <a:pt x="122" y="221"/>
                      </a:lnTo>
                      <a:lnTo>
                        <a:pt x="159" y="255"/>
                      </a:lnTo>
                      <a:lnTo>
                        <a:pt x="198" y="286"/>
                      </a:lnTo>
                      <a:lnTo>
                        <a:pt x="239" y="314"/>
                      </a:lnTo>
                      <a:lnTo>
                        <a:pt x="282" y="339"/>
                      </a:lnTo>
                      <a:lnTo>
                        <a:pt x="325" y="358"/>
                      </a:lnTo>
                      <a:lnTo>
                        <a:pt x="372" y="375"/>
                      </a:lnTo>
                      <a:lnTo>
                        <a:pt x="419" y="387"/>
                      </a:lnTo>
                      <a:lnTo>
                        <a:pt x="469" y="398"/>
                      </a:lnTo>
                      <a:lnTo>
                        <a:pt x="496" y="390"/>
                      </a:lnTo>
                      <a:lnTo>
                        <a:pt x="524" y="382"/>
                      </a:lnTo>
                      <a:lnTo>
                        <a:pt x="468" y="375"/>
                      </a:lnTo>
                      <a:lnTo>
                        <a:pt x="441" y="370"/>
                      </a:lnTo>
                      <a:lnTo>
                        <a:pt x="415" y="365"/>
                      </a:lnTo>
                      <a:lnTo>
                        <a:pt x="364" y="349"/>
                      </a:lnTo>
                      <a:lnTo>
                        <a:pt x="315" y="331"/>
                      </a:lnTo>
                      <a:lnTo>
                        <a:pt x="266" y="306"/>
                      </a:lnTo>
                      <a:lnTo>
                        <a:pt x="222" y="276"/>
                      </a:lnTo>
                      <a:lnTo>
                        <a:pt x="178" y="242"/>
                      </a:lnTo>
                      <a:lnTo>
                        <a:pt x="138" y="206"/>
                      </a:lnTo>
                      <a:lnTo>
                        <a:pt x="114" y="181"/>
                      </a:lnTo>
                      <a:lnTo>
                        <a:pt x="93" y="157"/>
                      </a:lnTo>
                      <a:lnTo>
                        <a:pt x="72" y="131"/>
                      </a:lnTo>
                      <a:lnTo>
                        <a:pt x="55" y="106"/>
                      </a:lnTo>
                      <a:lnTo>
                        <a:pt x="38" y="79"/>
                      </a:lnTo>
                      <a:lnTo>
                        <a:pt x="24" y="53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055920" y="2976120"/>
                  <a:ext cx="162360" cy="123840"/>
                </a:xfrm>
                <a:custGeom>
                  <a:avLst/>
                  <a:gdLst/>
                  <a:ahLst/>
                  <a:rect l="l" t="t" r="r" b="b"/>
                  <a:pathLst>
                    <a:path w="567" h="433">
                      <a:moveTo>
                        <a:pt x="7" y="0"/>
                      </a:moveTo>
                      <a:lnTo>
                        <a:pt x="1" y="24"/>
                      </a:lnTo>
                      <a:lnTo>
                        <a:pt x="0" y="51"/>
                      </a:lnTo>
                      <a:lnTo>
                        <a:pt x="10" y="77"/>
                      </a:lnTo>
                      <a:lnTo>
                        <a:pt x="24" y="104"/>
                      </a:lnTo>
                      <a:lnTo>
                        <a:pt x="38" y="130"/>
                      </a:lnTo>
                      <a:lnTo>
                        <a:pt x="55" y="157"/>
                      </a:lnTo>
                      <a:lnTo>
                        <a:pt x="72" y="182"/>
                      </a:lnTo>
                      <a:lnTo>
                        <a:pt x="93" y="208"/>
                      </a:lnTo>
                      <a:lnTo>
                        <a:pt x="114" y="232"/>
                      </a:lnTo>
                      <a:lnTo>
                        <a:pt x="138" y="257"/>
                      </a:lnTo>
                      <a:lnTo>
                        <a:pt x="178" y="293"/>
                      </a:lnTo>
                      <a:lnTo>
                        <a:pt x="222" y="327"/>
                      </a:lnTo>
                      <a:lnTo>
                        <a:pt x="266" y="357"/>
                      </a:lnTo>
                      <a:lnTo>
                        <a:pt x="315" y="382"/>
                      </a:lnTo>
                      <a:lnTo>
                        <a:pt x="364" y="400"/>
                      </a:lnTo>
                      <a:lnTo>
                        <a:pt x="415" y="416"/>
                      </a:lnTo>
                      <a:lnTo>
                        <a:pt x="441" y="421"/>
                      </a:lnTo>
                      <a:lnTo>
                        <a:pt x="468" y="426"/>
                      </a:lnTo>
                      <a:lnTo>
                        <a:pt x="524" y="433"/>
                      </a:lnTo>
                      <a:lnTo>
                        <a:pt x="567" y="412"/>
                      </a:lnTo>
                      <a:lnTo>
                        <a:pt x="566" y="412"/>
                      </a:lnTo>
                      <a:lnTo>
                        <a:pt x="535" y="411"/>
                      </a:lnTo>
                      <a:lnTo>
                        <a:pt x="505" y="409"/>
                      </a:lnTo>
                      <a:lnTo>
                        <a:pt x="476" y="405"/>
                      </a:lnTo>
                      <a:lnTo>
                        <a:pt x="448" y="401"/>
                      </a:lnTo>
                      <a:lnTo>
                        <a:pt x="392" y="387"/>
                      </a:lnTo>
                      <a:lnTo>
                        <a:pt x="341" y="369"/>
                      </a:lnTo>
                      <a:lnTo>
                        <a:pt x="290" y="344"/>
                      </a:lnTo>
                      <a:lnTo>
                        <a:pt x="241" y="315"/>
                      </a:lnTo>
                      <a:lnTo>
                        <a:pt x="217" y="298"/>
                      </a:lnTo>
                      <a:lnTo>
                        <a:pt x="195" y="280"/>
                      </a:lnTo>
                      <a:lnTo>
                        <a:pt x="153" y="241"/>
                      </a:lnTo>
                      <a:lnTo>
                        <a:pt x="127" y="213"/>
                      </a:lnTo>
                      <a:lnTo>
                        <a:pt x="103" y="185"/>
                      </a:lnTo>
                      <a:lnTo>
                        <a:pt x="81" y="156"/>
                      </a:lnTo>
                      <a:lnTo>
                        <a:pt x="62" y="127"/>
                      </a:lnTo>
                      <a:lnTo>
                        <a:pt x="44" y="95"/>
                      </a:lnTo>
                      <a:lnTo>
                        <a:pt x="29" y="64"/>
                      </a:lnTo>
                      <a:lnTo>
                        <a:pt x="17" y="3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058440" y="2963520"/>
                  <a:ext cx="170280" cy="130680"/>
                </a:xfrm>
                <a:custGeom>
                  <a:avLst/>
                  <a:gdLst/>
                  <a:ahLst/>
                  <a:rect l="l" t="t" r="r" b="b"/>
                  <a:pathLst>
                    <a:path w="596" h="457">
                      <a:moveTo>
                        <a:pt x="10" y="0"/>
                      </a:moveTo>
                      <a:lnTo>
                        <a:pt x="0" y="45"/>
                      </a:lnTo>
                      <a:lnTo>
                        <a:pt x="10" y="76"/>
                      </a:lnTo>
                      <a:lnTo>
                        <a:pt x="22" y="109"/>
                      </a:lnTo>
                      <a:lnTo>
                        <a:pt x="37" y="140"/>
                      </a:lnTo>
                      <a:lnTo>
                        <a:pt x="55" y="172"/>
                      </a:lnTo>
                      <a:lnTo>
                        <a:pt x="74" y="201"/>
                      </a:lnTo>
                      <a:lnTo>
                        <a:pt x="96" y="230"/>
                      </a:lnTo>
                      <a:lnTo>
                        <a:pt x="120" y="258"/>
                      </a:lnTo>
                      <a:lnTo>
                        <a:pt x="146" y="286"/>
                      </a:lnTo>
                      <a:lnTo>
                        <a:pt x="188" y="325"/>
                      </a:lnTo>
                      <a:lnTo>
                        <a:pt x="210" y="343"/>
                      </a:lnTo>
                      <a:lnTo>
                        <a:pt x="234" y="360"/>
                      </a:lnTo>
                      <a:lnTo>
                        <a:pt x="283" y="389"/>
                      </a:lnTo>
                      <a:lnTo>
                        <a:pt x="334" y="414"/>
                      </a:lnTo>
                      <a:lnTo>
                        <a:pt x="385" y="432"/>
                      </a:lnTo>
                      <a:lnTo>
                        <a:pt x="441" y="446"/>
                      </a:lnTo>
                      <a:lnTo>
                        <a:pt x="469" y="450"/>
                      </a:lnTo>
                      <a:lnTo>
                        <a:pt x="498" y="454"/>
                      </a:lnTo>
                      <a:lnTo>
                        <a:pt x="528" y="456"/>
                      </a:lnTo>
                      <a:lnTo>
                        <a:pt x="559" y="457"/>
                      </a:lnTo>
                      <a:lnTo>
                        <a:pt x="560" y="457"/>
                      </a:lnTo>
                      <a:lnTo>
                        <a:pt x="596" y="435"/>
                      </a:lnTo>
                      <a:lnTo>
                        <a:pt x="559" y="436"/>
                      </a:lnTo>
                      <a:lnTo>
                        <a:pt x="529" y="435"/>
                      </a:lnTo>
                      <a:lnTo>
                        <a:pt x="501" y="432"/>
                      </a:lnTo>
                      <a:lnTo>
                        <a:pt x="472" y="429"/>
                      </a:lnTo>
                      <a:lnTo>
                        <a:pt x="445" y="424"/>
                      </a:lnTo>
                      <a:lnTo>
                        <a:pt x="392" y="411"/>
                      </a:lnTo>
                      <a:lnTo>
                        <a:pt x="367" y="403"/>
                      </a:lnTo>
                      <a:lnTo>
                        <a:pt x="342" y="394"/>
                      </a:lnTo>
                      <a:lnTo>
                        <a:pt x="317" y="382"/>
                      </a:lnTo>
                      <a:lnTo>
                        <a:pt x="293" y="370"/>
                      </a:lnTo>
                      <a:lnTo>
                        <a:pt x="247" y="343"/>
                      </a:lnTo>
                      <a:lnTo>
                        <a:pt x="203" y="309"/>
                      </a:lnTo>
                      <a:lnTo>
                        <a:pt x="181" y="291"/>
                      </a:lnTo>
                      <a:lnTo>
                        <a:pt x="161" y="271"/>
                      </a:lnTo>
                      <a:lnTo>
                        <a:pt x="132" y="241"/>
                      </a:lnTo>
                      <a:lnTo>
                        <a:pt x="106" y="210"/>
                      </a:lnTo>
                      <a:lnTo>
                        <a:pt x="94" y="193"/>
                      </a:lnTo>
                      <a:lnTo>
                        <a:pt x="84" y="177"/>
                      </a:lnTo>
                      <a:lnTo>
                        <a:pt x="64" y="144"/>
                      </a:lnTo>
                      <a:lnTo>
                        <a:pt x="54" y="126"/>
                      </a:lnTo>
                      <a:lnTo>
                        <a:pt x="46" y="109"/>
                      </a:lnTo>
                      <a:lnTo>
                        <a:pt x="31" y="74"/>
                      </a:lnTo>
                      <a:lnTo>
                        <a:pt x="19" y="3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061320" y="2952720"/>
                  <a:ext cx="176040" cy="135360"/>
                </a:xfrm>
                <a:custGeom>
                  <a:avLst/>
                  <a:gdLst/>
                  <a:ahLst/>
                  <a:rect l="l" t="t" r="r" b="b"/>
                  <a:pathLst>
                    <a:path w="617" h="474">
                      <a:moveTo>
                        <a:pt x="15" y="0"/>
                      </a:moveTo>
                      <a:lnTo>
                        <a:pt x="0" y="38"/>
                      </a:lnTo>
                      <a:lnTo>
                        <a:pt x="9" y="75"/>
                      </a:lnTo>
                      <a:lnTo>
                        <a:pt x="21" y="112"/>
                      </a:lnTo>
                      <a:lnTo>
                        <a:pt x="36" y="147"/>
                      </a:lnTo>
                      <a:lnTo>
                        <a:pt x="44" y="164"/>
                      </a:lnTo>
                      <a:lnTo>
                        <a:pt x="54" y="182"/>
                      </a:lnTo>
                      <a:lnTo>
                        <a:pt x="74" y="215"/>
                      </a:lnTo>
                      <a:lnTo>
                        <a:pt x="84" y="231"/>
                      </a:lnTo>
                      <a:lnTo>
                        <a:pt x="96" y="248"/>
                      </a:lnTo>
                      <a:lnTo>
                        <a:pt x="122" y="279"/>
                      </a:lnTo>
                      <a:lnTo>
                        <a:pt x="151" y="309"/>
                      </a:lnTo>
                      <a:lnTo>
                        <a:pt x="171" y="329"/>
                      </a:lnTo>
                      <a:lnTo>
                        <a:pt x="193" y="347"/>
                      </a:lnTo>
                      <a:lnTo>
                        <a:pt x="237" y="381"/>
                      </a:lnTo>
                      <a:lnTo>
                        <a:pt x="283" y="408"/>
                      </a:lnTo>
                      <a:lnTo>
                        <a:pt x="307" y="420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5" y="462"/>
                      </a:lnTo>
                      <a:lnTo>
                        <a:pt x="462" y="467"/>
                      </a:lnTo>
                      <a:lnTo>
                        <a:pt x="491" y="470"/>
                      </a:lnTo>
                      <a:lnTo>
                        <a:pt x="519" y="473"/>
                      </a:lnTo>
                      <a:lnTo>
                        <a:pt x="549" y="474"/>
                      </a:lnTo>
                      <a:lnTo>
                        <a:pt x="586" y="473"/>
                      </a:lnTo>
                      <a:lnTo>
                        <a:pt x="593" y="466"/>
                      </a:lnTo>
                      <a:lnTo>
                        <a:pt x="594" y="463"/>
                      </a:lnTo>
                      <a:lnTo>
                        <a:pt x="596" y="462"/>
                      </a:lnTo>
                      <a:lnTo>
                        <a:pt x="601" y="460"/>
                      </a:lnTo>
                      <a:lnTo>
                        <a:pt x="617" y="449"/>
                      </a:lnTo>
                      <a:lnTo>
                        <a:pt x="583" y="451"/>
                      </a:lnTo>
                      <a:lnTo>
                        <a:pt x="549" y="452"/>
                      </a:lnTo>
                      <a:lnTo>
                        <a:pt x="520" y="451"/>
                      </a:lnTo>
                      <a:lnTo>
                        <a:pt x="493" y="449"/>
                      </a:lnTo>
                      <a:lnTo>
                        <a:pt x="440" y="442"/>
                      </a:lnTo>
                      <a:lnTo>
                        <a:pt x="389" y="428"/>
                      </a:lnTo>
                      <a:lnTo>
                        <a:pt x="340" y="412"/>
                      </a:lnTo>
                      <a:lnTo>
                        <a:pt x="292" y="390"/>
                      </a:lnTo>
                      <a:lnTo>
                        <a:pt x="248" y="363"/>
                      </a:lnTo>
                      <a:lnTo>
                        <a:pt x="227" y="347"/>
                      </a:lnTo>
                      <a:lnTo>
                        <a:pt x="206" y="330"/>
                      </a:lnTo>
                      <a:lnTo>
                        <a:pt x="166" y="293"/>
                      </a:lnTo>
                      <a:lnTo>
                        <a:pt x="136" y="261"/>
                      </a:lnTo>
                      <a:lnTo>
                        <a:pt x="109" y="227"/>
                      </a:lnTo>
                      <a:lnTo>
                        <a:pt x="85" y="191"/>
                      </a:lnTo>
                      <a:lnTo>
                        <a:pt x="74" y="173"/>
                      </a:lnTo>
                      <a:lnTo>
                        <a:pt x="64" y="156"/>
                      </a:lnTo>
                      <a:lnTo>
                        <a:pt x="54" y="137"/>
                      </a:lnTo>
                      <a:lnTo>
                        <a:pt x="46" y="119"/>
                      </a:lnTo>
                      <a:lnTo>
                        <a:pt x="33" y="80"/>
                      </a:lnTo>
                      <a:lnTo>
                        <a:pt x="26" y="60"/>
                      </a:lnTo>
                      <a:lnTo>
                        <a:pt x="21" y="41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65280" y="2943000"/>
                  <a:ext cx="180000" cy="138600"/>
                </a:xfrm>
                <a:custGeom>
                  <a:avLst/>
                  <a:gdLst/>
                  <a:ahLst/>
                  <a:rect l="l" t="t" r="r" b="b"/>
                  <a:pathLst>
                    <a:path w="629" h="486">
                      <a:moveTo>
                        <a:pt x="18" y="0"/>
                      </a:moveTo>
                      <a:lnTo>
                        <a:pt x="0" y="34"/>
                      </a:lnTo>
                      <a:lnTo>
                        <a:pt x="6" y="75"/>
                      </a:lnTo>
                      <a:lnTo>
                        <a:pt x="11" y="94"/>
                      </a:lnTo>
                      <a:lnTo>
                        <a:pt x="18" y="114"/>
                      </a:lnTo>
                      <a:lnTo>
                        <a:pt x="31" y="153"/>
                      </a:lnTo>
                      <a:lnTo>
                        <a:pt x="39" y="171"/>
                      </a:lnTo>
                      <a:lnTo>
                        <a:pt x="49" y="190"/>
                      </a:lnTo>
                      <a:lnTo>
                        <a:pt x="59" y="207"/>
                      </a:lnTo>
                      <a:lnTo>
                        <a:pt x="70" y="225"/>
                      </a:lnTo>
                      <a:lnTo>
                        <a:pt x="94" y="261"/>
                      </a:lnTo>
                      <a:lnTo>
                        <a:pt x="121" y="295"/>
                      </a:lnTo>
                      <a:lnTo>
                        <a:pt x="151" y="327"/>
                      </a:lnTo>
                      <a:lnTo>
                        <a:pt x="191" y="364"/>
                      </a:lnTo>
                      <a:lnTo>
                        <a:pt x="212" y="381"/>
                      </a:lnTo>
                      <a:lnTo>
                        <a:pt x="233" y="397"/>
                      </a:lnTo>
                      <a:lnTo>
                        <a:pt x="277" y="424"/>
                      </a:lnTo>
                      <a:lnTo>
                        <a:pt x="325" y="446"/>
                      </a:lnTo>
                      <a:lnTo>
                        <a:pt x="374" y="462"/>
                      </a:lnTo>
                      <a:lnTo>
                        <a:pt x="425" y="476"/>
                      </a:lnTo>
                      <a:lnTo>
                        <a:pt x="478" y="483"/>
                      </a:lnTo>
                      <a:lnTo>
                        <a:pt x="505" y="485"/>
                      </a:lnTo>
                      <a:lnTo>
                        <a:pt x="534" y="486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3" y="462"/>
                      </a:lnTo>
                      <a:lnTo>
                        <a:pt x="629" y="457"/>
                      </a:lnTo>
                      <a:lnTo>
                        <a:pt x="581" y="462"/>
                      </a:lnTo>
                      <a:lnTo>
                        <a:pt x="534" y="465"/>
                      </a:lnTo>
                      <a:lnTo>
                        <a:pt x="506" y="463"/>
                      </a:lnTo>
                      <a:lnTo>
                        <a:pt x="480" y="461"/>
                      </a:lnTo>
                      <a:lnTo>
                        <a:pt x="429" y="454"/>
                      </a:lnTo>
                      <a:lnTo>
                        <a:pt x="404" y="449"/>
                      </a:lnTo>
                      <a:lnTo>
                        <a:pt x="381" y="442"/>
                      </a:lnTo>
                      <a:lnTo>
                        <a:pt x="334" y="426"/>
                      </a:lnTo>
                      <a:lnTo>
                        <a:pt x="288" y="403"/>
                      </a:lnTo>
                      <a:lnTo>
                        <a:pt x="246" y="378"/>
                      </a:lnTo>
                      <a:lnTo>
                        <a:pt x="204" y="347"/>
                      </a:lnTo>
                      <a:lnTo>
                        <a:pt x="166" y="313"/>
                      </a:lnTo>
                      <a:lnTo>
                        <a:pt x="149" y="295"/>
                      </a:lnTo>
                      <a:lnTo>
                        <a:pt x="134" y="278"/>
                      </a:lnTo>
                      <a:lnTo>
                        <a:pt x="120" y="259"/>
                      </a:lnTo>
                      <a:lnTo>
                        <a:pt x="107" y="242"/>
                      </a:lnTo>
                      <a:lnTo>
                        <a:pt x="94" y="223"/>
                      </a:lnTo>
                      <a:lnTo>
                        <a:pt x="82" y="205"/>
                      </a:lnTo>
                      <a:lnTo>
                        <a:pt x="63" y="168"/>
                      </a:lnTo>
                      <a:lnTo>
                        <a:pt x="45" y="127"/>
                      </a:lnTo>
                      <a:lnTo>
                        <a:pt x="32" y="86"/>
                      </a:lnTo>
                      <a:lnTo>
                        <a:pt x="22" y="4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70320" y="2934360"/>
                  <a:ext cx="181800" cy="140760"/>
                </a:xfrm>
                <a:custGeom>
                  <a:avLst/>
                  <a:gdLst/>
                  <a:ahLst/>
                  <a:rect l="l" t="t" r="r" b="b"/>
                  <a:pathLst>
                    <a:path w="635" h="496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4" y="74"/>
                      </a:lnTo>
                      <a:lnTo>
                        <a:pt x="14" y="117"/>
                      </a:lnTo>
                      <a:lnTo>
                        <a:pt x="27" y="158"/>
                      </a:lnTo>
                      <a:lnTo>
                        <a:pt x="45" y="199"/>
                      </a:lnTo>
                      <a:lnTo>
                        <a:pt x="64" y="236"/>
                      </a:lnTo>
                      <a:lnTo>
                        <a:pt x="76" y="254"/>
                      </a:lnTo>
                      <a:lnTo>
                        <a:pt x="89" y="273"/>
                      </a:lnTo>
                      <a:lnTo>
                        <a:pt x="102" y="290"/>
                      </a:lnTo>
                      <a:lnTo>
                        <a:pt x="116" y="309"/>
                      </a:lnTo>
                      <a:lnTo>
                        <a:pt x="131" y="326"/>
                      </a:lnTo>
                      <a:lnTo>
                        <a:pt x="148" y="344"/>
                      </a:lnTo>
                      <a:lnTo>
                        <a:pt x="186" y="378"/>
                      </a:lnTo>
                      <a:lnTo>
                        <a:pt x="228" y="409"/>
                      </a:lnTo>
                      <a:lnTo>
                        <a:pt x="270" y="434"/>
                      </a:lnTo>
                      <a:lnTo>
                        <a:pt x="316" y="457"/>
                      </a:lnTo>
                      <a:lnTo>
                        <a:pt x="363" y="473"/>
                      </a:lnTo>
                      <a:lnTo>
                        <a:pt x="386" y="480"/>
                      </a:lnTo>
                      <a:lnTo>
                        <a:pt x="411" y="485"/>
                      </a:lnTo>
                      <a:lnTo>
                        <a:pt x="462" y="492"/>
                      </a:lnTo>
                      <a:lnTo>
                        <a:pt x="488" y="494"/>
                      </a:lnTo>
                      <a:lnTo>
                        <a:pt x="516" y="496"/>
                      </a:lnTo>
                      <a:lnTo>
                        <a:pt x="563" y="493"/>
                      </a:lnTo>
                      <a:lnTo>
                        <a:pt x="611" y="488"/>
                      </a:lnTo>
                      <a:lnTo>
                        <a:pt x="635" y="460"/>
                      </a:lnTo>
                      <a:lnTo>
                        <a:pt x="605" y="466"/>
                      </a:lnTo>
                      <a:lnTo>
                        <a:pt x="576" y="471"/>
                      </a:lnTo>
                      <a:lnTo>
                        <a:pt x="545" y="473"/>
                      </a:lnTo>
                      <a:lnTo>
                        <a:pt x="516" y="474"/>
                      </a:lnTo>
                      <a:lnTo>
                        <a:pt x="465" y="472"/>
                      </a:lnTo>
                      <a:lnTo>
                        <a:pt x="416" y="465"/>
                      </a:lnTo>
                      <a:lnTo>
                        <a:pt x="368" y="454"/>
                      </a:lnTo>
                      <a:lnTo>
                        <a:pt x="324" y="438"/>
                      </a:lnTo>
                      <a:lnTo>
                        <a:pt x="280" y="417"/>
                      </a:lnTo>
                      <a:lnTo>
                        <a:pt x="240" y="392"/>
                      </a:lnTo>
                      <a:lnTo>
                        <a:pt x="200" y="363"/>
                      </a:lnTo>
                      <a:lnTo>
                        <a:pt x="164" y="329"/>
                      </a:lnTo>
                      <a:lnTo>
                        <a:pt x="130" y="293"/>
                      </a:lnTo>
                      <a:lnTo>
                        <a:pt x="115" y="273"/>
                      </a:lnTo>
                      <a:lnTo>
                        <a:pt x="103" y="255"/>
                      </a:lnTo>
                      <a:lnTo>
                        <a:pt x="78" y="217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0" y="92"/>
                      </a:lnTo>
                      <a:lnTo>
                        <a:pt x="21" y="47"/>
                      </a:lnTo>
                      <a:lnTo>
                        <a:pt x="19" y="2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67080" y="3045240"/>
                  <a:ext cx="78840" cy="59760"/>
                </a:xfrm>
                <a:custGeom>
                  <a:avLst/>
                  <a:gdLst/>
                  <a:ahLst/>
                  <a:rect l="l" t="t" r="r" b="b"/>
                  <a:pathLst>
                    <a:path w="277" h="211">
                      <a:moveTo>
                        <a:pt x="55" y="61"/>
                      </a:moveTo>
                      <a:lnTo>
                        <a:pt x="26" y="31"/>
                      </a:lnTo>
                      <a:lnTo>
                        <a:pt x="0" y="0"/>
                      </a:lnTo>
                      <a:lnTo>
                        <a:pt x="15" y="26"/>
                      </a:lnTo>
                      <a:lnTo>
                        <a:pt x="32" y="53"/>
                      </a:lnTo>
                      <a:lnTo>
                        <a:pt x="51" y="78"/>
                      </a:lnTo>
                      <a:lnTo>
                        <a:pt x="75" y="104"/>
                      </a:lnTo>
                      <a:lnTo>
                        <a:pt x="97" y="124"/>
                      </a:lnTo>
                      <a:lnTo>
                        <a:pt x="119" y="143"/>
                      </a:lnTo>
                      <a:lnTo>
                        <a:pt x="143" y="159"/>
                      </a:lnTo>
                      <a:lnTo>
                        <a:pt x="168" y="174"/>
                      </a:lnTo>
                      <a:lnTo>
                        <a:pt x="193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7" y="211"/>
                      </a:lnTo>
                      <a:lnTo>
                        <a:pt x="246" y="197"/>
                      </a:lnTo>
                      <a:lnTo>
                        <a:pt x="217" y="183"/>
                      </a:lnTo>
                      <a:lnTo>
                        <a:pt x="187" y="166"/>
                      </a:lnTo>
                      <a:lnTo>
                        <a:pt x="160" y="149"/>
                      </a:lnTo>
                      <a:lnTo>
                        <a:pt x="132" y="128"/>
                      </a:lnTo>
                      <a:lnTo>
                        <a:pt x="106" y="108"/>
                      </a:lnTo>
                      <a:lnTo>
                        <a:pt x="80" y="85"/>
                      </a:lnTo>
                      <a:lnTo>
                        <a:pt x="55" y="61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59520" y="3023640"/>
                  <a:ext cx="11124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3">
                      <a:moveTo>
                        <a:pt x="27" y="76"/>
                      </a:moveTo>
                      <a:lnTo>
                        <a:pt x="53" y="107"/>
                      </a:lnTo>
                      <a:lnTo>
                        <a:pt x="82" y="137"/>
                      </a:lnTo>
                      <a:lnTo>
                        <a:pt x="107" y="161"/>
                      </a:lnTo>
                      <a:lnTo>
                        <a:pt x="133" y="184"/>
                      </a:lnTo>
                      <a:lnTo>
                        <a:pt x="159" y="204"/>
                      </a:lnTo>
                      <a:lnTo>
                        <a:pt x="187" y="225"/>
                      </a:lnTo>
                      <a:lnTo>
                        <a:pt x="214" y="242"/>
                      </a:lnTo>
                      <a:lnTo>
                        <a:pt x="244" y="259"/>
                      </a:lnTo>
                      <a:lnTo>
                        <a:pt x="273" y="273"/>
                      </a:lnTo>
                      <a:lnTo>
                        <a:pt x="304" y="287"/>
                      </a:lnTo>
                      <a:lnTo>
                        <a:pt x="337" y="290"/>
                      </a:lnTo>
                      <a:lnTo>
                        <a:pt x="373" y="293"/>
                      </a:lnTo>
                      <a:lnTo>
                        <a:pt x="391" y="293"/>
                      </a:lnTo>
                      <a:lnTo>
                        <a:pt x="349" y="280"/>
                      </a:lnTo>
                      <a:lnTo>
                        <a:pt x="310" y="265"/>
                      </a:lnTo>
                      <a:lnTo>
                        <a:pt x="271" y="247"/>
                      </a:lnTo>
                      <a:lnTo>
                        <a:pt x="235" y="228"/>
                      </a:lnTo>
                      <a:lnTo>
                        <a:pt x="197" y="204"/>
                      </a:lnTo>
                      <a:lnTo>
                        <a:pt x="162" y="180"/>
                      </a:lnTo>
                      <a:lnTo>
                        <a:pt x="128" y="152"/>
                      </a:lnTo>
                      <a:lnTo>
                        <a:pt x="96" y="123"/>
                      </a:lnTo>
                      <a:lnTo>
                        <a:pt x="68" y="92"/>
                      </a:lnTo>
                      <a:lnTo>
                        <a:pt x="43" y="62"/>
                      </a:lnTo>
                      <a:lnTo>
                        <a:pt x="19" y="31"/>
                      </a:lnTo>
                      <a:lnTo>
                        <a:pt x="0" y="0"/>
                      </a:lnTo>
                      <a:lnTo>
                        <a:pt x="11" y="39"/>
                      </a:lnTo>
                      <a:lnTo>
                        <a:pt x="18" y="57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56640" y="300636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8" h="353">
                      <a:moveTo>
                        <a:pt x="9" y="60"/>
                      </a:moveTo>
                      <a:lnTo>
                        <a:pt x="28" y="91"/>
                      </a:lnTo>
                      <a:lnTo>
                        <a:pt x="52" y="122"/>
                      </a:lnTo>
                      <a:lnTo>
                        <a:pt x="77" y="152"/>
                      </a:lnTo>
                      <a:lnTo>
                        <a:pt x="105" y="183"/>
                      </a:lnTo>
                      <a:lnTo>
                        <a:pt x="137" y="212"/>
                      </a:lnTo>
                      <a:lnTo>
                        <a:pt x="171" y="240"/>
                      </a:lnTo>
                      <a:lnTo>
                        <a:pt x="206" y="264"/>
                      </a:lnTo>
                      <a:lnTo>
                        <a:pt x="244" y="288"/>
                      </a:lnTo>
                      <a:lnTo>
                        <a:pt x="280" y="307"/>
                      </a:lnTo>
                      <a:lnTo>
                        <a:pt x="319" y="325"/>
                      </a:lnTo>
                      <a:lnTo>
                        <a:pt x="358" y="340"/>
                      </a:lnTo>
                      <a:lnTo>
                        <a:pt x="400" y="353"/>
                      </a:lnTo>
                      <a:lnTo>
                        <a:pt x="434" y="349"/>
                      </a:lnTo>
                      <a:lnTo>
                        <a:pt x="468" y="344"/>
                      </a:lnTo>
                      <a:lnTo>
                        <a:pt x="418" y="333"/>
                      </a:lnTo>
                      <a:lnTo>
                        <a:pt x="371" y="321"/>
                      </a:lnTo>
                      <a:lnTo>
                        <a:pt x="324" y="304"/>
                      </a:lnTo>
                      <a:lnTo>
                        <a:pt x="281" y="285"/>
                      </a:lnTo>
                      <a:lnTo>
                        <a:pt x="238" y="260"/>
                      </a:lnTo>
                      <a:lnTo>
                        <a:pt x="197" y="232"/>
                      </a:lnTo>
                      <a:lnTo>
                        <a:pt x="158" y="201"/>
                      </a:lnTo>
                      <a:lnTo>
                        <a:pt x="121" y="167"/>
                      </a:lnTo>
                      <a:lnTo>
                        <a:pt x="84" y="127"/>
                      </a:lnTo>
                      <a:lnTo>
                        <a:pt x="52" y="86"/>
                      </a:lnTo>
                      <a:lnTo>
                        <a:pt x="23" y="43"/>
                      </a:lnTo>
                      <a:lnTo>
                        <a:pt x="0" y="0"/>
                      </a:lnTo>
                      <a:lnTo>
                        <a:pt x="3" y="29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55920" y="2888280"/>
                  <a:ext cx="219600" cy="218520"/>
                </a:xfrm>
                <a:custGeom>
                  <a:avLst/>
                  <a:gdLst/>
                  <a:ahLst/>
                  <a:rect l="l" t="t" r="r" b="b"/>
                  <a:pathLst>
                    <a:path w="767" h="768">
                      <a:moveTo>
                        <a:pt x="383" y="0"/>
                      </a:moveTo>
                      <a:lnTo>
                        <a:pt x="343" y="1"/>
                      </a:lnTo>
                      <a:lnTo>
                        <a:pt x="306" y="7"/>
                      </a:lnTo>
                      <a:lnTo>
                        <a:pt x="270" y="15"/>
                      </a:lnTo>
                      <a:lnTo>
                        <a:pt x="236" y="27"/>
                      </a:lnTo>
                      <a:lnTo>
                        <a:pt x="202" y="42"/>
                      </a:lnTo>
                      <a:lnTo>
                        <a:pt x="170" y="62"/>
                      </a:lnTo>
                      <a:lnTo>
                        <a:pt x="139" y="85"/>
                      </a:lnTo>
                      <a:lnTo>
                        <a:pt x="112" y="112"/>
                      </a:lnTo>
                      <a:lnTo>
                        <a:pt x="85" y="139"/>
                      </a:lnTo>
                      <a:lnTo>
                        <a:pt x="62" y="170"/>
                      </a:lnTo>
                      <a:lnTo>
                        <a:pt x="42" y="202"/>
                      </a:lnTo>
                      <a:lnTo>
                        <a:pt x="27" y="236"/>
                      </a:lnTo>
                      <a:lnTo>
                        <a:pt x="15" y="270"/>
                      </a:lnTo>
                      <a:lnTo>
                        <a:pt x="7" y="306"/>
                      </a:lnTo>
                      <a:lnTo>
                        <a:pt x="1" y="344"/>
                      </a:lnTo>
                      <a:lnTo>
                        <a:pt x="0" y="383"/>
                      </a:lnTo>
                      <a:lnTo>
                        <a:pt x="1" y="422"/>
                      </a:lnTo>
                      <a:lnTo>
                        <a:pt x="7" y="459"/>
                      </a:lnTo>
                      <a:lnTo>
                        <a:pt x="15" y="495"/>
                      </a:lnTo>
                      <a:lnTo>
                        <a:pt x="27" y="531"/>
                      </a:lnTo>
                      <a:lnTo>
                        <a:pt x="42" y="564"/>
                      </a:lnTo>
                      <a:lnTo>
                        <a:pt x="62" y="595"/>
                      </a:lnTo>
                      <a:lnTo>
                        <a:pt x="72" y="610"/>
                      </a:lnTo>
                      <a:lnTo>
                        <a:pt x="85" y="626"/>
                      </a:lnTo>
                      <a:lnTo>
                        <a:pt x="112" y="655"/>
                      </a:lnTo>
                      <a:lnTo>
                        <a:pt x="139" y="680"/>
                      </a:lnTo>
                      <a:lnTo>
                        <a:pt x="170" y="703"/>
                      </a:lnTo>
                      <a:lnTo>
                        <a:pt x="202" y="722"/>
                      </a:lnTo>
                      <a:lnTo>
                        <a:pt x="236" y="739"/>
                      </a:lnTo>
                      <a:lnTo>
                        <a:pt x="270" y="751"/>
                      </a:lnTo>
                      <a:lnTo>
                        <a:pt x="306" y="760"/>
                      </a:lnTo>
                      <a:lnTo>
                        <a:pt x="343" y="765"/>
                      </a:lnTo>
                      <a:lnTo>
                        <a:pt x="383" y="768"/>
                      </a:lnTo>
                      <a:lnTo>
                        <a:pt x="422" y="765"/>
                      </a:lnTo>
                      <a:lnTo>
                        <a:pt x="440" y="762"/>
                      </a:lnTo>
                      <a:lnTo>
                        <a:pt x="459" y="760"/>
                      </a:lnTo>
                      <a:lnTo>
                        <a:pt x="495" y="751"/>
                      </a:lnTo>
                      <a:lnTo>
                        <a:pt x="499" y="748"/>
                      </a:lnTo>
                      <a:lnTo>
                        <a:pt x="503" y="747"/>
                      </a:lnTo>
                      <a:lnTo>
                        <a:pt x="512" y="745"/>
                      </a:lnTo>
                      <a:lnTo>
                        <a:pt x="530" y="739"/>
                      </a:lnTo>
                      <a:lnTo>
                        <a:pt x="546" y="730"/>
                      </a:lnTo>
                      <a:lnTo>
                        <a:pt x="554" y="726"/>
                      </a:lnTo>
                      <a:lnTo>
                        <a:pt x="563" y="722"/>
                      </a:lnTo>
                      <a:lnTo>
                        <a:pt x="595" y="703"/>
                      </a:lnTo>
                      <a:lnTo>
                        <a:pt x="610" y="692"/>
                      </a:lnTo>
                      <a:lnTo>
                        <a:pt x="626" y="680"/>
                      </a:lnTo>
                      <a:lnTo>
                        <a:pt x="655" y="655"/>
                      </a:lnTo>
                      <a:lnTo>
                        <a:pt x="680" y="626"/>
                      </a:lnTo>
                      <a:lnTo>
                        <a:pt x="691" y="610"/>
                      </a:lnTo>
                      <a:lnTo>
                        <a:pt x="703" y="595"/>
                      </a:lnTo>
                      <a:lnTo>
                        <a:pt x="722" y="564"/>
                      </a:lnTo>
                      <a:lnTo>
                        <a:pt x="725" y="554"/>
                      </a:lnTo>
                      <a:lnTo>
                        <a:pt x="730" y="546"/>
                      </a:lnTo>
                      <a:lnTo>
                        <a:pt x="739" y="531"/>
                      </a:lnTo>
                      <a:lnTo>
                        <a:pt x="745" y="512"/>
                      </a:lnTo>
                      <a:lnTo>
                        <a:pt x="747" y="503"/>
                      </a:lnTo>
                      <a:lnTo>
                        <a:pt x="748" y="499"/>
                      </a:lnTo>
                      <a:lnTo>
                        <a:pt x="750" y="495"/>
                      </a:lnTo>
                      <a:lnTo>
                        <a:pt x="759" y="459"/>
                      </a:lnTo>
                      <a:lnTo>
                        <a:pt x="762" y="440"/>
                      </a:lnTo>
                      <a:lnTo>
                        <a:pt x="765" y="422"/>
                      </a:lnTo>
                      <a:lnTo>
                        <a:pt x="767" y="383"/>
                      </a:lnTo>
                      <a:lnTo>
                        <a:pt x="765" y="344"/>
                      </a:lnTo>
                      <a:lnTo>
                        <a:pt x="759" y="306"/>
                      </a:lnTo>
                      <a:lnTo>
                        <a:pt x="750" y="270"/>
                      </a:lnTo>
                      <a:lnTo>
                        <a:pt x="739" y="236"/>
                      </a:lnTo>
                      <a:lnTo>
                        <a:pt x="722" y="202"/>
                      </a:lnTo>
                      <a:lnTo>
                        <a:pt x="703" y="170"/>
                      </a:lnTo>
                      <a:lnTo>
                        <a:pt x="680" y="139"/>
                      </a:lnTo>
                      <a:lnTo>
                        <a:pt x="655" y="112"/>
                      </a:lnTo>
                      <a:lnTo>
                        <a:pt x="626" y="85"/>
                      </a:lnTo>
                      <a:lnTo>
                        <a:pt x="610" y="73"/>
                      </a:lnTo>
                      <a:lnTo>
                        <a:pt x="595" y="62"/>
                      </a:lnTo>
                      <a:lnTo>
                        <a:pt x="563" y="42"/>
                      </a:lnTo>
                      <a:lnTo>
                        <a:pt x="530" y="27"/>
                      </a:lnTo>
                      <a:lnTo>
                        <a:pt x="495" y="15"/>
                      </a:lnTo>
                      <a:lnTo>
                        <a:pt x="459" y="7"/>
                      </a:lnTo>
                      <a:lnTo>
                        <a:pt x="422" y="1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14600" y="2987640"/>
                  <a:ext cx="1011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120000" y="2993400"/>
                  <a:ext cx="89640" cy="1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00160" y="311796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6">
                      <a:moveTo>
                        <a:pt x="66" y="26"/>
                      </a:moveTo>
                      <a:lnTo>
                        <a:pt x="92" y="6"/>
                      </a:lnTo>
                      <a:lnTo>
                        <a:pt x="62" y="0"/>
                      </a:lnTo>
                      <a:lnTo>
                        <a:pt x="51" y="11"/>
                      </a:lnTo>
                      <a:lnTo>
                        <a:pt x="27" y="37"/>
                      </a:lnTo>
                      <a:lnTo>
                        <a:pt x="18" y="51"/>
                      </a:lnTo>
                      <a:lnTo>
                        <a:pt x="12" y="67"/>
                      </a:lnTo>
                      <a:lnTo>
                        <a:pt x="6" y="82"/>
                      </a:lnTo>
                      <a:lnTo>
                        <a:pt x="2" y="99"/>
                      </a:lnTo>
                      <a:lnTo>
                        <a:pt x="0" y="134"/>
                      </a:lnTo>
                      <a:lnTo>
                        <a:pt x="0" y="150"/>
                      </a:lnTo>
                      <a:lnTo>
                        <a:pt x="2" y="167"/>
                      </a:lnTo>
                      <a:lnTo>
                        <a:pt x="6" y="183"/>
                      </a:lnTo>
                      <a:lnTo>
                        <a:pt x="12" y="200"/>
                      </a:lnTo>
                      <a:lnTo>
                        <a:pt x="18" y="213"/>
                      </a:lnTo>
                      <a:lnTo>
                        <a:pt x="27" y="228"/>
                      </a:lnTo>
                      <a:lnTo>
                        <a:pt x="37" y="241"/>
                      </a:lnTo>
                      <a:lnTo>
                        <a:pt x="51" y="255"/>
                      </a:lnTo>
                      <a:lnTo>
                        <a:pt x="63" y="266"/>
                      </a:lnTo>
                      <a:lnTo>
                        <a:pt x="77" y="277"/>
                      </a:lnTo>
                      <a:lnTo>
                        <a:pt x="91" y="285"/>
                      </a:lnTo>
                      <a:lnTo>
                        <a:pt x="107" y="293"/>
                      </a:lnTo>
                      <a:lnTo>
                        <a:pt x="121" y="298"/>
                      </a:lnTo>
                      <a:lnTo>
                        <a:pt x="138" y="303"/>
                      </a:lnTo>
                      <a:lnTo>
                        <a:pt x="155" y="305"/>
                      </a:lnTo>
                      <a:lnTo>
                        <a:pt x="173" y="306"/>
                      </a:lnTo>
                      <a:lnTo>
                        <a:pt x="189" y="305"/>
                      </a:lnTo>
                      <a:lnTo>
                        <a:pt x="206" y="303"/>
                      </a:lnTo>
                      <a:lnTo>
                        <a:pt x="222" y="298"/>
                      </a:lnTo>
                      <a:lnTo>
                        <a:pt x="226" y="296"/>
                      </a:lnTo>
                      <a:lnTo>
                        <a:pt x="230" y="295"/>
                      </a:lnTo>
                      <a:lnTo>
                        <a:pt x="239" y="293"/>
                      </a:lnTo>
                      <a:lnTo>
                        <a:pt x="253" y="285"/>
                      </a:lnTo>
                      <a:lnTo>
                        <a:pt x="260" y="280"/>
                      </a:lnTo>
                      <a:lnTo>
                        <a:pt x="263" y="278"/>
                      </a:lnTo>
                      <a:lnTo>
                        <a:pt x="268" y="277"/>
                      </a:lnTo>
                      <a:lnTo>
                        <a:pt x="281" y="266"/>
                      </a:lnTo>
                      <a:lnTo>
                        <a:pt x="296" y="255"/>
                      </a:lnTo>
                      <a:lnTo>
                        <a:pt x="307" y="241"/>
                      </a:lnTo>
                      <a:lnTo>
                        <a:pt x="312" y="235"/>
                      </a:lnTo>
                      <a:lnTo>
                        <a:pt x="314" y="231"/>
                      </a:lnTo>
                      <a:lnTo>
                        <a:pt x="317" y="229"/>
                      </a:lnTo>
                      <a:lnTo>
                        <a:pt x="319" y="224"/>
                      </a:lnTo>
                      <a:lnTo>
                        <a:pt x="321" y="221"/>
                      </a:lnTo>
                      <a:lnTo>
                        <a:pt x="325" y="214"/>
                      </a:lnTo>
                      <a:lnTo>
                        <a:pt x="333" y="201"/>
                      </a:lnTo>
                      <a:lnTo>
                        <a:pt x="325" y="187"/>
                      </a:lnTo>
                      <a:lnTo>
                        <a:pt x="319" y="176"/>
                      </a:lnTo>
                      <a:lnTo>
                        <a:pt x="314" y="184"/>
                      </a:lnTo>
                      <a:lnTo>
                        <a:pt x="311" y="193"/>
                      </a:lnTo>
                      <a:lnTo>
                        <a:pt x="306" y="201"/>
                      </a:lnTo>
                      <a:lnTo>
                        <a:pt x="303" y="210"/>
                      </a:lnTo>
                      <a:lnTo>
                        <a:pt x="297" y="217"/>
                      </a:lnTo>
                      <a:lnTo>
                        <a:pt x="293" y="224"/>
                      </a:lnTo>
                      <a:lnTo>
                        <a:pt x="280" y="240"/>
                      </a:lnTo>
                      <a:lnTo>
                        <a:pt x="268" y="249"/>
                      </a:lnTo>
                      <a:lnTo>
                        <a:pt x="256" y="259"/>
                      </a:lnTo>
                      <a:lnTo>
                        <a:pt x="243" y="266"/>
                      </a:lnTo>
                      <a:lnTo>
                        <a:pt x="230" y="273"/>
                      </a:lnTo>
                      <a:lnTo>
                        <a:pt x="215" y="278"/>
                      </a:lnTo>
                      <a:lnTo>
                        <a:pt x="202" y="281"/>
                      </a:lnTo>
                      <a:lnTo>
                        <a:pt x="187" y="283"/>
                      </a:lnTo>
                      <a:lnTo>
                        <a:pt x="173" y="285"/>
                      </a:lnTo>
                      <a:lnTo>
                        <a:pt x="158" y="283"/>
                      </a:lnTo>
                      <a:lnTo>
                        <a:pt x="143" y="281"/>
                      </a:lnTo>
                      <a:lnTo>
                        <a:pt x="128" y="278"/>
                      </a:lnTo>
                      <a:lnTo>
                        <a:pt x="115" y="273"/>
                      </a:lnTo>
                      <a:lnTo>
                        <a:pt x="101" y="266"/>
                      </a:lnTo>
                      <a:lnTo>
                        <a:pt x="88" y="259"/>
                      </a:lnTo>
                      <a:lnTo>
                        <a:pt x="66" y="240"/>
                      </a:lnTo>
                      <a:lnTo>
                        <a:pt x="54" y="228"/>
                      </a:lnTo>
                      <a:lnTo>
                        <a:pt x="45" y="217"/>
                      </a:lnTo>
                      <a:lnTo>
                        <a:pt x="37" y="203"/>
                      </a:lnTo>
                      <a:lnTo>
                        <a:pt x="32" y="190"/>
                      </a:lnTo>
                      <a:lnTo>
                        <a:pt x="26" y="176"/>
                      </a:lnTo>
                      <a:lnTo>
                        <a:pt x="24" y="162"/>
                      </a:lnTo>
                      <a:lnTo>
                        <a:pt x="22" y="147"/>
                      </a:lnTo>
                      <a:lnTo>
                        <a:pt x="22" y="134"/>
                      </a:lnTo>
                      <a:lnTo>
                        <a:pt x="24" y="103"/>
                      </a:lnTo>
                      <a:lnTo>
                        <a:pt x="32" y="75"/>
                      </a:lnTo>
                      <a:lnTo>
                        <a:pt x="45" y="49"/>
                      </a:lnTo>
                      <a:lnTo>
                        <a:pt x="54" y="36"/>
                      </a:lnTo>
                      <a:lnTo>
                        <a:pt x="66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06280" y="3119760"/>
                  <a:ext cx="84960" cy="7920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0" y="0"/>
                      </a:moveTo>
                      <a:lnTo>
                        <a:pt x="44" y="20"/>
                      </a:lnTo>
                      <a:lnTo>
                        <a:pt x="32" y="30"/>
                      </a:lnTo>
                      <a:lnTo>
                        <a:pt x="23" y="43"/>
                      </a:lnTo>
                      <a:lnTo>
                        <a:pt x="10" y="69"/>
                      </a:lnTo>
                      <a:lnTo>
                        <a:pt x="2" y="97"/>
                      </a:lnTo>
                      <a:lnTo>
                        <a:pt x="0" y="128"/>
                      </a:lnTo>
                      <a:lnTo>
                        <a:pt x="0" y="141"/>
                      </a:lnTo>
                      <a:lnTo>
                        <a:pt x="2" y="156"/>
                      </a:lnTo>
                      <a:lnTo>
                        <a:pt x="4" y="170"/>
                      </a:lnTo>
                      <a:lnTo>
                        <a:pt x="10" y="184"/>
                      </a:lnTo>
                      <a:lnTo>
                        <a:pt x="15" y="197"/>
                      </a:lnTo>
                      <a:lnTo>
                        <a:pt x="23" y="211"/>
                      </a:lnTo>
                      <a:lnTo>
                        <a:pt x="32" y="222"/>
                      </a:lnTo>
                      <a:lnTo>
                        <a:pt x="44" y="234"/>
                      </a:lnTo>
                      <a:lnTo>
                        <a:pt x="66" y="253"/>
                      </a:lnTo>
                      <a:lnTo>
                        <a:pt x="79" y="260"/>
                      </a:lnTo>
                      <a:lnTo>
                        <a:pt x="93" y="267"/>
                      </a:lnTo>
                      <a:lnTo>
                        <a:pt x="106" y="272"/>
                      </a:lnTo>
                      <a:lnTo>
                        <a:pt x="121" y="275"/>
                      </a:lnTo>
                      <a:lnTo>
                        <a:pt x="136" y="277"/>
                      </a:lnTo>
                      <a:lnTo>
                        <a:pt x="151" y="279"/>
                      </a:lnTo>
                      <a:lnTo>
                        <a:pt x="165" y="277"/>
                      </a:lnTo>
                      <a:lnTo>
                        <a:pt x="180" y="275"/>
                      </a:lnTo>
                      <a:lnTo>
                        <a:pt x="193" y="272"/>
                      </a:lnTo>
                      <a:lnTo>
                        <a:pt x="208" y="267"/>
                      </a:lnTo>
                      <a:lnTo>
                        <a:pt x="221" y="260"/>
                      </a:lnTo>
                      <a:lnTo>
                        <a:pt x="234" y="253"/>
                      </a:lnTo>
                      <a:lnTo>
                        <a:pt x="246" y="243"/>
                      </a:lnTo>
                      <a:lnTo>
                        <a:pt x="258" y="234"/>
                      </a:lnTo>
                      <a:lnTo>
                        <a:pt x="271" y="218"/>
                      </a:lnTo>
                      <a:lnTo>
                        <a:pt x="275" y="211"/>
                      </a:lnTo>
                      <a:lnTo>
                        <a:pt x="281" y="204"/>
                      </a:lnTo>
                      <a:lnTo>
                        <a:pt x="284" y="195"/>
                      </a:lnTo>
                      <a:lnTo>
                        <a:pt x="289" y="187"/>
                      </a:lnTo>
                      <a:lnTo>
                        <a:pt x="292" y="178"/>
                      </a:lnTo>
                      <a:lnTo>
                        <a:pt x="297" y="170"/>
                      </a:lnTo>
                      <a:lnTo>
                        <a:pt x="280" y="145"/>
                      </a:lnTo>
                      <a:lnTo>
                        <a:pt x="276" y="154"/>
                      </a:lnTo>
                      <a:lnTo>
                        <a:pt x="274" y="164"/>
                      </a:lnTo>
                      <a:lnTo>
                        <a:pt x="271" y="173"/>
                      </a:lnTo>
                      <a:lnTo>
                        <a:pt x="268" y="178"/>
                      </a:lnTo>
                      <a:lnTo>
                        <a:pt x="267" y="180"/>
                      </a:lnTo>
                      <a:lnTo>
                        <a:pt x="267" y="183"/>
                      </a:lnTo>
                      <a:lnTo>
                        <a:pt x="256" y="201"/>
                      </a:lnTo>
                      <a:lnTo>
                        <a:pt x="249" y="209"/>
                      </a:lnTo>
                      <a:lnTo>
                        <a:pt x="243" y="218"/>
                      </a:lnTo>
                      <a:lnTo>
                        <a:pt x="232" y="226"/>
                      </a:lnTo>
                      <a:lnTo>
                        <a:pt x="230" y="226"/>
                      </a:lnTo>
                      <a:lnTo>
                        <a:pt x="229" y="226"/>
                      </a:lnTo>
                      <a:lnTo>
                        <a:pt x="229" y="228"/>
                      </a:lnTo>
                      <a:lnTo>
                        <a:pt x="226" y="230"/>
                      </a:lnTo>
                      <a:lnTo>
                        <a:pt x="222" y="234"/>
                      </a:lnTo>
                      <a:lnTo>
                        <a:pt x="210" y="241"/>
                      </a:lnTo>
                      <a:lnTo>
                        <a:pt x="205" y="243"/>
                      </a:lnTo>
                      <a:lnTo>
                        <a:pt x="200" y="247"/>
                      </a:lnTo>
                      <a:lnTo>
                        <a:pt x="193" y="248"/>
                      </a:lnTo>
                      <a:lnTo>
                        <a:pt x="188" y="250"/>
                      </a:lnTo>
                      <a:lnTo>
                        <a:pt x="176" y="254"/>
                      </a:lnTo>
                      <a:lnTo>
                        <a:pt x="163" y="256"/>
                      </a:lnTo>
                      <a:lnTo>
                        <a:pt x="151" y="257"/>
                      </a:lnTo>
                      <a:lnTo>
                        <a:pt x="138" y="256"/>
                      </a:lnTo>
                      <a:lnTo>
                        <a:pt x="124" y="254"/>
                      </a:lnTo>
                      <a:lnTo>
                        <a:pt x="100" y="247"/>
                      </a:lnTo>
                      <a:lnTo>
                        <a:pt x="89" y="241"/>
                      </a:lnTo>
                      <a:lnTo>
                        <a:pt x="79" y="234"/>
                      </a:lnTo>
                      <a:lnTo>
                        <a:pt x="60" y="218"/>
                      </a:lnTo>
                      <a:lnTo>
                        <a:pt x="41" y="198"/>
                      </a:lnTo>
                      <a:lnTo>
                        <a:pt x="35" y="187"/>
                      </a:lnTo>
                      <a:lnTo>
                        <a:pt x="30" y="177"/>
                      </a:lnTo>
                      <a:lnTo>
                        <a:pt x="26" y="164"/>
                      </a:lnTo>
                      <a:lnTo>
                        <a:pt x="23" y="153"/>
                      </a:lnTo>
                      <a:lnTo>
                        <a:pt x="21" y="128"/>
                      </a:lnTo>
                      <a:lnTo>
                        <a:pt x="23" y="101"/>
                      </a:lnTo>
                      <a:lnTo>
                        <a:pt x="30" y="77"/>
                      </a:lnTo>
                      <a:lnTo>
                        <a:pt x="41" y="55"/>
                      </a:lnTo>
                      <a:lnTo>
                        <a:pt x="60" y="36"/>
                      </a:lnTo>
                      <a:lnTo>
                        <a:pt x="77" y="20"/>
                      </a:lnTo>
                      <a:lnTo>
                        <a:pt x="98" y="9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94400" y="3116880"/>
                  <a:ext cx="104400" cy="94680"/>
                </a:xfrm>
                <a:custGeom>
                  <a:avLst/>
                  <a:gdLst/>
                  <a:ahLst/>
                  <a:rect l="l" t="t" r="r" b="b"/>
                  <a:pathLst>
                    <a:path w="367" h="331">
                      <a:moveTo>
                        <a:pt x="73" y="14"/>
                      </a:moveTo>
                      <a:lnTo>
                        <a:pt x="84" y="3"/>
                      </a:lnTo>
                      <a:lnTo>
                        <a:pt x="57" y="0"/>
                      </a:lnTo>
                      <a:lnTo>
                        <a:pt x="42" y="13"/>
                      </a:lnTo>
                      <a:lnTo>
                        <a:pt x="31" y="29"/>
                      </a:lnTo>
                      <a:lnTo>
                        <a:pt x="14" y="62"/>
                      </a:lnTo>
                      <a:lnTo>
                        <a:pt x="4" y="97"/>
                      </a:lnTo>
                      <a:lnTo>
                        <a:pt x="0" y="137"/>
                      </a:lnTo>
                      <a:lnTo>
                        <a:pt x="0" y="155"/>
                      </a:lnTo>
                      <a:lnTo>
                        <a:pt x="4" y="174"/>
                      </a:lnTo>
                      <a:lnTo>
                        <a:pt x="7" y="192"/>
                      </a:lnTo>
                      <a:lnTo>
                        <a:pt x="14" y="210"/>
                      </a:lnTo>
                      <a:lnTo>
                        <a:pt x="21" y="226"/>
                      </a:lnTo>
                      <a:lnTo>
                        <a:pt x="31" y="243"/>
                      </a:lnTo>
                      <a:lnTo>
                        <a:pt x="42" y="258"/>
                      </a:lnTo>
                      <a:lnTo>
                        <a:pt x="57" y="274"/>
                      </a:lnTo>
                      <a:lnTo>
                        <a:pt x="71" y="286"/>
                      </a:lnTo>
                      <a:lnTo>
                        <a:pt x="87" y="298"/>
                      </a:lnTo>
                      <a:lnTo>
                        <a:pt x="102" y="308"/>
                      </a:lnTo>
                      <a:lnTo>
                        <a:pt x="119" y="316"/>
                      </a:lnTo>
                      <a:lnTo>
                        <a:pt x="137" y="322"/>
                      </a:lnTo>
                      <a:lnTo>
                        <a:pt x="156" y="326"/>
                      </a:lnTo>
                      <a:lnTo>
                        <a:pt x="175" y="330"/>
                      </a:lnTo>
                      <a:lnTo>
                        <a:pt x="195" y="331"/>
                      </a:lnTo>
                      <a:lnTo>
                        <a:pt x="214" y="330"/>
                      </a:lnTo>
                      <a:lnTo>
                        <a:pt x="223" y="327"/>
                      </a:lnTo>
                      <a:lnTo>
                        <a:pt x="227" y="326"/>
                      </a:lnTo>
                      <a:lnTo>
                        <a:pt x="233" y="326"/>
                      </a:lnTo>
                      <a:lnTo>
                        <a:pt x="251" y="322"/>
                      </a:lnTo>
                      <a:lnTo>
                        <a:pt x="269" y="316"/>
                      </a:lnTo>
                      <a:lnTo>
                        <a:pt x="285" y="308"/>
                      </a:lnTo>
                      <a:lnTo>
                        <a:pt x="286" y="306"/>
                      </a:lnTo>
                      <a:lnTo>
                        <a:pt x="288" y="305"/>
                      </a:lnTo>
                      <a:lnTo>
                        <a:pt x="293" y="302"/>
                      </a:lnTo>
                      <a:lnTo>
                        <a:pt x="302" y="298"/>
                      </a:lnTo>
                      <a:lnTo>
                        <a:pt x="317" y="286"/>
                      </a:lnTo>
                      <a:lnTo>
                        <a:pt x="333" y="274"/>
                      </a:lnTo>
                      <a:lnTo>
                        <a:pt x="351" y="251"/>
                      </a:lnTo>
                      <a:lnTo>
                        <a:pt x="367" y="229"/>
                      </a:lnTo>
                      <a:lnTo>
                        <a:pt x="355" y="204"/>
                      </a:lnTo>
                      <a:lnTo>
                        <a:pt x="347" y="217"/>
                      </a:lnTo>
                      <a:lnTo>
                        <a:pt x="343" y="224"/>
                      </a:lnTo>
                      <a:lnTo>
                        <a:pt x="341" y="227"/>
                      </a:lnTo>
                      <a:lnTo>
                        <a:pt x="339" y="232"/>
                      </a:lnTo>
                      <a:lnTo>
                        <a:pt x="336" y="234"/>
                      </a:lnTo>
                      <a:lnTo>
                        <a:pt x="334" y="238"/>
                      </a:lnTo>
                      <a:lnTo>
                        <a:pt x="329" y="244"/>
                      </a:lnTo>
                      <a:lnTo>
                        <a:pt x="318" y="258"/>
                      </a:lnTo>
                      <a:lnTo>
                        <a:pt x="303" y="269"/>
                      </a:lnTo>
                      <a:lnTo>
                        <a:pt x="290" y="280"/>
                      </a:lnTo>
                      <a:lnTo>
                        <a:pt x="285" y="281"/>
                      </a:lnTo>
                      <a:lnTo>
                        <a:pt x="282" y="283"/>
                      </a:lnTo>
                      <a:lnTo>
                        <a:pt x="275" y="288"/>
                      </a:lnTo>
                      <a:lnTo>
                        <a:pt x="261" y="296"/>
                      </a:lnTo>
                      <a:lnTo>
                        <a:pt x="252" y="298"/>
                      </a:lnTo>
                      <a:lnTo>
                        <a:pt x="248" y="299"/>
                      </a:lnTo>
                      <a:lnTo>
                        <a:pt x="244" y="301"/>
                      </a:lnTo>
                      <a:lnTo>
                        <a:pt x="228" y="306"/>
                      </a:lnTo>
                      <a:lnTo>
                        <a:pt x="211" y="308"/>
                      </a:lnTo>
                      <a:lnTo>
                        <a:pt x="195" y="309"/>
                      </a:lnTo>
                      <a:lnTo>
                        <a:pt x="177" y="308"/>
                      </a:lnTo>
                      <a:lnTo>
                        <a:pt x="160" y="306"/>
                      </a:lnTo>
                      <a:lnTo>
                        <a:pt x="143" y="301"/>
                      </a:lnTo>
                      <a:lnTo>
                        <a:pt x="129" y="296"/>
                      </a:lnTo>
                      <a:lnTo>
                        <a:pt x="113" y="288"/>
                      </a:lnTo>
                      <a:lnTo>
                        <a:pt x="99" y="280"/>
                      </a:lnTo>
                      <a:lnTo>
                        <a:pt x="85" y="269"/>
                      </a:lnTo>
                      <a:lnTo>
                        <a:pt x="73" y="258"/>
                      </a:lnTo>
                      <a:lnTo>
                        <a:pt x="59" y="244"/>
                      </a:lnTo>
                      <a:lnTo>
                        <a:pt x="49" y="231"/>
                      </a:lnTo>
                      <a:lnTo>
                        <a:pt x="40" y="216"/>
                      </a:lnTo>
                      <a:lnTo>
                        <a:pt x="34" y="203"/>
                      </a:lnTo>
                      <a:lnTo>
                        <a:pt x="28" y="186"/>
                      </a:lnTo>
                      <a:lnTo>
                        <a:pt x="24" y="170"/>
                      </a:lnTo>
                      <a:lnTo>
                        <a:pt x="22" y="153"/>
                      </a:lnTo>
                      <a:lnTo>
                        <a:pt x="22" y="137"/>
                      </a:lnTo>
                      <a:lnTo>
                        <a:pt x="24" y="102"/>
                      </a:lnTo>
                      <a:lnTo>
                        <a:pt x="28" y="85"/>
                      </a:lnTo>
                      <a:lnTo>
                        <a:pt x="34" y="70"/>
                      </a:lnTo>
                      <a:lnTo>
                        <a:pt x="40" y="54"/>
                      </a:lnTo>
                      <a:lnTo>
                        <a:pt x="49" y="40"/>
                      </a:lnTo>
                      <a:lnTo>
                        <a:pt x="73" y="14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481800" y="3116160"/>
                  <a:ext cx="122040" cy="107280"/>
                </a:xfrm>
                <a:custGeom>
                  <a:avLst/>
                  <a:gdLst/>
                  <a:ahLst/>
                  <a:rect l="l" t="t" r="r" b="b"/>
                  <a:pathLst>
                    <a:path w="428" h="377">
                      <a:moveTo>
                        <a:pt x="56" y="0"/>
                      </a:moveTo>
                      <a:lnTo>
                        <a:pt x="45" y="0"/>
                      </a:lnTo>
                      <a:lnTo>
                        <a:pt x="24" y="31"/>
                      </a:lnTo>
                      <a:lnTo>
                        <a:pt x="16" y="47"/>
                      </a:lnTo>
                      <a:lnTo>
                        <a:pt x="11" y="65"/>
                      </a:lnTo>
                      <a:lnTo>
                        <a:pt x="3" y="100"/>
                      </a:lnTo>
                      <a:lnTo>
                        <a:pt x="0" y="140"/>
                      </a:lnTo>
                      <a:lnTo>
                        <a:pt x="0" y="162"/>
                      </a:lnTo>
                      <a:lnTo>
                        <a:pt x="4" y="186"/>
                      </a:lnTo>
                      <a:lnTo>
                        <a:pt x="9" y="208"/>
                      </a:lnTo>
                      <a:lnTo>
                        <a:pt x="17" y="230"/>
                      </a:lnTo>
                      <a:lnTo>
                        <a:pt x="25" y="250"/>
                      </a:lnTo>
                      <a:lnTo>
                        <a:pt x="38" y="270"/>
                      </a:lnTo>
                      <a:lnTo>
                        <a:pt x="53" y="288"/>
                      </a:lnTo>
                      <a:lnTo>
                        <a:pt x="70" y="308"/>
                      </a:lnTo>
                      <a:lnTo>
                        <a:pt x="87" y="322"/>
                      </a:lnTo>
                      <a:lnTo>
                        <a:pt x="106" y="337"/>
                      </a:lnTo>
                      <a:lnTo>
                        <a:pt x="125" y="348"/>
                      </a:lnTo>
                      <a:lnTo>
                        <a:pt x="147" y="359"/>
                      </a:lnTo>
                      <a:lnTo>
                        <a:pt x="167" y="367"/>
                      </a:lnTo>
                      <a:lnTo>
                        <a:pt x="190" y="372"/>
                      </a:lnTo>
                      <a:lnTo>
                        <a:pt x="214" y="376"/>
                      </a:lnTo>
                      <a:lnTo>
                        <a:pt x="238" y="377"/>
                      </a:lnTo>
                      <a:lnTo>
                        <a:pt x="261" y="376"/>
                      </a:lnTo>
                      <a:lnTo>
                        <a:pt x="272" y="373"/>
                      </a:lnTo>
                      <a:lnTo>
                        <a:pt x="275" y="372"/>
                      </a:lnTo>
                      <a:lnTo>
                        <a:pt x="278" y="372"/>
                      </a:lnTo>
                      <a:lnTo>
                        <a:pt x="285" y="372"/>
                      </a:lnTo>
                      <a:lnTo>
                        <a:pt x="289" y="370"/>
                      </a:lnTo>
                      <a:lnTo>
                        <a:pt x="292" y="369"/>
                      </a:lnTo>
                      <a:lnTo>
                        <a:pt x="295" y="369"/>
                      </a:lnTo>
                      <a:lnTo>
                        <a:pt x="306" y="367"/>
                      </a:lnTo>
                      <a:lnTo>
                        <a:pt x="329" y="359"/>
                      </a:lnTo>
                      <a:lnTo>
                        <a:pt x="338" y="353"/>
                      </a:lnTo>
                      <a:lnTo>
                        <a:pt x="348" y="348"/>
                      </a:lnTo>
                      <a:lnTo>
                        <a:pt x="369" y="337"/>
                      </a:lnTo>
                      <a:lnTo>
                        <a:pt x="387" y="322"/>
                      </a:lnTo>
                      <a:lnTo>
                        <a:pt x="396" y="314"/>
                      </a:lnTo>
                      <a:lnTo>
                        <a:pt x="406" y="308"/>
                      </a:lnTo>
                      <a:lnTo>
                        <a:pt x="411" y="301"/>
                      </a:lnTo>
                      <a:lnTo>
                        <a:pt x="413" y="297"/>
                      </a:lnTo>
                      <a:lnTo>
                        <a:pt x="416" y="295"/>
                      </a:lnTo>
                      <a:lnTo>
                        <a:pt x="428" y="283"/>
                      </a:lnTo>
                      <a:lnTo>
                        <a:pt x="420" y="257"/>
                      </a:lnTo>
                      <a:lnTo>
                        <a:pt x="415" y="260"/>
                      </a:lnTo>
                      <a:lnTo>
                        <a:pt x="412" y="265"/>
                      </a:lnTo>
                      <a:lnTo>
                        <a:pt x="405" y="274"/>
                      </a:lnTo>
                      <a:lnTo>
                        <a:pt x="390" y="292"/>
                      </a:lnTo>
                      <a:lnTo>
                        <a:pt x="381" y="299"/>
                      </a:lnTo>
                      <a:lnTo>
                        <a:pt x="377" y="302"/>
                      </a:lnTo>
                      <a:lnTo>
                        <a:pt x="373" y="306"/>
                      </a:lnTo>
                      <a:lnTo>
                        <a:pt x="364" y="312"/>
                      </a:lnTo>
                      <a:lnTo>
                        <a:pt x="356" y="319"/>
                      </a:lnTo>
                      <a:lnTo>
                        <a:pt x="338" y="329"/>
                      </a:lnTo>
                      <a:lnTo>
                        <a:pt x="320" y="339"/>
                      </a:lnTo>
                      <a:lnTo>
                        <a:pt x="300" y="345"/>
                      </a:lnTo>
                      <a:lnTo>
                        <a:pt x="289" y="347"/>
                      </a:lnTo>
                      <a:lnTo>
                        <a:pt x="280" y="351"/>
                      </a:lnTo>
                      <a:lnTo>
                        <a:pt x="269" y="352"/>
                      </a:lnTo>
                      <a:lnTo>
                        <a:pt x="259" y="354"/>
                      </a:lnTo>
                      <a:lnTo>
                        <a:pt x="238" y="355"/>
                      </a:lnTo>
                      <a:lnTo>
                        <a:pt x="216" y="354"/>
                      </a:lnTo>
                      <a:lnTo>
                        <a:pt x="194" y="351"/>
                      </a:lnTo>
                      <a:lnTo>
                        <a:pt x="174" y="345"/>
                      </a:lnTo>
                      <a:lnTo>
                        <a:pt x="155" y="339"/>
                      </a:lnTo>
                      <a:lnTo>
                        <a:pt x="135" y="329"/>
                      </a:lnTo>
                      <a:lnTo>
                        <a:pt x="118" y="319"/>
                      </a:lnTo>
                      <a:lnTo>
                        <a:pt x="101" y="306"/>
                      </a:lnTo>
                      <a:lnTo>
                        <a:pt x="85" y="292"/>
                      </a:lnTo>
                      <a:lnTo>
                        <a:pt x="70" y="275"/>
                      </a:lnTo>
                      <a:lnTo>
                        <a:pt x="57" y="258"/>
                      </a:lnTo>
                      <a:lnTo>
                        <a:pt x="46" y="240"/>
                      </a:lnTo>
                      <a:lnTo>
                        <a:pt x="38" y="221"/>
                      </a:lnTo>
                      <a:lnTo>
                        <a:pt x="30" y="201"/>
                      </a:lnTo>
                      <a:lnTo>
                        <a:pt x="25" y="182"/>
                      </a:lnTo>
                      <a:lnTo>
                        <a:pt x="22" y="160"/>
                      </a:lnTo>
                      <a:lnTo>
                        <a:pt x="22" y="140"/>
                      </a:lnTo>
                      <a:lnTo>
                        <a:pt x="24" y="100"/>
                      </a:lnTo>
                      <a:lnTo>
                        <a:pt x="28" y="81"/>
                      </a:lnTo>
                      <a:lnTo>
                        <a:pt x="34" y="64"/>
                      </a:lnTo>
                      <a:lnTo>
                        <a:pt x="49" y="31"/>
                      </a:lnTo>
                      <a:lnTo>
                        <a:pt x="73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487920" y="3116160"/>
                  <a:ext cx="113760" cy="10152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8" y="3"/>
                      </a:moveTo>
                      <a:lnTo>
                        <a:pt x="51" y="0"/>
                      </a:lnTo>
                      <a:lnTo>
                        <a:pt x="27" y="31"/>
                      </a:lnTo>
                      <a:lnTo>
                        <a:pt x="12" y="64"/>
                      </a:lnTo>
                      <a:lnTo>
                        <a:pt x="6" y="81"/>
                      </a:lnTo>
                      <a:lnTo>
                        <a:pt x="2" y="100"/>
                      </a:lnTo>
                      <a:lnTo>
                        <a:pt x="0" y="140"/>
                      </a:lnTo>
                      <a:lnTo>
                        <a:pt x="0" y="160"/>
                      </a:lnTo>
                      <a:lnTo>
                        <a:pt x="3" y="182"/>
                      </a:lnTo>
                      <a:lnTo>
                        <a:pt x="8" y="201"/>
                      </a:lnTo>
                      <a:lnTo>
                        <a:pt x="16" y="221"/>
                      </a:lnTo>
                      <a:lnTo>
                        <a:pt x="24" y="240"/>
                      </a:lnTo>
                      <a:lnTo>
                        <a:pt x="35" y="258"/>
                      </a:lnTo>
                      <a:lnTo>
                        <a:pt x="48" y="275"/>
                      </a:lnTo>
                      <a:lnTo>
                        <a:pt x="63" y="292"/>
                      </a:lnTo>
                      <a:lnTo>
                        <a:pt x="79" y="306"/>
                      </a:lnTo>
                      <a:lnTo>
                        <a:pt x="96" y="319"/>
                      </a:lnTo>
                      <a:lnTo>
                        <a:pt x="113" y="329"/>
                      </a:lnTo>
                      <a:lnTo>
                        <a:pt x="133" y="339"/>
                      </a:lnTo>
                      <a:lnTo>
                        <a:pt x="152" y="345"/>
                      </a:lnTo>
                      <a:lnTo>
                        <a:pt x="172" y="351"/>
                      </a:lnTo>
                      <a:lnTo>
                        <a:pt x="194" y="354"/>
                      </a:lnTo>
                      <a:lnTo>
                        <a:pt x="216" y="355"/>
                      </a:lnTo>
                      <a:lnTo>
                        <a:pt x="237" y="354"/>
                      </a:lnTo>
                      <a:lnTo>
                        <a:pt x="247" y="352"/>
                      </a:lnTo>
                      <a:lnTo>
                        <a:pt x="258" y="351"/>
                      </a:lnTo>
                      <a:lnTo>
                        <a:pt x="267" y="347"/>
                      </a:lnTo>
                      <a:lnTo>
                        <a:pt x="278" y="345"/>
                      </a:lnTo>
                      <a:lnTo>
                        <a:pt x="298" y="339"/>
                      </a:lnTo>
                      <a:lnTo>
                        <a:pt x="316" y="329"/>
                      </a:lnTo>
                      <a:lnTo>
                        <a:pt x="334" y="319"/>
                      </a:lnTo>
                      <a:lnTo>
                        <a:pt x="342" y="312"/>
                      </a:lnTo>
                      <a:lnTo>
                        <a:pt x="351" y="306"/>
                      </a:lnTo>
                      <a:lnTo>
                        <a:pt x="355" y="302"/>
                      </a:lnTo>
                      <a:lnTo>
                        <a:pt x="359" y="299"/>
                      </a:lnTo>
                      <a:lnTo>
                        <a:pt x="368" y="292"/>
                      </a:lnTo>
                      <a:lnTo>
                        <a:pt x="383" y="274"/>
                      </a:lnTo>
                      <a:lnTo>
                        <a:pt x="390" y="265"/>
                      </a:lnTo>
                      <a:lnTo>
                        <a:pt x="393" y="260"/>
                      </a:lnTo>
                      <a:lnTo>
                        <a:pt x="398" y="257"/>
                      </a:lnTo>
                      <a:lnTo>
                        <a:pt x="388" y="232"/>
                      </a:lnTo>
                      <a:lnTo>
                        <a:pt x="372" y="254"/>
                      </a:lnTo>
                      <a:lnTo>
                        <a:pt x="354" y="277"/>
                      </a:lnTo>
                      <a:lnTo>
                        <a:pt x="338" y="289"/>
                      </a:lnTo>
                      <a:lnTo>
                        <a:pt x="323" y="301"/>
                      </a:lnTo>
                      <a:lnTo>
                        <a:pt x="314" y="305"/>
                      </a:lnTo>
                      <a:lnTo>
                        <a:pt x="309" y="308"/>
                      </a:lnTo>
                      <a:lnTo>
                        <a:pt x="307" y="309"/>
                      </a:lnTo>
                      <a:lnTo>
                        <a:pt x="306" y="311"/>
                      </a:lnTo>
                      <a:lnTo>
                        <a:pt x="290" y="319"/>
                      </a:lnTo>
                      <a:lnTo>
                        <a:pt x="272" y="325"/>
                      </a:lnTo>
                      <a:lnTo>
                        <a:pt x="254" y="329"/>
                      </a:lnTo>
                      <a:lnTo>
                        <a:pt x="248" y="329"/>
                      </a:lnTo>
                      <a:lnTo>
                        <a:pt x="244" y="330"/>
                      </a:lnTo>
                      <a:lnTo>
                        <a:pt x="235" y="333"/>
                      </a:lnTo>
                      <a:lnTo>
                        <a:pt x="216" y="334"/>
                      </a:lnTo>
                      <a:lnTo>
                        <a:pt x="196" y="333"/>
                      </a:lnTo>
                      <a:lnTo>
                        <a:pt x="177" y="329"/>
                      </a:lnTo>
                      <a:lnTo>
                        <a:pt x="158" y="325"/>
                      </a:lnTo>
                      <a:lnTo>
                        <a:pt x="140" y="319"/>
                      </a:lnTo>
                      <a:lnTo>
                        <a:pt x="123" y="311"/>
                      </a:lnTo>
                      <a:lnTo>
                        <a:pt x="108" y="301"/>
                      </a:lnTo>
                      <a:lnTo>
                        <a:pt x="92" y="289"/>
                      </a:lnTo>
                      <a:lnTo>
                        <a:pt x="78" y="277"/>
                      </a:lnTo>
                      <a:lnTo>
                        <a:pt x="63" y="261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3"/>
                      </a:lnTo>
                      <a:lnTo>
                        <a:pt x="28" y="195"/>
                      </a:lnTo>
                      <a:lnTo>
                        <a:pt x="25" y="177"/>
                      </a:lnTo>
                      <a:lnTo>
                        <a:pt x="21" y="158"/>
                      </a:lnTo>
                      <a:lnTo>
                        <a:pt x="21" y="140"/>
                      </a:lnTo>
                      <a:lnTo>
                        <a:pt x="25" y="100"/>
                      </a:lnTo>
                      <a:lnTo>
                        <a:pt x="35" y="65"/>
                      </a:lnTo>
                      <a:lnTo>
                        <a:pt x="52" y="32"/>
                      </a:lnTo>
                      <a:lnTo>
                        <a:pt x="63" y="16"/>
                      </a:lnTo>
                      <a:lnTo>
                        <a:pt x="78" y="3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12400" y="3121920"/>
                  <a:ext cx="73800" cy="71280"/>
                </a:xfrm>
                <a:custGeom>
                  <a:avLst/>
                  <a:gdLst/>
                  <a:ahLst/>
                  <a:rect l="l" t="t" r="r" b="b"/>
                  <a:pathLst>
                    <a:path w="259" h="248">
                      <a:moveTo>
                        <a:pt x="22" y="119"/>
                      </a:moveTo>
                      <a:lnTo>
                        <a:pt x="23" y="96"/>
                      </a:lnTo>
                      <a:lnTo>
                        <a:pt x="30" y="77"/>
                      </a:lnTo>
                      <a:lnTo>
                        <a:pt x="39" y="58"/>
                      </a:lnTo>
                      <a:lnTo>
                        <a:pt x="53" y="42"/>
                      </a:lnTo>
                      <a:lnTo>
                        <a:pt x="65" y="29"/>
                      </a:lnTo>
                      <a:lnTo>
                        <a:pt x="78" y="21"/>
                      </a:lnTo>
                      <a:lnTo>
                        <a:pt x="92" y="16"/>
                      </a:lnTo>
                      <a:lnTo>
                        <a:pt x="108" y="12"/>
                      </a:lnTo>
                      <a:lnTo>
                        <a:pt x="77" y="0"/>
                      </a:lnTo>
                      <a:lnTo>
                        <a:pt x="56" y="11"/>
                      </a:lnTo>
                      <a:lnTo>
                        <a:pt x="39" y="27"/>
                      </a:lnTo>
                      <a:lnTo>
                        <a:pt x="20" y="46"/>
                      </a:lnTo>
                      <a:lnTo>
                        <a:pt x="9" y="68"/>
                      </a:lnTo>
                      <a:lnTo>
                        <a:pt x="2" y="92"/>
                      </a:lnTo>
                      <a:lnTo>
                        <a:pt x="0" y="119"/>
                      </a:lnTo>
                      <a:lnTo>
                        <a:pt x="2" y="144"/>
                      </a:lnTo>
                      <a:lnTo>
                        <a:pt x="5" y="155"/>
                      </a:lnTo>
                      <a:lnTo>
                        <a:pt x="9" y="168"/>
                      </a:lnTo>
                      <a:lnTo>
                        <a:pt x="14" y="178"/>
                      </a:lnTo>
                      <a:lnTo>
                        <a:pt x="20" y="189"/>
                      </a:lnTo>
                      <a:lnTo>
                        <a:pt x="39" y="209"/>
                      </a:lnTo>
                      <a:lnTo>
                        <a:pt x="58" y="225"/>
                      </a:lnTo>
                      <a:lnTo>
                        <a:pt x="68" y="232"/>
                      </a:lnTo>
                      <a:lnTo>
                        <a:pt x="79" y="238"/>
                      </a:lnTo>
                      <a:lnTo>
                        <a:pt x="103" y="245"/>
                      </a:lnTo>
                      <a:lnTo>
                        <a:pt x="117" y="247"/>
                      </a:lnTo>
                      <a:lnTo>
                        <a:pt x="130" y="248"/>
                      </a:lnTo>
                      <a:lnTo>
                        <a:pt x="142" y="247"/>
                      </a:lnTo>
                      <a:lnTo>
                        <a:pt x="155" y="245"/>
                      </a:lnTo>
                      <a:lnTo>
                        <a:pt x="167" y="241"/>
                      </a:lnTo>
                      <a:lnTo>
                        <a:pt x="172" y="239"/>
                      </a:lnTo>
                      <a:lnTo>
                        <a:pt x="179" y="238"/>
                      </a:lnTo>
                      <a:lnTo>
                        <a:pt x="184" y="234"/>
                      </a:lnTo>
                      <a:lnTo>
                        <a:pt x="189" y="232"/>
                      </a:lnTo>
                      <a:lnTo>
                        <a:pt x="201" y="225"/>
                      </a:lnTo>
                      <a:lnTo>
                        <a:pt x="205" y="221"/>
                      </a:lnTo>
                      <a:lnTo>
                        <a:pt x="208" y="219"/>
                      </a:lnTo>
                      <a:lnTo>
                        <a:pt x="208" y="217"/>
                      </a:lnTo>
                      <a:lnTo>
                        <a:pt x="209" y="217"/>
                      </a:lnTo>
                      <a:lnTo>
                        <a:pt x="211" y="217"/>
                      </a:lnTo>
                      <a:lnTo>
                        <a:pt x="222" y="209"/>
                      </a:lnTo>
                      <a:lnTo>
                        <a:pt x="228" y="200"/>
                      </a:lnTo>
                      <a:lnTo>
                        <a:pt x="235" y="192"/>
                      </a:lnTo>
                      <a:lnTo>
                        <a:pt x="246" y="174"/>
                      </a:lnTo>
                      <a:lnTo>
                        <a:pt x="246" y="171"/>
                      </a:lnTo>
                      <a:lnTo>
                        <a:pt x="247" y="169"/>
                      </a:lnTo>
                      <a:lnTo>
                        <a:pt x="250" y="164"/>
                      </a:lnTo>
                      <a:lnTo>
                        <a:pt x="253" y="155"/>
                      </a:lnTo>
                      <a:lnTo>
                        <a:pt x="255" y="145"/>
                      </a:lnTo>
                      <a:lnTo>
                        <a:pt x="259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6" y="139"/>
                      </a:lnTo>
                      <a:lnTo>
                        <a:pt x="230" y="160"/>
                      </a:lnTo>
                      <a:lnTo>
                        <a:pt x="220" y="178"/>
                      </a:lnTo>
                      <a:lnTo>
                        <a:pt x="213" y="186"/>
                      </a:lnTo>
                      <a:lnTo>
                        <a:pt x="206" y="195"/>
                      </a:lnTo>
                      <a:lnTo>
                        <a:pt x="197" y="202"/>
                      </a:lnTo>
                      <a:lnTo>
                        <a:pt x="189" y="208"/>
                      </a:lnTo>
                      <a:lnTo>
                        <a:pt x="171" y="219"/>
                      </a:lnTo>
                      <a:lnTo>
                        <a:pt x="151" y="224"/>
                      </a:lnTo>
                      <a:lnTo>
                        <a:pt x="130" y="226"/>
                      </a:lnTo>
                      <a:lnTo>
                        <a:pt x="108" y="224"/>
                      </a:lnTo>
                      <a:lnTo>
                        <a:pt x="89" y="219"/>
                      </a:lnTo>
                      <a:lnTo>
                        <a:pt x="69" y="208"/>
                      </a:lnTo>
                      <a:lnTo>
                        <a:pt x="53" y="195"/>
                      </a:lnTo>
                      <a:lnTo>
                        <a:pt x="39" y="178"/>
                      </a:lnTo>
                      <a:lnTo>
                        <a:pt x="30" y="160"/>
                      </a:lnTo>
                      <a:lnTo>
                        <a:pt x="23" y="139"/>
                      </a:lnTo>
                      <a:lnTo>
                        <a:pt x="22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18880" y="312588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6" h="214">
                      <a:moveTo>
                        <a:pt x="31" y="30"/>
                      </a:moveTo>
                      <a:lnTo>
                        <a:pt x="17" y="46"/>
                      </a:lnTo>
                      <a:lnTo>
                        <a:pt x="8" y="65"/>
                      </a:lnTo>
                      <a:lnTo>
                        <a:pt x="1" y="84"/>
                      </a:lnTo>
                      <a:lnTo>
                        <a:pt x="0" y="107"/>
                      </a:lnTo>
                      <a:lnTo>
                        <a:pt x="1" y="127"/>
                      </a:lnTo>
                      <a:lnTo>
                        <a:pt x="8" y="148"/>
                      </a:lnTo>
                      <a:lnTo>
                        <a:pt x="17" y="166"/>
                      </a:lnTo>
                      <a:lnTo>
                        <a:pt x="31" y="183"/>
                      </a:lnTo>
                      <a:lnTo>
                        <a:pt x="47" y="196"/>
                      </a:lnTo>
                      <a:lnTo>
                        <a:pt x="67" y="207"/>
                      </a:lnTo>
                      <a:lnTo>
                        <a:pt x="86" y="212"/>
                      </a:lnTo>
                      <a:lnTo>
                        <a:pt x="108" y="214"/>
                      </a:lnTo>
                      <a:lnTo>
                        <a:pt x="129" y="212"/>
                      </a:lnTo>
                      <a:lnTo>
                        <a:pt x="149" y="207"/>
                      </a:lnTo>
                      <a:lnTo>
                        <a:pt x="167" y="196"/>
                      </a:lnTo>
                      <a:lnTo>
                        <a:pt x="175" y="190"/>
                      </a:lnTo>
                      <a:lnTo>
                        <a:pt x="184" y="183"/>
                      </a:lnTo>
                      <a:lnTo>
                        <a:pt x="191" y="174"/>
                      </a:lnTo>
                      <a:lnTo>
                        <a:pt x="198" y="166"/>
                      </a:lnTo>
                      <a:lnTo>
                        <a:pt x="208" y="148"/>
                      </a:lnTo>
                      <a:lnTo>
                        <a:pt x="214" y="127"/>
                      </a:lnTo>
                      <a:lnTo>
                        <a:pt x="216" y="107"/>
                      </a:lnTo>
                      <a:lnTo>
                        <a:pt x="216" y="99"/>
                      </a:lnTo>
                      <a:lnTo>
                        <a:pt x="198" y="80"/>
                      </a:lnTo>
                      <a:lnTo>
                        <a:pt x="191" y="73"/>
                      </a:lnTo>
                      <a:lnTo>
                        <a:pt x="189" y="71"/>
                      </a:lnTo>
                      <a:lnTo>
                        <a:pt x="188" y="69"/>
                      </a:lnTo>
                      <a:lnTo>
                        <a:pt x="186" y="67"/>
                      </a:lnTo>
                      <a:lnTo>
                        <a:pt x="192" y="85"/>
                      </a:lnTo>
                      <a:lnTo>
                        <a:pt x="195" y="107"/>
                      </a:lnTo>
                      <a:lnTo>
                        <a:pt x="192" y="123"/>
                      </a:lnTo>
                      <a:lnTo>
                        <a:pt x="188" y="139"/>
                      </a:lnTo>
                      <a:lnTo>
                        <a:pt x="183" y="145"/>
                      </a:lnTo>
                      <a:lnTo>
                        <a:pt x="181" y="149"/>
                      </a:lnTo>
                      <a:lnTo>
                        <a:pt x="180" y="153"/>
                      </a:lnTo>
                      <a:lnTo>
                        <a:pt x="170" y="167"/>
                      </a:lnTo>
                      <a:lnTo>
                        <a:pt x="162" y="171"/>
                      </a:lnTo>
                      <a:lnTo>
                        <a:pt x="155" y="177"/>
                      </a:lnTo>
                      <a:lnTo>
                        <a:pt x="147" y="182"/>
                      </a:lnTo>
                      <a:lnTo>
                        <a:pt x="140" y="186"/>
                      </a:lnTo>
                      <a:lnTo>
                        <a:pt x="124" y="191"/>
                      </a:lnTo>
                      <a:lnTo>
                        <a:pt x="108" y="193"/>
                      </a:lnTo>
                      <a:lnTo>
                        <a:pt x="90" y="191"/>
                      </a:lnTo>
                      <a:lnTo>
                        <a:pt x="74" y="186"/>
                      </a:lnTo>
                      <a:lnTo>
                        <a:pt x="60" y="177"/>
                      </a:lnTo>
                      <a:lnTo>
                        <a:pt x="47" y="167"/>
                      </a:lnTo>
                      <a:lnTo>
                        <a:pt x="36" y="153"/>
                      </a:lnTo>
                      <a:lnTo>
                        <a:pt x="28" y="139"/>
                      </a:lnTo>
                      <a:lnTo>
                        <a:pt x="23" y="123"/>
                      </a:lnTo>
                      <a:lnTo>
                        <a:pt x="22" y="107"/>
                      </a:lnTo>
                      <a:lnTo>
                        <a:pt x="23" y="89"/>
                      </a:lnTo>
                      <a:lnTo>
                        <a:pt x="28" y="73"/>
                      </a:lnTo>
                      <a:lnTo>
                        <a:pt x="36" y="58"/>
                      </a:lnTo>
                      <a:lnTo>
                        <a:pt x="47" y="46"/>
                      </a:lnTo>
                      <a:lnTo>
                        <a:pt x="60" y="33"/>
                      </a:lnTo>
                      <a:lnTo>
                        <a:pt x="74" y="25"/>
                      </a:lnTo>
                      <a:lnTo>
                        <a:pt x="90" y="21"/>
                      </a:lnTo>
                      <a:lnTo>
                        <a:pt x="108" y="19"/>
                      </a:lnTo>
                      <a:lnTo>
                        <a:pt x="116" y="19"/>
                      </a:lnTo>
                      <a:lnTo>
                        <a:pt x="125" y="22"/>
                      </a:lnTo>
                      <a:lnTo>
                        <a:pt x="105" y="9"/>
                      </a:lnTo>
                      <a:lnTo>
                        <a:pt x="86" y="0"/>
                      </a:lnTo>
                      <a:lnTo>
                        <a:pt x="70" y="4"/>
                      </a:lnTo>
                      <a:lnTo>
                        <a:pt x="56" y="9"/>
                      </a:lnTo>
                      <a:lnTo>
                        <a:pt x="43" y="17"/>
                      </a:lnTo>
                      <a:lnTo>
                        <a:pt x="31" y="30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644080" y="2716200"/>
                <a:ext cx="1271880" cy="1359720"/>
                <a:chOff x="5644080" y="2716200"/>
                <a:chExt cx="1271880" cy="135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524640" y="3130560"/>
                  <a:ext cx="48960" cy="49680"/>
                </a:xfrm>
                <a:custGeom>
                  <a:avLst/>
                  <a:gdLst/>
                  <a:ahLst/>
                  <a:rect l="l" t="t" r="r" b="b"/>
                  <a:pathLst>
                    <a:path w="173" h="174">
                      <a:moveTo>
                        <a:pt x="103" y="3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2"/>
                      </a:lnTo>
                      <a:lnTo>
                        <a:pt x="52" y="6"/>
                      </a:lnTo>
                      <a:lnTo>
                        <a:pt x="38" y="14"/>
                      </a:lnTo>
                      <a:lnTo>
                        <a:pt x="25" y="27"/>
                      </a:lnTo>
                      <a:lnTo>
                        <a:pt x="14" y="39"/>
                      </a:lnTo>
                      <a:lnTo>
                        <a:pt x="6" y="54"/>
                      </a:lnTo>
                      <a:lnTo>
                        <a:pt x="1" y="70"/>
                      </a:lnTo>
                      <a:lnTo>
                        <a:pt x="0" y="88"/>
                      </a:lnTo>
                      <a:lnTo>
                        <a:pt x="1" y="104"/>
                      </a:lnTo>
                      <a:lnTo>
                        <a:pt x="6" y="120"/>
                      </a:lnTo>
                      <a:lnTo>
                        <a:pt x="14" y="134"/>
                      </a:lnTo>
                      <a:lnTo>
                        <a:pt x="25" y="148"/>
                      </a:lnTo>
                      <a:lnTo>
                        <a:pt x="38" y="158"/>
                      </a:lnTo>
                      <a:lnTo>
                        <a:pt x="52" y="167"/>
                      </a:lnTo>
                      <a:lnTo>
                        <a:pt x="68" y="172"/>
                      </a:lnTo>
                      <a:lnTo>
                        <a:pt x="86" y="174"/>
                      </a:lnTo>
                      <a:lnTo>
                        <a:pt x="102" y="172"/>
                      </a:lnTo>
                      <a:lnTo>
                        <a:pt x="118" y="167"/>
                      </a:lnTo>
                      <a:lnTo>
                        <a:pt x="125" y="163"/>
                      </a:lnTo>
                      <a:lnTo>
                        <a:pt x="133" y="158"/>
                      </a:lnTo>
                      <a:lnTo>
                        <a:pt x="140" y="152"/>
                      </a:lnTo>
                      <a:lnTo>
                        <a:pt x="148" y="148"/>
                      </a:lnTo>
                      <a:lnTo>
                        <a:pt x="158" y="134"/>
                      </a:lnTo>
                      <a:lnTo>
                        <a:pt x="159" y="130"/>
                      </a:lnTo>
                      <a:lnTo>
                        <a:pt x="161" y="126"/>
                      </a:lnTo>
                      <a:lnTo>
                        <a:pt x="166" y="120"/>
                      </a:lnTo>
                      <a:lnTo>
                        <a:pt x="170" y="104"/>
                      </a:lnTo>
                      <a:lnTo>
                        <a:pt x="173" y="88"/>
                      </a:lnTo>
                      <a:lnTo>
                        <a:pt x="170" y="66"/>
                      </a:lnTo>
                      <a:lnTo>
                        <a:pt x="164" y="48"/>
                      </a:lnTo>
                      <a:lnTo>
                        <a:pt x="134" y="23"/>
                      </a:lnTo>
                      <a:lnTo>
                        <a:pt x="118" y="12"/>
                      </a:lnTo>
                      <a:lnTo>
                        <a:pt x="103" y="3"/>
                      </a:lnTo>
                      <a:close/>
                      <a:moveTo>
                        <a:pt x="22" y="88"/>
                      </a:moveTo>
                      <a:lnTo>
                        <a:pt x="23" y="74"/>
                      </a:lnTo>
                      <a:lnTo>
                        <a:pt x="26" y="62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2"/>
                      </a:lnTo>
                      <a:lnTo>
                        <a:pt x="60" y="27"/>
                      </a:lnTo>
                      <a:lnTo>
                        <a:pt x="73" y="23"/>
                      </a:lnTo>
                      <a:lnTo>
                        <a:pt x="86" y="22"/>
                      </a:lnTo>
                      <a:lnTo>
                        <a:pt x="98" y="23"/>
                      </a:lnTo>
                      <a:lnTo>
                        <a:pt x="110" y="27"/>
                      </a:lnTo>
                      <a:lnTo>
                        <a:pt x="120" y="32"/>
                      </a:lnTo>
                      <a:lnTo>
                        <a:pt x="132" y="41"/>
                      </a:lnTo>
                      <a:lnTo>
                        <a:pt x="140" y="50"/>
                      </a:lnTo>
                      <a:lnTo>
                        <a:pt x="145" y="62"/>
                      </a:lnTo>
                      <a:lnTo>
                        <a:pt x="149" y="74"/>
                      </a:lnTo>
                      <a:lnTo>
                        <a:pt x="151" y="88"/>
                      </a:lnTo>
                      <a:lnTo>
                        <a:pt x="149" y="99"/>
                      </a:lnTo>
                      <a:lnTo>
                        <a:pt x="147" y="105"/>
                      </a:lnTo>
                      <a:lnTo>
                        <a:pt x="145" y="112"/>
                      </a:lnTo>
                      <a:lnTo>
                        <a:pt x="142" y="116"/>
                      </a:lnTo>
                      <a:lnTo>
                        <a:pt x="140" y="122"/>
                      </a:lnTo>
                      <a:lnTo>
                        <a:pt x="132" y="133"/>
                      </a:lnTo>
                      <a:lnTo>
                        <a:pt x="120" y="141"/>
                      </a:lnTo>
                      <a:lnTo>
                        <a:pt x="115" y="143"/>
                      </a:lnTo>
                      <a:lnTo>
                        <a:pt x="110" y="147"/>
                      </a:lnTo>
                      <a:lnTo>
                        <a:pt x="103" y="148"/>
                      </a:lnTo>
                      <a:lnTo>
                        <a:pt x="98" y="150"/>
                      </a:lnTo>
                      <a:lnTo>
                        <a:pt x="86" y="152"/>
                      </a:lnTo>
                      <a:lnTo>
                        <a:pt x="73" y="150"/>
                      </a:lnTo>
                      <a:lnTo>
                        <a:pt x="60" y="147"/>
                      </a:lnTo>
                      <a:lnTo>
                        <a:pt x="49" y="141"/>
                      </a:lnTo>
                      <a:lnTo>
                        <a:pt x="40" y="133"/>
                      </a:lnTo>
                      <a:lnTo>
                        <a:pt x="32" y="122"/>
                      </a:lnTo>
                      <a:lnTo>
                        <a:pt x="26" y="112"/>
                      </a:lnTo>
                      <a:lnTo>
                        <a:pt x="23" y="99"/>
                      </a:lnTo>
                      <a:lnTo>
                        <a:pt x="22" y="88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31120" y="3137040"/>
                  <a:ext cx="37080" cy="36720"/>
                </a:xfrm>
                <a:custGeom>
                  <a:avLst/>
                  <a:gdLst/>
                  <a:ahLst/>
                  <a:rect l="l" t="t" r="r" b="b"/>
                  <a:pathLst>
                    <a:path w="129" h="130">
                      <a:moveTo>
                        <a:pt x="18" y="19"/>
                      </a:moveTo>
                      <a:lnTo>
                        <a:pt x="10" y="28"/>
                      </a:lnTo>
                      <a:lnTo>
                        <a:pt x="4" y="40"/>
                      </a:lnTo>
                      <a:lnTo>
                        <a:pt x="1" y="52"/>
                      </a:lnTo>
                      <a:lnTo>
                        <a:pt x="0" y="66"/>
                      </a:lnTo>
                      <a:lnTo>
                        <a:pt x="1" y="77"/>
                      </a:lnTo>
                      <a:lnTo>
                        <a:pt x="4" y="90"/>
                      </a:lnTo>
                      <a:lnTo>
                        <a:pt x="10" y="100"/>
                      </a:lnTo>
                      <a:lnTo>
                        <a:pt x="18" y="111"/>
                      </a:lnTo>
                      <a:lnTo>
                        <a:pt x="27" y="119"/>
                      </a:lnTo>
                      <a:lnTo>
                        <a:pt x="38" y="125"/>
                      </a:lnTo>
                      <a:lnTo>
                        <a:pt x="51" y="128"/>
                      </a:lnTo>
                      <a:lnTo>
                        <a:pt x="64" y="130"/>
                      </a:lnTo>
                      <a:lnTo>
                        <a:pt x="76" y="128"/>
                      </a:lnTo>
                      <a:lnTo>
                        <a:pt x="81" y="126"/>
                      </a:lnTo>
                      <a:lnTo>
                        <a:pt x="88" y="125"/>
                      </a:lnTo>
                      <a:lnTo>
                        <a:pt x="93" y="121"/>
                      </a:lnTo>
                      <a:lnTo>
                        <a:pt x="98" y="119"/>
                      </a:lnTo>
                      <a:lnTo>
                        <a:pt x="110" y="111"/>
                      </a:lnTo>
                      <a:lnTo>
                        <a:pt x="118" y="100"/>
                      </a:lnTo>
                      <a:lnTo>
                        <a:pt x="120" y="94"/>
                      </a:lnTo>
                      <a:lnTo>
                        <a:pt x="123" y="90"/>
                      </a:lnTo>
                      <a:lnTo>
                        <a:pt x="125" y="83"/>
                      </a:lnTo>
                      <a:lnTo>
                        <a:pt x="127" y="77"/>
                      </a:lnTo>
                      <a:lnTo>
                        <a:pt x="129" y="66"/>
                      </a:lnTo>
                      <a:lnTo>
                        <a:pt x="127" y="52"/>
                      </a:lnTo>
                      <a:lnTo>
                        <a:pt x="123" y="40"/>
                      </a:lnTo>
                      <a:lnTo>
                        <a:pt x="118" y="28"/>
                      </a:lnTo>
                      <a:lnTo>
                        <a:pt x="110" y="19"/>
                      </a:lnTo>
                      <a:lnTo>
                        <a:pt x="98" y="10"/>
                      </a:lnTo>
                      <a:lnTo>
                        <a:pt x="88" y="5"/>
                      </a:lnTo>
                      <a:lnTo>
                        <a:pt x="76" y="1"/>
                      </a:lnTo>
                      <a:lnTo>
                        <a:pt x="64" y="0"/>
                      </a:lnTo>
                      <a:lnTo>
                        <a:pt x="51" y="1"/>
                      </a:lnTo>
                      <a:lnTo>
                        <a:pt x="38" y="5"/>
                      </a:lnTo>
                      <a:lnTo>
                        <a:pt x="27" y="10"/>
                      </a:lnTo>
                      <a:lnTo>
                        <a:pt x="18" y="19"/>
                      </a:lnTo>
                      <a:close/>
                      <a:moveTo>
                        <a:pt x="21" y="66"/>
                      </a:moveTo>
                      <a:lnTo>
                        <a:pt x="24" y="49"/>
                      </a:lnTo>
                      <a:lnTo>
                        <a:pt x="34" y="34"/>
                      </a:lnTo>
                      <a:lnTo>
                        <a:pt x="40" y="27"/>
                      </a:lnTo>
                      <a:lnTo>
                        <a:pt x="47" y="24"/>
                      </a:lnTo>
                      <a:lnTo>
                        <a:pt x="64" y="22"/>
                      </a:lnTo>
                      <a:lnTo>
                        <a:pt x="72" y="22"/>
                      </a:lnTo>
                      <a:lnTo>
                        <a:pt x="80" y="24"/>
                      </a:lnTo>
                      <a:lnTo>
                        <a:pt x="87" y="27"/>
                      </a:lnTo>
                      <a:lnTo>
                        <a:pt x="95" y="34"/>
                      </a:lnTo>
                      <a:lnTo>
                        <a:pt x="104" y="49"/>
                      </a:lnTo>
                      <a:lnTo>
                        <a:pt x="106" y="57"/>
                      </a:lnTo>
                      <a:lnTo>
                        <a:pt x="108" y="66"/>
                      </a:lnTo>
                      <a:lnTo>
                        <a:pt x="106" y="73"/>
                      </a:lnTo>
                      <a:lnTo>
                        <a:pt x="104" y="82"/>
                      </a:lnTo>
                      <a:lnTo>
                        <a:pt x="100" y="88"/>
                      </a:lnTo>
                      <a:lnTo>
                        <a:pt x="95" y="96"/>
                      </a:lnTo>
                      <a:lnTo>
                        <a:pt x="87" y="101"/>
                      </a:lnTo>
                      <a:lnTo>
                        <a:pt x="80" y="105"/>
                      </a:lnTo>
                      <a:lnTo>
                        <a:pt x="72" y="108"/>
                      </a:lnTo>
                      <a:lnTo>
                        <a:pt x="68" y="108"/>
                      </a:lnTo>
                      <a:lnTo>
                        <a:pt x="66" y="108"/>
                      </a:lnTo>
                      <a:lnTo>
                        <a:pt x="64" y="108"/>
                      </a:lnTo>
                      <a:lnTo>
                        <a:pt x="64" y="109"/>
                      </a:lnTo>
                      <a:lnTo>
                        <a:pt x="55" y="108"/>
                      </a:lnTo>
                      <a:lnTo>
                        <a:pt x="47" y="105"/>
                      </a:lnTo>
                      <a:lnTo>
                        <a:pt x="40" y="101"/>
                      </a:lnTo>
                      <a:lnTo>
                        <a:pt x="34" y="96"/>
                      </a:lnTo>
                      <a:lnTo>
                        <a:pt x="27" y="88"/>
                      </a:lnTo>
                      <a:lnTo>
                        <a:pt x="24" y="82"/>
                      </a:lnTo>
                      <a:lnTo>
                        <a:pt x="21" y="66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37240" y="3143160"/>
                  <a:ext cx="24480" cy="24480"/>
                </a:xfrm>
                <a:custGeom>
                  <a:avLst/>
                  <a:gdLst/>
                  <a:ahLst/>
                  <a:rect l="l" t="t" r="r" b="b"/>
                  <a:pathLst>
                    <a:path w="87" h="87">
                      <a:moveTo>
                        <a:pt x="13" y="12"/>
                      </a:moveTo>
                      <a:lnTo>
                        <a:pt x="3" y="27"/>
                      </a:lnTo>
                      <a:lnTo>
                        <a:pt x="0" y="44"/>
                      </a:lnTo>
                      <a:lnTo>
                        <a:pt x="3" y="60"/>
                      </a:lnTo>
                      <a:lnTo>
                        <a:pt x="6" y="66"/>
                      </a:lnTo>
                      <a:lnTo>
                        <a:pt x="13" y="74"/>
                      </a:lnTo>
                      <a:lnTo>
                        <a:pt x="19" y="79"/>
                      </a:lnTo>
                      <a:lnTo>
                        <a:pt x="26" y="83"/>
                      </a:lnTo>
                      <a:lnTo>
                        <a:pt x="34" y="86"/>
                      </a:lnTo>
                      <a:lnTo>
                        <a:pt x="43" y="87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6"/>
                      </a:lnTo>
                      <a:lnTo>
                        <a:pt x="51" y="86"/>
                      </a:lnTo>
                      <a:lnTo>
                        <a:pt x="59" y="83"/>
                      </a:lnTo>
                      <a:lnTo>
                        <a:pt x="66" y="79"/>
                      </a:lnTo>
                      <a:lnTo>
                        <a:pt x="74" y="74"/>
                      </a:lnTo>
                      <a:lnTo>
                        <a:pt x="79" y="66"/>
                      </a:lnTo>
                      <a:lnTo>
                        <a:pt x="83" y="60"/>
                      </a:lnTo>
                      <a:lnTo>
                        <a:pt x="85" y="51"/>
                      </a:lnTo>
                      <a:lnTo>
                        <a:pt x="87" y="44"/>
                      </a:lnTo>
                      <a:lnTo>
                        <a:pt x="85" y="35"/>
                      </a:lnTo>
                      <a:lnTo>
                        <a:pt x="83" y="27"/>
                      </a:lnTo>
                      <a:lnTo>
                        <a:pt x="74" y="12"/>
                      </a:lnTo>
                      <a:lnTo>
                        <a:pt x="66" y="5"/>
                      </a:lnTo>
                      <a:lnTo>
                        <a:pt x="59" y="2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2"/>
                      </a:lnTo>
                      <a:lnTo>
                        <a:pt x="19" y="5"/>
                      </a:lnTo>
                      <a:lnTo>
                        <a:pt x="13" y="12"/>
                      </a:lnTo>
                      <a:close/>
                      <a:moveTo>
                        <a:pt x="22" y="44"/>
                      </a:moveTo>
                      <a:lnTo>
                        <a:pt x="23" y="35"/>
                      </a:lnTo>
                      <a:lnTo>
                        <a:pt x="28" y="28"/>
                      </a:lnTo>
                      <a:lnTo>
                        <a:pt x="34" y="23"/>
                      </a:lnTo>
                      <a:lnTo>
                        <a:pt x="43" y="22"/>
                      </a:lnTo>
                      <a:lnTo>
                        <a:pt x="51" y="23"/>
                      </a:lnTo>
                      <a:lnTo>
                        <a:pt x="58" y="28"/>
                      </a:lnTo>
                      <a:lnTo>
                        <a:pt x="63" y="35"/>
                      </a:lnTo>
                      <a:lnTo>
                        <a:pt x="65" y="44"/>
                      </a:lnTo>
                      <a:lnTo>
                        <a:pt x="63" y="51"/>
                      </a:lnTo>
                      <a:lnTo>
                        <a:pt x="60" y="54"/>
                      </a:lnTo>
                      <a:lnTo>
                        <a:pt x="58" y="59"/>
                      </a:lnTo>
                      <a:lnTo>
                        <a:pt x="51" y="62"/>
                      </a:lnTo>
                      <a:lnTo>
                        <a:pt x="47" y="63"/>
                      </a:lnTo>
                      <a:lnTo>
                        <a:pt x="45" y="63"/>
                      </a:lnTo>
                      <a:lnTo>
                        <a:pt x="43" y="63"/>
                      </a:lnTo>
                      <a:lnTo>
                        <a:pt x="43" y="64"/>
                      </a:lnTo>
                      <a:lnTo>
                        <a:pt x="34" y="62"/>
                      </a:lnTo>
                      <a:lnTo>
                        <a:pt x="28" y="59"/>
                      </a:lnTo>
                      <a:lnTo>
                        <a:pt x="24" y="54"/>
                      </a:lnTo>
                      <a:lnTo>
                        <a:pt x="23" y="51"/>
                      </a:lnTo>
                      <a:lnTo>
                        <a:pt x="22" y="44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543000" y="314964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6" y="6"/>
                      </a:moveTo>
                      <a:lnTo>
                        <a:pt x="1" y="13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6" y="37"/>
                      </a:lnTo>
                      <a:lnTo>
                        <a:pt x="12" y="40"/>
                      </a:lnTo>
                      <a:lnTo>
                        <a:pt x="21" y="42"/>
                      </a:lnTo>
                      <a:lnTo>
                        <a:pt x="21" y="41"/>
                      </a:lnTo>
                      <a:lnTo>
                        <a:pt x="23" y="41"/>
                      </a:lnTo>
                      <a:lnTo>
                        <a:pt x="25" y="41"/>
                      </a:lnTo>
                      <a:lnTo>
                        <a:pt x="29" y="40"/>
                      </a:lnTo>
                      <a:lnTo>
                        <a:pt x="36" y="37"/>
                      </a:lnTo>
                      <a:lnTo>
                        <a:pt x="38" y="32"/>
                      </a:lnTo>
                      <a:lnTo>
                        <a:pt x="41" y="29"/>
                      </a:lnTo>
                      <a:lnTo>
                        <a:pt x="43" y="22"/>
                      </a:lnTo>
                      <a:lnTo>
                        <a:pt x="41" y="13"/>
                      </a:lnTo>
                      <a:lnTo>
                        <a:pt x="36" y="6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07640" y="315468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0" y="4"/>
                      </a:moveTo>
                      <a:lnTo>
                        <a:pt x="20" y="0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2" y="73"/>
                      </a:lnTo>
                      <a:lnTo>
                        <a:pt x="11" y="118"/>
                      </a:lnTo>
                      <a:lnTo>
                        <a:pt x="23" y="161"/>
                      </a:lnTo>
                      <a:lnTo>
                        <a:pt x="40" y="203"/>
                      </a:lnTo>
                      <a:lnTo>
                        <a:pt x="59" y="243"/>
                      </a:lnTo>
                      <a:lnTo>
                        <a:pt x="84" y="282"/>
                      </a:lnTo>
                      <a:lnTo>
                        <a:pt x="96" y="300"/>
                      </a:lnTo>
                      <a:lnTo>
                        <a:pt x="111" y="319"/>
                      </a:lnTo>
                      <a:lnTo>
                        <a:pt x="145" y="355"/>
                      </a:lnTo>
                      <a:lnTo>
                        <a:pt x="181" y="389"/>
                      </a:lnTo>
                      <a:lnTo>
                        <a:pt x="221" y="419"/>
                      </a:lnTo>
                      <a:lnTo>
                        <a:pt x="261" y="444"/>
                      </a:lnTo>
                      <a:lnTo>
                        <a:pt x="305" y="464"/>
                      </a:lnTo>
                      <a:lnTo>
                        <a:pt x="349" y="480"/>
                      </a:lnTo>
                      <a:lnTo>
                        <a:pt x="397" y="491"/>
                      </a:lnTo>
                      <a:lnTo>
                        <a:pt x="445" y="498"/>
                      </a:lnTo>
                      <a:lnTo>
                        <a:pt x="496" y="500"/>
                      </a:lnTo>
                      <a:lnTo>
                        <a:pt x="526" y="499"/>
                      </a:lnTo>
                      <a:lnTo>
                        <a:pt x="557" y="497"/>
                      </a:lnTo>
                      <a:lnTo>
                        <a:pt x="586" y="492"/>
                      </a:lnTo>
                      <a:lnTo>
                        <a:pt x="616" y="487"/>
                      </a:lnTo>
                      <a:lnTo>
                        <a:pt x="636" y="460"/>
                      </a:lnTo>
                      <a:lnTo>
                        <a:pt x="602" y="468"/>
                      </a:lnTo>
                      <a:lnTo>
                        <a:pt x="568" y="473"/>
                      </a:lnTo>
                      <a:lnTo>
                        <a:pt x="532" y="477"/>
                      </a:lnTo>
                      <a:lnTo>
                        <a:pt x="513" y="478"/>
                      </a:lnTo>
                      <a:lnTo>
                        <a:pt x="504" y="478"/>
                      </a:lnTo>
                      <a:lnTo>
                        <a:pt x="500" y="478"/>
                      </a:lnTo>
                      <a:lnTo>
                        <a:pt x="498" y="478"/>
                      </a:lnTo>
                      <a:lnTo>
                        <a:pt x="496" y="478"/>
                      </a:lnTo>
                      <a:lnTo>
                        <a:pt x="496" y="479"/>
                      </a:lnTo>
                      <a:lnTo>
                        <a:pt x="447" y="477"/>
                      </a:lnTo>
                      <a:lnTo>
                        <a:pt x="400" y="470"/>
                      </a:lnTo>
                      <a:lnTo>
                        <a:pt x="355" y="458"/>
                      </a:lnTo>
                      <a:lnTo>
                        <a:pt x="313" y="444"/>
                      </a:lnTo>
                      <a:lnTo>
                        <a:pt x="271" y="423"/>
                      </a:lnTo>
                      <a:lnTo>
                        <a:pt x="232" y="399"/>
                      </a:lnTo>
                      <a:lnTo>
                        <a:pt x="195" y="371"/>
                      </a:lnTo>
                      <a:lnTo>
                        <a:pt x="160" y="339"/>
                      </a:lnTo>
                      <a:lnTo>
                        <a:pt x="126" y="303"/>
                      </a:lnTo>
                      <a:lnTo>
                        <a:pt x="97" y="266"/>
                      </a:lnTo>
                      <a:lnTo>
                        <a:pt x="84" y="245"/>
                      </a:lnTo>
                      <a:lnTo>
                        <a:pt x="72" y="226"/>
                      </a:lnTo>
                      <a:lnTo>
                        <a:pt x="54" y="185"/>
                      </a:lnTo>
                      <a:lnTo>
                        <a:pt x="38" y="142"/>
                      </a:lnTo>
                      <a:lnTo>
                        <a:pt x="28" y="98"/>
                      </a:lnTo>
                      <a:lnTo>
                        <a:pt x="24" y="74"/>
                      </a:lnTo>
                      <a:lnTo>
                        <a:pt x="21" y="5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413400" y="3147840"/>
                  <a:ext cx="181080" cy="143280"/>
                </a:xfrm>
                <a:custGeom>
                  <a:avLst/>
                  <a:gdLst/>
                  <a:ahLst/>
                  <a:rect l="l" t="t" r="r" b="b"/>
                  <a:pathLst>
                    <a:path w="634" h="502">
                      <a:moveTo>
                        <a:pt x="0" y="23"/>
                      </a:moveTo>
                      <a:lnTo>
                        <a:pt x="0" y="27"/>
                      </a:lnTo>
                      <a:lnTo>
                        <a:pt x="1" y="74"/>
                      </a:lnTo>
                      <a:lnTo>
                        <a:pt x="4" y="97"/>
                      </a:lnTo>
                      <a:lnTo>
                        <a:pt x="8" y="121"/>
                      </a:lnTo>
                      <a:lnTo>
                        <a:pt x="18" y="165"/>
                      </a:lnTo>
                      <a:lnTo>
                        <a:pt x="34" y="208"/>
                      </a:lnTo>
                      <a:lnTo>
                        <a:pt x="52" y="249"/>
                      </a:lnTo>
                      <a:lnTo>
                        <a:pt x="64" y="268"/>
                      </a:lnTo>
                      <a:lnTo>
                        <a:pt x="77" y="289"/>
                      </a:lnTo>
                      <a:lnTo>
                        <a:pt x="106" y="326"/>
                      </a:lnTo>
                      <a:lnTo>
                        <a:pt x="140" y="362"/>
                      </a:lnTo>
                      <a:lnTo>
                        <a:pt x="175" y="394"/>
                      </a:lnTo>
                      <a:lnTo>
                        <a:pt x="212" y="422"/>
                      </a:lnTo>
                      <a:lnTo>
                        <a:pt x="251" y="446"/>
                      </a:lnTo>
                      <a:lnTo>
                        <a:pt x="293" y="467"/>
                      </a:lnTo>
                      <a:lnTo>
                        <a:pt x="335" y="481"/>
                      </a:lnTo>
                      <a:lnTo>
                        <a:pt x="380" y="493"/>
                      </a:lnTo>
                      <a:lnTo>
                        <a:pt x="427" y="500"/>
                      </a:lnTo>
                      <a:lnTo>
                        <a:pt x="476" y="502"/>
                      </a:lnTo>
                      <a:lnTo>
                        <a:pt x="476" y="501"/>
                      </a:lnTo>
                      <a:lnTo>
                        <a:pt x="478" y="501"/>
                      </a:lnTo>
                      <a:lnTo>
                        <a:pt x="480" y="501"/>
                      </a:lnTo>
                      <a:lnTo>
                        <a:pt x="484" y="501"/>
                      </a:lnTo>
                      <a:lnTo>
                        <a:pt x="493" y="501"/>
                      </a:lnTo>
                      <a:lnTo>
                        <a:pt x="512" y="500"/>
                      </a:lnTo>
                      <a:lnTo>
                        <a:pt x="548" y="496"/>
                      </a:lnTo>
                      <a:lnTo>
                        <a:pt x="582" y="491"/>
                      </a:lnTo>
                      <a:lnTo>
                        <a:pt x="616" y="483"/>
                      </a:lnTo>
                      <a:lnTo>
                        <a:pt x="634" y="453"/>
                      </a:lnTo>
                      <a:lnTo>
                        <a:pt x="596" y="464"/>
                      </a:lnTo>
                      <a:lnTo>
                        <a:pt x="557" y="473"/>
                      </a:lnTo>
                      <a:lnTo>
                        <a:pt x="537" y="476"/>
                      </a:lnTo>
                      <a:lnTo>
                        <a:pt x="517" y="478"/>
                      </a:lnTo>
                      <a:lnTo>
                        <a:pt x="476" y="480"/>
                      </a:lnTo>
                      <a:lnTo>
                        <a:pt x="429" y="478"/>
                      </a:lnTo>
                      <a:lnTo>
                        <a:pt x="385" y="471"/>
                      </a:lnTo>
                      <a:lnTo>
                        <a:pt x="342" y="460"/>
                      </a:lnTo>
                      <a:lnTo>
                        <a:pt x="302" y="446"/>
                      </a:lnTo>
                      <a:lnTo>
                        <a:pt x="262" y="427"/>
                      </a:lnTo>
                      <a:lnTo>
                        <a:pt x="225" y="404"/>
                      </a:lnTo>
                      <a:lnTo>
                        <a:pt x="188" y="377"/>
                      </a:lnTo>
                      <a:lnTo>
                        <a:pt x="156" y="347"/>
                      </a:lnTo>
                      <a:lnTo>
                        <a:pt x="139" y="328"/>
                      </a:lnTo>
                      <a:lnTo>
                        <a:pt x="124" y="311"/>
                      </a:lnTo>
                      <a:lnTo>
                        <a:pt x="97" y="275"/>
                      </a:lnTo>
                      <a:lnTo>
                        <a:pt x="84" y="256"/>
                      </a:lnTo>
                      <a:lnTo>
                        <a:pt x="74" y="238"/>
                      </a:lnTo>
                      <a:lnTo>
                        <a:pt x="56" y="199"/>
                      </a:lnTo>
                      <a:lnTo>
                        <a:pt x="40" y="158"/>
                      </a:lnTo>
                      <a:lnTo>
                        <a:pt x="34" y="137"/>
                      </a:lnTo>
                      <a:lnTo>
                        <a:pt x="31" y="116"/>
                      </a:lnTo>
                      <a:lnTo>
                        <a:pt x="26" y="94"/>
                      </a:lnTo>
                      <a:lnTo>
                        <a:pt x="24" y="72"/>
                      </a:lnTo>
                      <a:lnTo>
                        <a:pt x="23" y="27"/>
                      </a:lnTo>
                      <a:lnTo>
                        <a:pt x="23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438240" y="3127320"/>
                  <a:ext cx="16704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8">
                      <a:moveTo>
                        <a:pt x="34" y="0"/>
                      </a:moveTo>
                      <a:lnTo>
                        <a:pt x="9" y="15"/>
                      </a:lnTo>
                      <a:lnTo>
                        <a:pt x="4" y="34"/>
                      </a:lnTo>
                      <a:lnTo>
                        <a:pt x="2" y="56"/>
                      </a:lnTo>
                      <a:lnTo>
                        <a:pt x="0" y="100"/>
                      </a:lnTo>
                      <a:lnTo>
                        <a:pt x="1" y="138"/>
                      </a:lnTo>
                      <a:lnTo>
                        <a:pt x="6" y="177"/>
                      </a:lnTo>
                      <a:lnTo>
                        <a:pt x="14" y="213"/>
                      </a:lnTo>
                      <a:lnTo>
                        <a:pt x="20" y="230"/>
                      </a:lnTo>
                      <a:lnTo>
                        <a:pt x="28" y="248"/>
                      </a:lnTo>
                      <a:lnTo>
                        <a:pt x="43" y="281"/>
                      </a:lnTo>
                      <a:lnTo>
                        <a:pt x="52" y="297"/>
                      </a:lnTo>
                      <a:lnTo>
                        <a:pt x="63" y="314"/>
                      </a:lnTo>
                      <a:lnTo>
                        <a:pt x="73" y="329"/>
                      </a:lnTo>
                      <a:lnTo>
                        <a:pt x="86" y="345"/>
                      </a:lnTo>
                      <a:lnTo>
                        <a:pt x="113" y="374"/>
                      </a:lnTo>
                      <a:lnTo>
                        <a:pt x="141" y="400"/>
                      </a:lnTo>
                      <a:lnTo>
                        <a:pt x="172" y="423"/>
                      </a:lnTo>
                      <a:lnTo>
                        <a:pt x="204" y="442"/>
                      </a:lnTo>
                      <a:lnTo>
                        <a:pt x="239" y="459"/>
                      </a:lnTo>
                      <a:lnTo>
                        <a:pt x="273" y="471"/>
                      </a:lnTo>
                      <a:lnTo>
                        <a:pt x="310" y="480"/>
                      </a:lnTo>
                      <a:lnTo>
                        <a:pt x="348" y="485"/>
                      </a:lnTo>
                      <a:lnTo>
                        <a:pt x="388" y="488"/>
                      </a:lnTo>
                      <a:lnTo>
                        <a:pt x="413" y="486"/>
                      </a:lnTo>
                      <a:lnTo>
                        <a:pt x="439" y="484"/>
                      </a:lnTo>
                      <a:lnTo>
                        <a:pt x="463" y="480"/>
                      </a:lnTo>
                      <a:lnTo>
                        <a:pt x="488" y="475"/>
                      </a:lnTo>
                      <a:lnTo>
                        <a:pt x="511" y="467"/>
                      </a:lnTo>
                      <a:lnTo>
                        <a:pt x="522" y="463"/>
                      </a:lnTo>
                      <a:lnTo>
                        <a:pt x="528" y="460"/>
                      </a:lnTo>
                      <a:lnTo>
                        <a:pt x="535" y="459"/>
                      </a:lnTo>
                      <a:lnTo>
                        <a:pt x="539" y="456"/>
                      </a:lnTo>
                      <a:lnTo>
                        <a:pt x="545" y="454"/>
                      </a:lnTo>
                      <a:lnTo>
                        <a:pt x="556" y="449"/>
                      </a:lnTo>
                      <a:lnTo>
                        <a:pt x="579" y="439"/>
                      </a:lnTo>
                      <a:lnTo>
                        <a:pt x="581" y="424"/>
                      </a:lnTo>
                      <a:lnTo>
                        <a:pt x="585" y="410"/>
                      </a:lnTo>
                      <a:lnTo>
                        <a:pt x="562" y="423"/>
                      </a:lnTo>
                      <a:lnTo>
                        <a:pt x="539" y="434"/>
                      </a:lnTo>
                      <a:lnTo>
                        <a:pt x="515" y="443"/>
                      </a:lnTo>
                      <a:lnTo>
                        <a:pt x="509" y="444"/>
                      </a:lnTo>
                      <a:lnTo>
                        <a:pt x="503" y="447"/>
                      </a:lnTo>
                      <a:lnTo>
                        <a:pt x="492" y="451"/>
                      </a:lnTo>
                      <a:lnTo>
                        <a:pt x="478" y="454"/>
                      </a:lnTo>
                      <a:lnTo>
                        <a:pt x="471" y="455"/>
                      </a:lnTo>
                      <a:lnTo>
                        <a:pt x="466" y="457"/>
                      </a:lnTo>
                      <a:lnTo>
                        <a:pt x="441" y="461"/>
                      </a:lnTo>
                      <a:lnTo>
                        <a:pt x="427" y="463"/>
                      </a:lnTo>
                      <a:lnTo>
                        <a:pt x="415" y="465"/>
                      </a:lnTo>
                      <a:lnTo>
                        <a:pt x="401" y="465"/>
                      </a:lnTo>
                      <a:lnTo>
                        <a:pt x="394" y="465"/>
                      </a:lnTo>
                      <a:lnTo>
                        <a:pt x="391" y="465"/>
                      </a:lnTo>
                      <a:lnTo>
                        <a:pt x="388" y="466"/>
                      </a:lnTo>
                      <a:lnTo>
                        <a:pt x="350" y="464"/>
                      </a:lnTo>
                      <a:lnTo>
                        <a:pt x="315" y="459"/>
                      </a:lnTo>
                      <a:lnTo>
                        <a:pt x="280" y="450"/>
                      </a:lnTo>
                      <a:lnTo>
                        <a:pt x="247" y="439"/>
                      </a:lnTo>
                      <a:lnTo>
                        <a:pt x="214" y="423"/>
                      </a:lnTo>
                      <a:lnTo>
                        <a:pt x="184" y="405"/>
                      </a:lnTo>
                      <a:lnTo>
                        <a:pt x="155" y="383"/>
                      </a:lnTo>
                      <a:lnTo>
                        <a:pt x="129" y="359"/>
                      </a:lnTo>
                      <a:lnTo>
                        <a:pt x="103" y="331"/>
                      </a:lnTo>
                      <a:lnTo>
                        <a:pt x="81" y="302"/>
                      </a:lnTo>
                      <a:lnTo>
                        <a:pt x="62" y="271"/>
                      </a:lnTo>
                      <a:lnTo>
                        <a:pt x="47" y="240"/>
                      </a:lnTo>
                      <a:lnTo>
                        <a:pt x="35" y="206"/>
                      </a:lnTo>
                      <a:lnTo>
                        <a:pt x="27" y="172"/>
                      </a:lnTo>
                      <a:lnTo>
                        <a:pt x="22" y="136"/>
                      </a:lnTo>
                      <a:lnTo>
                        <a:pt x="21" y="100"/>
                      </a:lnTo>
                      <a:lnTo>
                        <a:pt x="21" y="73"/>
                      </a:lnTo>
                      <a:lnTo>
                        <a:pt x="23" y="48"/>
                      </a:lnTo>
                      <a:lnTo>
                        <a:pt x="27" y="23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419520" y="3142080"/>
                  <a:ext cx="178920" cy="143280"/>
                </a:xfrm>
                <a:custGeom>
                  <a:avLst/>
                  <a:gdLst/>
                  <a:ahLst/>
                  <a:rect l="l" t="t" r="r" b="b"/>
                  <a:pathLst>
                    <a:path w="625" h="502">
                      <a:moveTo>
                        <a:pt x="0" y="22"/>
                      </a:moveTo>
                      <a:lnTo>
                        <a:pt x="0" y="49"/>
                      </a:lnTo>
                      <a:lnTo>
                        <a:pt x="1" y="94"/>
                      </a:lnTo>
                      <a:lnTo>
                        <a:pt x="3" y="116"/>
                      </a:lnTo>
                      <a:lnTo>
                        <a:pt x="8" y="138"/>
                      </a:lnTo>
                      <a:lnTo>
                        <a:pt x="11" y="159"/>
                      </a:lnTo>
                      <a:lnTo>
                        <a:pt x="17" y="180"/>
                      </a:lnTo>
                      <a:lnTo>
                        <a:pt x="33" y="221"/>
                      </a:lnTo>
                      <a:lnTo>
                        <a:pt x="51" y="260"/>
                      </a:lnTo>
                      <a:lnTo>
                        <a:pt x="61" y="278"/>
                      </a:lnTo>
                      <a:lnTo>
                        <a:pt x="74" y="297"/>
                      </a:lnTo>
                      <a:lnTo>
                        <a:pt x="101" y="333"/>
                      </a:lnTo>
                      <a:lnTo>
                        <a:pt x="116" y="350"/>
                      </a:lnTo>
                      <a:lnTo>
                        <a:pt x="133" y="369"/>
                      </a:lnTo>
                      <a:lnTo>
                        <a:pt x="165" y="399"/>
                      </a:lnTo>
                      <a:lnTo>
                        <a:pt x="202" y="426"/>
                      </a:lnTo>
                      <a:lnTo>
                        <a:pt x="239" y="449"/>
                      </a:lnTo>
                      <a:lnTo>
                        <a:pt x="279" y="468"/>
                      </a:lnTo>
                      <a:lnTo>
                        <a:pt x="319" y="482"/>
                      </a:lnTo>
                      <a:lnTo>
                        <a:pt x="362" y="493"/>
                      </a:lnTo>
                      <a:lnTo>
                        <a:pt x="406" y="500"/>
                      </a:lnTo>
                      <a:lnTo>
                        <a:pt x="453" y="502"/>
                      </a:lnTo>
                      <a:lnTo>
                        <a:pt x="494" y="500"/>
                      </a:lnTo>
                      <a:lnTo>
                        <a:pt x="514" y="498"/>
                      </a:lnTo>
                      <a:lnTo>
                        <a:pt x="534" y="495"/>
                      </a:lnTo>
                      <a:lnTo>
                        <a:pt x="573" y="486"/>
                      </a:lnTo>
                      <a:lnTo>
                        <a:pt x="611" y="475"/>
                      </a:lnTo>
                      <a:lnTo>
                        <a:pt x="625" y="447"/>
                      </a:lnTo>
                      <a:lnTo>
                        <a:pt x="584" y="460"/>
                      </a:lnTo>
                      <a:lnTo>
                        <a:pt x="573" y="463"/>
                      </a:lnTo>
                      <a:lnTo>
                        <a:pt x="569" y="463"/>
                      </a:lnTo>
                      <a:lnTo>
                        <a:pt x="567" y="464"/>
                      </a:lnTo>
                      <a:lnTo>
                        <a:pt x="562" y="466"/>
                      </a:lnTo>
                      <a:lnTo>
                        <a:pt x="542" y="472"/>
                      </a:lnTo>
                      <a:lnTo>
                        <a:pt x="519" y="475"/>
                      </a:lnTo>
                      <a:lnTo>
                        <a:pt x="508" y="476"/>
                      </a:lnTo>
                      <a:lnTo>
                        <a:pt x="498" y="478"/>
                      </a:lnTo>
                      <a:lnTo>
                        <a:pt x="475" y="480"/>
                      </a:lnTo>
                      <a:lnTo>
                        <a:pt x="464" y="480"/>
                      </a:lnTo>
                      <a:lnTo>
                        <a:pt x="458" y="480"/>
                      </a:lnTo>
                      <a:lnTo>
                        <a:pt x="453" y="481"/>
                      </a:lnTo>
                      <a:lnTo>
                        <a:pt x="408" y="478"/>
                      </a:lnTo>
                      <a:lnTo>
                        <a:pt x="366" y="473"/>
                      </a:lnTo>
                      <a:lnTo>
                        <a:pt x="325" y="463"/>
                      </a:lnTo>
                      <a:lnTo>
                        <a:pt x="287" y="449"/>
                      </a:lnTo>
                      <a:lnTo>
                        <a:pt x="248" y="431"/>
                      </a:lnTo>
                      <a:lnTo>
                        <a:pt x="213" y="409"/>
                      </a:lnTo>
                      <a:lnTo>
                        <a:pt x="179" y="383"/>
                      </a:lnTo>
                      <a:lnTo>
                        <a:pt x="147" y="354"/>
                      </a:lnTo>
                      <a:lnTo>
                        <a:pt x="117" y="321"/>
                      </a:lnTo>
                      <a:lnTo>
                        <a:pt x="92" y="287"/>
                      </a:lnTo>
                      <a:lnTo>
                        <a:pt x="69" y="251"/>
                      </a:lnTo>
                      <a:lnTo>
                        <a:pt x="52" y="213"/>
                      </a:lnTo>
                      <a:lnTo>
                        <a:pt x="37" y="174"/>
                      </a:lnTo>
                      <a:lnTo>
                        <a:pt x="32" y="153"/>
                      </a:lnTo>
                      <a:lnTo>
                        <a:pt x="28" y="134"/>
                      </a:lnTo>
                      <a:lnTo>
                        <a:pt x="23" y="92"/>
                      </a:lnTo>
                      <a:lnTo>
                        <a:pt x="21" y="49"/>
                      </a:lnTo>
                      <a:lnTo>
                        <a:pt x="21" y="23"/>
                      </a:lnTo>
                      <a:lnTo>
                        <a:pt x="2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25640" y="3136320"/>
                  <a:ext cx="176040" cy="142560"/>
                </a:xfrm>
                <a:custGeom>
                  <a:avLst/>
                  <a:gdLst/>
                  <a:ahLst/>
                  <a:rect l="l" t="t" r="r" b="b"/>
                  <a:pathLst>
                    <a:path w="615" h="500">
                      <a:moveTo>
                        <a:pt x="22" y="68"/>
                      </a:moveTo>
                      <a:lnTo>
                        <a:pt x="23" y="33"/>
                      </a:lnTo>
                      <a:lnTo>
                        <a:pt x="27" y="0"/>
                      </a:lnTo>
                      <a:lnTo>
                        <a:pt x="3" y="19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2" y="111"/>
                      </a:lnTo>
                      <a:lnTo>
                        <a:pt x="7" y="153"/>
                      </a:lnTo>
                      <a:lnTo>
                        <a:pt x="11" y="172"/>
                      </a:lnTo>
                      <a:lnTo>
                        <a:pt x="16" y="193"/>
                      </a:lnTo>
                      <a:lnTo>
                        <a:pt x="31" y="232"/>
                      </a:lnTo>
                      <a:lnTo>
                        <a:pt x="48" y="270"/>
                      </a:lnTo>
                      <a:lnTo>
                        <a:pt x="71" y="306"/>
                      </a:lnTo>
                      <a:lnTo>
                        <a:pt x="96" y="340"/>
                      </a:lnTo>
                      <a:lnTo>
                        <a:pt x="126" y="373"/>
                      </a:lnTo>
                      <a:lnTo>
                        <a:pt x="158" y="402"/>
                      </a:lnTo>
                      <a:lnTo>
                        <a:pt x="192" y="428"/>
                      </a:lnTo>
                      <a:lnTo>
                        <a:pt x="227" y="450"/>
                      </a:lnTo>
                      <a:lnTo>
                        <a:pt x="266" y="468"/>
                      </a:lnTo>
                      <a:lnTo>
                        <a:pt x="304" y="482"/>
                      </a:lnTo>
                      <a:lnTo>
                        <a:pt x="345" y="492"/>
                      </a:lnTo>
                      <a:lnTo>
                        <a:pt x="387" y="497"/>
                      </a:lnTo>
                      <a:lnTo>
                        <a:pt x="432" y="500"/>
                      </a:lnTo>
                      <a:lnTo>
                        <a:pt x="437" y="499"/>
                      </a:lnTo>
                      <a:lnTo>
                        <a:pt x="443" y="499"/>
                      </a:lnTo>
                      <a:lnTo>
                        <a:pt x="454" y="499"/>
                      </a:lnTo>
                      <a:lnTo>
                        <a:pt x="477" y="497"/>
                      </a:lnTo>
                      <a:lnTo>
                        <a:pt x="487" y="495"/>
                      </a:lnTo>
                      <a:lnTo>
                        <a:pt x="498" y="494"/>
                      </a:lnTo>
                      <a:lnTo>
                        <a:pt x="521" y="491"/>
                      </a:lnTo>
                      <a:lnTo>
                        <a:pt x="541" y="485"/>
                      </a:lnTo>
                      <a:lnTo>
                        <a:pt x="546" y="483"/>
                      </a:lnTo>
                      <a:lnTo>
                        <a:pt x="548" y="482"/>
                      </a:lnTo>
                      <a:lnTo>
                        <a:pt x="552" y="482"/>
                      </a:lnTo>
                      <a:lnTo>
                        <a:pt x="563" y="479"/>
                      </a:lnTo>
                      <a:lnTo>
                        <a:pt x="604" y="466"/>
                      </a:lnTo>
                      <a:lnTo>
                        <a:pt x="615" y="436"/>
                      </a:lnTo>
                      <a:lnTo>
                        <a:pt x="592" y="445"/>
                      </a:lnTo>
                      <a:lnTo>
                        <a:pt x="572" y="453"/>
                      </a:lnTo>
                      <a:lnTo>
                        <a:pt x="549" y="460"/>
                      </a:lnTo>
                      <a:lnTo>
                        <a:pt x="528" y="467"/>
                      </a:lnTo>
                      <a:lnTo>
                        <a:pt x="504" y="471"/>
                      </a:lnTo>
                      <a:lnTo>
                        <a:pt x="481" y="475"/>
                      </a:lnTo>
                      <a:lnTo>
                        <a:pt x="456" y="477"/>
                      </a:lnTo>
                      <a:lnTo>
                        <a:pt x="444" y="477"/>
                      </a:lnTo>
                      <a:lnTo>
                        <a:pt x="432" y="478"/>
                      </a:lnTo>
                      <a:lnTo>
                        <a:pt x="389" y="476"/>
                      </a:lnTo>
                      <a:lnTo>
                        <a:pt x="350" y="470"/>
                      </a:lnTo>
                      <a:lnTo>
                        <a:pt x="311" y="460"/>
                      </a:lnTo>
                      <a:lnTo>
                        <a:pt x="275" y="448"/>
                      </a:lnTo>
                      <a:lnTo>
                        <a:pt x="239" y="429"/>
                      </a:lnTo>
                      <a:lnTo>
                        <a:pt x="205" y="409"/>
                      </a:lnTo>
                      <a:lnTo>
                        <a:pt x="172" y="384"/>
                      </a:lnTo>
                      <a:lnTo>
                        <a:pt x="142" y="357"/>
                      </a:lnTo>
                      <a:lnTo>
                        <a:pt x="113" y="325"/>
                      </a:lnTo>
                      <a:lnTo>
                        <a:pt x="89" y="293"/>
                      </a:lnTo>
                      <a:lnTo>
                        <a:pt x="67" y="259"/>
                      </a:lnTo>
                      <a:lnTo>
                        <a:pt x="58" y="241"/>
                      </a:lnTo>
                      <a:lnTo>
                        <a:pt x="52" y="224"/>
                      </a:lnTo>
                      <a:lnTo>
                        <a:pt x="44" y="205"/>
                      </a:lnTo>
                      <a:lnTo>
                        <a:pt x="38" y="187"/>
                      </a:lnTo>
                      <a:lnTo>
                        <a:pt x="29" y="148"/>
                      </a:lnTo>
                      <a:lnTo>
                        <a:pt x="23" y="109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432120" y="3131280"/>
                  <a:ext cx="171360" cy="141480"/>
                </a:xfrm>
                <a:custGeom>
                  <a:avLst/>
                  <a:gdLst/>
                  <a:ahLst/>
                  <a:rect l="l" t="t" r="r" b="b"/>
                  <a:pathLst>
                    <a:path w="601" h="495">
                      <a:moveTo>
                        <a:pt x="5" y="17"/>
                      </a:moveTo>
                      <a:lnTo>
                        <a:pt x="1" y="50"/>
                      </a:lnTo>
                      <a:lnTo>
                        <a:pt x="0" y="85"/>
                      </a:lnTo>
                      <a:lnTo>
                        <a:pt x="1" y="126"/>
                      </a:lnTo>
                      <a:lnTo>
                        <a:pt x="7" y="165"/>
                      </a:lnTo>
                      <a:lnTo>
                        <a:pt x="16" y="204"/>
                      </a:lnTo>
                      <a:lnTo>
                        <a:pt x="22" y="222"/>
                      </a:lnTo>
                      <a:lnTo>
                        <a:pt x="30" y="241"/>
                      </a:lnTo>
                      <a:lnTo>
                        <a:pt x="36" y="258"/>
                      </a:lnTo>
                      <a:lnTo>
                        <a:pt x="45" y="276"/>
                      </a:lnTo>
                      <a:lnTo>
                        <a:pt x="67" y="310"/>
                      </a:lnTo>
                      <a:lnTo>
                        <a:pt x="91" y="342"/>
                      </a:lnTo>
                      <a:lnTo>
                        <a:pt x="120" y="374"/>
                      </a:lnTo>
                      <a:lnTo>
                        <a:pt x="150" y="401"/>
                      </a:lnTo>
                      <a:lnTo>
                        <a:pt x="183" y="426"/>
                      </a:lnTo>
                      <a:lnTo>
                        <a:pt x="217" y="446"/>
                      </a:lnTo>
                      <a:lnTo>
                        <a:pt x="253" y="465"/>
                      </a:lnTo>
                      <a:lnTo>
                        <a:pt x="289" y="477"/>
                      </a:lnTo>
                      <a:lnTo>
                        <a:pt x="328" y="487"/>
                      </a:lnTo>
                      <a:lnTo>
                        <a:pt x="367" y="493"/>
                      </a:lnTo>
                      <a:lnTo>
                        <a:pt x="410" y="495"/>
                      </a:lnTo>
                      <a:lnTo>
                        <a:pt x="422" y="494"/>
                      </a:lnTo>
                      <a:lnTo>
                        <a:pt x="434" y="494"/>
                      </a:lnTo>
                      <a:lnTo>
                        <a:pt x="459" y="492"/>
                      </a:lnTo>
                      <a:lnTo>
                        <a:pt x="482" y="488"/>
                      </a:lnTo>
                      <a:lnTo>
                        <a:pt x="506" y="484"/>
                      </a:lnTo>
                      <a:lnTo>
                        <a:pt x="527" y="477"/>
                      </a:lnTo>
                      <a:lnTo>
                        <a:pt x="550" y="470"/>
                      </a:lnTo>
                      <a:lnTo>
                        <a:pt x="570" y="462"/>
                      </a:lnTo>
                      <a:lnTo>
                        <a:pt x="593" y="453"/>
                      </a:lnTo>
                      <a:lnTo>
                        <a:pt x="601" y="424"/>
                      </a:lnTo>
                      <a:lnTo>
                        <a:pt x="578" y="434"/>
                      </a:lnTo>
                      <a:lnTo>
                        <a:pt x="567" y="439"/>
                      </a:lnTo>
                      <a:lnTo>
                        <a:pt x="561" y="441"/>
                      </a:lnTo>
                      <a:lnTo>
                        <a:pt x="557" y="444"/>
                      </a:lnTo>
                      <a:lnTo>
                        <a:pt x="550" y="445"/>
                      </a:lnTo>
                      <a:lnTo>
                        <a:pt x="544" y="448"/>
                      </a:lnTo>
                      <a:lnTo>
                        <a:pt x="533" y="452"/>
                      </a:lnTo>
                      <a:lnTo>
                        <a:pt x="510" y="460"/>
                      </a:lnTo>
                      <a:lnTo>
                        <a:pt x="485" y="465"/>
                      </a:lnTo>
                      <a:lnTo>
                        <a:pt x="461" y="469"/>
                      </a:lnTo>
                      <a:lnTo>
                        <a:pt x="435" y="471"/>
                      </a:lnTo>
                      <a:lnTo>
                        <a:pt x="410" y="473"/>
                      </a:lnTo>
                      <a:lnTo>
                        <a:pt x="370" y="470"/>
                      </a:lnTo>
                      <a:lnTo>
                        <a:pt x="332" y="465"/>
                      </a:lnTo>
                      <a:lnTo>
                        <a:pt x="295" y="456"/>
                      </a:lnTo>
                      <a:lnTo>
                        <a:pt x="261" y="444"/>
                      </a:lnTo>
                      <a:lnTo>
                        <a:pt x="226" y="427"/>
                      </a:lnTo>
                      <a:lnTo>
                        <a:pt x="194" y="408"/>
                      </a:lnTo>
                      <a:lnTo>
                        <a:pt x="163" y="385"/>
                      </a:lnTo>
                      <a:lnTo>
                        <a:pt x="135" y="359"/>
                      </a:lnTo>
                      <a:lnTo>
                        <a:pt x="108" y="330"/>
                      </a:lnTo>
                      <a:lnTo>
                        <a:pt x="95" y="314"/>
                      </a:lnTo>
                      <a:lnTo>
                        <a:pt x="85" y="299"/>
                      </a:lnTo>
                      <a:lnTo>
                        <a:pt x="74" y="282"/>
                      </a:lnTo>
                      <a:lnTo>
                        <a:pt x="65" y="266"/>
                      </a:lnTo>
                      <a:lnTo>
                        <a:pt x="50" y="233"/>
                      </a:lnTo>
                      <a:lnTo>
                        <a:pt x="42" y="215"/>
                      </a:lnTo>
                      <a:lnTo>
                        <a:pt x="36" y="198"/>
                      </a:lnTo>
                      <a:lnTo>
                        <a:pt x="28" y="162"/>
                      </a:lnTo>
                      <a:lnTo>
                        <a:pt x="23" y="123"/>
                      </a:lnTo>
                      <a:lnTo>
                        <a:pt x="22" y="85"/>
                      </a:lnTo>
                      <a:lnTo>
                        <a:pt x="24" y="41"/>
                      </a:lnTo>
                      <a:lnTo>
                        <a:pt x="26" y="19"/>
                      </a:lnTo>
                      <a:lnTo>
                        <a:pt x="31" y="0"/>
                      </a:lnTo>
                      <a:lnTo>
                        <a:pt x="5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444720" y="312372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8">
                      <a:moveTo>
                        <a:pt x="13" y="12"/>
                      </a:moveTo>
                      <a:lnTo>
                        <a:pt x="6" y="35"/>
                      </a:lnTo>
                      <a:lnTo>
                        <a:pt x="2" y="60"/>
                      </a:lnTo>
                      <a:lnTo>
                        <a:pt x="0" y="85"/>
                      </a:lnTo>
                      <a:lnTo>
                        <a:pt x="0" y="112"/>
                      </a:lnTo>
                      <a:lnTo>
                        <a:pt x="1" y="148"/>
                      </a:lnTo>
                      <a:lnTo>
                        <a:pt x="6" y="184"/>
                      </a:lnTo>
                      <a:lnTo>
                        <a:pt x="14" y="218"/>
                      </a:lnTo>
                      <a:lnTo>
                        <a:pt x="26" y="252"/>
                      </a:lnTo>
                      <a:lnTo>
                        <a:pt x="41" y="283"/>
                      </a:lnTo>
                      <a:lnTo>
                        <a:pt x="60" y="314"/>
                      </a:lnTo>
                      <a:lnTo>
                        <a:pt x="82" y="343"/>
                      </a:lnTo>
                      <a:lnTo>
                        <a:pt x="108" y="371"/>
                      </a:lnTo>
                      <a:lnTo>
                        <a:pt x="134" y="395"/>
                      </a:lnTo>
                      <a:lnTo>
                        <a:pt x="163" y="417"/>
                      </a:lnTo>
                      <a:lnTo>
                        <a:pt x="193" y="435"/>
                      </a:lnTo>
                      <a:lnTo>
                        <a:pt x="226" y="451"/>
                      </a:lnTo>
                      <a:lnTo>
                        <a:pt x="259" y="462"/>
                      </a:lnTo>
                      <a:lnTo>
                        <a:pt x="294" y="471"/>
                      </a:lnTo>
                      <a:lnTo>
                        <a:pt x="329" y="476"/>
                      </a:lnTo>
                      <a:lnTo>
                        <a:pt x="367" y="478"/>
                      </a:lnTo>
                      <a:lnTo>
                        <a:pt x="370" y="477"/>
                      </a:lnTo>
                      <a:lnTo>
                        <a:pt x="373" y="477"/>
                      </a:lnTo>
                      <a:lnTo>
                        <a:pt x="380" y="477"/>
                      </a:lnTo>
                      <a:lnTo>
                        <a:pt x="394" y="477"/>
                      </a:lnTo>
                      <a:lnTo>
                        <a:pt x="406" y="475"/>
                      </a:lnTo>
                      <a:lnTo>
                        <a:pt x="420" y="473"/>
                      </a:lnTo>
                      <a:lnTo>
                        <a:pt x="445" y="469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1" y="463"/>
                      </a:lnTo>
                      <a:lnTo>
                        <a:pt x="482" y="459"/>
                      </a:lnTo>
                      <a:lnTo>
                        <a:pt x="488" y="456"/>
                      </a:lnTo>
                      <a:lnTo>
                        <a:pt x="494" y="455"/>
                      </a:lnTo>
                      <a:lnTo>
                        <a:pt x="518" y="446"/>
                      </a:lnTo>
                      <a:lnTo>
                        <a:pt x="541" y="435"/>
                      </a:lnTo>
                      <a:lnTo>
                        <a:pt x="564" y="422"/>
                      </a:lnTo>
                      <a:lnTo>
                        <a:pt x="568" y="393"/>
                      </a:lnTo>
                      <a:lnTo>
                        <a:pt x="556" y="400"/>
                      </a:lnTo>
                      <a:lnTo>
                        <a:pt x="544" y="408"/>
                      </a:lnTo>
                      <a:lnTo>
                        <a:pt x="522" y="420"/>
                      </a:lnTo>
                      <a:lnTo>
                        <a:pt x="509" y="425"/>
                      </a:lnTo>
                      <a:lnTo>
                        <a:pt x="498" y="430"/>
                      </a:lnTo>
                      <a:lnTo>
                        <a:pt x="485" y="435"/>
                      </a:lnTo>
                      <a:lnTo>
                        <a:pt x="474" y="441"/>
                      </a:lnTo>
                      <a:lnTo>
                        <a:pt x="448" y="447"/>
                      </a:lnTo>
                      <a:lnTo>
                        <a:pt x="434" y="450"/>
                      </a:lnTo>
                      <a:lnTo>
                        <a:pt x="428" y="451"/>
                      </a:lnTo>
                      <a:lnTo>
                        <a:pt x="422" y="453"/>
                      </a:lnTo>
                      <a:lnTo>
                        <a:pt x="395" y="456"/>
                      </a:lnTo>
                      <a:lnTo>
                        <a:pt x="367" y="458"/>
                      </a:lnTo>
                      <a:lnTo>
                        <a:pt x="331" y="455"/>
                      </a:lnTo>
                      <a:lnTo>
                        <a:pt x="297" y="451"/>
                      </a:lnTo>
                      <a:lnTo>
                        <a:pt x="264" y="442"/>
                      </a:lnTo>
                      <a:lnTo>
                        <a:pt x="234" y="432"/>
                      </a:lnTo>
                      <a:lnTo>
                        <a:pt x="203" y="417"/>
                      </a:lnTo>
                      <a:lnTo>
                        <a:pt x="175" y="400"/>
                      </a:lnTo>
                      <a:lnTo>
                        <a:pt x="148" y="378"/>
                      </a:lnTo>
                      <a:lnTo>
                        <a:pt x="123" y="356"/>
                      </a:lnTo>
                      <a:lnTo>
                        <a:pt x="98" y="328"/>
                      </a:lnTo>
                      <a:lnTo>
                        <a:pt x="77" y="301"/>
                      </a:lnTo>
                      <a:lnTo>
                        <a:pt x="60" y="273"/>
                      </a:lnTo>
                      <a:lnTo>
                        <a:pt x="47" y="243"/>
                      </a:lnTo>
                      <a:lnTo>
                        <a:pt x="35" y="212"/>
                      </a:lnTo>
                      <a:lnTo>
                        <a:pt x="27" y="180"/>
                      </a:lnTo>
                      <a:lnTo>
                        <a:pt x="23" y="146"/>
                      </a:lnTo>
                      <a:lnTo>
                        <a:pt x="22" y="112"/>
                      </a:lnTo>
                      <a:lnTo>
                        <a:pt x="23" y="81"/>
                      </a:lnTo>
                      <a:lnTo>
                        <a:pt x="26" y="53"/>
                      </a:lnTo>
                      <a:lnTo>
                        <a:pt x="32" y="26"/>
                      </a:lnTo>
                      <a:lnTo>
                        <a:pt x="40" y="0"/>
                      </a:lnTo>
                      <a:lnTo>
                        <a:pt x="13" y="12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50480" y="3120840"/>
                  <a:ext cx="156600" cy="133560"/>
                </a:xfrm>
                <a:custGeom>
                  <a:avLst/>
                  <a:gdLst/>
                  <a:ahLst/>
                  <a:rect l="l" t="t" r="r" b="b"/>
                  <a:pathLst>
                    <a:path w="547" h="469">
                      <a:moveTo>
                        <a:pt x="44" y="0"/>
                      </a:moveTo>
                      <a:lnTo>
                        <a:pt x="18" y="11"/>
                      </a:lnTo>
                      <a:lnTo>
                        <a:pt x="10" y="37"/>
                      </a:lnTo>
                      <a:lnTo>
                        <a:pt x="4" y="64"/>
                      </a:lnTo>
                      <a:lnTo>
                        <a:pt x="1" y="92"/>
                      </a:lnTo>
                      <a:lnTo>
                        <a:pt x="0" y="123"/>
                      </a:lnTo>
                      <a:lnTo>
                        <a:pt x="1" y="157"/>
                      </a:lnTo>
                      <a:lnTo>
                        <a:pt x="5" y="191"/>
                      </a:lnTo>
                      <a:lnTo>
                        <a:pt x="13" y="223"/>
                      </a:lnTo>
                      <a:lnTo>
                        <a:pt x="25" y="254"/>
                      </a:lnTo>
                      <a:lnTo>
                        <a:pt x="38" y="284"/>
                      </a:lnTo>
                      <a:lnTo>
                        <a:pt x="55" y="312"/>
                      </a:lnTo>
                      <a:lnTo>
                        <a:pt x="76" y="339"/>
                      </a:lnTo>
                      <a:lnTo>
                        <a:pt x="101" y="367"/>
                      </a:lnTo>
                      <a:lnTo>
                        <a:pt x="126" y="389"/>
                      </a:lnTo>
                      <a:lnTo>
                        <a:pt x="153" y="411"/>
                      </a:lnTo>
                      <a:lnTo>
                        <a:pt x="181" y="428"/>
                      </a:lnTo>
                      <a:lnTo>
                        <a:pt x="212" y="443"/>
                      </a:lnTo>
                      <a:lnTo>
                        <a:pt x="242" y="453"/>
                      </a:lnTo>
                      <a:lnTo>
                        <a:pt x="275" y="462"/>
                      </a:lnTo>
                      <a:lnTo>
                        <a:pt x="309" y="466"/>
                      </a:lnTo>
                      <a:lnTo>
                        <a:pt x="345" y="469"/>
                      </a:lnTo>
                      <a:lnTo>
                        <a:pt x="373" y="467"/>
                      </a:lnTo>
                      <a:lnTo>
                        <a:pt x="400" y="464"/>
                      </a:lnTo>
                      <a:lnTo>
                        <a:pt x="406" y="462"/>
                      </a:lnTo>
                      <a:lnTo>
                        <a:pt x="412" y="461"/>
                      </a:lnTo>
                      <a:lnTo>
                        <a:pt x="426" y="458"/>
                      </a:lnTo>
                      <a:lnTo>
                        <a:pt x="452" y="452"/>
                      </a:lnTo>
                      <a:lnTo>
                        <a:pt x="463" y="446"/>
                      </a:lnTo>
                      <a:lnTo>
                        <a:pt x="476" y="441"/>
                      </a:lnTo>
                      <a:lnTo>
                        <a:pt x="487" y="436"/>
                      </a:lnTo>
                      <a:lnTo>
                        <a:pt x="500" y="431"/>
                      </a:lnTo>
                      <a:lnTo>
                        <a:pt x="522" y="419"/>
                      </a:lnTo>
                      <a:lnTo>
                        <a:pt x="534" y="411"/>
                      </a:lnTo>
                      <a:lnTo>
                        <a:pt x="546" y="404"/>
                      </a:lnTo>
                      <a:lnTo>
                        <a:pt x="546" y="389"/>
                      </a:lnTo>
                      <a:lnTo>
                        <a:pt x="547" y="376"/>
                      </a:lnTo>
                      <a:lnTo>
                        <a:pt x="525" y="390"/>
                      </a:lnTo>
                      <a:lnTo>
                        <a:pt x="502" y="405"/>
                      </a:lnTo>
                      <a:lnTo>
                        <a:pt x="477" y="418"/>
                      </a:lnTo>
                      <a:lnTo>
                        <a:pt x="465" y="422"/>
                      </a:lnTo>
                      <a:lnTo>
                        <a:pt x="453" y="428"/>
                      </a:lnTo>
                      <a:lnTo>
                        <a:pt x="440" y="431"/>
                      </a:lnTo>
                      <a:lnTo>
                        <a:pt x="427" y="436"/>
                      </a:lnTo>
                      <a:lnTo>
                        <a:pt x="413" y="438"/>
                      </a:lnTo>
                      <a:lnTo>
                        <a:pt x="407" y="439"/>
                      </a:lnTo>
                      <a:lnTo>
                        <a:pt x="401" y="441"/>
                      </a:lnTo>
                      <a:lnTo>
                        <a:pt x="393" y="441"/>
                      </a:lnTo>
                      <a:lnTo>
                        <a:pt x="386" y="443"/>
                      </a:lnTo>
                      <a:lnTo>
                        <a:pt x="373" y="445"/>
                      </a:lnTo>
                      <a:lnTo>
                        <a:pt x="345" y="446"/>
                      </a:lnTo>
                      <a:lnTo>
                        <a:pt x="311" y="444"/>
                      </a:lnTo>
                      <a:lnTo>
                        <a:pt x="280" y="439"/>
                      </a:lnTo>
                      <a:lnTo>
                        <a:pt x="248" y="431"/>
                      </a:lnTo>
                      <a:lnTo>
                        <a:pt x="220" y="422"/>
                      </a:lnTo>
                      <a:lnTo>
                        <a:pt x="191" y="407"/>
                      </a:lnTo>
                      <a:lnTo>
                        <a:pt x="165" y="391"/>
                      </a:lnTo>
                      <a:lnTo>
                        <a:pt x="139" y="372"/>
                      </a:lnTo>
                      <a:lnTo>
                        <a:pt x="116" y="352"/>
                      </a:lnTo>
                      <a:lnTo>
                        <a:pt x="94" y="327"/>
                      </a:lnTo>
                      <a:lnTo>
                        <a:pt x="74" y="301"/>
                      </a:lnTo>
                      <a:lnTo>
                        <a:pt x="57" y="274"/>
                      </a:lnTo>
                      <a:lnTo>
                        <a:pt x="45" y="246"/>
                      </a:lnTo>
                      <a:lnTo>
                        <a:pt x="34" y="217"/>
                      </a:lnTo>
                      <a:lnTo>
                        <a:pt x="29" y="201"/>
                      </a:lnTo>
                      <a:lnTo>
                        <a:pt x="27" y="186"/>
                      </a:lnTo>
                      <a:lnTo>
                        <a:pt x="22" y="155"/>
                      </a:lnTo>
                      <a:lnTo>
                        <a:pt x="21" y="123"/>
                      </a:lnTo>
                      <a:lnTo>
                        <a:pt x="22" y="90"/>
                      </a:lnTo>
                      <a:lnTo>
                        <a:pt x="27" y="59"/>
                      </a:lnTo>
                      <a:lnTo>
                        <a:pt x="34" y="2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469200" y="311652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9">
                      <a:moveTo>
                        <a:pt x="22" y="139"/>
                      </a:moveTo>
                      <a:lnTo>
                        <a:pt x="24" y="100"/>
                      </a:lnTo>
                      <a:lnTo>
                        <a:pt x="31" y="65"/>
                      </a:lnTo>
                      <a:lnTo>
                        <a:pt x="42" y="31"/>
                      </a:lnTo>
                      <a:lnTo>
                        <a:pt x="60" y="0"/>
                      </a:lnTo>
                      <a:lnTo>
                        <a:pt x="34" y="4"/>
                      </a:lnTo>
                      <a:lnTo>
                        <a:pt x="18" y="34"/>
                      </a:lnTo>
                      <a:lnTo>
                        <a:pt x="8" y="67"/>
                      </a:lnTo>
                      <a:lnTo>
                        <a:pt x="1" y="101"/>
                      </a:lnTo>
                      <a:lnTo>
                        <a:pt x="0" y="139"/>
                      </a:lnTo>
                      <a:lnTo>
                        <a:pt x="1" y="166"/>
                      </a:lnTo>
                      <a:lnTo>
                        <a:pt x="5" y="193"/>
                      </a:lnTo>
                      <a:lnTo>
                        <a:pt x="10" y="219"/>
                      </a:lnTo>
                      <a:lnTo>
                        <a:pt x="21" y="245"/>
                      </a:lnTo>
                      <a:lnTo>
                        <a:pt x="31" y="269"/>
                      </a:lnTo>
                      <a:lnTo>
                        <a:pt x="46" y="293"/>
                      </a:lnTo>
                      <a:lnTo>
                        <a:pt x="63" y="315"/>
                      </a:lnTo>
                      <a:lnTo>
                        <a:pt x="83" y="337"/>
                      </a:lnTo>
                      <a:lnTo>
                        <a:pt x="103" y="355"/>
                      </a:lnTo>
                      <a:lnTo>
                        <a:pt x="125" y="372"/>
                      </a:lnTo>
                      <a:lnTo>
                        <a:pt x="148" y="386"/>
                      </a:lnTo>
                      <a:lnTo>
                        <a:pt x="173" y="398"/>
                      </a:lnTo>
                      <a:lnTo>
                        <a:pt x="198" y="406"/>
                      </a:lnTo>
                      <a:lnTo>
                        <a:pt x="225" y="413"/>
                      </a:lnTo>
                      <a:lnTo>
                        <a:pt x="252" y="417"/>
                      </a:lnTo>
                      <a:lnTo>
                        <a:pt x="281" y="419"/>
                      </a:lnTo>
                      <a:lnTo>
                        <a:pt x="309" y="417"/>
                      </a:lnTo>
                      <a:lnTo>
                        <a:pt x="336" y="413"/>
                      </a:lnTo>
                      <a:lnTo>
                        <a:pt x="342" y="411"/>
                      </a:lnTo>
                      <a:lnTo>
                        <a:pt x="348" y="410"/>
                      </a:lnTo>
                      <a:lnTo>
                        <a:pt x="362" y="406"/>
                      </a:lnTo>
                      <a:lnTo>
                        <a:pt x="374" y="402"/>
                      </a:lnTo>
                      <a:lnTo>
                        <a:pt x="388" y="398"/>
                      </a:lnTo>
                      <a:lnTo>
                        <a:pt x="399" y="392"/>
                      </a:lnTo>
                      <a:lnTo>
                        <a:pt x="402" y="389"/>
                      </a:lnTo>
                      <a:lnTo>
                        <a:pt x="403" y="388"/>
                      </a:lnTo>
                      <a:lnTo>
                        <a:pt x="405" y="388"/>
                      </a:lnTo>
                      <a:lnTo>
                        <a:pt x="412" y="386"/>
                      </a:lnTo>
                      <a:lnTo>
                        <a:pt x="423" y="379"/>
                      </a:lnTo>
                      <a:lnTo>
                        <a:pt x="436" y="372"/>
                      </a:lnTo>
                      <a:lnTo>
                        <a:pt x="446" y="363"/>
                      </a:lnTo>
                      <a:lnTo>
                        <a:pt x="457" y="355"/>
                      </a:lnTo>
                      <a:lnTo>
                        <a:pt x="480" y="337"/>
                      </a:lnTo>
                      <a:lnTo>
                        <a:pt x="481" y="335"/>
                      </a:lnTo>
                      <a:lnTo>
                        <a:pt x="476" y="309"/>
                      </a:lnTo>
                      <a:lnTo>
                        <a:pt x="470" y="315"/>
                      </a:lnTo>
                      <a:lnTo>
                        <a:pt x="464" y="321"/>
                      </a:lnTo>
                      <a:lnTo>
                        <a:pt x="444" y="338"/>
                      </a:lnTo>
                      <a:lnTo>
                        <a:pt x="423" y="353"/>
                      </a:lnTo>
                      <a:lnTo>
                        <a:pt x="412" y="359"/>
                      </a:lnTo>
                      <a:lnTo>
                        <a:pt x="402" y="366"/>
                      </a:lnTo>
                      <a:lnTo>
                        <a:pt x="390" y="371"/>
                      </a:lnTo>
                      <a:lnTo>
                        <a:pt x="380" y="378"/>
                      </a:lnTo>
                      <a:lnTo>
                        <a:pt x="373" y="379"/>
                      </a:lnTo>
                      <a:lnTo>
                        <a:pt x="368" y="381"/>
                      </a:lnTo>
                      <a:lnTo>
                        <a:pt x="356" y="386"/>
                      </a:lnTo>
                      <a:lnTo>
                        <a:pt x="344" y="388"/>
                      </a:lnTo>
                      <a:lnTo>
                        <a:pt x="332" y="392"/>
                      </a:lnTo>
                      <a:lnTo>
                        <a:pt x="319" y="393"/>
                      </a:lnTo>
                      <a:lnTo>
                        <a:pt x="306" y="395"/>
                      </a:lnTo>
                      <a:lnTo>
                        <a:pt x="281" y="397"/>
                      </a:lnTo>
                      <a:lnTo>
                        <a:pt x="254" y="395"/>
                      </a:lnTo>
                      <a:lnTo>
                        <a:pt x="228" y="392"/>
                      </a:lnTo>
                      <a:lnTo>
                        <a:pt x="203" y="386"/>
                      </a:lnTo>
                      <a:lnTo>
                        <a:pt x="181" y="378"/>
                      </a:lnTo>
                      <a:lnTo>
                        <a:pt x="158" y="366"/>
                      </a:lnTo>
                      <a:lnTo>
                        <a:pt x="136" y="353"/>
                      </a:lnTo>
                      <a:lnTo>
                        <a:pt x="116" y="338"/>
                      </a:lnTo>
                      <a:lnTo>
                        <a:pt x="98" y="321"/>
                      </a:lnTo>
                      <a:lnTo>
                        <a:pt x="79" y="301"/>
                      </a:lnTo>
                      <a:lnTo>
                        <a:pt x="64" y="281"/>
                      </a:lnTo>
                      <a:lnTo>
                        <a:pt x="56" y="269"/>
                      </a:lnTo>
                      <a:lnTo>
                        <a:pt x="50" y="259"/>
                      </a:lnTo>
                      <a:lnTo>
                        <a:pt x="40" y="237"/>
                      </a:lnTo>
                      <a:lnTo>
                        <a:pt x="32" y="214"/>
                      </a:lnTo>
                      <a:lnTo>
                        <a:pt x="26" y="190"/>
                      </a:lnTo>
                      <a:lnTo>
                        <a:pt x="23" y="164"/>
                      </a:lnTo>
                      <a:lnTo>
                        <a:pt x="22" y="139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474960" y="3115800"/>
                  <a:ext cx="130320" cy="113400"/>
                </a:xfrm>
                <a:custGeom>
                  <a:avLst/>
                  <a:gdLst/>
                  <a:ahLst/>
                  <a:rect l="l" t="t" r="r" b="b"/>
                  <a:pathLst>
                    <a:path w="454" h="398">
                      <a:moveTo>
                        <a:pt x="38" y="1"/>
                      </a:moveTo>
                      <a:lnTo>
                        <a:pt x="20" y="32"/>
                      </a:lnTo>
                      <a:lnTo>
                        <a:pt x="9" y="66"/>
                      </a:lnTo>
                      <a:lnTo>
                        <a:pt x="2" y="101"/>
                      </a:lnTo>
                      <a:lnTo>
                        <a:pt x="0" y="140"/>
                      </a:lnTo>
                      <a:lnTo>
                        <a:pt x="1" y="165"/>
                      </a:lnTo>
                      <a:lnTo>
                        <a:pt x="4" y="191"/>
                      </a:lnTo>
                      <a:lnTo>
                        <a:pt x="10" y="215"/>
                      </a:lnTo>
                      <a:lnTo>
                        <a:pt x="18" y="238"/>
                      </a:lnTo>
                      <a:lnTo>
                        <a:pt x="28" y="260"/>
                      </a:lnTo>
                      <a:lnTo>
                        <a:pt x="34" y="270"/>
                      </a:lnTo>
                      <a:lnTo>
                        <a:pt x="42" y="282"/>
                      </a:lnTo>
                      <a:lnTo>
                        <a:pt x="57" y="302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4" y="354"/>
                      </a:lnTo>
                      <a:lnTo>
                        <a:pt x="136" y="367"/>
                      </a:lnTo>
                      <a:lnTo>
                        <a:pt x="159" y="379"/>
                      </a:lnTo>
                      <a:lnTo>
                        <a:pt x="181" y="387"/>
                      </a:lnTo>
                      <a:lnTo>
                        <a:pt x="206" y="393"/>
                      </a:lnTo>
                      <a:lnTo>
                        <a:pt x="232" y="396"/>
                      </a:lnTo>
                      <a:lnTo>
                        <a:pt x="259" y="398"/>
                      </a:lnTo>
                      <a:lnTo>
                        <a:pt x="284" y="396"/>
                      </a:lnTo>
                      <a:lnTo>
                        <a:pt x="297" y="394"/>
                      </a:lnTo>
                      <a:lnTo>
                        <a:pt x="310" y="393"/>
                      </a:lnTo>
                      <a:lnTo>
                        <a:pt x="322" y="389"/>
                      </a:lnTo>
                      <a:lnTo>
                        <a:pt x="334" y="387"/>
                      </a:lnTo>
                      <a:lnTo>
                        <a:pt x="346" y="382"/>
                      </a:lnTo>
                      <a:lnTo>
                        <a:pt x="351" y="380"/>
                      </a:lnTo>
                      <a:lnTo>
                        <a:pt x="358" y="379"/>
                      </a:lnTo>
                      <a:lnTo>
                        <a:pt x="368" y="372"/>
                      </a:lnTo>
                      <a:lnTo>
                        <a:pt x="380" y="367"/>
                      </a:lnTo>
                      <a:lnTo>
                        <a:pt x="390" y="360"/>
                      </a:lnTo>
                      <a:lnTo>
                        <a:pt x="401" y="354"/>
                      </a:lnTo>
                      <a:lnTo>
                        <a:pt x="422" y="339"/>
                      </a:lnTo>
                      <a:lnTo>
                        <a:pt x="442" y="322"/>
                      </a:lnTo>
                      <a:lnTo>
                        <a:pt x="448" y="316"/>
                      </a:lnTo>
                      <a:lnTo>
                        <a:pt x="454" y="310"/>
                      </a:lnTo>
                      <a:lnTo>
                        <a:pt x="449" y="283"/>
                      </a:lnTo>
                      <a:lnTo>
                        <a:pt x="437" y="295"/>
                      </a:lnTo>
                      <a:lnTo>
                        <a:pt x="434" y="297"/>
                      </a:lnTo>
                      <a:lnTo>
                        <a:pt x="432" y="301"/>
                      </a:lnTo>
                      <a:lnTo>
                        <a:pt x="427" y="308"/>
                      </a:lnTo>
                      <a:lnTo>
                        <a:pt x="417" y="314"/>
                      </a:lnTo>
                      <a:lnTo>
                        <a:pt x="408" y="322"/>
                      </a:lnTo>
                      <a:lnTo>
                        <a:pt x="390" y="337"/>
                      </a:lnTo>
                      <a:lnTo>
                        <a:pt x="369" y="348"/>
                      </a:lnTo>
                      <a:lnTo>
                        <a:pt x="359" y="353"/>
                      </a:lnTo>
                      <a:lnTo>
                        <a:pt x="350" y="359"/>
                      </a:lnTo>
                      <a:lnTo>
                        <a:pt x="327" y="367"/>
                      </a:lnTo>
                      <a:lnTo>
                        <a:pt x="316" y="369"/>
                      </a:lnTo>
                      <a:lnTo>
                        <a:pt x="313" y="369"/>
                      </a:lnTo>
                      <a:lnTo>
                        <a:pt x="310" y="370"/>
                      </a:lnTo>
                      <a:lnTo>
                        <a:pt x="306" y="372"/>
                      </a:lnTo>
                      <a:lnTo>
                        <a:pt x="299" y="372"/>
                      </a:lnTo>
                      <a:lnTo>
                        <a:pt x="296" y="372"/>
                      </a:lnTo>
                      <a:lnTo>
                        <a:pt x="293" y="373"/>
                      </a:lnTo>
                      <a:lnTo>
                        <a:pt x="282" y="376"/>
                      </a:lnTo>
                      <a:lnTo>
                        <a:pt x="259" y="377"/>
                      </a:lnTo>
                      <a:lnTo>
                        <a:pt x="235" y="376"/>
                      </a:lnTo>
                      <a:lnTo>
                        <a:pt x="211" y="372"/>
                      </a:lnTo>
                      <a:lnTo>
                        <a:pt x="188" y="367"/>
                      </a:lnTo>
                      <a:lnTo>
                        <a:pt x="168" y="359"/>
                      </a:lnTo>
                      <a:lnTo>
                        <a:pt x="146" y="348"/>
                      </a:lnTo>
                      <a:lnTo>
                        <a:pt x="127" y="337"/>
                      </a:lnTo>
                      <a:lnTo>
                        <a:pt x="108" y="322"/>
                      </a:lnTo>
                      <a:lnTo>
                        <a:pt x="91" y="308"/>
                      </a:lnTo>
                      <a:lnTo>
                        <a:pt x="74" y="288"/>
                      </a:lnTo>
                      <a:lnTo>
                        <a:pt x="59" y="270"/>
                      </a:lnTo>
                      <a:lnTo>
                        <a:pt x="46" y="250"/>
                      </a:lnTo>
                      <a:lnTo>
                        <a:pt x="38" y="230"/>
                      </a:lnTo>
                      <a:lnTo>
                        <a:pt x="30" y="208"/>
                      </a:lnTo>
                      <a:lnTo>
                        <a:pt x="25" y="186"/>
                      </a:lnTo>
                      <a:lnTo>
                        <a:pt x="21" y="162"/>
                      </a:lnTo>
                      <a:lnTo>
                        <a:pt x="21" y="140"/>
                      </a:lnTo>
                      <a:lnTo>
                        <a:pt x="24" y="100"/>
                      </a:lnTo>
                      <a:lnTo>
                        <a:pt x="32" y="65"/>
                      </a:lnTo>
                      <a:lnTo>
                        <a:pt x="37" y="47"/>
                      </a:lnTo>
                      <a:lnTo>
                        <a:pt x="45" y="31"/>
                      </a:lnTo>
                      <a:lnTo>
                        <a:pt x="66" y="0"/>
                      </a:lnTo>
                      <a:lnTo>
                        <a:pt x="38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463080" y="3116880"/>
                  <a:ext cx="144000" cy="124920"/>
                </a:xfrm>
                <a:custGeom>
                  <a:avLst/>
                  <a:gdLst/>
                  <a:ahLst/>
                  <a:rect l="l" t="t" r="r" b="b"/>
                  <a:pathLst>
                    <a:path w="504" h="436">
                      <a:moveTo>
                        <a:pt x="21" y="135"/>
                      </a:moveTo>
                      <a:lnTo>
                        <a:pt x="22" y="97"/>
                      </a:lnTo>
                      <a:lnTo>
                        <a:pt x="29" y="63"/>
                      </a:lnTo>
                      <a:lnTo>
                        <a:pt x="39" y="30"/>
                      </a:lnTo>
                      <a:lnTo>
                        <a:pt x="55" y="0"/>
                      </a:lnTo>
                      <a:lnTo>
                        <a:pt x="27" y="6"/>
                      </a:lnTo>
                      <a:lnTo>
                        <a:pt x="14" y="35"/>
                      </a:lnTo>
                      <a:lnTo>
                        <a:pt x="7" y="67"/>
                      </a:lnTo>
                      <a:lnTo>
                        <a:pt x="1" y="100"/>
                      </a:lnTo>
                      <a:lnTo>
                        <a:pt x="0" y="135"/>
                      </a:lnTo>
                      <a:lnTo>
                        <a:pt x="1" y="164"/>
                      </a:lnTo>
                      <a:lnTo>
                        <a:pt x="4" y="194"/>
                      </a:lnTo>
                      <a:lnTo>
                        <a:pt x="7" y="207"/>
                      </a:lnTo>
                      <a:lnTo>
                        <a:pt x="11" y="222"/>
                      </a:lnTo>
                      <a:lnTo>
                        <a:pt x="21" y="250"/>
                      </a:lnTo>
                      <a:lnTo>
                        <a:pt x="34" y="275"/>
                      </a:lnTo>
                      <a:lnTo>
                        <a:pt x="48" y="300"/>
                      </a:lnTo>
                      <a:lnTo>
                        <a:pt x="56" y="312"/>
                      </a:lnTo>
                      <a:lnTo>
                        <a:pt x="67" y="324"/>
                      </a:lnTo>
                      <a:lnTo>
                        <a:pt x="88" y="348"/>
                      </a:lnTo>
                      <a:lnTo>
                        <a:pt x="110" y="367"/>
                      </a:lnTo>
                      <a:lnTo>
                        <a:pt x="134" y="385"/>
                      </a:lnTo>
                      <a:lnTo>
                        <a:pt x="158" y="400"/>
                      </a:lnTo>
                      <a:lnTo>
                        <a:pt x="186" y="414"/>
                      </a:lnTo>
                      <a:lnTo>
                        <a:pt x="212" y="423"/>
                      </a:lnTo>
                      <a:lnTo>
                        <a:pt x="241" y="431"/>
                      </a:lnTo>
                      <a:lnTo>
                        <a:pt x="271" y="434"/>
                      </a:lnTo>
                      <a:lnTo>
                        <a:pt x="302" y="436"/>
                      </a:lnTo>
                      <a:lnTo>
                        <a:pt x="330" y="434"/>
                      </a:lnTo>
                      <a:lnTo>
                        <a:pt x="343" y="432"/>
                      </a:lnTo>
                      <a:lnTo>
                        <a:pt x="350" y="431"/>
                      </a:lnTo>
                      <a:lnTo>
                        <a:pt x="358" y="431"/>
                      </a:lnTo>
                      <a:lnTo>
                        <a:pt x="364" y="428"/>
                      </a:lnTo>
                      <a:lnTo>
                        <a:pt x="370" y="427"/>
                      </a:lnTo>
                      <a:lnTo>
                        <a:pt x="384" y="425"/>
                      </a:lnTo>
                      <a:lnTo>
                        <a:pt x="397" y="421"/>
                      </a:lnTo>
                      <a:lnTo>
                        <a:pt x="410" y="417"/>
                      </a:lnTo>
                      <a:lnTo>
                        <a:pt x="422" y="410"/>
                      </a:lnTo>
                      <a:lnTo>
                        <a:pt x="424" y="408"/>
                      </a:lnTo>
                      <a:lnTo>
                        <a:pt x="425" y="407"/>
                      </a:lnTo>
                      <a:lnTo>
                        <a:pt x="427" y="407"/>
                      </a:lnTo>
                      <a:lnTo>
                        <a:pt x="434" y="405"/>
                      </a:lnTo>
                      <a:lnTo>
                        <a:pt x="459" y="392"/>
                      </a:lnTo>
                      <a:lnTo>
                        <a:pt x="482" y="376"/>
                      </a:lnTo>
                      <a:lnTo>
                        <a:pt x="504" y="359"/>
                      </a:lnTo>
                      <a:lnTo>
                        <a:pt x="502" y="331"/>
                      </a:lnTo>
                      <a:lnTo>
                        <a:pt x="501" y="333"/>
                      </a:lnTo>
                      <a:lnTo>
                        <a:pt x="478" y="351"/>
                      </a:lnTo>
                      <a:lnTo>
                        <a:pt x="467" y="359"/>
                      </a:lnTo>
                      <a:lnTo>
                        <a:pt x="457" y="368"/>
                      </a:lnTo>
                      <a:lnTo>
                        <a:pt x="444" y="375"/>
                      </a:lnTo>
                      <a:lnTo>
                        <a:pt x="433" y="382"/>
                      </a:lnTo>
                      <a:lnTo>
                        <a:pt x="426" y="384"/>
                      </a:lnTo>
                      <a:lnTo>
                        <a:pt x="424" y="384"/>
                      </a:lnTo>
                      <a:lnTo>
                        <a:pt x="423" y="385"/>
                      </a:lnTo>
                      <a:lnTo>
                        <a:pt x="420" y="388"/>
                      </a:lnTo>
                      <a:lnTo>
                        <a:pt x="409" y="394"/>
                      </a:lnTo>
                      <a:lnTo>
                        <a:pt x="395" y="398"/>
                      </a:lnTo>
                      <a:lnTo>
                        <a:pt x="383" y="402"/>
                      </a:lnTo>
                      <a:lnTo>
                        <a:pt x="369" y="406"/>
                      </a:lnTo>
                      <a:lnTo>
                        <a:pt x="363" y="407"/>
                      </a:lnTo>
                      <a:lnTo>
                        <a:pt x="357" y="409"/>
                      </a:lnTo>
                      <a:lnTo>
                        <a:pt x="330" y="413"/>
                      </a:lnTo>
                      <a:lnTo>
                        <a:pt x="302" y="415"/>
                      </a:lnTo>
                      <a:lnTo>
                        <a:pt x="273" y="413"/>
                      </a:lnTo>
                      <a:lnTo>
                        <a:pt x="246" y="409"/>
                      </a:lnTo>
                      <a:lnTo>
                        <a:pt x="219" y="402"/>
                      </a:lnTo>
                      <a:lnTo>
                        <a:pt x="194" y="394"/>
                      </a:lnTo>
                      <a:lnTo>
                        <a:pt x="169" y="382"/>
                      </a:lnTo>
                      <a:lnTo>
                        <a:pt x="146" y="368"/>
                      </a:lnTo>
                      <a:lnTo>
                        <a:pt x="124" y="351"/>
                      </a:lnTo>
                      <a:lnTo>
                        <a:pt x="104" y="333"/>
                      </a:lnTo>
                      <a:lnTo>
                        <a:pt x="84" y="311"/>
                      </a:lnTo>
                      <a:lnTo>
                        <a:pt x="67" y="289"/>
                      </a:lnTo>
                      <a:lnTo>
                        <a:pt x="52" y="265"/>
                      </a:lnTo>
                      <a:lnTo>
                        <a:pt x="42" y="241"/>
                      </a:lnTo>
                      <a:lnTo>
                        <a:pt x="31" y="215"/>
                      </a:lnTo>
                      <a:lnTo>
                        <a:pt x="26" y="189"/>
                      </a:lnTo>
                      <a:lnTo>
                        <a:pt x="22" y="162"/>
                      </a:lnTo>
                      <a:lnTo>
                        <a:pt x="21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56600" y="3118680"/>
                  <a:ext cx="150120" cy="128880"/>
                </a:xfrm>
                <a:custGeom>
                  <a:avLst/>
                  <a:gdLst/>
                  <a:ahLst/>
                  <a:rect l="l" t="t" r="r" b="b"/>
                  <a:pathLst>
                    <a:path w="526" h="452">
                      <a:moveTo>
                        <a:pt x="22" y="129"/>
                      </a:moveTo>
                      <a:lnTo>
                        <a:pt x="23" y="94"/>
                      </a:lnTo>
                      <a:lnTo>
                        <a:pt x="29" y="61"/>
                      </a:lnTo>
                      <a:lnTo>
                        <a:pt x="36" y="29"/>
                      </a:lnTo>
                      <a:lnTo>
                        <a:pt x="49" y="0"/>
                      </a:lnTo>
                      <a:lnTo>
                        <a:pt x="23" y="6"/>
                      </a:lnTo>
                      <a:lnTo>
                        <a:pt x="13" y="35"/>
                      </a:lnTo>
                      <a:lnTo>
                        <a:pt x="6" y="65"/>
                      </a:lnTo>
                      <a:lnTo>
                        <a:pt x="1" y="96"/>
                      </a:lnTo>
                      <a:lnTo>
                        <a:pt x="0" y="129"/>
                      </a:lnTo>
                      <a:lnTo>
                        <a:pt x="1" y="161"/>
                      </a:lnTo>
                      <a:lnTo>
                        <a:pt x="6" y="192"/>
                      </a:lnTo>
                      <a:lnTo>
                        <a:pt x="8" y="207"/>
                      </a:lnTo>
                      <a:lnTo>
                        <a:pt x="13" y="223"/>
                      </a:lnTo>
                      <a:lnTo>
                        <a:pt x="24" y="252"/>
                      </a:lnTo>
                      <a:lnTo>
                        <a:pt x="36" y="280"/>
                      </a:lnTo>
                      <a:lnTo>
                        <a:pt x="53" y="307"/>
                      </a:lnTo>
                      <a:lnTo>
                        <a:pt x="73" y="333"/>
                      </a:lnTo>
                      <a:lnTo>
                        <a:pt x="95" y="358"/>
                      </a:lnTo>
                      <a:lnTo>
                        <a:pt x="118" y="378"/>
                      </a:lnTo>
                      <a:lnTo>
                        <a:pt x="144" y="397"/>
                      </a:lnTo>
                      <a:lnTo>
                        <a:pt x="170" y="413"/>
                      </a:lnTo>
                      <a:lnTo>
                        <a:pt x="199" y="428"/>
                      </a:lnTo>
                      <a:lnTo>
                        <a:pt x="227" y="437"/>
                      </a:lnTo>
                      <a:lnTo>
                        <a:pt x="259" y="445"/>
                      </a:lnTo>
                      <a:lnTo>
                        <a:pt x="290" y="450"/>
                      </a:lnTo>
                      <a:lnTo>
                        <a:pt x="324" y="452"/>
                      </a:lnTo>
                      <a:lnTo>
                        <a:pt x="352" y="451"/>
                      </a:lnTo>
                      <a:lnTo>
                        <a:pt x="365" y="449"/>
                      </a:lnTo>
                      <a:lnTo>
                        <a:pt x="372" y="447"/>
                      </a:lnTo>
                      <a:lnTo>
                        <a:pt x="380" y="447"/>
                      </a:lnTo>
                      <a:lnTo>
                        <a:pt x="386" y="445"/>
                      </a:lnTo>
                      <a:lnTo>
                        <a:pt x="392" y="444"/>
                      </a:lnTo>
                      <a:lnTo>
                        <a:pt x="406" y="442"/>
                      </a:lnTo>
                      <a:lnTo>
                        <a:pt x="419" y="437"/>
                      </a:lnTo>
                      <a:lnTo>
                        <a:pt x="432" y="434"/>
                      </a:lnTo>
                      <a:lnTo>
                        <a:pt x="444" y="428"/>
                      </a:lnTo>
                      <a:lnTo>
                        <a:pt x="456" y="424"/>
                      </a:lnTo>
                      <a:lnTo>
                        <a:pt x="481" y="411"/>
                      </a:lnTo>
                      <a:lnTo>
                        <a:pt x="504" y="396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3"/>
                      </a:lnTo>
                      <a:lnTo>
                        <a:pt x="504" y="370"/>
                      </a:lnTo>
                      <a:lnTo>
                        <a:pt x="481" y="386"/>
                      </a:lnTo>
                      <a:lnTo>
                        <a:pt x="456" y="399"/>
                      </a:lnTo>
                      <a:lnTo>
                        <a:pt x="449" y="401"/>
                      </a:lnTo>
                      <a:lnTo>
                        <a:pt x="447" y="401"/>
                      </a:lnTo>
                      <a:lnTo>
                        <a:pt x="446" y="402"/>
                      </a:lnTo>
                      <a:lnTo>
                        <a:pt x="444" y="404"/>
                      </a:lnTo>
                      <a:lnTo>
                        <a:pt x="432" y="411"/>
                      </a:lnTo>
                      <a:lnTo>
                        <a:pt x="419" y="415"/>
                      </a:lnTo>
                      <a:lnTo>
                        <a:pt x="406" y="419"/>
                      </a:lnTo>
                      <a:lnTo>
                        <a:pt x="392" y="421"/>
                      </a:lnTo>
                      <a:lnTo>
                        <a:pt x="386" y="422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5" y="426"/>
                      </a:lnTo>
                      <a:lnTo>
                        <a:pt x="352" y="428"/>
                      </a:lnTo>
                      <a:lnTo>
                        <a:pt x="324" y="430"/>
                      </a:lnTo>
                      <a:lnTo>
                        <a:pt x="293" y="428"/>
                      </a:lnTo>
                      <a:lnTo>
                        <a:pt x="263" y="425"/>
                      </a:lnTo>
                      <a:lnTo>
                        <a:pt x="234" y="417"/>
                      </a:lnTo>
                      <a:lnTo>
                        <a:pt x="208" y="408"/>
                      </a:lnTo>
                      <a:lnTo>
                        <a:pt x="180" y="394"/>
                      </a:lnTo>
                      <a:lnTo>
                        <a:pt x="156" y="379"/>
                      </a:lnTo>
                      <a:lnTo>
                        <a:pt x="132" y="361"/>
                      </a:lnTo>
                      <a:lnTo>
                        <a:pt x="110" y="342"/>
                      </a:lnTo>
                      <a:lnTo>
                        <a:pt x="89" y="318"/>
                      </a:lnTo>
                      <a:lnTo>
                        <a:pt x="78" y="306"/>
                      </a:lnTo>
                      <a:lnTo>
                        <a:pt x="70" y="294"/>
                      </a:lnTo>
                      <a:lnTo>
                        <a:pt x="56" y="269"/>
                      </a:lnTo>
                      <a:lnTo>
                        <a:pt x="43" y="244"/>
                      </a:lnTo>
                      <a:lnTo>
                        <a:pt x="33" y="216"/>
                      </a:lnTo>
                      <a:lnTo>
                        <a:pt x="29" y="201"/>
                      </a:lnTo>
                      <a:lnTo>
                        <a:pt x="26" y="188"/>
                      </a:lnTo>
                      <a:lnTo>
                        <a:pt x="23" y="158"/>
                      </a:lnTo>
                      <a:lnTo>
                        <a:pt x="22" y="129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87480" y="321876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4" h="398">
                      <a:moveTo>
                        <a:pt x="0" y="23"/>
                      </a:moveTo>
                      <a:lnTo>
                        <a:pt x="1" y="54"/>
                      </a:lnTo>
                      <a:lnTo>
                        <a:pt x="24" y="97"/>
                      </a:lnTo>
                      <a:lnTo>
                        <a:pt x="53" y="140"/>
                      </a:lnTo>
                      <a:lnTo>
                        <a:pt x="85" y="181"/>
                      </a:lnTo>
                      <a:lnTo>
                        <a:pt x="122" y="221"/>
                      </a:lnTo>
                      <a:lnTo>
                        <a:pt x="158" y="255"/>
                      </a:lnTo>
                      <a:lnTo>
                        <a:pt x="198" y="287"/>
                      </a:lnTo>
                      <a:lnTo>
                        <a:pt x="239" y="314"/>
                      </a:lnTo>
                      <a:lnTo>
                        <a:pt x="282" y="339"/>
                      </a:lnTo>
                      <a:lnTo>
                        <a:pt x="325" y="358"/>
                      </a:lnTo>
                      <a:lnTo>
                        <a:pt x="372" y="375"/>
                      </a:lnTo>
                      <a:lnTo>
                        <a:pt x="419" y="388"/>
                      </a:lnTo>
                      <a:lnTo>
                        <a:pt x="469" y="398"/>
                      </a:lnTo>
                      <a:lnTo>
                        <a:pt x="496" y="390"/>
                      </a:lnTo>
                      <a:lnTo>
                        <a:pt x="524" y="382"/>
                      </a:lnTo>
                      <a:lnTo>
                        <a:pt x="468" y="375"/>
                      </a:lnTo>
                      <a:lnTo>
                        <a:pt x="441" y="371"/>
                      </a:lnTo>
                      <a:lnTo>
                        <a:pt x="415" y="365"/>
                      </a:lnTo>
                      <a:lnTo>
                        <a:pt x="364" y="349"/>
                      </a:lnTo>
                      <a:lnTo>
                        <a:pt x="315" y="331"/>
                      </a:lnTo>
                      <a:lnTo>
                        <a:pt x="266" y="306"/>
                      </a:lnTo>
                      <a:lnTo>
                        <a:pt x="222" y="277"/>
                      </a:lnTo>
                      <a:lnTo>
                        <a:pt x="178" y="243"/>
                      </a:lnTo>
                      <a:lnTo>
                        <a:pt x="138" y="206"/>
                      </a:lnTo>
                      <a:lnTo>
                        <a:pt x="114" y="181"/>
                      </a:lnTo>
                      <a:lnTo>
                        <a:pt x="93" y="157"/>
                      </a:lnTo>
                      <a:lnTo>
                        <a:pt x="72" y="131"/>
                      </a:lnTo>
                      <a:lnTo>
                        <a:pt x="55" y="106"/>
                      </a:lnTo>
                      <a:lnTo>
                        <a:pt x="38" y="79"/>
                      </a:lnTo>
                      <a:lnTo>
                        <a:pt x="24" y="53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87480" y="3204360"/>
                  <a:ext cx="162360" cy="123120"/>
                </a:xfrm>
                <a:custGeom>
                  <a:avLst/>
                  <a:gdLst/>
                  <a:ahLst/>
                  <a:rect l="l" t="t" r="r" b="b"/>
                  <a:pathLst>
                    <a:path w="567" h="433">
                      <a:moveTo>
                        <a:pt x="6" y="0"/>
                      </a:moveTo>
                      <a:lnTo>
                        <a:pt x="1" y="25"/>
                      </a:lnTo>
                      <a:lnTo>
                        <a:pt x="0" y="51"/>
                      </a:lnTo>
                      <a:lnTo>
                        <a:pt x="10" y="77"/>
                      </a:lnTo>
                      <a:lnTo>
                        <a:pt x="24" y="104"/>
                      </a:lnTo>
                      <a:lnTo>
                        <a:pt x="38" y="130"/>
                      </a:lnTo>
                      <a:lnTo>
                        <a:pt x="55" y="157"/>
                      </a:lnTo>
                      <a:lnTo>
                        <a:pt x="72" y="182"/>
                      </a:lnTo>
                      <a:lnTo>
                        <a:pt x="93" y="208"/>
                      </a:lnTo>
                      <a:lnTo>
                        <a:pt x="114" y="232"/>
                      </a:lnTo>
                      <a:lnTo>
                        <a:pt x="138" y="257"/>
                      </a:lnTo>
                      <a:lnTo>
                        <a:pt x="178" y="294"/>
                      </a:lnTo>
                      <a:lnTo>
                        <a:pt x="222" y="328"/>
                      </a:lnTo>
                      <a:lnTo>
                        <a:pt x="266" y="357"/>
                      </a:lnTo>
                      <a:lnTo>
                        <a:pt x="315" y="382"/>
                      </a:lnTo>
                      <a:lnTo>
                        <a:pt x="364" y="400"/>
                      </a:lnTo>
                      <a:lnTo>
                        <a:pt x="415" y="416"/>
                      </a:lnTo>
                      <a:lnTo>
                        <a:pt x="441" y="422"/>
                      </a:lnTo>
                      <a:lnTo>
                        <a:pt x="468" y="426"/>
                      </a:lnTo>
                      <a:lnTo>
                        <a:pt x="524" y="433"/>
                      </a:lnTo>
                      <a:lnTo>
                        <a:pt x="567" y="413"/>
                      </a:lnTo>
                      <a:lnTo>
                        <a:pt x="565" y="413"/>
                      </a:lnTo>
                      <a:lnTo>
                        <a:pt x="535" y="411"/>
                      </a:lnTo>
                      <a:lnTo>
                        <a:pt x="505" y="409"/>
                      </a:lnTo>
                      <a:lnTo>
                        <a:pt x="476" y="406"/>
                      </a:lnTo>
                      <a:lnTo>
                        <a:pt x="448" y="401"/>
                      </a:lnTo>
                      <a:lnTo>
                        <a:pt x="392" y="388"/>
                      </a:lnTo>
                      <a:lnTo>
                        <a:pt x="341" y="369"/>
                      </a:lnTo>
                      <a:lnTo>
                        <a:pt x="290" y="345"/>
                      </a:lnTo>
                      <a:lnTo>
                        <a:pt x="241" y="315"/>
                      </a:lnTo>
                      <a:lnTo>
                        <a:pt x="217" y="298"/>
                      </a:lnTo>
                      <a:lnTo>
                        <a:pt x="195" y="280"/>
                      </a:lnTo>
                      <a:lnTo>
                        <a:pt x="153" y="241"/>
                      </a:lnTo>
                      <a:lnTo>
                        <a:pt x="127" y="213"/>
                      </a:lnTo>
                      <a:lnTo>
                        <a:pt x="103" y="186"/>
                      </a:lnTo>
                      <a:lnTo>
                        <a:pt x="81" y="156"/>
                      </a:lnTo>
                      <a:lnTo>
                        <a:pt x="62" y="127"/>
                      </a:lnTo>
                      <a:lnTo>
                        <a:pt x="44" y="95"/>
                      </a:lnTo>
                      <a:lnTo>
                        <a:pt x="29" y="64"/>
                      </a:lnTo>
                      <a:lnTo>
                        <a:pt x="17" y="3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89640" y="3191760"/>
                  <a:ext cx="170280" cy="129960"/>
                </a:xfrm>
                <a:custGeom>
                  <a:avLst/>
                  <a:gdLst/>
                  <a:ahLst/>
                  <a:rect l="l" t="t" r="r" b="b"/>
                  <a:pathLst>
                    <a:path w="597" h="457">
                      <a:moveTo>
                        <a:pt x="11" y="0"/>
                      </a:moveTo>
                      <a:lnTo>
                        <a:pt x="0" y="44"/>
                      </a:lnTo>
                      <a:lnTo>
                        <a:pt x="11" y="76"/>
                      </a:lnTo>
                      <a:lnTo>
                        <a:pt x="23" y="108"/>
                      </a:lnTo>
                      <a:lnTo>
                        <a:pt x="38" y="139"/>
                      </a:lnTo>
                      <a:lnTo>
                        <a:pt x="56" y="171"/>
                      </a:lnTo>
                      <a:lnTo>
                        <a:pt x="75" y="200"/>
                      </a:lnTo>
                      <a:lnTo>
                        <a:pt x="97" y="230"/>
                      </a:lnTo>
                      <a:lnTo>
                        <a:pt x="121" y="257"/>
                      </a:lnTo>
                      <a:lnTo>
                        <a:pt x="147" y="285"/>
                      </a:lnTo>
                      <a:lnTo>
                        <a:pt x="189" y="324"/>
                      </a:lnTo>
                      <a:lnTo>
                        <a:pt x="211" y="342"/>
                      </a:lnTo>
                      <a:lnTo>
                        <a:pt x="235" y="359"/>
                      </a:lnTo>
                      <a:lnTo>
                        <a:pt x="284" y="389"/>
                      </a:lnTo>
                      <a:lnTo>
                        <a:pt x="335" y="413"/>
                      </a:lnTo>
                      <a:lnTo>
                        <a:pt x="386" y="432"/>
                      </a:lnTo>
                      <a:lnTo>
                        <a:pt x="442" y="445"/>
                      </a:lnTo>
                      <a:lnTo>
                        <a:pt x="470" y="450"/>
                      </a:lnTo>
                      <a:lnTo>
                        <a:pt x="499" y="453"/>
                      </a:lnTo>
                      <a:lnTo>
                        <a:pt x="529" y="455"/>
                      </a:lnTo>
                      <a:lnTo>
                        <a:pt x="559" y="457"/>
                      </a:lnTo>
                      <a:lnTo>
                        <a:pt x="561" y="457"/>
                      </a:lnTo>
                      <a:lnTo>
                        <a:pt x="597" y="434"/>
                      </a:lnTo>
                      <a:lnTo>
                        <a:pt x="559" y="435"/>
                      </a:lnTo>
                      <a:lnTo>
                        <a:pt x="530" y="434"/>
                      </a:lnTo>
                      <a:lnTo>
                        <a:pt x="502" y="432"/>
                      </a:lnTo>
                      <a:lnTo>
                        <a:pt x="473" y="428"/>
                      </a:lnTo>
                      <a:lnTo>
                        <a:pt x="446" y="424"/>
                      </a:lnTo>
                      <a:lnTo>
                        <a:pt x="393" y="410"/>
                      </a:lnTo>
                      <a:lnTo>
                        <a:pt x="368" y="402"/>
                      </a:lnTo>
                      <a:lnTo>
                        <a:pt x="343" y="393"/>
                      </a:lnTo>
                      <a:lnTo>
                        <a:pt x="318" y="382"/>
                      </a:lnTo>
                      <a:lnTo>
                        <a:pt x="294" y="369"/>
                      </a:lnTo>
                      <a:lnTo>
                        <a:pt x="248" y="342"/>
                      </a:lnTo>
                      <a:lnTo>
                        <a:pt x="203" y="308"/>
                      </a:lnTo>
                      <a:lnTo>
                        <a:pt x="182" y="290"/>
                      </a:lnTo>
                      <a:lnTo>
                        <a:pt x="161" y="271"/>
                      </a:lnTo>
                      <a:lnTo>
                        <a:pt x="133" y="240"/>
                      </a:lnTo>
                      <a:lnTo>
                        <a:pt x="107" y="209"/>
                      </a:lnTo>
                      <a:lnTo>
                        <a:pt x="95" y="192"/>
                      </a:lnTo>
                      <a:lnTo>
                        <a:pt x="84" y="177"/>
                      </a:lnTo>
                      <a:lnTo>
                        <a:pt x="65" y="144"/>
                      </a:lnTo>
                      <a:lnTo>
                        <a:pt x="55" y="125"/>
                      </a:lnTo>
                      <a:lnTo>
                        <a:pt x="47" y="108"/>
                      </a:lnTo>
                      <a:lnTo>
                        <a:pt x="32" y="73"/>
                      </a:lnTo>
                      <a:lnTo>
                        <a:pt x="20" y="3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92520" y="3180960"/>
                  <a:ext cx="176040" cy="135360"/>
                </a:xfrm>
                <a:custGeom>
                  <a:avLst/>
                  <a:gdLst/>
                  <a:ahLst/>
                  <a:rect l="l" t="t" r="r" b="b"/>
                  <a:pathLst>
                    <a:path w="616" h="474">
                      <a:moveTo>
                        <a:pt x="14" y="0"/>
                      </a:moveTo>
                      <a:lnTo>
                        <a:pt x="0" y="39"/>
                      </a:lnTo>
                      <a:lnTo>
                        <a:pt x="9" y="75"/>
                      </a:lnTo>
                      <a:lnTo>
                        <a:pt x="21" y="112"/>
                      </a:lnTo>
                      <a:lnTo>
                        <a:pt x="36" y="147"/>
                      </a:lnTo>
                      <a:lnTo>
                        <a:pt x="44" y="164"/>
                      </a:lnTo>
                      <a:lnTo>
                        <a:pt x="54" y="183"/>
                      </a:lnTo>
                      <a:lnTo>
                        <a:pt x="73" y="216"/>
                      </a:lnTo>
                      <a:lnTo>
                        <a:pt x="84" y="231"/>
                      </a:lnTo>
                      <a:lnTo>
                        <a:pt x="96" y="248"/>
                      </a:lnTo>
                      <a:lnTo>
                        <a:pt x="122" y="279"/>
                      </a:lnTo>
                      <a:lnTo>
                        <a:pt x="150" y="310"/>
                      </a:lnTo>
                      <a:lnTo>
                        <a:pt x="171" y="329"/>
                      </a:lnTo>
                      <a:lnTo>
                        <a:pt x="192" y="347"/>
                      </a:lnTo>
                      <a:lnTo>
                        <a:pt x="237" y="381"/>
                      </a:lnTo>
                      <a:lnTo>
                        <a:pt x="283" y="408"/>
                      </a:lnTo>
                      <a:lnTo>
                        <a:pt x="307" y="421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5" y="463"/>
                      </a:lnTo>
                      <a:lnTo>
                        <a:pt x="462" y="467"/>
                      </a:lnTo>
                      <a:lnTo>
                        <a:pt x="491" y="471"/>
                      </a:lnTo>
                      <a:lnTo>
                        <a:pt x="519" y="473"/>
                      </a:lnTo>
                      <a:lnTo>
                        <a:pt x="548" y="474"/>
                      </a:lnTo>
                      <a:lnTo>
                        <a:pt x="586" y="473"/>
                      </a:lnTo>
                      <a:lnTo>
                        <a:pt x="593" y="466"/>
                      </a:lnTo>
                      <a:lnTo>
                        <a:pt x="594" y="464"/>
                      </a:lnTo>
                      <a:lnTo>
                        <a:pt x="596" y="463"/>
                      </a:lnTo>
                      <a:lnTo>
                        <a:pt x="601" y="460"/>
                      </a:lnTo>
                      <a:lnTo>
                        <a:pt x="616" y="449"/>
                      </a:lnTo>
                      <a:lnTo>
                        <a:pt x="582" y="451"/>
                      </a:lnTo>
                      <a:lnTo>
                        <a:pt x="548" y="452"/>
                      </a:lnTo>
                      <a:lnTo>
                        <a:pt x="520" y="451"/>
                      </a:lnTo>
                      <a:lnTo>
                        <a:pt x="493" y="449"/>
                      </a:lnTo>
                      <a:lnTo>
                        <a:pt x="440" y="442"/>
                      </a:lnTo>
                      <a:lnTo>
                        <a:pt x="389" y="429"/>
                      </a:lnTo>
                      <a:lnTo>
                        <a:pt x="340" y="413"/>
                      </a:lnTo>
                      <a:lnTo>
                        <a:pt x="292" y="390"/>
                      </a:lnTo>
                      <a:lnTo>
                        <a:pt x="248" y="363"/>
                      </a:lnTo>
                      <a:lnTo>
                        <a:pt x="226" y="347"/>
                      </a:lnTo>
                      <a:lnTo>
                        <a:pt x="206" y="330"/>
                      </a:lnTo>
                      <a:lnTo>
                        <a:pt x="166" y="294"/>
                      </a:lnTo>
                      <a:lnTo>
                        <a:pt x="136" y="261"/>
                      </a:lnTo>
                      <a:lnTo>
                        <a:pt x="109" y="227"/>
                      </a:lnTo>
                      <a:lnTo>
                        <a:pt x="85" y="192"/>
                      </a:lnTo>
                      <a:lnTo>
                        <a:pt x="73" y="174"/>
                      </a:lnTo>
                      <a:lnTo>
                        <a:pt x="64" y="157"/>
                      </a:lnTo>
                      <a:lnTo>
                        <a:pt x="54" y="137"/>
                      </a:lnTo>
                      <a:lnTo>
                        <a:pt x="46" y="119"/>
                      </a:lnTo>
                      <a:lnTo>
                        <a:pt x="33" y="81"/>
                      </a:lnTo>
                      <a:lnTo>
                        <a:pt x="26" y="60"/>
                      </a:lnTo>
                      <a:lnTo>
                        <a:pt x="21" y="4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96480" y="3171240"/>
                  <a:ext cx="180000" cy="138600"/>
                </a:xfrm>
                <a:custGeom>
                  <a:avLst/>
                  <a:gdLst/>
                  <a:ahLst/>
                  <a:rect l="l" t="t" r="r" b="b"/>
                  <a:pathLst>
                    <a:path w="630" h="486">
                      <a:moveTo>
                        <a:pt x="19" y="0"/>
                      </a:moveTo>
                      <a:lnTo>
                        <a:pt x="0" y="34"/>
                      </a:lnTo>
                      <a:lnTo>
                        <a:pt x="7" y="75"/>
                      </a:lnTo>
                      <a:lnTo>
                        <a:pt x="12" y="94"/>
                      </a:lnTo>
                      <a:lnTo>
                        <a:pt x="19" y="115"/>
                      </a:lnTo>
                      <a:lnTo>
                        <a:pt x="32" y="153"/>
                      </a:lnTo>
                      <a:lnTo>
                        <a:pt x="40" y="171"/>
                      </a:lnTo>
                      <a:lnTo>
                        <a:pt x="50" y="191"/>
                      </a:lnTo>
                      <a:lnTo>
                        <a:pt x="59" y="208"/>
                      </a:lnTo>
                      <a:lnTo>
                        <a:pt x="71" y="226"/>
                      </a:lnTo>
                      <a:lnTo>
                        <a:pt x="95" y="261"/>
                      </a:lnTo>
                      <a:lnTo>
                        <a:pt x="122" y="295"/>
                      </a:lnTo>
                      <a:lnTo>
                        <a:pt x="152" y="328"/>
                      </a:lnTo>
                      <a:lnTo>
                        <a:pt x="192" y="364"/>
                      </a:lnTo>
                      <a:lnTo>
                        <a:pt x="212" y="381"/>
                      </a:lnTo>
                      <a:lnTo>
                        <a:pt x="234" y="397"/>
                      </a:lnTo>
                      <a:lnTo>
                        <a:pt x="278" y="424"/>
                      </a:lnTo>
                      <a:lnTo>
                        <a:pt x="326" y="447"/>
                      </a:lnTo>
                      <a:lnTo>
                        <a:pt x="375" y="463"/>
                      </a:lnTo>
                      <a:lnTo>
                        <a:pt x="426" y="476"/>
                      </a:lnTo>
                      <a:lnTo>
                        <a:pt x="479" y="483"/>
                      </a:lnTo>
                      <a:lnTo>
                        <a:pt x="506" y="485"/>
                      </a:lnTo>
                      <a:lnTo>
                        <a:pt x="534" y="486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4" y="463"/>
                      </a:lnTo>
                      <a:lnTo>
                        <a:pt x="630" y="457"/>
                      </a:lnTo>
                      <a:lnTo>
                        <a:pt x="582" y="463"/>
                      </a:lnTo>
                      <a:lnTo>
                        <a:pt x="534" y="465"/>
                      </a:lnTo>
                      <a:lnTo>
                        <a:pt x="507" y="464"/>
                      </a:lnTo>
                      <a:lnTo>
                        <a:pt x="481" y="462"/>
                      </a:lnTo>
                      <a:lnTo>
                        <a:pt x="430" y="455"/>
                      </a:lnTo>
                      <a:lnTo>
                        <a:pt x="405" y="449"/>
                      </a:lnTo>
                      <a:lnTo>
                        <a:pt x="381" y="442"/>
                      </a:lnTo>
                      <a:lnTo>
                        <a:pt x="335" y="426"/>
                      </a:lnTo>
                      <a:lnTo>
                        <a:pt x="288" y="404"/>
                      </a:lnTo>
                      <a:lnTo>
                        <a:pt x="246" y="379"/>
                      </a:lnTo>
                      <a:lnTo>
                        <a:pt x="205" y="347"/>
                      </a:lnTo>
                      <a:lnTo>
                        <a:pt x="167" y="313"/>
                      </a:lnTo>
                      <a:lnTo>
                        <a:pt x="150" y="295"/>
                      </a:lnTo>
                      <a:lnTo>
                        <a:pt x="135" y="278"/>
                      </a:lnTo>
                      <a:lnTo>
                        <a:pt x="121" y="260"/>
                      </a:lnTo>
                      <a:lnTo>
                        <a:pt x="108" y="243"/>
                      </a:lnTo>
                      <a:lnTo>
                        <a:pt x="95" y="223"/>
                      </a:lnTo>
                      <a:lnTo>
                        <a:pt x="83" y="205"/>
                      </a:lnTo>
                      <a:lnTo>
                        <a:pt x="64" y="168"/>
                      </a:lnTo>
                      <a:lnTo>
                        <a:pt x="46" y="127"/>
                      </a:lnTo>
                      <a:lnTo>
                        <a:pt x="33" y="86"/>
                      </a:lnTo>
                      <a:lnTo>
                        <a:pt x="23" y="4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401880" y="3162240"/>
                  <a:ext cx="181800" cy="141480"/>
                </a:xfrm>
                <a:custGeom>
                  <a:avLst/>
                  <a:gdLst/>
                  <a:ahLst/>
                  <a:rect l="l" t="t" r="r" b="b"/>
                  <a:pathLst>
                    <a:path w="635" h="496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4" y="74"/>
                      </a:lnTo>
                      <a:lnTo>
                        <a:pt x="14" y="117"/>
                      </a:lnTo>
                      <a:lnTo>
                        <a:pt x="27" y="158"/>
                      </a:lnTo>
                      <a:lnTo>
                        <a:pt x="45" y="199"/>
                      </a:lnTo>
                      <a:lnTo>
                        <a:pt x="64" y="236"/>
                      </a:lnTo>
                      <a:lnTo>
                        <a:pt x="76" y="254"/>
                      </a:lnTo>
                      <a:lnTo>
                        <a:pt x="89" y="274"/>
                      </a:lnTo>
                      <a:lnTo>
                        <a:pt x="102" y="291"/>
                      </a:lnTo>
                      <a:lnTo>
                        <a:pt x="116" y="309"/>
                      </a:lnTo>
                      <a:lnTo>
                        <a:pt x="131" y="326"/>
                      </a:lnTo>
                      <a:lnTo>
                        <a:pt x="148" y="344"/>
                      </a:lnTo>
                      <a:lnTo>
                        <a:pt x="186" y="378"/>
                      </a:lnTo>
                      <a:lnTo>
                        <a:pt x="227" y="410"/>
                      </a:lnTo>
                      <a:lnTo>
                        <a:pt x="269" y="435"/>
                      </a:lnTo>
                      <a:lnTo>
                        <a:pt x="316" y="457"/>
                      </a:lnTo>
                      <a:lnTo>
                        <a:pt x="362" y="473"/>
                      </a:lnTo>
                      <a:lnTo>
                        <a:pt x="386" y="480"/>
                      </a:lnTo>
                      <a:lnTo>
                        <a:pt x="411" y="486"/>
                      </a:lnTo>
                      <a:lnTo>
                        <a:pt x="462" y="493"/>
                      </a:lnTo>
                      <a:lnTo>
                        <a:pt x="488" y="495"/>
                      </a:lnTo>
                      <a:lnTo>
                        <a:pt x="515" y="496"/>
                      </a:lnTo>
                      <a:lnTo>
                        <a:pt x="563" y="494"/>
                      </a:lnTo>
                      <a:lnTo>
                        <a:pt x="611" y="488"/>
                      </a:lnTo>
                      <a:lnTo>
                        <a:pt x="635" y="461"/>
                      </a:lnTo>
                      <a:lnTo>
                        <a:pt x="605" y="466"/>
                      </a:lnTo>
                      <a:lnTo>
                        <a:pt x="576" y="471"/>
                      </a:lnTo>
                      <a:lnTo>
                        <a:pt x="545" y="473"/>
                      </a:lnTo>
                      <a:lnTo>
                        <a:pt x="515" y="474"/>
                      </a:lnTo>
                      <a:lnTo>
                        <a:pt x="464" y="472"/>
                      </a:lnTo>
                      <a:lnTo>
                        <a:pt x="416" y="465"/>
                      </a:lnTo>
                      <a:lnTo>
                        <a:pt x="368" y="454"/>
                      </a:lnTo>
                      <a:lnTo>
                        <a:pt x="324" y="438"/>
                      </a:lnTo>
                      <a:lnTo>
                        <a:pt x="280" y="418"/>
                      </a:lnTo>
                      <a:lnTo>
                        <a:pt x="240" y="393"/>
                      </a:lnTo>
                      <a:lnTo>
                        <a:pt x="200" y="363"/>
                      </a:lnTo>
                      <a:lnTo>
                        <a:pt x="164" y="329"/>
                      </a:lnTo>
                      <a:lnTo>
                        <a:pt x="130" y="293"/>
                      </a:lnTo>
                      <a:lnTo>
                        <a:pt x="115" y="274"/>
                      </a:lnTo>
                      <a:lnTo>
                        <a:pt x="103" y="256"/>
                      </a:lnTo>
                      <a:lnTo>
                        <a:pt x="78" y="217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0" y="92"/>
                      </a:lnTo>
                      <a:lnTo>
                        <a:pt x="21" y="47"/>
                      </a:lnTo>
                      <a:lnTo>
                        <a:pt x="19" y="2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398280" y="3273480"/>
                  <a:ext cx="78840" cy="59760"/>
                </a:xfrm>
                <a:custGeom>
                  <a:avLst/>
                  <a:gdLst/>
                  <a:ahLst/>
                  <a:rect l="l" t="t" r="r" b="b"/>
                  <a:pathLst>
                    <a:path w="277" h="211">
                      <a:moveTo>
                        <a:pt x="55" y="62"/>
                      </a:moveTo>
                      <a:lnTo>
                        <a:pt x="26" y="31"/>
                      </a:lnTo>
                      <a:lnTo>
                        <a:pt x="0" y="0"/>
                      </a:lnTo>
                      <a:lnTo>
                        <a:pt x="15" y="26"/>
                      </a:lnTo>
                      <a:lnTo>
                        <a:pt x="32" y="54"/>
                      </a:lnTo>
                      <a:lnTo>
                        <a:pt x="51" y="79"/>
                      </a:lnTo>
                      <a:lnTo>
                        <a:pt x="75" y="105"/>
                      </a:lnTo>
                      <a:lnTo>
                        <a:pt x="96" y="124"/>
                      </a:lnTo>
                      <a:lnTo>
                        <a:pt x="119" y="143"/>
                      </a:lnTo>
                      <a:lnTo>
                        <a:pt x="143" y="159"/>
                      </a:lnTo>
                      <a:lnTo>
                        <a:pt x="168" y="174"/>
                      </a:lnTo>
                      <a:lnTo>
                        <a:pt x="193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7" y="211"/>
                      </a:lnTo>
                      <a:lnTo>
                        <a:pt x="246" y="198"/>
                      </a:lnTo>
                      <a:lnTo>
                        <a:pt x="217" y="183"/>
                      </a:lnTo>
                      <a:lnTo>
                        <a:pt x="187" y="166"/>
                      </a:lnTo>
                      <a:lnTo>
                        <a:pt x="160" y="149"/>
                      </a:lnTo>
                      <a:lnTo>
                        <a:pt x="132" y="128"/>
                      </a:lnTo>
                      <a:lnTo>
                        <a:pt x="106" y="108"/>
                      </a:lnTo>
                      <a:lnTo>
                        <a:pt x="79" y="85"/>
                      </a:lnTo>
                      <a:lnTo>
                        <a:pt x="55" y="62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90360" y="3251880"/>
                  <a:ext cx="11196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3">
                      <a:moveTo>
                        <a:pt x="27" y="76"/>
                      </a:moveTo>
                      <a:lnTo>
                        <a:pt x="53" y="107"/>
                      </a:lnTo>
                      <a:lnTo>
                        <a:pt x="82" y="138"/>
                      </a:lnTo>
                      <a:lnTo>
                        <a:pt x="106" y="161"/>
                      </a:lnTo>
                      <a:lnTo>
                        <a:pt x="133" y="184"/>
                      </a:lnTo>
                      <a:lnTo>
                        <a:pt x="159" y="204"/>
                      </a:lnTo>
                      <a:lnTo>
                        <a:pt x="187" y="225"/>
                      </a:lnTo>
                      <a:lnTo>
                        <a:pt x="214" y="242"/>
                      </a:lnTo>
                      <a:lnTo>
                        <a:pt x="244" y="259"/>
                      </a:lnTo>
                      <a:lnTo>
                        <a:pt x="273" y="274"/>
                      </a:lnTo>
                      <a:lnTo>
                        <a:pt x="304" y="287"/>
                      </a:lnTo>
                      <a:lnTo>
                        <a:pt x="337" y="291"/>
                      </a:lnTo>
                      <a:lnTo>
                        <a:pt x="373" y="293"/>
                      </a:lnTo>
                      <a:lnTo>
                        <a:pt x="391" y="293"/>
                      </a:lnTo>
                      <a:lnTo>
                        <a:pt x="349" y="280"/>
                      </a:lnTo>
                      <a:lnTo>
                        <a:pt x="309" y="266"/>
                      </a:lnTo>
                      <a:lnTo>
                        <a:pt x="271" y="248"/>
                      </a:lnTo>
                      <a:lnTo>
                        <a:pt x="235" y="228"/>
                      </a:lnTo>
                      <a:lnTo>
                        <a:pt x="197" y="204"/>
                      </a:lnTo>
                      <a:lnTo>
                        <a:pt x="162" y="181"/>
                      </a:lnTo>
                      <a:lnTo>
                        <a:pt x="128" y="152"/>
                      </a:lnTo>
                      <a:lnTo>
                        <a:pt x="96" y="123"/>
                      </a:lnTo>
                      <a:lnTo>
                        <a:pt x="68" y="92"/>
                      </a:lnTo>
                      <a:lnTo>
                        <a:pt x="43" y="63"/>
                      </a:lnTo>
                      <a:lnTo>
                        <a:pt x="19" y="31"/>
                      </a:lnTo>
                      <a:lnTo>
                        <a:pt x="0" y="0"/>
                      </a:lnTo>
                      <a:lnTo>
                        <a:pt x="11" y="39"/>
                      </a:lnTo>
                      <a:lnTo>
                        <a:pt x="18" y="57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388200" y="323460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8" h="353">
                      <a:moveTo>
                        <a:pt x="9" y="60"/>
                      </a:moveTo>
                      <a:lnTo>
                        <a:pt x="28" y="91"/>
                      </a:lnTo>
                      <a:lnTo>
                        <a:pt x="52" y="123"/>
                      </a:lnTo>
                      <a:lnTo>
                        <a:pt x="77" y="152"/>
                      </a:lnTo>
                      <a:lnTo>
                        <a:pt x="105" y="183"/>
                      </a:lnTo>
                      <a:lnTo>
                        <a:pt x="137" y="212"/>
                      </a:lnTo>
                      <a:lnTo>
                        <a:pt x="171" y="241"/>
                      </a:lnTo>
                      <a:lnTo>
                        <a:pt x="206" y="264"/>
                      </a:lnTo>
                      <a:lnTo>
                        <a:pt x="244" y="288"/>
                      </a:lnTo>
                      <a:lnTo>
                        <a:pt x="280" y="308"/>
                      </a:lnTo>
                      <a:lnTo>
                        <a:pt x="318" y="326"/>
                      </a:lnTo>
                      <a:lnTo>
                        <a:pt x="358" y="340"/>
                      </a:lnTo>
                      <a:lnTo>
                        <a:pt x="400" y="353"/>
                      </a:lnTo>
                      <a:lnTo>
                        <a:pt x="434" y="350"/>
                      </a:lnTo>
                      <a:lnTo>
                        <a:pt x="468" y="344"/>
                      </a:lnTo>
                      <a:lnTo>
                        <a:pt x="418" y="334"/>
                      </a:lnTo>
                      <a:lnTo>
                        <a:pt x="371" y="321"/>
                      </a:lnTo>
                      <a:lnTo>
                        <a:pt x="324" y="304"/>
                      </a:lnTo>
                      <a:lnTo>
                        <a:pt x="281" y="285"/>
                      </a:lnTo>
                      <a:lnTo>
                        <a:pt x="238" y="260"/>
                      </a:lnTo>
                      <a:lnTo>
                        <a:pt x="197" y="233"/>
                      </a:lnTo>
                      <a:lnTo>
                        <a:pt x="157" y="201"/>
                      </a:lnTo>
                      <a:lnTo>
                        <a:pt x="121" y="167"/>
                      </a:lnTo>
                      <a:lnTo>
                        <a:pt x="84" y="127"/>
                      </a:lnTo>
                      <a:lnTo>
                        <a:pt x="52" y="86"/>
                      </a:lnTo>
                      <a:lnTo>
                        <a:pt x="23" y="43"/>
                      </a:lnTo>
                      <a:lnTo>
                        <a:pt x="0" y="0"/>
                      </a:lnTo>
                      <a:lnTo>
                        <a:pt x="3" y="30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387480" y="3115800"/>
                  <a:ext cx="219600" cy="219240"/>
                </a:xfrm>
                <a:custGeom>
                  <a:avLst/>
                  <a:gdLst/>
                  <a:ahLst/>
                  <a:rect l="l" t="t" r="r" b="b"/>
                  <a:pathLst>
                    <a:path w="767" h="768">
                      <a:moveTo>
                        <a:pt x="383" y="0"/>
                      </a:moveTo>
                      <a:lnTo>
                        <a:pt x="343" y="1"/>
                      </a:lnTo>
                      <a:lnTo>
                        <a:pt x="306" y="7"/>
                      </a:lnTo>
                      <a:lnTo>
                        <a:pt x="270" y="15"/>
                      </a:lnTo>
                      <a:lnTo>
                        <a:pt x="236" y="28"/>
                      </a:lnTo>
                      <a:lnTo>
                        <a:pt x="202" y="42"/>
                      </a:lnTo>
                      <a:lnTo>
                        <a:pt x="170" y="63"/>
                      </a:lnTo>
                      <a:lnTo>
                        <a:pt x="139" y="85"/>
                      </a:lnTo>
                      <a:lnTo>
                        <a:pt x="112" y="113"/>
                      </a:lnTo>
                      <a:lnTo>
                        <a:pt x="85" y="140"/>
                      </a:lnTo>
                      <a:lnTo>
                        <a:pt x="62" y="170"/>
                      </a:lnTo>
                      <a:lnTo>
                        <a:pt x="42" y="202"/>
                      </a:lnTo>
                      <a:lnTo>
                        <a:pt x="27" y="236"/>
                      </a:lnTo>
                      <a:lnTo>
                        <a:pt x="14" y="270"/>
                      </a:lnTo>
                      <a:lnTo>
                        <a:pt x="6" y="306"/>
                      </a:lnTo>
                      <a:lnTo>
                        <a:pt x="1" y="344"/>
                      </a:lnTo>
                      <a:lnTo>
                        <a:pt x="0" y="384"/>
                      </a:lnTo>
                      <a:lnTo>
                        <a:pt x="1" y="422"/>
                      </a:lnTo>
                      <a:lnTo>
                        <a:pt x="6" y="460"/>
                      </a:lnTo>
                      <a:lnTo>
                        <a:pt x="14" y="496"/>
                      </a:lnTo>
                      <a:lnTo>
                        <a:pt x="27" y="531"/>
                      </a:lnTo>
                      <a:lnTo>
                        <a:pt x="42" y="564"/>
                      </a:lnTo>
                      <a:lnTo>
                        <a:pt x="62" y="596"/>
                      </a:lnTo>
                      <a:lnTo>
                        <a:pt x="72" y="610"/>
                      </a:lnTo>
                      <a:lnTo>
                        <a:pt x="85" y="626"/>
                      </a:lnTo>
                      <a:lnTo>
                        <a:pt x="112" y="656"/>
                      </a:lnTo>
                      <a:lnTo>
                        <a:pt x="139" y="681"/>
                      </a:lnTo>
                      <a:lnTo>
                        <a:pt x="170" y="703"/>
                      </a:lnTo>
                      <a:lnTo>
                        <a:pt x="202" y="723"/>
                      </a:lnTo>
                      <a:lnTo>
                        <a:pt x="236" y="740"/>
                      </a:lnTo>
                      <a:lnTo>
                        <a:pt x="270" y="751"/>
                      </a:lnTo>
                      <a:lnTo>
                        <a:pt x="306" y="760"/>
                      </a:lnTo>
                      <a:lnTo>
                        <a:pt x="343" y="766"/>
                      </a:lnTo>
                      <a:lnTo>
                        <a:pt x="383" y="768"/>
                      </a:lnTo>
                      <a:lnTo>
                        <a:pt x="421" y="766"/>
                      </a:lnTo>
                      <a:lnTo>
                        <a:pt x="440" y="762"/>
                      </a:lnTo>
                      <a:lnTo>
                        <a:pt x="459" y="760"/>
                      </a:lnTo>
                      <a:lnTo>
                        <a:pt x="495" y="751"/>
                      </a:lnTo>
                      <a:lnTo>
                        <a:pt x="499" y="749"/>
                      </a:lnTo>
                      <a:lnTo>
                        <a:pt x="503" y="747"/>
                      </a:lnTo>
                      <a:lnTo>
                        <a:pt x="512" y="745"/>
                      </a:lnTo>
                      <a:lnTo>
                        <a:pt x="530" y="740"/>
                      </a:lnTo>
                      <a:lnTo>
                        <a:pt x="546" y="730"/>
                      </a:lnTo>
                      <a:lnTo>
                        <a:pt x="554" y="726"/>
                      </a:lnTo>
                      <a:lnTo>
                        <a:pt x="563" y="723"/>
                      </a:lnTo>
                      <a:lnTo>
                        <a:pt x="595" y="703"/>
                      </a:lnTo>
                      <a:lnTo>
                        <a:pt x="610" y="692"/>
                      </a:lnTo>
                      <a:lnTo>
                        <a:pt x="626" y="681"/>
                      </a:lnTo>
                      <a:lnTo>
                        <a:pt x="655" y="656"/>
                      </a:lnTo>
                      <a:lnTo>
                        <a:pt x="680" y="626"/>
                      </a:lnTo>
                      <a:lnTo>
                        <a:pt x="691" y="610"/>
                      </a:lnTo>
                      <a:lnTo>
                        <a:pt x="703" y="596"/>
                      </a:lnTo>
                      <a:lnTo>
                        <a:pt x="722" y="564"/>
                      </a:lnTo>
                      <a:lnTo>
                        <a:pt x="725" y="555"/>
                      </a:lnTo>
                      <a:lnTo>
                        <a:pt x="730" y="547"/>
                      </a:lnTo>
                      <a:lnTo>
                        <a:pt x="739" y="531"/>
                      </a:lnTo>
                      <a:lnTo>
                        <a:pt x="745" y="513"/>
                      </a:lnTo>
                      <a:lnTo>
                        <a:pt x="747" y="504"/>
                      </a:lnTo>
                      <a:lnTo>
                        <a:pt x="748" y="499"/>
                      </a:lnTo>
                      <a:lnTo>
                        <a:pt x="750" y="496"/>
                      </a:lnTo>
                      <a:lnTo>
                        <a:pt x="759" y="460"/>
                      </a:lnTo>
                      <a:lnTo>
                        <a:pt x="762" y="440"/>
                      </a:lnTo>
                      <a:lnTo>
                        <a:pt x="765" y="422"/>
                      </a:lnTo>
                      <a:lnTo>
                        <a:pt x="767" y="384"/>
                      </a:lnTo>
                      <a:lnTo>
                        <a:pt x="765" y="344"/>
                      </a:lnTo>
                      <a:lnTo>
                        <a:pt x="759" y="306"/>
                      </a:lnTo>
                      <a:lnTo>
                        <a:pt x="750" y="270"/>
                      </a:lnTo>
                      <a:lnTo>
                        <a:pt x="739" y="236"/>
                      </a:lnTo>
                      <a:lnTo>
                        <a:pt x="722" y="202"/>
                      </a:lnTo>
                      <a:lnTo>
                        <a:pt x="703" y="170"/>
                      </a:lnTo>
                      <a:lnTo>
                        <a:pt x="680" y="140"/>
                      </a:lnTo>
                      <a:lnTo>
                        <a:pt x="655" y="113"/>
                      </a:lnTo>
                      <a:lnTo>
                        <a:pt x="626" y="85"/>
                      </a:lnTo>
                      <a:lnTo>
                        <a:pt x="610" y="73"/>
                      </a:lnTo>
                      <a:lnTo>
                        <a:pt x="595" y="63"/>
                      </a:lnTo>
                      <a:lnTo>
                        <a:pt x="563" y="42"/>
                      </a:lnTo>
                      <a:lnTo>
                        <a:pt x="530" y="28"/>
                      </a:lnTo>
                      <a:lnTo>
                        <a:pt x="495" y="15"/>
                      </a:lnTo>
                      <a:lnTo>
                        <a:pt x="459" y="7"/>
                      </a:lnTo>
                      <a:lnTo>
                        <a:pt x="421" y="1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46520" y="3215880"/>
                  <a:ext cx="1011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52280" y="3221280"/>
                  <a:ext cx="89640" cy="1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756760" y="3140280"/>
                  <a:ext cx="9468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7">
                      <a:moveTo>
                        <a:pt x="66" y="27"/>
                      </a:moveTo>
                      <a:lnTo>
                        <a:pt x="92" y="6"/>
                      </a:lnTo>
                      <a:lnTo>
                        <a:pt x="63" y="0"/>
                      </a:lnTo>
                      <a:lnTo>
                        <a:pt x="51" y="12"/>
                      </a:lnTo>
                      <a:lnTo>
                        <a:pt x="27" y="38"/>
                      </a:lnTo>
                      <a:lnTo>
                        <a:pt x="18" y="52"/>
                      </a:lnTo>
                      <a:lnTo>
                        <a:pt x="13" y="67"/>
                      </a:lnTo>
                      <a:lnTo>
                        <a:pt x="6" y="82"/>
                      </a:lnTo>
                      <a:lnTo>
                        <a:pt x="2" y="99"/>
                      </a:lnTo>
                      <a:lnTo>
                        <a:pt x="0" y="134"/>
                      </a:lnTo>
                      <a:lnTo>
                        <a:pt x="0" y="150"/>
                      </a:lnTo>
                      <a:lnTo>
                        <a:pt x="2" y="167"/>
                      </a:lnTo>
                      <a:lnTo>
                        <a:pt x="6" y="183"/>
                      </a:lnTo>
                      <a:lnTo>
                        <a:pt x="13" y="200"/>
                      </a:lnTo>
                      <a:lnTo>
                        <a:pt x="18" y="214"/>
                      </a:lnTo>
                      <a:lnTo>
                        <a:pt x="27" y="228"/>
                      </a:lnTo>
                      <a:lnTo>
                        <a:pt x="38" y="242"/>
                      </a:lnTo>
                      <a:lnTo>
                        <a:pt x="51" y="256"/>
                      </a:lnTo>
                      <a:lnTo>
                        <a:pt x="64" y="267"/>
                      </a:lnTo>
                      <a:lnTo>
                        <a:pt x="77" y="277"/>
                      </a:lnTo>
                      <a:lnTo>
                        <a:pt x="91" y="285"/>
                      </a:lnTo>
                      <a:lnTo>
                        <a:pt x="107" y="293"/>
                      </a:lnTo>
                      <a:lnTo>
                        <a:pt x="121" y="299"/>
                      </a:lnTo>
                      <a:lnTo>
                        <a:pt x="138" y="303"/>
                      </a:lnTo>
                      <a:lnTo>
                        <a:pt x="155" y="305"/>
                      </a:lnTo>
                      <a:lnTo>
                        <a:pt x="174" y="307"/>
                      </a:lnTo>
                      <a:lnTo>
                        <a:pt x="189" y="305"/>
                      </a:lnTo>
                      <a:lnTo>
                        <a:pt x="207" y="303"/>
                      </a:lnTo>
                      <a:lnTo>
                        <a:pt x="222" y="299"/>
                      </a:lnTo>
                      <a:lnTo>
                        <a:pt x="226" y="296"/>
                      </a:lnTo>
                      <a:lnTo>
                        <a:pt x="230" y="295"/>
                      </a:lnTo>
                      <a:lnTo>
                        <a:pt x="239" y="293"/>
                      </a:lnTo>
                      <a:lnTo>
                        <a:pt x="253" y="285"/>
                      </a:lnTo>
                      <a:lnTo>
                        <a:pt x="260" y="281"/>
                      </a:lnTo>
                      <a:lnTo>
                        <a:pt x="263" y="278"/>
                      </a:lnTo>
                      <a:lnTo>
                        <a:pt x="268" y="277"/>
                      </a:lnTo>
                      <a:lnTo>
                        <a:pt x="281" y="267"/>
                      </a:lnTo>
                      <a:lnTo>
                        <a:pt x="296" y="256"/>
                      </a:lnTo>
                      <a:lnTo>
                        <a:pt x="307" y="242"/>
                      </a:lnTo>
                      <a:lnTo>
                        <a:pt x="312" y="235"/>
                      </a:lnTo>
                      <a:lnTo>
                        <a:pt x="314" y="232"/>
                      </a:lnTo>
                      <a:lnTo>
                        <a:pt x="318" y="230"/>
                      </a:lnTo>
                      <a:lnTo>
                        <a:pt x="319" y="225"/>
                      </a:lnTo>
                      <a:lnTo>
                        <a:pt x="321" y="222"/>
                      </a:lnTo>
                      <a:lnTo>
                        <a:pt x="326" y="215"/>
                      </a:lnTo>
                      <a:lnTo>
                        <a:pt x="333" y="201"/>
                      </a:lnTo>
                      <a:lnTo>
                        <a:pt x="326" y="188"/>
                      </a:lnTo>
                      <a:lnTo>
                        <a:pt x="319" y="176"/>
                      </a:lnTo>
                      <a:lnTo>
                        <a:pt x="314" y="184"/>
                      </a:lnTo>
                      <a:lnTo>
                        <a:pt x="311" y="193"/>
                      </a:lnTo>
                      <a:lnTo>
                        <a:pt x="306" y="201"/>
                      </a:lnTo>
                      <a:lnTo>
                        <a:pt x="303" y="210"/>
                      </a:lnTo>
                      <a:lnTo>
                        <a:pt x="297" y="217"/>
                      </a:lnTo>
                      <a:lnTo>
                        <a:pt x="293" y="225"/>
                      </a:lnTo>
                      <a:lnTo>
                        <a:pt x="280" y="241"/>
                      </a:lnTo>
                      <a:lnTo>
                        <a:pt x="268" y="250"/>
                      </a:lnTo>
                      <a:lnTo>
                        <a:pt x="256" y="259"/>
                      </a:lnTo>
                      <a:lnTo>
                        <a:pt x="243" y="267"/>
                      </a:lnTo>
                      <a:lnTo>
                        <a:pt x="230" y="274"/>
                      </a:lnTo>
                      <a:lnTo>
                        <a:pt x="216" y="278"/>
                      </a:lnTo>
                      <a:lnTo>
                        <a:pt x="202" y="282"/>
                      </a:lnTo>
                      <a:lnTo>
                        <a:pt x="187" y="284"/>
                      </a:lnTo>
                      <a:lnTo>
                        <a:pt x="174" y="285"/>
                      </a:lnTo>
                      <a:lnTo>
                        <a:pt x="158" y="284"/>
                      </a:lnTo>
                      <a:lnTo>
                        <a:pt x="143" y="282"/>
                      </a:lnTo>
                      <a:lnTo>
                        <a:pt x="128" y="278"/>
                      </a:lnTo>
                      <a:lnTo>
                        <a:pt x="115" y="274"/>
                      </a:lnTo>
                      <a:lnTo>
                        <a:pt x="101" y="267"/>
                      </a:lnTo>
                      <a:lnTo>
                        <a:pt x="89" y="259"/>
                      </a:lnTo>
                      <a:lnTo>
                        <a:pt x="66" y="241"/>
                      </a:lnTo>
                      <a:lnTo>
                        <a:pt x="55" y="228"/>
                      </a:lnTo>
                      <a:lnTo>
                        <a:pt x="46" y="217"/>
                      </a:lnTo>
                      <a:lnTo>
                        <a:pt x="38" y="203"/>
                      </a:lnTo>
                      <a:lnTo>
                        <a:pt x="32" y="191"/>
                      </a:lnTo>
                      <a:lnTo>
                        <a:pt x="26" y="176"/>
                      </a:lnTo>
                      <a:lnTo>
                        <a:pt x="24" y="163"/>
                      </a:lnTo>
                      <a:lnTo>
                        <a:pt x="22" y="148"/>
                      </a:lnTo>
                      <a:lnTo>
                        <a:pt x="22" y="134"/>
                      </a:lnTo>
                      <a:lnTo>
                        <a:pt x="24" y="104"/>
                      </a:lnTo>
                      <a:lnTo>
                        <a:pt x="32" y="75"/>
                      </a:lnTo>
                      <a:lnTo>
                        <a:pt x="46" y="49"/>
                      </a:lnTo>
                      <a:lnTo>
                        <a:pt x="55" y="37"/>
                      </a:lnTo>
                      <a:lnTo>
                        <a:pt x="66" y="27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762160" y="3142080"/>
                  <a:ext cx="84960" cy="7992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0" y="0"/>
                      </a:moveTo>
                      <a:lnTo>
                        <a:pt x="44" y="21"/>
                      </a:lnTo>
                      <a:lnTo>
                        <a:pt x="33" y="31"/>
                      </a:lnTo>
                      <a:lnTo>
                        <a:pt x="24" y="43"/>
                      </a:lnTo>
                      <a:lnTo>
                        <a:pt x="10" y="69"/>
                      </a:lnTo>
                      <a:lnTo>
                        <a:pt x="2" y="98"/>
                      </a:lnTo>
                      <a:lnTo>
                        <a:pt x="0" y="128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4" y="170"/>
                      </a:lnTo>
                      <a:lnTo>
                        <a:pt x="10" y="185"/>
                      </a:lnTo>
                      <a:lnTo>
                        <a:pt x="16" y="197"/>
                      </a:lnTo>
                      <a:lnTo>
                        <a:pt x="24" y="211"/>
                      </a:lnTo>
                      <a:lnTo>
                        <a:pt x="33" y="222"/>
                      </a:lnTo>
                      <a:lnTo>
                        <a:pt x="44" y="235"/>
                      </a:lnTo>
                      <a:lnTo>
                        <a:pt x="67" y="253"/>
                      </a:lnTo>
                      <a:lnTo>
                        <a:pt x="79" y="261"/>
                      </a:lnTo>
                      <a:lnTo>
                        <a:pt x="93" y="268"/>
                      </a:lnTo>
                      <a:lnTo>
                        <a:pt x="106" y="272"/>
                      </a:lnTo>
                      <a:lnTo>
                        <a:pt x="121" y="276"/>
                      </a:lnTo>
                      <a:lnTo>
                        <a:pt x="136" y="278"/>
                      </a:lnTo>
                      <a:lnTo>
                        <a:pt x="152" y="279"/>
                      </a:lnTo>
                      <a:lnTo>
                        <a:pt x="165" y="278"/>
                      </a:lnTo>
                      <a:lnTo>
                        <a:pt x="180" y="276"/>
                      </a:lnTo>
                      <a:lnTo>
                        <a:pt x="194" y="272"/>
                      </a:lnTo>
                      <a:lnTo>
                        <a:pt x="208" y="268"/>
                      </a:lnTo>
                      <a:lnTo>
                        <a:pt x="221" y="261"/>
                      </a:lnTo>
                      <a:lnTo>
                        <a:pt x="234" y="253"/>
                      </a:lnTo>
                      <a:lnTo>
                        <a:pt x="246" y="244"/>
                      </a:lnTo>
                      <a:lnTo>
                        <a:pt x="258" y="235"/>
                      </a:lnTo>
                      <a:lnTo>
                        <a:pt x="271" y="219"/>
                      </a:lnTo>
                      <a:lnTo>
                        <a:pt x="275" y="211"/>
                      </a:lnTo>
                      <a:lnTo>
                        <a:pt x="281" y="204"/>
                      </a:lnTo>
                      <a:lnTo>
                        <a:pt x="284" y="195"/>
                      </a:lnTo>
                      <a:lnTo>
                        <a:pt x="289" y="187"/>
                      </a:lnTo>
                      <a:lnTo>
                        <a:pt x="292" y="178"/>
                      </a:lnTo>
                      <a:lnTo>
                        <a:pt x="297" y="170"/>
                      </a:lnTo>
                      <a:lnTo>
                        <a:pt x="280" y="145"/>
                      </a:lnTo>
                      <a:lnTo>
                        <a:pt x="276" y="154"/>
                      </a:lnTo>
                      <a:lnTo>
                        <a:pt x="274" y="165"/>
                      </a:lnTo>
                      <a:lnTo>
                        <a:pt x="271" y="174"/>
                      </a:lnTo>
                      <a:lnTo>
                        <a:pt x="268" y="178"/>
                      </a:lnTo>
                      <a:lnTo>
                        <a:pt x="267" y="180"/>
                      </a:lnTo>
                      <a:lnTo>
                        <a:pt x="267" y="184"/>
                      </a:lnTo>
                      <a:lnTo>
                        <a:pt x="256" y="202"/>
                      </a:lnTo>
                      <a:lnTo>
                        <a:pt x="249" y="210"/>
                      </a:lnTo>
                      <a:lnTo>
                        <a:pt x="243" y="219"/>
                      </a:lnTo>
                      <a:lnTo>
                        <a:pt x="232" y="227"/>
                      </a:lnTo>
                      <a:lnTo>
                        <a:pt x="230" y="227"/>
                      </a:lnTo>
                      <a:lnTo>
                        <a:pt x="229" y="227"/>
                      </a:lnTo>
                      <a:lnTo>
                        <a:pt x="229" y="228"/>
                      </a:lnTo>
                      <a:lnTo>
                        <a:pt x="226" y="230"/>
                      </a:lnTo>
                      <a:lnTo>
                        <a:pt x="222" y="235"/>
                      </a:lnTo>
                      <a:lnTo>
                        <a:pt x="211" y="242"/>
                      </a:lnTo>
                      <a:lnTo>
                        <a:pt x="205" y="244"/>
                      </a:lnTo>
                      <a:lnTo>
                        <a:pt x="200" y="247"/>
                      </a:lnTo>
                      <a:lnTo>
                        <a:pt x="194" y="248"/>
                      </a:lnTo>
                      <a:lnTo>
                        <a:pt x="188" y="251"/>
                      </a:lnTo>
                      <a:lnTo>
                        <a:pt x="177" y="254"/>
                      </a:lnTo>
                      <a:lnTo>
                        <a:pt x="163" y="256"/>
                      </a:lnTo>
                      <a:lnTo>
                        <a:pt x="152" y="258"/>
                      </a:lnTo>
                      <a:lnTo>
                        <a:pt x="138" y="256"/>
                      </a:lnTo>
                      <a:lnTo>
                        <a:pt x="124" y="254"/>
                      </a:lnTo>
                      <a:lnTo>
                        <a:pt x="101" y="247"/>
                      </a:lnTo>
                      <a:lnTo>
                        <a:pt x="89" y="242"/>
                      </a:lnTo>
                      <a:lnTo>
                        <a:pt x="79" y="235"/>
                      </a:lnTo>
                      <a:lnTo>
                        <a:pt x="60" y="219"/>
                      </a:lnTo>
                      <a:lnTo>
                        <a:pt x="42" y="199"/>
                      </a:lnTo>
                      <a:lnTo>
                        <a:pt x="35" y="187"/>
                      </a:lnTo>
                      <a:lnTo>
                        <a:pt x="30" y="177"/>
                      </a:lnTo>
                      <a:lnTo>
                        <a:pt x="26" y="165"/>
                      </a:lnTo>
                      <a:lnTo>
                        <a:pt x="24" y="153"/>
                      </a:lnTo>
                      <a:lnTo>
                        <a:pt x="21" y="128"/>
                      </a:lnTo>
                      <a:lnTo>
                        <a:pt x="24" y="101"/>
                      </a:lnTo>
                      <a:lnTo>
                        <a:pt x="30" y="77"/>
                      </a:lnTo>
                      <a:lnTo>
                        <a:pt x="42" y="56"/>
                      </a:lnTo>
                      <a:lnTo>
                        <a:pt x="60" y="36"/>
                      </a:lnTo>
                      <a:lnTo>
                        <a:pt x="77" y="21"/>
                      </a:lnTo>
                      <a:lnTo>
                        <a:pt x="98" y="9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50280" y="3139920"/>
                  <a:ext cx="104400" cy="93960"/>
                </a:xfrm>
                <a:custGeom>
                  <a:avLst/>
                  <a:gdLst/>
                  <a:ahLst/>
                  <a:rect l="l" t="t" r="r" b="b"/>
                  <a:pathLst>
                    <a:path w="366" h="331">
                      <a:moveTo>
                        <a:pt x="72" y="15"/>
                      </a:moveTo>
                      <a:lnTo>
                        <a:pt x="84" y="3"/>
                      </a:lnTo>
                      <a:lnTo>
                        <a:pt x="56" y="0"/>
                      </a:lnTo>
                      <a:lnTo>
                        <a:pt x="42" y="14"/>
                      </a:lnTo>
                      <a:lnTo>
                        <a:pt x="30" y="30"/>
                      </a:lnTo>
                      <a:lnTo>
                        <a:pt x="13" y="62"/>
                      </a:lnTo>
                      <a:lnTo>
                        <a:pt x="3" y="98"/>
                      </a:lnTo>
                      <a:lnTo>
                        <a:pt x="0" y="137"/>
                      </a:lnTo>
                      <a:lnTo>
                        <a:pt x="0" y="155"/>
                      </a:lnTo>
                      <a:lnTo>
                        <a:pt x="3" y="175"/>
                      </a:lnTo>
                      <a:lnTo>
                        <a:pt x="6" y="193"/>
                      </a:lnTo>
                      <a:lnTo>
                        <a:pt x="13" y="211"/>
                      </a:lnTo>
                      <a:lnTo>
                        <a:pt x="20" y="227"/>
                      </a:lnTo>
                      <a:lnTo>
                        <a:pt x="30" y="244"/>
                      </a:lnTo>
                      <a:lnTo>
                        <a:pt x="42" y="259"/>
                      </a:lnTo>
                      <a:lnTo>
                        <a:pt x="56" y="274"/>
                      </a:lnTo>
                      <a:lnTo>
                        <a:pt x="70" y="287"/>
                      </a:lnTo>
                      <a:lnTo>
                        <a:pt x="86" y="298"/>
                      </a:lnTo>
                      <a:lnTo>
                        <a:pt x="102" y="308"/>
                      </a:lnTo>
                      <a:lnTo>
                        <a:pt x="119" y="316"/>
                      </a:lnTo>
                      <a:lnTo>
                        <a:pt x="136" y="322"/>
                      </a:lnTo>
                      <a:lnTo>
                        <a:pt x="155" y="327"/>
                      </a:lnTo>
                      <a:lnTo>
                        <a:pt x="174" y="330"/>
                      </a:lnTo>
                      <a:lnTo>
                        <a:pt x="195" y="331"/>
                      </a:lnTo>
                      <a:lnTo>
                        <a:pt x="213" y="330"/>
                      </a:lnTo>
                      <a:lnTo>
                        <a:pt x="222" y="328"/>
                      </a:lnTo>
                      <a:lnTo>
                        <a:pt x="226" y="327"/>
                      </a:lnTo>
                      <a:lnTo>
                        <a:pt x="232" y="327"/>
                      </a:lnTo>
                      <a:lnTo>
                        <a:pt x="250" y="322"/>
                      </a:lnTo>
                      <a:lnTo>
                        <a:pt x="268" y="316"/>
                      </a:lnTo>
                      <a:lnTo>
                        <a:pt x="284" y="308"/>
                      </a:lnTo>
                      <a:lnTo>
                        <a:pt x="285" y="306"/>
                      </a:lnTo>
                      <a:lnTo>
                        <a:pt x="288" y="305"/>
                      </a:lnTo>
                      <a:lnTo>
                        <a:pt x="292" y="303"/>
                      </a:lnTo>
                      <a:lnTo>
                        <a:pt x="301" y="298"/>
                      </a:lnTo>
                      <a:lnTo>
                        <a:pt x="316" y="287"/>
                      </a:lnTo>
                      <a:lnTo>
                        <a:pt x="332" y="274"/>
                      </a:lnTo>
                      <a:lnTo>
                        <a:pt x="350" y="252"/>
                      </a:lnTo>
                      <a:lnTo>
                        <a:pt x="366" y="229"/>
                      </a:lnTo>
                      <a:lnTo>
                        <a:pt x="354" y="204"/>
                      </a:lnTo>
                      <a:lnTo>
                        <a:pt x="347" y="218"/>
                      </a:lnTo>
                      <a:lnTo>
                        <a:pt x="342" y="225"/>
                      </a:lnTo>
                      <a:lnTo>
                        <a:pt x="340" y="228"/>
                      </a:lnTo>
                      <a:lnTo>
                        <a:pt x="339" y="233"/>
                      </a:lnTo>
                      <a:lnTo>
                        <a:pt x="335" y="235"/>
                      </a:lnTo>
                      <a:lnTo>
                        <a:pt x="333" y="238"/>
                      </a:lnTo>
                      <a:lnTo>
                        <a:pt x="328" y="245"/>
                      </a:lnTo>
                      <a:lnTo>
                        <a:pt x="317" y="259"/>
                      </a:lnTo>
                      <a:lnTo>
                        <a:pt x="302" y="270"/>
                      </a:lnTo>
                      <a:lnTo>
                        <a:pt x="289" y="280"/>
                      </a:lnTo>
                      <a:lnTo>
                        <a:pt x="284" y="281"/>
                      </a:lnTo>
                      <a:lnTo>
                        <a:pt x="281" y="284"/>
                      </a:lnTo>
                      <a:lnTo>
                        <a:pt x="274" y="288"/>
                      </a:lnTo>
                      <a:lnTo>
                        <a:pt x="260" y="296"/>
                      </a:lnTo>
                      <a:lnTo>
                        <a:pt x="251" y="298"/>
                      </a:lnTo>
                      <a:lnTo>
                        <a:pt x="247" y="299"/>
                      </a:lnTo>
                      <a:lnTo>
                        <a:pt x="243" y="302"/>
                      </a:lnTo>
                      <a:lnTo>
                        <a:pt x="228" y="306"/>
                      </a:lnTo>
                      <a:lnTo>
                        <a:pt x="210" y="308"/>
                      </a:lnTo>
                      <a:lnTo>
                        <a:pt x="195" y="310"/>
                      </a:lnTo>
                      <a:lnTo>
                        <a:pt x="176" y="308"/>
                      </a:lnTo>
                      <a:lnTo>
                        <a:pt x="159" y="306"/>
                      </a:lnTo>
                      <a:lnTo>
                        <a:pt x="142" y="302"/>
                      </a:lnTo>
                      <a:lnTo>
                        <a:pt x="128" y="296"/>
                      </a:lnTo>
                      <a:lnTo>
                        <a:pt x="112" y="288"/>
                      </a:lnTo>
                      <a:lnTo>
                        <a:pt x="98" y="280"/>
                      </a:lnTo>
                      <a:lnTo>
                        <a:pt x="85" y="270"/>
                      </a:lnTo>
                      <a:lnTo>
                        <a:pt x="72" y="259"/>
                      </a:lnTo>
                      <a:lnTo>
                        <a:pt x="59" y="245"/>
                      </a:lnTo>
                      <a:lnTo>
                        <a:pt x="48" y="231"/>
                      </a:lnTo>
                      <a:lnTo>
                        <a:pt x="39" y="217"/>
                      </a:lnTo>
                      <a:lnTo>
                        <a:pt x="34" y="203"/>
                      </a:lnTo>
                      <a:lnTo>
                        <a:pt x="27" y="186"/>
                      </a:lnTo>
                      <a:lnTo>
                        <a:pt x="23" y="170"/>
                      </a:lnTo>
                      <a:lnTo>
                        <a:pt x="21" y="153"/>
                      </a:lnTo>
                      <a:lnTo>
                        <a:pt x="21" y="137"/>
                      </a:lnTo>
                      <a:lnTo>
                        <a:pt x="23" y="102"/>
                      </a:lnTo>
                      <a:lnTo>
                        <a:pt x="27" y="85"/>
                      </a:lnTo>
                      <a:lnTo>
                        <a:pt x="34" y="70"/>
                      </a:lnTo>
                      <a:lnTo>
                        <a:pt x="39" y="55"/>
                      </a:lnTo>
                      <a:lnTo>
                        <a:pt x="48" y="41"/>
                      </a:lnTo>
                      <a:lnTo>
                        <a:pt x="72" y="15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737680" y="3138840"/>
                  <a:ext cx="122400" cy="107640"/>
                </a:xfrm>
                <a:custGeom>
                  <a:avLst/>
                  <a:gdLst/>
                  <a:ahLst/>
                  <a:rect l="l" t="t" r="r" b="b"/>
                  <a:pathLst>
                    <a:path w="427" h="376">
                      <a:moveTo>
                        <a:pt x="55" y="0"/>
                      </a:moveTo>
                      <a:lnTo>
                        <a:pt x="44" y="0"/>
                      </a:lnTo>
                      <a:lnTo>
                        <a:pt x="23" y="30"/>
                      </a:lnTo>
                      <a:lnTo>
                        <a:pt x="15" y="46"/>
                      </a:lnTo>
                      <a:lnTo>
                        <a:pt x="10" y="64"/>
                      </a:lnTo>
                      <a:lnTo>
                        <a:pt x="2" y="100"/>
                      </a:lnTo>
                      <a:lnTo>
                        <a:pt x="0" y="139"/>
                      </a:lnTo>
                      <a:lnTo>
                        <a:pt x="0" y="162"/>
                      </a:lnTo>
                      <a:lnTo>
                        <a:pt x="3" y="186"/>
                      </a:lnTo>
                      <a:lnTo>
                        <a:pt x="9" y="207"/>
                      </a:lnTo>
                      <a:lnTo>
                        <a:pt x="17" y="230"/>
                      </a:lnTo>
                      <a:lnTo>
                        <a:pt x="24" y="249"/>
                      </a:lnTo>
                      <a:lnTo>
                        <a:pt x="37" y="270"/>
                      </a:lnTo>
                      <a:lnTo>
                        <a:pt x="52" y="288"/>
                      </a:lnTo>
                      <a:lnTo>
                        <a:pt x="69" y="307"/>
                      </a:lnTo>
                      <a:lnTo>
                        <a:pt x="86" y="322"/>
                      </a:lnTo>
                      <a:lnTo>
                        <a:pt x="105" y="337"/>
                      </a:lnTo>
                      <a:lnTo>
                        <a:pt x="124" y="348"/>
                      </a:lnTo>
                      <a:lnTo>
                        <a:pt x="146" y="358"/>
                      </a:lnTo>
                      <a:lnTo>
                        <a:pt x="166" y="366"/>
                      </a:lnTo>
                      <a:lnTo>
                        <a:pt x="189" y="372"/>
                      </a:lnTo>
                      <a:lnTo>
                        <a:pt x="213" y="375"/>
                      </a:lnTo>
                      <a:lnTo>
                        <a:pt x="238" y="376"/>
                      </a:lnTo>
                      <a:lnTo>
                        <a:pt x="260" y="375"/>
                      </a:lnTo>
                      <a:lnTo>
                        <a:pt x="272" y="373"/>
                      </a:lnTo>
                      <a:lnTo>
                        <a:pt x="274" y="372"/>
                      </a:lnTo>
                      <a:lnTo>
                        <a:pt x="277" y="372"/>
                      </a:lnTo>
                      <a:lnTo>
                        <a:pt x="284" y="372"/>
                      </a:lnTo>
                      <a:lnTo>
                        <a:pt x="289" y="369"/>
                      </a:lnTo>
                      <a:lnTo>
                        <a:pt x="291" y="368"/>
                      </a:lnTo>
                      <a:lnTo>
                        <a:pt x="294" y="368"/>
                      </a:lnTo>
                      <a:lnTo>
                        <a:pt x="306" y="366"/>
                      </a:lnTo>
                      <a:lnTo>
                        <a:pt x="328" y="358"/>
                      </a:lnTo>
                      <a:lnTo>
                        <a:pt x="337" y="352"/>
                      </a:lnTo>
                      <a:lnTo>
                        <a:pt x="348" y="348"/>
                      </a:lnTo>
                      <a:lnTo>
                        <a:pt x="368" y="337"/>
                      </a:lnTo>
                      <a:lnTo>
                        <a:pt x="386" y="322"/>
                      </a:lnTo>
                      <a:lnTo>
                        <a:pt x="395" y="314"/>
                      </a:lnTo>
                      <a:lnTo>
                        <a:pt x="405" y="307"/>
                      </a:lnTo>
                      <a:lnTo>
                        <a:pt x="410" y="300"/>
                      </a:lnTo>
                      <a:lnTo>
                        <a:pt x="412" y="297"/>
                      </a:lnTo>
                      <a:lnTo>
                        <a:pt x="416" y="295"/>
                      </a:lnTo>
                      <a:lnTo>
                        <a:pt x="427" y="282"/>
                      </a:lnTo>
                      <a:lnTo>
                        <a:pt x="419" y="256"/>
                      </a:lnTo>
                      <a:lnTo>
                        <a:pt x="414" y="259"/>
                      </a:lnTo>
                      <a:lnTo>
                        <a:pt x="411" y="264"/>
                      </a:lnTo>
                      <a:lnTo>
                        <a:pt x="404" y="273"/>
                      </a:lnTo>
                      <a:lnTo>
                        <a:pt x="390" y="291"/>
                      </a:lnTo>
                      <a:lnTo>
                        <a:pt x="380" y="298"/>
                      </a:lnTo>
                      <a:lnTo>
                        <a:pt x="376" y="301"/>
                      </a:lnTo>
                      <a:lnTo>
                        <a:pt x="373" y="306"/>
                      </a:lnTo>
                      <a:lnTo>
                        <a:pt x="363" y="312"/>
                      </a:lnTo>
                      <a:lnTo>
                        <a:pt x="356" y="318"/>
                      </a:lnTo>
                      <a:lnTo>
                        <a:pt x="337" y="329"/>
                      </a:lnTo>
                      <a:lnTo>
                        <a:pt x="319" y="339"/>
                      </a:lnTo>
                      <a:lnTo>
                        <a:pt x="299" y="345"/>
                      </a:lnTo>
                      <a:lnTo>
                        <a:pt x="289" y="347"/>
                      </a:lnTo>
                      <a:lnTo>
                        <a:pt x="280" y="350"/>
                      </a:lnTo>
                      <a:lnTo>
                        <a:pt x="268" y="351"/>
                      </a:lnTo>
                      <a:lnTo>
                        <a:pt x="258" y="354"/>
                      </a:lnTo>
                      <a:lnTo>
                        <a:pt x="238" y="355"/>
                      </a:lnTo>
                      <a:lnTo>
                        <a:pt x="215" y="354"/>
                      </a:lnTo>
                      <a:lnTo>
                        <a:pt x="193" y="350"/>
                      </a:lnTo>
                      <a:lnTo>
                        <a:pt x="173" y="345"/>
                      </a:lnTo>
                      <a:lnTo>
                        <a:pt x="154" y="339"/>
                      </a:lnTo>
                      <a:lnTo>
                        <a:pt x="134" y="329"/>
                      </a:lnTo>
                      <a:lnTo>
                        <a:pt x="117" y="318"/>
                      </a:lnTo>
                      <a:lnTo>
                        <a:pt x="100" y="306"/>
                      </a:lnTo>
                      <a:lnTo>
                        <a:pt x="85" y="291"/>
                      </a:lnTo>
                      <a:lnTo>
                        <a:pt x="69" y="274"/>
                      </a:lnTo>
                      <a:lnTo>
                        <a:pt x="56" y="257"/>
                      </a:lnTo>
                      <a:lnTo>
                        <a:pt x="45" y="239"/>
                      </a:lnTo>
                      <a:lnTo>
                        <a:pt x="37" y="221"/>
                      </a:lnTo>
                      <a:lnTo>
                        <a:pt x="29" y="201"/>
                      </a:lnTo>
                      <a:lnTo>
                        <a:pt x="24" y="181"/>
                      </a:lnTo>
                      <a:lnTo>
                        <a:pt x="21" y="160"/>
                      </a:lnTo>
                      <a:lnTo>
                        <a:pt x="21" y="139"/>
                      </a:lnTo>
                      <a:lnTo>
                        <a:pt x="23" y="100"/>
                      </a:lnTo>
                      <a:lnTo>
                        <a:pt x="27" y="80"/>
                      </a:lnTo>
                      <a:lnTo>
                        <a:pt x="34" y="63"/>
                      </a:lnTo>
                      <a:lnTo>
                        <a:pt x="48" y="30"/>
                      </a:lnTo>
                      <a:lnTo>
                        <a:pt x="72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744160" y="3138840"/>
                  <a:ext cx="113400" cy="10152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8" y="2"/>
                      </a:moveTo>
                      <a:lnTo>
                        <a:pt x="51" y="0"/>
                      </a:lnTo>
                      <a:lnTo>
                        <a:pt x="27" y="30"/>
                      </a:lnTo>
                      <a:lnTo>
                        <a:pt x="13" y="63"/>
                      </a:lnTo>
                      <a:lnTo>
                        <a:pt x="6" y="80"/>
                      </a:lnTo>
                      <a:lnTo>
                        <a:pt x="2" y="100"/>
                      </a:lnTo>
                      <a:lnTo>
                        <a:pt x="0" y="139"/>
                      </a:lnTo>
                      <a:lnTo>
                        <a:pt x="0" y="160"/>
                      </a:lnTo>
                      <a:lnTo>
                        <a:pt x="3" y="181"/>
                      </a:lnTo>
                      <a:lnTo>
                        <a:pt x="8" y="201"/>
                      </a:lnTo>
                      <a:lnTo>
                        <a:pt x="16" y="221"/>
                      </a:lnTo>
                      <a:lnTo>
                        <a:pt x="24" y="239"/>
                      </a:lnTo>
                      <a:lnTo>
                        <a:pt x="35" y="257"/>
                      </a:lnTo>
                      <a:lnTo>
                        <a:pt x="48" y="274"/>
                      </a:lnTo>
                      <a:lnTo>
                        <a:pt x="64" y="291"/>
                      </a:lnTo>
                      <a:lnTo>
                        <a:pt x="79" y="306"/>
                      </a:lnTo>
                      <a:lnTo>
                        <a:pt x="96" y="318"/>
                      </a:lnTo>
                      <a:lnTo>
                        <a:pt x="113" y="329"/>
                      </a:lnTo>
                      <a:lnTo>
                        <a:pt x="133" y="339"/>
                      </a:lnTo>
                      <a:lnTo>
                        <a:pt x="152" y="345"/>
                      </a:lnTo>
                      <a:lnTo>
                        <a:pt x="172" y="350"/>
                      </a:lnTo>
                      <a:lnTo>
                        <a:pt x="194" y="354"/>
                      </a:lnTo>
                      <a:lnTo>
                        <a:pt x="217" y="355"/>
                      </a:lnTo>
                      <a:lnTo>
                        <a:pt x="237" y="354"/>
                      </a:lnTo>
                      <a:lnTo>
                        <a:pt x="247" y="351"/>
                      </a:lnTo>
                      <a:lnTo>
                        <a:pt x="259" y="350"/>
                      </a:lnTo>
                      <a:lnTo>
                        <a:pt x="268" y="347"/>
                      </a:lnTo>
                      <a:lnTo>
                        <a:pt x="278" y="345"/>
                      </a:lnTo>
                      <a:lnTo>
                        <a:pt x="298" y="339"/>
                      </a:lnTo>
                      <a:lnTo>
                        <a:pt x="316" y="329"/>
                      </a:lnTo>
                      <a:lnTo>
                        <a:pt x="335" y="318"/>
                      </a:lnTo>
                      <a:lnTo>
                        <a:pt x="342" y="312"/>
                      </a:lnTo>
                      <a:lnTo>
                        <a:pt x="352" y="306"/>
                      </a:lnTo>
                      <a:lnTo>
                        <a:pt x="355" y="301"/>
                      </a:lnTo>
                      <a:lnTo>
                        <a:pt x="359" y="298"/>
                      </a:lnTo>
                      <a:lnTo>
                        <a:pt x="369" y="291"/>
                      </a:lnTo>
                      <a:lnTo>
                        <a:pt x="383" y="273"/>
                      </a:lnTo>
                      <a:lnTo>
                        <a:pt x="390" y="264"/>
                      </a:lnTo>
                      <a:lnTo>
                        <a:pt x="393" y="259"/>
                      </a:lnTo>
                      <a:lnTo>
                        <a:pt x="398" y="256"/>
                      </a:lnTo>
                      <a:lnTo>
                        <a:pt x="388" y="231"/>
                      </a:lnTo>
                      <a:lnTo>
                        <a:pt x="372" y="254"/>
                      </a:lnTo>
                      <a:lnTo>
                        <a:pt x="354" y="276"/>
                      </a:lnTo>
                      <a:lnTo>
                        <a:pt x="338" y="289"/>
                      </a:lnTo>
                      <a:lnTo>
                        <a:pt x="323" y="300"/>
                      </a:lnTo>
                      <a:lnTo>
                        <a:pt x="314" y="305"/>
                      </a:lnTo>
                      <a:lnTo>
                        <a:pt x="310" y="307"/>
                      </a:lnTo>
                      <a:lnTo>
                        <a:pt x="307" y="308"/>
                      </a:lnTo>
                      <a:lnTo>
                        <a:pt x="306" y="310"/>
                      </a:lnTo>
                      <a:lnTo>
                        <a:pt x="290" y="318"/>
                      </a:lnTo>
                      <a:lnTo>
                        <a:pt x="272" y="324"/>
                      </a:lnTo>
                      <a:lnTo>
                        <a:pt x="254" y="329"/>
                      </a:lnTo>
                      <a:lnTo>
                        <a:pt x="248" y="329"/>
                      </a:lnTo>
                      <a:lnTo>
                        <a:pt x="244" y="330"/>
                      </a:lnTo>
                      <a:lnTo>
                        <a:pt x="235" y="332"/>
                      </a:lnTo>
                      <a:lnTo>
                        <a:pt x="217" y="333"/>
                      </a:lnTo>
                      <a:lnTo>
                        <a:pt x="196" y="332"/>
                      </a:lnTo>
                      <a:lnTo>
                        <a:pt x="177" y="329"/>
                      </a:lnTo>
                      <a:lnTo>
                        <a:pt x="158" y="324"/>
                      </a:lnTo>
                      <a:lnTo>
                        <a:pt x="141" y="318"/>
                      </a:lnTo>
                      <a:lnTo>
                        <a:pt x="124" y="310"/>
                      </a:lnTo>
                      <a:lnTo>
                        <a:pt x="108" y="300"/>
                      </a:lnTo>
                      <a:lnTo>
                        <a:pt x="92" y="289"/>
                      </a:lnTo>
                      <a:lnTo>
                        <a:pt x="78" y="276"/>
                      </a:lnTo>
                      <a:lnTo>
                        <a:pt x="64" y="261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3"/>
                      </a:lnTo>
                      <a:lnTo>
                        <a:pt x="28" y="195"/>
                      </a:lnTo>
                      <a:lnTo>
                        <a:pt x="25" y="177"/>
                      </a:lnTo>
                      <a:lnTo>
                        <a:pt x="22" y="157"/>
                      </a:lnTo>
                      <a:lnTo>
                        <a:pt x="22" y="139"/>
                      </a:lnTo>
                      <a:lnTo>
                        <a:pt x="25" y="100"/>
                      </a:lnTo>
                      <a:lnTo>
                        <a:pt x="35" y="64"/>
                      </a:lnTo>
                      <a:lnTo>
                        <a:pt x="52" y="32"/>
                      </a:lnTo>
                      <a:lnTo>
                        <a:pt x="64" y="16"/>
                      </a:lnTo>
                      <a:lnTo>
                        <a:pt x="78" y="2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768640" y="3144960"/>
                  <a:ext cx="73800" cy="70560"/>
                </a:xfrm>
                <a:custGeom>
                  <a:avLst/>
                  <a:gdLst/>
                  <a:ahLst/>
                  <a:rect l="l" t="t" r="r" b="b"/>
                  <a:pathLst>
                    <a:path w="259" h="249">
                      <a:moveTo>
                        <a:pt x="22" y="119"/>
                      </a:moveTo>
                      <a:lnTo>
                        <a:pt x="23" y="97"/>
                      </a:lnTo>
                      <a:lnTo>
                        <a:pt x="30" y="77"/>
                      </a:lnTo>
                      <a:lnTo>
                        <a:pt x="39" y="58"/>
                      </a:lnTo>
                      <a:lnTo>
                        <a:pt x="54" y="42"/>
                      </a:lnTo>
                      <a:lnTo>
                        <a:pt x="65" y="30"/>
                      </a:lnTo>
                      <a:lnTo>
                        <a:pt x="78" y="22"/>
                      </a:lnTo>
                      <a:lnTo>
                        <a:pt x="92" y="16"/>
                      </a:lnTo>
                      <a:lnTo>
                        <a:pt x="108" y="13"/>
                      </a:lnTo>
                      <a:lnTo>
                        <a:pt x="77" y="0"/>
                      </a:lnTo>
                      <a:lnTo>
                        <a:pt x="56" y="12"/>
                      </a:lnTo>
                      <a:lnTo>
                        <a:pt x="39" y="27"/>
                      </a:lnTo>
                      <a:lnTo>
                        <a:pt x="21" y="47"/>
                      </a:lnTo>
                      <a:lnTo>
                        <a:pt x="9" y="68"/>
                      </a:lnTo>
                      <a:lnTo>
                        <a:pt x="3" y="92"/>
                      </a:lnTo>
                      <a:lnTo>
                        <a:pt x="0" y="119"/>
                      </a:lnTo>
                      <a:lnTo>
                        <a:pt x="3" y="144"/>
                      </a:lnTo>
                      <a:lnTo>
                        <a:pt x="5" y="156"/>
                      </a:lnTo>
                      <a:lnTo>
                        <a:pt x="9" y="168"/>
                      </a:lnTo>
                      <a:lnTo>
                        <a:pt x="14" y="178"/>
                      </a:lnTo>
                      <a:lnTo>
                        <a:pt x="21" y="190"/>
                      </a:lnTo>
                      <a:lnTo>
                        <a:pt x="39" y="210"/>
                      </a:lnTo>
                      <a:lnTo>
                        <a:pt x="58" y="226"/>
                      </a:lnTo>
                      <a:lnTo>
                        <a:pt x="68" y="233"/>
                      </a:lnTo>
                      <a:lnTo>
                        <a:pt x="80" y="238"/>
                      </a:lnTo>
                      <a:lnTo>
                        <a:pt x="103" y="245"/>
                      </a:lnTo>
                      <a:lnTo>
                        <a:pt x="117" y="247"/>
                      </a:lnTo>
                      <a:lnTo>
                        <a:pt x="131" y="249"/>
                      </a:lnTo>
                      <a:lnTo>
                        <a:pt x="142" y="247"/>
                      </a:lnTo>
                      <a:lnTo>
                        <a:pt x="156" y="245"/>
                      </a:lnTo>
                      <a:lnTo>
                        <a:pt x="167" y="242"/>
                      </a:lnTo>
                      <a:lnTo>
                        <a:pt x="173" y="239"/>
                      </a:lnTo>
                      <a:lnTo>
                        <a:pt x="179" y="238"/>
                      </a:lnTo>
                      <a:lnTo>
                        <a:pt x="184" y="235"/>
                      </a:lnTo>
                      <a:lnTo>
                        <a:pt x="190" y="233"/>
                      </a:lnTo>
                      <a:lnTo>
                        <a:pt x="201" y="226"/>
                      </a:lnTo>
                      <a:lnTo>
                        <a:pt x="205" y="221"/>
                      </a:lnTo>
                      <a:lnTo>
                        <a:pt x="208" y="219"/>
                      </a:lnTo>
                      <a:lnTo>
                        <a:pt x="208" y="218"/>
                      </a:lnTo>
                      <a:lnTo>
                        <a:pt x="209" y="218"/>
                      </a:lnTo>
                      <a:lnTo>
                        <a:pt x="211" y="218"/>
                      </a:lnTo>
                      <a:lnTo>
                        <a:pt x="222" y="210"/>
                      </a:lnTo>
                      <a:lnTo>
                        <a:pt x="228" y="201"/>
                      </a:lnTo>
                      <a:lnTo>
                        <a:pt x="235" y="193"/>
                      </a:lnTo>
                      <a:lnTo>
                        <a:pt x="246" y="175"/>
                      </a:lnTo>
                      <a:lnTo>
                        <a:pt x="246" y="171"/>
                      </a:lnTo>
                      <a:lnTo>
                        <a:pt x="247" y="169"/>
                      </a:lnTo>
                      <a:lnTo>
                        <a:pt x="250" y="165"/>
                      </a:lnTo>
                      <a:lnTo>
                        <a:pt x="253" y="156"/>
                      </a:lnTo>
                      <a:lnTo>
                        <a:pt x="255" y="145"/>
                      </a:lnTo>
                      <a:lnTo>
                        <a:pt x="259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6" y="140"/>
                      </a:lnTo>
                      <a:lnTo>
                        <a:pt x="230" y="160"/>
                      </a:lnTo>
                      <a:lnTo>
                        <a:pt x="220" y="178"/>
                      </a:lnTo>
                      <a:lnTo>
                        <a:pt x="213" y="186"/>
                      </a:lnTo>
                      <a:lnTo>
                        <a:pt x="207" y="195"/>
                      </a:lnTo>
                      <a:lnTo>
                        <a:pt x="198" y="202"/>
                      </a:lnTo>
                      <a:lnTo>
                        <a:pt x="190" y="209"/>
                      </a:lnTo>
                      <a:lnTo>
                        <a:pt x="171" y="219"/>
                      </a:lnTo>
                      <a:lnTo>
                        <a:pt x="151" y="225"/>
                      </a:lnTo>
                      <a:lnTo>
                        <a:pt x="131" y="227"/>
                      </a:lnTo>
                      <a:lnTo>
                        <a:pt x="108" y="225"/>
                      </a:lnTo>
                      <a:lnTo>
                        <a:pt x="89" y="219"/>
                      </a:lnTo>
                      <a:lnTo>
                        <a:pt x="69" y="209"/>
                      </a:lnTo>
                      <a:lnTo>
                        <a:pt x="54" y="195"/>
                      </a:lnTo>
                      <a:lnTo>
                        <a:pt x="39" y="178"/>
                      </a:lnTo>
                      <a:lnTo>
                        <a:pt x="30" y="160"/>
                      </a:lnTo>
                      <a:lnTo>
                        <a:pt x="23" y="140"/>
                      </a:lnTo>
                      <a:lnTo>
                        <a:pt x="22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774760" y="314856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6" h="214">
                      <a:moveTo>
                        <a:pt x="32" y="29"/>
                      </a:moveTo>
                      <a:lnTo>
                        <a:pt x="17" y="45"/>
                      </a:lnTo>
                      <a:lnTo>
                        <a:pt x="8" y="64"/>
                      </a:lnTo>
                      <a:lnTo>
                        <a:pt x="1" y="84"/>
                      </a:lnTo>
                      <a:lnTo>
                        <a:pt x="0" y="106"/>
                      </a:lnTo>
                      <a:lnTo>
                        <a:pt x="1" y="127"/>
                      </a:lnTo>
                      <a:lnTo>
                        <a:pt x="8" y="147"/>
                      </a:lnTo>
                      <a:lnTo>
                        <a:pt x="17" y="165"/>
                      </a:lnTo>
                      <a:lnTo>
                        <a:pt x="32" y="182"/>
                      </a:lnTo>
                      <a:lnTo>
                        <a:pt x="47" y="196"/>
                      </a:lnTo>
                      <a:lnTo>
                        <a:pt x="67" y="206"/>
                      </a:lnTo>
                      <a:lnTo>
                        <a:pt x="86" y="212"/>
                      </a:lnTo>
                      <a:lnTo>
                        <a:pt x="109" y="214"/>
                      </a:lnTo>
                      <a:lnTo>
                        <a:pt x="129" y="212"/>
                      </a:lnTo>
                      <a:lnTo>
                        <a:pt x="149" y="206"/>
                      </a:lnTo>
                      <a:lnTo>
                        <a:pt x="168" y="196"/>
                      </a:lnTo>
                      <a:lnTo>
                        <a:pt x="176" y="189"/>
                      </a:lnTo>
                      <a:lnTo>
                        <a:pt x="185" y="182"/>
                      </a:lnTo>
                      <a:lnTo>
                        <a:pt x="191" y="173"/>
                      </a:lnTo>
                      <a:lnTo>
                        <a:pt x="198" y="165"/>
                      </a:lnTo>
                      <a:lnTo>
                        <a:pt x="208" y="147"/>
                      </a:lnTo>
                      <a:lnTo>
                        <a:pt x="214" y="127"/>
                      </a:lnTo>
                      <a:lnTo>
                        <a:pt x="216" y="106"/>
                      </a:lnTo>
                      <a:lnTo>
                        <a:pt x="216" y="98"/>
                      </a:lnTo>
                      <a:lnTo>
                        <a:pt x="198" y="79"/>
                      </a:lnTo>
                      <a:lnTo>
                        <a:pt x="191" y="72"/>
                      </a:lnTo>
                      <a:lnTo>
                        <a:pt x="189" y="70"/>
                      </a:lnTo>
                      <a:lnTo>
                        <a:pt x="188" y="69"/>
                      </a:lnTo>
                      <a:lnTo>
                        <a:pt x="186" y="67"/>
                      </a:lnTo>
                      <a:lnTo>
                        <a:pt x="193" y="85"/>
                      </a:lnTo>
                      <a:lnTo>
                        <a:pt x="195" y="106"/>
                      </a:lnTo>
                      <a:lnTo>
                        <a:pt x="193" y="122"/>
                      </a:lnTo>
                      <a:lnTo>
                        <a:pt x="188" y="138"/>
                      </a:lnTo>
                      <a:lnTo>
                        <a:pt x="183" y="145"/>
                      </a:lnTo>
                      <a:lnTo>
                        <a:pt x="181" y="148"/>
                      </a:lnTo>
                      <a:lnTo>
                        <a:pt x="180" y="153"/>
                      </a:lnTo>
                      <a:lnTo>
                        <a:pt x="170" y="166"/>
                      </a:lnTo>
                      <a:lnTo>
                        <a:pt x="162" y="171"/>
                      </a:lnTo>
                      <a:lnTo>
                        <a:pt x="155" y="177"/>
                      </a:lnTo>
                      <a:lnTo>
                        <a:pt x="147" y="181"/>
                      </a:lnTo>
                      <a:lnTo>
                        <a:pt x="140" y="186"/>
                      </a:lnTo>
                      <a:lnTo>
                        <a:pt x="124" y="190"/>
                      </a:lnTo>
                      <a:lnTo>
                        <a:pt x="109" y="192"/>
                      </a:lnTo>
                      <a:lnTo>
                        <a:pt x="90" y="190"/>
                      </a:lnTo>
                      <a:lnTo>
                        <a:pt x="75" y="186"/>
                      </a:lnTo>
                      <a:lnTo>
                        <a:pt x="60" y="177"/>
                      </a:lnTo>
                      <a:lnTo>
                        <a:pt x="47" y="166"/>
                      </a:lnTo>
                      <a:lnTo>
                        <a:pt x="36" y="153"/>
                      </a:lnTo>
                      <a:lnTo>
                        <a:pt x="28" y="138"/>
                      </a:lnTo>
                      <a:lnTo>
                        <a:pt x="24" y="122"/>
                      </a:lnTo>
                      <a:lnTo>
                        <a:pt x="22" y="106"/>
                      </a:lnTo>
                      <a:lnTo>
                        <a:pt x="24" y="88"/>
                      </a:lnTo>
                      <a:lnTo>
                        <a:pt x="28" y="72"/>
                      </a:lnTo>
                      <a:lnTo>
                        <a:pt x="36" y="58"/>
                      </a:lnTo>
                      <a:lnTo>
                        <a:pt x="47" y="45"/>
                      </a:lnTo>
                      <a:lnTo>
                        <a:pt x="60" y="33"/>
                      </a:lnTo>
                      <a:lnTo>
                        <a:pt x="75" y="25"/>
                      </a:lnTo>
                      <a:lnTo>
                        <a:pt x="90" y="20"/>
                      </a:lnTo>
                      <a:lnTo>
                        <a:pt x="109" y="19"/>
                      </a:lnTo>
                      <a:lnTo>
                        <a:pt x="117" y="19"/>
                      </a:lnTo>
                      <a:lnTo>
                        <a:pt x="126" y="21"/>
                      </a:lnTo>
                      <a:lnTo>
                        <a:pt x="105" y="9"/>
                      </a:lnTo>
                      <a:lnTo>
                        <a:pt x="86" y="0"/>
                      </a:lnTo>
                      <a:lnTo>
                        <a:pt x="70" y="3"/>
                      </a:lnTo>
                      <a:lnTo>
                        <a:pt x="56" y="9"/>
                      </a:lnTo>
                      <a:lnTo>
                        <a:pt x="43" y="17"/>
                      </a:lnTo>
                      <a:lnTo>
                        <a:pt x="32" y="29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781240" y="3153600"/>
                  <a:ext cx="48960" cy="49320"/>
                </a:xfrm>
                <a:custGeom>
                  <a:avLst/>
                  <a:gdLst/>
                  <a:ahLst/>
                  <a:rect l="l" t="t" r="r" b="b"/>
                  <a:pathLst>
                    <a:path w="173" h="173">
                      <a:moveTo>
                        <a:pt x="104" y="2"/>
                      </a:moveTo>
                      <a:lnTo>
                        <a:pt x="95" y="0"/>
                      </a:lnTo>
                      <a:lnTo>
                        <a:pt x="87" y="0"/>
                      </a:lnTo>
                      <a:lnTo>
                        <a:pt x="68" y="1"/>
                      </a:lnTo>
                      <a:lnTo>
                        <a:pt x="53" y="6"/>
                      </a:lnTo>
                      <a:lnTo>
                        <a:pt x="38" y="14"/>
                      </a:lnTo>
                      <a:lnTo>
                        <a:pt x="25" y="26"/>
                      </a:lnTo>
                      <a:lnTo>
                        <a:pt x="14" y="39"/>
                      </a:lnTo>
                      <a:lnTo>
                        <a:pt x="6" y="53"/>
                      </a:lnTo>
                      <a:lnTo>
                        <a:pt x="2" y="69"/>
                      </a:lnTo>
                      <a:lnTo>
                        <a:pt x="0" y="87"/>
                      </a:lnTo>
                      <a:lnTo>
                        <a:pt x="2" y="103"/>
                      </a:lnTo>
                      <a:lnTo>
                        <a:pt x="6" y="119"/>
                      </a:lnTo>
                      <a:lnTo>
                        <a:pt x="14" y="134"/>
                      </a:lnTo>
                      <a:lnTo>
                        <a:pt x="25" y="147"/>
                      </a:lnTo>
                      <a:lnTo>
                        <a:pt x="38" y="158"/>
                      </a:lnTo>
                      <a:lnTo>
                        <a:pt x="53" y="167"/>
                      </a:lnTo>
                      <a:lnTo>
                        <a:pt x="68" y="171"/>
                      </a:lnTo>
                      <a:lnTo>
                        <a:pt x="87" y="173"/>
                      </a:lnTo>
                      <a:lnTo>
                        <a:pt x="102" y="171"/>
                      </a:lnTo>
                      <a:lnTo>
                        <a:pt x="118" y="167"/>
                      </a:lnTo>
                      <a:lnTo>
                        <a:pt x="125" y="162"/>
                      </a:lnTo>
                      <a:lnTo>
                        <a:pt x="133" y="158"/>
                      </a:lnTo>
                      <a:lnTo>
                        <a:pt x="140" y="152"/>
                      </a:lnTo>
                      <a:lnTo>
                        <a:pt x="148" y="147"/>
                      </a:lnTo>
                      <a:lnTo>
                        <a:pt x="158" y="134"/>
                      </a:lnTo>
                      <a:lnTo>
                        <a:pt x="159" y="129"/>
                      </a:lnTo>
                      <a:lnTo>
                        <a:pt x="161" y="126"/>
                      </a:lnTo>
                      <a:lnTo>
                        <a:pt x="166" y="119"/>
                      </a:lnTo>
                      <a:lnTo>
                        <a:pt x="171" y="103"/>
                      </a:lnTo>
                      <a:lnTo>
                        <a:pt x="173" y="87"/>
                      </a:lnTo>
                      <a:lnTo>
                        <a:pt x="171" y="66"/>
                      </a:lnTo>
                      <a:lnTo>
                        <a:pt x="164" y="48"/>
                      </a:lnTo>
                      <a:lnTo>
                        <a:pt x="134" y="23"/>
                      </a:lnTo>
                      <a:lnTo>
                        <a:pt x="118" y="11"/>
                      </a:lnTo>
                      <a:lnTo>
                        <a:pt x="104" y="2"/>
                      </a:lnTo>
                      <a:close/>
                      <a:moveTo>
                        <a:pt x="22" y="87"/>
                      </a:moveTo>
                      <a:lnTo>
                        <a:pt x="23" y="74"/>
                      </a:lnTo>
                      <a:lnTo>
                        <a:pt x="27" y="61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2"/>
                      </a:lnTo>
                      <a:lnTo>
                        <a:pt x="61" y="26"/>
                      </a:lnTo>
                      <a:lnTo>
                        <a:pt x="73" y="23"/>
                      </a:lnTo>
                      <a:lnTo>
                        <a:pt x="87" y="22"/>
                      </a:lnTo>
                      <a:lnTo>
                        <a:pt x="98" y="23"/>
                      </a:lnTo>
                      <a:lnTo>
                        <a:pt x="110" y="26"/>
                      </a:lnTo>
                      <a:lnTo>
                        <a:pt x="121" y="32"/>
                      </a:lnTo>
                      <a:lnTo>
                        <a:pt x="132" y="41"/>
                      </a:lnTo>
                      <a:lnTo>
                        <a:pt x="140" y="50"/>
                      </a:lnTo>
                      <a:lnTo>
                        <a:pt x="146" y="61"/>
                      </a:lnTo>
                      <a:lnTo>
                        <a:pt x="149" y="74"/>
                      </a:lnTo>
                      <a:lnTo>
                        <a:pt x="151" y="87"/>
                      </a:lnTo>
                      <a:lnTo>
                        <a:pt x="149" y="99"/>
                      </a:lnTo>
                      <a:lnTo>
                        <a:pt x="147" y="104"/>
                      </a:lnTo>
                      <a:lnTo>
                        <a:pt x="146" y="111"/>
                      </a:lnTo>
                      <a:lnTo>
                        <a:pt x="142" y="116"/>
                      </a:lnTo>
                      <a:lnTo>
                        <a:pt x="140" y="121"/>
                      </a:lnTo>
                      <a:lnTo>
                        <a:pt x="132" y="133"/>
                      </a:lnTo>
                      <a:lnTo>
                        <a:pt x="121" y="141"/>
                      </a:lnTo>
                      <a:lnTo>
                        <a:pt x="115" y="143"/>
                      </a:lnTo>
                      <a:lnTo>
                        <a:pt x="110" y="146"/>
                      </a:lnTo>
                      <a:lnTo>
                        <a:pt x="104" y="147"/>
                      </a:lnTo>
                      <a:lnTo>
                        <a:pt x="98" y="150"/>
                      </a:lnTo>
                      <a:lnTo>
                        <a:pt x="87" y="152"/>
                      </a:lnTo>
                      <a:lnTo>
                        <a:pt x="73" y="150"/>
                      </a:lnTo>
                      <a:lnTo>
                        <a:pt x="61" y="146"/>
                      </a:lnTo>
                      <a:lnTo>
                        <a:pt x="49" y="141"/>
                      </a:lnTo>
                      <a:lnTo>
                        <a:pt x="40" y="133"/>
                      </a:lnTo>
                      <a:lnTo>
                        <a:pt x="32" y="121"/>
                      </a:lnTo>
                      <a:lnTo>
                        <a:pt x="27" y="111"/>
                      </a:lnTo>
                      <a:lnTo>
                        <a:pt x="23" y="99"/>
                      </a:lnTo>
                      <a:lnTo>
                        <a:pt x="22" y="87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787360" y="315972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129" h="130">
                      <a:moveTo>
                        <a:pt x="18" y="19"/>
                      </a:moveTo>
                      <a:lnTo>
                        <a:pt x="10" y="28"/>
                      </a:lnTo>
                      <a:lnTo>
                        <a:pt x="5" y="39"/>
                      </a:lnTo>
                      <a:lnTo>
                        <a:pt x="1" y="52"/>
                      </a:lnTo>
                      <a:lnTo>
                        <a:pt x="0" y="65"/>
                      </a:lnTo>
                      <a:lnTo>
                        <a:pt x="1" y="77"/>
                      </a:lnTo>
                      <a:lnTo>
                        <a:pt x="5" y="89"/>
                      </a:lnTo>
                      <a:lnTo>
                        <a:pt x="10" y="99"/>
                      </a:lnTo>
                      <a:lnTo>
                        <a:pt x="18" y="111"/>
                      </a:lnTo>
                      <a:lnTo>
                        <a:pt x="27" y="119"/>
                      </a:lnTo>
                      <a:lnTo>
                        <a:pt x="39" y="124"/>
                      </a:lnTo>
                      <a:lnTo>
                        <a:pt x="51" y="128"/>
                      </a:lnTo>
                      <a:lnTo>
                        <a:pt x="65" y="130"/>
                      </a:lnTo>
                      <a:lnTo>
                        <a:pt x="76" y="128"/>
                      </a:lnTo>
                      <a:lnTo>
                        <a:pt x="82" y="125"/>
                      </a:lnTo>
                      <a:lnTo>
                        <a:pt x="88" y="124"/>
                      </a:lnTo>
                      <a:lnTo>
                        <a:pt x="93" y="121"/>
                      </a:lnTo>
                      <a:lnTo>
                        <a:pt x="99" y="119"/>
                      </a:lnTo>
                      <a:lnTo>
                        <a:pt x="110" y="111"/>
                      </a:lnTo>
                      <a:lnTo>
                        <a:pt x="118" y="99"/>
                      </a:lnTo>
                      <a:lnTo>
                        <a:pt x="120" y="94"/>
                      </a:lnTo>
                      <a:lnTo>
                        <a:pt x="124" y="89"/>
                      </a:lnTo>
                      <a:lnTo>
                        <a:pt x="125" y="82"/>
                      </a:lnTo>
                      <a:lnTo>
                        <a:pt x="127" y="77"/>
                      </a:lnTo>
                      <a:lnTo>
                        <a:pt x="129" y="65"/>
                      </a:lnTo>
                      <a:lnTo>
                        <a:pt x="127" y="52"/>
                      </a:lnTo>
                      <a:lnTo>
                        <a:pt x="124" y="39"/>
                      </a:lnTo>
                      <a:lnTo>
                        <a:pt x="118" y="28"/>
                      </a:lnTo>
                      <a:lnTo>
                        <a:pt x="110" y="19"/>
                      </a:lnTo>
                      <a:lnTo>
                        <a:pt x="99" y="10"/>
                      </a:lnTo>
                      <a:lnTo>
                        <a:pt x="88" y="4"/>
                      </a:lnTo>
                      <a:lnTo>
                        <a:pt x="76" y="1"/>
                      </a:lnTo>
                      <a:lnTo>
                        <a:pt x="65" y="0"/>
                      </a:lnTo>
                      <a:lnTo>
                        <a:pt x="51" y="1"/>
                      </a:lnTo>
                      <a:lnTo>
                        <a:pt x="39" y="4"/>
                      </a:lnTo>
                      <a:lnTo>
                        <a:pt x="27" y="10"/>
                      </a:lnTo>
                      <a:lnTo>
                        <a:pt x="18" y="19"/>
                      </a:lnTo>
                      <a:close/>
                      <a:moveTo>
                        <a:pt x="22" y="65"/>
                      </a:moveTo>
                      <a:lnTo>
                        <a:pt x="24" y="48"/>
                      </a:lnTo>
                      <a:lnTo>
                        <a:pt x="34" y="34"/>
                      </a:lnTo>
                      <a:lnTo>
                        <a:pt x="40" y="27"/>
                      </a:lnTo>
                      <a:lnTo>
                        <a:pt x="48" y="23"/>
                      </a:lnTo>
                      <a:lnTo>
                        <a:pt x="65" y="21"/>
                      </a:lnTo>
                      <a:lnTo>
                        <a:pt x="73" y="21"/>
                      </a:lnTo>
                      <a:lnTo>
                        <a:pt x="80" y="23"/>
                      </a:lnTo>
                      <a:lnTo>
                        <a:pt x="87" y="27"/>
                      </a:lnTo>
                      <a:lnTo>
                        <a:pt x="95" y="34"/>
                      </a:lnTo>
                      <a:lnTo>
                        <a:pt x="104" y="48"/>
                      </a:lnTo>
                      <a:lnTo>
                        <a:pt x="107" y="56"/>
                      </a:lnTo>
                      <a:lnTo>
                        <a:pt x="108" y="65"/>
                      </a:lnTo>
                      <a:lnTo>
                        <a:pt x="107" y="72"/>
                      </a:lnTo>
                      <a:lnTo>
                        <a:pt x="104" y="81"/>
                      </a:lnTo>
                      <a:lnTo>
                        <a:pt x="100" y="88"/>
                      </a:lnTo>
                      <a:lnTo>
                        <a:pt x="95" y="96"/>
                      </a:lnTo>
                      <a:lnTo>
                        <a:pt x="87" y="100"/>
                      </a:lnTo>
                      <a:lnTo>
                        <a:pt x="80" y="105"/>
                      </a:lnTo>
                      <a:lnTo>
                        <a:pt x="73" y="107"/>
                      </a:lnTo>
                      <a:lnTo>
                        <a:pt x="68" y="107"/>
                      </a:lnTo>
                      <a:lnTo>
                        <a:pt x="66" y="107"/>
                      </a:lnTo>
                      <a:lnTo>
                        <a:pt x="65" y="107"/>
                      </a:lnTo>
                      <a:lnTo>
                        <a:pt x="65" y="108"/>
                      </a:lnTo>
                      <a:lnTo>
                        <a:pt x="56" y="107"/>
                      </a:lnTo>
                      <a:lnTo>
                        <a:pt x="48" y="105"/>
                      </a:lnTo>
                      <a:lnTo>
                        <a:pt x="40" y="100"/>
                      </a:lnTo>
                      <a:lnTo>
                        <a:pt x="34" y="96"/>
                      </a:lnTo>
                      <a:lnTo>
                        <a:pt x="27" y="88"/>
                      </a:lnTo>
                      <a:lnTo>
                        <a:pt x="24" y="81"/>
                      </a:lnTo>
                      <a:lnTo>
                        <a:pt x="22" y="65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793840" y="3166200"/>
                  <a:ext cx="24480" cy="24840"/>
                </a:xfrm>
                <a:custGeom>
                  <a:avLst/>
                  <a:gdLst/>
                  <a:ahLst/>
                  <a:rect l="l" t="t" r="r" b="b"/>
                  <a:pathLst>
                    <a:path w="86" h="87">
                      <a:moveTo>
                        <a:pt x="12" y="13"/>
                      </a:moveTo>
                      <a:lnTo>
                        <a:pt x="2" y="27"/>
                      </a:lnTo>
                      <a:lnTo>
                        <a:pt x="0" y="44"/>
                      </a:lnTo>
                      <a:lnTo>
                        <a:pt x="2" y="60"/>
                      </a:lnTo>
                      <a:lnTo>
                        <a:pt x="5" y="67"/>
                      </a:lnTo>
                      <a:lnTo>
                        <a:pt x="12" y="75"/>
                      </a:lnTo>
                      <a:lnTo>
                        <a:pt x="18" y="79"/>
                      </a:lnTo>
                      <a:lnTo>
                        <a:pt x="26" y="84"/>
                      </a:lnTo>
                      <a:lnTo>
                        <a:pt x="34" y="86"/>
                      </a:lnTo>
                      <a:lnTo>
                        <a:pt x="43" y="87"/>
                      </a:lnTo>
                      <a:lnTo>
                        <a:pt x="43" y="86"/>
                      </a:lnTo>
                      <a:lnTo>
                        <a:pt x="44" y="86"/>
                      </a:lnTo>
                      <a:lnTo>
                        <a:pt x="46" y="86"/>
                      </a:lnTo>
                      <a:lnTo>
                        <a:pt x="51" y="86"/>
                      </a:lnTo>
                      <a:lnTo>
                        <a:pt x="58" y="84"/>
                      </a:lnTo>
                      <a:lnTo>
                        <a:pt x="65" y="79"/>
                      </a:lnTo>
                      <a:lnTo>
                        <a:pt x="73" y="75"/>
                      </a:lnTo>
                      <a:lnTo>
                        <a:pt x="78" y="67"/>
                      </a:lnTo>
                      <a:lnTo>
                        <a:pt x="82" y="60"/>
                      </a:lnTo>
                      <a:lnTo>
                        <a:pt x="85" y="51"/>
                      </a:lnTo>
                      <a:lnTo>
                        <a:pt x="86" y="44"/>
                      </a:lnTo>
                      <a:lnTo>
                        <a:pt x="85" y="35"/>
                      </a:lnTo>
                      <a:lnTo>
                        <a:pt x="82" y="27"/>
                      </a:lnTo>
                      <a:lnTo>
                        <a:pt x="73" y="13"/>
                      </a:lnTo>
                      <a:lnTo>
                        <a:pt x="65" y="6"/>
                      </a:lnTo>
                      <a:lnTo>
                        <a:pt x="58" y="2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2"/>
                      </a:lnTo>
                      <a:lnTo>
                        <a:pt x="18" y="6"/>
                      </a:lnTo>
                      <a:lnTo>
                        <a:pt x="12" y="13"/>
                      </a:lnTo>
                      <a:close/>
                      <a:moveTo>
                        <a:pt x="21" y="44"/>
                      </a:moveTo>
                      <a:lnTo>
                        <a:pt x="22" y="35"/>
                      </a:lnTo>
                      <a:lnTo>
                        <a:pt x="27" y="28"/>
                      </a:lnTo>
                      <a:lnTo>
                        <a:pt x="34" y="24"/>
                      </a:lnTo>
                      <a:lnTo>
                        <a:pt x="43" y="23"/>
                      </a:lnTo>
                      <a:lnTo>
                        <a:pt x="51" y="24"/>
                      </a:lnTo>
                      <a:lnTo>
                        <a:pt x="57" y="28"/>
                      </a:lnTo>
                      <a:lnTo>
                        <a:pt x="62" y="35"/>
                      </a:lnTo>
                      <a:lnTo>
                        <a:pt x="64" y="44"/>
                      </a:lnTo>
                      <a:lnTo>
                        <a:pt x="62" y="51"/>
                      </a:lnTo>
                      <a:lnTo>
                        <a:pt x="60" y="54"/>
                      </a:lnTo>
                      <a:lnTo>
                        <a:pt x="57" y="59"/>
                      </a:lnTo>
                      <a:lnTo>
                        <a:pt x="51" y="62"/>
                      </a:lnTo>
                      <a:lnTo>
                        <a:pt x="46" y="64"/>
                      </a:lnTo>
                      <a:lnTo>
                        <a:pt x="44" y="64"/>
                      </a:lnTo>
                      <a:lnTo>
                        <a:pt x="43" y="64"/>
                      </a:lnTo>
                      <a:lnTo>
                        <a:pt x="43" y="65"/>
                      </a:lnTo>
                      <a:lnTo>
                        <a:pt x="34" y="62"/>
                      </a:lnTo>
                      <a:lnTo>
                        <a:pt x="27" y="59"/>
                      </a:lnTo>
                      <a:lnTo>
                        <a:pt x="23" y="54"/>
                      </a:lnTo>
                      <a:lnTo>
                        <a:pt x="22" y="51"/>
                      </a:lnTo>
                      <a:lnTo>
                        <a:pt x="21" y="44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799960" y="317232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6" y="5"/>
                      </a:moveTo>
                      <a:lnTo>
                        <a:pt x="1" y="12"/>
                      </a:lnTo>
                      <a:lnTo>
                        <a:pt x="0" y="21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6" y="36"/>
                      </a:lnTo>
                      <a:lnTo>
                        <a:pt x="13" y="39"/>
                      </a:lnTo>
                      <a:lnTo>
                        <a:pt x="22" y="42"/>
                      </a:lnTo>
                      <a:lnTo>
                        <a:pt x="22" y="41"/>
                      </a:lnTo>
                      <a:lnTo>
                        <a:pt x="23" y="41"/>
                      </a:lnTo>
                      <a:lnTo>
                        <a:pt x="25" y="41"/>
                      </a:lnTo>
                      <a:lnTo>
                        <a:pt x="30" y="39"/>
                      </a:lnTo>
                      <a:lnTo>
                        <a:pt x="36" y="36"/>
                      </a:lnTo>
                      <a:lnTo>
                        <a:pt x="39" y="31"/>
                      </a:lnTo>
                      <a:lnTo>
                        <a:pt x="41" y="28"/>
                      </a:lnTo>
                      <a:lnTo>
                        <a:pt x="43" y="21"/>
                      </a:lnTo>
                      <a:lnTo>
                        <a:pt x="41" y="12"/>
                      </a:lnTo>
                      <a:lnTo>
                        <a:pt x="36" y="5"/>
                      </a:lnTo>
                      <a:lnTo>
                        <a:pt x="30" y="1"/>
                      </a:lnTo>
                      <a:lnTo>
                        <a:pt x="22" y="0"/>
                      </a:lnTo>
                      <a:lnTo>
                        <a:pt x="13" y="1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663880" y="317772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2" y="72"/>
                      </a:lnTo>
                      <a:lnTo>
                        <a:pt x="11" y="118"/>
                      </a:lnTo>
                      <a:lnTo>
                        <a:pt x="23" y="161"/>
                      </a:lnTo>
                      <a:lnTo>
                        <a:pt x="40" y="203"/>
                      </a:lnTo>
                      <a:lnTo>
                        <a:pt x="59" y="243"/>
                      </a:lnTo>
                      <a:lnTo>
                        <a:pt x="84" y="281"/>
                      </a:lnTo>
                      <a:lnTo>
                        <a:pt x="96" y="299"/>
                      </a:lnTo>
                      <a:lnTo>
                        <a:pt x="111" y="318"/>
                      </a:lnTo>
                      <a:lnTo>
                        <a:pt x="145" y="355"/>
                      </a:lnTo>
                      <a:lnTo>
                        <a:pt x="181" y="389"/>
                      </a:lnTo>
                      <a:lnTo>
                        <a:pt x="221" y="418"/>
                      </a:lnTo>
                      <a:lnTo>
                        <a:pt x="261" y="443"/>
                      </a:lnTo>
                      <a:lnTo>
                        <a:pt x="305" y="464"/>
                      </a:lnTo>
                      <a:lnTo>
                        <a:pt x="349" y="479"/>
                      </a:lnTo>
                      <a:lnTo>
                        <a:pt x="397" y="491"/>
                      </a:lnTo>
                      <a:lnTo>
                        <a:pt x="446" y="498"/>
                      </a:lnTo>
                      <a:lnTo>
                        <a:pt x="497" y="500"/>
                      </a:lnTo>
                      <a:lnTo>
                        <a:pt x="526" y="499"/>
                      </a:lnTo>
                      <a:lnTo>
                        <a:pt x="557" y="496"/>
                      </a:lnTo>
                      <a:lnTo>
                        <a:pt x="586" y="492"/>
                      </a:lnTo>
                      <a:lnTo>
                        <a:pt x="616" y="486"/>
                      </a:lnTo>
                      <a:lnTo>
                        <a:pt x="636" y="459"/>
                      </a:lnTo>
                      <a:lnTo>
                        <a:pt x="602" y="467"/>
                      </a:lnTo>
                      <a:lnTo>
                        <a:pt x="568" y="473"/>
                      </a:lnTo>
                      <a:lnTo>
                        <a:pt x="532" y="476"/>
                      </a:lnTo>
                      <a:lnTo>
                        <a:pt x="514" y="477"/>
                      </a:lnTo>
                      <a:lnTo>
                        <a:pt x="505" y="477"/>
                      </a:lnTo>
                      <a:lnTo>
                        <a:pt x="500" y="477"/>
                      </a:lnTo>
                      <a:lnTo>
                        <a:pt x="498" y="477"/>
                      </a:lnTo>
                      <a:lnTo>
                        <a:pt x="497" y="477"/>
                      </a:lnTo>
                      <a:lnTo>
                        <a:pt x="497" y="478"/>
                      </a:lnTo>
                      <a:lnTo>
                        <a:pt x="447" y="476"/>
                      </a:lnTo>
                      <a:lnTo>
                        <a:pt x="400" y="469"/>
                      </a:lnTo>
                      <a:lnTo>
                        <a:pt x="355" y="458"/>
                      </a:lnTo>
                      <a:lnTo>
                        <a:pt x="313" y="443"/>
                      </a:lnTo>
                      <a:lnTo>
                        <a:pt x="271" y="423"/>
                      </a:lnTo>
                      <a:lnTo>
                        <a:pt x="232" y="399"/>
                      </a:lnTo>
                      <a:lnTo>
                        <a:pt x="195" y="371"/>
                      </a:lnTo>
                      <a:lnTo>
                        <a:pt x="160" y="339"/>
                      </a:lnTo>
                      <a:lnTo>
                        <a:pt x="126" y="303"/>
                      </a:lnTo>
                      <a:lnTo>
                        <a:pt x="98" y="265"/>
                      </a:lnTo>
                      <a:lnTo>
                        <a:pt x="84" y="245"/>
                      </a:lnTo>
                      <a:lnTo>
                        <a:pt x="73" y="226"/>
                      </a:lnTo>
                      <a:lnTo>
                        <a:pt x="54" y="185"/>
                      </a:lnTo>
                      <a:lnTo>
                        <a:pt x="39" y="142"/>
                      </a:lnTo>
                      <a:lnTo>
                        <a:pt x="28" y="97"/>
                      </a:lnTo>
                      <a:lnTo>
                        <a:pt x="24" y="74"/>
                      </a:lnTo>
                      <a:lnTo>
                        <a:pt x="22" y="51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669640" y="3171240"/>
                  <a:ext cx="181080" cy="143280"/>
                </a:xfrm>
                <a:custGeom>
                  <a:avLst/>
                  <a:gdLst/>
                  <a:ahLst/>
                  <a:rect l="l" t="t" r="r" b="b"/>
                  <a:pathLst>
                    <a:path w="634" h="502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2" y="75"/>
                      </a:lnTo>
                      <a:lnTo>
                        <a:pt x="4" y="98"/>
                      </a:lnTo>
                      <a:lnTo>
                        <a:pt x="8" y="121"/>
                      </a:lnTo>
                      <a:lnTo>
                        <a:pt x="19" y="166"/>
                      </a:lnTo>
                      <a:lnTo>
                        <a:pt x="34" y="209"/>
                      </a:lnTo>
                      <a:lnTo>
                        <a:pt x="53" y="250"/>
                      </a:lnTo>
                      <a:lnTo>
                        <a:pt x="64" y="269"/>
                      </a:lnTo>
                      <a:lnTo>
                        <a:pt x="78" y="289"/>
                      </a:lnTo>
                      <a:lnTo>
                        <a:pt x="106" y="327"/>
                      </a:lnTo>
                      <a:lnTo>
                        <a:pt x="140" y="363"/>
                      </a:lnTo>
                      <a:lnTo>
                        <a:pt x="175" y="395"/>
                      </a:lnTo>
                      <a:lnTo>
                        <a:pt x="212" y="423"/>
                      </a:lnTo>
                      <a:lnTo>
                        <a:pt x="251" y="447"/>
                      </a:lnTo>
                      <a:lnTo>
                        <a:pt x="293" y="467"/>
                      </a:lnTo>
                      <a:lnTo>
                        <a:pt x="335" y="482"/>
                      </a:lnTo>
                      <a:lnTo>
                        <a:pt x="380" y="493"/>
                      </a:lnTo>
                      <a:lnTo>
                        <a:pt x="427" y="500"/>
                      </a:lnTo>
                      <a:lnTo>
                        <a:pt x="477" y="502"/>
                      </a:lnTo>
                      <a:lnTo>
                        <a:pt x="477" y="501"/>
                      </a:lnTo>
                      <a:lnTo>
                        <a:pt x="478" y="501"/>
                      </a:lnTo>
                      <a:lnTo>
                        <a:pt x="480" y="501"/>
                      </a:lnTo>
                      <a:lnTo>
                        <a:pt x="485" y="501"/>
                      </a:lnTo>
                      <a:lnTo>
                        <a:pt x="494" y="501"/>
                      </a:lnTo>
                      <a:lnTo>
                        <a:pt x="512" y="500"/>
                      </a:lnTo>
                      <a:lnTo>
                        <a:pt x="548" y="497"/>
                      </a:lnTo>
                      <a:lnTo>
                        <a:pt x="582" y="491"/>
                      </a:lnTo>
                      <a:lnTo>
                        <a:pt x="616" y="483"/>
                      </a:lnTo>
                      <a:lnTo>
                        <a:pt x="634" y="454"/>
                      </a:lnTo>
                      <a:lnTo>
                        <a:pt x="596" y="465"/>
                      </a:lnTo>
                      <a:lnTo>
                        <a:pt x="557" y="474"/>
                      </a:lnTo>
                      <a:lnTo>
                        <a:pt x="537" y="476"/>
                      </a:lnTo>
                      <a:lnTo>
                        <a:pt x="517" y="479"/>
                      </a:lnTo>
                      <a:lnTo>
                        <a:pt x="477" y="481"/>
                      </a:lnTo>
                      <a:lnTo>
                        <a:pt x="429" y="479"/>
                      </a:lnTo>
                      <a:lnTo>
                        <a:pt x="385" y="472"/>
                      </a:lnTo>
                      <a:lnTo>
                        <a:pt x="342" y="460"/>
                      </a:lnTo>
                      <a:lnTo>
                        <a:pt x="302" y="447"/>
                      </a:lnTo>
                      <a:lnTo>
                        <a:pt x="262" y="428"/>
                      </a:lnTo>
                      <a:lnTo>
                        <a:pt x="225" y="405"/>
                      </a:lnTo>
                      <a:lnTo>
                        <a:pt x="189" y="378"/>
                      </a:lnTo>
                      <a:lnTo>
                        <a:pt x="156" y="347"/>
                      </a:lnTo>
                      <a:lnTo>
                        <a:pt x="139" y="329"/>
                      </a:lnTo>
                      <a:lnTo>
                        <a:pt x="124" y="312"/>
                      </a:lnTo>
                      <a:lnTo>
                        <a:pt x="97" y="276"/>
                      </a:lnTo>
                      <a:lnTo>
                        <a:pt x="84" y="256"/>
                      </a:lnTo>
                      <a:lnTo>
                        <a:pt x="74" y="238"/>
                      </a:lnTo>
                      <a:lnTo>
                        <a:pt x="56" y="200"/>
                      </a:lnTo>
                      <a:lnTo>
                        <a:pt x="40" y="159"/>
                      </a:lnTo>
                      <a:lnTo>
                        <a:pt x="34" y="137"/>
                      </a:lnTo>
                      <a:lnTo>
                        <a:pt x="31" y="117"/>
                      </a:lnTo>
                      <a:lnTo>
                        <a:pt x="26" y="94"/>
                      </a:lnTo>
                      <a:lnTo>
                        <a:pt x="24" y="73"/>
                      </a:lnTo>
                      <a:lnTo>
                        <a:pt x="23" y="27"/>
                      </a:lnTo>
                      <a:lnTo>
                        <a:pt x="2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694840" y="3150000"/>
                  <a:ext cx="16704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7">
                      <a:moveTo>
                        <a:pt x="34" y="0"/>
                      </a:moveTo>
                      <a:lnTo>
                        <a:pt x="9" y="14"/>
                      </a:lnTo>
                      <a:lnTo>
                        <a:pt x="4" y="34"/>
                      </a:lnTo>
                      <a:lnTo>
                        <a:pt x="2" y="55"/>
                      </a:lnTo>
                      <a:lnTo>
                        <a:pt x="0" y="99"/>
                      </a:lnTo>
                      <a:lnTo>
                        <a:pt x="1" y="138"/>
                      </a:lnTo>
                      <a:lnTo>
                        <a:pt x="7" y="176"/>
                      </a:lnTo>
                      <a:lnTo>
                        <a:pt x="14" y="213"/>
                      </a:lnTo>
                      <a:lnTo>
                        <a:pt x="20" y="230"/>
                      </a:lnTo>
                      <a:lnTo>
                        <a:pt x="28" y="248"/>
                      </a:lnTo>
                      <a:lnTo>
                        <a:pt x="43" y="281"/>
                      </a:lnTo>
                      <a:lnTo>
                        <a:pt x="52" y="297"/>
                      </a:lnTo>
                      <a:lnTo>
                        <a:pt x="63" y="314"/>
                      </a:lnTo>
                      <a:lnTo>
                        <a:pt x="73" y="328"/>
                      </a:lnTo>
                      <a:lnTo>
                        <a:pt x="86" y="344"/>
                      </a:lnTo>
                      <a:lnTo>
                        <a:pt x="113" y="374"/>
                      </a:lnTo>
                      <a:lnTo>
                        <a:pt x="141" y="400"/>
                      </a:lnTo>
                      <a:lnTo>
                        <a:pt x="172" y="422"/>
                      </a:lnTo>
                      <a:lnTo>
                        <a:pt x="204" y="442"/>
                      </a:lnTo>
                      <a:lnTo>
                        <a:pt x="239" y="459"/>
                      </a:lnTo>
                      <a:lnTo>
                        <a:pt x="273" y="470"/>
                      </a:lnTo>
                      <a:lnTo>
                        <a:pt x="310" y="479"/>
                      </a:lnTo>
                      <a:lnTo>
                        <a:pt x="348" y="485"/>
                      </a:lnTo>
                      <a:lnTo>
                        <a:pt x="389" y="487"/>
                      </a:lnTo>
                      <a:lnTo>
                        <a:pt x="414" y="486"/>
                      </a:lnTo>
                      <a:lnTo>
                        <a:pt x="440" y="484"/>
                      </a:lnTo>
                      <a:lnTo>
                        <a:pt x="463" y="479"/>
                      </a:lnTo>
                      <a:lnTo>
                        <a:pt x="488" y="475"/>
                      </a:lnTo>
                      <a:lnTo>
                        <a:pt x="511" y="467"/>
                      </a:lnTo>
                      <a:lnTo>
                        <a:pt x="522" y="462"/>
                      </a:lnTo>
                      <a:lnTo>
                        <a:pt x="528" y="460"/>
                      </a:lnTo>
                      <a:lnTo>
                        <a:pt x="535" y="459"/>
                      </a:lnTo>
                      <a:lnTo>
                        <a:pt x="539" y="455"/>
                      </a:lnTo>
                      <a:lnTo>
                        <a:pt x="545" y="453"/>
                      </a:lnTo>
                      <a:lnTo>
                        <a:pt x="556" y="448"/>
                      </a:lnTo>
                      <a:lnTo>
                        <a:pt x="579" y="438"/>
                      </a:lnTo>
                      <a:lnTo>
                        <a:pt x="581" y="424"/>
                      </a:lnTo>
                      <a:lnTo>
                        <a:pt x="585" y="410"/>
                      </a:lnTo>
                      <a:lnTo>
                        <a:pt x="562" y="422"/>
                      </a:lnTo>
                      <a:lnTo>
                        <a:pt x="539" y="434"/>
                      </a:lnTo>
                      <a:lnTo>
                        <a:pt x="516" y="443"/>
                      </a:lnTo>
                      <a:lnTo>
                        <a:pt x="509" y="444"/>
                      </a:lnTo>
                      <a:lnTo>
                        <a:pt x="503" y="446"/>
                      </a:lnTo>
                      <a:lnTo>
                        <a:pt x="492" y="451"/>
                      </a:lnTo>
                      <a:lnTo>
                        <a:pt x="478" y="453"/>
                      </a:lnTo>
                      <a:lnTo>
                        <a:pt x="471" y="454"/>
                      </a:lnTo>
                      <a:lnTo>
                        <a:pt x="466" y="456"/>
                      </a:lnTo>
                      <a:lnTo>
                        <a:pt x="441" y="461"/>
                      </a:lnTo>
                      <a:lnTo>
                        <a:pt x="427" y="462"/>
                      </a:lnTo>
                      <a:lnTo>
                        <a:pt x="415" y="464"/>
                      </a:lnTo>
                      <a:lnTo>
                        <a:pt x="401" y="464"/>
                      </a:lnTo>
                      <a:lnTo>
                        <a:pt x="394" y="464"/>
                      </a:lnTo>
                      <a:lnTo>
                        <a:pt x="391" y="464"/>
                      </a:lnTo>
                      <a:lnTo>
                        <a:pt x="389" y="465"/>
                      </a:lnTo>
                      <a:lnTo>
                        <a:pt x="350" y="463"/>
                      </a:lnTo>
                      <a:lnTo>
                        <a:pt x="315" y="459"/>
                      </a:lnTo>
                      <a:lnTo>
                        <a:pt x="280" y="450"/>
                      </a:lnTo>
                      <a:lnTo>
                        <a:pt x="247" y="438"/>
                      </a:lnTo>
                      <a:lnTo>
                        <a:pt x="214" y="422"/>
                      </a:lnTo>
                      <a:lnTo>
                        <a:pt x="185" y="404"/>
                      </a:lnTo>
                      <a:lnTo>
                        <a:pt x="155" y="383"/>
                      </a:lnTo>
                      <a:lnTo>
                        <a:pt x="129" y="359"/>
                      </a:lnTo>
                      <a:lnTo>
                        <a:pt x="103" y="331"/>
                      </a:lnTo>
                      <a:lnTo>
                        <a:pt x="81" y="301"/>
                      </a:lnTo>
                      <a:lnTo>
                        <a:pt x="62" y="270"/>
                      </a:lnTo>
                      <a:lnTo>
                        <a:pt x="47" y="240"/>
                      </a:lnTo>
                      <a:lnTo>
                        <a:pt x="35" y="206"/>
                      </a:lnTo>
                      <a:lnTo>
                        <a:pt x="27" y="172"/>
                      </a:lnTo>
                      <a:lnTo>
                        <a:pt x="22" y="136"/>
                      </a:lnTo>
                      <a:lnTo>
                        <a:pt x="21" y="99"/>
                      </a:lnTo>
                      <a:lnTo>
                        <a:pt x="21" y="72"/>
                      </a:lnTo>
                      <a:lnTo>
                        <a:pt x="24" y="47"/>
                      </a:lnTo>
                      <a:lnTo>
                        <a:pt x="27" y="22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676480" y="3165120"/>
                  <a:ext cx="178200" cy="143280"/>
                </a:xfrm>
                <a:custGeom>
                  <a:avLst/>
                  <a:gdLst/>
                  <a:ahLst/>
                  <a:rect l="l" t="t" r="r" b="b"/>
                  <a:pathLst>
                    <a:path w="625" h="502">
                      <a:moveTo>
                        <a:pt x="0" y="21"/>
                      </a:moveTo>
                      <a:lnTo>
                        <a:pt x="0" y="48"/>
                      </a:lnTo>
                      <a:lnTo>
                        <a:pt x="1" y="94"/>
                      </a:lnTo>
                      <a:lnTo>
                        <a:pt x="3" y="115"/>
                      </a:lnTo>
                      <a:lnTo>
                        <a:pt x="8" y="138"/>
                      </a:lnTo>
                      <a:lnTo>
                        <a:pt x="11" y="158"/>
                      </a:lnTo>
                      <a:lnTo>
                        <a:pt x="17" y="180"/>
                      </a:lnTo>
                      <a:lnTo>
                        <a:pt x="33" y="221"/>
                      </a:lnTo>
                      <a:lnTo>
                        <a:pt x="51" y="259"/>
                      </a:lnTo>
                      <a:lnTo>
                        <a:pt x="61" y="277"/>
                      </a:lnTo>
                      <a:lnTo>
                        <a:pt x="74" y="297"/>
                      </a:lnTo>
                      <a:lnTo>
                        <a:pt x="101" y="333"/>
                      </a:lnTo>
                      <a:lnTo>
                        <a:pt x="116" y="350"/>
                      </a:lnTo>
                      <a:lnTo>
                        <a:pt x="133" y="368"/>
                      </a:lnTo>
                      <a:lnTo>
                        <a:pt x="166" y="399"/>
                      </a:lnTo>
                      <a:lnTo>
                        <a:pt x="202" y="426"/>
                      </a:lnTo>
                      <a:lnTo>
                        <a:pt x="239" y="449"/>
                      </a:lnTo>
                      <a:lnTo>
                        <a:pt x="279" y="468"/>
                      </a:lnTo>
                      <a:lnTo>
                        <a:pt x="319" y="481"/>
                      </a:lnTo>
                      <a:lnTo>
                        <a:pt x="362" y="493"/>
                      </a:lnTo>
                      <a:lnTo>
                        <a:pt x="406" y="500"/>
                      </a:lnTo>
                      <a:lnTo>
                        <a:pt x="454" y="502"/>
                      </a:lnTo>
                      <a:lnTo>
                        <a:pt x="494" y="500"/>
                      </a:lnTo>
                      <a:lnTo>
                        <a:pt x="514" y="497"/>
                      </a:lnTo>
                      <a:lnTo>
                        <a:pt x="534" y="495"/>
                      </a:lnTo>
                      <a:lnTo>
                        <a:pt x="573" y="486"/>
                      </a:lnTo>
                      <a:lnTo>
                        <a:pt x="611" y="475"/>
                      </a:lnTo>
                      <a:lnTo>
                        <a:pt x="625" y="446"/>
                      </a:lnTo>
                      <a:lnTo>
                        <a:pt x="584" y="460"/>
                      </a:lnTo>
                      <a:lnTo>
                        <a:pt x="573" y="462"/>
                      </a:lnTo>
                      <a:lnTo>
                        <a:pt x="569" y="462"/>
                      </a:lnTo>
                      <a:lnTo>
                        <a:pt x="567" y="463"/>
                      </a:lnTo>
                      <a:lnTo>
                        <a:pt x="562" y="466"/>
                      </a:lnTo>
                      <a:lnTo>
                        <a:pt x="542" y="471"/>
                      </a:lnTo>
                      <a:lnTo>
                        <a:pt x="519" y="475"/>
                      </a:lnTo>
                      <a:lnTo>
                        <a:pt x="508" y="476"/>
                      </a:lnTo>
                      <a:lnTo>
                        <a:pt x="498" y="478"/>
                      </a:lnTo>
                      <a:lnTo>
                        <a:pt x="475" y="479"/>
                      </a:lnTo>
                      <a:lnTo>
                        <a:pt x="464" y="479"/>
                      </a:lnTo>
                      <a:lnTo>
                        <a:pt x="458" y="479"/>
                      </a:lnTo>
                      <a:lnTo>
                        <a:pt x="454" y="480"/>
                      </a:lnTo>
                      <a:lnTo>
                        <a:pt x="408" y="478"/>
                      </a:lnTo>
                      <a:lnTo>
                        <a:pt x="366" y="472"/>
                      </a:lnTo>
                      <a:lnTo>
                        <a:pt x="326" y="462"/>
                      </a:lnTo>
                      <a:lnTo>
                        <a:pt x="287" y="449"/>
                      </a:lnTo>
                      <a:lnTo>
                        <a:pt x="248" y="430"/>
                      </a:lnTo>
                      <a:lnTo>
                        <a:pt x="213" y="409"/>
                      </a:lnTo>
                      <a:lnTo>
                        <a:pt x="179" y="383"/>
                      </a:lnTo>
                      <a:lnTo>
                        <a:pt x="147" y="353"/>
                      </a:lnTo>
                      <a:lnTo>
                        <a:pt x="117" y="320"/>
                      </a:lnTo>
                      <a:lnTo>
                        <a:pt x="92" y="286"/>
                      </a:lnTo>
                      <a:lnTo>
                        <a:pt x="69" y="250"/>
                      </a:lnTo>
                      <a:lnTo>
                        <a:pt x="52" y="213"/>
                      </a:lnTo>
                      <a:lnTo>
                        <a:pt x="38" y="173"/>
                      </a:lnTo>
                      <a:lnTo>
                        <a:pt x="32" y="153"/>
                      </a:lnTo>
                      <a:lnTo>
                        <a:pt x="28" y="133"/>
                      </a:lnTo>
                      <a:lnTo>
                        <a:pt x="23" y="91"/>
                      </a:lnTo>
                      <a:lnTo>
                        <a:pt x="22" y="48"/>
                      </a:lnTo>
                      <a:lnTo>
                        <a:pt x="22" y="22"/>
                      </a:lnTo>
                      <a:lnTo>
                        <a:pt x="24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682240" y="3159360"/>
                  <a:ext cx="176040" cy="142560"/>
                </a:xfrm>
                <a:custGeom>
                  <a:avLst/>
                  <a:gdLst/>
                  <a:ahLst/>
                  <a:rect l="l" t="t" r="r" b="b"/>
                  <a:pathLst>
                    <a:path w="614" h="500">
                      <a:moveTo>
                        <a:pt x="21" y="68"/>
                      </a:moveTo>
                      <a:lnTo>
                        <a:pt x="22" y="33"/>
                      </a:lnTo>
                      <a:lnTo>
                        <a:pt x="26" y="0"/>
                      </a:lnTo>
                      <a:lnTo>
                        <a:pt x="2" y="20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1" y="111"/>
                      </a:lnTo>
                      <a:lnTo>
                        <a:pt x="6" y="153"/>
                      </a:lnTo>
                      <a:lnTo>
                        <a:pt x="10" y="173"/>
                      </a:lnTo>
                      <a:lnTo>
                        <a:pt x="16" y="193"/>
                      </a:lnTo>
                      <a:lnTo>
                        <a:pt x="30" y="233"/>
                      </a:lnTo>
                      <a:lnTo>
                        <a:pt x="47" y="270"/>
                      </a:lnTo>
                      <a:lnTo>
                        <a:pt x="70" y="306"/>
                      </a:lnTo>
                      <a:lnTo>
                        <a:pt x="95" y="340"/>
                      </a:lnTo>
                      <a:lnTo>
                        <a:pt x="125" y="373"/>
                      </a:lnTo>
                      <a:lnTo>
                        <a:pt x="157" y="403"/>
                      </a:lnTo>
                      <a:lnTo>
                        <a:pt x="191" y="429"/>
                      </a:lnTo>
                      <a:lnTo>
                        <a:pt x="226" y="450"/>
                      </a:lnTo>
                      <a:lnTo>
                        <a:pt x="265" y="469"/>
                      </a:lnTo>
                      <a:lnTo>
                        <a:pt x="304" y="482"/>
                      </a:lnTo>
                      <a:lnTo>
                        <a:pt x="344" y="492"/>
                      </a:lnTo>
                      <a:lnTo>
                        <a:pt x="386" y="498"/>
                      </a:lnTo>
                      <a:lnTo>
                        <a:pt x="432" y="500"/>
                      </a:lnTo>
                      <a:lnTo>
                        <a:pt x="436" y="499"/>
                      </a:lnTo>
                      <a:lnTo>
                        <a:pt x="442" y="499"/>
                      </a:lnTo>
                      <a:lnTo>
                        <a:pt x="453" y="499"/>
                      </a:lnTo>
                      <a:lnTo>
                        <a:pt x="476" y="498"/>
                      </a:lnTo>
                      <a:lnTo>
                        <a:pt x="486" y="496"/>
                      </a:lnTo>
                      <a:lnTo>
                        <a:pt x="497" y="495"/>
                      </a:lnTo>
                      <a:lnTo>
                        <a:pt x="520" y="491"/>
                      </a:lnTo>
                      <a:lnTo>
                        <a:pt x="540" y="486"/>
                      </a:lnTo>
                      <a:lnTo>
                        <a:pt x="545" y="483"/>
                      </a:lnTo>
                      <a:lnTo>
                        <a:pt x="547" y="482"/>
                      </a:lnTo>
                      <a:lnTo>
                        <a:pt x="551" y="482"/>
                      </a:lnTo>
                      <a:lnTo>
                        <a:pt x="562" y="480"/>
                      </a:lnTo>
                      <a:lnTo>
                        <a:pt x="603" y="466"/>
                      </a:lnTo>
                      <a:lnTo>
                        <a:pt x="614" y="437"/>
                      </a:lnTo>
                      <a:lnTo>
                        <a:pt x="591" y="446"/>
                      </a:lnTo>
                      <a:lnTo>
                        <a:pt x="571" y="454"/>
                      </a:lnTo>
                      <a:lnTo>
                        <a:pt x="548" y="461"/>
                      </a:lnTo>
                      <a:lnTo>
                        <a:pt x="527" y="467"/>
                      </a:lnTo>
                      <a:lnTo>
                        <a:pt x="503" y="472"/>
                      </a:lnTo>
                      <a:lnTo>
                        <a:pt x="480" y="475"/>
                      </a:lnTo>
                      <a:lnTo>
                        <a:pt x="455" y="478"/>
                      </a:lnTo>
                      <a:lnTo>
                        <a:pt x="443" y="478"/>
                      </a:lnTo>
                      <a:lnTo>
                        <a:pt x="432" y="479"/>
                      </a:lnTo>
                      <a:lnTo>
                        <a:pt x="389" y="476"/>
                      </a:lnTo>
                      <a:lnTo>
                        <a:pt x="349" y="471"/>
                      </a:lnTo>
                      <a:lnTo>
                        <a:pt x="310" y="461"/>
                      </a:lnTo>
                      <a:lnTo>
                        <a:pt x="274" y="448"/>
                      </a:lnTo>
                      <a:lnTo>
                        <a:pt x="238" y="430"/>
                      </a:lnTo>
                      <a:lnTo>
                        <a:pt x="204" y="410"/>
                      </a:lnTo>
                      <a:lnTo>
                        <a:pt x="171" y="385"/>
                      </a:lnTo>
                      <a:lnTo>
                        <a:pt x="141" y="357"/>
                      </a:lnTo>
                      <a:lnTo>
                        <a:pt x="112" y="326"/>
                      </a:lnTo>
                      <a:lnTo>
                        <a:pt x="88" y="294"/>
                      </a:lnTo>
                      <a:lnTo>
                        <a:pt x="67" y="260"/>
                      </a:lnTo>
                      <a:lnTo>
                        <a:pt x="57" y="242"/>
                      </a:lnTo>
                      <a:lnTo>
                        <a:pt x="51" y="225"/>
                      </a:lnTo>
                      <a:lnTo>
                        <a:pt x="43" y="205"/>
                      </a:lnTo>
                      <a:lnTo>
                        <a:pt x="37" y="187"/>
                      </a:lnTo>
                      <a:lnTo>
                        <a:pt x="28" y="149"/>
                      </a:lnTo>
                      <a:lnTo>
                        <a:pt x="22" y="109"/>
                      </a:lnTo>
                      <a:lnTo>
                        <a:pt x="21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688360" y="3154680"/>
                  <a:ext cx="172080" cy="141120"/>
                </a:xfrm>
                <a:custGeom>
                  <a:avLst/>
                  <a:gdLst/>
                  <a:ahLst/>
                  <a:rect l="l" t="t" r="r" b="b"/>
                  <a:pathLst>
                    <a:path w="601" h="496">
                      <a:moveTo>
                        <a:pt x="5" y="17"/>
                      </a:moveTo>
                      <a:lnTo>
                        <a:pt x="1" y="50"/>
                      </a:lnTo>
                      <a:lnTo>
                        <a:pt x="0" y="85"/>
                      </a:lnTo>
                      <a:lnTo>
                        <a:pt x="1" y="126"/>
                      </a:lnTo>
                      <a:lnTo>
                        <a:pt x="7" y="166"/>
                      </a:lnTo>
                      <a:lnTo>
                        <a:pt x="16" y="204"/>
                      </a:lnTo>
                      <a:lnTo>
                        <a:pt x="22" y="222"/>
                      </a:lnTo>
                      <a:lnTo>
                        <a:pt x="30" y="242"/>
                      </a:lnTo>
                      <a:lnTo>
                        <a:pt x="36" y="259"/>
                      </a:lnTo>
                      <a:lnTo>
                        <a:pt x="46" y="277"/>
                      </a:lnTo>
                      <a:lnTo>
                        <a:pt x="67" y="311"/>
                      </a:lnTo>
                      <a:lnTo>
                        <a:pt x="91" y="343"/>
                      </a:lnTo>
                      <a:lnTo>
                        <a:pt x="120" y="374"/>
                      </a:lnTo>
                      <a:lnTo>
                        <a:pt x="150" y="402"/>
                      </a:lnTo>
                      <a:lnTo>
                        <a:pt x="183" y="427"/>
                      </a:lnTo>
                      <a:lnTo>
                        <a:pt x="217" y="447"/>
                      </a:lnTo>
                      <a:lnTo>
                        <a:pt x="253" y="465"/>
                      </a:lnTo>
                      <a:lnTo>
                        <a:pt x="289" y="478"/>
                      </a:lnTo>
                      <a:lnTo>
                        <a:pt x="328" y="488"/>
                      </a:lnTo>
                      <a:lnTo>
                        <a:pt x="368" y="493"/>
                      </a:lnTo>
                      <a:lnTo>
                        <a:pt x="411" y="496"/>
                      </a:lnTo>
                      <a:lnTo>
                        <a:pt x="422" y="495"/>
                      </a:lnTo>
                      <a:lnTo>
                        <a:pt x="434" y="495"/>
                      </a:lnTo>
                      <a:lnTo>
                        <a:pt x="459" y="492"/>
                      </a:lnTo>
                      <a:lnTo>
                        <a:pt x="482" y="489"/>
                      </a:lnTo>
                      <a:lnTo>
                        <a:pt x="506" y="484"/>
                      </a:lnTo>
                      <a:lnTo>
                        <a:pt x="527" y="478"/>
                      </a:lnTo>
                      <a:lnTo>
                        <a:pt x="550" y="471"/>
                      </a:lnTo>
                      <a:lnTo>
                        <a:pt x="570" y="463"/>
                      </a:lnTo>
                      <a:lnTo>
                        <a:pt x="593" y="454"/>
                      </a:lnTo>
                      <a:lnTo>
                        <a:pt x="601" y="424"/>
                      </a:lnTo>
                      <a:lnTo>
                        <a:pt x="578" y="434"/>
                      </a:lnTo>
                      <a:lnTo>
                        <a:pt x="567" y="439"/>
                      </a:lnTo>
                      <a:lnTo>
                        <a:pt x="561" y="441"/>
                      </a:lnTo>
                      <a:lnTo>
                        <a:pt x="557" y="445"/>
                      </a:lnTo>
                      <a:lnTo>
                        <a:pt x="550" y="446"/>
                      </a:lnTo>
                      <a:lnTo>
                        <a:pt x="544" y="448"/>
                      </a:lnTo>
                      <a:lnTo>
                        <a:pt x="533" y="453"/>
                      </a:lnTo>
                      <a:lnTo>
                        <a:pt x="510" y="461"/>
                      </a:lnTo>
                      <a:lnTo>
                        <a:pt x="485" y="465"/>
                      </a:lnTo>
                      <a:lnTo>
                        <a:pt x="462" y="470"/>
                      </a:lnTo>
                      <a:lnTo>
                        <a:pt x="436" y="472"/>
                      </a:lnTo>
                      <a:lnTo>
                        <a:pt x="411" y="473"/>
                      </a:lnTo>
                      <a:lnTo>
                        <a:pt x="370" y="471"/>
                      </a:lnTo>
                      <a:lnTo>
                        <a:pt x="332" y="465"/>
                      </a:lnTo>
                      <a:lnTo>
                        <a:pt x="295" y="456"/>
                      </a:lnTo>
                      <a:lnTo>
                        <a:pt x="261" y="445"/>
                      </a:lnTo>
                      <a:lnTo>
                        <a:pt x="226" y="428"/>
                      </a:lnTo>
                      <a:lnTo>
                        <a:pt x="194" y="408"/>
                      </a:lnTo>
                      <a:lnTo>
                        <a:pt x="163" y="386"/>
                      </a:lnTo>
                      <a:lnTo>
                        <a:pt x="135" y="360"/>
                      </a:lnTo>
                      <a:lnTo>
                        <a:pt x="108" y="330"/>
                      </a:lnTo>
                      <a:lnTo>
                        <a:pt x="95" y="314"/>
                      </a:lnTo>
                      <a:lnTo>
                        <a:pt x="85" y="300"/>
                      </a:lnTo>
                      <a:lnTo>
                        <a:pt x="74" y="283"/>
                      </a:lnTo>
                      <a:lnTo>
                        <a:pt x="65" y="267"/>
                      </a:lnTo>
                      <a:lnTo>
                        <a:pt x="50" y="234"/>
                      </a:lnTo>
                      <a:lnTo>
                        <a:pt x="42" y="216"/>
                      </a:lnTo>
                      <a:lnTo>
                        <a:pt x="36" y="199"/>
                      </a:lnTo>
                      <a:lnTo>
                        <a:pt x="29" y="162"/>
                      </a:lnTo>
                      <a:lnTo>
                        <a:pt x="23" y="124"/>
                      </a:lnTo>
                      <a:lnTo>
                        <a:pt x="22" y="85"/>
                      </a:lnTo>
                      <a:lnTo>
                        <a:pt x="24" y="41"/>
                      </a:lnTo>
                      <a:lnTo>
                        <a:pt x="26" y="20"/>
                      </a:lnTo>
                      <a:lnTo>
                        <a:pt x="31" y="0"/>
                      </a:lnTo>
                      <a:lnTo>
                        <a:pt x="5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00960" y="314676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8">
                      <a:moveTo>
                        <a:pt x="13" y="13"/>
                      </a:moveTo>
                      <a:lnTo>
                        <a:pt x="6" y="35"/>
                      </a:lnTo>
                      <a:lnTo>
                        <a:pt x="3" y="60"/>
                      </a:lnTo>
                      <a:lnTo>
                        <a:pt x="0" y="85"/>
                      </a:lnTo>
                      <a:lnTo>
                        <a:pt x="0" y="112"/>
                      </a:lnTo>
                      <a:lnTo>
                        <a:pt x="1" y="149"/>
                      </a:lnTo>
                      <a:lnTo>
                        <a:pt x="6" y="185"/>
                      </a:lnTo>
                      <a:lnTo>
                        <a:pt x="14" y="219"/>
                      </a:lnTo>
                      <a:lnTo>
                        <a:pt x="26" y="253"/>
                      </a:lnTo>
                      <a:lnTo>
                        <a:pt x="41" y="283"/>
                      </a:lnTo>
                      <a:lnTo>
                        <a:pt x="60" y="314"/>
                      </a:lnTo>
                      <a:lnTo>
                        <a:pt x="82" y="344"/>
                      </a:lnTo>
                      <a:lnTo>
                        <a:pt x="108" y="372"/>
                      </a:lnTo>
                      <a:lnTo>
                        <a:pt x="134" y="396"/>
                      </a:lnTo>
                      <a:lnTo>
                        <a:pt x="164" y="417"/>
                      </a:lnTo>
                      <a:lnTo>
                        <a:pt x="193" y="435"/>
                      </a:lnTo>
                      <a:lnTo>
                        <a:pt x="226" y="451"/>
                      </a:lnTo>
                      <a:lnTo>
                        <a:pt x="259" y="463"/>
                      </a:lnTo>
                      <a:lnTo>
                        <a:pt x="294" y="472"/>
                      </a:lnTo>
                      <a:lnTo>
                        <a:pt x="329" y="476"/>
                      </a:lnTo>
                      <a:lnTo>
                        <a:pt x="368" y="478"/>
                      </a:lnTo>
                      <a:lnTo>
                        <a:pt x="370" y="477"/>
                      </a:lnTo>
                      <a:lnTo>
                        <a:pt x="373" y="477"/>
                      </a:lnTo>
                      <a:lnTo>
                        <a:pt x="380" y="477"/>
                      </a:lnTo>
                      <a:lnTo>
                        <a:pt x="394" y="477"/>
                      </a:lnTo>
                      <a:lnTo>
                        <a:pt x="406" y="475"/>
                      </a:lnTo>
                      <a:lnTo>
                        <a:pt x="420" y="474"/>
                      </a:lnTo>
                      <a:lnTo>
                        <a:pt x="445" y="469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1" y="464"/>
                      </a:lnTo>
                      <a:lnTo>
                        <a:pt x="482" y="459"/>
                      </a:lnTo>
                      <a:lnTo>
                        <a:pt x="488" y="457"/>
                      </a:lnTo>
                      <a:lnTo>
                        <a:pt x="495" y="456"/>
                      </a:lnTo>
                      <a:lnTo>
                        <a:pt x="518" y="447"/>
                      </a:lnTo>
                      <a:lnTo>
                        <a:pt x="541" y="435"/>
                      </a:lnTo>
                      <a:lnTo>
                        <a:pt x="564" y="423"/>
                      </a:lnTo>
                      <a:lnTo>
                        <a:pt x="568" y="393"/>
                      </a:lnTo>
                      <a:lnTo>
                        <a:pt x="556" y="400"/>
                      </a:lnTo>
                      <a:lnTo>
                        <a:pt x="544" y="408"/>
                      </a:lnTo>
                      <a:lnTo>
                        <a:pt x="522" y="421"/>
                      </a:lnTo>
                      <a:lnTo>
                        <a:pt x="509" y="425"/>
                      </a:lnTo>
                      <a:lnTo>
                        <a:pt x="498" y="431"/>
                      </a:lnTo>
                      <a:lnTo>
                        <a:pt x="486" y="435"/>
                      </a:lnTo>
                      <a:lnTo>
                        <a:pt x="474" y="441"/>
                      </a:lnTo>
                      <a:lnTo>
                        <a:pt x="448" y="448"/>
                      </a:lnTo>
                      <a:lnTo>
                        <a:pt x="435" y="450"/>
                      </a:lnTo>
                      <a:lnTo>
                        <a:pt x="428" y="451"/>
                      </a:lnTo>
                      <a:lnTo>
                        <a:pt x="422" y="454"/>
                      </a:lnTo>
                      <a:lnTo>
                        <a:pt x="395" y="457"/>
                      </a:lnTo>
                      <a:lnTo>
                        <a:pt x="368" y="458"/>
                      </a:lnTo>
                      <a:lnTo>
                        <a:pt x="331" y="456"/>
                      </a:lnTo>
                      <a:lnTo>
                        <a:pt x="297" y="451"/>
                      </a:lnTo>
                      <a:lnTo>
                        <a:pt x="264" y="442"/>
                      </a:lnTo>
                      <a:lnTo>
                        <a:pt x="234" y="432"/>
                      </a:lnTo>
                      <a:lnTo>
                        <a:pt x="203" y="417"/>
                      </a:lnTo>
                      <a:lnTo>
                        <a:pt x="175" y="400"/>
                      </a:lnTo>
                      <a:lnTo>
                        <a:pt x="148" y="379"/>
                      </a:lnTo>
                      <a:lnTo>
                        <a:pt x="123" y="356"/>
                      </a:lnTo>
                      <a:lnTo>
                        <a:pt x="98" y="329"/>
                      </a:lnTo>
                      <a:lnTo>
                        <a:pt x="77" y="302"/>
                      </a:lnTo>
                      <a:lnTo>
                        <a:pt x="60" y="273"/>
                      </a:lnTo>
                      <a:lnTo>
                        <a:pt x="47" y="244"/>
                      </a:lnTo>
                      <a:lnTo>
                        <a:pt x="35" y="212"/>
                      </a:lnTo>
                      <a:lnTo>
                        <a:pt x="27" y="180"/>
                      </a:lnTo>
                      <a:lnTo>
                        <a:pt x="23" y="146"/>
                      </a:lnTo>
                      <a:lnTo>
                        <a:pt x="22" y="112"/>
                      </a:lnTo>
                      <a:lnTo>
                        <a:pt x="23" y="82"/>
                      </a:lnTo>
                      <a:lnTo>
                        <a:pt x="26" y="53"/>
                      </a:lnTo>
                      <a:lnTo>
                        <a:pt x="32" y="26"/>
                      </a:lnTo>
                      <a:lnTo>
                        <a:pt x="40" y="0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706720" y="3143880"/>
                  <a:ext cx="156600" cy="133200"/>
                </a:xfrm>
                <a:custGeom>
                  <a:avLst/>
                  <a:gdLst/>
                  <a:ahLst/>
                  <a:rect l="l" t="t" r="r" b="b"/>
                  <a:pathLst>
                    <a:path w="547" h="468">
                      <a:moveTo>
                        <a:pt x="44" y="0"/>
                      </a:moveTo>
                      <a:lnTo>
                        <a:pt x="18" y="10"/>
                      </a:lnTo>
                      <a:lnTo>
                        <a:pt x="10" y="36"/>
                      </a:lnTo>
                      <a:lnTo>
                        <a:pt x="4" y="63"/>
                      </a:lnTo>
                      <a:lnTo>
                        <a:pt x="1" y="92"/>
                      </a:lnTo>
                      <a:lnTo>
                        <a:pt x="0" y="122"/>
                      </a:lnTo>
                      <a:lnTo>
                        <a:pt x="1" y="156"/>
                      </a:lnTo>
                      <a:lnTo>
                        <a:pt x="5" y="190"/>
                      </a:lnTo>
                      <a:lnTo>
                        <a:pt x="13" y="222"/>
                      </a:lnTo>
                      <a:lnTo>
                        <a:pt x="25" y="254"/>
                      </a:lnTo>
                      <a:lnTo>
                        <a:pt x="38" y="283"/>
                      </a:lnTo>
                      <a:lnTo>
                        <a:pt x="55" y="312"/>
                      </a:lnTo>
                      <a:lnTo>
                        <a:pt x="76" y="339"/>
                      </a:lnTo>
                      <a:lnTo>
                        <a:pt x="101" y="366"/>
                      </a:lnTo>
                      <a:lnTo>
                        <a:pt x="126" y="389"/>
                      </a:lnTo>
                      <a:lnTo>
                        <a:pt x="153" y="410"/>
                      </a:lnTo>
                      <a:lnTo>
                        <a:pt x="181" y="427"/>
                      </a:lnTo>
                      <a:lnTo>
                        <a:pt x="212" y="442"/>
                      </a:lnTo>
                      <a:lnTo>
                        <a:pt x="242" y="452"/>
                      </a:lnTo>
                      <a:lnTo>
                        <a:pt x="275" y="461"/>
                      </a:lnTo>
                      <a:lnTo>
                        <a:pt x="309" y="466"/>
                      </a:lnTo>
                      <a:lnTo>
                        <a:pt x="346" y="468"/>
                      </a:lnTo>
                      <a:lnTo>
                        <a:pt x="373" y="467"/>
                      </a:lnTo>
                      <a:lnTo>
                        <a:pt x="400" y="464"/>
                      </a:lnTo>
                      <a:lnTo>
                        <a:pt x="406" y="461"/>
                      </a:lnTo>
                      <a:lnTo>
                        <a:pt x="413" y="460"/>
                      </a:lnTo>
                      <a:lnTo>
                        <a:pt x="426" y="458"/>
                      </a:lnTo>
                      <a:lnTo>
                        <a:pt x="452" y="451"/>
                      </a:lnTo>
                      <a:lnTo>
                        <a:pt x="464" y="445"/>
                      </a:lnTo>
                      <a:lnTo>
                        <a:pt x="476" y="441"/>
                      </a:lnTo>
                      <a:lnTo>
                        <a:pt x="487" y="435"/>
                      </a:lnTo>
                      <a:lnTo>
                        <a:pt x="500" y="431"/>
                      </a:lnTo>
                      <a:lnTo>
                        <a:pt x="522" y="418"/>
                      </a:lnTo>
                      <a:lnTo>
                        <a:pt x="534" y="410"/>
                      </a:lnTo>
                      <a:lnTo>
                        <a:pt x="546" y="403"/>
                      </a:lnTo>
                      <a:lnTo>
                        <a:pt x="546" y="389"/>
                      </a:lnTo>
                      <a:lnTo>
                        <a:pt x="547" y="375"/>
                      </a:lnTo>
                      <a:lnTo>
                        <a:pt x="525" y="390"/>
                      </a:lnTo>
                      <a:lnTo>
                        <a:pt x="502" y="405"/>
                      </a:lnTo>
                      <a:lnTo>
                        <a:pt x="477" y="417"/>
                      </a:lnTo>
                      <a:lnTo>
                        <a:pt x="465" y="422"/>
                      </a:lnTo>
                      <a:lnTo>
                        <a:pt x="453" y="427"/>
                      </a:lnTo>
                      <a:lnTo>
                        <a:pt x="440" y="431"/>
                      </a:lnTo>
                      <a:lnTo>
                        <a:pt x="427" y="435"/>
                      </a:lnTo>
                      <a:lnTo>
                        <a:pt x="414" y="437"/>
                      </a:lnTo>
                      <a:lnTo>
                        <a:pt x="407" y="439"/>
                      </a:lnTo>
                      <a:lnTo>
                        <a:pt x="401" y="441"/>
                      </a:lnTo>
                      <a:lnTo>
                        <a:pt x="393" y="441"/>
                      </a:lnTo>
                      <a:lnTo>
                        <a:pt x="386" y="442"/>
                      </a:lnTo>
                      <a:lnTo>
                        <a:pt x="373" y="444"/>
                      </a:lnTo>
                      <a:lnTo>
                        <a:pt x="346" y="445"/>
                      </a:lnTo>
                      <a:lnTo>
                        <a:pt x="312" y="443"/>
                      </a:lnTo>
                      <a:lnTo>
                        <a:pt x="280" y="439"/>
                      </a:lnTo>
                      <a:lnTo>
                        <a:pt x="248" y="431"/>
                      </a:lnTo>
                      <a:lnTo>
                        <a:pt x="220" y="422"/>
                      </a:lnTo>
                      <a:lnTo>
                        <a:pt x="191" y="407"/>
                      </a:lnTo>
                      <a:lnTo>
                        <a:pt x="165" y="391"/>
                      </a:lnTo>
                      <a:lnTo>
                        <a:pt x="139" y="372"/>
                      </a:lnTo>
                      <a:lnTo>
                        <a:pt x="117" y="351"/>
                      </a:lnTo>
                      <a:lnTo>
                        <a:pt x="94" y="326"/>
                      </a:lnTo>
                      <a:lnTo>
                        <a:pt x="75" y="300"/>
                      </a:lnTo>
                      <a:lnTo>
                        <a:pt x="58" y="273"/>
                      </a:lnTo>
                      <a:lnTo>
                        <a:pt x="45" y="246"/>
                      </a:lnTo>
                      <a:lnTo>
                        <a:pt x="34" y="216"/>
                      </a:lnTo>
                      <a:lnTo>
                        <a:pt x="29" y="201"/>
                      </a:lnTo>
                      <a:lnTo>
                        <a:pt x="27" y="186"/>
                      </a:lnTo>
                      <a:lnTo>
                        <a:pt x="22" y="154"/>
                      </a:lnTo>
                      <a:lnTo>
                        <a:pt x="21" y="122"/>
                      </a:lnTo>
                      <a:lnTo>
                        <a:pt x="22" y="89"/>
                      </a:lnTo>
                      <a:lnTo>
                        <a:pt x="27" y="59"/>
                      </a:lnTo>
                      <a:lnTo>
                        <a:pt x="34" y="2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725800" y="313920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8">
                      <a:moveTo>
                        <a:pt x="22" y="138"/>
                      </a:moveTo>
                      <a:lnTo>
                        <a:pt x="24" y="100"/>
                      </a:lnTo>
                      <a:lnTo>
                        <a:pt x="31" y="65"/>
                      </a:lnTo>
                      <a:lnTo>
                        <a:pt x="42" y="31"/>
                      </a:lnTo>
                      <a:lnTo>
                        <a:pt x="61" y="0"/>
                      </a:lnTo>
                      <a:lnTo>
                        <a:pt x="34" y="3"/>
                      </a:lnTo>
                      <a:lnTo>
                        <a:pt x="19" y="34"/>
                      </a:lnTo>
                      <a:lnTo>
                        <a:pt x="8" y="67"/>
                      </a:lnTo>
                      <a:lnTo>
                        <a:pt x="2" y="101"/>
                      </a:lnTo>
                      <a:lnTo>
                        <a:pt x="0" y="138"/>
                      </a:lnTo>
                      <a:lnTo>
                        <a:pt x="2" y="165"/>
                      </a:lnTo>
                      <a:lnTo>
                        <a:pt x="5" y="193"/>
                      </a:lnTo>
                      <a:lnTo>
                        <a:pt x="11" y="219"/>
                      </a:lnTo>
                      <a:lnTo>
                        <a:pt x="21" y="245"/>
                      </a:lnTo>
                      <a:lnTo>
                        <a:pt x="31" y="269"/>
                      </a:lnTo>
                      <a:lnTo>
                        <a:pt x="46" y="292"/>
                      </a:lnTo>
                      <a:lnTo>
                        <a:pt x="63" y="314"/>
                      </a:lnTo>
                      <a:lnTo>
                        <a:pt x="83" y="337"/>
                      </a:lnTo>
                      <a:lnTo>
                        <a:pt x="104" y="355"/>
                      </a:lnTo>
                      <a:lnTo>
                        <a:pt x="125" y="372"/>
                      </a:lnTo>
                      <a:lnTo>
                        <a:pt x="148" y="385"/>
                      </a:lnTo>
                      <a:lnTo>
                        <a:pt x="173" y="398"/>
                      </a:lnTo>
                      <a:lnTo>
                        <a:pt x="198" y="406"/>
                      </a:lnTo>
                      <a:lnTo>
                        <a:pt x="225" y="413"/>
                      </a:lnTo>
                      <a:lnTo>
                        <a:pt x="252" y="416"/>
                      </a:lnTo>
                      <a:lnTo>
                        <a:pt x="282" y="418"/>
                      </a:lnTo>
                      <a:lnTo>
                        <a:pt x="309" y="416"/>
                      </a:lnTo>
                      <a:lnTo>
                        <a:pt x="336" y="413"/>
                      </a:lnTo>
                      <a:lnTo>
                        <a:pt x="342" y="410"/>
                      </a:lnTo>
                      <a:lnTo>
                        <a:pt x="349" y="409"/>
                      </a:lnTo>
                      <a:lnTo>
                        <a:pt x="362" y="406"/>
                      </a:lnTo>
                      <a:lnTo>
                        <a:pt x="375" y="401"/>
                      </a:lnTo>
                      <a:lnTo>
                        <a:pt x="388" y="398"/>
                      </a:lnTo>
                      <a:lnTo>
                        <a:pt x="400" y="391"/>
                      </a:lnTo>
                      <a:lnTo>
                        <a:pt x="402" y="389"/>
                      </a:lnTo>
                      <a:lnTo>
                        <a:pt x="403" y="388"/>
                      </a:lnTo>
                      <a:lnTo>
                        <a:pt x="405" y="388"/>
                      </a:lnTo>
                      <a:lnTo>
                        <a:pt x="412" y="385"/>
                      </a:lnTo>
                      <a:lnTo>
                        <a:pt x="423" y="379"/>
                      </a:lnTo>
                      <a:lnTo>
                        <a:pt x="436" y="372"/>
                      </a:lnTo>
                      <a:lnTo>
                        <a:pt x="446" y="363"/>
                      </a:lnTo>
                      <a:lnTo>
                        <a:pt x="457" y="355"/>
                      </a:lnTo>
                      <a:lnTo>
                        <a:pt x="480" y="337"/>
                      </a:lnTo>
                      <a:lnTo>
                        <a:pt x="481" y="334"/>
                      </a:lnTo>
                      <a:lnTo>
                        <a:pt x="477" y="308"/>
                      </a:lnTo>
                      <a:lnTo>
                        <a:pt x="470" y="314"/>
                      </a:lnTo>
                      <a:lnTo>
                        <a:pt x="464" y="321"/>
                      </a:lnTo>
                      <a:lnTo>
                        <a:pt x="444" y="338"/>
                      </a:lnTo>
                      <a:lnTo>
                        <a:pt x="423" y="353"/>
                      </a:lnTo>
                      <a:lnTo>
                        <a:pt x="412" y="358"/>
                      </a:lnTo>
                      <a:lnTo>
                        <a:pt x="402" y="365"/>
                      </a:lnTo>
                      <a:lnTo>
                        <a:pt x="390" y="371"/>
                      </a:lnTo>
                      <a:lnTo>
                        <a:pt x="380" y="378"/>
                      </a:lnTo>
                      <a:lnTo>
                        <a:pt x="373" y="379"/>
                      </a:lnTo>
                      <a:lnTo>
                        <a:pt x="368" y="381"/>
                      </a:lnTo>
                      <a:lnTo>
                        <a:pt x="356" y="385"/>
                      </a:lnTo>
                      <a:lnTo>
                        <a:pt x="344" y="388"/>
                      </a:lnTo>
                      <a:lnTo>
                        <a:pt x="333" y="391"/>
                      </a:lnTo>
                      <a:lnTo>
                        <a:pt x="319" y="392"/>
                      </a:lnTo>
                      <a:lnTo>
                        <a:pt x="307" y="395"/>
                      </a:lnTo>
                      <a:lnTo>
                        <a:pt x="282" y="397"/>
                      </a:lnTo>
                      <a:lnTo>
                        <a:pt x="254" y="395"/>
                      </a:lnTo>
                      <a:lnTo>
                        <a:pt x="228" y="391"/>
                      </a:lnTo>
                      <a:lnTo>
                        <a:pt x="203" y="385"/>
                      </a:lnTo>
                      <a:lnTo>
                        <a:pt x="181" y="378"/>
                      </a:lnTo>
                      <a:lnTo>
                        <a:pt x="158" y="365"/>
                      </a:lnTo>
                      <a:lnTo>
                        <a:pt x="136" y="353"/>
                      </a:lnTo>
                      <a:lnTo>
                        <a:pt x="116" y="338"/>
                      </a:lnTo>
                      <a:lnTo>
                        <a:pt x="98" y="321"/>
                      </a:lnTo>
                      <a:lnTo>
                        <a:pt x="79" y="300"/>
                      </a:lnTo>
                      <a:lnTo>
                        <a:pt x="64" y="280"/>
                      </a:lnTo>
                      <a:lnTo>
                        <a:pt x="56" y="269"/>
                      </a:lnTo>
                      <a:lnTo>
                        <a:pt x="50" y="258"/>
                      </a:lnTo>
                      <a:lnTo>
                        <a:pt x="40" y="237"/>
                      </a:lnTo>
                      <a:lnTo>
                        <a:pt x="32" y="213"/>
                      </a:lnTo>
                      <a:lnTo>
                        <a:pt x="27" y="189"/>
                      </a:lnTo>
                      <a:lnTo>
                        <a:pt x="23" y="163"/>
                      </a:lnTo>
                      <a:lnTo>
                        <a:pt x="22" y="138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31560" y="3138840"/>
                  <a:ext cx="130320" cy="113400"/>
                </a:xfrm>
                <a:custGeom>
                  <a:avLst/>
                  <a:gdLst/>
                  <a:ahLst/>
                  <a:rect l="l" t="t" r="r" b="b"/>
                  <a:pathLst>
                    <a:path w="455" h="398">
                      <a:moveTo>
                        <a:pt x="39" y="1"/>
                      </a:moveTo>
                      <a:lnTo>
                        <a:pt x="20" y="32"/>
                      </a:lnTo>
                      <a:lnTo>
                        <a:pt x="9" y="66"/>
                      </a:lnTo>
                      <a:lnTo>
                        <a:pt x="2" y="101"/>
                      </a:lnTo>
                      <a:lnTo>
                        <a:pt x="0" y="139"/>
                      </a:lnTo>
                      <a:lnTo>
                        <a:pt x="1" y="164"/>
                      </a:lnTo>
                      <a:lnTo>
                        <a:pt x="5" y="190"/>
                      </a:lnTo>
                      <a:lnTo>
                        <a:pt x="10" y="214"/>
                      </a:lnTo>
                      <a:lnTo>
                        <a:pt x="18" y="238"/>
                      </a:lnTo>
                      <a:lnTo>
                        <a:pt x="28" y="259"/>
                      </a:lnTo>
                      <a:lnTo>
                        <a:pt x="34" y="270"/>
                      </a:lnTo>
                      <a:lnTo>
                        <a:pt x="42" y="281"/>
                      </a:lnTo>
                      <a:lnTo>
                        <a:pt x="57" y="301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4" y="354"/>
                      </a:lnTo>
                      <a:lnTo>
                        <a:pt x="136" y="366"/>
                      </a:lnTo>
                      <a:lnTo>
                        <a:pt x="159" y="379"/>
                      </a:lnTo>
                      <a:lnTo>
                        <a:pt x="181" y="386"/>
                      </a:lnTo>
                      <a:lnTo>
                        <a:pt x="206" y="392"/>
                      </a:lnTo>
                      <a:lnTo>
                        <a:pt x="232" y="396"/>
                      </a:lnTo>
                      <a:lnTo>
                        <a:pt x="260" y="398"/>
                      </a:lnTo>
                      <a:lnTo>
                        <a:pt x="285" y="396"/>
                      </a:lnTo>
                      <a:lnTo>
                        <a:pt x="297" y="393"/>
                      </a:lnTo>
                      <a:lnTo>
                        <a:pt x="311" y="392"/>
                      </a:lnTo>
                      <a:lnTo>
                        <a:pt x="322" y="389"/>
                      </a:lnTo>
                      <a:lnTo>
                        <a:pt x="334" y="386"/>
                      </a:lnTo>
                      <a:lnTo>
                        <a:pt x="346" y="382"/>
                      </a:lnTo>
                      <a:lnTo>
                        <a:pt x="351" y="380"/>
                      </a:lnTo>
                      <a:lnTo>
                        <a:pt x="358" y="379"/>
                      </a:lnTo>
                      <a:lnTo>
                        <a:pt x="368" y="372"/>
                      </a:lnTo>
                      <a:lnTo>
                        <a:pt x="380" y="366"/>
                      </a:lnTo>
                      <a:lnTo>
                        <a:pt x="390" y="359"/>
                      </a:lnTo>
                      <a:lnTo>
                        <a:pt x="401" y="354"/>
                      </a:lnTo>
                      <a:lnTo>
                        <a:pt x="422" y="339"/>
                      </a:lnTo>
                      <a:lnTo>
                        <a:pt x="442" y="322"/>
                      </a:lnTo>
                      <a:lnTo>
                        <a:pt x="448" y="315"/>
                      </a:lnTo>
                      <a:lnTo>
                        <a:pt x="455" y="309"/>
                      </a:lnTo>
                      <a:lnTo>
                        <a:pt x="449" y="282"/>
                      </a:lnTo>
                      <a:lnTo>
                        <a:pt x="438" y="295"/>
                      </a:lnTo>
                      <a:lnTo>
                        <a:pt x="434" y="297"/>
                      </a:lnTo>
                      <a:lnTo>
                        <a:pt x="432" y="300"/>
                      </a:lnTo>
                      <a:lnTo>
                        <a:pt x="427" y="307"/>
                      </a:lnTo>
                      <a:lnTo>
                        <a:pt x="417" y="314"/>
                      </a:lnTo>
                      <a:lnTo>
                        <a:pt x="408" y="322"/>
                      </a:lnTo>
                      <a:lnTo>
                        <a:pt x="390" y="337"/>
                      </a:lnTo>
                      <a:lnTo>
                        <a:pt x="370" y="348"/>
                      </a:lnTo>
                      <a:lnTo>
                        <a:pt x="359" y="352"/>
                      </a:lnTo>
                      <a:lnTo>
                        <a:pt x="350" y="358"/>
                      </a:lnTo>
                      <a:lnTo>
                        <a:pt x="328" y="366"/>
                      </a:lnTo>
                      <a:lnTo>
                        <a:pt x="316" y="368"/>
                      </a:lnTo>
                      <a:lnTo>
                        <a:pt x="313" y="368"/>
                      </a:lnTo>
                      <a:lnTo>
                        <a:pt x="311" y="369"/>
                      </a:lnTo>
                      <a:lnTo>
                        <a:pt x="306" y="372"/>
                      </a:lnTo>
                      <a:lnTo>
                        <a:pt x="299" y="372"/>
                      </a:lnTo>
                      <a:lnTo>
                        <a:pt x="296" y="372"/>
                      </a:lnTo>
                      <a:lnTo>
                        <a:pt x="294" y="373"/>
                      </a:lnTo>
                      <a:lnTo>
                        <a:pt x="282" y="375"/>
                      </a:lnTo>
                      <a:lnTo>
                        <a:pt x="260" y="376"/>
                      </a:lnTo>
                      <a:lnTo>
                        <a:pt x="235" y="375"/>
                      </a:lnTo>
                      <a:lnTo>
                        <a:pt x="211" y="372"/>
                      </a:lnTo>
                      <a:lnTo>
                        <a:pt x="188" y="366"/>
                      </a:lnTo>
                      <a:lnTo>
                        <a:pt x="168" y="358"/>
                      </a:lnTo>
                      <a:lnTo>
                        <a:pt x="146" y="348"/>
                      </a:lnTo>
                      <a:lnTo>
                        <a:pt x="127" y="337"/>
                      </a:lnTo>
                      <a:lnTo>
                        <a:pt x="108" y="322"/>
                      </a:lnTo>
                      <a:lnTo>
                        <a:pt x="91" y="307"/>
                      </a:lnTo>
                      <a:lnTo>
                        <a:pt x="74" y="288"/>
                      </a:lnTo>
                      <a:lnTo>
                        <a:pt x="59" y="270"/>
                      </a:lnTo>
                      <a:lnTo>
                        <a:pt x="46" y="249"/>
                      </a:lnTo>
                      <a:lnTo>
                        <a:pt x="39" y="230"/>
                      </a:lnTo>
                      <a:lnTo>
                        <a:pt x="31" y="207"/>
                      </a:lnTo>
                      <a:lnTo>
                        <a:pt x="25" y="186"/>
                      </a:lnTo>
                      <a:lnTo>
                        <a:pt x="22" y="162"/>
                      </a:lnTo>
                      <a:lnTo>
                        <a:pt x="22" y="139"/>
                      </a:lnTo>
                      <a:lnTo>
                        <a:pt x="24" y="100"/>
                      </a:lnTo>
                      <a:lnTo>
                        <a:pt x="32" y="64"/>
                      </a:lnTo>
                      <a:lnTo>
                        <a:pt x="37" y="46"/>
                      </a:lnTo>
                      <a:lnTo>
                        <a:pt x="45" y="30"/>
                      </a:lnTo>
                      <a:lnTo>
                        <a:pt x="66" y="0"/>
                      </a:lnTo>
                      <a:lnTo>
                        <a:pt x="39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719320" y="3140280"/>
                  <a:ext cx="144000" cy="124200"/>
                </a:xfrm>
                <a:custGeom>
                  <a:avLst/>
                  <a:gdLst/>
                  <a:ahLst/>
                  <a:rect l="l" t="t" r="r" b="b"/>
                  <a:pathLst>
                    <a:path w="504" h="437">
                      <a:moveTo>
                        <a:pt x="21" y="135"/>
                      </a:moveTo>
                      <a:lnTo>
                        <a:pt x="23" y="98"/>
                      </a:lnTo>
                      <a:lnTo>
                        <a:pt x="29" y="64"/>
                      </a:lnTo>
                      <a:lnTo>
                        <a:pt x="40" y="31"/>
                      </a:lnTo>
                      <a:lnTo>
                        <a:pt x="55" y="0"/>
                      </a:lnTo>
                      <a:lnTo>
                        <a:pt x="27" y="6"/>
                      </a:lnTo>
                      <a:lnTo>
                        <a:pt x="15" y="36"/>
                      </a:lnTo>
                      <a:lnTo>
                        <a:pt x="7" y="67"/>
                      </a:lnTo>
                      <a:lnTo>
                        <a:pt x="1" y="100"/>
                      </a:lnTo>
                      <a:lnTo>
                        <a:pt x="0" y="135"/>
                      </a:lnTo>
                      <a:lnTo>
                        <a:pt x="1" y="165"/>
                      </a:lnTo>
                      <a:lnTo>
                        <a:pt x="4" y="194"/>
                      </a:lnTo>
                      <a:lnTo>
                        <a:pt x="7" y="208"/>
                      </a:lnTo>
                      <a:lnTo>
                        <a:pt x="11" y="223"/>
                      </a:lnTo>
                      <a:lnTo>
                        <a:pt x="21" y="251"/>
                      </a:lnTo>
                      <a:lnTo>
                        <a:pt x="34" y="276"/>
                      </a:lnTo>
                      <a:lnTo>
                        <a:pt x="49" y="301"/>
                      </a:lnTo>
                      <a:lnTo>
                        <a:pt x="57" y="312"/>
                      </a:lnTo>
                      <a:lnTo>
                        <a:pt x="67" y="325"/>
                      </a:lnTo>
                      <a:lnTo>
                        <a:pt x="88" y="348"/>
                      </a:lnTo>
                      <a:lnTo>
                        <a:pt x="110" y="368"/>
                      </a:lnTo>
                      <a:lnTo>
                        <a:pt x="134" y="386"/>
                      </a:lnTo>
                      <a:lnTo>
                        <a:pt x="159" y="401"/>
                      </a:lnTo>
                      <a:lnTo>
                        <a:pt x="186" y="414"/>
                      </a:lnTo>
                      <a:lnTo>
                        <a:pt x="212" y="423"/>
                      </a:lnTo>
                      <a:lnTo>
                        <a:pt x="241" y="431"/>
                      </a:lnTo>
                      <a:lnTo>
                        <a:pt x="271" y="435"/>
                      </a:lnTo>
                      <a:lnTo>
                        <a:pt x="303" y="437"/>
                      </a:lnTo>
                      <a:lnTo>
                        <a:pt x="330" y="435"/>
                      </a:lnTo>
                      <a:lnTo>
                        <a:pt x="343" y="432"/>
                      </a:lnTo>
                      <a:lnTo>
                        <a:pt x="350" y="431"/>
                      </a:lnTo>
                      <a:lnTo>
                        <a:pt x="358" y="431"/>
                      </a:lnTo>
                      <a:lnTo>
                        <a:pt x="364" y="429"/>
                      </a:lnTo>
                      <a:lnTo>
                        <a:pt x="371" y="428"/>
                      </a:lnTo>
                      <a:lnTo>
                        <a:pt x="384" y="426"/>
                      </a:lnTo>
                      <a:lnTo>
                        <a:pt x="397" y="421"/>
                      </a:lnTo>
                      <a:lnTo>
                        <a:pt x="410" y="418"/>
                      </a:lnTo>
                      <a:lnTo>
                        <a:pt x="422" y="411"/>
                      </a:lnTo>
                      <a:lnTo>
                        <a:pt x="424" y="409"/>
                      </a:lnTo>
                      <a:lnTo>
                        <a:pt x="425" y="407"/>
                      </a:lnTo>
                      <a:lnTo>
                        <a:pt x="427" y="407"/>
                      </a:lnTo>
                      <a:lnTo>
                        <a:pt x="434" y="405"/>
                      </a:lnTo>
                      <a:lnTo>
                        <a:pt x="459" y="393"/>
                      </a:lnTo>
                      <a:lnTo>
                        <a:pt x="482" y="377"/>
                      </a:lnTo>
                      <a:lnTo>
                        <a:pt x="504" y="360"/>
                      </a:lnTo>
                      <a:lnTo>
                        <a:pt x="502" y="331"/>
                      </a:lnTo>
                      <a:lnTo>
                        <a:pt x="501" y="334"/>
                      </a:lnTo>
                      <a:lnTo>
                        <a:pt x="478" y="352"/>
                      </a:lnTo>
                      <a:lnTo>
                        <a:pt x="467" y="360"/>
                      </a:lnTo>
                      <a:lnTo>
                        <a:pt x="457" y="369"/>
                      </a:lnTo>
                      <a:lnTo>
                        <a:pt x="444" y="376"/>
                      </a:lnTo>
                      <a:lnTo>
                        <a:pt x="433" y="382"/>
                      </a:lnTo>
                      <a:lnTo>
                        <a:pt x="426" y="385"/>
                      </a:lnTo>
                      <a:lnTo>
                        <a:pt x="424" y="385"/>
                      </a:lnTo>
                      <a:lnTo>
                        <a:pt x="423" y="386"/>
                      </a:lnTo>
                      <a:lnTo>
                        <a:pt x="421" y="388"/>
                      </a:lnTo>
                      <a:lnTo>
                        <a:pt x="409" y="395"/>
                      </a:lnTo>
                      <a:lnTo>
                        <a:pt x="396" y="398"/>
                      </a:lnTo>
                      <a:lnTo>
                        <a:pt x="383" y="403"/>
                      </a:lnTo>
                      <a:lnTo>
                        <a:pt x="370" y="406"/>
                      </a:lnTo>
                      <a:lnTo>
                        <a:pt x="363" y="407"/>
                      </a:lnTo>
                      <a:lnTo>
                        <a:pt x="357" y="410"/>
                      </a:lnTo>
                      <a:lnTo>
                        <a:pt x="330" y="413"/>
                      </a:lnTo>
                      <a:lnTo>
                        <a:pt x="303" y="415"/>
                      </a:lnTo>
                      <a:lnTo>
                        <a:pt x="273" y="413"/>
                      </a:lnTo>
                      <a:lnTo>
                        <a:pt x="246" y="410"/>
                      </a:lnTo>
                      <a:lnTo>
                        <a:pt x="219" y="403"/>
                      </a:lnTo>
                      <a:lnTo>
                        <a:pt x="194" y="395"/>
                      </a:lnTo>
                      <a:lnTo>
                        <a:pt x="169" y="382"/>
                      </a:lnTo>
                      <a:lnTo>
                        <a:pt x="146" y="369"/>
                      </a:lnTo>
                      <a:lnTo>
                        <a:pt x="125" y="352"/>
                      </a:lnTo>
                      <a:lnTo>
                        <a:pt x="104" y="334"/>
                      </a:lnTo>
                      <a:lnTo>
                        <a:pt x="84" y="311"/>
                      </a:lnTo>
                      <a:lnTo>
                        <a:pt x="67" y="289"/>
                      </a:lnTo>
                      <a:lnTo>
                        <a:pt x="52" y="266"/>
                      </a:lnTo>
                      <a:lnTo>
                        <a:pt x="42" y="242"/>
                      </a:lnTo>
                      <a:lnTo>
                        <a:pt x="32" y="216"/>
                      </a:lnTo>
                      <a:lnTo>
                        <a:pt x="26" y="190"/>
                      </a:lnTo>
                      <a:lnTo>
                        <a:pt x="23" y="162"/>
                      </a:lnTo>
                      <a:lnTo>
                        <a:pt x="21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713200" y="3142080"/>
                  <a:ext cx="150120" cy="128880"/>
                </a:xfrm>
                <a:custGeom>
                  <a:avLst/>
                  <a:gdLst/>
                  <a:ahLst/>
                  <a:rect l="l" t="t" r="r" b="b"/>
                  <a:pathLst>
                    <a:path w="526" h="452">
                      <a:moveTo>
                        <a:pt x="22" y="129"/>
                      </a:moveTo>
                      <a:lnTo>
                        <a:pt x="23" y="94"/>
                      </a:lnTo>
                      <a:lnTo>
                        <a:pt x="29" y="61"/>
                      </a:lnTo>
                      <a:lnTo>
                        <a:pt x="37" y="30"/>
                      </a:lnTo>
                      <a:lnTo>
                        <a:pt x="49" y="0"/>
                      </a:lnTo>
                      <a:lnTo>
                        <a:pt x="23" y="7"/>
                      </a:lnTo>
                      <a:lnTo>
                        <a:pt x="13" y="35"/>
                      </a:lnTo>
                      <a:lnTo>
                        <a:pt x="6" y="66"/>
                      </a:lnTo>
                      <a:lnTo>
                        <a:pt x="1" y="96"/>
                      </a:lnTo>
                      <a:lnTo>
                        <a:pt x="0" y="129"/>
                      </a:lnTo>
                      <a:lnTo>
                        <a:pt x="1" y="161"/>
                      </a:lnTo>
                      <a:lnTo>
                        <a:pt x="6" y="193"/>
                      </a:lnTo>
                      <a:lnTo>
                        <a:pt x="8" y="208"/>
                      </a:lnTo>
                      <a:lnTo>
                        <a:pt x="13" y="223"/>
                      </a:lnTo>
                      <a:lnTo>
                        <a:pt x="24" y="253"/>
                      </a:lnTo>
                      <a:lnTo>
                        <a:pt x="37" y="280"/>
                      </a:lnTo>
                      <a:lnTo>
                        <a:pt x="54" y="307"/>
                      </a:lnTo>
                      <a:lnTo>
                        <a:pt x="73" y="333"/>
                      </a:lnTo>
                      <a:lnTo>
                        <a:pt x="96" y="358"/>
                      </a:lnTo>
                      <a:lnTo>
                        <a:pt x="118" y="379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9" y="429"/>
                      </a:lnTo>
                      <a:lnTo>
                        <a:pt x="227" y="438"/>
                      </a:lnTo>
                      <a:lnTo>
                        <a:pt x="259" y="446"/>
                      </a:lnTo>
                      <a:lnTo>
                        <a:pt x="291" y="450"/>
                      </a:lnTo>
                      <a:lnTo>
                        <a:pt x="325" y="452"/>
                      </a:lnTo>
                      <a:lnTo>
                        <a:pt x="352" y="451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80" y="448"/>
                      </a:lnTo>
                      <a:lnTo>
                        <a:pt x="386" y="446"/>
                      </a:lnTo>
                      <a:lnTo>
                        <a:pt x="393" y="444"/>
                      </a:lnTo>
                      <a:lnTo>
                        <a:pt x="406" y="442"/>
                      </a:lnTo>
                      <a:lnTo>
                        <a:pt x="419" y="438"/>
                      </a:lnTo>
                      <a:lnTo>
                        <a:pt x="432" y="434"/>
                      </a:lnTo>
                      <a:lnTo>
                        <a:pt x="444" y="429"/>
                      </a:lnTo>
                      <a:lnTo>
                        <a:pt x="456" y="424"/>
                      </a:lnTo>
                      <a:lnTo>
                        <a:pt x="481" y="412"/>
                      </a:lnTo>
                      <a:lnTo>
                        <a:pt x="504" y="397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4"/>
                      </a:lnTo>
                      <a:lnTo>
                        <a:pt x="504" y="371"/>
                      </a:lnTo>
                      <a:lnTo>
                        <a:pt x="481" y="387"/>
                      </a:lnTo>
                      <a:lnTo>
                        <a:pt x="456" y="399"/>
                      </a:lnTo>
                      <a:lnTo>
                        <a:pt x="449" y="401"/>
                      </a:lnTo>
                      <a:lnTo>
                        <a:pt x="447" y="401"/>
                      </a:lnTo>
                      <a:lnTo>
                        <a:pt x="446" y="403"/>
                      </a:lnTo>
                      <a:lnTo>
                        <a:pt x="444" y="405"/>
                      </a:lnTo>
                      <a:lnTo>
                        <a:pt x="432" y="412"/>
                      </a:lnTo>
                      <a:lnTo>
                        <a:pt x="419" y="415"/>
                      </a:lnTo>
                      <a:lnTo>
                        <a:pt x="406" y="420"/>
                      </a:lnTo>
                      <a:lnTo>
                        <a:pt x="393" y="422"/>
                      </a:lnTo>
                      <a:lnTo>
                        <a:pt x="386" y="423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5" y="426"/>
                      </a:lnTo>
                      <a:lnTo>
                        <a:pt x="352" y="429"/>
                      </a:lnTo>
                      <a:lnTo>
                        <a:pt x="325" y="431"/>
                      </a:lnTo>
                      <a:lnTo>
                        <a:pt x="293" y="429"/>
                      </a:lnTo>
                      <a:lnTo>
                        <a:pt x="263" y="425"/>
                      </a:lnTo>
                      <a:lnTo>
                        <a:pt x="234" y="417"/>
                      </a:lnTo>
                      <a:lnTo>
                        <a:pt x="208" y="408"/>
                      </a:lnTo>
                      <a:lnTo>
                        <a:pt x="181" y="395"/>
                      </a:lnTo>
                      <a:lnTo>
                        <a:pt x="156" y="380"/>
                      </a:lnTo>
                      <a:lnTo>
                        <a:pt x="132" y="362"/>
                      </a:lnTo>
                      <a:lnTo>
                        <a:pt x="110" y="342"/>
                      </a:lnTo>
                      <a:lnTo>
                        <a:pt x="89" y="319"/>
                      </a:lnTo>
                      <a:lnTo>
                        <a:pt x="79" y="306"/>
                      </a:lnTo>
                      <a:lnTo>
                        <a:pt x="71" y="295"/>
                      </a:lnTo>
                      <a:lnTo>
                        <a:pt x="56" y="270"/>
                      </a:lnTo>
                      <a:lnTo>
                        <a:pt x="43" y="245"/>
                      </a:lnTo>
                      <a:lnTo>
                        <a:pt x="33" y="217"/>
                      </a:lnTo>
                      <a:lnTo>
                        <a:pt x="29" y="202"/>
                      </a:lnTo>
                      <a:lnTo>
                        <a:pt x="26" y="188"/>
                      </a:lnTo>
                      <a:lnTo>
                        <a:pt x="23" y="159"/>
                      </a:lnTo>
                      <a:lnTo>
                        <a:pt x="22" y="129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44080" y="324216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4" h="398">
                      <a:moveTo>
                        <a:pt x="0" y="23"/>
                      </a:moveTo>
                      <a:lnTo>
                        <a:pt x="1" y="55"/>
                      </a:lnTo>
                      <a:lnTo>
                        <a:pt x="24" y="98"/>
                      </a:lnTo>
                      <a:lnTo>
                        <a:pt x="53" y="141"/>
                      </a:lnTo>
                      <a:lnTo>
                        <a:pt x="85" y="182"/>
                      </a:lnTo>
                      <a:lnTo>
                        <a:pt x="122" y="221"/>
                      </a:lnTo>
                      <a:lnTo>
                        <a:pt x="159" y="255"/>
                      </a:lnTo>
                      <a:lnTo>
                        <a:pt x="198" y="287"/>
                      </a:lnTo>
                      <a:lnTo>
                        <a:pt x="239" y="314"/>
                      </a:lnTo>
                      <a:lnTo>
                        <a:pt x="282" y="339"/>
                      </a:lnTo>
                      <a:lnTo>
                        <a:pt x="325" y="359"/>
                      </a:lnTo>
                      <a:lnTo>
                        <a:pt x="372" y="376"/>
                      </a:lnTo>
                      <a:lnTo>
                        <a:pt x="419" y="388"/>
                      </a:lnTo>
                      <a:lnTo>
                        <a:pt x="469" y="398"/>
                      </a:lnTo>
                      <a:lnTo>
                        <a:pt x="496" y="390"/>
                      </a:lnTo>
                      <a:lnTo>
                        <a:pt x="524" y="382"/>
                      </a:lnTo>
                      <a:lnTo>
                        <a:pt x="468" y="376"/>
                      </a:lnTo>
                      <a:lnTo>
                        <a:pt x="441" y="371"/>
                      </a:lnTo>
                      <a:lnTo>
                        <a:pt x="415" y="365"/>
                      </a:lnTo>
                      <a:lnTo>
                        <a:pt x="364" y="350"/>
                      </a:lnTo>
                      <a:lnTo>
                        <a:pt x="315" y="331"/>
                      </a:lnTo>
                      <a:lnTo>
                        <a:pt x="266" y="306"/>
                      </a:lnTo>
                      <a:lnTo>
                        <a:pt x="222" y="277"/>
                      </a:lnTo>
                      <a:lnTo>
                        <a:pt x="178" y="243"/>
                      </a:lnTo>
                      <a:lnTo>
                        <a:pt x="138" y="207"/>
                      </a:lnTo>
                      <a:lnTo>
                        <a:pt x="114" y="182"/>
                      </a:lnTo>
                      <a:lnTo>
                        <a:pt x="93" y="158"/>
                      </a:lnTo>
                      <a:lnTo>
                        <a:pt x="72" y="132"/>
                      </a:lnTo>
                      <a:lnTo>
                        <a:pt x="55" y="107"/>
                      </a:lnTo>
                      <a:lnTo>
                        <a:pt x="38" y="80"/>
                      </a:lnTo>
                      <a:lnTo>
                        <a:pt x="24" y="54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644080" y="3227040"/>
                  <a:ext cx="162360" cy="123840"/>
                </a:xfrm>
                <a:custGeom>
                  <a:avLst/>
                  <a:gdLst/>
                  <a:ahLst/>
                  <a:rect l="l" t="t" r="r" b="b"/>
                  <a:pathLst>
                    <a:path w="567" h="433">
                      <a:moveTo>
                        <a:pt x="7" y="0"/>
                      </a:moveTo>
                      <a:lnTo>
                        <a:pt x="1" y="25"/>
                      </a:lnTo>
                      <a:lnTo>
                        <a:pt x="0" y="51"/>
                      </a:lnTo>
                      <a:lnTo>
                        <a:pt x="10" y="77"/>
                      </a:lnTo>
                      <a:lnTo>
                        <a:pt x="24" y="105"/>
                      </a:lnTo>
                      <a:lnTo>
                        <a:pt x="38" y="131"/>
                      </a:lnTo>
                      <a:lnTo>
                        <a:pt x="55" y="158"/>
                      </a:lnTo>
                      <a:lnTo>
                        <a:pt x="72" y="183"/>
                      </a:lnTo>
                      <a:lnTo>
                        <a:pt x="93" y="209"/>
                      </a:lnTo>
                      <a:lnTo>
                        <a:pt x="114" y="233"/>
                      </a:lnTo>
                      <a:lnTo>
                        <a:pt x="138" y="258"/>
                      </a:lnTo>
                      <a:lnTo>
                        <a:pt x="178" y="294"/>
                      </a:lnTo>
                      <a:lnTo>
                        <a:pt x="222" y="328"/>
                      </a:lnTo>
                      <a:lnTo>
                        <a:pt x="266" y="357"/>
                      </a:lnTo>
                      <a:lnTo>
                        <a:pt x="315" y="382"/>
                      </a:lnTo>
                      <a:lnTo>
                        <a:pt x="364" y="401"/>
                      </a:lnTo>
                      <a:lnTo>
                        <a:pt x="415" y="416"/>
                      </a:lnTo>
                      <a:lnTo>
                        <a:pt x="441" y="422"/>
                      </a:lnTo>
                      <a:lnTo>
                        <a:pt x="468" y="427"/>
                      </a:lnTo>
                      <a:lnTo>
                        <a:pt x="524" y="433"/>
                      </a:lnTo>
                      <a:lnTo>
                        <a:pt x="567" y="413"/>
                      </a:lnTo>
                      <a:lnTo>
                        <a:pt x="566" y="413"/>
                      </a:lnTo>
                      <a:lnTo>
                        <a:pt x="535" y="412"/>
                      </a:lnTo>
                      <a:lnTo>
                        <a:pt x="506" y="410"/>
                      </a:lnTo>
                      <a:lnTo>
                        <a:pt x="476" y="406"/>
                      </a:lnTo>
                      <a:lnTo>
                        <a:pt x="448" y="402"/>
                      </a:lnTo>
                      <a:lnTo>
                        <a:pt x="392" y="388"/>
                      </a:lnTo>
                      <a:lnTo>
                        <a:pt x="341" y="370"/>
                      </a:lnTo>
                      <a:lnTo>
                        <a:pt x="290" y="345"/>
                      </a:lnTo>
                      <a:lnTo>
                        <a:pt x="241" y="316"/>
                      </a:lnTo>
                      <a:lnTo>
                        <a:pt x="218" y="299"/>
                      </a:lnTo>
                      <a:lnTo>
                        <a:pt x="195" y="280"/>
                      </a:lnTo>
                      <a:lnTo>
                        <a:pt x="153" y="242"/>
                      </a:lnTo>
                      <a:lnTo>
                        <a:pt x="127" y="214"/>
                      </a:lnTo>
                      <a:lnTo>
                        <a:pt x="103" y="186"/>
                      </a:lnTo>
                      <a:lnTo>
                        <a:pt x="81" y="157"/>
                      </a:lnTo>
                      <a:lnTo>
                        <a:pt x="62" y="127"/>
                      </a:lnTo>
                      <a:lnTo>
                        <a:pt x="44" y="96"/>
                      </a:lnTo>
                      <a:lnTo>
                        <a:pt x="29" y="65"/>
                      </a:lnTo>
                      <a:lnTo>
                        <a:pt x="17" y="3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646240" y="3214440"/>
                  <a:ext cx="170280" cy="130680"/>
                </a:xfrm>
                <a:custGeom>
                  <a:avLst/>
                  <a:gdLst/>
                  <a:ahLst/>
                  <a:rect l="l" t="t" r="r" b="b"/>
                  <a:pathLst>
                    <a:path w="596" h="457">
                      <a:moveTo>
                        <a:pt x="10" y="0"/>
                      </a:moveTo>
                      <a:lnTo>
                        <a:pt x="0" y="44"/>
                      </a:lnTo>
                      <a:lnTo>
                        <a:pt x="10" y="76"/>
                      </a:lnTo>
                      <a:lnTo>
                        <a:pt x="22" y="109"/>
                      </a:lnTo>
                      <a:lnTo>
                        <a:pt x="37" y="140"/>
                      </a:lnTo>
                      <a:lnTo>
                        <a:pt x="55" y="171"/>
                      </a:lnTo>
                      <a:lnTo>
                        <a:pt x="74" y="201"/>
                      </a:lnTo>
                      <a:lnTo>
                        <a:pt x="96" y="230"/>
                      </a:lnTo>
                      <a:lnTo>
                        <a:pt x="120" y="258"/>
                      </a:lnTo>
                      <a:lnTo>
                        <a:pt x="146" y="286"/>
                      </a:lnTo>
                      <a:lnTo>
                        <a:pt x="188" y="324"/>
                      </a:lnTo>
                      <a:lnTo>
                        <a:pt x="211" y="343"/>
                      </a:lnTo>
                      <a:lnTo>
                        <a:pt x="234" y="360"/>
                      </a:lnTo>
                      <a:lnTo>
                        <a:pt x="283" y="389"/>
                      </a:lnTo>
                      <a:lnTo>
                        <a:pt x="334" y="414"/>
                      </a:lnTo>
                      <a:lnTo>
                        <a:pt x="385" y="432"/>
                      </a:lnTo>
                      <a:lnTo>
                        <a:pt x="441" y="446"/>
                      </a:lnTo>
                      <a:lnTo>
                        <a:pt x="469" y="450"/>
                      </a:lnTo>
                      <a:lnTo>
                        <a:pt x="499" y="454"/>
                      </a:lnTo>
                      <a:lnTo>
                        <a:pt x="528" y="456"/>
                      </a:lnTo>
                      <a:lnTo>
                        <a:pt x="559" y="457"/>
                      </a:lnTo>
                      <a:lnTo>
                        <a:pt x="560" y="457"/>
                      </a:lnTo>
                      <a:lnTo>
                        <a:pt x="596" y="434"/>
                      </a:lnTo>
                      <a:lnTo>
                        <a:pt x="559" y="436"/>
                      </a:lnTo>
                      <a:lnTo>
                        <a:pt x="529" y="434"/>
                      </a:lnTo>
                      <a:lnTo>
                        <a:pt x="501" y="432"/>
                      </a:lnTo>
                      <a:lnTo>
                        <a:pt x="472" y="429"/>
                      </a:lnTo>
                      <a:lnTo>
                        <a:pt x="445" y="424"/>
                      </a:lnTo>
                      <a:lnTo>
                        <a:pt x="392" y="411"/>
                      </a:lnTo>
                      <a:lnTo>
                        <a:pt x="367" y="403"/>
                      </a:lnTo>
                      <a:lnTo>
                        <a:pt x="342" y="394"/>
                      </a:lnTo>
                      <a:lnTo>
                        <a:pt x="317" y="382"/>
                      </a:lnTo>
                      <a:lnTo>
                        <a:pt x="293" y="370"/>
                      </a:lnTo>
                      <a:lnTo>
                        <a:pt x="247" y="343"/>
                      </a:lnTo>
                      <a:lnTo>
                        <a:pt x="203" y="309"/>
                      </a:lnTo>
                      <a:lnTo>
                        <a:pt x="181" y="290"/>
                      </a:lnTo>
                      <a:lnTo>
                        <a:pt x="161" y="271"/>
                      </a:lnTo>
                      <a:lnTo>
                        <a:pt x="132" y="240"/>
                      </a:lnTo>
                      <a:lnTo>
                        <a:pt x="106" y="210"/>
                      </a:lnTo>
                      <a:lnTo>
                        <a:pt x="94" y="193"/>
                      </a:lnTo>
                      <a:lnTo>
                        <a:pt x="84" y="177"/>
                      </a:lnTo>
                      <a:lnTo>
                        <a:pt x="64" y="144"/>
                      </a:lnTo>
                      <a:lnTo>
                        <a:pt x="54" y="126"/>
                      </a:lnTo>
                      <a:lnTo>
                        <a:pt x="46" y="109"/>
                      </a:lnTo>
                      <a:lnTo>
                        <a:pt x="31" y="74"/>
                      </a:lnTo>
                      <a:lnTo>
                        <a:pt x="19" y="3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649120" y="3204000"/>
                  <a:ext cx="176040" cy="135360"/>
                </a:xfrm>
                <a:custGeom>
                  <a:avLst/>
                  <a:gdLst/>
                  <a:ahLst/>
                  <a:rect l="l" t="t" r="r" b="b"/>
                  <a:pathLst>
                    <a:path w="617" h="474">
                      <a:moveTo>
                        <a:pt x="15" y="0"/>
                      </a:moveTo>
                      <a:lnTo>
                        <a:pt x="0" y="38"/>
                      </a:lnTo>
                      <a:lnTo>
                        <a:pt x="9" y="74"/>
                      </a:lnTo>
                      <a:lnTo>
                        <a:pt x="21" y="112"/>
                      </a:lnTo>
                      <a:lnTo>
                        <a:pt x="36" y="147"/>
                      </a:lnTo>
                      <a:lnTo>
                        <a:pt x="44" y="164"/>
                      </a:lnTo>
                      <a:lnTo>
                        <a:pt x="54" y="182"/>
                      </a:lnTo>
                      <a:lnTo>
                        <a:pt x="74" y="215"/>
                      </a:lnTo>
                      <a:lnTo>
                        <a:pt x="84" y="231"/>
                      </a:lnTo>
                      <a:lnTo>
                        <a:pt x="96" y="248"/>
                      </a:lnTo>
                      <a:lnTo>
                        <a:pt x="122" y="278"/>
                      </a:lnTo>
                      <a:lnTo>
                        <a:pt x="151" y="309"/>
                      </a:lnTo>
                      <a:lnTo>
                        <a:pt x="171" y="328"/>
                      </a:lnTo>
                      <a:lnTo>
                        <a:pt x="193" y="347"/>
                      </a:lnTo>
                      <a:lnTo>
                        <a:pt x="237" y="381"/>
                      </a:lnTo>
                      <a:lnTo>
                        <a:pt x="283" y="408"/>
                      </a:lnTo>
                      <a:lnTo>
                        <a:pt x="307" y="420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5" y="462"/>
                      </a:lnTo>
                      <a:lnTo>
                        <a:pt x="462" y="467"/>
                      </a:lnTo>
                      <a:lnTo>
                        <a:pt x="491" y="470"/>
                      </a:lnTo>
                      <a:lnTo>
                        <a:pt x="519" y="472"/>
                      </a:lnTo>
                      <a:lnTo>
                        <a:pt x="549" y="474"/>
                      </a:lnTo>
                      <a:lnTo>
                        <a:pt x="586" y="472"/>
                      </a:lnTo>
                      <a:lnTo>
                        <a:pt x="593" y="466"/>
                      </a:lnTo>
                      <a:lnTo>
                        <a:pt x="594" y="463"/>
                      </a:lnTo>
                      <a:lnTo>
                        <a:pt x="596" y="462"/>
                      </a:lnTo>
                      <a:lnTo>
                        <a:pt x="601" y="460"/>
                      </a:lnTo>
                      <a:lnTo>
                        <a:pt x="617" y="449"/>
                      </a:lnTo>
                      <a:lnTo>
                        <a:pt x="583" y="451"/>
                      </a:lnTo>
                      <a:lnTo>
                        <a:pt x="549" y="452"/>
                      </a:lnTo>
                      <a:lnTo>
                        <a:pt x="520" y="451"/>
                      </a:lnTo>
                      <a:lnTo>
                        <a:pt x="493" y="449"/>
                      </a:lnTo>
                      <a:lnTo>
                        <a:pt x="440" y="442"/>
                      </a:lnTo>
                      <a:lnTo>
                        <a:pt x="389" y="428"/>
                      </a:lnTo>
                      <a:lnTo>
                        <a:pt x="340" y="412"/>
                      </a:lnTo>
                      <a:lnTo>
                        <a:pt x="292" y="390"/>
                      </a:lnTo>
                      <a:lnTo>
                        <a:pt x="248" y="362"/>
                      </a:lnTo>
                      <a:lnTo>
                        <a:pt x="227" y="347"/>
                      </a:lnTo>
                      <a:lnTo>
                        <a:pt x="206" y="330"/>
                      </a:lnTo>
                      <a:lnTo>
                        <a:pt x="167" y="293"/>
                      </a:lnTo>
                      <a:lnTo>
                        <a:pt x="136" y="260"/>
                      </a:lnTo>
                      <a:lnTo>
                        <a:pt x="109" y="226"/>
                      </a:lnTo>
                      <a:lnTo>
                        <a:pt x="85" y="191"/>
                      </a:lnTo>
                      <a:lnTo>
                        <a:pt x="74" y="173"/>
                      </a:lnTo>
                      <a:lnTo>
                        <a:pt x="64" y="156"/>
                      </a:lnTo>
                      <a:lnTo>
                        <a:pt x="54" y="137"/>
                      </a:lnTo>
                      <a:lnTo>
                        <a:pt x="46" y="119"/>
                      </a:lnTo>
                      <a:lnTo>
                        <a:pt x="33" y="80"/>
                      </a:lnTo>
                      <a:lnTo>
                        <a:pt x="26" y="60"/>
                      </a:lnTo>
                      <a:lnTo>
                        <a:pt x="21" y="4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653080" y="3194280"/>
                  <a:ext cx="180000" cy="138600"/>
                </a:xfrm>
                <a:custGeom>
                  <a:avLst/>
                  <a:gdLst/>
                  <a:ahLst/>
                  <a:rect l="l" t="t" r="r" b="b"/>
                  <a:pathLst>
                    <a:path w="629" h="486">
                      <a:moveTo>
                        <a:pt x="18" y="0"/>
                      </a:moveTo>
                      <a:lnTo>
                        <a:pt x="0" y="34"/>
                      </a:lnTo>
                      <a:lnTo>
                        <a:pt x="6" y="74"/>
                      </a:lnTo>
                      <a:lnTo>
                        <a:pt x="11" y="94"/>
                      </a:lnTo>
                      <a:lnTo>
                        <a:pt x="18" y="114"/>
                      </a:lnTo>
                      <a:lnTo>
                        <a:pt x="31" y="153"/>
                      </a:lnTo>
                      <a:lnTo>
                        <a:pt x="39" y="171"/>
                      </a:lnTo>
                      <a:lnTo>
                        <a:pt x="49" y="190"/>
                      </a:lnTo>
                      <a:lnTo>
                        <a:pt x="59" y="207"/>
                      </a:lnTo>
                      <a:lnTo>
                        <a:pt x="70" y="225"/>
                      </a:lnTo>
                      <a:lnTo>
                        <a:pt x="94" y="260"/>
                      </a:lnTo>
                      <a:lnTo>
                        <a:pt x="121" y="294"/>
                      </a:lnTo>
                      <a:lnTo>
                        <a:pt x="152" y="327"/>
                      </a:lnTo>
                      <a:lnTo>
                        <a:pt x="191" y="364"/>
                      </a:lnTo>
                      <a:lnTo>
                        <a:pt x="212" y="381"/>
                      </a:lnTo>
                      <a:lnTo>
                        <a:pt x="233" y="396"/>
                      </a:lnTo>
                      <a:lnTo>
                        <a:pt x="277" y="424"/>
                      </a:lnTo>
                      <a:lnTo>
                        <a:pt x="325" y="446"/>
                      </a:lnTo>
                      <a:lnTo>
                        <a:pt x="374" y="462"/>
                      </a:lnTo>
                      <a:lnTo>
                        <a:pt x="425" y="476"/>
                      </a:lnTo>
                      <a:lnTo>
                        <a:pt x="478" y="483"/>
                      </a:lnTo>
                      <a:lnTo>
                        <a:pt x="505" y="485"/>
                      </a:lnTo>
                      <a:lnTo>
                        <a:pt x="534" y="486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3" y="462"/>
                      </a:lnTo>
                      <a:lnTo>
                        <a:pt x="629" y="456"/>
                      </a:lnTo>
                      <a:lnTo>
                        <a:pt x="581" y="462"/>
                      </a:lnTo>
                      <a:lnTo>
                        <a:pt x="534" y="464"/>
                      </a:lnTo>
                      <a:lnTo>
                        <a:pt x="506" y="463"/>
                      </a:lnTo>
                      <a:lnTo>
                        <a:pt x="480" y="461"/>
                      </a:lnTo>
                      <a:lnTo>
                        <a:pt x="429" y="454"/>
                      </a:lnTo>
                      <a:lnTo>
                        <a:pt x="404" y="449"/>
                      </a:lnTo>
                      <a:lnTo>
                        <a:pt x="381" y="442"/>
                      </a:lnTo>
                      <a:lnTo>
                        <a:pt x="334" y="426"/>
                      </a:lnTo>
                      <a:lnTo>
                        <a:pt x="288" y="403"/>
                      </a:lnTo>
                      <a:lnTo>
                        <a:pt x="246" y="378"/>
                      </a:lnTo>
                      <a:lnTo>
                        <a:pt x="204" y="347"/>
                      </a:lnTo>
                      <a:lnTo>
                        <a:pt x="166" y="312"/>
                      </a:lnTo>
                      <a:lnTo>
                        <a:pt x="149" y="294"/>
                      </a:lnTo>
                      <a:lnTo>
                        <a:pt x="135" y="277"/>
                      </a:lnTo>
                      <a:lnTo>
                        <a:pt x="120" y="259"/>
                      </a:lnTo>
                      <a:lnTo>
                        <a:pt x="107" y="242"/>
                      </a:lnTo>
                      <a:lnTo>
                        <a:pt x="94" y="223"/>
                      </a:lnTo>
                      <a:lnTo>
                        <a:pt x="82" y="205"/>
                      </a:lnTo>
                      <a:lnTo>
                        <a:pt x="63" y="167"/>
                      </a:lnTo>
                      <a:lnTo>
                        <a:pt x="45" y="127"/>
                      </a:lnTo>
                      <a:lnTo>
                        <a:pt x="32" y="86"/>
                      </a:lnTo>
                      <a:lnTo>
                        <a:pt x="22" y="4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658120" y="3184920"/>
                  <a:ext cx="181800" cy="141480"/>
                </a:xfrm>
                <a:custGeom>
                  <a:avLst/>
                  <a:gdLst/>
                  <a:ahLst/>
                  <a:rect l="l" t="t" r="r" b="b"/>
                  <a:pathLst>
                    <a:path w="635" h="495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4" y="74"/>
                      </a:lnTo>
                      <a:lnTo>
                        <a:pt x="14" y="117"/>
                      </a:lnTo>
                      <a:lnTo>
                        <a:pt x="27" y="158"/>
                      </a:lnTo>
                      <a:lnTo>
                        <a:pt x="45" y="198"/>
                      </a:lnTo>
                      <a:lnTo>
                        <a:pt x="64" y="236"/>
                      </a:lnTo>
                      <a:lnTo>
                        <a:pt x="76" y="254"/>
                      </a:lnTo>
                      <a:lnTo>
                        <a:pt x="89" y="273"/>
                      </a:lnTo>
                      <a:lnTo>
                        <a:pt x="102" y="290"/>
                      </a:lnTo>
                      <a:lnTo>
                        <a:pt x="117" y="308"/>
                      </a:lnTo>
                      <a:lnTo>
                        <a:pt x="131" y="325"/>
                      </a:lnTo>
                      <a:lnTo>
                        <a:pt x="148" y="343"/>
                      </a:lnTo>
                      <a:lnTo>
                        <a:pt x="186" y="378"/>
                      </a:lnTo>
                      <a:lnTo>
                        <a:pt x="228" y="409"/>
                      </a:lnTo>
                      <a:lnTo>
                        <a:pt x="270" y="434"/>
                      </a:lnTo>
                      <a:lnTo>
                        <a:pt x="316" y="457"/>
                      </a:lnTo>
                      <a:lnTo>
                        <a:pt x="363" y="473"/>
                      </a:lnTo>
                      <a:lnTo>
                        <a:pt x="386" y="480"/>
                      </a:lnTo>
                      <a:lnTo>
                        <a:pt x="411" y="485"/>
                      </a:lnTo>
                      <a:lnTo>
                        <a:pt x="462" y="492"/>
                      </a:lnTo>
                      <a:lnTo>
                        <a:pt x="488" y="494"/>
                      </a:lnTo>
                      <a:lnTo>
                        <a:pt x="516" y="495"/>
                      </a:lnTo>
                      <a:lnTo>
                        <a:pt x="563" y="493"/>
                      </a:lnTo>
                      <a:lnTo>
                        <a:pt x="611" y="487"/>
                      </a:lnTo>
                      <a:lnTo>
                        <a:pt x="635" y="460"/>
                      </a:lnTo>
                      <a:lnTo>
                        <a:pt x="605" y="466"/>
                      </a:lnTo>
                      <a:lnTo>
                        <a:pt x="576" y="470"/>
                      </a:lnTo>
                      <a:lnTo>
                        <a:pt x="545" y="473"/>
                      </a:lnTo>
                      <a:lnTo>
                        <a:pt x="516" y="474"/>
                      </a:lnTo>
                      <a:lnTo>
                        <a:pt x="465" y="472"/>
                      </a:lnTo>
                      <a:lnTo>
                        <a:pt x="416" y="465"/>
                      </a:lnTo>
                      <a:lnTo>
                        <a:pt x="368" y="453"/>
                      </a:lnTo>
                      <a:lnTo>
                        <a:pt x="324" y="438"/>
                      </a:lnTo>
                      <a:lnTo>
                        <a:pt x="280" y="417"/>
                      </a:lnTo>
                      <a:lnTo>
                        <a:pt x="240" y="392"/>
                      </a:lnTo>
                      <a:lnTo>
                        <a:pt x="200" y="363"/>
                      </a:lnTo>
                      <a:lnTo>
                        <a:pt x="164" y="329"/>
                      </a:lnTo>
                      <a:lnTo>
                        <a:pt x="130" y="292"/>
                      </a:lnTo>
                      <a:lnTo>
                        <a:pt x="115" y="273"/>
                      </a:lnTo>
                      <a:lnTo>
                        <a:pt x="103" y="255"/>
                      </a:lnTo>
                      <a:lnTo>
                        <a:pt x="78" y="217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0" y="92"/>
                      </a:lnTo>
                      <a:lnTo>
                        <a:pt x="21" y="46"/>
                      </a:lnTo>
                      <a:lnTo>
                        <a:pt x="19" y="2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654880" y="3296160"/>
                  <a:ext cx="78840" cy="59760"/>
                </a:xfrm>
                <a:custGeom>
                  <a:avLst/>
                  <a:gdLst/>
                  <a:ahLst/>
                  <a:rect l="l" t="t" r="r" b="b"/>
                  <a:pathLst>
                    <a:path w="277" h="211">
                      <a:moveTo>
                        <a:pt x="55" y="61"/>
                      </a:moveTo>
                      <a:lnTo>
                        <a:pt x="26" y="30"/>
                      </a:lnTo>
                      <a:lnTo>
                        <a:pt x="0" y="0"/>
                      </a:lnTo>
                      <a:lnTo>
                        <a:pt x="15" y="26"/>
                      </a:lnTo>
                      <a:lnTo>
                        <a:pt x="32" y="53"/>
                      </a:lnTo>
                      <a:lnTo>
                        <a:pt x="51" y="78"/>
                      </a:lnTo>
                      <a:lnTo>
                        <a:pt x="75" y="104"/>
                      </a:lnTo>
                      <a:lnTo>
                        <a:pt x="97" y="123"/>
                      </a:lnTo>
                      <a:lnTo>
                        <a:pt x="119" y="143"/>
                      </a:lnTo>
                      <a:lnTo>
                        <a:pt x="143" y="159"/>
                      </a:lnTo>
                      <a:lnTo>
                        <a:pt x="168" y="173"/>
                      </a:lnTo>
                      <a:lnTo>
                        <a:pt x="193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7" y="211"/>
                      </a:lnTo>
                      <a:lnTo>
                        <a:pt x="246" y="197"/>
                      </a:lnTo>
                      <a:lnTo>
                        <a:pt x="217" y="182"/>
                      </a:lnTo>
                      <a:lnTo>
                        <a:pt x="187" y="165"/>
                      </a:lnTo>
                      <a:lnTo>
                        <a:pt x="160" y="148"/>
                      </a:lnTo>
                      <a:lnTo>
                        <a:pt x="132" y="128"/>
                      </a:lnTo>
                      <a:lnTo>
                        <a:pt x="106" y="108"/>
                      </a:lnTo>
                      <a:lnTo>
                        <a:pt x="80" y="85"/>
                      </a:lnTo>
                      <a:lnTo>
                        <a:pt x="55" y="61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647320" y="3274560"/>
                  <a:ext cx="11124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2">
                      <a:moveTo>
                        <a:pt x="27" y="76"/>
                      </a:moveTo>
                      <a:lnTo>
                        <a:pt x="53" y="106"/>
                      </a:lnTo>
                      <a:lnTo>
                        <a:pt x="82" y="137"/>
                      </a:lnTo>
                      <a:lnTo>
                        <a:pt x="107" y="161"/>
                      </a:lnTo>
                      <a:lnTo>
                        <a:pt x="133" y="184"/>
                      </a:lnTo>
                      <a:lnTo>
                        <a:pt x="159" y="204"/>
                      </a:lnTo>
                      <a:lnTo>
                        <a:pt x="187" y="224"/>
                      </a:lnTo>
                      <a:lnTo>
                        <a:pt x="214" y="241"/>
                      </a:lnTo>
                      <a:lnTo>
                        <a:pt x="244" y="258"/>
                      </a:lnTo>
                      <a:lnTo>
                        <a:pt x="273" y="273"/>
                      </a:lnTo>
                      <a:lnTo>
                        <a:pt x="304" y="287"/>
                      </a:lnTo>
                      <a:lnTo>
                        <a:pt x="337" y="290"/>
                      </a:lnTo>
                      <a:lnTo>
                        <a:pt x="373" y="292"/>
                      </a:lnTo>
                      <a:lnTo>
                        <a:pt x="391" y="292"/>
                      </a:lnTo>
                      <a:lnTo>
                        <a:pt x="349" y="280"/>
                      </a:lnTo>
                      <a:lnTo>
                        <a:pt x="310" y="265"/>
                      </a:lnTo>
                      <a:lnTo>
                        <a:pt x="271" y="247"/>
                      </a:lnTo>
                      <a:lnTo>
                        <a:pt x="235" y="228"/>
                      </a:lnTo>
                      <a:lnTo>
                        <a:pt x="197" y="204"/>
                      </a:lnTo>
                      <a:lnTo>
                        <a:pt x="162" y="180"/>
                      </a:lnTo>
                      <a:lnTo>
                        <a:pt x="128" y="152"/>
                      </a:lnTo>
                      <a:lnTo>
                        <a:pt x="96" y="122"/>
                      </a:lnTo>
                      <a:lnTo>
                        <a:pt x="68" y="92"/>
                      </a:lnTo>
                      <a:lnTo>
                        <a:pt x="43" y="62"/>
                      </a:lnTo>
                      <a:lnTo>
                        <a:pt x="19" y="30"/>
                      </a:lnTo>
                      <a:lnTo>
                        <a:pt x="0" y="0"/>
                      </a:lnTo>
                      <a:lnTo>
                        <a:pt x="11" y="38"/>
                      </a:lnTo>
                      <a:lnTo>
                        <a:pt x="18" y="57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644440" y="325764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8" h="352">
                      <a:moveTo>
                        <a:pt x="9" y="60"/>
                      </a:moveTo>
                      <a:lnTo>
                        <a:pt x="28" y="90"/>
                      </a:lnTo>
                      <a:lnTo>
                        <a:pt x="52" y="122"/>
                      </a:lnTo>
                      <a:lnTo>
                        <a:pt x="77" y="152"/>
                      </a:lnTo>
                      <a:lnTo>
                        <a:pt x="105" y="182"/>
                      </a:lnTo>
                      <a:lnTo>
                        <a:pt x="137" y="212"/>
                      </a:lnTo>
                      <a:lnTo>
                        <a:pt x="171" y="240"/>
                      </a:lnTo>
                      <a:lnTo>
                        <a:pt x="206" y="264"/>
                      </a:lnTo>
                      <a:lnTo>
                        <a:pt x="244" y="288"/>
                      </a:lnTo>
                      <a:lnTo>
                        <a:pt x="280" y="307"/>
                      </a:lnTo>
                      <a:lnTo>
                        <a:pt x="319" y="325"/>
                      </a:lnTo>
                      <a:lnTo>
                        <a:pt x="358" y="340"/>
                      </a:lnTo>
                      <a:lnTo>
                        <a:pt x="400" y="352"/>
                      </a:lnTo>
                      <a:lnTo>
                        <a:pt x="434" y="349"/>
                      </a:lnTo>
                      <a:lnTo>
                        <a:pt x="468" y="343"/>
                      </a:lnTo>
                      <a:lnTo>
                        <a:pt x="418" y="333"/>
                      </a:lnTo>
                      <a:lnTo>
                        <a:pt x="371" y="321"/>
                      </a:lnTo>
                      <a:lnTo>
                        <a:pt x="324" y="304"/>
                      </a:lnTo>
                      <a:lnTo>
                        <a:pt x="281" y="284"/>
                      </a:lnTo>
                      <a:lnTo>
                        <a:pt x="238" y="259"/>
                      </a:lnTo>
                      <a:lnTo>
                        <a:pt x="197" y="232"/>
                      </a:lnTo>
                      <a:lnTo>
                        <a:pt x="158" y="200"/>
                      </a:lnTo>
                      <a:lnTo>
                        <a:pt x="121" y="166"/>
                      </a:lnTo>
                      <a:lnTo>
                        <a:pt x="84" y="127"/>
                      </a:lnTo>
                      <a:lnTo>
                        <a:pt x="52" y="86"/>
                      </a:lnTo>
                      <a:lnTo>
                        <a:pt x="23" y="43"/>
                      </a:lnTo>
                      <a:lnTo>
                        <a:pt x="0" y="0"/>
                      </a:lnTo>
                      <a:lnTo>
                        <a:pt x="3" y="29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644080" y="3138840"/>
                  <a:ext cx="219600" cy="219240"/>
                </a:xfrm>
                <a:custGeom>
                  <a:avLst/>
                  <a:gdLst/>
                  <a:ahLst/>
                  <a:rect l="l" t="t" r="r" b="b"/>
                  <a:pathLst>
                    <a:path w="767" h="767">
                      <a:moveTo>
                        <a:pt x="383" y="0"/>
                      </a:moveTo>
                      <a:lnTo>
                        <a:pt x="343" y="1"/>
                      </a:lnTo>
                      <a:lnTo>
                        <a:pt x="306" y="7"/>
                      </a:lnTo>
                      <a:lnTo>
                        <a:pt x="270" y="15"/>
                      </a:lnTo>
                      <a:lnTo>
                        <a:pt x="236" y="27"/>
                      </a:lnTo>
                      <a:lnTo>
                        <a:pt x="202" y="42"/>
                      </a:lnTo>
                      <a:lnTo>
                        <a:pt x="170" y="62"/>
                      </a:lnTo>
                      <a:lnTo>
                        <a:pt x="139" y="85"/>
                      </a:lnTo>
                      <a:lnTo>
                        <a:pt x="112" y="112"/>
                      </a:lnTo>
                      <a:lnTo>
                        <a:pt x="85" y="139"/>
                      </a:lnTo>
                      <a:lnTo>
                        <a:pt x="62" y="170"/>
                      </a:lnTo>
                      <a:lnTo>
                        <a:pt x="42" y="202"/>
                      </a:lnTo>
                      <a:lnTo>
                        <a:pt x="27" y="236"/>
                      </a:lnTo>
                      <a:lnTo>
                        <a:pt x="15" y="270"/>
                      </a:lnTo>
                      <a:lnTo>
                        <a:pt x="7" y="306"/>
                      </a:lnTo>
                      <a:lnTo>
                        <a:pt x="1" y="343"/>
                      </a:lnTo>
                      <a:lnTo>
                        <a:pt x="0" y="383"/>
                      </a:lnTo>
                      <a:lnTo>
                        <a:pt x="1" y="422"/>
                      </a:lnTo>
                      <a:lnTo>
                        <a:pt x="7" y="459"/>
                      </a:lnTo>
                      <a:lnTo>
                        <a:pt x="15" y="495"/>
                      </a:lnTo>
                      <a:lnTo>
                        <a:pt x="27" y="530"/>
                      </a:lnTo>
                      <a:lnTo>
                        <a:pt x="42" y="563"/>
                      </a:lnTo>
                      <a:lnTo>
                        <a:pt x="62" y="595"/>
                      </a:lnTo>
                      <a:lnTo>
                        <a:pt x="72" y="610"/>
                      </a:lnTo>
                      <a:lnTo>
                        <a:pt x="85" y="626"/>
                      </a:lnTo>
                      <a:lnTo>
                        <a:pt x="112" y="655"/>
                      </a:lnTo>
                      <a:lnTo>
                        <a:pt x="139" y="680"/>
                      </a:lnTo>
                      <a:lnTo>
                        <a:pt x="170" y="703"/>
                      </a:lnTo>
                      <a:lnTo>
                        <a:pt x="202" y="722"/>
                      </a:lnTo>
                      <a:lnTo>
                        <a:pt x="236" y="739"/>
                      </a:lnTo>
                      <a:lnTo>
                        <a:pt x="270" y="750"/>
                      </a:lnTo>
                      <a:lnTo>
                        <a:pt x="306" y="759"/>
                      </a:lnTo>
                      <a:lnTo>
                        <a:pt x="343" y="765"/>
                      </a:lnTo>
                      <a:lnTo>
                        <a:pt x="383" y="767"/>
                      </a:lnTo>
                      <a:lnTo>
                        <a:pt x="422" y="765"/>
                      </a:lnTo>
                      <a:lnTo>
                        <a:pt x="440" y="762"/>
                      </a:lnTo>
                      <a:lnTo>
                        <a:pt x="459" y="759"/>
                      </a:lnTo>
                      <a:lnTo>
                        <a:pt x="495" y="750"/>
                      </a:lnTo>
                      <a:lnTo>
                        <a:pt x="499" y="748"/>
                      </a:lnTo>
                      <a:lnTo>
                        <a:pt x="503" y="747"/>
                      </a:lnTo>
                      <a:lnTo>
                        <a:pt x="512" y="745"/>
                      </a:lnTo>
                      <a:lnTo>
                        <a:pt x="530" y="739"/>
                      </a:lnTo>
                      <a:lnTo>
                        <a:pt x="546" y="730"/>
                      </a:lnTo>
                      <a:lnTo>
                        <a:pt x="554" y="725"/>
                      </a:lnTo>
                      <a:lnTo>
                        <a:pt x="563" y="722"/>
                      </a:lnTo>
                      <a:lnTo>
                        <a:pt x="595" y="703"/>
                      </a:lnTo>
                      <a:lnTo>
                        <a:pt x="610" y="691"/>
                      </a:lnTo>
                      <a:lnTo>
                        <a:pt x="626" y="680"/>
                      </a:lnTo>
                      <a:lnTo>
                        <a:pt x="655" y="655"/>
                      </a:lnTo>
                      <a:lnTo>
                        <a:pt x="680" y="626"/>
                      </a:lnTo>
                      <a:lnTo>
                        <a:pt x="691" y="610"/>
                      </a:lnTo>
                      <a:lnTo>
                        <a:pt x="703" y="595"/>
                      </a:lnTo>
                      <a:lnTo>
                        <a:pt x="722" y="563"/>
                      </a:lnTo>
                      <a:lnTo>
                        <a:pt x="725" y="554"/>
                      </a:lnTo>
                      <a:lnTo>
                        <a:pt x="730" y="546"/>
                      </a:lnTo>
                      <a:lnTo>
                        <a:pt x="739" y="530"/>
                      </a:lnTo>
                      <a:lnTo>
                        <a:pt x="745" y="512"/>
                      </a:lnTo>
                      <a:lnTo>
                        <a:pt x="747" y="503"/>
                      </a:lnTo>
                      <a:lnTo>
                        <a:pt x="748" y="499"/>
                      </a:lnTo>
                      <a:lnTo>
                        <a:pt x="750" y="495"/>
                      </a:lnTo>
                      <a:lnTo>
                        <a:pt x="760" y="459"/>
                      </a:lnTo>
                      <a:lnTo>
                        <a:pt x="762" y="440"/>
                      </a:lnTo>
                      <a:lnTo>
                        <a:pt x="765" y="422"/>
                      </a:lnTo>
                      <a:lnTo>
                        <a:pt x="767" y="383"/>
                      </a:lnTo>
                      <a:lnTo>
                        <a:pt x="765" y="343"/>
                      </a:lnTo>
                      <a:lnTo>
                        <a:pt x="760" y="306"/>
                      </a:lnTo>
                      <a:lnTo>
                        <a:pt x="750" y="270"/>
                      </a:lnTo>
                      <a:lnTo>
                        <a:pt x="739" y="236"/>
                      </a:lnTo>
                      <a:lnTo>
                        <a:pt x="722" y="202"/>
                      </a:lnTo>
                      <a:lnTo>
                        <a:pt x="703" y="170"/>
                      </a:lnTo>
                      <a:lnTo>
                        <a:pt x="680" y="139"/>
                      </a:lnTo>
                      <a:lnTo>
                        <a:pt x="655" y="112"/>
                      </a:lnTo>
                      <a:lnTo>
                        <a:pt x="626" y="85"/>
                      </a:lnTo>
                      <a:lnTo>
                        <a:pt x="610" y="72"/>
                      </a:lnTo>
                      <a:lnTo>
                        <a:pt x="595" y="62"/>
                      </a:lnTo>
                      <a:lnTo>
                        <a:pt x="563" y="42"/>
                      </a:lnTo>
                      <a:lnTo>
                        <a:pt x="530" y="27"/>
                      </a:lnTo>
                      <a:lnTo>
                        <a:pt x="495" y="15"/>
                      </a:lnTo>
                      <a:lnTo>
                        <a:pt x="459" y="7"/>
                      </a:lnTo>
                      <a:lnTo>
                        <a:pt x="422" y="1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702400" y="3238200"/>
                  <a:ext cx="10116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707800" y="3243600"/>
                  <a:ext cx="89640" cy="14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152040" y="3858480"/>
                  <a:ext cx="94680" cy="87120"/>
                </a:xfrm>
                <a:custGeom>
                  <a:avLst/>
                  <a:gdLst/>
                  <a:ahLst/>
                  <a:rect l="l" t="t" r="r" b="b"/>
                  <a:pathLst>
                    <a:path w="334" h="306">
                      <a:moveTo>
                        <a:pt x="66" y="26"/>
                      </a:moveTo>
                      <a:lnTo>
                        <a:pt x="92" y="6"/>
                      </a:lnTo>
                      <a:lnTo>
                        <a:pt x="63" y="0"/>
                      </a:lnTo>
                      <a:lnTo>
                        <a:pt x="51" y="11"/>
                      </a:lnTo>
                      <a:lnTo>
                        <a:pt x="27" y="38"/>
                      </a:lnTo>
                      <a:lnTo>
                        <a:pt x="18" y="51"/>
                      </a:lnTo>
                      <a:lnTo>
                        <a:pt x="13" y="67"/>
                      </a:lnTo>
                      <a:lnTo>
                        <a:pt x="6" y="82"/>
                      </a:lnTo>
                      <a:lnTo>
                        <a:pt x="3" y="99"/>
                      </a:lnTo>
                      <a:lnTo>
                        <a:pt x="0" y="134"/>
                      </a:lnTo>
                      <a:lnTo>
                        <a:pt x="0" y="150"/>
                      </a:lnTo>
                      <a:lnTo>
                        <a:pt x="3" y="167"/>
                      </a:lnTo>
                      <a:lnTo>
                        <a:pt x="6" y="183"/>
                      </a:lnTo>
                      <a:lnTo>
                        <a:pt x="13" y="200"/>
                      </a:lnTo>
                      <a:lnTo>
                        <a:pt x="18" y="213"/>
                      </a:lnTo>
                      <a:lnTo>
                        <a:pt x="27" y="228"/>
                      </a:lnTo>
                      <a:lnTo>
                        <a:pt x="38" y="242"/>
                      </a:lnTo>
                      <a:lnTo>
                        <a:pt x="51" y="255"/>
                      </a:lnTo>
                      <a:lnTo>
                        <a:pt x="64" y="267"/>
                      </a:lnTo>
                      <a:lnTo>
                        <a:pt x="77" y="277"/>
                      </a:lnTo>
                      <a:lnTo>
                        <a:pt x="91" y="285"/>
                      </a:lnTo>
                      <a:lnTo>
                        <a:pt x="107" y="293"/>
                      </a:lnTo>
                      <a:lnTo>
                        <a:pt x="122" y="298"/>
                      </a:lnTo>
                      <a:lnTo>
                        <a:pt x="139" y="303"/>
                      </a:lnTo>
                      <a:lnTo>
                        <a:pt x="156" y="305"/>
                      </a:lnTo>
                      <a:lnTo>
                        <a:pt x="174" y="306"/>
                      </a:lnTo>
                      <a:lnTo>
                        <a:pt x="190" y="305"/>
                      </a:lnTo>
                      <a:lnTo>
                        <a:pt x="207" y="303"/>
                      </a:lnTo>
                      <a:lnTo>
                        <a:pt x="223" y="298"/>
                      </a:lnTo>
                      <a:lnTo>
                        <a:pt x="226" y="296"/>
                      </a:lnTo>
                      <a:lnTo>
                        <a:pt x="230" y="295"/>
                      </a:lnTo>
                      <a:lnTo>
                        <a:pt x="240" y="293"/>
                      </a:lnTo>
                      <a:lnTo>
                        <a:pt x="253" y="285"/>
                      </a:lnTo>
                      <a:lnTo>
                        <a:pt x="260" y="280"/>
                      </a:lnTo>
                      <a:lnTo>
                        <a:pt x="263" y="278"/>
                      </a:lnTo>
                      <a:lnTo>
                        <a:pt x="268" y="277"/>
                      </a:lnTo>
                      <a:lnTo>
                        <a:pt x="281" y="267"/>
                      </a:lnTo>
                      <a:lnTo>
                        <a:pt x="296" y="255"/>
                      </a:lnTo>
                      <a:lnTo>
                        <a:pt x="308" y="242"/>
                      </a:lnTo>
                      <a:lnTo>
                        <a:pt x="312" y="235"/>
                      </a:lnTo>
                      <a:lnTo>
                        <a:pt x="314" y="231"/>
                      </a:lnTo>
                      <a:lnTo>
                        <a:pt x="318" y="229"/>
                      </a:lnTo>
                      <a:lnTo>
                        <a:pt x="319" y="225"/>
                      </a:lnTo>
                      <a:lnTo>
                        <a:pt x="321" y="221"/>
                      </a:lnTo>
                      <a:lnTo>
                        <a:pt x="326" y="214"/>
                      </a:lnTo>
                      <a:lnTo>
                        <a:pt x="334" y="201"/>
                      </a:lnTo>
                      <a:lnTo>
                        <a:pt x="326" y="187"/>
                      </a:lnTo>
                      <a:lnTo>
                        <a:pt x="319" y="176"/>
                      </a:lnTo>
                      <a:lnTo>
                        <a:pt x="314" y="184"/>
                      </a:lnTo>
                      <a:lnTo>
                        <a:pt x="311" y="193"/>
                      </a:lnTo>
                      <a:lnTo>
                        <a:pt x="306" y="201"/>
                      </a:lnTo>
                      <a:lnTo>
                        <a:pt x="303" y="210"/>
                      </a:lnTo>
                      <a:lnTo>
                        <a:pt x="297" y="217"/>
                      </a:lnTo>
                      <a:lnTo>
                        <a:pt x="293" y="225"/>
                      </a:lnTo>
                      <a:lnTo>
                        <a:pt x="280" y="240"/>
                      </a:lnTo>
                      <a:lnTo>
                        <a:pt x="268" y="250"/>
                      </a:lnTo>
                      <a:lnTo>
                        <a:pt x="257" y="259"/>
                      </a:lnTo>
                      <a:lnTo>
                        <a:pt x="243" y="267"/>
                      </a:lnTo>
                      <a:lnTo>
                        <a:pt x="230" y="273"/>
                      </a:lnTo>
                      <a:lnTo>
                        <a:pt x="216" y="278"/>
                      </a:lnTo>
                      <a:lnTo>
                        <a:pt x="202" y="281"/>
                      </a:lnTo>
                      <a:lnTo>
                        <a:pt x="187" y="284"/>
                      </a:lnTo>
                      <a:lnTo>
                        <a:pt x="174" y="285"/>
                      </a:lnTo>
                      <a:lnTo>
                        <a:pt x="158" y="284"/>
                      </a:lnTo>
                      <a:lnTo>
                        <a:pt x="143" y="281"/>
                      </a:lnTo>
                      <a:lnTo>
                        <a:pt x="128" y="278"/>
                      </a:lnTo>
                      <a:lnTo>
                        <a:pt x="115" y="273"/>
                      </a:lnTo>
                      <a:lnTo>
                        <a:pt x="101" y="267"/>
                      </a:lnTo>
                      <a:lnTo>
                        <a:pt x="89" y="259"/>
                      </a:lnTo>
                      <a:lnTo>
                        <a:pt x="66" y="240"/>
                      </a:lnTo>
                      <a:lnTo>
                        <a:pt x="55" y="228"/>
                      </a:lnTo>
                      <a:lnTo>
                        <a:pt x="46" y="217"/>
                      </a:lnTo>
                      <a:lnTo>
                        <a:pt x="38" y="203"/>
                      </a:lnTo>
                      <a:lnTo>
                        <a:pt x="32" y="191"/>
                      </a:lnTo>
                      <a:lnTo>
                        <a:pt x="26" y="176"/>
                      </a:lnTo>
                      <a:lnTo>
                        <a:pt x="24" y="162"/>
                      </a:lnTo>
                      <a:lnTo>
                        <a:pt x="22" y="147"/>
                      </a:lnTo>
                      <a:lnTo>
                        <a:pt x="22" y="134"/>
                      </a:lnTo>
                      <a:lnTo>
                        <a:pt x="24" y="103"/>
                      </a:lnTo>
                      <a:lnTo>
                        <a:pt x="32" y="75"/>
                      </a:lnTo>
                      <a:lnTo>
                        <a:pt x="46" y="49"/>
                      </a:lnTo>
                      <a:lnTo>
                        <a:pt x="55" y="36"/>
                      </a:lnTo>
                      <a:lnTo>
                        <a:pt x="66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157440" y="3859920"/>
                  <a:ext cx="84960" cy="7920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0" y="0"/>
                      </a:moveTo>
                      <a:lnTo>
                        <a:pt x="44" y="20"/>
                      </a:lnTo>
                      <a:lnTo>
                        <a:pt x="33" y="30"/>
                      </a:lnTo>
                      <a:lnTo>
                        <a:pt x="24" y="43"/>
                      </a:lnTo>
                      <a:lnTo>
                        <a:pt x="10" y="69"/>
                      </a:lnTo>
                      <a:lnTo>
                        <a:pt x="2" y="97"/>
                      </a:lnTo>
                      <a:lnTo>
                        <a:pt x="0" y="128"/>
                      </a:lnTo>
                      <a:lnTo>
                        <a:pt x="0" y="141"/>
                      </a:lnTo>
                      <a:lnTo>
                        <a:pt x="2" y="156"/>
                      </a:lnTo>
                      <a:lnTo>
                        <a:pt x="4" y="170"/>
                      </a:lnTo>
                      <a:lnTo>
                        <a:pt x="10" y="185"/>
                      </a:lnTo>
                      <a:lnTo>
                        <a:pt x="16" y="197"/>
                      </a:lnTo>
                      <a:lnTo>
                        <a:pt x="24" y="211"/>
                      </a:lnTo>
                      <a:lnTo>
                        <a:pt x="33" y="222"/>
                      </a:lnTo>
                      <a:lnTo>
                        <a:pt x="44" y="234"/>
                      </a:lnTo>
                      <a:lnTo>
                        <a:pt x="67" y="253"/>
                      </a:lnTo>
                      <a:lnTo>
                        <a:pt x="79" y="261"/>
                      </a:lnTo>
                      <a:lnTo>
                        <a:pt x="93" y="267"/>
                      </a:lnTo>
                      <a:lnTo>
                        <a:pt x="106" y="272"/>
                      </a:lnTo>
                      <a:lnTo>
                        <a:pt x="121" y="275"/>
                      </a:lnTo>
                      <a:lnTo>
                        <a:pt x="136" y="278"/>
                      </a:lnTo>
                      <a:lnTo>
                        <a:pt x="152" y="279"/>
                      </a:lnTo>
                      <a:lnTo>
                        <a:pt x="165" y="278"/>
                      </a:lnTo>
                      <a:lnTo>
                        <a:pt x="180" y="275"/>
                      </a:lnTo>
                      <a:lnTo>
                        <a:pt x="194" y="272"/>
                      </a:lnTo>
                      <a:lnTo>
                        <a:pt x="208" y="267"/>
                      </a:lnTo>
                      <a:lnTo>
                        <a:pt x="221" y="261"/>
                      </a:lnTo>
                      <a:lnTo>
                        <a:pt x="235" y="253"/>
                      </a:lnTo>
                      <a:lnTo>
                        <a:pt x="246" y="244"/>
                      </a:lnTo>
                      <a:lnTo>
                        <a:pt x="258" y="234"/>
                      </a:lnTo>
                      <a:lnTo>
                        <a:pt x="271" y="219"/>
                      </a:lnTo>
                      <a:lnTo>
                        <a:pt x="275" y="211"/>
                      </a:lnTo>
                      <a:lnTo>
                        <a:pt x="281" y="204"/>
                      </a:lnTo>
                      <a:lnTo>
                        <a:pt x="284" y="195"/>
                      </a:lnTo>
                      <a:lnTo>
                        <a:pt x="289" y="187"/>
                      </a:lnTo>
                      <a:lnTo>
                        <a:pt x="292" y="178"/>
                      </a:lnTo>
                      <a:lnTo>
                        <a:pt x="297" y="170"/>
                      </a:lnTo>
                      <a:lnTo>
                        <a:pt x="280" y="145"/>
                      </a:lnTo>
                      <a:lnTo>
                        <a:pt x="276" y="154"/>
                      </a:lnTo>
                      <a:lnTo>
                        <a:pt x="274" y="164"/>
                      </a:lnTo>
                      <a:lnTo>
                        <a:pt x="271" y="173"/>
                      </a:lnTo>
                      <a:lnTo>
                        <a:pt x="269" y="178"/>
                      </a:lnTo>
                      <a:lnTo>
                        <a:pt x="267" y="180"/>
                      </a:lnTo>
                      <a:lnTo>
                        <a:pt x="267" y="183"/>
                      </a:lnTo>
                      <a:lnTo>
                        <a:pt x="256" y="202"/>
                      </a:lnTo>
                      <a:lnTo>
                        <a:pt x="249" y="210"/>
                      </a:lnTo>
                      <a:lnTo>
                        <a:pt x="244" y="219"/>
                      </a:lnTo>
                      <a:lnTo>
                        <a:pt x="232" y="227"/>
                      </a:lnTo>
                      <a:lnTo>
                        <a:pt x="230" y="227"/>
                      </a:lnTo>
                      <a:lnTo>
                        <a:pt x="229" y="227"/>
                      </a:lnTo>
                      <a:lnTo>
                        <a:pt x="229" y="228"/>
                      </a:lnTo>
                      <a:lnTo>
                        <a:pt x="227" y="230"/>
                      </a:lnTo>
                      <a:lnTo>
                        <a:pt x="222" y="234"/>
                      </a:lnTo>
                      <a:lnTo>
                        <a:pt x="211" y="241"/>
                      </a:lnTo>
                      <a:lnTo>
                        <a:pt x="205" y="244"/>
                      </a:lnTo>
                      <a:lnTo>
                        <a:pt x="201" y="247"/>
                      </a:lnTo>
                      <a:lnTo>
                        <a:pt x="194" y="248"/>
                      </a:lnTo>
                      <a:lnTo>
                        <a:pt x="188" y="250"/>
                      </a:lnTo>
                      <a:lnTo>
                        <a:pt x="177" y="254"/>
                      </a:lnTo>
                      <a:lnTo>
                        <a:pt x="163" y="256"/>
                      </a:lnTo>
                      <a:lnTo>
                        <a:pt x="152" y="257"/>
                      </a:lnTo>
                      <a:lnTo>
                        <a:pt x="138" y="256"/>
                      </a:lnTo>
                      <a:lnTo>
                        <a:pt x="125" y="254"/>
                      </a:lnTo>
                      <a:lnTo>
                        <a:pt x="101" y="247"/>
                      </a:lnTo>
                      <a:lnTo>
                        <a:pt x="89" y="241"/>
                      </a:lnTo>
                      <a:lnTo>
                        <a:pt x="79" y="234"/>
                      </a:lnTo>
                      <a:lnTo>
                        <a:pt x="60" y="219"/>
                      </a:lnTo>
                      <a:lnTo>
                        <a:pt x="42" y="198"/>
                      </a:lnTo>
                      <a:lnTo>
                        <a:pt x="35" y="187"/>
                      </a:lnTo>
                      <a:lnTo>
                        <a:pt x="30" y="177"/>
                      </a:lnTo>
                      <a:lnTo>
                        <a:pt x="26" y="164"/>
                      </a:lnTo>
                      <a:lnTo>
                        <a:pt x="24" y="153"/>
                      </a:lnTo>
                      <a:lnTo>
                        <a:pt x="21" y="128"/>
                      </a:lnTo>
                      <a:lnTo>
                        <a:pt x="24" y="101"/>
                      </a:lnTo>
                      <a:lnTo>
                        <a:pt x="30" y="77"/>
                      </a:lnTo>
                      <a:lnTo>
                        <a:pt x="42" y="55"/>
                      </a:lnTo>
                      <a:lnTo>
                        <a:pt x="60" y="36"/>
                      </a:lnTo>
                      <a:lnTo>
                        <a:pt x="77" y="20"/>
                      </a:lnTo>
                      <a:lnTo>
                        <a:pt x="98" y="9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145560" y="3857040"/>
                  <a:ext cx="104400" cy="94680"/>
                </a:xfrm>
                <a:custGeom>
                  <a:avLst/>
                  <a:gdLst/>
                  <a:ahLst/>
                  <a:rect l="l" t="t" r="r" b="b"/>
                  <a:pathLst>
                    <a:path w="366" h="331">
                      <a:moveTo>
                        <a:pt x="72" y="14"/>
                      </a:moveTo>
                      <a:lnTo>
                        <a:pt x="84" y="3"/>
                      </a:lnTo>
                      <a:lnTo>
                        <a:pt x="56" y="0"/>
                      </a:lnTo>
                      <a:lnTo>
                        <a:pt x="42" y="13"/>
                      </a:lnTo>
                      <a:lnTo>
                        <a:pt x="30" y="29"/>
                      </a:lnTo>
                      <a:lnTo>
                        <a:pt x="13" y="62"/>
                      </a:lnTo>
                      <a:lnTo>
                        <a:pt x="3" y="97"/>
                      </a:lnTo>
                      <a:lnTo>
                        <a:pt x="0" y="137"/>
                      </a:lnTo>
                      <a:lnTo>
                        <a:pt x="0" y="155"/>
                      </a:lnTo>
                      <a:lnTo>
                        <a:pt x="3" y="174"/>
                      </a:lnTo>
                      <a:lnTo>
                        <a:pt x="7" y="192"/>
                      </a:lnTo>
                      <a:lnTo>
                        <a:pt x="13" y="211"/>
                      </a:lnTo>
                      <a:lnTo>
                        <a:pt x="20" y="226"/>
                      </a:lnTo>
                      <a:lnTo>
                        <a:pt x="30" y="243"/>
                      </a:lnTo>
                      <a:lnTo>
                        <a:pt x="42" y="258"/>
                      </a:lnTo>
                      <a:lnTo>
                        <a:pt x="56" y="274"/>
                      </a:lnTo>
                      <a:lnTo>
                        <a:pt x="70" y="287"/>
                      </a:lnTo>
                      <a:lnTo>
                        <a:pt x="86" y="298"/>
                      </a:lnTo>
                      <a:lnTo>
                        <a:pt x="102" y="308"/>
                      </a:lnTo>
                      <a:lnTo>
                        <a:pt x="119" y="316"/>
                      </a:lnTo>
                      <a:lnTo>
                        <a:pt x="136" y="322"/>
                      </a:lnTo>
                      <a:lnTo>
                        <a:pt x="155" y="326"/>
                      </a:lnTo>
                      <a:lnTo>
                        <a:pt x="174" y="330"/>
                      </a:lnTo>
                      <a:lnTo>
                        <a:pt x="195" y="331"/>
                      </a:lnTo>
                      <a:lnTo>
                        <a:pt x="213" y="330"/>
                      </a:lnTo>
                      <a:lnTo>
                        <a:pt x="222" y="327"/>
                      </a:lnTo>
                      <a:lnTo>
                        <a:pt x="226" y="326"/>
                      </a:lnTo>
                      <a:lnTo>
                        <a:pt x="232" y="326"/>
                      </a:lnTo>
                      <a:lnTo>
                        <a:pt x="250" y="322"/>
                      </a:lnTo>
                      <a:lnTo>
                        <a:pt x="268" y="316"/>
                      </a:lnTo>
                      <a:lnTo>
                        <a:pt x="284" y="308"/>
                      </a:lnTo>
                      <a:lnTo>
                        <a:pt x="285" y="306"/>
                      </a:lnTo>
                      <a:lnTo>
                        <a:pt x="288" y="305"/>
                      </a:lnTo>
                      <a:lnTo>
                        <a:pt x="292" y="302"/>
                      </a:lnTo>
                      <a:lnTo>
                        <a:pt x="301" y="298"/>
                      </a:lnTo>
                      <a:lnTo>
                        <a:pt x="316" y="287"/>
                      </a:lnTo>
                      <a:lnTo>
                        <a:pt x="332" y="274"/>
                      </a:lnTo>
                      <a:lnTo>
                        <a:pt x="350" y="251"/>
                      </a:lnTo>
                      <a:lnTo>
                        <a:pt x="366" y="229"/>
                      </a:lnTo>
                      <a:lnTo>
                        <a:pt x="355" y="204"/>
                      </a:lnTo>
                      <a:lnTo>
                        <a:pt x="347" y="217"/>
                      </a:lnTo>
                      <a:lnTo>
                        <a:pt x="342" y="224"/>
                      </a:lnTo>
                      <a:lnTo>
                        <a:pt x="340" y="228"/>
                      </a:lnTo>
                      <a:lnTo>
                        <a:pt x="339" y="232"/>
                      </a:lnTo>
                      <a:lnTo>
                        <a:pt x="335" y="234"/>
                      </a:lnTo>
                      <a:lnTo>
                        <a:pt x="333" y="238"/>
                      </a:lnTo>
                      <a:lnTo>
                        <a:pt x="329" y="245"/>
                      </a:lnTo>
                      <a:lnTo>
                        <a:pt x="317" y="258"/>
                      </a:lnTo>
                      <a:lnTo>
                        <a:pt x="302" y="270"/>
                      </a:lnTo>
                      <a:lnTo>
                        <a:pt x="289" y="280"/>
                      </a:lnTo>
                      <a:lnTo>
                        <a:pt x="284" y="281"/>
                      </a:lnTo>
                      <a:lnTo>
                        <a:pt x="281" y="283"/>
                      </a:lnTo>
                      <a:lnTo>
                        <a:pt x="274" y="288"/>
                      </a:lnTo>
                      <a:lnTo>
                        <a:pt x="261" y="296"/>
                      </a:lnTo>
                      <a:lnTo>
                        <a:pt x="251" y="298"/>
                      </a:lnTo>
                      <a:lnTo>
                        <a:pt x="247" y="299"/>
                      </a:lnTo>
                      <a:lnTo>
                        <a:pt x="244" y="301"/>
                      </a:lnTo>
                      <a:lnTo>
                        <a:pt x="228" y="306"/>
                      </a:lnTo>
                      <a:lnTo>
                        <a:pt x="211" y="308"/>
                      </a:lnTo>
                      <a:lnTo>
                        <a:pt x="195" y="309"/>
                      </a:lnTo>
                      <a:lnTo>
                        <a:pt x="177" y="308"/>
                      </a:lnTo>
                      <a:lnTo>
                        <a:pt x="160" y="306"/>
                      </a:lnTo>
                      <a:lnTo>
                        <a:pt x="143" y="301"/>
                      </a:lnTo>
                      <a:lnTo>
                        <a:pt x="128" y="296"/>
                      </a:lnTo>
                      <a:lnTo>
                        <a:pt x="112" y="288"/>
                      </a:lnTo>
                      <a:lnTo>
                        <a:pt x="98" y="280"/>
                      </a:lnTo>
                      <a:lnTo>
                        <a:pt x="85" y="270"/>
                      </a:lnTo>
                      <a:lnTo>
                        <a:pt x="72" y="258"/>
                      </a:lnTo>
                      <a:lnTo>
                        <a:pt x="59" y="245"/>
                      </a:lnTo>
                      <a:lnTo>
                        <a:pt x="48" y="231"/>
                      </a:lnTo>
                      <a:lnTo>
                        <a:pt x="39" y="216"/>
                      </a:lnTo>
                      <a:lnTo>
                        <a:pt x="34" y="203"/>
                      </a:lnTo>
                      <a:lnTo>
                        <a:pt x="27" y="186"/>
                      </a:lnTo>
                      <a:lnTo>
                        <a:pt x="24" y="170"/>
                      </a:lnTo>
                      <a:lnTo>
                        <a:pt x="21" y="153"/>
                      </a:lnTo>
                      <a:lnTo>
                        <a:pt x="21" y="137"/>
                      </a:lnTo>
                      <a:lnTo>
                        <a:pt x="24" y="102"/>
                      </a:lnTo>
                      <a:lnTo>
                        <a:pt x="27" y="85"/>
                      </a:lnTo>
                      <a:lnTo>
                        <a:pt x="34" y="70"/>
                      </a:lnTo>
                      <a:lnTo>
                        <a:pt x="39" y="54"/>
                      </a:lnTo>
                      <a:lnTo>
                        <a:pt x="48" y="41"/>
                      </a:lnTo>
                      <a:lnTo>
                        <a:pt x="72" y="14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132960" y="3856680"/>
                  <a:ext cx="122400" cy="107280"/>
                </a:xfrm>
                <a:custGeom>
                  <a:avLst/>
                  <a:gdLst/>
                  <a:ahLst/>
                  <a:rect l="l" t="t" r="r" b="b"/>
                  <a:pathLst>
                    <a:path w="427" h="377">
                      <a:moveTo>
                        <a:pt x="55" y="0"/>
                      </a:moveTo>
                      <a:lnTo>
                        <a:pt x="44" y="0"/>
                      </a:lnTo>
                      <a:lnTo>
                        <a:pt x="23" y="31"/>
                      </a:lnTo>
                      <a:lnTo>
                        <a:pt x="16" y="47"/>
                      </a:lnTo>
                      <a:lnTo>
                        <a:pt x="10" y="65"/>
                      </a:lnTo>
                      <a:lnTo>
                        <a:pt x="2" y="100"/>
                      </a:lnTo>
                      <a:lnTo>
                        <a:pt x="0" y="140"/>
                      </a:lnTo>
                      <a:lnTo>
                        <a:pt x="0" y="163"/>
                      </a:lnTo>
                      <a:lnTo>
                        <a:pt x="3" y="186"/>
                      </a:lnTo>
                      <a:lnTo>
                        <a:pt x="9" y="208"/>
                      </a:lnTo>
                      <a:lnTo>
                        <a:pt x="17" y="231"/>
                      </a:lnTo>
                      <a:lnTo>
                        <a:pt x="25" y="250"/>
                      </a:lnTo>
                      <a:lnTo>
                        <a:pt x="37" y="270"/>
                      </a:lnTo>
                      <a:lnTo>
                        <a:pt x="52" y="288"/>
                      </a:lnTo>
                      <a:lnTo>
                        <a:pt x="69" y="308"/>
                      </a:lnTo>
                      <a:lnTo>
                        <a:pt x="86" y="322"/>
                      </a:lnTo>
                      <a:lnTo>
                        <a:pt x="105" y="337"/>
                      </a:lnTo>
                      <a:lnTo>
                        <a:pt x="124" y="349"/>
                      </a:lnTo>
                      <a:lnTo>
                        <a:pt x="146" y="359"/>
                      </a:lnTo>
                      <a:lnTo>
                        <a:pt x="166" y="367"/>
                      </a:lnTo>
                      <a:lnTo>
                        <a:pt x="189" y="372"/>
                      </a:lnTo>
                      <a:lnTo>
                        <a:pt x="213" y="376"/>
                      </a:lnTo>
                      <a:lnTo>
                        <a:pt x="238" y="377"/>
                      </a:lnTo>
                      <a:lnTo>
                        <a:pt x="260" y="376"/>
                      </a:lnTo>
                      <a:lnTo>
                        <a:pt x="272" y="373"/>
                      </a:lnTo>
                      <a:lnTo>
                        <a:pt x="274" y="372"/>
                      </a:lnTo>
                      <a:lnTo>
                        <a:pt x="277" y="372"/>
                      </a:lnTo>
                      <a:lnTo>
                        <a:pt x="284" y="372"/>
                      </a:lnTo>
                      <a:lnTo>
                        <a:pt x="289" y="370"/>
                      </a:lnTo>
                      <a:lnTo>
                        <a:pt x="291" y="369"/>
                      </a:lnTo>
                      <a:lnTo>
                        <a:pt x="294" y="369"/>
                      </a:lnTo>
                      <a:lnTo>
                        <a:pt x="306" y="367"/>
                      </a:lnTo>
                      <a:lnTo>
                        <a:pt x="328" y="359"/>
                      </a:lnTo>
                      <a:lnTo>
                        <a:pt x="338" y="353"/>
                      </a:lnTo>
                      <a:lnTo>
                        <a:pt x="348" y="349"/>
                      </a:lnTo>
                      <a:lnTo>
                        <a:pt x="368" y="337"/>
                      </a:lnTo>
                      <a:lnTo>
                        <a:pt x="386" y="322"/>
                      </a:lnTo>
                      <a:lnTo>
                        <a:pt x="395" y="314"/>
                      </a:lnTo>
                      <a:lnTo>
                        <a:pt x="406" y="308"/>
                      </a:lnTo>
                      <a:lnTo>
                        <a:pt x="410" y="301"/>
                      </a:lnTo>
                      <a:lnTo>
                        <a:pt x="412" y="297"/>
                      </a:lnTo>
                      <a:lnTo>
                        <a:pt x="416" y="295"/>
                      </a:lnTo>
                      <a:lnTo>
                        <a:pt x="427" y="283"/>
                      </a:lnTo>
                      <a:lnTo>
                        <a:pt x="419" y="257"/>
                      </a:lnTo>
                      <a:lnTo>
                        <a:pt x="415" y="260"/>
                      </a:lnTo>
                      <a:lnTo>
                        <a:pt x="411" y="265"/>
                      </a:lnTo>
                      <a:lnTo>
                        <a:pt x="404" y="274"/>
                      </a:lnTo>
                      <a:lnTo>
                        <a:pt x="390" y="292"/>
                      </a:lnTo>
                      <a:lnTo>
                        <a:pt x="381" y="299"/>
                      </a:lnTo>
                      <a:lnTo>
                        <a:pt x="376" y="302"/>
                      </a:lnTo>
                      <a:lnTo>
                        <a:pt x="373" y="307"/>
                      </a:lnTo>
                      <a:lnTo>
                        <a:pt x="364" y="312"/>
                      </a:lnTo>
                      <a:lnTo>
                        <a:pt x="356" y="319"/>
                      </a:lnTo>
                      <a:lnTo>
                        <a:pt x="338" y="329"/>
                      </a:lnTo>
                      <a:lnTo>
                        <a:pt x="319" y="339"/>
                      </a:lnTo>
                      <a:lnTo>
                        <a:pt x="299" y="345"/>
                      </a:lnTo>
                      <a:lnTo>
                        <a:pt x="289" y="347"/>
                      </a:lnTo>
                      <a:lnTo>
                        <a:pt x="280" y="351"/>
                      </a:lnTo>
                      <a:lnTo>
                        <a:pt x="268" y="352"/>
                      </a:lnTo>
                      <a:lnTo>
                        <a:pt x="258" y="354"/>
                      </a:lnTo>
                      <a:lnTo>
                        <a:pt x="238" y="355"/>
                      </a:lnTo>
                      <a:lnTo>
                        <a:pt x="215" y="354"/>
                      </a:lnTo>
                      <a:lnTo>
                        <a:pt x="194" y="351"/>
                      </a:lnTo>
                      <a:lnTo>
                        <a:pt x="173" y="345"/>
                      </a:lnTo>
                      <a:lnTo>
                        <a:pt x="154" y="339"/>
                      </a:lnTo>
                      <a:lnTo>
                        <a:pt x="135" y="329"/>
                      </a:lnTo>
                      <a:lnTo>
                        <a:pt x="118" y="319"/>
                      </a:lnTo>
                      <a:lnTo>
                        <a:pt x="101" y="307"/>
                      </a:lnTo>
                      <a:lnTo>
                        <a:pt x="85" y="292"/>
                      </a:lnTo>
                      <a:lnTo>
                        <a:pt x="69" y="275"/>
                      </a:lnTo>
                      <a:lnTo>
                        <a:pt x="56" y="258"/>
                      </a:lnTo>
                      <a:lnTo>
                        <a:pt x="45" y="240"/>
                      </a:lnTo>
                      <a:lnTo>
                        <a:pt x="37" y="222"/>
                      </a:lnTo>
                      <a:lnTo>
                        <a:pt x="29" y="201"/>
                      </a:lnTo>
                      <a:lnTo>
                        <a:pt x="25" y="182"/>
                      </a:lnTo>
                      <a:lnTo>
                        <a:pt x="21" y="160"/>
                      </a:lnTo>
                      <a:lnTo>
                        <a:pt x="21" y="140"/>
                      </a:lnTo>
                      <a:lnTo>
                        <a:pt x="23" y="100"/>
                      </a:lnTo>
                      <a:lnTo>
                        <a:pt x="27" y="81"/>
                      </a:lnTo>
                      <a:lnTo>
                        <a:pt x="34" y="64"/>
                      </a:lnTo>
                      <a:lnTo>
                        <a:pt x="48" y="31"/>
                      </a:lnTo>
                      <a:lnTo>
                        <a:pt x="72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139440" y="3856680"/>
                  <a:ext cx="113400" cy="10152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8" y="3"/>
                      </a:moveTo>
                      <a:lnTo>
                        <a:pt x="51" y="0"/>
                      </a:lnTo>
                      <a:lnTo>
                        <a:pt x="27" y="31"/>
                      </a:lnTo>
                      <a:lnTo>
                        <a:pt x="13" y="64"/>
                      </a:lnTo>
                      <a:lnTo>
                        <a:pt x="6" y="81"/>
                      </a:lnTo>
                      <a:lnTo>
                        <a:pt x="2" y="100"/>
                      </a:lnTo>
                      <a:lnTo>
                        <a:pt x="0" y="140"/>
                      </a:lnTo>
                      <a:lnTo>
                        <a:pt x="0" y="160"/>
                      </a:lnTo>
                      <a:lnTo>
                        <a:pt x="4" y="182"/>
                      </a:lnTo>
                      <a:lnTo>
                        <a:pt x="8" y="201"/>
                      </a:lnTo>
                      <a:lnTo>
                        <a:pt x="16" y="222"/>
                      </a:lnTo>
                      <a:lnTo>
                        <a:pt x="24" y="240"/>
                      </a:lnTo>
                      <a:lnTo>
                        <a:pt x="35" y="258"/>
                      </a:lnTo>
                      <a:lnTo>
                        <a:pt x="48" y="275"/>
                      </a:lnTo>
                      <a:lnTo>
                        <a:pt x="64" y="292"/>
                      </a:lnTo>
                      <a:lnTo>
                        <a:pt x="80" y="307"/>
                      </a:lnTo>
                      <a:lnTo>
                        <a:pt x="97" y="319"/>
                      </a:lnTo>
                      <a:lnTo>
                        <a:pt x="114" y="329"/>
                      </a:lnTo>
                      <a:lnTo>
                        <a:pt x="133" y="339"/>
                      </a:lnTo>
                      <a:lnTo>
                        <a:pt x="152" y="345"/>
                      </a:lnTo>
                      <a:lnTo>
                        <a:pt x="173" y="351"/>
                      </a:lnTo>
                      <a:lnTo>
                        <a:pt x="194" y="354"/>
                      </a:lnTo>
                      <a:lnTo>
                        <a:pt x="217" y="355"/>
                      </a:lnTo>
                      <a:lnTo>
                        <a:pt x="237" y="354"/>
                      </a:lnTo>
                      <a:lnTo>
                        <a:pt x="247" y="352"/>
                      </a:lnTo>
                      <a:lnTo>
                        <a:pt x="259" y="351"/>
                      </a:lnTo>
                      <a:lnTo>
                        <a:pt x="268" y="347"/>
                      </a:lnTo>
                      <a:lnTo>
                        <a:pt x="278" y="345"/>
                      </a:lnTo>
                      <a:lnTo>
                        <a:pt x="298" y="339"/>
                      </a:lnTo>
                      <a:lnTo>
                        <a:pt x="317" y="329"/>
                      </a:lnTo>
                      <a:lnTo>
                        <a:pt x="335" y="319"/>
                      </a:lnTo>
                      <a:lnTo>
                        <a:pt x="343" y="312"/>
                      </a:lnTo>
                      <a:lnTo>
                        <a:pt x="352" y="307"/>
                      </a:lnTo>
                      <a:lnTo>
                        <a:pt x="355" y="302"/>
                      </a:lnTo>
                      <a:lnTo>
                        <a:pt x="360" y="299"/>
                      </a:lnTo>
                      <a:lnTo>
                        <a:pt x="369" y="292"/>
                      </a:lnTo>
                      <a:lnTo>
                        <a:pt x="383" y="274"/>
                      </a:lnTo>
                      <a:lnTo>
                        <a:pt x="390" y="265"/>
                      </a:lnTo>
                      <a:lnTo>
                        <a:pt x="394" y="260"/>
                      </a:lnTo>
                      <a:lnTo>
                        <a:pt x="398" y="257"/>
                      </a:lnTo>
                      <a:lnTo>
                        <a:pt x="388" y="232"/>
                      </a:lnTo>
                      <a:lnTo>
                        <a:pt x="372" y="254"/>
                      </a:lnTo>
                      <a:lnTo>
                        <a:pt x="354" y="277"/>
                      </a:lnTo>
                      <a:lnTo>
                        <a:pt x="338" y="290"/>
                      </a:lnTo>
                      <a:lnTo>
                        <a:pt x="323" y="301"/>
                      </a:lnTo>
                      <a:lnTo>
                        <a:pt x="314" y="305"/>
                      </a:lnTo>
                      <a:lnTo>
                        <a:pt x="310" y="308"/>
                      </a:lnTo>
                      <a:lnTo>
                        <a:pt x="307" y="309"/>
                      </a:lnTo>
                      <a:lnTo>
                        <a:pt x="306" y="311"/>
                      </a:lnTo>
                      <a:lnTo>
                        <a:pt x="290" y="319"/>
                      </a:lnTo>
                      <a:lnTo>
                        <a:pt x="272" y="325"/>
                      </a:lnTo>
                      <a:lnTo>
                        <a:pt x="254" y="329"/>
                      </a:lnTo>
                      <a:lnTo>
                        <a:pt x="248" y="329"/>
                      </a:lnTo>
                      <a:lnTo>
                        <a:pt x="244" y="330"/>
                      </a:lnTo>
                      <a:lnTo>
                        <a:pt x="235" y="333"/>
                      </a:lnTo>
                      <a:lnTo>
                        <a:pt x="217" y="334"/>
                      </a:lnTo>
                      <a:lnTo>
                        <a:pt x="196" y="333"/>
                      </a:lnTo>
                      <a:lnTo>
                        <a:pt x="177" y="329"/>
                      </a:lnTo>
                      <a:lnTo>
                        <a:pt x="158" y="325"/>
                      </a:lnTo>
                      <a:lnTo>
                        <a:pt x="141" y="319"/>
                      </a:lnTo>
                      <a:lnTo>
                        <a:pt x="124" y="311"/>
                      </a:lnTo>
                      <a:lnTo>
                        <a:pt x="108" y="301"/>
                      </a:lnTo>
                      <a:lnTo>
                        <a:pt x="92" y="290"/>
                      </a:lnTo>
                      <a:lnTo>
                        <a:pt x="78" y="277"/>
                      </a:lnTo>
                      <a:lnTo>
                        <a:pt x="64" y="261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4"/>
                      </a:lnTo>
                      <a:lnTo>
                        <a:pt x="29" y="195"/>
                      </a:lnTo>
                      <a:lnTo>
                        <a:pt x="25" y="177"/>
                      </a:lnTo>
                      <a:lnTo>
                        <a:pt x="22" y="158"/>
                      </a:lnTo>
                      <a:lnTo>
                        <a:pt x="22" y="140"/>
                      </a:lnTo>
                      <a:lnTo>
                        <a:pt x="25" y="100"/>
                      </a:lnTo>
                      <a:lnTo>
                        <a:pt x="35" y="65"/>
                      </a:lnTo>
                      <a:lnTo>
                        <a:pt x="52" y="32"/>
                      </a:lnTo>
                      <a:lnTo>
                        <a:pt x="64" y="16"/>
                      </a:lnTo>
                      <a:lnTo>
                        <a:pt x="78" y="3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163920" y="3862440"/>
                  <a:ext cx="73800" cy="71280"/>
                </a:xfrm>
                <a:custGeom>
                  <a:avLst/>
                  <a:gdLst/>
                  <a:ahLst/>
                  <a:rect l="l" t="t" r="r" b="b"/>
                  <a:pathLst>
                    <a:path w="259" h="248">
                      <a:moveTo>
                        <a:pt x="22" y="119"/>
                      </a:moveTo>
                      <a:lnTo>
                        <a:pt x="23" y="96"/>
                      </a:lnTo>
                      <a:lnTo>
                        <a:pt x="30" y="77"/>
                      </a:lnTo>
                      <a:lnTo>
                        <a:pt x="39" y="58"/>
                      </a:lnTo>
                      <a:lnTo>
                        <a:pt x="54" y="42"/>
                      </a:lnTo>
                      <a:lnTo>
                        <a:pt x="65" y="29"/>
                      </a:lnTo>
                      <a:lnTo>
                        <a:pt x="79" y="21"/>
                      </a:lnTo>
                      <a:lnTo>
                        <a:pt x="92" y="16"/>
                      </a:lnTo>
                      <a:lnTo>
                        <a:pt x="108" y="12"/>
                      </a:lnTo>
                      <a:lnTo>
                        <a:pt x="77" y="0"/>
                      </a:lnTo>
                      <a:lnTo>
                        <a:pt x="56" y="11"/>
                      </a:lnTo>
                      <a:lnTo>
                        <a:pt x="39" y="27"/>
                      </a:lnTo>
                      <a:lnTo>
                        <a:pt x="21" y="46"/>
                      </a:lnTo>
                      <a:lnTo>
                        <a:pt x="9" y="68"/>
                      </a:lnTo>
                      <a:lnTo>
                        <a:pt x="3" y="92"/>
                      </a:lnTo>
                      <a:lnTo>
                        <a:pt x="0" y="119"/>
                      </a:lnTo>
                      <a:lnTo>
                        <a:pt x="3" y="144"/>
                      </a:lnTo>
                      <a:lnTo>
                        <a:pt x="5" y="155"/>
                      </a:lnTo>
                      <a:lnTo>
                        <a:pt x="9" y="168"/>
                      </a:lnTo>
                      <a:lnTo>
                        <a:pt x="14" y="178"/>
                      </a:lnTo>
                      <a:lnTo>
                        <a:pt x="21" y="189"/>
                      </a:lnTo>
                      <a:lnTo>
                        <a:pt x="39" y="210"/>
                      </a:lnTo>
                      <a:lnTo>
                        <a:pt x="58" y="225"/>
                      </a:lnTo>
                      <a:lnTo>
                        <a:pt x="68" y="232"/>
                      </a:lnTo>
                      <a:lnTo>
                        <a:pt x="80" y="238"/>
                      </a:lnTo>
                      <a:lnTo>
                        <a:pt x="104" y="245"/>
                      </a:lnTo>
                      <a:lnTo>
                        <a:pt x="117" y="247"/>
                      </a:lnTo>
                      <a:lnTo>
                        <a:pt x="131" y="248"/>
                      </a:lnTo>
                      <a:lnTo>
                        <a:pt x="142" y="247"/>
                      </a:lnTo>
                      <a:lnTo>
                        <a:pt x="156" y="245"/>
                      </a:lnTo>
                      <a:lnTo>
                        <a:pt x="167" y="241"/>
                      </a:lnTo>
                      <a:lnTo>
                        <a:pt x="173" y="239"/>
                      </a:lnTo>
                      <a:lnTo>
                        <a:pt x="180" y="238"/>
                      </a:lnTo>
                      <a:lnTo>
                        <a:pt x="184" y="235"/>
                      </a:lnTo>
                      <a:lnTo>
                        <a:pt x="190" y="232"/>
                      </a:lnTo>
                      <a:lnTo>
                        <a:pt x="201" y="225"/>
                      </a:lnTo>
                      <a:lnTo>
                        <a:pt x="206" y="221"/>
                      </a:lnTo>
                      <a:lnTo>
                        <a:pt x="208" y="219"/>
                      </a:lnTo>
                      <a:lnTo>
                        <a:pt x="208" y="218"/>
                      </a:lnTo>
                      <a:lnTo>
                        <a:pt x="209" y="218"/>
                      </a:lnTo>
                      <a:lnTo>
                        <a:pt x="211" y="218"/>
                      </a:lnTo>
                      <a:lnTo>
                        <a:pt x="223" y="210"/>
                      </a:lnTo>
                      <a:lnTo>
                        <a:pt x="228" y="201"/>
                      </a:lnTo>
                      <a:lnTo>
                        <a:pt x="235" y="193"/>
                      </a:lnTo>
                      <a:lnTo>
                        <a:pt x="246" y="174"/>
                      </a:lnTo>
                      <a:lnTo>
                        <a:pt x="246" y="171"/>
                      </a:lnTo>
                      <a:lnTo>
                        <a:pt x="248" y="169"/>
                      </a:lnTo>
                      <a:lnTo>
                        <a:pt x="250" y="164"/>
                      </a:lnTo>
                      <a:lnTo>
                        <a:pt x="253" y="155"/>
                      </a:lnTo>
                      <a:lnTo>
                        <a:pt x="255" y="145"/>
                      </a:lnTo>
                      <a:lnTo>
                        <a:pt x="259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6" y="139"/>
                      </a:lnTo>
                      <a:lnTo>
                        <a:pt x="231" y="160"/>
                      </a:lnTo>
                      <a:lnTo>
                        <a:pt x="220" y="178"/>
                      </a:lnTo>
                      <a:lnTo>
                        <a:pt x="214" y="186"/>
                      </a:lnTo>
                      <a:lnTo>
                        <a:pt x="207" y="195"/>
                      </a:lnTo>
                      <a:lnTo>
                        <a:pt x="198" y="202"/>
                      </a:lnTo>
                      <a:lnTo>
                        <a:pt x="190" y="208"/>
                      </a:lnTo>
                      <a:lnTo>
                        <a:pt x="172" y="219"/>
                      </a:lnTo>
                      <a:lnTo>
                        <a:pt x="151" y="224"/>
                      </a:lnTo>
                      <a:lnTo>
                        <a:pt x="131" y="227"/>
                      </a:lnTo>
                      <a:lnTo>
                        <a:pt x="108" y="224"/>
                      </a:lnTo>
                      <a:lnTo>
                        <a:pt x="89" y="219"/>
                      </a:lnTo>
                      <a:lnTo>
                        <a:pt x="70" y="208"/>
                      </a:lnTo>
                      <a:lnTo>
                        <a:pt x="54" y="195"/>
                      </a:lnTo>
                      <a:lnTo>
                        <a:pt x="39" y="178"/>
                      </a:lnTo>
                      <a:lnTo>
                        <a:pt x="30" y="160"/>
                      </a:lnTo>
                      <a:lnTo>
                        <a:pt x="23" y="139"/>
                      </a:lnTo>
                      <a:lnTo>
                        <a:pt x="22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170040" y="386640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6" h="215">
                      <a:moveTo>
                        <a:pt x="32" y="30"/>
                      </a:moveTo>
                      <a:lnTo>
                        <a:pt x="17" y="46"/>
                      </a:lnTo>
                      <a:lnTo>
                        <a:pt x="8" y="65"/>
                      </a:lnTo>
                      <a:lnTo>
                        <a:pt x="1" y="84"/>
                      </a:lnTo>
                      <a:lnTo>
                        <a:pt x="0" y="107"/>
                      </a:lnTo>
                      <a:lnTo>
                        <a:pt x="1" y="127"/>
                      </a:lnTo>
                      <a:lnTo>
                        <a:pt x="8" y="148"/>
                      </a:lnTo>
                      <a:lnTo>
                        <a:pt x="17" y="166"/>
                      </a:lnTo>
                      <a:lnTo>
                        <a:pt x="32" y="183"/>
                      </a:lnTo>
                      <a:lnTo>
                        <a:pt x="48" y="196"/>
                      </a:lnTo>
                      <a:lnTo>
                        <a:pt x="67" y="207"/>
                      </a:lnTo>
                      <a:lnTo>
                        <a:pt x="86" y="212"/>
                      </a:lnTo>
                      <a:lnTo>
                        <a:pt x="109" y="215"/>
                      </a:lnTo>
                      <a:lnTo>
                        <a:pt x="129" y="212"/>
                      </a:lnTo>
                      <a:lnTo>
                        <a:pt x="150" y="207"/>
                      </a:lnTo>
                      <a:lnTo>
                        <a:pt x="168" y="196"/>
                      </a:lnTo>
                      <a:lnTo>
                        <a:pt x="176" y="190"/>
                      </a:lnTo>
                      <a:lnTo>
                        <a:pt x="185" y="183"/>
                      </a:lnTo>
                      <a:lnTo>
                        <a:pt x="192" y="174"/>
                      </a:lnTo>
                      <a:lnTo>
                        <a:pt x="198" y="166"/>
                      </a:lnTo>
                      <a:lnTo>
                        <a:pt x="209" y="148"/>
                      </a:lnTo>
                      <a:lnTo>
                        <a:pt x="214" y="127"/>
                      </a:lnTo>
                      <a:lnTo>
                        <a:pt x="216" y="107"/>
                      </a:lnTo>
                      <a:lnTo>
                        <a:pt x="216" y="99"/>
                      </a:lnTo>
                      <a:lnTo>
                        <a:pt x="198" y="80"/>
                      </a:lnTo>
                      <a:lnTo>
                        <a:pt x="192" y="73"/>
                      </a:lnTo>
                      <a:lnTo>
                        <a:pt x="189" y="71"/>
                      </a:lnTo>
                      <a:lnTo>
                        <a:pt x="188" y="69"/>
                      </a:lnTo>
                      <a:lnTo>
                        <a:pt x="186" y="67"/>
                      </a:lnTo>
                      <a:lnTo>
                        <a:pt x="193" y="85"/>
                      </a:lnTo>
                      <a:lnTo>
                        <a:pt x="195" y="107"/>
                      </a:lnTo>
                      <a:lnTo>
                        <a:pt x="193" y="123"/>
                      </a:lnTo>
                      <a:lnTo>
                        <a:pt x="188" y="139"/>
                      </a:lnTo>
                      <a:lnTo>
                        <a:pt x="184" y="145"/>
                      </a:lnTo>
                      <a:lnTo>
                        <a:pt x="181" y="149"/>
                      </a:lnTo>
                      <a:lnTo>
                        <a:pt x="180" y="153"/>
                      </a:lnTo>
                      <a:lnTo>
                        <a:pt x="170" y="167"/>
                      </a:lnTo>
                      <a:lnTo>
                        <a:pt x="162" y="172"/>
                      </a:lnTo>
                      <a:lnTo>
                        <a:pt x="155" y="177"/>
                      </a:lnTo>
                      <a:lnTo>
                        <a:pt x="147" y="182"/>
                      </a:lnTo>
                      <a:lnTo>
                        <a:pt x="140" y="186"/>
                      </a:lnTo>
                      <a:lnTo>
                        <a:pt x="125" y="191"/>
                      </a:lnTo>
                      <a:lnTo>
                        <a:pt x="109" y="193"/>
                      </a:lnTo>
                      <a:lnTo>
                        <a:pt x="91" y="191"/>
                      </a:lnTo>
                      <a:lnTo>
                        <a:pt x="75" y="186"/>
                      </a:lnTo>
                      <a:lnTo>
                        <a:pt x="60" y="177"/>
                      </a:lnTo>
                      <a:lnTo>
                        <a:pt x="48" y="167"/>
                      </a:lnTo>
                      <a:lnTo>
                        <a:pt x="36" y="153"/>
                      </a:lnTo>
                      <a:lnTo>
                        <a:pt x="28" y="139"/>
                      </a:lnTo>
                      <a:lnTo>
                        <a:pt x="24" y="123"/>
                      </a:lnTo>
                      <a:lnTo>
                        <a:pt x="23" y="107"/>
                      </a:lnTo>
                      <a:lnTo>
                        <a:pt x="24" y="89"/>
                      </a:lnTo>
                      <a:lnTo>
                        <a:pt x="28" y="73"/>
                      </a:lnTo>
                      <a:lnTo>
                        <a:pt x="36" y="58"/>
                      </a:lnTo>
                      <a:lnTo>
                        <a:pt x="48" y="46"/>
                      </a:lnTo>
                      <a:lnTo>
                        <a:pt x="60" y="33"/>
                      </a:lnTo>
                      <a:lnTo>
                        <a:pt x="75" y="25"/>
                      </a:lnTo>
                      <a:lnTo>
                        <a:pt x="91" y="21"/>
                      </a:lnTo>
                      <a:lnTo>
                        <a:pt x="109" y="20"/>
                      </a:lnTo>
                      <a:lnTo>
                        <a:pt x="117" y="20"/>
                      </a:lnTo>
                      <a:lnTo>
                        <a:pt x="126" y="22"/>
                      </a:lnTo>
                      <a:lnTo>
                        <a:pt x="105" y="9"/>
                      </a:lnTo>
                      <a:lnTo>
                        <a:pt x="86" y="0"/>
                      </a:lnTo>
                      <a:lnTo>
                        <a:pt x="70" y="4"/>
                      </a:lnTo>
                      <a:lnTo>
                        <a:pt x="57" y="9"/>
                      </a:lnTo>
                      <a:lnTo>
                        <a:pt x="43" y="17"/>
                      </a:lnTo>
                      <a:lnTo>
                        <a:pt x="32" y="30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176520" y="3871440"/>
                  <a:ext cx="48960" cy="49320"/>
                </a:xfrm>
                <a:custGeom>
                  <a:avLst/>
                  <a:gdLst/>
                  <a:ahLst/>
                  <a:rect l="l" t="t" r="r" b="b"/>
                  <a:pathLst>
                    <a:path w="172" h="173">
                      <a:moveTo>
                        <a:pt x="103" y="2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1"/>
                      </a:lnTo>
                      <a:lnTo>
                        <a:pt x="52" y="5"/>
                      </a:lnTo>
                      <a:lnTo>
                        <a:pt x="37" y="13"/>
                      </a:lnTo>
                      <a:lnTo>
                        <a:pt x="25" y="26"/>
                      </a:lnTo>
                      <a:lnTo>
                        <a:pt x="13" y="38"/>
                      </a:lnTo>
                      <a:lnTo>
                        <a:pt x="5" y="53"/>
                      </a:lnTo>
                      <a:lnTo>
                        <a:pt x="1" y="69"/>
                      </a:lnTo>
                      <a:lnTo>
                        <a:pt x="0" y="87"/>
                      </a:lnTo>
                      <a:lnTo>
                        <a:pt x="1" y="103"/>
                      </a:lnTo>
                      <a:lnTo>
                        <a:pt x="5" y="119"/>
                      </a:lnTo>
                      <a:lnTo>
                        <a:pt x="13" y="133"/>
                      </a:lnTo>
                      <a:lnTo>
                        <a:pt x="25" y="147"/>
                      </a:lnTo>
                      <a:lnTo>
                        <a:pt x="37" y="157"/>
                      </a:lnTo>
                      <a:lnTo>
                        <a:pt x="52" y="166"/>
                      </a:lnTo>
                      <a:lnTo>
                        <a:pt x="68" y="171"/>
                      </a:lnTo>
                      <a:lnTo>
                        <a:pt x="86" y="173"/>
                      </a:lnTo>
                      <a:lnTo>
                        <a:pt x="102" y="171"/>
                      </a:lnTo>
                      <a:lnTo>
                        <a:pt x="117" y="166"/>
                      </a:lnTo>
                      <a:lnTo>
                        <a:pt x="124" y="162"/>
                      </a:lnTo>
                      <a:lnTo>
                        <a:pt x="132" y="157"/>
                      </a:lnTo>
                      <a:lnTo>
                        <a:pt x="139" y="152"/>
                      </a:lnTo>
                      <a:lnTo>
                        <a:pt x="147" y="147"/>
                      </a:lnTo>
                      <a:lnTo>
                        <a:pt x="157" y="133"/>
                      </a:lnTo>
                      <a:lnTo>
                        <a:pt x="158" y="129"/>
                      </a:lnTo>
                      <a:lnTo>
                        <a:pt x="161" y="125"/>
                      </a:lnTo>
                      <a:lnTo>
                        <a:pt x="165" y="119"/>
                      </a:lnTo>
                      <a:lnTo>
                        <a:pt x="170" y="103"/>
                      </a:lnTo>
                      <a:lnTo>
                        <a:pt x="172" y="87"/>
                      </a:lnTo>
                      <a:lnTo>
                        <a:pt x="170" y="65"/>
                      </a:lnTo>
                      <a:lnTo>
                        <a:pt x="163" y="47"/>
                      </a:lnTo>
                      <a:lnTo>
                        <a:pt x="133" y="22"/>
                      </a:lnTo>
                      <a:lnTo>
                        <a:pt x="117" y="11"/>
                      </a:lnTo>
                      <a:lnTo>
                        <a:pt x="103" y="2"/>
                      </a:lnTo>
                      <a:close/>
                      <a:moveTo>
                        <a:pt x="21" y="87"/>
                      </a:moveTo>
                      <a:lnTo>
                        <a:pt x="22" y="73"/>
                      </a:lnTo>
                      <a:lnTo>
                        <a:pt x="26" y="61"/>
                      </a:lnTo>
                      <a:lnTo>
                        <a:pt x="31" y="49"/>
                      </a:lnTo>
                      <a:lnTo>
                        <a:pt x="39" y="40"/>
                      </a:lnTo>
                      <a:lnTo>
                        <a:pt x="48" y="31"/>
                      </a:lnTo>
                      <a:lnTo>
                        <a:pt x="60" y="26"/>
                      </a:lnTo>
                      <a:lnTo>
                        <a:pt x="72" y="22"/>
                      </a:lnTo>
                      <a:lnTo>
                        <a:pt x="86" y="21"/>
                      </a:lnTo>
                      <a:lnTo>
                        <a:pt x="97" y="22"/>
                      </a:lnTo>
                      <a:lnTo>
                        <a:pt x="110" y="26"/>
                      </a:lnTo>
                      <a:lnTo>
                        <a:pt x="120" y="31"/>
                      </a:lnTo>
                      <a:lnTo>
                        <a:pt x="131" y="40"/>
                      </a:lnTo>
                      <a:lnTo>
                        <a:pt x="139" y="49"/>
                      </a:lnTo>
                      <a:lnTo>
                        <a:pt x="145" y="61"/>
                      </a:lnTo>
                      <a:lnTo>
                        <a:pt x="148" y="73"/>
                      </a:lnTo>
                      <a:lnTo>
                        <a:pt x="150" y="87"/>
                      </a:lnTo>
                      <a:lnTo>
                        <a:pt x="148" y="98"/>
                      </a:lnTo>
                      <a:lnTo>
                        <a:pt x="146" y="104"/>
                      </a:lnTo>
                      <a:lnTo>
                        <a:pt x="145" y="111"/>
                      </a:lnTo>
                      <a:lnTo>
                        <a:pt x="141" y="115"/>
                      </a:lnTo>
                      <a:lnTo>
                        <a:pt x="139" y="121"/>
                      </a:lnTo>
                      <a:lnTo>
                        <a:pt x="131" y="132"/>
                      </a:lnTo>
                      <a:lnTo>
                        <a:pt x="120" y="140"/>
                      </a:lnTo>
                      <a:lnTo>
                        <a:pt x="114" y="142"/>
                      </a:lnTo>
                      <a:lnTo>
                        <a:pt x="110" y="146"/>
                      </a:lnTo>
                      <a:lnTo>
                        <a:pt x="103" y="147"/>
                      </a:lnTo>
                      <a:lnTo>
                        <a:pt x="97" y="149"/>
                      </a:lnTo>
                      <a:lnTo>
                        <a:pt x="86" y="152"/>
                      </a:lnTo>
                      <a:lnTo>
                        <a:pt x="72" y="149"/>
                      </a:lnTo>
                      <a:lnTo>
                        <a:pt x="60" y="146"/>
                      </a:lnTo>
                      <a:lnTo>
                        <a:pt x="48" y="140"/>
                      </a:lnTo>
                      <a:lnTo>
                        <a:pt x="39" y="132"/>
                      </a:lnTo>
                      <a:lnTo>
                        <a:pt x="31" y="121"/>
                      </a:lnTo>
                      <a:lnTo>
                        <a:pt x="26" y="111"/>
                      </a:lnTo>
                      <a:lnTo>
                        <a:pt x="22" y="98"/>
                      </a:lnTo>
                      <a:lnTo>
                        <a:pt x="21" y="87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182640" y="387792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18" y="19"/>
                      </a:moveTo>
                      <a:lnTo>
                        <a:pt x="10" y="28"/>
                      </a:lnTo>
                      <a:lnTo>
                        <a:pt x="5" y="40"/>
                      </a:lnTo>
                      <a:lnTo>
                        <a:pt x="1" y="52"/>
                      </a:lnTo>
                      <a:lnTo>
                        <a:pt x="0" y="66"/>
                      </a:lnTo>
                      <a:lnTo>
                        <a:pt x="1" y="77"/>
                      </a:lnTo>
                      <a:lnTo>
                        <a:pt x="5" y="90"/>
                      </a:lnTo>
                      <a:lnTo>
                        <a:pt x="10" y="100"/>
                      </a:lnTo>
                      <a:lnTo>
                        <a:pt x="18" y="111"/>
                      </a:lnTo>
                      <a:lnTo>
                        <a:pt x="27" y="119"/>
                      </a:lnTo>
                      <a:lnTo>
                        <a:pt x="39" y="125"/>
                      </a:lnTo>
                      <a:lnTo>
                        <a:pt x="51" y="128"/>
                      </a:lnTo>
                      <a:lnTo>
                        <a:pt x="65" y="131"/>
                      </a:lnTo>
                      <a:lnTo>
                        <a:pt x="76" y="128"/>
                      </a:lnTo>
                      <a:lnTo>
                        <a:pt x="82" y="126"/>
                      </a:lnTo>
                      <a:lnTo>
                        <a:pt x="89" y="125"/>
                      </a:lnTo>
                      <a:lnTo>
                        <a:pt x="93" y="121"/>
                      </a:lnTo>
                      <a:lnTo>
                        <a:pt x="99" y="119"/>
                      </a:lnTo>
                      <a:lnTo>
                        <a:pt x="110" y="111"/>
                      </a:lnTo>
                      <a:lnTo>
                        <a:pt x="118" y="100"/>
                      </a:lnTo>
                      <a:lnTo>
                        <a:pt x="120" y="94"/>
                      </a:lnTo>
                      <a:lnTo>
                        <a:pt x="124" y="90"/>
                      </a:lnTo>
                      <a:lnTo>
                        <a:pt x="125" y="83"/>
                      </a:lnTo>
                      <a:lnTo>
                        <a:pt x="127" y="77"/>
                      </a:lnTo>
                      <a:lnTo>
                        <a:pt x="129" y="66"/>
                      </a:lnTo>
                      <a:lnTo>
                        <a:pt x="127" y="52"/>
                      </a:lnTo>
                      <a:lnTo>
                        <a:pt x="124" y="40"/>
                      </a:lnTo>
                      <a:lnTo>
                        <a:pt x="118" y="28"/>
                      </a:lnTo>
                      <a:lnTo>
                        <a:pt x="110" y="19"/>
                      </a:lnTo>
                      <a:lnTo>
                        <a:pt x="99" y="10"/>
                      </a:lnTo>
                      <a:lnTo>
                        <a:pt x="89" y="5"/>
                      </a:lnTo>
                      <a:lnTo>
                        <a:pt x="76" y="1"/>
                      </a:lnTo>
                      <a:lnTo>
                        <a:pt x="65" y="0"/>
                      </a:lnTo>
                      <a:lnTo>
                        <a:pt x="51" y="1"/>
                      </a:lnTo>
                      <a:lnTo>
                        <a:pt x="39" y="5"/>
                      </a:lnTo>
                      <a:lnTo>
                        <a:pt x="27" y="10"/>
                      </a:lnTo>
                      <a:lnTo>
                        <a:pt x="18" y="19"/>
                      </a:lnTo>
                      <a:close/>
                      <a:moveTo>
                        <a:pt x="22" y="66"/>
                      </a:moveTo>
                      <a:lnTo>
                        <a:pt x="24" y="49"/>
                      </a:lnTo>
                      <a:lnTo>
                        <a:pt x="34" y="34"/>
                      </a:lnTo>
                      <a:lnTo>
                        <a:pt x="40" y="27"/>
                      </a:lnTo>
                      <a:lnTo>
                        <a:pt x="48" y="24"/>
                      </a:lnTo>
                      <a:lnTo>
                        <a:pt x="65" y="22"/>
                      </a:lnTo>
                      <a:lnTo>
                        <a:pt x="73" y="22"/>
                      </a:lnTo>
                      <a:lnTo>
                        <a:pt x="81" y="24"/>
                      </a:lnTo>
                      <a:lnTo>
                        <a:pt x="87" y="27"/>
                      </a:lnTo>
                      <a:lnTo>
                        <a:pt x="95" y="34"/>
                      </a:lnTo>
                      <a:lnTo>
                        <a:pt x="104" y="49"/>
                      </a:lnTo>
                      <a:lnTo>
                        <a:pt x="107" y="57"/>
                      </a:lnTo>
                      <a:lnTo>
                        <a:pt x="108" y="66"/>
                      </a:lnTo>
                      <a:lnTo>
                        <a:pt x="107" y="73"/>
                      </a:lnTo>
                      <a:lnTo>
                        <a:pt x="104" y="82"/>
                      </a:lnTo>
                      <a:lnTo>
                        <a:pt x="100" y="89"/>
                      </a:lnTo>
                      <a:lnTo>
                        <a:pt x="95" y="97"/>
                      </a:lnTo>
                      <a:lnTo>
                        <a:pt x="87" y="101"/>
                      </a:lnTo>
                      <a:lnTo>
                        <a:pt x="81" y="106"/>
                      </a:lnTo>
                      <a:lnTo>
                        <a:pt x="73" y="108"/>
                      </a:lnTo>
                      <a:lnTo>
                        <a:pt x="68" y="108"/>
                      </a:lnTo>
                      <a:lnTo>
                        <a:pt x="66" y="108"/>
                      </a:lnTo>
                      <a:lnTo>
                        <a:pt x="65" y="108"/>
                      </a:lnTo>
                      <a:lnTo>
                        <a:pt x="65" y="109"/>
                      </a:lnTo>
                      <a:lnTo>
                        <a:pt x="56" y="108"/>
                      </a:lnTo>
                      <a:lnTo>
                        <a:pt x="48" y="106"/>
                      </a:lnTo>
                      <a:lnTo>
                        <a:pt x="40" y="101"/>
                      </a:lnTo>
                      <a:lnTo>
                        <a:pt x="34" y="97"/>
                      </a:lnTo>
                      <a:lnTo>
                        <a:pt x="27" y="89"/>
                      </a:lnTo>
                      <a:lnTo>
                        <a:pt x="24" y="82"/>
                      </a:lnTo>
                      <a:lnTo>
                        <a:pt x="22" y="66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9120" y="3884040"/>
                  <a:ext cx="24480" cy="24480"/>
                </a:xfrm>
                <a:custGeom>
                  <a:avLst/>
                  <a:gdLst/>
                  <a:ahLst/>
                  <a:rect l="l" t="t" r="r" b="b"/>
                  <a:pathLst>
                    <a:path w="86" h="87">
                      <a:moveTo>
                        <a:pt x="12" y="12"/>
                      </a:moveTo>
                      <a:lnTo>
                        <a:pt x="2" y="27"/>
                      </a:lnTo>
                      <a:lnTo>
                        <a:pt x="0" y="44"/>
                      </a:lnTo>
                      <a:lnTo>
                        <a:pt x="2" y="60"/>
                      </a:lnTo>
                      <a:lnTo>
                        <a:pt x="5" y="67"/>
                      </a:lnTo>
                      <a:lnTo>
                        <a:pt x="12" y="75"/>
                      </a:lnTo>
                      <a:lnTo>
                        <a:pt x="18" y="79"/>
                      </a:lnTo>
                      <a:lnTo>
                        <a:pt x="26" y="84"/>
                      </a:lnTo>
                      <a:lnTo>
                        <a:pt x="34" y="86"/>
                      </a:lnTo>
                      <a:lnTo>
                        <a:pt x="43" y="87"/>
                      </a:lnTo>
                      <a:lnTo>
                        <a:pt x="43" y="86"/>
                      </a:lnTo>
                      <a:lnTo>
                        <a:pt x="44" y="86"/>
                      </a:lnTo>
                      <a:lnTo>
                        <a:pt x="46" y="86"/>
                      </a:lnTo>
                      <a:lnTo>
                        <a:pt x="51" y="86"/>
                      </a:lnTo>
                      <a:lnTo>
                        <a:pt x="59" y="84"/>
                      </a:lnTo>
                      <a:lnTo>
                        <a:pt x="65" y="79"/>
                      </a:lnTo>
                      <a:lnTo>
                        <a:pt x="73" y="75"/>
                      </a:lnTo>
                      <a:lnTo>
                        <a:pt x="78" y="67"/>
                      </a:lnTo>
                      <a:lnTo>
                        <a:pt x="82" y="60"/>
                      </a:lnTo>
                      <a:lnTo>
                        <a:pt x="85" y="51"/>
                      </a:lnTo>
                      <a:lnTo>
                        <a:pt x="86" y="44"/>
                      </a:lnTo>
                      <a:lnTo>
                        <a:pt x="85" y="35"/>
                      </a:lnTo>
                      <a:lnTo>
                        <a:pt x="82" y="27"/>
                      </a:lnTo>
                      <a:lnTo>
                        <a:pt x="73" y="12"/>
                      </a:lnTo>
                      <a:lnTo>
                        <a:pt x="65" y="5"/>
                      </a:lnTo>
                      <a:lnTo>
                        <a:pt x="59" y="2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2"/>
                      </a:lnTo>
                      <a:lnTo>
                        <a:pt x="18" y="5"/>
                      </a:lnTo>
                      <a:lnTo>
                        <a:pt x="12" y="12"/>
                      </a:lnTo>
                      <a:close/>
                      <a:moveTo>
                        <a:pt x="21" y="44"/>
                      </a:moveTo>
                      <a:lnTo>
                        <a:pt x="22" y="35"/>
                      </a:lnTo>
                      <a:lnTo>
                        <a:pt x="27" y="28"/>
                      </a:lnTo>
                      <a:lnTo>
                        <a:pt x="34" y="23"/>
                      </a:lnTo>
                      <a:lnTo>
                        <a:pt x="43" y="22"/>
                      </a:lnTo>
                      <a:lnTo>
                        <a:pt x="51" y="23"/>
                      </a:lnTo>
                      <a:lnTo>
                        <a:pt x="57" y="28"/>
                      </a:lnTo>
                      <a:lnTo>
                        <a:pt x="62" y="35"/>
                      </a:lnTo>
                      <a:lnTo>
                        <a:pt x="64" y="44"/>
                      </a:lnTo>
                      <a:lnTo>
                        <a:pt x="62" y="51"/>
                      </a:lnTo>
                      <a:lnTo>
                        <a:pt x="60" y="54"/>
                      </a:lnTo>
                      <a:lnTo>
                        <a:pt x="57" y="59"/>
                      </a:lnTo>
                      <a:lnTo>
                        <a:pt x="51" y="62"/>
                      </a:lnTo>
                      <a:lnTo>
                        <a:pt x="46" y="63"/>
                      </a:lnTo>
                      <a:lnTo>
                        <a:pt x="44" y="63"/>
                      </a:lnTo>
                      <a:lnTo>
                        <a:pt x="43" y="63"/>
                      </a:lnTo>
                      <a:lnTo>
                        <a:pt x="43" y="64"/>
                      </a:lnTo>
                      <a:lnTo>
                        <a:pt x="34" y="62"/>
                      </a:lnTo>
                      <a:lnTo>
                        <a:pt x="27" y="59"/>
                      </a:lnTo>
                      <a:lnTo>
                        <a:pt x="23" y="54"/>
                      </a:lnTo>
                      <a:lnTo>
                        <a:pt x="22" y="51"/>
                      </a:lnTo>
                      <a:lnTo>
                        <a:pt x="21" y="44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95240" y="389052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6" y="6"/>
                      </a:moveTo>
                      <a:lnTo>
                        <a:pt x="1" y="13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6" y="37"/>
                      </a:lnTo>
                      <a:lnTo>
                        <a:pt x="13" y="40"/>
                      </a:lnTo>
                      <a:lnTo>
                        <a:pt x="22" y="42"/>
                      </a:lnTo>
                      <a:lnTo>
                        <a:pt x="22" y="41"/>
                      </a:lnTo>
                      <a:lnTo>
                        <a:pt x="23" y="41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6" y="37"/>
                      </a:lnTo>
                      <a:lnTo>
                        <a:pt x="39" y="32"/>
                      </a:lnTo>
                      <a:lnTo>
                        <a:pt x="41" y="29"/>
                      </a:lnTo>
                      <a:lnTo>
                        <a:pt x="43" y="22"/>
                      </a:lnTo>
                      <a:lnTo>
                        <a:pt x="41" y="13"/>
                      </a:lnTo>
                      <a:lnTo>
                        <a:pt x="36" y="6"/>
                      </a:lnTo>
                      <a:lnTo>
                        <a:pt x="30" y="1"/>
                      </a:lnTo>
                      <a:lnTo>
                        <a:pt x="22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059160" y="389556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1" y="4"/>
                      </a:moveTo>
                      <a:lnTo>
                        <a:pt x="21" y="0"/>
                      </a:lnTo>
                      <a:lnTo>
                        <a:pt x="0" y="27"/>
                      </a:lnTo>
                      <a:lnTo>
                        <a:pt x="0" y="49"/>
                      </a:lnTo>
                      <a:lnTo>
                        <a:pt x="2" y="73"/>
                      </a:lnTo>
                      <a:lnTo>
                        <a:pt x="11" y="118"/>
                      </a:lnTo>
                      <a:lnTo>
                        <a:pt x="23" y="161"/>
                      </a:lnTo>
                      <a:lnTo>
                        <a:pt x="40" y="203"/>
                      </a:lnTo>
                      <a:lnTo>
                        <a:pt x="59" y="243"/>
                      </a:lnTo>
                      <a:lnTo>
                        <a:pt x="84" y="282"/>
                      </a:lnTo>
                      <a:lnTo>
                        <a:pt x="97" y="300"/>
                      </a:lnTo>
                      <a:lnTo>
                        <a:pt x="111" y="319"/>
                      </a:lnTo>
                      <a:lnTo>
                        <a:pt x="145" y="355"/>
                      </a:lnTo>
                      <a:lnTo>
                        <a:pt x="182" y="389"/>
                      </a:lnTo>
                      <a:lnTo>
                        <a:pt x="221" y="419"/>
                      </a:lnTo>
                      <a:lnTo>
                        <a:pt x="261" y="444"/>
                      </a:lnTo>
                      <a:lnTo>
                        <a:pt x="305" y="464"/>
                      </a:lnTo>
                      <a:lnTo>
                        <a:pt x="349" y="480"/>
                      </a:lnTo>
                      <a:lnTo>
                        <a:pt x="397" y="491"/>
                      </a:lnTo>
                      <a:lnTo>
                        <a:pt x="446" y="498"/>
                      </a:lnTo>
                      <a:lnTo>
                        <a:pt x="497" y="500"/>
                      </a:lnTo>
                      <a:lnTo>
                        <a:pt x="526" y="499"/>
                      </a:lnTo>
                      <a:lnTo>
                        <a:pt x="557" y="497"/>
                      </a:lnTo>
                      <a:lnTo>
                        <a:pt x="586" y="493"/>
                      </a:lnTo>
                      <a:lnTo>
                        <a:pt x="616" y="487"/>
                      </a:lnTo>
                      <a:lnTo>
                        <a:pt x="636" y="460"/>
                      </a:lnTo>
                      <a:lnTo>
                        <a:pt x="602" y="468"/>
                      </a:lnTo>
                      <a:lnTo>
                        <a:pt x="568" y="473"/>
                      </a:lnTo>
                      <a:lnTo>
                        <a:pt x="532" y="477"/>
                      </a:lnTo>
                      <a:lnTo>
                        <a:pt x="514" y="478"/>
                      </a:lnTo>
                      <a:lnTo>
                        <a:pt x="505" y="478"/>
                      </a:lnTo>
                      <a:lnTo>
                        <a:pt x="500" y="478"/>
                      </a:lnTo>
                      <a:lnTo>
                        <a:pt x="498" y="478"/>
                      </a:lnTo>
                      <a:lnTo>
                        <a:pt x="497" y="478"/>
                      </a:lnTo>
                      <a:lnTo>
                        <a:pt x="497" y="479"/>
                      </a:lnTo>
                      <a:lnTo>
                        <a:pt x="447" y="477"/>
                      </a:lnTo>
                      <a:lnTo>
                        <a:pt x="400" y="470"/>
                      </a:lnTo>
                      <a:lnTo>
                        <a:pt x="355" y="459"/>
                      </a:lnTo>
                      <a:lnTo>
                        <a:pt x="313" y="444"/>
                      </a:lnTo>
                      <a:lnTo>
                        <a:pt x="271" y="423"/>
                      </a:lnTo>
                      <a:lnTo>
                        <a:pt x="233" y="400"/>
                      </a:lnTo>
                      <a:lnTo>
                        <a:pt x="195" y="371"/>
                      </a:lnTo>
                      <a:lnTo>
                        <a:pt x="160" y="339"/>
                      </a:lnTo>
                      <a:lnTo>
                        <a:pt x="126" y="303"/>
                      </a:lnTo>
                      <a:lnTo>
                        <a:pt x="98" y="266"/>
                      </a:lnTo>
                      <a:lnTo>
                        <a:pt x="84" y="245"/>
                      </a:lnTo>
                      <a:lnTo>
                        <a:pt x="73" y="226"/>
                      </a:lnTo>
                      <a:lnTo>
                        <a:pt x="55" y="185"/>
                      </a:lnTo>
                      <a:lnTo>
                        <a:pt x="39" y="142"/>
                      </a:lnTo>
                      <a:lnTo>
                        <a:pt x="28" y="98"/>
                      </a:lnTo>
                      <a:lnTo>
                        <a:pt x="24" y="74"/>
                      </a:lnTo>
                      <a:lnTo>
                        <a:pt x="22" y="52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064920" y="3888720"/>
                  <a:ext cx="181080" cy="143280"/>
                </a:xfrm>
                <a:custGeom>
                  <a:avLst/>
                  <a:gdLst/>
                  <a:ahLst/>
                  <a:rect l="l" t="t" r="r" b="b"/>
                  <a:pathLst>
                    <a:path w="633" h="502">
                      <a:moveTo>
                        <a:pt x="0" y="23"/>
                      </a:moveTo>
                      <a:lnTo>
                        <a:pt x="0" y="27"/>
                      </a:lnTo>
                      <a:lnTo>
                        <a:pt x="1" y="75"/>
                      </a:lnTo>
                      <a:lnTo>
                        <a:pt x="3" y="97"/>
                      </a:lnTo>
                      <a:lnTo>
                        <a:pt x="7" y="121"/>
                      </a:lnTo>
                      <a:lnTo>
                        <a:pt x="18" y="165"/>
                      </a:lnTo>
                      <a:lnTo>
                        <a:pt x="34" y="208"/>
                      </a:lnTo>
                      <a:lnTo>
                        <a:pt x="52" y="249"/>
                      </a:lnTo>
                      <a:lnTo>
                        <a:pt x="63" y="268"/>
                      </a:lnTo>
                      <a:lnTo>
                        <a:pt x="77" y="289"/>
                      </a:lnTo>
                      <a:lnTo>
                        <a:pt x="105" y="326"/>
                      </a:lnTo>
                      <a:lnTo>
                        <a:pt x="139" y="362"/>
                      </a:lnTo>
                      <a:lnTo>
                        <a:pt x="174" y="394"/>
                      </a:lnTo>
                      <a:lnTo>
                        <a:pt x="212" y="423"/>
                      </a:lnTo>
                      <a:lnTo>
                        <a:pt x="250" y="446"/>
                      </a:lnTo>
                      <a:lnTo>
                        <a:pt x="292" y="467"/>
                      </a:lnTo>
                      <a:lnTo>
                        <a:pt x="334" y="482"/>
                      </a:lnTo>
                      <a:lnTo>
                        <a:pt x="379" y="493"/>
                      </a:lnTo>
                      <a:lnTo>
                        <a:pt x="426" y="500"/>
                      </a:lnTo>
                      <a:lnTo>
                        <a:pt x="476" y="502"/>
                      </a:lnTo>
                      <a:lnTo>
                        <a:pt x="476" y="501"/>
                      </a:lnTo>
                      <a:lnTo>
                        <a:pt x="477" y="501"/>
                      </a:lnTo>
                      <a:lnTo>
                        <a:pt x="479" y="501"/>
                      </a:lnTo>
                      <a:lnTo>
                        <a:pt x="484" y="501"/>
                      </a:lnTo>
                      <a:lnTo>
                        <a:pt x="493" y="501"/>
                      </a:lnTo>
                      <a:lnTo>
                        <a:pt x="511" y="500"/>
                      </a:lnTo>
                      <a:lnTo>
                        <a:pt x="547" y="496"/>
                      </a:lnTo>
                      <a:lnTo>
                        <a:pt x="581" y="491"/>
                      </a:lnTo>
                      <a:lnTo>
                        <a:pt x="615" y="483"/>
                      </a:lnTo>
                      <a:lnTo>
                        <a:pt x="633" y="453"/>
                      </a:lnTo>
                      <a:lnTo>
                        <a:pt x="595" y="465"/>
                      </a:lnTo>
                      <a:lnTo>
                        <a:pt x="556" y="474"/>
                      </a:lnTo>
                      <a:lnTo>
                        <a:pt x="536" y="476"/>
                      </a:lnTo>
                      <a:lnTo>
                        <a:pt x="517" y="478"/>
                      </a:lnTo>
                      <a:lnTo>
                        <a:pt x="476" y="480"/>
                      </a:lnTo>
                      <a:lnTo>
                        <a:pt x="428" y="478"/>
                      </a:lnTo>
                      <a:lnTo>
                        <a:pt x="384" y="471"/>
                      </a:lnTo>
                      <a:lnTo>
                        <a:pt x="341" y="460"/>
                      </a:lnTo>
                      <a:lnTo>
                        <a:pt x="301" y="446"/>
                      </a:lnTo>
                      <a:lnTo>
                        <a:pt x="261" y="427"/>
                      </a:lnTo>
                      <a:lnTo>
                        <a:pt x="224" y="404"/>
                      </a:lnTo>
                      <a:lnTo>
                        <a:pt x="188" y="377"/>
                      </a:lnTo>
                      <a:lnTo>
                        <a:pt x="155" y="347"/>
                      </a:lnTo>
                      <a:lnTo>
                        <a:pt x="138" y="328"/>
                      </a:lnTo>
                      <a:lnTo>
                        <a:pt x="123" y="311"/>
                      </a:lnTo>
                      <a:lnTo>
                        <a:pt x="96" y="275"/>
                      </a:lnTo>
                      <a:lnTo>
                        <a:pt x="83" y="256"/>
                      </a:lnTo>
                      <a:lnTo>
                        <a:pt x="73" y="238"/>
                      </a:lnTo>
                      <a:lnTo>
                        <a:pt x="55" y="199"/>
                      </a:lnTo>
                      <a:lnTo>
                        <a:pt x="39" y="158"/>
                      </a:lnTo>
                      <a:lnTo>
                        <a:pt x="34" y="137"/>
                      </a:lnTo>
                      <a:lnTo>
                        <a:pt x="30" y="116"/>
                      </a:lnTo>
                      <a:lnTo>
                        <a:pt x="26" y="94"/>
                      </a:lnTo>
                      <a:lnTo>
                        <a:pt x="23" y="72"/>
                      </a:lnTo>
                      <a:lnTo>
                        <a:pt x="22" y="27"/>
                      </a:lnTo>
                      <a:lnTo>
                        <a:pt x="22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090120" y="3868200"/>
                  <a:ext cx="16704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8">
                      <a:moveTo>
                        <a:pt x="34" y="0"/>
                      </a:moveTo>
                      <a:lnTo>
                        <a:pt x="9" y="15"/>
                      </a:lnTo>
                      <a:lnTo>
                        <a:pt x="4" y="34"/>
                      </a:lnTo>
                      <a:lnTo>
                        <a:pt x="2" y="56"/>
                      </a:lnTo>
                      <a:lnTo>
                        <a:pt x="0" y="100"/>
                      </a:lnTo>
                      <a:lnTo>
                        <a:pt x="1" y="138"/>
                      </a:lnTo>
                      <a:lnTo>
                        <a:pt x="7" y="177"/>
                      </a:lnTo>
                      <a:lnTo>
                        <a:pt x="15" y="213"/>
                      </a:lnTo>
                      <a:lnTo>
                        <a:pt x="20" y="230"/>
                      </a:lnTo>
                      <a:lnTo>
                        <a:pt x="28" y="248"/>
                      </a:lnTo>
                      <a:lnTo>
                        <a:pt x="43" y="281"/>
                      </a:lnTo>
                      <a:lnTo>
                        <a:pt x="52" y="297"/>
                      </a:lnTo>
                      <a:lnTo>
                        <a:pt x="63" y="314"/>
                      </a:lnTo>
                      <a:lnTo>
                        <a:pt x="74" y="329"/>
                      </a:lnTo>
                      <a:lnTo>
                        <a:pt x="86" y="345"/>
                      </a:lnTo>
                      <a:lnTo>
                        <a:pt x="113" y="374"/>
                      </a:lnTo>
                      <a:lnTo>
                        <a:pt x="142" y="400"/>
                      </a:lnTo>
                      <a:lnTo>
                        <a:pt x="172" y="423"/>
                      </a:lnTo>
                      <a:lnTo>
                        <a:pt x="204" y="442"/>
                      </a:lnTo>
                      <a:lnTo>
                        <a:pt x="239" y="459"/>
                      </a:lnTo>
                      <a:lnTo>
                        <a:pt x="273" y="471"/>
                      </a:lnTo>
                      <a:lnTo>
                        <a:pt x="311" y="480"/>
                      </a:lnTo>
                      <a:lnTo>
                        <a:pt x="348" y="485"/>
                      </a:lnTo>
                      <a:lnTo>
                        <a:pt x="389" y="488"/>
                      </a:lnTo>
                      <a:lnTo>
                        <a:pt x="414" y="487"/>
                      </a:lnTo>
                      <a:lnTo>
                        <a:pt x="440" y="484"/>
                      </a:lnTo>
                      <a:lnTo>
                        <a:pt x="464" y="480"/>
                      </a:lnTo>
                      <a:lnTo>
                        <a:pt x="489" y="475"/>
                      </a:lnTo>
                      <a:lnTo>
                        <a:pt x="511" y="467"/>
                      </a:lnTo>
                      <a:lnTo>
                        <a:pt x="523" y="463"/>
                      </a:lnTo>
                      <a:lnTo>
                        <a:pt x="528" y="460"/>
                      </a:lnTo>
                      <a:lnTo>
                        <a:pt x="535" y="459"/>
                      </a:lnTo>
                      <a:lnTo>
                        <a:pt x="540" y="456"/>
                      </a:lnTo>
                      <a:lnTo>
                        <a:pt x="545" y="454"/>
                      </a:lnTo>
                      <a:lnTo>
                        <a:pt x="557" y="449"/>
                      </a:lnTo>
                      <a:lnTo>
                        <a:pt x="579" y="439"/>
                      </a:lnTo>
                      <a:lnTo>
                        <a:pt x="581" y="424"/>
                      </a:lnTo>
                      <a:lnTo>
                        <a:pt x="585" y="411"/>
                      </a:lnTo>
                      <a:lnTo>
                        <a:pt x="562" y="423"/>
                      </a:lnTo>
                      <a:lnTo>
                        <a:pt x="540" y="434"/>
                      </a:lnTo>
                      <a:lnTo>
                        <a:pt x="516" y="443"/>
                      </a:lnTo>
                      <a:lnTo>
                        <a:pt x="509" y="445"/>
                      </a:lnTo>
                      <a:lnTo>
                        <a:pt x="503" y="447"/>
                      </a:lnTo>
                      <a:lnTo>
                        <a:pt x="492" y="451"/>
                      </a:lnTo>
                      <a:lnTo>
                        <a:pt x="478" y="454"/>
                      </a:lnTo>
                      <a:lnTo>
                        <a:pt x="472" y="455"/>
                      </a:lnTo>
                      <a:lnTo>
                        <a:pt x="466" y="457"/>
                      </a:lnTo>
                      <a:lnTo>
                        <a:pt x="441" y="462"/>
                      </a:lnTo>
                      <a:lnTo>
                        <a:pt x="427" y="463"/>
                      </a:lnTo>
                      <a:lnTo>
                        <a:pt x="415" y="465"/>
                      </a:lnTo>
                      <a:lnTo>
                        <a:pt x="401" y="465"/>
                      </a:lnTo>
                      <a:lnTo>
                        <a:pt x="394" y="465"/>
                      </a:lnTo>
                      <a:lnTo>
                        <a:pt x="391" y="465"/>
                      </a:lnTo>
                      <a:lnTo>
                        <a:pt x="389" y="466"/>
                      </a:lnTo>
                      <a:lnTo>
                        <a:pt x="350" y="464"/>
                      </a:lnTo>
                      <a:lnTo>
                        <a:pt x="315" y="459"/>
                      </a:lnTo>
                      <a:lnTo>
                        <a:pt x="280" y="450"/>
                      </a:lnTo>
                      <a:lnTo>
                        <a:pt x="247" y="439"/>
                      </a:lnTo>
                      <a:lnTo>
                        <a:pt x="214" y="423"/>
                      </a:lnTo>
                      <a:lnTo>
                        <a:pt x="185" y="405"/>
                      </a:lnTo>
                      <a:lnTo>
                        <a:pt x="155" y="383"/>
                      </a:lnTo>
                      <a:lnTo>
                        <a:pt x="129" y="360"/>
                      </a:lnTo>
                      <a:lnTo>
                        <a:pt x="103" y="331"/>
                      </a:lnTo>
                      <a:lnTo>
                        <a:pt x="81" y="302"/>
                      </a:lnTo>
                      <a:lnTo>
                        <a:pt x="62" y="271"/>
                      </a:lnTo>
                      <a:lnTo>
                        <a:pt x="47" y="240"/>
                      </a:lnTo>
                      <a:lnTo>
                        <a:pt x="35" y="206"/>
                      </a:lnTo>
                      <a:lnTo>
                        <a:pt x="27" y="172"/>
                      </a:lnTo>
                      <a:lnTo>
                        <a:pt x="23" y="136"/>
                      </a:lnTo>
                      <a:lnTo>
                        <a:pt x="21" y="100"/>
                      </a:lnTo>
                      <a:lnTo>
                        <a:pt x="21" y="73"/>
                      </a:lnTo>
                      <a:lnTo>
                        <a:pt x="24" y="48"/>
                      </a:lnTo>
                      <a:lnTo>
                        <a:pt x="27" y="23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071760" y="3882960"/>
                  <a:ext cx="178200" cy="143280"/>
                </a:xfrm>
                <a:custGeom>
                  <a:avLst/>
                  <a:gdLst/>
                  <a:ahLst/>
                  <a:rect l="l" t="t" r="r" b="b"/>
                  <a:pathLst>
                    <a:path w="625" h="502">
                      <a:moveTo>
                        <a:pt x="0" y="22"/>
                      </a:moveTo>
                      <a:lnTo>
                        <a:pt x="0" y="49"/>
                      </a:lnTo>
                      <a:lnTo>
                        <a:pt x="1" y="94"/>
                      </a:lnTo>
                      <a:lnTo>
                        <a:pt x="4" y="116"/>
                      </a:lnTo>
                      <a:lnTo>
                        <a:pt x="8" y="138"/>
                      </a:lnTo>
                      <a:lnTo>
                        <a:pt x="12" y="159"/>
                      </a:lnTo>
                      <a:lnTo>
                        <a:pt x="17" y="180"/>
                      </a:lnTo>
                      <a:lnTo>
                        <a:pt x="33" y="221"/>
                      </a:lnTo>
                      <a:lnTo>
                        <a:pt x="51" y="260"/>
                      </a:lnTo>
                      <a:lnTo>
                        <a:pt x="61" y="278"/>
                      </a:lnTo>
                      <a:lnTo>
                        <a:pt x="74" y="297"/>
                      </a:lnTo>
                      <a:lnTo>
                        <a:pt x="101" y="333"/>
                      </a:lnTo>
                      <a:lnTo>
                        <a:pt x="116" y="350"/>
                      </a:lnTo>
                      <a:lnTo>
                        <a:pt x="133" y="369"/>
                      </a:lnTo>
                      <a:lnTo>
                        <a:pt x="166" y="399"/>
                      </a:lnTo>
                      <a:lnTo>
                        <a:pt x="202" y="426"/>
                      </a:lnTo>
                      <a:lnTo>
                        <a:pt x="239" y="449"/>
                      </a:lnTo>
                      <a:lnTo>
                        <a:pt x="279" y="468"/>
                      </a:lnTo>
                      <a:lnTo>
                        <a:pt x="319" y="482"/>
                      </a:lnTo>
                      <a:lnTo>
                        <a:pt x="362" y="493"/>
                      </a:lnTo>
                      <a:lnTo>
                        <a:pt x="406" y="500"/>
                      </a:lnTo>
                      <a:lnTo>
                        <a:pt x="454" y="502"/>
                      </a:lnTo>
                      <a:lnTo>
                        <a:pt x="495" y="500"/>
                      </a:lnTo>
                      <a:lnTo>
                        <a:pt x="514" y="498"/>
                      </a:lnTo>
                      <a:lnTo>
                        <a:pt x="534" y="496"/>
                      </a:lnTo>
                      <a:lnTo>
                        <a:pt x="573" y="487"/>
                      </a:lnTo>
                      <a:lnTo>
                        <a:pt x="611" y="475"/>
                      </a:lnTo>
                      <a:lnTo>
                        <a:pt x="625" y="447"/>
                      </a:lnTo>
                      <a:lnTo>
                        <a:pt x="584" y="460"/>
                      </a:lnTo>
                      <a:lnTo>
                        <a:pt x="573" y="463"/>
                      </a:lnTo>
                      <a:lnTo>
                        <a:pt x="569" y="463"/>
                      </a:lnTo>
                      <a:lnTo>
                        <a:pt x="567" y="464"/>
                      </a:lnTo>
                      <a:lnTo>
                        <a:pt x="563" y="466"/>
                      </a:lnTo>
                      <a:lnTo>
                        <a:pt x="542" y="472"/>
                      </a:lnTo>
                      <a:lnTo>
                        <a:pt x="520" y="475"/>
                      </a:lnTo>
                      <a:lnTo>
                        <a:pt x="508" y="476"/>
                      </a:lnTo>
                      <a:lnTo>
                        <a:pt x="498" y="479"/>
                      </a:lnTo>
                      <a:lnTo>
                        <a:pt x="475" y="480"/>
                      </a:lnTo>
                      <a:lnTo>
                        <a:pt x="464" y="480"/>
                      </a:lnTo>
                      <a:lnTo>
                        <a:pt x="458" y="480"/>
                      </a:lnTo>
                      <a:lnTo>
                        <a:pt x="454" y="481"/>
                      </a:lnTo>
                      <a:lnTo>
                        <a:pt x="408" y="479"/>
                      </a:lnTo>
                      <a:lnTo>
                        <a:pt x="366" y="473"/>
                      </a:lnTo>
                      <a:lnTo>
                        <a:pt x="326" y="463"/>
                      </a:lnTo>
                      <a:lnTo>
                        <a:pt x="287" y="449"/>
                      </a:lnTo>
                      <a:lnTo>
                        <a:pt x="249" y="431"/>
                      </a:lnTo>
                      <a:lnTo>
                        <a:pt x="213" y="409"/>
                      </a:lnTo>
                      <a:lnTo>
                        <a:pt x="179" y="383"/>
                      </a:lnTo>
                      <a:lnTo>
                        <a:pt x="148" y="354"/>
                      </a:lnTo>
                      <a:lnTo>
                        <a:pt x="117" y="321"/>
                      </a:lnTo>
                      <a:lnTo>
                        <a:pt x="92" y="287"/>
                      </a:lnTo>
                      <a:lnTo>
                        <a:pt x="69" y="251"/>
                      </a:lnTo>
                      <a:lnTo>
                        <a:pt x="52" y="213"/>
                      </a:lnTo>
                      <a:lnTo>
                        <a:pt x="38" y="174"/>
                      </a:lnTo>
                      <a:lnTo>
                        <a:pt x="32" y="153"/>
                      </a:lnTo>
                      <a:lnTo>
                        <a:pt x="29" y="134"/>
                      </a:lnTo>
                      <a:lnTo>
                        <a:pt x="23" y="92"/>
                      </a:lnTo>
                      <a:lnTo>
                        <a:pt x="22" y="49"/>
                      </a:lnTo>
                      <a:lnTo>
                        <a:pt x="22" y="23"/>
                      </a:lnTo>
                      <a:lnTo>
                        <a:pt x="2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077520" y="3877200"/>
                  <a:ext cx="176040" cy="142560"/>
                </a:xfrm>
                <a:custGeom>
                  <a:avLst/>
                  <a:gdLst/>
                  <a:ahLst/>
                  <a:rect l="l" t="t" r="r" b="b"/>
                  <a:pathLst>
                    <a:path w="614" h="500">
                      <a:moveTo>
                        <a:pt x="21" y="68"/>
                      </a:moveTo>
                      <a:lnTo>
                        <a:pt x="22" y="33"/>
                      </a:lnTo>
                      <a:lnTo>
                        <a:pt x="26" y="0"/>
                      </a:lnTo>
                      <a:lnTo>
                        <a:pt x="2" y="19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1" y="111"/>
                      </a:lnTo>
                      <a:lnTo>
                        <a:pt x="7" y="153"/>
                      </a:lnTo>
                      <a:lnTo>
                        <a:pt x="10" y="172"/>
                      </a:lnTo>
                      <a:lnTo>
                        <a:pt x="16" y="193"/>
                      </a:lnTo>
                      <a:lnTo>
                        <a:pt x="30" y="232"/>
                      </a:lnTo>
                      <a:lnTo>
                        <a:pt x="47" y="270"/>
                      </a:lnTo>
                      <a:lnTo>
                        <a:pt x="70" y="306"/>
                      </a:lnTo>
                      <a:lnTo>
                        <a:pt x="95" y="340"/>
                      </a:lnTo>
                      <a:lnTo>
                        <a:pt x="126" y="373"/>
                      </a:lnTo>
                      <a:lnTo>
                        <a:pt x="157" y="402"/>
                      </a:lnTo>
                      <a:lnTo>
                        <a:pt x="191" y="428"/>
                      </a:lnTo>
                      <a:lnTo>
                        <a:pt x="227" y="450"/>
                      </a:lnTo>
                      <a:lnTo>
                        <a:pt x="265" y="468"/>
                      </a:lnTo>
                      <a:lnTo>
                        <a:pt x="304" y="482"/>
                      </a:lnTo>
                      <a:lnTo>
                        <a:pt x="344" y="492"/>
                      </a:lnTo>
                      <a:lnTo>
                        <a:pt x="386" y="498"/>
                      </a:lnTo>
                      <a:lnTo>
                        <a:pt x="432" y="500"/>
                      </a:lnTo>
                      <a:lnTo>
                        <a:pt x="436" y="499"/>
                      </a:lnTo>
                      <a:lnTo>
                        <a:pt x="442" y="499"/>
                      </a:lnTo>
                      <a:lnTo>
                        <a:pt x="453" y="499"/>
                      </a:lnTo>
                      <a:lnTo>
                        <a:pt x="476" y="498"/>
                      </a:lnTo>
                      <a:lnTo>
                        <a:pt x="486" y="495"/>
                      </a:lnTo>
                      <a:lnTo>
                        <a:pt x="498" y="494"/>
                      </a:lnTo>
                      <a:lnTo>
                        <a:pt x="520" y="491"/>
                      </a:lnTo>
                      <a:lnTo>
                        <a:pt x="541" y="485"/>
                      </a:lnTo>
                      <a:lnTo>
                        <a:pt x="545" y="483"/>
                      </a:lnTo>
                      <a:lnTo>
                        <a:pt x="547" y="482"/>
                      </a:lnTo>
                      <a:lnTo>
                        <a:pt x="551" y="482"/>
                      </a:lnTo>
                      <a:lnTo>
                        <a:pt x="562" y="479"/>
                      </a:lnTo>
                      <a:lnTo>
                        <a:pt x="603" y="466"/>
                      </a:lnTo>
                      <a:lnTo>
                        <a:pt x="614" y="436"/>
                      </a:lnTo>
                      <a:lnTo>
                        <a:pt x="592" y="445"/>
                      </a:lnTo>
                      <a:lnTo>
                        <a:pt x="571" y="453"/>
                      </a:lnTo>
                      <a:lnTo>
                        <a:pt x="549" y="460"/>
                      </a:lnTo>
                      <a:lnTo>
                        <a:pt x="527" y="467"/>
                      </a:lnTo>
                      <a:lnTo>
                        <a:pt x="503" y="472"/>
                      </a:lnTo>
                      <a:lnTo>
                        <a:pt x="481" y="475"/>
                      </a:lnTo>
                      <a:lnTo>
                        <a:pt x="456" y="477"/>
                      </a:lnTo>
                      <a:lnTo>
                        <a:pt x="443" y="477"/>
                      </a:lnTo>
                      <a:lnTo>
                        <a:pt x="432" y="478"/>
                      </a:lnTo>
                      <a:lnTo>
                        <a:pt x="389" y="476"/>
                      </a:lnTo>
                      <a:lnTo>
                        <a:pt x="349" y="470"/>
                      </a:lnTo>
                      <a:lnTo>
                        <a:pt x="310" y="460"/>
                      </a:lnTo>
                      <a:lnTo>
                        <a:pt x="274" y="448"/>
                      </a:lnTo>
                      <a:lnTo>
                        <a:pt x="238" y="430"/>
                      </a:lnTo>
                      <a:lnTo>
                        <a:pt x="204" y="409"/>
                      </a:lnTo>
                      <a:lnTo>
                        <a:pt x="171" y="384"/>
                      </a:lnTo>
                      <a:lnTo>
                        <a:pt x="141" y="357"/>
                      </a:lnTo>
                      <a:lnTo>
                        <a:pt x="112" y="325"/>
                      </a:lnTo>
                      <a:lnTo>
                        <a:pt x="88" y="294"/>
                      </a:lnTo>
                      <a:lnTo>
                        <a:pt x="67" y="260"/>
                      </a:lnTo>
                      <a:lnTo>
                        <a:pt x="58" y="241"/>
                      </a:lnTo>
                      <a:lnTo>
                        <a:pt x="51" y="224"/>
                      </a:lnTo>
                      <a:lnTo>
                        <a:pt x="43" y="205"/>
                      </a:lnTo>
                      <a:lnTo>
                        <a:pt x="37" y="187"/>
                      </a:lnTo>
                      <a:lnTo>
                        <a:pt x="28" y="148"/>
                      </a:lnTo>
                      <a:lnTo>
                        <a:pt x="22" y="109"/>
                      </a:lnTo>
                      <a:lnTo>
                        <a:pt x="21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083640" y="3872160"/>
                  <a:ext cx="172080" cy="141480"/>
                </a:xfrm>
                <a:custGeom>
                  <a:avLst/>
                  <a:gdLst/>
                  <a:ahLst/>
                  <a:rect l="l" t="t" r="r" b="b"/>
                  <a:pathLst>
                    <a:path w="601" h="495">
                      <a:moveTo>
                        <a:pt x="5" y="17"/>
                      </a:moveTo>
                      <a:lnTo>
                        <a:pt x="1" y="50"/>
                      </a:lnTo>
                      <a:lnTo>
                        <a:pt x="0" y="85"/>
                      </a:lnTo>
                      <a:lnTo>
                        <a:pt x="1" y="126"/>
                      </a:lnTo>
                      <a:lnTo>
                        <a:pt x="7" y="165"/>
                      </a:lnTo>
                      <a:lnTo>
                        <a:pt x="16" y="204"/>
                      </a:lnTo>
                      <a:lnTo>
                        <a:pt x="22" y="222"/>
                      </a:lnTo>
                      <a:lnTo>
                        <a:pt x="30" y="241"/>
                      </a:lnTo>
                      <a:lnTo>
                        <a:pt x="37" y="258"/>
                      </a:lnTo>
                      <a:lnTo>
                        <a:pt x="46" y="277"/>
                      </a:lnTo>
                      <a:lnTo>
                        <a:pt x="67" y="311"/>
                      </a:lnTo>
                      <a:lnTo>
                        <a:pt x="91" y="342"/>
                      </a:lnTo>
                      <a:lnTo>
                        <a:pt x="120" y="374"/>
                      </a:lnTo>
                      <a:lnTo>
                        <a:pt x="150" y="401"/>
                      </a:lnTo>
                      <a:lnTo>
                        <a:pt x="183" y="426"/>
                      </a:lnTo>
                      <a:lnTo>
                        <a:pt x="217" y="447"/>
                      </a:lnTo>
                      <a:lnTo>
                        <a:pt x="253" y="465"/>
                      </a:lnTo>
                      <a:lnTo>
                        <a:pt x="289" y="477"/>
                      </a:lnTo>
                      <a:lnTo>
                        <a:pt x="328" y="487"/>
                      </a:lnTo>
                      <a:lnTo>
                        <a:pt x="368" y="493"/>
                      </a:lnTo>
                      <a:lnTo>
                        <a:pt x="411" y="495"/>
                      </a:lnTo>
                      <a:lnTo>
                        <a:pt x="422" y="494"/>
                      </a:lnTo>
                      <a:lnTo>
                        <a:pt x="435" y="494"/>
                      </a:lnTo>
                      <a:lnTo>
                        <a:pt x="460" y="492"/>
                      </a:lnTo>
                      <a:lnTo>
                        <a:pt x="482" y="489"/>
                      </a:lnTo>
                      <a:lnTo>
                        <a:pt x="506" y="484"/>
                      </a:lnTo>
                      <a:lnTo>
                        <a:pt x="528" y="477"/>
                      </a:lnTo>
                      <a:lnTo>
                        <a:pt x="550" y="470"/>
                      </a:lnTo>
                      <a:lnTo>
                        <a:pt x="571" y="462"/>
                      </a:lnTo>
                      <a:lnTo>
                        <a:pt x="593" y="453"/>
                      </a:lnTo>
                      <a:lnTo>
                        <a:pt x="601" y="424"/>
                      </a:lnTo>
                      <a:lnTo>
                        <a:pt x="579" y="434"/>
                      </a:lnTo>
                      <a:lnTo>
                        <a:pt x="567" y="439"/>
                      </a:lnTo>
                      <a:lnTo>
                        <a:pt x="562" y="441"/>
                      </a:lnTo>
                      <a:lnTo>
                        <a:pt x="557" y="444"/>
                      </a:lnTo>
                      <a:lnTo>
                        <a:pt x="550" y="445"/>
                      </a:lnTo>
                      <a:lnTo>
                        <a:pt x="545" y="448"/>
                      </a:lnTo>
                      <a:lnTo>
                        <a:pt x="533" y="452"/>
                      </a:lnTo>
                      <a:lnTo>
                        <a:pt x="511" y="460"/>
                      </a:lnTo>
                      <a:lnTo>
                        <a:pt x="486" y="465"/>
                      </a:lnTo>
                      <a:lnTo>
                        <a:pt x="462" y="469"/>
                      </a:lnTo>
                      <a:lnTo>
                        <a:pt x="436" y="472"/>
                      </a:lnTo>
                      <a:lnTo>
                        <a:pt x="411" y="473"/>
                      </a:lnTo>
                      <a:lnTo>
                        <a:pt x="370" y="470"/>
                      </a:lnTo>
                      <a:lnTo>
                        <a:pt x="333" y="465"/>
                      </a:lnTo>
                      <a:lnTo>
                        <a:pt x="295" y="456"/>
                      </a:lnTo>
                      <a:lnTo>
                        <a:pt x="261" y="444"/>
                      </a:lnTo>
                      <a:lnTo>
                        <a:pt x="226" y="427"/>
                      </a:lnTo>
                      <a:lnTo>
                        <a:pt x="194" y="408"/>
                      </a:lnTo>
                      <a:lnTo>
                        <a:pt x="164" y="385"/>
                      </a:lnTo>
                      <a:lnTo>
                        <a:pt x="135" y="359"/>
                      </a:lnTo>
                      <a:lnTo>
                        <a:pt x="108" y="330"/>
                      </a:lnTo>
                      <a:lnTo>
                        <a:pt x="96" y="314"/>
                      </a:lnTo>
                      <a:lnTo>
                        <a:pt x="85" y="299"/>
                      </a:lnTo>
                      <a:lnTo>
                        <a:pt x="74" y="282"/>
                      </a:lnTo>
                      <a:lnTo>
                        <a:pt x="65" y="266"/>
                      </a:lnTo>
                      <a:lnTo>
                        <a:pt x="50" y="233"/>
                      </a:lnTo>
                      <a:lnTo>
                        <a:pt x="42" y="215"/>
                      </a:lnTo>
                      <a:lnTo>
                        <a:pt x="37" y="198"/>
                      </a:lnTo>
                      <a:lnTo>
                        <a:pt x="29" y="162"/>
                      </a:lnTo>
                      <a:lnTo>
                        <a:pt x="23" y="123"/>
                      </a:lnTo>
                      <a:lnTo>
                        <a:pt x="22" y="85"/>
                      </a:lnTo>
                      <a:lnTo>
                        <a:pt x="24" y="41"/>
                      </a:lnTo>
                      <a:lnTo>
                        <a:pt x="26" y="19"/>
                      </a:lnTo>
                      <a:lnTo>
                        <a:pt x="31" y="0"/>
                      </a:lnTo>
                      <a:lnTo>
                        <a:pt x="5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096240" y="386460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8">
                      <a:moveTo>
                        <a:pt x="13" y="12"/>
                      </a:moveTo>
                      <a:lnTo>
                        <a:pt x="6" y="35"/>
                      </a:lnTo>
                      <a:lnTo>
                        <a:pt x="3" y="60"/>
                      </a:lnTo>
                      <a:lnTo>
                        <a:pt x="0" y="85"/>
                      </a:lnTo>
                      <a:lnTo>
                        <a:pt x="0" y="112"/>
                      </a:lnTo>
                      <a:lnTo>
                        <a:pt x="2" y="148"/>
                      </a:lnTo>
                      <a:lnTo>
                        <a:pt x="6" y="184"/>
                      </a:lnTo>
                      <a:lnTo>
                        <a:pt x="14" y="218"/>
                      </a:lnTo>
                      <a:lnTo>
                        <a:pt x="26" y="252"/>
                      </a:lnTo>
                      <a:lnTo>
                        <a:pt x="41" y="283"/>
                      </a:lnTo>
                      <a:lnTo>
                        <a:pt x="60" y="314"/>
                      </a:lnTo>
                      <a:lnTo>
                        <a:pt x="82" y="343"/>
                      </a:lnTo>
                      <a:lnTo>
                        <a:pt x="108" y="372"/>
                      </a:lnTo>
                      <a:lnTo>
                        <a:pt x="134" y="395"/>
                      </a:lnTo>
                      <a:lnTo>
                        <a:pt x="164" y="417"/>
                      </a:lnTo>
                      <a:lnTo>
                        <a:pt x="193" y="435"/>
                      </a:lnTo>
                      <a:lnTo>
                        <a:pt x="226" y="451"/>
                      </a:lnTo>
                      <a:lnTo>
                        <a:pt x="259" y="462"/>
                      </a:lnTo>
                      <a:lnTo>
                        <a:pt x="294" y="471"/>
                      </a:lnTo>
                      <a:lnTo>
                        <a:pt x="329" y="476"/>
                      </a:lnTo>
                      <a:lnTo>
                        <a:pt x="368" y="478"/>
                      </a:lnTo>
                      <a:lnTo>
                        <a:pt x="370" y="477"/>
                      </a:lnTo>
                      <a:lnTo>
                        <a:pt x="373" y="477"/>
                      </a:lnTo>
                      <a:lnTo>
                        <a:pt x="380" y="477"/>
                      </a:lnTo>
                      <a:lnTo>
                        <a:pt x="394" y="477"/>
                      </a:lnTo>
                      <a:lnTo>
                        <a:pt x="406" y="475"/>
                      </a:lnTo>
                      <a:lnTo>
                        <a:pt x="420" y="474"/>
                      </a:lnTo>
                      <a:lnTo>
                        <a:pt x="445" y="469"/>
                      </a:lnTo>
                      <a:lnTo>
                        <a:pt x="451" y="467"/>
                      </a:lnTo>
                      <a:lnTo>
                        <a:pt x="457" y="466"/>
                      </a:lnTo>
                      <a:lnTo>
                        <a:pt x="471" y="463"/>
                      </a:lnTo>
                      <a:lnTo>
                        <a:pt x="482" y="459"/>
                      </a:lnTo>
                      <a:lnTo>
                        <a:pt x="488" y="457"/>
                      </a:lnTo>
                      <a:lnTo>
                        <a:pt x="495" y="455"/>
                      </a:lnTo>
                      <a:lnTo>
                        <a:pt x="519" y="446"/>
                      </a:lnTo>
                      <a:lnTo>
                        <a:pt x="541" y="435"/>
                      </a:lnTo>
                      <a:lnTo>
                        <a:pt x="564" y="423"/>
                      </a:lnTo>
                      <a:lnTo>
                        <a:pt x="568" y="393"/>
                      </a:lnTo>
                      <a:lnTo>
                        <a:pt x="556" y="400"/>
                      </a:lnTo>
                      <a:lnTo>
                        <a:pt x="545" y="408"/>
                      </a:lnTo>
                      <a:lnTo>
                        <a:pt x="522" y="420"/>
                      </a:lnTo>
                      <a:lnTo>
                        <a:pt x="509" y="425"/>
                      </a:lnTo>
                      <a:lnTo>
                        <a:pt x="498" y="430"/>
                      </a:lnTo>
                      <a:lnTo>
                        <a:pt x="486" y="435"/>
                      </a:lnTo>
                      <a:lnTo>
                        <a:pt x="474" y="441"/>
                      </a:lnTo>
                      <a:lnTo>
                        <a:pt x="448" y="447"/>
                      </a:lnTo>
                      <a:lnTo>
                        <a:pt x="435" y="450"/>
                      </a:lnTo>
                      <a:lnTo>
                        <a:pt x="428" y="451"/>
                      </a:lnTo>
                      <a:lnTo>
                        <a:pt x="422" y="453"/>
                      </a:lnTo>
                      <a:lnTo>
                        <a:pt x="395" y="457"/>
                      </a:lnTo>
                      <a:lnTo>
                        <a:pt x="368" y="458"/>
                      </a:lnTo>
                      <a:lnTo>
                        <a:pt x="331" y="455"/>
                      </a:lnTo>
                      <a:lnTo>
                        <a:pt x="297" y="451"/>
                      </a:lnTo>
                      <a:lnTo>
                        <a:pt x="265" y="442"/>
                      </a:lnTo>
                      <a:lnTo>
                        <a:pt x="234" y="432"/>
                      </a:lnTo>
                      <a:lnTo>
                        <a:pt x="203" y="417"/>
                      </a:lnTo>
                      <a:lnTo>
                        <a:pt x="175" y="400"/>
                      </a:lnTo>
                      <a:lnTo>
                        <a:pt x="148" y="378"/>
                      </a:lnTo>
                      <a:lnTo>
                        <a:pt x="123" y="356"/>
                      </a:lnTo>
                      <a:lnTo>
                        <a:pt x="98" y="328"/>
                      </a:lnTo>
                      <a:lnTo>
                        <a:pt x="77" y="301"/>
                      </a:lnTo>
                      <a:lnTo>
                        <a:pt x="60" y="273"/>
                      </a:lnTo>
                      <a:lnTo>
                        <a:pt x="47" y="243"/>
                      </a:lnTo>
                      <a:lnTo>
                        <a:pt x="36" y="212"/>
                      </a:lnTo>
                      <a:lnTo>
                        <a:pt x="28" y="180"/>
                      </a:lnTo>
                      <a:lnTo>
                        <a:pt x="23" y="146"/>
                      </a:lnTo>
                      <a:lnTo>
                        <a:pt x="22" y="112"/>
                      </a:lnTo>
                      <a:lnTo>
                        <a:pt x="23" y="81"/>
                      </a:lnTo>
                      <a:lnTo>
                        <a:pt x="26" y="53"/>
                      </a:lnTo>
                      <a:lnTo>
                        <a:pt x="32" y="26"/>
                      </a:lnTo>
                      <a:lnTo>
                        <a:pt x="40" y="0"/>
                      </a:lnTo>
                      <a:lnTo>
                        <a:pt x="13" y="12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102000" y="3861720"/>
                  <a:ext cx="156600" cy="133200"/>
                </a:xfrm>
                <a:custGeom>
                  <a:avLst/>
                  <a:gdLst/>
                  <a:ahLst/>
                  <a:rect l="l" t="t" r="r" b="b"/>
                  <a:pathLst>
                    <a:path w="548" h="469">
                      <a:moveTo>
                        <a:pt x="44" y="0"/>
                      </a:moveTo>
                      <a:lnTo>
                        <a:pt x="18" y="11"/>
                      </a:lnTo>
                      <a:lnTo>
                        <a:pt x="10" y="37"/>
                      </a:lnTo>
                      <a:lnTo>
                        <a:pt x="4" y="64"/>
                      </a:lnTo>
                      <a:lnTo>
                        <a:pt x="1" y="92"/>
                      </a:lnTo>
                      <a:lnTo>
                        <a:pt x="0" y="123"/>
                      </a:lnTo>
                      <a:lnTo>
                        <a:pt x="1" y="157"/>
                      </a:lnTo>
                      <a:lnTo>
                        <a:pt x="6" y="191"/>
                      </a:lnTo>
                      <a:lnTo>
                        <a:pt x="14" y="223"/>
                      </a:lnTo>
                      <a:lnTo>
                        <a:pt x="25" y="254"/>
                      </a:lnTo>
                      <a:lnTo>
                        <a:pt x="38" y="284"/>
                      </a:lnTo>
                      <a:lnTo>
                        <a:pt x="55" y="312"/>
                      </a:lnTo>
                      <a:lnTo>
                        <a:pt x="76" y="339"/>
                      </a:lnTo>
                      <a:lnTo>
                        <a:pt x="101" y="367"/>
                      </a:lnTo>
                      <a:lnTo>
                        <a:pt x="126" y="389"/>
                      </a:lnTo>
                      <a:lnTo>
                        <a:pt x="153" y="411"/>
                      </a:lnTo>
                      <a:lnTo>
                        <a:pt x="181" y="428"/>
                      </a:lnTo>
                      <a:lnTo>
                        <a:pt x="212" y="443"/>
                      </a:lnTo>
                      <a:lnTo>
                        <a:pt x="243" y="453"/>
                      </a:lnTo>
                      <a:lnTo>
                        <a:pt x="275" y="462"/>
                      </a:lnTo>
                      <a:lnTo>
                        <a:pt x="309" y="466"/>
                      </a:lnTo>
                      <a:lnTo>
                        <a:pt x="346" y="469"/>
                      </a:lnTo>
                      <a:lnTo>
                        <a:pt x="373" y="468"/>
                      </a:lnTo>
                      <a:lnTo>
                        <a:pt x="400" y="464"/>
                      </a:lnTo>
                      <a:lnTo>
                        <a:pt x="406" y="462"/>
                      </a:lnTo>
                      <a:lnTo>
                        <a:pt x="413" y="461"/>
                      </a:lnTo>
                      <a:lnTo>
                        <a:pt x="426" y="458"/>
                      </a:lnTo>
                      <a:lnTo>
                        <a:pt x="452" y="452"/>
                      </a:lnTo>
                      <a:lnTo>
                        <a:pt x="464" y="446"/>
                      </a:lnTo>
                      <a:lnTo>
                        <a:pt x="476" y="441"/>
                      </a:lnTo>
                      <a:lnTo>
                        <a:pt x="487" y="436"/>
                      </a:lnTo>
                      <a:lnTo>
                        <a:pt x="500" y="431"/>
                      </a:lnTo>
                      <a:lnTo>
                        <a:pt x="523" y="419"/>
                      </a:lnTo>
                      <a:lnTo>
                        <a:pt x="534" y="411"/>
                      </a:lnTo>
                      <a:lnTo>
                        <a:pt x="546" y="404"/>
                      </a:lnTo>
                      <a:lnTo>
                        <a:pt x="546" y="389"/>
                      </a:lnTo>
                      <a:lnTo>
                        <a:pt x="548" y="376"/>
                      </a:lnTo>
                      <a:lnTo>
                        <a:pt x="525" y="390"/>
                      </a:lnTo>
                      <a:lnTo>
                        <a:pt x="502" y="405"/>
                      </a:lnTo>
                      <a:lnTo>
                        <a:pt x="477" y="418"/>
                      </a:lnTo>
                      <a:lnTo>
                        <a:pt x="465" y="422"/>
                      </a:lnTo>
                      <a:lnTo>
                        <a:pt x="453" y="428"/>
                      </a:lnTo>
                      <a:lnTo>
                        <a:pt x="440" y="431"/>
                      </a:lnTo>
                      <a:lnTo>
                        <a:pt x="427" y="436"/>
                      </a:lnTo>
                      <a:lnTo>
                        <a:pt x="414" y="438"/>
                      </a:lnTo>
                      <a:lnTo>
                        <a:pt x="407" y="439"/>
                      </a:lnTo>
                      <a:lnTo>
                        <a:pt x="401" y="441"/>
                      </a:lnTo>
                      <a:lnTo>
                        <a:pt x="393" y="441"/>
                      </a:lnTo>
                      <a:lnTo>
                        <a:pt x="387" y="443"/>
                      </a:lnTo>
                      <a:lnTo>
                        <a:pt x="373" y="445"/>
                      </a:lnTo>
                      <a:lnTo>
                        <a:pt x="346" y="446"/>
                      </a:lnTo>
                      <a:lnTo>
                        <a:pt x="312" y="444"/>
                      </a:lnTo>
                      <a:lnTo>
                        <a:pt x="280" y="439"/>
                      </a:lnTo>
                      <a:lnTo>
                        <a:pt x="248" y="431"/>
                      </a:lnTo>
                      <a:lnTo>
                        <a:pt x="220" y="422"/>
                      </a:lnTo>
                      <a:lnTo>
                        <a:pt x="192" y="407"/>
                      </a:lnTo>
                      <a:lnTo>
                        <a:pt x="165" y="392"/>
                      </a:lnTo>
                      <a:lnTo>
                        <a:pt x="139" y="372"/>
                      </a:lnTo>
                      <a:lnTo>
                        <a:pt x="117" y="352"/>
                      </a:lnTo>
                      <a:lnTo>
                        <a:pt x="94" y="327"/>
                      </a:lnTo>
                      <a:lnTo>
                        <a:pt x="75" y="301"/>
                      </a:lnTo>
                      <a:lnTo>
                        <a:pt x="58" y="274"/>
                      </a:lnTo>
                      <a:lnTo>
                        <a:pt x="45" y="246"/>
                      </a:lnTo>
                      <a:lnTo>
                        <a:pt x="34" y="217"/>
                      </a:lnTo>
                      <a:lnTo>
                        <a:pt x="29" y="201"/>
                      </a:lnTo>
                      <a:lnTo>
                        <a:pt x="27" y="186"/>
                      </a:lnTo>
                      <a:lnTo>
                        <a:pt x="23" y="155"/>
                      </a:lnTo>
                      <a:lnTo>
                        <a:pt x="21" y="123"/>
                      </a:lnTo>
                      <a:lnTo>
                        <a:pt x="23" y="90"/>
                      </a:lnTo>
                      <a:lnTo>
                        <a:pt x="27" y="59"/>
                      </a:lnTo>
                      <a:lnTo>
                        <a:pt x="34" y="2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121080" y="385704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0" h="418">
                      <a:moveTo>
                        <a:pt x="21" y="138"/>
                      </a:moveTo>
                      <a:lnTo>
                        <a:pt x="23" y="99"/>
                      </a:lnTo>
                      <a:lnTo>
                        <a:pt x="30" y="64"/>
                      </a:lnTo>
                      <a:lnTo>
                        <a:pt x="42" y="30"/>
                      </a:lnTo>
                      <a:lnTo>
                        <a:pt x="60" y="0"/>
                      </a:lnTo>
                      <a:lnTo>
                        <a:pt x="34" y="3"/>
                      </a:lnTo>
                      <a:lnTo>
                        <a:pt x="18" y="34"/>
                      </a:lnTo>
                      <a:lnTo>
                        <a:pt x="7" y="66"/>
                      </a:lnTo>
                      <a:lnTo>
                        <a:pt x="1" y="100"/>
                      </a:lnTo>
                      <a:lnTo>
                        <a:pt x="0" y="138"/>
                      </a:lnTo>
                      <a:lnTo>
                        <a:pt x="1" y="165"/>
                      </a:lnTo>
                      <a:lnTo>
                        <a:pt x="4" y="192"/>
                      </a:lnTo>
                      <a:lnTo>
                        <a:pt x="10" y="218"/>
                      </a:lnTo>
                      <a:lnTo>
                        <a:pt x="20" y="244"/>
                      </a:lnTo>
                      <a:lnTo>
                        <a:pt x="30" y="268"/>
                      </a:lnTo>
                      <a:lnTo>
                        <a:pt x="45" y="292"/>
                      </a:lnTo>
                      <a:lnTo>
                        <a:pt x="62" y="314"/>
                      </a:lnTo>
                      <a:lnTo>
                        <a:pt x="82" y="336"/>
                      </a:lnTo>
                      <a:lnTo>
                        <a:pt x="103" y="354"/>
                      </a:lnTo>
                      <a:lnTo>
                        <a:pt x="124" y="371"/>
                      </a:lnTo>
                      <a:lnTo>
                        <a:pt x="147" y="385"/>
                      </a:lnTo>
                      <a:lnTo>
                        <a:pt x="172" y="398"/>
                      </a:lnTo>
                      <a:lnTo>
                        <a:pt x="197" y="405"/>
                      </a:lnTo>
                      <a:lnTo>
                        <a:pt x="224" y="412"/>
                      </a:lnTo>
                      <a:lnTo>
                        <a:pt x="251" y="416"/>
                      </a:lnTo>
                      <a:lnTo>
                        <a:pt x="281" y="418"/>
                      </a:lnTo>
                      <a:lnTo>
                        <a:pt x="308" y="416"/>
                      </a:lnTo>
                      <a:lnTo>
                        <a:pt x="335" y="412"/>
                      </a:lnTo>
                      <a:lnTo>
                        <a:pt x="341" y="410"/>
                      </a:lnTo>
                      <a:lnTo>
                        <a:pt x="348" y="409"/>
                      </a:lnTo>
                      <a:lnTo>
                        <a:pt x="361" y="405"/>
                      </a:lnTo>
                      <a:lnTo>
                        <a:pt x="374" y="401"/>
                      </a:lnTo>
                      <a:lnTo>
                        <a:pt x="387" y="398"/>
                      </a:lnTo>
                      <a:lnTo>
                        <a:pt x="399" y="391"/>
                      </a:lnTo>
                      <a:lnTo>
                        <a:pt x="401" y="388"/>
                      </a:lnTo>
                      <a:lnTo>
                        <a:pt x="402" y="387"/>
                      </a:lnTo>
                      <a:lnTo>
                        <a:pt x="404" y="387"/>
                      </a:lnTo>
                      <a:lnTo>
                        <a:pt x="411" y="385"/>
                      </a:lnTo>
                      <a:lnTo>
                        <a:pt x="422" y="378"/>
                      </a:lnTo>
                      <a:lnTo>
                        <a:pt x="435" y="371"/>
                      </a:lnTo>
                      <a:lnTo>
                        <a:pt x="445" y="362"/>
                      </a:lnTo>
                      <a:lnTo>
                        <a:pt x="456" y="354"/>
                      </a:lnTo>
                      <a:lnTo>
                        <a:pt x="479" y="336"/>
                      </a:lnTo>
                      <a:lnTo>
                        <a:pt x="480" y="334"/>
                      </a:lnTo>
                      <a:lnTo>
                        <a:pt x="476" y="308"/>
                      </a:lnTo>
                      <a:lnTo>
                        <a:pt x="469" y="314"/>
                      </a:lnTo>
                      <a:lnTo>
                        <a:pt x="463" y="320"/>
                      </a:lnTo>
                      <a:lnTo>
                        <a:pt x="443" y="337"/>
                      </a:lnTo>
                      <a:lnTo>
                        <a:pt x="422" y="352"/>
                      </a:lnTo>
                      <a:lnTo>
                        <a:pt x="411" y="358"/>
                      </a:lnTo>
                      <a:lnTo>
                        <a:pt x="401" y="365"/>
                      </a:lnTo>
                      <a:lnTo>
                        <a:pt x="390" y="370"/>
                      </a:lnTo>
                      <a:lnTo>
                        <a:pt x="379" y="377"/>
                      </a:lnTo>
                      <a:lnTo>
                        <a:pt x="373" y="378"/>
                      </a:lnTo>
                      <a:lnTo>
                        <a:pt x="367" y="381"/>
                      </a:lnTo>
                      <a:lnTo>
                        <a:pt x="356" y="385"/>
                      </a:lnTo>
                      <a:lnTo>
                        <a:pt x="343" y="387"/>
                      </a:lnTo>
                      <a:lnTo>
                        <a:pt x="332" y="391"/>
                      </a:lnTo>
                      <a:lnTo>
                        <a:pt x="318" y="392"/>
                      </a:lnTo>
                      <a:lnTo>
                        <a:pt x="306" y="394"/>
                      </a:lnTo>
                      <a:lnTo>
                        <a:pt x="281" y="396"/>
                      </a:lnTo>
                      <a:lnTo>
                        <a:pt x="254" y="394"/>
                      </a:lnTo>
                      <a:lnTo>
                        <a:pt x="227" y="391"/>
                      </a:lnTo>
                      <a:lnTo>
                        <a:pt x="203" y="385"/>
                      </a:lnTo>
                      <a:lnTo>
                        <a:pt x="180" y="377"/>
                      </a:lnTo>
                      <a:lnTo>
                        <a:pt x="157" y="365"/>
                      </a:lnTo>
                      <a:lnTo>
                        <a:pt x="136" y="352"/>
                      </a:lnTo>
                      <a:lnTo>
                        <a:pt x="115" y="337"/>
                      </a:lnTo>
                      <a:lnTo>
                        <a:pt x="97" y="320"/>
                      </a:lnTo>
                      <a:lnTo>
                        <a:pt x="78" y="300"/>
                      </a:lnTo>
                      <a:lnTo>
                        <a:pt x="63" y="280"/>
                      </a:lnTo>
                      <a:lnTo>
                        <a:pt x="55" y="268"/>
                      </a:lnTo>
                      <a:lnTo>
                        <a:pt x="49" y="258"/>
                      </a:lnTo>
                      <a:lnTo>
                        <a:pt x="39" y="237"/>
                      </a:lnTo>
                      <a:lnTo>
                        <a:pt x="31" y="213"/>
                      </a:lnTo>
                      <a:lnTo>
                        <a:pt x="26" y="189"/>
                      </a:lnTo>
                      <a:lnTo>
                        <a:pt x="22" y="163"/>
                      </a:lnTo>
                      <a:lnTo>
                        <a:pt x="21" y="138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127200" y="3856680"/>
                  <a:ext cx="129600" cy="113400"/>
                </a:xfrm>
                <a:custGeom>
                  <a:avLst/>
                  <a:gdLst/>
                  <a:ahLst/>
                  <a:rect l="l" t="t" r="r" b="b"/>
                  <a:pathLst>
                    <a:path w="455" h="398">
                      <a:moveTo>
                        <a:pt x="39" y="2"/>
                      </a:moveTo>
                      <a:lnTo>
                        <a:pt x="21" y="32"/>
                      </a:lnTo>
                      <a:lnTo>
                        <a:pt x="9" y="66"/>
                      </a:lnTo>
                      <a:lnTo>
                        <a:pt x="2" y="101"/>
                      </a:lnTo>
                      <a:lnTo>
                        <a:pt x="0" y="140"/>
                      </a:lnTo>
                      <a:lnTo>
                        <a:pt x="1" y="165"/>
                      </a:lnTo>
                      <a:lnTo>
                        <a:pt x="5" y="191"/>
                      </a:lnTo>
                      <a:lnTo>
                        <a:pt x="10" y="215"/>
                      </a:lnTo>
                      <a:lnTo>
                        <a:pt x="18" y="239"/>
                      </a:lnTo>
                      <a:lnTo>
                        <a:pt x="28" y="260"/>
                      </a:lnTo>
                      <a:lnTo>
                        <a:pt x="34" y="270"/>
                      </a:lnTo>
                      <a:lnTo>
                        <a:pt x="42" y="282"/>
                      </a:lnTo>
                      <a:lnTo>
                        <a:pt x="57" y="302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5" y="354"/>
                      </a:lnTo>
                      <a:lnTo>
                        <a:pt x="136" y="367"/>
                      </a:lnTo>
                      <a:lnTo>
                        <a:pt x="159" y="379"/>
                      </a:lnTo>
                      <a:lnTo>
                        <a:pt x="182" y="387"/>
                      </a:lnTo>
                      <a:lnTo>
                        <a:pt x="206" y="393"/>
                      </a:lnTo>
                      <a:lnTo>
                        <a:pt x="233" y="396"/>
                      </a:lnTo>
                      <a:lnTo>
                        <a:pt x="260" y="398"/>
                      </a:lnTo>
                      <a:lnTo>
                        <a:pt x="285" y="396"/>
                      </a:lnTo>
                      <a:lnTo>
                        <a:pt x="297" y="394"/>
                      </a:lnTo>
                      <a:lnTo>
                        <a:pt x="311" y="393"/>
                      </a:lnTo>
                      <a:lnTo>
                        <a:pt x="322" y="389"/>
                      </a:lnTo>
                      <a:lnTo>
                        <a:pt x="335" y="387"/>
                      </a:lnTo>
                      <a:lnTo>
                        <a:pt x="346" y="383"/>
                      </a:lnTo>
                      <a:lnTo>
                        <a:pt x="352" y="380"/>
                      </a:lnTo>
                      <a:lnTo>
                        <a:pt x="358" y="379"/>
                      </a:lnTo>
                      <a:lnTo>
                        <a:pt x="369" y="372"/>
                      </a:lnTo>
                      <a:lnTo>
                        <a:pt x="380" y="367"/>
                      </a:lnTo>
                      <a:lnTo>
                        <a:pt x="390" y="360"/>
                      </a:lnTo>
                      <a:lnTo>
                        <a:pt x="401" y="354"/>
                      </a:lnTo>
                      <a:lnTo>
                        <a:pt x="422" y="339"/>
                      </a:lnTo>
                      <a:lnTo>
                        <a:pt x="442" y="322"/>
                      </a:lnTo>
                      <a:lnTo>
                        <a:pt x="448" y="316"/>
                      </a:lnTo>
                      <a:lnTo>
                        <a:pt x="455" y="310"/>
                      </a:lnTo>
                      <a:lnTo>
                        <a:pt x="449" y="283"/>
                      </a:lnTo>
                      <a:lnTo>
                        <a:pt x="438" y="295"/>
                      </a:lnTo>
                      <a:lnTo>
                        <a:pt x="434" y="297"/>
                      </a:lnTo>
                      <a:lnTo>
                        <a:pt x="432" y="301"/>
                      </a:lnTo>
                      <a:lnTo>
                        <a:pt x="428" y="308"/>
                      </a:lnTo>
                      <a:lnTo>
                        <a:pt x="417" y="314"/>
                      </a:lnTo>
                      <a:lnTo>
                        <a:pt x="408" y="322"/>
                      </a:lnTo>
                      <a:lnTo>
                        <a:pt x="390" y="337"/>
                      </a:lnTo>
                      <a:lnTo>
                        <a:pt x="370" y="349"/>
                      </a:lnTo>
                      <a:lnTo>
                        <a:pt x="360" y="353"/>
                      </a:lnTo>
                      <a:lnTo>
                        <a:pt x="350" y="359"/>
                      </a:lnTo>
                      <a:lnTo>
                        <a:pt x="328" y="367"/>
                      </a:lnTo>
                      <a:lnTo>
                        <a:pt x="316" y="369"/>
                      </a:lnTo>
                      <a:lnTo>
                        <a:pt x="313" y="369"/>
                      </a:lnTo>
                      <a:lnTo>
                        <a:pt x="311" y="370"/>
                      </a:lnTo>
                      <a:lnTo>
                        <a:pt x="306" y="372"/>
                      </a:lnTo>
                      <a:lnTo>
                        <a:pt x="299" y="372"/>
                      </a:lnTo>
                      <a:lnTo>
                        <a:pt x="296" y="372"/>
                      </a:lnTo>
                      <a:lnTo>
                        <a:pt x="294" y="373"/>
                      </a:lnTo>
                      <a:lnTo>
                        <a:pt x="282" y="376"/>
                      </a:lnTo>
                      <a:lnTo>
                        <a:pt x="260" y="377"/>
                      </a:lnTo>
                      <a:lnTo>
                        <a:pt x="235" y="376"/>
                      </a:lnTo>
                      <a:lnTo>
                        <a:pt x="211" y="372"/>
                      </a:lnTo>
                      <a:lnTo>
                        <a:pt x="188" y="367"/>
                      </a:lnTo>
                      <a:lnTo>
                        <a:pt x="168" y="359"/>
                      </a:lnTo>
                      <a:lnTo>
                        <a:pt x="146" y="349"/>
                      </a:lnTo>
                      <a:lnTo>
                        <a:pt x="127" y="337"/>
                      </a:lnTo>
                      <a:lnTo>
                        <a:pt x="108" y="322"/>
                      </a:lnTo>
                      <a:lnTo>
                        <a:pt x="91" y="308"/>
                      </a:lnTo>
                      <a:lnTo>
                        <a:pt x="74" y="288"/>
                      </a:lnTo>
                      <a:lnTo>
                        <a:pt x="59" y="270"/>
                      </a:lnTo>
                      <a:lnTo>
                        <a:pt x="47" y="250"/>
                      </a:lnTo>
                      <a:lnTo>
                        <a:pt x="39" y="231"/>
                      </a:lnTo>
                      <a:lnTo>
                        <a:pt x="31" y="208"/>
                      </a:lnTo>
                      <a:lnTo>
                        <a:pt x="25" y="186"/>
                      </a:lnTo>
                      <a:lnTo>
                        <a:pt x="22" y="163"/>
                      </a:lnTo>
                      <a:lnTo>
                        <a:pt x="22" y="140"/>
                      </a:lnTo>
                      <a:lnTo>
                        <a:pt x="24" y="100"/>
                      </a:lnTo>
                      <a:lnTo>
                        <a:pt x="32" y="65"/>
                      </a:lnTo>
                      <a:lnTo>
                        <a:pt x="38" y="47"/>
                      </a:lnTo>
                      <a:lnTo>
                        <a:pt x="45" y="31"/>
                      </a:lnTo>
                      <a:lnTo>
                        <a:pt x="66" y="0"/>
                      </a:lnTo>
                      <a:lnTo>
                        <a:pt x="39" y="2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114600" y="3857760"/>
                  <a:ext cx="144000" cy="124920"/>
                </a:xfrm>
                <a:custGeom>
                  <a:avLst/>
                  <a:gdLst/>
                  <a:ahLst/>
                  <a:rect l="l" t="t" r="r" b="b"/>
                  <a:pathLst>
                    <a:path w="505" h="436">
                      <a:moveTo>
                        <a:pt x="22" y="135"/>
                      </a:moveTo>
                      <a:lnTo>
                        <a:pt x="23" y="97"/>
                      </a:lnTo>
                      <a:lnTo>
                        <a:pt x="29" y="63"/>
                      </a:lnTo>
                      <a:lnTo>
                        <a:pt x="40" y="31"/>
                      </a:lnTo>
                      <a:lnTo>
                        <a:pt x="56" y="0"/>
                      </a:lnTo>
                      <a:lnTo>
                        <a:pt x="27" y="6"/>
                      </a:lnTo>
                      <a:lnTo>
                        <a:pt x="15" y="35"/>
                      </a:lnTo>
                      <a:lnTo>
                        <a:pt x="7" y="67"/>
                      </a:lnTo>
                      <a:lnTo>
                        <a:pt x="1" y="100"/>
                      </a:lnTo>
                      <a:lnTo>
                        <a:pt x="0" y="135"/>
                      </a:lnTo>
                      <a:lnTo>
                        <a:pt x="1" y="164"/>
                      </a:lnTo>
                      <a:lnTo>
                        <a:pt x="5" y="194"/>
                      </a:lnTo>
                      <a:lnTo>
                        <a:pt x="7" y="207"/>
                      </a:lnTo>
                      <a:lnTo>
                        <a:pt x="11" y="222"/>
                      </a:lnTo>
                      <a:lnTo>
                        <a:pt x="22" y="251"/>
                      </a:lnTo>
                      <a:lnTo>
                        <a:pt x="34" y="275"/>
                      </a:lnTo>
                      <a:lnTo>
                        <a:pt x="49" y="300"/>
                      </a:lnTo>
                      <a:lnTo>
                        <a:pt x="57" y="312"/>
                      </a:lnTo>
                      <a:lnTo>
                        <a:pt x="67" y="324"/>
                      </a:lnTo>
                      <a:lnTo>
                        <a:pt x="88" y="348"/>
                      </a:lnTo>
                      <a:lnTo>
                        <a:pt x="110" y="367"/>
                      </a:lnTo>
                      <a:lnTo>
                        <a:pt x="134" y="385"/>
                      </a:lnTo>
                      <a:lnTo>
                        <a:pt x="159" y="400"/>
                      </a:lnTo>
                      <a:lnTo>
                        <a:pt x="186" y="414"/>
                      </a:lnTo>
                      <a:lnTo>
                        <a:pt x="212" y="423"/>
                      </a:lnTo>
                      <a:lnTo>
                        <a:pt x="242" y="431"/>
                      </a:lnTo>
                      <a:lnTo>
                        <a:pt x="271" y="434"/>
                      </a:lnTo>
                      <a:lnTo>
                        <a:pt x="303" y="436"/>
                      </a:lnTo>
                      <a:lnTo>
                        <a:pt x="330" y="434"/>
                      </a:lnTo>
                      <a:lnTo>
                        <a:pt x="344" y="432"/>
                      </a:lnTo>
                      <a:lnTo>
                        <a:pt x="350" y="431"/>
                      </a:lnTo>
                      <a:lnTo>
                        <a:pt x="358" y="431"/>
                      </a:lnTo>
                      <a:lnTo>
                        <a:pt x="364" y="429"/>
                      </a:lnTo>
                      <a:lnTo>
                        <a:pt x="371" y="427"/>
                      </a:lnTo>
                      <a:lnTo>
                        <a:pt x="384" y="425"/>
                      </a:lnTo>
                      <a:lnTo>
                        <a:pt x="397" y="421"/>
                      </a:lnTo>
                      <a:lnTo>
                        <a:pt x="410" y="417"/>
                      </a:lnTo>
                      <a:lnTo>
                        <a:pt x="422" y="410"/>
                      </a:lnTo>
                      <a:lnTo>
                        <a:pt x="424" y="408"/>
                      </a:lnTo>
                      <a:lnTo>
                        <a:pt x="425" y="407"/>
                      </a:lnTo>
                      <a:lnTo>
                        <a:pt x="427" y="407"/>
                      </a:lnTo>
                      <a:lnTo>
                        <a:pt x="434" y="405"/>
                      </a:lnTo>
                      <a:lnTo>
                        <a:pt x="459" y="392"/>
                      </a:lnTo>
                      <a:lnTo>
                        <a:pt x="482" y="376"/>
                      </a:lnTo>
                      <a:lnTo>
                        <a:pt x="505" y="359"/>
                      </a:lnTo>
                      <a:lnTo>
                        <a:pt x="502" y="331"/>
                      </a:lnTo>
                      <a:lnTo>
                        <a:pt x="501" y="333"/>
                      </a:lnTo>
                      <a:lnTo>
                        <a:pt x="478" y="351"/>
                      </a:lnTo>
                      <a:lnTo>
                        <a:pt x="467" y="359"/>
                      </a:lnTo>
                      <a:lnTo>
                        <a:pt x="457" y="368"/>
                      </a:lnTo>
                      <a:lnTo>
                        <a:pt x="444" y="375"/>
                      </a:lnTo>
                      <a:lnTo>
                        <a:pt x="433" y="382"/>
                      </a:lnTo>
                      <a:lnTo>
                        <a:pt x="426" y="384"/>
                      </a:lnTo>
                      <a:lnTo>
                        <a:pt x="424" y="384"/>
                      </a:lnTo>
                      <a:lnTo>
                        <a:pt x="423" y="385"/>
                      </a:lnTo>
                      <a:lnTo>
                        <a:pt x="421" y="388"/>
                      </a:lnTo>
                      <a:lnTo>
                        <a:pt x="409" y="395"/>
                      </a:lnTo>
                      <a:lnTo>
                        <a:pt x="396" y="398"/>
                      </a:lnTo>
                      <a:lnTo>
                        <a:pt x="383" y="402"/>
                      </a:lnTo>
                      <a:lnTo>
                        <a:pt x="370" y="406"/>
                      </a:lnTo>
                      <a:lnTo>
                        <a:pt x="363" y="407"/>
                      </a:lnTo>
                      <a:lnTo>
                        <a:pt x="357" y="409"/>
                      </a:lnTo>
                      <a:lnTo>
                        <a:pt x="330" y="413"/>
                      </a:lnTo>
                      <a:lnTo>
                        <a:pt x="303" y="415"/>
                      </a:lnTo>
                      <a:lnTo>
                        <a:pt x="273" y="413"/>
                      </a:lnTo>
                      <a:lnTo>
                        <a:pt x="246" y="409"/>
                      </a:lnTo>
                      <a:lnTo>
                        <a:pt x="219" y="402"/>
                      </a:lnTo>
                      <a:lnTo>
                        <a:pt x="194" y="395"/>
                      </a:lnTo>
                      <a:lnTo>
                        <a:pt x="169" y="382"/>
                      </a:lnTo>
                      <a:lnTo>
                        <a:pt x="146" y="368"/>
                      </a:lnTo>
                      <a:lnTo>
                        <a:pt x="125" y="351"/>
                      </a:lnTo>
                      <a:lnTo>
                        <a:pt x="104" y="333"/>
                      </a:lnTo>
                      <a:lnTo>
                        <a:pt x="84" y="311"/>
                      </a:lnTo>
                      <a:lnTo>
                        <a:pt x="67" y="289"/>
                      </a:lnTo>
                      <a:lnTo>
                        <a:pt x="52" y="265"/>
                      </a:lnTo>
                      <a:lnTo>
                        <a:pt x="42" y="241"/>
                      </a:lnTo>
                      <a:lnTo>
                        <a:pt x="32" y="215"/>
                      </a:lnTo>
                      <a:lnTo>
                        <a:pt x="26" y="189"/>
                      </a:lnTo>
                      <a:lnTo>
                        <a:pt x="23" y="162"/>
                      </a:lnTo>
                      <a:lnTo>
                        <a:pt x="22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108480" y="3859560"/>
                  <a:ext cx="150120" cy="129600"/>
                </a:xfrm>
                <a:custGeom>
                  <a:avLst/>
                  <a:gdLst/>
                  <a:ahLst/>
                  <a:rect l="l" t="t" r="r" b="b"/>
                  <a:pathLst>
                    <a:path w="527" h="452">
                      <a:moveTo>
                        <a:pt x="22" y="129"/>
                      </a:moveTo>
                      <a:lnTo>
                        <a:pt x="23" y="94"/>
                      </a:lnTo>
                      <a:lnTo>
                        <a:pt x="29" y="61"/>
                      </a:lnTo>
                      <a:lnTo>
                        <a:pt x="37" y="29"/>
                      </a:lnTo>
                      <a:lnTo>
                        <a:pt x="49" y="0"/>
                      </a:lnTo>
                      <a:lnTo>
                        <a:pt x="23" y="6"/>
                      </a:lnTo>
                      <a:lnTo>
                        <a:pt x="13" y="35"/>
                      </a:lnTo>
                      <a:lnTo>
                        <a:pt x="6" y="65"/>
                      </a:lnTo>
                      <a:lnTo>
                        <a:pt x="2" y="96"/>
                      </a:lnTo>
                      <a:lnTo>
                        <a:pt x="0" y="129"/>
                      </a:lnTo>
                      <a:lnTo>
                        <a:pt x="2" y="161"/>
                      </a:lnTo>
                      <a:lnTo>
                        <a:pt x="6" y="192"/>
                      </a:lnTo>
                      <a:lnTo>
                        <a:pt x="8" y="207"/>
                      </a:lnTo>
                      <a:lnTo>
                        <a:pt x="13" y="223"/>
                      </a:lnTo>
                      <a:lnTo>
                        <a:pt x="24" y="252"/>
                      </a:lnTo>
                      <a:lnTo>
                        <a:pt x="37" y="280"/>
                      </a:lnTo>
                      <a:lnTo>
                        <a:pt x="54" y="307"/>
                      </a:lnTo>
                      <a:lnTo>
                        <a:pt x="73" y="333"/>
                      </a:lnTo>
                      <a:lnTo>
                        <a:pt x="96" y="358"/>
                      </a:lnTo>
                      <a:lnTo>
                        <a:pt x="118" y="378"/>
                      </a:lnTo>
                      <a:lnTo>
                        <a:pt x="144" y="398"/>
                      </a:lnTo>
                      <a:lnTo>
                        <a:pt x="171" y="413"/>
                      </a:lnTo>
                      <a:lnTo>
                        <a:pt x="199" y="428"/>
                      </a:lnTo>
                      <a:lnTo>
                        <a:pt x="227" y="437"/>
                      </a:lnTo>
                      <a:lnTo>
                        <a:pt x="259" y="445"/>
                      </a:lnTo>
                      <a:lnTo>
                        <a:pt x="291" y="450"/>
                      </a:lnTo>
                      <a:lnTo>
                        <a:pt x="325" y="452"/>
                      </a:lnTo>
                      <a:lnTo>
                        <a:pt x="352" y="451"/>
                      </a:lnTo>
                      <a:lnTo>
                        <a:pt x="366" y="449"/>
                      </a:lnTo>
                      <a:lnTo>
                        <a:pt x="372" y="447"/>
                      </a:lnTo>
                      <a:lnTo>
                        <a:pt x="380" y="447"/>
                      </a:lnTo>
                      <a:lnTo>
                        <a:pt x="386" y="445"/>
                      </a:lnTo>
                      <a:lnTo>
                        <a:pt x="393" y="444"/>
                      </a:lnTo>
                      <a:lnTo>
                        <a:pt x="406" y="442"/>
                      </a:lnTo>
                      <a:lnTo>
                        <a:pt x="419" y="437"/>
                      </a:lnTo>
                      <a:lnTo>
                        <a:pt x="432" y="434"/>
                      </a:lnTo>
                      <a:lnTo>
                        <a:pt x="444" y="428"/>
                      </a:lnTo>
                      <a:lnTo>
                        <a:pt x="456" y="424"/>
                      </a:lnTo>
                      <a:lnTo>
                        <a:pt x="481" y="411"/>
                      </a:lnTo>
                      <a:lnTo>
                        <a:pt x="504" y="396"/>
                      </a:lnTo>
                      <a:lnTo>
                        <a:pt x="527" y="382"/>
                      </a:lnTo>
                      <a:lnTo>
                        <a:pt x="527" y="373"/>
                      </a:lnTo>
                      <a:lnTo>
                        <a:pt x="527" y="353"/>
                      </a:lnTo>
                      <a:lnTo>
                        <a:pt x="504" y="370"/>
                      </a:lnTo>
                      <a:lnTo>
                        <a:pt x="481" y="386"/>
                      </a:lnTo>
                      <a:lnTo>
                        <a:pt x="456" y="399"/>
                      </a:lnTo>
                      <a:lnTo>
                        <a:pt x="449" y="401"/>
                      </a:lnTo>
                      <a:lnTo>
                        <a:pt x="447" y="401"/>
                      </a:lnTo>
                      <a:lnTo>
                        <a:pt x="446" y="402"/>
                      </a:lnTo>
                      <a:lnTo>
                        <a:pt x="444" y="404"/>
                      </a:lnTo>
                      <a:lnTo>
                        <a:pt x="432" y="411"/>
                      </a:lnTo>
                      <a:lnTo>
                        <a:pt x="419" y="415"/>
                      </a:lnTo>
                      <a:lnTo>
                        <a:pt x="406" y="419"/>
                      </a:lnTo>
                      <a:lnTo>
                        <a:pt x="393" y="421"/>
                      </a:lnTo>
                      <a:lnTo>
                        <a:pt x="386" y="423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6" y="426"/>
                      </a:lnTo>
                      <a:lnTo>
                        <a:pt x="352" y="428"/>
                      </a:lnTo>
                      <a:lnTo>
                        <a:pt x="325" y="430"/>
                      </a:lnTo>
                      <a:lnTo>
                        <a:pt x="293" y="428"/>
                      </a:lnTo>
                      <a:lnTo>
                        <a:pt x="264" y="425"/>
                      </a:lnTo>
                      <a:lnTo>
                        <a:pt x="234" y="417"/>
                      </a:lnTo>
                      <a:lnTo>
                        <a:pt x="208" y="408"/>
                      </a:lnTo>
                      <a:lnTo>
                        <a:pt x="181" y="394"/>
                      </a:lnTo>
                      <a:lnTo>
                        <a:pt x="156" y="379"/>
                      </a:lnTo>
                      <a:lnTo>
                        <a:pt x="132" y="361"/>
                      </a:lnTo>
                      <a:lnTo>
                        <a:pt x="110" y="342"/>
                      </a:lnTo>
                      <a:lnTo>
                        <a:pt x="89" y="318"/>
                      </a:lnTo>
                      <a:lnTo>
                        <a:pt x="79" y="306"/>
                      </a:lnTo>
                      <a:lnTo>
                        <a:pt x="71" y="294"/>
                      </a:lnTo>
                      <a:lnTo>
                        <a:pt x="56" y="269"/>
                      </a:lnTo>
                      <a:lnTo>
                        <a:pt x="44" y="245"/>
                      </a:lnTo>
                      <a:lnTo>
                        <a:pt x="33" y="216"/>
                      </a:lnTo>
                      <a:lnTo>
                        <a:pt x="29" y="201"/>
                      </a:lnTo>
                      <a:lnTo>
                        <a:pt x="27" y="188"/>
                      </a:lnTo>
                      <a:lnTo>
                        <a:pt x="23" y="158"/>
                      </a:lnTo>
                      <a:lnTo>
                        <a:pt x="22" y="129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039000" y="395964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4" h="398">
                      <a:moveTo>
                        <a:pt x="0" y="23"/>
                      </a:moveTo>
                      <a:lnTo>
                        <a:pt x="1" y="54"/>
                      </a:lnTo>
                      <a:lnTo>
                        <a:pt x="24" y="97"/>
                      </a:lnTo>
                      <a:lnTo>
                        <a:pt x="53" y="141"/>
                      </a:lnTo>
                      <a:lnTo>
                        <a:pt x="85" y="181"/>
                      </a:lnTo>
                      <a:lnTo>
                        <a:pt x="122" y="221"/>
                      </a:lnTo>
                      <a:lnTo>
                        <a:pt x="159" y="255"/>
                      </a:lnTo>
                      <a:lnTo>
                        <a:pt x="198" y="287"/>
                      </a:lnTo>
                      <a:lnTo>
                        <a:pt x="239" y="314"/>
                      </a:lnTo>
                      <a:lnTo>
                        <a:pt x="282" y="339"/>
                      </a:lnTo>
                      <a:lnTo>
                        <a:pt x="325" y="358"/>
                      </a:lnTo>
                      <a:lnTo>
                        <a:pt x="372" y="375"/>
                      </a:lnTo>
                      <a:lnTo>
                        <a:pt x="419" y="388"/>
                      </a:lnTo>
                      <a:lnTo>
                        <a:pt x="469" y="398"/>
                      </a:lnTo>
                      <a:lnTo>
                        <a:pt x="497" y="390"/>
                      </a:lnTo>
                      <a:lnTo>
                        <a:pt x="524" y="382"/>
                      </a:lnTo>
                      <a:lnTo>
                        <a:pt x="468" y="375"/>
                      </a:lnTo>
                      <a:lnTo>
                        <a:pt x="441" y="371"/>
                      </a:lnTo>
                      <a:lnTo>
                        <a:pt x="415" y="365"/>
                      </a:lnTo>
                      <a:lnTo>
                        <a:pt x="364" y="349"/>
                      </a:lnTo>
                      <a:lnTo>
                        <a:pt x="315" y="331"/>
                      </a:lnTo>
                      <a:lnTo>
                        <a:pt x="266" y="306"/>
                      </a:lnTo>
                      <a:lnTo>
                        <a:pt x="222" y="277"/>
                      </a:lnTo>
                      <a:lnTo>
                        <a:pt x="178" y="243"/>
                      </a:lnTo>
                      <a:lnTo>
                        <a:pt x="138" y="206"/>
                      </a:lnTo>
                      <a:lnTo>
                        <a:pt x="114" y="181"/>
                      </a:lnTo>
                      <a:lnTo>
                        <a:pt x="93" y="158"/>
                      </a:lnTo>
                      <a:lnTo>
                        <a:pt x="73" y="131"/>
                      </a:lnTo>
                      <a:lnTo>
                        <a:pt x="56" y="107"/>
                      </a:lnTo>
                      <a:lnTo>
                        <a:pt x="39" y="79"/>
                      </a:lnTo>
                      <a:lnTo>
                        <a:pt x="24" y="53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039000" y="3945240"/>
                  <a:ext cx="162360" cy="123840"/>
                </a:xfrm>
                <a:custGeom>
                  <a:avLst/>
                  <a:gdLst/>
                  <a:ahLst/>
                  <a:rect l="l" t="t" r="r" b="b"/>
                  <a:pathLst>
                    <a:path w="567" h="433">
                      <a:moveTo>
                        <a:pt x="7" y="0"/>
                      </a:moveTo>
                      <a:lnTo>
                        <a:pt x="1" y="25"/>
                      </a:lnTo>
                      <a:lnTo>
                        <a:pt x="0" y="51"/>
                      </a:lnTo>
                      <a:lnTo>
                        <a:pt x="10" y="77"/>
                      </a:lnTo>
                      <a:lnTo>
                        <a:pt x="24" y="104"/>
                      </a:lnTo>
                      <a:lnTo>
                        <a:pt x="39" y="130"/>
                      </a:lnTo>
                      <a:lnTo>
                        <a:pt x="56" y="158"/>
                      </a:lnTo>
                      <a:lnTo>
                        <a:pt x="73" y="182"/>
                      </a:lnTo>
                      <a:lnTo>
                        <a:pt x="93" y="209"/>
                      </a:lnTo>
                      <a:lnTo>
                        <a:pt x="114" y="232"/>
                      </a:lnTo>
                      <a:lnTo>
                        <a:pt x="138" y="257"/>
                      </a:lnTo>
                      <a:lnTo>
                        <a:pt x="178" y="294"/>
                      </a:lnTo>
                      <a:lnTo>
                        <a:pt x="222" y="328"/>
                      </a:lnTo>
                      <a:lnTo>
                        <a:pt x="266" y="357"/>
                      </a:lnTo>
                      <a:lnTo>
                        <a:pt x="315" y="382"/>
                      </a:lnTo>
                      <a:lnTo>
                        <a:pt x="364" y="400"/>
                      </a:lnTo>
                      <a:lnTo>
                        <a:pt x="415" y="416"/>
                      </a:lnTo>
                      <a:lnTo>
                        <a:pt x="441" y="422"/>
                      </a:lnTo>
                      <a:lnTo>
                        <a:pt x="468" y="426"/>
                      </a:lnTo>
                      <a:lnTo>
                        <a:pt x="524" y="433"/>
                      </a:lnTo>
                      <a:lnTo>
                        <a:pt x="567" y="413"/>
                      </a:lnTo>
                      <a:lnTo>
                        <a:pt x="566" y="413"/>
                      </a:lnTo>
                      <a:lnTo>
                        <a:pt x="535" y="412"/>
                      </a:lnTo>
                      <a:lnTo>
                        <a:pt x="506" y="409"/>
                      </a:lnTo>
                      <a:lnTo>
                        <a:pt x="476" y="406"/>
                      </a:lnTo>
                      <a:lnTo>
                        <a:pt x="448" y="401"/>
                      </a:lnTo>
                      <a:lnTo>
                        <a:pt x="392" y="388"/>
                      </a:lnTo>
                      <a:lnTo>
                        <a:pt x="341" y="370"/>
                      </a:lnTo>
                      <a:lnTo>
                        <a:pt x="290" y="345"/>
                      </a:lnTo>
                      <a:lnTo>
                        <a:pt x="241" y="315"/>
                      </a:lnTo>
                      <a:lnTo>
                        <a:pt x="218" y="298"/>
                      </a:lnTo>
                      <a:lnTo>
                        <a:pt x="195" y="280"/>
                      </a:lnTo>
                      <a:lnTo>
                        <a:pt x="153" y="241"/>
                      </a:lnTo>
                      <a:lnTo>
                        <a:pt x="127" y="213"/>
                      </a:lnTo>
                      <a:lnTo>
                        <a:pt x="103" y="186"/>
                      </a:lnTo>
                      <a:lnTo>
                        <a:pt x="82" y="156"/>
                      </a:lnTo>
                      <a:lnTo>
                        <a:pt x="62" y="127"/>
                      </a:lnTo>
                      <a:lnTo>
                        <a:pt x="44" y="95"/>
                      </a:lnTo>
                      <a:lnTo>
                        <a:pt x="29" y="65"/>
                      </a:lnTo>
                      <a:lnTo>
                        <a:pt x="17" y="3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041520" y="3932640"/>
                  <a:ext cx="170280" cy="129960"/>
                </a:xfrm>
                <a:custGeom>
                  <a:avLst/>
                  <a:gdLst/>
                  <a:ahLst/>
                  <a:rect l="l" t="t" r="r" b="b"/>
                  <a:pathLst>
                    <a:path w="596" h="457">
                      <a:moveTo>
                        <a:pt x="10" y="0"/>
                      </a:moveTo>
                      <a:lnTo>
                        <a:pt x="0" y="44"/>
                      </a:lnTo>
                      <a:lnTo>
                        <a:pt x="10" y="76"/>
                      </a:lnTo>
                      <a:lnTo>
                        <a:pt x="22" y="109"/>
                      </a:lnTo>
                      <a:lnTo>
                        <a:pt x="37" y="139"/>
                      </a:lnTo>
                      <a:lnTo>
                        <a:pt x="55" y="171"/>
                      </a:lnTo>
                      <a:lnTo>
                        <a:pt x="75" y="200"/>
                      </a:lnTo>
                      <a:lnTo>
                        <a:pt x="96" y="230"/>
                      </a:lnTo>
                      <a:lnTo>
                        <a:pt x="120" y="257"/>
                      </a:lnTo>
                      <a:lnTo>
                        <a:pt x="146" y="285"/>
                      </a:lnTo>
                      <a:lnTo>
                        <a:pt x="188" y="324"/>
                      </a:lnTo>
                      <a:lnTo>
                        <a:pt x="211" y="342"/>
                      </a:lnTo>
                      <a:lnTo>
                        <a:pt x="234" y="359"/>
                      </a:lnTo>
                      <a:lnTo>
                        <a:pt x="283" y="389"/>
                      </a:lnTo>
                      <a:lnTo>
                        <a:pt x="334" y="414"/>
                      </a:lnTo>
                      <a:lnTo>
                        <a:pt x="385" y="432"/>
                      </a:lnTo>
                      <a:lnTo>
                        <a:pt x="441" y="445"/>
                      </a:lnTo>
                      <a:lnTo>
                        <a:pt x="469" y="450"/>
                      </a:lnTo>
                      <a:lnTo>
                        <a:pt x="499" y="453"/>
                      </a:lnTo>
                      <a:lnTo>
                        <a:pt x="528" y="456"/>
                      </a:lnTo>
                      <a:lnTo>
                        <a:pt x="559" y="457"/>
                      </a:lnTo>
                      <a:lnTo>
                        <a:pt x="560" y="457"/>
                      </a:lnTo>
                      <a:lnTo>
                        <a:pt x="596" y="434"/>
                      </a:lnTo>
                      <a:lnTo>
                        <a:pt x="559" y="435"/>
                      </a:lnTo>
                      <a:lnTo>
                        <a:pt x="529" y="434"/>
                      </a:lnTo>
                      <a:lnTo>
                        <a:pt x="501" y="432"/>
                      </a:lnTo>
                      <a:lnTo>
                        <a:pt x="473" y="428"/>
                      </a:lnTo>
                      <a:lnTo>
                        <a:pt x="445" y="424"/>
                      </a:lnTo>
                      <a:lnTo>
                        <a:pt x="392" y="410"/>
                      </a:lnTo>
                      <a:lnTo>
                        <a:pt x="367" y="402"/>
                      </a:lnTo>
                      <a:lnTo>
                        <a:pt x="342" y="393"/>
                      </a:lnTo>
                      <a:lnTo>
                        <a:pt x="317" y="382"/>
                      </a:lnTo>
                      <a:lnTo>
                        <a:pt x="293" y="369"/>
                      </a:lnTo>
                      <a:lnTo>
                        <a:pt x="247" y="342"/>
                      </a:lnTo>
                      <a:lnTo>
                        <a:pt x="203" y="308"/>
                      </a:lnTo>
                      <a:lnTo>
                        <a:pt x="181" y="290"/>
                      </a:lnTo>
                      <a:lnTo>
                        <a:pt x="161" y="271"/>
                      </a:lnTo>
                      <a:lnTo>
                        <a:pt x="132" y="240"/>
                      </a:lnTo>
                      <a:lnTo>
                        <a:pt x="106" y="209"/>
                      </a:lnTo>
                      <a:lnTo>
                        <a:pt x="94" y="192"/>
                      </a:lnTo>
                      <a:lnTo>
                        <a:pt x="84" y="177"/>
                      </a:lnTo>
                      <a:lnTo>
                        <a:pt x="64" y="144"/>
                      </a:lnTo>
                      <a:lnTo>
                        <a:pt x="54" y="126"/>
                      </a:lnTo>
                      <a:lnTo>
                        <a:pt x="46" y="109"/>
                      </a:lnTo>
                      <a:lnTo>
                        <a:pt x="32" y="73"/>
                      </a:lnTo>
                      <a:lnTo>
                        <a:pt x="19" y="3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44400" y="3921840"/>
                  <a:ext cx="176040" cy="135360"/>
                </a:xfrm>
                <a:custGeom>
                  <a:avLst/>
                  <a:gdLst/>
                  <a:ahLst/>
                  <a:rect l="l" t="t" r="r" b="b"/>
                  <a:pathLst>
                    <a:path w="617" h="474">
                      <a:moveTo>
                        <a:pt x="15" y="0"/>
                      </a:moveTo>
                      <a:lnTo>
                        <a:pt x="0" y="39"/>
                      </a:lnTo>
                      <a:lnTo>
                        <a:pt x="9" y="75"/>
                      </a:lnTo>
                      <a:lnTo>
                        <a:pt x="22" y="112"/>
                      </a:lnTo>
                      <a:lnTo>
                        <a:pt x="36" y="148"/>
                      </a:lnTo>
                      <a:lnTo>
                        <a:pt x="44" y="165"/>
                      </a:lnTo>
                      <a:lnTo>
                        <a:pt x="54" y="183"/>
                      </a:lnTo>
                      <a:lnTo>
                        <a:pt x="74" y="216"/>
                      </a:lnTo>
                      <a:lnTo>
                        <a:pt x="84" y="231"/>
                      </a:lnTo>
                      <a:lnTo>
                        <a:pt x="96" y="248"/>
                      </a:lnTo>
                      <a:lnTo>
                        <a:pt x="122" y="279"/>
                      </a:lnTo>
                      <a:lnTo>
                        <a:pt x="151" y="310"/>
                      </a:lnTo>
                      <a:lnTo>
                        <a:pt x="171" y="329"/>
                      </a:lnTo>
                      <a:lnTo>
                        <a:pt x="193" y="347"/>
                      </a:lnTo>
                      <a:lnTo>
                        <a:pt x="237" y="381"/>
                      </a:lnTo>
                      <a:lnTo>
                        <a:pt x="283" y="408"/>
                      </a:lnTo>
                      <a:lnTo>
                        <a:pt x="307" y="421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5" y="463"/>
                      </a:lnTo>
                      <a:lnTo>
                        <a:pt x="463" y="467"/>
                      </a:lnTo>
                      <a:lnTo>
                        <a:pt x="491" y="471"/>
                      </a:lnTo>
                      <a:lnTo>
                        <a:pt x="519" y="473"/>
                      </a:lnTo>
                      <a:lnTo>
                        <a:pt x="549" y="474"/>
                      </a:lnTo>
                      <a:lnTo>
                        <a:pt x="586" y="473"/>
                      </a:lnTo>
                      <a:lnTo>
                        <a:pt x="593" y="466"/>
                      </a:lnTo>
                      <a:lnTo>
                        <a:pt x="594" y="464"/>
                      </a:lnTo>
                      <a:lnTo>
                        <a:pt x="596" y="463"/>
                      </a:lnTo>
                      <a:lnTo>
                        <a:pt x="601" y="461"/>
                      </a:lnTo>
                      <a:lnTo>
                        <a:pt x="617" y="449"/>
                      </a:lnTo>
                      <a:lnTo>
                        <a:pt x="583" y="451"/>
                      </a:lnTo>
                      <a:lnTo>
                        <a:pt x="549" y="453"/>
                      </a:lnTo>
                      <a:lnTo>
                        <a:pt x="520" y="451"/>
                      </a:lnTo>
                      <a:lnTo>
                        <a:pt x="493" y="449"/>
                      </a:lnTo>
                      <a:lnTo>
                        <a:pt x="440" y="442"/>
                      </a:lnTo>
                      <a:lnTo>
                        <a:pt x="389" y="429"/>
                      </a:lnTo>
                      <a:lnTo>
                        <a:pt x="340" y="413"/>
                      </a:lnTo>
                      <a:lnTo>
                        <a:pt x="293" y="390"/>
                      </a:lnTo>
                      <a:lnTo>
                        <a:pt x="248" y="363"/>
                      </a:lnTo>
                      <a:lnTo>
                        <a:pt x="227" y="347"/>
                      </a:lnTo>
                      <a:lnTo>
                        <a:pt x="206" y="330"/>
                      </a:lnTo>
                      <a:lnTo>
                        <a:pt x="167" y="294"/>
                      </a:lnTo>
                      <a:lnTo>
                        <a:pt x="136" y="261"/>
                      </a:lnTo>
                      <a:lnTo>
                        <a:pt x="109" y="227"/>
                      </a:lnTo>
                      <a:lnTo>
                        <a:pt x="85" y="192"/>
                      </a:lnTo>
                      <a:lnTo>
                        <a:pt x="74" y="174"/>
                      </a:lnTo>
                      <a:lnTo>
                        <a:pt x="65" y="157"/>
                      </a:lnTo>
                      <a:lnTo>
                        <a:pt x="54" y="137"/>
                      </a:lnTo>
                      <a:lnTo>
                        <a:pt x="46" y="119"/>
                      </a:lnTo>
                      <a:lnTo>
                        <a:pt x="33" y="81"/>
                      </a:lnTo>
                      <a:lnTo>
                        <a:pt x="26" y="60"/>
                      </a:lnTo>
                      <a:lnTo>
                        <a:pt x="22" y="41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048360" y="3912120"/>
                  <a:ext cx="180000" cy="138600"/>
                </a:xfrm>
                <a:custGeom>
                  <a:avLst/>
                  <a:gdLst/>
                  <a:ahLst/>
                  <a:rect l="l" t="t" r="r" b="b"/>
                  <a:pathLst>
                    <a:path w="629" h="487">
                      <a:moveTo>
                        <a:pt x="18" y="0"/>
                      </a:moveTo>
                      <a:lnTo>
                        <a:pt x="0" y="34"/>
                      </a:lnTo>
                      <a:lnTo>
                        <a:pt x="7" y="75"/>
                      </a:lnTo>
                      <a:lnTo>
                        <a:pt x="11" y="94"/>
                      </a:lnTo>
                      <a:lnTo>
                        <a:pt x="18" y="115"/>
                      </a:lnTo>
                      <a:lnTo>
                        <a:pt x="31" y="153"/>
                      </a:lnTo>
                      <a:lnTo>
                        <a:pt x="39" y="171"/>
                      </a:lnTo>
                      <a:lnTo>
                        <a:pt x="50" y="191"/>
                      </a:lnTo>
                      <a:lnTo>
                        <a:pt x="59" y="208"/>
                      </a:lnTo>
                      <a:lnTo>
                        <a:pt x="70" y="226"/>
                      </a:lnTo>
                      <a:lnTo>
                        <a:pt x="94" y="261"/>
                      </a:lnTo>
                      <a:lnTo>
                        <a:pt x="121" y="295"/>
                      </a:lnTo>
                      <a:lnTo>
                        <a:pt x="152" y="328"/>
                      </a:lnTo>
                      <a:lnTo>
                        <a:pt x="191" y="364"/>
                      </a:lnTo>
                      <a:lnTo>
                        <a:pt x="212" y="381"/>
                      </a:lnTo>
                      <a:lnTo>
                        <a:pt x="233" y="397"/>
                      </a:lnTo>
                      <a:lnTo>
                        <a:pt x="278" y="424"/>
                      </a:lnTo>
                      <a:lnTo>
                        <a:pt x="325" y="447"/>
                      </a:lnTo>
                      <a:lnTo>
                        <a:pt x="374" y="463"/>
                      </a:lnTo>
                      <a:lnTo>
                        <a:pt x="425" y="476"/>
                      </a:lnTo>
                      <a:lnTo>
                        <a:pt x="478" y="483"/>
                      </a:lnTo>
                      <a:lnTo>
                        <a:pt x="505" y="485"/>
                      </a:lnTo>
                      <a:lnTo>
                        <a:pt x="534" y="487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3" y="463"/>
                      </a:lnTo>
                      <a:lnTo>
                        <a:pt x="629" y="457"/>
                      </a:lnTo>
                      <a:lnTo>
                        <a:pt x="581" y="463"/>
                      </a:lnTo>
                      <a:lnTo>
                        <a:pt x="534" y="465"/>
                      </a:lnTo>
                      <a:lnTo>
                        <a:pt x="507" y="464"/>
                      </a:lnTo>
                      <a:lnTo>
                        <a:pt x="480" y="462"/>
                      </a:lnTo>
                      <a:lnTo>
                        <a:pt x="429" y="455"/>
                      </a:lnTo>
                      <a:lnTo>
                        <a:pt x="404" y="449"/>
                      </a:lnTo>
                      <a:lnTo>
                        <a:pt x="381" y="442"/>
                      </a:lnTo>
                      <a:lnTo>
                        <a:pt x="334" y="426"/>
                      </a:lnTo>
                      <a:lnTo>
                        <a:pt x="288" y="404"/>
                      </a:lnTo>
                      <a:lnTo>
                        <a:pt x="246" y="379"/>
                      </a:lnTo>
                      <a:lnTo>
                        <a:pt x="204" y="347"/>
                      </a:lnTo>
                      <a:lnTo>
                        <a:pt x="166" y="313"/>
                      </a:lnTo>
                      <a:lnTo>
                        <a:pt x="149" y="295"/>
                      </a:lnTo>
                      <a:lnTo>
                        <a:pt x="135" y="278"/>
                      </a:lnTo>
                      <a:lnTo>
                        <a:pt x="120" y="260"/>
                      </a:lnTo>
                      <a:lnTo>
                        <a:pt x="107" y="243"/>
                      </a:lnTo>
                      <a:lnTo>
                        <a:pt x="94" y="224"/>
                      </a:lnTo>
                      <a:lnTo>
                        <a:pt x="82" y="205"/>
                      </a:lnTo>
                      <a:lnTo>
                        <a:pt x="63" y="168"/>
                      </a:lnTo>
                      <a:lnTo>
                        <a:pt x="45" y="127"/>
                      </a:lnTo>
                      <a:lnTo>
                        <a:pt x="33" y="86"/>
                      </a:lnTo>
                      <a:lnTo>
                        <a:pt x="22" y="4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053400" y="3902760"/>
                  <a:ext cx="181800" cy="141480"/>
                </a:xfrm>
                <a:custGeom>
                  <a:avLst/>
                  <a:gdLst/>
                  <a:ahLst/>
                  <a:rect l="l" t="t" r="r" b="b"/>
                  <a:pathLst>
                    <a:path w="635" h="495">
                      <a:moveTo>
                        <a:pt x="19" y="0"/>
                      </a:moveTo>
                      <a:lnTo>
                        <a:pt x="0" y="30"/>
                      </a:lnTo>
                      <a:lnTo>
                        <a:pt x="4" y="73"/>
                      </a:lnTo>
                      <a:lnTo>
                        <a:pt x="15" y="116"/>
                      </a:lnTo>
                      <a:lnTo>
                        <a:pt x="27" y="157"/>
                      </a:lnTo>
                      <a:lnTo>
                        <a:pt x="45" y="198"/>
                      </a:lnTo>
                      <a:lnTo>
                        <a:pt x="64" y="235"/>
                      </a:lnTo>
                      <a:lnTo>
                        <a:pt x="76" y="254"/>
                      </a:lnTo>
                      <a:lnTo>
                        <a:pt x="89" y="273"/>
                      </a:lnTo>
                      <a:lnTo>
                        <a:pt x="102" y="290"/>
                      </a:lnTo>
                      <a:lnTo>
                        <a:pt x="117" y="308"/>
                      </a:lnTo>
                      <a:lnTo>
                        <a:pt x="131" y="325"/>
                      </a:lnTo>
                      <a:lnTo>
                        <a:pt x="148" y="343"/>
                      </a:lnTo>
                      <a:lnTo>
                        <a:pt x="186" y="377"/>
                      </a:lnTo>
                      <a:lnTo>
                        <a:pt x="228" y="409"/>
                      </a:lnTo>
                      <a:lnTo>
                        <a:pt x="270" y="434"/>
                      </a:lnTo>
                      <a:lnTo>
                        <a:pt x="316" y="456"/>
                      </a:lnTo>
                      <a:lnTo>
                        <a:pt x="363" y="472"/>
                      </a:lnTo>
                      <a:lnTo>
                        <a:pt x="386" y="479"/>
                      </a:lnTo>
                      <a:lnTo>
                        <a:pt x="411" y="485"/>
                      </a:lnTo>
                      <a:lnTo>
                        <a:pt x="462" y="492"/>
                      </a:lnTo>
                      <a:lnTo>
                        <a:pt x="489" y="494"/>
                      </a:lnTo>
                      <a:lnTo>
                        <a:pt x="516" y="495"/>
                      </a:lnTo>
                      <a:lnTo>
                        <a:pt x="563" y="493"/>
                      </a:lnTo>
                      <a:lnTo>
                        <a:pt x="611" y="487"/>
                      </a:lnTo>
                      <a:lnTo>
                        <a:pt x="635" y="460"/>
                      </a:lnTo>
                      <a:lnTo>
                        <a:pt x="605" y="466"/>
                      </a:lnTo>
                      <a:lnTo>
                        <a:pt x="576" y="470"/>
                      </a:lnTo>
                      <a:lnTo>
                        <a:pt x="545" y="472"/>
                      </a:lnTo>
                      <a:lnTo>
                        <a:pt x="516" y="473"/>
                      </a:lnTo>
                      <a:lnTo>
                        <a:pt x="465" y="471"/>
                      </a:lnTo>
                      <a:lnTo>
                        <a:pt x="416" y="464"/>
                      </a:lnTo>
                      <a:lnTo>
                        <a:pt x="368" y="453"/>
                      </a:lnTo>
                      <a:lnTo>
                        <a:pt x="324" y="437"/>
                      </a:lnTo>
                      <a:lnTo>
                        <a:pt x="280" y="417"/>
                      </a:lnTo>
                      <a:lnTo>
                        <a:pt x="240" y="392"/>
                      </a:lnTo>
                      <a:lnTo>
                        <a:pt x="201" y="362"/>
                      </a:lnTo>
                      <a:lnTo>
                        <a:pt x="164" y="328"/>
                      </a:lnTo>
                      <a:lnTo>
                        <a:pt x="130" y="292"/>
                      </a:lnTo>
                      <a:lnTo>
                        <a:pt x="116" y="273"/>
                      </a:lnTo>
                      <a:lnTo>
                        <a:pt x="103" y="255"/>
                      </a:lnTo>
                      <a:lnTo>
                        <a:pt x="78" y="216"/>
                      </a:lnTo>
                      <a:lnTo>
                        <a:pt x="59" y="176"/>
                      </a:lnTo>
                      <a:lnTo>
                        <a:pt x="42" y="134"/>
                      </a:lnTo>
                      <a:lnTo>
                        <a:pt x="30" y="91"/>
                      </a:lnTo>
                      <a:lnTo>
                        <a:pt x="21" y="46"/>
                      </a:lnTo>
                      <a:lnTo>
                        <a:pt x="19" y="2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050160" y="4014360"/>
                  <a:ext cx="79200" cy="59760"/>
                </a:xfrm>
                <a:custGeom>
                  <a:avLst/>
                  <a:gdLst/>
                  <a:ahLst/>
                  <a:rect l="l" t="t" r="r" b="b"/>
                  <a:pathLst>
                    <a:path w="277" h="211">
                      <a:moveTo>
                        <a:pt x="55" y="62"/>
                      </a:moveTo>
                      <a:lnTo>
                        <a:pt x="26" y="31"/>
                      </a:lnTo>
                      <a:lnTo>
                        <a:pt x="0" y="0"/>
                      </a:lnTo>
                      <a:lnTo>
                        <a:pt x="15" y="27"/>
                      </a:lnTo>
                      <a:lnTo>
                        <a:pt x="32" y="54"/>
                      </a:lnTo>
                      <a:lnTo>
                        <a:pt x="51" y="79"/>
                      </a:lnTo>
                      <a:lnTo>
                        <a:pt x="75" y="105"/>
                      </a:lnTo>
                      <a:lnTo>
                        <a:pt x="97" y="124"/>
                      </a:lnTo>
                      <a:lnTo>
                        <a:pt x="119" y="143"/>
                      </a:lnTo>
                      <a:lnTo>
                        <a:pt x="143" y="159"/>
                      </a:lnTo>
                      <a:lnTo>
                        <a:pt x="168" y="174"/>
                      </a:lnTo>
                      <a:lnTo>
                        <a:pt x="193" y="186"/>
                      </a:lnTo>
                      <a:lnTo>
                        <a:pt x="220" y="197"/>
                      </a:lnTo>
                      <a:lnTo>
                        <a:pt x="248" y="205"/>
                      </a:lnTo>
                      <a:lnTo>
                        <a:pt x="277" y="211"/>
                      </a:lnTo>
                      <a:lnTo>
                        <a:pt x="246" y="198"/>
                      </a:lnTo>
                      <a:lnTo>
                        <a:pt x="217" y="183"/>
                      </a:lnTo>
                      <a:lnTo>
                        <a:pt x="187" y="166"/>
                      </a:lnTo>
                      <a:lnTo>
                        <a:pt x="160" y="149"/>
                      </a:lnTo>
                      <a:lnTo>
                        <a:pt x="132" y="129"/>
                      </a:lnTo>
                      <a:lnTo>
                        <a:pt x="106" y="108"/>
                      </a:lnTo>
                      <a:lnTo>
                        <a:pt x="80" y="85"/>
                      </a:lnTo>
                      <a:lnTo>
                        <a:pt x="55" y="62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042600" y="3992400"/>
                  <a:ext cx="11124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3">
                      <a:moveTo>
                        <a:pt x="27" y="76"/>
                      </a:moveTo>
                      <a:lnTo>
                        <a:pt x="53" y="107"/>
                      </a:lnTo>
                      <a:lnTo>
                        <a:pt x="82" y="138"/>
                      </a:lnTo>
                      <a:lnTo>
                        <a:pt x="107" y="161"/>
                      </a:lnTo>
                      <a:lnTo>
                        <a:pt x="133" y="184"/>
                      </a:lnTo>
                      <a:lnTo>
                        <a:pt x="159" y="205"/>
                      </a:lnTo>
                      <a:lnTo>
                        <a:pt x="187" y="225"/>
                      </a:lnTo>
                      <a:lnTo>
                        <a:pt x="214" y="242"/>
                      </a:lnTo>
                      <a:lnTo>
                        <a:pt x="244" y="259"/>
                      </a:lnTo>
                      <a:lnTo>
                        <a:pt x="273" y="274"/>
                      </a:lnTo>
                      <a:lnTo>
                        <a:pt x="304" y="287"/>
                      </a:lnTo>
                      <a:lnTo>
                        <a:pt x="337" y="291"/>
                      </a:lnTo>
                      <a:lnTo>
                        <a:pt x="373" y="293"/>
                      </a:lnTo>
                      <a:lnTo>
                        <a:pt x="391" y="293"/>
                      </a:lnTo>
                      <a:lnTo>
                        <a:pt x="349" y="281"/>
                      </a:lnTo>
                      <a:lnTo>
                        <a:pt x="310" y="266"/>
                      </a:lnTo>
                      <a:lnTo>
                        <a:pt x="271" y="248"/>
                      </a:lnTo>
                      <a:lnTo>
                        <a:pt x="235" y="228"/>
                      </a:lnTo>
                      <a:lnTo>
                        <a:pt x="197" y="205"/>
                      </a:lnTo>
                      <a:lnTo>
                        <a:pt x="162" y="181"/>
                      </a:lnTo>
                      <a:lnTo>
                        <a:pt x="128" y="152"/>
                      </a:lnTo>
                      <a:lnTo>
                        <a:pt x="97" y="123"/>
                      </a:lnTo>
                      <a:lnTo>
                        <a:pt x="68" y="92"/>
                      </a:lnTo>
                      <a:lnTo>
                        <a:pt x="43" y="63"/>
                      </a:lnTo>
                      <a:lnTo>
                        <a:pt x="19" y="31"/>
                      </a:lnTo>
                      <a:lnTo>
                        <a:pt x="0" y="0"/>
                      </a:lnTo>
                      <a:lnTo>
                        <a:pt x="12" y="39"/>
                      </a:lnTo>
                      <a:lnTo>
                        <a:pt x="18" y="57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039720" y="397548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8" h="353">
                      <a:moveTo>
                        <a:pt x="9" y="60"/>
                      </a:moveTo>
                      <a:lnTo>
                        <a:pt x="28" y="91"/>
                      </a:lnTo>
                      <a:lnTo>
                        <a:pt x="52" y="123"/>
                      </a:lnTo>
                      <a:lnTo>
                        <a:pt x="77" y="152"/>
                      </a:lnTo>
                      <a:lnTo>
                        <a:pt x="106" y="183"/>
                      </a:lnTo>
                      <a:lnTo>
                        <a:pt x="137" y="212"/>
                      </a:lnTo>
                      <a:lnTo>
                        <a:pt x="171" y="241"/>
                      </a:lnTo>
                      <a:lnTo>
                        <a:pt x="206" y="265"/>
                      </a:lnTo>
                      <a:lnTo>
                        <a:pt x="244" y="288"/>
                      </a:lnTo>
                      <a:lnTo>
                        <a:pt x="280" y="308"/>
                      </a:lnTo>
                      <a:lnTo>
                        <a:pt x="319" y="326"/>
                      </a:lnTo>
                      <a:lnTo>
                        <a:pt x="358" y="341"/>
                      </a:lnTo>
                      <a:lnTo>
                        <a:pt x="400" y="353"/>
                      </a:lnTo>
                      <a:lnTo>
                        <a:pt x="434" y="350"/>
                      </a:lnTo>
                      <a:lnTo>
                        <a:pt x="468" y="344"/>
                      </a:lnTo>
                      <a:lnTo>
                        <a:pt x="418" y="334"/>
                      </a:lnTo>
                      <a:lnTo>
                        <a:pt x="371" y="321"/>
                      </a:lnTo>
                      <a:lnTo>
                        <a:pt x="324" y="304"/>
                      </a:lnTo>
                      <a:lnTo>
                        <a:pt x="281" y="285"/>
                      </a:lnTo>
                      <a:lnTo>
                        <a:pt x="238" y="260"/>
                      </a:lnTo>
                      <a:lnTo>
                        <a:pt x="197" y="233"/>
                      </a:lnTo>
                      <a:lnTo>
                        <a:pt x="158" y="201"/>
                      </a:lnTo>
                      <a:lnTo>
                        <a:pt x="121" y="167"/>
                      </a:lnTo>
                      <a:lnTo>
                        <a:pt x="84" y="127"/>
                      </a:lnTo>
                      <a:lnTo>
                        <a:pt x="52" y="87"/>
                      </a:lnTo>
                      <a:lnTo>
                        <a:pt x="23" y="43"/>
                      </a:lnTo>
                      <a:lnTo>
                        <a:pt x="0" y="0"/>
                      </a:lnTo>
                      <a:lnTo>
                        <a:pt x="4" y="30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39000" y="3856680"/>
                  <a:ext cx="219600" cy="219240"/>
                </a:xfrm>
                <a:custGeom>
                  <a:avLst/>
                  <a:gdLst/>
                  <a:ahLst/>
                  <a:rect l="l" t="t" r="r" b="b"/>
                  <a:pathLst>
                    <a:path w="768" h="768">
                      <a:moveTo>
                        <a:pt x="383" y="0"/>
                      </a:moveTo>
                      <a:lnTo>
                        <a:pt x="344" y="2"/>
                      </a:lnTo>
                      <a:lnTo>
                        <a:pt x="306" y="7"/>
                      </a:lnTo>
                      <a:lnTo>
                        <a:pt x="270" y="15"/>
                      </a:lnTo>
                      <a:lnTo>
                        <a:pt x="236" y="28"/>
                      </a:lnTo>
                      <a:lnTo>
                        <a:pt x="202" y="42"/>
                      </a:lnTo>
                      <a:lnTo>
                        <a:pt x="170" y="63"/>
                      </a:lnTo>
                      <a:lnTo>
                        <a:pt x="139" y="85"/>
                      </a:lnTo>
                      <a:lnTo>
                        <a:pt x="112" y="113"/>
                      </a:lnTo>
                      <a:lnTo>
                        <a:pt x="85" y="140"/>
                      </a:lnTo>
                      <a:lnTo>
                        <a:pt x="62" y="171"/>
                      </a:lnTo>
                      <a:lnTo>
                        <a:pt x="42" y="202"/>
                      </a:lnTo>
                      <a:lnTo>
                        <a:pt x="27" y="236"/>
                      </a:lnTo>
                      <a:lnTo>
                        <a:pt x="15" y="270"/>
                      </a:lnTo>
                      <a:lnTo>
                        <a:pt x="7" y="307"/>
                      </a:lnTo>
                      <a:lnTo>
                        <a:pt x="1" y="344"/>
                      </a:lnTo>
                      <a:lnTo>
                        <a:pt x="0" y="384"/>
                      </a:lnTo>
                      <a:lnTo>
                        <a:pt x="1" y="422"/>
                      </a:lnTo>
                      <a:lnTo>
                        <a:pt x="7" y="460"/>
                      </a:lnTo>
                      <a:lnTo>
                        <a:pt x="15" y="496"/>
                      </a:lnTo>
                      <a:lnTo>
                        <a:pt x="27" y="531"/>
                      </a:lnTo>
                      <a:lnTo>
                        <a:pt x="42" y="564"/>
                      </a:lnTo>
                      <a:lnTo>
                        <a:pt x="62" y="596"/>
                      </a:lnTo>
                      <a:lnTo>
                        <a:pt x="73" y="610"/>
                      </a:lnTo>
                      <a:lnTo>
                        <a:pt x="85" y="626"/>
                      </a:lnTo>
                      <a:lnTo>
                        <a:pt x="112" y="656"/>
                      </a:lnTo>
                      <a:lnTo>
                        <a:pt x="139" y="681"/>
                      </a:lnTo>
                      <a:lnTo>
                        <a:pt x="170" y="703"/>
                      </a:lnTo>
                      <a:lnTo>
                        <a:pt x="202" y="723"/>
                      </a:lnTo>
                      <a:lnTo>
                        <a:pt x="236" y="740"/>
                      </a:lnTo>
                      <a:lnTo>
                        <a:pt x="270" y="751"/>
                      </a:lnTo>
                      <a:lnTo>
                        <a:pt x="306" y="760"/>
                      </a:lnTo>
                      <a:lnTo>
                        <a:pt x="344" y="766"/>
                      </a:lnTo>
                      <a:lnTo>
                        <a:pt x="383" y="768"/>
                      </a:lnTo>
                      <a:lnTo>
                        <a:pt x="422" y="766"/>
                      </a:lnTo>
                      <a:lnTo>
                        <a:pt x="440" y="762"/>
                      </a:lnTo>
                      <a:lnTo>
                        <a:pt x="459" y="760"/>
                      </a:lnTo>
                      <a:lnTo>
                        <a:pt x="495" y="751"/>
                      </a:lnTo>
                      <a:lnTo>
                        <a:pt x="499" y="749"/>
                      </a:lnTo>
                      <a:lnTo>
                        <a:pt x="503" y="748"/>
                      </a:lnTo>
                      <a:lnTo>
                        <a:pt x="512" y="745"/>
                      </a:lnTo>
                      <a:lnTo>
                        <a:pt x="531" y="740"/>
                      </a:lnTo>
                      <a:lnTo>
                        <a:pt x="546" y="731"/>
                      </a:lnTo>
                      <a:lnTo>
                        <a:pt x="554" y="726"/>
                      </a:lnTo>
                      <a:lnTo>
                        <a:pt x="563" y="723"/>
                      </a:lnTo>
                      <a:lnTo>
                        <a:pt x="595" y="703"/>
                      </a:lnTo>
                      <a:lnTo>
                        <a:pt x="610" y="692"/>
                      </a:lnTo>
                      <a:lnTo>
                        <a:pt x="626" y="681"/>
                      </a:lnTo>
                      <a:lnTo>
                        <a:pt x="655" y="656"/>
                      </a:lnTo>
                      <a:lnTo>
                        <a:pt x="680" y="626"/>
                      </a:lnTo>
                      <a:lnTo>
                        <a:pt x="692" y="610"/>
                      </a:lnTo>
                      <a:lnTo>
                        <a:pt x="703" y="596"/>
                      </a:lnTo>
                      <a:lnTo>
                        <a:pt x="722" y="564"/>
                      </a:lnTo>
                      <a:lnTo>
                        <a:pt x="726" y="555"/>
                      </a:lnTo>
                      <a:lnTo>
                        <a:pt x="730" y="547"/>
                      </a:lnTo>
                      <a:lnTo>
                        <a:pt x="739" y="531"/>
                      </a:lnTo>
                      <a:lnTo>
                        <a:pt x="745" y="513"/>
                      </a:lnTo>
                      <a:lnTo>
                        <a:pt x="747" y="504"/>
                      </a:lnTo>
                      <a:lnTo>
                        <a:pt x="748" y="499"/>
                      </a:lnTo>
                      <a:lnTo>
                        <a:pt x="751" y="496"/>
                      </a:lnTo>
                      <a:lnTo>
                        <a:pt x="760" y="460"/>
                      </a:lnTo>
                      <a:lnTo>
                        <a:pt x="762" y="440"/>
                      </a:lnTo>
                      <a:lnTo>
                        <a:pt x="765" y="422"/>
                      </a:lnTo>
                      <a:lnTo>
                        <a:pt x="768" y="384"/>
                      </a:lnTo>
                      <a:lnTo>
                        <a:pt x="765" y="344"/>
                      </a:lnTo>
                      <a:lnTo>
                        <a:pt x="760" y="307"/>
                      </a:lnTo>
                      <a:lnTo>
                        <a:pt x="751" y="270"/>
                      </a:lnTo>
                      <a:lnTo>
                        <a:pt x="739" y="236"/>
                      </a:lnTo>
                      <a:lnTo>
                        <a:pt x="722" y="202"/>
                      </a:lnTo>
                      <a:lnTo>
                        <a:pt x="703" y="171"/>
                      </a:lnTo>
                      <a:lnTo>
                        <a:pt x="680" y="140"/>
                      </a:lnTo>
                      <a:lnTo>
                        <a:pt x="655" y="113"/>
                      </a:lnTo>
                      <a:lnTo>
                        <a:pt x="626" y="85"/>
                      </a:lnTo>
                      <a:lnTo>
                        <a:pt x="610" y="73"/>
                      </a:lnTo>
                      <a:lnTo>
                        <a:pt x="595" y="63"/>
                      </a:lnTo>
                      <a:lnTo>
                        <a:pt x="563" y="42"/>
                      </a:lnTo>
                      <a:lnTo>
                        <a:pt x="531" y="28"/>
                      </a:lnTo>
                      <a:lnTo>
                        <a:pt x="495" y="15"/>
                      </a:lnTo>
                      <a:lnTo>
                        <a:pt x="459" y="7"/>
                      </a:lnTo>
                      <a:lnTo>
                        <a:pt x="422" y="2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8040" y="3956040"/>
                  <a:ext cx="10044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103800" y="3961800"/>
                  <a:ext cx="88920" cy="1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802120" y="2740680"/>
                  <a:ext cx="9468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6">
                      <a:moveTo>
                        <a:pt x="66" y="26"/>
                      </a:moveTo>
                      <a:lnTo>
                        <a:pt x="92" y="6"/>
                      </a:lnTo>
                      <a:lnTo>
                        <a:pt x="62" y="0"/>
                      </a:lnTo>
                      <a:lnTo>
                        <a:pt x="51" y="12"/>
                      </a:lnTo>
                      <a:lnTo>
                        <a:pt x="27" y="38"/>
                      </a:lnTo>
                      <a:lnTo>
                        <a:pt x="18" y="51"/>
                      </a:lnTo>
                      <a:lnTo>
                        <a:pt x="12" y="67"/>
                      </a:lnTo>
                      <a:lnTo>
                        <a:pt x="6" y="82"/>
                      </a:lnTo>
                      <a:lnTo>
                        <a:pt x="2" y="99"/>
                      </a:lnTo>
                      <a:lnTo>
                        <a:pt x="0" y="134"/>
                      </a:lnTo>
                      <a:lnTo>
                        <a:pt x="0" y="150"/>
                      </a:lnTo>
                      <a:lnTo>
                        <a:pt x="2" y="167"/>
                      </a:lnTo>
                      <a:lnTo>
                        <a:pt x="6" y="183"/>
                      </a:lnTo>
                      <a:lnTo>
                        <a:pt x="12" y="200"/>
                      </a:lnTo>
                      <a:lnTo>
                        <a:pt x="18" y="213"/>
                      </a:lnTo>
                      <a:lnTo>
                        <a:pt x="27" y="228"/>
                      </a:lnTo>
                      <a:lnTo>
                        <a:pt x="37" y="242"/>
                      </a:lnTo>
                      <a:lnTo>
                        <a:pt x="51" y="255"/>
                      </a:lnTo>
                      <a:lnTo>
                        <a:pt x="64" y="267"/>
                      </a:lnTo>
                      <a:lnTo>
                        <a:pt x="77" y="277"/>
                      </a:lnTo>
                      <a:lnTo>
                        <a:pt x="91" y="285"/>
                      </a:lnTo>
                      <a:lnTo>
                        <a:pt x="107" y="293"/>
                      </a:lnTo>
                      <a:lnTo>
                        <a:pt x="121" y="298"/>
                      </a:lnTo>
                      <a:lnTo>
                        <a:pt x="138" y="303"/>
                      </a:lnTo>
                      <a:lnTo>
                        <a:pt x="155" y="305"/>
                      </a:lnTo>
                      <a:lnTo>
                        <a:pt x="173" y="306"/>
                      </a:lnTo>
                      <a:lnTo>
                        <a:pt x="189" y="305"/>
                      </a:lnTo>
                      <a:lnTo>
                        <a:pt x="206" y="303"/>
                      </a:lnTo>
                      <a:lnTo>
                        <a:pt x="222" y="298"/>
                      </a:lnTo>
                      <a:lnTo>
                        <a:pt x="226" y="296"/>
                      </a:lnTo>
                      <a:lnTo>
                        <a:pt x="230" y="295"/>
                      </a:lnTo>
                      <a:lnTo>
                        <a:pt x="239" y="293"/>
                      </a:lnTo>
                      <a:lnTo>
                        <a:pt x="253" y="285"/>
                      </a:lnTo>
                      <a:lnTo>
                        <a:pt x="260" y="280"/>
                      </a:lnTo>
                      <a:lnTo>
                        <a:pt x="263" y="278"/>
                      </a:lnTo>
                      <a:lnTo>
                        <a:pt x="268" y="277"/>
                      </a:lnTo>
                      <a:lnTo>
                        <a:pt x="281" y="267"/>
                      </a:lnTo>
                      <a:lnTo>
                        <a:pt x="296" y="255"/>
                      </a:lnTo>
                      <a:lnTo>
                        <a:pt x="307" y="242"/>
                      </a:lnTo>
                      <a:lnTo>
                        <a:pt x="312" y="235"/>
                      </a:lnTo>
                      <a:lnTo>
                        <a:pt x="314" y="232"/>
                      </a:lnTo>
                      <a:lnTo>
                        <a:pt x="317" y="229"/>
                      </a:lnTo>
                      <a:lnTo>
                        <a:pt x="319" y="225"/>
                      </a:lnTo>
                      <a:lnTo>
                        <a:pt x="321" y="221"/>
                      </a:lnTo>
                      <a:lnTo>
                        <a:pt x="325" y="215"/>
                      </a:lnTo>
                      <a:lnTo>
                        <a:pt x="333" y="201"/>
                      </a:lnTo>
                      <a:lnTo>
                        <a:pt x="325" y="187"/>
                      </a:lnTo>
                      <a:lnTo>
                        <a:pt x="319" y="176"/>
                      </a:lnTo>
                      <a:lnTo>
                        <a:pt x="314" y="184"/>
                      </a:lnTo>
                      <a:lnTo>
                        <a:pt x="311" y="193"/>
                      </a:lnTo>
                      <a:lnTo>
                        <a:pt x="306" y="201"/>
                      </a:lnTo>
                      <a:lnTo>
                        <a:pt x="303" y="210"/>
                      </a:lnTo>
                      <a:lnTo>
                        <a:pt x="297" y="217"/>
                      </a:lnTo>
                      <a:lnTo>
                        <a:pt x="293" y="225"/>
                      </a:lnTo>
                      <a:lnTo>
                        <a:pt x="280" y="241"/>
                      </a:lnTo>
                      <a:lnTo>
                        <a:pt x="268" y="250"/>
                      </a:lnTo>
                      <a:lnTo>
                        <a:pt x="256" y="259"/>
                      </a:lnTo>
                      <a:lnTo>
                        <a:pt x="243" y="267"/>
                      </a:lnTo>
                      <a:lnTo>
                        <a:pt x="230" y="274"/>
                      </a:lnTo>
                      <a:lnTo>
                        <a:pt x="215" y="278"/>
                      </a:lnTo>
                      <a:lnTo>
                        <a:pt x="202" y="281"/>
                      </a:lnTo>
                      <a:lnTo>
                        <a:pt x="187" y="284"/>
                      </a:lnTo>
                      <a:lnTo>
                        <a:pt x="173" y="285"/>
                      </a:lnTo>
                      <a:lnTo>
                        <a:pt x="158" y="284"/>
                      </a:lnTo>
                      <a:lnTo>
                        <a:pt x="143" y="281"/>
                      </a:lnTo>
                      <a:lnTo>
                        <a:pt x="128" y="278"/>
                      </a:lnTo>
                      <a:lnTo>
                        <a:pt x="115" y="274"/>
                      </a:lnTo>
                      <a:lnTo>
                        <a:pt x="101" y="267"/>
                      </a:lnTo>
                      <a:lnTo>
                        <a:pt x="88" y="259"/>
                      </a:lnTo>
                      <a:lnTo>
                        <a:pt x="66" y="241"/>
                      </a:lnTo>
                      <a:lnTo>
                        <a:pt x="54" y="228"/>
                      </a:lnTo>
                      <a:lnTo>
                        <a:pt x="45" y="217"/>
                      </a:lnTo>
                      <a:lnTo>
                        <a:pt x="37" y="203"/>
                      </a:lnTo>
                      <a:lnTo>
                        <a:pt x="32" y="191"/>
                      </a:lnTo>
                      <a:lnTo>
                        <a:pt x="26" y="176"/>
                      </a:lnTo>
                      <a:lnTo>
                        <a:pt x="24" y="162"/>
                      </a:lnTo>
                      <a:lnTo>
                        <a:pt x="22" y="148"/>
                      </a:lnTo>
                      <a:lnTo>
                        <a:pt x="22" y="134"/>
                      </a:lnTo>
                      <a:lnTo>
                        <a:pt x="24" y="103"/>
                      </a:lnTo>
                      <a:lnTo>
                        <a:pt x="32" y="75"/>
                      </a:lnTo>
                      <a:lnTo>
                        <a:pt x="45" y="49"/>
                      </a:lnTo>
                      <a:lnTo>
                        <a:pt x="54" y="37"/>
                      </a:lnTo>
                      <a:lnTo>
                        <a:pt x="66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07880" y="2742480"/>
                  <a:ext cx="84960" cy="7920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0" y="0"/>
                      </a:moveTo>
                      <a:lnTo>
                        <a:pt x="44" y="20"/>
                      </a:lnTo>
                      <a:lnTo>
                        <a:pt x="32" y="31"/>
                      </a:lnTo>
                      <a:lnTo>
                        <a:pt x="23" y="43"/>
                      </a:lnTo>
                      <a:lnTo>
                        <a:pt x="10" y="69"/>
                      </a:lnTo>
                      <a:lnTo>
                        <a:pt x="2" y="97"/>
                      </a:lnTo>
                      <a:lnTo>
                        <a:pt x="0" y="128"/>
                      </a:lnTo>
                      <a:lnTo>
                        <a:pt x="0" y="142"/>
                      </a:lnTo>
                      <a:lnTo>
                        <a:pt x="2" y="156"/>
                      </a:lnTo>
                      <a:lnTo>
                        <a:pt x="4" y="170"/>
                      </a:lnTo>
                      <a:lnTo>
                        <a:pt x="10" y="185"/>
                      </a:lnTo>
                      <a:lnTo>
                        <a:pt x="15" y="197"/>
                      </a:lnTo>
                      <a:lnTo>
                        <a:pt x="23" y="211"/>
                      </a:lnTo>
                      <a:lnTo>
                        <a:pt x="32" y="222"/>
                      </a:lnTo>
                      <a:lnTo>
                        <a:pt x="44" y="235"/>
                      </a:lnTo>
                      <a:lnTo>
                        <a:pt x="66" y="253"/>
                      </a:lnTo>
                      <a:lnTo>
                        <a:pt x="79" y="261"/>
                      </a:lnTo>
                      <a:lnTo>
                        <a:pt x="93" y="268"/>
                      </a:lnTo>
                      <a:lnTo>
                        <a:pt x="106" y="272"/>
                      </a:lnTo>
                      <a:lnTo>
                        <a:pt x="121" y="275"/>
                      </a:lnTo>
                      <a:lnTo>
                        <a:pt x="136" y="278"/>
                      </a:lnTo>
                      <a:lnTo>
                        <a:pt x="151" y="279"/>
                      </a:lnTo>
                      <a:lnTo>
                        <a:pt x="165" y="278"/>
                      </a:lnTo>
                      <a:lnTo>
                        <a:pt x="180" y="275"/>
                      </a:lnTo>
                      <a:lnTo>
                        <a:pt x="193" y="272"/>
                      </a:lnTo>
                      <a:lnTo>
                        <a:pt x="208" y="268"/>
                      </a:lnTo>
                      <a:lnTo>
                        <a:pt x="221" y="261"/>
                      </a:lnTo>
                      <a:lnTo>
                        <a:pt x="234" y="253"/>
                      </a:lnTo>
                      <a:lnTo>
                        <a:pt x="246" y="244"/>
                      </a:lnTo>
                      <a:lnTo>
                        <a:pt x="258" y="235"/>
                      </a:lnTo>
                      <a:lnTo>
                        <a:pt x="271" y="219"/>
                      </a:lnTo>
                      <a:lnTo>
                        <a:pt x="275" y="211"/>
                      </a:lnTo>
                      <a:lnTo>
                        <a:pt x="281" y="204"/>
                      </a:lnTo>
                      <a:lnTo>
                        <a:pt x="284" y="195"/>
                      </a:lnTo>
                      <a:lnTo>
                        <a:pt x="289" y="187"/>
                      </a:lnTo>
                      <a:lnTo>
                        <a:pt x="292" y="178"/>
                      </a:lnTo>
                      <a:lnTo>
                        <a:pt x="297" y="170"/>
                      </a:lnTo>
                      <a:lnTo>
                        <a:pt x="280" y="145"/>
                      </a:lnTo>
                      <a:lnTo>
                        <a:pt x="276" y="154"/>
                      </a:lnTo>
                      <a:lnTo>
                        <a:pt x="274" y="164"/>
                      </a:lnTo>
                      <a:lnTo>
                        <a:pt x="271" y="173"/>
                      </a:lnTo>
                      <a:lnTo>
                        <a:pt x="268" y="178"/>
                      </a:lnTo>
                      <a:lnTo>
                        <a:pt x="267" y="180"/>
                      </a:lnTo>
                      <a:lnTo>
                        <a:pt x="267" y="184"/>
                      </a:lnTo>
                      <a:lnTo>
                        <a:pt x="256" y="202"/>
                      </a:lnTo>
                      <a:lnTo>
                        <a:pt x="249" y="210"/>
                      </a:lnTo>
                      <a:lnTo>
                        <a:pt x="243" y="219"/>
                      </a:lnTo>
                      <a:lnTo>
                        <a:pt x="232" y="227"/>
                      </a:lnTo>
                      <a:lnTo>
                        <a:pt x="230" y="227"/>
                      </a:lnTo>
                      <a:lnTo>
                        <a:pt x="229" y="227"/>
                      </a:lnTo>
                      <a:lnTo>
                        <a:pt x="229" y="228"/>
                      </a:lnTo>
                      <a:lnTo>
                        <a:pt x="226" y="230"/>
                      </a:lnTo>
                      <a:lnTo>
                        <a:pt x="222" y="235"/>
                      </a:lnTo>
                      <a:lnTo>
                        <a:pt x="210" y="241"/>
                      </a:lnTo>
                      <a:lnTo>
                        <a:pt x="205" y="244"/>
                      </a:lnTo>
                      <a:lnTo>
                        <a:pt x="200" y="247"/>
                      </a:lnTo>
                      <a:lnTo>
                        <a:pt x="193" y="248"/>
                      </a:lnTo>
                      <a:lnTo>
                        <a:pt x="188" y="251"/>
                      </a:lnTo>
                      <a:lnTo>
                        <a:pt x="176" y="254"/>
                      </a:lnTo>
                      <a:lnTo>
                        <a:pt x="163" y="256"/>
                      </a:lnTo>
                      <a:lnTo>
                        <a:pt x="151" y="257"/>
                      </a:lnTo>
                      <a:lnTo>
                        <a:pt x="138" y="256"/>
                      </a:lnTo>
                      <a:lnTo>
                        <a:pt x="124" y="254"/>
                      </a:lnTo>
                      <a:lnTo>
                        <a:pt x="100" y="247"/>
                      </a:lnTo>
                      <a:lnTo>
                        <a:pt x="89" y="241"/>
                      </a:lnTo>
                      <a:lnTo>
                        <a:pt x="79" y="235"/>
                      </a:lnTo>
                      <a:lnTo>
                        <a:pt x="60" y="219"/>
                      </a:lnTo>
                      <a:lnTo>
                        <a:pt x="42" y="198"/>
                      </a:lnTo>
                      <a:lnTo>
                        <a:pt x="35" y="187"/>
                      </a:lnTo>
                      <a:lnTo>
                        <a:pt x="30" y="177"/>
                      </a:lnTo>
                      <a:lnTo>
                        <a:pt x="26" y="164"/>
                      </a:lnTo>
                      <a:lnTo>
                        <a:pt x="23" y="153"/>
                      </a:lnTo>
                      <a:lnTo>
                        <a:pt x="21" y="128"/>
                      </a:lnTo>
                      <a:lnTo>
                        <a:pt x="23" y="101"/>
                      </a:lnTo>
                      <a:lnTo>
                        <a:pt x="30" y="77"/>
                      </a:lnTo>
                      <a:lnTo>
                        <a:pt x="42" y="55"/>
                      </a:lnTo>
                      <a:lnTo>
                        <a:pt x="60" y="36"/>
                      </a:lnTo>
                      <a:lnTo>
                        <a:pt x="77" y="20"/>
                      </a:lnTo>
                      <a:lnTo>
                        <a:pt x="98" y="9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96000" y="2739240"/>
                  <a:ext cx="104400" cy="94680"/>
                </a:xfrm>
                <a:custGeom>
                  <a:avLst/>
                  <a:gdLst/>
                  <a:ahLst/>
                  <a:rect l="l" t="t" r="r" b="b"/>
                  <a:pathLst>
                    <a:path w="367" h="331">
                      <a:moveTo>
                        <a:pt x="73" y="15"/>
                      </a:moveTo>
                      <a:lnTo>
                        <a:pt x="84" y="3"/>
                      </a:lnTo>
                      <a:lnTo>
                        <a:pt x="57" y="0"/>
                      </a:lnTo>
                      <a:lnTo>
                        <a:pt x="42" y="13"/>
                      </a:lnTo>
                      <a:lnTo>
                        <a:pt x="31" y="29"/>
                      </a:lnTo>
                      <a:lnTo>
                        <a:pt x="14" y="62"/>
                      </a:lnTo>
                      <a:lnTo>
                        <a:pt x="4" y="97"/>
                      </a:lnTo>
                      <a:lnTo>
                        <a:pt x="0" y="137"/>
                      </a:lnTo>
                      <a:lnTo>
                        <a:pt x="0" y="155"/>
                      </a:lnTo>
                      <a:lnTo>
                        <a:pt x="4" y="174"/>
                      </a:lnTo>
                      <a:lnTo>
                        <a:pt x="7" y="193"/>
                      </a:lnTo>
                      <a:lnTo>
                        <a:pt x="14" y="211"/>
                      </a:lnTo>
                      <a:lnTo>
                        <a:pt x="21" y="227"/>
                      </a:lnTo>
                      <a:lnTo>
                        <a:pt x="31" y="244"/>
                      </a:lnTo>
                      <a:lnTo>
                        <a:pt x="42" y="258"/>
                      </a:lnTo>
                      <a:lnTo>
                        <a:pt x="57" y="274"/>
                      </a:lnTo>
                      <a:lnTo>
                        <a:pt x="71" y="287"/>
                      </a:lnTo>
                      <a:lnTo>
                        <a:pt x="87" y="298"/>
                      </a:lnTo>
                      <a:lnTo>
                        <a:pt x="103" y="308"/>
                      </a:lnTo>
                      <a:lnTo>
                        <a:pt x="120" y="316"/>
                      </a:lnTo>
                      <a:lnTo>
                        <a:pt x="137" y="322"/>
                      </a:lnTo>
                      <a:lnTo>
                        <a:pt x="156" y="326"/>
                      </a:lnTo>
                      <a:lnTo>
                        <a:pt x="175" y="330"/>
                      </a:lnTo>
                      <a:lnTo>
                        <a:pt x="195" y="331"/>
                      </a:lnTo>
                      <a:lnTo>
                        <a:pt x="214" y="330"/>
                      </a:lnTo>
                      <a:lnTo>
                        <a:pt x="223" y="328"/>
                      </a:lnTo>
                      <a:lnTo>
                        <a:pt x="227" y="326"/>
                      </a:lnTo>
                      <a:lnTo>
                        <a:pt x="233" y="326"/>
                      </a:lnTo>
                      <a:lnTo>
                        <a:pt x="251" y="322"/>
                      </a:lnTo>
                      <a:lnTo>
                        <a:pt x="269" y="316"/>
                      </a:lnTo>
                      <a:lnTo>
                        <a:pt x="285" y="308"/>
                      </a:lnTo>
                      <a:lnTo>
                        <a:pt x="286" y="306"/>
                      </a:lnTo>
                      <a:lnTo>
                        <a:pt x="288" y="305"/>
                      </a:lnTo>
                      <a:lnTo>
                        <a:pt x="293" y="303"/>
                      </a:lnTo>
                      <a:lnTo>
                        <a:pt x="302" y="298"/>
                      </a:lnTo>
                      <a:lnTo>
                        <a:pt x="317" y="287"/>
                      </a:lnTo>
                      <a:lnTo>
                        <a:pt x="333" y="274"/>
                      </a:lnTo>
                      <a:lnTo>
                        <a:pt x="351" y="252"/>
                      </a:lnTo>
                      <a:lnTo>
                        <a:pt x="367" y="229"/>
                      </a:lnTo>
                      <a:lnTo>
                        <a:pt x="355" y="204"/>
                      </a:lnTo>
                      <a:lnTo>
                        <a:pt x="347" y="218"/>
                      </a:lnTo>
                      <a:lnTo>
                        <a:pt x="343" y="224"/>
                      </a:lnTo>
                      <a:lnTo>
                        <a:pt x="341" y="228"/>
                      </a:lnTo>
                      <a:lnTo>
                        <a:pt x="339" y="232"/>
                      </a:lnTo>
                      <a:lnTo>
                        <a:pt x="336" y="235"/>
                      </a:lnTo>
                      <a:lnTo>
                        <a:pt x="334" y="238"/>
                      </a:lnTo>
                      <a:lnTo>
                        <a:pt x="329" y="245"/>
                      </a:lnTo>
                      <a:lnTo>
                        <a:pt x="318" y="258"/>
                      </a:lnTo>
                      <a:lnTo>
                        <a:pt x="303" y="270"/>
                      </a:lnTo>
                      <a:lnTo>
                        <a:pt x="290" y="280"/>
                      </a:lnTo>
                      <a:lnTo>
                        <a:pt x="285" y="281"/>
                      </a:lnTo>
                      <a:lnTo>
                        <a:pt x="282" y="283"/>
                      </a:lnTo>
                      <a:lnTo>
                        <a:pt x="275" y="288"/>
                      </a:lnTo>
                      <a:lnTo>
                        <a:pt x="261" y="296"/>
                      </a:lnTo>
                      <a:lnTo>
                        <a:pt x="252" y="298"/>
                      </a:lnTo>
                      <a:lnTo>
                        <a:pt x="248" y="299"/>
                      </a:lnTo>
                      <a:lnTo>
                        <a:pt x="244" y="301"/>
                      </a:lnTo>
                      <a:lnTo>
                        <a:pt x="228" y="306"/>
                      </a:lnTo>
                      <a:lnTo>
                        <a:pt x="211" y="308"/>
                      </a:lnTo>
                      <a:lnTo>
                        <a:pt x="195" y="309"/>
                      </a:lnTo>
                      <a:lnTo>
                        <a:pt x="177" y="308"/>
                      </a:lnTo>
                      <a:lnTo>
                        <a:pt x="160" y="306"/>
                      </a:lnTo>
                      <a:lnTo>
                        <a:pt x="143" y="301"/>
                      </a:lnTo>
                      <a:lnTo>
                        <a:pt x="129" y="296"/>
                      </a:lnTo>
                      <a:lnTo>
                        <a:pt x="113" y="288"/>
                      </a:lnTo>
                      <a:lnTo>
                        <a:pt x="99" y="280"/>
                      </a:lnTo>
                      <a:lnTo>
                        <a:pt x="86" y="270"/>
                      </a:lnTo>
                      <a:lnTo>
                        <a:pt x="73" y="258"/>
                      </a:lnTo>
                      <a:lnTo>
                        <a:pt x="59" y="245"/>
                      </a:lnTo>
                      <a:lnTo>
                        <a:pt x="49" y="231"/>
                      </a:lnTo>
                      <a:lnTo>
                        <a:pt x="40" y="216"/>
                      </a:lnTo>
                      <a:lnTo>
                        <a:pt x="34" y="203"/>
                      </a:lnTo>
                      <a:lnTo>
                        <a:pt x="28" y="186"/>
                      </a:lnTo>
                      <a:lnTo>
                        <a:pt x="24" y="170"/>
                      </a:lnTo>
                      <a:lnTo>
                        <a:pt x="22" y="153"/>
                      </a:lnTo>
                      <a:lnTo>
                        <a:pt x="22" y="137"/>
                      </a:lnTo>
                      <a:lnTo>
                        <a:pt x="24" y="102"/>
                      </a:lnTo>
                      <a:lnTo>
                        <a:pt x="28" y="85"/>
                      </a:lnTo>
                      <a:lnTo>
                        <a:pt x="34" y="70"/>
                      </a:lnTo>
                      <a:lnTo>
                        <a:pt x="40" y="54"/>
                      </a:lnTo>
                      <a:lnTo>
                        <a:pt x="49" y="41"/>
                      </a:lnTo>
                      <a:lnTo>
                        <a:pt x="73" y="15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83400" y="2738880"/>
                  <a:ext cx="122400" cy="108000"/>
                </a:xfrm>
                <a:custGeom>
                  <a:avLst/>
                  <a:gdLst/>
                  <a:ahLst/>
                  <a:rect l="l" t="t" r="r" b="b"/>
                  <a:pathLst>
                    <a:path w="428" h="376">
                      <a:moveTo>
                        <a:pt x="56" y="0"/>
                      </a:moveTo>
                      <a:lnTo>
                        <a:pt x="45" y="0"/>
                      </a:lnTo>
                      <a:lnTo>
                        <a:pt x="24" y="30"/>
                      </a:lnTo>
                      <a:lnTo>
                        <a:pt x="16" y="46"/>
                      </a:lnTo>
                      <a:lnTo>
                        <a:pt x="11" y="64"/>
                      </a:lnTo>
                      <a:lnTo>
                        <a:pt x="3" y="99"/>
                      </a:lnTo>
                      <a:lnTo>
                        <a:pt x="0" y="139"/>
                      </a:lnTo>
                      <a:lnTo>
                        <a:pt x="0" y="162"/>
                      </a:lnTo>
                      <a:lnTo>
                        <a:pt x="4" y="186"/>
                      </a:lnTo>
                      <a:lnTo>
                        <a:pt x="9" y="207"/>
                      </a:lnTo>
                      <a:lnTo>
                        <a:pt x="17" y="230"/>
                      </a:lnTo>
                      <a:lnTo>
                        <a:pt x="25" y="249"/>
                      </a:lnTo>
                      <a:lnTo>
                        <a:pt x="38" y="269"/>
                      </a:lnTo>
                      <a:lnTo>
                        <a:pt x="53" y="288"/>
                      </a:lnTo>
                      <a:lnTo>
                        <a:pt x="70" y="307"/>
                      </a:lnTo>
                      <a:lnTo>
                        <a:pt x="87" y="322"/>
                      </a:lnTo>
                      <a:lnTo>
                        <a:pt x="106" y="336"/>
                      </a:lnTo>
                      <a:lnTo>
                        <a:pt x="125" y="348"/>
                      </a:lnTo>
                      <a:lnTo>
                        <a:pt x="147" y="358"/>
                      </a:lnTo>
                      <a:lnTo>
                        <a:pt x="167" y="366"/>
                      </a:lnTo>
                      <a:lnTo>
                        <a:pt x="190" y="371"/>
                      </a:lnTo>
                      <a:lnTo>
                        <a:pt x="214" y="375"/>
                      </a:lnTo>
                      <a:lnTo>
                        <a:pt x="238" y="376"/>
                      </a:lnTo>
                      <a:lnTo>
                        <a:pt x="261" y="375"/>
                      </a:lnTo>
                      <a:lnTo>
                        <a:pt x="273" y="373"/>
                      </a:lnTo>
                      <a:lnTo>
                        <a:pt x="275" y="371"/>
                      </a:lnTo>
                      <a:lnTo>
                        <a:pt x="278" y="371"/>
                      </a:lnTo>
                      <a:lnTo>
                        <a:pt x="285" y="371"/>
                      </a:lnTo>
                      <a:lnTo>
                        <a:pt x="290" y="369"/>
                      </a:lnTo>
                      <a:lnTo>
                        <a:pt x="292" y="368"/>
                      </a:lnTo>
                      <a:lnTo>
                        <a:pt x="295" y="368"/>
                      </a:lnTo>
                      <a:lnTo>
                        <a:pt x="307" y="366"/>
                      </a:lnTo>
                      <a:lnTo>
                        <a:pt x="329" y="358"/>
                      </a:lnTo>
                      <a:lnTo>
                        <a:pt x="338" y="352"/>
                      </a:lnTo>
                      <a:lnTo>
                        <a:pt x="348" y="348"/>
                      </a:lnTo>
                      <a:lnTo>
                        <a:pt x="369" y="336"/>
                      </a:lnTo>
                      <a:lnTo>
                        <a:pt x="387" y="322"/>
                      </a:lnTo>
                      <a:lnTo>
                        <a:pt x="396" y="314"/>
                      </a:lnTo>
                      <a:lnTo>
                        <a:pt x="406" y="307"/>
                      </a:lnTo>
                      <a:lnTo>
                        <a:pt x="411" y="300"/>
                      </a:lnTo>
                      <a:lnTo>
                        <a:pt x="413" y="297"/>
                      </a:lnTo>
                      <a:lnTo>
                        <a:pt x="417" y="294"/>
                      </a:lnTo>
                      <a:lnTo>
                        <a:pt x="428" y="282"/>
                      </a:lnTo>
                      <a:lnTo>
                        <a:pt x="420" y="256"/>
                      </a:lnTo>
                      <a:lnTo>
                        <a:pt x="415" y="259"/>
                      </a:lnTo>
                      <a:lnTo>
                        <a:pt x="412" y="264"/>
                      </a:lnTo>
                      <a:lnTo>
                        <a:pt x="405" y="273"/>
                      </a:lnTo>
                      <a:lnTo>
                        <a:pt x="390" y="291"/>
                      </a:lnTo>
                      <a:lnTo>
                        <a:pt x="381" y="298"/>
                      </a:lnTo>
                      <a:lnTo>
                        <a:pt x="377" y="301"/>
                      </a:lnTo>
                      <a:lnTo>
                        <a:pt x="373" y="306"/>
                      </a:lnTo>
                      <a:lnTo>
                        <a:pt x="364" y="311"/>
                      </a:lnTo>
                      <a:lnTo>
                        <a:pt x="356" y="318"/>
                      </a:lnTo>
                      <a:lnTo>
                        <a:pt x="338" y="328"/>
                      </a:lnTo>
                      <a:lnTo>
                        <a:pt x="320" y="339"/>
                      </a:lnTo>
                      <a:lnTo>
                        <a:pt x="300" y="344"/>
                      </a:lnTo>
                      <a:lnTo>
                        <a:pt x="290" y="347"/>
                      </a:lnTo>
                      <a:lnTo>
                        <a:pt x="280" y="350"/>
                      </a:lnTo>
                      <a:lnTo>
                        <a:pt x="269" y="351"/>
                      </a:lnTo>
                      <a:lnTo>
                        <a:pt x="259" y="353"/>
                      </a:lnTo>
                      <a:lnTo>
                        <a:pt x="238" y="354"/>
                      </a:lnTo>
                      <a:lnTo>
                        <a:pt x="216" y="353"/>
                      </a:lnTo>
                      <a:lnTo>
                        <a:pt x="194" y="350"/>
                      </a:lnTo>
                      <a:lnTo>
                        <a:pt x="174" y="344"/>
                      </a:lnTo>
                      <a:lnTo>
                        <a:pt x="155" y="339"/>
                      </a:lnTo>
                      <a:lnTo>
                        <a:pt x="135" y="328"/>
                      </a:lnTo>
                      <a:lnTo>
                        <a:pt x="118" y="318"/>
                      </a:lnTo>
                      <a:lnTo>
                        <a:pt x="101" y="306"/>
                      </a:lnTo>
                      <a:lnTo>
                        <a:pt x="85" y="291"/>
                      </a:lnTo>
                      <a:lnTo>
                        <a:pt x="70" y="274"/>
                      </a:lnTo>
                      <a:lnTo>
                        <a:pt x="57" y="257"/>
                      </a:lnTo>
                      <a:lnTo>
                        <a:pt x="46" y="239"/>
                      </a:lnTo>
                      <a:lnTo>
                        <a:pt x="38" y="221"/>
                      </a:lnTo>
                      <a:lnTo>
                        <a:pt x="30" y="200"/>
                      </a:lnTo>
                      <a:lnTo>
                        <a:pt x="25" y="181"/>
                      </a:lnTo>
                      <a:lnTo>
                        <a:pt x="22" y="159"/>
                      </a:lnTo>
                      <a:lnTo>
                        <a:pt x="22" y="139"/>
                      </a:lnTo>
                      <a:lnTo>
                        <a:pt x="24" y="99"/>
                      </a:lnTo>
                      <a:lnTo>
                        <a:pt x="28" y="80"/>
                      </a:lnTo>
                      <a:lnTo>
                        <a:pt x="34" y="63"/>
                      </a:lnTo>
                      <a:lnTo>
                        <a:pt x="49" y="30"/>
                      </a:lnTo>
                      <a:lnTo>
                        <a:pt x="73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789520" y="2738880"/>
                  <a:ext cx="113760" cy="101520"/>
                </a:xfrm>
                <a:custGeom>
                  <a:avLst/>
                  <a:gdLst/>
                  <a:ahLst/>
                  <a:rect l="l" t="t" r="r" b="b"/>
                  <a:pathLst>
                    <a:path w="398" h="354">
                      <a:moveTo>
                        <a:pt x="78" y="2"/>
                      </a:moveTo>
                      <a:lnTo>
                        <a:pt x="51" y="0"/>
                      </a:lnTo>
                      <a:lnTo>
                        <a:pt x="27" y="30"/>
                      </a:lnTo>
                      <a:lnTo>
                        <a:pt x="12" y="63"/>
                      </a:lnTo>
                      <a:lnTo>
                        <a:pt x="6" y="80"/>
                      </a:lnTo>
                      <a:lnTo>
                        <a:pt x="2" y="99"/>
                      </a:lnTo>
                      <a:lnTo>
                        <a:pt x="0" y="139"/>
                      </a:lnTo>
                      <a:lnTo>
                        <a:pt x="0" y="159"/>
                      </a:lnTo>
                      <a:lnTo>
                        <a:pt x="3" y="181"/>
                      </a:lnTo>
                      <a:lnTo>
                        <a:pt x="8" y="200"/>
                      </a:lnTo>
                      <a:lnTo>
                        <a:pt x="16" y="221"/>
                      </a:lnTo>
                      <a:lnTo>
                        <a:pt x="24" y="239"/>
                      </a:lnTo>
                      <a:lnTo>
                        <a:pt x="35" y="257"/>
                      </a:lnTo>
                      <a:lnTo>
                        <a:pt x="48" y="274"/>
                      </a:lnTo>
                      <a:lnTo>
                        <a:pt x="63" y="291"/>
                      </a:lnTo>
                      <a:lnTo>
                        <a:pt x="79" y="306"/>
                      </a:lnTo>
                      <a:lnTo>
                        <a:pt x="96" y="318"/>
                      </a:lnTo>
                      <a:lnTo>
                        <a:pt x="113" y="328"/>
                      </a:lnTo>
                      <a:lnTo>
                        <a:pt x="133" y="339"/>
                      </a:lnTo>
                      <a:lnTo>
                        <a:pt x="152" y="344"/>
                      </a:lnTo>
                      <a:lnTo>
                        <a:pt x="172" y="350"/>
                      </a:lnTo>
                      <a:lnTo>
                        <a:pt x="194" y="353"/>
                      </a:lnTo>
                      <a:lnTo>
                        <a:pt x="216" y="354"/>
                      </a:lnTo>
                      <a:lnTo>
                        <a:pt x="237" y="353"/>
                      </a:lnTo>
                      <a:lnTo>
                        <a:pt x="247" y="351"/>
                      </a:lnTo>
                      <a:lnTo>
                        <a:pt x="258" y="350"/>
                      </a:lnTo>
                      <a:lnTo>
                        <a:pt x="268" y="347"/>
                      </a:lnTo>
                      <a:lnTo>
                        <a:pt x="278" y="344"/>
                      </a:lnTo>
                      <a:lnTo>
                        <a:pt x="298" y="339"/>
                      </a:lnTo>
                      <a:lnTo>
                        <a:pt x="316" y="328"/>
                      </a:lnTo>
                      <a:lnTo>
                        <a:pt x="334" y="318"/>
                      </a:lnTo>
                      <a:lnTo>
                        <a:pt x="342" y="311"/>
                      </a:lnTo>
                      <a:lnTo>
                        <a:pt x="351" y="306"/>
                      </a:lnTo>
                      <a:lnTo>
                        <a:pt x="355" y="301"/>
                      </a:lnTo>
                      <a:lnTo>
                        <a:pt x="359" y="298"/>
                      </a:lnTo>
                      <a:lnTo>
                        <a:pt x="368" y="291"/>
                      </a:lnTo>
                      <a:lnTo>
                        <a:pt x="383" y="273"/>
                      </a:lnTo>
                      <a:lnTo>
                        <a:pt x="390" y="264"/>
                      </a:lnTo>
                      <a:lnTo>
                        <a:pt x="393" y="259"/>
                      </a:lnTo>
                      <a:lnTo>
                        <a:pt x="398" y="256"/>
                      </a:lnTo>
                      <a:lnTo>
                        <a:pt x="388" y="231"/>
                      </a:lnTo>
                      <a:lnTo>
                        <a:pt x="372" y="254"/>
                      </a:lnTo>
                      <a:lnTo>
                        <a:pt x="354" y="276"/>
                      </a:lnTo>
                      <a:lnTo>
                        <a:pt x="338" y="289"/>
                      </a:lnTo>
                      <a:lnTo>
                        <a:pt x="323" y="300"/>
                      </a:lnTo>
                      <a:lnTo>
                        <a:pt x="314" y="305"/>
                      </a:lnTo>
                      <a:lnTo>
                        <a:pt x="309" y="307"/>
                      </a:lnTo>
                      <a:lnTo>
                        <a:pt x="307" y="308"/>
                      </a:lnTo>
                      <a:lnTo>
                        <a:pt x="306" y="310"/>
                      </a:lnTo>
                      <a:lnTo>
                        <a:pt x="290" y="318"/>
                      </a:lnTo>
                      <a:lnTo>
                        <a:pt x="272" y="324"/>
                      </a:lnTo>
                      <a:lnTo>
                        <a:pt x="254" y="328"/>
                      </a:lnTo>
                      <a:lnTo>
                        <a:pt x="248" y="328"/>
                      </a:lnTo>
                      <a:lnTo>
                        <a:pt x="244" y="330"/>
                      </a:lnTo>
                      <a:lnTo>
                        <a:pt x="235" y="332"/>
                      </a:lnTo>
                      <a:lnTo>
                        <a:pt x="216" y="333"/>
                      </a:lnTo>
                      <a:lnTo>
                        <a:pt x="196" y="332"/>
                      </a:lnTo>
                      <a:lnTo>
                        <a:pt x="177" y="328"/>
                      </a:lnTo>
                      <a:lnTo>
                        <a:pt x="158" y="324"/>
                      </a:lnTo>
                      <a:lnTo>
                        <a:pt x="141" y="318"/>
                      </a:lnTo>
                      <a:lnTo>
                        <a:pt x="124" y="310"/>
                      </a:lnTo>
                      <a:lnTo>
                        <a:pt x="108" y="300"/>
                      </a:lnTo>
                      <a:lnTo>
                        <a:pt x="92" y="289"/>
                      </a:lnTo>
                      <a:lnTo>
                        <a:pt x="78" y="276"/>
                      </a:lnTo>
                      <a:lnTo>
                        <a:pt x="63" y="260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3"/>
                      </a:lnTo>
                      <a:lnTo>
                        <a:pt x="28" y="195"/>
                      </a:lnTo>
                      <a:lnTo>
                        <a:pt x="25" y="176"/>
                      </a:lnTo>
                      <a:lnTo>
                        <a:pt x="21" y="157"/>
                      </a:lnTo>
                      <a:lnTo>
                        <a:pt x="21" y="139"/>
                      </a:lnTo>
                      <a:lnTo>
                        <a:pt x="25" y="99"/>
                      </a:lnTo>
                      <a:lnTo>
                        <a:pt x="35" y="64"/>
                      </a:lnTo>
                      <a:lnTo>
                        <a:pt x="52" y="31"/>
                      </a:lnTo>
                      <a:lnTo>
                        <a:pt x="63" y="15"/>
                      </a:lnTo>
                      <a:lnTo>
                        <a:pt x="78" y="2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814360" y="2745000"/>
                  <a:ext cx="73800" cy="70560"/>
                </a:xfrm>
                <a:custGeom>
                  <a:avLst/>
                  <a:gdLst/>
                  <a:ahLst/>
                  <a:rect l="l" t="t" r="r" b="b"/>
                  <a:pathLst>
                    <a:path w="259" h="248">
                      <a:moveTo>
                        <a:pt x="22" y="119"/>
                      </a:moveTo>
                      <a:lnTo>
                        <a:pt x="23" y="96"/>
                      </a:lnTo>
                      <a:lnTo>
                        <a:pt x="30" y="77"/>
                      </a:lnTo>
                      <a:lnTo>
                        <a:pt x="39" y="58"/>
                      </a:lnTo>
                      <a:lnTo>
                        <a:pt x="53" y="42"/>
                      </a:lnTo>
                      <a:lnTo>
                        <a:pt x="65" y="29"/>
                      </a:lnTo>
                      <a:lnTo>
                        <a:pt x="78" y="22"/>
                      </a:lnTo>
                      <a:lnTo>
                        <a:pt x="92" y="16"/>
                      </a:lnTo>
                      <a:lnTo>
                        <a:pt x="108" y="12"/>
                      </a:lnTo>
                      <a:lnTo>
                        <a:pt x="77" y="0"/>
                      </a:lnTo>
                      <a:lnTo>
                        <a:pt x="56" y="11"/>
                      </a:lnTo>
                      <a:lnTo>
                        <a:pt x="39" y="27"/>
                      </a:lnTo>
                      <a:lnTo>
                        <a:pt x="21" y="46"/>
                      </a:lnTo>
                      <a:lnTo>
                        <a:pt x="9" y="68"/>
                      </a:lnTo>
                      <a:lnTo>
                        <a:pt x="2" y="92"/>
                      </a:lnTo>
                      <a:lnTo>
                        <a:pt x="0" y="119"/>
                      </a:lnTo>
                      <a:lnTo>
                        <a:pt x="2" y="144"/>
                      </a:lnTo>
                      <a:lnTo>
                        <a:pt x="5" y="155"/>
                      </a:lnTo>
                      <a:lnTo>
                        <a:pt x="9" y="168"/>
                      </a:lnTo>
                      <a:lnTo>
                        <a:pt x="14" y="178"/>
                      </a:lnTo>
                      <a:lnTo>
                        <a:pt x="21" y="189"/>
                      </a:lnTo>
                      <a:lnTo>
                        <a:pt x="39" y="210"/>
                      </a:lnTo>
                      <a:lnTo>
                        <a:pt x="58" y="226"/>
                      </a:lnTo>
                      <a:lnTo>
                        <a:pt x="68" y="232"/>
                      </a:lnTo>
                      <a:lnTo>
                        <a:pt x="79" y="238"/>
                      </a:lnTo>
                      <a:lnTo>
                        <a:pt x="103" y="245"/>
                      </a:lnTo>
                      <a:lnTo>
                        <a:pt x="117" y="247"/>
                      </a:lnTo>
                      <a:lnTo>
                        <a:pt x="130" y="248"/>
                      </a:lnTo>
                      <a:lnTo>
                        <a:pt x="142" y="247"/>
                      </a:lnTo>
                      <a:lnTo>
                        <a:pt x="155" y="245"/>
                      </a:lnTo>
                      <a:lnTo>
                        <a:pt x="167" y="242"/>
                      </a:lnTo>
                      <a:lnTo>
                        <a:pt x="172" y="239"/>
                      </a:lnTo>
                      <a:lnTo>
                        <a:pt x="179" y="238"/>
                      </a:lnTo>
                      <a:lnTo>
                        <a:pt x="184" y="235"/>
                      </a:lnTo>
                      <a:lnTo>
                        <a:pt x="189" y="232"/>
                      </a:lnTo>
                      <a:lnTo>
                        <a:pt x="201" y="226"/>
                      </a:lnTo>
                      <a:lnTo>
                        <a:pt x="205" y="221"/>
                      </a:lnTo>
                      <a:lnTo>
                        <a:pt x="208" y="219"/>
                      </a:lnTo>
                      <a:lnTo>
                        <a:pt x="208" y="218"/>
                      </a:lnTo>
                      <a:lnTo>
                        <a:pt x="209" y="218"/>
                      </a:lnTo>
                      <a:lnTo>
                        <a:pt x="211" y="218"/>
                      </a:lnTo>
                      <a:lnTo>
                        <a:pt x="222" y="210"/>
                      </a:lnTo>
                      <a:lnTo>
                        <a:pt x="228" y="201"/>
                      </a:lnTo>
                      <a:lnTo>
                        <a:pt x="235" y="193"/>
                      </a:lnTo>
                      <a:lnTo>
                        <a:pt x="246" y="175"/>
                      </a:lnTo>
                      <a:lnTo>
                        <a:pt x="246" y="171"/>
                      </a:lnTo>
                      <a:lnTo>
                        <a:pt x="247" y="169"/>
                      </a:lnTo>
                      <a:lnTo>
                        <a:pt x="250" y="164"/>
                      </a:lnTo>
                      <a:lnTo>
                        <a:pt x="253" y="155"/>
                      </a:lnTo>
                      <a:lnTo>
                        <a:pt x="255" y="145"/>
                      </a:lnTo>
                      <a:lnTo>
                        <a:pt x="259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6" y="139"/>
                      </a:lnTo>
                      <a:lnTo>
                        <a:pt x="230" y="160"/>
                      </a:lnTo>
                      <a:lnTo>
                        <a:pt x="220" y="178"/>
                      </a:lnTo>
                      <a:lnTo>
                        <a:pt x="213" y="186"/>
                      </a:lnTo>
                      <a:lnTo>
                        <a:pt x="206" y="195"/>
                      </a:lnTo>
                      <a:lnTo>
                        <a:pt x="197" y="202"/>
                      </a:lnTo>
                      <a:lnTo>
                        <a:pt x="189" y="209"/>
                      </a:lnTo>
                      <a:lnTo>
                        <a:pt x="171" y="219"/>
                      </a:lnTo>
                      <a:lnTo>
                        <a:pt x="151" y="225"/>
                      </a:lnTo>
                      <a:lnTo>
                        <a:pt x="130" y="227"/>
                      </a:lnTo>
                      <a:lnTo>
                        <a:pt x="108" y="225"/>
                      </a:lnTo>
                      <a:lnTo>
                        <a:pt x="89" y="219"/>
                      </a:lnTo>
                      <a:lnTo>
                        <a:pt x="69" y="209"/>
                      </a:lnTo>
                      <a:lnTo>
                        <a:pt x="53" y="195"/>
                      </a:lnTo>
                      <a:lnTo>
                        <a:pt x="39" y="178"/>
                      </a:lnTo>
                      <a:lnTo>
                        <a:pt x="30" y="160"/>
                      </a:lnTo>
                      <a:lnTo>
                        <a:pt x="23" y="139"/>
                      </a:lnTo>
                      <a:lnTo>
                        <a:pt x="22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820480" y="274860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6" h="215">
                      <a:moveTo>
                        <a:pt x="31" y="30"/>
                      </a:moveTo>
                      <a:lnTo>
                        <a:pt x="17" y="46"/>
                      </a:lnTo>
                      <a:lnTo>
                        <a:pt x="8" y="65"/>
                      </a:lnTo>
                      <a:lnTo>
                        <a:pt x="1" y="84"/>
                      </a:lnTo>
                      <a:lnTo>
                        <a:pt x="0" y="107"/>
                      </a:lnTo>
                      <a:lnTo>
                        <a:pt x="1" y="127"/>
                      </a:lnTo>
                      <a:lnTo>
                        <a:pt x="8" y="148"/>
                      </a:lnTo>
                      <a:lnTo>
                        <a:pt x="17" y="166"/>
                      </a:lnTo>
                      <a:lnTo>
                        <a:pt x="31" y="183"/>
                      </a:lnTo>
                      <a:lnTo>
                        <a:pt x="47" y="197"/>
                      </a:lnTo>
                      <a:lnTo>
                        <a:pt x="67" y="207"/>
                      </a:lnTo>
                      <a:lnTo>
                        <a:pt x="86" y="213"/>
                      </a:lnTo>
                      <a:lnTo>
                        <a:pt x="108" y="215"/>
                      </a:lnTo>
                      <a:lnTo>
                        <a:pt x="129" y="213"/>
                      </a:lnTo>
                      <a:lnTo>
                        <a:pt x="149" y="207"/>
                      </a:lnTo>
                      <a:lnTo>
                        <a:pt x="167" y="197"/>
                      </a:lnTo>
                      <a:lnTo>
                        <a:pt x="175" y="190"/>
                      </a:lnTo>
                      <a:lnTo>
                        <a:pt x="184" y="183"/>
                      </a:lnTo>
                      <a:lnTo>
                        <a:pt x="191" y="174"/>
                      </a:lnTo>
                      <a:lnTo>
                        <a:pt x="198" y="166"/>
                      </a:lnTo>
                      <a:lnTo>
                        <a:pt x="208" y="148"/>
                      </a:lnTo>
                      <a:lnTo>
                        <a:pt x="214" y="127"/>
                      </a:lnTo>
                      <a:lnTo>
                        <a:pt x="216" y="107"/>
                      </a:lnTo>
                      <a:lnTo>
                        <a:pt x="216" y="99"/>
                      </a:lnTo>
                      <a:lnTo>
                        <a:pt x="198" y="80"/>
                      </a:lnTo>
                      <a:lnTo>
                        <a:pt x="191" y="73"/>
                      </a:lnTo>
                      <a:lnTo>
                        <a:pt x="189" y="71"/>
                      </a:lnTo>
                      <a:lnTo>
                        <a:pt x="188" y="70"/>
                      </a:lnTo>
                      <a:lnTo>
                        <a:pt x="186" y="67"/>
                      </a:lnTo>
                      <a:lnTo>
                        <a:pt x="192" y="86"/>
                      </a:lnTo>
                      <a:lnTo>
                        <a:pt x="195" y="107"/>
                      </a:lnTo>
                      <a:lnTo>
                        <a:pt x="192" y="123"/>
                      </a:lnTo>
                      <a:lnTo>
                        <a:pt x="188" y="139"/>
                      </a:lnTo>
                      <a:lnTo>
                        <a:pt x="183" y="146"/>
                      </a:lnTo>
                      <a:lnTo>
                        <a:pt x="181" y="149"/>
                      </a:lnTo>
                      <a:lnTo>
                        <a:pt x="180" y="154"/>
                      </a:lnTo>
                      <a:lnTo>
                        <a:pt x="170" y="167"/>
                      </a:lnTo>
                      <a:lnTo>
                        <a:pt x="162" y="172"/>
                      </a:lnTo>
                      <a:lnTo>
                        <a:pt x="155" y="177"/>
                      </a:lnTo>
                      <a:lnTo>
                        <a:pt x="147" y="182"/>
                      </a:lnTo>
                      <a:lnTo>
                        <a:pt x="140" y="186"/>
                      </a:lnTo>
                      <a:lnTo>
                        <a:pt x="124" y="191"/>
                      </a:lnTo>
                      <a:lnTo>
                        <a:pt x="108" y="193"/>
                      </a:lnTo>
                      <a:lnTo>
                        <a:pt x="90" y="191"/>
                      </a:lnTo>
                      <a:lnTo>
                        <a:pt x="74" y="186"/>
                      </a:lnTo>
                      <a:lnTo>
                        <a:pt x="60" y="177"/>
                      </a:lnTo>
                      <a:lnTo>
                        <a:pt x="47" y="167"/>
                      </a:lnTo>
                      <a:lnTo>
                        <a:pt x="36" y="154"/>
                      </a:lnTo>
                      <a:lnTo>
                        <a:pt x="28" y="139"/>
                      </a:lnTo>
                      <a:lnTo>
                        <a:pt x="23" y="123"/>
                      </a:lnTo>
                      <a:lnTo>
                        <a:pt x="22" y="107"/>
                      </a:lnTo>
                      <a:lnTo>
                        <a:pt x="23" y="89"/>
                      </a:lnTo>
                      <a:lnTo>
                        <a:pt x="28" y="73"/>
                      </a:lnTo>
                      <a:lnTo>
                        <a:pt x="36" y="58"/>
                      </a:lnTo>
                      <a:lnTo>
                        <a:pt x="47" y="46"/>
                      </a:lnTo>
                      <a:lnTo>
                        <a:pt x="60" y="33"/>
                      </a:lnTo>
                      <a:lnTo>
                        <a:pt x="74" y="25"/>
                      </a:lnTo>
                      <a:lnTo>
                        <a:pt x="90" y="21"/>
                      </a:lnTo>
                      <a:lnTo>
                        <a:pt x="108" y="20"/>
                      </a:lnTo>
                      <a:lnTo>
                        <a:pt x="116" y="20"/>
                      </a:lnTo>
                      <a:lnTo>
                        <a:pt x="125" y="22"/>
                      </a:lnTo>
                      <a:lnTo>
                        <a:pt x="105" y="10"/>
                      </a:lnTo>
                      <a:lnTo>
                        <a:pt x="86" y="0"/>
                      </a:lnTo>
                      <a:lnTo>
                        <a:pt x="70" y="4"/>
                      </a:lnTo>
                      <a:lnTo>
                        <a:pt x="56" y="10"/>
                      </a:lnTo>
                      <a:lnTo>
                        <a:pt x="43" y="17"/>
                      </a:lnTo>
                      <a:lnTo>
                        <a:pt x="31" y="30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826960" y="2753640"/>
                  <a:ext cx="48960" cy="49320"/>
                </a:xfrm>
                <a:custGeom>
                  <a:avLst/>
                  <a:gdLst/>
                  <a:ahLst/>
                  <a:rect l="l" t="t" r="r" b="b"/>
                  <a:pathLst>
                    <a:path w="173" h="173">
                      <a:moveTo>
                        <a:pt x="103" y="2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1"/>
                      </a:lnTo>
                      <a:lnTo>
                        <a:pt x="52" y="5"/>
                      </a:lnTo>
                      <a:lnTo>
                        <a:pt x="38" y="13"/>
                      </a:lnTo>
                      <a:lnTo>
                        <a:pt x="25" y="26"/>
                      </a:lnTo>
                      <a:lnTo>
                        <a:pt x="14" y="38"/>
                      </a:lnTo>
                      <a:lnTo>
                        <a:pt x="6" y="53"/>
                      </a:lnTo>
                      <a:lnTo>
                        <a:pt x="1" y="69"/>
                      </a:lnTo>
                      <a:lnTo>
                        <a:pt x="0" y="87"/>
                      </a:lnTo>
                      <a:lnTo>
                        <a:pt x="1" y="103"/>
                      </a:lnTo>
                      <a:lnTo>
                        <a:pt x="6" y="119"/>
                      </a:lnTo>
                      <a:lnTo>
                        <a:pt x="14" y="134"/>
                      </a:lnTo>
                      <a:lnTo>
                        <a:pt x="25" y="147"/>
                      </a:lnTo>
                      <a:lnTo>
                        <a:pt x="38" y="157"/>
                      </a:lnTo>
                      <a:lnTo>
                        <a:pt x="52" y="166"/>
                      </a:lnTo>
                      <a:lnTo>
                        <a:pt x="68" y="171"/>
                      </a:lnTo>
                      <a:lnTo>
                        <a:pt x="86" y="173"/>
                      </a:lnTo>
                      <a:lnTo>
                        <a:pt x="102" y="171"/>
                      </a:lnTo>
                      <a:lnTo>
                        <a:pt x="118" y="166"/>
                      </a:lnTo>
                      <a:lnTo>
                        <a:pt x="125" y="162"/>
                      </a:lnTo>
                      <a:lnTo>
                        <a:pt x="133" y="157"/>
                      </a:lnTo>
                      <a:lnTo>
                        <a:pt x="140" y="152"/>
                      </a:lnTo>
                      <a:lnTo>
                        <a:pt x="148" y="147"/>
                      </a:lnTo>
                      <a:lnTo>
                        <a:pt x="158" y="134"/>
                      </a:lnTo>
                      <a:lnTo>
                        <a:pt x="159" y="129"/>
                      </a:lnTo>
                      <a:lnTo>
                        <a:pt x="161" y="126"/>
                      </a:lnTo>
                      <a:lnTo>
                        <a:pt x="166" y="119"/>
                      </a:lnTo>
                      <a:lnTo>
                        <a:pt x="170" y="103"/>
                      </a:lnTo>
                      <a:lnTo>
                        <a:pt x="173" y="87"/>
                      </a:lnTo>
                      <a:lnTo>
                        <a:pt x="170" y="66"/>
                      </a:lnTo>
                      <a:lnTo>
                        <a:pt x="164" y="47"/>
                      </a:lnTo>
                      <a:lnTo>
                        <a:pt x="134" y="22"/>
                      </a:lnTo>
                      <a:lnTo>
                        <a:pt x="118" y="11"/>
                      </a:lnTo>
                      <a:lnTo>
                        <a:pt x="103" y="2"/>
                      </a:lnTo>
                      <a:close/>
                      <a:moveTo>
                        <a:pt x="22" y="87"/>
                      </a:moveTo>
                      <a:lnTo>
                        <a:pt x="23" y="73"/>
                      </a:lnTo>
                      <a:lnTo>
                        <a:pt x="26" y="61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2"/>
                      </a:lnTo>
                      <a:lnTo>
                        <a:pt x="60" y="26"/>
                      </a:lnTo>
                      <a:lnTo>
                        <a:pt x="73" y="22"/>
                      </a:lnTo>
                      <a:lnTo>
                        <a:pt x="86" y="21"/>
                      </a:lnTo>
                      <a:lnTo>
                        <a:pt x="98" y="22"/>
                      </a:lnTo>
                      <a:lnTo>
                        <a:pt x="110" y="26"/>
                      </a:lnTo>
                      <a:lnTo>
                        <a:pt x="121" y="32"/>
                      </a:lnTo>
                      <a:lnTo>
                        <a:pt x="132" y="41"/>
                      </a:lnTo>
                      <a:lnTo>
                        <a:pt x="140" y="50"/>
                      </a:lnTo>
                      <a:lnTo>
                        <a:pt x="145" y="61"/>
                      </a:lnTo>
                      <a:lnTo>
                        <a:pt x="149" y="73"/>
                      </a:lnTo>
                      <a:lnTo>
                        <a:pt x="151" y="87"/>
                      </a:lnTo>
                      <a:lnTo>
                        <a:pt x="149" y="98"/>
                      </a:lnTo>
                      <a:lnTo>
                        <a:pt x="147" y="104"/>
                      </a:lnTo>
                      <a:lnTo>
                        <a:pt x="145" y="111"/>
                      </a:lnTo>
                      <a:lnTo>
                        <a:pt x="142" y="115"/>
                      </a:lnTo>
                      <a:lnTo>
                        <a:pt x="140" y="121"/>
                      </a:lnTo>
                      <a:lnTo>
                        <a:pt x="132" y="132"/>
                      </a:lnTo>
                      <a:lnTo>
                        <a:pt x="121" y="140"/>
                      </a:lnTo>
                      <a:lnTo>
                        <a:pt x="115" y="143"/>
                      </a:lnTo>
                      <a:lnTo>
                        <a:pt x="110" y="146"/>
                      </a:lnTo>
                      <a:lnTo>
                        <a:pt x="103" y="147"/>
                      </a:lnTo>
                      <a:lnTo>
                        <a:pt x="98" y="149"/>
                      </a:lnTo>
                      <a:lnTo>
                        <a:pt x="86" y="152"/>
                      </a:lnTo>
                      <a:lnTo>
                        <a:pt x="73" y="149"/>
                      </a:lnTo>
                      <a:lnTo>
                        <a:pt x="60" y="146"/>
                      </a:lnTo>
                      <a:lnTo>
                        <a:pt x="49" y="140"/>
                      </a:lnTo>
                      <a:lnTo>
                        <a:pt x="40" y="132"/>
                      </a:lnTo>
                      <a:lnTo>
                        <a:pt x="32" y="121"/>
                      </a:lnTo>
                      <a:lnTo>
                        <a:pt x="26" y="111"/>
                      </a:lnTo>
                      <a:lnTo>
                        <a:pt x="23" y="98"/>
                      </a:lnTo>
                      <a:lnTo>
                        <a:pt x="22" y="87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833080" y="275976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18" y="20"/>
                      </a:moveTo>
                      <a:lnTo>
                        <a:pt x="10" y="29"/>
                      </a:lnTo>
                      <a:lnTo>
                        <a:pt x="4" y="40"/>
                      </a:lnTo>
                      <a:lnTo>
                        <a:pt x="1" y="52"/>
                      </a:lnTo>
                      <a:lnTo>
                        <a:pt x="0" y="66"/>
                      </a:lnTo>
                      <a:lnTo>
                        <a:pt x="1" y="77"/>
                      </a:lnTo>
                      <a:lnTo>
                        <a:pt x="4" y="90"/>
                      </a:lnTo>
                      <a:lnTo>
                        <a:pt x="10" y="100"/>
                      </a:lnTo>
                      <a:lnTo>
                        <a:pt x="18" y="111"/>
                      </a:lnTo>
                      <a:lnTo>
                        <a:pt x="27" y="119"/>
                      </a:lnTo>
                      <a:lnTo>
                        <a:pt x="38" y="125"/>
                      </a:lnTo>
                      <a:lnTo>
                        <a:pt x="51" y="128"/>
                      </a:lnTo>
                      <a:lnTo>
                        <a:pt x="64" y="131"/>
                      </a:lnTo>
                      <a:lnTo>
                        <a:pt x="76" y="128"/>
                      </a:lnTo>
                      <a:lnTo>
                        <a:pt x="81" y="126"/>
                      </a:lnTo>
                      <a:lnTo>
                        <a:pt x="88" y="125"/>
                      </a:lnTo>
                      <a:lnTo>
                        <a:pt x="93" y="122"/>
                      </a:lnTo>
                      <a:lnTo>
                        <a:pt x="99" y="119"/>
                      </a:lnTo>
                      <a:lnTo>
                        <a:pt x="110" y="111"/>
                      </a:lnTo>
                      <a:lnTo>
                        <a:pt x="118" y="100"/>
                      </a:lnTo>
                      <a:lnTo>
                        <a:pt x="120" y="94"/>
                      </a:lnTo>
                      <a:lnTo>
                        <a:pt x="123" y="90"/>
                      </a:lnTo>
                      <a:lnTo>
                        <a:pt x="125" y="83"/>
                      </a:lnTo>
                      <a:lnTo>
                        <a:pt x="127" y="77"/>
                      </a:lnTo>
                      <a:lnTo>
                        <a:pt x="129" y="66"/>
                      </a:lnTo>
                      <a:lnTo>
                        <a:pt x="127" y="52"/>
                      </a:lnTo>
                      <a:lnTo>
                        <a:pt x="123" y="40"/>
                      </a:lnTo>
                      <a:lnTo>
                        <a:pt x="118" y="29"/>
                      </a:lnTo>
                      <a:lnTo>
                        <a:pt x="110" y="20"/>
                      </a:lnTo>
                      <a:lnTo>
                        <a:pt x="99" y="11"/>
                      </a:lnTo>
                      <a:lnTo>
                        <a:pt x="88" y="5"/>
                      </a:lnTo>
                      <a:lnTo>
                        <a:pt x="76" y="1"/>
                      </a:lnTo>
                      <a:lnTo>
                        <a:pt x="64" y="0"/>
                      </a:lnTo>
                      <a:lnTo>
                        <a:pt x="51" y="1"/>
                      </a:lnTo>
                      <a:lnTo>
                        <a:pt x="38" y="5"/>
                      </a:lnTo>
                      <a:lnTo>
                        <a:pt x="27" y="11"/>
                      </a:lnTo>
                      <a:lnTo>
                        <a:pt x="18" y="20"/>
                      </a:lnTo>
                      <a:close/>
                      <a:moveTo>
                        <a:pt x="21" y="66"/>
                      </a:moveTo>
                      <a:lnTo>
                        <a:pt x="24" y="49"/>
                      </a:lnTo>
                      <a:lnTo>
                        <a:pt x="34" y="34"/>
                      </a:lnTo>
                      <a:lnTo>
                        <a:pt x="40" y="28"/>
                      </a:lnTo>
                      <a:lnTo>
                        <a:pt x="47" y="24"/>
                      </a:lnTo>
                      <a:lnTo>
                        <a:pt x="64" y="22"/>
                      </a:lnTo>
                      <a:lnTo>
                        <a:pt x="72" y="22"/>
                      </a:lnTo>
                      <a:lnTo>
                        <a:pt x="80" y="24"/>
                      </a:lnTo>
                      <a:lnTo>
                        <a:pt x="87" y="28"/>
                      </a:lnTo>
                      <a:lnTo>
                        <a:pt x="95" y="34"/>
                      </a:lnTo>
                      <a:lnTo>
                        <a:pt x="104" y="49"/>
                      </a:lnTo>
                      <a:lnTo>
                        <a:pt x="106" y="57"/>
                      </a:lnTo>
                      <a:lnTo>
                        <a:pt x="108" y="66"/>
                      </a:lnTo>
                      <a:lnTo>
                        <a:pt x="106" y="73"/>
                      </a:lnTo>
                      <a:lnTo>
                        <a:pt x="104" y="82"/>
                      </a:lnTo>
                      <a:lnTo>
                        <a:pt x="100" y="89"/>
                      </a:lnTo>
                      <a:lnTo>
                        <a:pt x="95" y="97"/>
                      </a:lnTo>
                      <a:lnTo>
                        <a:pt x="87" y="101"/>
                      </a:lnTo>
                      <a:lnTo>
                        <a:pt x="80" y="106"/>
                      </a:lnTo>
                      <a:lnTo>
                        <a:pt x="72" y="108"/>
                      </a:lnTo>
                      <a:lnTo>
                        <a:pt x="68" y="108"/>
                      </a:lnTo>
                      <a:lnTo>
                        <a:pt x="66" y="108"/>
                      </a:lnTo>
                      <a:lnTo>
                        <a:pt x="64" y="108"/>
                      </a:lnTo>
                      <a:lnTo>
                        <a:pt x="64" y="109"/>
                      </a:lnTo>
                      <a:lnTo>
                        <a:pt x="55" y="108"/>
                      </a:lnTo>
                      <a:lnTo>
                        <a:pt x="47" y="106"/>
                      </a:lnTo>
                      <a:lnTo>
                        <a:pt x="40" y="101"/>
                      </a:lnTo>
                      <a:lnTo>
                        <a:pt x="34" y="97"/>
                      </a:lnTo>
                      <a:lnTo>
                        <a:pt x="27" y="89"/>
                      </a:lnTo>
                      <a:lnTo>
                        <a:pt x="24" y="82"/>
                      </a:lnTo>
                      <a:lnTo>
                        <a:pt x="21" y="66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839560" y="2766240"/>
                  <a:ext cx="24480" cy="24840"/>
                </a:xfrm>
                <a:custGeom>
                  <a:avLst/>
                  <a:gdLst/>
                  <a:ahLst/>
                  <a:rect l="l" t="t" r="r" b="b"/>
                  <a:pathLst>
                    <a:path w="87" h="87">
                      <a:moveTo>
                        <a:pt x="13" y="12"/>
                      </a:moveTo>
                      <a:lnTo>
                        <a:pt x="3" y="27"/>
                      </a:lnTo>
                      <a:lnTo>
                        <a:pt x="0" y="44"/>
                      </a:lnTo>
                      <a:lnTo>
                        <a:pt x="3" y="60"/>
                      </a:lnTo>
                      <a:lnTo>
                        <a:pt x="6" y="67"/>
                      </a:lnTo>
                      <a:lnTo>
                        <a:pt x="13" y="75"/>
                      </a:lnTo>
                      <a:lnTo>
                        <a:pt x="19" y="79"/>
                      </a:lnTo>
                      <a:lnTo>
                        <a:pt x="26" y="84"/>
                      </a:lnTo>
                      <a:lnTo>
                        <a:pt x="34" y="86"/>
                      </a:lnTo>
                      <a:lnTo>
                        <a:pt x="43" y="87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6"/>
                      </a:lnTo>
                      <a:lnTo>
                        <a:pt x="51" y="86"/>
                      </a:lnTo>
                      <a:lnTo>
                        <a:pt x="59" y="84"/>
                      </a:lnTo>
                      <a:lnTo>
                        <a:pt x="66" y="79"/>
                      </a:lnTo>
                      <a:lnTo>
                        <a:pt x="74" y="75"/>
                      </a:lnTo>
                      <a:lnTo>
                        <a:pt x="79" y="67"/>
                      </a:lnTo>
                      <a:lnTo>
                        <a:pt x="83" y="60"/>
                      </a:lnTo>
                      <a:lnTo>
                        <a:pt x="85" y="51"/>
                      </a:lnTo>
                      <a:lnTo>
                        <a:pt x="87" y="44"/>
                      </a:lnTo>
                      <a:lnTo>
                        <a:pt x="85" y="35"/>
                      </a:lnTo>
                      <a:lnTo>
                        <a:pt x="83" y="27"/>
                      </a:lnTo>
                      <a:lnTo>
                        <a:pt x="74" y="12"/>
                      </a:lnTo>
                      <a:lnTo>
                        <a:pt x="66" y="6"/>
                      </a:lnTo>
                      <a:lnTo>
                        <a:pt x="59" y="2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2"/>
                      </a:lnTo>
                      <a:lnTo>
                        <a:pt x="19" y="6"/>
                      </a:lnTo>
                      <a:lnTo>
                        <a:pt x="13" y="12"/>
                      </a:lnTo>
                      <a:close/>
                      <a:moveTo>
                        <a:pt x="22" y="44"/>
                      </a:moveTo>
                      <a:lnTo>
                        <a:pt x="23" y="35"/>
                      </a:lnTo>
                      <a:lnTo>
                        <a:pt x="28" y="28"/>
                      </a:lnTo>
                      <a:lnTo>
                        <a:pt x="34" y="24"/>
                      </a:lnTo>
                      <a:lnTo>
                        <a:pt x="43" y="23"/>
                      </a:lnTo>
                      <a:lnTo>
                        <a:pt x="51" y="24"/>
                      </a:lnTo>
                      <a:lnTo>
                        <a:pt x="58" y="28"/>
                      </a:lnTo>
                      <a:lnTo>
                        <a:pt x="63" y="35"/>
                      </a:lnTo>
                      <a:lnTo>
                        <a:pt x="65" y="44"/>
                      </a:lnTo>
                      <a:lnTo>
                        <a:pt x="63" y="51"/>
                      </a:lnTo>
                      <a:lnTo>
                        <a:pt x="60" y="54"/>
                      </a:lnTo>
                      <a:lnTo>
                        <a:pt x="58" y="59"/>
                      </a:lnTo>
                      <a:lnTo>
                        <a:pt x="51" y="62"/>
                      </a:lnTo>
                      <a:lnTo>
                        <a:pt x="47" y="63"/>
                      </a:lnTo>
                      <a:lnTo>
                        <a:pt x="45" y="63"/>
                      </a:lnTo>
                      <a:lnTo>
                        <a:pt x="43" y="63"/>
                      </a:lnTo>
                      <a:lnTo>
                        <a:pt x="43" y="64"/>
                      </a:lnTo>
                      <a:lnTo>
                        <a:pt x="34" y="62"/>
                      </a:lnTo>
                      <a:lnTo>
                        <a:pt x="28" y="59"/>
                      </a:lnTo>
                      <a:lnTo>
                        <a:pt x="24" y="54"/>
                      </a:lnTo>
                      <a:lnTo>
                        <a:pt x="23" y="51"/>
                      </a:lnTo>
                      <a:lnTo>
                        <a:pt x="22" y="44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845320" y="277236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43" h="41">
                      <a:moveTo>
                        <a:pt x="6" y="5"/>
                      </a:moveTo>
                      <a:lnTo>
                        <a:pt x="1" y="12"/>
                      </a:lnTo>
                      <a:lnTo>
                        <a:pt x="0" y="21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6" y="36"/>
                      </a:lnTo>
                      <a:lnTo>
                        <a:pt x="12" y="39"/>
                      </a:lnTo>
                      <a:lnTo>
                        <a:pt x="21" y="41"/>
                      </a:lnTo>
                      <a:lnTo>
                        <a:pt x="21" y="40"/>
                      </a:lnTo>
                      <a:lnTo>
                        <a:pt x="23" y="40"/>
                      </a:lnTo>
                      <a:lnTo>
                        <a:pt x="25" y="40"/>
                      </a:lnTo>
                      <a:lnTo>
                        <a:pt x="29" y="39"/>
                      </a:lnTo>
                      <a:lnTo>
                        <a:pt x="36" y="36"/>
                      </a:lnTo>
                      <a:lnTo>
                        <a:pt x="38" y="31"/>
                      </a:lnTo>
                      <a:lnTo>
                        <a:pt x="41" y="28"/>
                      </a:lnTo>
                      <a:lnTo>
                        <a:pt x="43" y="21"/>
                      </a:lnTo>
                      <a:lnTo>
                        <a:pt x="41" y="12"/>
                      </a:lnTo>
                      <a:lnTo>
                        <a:pt x="36" y="5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709600" y="277776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0" y="26"/>
                      </a:lnTo>
                      <a:lnTo>
                        <a:pt x="0" y="48"/>
                      </a:lnTo>
                      <a:lnTo>
                        <a:pt x="2" y="72"/>
                      </a:lnTo>
                      <a:lnTo>
                        <a:pt x="11" y="118"/>
                      </a:lnTo>
                      <a:lnTo>
                        <a:pt x="23" y="161"/>
                      </a:lnTo>
                      <a:lnTo>
                        <a:pt x="40" y="203"/>
                      </a:lnTo>
                      <a:lnTo>
                        <a:pt x="59" y="242"/>
                      </a:lnTo>
                      <a:lnTo>
                        <a:pt x="84" y="281"/>
                      </a:lnTo>
                      <a:lnTo>
                        <a:pt x="96" y="299"/>
                      </a:lnTo>
                      <a:lnTo>
                        <a:pt x="111" y="318"/>
                      </a:lnTo>
                      <a:lnTo>
                        <a:pt x="145" y="355"/>
                      </a:lnTo>
                      <a:lnTo>
                        <a:pt x="181" y="389"/>
                      </a:lnTo>
                      <a:lnTo>
                        <a:pt x="221" y="418"/>
                      </a:lnTo>
                      <a:lnTo>
                        <a:pt x="261" y="443"/>
                      </a:lnTo>
                      <a:lnTo>
                        <a:pt x="305" y="463"/>
                      </a:lnTo>
                      <a:lnTo>
                        <a:pt x="349" y="479"/>
                      </a:lnTo>
                      <a:lnTo>
                        <a:pt x="397" y="491"/>
                      </a:lnTo>
                      <a:lnTo>
                        <a:pt x="445" y="497"/>
                      </a:lnTo>
                      <a:lnTo>
                        <a:pt x="496" y="500"/>
                      </a:lnTo>
                      <a:lnTo>
                        <a:pt x="526" y="499"/>
                      </a:lnTo>
                      <a:lnTo>
                        <a:pt x="557" y="496"/>
                      </a:lnTo>
                      <a:lnTo>
                        <a:pt x="586" y="492"/>
                      </a:lnTo>
                      <a:lnTo>
                        <a:pt x="616" y="486"/>
                      </a:lnTo>
                      <a:lnTo>
                        <a:pt x="636" y="459"/>
                      </a:lnTo>
                      <a:lnTo>
                        <a:pt x="602" y="467"/>
                      </a:lnTo>
                      <a:lnTo>
                        <a:pt x="568" y="472"/>
                      </a:lnTo>
                      <a:lnTo>
                        <a:pt x="532" y="476"/>
                      </a:lnTo>
                      <a:lnTo>
                        <a:pt x="513" y="477"/>
                      </a:lnTo>
                      <a:lnTo>
                        <a:pt x="504" y="477"/>
                      </a:lnTo>
                      <a:lnTo>
                        <a:pt x="500" y="477"/>
                      </a:lnTo>
                      <a:lnTo>
                        <a:pt x="498" y="477"/>
                      </a:lnTo>
                      <a:lnTo>
                        <a:pt x="496" y="477"/>
                      </a:lnTo>
                      <a:lnTo>
                        <a:pt x="496" y="478"/>
                      </a:lnTo>
                      <a:lnTo>
                        <a:pt x="447" y="476"/>
                      </a:lnTo>
                      <a:lnTo>
                        <a:pt x="400" y="469"/>
                      </a:lnTo>
                      <a:lnTo>
                        <a:pt x="355" y="458"/>
                      </a:lnTo>
                      <a:lnTo>
                        <a:pt x="313" y="443"/>
                      </a:lnTo>
                      <a:lnTo>
                        <a:pt x="271" y="423"/>
                      </a:lnTo>
                      <a:lnTo>
                        <a:pt x="232" y="399"/>
                      </a:lnTo>
                      <a:lnTo>
                        <a:pt x="195" y="370"/>
                      </a:lnTo>
                      <a:lnTo>
                        <a:pt x="160" y="339"/>
                      </a:lnTo>
                      <a:lnTo>
                        <a:pt x="126" y="302"/>
                      </a:lnTo>
                      <a:lnTo>
                        <a:pt x="97" y="265"/>
                      </a:lnTo>
                      <a:lnTo>
                        <a:pt x="84" y="245"/>
                      </a:lnTo>
                      <a:lnTo>
                        <a:pt x="72" y="225"/>
                      </a:lnTo>
                      <a:lnTo>
                        <a:pt x="54" y="184"/>
                      </a:lnTo>
                      <a:lnTo>
                        <a:pt x="38" y="141"/>
                      </a:lnTo>
                      <a:lnTo>
                        <a:pt x="28" y="97"/>
                      </a:lnTo>
                      <a:lnTo>
                        <a:pt x="24" y="73"/>
                      </a:lnTo>
                      <a:lnTo>
                        <a:pt x="21" y="51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715360" y="2770920"/>
                  <a:ext cx="181080" cy="143640"/>
                </a:xfrm>
                <a:custGeom>
                  <a:avLst/>
                  <a:gdLst/>
                  <a:ahLst/>
                  <a:rect l="l" t="t" r="r" b="b"/>
                  <a:pathLst>
                    <a:path w="634" h="502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" y="75"/>
                      </a:lnTo>
                      <a:lnTo>
                        <a:pt x="4" y="97"/>
                      </a:lnTo>
                      <a:lnTo>
                        <a:pt x="8" y="121"/>
                      </a:lnTo>
                      <a:lnTo>
                        <a:pt x="18" y="165"/>
                      </a:lnTo>
                      <a:lnTo>
                        <a:pt x="34" y="208"/>
                      </a:lnTo>
                      <a:lnTo>
                        <a:pt x="52" y="249"/>
                      </a:lnTo>
                      <a:lnTo>
                        <a:pt x="64" y="269"/>
                      </a:lnTo>
                      <a:lnTo>
                        <a:pt x="77" y="289"/>
                      </a:lnTo>
                      <a:lnTo>
                        <a:pt x="106" y="326"/>
                      </a:lnTo>
                      <a:lnTo>
                        <a:pt x="140" y="363"/>
                      </a:lnTo>
                      <a:lnTo>
                        <a:pt x="175" y="394"/>
                      </a:lnTo>
                      <a:lnTo>
                        <a:pt x="212" y="423"/>
                      </a:lnTo>
                      <a:lnTo>
                        <a:pt x="251" y="447"/>
                      </a:lnTo>
                      <a:lnTo>
                        <a:pt x="293" y="467"/>
                      </a:lnTo>
                      <a:lnTo>
                        <a:pt x="335" y="482"/>
                      </a:lnTo>
                      <a:lnTo>
                        <a:pt x="380" y="493"/>
                      </a:lnTo>
                      <a:lnTo>
                        <a:pt x="427" y="500"/>
                      </a:lnTo>
                      <a:lnTo>
                        <a:pt x="476" y="502"/>
                      </a:lnTo>
                      <a:lnTo>
                        <a:pt x="476" y="501"/>
                      </a:lnTo>
                      <a:lnTo>
                        <a:pt x="478" y="501"/>
                      </a:lnTo>
                      <a:lnTo>
                        <a:pt x="480" y="501"/>
                      </a:lnTo>
                      <a:lnTo>
                        <a:pt x="484" y="501"/>
                      </a:lnTo>
                      <a:lnTo>
                        <a:pt x="493" y="501"/>
                      </a:lnTo>
                      <a:lnTo>
                        <a:pt x="512" y="500"/>
                      </a:lnTo>
                      <a:lnTo>
                        <a:pt x="548" y="496"/>
                      </a:lnTo>
                      <a:lnTo>
                        <a:pt x="582" y="491"/>
                      </a:lnTo>
                      <a:lnTo>
                        <a:pt x="616" y="483"/>
                      </a:lnTo>
                      <a:lnTo>
                        <a:pt x="634" y="453"/>
                      </a:lnTo>
                      <a:lnTo>
                        <a:pt x="596" y="465"/>
                      </a:lnTo>
                      <a:lnTo>
                        <a:pt x="557" y="474"/>
                      </a:lnTo>
                      <a:lnTo>
                        <a:pt x="537" y="476"/>
                      </a:lnTo>
                      <a:lnTo>
                        <a:pt x="517" y="478"/>
                      </a:lnTo>
                      <a:lnTo>
                        <a:pt x="476" y="481"/>
                      </a:lnTo>
                      <a:lnTo>
                        <a:pt x="429" y="478"/>
                      </a:lnTo>
                      <a:lnTo>
                        <a:pt x="385" y="472"/>
                      </a:lnTo>
                      <a:lnTo>
                        <a:pt x="342" y="460"/>
                      </a:lnTo>
                      <a:lnTo>
                        <a:pt x="302" y="447"/>
                      </a:lnTo>
                      <a:lnTo>
                        <a:pt x="262" y="427"/>
                      </a:lnTo>
                      <a:lnTo>
                        <a:pt x="225" y="405"/>
                      </a:lnTo>
                      <a:lnTo>
                        <a:pt x="189" y="377"/>
                      </a:lnTo>
                      <a:lnTo>
                        <a:pt x="156" y="347"/>
                      </a:lnTo>
                      <a:lnTo>
                        <a:pt x="139" y="329"/>
                      </a:lnTo>
                      <a:lnTo>
                        <a:pt x="124" y="312"/>
                      </a:lnTo>
                      <a:lnTo>
                        <a:pt x="97" y="275"/>
                      </a:lnTo>
                      <a:lnTo>
                        <a:pt x="84" y="256"/>
                      </a:lnTo>
                      <a:lnTo>
                        <a:pt x="74" y="238"/>
                      </a:lnTo>
                      <a:lnTo>
                        <a:pt x="56" y="199"/>
                      </a:lnTo>
                      <a:lnTo>
                        <a:pt x="40" y="159"/>
                      </a:lnTo>
                      <a:lnTo>
                        <a:pt x="34" y="137"/>
                      </a:lnTo>
                      <a:lnTo>
                        <a:pt x="31" y="117"/>
                      </a:lnTo>
                      <a:lnTo>
                        <a:pt x="26" y="94"/>
                      </a:lnTo>
                      <a:lnTo>
                        <a:pt x="24" y="72"/>
                      </a:lnTo>
                      <a:lnTo>
                        <a:pt x="23" y="27"/>
                      </a:lnTo>
                      <a:lnTo>
                        <a:pt x="2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740560" y="2750040"/>
                  <a:ext cx="16704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8">
                      <a:moveTo>
                        <a:pt x="34" y="0"/>
                      </a:moveTo>
                      <a:lnTo>
                        <a:pt x="9" y="15"/>
                      </a:lnTo>
                      <a:lnTo>
                        <a:pt x="4" y="34"/>
                      </a:lnTo>
                      <a:lnTo>
                        <a:pt x="2" y="56"/>
                      </a:lnTo>
                      <a:lnTo>
                        <a:pt x="0" y="100"/>
                      </a:lnTo>
                      <a:lnTo>
                        <a:pt x="1" y="139"/>
                      </a:lnTo>
                      <a:lnTo>
                        <a:pt x="6" y="177"/>
                      </a:lnTo>
                      <a:lnTo>
                        <a:pt x="14" y="213"/>
                      </a:lnTo>
                      <a:lnTo>
                        <a:pt x="20" y="230"/>
                      </a:lnTo>
                      <a:lnTo>
                        <a:pt x="28" y="249"/>
                      </a:lnTo>
                      <a:lnTo>
                        <a:pt x="43" y="281"/>
                      </a:lnTo>
                      <a:lnTo>
                        <a:pt x="52" y="297"/>
                      </a:lnTo>
                      <a:lnTo>
                        <a:pt x="63" y="314"/>
                      </a:lnTo>
                      <a:lnTo>
                        <a:pt x="73" y="329"/>
                      </a:lnTo>
                      <a:lnTo>
                        <a:pt x="86" y="345"/>
                      </a:lnTo>
                      <a:lnTo>
                        <a:pt x="113" y="374"/>
                      </a:lnTo>
                      <a:lnTo>
                        <a:pt x="141" y="401"/>
                      </a:lnTo>
                      <a:lnTo>
                        <a:pt x="172" y="423"/>
                      </a:lnTo>
                      <a:lnTo>
                        <a:pt x="204" y="442"/>
                      </a:lnTo>
                      <a:lnTo>
                        <a:pt x="239" y="459"/>
                      </a:lnTo>
                      <a:lnTo>
                        <a:pt x="273" y="471"/>
                      </a:lnTo>
                      <a:lnTo>
                        <a:pt x="310" y="480"/>
                      </a:lnTo>
                      <a:lnTo>
                        <a:pt x="348" y="486"/>
                      </a:lnTo>
                      <a:lnTo>
                        <a:pt x="388" y="488"/>
                      </a:lnTo>
                      <a:lnTo>
                        <a:pt x="413" y="487"/>
                      </a:lnTo>
                      <a:lnTo>
                        <a:pt x="440" y="484"/>
                      </a:lnTo>
                      <a:lnTo>
                        <a:pt x="463" y="480"/>
                      </a:lnTo>
                      <a:lnTo>
                        <a:pt x="488" y="475"/>
                      </a:lnTo>
                      <a:lnTo>
                        <a:pt x="511" y="467"/>
                      </a:lnTo>
                      <a:lnTo>
                        <a:pt x="522" y="463"/>
                      </a:lnTo>
                      <a:lnTo>
                        <a:pt x="528" y="461"/>
                      </a:lnTo>
                      <a:lnTo>
                        <a:pt x="535" y="459"/>
                      </a:lnTo>
                      <a:lnTo>
                        <a:pt x="539" y="456"/>
                      </a:lnTo>
                      <a:lnTo>
                        <a:pt x="545" y="454"/>
                      </a:lnTo>
                      <a:lnTo>
                        <a:pt x="556" y="449"/>
                      </a:lnTo>
                      <a:lnTo>
                        <a:pt x="579" y="439"/>
                      </a:lnTo>
                      <a:lnTo>
                        <a:pt x="581" y="424"/>
                      </a:lnTo>
                      <a:lnTo>
                        <a:pt x="585" y="411"/>
                      </a:lnTo>
                      <a:lnTo>
                        <a:pt x="562" y="423"/>
                      </a:lnTo>
                      <a:lnTo>
                        <a:pt x="539" y="435"/>
                      </a:lnTo>
                      <a:lnTo>
                        <a:pt x="515" y="444"/>
                      </a:lnTo>
                      <a:lnTo>
                        <a:pt x="509" y="445"/>
                      </a:lnTo>
                      <a:lnTo>
                        <a:pt x="503" y="447"/>
                      </a:lnTo>
                      <a:lnTo>
                        <a:pt x="492" y="452"/>
                      </a:lnTo>
                      <a:lnTo>
                        <a:pt x="478" y="454"/>
                      </a:lnTo>
                      <a:lnTo>
                        <a:pt x="471" y="455"/>
                      </a:lnTo>
                      <a:lnTo>
                        <a:pt x="466" y="457"/>
                      </a:lnTo>
                      <a:lnTo>
                        <a:pt x="441" y="462"/>
                      </a:lnTo>
                      <a:lnTo>
                        <a:pt x="427" y="463"/>
                      </a:lnTo>
                      <a:lnTo>
                        <a:pt x="415" y="465"/>
                      </a:lnTo>
                      <a:lnTo>
                        <a:pt x="401" y="465"/>
                      </a:lnTo>
                      <a:lnTo>
                        <a:pt x="394" y="465"/>
                      </a:lnTo>
                      <a:lnTo>
                        <a:pt x="391" y="465"/>
                      </a:lnTo>
                      <a:lnTo>
                        <a:pt x="388" y="466"/>
                      </a:lnTo>
                      <a:lnTo>
                        <a:pt x="350" y="464"/>
                      </a:lnTo>
                      <a:lnTo>
                        <a:pt x="315" y="459"/>
                      </a:lnTo>
                      <a:lnTo>
                        <a:pt x="280" y="450"/>
                      </a:lnTo>
                      <a:lnTo>
                        <a:pt x="247" y="439"/>
                      </a:lnTo>
                      <a:lnTo>
                        <a:pt x="214" y="423"/>
                      </a:lnTo>
                      <a:lnTo>
                        <a:pt x="184" y="405"/>
                      </a:lnTo>
                      <a:lnTo>
                        <a:pt x="155" y="384"/>
                      </a:lnTo>
                      <a:lnTo>
                        <a:pt x="129" y="360"/>
                      </a:lnTo>
                      <a:lnTo>
                        <a:pt x="103" y="331"/>
                      </a:lnTo>
                      <a:lnTo>
                        <a:pt x="81" y="302"/>
                      </a:lnTo>
                      <a:lnTo>
                        <a:pt x="62" y="271"/>
                      </a:lnTo>
                      <a:lnTo>
                        <a:pt x="47" y="241"/>
                      </a:lnTo>
                      <a:lnTo>
                        <a:pt x="35" y="207"/>
                      </a:lnTo>
                      <a:lnTo>
                        <a:pt x="27" y="173"/>
                      </a:lnTo>
                      <a:lnTo>
                        <a:pt x="22" y="136"/>
                      </a:lnTo>
                      <a:lnTo>
                        <a:pt x="21" y="100"/>
                      </a:lnTo>
                      <a:lnTo>
                        <a:pt x="21" y="73"/>
                      </a:lnTo>
                      <a:lnTo>
                        <a:pt x="23" y="48"/>
                      </a:lnTo>
                      <a:lnTo>
                        <a:pt x="27" y="23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721840" y="2765160"/>
                  <a:ext cx="178920" cy="143280"/>
                </a:xfrm>
                <a:custGeom>
                  <a:avLst/>
                  <a:gdLst/>
                  <a:ahLst/>
                  <a:rect l="l" t="t" r="r" b="b"/>
                  <a:pathLst>
                    <a:path w="625" h="503">
                      <a:moveTo>
                        <a:pt x="0" y="22"/>
                      </a:moveTo>
                      <a:lnTo>
                        <a:pt x="0" y="49"/>
                      </a:lnTo>
                      <a:lnTo>
                        <a:pt x="1" y="94"/>
                      </a:lnTo>
                      <a:lnTo>
                        <a:pt x="3" y="116"/>
                      </a:lnTo>
                      <a:lnTo>
                        <a:pt x="8" y="139"/>
                      </a:lnTo>
                      <a:lnTo>
                        <a:pt x="11" y="159"/>
                      </a:lnTo>
                      <a:lnTo>
                        <a:pt x="17" y="181"/>
                      </a:lnTo>
                      <a:lnTo>
                        <a:pt x="33" y="221"/>
                      </a:lnTo>
                      <a:lnTo>
                        <a:pt x="51" y="260"/>
                      </a:lnTo>
                      <a:lnTo>
                        <a:pt x="61" y="278"/>
                      </a:lnTo>
                      <a:lnTo>
                        <a:pt x="74" y="297"/>
                      </a:lnTo>
                      <a:lnTo>
                        <a:pt x="101" y="334"/>
                      </a:lnTo>
                      <a:lnTo>
                        <a:pt x="116" y="351"/>
                      </a:lnTo>
                      <a:lnTo>
                        <a:pt x="133" y="369"/>
                      </a:lnTo>
                      <a:lnTo>
                        <a:pt x="166" y="399"/>
                      </a:lnTo>
                      <a:lnTo>
                        <a:pt x="202" y="427"/>
                      </a:lnTo>
                      <a:lnTo>
                        <a:pt x="239" y="449"/>
                      </a:lnTo>
                      <a:lnTo>
                        <a:pt x="279" y="469"/>
                      </a:lnTo>
                      <a:lnTo>
                        <a:pt x="319" y="482"/>
                      </a:lnTo>
                      <a:lnTo>
                        <a:pt x="362" y="494"/>
                      </a:lnTo>
                      <a:lnTo>
                        <a:pt x="406" y="500"/>
                      </a:lnTo>
                      <a:lnTo>
                        <a:pt x="453" y="503"/>
                      </a:lnTo>
                      <a:lnTo>
                        <a:pt x="494" y="500"/>
                      </a:lnTo>
                      <a:lnTo>
                        <a:pt x="514" y="498"/>
                      </a:lnTo>
                      <a:lnTo>
                        <a:pt x="534" y="496"/>
                      </a:lnTo>
                      <a:lnTo>
                        <a:pt x="573" y="487"/>
                      </a:lnTo>
                      <a:lnTo>
                        <a:pt x="611" y="475"/>
                      </a:lnTo>
                      <a:lnTo>
                        <a:pt x="625" y="447"/>
                      </a:lnTo>
                      <a:lnTo>
                        <a:pt x="584" y="461"/>
                      </a:lnTo>
                      <a:lnTo>
                        <a:pt x="573" y="463"/>
                      </a:lnTo>
                      <a:lnTo>
                        <a:pt x="569" y="463"/>
                      </a:lnTo>
                      <a:lnTo>
                        <a:pt x="567" y="464"/>
                      </a:lnTo>
                      <a:lnTo>
                        <a:pt x="562" y="466"/>
                      </a:lnTo>
                      <a:lnTo>
                        <a:pt x="542" y="472"/>
                      </a:lnTo>
                      <a:lnTo>
                        <a:pt x="519" y="475"/>
                      </a:lnTo>
                      <a:lnTo>
                        <a:pt x="508" y="476"/>
                      </a:lnTo>
                      <a:lnTo>
                        <a:pt x="498" y="479"/>
                      </a:lnTo>
                      <a:lnTo>
                        <a:pt x="475" y="480"/>
                      </a:lnTo>
                      <a:lnTo>
                        <a:pt x="464" y="480"/>
                      </a:lnTo>
                      <a:lnTo>
                        <a:pt x="458" y="480"/>
                      </a:lnTo>
                      <a:lnTo>
                        <a:pt x="453" y="481"/>
                      </a:lnTo>
                      <a:lnTo>
                        <a:pt x="408" y="479"/>
                      </a:lnTo>
                      <a:lnTo>
                        <a:pt x="366" y="473"/>
                      </a:lnTo>
                      <a:lnTo>
                        <a:pt x="325" y="463"/>
                      </a:lnTo>
                      <a:lnTo>
                        <a:pt x="287" y="449"/>
                      </a:lnTo>
                      <a:lnTo>
                        <a:pt x="248" y="431"/>
                      </a:lnTo>
                      <a:lnTo>
                        <a:pt x="213" y="410"/>
                      </a:lnTo>
                      <a:lnTo>
                        <a:pt x="179" y="384"/>
                      </a:lnTo>
                      <a:lnTo>
                        <a:pt x="147" y="354"/>
                      </a:lnTo>
                      <a:lnTo>
                        <a:pt x="117" y="321"/>
                      </a:lnTo>
                      <a:lnTo>
                        <a:pt x="92" y="287"/>
                      </a:lnTo>
                      <a:lnTo>
                        <a:pt x="69" y="251"/>
                      </a:lnTo>
                      <a:lnTo>
                        <a:pt x="52" y="213"/>
                      </a:lnTo>
                      <a:lnTo>
                        <a:pt x="37" y="174"/>
                      </a:lnTo>
                      <a:lnTo>
                        <a:pt x="32" y="153"/>
                      </a:lnTo>
                      <a:lnTo>
                        <a:pt x="28" y="134"/>
                      </a:lnTo>
                      <a:lnTo>
                        <a:pt x="23" y="92"/>
                      </a:lnTo>
                      <a:lnTo>
                        <a:pt x="22" y="49"/>
                      </a:lnTo>
                      <a:lnTo>
                        <a:pt x="22" y="23"/>
                      </a:lnTo>
                      <a:lnTo>
                        <a:pt x="24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727960" y="2759400"/>
                  <a:ext cx="176040" cy="142560"/>
                </a:xfrm>
                <a:custGeom>
                  <a:avLst/>
                  <a:gdLst/>
                  <a:ahLst/>
                  <a:rect l="l" t="t" r="r" b="b"/>
                  <a:pathLst>
                    <a:path w="614" h="500">
                      <a:moveTo>
                        <a:pt x="21" y="68"/>
                      </a:moveTo>
                      <a:lnTo>
                        <a:pt x="22" y="33"/>
                      </a:lnTo>
                      <a:lnTo>
                        <a:pt x="26" y="0"/>
                      </a:lnTo>
                      <a:lnTo>
                        <a:pt x="2" y="19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1" y="111"/>
                      </a:lnTo>
                      <a:lnTo>
                        <a:pt x="6" y="153"/>
                      </a:lnTo>
                      <a:lnTo>
                        <a:pt x="10" y="172"/>
                      </a:lnTo>
                      <a:lnTo>
                        <a:pt x="15" y="193"/>
                      </a:lnTo>
                      <a:lnTo>
                        <a:pt x="30" y="232"/>
                      </a:lnTo>
                      <a:lnTo>
                        <a:pt x="47" y="270"/>
                      </a:lnTo>
                      <a:lnTo>
                        <a:pt x="70" y="306"/>
                      </a:lnTo>
                      <a:lnTo>
                        <a:pt x="95" y="340"/>
                      </a:lnTo>
                      <a:lnTo>
                        <a:pt x="125" y="373"/>
                      </a:lnTo>
                      <a:lnTo>
                        <a:pt x="157" y="403"/>
                      </a:lnTo>
                      <a:lnTo>
                        <a:pt x="191" y="429"/>
                      </a:lnTo>
                      <a:lnTo>
                        <a:pt x="226" y="450"/>
                      </a:lnTo>
                      <a:lnTo>
                        <a:pt x="265" y="468"/>
                      </a:lnTo>
                      <a:lnTo>
                        <a:pt x="303" y="482"/>
                      </a:lnTo>
                      <a:lnTo>
                        <a:pt x="344" y="492"/>
                      </a:lnTo>
                      <a:lnTo>
                        <a:pt x="386" y="498"/>
                      </a:lnTo>
                      <a:lnTo>
                        <a:pt x="431" y="500"/>
                      </a:lnTo>
                      <a:lnTo>
                        <a:pt x="436" y="499"/>
                      </a:lnTo>
                      <a:lnTo>
                        <a:pt x="442" y="499"/>
                      </a:lnTo>
                      <a:lnTo>
                        <a:pt x="453" y="499"/>
                      </a:lnTo>
                      <a:lnTo>
                        <a:pt x="476" y="498"/>
                      </a:lnTo>
                      <a:lnTo>
                        <a:pt x="486" y="495"/>
                      </a:lnTo>
                      <a:lnTo>
                        <a:pt x="497" y="494"/>
                      </a:lnTo>
                      <a:lnTo>
                        <a:pt x="520" y="491"/>
                      </a:lnTo>
                      <a:lnTo>
                        <a:pt x="540" y="485"/>
                      </a:lnTo>
                      <a:lnTo>
                        <a:pt x="545" y="483"/>
                      </a:lnTo>
                      <a:lnTo>
                        <a:pt x="547" y="482"/>
                      </a:lnTo>
                      <a:lnTo>
                        <a:pt x="551" y="482"/>
                      </a:lnTo>
                      <a:lnTo>
                        <a:pt x="562" y="480"/>
                      </a:lnTo>
                      <a:lnTo>
                        <a:pt x="603" y="466"/>
                      </a:lnTo>
                      <a:lnTo>
                        <a:pt x="614" y="437"/>
                      </a:lnTo>
                      <a:lnTo>
                        <a:pt x="591" y="446"/>
                      </a:lnTo>
                      <a:lnTo>
                        <a:pt x="571" y="454"/>
                      </a:lnTo>
                      <a:lnTo>
                        <a:pt x="548" y="460"/>
                      </a:lnTo>
                      <a:lnTo>
                        <a:pt x="527" y="467"/>
                      </a:lnTo>
                      <a:lnTo>
                        <a:pt x="503" y="472"/>
                      </a:lnTo>
                      <a:lnTo>
                        <a:pt x="480" y="475"/>
                      </a:lnTo>
                      <a:lnTo>
                        <a:pt x="455" y="477"/>
                      </a:lnTo>
                      <a:lnTo>
                        <a:pt x="443" y="477"/>
                      </a:lnTo>
                      <a:lnTo>
                        <a:pt x="431" y="478"/>
                      </a:lnTo>
                      <a:lnTo>
                        <a:pt x="388" y="476"/>
                      </a:lnTo>
                      <a:lnTo>
                        <a:pt x="349" y="471"/>
                      </a:lnTo>
                      <a:lnTo>
                        <a:pt x="310" y="460"/>
                      </a:lnTo>
                      <a:lnTo>
                        <a:pt x="274" y="448"/>
                      </a:lnTo>
                      <a:lnTo>
                        <a:pt x="238" y="430"/>
                      </a:lnTo>
                      <a:lnTo>
                        <a:pt x="204" y="409"/>
                      </a:lnTo>
                      <a:lnTo>
                        <a:pt x="171" y="384"/>
                      </a:lnTo>
                      <a:lnTo>
                        <a:pt x="141" y="357"/>
                      </a:lnTo>
                      <a:lnTo>
                        <a:pt x="112" y="325"/>
                      </a:lnTo>
                      <a:lnTo>
                        <a:pt x="88" y="294"/>
                      </a:lnTo>
                      <a:lnTo>
                        <a:pt x="66" y="260"/>
                      </a:lnTo>
                      <a:lnTo>
                        <a:pt x="57" y="242"/>
                      </a:lnTo>
                      <a:lnTo>
                        <a:pt x="51" y="225"/>
                      </a:lnTo>
                      <a:lnTo>
                        <a:pt x="43" y="205"/>
                      </a:lnTo>
                      <a:lnTo>
                        <a:pt x="37" y="187"/>
                      </a:lnTo>
                      <a:lnTo>
                        <a:pt x="28" y="149"/>
                      </a:lnTo>
                      <a:lnTo>
                        <a:pt x="22" y="109"/>
                      </a:lnTo>
                      <a:lnTo>
                        <a:pt x="21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734440" y="2754720"/>
                  <a:ext cx="171360" cy="140760"/>
                </a:xfrm>
                <a:custGeom>
                  <a:avLst/>
                  <a:gdLst/>
                  <a:ahLst/>
                  <a:rect l="l" t="t" r="r" b="b"/>
                  <a:pathLst>
                    <a:path w="601" h="495">
                      <a:moveTo>
                        <a:pt x="5" y="17"/>
                      </a:moveTo>
                      <a:lnTo>
                        <a:pt x="1" y="50"/>
                      </a:lnTo>
                      <a:lnTo>
                        <a:pt x="0" y="85"/>
                      </a:lnTo>
                      <a:lnTo>
                        <a:pt x="1" y="126"/>
                      </a:lnTo>
                      <a:lnTo>
                        <a:pt x="7" y="166"/>
                      </a:lnTo>
                      <a:lnTo>
                        <a:pt x="16" y="204"/>
                      </a:lnTo>
                      <a:lnTo>
                        <a:pt x="22" y="222"/>
                      </a:lnTo>
                      <a:lnTo>
                        <a:pt x="30" y="242"/>
                      </a:lnTo>
                      <a:lnTo>
                        <a:pt x="36" y="259"/>
                      </a:lnTo>
                      <a:lnTo>
                        <a:pt x="45" y="277"/>
                      </a:lnTo>
                      <a:lnTo>
                        <a:pt x="67" y="311"/>
                      </a:lnTo>
                      <a:lnTo>
                        <a:pt x="91" y="342"/>
                      </a:lnTo>
                      <a:lnTo>
                        <a:pt x="120" y="374"/>
                      </a:lnTo>
                      <a:lnTo>
                        <a:pt x="150" y="401"/>
                      </a:lnTo>
                      <a:lnTo>
                        <a:pt x="183" y="426"/>
                      </a:lnTo>
                      <a:lnTo>
                        <a:pt x="217" y="447"/>
                      </a:lnTo>
                      <a:lnTo>
                        <a:pt x="253" y="465"/>
                      </a:lnTo>
                      <a:lnTo>
                        <a:pt x="289" y="477"/>
                      </a:lnTo>
                      <a:lnTo>
                        <a:pt x="328" y="488"/>
                      </a:lnTo>
                      <a:lnTo>
                        <a:pt x="367" y="493"/>
                      </a:lnTo>
                      <a:lnTo>
                        <a:pt x="410" y="495"/>
                      </a:lnTo>
                      <a:lnTo>
                        <a:pt x="422" y="494"/>
                      </a:lnTo>
                      <a:lnTo>
                        <a:pt x="434" y="494"/>
                      </a:lnTo>
                      <a:lnTo>
                        <a:pt x="459" y="492"/>
                      </a:lnTo>
                      <a:lnTo>
                        <a:pt x="482" y="489"/>
                      </a:lnTo>
                      <a:lnTo>
                        <a:pt x="506" y="484"/>
                      </a:lnTo>
                      <a:lnTo>
                        <a:pt x="527" y="477"/>
                      </a:lnTo>
                      <a:lnTo>
                        <a:pt x="550" y="471"/>
                      </a:lnTo>
                      <a:lnTo>
                        <a:pt x="570" y="463"/>
                      </a:lnTo>
                      <a:lnTo>
                        <a:pt x="593" y="454"/>
                      </a:lnTo>
                      <a:lnTo>
                        <a:pt x="601" y="424"/>
                      </a:lnTo>
                      <a:lnTo>
                        <a:pt x="578" y="434"/>
                      </a:lnTo>
                      <a:lnTo>
                        <a:pt x="567" y="439"/>
                      </a:lnTo>
                      <a:lnTo>
                        <a:pt x="561" y="441"/>
                      </a:lnTo>
                      <a:lnTo>
                        <a:pt x="557" y="444"/>
                      </a:lnTo>
                      <a:lnTo>
                        <a:pt x="550" y="446"/>
                      </a:lnTo>
                      <a:lnTo>
                        <a:pt x="544" y="448"/>
                      </a:lnTo>
                      <a:lnTo>
                        <a:pt x="533" y="452"/>
                      </a:lnTo>
                      <a:lnTo>
                        <a:pt x="510" y="460"/>
                      </a:lnTo>
                      <a:lnTo>
                        <a:pt x="485" y="465"/>
                      </a:lnTo>
                      <a:lnTo>
                        <a:pt x="462" y="469"/>
                      </a:lnTo>
                      <a:lnTo>
                        <a:pt x="435" y="472"/>
                      </a:lnTo>
                      <a:lnTo>
                        <a:pt x="410" y="473"/>
                      </a:lnTo>
                      <a:lnTo>
                        <a:pt x="370" y="471"/>
                      </a:lnTo>
                      <a:lnTo>
                        <a:pt x="332" y="465"/>
                      </a:lnTo>
                      <a:lnTo>
                        <a:pt x="295" y="456"/>
                      </a:lnTo>
                      <a:lnTo>
                        <a:pt x="261" y="444"/>
                      </a:lnTo>
                      <a:lnTo>
                        <a:pt x="226" y="427"/>
                      </a:lnTo>
                      <a:lnTo>
                        <a:pt x="194" y="408"/>
                      </a:lnTo>
                      <a:lnTo>
                        <a:pt x="163" y="386"/>
                      </a:lnTo>
                      <a:lnTo>
                        <a:pt x="135" y="359"/>
                      </a:lnTo>
                      <a:lnTo>
                        <a:pt x="108" y="330"/>
                      </a:lnTo>
                      <a:lnTo>
                        <a:pt x="95" y="314"/>
                      </a:lnTo>
                      <a:lnTo>
                        <a:pt x="85" y="299"/>
                      </a:lnTo>
                      <a:lnTo>
                        <a:pt x="74" y="282"/>
                      </a:lnTo>
                      <a:lnTo>
                        <a:pt x="65" y="266"/>
                      </a:lnTo>
                      <a:lnTo>
                        <a:pt x="50" y="234"/>
                      </a:lnTo>
                      <a:lnTo>
                        <a:pt x="42" y="215"/>
                      </a:lnTo>
                      <a:lnTo>
                        <a:pt x="36" y="198"/>
                      </a:lnTo>
                      <a:lnTo>
                        <a:pt x="28" y="162"/>
                      </a:lnTo>
                      <a:lnTo>
                        <a:pt x="23" y="124"/>
                      </a:lnTo>
                      <a:lnTo>
                        <a:pt x="22" y="85"/>
                      </a:lnTo>
                      <a:lnTo>
                        <a:pt x="24" y="41"/>
                      </a:lnTo>
                      <a:lnTo>
                        <a:pt x="26" y="19"/>
                      </a:lnTo>
                      <a:lnTo>
                        <a:pt x="31" y="0"/>
                      </a:lnTo>
                      <a:lnTo>
                        <a:pt x="5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747040" y="274680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8">
                      <a:moveTo>
                        <a:pt x="13" y="12"/>
                      </a:moveTo>
                      <a:lnTo>
                        <a:pt x="6" y="35"/>
                      </a:lnTo>
                      <a:lnTo>
                        <a:pt x="2" y="60"/>
                      </a:lnTo>
                      <a:lnTo>
                        <a:pt x="0" y="85"/>
                      </a:lnTo>
                      <a:lnTo>
                        <a:pt x="0" y="112"/>
                      </a:lnTo>
                      <a:lnTo>
                        <a:pt x="1" y="148"/>
                      </a:lnTo>
                      <a:lnTo>
                        <a:pt x="6" y="185"/>
                      </a:lnTo>
                      <a:lnTo>
                        <a:pt x="14" y="219"/>
                      </a:lnTo>
                      <a:lnTo>
                        <a:pt x="26" y="253"/>
                      </a:lnTo>
                      <a:lnTo>
                        <a:pt x="41" y="283"/>
                      </a:lnTo>
                      <a:lnTo>
                        <a:pt x="60" y="314"/>
                      </a:lnTo>
                      <a:lnTo>
                        <a:pt x="82" y="343"/>
                      </a:lnTo>
                      <a:lnTo>
                        <a:pt x="108" y="372"/>
                      </a:lnTo>
                      <a:lnTo>
                        <a:pt x="134" y="396"/>
                      </a:lnTo>
                      <a:lnTo>
                        <a:pt x="163" y="417"/>
                      </a:lnTo>
                      <a:lnTo>
                        <a:pt x="193" y="435"/>
                      </a:lnTo>
                      <a:lnTo>
                        <a:pt x="226" y="451"/>
                      </a:lnTo>
                      <a:lnTo>
                        <a:pt x="259" y="462"/>
                      </a:lnTo>
                      <a:lnTo>
                        <a:pt x="294" y="471"/>
                      </a:lnTo>
                      <a:lnTo>
                        <a:pt x="329" y="476"/>
                      </a:lnTo>
                      <a:lnTo>
                        <a:pt x="367" y="478"/>
                      </a:lnTo>
                      <a:lnTo>
                        <a:pt x="370" y="477"/>
                      </a:lnTo>
                      <a:lnTo>
                        <a:pt x="373" y="477"/>
                      </a:lnTo>
                      <a:lnTo>
                        <a:pt x="380" y="477"/>
                      </a:lnTo>
                      <a:lnTo>
                        <a:pt x="394" y="477"/>
                      </a:lnTo>
                      <a:lnTo>
                        <a:pt x="406" y="475"/>
                      </a:lnTo>
                      <a:lnTo>
                        <a:pt x="420" y="474"/>
                      </a:lnTo>
                      <a:lnTo>
                        <a:pt x="445" y="469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1" y="464"/>
                      </a:lnTo>
                      <a:lnTo>
                        <a:pt x="482" y="459"/>
                      </a:lnTo>
                      <a:lnTo>
                        <a:pt x="488" y="457"/>
                      </a:lnTo>
                      <a:lnTo>
                        <a:pt x="494" y="456"/>
                      </a:lnTo>
                      <a:lnTo>
                        <a:pt x="518" y="447"/>
                      </a:lnTo>
                      <a:lnTo>
                        <a:pt x="541" y="435"/>
                      </a:lnTo>
                      <a:lnTo>
                        <a:pt x="564" y="423"/>
                      </a:lnTo>
                      <a:lnTo>
                        <a:pt x="568" y="393"/>
                      </a:lnTo>
                      <a:lnTo>
                        <a:pt x="556" y="400"/>
                      </a:lnTo>
                      <a:lnTo>
                        <a:pt x="544" y="408"/>
                      </a:lnTo>
                      <a:lnTo>
                        <a:pt x="522" y="420"/>
                      </a:lnTo>
                      <a:lnTo>
                        <a:pt x="509" y="425"/>
                      </a:lnTo>
                      <a:lnTo>
                        <a:pt x="498" y="431"/>
                      </a:lnTo>
                      <a:lnTo>
                        <a:pt x="485" y="435"/>
                      </a:lnTo>
                      <a:lnTo>
                        <a:pt x="474" y="441"/>
                      </a:lnTo>
                      <a:lnTo>
                        <a:pt x="448" y="448"/>
                      </a:lnTo>
                      <a:lnTo>
                        <a:pt x="434" y="450"/>
                      </a:lnTo>
                      <a:lnTo>
                        <a:pt x="428" y="451"/>
                      </a:lnTo>
                      <a:lnTo>
                        <a:pt x="422" y="453"/>
                      </a:lnTo>
                      <a:lnTo>
                        <a:pt x="395" y="457"/>
                      </a:lnTo>
                      <a:lnTo>
                        <a:pt x="367" y="458"/>
                      </a:lnTo>
                      <a:lnTo>
                        <a:pt x="331" y="456"/>
                      </a:lnTo>
                      <a:lnTo>
                        <a:pt x="297" y="451"/>
                      </a:lnTo>
                      <a:lnTo>
                        <a:pt x="264" y="442"/>
                      </a:lnTo>
                      <a:lnTo>
                        <a:pt x="234" y="432"/>
                      </a:lnTo>
                      <a:lnTo>
                        <a:pt x="203" y="417"/>
                      </a:lnTo>
                      <a:lnTo>
                        <a:pt x="175" y="400"/>
                      </a:lnTo>
                      <a:lnTo>
                        <a:pt x="148" y="378"/>
                      </a:lnTo>
                      <a:lnTo>
                        <a:pt x="123" y="356"/>
                      </a:lnTo>
                      <a:lnTo>
                        <a:pt x="98" y="329"/>
                      </a:lnTo>
                      <a:lnTo>
                        <a:pt x="77" y="301"/>
                      </a:lnTo>
                      <a:lnTo>
                        <a:pt x="60" y="273"/>
                      </a:lnTo>
                      <a:lnTo>
                        <a:pt x="47" y="244"/>
                      </a:lnTo>
                      <a:lnTo>
                        <a:pt x="35" y="212"/>
                      </a:lnTo>
                      <a:lnTo>
                        <a:pt x="27" y="180"/>
                      </a:lnTo>
                      <a:lnTo>
                        <a:pt x="23" y="146"/>
                      </a:lnTo>
                      <a:lnTo>
                        <a:pt x="22" y="112"/>
                      </a:lnTo>
                      <a:lnTo>
                        <a:pt x="23" y="81"/>
                      </a:lnTo>
                      <a:lnTo>
                        <a:pt x="26" y="53"/>
                      </a:lnTo>
                      <a:lnTo>
                        <a:pt x="32" y="26"/>
                      </a:lnTo>
                      <a:lnTo>
                        <a:pt x="40" y="0"/>
                      </a:lnTo>
                      <a:lnTo>
                        <a:pt x="13" y="12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52440" y="2743920"/>
                  <a:ext cx="156600" cy="133560"/>
                </a:xfrm>
                <a:custGeom>
                  <a:avLst/>
                  <a:gdLst/>
                  <a:ahLst/>
                  <a:rect l="l" t="t" r="r" b="b"/>
                  <a:pathLst>
                    <a:path w="547" h="468">
                      <a:moveTo>
                        <a:pt x="44" y="0"/>
                      </a:moveTo>
                      <a:lnTo>
                        <a:pt x="18" y="10"/>
                      </a:lnTo>
                      <a:lnTo>
                        <a:pt x="10" y="36"/>
                      </a:lnTo>
                      <a:lnTo>
                        <a:pt x="4" y="63"/>
                      </a:lnTo>
                      <a:lnTo>
                        <a:pt x="1" y="91"/>
                      </a:lnTo>
                      <a:lnTo>
                        <a:pt x="0" y="122"/>
                      </a:lnTo>
                      <a:lnTo>
                        <a:pt x="1" y="156"/>
                      </a:lnTo>
                      <a:lnTo>
                        <a:pt x="5" y="190"/>
                      </a:lnTo>
                      <a:lnTo>
                        <a:pt x="13" y="222"/>
                      </a:lnTo>
                      <a:lnTo>
                        <a:pt x="25" y="254"/>
                      </a:lnTo>
                      <a:lnTo>
                        <a:pt x="38" y="283"/>
                      </a:lnTo>
                      <a:lnTo>
                        <a:pt x="55" y="311"/>
                      </a:lnTo>
                      <a:lnTo>
                        <a:pt x="76" y="339"/>
                      </a:lnTo>
                      <a:lnTo>
                        <a:pt x="101" y="366"/>
                      </a:lnTo>
                      <a:lnTo>
                        <a:pt x="126" y="388"/>
                      </a:lnTo>
                      <a:lnTo>
                        <a:pt x="153" y="410"/>
                      </a:lnTo>
                      <a:lnTo>
                        <a:pt x="181" y="427"/>
                      </a:lnTo>
                      <a:lnTo>
                        <a:pt x="212" y="442"/>
                      </a:lnTo>
                      <a:lnTo>
                        <a:pt x="242" y="452"/>
                      </a:lnTo>
                      <a:lnTo>
                        <a:pt x="275" y="461"/>
                      </a:lnTo>
                      <a:lnTo>
                        <a:pt x="309" y="466"/>
                      </a:lnTo>
                      <a:lnTo>
                        <a:pt x="345" y="468"/>
                      </a:lnTo>
                      <a:lnTo>
                        <a:pt x="373" y="467"/>
                      </a:lnTo>
                      <a:lnTo>
                        <a:pt x="400" y="463"/>
                      </a:lnTo>
                      <a:lnTo>
                        <a:pt x="406" y="461"/>
                      </a:lnTo>
                      <a:lnTo>
                        <a:pt x="412" y="460"/>
                      </a:lnTo>
                      <a:lnTo>
                        <a:pt x="426" y="458"/>
                      </a:lnTo>
                      <a:lnTo>
                        <a:pt x="452" y="451"/>
                      </a:lnTo>
                      <a:lnTo>
                        <a:pt x="463" y="445"/>
                      </a:lnTo>
                      <a:lnTo>
                        <a:pt x="476" y="441"/>
                      </a:lnTo>
                      <a:lnTo>
                        <a:pt x="487" y="435"/>
                      </a:lnTo>
                      <a:lnTo>
                        <a:pt x="500" y="430"/>
                      </a:lnTo>
                      <a:lnTo>
                        <a:pt x="522" y="418"/>
                      </a:lnTo>
                      <a:lnTo>
                        <a:pt x="534" y="410"/>
                      </a:lnTo>
                      <a:lnTo>
                        <a:pt x="546" y="403"/>
                      </a:lnTo>
                      <a:lnTo>
                        <a:pt x="546" y="388"/>
                      </a:lnTo>
                      <a:lnTo>
                        <a:pt x="547" y="375"/>
                      </a:lnTo>
                      <a:lnTo>
                        <a:pt x="525" y="390"/>
                      </a:lnTo>
                      <a:lnTo>
                        <a:pt x="502" y="404"/>
                      </a:lnTo>
                      <a:lnTo>
                        <a:pt x="477" y="417"/>
                      </a:lnTo>
                      <a:lnTo>
                        <a:pt x="465" y="421"/>
                      </a:lnTo>
                      <a:lnTo>
                        <a:pt x="453" y="427"/>
                      </a:lnTo>
                      <a:lnTo>
                        <a:pt x="440" y="430"/>
                      </a:lnTo>
                      <a:lnTo>
                        <a:pt x="427" y="435"/>
                      </a:lnTo>
                      <a:lnTo>
                        <a:pt x="414" y="437"/>
                      </a:lnTo>
                      <a:lnTo>
                        <a:pt x="407" y="438"/>
                      </a:lnTo>
                      <a:lnTo>
                        <a:pt x="401" y="441"/>
                      </a:lnTo>
                      <a:lnTo>
                        <a:pt x="393" y="441"/>
                      </a:lnTo>
                      <a:lnTo>
                        <a:pt x="386" y="442"/>
                      </a:lnTo>
                      <a:lnTo>
                        <a:pt x="373" y="444"/>
                      </a:lnTo>
                      <a:lnTo>
                        <a:pt x="345" y="445"/>
                      </a:lnTo>
                      <a:lnTo>
                        <a:pt x="311" y="443"/>
                      </a:lnTo>
                      <a:lnTo>
                        <a:pt x="280" y="438"/>
                      </a:lnTo>
                      <a:lnTo>
                        <a:pt x="248" y="430"/>
                      </a:lnTo>
                      <a:lnTo>
                        <a:pt x="220" y="421"/>
                      </a:lnTo>
                      <a:lnTo>
                        <a:pt x="191" y="407"/>
                      </a:lnTo>
                      <a:lnTo>
                        <a:pt x="165" y="391"/>
                      </a:lnTo>
                      <a:lnTo>
                        <a:pt x="139" y="371"/>
                      </a:lnTo>
                      <a:lnTo>
                        <a:pt x="116" y="351"/>
                      </a:lnTo>
                      <a:lnTo>
                        <a:pt x="94" y="326"/>
                      </a:lnTo>
                      <a:lnTo>
                        <a:pt x="75" y="300"/>
                      </a:lnTo>
                      <a:lnTo>
                        <a:pt x="58" y="273"/>
                      </a:lnTo>
                      <a:lnTo>
                        <a:pt x="45" y="246"/>
                      </a:lnTo>
                      <a:lnTo>
                        <a:pt x="34" y="216"/>
                      </a:lnTo>
                      <a:lnTo>
                        <a:pt x="29" y="200"/>
                      </a:lnTo>
                      <a:lnTo>
                        <a:pt x="27" y="186"/>
                      </a:lnTo>
                      <a:lnTo>
                        <a:pt x="22" y="154"/>
                      </a:lnTo>
                      <a:lnTo>
                        <a:pt x="21" y="122"/>
                      </a:lnTo>
                      <a:lnTo>
                        <a:pt x="22" y="89"/>
                      </a:lnTo>
                      <a:lnTo>
                        <a:pt x="27" y="59"/>
                      </a:lnTo>
                      <a:lnTo>
                        <a:pt x="34" y="2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771520" y="273924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8">
                      <a:moveTo>
                        <a:pt x="22" y="138"/>
                      </a:moveTo>
                      <a:lnTo>
                        <a:pt x="24" y="100"/>
                      </a:lnTo>
                      <a:lnTo>
                        <a:pt x="31" y="64"/>
                      </a:lnTo>
                      <a:lnTo>
                        <a:pt x="42" y="30"/>
                      </a:lnTo>
                      <a:lnTo>
                        <a:pt x="60" y="0"/>
                      </a:lnTo>
                      <a:lnTo>
                        <a:pt x="34" y="3"/>
                      </a:lnTo>
                      <a:lnTo>
                        <a:pt x="18" y="34"/>
                      </a:lnTo>
                      <a:lnTo>
                        <a:pt x="8" y="67"/>
                      </a:lnTo>
                      <a:lnTo>
                        <a:pt x="1" y="101"/>
                      </a:lnTo>
                      <a:lnTo>
                        <a:pt x="0" y="138"/>
                      </a:lnTo>
                      <a:lnTo>
                        <a:pt x="1" y="165"/>
                      </a:lnTo>
                      <a:lnTo>
                        <a:pt x="5" y="192"/>
                      </a:lnTo>
                      <a:lnTo>
                        <a:pt x="11" y="219"/>
                      </a:lnTo>
                      <a:lnTo>
                        <a:pt x="21" y="245"/>
                      </a:lnTo>
                      <a:lnTo>
                        <a:pt x="31" y="268"/>
                      </a:lnTo>
                      <a:lnTo>
                        <a:pt x="46" y="292"/>
                      </a:lnTo>
                      <a:lnTo>
                        <a:pt x="63" y="314"/>
                      </a:lnTo>
                      <a:lnTo>
                        <a:pt x="83" y="336"/>
                      </a:lnTo>
                      <a:lnTo>
                        <a:pt x="103" y="355"/>
                      </a:lnTo>
                      <a:lnTo>
                        <a:pt x="125" y="372"/>
                      </a:lnTo>
                      <a:lnTo>
                        <a:pt x="148" y="385"/>
                      </a:lnTo>
                      <a:lnTo>
                        <a:pt x="173" y="398"/>
                      </a:lnTo>
                      <a:lnTo>
                        <a:pt x="198" y="406"/>
                      </a:lnTo>
                      <a:lnTo>
                        <a:pt x="225" y="412"/>
                      </a:lnTo>
                      <a:lnTo>
                        <a:pt x="252" y="416"/>
                      </a:lnTo>
                      <a:lnTo>
                        <a:pt x="281" y="418"/>
                      </a:lnTo>
                      <a:lnTo>
                        <a:pt x="309" y="416"/>
                      </a:lnTo>
                      <a:lnTo>
                        <a:pt x="336" y="412"/>
                      </a:lnTo>
                      <a:lnTo>
                        <a:pt x="342" y="410"/>
                      </a:lnTo>
                      <a:lnTo>
                        <a:pt x="348" y="409"/>
                      </a:lnTo>
                      <a:lnTo>
                        <a:pt x="362" y="406"/>
                      </a:lnTo>
                      <a:lnTo>
                        <a:pt x="374" y="401"/>
                      </a:lnTo>
                      <a:lnTo>
                        <a:pt x="388" y="398"/>
                      </a:lnTo>
                      <a:lnTo>
                        <a:pt x="399" y="391"/>
                      </a:lnTo>
                      <a:lnTo>
                        <a:pt x="402" y="389"/>
                      </a:lnTo>
                      <a:lnTo>
                        <a:pt x="403" y="387"/>
                      </a:lnTo>
                      <a:lnTo>
                        <a:pt x="405" y="387"/>
                      </a:lnTo>
                      <a:lnTo>
                        <a:pt x="412" y="385"/>
                      </a:lnTo>
                      <a:lnTo>
                        <a:pt x="423" y="378"/>
                      </a:lnTo>
                      <a:lnTo>
                        <a:pt x="436" y="372"/>
                      </a:lnTo>
                      <a:lnTo>
                        <a:pt x="446" y="363"/>
                      </a:lnTo>
                      <a:lnTo>
                        <a:pt x="457" y="355"/>
                      </a:lnTo>
                      <a:lnTo>
                        <a:pt x="480" y="336"/>
                      </a:lnTo>
                      <a:lnTo>
                        <a:pt x="481" y="334"/>
                      </a:lnTo>
                      <a:lnTo>
                        <a:pt x="477" y="308"/>
                      </a:lnTo>
                      <a:lnTo>
                        <a:pt x="470" y="314"/>
                      </a:lnTo>
                      <a:lnTo>
                        <a:pt x="464" y="321"/>
                      </a:lnTo>
                      <a:lnTo>
                        <a:pt x="444" y="338"/>
                      </a:lnTo>
                      <a:lnTo>
                        <a:pt x="423" y="352"/>
                      </a:lnTo>
                      <a:lnTo>
                        <a:pt x="412" y="358"/>
                      </a:lnTo>
                      <a:lnTo>
                        <a:pt x="402" y="365"/>
                      </a:lnTo>
                      <a:lnTo>
                        <a:pt x="390" y="370"/>
                      </a:lnTo>
                      <a:lnTo>
                        <a:pt x="380" y="377"/>
                      </a:lnTo>
                      <a:lnTo>
                        <a:pt x="373" y="378"/>
                      </a:lnTo>
                      <a:lnTo>
                        <a:pt x="368" y="381"/>
                      </a:lnTo>
                      <a:lnTo>
                        <a:pt x="356" y="385"/>
                      </a:lnTo>
                      <a:lnTo>
                        <a:pt x="344" y="387"/>
                      </a:lnTo>
                      <a:lnTo>
                        <a:pt x="333" y="391"/>
                      </a:lnTo>
                      <a:lnTo>
                        <a:pt x="319" y="392"/>
                      </a:lnTo>
                      <a:lnTo>
                        <a:pt x="306" y="394"/>
                      </a:lnTo>
                      <a:lnTo>
                        <a:pt x="281" y="397"/>
                      </a:lnTo>
                      <a:lnTo>
                        <a:pt x="254" y="394"/>
                      </a:lnTo>
                      <a:lnTo>
                        <a:pt x="228" y="391"/>
                      </a:lnTo>
                      <a:lnTo>
                        <a:pt x="203" y="385"/>
                      </a:lnTo>
                      <a:lnTo>
                        <a:pt x="181" y="377"/>
                      </a:lnTo>
                      <a:lnTo>
                        <a:pt x="158" y="365"/>
                      </a:lnTo>
                      <a:lnTo>
                        <a:pt x="136" y="352"/>
                      </a:lnTo>
                      <a:lnTo>
                        <a:pt x="116" y="338"/>
                      </a:lnTo>
                      <a:lnTo>
                        <a:pt x="98" y="321"/>
                      </a:lnTo>
                      <a:lnTo>
                        <a:pt x="79" y="300"/>
                      </a:lnTo>
                      <a:lnTo>
                        <a:pt x="64" y="280"/>
                      </a:lnTo>
                      <a:lnTo>
                        <a:pt x="56" y="268"/>
                      </a:lnTo>
                      <a:lnTo>
                        <a:pt x="50" y="258"/>
                      </a:lnTo>
                      <a:lnTo>
                        <a:pt x="40" y="237"/>
                      </a:lnTo>
                      <a:lnTo>
                        <a:pt x="32" y="213"/>
                      </a:lnTo>
                      <a:lnTo>
                        <a:pt x="26" y="189"/>
                      </a:lnTo>
                      <a:lnTo>
                        <a:pt x="23" y="163"/>
                      </a:lnTo>
                      <a:lnTo>
                        <a:pt x="22" y="138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777280" y="2738880"/>
                  <a:ext cx="130320" cy="113400"/>
                </a:xfrm>
                <a:custGeom>
                  <a:avLst/>
                  <a:gdLst/>
                  <a:ahLst/>
                  <a:rect l="l" t="t" r="r" b="b"/>
                  <a:pathLst>
                    <a:path w="455" h="398">
                      <a:moveTo>
                        <a:pt x="38" y="1"/>
                      </a:moveTo>
                      <a:lnTo>
                        <a:pt x="20" y="31"/>
                      </a:lnTo>
                      <a:lnTo>
                        <a:pt x="9" y="65"/>
                      </a:lnTo>
                      <a:lnTo>
                        <a:pt x="2" y="101"/>
                      </a:lnTo>
                      <a:lnTo>
                        <a:pt x="0" y="139"/>
                      </a:lnTo>
                      <a:lnTo>
                        <a:pt x="1" y="164"/>
                      </a:lnTo>
                      <a:lnTo>
                        <a:pt x="4" y="190"/>
                      </a:lnTo>
                      <a:lnTo>
                        <a:pt x="10" y="214"/>
                      </a:lnTo>
                      <a:lnTo>
                        <a:pt x="18" y="238"/>
                      </a:lnTo>
                      <a:lnTo>
                        <a:pt x="28" y="259"/>
                      </a:lnTo>
                      <a:lnTo>
                        <a:pt x="34" y="269"/>
                      </a:lnTo>
                      <a:lnTo>
                        <a:pt x="42" y="281"/>
                      </a:lnTo>
                      <a:lnTo>
                        <a:pt x="57" y="301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4" y="353"/>
                      </a:lnTo>
                      <a:lnTo>
                        <a:pt x="136" y="366"/>
                      </a:lnTo>
                      <a:lnTo>
                        <a:pt x="159" y="378"/>
                      </a:lnTo>
                      <a:lnTo>
                        <a:pt x="181" y="386"/>
                      </a:lnTo>
                      <a:lnTo>
                        <a:pt x="206" y="392"/>
                      </a:lnTo>
                      <a:lnTo>
                        <a:pt x="232" y="395"/>
                      </a:lnTo>
                      <a:lnTo>
                        <a:pt x="259" y="398"/>
                      </a:lnTo>
                      <a:lnTo>
                        <a:pt x="284" y="395"/>
                      </a:lnTo>
                      <a:lnTo>
                        <a:pt x="297" y="393"/>
                      </a:lnTo>
                      <a:lnTo>
                        <a:pt x="311" y="392"/>
                      </a:lnTo>
                      <a:lnTo>
                        <a:pt x="322" y="388"/>
                      </a:lnTo>
                      <a:lnTo>
                        <a:pt x="334" y="386"/>
                      </a:lnTo>
                      <a:lnTo>
                        <a:pt x="346" y="382"/>
                      </a:lnTo>
                      <a:lnTo>
                        <a:pt x="351" y="379"/>
                      </a:lnTo>
                      <a:lnTo>
                        <a:pt x="358" y="378"/>
                      </a:lnTo>
                      <a:lnTo>
                        <a:pt x="368" y="371"/>
                      </a:lnTo>
                      <a:lnTo>
                        <a:pt x="380" y="366"/>
                      </a:lnTo>
                      <a:lnTo>
                        <a:pt x="390" y="359"/>
                      </a:lnTo>
                      <a:lnTo>
                        <a:pt x="401" y="353"/>
                      </a:lnTo>
                      <a:lnTo>
                        <a:pt x="422" y="339"/>
                      </a:lnTo>
                      <a:lnTo>
                        <a:pt x="442" y="322"/>
                      </a:lnTo>
                      <a:lnTo>
                        <a:pt x="448" y="315"/>
                      </a:lnTo>
                      <a:lnTo>
                        <a:pt x="455" y="309"/>
                      </a:lnTo>
                      <a:lnTo>
                        <a:pt x="449" y="282"/>
                      </a:lnTo>
                      <a:lnTo>
                        <a:pt x="438" y="294"/>
                      </a:lnTo>
                      <a:lnTo>
                        <a:pt x="434" y="297"/>
                      </a:lnTo>
                      <a:lnTo>
                        <a:pt x="432" y="300"/>
                      </a:lnTo>
                      <a:lnTo>
                        <a:pt x="427" y="307"/>
                      </a:lnTo>
                      <a:lnTo>
                        <a:pt x="417" y="314"/>
                      </a:lnTo>
                      <a:lnTo>
                        <a:pt x="408" y="322"/>
                      </a:lnTo>
                      <a:lnTo>
                        <a:pt x="390" y="336"/>
                      </a:lnTo>
                      <a:lnTo>
                        <a:pt x="369" y="348"/>
                      </a:lnTo>
                      <a:lnTo>
                        <a:pt x="359" y="352"/>
                      </a:lnTo>
                      <a:lnTo>
                        <a:pt x="350" y="358"/>
                      </a:lnTo>
                      <a:lnTo>
                        <a:pt x="328" y="366"/>
                      </a:lnTo>
                      <a:lnTo>
                        <a:pt x="316" y="368"/>
                      </a:lnTo>
                      <a:lnTo>
                        <a:pt x="313" y="368"/>
                      </a:lnTo>
                      <a:lnTo>
                        <a:pt x="311" y="369"/>
                      </a:lnTo>
                      <a:lnTo>
                        <a:pt x="306" y="371"/>
                      </a:lnTo>
                      <a:lnTo>
                        <a:pt x="299" y="371"/>
                      </a:lnTo>
                      <a:lnTo>
                        <a:pt x="296" y="371"/>
                      </a:lnTo>
                      <a:lnTo>
                        <a:pt x="294" y="373"/>
                      </a:lnTo>
                      <a:lnTo>
                        <a:pt x="282" y="375"/>
                      </a:lnTo>
                      <a:lnTo>
                        <a:pt x="259" y="376"/>
                      </a:lnTo>
                      <a:lnTo>
                        <a:pt x="235" y="375"/>
                      </a:lnTo>
                      <a:lnTo>
                        <a:pt x="211" y="371"/>
                      </a:lnTo>
                      <a:lnTo>
                        <a:pt x="188" y="366"/>
                      </a:lnTo>
                      <a:lnTo>
                        <a:pt x="168" y="358"/>
                      </a:lnTo>
                      <a:lnTo>
                        <a:pt x="146" y="348"/>
                      </a:lnTo>
                      <a:lnTo>
                        <a:pt x="127" y="336"/>
                      </a:lnTo>
                      <a:lnTo>
                        <a:pt x="108" y="322"/>
                      </a:lnTo>
                      <a:lnTo>
                        <a:pt x="91" y="307"/>
                      </a:lnTo>
                      <a:lnTo>
                        <a:pt x="74" y="288"/>
                      </a:lnTo>
                      <a:lnTo>
                        <a:pt x="59" y="269"/>
                      </a:lnTo>
                      <a:lnTo>
                        <a:pt x="46" y="249"/>
                      </a:lnTo>
                      <a:lnTo>
                        <a:pt x="38" y="230"/>
                      </a:lnTo>
                      <a:lnTo>
                        <a:pt x="30" y="207"/>
                      </a:lnTo>
                      <a:lnTo>
                        <a:pt x="25" y="186"/>
                      </a:lnTo>
                      <a:lnTo>
                        <a:pt x="21" y="162"/>
                      </a:lnTo>
                      <a:lnTo>
                        <a:pt x="21" y="139"/>
                      </a:lnTo>
                      <a:lnTo>
                        <a:pt x="24" y="99"/>
                      </a:lnTo>
                      <a:lnTo>
                        <a:pt x="32" y="64"/>
                      </a:lnTo>
                      <a:lnTo>
                        <a:pt x="37" y="46"/>
                      </a:lnTo>
                      <a:lnTo>
                        <a:pt x="45" y="30"/>
                      </a:lnTo>
                      <a:lnTo>
                        <a:pt x="66" y="0"/>
                      </a:lnTo>
                      <a:lnTo>
                        <a:pt x="38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765040" y="2740680"/>
                  <a:ext cx="144000" cy="124560"/>
                </a:xfrm>
                <a:custGeom>
                  <a:avLst/>
                  <a:gdLst/>
                  <a:ahLst/>
                  <a:rect l="l" t="t" r="r" b="b"/>
                  <a:pathLst>
                    <a:path w="504" h="437">
                      <a:moveTo>
                        <a:pt x="21" y="135"/>
                      </a:moveTo>
                      <a:lnTo>
                        <a:pt x="22" y="98"/>
                      </a:lnTo>
                      <a:lnTo>
                        <a:pt x="29" y="64"/>
                      </a:lnTo>
                      <a:lnTo>
                        <a:pt x="39" y="31"/>
                      </a:lnTo>
                      <a:lnTo>
                        <a:pt x="55" y="0"/>
                      </a:lnTo>
                      <a:lnTo>
                        <a:pt x="27" y="6"/>
                      </a:lnTo>
                      <a:lnTo>
                        <a:pt x="15" y="35"/>
                      </a:lnTo>
                      <a:lnTo>
                        <a:pt x="7" y="67"/>
                      </a:lnTo>
                      <a:lnTo>
                        <a:pt x="1" y="100"/>
                      </a:lnTo>
                      <a:lnTo>
                        <a:pt x="0" y="135"/>
                      </a:lnTo>
                      <a:lnTo>
                        <a:pt x="1" y="165"/>
                      </a:lnTo>
                      <a:lnTo>
                        <a:pt x="4" y="194"/>
                      </a:lnTo>
                      <a:lnTo>
                        <a:pt x="7" y="208"/>
                      </a:lnTo>
                      <a:lnTo>
                        <a:pt x="11" y="222"/>
                      </a:lnTo>
                      <a:lnTo>
                        <a:pt x="21" y="251"/>
                      </a:lnTo>
                      <a:lnTo>
                        <a:pt x="34" y="276"/>
                      </a:lnTo>
                      <a:lnTo>
                        <a:pt x="49" y="301"/>
                      </a:lnTo>
                      <a:lnTo>
                        <a:pt x="56" y="312"/>
                      </a:lnTo>
                      <a:lnTo>
                        <a:pt x="67" y="324"/>
                      </a:lnTo>
                      <a:lnTo>
                        <a:pt x="88" y="348"/>
                      </a:lnTo>
                      <a:lnTo>
                        <a:pt x="110" y="367"/>
                      </a:lnTo>
                      <a:lnTo>
                        <a:pt x="134" y="386"/>
                      </a:lnTo>
                      <a:lnTo>
                        <a:pt x="158" y="400"/>
                      </a:lnTo>
                      <a:lnTo>
                        <a:pt x="186" y="414"/>
                      </a:lnTo>
                      <a:lnTo>
                        <a:pt x="212" y="423"/>
                      </a:lnTo>
                      <a:lnTo>
                        <a:pt x="241" y="431"/>
                      </a:lnTo>
                      <a:lnTo>
                        <a:pt x="271" y="434"/>
                      </a:lnTo>
                      <a:lnTo>
                        <a:pt x="302" y="437"/>
                      </a:lnTo>
                      <a:lnTo>
                        <a:pt x="330" y="434"/>
                      </a:lnTo>
                      <a:lnTo>
                        <a:pt x="343" y="432"/>
                      </a:lnTo>
                      <a:lnTo>
                        <a:pt x="350" y="431"/>
                      </a:lnTo>
                      <a:lnTo>
                        <a:pt x="358" y="431"/>
                      </a:lnTo>
                      <a:lnTo>
                        <a:pt x="364" y="429"/>
                      </a:lnTo>
                      <a:lnTo>
                        <a:pt x="371" y="428"/>
                      </a:lnTo>
                      <a:lnTo>
                        <a:pt x="384" y="425"/>
                      </a:lnTo>
                      <a:lnTo>
                        <a:pt x="397" y="421"/>
                      </a:lnTo>
                      <a:lnTo>
                        <a:pt x="410" y="417"/>
                      </a:lnTo>
                      <a:lnTo>
                        <a:pt x="422" y="411"/>
                      </a:lnTo>
                      <a:lnTo>
                        <a:pt x="424" y="408"/>
                      </a:lnTo>
                      <a:lnTo>
                        <a:pt x="425" y="407"/>
                      </a:lnTo>
                      <a:lnTo>
                        <a:pt x="427" y="407"/>
                      </a:lnTo>
                      <a:lnTo>
                        <a:pt x="434" y="405"/>
                      </a:lnTo>
                      <a:lnTo>
                        <a:pt x="459" y="392"/>
                      </a:lnTo>
                      <a:lnTo>
                        <a:pt x="482" y="377"/>
                      </a:lnTo>
                      <a:lnTo>
                        <a:pt x="504" y="360"/>
                      </a:lnTo>
                      <a:lnTo>
                        <a:pt x="502" y="331"/>
                      </a:lnTo>
                      <a:lnTo>
                        <a:pt x="501" y="333"/>
                      </a:lnTo>
                      <a:lnTo>
                        <a:pt x="478" y="352"/>
                      </a:lnTo>
                      <a:lnTo>
                        <a:pt x="467" y="360"/>
                      </a:lnTo>
                      <a:lnTo>
                        <a:pt x="457" y="369"/>
                      </a:lnTo>
                      <a:lnTo>
                        <a:pt x="444" y="375"/>
                      </a:lnTo>
                      <a:lnTo>
                        <a:pt x="433" y="382"/>
                      </a:lnTo>
                      <a:lnTo>
                        <a:pt x="426" y="384"/>
                      </a:lnTo>
                      <a:lnTo>
                        <a:pt x="424" y="384"/>
                      </a:lnTo>
                      <a:lnTo>
                        <a:pt x="423" y="386"/>
                      </a:lnTo>
                      <a:lnTo>
                        <a:pt x="420" y="388"/>
                      </a:lnTo>
                      <a:lnTo>
                        <a:pt x="409" y="395"/>
                      </a:lnTo>
                      <a:lnTo>
                        <a:pt x="395" y="398"/>
                      </a:lnTo>
                      <a:lnTo>
                        <a:pt x="383" y="403"/>
                      </a:lnTo>
                      <a:lnTo>
                        <a:pt x="369" y="406"/>
                      </a:lnTo>
                      <a:lnTo>
                        <a:pt x="363" y="407"/>
                      </a:lnTo>
                      <a:lnTo>
                        <a:pt x="357" y="409"/>
                      </a:lnTo>
                      <a:lnTo>
                        <a:pt x="330" y="413"/>
                      </a:lnTo>
                      <a:lnTo>
                        <a:pt x="302" y="415"/>
                      </a:lnTo>
                      <a:lnTo>
                        <a:pt x="273" y="413"/>
                      </a:lnTo>
                      <a:lnTo>
                        <a:pt x="246" y="409"/>
                      </a:lnTo>
                      <a:lnTo>
                        <a:pt x="219" y="403"/>
                      </a:lnTo>
                      <a:lnTo>
                        <a:pt x="194" y="395"/>
                      </a:lnTo>
                      <a:lnTo>
                        <a:pt x="169" y="382"/>
                      </a:lnTo>
                      <a:lnTo>
                        <a:pt x="146" y="369"/>
                      </a:lnTo>
                      <a:lnTo>
                        <a:pt x="124" y="352"/>
                      </a:lnTo>
                      <a:lnTo>
                        <a:pt x="104" y="333"/>
                      </a:lnTo>
                      <a:lnTo>
                        <a:pt x="84" y="311"/>
                      </a:lnTo>
                      <a:lnTo>
                        <a:pt x="67" y="289"/>
                      </a:lnTo>
                      <a:lnTo>
                        <a:pt x="52" y="265"/>
                      </a:lnTo>
                      <a:lnTo>
                        <a:pt x="42" y="242"/>
                      </a:lnTo>
                      <a:lnTo>
                        <a:pt x="32" y="216"/>
                      </a:lnTo>
                      <a:lnTo>
                        <a:pt x="26" y="189"/>
                      </a:lnTo>
                      <a:lnTo>
                        <a:pt x="22" y="162"/>
                      </a:lnTo>
                      <a:lnTo>
                        <a:pt x="21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758920" y="2741760"/>
                  <a:ext cx="150120" cy="129600"/>
                </a:xfrm>
                <a:custGeom>
                  <a:avLst/>
                  <a:gdLst/>
                  <a:ahLst/>
                  <a:rect l="l" t="t" r="r" b="b"/>
                  <a:pathLst>
                    <a:path w="526" h="452">
                      <a:moveTo>
                        <a:pt x="22" y="129"/>
                      </a:moveTo>
                      <a:lnTo>
                        <a:pt x="23" y="94"/>
                      </a:lnTo>
                      <a:lnTo>
                        <a:pt x="29" y="61"/>
                      </a:lnTo>
                      <a:lnTo>
                        <a:pt x="37" y="29"/>
                      </a:lnTo>
                      <a:lnTo>
                        <a:pt x="49" y="0"/>
                      </a:lnTo>
                      <a:lnTo>
                        <a:pt x="23" y="7"/>
                      </a:lnTo>
                      <a:lnTo>
                        <a:pt x="13" y="35"/>
                      </a:lnTo>
                      <a:lnTo>
                        <a:pt x="6" y="66"/>
                      </a:lnTo>
                      <a:lnTo>
                        <a:pt x="1" y="96"/>
                      </a:lnTo>
                      <a:lnTo>
                        <a:pt x="0" y="129"/>
                      </a:lnTo>
                      <a:lnTo>
                        <a:pt x="1" y="161"/>
                      </a:lnTo>
                      <a:lnTo>
                        <a:pt x="6" y="193"/>
                      </a:lnTo>
                      <a:lnTo>
                        <a:pt x="8" y="207"/>
                      </a:lnTo>
                      <a:lnTo>
                        <a:pt x="13" y="223"/>
                      </a:lnTo>
                      <a:lnTo>
                        <a:pt x="24" y="253"/>
                      </a:lnTo>
                      <a:lnTo>
                        <a:pt x="37" y="280"/>
                      </a:lnTo>
                      <a:lnTo>
                        <a:pt x="54" y="307"/>
                      </a:lnTo>
                      <a:lnTo>
                        <a:pt x="73" y="333"/>
                      </a:lnTo>
                      <a:lnTo>
                        <a:pt x="95" y="358"/>
                      </a:lnTo>
                      <a:lnTo>
                        <a:pt x="118" y="378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9" y="428"/>
                      </a:lnTo>
                      <a:lnTo>
                        <a:pt x="227" y="437"/>
                      </a:lnTo>
                      <a:lnTo>
                        <a:pt x="259" y="445"/>
                      </a:lnTo>
                      <a:lnTo>
                        <a:pt x="290" y="450"/>
                      </a:lnTo>
                      <a:lnTo>
                        <a:pt x="324" y="452"/>
                      </a:lnTo>
                      <a:lnTo>
                        <a:pt x="352" y="451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80" y="448"/>
                      </a:lnTo>
                      <a:lnTo>
                        <a:pt x="386" y="445"/>
                      </a:lnTo>
                      <a:lnTo>
                        <a:pt x="393" y="444"/>
                      </a:lnTo>
                      <a:lnTo>
                        <a:pt x="406" y="442"/>
                      </a:lnTo>
                      <a:lnTo>
                        <a:pt x="419" y="437"/>
                      </a:lnTo>
                      <a:lnTo>
                        <a:pt x="432" y="434"/>
                      </a:lnTo>
                      <a:lnTo>
                        <a:pt x="444" y="428"/>
                      </a:lnTo>
                      <a:lnTo>
                        <a:pt x="456" y="424"/>
                      </a:lnTo>
                      <a:lnTo>
                        <a:pt x="481" y="411"/>
                      </a:lnTo>
                      <a:lnTo>
                        <a:pt x="504" y="397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4"/>
                      </a:lnTo>
                      <a:lnTo>
                        <a:pt x="504" y="371"/>
                      </a:lnTo>
                      <a:lnTo>
                        <a:pt x="481" y="386"/>
                      </a:lnTo>
                      <a:lnTo>
                        <a:pt x="456" y="399"/>
                      </a:lnTo>
                      <a:lnTo>
                        <a:pt x="449" y="401"/>
                      </a:lnTo>
                      <a:lnTo>
                        <a:pt x="447" y="401"/>
                      </a:lnTo>
                      <a:lnTo>
                        <a:pt x="446" y="402"/>
                      </a:lnTo>
                      <a:lnTo>
                        <a:pt x="444" y="405"/>
                      </a:lnTo>
                      <a:lnTo>
                        <a:pt x="432" y="411"/>
                      </a:lnTo>
                      <a:lnTo>
                        <a:pt x="419" y="415"/>
                      </a:lnTo>
                      <a:lnTo>
                        <a:pt x="406" y="419"/>
                      </a:lnTo>
                      <a:lnTo>
                        <a:pt x="393" y="422"/>
                      </a:lnTo>
                      <a:lnTo>
                        <a:pt x="386" y="423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5" y="426"/>
                      </a:lnTo>
                      <a:lnTo>
                        <a:pt x="352" y="428"/>
                      </a:lnTo>
                      <a:lnTo>
                        <a:pt x="324" y="431"/>
                      </a:lnTo>
                      <a:lnTo>
                        <a:pt x="293" y="428"/>
                      </a:lnTo>
                      <a:lnTo>
                        <a:pt x="263" y="425"/>
                      </a:lnTo>
                      <a:lnTo>
                        <a:pt x="234" y="417"/>
                      </a:lnTo>
                      <a:lnTo>
                        <a:pt x="208" y="408"/>
                      </a:lnTo>
                      <a:lnTo>
                        <a:pt x="180" y="394"/>
                      </a:lnTo>
                      <a:lnTo>
                        <a:pt x="156" y="380"/>
                      </a:lnTo>
                      <a:lnTo>
                        <a:pt x="132" y="361"/>
                      </a:lnTo>
                      <a:lnTo>
                        <a:pt x="110" y="342"/>
                      </a:lnTo>
                      <a:lnTo>
                        <a:pt x="89" y="318"/>
                      </a:lnTo>
                      <a:lnTo>
                        <a:pt x="78" y="306"/>
                      </a:lnTo>
                      <a:lnTo>
                        <a:pt x="71" y="295"/>
                      </a:lnTo>
                      <a:lnTo>
                        <a:pt x="56" y="270"/>
                      </a:lnTo>
                      <a:lnTo>
                        <a:pt x="43" y="245"/>
                      </a:lnTo>
                      <a:lnTo>
                        <a:pt x="33" y="216"/>
                      </a:lnTo>
                      <a:lnTo>
                        <a:pt x="29" y="202"/>
                      </a:lnTo>
                      <a:lnTo>
                        <a:pt x="26" y="188"/>
                      </a:lnTo>
                      <a:lnTo>
                        <a:pt x="23" y="159"/>
                      </a:lnTo>
                      <a:lnTo>
                        <a:pt x="22" y="129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689800" y="284220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4" h="398">
                      <a:moveTo>
                        <a:pt x="0" y="23"/>
                      </a:moveTo>
                      <a:lnTo>
                        <a:pt x="1" y="55"/>
                      </a:lnTo>
                      <a:lnTo>
                        <a:pt x="24" y="98"/>
                      </a:lnTo>
                      <a:lnTo>
                        <a:pt x="53" y="141"/>
                      </a:lnTo>
                      <a:lnTo>
                        <a:pt x="85" y="182"/>
                      </a:lnTo>
                      <a:lnTo>
                        <a:pt x="122" y="221"/>
                      </a:lnTo>
                      <a:lnTo>
                        <a:pt x="158" y="255"/>
                      </a:lnTo>
                      <a:lnTo>
                        <a:pt x="198" y="287"/>
                      </a:lnTo>
                      <a:lnTo>
                        <a:pt x="239" y="314"/>
                      </a:lnTo>
                      <a:lnTo>
                        <a:pt x="282" y="339"/>
                      </a:lnTo>
                      <a:lnTo>
                        <a:pt x="325" y="358"/>
                      </a:lnTo>
                      <a:lnTo>
                        <a:pt x="372" y="375"/>
                      </a:lnTo>
                      <a:lnTo>
                        <a:pt x="419" y="388"/>
                      </a:lnTo>
                      <a:lnTo>
                        <a:pt x="469" y="398"/>
                      </a:lnTo>
                      <a:lnTo>
                        <a:pt x="496" y="390"/>
                      </a:lnTo>
                      <a:lnTo>
                        <a:pt x="524" y="382"/>
                      </a:lnTo>
                      <a:lnTo>
                        <a:pt x="468" y="375"/>
                      </a:lnTo>
                      <a:lnTo>
                        <a:pt x="441" y="371"/>
                      </a:lnTo>
                      <a:lnTo>
                        <a:pt x="415" y="365"/>
                      </a:lnTo>
                      <a:lnTo>
                        <a:pt x="364" y="349"/>
                      </a:lnTo>
                      <a:lnTo>
                        <a:pt x="315" y="331"/>
                      </a:lnTo>
                      <a:lnTo>
                        <a:pt x="266" y="306"/>
                      </a:lnTo>
                      <a:lnTo>
                        <a:pt x="222" y="277"/>
                      </a:lnTo>
                      <a:lnTo>
                        <a:pt x="178" y="243"/>
                      </a:lnTo>
                      <a:lnTo>
                        <a:pt x="138" y="206"/>
                      </a:lnTo>
                      <a:lnTo>
                        <a:pt x="114" y="182"/>
                      </a:lnTo>
                      <a:lnTo>
                        <a:pt x="93" y="158"/>
                      </a:lnTo>
                      <a:lnTo>
                        <a:pt x="72" y="132"/>
                      </a:lnTo>
                      <a:lnTo>
                        <a:pt x="55" y="107"/>
                      </a:lnTo>
                      <a:lnTo>
                        <a:pt x="38" y="80"/>
                      </a:lnTo>
                      <a:lnTo>
                        <a:pt x="24" y="53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89800" y="2827440"/>
                  <a:ext cx="162360" cy="123840"/>
                </a:xfrm>
                <a:custGeom>
                  <a:avLst/>
                  <a:gdLst/>
                  <a:ahLst/>
                  <a:rect l="l" t="t" r="r" b="b"/>
                  <a:pathLst>
                    <a:path w="567" h="433">
                      <a:moveTo>
                        <a:pt x="7" y="0"/>
                      </a:moveTo>
                      <a:lnTo>
                        <a:pt x="1" y="25"/>
                      </a:lnTo>
                      <a:lnTo>
                        <a:pt x="0" y="51"/>
                      </a:lnTo>
                      <a:lnTo>
                        <a:pt x="10" y="77"/>
                      </a:lnTo>
                      <a:lnTo>
                        <a:pt x="24" y="104"/>
                      </a:lnTo>
                      <a:lnTo>
                        <a:pt x="38" y="131"/>
                      </a:lnTo>
                      <a:lnTo>
                        <a:pt x="55" y="158"/>
                      </a:lnTo>
                      <a:lnTo>
                        <a:pt x="72" y="183"/>
                      </a:lnTo>
                      <a:lnTo>
                        <a:pt x="93" y="209"/>
                      </a:lnTo>
                      <a:lnTo>
                        <a:pt x="114" y="233"/>
                      </a:lnTo>
                      <a:lnTo>
                        <a:pt x="138" y="257"/>
                      </a:lnTo>
                      <a:lnTo>
                        <a:pt x="178" y="294"/>
                      </a:lnTo>
                      <a:lnTo>
                        <a:pt x="222" y="328"/>
                      </a:lnTo>
                      <a:lnTo>
                        <a:pt x="266" y="357"/>
                      </a:lnTo>
                      <a:lnTo>
                        <a:pt x="315" y="382"/>
                      </a:lnTo>
                      <a:lnTo>
                        <a:pt x="364" y="400"/>
                      </a:lnTo>
                      <a:lnTo>
                        <a:pt x="415" y="416"/>
                      </a:lnTo>
                      <a:lnTo>
                        <a:pt x="441" y="422"/>
                      </a:lnTo>
                      <a:lnTo>
                        <a:pt x="468" y="426"/>
                      </a:lnTo>
                      <a:lnTo>
                        <a:pt x="524" y="433"/>
                      </a:lnTo>
                      <a:lnTo>
                        <a:pt x="567" y="413"/>
                      </a:lnTo>
                      <a:lnTo>
                        <a:pt x="565" y="413"/>
                      </a:lnTo>
                      <a:lnTo>
                        <a:pt x="535" y="412"/>
                      </a:lnTo>
                      <a:lnTo>
                        <a:pt x="505" y="409"/>
                      </a:lnTo>
                      <a:lnTo>
                        <a:pt x="476" y="406"/>
                      </a:lnTo>
                      <a:lnTo>
                        <a:pt x="448" y="401"/>
                      </a:lnTo>
                      <a:lnTo>
                        <a:pt x="392" y="388"/>
                      </a:lnTo>
                      <a:lnTo>
                        <a:pt x="341" y="370"/>
                      </a:lnTo>
                      <a:lnTo>
                        <a:pt x="290" y="345"/>
                      </a:lnTo>
                      <a:lnTo>
                        <a:pt x="241" y="315"/>
                      </a:lnTo>
                      <a:lnTo>
                        <a:pt x="217" y="298"/>
                      </a:lnTo>
                      <a:lnTo>
                        <a:pt x="195" y="280"/>
                      </a:lnTo>
                      <a:lnTo>
                        <a:pt x="153" y="242"/>
                      </a:lnTo>
                      <a:lnTo>
                        <a:pt x="127" y="213"/>
                      </a:lnTo>
                      <a:lnTo>
                        <a:pt x="103" y="186"/>
                      </a:lnTo>
                      <a:lnTo>
                        <a:pt x="81" y="157"/>
                      </a:lnTo>
                      <a:lnTo>
                        <a:pt x="62" y="127"/>
                      </a:lnTo>
                      <a:lnTo>
                        <a:pt x="44" y="95"/>
                      </a:lnTo>
                      <a:lnTo>
                        <a:pt x="29" y="65"/>
                      </a:lnTo>
                      <a:lnTo>
                        <a:pt x="17" y="3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91960" y="2814840"/>
                  <a:ext cx="170280" cy="129960"/>
                </a:xfrm>
                <a:custGeom>
                  <a:avLst/>
                  <a:gdLst/>
                  <a:ahLst/>
                  <a:rect l="l" t="t" r="r" b="b"/>
                  <a:pathLst>
                    <a:path w="596" h="457">
                      <a:moveTo>
                        <a:pt x="10" y="0"/>
                      </a:moveTo>
                      <a:lnTo>
                        <a:pt x="0" y="44"/>
                      </a:lnTo>
                      <a:lnTo>
                        <a:pt x="10" y="76"/>
                      </a:lnTo>
                      <a:lnTo>
                        <a:pt x="22" y="109"/>
                      </a:lnTo>
                      <a:lnTo>
                        <a:pt x="37" y="139"/>
                      </a:lnTo>
                      <a:lnTo>
                        <a:pt x="55" y="171"/>
                      </a:lnTo>
                      <a:lnTo>
                        <a:pt x="74" y="201"/>
                      </a:lnTo>
                      <a:lnTo>
                        <a:pt x="96" y="230"/>
                      </a:lnTo>
                      <a:lnTo>
                        <a:pt x="120" y="257"/>
                      </a:lnTo>
                      <a:lnTo>
                        <a:pt x="146" y="286"/>
                      </a:lnTo>
                      <a:lnTo>
                        <a:pt x="188" y="324"/>
                      </a:lnTo>
                      <a:lnTo>
                        <a:pt x="210" y="342"/>
                      </a:lnTo>
                      <a:lnTo>
                        <a:pt x="234" y="359"/>
                      </a:lnTo>
                      <a:lnTo>
                        <a:pt x="283" y="389"/>
                      </a:lnTo>
                      <a:lnTo>
                        <a:pt x="334" y="414"/>
                      </a:lnTo>
                      <a:lnTo>
                        <a:pt x="385" y="432"/>
                      </a:lnTo>
                      <a:lnTo>
                        <a:pt x="441" y="445"/>
                      </a:lnTo>
                      <a:lnTo>
                        <a:pt x="469" y="450"/>
                      </a:lnTo>
                      <a:lnTo>
                        <a:pt x="498" y="453"/>
                      </a:lnTo>
                      <a:lnTo>
                        <a:pt x="528" y="456"/>
                      </a:lnTo>
                      <a:lnTo>
                        <a:pt x="558" y="457"/>
                      </a:lnTo>
                      <a:lnTo>
                        <a:pt x="560" y="457"/>
                      </a:lnTo>
                      <a:lnTo>
                        <a:pt x="596" y="434"/>
                      </a:lnTo>
                      <a:lnTo>
                        <a:pt x="558" y="435"/>
                      </a:lnTo>
                      <a:lnTo>
                        <a:pt x="529" y="434"/>
                      </a:lnTo>
                      <a:lnTo>
                        <a:pt x="501" y="432"/>
                      </a:lnTo>
                      <a:lnTo>
                        <a:pt x="472" y="428"/>
                      </a:lnTo>
                      <a:lnTo>
                        <a:pt x="445" y="424"/>
                      </a:lnTo>
                      <a:lnTo>
                        <a:pt x="392" y="410"/>
                      </a:lnTo>
                      <a:lnTo>
                        <a:pt x="367" y="402"/>
                      </a:lnTo>
                      <a:lnTo>
                        <a:pt x="342" y="393"/>
                      </a:lnTo>
                      <a:lnTo>
                        <a:pt x="317" y="382"/>
                      </a:lnTo>
                      <a:lnTo>
                        <a:pt x="293" y="370"/>
                      </a:lnTo>
                      <a:lnTo>
                        <a:pt x="247" y="342"/>
                      </a:lnTo>
                      <a:lnTo>
                        <a:pt x="202" y="308"/>
                      </a:lnTo>
                      <a:lnTo>
                        <a:pt x="181" y="290"/>
                      </a:lnTo>
                      <a:lnTo>
                        <a:pt x="161" y="271"/>
                      </a:lnTo>
                      <a:lnTo>
                        <a:pt x="132" y="240"/>
                      </a:lnTo>
                      <a:lnTo>
                        <a:pt x="106" y="210"/>
                      </a:lnTo>
                      <a:lnTo>
                        <a:pt x="94" y="193"/>
                      </a:lnTo>
                      <a:lnTo>
                        <a:pt x="83" y="177"/>
                      </a:lnTo>
                      <a:lnTo>
                        <a:pt x="64" y="144"/>
                      </a:lnTo>
                      <a:lnTo>
                        <a:pt x="54" y="126"/>
                      </a:lnTo>
                      <a:lnTo>
                        <a:pt x="46" y="109"/>
                      </a:lnTo>
                      <a:lnTo>
                        <a:pt x="31" y="74"/>
                      </a:lnTo>
                      <a:lnTo>
                        <a:pt x="19" y="3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694840" y="2804040"/>
                  <a:ext cx="176040" cy="135360"/>
                </a:xfrm>
                <a:custGeom>
                  <a:avLst/>
                  <a:gdLst/>
                  <a:ahLst/>
                  <a:rect l="l" t="t" r="r" b="b"/>
                  <a:pathLst>
                    <a:path w="617" h="474">
                      <a:moveTo>
                        <a:pt x="14" y="0"/>
                      </a:moveTo>
                      <a:lnTo>
                        <a:pt x="0" y="39"/>
                      </a:lnTo>
                      <a:lnTo>
                        <a:pt x="9" y="75"/>
                      </a:lnTo>
                      <a:lnTo>
                        <a:pt x="21" y="113"/>
                      </a:lnTo>
                      <a:lnTo>
                        <a:pt x="36" y="148"/>
                      </a:lnTo>
                      <a:lnTo>
                        <a:pt x="44" y="165"/>
                      </a:lnTo>
                      <a:lnTo>
                        <a:pt x="54" y="183"/>
                      </a:lnTo>
                      <a:lnTo>
                        <a:pt x="73" y="216"/>
                      </a:lnTo>
                      <a:lnTo>
                        <a:pt x="84" y="232"/>
                      </a:lnTo>
                      <a:lnTo>
                        <a:pt x="96" y="249"/>
                      </a:lnTo>
                      <a:lnTo>
                        <a:pt x="122" y="279"/>
                      </a:lnTo>
                      <a:lnTo>
                        <a:pt x="151" y="310"/>
                      </a:lnTo>
                      <a:lnTo>
                        <a:pt x="171" y="329"/>
                      </a:lnTo>
                      <a:lnTo>
                        <a:pt x="192" y="347"/>
                      </a:lnTo>
                      <a:lnTo>
                        <a:pt x="237" y="381"/>
                      </a:lnTo>
                      <a:lnTo>
                        <a:pt x="283" y="409"/>
                      </a:lnTo>
                      <a:lnTo>
                        <a:pt x="307" y="421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5" y="463"/>
                      </a:lnTo>
                      <a:lnTo>
                        <a:pt x="462" y="467"/>
                      </a:lnTo>
                      <a:lnTo>
                        <a:pt x="491" y="471"/>
                      </a:lnTo>
                      <a:lnTo>
                        <a:pt x="519" y="473"/>
                      </a:lnTo>
                      <a:lnTo>
                        <a:pt x="548" y="474"/>
                      </a:lnTo>
                      <a:lnTo>
                        <a:pt x="586" y="473"/>
                      </a:lnTo>
                      <a:lnTo>
                        <a:pt x="593" y="466"/>
                      </a:lnTo>
                      <a:lnTo>
                        <a:pt x="594" y="464"/>
                      </a:lnTo>
                      <a:lnTo>
                        <a:pt x="596" y="463"/>
                      </a:lnTo>
                      <a:lnTo>
                        <a:pt x="601" y="461"/>
                      </a:lnTo>
                      <a:lnTo>
                        <a:pt x="617" y="449"/>
                      </a:lnTo>
                      <a:lnTo>
                        <a:pt x="583" y="452"/>
                      </a:lnTo>
                      <a:lnTo>
                        <a:pt x="548" y="453"/>
                      </a:lnTo>
                      <a:lnTo>
                        <a:pt x="520" y="452"/>
                      </a:lnTo>
                      <a:lnTo>
                        <a:pt x="493" y="449"/>
                      </a:lnTo>
                      <a:lnTo>
                        <a:pt x="440" y="443"/>
                      </a:lnTo>
                      <a:lnTo>
                        <a:pt x="389" y="429"/>
                      </a:lnTo>
                      <a:lnTo>
                        <a:pt x="340" y="413"/>
                      </a:lnTo>
                      <a:lnTo>
                        <a:pt x="292" y="390"/>
                      </a:lnTo>
                      <a:lnTo>
                        <a:pt x="248" y="363"/>
                      </a:lnTo>
                      <a:lnTo>
                        <a:pt x="226" y="347"/>
                      </a:lnTo>
                      <a:lnTo>
                        <a:pt x="206" y="330"/>
                      </a:lnTo>
                      <a:lnTo>
                        <a:pt x="166" y="294"/>
                      </a:lnTo>
                      <a:lnTo>
                        <a:pt x="136" y="261"/>
                      </a:lnTo>
                      <a:lnTo>
                        <a:pt x="109" y="227"/>
                      </a:lnTo>
                      <a:lnTo>
                        <a:pt x="85" y="192"/>
                      </a:lnTo>
                      <a:lnTo>
                        <a:pt x="73" y="174"/>
                      </a:lnTo>
                      <a:lnTo>
                        <a:pt x="64" y="157"/>
                      </a:lnTo>
                      <a:lnTo>
                        <a:pt x="54" y="138"/>
                      </a:lnTo>
                      <a:lnTo>
                        <a:pt x="46" y="119"/>
                      </a:lnTo>
                      <a:lnTo>
                        <a:pt x="33" y="81"/>
                      </a:lnTo>
                      <a:lnTo>
                        <a:pt x="26" y="60"/>
                      </a:lnTo>
                      <a:lnTo>
                        <a:pt x="21" y="4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698800" y="2794320"/>
                  <a:ext cx="180000" cy="138600"/>
                </a:xfrm>
                <a:custGeom>
                  <a:avLst/>
                  <a:gdLst/>
                  <a:ahLst/>
                  <a:rect l="l" t="t" r="r" b="b"/>
                  <a:pathLst>
                    <a:path w="630" h="487">
                      <a:moveTo>
                        <a:pt x="19" y="0"/>
                      </a:moveTo>
                      <a:lnTo>
                        <a:pt x="0" y="34"/>
                      </a:lnTo>
                      <a:lnTo>
                        <a:pt x="7" y="75"/>
                      </a:lnTo>
                      <a:lnTo>
                        <a:pt x="12" y="94"/>
                      </a:lnTo>
                      <a:lnTo>
                        <a:pt x="19" y="115"/>
                      </a:lnTo>
                      <a:lnTo>
                        <a:pt x="32" y="153"/>
                      </a:lnTo>
                      <a:lnTo>
                        <a:pt x="40" y="172"/>
                      </a:lnTo>
                      <a:lnTo>
                        <a:pt x="50" y="191"/>
                      </a:lnTo>
                      <a:lnTo>
                        <a:pt x="59" y="208"/>
                      </a:lnTo>
                      <a:lnTo>
                        <a:pt x="71" y="226"/>
                      </a:lnTo>
                      <a:lnTo>
                        <a:pt x="95" y="261"/>
                      </a:lnTo>
                      <a:lnTo>
                        <a:pt x="122" y="295"/>
                      </a:lnTo>
                      <a:lnTo>
                        <a:pt x="152" y="328"/>
                      </a:lnTo>
                      <a:lnTo>
                        <a:pt x="192" y="364"/>
                      </a:lnTo>
                      <a:lnTo>
                        <a:pt x="212" y="381"/>
                      </a:lnTo>
                      <a:lnTo>
                        <a:pt x="234" y="397"/>
                      </a:lnTo>
                      <a:lnTo>
                        <a:pt x="278" y="424"/>
                      </a:lnTo>
                      <a:lnTo>
                        <a:pt x="326" y="447"/>
                      </a:lnTo>
                      <a:lnTo>
                        <a:pt x="375" y="463"/>
                      </a:lnTo>
                      <a:lnTo>
                        <a:pt x="426" y="477"/>
                      </a:lnTo>
                      <a:lnTo>
                        <a:pt x="479" y="483"/>
                      </a:lnTo>
                      <a:lnTo>
                        <a:pt x="506" y="486"/>
                      </a:lnTo>
                      <a:lnTo>
                        <a:pt x="534" y="487"/>
                      </a:lnTo>
                      <a:lnTo>
                        <a:pt x="569" y="486"/>
                      </a:lnTo>
                      <a:lnTo>
                        <a:pt x="603" y="483"/>
                      </a:lnTo>
                      <a:lnTo>
                        <a:pt x="624" y="463"/>
                      </a:lnTo>
                      <a:lnTo>
                        <a:pt x="630" y="457"/>
                      </a:lnTo>
                      <a:lnTo>
                        <a:pt x="582" y="463"/>
                      </a:lnTo>
                      <a:lnTo>
                        <a:pt x="534" y="465"/>
                      </a:lnTo>
                      <a:lnTo>
                        <a:pt x="507" y="464"/>
                      </a:lnTo>
                      <a:lnTo>
                        <a:pt x="481" y="462"/>
                      </a:lnTo>
                      <a:lnTo>
                        <a:pt x="430" y="455"/>
                      </a:lnTo>
                      <a:lnTo>
                        <a:pt x="405" y="449"/>
                      </a:lnTo>
                      <a:lnTo>
                        <a:pt x="381" y="443"/>
                      </a:lnTo>
                      <a:lnTo>
                        <a:pt x="335" y="427"/>
                      </a:lnTo>
                      <a:lnTo>
                        <a:pt x="288" y="404"/>
                      </a:lnTo>
                      <a:lnTo>
                        <a:pt x="247" y="379"/>
                      </a:lnTo>
                      <a:lnTo>
                        <a:pt x="205" y="347"/>
                      </a:lnTo>
                      <a:lnTo>
                        <a:pt x="167" y="313"/>
                      </a:lnTo>
                      <a:lnTo>
                        <a:pt x="150" y="295"/>
                      </a:lnTo>
                      <a:lnTo>
                        <a:pt x="135" y="278"/>
                      </a:lnTo>
                      <a:lnTo>
                        <a:pt x="121" y="260"/>
                      </a:lnTo>
                      <a:lnTo>
                        <a:pt x="108" y="243"/>
                      </a:lnTo>
                      <a:lnTo>
                        <a:pt x="95" y="224"/>
                      </a:lnTo>
                      <a:lnTo>
                        <a:pt x="83" y="206"/>
                      </a:lnTo>
                      <a:lnTo>
                        <a:pt x="64" y="168"/>
                      </a:lnTo>
                      <a:lnTo>
                        <a:pt x="46" y="127"/>
                      </a:lnTo>
                      <a:lnTo>
                        <a:pt x="33" y="87"/>
                      </a:lnTo>
                      <a:lnTo>
                        <a:pt x="23" y="4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03840" y="2784960"/>
                  <a:ext cx="181800" cy="141480"/>
                </a:xfrm>
                <a:custGeom>
                  <a:avLst/>
                  <a:gdLst/>
                  <a:ahLst/>
                  <a:rect l="l" t="t" r="r" b="b"/>
                  <a:pathLst>
                    <a:path w="635" h="495">
                      <a:moveTo>
                        <a:pt x="19" y="0"/>
                      </a:moveTo>
                      <a:lnTo>
                        <a:pt x="0" y="30"/>
                      </a:lnTo>
                      <a:lnTo>
                        <a:pt x="4" y="73"/>
                      </a:lnTo>
                      <a:lnTo>
                        <a:pt x="14" y="117"/>
                      </a:lnTo>
                      <a:lnTo>
                        <a:pt x="27" y="157"/>
                      </a:lnTo>
                      <a:lnTo>
                        <a:pt x="45" y="198"/>
                      </a:lnTo>
                      <a:lnTo>
                        <a:pt x="64" y="236"/>
                      </a:lnTo>
                      <a:lnTo>
                        <a:pt x="76" y="254"/>
                      </a:lnTo>
                      <a:lnTo>
                        <a:pt x="89" y="273"/>
                      </a:lnTo>
                      <a:lnTo>
                        <a:pt x="102" y="290"/>
                      </a:lnTo>
                      <a:lnTo>
                        <a:pt x="116" y="308"/>
                      </a:lnTo>
                      <a:lnTo>
                        <a:pt x="131" y="325"/>
                      </a:lnTo>
                      <a:lnTo>
                        <a:pt x="148" y="343"/>
                      </a:lnTo>
                      <a:lnTo>
                        <a:pt x="186" y="377"/>
                      </a:lnTo>
                      <a:lnTo>
                        <a:pt x="228" y="409"/>
                      </a:lnTo>
                      <a:lnTo>
                        <a:pt x="269" y="434"/>
                      </a:lnTo>
                      <a:lnTo>
                        <a:pt x="316" y="457"/>
                      </a:lnTo>
                      <a:lnTo>
                        <a:pt x="362" y="473"/>
                      </a:lnTo>
                      <a:lnTo>
                        <a:pt x="386" y="479"/>
                      </a:lnTo>
                      <a:lnTo>
                        <a:pt x="411" y="485"/>
                      </a:lnTo>
                      <a:lnTo>
                        <a:pt x="462" y="492"/>
                      </a:lnTo>
                      <a:lnTo>
                        <a:pt x="488" y="494"/>
                      </a:lnTo>
                      <a:lnTo>
                        <a:pt x="515" y="495"/>
                      </a:lnTo>
                      <a:lnTo>
                        <a:pt x="563" y="493"/>
                      </a:lnTo>
                      <a:lnTo>
                        <a:pt x="611" y="487"/>
                      </a:lnTo>
                      <a:lnTo>
                        <a:pt x="635" y="460"/>
                      </a:lnTo>
                      <a:lnTo>
                        <a:pt x="605" y="466"/>
                      </a:lnTo>
                      <a:lnTo>
                        <a:pt x="576" y="470"/>
                      </a:lnTo>
                      <a:lnTo>
                        <a:pt x="545" y="473"/>
                      </a:lnTo>
                      <a:lnTo>
                        <a:pt x="515" y="474"/>
                      </a:lnTo>
                      <a:lnTo>
                        <a:pt x="464" y="471"/>
                      </a:lnTo>
                      <a:lnTo>
                        <a:pt x="416" y="465"/>
                      </a:lnTo>
                      <a:lnTo>
                        <a:pt x="368" y="453"/>
                      </a:lnTo>
                      <a:lnTo>
                        <a:pt x="324" y="437"/>
                      </a:lnTo>
                      <a:lnTo>
                        <a:pt x="280" y="417"/>
                      </a:lnTo>
                      <a:lnTo>
                        <a:pt x="240" y="392"/>
                      </a:lnTo>
                      <a:lnTo>
                        <a:pt x="200" y="363"/>
                      </a:lnTo>
                      <a:lnTo>
                        <a:pt x="164" y="329"/>
                      </a:lnTo>
                      <a:lnTo>
                        <a:pt x="130" y="292"/>
                      </a:lnTo>
                      <a:lnTo>
                        <a:pt x="115" y="273"/>
                      </a:lnTo>
                      <a:lnTo>
                        <a:pt x="103" y="255"/>
                      </a:lnTo>
                      <a:lnTo>
                        <a:pt x="78" y="216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0" y="92"/>
                      </a:lnTo>
                      <a:lnTo>
                        <a:pt x="21" y="46"/>
                      </a:lnTo>
                      <a:lnTo>
                        <a:pt x="19" y="2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00600" y="2896560"/>
                  <a:ext cx="78840" cy="59760"/>
                </a:xfrm>
                <a:custGeom>
                  <a:avLst/>
                  <a:gdLst/>
                  <a:ahLst/>
                  <a:rect l="l" t="t" r="r" b="b"/>
                  <a:pathLst>
                    <a:path w="277" h="211">
                      <a:moveTo>
                        <a:pt x="55" y="61"/>
                      </a:moveTo>
                      <a:lnTo>
                        <a:pt x="26" y="30"/>
                      </a:lnTo>
                      <a:lnTo>
                        <a:pt x="0" y="0"/>
                      </a:lnTo>
                      <a:lnTo>
                        <a:pt x="15" y="26"/>
                      </a:lnTo>
                      <a:lnTo>
                        <a:pt x="32" y="53"/>
                      </a:lnTo>
                      <a:lnTo>
                        <a:pt x="51" y="78"/>
                      </a:lnTo>
                      <a:lnTo>
                        <a:pt x="75" y="104"/>
                      </a:lnTo>
                      <a:lnTo>
                        <a:pt x="97" y="123"/>
                      </a:lnTo>
                      <a:lnTo>
                        <a:pt x="119" y="142"/>
                      </a:lnTo>
                      <a:lnTo>
                        <a:pt x="143" y="158"/>
                      </a:lnTo>
                      <a:lnTo>
                        <a:pt x="168" y="173"/>
                      </a:lnTo>
                      <a:lnTo>
                        <a:pt x="193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7" y="211"/>
                      </a:lnTo>
                      <a:lnTo>
                        <a:pt x="246" y="197"/>
                      </a:lnTo>
                      <a:lnTo>
                        <a:pt x="217" y="182"/>
                      </a:lnTo>
                      <a:lnTo>
                        <a:pt x="187" y="165"/>
                      </a:lnTo>
                      <a:lnTo>
                        <a:pt x="160" y="148"/>
                      </a:lnTo>
                      <a:lnTo>
                        <a:pt x="132" y="128"/>
                      </a:lnTo>
                      <a:lnTo>
                        <a:pt x="106" y="107"/>
                      </a:lnTo>
                      <a:lnTo>
                        <a:pt x="80" y="85"/>
                      </a:lnTo>
                      <a:lnTo>
                        <a:pt x="55" y="61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692680" y="2874960"/>
                  <a:ext cx="11196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2">
                      <a:moveTo>
                        <a:pt x="27" y="76"/>
                      </a:moveTo>
                      <a:lnTo>
                        <a:pt x="53" y="106"/>
                      </a:lnTo>
                      <a:lnTo>
                        <a:pt x="82" y="137"/>
                      </a:lnTo>
                      <a:lnTo>
                        <a:pt x="107" y="161"/>
                      </a:lnTo>
                      <a:lnTo>
                        <a:pt x="133" y="183"/>
                      </a:lnTo>
                      <a:lnTo>
                        <a:pt x="159" y="204"/>
                      </a:lnTo>
                      <a:lnTo>
                        <a:pt x="187" y="224"/>
                      </a:lnTo>
                      <a:lnTo>
                        <a:pt x="214" y="241"/>
                      </a:lnTo>
                      <a:lnTo>
                        <a:pt x="244" y="258"/>
                      </a:lnTo>
                      <a:lnTo>
                        <a:pt x="273" y="273"/>
                      </a:lnTo>
                      <a:lnTo>
                        <a:pt x="304" y="287"/>
                      </a:lnTo>
                      <a:lnTo>
                        <a:pt x="337" y="290"/>
                      </a:lnTo>
                      <a:lnTo>
                        <a:pt x="373" y="292"/>
                      </a:lnTo>
                      <a:lnTo>
                        <a:pt x="391" y="292"/>
                      </a:lnTo>
                      <a:lnTo>
                        <a:pt x="349" y="280"/>
                      </a:lnTo>
                      <a:lnTo>
                        <a:pt x="309" y="265"/>
                      </a:lnTo>
                      <a:lnTo>
                        <a:pt x="271" y="247"/>
                      </a:lnTo>
                      <a:lnTo>
                        <a:pt x="235" y="228"/>
                      </a:lnTo>
                      <a:lnTo>
                        <a:pt x="197" y="204"/>
                      </a:lnTo>
                      <a:lnTo>
                        <a:pt x="162" y="180"/>
                      </a:lnTo>
                      <a:lnTo>
                        <a:pt x="128" y="152"/>
                      </a:lnTo>
                      <a:lnTo>
                        <a:pt x="96" y="122"/>
                      </a:lnTo>
                      <a:lnTo>
                        <a:pt x="68" y="91"/>
                      </a:lnTo>
                      <a:lnTo>
                        <a:pt x="43" y="62"/>
                      </a:lnTo>
                      <a:lnTo>
                        <a:pt x="19" y="30"/>
                      </a:lnTo>
                      <a:lnTo>
                        <a:pt x="0" y="0"/>
                      </a:lnTo>
                      <a:lnTo>
                        <a:pt x="11" y="38"/>
                      </a:lnTo>
                      <a:lnTo>
                        <a:pt x="18" y="56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690160" y="285768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8" h="352">
                      <a:moveTo>
                        <a:pt x="9" y="60"/>
                      </a:moveTo>
                      <a:lnTo>
                        <a:pt x="28" y="90"/>
                      </a:lnTo>
                      <a:lnTo>
                        <a:pt x="52" y="122"/>
                      </a:lnTo>
                      <a:lnTo>
                        <a:pt x="77" y="151"/>
                      </a:lnTo>
                      <a:lnTo>
                        <a:pt x="105" y="182"/>
                      </a:lnTo>
                      <a:lnTo>
                        <a:pt x="137" y="212"/>
                      </a:lnTo>
                      <a:lnTo>
                        <a:pt x="171" y="240"/>
                      </a:lnTo>
                      <a:lnTo>
                        <a:pt x="206" y="264"/>
                      </a:lnTo>
                      <a:lnTo>
                        <a:pt x="244" y="288"/>
                      </a:lnTo>
                      <a:lnTo>
                        <a:pt x="280" y="307"/>
                      </a:lnTo>
                      <a:lnTo>
                        <a:pt x="318" y="325"/>
                      </a:lnTo>
                      <a:lnTo>
                        <a:pt x="358" y="340"/>
                      </a:lnTo>
                      <a:lnTo>
                        <a:pt x="400" y="352"/>
                      </a:lnTo>
                      <a:lnTo>
                        <a:pt x="434" y="349"/>
                      </a:lnTo>
                      <a:lnTo>
                        <a:pt x="468" y="343"/>
                      </a:lnTo>
                      <a:lnTo>
                        <a:pt x="418" y="333"/>
                      </a:lnTo>
                      <a:lnTo>
                        <a:pt x="371" y="320"/>
                      </a:lnTo>
                      <a:lnTo>
                        <a:pt x="324" y="303"/>
                      </a:lnTo>
                      <a:lnTo>
                        <a:pt x="281" y="284"/>
                      </a:lnTo>
                      <a:lnTo>
                        <a:pt x="238" y="259"/>
                      </a:lnTo>
                      <a:lnTo>
                        <a:pt x="197" y="232"/>
                      </a:lnTo>
                      <a:lnTo>
                        <a:pt x="157" y="200"/>
                      </a:lnTo>
                      <a:lnTo>
                        <a:pt x="121" y="166"/>
                      </a:lnTo>
                      <a:lnTo>
                        <a:pt x="84" y="127"/>
                      </a:lnTo>
                      <a:lnTo>
                        <a:pt x="52" y="86"/>
                      </a:lnTo>
                      <a:lnTo>
                        <a:pt x="23" y="43"/>
                      </a:lnTo>
                      <a:lnTo>
                        <a:pt x="0" y="0"/>
                      </a:lnTo>
                      <a:lnTo>
                        <a:pt x="3" y="29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689800" y="2738880"/>
                  <a:ext cx="219600" cy="219240"/>
                </a:xfrm>
                <a:custGeom>
                  <a:avLst/>
                  <a:gdLst/>
                  <a:ahLst/>
                  <a:rect l="l" t="t" r="r" b="b"/>
                  <a:pathLst>
                    <a:path w="767" h="767">
                      <a:moveTo>
                        <a:pt x="383" y="0"/>
                      </a:moveTo>
                      <a:lnTo>
                        <a:pt x="343" y="1"/>
                      </a:lnTo>
                      <a:lnTo>
                        <a:pt x="306" y="6"/>
                      </a:lnTo>
                      <a:lnTo>
                        <a:pt x="270" y="14"/>
                      </a:lnTo>
                      <a:lnTo>
                        <a:pt x="236" y="27"/>
                      </a:lnTo>
                      <a:lnTo>
                        <a:pt x="202" y="42"/>
                      </a:lnTo>
                      <a:lnTo>
                        <a:pt x="170" y="62"/>
                      </a:lnTo>
                      <a:lnTo>
                        <a:pt x="139" y="85"/>
                      </a:lnTo>
                      <a:lnTo>
                        <a:pt x="112" y="112"/>
                      </a:lnTo>
                      <a:lnTo>
                        <a:pt x="85" y="139"/>
                      </a:lnTo>
                      <a:lnTo>
                        <a:pt x="62" y="170"/>
                      </a:lnTo>
                      <a:lnTo>
                        <a:pt x="42" y="201"/>
                      </a:lnTo>
                      <a:lnTo>
                        <a:pt x="27" y="235"/>
                      </a:lnTo>
                      <a:lnTo>
                        <a:pt x="14" y="269"/>
                      </a:lnTo>
                      <a:lnTo>
                        <a:pt x="7" y="306"/>
                      </a:lnTo>
                      <a:lnTo>
                        <a:pt x="1" y="343"/>
                      </a:lnTo>
                      <a:lnTo>
                        <a:pt x="0" y="383"/>
                      </a:lnTo>
                      <a:lnTo>
                        <a:pt x="1" y="421"/>
                      </a:lnTo>
                      <a:lnTo>
                        <a:pt x="7" y="459"/>
                      </a:lnTo>
                      <a:lnTo>
                        <a:pt x="14" y="495"/>
                      </a:lnTo>
                      <a:lnTo>
                        <a:pt x="27" y="530"/>
                      </a:lnTo>
                      <a:lnTo>
                        <a:pt x="42" y="563"/>
                      </a:lnTo>
                      <a:lnTo>
                        <a:pt x="62" y="595"/>
                      </a:lnTo>
                      <a:lnTo>
                        <a:pt x="72" y="610"/>
                      </a:lnTo>
                      <a:lnTo>
                        <a:pt x="85" y="625"/>
                      </a:lnTo>
                      <a:lnTo>
                        <a:pt x="112" y="655"/>
                      </a:lnTo>
                      <a:lnTo>
                        <a:pt x="139" y="680"/>
                      </a:lnTo>
                      <a:lnTo>
                        <a:pt x="170" y="703"/>
                      </a:lnTo>
                      <a:lnTo>
                        <a:pt x="202" y="722"/>
                      </a:lnTo>
                      <a:lnTo>
                        <a:pt x="236" y="739"/>
                      </a:lnTo>
                      <a:lnTo>
                        <a:pt x="270" y="750"/>
                      </a:lnTo>
                      <a:lnTo>
                        <a:pt x="306" y="759"/>
                      </a:lnTo>
                      <a:lnTo>
                        <a:pt x="343" y="765"/>
                      </a:lnTo>
                      <a:lnTo>
                        <a:pt x="383" y="767"/>
                      </a:lnTo>
                      <a:lnTo>
                        <a:pt x="421" y="765"/>
                      </a:lnTo>
                      <a:lnTo>
                        <a:pt x="440" y="762"/>
                      </a:lnTo>
                      <a:lnTo>
                        <a:pt x="459" y="759"/>
                      </a:lnTo>
                      <a:lnTo>
                        <a:pt x="495" y="750"/>
                      </a:lnTo>
                      <a:lnTo>
                        <a:pt x="499" y="748"/>
                      </a:lnTo>
                      <a:lnTo>
                        <a:pt x="503" y="747"/>
                      </a:lnTo>
                      <a:lnTo>
                        <a:pt x="512" y="745"/>
                      </a:lnTo>
                      <a:lnTo>
                        <a:pt x="530" y="739"/>
                      </a:lnTo>
                      <a:lnTo>
                        <a:pt x="546" y="730"/>
                      </a:lnTo>
                      <a:lnTo>
                        <a:pt x="554" y="725"/>
                      </a:lnTo>
                      <a:lnTo>
                        <a:pt x="563" y="722"/>
                      </a:lnTo>
                      <a:lnTo>
                        <a:pt x="595" y="703"/>
                      </a:lnTo>
                      <a:lnTo>
                        <a:pt x="610" y="691"/>
                      </a:lnTo>
                      <a:lnTo>
                        <a:pt x="626" y="680"/>
                      </a:lnTo>
                      <a:lnTo>
                        <a:pt x="655" y="655"/>
                      </a:lnTo>
                      <a:lnTo>
                        <a:pt x="680" y="625"/>
                      </a:lnTo>
                      <a:lnTo>
                        <a:pt x="691" y="610"/>
                      </a:lnTo>
                      <a:lnTo>
                        <a:pt x="703" y="595"/>
                      </a:lnTo>
                      <a:lnTo>
                        <a:pt x="722" y="563"/>
                      </a:lnTo>
                      <a:lnTo>
                        <a:pt x="725" y="554"/>
                      </a:lnTo>
                      <a:lnTo>
                        <a:pt x="730" y="546"/>
                      </a:lnTo>
                      <a:lnTo>
                        <a:pt x="739" y="530"/>
                      </a:lnTo>
                      <a:lnTo>
                        <a:pt x="745" y="512"/>
                      </a:lnTo>
                      <a:lnTo>
                        <a:pt x="747" y="503"/>
                      </a:lnTo>
                      <a:lnTo>
                        <a:pt x="748" y="498"/>
                      </a:lnTo>
                      <a:lnTo>
                        <a:pt x="750" y="495"/>
                      </a:lnTo>
                      <a:lnTo>
                        <a:pt x="759" y="459"/>
                      </a:lnTo>
                      <a:lnTo>
                        <a:pt x="762" y="440"/>
                      </a:lnTo>
                      <a:lnTo>
                        <a:pt x="765" y="421"/>
                      </a:lnTo>
                      <a:lnTo>
                        <a:pt x="767" y="383"/>
                      </a:lnTo>
                      <a:lnTo>
                        <a:pt x="765" y="343"/>
                      </a:lnTo>
                      <a:lnTo>
                        <a:pt x="759" y="306"/>
                      </a:lnTo>
                      <a:lnTo>
                        <a:pt x="750" y="269"/>
                      </a:lnTo>
                      <a:lnTo>
                        <a:pt x="739" y="235"/>
                      </a:lnTo>
                      <a:lnTo>
                        <a:pt x="722" y="201"/>
                      </a:lnTo>
                      <a:lnTo>
                        <a:pt x="703" y="170"/>
                      </a:lnTo>
                      <a:lnTo>
                        <a:pt x="680" y="139"/>
                      </a:lnTo>
                      <a:lnTo>
                        <a:pt x="655" y="112"/>
                      </a:lnTo>
                      <a:lnTo>
                        <a:pt x="626" y="85"/>
                      </a:lnTo>
                      <a:lnTo>
                        <a:pt x="610" y="72"/>
                      </a:lnTo>
                      <a:lnTo>
                        <a:pt x="595" y="62"/>
                      </a:lnTo>
                      <a:lnTo>
                        <a:pt x="563" y="42"/>
                      </a:lnTo>
                      <a:lnTo>
                        <a:pt x="530" y="27"/>
                      </a:lnTo>
                      <a:lnTo>
                        <a:pt x="495" y="14"/>
                      </a:lnTo>
                      <a:lnTo>
                        <a:pt x="459" y="6"/>
                      </a:lnTo>
                      <a:lnTo>
                        <a:pt x="421" y="1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47760" y="2838240"/>
                  <a:ext cx="10116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53880" y="2844000"/>
                  <a:ext cx="89640" cy="14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545520" y="271764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6">
                      <a:moveTo>
                        <a:pt x="66" y="26"/>
                      </a:moveTo>
                      <a:lnTo>
                        <a:pt x="92" y="5"/>
                      </a:lnTo>
                      <a:lnTo>
                        <a:pt x="62" y="0"/>
                      </a:lnTo>
                      <a:lnTo>
                        <a:pt x="51" y="11"/>
                      </a:lnTo>
                      <a:lnTo>
                        <a:pt x="27" y="37"/>
                      </a:lnTo>
                      <a:lnTo>
                        <a:pt x="18" y="51"/>
                      </a:lnTo>
                      <a:lnTo>
                        <a:pt x="12" y="67"/>
                      </a:lnTo>
                      <a:lnTo>
                        <a:pt x="6" y="81"/>
                      </a:lnTo>
                      <a:lnTo>
                        <a:pt x="2" y="98"/>
                      </a:lnTo>
                      <a:lnTo>
                        <a:pt x="0" y="134"/>
                      </a:lnTo>
                      <a:lnTo>
                        <a:pt x="0" y="149"/>
                      </a:lnTo>
                      <a:lnTo>
                        <a:pt x="2" y="166"/>
                      </a:lnTo>
                      <a:lnTo>
                        <a:pt x="6" y="182"/>
                      </a:lnTo>
                      <a:lnTo>
                        <a:pt x="12" y="199"/>
                      </a:lnTo>
                      <a:lnTo>
                        <a:pt x="18" y="213"/>
                      </a:lnTo>
                      <a:lnTo>
                        <a:pt x="27" y="228"/>
                      </a:lnTo>
                      <a:lnTo>
                        <a:pt x="37" y="241"/>
                      </a:lnTo>
                      <a:lnTo>
                        <a:pt x="51" y="255"/>
                      </a:lnTo>
                      <a:lnTo>
                        <a:pt x="63" y="266"/>
                      </a:lnTo>
                      <a:lnTo>
                        <a:pt x="77" y="276"/>
                      </a:lnTo>
                      <a:lnTo>
                        <a:pt x="91" y="284"/>
                      </a:lnTo>
                      <a:lnTo>
                        <a:pt x="106" y="292"/>
                      </a:lnTo>
                      <a:lnTo>
                        <a:pt x="121" y="298"/>
                      </a:lnTo>
                      <a:lnTo>
                        <a:pt x="138" y="302"/>
                      </a:lnTo>
                      <a:lnTo>
                        <a:pt x="155" y="305"/>
                      </a:lnTo>
                      <a:lnTo>
                        <a:pt x="173" y="306"/>
                      </a:lnTo>
                      <a:lnTo>
                        <a:pt x="189" y="305"/>
                      </a:lnTo>
                      <a:lnTo>
                        <a:pt x="206" y="302"/>
                      </a:lnTo>
                      <a:lnTo>
                        <a:pt x="222" y="298"/>
                      </a:lnTo>
                      <a:lnTo>
                        <a:pt x="225" y="296"/>
                      </a:lnTo>
                      <a:lnTo>
                        <a:pt x="230" y="295"/>
                      </a:lnTo>
                      <a:lnTo>
                        <a:pt x="239" y="292"/>
                      </a:lnTo>
                      <a:lnTo>
                        <a:pt x="253" y="284"/>
                      </a:lnTo>
                      <a:lnTo>
                        <a:pt x="260" y="280"/>
                      </a:lnTo>
                      <a:lnTo>
                        <a:pt x="263" y="278"/>
                      </a:lnTo>
                      <a:lnTo>
                        <a:pt x="267" y="276"/>
                      </a:lnTo>
                      <a:lnTo>
                        <a:pt x="281" y="266"/>
                      </a:lnTo>
                      <a:lnTo>
                        <a:pt x="296" y="255"/>
                      </a:lnTo>
                      <a:lnTo>
                        <a:pt x="307" y="241"/>
                      </a:lnTo>
                      <a:lnTo>
                        <a:pt x="312" y="234"/>
                      </a:lnTo>
                      <a:lnTo>
                        <a:pt x="314" y="231"/>
                      </a:lnTo>
                      <a:lnTo>
                        <a:pt x="317" y="229"/>
                      </a:lnTo>
                      <a:lnTo>
                        <a:pt x="318" y="224"/>
                      </a:lnTo>
                      <a:lnTo>
                        <a:pt x="321" y="221"/>
                      </a:lnTo>
                      <a:lnTo>
                        <a:pt x="325" y="214"/>
                      </a:lnTo>
                      <a:lnTo>
                        <a:pt x="333" y="200"/>
                      </a:lnTo>
                      <a:lnTo>
                        <a:pt x="325" y="187"/>
                      </a:lnTo>
                      <a:lnTo>
                        <a:pt x="318" y="176"/>
                      </a:lnTo>
                      <a:lnTo>
                        <a:pt x="314" y="183"/>
                      </a:lnTo>
                      <a:lnTo>
                        <a:pt x="311" y="193"/>
                      </a:lnTo>
                      <a:lnTo>
                        <a:pt x="306" y="200"/>
                      </a:lnTo>
                      <a:lnTo>
                        <a:pt x="303" y="210"/>
                      </a:lnTo>
                      <a:lnTo>
                        <a:pt x="297" y="216"/>
                      </a:lnTo>
                      <a:lnTo>
                        <a:pt x="292" y="224"/>
                      </a:lnTo>
                      <a:lnTo>
                        <a:pt x="280" y="240"/>
                      </a:lnTo>
                      <a:lnTo>
                        <a:pt x="267" y="249"/>
                      </a:lnTo>
                      <a:lnTo>
                        <a:pt x="256" y="258"/>
                      </a:lnTo>
                      <a:lnTo>
                        <a:pt x="242" y="266"/>
                      </a:lnTo>
                      <a:lnTo>
                        <a:pt x="230" y="273"/>
                      </a:lnTo>
                      <a:lnTo>
                        <a:pt x="215" y="278"/>
                      </a:lnTo>
                      <a:lnTo>
                        <a:pt x="202" y="281"/>
                      </a:lnTo>
                      <a:lnTo>
                        <a:pt x="187" y="283"/>
                      </a:lnTo>
                      <a:lnTo>
                        <a:pt x="173" y="284"/>
                      </a:lnTo>
                      <a:lnTo>
                        <a:pt x="157" y="283"/>
                      </a:lnTo>
                      <a:lnTo>
                        <a:pt x="143" y="281"/>
                      </a:lnTo>
                      <a:lnTo>
                        <a:pt x="128" y="278"/>
                      </a:lnTo>
                      <a:lnTo>
                        <a:pt x="114" y="273"/>
                      </a:lnTo>
                      <a:lnTo>
                        <a:pt x="101" y="266"/>
                      </a:lnTo>
                      <a:lnTo>
                        <a:pt x="88" y="258"/>
                      </a:lnTo>
                      <a:lnTo>
                        <a:pt x="66" y="240"/>
                      </a:lnTo>
                      <a:lnTo>
                        <a:pt x="54" y="228"/>
                      </a:lnTo>
                      <a:lnTo>
                        <a:pt x="45" y="216"/>
                      </a:lnTo>
                      <a:lnTo>
                        <a:pt x="37" y="203"/>
                      </a:lnTo>
                      <a:lnTo>
                        <a:pt x="32" y="190"/>
                      </a:lnTo>
                      <a:lnTo>
                        <a:pt x="26" y="176"/>
                      </a:lnTo>
                      <a:lnTo>
                        <a:pt x="24" y="162"/>
                      </a:lnTo>
                      <a:lnTo>
                        <a:pt x="21" y="147"/>
                      </a:lnTo>
                      <a:lnTo>
                        <a:pt x="21" y="134"/>
                      </a:lnTo>
                      <a:lnTo>
                        <a:pt x="24" y="103"/>
                      </a:lnTo>
                      <a:lnTo>
                        <a:pt x="32" y="75"/>
                      </a:lnTo>
                      <a:lnTo>
                        <a:pt x="45" y="49"/>
                      </a:lnTo>
                      <a:lnTo>
                        <a:pt x="54" y="36"/>
                      </a:lnTo>
                      <a:lnTo>
                        <a:pt x="66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551640" y="2719440"/>
                  <a:ext cx="84960" cy="7920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1" y="0"/>
                      </a:moveTo>
                      <a:lnTo>
                        <a:pt x="45" y="21"/>
                      </a:lnTo>
                      <a:lnTo>
                        <a:pt x="33" y="31"/>
                      </a:lnTo>
                      <a:lnTo>
                        <a:pt x="24" y="44"/>
                      </a:lnTo>
                      <a:lnTo>
                        <a:pt x="11" y="70"/>
                      </a:lnTo>
                      <a:lnTo>
                        <a:pt x="3" y="98"/>
                      </a:lnTo>
                      <a:lnTo>
                        <a:pt x="0" y="129"/>
                      </a:lnTo>
                      <a:lnTo>
                        <a:pt x="0" y="142"/>
                      </a:lnTo>
                      <a:lnTo>
                        <a:pt x="3" y="157"/>
                      </a:lnTo>
                      <a:lnTo>
                        <a:pt x="5" y="171"/>
                      </a:lnTo>
                      <a:lnTo>
                        <a:pt x="11" y="185"/>
                      </a:lnTo>
                      <a:lnTo>
                        <a:pt x="16" y="198"/>
                      </a:lnTo>
                      <a:lnTo>
                        <a:pt x="24" y="211"/>
                      </a:lnTo>
                      <a:lnTo>
                        <a:pt x="33" y="223"/>
                      </a:lnTo>
                      <a:lnTo>
                        <a:pt x="45" y="235"/>
                      </a:lnTo>
                      <a:lnTo>
                        <a:pt x="67" y="253"/>
                      </a:lnTo>
                      <a:lnTo>
                        <a:pt x="80" y="261"/>
                      </a:lnTo>
                      <a:lnTo>
                        <a:pt x="93" y="268"/>
                      </a:lnTo>
                      <a:lnTo>
                        <a:pt x="107" y="273"/>
                      </a:lnTo>
                      <a:lnTo>
                        <a:pt x="122" y="276"/>
                      </a:lnTo>
                      <a:lnTo>
                        <a:pt x="136" y="278"/>
                      </a:lnTo>
                      <a:lnTo>
                        <a:pt x="152" y="279"/>
                      </a:lnTo>
                      <a:lnTo>
                        <a:pt x="166" y="278"/>
                      </a:lnTo>
                      <a:lnTo>
                        <a:pt x="181" y="276"/>
                      </a:lnTo>
                      <a:lnTo>
                        <a:pt x="194" y="273"/>
                      </a:lnTo>
                      <a:lnTo>
                        <a:pt x="209" y="268"/>
                      </a:lnTo>
                      <a:lnTo>
                        <a:pt x="221" y="261"/>
                      </a:lnTo>
                      <a:lnTo>
                        <a:pt x="235" y="253"/>
                      </a:lnTo>
                      <a:lnTo>
                        <a:pt x="246" y="244"/>
                      </a:lnTo>
                      <a:lnTo>
                        <a:pt x="259" y="235"/>
                      </a:lnTo>
                      <a:lnTo>
                        <a:pt x="271" y="219"/>
                      </a:lnTo>
                      <a:lnTo>
                        <a:pt x="276" y="211"/>
                      </a:lnTo>
                      <a:lnTo>
                        <a:pt x="282" y="205"/>
                      </a:lnTo>
                      <a:lnTo>
                        <a:pt x="285" y="195"/>
                      </a:lnTo>
                      <a:lnTo>
                        <a:pt x="290" y="188"/>
                      </a:lnTo>
                      <a:lnTo>
                        <a:pt x="293" y="178"/>
                      </a:lnTo>
                      <a:lnTo>
                        <a:pt x="297" y="171"/>
                      </a:lnTo>
                      <a:lnTo>
                        <a:pt x="280" y="146"/>
                      </a:lnTo>
                      <a:lnTo>
                        <a:pt x="277" y="155"/>
                      </a:lnTo>
                      <a:lnTo>
                        <a:pt x="275" y="165"/>
                      </a:lnTo>
                      <a:lnTo>
                        <a:pt x="271" y="174"/>
                      </a:lnTo>
                      <a:lnTo>
                        <a:pt x="269" y="178"/>
                      </a:lnTo>
                      <a:lnTo>
                        <a:pt x="268" y="181"/>
                      </a:lnTo>
                      <a:lnTo>
                        <a:pt x="268" y="184"/>
                      </a:lnTo>
                      <a:lnTo>
                        <a:pt x="257" y="202"/>
                      </a:lnTo>
                      <a:lnTo>
                        <a:pt x="250" y="210"/>
                      </a:lnTo>
                      <a:lnTo>
                        <a:pt x="244" y="219"/>
                      </a:lnTo>
                      <a:lnTo>
                        <a:pt x="233" y="227"/>
                      </a:lnTo>
                      <a:lnTo>
                        <a:pt x="231" y="227"/>
                      </a:lnTo>
                      <a:lnTo>
                        <a:pt x="229" y="227"/>
                      </a:lnTo>
                      <a:lnTo>
                        <a:pt x="229" y="228"/>
                      </a:lnTo>
                      <a:lnTo>
                        <a:pt x="227" y="231"/>
                      </a:lnTo>
                      <a:lnTo>
                        <a:pt x="223" y="235"/>
                      </a:lnTo>
                      <a:lnTo>
                        <a:pt x="211" y="242"/>
                      </a:lnTo>
                      <a:lnTo>
                        <a:pt x="206" y="244"/>
                      </a:lnTo>
                      <a:lnTo>
                        <a:pt x="201" y="248"/>
                      </a:lnTo>
                      <a:lnTo>
                        <a:pt x="194" y="249"/>
                      </a:lnTo>
                      <a:lnTo>
                        <a:pt x="189" y="251"/>
                      </a:lnTo>
                      <a:lnTo>
                        <a:pt x="177" y="254"/>
                      </a:lnTo>
                      <a:lnTo>
                        <a:pt x="164" y="257"/>
                      </a:lnTo>
                      <a:lnTo>
                        <a:pt x="152" y="258"/>
                      </a:lnTo>
                      <a:lnTo>
                        <a:pt x="139" y="257"/>
                      </a:lnTo>
                      <a:lnTo>
                        <a:pt x="125" y="254"/>
                      </a:lnTo>
                      <a:lnTo>
                        <a:pt x="101" y="248"/>
                      </a:lnTo>
                      <a:lnTo>
                        <a:pt x="90" y="242"/>
                      </a:lnTo>
                      <a:lnTo>
                        <a:pt x="80" y="235"/>
                      </a:lnTo>
                      <a:lnTo>
                        <a:pt x="60" y="219"/>
                      </a:lnTo>
                      <a:lnTo>
                        <a:pt x="42" y="199"/>
                      </a:lnTo>
                      <a:lnTo>
                        <a:pt x="36" y="188"/>
                      </a:lnTo>
                      <a:lnTo>
                        <a:pt x="31" y="177"/>
                      </a:lnTo>
                      <a:lnTo>
                        <a:pt x="26" y="165"/>
                      </a:lnTo>
                      <a:lnTo>
                        <a:pt x="24" y="154"/>
                      </a:lnTo>
                      <a:lnTo>
                        <a:pt x="22" y="129"/>
                      </a:lnTo>
                      <a:lnTo>
                        <a:pt x="24" y="101"/>
                      </a:lnTo>
                      <a:lnTo>
                        <a:pt x="31" y="78"/>
                      </a:lnTo>
                      <a:lnTo>
                        <a:pt x="42" y="56"/>
                      </a:lnTo>
                      <a:lnTo>
                        <a:pt x="60" y="37"/>
                      </a:lnTo>
                      <a:lnTo>
                        <a:pt x="78" y="21"/>
                      </a:lnTo>
                      <a:lnTo>
                        <a:pt x="99" y="1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539400" y="2716560"/>
                  <a:ext cx="104400" cy="94680"/>
                </a:xfrm>
                <a:custGeom>
                  <a:avLst/>
                  <a:gdLst/>
                  <a:ahLst/>
                  <a:rect l="l" t="t" r="r" b="b"/>
                  <a:pathLst>
                    <a:path w="367" h="331">
                      <a:moveTo>
                        <a:pt x="73" y="15"/>
                      </a:moveTo>
                      <a:lnTo>
                        <a:pt x="84" y="4"/>
                      </a:lnTo>
                      <a:lnTo>
                        <a:pt x="57" y="0"/>
                      </a:lnTo>
                      <a:lnTo>
                        <a:pt x="42" y="14"/>
                      </a:lnTo>
                      <a:lnTo>
                        <a:pt x="31" y="30"/>
                      </a:lnTo>
                      <a:lnTo>
                        <a:pt x="14" y="63"/>
                      </a:lnTo>
                      <a:lnTo>
                        <a:pt x="4" y="98"/>
                      </a:lnTo>
                      <a:lnTo>
                        <a:pt x="0" y="138"/>
                      </a:lnTo>
                      <a:lnTo>
                        <a:pt x="0" y="156"/>
                      </a:lnTo>
                      <a:lnTo>
                        <a:pt x="4" y="175"/>
                      </a:lnTo>
                      <a:lnTo>
                        <a:pt x="7" y="193"/>
                      </a:lnTo>
                      <a:lnTo>
                        <a:pt x="14" y="211"/>
                      </a:lnTo>
                      <a:lnTo>
                        <a:pt x="21" y="227"/>
                      </a:lnTo>
                      <a:lnTo>
                        <a:pt x="31" y="244"/>
                      </a:lnTo>
                      <a:lnTo>
                        <a:pt x="42" y="259"/>
                      </a:lnTo>
                      <a:lnTo>
                        <a:pt x="57" y="275"/>
                      </a:lnTo>
                      <a:lnTo>
                        <a:pt x="71" y="287"/>
                      </a:lnTo>
                      <a:lnTo>
                        <a:pt x="86" y="299"/>
                      </a:lnTo>
                      <a:lnTo>
                        <a:pt x="102" y="309"/>
                      </a:lnTo>
                      <a:lnTo>
                        <a:pt x="119" y="317"/>
                      </a:lnTo>
                      <a:lnTo>
                        <a:pt x="136" y="322"/>
                      </a:lnTo>
                      <a:lnTo>
                        <a:pt x="156" y="327"/>
                      </a:lnTo>
                      <a:lnTo>
                        <a:pt x="175" y="330"/>
                      </a:lnTo>
                      <a:lnTo>
                        <a:pt x="195" y="331"/>
                      </a:lnTo>
                      <a:lnTo>
                        <a:pt x="213" y="330"/>
                      </a:lnTo>
                      <a:lnTo>
                        <a:pt x="223" y="328"/>
                      </a:lnTo>
                      <a:lnTo>
                        <a:pt x="227" y="327"/>
                      </a:lnTo>
                      <a:lnTo>
                        <a:pt x="233" y="327"/>
                      </a:lnTo>
                      <a:lnTo>
                        <a:pt x="251" y="322"/>
                      </a:lnTo>
                      <a:lnTo>
                        <a:pt x="269" y="317"/>
                      </a:lnTo>
                      <a:lnTo>
                        <a:pt x="285" y="309"/>
                      </a:lnTo>
                      <a:lnTo>
                        <a:pt x="286" y="306"/>
                      </a:lnTo>
                      <a:lnTo>
                        <a:pt x="288" y="305"/>
                      </a:lnTo>
                      <a:lnTo>
                        <a:pt x="293" y="303"/>
                      </a:lnTo>
                      <a:lnTo>
                        <a:pt x="302" y="299"/>
                      </a:lnTo>
                      <a:lnTo>
                        <a:pt x="317" y="287"/>
                      </a:lnTo>
                      <a:lnTo>
                        <a:pt x="333" y="275"/>
                      </a:lnTo>
                      <a:lnTo>
                        <a:pt x="351" y="252"/>
                      </a:lnTo>
                      <a:lnTo>
                        <a:pt x="367" y="229"/>
                      </a:lnTo>
                      <a:lnTo>
                        <a:pt x="355" y="204"/>
                      </a:lnTo>
                      <a:lnTo>
                        <a:pt x="347" y="218"/>
                      </a:lnTo>
                      <a:lnTo>
                        <a:pt x="343" y="225"/>
                      </a:lnTo>
                      <a:lnTo>
                        <a:pt x="340" y="228"/>
                      </a:lnTo>
                      <a:lnTo>
                        <a:pt x="339" y="233"/>
                      </a:lnTo>
                      <a:lnTo>
                        <a:pt x="336" y="235"/>
                      </a:lnTo>
                      <a:lnTo>
                        <a:pt x="334" y="238"/>
                      </a:lnTo>
                      <a:lnTo>
                        <a:pt x="329" y="245"/>
                      </a:lnTo>
                      <a:lnTo>
                        <a:pt x="318" y="259"/>
                      </a:lnTo>
                      <a:lnTo>
                        <a:pt x="303" y="270"/>
                      </a:lnTo>
                      <a:lnTo>
                        <a:pt x="289" y="280"/>
                      </a:lnTo>
                      <a:lnTo>
                        <a:pt x="285" y="282"/>
                      </a:lnTo>
                      <a:lnTo>
                        <a:pt x="282" y="284"/>
                      </a:lnTo>
                      <a:lnTo>
                        <a:pt x="275" y="288"/>
                      </a:lnTo>
                      <a:lnTo>
                        <a:pt x="261" y="296"/>
                      </a:lnTo>
                      <a:lnTo>
                        <a:pt x="252" y="299"/>
                      </a:lnTo>
                      <a:lnTo>
                        <a:pt x="247" y="300"/>
                      </a:lnTo>
                      <a:lnTo>
                        <a:pt x="244" y="302"/>
                      </a:lnTo>
                      <a:lnTo>
                        <a:pt x="228" y="306"/>
                      </a:lnTo>
                      <a:lnTo>
                        <a:pt x="211" y="309"/>
                      </a:lnTo>
                      <a:lnTo>
                        <a:pt x="195" y="310"/>
                      </a:lnTo>
                      <a:lnTo>
                        <a:pt x="177" y="309"/>
                      </a:lnTo>
                      <a:lnTo>
                        <a:pt x="160" y="306"/>
                      </a:lnTo>
                      <a:lnTo>
                        <a:pt x="143" y="302"/>
                      </a:lnTo>
                      <a:lnTo>
                        <a:pt x="128" y="296"/>
                      </a:lnTo>
                      <a:lnTo>
                        <a:pt x="113" y="288"/>
                      </a:lnTo>
                      <a:lnTo>
                        <a:pt x="99" y="280"/>
                      </a:lnTo>
                      <a:lnTo>
                        <a:pt x="85" y="270"/>
                      </a:lnTo>
                      <a:lnTo>
                        <a:pt x="73" y="259"/>
                      </a:lnTo>
                      <a:lnTo>
                        <a:pt x="59" y="245"/>
                      </a:lnTo>
                      <a:lnTo>
                        <a:pt x="49" y="232"/>
                      </a:lnTo>
                      <a:lnTo>
                        <a:pt x="40" y="217"/>
                      </a:lnTo>
                      <a:lnTo>
                        <a:pt x="34" y="203"/>
                      </a:lnTo>
                      <a:lnTo>
                        <a:pt x="28" y="186"/>
                      </a:lnTo>
                      <a:lnTo>
                        <a:pt x="24" y="170"/>
                      </a:lnTo>
                      <a:lnTo>
                        <a:pt x="22" y="153"/>
                      </a:lnTo>
                      <a:lnTo>
                        <a:pt x="22" y="138"/>
                      </a:lnTo>
                      <a:lnTo>
                        <a:pt x="24" y="102"/>
                      </a:lnTo>
                      <a:lnTo>
                        <a:pt x="28" y="85"/>
                      </a:lnTo>
                      <a:lnTo>
                        <a:pt x="34" y="71"/>
                      </a:lnTo>
                      <a:lnTo>
                        <a:pt x="40" y="55"/>
                      </a:lnTo>
                      <a:lnTo>
                        <a:pt x="49" y="41"/>
                      </a:lnTo>
                      <a:lnTo>
                        <a:pt x="73" y="15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527160" y="2716200"/>
                  <a:ext cx="122400" cy="107280"/>
                </a:xfrm>
                <a:custGeom>
                  <a:avLst/>
                  <a:gdLst/>
                  <a:ahLst/>
                  <a:rect l="l" t="t" r="r" b="b"/>
                  <a:pathLst>
                    <a:path w="428" h="377">
                      <a:moveTo>
                        <a:pt x="56" y="0"/>
                      </a:moveTo>
                      <a:lnTo>
                        <a:pt x="44" y="0"/>
                      </a:lnTo>
                      <a:lnTo>
                        <a:pt x="24" y="31"/>
                      </a:lnTo>
                      <a:lnTo>
                        <a:pt x="16" y="47"/>
                      </a:lnTo>
                      <a:lnTo>
                        <a:pt x="10" y="65"/>
                      </a:lnTo>
                      <a:lnTo>
                        <a:pt x="2" y="100"/>
                      </a:lnTo>
                      <a:lnTo>
                        <a:pt x="0" y="140"/>
                      </a:lnTo>
                      <a:lnTo>
                        <a:pt x="0" y="162"/>
                      </a:lnTo>
                      <a:lnTo>
                        <a:pt x="4" y="186"/>
                      </a:lnTo>
                      <a:lnTo>
                        <a:pt x="9" y="208"/>
                      </a:lnTo>
                      <a:lnTo>
                        <a:pt x="17" y="230"/>
                      </a:lnTo>
                      <a:lnTo>
                        <a:pt x="25" y="250"/>
                      </a:lnTo>
                      <a:lnTo>
                        <a:pt x="38" y="270"/>
                      </a:lnTo>
                      <a:lnTo>
                        <a:pt x="52" y="288"/>
                      </a:lnTo>
                      <a:lnTo>
                        <a:pt x="69" y="307"/>
                      </a:lnTo>
                      <a:lnTo>
                        <a:pt x="86" y="322"/>
                      </a:lnTo>
                      <a:lnTo>
                        <a:pt x="106" y="337"/>
                      </a:lnTo>
                      <a:lnTo>
                        <a:pt x="125" y="348"/>
                      </a:lnTo>
                      <a:lnTo>
                        <a:pt x="146" y="358"/>
                      </a:lnTo>
                      <a:lnTo>
                        <a:pt x="167" y="366"/>
                      </a:lnTo>
                      <a:lnTo>
                        <a:pt x="190" y="372"/>
                      </a:lnTo>
                      <a:lnTo>
                        <a:pt x="213" y="375"/>
                      </a:lnTo>
                      <a:lnTo>
                        <a:pt x="238" y="377"/>
                      </a:lnTo>
                      <a:lnTo>
                        <a:pt x="261" y="375"/>
                      </a:lnTo>
                      <a:lnTo>
                        <a:pt x="272" y="373"/>
                      </a:lnTo>
                      <a:lnTo>
                        <a:pt x="275" y="372"/>
                      </a:lnTo>
                      <a:lnTo>
                        <a:pt x="278" y="372"/>
                      </a:lnTo>
                      <a:lnTo>
                        <a:pt x="285" y="372"/>
                      </a:lnTo>
                      <a:lnTo>
                        <a:pt x="289" y="370"/>
                      </a:lnTo>
                      <a:lnTo>
                        <a:pt x="292" y="369"/>
                      </a:lnTo>
                      <a:lnTo>
                        <a:pt x="295" y="369"/>
                      </a:lnTo>
                      <a:lnTo>
                        <a:pt x="306" y="366"/>
                      </a:lnTo>
                      <a:lnTo>
                        <a:pt x="329" y="358"/>
                      </a:lnTo>
                      <a:lnTo>
                        <a:pt x="338" y="353"/>
                      </a:lnTo>
                      <a:lnTo>
                        <a:pt x="348" y="348"/>
                      </a:lnTo>
                      <a:lnTo>
                        <a:pt x="369" y="337"/>
                      </a:lnTo>
                      <a:lnTo>
                        <a:pt x="387" y="322"/>
                      </a:lnTo>
                      <a:lnTo>
                        <a:pt x="396" y="314"/>
                      </a:lnTo>
                      <a:lnTo>
                        <a:pt x="406" y="307"/>
                      </a:lnTo>
                      <a:lnTo>
                        <a:pt x="411" y="301"/>
                      </a:lnTo>
                      <a:lnTo>
                        <a:pt x="413" y="297"/>
                      </a:lnTo>
                      <a:lnTo>
                        <a:pt x="416" y="295"/>
                      </a:lnTo>
                      <a:lnTo>
                        <a:pt x="428" y="282"/>
                      </a:lnTo>
                      <a:lnTo>
                        <a:pt x="420" y="256"/>
                      </a:lnTo>
                      <a:lnTo>
                        <a:pt x="415" y="260"/>
                      </a:lnTo>
                      <a:lnTo>
                        <a:pt x="412" y="264"/>
                      </a:lnTo>
                      <a:lnTo>
                        <a:pt x="405" y="273"/>
                      </a:lnTo>
                      <a:lnTo>
                        <a:pt x="390" y="291"/>
                      </a:lnTo>
                      <a:lnTo>
                        <a:pt x="381" y="298"/>
                      </a:lnTo>
                      <a:lnTo>
                        <a:pt x="377" y="302"/>
                      </a:lnTo>
                      <a:lnTo>
                        <a:pt x="373" y="306"/>
                      </a:lnTo>
                      <a:lnTo>
                        <a:pt x="364" y="312"/>
                      </a:lnTo>
                      <a:lnTo>
                        <a:pt x="356" y="319"/>
                      </a:lnTo>
                      <a:lnTo>
                        <a:pt x="338" y="329"/>
                      </a:lnTo>
                      <a:lnTo>
                        <a:pt x="320" y="339"/>
                      </a:lnTo>
                      <a:lnTo>
                        <a:pt x="300" y="345"/>
                      </a:lnTo>
                      <a:lnTo>
                        <a:pt x="289" y="347"/>
                      </a:lnTo>
                      <a:lnTo>
                        <a:pt x="280" y="350"/>
                      </a:lnTo>
                      <a:lnTo>
                        <a:pt x="269" y="352"/>
                      </a:lnTo>
                      <a:lnTo>
                        <a:pt x="259" y="354"/>
                      </a:lnTo>
                      <a:lnTo>
                        <a:pt x="238" y="355"/>
                      </a:lnTo>
                      <a:lnTo>
                        <a:pt x="216" y="354"/>
                      </a:lnTo>
                      <a:lnTo>
                        <a:pt x="194" y="350"/>
                      </a:lnTo>
                      <a:lnTo>
                        <a:pt x="174" y="345"/>
                      </a:lnTo>
                      <a:lnTo>
                        <a:pt x="154" y="339"/>
                      </a:lnTo>
                      <a:lnTo>
                        <a:pt x="135" y="329"/>
                      </a:lnTo>
                      <a:lnTo>
                        <a:pt x="118" y="319"/>
                      </a:lnTo>
                      <a:lnTo>
                        <a:pt x="101" y="306"/>
                      </a:lnTo>
                      <a:lnTo>
                        <a:pt x="85" y="291"/>
                      </a:lnTo>
                      <a:lnTo>
                        <a:pt x="69" y="274"/>
                      </a:lnTo>
                      <a:lnTo>
                        <a:pt x="57" y="257"/>
                      </a:lnTo>
                      <a:lnTo>
                        <a:pt x="46" y="239"/>
                      </a:lnTo>
                      <a:lnTo>
                        <a:pt x="38" y="221"/>
                      </a:lnTo>
                      <a:lnTo>
                        <a:pt x="30" y="201"/>
                      </a:lnTo>
                      <a:lnTo>
                        <a:pt x="25" y="182"/>
                      </a:lnTo>
                      <a:lnTo>
                        <a:pt x="22" y="160"/>
                      </a:lnTo>
                      <a:lnTo>
                        <a:pt x="22" y="140"/>
                      </a:lnTo>
                      <a:lnTo>
                        <a:pt x="24" y="100"/>
                      </a:lnTo>
                      <a:lnTo>
                        <a:pt x="27" y="81"/>
                      </a:lnTo>
                      <a:lnTo>
                        <a:pt x="34" y="64"/>
                      </a:lnTo>
                      <a:lnTo>
                        <a:pt x="49" y="31"/>
                      </a:lnTo>
                      <a:lnTo>
                        <a:pt x="73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533280" y="2716200"/>
                  <a:ext cx="113760" cy="10080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8" y="2"/>
                      </a:moveTo>
                      <a:lnTo>
                        <a:pt x="51" y="0"/>
                      </a:lnTo>
                      <a:lnTo>
                        <a:pt x="27" y="31"/>
                      </a:lnTo>
                      <a:lnTo>
                        <a:pt x="12" y="64"/>
                      </a:lnTo>
                      <a:lnTo>
                        <a:pt x="5" y="81"/>
                      </a:lnTo>
                      <a:lnTo>
                        <a:pt x="2" y="100"/>
                      </a:lnTo>
                      <a:lnTo>
                        <a:pt x="0" y="140"/>
                      </a:lnTo>
                      <a:lnTo>
                        <a:pt x="0" y="160"/>
                      </a:lnTo>
                      <a:lnTo>
                        <a:pt x="3" y="182"/>
                      </a:lnTo>
                      <a:lnTo>
                        <a:pt x="8" y="201"/>
                      </a:lnTo>
                      <a:lnTo>
                        <a:pt x="16" y="221"/>
                      </a:lnTo>
                      <a:lnTo>
                        <a:pt x="24" y="239"/>
                      </a:lnTo>
                      <a:lnTo>
                        <a:pt x="35" y="257"/>
                      </a:lnTo>
                      <a:lnTo>
                        <a:pt x="47" y="274"/>
                      </a:lnTo>
                      <a:lnTo>
                        <a:pt x="63" y="291"/>
                      </a:lnTo>
                      <a:lnTo>
                        <a:pt x="79" y="306"/>
                      </a:lnTo>
                      <a:lnTo>
                        <a:pt x="96" y="319"/>
                      </a:lnTo>
                      <a:lnTo>
                        <a:pt x="113" y="329"/>
                      </a:lnTo>
                      <a:lnTo>
                        <a:pt x="132" y="339"/>
                      </a:lnTo>
                      <a:lnTo>
                        <a:pt x="152" y="345"/>
                      </a:lnTo>
                      <a:lnTo>
                        <a:pt x="172" y="350"/>
                      </a:lnTo>
                      <a:lnTo>
                        <a:pt x="194" y="354"/>
                      </a:lnTo>
                      <a:lnTo>
                        <a:pt x="216" y="355"/>
                      </a:lnTo>
                      <a:lnTo>
                        <a:pt x="237" y="354"/>
                      </a:lnTo>
                      <a:lnTo>
                        <a:pt x="247" y="352"/>
                      </a:lnTo>
                      <a:lnTo>
                        <a:pt x="258" y="350"/>
                      </a:lnTo>
                      <a:lnTo>
                        <a:pt x="267" y="347"/>
                      </a:lnTo>
                      <a:lnTo>
                        <a:pt x="278" y="345"/>
                      </a:lnTo>
                      <a:lnTo>
                        <a:pt x="298" y="339"/>
                      </a:lnTo>
                      <a:lnTo>
                        <a:pt x="316" y="329"/>
                      </a:lnTo>
                      <a:lnTo>
                        <a:pt x="334" y="319"/>
                      </a:lnTo>
                      <a:lnTo>
                        <a:pt x="342" y="312"/>
                      </a:lnTo>
                      <a:lnTo>
                        <a:pt x="351" y="306"/>
                      </a:lnTo>
                      <a:lnTo>
                        <a:pt x="355" y="302"/>
                      </a:lnTo>
                      <a:lnTo>
                        <a:pt x="359" y="298"/>
                      </a:lnTo>
                      <a:lnTo>
                        <a:pt x="368" y="291"/>
                      </a:lnTo>
                      <a:lnTo>
                        <a:pt x="383" y="273"/>
                      </a:lnTo>
                      <a:lnTo>
                        <a:pt x="390" y="264"/>
                      </a:lnTo>
                      <a:lnTo>
                        <a:pt x="393" y="260"/>
                      </a:lnTo>
                      <a:lnTo>
                        <a:pt x="398" y="256"/>
                      </a:lnTo>
                      <a:lnTo>
                        <a:pt x="388" y="231"/>
                      </a:lnTo>
                      <a:lnTo>
                        <a:pt x="372" y="254"/>
                      </a:lnTo>
                      <a:lnTo>
                        <a:pt x="354" y="277"/>
                      </a:lnTo>
                      <a:lnTo>
                        <a:pt x="338" y="289"/>
                      </a:lnTo>
                      <a:lnTo>
                        <a:pt x="323" y="301"/>
                      </a:lnTo>
                      <a:lnTo>
                        <a:pt x="314" y="305"/>
                      </a:lnTo>
                      <a:lnTo>
                        <a:pt x="309" y="307"/>
                      </a:lnTo>
                      <a:lnTo>
                        <a:pt x="307" y="308"/>
                      </a:lnTo>
                      <a:lnTo>
                        <a:pt x="306" y="311"/>
                      </a:lnTo>
                      <a:lnTo>
                        <a:pt x="290" y="319"/>
                      </a:lnTo>
                      <a:lnTo>
                        <a:pt x="272" y="324"/>
                      </a:lnTo>
                      <a:lnTo>
                        <a:pt x="254" y="329"/>
                      </a:lnTo>
                      <a:lnTo>
                        <a:pt x="248" y="329"/>
                      </a:lnTo>
                      <a:lnTo>
                        <a:pt x="244" y="330"/>
                      </a:lnTo>
                      <a:lnTo>
                        <a:pt x="234" y="332"/>
                      </a:lnTo>
                      <a:lnTo>
                        <a:pt x="216" y="333"/>
                      </a:lnTo>
                      <a:lnTo>
                        <a:pt x="196" y="332"/>
                      </a:lnTo>
                      <a:lnTo>
                        <a:pt x="177" y="329"/>
                      </a:lnTo>
                      <a:lnTo>
                        <a:pt x="157" y="324"/>
                      </a:lnTo>
                      <a:lnTo>
                        <a:pt x="140" y="319"/>
                      </a:lnTo>
                      <a:lnTo>
                        <a:pt x="123" y="311"/>
                      </a:lnTo>
                      <a:lnTo>
                        <a:pt x="107" y="301"/>
                      </a:lnTo>
                      <a:lnTo>
                        <a:pt x="92" y="289"/>
                      </a:lnTo>
                      <a:lnTo>
                        <a:pt x="78" y="277"/>
                      </a:lnTo>
                      <a:lnTo>
                        <a:pt x="63" y="261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3"/>
                      </a:lnTo>
                      <a:lnTo>
                        <a:pt x="28" y="195"/>
                      </a:lnTo>
                      <a:lnTo>
                        <a:pt x="25" y="177"/>
                      </a:lnTo>
                      <a:lnTo>
                        <a:pt x="21" y="158"/>
                      </a:lnTo>
                      <a:lnTo>
                        <a:pt x="21" y="140"/>
                      </a:lnTo>
                      <a:lnTo>
                        <a:pt x="25" y="100"/>
                      </a:lnTo>
                      <a:lnTo>
                        <a:pt x="35" y="65"/>
                      </a:lnTo>
                      <a:lnTo>
                        <a:pt x="52" y="32"/>
                      </a:lnTo>
                      <a:lnTo>
                        <a:pt x="63" y="16"/>
                      </a:lnTo>
                      <a:lnTo>
                        <a:pt x="78" y="2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558120" y="2721600"/>
                  <a:ext cx="73440" cy="70560"/>
                </a:xfrm>
                <a:custGeom>
                  <a:avLst/>
                  <a:gdLst/>
                  <a:ahLst/>
                  <a:rect l="l" t="t" r="r" b="b"/>
                  <a:pathLst>
                    <a:path w="258" h="248">
                      <a:moveTo>
                        <a:pt x="21" y="119"/>
                      </a:moveTo>
                      <a:lnTo>
                        <a:pt x="23" y="96"/>
                      </a:lnTo>
                      <a:lnTo>
                        <a:pt x="29" y="77"/>
                      </a:lnTo>
                      <a:lnTo>
                        <a:pt x="38" y="57"/>
                      </a:lnTo>
                      <a:lnTo>
                        <a:pt x="53" y="41"/>
                      </a:lnTo>
                      <a:lnTo>
                        <a:pt x="65" y="29"/>
                      </a:lnTo>
                      <a:lnTo>
                        <a:pt x="78" y="21"/>
                      </a:lnTo>
                      <a:lnTo>
                        <a:pt x="92" y="15"/>
                      </a:lnTo>
                      <a:lnTo>
                        <a:pt x="108" y="12"/>
                      </a:lnTo>
                      <a:lnTo>
                        <a:pt x="77" y="0"/>
                      </a:lnTo>
                      <a:lnTo>
                        <a:pt x="56" y="11"/>
                      </a:lnTo>
                      <a:lnTo>
                        <a:pt x="38" y="27"/>
                      </a:lnTo>
                      <a:lnTo>
                        <a:pt x="20" y="46"/>
                      </a:lnTo>
                      <a:lnTo>
                        <a:pt x="9" y="68"/>
                      </a:lnTo>
                      <a:lnTo>
                        <a:pt x="2" y="91"/>
                      </a:lnTo>
                      <a:lnTo>
                        <a:pt x="0" y="119"/>
                      </a:lnTo>
                      <a:lnTo>
                        <a:pt x="2" y="144"/>
                      </a:lnTo>
                      <a:lnTo>
                        <a:pt x="4" y="155"/>
                      </a:lnTo>
                      <a:lnTo>
                        <a:pt x="9" y="167"/>
                      </a:lnTo>
                      <a:lnTo>
                        <a:pt x="14" y="178"/>
                      </a:lnTo>
                      <a:lnTo>
                        <a:pt x="20" y="189"/>
                      </a:lnTo>
                      <a:lnTo>
                        <a:pt x="38" y="209"/>
                      </a:lnTo>
                      <a:lnTo>
                        <a:pt x="58" y="225"/>
                      </a:lnTo>
                      <a:lnTo>
                        <a:pt x="68" y="232"/>
                      </a:lnTo>
                      <a:lnTo>
                        <a:pt x="79" y="238"/>
                      </a:lnTo>
                      <a:lnTo>
                        <a:pt x="103" y="244"/>
                      </a:lnTo>
                      <a:lnTo>
                        <a:pt x="117" y="247"/>
                      </a:lnTo>
                      <a:lnTo>
                        <a:pt x="130" y="248"/>
                      </a:lnTo>
                      <a:lnTo>
                        <a:pt x="142" y="247"/>
                      </a:lnTo>
                      <a:lnTo>
                        <a:pt x="155" y="244"/>
                      </a:lnTo>
                      <a:lnTo>
                        <a:pt x="167" y="241"/>
                      </a:lnTo>
                      <a:lnTo>
                        <a:pt x="172" y="239"/>
                      </a:lnTo>
                      <a:lnTo>
                        <a:pt x="179" y="238"/>
                      </a:lnTo>
                      <a:lnTo>
                        <a:pt x="184" y="234"/>
                      </a:lnTo>
                      <a:lnTo>
                        <a:pt x="189" y="232"/>
                      </a:lnTo>
                      <a:lnTo>
                        <a:pt x="201" y="225"/>
                      </a:lnTo>
                      <a:lnTo>
                        <a:pt x="205" y="221"/>
                      </a:lnTo>
                      <a:lnTo>
                        <a:pt x="207" y="218"/>
                      </a:lnTo>
                      <a:lnTo>
                        <a:pt x="207" y="217"/>
                      </a:lnTo>
                      <a:lnTo>
                        <a:pt x="209" y="217"/>
                      </a:lnTo>
                      <a:lnTo>
                        <a:pt x="211" y="217"/>
                      </a:lnTo>
                      <a:lnTo>
                        <a:pt x="222" y="209"/>
                      </a:lnTo>
                      <a:lnTo>
                        <a:pt x="228" y="200"/>
                      </a:lnTo>
                      <a:lnTo>
                        <a:pt x="235" y="192"/>
                      </a:lnTo>
                      <a:lnTo>
                        <a:pt x="246" y="174"/>
                      </a:lnTo>
                      <a:lnTo>
                        <a:pt x="246" y="171"/>
                      </a:lnTo>
                      <a:lnTo>
                        <a:pt x="247" y="168"/>
                      </a:lnTo>
                      <a:lnTo>
                        <a:pt x="249" y="164"/>
                      </a:lnTo>
                      <a:lnTo>
                        <a:pt x="253" y="155"/>
                      </a:lnTo>
                      <a:lnTo>
                        <a:pt x="255" y="145"/>
                      </a:lnTo>
                      <a:lnTo>
                        <a:pt x="258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6" y="139"/>
                      </a:lnTo>
                      <a:lnTo>
                        <a:pt x="230" y="159"/>
                      </a:lnTo>
                      <a:lnTo>
                        <a:pt x="220" y="178"/>
                      </a:lnTo>
                      <a:lnTo>
                        <a:pt x="213" y="185"/>
                      </a:lnTo>
                      <a:lnTo>
                        <a:pt x="206" y="195"/>
                      </a:lnTo>
                      <a:lnTo>
                        <a:pt x="197" y="201"/>
                      </a:lnTo>
                      <a:lnTo>
                        <a:pt x="189" y="208"/>
                      </a:lnTo>
                      <a:lnTo>
                        <a:pt x="171" y="218"/>
                      </a:lnTo>
                      <a:lnTo>
                        <a:pt x="151" y="224"/>
                      </a:lnTo>
                      <a:lnTo>
                        <a:pt x="130" y="226"/>
                      </a:lnTo>
                      <a:lnTo>
                        <a:pt x="108" y="224"/>
                      </a:lnTo>
                      <a:lnTo>
                        <a:pt x="88" y="218"/>
                      </a:lnTo>
                      <a:lnTo>
                        <a:pt x="69" y="208"/>
                      </a:lnTo>
                      <a:lnTo>
                        <a:pt x="53" y="195"/>
                      </a:lnTo>
                      <a:lnTo>
                        <a:pt x="38" y="178"/>
                      </a:lnTo>
                      <a:lnTo>
                        <a:pt x="29" y="159"/>
                      </a:lnTo>
                      <a:lnTo>
                        <a:pt x="23" y="139"/>
                      </a:lnTo>
                      <a:lnTo>
                        <a:pt x="21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564240" y="2725200"/>
                  <a:ext cx="61560" cy="61560"/>
                </a:xfrm>
                <a:custGeom>
                  <a:avLst/>
                  <a:gdLst/>
                  <a:ahLst/>
                  <a:rect l="l" t="t" r="r" b="b"/>
                  <a:pathLst>
                    <a:path w="217" h="214">
                      <a:moveTo>
                        <a:pt x="32" y="29"/>
                      </a:moveTo>
                      <a:lnTo>
                        <a:pt x="17" y="45"/>
                      </a:lnTo>
                      <a:lnTo>
                        <a:pt x="8" y="65"/>
                      </a:lnTo>
                      <a:lnTo>
                        <a:pt x="2" y="84"/>
                      </a:lnTo>
                      <a:lnTo>
                        <a:pt x="0" y="107"/>
                      </a:lnTo>
                      <a:lnTo>
                        <a:pt x="2" y="127"/>
                      </a:lnTo>
                      <a:lnTo>
                        <a:pt x="8" y="147"/>
                      </a:lnTo>
                      <a:lnTo>
                        <a:pt x="17" y="166"/>
                      </a:lnTo>
                      <a:lnTo>
                        <a:pt x="32" y="183"/>
                      </a:lnTo>
                      <a:lnTo>
                        <a:pt x="48" y="196"/>
                      </a:lnTo>
                      <a:lnTo>
                        <a:pt x="67" y="206"/>
                      </a:lnTo>
                      <a:lnTo>
                        <a:pt x="87" y="212"/>
                      </a:lnTo>
                      <a:lnTo>
                        <a:pt x="109" y="214"/>
                      </a:lnTo>
                      <a:lnTo>
                        <a:pt x="130" y="212"/>
                      </a:lnTo>
                      <a:lnTo>
                        <a:pt x="150" y="206"/>
                      </a:lnTo>
                      <a:lnTo>
                        <a:pt x="168" y="196"/>
                      </a:lnTo>
                      <a:lnTo>
                        <a:pt x="176" y="189"/>
                      </a:lnTo>
                      <a:lnTo>
                        <a:pt x="185" y="183"/>
                      </a:lnTo>
                      <a:lnTo>
                        <a:pt x="192" y="173"/>
                      </a:lnTo>
                      <a:lnTo>
                        <a:pt x="199" y="166"/>
                      </a:lnTo>
                      <a:lnTo>
                        <a:pt x="209" y="147"/>
                      </a:lnTo>
                      <a:lnTo>
                        <a:pt x="215" y="127"/>
                      </a:lnTo>
                      <a:lnTo>
                        <a:pt x="217" y="107"/>
                      </a:lnTo>
                      <a:lnTo>
                        <a:pt x="217" y="99"/>
                      </a:lnTo>
                      <a:lnTo>
                        <a:pt x="199" y="79"/>
                      </a:lnTo>
                      <a:lnTo>
                        <a:pt x="192" y="73"/>
                      </a:lnTo>
                      <a:lnTo>
                        <a:pt x="190" y="70"/>
                      </a:lnTo>
                      <a:lnTo>
                        <a:pt x="189" y="69"/>
                      </a:lnTo>
                      <a:lnTo>
                        <a:pt x="186" y="67"/>
                      </a:lnTo>
                      <a:lnTo>
                        <a:pt x="193" y="85"/>
                      </a:lnTo>
                      <a:lnTo>
                        <a:pt x="196" y="107"/>
                      </a:lnTo>
                      <a:lnTo>
                        <a:pt x="193" y="122"/>
                      </a:lnTo>
                      <a:lnTo>
                        <a:pt x="189" y="138"/>
                      </a:lnTo>
                      <a:lnTo>
                        <a:pt x="184" y="145"/>
                      </a:lnTo>
                      <a:lnTo>
                        <a:pt x="182" y="149"/>
                      </a:lnTo>
                      <a:lnTo>
                        <a:pt x="181" y="153"/>
                      </a:lnTo>
                      <a:lnTo>
                        <a:pt x="171" y="167"/>
                      </a:lnTo>
                      <a:lnTo>
                        <a:pt x="163" y="171"/>
                      </a:lnTo>
                      <a:lnTo>
                        <a:pt x="156" y="177"/>
                      </a:lnTo>
                      <a:lnTo>
                        <a:pt x="148" y="181"/>
                      </a:lnTo>
                      <a:lnTo>
                        <a:pt x="141" y="186"/>
                      </a:lnTo>
                      <a:lnTo>
                        <a:pt x="125" y="190"/>
                      </a:lnTo>
                      <a:lnTo>
                        <a:pt x="109" y="193"/>
                      </a:lnTo>
                      <a:lnTo>
                        <a:pt x="91" y="190"/>
                      </a:lnTo>
                      <a:lnTo>
                        <a:pt x="75" y="186"/>
                      </a:lnTo>
                      <a:lnTo>
                        <a:pt x="61" y="177"/>
                      </a:lnTo>
                      <a:lnTo>
                        <a:pt x="48" y="167"/>
                      </a:lnTo>
                      <a:lnTo>
                        <a:pt x="37" y="153"/>
                      </a:lnTo>
                      <a:lnTo>
                        <a:pt x="29" y="138"/>
                      </a:lnTo>
                      <a:lnTo>
                        <a:pt x="24" y="122"/>
                      </a:lnTo>
                      <a:lnTo>
                        <a:pt x="23" y="107"/>
                      </a:lnTo>
                      <a:lnTo>
                        <a:pt x="24" y="88"/>
                      </a:lnTo>
                      <a:lnTo>
                        <a:pt x="29" y="73"/>
                      </a:lnTo>
                      <a:lnTo>
                        <a:pt x="37" y="58"/>
                      </a:lnTo>
                      <a:lnTo>
                        <a:pt x="48" y="45"/>
                      </a:lnTo>
                      <a:lnTo>
                        <a:pt x="61" y="33"/>
                      </a:lnTo>
                      <a:lnTo>
                        <a:pt x="75" y="25"/>
                      </a:lnTo>
                      <a:lnTo>
                        <a:pt x="91" y="20"/>
                      </a:lnTo>
                      <a:lnTo>
                        <a:pt x="109" y="19"/>
                      </a:lnTo>
                      <a:lnTo>
                        <a:pt x="117" y="19"/>
                      </a:lnTo>
                      <a:lnTo>
                        <a:pt x="126" y="22"/>
                      </a:lnTo>
                      <a:lnTo>
                        <a:pt x="106" y="9"/>
                      </a:lnTo>
                      <a:lnTo>
                        <a:pt x="87" y="0"/>
                      </a:lnTo>
                      <a:lnTo>
                        <a:pt x="71" y="3"/>
                      </a:lnTo>
                      <a:lnTo>
                        <a:pt x="57" y="9"/>
                      </a:lnTo>
                      <a:lnTo>
                        <a:pt x="44" y="17"/>
                      </a:lnTo>
                      <a:lnTo>
                        <a:pt x="32" y="29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70720" y="2730960"/>
                  <a:ext cx="48960" cy="49680"/>
                </a:xfrm>
                <a:custGeom>
                  <a:avLst/>
                  <a:gdLst/>
                  <a:ahLst/>
                  <a:rect l="l" t="t" r="r" b="b"/>
                  <a:pathLst>
                    <a:path w="173" h="174">
                      <a:moveTo>
                        <a:pt x="103" y="3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1"/>
                      </a:lnTo>
                      <a:lnTo>
                        <a:pt x="52" y="6"/>
                      </a:lnTo>
                      <a:lnTo>
                        <a:pt x="38" y="14"/>
                      </a:lnTo>
                      <a:lnTo>
                        <a:pt x="25" y="26"/>
                      </a:lnTo>
                      <a:lnTo>
                        <a:pt x="14" y="39"/>
                      </a:lnTo>
                      <a:lnTo>
                        <a:pt x="6" y="54"/>
                      </a:lnTo>
                      <a:lnTo>
                        <a:pt x="1" y="69"/>
                      </a:lnTo>
                      <a:lnTo>
                        <a:pt x="0" y="88"/>
                      </a:lnTo>
                      <a:lnTo>
                        <a:pt x="1" y="103"/>
                      </a:lnTo>
                      <a:lnTo>
                        <a:pt x="6" y="119"/>
                      </a:lnTo>
                      <a:lnTo>
                        <a:pt x="14" y="134"/>
                      </a:lnTo>
                      <a:lnTo>
                        <a:pt x="25" y="148"/>
                      </a:lnTo>
                      <a:lnTo>
                        <a:pt x="38" y="158"/>
                      </a:lnTo>
                      <a:lnTo>
                        <a:pt x="52" y="167"/>
                      </a:lnTo>
                      <a:lnTo>
                        <a:pt x="68" y="171"/>
                      </a:lnTo>
                      <a:lnTo>
                        <a:pt x="86" y="174"/>
                      </a:lnTo>
                      <a:lnTo>
                        <a:pt x="102" y="171"/>
                      </a:lnTo>
                      <a:lnTo>
                        <a:pt x="118" y="167"/>
                      </a:lnTo>
                      <a:lnTo>
                        <a:pt x="125" y="162"/>
                      </a:lnTo>
                      <a:lnTo>
                        <a:pt x="133" y="158"/>
                      </a:lnTo>
                      <a:lnTo>
                        <a:pt x="140" y="152"/>
                      </a:lnTo>
                      <a:lnTo>
                        <a:pt x="148" y="148"/>
                      </a:lnTo>
                      <a:lnTo>
                        <a:pt x="158" y="134"/>
                      </a:lnTo>
                      <a:lnTo>
                        <a:pt x="159" y="130"/>
                      </a:lnTo>
                      <a:lnTo>
                        <a:pt x="161" y="126"/>
                      </a:lnTo>
                      <a:lnTo>
                        <a:pt x="166" y="119"/>
                      </a:lnTo>
                      <a:lnTo>
                        <a:pt x="170" y="103"/>
                      </a:lnTo>
                      <a:lnTo>
                        <a:pt x="173" y="88"/>
                      </a:lnTo>
                      <a:lnTo>
                        <a:pt x="170" y="66"/>
                      </a:lnTo>
                      <a:lnTo>
                        <a:pt x="163" y="48"/>
                      </a:lnTo>
                      <a:lnTo>
                        <a:pt x="134" y="23"/>
                      </a:lnTo>
                      <a:lnTo>
                        <a:pt x="118" y="12"/>
                      </a:lnTo>
                      <a:lnTo>
                        <a:pt x="103" y="3"/>
                      </a:lnTo>
                      <a:close/>
                      <a:moveTo>
                        <a:pt x="22" y="88"/>
                      </a:moveTo>
                      <a:lnTo>
                        <a:pt x="23" y="74"/>
                      </a:lnTo>
                      <a:lnTo>
                        <a:pt x="26" y="61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2"/>
                      </a:lnTo>
                      <a:lnTo>
                        <a:pt x="60" y="26"/>
                      </a:lnTo>
                      <a:lnTo>
                        <a:pt x="73" y="23"/>
                      </a:lnTo>
                      <a:lnTo>
                        <a:pt x="86" y="22"/>
                      </a:lnTo>
                      <a:lnTo>
                        <a:pt x="98" y="23"/>
                      </a:lnTo>
                      <a:lnTo>
                        <a:pt x="110" y="26"/>
                      </a:lnTo>
                      <a:lnTo>
                        <a:pt x="120" y="32"/>
                      </a:lnTo>
                      <a:lnTo>
                        <a:pt x="132" y="41"/>
                      </a:lnTo>
                      <a:lnTo>
                        <a:pt x="140" y="50"/>
                      </a:lnTo>
                      <a:lnTo>
                        <a:pt x="145" y="61"/>
                      </a:lnTo>
                      <a:lnTo>
                        <a:pt x="149" y="74"/>
                      </a:lnTo>
                      <a:lnTo>
                        <a:pt x="151" y="88"/>
                      </a:lnTo>
                      <a:lnTo>
                        <a:pt x="149" y="99"/>
                      </a:lnTo>
                      <a:lnTo>
                        <a:pt x="146" y="105"/>
                      </a:lnTo>
                      <a:lnTo>
                        <a:pt x="145" y="111"/>
                      </a:lnTo>
                      <a:lnTo>
                        <a:pt x="142" y="116"/>
                      </a:lnTo>
                      <a:lnTo>
                        <a:pt x="140" y="122"/>
                      </a:lnTo>
                      <a:lnTo>
                        <a:pt x="132" y="133"/>
                      </a:lnTo>
                      <a:lnTo>
                        <a:pt x="120" y="141"/>
                      </a:lnTo>
                      <a:lnTo>
                        <a:pt x="115" y="143"/>
                      </a:lnTo>
                      <a:lnTo>
                        <a:pt x="110" y="147"/>
                      </a:lnTo>
                      <a:lnTo>
                        <a:pt x="103" y="148"/>
                      </a:lnTo>
                      <a:lnTo>
                        <a:pt x="98" y="150"/>
                      </a:lnTo>
                      <a:lnTo>
                        <a:pt x="86" y="152"/>
                      </a:lnTo>
                      <a:lnTo>
                        <a:pt x="73" y="150"/>
                      </a:lnTo>
                      <a:lnTo>
                        <a:pt x="60" y="147"/>
                      </a:lnTo>
                      <a:lnTo>
                        <a:pt x="49" y="141"/>
                      </a:lnTo>
                      <a:lnTo>
                        <a:pt x="40" y="133"/>
                      </a:lnTo>
                      <a:lnTo>
                        <a:pt x="32" y="122"/>
                      </a:lnTo>
                      <a:lnTo>
                        <a:pt x="26" y="111"/>
                      </a:lnTo>
                      <a:lnTo>
                        <a:pt x="23" y="99"/>
                      </a:lnTo>
                      <a:lnTo>
                        <a:pt x="22" y="88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576840" y="2737080"/>
                  <a:ext cx="36360" cy="36720"/>
                </a:xfrm>
                <a:custGeom>
                  <a:avLst/>
                  <a:gdLst/>
                  <a:ahLst/>
                  <a:rect l="l" t="t" r="r" b="b"/>
                  <a:pathLst>
                    <a:path w="129" h="130">
                      <a:moveTo>
                        <a:pt x="18" y="19"/>
                      </a:moveTo>
                      <a:lnTo>
                        <a:pt x="10" y="28"/>
                      </a:lnTo>
                      <a:lnTo>
                        <a:pt x="4" y="39"/>
                      </a:lnTo>
                      <a:lnTo>
                        <a:pt x="1" y="52"/>
                      </a:lnTo>
                      <a:lnTo>
                        <a:pt x="0" y="66"/>
                      </a:lnTo>
                      <a:lnTo>
                        <a:pt x="1" y="77"/>
                      </a:lnTo>
                      <a:lnTo>
                        <a:pt x="4" y="89"/>
                      </a:lnTo>
                      <a:lnTo>
                        <a:pt x="10" y="100"/>
                      </a:lnTo>
                      <a:lnTo>
                        <a:pt x="18" y="111"/>
                      </a:lnTo>
                      <a:lnTo>
                        <a:pt x="27" y="119"/>
                      </a:lnTo>
                      <a:lnTo>
                        <a:pt x="38" y="125"/>
                      </a:lnTo>
                      <a:lnTo>
                        <a:pt x="51" y="128"/>
                      </a:lnTo>
                      <a:lnTo>
                        <a:pt x="64" y="130"/>
                      </a:lnTo>
                      <a:lnTo>
                        <a:pt x="76" y="128"/>
                      </a:lnTo>
                      <a:lnTo>
                        <a:pt x="81" y="126"/>
                      </a:lnTo>
                      <a:lnTo>
                        <a:pt x="88" y="125"/>
                      </a:lnTo>
                      <a:lnTo>
                        <a:pt x="93" y="121"/>
                      </a:lnTo>
                      <a:lnTo>
                        <a:pt x="98" y="119"/>
                      </a:lnTo>
                      <a:lnTo>
                        <a:pt x="110" y="111"/>
                      </a:lnTo>
                      <a:lnTo>
                        <a:pt x="118" y="100"/>
                      </a:lnTo>
                      <a:lnTo>
                        <a:pt x="120" y="94"/>
                      </a:lnTo>
                      <a:lnTo>
                        <a:pt x="123" y="89"/>
                      </a:lnTo>
                      <a:lnTo>
                        <a:pt x="124" y="83"/>
                      </a:lnTo>
                      <a:lnTo>
                        <a:pt x="127" y="77"/>
                      </a:lnTo>
                      <a:lnTo>
                        <a:pt x="129" y="66"/>
                      </a:lnTo>
                      <a:lnTo>
                        <a:pt x="127" y="52"/>
                      </a:lnTo>
                      <a:lnTo>
                        <a:pt x="123" y="39"/>
                      </a:lnTo>
                      <a:lnTo>
                        <a:pt x="118" y="28"/>
                      </a:lnTo>
                      <a:lnTo>
                        <a:pt x="110" y="19"/>
                      </a:lnTo>
                      <a:lnTo>
                        <a:pt x="98" y="10"/>
                      </a:lnTo>
                      <a:lnTo>
                        <a:pt x="88" y="4"/>
                      </a:lnTo>
                      <a:lnTo>
                        <a:pt x="76" y="1"/>
                      </a:lnTo>
                      <a:lnTo>
                        <a:pt x="64" y="0"/>
                      </a:lnTo>
                      <a:lnTo>
                        <a:pt x="51" y="1"/>
                      </a:lnTo>
                      <a:lnTo>
                        <a:pt x="38" y="4"/>
                      </a:lnTo>
                      <a:lnTo>
                        <a:pt x="27" y="10"/>
                      </a:lnTo>
                      <a:lnTo>
                        <a:pt x="18" y="19"/>
                      </a:lnTo>
                      <a:close/>
                      <a:moveTo>
                        <a:pt x="21" y="66"/>
                      </a:moveTo>
                      <a:lnTo>
                        <a:pt x="24" y="49"/>
                      </a:lnTo>
                      <a:lnTo>
                        <a:pt x="34" y="34"/>
                      </a:lnTo>
                      <a:lnTo>
                        <a:pt x="39" y="27"/>
                      </a:lnTo>
                      <a:lnTo>
                        <a:pt x="47" y="24"/>
                      </a:lnTo>
                      <a:lnTo>
                        <a:pt x="64" y="21"/>
                      </a:lnTo>
                      <a:lnTo>
                        <a:pt x="72" y="21"/>
                      </a:lnTo>
                      <a:lnTo>
                        <a:pt x="80" y="24"/>
                      </a:lnTo>
                      <a:lnTo>
                        <a:pt x="87" y="27"/>
                      </a:lnTo>
                      <a:lnTo>
                        <a:pt x="95" y="34"/>
                      </a:lnTo>
                      <a:lnTo>
                        <a:pt x="104" y="49"/>
                      </a:lnTo>
                      <a:lnTo>
                        <a:pt x="106" y="56"/>
                      </a:lnTo>
                      <a:lnTo>
                        <a:pt x="107" y="66"/>
                      </a:lnTo>
                      <a:lnTo>
                        <a:pt x="106" y="72"/>
                      </a:lnTo>
                      <a:lnTo>
                        <a:pt x="104" y="81"/>
                      </a:lnTo>
                      <a:lnTo>
                        <a:pt x="99" y="88"/>
                      </a:lnTo>
                      <a:lnTo>
                        <a:pt x="95" y="96"/>
                      </a:lnTo>
                      <a:lnTo>
                        <a:pt x="87" y="101"/>
                      </a:lnTo>
                      <a:lnTo>
                        <a:pt x="80" y="105"/>
                      </a:lnTo>
                      <a:lnTo>
                        <a:pt x="72" y="108"/>
                      </a:lnTo>
                      <a:lnTo>
                        <a:pt x="68" y="108"/>
                      </a:lnTo>
                      <a:lnTo>
                        <a:pt x="65" y="108"/>
                      </a:lnTo>
                      <a:lnTo>
                        <a:pt x="64" y="108"/>
                      </a:lnTo>
                      <a:lnTo>
                        <a:pt x="64" y="109"/>
                      </a:lnTo>
                      <a:lnTo>
                        <a:pt x="55" y="108"/>
                      </a:lnTo>
                      <a:lnTo>
                        <a:pt x="47" y="105"/>
                      </a:lnTo>
                      <a:lnTo>
                        <a:pt x="39" y="101"/>
                      </a:lnTo>
                      <a:lnTo>
                        <a:pt x="34" y="96"/>
                      </a:lnTo>
                      <a:lnTo>
                        <a:pt x="27" y="88"/>
                      </a:lnTo>
                      <a:lnTo>
                        <a:pt x="24" y="81"/>
                      </a:lnTo>
                      <a:lnTo>
                        <a:pt x="21" y="66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583320" y="2743200"/>
                  <a:ext cx="24480" cy="24480"/>
                </a:xfrm>
                <a:custGeom>
                  <a:avLst/>
                  <a:gdLst/>
                  <a:ahLst/>
                  <a:rect l="l" t="t" r="r" b="b"/>
                  <a:pathLst>
                    <a:path w="86" h="88">
                      <a:moveTo>
                        <a:pt x="13" y="13"/>
                      </a:moveTo>
                      <a:lnTo>
                        <a:pt x="3" y="28"/>
                      </a:lnTo>
                      <a:lnTo>
                        <a:pt x="0" y="45"/>
                      </a:lnTo>
                      <a:lnTo>
                        <a:pt x="3" y="60"/>
                      </a:lnTo>
                      <a:lnTo>
                        <a:pt x="6" y="67"/>
                      </a:lnTo>
                      <a:lnTo>
                        <a:pt x="13" y="75"/>
                      </a:lnTo>
                      <a:lnTo>
                        <a:pt x="18" y="80"/>
                      </a:lnTo>
                      <a:lnTo>
                        <a:pt x="26" y="84"/>
                      </a:lnTo>
                      <a:lnTo>
                        <a:pt x="34" y="87"/>
                      </a:lnTo>
                      <a:lnTo>
                        <a:pt x="43" y="88"/>
                      </a:lnTo>
                      <a:lnTo>
                        <a:pt x="43" y="87"/>
                      </a:lnTo>
                      <a:lnTo>
                        <a:pt x="44" y="87"/>
                      </a:lnTo>
                      <a:lnTo>
                        <a:pt x="47" y="87"/>
                      </a:lnTo>
                      <a:lnTo>
                        <a:pt x="51" y="87"/>
                      </a:lnTo>
                      <a:lnTo>
                        <a:pt x="59" y="84"/>
                      </a:lnTo>
                      <a:lnTo>
                        <a:pt x="66" y="80"/>
                      </a:lnTo>
                      <a:lnTo>
                        <a:pt x="74" y="75"/>
                      </a:lnTo>
                      <a:lnTo>
                        <a:pt x="78" y="67"/>
                      </a:lnTo>
                      <a:lnTo>
                        <a:pt x="83" y="60"/>
                      </a:lnTo>
                      <a:lnTo>
                        <a:pt x="85" y="51"/>
                      </a:lnTo>
                      <a:lnTo>
                        <a:pt x="86" y="45"/>
                      </a:lnTo>
                      <a:lnTo>
                        <a:pt x="85" y="35"/>
                      </a:lnTo>
                      <a:lnTo>
                        <a:pt x="83" y="28"/>
                      </a:lnTo>
                      <a:lnTo>
                        <a:pt x="74" y="13"/>
                      </a:lnTo>
                      <a:lnTo>
                        <a:pt x="66" y="6"/>
                      </a:lnTo>
                      <a:lnTo>
                        <a:pt x="59" y="3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3"/>
                      </a:lnTo>
                      <a:lnTo>
                        <a:pt x="18" y="6"/>
                      </a:lnTo>
                      <a:lnTo>
                        <a:pt x="13" y="13"/>
                      </a:lnTo>
                      <a:close/>
                      <a:moveTo>
                        <a:pt x="22" y="45"/>
                      </a:moveTo>
                      <a:lnTo>
                        <a:pt x="23" y="35"/>
                      </a:lnTo>
                      <a:lnTo>
                        <a:pt x="27" y="29"/>
                      </a:lnTo>
                      <a:lnTo>
                        <a:pt x="34" y="24"/>
                      </a:lnTo>
                      <a:lnTo>
                        <a:pt x="43" y="23"/>
                      </a:lnTo>
                      <a:lnTo>
                        <a:pt x="51" y="24"/>
                      </a:lnTo>
                      <a:lnTo>
                        <a:pt x="58" y="29"/>
                      </a:lnTo>
                      <a:lnTo>
                        <a:pt x="63" y="35"/>
                      </a:lnTo>
                      <a:lnTo>
                        <a:pt x="65" y="45"/>
                      </a:lnTo>
                      <a:lnTo>
                        <a:pt x="63" y="51"/>
                      </a:lnTo>
                      <a:lnTo>
                        <a:pt x="60" y="55"/>
                      </a:lnTo>
                      <a:lnTo>
                        <a:pt x="58" y="59"/>
                      </a:lnTo>
                      <a:lnTo>
                        <a:pt x="51" y="63"/>
                      </a:lnTo>
                      <a:lnTo>
                        <a:pt x="47" y="64"/>
                      </a:lnTo>
                      <a:lnTo>
                        <a:pt x="44" y="64"/>
                      </a:lnTo>
                      <a:lnTo>
                        <a:pt x="43" y="64"/>
                      </a:lnTo>
                      <a:lnTo>
                        <a:pt x="43" y="65"/>
                      </a:lnTo>
                      <a:lnTo>
                        <a:pt x="34" y="63"/>
                      </a:lnTo>
                      <a:lnTo>
                        <a:pt x="27" y="59"/>
                      </a:lnTo>
                      <a:lnTo>
                        <a:pt x="24" y="55"/>
                      </a:lnTo>
                      <a:lnTo>
                        <a:pt x="23" y="51"/>
                      </a:lnTo>
                      <a:lnTo>
                        <a:pt x="22" y="45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88720" y="274968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5" y="6"/>
                      </a:moveTo>
                      <a:lnTo>
                        <a:pt x="1" y="12"/>
                      </a:lnTo>
                      <a:lnTo>
                        <a:pt x="0" y="22"/>
                      </a:lnTo>
                      <a:lnTo>
                        <a:pt x="1" y="28"/>
                      </a:lnTo>
                      <a:lnTo>
                        <a:pt x="2" y="32"/>
                      </a:lnTo>
                      <a:lnTo>
                        <a:pt x="5" y="36"/>
                      </a:lnTo>
                      <a:lnTo>
                        <a:pt x="12" y="40"/>
                      </a:lnTo>
                      <a:lnTo>
                        <a:pt x="21" y="42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5" y="41"/>
                      </a:lnTo>
                      <a:lnTo>
                        <a:pt x="29" y="40"/>
                      </a:lnTo>
                      <a:lnTo>
                        <a:pt x="36" y="36"/>
                      </a:lnTo>
                      <a:lnTo>
                        <a:pt x="38" y="32"/>
                      </a:lnTo>
                      <a:lnTo>
                        <a:pt x="41" y="28"/>
                      </a:lnTo>
                      <a:lnTo>
                        <a:pt x="43" y="22"/>
                      </a:lnTo>
                      <a:lnTo>
                        <a:pt x="41" y="12"/>
                      </a:lnTo>
                      <a:lnTo>
                        <a:pt x="36" y="6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453360" y="275472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0" y="4"/>
                      </a:moveTo>
                      <a:lnTo>
                        <a:pt x="20" y="0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2" y="73"/>
                      </a:lnTo>
                      <a:lnTo>
                        <a:pt x="11" y="118"/>
                      </a:lnTo>
                      <a:lnTo>
                        <a:pt x="22" y="161"/>
                      </a:lnTo>
                      <a:lnTo>
                        <a:pt x="39" y="203"/>
                      </a:lnTo>
                      <a:lnTo>
                        <a:pt x="59" y="243"/>
                      </a:lnTo>
                      <a:lnTo>
                        <a:pt x="84" y="281"/>
                      </a:lnTo>
                      <a:lnTo>
                        <a:pt x="96" y="299"/>
                      </a:lnTo>
                      <a:lnTo>
                        <a:pt x="111" y="319"/>
                      </a:lnTo>
                      <a:lnTo>
                        <a:pt x="145" y="355"/>
                      </a:lnTo>
                      <a:lnTo>
                        <a:pt x="181" y="389"/>
                      </a:lnTo>
                      <a:lnTo>
                        <a:pt x="221" y="419"/>
                      </a:lnTo>
                      <a:lnTo>
                        <a:pt x="260" y="443"/>
                      </a:lnTo>
                      <a:lnTo>
                        <a:pt x="305" y="464"/>
                      </a:lnTo>
                      <a:lnTo>
                        <a:pt x="349" y="480"/>
                      </a:lnTo>
                      <a:lnTo>
                        <a:pt x="397" y="491"/>
                      </a:lnTo>
                      <a:lnTo>
                        <a:pt x="445" y="498"/>
                      </a:lnTo>
                      <a:lnTo>
                        <a:pt x="496" y="500"/>
                      </a:lnTo>
                      <a:lnTo>
                        <a:pt x="526" y="499"/>
                      </a:lnTo>
                      <a:lnTo>
                        <a:pt x="556" y="497"/>
                      </a:lnTo>
                      <a:lnTo>
                        <a:pt x="586" y="492"/>
                      </a:lnTo>
                      <a:lnTo>
                        <a:pt x="615" y="487"/>
                      </a:lnTo>
                      <a:lnTo>
                        <a:pt x="636" y="459"/>
                      </a:lnTo>
                      <a:lnTo>
                        <a:pt x="602" y="467"/>
                      </a:lnTo>
                      <a:lnTo>
                        <a:pt x="568" y="473"/>
                      </a:lnTo>
                      <a:lnTo>
                        <a:pt x="531" y="476"/>
                      </a:lnTo>
                      <a:lnTo>
                        <a:pt x="513" y="477"/>
                      </a:lnTo>
                      <a:lnTo>
                        <a:pt x="504" y="477"/>
                      </a:lnTo>
                      <a:lnTo>
                        <a:pt x="500" y="477"/>
                      </a:lnTo>
                      <a:lnTo>
                        <a:pt x="497" y="477"/>
                      </a:lnTo>
                      <a:lnTo>
                        <a:pt x="496" y="477"/>
                      </a:lnTo>
                      <a:lnTo>
                        <a:pt x="496" y="479"/>
                      </a:lnTo>
                      <a:lnTo>
                        <a:pt x="446" y="476"/>
                      </a:lnTo>
                      <a:lnTo>
                        <a:pt x="400" y="470"/>
                      </a:lnTo>
                      <a:lnTo>
                        <a:pt x="355" y="458"/>
                      </a:lnTo>
                      <a:lnTo>
                        <a:pt x="313" y="443"/>
                      </a:lnTo>
                      <a:lnTo>
                        <a:pt x="271" y="423"/>
                      </a:lnTo>
                      <a:lnTo>
                        <a:pt x="232" y="399"/>
                      </a:lnTo>
                      <a:lnTo>
                        <a:pt x="195" y="371"/>
                      </a:lnTo>
                      <a:lnTo>
                        <a:pt x="160" y="339"/>
                      </a:lnTo>
                      <a:lnTo>
                        <a:pt x="126" y="303"/>
                      </a:lnTo>
                      <a:lnTo>
                        <a:pt x="97" y="265"/>
                      </a:lnTo>
                      <a:lnTo>
                        <a:pt x="84" y="245"/>
                      </a:lnTo>
                      <a:lnTo>
                        <a:pt x="72" y="226"/>
                      </a:lnTo>
                      <a:lnTo>
                        <a:pt x="54" y="185"/>
                      </a:lnTo>
                      <a:lnTo>
                        <a:pt x="38" y="142"/>
                      </a:lnTo>
                      <a:lnTo>
                        <a:pt x="28" y="98"/>
                      </a:lnTo>
                      <a:lnTo>
                        <a:pt x="24" y="74"/>
                      </a:lnTo>
                      <a:lnTo>
                        <a:pt x="21" y="5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59120" y="2747880"/>
                  <a:ext cx="181080" cy="142920"/>
                </a:xfrm>
                <a:custGeom>
                  <a:avLst/>
                  <a:gdLst/>
                  <a:ahLst/>
                  <a:rect l="l" t="t" r="r" b="b"/>
                  <a:pathLst>
                    <a:path w="634" h="503">
                      <a:moveTo>
                        <a:pt x="0" y="24"/>
                      </a:moveTo>
                      <a:lnTo>
                        <a:pt x="0" y="28"/>
                      </a:lnTo>
                      <a:lnTo>
                        <a:pt x="1" y="75"/>
                      </a:lnTo>
                      <a:lnTo>
                        <a:pt x="4" y="98"/>
                      </a:lnTo>
                      <a:lnTo>
                        <a:pt x="8" y="122"/>
                      </a:lnTo>
                      <a:lnTo>
                        <a:pt x="18" y="166"/>
                      </a:lnTo>
                      <a:lnTo>
                        <a:pt x="34" y="209"/>
                      </a:lnTo>
                      <a:lnTo>
                        <a:pt x="52" y="250"/>
                      </a:lnTo>
                      <a:lnTo>
                        <a:pt x="64" y="269"/>
                      </a:lnTo>
                      <a:lnTo>
                        <a:pt x="77" y="289"/>
                      </a:lnTo>
                      <a:lnTo>
                        <a:pt x="106" y="327"/>
                      </a:lnTo>
                      <a:lnTo>
                        <a:pt x="140" y="363"/>
                      </a:lnTo>
                      <a:lnTo>
                        <a:pt x="175" y="395"/>
                      </a:lnTo>
                      <a:lnTo>
                        <a:pt x="212" y="423"/>
                      </a:lnTo>
                      <a:lnTo>
                        <a:pt x="251" y="447"/>
                      </a:lnTo>
                      <a:lnTo>
                        <a:pt x="293" y="467"/>
                      </a:lnTo>
                      <a:lnTo>
                        <a:pt x="335" y="482"/>
                      </a:lnTo>
                      <a:lnTo>
                        <a:pt x="380" y="494"/>
                      </a:lnTo>
                      <a:lnTo>
                        <a:pt x="426" y="500"/>
                      </a:lnTo>
                      <a:lnTo>
                        <a:pt x="476" y="503"/>
                      </a:lnTo>
                      <a:lnTo>
                        <a:pt x="476" y="501"/>
                      </a:lnTo>
                      <a:lnTo>
                        <a:pt x="477" y="501"/>
                      </a:lnTo>
                      <a:lnTo>
                        <a:pt x="480" y="501"/>
                      </a:lnTo>
                      <a:lnTo>
                        <a:pt x="484" y="501"/>
                      </a:lnTo>
                      <a:lnTo>
                        <a:pt x="493" y="501"/>
                      </a:lnTo>
                      <a:lnTo>
                        <a:pt x="511" y="500"/>
                      </a:lnTo>
                      <a:lnTo>
                        <a:pt x="548" y="497"/>
                      </a:lnTo>
                      <a:lnTo>
                        <a:pt x="582" y="491"/>
                      </a:lnTo>
                      <a:lnTo>
                        <a:pt x="616" y="483"/>
                      </a:lnTo>
                      <a:lnTo>
                        <a:pt x="634" y="454"/>
                      </a:lnTo>
                      <a:lnTo>
                        <a:pt x="595" y="465"/>
                      </a:lnTo>
                      <a:lnTo>
                        <a:pt x="557" y="474"/>
                      </a:lnTo>
                      <a:lnTo>
                        <a:pt x="536" y="477"/>
                      </a:lnTo>
                      <a:lnTo>
                        <a:pt x="517" y="479"/>
                      </a:lnTo>
                      <a:lnTo>
                        <a:pt x="476" y="481"/>
                      </a:lnTo>
                      <a:lnTo>
                        <a:pt x="429" y="479"/>
                      </a:lnTo>
                      <a:lnTo>
                        <a:pt x="384" y="472"/>
                      </a:lnTo>
                      <a:lnTo>
                        <a:pt x="341" y="461"/>
                      </a:lnTo>
                      <a:lnTo>
                        <a:pt x="302" y="447"/>
                      </a:lnTo>
                      <a:lnTo>
                        <a:pt x="262" y="428"/>
                      </a:lnTo>
                      <a:lnTo>
                        <a:pt x="225" y="405"/>
                      </a:lnTo>
                      <a:lnTo>
                        <a:pt x="188" y="378"/>
                      </a:lnTo>
                      <a:lnTo>
                        <a:pt x="155" y="347"/>
                      </a:lnTo>
                      <a:lnTo>
                        <a:pt x="138" y="329"/>
                      </a:lnTo>
                      <a:lnTo>
                        <a:pt x="124" y="312"/>
                      </a:lnTo>
                      <a:lnTo>
                        <a:pt x="97" y="276"/>
                      </a:lnTo>
                      <a:lnTo>
                        <a:pt x="84" y="257"/>
                      </a:lnTo>
                      <a:lnTo>
                        <a:pt x="74" y="238"/>
                      </a:lnTo>
                      <a:lnTo>
                        <a:pt x="56" y="200"/>
                      </a:lnTo>
                      <a:lnTo>
                        <a:pt x="40" y="159"/>
                      </a:lnTo>
                      <a:lnTo>
                        <a:pt x="34" y="138"/>
                      </a:lnTo>
                      <a:lnTo>
                        <a:pt x="31" y="117"/>
                      </a:lnTo>
                      <a:lnTo>
                        <a:pt x="26" y="94"/>
                      </a:lnTo>
                      <a:lnTo>
                        <a:pt x="24" y="73"/>
                      </a:lnTo>
                      <a:lnTo>
                        <a:pt x="23" y="28"/>
                      </a:lnTo>
                      <a:lnTo>
                        <a:pt x="2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84320" y="2727360"/>
                  <a:ext cx="16668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7">
                      <a:moveTo>
                        <a:pt x="34" y="0"/>
                      </a:moveTo>
                      <a:lnTo>
                        <a:pt x="10" y="15"/>
                      </a:lnTo>
                      <a:lnTo>
                        <a:pt x="5" y="34"/>
                      </a:lnTo>
                      <a:lnTo>
                        <a:pt x="3" y="55"/>
                      </a:lnTo>
                      <a:lnTo>
                        <a:pt x="0" y="100"/>
                      </a:lnTo>
                      <a:lnTo>
                        <a:pt x="2" y="138"/>
                      </a:lnTo>
                      <a:lnTo>
                        <a:pt x="7" y="177"/>
                      </a:lnTo>
                      <a:lnTo>
                        <a:pt x="15" y="213"/>
                      </a:lnTo>
                      <a:lnTo>
                        <a:pt x="21" y="230"/>
                      </a:lnTo>
                      <a:lnTo>
                        <a:pt x="29" y="248"/>
                      </a:lnTo>
                      <a:lnTo>
                        <a:pt x="44" y="281"/>
                      </a:lnTo>
                      <a:lnTo>
                        <a:pt x="53" y="297"/>
                      </a:lnTo>
                      <a:lnTo>
                        <a:pt x="64" y="314"/>
                      </a:lnTo>
                      <a:lnTo>
                        <a:pt x="74" y="329"/>
                      </a:lnTo>
                      <a:lnTo>
                        <a:pt x="87" y="344"/>
                      </a:lnTo>
                      <a:lnTo>
                        <a:pt x="114" y="374"/>
                      </a:lnTo>
                      <a:lnTo>
                        <a:pt x="142" y="400"/>
                      </a:lnTo>
                      <a:lnTo>
                        <a:pt x="173" y="423"/>
                      </a:lnTo>
                      <a:lnTo>
                        <a:pt x="205" y="442"/>
                      </a:lnTo>
                      <a:lnTo>
                        <a:pt x="240" y="459"/>
                      </a:lnTo>
                      <a:lnTo>
                        <a:pt x="274" y="470"/>
                      </a:lnTo>
                      <a:lnTo>
                        <a:pt x="311" y="479"/>
                      </a:lnTo>
                      <a:lnTo>
                        <a:pt x="349" y="485"/>
                      </a:lnTo>
                      <a:lnTo>
                        <a:pt x="389" y="487"/>
                      </a:lnTo>
                      <a:lnTo>
                        <a:pt x="414" y="486"/>
                      </a:lnTo>
                      <a:lnTo>
                        <a:pt x="440" y="484"/>
                      </a:lnTo>
                      <a:lnTo>
                        <a:pt x="464" y="479"/>
                      </a:lnTo>
                      <a:lnTo>
                        <a:pt x="489" y="475"/>
                      </a:lnTo>
                      <a:lnTo>
                        <a:pt x="512" y="467"/>
                      </a:lnTo>
                      <a:lnTo>
                        <a:pt x="523" y="462"/>
                      </a:lnTo>
                      <a:lnTo>
                        <a:pt x="529" y="460"/>
                      </a:lnTo>
                      <a:lnTo>
                        <a:pt x="536" y="459"/>
                      </a:lnTo>
                      <a:lnTo>
                        <a:pt x="540" y="456"/>
                      </a:lnTo>
                      <a:lnTo>
                        <a:pt x="546" y="453"/>
                      </a:lnTo>
                      <a:lnTo>
                        <a:pt x="557" y="449"/>
                      </a:lnTo>
                      <a:lnTo>
                        <a:pt x="580" y="439"/>
                      </a:lnTo>
                      <a:lnTo>
                        <a:pt x="582" y="424"/>
                      </a:lnTo>
                      <a:lnTo>
                        <a:pt x="585" y="410"/>
                      </a:lnTo>
                      <a:lnTo>
                        <a:pt x="563" y="423"/>
                      </a:lnTo>
                      <a:lnTo>
                        <a:pt x="540" y="434"/>
                      </a:lnTo>
                      <a:lnTo>
                        <a:pt x="516" y="443"/>
                      </a:lnTo>
                      <a:lnTo>
                        <a:pt x="510" y="444"/>
                      </a:lnTo>
                      <a:lnTo>
                        <a:pt x="504" y="446"/>
                      </a:lnTo>
                      <a:lnTo>
                        <a:pt x="493" y="451"/>
                      </a:lnTo>
                      <a:lnTo>
                        <a:pt x="479" y="453"/>
                      </a:lnTo>
                      <a:lnTo>
                        <a:pt x="472" y="454"/>
                      </a:lnTo>
                      <a:lnTo>
                        <a:pt x="466" y="457"/>
                      </a:lnTo>
                      <a:lnTo>
                        <a:pt x="441" y="461"/>
                      </a:lnTo>
                      <a:lnTo>
                        <a:pt x="428" y="462"/>
                      </a:lnTo>
                      <a:lnTo>
                        <a:pt x="415" y="465"/>
                      </a:lnTo>
                      <a:lnTo>
                        <a:pt x="402" y="465"/>
                      </a:lnTo>
                      <a:lnTo>
                        <a:pt x="395" y="465"/>
                      </a:lnTo>
                      <a:lnTo>
                        <a:pt x="392" y="465"/>
                      </a:lnTo>
                      <a:lnTo>
                        <a:pt x="389" y="466"/>
                      </a:lnTo>
                      <a:lnTo>
                        <a:pt x="351" y="464"/>
                      </a:lnTo>
                      <a:lnTo>
                        <a:pt x="316" y="459"/>
                      </a:lnTo>
                      <a:lnTo>
                        <a:pt x="280" y="450"/>
                      </a:lnTo>
                      <a:lnTo>
                        <a:pt x="248" y="439"/>
                      </a:lnTo>
                      <a:lnTo>
                        <a:pt x="215" y="423"/>
                      </a:lnTo>
                      <a:lnTo>
                        <a:pt x="185" y="405"/>
                      </a:lnTo>
                      <a:lnTo>
                        <a:pt x="156" y="383"/>
                      </a:lnTo>
                      <a:lnTo>
                        <a:pt x="130" y="359"/>
                      </a:lnTo>
                      <a:lnTo>
                        <a:pt x="104" y="331"/>
                      </a:lnTo>
                      <a:lnTo>
                        <a:pt x="82" y="301"/>
                      </a:lnTo>
                      <a:lnTo>
                        <a:pt x="63" y="271"/>
                      </a:lnTo>
                      <a:lnTo>
                        <a:pt x="48" y="240"/>
                      </a:lnTo>
                      <a:lnTo>
                        <a:pt x="36" y="206"/>
                      </a:lnTo>
                      <a:lnTo>
                        <a:pt x="28" y="172"/>
                      </a:lnTo>
                      <a:lnTo>
                        <a:pt x="23" y="136"/>
                      </a:lnTo>
                      <a:lnTo>
                        <a:pt x="22" y="100"/>
                      </a:lnTo>
                      <a:lnTo>
                        <a:pt x="22" y="72"/>
                      </a:lnTo>
                      <a:lnTo>
                        <a:pt x="24" y="47"/>
                      </a:lnTo>
                      <a:lnTo>
                        <a:pt x="28" y="22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465240" y="2741760"/>
                  <a:ext cx="178920" cy="143640"/>
                </a:xfrm>
                <a:custGeom>
                  <a:avLst/>
                  <a:gdLst/>
                  <a:ahLst/>
                  <a:rect l="l" t="t" r="r" b="b"/>
                  <a:pathLst>
                    <a:path w="625" h="502">
                      <a:moveTo>
                        <a:pt x="0" y="21"/>
                      </a:moveTo>
                      <a:lnTo>
                        <a:pt x="0" y="49"/>
                      </a:lnTo>
                      <a:lnTo>
                        <a:pt x="1" y="94"/>
                      </a:lnTo>
                      <a:lnTo>
                        <a:pt x="3" y="115"/>
                      </a:lnTo>
                      <a:lnTo>
                        <a:pt x="8" y="138"/>
                      </a:lnTo>
                      <a:lnTo>
                        <a:pt x="11" y="159"/>
                      </a:lnTo>
                      <a:lnTo>
                        <a:pt x="17" y="180"/>
                      </a:lnTo>
                      <a:lnTo>
                        <a:pt x="33" y="221"/>
                      </a:lnTo>
                      <a:lnTo>
                        <a:pt x="51" y="259"/>
                      </a:lnTo>
                      <a:lnTo>
                        <a:pt x="61" y="278"/>
                      </a:lnTo>
                      <a:lnTo>
                        <a:pt x="74" y="297"/>
                      </a:lnTo>
                      <a:lnTo>
                        <a:pt x="101" y="333"/>
                      </a:lnTo>
                      <a:lnTo>
                        <a:pt x="115" y="350"/>
                      </a:lnTo>
                      <a:lnTo>
                        <a:pt x="132" y="368"/>
                      </a:lnTo>
                      <a:lnTo>
                        <a:pt x="165" y="399"/>
                      </a:lnTo>
                      <a:lnTo>
                        <a:pt x="202" y="426"/>
                      </a:lnTo>
                      <a:lnTo>
                        <a:pt x="239" y="449"/>
                      </a:lnTo>
                      <a:lnTo>
                        <a:pt x="279" y="468"/>
                      </a:lnTo>
                      <a:lnTo>
                        <a:pt x="318" y="482"/>
                      </a:lnTo>
                      <a:lnTo>
                        <a:pt x="361" y="493"/>
                      </a:lnTo>
                      <a:lnTo>
                        <a:pt x="406" y="500"/>
                      </a:lnTo>
                      <a:lnTo>
                        <a:pt x="453" y="502"/>
                      </a:lnTo>
                      <a:lnTo>
                        <a:pt x="494" y="500"/>
                      </a:lnTo>
                      <a:lnTo>
                        <a:pt x="513" y="498"/>
                      </a:lnTo>
                      <a:lnTo>
                        <a:pt x="534" y="495"/>
                      </a:lnTo>
                      <a:lnTo>
                        <a:pt x="572" y="486"/>
                      </a:lnTo>
                      <a:lnTo>
                        <a:pt x="611" y="475"/>
                      </a:lnTo>
                      <a:lnTo>
                        <a:pt x="625" y="447"/>
                      </a:lnTo>
                      <a:lnTo>
                        <a:pt x="584" y="460"/>
                      </a:lnTo>
                      <a:lnTo>
                        <a:pt x="572" y="462"/>
                      </a:lnTo>
                      <a:lnTo>
                        <a:pt x="569" y="462"/>
                      </a:lnTo>
                      <a:lnTo>
                        <a:pt x="567" y="464"/>
                      </a:lnTo>
                      <a:lnTo>
                        <a:pt x="562" y="466"/>
                      </a:lnTo>
                      <a:lnTo>
                        <a:pt x="542" y="471"/>
                      </a:lnTo>
                      <a:lnTo>
                        <a:pt x="519" y="475"/>
                      </a:lnTo>
                      <a:lnTo>
                        <a:pt x="508" y="476"/>
                      </a:lnTo>
                      <a:lnTo>
                        <a:pt x="498" y="478"/>
                      </a:lnTo>
                      <a:lnTo>
                        <a:pt x="475" y="479"/>
                      </a:lnTo>
                      <a:lnTo>
                        <a:pt x="464" y="479"/>
                      </a:lnTo>
                      <a:lnTo>
                        <a:pt x="458" y="479"/>
                      </a:lnTo>
                      <a:lnTo>
                        <a:pt x="453" y="481"/>
                      </a:lnTo>
                      <a:lnTo>
                        <a:pt x="408" y="478"/>
                      </a:lnTo>
                      <a:lnTo>
                        <a:pt x="366" y="473"/>
                      </a:lnTo>
                      <a:lnTo>
                        <a:pt x="325" y="462"/>
                      </a:lnTo>
                      <a:lnTo>
                        <a:pt x="287" y="449"/>
                      </a:lnTo>
                      <a:lnTo>
                        <a:pt x="248" y="431"/>
                      </a:lnTo>
                      <a:lnTo>
                        <a:pt x="213" y="409"/>
                      </a:lnTo>
                      <a:lnTo>
                        <a:pt x="179" y="383"/>
                      </a:lnTo>
                      <a:lnTo>
                        <a:pt x="147" y="354"/>
                      </a:lnTo>
                      <a:lnTo>
                        <a:pt x="117" y="321"/>
                      </a:lnTo>
                      <a:lnTo>
                        <a:pt x="92" y="287"/>
                      </a:lnTo>
                      <a:lnTo>
                        <a:pt x="69" y="250"/>
                      </a:lnTo>
                      <a:lnTo>
                        <a:pt x="52" y="213"/>
                      </a:lnTo>
                      <a:lnTo>
                        <a:pt x="37" y="173"/>
                      </a:lnTo>
                      <a:lnTo>
                        <a:pt x="32" y="153"/>
                      </a:lnTo>
                      <a:lnTo>
                        <a:pt x="28" y="134"/>
                      </a:lnTo>
                      <a:lnTo>
                        <a:pt x="22" y="92"/>
                      </a:lnTo>
                      <a:lnTo>
                        <a:pt x="21" y="49"/>
                      </a:lnTo>
                      <a:lnTo>
                        <a:pt x="21" y="22"/>
                      </a:lnTo>
                      <a:lnTo>
                        <a:pt x="24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471720" y="2736360"/>
                  <a:ext cx="175320" cy="142560"/>
                </a:xfrm>
                <a:custGeom>
                  <a:avLst/>
                  <a:gdLst/>
                  <a:ahLst/>
                  <a:rect l="l" t="t" r="r" b="b"/>
                  <a:pathLst>
                    <a:path w="615" h="500">
                      <a:moveTo>
                        <a:pt x="22" y="68"/>
                      </a:moveTo>
                      <a:lnTo>
                        <a:pt x="23" y="32"/>
                      </a:lnTo>
                      <a:lnTo>
                        <a:pt x="26" y="0"/>
                      </a:lnTo>
                      <a:lnTo>
                        <a:pt x="3" y="19"/>
                      </a:lnTo>
                      <a:lnTo>
                        <a:pt x="0" y="41"/>
                      </a:lnTo>
                      <a:lnTo>
                        <a:pt x="0" y="68"/>
                      </a:lnTo>
                      <a:lnTo>
                        <a:pt x="1" y="111"/>
                      </a:lnTo>
                      <a:lnTo>
                        <a:pt x="7" y="153"/>
                      </a:lnTo>
                      <a:lnTo>
                        <a:pt x="11" y="172"/>
                      </a:lnTo>
                      <a:lnTo>
                        <a:pt x="16" y="192"/>
                      </a:lnTo>
                      <a:lnTo>
                        <a:pt x="31" y="232"/>
                      </a:lnTo>
                      <a:lnTo>
                        <a:pt x="48" y="269"/>
                      </a:lnTo>
                      <a:lnTo>
                        <a:pt x="71" y="306"/>
                      </a:lnTo>
                      <a:lnTo>
                        <a:pt x="96" y="340"/>
                      </a:lnTo>
                      <a:lnTo>
                        <a:pt x="126" y="373"/>
                      </a:lnTo>
                      <a:lnTo>
                        <a:pt x="158" y="402"/>
                      </a:lnTo>
                      <a:lnTo>
                        <a:pt x="192" y="428"/>
                      </a:lnTo>
                      <a:lnTo>
                        <a:pt x="227" y="450"/>
                      </a:lnTo>
                      <a:lnTo>
                        <a:pt x="266" y="468"/>
                      </a:lnTo>
                      <a:lnTo>
                        <a:pt x="304" y="481"/>
                      </a:lnTo>
                      <a:lnTo>
                        <a:pt x="345" y="492"/>
                      </a:lnTo>
                      <a:lnTo>
                        <a:pt x="387" y="497"/>
                      </a:lnTo>
                      <a:lnTo>
                        <a:pt x="432" y="500"/>
                      </a:lnTo>
                      <a:lnTo>
                        <a:pt x="437" y="498"/>
                      </a:lnTo>
                      <a:lnTo>
                        <a:pt x="443" y="498"/>
                      </a:lnTo>
                      <a:lnTo>
                        <a:pt x="454" y="498"/>
                      </a:lnTo>
                      <a:lnTo>
                        <a:pt x="477" y="497"/>
                      </a:lnTo>
                      <a:lnTo>
                        <a:pt x="487" y="495"/>
                      </a:lnTo>
                      <a:lnTo>
                        <a:pt x="498" y="494"/>
                      </a:lnTo>
                      <a:lnTo>
                        <a:pt x="521" y="490"/>
                      </a:lnTo>
                      <a:lnTo>
                        <a:pt x="541" y="485"/>
                      </a:lnTo>
                      <a:lnTo>
                        <a:pt x="546" y="483"/>
                      </a:lnTo>
                      <a:lnTo>
                        <a:pt x="548" y="481"/>
                      </a:lnTo>
                      <a:lnTo>
                        <a:pt x="551" y="481"/>
                      </a:lnTo>
                      <a:lnTo>
                        <a:pt x="563" y="479"/>
                      </a:lnTo>
                      <a:lnTo>
                        <a:pt x="604" y="466"/>
                      </a:lnTo>
                      <a:lnTo>
                        <a:pt x="615" y="436"/>
                      </a:lnTo>
                      <a:lnTo>
                        <a:pt x="592" y="445"/>
                      </a:lnTo>
                      <a:lnTo>
                        <a:pt x="572" y="453"/>
                      </a:lnTo>
                      <a:lnTo>
                        <a:pt x="549" y="460"/>
                      </a:lnTo>
                      <a:lnTo>
                        <a:pt x="528" y="467"/>
                      </a:lnTo>
                      <a:lnTo>
                        <a:pt x="504" y="471"/>
                      </a:lnTo>
                      <a:lnTo>
                        <a:pt x="481" y="475"/>
                      </a:lnTo>
                      <a:lnTo>
                        <a:pt x="456" y="477"/>
                      </a:lnTo>
                      <a:lnTo>
                        <a:pt x="444" y="477"/>
                      </a:lnTo>
                      <a:lnTo>
                        <a:pt x="432" y="478"/>
                      </a:lnTo>
                      <a:lnTo>
                        <a:pt x="389" y="476"/>
                      </a:lnTo>
                      <a:lnTo>
                        <a:pt x="350" y="470"/>
                      </a:lnTo>
                      <a:lnTo>
                        <a:pt x="311" y="460"/>
                      </a:lnTo>
                      <a:lnTo>
                        <a:pt x="275" y="447"/>
                      </a:lnTo>
                      <a:lnTo>
                        <a:pt x="238" y="429"/>
                      </a:lnTo>
                      <a:lnTo>
                        <a:pt x="204" y="409"/>
                      </a:lnTo>
                      <a:lnTo>
                        <a:pt x="172" y="384"/>
                      </a:lnTo>
                      <a:lnTo>
                        <a:pt x="142" y="357"/>
                      </a:lnTo>
                      <a:lnTo>
                        <a:pt x="113" y="325"/>
                      </a:lnTo>
                      <a:lnTo>
                        <a:pt x="89" y="293"/>
                      </a:lnTo>
                      <a:lnTo>
                        <a:pt x="67" y="259"/>
                      </a:lnTo>
                      <a:lnTo>
                        <a:pt x="58" y="241"/>
                      </a:lnTo>
                      <a:lnTo>
                        <a:pt x="51" y="224"/>
                      </a:lnTo>
                      <a:lnTo>
                        <a:pt x="43" y="205"/>
                      </a:lnTo>
                      <a:lnTo>
                        <a:pt x="38" y="187"/>
                      </a:lnTo>
                      <a:lnTo>
                        <a:pt x="29" y="148"/>
                      </a:lnTo>
                      <a:lnTo>
                        <a:pt x="23" y="108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477840" y="2731320"/>
                  <a:ext cx="171360" cy="141480"/>
                </a:xfrm>
                <a:custGeom>
                  <a:avLst/>
                  <a:gdLst/>
                  <a:ahLst/>
                  <a:rect l="l" t="t" r="r" b="b"/>
                  <a:pathLst>
                    <a:path w="601" h="495">
                      <a:moveTo>
                        <a:pt x="4" y="17"/>
                      </a:moveTo>
                      <a:lnTo>
                        <a:pt x="1" y="49"/>
                      </a:lnTo>
                      <a:lnTo>
                        <a:pt x="0" y="85"/>
                      </a:lnTo>
                      <a:lnTo>
                        <a:pt x="1" y="125"/>
                      </a:lnTo>
                      <a:lnTo>
                        <a:pt x="7" y="165"/>
                      </a:lnTo>
                      <a:lnTo>
                        <a:pt x="16" y="204"/>
                      </a:lnTo>
                      <a:lnTo>
                        <a:pt x="21" y="222"/>
                      </a:lnTo>
                      <a:lnTo>
                        <a:pt x="29" y="241"/>
                      </a:lnTo>
                      <a:lnTo>
                        <a:pt x="36" y="258"/>
                      </a:lnTo>
                      <a:lnTo>
                        <a:pt x="45" y="276"/>
                      </a:lnTo>
                      <a:lnTo>
                        <a:pt x="67" y="310"/>
                      </a:lnTo>
                      <a:lnTo>
                        <a:pt x="91" y="342"/>
                      </a:lnTo>
                      <a:lnTo>
                        <a:pt x="120" y="374"/>
                      </a:lnTo>
                      <a:lnTo>
                        <a:pt x="150" y="401"/>
                      </a:lnTo>
                      <a:lnTo>
                        <a:pt x="182" y="426"/>
                      </a:lnTo>
                      <a:lnTo>
                        <a:pt x="216" y="446"/>
                      </a:lnTo>
                      <a:lnTo>
                        <a:pt x="253" y="464"/>
                      </a:lnTo>
                      <a:lnTo>
                        <a:pt x="289" y="477"/>
                      </a:lnTo>
                      <a:lnTo>
                        <a:pt x="328" y="487"/>
                      </a:lnTo>
                      <a:lnTo>
                        <a:pt x="367" y="493"/>
                      </a:lnTo>
                      <a:lnTo>
                        <a:pt x="410" y="495"/>
                      </a:lnTo>
                      <a:lnTo>
                        <a:pt x="422" y="494"/>
                      </a:lnTo>
                      <a:lnTo>
                        <a:pt x="434" y="494"/>
                      </a:lnTo>
                      <a:lnTo>
                        <a:pt x="459" y="492"/>
                      </a:lnTo>
                      <a:lnTo>
                        <a:pt x="482" y="488"/>
                      </a:lnTo>
                      <a:lnTo>
                        <a:pt x="506" y="484"/>
                      </a:lnTo>
                      <a:lnTo>
                        <a:pt x="527" y="477"/>
                      </a:lnTo>
                      <a:lnTo>
                        <a:pt x="550" y="470"/>
                      </a:lnTo>
                      <a:lnTo>
                        <a:pt x="570" y="462"/>
                      </a:lnTo>
                      <a:lnTo>
                        <a:pt x="593" y="453"/>
                      </a:lnTo>
                      <a:lnTo>
                        <a:pt x="601" y="424"/>
                      </a:lnTo>
                      <a:lnTo>
                        <a:pt x="578" y="434"/>
                      </a:lnTo>
                      <a:lnTo>
                        <a:pt x="567" y="438"/>
                      </a:lnTo>
                      <a:lnTo>
                        <a:pt x="561" y="441"/>
                      </a:lnTo>
                      <a:lnTo>
                        <a:pt x="557" y="444"/>
                      </a:lnTo>
                      <a:lnTo>
                        <a:pt x="550" y="445"/>
                      </a:lnTo>
                      <a:lnTo>
                        <a:pt x="544" y="447"/>
                      </a:lnTo>
                      <a:lnTo>
                        <a:pt x="533" y="452"/>
                      </a:lnTo>
                      <a:lnTo>
                        <a:pt x="510" y="460"/>
                      </a:lnTo>
                      <a:lnTo>
                        <a:pt x="485" y="464"/>
                      </a:lnTo>
                      <a:lnTo>
                        <a:pt x="461" y="469"/>
                      </a:lnTo>
                      <a:lnTo>
                        <a:pt x="435" y="471"/>
                      </a:lnTo>
                      <a:lnTo>
                        <a:pt x="410" y="472"/>
                      </a:lnTo>
                      <a:lnTo>
                        <a:pt x="370" y="470"/>
                      </a:lnTo>
                      <a:lnTo>
                        <a:pt x="332" y="464"/>
                      </a:lnTo>
                      <a:lnTo>
                        <a:pt x="295" y="455"/>
                      </a:lnTo>
                      <a:lnTo>
                        <a:pt x="261" y="444"/>
                      </a:lnTo>
                      <a:lnTo>
                        <a:pt x="226" y="427"/>
                      </a:lnTo>
                      <a:lnTo>
                        <a:pt x="194" y="408"/>
                      </a:lnTo>
                      <a:lnTo>
                        <a:pt x="163" y="385"/>
                      </a:lnTo>
                      <a:lnTo>
                        <a:pt x="135" y="359"/>
                      </a:lnTo>
                      <a:lnTo>
                        <a:pt x="108" y="329"/>
                      </a:lnTo>
                      <a:lnTo>
                        <a:pt x="95" y="314"/>
                      </a:lnTo>
                      <a:lnTo>
                        <a:pt x="85" y="299"/>
                      </a:lnTo>
                      <a:lnTo>
                        <a:pt x="74" y="282"/>
                      </a:lnTo>
                      <a:lnTo>
                        <a:pt x="65" y="266"/>
                      </a:lnTo>
                      <a:lnTo>
                        <a:pt x="50" y="233"/>
                      </a:lnTo>
                      <a:lnTo>
                        <a:pt x="42" y="215"/>
                      </a:lnTo>
                      <a:lnTo>
                        <a:pt x="36" y="198"/>
                      </a:lnTo>
                      <a:lnTo>
                        <a:pt x="28" y="162"/>
                      </a:lnTo>
                      <a:lnTo>
                        <a:pt x="23" y="123"/>
                      </a:lnTo>
                      <a:lnTo>
                        <a:pt x="21" y="85"/>
                      </a:lnTo>
                      <a:lnTo>
                        <a:pt x="24" y="40"/>
                      </a:lnTo>
                      <a:lnTo>
                        <a:pt x="26" y="19"/>
                      </a:lnTo>
                      <a:lnTo>
                        <a:pt x="31" y="0"/>
                      </a:lnTo>
                      <a:lnTo>
                        <a:pt x="4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489720" y="2723760"/>
                  <a:ext cx="16272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9">
                      <a:moveTo>
                        <a:pt x="12" y="13"/>
                      </a:moveTo>
                      <a:lnTo>
                        <a:pt x="6" y="35"/>
                      </a:lnTo>
                      <a:lnTo>
                        <a:pt x="2" y="60"/>
                      </a:lnTo>
                      <a:lnTo>
                        <a:pt x="0" y="85"/>
                      </a:lnTo>
                      <a:lnTo>
                        <a:pt x="0" y="113"/>
                      </a:lnTo>
                      <a:lnTo>
                        <a:pt x="1" y="149"/>
                      </a:lnTo>
                      <a:lnTo>
                        <a:pt x="6" y="185"/>
                      </a:lnTo>
                      <a:lnTo>
                        <a:pt x="14" y="219"/>
                      </a:lnTo>
                      <a:lnTo>
                        <a:pt x="26" y="253"/>
                      </a:lnTo>
                      <a:lnTo>
                        <a:pt x="41" y="284"/>
                      </a:lnTo>
                      <a:lnTo>
                        <a:pt x="60" y="314"/>
                      </a:lnTo>
                      <a:lnTo>
                        <a:pt x="82" y="344"/>
                      </a:lnTo>
                      <a:lnTo>
                        <a:pt x="108" y="372"/>
                      </a:lnTo>
                      <a:lnTo>
                        <a:pt x="134" y="396"/>
                      </a:lnTo>
                      <a:lnTo>
                        <a:pt x="163" y="418"/>
                      </a:lnTo>
                      <a:lnTo>
                        <a:pt x="193" y="436"/>
                      </a:lnTo>
                      <a:lnTo>
                        <a:pt x="226" y="452"/>
                      </a:lnTo>
                      <a:lnTo>
                        <a:pt x="258" y="463"/>
                      </a:lnTo>
                      <a:lnTo>
                        <a:pt x="294" y="472"/>
                      </a:lnTo>
                      <a:lnTo>
                        <a:pt x="329" y="477"/>
                      </a:lnTo>
                      <a:lnTo>
                        <a:pt x="367" y="479"/>
                      </a:lnTo>
                      <a:lnTo>
                        <a:pt x="370" y="478"/>
                      </a:lnTo>
                      <a:lnTo>
                        <a:pt x="373" y="478"/>
                      </a:lnTo>
                      <a:lnTo>
                        <a:pt x="380" y="478"/>
                      </a:lnTo>
                      <a:lnTo>
                        <a:pt x="393" y="478"/>
                      </a:lnTo>
                      <a:lnTo>
                        <a:pt x="406" y="475"/>
                      </a:lnTo>
                      <a:lnTo>
                        <a:pt x="419" y="474"/>
                      </a:lnTo>
                      <a:lnTo>
                        <a:pt x="444" y="470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1" y="464"/>
                      </a:lnTo>
                      <a:lnTo>
                        <a:pt x="482" y="459"/>
                      </a:lnTo>
                      <a:lnTo>
                        <a:pt x="488" y="457"/>
                      </a:lnTo>
                      <a:lnTo>
                        <a:pt x="494" y="456"/>
                      </a:lnTo>
                      <a:lnTo>
                        <a:pt x="518" y="447"/>
                      </a:lnTo>
                      <a:lnTo>
                        <a:pt x="541" y="436"/>
                      </a:lnTo>
                      <a:lnTo>
                        <a:pt x="563" y="423"/>
                      </a:lnTo>
                      <a:lnTo>
                        <a:pt x="568" y="394"/>
                      </a:lnTo>
                      <a:lnTo>
                        <a:pt x="556" y="401"/>
                      </a:lnTo>
                      <a:lnTo>
                        <a:pt x="544" y="408"/>
                      </a:lnTo>
                      <a:lnTo>
                        <a:pt x="522" y="421"/>
                      </a:lnTo>
                      <a:lnTo>
                        <a:pt x="509" y="425"/>
                      </a:lnTo>
                      <a:lnTo>
                        <a:pt x="498" y="431"/>
                      </a:lnTo>
                      <a:lnTo>
                        <a:pt x="485" y="436"/>
                      </a:lnTo>
                      <a:lnTo>
                        <a:pt x="474" y="441"/>
                      </a:lnTo>
                      <a:lnTo>
                        <a:pt x="448" y="448"/>
                      </a:lnTo>
                      <a:lnTo>
                        <a:pt x="434" y="450"/>
                      </a:lnTo>
                      <a:lnTo>
                        <a:pt x="427" y="452"/>
                      </a:lnTo>
                      <a:lnTo>
                        <a:pt x="422" y="454"/>
                      </a:lnTo>
                      <a:lnTo>
                        <a:pt x="395" y="457"/>
                      </a:lnTo>
                      <a:lnTo>
                        <a:pt x="367" y="458"/>
                      </a:lnTo>
                      <a:lnTo>
                        <a:pt x="331" y="456"/>
                      </a:lnTo>
                      <a:lnTo>
                        <a:pt x="297" y="452"/>
                      </a:lnTo>
                      <a:lnTo>
                        <a:pt x="264" y="442"/>
                      </a:lnTo>
                      <a:lnTo>
                        <a:pt x="234" y="432"/>
                      </a:lnTo>
                      <a:lnTo>
                        <a:pt x="203" y="418"/>
                      </a:lnTo>
                      <a:lnTo>
                        <a:pt x="175" y="401"/>
                      </a:lnTo>
                      <a:lnTo>
                        <a:pt x="147" y="379"/>
                      </a:lnTo>
                      <a:lnTo>
                        <a:pt x="122" y="356"/>
                      </a:lnTo>
                      <a:lnTo>
                        <a:pt x="97" y="329"/>
                      </a:lnTo>
                      <a:lnTo>
                        <a:pt x="77" y="302"/>
                      </a:lnTo>
                      <a:lnTo>
                        <a:pt x="60" y="274"/>
                      </a:lnTo>
                      <a:lnTo>
                        <a:pt x="46" y="244"/>
                      </a:lnTo>
                      <a:lnTo>
                        <a:pt x="35" y="212"/>
                      </a:lnTo>
                      <a:lnTo>
                        <a:pt x="27" y="181"/>
                      </a:lnTo>
                      <a:lnTo>
                        <a:pt x="23" y="147"/>
                      </a:lnTo>
                      <a:lnTo>
                        <a:pt x="22" y="113"/>
                      </a:lnTo>
                      <a:lnTo>
                        <a:pt x="23" y="82"/>
                      </a:lnTo>
                      <a:lnTo>
                        <a:pt x="26" y="54"/>
                      </a:lnTo>
                      <a:lnTo>
                        <a:pt x="32" y="26"/>
                      </a:lnTo>
                      <a:lnTo>
                        <a:pt x="40" y="0"/>
                      </a:lnTo>
                      <a:lnTo>
                        <a:pt x="12" y="1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496200" y="2721240"/>
                  <a:ext cx="156600" cy="133560"/>
                </a:xfrm>
                <a:custGeom>
                  <a:avLst/>
                  <a:gdLst/>
                  <a:ahLst/>
                  <a:rect l="l" t="t" r="r" b="b"/>
                  <a:pathLst>
                    <a:path w="547" h="468">
                      <a:moveTo>
                        <a:pt x="44" y="0"/>
                      </a:moveTo>
                      <a:lnTo>
                        <a:pt x="18" y="10"/>
                      </a:lnTo>
                      <a:lnTo>
                        <a:pt x="10" y="36"/>
                      </a:lnTo>
                      <a:lnTo>
                        <a:pt x="4" y="64"/>
                      </a:lnTo>
                      <a:lnTo>
                        <a:pt x="1" y="92"/>
                      </a:lnTo>
                      <a:lnTo>
                        <a:pt x="0" y="123"/>
                      </a:lnTo>
                      <a:lnTo>
                        <a:pt x="1" y="157"/>
                      </a:lnTo>
                      <a:lnTo>
                        <a:pt x="5" y="191"/>
                      </a:lnTo>
                      <a:lnTo>
                        <a:pt x="13" y="222"/>
                      </a:lnTo>
                      <a:lnTo>
                        <a:pt x="24" y="254"/>
                      </a:lnTo>
                      <a:lnTo>
                        <a:pt x="38" y="284"/>
                      </a:lnTo>
                      <a:lnTo>
                        <a:pt x="55" y="312"/>
                      </a:lnTo>
                      <a:lnTo>
                        <a:pt x="75" y="339"/>
                      </a:lnTo>
                      <a:lnTo>
                        <a:pt x="100" y="366"/>
                      </a:lnTo>
                      <a:lnTo>
                        <a:pt x="125" y="389"/>
                      </a:lnTo>
                      <a:lnTo>
                        <a:pt x="153" y="411"/>
                      </a:lnTo>
                      <a:lnTo>
                        <a:pt x="181" y="428"/>
                      </a:lnTo>
                      <a:lnTo>
                        <a:pt x="212" y="442"/>
                      </a:lnTo>
                      <a:lnTo>
                        <a:pt x="242" y="452"/>
                      </a:lnTo>
                      <a:lnTo>
                        <a:pt x="275" y="462"/>
                      </a:lnTo>
                      <a:lnTo>
                        <a:pt x="309" y="466"/>
                      </a:lnTo>
                      <a:lnTo>
                        <a:pt x="345" y="468"/>
                      </a:lnTo>
                      <a:lnTo>
                        <a:pt x="373" y="467"/>
                      </a:lnTo>
                      <a:lnTo>
                        <a:pt x="400" y="464"/>
                      </a:lnTo>
                      <a:lnTo>
                        <a:pt x="405" y="462"/>
                      </a:lnTo>
                      <a:lnTo>
                        <a:pt x="412" y="460"/>
                      </a:lnTo>
                      <a:lnTo>
                        <a:pt x="426" y="458"/>
                      </a:lnTo>
                      <a:lnTo>
                        <a:pt x="452" y="451"/>
                      </a:lnTo>
                      <a:lnTo>
                        <a:pt x="463" y="446"/>
                      </a:lnTo>
                      <a:lnTo>
                        <a:pt x="476" y="441"/>
                      </a:lnTo>
                      <a:lnTo>
                        <a:pt x="487" y="435"/>
                      </a:lnTo>
                      <a:lnTo>
                        <a:pt x="500" y="431"/>
                      </a:lnTo>
                      <a:lnTo>
                        <a:pt x="522" y="418"/>
                      </a:lnTo>
                      <a:lnTo>
                        <a:pt x="534" y="411"/>
                      </a:lnTo>
                      <a:lnTo>
                        <a:pt x="546" y="404"/>
                      </a:lnTo>
                      <a:lnTo>
                        <a:pt x="546" y="389"/>
                      </a:lnTo>
                      <a:lnTo>
                        <a:pt x="547" y="375"/>
                      </a:lnTo>
                      <a:lnTo>
                        <a:pt x="524" y="390"/>
                      </a:lnTo>
                      <a:lnTo>
                        <a:pt x="502" y="405"/>
                      </a:lnTo>
                      <a:lnTo>
                        <a:pt x="477" y="417"/>
                      </a:lnTo>
                      <a:lnTo>
                        <a:pt x="464" y="422"/>
                      </a:lnTo>
                      <a:lnTo>
                        <a:pt x="453" y="428"/>
                      </a:lnTo>
                      <a:lnTo>
                        <a:pt x="439" y="431"/>
                      </a:lnTo>
                      <a:lnTo>
                        <a:pt x="427" y="435"/>
                      </a:lnTo>
                      <a:lnTo>
                        <a:pt x="413" y="438"/>
                      </a:lnTo>
                      <a:lnTo>
                        <a:pt x="407" y="439"/>
                      </a:lnTo>
                      <a:lnTo>
                        <a:pt x="401" y="441"/>
                      </a:lnTo>
                      <a:lnTo>
                        <a:pt x="393" y="441"/>
                      </a:lnTo>
                      <a:lnTo>
                        <a:pt x="386" y="442"/>
                      </a:lnTo>
                      <a:lnTo>
                        <a:pt x="373" y="445"/>
                      </a:lnTo>
                      <a:lnTo>
                        <a:pt x="345" y="446"/>
                      </a:lnTo>
                      <a:lnTo>
                        <a:pt x="311" y="443"/>
                      </a:lnTo>
                      <a:lnTo>
                        <a:pt x="280" y="439"/>
                      </a:lnTo>
                      <a:lnTo>
                        <a:pt x="248" y="431"/>
                      </a:lnTo>
                      <a:lnTo>
                        <a:pt x="219" y="422"/>
                      </a:lnTo>
                      <a:lnTo>
                        <a:pt x="191" y="407"/>
                      </a:lnTo>
                      <a:lnTo>
                        <a:pt x="165" y="391"/>
                      </a:lnTo>
                      <a:lnTo>
                        <a:pt x="139" y="372"/>
                      </a:lnTo>
                      <a:lnTo>
                        <a:pt x="116" y="352"/>
                      </a:lnTo>
                      <a:lnTo>
                        <a:pt x="94" y="327"/>
                      </a:lnTo>
                      <a:lnTo>
                        <a:pt x="74" y="301"/>
                      </a:lnTo>
                      <a:lnTo>
                        <a:pt x="57" y="273"/>
                      </a:lnTo>
                      <a:lnTo>
                        <a:pt x="45" y="246"/>
                      </a:lnTo>
                      <a:lnTo>
                        <a:pt x="34" y="217"/>
                      </a:lnTo>
                      <a:lnTo>
                        <a:pt x="29" y="201"/>
                      </a:lnTo>
                      <a:lnTo>
                        <a:pt x="27" y="186"/>
                      </a:lnTo>
                      <a:lnTo>
                        <a:pt x="22" y="154"/>
                      </a:lnTo>
                      <a:lnTo>
                        <a:pt x="21" y="123"/>
                      </a:lnTo>
                      <a:lnTo>
                        <a:pt x="22" y="90"/>
                      </a:lnTo>
                      <a:lnTo>
                        <a:pt x="27" y="59"/>
                      </a:lnTo>
                      <a:lnTo>
                        <a:pt x="34" y="2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14920" y="271656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9">
                      <a:moveTo>
                        <a:pt x="22" y="139"/>
                      </a:moveTo>
                      <a:lnTo>
                        <a:pt x="24" y="100"/>
                      </a:lnTo>
                      <a:lnTo>
                        <a:pt x="31" y="65"/>
                      </a:lnTo>
                      <a:lnTo>
                        <a:pt x="42" y="31"/>
                      </a:lnTo>
                      <a:lnTo>
                        <a:pt x="60" y="0"/>
                      </a:lnTo>
                      <a:lnTo>
                        <a:pt x="34" y="4"/>
                      </a:lnTo>
                      <a:lnTo>
                        <a:pt x="18" y="34"/>
                      </a:lnTo>
                      <a:lnTo>
                        <a:pt x="8" y="67"/>
                      </a:lnTo>
                      <a:lnTo>
                        <a:pt x="1" y="101"/>
                      </a:lnTo>
                      <a:lnTo>
                        <a:pt x="0" y="139"/>
                      </a:lnTo>
                      <a:lnTo>
                        <a:pt x="1" y="166"/>
                      </a:lnTo>
                      <a:lnTo>
                        <a:pt x="5" y="193"/>
                      </a:lnTo>
                      <a:lnTo>
                        <a:pt x="10" y="219"/>
                      </a:lnTo>
                      <a:lnTo>
                        <a:pt x="21" y="245"/>
                      </a:lnTo>
                      <a:lnTo>
                        <a:pt x="31" y="269"/>
                      </a:lnTo>
                      <a:lnTo>
                        <a:pt x="45" y="293"/>
                      </a:lnTo>
                      <a:lnTo>
                        <a:pt x="63" y="314"/>
                      </a:lnTo>
                      <a:lnTo>
                        <a:pt x="83" y="337"/>
                      </a:lnTo>
                      <a:lnTo>
                        <a:pt x="103" y="355"/>
                      </a:lnTo>
                      <a:lnTo>
                        <a:pt x="125" y="372"/>
                      </a:lnTo>
                      <a:lnTo>
                        <a:pt x="148" y="386"/>
                      </a:lnTo>
                      <a:lnTo>
                        <a:pt x="172" y="398"/>
                      </a:lnTo>
                      <a:lnTo>
                        <a:pt x="197" y="406"/>
                      </a:lnTo>
                      <a:lnTo>
                        <a:pt x="225" y="413"/>
                      </a:lnTo>
                      <a:lnTo>
                        <a:pt x="252" y="416"/>
                      </a:lnTo>
                      <a:lnTo>
                        <a:pt x="281" y="419"/>
                      </a:lnTo>
                      <a:lnTo>
                        <a:pt x="309" y="416"/>
                      </a:lnTo>
                      <a:lnTo>
                        <a:pt x="336" y="413"/>
                      </a:lnTo>
                      <a:lnTo>
                        <a:pt x="341" y="411"/>
                      </a:lnTo>
                      <a:lnTo>
                        <a:pt x="348" y="410"/>
                      </a:lnTo>
                      <a:lnTo>
                        <a:pt x="362" y="406"/>
                      </a:lnTo>
                      <a:lnTo>
                        <a:pt x="374" y="402"/>
                      </a:lnTo>
                      <a:lnTo>
                        <a:pt x="388" y="398"/>
                      </a:lnTo>
                      <a:lnTo>
                        <a:pt x="399" y="391"/>
                      </a:lnTo>
                      <a:lnTo>
                        <a:pt x="402" y="389"/>
                      </a:lnTo>
                      <a:lnTo>
                        <a:pt x="403" y="388"/>
                      </a:lnTo>
                      <a:lnTo>
                        <a:pt x="405" y="388"/>
                      </a:lnTo>
                      <a:lnTo>
                        <a:pt x="412" y="386"/>
                      </a:lnTo>
                      <a:lnTo>
                        <a:pt x="423" y="379"/>
                      </a:lnTo>
                      <a:lnTo>
                        <a:pt x="436" y="372"/>
                      </a:lnTo>
                      <a:lnTo>
                        <a:pt x="446" y="363"/>
                      </a:lnTo>
                      <a:lnTo>
                        <a:pt x="457" y="355"/>
                      </a:lnTo>
                      <a:lnTo>
                        <a:pt x="480" y="337"/>
                      </a:lnTo>
                      <a:lnTo>
                        <a:pt x="481" y="335"/>
                      </a:lnTo>
                      <a:lnTo>
                        <a:pt x="476" y="309"/>
                      </a:lnTo>
                      <a:lnTo>
                        <a:pt x="470" y="314"/>
                      </a:lnTo>
                      <a:lnTo>
                        <a:pt x="464" y="321"/>
                      </a:lnTo>
                      <a:lnTo>
                        <a:pt x="443" y="338"/>
                      </a:lnTo>
                      <a:lnTo>
                        <a:pt x="423" y="353"/>
                      </a:lnTo>
                      <a:lnTo>
                        <a:pt x="412" y="359"/>
                      </a:lnTo>
                      <a:lnTo>
                        <a:pt x="402" y="365"/>
                      </a:lnTo>
                      <a:lnTo>
                        <a:pt x="390" y="371"/>
                      </a:lnTo>
                      <a:lnTo>
                        <a:pt x="380" y="378"/>
                      </a:lnTo>
                      <a:lnTo>
                        <a:pt x="373" y="379"/>
                      </a:lnTo>
                      <a:lnTo>
                        <a:pt x="368" y="381"/>
                      </a:lnTo>
                      <a:lnTo>
                        <a:pt x="356" y="386"/>
                      </a:lnTo>
                      <a:lnTo>
                        <a:pt x="344" y="388"/>
                      </a:lnTo>
                      <a:lnTo>
                        <a:pt x="332" y="391"/>
                      </a:lnTo>
                      <a:lnTo>
                        <a:pt x="319" y="393"/>
                      </a:lnTo>
                      <a:lnTo>
                        <a:pt x="306" y="395"/>
                      </a:lnTo>
                      <a:lnTo>
                        <a:pt x="281" y="397"/>
                      </a:lnTo>
                      <a:lnTo>
                        <a:pt x="254" y="395"/>
                      </a:lnTo>
                      <a:lnTo>
                        <a:pt x="228" y="391"/>
                      </a:lnTo>
                      <a:lnTo>
                        <a:pt x="203" y="386"/>
                      </a:lnTo>
                      <a:lnTo>
                        <a:pt x="180" y="378"/>
                      </a:lnTo>
                      <a:lnTo>
                        <a:pt x="158" y="365"/>
                      </a:lnTo>
                      <a:lnTo>
                        <a:pt x="136" y="353"/>
                      </a:lnTo>
                      <a:lnTo>
                        <a:pt x="116" y="338"/>
                      </a:lnTo>
                      <a:lnTo>
                        <a:pt x="98" y="321"/>
                      </a:lnTo>
                      <a:lnTo>
                        <a:pt x="78" y="301"/>
                      </a:lnTo>
                      <a:lnTo>
                        <a:pt x="64" y="280"/>
                      </a:lnTo>
                      <a:lnTo>
                        <a:pt x="56" y="269"/>
                      </a:lnTo>
                      <a:lnTo>
                        <a:pt x="50" y="259"/>
                      </a:lnTo>
                      <a:lnTo>
                        <a:pt x="40" y="237"/>
                      </a:lnTo>
                      <a:lnTo>
                        <a:pt x="32" y="213"/>
                      </a:lnTo>
                      <a:lnTo>
                        <a:pt x="26" y="190"/>
                      </a:lnTo>
                      <a:lnTo>
                        <a:pt x="23" y="164"/>
                      </a:lnTo>
                      <a:lnTo>
                        <a:pt x="22" y="139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520680" y="2716200"/>
                  <a:ext cx="130320" cy="113400"/>
                </a:xfrm>
                <a:custGeom>
                  <a:avLst/>
                  <a:gdLst/>
                  <a:ahLst/>
                  <a:rect l="l" t="t" r="r" b="b"/>
                  <a:pathLst>
                    <a:path w="454" h="398">
                      <a:moveTo>
                        <a:pt x="38" y="1"/>
                      </a:moveTo>
                      <a:lnTo>
                        <a:pt x="20" y="32"/>
                      </a:lnTo>
                      <a:lnTo>
                        <a:pt x="9" y="66"/>
                      </a:lnTo>
                      <a:lnTo>
                        <a:pt x="2" y="101"/>
                      </a:lnTo>
                      <a:lnTo>
                        <a:pt x="0" y="140"/>
                      </a:lnTo>
                      <a:lnTo>
                        <a:pt x="1" y="165"/>
                      </a:lnTo>
                      <a:lnTo>
                        <a:pt x="4" y="191"/>
                      </a:lnTo>
                      <a:lnTo>
                        <a:pt x="10" y="214"/>
                      </a:lnTo>
                      <a:lnTo>
                        <a:pt x="18" y="238"/>
                      </a:lnTo>
                      <a:lnTo>
                        <a:pt x="28" y="260"/>
                      </a:lnTo>
                      <a:lnTo>
                        <a:pt x="34" y="270"/>
                      </a:lnTo>
                      <a:lnTo>
                        <a:pt x="42" y="281"/>
                      </a:lnTo>
                      <a:lnTo>
                        <a:pt x="56" y="302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4" y="354"/>
                      </a:lnTo>
                      <a:lnTo>
                        <a:pt x="136" y="366"/>
                      </a:lnTo>
                      <a:lnTo>
                        <a:pt x="158" y="379"/>
                      </a:lnTo>
                      <a:lnTo>
                        <a:pt x="181" y="387"/>
                      </a:lnTo>
                      <a:lnTo>
                        <a:pt x="206" y="392"/>
                      </a:lnTo>
                      <a:lnTo>
                        <a:pt x="232" y="396"/>
                      </a:lnTo>
                      <a:lnTo>
                        <a:pt x="259" y="398"/>
                      </a:lnTo>
                      <a:lnTo>
                        <a:pt x="284" y="396"/>
                      </a:lnTo>
                      <a:lnTo>
                        <a:pt x="297" y="394"/>
                      </a:lnTo>
                      <a:lnTo>
                        <a:pt x="310" y="392"/>
                      </a:lnTo>
                      <a:lnTo>
                        <a:pt x="322" y="389"/>
                      </a:lnTo>
                      <a:lnTo>
                        <a:pt x="334" y="387"/>
                      </a:lnTo>
                      <a:lnTo>
                        <a:pt x="346" y="382"/>
                      </a:lnTo>
                      <a:lnTo>
                        <a:pt x="351" y="380"/>
                      </a:lnTo>
                      <a:lnTo>
                        <a:pt x="358" y="379"/>
                      </a:lnTo>
                      <a:lnTo>
                        <a:pt x="368" y="372"/>
                      </a:lnTo>
                      <a:lnTo>
                        <a:pt x="380" y="366"/>
                      </a:lnTo>
                      <a:lnTo>
                        <a:pt x="390" y="360"/>
                      </a:lnTo>
                      <a:lnTo>
                        <a:pt x="401" y="354"/>
                      </a:lnTo>
                      <a:lnTo>
                        <a:pt x="421" y="339"/>
                      </a:lnTo>
                      <a:lnTo>
                        <a:pt x="442" y="322"/>
                      </a:lnTo>
                      <a:lnTo>
                        <a:pt x="448" y="315"/>
                      </a:lnTo>
                      <a:lnTo>
                        <a:pt x="454" y="310"/>
                      </a:lnTo>
                      <a:lnTo>
                        <a:pt x="449" y="282"/>
                      </a:lnTo>
                      <a:lnTo>
                        <a:pt x="437" y="295"/>
                      </a:lnTo>
                      <a:lnTo>
                        <a:pt x="434" y="297"/>
                      </a:lnTo>
                      <a:lnTo>
                        <a:pt x="432" y="301"/>
                      </a:lnTo>
                      <a:lnTo>
                        <a:pt x="427" y="307"/>
                      </a:lnTo>
                      <a:lnTo>
                        <a:pt x="417" y="314"/>
                      </a:lnTo>
                      <a:lnTo>
                        <a:pt x="408" y="322"/>
                      </a:lnTo>
                      <a:lnTo>
                        <a:pt x="390" y="337"/>
                      </a:lnTo>
                      <a:lnTo>
                        <a:pt x="369" y="348"/>
                      </a:lnTo>
                      <a:lnTo>
                        <a:pt x="359" y="353"/>
                      </a:lnTo>
                      <a:lnTo>
                        <a:pt x="350" y="358"/>
                      </a:lnTo>
                      <a:lnTo>
                        <a:pt x="327" y="366"/>
                      </a:lnTo>
                      <a:lnTo>
                        <a:pt x="316" y="369"/>
                      </a:lnTo>
                      <a:lnTo>
                        <a:pt x="313" y="369"/>
                      </a:lnTo>
                      <a:lnTo>
                        <a:pt x="310" y="370"/>
                      </a:lnTo>
                      <a:lnTo>
                        <a:pt x="306" y="372"/>
                      </a:lnTo>
                      <a:lnTo>
                        <a:pt x="299" y="372"/>
                      </a:lnTo>
                      <a:lnTo>
                        <a:pt x="296" y="372"/>
                      </a:lnTo>
                      <a:lnTo>
                        <a:pt x="293" y="373"/>
                      </a:lnTo>
                      <a:lnTo>
                        <a:pt x="282" y="375"/>
                      </a:lnTo>
                      <a:lnTo>
                        <a:pt x="259" y="377"/>
                      </a:lnTo>
                      <a:lnTo>
                        <a:pt x="234" y="375"/>
                      </a:lnTo>
                      <a:lnTo>
                        <a:pt x="211" y="372"/>
                      </a:lnTo>
                      <a:lnTo>
                        <a:pt x="188" y="366"/>
                      </a:lnTo>
                      <a:lnTo>
                        <a:pt x="167" y="358"/>
                      </a:lnTo>
                      <a:lnTo>
                        <a:pt x="146" y="348"/>
                      </a:lnTo>
                      <a:lnTo>
                        <a:pt x="127" y="337"/>
                      </a:lnTo>
                      <a:lnTo>
                        <a:pt x="107" y="322"/>
                      </a:lnTo>
                      <a:lnTo>
                        <a:pt x="90" y="307"/>
                      </a:lnTo>
                      <a:lnTo>
                        <a:pt x="73" y="288"/>
                      </a:lnTo>
                      <a:lnTo>
                        <a:pt x="59" y="270"/>
                      </a:lnTo>
                      <a:lnTo>
                        <a:pt x="46" y="250"/>
                      </a:lnTo>
                      <a:lnTo>
                        <a:pt x="38" y="230"/>
                      </a:lnTo>
                      <a:lnTo>
                        <a:pt x="30" y="208"/>
                      </a:lnTo>
                      <a:lnTo>
                        <a:pt x="25" y="186"/>
                      </a:lnTo>
                      <a:lnTo>
                        <a:pt x="21" y="162"/>
                      </a:lnTo>
                      <a:lnTo>
                        <a:pt x="21" y="140"/>
                      </a:lnTo>
                      <a:lnTo>
                        <a:pt x="23" y="100"/>
                      </a:lnTo>
                      <a:lnTo>
                        <a:pt x="31" y="65"/>
                      </a:lnTo>
                      <a:lnTo>
                        <a:pt x="37" y="47"/>
                      </a:lnTo>
                      <a:lnTo>
                        <a:pt x="45" y="31"/>
                      </a:lnTo>
                      <a:lnTo>
                        <a:pt x="65" y="0"/>
                      </a:lnTo>
                      <a:lnTo>
                        <a:pt x="38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508800" y="2717280"/>
                  <a:ext cx="144000" cy="124920"/>
                </a:xfrm>
                <a:custGeom>
                  <a:avLst/>
                  <a:gdLst/>
                  <a:ahLst/>
                  <a:rect l="l" t="t" r="r" b="b"/>
                  <a:pathLst>
                    <a:path w="504" h="436">
                      <a:moveTo>
                        <a:pt x="21" y="135"/>
                      </a:moveTo>
                      <a:lnTo>
                        <a:pt x="22" y="97"/>
                      </a:lnTo>
                      <a:lnTo>
                        <a:pt x="29" y="63"/>
                      </a:lnTo>
                      <a:lnTo>
                        <a:pt x="39" y="30"/>
                      </a:lnTo>
                      <a:lnTo>
                        <a:pt x="55" y="0"/>
                      </a:lnTo>
                      <a:lnTo>
                        <a:pt x="27" y="5"/>
                      </a:lnTo>
                      <a:lnTo>
                        <a:pt x="14" y="35"/>
                      </a:lnTo>
                      <a:lnTo>
                        <a:pt x="6" y="67"/>
                      </a:lnTo>
                      <a:lnTo>
                        <a:pt x="1" y="99"/>
                      </a:lnTo>
                      <a:lnTo>
                        <a:pt x="0" y="135"/>
                      </a:lnTo>
                      <a:lnTo>
                        <a:pt x="1" y="164"/>
                      </a:lnTo>
                      <a:lnTo>
                        <a:pt x="4" y="194"/>
                      </a:lnTo>
                      <a:lnTo>
                        <a:pt x="6" y="207"/>
                      </a:lnTo>
                      <a:lnTo>
                        <a:pt x="11" y="222"/>
                      </a:lnTo>
                      <a:lnTo>
                        <a:pt x="21" y="250"/>
                      </a:lnTo>
                      <a:lnTo>
                        <a:pt x="34" y="275"/>
                      </a:lnTo>
                      <a:lnTo>
                        <a:pt x="48" y="300"/>
                      </a:lnTo>
                      <a:lnTo>
                        <a:pt x="56" y="311"/>
                      </a:lnTo>
                      <a:lnTo>
                        <a:pt x="66" y="324"/>
                      </a:lnTo>
                      <a:lnTo>
                        <a:pt x="88" y="348"/>
                      </a:lnTo>
                      <a:lnTo>
                        <a:pt x="110" y="367"/>
                      </a:lnTo>
                      <a:lnTo>
                        <a:pt x="133" y="385"/>
                      </a:lnTo>
                      <a:lnTo>
                        <a:pt x="158" y="400"/>
                      </a:lnTo>
                      <a:lnTo>
                        <a:pt x="186" y="413"/>
                      </a:lnTo>
                      <a:lnTo>
                        <a:pt x="212" y="423"/>
                      </a:lnTo>
                      <a:lnTo>
                        <a:pt x="241" y="430"/>
                      </a:lnTo>
                      <a:lnTo>
                        <a:pt x="271" y="434"/>
                      </a:lnTo>
                      <a:lnTo>
                        <a:pt x="302" y="436"/>
                      </a:lnTo>
                      <a:lnTo>
                        <a:pt x="330" y="434"/>
                      </a:lnTo>
                      <a:lnTo>
                        <a:pt x="343" y="432"/>
                      </a:lnTo>
                      <a:lnTo>
                        <a:pt x="350" y="430"/>
                      </a:lnTo>
                      <a:lnTo>
                        <a:pt x="358" y="430"/>
                      </a:lnTo>
                      <a:lnTo>
                        <a:pt x="364" y="428"/>
                      </a:lnTo>
                      <a:lnTo>
                        <a:pt x="370" y="427"/>
                      </a:lnTo>
                      <a:lnTo>
                        <a:pt x="384" y="425"/>
                      </a:lnTo>
                      <a:lnTo>
                        <a:pt x="396" y="420"/>
                      </a:lnTo>
                      <a:lnTo>
                        <a:pt x="410" y="417"/>
                      </a:lnTo>
                      <a:lnTo>
                        <a:pt x="421" y="410"/>
                      </a:lnTo>
                      <a:lnTo>
                        <a:pt x="424" y="408"/>
                      </a:lnTo>
                      <a:lnTo>
                        <a:pt x="425" y="407"/>
                      </a:lnTo>
                      <a:lnTo>
                        <a:pt x="427" y="407"/>
                      </a:lnTo>
                      <a:lnTo>
                        <a:pt x="434" y="404"/>
                      </a:lnTo>
                      <a:lnTo>
                        <a:pt x="459" y="392"/>
                      </a:lnTo>
                      <a:lnTo>
                        <a:pt x="481" y="376"/>
                      </a:lnTo>
                      <a:lnTo>
                        <a:pt x="504" y="359"/>
                      </a:lnTo>
                      <a:lnTo>
                        <a:pt x="502" y="331"/>
                      </a:lnTo>
                      <a:lnTo>
                        <a:pt x="501" y="333"/>
                      </a:lnTo>
                      <a:lnTo>
                        <a:pt x="478" y="351"/>
                      </a:lnTo>
                      <a:lnTo>
                        <a:pt x="467" y="359"/>
                      </a:lnTo>
                      <a:lnTo>
                        <a:pt x="457" y="368"/>
                      </a:lnTo>
                      <a:lnTo>
                        <a:pt x="444" y="375"/>
                      </a:lnTo>
                      <a:lnTo>
                        <a:pt x="433" y="382"/>
                      </a:lnTo>
                      <a:lnTo>
                        <a:pt x="426" y="384"/>
                      </a:lnTo>
                      <a:lnTo>
                        <a:pt x="424" y="384"/>
                      </a:lnTo>
                      <a:lnTo>
                        <a:pt x="423" y="385"/>
                      </a:lnTo>
                      <a:lnTo>
                        <a:pt x="420" y="387"/>
                      </a:lnTo>
                      <a:lnTo>
                        <a:pt x="409" y="394"/>
                      </a:lnTo>
                      <a:lnTo>
                        <a:pt x="395" y="398"/>
                      </a:lnTo>
                      <a:lnTo>
                        <a:pt x="383" y="402"/>
                      </a:lnTo>
                      <a:lnTo>
                        <a:pt x="369" y="406"/>
                      </a:lnTo>
                      <a:lnTo>
                        <a:pt x="362" y="407"/>
                      </a:lnTo>
                      <a:lnTo>
                        <a:pt x="357" y="409"/>
                      </a:lnTo>
                      <a:lnTo>
                        <a:pt x="330" y="412"/>
                      </a:lnTo>
                      <a:lnTo>
                        <a:pt x="302" y="415"/>
                      </a:lnTo>
                      <a:lnTo>
                        <a:pt x="273" y="412"/>
                      </a:lnTo>
                      <a:lnTo>
                        <a:pt x="246" y="409"/>
                      </a:lnTo>
                      <a:lnTo>
                        <a:pt x="218" y="402"/>
                      </a:lnTo>
                      <a:lnTo>
                        <a:pt x="193" y="394"/>
                      </a:lnTo>
                      <a:lnTo>
                        <a:pt x="169" y="382"/>
                      </a:lnTo>
                      <a:lnTo>
                        <a:pt x="146" y="368"/>
                      </a:lnTo>
                      <a:lnTo>
                        <a:pt x="124" y="351"/>
                      </a:lnTo>
                      <a:lnTo>
                        <a:pt x="104" y="333"/>
                      </a:lnTo>
                      <a:lnTo>
                        <a:pt x="84" y="310"/>
                      </a:lnTo>
                      <a:lnTo>
                        <a:pt x="66" y="289"/>
                      </a:lnTo>
                      <a:lnTo>
                        <a:pt x="52" y="265"/>
                      </a:lnTo>
                      <a:lnTo>
                        <a:pt x="42" y="241"/>
                      </a:lnTo>
                      <a:lnTo>
                        <a:pt x="31" y="215"/>
                      </a:lnTo>
                      <a:lnTo>
                        <a:pt x="26" y="189"/>
                      </a:lnTo>
                      <a:lnTo>
                        <a:pt x="22" y="162"/>
                      </a:lnTo>
                      <a:lnTo>
                        <a:pt x="21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502320" y="2718720"/>
                  <a:ext cx="150120" cy="128880"/>
                </a:xfrm>
                <a:custGeom>
                  <a:avLst/>
                  <a:gdLst/>
                  <a:ahLst/>
                  <a:rect l="l" t="t" r="r" b="b"/>
                  <a:pathLst>
                    <a:path w="526" h="453">
                      <a:moveTo>
                        <a:pt x="22" y="130"/>
                      </a:moveTo>
                      <a:lnTo>
                        <a:pt x="23" y="94"/>
                      </a:lnTo>
                      <a:lnTo>
                        <a:pt x="28" y="62"/>
                      </a:lnTo>
                      <a:lnTo>
                        <a:pt x="36" y="30"/>
                      </a:lnTo>
                      <a:lnTo>
                        <a:pt x="49" y="0"/>
                      </a:lnTo>
                      <a:lnTo>
                        <a:pt x="23" y="7"/>
                      </a:lnTo>
                      <a:lnTo>
                        <a:pt x="13" y="35"/>
                      </a:lnTo>
                      <a:lnTo>
                        <a:pt x="6" y="66"/>
                      </a:lnTo>
                      <a:lnTo>
                        <a:pt x="1" y="97"/>
                      </a:lnTo>
                      <a:lnTo>
                        <a:pt x="0" y="130"/>
                      </a:lnTo>
                      <a:lnTo>
                        <a:pt x="1" y="161"/>
                      </a:lnTo>
                      <a:lnTo>
                        <a:pt x="6" y="193"/>
                      </a:lnTo>
                      <a:lnTo>
                        <a:pt x="8" y="208"/>
                      </a:lnTo>
                      <a:lnTo>
                        <a:pt x="13" y="224"/>
                      </a:lnTo>
                      <a:lnTo>
                        <a:pt x="24" y="253"/>
                      </a:lnTo>
                      <a:lnTo>
                        <a:pt x="36" y="280"/>
                      </a:lnTo>
                      <a:lnTo>
                        <a:pt x="53" y="308"/>
                      </a:lnTo>
                      <a:lnTo>
                        <a:pt x="73" y="334"/>
                      </a:lnTo>
                      <a:lnTo>
                        <a:pt x="95" y="359"/>
                      </a:lnTo>
                      <a:lnTo>
                        <a:pt x="118" y="379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8" y="429"/>
                      </a:lnTo>
                      <a:lnTo>
                        <a:pt x="227" y="438"/>
                      </a:lnTo>
                      <a:lnTo>
                        <a:pt x="259" y="446"/>
                      </a:lnTo>
                      <a:lnTo>
                        <a:pt x="290" y="450"/>
                      </a:lnTo>
                      <a:lnTo>
                        <a:pt x="324" y="453"/>
                      </a:lnTo>
                      <a:lnTo>
                        <a:pt x="352" y="452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80" y="448"/>
                      </a:lnTo>
                      <a:lnTo>
                        <a:pt x="386" y="446"/>
                      </a:lnTo>
                      <a:lnTo>
                        <a:pt x="392" y="445"/>
                      </a:lnTo>
                      <a:lnTo>
                        <a:pt x="406" y="442"/>
                      </a:lnTo>
                      <a:lnTo>
                        <a:pt x="418" y="438"/>
                      </a:lnTo>
                      <a:lnTo>
                        <a:pt x="432" y="435"/>
                      </a:lnTo>
                      <a:lnTo>
                        <a:pt x="443" y="429"/>
                      </a:lnTo>
                      <a:lnTo>
                        <a:pt x="456" y="424"/>
                      </a:lnTo>
                      <a:lnTo>
                        <a:pt x="481" y="412"/>
                      </a:lnTo>
                      <a:lnTo>
                        <a:pt x="503" y="397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4"/>
                      </a:lnTo>
                      <a:lnTo>
                        <a:pt x="503" y="371"/>
                      </a:lnTo>
                      <a:lnTo>
                        <a:pt x="481" y="387"/>
                      </a:lnTo>
                      <a:lnTo>
                        <a:pt x="456" y="399"/>
                      </a:lnTo>
                      <a:lnTo>
                        <a:pt x="449" y="402"/>
                      </a:lnTo>
                      <a:lnTo>
                        <a:pt x="447" y="402"/>
                      </a:lnTo>
                      <a:lnTo>
                        <a:pt x="446" y="403"/>
                      </a:lnTo>
                      <a:lnTo>
                        <a:pt x="443" y="405"/>
                      </a:lnTo>
                      <a:lnTo>
                        <a:pt x="432" y="412"/>
                      </a:lnTo>
                      <a:lnTo>
                        <a:pt x="418" y="415"/>
                      </a:lnTo>
                      <a:lnTo>
                        <a:pt x="406" y="420"/>
                      </a:lnTo>
                      <a:lnTo>
                        <a:pt x="392" y="422"/>
                      </a:lnTo>
                      <a:lnTo>
                        <a:pt x="386" y="423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5" y="427"/>
                      </a:lnTo>
                      <a:lnTo>
                        <a:pt x="352" y="429"/>
                      </a:lnTo>
                      <a:lnTo>
                        <a:pt x="324" y="431"/>
                      </a:lnTo>
                      <a:lnTo>
                        <a:pt x="293" y="429"/>
                      </a:lnTo>
                      <a:lnTo>
                        <a:pt x="263" y="425"/>
                      </a:lnTo>
                      <a:lnTo>
                        <a:pt x="234" y="418"/>
                      </a:lnTo>
                      <a:lnTo>
                        <a:pt x="208" y="408"/>
                      </a:lnTo>
                      <a:lnTo>
                        <a:pt x="180" y="395"/>
                      </a:lnTo>
                      <a:lnTo>
                        <a:pt x="155" y="380"/>
                      </a:lnTo>
                      <a:lnTo>
                        <a:pt x="132" y="362"/>
                      </a:lnTo>
                      <a:lnTo>
                        <a:pt x="110" y="343"/>
                      </a:lnTo>
                      <a:lnTo>
                        <a:pt x="88" y="319"/>
                      </a:lnTo>
                      <a:lnTo>
                        <a:pt x="78" y="306"/>
                      </a:lnTo>
                      <a:lnTo>
                        <a:pt x="70" y="295"/>
                      </a:lnTo>
                      <a:lnTo>
                        <a:pt x="56" y="270"/>
                      </a:lnTo>
                      <a:lnTo>
                        <a:pt x="43" y="245"/>
                      </a:lnTo>
                      <a:lnTo>
                        <a:pt x="33" y="217"/>
                      </a:lnTo>
                      <a:lnTo>
                        <a:pt x="28" y="202"/>
                      </a:lnTo>
                      <a:lnTo>
                        <a:pt x="26" y="189"/>
                      </a:lnTo>
                      <a:lnTo>
                        <a:pt x="23" y="159"/>
                      </a:lnTo>
                      <a:lnTo>
                        <a:pt x="22" y="130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33200" y="281880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3" h="398">
                      <a:moveTo>
                        <a:pt x="0" y="22"/>
                      </a:moveTo>
                      <a:lnTo>
                        <a:pt x="1" y="54"/>
                      </a:lnTo>
                      <a:lnTo>
                        <a:pt x="23" y="97"/>
                      </a:lnTo>
                      <a:lnTo>
                        <a:pt x="53" y="140"/>
                      </a:lnTo>
                      <a:lnTo>
                        <a:pt x="85" y="181"/>
                      </a:lnTo>
                      <a:lnTo>
                        <a:pt x="122" y="221"/>
                      </a:lnTo>
                      <a:lnTo>
                        <a:pt x="158" y="255"/>
                      </a:lnTo>
                      <a:lnTo>
                        <a:pt x="198" y="286"/>
                      </a:lnTo>
                      <a:lnTo>
                        <a:pt x="239" y="314"/>
                      </a:lnTo>
                      <a:lnTo>
                        <a:pt x="282" y="339"/>
                      </a:lnTo>
                      <a:lnTo>
                        <a:pt x="325" y="358"/>
                      </a:lnTo>
                      <a:lnTo>
                        <a:pt x="371" y="375"/>
                      </a:lnTo>
                      <a:lnTo>
                        <a:pt x="419" y="387"/>
                      </a:lnTo>
                      <a:lnTo>
                        <a:pt x="469" y="398"/>
                      </a:lnTo>
                      <a:lnTo>
                        <a:pt x="496" y="390"/>
                      </a:lnTo>
                      <a:lnTo>
                        <a:pt x="523" y="382"/>
                      </a:lnTo>
                      <a:lnTo>
                        <a:pt x="468" y="375"/>
                      </a:lnTo>
                      <a:lnTo>
                        <a:pt x="441" y="370"/>
                      </a:lnTo>
                      <a:lnTo>
                        <a:pt x="415" y="365"/>
                      </a:lnTo>
                      <a:lnTo>
                        <a:pt x="364" y="349"/>
                      </a:lnTo>
                      <a:lnTo>
                        <a:pt x="315" y="331"/>
                      </a:lnTo>
                      <a:lnTo>
                        <a:pt x="266" y="306"/>
                      </a:lnTo>
                      <a:lnTo>
                        <a:pt x="222" y="276"/>
                      </a:lnTo>
                      <a:lnTo>
                        <a:pt x="178" y="242"/>
                      </a:lnTo>
                      <a:lnTo>
                        <a:pt x="138" y="206"/>
                      </a:lnTo>
                      <a:lnTo>
                        <a:pt x="114" y="181"/>
                      </a:lnTo>
                      <a:lnTo>
                        <a:pt x="93" y="157"/>
                      </a:lnTo>
                      <a:lnTo>
                        <a:pt x="72" y="131"/>
                      </a:lnTo>
                      <a:lnTo>
                        <a:pt x="55" y="106"/>
                      </a:lnTo>
                      <a:lnTo>
                        <a:pt x="38" y="79"/>
                      </a:lnTo>
                      <a:lnTo>
                        <a:pt x="23" y="53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33200" y="2804400"/>
                  <a:ext cx="162360" cy="123120"/>
                </a:xfrm>
                <a:custGeom>
                  <a:avLst/>
                  <a:gdLst/>
                  <a:ahLst/>
                  <a:rect l="l" t="t" r="r" b="b"/>
                  <a:pathLst>
                    <a:path w="566" h="433">
                      <a:moveTo>
                        <a:pt x="6" y="0"/>
                      </a:moveTo>
                      <a:lnTo>
                        <a:pt x="1" y="25"/>
                      </a:lnTo>
                      <a:lnTo>
                        <a:pt x="0" y="51"/>
                      </a:lnTo>
                      <a:lnTo>
                        <a:pt x="10" y="77"/>
                      </a:lnTo>
                      <a:lnTo>
                        <a:pt x="23" y="104"/>
                      </a:lnTo>
                      <a:lnTo>
                        <a:pt x="38" y="130"/>
                      </a:lnTo>
                      <a:lnTo>
                        <a:pt x="55" y="157"/>
                      </a:lnTo>
                      <a:lnTo>
                        <a:pt x="72" y="182"/>
                      </a:lnTo>
                      <a:lnTo>
                        <a:pt x="93" y="208"/>
                      </a:lnTo>
                      <a:lnTo>
                        <a:pt x="114" y="232"/>
                      </a:lnTo>
                      <a:lnTo>
                        <a:pt x="138" y="257"/>
                      </a:lnTo>
                      <a:lnTo>
                        <a:pt x="178" y="293"/>
                      </a:lnTo>
                      <a:lnTo>
                        <a:pt x="222" y="327"/>
                      </a:lnTo>
                      <a:lnTo>
                        <a:pt x="266" y="357"/>
                      </a:lnTo>
                      <a:lnTo>
                        <a:pt x="315" y="382"/>
                      </a:lnTo>
                      <a:lnTo>
                        <a:pt x="364" y="400"/>
                      </a:lnTo>
                      <a:lnTo>
                        <a:pt x="415" y="416"/>
                      </a:lnTo>
                      <a:lnTo>
                        <a:pt x="441" y="421"/>
                      </a:lnTo>
                      <a:lnTo>
                        <a:pt x="468" y="426"/>
                      </a:lnTo>
                      <a:lnTo>
                        <a:pt x="523" y="433"/>
                      </a:lnTo>
                      <a:lnTo>
                        <a:pt x="566" y="412"/>
                      </a:lnTo>
                      <a:lnTo>
                        <a:pt x="565" y="412"/>
                      </a:lnTo>
                      <a:lnTo>
                        <a:pt x="535" y="411"/>
                      </a:lnTo>
                      <a:lnTo>
                        <a:pt x="505" y="409"/>
                      </a:lnTo>
                      <a:lnTo>
                        <a:pt x="476" y="406"/>
                      </a:lnTo>
                      <a:lnTo>
                        <a:pt x="447" y="401"/>
                      </a:lnTo>
                      <a:lnTo>
                        <a:pt x="392" y="387"/>
                      </a:lnTo>
                      <a:lnTo>
                        <a:pt x="341" y="369"/>
                      </a:lnTo>
                      <a:lnTo>
                        <a:pt x="290" y="344"/>
                      </a:lnTo>
                      <a:lnTo>
                        <a:pt x="241" y="315"/>
                      </a:lnTo>
                      <a:lnTo>
                        <a:pt x="217" y="298"/>
                      </a:lnTo>
                      <a:lnTo>
                        <a:pt x="195" y="280"/>
                      </a:lnTo>
                      <a:lnTo>
                        <a:pt x="153" y="241"/>
                      </a:lnTo>
                      <a:lnTo>
                        <a:pt x="127" y="213"/>
                      </a:lnTo>
                      <a:lnTo>
                        <a:pt x="103" y="186"/>
                      </a:lnTo>
                      <a:lnTo>
                        <a:pt x="81" y="156"/>
                      </a:lnTo>
                      <a:lnTo>
                        <a:pt x="62" y="127"/>
                      </a:lnTo>
                      <a:lnTo>
                        <a:pt x="44" y="95"/>
                      </a:lnTo>
                      <a:lnTo>
                        <a:pt x="29" y="64"/>
                      </a:lnTo>
                      <a:lnTo>
                        <a:pt x="17" y="3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435720" y="2791800"/>
                  <a:ext cx="170280" cy="129960"/>
                </a:xfrm>
                <a:custGeom>
                  <a:avLst/>
                  <a:gdLst/>
                  <a:ahLst/>
                  <a:rect l="l" t="t" r="r" b="b"/>
                  <a:pathLst>
                    <a:path w="597" h="457">
                      <a:moveTo>
                        <a:pt x="11" y="0"/>
                      </a:moveTo>
                      <a:lnTo>
                        <a:pt x="0" y="45"/>
                      </a:lnTo>
                      <a:lnTo>
                        <a:pt x="11" y="76"/>
                      </a:lnTo>
                      <a:lnTo>
                        <a:pt x="23" y="109"/>
                      </a:lnTo>
                      <a:lnTo>
                        <a:pt x="38" y="140"/>
                      </a:lnTo>
                      <a:lnTo>
                        <a:pt x="56" y="172"/>
                      </a:lnTo>
                      <a:lnTo>
                        <a:pt x="75" y="201"/>
                      </a:lnTo>
                      <a:lnTo>
                        <a:pt x="97" y="231"/>
                      </a:lnTo>
                      <a:lnTo>
                        <a:pt x="121" y="258"/>
                      </a:lnTo>
                      <a:lnTo>
                        <a:pt x="147" y="286"/>
                      </a:lnTo>
                      <a:lnTo>
                        <a:pt x="189" y="325"/>
                      </a:lnTo>
                      <a:lnTo>
                        <a:pt x="211" y="343"/>
                      </a:lnTo>
                      <a:lnTo>
                        <a:pt x="235" y="360"/>
                      </a:lnTo>
                      <a:lnTo>
                        <a:pt x="284" y="389"/>
                      </a:lnTo>
                      <a:lnTo>
                        <a:pt x="335" y="414"/>
                      </a:lnTo>
                      <a:lnTo>
                        <a:pt x="386" y="432"/>
                      </a:lnTo>
                      <a:lnTo>
                        <a:pt x="441" y="446"/>
                      </a:lnTo>
                      <a:lnTo>
                        <a:pt x="470" y="451"/>
                      </a:lnTo>
                      <a:lnTo>
                        <a:pt x="499" y="454"/>
                      </a:lnTo>
                      <a:lnTo>
                        <a:pt x="529" y="456"/>
                      </a:lnTo>
                      <a:lnTo>
                        <a:pt x="559" y="457"/>
                      </a:lnTo>
                      <a:lnTo>
                        <a:pt x="560" y="457"/>
                      </a:lnTo>
                      <a:lnTo>
                        <a:pt x="597" y="435"/>
                      </a:lnTo>
                      <a:lnTo>
                        <a:pt x="559" y="436"/>
                      </a:lnTo>
                      <a:lnTo>
                        <a:pt x="530" y="435"/>
                      </a:lnTo>
                      <a:lnTo>
                        <a:pt x="502" y="432"/>
                      </a:lnTo>
                      <a:lnTo>
                        <a:pt x="473" y="429"/>
                      </a:lnTo>
                      <a:lnTo>
                        <a:pt x="446" y="424"/>
                      </a:lnTo>
                      <a:lnTo>
                        <a:pt x="393" y="411"/>
                      </a:lnTo>
                      <a:lnTo>
                        <a:pt x="368" y="403"/>
                      </a:lnTo>
                      <a:lnTo>
                        <a:pt x="343" y="394"/>
                      </a:lnTo>
                      <a:lnTo>
                        <a:pt x="318" y="382"/>
                      </a:lnTo>
                      <a:lnTo>
                        <a:pt x="294" y="370"/>
                      </a:lnTo>
                      <a:lnTo>
                        <a:pt x="248" y="343"/>
                      </a:lnTo>
                      <a:lnTo>
                        <a:pt x="203" y="309"/>
                      </a:lnTo>
                      <a:lnTo>
                        <a:pt x="182" y="291"/>
                      </a:lnTo>
                      <a:lnTo>
                        <a:pt x="161" y="271"/>
                      </a:lnTo>
                      <a:lnTo>
                        <a:pt x="133" y="241"/>
                      </a:lnTo>
                      <a:lnTo>
                        <a:pt x="107" y="210"/>
                      </a:lnTo>
                      <a:lnTo>
                        <a:pt x="94" y="193"/>
                      </a:lnTo>
                      <a:lnTo>
                        <a:pt x="84" y="177"/>
                      </a:lnTo>
                      <a:lnTo>
                        <a:pt x="65" y="144"/>
                      </a:lnTo>
                      <a:lnTo>
                        <a:pt x="55" y="126"/>
                      </a:lnTo>
                      <a:lnTo>
                        <a:pt x="47" y="109"/>
                      </a:lnTo>
                      <a:lnTo>
                        <a:pt x="32" y="74"/>
                      </a:lnTo>
                      <a:lnTo>
                        <a:pt x="20" y="3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438240" y="2780640"/>
                  <a:ext cx="176040" cy="135360"/>
                </a:xfrm>
                <a:custGeom>
                  <a:avLst/>
                  <a:gdLst/>
                  <a:ahLst/>
                  <a:rect l="l" t="t" r="r" b="b"/>
                  <a:pathLst>
                    <a:path w="616" h="474">
                      <a:moveTo>
                        <a:pt x="14" y="0"/>
                      </a:moveTo>
                      <a:lnTo>
                        <a:pt x="0" y="38"/>
                      </a:lnTo>
                      <a:lnTo>
                        <a:pt x="9" y="75"/>
                      </a:lnTo>
                      <a:lnTo>
                        <a:pt x="21" y="112"/>
                      </a:lnTo>
                      <a:lnTo>
                        <a:pt x="36" y="147"/>
                      </a:lnTo>
                      <a:lnTo>
                        <a:pt x="44" y="164"/>
                      </a:lnTo>
                      <a:lnTo>
                        <a:pt x="54" y="182"/>
                      </a:lnTo>
                      <a:lnTo>
                        <a:pt x="73" y="215"/>
                      </a:lnTo>
                      <a:lnTo>
                        <a:pt x="83" y="231"/>
                      </a:lnTo>
                      <a:lnTo>
                        <a:pt x="96" y="248"/>
                      </a:lnTo>
                      <a:lnTo>
                        <a:pt x="122" y="279"/>
                      </a:lnTo>
                      <a:lnTo>
                        <a:pt x="150" y="309"/>
                      </a:lnTo>
                      <a:lnTo>
                        <a:pt x="171" y="329"/>
                      </a:lnTo>
                      <a:lnTo>
                        <a:pt x="192" y="347"/>
                      </a:lnTo>
                      <a:lnTo>
                        <a:pt x="237" y="381"/>
                      </a:lnTo>
                      <a:lnTo>
                        <a:pt x="283" y="408"/>
                      </a:lnTo>
                      <a:lnTo>
                        <a:pt x="307" y="420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5" y="462"/>
                      </a:lnTo>
                      <a:lnTo>
                        <a:pt x="462" y="467"/>
                      </a:lnTo>
                      <a:lnTo>
                        <a:pt x="491" y="470"/>
                      </a:lnTo>
                      <a:lnTo>
                        <a:pt x="519" y="473"/>
                      </a:lnTo>
                      <a:lnTo>
                        <a:pt x="548" y="474"/>
                      </a:lnTo>
                      <a:lnTo>
                        <a:pt x="586" y="473"/>
                      </a:lnTo>
                      <a:lnTo>
                        <a:pt x="593" y="466"/>
                      </a:lnTo>
                      <a:lnTo>
                        <a:pt x="594" y="464"/>
                      </a:lnTo>
                      <a:lnTo>
                        <a:pt x="596" y="462"/>
                      </a:lnTo>
                      <a:lnTo>
                        <a:pt x="600" y="460"/>
                      </a:lnTo>
                      <a:lnTo>
                        <a:pt x="616" y="449"/>
                      </a:lnTo>
                      <a:lnTo>
                        <a:pt x="582" y="451"/>
                      </a:lnTo>
                      <a:lnTo>
                        <a:pt x="548" y="452"/>
                      </a:lnTo>
                      <a:lnTo>
                        <a:pt x="520" y="451"/>
                      </a:lnTo>
                      <a:lnTo>
                        <a:pt x="493" y="449"/>
                      </a:lnTo>
                      <a:lnTo>
                        <a:pt x="439" y="442"/>
                      </a:lnTo>
                      <a:lnTo>
                        <a:pt x="388" y="428"/>
                      </a:lnTo>
                      <a:lnTo>
                        <a:pt x="340" y="413"/>
                      </a:lnTo>
                      <a:lnTo>
                        <a:pt x="292" y="390"/>
                      </a:lnTo>
                      <a:lnTo>
                        <a:pt x="248" y="363"/>
                      </a:lnTo>
                      <a:lnTo>
                        <a:pt x="226" y="347"/>
                      </a:lnTo>
                      <a:lnTo>
                        <a:pt x="206" y="330"/>
                      </a:lnTo>
                      <a:lnTo>
                        <a:pt x="166" y="294"/>
                      </a:lnTo>
                      <a:lnTo>
                        <a:pt x="136" y="261"/>
                      </a:lnTo>
                      <a:lnTo>
                        <a:pt x="108" y="227"/>
                      </a:lnTo>
                      <a:lnTo>
                        <a:pt x="85" y="191"/>
                      </a:lnTo>
                      <a:lnTo>
                        <a:pt x="73" y="173"/>
                      </a:lnTo>
                      <a:lnTo>
                        <a:pt x="64" y="156"/>
                      </a:lnTo>
                      <a:lnTo>
                        <a:pt x="54" y="137"/>
                      </a:lnTo>
                      <a:lnTo>
                        <a:pt x="46" y="119"/>
                      </a:lnTo>
                      <a:lnTo>
                        <a:pt x="32" y="80"/>
                      </a:lnTo>
                      <a:lnTo>
                        <a:pt x="26" y="60"/>
                      </a:lnTo>
                      <a:lnTo>
                        <a:pt x="21" y="4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442560" y="2770920"/>
                  <a:ext cx="180000" cy="139320"/>
                </a:xfrm>
                <a:custGeom>
                  <a:avLst/>
                  <a:gdLst/>
                  <a:ahLst/>
                  <a:rect l="l" t="t" r="r" b="b"/>
                  <a:pathLst>
                    <a:path w="630" h="486">
                      <a:moveTo>
                        <a:pt x="18" y="0"/>
                      </a:moveTo>
                      <a:lnTo>
                        <a:pt x="0" y="34"/>
                      </a:lnTo>
                      <a:lnTo>
                        <a:pt x="7" y="75"/>
                      </a:lnTo>
                      <a:lnTo>
                        <a:pt x="12" y="94"/>
                      </a:lnTo>
                      <a:lnTo>
                        <a:pt x="18" y="114"/>
                      </a:lnTo>
                      <a:lnTo>
                        <a:pt x="32" y="153"/>
                      </a:lnTo>
                      <a:lnTo>
                        <a:pt x="40" y="171"/>
                      </a:lnTo>
                      <a:lnTo>
                        <a:pt x="50" y="190"/>
                      </a:lnTo>
                      <a:lnTo>
                        <a:pt x="59" y="207"/>
                      </a:lnTo>
                      <a:lnTo>
                        <a:pt x="71" y="225"/>
                      </a:lnTo>
                      <a:lnTo>
                        <a:pt x="94" y="261"/>
                      </a:lnTo>
                      <a:lnTo>
                        <a:pt x="122" y="295"/>
                      </a:lnTo>
                      <a:lnTo>
                        <a:pt x="152" y="328"/>
                      </a:lnTo>
                      <a:lnTo>
                        <a:pt x="192" y="364"/>
                      </a:lnTo>
                      <a:lnTo>
                        <a:pt x="212" y="381"/>
                      </a:lnTo>
                      <a:lnTo>
                        <a:pt x="234" y="397"/>
                      </a:lnTo>
                      <a:lnTo>
                        <a:pt x="278" y="424"/>
                      </a:lnTo>
                      <a:lnTo>
                        <a:pt x="326" y="447"/>
                      </a:lnTo>
                      <a:lnTo>
                        <a:pt x="374" y="462"/>
                      </a:lnTo>
                      <a:lnTo>
                        <a:pt x="425" y="476"/>
                      </a:lnTo>
                      <a:lnTo>
                        <a:pt x="479" y="483"/>
                      </a:lnTo>
                      <a:lnTo>
                        <a:pt x="506" y="485"/>
                      </a:lnTo>
                      <a:lnTo>
                        <a:pt x="534" y="486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4" y="462"/>
                      </a:lnTo>
                      <a:lnTo>
                        <a:pt x="630" y="457"/>
                      </a:lnTo>
                      <a:lnTo>
                        <a:pt x="582" y="462"/>
                      </a:lnTo>
                      <a:lnTo>
                        <a:pt x="534" y="465"/>
                      </a:lnTo>
                      <a:lnTo>
                        <a:pt x="507" y="464"/>
                      </a:lnTo>
                      <a:lnTo>
                        <a:pt x="481" y="461"/>
                      </a:lnTo>
                      <a:lnTo>
                        <a:pt x="430" y="454"/>
                      </a:lnTo>
                      <a:lnTo>
                        <a:pt x="405" y="449"/>
                      </a:lnTo>
                      <a:lnTo>
                        <a:pt x="381" y="442"/>
                      </a:lnTo>
                      <a:lnTo>
                        <a:pt x="335" y="426"/>
                      </a:lnTo>
                      <a:lnTo>
                        <a:pt x="288" y="403"/>
                      </a:lnTo>
                      <a:lnTo>
                        <a:pt x="246" y="379"/>
                      </a:lnTo>
                      <a:lnTo>
                        <a:pt x="204" y="347"/>
                      </a:lnTo>
                      <a:lnTo>
                        <a:pt x="167" y="313"/>
                      </a:lnTo>
                      <a:lnTo>
                        <a:pt x="150" y="295"/>
                      </a:lnTo>
                      <a:lnTo>
                        <a:pt x="135" y="278"/>
                      </a:lnTo>
                      <a:lnTo>
                        <a:pt x="120" y="259"/>
                      </a:lnTo>
                      <a:lnTo>
                        <a:pt x="108" y="242"/>
                      </a:lnTo>
                      <a:lnTo>
                        <a:pt x="94" y="223"/>
                      </a:lnTo>
                      <a:lnTo>
                        <a:pt x="83" y="205"/>
                      </a:lnTo>
                      <a:lnTo>
                        <a:pt x="64" y="168"/>
                      </a:lnTo>
                      <a:lnTo>
                        <a:pt x="46" y="127"/>
                      </a:lnTo>
                      <a:lnTo>
                        <a:pt x="33" y="86"/>
                      </a:lnTo>
                      <a:lnTo>
                        <a:pt x="23" y="4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447600" y="2762280"/>
                  <a:ext cx="181800" cy="141480"/>
                </a:xfrm>
                <a:custGeom>
                  <a:avLst/>
                  <a:gdLst/>
                  <a:ahLst/>
                  <a:rect l="l" t="t" r="r" b="b"/>
                  <a:pathLst>
                    <a:path w="635" h="496">
                      <a:moveTo>
                        <a:pt x="20" y="0"/>
                      </a:moveTo>
                      <a:lnTo>
                        <a:pt x="0" y="31"/>
                      </a:lnTo>
                      <a:lnTo>
                        <a:pt x="5" y="74"/>
                      </a:lnTo>
                      <a:lnTo>
                        <a:pt x="15" y="117"/>
                      </a:lnTo>
                      <a:lnTo>
                        <a:pt x="28" y="158"/>
                      </a:lnTo>
                      <a:lnTo>
                        <a:pt x="46" y="199"/>
                      </a:lnTo>
                      <a:lnTo>
                        <a:pt x="65" y="236"/>
                      </a:lnTo>
                      <a:lnTo>
                        <a:pt x="76" y="254"/>
                      </a:lnTo>
                      <a:lnTo>
                        <a:pt x="90" y="273"/>
                      </a:lnTo>
                      <a:lnTo>
                        <a:pt x="102" y="290"/>
                      </a:lnTo>
                      <a:lnTo>
                        <a:pt x="117" y="309"/>
                      </a:lnTo>
                      <a:lnTo>
                        <a:pt x="132" y="326"/>
                      </a:lnTo>
                      <a:lnTo>
                        <a:pt x="149" y="344"/>
                      </a:lnTo>
                      <a:lnTo>
                        <a:pt x="186" y="378"/>
                      </a:lnTo>
                      <a:lnTo>
                        <a:pt x="228" y="410"/>
                      </a:lnTo>
                      <a:lnTo>
                        <a:pt x="270" y="434"/>
                      </a:lnTo>
                      <a:lnTo>
                        <a:pt x="317" y="457"/>
                      </a:lnTo>
                      <a:lnTo>
                        <a:pt x="363" y="473"/>
                      </a:lnTo>
                      <a:lnTo>
                        <a:pt x="387" y="480"/>
                      </a:lnTo>
                      <a:lnTo>
                        <a:pt x="412" y="485"/>
                      </a:lnTo>
                      <a:lnTo>
                        <a:pt x="463" y="492"/>
                      </a:lnTo>
                      <a:lnTo>
                        <a:pt x="489" y="495"/>
                      </a:lnTo>
                      <a:lnTo>
                        <a:pt x="516" y="496"/>
                      </a:lnTo>
                      <a:lnTo>
                        <a:pt x="564" y="493"/>
                      </a:lnTo>
                      <a:lnTo>
                        <a:pt x="612" y="488"/>
                      </a:lnTo>
                      <a:lnTo>
                        <a:pt x="635" y="461"/>
                      </a:lnTo>
                      <a:lnTo>
                        <a:pt x="606" y="466"/>
                      </a:lnTo>
                      <a:lnTo>
                        <a:pt x="576" y="471"/>
                      </a:lnTo>
                      <a:lnTo>
                        <a:pt x="546" y="473"/>
                      </a:lnTo>
                      <a:lnTo>
                        <a:pt x="516" y="474"/>
                      </a:lnTo>
                      <a:lnTo>
                        <a:pt x="465" y="472"/>
                      </a:lnTo>
                      <a:lnTo>
                        <a:pt x="417" y="465"/>
                      </a:lnTo>
                      <a:lnTo>
                        <a:pt x="369" y="454"/>
                      </a:lnTo>
                      <a:lnTo>
                        <a:pt x="325" y="438"/>
                      </a:lnTo>
                      <a:lnTo>
                        <a:pt x="280" y="417"/>
                      </a:lnTo>
                      <a:lnTo>
                        <a:pt x="241" y="393"/>
                      </a:lnTo>
                      <a:lnTo>
                        <a:pt x="201" y="363"/>
                      </a:lnTo>
                      <a:lnTo>
                        <a:pt x="165" y="329"/>
                      </a:lnTo>
                      <a:lnTo>
                        <a:pt x="131" y="293"/>
                      </a:lnTo>
                      <a:lnTo>
                        <a:pt x="116" y="273"/>
                      </a:lnTo>
                      <a:lnTo>
                        <a:pt x="104" y="255"/>
                      </a:lnTo>
                      <a:lnTo>
                        <a:pt x="79" y="217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1" y="92"/>
                      </a:lnTo>
                      <a:lnTo>
                        <a:pt x="22" y="47"/>
                      </a:lnTo>
                      <a:lnTo>
                        <a:pt x="20" y="2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44000" y="2873520"/>
                  <a:ext cx="78840" cy="59760"/>
                </a:xfrm>
                <a:custGeom>
                  <a:avLst/>
                  <a:gdLst/>
                  <a:ahLst/>
                  <a:rect l="l" t="t" r="r" b="b"/>
                  <a:pathLst>
                    <a:path w="277" h="211">
                      <a:moveTo>
                        <a:pt x="54" y="61"/>
                      </a:moveTo>
                      <a:lnTo>
                        <a:pt x="26" y="31"/>
                      </a:lnTo>
                      <a:lnTo>
                        <a:pt x="0" y="0"/>
                      </a:lnTo>
                      <a:lnTo>
                        <a:pt x="15" y="26"/>
                      </a:lnTo>
                      <a:lnTo>
                        <a:pt x="32" y="53"/>
                      </a:lnTo>
                      <a:lnTo>
                        <a:pt x="51" y="78"/>
                      </a:lnTo>
                      <a:lnTo>
                        <a:pt x="75" y="104"/>
                      </a:lnTo>
                      <a:lnTo>
                        <a:pt x="96" y="124"/>
                      </a:lnTo>
                      <a:lnTo>
                        <a:pt x="119" y="143"/>
                      </a:lnTo>
                      <a:lnTo>
                        <a:pt x="143" y="159"/>
                      </a:lnTo>
                      <a:lnTo>
                        <a:pt x="168" y="174"/>
                      </a:lnTo>
                      <a:lnTo>
                        <a:pt x="193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7" y="211"/>
                      </a:lnTo>
                      <a:lnTo>
                        <a:pt x="246" y="197"/>
                      </a:lnTo>
                      <a:lnTo>
                        <a:pt x="217" y="183"/>
                      </a:lnTo>
                      <a:lnTo>
                        <a:pt x="187" y="166"/>
                      </a:lnTo>
                      <a:lnTo>
                        <a:pt x="160" y="149"/>
                      </a:lnTo>
                      <a:lnTo>
                        <a:pt x="131" y="128"/>
                      </a:lnTo>
                      <a:lnTo>
                        <a:pt x="105" y="108"/>
                      </a:lnTo>
                      <a:lnTo>
                        <a:pt x="79" y="85"/>
                      </a:lnTo>
                      <a:lnTo>
                        <a:pt x="54" y="61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36080" y="2851920"/>
                  <a:ext cx="11196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3">
                      <a:moveTo>
                        <a:pt x="27" y="76"/>
                      </a:moveTo>
                      <a:lnTo>
                        <a:pt x="53" y="107"/>
                      </a:lnTo>
                      <a:lnTo>
                        <a:pt x="81" y="137"/>
                      </a:lnTo>
                      <a:lnTo>
                        <a:pt x="106" y="161"/>
                      </a:lnTo>
                      <a:lnTo>
                        <a:pt x="132" y="184"/>
                      </a:lnTo>
                      <a:lnTo>
                        <a:pt x="158" y="204"/>
                      </a:lnTo>
                      <a:lnTo>
                        <a:pt x="187" y="225"/>
                      </a:lnTo>
                      <a:lnTo>
                        <a:pt x="214" y="242"/>
                      </a:lnTo>
                      <a:lnTo>
                        <a:pt x="244" y="259"/>
                      </a:lnTo>
                      <a:lnTo>
                        <a:pt x="273" y="273"/>
                      </a:lnTo>
                      <a:lnTo>
                        <a:pt x="304" y="287"/>
                      </a:lnTo>
                      <a:lnTo>
                        <a:pt x="337" y="290"/>
                      </a:lnTo>
                      <a:lnTo>
                        <a:pt x="373" y="293"/>
                      </a:lnTo>
                      <a:lnTo>
                        <a:pt x="391" y="293"/>
                      </a:lnTo>
                      <a:lnTo>
                        <a:pt x="349" y="280"/>
                      </a:lnTo>
                      <a:lnTo>
                        <a:pt x="309" y="265"/>
                      </a:lnTo>
                      <a:lnTo>
                        <a:pt x="271" y="247"/>
                      </a:lnTo>
                      <a:lnTo>
                        <a:pt x="234" y="228"/>
                      </a:lnTo>
                      <a:lnTo>
                        <a:pt x="197" y="204"/>
                      </a:lnTo>
                      <a:lnTo>
                        <a:pt x="162" y="180"/>
                      </a:lnTo>
                      <a:lnTo>
                        <a:pt x="128" y="152"/>
                      </a:lnTo>
                      <a:lnTo>
                        <a:pt x="96" y="123"/>
                      </a:lnTo>
                      <a:lnTo>
                        <a:pt x="68" y="92"/>
                      </a:lnTo>
                      <a:lnTo>
                        <a:pt x="43" y="63"/>
                      </a:lnTo>
                      <a:lnTo>
                        <a:pt x="19" y="31"/>
                      </a:lnTo>
                      <a:lnTo>
                        <a:pt x="0" y="0"/>
                      </a:lnTo>
                      <a:lnTo>
                        <a:pt x="11" y="39"/>
                      </a:lnTo>
                      <a:lnTo>
                        <a:pt x="18" y="57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433920" y="283464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8" h="353">
                      <a:moveTo>
                        <a:pt x="9" y="60"/>
                      </a:moveTo>
                      <a:lnTo>
                        <a:pt x="28" y="91"/>
                      </a:lnTo>
                      <a:lnTo>
                        <a:pt x="52" y="123"/>
                      </a:lnTo>
                      <a:lnTo>
                        <a:pt x="77" y="152"/>
                      </a:lnTo>
                      <a:lnTo>
                        <a:pt x="105" y="183"/>
                      </a:lnTo>
                      <a:lnTo>
                        <a:pt x="137" y="212"/>
                      </a:lnTo>
                      <a:lnTo>
                        <a:pt x="171" y="240"/>
                      </a:lnTo>
                      <a:lnTo>
                        <a:pt x="206" y="264"/>
                      </a:lnTo>
                      <a:lnTo>
                        <a:pt x="243" y="288"/>
                      </a:lnTo>
                      <a:lnTo>
                        <a:pt x="280" y="307"/>
                      </a:lnTo>
                      <a:lnTo>
                        <a:pt x="318" y="325"/>
                      </a:lnTo>
                      <a:lnTo>
                        <a:pt x="358" y="340"/>
                      </a:lnTo>
                      <a:lnTo>
                        <a:pt x="400" y="353"/>
                      </a:lnTo>
                      <a:lnTo>
                        <a:pt x="434" y="349"/>
                      </a:lnTo>
                      <a:lnTo>
                        <a:pt x="468" y="344"/>
                      </a:lnTo>
                      <a:lnTo>
                        <a:pt x="418" y="333"/>
                      </a:lnTo>
                      <a:lnTo>
                        <a:pt x="370" y="321"/>
                      </a:lnTo>
                      <a:lnTo>
                        <a:pt x="324" y="304"/>
                      </a:lnTo>
                      <a:lnTo>
                        <a:pt x="281" y="285"/>
                      </a:lnTo>
                      <a:lnTo>
                        <a:pt x="238" y="260"/>
                      </a:lnTo>
                      <a:lnTo>
                        <a:pt x="197" y="232"/>
                      </a:lnTo>
                      <a:lnTo>
                        <a:pt x="157" y="201"/>
                      </a:lnTo>
                      <a:lnTo>
                        <a:pt x="121" y="167"/>
                      </a:lnTo>
                      <a:lnTo>
                        <a:pt x="84" y="127"/>
                      </a:lnTo>
                      <a:lnTo>
                        <a:pt x="52" y="86"/>
                      </a:lnTo>
                      <a:lnTo>
                        <a:pt x="22" y="43"/>
                      </a:lnTo>
                      <a:lnTo>
                        <a:pt x="0" y="0"/>
                      </a:lnTo>
                      <a:lnTo>
                        <a:pt x="3" y="30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433200" y="2716200"/>
                  <a:ext cx="219600" cy="219240"/>
                </a:xfrm>
                <a:custGeom>
                  <a:avLst/>
                  <a:gdLst/>
                  <a:ahLst/>
                  <a:rect l="l" t="t" r="r" b="b"/>
                  <a:pathLst>
                    <a:path w="767" h="768">
                      <a:moveTo>
                        <a:pt x="383" y="0"/>
                      </a:moveTo>
                      <a:lnTo>
                        <a:pt x="343" y="1"/>
                      </a:lnTo>
                      <a:lnTo>
                        <a:pt x="306" y="7"/>
                      </a:lnTo>
                      <a:lnTo>
                        <a:pt x="269" y="15"/>
                      </a:lnTo>
                      <a:lnTo>
                        <a:pt x="235" y="27"/>
                      </a:lnTo>
                      <a:lnTo>
                        <a:pt x="201" y="42"/>
                      </a:lnTo>
                      <a:lnTo>
                        <a:pt x="170" y="62"/>
                      </a:lnTo>
                      <a:lnTo>
                        <a:pt x="139" y="85"/>
                      </a:lnTo>
                      <a:lnTo>
                        <a:pt x="112" y="112"/>
                      </a:lnTo>
                      <a:lnTo>
                        <a:pt x="85" y="140"/>
                      </a:lnTo>
                      <a:lnTo>
                        <a:pt x="62" y="170"/>
                      </a:lnTo>
                      <a:lnTo>
                        <a:pt x="42" y="202"/>
                      </a:lnTo>
                      <a:lnTo>
                        <a:pt x="27" y="236"/>
                      </a:lnTo>
                      <a:lnTo>
                        <a:pt x="14" y="270"/>
                      </a:lnTo>
                      <a:lnTo>
                        <a:pt x="6" y="306"/>
                      </a:lnTo>
                      <a:lnTo>
                        <a:pt x="1" y="344"/>
                      </a:lnTo>
                      <a:lnTo>
                        <a:pt x="0" y="383"/>
                      </a:lnTo>
                      <a:lnTo>
                        <a:pt x="1" y="422"/>
                      </a:lnTo>
                      <a:lnTo>
                        <a:pt x="6" y="459"/>
                      </a:lnTo>
                      <a:lnTo>
                        <a:pt x="14" y="496"/>
                      </a:lnTo>
                      <a:lnTo>
                        <a:pt x="27" y="531"/>
                      </a:lnTo>
                      <a:lnTo>
                        <a:pt x="42" y="564"/>
                      </a:lnTo>
                      <a:lnTo>
                        <a:pt x="62" y="595"/>
                      </a:lnTo>
                      <a:lnTo>
                        <a:pt x="72" y="610"/>
                      </a:lnTo>
                      <a:lnTo>
                        <a:pt x="85" y="626"/>
                      </a:lnTo>
                      <a:lnTo>
                        <a:pt x="112" y="655"/>
                      </a:lnTo>
                      <a:lnTo>
                        <a:pt x="139" y="680"/>
                      </a:lnTo>
                      <a:lnTo>
                        <a:pt x="170" y="703"/>
                      </a:lnTo>
                      <a:lnTo>
                        <a:pt x="201" y="722"/>
                      </a:lnTo>
                      <a:lnTo>
                        <a:pt x="235" y="739"/>
                      </a:lnTo>
                      <a:lnTo>
                        <a:pt x="269" y="751"/>
                      </a:lnTo>
                      <a:lnTo>
                        <a:pt x="306" y="760"/>
                      </a:lnTo>
                      <a:lnTo>
                        <a:pt x="343" y="765"/>
                      </a:lnTo>
                      <a:lnTo>
                        <a:pt x="383" y="768"/>
                      </a:lnTo>
                      <a:lnTo>
                        <a:pt x="421" y="765"/>
                      </a:lnTo>
                      <a:lnTo>
                        <a:pt x="439" y="762"/>
                      </a:lnTo>
                      <a:lnTo>
                        <a:pt x="459" y="760"/>
                      </a:lnTo>
                      <a:lnTo>
                        <a:pt x="495" y="751"/>
                      </a:lnTo>
                      <a:lnTo>
                        <a:pt x="498" y="748"/>
                      </a:lnTo>
                      <a:lnTo>
                        <a:pt x="503" y="747"/>
                      </a:lnTo>
                      <a:lnTo>
                        <a:pt x="512" y="745"/>
                      </a:lnTo>
                      <a:lnTo>
                        <a:pt x="530" y="739"/>
                      </a:lnTo>
                      <a:lnTo>
                        <a:pt x="546" y="730"/>
                      </a:lnTo>
                      <a:lnTo>
                        <a:pt x="554" y="726"/>
                      </a:lnTo>
                      <a:lnTo>
                        <a:pt x="563" y="722"/>
                      </a:lnTo>
                      <a:lnTo>
                        <a:pt x="595" y="703"/>
                      </a:lnTo>
                      <a:lnTo>
                        <a:pt x="610" y="692"/>
                      </a:lnTo>
                      <a:lnTo>
                        <a:pt x="625" y="680"/>
                      </a:lnTo>
                      <a:lnTo>
                        <a:pt x="655" y="655"/>
                      </a:lnTo>
                      <a:lnTo>
                        <a:pt x="680" y="626"/>
                      </a:lnTo>
                      <a:lnTo>
                        <a:pt x="691" y="610"/>
                      </a:lnTo>
                      <a:lnTo>
                        <a:pt x="703" y="595"/>
                      </a:lnTo>
                      <a:lnTo>
                        <a:pt x="722" y="564"/>
                      </a:lnTo>
                      <a:lnTo>
                        <a:pt x="725" y="555"/>
                      </a:lnTo>
                      <a:lnTo>
                        <a:pt x="730" y="547"/>
                      </a:lnTo>
                      <a:lnTo>
                        <a:pt x="739" y="531"/>
                      </a:lnTo>
                      <a:lnTo>
                        <a:pt x="744" y="513"/>
                      </a:lnTo>
                      <a:lnTo>
                        <a:pt x="747" y="504"/>
                      </a:lnTo>
                      <a:lnTo>
                        <a:pt x="748" y="499"/>
                      </a:lnTo>
                      <a:lnTo>
                        <a:pt x="750" y="496"/>
                      </a:lnTo>
                      <a:lnTo>
                        <a:pt x="759" y="459"/>
                      </a:lnTo>
                      <a:lnTo>
                        <a:pt x="761" y="440"/>
                      </a:lnTo>
                      <a:lnTo>
                        <a:pt x="765" y="422"/>
                      </a:lnTo>
                      <a:lnTo>
                        <a:pt x="767" y="383"/>
                      </a:lnTo>
                      <a:lnTo>
                        <a:pt x="765" y="344"/>
                      </a:lnTo>
                      <a:lnTo>
                        <a:pt x="759" y="306"/>
                      </a:lnTo>
                      <a:lnTo>
                        <a:pt x="750" y="270"/>
                      </a:lnTo>
                      <a:lnTo>
                        <a:pt x="739" y="236"/>
                      </a:lnTo>
                      <a:lnTo>
                        <a:pt x="722" y="202"/>
                      </a:lnTo>
                      <a:lnTo>
                        <a:pt x="703" y="170"/>
                      </a:lnTo>
                      <a:lnTo>
                        <a:pt x="680" y="140"/>
                      </a:lnTo>
                      <a:lnTo>
                        <a:pt x="655" y="112"/>
                      </a:lnTo>
                      <a:lnTo>
                        <a:pt x="625" y="85"/>
                      </a:lnTo>
                      <a:lnTo>
                        <a:pt x="610" y="73"/>
                      </a:lnTo>
                      <a:lnTo>
                        <a:pt x="595" y="62"/>
                      </a:lnTo>
                      <a:lnTo>
                        <a:pt x="563" y="42"/>
                      </a:lnTo>
                      <a:lnTo>
                        <a:pt x="530" y="27"/>
                      </a:lnTo>
                      <a:lnTo>
                        <a:pt x="495" y="15"/>
                      </a:lnTo>
                      <a:lnTo>
                        <a:pt x="459" y="7"/>
                      </a:lnTo>
                      <a:lnTo>
                        <a:pt x="421" y="1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492240" y="2815920"/>
                  <a:ext cx="1011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498000" y="2821680"/>
                  <a:ext cx="89640" cy="1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809040" y="3380400"/>
                  <a:ext cx="9468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6">
                      <a:moveTo>
                        <a:pt x="65" y="26"/>
                      </a:moveTo>
                      <a:lnTo>
                        <a:pt x="91" y="5"/>
                      </a:lnTo>
                      <a:lnTo>
                        <a:pt x="62" y="0"/>
                      </a:lnTo>
                      <a:lnTo>
                        <a:pt x="51" y="11"/>
                      </a:lnTo>
                      <a:lnTo>
                        <a:pt x="27" y="37"/>
                      </a:lnTo>
                      <a:lnTo>
                        <a:pt x="18" y="51"/>
                      </a:lnTo>
                      <a:lnTo>
                        <a:pt x="12" y="67"/>
                      </a:lnTo>
                      <a:lnTo>
                        <a:pt x="5" y="81"/>
                      </a:lnTo>
                      <a:lnTo>
                        <a:pt x="2" y="98"/>
                      </a:lnTo>
                      <a:lnTo>
                        <a:pt x="0" y="133"/>
                      </a:lnTo>
                      <a:lnTo>
                        <a:pt x="0" y="149"/>
                      </a:lnTo>
                      <a:lnTo>
                        <a:pt x="2" y="166"/>
                      </a:lnTo>
                      <a:lnTo>
                        <a:pt x="5" y="182"/>
                      </a:lnTo>
                      <a:lnTo>
                        <a:pt x="12" y="199"/>
                      </a:lnTo>
                      <a:lnTo>
                        <a:pt x="18" y="213"/>
                      </a:lnTo>
                      <a:lnTo>
                        <a:pt x="27" y="228"/>
                      </a:lnTo>
                      <a:lnTo>
                        <a:pt x="37" y="241"/>
                      </a:lnTo>
                      <a:lnTo>
                        <a:pt x="51" y="255"/>
                      </a:lnTo>
                      <a:lnTo>
                        <a:pt x="63" y="266"/>
                      </a:lnTo>
                      <a:lnTo>
                        <a:pt x="77" y="276"/>
                      </a:lnTo>
                      <a:lnTo>
                        <a:pt x="90" y="284"/>
                      </a:lnTo>
                      <a:lnTo>
                        <a:pt x="106" y="292"/>
                      </a:lnTo>
                      <a:lnTo>
                        <a:pt x="121" y="298"/>
                      </a:lnTo>
                      <a:lnTo>
                        <a:pt x="138" y="302"/>
                      </a:lnTo>
                      <a:lnTo>
                        <a:pt x="155" y="305"/>
                      </a:lnTo>
                      <a:lnTo>
                        <a:pt x="173" y="306"/>
                      </a:lnTo>
                      <a:lnTo>
                        <a:pt x="189" y="305"/>
                      </a:lnTo>
                      <a:lnTo>
                        <a:pt x="206" y="302"/>
                      </a:lnTo>
                      <a:lnTo>
                        <a:pt x="222" y="298"/>
                      </a:lnTo>
                      <a:lnTo>
                        <a:pt x="225" y="296"/>
                      </a:lnTo>
                      <a:lnTo>
                        <a:pt x="230" y="294"/>
                      </a:lnTo>
                      <a:lnTo>
                        <a:pt x="239" y="292"/>
                      </a:lnTo>
                      <a:lnTo>
                        <a:pt x="252" y="284"/>
                      </a:lnTo>
                      <a:lnTo>
                        <a:pt x="259" y="280"/>
                      </a:lnTo>
                      <a:lnTo>
                        <a:pt x="263" y="277"/>
                      </a:lnTo>
                      <a:lnTo>
                        <a:pt x="267" y="276"/>
                      </a:lnTo>
                      <a:lnTo>
                        <a:pt x="281" y="266"/>
                      </a:lnTo>
                      <a:lnTo>
                        <a:pt x="295" y="255"/>
                      </a:lnTo>
                      <a:lnTo>
                        <a:pt x="307" y="241"/>
                      </a:lnTo>
                      <a:lnTo>
                        <a:pt x="311" y="234"/>
                      </a:lnTo>
                      <a:lnTo>
                        <a:pt x="314" y="231"/>
                      </a:lnTo>
                      <a:lnTo>
                        <a:pt x="317" y="229"/>
                      </a:lnTo>
                      <a:lnTo>
                        <a:pt x="318" y="224"/>
                      </a:lnTo>
                      <a:lnTo>
                        <a:pt x="320" y="221"/>
                      </a:lnTo>
                      <a:lnTo>
                        <a:pt x="325" y="214"/>
                      </a:lnTo>
                      <a:lnTo>
                        <a:pt x="333" y="200"/>
                      </a:lnTo>
                      <a:lnTo>
                        <a:pt x="325" y="187"/>
                      </a:lnTo>
                      <a:lnTo>
                        <a:pt x="318" y="175"/>
                      </a:lnTo>
                      <a:lnTo>
                        <a:pt x="314" y="183"/>
                      </a:lnTo>
                      <a:lnTo>
                        <a:pt x="310" y="192"/>
                      </a:lnTo>
                      <a:lnTo>
                        <a:pt x="306" y="200"/>
                      </a:lnTo>
                      <a:lnTo>
                        <a:pt x="302" y="209"/>
                      </a:lnTo>
                      <a:lnTo>
                        <a:pt x="297" y="216"/>
                      </a:lnTo>
                      <a:lnTo>
                        <a:pt x="292" y="224"/>
                      </a:lnTo>
                      <a:lnTo>
                        <a:pt x="280" y="240"/>
                      </a:lnTo>
                      <a:lnTo>
                        <a:pt x="267" y="249"/>
                      </a:lnTo>
                      <a:lnTo>
                        <a:pt x="256" y="258"/>
                      </a:lnTo>
                      <a:lnTo>
                        <a:pt x="242" y="266"/>
                      </a:lnTo>
                      <a:lnTo>
                        <a:pt x="230" y="273"/>
                      </a:lnTo>
                      <a:lnTo>
                        <a:pt x="215" y="277"/>
                      </a:lnTo>
                      <a:lnTo>
                        <a:pt x="201" y="281"/>
                      </a:lnTo>
                      <a:lnTo>
                        <a:pt x="187" y="283"/>
                      </a:lnTo>
                      <a:lnTo>
                        <a:pt x="173" y="284"/>
                      </a:lnTo>
                      <a:lnTo>
                        <a:pt x="157" y="283"/>
                      </a:lnTo>
                      <a:lnTo>
                        <a:pt x="142" y="281"/>
                      </a:lnTo>
                      <a:lnTo>
                        <a:pt x="128" y="277"/>
                      </a:lnTo>
                      <a:lnTo>
                        <a:pt x="114" y="273"/>
                      </a:lnTo>
                      <a:lnTo>
                        <a:pt x="100" y="266"/>
                      </a:lnTo>
                      <a:lnTo>
                        <a:pt x="88" y="258"/>
                      </a:lnTo>
                      <a:lnTo>
                        <a:pt x="65" y="240"/>
                      </a:lnTo>
                      <a:lnTo>
                        <a:pt x="54" y="228"/>
                      </a:lnTo>
                      <a:lnTo>
                        <a:pt x="45" y="216"/>
                      </a:lnTo>
                      <a:lnTo>
                        <a:pt x="37" y="203"/>
                      </a:lnTo>
                      <a:lnTo>
                        <a:pt x="31" y="190"/>
                      </a:lnTo>
                      <a:lnTo>
                        <a:pt x="26" y="175"/>
                      </a:lnTo>
                      <a:lnTo>
                        <a:pt x="23" y="162"/>
                      </a:lnTo>
                      <a:lnTo>
                        <a:pt x="21" y="147"/>
                      </a:lnTo>
                      <a:lnTo>
                        <a:pt x="21" y="133"/>
                      </a:lnTo>
                      <a:lnTo>
                        <a:pt x="23" y="103"/>
                      </a:lnTo>
                      <a:lnTo>
                        <a:pt x="31" y="74"/>
                      </a:lnTo>
                      <a:lnTo>
                        <a:pt x="45" y="48"/>
                      </a:lnTo>
                      <a:lnTo>
                        <a:pt x="54" y="36"/>
                      </a:lnTo>
                      <a:lnTo>
                        <a:pt x="65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815520" y="3381840"/>
                  <a:ext cx="84600" cy="7992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0" y="0"/>
                      </a:moveTo>
                      <a:lnTo>
                        <a:pt x="44" y="21"/>
                      </a:lnTo>
                      <a:lnTo>
                        <a:pt x="33" y="31"/>
                      </a:lnTo>
                      <a:lnTo>
                        <a:pt x="24" y="43"/>
                      </a:lnTo>
                      <a:lnTo>
                        <a:pt x="10" y="69"/>
                      </a:lnTo>
                      <a:lnTo>
                        <a:pt x="2" y="98"/>
                      </a:lnTo>
                      <a:lnTo>
                        <a:pt x="0" y="128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5" y="170"/>
                      </a:lnTo>
                      <a:lnTo>
                        <a:pt x="10" y="185"/>
                      </a:lnTo>
                      <a:lnTo>
                        <a:pt x="16" y="198"/>
                      </a:lnTo>
                      <a:lnTo>
                        <a:pt x="24" y="211"/>
                      </a:lnTo>
                      <a:lnTo>
                        <a:pt x="33" y="223"/>
                      </a:lnTo>
                      <a:lnTo>
                        <a:pt x="44" y="235"/>
                      </a:lnTo>
                      <a:lnTo>
                        <a:pt x="67" y="253"/>
                      </a:lnTo>
                      <a:lnTo>
                        <a:pt x="79" y="261"/>
                      </a:lnTo>
                      <a:lnTo>
                        <a:pt x="93" y="268"/>
                      </a:lnTo>
                      <a:lnTo>
                        <a:pt x="107" y="272"/>
                      </a:lnTo>
                      <a:lnTo>
                        <a:pt x="121" y="276"/>
                      </a:lnTo>
                      <a:lnTo>
                        <a:pt x="136" y="278"/>
                      </a:lnTo>
                      <a:lnTo>
                        <a:pt x="152" y="279"/>
                      </a:lnTo>
                      <a:lnTo>
                        <a:pt x="166" y="278"/>
                      </a:lnTo>
                      <a:lnTo>
                        <a:pt x="180" y="276"/>
                      </a:lnTo>
                      <a:lnTo>
                        <a:pt x="194" y="272"/>
                      </a:lnTo>
                      <a:lnTo>
                        <a:pt x="209" y="268"/>
                      </a:lnTo>
                      <a:lnTo>
                        <a:pt x="221" y="261"/>
                      </a:lnTo>
                      <a:lnTo>
                        <a:pt x="235" y="253"/>
                      </a:lnTo>
                      <a:lnTo>
                        <a:pt x="246" y="244"/>
                      </a:lnTo>
                      <a:lnTo>
                        <a:pt x="259" y="235"/>
                      </a:lnTo>
                      <a:lnTo>
                        <a:pt x="271" y="219"/>
                      </a:lnTo>
                      <a:lnTo>
                        <a:pt x="276" y="211"/>
                      </a:lnTo>
                      <a:lnTo>
                        <a:pt x="281" y="204"/>
                      </a:lnTo>
                      <a:lnTo>
                        <a:pt x="285" y="195"/>
                      </a:lnTo>
                      <a:lnTo>
                        <a:pt x="289" y="187"/>
                      </a:lnTo>
                      <a:lnTo>
                        <a:pt x="293" y="178"/>
                      </a:lnTo>
                      <a:lnTo>
                        <a:pt x="297" y="170"/>
                      </a:lnTo>
                      <a:lnTo>
                        <a:pt x="280" y="145"/>
                      </a:lnTo>
                      <a:lnTo>
                        <a:pt x="277" y="154"/>
                      </a:lnTo>
                      <a:lnTo>
                        <a:pt x="274" y="165"/>
                      </a:lnTo>
                      <a:lnTo>
                        <a:pt x="271" y="174"/>
                      </a:lnTo>
                      <a:lnTo>
                        <a:pt x="269" y="178"/>
                      </a:lnTo>
                      <a:lnTo>
                        <a:pt x="268" y="181"/>
                      </a:lnTo>
                      <a:lnTo>
                        <a:pt x="268" y="184"/>
                      </a:lnTo>
                      <a:lnTo>
                        <a:pt x="256" y="202"/>
                      </a:lnTo>
                      <a:lnTo>
                        <a:pt x="250" y="210"/>
                      </a:lnTo>
                      <a:lnTo>
                        <a:pt x="244" y="219"/>
                      </a:lnTo>
                      <a:lnTo>
                        <a:pt x="232" y="227"/>
                      </a:lnTo>
                      <a:lnTo>
                        <a:pt x="230" y="227"/>
                      </a:lnTo>
                      <a:lnTo>
                        <a:pt x="229" y="227"/>
                      </a:lnTo>
                      <a:lnTo>
                        <a:pt x="229" y="228"/>
                      </a:lnTo>
                      <a:lnTo>
                        <a:pt x="227" y="230"/>
                      </a:lnTo>
                      <a:lnTo>
                        <a:pt x="222" y="235"/>
                      </a:lnTo>
                      <a:lnTo>
                        <a:pt x="211" y="242"/>
                      </a:lnTo>
                      <a:lnTo>
                        <a:pt x="205" y="244"/>
                      </a:lnTo>
                      <a:lnTo>
                        <a:pt x="201" y="247"/>
                      </a:lnTo>
                      <a:lnTo>
                        <a:pt x="194" y="249"/>
                      </a:lnTo>
                      <a:lnTo>
                        <a:pt x="188" y="251"/>
                      </a:lnTo>
                      <a:lnTo>
                        <a:pt x="177" y="254"/>
                      </a:lnTo>
                      <a:lnTo>
                        <a:pt x="163" y="257"/>
                      </a:lnTo>
                      <a:lnTo>
                        <a:pt x="152" y="258"/>
                      </a:lnTo>
                      <a:lnTo>
                        <a:pt x="138" y="257"/>
                      </a:lnTo>
                      <a:lnTo>
                        <a:pt x="125" y="254"/>
                      </a:lnTo>
                      <a:lnTo>
                        <a:pt x="101" y="247"/>
                      </a:lnTo>
                      <a:lnTo>
                        <a:pt x="90" y="242"/>
                      </a:lnTo>
                      <a:lnTo>
                        <a:pt x="79" y="235"/>
                      </a:lnTo>
                      <a:lnTo>
                        <a:pt x="60" y="219"/>
                      </a:lnTo>
                      <a:lnTo>
                        <a:pt x="42" y="199"/>
                      </a:lnTo>
                      <a:lnTo>
                        <a:pt x="35" y="187"/>
                      </a:lnTo>
                      <a:lnTo>
                        <a:pt x="31" y="177"/>
                      </a:lnTo>
                      <a:lnTo>
                        <a:pt x="26" y="165"/>
                      </a:lnTo>
                      <a:lnTo>
                        <a:pt x="24" y="153"/>
                      </a:lnTo>
                      <a:lnTo>
                        <a:pt x="22" y="128"/>
                      </a:lnTo>
                      <a:lnTo>
                        <a:pt x="24" y="101"/>
                      </a:lnTo>
                      <a:lnTo>
                        <a:pt x="31" y="77"/>
                      </a:lnTo>
                      <a:lnTo>
                        <a:pt x="42" y="56"/>
                      </a:lnTo>
                      <a:lnTo>
                        <a:pt x="60" y="37"/>
                      </a:lnTo>
                      <a:lnTo>
                        <a:pt x="77" y="21"/>
                      </a:lnTo>
                      <a:lnTo>
                        <a:pt x="99" y="9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802920" y="3379680"/>
                  <a:ext cx="104400" cy="93960"/>
                </a:xfrm>
                <a:custGeom>
                  <a:avLst/>
                  <a:gdLst/>
                  <a:ahLst/>
                  <a:rect l="l" t="t" r="r" b="b"/>
                  <a:pathLst>
                    <a:path w="366" h="331">
                      <a:moveTo>
                        <a:pt x="73" y="15"/>
                      </a:moveTo>
                      <a:lnTo>
                        <a:pt x="84" y="4"/>
                      </a:lnTo>
                      <a:lnTo>
                        <a:pt x="57" y="0"/>
                      </a:lnTo>
                      <a:lnTo>
                        <a:pt x="42" y="14"/>
                      </a:lnTo>
                      <a:lnTo>
                        <a:pt x="31" y="30"/>
                      </a:lnTo>
                      <a:lnTo>
                        <a:pt x="14" y="63"/>
                      </a:lnTo>
                      <a:lnTo>
                        <a:pt x="3" y="98"/>
                      </a:lnTo>
                      <a:lnTo>
                        <a:pt x="0" y="137"/>
                      </a:lnTo>
                      <a:lnTo>
                        <a:pt x="0" y="156"/>
                      </a:lnTo>
                      <a:lnTo>
                        <a:pt x="3" y="175"/>
                      </a:lnTo>
                      <a:lnTo>
                        <a:pt x="7" y="193"/>
                      </a:lnTo>
                      <a:lnTo>
                        <a:pt x="14" y="211"/>
                      </a:lnTo>
                      <a:lnTo>
                        <a:pt x="20" y="227"/>
                      </a:lnTo>
                      <a:lnTo>
                        <a:pt x="31" y="244"/>
                      </a:lnTo>
                      <a:lnTo>
                        <a:pt x="42" y="259"/>
                      </a:lnTo>
                      <a:lnTo>
                        <a:pt x="57" y="275"/>
                      </a:lnTo>
                      <a:lnTo>
                        <a:pt x="70" y="287"/>
                      </a:lnTo>
                      <a:lnTo>
                        <a:pt x="86" y="298"/>
                      </a:lnTo>
                      <a:lnTo>
                        <a:pt x="102" y="309"/>
                      </a:lnTo>
                      <a:lnTo>
                        <a:pt x="119" y="317"/>
                      </a:lnTo>
                      <a:lnTo>
                        <a:pt x="136" y="322"/>
                      </a:lnTo>
                      <a:lnTo>
                        <a:pt x="155" y="327"/>
                      </a:lnTo>
                      <a:lnTo>
                        <a:pt x="175" y="330"/>
                      </a:lnTo>
                      <a:lnTo>
                        <a:pt x="195" y="331"/>
                      </a:lnTo>
                      <a:lnTo>
                        <a:pt x="213" y="330"/>
                      </a:lnTo>
                      <a:lnTo>
                        <a:pt x="222" y="328"/>
                      </a:lnTo>
                      <a:lnTo>
                        <a:pt x="227" y="327"/>
                      </a:lnTo>
                      <a:lnTo>
                        <a:pt x="232" y="327"/>
                      </a:lnTo>
                      <a:lnTo>
                        <a:pt x="251" y="322"/>
                      </a:lnTo>
                      <a:lnTo>
                        <a:pt x="269" y="317"/>
                      </a:lnTo>
                      <a:lnTo>
                        <a:pt x="285" y="309"/>
                      </a:lnTo>
                      <a:lnTo>
                        <a:pt x="286" y="306"/>
                      </a:lnTo>
                      <a:lnTo>
                        <a:pt x="288" y="305"/>
                      </a:lnTo>
                      <a:lnTo>
                        <a:pt x="293" y="303"/>
                      </a:lnTo>
                      <a:lnTo>
                        <a:pt x="302" y="298"/>
                      </a:lnTo>
                      <a:lnTo>
                        <a:pt x="316" y="287"/>
                      </a:lnTo>
                      <a:lnTo>
                        <a:pt x="332" y="275"/>
                      </a:lnTo>
                      <a:lnTo>
                        <a:pt x="350" y="252"/>
                      </a:lnTo>
                      <a:lnTo>
                        <a:pt x="366" y="229"/>
                      </a:lnTo>
                      <a:lnTo>
                        <a:pt x="355" y="204"/>
                      </a:lnTo>
                      <a:lnTo>
                        <a:pt x="347" y="218"/>
                      </a:lnTo>
                      <a:lnTo>
                        <a:pt x="342" y="225"/>
                      </a:lnTo>
                      <a:lnTo>
                        <a:pt x="340" y="228"/>
                      </a:lnTo>
                      <a:lnTo>
                        <a:pt x="339" y="233"/>
                      </a:lnTo>
                      <a:lnTo>
                        <a:pt x="336" y="235"/>
                      </a:lnTo>
                      <a:lnTo>
                        <a:pt x="333" y="238"/>
                      </a:lnTo>
                      <a:lnTo>
                        <a:pt x="329" y="245"/>
                      </a:lnTo>
                      <a:lnTo>
                        <a:pt x="317" y="259"/>
                      </a:lnTo>
                      <a:lnTo>
                        <a:pt x="303" y="270"/>
                      </a:lnTo>
                      <a:lnTo>
                        <a:pt x="289" y="280"/>
                      </a:lnTo>
                      <a:lnTo>
                        <a:pt x="285" y="281"/>
                      </a:lnTo>
                      <a:lnTo>
                        <a:pt x="281" y="284"/>
                      </a:lnTo>
                      <a:lnTo>
                        <a:pt x="274" y="288"/>
                      </a:lnTo>
                      <a:lnTo>
                        <a:pt x="261" y="296"/>
                      </a:lnTo>
                      <a:lnTo>
                        <a:pt x="252" y="298"/>
                      </a:lnTo>
                      <a:lnTo>
                        <a:pt x="247" y="300"/>
                      </a:lnTo>
                      <a:lnTo>
                        <a:pt x="244" y="302"/>
                      </a:lnTo>
                      <a:lnTo>
                        <a:pt x="228" y="306"/>
                      </a:lnTo>
                      <a:lnTo>
                        <a:pt x="211" y="309"/>
                      </a:lnTo>
                      <a:lnTo>
                        <a:pt x="195" y="310"/>
                      </a:lnTo>
                      <a:lnTo>
                        <a:pt x="177" y="309"/>
                      </a:lnTo>
                      <a:lnTo>
                        <a:pt x="160" y="306"/>
                      </a:lnTo>
                      <a:lnTo>
                        <a:pt x="143" y="302"/>
                      </a:lnTo>
                      <a:lnTo>
                        <a:pt x="128" y="296"/>
                      </a:lnTo>
                      <a:lnTo>
                        <a:pt x="112" y="288"/>
                      </a:lnTo>
                      <a:lnTo>
                        <a:pt x="99" y="280"/>
                      </a:lnTo>
                      <a:lnTo>
                        <a:pt x="85" y="270"/>
                      </a:lnTo>
                      <a:lnTo>
                        <a:pt x="73" y="259"/>
                      </a:lnTo>
                      <a:lnTo>
                        <a:pt x="59" y="245"/>
                      </a:lnTo>
                      <a:lnTo>
                        <a:pt x="49" y="232"/>
                      </a:lnTo>
                      <a:lnTo>
                        <a:pt x="40" y="217"/>
                      </a:lnTo>
                      <a:lnTo>
                        <a:pt x="34" y="203"/>
                      </a:lnTo>
                      <a:lnTo>
                        <a:pt x="27" y="186"/>
                      </a:lnTo>
                      <a:lnTo>
                        <a:pt x="24" y="170"/>
                      </a:lnTo>
                      <a:lnTo>
                        <a:pt x="22" y="153"/>
                      </a:lnTo>
                      <a:lnTo>
                        <a:pt x="22" y="137"/>
                      </a:lnTo>
                      <a:lnTo>
                        <a:pt x="24" y="102"/>
                      </a:lnTo>
                      <a:lnTo>
                        <a:pt x="27" y="85"/>
                      </a:lnTo>
                      <a:lnTo>
                        <a:pt x="34" y="71"/>
                      </a:lnTo>
                      <a:lnTo>
                        <a:pt x="40" y="55"/>
                      </a:lnTo>
                      <a:lnTo>
                        <a:pt x="49" y="41"/>
                      </a:lnTo>
                      <a:lnTo>
                        <a:pt x="73" y="15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790320" y="3378600"/>
                  <a:ext cx="122400" cy="107640"/>
                </a:xfrm>
                <a:custGeom>
                  <a:avLst/>
                  <a:gdLst/>
                  <a:ahLst/>
                  <a:rect l="l" t="t" r="r" b="b"/>
                  <a:pathLst>
                    <a:path w="427" h="376">
                      <a:moveTo>
                        <a:pt x="55" y="0"/>
                      </a:moveTo>
                      <a:lnTo>
                        <a:pt x="44" y="0"/>
                      </a:lnTo>
                      <a:lnTo>
                        <a:pt x="24" y="31"/>
                      </a:lnTo>
                      <a:lnTo>
                        <a:pt x="16" y="46"/>
                      </a:lnTo>
                      <a:lnTo>
                        <a:pt x="10" y="65"/>
                      </a:lnTo>
                      <a:lnTo>
                        <a:pt x="2" y="100"/>
                      </a:lnTo>
                      <a:lnTo>
                        <a:pt x="0" y="139"/>
                      </a:lnTo>
                      <a:lnTo>
                        <a:pt x="0" y="162"/>
                      </a:lnTo>
                      <a:lnTo>
                        <a:pt x="3" y="186"/>
                      </a:lnTo>
                      <a:lnTo>
                        <a:pt x="9" y="207"/>
                      </a:lnTo>
                      <a:lnTo>
                        <a:pt x="17" y="230"/>
                      </a:lnTo>
                      <a:lnTo>
                        <a:pt x="25" y="249"/>
                      </a:lnTo>
                      <a:lnTo>
                        <a:pt x="37" y="270"/>
                      </a:lnTo>
                      <a:lnTo>
                        <a:pt x="52" y="288"/>
                      </a:lnTo>
                      <a:lnTo>
                        <a:pt x="69" y="307"/>
                      </a:lnTo>
                      <a:lnTo>
                        <a:pt x="86" y="322"/>
                      </a:lnTo>
                      <a:lnTo>
                        <a:pt x="105" y="337"/>
                      </a:lnTo>
                      <a:lnTo>
                        <a:pt x="125" y="348"/>
                      </a:lnTo>
                      <a:lnTo>
                        <a:pt x="146" y="358"/>
                      </a:lnTo>
                      <a:lnTo>
                        <a:pt x="167" y="366"/>
                      </a:lnTo>
                      <a:lnTo>
                        <a:pt x="189" y="372"/>
                      </a:lnTo>
                      <a:lnTo>
                        <a:pt x="213" y="375"/>
                      </a:lnTo>
                      <a:lnTo>
                        <a:pt x="238" y="376"/>
                      </a:lnTo>
                      <a:lnTo>
                        <a:pt x="261" y="375"/>
                      </a:lnTo>
                      <a:lnTo>
                        <a:pt x="272" y="373"/>
                      </a:lnTo>
                      <a:lnTo>
                        <a:pt x="274" y="372"/>
                      </a:lnTo>
                      <a:lnTo>
                        <a:pt x="278" y="372"/>
                      </a:lnTo>
                      <a:lnTo>
                        <a:pt x="284" y="372"/>
                      </a:lnTo>
                      <a:lnTo>
                        <a:pt x="289" y="370"/>
                      </a:lnTo>
                      <a:lnTo>
                        <a:pt x="291" y="368"/>
                      </a:lnTo>
                      <a:lnTo>
                        <a:pt x="295" y="368"/>
                      </a:lnTo>
                      <a:lnTo>
                        <a:pt x="306" y="366"/>
                      </a:lnTo>
                      <a:lnTo>
                        <a:pt x="329" y="358"/>
                      </a:lnTo>
                      <a:lnTo>
                        <a:pt x="338" y="353"/>
                      </a:lnTo>
                      <a:lnTo>
                        <a:pt x="348" y="348"/>
                      </a:lnTo>
                      <a:lnTo>
                        <a:pt x="368" y="337"/>
                      </a:lnTo>
                      <a:lnTo>
                        <a:pt x="387" y="322"/>
                      </a:lnTo>
                      <a:lnTo>
                        <a:pt x="396" y="314"/>
                      </a:lnTo>
                      <a:lnTo>
                        <a:pt x="406" y="307"/>
                      </a:lnTo>
                      <a:lnTo>
                        <a:pt x="410" y="300"/>
                      </a:lnTo>
                      <a:lnTo>
                        <a:pt x="413" y="297"/>
                      </a:lnTo>
                      <a:lnTo>
                        <a:pt x="416" y="295"/>
                      </a:lnTo>
                      <a:lnTo>
                        <a:pt x="427" y="282"/>
                      </a:lnTo>
                      <a:lnTo>
                        <a:pt x="419" y="256"/>
                      </a:lnTo>
                      <a:lnTo>
                        <a:pt x="415" y="260"/>
                      </a:lnTo>
                      <a:lnTo>
                        <a:pt x="411" y="264"/>
                      </a:lnTo>
                      <a:lnTo>
                        <a:pt x="405" y="273"/>
                      </a:lnTo>
                      <a:lnTo>
                        <a:pt x="390" y="291"/>
                      </a:lnTo>
                      <a:lnTo>
                        <a:pt x="381" y="298"/>
                      </a:lnTo>
                      <a:lnTo>
                        <a:pt x="376" y="302"/>
                      </a:lnTo>
                      <a:lnTo>
                        <a:pt x="373" y="306"/>
                      </a:lnTo>
                      <a:lnTo>
                        <a:pt x="364" y="312"/>
                      </a:lnTo>
                      <a:lnTo>
                        <a:pt x="356" y="319"/>
                      </a:lnTo>
                      <a:lnTo>
                        <a:pt x="338" y="329"/>
                      </a:lnTo>
                      <a:lnTo>
                        <a:pt x="320" y="339"/>
                      </a:lnTo>
                      <a:lnTo>
                        <a:pt x="299" y="345"/>
                      </a:lnTo>
                      <a:lnTo>
                        <a:pt x="289" y="347"/>
                      </a:lnTo>
                      <a:lnTo>
                        <a:pt x="280" y="350"/>
                      </a:lnTo>
                      <a:lnTo>
                        <a:pt x="269" y="351"/>
                      </a:lnTo>
                      <a:lnTo>
                        <a:pt x="258" y="354"/>
                      </a:lnTo>
                      <a:lnTo>
                        <a:pt x="238" y="355"/>
                      </a:lnTo>
                      <a:lnTo>
                        <a:pt x="215" y="354"/>
                      </a:lnTo>
                      <a:lnTo>
                        <a:pt x="194" y="350"/>
                      </a:lnTo>
                      <a:lnTo>
                        <a:pt x="173" y="345"/>
                      </a:lnTo>
                      <a:lnTo>
                        <a:pt x="154" y="339"/>
                      </a:lnTo>
                      <a:lnTo>
                        <a:pt x="135" y="329"/>
                      </a:lnTo>
                      <a:lnTo>
                        <a:pt x="118" y="319"/>
                      </a:lnTo>
                      <a:lnTo>
                        <a:pt x="101" y="306"/>
                      </a:lnTo>
                      <a:lnTo>
                        <a:pt x="85" y="291"/>
                      </a:lnTo>
                      <a:lnTo>
                        <a:pt x="69" y="274"/>
                      </a:lnTo>
                      <a:lnTo>
                        <a:pt x="57" y="257"/>
                      </a:lnTo>
                      <a:lnTo>
                        <a:pt x="45" y="239"/>
                      </a:lnTo>
                      <a:lnTo>
                        <a:pt x="37" y="221"/>
                      </a:lnTo>
                      <a:lnTo>
                        <a:pt x="29" y="201"/>
                      </a:lnTo>
                      <a:lnTo>
                        <a:pt x="25" y="181"/>
                      </a:lnTo>
                      <a:lnTo>
                        <a:pt x="21" y="160"/>
                      </a:lnTo>
                      <a:lnTo>
                        <a:pt x="21" y="139"/>
                      </a:lnTo>
                      <a:lnTo>
                        <a:pt x="24" y="100"/>
                      </a:lnTo>
                      <a:lnTo>
                        <a:pt x="27" y="80"/>
                      </a:lnTo>
                      <a:lnTo>
                        <a:pt x="34" y="63"/>
                      </a:lnTo>
                      <a:lnTo>
                        <a:pt x="49" y="31"/>
                      </a:lnTo>
                      <a:lnTo>
                        <a:pt x="72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796440" y="3378600"/>
                  <a:ext cx="113760" cy="10152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9" y="2"/>
                      </a:moveTo>
                      <a:lnTo>
                        <a:pt x="51" y="0"/>
                      </a:lnTo>
                      <a:lnTo>
                        <a:pt x="28" y="31"/>
                      </a:lnTo>
                      <a:lnTo>
                        <a:pt x="13" y="63"/>
                      </a:lnTo>
                      <a:lnTo>
                        <a:pt x="6" y="80"/>
                      </a:lnTo>
                      <a:lnTo>
                        <a:pt x="3" y="100"/>
                      </a:lnTo>
                      <a:lnTo>
                        <a:pt x="0" y="139"/>
                      </a:lnTo>
                      <a:lnTo>
                        <a:pt x="0" y="160"/>
                      </a:lnTo>
                      <a:lnTo>
                        <a:pt x="4" y="181"/>
                      </a:lnTo>
                      <a:lnTo>
                        <a:pt x="8" y="201"/>
                      </a:lnTo>
                      <a:lnTo>
                        <a:pt x="16" y="221"/>
                      </a:lnTo>
                      <a:lnTo>
                        <a:pt x="24" y="239"/>
                      </a:lnTo>
                      <a:lnTo>
                        <a:pt x="36" y="257"/>
                      </a:lnTo>
                      <a:lnTo>
                        <a:pt x="48" y="274"/>
                      </a:lnTo>
                      <a:lnTo>
                        <a:pt x="64" y="291"/>
                      </a:lnTo>
                      <a:lnTo>
                        <a:pt x="80" y="306"/>
                      </a:lnTo>
                      <a:lnTo>
                        <a:pt x="97" y="319"/>
                      </a:lnTo>
                      <a:lnTo>
                        <a:pt x="114" y="329"/>
                      </a:lnTo>
                      <a:lnTo>
                        <a:pt x="133" y="339"/>
                      </a:lnTo>
                      <a:lnTo>
                        <a:pt x="152" y="345"/>
                      </a:lnTo>
                      <a:lnTo>
                        <a:pt x="173" y="350"/>
                      </a:lnTo>
                      <a:lnTo>
                        <a:pt x="194" y="354"/>
                      </a:lnTo>
                      <a:lnTo>
                        <a:pt x="217" y="355"/>
                      </a:lnTo>
                      <a:lnTo>
                        <a:pt x="237" y="354"/>
                      </a:lnTo>
                      <a:lnTo>
                        <a:pt x="248" y="351"/>
                      </a:lnTo>
                      <a:lnTo>
                        <a:pt x="259" y="350"/>
                      </a:lnTo>
                      <a:lnTo>
                        <a:pt x="268" y="347"/>
                      </a:lnTo>
                      <a:lnTo>
                        <a:pt x="278" y="345"/>
                      </a:lnTo>
                      <a:lnTo>
                        <a:pt x="299" y="339"/>
                      </a:lnTo>
                      <a:lnTo>
                        <a:pt x="317" y="329"/>
                      </a:lnTo>
                      <a:lnTo>
                        <a:pt x="335" y="319"/>
                      </a:lnTo>
                      <a:lnTo>
                        <a:pt x="343" y="312"/>
                      </a:lnTo>
                      <a:lnTo>
                        <a:pt x="352" y="306"/>
                      </a:lnTo>
                      <a:lnTo>
                        <a:pt x="355" y="302"/>
                      </a:lnTo>
                      <a:lnTo>
                        <a:pt x="360" y="298"/>
                      </a:lnTo>
                      <a:lnTo>
                        <a:pt x="369" y="291"/>
                      </a:lnTo>
                      <a:lnTo>
                        <a:pt x="384" y="273"/>
                      </a:lnTo>
                      <a:lnTo>
                        <a:pt x="390" y="264"/>
                      </a:lnTo>
                      <a:lnTo>
                        <a:pt x="394" y="260"/>
                      </a:lnTo>
                      <a:lnTo>
                        <a:pt x="398" y="256"/>
                      </a:lnTo>
                      <a:lnTo>
                        <a:pt x="388" y="231"/>
                      </a:lnTo>
                      <a:lnTo>
                        <a:pt x="372" y="254"/>
                      </a:lnTo>
                      <a:lnTo>
                        <a:pt x="354" y="277"/>
                      </a:lnTo>
                      <a:lnTo>
                        <a:pt x="338" y="289"/>
                      </a:lnTo>
                      <a:lnTo>
                        <a:pt x="324" y="300"/>
                      </a:lnTo>
                      <a:lnTo>
                        <a:pt x="315" y="305"/>
                      </a:lnTo>
                      <a:lnTo>
                        <a:pt x="310" y="307"/>
                      </a:lnTo>
                      <a:lnTo>
                        <a:pt x="308" y="308"/>
                      </a:lnTo>
                      <a:lnTo>
                        <a:pt x="307" y="311"/>
                      </a:lnTo>
                      <a:lnTo>
                        <a:pt x="291" y="319"/>
                      </a:lnTo>
                      <a:lnTo>
                        <a:pt x="273" y="324"/>
                      </a:lnTo>
                      <a:lnTo>
                        <a:pt x="254" y="329"/>
                      </a:lnTo>
                      <a:lnTo>
                        <a:pt x="249" y="329"/>
                      </a:lnTo>
                      <a:lnTo>
                        <a:pt x="244" y="330"/>
                      </a:lnTo>
                      <a:lnTo>
                        <a:pt x="235" y="332"/>
                      </a:lnTo>
                      <a:lnTo>
                        <a:pt x="217" y="333"/>
                      </a:lnTo>
                      <a:lnTo>
                        <a:pt x="197" y="332"/>
                      </a:lnTo>
                      <a:lnTo>
                        <a:pt x="177" y="329"/>
                      </a:lnTo>
                      <a:lnTo>
                        <a:pt x="158" y="324"/>
                      </a:lnTo>
                      <a:lnTo>
                        <a:pt x="141" y="319"/>
                      </a:lnTo>
                      <a:lnTo>
                        <a:pt x="124" y="311"/>
                      </a:lnTo>
                      <a:lnTo>
                        <a:pt x="108" y="300"/>
                      </a:lnTo>
                      <a:lnTo>
                        <a:pt x="92" y="289"/>
                      </a:lnTo>
                      <a:lnTo>
                        <a:pt x="79" y="277"/>
                      </a:lnTo>
                      <a:lnTo>
                        <a:pt x="64" y="261"/>
                      </a:lnTo>
                      <a:lnTo>
                        <a:pt x="53" y="246"/>
                      </a:lnTo>
                      <a:lnTo>
                        <a:pt x="42" y="229"/>
                      </a:lnTo>
                      <a:lnTo>
                        <a:pt x="36" y="213"/>
                      </a:lnTo>
                      <a:lnTo>
                        <a:pt x="29" y="195"/>
                      </a:lnTo>
                      <a:lnTo>
                        <a:pt x="25" y="177"/>
                      </a:lnTo>
                      <a:lnTo>
                        <a:pt x="22" y="158"/>
                      </a:lnTo>
                      <a:lnTo>
                        <a:pt x="22" y="139"/>
                      </a:lnTo>
                      <a:lnTo>
                        <a:pt x="25" y="100"/>
                      </a:lnTo>
                      <a:lnTo>
                        <a:pt x="36" y="65"/>
                      </a:lnTo>
                      <a:lnTo>
                        <a:pt x="53" y="32"/>
                      </a:lnTo>
                      <a:lnTo>
                        <a:pt x="64" y="16"/>
                      </a:lnTo>
                      <a:lnTo>
                        <a:pt x="79" y="2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820920" y="3384720"/>
                  <a:ext cx="74160" cy="70560"/>
                </a:xfrm>
                <a:custGeom>
                  <a:avLst/>
                  <a:gdLst/>
                  <a:ahLst/>
                  <a:rect l="l" t="t" r="r" b="b"/>
                  <a:pathLst>
                    <a:path w="258" h="249">
                      <a:moveTo>
                        <a:pt x="21" y="119"/>
                      </a:moveTo>
                      <a:lnTo>
                        <a:pt x="22" y="97"/>
                      </a:lnTo>
                      <a:lnTo>
                        <a:pt x="29" y="77"/>
                      </a:lnTo>
                      <a:lnTo>
                        <a:pt x="38" y="58"/>
                      </a:lnTo>
                      <a:lnTo>
                        <a:pt x="53" y="42"/>
                      </a:lnTo>
                      <a:lnTo>
                        <a:pt x="64" y="30"/>
                      </a:lnTo>
                      <a:lnTo>
                        <a:pt x="78" y="22"/>
                      </a:lnTo>
                      <a:lnTo>
                        <a:pt x="91" y="16"/>
                      </a:lnTo>
                      <a:lnTo>
                        <a:pt x="107" y="13"/>
                      </a:lnTo>
                      <a:lnTo>
                        <a:pt x="77" y="0"/>
                      </a:lnTo>
                      <a:lnTo>
                        <a:pt x="55" y="12"/>
                      </a:lnTo>
                      <a:lnTo>
                        <a:pt x="38" y="28"/>
                      </a:lnTo>
                      <a:lnTo>
                        <a:pt x="20" y="47"/>
                      </a:lnTo>
                      <a:lnTo>
                        <a:pt x="9" y="68"/>
                      </a:lnTo>
                      <a:lnTo>
                        <a:pt x="2" y="92"/>
                      </a:lnTo>
                      <a:lnTo>
                        <a:pt x="0" y="119"/>
                      </a:lnTo>
                      <a:lnTo>
                        <a:pt x="2" y="144"/>
                      </a:lnTo>
                      <a:lnTo>
                        <a:pt x="4" y="156"/>
                      </a:lnTo>
                      <a:lnTo>
                        <a:pt x="9" y="168"/>
                      </a:lnTo>
                      <a:lnTo>
                        <a:pt x="13" y="178"/>
                      </a:lnTo>
                      <a:lnTo>
                        <a:pt x="20" y="190"/>
                      </a:lnTo>
                      <a:lnTo>
                        <a:pt x="38" y="210"/>
                      </a:lnTo>
                      <a:lnTo>
                        <a:pt x="57" y="226"/>
                      </a:lnTo>
                      <a:lnTo>
                        <a:pt x="68" y="233"/>
                      </a:lnTo>
                      <a:lnTo>
                        <a:pt x="79" y="238"/>
                      </a:lnTo>
                      <a:lnTo>
                        <a:pt x="103" y="245"/>
                      </a:lnTo>
                      <a:lnTo>
                        <a:pt x="116" y="248"/>
                      </a:lnTo>
                      <a:lnTo>
                        <a:pt x="130" y="249"/>
                      </a:lnTo>
                      <a:lnTo>
                        <a:pt x="141" y="248"/>
                      </a:lnTo>
                      <a:lnTo>
                        <a:pt x="155" y="245"/>
                      </a:lnTo>
                      <a:lnTo>
                        <a:pt x="166" y="242"/>
                      </a:lnTo>
                      <a:lnTo>
                        <a:pt x="172" y="240"/>
                      </a:lnTo>
                      <a:lnTo>
                        <a:pt x="179" y="238"/>
                      </a:lnTo>
                      <a:lnTo>
                        <a:pt x="183" y="235"/>
                      </a:lnTo>
                      <a:lnTo>
                        <a:pt x="189" y="233"/>
                      </a:lnTo>
                      <a:lnTo>
                        <a:pt x="200" y="226"/>
                      </a:lnTo>
                      <a:lnTo>
                        <a:pt x="205" y="221"/>
                      </a:lnTo>
                      <a:lnTo>
                        <a:pt x="207" y="219"/>
                      </a:lnTo>
                      <a:lnTo>
                        <a:pt x="207" y="218"/>
                      </a:lnTo>
                      <a:lnTo>
                        <a:pt x="208" y="218"/>
                      </a:lnTo>
                      <a:lnTo>
                        <a:pt x="210" y="218"/>
                      </a:lnTo>
                      <a:lnTo>
                        <a:pt x="222" y="210"/>
                      </a:lnTo>
                      <a:lnTo>
                        <a:pt x="228" y="201"/>
                      </a:lnTo>
                      <a:lnTo>
                        <a:pt x="234" y="193"/>
                      </a:lnTo>
                      <a:lnTo>
                        <a:pt x="246" y="175"/>
                      </a:lnTo>
                      <a:lnTo>
                        <a:pt x="246" y="172"/>
                      </a:lnTo>
                      <a:lnTo>
                        <a:pt x="247" y="169"/>
                      </a:lnTo>
                      <a:lnTo>
                        <a:pt x="249" y="165"/>
                      </a:lnTo>
                      <a:lnTo>
                        <a:pt x="252" y="156"/>
                      </a:lnTo>
                      <a:lnTo>
                        <a:pt x="255" y="145"/>
                      </a:lnTo>
                      <a:lnTo>
                        <a:pt x="258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5" y="140"/>
                      </a:lnTo>
                      <a:lnTo>
                        <a:pt x="230" y="160"/>
                      </a:lnTo>
                      <a:lnTo>
                        <a:pt x="220" y="178"/>
                      </a:lnTo>
                      <a:lnTo>
                        <a:pt x="213" y="186"/>
                      </a:lnTo>
                      <a:lnTo>
                        <a:pt x="206" y="195"/>
                      </a:lnTo>
                      <a:lnTo>
                        <a:pt x="197" y="202"/>
                      </a:lnTo>
                      <a:lnTo>
                        <a:pt x="189" y="209"/>
                      </a:lnTo>
                      <a:lnTo>
                        <a:pt x="171" y="219"/>
                      </a:lnTo>
                      <a:lnTo>
                        <a:pt x="150" y="225"/>
                      </a:lnTo>
                      <a:lnTo>
                        <a:pt x="130" y="227"/>
                      </a:lnTo>
                      <a:lnTo>
                        <a:pt x="107" y="225"/>
                      </a:lnTo>
                      <a:lnTo>
                        <a:pt x="88" y="219"/>
                      </a:lnTo>
                      <a:lnTo>
                        <a:pt x="69" y="209"/>
                      </a:lnTo>
                      <a:lnTo>
                        <a:pt x="53" y="195"/>
                      </a:lnTo>
                      <a:lnTo>
                        <a:pt x="38" y="178"/>
                      </a:lnTo>
                      <a:lnTo>
                        <a:pt x="29" y="160"/>
                      </a:lnTo>
                      <a:lnTo>
                        <a:pt x="22" y="140"/>
                      </a:lnTo>
                      <a:lnTo>
                        <a:pt x="21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827400" y="338832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7" h="214">
                      <a:moveTo>
                        <a:pt x="32" y="29"/>
                      </a:moveTo>
                      <a:lnTo>
                        <a:pt x="17" y="45"/>
                      </a:lnTo>
                      <a:lnTo>
                        <a:pt x="8" y="64"/>
                      </a:lnTo>
                      <a:lnTo>
                        <a:pt x="1" y="84"/>
                      </a:lnTo>
                      <a:lnTo>
                        <a:pt x="0" y="106"/>
                      </a:lnTo>
                      <a:lnTo>
                        <a:pt x="1" y="127"/>
                      </a:lnTo>
                      <a:lnTo>
                        <a:pt x="8" y="147"/>
                      </a:lnTo>
                      <a:lnTo>
                        <a:pt x="17" y="165"/>
                      </a:lnTo>
                      <a:lnTo>
                        <a:pt x="32" y="182"/>
                      </a:lnTo>
                      <a:lnTo>
                        <a:pt x="48" y="196"/>
                      </a:lnTo>
                      <a:lnTo>
                        <a:pt x="67" y="206"/>
                      </a:lnTo>
                      <a:lnTo>
                        <a:pt x="86" y="212"/>
                      </a:lnTo>
                      <a:lnTo>
                        <a:pt x="109" y="214"/>
                      </a:lnTo>
                      <a:lnTo>
                        <a:pt x="129" y="212"/>
                      </a:lnTo>
                      <a:lnTo>
                        <a:pt x="150" y="206"/>
                      </a:lnTo>
                      <a:lnTo>
                        <a:pt x="168" y="196"/>
                      </a:lnTo>
                      <a:lnTo>
                        <a:pt x="176" y="189"/>
                      </a:lnTo>
                      <a:lnTo>
                        <a:pt x="185" y="182"/>
                      </a:lnTo>
                      <a:lnTo>
                        <a:pt x="192" y="173"/>
                      </a:lnTo>
                      <a:lnTo>
                        <a:pt x="199" y="165"/>
                      </a:lnTo>
                      <a:lnTo>
                        <a:pt x="209" y="147"/>
                      </a:lnTo>
                      <a:lnTo>
                        <a:pt x="214" y="127"/>
                      </a:lnTo>
                      <a:lnTo>
                        <a:pt x="217" y="106"/>
                      </a:lnTo>
                      <a:lnTo>
                        <a:pt x="217" y="98"/>
                      </a:lnTo>
                      <a:lnTo>
                        <a:pt x="199" y="79"/>
                      </a:lnTo>
                      <a:lnTo>
                        <a:pt x="192" y="72"/>
                      </a:lnTo>
                      <a:lnTo>
                        <a:pt x="189" y="70"/>
                      </a:lnTo>
                      <a:lnTo>
                        <a:pt x="188" y="69"/>
                      </a:lnTo>
                      <a:lnTo>
                        <a:pt x="186" y="67"/>
                      </a:lnTo>
                      <a:lnTo>
                        <a:pt x="193" y="85"/>
                      </a:lnTo>
                      <a:lnTo>
                        <a:pt x="195" y="106"/>
                      </a:lnTo>
                      <a:lnTo>
                        <a:pt x="193" y="122"/>
                      </a:lnTo>
                      <a:lnTo>
                        <a:pt x="188" y="138"/>
                      </a:lnTo>
                      <a:lnTo>
                        <a:pt x="184" y="145"/>
                      </a:lnTo>
                      <a:lnTo>
                        <a:pt x="182" y="148"/>
                      </a:lnTo>
                      <a:lnTo>
                        <a:pt x="180" y="153"/>
                      </a:lnTo>
                      <a:lnTo>
                        <a:pt x="170" y="167"/>
                      </a:lnTo>
                      <a:lnTo>
                        <a:pt x="162" y="171"/>
                      </a:lnTo>
                      <a:lnTo>
                        <a:pt x="155" y="177"/>
                      </a:lnTo>
                      <a:lnTo>
                        <a:pt x="148" y="181"/>
                      </a:lnTo>
                      <a:lnTo>
                        <a:pt x="141" y="186"/>
                      </a:lnTo>
                      <a:lnTo>
                        <a:pt x="125" y="190"/>
                      </a:lnTo>
                      <a:lnTo>
                        <a:pt x="109" y="193"/>
                      </a:lnTo>
                      <a:lnTo>
                        <a:pt x="91" y="190"/>
                      </a:lnTo>
                      <a:lnTo>
                        <a:pt x="75" y="186"/>
                      </a:lnTo>
                      <a:lnTo>
                        <a:pt x="60" y="177"/>
                      </a:lnTo>
                      <a:lnTo>
                        <a:pt x="48" y="167"/>
                      </a:lnTo>
                      <a:lnTo>
                        <a:pt x="36" y="153"/>
                      </a:lnTo>
                      <a:lnTo>
                        <a:pt x="28" y="138"/>
                      </a:lnTo>
                      <a:lnTo>
                        <a:pt x="24" y="122"/>
                      </a:lnTo>
                      <a:lnTo>
                        <a:pt x="23" y="106"/>
                      </a:lnTo>
                      <a:lnTo>
                        <a:pt x="24" y="88"/>
                      </a:lnTo>
                      <a:lnTo>
                        <a:pt x="28" y="72"/>
                      </a:lnTo>
                      <a:lnTo>
                        <a:pt x="36" y="58"/>
                      </a:lnTo>
                      <a:lnTo>
                        <a:pt x="48" y="45"/>
                      </a:lnTo>
                      <a:lnTo>
                        <a:pt x="60" y="33"/>
                      </a:lnTo>
                      <a:lnTo>
                        <a:pt x="75" y="25"/>
                      </a:lnTo>
                      <a:lnTo>
                        <a:pt x="91" y="20"/>
                      </a:lnTo>
                      <a:lnTo>
                        <a:pt x="109" y="19"/>
                      </a:lnTo>
                      <a:lnTo>
                        <a:pt x="117" y="19"/>
                      </a:lnTo>
                      <a:lnTo>
                        <a:pt x="126" y="21"/>
                      </a:lnTo>
                      <a:lnTo>
                        <a:pt x="106" y="9"/>
                      </a:lnTo>
                      <a:lnTo>
                        <a:pt x="86" y="0"/>
                      </a:lnTo>
                      <a:lnTo>
                        <a:pt x="70" y="3"/>
                      </a:lnTo>
                      <a:lnTo>
                        <a:pt x="57" y="9"/>
                      </a:lnTo>
                      <a:lnTo>
                        <a:pt x="43" y="17"/>
                      </a:lnTo>
                      <a:lnTo>
                        <a:pt x="32" y="29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833520" y="3394080"/>
                  <a:ext cx="49680" cy="48960"/>
                </a:xfrm>
                <a:custGeom>
                  <a:avLst/>
                  <a:gdLst/>
                  <a:ahLst/>
                  <a:rect l="l" t="t" r="r" b="b"/>
                  <a:pathLst>
                    <a:path w="172" h="174">
                      <a:moveTo>
                        <a:pt x="103" y="2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1"/>
                      </a:lnTo>
                      <a:lnTo>
                        <a:pt x="52" y="6"/>
                      </a:lnTo>
                      <a:lnTo>
                        <a:pt x="37" y="14"/>
                      </a:lnTo>
                      <a:lnTo>
                        <a:pt x="25" y="26"/>
                      </a:lnTo>
                      <a:lnTo>
                        <a:pt x="13" y="39"/>
                      </a:lnTo>
                      <a:lnTo>
                        <a:pt x="5" y="53"/>
                      </a:lnTo>
                      <a:lnTo>
                        <a:pt x="1" y="69"/>
                      </a:lnTo>
                      <a:lnTo>
                        <a:pt x="0" y="87"/>
                      </a:lnTo>
                      <a:lnTo>
                        <a:pt x="1" y="103"/>
                      </a:lnTo>
                      <a:lnTo>
                        <a:pt x="5" y="119"/>
                      </a:lnTo>
                      <a:lnTo>
                        <a:pt x="13" y="134"/>
                      </a:lnTo>
                      <a:lnTo>
                        <a:pt x="25" y="148"/>
                      </a:lnTo>
                      <a:lnTo>
                        <a:pt x="37" y="158"/>
                      </a:lnTo>
                      <a:lnTo>
                        <a:pt x="52" y="167"/>
                      </a:lnTo>
                      <a:lnTo>
                        <a:pt x="68" y="171"/>
                      </a:lnTo>
                      <a:lnTo>
                        <a:pt x="86" y="174"/>
                      </a:lnTo>
                      <a:lnTo>
                        <a:pt x="102" y="171"/>
                      </a:lnTo>
                      <a:lnTo>
                        <a:pt x="118" y="167"/>
                      </a:lnTo>
                      <a:lnTo>
                        <a:pt x="125" y="162"/>
                      </a:lnTo>
                      <a:lnTo>
                        <a:pt x="132" y="158"/>
                      </a:lnTo>
                      <a:lnTo>
                        <a:pt x="139" y="152"/>
                      </a:lnTo>
                      <a:lnTo>
                        <a:pt x="147" y="148"/>
                      </a:lnTo>
                      <a:lnTo>
                        <a:pt x="157" y="134"/>
                      </a:lnTo>
                      <a:lnTo>
                        <a:pt x="159" y="129"/>
                      </a:lnTo>
                      <a:lnTo>
                        <a:pt x="161" y="126"/>
                      </a:lnTo>
                      <a:lnTo>
                        <a:pt x="165" y="119"/>
                      </a:lnTo>
                      <a:lnTo>
                        <a:pt x="170" y="103"/>
                      </a:lnTo>
                      <a:lnTo>
                        <a:pt x="172" y="87"/>
                      </a:lnTo>
                      <a:lnTo>
                        <a:pt x="170" y="66"/>
                      </a:lnTo>
                      <a:lnTo>
                        <a:pt x="163" y="48"/>
                      </a:lnTo>
                      <a:lnTo>
                        <a:pt x="134" y="23"/>
                      </a:lnTo>
                      <a:lnTo>
                        <a:pt x="118" y="11"/>
                      </a:lnTo>
                      <a:lnTo>
                        <a:pt x="103" y="2"/>
                      </a:lnTo>
                      <a:close/>
                      <a:moveTo>
                        <a:pt x="21" y="87"/>
                      </a:moveTo>
                      <a:lnTo>
                        <a:pt x="22" y="74"/>
                      </a:lnTo>
                      <a:lnTo>
                        <a:pt x="26" y="61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2"/>
                      </a:lnTo>
                      <a:lnTo>
                        <a:pt x="60" y="26"/>
                      </a:lnTo>
                      <a:lnTo>
                        <a:pt x="72" y="23"/>
                      </a:lnTo>
                      <a:lnTo>
                        <a:pt x="86" y="22"/>
                      </a:lnTo>
                      <a:lnTo>
                        <a:pt x="97" y="23"/>
                      </a:lnTo>
                      <a:lnTo>
                        <a:pt x="110" y="26"/>
                      </a:lnTo>
                      <a:lnTo>
                        <a:pt x="120" y="32"/>
                      </a:lnTo>
                      <a:lnTo>
                        <a:pt x="131" y="41"/>
                      </a:lnTo>
                      <a:lnTo>
                        <a:pt x="139" y="50"/>
                      </a:lnTo>
                      <a:lnTo>
                        <a:pt x="145" y="61"/>
                      </a:lnTo>
                      <a:lnTo>
                        <a:pt x="148" y="74"/>
                      </a:lnTo>
                      <a:lnTo>
                        <a:pt x="151" y="87"/>
                      </a:lnTo>
                      <a:lnTo>
                        <a:pt x="148" y="99"/>
                      </a:lnTo>
                      <a:lnTo>
                        <a:pt x="146" y="104"/>
                      </a:lnTo>
                      <a:lnTo>
                        <a:pt x="145" y="111"/>
                      </a:lnTo>
                      <a:lnTo>
                        <a:pt x="142" y="116"/>
                      </a:lnTo>
                      <a:lnTo>
                        <a:pt x="139" y="121"/>
                      </a:lnTo>
                      <a:lnTo>
                        <a:pt x="131" y="133"/>
                      </a:lnTo>
                      <a:lnTo>
                        <a:pt x="120" y="141"/>
                      </a:lnTo>
                      <a:lnTo>
                        <a:pt x="114" y="143"/>
                      </a:lnTo>
                      <a:lnTo>
                        <a:pt x="110" y="146"/>
                      </a:lnTo>
                      <a:lnTo>
                        <a:pt x="103" y="148"/>
                      </a:lnTo>
                      <a:lnTo>
                        <a:pt x="97" y="150"/>
                      </a:lnTo>
                      <a:lnTo>
                        <a:pt x="86" y="152"/>
                      </a:lnTo>
                      <a:lnTo>
                        <a:pt x="72" y="150"/>
                      </a:lnTo>
                      <a:lnTo>
                        <a:pt x="60" y="146"/>
                      </a:lnTo>
                      <a:lnTo>
                        <a:pt x="49" y="141"/>
                      </a:lnTo>
                      <a:lnTo>
                        <a:pt x="40" y="133"/>
                      </a:lnTo>
                      <a:lnTo>
                        <a:pt x="32" y="121"/>
                      </a:lnTo>
                      <a:lnTo>
                        <a:pt x="26" y="111"/>
                      </a:lnTo>
                      <a:lnTo>
                        <a:pt x="22" y="99"/>
                      </a:lnTo>
                      <a:lnTo>
                        <a:pt x="21" y="87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840000" y="3399840"/>
                  <a:ext cx="37080" cy="37440"/>
                </a:xfrm>
                <a:custGeom>
                  <a:avLst/>
                  <a:gdLst/>
                  <a:ahLst/>
                  <a:rect l="l" t="t" r="r" b="b"/>
                  <a:pathLst>
                    <a:path w="130" h="130">
                      <a:moveTo>
                        <a:pt x="19" y="19"/>
                      </a:moveTo>
                      <a:lnTo>
                        <a:pt x="11" y="28"/>
                      </a:lnTo>
                      <a:lnTo>
                        <a:pt x="5" y="39"/>
                      </a:lnTo>
                      <a:lnTo>
                        <a:pt x="1" y="52"/>
                      </a:lnTo>
                      <a:lnTo>
                        <a:pt x="0" y="65"/>
                      </a:lnTo>
                      <a:lnTo>
                        <a:pt x="1" y="77"/>
                      </a:lnTo>
                      <a:lnTo>
                        <a:pt x="5" y="89"/>
                      </a:lnTo>
                      <a:lnTo>
                        <a:pt x="11" y="99"/>
                      </a:lnTo>
                      <a:lnTo>
                        <a:pt x="19" y="111"/>
                      </a:lnTo>
                      <a:lnTo>
                        <a:pt x="28" y="119"/>
                      </a:lnTo>
                      <a:lnTo>
                        <a:pt x="39" y="124"/>
                      </a:lnTo>
                      <a:lnTo>
                        <a:pt x="51" y="128"/>
                      </a:lnTo>
                      <a:lnTo>
                        <a:pt x="65" y="130"/>
                      </a:lnTo>
                      <a:lnTo>
                        <a:pt x="76" y="128"/>
                      </a:lnTo>
                      <a:lnTo>
                        <a:pt x="82" y="126"/>
                      </a:lnTo>
                      <a:lnTo>
                        <a:pt x="89" y="124"/>
                      </a:lnTo>
                      <a:lnTo>
                        <a:pt x="93" y="121"/>
                      </a:lnTo>
                      <a:lnTo>
                        <a:pt x="99" y="119"/>
                      </a:lnTo>
                      <a:lnTo>
                        <a:pt x="110" y="111"/>
                      </a:lnTo>
                      <a:lnTo>
                        <a:pt x="118" y="99"/>
                      </a:lnTo>
                      <a:lnTo>
                        <a:pt x="121" y="94"/>
                      </a:lnTo>
                      <a:lnTo>
                        <a:pt x="124" y="89"/>
                      </a:lnTo>
                      <a:lnTo>
                        <a:pt x="125" y="82"/>
                      </a:lnTo>
                      <a:lnTo>
                        <a:pt x="127" y="77"/>
                      </a:lnTo>
                      <a:lnTo>
                        <a:pt x="130" y="65"/>
                      </a:lnTo>
                      <a:lnTo>
                        <a:pt x="127" y="52"/>
                      </a:lnTo>
                      <a:lnTo>
                        <a:pt x="124" y="39"/>
                      </a:lnTo>
                      <a:lnTo>
                        <a:pt x="118" y="28"/>
                      </a:lnTo>
                      <a:lnTo>
                        <a:pt x="110" y="19"/>
                      </a:lnTo>
                      <a:lnTo>
                        <a:pt x="99" y="10"/>
                      </a:lnTo>
                      <a:lnTo>
                        <a:pt x="89" y="4"/>
                      </a:lnTo>
                      <a:lnTo>
                        <a:pt x="76" y="1"/>
                      </a:lnTo>
                      <a:lnTo>
                        <a:pt x="65" y="0"/>
                      </a:lnTo>
                      <a:lnTo>
                        <a:pt x="51" y="1"/>
                      </a:lnTo>
                      <a:lnTo>
                        <a:pt x="39" y="4"/>
                      </a:lnTo>
                      <a:lnTo>
                        <a:pt x="28" y="10"/>
                      </a:lnTo>
                      <a:lnTo>
                        <a:pt x="19" y="19"/>
                      </a:lnTo>
                      <a:close/>
                      <a:moveTo>
                        <a:pt x="22" y="65"/>
                      </a:moveTo>
                      <a:lnTo>
                        <a:pt x="24" y="48"/>
                      </a:lnTo>
                      <a:lnTo>
                        <a:pt x="34" y="34"/>
                      </a:lnTo>
                      <a:lnTo>
                        <a:pt x="40" y="27"/>
                      </a:lnTo>
                      <a:lnTo>
                        <a:pt x="48" y="23"/>
                      </a:lnTo>
                      <a:lnTo>
                        <a:pt x="65" y="21"/>
                      </a:lnTo>
                      <a:lnTo>
                        <a:pt x="73" y="21"/>
                      </a:lnTo>
                      <a:lnTo>
                        <a:pt x="81" y="23"/>
                      </a:lnTo>
                      <a:lnTo>
                        <a:pt x="88" y="27"/>
                      </a:lnTo>
                      <a:lnTo>
                        <a:pt x="96" y="34"/>
                      </a:lnTo>
                      <a:lnTo>
                        <a:pt x="105" y="48"/>
                      </a:lnTo>
                      <a:lnTo>
                        <a:pt x="107" y="56"/>
                      </a:lnTo>
                      <a:lnTo>
                        <a:pt x="108" y="65"/>
                      </a:lnTo>
                      <a:lnTo>
                        <a:pt x="107" y="72"/>
                      </a:lnTo>
                      <a:lnTo>
                        <a:pt x="105" y="81"/>
                      </a:lnTo>
                      <a:lnTo>
                        <a:pt x="100" y="88"/>
                      </a:lnTo>
                      <a:lnTo>
                        <a:pt x="96" y="96"/>
                      </a:lnTo>
                      <a:lnTo>
                        <a:pt x="88" y="101"/>
                      </a:lnTo>
                      <a:lnTo>
                        <a:pt x="81" y="105"/>
                      </a:lnTo>
                      <a:lnTo>
                        <a:pt x="73" y="107"/>
                      </a:lnTo>
                      <a:lnTo>
                        <a:pt x="68" y="107"/>
                      </a:lnTo>
                      <a:lnTo>
                        <a:pt x="66" y="107"/>
                      </a:lnTo>
                      <a:lnTo>
                        <a:pt x="65" y="107"/>
                      </a:lnTo>
                      <a:lnTo>
                        <a:pt x="65" y="109"/>
                      </a:lnTo>
                      <a:lnTo>
                        <a:pt x="56" y="107"/>
                      </a:lnTo>
                      <a:lnTo>
                        <a:pt x="48" y="105"/>
                      </a:lnTo>
                      <a:lnTo>
                        <a:pt x="40" y="101"/>
                      </a:lnTo>
                      <a:lnTo>
                        <a:pt x="34" y="96"/>
                      </a:lnTo>
                      <a:lnTo>
                        <a:pt x="28" y="88"/>
                      </a:lnTo>
                      <a:lnTo>
                        <a:pt x="24" y="81"/>
                      </a:lnTo>
                      <a:lnTo>
                        <a:pt x="22" y="65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6120" y="3405960"/>
                  <a:ext cx="24480" cy="24840"/>
                </a:xfrm>
                <a:custGeom>
                  <a:avLst/>
                  <a:gdLst/>
                  <a:ahLst/>
                  <a:rect l="l" t="t" r="r" b="b"/>
                  <a:pathLst>
                    <a:path w="86" h="88">
                      <a:moveTo>
                        <a:pt x="12" y="13"/>
                      </a:moveTo>
                      <a:lnTo>
                        <a:pt x="2" y="27"/>
                      </a:lnTo>
                      <a:lnTo>
                        <a:pt x="0" y="44"/>
                      </a:lnTo>
                      <a:lnTo>
                        <a:pt x="2" y="60"/>
                      </a:lnTo>
                      <a:lnTo>
                        <a:pt x="6" y="67"/>
                      </a:lnTo>
                      <a:lnTo>
                        <a:pt x="12" y="75"/>
                      </a:lnTo>
                      <a:lnTo>
                        <a:pt x="18" y="80"/>
                      </a:lnTo>
                      <a:lnTo>
                        <a:pt x="26" y="84"/>
                      </a:lnTo>
                      <a:lnTo>
                        <a:pt x="34" y="86"/>
                      </a:lnTo>
                      <a:lnTo>
                        <a:pt x="43" y="88"/>
                      </a:lnTo>
                      <a:lnTo>
                        <a:pt x="43" y="86"/>
                      </a:lnTo>
                      <a:lnTo>
                        <a:pt x="44" y="86"/>
                      </a:lnTo>
                      <a:lnTo>
                        <a:pt x="46" y="86"/>
                      </a:lnTo>
                      <a:lnTo>
                        <a:pt x="51" y="86"/>
                      </a:lnTo>
                      <a:lnTo>
                        <a:pt x="59" y="84"/>
                      </a:lnTo>
                      <a:lnTo>
                        <a:pt x="66" y="80"/>
                      </a:lnTo>
                      <a:lnTo>
                        <a:pt x="74" y="75"/>
                      </a:lnTo>
                      <a:lnTo>
                        <a:pt x="78" y="67"/>
                      </a:lnTo>
                      <a:lnTo>
                        <a:pt x="83" y="60"/>
                      </a:lnTo>
                      <a:lnTo>
                        <a:pt x="85" y="51"/>
                      </a:lnTo>
                      <a:lnTo>
                        <a:pt x="86" y="44"/>
                      </a:lnTo>
                      <a:lnTo>
                        <a:pt x="85" y="35"/>
                      </a:lnTo>
                      <a:lnTo>
                        <a:pt x="83" y="27"/>
                      </a:lnTo>
                      <a:lnTo>
                        <a:pt x="74" y="13"/>
                      </a:lnTo>
                      <a:lnTo>
                        <a:pt x="66" y="6"/>
                      </a:lnTo>
                      <a:lnTo>
                        <a:pt x="59" y="2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2"/>
                      </a:lnTo>
                      <a:lnTo>
                        <a:pt x="18" y="6"/>
                      </a:lnTo>
                      <a:lnTo>
                        <a:pt x="12" y="13"/>
                      </a:lnTo>
                      <a:close/>
                      <a:moveTo>
                        <a:pt x="21" y="44"/>
                      </a:moveTo>
                      <a:lnTo>
                        <a:pt x="23" y="35"/>
                      </a:lnTo>
                      <a:lnTo>
                        <a:pt x="27" y="29"/>
                      </a:lnTo>
                      <a:lnTo>
                        <a:pt x="34" y="24"/>
                      </a:lnTo>
                      <a:lnTo>
                        <a:pt x="43" y="23"/>
                      </a:lnTo>
                      <a:lnTo>
                        <a:pt x="51" y="24"/>
                      </a:lnTo>
                      <a:lnTo>
                        <a:pt x="58" y="29"/>
                      </a:lnTo>
                      <a:lnTo>
                        <a:pt x="62" y="35"/>
                      </a:lnTo>
                      <a:lnTo>
                        <a:pt x="65" y="44"/>
                      </a:lnTo>
                      <a:lnTo>
                        <a:pt x="62" y="51"/>
                      </a:lnTo>
                      <a:lnTo>
                        <a:pt x="60" y="55"/>
                      </a:lnTo>
                      <a:lnTo>
                        <a:pt x="58" y="59"/>
                      </a:lnTo>
                      <a:lnTo>
                        <a:pt x="51" y="63"/>
                      </a:lnTo>
                      <a:lnTo>
                        <a:pt x="46" y="64"/>
                      </a:lnTo>
                      <a:lnTo>
                        <a:pt x="44" y="64"/>
                      </a:lnTo>
                      <a:lnTo>
                        <a:pt x="43" y="64"/>
                      </a:lnTo>
                      <a:lnTo>
                        <a:pt x="43" y="65"/>
                      </a:lnTo>
                      <a:lnTo>
                        <a:pt x="34" y="63"/>
                      </a:lnTo>
                      <a:lnTo>
                        <a:pt x="27" y="59"/>
                      </a:lnTo>
                      <a:lnTo>
                        <a:pt x="24" y="55"/>
                      </a:lnTo>
                      <a:lnTo>
                        <a:pt x="23" y="51"/>
                      </a:lnTo>
                      <a:lnTo>
                        <a:pt x="21" y="44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852600" y="341208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44" h="42">
                      <a:moveTo>
                        <a:pt x="6" y="6"/>
                      </a:moveTo>
                      <a:lnTo>
                        <a:pt x="2" y="12"/>
                      </a:lnTo>
                      <a:lnTo>
                        <a:pt x="0" y="21"/>
                      </a:lnTo>
                      <a:lnTo>
                        <a:pt x="2" y="28"/>
                      </a:lnTo>
                      <a:lnTo>
                        <a:pt x="3" y="32"/>
                      </a:lnTo>
                      <a:lnTo>
                        <a:pt x="6" y="36"/>
                      </a:lnTo>
                      <a:lnTo>
                        <a:pt x="13" y="40"/>
                      </a:lnTo>
                      <a:lnTo>
                        <a:pt x="22" y="42"/>
                      </a:lnTo>
                      <a:lnTo>
                        <a:pt x="22" y="41"/>
                      </a:lnTo>
                      <a:lnTo>
                        <a:pt x="23" y="41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7" y="36"/>
                      </a:lnTo>
                      <a:lnTo>
                        <a:pt x="39" y="32"/>
                      </a:lnTo>
                      <a:lnTo>
                        <a:pt x="41" y="28"/>
                      </a:lnTo>
                      <a:lnTo>
                        <a:pt x="44" y="21"/>
                      </a:lnTo>
                      <a:lnTo>
                        <a:pt x="41" y="12"/>
                      </a:lnTo>
                      <a:lnTo>
                        <a:pt x="37" y="6"/>
                      </a:lnTo>
                      <a:lnTo>
                        <a:pt x="30" y="1"/>
                      </a:lnTo>
                      <a:lnTo>
                        <a:pt x="22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16520" y="341784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1" y="3"/>
                      </a:moveTo>
                      <a:lnTo>
                        <a:pt x="21" y="0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3" y="73"/>
                      </a:lnTo>
                      <a:lnTo>
                        <a:pt x="12" y="118"/>
                      </a:lnTo>
                      <a:lnTo>
                        <a:pt x="23" y="161"/>
                      </a:lnTo>
                      <a:lnTo>
                        <a:pt x="40" y="203"/>
                      </a:lnTo>
                      <a:lnTo>
                        <a:pt x="59" y="243"/>
                      </a:lnTo>
                      <a:lnTo>
                        <a:pt x="84" y="281"/>
                      </a:lnTo>
                      <a:lnTo>
                        <a:pt x="97" y="299"/>
                      </a:lnTo>
                      <a:lnTo>
                        <a:pt x="111" y="319"/>
                      </a:lnTo>
                      <a:lnTo>
                        <a:pt x="146" y="355"/>
                      </a:lnTo>
                      <a:lnTo>
                        <a:pt x="182" y="389"/>
                      </a:lnTo>
                      <a:lnTo>
                        <a:pt x="221" y="418"/>
                      </a:lnTo>
                      <a:lnTo>
                        <a:pt x="261" y="443"/>
                      </a:lnTo>
                      <a:lnTo>
                        <a:pt x="305" y="464"/>
                      </a:lnTo>
                      <a:lnTo>
                        <a:pt x="350" y="480"/>
                      </a:lnTo>
                      <a:lnTo>
                        <a:pt x="397" y="491"/>
                      </a:lnTo>
                      <a:lnTo>
                        <a:pt x="446" y="498"/>
                      </a:lnTo>
                      <a:lnTo>
                        <a:pt x="497" y="500"/>
                      </a:lnTo>
                      <a:lnTo>
                        <a:pt x="526" y="499"/>
                      </a:lnTo>
                      <a:lnTo>
                        <a:pt x="557" y="497"/>
                      </a:lnTo>
                      <a:lnTo>
                        <a:pt x="587" y="492"/>
                      </a:lnTo>
                      <a:lnTo>
                        <a:pt x="616" y="486"/>
                      </a:lnTo>
                      <a:lnTo>
                        <a:pt x="636" y="459"/>
                      </a:lnTo>
                      <a:lnTo>
                        <a:pt x="602" y="467"/>
                      </a:lnTo>
                      <a:lnTo>
                        <a:pt x="568" y="473"/>
                      </a:lnTo>
                      <a:lnTo>
                        <a:pt x="532" y="476"/>
                      </a:lnTo>
                      <a:lnTo>
                        <a:pt x="514" y="477"/>
                      </a:lnTo>
                      <a:lnTo>
                        <a:pt x="505" y="477"/>
                      </a:lnTo>
                      <a:lnTo>
                        <a:pt x="500" y="477"/>
                      </a:lnTo>
                      <a:lnTo>
                        <a:pt x="498" y="477"/>
                      </a:lnTo>
                      <a:lnTo>
                        <a:pt x="497" y="477"/>
                      </a:lnTo>
                      <a:lnTo>
                        <a:pt x="497" y="478"/>
                      </a:lnTo>
                      <a:lnTo>
                        <a:pt x="447" y="476"/>
                      </a:lnTo>
                      <a:lnTo>
                        <a:pt x="401" y="469"/>
                      </a:lnTo>
                      <a:lnTo>
                        <a:pt x="355" y="458"/>
                      </a:lnTo>
                      <a:lnTo>
                        <a:pt x="313" y="443"/>
                      </a:lnTo>
                      <a:lnTo>
                        <a:pt x="271" y="423"/>
                      </a:lnTo>
                      <a:lnTo>
                        <a:pt x="233" y="399"/>
                      </a:lnTo>
                      <a:lnTo>
                        <a:pt x="195" y="371"/>
                      </a:lnTo>
                      <a:lnTo>
                        <a:pt x="160" y="339"/>
                      </a:lnTo>
                      <a:lnTo>
                        <a:pt x="126" y="303"/>
                      </a:lnTo>
                      <a:lnTo>
                        <a:pt x="98" y="265"/>
                      </a:lnTo>
                      <a:lnTo>
                        <a:pt x="84" y="245"/>
                      </a:lnTo>
                      <a:lnTo>
                        <a:pt x="73" y="226"/>
                      </a:lnTo>
                      <a:lnTo>
                        <a:pt x="55" y="185"/>
                      </a:lnTo>
                      <a:lnTo>
                        <a:pt x="39" y="142"/>
                      </a:lnTo>
                      <a:lnTo>
                        <a:pt x="29" y="98"/>
                      </a:lnTo>
                      <a:lnTo>
                        <a:pt x="24" y="74"/>
                      </a:lnTo>
                      <a:lnTo>
                        <a:pt x="22" y="51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721920" y="3411000"/>
                  <a:ext cx="181080" cy="143280"/>
                </a:xfrm>
                <a:custGeom>
                  <a:avLst/>
                  <a:gdLst/>
                  <a:ahLst/>
                  <a:rect l="l" t="t" r="r" b="b"/>
                  <a:pathLst>
                    <a:path w="634" h="502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" y="75"/>
                      </a:lnTo>
                      <a:lnTo>
                        <a:pt x="3" y="98"/>
                      </a:lnTo>
                      <a:lnTo>
                        <a:pt x="8" y="122"/>
                      </a:lnTo>
                      <a:lnTo>
                        <a:pt x="18" y="166"/>
                      </a:lnTo>
                      <a:lnTo>
                        <a:pt x="34" y="209"/>
                      </a:lnTo>
                      <a:lnTo>
                        <a:pt x="52" y="250"/>
                      </a:lnTo>
                      <a:lnTo>
                        <a:pt x="63" y="269"/>
                      </a:lnTo>
                      <a:lnTo>
                        <a:pt x="77" y="289"/>
                      </a:lnTo>
                      <a:lnTo>
                        <a:pt x="105" y="327"/>
                      </a:lnTo>
                      <a:lnTo>
                        <a:pt x="139" y="363"/>
                      </a:lnTo>
                      <a:lnTo>
                        <a:pt x="174" y="395"/>
                      </a:lnTo>
                      <a:lnTo>
                        <a:pt x="212" y="423"/>
                      </a:lnTo>
                      <a:lnTo>
                        <a:pt x="250" y="447"/>
                      </a:lnTo>
                      <a:lnTo>
                        <a:pt x="292" y="467"/>
                      </a:lnTo>
                      <a:lnTo>
                        <a:pt x="334" y="482"/>
                      </a:lnTo>
                      <a:lnTo>
                        <a:pt x="380" y="493"/>
                      </a:lnTo>
                      <a:lnTo>
                        <a:pt x="426" y="500"/>
                      </a:lnTo>
                      <a:lnTo>
                        <a:pt x="476" y="502"/>
                      </a:lnTo>
                      <a:lnTo>
                        <a:pt x="476" y="501"/>
                      </a:lnTo>
                      <a:lnTo>
                        <a:pt x="477" y="501"/>
                      </a:lnTo>
                      <a:lnTo>
                        <a:pt x="479" y="501"/>
                      </a:lnTo>
                      <a:lnTo>
                        <a:pt x="484" y="501"/>
                      </a:lnTo>
                      <a:lnTo>
                        <a:pt x="493" y="501"/>
                      </a:lnTo>
                      <a:lnTo>
                        <a:pt x="511" y="500"/>
                      </a:lnTo>
                      <a:lnTo>
                        <a:pt x="547" y="497"/>
                      </a:lnTo>
                      <a:lnTo>
                        <a:pt x="581" y="491"/>
                      </a:lnTo>
                      <a:lnTo>
                        <a:pt x="615" y="483"/>
                      </a:lnTo>
                      <a:lnTo>
                        <a:pt x="634" y="454"/>
                      </a:lnTo>
                      <a:lnTo>
                        <a:pt x="595" y="465"/>
                      </a:lnTo>
                      <a:lnTo>
                        <a:pt x="556" y="474"/>
                      </a:lnTo>
                      <a:lnTo>
                        <a:pt x="536" y="476"/>
                      </a:lnTo>
                      <a:lnTo>
                        <a:pt x="517" y="479"/>
                      </a:lnTo>
                      <a:lnTo>
                        <a:pt x="476" y="481"/>
                      </a:lnTo>
                      <a:lnTo>
                        <a:pt x="428" y="479"/>
                      </a:lnTo>
                      <a:lnTo>
                        <a:pt x="384" y="472"/>
                      </a:lnTo>
                      <a:lnTo>
                        <a:pt x="341" y="461"/>
                      </a:lnTo>
                      <a:lnTo>
                        <a:pt x="301" y="447"/>
                      </a:lnTo>
                      <a:lnTo>
                        <a:pt x="262" y="428"/>
                      </a:lnTo>
                      <a:lnTo>
                        <a:pt x="224" y="405"/>
                      </a:lnTo>
                      <a:lnTo>
                        <a:pt x="188" y="378"/>
                      </a:lnTo>
                      <a:lnTo>
                        <a:pt x="155" y="347"/>
                      </a:lnTo>
                      <a:lnTo>
                        <a:pt x="138" y="329"/>
                      </a:lnTo>
                      <a:lnTo>
                        <a:pt x="123" y="312"/>
                      </a:lnTo>
                      <a:lnTo>
                        <a:pt x="96" y="276"/>
                      </a:lnTo>
                      <a:lnTo>
                        <a:pt x="84" y="256"/>
                      </a:lnTo>
                      <a:lnTo>
                        <a:pt x="73" y="238"/>
                      </a:lnTo>
                      <a:lnTo>
                        <a:pt x="55" y="200"/>
                      </a:lnTo>
                      <a:lnTo>
                        <a:pt x="39" y="159"/>
                      </a:lnTo>
                      <a:lnTo>
                        <a:pt x="34" y="137"/>
                      </a:lnTo>
                      <a:lnTo>
                        <a:pt x="30" y="117"/>
                      </a:lnTo>
                      <a:lnTo>
                        <a:pt x="26" y="94"/>
                      </a:lnTo>
                      <a:lnTo>
                        <a:pt x="24" y="73"/>
                      </a:lnTo>
                      <a:lnTo>
                        <a:pt x="22" y="27"/>
                      </a:lnTo>
                      <a:lnTo>
                        <a:pt x="22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747120" y="3390120"/>
                  <a:ext cx="16740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7">
                      <a:moveTo>
                        <a:pt x="34" y="0"/>
                      </a:moveTo>
                      <a:lnTo>
                        <a:pt x="9" y="14"/>
                      </a:lnTo>
                      <a:lnTo>
                        <a:pt x="5" y="34"/>
                      </a:lnTo>
                      <a:lnTo>
                        <a:pt x="2" y="55"/>
                      </a:lnTo>
                      <a:lnTo>
                        <a:pt x="0" y="99"/>
                      </a:lnTo>
                      <a:lnTo>
                        <a:pt x="1" y="138"/>
                      </a:lnTo>
                      <a:lnTo>
                        <a:pt x="7" y="177"/>
                      </a:lnTo>
                      <a:lnTo>
                        <a:pt x="15" y="213"/>
                      </a:lnTo>
                      <a:lnTo>
                        <a:pt x="21" y="230"/>
                      </a:lnTo>
                      <a:lnTo>
                        <a:pt x="28" y="248"/>
                      </a:lnTo>
                      <a:lnTo>
                        <a:pt x="43" y="281"/>
                      </a:lnTo>
                      <a:lnTo>
                        <a:pt x="52" y="297"/>
                      </a:lnTo>
                      <a:lnTo>
                        <a:pt x="64" y="314"/>
                      </a:lnTo>
                      <a:lnTo>
                        <a:pt x="74" y="328"/>
                      </a:lnTo>
                      <a:lnTo>
                        <a:pt x="86" y="344"/>
                      </a:lnTo>
                      <a:lnTo>
                        <a:pt x="113" y="374"/>
                      </a:lnTo>
                      <a:lnTo>
                        <a:pt x="142" y="400"/>
                      </a:lnTo>
                      <a:lnTo>
                        <a:pt x="172" y="423"/>
                      </a:lnTo>
                      <a:lnTo>
                        <a:pt x="204" y="442"/>
                      </a:lnTo>
                      <a:lnTo>
                        <a:pt x="239" y="459"/>
                      </a:lnTo>
                      <a:lnTo>
                        <a:pt x="273" y="470"/>
                      </a:lnTo>
                      <a:lnTo>
                        <a:pt x="311" y="479"/>
                      </a:lnTo>
                      <a:lnTo>
                        <a:pt x="348" y="485"/>
                      </a:lnTo>
                      <a:lnTo>
                        <a:pt x="389" y="487"/>
                      </a:lnTo>
                      <a:lnTo>
                        <a:pt x="414" y="486"/>
                      </a:lnTo>
                      <a:lnTo>
                        <a:pt x="440" y="484"/>
                      </a:lnTo>
                      <a:lnTo>
                        <a:pt x="464" y="479"/>
                      </a:lnTo>
                      <a:lnTo>
                        <a:pt x="489" y="475"/>
                      </a:lnTo>
                      <a:lnTo>
                        <a:pt x="511" y="467"/>
                      </a:lnTo>
                      <a:lnTo>
                        <a:pt x="523" y="462"/>
                      </a:lnTo>
                      <a:lnTo>
                        <a:pt x="528" y="460"/>
                      </a:lnTo>
                      <a:lnTo>
                        <a:pt x="535" y="459"/>
                      </a:lnTo>
                      <a:lnTo>
                        <a:pt x="540" y="455"/>
                      </a:lnTo>
                      <a:lnTo>
                        <a:pt x="545" y="453"/>
                      </a:lnTo>
                      <a:lnTo>
                        <a:pt x="557" y="449"/>
                      </a:lnTo>
                      <a:lnTo>
                        <a:pt x="579" y="438"/>
                      </a:lnTo>
                      <a:lnTo>
                        <a:pt x="582" y="424"/>
                      </a:lnTo>
                      <a:lnTo>
                        <a:pt x="585" y="410"/>
                      </a:lnTo>
                      <a:lnTo>
                        <a:pt x="562" y="423"/>
                      </a:lnTo>
                      <a:lnTo>
                        <a:pt x="540" y="434"/>
                      </a:lnTo>
                      <a:lnTo>
                        <a:pt x="516" y="443"/>
                      </a:lnTo>
                      <a:lnTo>
                        <a:pt x="509" y="444"/>
                      </a:lnTo>
                      <a:lnTo>
                        <a:pt x="504" y="446"/>
                      </a:lnTo>
                      <a:lnTo>
                        <a:pt x="492" y="451"/>
                      </a:lnTo>
                      <a:lnTo>
                        <a:pt x="479" y="453"/>
                      </a:lnTo>
                      <a:lnTo>
                        <a:pt x="472" y="454"/>
                      </a:lnTo>
                      <a:lnTo>
                        <a:pt x="466" y="457"/>
                      </a:lnTo>
                      <a:lnTo>
                        <a:pt x="441" y="461"/>
                      </a:lnTo>
                      <a:lnTo>
                        <a:pt x="428" y="462"/>
                      </a:lnTo>
                      <a:lnTo>
                        <a:pt x="415" y="465"/>
                      </a:lnTo>
                      <a:lnTo>
                        <a:pt x="401" y="465"/>
                      </a:lnTo>
                      <a:lnTo>
                        <a:pt x="395" y="465"/>
                      </a:lnTo>
                      <a:lnTo>
                        <a:pt x="391" y="465"/>
                      </a:lnTo>
                      <a:lnTo>
                        <a:pt x="389" y="466"/>
                      </a:lnTo>
                      <a:lnTo>
                        <a:pt x="350" y="463"/>
                      </a:lnTo>
                      <a:lnTo>
                        <a:pt x="315" y="459"/>
                      </a:lnTo>
                      <a:lnTo>
                        <a:pt x="280" y="450"/>
                      </a:lnTo>
                      <a:lnTo>
                        <a:pt x="247" y="438"/>
                      </a:lnTo>
                      <a:lnTo>
                        <a:pt x="214" y="423"/>
                      </a:lnTo>
                      <a:lnTo>
                        <a:pt x="185" y="404"/>
                      </a:lnTo>
                      <a:lnTo>
                        <a:pt x="155" y="383"/>
                      </a:lnTo>
                      <a:lnTo>
                        <a:pt x="129" y="359"/>
                      </a:lnTo>
                      <a:lnTo>
                        <a:pt x="103" y="331"/>
                      </a:lnTo>
                      <a:lnTo>
                        <a:pt x="82" y="301"/>
                      </a:lnTo>
                      <a:lnTo>
                        <a:pt x="62" y="271"/>
                      </a:lnTo>
                      <a:lnTo>
                        <a:pt x="48" y="240"/>
                      </a:lnTo>
                      <a:lnTo>
                        <a:pt x="35" y="206"/>
                      </a:lnTo>
                      <a:lnTo>
                        <a:pt x="27" y="172"/>
                      </a:lnTo>
                      <a:lnTo>
                        <a:pt x="23" y="136"/>
                      </a:lnTo>
                      <a:lnTo>
                        <a:pt x="22" y="99"/>
                      </a:lnTo>
                      <a:lnTo>
                        <a:pt x="22" y="72"/>
                      </a:lnTo>
                      <a:lnTo>
                        <a:pt x="24" y="47"/>
                      </a:lnTo>
                      <a:lnTo>
                        <a:pt x="27" y="22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29120" y="3404880"/>
                  <a:ext cx="178200" cy="143280"/>
                </a:xfrm>
                <a:custGeom>
                  <a:avLst/>
                  <a:gdLst/>
                  <a:ahLst/>
                  <a:rect l="l" t="t" r="r" b="b"/>
                  <a:pathLst>
                    <a:path w="625" h="502">
                      <a:moveTo>
                        <a:pt x="0" y="21"/>
                      </a:moveTo>
                      <a:lnTo>
                        <a:pt x="0" y="48"/>
                      </a:lnTo>
                      <a:lnTo>
                        <a:pt x="2" y="94"/>
                      </a:lnTo>
                      <a:lnTo>
                        <a:pt x="4" y="115"/>
                      </a:lnTo>
                      <a:lnTo>
                        <a:pt x="8" y="138"/>
                      </a:lnTo>
                      <a:lnTo>
                        <a:pt x="12" y="158"/>
                      </a:lnTo>
                      <a:lnTo>
                        <a:pt x="17" y="180"/>
                      </a:lnTo>
                      <a:lnTo>
                        <a:pt x="33" y="221"/>
                      </a:lnTo>
                      <a:lnTo>
                        <a:pt x="51" y="259"/>
                      </a:lnTo>
                      <a:lnTo>
                        <a:pt x="62" y="277"/>
                      </a:lnTo>
                      <a:lnTo>
                        <a:pt x="74" y="297"/>
                      </a:lnTo>
                      <a:lnTo>
                        <a:pt x="101" y="333"/>
                      </a:lnTo>
                      <a:lnTo>
                        <a:pt x="116" y="350"/>
                      </a:lnTo>
                      <a:lnTo>
                        <a:pt x="133" y="368"/>
                      </a:lnTo>
                      <a:lnTo>
                        <a:pt x="166" y="399"/>
                      </a:lnTo>
                      <a:lnTo>
                        <a:pt x="202" y="426"/>
                      </a:lnTo>
                      <a:lnTo>
                        <a:pt x="240" y="449"/>
                      </a:lnTo>
                      <a:lnTo>
                        <a:pt x="279" y="468"/>
                      </a:lnTo>
                      <a:lnTo>
                        <a:pt x="319" y="482"/>
                      </a:lnTo>
                      <a:lnTo>
                        <a:pt x="362" y="493"/>
                      </a:lnTo>
                      <a:lnTo>
                        <a:pt x="406" y="500"/>
                      </a:lnTo>
                      <a:lnTo>
                        <a:pt x="454" y="502"/>
                      </a:lnTo>
                      <a:lnTo>
                        <a:pt x="495" y="500"/>
                      </a:lnTo>
                      <a:lnTo>
                        <a:pt x="514" y="497"/>
                      </a:lnTo>
                      <a:lnTo>
                        <a:pt x="534" y="495"/>
                      </a:lnTo>
                      <a:lnTo>
                        <a:pt x="573" y="486"/>
                      </a:lnTo>
                      <a:lnTo>
                        <a:pt x="612" y="475"/>
                      </a:lnTo>
                      <a:lnTo>
                        <a:pt x="625" y="446"/>
                      </a:lnTo>
                      <a:lnTo>
                        <a:pt x="584" y="460"/>
                      </a:lnTo>
                      <a:lnTo>
                        <a:pt x="573" y="462"/>
                      </a:lnTo>
                      <a:lnTo>
                        <a:pt x="570" y="462"/>
                      </a:lnTo>
                      <a:lnTo>
                        <a:pt x="567" y="463"/>
                      </a:lnTo>
                      <a:lnTo>
                        <a:pt x="563" y="466"/>
                      </a:lnTo>
                      <a:lnTo>
                        <a:pt x="542" y="471"/>
                      </a:lnTo>
                      <a:lnTo>
                        <a:pt x="520" y="475"/>
                      </a:lnTo>
                      <a:lnTo>
                        <a:pt x="508" y="476"/>
                      </a:lnTo>
                      <a:lnTo>
                        <a:pt x="498" y="478"/>
                      </a:lnTo>
                      <a:lnTo>
                        <a:pt x="476" y="479"/>
                      </a:lnTo>
                      <a:lnTo>
                        <a:pt x="464" y="479"/>
                      </a:lnTo>
                      <a:lnTo>
                        <a:pt x="459" y="479"/>
                      </a:lnTo>
                      <a:lnTo>
                        <a:pt x="454" y="480"/>
                      </a:lnTo>
                      <a:lnTo>
                        <a:pt x="409" y="478"/>
                      </a:lnTo>
                      <a:lnTo>
                        <a:pt x="367" y="472"/>
                      </a:lnTo>
                      <a:lnTo>
                        <a:pt x="326" y="462"/>
                      </a:lnTo>
                      <a:lnTo>
                        <a:pt x="287" y="449"/>
                      </a:lnTo>
                      <a:lnTo>
                        <a:pt x="249" y="431"/>
                      </a:lnTo>
                      <a:lnTo>
                        <a:pt x="214" y="409"/>
                      </a:lnTo>
                      <a:lnTo>
                        <a:pt x="180" y="383"/>
                      </a:lnTo>
                      <a:lnTo>
                        <a:pt x="148" y="353"/>
                      </a:lnTo>
                      <a:lnTo>
                        <a:pt x="117" y="321"/>
                      </a:lnTo>
                      <a:lnTo>
                        <a:pt x="92" y="287"/>
                      </a:lnTo>
                      <a:lnTo>
                        <a:pt x="70" y="250"/>
                      </a:lnTo>
                      <a:lnTo>
                        <a:pt x="53" y="213"/>
                      </a:lnTo>
                      <a:lnTo>
                        <a:pt x="38" y="173"/>
                      </a:lnTo>
                      <a:lnTo>
                        <a:pt x="32" y="153"/>
                      </a:lnTo>
                      <a:lnTo>
                        <a:pt x="29" y="133"/>
                      </a:lnTo>
                      <a:lnTo>
                        <a:pt x="23" y="92"/>
                      </a:lnTo>
                      <a:lnTo>
                        <a:pt x="22" y="48"/>
                      </a:lnTo>
                      <a:lnTo>
                        <a:pt x="22" y="22"/>
                      </a:lnTo>
                      <a:lnTo>
                        <a:pt x="24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735240" y="3399120"/>
                  <a:ext cx="175320" cy="142560"/>
                </a:xfrm>
                <a:custGeom>
                  <a:avLst/>
                  <a:gdLst/>
                  <a:ahLst/>
                  <a:rect l="l" t="t" r="r" b="b"/>
                  <a:pathLst>
                    <a:path w="615" h="500">
                      <a:moveTo>
                        <a:pt x="22" y="68"/>
                      </a:moveTo>
                      <a:lnTo>
                        <a:pt x="23" y="33"/>
                      </a:lnTo>
                      <a:lnTo>
                        <a:pt x="26" y="0"/>
                      </a:lnTo>
                      <a:lnTo>
                        <a:pt x="2" y="20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1" y="112"/>
                      </a:lnTo>
                      <a:lnTo>
                        <a:pt x="7" y="153"/>
                      </a:lnTo>
                      <a:lnTo>
                        <a:pt x="10" y="173"/>
                      </a:lnTo>
                      <a:lnTo>
                        <a:pt x="16" y="193"/>
                      </a:lnTo>
                      <a:lnTo>
                        <a:pt x="31" y="233"/>
                      </a:lnTo>
                      <a:lnTo>
                        <a:pt x="48" y="270"/>
                      </a:lnTo>
                      <a:lnTo>
                        <a:pt x="70" y="307"/>
                      </a:lnTo>
                      <a:lnTo>
                        <a:pt x="95" y="341"/>
                      </a:lnTo>
                      <a:lnTo>
                        <a:pt x="126" y="373"/>
                      </a:lnTo>
                      <a:lnTo>
                        <a:pt x="158" y="403"/>
                      </a:lnTo>
                      <a:lnTo>
                        <a:pt x="192" y="429"/>
                      </a:lnTo>
                      <a:lnTo>
                        <a:pt x="227" y="451"/>
                      </a:lnTo>
                      <a:lnTo>
                        <a:pt x="265" y="469"/>
                      </a:lnTo>
                      <a:lnTo>
                        <a:pt x="304" y="482"/>
                      </a:lnTo>
                      <a:lnTo>
                        <a:pt x="345" y="492"/>
                      </a:lnTo>
                      <a:lnTo>
                        <a:pt x="387" y="498"/>
                      </a:lnTo>
                      <a:lnTo>
                        <a:pt x="432" y="500"/>
                      </a:lnTo>
                      <a:lnTo>
                        <a:pt x="437" y="499"/>
                      </a:lnTo>
                      <a:lnTo>
                        <a:pt x="442" y="499"/>
                      </a:lnTo>
                      <a:lnTo>
                        <a:pt x="454" y="499"/>
                      </a:lnTo>
                      <a:lnTo>
                        <a:pt x="476" y="498"/>
                      </a:lnTo>
                      <a:lnTo>
                        <a:pt x="486" y="496"/>
                      </a:lnTo>
                      <a:lnTo>
                        <a:pt x="498" y="495"/>
                      </a:lnTo>
                      <a:lnTo>
                        <a:pt x="520" y="491"/>
                      </a:lnTo>
                      <a:lnTo>
                        <a:pt x="541" y="486"/>
                      </a:lnTo>
                      <a:lnTo>
                        <a:pt x="545" y="483"/>
                      </a:lnTo>
                      <a:lnTo>
                        <a:pt x="548" y="482"/>
                      </a:lnTo>
                      <a:lnTo>
                        <a:pt x="551" y="482"/>
                      </a:lnTo>
                      <a:lnTo>
                        <a:pt x="562" y="480"/>
                      </a:lnTo>
                      <a:lnTo>
                        <a:pt x="603" y="466"/>
                      </a:lnTo>
                      <a:lnTo>
                        <a:pt x="615" y="437"/>
                      </a:lnTo>
                      <a:lnTo>
                        <a:pt x="592" y="446"/>
                      </a:lnTo>
                      <a:lnTo>
                        <a:pt x="571" y="454"/>
                      </a:lnTo>
                      <a:lnTo>
                        <a:pt x="549" y="461"/>
                      </a:lnTo>
                      <a:lnTo>
                        <a:pt x="527" y="468"/>
                      </a:lnTo>
                      <a:lnTo>
                        <a:pt x="503" y="472"/>
                      </a:lnTo>
                      <a:lnTo>
                        <a:pt x="481" y="475"/>
                      </a:lnTo>
                      <a:lnTo>
                        <a:pt x="456" y="478"/>
                      </a:lnTo>
                      <a:lnTo>
                        <a:pt x="443" y="478"/>
                      </a:lnTo>
                      <a:lnTo>
                        <a:pt x="432" y="479"/>
                      </a:lnTo>
                      <a:lnTo>
                        <a:pt x="389" y="477"/>
                      </a:lnTo>
                      <a:lnTo>
                        <a:pt x="349" y="471"/>
                      </a:lnTo>
                      <a:lnTo>
                        <a:pt x="311" y="461"/>
                      </a:lnTo>
                      <a:lnTo>
                        <a:pt x="274" y="448"/>
                      </a:lnTo>
                      <a:lnTo>
                        <a:pt x="238" y="430"/>
                      </a:lnTo>
                      <a:lnTo>
                        <a:pt x="204" y="410"/>
                      </a:lnTo>
                      <a:lnTo>
                        <a:pt x="171" y="385"/>
                      </a:lnTo>
                      <a:lnTo>
                        <a:pt x="142" y="358"/>
                      </a:lnTo>
                      <a:lnTo>
                        <a:pt x="112" y="326"/>
                      </a:lnTo>
                      <a:lnTo>
                        <a:pt x="88" y="294"/>
                      </a:lnTo>
                      <a:lnTo>
                        <a:pt x="67" y="260"/>
                      </a:lnTo>
                      <a:lnTo>
                        <a:pt x="58" y="242"/>
                      </a:lnTo>
                      <a:lnTo>
                        <a:pt x="51" y="225"/>
                      </a:lnTo>
                      <a:lnTo>
                        <a:pt x="43" y="206"/>
                      </a:lnTo>
                      <a:lnTo>
                        <a:pt x="37" y="187"/>
                      </a:lnTo>
                      <a:lnTo>
                        <a:pt x="28" y="149"/>
                      </a:lnTo>
                      <a:lnTo>
                        <a:pt x="23" y="109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741000" y="3394440"/>
                  <a:ext cx="172080" cy="141120"/>
                </a:xfrm>
                <a:custGeom>
                  <a:avLst/>
                  <a:gdLst/>
                  <a:ahLst/>
                  <a:rect l="l" t="t" r="r" b="b"/>
                  <a:pathLst>
                    <a:path w="600" h="496">
                      <a:moveTo>
                        <a:pt x="4" y="17"/>
                      </a:moveTo>
                      <a:lnTo>
                        <a:pt x="1" y="50"/>
                      </a:lnTo>
                      <a:lnTo>
                        <a:pt x="0" y="85"/>
                      </a:lnTo>
                      <a:lnTo>
                        <a:pt x="1" y="126"/>
                      </a:lnTo>
                      <a:lnTo>
                        <a:pt x="6" y="166"/>
                      </a:lnTo>
                      <a:lnTo>
                        <a:pt x="15" y="204"/>
                      </a:lnTo>
                      <a:lnTo>
                        <a:pt x="21" y="223"/>
                      </a:lnTo>
                      <a:lnTo>
                        <a:pt x="29" y="242"/>
                      </a:lnTo>
                      <a:lnTo>
                        <a:pt x="36" y="259"/>
                      </a:lnTo>
                      <a:lnTo>
                        <a:pt x="45" y="277"/>
                      </a:lnTo>
                      <a:lnTo>
                        <a:pt x="66" y="311"/>
                      </a:lnTo>
                      <a:lnTo>
                        <a:pt x="90" y="343"/>
                      </a:lnTo>
                      <a:lnTo>
                        <a:pt x="120" y="375"/>
                      </a:lnTo>
                      <a:lnTo>
                        <a:pt x="149" y="402"/>
                      </a:lnTo>
                      <a:lnTo>
                        <a:pt x="182" y="427"/>
                      </a:lnTo>
                      <a:lnTo>
                        <a:pt x="216" y="447"/>
                      </a:lnTo>
                      <a:lnTo>
                        <a:pt x="252" y="465"/>
                      </a:lnTo>
                      <a:lnTo>
                        <a:pt x="289" y="478"/>
                      </a:lnTo>
                      <a:lnTo>
                        <a:pt x="327" y="488"/>
                      </a:lnTo>
                      <a:lnTo>
                        <a:pt x="367" y="494"/>
                      </a:lnTo>
                      <a:lnTo>
                        <a:pt x="410" y="496"/>
                      </a:lnTo>
                      <a:lnTo>
                        <a:pt x="421" y="495"/>
                      </a:lnTo>
                      <a:lnTo>
                        <a:pt x="434" y="495"/>
                      </a:lnTo>
                      <a:lnTo>
                        <a:pt x="459" y="492"/>
                      </a:lnTo>
                      <a:lnTo>
                        <a:pt x="481" y="489"/>
                      </a:lnTo>
                      <a:lnTo>
                        <a:pt x="505" y="485"/>
                      </a:lnTo>
                      <a:lnTo>
                        <a:pt x="527" y="478"/>
                      </a:lnTo>
                      <a:lnTo>
                        <a:pt x="549" y="471"/>
                      </a:lnTo>
                      <a:lnTo>
                        <a:pt x="570" y="463"/>
                      </a:lnTo>
                      <a:lnTo>
                        <a:pt x="593" y="454"/>
                      </a:lnTo>
                      <a:lnTo>
                        <a:pt x="600" y="424"/>
                      </a:lnTo>
                      <a:lnTo>
                        <a:pt x="578" y="435"/>
                      </a:lnTo>
                      <a:lnTo>
                        <a:pt x="566" y="439"/>
                      </a:lnTo>
                      <a:lnTo>
                        <a:pt x="561" y="441"/>
                      </a:lnTo>
                      <a:lnTo>
                        <a:pt x="556" y="445"/>
                      </a:lnTo>
                      <a:lnTo>
                        <a:pt x="549" y="446"/>
                      </a:lnTo>
                      <a:lnTo>
                        <a:pt x="544" y="448"/>
                      </a:lnTo>
                      <a:lnTo>
                        <a:pt x="532" y="453"/>
                      </a:lnTo>
                      <a:lnTo>
                        <a:pt x="510" y="461"/>
                      </a:lnTo>
                      <a:lnTo>
                        <a:pt x="485" y="465"/>
                      </a:lnTo>
                      <a:lnTo>
                        <a:pt x="461" y="470"/>
                      </a:lnTo>
                      <a:lnTo>
                        <a:pt x="435" y="472"/>
                      </a:lnTo>
                      <a:lnTo>
                        <a:pt x="410" y="473"/>
                      </a:lnTo>
                      <a:lnTo>
                        <a:pt x="369" y="471"/>
                      </a:lnTo>
                      <a:lnTo>
                        <a:pt x="332" y="465"/>
                      </a:lnTo>
                      <a:lnTo>
                        <a:pt x="294" y="456"/>
                      </a:lnTo>
                      <a:lnTo>
                        <a:pt x="260" y="445"/>
                      </a:lnTo>
                      <a:lnTo>
                        <a:pt x="225" y="428"/>
                      </a:lnTo>
                      <a:lnTo>
                        <a:pt x="193" y="409"/>
                      </a:lnTo>
                      <a:lnTo>
                        <a:pt x="163" y="386"/>
                      </a:lnTo>
                      <a:lnTo>
                        <a:pt x="134" y="360"/>
                      </a:lnTo>
                      <a:lnTo>
                        <a:pt x="107" y="330"/>
                      </a:lnTo>
                      <a:lnTo>
                        <a:pt x="95" y="314"/>
                      </a:lnTo>
                      <a:lnTo>
                        <a:pt x="85" y="300"/>
                      </a:lnTo>
                      <a:lnTo>
                        <a:pt x="73" y="283"/>
                      </a:lnTo>
                      <a:lnTo>
                        <a:pt x="64" y="267"/>
                      </a:lnTo>
                      <a:lnTo>
                        <a:pt x="49" y="234"/>
                      </a:lnTo>
                      <a:lnTo>
                        <a:pt x="42" y="216"/>
                      </a:lnTo>
                      <a:lnTo>
                        <a:pt x="36" y="199"/>
                      </a:lnTo>
                      <a:lnTo>
                        <a:pt x="28" y="163"/>
                      </a:lnTo>
                      <a:lnTo>
                        <a:pt x="22" y="124"/>
                      </a:lnTo>
                      <a:lnTo>
                        <a:pt x="21" y="85"/>
                      </a:lnTo>
                      <a:lnTo>
                        <a:pt x="23" y="41"/>
                      </a:lnTo>
                      <a:lnTo>
                        <a:pt x="26" y="20"/>
                      </a:lnTo>
                      <a:lnTo>
                        <a:pt x="30" y="0"/>
                      </a:lnTo>
                      <a:lnTo>
                        <a:pt x="4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753600" y="338652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9">
                      <a:moveTo>
                        <a:pt x="12" y="13"/>
                      </a:moveTo>
                      <a:lnTo>
                        <a:pt x="5" y="35"/>
                      </a:lnTo>
                      <a:lnTo>
                        <a:pt x="2" y="60"/>
                      </a:lnTo>
                      <a:lnTo>
                        <a:pt x="0" y="85"/>
                      </a:lnTo>
                      <a:lnTo>
                        <a:pt x="0" y="112"/>
                      </a:lnTo>
                      <a:lnTo>
                        <a:pt x="1" y="149"/>
                      </a:lnTo>
                      <a:lnTo>
                        <a:pt x="5" y="185"/>
                      </a:lnTo>
                      <a:lnTo>
                        <a:pt x="13" y="219"/>
                      </a:lnTo>
                      <a:lnTo>
                        <a:pt x="26" y="253"/>
                      </a:lnTo>
                      <a:lnTo>
                        <a:pt x="40" y="284"/>
                      </a:lnTo>
                      <a:lnTo>
                        <a:pt x="60" y="314"/>
                      </a:lnTo>
                      <a:lnTo>
                        <a:pt x="81" y="344"/>
                      </a:lnTo>
                      <a:lnTo>
                        <a:pt x="107" y="372"/>
                      </a:lnTo>
                      <a:lnTo>
                        <a:pt x="133" y="396"/>
                      </a:lnTo>
                      <a:lnTo>
                        <a:pt x="163" y="417"/>
                      </a:lnTo>
                      <a:lnTo>
                        <a:pt x="192" y="436"/>
                      </a:lnTo>
                      <a:lnTo>
                        <a:pt x="225" y="451"/>
                      </a:lnTo>
                      <a:lnTo>
                        <a:pt x="258" y="463"/>
                      </a:lnTo>
                      <a:lnTo>
                        <a:pt x="293" y="472"/>
                      </a:lnTo>
                      <a:lnTo>
                        <a:pt x="328" y="476"/>
                      </a:lnTo>
                      <a:lnTo>
                        <a:pt x="367" y="479"/>
                      </a:lnTo>
                      <a:lnTo>
                        <a:pt x="369" y="478"/>
                      </a:lnTo>
                      <a:lnTo>
                        <a:pt x="373" y="478"/>
                      </a:lnTo>
                      <a:lnTo>
                        <a:pt x="379" y="478"/>
                      </a:lnTo>
                      <a:lnTo>
                        <a:pt x="393" y="478"/>
                      </a:lnTo>
                      <a:lnTo>
                        <a:pt x="406" y="475"/>
                      </a:lnTo>
                      <a:lnTo>
                        <a:pt x="419" y="474"/>
                      </a:lnTo>
                      <a:lnTo>
                        <a:pt x="444" y="470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0" y="464"/>
                      </a:lnTo>
                      <a:lnTo>
                        <a:pt x="482" y="459"/>
                      </a:lnTo>
                      <a:lnTo>
                        <a:pt x="487" y="457"/>
                      </a:lnTo>
                      <a:lnTo>
                        <a:pt x="494" y="456"/>
                      </a:lnTo>
                      <a:lnTo>
                        <a:pt x="518" y="447"/>
                      </a:lnTo>
                      <a:lnTo>
                        <a:pt x="540" y="436"/>
                      </a:lnTo>
                      <a:lnTo>
                        <a:pt x="563" y="423"/>
                      </a:lnTo>
                      <a:lnTo>
                        <a:pt x="568" y="394"/>
                      </a:lnTo>
                      <a:lnTo>
                        <a:pt x="555" y="400"/>
                      </a:lnTo>
                      <a:lnTo>
                        <a:pt x="544" y="408"/>
                      </a:lnTo>
                      <a:lnTo>
                        <a:pt x="521" y="421"/>
                      </a:lnTo>
                      <a:lnTo>
                        <a:pt x="509" y="425"/>
                      </a:lnTo>
                      <a:lnTo>
                        <a:pt x="497" y="431"/>
                      </a:lnTo>
                      <a:lnTo>
                        <a:pt x="485" y="436"/>
                      </a:lnTo>
                      <a:lnTo>
                        <a:pt x="474" y="441"/>
                      </a:lnTo>
                      <a:lnTo>
                        <a:pt x="447" y="448"/>
                      </a:lnTo>
                      <a:lnTo>
                        <a:pt x="434" y="450"/>
                      </a:lnTo>
                      <a:lnTo>
                        <a:pt x="427" y="451"/>
                      </a:lnTo>
                      <a:lnTo>
                        <a:pt x="421" y="454"/>
                      </a:lnTo>
                      <a:lnTo>
                        <a:pt x="394" y="457"/>
                      </a:lnTo>
                      <a:lnTo>
                        <a:pt x="367" y="458"/>
                      </a:lnTo>
                      <a:lnTo>
                        <a:pt x="331" y="456"/>
                      </a:lnTo>
                      <a:lnTo>
                        <a:pt x="297" y="451"/>
                      </a:lnTo>
                      <a:lnTo>
                        <a:pt x="264" y="442"/>
                      </a:lnTo>
                      <a:lnTo>
                        <a:pt x="233" y="432"/>
                      </a:lnTo>
                      <a:lnTo>
                        <a:pt x="203" y="417"/>
                      </a:lnTo>
                      <a:lnTo>
                        <a:pt x="174" y="400"/>
                      </a:lnTo>
                      <a:lnTo>
                        <a:pt x="147" y="379"/>
                      </a:lnTo>
                      <a:lnTo>
                        <a:pt x="122" y="356"/>
                      </a:lnTo>
                      <a:lnTo>
                        <a:pt x="97" y="329"/>
                      </a:lnTo>
                      <a:lnTo>
                        <a:pt x="77" y="302"/>
                      </a:lnTo>
                      <a:lnTo>
                        <a:pt x="60" y="273"/>
                      </a:lnTo>
                      <a:lnTo>
                        <a:pt x="46" y="244"/>
                      </a:lnTo>
                      <a:lnTo>
                        <a:pt x="35" y="212"/>
                      </a:lnTo>
                      <a:lnTo>
                        <a:pt x="27" y="180"/>
                      </a:lnTo>
                      <a:lnTo>
                        <a:pt x="22" y="146"/>
                      </a:lnTo>
                      <a:lnTo>
                        <a:pt x="21" y="112"/>
                      </a:lnTo>
                      <a:lnTo>
                        <a:pt x="22" y="82"/>
                      </a:lnTo>
                      <a:lnTo>
                        <a:pt x="26" y="53"/>
                      </a:lnTo>
                      <a:lnTo>
                        <a:pt x="31" y="26"/>
                      </a:lnTo>
                      <a:lnTo>
                        <a:pt x="39" y="0"/>
                      </a:lnTo>
                      <a:lnTo>
                        <a:pt x="12" y="1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759720" y="3383640"/>
                  <a:ext cx="155880" cy="133560"/>
                </a:xfrm>
                <a:custGeom>
                  <a:avLst/>
                  <a:gdLst/>
                  <a:ahLst/>
                  <a:rect l="l" t="t" r="r" b="b"/>
                  <a:pathLst>
                    <a:path w="548" h="468">
                      <a:moveTo>
                        <a:pt x="44" y="0"/>
                      </a:moveTo>
                      <a:lnTo>
                        <a:pt x="18" y="10"/>
                      </a:lnTo>
                      <a:lnTo>
                        <a:pt x="10" y="36"/>
                      </a:lnTo>
                      <a:lnTo>
                        <a:pt x="5" y="63"/>
                      </a:lnTo>
                      <a:lnTo>
                        <a:pt x="1" y="92"/>
                      </a:lnTo>
                      <a:lnTo>
                        <a:pt x="0" y="122"/>
                      </a:lnTo>
                      <a:lnTo>
                        <a:pt x="1" y="156"/>
                      </a:lnTo>
                      <a:lnTo>
                        <a:pt x="6" y="190"/>
                      </a:lnTo>
                      <a:lnTo>
                        <a:pt x="14" y="222"/>
                      </a:lnTo>
                      <a:lnTo>
                        <a:pt x="25" y="254"/>
                      </a:lnTo>
                      <a:lnTo>
                        <a:pt x="39" y="283"/>
                      </a:lnTo>
                      <a:lnTo>
                        <a:pt x="56" y="312"/>
                      </a:lnTo>
                      <a:lnTo>
                        <a:pt x="76" y="339"/>
                      </a:lnTo>
                      <a:lnTo>
                        <a:pt x="101" y="366"/>
                      </a:lnTo>
                      <a:lnTo>
                        <a:pt x="126" y="389"/>
                      </a:lnTo>
                      <a:lnTo>
                        <a:pt x="153" y="410"/>
                      </a:lnTo>
                      <a:lnTo>
                        <a:pt x="182" y="427"/>
                      </a:lnTo>
                      <a:lnTo>
                        <a:pt x="212" y="442"/>
                      </a:lnTo>
                      <a:lnTo>
                        <a:pt x="243" y="452"/>
                      </a:lnTo>
                      <a:lnTo>
                        <a:pt x="276" y="461"/>
                      </a:lnTo>
                      <a:lnTo>
                        <a:pt x="310" y="466"/>
                      </a:lnTo>
                      <a:lnTo>
                        <a:pt x="346" y="468"/>
                      </a:lnTo>
                      <a:lnTo>
                        <a:pt x="373" y="467"/>
                      </a:lnTo>
                      <a:lnTo>
                        <a:pt x="400" y="464"/>
                      </a:lnTo>
                      <a:lnTo>
                        <a:pt x="406" y="461"/>
                      </a:lnTo>
                      <a:lnTo>
                        <a:pt x="413" y="460"/>
                      </a:lnTo>
                      <a:lnTo>
                        <a:pt x="426" y="458"/>
                      </a:lnTo>
                      <a:lnTo>
                        <a:pt x="453" y="451"/>
                      </a:lnTo>
                      <a:lnTo>
                        <a:pt x="464" y="446"/>
                      </a:lnTo>
                      <a:lnTo>
                        <a:pt x="476" y="441"/>
                      </a:lnTo>
                      <a:lnTo>
                        <a:pt x="488" y="435"/>
                      </a:lnTo>
                      <a:lnTo>
                        <a:pt x="500" y="431"/>
                      </a:lnTo>
                      <a:lnTo>
                        <a:pt x="523" y="418"/>
                      </a:lnTo>
                      <a:lnTo>
                        <a:pt x="534" y="410"/>
                      </a:lnTo>
                      <a:lnTo>
                        <a:pt x="547" y="404"/>
                      </a:lnTo>
                      <a:lnTo>
                        <a:pt x="547" y="389"/>
                      </a:lnTo>
                      <a:lnTo>
                        <a:pt x="548" y="375"/>
                      </a:lnTo>
                      <a:lnTo>
                        <a:pt x="525" y="390"/>
                      </a:lnTo>
                      <a:lnTo>
                        <a:pt x="502" y="405"/>
                      </a:lnTo>
                      <a:lnTo>
                        <a:pt x="478" y="417"/>
                      </a:lnTo>
                      <a:lnTo>
                        <a:pt x="465" y="422"/>
                      </a:lnTo>
                      <a:lnTo>
                        <a:pt x="454" y="427"/>
                      </a:lnTo>
                      <a:lnTo>
                        <a:pt x="440" y="431"/>
                      </a:lnTo>
                      <a:lnTo>
                        <a:pt x="428" y="435"/>
                      </a:lnTo>
                      <a:lnTo>
                        <a:pt x="414" y="438"/>
                      </a:lnTo>
                      <a:lnTo>
                        <a:pt x="407" y="439"/>
                      </a:lnTo>
                      <a:lnTo>
                        <a:pt x="402" y="441"/>
                      </a:lnTo>
                      <a:lnTo>
                        <a:pt x="394" y="441"/>
                      </a:lnTo>
                      <a:lnTo>
                        <a:pt x="387" y="442"/>
                      </a:lnTo>
                      <a:lnTo>
                        <a:pt x="373" y="444"/>
                      </a:lnTo>
                      <a:lnTo>
                        <a:pt x="346" y="446"/>
                      </a:lnTo>
                      <a:lnTo>
                        <a:pt x="312" y="443"/>
                      </a:lnTo>
                      <a:lnTo>
                        <a:pt x="280" y="439"/>
                      </a:lnTo>
                      <a:lnTo>
                        <a:pt x="248" y="431"/>
                      </a:lnTo>
                      <a:lnTo>
                        <a:pt x="220" y="422"/>
                      </a:lnTo>
                      <a:lnTo>
                        <a:pt x="192" y="407"/>
                      </a:lnTo>
                      <a:lnTo>
                        <a:pt x="166" y="391"/>
                      </a:lnTo>
                      <a:lnTo>
                        <a:pt x="140" y="372"/>
                      </a:lnTo>
                      <a:lnTo>
                        <a:pt x="117" y="351"/>
                      </a:lnTo>
                      <a:lnTo>
                        <a:pt x="94" y="327"/>
                      </a:lnTo>
                      <a:lnTo>
                        <a:pt x="75" y="300"/>
                      </a:lnTo>
                      <a:lnTo>
                        <a:pt x="58" y="273"/>
                      </a:lnTo>
                      <a:lnTo>
                        <a:pt x="46" y="246"/>
                      </a:lnTo>
                      <a:lnTo>
                        <a:pt x="34" y="217"/>
                      </a:lnTo>
                      <a:lnTo>
                        <a:pt x="30" y="201"/>
                      </a:lnTo>
                      <a:lnTo>
                        <a:pt x="27" y="186"/>
                      </a:lnTo>
                      <a:lnTo>
                        <a:pt x="23" y="154"/>
                      </a:lnTo>
                      <a:lnTo>
                        <a:pt x="22" y="122"/>
                      </a:lnTo>
                      <a:lnTo>
                        <a:pt x="23" y="90"/>
                      </a:lnTo>
                      <a:lnTo>
                        <a:pt x="27" y="59"/>
                      </a:lnTo>
                      <a:lnTo>
                        <a:pt x="34" y="2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778080" y="337896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8">
                      <a:moveTo>
                        <a:pt x="21" y="138"/>
                      </a:moveTo>
                      <a:lnTo>
                        <a:pt x="24" y="100"/>
                      </a:lnTo>
                      <a:lnTo>
                        <a:pt x="30" y="65"/>
                      </a:lnTo>
                      <a:lnTo>
                        <a:pt x="42" y="31"/>
                      </a:lnTo>
                      <a:lnTo>
                        <a:pt x="60" y="0"/>
                      </a:lnTo>
                      <a:lnTo>
                        <a:pt x="34" y="4"/>
                      </a:lnTo>
                      <a:lnTo>
                        <a:pt x="18" y="34"/>
                      </a:lnTo>
                      <a:lnTo>
                        <a:pt x="8" y="67"/>
                      </a:lnTo>
                      <a:lnTo>
                        <a:pt x="1" y="101"/>
                      </a:lnTo>
                      <a:lnTo>
                        <a:pt x="0" y="138"/>
                      </a:lnTo>
                      <a:lnTo>
                        <a:pt x="1" y="166"/>
                      </a:lnTo>
                      <a:lnTo>
                        <a:pt x="4" y="193"/>
                      </a:lnTo>
                      <a:lnTo>
                        <a:pt x="10" y="219"/>
                      </a:lnTo>
                      <a:lnTo>
                        <a:pt x="20" y="245"/>
                      </a:lnTo>
                      <a:lnTo>
                        <a:pt x="30" y="269"/>
                      </a:lnTo>
                      <a:lnTo>
                        <a:pt x="45" y="293"/>
                      </a:lnTo>
                      <a:lnTo>
                        <a:pt x="62" y="314"/>
                      </a:lnTo>
                      <a:lnTo>
                        <a:pt x="83" y="337"/>
                      </a:lnTo>
                      <a:lnTo>
                        <a:pt x="103" y="355"/>
                      </a:lnTo>
                      <a:lnTo>
                        <a:pt x="125" y="372"/>
                      </a:lnTo>
                      <a:lnTo>
                        <a:pt x="147" y="386"/>
                      </a:lnTo>
                      <a:lnTo>
                        <a:pt x="172" y="398"/>
                      </a:lnTo>
                      <a:lnTo>
                        <a:pt x="197" y="406"/>
                      </a:lnTo>
                      <a:lnTo>
                        <a:pt x="224" y="413"/>
                      </a:lnTo>
                      <a:lnTo>
                        <a:pt x="252" y="416"/>
                      </a:lnTo>
                      <a:lnTo>
                        <a:pt x="281" y="418"/>
                      </a:lnTo>
                      <a:lnTo>
                        <a:pt x="308" y="416"/>
                      </a:lnTo>
                      <a:lnTo>
                        <a:pt x="335" y="413"/>
                      </a:lnTo>
                      <a:lnTo>
                        <a:pt x="341" y="411"/>
                      </a:lnTo>
                      <a:lnTo>
                        <a:pt x="348" y="409"/>
                      </a:lnTo>
                      <a:lnTo>
                        <a:pt x="361" y="406"/>
                      </a:lnTo>
                      <a:lnTo>
                        <a:pt x="374" y="401"/>
                      </a:lnTo>
                      <a:lnTo>
                        <a:pt x="388" y="398"/>
                      </a:lnTo>
                      <a:lnTo>
                        <a:pt x="399" y="391"/>
                      </a:lnTo>
                      <a:lnTo>
                        <a:pt x="401" y="389"/>
                      </a:lnTo>
                      <a:lnTo>
                        <a:pt x="402" y="388"/>
                      </a:lnTo>
                      <a:lnTo>
                        <a:pt x="405" y="388"/>
                      </a:lnTo>
                      <a:lnTo>
                        <a:pt x="411" y="386"/>
                      </a:lnTo>
                      <a:lnTo>
                        <a:pt x="423" y="379"/>
                      </a:lnTo>
                      <a:lnTo>
                        <a:pt x="435" y="372"/>
                      </a:lnTo>
                      <a:lnTo>
                        <a:pt x="445" y="363"/>
                      </a:lnTo>
                      <a:lnTo>
                        <a:pt x="457" y="355"/>
                      </a:lnTo>
                      <a:lnTo>
                        <a:pt x="479" y="337"/>
                      </a:lnTo>
                      <a:lnTo>
                        <a:pt x="481" y="335"/>
                      </a:lnTo>
                      <a:lnTo>
                        <a:pt x="476" y="308"/>
                      </a:lnTo>
                      <a:lnTo>
                        <a:pt x="469" y="314"/>
                      </a:lnTo>
                      <a:lnTo>
                        <a:pt x="464" y="321"/>
                      </a:lnTo>
                      <a:lnTo>
                        <a:pt x="443" y="338"/>
                      </a:lnTo>
                      <a:lnTo>
                        <a:pt x="423" y="353"/>
                      </a:lnTo>
                      <a:lnTo>
                        <a:pt x="411" y="358"/>
                      </a:lnTo>
                      <a:lnTo>
                        <a:pt x="401" y="365"/>
                      </a:lnTo>
                      <a:lnTo>
                        <a:pt x="390" y="371"/>
                      </a:lnTo>
                      <a:lnTo>
                        <a:pt x="380" y="378"/>
                      </a:lnTo>
                      <a:lnTo>
                        <a:pt x="373" y="379"/>
                      </a:lnTo>
                      <a:lnTo>
                        <a:pt x="367" y="381"/>
                      </a:lnTo>
                      <a:lnTo>
                        <a:pt x="356" y="386"/>
                      </a:lnTo>
                      <a:lnTo>
                        <a:pt x="343" y="388"/>
                      </a:lnTo>
                      <a:lnTo>
                        <a:pt x="332" y="391"/>
                      </a:lnTo>
                      <a:lnTo>
                        <a:pt x="318" y="392"/>
                      </a:lnTo>
                      <a:lnTo>
                        <a:pt x="306" y="395"/>
                      </a:lnTo>
                      <a:lnTo>
                        <a:pt x="281" y="397"/>
                      </a:lnTo>
                      <a:lnTo>
                        <a:pt x="254" y="395"/>
                      </a:lnTo>
                      <a:lnTo>
                        <a:pt x="228" y="391"/>
                      </a:lnTo>
                      <a:lnTo>
                        <a:pt x="203" y="386"/>
                      </a:lnTo>
                      <a:lnTo>
                        <a:pt x="180" y="378"/>
                      </a:lnTo>
                      <a:lnTo>
                        <a:pt x="157" y="365"/>
                      </a:lnTo>
                      <a:lnTo>
                        <a:pt x="136" y="353"/>
                      </a:lnTo>
                      <a:lnTo>
                        <a:pt x="115" y="338"/>
                      </a:lnTo>
                      <a:lnTo>
                        <a:pt x="97" y="321"/>
                      </a:lnTo>
                      <a:lnTo>
                        <a:pt x="78" y="301"/>
                      </a:lnTo>
                      <a:lnTo>
                        <a:pt x="63" y="280"/>
                      </a:lnTo>
                      <a:lnTo>
                        <a:pt x="55" y="269"/>
                      </a:lnTo>
                      <a:lnTo>
                        <a:pt x="50" y="259"/>
                      </a:lnTo>
                      <a:lnTo>
                        <a:pt x="39" y="237"/>
                      </a:lnTo>
                      <a:lnTo>
                        <a:pt x="32" y="213"/>
                      </a:lnTo>
                      <a:lnTo>
                        <a:pt x="26" y="189"/>
                      </a:lnTo>
                      <a:lnTo>
                        <a:pt x="22" y="163"/>
                      </a:lnTo>
                      <a:lnTo>
                        <a:pt x="21" y="138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84560" y="3378600"/>
                  <a:ext cx="129600" cy="113400"/>
                </a:xfrm>
                <a:custGeom>
                  <a:avLst/>
                  <a:gdLst/>
                  <a:ahLst/>
                  <a:rect l="l" t="t" r="r" b="b"/>
                  <a:pathLst>
                    <a:path w="455" h="398">
                      <a:moveTo>
                        <a:pt x="39" y="1"/>
                      </a:moveTo>
                      <a:lnTo>
                        <a:pt x="21" y="32"/>
                      </a:lnTo>
                      <a:lnTo>
                        <a:pt x="9" y="66"/>
                      </a:lnTo>
                      <a:lnTo>
                        <a:pt x="3" y="101"/>
                      </a:lnTo>
                      <a:lnTo>
                        <a:pt x="0" y="139"/>
                      </a:lnTo>
                      <a:lnTo>
                        <a:pt x="1" y="164"/>
                      </a:lnTo>
                      <a:lnTo>
                        <a:pt x="5" y="190"/>
                      </a:lnTo>
                      <a:lnTo>
                        <a:pt x="11" y="214"/>
                      </a:lnTo>
                      <a:lnTo>
                        <a:pt x="18" y="238"/>
                      </a:lnTo>
                      <a:lnTo>
                        <a:pt x="29" y="260"/>
                      </a:lnTo>
                      <a:lnTo>
                        <a:pt x="34" y="270"/>
                      </a:lnTo>
                      <a:lnTo>
                        <a:pt x="42" y="281"/>
                      </a:lnTo>
                      <a:lnTo>
                        <a:pt x="57" y="302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5" y="354"/>
                      </a:lnTo>
                      <a:lnTo>
                        <a:pt x="136" y="366"/>
                      </a:lnTo>
                      <a:lnTo>
                        <a:pt x="159" y="379"/>
                      </a:lnTo>
                      <a:lnTo>
                        <a:pt x="182" y="387"/>
                      </a:lnTo>
                      <a:lnTo>
                        <a:pt x="207" y="392"/>
                      </a:lnTo>
                      <a:lnTo>
                        <a:pt x="233" y="396"/>
                      </a:lnTo>
                      <a:lnTo>
                        <a:pt x="260" y="398"/>
                      </a:lnTo>
                      <a:lnTo>
                        <a:pt x="285" y="396"/>
                      </a:lnTo>
                      <a:lnTo>
                        <a:pt x="297" y="393"/>
                      </a:lnTo>
                      <a:lnTo>
                        <a:pt x="311" y="392"/>
                      </a:lnTo>
                      <a:lnTo>
                        <a:pt x="322" y="389"/>
                      </a:lnTo>
                      <a:lnTo>
                        <a:pt x="335" y="387"/>
                      </a:lnTo>
                      <a:lnTo>
                        <a:pt x="346" y="382"/>
                      </a:lnTo>
                      <a:lnTo>
                        <a:pt x="352" y="380"/>
                      </a:lnTo>
                      <a:lnTo>
                        <a:pt x="359" y="379"/>
                      </a:lnTo>
                      <a:lnTo>
                        <a:pt x="369" y="372"/>
                      </a:lnTo>
                      <a:lnTo>
                        <a:pt x="380" y="366"/>
                      </a:lnTo>
                      <a:lnTo>
                        <a:pt x="390" y="359"/>
                      </a:lnTo>
                      <a:lnTo>
                        <a:pt x="402" y="354"/>
                      </a:lnTo>
                      <a:lnTo>
                        <a:pt x="422" y="339"/>
                      </a:lnTo>
                      <a:lnTo>
                        <a:pt x="443" y="322"/>
                      </a:lnTo>
                      <a:lnTo>
                        <a:pt x="448" y="315"/>
                      </a:lnTo>
                      <a:lnTo>
                        <a:pt x="455" y="309"/>
                      </a:lnTo>
                      <a:lnTo>
                        <a:pt x="449" y="282"/>
                      </a:lnTo>
                      <a:lnTo>
                        <a:pt x="438" y="295"/>
                      </a:lnTo>
                      <a:lnTo>
                        <a:pt x="435" y="297"/>
                      </a:lnTo>
                      <a:lnTo>
                        <a:pt x="432" y="300"/>
                      </a:lnTo>
                      <a:lnTo>
                        <a:pt x="428" y="307"/>
                      </a:lnTo>
                      <a:lnTo>
                        <a:pt x="418" y="314"/>
                      </a:lnTo>
                      <a:lnTo>
                        <a:pt x="409" y="322"/>
                      </a:lnTo>
                      <a:lnTo>
                        <a:pt x="390" y="337"/>
                      </a:lnTo>
                      <a:lnTo>
                        <a:pt x="370" y="348"/>
                      </a:lnTo>
                      <a:lnTo>
                        <a:pt x="360" y="353"/>
                      </a:lnTo>
                      <a:lnTo>
                        <a:pt x="351" y="358"/>
                      </a:lnTo>
                      <a:lnTo>
                        <a:pt x="328" y="366"/>
                      </a:lnTo>
                      <a:lnTo>
                        <a:pt x="317" y="368"/>
                      </a:lnTo>
                      <a:lnTo>
                        <a:pt x="313" y="368"/>
                      </a:lnTo>
                      <a:lnTo>
                        <a:pt x="311" y="370"/>
                      </a:lnTo>
                      <a:lnTo>
                        <a:pt x="306" y="372"/>
                      </a:lnTo>
                      <a:lnTo>
                        <a:pt x="300" y="372"/>
                      </a:lnTo>
                      <a:lnTo>
                        <a:pt x="296" y="372"/>
                      </a:lnTo>
                      <a:lnTo>
                        <a:pt x="294" y="373"/>
                      </a:lnTo>
                      <a:lnTo>
                        <a:pt x="283" y="375"/>
                      </a:lnTo>
                      <a:lnTo>
                        <a:pt x="260" y="376"/>
                      </a:lnTo>
                      <a:lnTo>
                        <a:pt x="235" y="375"/>
                      </a:lnTo>
                      <a:lnTo>
                        <a:pt x="211" y="372"/>
                      </a:lnTo>
                      <a:lnTo>
                        <a:pt x="189" y="366"/>
                      </a:lnTo>
                      <a:lnTo>
                        <a:pt x="168" y="358"/>
                      </a:lnTo>
                      <a:lnTo>
                        <a:pt x="147" y="348"/>
                      </a:lnTo>
                      <a:lnTo>
                        <a:pt x="127" y="337"/>
                      </a:lnTo>
                      <a:lnTo>
                        <a:pt x="108" y="322"/>
                      </a:lnTo>
                      <a:lnTo>
                        <a:pt x="91" y="307"/>
                      </a:lnTo>
                      <a:lnTo>
                        <a:pt x="74" y="288"/>
                      </a:lnTo>
                      <a:lnTo>
                        <a:pt x="59" y="270"/>
                      </a:lnTo>
                      <a:lnTo>
                        <a:pt x="47" y="249"/>
                      </a:lnTo>
                      <a:lnTo>
                        <a:pt x="39" y="230"/>
                      </a:lnTo>
                      <a:lnTo>
                        <a:pt x="31" y="207"/>
                      </a:lnTo>
                      <a:lnTo>
                        <a:pt x="25" y="186"/>
                      </a:lnTo>
                      <a:lnTo>
                        <a:pt x="22" y="162"/>
                      </a:lnTo>
                      <a:lnTo>
                        <a:pt x="22" y="139"/>
                      </a:lnTo>
                      <a:lnTo>
                        <a:pt x="24" y="100"/>
                      </a:lnTo>
                      <a:lnTo>
                        <a:pt x="32" y="65"/>
                      </a:lnTo>
                      <a:lnTo>
                        <a:pt x="38" y="46"/>
                      </a:lnTo>
                      <a:lnTo>
                        <a:pt x="46" y="31"/>
                      </a:lnTo>
                      <a:lnTo>
                        <a:pt x="66" y="0"/>
                      </a:lnTo>
                      <a:lnTo>
                        <a:pt x="39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771960" y="3380400"/>
                  <a:ext cx="144000" cy="124560"/>
                </a:xfrm>
                <a:custGeom>
                  <a:avLst/>
                  <a:gdLst/>
                  <a:ahLst/>
                  <a:rect l="l" t="t" r="r" b="b"/>
                  <a:pathLst>
                    <a:path w="505" h="436">
                      <a:moveTo>
                        <a:pt x="22" y="134"/>
                      </a:moveTo>
                      <a:lnTo>
                        <a:pt x="23" y="97"/>
                      </a:lnTo>
                      <a:lnTo>
                        <a:pt x="30" y="63"/>
                      </a:lnTo>
                      <a:lnTo>
                        <a:pt x="40" y="30"/>
                      </a:lnTo>
                      <a:lnTo>
                        <a:pt x="56" y="0"/>
                      </a:lnTo>
                      <a:lnTo>
                        <a:pt x="27" y="5"/>
                      </a:lnTo>
                      <a:lnTo>
                        <a:pt x="15" y="35"/>
                      </a:lnTo>
                      <a:lnTo>
                        <a:pt x="7" y="66"/>
                      </a:lnTo>
                      <a:lnTo>
                        <a:pt x="1" y="99"/>
                      </a:lnTo>
                      <a:lnTo>
                        <a:pt x="0" y="134"/>
                      </a:lnTo>
                      <a:lnTo>
                        <a:pt x="1" y="164"/>
                      </a:lnTo>
                      <a:lnTo>
                        <a:pt x="5" y="193"/>
                      </a:lnTo>
                      <a:lnTo>
                        <a:pt x="7" y="207"/>
                      </a:lnTo>
                      <a:lnTo>
                        <a:pt x="12" y="222"/>
                      </a:lnTo>
                      <a:lnTo>
                        <a:pt x="22" y="250"/>
                      </a:lnTo>
                      <a:lnTo>
                        <a:pt x="34" y="275"/>
                      </a:lnTo>
                      <a:lnTo>
                        <a:pt x="49" y="300"/>
                      </a:lnTo>
                      <a:lnTo>
                        <a:pt x="57" y="311"/>
                      </a:lnTo>
                      <a:lnTo>
                        <a:pt x="67" y="324"/>
                      </a:lnTo>
                      <a:lnTo>
                        <a:pt x="89" y="348"/>
                      </a:lnTo>
                      <a:lnTo>
                        <a:pt x="110" y="367"/>
                      </a:lnTo>
                      <a:lnTo>
                        <a:pt x="134" y="385"/>
                      </a:lnTo>
                      <a:lnTo>
                        <a:pt x="159" y="400"/>
                      </a:lnTo>
                      <a:lnTo>
                        <a:pt x="186" y="413"/>
                      </a:lnTo>
                      <a:lnTo>
                        <a:pt x="212" y="422"/>
                      </a:lnTo>
                      <a:lnTo>
                        <a:pt x="242" y="430"/>
                      </a:lnTo>
                      <a:lnTo>
                        <a:pt x="271" y="434"/>
                      </a:lnTo>
                      <a:lnTo>
                        <a:pt x="303" y="436"/>
                      </a:lnTo>
                      <a:lnTo>
                        <a:pt x="330" y="434"/>
                      </a:lnTo>
                      <a:lnTo>
                        <a:pt x="344" y="431"/>
                      </a:lnTo>
                      <a:lnTo>
                        <a:pt x="351" y="430"/>
                      </a:lnTo>
                      <a:lnTo>
                        <a:pt x="359" y="430"/>
                      </a:lnTo>
                      <a:lnTo>
                        <a:pt x="364" y="428"/>
                      </a:lnTo>
                      <a:lnTo>
                        <a:pt x="371" y="427"/>
                      </a:lnTo>
                      <a:lnTo>
                        <a:pt x="385" y="425"/>
                      </a:lnTo>
                      <a:lnTo>
                        <a:pt x="397" y="420"/>
                      </a:lnTo>
                      <a:lnTo>
                        <a:pt x="411" y="417"/>
                      </a:lnTo>
                      <a:lnTo>
                        <a:pt x="422" y="410"/>
                      </a:lnTo>
                      <a:lnTo>
                        <a:pt x="424" y="408"/>
                      </a:lnTo>
                      <a:lnTo>
                        <a:pt x="425" y="407"/>
                      </a:lnTo>
                      <a:lnTo>
                        <a:pt x="428" y="407"/>
                      </a:lnTo>
                      <a:lnTo>
                        <a:pt x="435" y="404"/>
                      </a:lnTo>
                      <a:lnTo>
                        <a:pt x="459" y="392"/>
                      </a:lnTo>
                      <a:lnTo>
                        <a:pt x="482" y="376"/>
                      </a:lnTo>
                      <a:lnTo>
                        <a:pt x="505" y="359"/>
                      </a:lnTo>
                      <a:lnTo>
                        <a:pt x="503" y="331"/>
                      </a:lnTo>
                      <a:lnTo>
                        <a:pt x="501" y="333"/>
                      </a:lnTo>
                      <a:lnTo>
                        <a:pt x="479" y="351"/>
                      </a:lnTo>
                      <a:lnTo>
                        <a:pt x="467" y="359"/>
                      </a:lnTo>
                      <a:lnTo>
                        <a:pt x="457" y="368"/>
                      </a:lnTo>
                      <a:lnTo>
                        <a:pt x="445" y="375"/>
                      </a:lnTo>
                      <a:lnTo>
                        <a:pt x="433" y="382"/>
                      </a:lnTo>
                      <a:lnTo>
                        <a:pt x="427" y="384"/>
                      </a:lnTo>
                      <a:lnTo>
                        <a:pt x="424" y="384"/>
                      </a:lnTo>
                      <a:lnTo>
                        <a:pt x="423" y="385"/>
                      </a:lnTo>
                      <a:lnTo>
                        <a:pt x="421" y="387"/>
                      </a:lnTo>
                      <a:lnTo>
                        <a:pt x="410" y="394"/>
                      </a:lnTo>
                      <a:lnTo>
                        <a:pt x="396" y="397"/>
                      </a:lnTo>
                      <a:lnTo>
                        <a:pt x="383" y="402"/>
                      </a:lnTo>
                      <a:lnTo>
                        <a:pt x="370" y="405"/>
                      </a:lnTo>
                      <a:lnTo>
                        <a:pt x="363" y="407"/>
                      </a:lnTo>
                      <a:lnTo>
                        <a:pt x="357" y="409"/>
                      </a:lnTo>
                      <a:lnTo>
                        <a:pt x="330" y="412"/>
                      </a:lnTo>
                      <a:lnTo>
                        <a:pt x="303" y="414"/>
                      </a:lnTo>
                      <a:lnTo>
                        <a:pt x="274" y="412"/>
                      </a:lnTo>
                      <a:lnTo>
                        <a:pt x="246" y="409"/>
                      </a:lnTo>
                      <a:lnTo>
                        <a:pt x="219" y="402"/>
                      </a:lnTo>
                      <a:lnTo>
                        <a:pt x="194" y="394"/>
                      </a:lnTo>
                      <a:lnTo>
                        <a:pt x="169" y="382"/>
                      </a:lnTo>
                      <a:lnTo>
                        <a:pt x="147" y="368"/>
                      </a:lnTo>
                      <a:lnTo>
                        <a:pt x="125" y="351"/>
                      </a:lnTo>
                      <a:lnTo>
                        <a:pt x="105" y="333"/>
                      </a:lnTo>
                      <a:lnTo>
                        <a:pt x="84" y="310"/>
                      </a:lnTo>
                      <a:lnTo>
                        <a:pt x="67" y="289"/>
                      </a:lnTo>
                      <a:lnTo>
                        <a:pt x="52" y="265"/>
                      </a:lnTo>
                      <a:lnTo>
                        <a:pt x="42" y="241"/>
                      </a:lnTo>
                      <a:lnTo>
                        <a:pt x="32" y="215"/>
                      </a:lnTo>
                      <a:lnTo>
                        <a:pt x="26" y="189"/>
                      </a:lnTo>
                      <a:lnTo>
                        <a:pt x="23" y="162"/>
                      </a:lnTo>
                      <a:lnTo>
                        <a:pt x="22" y="134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765480" y="3381840"/>
                  <a:ext cx="150120" cy="128880"/>
                </a:xfrm>
                <a:custGeom>
                  <a:avLst/>
                  <a:gdLst/>
                  <a:ahLst/>
                  <a:rect l="l" t="t" r="r" b="b"/>
                  <a:pathLst>
                    <a:path w="526" h="453">
                      <a:moveTo>
                        <a:pt x="21" y="129"/>
                      </a:moveTo>
                      <a:lnTo>
                        <a:pt x="22" y="94"/>
                      </a:lnTo>
                      <a:lnTo>
                        <a:pt x="28" y="61"/>
                      </a:lnTo>
                      <a:lnTo>
                        <a:pt x="36" y="30"/>
                      </a:lnTo>
                      <a:lnTo>
                        <a:pt x="48" y="0"/>
                      </a:lnTo>
                      <a:lnTo>
                        <a:pt x="22" y="7"/>
                      </a:lnTo>
                      <a:lnTo>
                        <a:pt x="12" y="35"/>
                      </a:lnTo>
                      <a:lnTo>
                        <a:pt x="5" y="66"/>
                      </a:lnTo>
                      <a:lnTo>
                        <a:pt x="1" y="97"/>
                      </a:lnTo>
                      <a:lnTo>
                        <a:pt x="0" y="129"/>
                      </a:lnTo>
                      <a:lnTo>
                        <a:pt x="1" y="161"/>
                      </a:lnTo>
                      <a:lnTo>
                        <a:pt x="5" y="193"/>
                      </a:lnTo>
                      <a:lnTo>
                        <a:pt x="8" y="208"/>
                      </a:lnTo>
                      <a:lnTo>
                        <a:pt x="12" y="224"/>
                      </a:lnTo>
                      <a:lnTo>
                        <a:pt x="24" y="253"/>
                      </a:lnTo>
                      <a:lnTo>
                        <a:pt x="36" y="280"/>
                      </a:lnTo>
                      <a:lnTo>
                        <a:pt x="53" y="307"/>
                      </a:lnTo>
                      <a:lnTo>
                        <a:pt x="72" y="334"/>
                      </a:lnTo>
                      <a:lnTo>
                        <a:pt x="95" y="358"/>
                      </a:lnTo>
                      <a:lnTo>
                        <a:pt x="118" y="379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8" y="429"/>
                      </a:lnTo>
                      <a:lnTo>
                        <a:pt x="226" y="438"/>
                      </a:lnTo>
                      <a:lnTo>
                        <a:pt x="258" y="446"/>
                      </a:lnTo>
                      <a:lnTo>
                        <a:pt x="290" y="450"/>
                      </a:lnTo>
                      <a:lnTo>
                        <a:pt x="324" y="453"/>
                      </a:lnTo>
                      <a:lnTo>
                        <a:pt x="351" y="451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80" y="448"/>
                      </a:lnTo>
                      <a:lnTo>
                        <a:pt x="385" y="446"/>
                      </a:lnTo>
                      <a:lnTo>
                        <a:pt x="392" y="445"/>
                      </a:lnTo>
                      <a:lnTo>
                        <a:pt x="406" y="442"/>
                      </a:lnTo>
                      <a:lnTo>
                        <a:pt x="418" y="438"/>
                      </a:lnTo>
                      <a:lnTo>
                        <a:pt x="432" y="434"/>
                      </a:lnTo>
                      <a:lnTo>
                        <a:pt x="443" y="429"/>
                      </a:lnTo>
                      <a:lnTo>
                        <a:pt x="456" y="424"/>
                      </a:lnTo>
                      <a:lnTo>
                        <a:pt x="480" y="412"/>
                      </a:lnTo>
                      <a:lnTo>
                        <a:pt x="503" y="397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4"/>
                      </a:lnTo>
                      <a:lnTo>
                        <a:pt x="503" y="371"/>
                      </a:lnTo>
                      <a:lnTo>
                        <a:pt x="480" y="387"/>
                      </a:lnTo>
                      <a:lnTo>
                        <a:pt x="456" y="399"/>
                      </a:lnTo>
                      <a:lnTo>
                        <a:pt x="449" y="402"/>
                      </a:lnTo>
                      <a:lnTo>
                        <a:pt x="446" y="402"/>
                      </a:lnTo>
                      <a:lnTo>
                        <a:pt x="445" y="403"/>
                      </a:lnTo>
                      <a:lnTo>
                        <a:pt x="443" y="405"/>
                      </a:lnTo>
                      <a:lnTo>
                        <a:pt x="432" y="412"/>
                      </a:lnTo>
                      <a:lnTo>
                        <a:pt x="418" y="415"/>
                      </a:lnTo>
                      <a:lnTo>
                        <a:pt x="406" y="420"/>
                      </a:lnTo>
                      <a:lnTo>
                        <a:pt x="392" y="422"/>
                      </a:lnTo>
                      <a:lnTo>
                        <a:pt x="385" y="423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5" y="426"/>
                      </a:lnTo>
                      <a:lnTo>
                        <a:pt x="351" y="429"/>
                      </a:lnTo>
                      <a:lnTo>
                        <a:pt x="324" y="431"/>
                      </a:lnTo>
                      <a:lnTo>
                        <a:pt x="292" y="429"/>
                      </a:lnTo>
                      <a:lnTo>
                        <a:pt x="263" y="425"/>
                      </a:lnTo>
                      <a:lnTo>
                        <a:pt x="233" y="417"/>
                      </a:lnTo>
                      <a:lnTo>
                        <a:pt x="207" y="408"/>
                      </a:lnTo>
                      <a:lnTo>
                        <a:pt x="180" y="395"/>
                      </a:lnTo>
                      <a:lnTo>
                        <a:pt x="155" y="380"/>
                      </a:lnTo>
                      <a:lnTo>
                        <a:pt x="131" y="362"/>
                      </a:lnTo>
                      <a:lnTo>
                        <a:pt x="110" y="343"/>
                      </a:lnTo>
                      <a:lnTo>
                        <a:pt x="88" y="319"/>
                      </a:lnTo>
                      <a:lnTo>
                        <a:pt x="78" y="306"/>
                      </a:lnTo>
                      <a:lnTo>
                        <a:pt x="70" y="295"/>
                      </a:lnTo>
                      <a:lnTo>
                        <a:pt x="55" y="270"/>
                      </a:lnTo>
                      <a:lnTo>
                        <a:pt x="43" y="245"/>
                      </a:lnTo>
                      <a:lnTo>
                        <a:pt x="33" y="217"/>
                      </a:lnTo>
                      <a:lnTo>
                        <a:pt x="28" y="202"/>
                      </a:lnTo>
                      <a:lnTo>
                        <a:pt x="26" y="188"/>
                      </a:lnTo>
                      <a:lnTo>
                        <a:pt x="22" y="159"/>
                      </a:lnTo>
                      <a:lnTo>
                        <a:pt x="21" y="129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697080" y="348192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4" h="397">
                      <a:moveTo>
                        <a:pt x="0" y="22"/>
                      </a:moveTo>
                      <a:lnTo>
                        <a:pt x="1" y="54"/>
                      </a:lnTo>
                      <a:lnTo>
                        <a:pt x="24" y="97"/>
                      </a:lnTo>
                      <a:lnTo>
                        <a:pt x="54" y="140"/>
                      </a:lnTo>
                      <a:lnTo>
                        <a:pt x="85" y="181"/>
                      </a:lnTo>
                      <a:lnTo>
                        <a:pt x="123" y="221"/>
                      </a:lnTo>
                      <a:lnTo>
                        <a:pt x="159" y="255"/>
                      </a:lnTo>
                      <a:lnTo>
                        <a:pt x="199" y="286"/>
                      </a:lnTo>
                      <a:lnTo>
                        <a:pt x="239" y="314"/>
                      </a:lnTo>
                      <a:lnTo>
                        <a:pt x="283" y="339"/>
                      </a:lnTo>
                      <a:lnTo>
                        <a:pt x="326" y="358"/>
                      </a:lnTo>
                      <a:lnTo>
                        <a:pt x="372" y="375"/>
                      </a:lnTo>
                      <a:lnTo>
                        <a:pt x="420" y="387"/>
                      </a:lnTo>
                      <a:lnTo>
                        <a:pt x="470" y="397"/>
                      </a:lnTo>
                      <a:lnTo>
                        <a:pt x="497" y="390"/>
                      </a:lnTo>
                      <a:lnTo>
                        <a:pt x="524" y="382"/>
                      </a:lnTo>
                      <a:lnTo>
                        <a:pt x="468" y="375"/>
                      </a:lnTo>
                      <a:lnTo>
                        <a:pt x="441" y="370"/>
                      </a:lnTo>
                      <a:lnTo>
                        <a:pt x="415" y="365"/>
                      </a:lnTo>
                      <a:lnTo>
                        <a:pt x="364" y="349"/>
                      </a:lnTo>
                      <a:lnTo>
                        <a:pt x="315" y="331"/>
                      </a:lnTo>
                      <a:lnTo>
                        <a:pt x="267" y="306"/>
                      </a:lnTo>
                      <a:lnTo>
                        <a:pt x="222" y="276"/>
                      </a:lnTo>
                      <a:lnTo>
                        <a:pt x="178" y="242"/>
                      </a:lnTo>
                      <a:lnTo>
                        <a:pt x="139" y="206"/>
                      </a:lnTo>
                      <a:lnTo>
                        <a:pt x="115" y="181"/>
                      </a:lnTo>
                      <a:lnTo>
                        <a:pt x="93" y="157"/>
                      </a:lnTo>
                      <a:lnTo>
                        <a:pt x="73" y="131"/>
                      </a:lnTo>
                      <a:lnTo>
                        <a:pt x="56" y="106"/>
                      </a:lnTo>
                      <a:lnTo>
                        <a:pt x="39" y="79"/>
                      </a:lnTo>
                      <a:lnTo>
                        <a:pt x="24" y="53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697080" y="3467160"/>
                  <a:ext cx="161640" cy="123840"/>
                </a:xfrm>
                <a:custGeom>
                  <a:avLst/>
                  <a:gdLst/>
                  <a:ahLst/>
                  <a:rect l="l" t="t" r="r" b="b"/>
                  <a:pathLst>
                    <a:path w="567" h="434">
                      <a:moveTo>
                        <a:pt x="7" y="0"/>
                      </a:moveTo>
                      <a:lnTo>
                        <a:pt x="1" y="25"/>
                      </a:lnTo>
                      <a:lnTo>
                        <a:pt x="0" y="52"/>
                      </a:lnTo>
                      <a:lnTo>
                        <a:pt x="10" y="78"/>
                      </a:lnTo>
                      <a:lnTo>
                        <a:pt x="24" y="105"/>
                      </a:lnTo>
                      <a:lnTo>
                        <a:pt x="39" y="131"/>
                      </a:lnTo>
                      <a:lnTo>
                        <a:pt x="56" y="158"/>
                      </a:lnTo>
                      <a:lnTo>
                        <a:pt x="73" y="183"/>
                      </a:lnTo>
                      <a:lnTo>
                        <a:pt x="93" y="209"/>
                      </a:lnTo>
                      <a:lnTo>
                        <a:pt x="115" y="233"/>
                      </a:lnTo>
                      <a:lnTo>
                        <a:pt x="139" y="258"/>
                      </a:lnTo>
                      <a:lnTo>
                        <a:pt x="178" y="294"/>
                      </a:lnTo>
                      <a:lnTo>
                        <a:pt x="222" y="328"/>
                      </a:lnTo>
                      <a:lnTo>
                        <a:pt x="267" y="358"/>
                      </a:lnTo>
                      <a:lnTo>
                        <a:pt x="315" y="383"/>
                      </a:lnTo>
                      <a:lnTo>
                        <a:pt x="364" y="401"/>
                      </a:lnTo>
                      <a:lnTo>
                        <a:pt x="415" y="417"/>
                      </a:lnTo>
                      <a:lnTo>
                        <a:pt x="441" y="422"/>
                      </a:lnTo>
                      <a:lnTo>
                        <a:pt x="468" y="427"/>
                      </a:lnTo>
                      <a:lnTo>
                        <a:pt x="524" y="434"/>
                      </a:lnTo>
                      <a:lnTo>
                        <a:pt x="567" y="413"/>
                      </a:lnTo>
                      <a:lnTo>
                        <a:pt x="566" y="413"/>
                      </a:lnTo>
                      <a:lnTo>
                        <a:pt x="535" y="412"/>
                      </a:lnTo>
                      <a:lnTo>
                        <a:pt x="506" y="410"/>
                      </a:lnTo>
                      <a:lnTo>
                        <a:pt x="476" y="406"/>
                      </a:lnTo>
                      <a:lnTo>
                        <a:pt x="448" y="402"/>
                      </a:lnTo>
                      <a:lnTo>
                        <a:pt x="393" y="388"/>
                      </a:lnTo>
                      <a:lnTo>
                        <a:pt x="341" y="370"/>
                      </a:lnTo>
                      <a:lnTo>
                        <a:pt x="290" y="345"/>
                      </a:lnTo>
                      <a:lnTo>
                        <a:pt x="242" y="316"/>
                      </a:lnTo>
                      <a:lnTo>
                        <a:pt x="218" y="299"/>
                      </a:lnTo>
                      <a:lnTo>
                        <a:pt x="195" y="281"/>
                      </a:lnTo>
                      <a:lnTo>
                        <a:pt x="153" y="242"/>
                      </a:lnTo>
                      <a:lnTo>
                        <a:pt x="127" y="214"/>
                      </a:lnTo>
                      <a:lnTo>
                        <a:pt x="103" y="186"/>
                      </a:lnTo>
                      <a:lnTo>
                        <a:pt x="82" y="157"/>
                      </a:lnTo>
                      <a:lnTo>
                        <a:pt x="63" y="127"/>
                      </a:lnTo>
                      <a:lnTo>
                        <a:pt x="44" y="96"/>
                      </a:lnTo>
                      <a:lnTo>
                        <a:pt x="30" y="65"/>
                      </a:lnTo>
                      <a:lnTo>
                        <a:pt x="17" y="3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8520" y="3454560"/>
                  <a:ext cx="170280" cy="130680"/>
                </a:xfrm>
                <a:custGeom>
                  <a:avLst/>
                  <a:gdLst/>
                  <a:ahLst/>
                  <a:rect l="l" t="t" r="r" b="b"/>
                  <a:pathLst>
                    <a:path w="596" h="457">
                      <a:moveTo>
                        <a:pt x="10" y="0"/>
                      </a:moveTo>
                      <a:lnTo>
                        <a:pt x="0" y="44"/>
                      </a:lnTo>
                      <a:lnTo>
                        <a:pt x="10" y="76"/>
                      </a:lnTo>
                      <a:lnTo>
                        <a:pt x="23" y="109"/>
                      </a:lnTo>
                      <a:lnTo>
                        <a:pt x="37" y="140"/>
                      </a:lnTo>
                      <a:lnTo>
                        <a:pt x="56" y="171"/>
                      </a:lnTo>
                      <a:lnTo>
                        <a:pt x="75" y="201"/>
                      </a:lnTo>
                      <a:lnTo>
                        <a:pt x="96" y="230"/>
                      </a:lnTo>
                      <a:lnTo>
                        <a:pt x="120" y="258"/>
                      </a:lnTo>
                      <a:lnTo>
                        <a:pt x="146" y="286"/>
                      </a:lnTo>
                      <a:lnTo>
                        <a:pt x="188" y="325"/>
                      </a:lnTo>
                      <a:lnTo>
                        <a:pt x="211" y="343"/>
                      </a:lnTo>
                      <a:lnTo>
                        <a:pt x="235" y="360"/>
                      </a:lnTo>
                      <a:lnTo>
                        <a:pt x="283" y="389"/>
                      </a:lnTo>
                      <a:lnTo>
                        <a:pt x="334" y="414"/>
                      </a:lnTo>
                      <a:lnTo>
                        <a:pt x="386" y="432"/>
                      </a:lnTo>
                      <a:lnTo>
                        <a:pt x="441" y="446"/>
                      </a:lnTo>
                      <a:lnTo>
                        <a:pt x="469" y="450"/>
                      </a:lnTo>
                      <a:lnTo>
                        <a:pt x="499" y="454"/>
                      </a:lnTo>
                      <a:lnTo>
                        <a:pt x="528" y="456"/>
                      </a:lnTo>
                      <a:lnTo>
                        <a:pt x="559" y="457"/>
                      </a:lnTo>
                      <a:lnTo>
                        <a:pt x="560" y="457"/>
                      </a:lnTo>
                      <a:lnTo>
                        <a:pt x="596" y="435"/>
                      </a:lnTo>
                      <a:lnTo>
                        <a:pt x="559" y="436"/>
                      </a:lnTo>
                      <a:lnTo>
                        <a:pt x="530" y="435"/>
                      </a:lnTo>
                      <a:lnTo>
                        <a:pt x="501" y="432"/>
                      </a:lnTo>
                      <a:lnTo>
                        <a:pt x="473" y="429"/>
                      </a:lnTo>
                      <a:lnTo>
                        <a:pt x="446" y="424"/>
                      </a:lnTo>
                      <a:lnTo>
                        <a:pt x="392" y="411"/>
                      </a:lnTo>
                      <a:lnTo>
                        <a:pt x="367" y="403"/>
                      </a:lnTo>
                      <a:lnTo>
                        <a:pt x="342" y="394"/>
                      </a:lnTo>
                      <a:lnTo>
                        <a:pt x="317" y="382"/>
                      </a:lnTo>
                      <a:lnTo>
                        <a:pt x="294" y="370"/>
                      </a:lnTo>
                      <a:lnTo>
                        <a:pt x="247" y="343"/>
                      </a:lnTo>
                      <a:lnTo>
                        <a:pt x="203" y="309"/>
                      </a:lnTo>
                      <a:lnTo>
                        <a:pt x="181" y="291"/>
                      </a:lnTo>
                      <a:lnTo>
                        <a:pt x="161" y="271"/>
                      </a:lnTo>
                      <a:lnTo>
                        <a:pt x="133" y="241"/>
                      </a:lnTo>
                      <a:lnTo>
                        <a:pt x="107" y="210"/>
                      </a:lnTo>
                      <a:lnTo>
                        <a:pt x="94" y="193"/>
                      </a:lnTo>
                      <a:lnTo>
                        <a:pt x="84" y="177"/>
                      </a:lnTo>
                      <a:lnTo>
                        <a:pt x="65" y="144"/>
                      </a:lnTo>
                      <a:lnTo>
                        <a:pt x="54" y="126"/>
                      </a:lnTo>
                      <a:lnTo>
                        <a:pt x="47" y="109"/>
                      </a:lnTo>
                      <a:lnTo>
                        <a:pt x="32" y="74"/>
                      </a:lnTo>
                      <a:lnTo>
                        <a:pt x="19" y="3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01400" y="3443760"/>
                  <a:ext cx="176760" cy="135360"/>
                </a:xfrm>
                <a:custGeom>
                  <a:avLst/>
                  <a:gdLst/>
                  <a:ahLst/>
                  <a:rect l="l" t="t" r="r" b="b"/>
                  <a:pathLst>
                    <a:path w="617" h="474">
                      <a:moveTo>
                        <a:pt x="15" y="0"/>
                      </a:moveTo>
                      <a:lnTo>
                        <a:pt x="0" y="38"/>
                      </a:lnTo>
                      <a:lnTo>
                        <a:pt x="9" y="75"/>
                      </a:lnTo>
                      <a:lnTo>
                        <a:pt x="22" y="112"/>
                      </a:lnTo>
                      <a:lnTo>
                        <a:pt x="37" y="147"/>
                      </a:lnTo>
                      <a:lnTo>
                        <a:pt x="44" y="164"/>
                      </a:lnTo>
                      <a:lnTo>
                        <a:pt x="55" y="182"/>
                      </a:lnTo>
                      <a:lnTo>
                        <a:pt x="74" y="215"/>
                      </a:lnTo>
                      <a:lnTo>
                        <a:pt x="84" y="231"/>
                      </a:lnTo>
                      <a:lnTo>
                        <a:pt x="97" y="248"/>
                      </a:lnTo>
                      <a:lnTo>
                        <a:pt x="123" y="279"/>
                      </a:lnTo>
                      <a:lnTo>
                        <a:pt x="151" y="309"/>
                      </a:lnTo>
                      <a:lnTo>
                        <a:pt x="171" y="329"/>
                      </a:lnTo>
                      <a:lnTo>
                        <a:pt x="193" y="347"/>
                      </a:lnTo>
                      <a:lnTo>
                        <a:pt x="237" y="381"/>
                      </a:lnTo>
                      <a:lnTo>
                        <a:pt x="284" y="408"/>
                      </a:lnTo>
                      <a:lnTo>
                        <a:pt x="307" y="420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6" y="462"/>
                      </a:lnTo>
                      <a:lnTo>
                        <a:pt x="463" y="467"/>
                      </a:lnTo>
                      <a:lnTo>
                        <a:pt x="491" y="470"/>
                      </a:lnTo>
                      <a:lnTo>
                        <a:pt x="520" y="473"/>
                      </a:lnTo>
                      <a:lnTo>
                        <a:pt x="549" y="474"/>
                      </a:lnTo>
                      <a:lnTo>
                        <a:pt x="586" y="473"/>
                      </a:lnTo>
                      <a:lnTo>
                        <a:pt x="593" y="466"/>
                      </a:lnTo>
                      <a:lnTo>
                        <a:pt x="594" y="463"/>
                      </a:lnTo>
                      <a:lnTo>
                        <a:pt x="597" y="462"/>
                      </a:lnTo>
                      <a:lnTo>
                        <a:pt x="601" y="460"/>
                      </a:lnTo>
                      <a:lnTo>
                        <a:pt x="617" y="449"/>
                      </a:lnTo>
                      <a:lnTo>
                        <a:pt x="583" y="451"/>
                      </a:lnTo>
                      <a:lnTo>
                        <a:pt x="549" y="452"/>
                      </a:lnTo>
                      <a:lnTo>
                        <a:pt x="521" y="451"/>
                      </a:lnTo>
                      <a:lnTo>
                        <a:pt x="493" y="449"/>
                      </a:lnTo>
                      <a:lnTo>
                        <a:pt x="440" y="442"/>
                      </a:lnTo>
                      <a:lnTo>
                        <a:pt x="389" y="428"/>
                      </a:lnTo>
                      <a:lnTo>
                        <a:pt x="340" y="412"/>
                      </a:lnTo>
                      <a:lnTo>
                        <a:pt x="293" y="390"/>
                      </a:lnTo>
                      <a:lnTo>
                        <a:pt x="249" y="363"/>
                      </a:lnTo>
                      <a:lnTo>
                        <a:pt x="227" y="347"/>
                      </a:lnTo>
                      <a:lnTo>
                        <a:pt x="207" y="330"/>
                      </a:lnTo>
                      <a:lnTo>
                        <a:pt x="167" y="293"/>
                      </a:lnTo>
                      <a:lnTo>
                        <a:pt x="136" y="260"/>
                      </a:lnTo>
                      <a:lnTo>
                        <a:pt x="109" y="226"/>
                      </a:lnTo>
                      <a:lnTo>
                        <a:pt x="85" y="191"/>
                      </a:lnTo>
                      <a:lnTo>
                        <a:pt x="74" y="173"/>
                      </a:lnTo>
                      <a:lnTo>
                        <a:pt x="65" y="156"/>
                      </a:lnTo>
                      <a:lnTo>
                        <a:pt x="55" y="137"/>
                      </a:lnTo>
                      <a:lnTo>
                        <a:pt x="47" y="119"/>
                      </a:lnTo>
                      <a:lnTo>
                        <a:pt x="33" y="80"/>
                      </a:lnTo>
                      <a:lnTo>
                        <a:pt x="26" y="60"/>
                      </a:lnTo>
                      <a:lnTo>
                        <a:pt x="22" y="41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705360" y="3434040"/>
                  <a:ext cx="180000" cy="138600"/>
                </a:xfrm>
                <a:custGeom>
                  <a:avLst/>
                  <a:gdLst/>
                  <a:ahLst/>
                  <a:rect l="l" t="t" r="r" b="b"/>
                  <a:pathLst>
                    <a:path w="629" h="486">
                      <a:moveTo>
                        <a:pt x="18" y="0"/>
                      </a:moveTo>
                      <a:lnTo>
                        <a:pt x="0" y="34"/>
                      </a:lnTo>
                      <a:lnTo>
                        <a:pt x="7" y="75"/>
                      </a:lnTo>
                      <a:lnTo>
                        <a:pt x="11" y="94"/>
                      </a:lnTo>
                      <a:lnTo>
                        <a:pt x="18" y="114"/>
                      </a:lnTo>
                      <a:lnTo>
                        <a:pt x="32" y="153"/>
                      </a:lnTo>
                      <a:lnTo>
                        <a:pt x="40" y="171"/>
                      </a:lnTo>
                      <a:lnTo>
                        <a:pt x="50" y="190"/>
                      </a:lnTo>
                      <a:lnTo>
                        <a:pt x="59" y="207"/>
                      </a:lnTo>
                      <a:lnTo>
                        <a:pt x="70" y="225"/>
                      </a:lnTo>
                      <a:lnTo>
                        <a:pt x="94" y="260"/>
                      </a:lnTo>
                      <a:lnTo>
                        <a:pt x="121" y="294"/>
                      </a:lnTo>
                      <a:lnTo>
                        <a:pt x="152" y="327"/>
                      </a:lnTo>
                      <a:lnTo>
                        <a:pt x="192" y="364"/>
                      </a:lnTo>
                      <a:lnTo>
                        <a:pt x="212" y="381"/>
                      </a:lnTo>
                      <a:lnTo>
                        <a:pt x="234" y="397"/>
                      </a:lnTo>
                      <a:lnTo>
                        <a:pt x="278" y="424"/>
                      </a:lnTo>
                      <a:lnTo>
                        <a:pt x="325" y="446"/>
                      </a:lnTo>
                      <a:lnTo>
                        <a:pt x="374" y="462"/>
                      </a:lnTo>
                      <a:lnTo>
                        <a:pt x="425" y="476"/>
                      </a:lnTo>
                      <a:lnTo>
                        <a:pt x="478" y="483"/>
                      </a:lnTo>
                      <a:lnTo>
                        <a:pt x="506" y="485"/>
                      </a:lnTo>
                      <a:lnTo>
                        <a:pt x="534" y="486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4" y="462"/>
                      </a:lnTo>
                      <a:lnTo>
                        <a:pt x="629" y="457"/>
                      </a:lnTo>
                      <a:lnTo>
                        <a:pt x="582" y="462"/>
                      </a:lnTo>
                      <a:lnTo>
                        <a:pt x="534" y="465"/>
                      </a:lnTo>
                      <a:lnTo>
                        <a:pt x="507" y="463"/>
                      </a:lnTo>
                      <a:lnTo>
                        <a:pt x="481" y="461"/>
                      </a:lnTo>
                      <a:lnTo>
                        <a:pt x="430" y="454"/>
                      </a:lnTo>
                      <a:lnTo>
                        <a:pt x="405" y="449"/>
                      </a:lnTo>
                      <a:lnTo>
                        <a:pt x="381" y="442"/>
                      </a:lnTo>
                      <a:lnTo>
                        <a:pt x="334" y="426"/>
                      </a:lnTo>
                      <a:lnTo>
                        <a:pt x="288" y="403"/>
                      </a:lnTo>
                      <a:lnTo>
                        <a:pt x="246" y="378"/>
                      </a:lnTo>
                      <a:lnTo>
                        <a:pt x="204" y="347"/>
                      </a:lnTo>
                      <a:lnTo>
                        <a:pt x="167" y="313"/>
                      </a:lnTo>
                      <a:lnTo>
                        <a:pt x="150" y="294"/>
                      </a:lnTo>
                      <a:lnTo>
                        <a:pt x="135" y="277"/>
                      </a:lnTo>
                      <a:lnTo>
                        <a:pt x="120" y="259"/>
                      </a:lnTo>
                      <a:lnTo>
                        <a:pt x="108" y="242"/>
                      </a:lnTo>
                      <a:lnTo>
                        <a:pt x="94" y="223"/>
                      </a:lnTo>
                      <a:lnTo>
                        <a:pt x="83" y="205"/>
                      </a:lnTo>
                      <a:lnTo>
                        <a:pt x="63" y="168"/>
                      </a:lnTo>
                      <a:lnTo>
                        <a:pt x="45" y="127"/>
                      </a:lnTo>
                      <a:lnTo>
                        <a:pt x="33" y="86"/>
                      </a:lnTo>
                      <a:lnTo>
                        <a:pt x="23" y="4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11120" y="3425400"/>
                  <a:ext cx="181080" cy="140760"/>
                </a:xfrm>
                <a:custGeom>
                  <a:avLst/>
                  <a:gdLst/>
                  <a:ahLst/>
                  <a:rect l="l" t="t" r="r" b="b"/>
                  <a:pathLst>
                    <a:path w="635" h="496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5" y="74"/>
                      </a:lnTo>
                      <a:lnTo>
                        <a:pt x="15" y="117"/>
                      </a:lnTo>
                      <a:lnTo>
                        <a:pt x="27" y="158"/>
                      </a:lnTo>
                      <a:lnTo>
                        <a:pt x="45" y="199"/>
                      </a:lnTo>
                      <a:lnTo>
                        <a:pt x="65" y="236"/>
                      </a:lnTo>
                      <a:lnTo>
                        <a:pt x="76" y="254"/>
                      </a:lnTo>
                      <a:lnTo>
                        <a:pt x="90" y="273"/>
                      </a:lnTo>
                      <a:lnTo>
                        <a:pt x="102" y="290"/>
                      </a:lnTo>
                      <a:lnTo>
                        <a:pt x="117" y="308"/>
                      </a:lnTo>
                      <a:lnTo>
                        <a:pt x="132" y="325"/>
                      </a:lnTo>
                      <a:lnTo>
                        <a:pt x="149" y="344"/>
                      </a:lnTo>
                      <a:lnTo>
                        <a:pt x="186" y="378"/>
                      </a:lnTo>
                      <a:lnTo>
                        <a:pt x="228" y="409"/>
                      </a:lnTo>
                      <a:lnTo>
                        <a:pt x="270" y="434"/>
                      </a:lnTo>
                      <a:lnTo>
                        <a:pt x="316" y="457"/>
                      </a:lnTo>
                      <a:lnTo>
                        <a:pt x="363" y="473"/>
                      </a:lnTo>
                      <a:lnTo>
                        <a:pt x="387" y="480"/>
                      </a:lnTo>
                      <a:lnTo>
                        <a:pt x="412" y="485"/>
                      </a:lnTo>
                      <a:lnTo>
                        <a:pt x="463" y="492"/>
                      </a:lnTo>
                      <a:lnTo>
                        <a:pt x="489" y="494"/>
                      </a:lnTo>
                      <a:lnTo>
                        <a:pt x="516" y="496"/>
                      </a:lnTo>
                      <a:lnTo>
                        <a:pt x="564" y="493"/>
                      </a:lnTo>
                      <a:lnTo>
                        <a:pt x="611" y="488"/>
                      </a:lnTo>
                      <a:lnTo>
                        <a:pt x="635" y="460"/>
                      </a:lnTo>
                      <a:lnTo>
                        <a:pt x="606" y="466"/>
                      </a:lnTo>
                      <a:lnTo>
                        <a:pt x="576" y="471"/>
                      </a:lnTo>
                      <a:lnTo>
                        <a:pt x="545" y="473"/>
                      </a:lnTo>
                      <a:lnTo>
                        <a:pt x="516" y="474"/>
                      </a:lnTo>
                      <a:lnTo>
                        <a:pt x="465" y="472"/>
                      </a:lnTo>
                      <a:lnTo>
                        <a:pt x="416" y="465"/>
                      </a:lnTo>
                      <a:lnTo>
                        <a:pt x="369" y="454"/>
                      </a:lnTo>
                      <a:lnTo>
                        <a:pt x="324" y="438"/>
                      </a:lnTo>
                      <a:lnTo>
                        <a:pt x="280" y="417"/>
                      </a:lnTo>
                      <a:lnTo>
                        <a:pt x="240" y="392"/>
                      </a:lnTo>
                      <a:lnTo>
                        <a:pt x="201" y="363"/>
                      </a:lnTo>
                      <a:lnTo>
                        <a:pt x="165" y="329"/>
                      </a:lnTo>
                      <a:lnTo>
                        <a:pt x="130" y="293"/>
                      </a:lnTo>
                      <a:lnTo>
                        <a:pt x="116" y="273"/>
                      </a:lnTo>
                      <a:lnTo>
                        <a:pt x="103" y="255"/>
                      </a:lnTo>
                      <a:lnTo>
                        <a:pt x="78" y="217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1" y="92"/>
                      </a:lnTo>
                      <a:lnTo>
                        <a:pt x="22" y="47"/>
                      </a:lnTo>
                      <a:lnTo>
                        <a:pt x="19" y="2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707160" y="3536280"/>
                  <a:ext cx="79200" cy="59760"/>
                </a:xfrm>
                <a:custGeom>
                  <a:avLst/>
                  <a:gdLst/>
                  <a:ahLst/>
                  <a:rect l="l" t="t" r="r" b="b"/>
                  <a:pathLst>
                    <a:path w="276" h="211">
                      <a:moveTo>
                        <a:pt x="54" y="61"/>
                      </a:moveTo>
                      <a:lnTo>
                        <a:pt x="26" y="31"/>
                      </a:lnTo>
                      <a:lnTo>
                        <a:pt x="0" y="0"/>
                      </a:lnTo>
                      <a:lnTo>
                        <a:pt x="14" y="26"/>
                      </a:lnTo>
                      <a:lnTo>
                        <a:pt x="31" y="53"/>
                      </a:lnTo>
                      <a:lnTo>
                        <a:pt x="51" y="78"/>
                      </a:lnTo>
                      <a:lnTo>
                        <a:pt x="74" y="104"/>
                      </a:lnTo>
                      <a:lnTo>
                        <a:pt x="96" y="124"/>
                      </a:lnTo>
                      <a:lnTo>
                        <a:pt x="119" y="143"/>
                      </a:lnTo>
                      <a:lnTo>
                        <a:pt x="142" y="159"/>
                      </a:lnTo>
                      <a:lnTo>
                        <a:pt x="167" y="173"/>
                      </a:lnTo>
                      <a:lnTo>
                        <a:pt x="192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6" y="211"/>
                      </a:lnTo>
                      <a:lnTo>
                        <a:pt x="246" y="197"/>
                      </a:lnTo>
                      <a:lnTo>
                        <a:pt x="216" y="183"/>
                      </a:lnTo>
                      <a:lnTo>
                        <a:pt x="187" y="166"/>
                      </a:lnTo>
                      <a:lnTo>
                        <a:pt x="160" y="149"/>
                      </a:lnTo>
                      <a:lnTo>
                        <a:pt x="131" y="128"/>
                      </a:lnTo>
                      <a:lnTo>
                        <a:pt x="105" y="108"/>
                      </a:lnTo>
                      <a:lnTo>
                        <a:pt x="79" y="85"/>
                      </a:lnTo>
                      <a:lnTo>
                        <a:pt x="54" y="61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699600" y="3514320"/>
                  <a:ext cx="111240" cy="83160"/>
                </a:xfrm>
                <a:custGeom>
                  <a:avLst/>
                  <a:gdLst/>
                  <a:ahLst/>
                  <a:rect l="l" t="t" r="r" b="b"/>
                  <a:pathLst>
                    <a:path w="392" h="293">
                      <a:moveTo>
                        <a:pt x="28" y="76"/>
                      </a:moveTo>
                      <a:lnTo>
                        <a:pt x="54" y="107"/>
                      </a:lnTo>
                      <a:lnTo>
                        <a:pt x="82" y="137"/>
                      </a:lnTo>
                      <a:lnTo>
                        <a:pt x="107" y="161"/>
                      </a:lnTo>
                      <a:lnTo>
                        <a:pt x="133" y="184"/>
                      </a:lnTo>
                      <a:lnTo>
                        <a:pt x="159" y="204"/>
                      </a:lnTo>
                      <a:lnTo>
                        <a:pt x="188" y="225"/>
                      </a:lnTo>
                      <a:lnTo>
                        <a:pt x="215" y="242"/>
                      </a:lnTo>
                      <a:lnTo>
                        <a:pt x="244" y="259"/>
                      </a:lnTo>
                      <a:lnTo>
                        <a:pt x="274" y="273"/>
                      </a:lnTo>
                      <a:lnTo>
                        <a:pt x="304" y="287"/>
                      </a:lnTo>
                      <a:lnTo>
                        <a:pt x="337" y="290"/>
                      </a:lnTo>
                      <a:lnTo>
                        <a:pt x="373" y="293"/>
                      </a:lnTo>
                      <a:lnTo>
                        <a:pt x="392" y="293"/>
                      </a:lnTo>
                      <a:lnTo>
                        <a:pt x="350" y="280"/>
                      </a:lnTo>
                      <a:lnTo>
                        <a:pt x="310" y="265"/>
                      </a:lnTo>
                      <a:lnTo>
                        <a:pt x="271" y="247"/>
                      </a:lnTo>
                      <a:lnTo>
                        <a:pt x="235" y="228"/>
                      </a:lnTo>
                      <a:lnTo>
                        <a:pt x="198" y="204"/>
                      </a:lnTo>
                      <a:lnTo>
                        <a:pt x="163" y="180"/>
                      </a:lnTo>
                      <a:lnTo>
                        <a:pt x="129" y="152"/>
                      </a:lnTo>
                      <a:lnTo>
                        <a:pt x="97" y="122"/>
                      </a:lnTo>
                      <a:lnTo>
                        <a:pt x="68" y="92"/>
                      </a:lnTo>
                      <a:lnTo>
                        <a:pt x="44" y="62"/>
                      </a:lnTo>
                      <a:lnTo>
                        <a:pt x="20" y="31"/>
                      </a:lnTo>
                      <a:lnTo>
                        <a:pt x="0" y="0"/>
                      </a:lnTo>
                      <a:lnTo>
                        <a:pt x="12" y="39"/>
                      </a:lnTo>
                      <a:lnTo>
                        <a:pt x="19" y="57"/>
                      </a:lnTo>
                      <a:lnTo>
                        <a:pt x="28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697080" y="349740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9" h="353">
                      <a:moveTo>
                        <a:pt x="9" y="60"/>
                      </a:moveTo>
                      <a:lnTo>
                        <a:pt x="29" y="91"/>
                      </a:lnTo>
                      <a:lnTo>
                        <a:pt x="53" y="122"/>
                      </a:lnTo>
                      <a:lnTo>
                        <a:pt x="77" y="152"/>
                      </a:lnTo>
                      <a:lnTo>
                        <a:pt x="106" y="182"/>
                      </a:lnTo>
                      <a:lnTo>
                        <a:pt x="138" y="212"/>
                      </a:lnTo>
                      <a:lnTo>
                        <a:pt x="172" y="240"/>
                      </a:lnTo>
                      <a:lnTo>
                        <a:pt x="207" y="264"/>
                      </a:lnTo>
                      <a:lnTo>
                        <a:pt x="244" y="288"/>
                      </a:lnTo>
                      <a:lnTo>
                        <a:pt x="280" y="307"/>
                      </a:lnTo>
                      <a:lnTo>
                        <a:pt x="319" y="325"/>
                      </a:lnTo>
                      <a:lnTo>
                        <a:pt x="359" y="340"/>
                      </a:lnTo>
                      <a:lnTo>
                        <a:pt x="401" y="353"/>
                      </a:lnTo>
                      <a:lnTo>
                        <a:pt x="435" y="349"/>
                      </a:lnTo>
                      <a:lnTo>
                        <a:pt x="469" y="343"/>
                      </a:lnTo>
                      <a:lnTo>
                        <a:pt x="419" y="333"/>
                      </a:lnTo>
                      <a:lnTo>
                        <a:pt x="371" y="321"/>
                      </a:lnTo>
                      <a:lnTo>
                        <a:pt x="325" y="304"/>
                      </a:lnTo>
                      <a:lnTo>
                        <a:pt x="282" y="285"/>
                      </a:lnTo>
                      <a:lnTo>
                        <a:pt x="238" y="260"/>
                      </a:lnTo>
                      <a:lnTo>
                        <a:pt x="198" y="232"/>
                      </a:lnTo>
                      <a:lnTo>
                        <a:pt x="158" y="201"/>
                      </a:lnTo>
                      <a:lnTo>
                        <a:pt x="122" y="167"/>
                      </a:lnTo>
                      <a:lnTo>
                        <a:pt x="84" y="127"/>
                      </a:lnTo>
                      <a:lnTo>
                        <a:pt x="53" y="86"/>
                      </a:lnTo>
                      <a:lnTo>
                        <a:pt x="23" y="43"/>
                      </a:lnTo>
                      <a:lnTo>
                        <a:pt x="0" y="0"/>
                      </a:lnTo>
                      <a:lnTo>
                        <a:pt x="4" y="29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5232240" y="2499120"/>
                <a:ext cx="1741680" cy="1702080"/>
                <a:chOff x="5232240" y="2499120"/>
                <a:chExt cx="1741680" cy="17020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6697080" y="3378600"/>
                  <a:ext cx="218880" cy="219240"/>
                </a:xfrm>
                <a:custGeom>
                  <a:avLst/>
                  <a:gdLst/>
                  <a:ahLst/>
                  <a:rect l="l" t="t" r="r" b="b"/>
                  <a:pathLst>
                    <a:path w="768" h="768">
                      <a:moveTo>
                        <a:pt x="383" y="0"/>
                      </a:moveTo>
                      <a:lnTo>
                        <a:pt x="344" y="1"/>
                      </a:lnTo>
                      <a:lnTo>
                        <a:pt x="306" y="7"/>
                      </a:lnTo>
                      <a:lnTo>
                        <a:pt x="270" y="15"/>
                      </a:lnTo>
                      <a:lnTo>
                        <a:pt x="236" y="27"/>
                      </a:lnTo>
                      <a:lnTo>
                        <a:pt x="202" y="42"/>
                      </a:lnTo>
                      <a:lnTo>
                        <a:pt x="170" y="62"/>
                      </a:lnTo>
                      <a:lnTo>
                        <a:pt x="140" y="85"/>
                      </a:lnTo>
                      <a:lnTo>
                        <a:pt x="112" y="112"/>
                      </a:lnTo>
                      <a:lnTo>
                        <a:pt x="85" y="139"/>
                      </a:lnTo>
                      <a:lnTo>
                        <a:pt x="63" y="170"/>
                      </a:lnTo>
                      <a:lnTo>
                        <a:pt x="42" y="202"/>
                      </a:lnTo>
                      <a:lnTo>
                        <a:pt x="27" y="236"/>
                      </a:lnTo>
                      <a:lnTo>
                        <a:pt x="15" y="270"/>
                      </a:lnTo>
                      <a:lnTo>
                        <a:pt x="7" y="306"/>
                      </a:lnTo>
                      <a:lnTo>
                        <a:pt x="1" y="344"/>
                      </a:lnTo>
                      <a:lnTo>
                        <a:pt x="0" y="383"/>
                      </a:lnTo>
                      <a:lnTo>
                        <a:pt x="1" y="422"/>
                      </a:lnTo>
                      <a:lnTo>
                        <a:pt x="7" y="459"/>
                      </a:lnTo>
                      <a:lnTo>
                        <a:pt x="15" y="495"/>
                      </a:lnTo>
                      <a:lnTo>
                        <a:pt x="27" y="531"/>
                      </a:lnTo>
                      <a:lnTo>
                        <a:pt x="42" y="563"/>
                      </a:lnTo>
                      <a:lnTo>
                        <a:pt x="63" y="595"/>
                      </a:lnTo>
                      <a:lnTo>
                        <a:pt x="73" y="610"/>
                      </a:lnTo>
                      <a:lnTo>
                        <a:pt x="85" y="626"/>
                      </a:lnTo>
                      <a:lnTo>
                        <a:pt x="112" y="655"/>
                      </a:lnTo>
                      <a:lnTo>
                        <a:pt x="140" y="680"/>
                      </a:lnTo>
                      <a:lnTo>
                        <a:pt x="170" y="703"/>
                      </a:lnTo>
                      <a:lnTo>
                        <a:pt x="202" y="722"/>
                      </a:lnTo>
                      <a:lnTo>
                        <a:pt x="236" y="739"/>
                      </a:lnTo>
                      <a:lnTo>
                        <a:pt x="270" y="751"/>
                      </a:lnTo>
                      <a:lnTo>
                        <a:pt x="306" y="760"/>
                      </a:lnTo>
                      <a:lnTo>
                        <a:pt x="344" y="765"/>
                      </a:lnTo>
                      <a:lnTo>
                        <a:pt x="383" y="768"/>
                      </a:lnTo>
                      <a:lnTo>
                        <a:pt x="422" y="765"/>
                      </a:lnTo>
                      <a:lnTo>
                        <a:pt x="440" y="762"/>
                      </a:lnTo>
                      <a:lnTo>
                        <a:pt x="459" y="760"/>
                      </a:lnTo>
                      <a:lnTo>
                        <a:pt x="496" y="751"/>
                      </a:lnTo>
                      <a:lnTo>
                        <a:pt x="499" y="748"/>
                      </a:lnTo>
                      <a:lnTo>
                        <a:pt x="504" y="747"/>
                      </a:lnTo>
                      <a:lnTo>
                        <a:pt x="513" y="745"/>
                      </a:lnTo>
                      <a:lnTo>
                        <a:pt x="531" y="739"/>
                      </a:lnTo>
                      <a:lnTo>
                        <a:pt x="547" y="730"/>
                      </a:lnTo>
                      <a:lnTo>
                        <a:pt x="555" y="726"/>
                      </a:lnTo>
                      <a:lnTo>
                        <a:pt x="564" y="722"/>
                      </a:lnTo>
                      <a:lnTo>
                        <a:pt x="595" y="703"/>
                      </a:lnTo>
                      <a:lnTo>
                        <a:pt x="610" y="692"/>
                      </a:lnTo>
                      <a:lnTo>
                        <a:pt x="626" y="680"/>
                      </a:lnTo>
                      <a:lnTo>
                        <a:pt x="656" y="655"/>
                      </a:lnTo>
                      <a:lnTo>
                        <a:pt x="681" y="626"/>
                      </a:lnTo>
                      <a:lnTo>
                        <a:pt x="692" y="610"/>
                      </a:lnTo>
                      <a:lnTo>
                        <a:pt x="703" y="595"/>
                      </a:lnTo>
                      <a:lnTo>
                        <a:pt x="722" y="563"/>
                      </a:lnTo>
                      <a:lnTo>
                        <a:pt x="726" y="554"/>
                      </a:lnTo>
                      <a:lnTo>
                        <a:pt x="730" y="546"/>
                      </a:lnTo>
                      <a:lnTo>
                        <a:pt x="739" y="531"/>
                      </a:lnTo>
                      <a:lnTo>
                        <a:pt x="745" y="512"/>
                      </a:lnTo>
                      <a:lnTo>
                        <a:pt x="747" y="503"/>
                      </a:lnTo>
                      <a:lnTo>
                        <a:pt x="749" y="499"/>
                      </a:lnTo>
                      <a:lnTo>
                        <a:pt x="751" y="495"/>
                      </a:lnTo>
                      <a:lnTo>
                        <a:pt x="760" y="459"/>
                      </a:lnTo>
                      <a:lnTo>
                        <a:pt x="762" y="440"/>
                      </a:lnTo>
                      <a:lnTo>
                        <a:pt x="766" y="422"/>
                      </a:lnTo>
                      <a:lnTo>
                        <a:pt x="768" y="383"/>
                      </a:lnTo>
                      <a:lnTo>
                        <a:pt x="766" y="344"/>
                      </a:lnTo>
                      <a:lnTo>
                        <a:pt x="760" y="306"/>
                      </a:lnTo>
                      <a:lnTo>
                        <a:pt x="751" y="270"/>
                      </a:lnTo>
                      <a:lnTo>
                        <a:pt x="739" y="236"/>
                      </a:lnTo>
                      <a:lnTo>
                        <a:pt x="722" y="202"/>
                      </a:lnTo>
                      <a:lnTo>
                        <a:pt x="703" y="170"/>
                      </a:lnTo>
                      <a:lnTo>
                        <a:pt x="681" y="139"/>
                      </a:lnTo>
                      <a:lnTo>
                        <a:pt x="656" y="112"/>
                      </a:lnTo>
                      <a:lnTo>
                        <a:pt x="626" y="85"/>
                      </a:lnTo>
                      <a:lnTo>
                        <a:pt x="610" y="73"/>
                      </a:lnTo>
                      <a:lnTo>
                        <a:pt x="595" y="62"/>
                      </a:lnTo>
                      <a:lnTo>
                        <a:pt x="564" y="42"/>
                      </a:lnTo>
                      <a:lnTo>
                        <a:pt x="531" y="27"/>
                      </a:lnTo>
                      <a:lnTo>
                        <a:pt x="496" y="15"/>
                      </a:lnTo>
                      <a:lnTo>
                        <a:pt x="459" y="7"/>
                      </a:lnTo>
                      <a:lnTo>
                        <a:pt x="422" y="1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755400" y="3478680"/>
                  <a:ext cx="1011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761160" y="3484440"/>
                  <a:ext cx="89640" cy="1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435640" y="341460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6">
                      <a:moveTo>
                        <a:pt x="66" y="26"/>
                      </a:moveTo>
                      <a:lnTo>
                        <a:pt x="92" y="5"/>
                      </a:lnTo>
                      <a:lnTo>
                        <a:pt x="62" y="0"/>
                      </a:lnTo>
                      <a:lnTo>
                        <a:pt x="51" y="11"/>
                      </a:lnTo>
                      <a:lnTo>
                        <a:pt x="27" y="37"/>
                      </a:lnTo>
                      <a:lnTo>
                        <a:pt x="18" y="51"/>
                      </a:lnTo>
                      <a:lnTo>
                        <a:pt x="12" y="67"/>
                      </a:lnTo>
                      <a:lnTo>
                        <a:pt x="6" y="81"/>
                      </a:lnTo>
                      <a:lnTo>
                        <a:pt x="2" y="98"/>
                      </a:lnTo>
                      <a:lnTo>
                        <a:pt x="0" y="134"/>
                      </a:lnTo>
                      <a:lnTo>
                        <a:pt x="0" y="149"/>
                      </a:lnTo>
                      <a:lnTo>
                        <a:pt x="2" y="166"/>
                      </a:lnTo>
                      <a:lnTo>
                        <a:pt x="6" y="182"/>
                      </a:lnTo>
                      <a:lnTo>
                        <a:pt x="12" y="199"/>
                      </a:lnTo>
                      <a:lnTo>
                        <a:pt x="18" y="213"/>
                      </a:lnTo>
                      <a:lnTo>
                        <a:pt x="27" y="228"/>
                      </a:lnTo>
                      <a:lnTo>
                        <a:pt x="37" y="241"/>
                      </a:lnTo>
                      <a:lnTo>
                        <a:pt x="51" y="255"/>
                      </a:lnTo>
                      <a:lnTo>
                        <a:pt x="63" y="266"/>
                      </a:lnTo>
                      <a:lnTo>
                        <a:pt x="77" y="276"/>
                      </a:lnTo>
                      <a:lnTo>
                        <a:pt x="91" y="284"/>
                      </a:lnTo>
                      <a:lnTo>
                        <a:pt x="107" y="292"/>
                      </a:lnTo>
                      <a:lnTo>
                        <a:pt x="121" y="298"/>
                      </a:lnTo>
                      <a:lnTo>
                        <a:pt x="138" y="303"/>
                      </a:lnTo>
                      <a:lnTo>
                        <a:pt x="155" y="305"/>
                      </a:lnTo>
                      <a:lnTo>
                        <a:pt x="173" y="306"/>
                      </a:lnTo>
                      <a:lnTo>
                        <a:pt x="189" y="305"/>
                      </a:lnTo>
                      <a:lnTo>
                        <a:pt x="206" y="303"/>
                      </a:lnTo>
                      <a:lnTo>
                        <a:pt x="222" y="298"/>
                      </a:lnTo>
                      <a:lnTo>
                        <a:pt x="226" y="296"/>
                      </a:lnTo>
                      <a:lnTo>
                        <a:pt x="230" y="295"/>
                      </a:lnTo>
                      <a:lnTo>
                        <a:pt x="239" y="292"/>
                      </a:lnTo>
                      <a:lnTo>
                        <a:pt x="253" y="284"/>
                      </a:lnTo>
                      <a:lnTo>
                        <a:pt x="260" y="280"/>
                      </a:lnTo>
                      <a:lnTo>
                        <a:pt x="263" y="278"/>
                      </a:lnTo>
                      <a:lnTo>
                        <a:pt x="268" y="276"/>
                      </a:lnTo>
                      <a:lnTo>
                        <a:pt x="281" y="266"/>
                      </a:lnTo>
                      <a:lnTo>
                        <a:pt x="296" y="255"/>
                      </a:lnTo>
                      <a:lnTo>
                        <a:pt x="307" y="241"/>
                      </a:lnTo>
                      <a:lnTo>
                        <a:pt x="312" y="235"/>
                      </a:lnTo>
                      <a:lnTo>
                        <a:pt x="314" y="231"/>
                      </a:lnTo>
                      <a:lnTo>
                        <a:pt x="317" y="229"/>
                      </a:lnTo>
                      <a:lnTo>
                        <a:pt x="319" y="224"/>
                      </a:lnTo>
                      <a:lnTo>
                        <a:pt x="321" y="221"/>
                      </a:lnTo>
                      <a:lnTo>
                        <a:pt x="325" y="214"/>
                      </a:lnTo>
                      <a:lnTo>
                        <a:pt x="333" y="200"/>
                      </a:lnTo>
                      <a:lnTo>
                        <a:pt x="325" y="187"/>
                      </a:lnTo>
                      <a:lnTo>
                        <a:pt x="319" y="176"/>
                      </a:lnTo>
                      <a:lnTo>
                        <a:pt x="314" y="183"/>
                      </a:lnTo>
                      <a:lnTo>
                        <a:pt x="311" y="193"/>
                      </a:lnTo>
                      <a:lnTo>
                        <a:pt x="306" y="200"/>
                      </a:lnTo>
                      <a:lnTo>
                        <a:pt x="303" y="210"/>
                      </a:lnTo>
                      <a:lnTo>
                        <a:pt x="297" y="216"/>
                      </a:lnTo>
                      <a:lnTo>
                        <a:pt x="292" y="224"/>
                      </a:lnTo>
                      <a:lnTo>
                        <a:pt x="280" y="240"/>
                      </a:lnTo>
                      <a:lnTo>
                        <a:pt x="268" y="249"/>
                      </a:lnTo>
                      <a:lnTo>
                        <a:pt x="256" y="258"/>
                      </a:lnTo>
                      <a:lnTo>
                        <a:pt x="243" y="266"/>
                      </a:lnTo>
                      <a:lnTo>
                        <a:pt x="230" y="273"/>
                      </a:lnTo>
                      <a:lnTo>
                        <a:pt x="215" y="278"/>
                      </a:lnTo>
                      <a:lnTo>
                        <a:pt x="202" y="281"/>
                      </a:lnTo>
                      <a:lnTo>
                        <a:pt x="187" y="283"/>
                      </a:lnTo>
                      <a:lnTo>
                        <a:pt x="173" y="284"/>
                      </a:lnTo>
                      <a:lnTo>
                        <a:pt x="158" y="283"/>
                      </a:lnTo>
                      <a:lnTo>
                        <a:pt x="143" y="281"/>
                      </a:lnTo>
                      <a:lnTo>
                        <a:pt x="128" y="278"/>
                      </a:lnTo>
                      <a:lnTo>
                        <a:pt x="114" y="273"/>
                      </a:lnTo>
                      <a:lnTo>
                        <a:pt x="101" y="266"/>
                      </a:lnTo>
                      <a:lnTo>
                        <a:pt x="88" y="258"/>
                      </a:lnTo>
                      <a:lnTo>
                        <a:pt x="66" y="240"/>
                      </a:lnTo>
                      <a:lnTo>
                        <a:pt x="54" y="228"/>
                      </a:lnTo>
                      <a:lnTo>
                        <a:pt x="45" y="216"/>
                      </a:lnTo>
                      <a:lnTo>
                        <a:pt x="37" y="203"/>
                      </a:lnTo>
                      <a:lnTo>
                        <a:pt x="32" y="190"/>
                      </a:lnTo>
                      <a:lnTo>
                        <a:pt x="26" y="176"/>
                      </a:lnTo>
                      <a:lnTo>
                        <a:pt x="24" y="162"/>
                      </a:lnTo>
                      <a:lnTo>
                        <a:pt x="21" y="147"/>
                      </a:lnTo>
                      <a:lnTo>
                        <a:pt x="21" y="134"/>
                      </a:lnTo>
                      <a:lnTo>
                        <a:pt x="24" y="103"/>
                      </a:lnTo>
                      <a:lnTo>
                        <a:pt x="32" y="75"/>
                      </a:lnTo>
                      <a:lnTo>
                        <a:pt x="45" y="49"/>
                      </a:lnTo>
                      <a:lnTo>
                        <a:pt x="54" y="36"/>
                      </a:lnTo>
                      <a:lnTo>
                        <a:pt x="66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442120" y="3416400"/>
                  <a:ext cx="84960" cy="79920"/>
                </a:xfrm>
                <a:custGeom>
                  <a:avLst/>
                  <a:gdLst/>
                  <a:ahLst/>
                  <a:rect l="l" t="t" r="r" b="b"/>
                  <a:pathLst>
                    <a:path w="298" h="279">
                      <a:moveTo>
                        <a:pt x="71" y="0"/>
                      </a:moveTo>
                      <a:lnTo>
                        <a:pt x="45" y="21"/>
                      </a:lnTo>
                      <a:lnTo>
                        <a:pt x="33" y="31"/>
                      </a:lnTo>
                      <a:lnTo>
                        <a:pt x="24" y="44"/>
                      </a:lnTo>
                      <a:lnTo>
                        <a:pt x="11" y="70"/>
                      </a:lnTo>
                      <a:lnTo>
                        <a:pt x="3" y="98"/>
                      </a:lnTo>
                      <a:lnTo>
                        <a:pt x="0" y="129"/>
                      </a:lnTo>
                      <a:lnTo>
                        <a:pt x="0" y="142"/>
                      </a:lnTo>
                      <a:lnTo>
                        <a:pt x="3" y="157"/>
                      </a:lnTo>
                      <a:lnTo>
                        <a:pt x="5" y="171"/>
                      </a:lnTo>
                      <a:lnTo>
                        <a:pt x="11" y="185"/>
                      </a:lnTo>
                      <a:lnTo>
                        <a:pt x="16" y="198"/>
                      </a:lnTo>
                      <a:lnTo>
                        <a:pt x="24" y="211"/>
                      </a:lnTo>
                      <a:lnTo>
                        <a:pt x="33" y="223"/>
                      </a:lnTo>
                      <a:lnTo>
                        <a:pt x="45" y="235"/>
                      </a:lnTo>
                      <a:lnTo>
                        <a:pt x="67" y="253"/>
                      </a:lnTo>
                      <a:lnTo>
                        <a:pt x="80" y="261"/>
                      </a:lnTo>
                      <a:lnTo>
                        <a:pt x="93" y="268"/>
                      </a:lnTo>
                      <a:lnTo>
                        <a:pt x="107" y="273"/>
                      </a:lnTo>
                      <a:lnTo>
                        <a:pt x="122" y="276"/>
                      </a:lnTo>
                      <a:lnTo>
                        <a:pt x="137" y="278"/>
                      </a:lnTo>
                      <a:lnTo>
                        <a:pt x="152" y="279"/>
                      </a:lnTo>
                      <a:lnTo>
                        <a:pt x="166" y="278"/>
                      </a:lnTo>
                      <a:lnTo>
                        <a:pt x="181" y="276"/>
                      </a:lnTo>
                      <a:lnTo>
                        <a:pt x="194" y="273"/>
                      </a:lnTo>
                      <a:lnTo>
                        <a:pt x="209" y="268"/>
                      </a:lnTo>
                      <a:lnTo>
                        <a:pt x="222" y="261"/>
                      </a:lnTo>
                      <a:lnTo>
                        <a:pt x="235" y="253"/>
                      </a:lnTo>
                      <a:lnTo>
                        <a:pt x="247" y="244"/>
                      </a:lnTo>
                      <a:lnTo>
                        <a:pt x="259" y="235"/>
                      </a:lnTo>
                      <a:lnTo>
                        <a:pt x="271" y="219"/>
                      </a:lnTo>
                      <a:lnTo>
                        <a:pt x="276" y="211"/>
                      </a:lnTo>
                      <a:lnTo>
                        <a:pt x="282" y="205"/>
                      </a:lnTo>
                      <a:lnTo>
                        <a:pt x="285" y="195"/>
                      </a:lnTo>
                      <a:lnTo>
                        <a:pt x="290" y="188"/>
                      </a:lnTo>
                      <a:lnTo>
                        <a:pt x="293" y="178"/>
                      </a:lnTo>
                      <a:lnTo>
                        <a:pt x="298" y="171"/>
                      </a:lnTo>
                      <a:lnTo>
                        <a:pt x="281" y="146"/>
                      </a:lnTo>
                      <a:lnTo>
                        <a:pt x="277" y="155"/>
                      </a:lnTo>
                      <a:lnTo>
                        <a:pt x="275" y="165"/>
                      </a:lnTo>
                      <a:lnTo>
                        <a:pt x="271" y="174"/>
                      </a:lnTo>
                      <a:lnTo>
                        <a:pt x="269" y="178"/>
                      </a:lnTo>
                      <a:lnTo>
                        <a:pt x="268" y="181"/>
                      </a:lnTo>
                      <a:lnTo>
                        <a:pt x="268" y="184"/>
                      </a:lnTo>
                      <a:lnTo>
                        <a:pt x="257" y="202"/>
                      </a:lnTo>
                      <a:lnTo>
                        <a:pt x="250" y="210"/>
                      </a:lnTo>
                      <a:lnTo>
                        <a:pt x="244" y="219"/>
                      </a:lnTo>
                      <a:lnTo>
                        <a:pt x="233" y="227"/>
                      </a:lnTo>
                      <a:lnTo>
                        <a:pt x="231" y="227"/>
                      </a:lnTo>
                      <a:lnTo>
                        <a:pt x="230" y="227"/>
                      </a:lnTo>
                      <a:lnTo>
                        <a:pt x="230" y="228"/>
                      </a:lnTo>
                      <a:lnTo>
                        <a:pt x="227" y="231"/>
                      </a:lnTo>
                      <a:lnTo>
                        <a:pt x="223" y="235"/>
                      </a:lnTo>
                      <a:lnTo>
                        <a:pt x="211" y="242"/>
                      </a:lnTo>
                      <a:lnTo>
                        <a:pt x="206" y="244"/>
                      </a:lnTo>
                      <a:lnTo>
                        <a:pt x="201" y="248"/>
                      </a:lnTo>
                      <a:lnTo>
                        <a:pt x="194" y="249"/>
                      </a:lnTo>
                      <a:lnTo>
                        <a:pt x="189" y="251"/>
                      </a:lnTo>
                      <a:lnTo>
                        <a:pt x="177" y="254"/>
                      </a:lnTo>
                      <a:lnTo>
                        <a:pt x="164" y="257"/>
                      </a:lnTo>
                      <a:lnTo>
                        <a:pt x="152" y="258"/>
                      </a:lnTo>
                      <a:lnTo>
                        <a:pt x="139" y="257"/>
                      </a:lnTo>
                      <a:lnTo>
                        <a:pt x="125" y="254"/>
                      </a:lnTo>
                      <a:lnTo>
                        <a:pt x="101" y="248"/>
                      </a:lnTo>
                      <a:lnTo>
                        <a:pt x="90" y="242"/>
                      </a:lnTo>
                      <a:lnTo>
                        <a:pt x="80" y="235"/>
                      </a:lnTo>
                      <a:lnTo>
                        <a:pt x="61" y="219"/>
                      </a:lnTo>
                      <a:lnTo>
                        <a:pt x="42" y="199"/>
                      </a:lnTo>
                      <a:lnTo>
                        <a:pt x="36" y="188"/>
                      </a:lnTo>
                      <a:lnTo>
                        <a:pt x="31" y="177"/>
                      </a:lnTo>
                      <a:lnTo>
                        <a:pt x="27" y="165"/>
                      </a:lnTo>
                      <a:lnTo>
                        <a:pt x="24" y="154"/>
                      </a:lnTo>
                      <a:lnTo>
                        <a:pt x="22" y="129"/>
                      </a:lnTo>
                      <a:lnTo>
                        <a:pt x="24" y="101"/>
                      </a:lnTo>
                      <a:lnTo>
                        <a:pt x="31" y="78"/>
                      </a:lnTo>
                      <a:lnTo>
                        <a:pt x="42" y="56"/>
                      </a:lnTo>
                      <a:lnTo>
                        <a:pt x="61" y="37"/>
                      </a:lnTo>
                      <a:lnTo>
                        <a:pt x="78" y="21"/>
                      </a:lnTo>
                      <a:lnTo>
                        <a:pt x="99" y="1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429880" y="3413880"/>
                  <a:ext cx="104400" cy="93960"/>
                </a:xfrm>
                <a:custGeom>
                  <a:avLst/>
                  <a:gdLst/>
                  <a:ahLst/>
                  <a:rect l="l" t="t" r="r" b="b"/>
                  <a:pathLst>
                    <a:path w="367" h="331">
                      <a:moveTo>
                        <a:pt x="73" y="15"/>
                      </a:moveTo>
                      <a:lnTo>
                        <a:pt x="84" y="4"/>
                      </a:lnTo>
                      <a:lnTo>
                        <a:pt x="57" y="0"/>
                      </a:lnTo>
                      <a:lnTo>
                        <a:pt x="42" y="14"/>
                      </a:lnTo>
                      <a:lnTo>
                        <a:pt x="31" y="30"/>
                      </a:lnTo>
                      <a:lnTo>
                        <a:pt x="14" y="63"/>
                      </a:lnTo>
                      <a:lnTo>
                        <a:pt x="4" y="98"/>
                      </a:lnTo>
                      <a:lnTo>
                        <a:pt x="0" y="138"/>
                      </a:lnTo>
                      <a:lnTo>
                        <a:pt x="0" y="156"/>
                      </a:lnTo>
                      <a:lnTo>
                        <a:pt x="4" y="175"/>
                      </a:lnTo>
                      <a:lnTo>
                        <a:pt x="7" y="193"/>
                      </a:lnTo>
                      <a:lnTo>
                        <a:pt x="14" y="211"/>
                      </a:lnTo>
                      <a:lnTo>
                        <a:pt x="21" y="227"/>
                      </a:lnTo>
                      <a:lnTo>
                        <a:pt x="31" y="244"/>
                      </a:lnTo>
                      <a:lnTo>
                        <a:pt x="42" y="259"/>
                      </a:lnTo>
                      <a:lnTo>
                        <a:pt x="57" y="275"/>
                      </a:lnTo>
                      <a:lnTo>
                        <a:pt x="71" y="287"/>
                      </a:lnTo>
                      <a:lnTo>
                        <a:pt x="87" y="299"/>
                      </a:lnTo>
                      <a:lnTo>
                        <a:pt x="102" y="309"/>
                      </a:lnTo>
                      <a:lnTo>
                        <a:pt x="119" y="317"/>
                      </a:lnTo>
                      <a:lnTo>
                        <a:pt x="136" y="322"/>
                      </a:lnTo>
                      <a:lnTo>
                        <a:pt x="156" y="327"/>
                      </a:lnTo>
                      <a:lnTo>
                        <a:pt x="175" y="330"/>
                      </a:lnTo>
                      <a:lnTo>
                        <a:pt x="195" y="331"/>
                      </a:lnTo>
                      <a:lnTo>
                        <a:pt x="214" y="330"/>
                      </a:lnTo>
                      <a:lnTo>
                        <a:pt x="223" y="328"/>
                      </a:lnTo>
                      <a:lnTo>
                        <a:pt x="227" y="327"/>
                      </a:lnTo>
                      <a:lnTo>
                        <a:pt x="233" y="327"/>
                      </a:lnTo>
                      <a:lnTo>
                        <a:pt x="251" y="322"/>
                      </a:lnTo>
                      <a:lnTo>
                        <a:pt x="269" y="317"/>
                      </a:lnTo>
                      <a:lnTo>
                        <a:pt x="285" y="309"/>
                      </a:lnTo>
                      <a:lnTo>
                        <a:pt x="286" y="307"/>
                      </a:lnTo>
                      <a:lnTo>
                        <a:pt x="288" y="305"/>
                      </a:lnTo>
                      <a:lnTo>
                        <a:pt x="293" y="303"/>
                      </a:lnTo>
                      <a:lnTo>
                        <a:pt x="302" y="299"/>
                      </a:lnTo>
                      <a:lnTo>
                        <a:pt x="317" y="287"/>
                      </a:lnTo>
                      <a:lnTo>
                        <a:pt x="333" y="275"/>
                      </a:lnTo>
                      <a:lnTo>
                        <a:pt x="351" y="252"/>
                      </a:lnTo>
                      <a:lnTo>
                        <a:pt x="367" y="229"/>
                      </a:lnTo>
                      <a:lnTo>
                        <a:pt x="355" y="204"/>
                      </a:lnTo>
                      <a:lnTo>
                        <a:pt x="347" y="218"/>
                      </a:lnTo>
                      <a:lnTo>
                        <a:pt x="343" y="225"/>
                      </a:lnTo>
                      <a:lnTo>
                        <a:pt x="341" y="228"/>
                      </a:lnTo>
                      <a:lnTo>
                        <a:pt x="339" y="233"/>
                      </a:lnTo>
                      <a:lnTo>
                        <a:pt x="336" y="235"/>
                      </a:lnTo>
                      <a:lnTo>
                        <a:pt x="334" y="239"/>
                      </a:lnTo>
                      <a:lnTo>
                        <a:pt x="329" y="245"/>
                      </a:lnTo>
                      <a:lnTo>
                        <a:pt x="318" y="259"/>
                      </a:lnTo>
                      <a:lnTo>
                        <a:pt x="303" y="270"/>
                      </a:lnTo>
                      <a:lnTo>
                        <a:pt x="290" y="280"/>
                      </a:lnTo>
                      <a:lnTo>
                        <a:pt x="285" y="282"/>
                      </a:lnTo>
                      <a:lnTo>
                        <a:pt x="282" y="284"/>
                      </a:lnTo>
                      <a:lnTo>
                        <a:pt x="275" y="288"/>
                      </a:lnTo>
                      <a:lnTo>
                        <a:pt x="261" y="296"/>
                      </a:lnTo>
                      <a:lnTo>
                        <a:pt x="252" y="299"/>
                      </a:lnTo>
                      <a:lnTo>
                        <a:pt x="248" y="300"/>
                      </a:lnTo>
                      <a:lnTo>
                        <a:pt x="244" y="302"/>
                      </a:lnTo>
                      <a:lnTo>
                        <a:pt x="228" y="307"/>
                      </a:lnTo>
                      <a:lnTo>
                        <a:pt x="211" y="309"/>
                      </a:lnTo>
                      <a:lnTo>
                        <a:pt x="195" y="310"/>
                      </a:lnTo>
                      <a:lnTo>
                        <a:pt x="177" y="309"/>
                      </a:lnTo>
                      <a:lnTo>
                        <a:pt x="160" y="307"/>
                      </a:lnTo>
                      <a:lnTo>
                        <a:pt x="143" y="302"/>
                      </a:lnTo>
                      <a:lnTo>
                        <a:pt x="129" y="296"/>
                      </a:lnTo>
                      <a:lnTo>
                        <a:pt x="113" y="288"/>
                      </a:lnTo>
                      <a:lnTo>
                        <a:pt x="99" y="280"/>
                      </a:lnTo>
                      <a:lnTo>
                        <a:pt x="85" y="270"/>
                      </a:lnTo>
                      <a:lnTo>
                        <a:pt x="73" y="259"/>
                      </a:lnTo>
                      <a:lnTo>
                        <a:pt x="59" y="245"/>
                      </a:lnTo>
                      <a:lnTo>
                        <a:pt x="49" y="232"/>
                      </a:lnTo>
                      <a:lnTo>
                        <a:pt x="40" y="217"/>
                      </a:lnTo>
                      <a:lnTo>
                        <a:pt x="34" y="203"/>
                      </a:lnTo>
                      <a:lnTo>
                        <a:pt x="28" y="186"/>
                      </a:lnTo>
                      <a:lnTo>
                        <a:pt x="24" y="170"/>
                      </a:lnTo>
                      <a:lnTo>
                        <a:pt x="22" y="153"/>
                      </a:lnTo>
                      <a:lnTo>
                        <a:pt x="22" y="138"/>
                      </a:lnTo>
                      <a:lnTo>
                        <a:pt x="24" y="102"/>
                      </a:lnTo>
                      <a:lnTo>
                        <a:pt x="28" y="85"/>
                      </a:lnTo>
                      <a:lnTo>
                        <a:pt x="34" y="71"/>
                      </a:lnTo>
                      <a:lnTo>
                        <a:pt x="40" y="55"/>
                      </a:lnTo>
                      <a:lnTo>
                        <a:pt x="49" y="41"/>
                      </a:lnTo>
                      <a:lnTo>
                        <a:pt x="73" y="15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417280" y="3413520"/>
                  <a:ext cx="122040" cy="107280"/>
                </a:xfrm>
                <a:custGeom>
                  <a:avLst/>
                  <a:gdLst/>
                  <a:ahLst/>
                  <a:rect l="l" t="t" r="r" b="b"/>
                  <a:pathLst>
                    <a:path w="428" h="377">
                      <a:moveTo>
                        <a:pt x="56" y="0"/>
                      </a:moveTo>
                      <a:lnTo>
                        <a:pt x="45" y="0"/>
                      </a:lnTo>
                      <a:lnTo>
                        <a:pt x="24" y="31"/>
                      </a:lnTo>
                      <a:lnTo>
                        <a:pt x="16" y="47"/>
                      </a:lnTo>
                      <a:lnTo>
                        <a:pt x="11" y="65"/>
                      </a:lnTo>
                      <a:lnTo>
                        <a:pt x="3" y="100"/>
                      </a:lnTo>
                      <a:lnTo>
                        <a:pt x="0" y="140"/>
                      </a:lnTo>
                      <a:lnTo>
                        <a:pt x="0" y="162"/>
                      </a:lnTo>
                      <a:lnTo>
                        <a:pt x="4" y="186"/>
                      </a:lnTo>
                      <a:lnTo>
                        <a:pt x="9" y="208"/>
                      </a:lnTo>
                      <a:lnTo>
                        <a:pt x="17" y="230"/>
                      </a:lnTo>
                      <a:lnTo>
                        <a:pt x="25" y="250"/>
                      </a:lnTo>
                      <a:lnTo>
                        <a:pt x="38" y="270"/>
                      </a:lnTo>
                      <a:lnTo>
                        <a:pt x="52" y="288"/>
                      </a:lnTo>
                      <a:lnTo>
                        <a:pt x="69" y="307"/>
                      </a:lnTo>
                      <a:lnTo>
                        <a:pt x="86" y="322"/>
                      </a:lnTo>
                      <a:lnTo>
                        <a:pt x="106" y="337"/>
                      </a:lnTo>
                      <a:lnTo>
                        <a:pt x="125" y="348"/>
                      </a:lnTo>
                      <a:lnTo>
                        <a:pt x="147" y="358"/>
                      </a:lnTo>
                      <a:lnTo>
                        <a:pt x="167" y="366"/>
                      </a:lnTo>
                      <a:lnTo>
                        <a:pt x="190" y="372"/>
                      </a:lnTo>
                      <a:lnTo>
                        <a:pt x="213" y="375"/>
                      </a:lnTo>
                      <a:lnTo>
                        <a:pt x="238" y="377"/>
                      </a:lnTo>
                      <a:lnTo>
                        <a:pt x="261" y="375"/>
                      </a:lnTo>
                      <a:lnTo>
                        <a:pt x="272" y="373"/>
                      </a:lnTo>
                      <a:lnTo>
                        <a:pt x="275" y="372"/>
                      </a:lnTo>
                      <a:lnTo>
                        <a:pt x="278" y="372"/>
                      </a:lnTo>
                      <a:lnTo>
                        <a:pt x="285" y="372"/>
                      </a:lnTo>
                      <a:lnTo>
                        <a:pt x="289" y="370"/>
                      </a:lnTo>
                      <a:lnTo>
                        <a:pt x="292" y="369"/>
                      </a:lnTo>
                      <a:lnTo>
                        <a:pt x="295" y="369"/>
                      </a:lnTo>
                      <a:lnTo>
                        <a:pt x="306" y="366"/>
                      </a:lnTo>
                      <a:lnTo>
                        <a:pt x="329" y="358"/>
                      </a:lnTo>
                      <a:lnTo>
                        <a:pt x="338" y="353"/>
                      </a:lnTo>
                      <a:lnTo>
                        <a:pt x="348" y="348"/>
                      </a:lnTo>
                      <a:lnTo>
                        <a:pt x="369" y="337"/>
                      </a:lnTo>
                      <a:lnTo>
                        <a:pt x="387" y="322"/>
                      </a:lnTo>
                      <a:lnTo>
                        <a:pt x="396" y="314"/>
                      </a:lnTo>
                      <a:lnTo>
                        <a:pt x="406" y="307"/>
                      </a:lnTo>
                      <a:lnTo>
                        <a:pt x="411" y="301"/>
                      </a:lnTo>
                      <a:lnTo>
                        <a:pt x="413" y="297"/>
                      </a:lnTo>
                      <a:lnTo>
                        <a:pt x="416" y="295"/>
                      </a:lnTo>
                      <a:lnTo>
                        <a:pt x="428" y="282"/>
                      </a:lnTo>
                      <a:lnTo>
                        <a:pt x="420" y="256"/>
                      </a:lnTo>
                      <a:lnTo>
                        <a:pt x="415" y="260"/>
                      </a:lnTo>
                      <a:lnTo>
                        <a:pt x="412" y="264"/>
                      </a:lnTo>
                      <a:lnTo>
                        <a:pt x="405" y="273"/>
                      </a:lnTo>
                      <a:lnTo>
                        <a:pt x="390" y="292"/>
                      </a:lnTo>
                      <a:lnTo>
                        <a:pt x="381" y="298"/>
                      </a:lnTo>
                      <a:lnTo>
                        <a:pt x="377" y="302"/>
                      </a:lnTo>
                      <a:lnTo>
                        <a:pt x="373" y="306"/>
                      </a:lnTo>
                      <a:lnTo>
                        <a:pt x="364" y="312"/>
                      </a:lnTo>
                      <a:lnTo>
                        <a:pt x="356" y="319"/>
                      </a:lnTo>
                      <a:lnTo>
                        <a:pt x="338" y="329"/>
                      </a:lnTo>
                      <a:lnTo>
                        <a:pt x="320" y="339"/>
                      </a:lnTo>
                      <a:lnTo>
                        <a:pt x="300" y="345"/>
                      </a:lnTo>
                      <a:lnTo>
                        <a:pt x="289" y="347"/>
                      </a:lnTo>
                      <a:lnTo>
                        <a:pt x="280" y="350"/>
                      </a:lnTo>
                      <a:lnTo>
                        <a:pt x="269" y="352"/>
                      </a:lnTo>
                      <a:lnTo>
                        <a:pt x="259" y="354"/>
                      </a:lnTo>
                      <a:lnTo>
                        <a:pt x="238" y="355"/>
                      </a:lnTo>
                      <a:lnTo>
                        <a:pt x="216" y="354"/>
                      </a:lnTo>
                      <a:lnTo>
                        <a:pt x="194" y="350"/>
                      </a:lnTo>
                      <a:lnTo>
                        <a:pt x="174" y="345"/>
                      </a:lnTo>
                      <a:lnTo>
                        <a:pt x="155" y="339"/>
                      </a:lnTo>
                      <a:lnTo>
                        <a:pt x="135" y="329"/>
                      </a:lnTo>
                      <a:lnTo>
                        <a:pt x="118" y="319"/>
                      </a:lnTo>
                      <a:lnTo>
                        <a:pt x="101" y="306"/>
                      </a:lnTo>
                      <a:lnTo>
                        <a:pt x="85" y="292"/>
                      </a:lnTo>
                      <a:lnTo>
                        <a:pt x="69" y="275"/>
                      </a:lnTo>
                      <a:lnTo>
                        <a:pt x="57" y="258"/>
                      </a:lnTo>
                      <a:lnTo>
                        <a:pt x="46" y="239"/>
                      </a:lnTo>
                      <a:lnTo>
                        <a:pt x="38" y="221"/>
                      </a:lnTo>
                      <a:lnTo>
                        <a:pt x="30" y="201"/>
                      </a:lnTo>
                      <a:lnTo>
                        <a:pt x="25" y="182"/>
                      </a:lnTo>
                      <a:lnTo>
                        <a:pt x="22" y="160"/>
                      </a:lnTo>
                      <a:lnTo>
                        <a:pt x="22" y="140"/>
                      </a:lnTo>
                      <a:lnTo>
                        <a:pt x="24" y="100"/>
                      </a:lnTo>
                      <a:lnTo>
                        <a:pt x="28" y="81"/>
                      </a:lnTo>
                      <a:lnTo>
                        <a:pt x="34" y="64"/>
                      </a:lnTo>
                      <a:lnTo>
                        <a:pt x="49" y="31"/>
                      </a:lnTo>
                      <a:lnTo>
                        <a:pt x="73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423760" y="3413520"/>
                  <a:ext cx="113760" cy="10080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8" y="2"/>
                      </a:moveTo>
                      <a:lnTo>
                        <a:pt x="51" y="0"/>
                      </a:lnTo>
                      <a:lnTo>
                        <a:pt x="27" y="31"/>
                      </a:lnTo>
                      <a:lnTo>
                        <a:pt x="12" y="64"/>
                      </a:lnTo>
                      <a:lnTo>
                        <a:pt x="6" y="81"/>
                      </a:lnTo>
                      <a:lnTo>
                        <a:pt x="2" y="100"/>
                      </a:lnTo>
                      <a:lnTo>
                        <a:pt x="0" y="140"/>
                      </a:lnTo>
                      <a:lnTo>
                        <a:pt x="0" y="160"/>
                      </a:lnTo>
                      <a:lnTo>
                        <a:pt x="3" y="182"/>
                      </a:lnTo>
                      <a:lnTo>
                        <a:pt x="8" y="201"/>
                      </a:lnTo>
                      <a:lnTo>
                        <a:pt x="16" y="221"/>
                      </a:lnTo>
                      <a:lnTo>
                        <a:pt x="24" y="239"/>
                      </a:lnTo>
                      <a:lnTo>
                        <a:pt x="35" y="258"/>
                      </a:lnTo>
                      <a:lnTo>
                        <a:pt x="47" y="275"/>
                      </a:lnTo>
                      <a:lnTo>
                        <a:pt x="63" y="292"/>
                      </a:lnTo>
                      <a:lnTo>
                        <a:pt x="79" y="306"/>
                      </a:lnTo>
                      <a:lnTo>
                        <a:pt x="96" y="319"/>
                      </a:lnTo>
                      <a:lnTo>
                        <a:pt x="113" y="329"/>
                      </a:lnTo>
                      <a:lnTo>
                        <a:pt x="133" y="339"/>
                      </a:lnTo>
                      <a:lnTo>
                        <a:pt x="152" y="345"/>
                      </a:lnTo>
                      <a:lnTo>
                        <a:pt x="172" y="350"/>
                      </a:lnTo>
                      <a:lnTo>
                        <a:pt x="194" y="354"/>
                      </a:lnTo>
                      <a:lnTo>
                        <a:pt x="216" y="355"/>
                      </a:lnTo>
                      <a:lnTo>
                        <a:pt x="237" y="354"/>
                      </a:lnTo>
                      <a:lnTo>
                        <a:pt x="247" y="352"/>
                      </a:lnTo>
                      <a:lnTo>
                        <a:pt x="258" y="350"/>
                      </a:lnTo>
                      <a:lnTo>
                        <a:pt x="267" y="347"/>
                      </a:lnTo>
                      <a:lnTo>
                        <a:pt x="278" y="345"/>
                      </a:lnTo>
                      <a:lnTo>
                        <a:pt x="298" y="339"/>
                      </a:lnTo>
                      <a:lnTo>
                        <a:pt x="316" y="329"/>
                      </a:lnTo>
                      <a:lnTo>
                        <a:pt x="334" y="319"/>
                      </a:lnTo>
                      <a:lnTo>
                        <a:pt x="342" y="312"/>
                      </a:lnTo>
                      <a:lnTo>
                        <a:pt x="351" y="306"/>
                      </a:lnTo>
                      <a:lnTo>
                        <a:pt x="355" y="302"/>
                      </a:lnTo>
                      <a:lnTo>
                        <a:pt x="359" y="298"/>
                      </a:lnTo>
                      <a:lnTo>
                        <a:pt x="368" y="292"/>
                      </a:lnTo>
                      <a:lnTo>
                        <a:pt x="383" y="273"/>
                      </a:lnTo>
                      <a:lnTo>
                        <a:pt x="390" y="264"/>
                      </a:lnTo>
                      <a:lnTo>
                        <a:pt x="393" y="260"/>
                      </a:lnTo>
                      <a:lnTo>
                        <a:pt x="398" y="256"/>
                      </a:lnTo>
                      <a:lnTo>
                        <a:pt x="388" y="231"/>
                      </a:lnTo>
                      <a:lnTo>
                        <a:pt x="372" y="254"/>
                      </a:lnTo>
                      <a:lnTo>
                        <a:pt x="354" y="277"/>
                      </a:lnTo>
                      <a:lnTo>
                        <a:pt x="338" y="289"/>
                      </a:lnTo>
                      <a:lnTo>
                        <a:pt x="323" y="301"/>
                      </a:lnTo>
                      <a:lnTo>
                        <a:pt x="314" y="305"/>
                      </a:lnTo>
                      <a:lnTo>
                        <a:pt x="309" y="307"/>
                      </a:lnTo>
                      <a:lnTo>
                        <a:pt x="307" y="309"/>
                      </a:lnTo>
                      <a:lnTo>
                        <a:pt x="306" y="311"/>
                      </a:lnTo>
                      <a:lnTo>
                        <a:pt x="290" y="319"/>
                      </a:lnTo>
                      <a:lnTo>
                        <a:pt x="272" y="324"/>
                      </a:lnTo>
                      <a:lnTo>
                        <a:pt x="254" y="329"/>
                      </a:lnTo>
                      <a:lnTo>
                        <a:pt x="248" y="329"/>
                      </a:lnTo>
                      <a:lnTo>
                        <a:pt x="244" y="330"/>
                      </a:lnTo>
                      <a:lnTo>
                        <a:pt x="235" y="332"/>
                      </a:lnTo>
                      <a:lnTo>
                        <a:pt x="216" y="333"/>
                      </a:lnTo>
                      <a:lnTo>
                        <a:pt x="196" y="332"/>
                      </a:lnTo>
                      <a:lnTo>
                        <a:pt x="177" y="329"/>
                      </a:lnTo>
                      <a:lnTo>
                        <a:pt x="157" y="324"/>
                      </a:lnTo>
                      <a:lnTo>
                        <a:pt x="140" y="319"/>
                      </a:lnTo>
                      <a:lnTo>
                        <a:pt x="123" y="311"/>
                      </a:lnTo>
                      <a:lnTo>
                        <a:pt x="108" y="301"/>
                      </a:lnTo>
                      <a:lnTo>
                        <a:pt x="92" y="289"/>
                      </a:lnTo>
                      <a:lnTo>
                        <a:pt x="78" y="277"/>
                      </a:lnTo>
                      <a:lnTo>
                        <a:pt x="63" y="261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3"/>
                      </a:lnTo>
                      <a:lnTo>
                        <a:pt x="28" y="195"/>
                      </a:lnTo>
                      <a:lnTo>
                        <a:pt x="25" y="177"/>
                      </a:lnTo>
                      <a:lnTo>
                        <a:pt x="21" y="158"/>
                      </a:lnTo>
                      <a:lnTo>
                        <a:pt x="21" y="140"/>
                      </a:lnTo>
                      <a:lnTo>
                        <a:pt x="25" y="100"/>
                      </a:lnTo>
                      <a:lnTo>
                        <a:pt x="35" y="65"/>
                      </a:lnTo>
                      <a:lnTo>
                        <a:pt x="52" y="32"/>
                      </a:lnTo>
                      <a:lnTo>
                        <a:pt x="63" y="16"/>
                      </a:lnTo>
                      <a:lnTo>
                        <a:pt x="78" y="2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448240" y="3419280"/>
                  <a:ext cx="73800" cy="70560"/>
                </a:xfrm>
                <a:custGeom>
                  <a:avLst/>
                  <a:gdLst/>
                  <a:ahLst/>
                  <a:rect l="l" t="t" r="r" b="b"/>
                  <a:pathLst>
                    <a:path w="259" h="248">
                      <a:moveTo>
                        <a:pt x="22" y="119"/>
                      </a:moveTo>
                      <a:lnTo>
                        <a:pt x="23" y="96"/>
                      </a:lnTo>
                      <a:lnTo>
                        <a:pt x="30" y="77"/>
                      </a:lnTo>
                      <a:lnTo>
                        <a:pt x="39" y="57"/>
                      </a:lnTo>
                      <a:lnTo>
                        <a:pt x="53" y="42"/>
                      </a:lnTo>
                      <a:lnTo>
                        <a:pt x="65" y="29"/>
                      </a:lnTo>
                      <a:lnTo>
                        <a:pt x="78" y="21"/>
                      </a:lnTo>
                      <a:lnTo>
                        <a:pt x="92" y="15"/>
                      </a:lnTo>
                      <a:lnTo>
                        <a:pt x="108" y="12"/>
                      </a:lnTo>
                      <a:lnTo>
                        <a:pt x="77" y="0"/>
                      </a:lnTo>
                      <a:lnTo>
                        <a:pt x="56" y="11"/>
                      </a:lnTo>
                      <a:lnTo>
                        <a:pt x="39" y="27"/>
                      </a:lnTo>
                      <a:lnTo>
                        <a:pt x="20" y="46"/>
                      </a:lnTo>
                      <a:lnTo>
                        <a:pt x="9" y="68"/>
                      </a:lnTo>
                      <a:lnTo>
                        <a:pt x="2" y="91"/>
                      </a:lnTo>
                      <a:lnTo>
                        <a:pt x="0" y="119"/>
                      </a:lnTo>
                      <a:lnTo>
                        <a:pt x="2" y="144"/>
                      </a:lnTo>
                      <a:lnTo>
                        <a:pt x="5" y="155"/>
                      </a:lnTo>
                      <a:lnTo>
                        <a:pt x="9" y="167"/>
                      </a:lnTo>
                      <a:lnTo>
                        <a:pt x="14" y="178"/>
                      </a:lnTo>
                      <a:lnTo>
                        <a:pt x="20" y="189"/>
                      </a:lnTo>
                      <a:lnTo>
                        <a:pt x="39" y="209"/>
                      </a:lnTo>
                      <a:lnTo>
                        <a:pt x="58" y="225"/>
                      </a:lnTo>
                      <a:lnTo>
                        <a:pt x="68" y="232"/>
                      </a:lnTo>
                      <a:lnTo>
                        <a:pt x="79" y="238"/>
                      </a:lnTo>
                      <a:lnTo>
                        <a:pt x="103" y="244"/>
                      </a:lnTo>
                      <a:lnTo>
                        <a:pt x="117" y="247"/>
                      </a:lnTo>
                      <a:lnTo>
                        <a:pt x="130" y="248"/>
                      </a:lnTo>
                      <a:lnTo>
                        <a:pt x="142" y="247"/>
                      </a:lnTo>
                      <a:lnTo>
                        <a:pt x="155" y="244"/>
                      </a:lnTo>
                      <a:lnTo>
                        <a:pt x="167" y="241"/>
                      </a:lnTo>
                      <a:lnTo>
                        <a:pt x="172" y="239"/>
                      </a:lnTo>
                      <a:lnTo>
                        <a:pt x="179" y="238"/>
                      </a:lnTo>
                      <a:lnTo>
                        <a:pt x="184" y="234"/>
                      </a:lnTo>
                      <a:lnTo>
                        <a:pt x="189" y="232"/>
                      </a:lnTo>
                      <a:lnTo>
                        <a:pt x="201" y="225"/>
                      </a:lnTo>
                      <a:lnTo>
                        <a:pt x="205" y="221"/>
                      </a:lnTo>
                      <a:lnTo>
                        <a:pt x="208" y="218"/>
                      </a:lnTo>
                      <a:lnTo>
                        <a:pt x="208" y="217"/>
                      </a:lnTo>
                      <a:lnTo>
                        <a:pt x="209" y="217"/>
                      </a:lnTo>
                      <a:lnTo>
                        <a:pt x="211" y="217"/>
                      </a:lnTo>
                      <a:lnTo>
                        <a:pt x="222" y="209"/>
                      </a:lnTo>
                      <a:lnTo>
                        <a:pt x="228" y="200"/>
                      </a:lnTo>
                      <a:lnTo>
                        <a:pt x="235" y="192"/>
                      </a:lnTo>
                      <a:lnTo>
                        <a:pt x="246" y="174"/>
                      </a:lnTo>
                      <a:lnTo>
                        <a:pt x="246" y="171"/>
                      </a:lnTo>
                      <a:lnTo>
                        <a:pt x="247" y="168"/>
                      </a:lnTo>
                      <a:lnTo>
                        <a:pt x="249" y="164"/>
                      </a:lnTo>
                      <a:lnTo>
                        <a:pt x="253" y="155"/>
                      </a:lnTo>
                      <a:lnTo>
                        <a:pt x="255" y="145"/>
                      </a:lnTo>
                      <a:lnTo>
                        <a:pt x="259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6" y="139"/>
                      </a:lnTo>
                      <a:lnTo>
                        <a:pt x="230" y="159"/>
                      </a:lnTo>
                      <a:lnTo>
                        <a:pt x="220" y="178"/>
                      </a:lnTo>
                      <a:lnTo>
                        <a:pt x="213" y="185"/>
                      </a:lnTo>
                      <a:lnTo>
                        <a:pt x="206" y="195"/>
                      </a:lnTo>
                      <a:lnTo>
                        <a:pt x="197" y="201"/>
                      </a:lnTo>
                      <a:lnTo>
                        <a:pt x="189" y="208"/>
                      </a:lnTo>
                      <a:lnTo>
                        <a:pt x="171" y="218"/>
                      </a:lnTo>
                      <a:lnTo>
                        <a:pt x="151" y="224"/>
                      </a:lnTo>
                      <a:lnTo>
                        <a:pt x="130" y="226"/>
                      </a:lnTo>
                      <a:lnTo>
                        <a:pt x="108" y="224"/>
                      </a:lnTo>
                      <a:lnTo>
                        <a:pt x="88" y="218"/>
                      </a:lnTo>
                      <a:lnTo>
                        <a:pt x="69" y="208"/>
                      </a:lnTo>
                      <a:lnTo>
                        <a:pt x="53" y="195"/>
                      </a:lnTo>
                      <a:lnTo>
                        <a:pt x="39" y="178"/>
                      </a:lnTo>
                      <a:lnTo>
                        <a:pt x="30" y="159"/>
                      </a:lnTo>
                      <a:lnTo>
                        <a:pt x="23" y="139"/>
                      </a:lnTo>
                      <a:lnTo>
                        <a:pt x="22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454720" y="342288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6" h="214">
                      <a:moveTo>
                        <a:pt x="31" y="30"/>
                      </a:moveTo>
                      <a:lnTo>
                        <a:pt x="17" y="45"/>
                      </a:lnTo>
                      <a:lnTo>
                        <a:pt x="8" y="65"/>
                      </a:lnTo>
                      <a:lnTo>
                        <a:pt x="1" y="84"/>
                      </a:lnTo>
                      <a:lnTo>
                        <a:pt x="0" y="107"/>
                      </a:lnTo>
                      <a:lnTo>
                        <a:pt x="1" y="127"/>
                      </a:lnTo>
                      <a:lnTo>
                        <a:pt x="8" y="147"/>
                      </a:lnTo>
                      <a:lnTo>
                        <a:pt x="17" y="166"/>
                      </a:lnTo>
                      <a:lnTo>
                        <a:pt x="31" y="183"/>
                      </a:lnTo>
                      <a:lnTo>
                        <a:pt x="47" y="196"/>
                      </a:lnTo>
                      <a:lnTo>
                        <a:pt x="66" y="206"/>
                      </a:lnTo>
                      <a:lnTo>
                        <a:pt x="86" y="212"/>
                      </a:lnTo>
                      <a:lnTo>
                        <a:pt x="108" y="214"/>
                      </a:lnTo>
                      <a:lnTo>
                        <a:pt x="129" y="212"/>
                      </a:lnTo>
                      <a:lnTo>
                        <a:pt x="149" y="206"/>
                      </a:lnTo>
                      <a:lnTo>
                        <a:pt x="167" y="196"/>
                      </a:lnTo>
                      <a:lnTo>
                        <a:pt x="175" y="189"/>
                      </a:lnTo>
                      <a:lnTo>
                        <a:pt x="184" y="183"/>
                      </a:lnTo>
                      <a:lnTo>
                        <a:pt x="191" y="173"/>
                      </a:lnTo>
                      <a:lnTo>
                        <a:pt x="198" y="166"/>
                      </a:lnTo>
                      <a:lnTo>
                        <a:pt x="208" y="147"/>
                      </a:lnTo>
                      <a:lnTo>
                        <a:pt x="214" y="127"/>
                      </a:lnTo>
                      <a:lnTo>
                        <a:pt x="216" y="107"/>
                      </a:lnTo>
                      <a:lnTo>
                        <a:pt x="216" y="99"/>
                      </a:lnTo>
                      <a:lnTo>
                        <a:pt x="198" y="79"/>
                      </a:lnTo>
                      <a:lnTo>
                        <a:pt x="191" y="73"/>
                      </a:lnTo>
                      <a:lnTo>
                        <a:pt x="189" y="70"/>
                      </a:lnTo>
                      <a:lnTo>
                        <a:pt x="188" y="69"/>
                      </a:lnTo>
                      <a:lnTo>
                        <a:pt x="186" y="67"/>
                      </a:lnTo>
                      <a:lnTo>
                        <a:pt x="192" y="85"/>
                      </a:lnTo>
                      <a:lnTo>
                        <a:pt x="195" y="107"/>
                      </a:lnTo>
                      <a:lnTo>
                        <a:pt x="192" y="122"/>
                      </a:lnTo>
                      <a:lnTo>
                        <a:pt x="188" y="138"/>
                      </a:lnTo>
                      <a:lnTo>
                        <a:pt x="183" y="145"/>
                      </a:lnTo>
                      <a:lnTo>
                        <a:pt x="181" y="149"/>
                      </a:lnTo>
                      <a:lnTo>
                        <a:pt x="180" y="153"/>
                      </a:lnTo>
                      <a:lnTo>
                        <a:pt x="170" y="167"/>
                      </a:lnTo>
                      <a:lnTo>
                        <a:pt x="162" y="171"/>
                      </a:lnTo>
                      <a:lnTo>
                        <a:pt x="155" y="177"/>
                      </a:lnTo>
                      <a:lnTo>
                        <a:pt x="147" y="181"/>
                      </a:lnTo>
                      <a:lnTo>
                        <a:pt x="140" y="186"/>
                      </a:lnTo>
                      <a:lnTo>
                        <a:pt x="124" y="191"/>
                      </a:lnTo>
                      <a:lnTo>
                        <a:pt x="108" y="193"/>
                      </a:lnTo>
                      <a:lnTo>
                        <a:pt x="90" y="191"/>
                      </a:lnTo>
                      <a:lnTo>
                        <a:pt x="74" y="186"/>
                      </a:lnTo>
                      <a:lnTo>
                        <a:pt x="60" y="177"/>
                      </a:lnTo>
                      <a:lnTo>
                        <a:pt x="47" y="167"/>
                      </a:lnTo>
                      <a:lnTo>
                        <a:pt x="36" y="153"/>
                      </a:lnTo>
                      <a:lnTo>
                        <a:pt x="28" y="138"/>
                      </a:lnTo>
                      <a:lnTo>
                        <a:pt x="23" y="122"/>
                      </a:lnTo>
                      <a:lnTo>
                        <a:pt x="22" y="107"/>
                      </a:lnTo>
                      <a:lnTo>
                        <a:pt x="23" y="88"/>
                      </a:lnTo>
                      <a:lnTo>
                        <a:pt x="28" y="73"/>
                      </a:lnTo>
                      <a:lnTo>
                        <a:pt x="36" y="58"/>
                      </a:lnTo>
                      <a:lnTo>
                        <a:pt x="47" y="45"/>
                      </a:lnTo>
                      <a:lnTo>
                        <a:pt x="60" y="33"/>
                      </a:lnTo>
                      <a:lnTo>
                        <a:pt x="74" y="25"/>
                      </a:lnTo>
                      <a:lnTo>
                        <a:pt x="90" y="20"/>
                      </a:lnTo>
                      <a:lnTo>
                        <a:pt x="108" y="19"/>
                      </a:lnTo>
                      <a:lnTo>
                        <a:pt x="116" y="19"/>
                      </a:lnTo>
                      <a:lnTo>
                        <a:pt x="125" y="22"/>
                      </a:lnTo>
                      <a:lnTo>
                        <a:pt x="105" y="9"/>
                      </a:lnTo>
                      <a:lnTo>
                        <a:pt x="86" y="0"/>
                      </a:lnTo>
                      <a:lnTo>
                        <a:pt x="70" y="3"/>
                      </a:lnTo>
                      <a:lnTo>
                        <a:pt x="56" y="9"/>
                      </a:lnTo>
                      <a:lnTo>
                        <a:pt x="43" y="17"/>
                      </a:lnTo>
                      <a:lnTo>
                        <a:pt x="31" y="30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460840" y="3428280"/>
                  <a:ext cx="48960" cy="48960"/>
                </a:xfrm>
                <a:custGeom>
                  <a:avLst/>
                  <a:gdLst/>
                  <a:ahLst/>
                  <a:rect l="l" t="t" r="r" b="b"/>
                  <a:pathLst>
                    <a:path w="173" h="174">
                      <a:moveTo>
                        <a:pt x="103" y="3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1"/>
                      </a:lnTo>
                      <a:lnTo>
                        <a:pt x="52" y="6"/>
                      </a:lnTo>
                      <a:lnTo>
                        <a:pt x="38" y="14"/>
                      </a:lnTo>
                      <a:lnTo>
                        <a:pt x="25" y="26"/>
                      </a:lnTo>
                      <a:lnTo>
                        <a:pt x="14" y="39"/>
                      </a:lnTo>
                      <a:lnTo>
                        <a:pt x="6" y="54"/>
                      </a:lnTo>
                      <a:lnTo>
                        <a:pt x="1" y="69"/>
                      </a:lnTo>
                      <a:lnTo>
                        <a:pt x="0" y="88"/>
                      </a:lnTo>
                      <a:lnTo>
                        <a:pt x="1" y="103"/>
                      </a:lnTo>
                      <a:lnTo>
                        <a:pt x="6" y="119"/>
                      </a:lnTo>
                      <a:lnTo>
                        <a:pt x="14" y="134"/>
                      </a:lnTo>
                      <a:lnTo>
                        <a:pt x="25" y="148"/>
                      </a:lnTo>
                      <a:lnTo>
                        <a:pt x="38" y="158"/>
                      </a:lnTo>
                      <a:lnTo>
                        <a:pt x="52" y="167"/>
                      </a:lnTo>
                      <a:lnTo>
                        <a:pt x="68" y="172"/>
                      </a:lnTo>
                      <a:lnTo>
                        <a:pt x="86" y="174"/>
                      </a:lnTo>
                      <a:lnTo>
                        <a:pt x="102" y="172"/>
                      </a:lnTo>
                      <a:lnTo>
                        <a:pt x="118" y="167"/>
                      </a:lnTo>
                      <a:lnTo>
                        <a:pt x="125" y="162"/>
                      </a:lnTo>
                      <a:lnTo>
                        <a:pt x="133" y="158"/>
                      </a:lnTo>
                      <a:lnTo>
                        <a:pt x="140" y="152"/>
                      </a:lnTo>
                      <a:lnTo>
                        <a:pt x="148" y="148"/>
                      </a:lnTo>
                      <a:lnTo>
                        <a:pt x="158" y="134"/>
                      </a:lnTo>
                      <a:lnTo>
                        <a:pt x="159" y="130"/>
                      </a:lnTo>
                      <a:lnTo>
                        <a:pt x="161" y="126"/>
                      </a:lnTo>
                      <a:lnTo>
                        <a:pt x="166" y="119"/>
                      </a:lnTo>
                      <a:lnTo>
                        <a:pt x="170" y="103"/>
                      </a:lnTo>
                      <a:lnTo>
                        <a:pt x="173" y="88"/>
                      </a:lnTo>
                      <a:lnTo>
                        <a:pt x="170" y="66"/>
                      </a:lnTo>
                      <a:lnTo>
                        <a:pt x="164" y="48"/>
                      </a:lnTo>
                      <a:lnTo>
                        <a:pt x="134" y="23"/>
                      </a:lnTo>
                      <a:lnTo>
                        <a:pt x="118" y="12"/>
                      </a:lnTo>
                      <a:lnTo>
                        <a:pt x="103" y="3"/>
                      </a:lnTo>
                      <a:close/>
                      <a:moveTo>
                        <a:pt x="22" y="88"/>
                      </a:moveTo>
                      <a:lnTo>
                        <a:pt x="23" y="74"/>
                      </a:lnTo>
                      <a:lnTo>
                        <a:pt x="26" y="62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2"/>
                      </a:lnTo>
                      <a:lnTo>
                        <a:pt x="60" y="26"/>
                      </a:lnTo>
                      <a:lnTo>
                        <a:pt x="73" y="23"/>
                      </a:lnTo>
                      <a:lnTo>
                        <a:pt x="86" y="22"/>
                      </a:lnTo>
                      <a:lnTo>
                        <a:pt x="98" y="23"/>
                      </a:lnTo>
                      <a:lnTo>
                        <a:pt x="110" y="26"/>
                      </a:lnTo>
                      <a:lnTo>
                        <a:pt x="120" y="32"/>
                      </a:lnTo>
                      <a:lnTo>
                        <a:pt x="132" y="41"/>
                      </a:lnTo>
                      <a:lnTo>
                        <a:pt x="140" y="50"/>
                      </a:lnTo>
                      <a:lnTo>
                        <a:pt x="145" y="62"/>
                      </a:lnTo>
                      <a:lnTo>
                        <a:pt x="149" y="74"/>
                      </a:lnTo>
                      <a:lnTo>
                        <a:pt x="151" y="88"/>
                      </a:lnTo>
                      <a:lnTo>
                        <a:pt x="149" y="99"/>
                      </a:lnTo>
                      <a:lnTo>
                        <a:pt x="147" y="105"/>
                      </a:lnTo>
                      <a:lnTo>
                        <a:pt x="145" y="111"/>
                      </a:lnTo>
                      <a:lnTo>
                        <a:pt x="142" y="116"/>
                      </a:lnTo>
                      <a:lnTo>
                        <a:pt x="140" y="122"/>
                      </a:lnTo>
                      <a:lnTo>
                        <a:pt x="132" y="133"/>
                      </a:lnTo>
                      <a:lnTo>
                        <a:pt x="120" y="141"/>
                      </a:lnTo>
                      <a:lnTo>
                        <a:pt x="115" y="143"/>
                      </a:lnTo>
                      <a:lnTo>
                        <a:pt x="110" y="147"/>
                      </a:lnTo>
                      <a:lnTo>
                        <a:pt x="103" y="148"/>
                      </a:lnTo>
                      <a:lnTo>
                        <a:pt x="98" y="150"/>
                      </a:lnTo>
                      <a:lnTo>
                        <a:pt x="86" y="152"/>
                      </a:lnTo>
                      <a:lnTo>
                        <a:pt x="73" y="150"/>
                      </a:lnTo>
                      <a:lnTo>
                        <a:pt x="60" y="147"/>
                      </a:lnTo>
                      <a:lnTo>
                        <a:pt x="49" y="141"/>
                      </a:lnTo>
                      <a:lnTo>
                        <a:pt x="40" y="133"/>
                      </a:lnTo>
                      <a:lnTo>
                        <a:pt x="32" y="122"/>
                      </a:lnTo>
                      <a:lnTo>
                        <a:pt x="26" y="111"/>
                      </a:lnTo>
                      <a:lnTo>
                        <a:pt x="23" y="99"/>
                      </a:lnTo>
                      <a:lnTo>
                        <a:pt x="22" y="88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466960" y="3434040"/>
                  <a:ext cx="37080" cy="37440"/>
                </a:xfrm>
                <a:custGeom>
                  <a:avLst/>
                  <a:gdLst/>
                  <a:ahLst/>
                  <a:rect l="l" t="t" r="r" b="b"/>
                  <a:pathLst>
                    <a:path w="129" h="130">
                      <a:moveTo>
                        <a:pt x="18" y="19"/>
                      </a:moveTo>
                      <a:lnTo>
                        <a:pt x="10" y="28"/>
                      </a:lnTo>
                      <a:lnTo>
                        <a:pt x="4" y="40"/>
                      </a:lnTo>
                      <a:lnTo>
                        <a:pt x="1" y="52"/>
                      </a:lnTo>
                      <a:lnTo>
                        <a:pt x="0" y="66"/>
                      </a:lnTo>
                      <a:lnTo>
                        <a:pt x="1" y="77"/>
                      </a:lnTo>
                      <a:lnTo>
                        <a:pt x="4" y="89"/>
                      </a:lnTo>
                      <a:lnTo>
                        <a:pt x="10" y="100"/>
                      </a:lnTo>
                      <a:lnTo>
                        <a:pt x="18" y="111"/>
                      </a:lnTo>
                      <a:lnTo>
                        <a:pt x="27" y="119"/>
                      </a:lnTo>
                      <a:lnTo>
                        <a:pt x="38" y="125"/>
                      </a:lnTo>
                      <a:lnTo>
                        <a:pt x="51" y="128"/>
                      </a:lnTo>
                      <a:lnTo>
                        <a:pt x="64" y="130"/>
                      </a:lnTo>
                      <a:lnTo>
                        <a:pt x="76" y="128"/>
                      </a:lnTo>
                      <a:lnTo>
                        <a:pt x="81" y="126"/>
                      </a:lnTo>
                      <a:lnTo>
                        <a:pt x="88" y="125"/>
                      </a:lnTo>
                      <a:lnTo>
                        <a:pt x="93" y="121"/>
                      </a:lnTo>
                      <a:lnTo>
                        <a:pt x="98" y="119"/>
                      </a:lnTo>
                      <a:lnTo>
                        <a:pt x="110" y="111"/>
                      </a:lnTo>
                      <a:lnTo>
                        <a:pt x="118" y="100"/>
                      </a:lnTo>
                      <a:lnTo>
                        <a:pt x="120" y="94"/>
                      </a:lnTo>
                      <a:lnTo>
                        <a:pt x="123" y="89"/>
                      </a:lnTo>
                      <a:lnTo>
                        <a:pt x="125" y="83"/>
                      </a:lnTo>
                      <a:lnTo>
                        <a:pt x="127" y="77"/>
                      </a:lnTo>
                      <a:lnTo>
                        <a:pt x="129" y="66"/>
                      </a:lnTo>
                      <a:lnTo>
                        <a:pt x="127" y="52"/>
                      </a:lnTo>
                      <a:lnTo>
                        <a:pt x="123" y="40"/>
                      </a:lnTo>
                      <a:lnTo>
                        <a:pt x="118" y="28"/>
                      </a:lnTo>
                      <a:lnTo>
                        <a:pt x="110" y="19"/>
                      </a:lnTo>
                      <a:lnTo>
                        <a:pt x="98" y="10"/>
                      </a:lnTo>
                      <a:lnTo>
                        <a:pt x="88" y="4"/>
                      </a:lnTo>
                      <a:lnTo>
                        <a:pt x="76" y="1"/>
                      </a:lnTo>
                      <a:lnTo>
                        <a:pt x="64" y="0"/>
                      </a:lnTo>
                      <a:lnTo>
                        <a:pt x="51" y="1"/>
                      </a:lnTo>
                      <a:lnTo>
                        <a:pt x="38" y="4"/>
                      </a:lnTo>
                      <a:lnTo>
                        <a:pt x="27" y="10"/>
                      </a:lnTo>
                      <a:lnTo>
                        <a:pt x="18" y="19"/>
                      </a:lnTo>
                      <a:close/>
                      <a:moveTo>
                        <a:pt x="21" y="66"/>
                      </a:moveTo>
                      <a:lnTo>
                        <a:pt x="24" y="49"/>
                      </a:lnTo>
                      <a:lnTo>
                        <a:pt x="34" y="34"/>
                      </a:lnTo>
                      <a:lnTo>
                        <a:pt x="39" y="27"/>
                      </a:lnTo>
                      <a:lnTo>
                        <a:pt x="47" y="24"/>
                      </a:lnTo>
                      <a:lnTo>
                        <a:pt x="64" y="21"/>
                      </a:lnTo>
                      <a:lnTo>
                        <a:pt x="72" y="21"/>
                      </a:lnTo>
                      <a:lnTo>
                        <a:pt x="80" y="24"/>
                      </a:lnTo>
                      <a:lnTo>
                        <a:pt x="87" y="27"/>
                      </a:lnTo>
                      <a:lnTo>
                        <a:pt x="95" y="34"/>
                      </a:lnTo>
                      <a:lnTo>
                        <a:pt x="104" y="49"/>
                      </a:lnTo>
                      <a:lnTo>
                        <a:pt x="106" y="57"/>
                      </a:lnTo>
                      <a:lnTo>
                        <a:pt x="107" y="66"/>
                      </a:lnTo>
                      <a:lnTo>
                        <a:pt x="106" y="72"/>
                      </a:lnTo>
                      <a:lnTo>
                        <a:pt x="104" y="81"/>
                      </a:lnTo>
                      <a:lnTo>
                        <a:pt x="100" y="88"/>
                      </a:lnTo>
                      <a:lnTo>
                        <a:pt x="95" y="96"/>
                      </a:lnTo>
                      <a:lnTo>
                        <a:pt x="87" y="101"/>
                      </a:lnTo>
                      <a:lnTo>
                        <a:pt x="80" y="105"/>
                      </a:lnTo>
                      <a:lnTo>
                        <a:pt x="72" y="108"/>
                      </a:lnTo>
                      <a:lnTo>
                        <a:pt x="68" y="108"/>
                      </a:lnTo>
                      <a:lnTo>
                        <a:pt x="66" y="108"/>
                      </a:lnTo>
                      <a:lnTo>
                        <a:pt x="64" y="108"/>
                      </a:lnTo>
                      <a:lnTo>
                        <a:pt x="64" y="109"/>
                      </a:lnTo>
                      <a:lnTo>
                        <a:pt x="55" y="108"/>
                      </a:lnTo>
                      <a:lnTo>
                        <a:pt x="47" y="105"/>
                      </a:lnTo>
                      <a:lnTo>
                        <a:pt x="39" y="101"/>
                      </a:lnTo>
                      <a:lnTo>
                        <a:pt x="34" y="96"/>
                      </a:lnTo>
                      <a:lnTo>
                        <a:pt x="27" y="88"/>
                      </a:lnTo>
                      <a:lnTo>
                        <a:pt x="24" y="81"/>
                      </a:lnTo>
                      <a:lnTo>
                        <a:pt x="21" y="66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473440" y="3440160"/>
                  <a:ext cx="24480" cy="24840"/>
                </a:xfrm>
                <a:custGeom>
                  <a:avLst/>
                  <a:gdLst/>
                  <a:ahLst/>
                  <a:rect l="l" t="t" r="r" b="b"/>
                  <a:pathLst>
                    <a:path w="86" h="88">
                      <a:moveTo>
                        <a:pt x="13" y="13"/>
                      </a:moveTo>
                      <a:lnTo>
                        <a:pt x="3" y="28"/>
                      </a:lnTo>
                      <a:lnTo>
                        <a:pt x="0" y="45"/>
                      </a:lnTo>
                      <a:lnTo>
                        <a:pt x="3" y="60"/>
                      </a:lnTo>
                      <a:lnTo>
                        <a:pt x="6" y="67"/>
                      </a:lnTo>
                      <a:lnTo>
                        <a:pt x="13" y="75"/>
                      </a:lnTo>
                      <a:lnTo>
                        <a:pt x="18" y="80"/>
                      </a:lnTo>
                      <a:lnTo>
                        <a:pt x="26" y="84"/>
                      </a:lnTo>
                      <a:lnTo>
                        <a:pt x="34" y="87"/>
                      </a:lnTo>
                      <a:lnTo>
                        <a:pt x="43" y="88"/>
                      </a:lnTo>
                      <a:lnTo>
                        <a:pt x="43" y="87"/>
                      </a:lnTo>
                      <a:lnTo>
                        <a:pt x="45" y="87"/>
                      </a:lnTo>
                      <a:lnTo>
                        <a:pt x="47" y="87"/>
                      </a:lnTo>
                      <a:lnTo>
                        <a:pt x="51" y="87"/>
                      </a:lnTo>
                      <a:lnTo>
                        <a:pt x="59" y="84"/>
                      </a:lnTo>
                      <a:lnTo>
                        <a:pt x="66" y="80"/>
                      </a:lnTo>
                      <a:lnTo>
                        <a:pt x="74" y="75"/>
                      </a:lnTo>
                      <a:lnTo>
                        <a:pt x="79" y="67"/>
                      </a:lnTo>
                      <a:lnTo>
                        <a:pt x="83" y="60"/>
                      </a:lnTo>
                      <a:lnTo>
                        <a:pt x="85" y="51"/>
                      </a:lnTo>
                      <a:lnTo>
                        <a:pt x="86" y="45"/>
                      </a:lnTo>
                      <a:lnTo>
                        <a:pt x="85" y="36"/>
                      </a:lnTo>
                      <a:lnTo>
                        <a:pt x="83" y="28"/>
                      </a:lnTo>
                      <a:lnTo>
                        <a:pt x="74" y="13"/>
                      </a:lnTo>
                      <a:lnTo>
                        <a:pt x="66" y="6"/>
                      </a:lnTo>
                      <a:lnTo>
                        <a:pt x="59" y="3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3"/>
                      </a:lnTo>
                      <a:lnTo>
                        <a:pt x="18" y="6"/>
                      </a:lnTo>
                      <a:lnTo>
                        <a:pt x="13" y="13"/>
                      </a:lnTo>
                      <a:close/>
                      <a:moveTo>
                        <a:pt x="22" y="45"/>
                      </a:moveTo>
                      <a:lnTo>
                        <a:pt x="23" y="36"/>
                      </a:lnTo>
                      <a:lnTo>
                        <a:pt x="28" y="29"/>
                      </a:lnTo>
                      <a:lnTo>
                        <a:pt x="34" y="24"/>
                      </a:lnTo>
                      <a:lnTo>
                        <a:pt x="43" y="23"/>
                      </a:lnTo>
                      <a:lnTo>
                        <a:pt x="51" y="24"/>
                      </a:lnTo>
                      <a:lnTo>
                        <a:pt x="58" y="29"/>
                      </a:lnTo>
                      <a:lnTo>
                        <a:pt x="63" y="36"/>
                      </a:lnTo>
                      <a:lnTo>
                        <a:pt x="65" y="45"/>
                      </a:lnTo>
                      <a:lnTo>
                        <a:pt x="63" y="51"/>
                      </a:lnTo>
                      <a:lnTo>
                        <a:pt x="60" y="55"/>
                      </a:lnTo>
                      <a:lnTo>
                        <a:pt x="58" y="59"/>
                      </a:lnTo>
                      <a:lnTo>
                        <a:pt x="51" y="63"/>
                      </a:lnTo>
                      <a:lnTo>
                        <a:pt x="47" y="64"/>
                      </a:lnTo>
                      <a:lnTo>
                        <a:pt x="45" y="64"/>
                      </a:lnTo>
                      <a:lnTo>
                        <a:pt x="43" y="64"/>
                      </a:lnTo>
                      <a:lnTo>
                        <a:pt x="43" y="65"/>
                      </a:lnTo>
                      <a:lnTo>
                        <a:pt x="34" y="63"/>
                      </a:lnTo>
                      <a:lnTo>
                        <a:pt x="28" y="59"/>
                      </a:lnTo>
                      <a:lnTo>
                        <a:pt x="24" y="55"/>
                      </a:lnTo>
                      <a:lnTo>
                        <a:pt x="23" y="51"/>
                      </a:lnTo>
                      <a:lnTo>
                        <a:pt x="22" y="45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479200" y="344736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6" y="6"/>
                      </a:moveTo>
                      <a:lnTo>
                        <a:pt x="1" y="13"/>
                      </a:lnTo>
                      <a:lnTo>
                        <a:pt x="0" y="22"/>
                      </a:lnTo>
                      <a:lnTo>
                        <a:pt x="1" y="28"/>
                      </a:lnTo>
                      <a:lnTo>
                        <a:pt x="2" y="32"/>
                      </a:lnTo>
                      <a:lnTo>
                        <a:pt x="6" y="36"/>
                      </a:lnTo>
                      <a:lnTo>
                        <a:pt x="12" y="40"/>
                      </a:lnTo>
                      <a:lnTo>
                        <a:pt x="21" y="42"/>
                      </a:lnTo>
                      <a:lnTo>
                        <a:pt x="21" y="41"/>
                      </a:lnTo>
                      <a:lnTo>
                        <a:pt x="23" y="41"/>
                      </a:lnTo>
                      <a:lnTo>
                        <a:pt x="25" y="41"/>
                      </a:lnTo>
                      <a:lnTo>
                        <a:pt x="29" y="40"/>
                      </a:lnTo>
                      <a:lnTo>
                        <a:pt x="36" y="36"/>
                      </a:lnTo>
                      <a:lnTo>
                        <a:pt x="38" y="32"/>
                      </a:lnTo>
                      <a:lnTo>
                        <a:pt x="41" y="28"/>
                      </a:lnTo>
                      <a:lnTo>
                        <a:pt x="43" y="22"/>
                      </a:lnTo>
                      <a:lnTo>
                        <a:pt x="41" y="13"/>
                      </a:lnTo>
                      <a:lnTo>
                        <a:pt x="36" y="6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343480" y="345240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0" y="4"/>
                      </a:moveTo>
                      <a:lnTo>
                        <a:pt x="20" y="0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2" y="73"/>
                      </a:lnTo>
                      <a:lnTo>
                        <a:pt x="11" y="118"/>
                      </a:lnTo>
                      <a:lnTo>
                        <a:pt x="22" y="161"/>
                      </a:lnTo>
                      <a:lnTo>
                        <a:pt x="39" y="203"/>
                      </a:lnTo>
                      <a:lnTo>
                        <a:pt x="59" y="243"/>
                      </a:lnTo>
                      <a:lnTo>
                        <a:pt x="84" y="281"/>
                      </a:lnTo>
                      <a:lnTo>
                        <a:pt x="96" y="300"/>
                      </a:lnTo>
                      <a:lnTo>
                        <a:pt x="111" y="319"/>
                      </a:lnTo>
                      <a:lnTo>
                        <a:pt x="145" y="355"/>
                      </a:lnTo>
                      <a:lnTo>
                        <a:pt x="181" y="389"/>
                      </a:lnTo>
                      <a:lnTo>
                        <a:pt x="221" y="419"/>
                      </a:lnTo>
                      <a:lnTo>
                        <a:pt x="261" y="444"/>
                      </a:lnTo>
                      <a:lnTo>
                        <a:pt x="305" y="464"/>
                      </a:lnTo>
                      <a:lnTo>
                        <a:pt x="349" y="480"/>
                      </a:lnTo>
                      <a:lnTo>
                        <a:pt x="397" y="491"/>
                      </a:lnTo>
                      <a:lnTo>
                        <a:pt x="445" y="498"/>
                      </a:lnTo>
                      <a:lnTo>
                        <a:pt x="496" y="500"/>
                      </a:lnTo>
                      <a:lnTo>
                        <a:pt x="526" y="499"/>
                      </a:lnTo>
                      <a:lnTo>
                        <a:pt x="557" y="497"/>
                      </a:lnTo>
                      <a:lnTo>
                        <a:pt x="586" y="492"/>
                      </a:lnTo>
                      <a:lnTo>
                        <a:pt x="615" y="487"/>
                      </a:lnTo>
                      <a:lnTo>
                        <a:pt x="636" y="459"/>
                      </a:lnTo>
                      <a:lnTo>
                        <a:pt x="602" y="467"/>
                      </a:lnTo>
                      <a:lnTo>
                        <a:pt x="568" y="473"/>
                      </a:lnTo>
                      <a:lnTo>
                        <a:pt x="532" y="476"/>
                      </a:lnTo>
                      <a:lnTo>
                        <a:pt x="513" y="478"/>
                      </a:lnTo>
                      <a:lnTo>
                        <a:pt x="504" y="478"/>
                      </a:lnTo>
                      <a:lnTo>
                        <a:pt x="500" y="478"/>
                      </a:lnTo>
                      <a:lnTo>
                        <a:pt x="498" y="478"/>
                      </a:lnTo>
                      <a:lnTo>
                        <a:pt x="496" y="478"/>
                      </a:lnTo>
                      <a:lnTo>
                        <a:pt x="496" y="479"/>
                      </a:lnTo>
                      <a:lnTo>
                        <a:pt x="447" y="476"/>
                      </a:lnTo>
                      <a:lnTo>
                        <a:pt x="400" y="470"/>
                      </a:lnTo>
                      <a:lnTo>
                        <a:pt x="355" y="458"/>
                      </a:lnTo>
                      <a:lnTo>
                        <a:pt x="313" y="444"/>
                      </a:lnTo>
                      <a:lnTo>
                        <a:pt x="271" y="423"/>
                      </a:lnTo>
                      <a:lnTo>
                        <a:pt x="232" y="399"/>
                      </a:lnTo>
                      <a:lnTo>
                        <a:pt x="195" y="371"/>
                      </a:lnTo>
                      <a:lnTo>
                        <a:pt x="160" y="339"/>
                      </a:lnTo>
                      <a:lnTo>
                        <a:pt x="126" y="303"/>
                      </a:lnTo>
                      <a:lnTo>
                        <a:pt x="97" y="266"/>
                      </a:lnTo>
                      <a:lnTo>
                        <a:pt x="84" y="245"/>
                      </a:lnTo>
                      <a:lnTo>
                        <a:pt x="72" y="226"/>
                      </a:lnTo>
                      <a:lnTo>
                        <a:pt x="54" y="185"/>
                      </a:lnTo>
                      <a:lnTo>
                        <a:pt x="38" y="142"/>
                      </a:lnTo>
                      <a:lnTo>
                        <a:pt x="28" y="98"/>
                      </a:lnTo>
                      <a:lnTo>
                        <a:pt x="24" y="74"/>
                      </a:lnTo>
                      <a:lnTo>
                        <a:pt x="21" y="5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349240" y="3445560"/>
                  <a:ext cx="181080" cy="143280"/>
                </a:xfrm>
                <a:custGeom>
                  <a:avLst/>
                  <a:gdLst/>
                  <a:ahLst/>
                  <a:rect l="l" t="t" r="r" b="b"/>
                  <a:pathLst>
                    <a:path w="634" h="503">
                      <a:moveTo>
                        <a:pt x="0" y="24"/>
                      </a:moveTo>
                      <a:lnTo>
                        <a:pt x="0" y="28"/>
                      </a:lnTo>
                      <a:lnTo>
                        <a:pt x="1" y="75"/>
                      </a:lnTo>
                      <a:lnTo>
                        <a:pt x="4" y="98"/>
                      </a:lnTo>
                      <a:lnTo>
                        <a:pt x="8" y="122"/>
                      </a:lnTo>
                      <a:lnTo>
                        <a:pt x="18" y="166"/>
                      </a:lnTo>
                      <a:lnTo>
                        <a:pt x="34" y="209"/>
                      </a:lnTo>
                      <a:lnTo>
                        <a:pt x="52" y="250"/>
                      </a:lnTo>
                      <a:lnTo>
                        <a:pt x="64" y="269"/>
                      </a:lnTo>
                      <a:lnTo>
                        <a:pt x="77" y="290"/>
                      </a:lnTo>
                      <a:lnTo>
                        <a:pt x="106" y="327"/>
                      </a:lnTo>
                      <a:lnTo>
                        <a:pt x="140" y="363"/>
                      </a:lnTo>
                      <a:lnTo>
                        <a:pt x="175" y="395"/>
                      </a:lnTo>
                      <a:lnTo>
                        <a:pt x="212" y="423"/>
                      </a:lnTo>
                      <a:lnTo>
                        <a:pt x="251" y="447"/>
                      </a:lnTo>
                      <a:lnTo>
                        <a:pt x="293" y="468"/>
                      </a:lnTo>
                      <a:lnTo>
                        <a:pt x="335" y="482"/>
                      </a:lnTo>
                      <a:lnTo>
                        <a:pt x="380" y="494"/>
                      </a:lnTo>
                      <a:lnTo>
                        <a:pt x="427" y="500"/>
                      </a:lnTo>
                      <a:lnTo>
                        <a:pt x="476" y="503"/>
                      </a:lnTo>
                      <a:lnTo>
                        <a:pt x="476" y="502"/>
                      </a:lnTo>
                      <a:lnTo>
                        <a:pt x="478" y="502"/>
                      </a:lnTo>
                      <a:lnTo>
                        <a:pt x="480" y="502"/>
                      </a:lnTo>
                      <a:lnTo>
                        <a:pt x="484" y="502"/>
                      </a:lnTo>
                      <a:lnTo>
                        <a:pt x="493" y="502"/>
                      </a:lnTo>
                      <a:lnTo>
                        <a:pt x="512" y="500"/>
                      </a:lnTo>
                      <a:lnTo>
                        <a:pt x="548" y="497"/>
                      </a:lnTo>
                      <a:lnTo>
                        <a:pt x="582" y="491"/>
                      </a:lnTo>
                      <a:lnTo>
                        <a:pt x="616" y="483"/>
                      </a:lnTo>
                      <a:lnTo>
                        <a:pt x="634" y="454"/>
                      </a:lnTo>
                      <a:lnTo>
                        <a:pt x="595" y="465"/>
                      </a:lnTo>
                      <a:lnTo>
                        <a:pt x="557" y="474"/>
                      </a:lnTo>
                      <a:lnTo>
                        <a:pt x="537" y="477"/>
                      </a:lnTo>
                      <a:lnTo>
                        <a:pt x="517" y="479"/>
                      </a:lnTo>
                      <a:lnTo>
                        <a:pt x="476" y="481"/>
                      </a:lnTo>
                      <a:lnTo>
                        <a:pt x="429" y="479"/>
                      </a:lnTo>
                      <a:lnTo>
                        <a:pt x="385" y="472"/>
                      </a:lnTo>
                      <a:lnTo>
                        <a:pt x="341" y="461"/>
                      </a:lnTo>
                      <a:lnTo>
                        <a:pt x="302" y="447"/>
                      </a:lnTo>
                      <a:lnTo>
                        <a:pt x="262" y="428"/>
                      </a:lnTo>
                      <a:lnTo>
                        <a:pt x="225" y="405"/>
                      </a:lnTo>
                      <a:lnTo>
                        <a:pt x="188" y="378"/>
                      </a:lnTo>
                      <a:lnTo>
                        <a:pt x="156" y="347"/>
                      </a:lnTo>
                      <a:lnTo>
                        <a:pt x="139" y="329"/>
                      </a:lnTo>
                      <a:lnTo>
                        <a:pt x="124" y="312"/>
                      </a:lnTo>
                      <a:lnTo>
                        <a:pt x="97" y="276"/>
                      </a:lnTo>
                      <a:lnTo>
                        <a:pt x="84" y="257"/>
                      </a:lnTo>
                      <a:lnTo>
                        <a:pt x="74" y="238"/>
                      </a:lnTo>
                      <a:lnTo>
                        <a:pt x="56" y="200"/>
                      </a:lnTo>
                      <a:lnTo>
                        <a:pt x="40" y="159"/>
                      </a:lnTo>
                      <a:lnTo>
                        <a:pt x="34" y="138"/>
                      </a:lnTo>
                      <a:lnTo>
                        <a:pt x="31" y="117"/>
                      </a:lnTo>
                      <a:lnTo>
                        <a:pt x="26" y="94"/>
                      </a:lnTo>
                      <a:lnTo>
                        <a:pt x="24" y="73"/>
                      </a:lnTo>
                      <a:lnTo>
                        <a:pt x="23" y="28"/>
                      </a:lnTo>
                      <a:lnTo>
                        <a:pt x="2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374440" y="3424320"/>
                  <a:ext cx="16704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7">
                      <a:moveTo>
                        <a:pt x="34" y="0"/>
                      </a:moveTo>
                      <a:lnTo>
                        <a:pt x="9" y="15"/>
                      </a:lnTo>
                      <a:lnTo>
                        <a:pt x="4" y="34"/>
                      </a:lnTo>
                      <a:lnTo>
                        <a:pt x="2" y="55"/>
                      </a:lnTo>
                      <a:lnTo>
                        <a:pt x="0" y="100"/>
                      </a:lnTo>
                      <a:lnTo>
                        <a:pt x="1" y="138"/>
                      </a:lnTo>
                      <a:lnTo>
                        <a:pt x="6" y="177"/>
                      </a:lnTo>
                      <a:lnTo>
                        <a:pt x="14" y="213"/>
                      </a:lnTo>
                      <a:lnTo>
                        <a:pt x="20" y="230"/>
                      </a:lnTo>
                      <a:lnTo>
                        <a:pt x="28" y="248"/>
                      </a:lnTo>
                      <a:lnTo>
                        <a:pt x="43" y="281"/>
                      </a:lnTo>
                      <a:lnTo>
                        <a:pt x="52" y="297"/>
                      </a:lnTo>
                      <a:lnTo>
                        <a:pt x="63" y="314"/>
                      </a:lnTo>
                      <a:lnTo>
                        <a:pt x="73" y="329"/>
                      </a:lnTo>
                      <a:lnTo>
                        <a:pt x="86" y="345"/>
                      </a:lnTo>
                      <a:lnTo>
                        <a:pt x="113" y="374"/>
                      </a:lnTo>
                      <a:lnTo>
                        <a:pt x="141" y="400"/>
                      </a:lnTo>
                      <a:lnTo>
                        <a:pt x="172" y="423"/>
                      </a:lnTo>
                      <a:lnTo>
                        <a:pt x="204" y="442"/>
                      </a:lnTo>
                      <a:lnTo>
                        <a:pt x="239" y="459"/>
                      </a:lnTo>
                      <a:lnTo>
                        <a:pt x="273" y="470"/>
                      </a:lnTo>
                      <a:lnTo>
                        <a:pt x="310" y="479"/>
                      </a:lnTo>
                      <a:lnTo>
                        <a:pt x="348" y="485"/>
                      </a:lnTo>
                      <a:lnTo>
                        <a:pt x="388" y="487"/>
                      </a:lnTo>
                      <a:lnTo>
                        <a:pt x="413" y="486"/>
                      </a:lnTo>
                      <a:lnTo>
                        <a:pt x="439" y="484"/>
                      </a:lnTo>
                      <a:lnTo>
                        <a:pt x="463" y="479"/>
                      </a:lnTo>
                      <a:lnTo>
                        <a:pt x="488" y="475"/>
                      </a:lnTo>
                      <a:lnTo>
                        <a:pt x="511" y="467"/>
                      </a:lnTo>
                      <a:lnTo>
                        <a:pt x="522" y="462"/>
                      </a:lnTo>
                      <a:lnTo>
                        <a:pt x="528" y="460"/>
                      </a:lnTo>
                      <a:lnTo>
                        <a:pt x="535" y="459"/>
                      </a:lnTo>
                      <a:lnTo>
                        <a:pt x="539" y="456"/>
                      </a:lnTo>
                      <a:lnTo>
                        <a:pt x="545" y="453"/>
                      </a:lnTo>
                      <a:lnTo>
                        <a:pt x="556" y="449"/>
                      </a:lnTo>
                      <a:lnTo>
                        <a:pt x="579" y="439"/>
                      </a:lnTo>
                      <a:lnTo>
                        <a:pt x="581" y="424"/>
                      </a:lnTo>
                      <a:lnTo>
                        <a:pt x="585" y="410"/>
                      </a:lnTo>
                      <a:lnTo>
                        <a:pt x="562" y="423"/>
                      </a:lnTo>
                      <a:lnTo>
                        <a:pt x="539" y="434"/>
                      </a:lnTo>
                      <a:lnTo>
                        <a:pt x="515" y="443"/>
                      </a:lnTo>
                      <a:lnTo>
                        <a:pt x="509" y="444"/>
                      </a:lnTo>
                      <a:lnTo>
                        <a:pt x="503" y="447"/>
                      </a:lnTo>
                      <a:lnTo>
                        <a:pt x="492" y="451"/>
                      </a:lnTo>
                      <a:lnTo>
                        <a:pt x="478" y="453"/>
                      </a:lnTo>
                      <a:lnTo>
                        <a:pt x="471" y="454"/>
                      </a:lnTo>
                      <a:lnTo>
                        <a:pt x="466" y="457"/>
                      </a:lnTo>
                      <a:lnTo>
                        <a:pt x="441" y="461"/>
                      </a:lnTo>
                      <a:lnTo>
                        <a:pt x="427" y="462"/>
                      </a:lnTo>
                      <a:lnTo>
                        <a:pt x="414" y="465"/>
                      </a:lnTo>
                      <a:lnTo>
                        <a:pt x="401" y="465"/>
                      </a:lnTo>
                      <a:lnTo>
                        <a:pt x="394" y="465"/>
                      </a:lnTo>
                      <a:lnTo>
                        <a:pt x="391" y="465"/>
                      </a:lnTo>
                      <a:lnTo>
                        <a:pt x="388" y="466"/>
                      </a:lnTo>
                      <a:lnTo>
                        <a:pt x="350" y="464"/>
                      </a:lnTo>
                      <a:lnTo>
                        <a:pt x="315" y="459"/>
                      </a:lnTo>
                      <a:lnTo>
                        <a:pt x="280" y="450"/>
                      </a:lnTo>
                      <a:lnTo>
                        <a:pt x="247" y="439"/>
                      </a:lnTo>
                      <a:lnTo>
                        <a:pt x="214" y="423"/>
                      </a:lnTo>
                      <a:lnTo>
                        <a:pt x="184" y="405"/>
                      </a:lnTo>
                      <a:lnTo>
                        <a:pt x="155" y="383"/>
                      </a:lnTo>
                      <a:lnTo>
                        <a:pt x="129" y="359"/>
                      </a:lnTo>
                      <a:lnTo>
                        <a:pt x="103" y="331"/>
                      </a:lnTo>
                      <a:lnTo>
                        <a:pt x="81" y="301"/>
                      </a:lnTo>
                      <a:lnTo>
                        <a:pt x="62" y="271"/>
                      </a:lnTo>
                      <a:lnTo>
                        <a:pt x="47" y="240"/>
                      </a:lnTo>
                      <a:lnTo>
                        <a:pt x="35" y="206"/>
                      </a:lnTo>
                      <a:lnTo>
                        <a:pt x="27" y="172"/>
                      </a:lnTo>
                      <a:lnTo>
                        <a:pt x="22" y="136"/>
                      </a:lnTo>
                      <a:lnTo>
                        <a:pt x="21" y="100"/>
                      </a:lnTo>
                      <a:lnTo>
                        <a:pt x="21" y="72"/>
                      </a:lnTo>
                      <a:lnTo>
                        <a:pt x="23" y="47"/>
                      </a:lnTo>
                      <a:lnTo>
                        <a:pt x="27" y="23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355720" y="3439080"/>
                  <a:ext cx="178920" cy="143280"/>
                </a:xfrm>
                <a:custGeom>
                  <a:avLst/>
                  <a:gdLst/>
                  <a:ahLst/>
                  <a:rect l="l" t="t" r="r" b="b"/>
                  <a:pathLst>
                    <a:path w="625" h="502">
                      <a:moveTo>
                        <a:pt x="0" y="21"/>
                      </a:moveTo>
                      <a:lnTo>
                        <a:pt x="0" y="49"/>
                      </a:lnTo>
                      <a:lnTo>
                        <a:pt x="1" y="94"/>
                      </a:lnTo>
                      <a:lnTo>
                        <a:pt x="3" y="115"/>
                      </a:lnTo>
                      <a:lnTo>
                        <a:pt x="8" y="138"/>
                      </a:lnTo>
                      <a:lnTo>
                        <a:pt x="11" y="159"/>
                      </a:lnTo>
                      <a:lnTo>
                        <a:pt x="17" y="180"/>
                      </a:lnTo>
                      <a:lnTo>
                        <a:pt x="33" y="221"/>
                      </a:lnTo>
                      <a:lnTo>
                        <a:pt x="51" y="259"/>
                      </a:lnTo>
                      <a:lnTo>
                        <a:pt x="61" y="278"/>
                      </a:lnTo>
                      <a:lnTo>
                        <a:pt x="74" y="297"/>
                      </a:lnTo>
                      <a:lnTo>
                        <a:pt x="101" y="333"/>
                      </a:lnTo>
                      <a:lnTo>
                        <a:pt x="116" y="350"/>
                      </a:lnTo>
                      <a:lnTo>
                        <a:pt x="133" y="368"/>
                      </a:lnTo>
                      <a:lnTo>
                        <a:pt x="165" y="399"/>
                      </a:lnTo>
                      <a:lnTo>
                        <a:pt x="202" y="426"/>
                      </a:lnTo>
                      <a:lnTo>
                        <a:pt x="239" y="449"/>
                      </a:lnTo>
                      <a:lnTo>
                        <a:pt x="279" y="468"/>
                      </a:lnTo>
                      <a:lnTo>
                        <a:pt x="318" y="482"/>
                      </a:lnTo>
                      <a:lnTo>
                        <a:pt x="362" y="493"/>
                      </a:lnTo>
                      <a:lnTo>
                        <a:pt x="406" y="500"/>
                      </a:lnTo>
                      <a:lnTo>
                        <a:pt x="453" y="502"/>
                      </a:lnTo>
                      <a:lnTo>
                        <a:pt x="494" y="500"/>
                      </a:lnTo>
                      <a:lnTo>
                        <a:pt x="514" y="498"/>
                      </a:lnTo>
                      <a:lnTo>
                        <a:pt x="534" y="495"/>
                      </a:lnTo>
                      <a:lnTo>
                        <a:pt x="572" y="486"/>
                      </a:lnTo>
                      <a:lnTo>
                        <a:pt x="611" y="475"/>
                      </a:lnTo>
                      <a:lnTo>
                        <a:pt x="625" y="447"/>
                      </a:lnTo>
                      <a:lnTo>
                        <a:pt x="584" y="460"/>
                      </a:lnTo>
                      <a:lnTo>
                        <a:pt x="572" y="462"/>
                      </a:lnTo>
                      <a:lnTo>
                        <a:pt x="569" y="462"/>
                      </a:lnTo>
                      <a:lnTo>
                        <a:pt x="567" y="464"/>
                      </a:lnTo>
                      <a:lnTo>
                        <a:pt x="562" y="466"/>
                      </a:lnTo>
                      <a:lnTo>
                        <a:pt x="542" y="472"/>
                      </a:lnTo>
                      <a:lnTo>
                        <a:pt x="519" y="475"/>
                      </a:lnTo>
                      <a:lnTo>
                        <a:pt x="508" y="476"/>
                      </a:lnTo>
                      <a:lnTo>
                        <a:pt x="498" y="478"/>
                      </a:lnTo>
                      <a:lnTo>
                        <a:pt x="475" y="479"/>
                      </a:lnTo>
                      <a:lnTo>
                        <a:pt x="464" y="479"/>
                      </a:lnTo>
                      <a:lnTo>
                        <a:pt x="458" y="479"/>
                      </a:lnTo>
                      <a:lnTo>
                        <a:pt x="453" y="481"/>
                      </a:lnTo>
                      <a:lnTo>
                        <a:pt x="408" y="478"/>
                      </a:lnTo>
                      <a:lnTo>
                        <a:pt x="366" y="473"/>
                      </a:lnTo>
                      <a:lnTo>
                        <a:pt x="325" y="462"/>
                      </a:lnTo>
                      <a:lnTo>
                        <a:pt x="287" y="449"/>
                      </a:lnTo>
                      <a:lnTo>
                        <a:pt x="248" y="431"/>
                      </a:lnTo>
                      <a:lnTo>
                        <a:pt x="213" y="409"/>
                      </a:lnTo>
                      <a:lnTo>
                        <a:pt x="179" y="383"/>
                      </a:lnTo>
                      <a:lnTo>
                        <a:pt x="147" y="354"/>
                      </a:lnTo>
                      <a:lnTo>
                        <a:pt x="117" y="321"/>
                      </a:lnTo>
                      <a:lnTo>
                        <a:pt x="92" y="287"/>
                      </a:lnTo>
                      <a:lnTo>
                        <a:pt x="69" y="250"/>
                      </a:lnTo>
                      <a:lnTo>
                        <a:pt x="52" y="213"/>
                      </a:lnTo>
                      <a:lnTo>
                        <a:pt x="37" y="173"/>
                      </a:lnTo>
                      <a:lnTo>
                        <a:pt x="32" y="153"/>
                      </a:lnTo>
                      <a:lnTo>
                        <a:pt x="28" y="134"/>
                      </a:lnTo>
                      <a:lnTo>
                        <a:pt x="23" y="92"/>
                      </a:lnTo>
                      <a:lnTo>
                        <a:pt x="21" y="49"/>
                      </a:lnTo>
                      <a:lnTo>
                        <a:pt x="21" y="23"/>
                      </a:lnTo>
                      <a:lnTo>
                        <a:pt x="24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361840" y="3433320"/>
                  <a:ext cx="175320" cy="142560"/>
                </a:xfrm>
                <a:custGeom>
                  <a:avLst/>
                  <a:gdLst/>
                  <a:ahLst/>
                  <a:rect l="l" t="t" r="r" b="b"/>
                  <a:pathLst>
                    <a:path w="615" h="500">
                      <a:moveTo>
                        <a:pt x="22" y="68"/>
                      </a:moveTo>
                      <a:lnTo>
                        <a:pt x="23" y="32"/>
                      </a:lnTo>
                      <a:lnTo>
                        <a:pt x="27" y="0"/>
                      </a:lnTo>
                      <a:lnTo>
                        <a:pt x="3" y="19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2" y="111"/>
                      </a:lnTo>
                      <a:lnTo>
                        <a:pt x="7" y="153"/>
                      </a:lnTo>
                      <a:lnTo>
                        <a:pt x="11" y="172"/>
                      </a:lnTo>
                      <a:lnTo>
                        <a:pt x="16" y="192"/>
                      </a:lnTo>
                      <a:lnTo>
                        <a:pt x="31" y="232"/>
                      </a:lnTo>
                      <a:lnTo>
                        <a:pt x="48" y="269"/>
                      </a:lnTo>
                      <a:lnTo>
                        <a:pt x="71" y="306"/>
                      </a:lnTo>
                      <a:lnTo>
                        <a:pt x="96" y="340"/>
                      </a:lnTo>
                      <a:lnTo>
                        <a:pt x="126" y="373"/>
                      </a:lnTo>
                      <a:lnTo>
                        <a:pt x="158" y="402"/>
                      </a:lnTo>
                      <a:lnTo>
                        <a:pt x="192" y="428"/>
                      </a:lnTo>
                      <a:lnTo>
                        <a:pt x="227" y="450"/>
                      </a:lnTo>
                      <a:lnTo>
                        <a:pt x="266" y="468"/>
                      </a:lnTo>
                      <a:lnTo>
                        <a:pt x="304" y="481"/>
                      </a:lnTo>
                      <a:lnTo>
                        <a:pt x="345" y="492"/>
                      </a:lnTo>
                      <a:lnTo>
                        <a:pt x="387" y="497"/>
                      </a:lnTo>
                      <a:lnTo>
                        <a:pt x="432" y="500"/>
                      </a:lnTo>
                      <a:lnTo>
                        <a:pt x="437" y="498"/>
                      </a:lnTo>
                      <a:lnTo>
                        <a:pt x="443" y="498"/>
                      </a:lnTo>
                      <a:lnTo>
                        <a:pt x="454" y="498"/>
                      </a:lnTo>
                      <a:lnTo>
                        <a:pt x="477" y="497"/>
                      </a:lnTo>
                      <a:lnTo>
                        <a:pt x="487" y="495"/>
                      </a:lnTo>
                      <a:lnTo>
                        <a:pt x="498" y="494"/>
                      </a:lnTo>
                      <a:lnTo>
                        <a:pt x="521" y="491"/>
                      </a:lnTo>
                      <a:lnTo>
                        <a:pt x="541" y="485"/>
                      </a:lnTo>
                      <a:lnTo>
                        <a:pt x="546" y="483"/>
                      </a:lnTo>
                      <a:lnTo>
                        <a:pt x="548" y="481"/>
                      </a:lnTo>
                      <a:lnTo>
                        <a:pt x="551" y="481"/>
                      </a:lnTo>
                      <a:lnTo>
                        <a:pt x="563" y="479"/>
                      </a:lnTo>
                      <a:lnTo>
                        <a:pt x="604" y="466"/>
                      </a:lnTo>
                      <a:lnTo>
                        <a:pt x="615" y="436"/>
                      </a:lnTo>
                      <a:lnTo>
                        <a:pt x="592" y="445"/>
                      </a:lnTo>
                      <a:lnTo>
                        <a:pt x="572" y="453"/>
                      </a:lnTo>
                      <a:lnTo>
                        <a:pt x="549" y="460"/>
                      </a:lnTo>
                      <a:lnTo>
                        <a:pt x="528" y="467"/>
                      </a:lnTo>
                      <a:lnTo>
                        <a:pt x="504" y="471"/>
                      </a:lnTo>
                      <a:lnTo>
                        <a:pt x="481" y="475"/>
                      </a:lnTo>
                      <a:lnTo>
                        <a:pt x="456" y="477"/>
                      </a:lnTo>
                      <a:lnTo>
                        <a:pt x="444" y="477"/>
                      </a:lnTo>
                      <a:lnTo>
                        <a:pt x="432" y="478"/>
                      </a:lnTo>
                      <a:lnTo>
                        <a:pt x="389" y="476"/>
                      </a:lnTo>
                      <a:lnTo>
                        <a:pt x="350" y="470"/>
                      </a:lnTo>
                      <a:lnTo>
                        <a:pt x="311" y="460"/>
                      </a:lnTo>
                      <a:lnTo>
                        <a:pt x="275" y="447"/>
                      </a:lnTo>
                      <a:lnTo>
                        <a:pt x="239" y="429"/>
                      </a:lnTo>
                      <a:lnTo>
                        <a:pt x="205" y="409"/>
                      </a:lnTo>
                      <a:lnTo>
                        <a:pt x="172" y="384"/>
                      </a:lnTo>
                      <a:lnTo>
                        <a:pt x="142" y="357"/>
                      </a:lnTo>
                      <a:lnTo>
                        <a:pt x="113" y="325"/>
                      </a:lnTo>
                      <a:lnTo>
                        <a:pt x="89" y="293"/>
                      </a:lnTo>
                      <a:lnTo>
                        <a:pt x="67" y="259"/>
                      </a:lnTo>
                      <a:lnTo>
                        <a:pt x="58" y="241"/>
                      </a:lnTo>
                      <a:lnTo>
                        <a:pt x="51" y="224"/>
                      </a:lnTo>
                      <a:lnTo>
                        <a:pt x="44" y="205"/>
                      </a:lnTo>
                      <a:lnTo>
                        <a:pt x="38" y="187"/>
                      </a:lnTo>
                      <a:lnTo>
                        <a:pt x="29" y="148"/>
                      </a:lnTo>
                      <a:lnTo>
                        <a:pt x="23" y="108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68320" y="3429000"/>
                  <a:ext cx="171360" cy="141480"/>
                </a:xfrm>
                <a:custGeom>
                  <a:avLst/>
                  <a:gdLst/>
                  <a:ahLst/>
                  <a:rect l="l" t="t" r="r" b="b"/>
                  <a:pathLst>
                    <a:path w="601" h="495">
                      <a:moveTo>
                        <a:pt x="5" y="17"/>
                      </a:moveTo>
                      <a:lnTo>
                        <a:pt x="1" y="49"/>
                      </a:lnTo>
                      <a:lnTo>
                        <a:pt x="0" y="85"/>
                      </a:lnTo>
                      <a:lnTo>
                        <a:pt x="1" y="125"/>
                      </a:lnTo>
                      <a:lnTo>
                        <a:pt x="7" y="165"/>
                      </a:lnTo>
                      <a:lnTo>
                        <a:pt x="16" y="204"/>
                      </a:lnTo>
                      <a:lnTo>
                        <a:pt x="22" y="222"/>
                      </a:lnTo>
                      <a:lnTo>
                        <a:pt x="29" y="241"/>
                      </a:lnTo>
                      <a:lnTo>
                        <a:pt x="36" y="258"/>
                      </a:lnTo>
                      <a:lnTo>
                        <a:pt x="45" y="276"/>
                      </a:lnTo>
                      <a:lnTo>
                        <a:pt x="67" y="310"/>
                      </a:lnTo>
                      <a:lnTo>
                        <a:pt x="91" y="342"/>
                      </a:lnTo>
                      <a:lnTo>
                        <a:pt x="120" y="374"/>
                      </a:lnTo>
                      <a:lnTo>
                        <a:pt x="150" y="401"/>
                      </a:lnTo>
                      <a:lnTo>
                        <a:pt x="183" y="426"/>
                      </a:lnTo>
                      <a:lnTo>
                        <a:pt x="217" y="446"/>
                      </a:lnTo>
                      <a:lnTo>
                        <a:pt x="253" y="464"/>
                      </a:lnTo>
                      <a:lnTo>
                        <a:pt x="289" y="477"/>
                      </a:lnTo>
                      <a:lnTo>
                        <a:pt x="328" y="487"/>
                      </a:lnTo>
                      <a:lnTo>
                        <a:pt x="367" y="493"/>
                      </a:lnTo>
                      <a:lnTo>
                        <a:pt x="410" y="495"/>
                      </a:lnTo>
                      <a:lnTo>
                        <a:pt x="422" y="494"/>
                      </a:lnTo>
                      <a:lnTo>
                        <a:pt x="434" y="494"/>
                      </a:lnTo>
                      <a:lnTo>
                        <a:pt x="459" y="492"/>
                      </a:lnTo>
                      <a:lnTo>
                        <a:pt x="482" y="488"/>
                      </a:lnTo>
                      <a:lnTo>
                        <a:pt x="506" y="484"/>
                      </a:lnTo>
                      <a:lnTo>
                        <a:pt x="527" y="477"/>
                      </a:lnTo>
                      <a:lnTo>
                        <a:pt x="550" y="470"/>
                      </a:lnTo>
                      <a:lnTo>
                        <a:pt x="570" y="462"/>
                      </a:lnTo>
                      <a:lnTo>
                        <a:pt x="593" y="453"/>
                      </a:lnTo>
                      <a:lnTo>
                        <a:pt x="601" y="424"/>
                      </a:lnTo>
                      <a:lnTo>
                        <a:pt x="578" y="434"/>
                      </a:lnTo>
                      <a:lnTo>
                        <a:pt x="567" y="438"/>
                      </a:lnTo>
                      <a:lnTo>
                        <a:pt x="561" y="441"/>
                      </a:lnTo>
                      <a:lnTo>
                        <a:pt x="557" y="444"/>
                      </a:lnTo>
                      <a:lnTo>
                        <a:pt x="550" y="445"/>
                      </a:lnTo>
                      <a:lnTo>
                        <a:pt x="544" y="447"/>
                      </a:lnTo>
                      <a:lnTo>
                        <a:pt x="533" y="452"/>
                      </a:lnTo>
                      <a:lnTo>
                        <a:pt x="510" y="460"/>
                      </a:lnTo>
                      <a:lnTo>
                        <a:pt x="485" y="464"/>
                      </a:lnTo>
                      <a:lnTo>
                        <a:pt x="461" y="469"/>
                      </a:lnTo>
                      <a:lnTo>
                        <a:pt x="435" y="471"/>
                      </a:lnTo>
                      <a:lnTo>
                        <a:pt x="410" y="472"/>
                      </a:lnTo>
                      <a:lnTo>
                        <a:pt x="370" y="470"/>
                      </a:lnTo>
                      <a:lnTo>
                        <a:pt x="332" y="464"/>
                      </a:lnTo>
                      <a:lnTo>
                        <a:pt x="295" y="455"/>
                      </a:lnTo>
                      <a:lnTo>
                        <a:pt x="261" y="444"/>
                      </a:lnTo>
                      <a:lnTo>
                        <a:pt x="226" y="427"/>
                      </a:lnTo>
                      <a:lnTo>
                        <a:pt x="194" y="408"/>
                      </a:lnTo>
                      <a:lnTo>
                        <a:pt x="163" y="385"/>
                      </a:lnTo>
                      <a:lnTo>
                        <a:pt x="135" y="359"/>
                      </a:lnTo>
                      <a:lnTo>
                        <a:pt x="108" y="330"/>
                      </a:lnTo>
                      <a:lnTo>
                        <a:pt x="95" y="314"/>
                      </a:lnTo>
                      <a:lnTo>
                        <a:pt x="85" y="299"/>
                      </a:lnTo>
                      <a:lnTo>
                        <a:pt x="74" y="282"/>
                      </a:lnTo>
                      <a:lnTo>
                        <a:pt x="65" y="266"/>
                      </a:lnTo>
                      <a:lnTo>
                        <a:pt x="50" y="233"/>
                      </a:lnTo>
                      <a:lnTo>
                        <a:pt x="42" y="215"/>
                      </a:lnTo>
                      <a:lnTo>
                        <a:pt x="36" y="198"/>
                      </a:lnTo>
                      <a:lnTo>
                        <a:pt x="28" y="162"/>
                      </a:lnTo>
                      <a:lnTo>
                        <a:pt x="23" y="123"/>
                      </a:lnTo>
                      <a:lnTo>
                        <a:pt x="22" y="85"/>
                      </a:lnTo>
                      <a:lnTo>
                        <a:pt x="24" y="40"/>
                      </a:lnTo>
                      <a:lnTo>
                        <a:pt x="26" y="19"/>
                      </a:lnTo>
                      <a:lnTo>
                        <a:pt x="31" y="0"/>
                      </a:lnTo>
                      <a:lnTo>
                        <a:pt x="5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380560" y="342072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9">
                      <a:moveTo>
                        <a:pt x="13" y="13"/>
                      </a:moveTo>
                      <a:lnTo>
                        <a:pt x="6" y="36"/>
                      </a:lnTo>
                      <a:lnTo>
                        <a:pt x="2" y="60"/>
                      </a:lnTo>
                      <a:lnTo>
                        <a:pt x="0" y="85"/>
                      </a:lnTo>
                      <a:lnTo>
                        <a:pt x="0" y="113"/>
                      </a:lnTo>
                      <a:lnTo>
                        <a:pt x="1" y="149"/>
                      </a:lnTo>
                      <a:lnTo>
                        <a:pt x="6" y="185"/>
                      </a:lnTo>
                      <a:lnTo>
                        <a:pt x="14" y="219"/>
                      </a:lnTo>
                      <a:lnTo>
                        <a:pt x="26" y="253"/>
                      </a:lnTo>
                      <a:lnTo>
                        <a:pt x="41" y="284"/>
                      </a:lnTo>
                      <a:lnTo>
                        <a:pt x="60" y="314"/>
                      </a:lnTo>
                      <a:lnTo>
                        <a:pt x="82" y="344"/>
                      </a:lnTo>
                      <a:lnTo>
                        <a:pt x="108" y="372"/>
                      </a:lnTo>
                      <a:lnTo>
                        <a:pt x="134" y="396"/>
                      </a:lnTo>
                      <a:lnTo>
                        <a:pt x="163" y="418"/>
                      </a:lnTo>
                      <a:lnTo>
                        <a:pt x="193" y="436"/>
                      </a:lnTo>
                      <a:lnTo>
                        <a:pt x="226" y="452"/>
                      </a:lnTo>
                      <a:lnTo>
                        <a:pt x="259" y="463"/>
                      </a:lnTo>
                      <a:lnTo>
                        <a:pt x="294" y="472"/>
                      </a:lnTo>
                      <a:lnTo>
                        <a:pt x="329" y="477"/>
                      </a:lnTo>
                      <a:lnTo>
                        <a:pt x="367" y="479"/>
                      </a:lnTo>
                      <a:lnTo>
                        <a:pt x="370" y="478"/>
                      </a:lnTo>
                      <a:lnTo>
                        <a:pt x="373" y="478"/>
                      </a:lnTo>
                      <a:lnTo>
                        <a:pt x="380" y="478"/>
                      </a:lnTo>
                      <a:lnTo>
                        <a:pt x="393" y="478"/>
                      </a:lnTo>
                      <a:lnTo>
                        <a:pt x="406" y="475"/>
                      </a:lnTo>
                      <a:lnTo>
                        <a:pt x="420" y="474"/>
                      </a:lnTo>
                      <a:lnTo>
                        <a:pt x="445" y="470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1" y="464"/>
                      </a:lnTo>
                      <a:lnTo>
                        <a:pt x="482" y="460"/>
                      </a:lnTo>
                      <a:lnTo>
                        <a:pt x="488" y="457"/>
                      </a:lnTo>
                      <a:lnTo>
                        <a:pt x="494" y="456"/>
                      </a:lnTo>
                      <a:lnTo>
                        <a:pt x="518" y="447"/>
                      </a:lnTo>
                      <a:lnTo>
                        <a:pt x="541" y="436"/>
                      </a:lnTo>
                      <a:lnTo>
                        <a:pt x="564" y="423"/>
                      </a:lnTo>
                      <a:lnTo>
                        <a:pt x="568" y="394"/>
                      </a:lnTo>
                      <a:lnTo>
                        <a:pt x="556" y="401"/>
                      </a:lnTo>
                      <a:lnTo>
                        <a:pt x="544" y="409"/>
                      </a:lnTo>
                      <a:lnTo>
                        <a:pt x="522" y="421"/>
                      </a:lnTo>
                      <a:lnTo>
                        <a:pt x="509" y="426"/>
                      </a:lnTo>
                      <a:lnTo>
                        <a:pt x="498" y="431"/>
                      </a:lnTo>
                      <a:lnTo>
                        <a:pt x="485" y="436"/>
                      </a:lnTo>
                      <a:lnTo>
                        <a:pt x="474" y="441"/>
                      </a:lnTo>
                      <a:lnTo>
                        <a:pt x="448" y="448"/>
                      </a:lnTo>
                      <a:lnTo>
                        <a:pt x="434" y="450"/>
                      </a:lnTo>
                      <a:lnTo>
                        <a:pt x="428" y="452"/>
                      </a:lnTo>
                      <a:lnTo>
                        <a:pt x="422" y="454"/>
                      </a:lnTo>
                      <a:lnTo>
                        <a:pt x="395" y="457"/>
                      </a:lnTo>
                      <a:lnTo>
                        <a:pt x="367" y="458"/>
                      </a:lnTo>
                      <a:lnTo>
                        <a:pt x="331" y="456"/>
                      </a:lnTo>
                      <a:lnTo>
                        <a:pt x="297" y="452"/>
                      </a:lnTo>
                      <a:lnTo>
                        <a:pt x="264" y="443"/>
                      </a:lnTo>
                      <a:lnTo>
                        <a:pt x="234" y="432"/>
                      </a:lnTo>
                      <a:lnTo>
                        <a:pt x="203" y="418"/>
                      </a:lnTo>
                      <a:lnTo>
                        <a:pt x="175" y="401"/>
                      </a:lnTo>
                      <a:lnTo>
                        <a:pt x="147" y="379"/>
                      </a:lnTo>
                      <a:lnTo>
                        <a:pt x="123" y="356"/>
                      </a:lnTo>
                      <a:lnTo>
                        <a:pt x="98" y="329"/>
                      </a:lnTo>
                      <a:lnTo>
                        <a:pt x="77" y="302"/>
                      </a:lnTo>
                      <a:lnTo>
                        <a:pt x="60" y="274"/>
                      </a:lnTo>
                      <a:lnTo>
                        <a:pt x="47" y="244"/>
                      </a:lnTo>
                      <a:lnTo>
                        <a:pt x="35" y="212"/>
                      </a:lnTo>
                      <a:lnTo>
                        <a:pt x="27" y="181"/>
                      </a:lnTo>
                      <a:lnTo>
                        <a:pt x="23" y="147"/>
                      </a:lnTo>
                      <a:lnTo>
                        <a:pt x="22" y="113"/>
                      </a:lnTo>
                      <a:lnTo>
                        <a:pt x="23" y="82"/>
                      </a:lnTo>
                      <a:lnTo>
                        <a:pt x="26" y="54"/>
                      </a:lnTo>
                      <a:lnTo>
                        <a:pt x="32" y="26"/>
                      </a:lnTo>
                      <a:lnTo>
                        <a:pt x="40" y="0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386320" y="3418200"/>
                  <a:ext cx="156600" cy="133560"/>
                </a:xfrm>
                <a:custGeom>
                  <a:avLst/>
                  <a:gdLst/>
                  <a:ahLst/>
                  <a:rect l="l" t="t" r="r" b="b"/>
                  <a:pathLst>
                    <a:path w="547" h="468">
                      <a:moveTo>
                        <a:pt x="44" y="0"/>
                      </a:moveTo>
                      <a:lnTo>
                        <a:pt x="18" y="10"/>
                      </a:lnTo>
                      <a:lnTo>
                        <a:pt x="10" y="36"/>
                      </a:lnTo>
                      <a:lnTo>
                        <a:pt x="4" y="64"/>
                      </a:lnTo>
                      <a:lnTo>
                        <a:pt x="1" y="92"/>
                      </a:lnTo>
                      <a:lnTo>
                        <a:pt x="0" y="123"/>
                      </a:lnTo>
                      <a:lnTo>
                        <a:pt x="1" y="157"/>
                      </a:lnTo>
                      <a:lnTo>
                        <a:pt x="5" y="191"/>
                      </a:lnTo>
                      <a:lnTo>
                        <a:pt x="13" y="222"/>
                      </a:lnTo>
                      <a:lnTo>
                        <a:pt x="25" y="254"/>
                      </a:lnTo>
                      <a:lnTo>
                        <a:pt x="38" y="284"/>
                      </a:lnTo>
                      <a:lnTo>
                        <a:pt x="55" y="312"/>
                      </a:lnTo>
                      <a:lnTo>
                        <a:pt x="76" y="339"/>
                      </a:lnTo>
                      <a:lnTo>
                        <a:pt x="101" y="366"/>
                      </a:lnTo>
                      <a:lnTo>
                        <a:pt x="125" y="389"/>
                      </a:lnTo>
                      <a:lnTo>
                        <a:pt x="153" y="411"/>
                      </a:lnTo>
                      <a:lnTo>
                        <a:pt x="181" y="428"/>
                      </a:lnTo>
                      <a:lnTo>
                        <a:pt x="212" y="442"/>
                      </a:lnTo>
                      <a:lnTo>
                        <a:pt x="242" y="453"/>
                      </a:lnTo>
                      <a:lnTo>
                        <a:pt x="275" y="462"/>
                      </a:lnTo>
                      <a:lnTo>
                        <a:pt x="309" y="466"/>
                      </a:lnTo>
                      <a:lnTo>
                        <a:pt x="345" y="468"/>
                      </a:lnTo>
                      <a:lnTo>
                        <a:pt x="373" y="467"/>
                      </a:lnTo>
                      <a:lnTo>
                        <a:pt x="400" y="464"/>
                      </a:lnTo>
                      <a:lnTo>
                        <a:pt x="406" y="462"/>
                      </a:lnTo>
                      <a:lnTo>
                        <a:pt x="412" y="460"/>
                      </a:lnTo>
                      <a:lnTo>
                        <a:pt x="426" y="458"/>
                      </a:lnTo>
                      <a:lnTo>
                        <a:pt x="452" y="451"/>
                      </a:lnTo>
                      <a:lnTo>
                        <a:pt x="463" y="446"/>
                      </a:lnTo>
                      <a:lnTo>
                        <a:pt x="476" y="441"/>
                      </a:lnTo>
                      <a:lnTo>
                        <a:pt x="487" y="436"/>
                      </a:lnTo>
                      <a:lnTo>
                        <a:pt x="500" y="431"/>
                      </a:lnTo>
                      <a:lnTo>
                        <a:pt x="522" y="419"/>
                      </a:lnTo>
                      <a:lnTo>
                        <a:pt x="534" y="411"/>
                      </a:lnTo>
                      <a:lnTo>
                        <a:pt x="546" y="404"/>
                      </a:lnTo>
                      <a:lnTo>
                        <a:pt x="546" y="389"/>
                      </a:lnTo>
                      <a:lnTo>
                        <a:pt x="547" y="375"/>
                      </a:lnTo>
                      <a:lnTo>
                        <a:pt x="525" y="390"/>
                      </a:lnTo>
                      <a:lnTo>
                        <a:pt x="502" y="405"/>
                      </a:lnTo>
                      <a:lnTo>
                        <a:pt x="477" y="417"/>
                      </a:lnTo>
                      <a:lnTo>
                        <a:pt x="464" y="422"/>
                      </a:lnTo>
                      <a:lnTo>
                        <a:pt x="453" y="428"/>
                      </a:lnTo>
                      <a:lnTo>
                        <a:pt x="440" y="431"/>
                      </a:lnTo>
                      <a:lnTo>
                        <a:pt x="427" y="436"/>
                      </a:lnTo>
                      <a:lnTo>
                        <a:pt x="413" y="438"/>
                      </a:lnTo>
                      <a:lnTo>
                        <a:pt x="407" y="439"/>
                      </a:lnTo>
                      <a:lnTo>
                        <a:pt x="401" y="441"/>
                      </a:lnTo>
                      <a:lnTo>
                        <a:pt x="393" y="441"/>
                      </a:lnTo>
                      <a:lnTo>
                        <a:pt x="386" y="442"/>
                      </a:lnTo>
                      <a:lnTo>
                        <a:pt x="373" y="445"/>
                      </a:lnTo>
                      <a:lnTo>
                        <a:pt x="345" y="446"/>
                      </a:lnTo>
                      <a:lnTo>
                        <a:pt x="311" y="443"/>
                      </a:lnTo>
                      <a:lnTo>
                        <a:pt x="280" y="439"/>
                      </a:lnTo>
                      <a:lnTo>
                        <a:pt x="248" y="431"/>
                      </a:lnTo>
                      <a:lnTo>
                        <a:pt x="220" y="422"/>
                      </a:lnTo>
                      <a:lnTo>
                        <a:pt x="191" y="407"/>
                      </a:lnTo>
                      <a:lnTo>
                        <a:pt x="165" y="391"/>
                      </a:lnTo>
                      <a:lnTo>
                        <a:pt x="139" y="372"/>
                      </a:lnTo>
                      <a:lnTo>
                        <a:pt x="116" y="352"/>
                      </a:lnTo>
                      <a:lnTo>
                        <a:pt x="94" y="327"/>
                      </a:lnTo>
                      <a:lnTo>
                        <a:pt x="74" y="301"/>
                      </a:lnTo>
                      <a:lnTo>
                        <a:pt x="57" y="273"/>
                      </a:lnTo>
                      <a:lnTo>
                        <a:pt x="45" y="246"/>
                      </a:lnTo>
                      <a:lnTo>
                        <a:pt x="34" y="217"/>
                      </a:lnTo>
                      <a:lnTo>
                        <a:pt x="29" y="201"/>
                      </a:lnTo>
                      <a:lnTo>
                        <a:pt x="27" y="186"/>
                      </a:lnTo>
                      <a:lnTo>
                        <a:pt x="22" y="154"/>
                      </a:lnTo>
                      <a:lnTo>
                        <a:pt x="21" y="123"/>
                      </a:lnTo>
                      <a:lnTo>
                        <a:pt x="22" y="90"/>
                      </a:lnTo>
                      <a:lnTo>
                        <a:pt x="27" y="59"/>
                      </a:lnTo>
                      <a:lnTo>
                        <a:pt x="34" y="2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405400" y="341352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9">
                      <a:moveTo>
                        <a:pt x="22" y="139"/>
                      </a:moveTo>
                      <a:lnTo>
                        <a:pt x="24" y="100"/>
                      </a:lnTo>
                      <a:lnTo>
                        <a:pt x="31" y="65"/>
                      </a:lnTo>
                      <a:lnTo>
                        <a:pt x="42" y="31"/>
                      </a:lnTo>
                      <a:lnTo>
                        <a:pt x="60" y="0"/>
                      </a:lnTo>
                      <a:lnTo>
                        <a:pt x="34" y="4"/>
                      </a:lnTo>
                      <a:lnTo>
                        <a:pt x="18" y="34"/>
                      </a:lnTo>
                      <a:lnTo>
                        <a:pt x="8" y="67"/>
                      </a:lnTo>
                      <a:lnTo>
                        <a:pt x="1" y="101"/>
                      </a:lnTo>
                      <a:lnTo>
                        <a:pt x="0" y="139"/>
                      </a:lnTo>
                      <a:lnTo>
                        <a:pt x="1" y="166"/>
                      </a:lnTo>
                      <a:lnTo>
                        <a:pt x="5" y="193"/>
                      </a:lnTo>
                      <a:lnTo>
                        <a:pt x="10" y="219"/>
                      </a:lnTo>
                      <a:lnTo>
                        <a:pt x="21" y="245"/>
                      </a:lnTo>
                      <a:lnTo>
                        <a:pt x="31" y="269"/>
                      </a:lnTo>
                      <a:lnTo>
                        <a:pt x="46" y="293"/>
                      </a:lnTo>
                      <a:lnTo>
                        <a:pt x="63" y="314"/>
                      </a:lnTo>
                      <a:lnTo>
                        <a:pt x="83" y="337"/>
                      </a:lnTo>
                      <a:lnTo>
                        <a:pt x="103" y="355"/>
                      </a:lnTo>
                      <a:lnTo>
                        <a:pt x="125" y="372"/>
                      </a:lnTo>
                      <a:lnTo>
                        <a:pt x="148" y="386"/>
                      </a:lnTo>
                      <a:lnTo>
                        <a:pt x="173" y="398"/>
                      </a:lnTo>
                      <a:lnTo>
                        <a:pt x="198" y="406"/>
                      </a:lnTo>
                      <a:lnTo>
                        <a:pt x="225" y="413"/>
                      </a:lnTo>
                      <a:lnTo>
                        <a:pt x="252" y="416"/>
                      </a:lnTo>
                      <a:lnTo>
                        <a:pt x="281" y="419"/>
                      </a:lnTo>
                      <a:lnTo>
                        <a:pt x="309" y="416"/>
                      </a:lnTo>
                      <a:lnTo>
                        <a:pt x="336" y="413"/>
                      </a:lnTo>
                      <a:lnTo>
                        <a:pt x="342" y="411"/>
                      </a:lnTo>
                      <a:lnTo>
                        <a:pt x="348" y="410"/>
                      </a:lnTo>
                      <a:lnTo>
                        <a:pt x="362" y="406"/>
                      </a:lnTo>
                      <a:lnTo>
                        <a:pt x="374" y="402"/>
                      </a:lnTo>
                      <a:lnTo>
                        <a:pt x="388" y="398"/>
                      </a:lnTo>
                      <a:lnTo>
                        <a:pt x="399" y="391"/>
                      </a:lnTo>
                      <a:lnTo>
                        <a:pt x="402" y="389"/>
                      </a:lnTo>
                      <a:lnTo>
                        <a:pt x="403" y="388"/>
                      </a:lnTo>
                      <a:lnTo>
                        <a:pt x="405" y="388"/>
                      </a:lnTo>
                      <a:lnTo>
                        <a:pt x="412" y="386"/>
                      </a:lnTo>
                      <a:lnTo>
                        <a:pt x="423" y="379"/>
                      </a:lnTo>
                      <a:lnTo>
                        <a:pt x="436" y="372"/>
                      </a:lnTo>
                      <a:lnTo>
                        <a:pt x="446" y="363"/>
                      </a:lnTo>
                      <a:lnTo>
                        <a:pt x="457" y="355"/>
                      </a:lnTo>
                      <a:lnTo>
                        <a:pt x="480" y="337"/>
                      </a:lnTo>
                      <a:lnTo>
                        <a:pt x="481" y="335"/>
                      </a:lnTo>
                      <a:lnTo>
                        <a:pt x="476" y="309"/>
                      </a:lnTo>
                      <a:lnTo>
                        <a:pt x="470" y="314"/>
                      </a:lnTo>
                      <a:lnTo>
                        <a:pt x="464" y="321"/>
                      </a:lnTo>
                      <a:lnTo>
                        <a:pt x="444" y="338"/>
                      </a:lnTo>
                      <a:lnTo>
                        <a:pt x="423" y="353"/>
                      </a:lnTo>
                      <a:lnTo>
                        <a:pt x="412" y="359"/>
                      </a:lnTo>
                      <a:lnTo>
                        <a:pt x="402" y="365"/>
                      </a:lnTo>
                      <a:lnTo>
                        <a:pt x="390" y="371"/>
                      </a:lnTo>
                      <a:lnTo>
                        <a:pt x="380" y="378"/>
                      </a:lnTo>
                      <a:lnTo>
                        <a:pt x="373" y="379"/>
                      </a:lnTo>
                      <a:lnTo>
                        <a:pt x="368" y="381"/>
                      </a:lnTo>
                      <a:lnTo>
                        <a:pt x="356" y="386"/>
                      </a:lnTo>
                      <a:lnTo>
                        <a:pt x="344" y="388"/>
                      </a:lnTo>
                      <a:lnTo>
                        <a:pt x="332" y="391"/>
                      </a:lnTo>
                      <a:lnTo>
                        <a:pt x="319" y="393"/>
                      </a:lnTo>
                      <a:lnTo>
                        <a:pt x="306" y="395"/>
                      </a:lnTo>
                      <a:lnTo>
                        <a:pt x="281" y="397"/>
                      </a:lnTo>
                      <a:lnTo>
                        <a:pt x="254" y="395"/>
                      </a:lnTo>
                      <a:lnTo>
                        <a:pt x="228" y="391"/>
                      </a:lnTo>
                      <a:lnTo>
                        <a:pt x="203" y="386"/>
                      </a:lnTo>
                      <a:lnTo>
                        <a:pt x="181" y="378"/>
                      </a:lnTo>
                      <a:lnTo>
                        <a:pt x="158" y="365"/>
                      </a:lnTo>
                      <a:lnTo>
                        <a:pt x="136" y="353"/>
                      </a:lnTo>
                      <a:lnTo>
                        <a:pt x="116" y="338"/>
                      </a:lnTo>
                      <a:lnTo>
                        <a:pt x="98" y="321"/>
                      </a:lnTo>
                      <a:lnTo>
                        <a:pt x="78" y="301"/>
                      </a:lnTo>
                      <a:lnTo>
                        <a:pt x="64" y="280"/>
                      </a:lnTo>
                      <a:lnTo>
                        <a:pt x="56" y="269"/>
                      </a:lnTo>
                      <a:lnTo>
                        <a:pt x="50" y="259"/>
                      </a:lnTo>
                      <a:lnTo>
                        <a:pt x="40" y="237"/>
                      </a:lnTo>
                      <a:lnTo>
                        <a:pt x="32" y="213"/>
                      </a:lnTo>
                      <a:lnTo>
                        <a:pt x="26" y="190"/>
                      </a:lnTo>
                      <a:lnTo>
                        <a:pt x="23" y="164"/>
                      </a:lnTo>
                      <a:lnTo>
                        <a:pt x="22" y="139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411160" y="3413520"/>
                  <a:ext cx="130320" cy="113400"/>
                </a:xfrm>
                <a:custGeom>
                  <a:avLst/>
                  <a:gdLst/>
                  <a:ahLst/>
                  <a:rect l="l" t="t" r="r" b="b"/>
                  <a:pathLst>
                    <a:path w="454" h="398">
                      <a:moveTo>
                        <a:pt x="38" y="1"/>
                      </a:moveTo>
                      <a:lnTo>
                        <a:pt x="20" y="32"/>
                      </a:lnTo>
                      <a:lnTo>
                        <a:pt x="9" y="66"/>
                      </a:lnTo>
                      <a:lnTo>
                        <a:pt x="2" y="101"/>
                      </a:lnTo>
                      <a:lnTo>
                        <a:pt x="0" y="140"/>
                      </a:lnTo>
                      <a:lnTo>
                        <a:pt x="1" y="165"/>
                      </a:lnTo>
                      <a:lnTo>
                        <a:pt x="4" y="191"/>
                      </a:lnTo>
                      <a:lnTo>
                        <a:pt x="10" y="214"/>
                      </a:lnTo>
                      <a:lnTo>
                        <a:pt x="18" y="238"/>
                      </a:lnTo>
                      <a:lnTo>
                        <a:pt x="28" y="260"/>
                      </a:lnTo>
                      <a:lnTo>
                        <a:pt x="34" y="270"/>
                      </a:lnTo>
                      <a:lnTo>
                        <a:pt x="42" y="281"/>
                      </a:lnTo>
                      <a:lnTo>
                        <a:pt x="56" y="302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4" y="354"/>
                      </a:lnTo>
                      <a:lnTo>
                        <a:pt x="136" y="366"/>
                      </a:lnTo>
                      <a:lnTo>
                        <a:pt x="159" y="379"/>
                      </a:lnTo>
                      <a:lnTo>
                        <a:pt x="181" y="387"/>
                      </a:lnTo>
                      <a:lnTo>
                        <a:pt x="206" y="392"/>
                      </a:lnTo>
                      <a:lnTo>
                        <a:pt x="232" y="396"/>
                      </a:lnTo>
                      <a:lnTo>
                        <a:pt x="259" y="398"/>
                      </a:lnTo>
                      <a:lnTo>
                        <a:pt x="284" y="396"/>
                      </a:lnTo>
                      <a:lnTo>
                        <a:pt x="297" y="394"/>
                      </a:lnTo>
                      <a:lnTo>
                        <a:pt x="310" y="392"/>
                      </a:lnTo>
                      <a:lnTo>
                        <a:pt x="322" y="389"/>
                      </a:lnTo>
                      <a:lnTo>
                        <a:pt x="334" y="387"/>
                      </a:lnTo>
                      <a:lnTo>
                        <a:pt x="346" y="382"/>
                      </a:lnTo>
                      <a:lnTo>
                        <a:pt x="351" y="380"/>
                      </a:lnTo>
                      <a:lnTo>
                        <a:pt x="358" y="379"/>
                      </a:lnTo>
                      <a:lnTo>
                        <a:pt x="368" y="372"/>
                      </a:lnTo>
                      <a:lnTo>
                        <a:pt x="380" y="366"/>
                      </a:lnTo>
                      <a:lnTo>
                        <a:pt x="390" y="360"/>
                      </a:lnTo>
                      <a:lnTo>
                        <a:pt x="401" y="354"/>
                      </a:lnTo>
                      <a:lnTo>
                        <a:pt x="422" y="339"/>
                      </a:lnTo>
                      <a:lnTo>
                        <a:pt x="442" y="322"/>
                      </a:lnTo>
                      <a:lnTo>
                        <a:pt x="448" y="315"/>
                      </a:lnTo>
                      <a:lnTo>
                        <a:pt x="454" y="310"/>
                      </a:lnTo>
                      <a:lnTo>
                        <a:pt x="449" y="282"/>
                      </a:lnTo>
                      <a:lnTo>
                        <a:pt x="437" y="295"/>
                      </a:lnTo>
                      <a:lnTo>
                        <a:pt x="434" y="297"/>
                      </a:lnTo>
                      <a:lnTo>
                        <a:pt x="432" y="301"/>
                      </a:lnTo>
                      <a:lnTo>
                        <a:pt x="427" y="307"/>
                      </a:lnTo>
                      <a:lnTo>
                        <a:pt x="417" y="314"/>
                      </a:lnTo>
                      <a:lnTo>
                        <a:pt x="408" y="322"/>
                      </a:lnTo>
                      <a:lnTo>
                        <a:pt x="390" y="337"/>
                      </a:lnTo>
                      <a:lnTo>
                        <a:pt x="369" y="348"/>
                      </a:lnTo>
                      <a:lnTo>
                        <a:pt x="359" y="353"/>
                      </a:lnTo>
                      <a:lnTo>
                        <a:pt x="350" y="358"/>
                      </a:lnTo>
                      <a:lnTo>
                        <a:pt x="327" y="366"/>
                      </a:lnTo>
                      <a:lnTo>
                        <a:pt x="316" y="369"/>
                      </a:lnTo>
                      <a:lnTo>
                        <a:pt x="313" y="369"/>
                      </a:lnTo>
                      <a:lnTo>
                        <a:pt x="310" y="370"/>
                      </a:lnTo>
                      <a:lnTo>
                        <a:pt x="306" y="372"/>
                      </a:lnTo>
                      <a:lnTo>
                        <a:pt x="299" y="372"/>
                      </a:lnTo>
                      <a:lnTo>
                        <a:pt x="296" y="372"/>
                      </a:lnTo>
                      <a:lnTo>
                        <a:pt x="293" y="373"/>
                      </a:lnTo>
                      <a:lnTo>
                        <a:pt x="282" y="375"/>
                      </a:lnTo>
                      <a:lnTo>
                        <a:pt x="259" y="377"/>
                      </a:lnTo>
                      <a:lnTo>
                        <a:pt x="234" y="375"/>
                      </a:lnTo>
                      <a:lnTo>
                        <a:pt x="211" y="372"/>
                      </a:lnTo>
                      <a:lnTo>
                        <a:pt x="188" y="366"/>
                      </a:lnTo>
                      <a:lnTo>
                        <a:pt x="168" y="358"/>
                      </a:lnTo>
                      <a:lnTo>
                        <a:pt x="146" y="348"/>
                      </a:lnTo>
                      <a:lnTo>
                        <a:pt x="127" y="337"/>
                      </a:lnTo>
                      <a:lnTo>
                        <a:pt x="107" y="322"/>
                      </a:lnTo>
                      <a:lnTo>
                        <a:pt x="90" y="307"/>
                      </a:lnTo>
                      <a:lnTo>
                        <a:pt x="73" y="288"/>
                      </a:lnTo>
                      <a:lnTo>
                        <a:pt x="59" y="270"/>
                      </a:lnTo>
                      <a:lnTo>
                        <a:pt x="46" y="250"/>
                      </a:lnTo>
                      <a:lnTo>
                        <a:pt x="38" y="230"/>
                      </a:lnTo>
                      <a:lnTo>
                        <a:pt x="30" y="208"/>
                      </a:lnTo>
                      <a:lnTo>
                        <a:pt x="25" y="186"/>
                      </a:lnTo>
                      <a:lnTo>
                        <a:pt x="21" y="162"/>
                      </a:lnTo>
                      <a:lnTo>
                        <a:pt x="21" y="140"/>
                      </a:lnTo>
                      <a:lnTo>
                        <a:pt x="24" y="100"/>
                      </a:lnTo>
                      <a:lnTo>
                        <a:pt x="32" y="65"/>
                      </a:lnTo>
                      <a:lnTo>
                        <a:pt x="37" y="47"/>
                      </a:lnTo>
                      <a:lnTo>
                        <a:pt x="45" y="31"/>
                      </a:lnTo>
                      <a:lnTo>
                        <a:pt x="66" y="0"/>
                      </a:lnTo>
                      <a:lnTo>
                        <a:pt x="38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398920" y="3414600"/>
                  <a:ext cx="144000" cy="124200"/>
                </a:xfrm>
                <a:custGeom>
                  <a:avLst/>
                  <a:gdLst/>
                  <a:ahLst/>
                  <a:rect l="l" t="t" r="r" b="b"/>
                  <a:pathLst>
                    <a:path w="504" h="436">
                      <a:moveTo>
                        <a:pt x="21" y="135"/>
                      </a:moveTo>
                      <a:lnTo>
                        <a:pt x="22" y="97"/>
                      </a:lnTo>
                      <a:lnTo>
                        <a:pt x="29" y="63"/>
                      </a:lnTo>
                      <a:lnTo>
                        <a:pt x="39" y="30"/>
                      </a:lnTo>
                      <a:lnTo>
                        <a:pt x="55" y="0"/>
                      </a:lnTo>
                      <a:lnTo>
                        <a:pt x="27" y="5"/>
                      </a:lnTo>
                      <a:lnTo>
                        <a:pt x="14" y="35"/>
                      </a:lnTo>
                      <a:lnTo>
                        <a:pt x="6" y="67"/>
                      </a:lnTo>
                      <a:lnTo>
                        <a:pt x="1" y="99"/>
                      </a:lnTo>
                      <a:lnTo>
                        <a:pt x="0" y="135"/>
                      </a:lnTo>
                      <a:lnTo>
                        <a:pt x="1" y="164"/>
                      </a:lnTo>
                      <a:lnTo>
                        <a:pt x="4" y="194"/>
                      </a:lnTo>
                      <a:lnTo>
                        <a:pt x="6" y="207"/>
                      </a:lnTo>
                      <a:lnTo>
                        <a:pt x="11" y="222"/>
                      </a:lnTo>
                      <a:lnTo>
                        <a:pt x="21" y="250"/>
                      </a:lnTo>
                      <a:lnTo>
                        <a:pt x="34" y="275"/>
                      </a:lnTo>
                      <a:lnTo>
                        <a:pt x="48" y="300"/>
                      </a:lnTo>
                      <a:lnTo>
                        <a:pt x="56" y="311"/>
                      </a:lnTo>
                      <a:lnTo>
                        <a:pt x="67" y="324"/>
                      </a:lnTo>
                      <a:lnTo>
                        <a:pt x="88" y="348"/>
                      </a:lnTo>
                      <a:lnTo>
                        <a:pt x="110" y="367"/>
                      </a:lnTo>
                      <a:lnTo>
                        <a:pt x="133" y="385"/>
                      </a:lnTo>
                      <a:lnTo>
                        <a:pt x="158" y="400"/>
                      </a:lnTo>
                      <a:lnTo>
                        <a:pt x="186" y="414"/>
                      </a:lnTo>
                      <a:lnTo>
                        <a:pt x="212" y="423"/>
                      </a:lnTo>
                      <a:lnTo>
                        <a:pt x="241" y="431"/>
                      </a:lnTo>
                      <a:lnTo>
                        <a:pt x="271" y="434"/>
                      </a:lnTo>
                      <a:lnTo>
                        <a:pt x="302" y="436"/>
                      </a:lnTo>
                      <a:lnTo>
                        <a:pt x="330" y="434"/>
                      </a:lnTo>
                      <a:lnTo>
                        <a:pt x="343" y="432"/>
                      </a:lnTo>
                      <a:lnTo>
                        <a:pt x="350" y="431"/>
                      </a:lnTo>
                      <a:lnTo>
                        <a:pt x="358" y="431"/>
                      </a:lnTo>
                      <a:lnTo>
                        <a:pt x="364" y="428"/>
                      </a:lnTo>
                      <a:lnTo>
                        <a:pt x="370" y="427"/>
                      </a:lnTo>
                      <a:lnTo>
                        <a:pt x="384" y="425"/>
                      </a:lnTo>
                      <a:lnTo>
                        <a:pt x="397" y="420"/>
                      </a:lnTo>
                      <a:lnTo>
                        <a:pt x="410" y="417"/>
                      </a:lnTo>
                      <a:lnTo>
                        <a:pt x="421" y="410"/>
                      </a:lnTo>
                      <a:lnTo>
                        <a:pt x="424" y="408"/>
                      </a:lnTo>
                      <a:lnTo>
                        <a:pt x="425" y="407"/>
                      </a:lnTo>
                      <a:lnTo>
                        <a:pt x="427" y="407"/>
                      </a:lnTo>
                      <a:lnTo>
                        <a:pt x="434" y="404"/>
                      </a:lnTo>
                      <a:lnTo>
                        <a:pt x="459" y="392"/>
                      </a:lnTo>
                      <a:lnTo>
                        <a:pt x="482" y="376"/>
                      </a:lnTo>
                      <a:lnTo>
                        <a:pt x="504" y="359"/>
                      </a:lnTo>
                      <a:lnTo>
                        <a:pt x="502" y="331"/>
                      </a:lnTo>
                      <a:lnTo>
                        <a:pt x="501" y="333"/>
                      </a:lnTo>
                      <a:lnTo>
                        <a:pt x="478" y="351"/>
                      </a:lnTo>
                      <a:lnTo>
                        <a:pt x="467" y="359"/>
                      </a:lnTo>
                      <a:lnTo>
                        <a:pt x="457" y="368"/>
                      </a:lnTo>
                      <a:lnTo>
                        <a:pt x="444" y="375"/>
                      </a:lnTo>
                      <a:lnTo>
                        <a:pt x="433" y="382"/>
                      </a:lnTo>
                      <a:lnTo>
                        <a:pt x="426" y="384"/>
                      </a:lnTo>
                      <a:lnTo>
                        <a:pt x="424" y="384"/>
                      </a:lnTo>
                      <a:lnTo>
                        <a:pt x="423" y="385"/>
                      </a:lnTo>
                      <a:lnTo>
                        <a:pt x="420" y="387"/>
                      </a:lnTo>
                      <a:lnTo>
                        <a:pt x="409" y="394"/>
                      </a:lnTo>
                      <a:lnTo>
                        <a:pt x="395" y="398"/>
                      </a:lnTo>
                      <a:lnTo>
                        <a:pt x="383" y="402"/>
                      </a:lnTo>
                      <a:lnTo>
                        <a:pt x="369" y="406"/>
                      </a:lnTo>
                      <a:lnTo>
                        <a:pt x="363" y="407"/>
                      </a:lnTo>
                      <a:lnTo>
                        <a:pt x="357" y="409"/>
                      </a:lnTo>
                      <a:lnTo>
                        <a:pt x="330" y="412"/>
                      </a:lnTo>
                      <a:lnTo>
                        <a:pt x="302" y="415"/>
                      </a:lnTo>
                      <a:lnTo>
                        <a:pt x="273" y="412"/>
                      </a:lnTo>
                      <a:lnTo>
                        <a:pt x="246" y="409"/>
                      </a:lnTo>
                      <a:lnTo>
                        <a:pt x="219" y="402"/>
                      </a:lnTo>
                      <a:lnTo>
                        <a:pt x="194" y="394"/>
                      </a:lnTo>
                      <a:lnTo>
                        <a:pt x="169" y="382"/>
                      </a:lnTo>
                      <a:lnTo>
                        <a:pt x="146" y="368"/>
                      </a:lnTo>
                      <a:lnTo>
                        <a:pt x="124" y="351"/>
                      </a:lnTo>
                      <a:lnTo>
                        <a:pt x="104" y="333"/>
                      </a:lnTo>
                      <a:lnTo>
                        <a:pt x="84" y="310"/>
                      </a:lnTo>
                      <a:lnTo>
                        <a:pt x="67" y="289"/>
                      </a:lnTo>
                      <a:lnTo>
                        <a:pt x="52" y="265"/>
                      </a:lnTo>
                      <a:lnTo>
                        <a:pt x="42" y="241"/>
                      </a:lnTo>
                      <a:lnTo>
                        <a:pt x="31" y="215"/>
                      </a:lnTo>
                      <a:lnTo>
                        <a:pt x="26" y="189"/>
                      </a:lnTo>
                      <a:lnTo>
                        <a:pt x="22" y="162"/>
                      </a:lnTo>
                      <a:lnTo>
                        <a:pt x="21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92800" y="3416400"/>
                  <a:ext cx="150480" cy="128880"/>
                </a:xfrm>
                <a:custGeom>
                  <a:avLst/>
                  <a:gdLst/>
                  <a:ahLst/>
                  <a:rect l="l" t="t" r="r" b="b"/>
                  <a:pathLst>
                    <a:path w="526" h="453">
                      <a:moveTo>
                        <a:pt x="22" y="130"/>
                      </a:moveTo>
                      <a:lnTo>
                        <a:pt x="23" y="94"/>
                      </a:lnTo>
                      <a:lnTo>
                        <a:pt x="28" y="62"/>
                      </a:lnTo>
                      <a:lnTo>
                        <a:pt x="36" y="30"/>
                      </a:lnTo>
                      <a:lnTo>
                        <a:pt x="49" y="0"/>
                      </a:lnTo>
                      <a:lnTo>
                        <a:pt x="23" y="7"/>
                      </a:lnTo>
                      <a:lnTo>
                        <a:pt x="13" y="35"/>
                      </a:lnTo>
                      <a:lnTo>
                        <a:pt x="6" y="66"/>
                      </a:lnTo>
                      <a:lnTo>
                        <a:pt x="1" y="97"/>
                      </a:lnTo>
                      <a:lnTo>
                        <a:pt x="0" y="130"/>
                      </a:lnTo>
                      <a:lnTo>
                        <a:pt x="1" y="161"/>
                      </a:lnTo>
                      <a:lnTo>
                        <a:pt x="6" y="193"/>
                      </a:lnTo>
                      <a:lnTo>
                        <a:pt x="8" y="208"/>
                      </a:lnTo>
                      <a:lnTo>
                        <a:pt x="13" y="224"/>
                      </a:lnTo>
                      <a:lnTo>
                        <a:pt x="24" y="253"/>
                      </a:lnTo>
                      <a:lnTo>
                        <a:pt x="36" y="280"/>
                      </a:lnTo>
                      <a:lnTo>
                        <a:pt x="53" y="308"/>
                      </a:lnTo>
                      <a:lnTo>
                        <a:pt x="73" y="334"/>
                      </a:lnTo>
                      <a:lnTo>
                        <a:pt x="95" y="359"/>
                      </a:lnTo>
                      <a:lnTo>
                        <a:pt x="118" y="379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9" y="429"/>
                      </a:lnTo>
                      <a:lnTo>
                        <a:pt x="227" y="438"/>
                      </a:lnTo>
                      <a:lnTo>
                        <a:pt x="259" y="446"/>
                      </a:lnTo>
                      <a:lnTo>
                        <a:pt x="290" y="450"/>
                      </a:lnTo>
                      <a:lnTo>
                        <a:pt x="324" y="453"/>
                      </a:lnTo>
                      <a:lnTo>
                        <a:pt x="352" y="452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80" y="448"/>
                      </a:lnTo>
                      <a:lnTo>
                        <a:pt x="386" y="446"/>
                      </a:lnTo>
                      <a:lnTo>
                        <a:pt x="392" y="445"/>
                      </a:lnTo>
                      <a:lnTo>
                        <a:pt x="406" y="443"/>
                      </a:lnTo>
                      <a:lnTo>
                        <a:pt x="419" y="438"/>
                      </a:lnTo>
                      <a:lnTo>
                        <a:pt x="432" y="435"/>
                      </a:lnTo>
                      <a:lnTo>
                        <a:pt x="443" y="429"/>
                      </a:lnTo>
                      <a:lnTo>
                        <a:pt x="456" y="424"/>
                      </a:lnTo>
                      <a:lnTo>
                        <a:pt x="481" y="412"/>
                      </a:lnTo>
                      <a:lnTo>
                        <a:pt x="504" y="397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4"/>
                      </a:lnTo>
                      <a:lnTo>
                        <a:pt x="504" y="371"/>
                      </a:lnTo>
                      <a:lnTo>
                        <a:pt x="481" y="387"/>
                      </a:lnTo>
                      <a:lnTo>
                        <a:pt x="456" y="399"/>
                      </a:lnTo>
                      <a:lnTo>
                        <a:pt x="449" y="402"/>
                      </a:lnTo>
                      <a:lnTo>
                        <a:pt x="447" y="402"/>
                      </a:lnTo>
                      <a:lnTo>
                        <a:pt x="446" y="403"/>
                      </a:lnTo>
                      <a:lnTo>
                        <a:pt x="443" y="405"/>
                      </a:lnTo>
                      <a:lnTo>
                        <a:pt x="432" y="412"/>
                      </a:lnTo>
                      <a:lnTo>
                        <a:pt x="419" y="415"/>
                      </a:lnTo>
                      <a:lnTo>
                        <a:pt x="406" y="420"/>
                      </a:lnTo>
                      <a:lnTo>
                        <a:pt x="392" y="422"/>
                      </a:lnTo>
                      <a:lnTo>
                        <a:pt x="386" y="423"/>
                      </a:lnTo>
                      <a:lnTo>
                        <a:pt x="380" y="426"/>
                      </a:lnTo>
                      <a:lnTo>
                        <a:pt x="372" y="426"/>
                      </a:lnTo>
                      <a:lnTo>
                        <a:pt x="365" y="427"/>
                      </a:lnTo>
                      <a:lnTo>
                        <a:pt x="352" y="429"/>
                      </a:lnTo>
                      <a:lnTo>
                        <a:pt x="324" y="431"/>
                      </a:lnTo>
                      <a:lnTo>
                        <a:pt x="293" y="429"/>
                      </a:lnTo>
                      <a:lnTo>
                        <a:pt x="263" y="426"/>
                      </a:lnTo>
                      <a:lnTo>
                        <a:pt x="234" y="418"/>
                      </a:lnTo>
                      <a:lnTo>
                        <a:pt x="208" y="409"/>
                      </a:lnTo>
                      <a:lnTo>
                        <a:pt x="180" y="395"/>
                      </a:lnTo>
                      <a:lnTo>
                        <a:pt x="155" y="380"/>
                      </a:lnTo>
                      <a:lnTo>
                        <a:pt x="132" y="362"/>
                      </a:lnTo>
                      <a:lnTo>
                        <a:pt x="110" y="343"/>
                      </a:lnTo>
                      <a:lnTo>
                        <a:pt x="89" y="319"/>
                      </a:lnTo>
                      <a:lnTo>
                        <a:pt x="78" y="306"/>
                      </a:lnTo>
                      <a:lnTo>
                        <a:pt x="70" y="295"/>
                      </a:lnTo>
                      <a:lnTo>
                        <a:pt x="56" y="270"/>
                      </a:lnTo>
                      <a:lnTo>
                        <a:pt x="43" y="245"/>
                      </a:lnTo>
                      <a:lnTo>
                        <a:pt x="33" y="217"/>
                      </a:lnTo>
                      <a:lnTo>
                        <a:pt x="28" y="202"/>
                      </a:lnTo>
                      <a:lnTo>
                        <a:pt x="26" y="189"/>
                      </a:lnTo>
                      <a:lnTo>
                        <a:pt x="23" y="159"/>
                      </a:lnTo>
                      <a:lnTo>
                        <a:pt x="22" y="130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323680" y="351648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3" h="398">
                      <a:moveTo>
                        <a:pt x="0" y="22"/>
                      </a:moveTo>
                      <a:lnTo>
                        <a:pt x="1" y="54"/>
                      </a:lnTo>
                      <a:lnTo>
                        <a:pt x="23" y="97"/>
                      </a:lnTo>
                      <a:lnTo>
                        <a:pt x="53" y="140"/>
                      </a:lnTo>
                      <a:lnTo>
                        <a:pt x="85" y="181"/>
                      </a:lnTo>
                      <a:lnTo>
                        <a:pt x="122" y="221"/>
                      </a:lnTo>
                      <a:lnTo>
                        <a:pt x="158" y="255"/>
                      </a:lnTo>
                      <a:lnTo>
                        <a:pt x="198" y="287"/>
                      </a:lnTo>
                      <a:lnTo>
                        <a:pt x="239" y="314"/>
                      </a:lnTo>
                      <a:lnTo>
                        <a:pt x="282" y="339"/>
                      </a:lnTo>
                      <a:lnTo>
                        <a:pt x="325" y="358"/>
                      </a:lnTo>
                      <a:lnTo>
                        <a:pt x="372" y="375"/>
                      </a:lnTo>
                      <a:lnTo>
                        <a:pt x="419" y="387"/>
                      </a:lnTo>
                      <a:lnTo>
                        <a:pt x="469" y="398"/>
                      </a:lnTo>
                      <a:lnTo>
                        <a:pt x="496" y="390"/>
                      </a:lnTo>
                      <a:lnTo>
                        <a:pt x="523" y="382"/>
                      </a:lnTo>
                      <a:lnTo>
                        <a:pt x="468" y="375"/>
                      </a:lnTo>
                      <a:lnTo>
                        <a:pt x="441" y="370"/>
                      </a:lnTo>
                      <a:lnTo>
                        <a:pt x="415" y="365"/>
                      </a:lnTo>
                      <a:lnTo>
                        <a:pt x="364" y="349"/>
                      </a:lnTo>
                      <a:lnTo>
                        <a:pt x="315" y="331"/>
                      </a:lnTo>
                      <a:lnTo>
                        <a:pt x="266" y="306"/>
                      </a:lnTo>
                      <a:lnTo>
                        <a:pt x="222" y="276"/>
                      </a:lnTo>
                      <a:lnTo>
                        <a:pt x="178" y="242"/>
                      </a:lnTo>
                      <a:lnTo>
                        <a:pt x="138" y="206"/>
                      </a:lnTo>
                      <a:lnTo>
                        <a:pt x="114" y="181"/>
                      </a:lnTo>
                      <a:lnTo>
                        <a:pt x="93" y="157"/>
                      </a:lnTo>
                      <a:lnTo>
                        <a:pt x="72" y="131"/>
                      </a:lnTo>
                      <a:lnTo>
                        <a:pt x="55" y="106"/>
                      </a:lnTo>
                      <a:lnTo>
                        <a:pt x="38" y="79"/>
                      </a:lnTo>
                      <a:lnTo>
                        <a:pt x="23" y="53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323680" y="3501360"/>
                  <a:ext cx="162360" cy="123840"/>
                </a:xfrm>
                <a:custGeom>
                  <a:avLst/>
                  <a:gdLst/>
                  <a:ahLst/>
                  <a:rect l="l" t="t" r="r" b="b"/>
                  <a:pathLst>
                    <a:path w="567" h="433">
                      <a:moveTo>
                        <a:pt x="6" y="0"/>
                      </a:moveTo>
                      <a:lnTo>
                        <a:pt x="1" y="25"/>
                      </a:lnTo>
                      <a:lnTo>
                        <a:pt x="0" y="51"/>
                      </a:lnTo>
                      <a:lnTo>
                        <a:pt x="10" y="77"/>
                      </a:lnTo>
                      <a:lnTo>
                        <a:pt x="23" y="104"/>
                      </a:lnTo>
                      <a:lnTo>
                        <a:pt x="38" y="130"/>
                      </a:lnTo>
                      <a:lnTo>
                        <a:pt x="55" y="157"/>
                      </a:lnTo>
                      <a:lnTo>
                        <a:pt x="72" y="182"/>
                      </a:lnTo>
                      <a:lnTo>
                        <a:pt x="93" y="208"/>
                      </a:lnTo>
                      <a:lnTo>
                        <a:pt x="114" y="232"/>
                      </a:lnTo>
                      <a:lnTo>
                        <a:pt x="138" y="257"/>
                      </a:lnTo>
                      <a:lnTo>
                        <a:pt x="178" y="293"/>
                      </a:lnTo>
                      <a:lnTo>
                        <a:pt x="222" y="327"/>
                      </a:lnTo>
                      <a:lnTo>
                        <a:pt x="266" y="357"/>
                      </a:lnTo>
                      <a:lnTo>
                        <a:pt x="315" y="382"/>
                      </a:lnTo>
                      <a:lnTo>
                        <a:pt x="364" y="400"/>
                      </a:lnTo>
                      <a:lnTo>
                        <a:pt x="415" y="416"/>
                      </a:lnTo>
                      <a:lnTo>
                        <a:pt x="441" y="421"/>
                      </a:lnTo>
                      <a:lnTo>
                        <a:pt x="468" y="426"/>
                      </a:lnTo>
                      <a:lnTo>
                        <a:pt x="523" y="433"/>
                      </a:lnTo>
                      <a:lnTo>
                        <a:pt x="567" y="412"/>
                      </a:lnTo>
                      <a:lnTo>
                        <a:pt x="565" y="412"/>
                      </a:lnTo>
                      <a:lnTo>
                        <a:pt x="535" y="411"/>
                      </a:lnTo>
                      <a:lnTo>
                        <a:pt x="505" y="409"/>
                      </a:lnTo>
                      <a:lnTo>
                        <a:pt x="476" y="406"/>
                      </a:lnTo>
                      <a:lnTo>
                        <a:pt x="447" y="401"/>
                      </a:lnTo>
                      <a:lnTo>
                        <a:pt x="392" y="387"/>
                      </a:lnTo>
                      <a:lnTo>
                        <a:pt x="341" y="369"/>
                      </a:lnTo>
                      <a:lnTo>
                        <a:pt x="290" y="344"/>
                      </a:lnTo>
                      <a:lnTo>
                        <a:pt x="241" y="315"/>
                      </a:lnTo>
                      <a:lnTo>
                        <a:pt x="217" y="298"/>
                      </a:lnTo>
                      <a:lnTo>
                        <a:pt x="195" y="280"/>
                      </a:lnTo>
                      <a:lnTo>
                        <a:pt x="153" y="241"/>
                      </a:lnTo>
                      <a:lnTo>
                        <a:pt x="127" y="213"/>
                      </a:lnTo>
                      <a:lnTo>
                        <a:pt x="103" y="186"/>
                      </a:lnTo>
                      <a:lnTo>
                        <a:pt x="81" y="156"/>
                      </a:lnTo>
                      <a:lnTo>
                        <a:pt x="62" y="127"/>
                      </a:lnTo>
                      <a:lnTo>
                        <a:pt x="44" y="95"/>
                      </a:lnTo>
                      <a:lnTo>
                        <a:pt x="29" y="64"/>
                      </a:lnTo>
                      <a:lnTo>
                        <a:pt x="17" y="3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325840" y="3488760"/>
                  <a:ext cx="170280" cy="130680"/>
                </a:xfrm>
                <a:custGeom>
                  <a:avLst/>
                  <a:gdLst/>
                  <a:ahLst/>
                  <a:rect l="l" t="t" r="r" b="b"/>
                  <a:pathLst>
                    <a:path w="597" h="457">
                      <a:moveTo>
                        <a:pt x="11" y="0"/>
                      </a:moveTo>
                      <a:lnTo>
                        <a:pt x="0" y="45"/>
                      </a:lnTo>
                      <a:lnTo>
                        <a:pt x="11" y="76"/>
                      </a:lnTo>
                      <a:lnTo>
                        <a:pt x="23" y="109"/>
                      </a:lnTo>
                      <a:lnTo>
                        <a:pt x="38" y="140"/>
                      </a:lnTo>
                      <a:lnTo>
                        <a:pt x="56" y="172"/>
                      </a:lnTo>
                      <a:lnTo>
                        <a:pt x="75" y="201"/>
                      </a:lnTo>
                      <a:lnTo>
                        <a:pt x="97" y="231"/>
                      </a:lnTo>
                      <a:lnTo>
                        <a:pt x="121" y="258"/>
                      </a:lnTo>
                      <a:lnTo>
                        <a:pt x="147" y="286"/>
                      </a:lnTo>
                      <a:lnTo>
                        <a:pt x="189" y="325"/>
                      </a:lnTo>
                      <a:lnTo>
                        <a:pt x="211" y="343"/>
                      </a:lnTo>
                      <a:lnTo>
                        <a:pt x="235" y="360"/>
                      </a:lnTo>
                      <a:lnTo>
                        <a:pt x="284" y="389"/>
                      </a:lnTo>
                      <a:lnTo>
                        <a:pt x="335" y="414"/>
                      </a:lnTo>
                      <a:lnTo>
                        <a:pt x="386" y="432"/>
                      </a:lnTo>
                      <a:lnTo>
                        <a:pt x="441" y="446"/>
                      </a:lnTo>
                      <a:lnTo>
                        <a:pt x="470" y="451"/>
                      </a:lnTo>
                      <a:lnTo>
                        <a:pt x="499" y="454"/>
                      </a:lnTo>
                      <a:lnTo>
                        <a:pt x="529" y="456"/>
                      </a:lnTo>
                      <a:lnTo>
                        <a:pt x="559" y="457"/>
                      </a:lnTo>
                      <a:lnTo>
                        <a:pt x="561" y="457"/>
                      </a:lnTo>
                      <a:lnTo>
                        <a:pt x="597" y="435"/>
                      </a:lnTo>
                      <a:lnTo>
                        <a:pt x="559" y="436"/>
                      </a:lnTo>
                      <a:lnTo>
                        <a:pt x="530" y="435"/>
                      </a:lnTo>
                      <a:lnTo>
                        <a:pt x="502" y="432"/>
                      </a:lnTo>
                      <a:lnTo>
                        <a:pt x="473" y="429"/>
                      </a:lnTo>
                      <a:lnTo>
                        <a:pt x="446" y="424"/>
                      </a:lnTo>
                      <a:lnTo>
                        <a:pt x="393" y="411"/>
                      </a:lnTo>
                      <a:lnTo>
                        <a:pt x="368" y="403"/>
                      </a:lnTo>
                      <a:lnTo>
                        <a:pt x="343" y="394"/>
                      </a:lnTo>
                      <a:lnTo>
                        <a:pt x="318" y="383"/>
                      </a:lnTo>
                      <a:lnTo>
                        <a:pt x="294" y="370"/>
                      </a:lnTo>
                      <a:lnTo>
                        <a:pt x="248" y="343"/>
                      </a:lnTo>
                      <a:lnTo>
                        <a:pt x="203" y="309"/>
                      </a:lnTo>
                      <a:lnTo>
                        <a:pt x="182" y="291"/>
                      </a:lnTo>
                      <a:lnTo>
                        <a:pt x="161" y="271"/>
                      </a:lnTo>
                      <a:lnTo>
                        <a:pt x="133" y="241"/>
                      </a:lnTo>
                      <a:lnTo>
                        <a:pt x="107" y="210"/>
                      </a:lnTo>
                      <a:lnTo>
                        <a:pt x="95" y="193"/>
                      </a:lnTo>
                      <a:lnTo>
                        <a:pt x="84" y="177"/>
                      </a:lnTo>
                      <a:lnTo>
                        <a:pt x="65" y="144"/>
                      </a:lnTo>
                      <a:lnTo>
                        <a:pt x="55" y="126"/>
                      </a:lnTo>
                      <a:lnTo>
                        <a:pt x="47" y="109"/>
                      </a:lnTo>
                      <a:lnTo>
                        <a:pt x="32" y="74"/>
                      </a:lnTo>
                      <a:lnTo>
                        <a:pt x="20" y="3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328720" y="3477960"/>
                  <a:ext cx="176040" cy="135360"/>
                </a:xfrm>
                <a:custGeom>
                  <a:avLst/>
                  <a:gdLst/>
                  <a:ahLst/>
                  <a:rect l="l" t="t" r="r" b="b"/>
                  <a:pathLst>
                    <a:path w="616" h="474">
                      <a:moveTo>
                        <a:pt x="14" y="0"/>
                      </a:moveTo>
                      <a:lnTo>
                        <a:pt x="0" y="38"/>
                      </a:lnTo>
                      <a:lnTo>
                        <a:pt x="9" y="75"/>
                      </a:lnTo>
                      <a:lnTo>
                        <a:pt x="21" y="112"/>
                      </a:lnTo>
                      <a:lnTo>
                        <a:pt x="36" y="147"/>
                      </a:lnTo>
                      <a:lnTo>
                        <a:pt x="44" y="164"/>
                      </a:lnTo>
                      <a:lnTo>
                        <a:pt x="54" y="182"/>
                      </a:lnTo>
                      <a:lnTo>
                        <a:pt x="73" y="215"/>
                      </a:lnTo>
                      <a:lnTo>
                        <a:pt x="84" y="231"/>
                      </a:lnTo>
                      <a:lnTo>
                        <a:pt x="96" y="248"/>
                      </a:lnTo>
                      <a:lnTo>
                        <a:pt x="122" y="279"/>
                      </a:lnTo>
                      <a:lnTo>
                        <a:pt x="150" y="309"/>
                      </a:lnTo>
                      <a:lnTo>
                        <a:pt x="171" y="329"/>
                      </a:lnTo>
                      <a:lnTo>
                        <a:pt x="192" y="347"/>
                      </a:lnTo>
                      <a:lnTo>
                        <a:pt x="237" y="381"/>
                      </a:lnTo>
                      <a:lnTo>
                        <a:pt x="283" y="408"/>
                      </a:lnTo>
                      <a:lnTo>
                        <a:pt x="307" y="421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5" y="462"/>
                      </a:lnTo>
                      <a:lnTo>
                        <a:pt x="462" y="467"/>
                      </a:lnTo>
                      <a:lnTo>
                        <a:pt x="491" y="470"/>
                      </a:lnTo>
                      <a:lnTo>
                        <a:pt x="519" y="473"/>
                      </a:lnTo>
                      <a:lnTo>
                        <a:pt x="548" y="474"/>
                      </a:lnTo>
                      <a:lnTo>
                        <a:pt x="586" y="473"/>
                      </a:lnTo>
                      <a:lnTo>
                        <a:pt x="593" y="466"/>
                      </a:lnTo>
                      <a:lnTo>
                        <a:pt x="594" y="464"/>
                      </a:lnTo>
                      <a:lnTo>
                        <a:pt x="596" y="462"/>
                      </a:lnTo>
                      <a:lnTo>
                        <a:pt x="601" y="460"/>
                      </a:lnTo>
                      <a:lnTo>
                        <a:pt x="616" y="449"/>
                      </a:lnTo>
                      <a:lnTo>
                        <a:pt x="582" y="451"/>
                      </a:lnTo>
                      <a:lnTo>
                        <a:pt x="548" y="452"/>
                      </a:lnTo>
                      <a:lnTo>
                        <a:pt x="520" y="451"/>
                      </a:lnTo>
                      <a:lnTo>
                        <a:pt x="493" y="449"/>
                      </a:lnTo>
                      <a:lnTo>
                        <a:pt x="440" y="442"/>
                      </a:lnTo>
                      <a:lnTo>
                        <a:pt x="389" y="428"/>
                      </a:lnTo>
                      <a:lnTo>
                        <a:pt x="340" y="413"/>
                      </a:lnTo>
                      <a:lnTo>
                        <a:pt x="292" y="390"/>
                      </a:lnTo>
                      <a:lnTo>
                        <a:pt x="248" y="363"/>
                      </a:lnTo>
                      <a:lnTo>
                        <a:pt x="226" y="347"/>
                      </a:lnTo>
                      <a:lnTo>
                        <a:pt x="206" y="330"/>
                      </a:lnTo>
                      <a:lnTo>
                        <a:pt x="166" y="294"/>
                      </a:lnTo>
                      <a:lnTo>
                        <a:pt x="136" y="261"/>
                      </a:lnTo>
                      <a:lnTo>
                        <a:pt x="108" y="227"/>
                      </a:lnTo>
                      <a:lnTo>
                        <a:pt x="85" y="192"/>
                      </a:lnTo>
                      <a:lnTo>
                        <a:pt x="73" y="173"/>
                      </a:lnTo>
                      <a:lnTo>
                        <a:pt x="64" y="156"/>
                      </a:lnTo>
                      <a:lnTo>
                        <a:pt x="54" y="137"/>
                      </a:lnTo>
                      <a:lnTo>
                        <a:pt x="46" y="119"/>
                      </a:lnTo>
                      <a:lnTo>
                        <a:pt x="33" y="80"/>
                      </a:lnTo>
                      <a:lnTo>
                        <a:pt x="26" y="60"/>
                      </a:lnTo>
                      <a:lnTo>
                        <a:pt x="21" y="4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332680" y="3468240"/>
                  <a:ext cx="180000" cy="138600"/>
                </a:xfrm>
                <a:custGeom>
                  <a:avLst/>
                  <a:gdLst/>
                  <a:ahLst/>
                  <a:rect l="l" t="t" r="r" b="b"/>
                  <a:pathLst>
                    <a:path w="630" h="486">
                      <a:moveTo>
                        <a:pt x="19" y="0"/>
                      </a:moveTo>
                      <a:lnTo>
                        <a:pt x="0" y="34"/>
                      </a:lnTo>
                      <a:lnTo>
                        <a:pt x="7" y="75"/>
                      </a:lnTo>
                      <a:lnTo>
                        <a:pt x="12" y="94"/>
                      </a:lnTo>
                      <a:lnTo>
                        <a:pt x="19" y="114"/>
                      </a:lnTo>
                      <a:lnTo>
                        <a:pt x="32" y="153"/>
                      </a:lnTo>
                      <a:lnTo>
                        <a:pt x="40" y="171"/>
                      </a:lnTo>
                      <a:lnTo>
                        <a:pt x="50" y="190"/>
                      </a:lnTo>
                      <a:lnTo>
                        <a:pt x="59" y="207"/>
                      </a:lnTo>
                      <a:lnTo>
                        <a:pt x="71" y="226"/>
                      </a:lnTo>
                      <a:lnTo>
                        <a:pt x="94" y="261"/>
                      </a:lnTo>
                      <a:lnTo>
                        <a:pt x="122" y="295"/>
                      </a:lnTo>
                      <a:lnTo>
                        <a:pt x="152" y="328"/>
                      </a:lnTo>
                      <a:lnTo>
                        <a:pt x="192" y="364"/>
                      </a:lnTo>
                      <a:lnTo>
                        <a:pt x="212" y="381"/>
                      </a:lnTo>
                      <a:lnTo>
                        <a:pt x="234" y="397"/>
                      </a:lnTo>
                      <a:lnTo>
                        <a:pt x="278" y="424"/>
                      </a:lnTo>
                      <a:lnTo>
                        <a:pt x="326" y="447"/>
                      </a:lnTo>
                      <a:lnTo>
                        <a:pt x="375" y="462"/>
                      </a:lnTo>
                      <a:lnTo>
                        <a:pt x="426" y="476"/>
                      </a:lnTo>
                      <a:lnTo>
                        <a:pt x="479" y="483"/>
                      </a:lnTo>
                      <a:lnTo>
                        <a:pt x="506" y="485"/>
                      </a:lnTo>
                      <a:lnTo>
                        <a:pt x="534" y="486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4" y="462"/>
                      </a:lnTo>
                      <a:lnTo>
                        <a:pt x="630" y="457"/>
                      </a:lnTo>
                      <a:lnTo>
                        <a:pt x="582" y="462"/>
                      </a:lnTo>
                      <a:lnTo>
                        <a:pt x="534" y="465"/>
                      </a:lnTo>
                      <a:lnTo>
                        <a:pt x="507" y="464"/>
                      </a:lnTo>
                      <a:lnTo>
                        <a:pt x="481" y="461"/>
                      </a:lnTo>
                      <a:lnTo>
                        <a:pt x="430" y="455"/>
                      </a:lnTo>
                      <a:lnTo>
                        <a:pt x="405" y="449"/>
                      </a:lnTo>
                      <a:lnTo>
                        <a:pt x="381" y="442"/>
                      </a:lnTo>
                      <a:lnTo>
                        <a:pt x="335" y="426"/>
                      </a:lnTo>
                      <a:lnTo>
                        <a:pt x="288" y="404"/>
                      </a:lnTo>
                      <a:lnTo>
                        <a:pt x="246" y="379"/>
                      </a:lnTo>
                      <a:lnTo>
                        <a:pt x="204" y="347"/>
                      </a:lnTo>
                      <a:lnTo>
                        <a:pt x="167" y="313"/>
                      </a:lnTo>
                      <a:lnTo>
                        <a:pt x="150" y="295"/>
                      </a:lnTo>
                      <a:lnTo>
                        <a:pt x="135" y="278"/>
                      </a:lnTo>
                      <a:lnTo>
                        <a:pt x="121" y="260"/>
                      </a:lnTo>
                      <a:lnTo>
                        <a:pt x="108" y="243"/>
                      </a:lnTo>
                      <a:lnTo>
                        <a:pt x="94" y="223"/>
                      </a:lnTo>
                      <a:lnTo>
                        <a:pt x="83" y="205"/>
                      </a:lnTo>
                      <a:lnTo>
                        <a:pt x="64" y="168"/>
                      </a:lnTo>
                      <a:lnTo>
                        <a:pt x="46" y="127"/>
                      </a:lnTo>
                      <a:lnTo>
                        <a:pt x="33" y="86"/>
                      </a:lnTo>
                      <a:lnTo>
                        <a:pt x="23" y="4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338080" y="3459600"/>
                  <a:ext cx="181800" cy="140760"/>
                </a:xfrm>
                <a:custGeom>
                  <a:avLst/>
                  <a:gdLst/>
                  <a:ahLst/>
                  <a:rect l="l" t="t" r="r" b="b"/>
                  <a:pathLst>
                    <a:path w="634" h="496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4" y="74"/>
                      </a:lnTo>
                      <a:lnTo>
                        <a:pt x="14" y="117"/>
                      </a:lnTo>
                      <a:lnTo>
                        <a:pt x="27" y="158"/>
                      </a:lnTo>
                      <a:lnTo>
                        <a:pt x="45" y="199"/>
                      </a:lnTo>
                      <a:lnTo>
                        <a:pt x="64" y="236"/>
                      </a:lnTo>
                      <a:lnTo>
                        <a:pt x="75" y="254"/>
                      </a:lnTo>
                      <a:lnTo>
                        <a:pt x="89" y="274"/>
                      </a:lnTo>
                      <a:lnTo>
                        <a:pt x="102" y="291"/>
                      </a:lnTo>
                      <a:lnTo>
                        <a:pt x="116" y="309"/>
                      </a:lnTo>
                      <a:lnTo>
                        <a:pt x="131" y="326"/>
                      </a:lnTo>
                      <a:lnTo>
                        <a:pt x="148" y="344"/>
                      </a:lnTo>
                      <a:lnTo>
                        <a:pt x="185" y="378"/>
                      </a:lnTo>
                      <a:lnTo>
                        <a:pt x="227" y="410"/>
                      </a:lnTo>
                      <a:lnTo>
                        <a:pt x="269" y="435"/>
                      </a:lnTo>
                      <a:lnTo>
                        <a:pt x="316" y="457"/>
                      </a:lnTo>
                      <a:lnTo>
                        <a:pt x="362" y="473"/>
                      </a:lnTo>
                      <a:lnTo>
                        <a:pt x="386" y="480"/>
                      </a:lnTo>
                      <a:lnTo>
                        <a:pt x="411" y="486"/>
                      </a:lnTo>
                      <a:lnTo>
                        <a:pt x="462" y="492"/>
                      </a:lnTo>
                      <a:lnTo>
                        <a:pt x="488" y="495"/>
                      </a:lnTo>
                      <a:lnTo>
                        <a:pt x="515" y="496"/>
                      </a:lnTo>
                      <a:lnTo>
                        <a:pt x="563" y="493"/>
                      </a:lnTo>
                      <a:lnTo>
                        <a:pt x="611" y="488"/>
                      </a:lnTo>
                      <a:lnTo>
                        <a:pt x="634" y="461"/>
                      </a:lnTo>
                      <a:lnTo>
                        <a:pt x="605" y="466"/>
                      </a:lnTo>
                      <a:lnTo>
                        <a:pt x="576" y="471"/>
                      </a:lnTo>
                      <a:lnTo>
                        <a:pt x="545" y="473"/>
                      </a:lnTo>
                      <a:lnTo>
                        <a:pt x="515" y="474"/>
                      </a:lnTo>
                      <a:lnTo>
                        <a:pt x="464" y="472"/>
                      </a:lnTo>
                      <a:lnTo>
                        <a:pt x="416" y="465"/>
                      </a:lnTo>
                      <a:lnTo>
                        <a:pt x="368" y="454"/>
                      </a:lnTo>
                      <a:lnTo>
                        <a:pt x="324" y="438"/>
                      </a:lnTo>
                      <a:lnTo>
                        <a:pt x="280" y="418"/>
                      </a:lnTo>
                      <a:lnTo>
                        <a:pt x="240" y="393"/>
                      </a:lnTo>
                      <a:lnTo>
                        <a:pt x="200" y="363"/>
                      </a:lnTo>
                      <a:lnTo>
                        <a:pt x="164" y="329"/>
                      </a:lnTo>
                      <a:lnTo>
                        <a:pt x="130" y="293"/>
                      </a:lnTo>
                      <a:lnTo>
                        <a:pt x="115" y="274"/>
                      </a:lnTo>
                      <a:lnTo>
                        <a:pt x="103" y="255"/>
                      </a:lnTo>
                      <a:lnTo>
                        <a:pt x="78" y="217"/>
                      </a:lnTo>
                      <a:lnTo>
                        <a:pt x="58" y="177"/>
                      </a:lnTo>
                      <a:lnTo>
                        <a:pt x="41" y="135"/>
                      </a:lnTo>
                      <a:lnTo>
                        <a:pt x="30" y="92"/>
                      </a:lnTo>
                      <a:lnTo>
                        <a:pt x="21" y="47"/>
                      </a:lnTo>
                      <a:lnTo>
                        <a:pt x="19" y="2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334480" y="3570480"/>
                  <a:ext cx="78840" cy="60480"/>
                </a:xfrm>
                <a:custGeom>
                  <a:avLst/>
                  <a:gdLst/>
                  <a:ahLst/>
                  <a:rect l="l" t="t" r="r" b="b"/>
                  <a:pathLst>
                    <a:path w="277" h="211">
                      <a:moveTo>
                        <a:pt x="54" y="61"/>
                      </a:moveTo>
                      <a:lnTo>
                        <a:pt x="26" y="31"/>
                      </a:lnTo>
                      <a:lnTo>
                        <a:pt x="0" y="0"/>
                      </a:lnTo>
                      <a:lnTo>
                        <a:pt x="15" y="26"/>
                      </a:lnTo>
                      <a:lnTo>
                        <a:pt x="32" y="53"/>
                      </a:lnTo>
                      <a:lnTo>
                        <a:pt x="51" y="78"/>
                      </a:lnTo>
                      <a:lnTo>
                        <a:pt x="75" y="104"/>
                      </a:lnTo>
                      <a:lnTo>
                        <a:pt x="96" y="124"/>
                      </a:lnTo>
                      <a:lnTo>
                        <a:pt x="119" y="143"/>
                      </a:lnTo>
                      <a:lnTo>
                        <a:pt x="143" y="159"/>
                      </a:lnTo>
                      <a:lnTo>
                        <a:pt x="168" y="174"/>
                      </a:lnTo>
                      <a:lnTo>
                        <a:pt x="193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7" y="211"/>
                      </a:lnTo>
                      <a:lnTo>
                        <a:pt x="246" y="197"/>
                      </a:lnTo>
                      <a:lnTo>
                        <a:pt x="217" y="183"/>
                      </a:lnTo>
                      <a:lnTo>
                        <a:pt x="187" y="166"/>
                      </a:lnTo>
                      <a:lnTo>
                        <a:pt x="160" y="149"/>
                      </a:lnTo>
                      <a:lnTo>
                        <a:pt x="132" y="128"/>
                      </a:lnTo>
                      <a:lnTo>
                        <a:pt x="105" y="108"/>
                      </a:lnTo>
                      <a:lnTo>
                        <a:pt x="79" y="85"/>
                      </a:lnTo>
                      <a:lnTo>
                        <a:pt x="54" y="61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326200" y="3548880"/>
                  <a:ext cx="11196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3">
                      <a:moveTo>
                        <a:pt x="27" y="76"/>
                      </a:moveTo>
                      <a:lnTo>
                        <a:pt x="53" y="107"/>
                      </a:lnTo>
                      <a:lnTo>
                        <a:pt x="81" y="137"/>
                      </a:lnTo>
                      <a:lnTo>
                        <a:pt x="106" y="161"/>
                      </a:lnTo>
                      <a:lnTo>
                        <a:pt x="132" y="184"/>
                      </a:lnTo>
                      <a:lnTo>
                        <a:pt x="159" y="204"/>
                      </a:lnTo>
                      <a:lnTo>
                        <a:pt x="187" y="225"/>
                      </a:lnTo>
                      <a:lnTo>
                        <a:pt x="214" y="242"/>
                      </a:lnTo>
                      <a:lnTo>
                        <a:pt x="244" y="259"/>
                      </a:lnTo>
                      <a:lnTo>
                        <a:pt x="273" y="273"/>
                      </a:lnTo>
                      <a:lnTo>
                        <a:pt x="304" y="287"/>
                      </a:lnTo>
                      <a:lnTo>
                        <a:pt x="337" y="290"/>
                      </a:lnTo>
                      <a:lnTo>
                        <a:pt x="373" y="293"/>
                      </a:lnTo>
                      <a:lnTo>
                        <a:pt x="391" y="293"/>
                      </a:lnTo>
                      <a:lnTo>
                        <a:pt x="349" y="280"/>
                      </a:lnTo>
                      <a:lnTo>
                        <a:pt x="309" y="266"/>
                      </a:lnTo>
                      <a:lnTo>
                        <a:pt x="271" y="247"/>
                      </a:lnTo>
                      <a:lnTo>
                        <a:pt x="235" y="228"/>
                      </a:lnTo>
                      <a:lnTo>
                        <a:pt x="197" y="204"/>
                      </a:lnTo>
                      <a:lnTo>
                        <a:pt x="162" y="180"/>
                      </a:lnTo>
                      <a:lnTo>
                        <a:pt x="128" y="152"/>
                      </a:lnTo>
                      <a:lnTo>
                        <a:pt x="96" y="123"/>
                      </a:lnTo>
                      <a:lnTo>
                        <a:pt x="68" y="92"/>
                      </a:lnTo>
                      <a:lnTo>
                        <a:pt x="43" y="63"/>
                      </a:lnTo>
                      <a:lnTo>
                        <a:pt x="19" y="31"/>
                      </a:lnTo>
                      <a:lnTo>
                        <a:pt x="0" y="0"/>
                      </a:lnTo>
                      <a:lnTo>
                        <a:pt x="11" y="39"/>
                      </a:lnTo>
                      <a:lnTo>
                        <a:pt x="18" y="57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324040" y="353160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8" h="353">
                      <a:moveTo>
                        <a:pt x="9" y="60"/>
                      </a:moveTo>
                      <a:lnTo>
                        <a:pt x="28" y="91"/>
                      </a:lnTo>
                      <a:lnTo>
                        <a:pt x="52" y="123"/>
                      </a:lnTo>
                      <a:lnTo>
                        <a:pt x="77" y="152"/>
                      </a:lnTo>
                      <a:lnTo>
                        <a:pt x="105" y="183"/>
                      </a:lnTo>
                      <a:lnTo>
                        <a:pt x="137" y="212"/>
                      </a:lnTo>
                      <a:lnTo>
                        <a:pt x="171" y="240"/>
                      </a:lnTo>
                      <a:lnTo>
                        <a:pt x="206" y="264"/>
                      </a:lnTo>
                      <a:lnTo>
                        <a:pt x="244" y="288"/>
                      </a:lnTo>
                      <a:lnTo>
                        <a:pt x="280" y="307"/>
                      </a:lnTo>
                      <a:lnTo>
                        <a:pt x="318" y="326"/>
                      </a:lnTo>
                      <a:lnTo>
                        <a:pt x="358" y="340"/>
                      </a:lnTo>
                      <a:lnTo>
                        <a:pt x="400" y="353"/>
                      </a:lnTo>
                      <a:lnTo>
                        <a:pt x="434" y="349"/>
                      </a:lnTo>
                      <a:lnTo>
                        <a:pt x="468" y="344"/>
                      </a:lnTo>
                      <a:lnTo>
                        <a:pt x="418" y="333"/>
                      </a:lnTo>
                      <a:lnTo>
                        <a:pt x="371" y="321"/>
                      </a:lnTo>
                      <a:lnTo>
                        <a:pt x="324" y="304"/>
                      </a:lnTo>
                      <a:lnTo>
                        <a:pt x="281" y="285"/>
                      </a:lnTo>
                      <a:lnTo>
                        <a:pt x="238" y="260"/>
                      </a:lnTo>
                      <a:lnTo>
                        <a:pt x="197" y="233"/>
                      </a:lnTo>
                      <a:lnTo>
                        <a:pt x="157" y="201"/>
                      </a:lnTo>
                      <a:lnTo>
                        <a:pt x="121" y="167"/>
                      </a:lnTo>
                      <a:lnTo>
                        <a:pt x="84" y="127"/>
                      </a:lnTo>
                      <a:lnTo>
                        <a:pt x="52" y="86"/>
                      </a:lnTo>
                      <a:lnTo>
                        <a:pt x="22" y="43"/>
                      </a:lnTo>
                      <a:lnTo>
                        <a:pt x="0" y="0"/>
                      </a:lnTo>
                      <a:lnTo>
                        <a:pt x="3" y="30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323680" y="3413520"/>
                  <a:ext cx="219600" cy="218520"/>
                </a:xfrm>
                <a:custGeom>
                  <a:avLst/>
                  <a:gdLst/>
                  <a:ahLst/>
                  <a:rect l="l" t="t" r="r" b="b"/>
                  <a:pathLst>
                    <a:path w="767" h="768">
                      <a:moveTo>
                        <a:pt x="383" y="0"/>
                      </a:moveTo>
                      <a:lnTo>
                        <a:pt x="343" y="1"/>
                      </a:lnTo>
                      <a:lnTo>
                        <a:pt x="306" y="7"/>
                      </a:lnTo>
                      <a:lnTo>
                        <a:pt x="269" y="15"/>
                      </a:lnTo>
                      <a:lnTo>
                        <a:pt x="235" y="27"/>
                      </a:lnTo>
                      <a:lnTo>
                        <a:pt x="201" y="42"/>
                      </a:lnTo>
                      <a:lnTo>
                        <a:pt x="170" y="63"/>
                      </a:lnTo>
                      <a:lnTo>
                        <a:pt x="139" y="85"/>
                      </a:lnTo>
                      <a:lnTo>
                        <a:pt x="112" y="112"/>
                      </a:lnTo>
                      <a:lnTo>
                        <a:pt x="85" y="140"/>
                      </a:lnTo>
                      <a:lnTo>
                        <a:pt x="62" y="170"/>
                      </a:lnTo>
                      <a:lnTo>
                        <a:pt x="42" y="202"/>
                      </a:lnTo>
                      <a:lnTo>
                        <a:pt x="27" y="236"/>
                      </a:lnTo>
                      <a:lnTo>
                        <a:pt x="14" y="270"/>
                      </a:lnTo>
                      <a:lnTo>
                        <a:pt x="6" y="306"/>
                      </a:lnTo>
                      <a:lnTo>
                        <a:pt x="1" y="344"/>
                      </a:lnTo>
                      <a:lnTo>
                        <a:pt x="0" y="383"/>
                      </a:lnTo>
                      <a:lnTo>
                        <a:pt x="1" y="422"/>
                      </a:lnTo>
                      <a:lnTo>
                        <a:pt x="6" y="459"/>
                      </a:lnTo>
                      <a:lnTo>
                        <a:pt x="14" y="496"/>
                      </a:lnTo>
                      <a:lnTo>
                        <a:pt x="27" y="531"/>
                      </a:lnTo>
                      <a:lnTo>
                        <a:pt x="42" y="564"/>
                      </a:lnTo>
                      <a:lnTo>
                        <a:pt x="62" y="595"/>
                      </a:lnTo>
                      <a:lnTo>
                        <a:pt x="72" y="610"/>
                      </a:lnTo>
                      <a:lnTo>
                        <a:pt x="85" y="626"/>
                      </a:lnTo>
                      <a:lnTo>
                        <a:pt x="112" y="655"/>
                      </a:lnTo>
                      <a:lnTo>
                        <a:pt x="139" y="680"/>
                      </a:lnTo>
                      <a:lnTo>
                        <a:pt x="170" y="703"/>
                      </a:lnTo>
                      <a:lnTo>
                        <a:pt x="201" y="722"/>
                      </a:lnTo>
                      <a:lnTo>
                        <a:pt x="235" y="739"/>
                      </a:lnTo>
                      <a:lnTo>
                        <a:pt x="269" y="751"/>
                      </a:lnTo>
                      <a:lnTo>
                        <a:pt x="306" y="760"/>
                      </a:lnTo>
                      <a:lnTo>
                        <a:pt x="343" y="765"/>
                      </a:lnTo>
                      <a:lnTo>
                        <a:pt x="383" y="768"/>
                      </a:lnTo>
                      <a:lnTo>
                        <a:pt x="421" y="765"/>
                      </a:lnTo>
                      <a:lnTo>
                        <a:pt x="440" y="762"/>
                      </a:lnTo>
                      <a:lnTo>
                        <a:pt x="459" y="760"/>
                      </a:lnTo>
                      <a:lnTo>
                        <a:pt x="495" y="751"/>
                      </a:lnTo>
                      <a:lnTo>
                        <a:pt x="499" y="748"/>
                      </a:lnTo>
                      <a:lnTo>
                        <a:pt x="503" y="747"/>
                      </a:lnTo>
                      <a:lnTo>
                        <a:pt x="512" y="745"/>
                      </a:lnTo>
                      <a:lnTo>
                        <a:pt x="530" y="739"/>
                      </a:lnTo>
                      <a:lnTo>
                        <a:pt x="546" y="730"/>
                      </a:lnTo>
                      <a:lnTo>
                        <a:pt x="554" y="726"/>
                      </a:lnTo>
                      <a:lnTo>
                        <a:pt x="563" y="722"/>
                      </a:lnTo>
                      <a:lnTo>
                        <a:pt x="595" y="703"/>
                      </a:lnTo>
                      <a:lnTo>
                        <a:pt x="610" y="692"/>
                      </a:lnTo>
                      <a:lnTo>
                        <a:pt x="626" y="680"/>
                      </a:lnTo>
                      <a:lnTo>
                        <a:pt x="655" y="655"/>
                      </a:lnTo>
                      <a:lnTo>
                        <a:pt x="680" y="626"/>
                      </a:lnTo>
                      <a:lnTo>
                        <a:pt x="691" y="610"/>
                      </a:lnTo>
                      <a:lnTo>
                        <a:pt x="703" y="595"/>
                      </a:lnTo>
                      <a:lnTo>
                        <a:pt x="722" y="564"/>
                      </a:lnTo>
                      <a:lnTo>
                        <a:pt x="725" y="555"/>
                      </a:lnTo>
                      <a:lnTo>
                        <a:pt x="730" y="547"/>
                      </a:lnTo>
                      <a:lnTo>
                        <a:pt x="739" y="531"/>
                      </a:lnTo>
                      <a:lnTo>
                        <a:pt x="745" y="513"/>
                      </a:lnTo>
                      <a:lnTo>
                        <a:pt x="747" y="504"/>
                      </a:lnTo>
                      <a:lnTo>
                        <a:pt x="748" y="499"/>
                      </a:lnTo>
                      <a:lnTo>
                        <a:pt x="750" y="496"/>
                      </a:lnTo>
                      <a:lnTo>
                        <a:pt x="759" y="459"/>
                      </a:lnTo>
                      <a:lnTo>
                        <a:pt x="762" y="440"/>
                      </a:lnTo>
                      <a:lnTo>
                        <a:pt x="765" y="422"/>
                      </a:lnTo>
                      <a:lnTo>
                        <a:pt x="767" y="383"/>
                      </a:lnTo>
                      <a:lnTo>
                        <a:pt x="765" y="344"/>
                      </a:lnTo>
                      <a:lnTo>
                        <a:pt x="759" y="306"/>
                      </a:lnTo>
                      <a:lnTo>
                        <a:pt x="750" y="270"/>
                      </a:lnTo>
                      <a:lnTo>
                        <a:pt x="739" y="236"/>
                      </a:lnTo>
                      <a:lnTo>
                        <a:pt x="722" y="202"/>
                      </a:lnTo>
                      <a:lnTo>
                        <a:pt x="703" y="170"/>
                      </a:lnTo>
                      <a:lnTo>
                        <a:pt x="680" y="140"/>
                      </a:lnTo>
                      <a:lnTo>
                        <a:pt x="655" y="112"/>
                      </a:lnTo>
                      <a:lnTo>
                        <a:pt x="626" y="85"/>
                      </a:lnTo>
                      <a:lnTo>
                        <a:pt x="610" y="73"/>
                      </a:lnTo>
                      <a:lnTo>
                        <a:pt x="595" y="63"/>
                      </a:lnTo>
                      <a:lnTo>
                        <a:pt x="563" y="42"/>
                      </a:lnTo>
                      <a:lnTo>
                        <a:pt x="530" y="27"/>
                      </a:lnTo>
                      <a:lnTo>
                        <a:pt x="495" y="15"/>
                      </a:lnTo>
                      <a:lnTo>
                        <a:pt x="459" y="7"/>
                      </a:lnTo>
                      <a:lnTo>
                        <a:pt x="421" y="1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382720" y="3512880"/>
                  <a:ext cx="1011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388120" y="3518640"/>
                  <a:ext cx="89640" cy="1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79440" y="3917160"/>
                  <a:ext cx="9468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7">
                      <a:moveTo>
                        <a:pt x="65" y="27"/>
                      </a:moveTo>
                      <a:lnTo>
                        <a:pt x="91" y="6"/>
                      </a:lnTo>
                      <a:lnTo>
                        <a:pt x="62" y="0"/>
                      </a:lnTo>
                      <a:lnTo>
                        <a:pt x="51" y="12"/>
                      </a:lnTo>
                      <a:lnTo>
                        <a:pt x="27" y="38"/>
                      </a:lnTo>
                      <a:lnTo>
                        <a:pt x="18" y="51"/>
                      </a:lnTo>
                      <a:lnTo>
                        <a:pt x="12" y="67"/>
                      </a:lnTo>
                      <a:lnTo>
                        <a:pt x="5" y="82"/>
                      </a:lnTo>
                      <a:lnTo>
                        <a:pt x="2" y="99"/>
                      </a:lnTo>
                      <a:lnTo>
                        <a:pt x="0" y="134"/>
                      </a:lnTo>
                      <a:lnTo>
                        <a:pt x="0" y="150"/>
                      </a:lnTo>
                      <a:lnTo>
                        <a:pt x="2" y="167"/>
                      </a:lnTo>
                      <a:lnTo>
                        <a:pt x="5" y="183"/>
                      </a:lnTo>
                      <a:lnTo>
                        <a:pt x="12" y="200"/>
                      </a:lnTo>
                      <a:lnTo>
                        <a:pt x="18" y="214"/>
                      </a:lnTo>
                      <a:lnTo>
                        <a:pt x="27" y="228"/>
                      </a:lnTo>
                      <a:lnTo>
                        <a:pt x="37" y="242"/>
                      </a:lnTo>
                      <a:lnTo>
                        <a:pt x="51" y="256"/>
                      </a:lnTo>
                      <a:lnTo>
                        <a:pt x="63" y="267"/>
                      </a:lnTo>
                      <a:lnTo>
                        <a:pt x="77" y="277"/>
                      </a:lnTo>
                      <a:lnTo>
                        <a:pt x="90" y="285"/>
                      </a:lnTo>
                      <a:lnTo>
                        <a:pt x="106" y="293"/>
                      </a:lnTo>
                      <a:lnTo>
                        <a:pt x="121" y="299"/>
                      </a:lnTo>
                      <a:lnTo>
                        <a:pt x="138" y="303"/>
                      </a:lnTo>
                      <a:lnTo>
                        <a:pt x="155" y="305"/>
                      </a:lnTo>
                      <a:lnTo>
                        <a:pt x="173" y="307"/>
                      </a:lnTo>
                      <a:lnTo>
                        <a:pt x="189" y="305"/>
                      </a:lnTo>
                      <a:lnTo>
                        <a:pt x="206" y="303"/>
                      </a:lnTo>
                      <a:lnTo>
                        <a:pt x="222" y="299"/>
                      </a:lnTo>
                      <a:lnTo>
                        <a:pt x="225" y="296"/>
                      </a:lnTo>
                      <a:lnTo>
                        <a:pt x="230" y="295"/>
                      </a:lnTo>
                      <a:lnTo>
                        <a:pt x="239" y="293"/>
                      </a:lnTo>
                      <a:lnTo>
                        <a:pt x="252" y="285"/>
                      </a:lnTo>
                      <a:lnTo>
                        <a:pt x="259" y="280"/>
                      </a:lnTo>
                      <a:lnTo>
                        <a:pt x="263" y="278"/>
                      </a:lnTo>
                      <a:lnTo>
                        <a:pt x="267" y="277"/>
                      </a:lnTo>
                      <a:lnTo>
                        <a:pt x="281" y="267"/>
                      </a:lnTo>
                      <a:lnTo>
                        <a:pt x="296" y="256"/>
                      </a:lnTo>
                      <a:lnTo>
                        <a:pt x="307" y="242"/>
                      </a:lnTo>
                      <a:lnTo>
                        <a:pt x="311" y="235"/>
                      </a:lnTo>
                      <a:lnTo>
                        <a:pt x="314" y="232"/>
                      </a:lnTo>
                      <a:lnTo>
                        <a:pt x="317" y="229"/>
                      </a:lnTo>
                      <a:lnTo>
                        <a:pt x="318" y="225"/>
                      </a:lnTo>
                      <a:lnTo>
                        <a:pt x="321" y="222"/>
                      </a:lnTo>
                      <a:lnTo>
                        <a:pt x="325" y="215"/>
                      </a:lnTo>
                      <a:lnTo>
                        <a:pt x="333" y="201"/>
                      </a:lnTo>
                      <a:lnTo>
                        <a:pt x="325" y="188"/>
                      </a:lnTo>
                      <a:lnTo>
                        <a:pt x="318" y="176"/>
                      </a:lnTo>
                      <a:lnTo>
                        <a:pt x="314" y="184"/>
                      </a:lnTo>
                      <a:lnTo>
                        <a:pt x="310" y="193"/>
                      </a:lnTo>
                      <a:lnTo>
                        <a:pt x="306" y="201"/>
                      </a:lnTo>
                      <a:lnTo>
                        <a:pt x="302" y="210"/>
                      </a:lnTo>
                      <a:lnTo>
                        <a:pt x="297" y="217"/>
                      </a:lnTo>
                      <a:lnTo>
                        <a:pt x="292" y="225"/>
                      </a:lnTo>
                      <a:lnTo>
                        <a:pt x="280" y="241"/>
                      </a:lnTo>
                      <a:lnTo>
                        <a:pt x="267" y="250"/>
                      </a:lnTo>
                      <a:lnTo>
                        <a:pt x="256" y="259"/>
                      </a:lnTo>
                      <a:lnTo>
                        <a:pt x="242" y="267"/>
                      </a:lnTo>
                      <a:lnTo>
                        <a:pt x="230" y="274"/>
                      </a:lnTo>
                      <a:lnTo>
                        <a:pt x="215" y="278"/>
                      </a:lnTo>
                      <a:lnTo>
                        <a:pt x="201" y="282"/>
                      </a:lnTo>
                      <a:lnTo>
                        <a:pt x="187" y="284"/>
                      </a:lnTo>
                      <a:lnTo>
                        <a:pt x="173" y="285"/>
                      </a:lnTo>
                      <a:lnTo>
                        <a:pt x="157" y="284"/>
                      </a:lnTo>
                      <a:lnTo>
                        <a:pt x="143" y="282"/>
                      </a:lnTo>
                      <a:lnTo>
                        <a:pt x="128" y="278"/>
                      </a:lnTo>
                      <a:lnTo>
                        <a:pt x="114" y="274"/>
                      </a:lnTo>
                      <a:lnTo>
                        <a:pt x="101" y="267"/>
                      </a:lnTo>
                      <a:lnTo>
                        <a:pt x="88" y="259"/>
                      </a:lnTo>
                      <a:lnTo>
                        <a:pt x="65" y="241"/>
                      </a:lnTo>
                      <a:lnTo>
                        <a:pt x="54" y="228"/>
                      </a:lnTo>
                      <a:lnTo>
                        <a:pt x="45" y="217"/>
                      </a:lnTo>
                      <a:lnTo>
                        <a:pt x="37" y="203"/>
                      </a:lnTo>
                      <a:lnTo>
                        <a:pt x="31" y="191"/>
                      </a:lnTo>
                      <a:lnTo>
                        <a:pt x="26" y="176"/>
                      </a:lnTo>
                      <a:lnTo>
                        <a:pt x="23" y="163"/>
                      </a:lnTo>
                      <a:lnTo>
                        <a:pt x="21" y="148"/>
                      </a:lnTo>
                      <a:lnTo>
                        <a:pt x="21" y="134"/>
                      </a:lnTo>
                      <a:lnTo>
                        <a:pt x="23" y="104"/>
                      </a:lnTo>
                      <a:lnTo>
                        <a:pt x="31" y="75"/>
                      </a:lnTo>
                      <a:lnTo>
                        <a:pt x="45" y="49"/>
                      </a:lnTo>
                      <a:lnTo>
                        <a:pt x="54" y="37"/>
                      </a:lnTo>
                      <a:lnTo>
                        <a:pt x="65" y="27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785920" y="3918960"/>
                  <a:ext cx="84600" cy="7992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0" y="0"/>
                      </a:moveTo>
                      <a:lnTo>
                        <a:pt x="44" y="21"/>
                      </a:lnTo>
                      <a:lnTo>
                        <a:pt x="33" y="31"/>
                      </a:lnTo>
                      <a:lnTo>
                        <a:pt x="24" y="43"/>
                      </a:lnTo>
                      <a:lnTo>
                        <a:pt x="10" y="69"/>
                      </a:lnTo>
                      <a:lnTo>
                        <a:pt x="2" y="98"/>
                      </a:lnTo>
                      <a:lnTo>
                        <a:pt x="0" y="128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5" y="170"/>
                      </a:lnTo>
                      <a:lnTo>
                        <a:pt x="10" y="185"/>
                      </a:lnTo>
                      <a:lnTo>
                        <a:pt x="16" y="197"/>
                      </a:lnTo>
                      <a:lnTo>
                        <a:pt x="24" y="211"/>
                      </a:lnTo>
                      <a:lnTo>
                        <a:pt x="33" y="222"/>
                      </a:lnTo>
                      <a:lnTo>
                        <a:pt x="44" y="235"/>
                      </a:lnTo>
                      <a:lnTo>
                        <a:pt x="67" y="253"/>
                      </a:lnTo>
                      <a:lnTo>
                        <a:pt x="80" y="261"/>
                      </a:lnTo>
                      <a:lnTo>
                        <a:pt x="93" y="268"/>
                      </a:lnTo>
                      <a:lnTo>
                        <a:pt x="107" y="272"/>
                      </a:lnTo>
                      <a:lnTo>
                        <a:pt x="122" y="276"/>
                      </a:lnTo>
                      <a:lnTo>
                        <a:pt x="136" y="278"/>
                      </a:lnTo>
                      <a:lnTo>
                        <a:pt x="152" y="279"/>
                      </a:lnTo>
                      <a:lnTo>
                        <a:pt x="166" y="278"/>
                      </a:lnTo>
                      <a:lnTo>
                        <a:pt x="180" y="276"/>
                      </a:lnTo>
                      <a:lnTo>
                        <a:pt x="194" y="272"/>
                      </a:lnTo>
                      <a:lnTo>
                        <a:pt x="209" y="268"/>
                      </a:lnTo>
                      <a:lnTo>
                        <a:pt x="221" y="261"/>
                      </a:lnTo>
                      <a:lnTo>
                        <a:pt x="235" y="253"/>
                      </a:lnTo>
                      <a:lnTo>
                        <a:pt x="246" y="244"/>
                      </a:lnTo>
                      <a:lnTo>
                        <a:pt x="259" y="235"/>
                      </a:lnTo>
                      <a:lnTo>
                        <a:pt x="271" y="219"/>
                      </a:lnTo>
                      <a:lnTo>
                        <a:pt x="276" y="211"/>
                      </a:lnTo>
                      <a:lnTo>
                        <a:pt x="281" y="204"/>
                      </a:lnTo>
                      <a:lnTo>
                        <a:pt x="285" y="195"/>
                      </a:lnTo>
                      <a:lnTo>
                        <a:pt x="289" y="187"/>
                      </a:lnTo>
                      <a:lnTo>
                        <a:pt x="293" y="178"/>
                      </a:lnTo>
                      <a:lnTo>
                        <a:pt x="297" y="170"/>
                      </a:lnTo>
                      <a:lnTo>
                        <a:pt x="280" y="145"/>
                      </a:lnTo>
                      <a:lnTo>
                        <a:pt x="277" y="154"/>
                      </a:lnTo>
                      <a:lnTo>
                        <a:pt x="275" y="165"/>
                      </a:lnTo>
                      <a:lnTo>
                        <a:pt x="271" y="174"/>
                      </a:lnTo>
                      <a:lnTo>
                        <a:pt x="269" y="178"/>
                      </a:lnTo>
                      <a:lnTo>
                        <a:pt x="268" y="180"/>
                      </a:lnTo>
                      <a:lnTo>
                        <a:pt x="268" y="184"/>
                      </a:lnTo>
                      <a:lnTo>
                        <a:pt x="256" y="202"/>
                      </a:lnTo>
                      <a:lnTo>
                        <a:pt x="250" y="210"/>
                      </a:lnTo>
                      <a:lnTo>
                        <a:pt x="244" y="219"/>
                      </a:lnTo>
                      <a:lnTo>
                        <a:pt x="233" y="227"/>
                      </a:lnTo>
                      <a:lnTo>
                        <a:pt x="230" y="227"/>
                      </a:lnTo>
                      <a:lnTo>
                        <a:pt x="229" y="227"/>
                      </a:lnTo>
                      <a:lnTo>
                        <a:pt x="229" y="228"/>
                      </a:lnTo>
                      <a:lnTo>
                        <a:pt x="227" y="230"/>
                      </a:lnTo>
                      <a:lnTo>
                        <a:pt x="222" y="235"/>
                      </a:lnTo>
                      <a:lnTo>
                        <a:pt x="211" y="242"/>
                      </a:lnTo>
                      <a:lnTo>
                        <a:pt x="205" y="244"/>
                      </a:lnTo>
                      <a:lnTo>
                        <a:pt x="201" y="247"/>
                      </a:lnTo>
                      <a:lnTo>
                        <a:pt x="194" y="248"/>
                      </a:lnTo>
                      <a:lnTo>
                        <a:pt x="188" y="251"/>
                      </a:lnTo>
                      <a:lnTo>
                        <a:pt x="177" y="254"/>
                      </a:lnTo>
                      <a:lnTo>
                        <a:pt x="163" y="256"/>
                      </a:lnTo>
                      <a:lnTo>
                        <a:pt x="152" y="257"/>
                      </a:lnTo>
                      <a:lnTo>
                        <a:pt x="139" y="256"/>
                      </a:lnTo>
                      <a:lnTo>
                        <a:pt x="125" y="254"/>
                      </a:lnTo>
                      <a:lnTo>
                        <a:pt x="101" y="247"/>
                      </a:lnTo>
                      <a:lnTo>
                        <a:pt x="90" y="242"/>
                      </a:lnTo>
                      <a:lnTo>
                        <a:pt x="80" y="235"/>
                      </a:lnTo>
                      <a:lnTo>
                        <a:pt x="60" y="219"/>
                      </a:lnTo>
                      <a:lnTo>
                        <a:pt x="42" y="199"/>
                      </a:lnTo>
                      <a:lnTo>
                        <a:pt x="35" y="187"/>
                      </a:lnTo>
                      <a:lnTo>
                        <a:pt x="31" y="177"/>
                      </a:lnTo>
                      <a:lnTo>
                        <a:pt x="26" y="165"/>
                      </a:lnTo>
                      <a:lnTo>
                        <a:pt x="24" y="153"/>
                      </a:lnTo>
                      <a:lnTo>
                        <a:pt x="22" y="128"/>
                      </a:lnTo>
                      <a:lnTo>
                        <a:pt x="24" y="101"/>
                      </a:lnTo>
                      <a:lnTo>
                        <a:pt x="31" y="77"/>
                      </a:lnTo>
                      <a:lnTo>
                        <a:pt x="42" y="56"/>
                      </a:lnTo>
                      <a:lnTo>
                        <a:pt x="60" y="36"/>
                      </a:lnTo>
                      <a:lnTo>
                        <a:pt x="77" y="21"/>
                      </a:lnTo>
                      <a:lnTo>
                        <a:pt x="99" y="9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773320" y="3916800"/>
                  <a:ext cx="104400" cy="93960"/>
                </a:xfrm>
                <a:custGeom>
                  <a:avLst/>
                  <a:gdLst/>
                  <a:ahLst/>
                  <a:rect l="l" t="t" r="r" b="b"/>
                  <a:pathLst>
                    <a:path w="366" h="331">
                      <a:moveTo>
                        <a:pt x="73" y="15"/>
                      </a:moveTo>
                      <a:lnTo>
                        <a:pt x="84" y="3"/>
                      </a:lnTo>
                      <a:lnTo>
                        <a:pt x="57" y="0"/>
                      </a:lnTo>
                      <a:lnTo>
                        <a:pt x="42" y="14"/>
                      </a:lnTo>
                      <a:lnTo>
                        <a:pt x="31" y="30"/>
                      </a:lnTo>
                      <a:lnTo>
                        <a:pt x="14" y="62"/>
                      </a:lnTo>
                      <a:lnTo>
                        <a:pt x="4" y="98"/>
                      </a:lnTo>
                      <a:lnTo>
                        <a:pt x="0" y="137"/>
                      </a:lnTo>
                      <a:lnTo>
                        <a:pt x="0" y="155"/>
                      </a:lnTo>
                      <a:lnTo>
                        <a:pt x="4" y="175"/>
                      </a:lnTo>
                      <a:lnTo>
                        <a:pt x="7" y="193"/>
                      </a:lnTo>
                      <a:lnTo>
                        <a:pt x="14" y="211"/>
                      </a:lnTo>
                      <a:lnTo>
                        <a:pt x="21" y="227"/>
                      </a:lnTo>
                      <a:lnTo>
                        <a:pt x="31" y="244"/>
                      </a:lnTo>
                      <a:lnTo>
                        <a:pt x="42" y="259"/>
                      </a:lnTo>
                      <a:lnTo>
                        <a:pt x="57" y="274"/>
                      </a:lnTo>
                      <a:lnTo>
                        <a:pt x="70" y="287"/>
                      </a:lnTo>
                      <a:lnTo>
                        <a:pt x="86" y="298"/>
                      </a:lnTo>
                      <a:lnTo>
                        <a:pt x="102" y="308"/>
                      </a:lnTo>
                      <a:lnTo>
                        <a:pt x="119" y="316"/>
                      </a:lnTo>
                      <a:lnTo>
                        <a:pt x="136" y="322"/>
                      </a:lnTo>
                      <a:lnTo>
                        <a:pt x="155" y="327"/>
                      </a:lnTo>
                      <a:lnTo>
                        <a:pt x="175" y="330"/>
                      </a:lnTo>
                      <a:lnTo>
                        <a:pt x="195" y="331"/>
                      </a:lnTo>
                      <a:lnTo>
                        <a:pt x="213" y="330"/>
                      </a:lnTo>
                      <a:lnTo>
                        <a:pt x="222" y="328"/>
                      </a:lnTo>
                      <a:lnTo>
                        <a:pt x="227" y="327"/>
                      </a:lnTo>
                      <a:lnTo>
                        <a:pt x="233" y="327"/>
                      </a:lnTo>
                      <a:lnTo>
                        <a:pt x="251" y="322"/>
                      </a:lnTo>
                      <a:lnTo>
                        <a:pt x="269" y="316"/>
                      </a:lnTo>
                      <a:lnTo>
                        <a:pt x="285" y="308"/>
                      </a:lnTo>
                      <a:lnTo>
                        <a:pt x="286" y="306"/>
                      </a:lnTo>
                      <a:lnTo>
                        <a:pt x="288" y="305"/>
                      </a:lnTo>
                      <a:lnTo>
                        <a:pt x="293" y="303"/>
                      </a:lnTo>
                      <a:lnTo>
                        <a:pt x="302" y="298"/>
                      </a:lnTo>
                      <a:lnTo>
                        <a:pt x="316" y="287"/>
                      </a:lnTo>
                      <a:lnTo>
                        <a:pt x="332" y="274"/>
                      </a:lnTo>
                      <a:lnTo>
                        <a:pt x="350" y="252"/>
                      </a:lnTo>
                      <a:lnTo>
                        <a:pt x="366" y="229"/>
                      </a:lnTo>
                      <a:lnTo>
                        <a:pt x="355" y="204"/>
                      </a:lnTo>
                      <a:lnTo>
                        <a:pt x="347" y="218"/>
                      </a:lnTo>
                      <a:lnTo>
                        <a:pt x="343" y="225"/>
                      </a:lnTo>
                      <a:lnTo>
                        <a:pt x="340" y="228"/>
                      </a:lnTo>
                      <a:lnTo>
                        <a:pt x="339" y="232"/>
                      </a:lnTo>
                      <a:lnTo>
                        <a:pt x="336" y="235"/>
                      </a:lnTo>
                      <a:lnTo>
                        <a:pt x="333" y="238"/>
                      </a:lnTo>
                      <a:lnTo>
                        <a:pt x="329" y="245"/>
                      </a:lnTo>
                      <a:lnTo>
                        <a:pt x="318" y="259"/>
                      </a:lnTo>
                      <a:lnTo>
                        <a:pt x="303" y="270"/>
                      </a:lnTo>
                      <a:lnTo>
                        <a:pt x="289" y="280"/>
                      </a:lnTo>
                      <a:lnTo>
                        <a:pt x="285" y="281"/>
                      </a:lnTo>
                      <a:lnTo>
                        <a:pt x="281" y="283"/>
                      </a:lnTo>
                      <a:lnTo>
                        <a:pt x="274" y="288"/>
                      </a:lnTo>
                      <a:lnTo>
                        <a:pt x="261" y="296"/>
                      </a:lnTo>
                      <a:lnTo>
                        <a:pt x="252" y="298"/>
                      </a:lnTo>
                      <a:lnTo>
                        <a:pt x="247" y="299"/>
                      </a:lnTo>
                      <a:lnTo>
                        <a:pt x="244" y="302"/>
                      </a:lnTo>
                      <a:lnTo>
                        <a:pt x="228" y="306"/>
                      </a:lnTo>
                      <a:lnTo>
                        <a:pt x="211" y="308"/>
                      </a:lnTo>
                      <a:lnTo>
                        <a:pt x="195" y="310"/>
                      </a:lnTo>
                      <a:lnTo>
                        <a:pt x="177" y="308"/>
                      </a:lnTo>
                      <a:lnTo>
                        <a:pt x="160" y="306"/>
                      </a:lnTo>
                      <a:lnTo>
                        <a:pt x="143" y="302"/>
                      </a:lnTo>
                      <a:lnTo>
                        <a:pt x="128" y="296"/>
                      </a:lnTo>
                      <a:lnTo>
                        <a:pt x="112" y="288"/>
                      </a:lnTo>
                      <a:lnTo>
                        <a:pt x="99" y="280"/>
                      </a:lnTo>
                      <a:lnTo>
                        <a:pt x="85" y="270"/>
                      </a:lnTo>
                      <a:lnTo>
                        <a:pt x="73" y="259"/>
                      </a:lnTo>
                      <a:lnTo>
                        <a:pt x="59" y="245"/>
                      </a:lnTo>
                      <a:lnTo>
                        <a:pt x="49" y="231"/>
                      </a:lnTo>
                      <a:lnTo>
                        <a:pt x="40" y="217"/>
                      </a:lnTo>
                      <a:lnTo>
                        <a:pt x="34" y="203"/>
                      </a:lnTo>
                      <a:lnTo>
                        <a:pt x="27" y="186"/>
                      </a:lnTo>
                      <a:lnTo>
                        <a:pt x="24" y="170"/>
                      </a:lnTo>
                      <a:lnTo>
                        <a:pt x="22" y="153"/>
                      </a:lnTo>
                      <a:lnTo>
                        <a:pt x="22" y="137"/>
                      </a:lnTo>
                      <a:lnTo>
                        <a:pt x="24" y="102"/>
                      </a:lnTo>
                      <a:lnTo>
                        <a:pt x="27" y="85"/>
                      </a:lnTo>
                      <a:lnTo>
                        <a:pt x="34" y="70"/>
                      </a:lnTo>
                      <a:lnTo>
                        <a:pt x="40" y="54"/>
                      </a:lnTo>
                      <a:lnTo>
                        <a:pt x="49" y="41"/>
                      </a:lnTo>
                      <a:lnTo>
                        <a:pt x="73" y="15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761080" y="3915720"/>
                  <a:ext cx="121680" cy="108000"/>
                </a:xfrm>
                <a:custGeom>
                  <a:avLst/>
                  <a:gdLst/>
                  <a:ahLst/>
                  <a:rect l="l" t="t" r="r" b="b"/>
                  <a:pathLst>
                    <a:path w="427" h="376">
                      <a:moveTo>
                        <a:pt x="56" y="0"/>
                      </a:moveTo>
                      <a:lnTo>
                        <a:pt x="44" y="0"/>
                      </a:lnTo>
                      <a:lnTo>
                        <a:pt x="24" y="30"/>
                      </a:lnTo>
                      <a:lnTo>
                        <a:pt x="16" y="46"/>
                      </a:lnTo>
                      <a:lnTo>
                        <a:pt x="10" y="64"/>
                      </a:lnTo>
                      <a:lnTo>
                        <a:pt x="2" y="100"/>
                      </a:lnTo>
                      <a:lnTo>
                        <a:pt x="0" y="139"/>
                      </a:lnTo>
                      <a:lnTo>
                        <a:pt x="0" y="162"/>
                      </a:lnTo>
                      <a:lnTo>
                        <a:pt x="3" y="186"/>
                      </a:lnTo>
                      <a:lnTo>
                        <a:pt x="9" y="207"/>
                      </a:lnTo>
                      <a:lnTo>
                        <a:pt x="17" y="230"/>
                      </a:lnTo>
                      <a:lnTo>
                        <a:pt x="25" y="249"/>
                      </a:lnTo>
                      <a:lnTo>
                        <a:pt x="37" y="270"/>
                      </a:lnTo>
                      <a:lnTo>
                        <a:pt x="52" y="288"/>
                      </a:lnTo>
                      <a:lnTo>
                        <a:pt x="69" y="307"/>
                      </a:lnTo>
                      <a:lnTo>
                        <a:pt x="86" y="322"/>
                      </a:lnTo>
                      <a:lnTo>
                        <a:pt x="105" y="337"/>
                      </a:lnTo>
                      <a:lnTo>
                        <a:pt x="125" y="348"/>
                      </a:lnTo>
                      <a:lnTo>
                        <a:pt x="146" y="358"/>
                      </a:lnTo>
                      <a:lnTo>
                        <a:pt x="167" y="366"/>
                      </a:lnTo>
                      <a:lnTo>
                        <a:pt x="189" y="372"/>
                      </a:lnTo>
                      <a:lnTo>
                        <a:pt x="213" y="375"/>
                      </a:lnTo>
                      <a:lnTo>
                        <a:pt x="238" y="376"/>
                      </a:lnTo>
                      <a:lnTo>
                        <a:pt x="261" y="375"/>
                      </a:lnTo>
                      <a:lnTo>
                        <a:pt x="272" y="373"/>
                      </a:lnTo>
                      <a:lnTo>
                        <a:pt x="274" y="372"/>
                      </a:lnTo>
                      <a:lnTo>
                        <a:pt x="278" y="372"/>
                      </a:lnTo>
                      <a:lnTo>
                        <a:pt x="285" y="372"/>
                      </a:lnTo>
                      <a:lnTo>
                        <a:pt x="289" y="369"/>
                      </a:lnTo>
                      <a:lnTo>
                        <a:pt x="291" y="368"/>
                      </a:lnTo>
                      <a:lnTo>
                        <a:pt x="295" y="368"/>
                      </a:lnTo>
                      <a:lnTo>
                        <a:pt x="306" y="366"/>
                      </a:lnTo>
                      <a:lnTo>
                        <a:pt x="329" y="358"/>
                      </a:lnTo>
                      <a:lnTo>
                        <a:pt x="338" y="352"/>
                      </a:lnTo>
                      <a:lnTo>
                        <a:pt x="348" y="348"/>
                      </a:lnTo>
                      <a:lnTo>
                        <a:pt x="369" y="337"/>
                      </a:lnTo>
                      <a:lnTo>
                        <a:pt x="387" y="322"/>
                      </a:lnTo>
                      <a:lnTo>
                        <a:pt x="396" y="314"/>
                      </a:lnTo>
                      <a:lnTo>
                        <a:pt x="406" y="307"/>
                      </a:lnTo>
                      <a:lnTo>
                        <a:pt x="410" y="300"/>
                      </a:lnTo>
                      <a:lnTo>
                        <a:pt x="413" y="297"/>
                      </a:lnTo>
                      <a:lnTo>
                        <a:pt x="416" y="295"/>
                      </a:lnTo>
                      <a:lnTo>
                        <a:pt x="427" y="282"/>
                      </a:lnTo>
                      <a:lnTo>
                        <a:pt x="420" y="256"/>
                      </a:lnTo>
                      <a:lnTo>
                        <a:pt x="415" y="259"/>
                      </a:lnTo>
                      <a:lnTo>
                        <a:pt x="412" y="264"/>
                      </a:lnTo>
                      <a:lnTo>
                        <a:pt x="405" y="273"/>
                      </a:lnTo>
                      <a:lnTo>
                        <a:pt x="390" y="291"/>
                      </a:lnTo>
                      <a:lnTo>
                        <a:pt x="381" y="298"/>
                      </a:lnTo>
                      <a:lnTo>
                        <a:pt x="376" y="301"/>
                      </a:lnTo>
                      <a:lnTo>
                        <a:pt x="373" y="306"/>
                      </a:lnTo>
                      <a:lnTo>
                        <a:pt x="364" y="312"/>
                      </a:lnTo>
                      <a:lnTo>
                        <a:pt x="356" y="318"/>
                      </a:lnTo>
                      <a:lnTo>
                        <a:pt x="338" y="329"/>
                      </a:lnTo>
                      <a:lnTo>
                        <a:pt x="320" y="339"/>
                      </a:lnTo>
                      <a:lnTo>
                        <a:pt x="299" y="344"/>
                      </a:lnTo>
                      <a:lnTo>
                        <a:pt x="289" y="347"/>
                      </a:lnTo>
                      <a:lnTo>
                        <a:pt x="280" y="350"/>
                      </a:lnTo>
                      <a:lnTo>
                        <a:pt x="269" y="351"/>
                      </a:lnTo>
                      <a:lnTo>
                        <a:pt x="259" y="354"/>
                      </a:lnTo>
                      <a:lnTo>
                        <a:pt x="238" y="355"/>
                      </a:lnTo>
                      <a:lnTo>
                        <a:pt x="215" y="354"/>
                      </a:lnTo>
                      <a:lnTo>
                        <a:pt x="194" y="350"/>
                      </a:lnTo>
                      <a:lnTo>
                        <a:pt x="173" y="344"/>
                      </a:lnTo>
                      <a:lnTo>
                        <a:pt x="154" y="339"/>
                      </a:lnTo>
                      <a:lnTo>
                        <a:pt x="135" y="329"/>
                      </a:lnTo>
                      <a:lnTo>
                        <a:pt x="118" y="318"/>
                      </a:lnTo>
                      <a:lnTo>
                        <a:pt x="101" y="306"/>
                      </a:lnTo>
                      <a:lnTo>
                        <a:pt x="85" y="291"/>
                      </a:lnTo>
                      <a:lnTo>
                        <a:pt x="69" y="274"/>
                      </a:lnTo>
                      <a:lnTo>
                        <a:pt x="57" y="257"/>
                      </a:lnTo>
                      <a:lnTo>
                        <a:pt x="45" y="239"/>
                      </a:lnTo>
                      <a:lnTo>
                        <a:pt x="37" y="221"/>
                      </a:lnTo>
                      <a:lnTo>
                        <a:pt x="30" y="200"/>
                      </a:lnTo>
                      <a:lnTo>
                        <a:pt x="25" y="181"/>
                      </a:lnTo>
                      <a:lnTo>
                        <a:pt x="22" y="160"/>
                      </a:lnTo>
                      <a:lnTo>
                        <a:pt x="22" y="139"/>
                      </a:lnTo>
                      <a:lnTo>
                        <a:pt x="24" y="100"/>
                      </a:lnTo>
                      <a:lnTo>
                        <a:pt x="27" y="80"/>
                      </a:lnTo>
                      <a:lnTo>
                        <a:pt x="34" y="63"/>
                      </a:lnTo>
                      <a:lnTo>
                        <a:pt x="49" y="30"/>
                      </a:lnTo>
                      <a:lnTo>
                        <a:pt x="73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766840" y="3915720"/>
                  <a:ext cx="113760" cy="10152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8" y="2"/>
                      </a:moveTo>
                      <a:lnTo>
                        <a:pt x="51" y="0"/>
                      </a:lnTo>
                      <a:lnTo>
                        <a:pt x="27" y="30"/>
                      </a:lnTo>
                      <a:lnTo>
                        <a:pt x="12" y="63"/>
                      </a:lnTo>
                      <a:lnTo>
                        <a:pt x="5" y="80"/>
                      </a:lnTo>
                      <a:lnTo>
                        <a:pt x="2" y="100"/>
                      </a:lnTo>
                      <a:lnTo>
                        <a:pt x="0" y="139"/>
                      </a:lnTo>
                      <a:lnTo>
                        <a:pt x="0" y="160"/>
                      </a:lnTo>
                      <a:lnTo>
                        <a:pt x="3" y="181"/>
                      </a:lnTo>
                      <a:lnTo>
                        <a:pt x="8" y="200"/>
                      </a:lnTo>
                      <a:lnTo>
                        <a:pt x="15" y="221"/>
                      </a:lnTo>
                      <a:lnTo>
                        <a:pt x="23" y="239"/>
                      </a:lnTo>
                      <a:lnTo>
                        <a:pt x="35" y="257"/>
                      </a:lnTo>
                      <a:lnTo>
                        <a:pt x="47" y="274"/>
                      </a:lnTo>
                      <a:lnTo>
                        <a:pt x="63" y="291"/>
                      </a:lnTo>
                      <a:lnTo>
                        <a:pt x="79" y="306"/>
                      </a:lnTo>
                      <a:lnTo>
                        <a:pt x="96" y="318"/>
                      </a:lnTo>
                      <a:lnTo>
                        <a:pt x="113" y="329"/>
                      </a:lnTo>
                      <a:lnTo>
                        <a:pt x="132" y="339"/>
                      </a:lnTo>
                      <a:lnTo>
                        <a:pt x="151" y="344"/>
                      </a:lnTo>
                      <a:lnTo>
                        <a:pt x="172" y="350"/>
                      </a:lnTo>
                      <a:lnTo>
                        <a:pt x="193" y="354"/>
                      </a:lnTo>
                      <a:lnTo>
                        <a:pt x="216" y="355"/>
                      </a:lnTo>
                      <a:lnTo>
                        <a:pt x="237" y="354"/>
                      </a:lnTo>
                      <a:lnTo>
                        <a:pt x="247" y="351"/>
                      </a:lnTo>
                      <a:lnTo>
                        <a:pt x="258" y="350"/>
                      </a:lnTo>
                      <a:lnTo>
                        <a:pt x="267" y="347"/>
                      </a:lnTo>
                      <a:lnTo>
                        <a:pt x="277" y="344"/>
                      </a:lnTo>
                      <a:lnTo>
                        <a:pt x="298" y="339"/>
                      </a:lnTo>
                      <a:lnTo>
                        <a:pt x="316" y="329"/>
                      </a:lnTo>
                      <a:lnTo>
                        <a:pt x="334" y="318"/>
                      </a:lnTo>
                      <a:lnTo>
                        <a:pt x="342" y="312"/>
                      </a:lnTo>
                      <a:lnTo>
                        <a:pt x="351" y="306"/>
                      </a:lnTo>
                      <a:lnTo>
                        <a:pt x="354" y="301"/>
                      </a:lnTo>
                      <a:lnTo>
                        <a:pt x="359" y="298"/>
                      </a:lnTo>
                      <a:lnTo>
                        <a:pt x="368" y="291"/>
                      </a:lnTo>
                      <a:lnTo>
                        <a:pt x="383" y="273"/>
                      </a:lnTo>
                      <a:lnTo>
                        <a:pt x="390" y="264"/>
                      </a:lnTo>
                      <a:lnTo>
                        <a:pt x="393" y="259"/>
                      </a:lnTo>
                      <a:lnTo>
                        <a:pt x="398" y="256"/>
                      </a:lnTo>
                      <a:lnTo>
                        <a:pt x="387" y="231"/>
                      </a:lnTo>
                      <a:lnTo>
                        <a:pt x="371" y="254"/>
                      </a:lnTo>
                      <a:lnTo>
                        <a:pt x="353" y="276"/>
                      </a:lnTo>
                      <a:lnTo>
                        <a:pt x="337" y="289"/>
                      </a:lnTo>
                      <a:lnTo>
                        <a:pt x="323" y="300"/>
                      </a:lnTo>
                      <a:lnTo>
                        <a:pt x="314" y="305"/>
                      </a:lnTo>
                      <a:lnTo>
                        <a:pt x="309" y="307"/>
                      </a:lnTo>
                      <a:lnTo>
                        <a:pt x="307" y="308"/>
                      </a:lnTo>
                      <a:lnTo>
                        <a:pt x="306" y="310"/>
                      </a:lnTo>
                      <a:lnTo>
                        <a:pt x="290" y="318"/>
                      </a:lnTo>
                      <a:lnTo>
                        <a:pt x="272" y="324"/>
                      </a:lnTo>
                      <a:lnTo>
                        <a:pt x="254" y="329"/>
                      </a:lnTo>
                      <a:lnTo>
                        <a:pt x="248" y="329"/>
                      </a:lnTo>
                      <a:lnTo>
                        <a:pt x="243" y="330"/>
                      </a:lnTo>
                      <a:lnTo>
                        <a:pt x="234" y="332"/>
                      </a:lnTo>
                      <a:lnTo>
                        <a:pt x="216" y="333"/>
                      </a:lnTo>
                      <a:lnTo>
                        <a:pt x="196" y="332"/>
                      </a:lnTo>
                      <a:lnTo>
                        <a:pt x="176" y="329"/>
                      </a:lnTo>
                      <a:lnTo>
                        <a:pt x="157" y="324"/>
                      </a:lnTo>
                      <a:lnTo>
                        <a:pt x="140" y="318"/>
                      </a:lnTo>
                      <a:lnTo>
                        <a:pt x="123" y="310"/>
                      </a:lnTo>
                      <a:lnTo>
                        <a:pt x="107" y="300"/>
                      </a:lnTo>
                      <a:lnTo>
                        <a:pt x="91" y="289"/>
                      </a:lnTo>
                      <a:lnTo>
                        <a:pt x="78" y="276"/>
                      </a:lnTo>
                      <a:lnTo>
                        <a:pt x="63" y="261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3"/>
                      </a:lnTo>
                      <a:lnTo>
                        <a:pt x="28" y="195"/>
                      </a:lnTo>
                      <a:lnTo>
                        <a:pt x="25" y="177"/>
                      </a:lnTo>
                      <a:lnTo>
                        <a:pt x="21" y="157"/>
                      </a:lnTo>
                      <a:lnTo>
                        <a:pt x="21" y="139"/>
                      </a:lnTo>
                      <a:lnTo>
                        <a:pt x="25" y="100"/>
                      </a:lnTo>
                      <a:lnTo>
                        <a:pt x="35" y="64"/>
                      </a:lnTo>
                      <a:lnTo>
                        <a:pt x="52" y="32"/>
                      </a:lnTo>
                      <a:lnTo>
                        <a:pt x="63" y="16"/>
                      </a:lnTo>
                      <a:lnTo>
                        <a:pt x="78" y="2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791680" y="3921840"/>
                  <a:ext cx="74160" cy="70560"/>
                </a:xfrm>
                <a:custGeom>
                  <a:avLst/>
                  <a:gdLst/>
                  <a:ahLst/>
                  <a:rect l="l" t="t" r="r" b="b"/>
                  <a:pathLst>
                    <a:path w="258" h="248">
                      <a:moveTo>
                        <a:pt x="21" y="119"/>
                      </a:moveTo>
                      <a:lnTo>
                        <a:pt x="22" y="97"/>
                      </a:lnTo>
                      <a:lnTo>
                        <a:pt x="29" y="77"/>
                      </a:lnTo>
                      <a:lnTo>
                        <a:pt x="38" y="58"/>
                      </a:lnTo>
                      <a:lnTo>
                        <a:pt x="53" y="42"/>
                      </a:lnTo>
                      <a:lnTo>
                        <a:pt x="64" y="30"/>
                      </a:lnTo>
                      <a:lnTo>
                        <a:pt x="78" y="22"/>
                      </a:lnTo>
                      <a:lnTo>
                        <a:pt x="92" y="16"/>
                      </a:lnTo>
                      <a:lnTo>
                        <a:pt x="107" y="13"/>
                      </a:lnTo>
                      <a:lnTo>
                        <a:pt x="77" y="0"/>
                      </a:lnTo>
                      <a:lnTo>
                        <a:pt x="55" y="12"/>
                      </a:lnTo>
                      <a:lnTo>
                        <a:pt x="38" y="27"/>
                      </a:lnTo>
                      <a:lnTo>
                        <a:pt x="20" y="47"/>
                      </a:lnTo>
                      <a:lnTo>
                        <a:pt x="9" y="68"/>
                      </a:lnTo>
                      <a:lnTo>
                        <a:pt x="2" y="92"/>
                      </a:lnTo>
                      <a:lnTo>
                        <a:pt x="0" y="119"/>
                      </a:lnTo>
                      <a:lnTo>
                        <a:pt x="2" y="144"/>
                      </a:lnTo>
                      <a:lnTo>
                        <a:pt x="4" y="156"/>
                      </a:lnTo>
                      <a:lnTo>
                        <a:pt x="9" y="168"/>
                      </a:lnTo>
                      <a:lnTo>
                        <a:pt x="13" y="178"/>
                      </a:lnTo>
                      <a:lnTo>
                        <a:pt x="20" y="190"/>
                      </a:lnTo>
                      <a:lnTo>
                        <a:pt x="38" y="210"/>
                      </a:lnTo>
                      <a:lnTo>
                        <a:pt x="58" y="226"/>
                      </a:lnTo>
                      <a:lnTo>
                        <a:pt x="68" y="233"/>
                      </a:lnTo>
                      <a:lnTo>
                        <a:pt x="79" y="238"/>
                      </a:lnTo>
                      <a:lnTo>
                        <a:pt x="103" y="245"/>
                      </a:lnTo>
                      <a:lnTo>
                        <a:pt x="117" y="247"/>
                      </a:lnTo>
                      <a:lnTo>
                        <a:pt x="130" y="248"/>
                      </a:lnTo>
                      <a:lnTo>
                        <a:pt x="141" y="247"/>
                      </a:lnTo>
                      <a:lnTo>
                        <a:pt x="155" y="245"/>
                      </a:lnTo>
                      <a:lnTo>
                        <a:pt x="166" y="242"/>
                      </a:lnTo>
                      <a:lnTo>
                        <a:pt x="172" y="239"/>
                      </a:lnTo>
                      <a:lnTo>
                        <a:pt x="179" y="238"/>
                      </a:lnTo>
                      <a:lnTo>
                        <a:pt x="183" y="235"/>
                      </a:lnTo>
                      <a:lnTo>
                        <a:pt x="189" y="233"/>
                      </a:lnTo>
                      <a:lnTo>
                        <a:pt x="200" y="226"/>
                      </a:lnTo>
                      <a:lnTo>
                        <a:pt x="205" y="221"/>
                      </a:lnTo>
                      <a:lnTo>
                        <a:pt x="207" y="219"/>
                      </a:lnTo>
                      <a:lnTo>
                        <a:pt x="207" y="218"/>
                      </a:lnTo>
                      <a:lnTo>
                        <a:pt x="208" y="218"/>
                      </a:lnTo>
                      <a:lnTo>
                        <a:pt x="211" y="218"/>
                      </a:lnTo>
                      <a:lnTo>
                        <a:pt x="222" y="210"/>
                      </a:lnTo>
                      <a:lnTo>
                        <a:pt x="228" y="201"/>
                      </a:lnTo>
                      <a:lnTo>
                        <a:pt x="234" y="193"/>
                      </a:lnTo>
                      <a:lnTo>
                        <a:pt x="246" y="175"/>
                      </a:lnTo>
                      <a:lnTo>
                        <a:pt x="246" y="171"/>
                      </a:lnTo>
                      <a:lnTo>
                        <a:pt x="247" y="169"/>
                      </a:lnTo>
                      <a:lnTo>
                        <a:pt x="249" y="165"/>
                      </a:lnTo>
                      <a:lnTo>
                        <a:pt x="253" y="156"/>
                      </a:lnTo>
                      <a:lnTo>
                        <a:pt x="255" y="145"/>
                      </a:lnTo>
                      <a:lnTo>
                        <a:pt x="258" y="136"/>
                      </a:lnTo>
                      <a:lnTo>
                        <a:pt x="238" y="111"/>
                      </a:lnTo>
                      <a:lnTo>
                        <a:pt x="238" y="119"/>
                      </a:lnTo>
                      <a:lnTo>
                        <a:pt x="236" y="140"/>
                      </a:lnTo>
                      <a:lnTo>
                        <a:pt x="230" y="160"/>
                      </a:lnTo>
                      <a:lnTo>
                        <a:pt x="220" y="178"/>
                      </a:lnTo>
                      <a:lnTo>
                        <a:pt x="213" y="186"/>
                      </a:lnTo>
                      <a:lnTo>
                        <a:pt x="206" y="195"/>
                      </a:lnTo>
                      <a:lnTo>
                        <a:pt x="197" y="202"/>
                      </a:lnTo>
                      <a:lnTo>
                        <a:pt x="189" y="209"/>
                      </a:lnTo>
                      <a:lnTo>
                        <a:pt x="171" y="219"/>
                      </a:lnTo>
                      <a:lnTo>
                        <a:pt x="151" y="225"/>
                      </a:lnTo>
                      <a:lnTo>
                        <a:pt x="130" y="227"/>
                      </a:lnTo>
                      <a:lnTo>
                        <a:pt x="107" y="225"/>
                      </a:lnTo>
                      <a:lnTo>
                        <a:pt x="88" y="219"/>
                      </a:lnTo>
                      <a:lnTo>
                        <a:pt x="69" y="209"/>
                      </a:lnTo>
                      <a:lnTo>
                        <a:pt x="53" y="195"/>
                      </a:lnTo>
                      <a:lnTo>
                        <a:pt x="38" y="178"/>
                      </a:lnTo>
                      <a:lnTo>
                        <a:pt x="29" y="160"/>
                      </a:lnTo>
                      <a:lnTo>
                        <a:pt x="22" y="140"/>
                      </a:lnTo>
                      <a:lnTo>
                        <a:pt x="21" y="119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797800" y="3925440"/>
                  <a:ext cx="61560" cy="60840"/>
                </a:xfrm>
                <a:custGeom>
                  <a:avLst/>
                  <a:gdLst/>
                  <a:ahLst/>
                  <a:rect l="l" t="t" r="r" b="b"/>
                  <a:pathLst>
                    <a:path w="217" h="214">
                      <a:moveTo>
                        <a:pt x="32" y="29"/>
                      </a:moveTo>
                      <a:lnTo>
                        <a:pt x="17" y="45"/>
                      </a:lnTo>
                      <a:lnTo>
                        <a:pt x="8" y="64"/>
                      </a:lnTo>
                      <a:lnTo>
                        <a:pt x="1" y="84"/>
                      </a:lnTo>
                      <a:lnTo>
                        <a:pt x="0" y="106"/>
                      </a:lnTo>
                      <a:lnTo>
                        <a:pt x="1" y="127"/>
                      </a:lnTo>
                      <a:lnTo>
                        <a:pt x="8" y="147"/>
                      </a:lnTo>
                      <a:lnTo>
                        <a:pt x="17" y="165"/>
                      </a:lnTo>
                      <a:lnTo>
                        <a:pt x="32" y="182"/>
                      </a:lnTo>
                      <a:lnTo>
                        <a:pt x="48" y="196"/>
                      </a:lnTo>
                      <a:lnTo>
                        <a:pt x="67" y="206"/>
                      </a:lnTo>
                      <a:lnTo>
                        <a:pt x="86" y="212"/>
                      </a:lnTo>
                      <a:lnTo>
                        <a:pt x="109" y="214"/>
                      </a:lnTo>
                      <a:lnTo>
                        <a:pt x="130" y="212"/>
                      </a:lnTo>
                      <a:lnTo>
                        <a:pt x="150" y="206"/>
                      </a:lnTo>
                      <a:lnTo>
                        <a:pt x="168" y="196"/>
                      </a:lnTo>
                      <a:lnTo>
                        <a:pt x="176" y="189"/>
                      </a:lnTo>
                      <a:lnTo>
                        <a:pt x="185" y="182"/>
                      </a:lnTo>
                      <a:lnTo>
                        <a:pt x="192" y="173"/>
                      </a:lnTo>
                      <a:lnTo>
                        <a:pt x="199" y="165"/>
                      </a:lnTo>
                      <a:lnTo>
                        <a:pt x="209" y="147"/>
                      </a:lnTo>
                      <a:lnTo>
                        <a:pt x="215" y="127"/>
                      </a:lnTo>
                      <a:lnTo>
                        <a:pt x="217" y="106"/>
                      </a:lnTo>
                      <a:lnTo>
                        <a:pt x="217" y="98"/>
                      </a:lnTo>
                      <a:lnTo>
                        <a:pt x="199" y="79"/>
                      </a:lnTo>
                      <a:lnTo>
                        <a:pt x="192" y="72"/>
                      </a:lnTo>
                      <a:lnTo>
                        <a:pt x="190" y="70"/>
                      </a:lnTo>
                      <a:lnTo>
                        <a:pt x="188" y="69"/>
                      </a:lnTo>
                      <a:lnTo>
                        <a:pt x="186" y="67"/>
                      </a:lnTo>
                      <a:lnTo>
                        <a:pt x="193" y="85"/>
                      </a:lnTo>
                      <a:lnTo>
                        <a:pt x="195" y="106"/>
                      </a:lnTo>
                      <a:lnTo>
                        <a:pt x="193" y="122"/>
                      </a:lnTo>
                      <a:lnTo>
                        <a:pt x="188" y="138"/>
                      </a:lnTo>
                      <a:lnTo>
                        <a:pt x="184" y="145"/>
                      </a:lnTo>
                      <a:lnTo>
                        <a:pt x="182" y="148"/>
                      </a:lnTo>
                      <a:lnTo>
                        <a:pt x="181" y="153"/>
                      </a:lnTo>
                      <a:lnTo>
                        <a:pt x="170" y="166"/>
                      </a:lnTo>
                      <a:lnTo>
                        <a:pt x="162" y="171"/>
                      </a:lnTo>
                      <a:lnTo>
                        <a:pt x="156" y="177"/>
                      </a:lnTo>
                      <a:lnTo>
                        <a:pt x="148" y="181"/>
                      </a:lnTo>
                      <a:lnTo>
                        <a:pt x="141" y="186"/>
                      </a:lnTo>
                      <a:lnTo>
                        <a:pt x="125" y="190"/>
                      </a:lnTo>
                      <a:lnTo>
                        <a:pt x="109" y="192"/>
                      </a:lnTo>
                      <a:lnTo>
                        <a:pt x="91" y="190"/>
                      </a:lnTo>
                      <a:lnTo>
                        <a:pt x="75" y="186"/>
                      </a:lnTo>
                      <a:lnTo>
                        <a:pt x="60" y="177"/>
                      </a:lnTo>
                      <a:lnTo>
                        <a:pt x="48" y="166"/>
                      </a:lnTo>
                      <a:lnTo>
                        <a:pt x="37" y="153"/>
                      </a:lnTo>
                      <a:lnTo>
                        <a:pt x="29" y="138"/>
                      </a:lnTo>
                      <a:lnTo>
                        <a:pt x="24" y="122"/>
                      </a:lnTo>
                      <a:lnTo>
                        <a:pt x="23" y="106"/>
                      </a:lnTo>
                      <a:lnTo>
                        <a:pt x="24" y="88"/>
                      </a:lnTo>
                      <a:lnTo>
                        <a:pt x="29" y="72"/>
                      </a:lnTo>
                      <a:lnTo>
                        <a:pt x="37" y="57"/>
                      </a:lnTo>
                      <a:lnTo>
                        <a:pt x="48" y="45"/>
                      </a:lnTo>
                      <a:lnTo>
                        <a:pt x="60" y="33"/>
                      </a:lnTo>
                      <a:lnTo>
                        <a:pt x="75" y="25"/>
                      </a:lnTo>
                      <a:lnTo>
                        <a:pt x="91" y="20"/>
                      </a:lnTo>
                      <a:lnTo>
                        <a:pt x="109" y="19"/>
                      </a:lnTo>
                      <a:lnTo>
                        <a:pt x="117" y="19"/>
                      </a:lnTo>
                      <a:lnTo>
                        <a:pt x="126" y="21"/>
                      </a:lnTo>
                      <a:lnTo>
                        <a:pt x="106" y="9"/>
                      </a:lnTo>
                      <a:lnTo>
                        <a:pt x="86" y="0"/>
                      </a:lnTo>
                      <a:lnTo>
                        <a:pt x="71" y="3"/>
                      </a:lnTo>
                      <a:lnTo>
                        <a:pt x="57" y="9"/>
                      </a:lnTo>
                      <a:lnTo>
                        <a:pt x="43" y="17"/>
                      </a:lnTo>
                      <a:lnTo>
                        <a:pt x="32" y="29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04280" y="3930480"/>
                  <a:ext cx="49680" cy="49320"/>
                </a:xfrm>
                <a:custGeom>
                  <a:avLst/>
                  <a:gdLst/>
                  <a:ahLst/>
                  <a:rect l="l" t="t" r="r" b="b"/>
                  <a:pathLst>
                    <a:path w="172" h="173">
                      <a:moveTo>
                        <a:pt x="103" y="2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1"/>
                      </a:lnTo>
                      <a:lnTo>
                        <a:pt x="52" y="6"/>
                      </a:lnTo>
                      <a:lnTo>
                        <a:pt x="37" y="14"/>
                      </a:lnTo>
                      <a:lnTo>
                        <a:pt x="25" y="26"/>
                      </a:lnTo>
                      <a:lnTo>
                        <a:pt x="14" y="38"/>
                      </a:lnTo>
                      <a:lnTo>
                        <a:pt x="6" y="53"/>
                      </a:lnTo>
                      <a:lnTo>
                        <a:pt x="1" y="69"/>
                      </a:lnTo>
                      <a:lnTo>
                        <a:pt x="0" y="87"/>
                      </a:lnTo>
                      <a:lnTo>
                        <a:pt x="1" y="103"/>
                      </a:lnTo>
                      <a:lnTo>
                        <a:pt x="6" y="119"/>
                      </a:lnTo>
                      <a:lnTo>
                        <a:pt x="14" y="134"/>
                      </a:lnTo>
                      <a:lnTo>
                        <a:pt x="25" y="147"/>
                      </a:lnTo>
                      <a:lnTo>
                        <a:pt x="37" y="158"/>
                      </a:lnTo>
                      <a:lnTo>
                        <a:pt x="52" y="167"/>
                      </a:lnTo>
                      <a:lnTo>
                        <a:pt x="68" y="171"/>
                      </a:lnTo>
                      <a:lnTo>
                        <a:pt x="86" y="173"/>
                      </a:lnTo>
                      <a:lnTo>
                        <a:pt x="102" y="171"/>
                      </a:lnTo>
                      <a:lnTo>
                        <a:pt x="118" y="167"/>
                      </a:lnTo>
                      <a:lnTo>
                        <a:pt x="125" y="162"/>
                      </a:lnTo>
                      <a:lnTo>
                        <a:pt x="133" y="158"/>
                      </a:lnTo>
                      <a:lnTo>
                        <a:pt x="139" y="152"/>
                      </a:lnTo>
                      <a:lnTo>
                        <a:pt x="147" y="147"/>
                      </a:lnTo>
                      <a:lnTo>
                        <a:pt x="158" y="134"/>
                      </a:lnTo>
                      <a:lnTo>
                        <a:pt x="159" y="129"/>
                      </a:lnTo>
                      <a:lnTo>
                        <a:pt x="161" y="126"/>
                      </a:lnTo>
                      <a:lnTo>
                        <a:pt x="165" y="119"/>
                      </a:lnTo>
                      <a:lnTo>
                        <a:pt x="170" y="103"/>
                      </a:lnTo>
                      <a:lnTo>
                        <a:pt x="172" y="87"/>
                      </a:lnTo>
                      <a:lnTo>
                        <a:pt x="170" y="66"/>
                      </a:lnTo>
                      <a:lnTo>
                        <a:pt x="163" y="48"/>
                      </a:lnTo>
                      <a:lnTo>
                        <a:pt x="134" y="23"/>
                      </a:lnTo>
                      <a:lnTo>
                        <a:pt x="118" y="11"/>
                      </a:lnTo>
                      <a:lnTo>
                        <a:pt x="103" y="2"/>
                      </a:lnTo>
                      <a:close/>
                      <a:moveTo>
                        <a:pt x="21" y="87"/>
                      </a:moveTo>
                      <a:lnTo>
                        <a:pt x="23" y="74"/>
                      </a:lnTo>
                      <a:lnTo>
                        <a:pt x="26" y="61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2"/>
                      </a:lnTo>
                      <a:lnTo>
                        <a:pt x="60" y="26"/>
                      </a:lnTo>
                      <a:lnTo>
                        <a:pt x="73" y="23"/>
                      </a:lnTo>
                      <a:lnTo>
                        <a:pt x="86" y="21"/>
                      </a:lnTo>
                      <a:lnTo>
                        <a:pt x="97" y="23"/>
                      </a:lnTo>
                      <a:lnTo>
                        <a:pt x="110" y="26"/>
                      </a:lnTo>
                      <a:lnTo>
                        <a:pt x="120" y="32"/>
                      </a:lnTo>
                      <a:lnTo>
                        <a:pt x="131" y="41"/>
                      </a:lnTo>
                      <a:lnTo>
                        <a:pt x="139" y="50"/>
                      </a:lnTo>
                      <a:lnTo>
                        <a:pt x="145" y="61"/>
                      </a:lnTo>
                      <a:lnTo>
                        <a:pt x="148" y="74"/>
                      </a:lnTo>
                      <a:lnTo>
                        <a:pt x="151" y="87"/>
                      </a:lnTo>
                      <a:lnTo>
                        <a:pt x="148" y="99"/>
                      </a:lnTo>
                      <a:lnTo>
                        <a:pt x="146" y="104"/>
                      </a:lnTo>
                      <a:lnTo>
                        <a:pt x="145" y="111"/>
                      </a:lnTo>
                      <a:lnTo>
                        <a:pt x="142" y="116"/>
                      </a:lnTo>
                      <a:lnTo>
                        <a:pt x="139" y="121"/>
                      </a:lnTo>
                      <a:lnTo>
                        <a:pt x="131" y="133"/>
                      </a:lnTo>
                      <a:lnTo>
                        <a:pt x="120" y="141"/>
                      </a:lnTo>
                      <a:lnTo>
                        <a:pt x="114" y="143"/>
                      </a:lnTo>
                      <a:lnTo>
                        <a:pt x="110" y="146"/>
                      </a:lnTo>
                      <a:lnTo>
                        <a:pt x="103" y="147"/>
                      </a:lnTo>
                      <a:lnTo>
                        <a:pt x="97" y="150"/>
                      </a:lnTo>
                      <a:lnTo>
                        <a:pt x="86" y="152"/>
                      </a:lnTo>
                      <a:lnTo>
                        <a:pt x="73" y="150"/>
                      </a:lnTo>
                      <a:lnTo>
                        <a:pt x="60" y="146"/>
                      </a:lnTo>
                      <a:lnTo>
                        <a:pt x="49" y="141"/>
                      </a:lnTo>
                      <a:lnTo>
                        <a:pt x="40" y="133"/>
                      </a:lnTo>
                      <a:lnTo>
                        <a:pt x="32" y="121"/>
                      </a:lnTo>
                      <a:lnTo>
                        <a:pt x="26" y="111"/>
                      </a:lnTo>
                      <a:lnTo>
                        <a:pt x="23" y="99"/>
                      </a:lnTo>
                      <a:lnTo>
                        <a:pt x="21" y="87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810400" y="3936600"/>
                  <a:ext cx="37080" cy="37080"/>
                </a:xfrm>
                <a:custGeom>
                  <a:avLst/>
                  <a:gdLst/>
                  <a:ahLst/>
                  <a:rect l="l" t="t" r="r" b="b"/>
                  <a:pathLst>
                    <a:path w="130" h="131">
                      <a:moveTo>
                        <a:pt x="19" y="20"/>
                      </a:moveTo>
                      <a:lnTo>
                        <a:pt x="11" y="29"/>
                      </a:lnTo>
                      <a:lnTo>
                        <a:pt x="5" y="40"/>
                      </a:lnTo>
                      <a:lnTo>
                        <a:pt x="2" y="53"/>
                      </a:lnTo>
                      <a:lnTo>
                        <a:pt x="0" y="66"/>
                      </a:lnTo>
                      <a:lnTo>
                        <a:pt x="2" y="78"/>
                      </a:lnTo>
                      <a:lnTo>
                        <a:pt x="5" y="90"/>
                      </a:lnTo>
                      <a:lnTo>
                        <a:pt x="11" y="100"/>
                      </a:lnTo>
                      <a:lnTo>
                        <a:pt x="19" y="112"/>
                      </a:lnTo>
                      <a:lnTo>
                        <a:pt x="28" y="120"/>
                      </a:lnTo>
                      <a:lnTo>
                        <a:pt x="39" y="125"/>
                      </a:lnTo>
                      <a:lnTo>
                        <a:pt x="52" y="129"/>
                      </a:lnTo>
                      <a:lnTo>
                        <a:pt x="65" y="131"/>
                      </a:lnTo>
                      <a:lnTo>
                        <a:pt x="76" y="129"/>
                      </a:lnTo>
                      <a:lnTo>
                        <a:pt x="82" y="126"/>
                      </a:lnTo>
                      <a:lnTo>
                        <a:pt x="89" y="125"/>
                      </a:lnTo>
                      <a:lnTo>
                        <a:pt x="93" y="122"/>
                      </a:lnTo>
                      <a:lnTo>
                        <a:pt x="99" y="120"/>
                      </a:lnTo>
                      <a:lnTo>
                        <a:pt x="110" y="112"/>
                      </a:lnTo>
                      <a:lnTo>
                        <a:pt x="118" y="100"/>
                      </a:lnTo>
                      <a:lnTo>
                        <a:pt x="121" y="95"/>
                      </a:lnTo>
                      <a:lnTo>
                        <a:pt x="124" y="90"/>
                      </a:lnTo>
                      <a:lnTo>
                        <a:pt x="125" y="83"/>
                      </a:lnTo>
                      <a:lnTo>
                        <a:pt x="127" y="78"/>
                      </a:lnTo>
                      <a:lnTo>
                        <a:pt x="130" y="66"/>
                      </a:lnTo>
                      <a:lnTo>
                        <a:pt x="127" y="53"/>
                      </a:lnTo>
                      <a:lnTo>
                        <a:pt x="124" y="40"/>
                      </a:lnTo>
                      <a:lnTo>
                        <a:pt x="118" y="29"/>
                      </a:lnTo>
                      <a:lnTo>
                        <a:pt x="110" y="20"/>
                      </a:lnTo>
                      <a:lnTo>
                        <a:pt x="99" y="11"/>
                      </a:lnTo>
                      <a:lnTo>
                        <a:pt x="89" y="5"/>
                      </a:lnTo>
                      <a:lnTo>
                        <a:pt x="76" y="2"/>
                      </a:lnTo>
                      <a:lnTo>
                        <a:pt x="65" y="0"/>
                      </a:lnTo>
                      <a:lnTo>
                        <a:pt x="52" y="2"/>
                      </a:lnTo>
                      <a:lnTo>
                        <a:pt x="39" y="5"/>
                      </a:lnTo>
                      <a:lnTo>
                        <a:pt x="28" y="11"/>
                      </a:lnTo>
                      <a:lnTo>
                        <a:pt x="19" y="20"/>
                      </a:lnTo>
                      <a:close/>
                      <a:moveTo>
                        <a:pt x="22" y="66"/>
                      </a:moveTo>
                      <a:lnTo>
                        <a:pt x="24" y="49"/>
                      </a:lnTo>
                      <a:lnTo>
                        <a:pt x="35" y="34"/>
                      </a:lnTo>
                      <a:lnTo>
                        <a:pt x="40" y="28"/>
                      </a:lnTo>
                      <a:lnTo>
                        <a:pt x="48" y="24"/>
                      </a:lnTo>
                      <a:lnTo>
                        <a:pt x="65" y="22"/>
                      </a:lnTo>
                      <a:lnTo>
                        <a:pt x="73" y="22"/>
                      </a:lnTo>
                      <a:lnTo>
                        <a:pt x="81" y="24"/>
                      </a:lnTo>
                      <a:lnTo>
                        <a:pt x="88" y="28"/>
                      </a:lnTo>
                      <a:lnTo>
                        <a:pt x="96" y="34"/>
                      </a:lnTo>
                      <a:lnTo>
                        <a:pt x="105" y="49"/>
                      </a:lnTo>
                      <a:lnTo>
                        <a:pt x="107" y="57"/>
                      </a:lnTo>
                      <a:lnTo>
                        <a:pt x="108" y="66"/>
                      </a:lnTo>
                      <a:lnTo>
                        <a:pt x="107" y="73"/>
                      </a:lnTo>
                      <a:lnTo>
                        <a:pt x="105" y="82"/>
                      </a:lnTo>
                      <a:lnTo>
                        <a:pt x="100" y="89"/>
                      </a:lnTo>
                      <a:lnTo>
                        <a:pt x="96" y="97"/>
                      </a:lnTo>
                      <a:lnTo>
                        <a:pt x="88" y="101"/>
                      </a:lnTo>
                      <a:lnTo>
                        <a:pt x="81" y="106"/>
                      </a:lnTo>
                      <a:lnTo>
                        <a:pt x="73" y="108"/>
                      </a:lnTo>
                      <a:lnTo>
                        <a:pt x="69" y="108"/>
                      </a:lnTo>
                      <a:lnTo>
                        <a:pt x="66" y="108"/>
                      </a:lnTo>
                      <a:lnTo>
                        <a:pt x="65" y="108"/>
                      </a:lnTo>
                      <a:lnTo>
                        <a:pt x="65" y="109"/>
                      </a:lnTo>
                      <a:lnTo>
                        <a:pt x="56" y="108"/>
                      </a:lnTo>
                      <a:lnTo>
                        <a:pt x="48" y="106"/>
                      </a:lnTo>
                      <a:lnTo>
                        <a:pt x="40" y="101"/>
                      </a:lnTo>
                      <a:lnTo>
                        <a:pt x="35" y="97"/>
                      </a:lnTo>
                      <a:lnTo>
                        <a:pt x="28" y="89"/>
                      </a:lnTo>
                      <a:lnTo>
                        <a:pt x="24" y="82"/>
                      </a:lnTo>
                      <a:lnTo>
                        <a:pt x="22" y="66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816880" y="3943080"/>
                  <a:ext cx="24480" cy="24840"/>
                </a:xfrm>
                <a:custGeom>
                  <a:avLst/>
                  <a:gdLst/>
                  <a:ahLst/>
                  <a:rect l="l" t="t" r="r" b="b"/>
                  <a:pathLst>
                    <a:path w="86" h="87">
                      <a:moveTo>
                        <a:pt x="13" y="12"/>
                      </a:moveTo>
                      <a:lnTo>
                        <a:pt x="2" y="27"/>
                      </a:lnTo>
                      <a:lnTo>
                        <a:pt x="0" y="44"/>
                      </a:lnTo>
                      <a:lnTo>
                        <a:pt x="2" y="60"/>
                      </a:lnTo>
                      <a:lnTo>
                        <a:pt x="6" y="67"/>
                      </a:lnTo>
                      <a:lnTo>
                        <a:pt x="13" y="75"/>
                      </a:lnTo>
                      <a:lnTo>
                        <a:pt x="18" y="79"/>
                      </a:lnTo>
                      <a:lnTo>
                        <a:pt x="26" y="84"/>
                      </a:lnTo>
                      <a:lnTo>
                        <a:pt x="34" y="86"/>
                      </a:lnTo>
                      <a:lnTo>
                        <a:pt x="43" y="87"/>
                      </a:lnTo>
                      <a:lnTo>
                        <a:pt x="43" y="86"/>
                      </a:lnTo>
                      <a:lnTo>
                        <a:pt x="44" y="86"/>
                      </a:lnTo>
                      <a:lnTo>
                        <a:pt x="47" y="86"/>
                      </a:lnTo>
                      <a:lnTo>
                        <a:pt x="51" y="86"/>
                      </a:lnTo>
                      <a:lnTo>
                        <a:pt x="59" y="84"/>
                      </a:lnTo>
                      <a:lnTo>
                        <a:pt x="66" y="79"/>
                      </a:lnTo>
                      <a:lnTo>
                        <a:pt x="74" y="75"/>
                      </a:lnTo>
                      <a:lnTo>
                        <a:pt x="78" y="67"/>
                      </a:lnTo>
                      <a:lnTo>
                        <a:pt x="83" y="60"/>
                      </a:lnTo>
                      <a:lnTo>
                        <a:pt x="85" y="51"/>
                      </a:lnTo>
                      <a:lnTo>
                        <a:pt x="86" y="44"/>
                      </a:lnTo>
                      <a:lnTo>
                        <a:pt x="85" y="35"/>
                      </a:lnTo>
                      <a:lnTo>
                        <a:pt x="83" y="27"/>
                      </a:lnTo>
                      <a:lnTo>
                        <a:pt x="74" y="12"/>
                      </a:lnTo>
                      <a:lnTo>
                        <a:pt x="66" y="6"/>
                      </a:lnTo>
                      <a:lnTo>
                        <a:pt x="59" y="2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2"/>
                      </a:lnTo>
                      <a:lnTo>
                        <a:pt x="18" y="6"/>
                      </a:lnTo>
                      <a:lnTo>
                        <a:pt x="13" y="12"/>
                      </a:lnTo>
                      <a:close/>
                      <a:moveTo>
                        <a:pt x="22" y="44"/>
                      </a:moveTo>
                      <a:lnTo>
                        <a:pt x="23" y="35"/>
                      </a:lnTo>
                      <a:lnTo>
                        <a:pt x="27" y="28"/>
                      </a:lnTo>
                      <a:lnTo>
                        <a:pt x="34" y="24"/>
                      </a:lnTo>
                      <a:lnTo>
                        <a:pt x="43" y="23"/>
                      </a:lnTo>
                      <a:lnTo>
                        <a:pt x="51" y="24"/>
                      </a:lnTo>
                      <a:lnTo>
                        <a:pt x="58" y="28"/>
                      </a:lnTo>
                      <a:lnTo>
                        <a:pt x="62" y="35"/>
                      </a:lnTo>
                      <a:lnTo>
                        <a:pt x="65" y="44"/>
                      </a:lnTo>
                      <a:lnTo>
                        <a:pt x="62" y="51"/>
                      </a:lnTo>
                      <a:lnTo>
                        <a:pt x="60" y="54"/>
                      </a:lnTo>
                      <a:lnTo>
                        <a:pt x="58" y="59"/>
                      </a:lnTo>
                      <a:lnTo>
                        <a:pt x="51" y="62"/>
                      </a:lnTo>
                      <a:lnTo>
                        <a:pt x="47" y="64"/>
                      </a:lnTo>
                      <a:lnTo>
                        <a:pt x="44" y="64"/>
                      </a:lnTo>
                      <a:lnTo>
                        <a:pt x="43" y="64"/>
                      </a:lnTo>
                      <a:lnTo>
                        <a:pt x="43" y="65"/>
                      </a:lnTo>
                      <a:lnTo>
                        <a:pt x="34" y="62"/>
                      </a:lnTo>
                      <a:lnTo>
                        <a:pt x="27" y="59"/>
                      </a:lnTo>
                      <a:lnTo>
                        <a:pt x="24" y="54"/>
                      </a:lnTo>
                      <a:lnTo>
                        <a:pt x="23" y="51"/>
                      </a:lnTo>
                      <a:lnTo>
                        <a:pt x="22" y="44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823000" y="394920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5" y="5"/>
                      </a:moveTo>
                      <a:lnTo>
                        <a:pt x="1" y="12"/>
                      </a:lnTo>
                      <a:lnTo>
                        <a:pt x="0" y="21"/>
                      </a:ln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5" y="36"/>
                      </a:lnTo>
                      <a:lnTo>
                        <a:pt x="12" y="39"/>
                      </a:lnTo>
                      <a:lnTo>
                        <a:pt x="21" y="42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5" y="41"/>
                      </a:lnTo>
                      <a:lnTo>
                        <a:pt x="29" y="39"/>
                      </a:lnTo>
                      <a:lnTo>
                        <a:pt x="36" y="36"/>
                      </a:lnTo>
                      <a:lnTo>
                        <a:pt x="38" y="31"/>
                      </a:lnTo>
                      <a:lnTo>
                        <a:pt x="40" y="28"/>
                      </a:lnTo>
                      <a:lnTo>
                        <a:pt x="43" y="21"/>
                      </a:lnTo>
                      <a:lnTo>
                        <a:pt x="40" y="12"/>
                      </a:lnTo>
                      <a:lnTo>
                        <a:pt x="36" y="5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686920" y="395460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0" y="3"/>
                      </a:moveTo>
                      <a:lnTo>
                        <a:pt x="20" y="0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2" y="72"/>
                      </a:lnTo>
                      <a:lnTo>
                        <a:pt x="11" y="118"/>
                      </a:lnTo>
                      <a:lnTo>
                        <a:pt x="22" y="161"/>
                      </a:lnTo>
                      <a:lnTo>
                        <a:pt x="39" y="203"/>
                      </a:lnTo>
                      <a:lnTo>
                        <a:pt x="58" y="242"/>
                      </a:lnTo>
                      <a:lnTo>
                        <a:pt x="83" y="281"/>
                      </a:lnTo>
                      <a:lnTo>
                        <a:pt x="96" y="299"/>
                      </a:lnTo>
                      <a:lnTo>
                        <a:pt x="111" y="318"/>
                      </a:lnTo>
                      <a:lnTo>
                        <a:pt x="145" y="355"/>
                      </a:lnTo>
                      <a:lnTo>
                        <a:pt x="181" y="389"/>
                      </a:lnTo>
                      <a:lnTo>
                        <a:pt x="221" y="418"/>
                      </a:lnTo>
                      <a:lnTo>
                        <a:pt x="260" y="443"/>
                      </a:lnTo>
                      <a:lnTo>
                        <a:pt x="305" y="464"/>
                      </a:lnTo>
                      <a:lnTo>
                        <a:pt x="349" y="479"/>
                      </a:lnTo>
                      <a:lnTo>
                        <a:pt x="396" y="491"/>
                      </a:lnTo>
                      <a:lnTo>
                        <a:pt x="445" y="498"/>
                      </a:lnTo>
                      <a:lnTo>
                        <a:pt x="496" y="500"/>
                      </a:lnTo>
                      <a:lnTo>
                        <a:pt x="526" y="499"/>
                      </a:lnTo>
                      <a:lnTo>
                        <a:pt x="556" y="496"/>
                      </a:lnTo>
                      <a:lnTo>
                        <a:pt x="586" y="492"/>
                      </a:lnTo>
                      <a:lnTo>
                        <a:pt x="615" y="486"/>
                      </a:lnTo>
                      <a:lnTo>
                        <a:pt x="636" y="459"/>
                      </a:lnTo>
                      <a:lnTo>
                        <a:pt x="602" y="467"/>
                      </a:lnTo>
                      <a:lnTo>
                        <a:pt x="568" y="473"/>
                      </a:lnTo>
                      <a:lnTo>
                        <a:pt x="531" y="476"/>
                      </a:lnTo>
                      <a:lnTo>
                        <a:pt x="513" y="477"/>
                      </a:lnTo>
                      <a:lnTo>
                        <a:pt x="504" y="477"/>
                      </a:lnTo>
                      <a:lnTo>
                        <a:pt x="500" y="477"/>
                      </a:lnTo>
                      <a:lnTo>
                        <a:pt x="497" y="477"/>
                      </a:lnTo>
                      <a:lnTo>
                        <a:pt x="496" y="477"/>
                      </a:lnTo>
                      <a:lnTo>
                        <a:pt x="496" y="478"/>
                      </a:lnTo>
                      <a:lnTo>
                        <a:pt x="446" y="476"/>
                      </a:lnTo>
                      <a:lnTo>
                        <a:pt x="400" y="469"/>
                      </a:lnTo>
                      <a:lnTo>
                        <a:pt x="354" y="458"/>
                      </a:lnTo>
                      <a:lnTo>
                        <a:pt x="312" y="443"/>
                      </a:lnTo>
                      <a:lnTo>
                        <a:pt x="270" y="423"/>
                      </a:lnTo>
                      <a:lnTo>
                        <a:pt x="232" y="399"/>
                      </a:lnTo>
                      <a:lnTo>
                        <a:pt x="195" y="371"/>
                      </a:lnTo>
                      <a:lnTo>
                        <a:pt x="159" y="339"/>
                      </a:lnTo>
                      <a:lnTo>
                        <a:pt x="125" y="303"/>
                      </a:lnTo>
                      <a:lnTo>
                        <a:pt x="97" y="265"/>
                      </a:lnTo>
                      <a:lnTo>
                        <a:pt x="83" y="245"/>
                      </a:lnTo>
                      <a:lnTo>
                        <a:pt x="72" y="225"/>
                      </a:lnTo>
                      <a:lnTo>
                        <a:pt x="54" y="185"/>
                      </a:lnTo>
                      <a:lnTo>
                        <a:pt x="38" y="142"/>
                      </a:lnTo>
                      <a:lnTo>
                        <a:pt x="28" y="97"/>
                      </a:lnTo>
                      <a:lnTo>
                        <a:pt x="23" y="74"/>
                      </a:lnTo>
                      <a:lnTo>
                        <a:pt x="21" y="51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692680" y="3948120"/>
                  <a:ext cx="181080" cy="143280"/>
                </a:xfrm>
                <a:custGeom>
                  <a:avLst/>
                  <a:gdLst/>
                  <a:ahLst/>
                  <a:rect l="l" t="t" r="r" b="b"/>
                  <a:pathLst>
                    <a:path w="634" h="502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" y="75"/>
                      </a:lnTo>
                      <a:lnTo>
                        <a:pt x="3" y="98"/>
                      </a:lnTo>
                      <a:lnTo>
                        <a:pt x="8" y="121"/>
                      </a:lnTo>
                      <a:lnTo>
                        <a:pt x="18" y="166"/>
                      </a:lnTo>
                      <a:lnTo>
                        <a:pt x="34" y="209"/>
                      </a:lnTo>
                      <a:lnTo>
                        <a:pt x="52" y="249"/>
                      </a:lnTo>
                      <a:lnTo>
                        <a:pt x="63" y="269"/>
                      </a:lnTo>
                      <a:lnTo>
                        <a:pt x="77" y="289"/>
                      </a:lnTo>
                      <a:lnTo>
                        <a:pt x="105" y="327"/>
                      </a:lnTo>
                      <a:lnTo>
                        <a:pt x="139" y="363"/>
                      </a:lnTo>
                      <a:lnTo>
                        <a:pt x="175" y="395"/>
                      </a:lnTo>
                      <a:lnTo>
                        <a:pt x="212" y="423"/>
                      </a:lnTo>
                      <a:lnTo>
                        <a:pt x="250" y="447"/>
                      </a:lnTo>
                      <a:lnTo>
                        <a:pt x="292" y="467"/>
                      </a:lnTo>
                      <a:lnTo>
                        <a:pt x="334" y="482"/>
                      </a:lnTo>
                      <a:lnTo>
                        <a:pt x="380" y="493"/>
                      </a:lnTo>
                      <a:lnTo>
                        <a:pt x="426" y="500"/>
                      </a:lnTo>
                      <a:lnTo>
                        <a:pt x="476" y="502"/>
                      </a:lnTo>
                      <a:lnTo>
                        <a:pt x="476" y="501"/>
                      </a:lnTo>
                      <a:lnTo>
                        <a:pt x="477" y="501"/>
                      </a:lnTo>
                      <a:lnTo>
                        <a:pt x="480" y="501"/>
                      </a:lnTo>
                      <a:lnTo>
                        <a:pt x="484" y="501"/>
                      </a:lnTo>
                      <a:lnTo>
                        <a:pt x="493" y="501"/>
                      </a:lnTo>
                      <a:lnTo>
                        <a:pt x="511" y="500"/>
                      </a:lnTo>
                      <a:lnTo>
                        <a:pt x="548" y="497"/>
                      </a:lnTo>
                      <a:lnTo>
                        <a:pt x="582" y="491"/>
                      </a:lnTo>
                      <a:lnTo>
                        <a:pt x="616" y="483"/>
                      </a:lnTo>
                      <a:lnTo>
                        <a:pt x="634" y="454"/>
                      </a:lnTo>
                      <a:lnTo>
                        <a:pt x="595" y="465"/>
                      </a:lnTo>
                      <a:lnTo>
                        <a:pt x="557" y="474"/>
                      </a:lnTo>
                      <a:lnTo>
                        <a:pt x="536" y="476"/>
                      </a:lnTo>
                      <a:lnTo>
                        <a:pt x="517" y="478"/>
                      </a:lnTo>
                      <a:lnTo>
                        <a:pt x="476" y="481"/>
                      </a:lnTo>
                      <a:lnTo>
                        <a:pt x="429" y="478"/>
                      </a:lnTo>
                      <a:lnTo>
                        <a:pt x="384" y="472"/>
                      </a:lnTo>
                      <a:lnTo>
                        <a:pt x="341" y="460"/>
                      </a:lnTo>
                      <a:lnTo>
                        <a:pt x="302" y="447"/>
                      </a:lnTo>
                      <a:lnTo>
                        <a:pt x="262" y="427"/>
                      </a:lnTo>
                      <a:lnTo>
                        <a:pt x="224" y="405"/>
                      </a:lnTo>
                      <a:lnTo>
                        <a:pt x="188" y="378"/>
                      </a:lnTo>
                      <a:lnTo>
                        <a:pt x="155" y="347"/>
                      </a:lnTo>
                      <a:lnTo>
                        <a:pt x="138" y="329"/>
                      </a:lnTo>
                      <a:lnTo>
                        <a:pt x="124" y="312"/>
                      </a:lnTo>
                      <a:lnTo>
                        <a:pt x="96" y="276"/>
                      </a:lnTo>
                      <a:lnTo>
                        <a:pt x="84" y="256"/>
                      </a:lnTo>
                      <a:lnTo>
                        <a:pt x="74" y="238"/>
                      </a:lnTo>
                      <a:lnTo>
                        <a:pt x="55" y="200"/>
                      </a:lnTo>
                      <a:lnTo>
                        <a:pt x="40" y="159"/>
                      </a:lnTo>
                      <a:lnTo>
                        <a:pt x="34" y="137"/>
                      </a:lnTo>
                      <a:lnTo>
                        <a:pt x="31" y="117"/>
                      </a:lnTo>
                      <a:lnTo>
                        <a:pt x="26" y="94"/>
                      </a:lnTo>
                      <a:lnTo>
                        <a:pt x="24" y="73"/>
                      </a:lnTo>
                      <a:lnTo>
                        <a:pt x="23" y="27"/>
                      </a:lnTo>
                      <a:lnTo>
                        <a:pt x="2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717880" y="3926880"/>
                  <a:ext cx="16740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8">
                      <a:moveTo>
                        <a:pt x="34" y="0"/>
                      </a:moveTo>
                      <a:lnTo>
                        <a:pt x="9" y="15"/>
                      </a:lnTo>
                      <a:lnTo>
                        <a:pt x="5" y="34"/>
                      </a:lnTo>
                      <a:lnTo>
                        <a:pt x="2" y="56"/>
                      </a:lnTo>
                      <a:lnTo>
                        <a:pt x="0" y="100"/>
                      </a:lnTo>
                      <a:lnTo>
                        <a:pt x="1" y="139"/>
                      </a:lnTo>
                      <a:lnTo>
                        <a:pt x="7" y="177"/>
                      </a:lnTo>
                      <a:lnTo>
                        <a:pt x="15" y="214"/>
                      </a:lnTo>
                      <a:lnTo>
                        <a:pt x="21" y="231"/>
                      </a:lnTo>
                      <a:lnTo>
                        <a:pt x="29" y="249"/>
                      </a:lnTo>
                      <a:lnTo>
                        <a:pt x="43" y="282"/>
                      </a:lnTo>
                      <a:lnTo>
                        <a:pt x="52" y="298"/>
                      </a:lnTo>
                      <a:lnTo>
                        <a:pt x="64" y="315"/>
                      </a:lnTo>
                      <a:lnTo>
                        <a:pt x="74" y="329"/>
                      </a:lnTo>
                      <a:lnTo>
                        <a:pt x="86" y="345"/>
                      </a:lnTo>
                      <a:lnTo>
                        <a:pt x="114" y="375"/>
                      </a:lnTo>
                      <a:lnTo>
                        <a:pt x="142" y="401"/>
                      </a:lnTo>
                      <a:lnTo>
                        <a:pt x="173" y="423"/>
                      </a:lnTo>
                      <a:lnTo>
                        <a:pt x="204" y="443"/>
                      </a:lnTo>
                      <a:lnTo>
                        <a:pt x="239" y="460"/>
                      </a:lnTo>
                      <a:lnTo>
                        <a:pt x="273" y="471"/>
                      </a:lnTo>
                      <a:lnTo>
                        <a:pt x="311" y="480"/>
                      </a:lnTo>
                      <a:lnTo>
                        <a:pt x="348" y="486"/>
                      </a:lnTo>
                      <a:lnTo>
                        <a:pt x="389" y="488"/>
                      </a:lnTo>
                      <a:lnTo>
                        <a:pt x="414" y="487"/>
                      </a:lnTo>
                      <a:lnTo>
                        <a:pt x="440" y="485"/>
                      </a:lnTo>
                      <a:lnTo>
                        <a:pt x="464" y="480"/>
                      </a:lnTo>
                      <a:lnTo>
                        <a:pt x="489" y="476"/>
                      </a:lnTo>
                      <a:lnTo>
                        <a:pt x="512" y="468"/>
                      </a:lnTo>
                      <a:lnTo>
                        <a:pt x="523" y="463"/>
                      </a:lnTo>
                      <a:lnTo>
                        <a:pt x="529" y="461"/>
                      </a:lnTo>
                      <a:lnTo>
                        <a:pt x="535" y="460"/>
                      </a:lnTo>
                      <a:lnTo>
                        <a:pt x="540" y="456"/>
                      </a:lnTo>
                      <a:lnTo>
                        <a:pt x="546" y="454"/>
                      </a:lnTo>
                      <a:lnTo>
                        <a:pt x="557" y="449"/>
                      </a:lnTo>
                      <a:lnTo>
                        <a:pt x="580" y="439"/>
                      </a:lnTo>
                      <a:lnTo>
                        <a:pt x="582" y="425"/>
                      </a:lnTo>
                      <a:lnTo>
                        <a:pt x="585" y="411"/>
                      </a:lnTo>
                      <a:lnTo>
                        <a:pt x="563" y="423"/>
                      </a:lnTo>
                      <a:lnTo>
                        <a:pt x="540" y="435"/>
                      </a:lnTo>
                      <a:lnTo>
                        <a:pt x="516" y="444"/>
                      </a:lnTo>
                      <a:lnTo>
                        <a:pt x="509" y="445"/>
                      </a:lnTo>
                      <a:lnTo>
                        <a:pt x="504" y="447"/>
                      </a:lnTo>
                      <a:lnTo>
                        <a:pt x="492" y="452"/>
                      </a:lnTo>
                      <a:lnTo>
                        <a:pt x="479" y="454"/>
                      </a:lnTo>
                      <a:lnTo>
                        <a:pt x="472" y="455"/>
                      </a:lnTo>
                      <a:lnTo>
                        <a:pt x="466" y="457"/>
                      </a:lnTo>
                      <a:lnTo>
                        <a:pt x="441" y="462"/>
                      </a:lnTo>
                      <a:lnTo>
                        <a:pt x="428" y="463"/>
                      </a:lnTo>
                      <a:lnTo>
                        <a:pt x="415" y="465"/>
                      </a:lnTo>
                      <a:lnTo>
                        <a:pt x="402" y="465"/>
                      </a:lnTo>
                      <a:lnTo>
                        <a:pt x="395" y="465"/>
                      </a:lnTo>
                      <a:lnTo>
                        <a:pt x="391" y="465"/>
                      </a:lnTo>
                      <a:lnTo>
                        <a:pt x="389" y="466"/>
                      </a:lnTo>
                      <a:lnTo>
                        <a:pt x="351" y="464"/>
                      </a:lnTo>
                      <a:lnTo>
                        <a:pt x="315" y="460"/>
                      </a:lnTo>
                      <a:lnTo>
                        <a:pt x="280" y="451"/>
                      </a:lnTo>
                      <a:lnTo>
                        <a:pt x="247" y="439"/>
                      </a:lnTo>
                      <a:lnTo>
                        <a:pt x="215" y="423"/>
                      </a:lnTo>
                      <a:lnTo>
                        <a:pt x="185" y="405"/>
                      </a:lnTo>
                      <a:lnTo>
                        <a:pt x="156" y="384"/>
                      </a:lnTo>
                      <a:lnTo>
                        <a:pt x="129" y="360"/>
                      </a:lnTo>
                      <a:lnTo>
                        <a:pt x="103" y="332"/>
                      </a:lnTo>
                      <a:lnTo>
                        <a:pt x="82" y="302"/>
                      </a:lnTo>
                      <a:lnTo>
                        <a:pt x="63" y="271"/>
                      </a:lnTo>
                      <a:lnTo>
                        <a:pt x="48" y="241"/>
                      </a:lnTo>
                      <a:lnTo>
                        <a:pt x="35" y="207"/>
                      </a:lnTo>
                      <a:lnTo>
                        <a:pt x="27" y="173"/>
                      </a:lnTo>
                      <a:lnTo>
                        <a:pt x="23" y="137"/>
                      </a:lnTo>
                      <a:lnTo>
                        <a:pt x="22" y="100"/>
                      </a:lnTo>
                      <a:lnTo>
                        <a:pt x="22" y="73"/>
                      </a:lnTo>
                      <a:lnTo>
                        <a:pt x="24" y="48"/>
                      </a:lnTo>
                      <a:lnTo>
                        <a:pt x="27" y="23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699520" y="3942000"/>
                  <a:ext cx="178200" cy="143280"/>
                </a:xfrm>
                <a:custGeom>
                  <a:avLst/>
                  <a:gdLst/>
                  <a:ahLst/>
                  <a:rect l="l" t="t" r="r" b="b"/>
                  <a:pathLst>
                    <a:path w="624" h="503">
                      <a:moveTo>
                        <a:pt x="0" y="22"/>
                      </a:moveTo>
                      <a:lnTo>
                        <a:pt x="0" y="49"/>
                      </a:lnTo>
                      <a:lnTo>
                        <a:pt x="1" y="95"/>
                      </a:lnTo>
                      <a:lnTo>
                        <a:pt x="3" y="116"/>
                      </a:lnTo>
                      <a:lnTo>
                        <a:pt x="8" y="139"/>
                      </a:lnTo>
                      <a:lnTo>
                        <a:pt x="11" y="159"/>
                      </a:lnTo>
                      <a:lnTo>
                        <a:pt x="17" y="181"/>
                      </a:lnTo>
                      <a:lnTo>
                        <a:pt x="32" y="222"/>
                      </a:lnTo>
                      <a:lnTo>
                        <a:pt x="51" y="260"/>
                      </a:lnTo>
                      <a:lnTo>
                        <a:pt x="61" y="278"/>
                      </a:lnTo>
                      <a:lnTo>
                        <a:pt x="73" y="298"/>
                      </a:lnTo>
                      <a:lnTo>
                        <a:pt x="101" y="334"/>
                      </a:lnTo>
                      <a:lnTo>
                        <a:pt x="115" y="351"/>
                      </a:lnTo>
                      <a:lnTo>
                        <a:pt x="132" y="369"/>
                      </a:lnTo>
                      <a:lnTo>
                        <a:pt x="165" y="400"/>
                      </a:lnTo>
                      <a:lnTo>
                        <a:pt x="201" y="427"/>
                      </a:lnTo>
                      <a:lnTo>
                        <a:pt x="239" y="449"/>
                      </a:lnTo>
                      <a:lnTo>
                        <a:pt x="279" y="469"/>
                      </a:lnTo>
                      <a:lnTo>
                        <a:pt x="318" y="482"/>
                      </a:lnTo>
                      <a:lnTo>
                        <a:pt x="361" y="494"/>
                      </a:lnTo>
                      <a:lnTo>
                        <a:pt x="406" y="500"/>
                      </a:lnTo>
                      <a:lnTo>
                        <a:pt x="453" y="503"/>
                      </a:lnTo>
                      <a:lnTo>
                        <a:pt x="494" y="500"/>
                      </a:lnTo>
                      <a:lnTo>
                        <a:pt x="513" y="498"/>
                      </a:lnTo>
                      <a:lnTo>
                        <a:pt x="534" y="496"/>
                      </a:lnTo>
                      <a:lnTo>
                        <a:pt x="572" y="487"/>
                      </a:lnTo>
                      <a:lnTo>
                        <a:pt x="611" y="476"/>
                      </a:lnTo>
                      <a:lnTo>
                        <a:pt x="624" y="447"/>
                      </a:lnTo>
                      <a:lnTo>
                        <a:pt x="584" y="461"/>
                      </a:lnTo>
                      <a:lnTo>
                        <a:pt x="572" y="463"/>
                      </a:lnTo>
                      <a:lnTo>
                        <a:pt x="569" y="463"/>
                      </a:lnTo>
                      <a:lnTo>
                        <a:pt x="567" y="464"/>
                      </a:lnTo>
                      <a:lnTo>
                        <a:pt x="562" y="466"/>
                      </a:lnTo>
                      <a:lnTo>
                        <a:pt x="542" y="472"/>
                      </a:lnTo>
                      <a:lnTo>
                        <a:pt x="519" y="476"/>
                      </a:lnTo>
                      <a:lnTo>
                        <a:pt x="508" y="477"/>
                      </a:lnTo>
                      <a:lnTo>
                        <a:pt x="497" y="479"/>
                      </a:lnTo>
                      <a:lnTo>
                        <a:pt x="475" y="480"/>
                      </a:lnTo>
                      <a:lnTo>
                        <a:pt x="463" y="480"/>
                      </a:lnTo>
                      <a:lnTo>
                        <a:pt x="458" y="480"/>
                      </a:lnTo>
                      <a:lnTo>
                        <a:pt x="453" y="481"/>
                      </a:lnTo>
                      <a:lnTo>
                        <a:pt x="408" y="479"/>
                      </a:lnTo>
                      <a:lnTo>
                        <a:pt x="366" y="473"/>
                      </a:lnTo>
                      <a:lnTo>
                        <a:pt x="325" y="463"/>
                      </a:lnTo>
                      <a:lnTo>
                        <a:pt x="286" y="449"/>
                      </a:lnTo>
                      <a:lnTo>
                        <a:pt x="248" y="431"/>
                      </a:lnTo>
                      <a:lnTo>
                        <a:pt x="213" y="410"/>
                      </a:lnTo>
                      <a:lnTo>
                        <a:pt x="179" y="384"/>
                      </a:lnTo>
                      <a:lnTo>
                        <a:pt x="147" y="354"/>
                      </a:lnTo>
                      <a:lnTo>
                        <a:pt x="116" y="321"/>
                      </a:lnTo>
                      <a:lnTo>
                        <a:pt x="91" y="287"/>
                      </a:lnTo>
                      <a:lnTo>
                        <a:pt x="69" y="251"/>
                      </a:lnTo>
                      <a:lnTo>
                        <a:pt x="52" y="214"/>
                      </a:lnTo>
                      <a:lnTo>
                        <a:pt x="37" y="174"/>
                      </a:lnTo>
                      <a:lnTo>
                        <a:pt x="31" y="154"/>
                      </a:lnTo>
                      <a:lnTo>
                        <a:pt x="28" y="134"/>
                      </a:lnTo>
                      <a:lnTo>
                        <a:pt x="22" y="92"/>
                      </a:lnTo>
                      <a:lnTo>
                        <a:pt x="21" y="49"/>
                      </a:lnTo>
                      <a:lnTo>
                        <a:pt x="21" y="23"/>
                      </a:lnTo>
                      <a:lnTo>
                        <a:pt x="23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705640" y="3936240"/>
                  <a:ext cx="175320" cy="142560"/>
                </a:xfrm>
                <a:custGeom>
                  <a:avLst/>
                  <a:gdLst/>
                  <a:ahLst/>
                  <a:rect l="l" t="t" r="r" b="b"/>
                  <a:pathLst>
                    <a:path w="615" h="500">
                      <a:moveTo>
                        <a:pt x="22" y="68"/>
                      </a:moveTo>
                      <a:lnTo>
                        <a:pt x="23" y="33"/>
                      </a:lnTo>
                      <a:lnTo>
                        <a:pt x="26" y="0"/>
                      </a:lnTo>
                      <a:lnTo>
                        <a:pt x="2" y="19"/>
                      </a:lnTo>
                      <a:lnTo>
                        <a:pt x="0" y="42"/>
                      </a:lnTo>
                      <a:lnTo>
                        <a:pt x="0" y="68"/>
                      </a:lnTo>
                      <a:lnTo>
                        <a:pt x="1" y="111"/>
                      </a:lnTo>
                      <a:lnTo>
                        <a:pt x="7" y="153"/>
                      </a:lnTo>
                      <a:lnTo>
                        <a:pt x="10" y="173"/>
                      </a:lnTo>
                      <a:lnTo>
                        <a:pt x="16" y="193"/>
                      </a:lnTo>
                      <a:lnTo>
                        <a:pt x="31" y="233"/>
                      </a:lnTo>
                      <a:lnTo>
                        <a:pt x="48" y="270"/>
                      </a:lnTo>
                      <a:lnTo>
                        <a:pt x="70" y="306"/>
                      </a:lnTo>
                      <a:lnTo>
                        <a:pt x="95" y="340"/>
                      </a:lnTo>
                      <a:lnTo>
                        <a:pt x="126" y="373"/>
                      </a:lnTo>
                      <a:lnTo>
                        <a:pt x="158" y="403"/>
                      </a:lnTo>
                      <a:lnTo>
                        <a:pt x="192" y="429"/>
                      </a:lnTo>
                      <a:lnTo>
                        <a:pt x="227" y="450"/>
                      </a:lnTo>
                      <a:lnTo>
                        <a:pt x="265" y="468"/>
                      </a:lnTo>
                      <a:lnTo>
                        <a:pt x="304" y="482"/>
                      </a:lnTo>
                      <a:lnTo>
                        <a:pt x="345" y="492"/>
                      </a:lnTo>
                      <a:lnTo>
                        <a:pt x="387" y="498"/>
                      </a:lnTo>
                      <a:lnTo>
                        <a:pt x="432" y="500"/>
                      </a:lnTo>
                      <a:lnTo>
                        <a:pt x="437" y="499"/>
                      </a:lnTo>
                      <a:lnTo>
                        <a:pt x="442" y="499"/>
                      </a:lnTo>
                      <a:lnTo>
                        <a:pt x="454" y="499"/>
                      </a:lnTo>
                      <a:lnTo>
                        <a:pt x="476" y="498"/>
                      </a:lnTo>
                      <a:lnTo>
                        <a:pt x="487" y="496"/>
                      </a:lnTo>
                      <a:lnTo>
                        <a:pt x="498" y="495"/>
                      </a:lnTo>
                      <a:lnTo>
                        <a:pt x="521" y="491"/>
                      </a:lnTo>
                      <a:lnTo>
                        <a:pt x="541" y="485"/>
                      </a:lnTo>
                      <a:lnTo>
                        <a:pt x="546" y="483"/>
                      </a:lnTo>
                      <a:lnTo>
                        <a:pt x="548" y="482"/>
                      </a:lnTo>
                      <a:lnTo>
                        <a:pt x="551" y="482"/>
                      </a:lnTo>
                      <a:lnTo>
                        <a:pt x="563" y="480"/>
                      </a:lnTo>
                      <a:lnTo>
                        <a:pt x="603" y="466"/>
                      </a:lnTo>
                      <a:lnTo>
                        <a:pt x="615" y="437"/>
                      </a:lnTo>
                      <a:lnTo>
                        <a:pt x="592" y="446"/>
                      </a:lnTo>
                      <a:lnTo>
                        <a:pt x="572" y="454"/>
                      </a:lnTo>
                      <a:lnTo>
                        <a:pt x="549" y="461"/>
                      </a:lnTo>
                      <a:lnTo>
                        <a:pt x="527" y="467"/>
                      </a:lnTo>
                      <a:lnTo>
                        <a:pt x="504" y="472"/>
                      </a:lnTo>
                      <a:lnTo>
                        <a:pt x="481" y="475"/>
                      </a:lnTo>
                      <a:lnTo>
                        <a:pt x="456" y="478"/>
                      </a:lnTo>
                      <a:lnTo>
                        <a:pt x="443" y="478"/>
                      </a:lnTo>
                      <a:lnTo>
                        <a:pt x="432" y="479"/>
                      </a:lnTo>
                      <a:lnTo>
                        <a:pt x="389" y="476"/>
                      </a:lnTo>
                      <a:lnTo>
                        <a:pt x="349" y="471"/>
                      </a:lnTo>
                      <a:lnTo>
                        <a:pt x="311" y="461"/>
                      </a:lnTo>
                      <a:lnTo>
                        <a:pt x="275" y="448"/>
                      </a:lnTo>
                      <a:lnTo>
                        <a:pt x="238" y="430"/>
                      </a:lnTo>
                      <a:lnTo>
                        <a:pt x="204" y="410"/>
                      </a:lnTo>
                      <a:lnTo>
                        <a:pt x="171" y="385"/>
                      </a:lnTo>
                      <a:lnTo>
                        <a:pt x="142" y="357"/>
                      </a:lnTo>
                      <a:lnTo>
                        <a:pt x="112" y="326"/>
                      </a:lnTo>
                      <a:lnTo>
                        <a:pt x="89" y="294"/>
                      </a:lnTo>
                      <a:lnTo>
                        <a:pt x="67" y="260"/>
                      </a:lnTo>
                      <a:lnTo>
                        <a:pt x="58" y="242"/>
                      </a:lnTo>
                      <a:lnTo>
                        <a:pt x="51" y="225"/>
                      </a:lnTo>
                      <a:lnTo>
                        <a:pt x="43" y="205"/>
                      </a:lnTo>
                      <a:lnTo>
                        <a:pt x="38" y="187"/>
                      </a:lnTo>
                      <a:lnTo>
                        <a:pt x="28" y="149"/>
                      </a:lnTo>
                      <a:lnTo>
                        <a:pt x="23" y="109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711400" y="3931560"/>
                  <a:ext cx="172080" cy="140760"/>
                </a:xfrm>
                <a:custGeom>
                  <a:avLst/>
                  <a:gdLst/>
                  <a:ahLst/>
                  <a:rect l="l" t="t" r="r" b="b"/>
                  <a:pathLst>
                    <a:path w="601" h="496">
                      <a:moveTo>
                        <a:pt x="4" y="17"/>
                      </a:moveTo>
                      <a:lnTo>
                        <a:pt x="1" y="50"/>
                      </a:lnTo>
                      <a:lnTo>
                        <a:pt x="0" y="85"/>
                      </a:lnTo>
                      <a:lnTo>
                        <a:pt x="1" y="126"/>
                      </a:lnTo>
                      <a:lnTo>
                        <a:pt x="6" y="166"/>
                      </a:lnTo>
                      <a:lnTo>
                        <a:pt x="16" y="204"/>
                      </a:lnTo>
                      <a:lnTo>
                        <a:pt x="21" y="222"/>
                      </a:lnTo>
                      <a:lnTo>
                        <a:pt x="29" y="242"/>
                      </a:lnTo>
                      <a:lnTo>
                        <a:pt x="36" y="259"/>
                      </a:lnTo>
                      <a:lnTo>
                        <a:pt x="45" y="277"/>
                      </a:lnTo>
                      <a:lnTo>
                        <a:pt x="67" y="311"/>
                      </a:lnTo>
                      <a:lnTo>
                        <a:pt x="90" y="343"/>
                      </a:lnTo>
                      <a:lnTo>
                        <a:pt x="120" y="374"/>
                      </a:lnTo>
                      <a:lnTo>
                        <a:pt x="149" y="402"/>
                      </a:lnTo>
                      <a:lnTo>
                        <a:pt x="182" y="427"/>
                      </a:lnTo>
                      <a:lnTo>
                        <a:pt x="216" y="447"/>
                      </a:lnTo>
                      <a:lnTo>
                        <a:pt x="253" y="465"/>
                      </a:lnTo>
                      <a:lnTo>
                        <a:pt x="289" y="478"/>
                      </a:lnTo>
                      <a:lnTo>
                        <a:pt x="327" y="488"/>
                      </a:lnTo>
                      <a:lnTo>
                        <a:pt x="367" y="493"/>
                      </a:lnTo>
                      <a:lnTo>
                        <a:pt x="410" y="496"/>
                      </a:lnTo>
                      <a:lnTo>
                        <a:pt x="421" y="495"/>
                      </a:lnTo>
                      <a:lnTo>
                        <a:pt x="434" y="495"/>
                      </a:lnTo>
                      <a:lnTo>
                        <a:pt x="459" y="492"/>
                      </a:lnTo>
                      <a:lnTo>
                        <a:pt x="482" y="489"/>
                      </a:lnTo>
                      <a:lnTo>
                        <a:pt x="505" y="484"/>
                      </a:lnTo>
                      <a:lnTo>
                        <a:pt x="527" y="478"/>
                      </a:lnTo>
                      <a:lnTo>
                        <a:pt x="550" y="471"/>
                      </a:lnTo>
                      <a:lnTo>
                        <a:pt x="570" y="463"/>
                      </a:lnTo>
                      <a:lnTo>
                        <a:pt x="593" y="454"/>
                      </a:lnTo>
                      <a:lnTo>
                        <a:pt x="601" y="424"/>
                      </a:lnTo>
                      <a:lnTo>
                        <a:pt x="578" y="434"/>
                      </a:lnTo>
                      <a:lnTo>
                        <a:pt x="567" y="439"/>
                      </a:lnTo>
                      <a:lnTo>
                        <a:pt x="561" y="441"/>
                      </a:lnTo>
                      <a:lnTo>
                        <a:pt x="556" y="445"/>
                      </a:lnTo>
                      <a:lnTo>
                        <a:pt x="550" y="446"/>
                      </a:lnTo>
                      <a:lnTo>
                        <a:pt x="544" y="448"/>
                      </a:lnTo>
                      <a:lnTo>
                        <a:pt x="533" y="453"/>
                      </a:lnTo>
                      <a:lnTo>
                        <a:pt x="510" y="461"/>
                      </a:lnTo>
                      <a:lnTo>
                        <a:pt x="485" y="465"/>
                      </a:lnTo>
                      <a:lnTo>
                        <a:pt x="461" y="470"/>
                      </a:lnTo>
                      <a:lnTo>
                        <a:pt x="435" y="472"/>
                      </a:lnTo>
                      <a:lnTo>
                        <a:pt x="410" y="473"/>
                      </a:lnTo>
                      <a:lnTo>
                        <a:pt x="369" y="471"/>
                      </a:lnTo>
                      <a:lnTo>
                        <a:pt x="332" y="465"/>
                      </a:lnTo>
                      <a:lnTo>
                        <a:pt x="294" y="456"/>
                      </a:lnTo>
                      <a:lnTo>
                        <a:pt x="260" y="445"/>
                      </a:lnTo>
                      <a:lnTo>
                        <a:pt x="225" y="428"/>
                      </a:lnTo>
                      <a:lnTo>
                        <a:pt x="194" y="408"/>
                      </a:lnTo>
                      <a:lnTo>
                        <a:pt x="163" y="386"/>
                      </a:lnTo>
                      <a:lnTo>
                        <a:pt x="135" y="360"/>
                      </a:lnTo>
                      <a:lnTo>
                        <a:pt x="107" y="330"/>
                      </a:lnTo>
                      <a:lnTo>
                        <a:pt x="95" y="314"/>
                      </a:lnTo>
                      <a:lnTo>
                        <a:pt x="85" y="300"/>
                      </a:lnTo>
                      <a:lnTo>
                        <a:pt x="73" y="283"/>
                      </a:lnTo>
                      <a:lnTo>
                        <a:pt x="64" y="267"/>
                      </a:lnTo>
                      <a:lnTo>
                        <a:pt x="50" y="234"/>
                      </a:lnTo>
                      <a:lnTo>
                        <a:pt x="42" y="216"/>
                      </a:lnTo>
                      <a:lnTo>
                        <a:pt x="36" y="199"/>
                      </a:lnTo>
                      <a:lnTo>
                        <a:pt x="28" y="162"/>
                      </a:lnTo>
                      <a:lnTo>
                        <a:pt x="22" y="124"/>
                      </a:lnTo>
                      <a:lnTo>
                        <a:pt x="21" y="85"/>
                      </a:lnTo>
                      <a:lnTo>
                        <a:pt x="23" y="41"/>
                      </a:lnTo>
                      <a:lnTo>
                        <a:pt x="26" y="19"/>
                      </a:lnTo>
                      <a:lnTo>
                        <a:pt x="30" y="0"/>
                      </a:lnTo>
                      <a:lnTo>
                        <a:pt x="4" y="17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724000" y="392364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8">
                      <a:moveTo>
                        <a:pt x="12" y="12"/>
                      </a:moveTo>
                      <a:lnTo>
                        <a:pt x="5" y="35"/>
                      </a:lnTo>
                      <a:lnTo>
                        <a:pt x="2" y="60"/>
                      </a:lnTo>
                      <a:lnTo>
                        <a:pt x="0" y="85"/>
                      </a:lnTo>
                      <a:lnTo>
                        <a:pt x="0" y="112"/>
                      </a:lnTo>
                      <a:lnTo>
                        <a:pt x="1" y="149"/>
                      </a:lnTo>
                      <a:lnTo>
                        <a:pt x="5" y="185"/>
                      </a:lnTo>
                      <a:lnTo>
                        <a:pt x="13" y="219"/>
                      </a:lnTo>
                      <a:lnTo>
                        <a:pt x="26" y="253"/>
                      </a:lnTo>
                      <a:lnTo>
                        <a:pt x="41" y="283"/>
                      </a:lnTo>
                      <a:lnTo>
                        <a:pt x="60" y="314"/>
                      </a:lnTo>
                      <a:lnTo>
                        <a:pt x="81" y="344"/>
                      </a:lnTo>
                      <a:lnTo>
                        <a:pt x="107" y="372"/>
                      </a:lnTo>
                      <a:lnTo>
                        <a:pt x="134" y="396"/>
                      </a:lnTo>
                      <a:lnTo>
                        <a:pt x="163" y="417"/>
                      </a:lnTo>
                      <a:lnTo>
                        <a:pt x="193" y="435"/>
                      </a:lnTo>
                      <a:lnTo>
                        <a:pt x="225" y="451"/>
                      </a:lnTo>
                      <a:lnTo>
                        <a:pt x="258" y="463"/>
                      </a:lnTo>
                      <a:lnTo>
                        <a:pt x="293" y="472"/>
                      </a:lnTo>
                      <a:lnTo>
                        <a:pt x="329" y="476"/>
                      </a:lnTo>
                      <a:lnTo>
                        <a:pt x="367" y="478"/>
                      </a:lnTo>
                      <a:lnTo>
                        <a:pt x="369" y="477"/>
                      </a:lnTo>
                      <a:lnTo>
                        <a:pt x="373" y="477"/>
                      </a:lnTo>
                      <a:lnTo>
                        <a:pt x="380" y="477"/>
                      </a:lnTo>
                      <a:lnTo>
                        <a:pt x="393" y="477"/>
                      </a:lnTo>
                      <a:lnTo>
                        <a:pt x="406" y="475"/>
                      </a:lnTo>
                      <a:lnTo>
                        <a:pt x="419" y="474"/>
                      </a:lnTo>
                      <a:lnTo>
                        <a:pt x="444" y="469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0" y="464"/>
                      </a:lnTo>
                      <a:lnTo>
                        <a:pt x="482" y="459"/>
                      </a:lnTo>
                      <a:lnTo>
                        <a:pt x="487" y="457"/>
                      </a:lnTo>
                      <a:lnTo>
                        <a:pt x="494" y="456"/>
                      </a:lnTo>
                      <a:lnTo>
                        <a:pt x="518" y="447"/>
                      </a:lnTo>
                      <a:lnTo>
                        <a:pt x="541" y="435"/>
                      </a:lnTo>
                      <a:lnTo>
                        <a:pt x="563" y="423"/>
                      </a:lnTo>
                      <a:lnTo>
                        <a:pt x="568" y="393"/>
                      </a:lnTo>
                      <a:lnTo>
                        <a:pt x="555" y="400"/>
                      </a:lnTo>
                      <a:lnTo>
                        <a:pt x="544" y="408"/>
                      </a:lnTo>
                      <a:lnTo>
                        <a:pt x="521" y="421"/>
                      </a:lnTo>
                      <a:lnTo>
                        <a:pt x="509" y="425"/>
                      </a:lnTo>
                      <a:lnTo>
                        <a:pt x="498" y="431"/>
                      </a:lnTo>
                      <a:lnTo>
                        <a:pt x="485" y="435"/>
                      </a:lnTo>
                      <a:lnTo>
                        <a:pt x="474" y="441"/>
                      </a:lnTo>
                      <a:lnTo>
                        <a:pt x="448" y="448"/>
                      </a:lnTo>
                      <a:lnTo>
                        <a:pt x="434" y="450"/>
                      </a:lnTo>
                      <a:lnTo>
                        <a:pt x="427" y="451"/>
                      </a:lnTo>
                      <a:lnTo>
                        <a:pt x="422" y="454"/>
                      </a:lnTo>
                      <a:lnTo>
                        <a:pt x="394" y="457"/>
                      </a:lnTo>
                      <a:lnTo>
                        <a:pt x="367" y="458"/>
                      </a:lnTo>
                      <a:lnTo>
                        <a:pt x="331" y="456"/>
                      </a:lnTo>
                      <a:lnTo>
                        <a:pt x="297" y="451"/>
                      </a:lnTo>
                      <a:lnTo>
                        <a:pt x="264" y="442"/>
                      </a:lnTo>
                      <a:lnTo>
                        <a:pt x="233" y="432"/>
                      </a:lnTo>
                      <a:lnTo>
                        <a:pt x="203" y="417"/>
                      </a:lnTo>
                      <a:lnTo>
                        <a:pt x="174" y="400"/>
                      </a:lnTo>
                      <a:lnTo>
                        <a:pt x="147" y="379"/>
                      </a:lnTo>
                      <a:lnTo>
                        <a:pt x="122" y="356"/>
                      </a:lnTo>
                      <a:lnTo>
                        <a:pt x="97" y="329"/>
                      </a:lnTo>
                      <a:lnTo>
                        <a:pt x="77" y="302"/>
                      </a:lnTo>
                      <a:lnTo>
                        <a:pt x="60" y="273"/>
                      </a:lnTo>
                      <a:lnTo>
                        <a:pt x="46" y="244"/>
                      </a:lnTo>
                      <a:lnTo>
                        <a:pt x="35" y="212"/>
                      </a:lnTo>
                      <a:lnTo>
                        <a:pt x="27" y="180"/>
                      </a:lnTo>
                      <a:lnTo>
                        <a:pt x="22" y="146"/>
                      </a:lnTo>
                      <a:lnTo>
                        <a:pt x="21" y="112"/>
                      </a:lnTo>
                      <a:lnTo>
                        <a:pt x="22" y="82"/>
                      </a:lnTo>
                      <a:lnTo>
                        <a:pt x="26" y="53"/>
                      </a:lnTo>
                      <a:lnTo>
                        <a:pt x="32" y="26"/>
                      </a:lnTo>
                      <a:lnTo>
                        <a:pt x="39" y="0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30480" y="3920760"/>
                  <a:ext cx="155880" cy="133560"/>
                </a:xfrm>
                <a:custGeom>
                  <a:avLst/>
                  <a:gdLst/>
                  <a:ahLst/>
                  <a:rect l="l" t="t" r="r" b="b"/>
                  <a:pathLst>
                    <a:path w="548" h="468">
                      <a:moveTo>
                        <a:pt x="45" y="0"/>
                      </a:moveTo>
                      <a:lnTo>
                        <a:pt x="18" y="10"/>
                      </a:lnTo>
                      <a:lnTo>
                        <a:pt x="11" y="36"/>
                      </a:lnTo>
                      <a:lnTo>
                        <a:pt x="5" y="63"/>
                      </a:lnTo>
                      <a:lnTo>
                        <a:pt x="1" y="92"/>
                      </a:lnTo>
                      <a:lnTo>
                        <a:pt x="0" y="122"/>
                      </a:lnTo>
                      <a:lnTo>
                        <a:pt x="1" y="156"/>
                      </a:lnTo>
                      <a:lnTo>
                        <a:pt x="6" y="190"/>
                      </a:lnTo>
                      <a:lnTo>
                        <a:pt x="14" y="222"/>
                      </a:lnTo>
                      <a:lnTo>
                        <a:pt x="25" y="254"/>
                      </a:lnTo>
                      <a:lnTo>
                        <a:pt x="39" y="283"/>
                      </a:lnTo>
                      <a:lnTo>
                        <a:pt x="56" y="312"/>
                      </a:lnTo>
                      <a:lnTo>
                        <a:pt x="76" y="339"/>
                      </a:lnTo>
                      <a:lnTo>
                        <a:pt x="101" y="366"/>
                      </a:lnTo>
                      <a:lnTo>
                        <a:pt x="126" y="389"/>
                      </a:lnTo>
                      <a:lnTo>
                        <a:pt x="153" y="410"/>
                      </a:lnTo>
                      <a:lnTo>
                        <a:pt x="182" y="427"/>
                      </a:lnTo>
                      <a:lnTo>
                        <a:pt x="212" y="442"/>
                      </a:lnTo>
                      <a:lnTo>
                        <a:pt x="243" y="452"/>
                      </a:lnTo>
                      <a:lnTo>
                        <a:pt x="276" y="461"/>
                      </a:lnTo>
                      <a:lnTo>
                        <a:pt x="310" y="466"/>
                      </a:lnTo>
                      <a:lnTo>
                        <a:pt x="346" y="468"/>
                      </a:lnTo>
                      <a:lnTo>
                        <a:pt x="373" y="467"/>
                      </a:lnTo>
                      <a:lnTo>
                        <a:pt x="401" y="464"/>
                      </a:lnTo>
                      <a:lnTo>
                        <a:pt x="406" y="461"/>
                      </a:lnTo>
                      <a:lnTo>
                        <a:pt x="413" y="460"/>
                      </a:lnTo>
                      <a:lnTo>
                        <a:pt x="427" y="458"/>
                      </a:lnTo>
                      <a:lnTo>
                        <a:pt x="453" y="451"/>
                      </a:lnTo>
                      <a:lnTo>
                        <a:pt x="464" y="445"/>
                      </a:lnTo>
                      <a:lnTo>
                        <a:pt x="477" y="441"/>
                      </a:lnTo>
                      <a:lnTo>
                        <a:pt x="488" y="435"/>
                      </a:lnTo>
                      <a:lnTo>
                        <a:pt x="500" y="431"/>
                      </a:lnTo>
                      <a:lnTo>
                        <a:pt x="523" y="418"/>
                      </a:lnTo>
                      <a:lnTo>
                        <a:pt x="534" y="410"/>
                      </a:lnTo>
                      <a:lnTo>
                        <a:pt x="547" y="403"/>
                      </a:lnTo>
                      <a:lnTo>
                        <a:pt x="547" y="389"/>
                      </a:lnTo>
                      <a:lnTo>
                        <a:pt x="548" y="375"/>
                      </a:lnTo>
                      <a:lnTo>
                        <a:pt x="525" y="390"/>
                      </a:lnTo>
                      <a:lnTo>
                        <a:pt x="503" y="405"/>
                      </a:lnTo>
                      <a:lnTo>
                        <a:pt x="478" y="417"/>
                      </a:lnTo>
                      <a:lnTo>
                        <a:pt x="465" y="422"/>
                      </a:lnTo>
                      <a:lnTo>
                        <a:pt x="454" y="427"/>
                      </a:lnTo>
                      <a:lnTo>
                        <a:pt x="440" y="431"/>
                      </a:lnTo>
                      <a:lnTo>
                        <a:pt x="428" y="435"/>
                      </a:lnTo>
                      <a:lnTo>
                        <a:pt x="414" y="437"/>
                      </a:lnTo>
                      <a:lnTo>
                        <a:pt x="407" y="439"/>
                      </a:lnTo>
                      <a:lnTo>
                        <a:pt x="402" y="441"/>
                      </a:lnTo>
                      <a:lnTo>
                        <a:pt x="394" y="441"/>
                      </a:lnTo>
                      <a:lnTo>
                        <a:pt x="387" y="442"/>
                      </a:lnTo>
                      <a:lnTo>
                        <a:pt x="373" y="444"/>
                      </a:lnTo>
                      <a:lnTo>
                        <a:pt x="346" y="445"/>
                      </a:lnTo>
                      <a:lnTo>
                        <a:pt x="312" y="443"/>
                      </a:lnTo>
                      <a:lnTo>
                        <a:pt x="280" y="439"/>
                      </a:lnTo>
                      <a:lnTo>
                        <a:pt x="249" y="431"/>
                      </a:lnTo>
                      <a:lnTo>
                        <a:pt x="220" y="422"/>
                      </a:lnTo>
                      <a:lnTo>
                        <a:pt x="192" y="407"/>
                      </a:lnTo>
                      <a:lnTo>
                        <a:pt x="166" y="391"/>
                      </a:lnTo>
                      <a:lnTo>
                        <a:pt x="140" y="372"/>
                      </a:lnTo>
                      <a:lnTo>
                        <a:pt x="117" y="351"/>
                      </a:lnTo>
                      <a:lnTo>
                        <a:pt x="94" y="326"/>
                      </a:lnTo>
                      <a:lnTo>
                        <a:pt x="75" y="300"/>
                      </a:lnTo>
                      <a:lnTo>
                        <a:pt x="58" y="273"/>
                      </a:lnTo>
                      <a:lnTo>
                        <a:pt x="46" y="246"/>
                      </a:lnTo>
                      <a:lnTo>
                        <a:pt x="34" y="216"/>
                      </a:lnTo>
                      <a:lnTo>
                        <a:pt x="30" y="200"/>
                      </a:lnTo>
                      <a:lnTo>
                        <a:pt x="28" y="186"/>
                      </a:lnTo>
                      <a:lnTo>
                        <a:pt x="23" y="154"/>
                      </a:lnTo>
                      <a:lnTo>
                        <a:pt x="22" y="122"/>
                      </a:lnTo>
                      <a:lnTo>
                        <a:pt x="23" y="89"/>
                      </a:lnTo>
                      <a:lnTo>
                        <a:pt x="28" y="59"/>
                      </a:lnTo>
                      <a:lnTo>
                        <a:pt x="34" y="28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748480" y="391608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8">
                      <a:moveTo>
                        <a:pt x="21" y="138"/>
                      </a:moveTo>
                      <a:lnTo>
                        <a:pt x="24" y="100"/>
                      </a:lnTo>
                      <a:lnTo>
                        <a:pt x="31" y="65"/>
                      </a:lnTo>
                      <a:lnTo>
                        <a:pt x="42" y="31"/>
                      </a:lnTo>
                      <a:lnTo>
                        <a:pt x="60" y="0"/>
                      </a:lnTo>
                      <a:lnTo>
                        <a:pt x="34" y="3"/>
                      </a:lnTo>
                      <a:lnTo>
                        <a:pt x="18" y="34"/>
                      </a:lnTo>
                      <a:lnTo>
                        <a:pt x="8" y="67"/>
                      </a:lnTo>
                      <a:lnTo>
                        <a:pt x="1" y="101"/>
                      </a:lnTo>
                      <a:lnTo>
                        <a:pt x="0" y="138"/>
                      </a:lnTo>
                      <a:lnTo>
                        <a:pt x="1" y="165"/>
                      </a:lnTo>
                      <a:lnTo>
                        <a:pt x="4" y="193"/>
                      </a:lnTo>
                      <a:lnTo>
                        <a:pt x="10" y="219"/>
                      </a:lnTo>
                      <a:lnTo>
                        <a:pt x="20" y="245"/>
                      </a:lnTo>
                      <a:lnTo>
                        <a:pt x="31" y="269"/>
                      </a:lnTo>
                      <a:lnTo>
                        <a:pt x="45" y="292"/>
                      </a:lnTo>
                      <a:lnTo>
                        <a:pt x="62" y="314"/>
                      </a:lnTo>
                      <a:lnTo>
                        <a:pt x="83" y="337"/>
                      </a:lnTo>
                      <a:lnTo>
                        <a:pt x="103" y="355"/>
                      </a:lnTo>
                      <a:lnTo>
                        <a:pt x="125" y="372"/>
                      </a:lnTo>
                      <a:lnTo>
                        <a:pt x="147" y="385"/>
                      </a:lnTo>
                      <a:lnTo>
                        <a:pt x="172" y="398"/>
                      </a:lnTo>
                      <a:lnTo>
                        <a:pt x="197" y="406"/>
                      </a:lnTo>
                      <a:lnTo>
                        <a:pt x="224" y="413"/>
                      </a:lnTo>
                      <a:lnTo>
                        <a:pt x="252" y="416"/>
                      </a:lnTo>
                      <a:lnTo>
                        <a:pt x="281" y="418"/>
                      </a:lnTo>
                      <a:lnTo>
                        <a:pt x="308" y="416"/>
                      </a:lnTo>
                      <a:lnTo>
                        <a:pt x="336" y="413"/>
                      </a:lnTo>
                      <a:lnTo>
                        <a:pt x="341" y="410"/>
                      </a:lnTo>
                      <a:lnTo>
                        <a:pt x="348" y="409"/>
                      </a:lnTo>
                      <a:lnTo>
                        <a:pt x="362" y="406"/>
                      </a:lnTo>
                      <a:lnTo>
                        <a:pt x="374" y="401"/>
                      </a:lnTo>
                      <a:lnTo>
                        <a:pt x="388" y="398"/>
                      </a:lnTo>
                      <a:lnTo>
                        <a:pt x="399" y="391"/>
                      </a:lnTo>
                      <a:lnTo>
                        <a:pt x="401" y="389"/>
                      </a:lnTo>
                      <a:lnTo>
                        <a:pt x="402" y="388"/>
                      </a:lnTo>
                      <a:lnTo>
                        <a:pt x="405" y="388"/>
                      </a:lnTo>
                      <a:lnTo>
                        <a:pt x="412" y="385"/>
                      </a:lnTo>
                      <a:lnTo>
                        <a:pt x="423" y="379"/>
                      </a:lnTo>
                      <a:lnTo>
                        <a:pt x="435" y="372"/>
                      </a:lnTo>
                      <a:lnTo>
                        <a:pt x="446" y="363"/>
                      </a:lnTo>
                      <a:lnTo>
                        <a:pt x="457" y="355"/>
                      </a:lnTo>
                      <a:lnTo>
                        <a:pt x="480" y="337"/>
                      </a:lnTo>
                      <a:lnTo>
                        <a:pt x="481" y="334"/>
                      </a:lnTo>
                      <a:lnTo>
                        <a:pt x="476" y="308"/>
                      </a:lnTo>
                      <a:lnTo>
                        <a:pt x="469" y="314"/>
                      </a:lnTo>
                      <a:lnTo>
                        <a:pt x="464" y="321"/>
                      </a:lnTo>
                      <a:lnTo>
                        <a:pt x="443" y="338"/>
                      </a:lnTo>
                      <a:lnTo>
                        <a:pt x="423" y="353"/>
                      </a:lnTo>
                      <a:lnTo>
                        <a:pt x="412" y="358"/>
                      </a:lnTo>
                      <a:lnTo>
                        <a:pt x="401" y="365"/>
                      </a:lnTo>
                      <a:lnTo>
                        <a:pt x="390" y="371"/>
                      </a:lnTo>
                      <a:lnTo>
                        <a:pt x="380" y="377"/>
                      </a:lnTo>
                      <a:lnTo>
                        <a:pt x="373" y="379"/>
                      </a:lnTo>
                      <a:lnTo>
                        <a:pt x="367" y="381"/>
                      </a:lnTo>
                      <a:lnTo>
                        <a:pt x="356" y="385"/>
                      </a:lnTo>
                      <a:lnTo>
                        <a:pt x="343" y="388"/>
                      </a:lnTo>
                      <a:lnTo>
                        <a:pt x="332" y="391"/>
                      </a:lnTo>
                      <a:lnTo>
                        <a:pt x="319" y="392"/>
                      </a:lnTo>
                      <a:lnTo>
                        <a:pt x="306" y="394"/>
                      </a:lnTo>
                      <a:lnTo>
                        <a:pt x="281" y="397"/>
                      </a:lnTo>
                      <a:lnTo>
                        <a:pt x="254" y="394"/>
                      </a:lnTo>
                      <a:lnTo>
                        <a:pt x="228" y="391"/>
                      </a:lnTo>
                      <a:lnTo>
                        <a:pt x="203" y="385"/>
                      </a:lnTo>
                      <a:lnTo>
                        <a:pt x="180" y="377"/>
                      </a:lnTo>
                      <a:lnTo>
                        <a:pt x="158" y="365"/>
                      </a:lnTo>
                      <a:lnTo>
                        <a:pt x="136" y="353"/>
                      </a:lnTo>
                      <a:lnTo>
                        <a:pt x="116" y="338"/>
                      </a:lnTo>
                      <a:lnTo>
                        <a:pt x="97" y="321"/>
                      </a:lnTo>
                      <a:lnTo>
                        <a:pt x="78" y="300"/>
                      </a:lnTo>
                      <a:lnTo>
                        <a:pt x="63" y="280"/>
                      </a:lnTo>
                      <a:lnTo>
                        <a:pt x="55" y="269"/>
                      </a:lnTo>
                      <a:lnTo>
                        <a:pt x="50" y="258"/>
                      </a:lnTo>
                      <a:lnTo>
                        <a:pt x="40" y="237"/>
                      </a:lnTo>
                      <a:lnTo>
                        <a:pt x="32" y="213"/>
                      </a:lnTo>
                      <a:lnTo>
                        <a:pt x="26" y="189"/>
                      </a:lnTo>
                      <a:lnTo>
                        <a:pt x="23" y="163"/>
                      </a:lnTo>
                      <a:lnTo>
                        <a:pt x="21" y="138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754960" y="3915720"/>
                  <a:ext cx="129600" cy="113400"/>
                </a:xfrm>
                <a:custGeom>
                  <a:avLst/>
                  <a:gdLst/>
                  <a:ahLst/>
                  <a:rect l="l" t="t" r="r" b="b"/>
                  <a:pathLst>
                    <a:path w="455" h="398">
                      <a:moveTo>
                        <a:pt x="39" y="1"/>
                      </a:moveTo>
                      <a:lnTo>
                        <a:pt x="21" y="32"/>
                      </a:lnTo>
                      <a:lnTo>
                        <a:pt x="10" y="66"/>
                      </a:lnTo>
                      <a:lnTo>
                        <a:pt x="3" y="101"/>
                      </a:lnTo>
                      <a:lnTo>
                        <a:pt x="0" y="139"/>
                      </a:lnTo>
                      <a:lnTo>
                        <a:pt x="2" y="164"/>
                      </a:lnTo>
                      <a:lnTo>
                        <a:pt x="5" y="190"/>
                      </a:lnTo>
                      <a:lnTo>
                        <a:pt x="11" y="214"/>
                      </a:lnTo>
                      <a:lnTo>
                        <a:pt x="19" y="238"/>
                      </a:lnTo>
                      <a:lnTo>
                        <a:pt x="29" y="259"/>
                      </a:lnTo>
                      <a:lnTo>
                        <a:pt x="34" y="270"/>
                      </a:lnTo>
                      <a:lnTo>
                        <a:pt x="42" y="281"/>
                      </a:lnTo>
                      <a:lnTo>
                        <a:pt x="57" y="301"/>
                      </a:lnTo>
                      <a:lnTo>
                        <a:pt x="76" y="322"/>
                      </a:lnTo>
                      <a:lnTo>
                        <a:pt x="95" y="339"/>
                      </a:lnTo>
                      <a:lnTo>
                        <a:pt x="115" y="354"/>
                      </a:lnTo>
                      <a:lnTo>
                        <a:pt x="137" y="366"/>
                      </a:lnTo>
                      <a:lnTo>
                        <a:pt x="159" y="378"/>
                      </a:lnTo>
                      <a:lnTo>
                        <a:pt x="182" y="386"/>
                      </a:lnTo>
                      <a:lnTo>
                        <a:pt x="207" y="392"/>
                      </a:lnTo>
                      <a:lnTo>
                        <a:pt x="233" y="395"/>
                      </a:lnTo>
                      <a:lnTo>
                        <a:pt x="260" y="398"/>
                      </a:lnTo>
                      <a:lnTo>
                        <a:pt x="285" y="395"/>
                      </a:lnTo>
                      <a:lnTo>
                        <a:pt x="298" y="393"/>
                      </a:lnTo>
                      <a:lnTo>
                        <a:pt x="311" y="392"/>
                      </a:lnTo>
                      <a:lnTo>
                        <a:pt x="322" y="389"/>
                      </a:lnTo>
                      <a:lnTo>
                        <a:pt x="335" y="386"/>
                      </a:lnTo>
                      <a:lnTo>
                        <a:pt x="346" y="382"/>
                      </a:lnTo>
                      <a:lnTo>
                        <a:pt x="352" y="380"/>
                      </a:lnTo>
                      <a:lnTo>
                        <a:pt x="359" y="378"/>
                      </a:lnTo>
                      <a:lnTo>
                        <a:pt x="369" y="372"/>
                      </a:lnTo>
                      <a:lnTo>
                        <a:pt x="380" y="366"/>
                      </a:lnTo>
                      <a:lnTo>
                        <a:pt x="391" y="359"/>
                      </a:lnTo>
                      <a:lnTo>
                        <a:pt x="402" y="354"/>
                      </a:lnTo>
                      <a:lnTo>
                        <a:pt x="422" y="339"/>
                      </a:lnTo>
                      <a:lnTo>
                        <a:pt x="443" y="322"/>
                      </a:lnTo>
                      <a:lnTo>
                        <a:pt x="448" y="315"/>
                      </a:lnTo>
                      <a:lnTo>
                        <a:pt x="455" y="309"/>
                      </a:lnTo>
                      <a:lnTo>
                        <a:pt x="449" y="282"/>
                      </a:lnTo>
                      <a:lnTo>
                        <a:pt x="438" y="295"/>
                      </a:lnTo>
                      <a:lnTo>
                        <a:pt x="435" y="297"/>
                      </a:lnTo>
                      <a:lnTo>
                        <a:pt x="432" y="300"/>
                      </a:lnTo>
                      <a:lnTo>
                        <a:pt x="428" y="307"/>
                      </a:lnTo>
                      <a:lnTo>
                        <a:pt x="418" y="314"/>
                      </a:lnTo>
                      <a:lnTo>
                        <a:pt x="409" y="322"/>
                      </a:lnTo>
                      <a:lnTo>
                        <a:pt x="391" y="337"/>
                      </a:lnTo>
                      <a:lnTo>
                        <a:pt x="370" y="348"/>
                      </a:lnTo>
                      <a:lnTo>
                        <a:pt x="360" y="352"/>
                      </a:lnTo>
                      <a:lnTo>
                        <a:pt x="351" y="358"/>
                      </a:lnTo>
                      <a:lnTo>
                        <a:pt x="328" y="366"/>
                      </a:lnTo>
                      <a:lnTo>
                        <a:pt x="317" y="368"/>
                      </a:lnTo>
                      <a:lnTo>
                        <a:pt x="313" y="368"/>
                      </a:lnTo>
                      <a:lnTo>
                        <a:pt x="311" y="369"/>
                      </a:lnTo>
                      <a:lnTo>
                        <a:pt x="307" y="372"/>
                      </a:lnTo>
                      <a:lnTo>
                        <a:pt x="300" y="372"/>
                      </a:lnTo>
                      <a:lnTo>
                        <a:pt x="296" y="372"/>
                      </a:lnTo>
                      <a:lnTo>
                        <a:pt x="294" y="373"/>
                      </a:lnTo>
                      <a:lnTo>
                        <a:pt x="283" y="375"/>
                      </a:lnTo>
                      <a:lnTo>
                        <a:pt x="260" y="376"/>
                      </a:lnTo>
                      <a:lnTo>
                        <a:pt x="235" y="375"/>
                      </a:lnTo>
                      <a:lnTo>
                        <a:pt x="211" y="372"/>
                      </a:lnTo>
                      <a:lnTo>
                        <a:pt x="189" y="366"/>
                      </a:lnTo>
                      <a:lnTo>
                        <a:pt x="168" y="358"/>
                      </a:lnTo>
                      <a:lnTo>
                        <a:pt x="147" y="348"/>
                      </a:lnTo>
                      <a:lnTo>
                        <a:pt x="127" y="337"/>
                      </a:lnTo>
                      <a:lnTo>
                        <a:pt x="108" y="322"/>
                      </a:lnTo>
                      <a:lnTo>
                        <a:pt x="91" y="307"/>
                      </a:lnTo>
                      <a:lnTo>
                        <a:pt x="74" y="288"/>
                      </a:lnTo>
                      <a:lnTo>
                        <a:pt x="59" y="270"/>
                      </a:lnTo>
                      <a:lnTo>
                        <a:pt x="47" y="249"/>
                      </a:lnTo>
                      <a:lnTo>
                        <a:pt x="39" y="230"/>
                      </a:lnTo>
                      <a:lnTo>
                        <a:pt x="31" y="207"/>
                      </a:lnTo>
                      <a:lnTo>
                        <a:pt x="25" y="186"/>
                      </a:lnTo>
                      <a:lnTo>
                        <a:pt x="22" y="162"/>
                      </a:lnTo>
                      <a:lnTo>
                        <a:pt x="22" y="139"/>
                      </a:lnTo>
                      <a:lnTo>
                        <a:pt x="24" y="100"/>
                      </a:lnTo>
                      <a:lnTo>
                        <a:pt x="32" y="64"/>
                      </a:lnTo>
                      <a:lnTo>
                        <a:pt x="38" y="46"/>
                      </a:lnTo>
                      <a:lnTo>
                        <a:pt x="46" y="30"/>
                      </a:lnTo>
                      <a:lnTo>
                        <a:pt x="66" y="0"/>
                      </a:lnTo>
                      <a:lnTo>
                        <a:pt x="39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742360" y="3917160"/>
                  <a:ext cx="144000" cy="124560"/>
                </a:xfrm>
                <a:custGeom>
                  <a:avLst/>
                  <a:gdLst/>
                  <a:ahLst/>
                  <a:rect l="l" t="t" r="r" b="b"/>
                  <a:pathLst>
                    <a:path w="505" h="437">
                      <a:moveTo>
                        <a:pt x="22" y="135"/>
                      </a:moveTo>
                      <a:lnTo>
                        <a:pt x="23" y="98"/>
                      </a:lnTo>
                      <a:lnTo>
                        <a:pt x="30" y="64"/>
                      </a:lnTo>
                      <a:lnTo>
                        <a:pt x="40" y="31"/>
                      </a:lnTo>
                      <a:lnTo>
                        <a:pt x="56" y="0"/>
                      </a:lnTo>
                      <a:lnTo>
                        <a:pt x="28" y="6"/>
                      </a:lnTo>
                      <a:lnTo>
                        <a:pt x="15" y="35"/>
                      </a:lnTo>
                      <a:lnTo>
                        <a:pt x="7" y="67"/>
                      </a:lnTo>
                      <a:lnTo>
                        <a:pt x="2" y="100"/>
                      </a:lnTo>
                      <a:lnTo>
                        <a:pt x="0" y="135"/>
                      </a:lnTo>
                      <a:lnTo>
                        <a:pt x="2" y="165"/>
                      </a:lnTo>
                      <a:lnTo>
                        <a:pt x="5" y="194"/>
                      </a:lnTo>
                      <a:lnTo>
                        <a:pt x="7" y="208"/>
                      </a:lnTo>
                      <a:lnTo>
                        <a:pt x="12" y="223"/>
                      </a:lnTo>
                      <a:lnTo>
                        <a:pt x="22" y="251"/>
                      </a:lnTo>
                      <a:lnTo>
                        <a:pt x="34" y="276"/>
                      </a:lnTo>
                      <a:lnTo>
                        <a:pt x="49" y="301"/>
                      </a:lnTo>
                      <a:lnTo>
                        <a:pt x="57" y="312"/>
                      </a:lnTo>
                      <a:lnTo>
                        <a:pt x="67" y="325"/>
                      </a:lnTo>
                      <a:lnTo>
                        <a:pt x="89" y="348"/>
                      </a:lnTo>
                      <a:lnTo>
                        <a:pt x="110" y="368"/>
                      </a:lnTo>
                      <a:lnTo>
                        <a:pt x="134" y="386"/>
                      </a:lnTo>
                      <a:lnTo>
                        <a:pt x="159" y="401"/>
                      </a:lnTo>
                      <a:lnTo>
                        <a:pt x="186" y="414"/>
                      </a:lnTo>
                      <a:lnTo>
                        <a:pt x="212" y="423"/>
                      </a:lnTo>
                      <a:lnTo>
                        <a:pt x="242" y="431"/>
                      </a:lnTo>
                      <a:lnTo>
                        <a:pt x="271" y="435"/>
                      </a:lnTo>
                      <a:lnTo>
                        <a:pt x="303" y="437"/>
                      </a:lnTo>
                      <a:lnTo>
                        <a:pt x="330" y="435"/>
                      </a:lnTo>
                      <a:lnTo>
                        <a:pt x="344" y="432"/>
                      </a:lnTo>
                      <a:lnTo>
                        <a:pt x="351" y="431"/>
                      </a:lnTo>
                      <a:lnTo>
                        <a:pt x="359" y="431"/>
                      </a:lnTo>
                      <a:lnTo>
                        <a:pt x="364" y="429"/>
                      </a:lnTo>
                      <a:lnTo>
                        <a:pt x="371" y="428"/>
                      </a:lnTo>
                      <a:lnTo>
                        <a:pt x="385" y="425"/>
                      </a:lnTo>
                      <a:lnTo>
                        <a:pt x="397" y="421"/>
                      </a:lnTo>
                      <a:lnTo>
                        <a:pt x="411" y="418"/>
                      </a:lnTo>
                      <a:lnTo>
                        <a:pt x="422" y="411"/>
                      </a:lnTo>
                      <a:lnTo>
                        <a:pt x="424" y="408"/>
                      </a:lnTo>
                      <a:lnTo>
                        <a:pt x="426" y="407"/>
                      </a:lnTo>
                      <a:lnTo>
                        <a:pt x="428" y="407"/>
                      </a:lnTo>
                      <a:lnTo>
                        <a:pt x="435" y="405"/>
                      </a:lnTo>
                      <a:lnTo>
                        <a:pt x="460" y="393"/>
                      </a:lnTo>
                      <a:lnTo>
                        <a:pt x="482" y="377"/>
                      </a:lnTo>
                      <a:lnTo>
                        <a:pt x="505" y="360"/>
                      </a:lnTo>
                      <a:lnTo>
                        <a:pt x="503" y="331"/>
                      </a:lnTo>
                      <a:lnTo>
                        <a:pt x="502" y="334"/>
                      </a:lnTo>
                      <a:lnTo>
                        <a:pt x="479" y="352"/>
                      </a:lnTo>
                      <a:lnTo>
                        <a:pt x="468" y="360"/>
                      </a:lnTo>
                      <a:lnTo>
                        <a:pt x="457" y="369"/>
                      </a:lnTo>
                      <a:lnTo>
                        <a:pt x="445" y="376"/>
                      </a:lnTo>
                      <a:lnTo>
                        <a:pt x="434" y="382"/>
                      </a:lnTo>
                      <a:lnTo>
                        <a:pt x="427" y="385"/>
                      </a:lnTo>
                      <a:lnTo>
                        <a:pt x="424" y="385"/>
                      </a:lnTo>
                      <a:lnTo>
                        <a:pt x="423" y="386"/>
                      </a:lnTo>
                      <a:lnTo>
                        <a:pt x="421" y="388"/>
                      </a:lnTo>
                      <a:lnTo>
                        <a:pt x="410" y="395"/>
                      </a:lnTo>
                      <a:lnTo>
                        <a:pt x="396" y="398"/>
                      </a:lnTo>
                      <a:lnTo>
                        <a:pt x="384" y="403"/>
                      </a:lnTo>
                      <a:lnTo>
                        <a:pt x="370" y="406"/>
                      </a:lnTo>
                      <a:lnTo>
                        <a:pt x="363" y="407"/>
                      </a:lnTo>
                      <a:lnTo>
                        <a:pt x="358" y="410"/>
                      </a:lnTo>
                      <a:lnTo>
                        <a:pt x="330" y="413"/>
                      </a:lnTo>
                      <a:lnTo>
                        <a:pt x="303" y="415"/>
                      </a:lnTo>
                      <a:lnTo>
                        <a:pt x="274" y="413"/>
                      </a:lnTo>
                      <a:lnTo>
                        <a:pt x="246" y="410"/>
                      </a:lnTo>
                      <a:lnTo>
                        <a:pt x="219" y="403"/>
                      </a:lnTo>
                      <a:lnTo>
                        <a:pt x="194" y="395"/>
                      </a:lnTo>
                      <a:lnTo>
                        <a:pt x="169" y="382"/>
                      </a:lnTo>
                      <a:lnTo>
                        <a:pt x="147" y="369"/>
                      </a:lnTo>
                      <a:lnTo>
                        <a:pt x="125" y="352"/>
                      </a:lnTo>
                      <a:lnTo>
                        <a:pt x="105" y="334"/>
                      </a:lnTo>
                      <a:lnTo>
                        <a:pt x="84" y="311"/>
                      </a:lnTo>
                      <a:lnTo>
                        <a:pt x="67" y="289"/>
                      </a:lnTo>
                      <a:lnTo>
                        <a:pt x="53" y="266"/>
                      </a:lnTo>
                      <a:lnTo>
                        <a:pt x="42" y="242"/>
                      </a:lnTo>
                      <a:lnTo>
                        <a:pt x="32" y="216"/>
                      </a:lnTo>
                      <a:lnTo>
                        <a:pt x="26" y="190"/>
                      </a:lnTo>
                      <a:lnTo>
                        <a:pt x="23" y="162"/>
                      </a:lnTo>
                      <a:lnTo>
                        <a:pt x="22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736240" y="3918600"/>
                  <a:ext cx="150480" cy="129600"/>
                </a:xfrm>
                <a:custGeom>
                  <a:avLst/>
                  <a:gdLst/>
                  <a:ahLst/>
                  <a:rect l="l" t="t" r="r" b="b"/>
                  <a:pathLst>
                    <a:path w="526" h="452">
                      <a:moveTo>
                        <a:pt x="21" y="129"/>
                      </a:moveTo>
                      <a:lnTo>
                        <a:pt x="23" y="94"/>
                      </a:lnTo>
                      <a:lnTo>
                        <a:pt x="28" y="61"/>
                      </a:lnTo>
                      <a:lnTo>
                        <a:pt x="36" y="29"/>
                      </a:lnTo>
                      <a:lnTo>
                        <a:pt x="49" y="0"/>
                      </a:lnTo>
                      <a:lnTo>
                        <a:pt x="23" y="7"/>
                      </a:lnTo>
                      <a:lnTo>
                        <a:pt x="12" y="35"/>
                      </a:lnTo>
                      <a:lnTo>
                        <a:pt x="6" y="66"/>
                      </a:lnTo>
                      <a:lnTo>
                        <a:pt x="1" y="96"/>
                      </a:lnTo>
                      <a:lnTo>
                        <a:pt x="0" y="129"/>
                      </a:lnTo>
                      <a:lnTo>
                        <a:pt x="1" y="161"/>
                      </a:lnTo>
                      <a:lnTo>
                        <a:pt x="6" y="193"/>
                      </a:lnTo>
                      <a:lnTo>
                        <a:pt x="8" y="207"/>
                      </a:lnTo>
                      <a:lnTo>
                        <a:pt x="12" y="223"/>
                      </a:lnTo>
                      <a:lnTo>
                        <a:pt x="24" y="253"/>
                      </a:lnTo>
                      <a:lnTo>
                        <a:pt x="36" y="280"/>
                      </a:lnTo>
                      <a:lnTo>
                        <a:pt x="53" y="307"/>
                      </a:lnTo>
                      <a:lnTo>
                        <a:pt x="72" y="333"/>
                      </a:lnTo>
                      <a:lnTo>
                        <a:pt x="95" y="358"/>
                      </a:lnTo>
                      <a:lnTo>
                        <a:pt x="118" y="379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8" y="429"/>
                      </a:lnTo>
                      <a:lnTo>
                        <a:pt x="227" y="438"/>
                      </a:lnTo>
                      <a:lnTo>
                        <a:pt x="258" y="446"/>
                      </a:lnTo>
                      <a:lnTo>
                        <a:pt x="290" y="450"/>
                      </a:lnTo>
                      <a:lnTo>
                        <a:pt x="324" y="452"/>
                      </a:lnTo>
                      <a:lnTo>
                        <a:pt x="351" y="451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80" y="448"/>
                      </a:lnTo>
                      <a:lnTo>
                        <a:pt x="385" y="446"/>
                      </a:lnTo>
                      <a:lnTo>
                        <a:pt x="392" y="444"/>
                      </a:lnTo>
                      <a:lnTo>
                        <a:pt x="406" y="442"/>
                      </a:lnTo>
                      <a:lnTo>
                        <a:pt x="418" y="438"/>
                      </a:lnTo>
                      <a:lnTo>
                        <a:pt x="432" y="434"/>
                      </a:lnTo>
                      <a:lnTo>
                        <a:pt x="443" y="429"/>
                      </a:lnTo>
                      <a:lnTo>
                        <a:pt x="456" y="424"/>
                      </a:lnTo>
                      <a:lnTo>
                        <a:pt x="481" y="412"/>
                      </a:lnTo>
                      <a:lnTo>
                        <a:pt x="503" y="397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4"/>
                      </a:lnTo>
                      <a:lnTo>
                        <a:pt x="503" y="371"/>
                      </a:lnTo>
                      <a:lnTo>
                        <a:pt x="481" y="387"/>
                      </a:lnTo>
                      <a:lnTo>
                        <a:pt x="456" y="399"/>
                      </a:lnTo>
                      <a:lnTo>
                        <a:pt x="449" y="401"/>
                      </a:lnTo>
                      <a:lnTo>
                        <a:pt x="447" y="401"/>
                      </a:lnTo>
                      <a:lnTo>
                        <a:pt x="445" y="402"/>
                      </a:lnTo>
                      <a:lnTo>
                        <a:pt x="443" y="405"/>
                      </a:lnTo>
                      <a:lnTo>
                        <a:pt x="432" y="412"/>
                      </a:lnTo>
                      <a:lnTo>
                        <a:pt x="418" y="415"/>
                      </a:lnTo>
                      <a:lnTo>
                        <a:pt x="406" y="419"/>
                      </a:lnTo>
                      <a:lnTo>
                        <a:pt x="392" y="422"/>
                      </a:lnTo>
                      <a:lnTo>
                        <a:pt x="385" y="423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5" y="426"/>
                      </a:lnTo>
                      <a:lnTo>
                        <a:pt x="351" y="429"/>
                      </a:lnTo>
                      <a:lnTo>
                        <a:pt x="324" y="431"/>
                      </a:lnTo>
                      <a:lnTo>
                        <a:pt x="292" y="429"/>
                      </a:lnTo>
                      <a:lnTo>
                        <a:pt x="263" y="425"/>
                      </a:lnTo>
                      <a:lnTo>
                        <a:pt x="233" y="417"/>
                      </a:lnTo>
                      <a:lnTo>
                        <a:pt x="207" y="408"/>
                      </a:lnTo>
                      <a:lnTo>
                        <a:pt x="180" y="395"/>
                      </a:lnTo>
                      <a:lnTo>
                        <a:pt x="155" y="380"/>
                      </a:lnTo>
                      <a:lnTo>
                        <a:pt x="131" y="362"/>
                      </a:lnTo>
                      <a:lnTo>
                        <a:pt x="110" y="342"/>
                      </a:lnTo>
                      <a:lnTo>
                        <a:pt x="88" y="319"/>
                      </a:lnTo>
                      <a:lnTo>
                        <a:pt x="78" y="306"/>
                      </a:lnTo>
                      <a:lnTo>
                        <a:pt x="70" y="295"/>
                      </a:lnTo>
                      <a:lnTo>
                        <a:pt x="55" y="270"/>
                      </a:lnTo>
                      <a:lnTo>
                        <a:pt x="43" y="245"/>
                      </a:lnTo>
                      <a:lnTo>
                        <a:pt x="33" y="217"/>
                      </a:lnTo>
                      <a:lnTo>
                        <a:pt x="28" y="202"/>
                      </a:lnTo>
                      <a:lnTo>
                        <a:pt x="26" y="188"/>
                      </a:lnTo>
                      <a:lnTo>
                        <a:pt x="23" y="159"/>
                      </a:lnTo>
                      <a:lnTo>
                        <a:pt x="21" y="129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667480" y="401904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4" h="398">
                      <a:moveTo>
                        <a:pt x="0" y="23"/>
                      </a:moveTo>
                      <a:lnTo>
                        <a:pt x="1" y="55"/>
                      </a:lnTo>
                      <a:lnTo>
                        <a:pt x="24" y="98"/>
                      </a:lnTo>
                      <a:lnTo>
                        <a:pt x="54" y="141"/>
                      </a:lnTo>
                      <a:lnTo>
                        <a:pt x="85" y="182"/>
                      </a:lnTo>
                      <a:lnTo>
                        <a:pt x="123" y="221"/>
                      </a:lnTo>
                      <a:lnTo>
                        <a:pt x="159" y="255"/>
                      </a:lnTo>
                      <a:lnTo>
                        <a:pt x="199" y="287"/>
                      </a:lnTo>
                      <a:lnTo>
                        <a:pt x="240" y="314"/>
                      </a:lnTo>
                      <a:lnTo>
                        <a:pt x="283" y="339"/>
                      </a:lnTo>
                      <a:lnTo>
                        <a:pt x="326" y="359"/>
                      </a:lnTo>
                      <a:lnTo>
                        <a:pt x="372" y="376"/>
                      </a:lnTo>
                      <a:lnTo>
                        <a:pt x="420" y="388"/>
                      </a:lnTo>
                      <a:lnTo>
                        <a:pt x="470" y="398"/>
                      </a:lnTo>
                      <a:lnTo>
                        <a:pt x="497" y="390"/>
                      </a:lnTo>
                      <a:lnTo>
                        <a:pt x="524" y="382"/>
                      </a:lnTo>
                      <a:lnTo>
                        <a:pt x="469" y="376"/>
                      </a:lnTo>
                      <a:lnTo>
                        <a:pt x="441" y="371"/>
                      </a:lnTo>
                      <a:lnTo>
                        <a:pt x="415" y="365"/>
                      </a:lnTo>
                      <a:lnTo>
                        <a:pt x="364" y="350"/>
                      </a:lnTo>
                      <a:lnTo>
                        <a:pt x="316" y="331"/>
                      </a:lnTo>
                      <a:lnTo>
                        <a:pt x="267" y="306"/>
                      </a:lnTo>
                      <a:lnTo>
                        <a:pt x="223" y="277"/>
                      </a:lnTo>
                      <a:lnTo>
                        <a:pt x="178" y="243"/>
                      </a:lnTo>
                      <a:lnTo>
                        <a:pt x="139" y="207"/>
                      </a:lnTo>
                      <a:lnTo>
                        <a:pt x="115" y="182"/>
                      </a:lnTo>
                      <a:lnTo>
                        <a:pt x="93" y="158"/>
                      </a:lnTo>
                      <a:lnTo>
                        <a:pt x="73" y="132"/>
                      </a:lnTo>
                      <a:lnTo>
                        <a:pt x="56" y="107"/>
                      </a:lnTo>
                      <a:lnTo>
                        <a:pt x="39" y="80"/>
                      </a:lnTo>
                      <a:lnTo>
                        <a:pt x="24" y="54"/>
                      </a:lnTo>
                      <a:lnTo>
                        <a:pt x="11" y="26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667480" y="4004280"/>
                  <a:ext cx="161640" cy="123840"/>
                </a:xfrm>
                <a:custGeom>
                  <a:avLst/>
                  <a:gdLst/>
                  <a:ahLst/>
                  <a:rect l="l" t="t" r="r" b="b"/>
                  <a:pathLst>
                    <a:path w="567" h="433">
                      <a:moveTo>
                        <a:pt x="7" y="0"/>
                      </a:moveTo>
                      <a:lnTo>
                        <a:pt x="1" y="25"/>
                      </a:lnTo>
                      <a:lnTo>
                        <a:pt x="0" y="51"/>
                      </a:lnTo>
                      <a:lnTo>
                        <a:pt x="11" y="77"/>
                      </a:lnTo>
                      <a:lnTo>
                        <a:pt x="24" y="105"/>
                      </a:lnTo>
                      <a:lnTo>
                        <a:pt x="39" y="131"/>
                      </a:lnTo>
                      <a:lnTo>
                        <a:pt x="56" y="158"/>
                      </a:lnTo>
                      <a:lnTo>
                        <a:pt x="73" y="183"/>
                      </a:lnTo>
                      <a:lnTo>
                        <a:pt x="93" y="209"/>
                      </a:lnTo>
                      <a:lnTo>
                        <a:pt x="115" y="233"/>
                      </a:lnTo>
                      <a:lnTo>
                        <a:pt x="139" y="258"/>
                      </a:lnTo>
                      <a:lnTo>
                        <a:pt x="178" y="294"/>
                      </a:lnTo>
                      <a:lnTo>
                        <a:pt x="223" y="328"/>
                      </a:lnTo>
                      <a:lnTo>
                        <a:pt x="267" y="357"/>
                      </a:lnTo>
                      <a:lnTo>
                        <a:pt x="316" y="382"/>
                      </a:lnTo>
                      <a:lnTo>
                        <a:pt x="364" y="401"/>
                      </a:lnTo>
                      <a:lnTo>
                        <a:pt x="415" y="416"/>
                      </a:lnTo>
                      <a:lnTo>
                        <a:pt x="441" y="422"/>
                      </a:lnTo>
                      <a:lnTo>
                        <a:pt x="469" y="427"/>
                      </a:lnTo>
                      <a:lnTo>
                        <a:pt x="524" y="433"/>
                      </a:lnTo>
                      <a:lnTo>
                        <a:pt x="567" y="413"/>
                      </a:lnTo>
                      <a:lnTo>
                        <a:pt x="566" y="413"/>
                      </a:lnTo>
                      <a:lnTo>
                        <a:pt x="536" y="412"/>
                      </a:lnTo>
                      <a:lnTo>
                        <a:pt x="506" y="410"/>
                      </a:lnTo>
                      <a:lnTo>
                        <a:pt x="477" y="406"/>
                      </a:lnTo>
                      <a:lnTo>
                        <a:pt x="448" y="402"/>
                      </a:lnTo>
                      <a:lnTo>
                        <a:pt x="393" y="388"/>
                      </a:lnTo>
                      <a:lnTo>
                        <a:pt x="342" y="370"/>
                      </a:lnTo>
                      <a:lnTo>
                        <a:pt x="291" y="345"/>
                      </a:lnTo>
                      <a:lnTo>
                        <a:pt x="242" y="316"/>
                      </a:lnTo>
                      <a:lnTo>
                        <a:pt x="218" y="298"/>
                      </a:lnTo>
                      <a:lnTo>
                        <a:pt x="195" y="280"/>
                      </a:lnTo>
                      <a:lnTo>
                        <a:pt x="153" y="242"/>
                      </a:lnTo>
                      <a:lnTo>
                        <a:pt x="127" y="213"/>
                      </a:lnTo>
                      <a:lnTo>
                        <a:pt x="104" y="186"/>
                      </a:lnTo>
                      <a:lnTo>
                        <a:pt x="82" y="157"/>
                      </a:lnTo>
                      <a:lnTo>
                        <a:pt x="63" y="127"/>
                      </a:lnTo>
                      <a:lnTo>
                        <a:pt x="45" y="96"/>
                      </a:lnTo>
                      <a:lnTo>
                        <a:pt x="30" y="65"/>
                      </a:lnTo>
                      <a:lnTo>
                        <a:pt x="17" y="3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69280" y="3991680"/>
                  <a:ext cx="170280" cy="130680"/>
                </a:xfrm>
                <a:custGeom>
                  <a:avLst/>
                  <a:gdLst/>
                  <a:ahLst/>
                  <a:rect l="l" t="t" r="r" b="b"/>
                  <a:pathLst>
                    <a:path w="597" h="457">
                      <a:moveTo>
                        <a:pt x="10" y="0"/>
                      </a:moveTo>
                      <a:lnTo>
                        <a:pt x="0" y="44"/>
                      </a:lnTo>
                      <a:lnTo>
                        <a:pt x="10" y="76"/>
                      </a:lnTo>
                      <a:lnTo>
                        <a:pt x="23" y="109"/>
                      </a:lnTo>
                      <a:lnTo>
                        <a:pt x="38" y="140"/>
                      </a:lnTo>
                      <a:lnTo>
                        <a:pt x="56" y="171"/>
                      </a:lnTo>
                      <a:lnTo>
                        <a:pt x="75" y="201"/>
                      </a:lnTo>
                      <a:lnTo>
                        <a:pt x="97" y="230"/>
                      </a:lnTo>
                      <a:lnTo>
                        <a:pt x="120" y="257"/>
                      </a:lnTo>
                      <a:lnTo>
                        <a:pt x="146" y="286"/>
                      </a:lnTo>
                      <a:lnTo>
                        <a:pt x="188" y="324"/>
                      </a:lnTo>
                      <a:lnTo>
                        <a:pt x="211" y="342"/>
                      </a:lnTo>
                      <a:lnTo>
                        <a:pt x="235" y="360"/>
                      </a:lnTo>
                      <a:lnTo>
                        <a:pt x="284" y="389"/>
                      </a:lnTo>
                      <a:lnTo>
                        <a:pt x="335" y="414"/>
                      </a:lnTo>
                      <a:lnTo>
                        <a:pt x="386" y="432"/>
                      </a:lnTo>
                      <a:lnTo>
                        <a:pt x="441" y="446"/>
                      </a:lnTo>
                      <a:lnTo>
                        <a:pt x="470" y="450"/>
                      </a:lnTo>
                      <a:lnTo>
                        <a:pt x="499" y="454"/>
                      </a:lnTo>
                      <a:lnTo>
                        <a:pt x="529" y="456"/>
                      </a:lnTo>
                      <a:lnTo>
                        <a:pt x="559" y="457"/>
                      </a:lnTo>
                      <a:lnTo>
                        <a:pt x="560" y="457"/>
                      </a:lnTo>
                      <a:lnTo>
                        <a:pt x="597" y="434"/>
                      </a:lnTo>
                      <a:lnTo>
                        <a:pt x="559" y="435"/>
                      </a:lnTo>
                      <a:lnTo>
                        <a:pt x="530" y="434"/>
                      </a:lnTo>
                      <a:lnTo>
                        <a:pt x="501" y="432"/>
                      </a:lnTo>
                      <a:lnTo>
                        <a:pt x="473" y="429"/>
                      </a:lnTo>
                      <a:lnTo>
                        <a:pt x="446" y="424"/>
                      </a:lnTo>
                      <a:lnTo>
                        <a:pt x="392" y="411"/>
                      </a:lnTo>
                      <a:lnTo>
                        <a:pt x="368" y="403"/>
                      </a:lnTo>
                      <a:lnTo>
                        <a:pt x="343" y="394"/>
                      </a:lnTo>
                      <a:lnTo>
                        <a:pt x="318" y="382"/>
                      </a:lnTo>
                      <a:lnTo>
                        <a:pt x="294" y="370"/>
                      </a:lnTo>
                      <a:lnTo>
                        <a:pt x="247" y="342"/>
                      </a:lnTo>
                      <a:lnTo>
                        <a:pt x="203" y="308"/>
                      </a:lnTo>
                      <a:lnTo>
                        <a:pt x="182" y="290"/>
                      </a:lnTo>
                      <a:lnTo>
                        <a:pt x="161" y="271"/>
                      </a:lnTo>
                      <a:lnTo>
                        <a:pt x="133" y="240"/>
                      </a:lnTo>
                      <a:lnTo>
                        <a:pt x="107" y="210"/>
                      </a:lnTo>
                      <a:lnTo>
                        <a:pt x="94" y="193"/>
                      </a:lnTo>
                      <a:lnTo>
                        <a:pt x="84" y="177"/>
                      </a:lnTo>
                      <a:lnTo>
                        <a:pt x="65" y="144"/>
                      </a:lnTo>
                      <a:lnTo>
                        <a:pt x="55" y="126"/>
                      </a:lnTo>
                      <a:lnTo>
                        <a:pt x="47" y="109"/>
                      </a:lnTo>
                      <a:lnTo>
                        <a:pt x="32" y="74"/>
                      </a:lnTo>
                      <a:lnTo>
                        <a:pt x="19" y="3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672160" y="3980880"/>
                  <a:ext cx="176760" cy="135360"/>
                </a:xfrm>
                <a:custGeom>
                  <a:avLst/>
                  <a:gdLst/>
                  <a:ahLst/>
                  <a:rect l="l" t="t" r="r" b="b"/>
                  <a:pathLst>
                    <a:path w="617" h="473">
                      <a:moveTo>
                        <a:pt x="15" y="0"/>
                      </a:moveTo>
                      <a:lnTo>
                        <a:pt x="0" y="38"/>
                      </a:lnTo>
                      <a:lnTo>
                        <a:pt x="9" y="74"/>
                      </a:lnTo>
                      <a:lnTo>
                        <a:pt x="22" y="112"/>
                      </a:lnTo>
                      <a:lnTo>
                        <a:pt x="37" y="147"/>
                      </a:lnTo>
                      <a:lnTo>
                        <a:pt x="45" y="164"/>
                      </a:lnTo>
                      <a:lnTo>
                        <a:pt x="55" y="182"/>
                      </a:lnTo>
                      <a:lnTo>
                        <a:pt x="74" y="215"/>
                      </a:lnTo>
                      <a:lnTo>
                        <a:pt x="84" y="231"/>
                      </a:lnTo>
                      <a:lnTo>
                        <a:pt x="97" y="248"/>
                      </a:lnTo>
                      <a:lnTo>
                        <a:pt x="123" y="278"/>
                      </a:lnTo>
                      <a:lnTo>
                        <a:pt x="151" y="309"/>
                      </a:lnTo>
                      <a:lnTo>
                        <a:pt x="172" y="328"/>
                      </a:lnTo>
                      <a:lnTo>
                        <a:pt x="193" y="346"/>
                      </a:lnTo>
                      <a:lnTo>
                        <a:pt x="237" y="380"/>
                      </a:lnTo>
                      <a:lnTo>
                        <a:pt x="284" y="408"/>
                      </a:lnTo>
                      <a:lnTo>
                        <a:pt x="308" y="420"/>
                      </a:lnTo>
                      <a:lnTo>
                        <a:pt x="333" y="432"/>
                      </a:lnTo>
                      <a:lnTo>
                        <a:pt x="358" y="441"/>
                      </a:lnTo>
                      <a:lnTo>
                        <a:pt x="382" y="449"/>
                      </a:lnTo>
                      <a:lnTo>
                        <a:pt x="436" y="462"/>
                      </a:lnTo>
                      <a:lnTo>
                        <a:pt x="463" y="467"/>
                      </a:lnTo>
                      <a:lnTo>
                        <a:pt x="491" y="470"/>
                      </a:lnTo>
                      <a:lnTo>
                        <a:pt x="520" y="472"/>
                      </a:lnTo>
                      <a:lnTo>
                        <a:pt x="549" y="473"/>
                      </a:lnTo>
                      <a:lnTo>
                        <a:pt x="587" y="472"/>
                      </a:lnTo>
                      <a:lnTo>
                        <a:pt x="593" y="466"/>
                      </a:lnTo>
                      <a:lnTo>
                        <a:pt x="594" y="463"/>
                      </a:lnTo>
                      <a:lnTo>
                        <a:pt x="597" y="462"/>
                      </a:lnTo>
                      <a:lnTo>
                        <a:pt x="601" y="460"/>
                      </a:lnTo>
                      <a:lnTo>
                        <a:pt x="617" y="449"/>
                      </a:lnTo>
                      <a:lnTo>
                        <a:pt x="583" y="451"/>
                      </a:lnTo>
                      <a:lnTo>
                        <a:pt x="549" y="452"/>
                      </a:lnTo>
                      <a:lnTo>
                        <a:pt x="521" y="451"/>
                      </a:lnTo>
                      <a:lnTo>
                        <a:pt x="494" y="449"/>
                      </a:lnTo>
                      <a:lnTo>
                        <a:pt x="440" y="442"/>
                      </a:lnTo>
                      <a:lnTo>
                        <a:pt x="389" y="428"/>
                      </a:lnTo>
                      <a:lnTo>
                        <a:pt x="341" y="412"/>
                      </a:lnTo>
                      <a:lnTo>
                        <a:pt x="293" y="390"/>
                      </a:lnTo>
                      <a:lnTo>
                        <a:pt x="249" y="362"/>
                      </a:lnTo>
                      <a:lnTo>
                        <a:pt x="227" y="346"/>
                      </a:lnTo>
                      <a:lnTo>
                        <a:pt x="207" y="329"/>
                      </a:lnTo>
                      <a:lnTo>
                        <a:pt x="167" y="293"/>
                      </a:lnTo>
                      <a:lnTo>
                        <a:pt x="136" y="260"/>
                      </a:lnTo>
                      <a:lnTo>
                        <a:pt x="109" y="226"/>
                      </a:lnTo>
                      <a:lnTo>
                        <a:pt x="85" y="191"/>
                      </a:lnTo>
                      <a:lnTo>
                        <a:pt x="74" y="173"/>
                      </a:lnTo>
                      <a:lnTo>
                        <a:pt x="65" y="156"/>
                      </a:lnTo>
                      <a:lnTo>
                        <a:pt x="55" y="137"/>
                      </a:lnTo>
                      <a:lnTo>
                        <a:pt x="47" y="119"/>
                      </a:lnTo>
                      <a:lnTo>
                        <a:pt x="33" y="80"/>
                      </a:lnTo>
                      <a:lnTo>
                        <a:pt x="26" y="60"/>
                      </a:lnTo>
                      <a:lnTo>
                        <a:pt x="22" y="4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676480" y="3971160"/>
                  <a:ext cx="179640" cy="138600"/>
                </a:xfrm>
                <a:custGeom>
                  <a:avLst/>
                  <a:gdLst/>
                  <a:ahLst/>
                  <a:rect l="l" t="t" r="r" b="b"/>
                  <a:pathLst>
                    <a:path w="629" h="486">
                      <a:moveTo>
                        <a:pt x="18" y="0"/>
                      </a:moveTo>
                      <a:lnTo>
                        <a:pt x="0" y="34"/>
                      </a:lnTo>
                      <a:lnTo>
                        <a:pt x="7" y="74"/>
                      </a:lnTo>
                      <a:lnTo>
                        <a:pt x="11" y="94"/>
                      </a:lnTo>
                      <a:lnTo>
                        <a:pt x="18" y="114"/>
                      </a:lnTo>
                      <a:lnTo>
                        <a:pt x="32" y="153"/>
                      </a:lnTo>
                      <a:lnTo>
                        <a:pt x="40" y="171"/>
                      </a:lnTo>
                      <a:lnTo>
                        <a:pt x="50" y="190"/>
                      </a:lnTo>
                      <a:lnTo>
                        <a:pt x="59" y="207"/>
                      </a:lnTo>
                      <a:lnTo>
                        <a:pt x="70" y="225"/>
                      </a:lnTo>
                      <a:lnTo>
                        <a:pt x="94" y="260"/>
                      </a:lnTo>
                      <a:lnTo>
                        <a:pt x="121" y="294"/>
                      </a:lnTo>
                      <a:lnTo>
                        <a:pt x="152" y="327"/>
                      </a:lnTo>
                      <a:lnTo>
                        <a:pt x="192" y="363"/>
                      </a:lnTo>
                      <a:lnTo>
                        <a:pt x="212" y="380"/>
                      </a:lnTo>
                      <a:lnTo>
                        <a:pt x="234" y="396"/>
                      </a:lnTo>
                      <a:lnTo>
                        <a:pt x="278" y="424"/>
                      </a:lnTo>
                      <a:lnTo>
                        <a:pt x="326" y="446"/>
                      </a:lnTo>
                      <a:lnTo>
                        <a:pt x="374" y="462"/>
                      </a:lnTo>
                      <a:lnTo>
                        <a:pt x="425" y="476"/>
                      </a:lnTo>
                      <a:lnTo>
                        <a:pt x="479" y="483"/>
                      </a:lnTo>
                      <a:lnTo>
                        <a:pt x="506" y="485"/>
                      </a:lnTo>
                      <a:lnTo>
                        <a:pt x="534" y="486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4" y="462"/>
                      </a:lnTo>
                      <a:lnTo>
                        <a:pt x="629" y="456"/>
                      </a:lnTo>
                      <a:lnTo>
                        <a:pt x="582" y="462"/>
                      </a:lnTo>
                      <a:lnTo>
                        <a:pt x="534" y="464"/>
                      </a:lnTo>
                      <a:lnTo>
                        <a:pt x="507" y="463"/>
                      </a:lnTo>
                      <a:lnTo>
                        <a:pt x="481" y="461"/>
                      </a:lnTo>
                      <a:lnTo>
                        <a:pt x="430" y="454"/>
                      </a:lnTo>
                      <a:lnTo>
                        <a:pt x="405" y="449"/>
                      </a:lnTo>
                      <a:lnTo>
                        <a:pt x="381" y="442"/>
                      </a:lnTo>
                      <a:lnTo>
                        <a:pt x="335" y="426"/>
                      </a:lnTo>
                      <a:lnTo>
                        <a:pt x="288" y="403"/>
                      </a:lnTo>
                      <a:lnTo>
                        <a:pt x="246" y="378"/>
                      </a:lnTo>
                      <a:lnTo>
                        <a:pt x="204" y="346"/>
                      </a:lnTo>
                      <a:lnTo>
                        <a:pt x="167" y="312"/>
                      </a:lnTo>
                      <a:lnTo>
                        <a:pt x="150" y="294"/>
                      </a:lnTo>
                      <a:lnTo>
                        <a:pt x="135" y="277"/>
                      </a:lnTo>
                      <a:lnTo>
                        <a:pt x="120" y="259"/>
                      </a:lnTo>
                      <a:lnTo>
                        <a:pt x="108" y="242"/>
                      </a:lnTo>
                      <a:lnTo>
                        <a:pt x="94" y="223"/>
                      </a:lnTo>
                      <a:lnTo>
                        <a:pt x="83" y="205"/>
                      </a:lnTo>
                      <a:lnTo>
                        <a:pt x="64" y="167"/>
                      </a:lnTo>
                      <a:lnTo>
                        <a:pt x="45" y="127"/>
                      </a:lnTo>
                      <a:lnTo>
                        <a:pt x="33" y="86"/>
                      </a:lnTo>
                      <a:lnTo>
                        <a:pt x="23" y="4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681880" y="3961800"/>
                  <a:ext cx="181080" cy="141480"/>
                </a:xfrm>
                <a:custGeom>
                  <a:avLst/>
                  <a:gdLst/>
                  <a:ahLst/>
                  <a:rect l="l" t="t" r="r" b="b"/>
                  <a:pathLst>
                    <a:path w="635" h="495">
                      <a:moveTo>
                        <a:pt x="20" y="0"/>
                      </a:moveTo>
                      <a:lnTo>
                        <a:pt x="0" y="31"/>
                      </a:lnTo>
                      <a:lnTo>
                        <a:pt x="5" y="74"/>
                      </a:lnTo>
                      <a:lnTo>
                        <a:pt x="15" y="117"/>
                      </a:lnTo>
                      <a:lnTo>
                        <a:pt x="27" y="158"/>
                      </a:lnTo>
                      <a:lnTo>
                        <a:pt x="46" y="198"/>
                      </a:lnTo>
                      <a:lnTo>
                        <a:pt x="65" y="236"/>
                      </a:lnTo>
                      <a:lnTo>
                        <a:pt x="76" y="254"/>
                      </a:lnTo>
                      <a:lnTo>
                        <a:pt x="90" y="273"/>
                      </a:lnTo>
                      <a:lnTo>
                        <a:pt x="102" y="290"/>
                      </a:lnTo>
                      <a:lnTo>
                        <a:pt x="117" y="308"/>
                      </a:lnTo>
                      <a:lnTo>
                        <a:pt x="132" y="325"/>
                      </a:lnTo>
                      <a:lnTo>
                        <a:pt x="149" y="343"/>
                      </a:lnTo>
                      <a:lnTo>
                        <a:pt x="186" y="377"/>
                      </a:lnTo>
                      <a:lnTo>
                        <a:pt x="228" y="409"/>
                      </a:lnTo>
                      <a:lnTo>
                        <a:pt x="270" y="434"/>
                      </a:lnTo>
                      <a:lnTo>
                        <a:pt x="317" y="457"/>
                      </a:lnTo>
                      <a:lnTo>
                        <a:pt x="363" y="473"/>
                      </a:lnTo>
                      <a:lnTo>
                        <a:pt x="387" y="480"/>
                      </a:lnTo>
                      <a:lnTo>
                        <a:pt x="412" y="485"/>
                      </a:lnTo>
                      <a:lnTo>
                        <a:pt x="463" y="492"/>
                      </a:lnTo>
                      <a:lnTo>
                        <a:pt x="489" y="494"/>
                      </a:lnTo>
                      <a:lnTo>
                        <a:pt x="516" y="495"/>
                      </a:lnTo>
                      <a:lnTo>
                        <a:pt x="564" y="493"/>
                      </a:lnTo>
                      <a:lnTo>
                        <a:pt x="611" y="487"/>
                      </a:lnTo>
                      <a:lnTo>
                        <a:pt x="635" y="460"/>
                      </a:lnTo>
                      <a:lnTo>
                        <a:pt x="606" y="466"/>
                      </a:lnTo>
                      <a:lnTo>
                        <a:pt x="576" y="470"/>
                      </a:lnTo>
                      <a:lnTo>
                        <a:pt x="546" y="473"/>
                      </a:lnTo>
                      <a:lnTo>
                        <a:pt x="516" y="474"/>
                      </a:lnTo>
                      <a:lnTo>
                        <a:pt x="465" y="472"/>
                      </a:lnTo>
                      <a:lnTo>
                        <a:pt x="416" y="465"/>
                      </a:lnTo>
                      <a:lnTo>
                        <a:pt x="369" y="453"/>
                      </a:lnTo>
                      <a:lnTo>
                        <a:pt x="325" y="438"/>
                      </a:lnTo>
                      <a:lnTo>
                        <a:pt x="280" y="417"/>
                      </a:lnTo>
                      <a:lnTo>
                        <a:pt x="241" y="392"/>
                      </a:lnTo>
                      <a:lnTo>
                        <a:pt x="201" y="363"/>
                      </a:lnTo>
                      <a:lnTo>
                        <a:pt x="165" y="329"/>
                      </a:lnTo>
                      <a:lnTo>
                        <a:pt x="131" y="292"/>
                      </a:lnTo>
                      <a:lnTo>
                        <a:pt x="116" y="273"/>
                      </a:lnTo>
                      <a:lnTo>
                        <a:pt x="103" y="255"/>
                      </a:lnTo>
                      <a:lnTo>
                        <a:pt x="78" y="216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1" y="92"/>
                      </a:lnTo>
                      <a:lnTo>
                        <a:pt x="22" y="46"/>
                      </a:lnTo>
                      <a:lnTo>
                        <a:pt x="20" y="2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7560" y="4073400"/>
                  <a:ext cx="79200" cy="59760"/>
                </a:xfrm>
                <a:custGeom>
                  <a:avLst/>
                  <a:gdLst/>
                  <a:ahLst/>
                  <a:rect l="l" t="t" r="r" b="b"/>
                  <a:pathLst>
                    <a:path w="276" h="211">
                      <a:moveTo>
                        <a:pt x="54" y="61"/>
                      </a:moveTo>
                      <a:lnTo>
                        <a:pt x="26" y="30"/>
                      </a:lnTo>
                      <a:lnTo>
                        <a:pt x="0" y="0"/>
                      </a:lnTo>
                      <a:lnTo>
                        <a:pt x="15" y="26"/>
                      </a:lnTo>
                      <a:lnTo>
                        <a:pt x="32" y="53"/>
                      </a:lnTo>
                      <a:lnTo>
                        <a:pt x="51" y="78"/>
                      </a:lnTo>
                      <a:lnTo>
                        <a:pt x="75" y="104"/>
                      </a:lnTo>
                      <a:lnTo>
                        <a:pt x="96" y="123"/>
                      </a:lnTo>
                      <a:lnTo>
                        <a:pt x="119" y="143"/>
                      </a:lnTo>
                      <a:lnTo>
                        <a:pt x="143" y="159"/>
                      </a:lnTo>
                      <a:lnTo>
                        <a:pt x="168" y="173"/>
                      </a:lnTo>
                      <a:lnTo>
                        <a:pt x="193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6" y="211"/>
                      </a:lnTo>
                      <a:lnTo>
                        <a:pt x="246" y="197"/>
                      </a:lnTo>
                      <a:lnTo>
                        <a:pt x="216" y="182"/>
                      </a:lnTo>
                      <a:lnTo>
                        <a:pt x="187" y="165"/>
                      </a:lnTo>
                      <a:lnTo>
                        <a:pt x="160" y="148"/>
                      </a:lnTo>
                      <a:lnTo>
                        <a:pt x="131" y="128"/>
                      </a:lnTo>
                      <a:lnTo>
                        <a:pt x="105" y="108"/>
                      </a:lnTo>
                      <a:lnTo>
                        <a:pt x="79" y="85"/>
                      </a:lnTo>
                      <a:lnTo>
                        <a:pt x="54" y="61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70360" y="4051800"/>
                  <a:ext cx="11124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2">
                      <a:moveTo>
                        <a:pt x="27" y="76"/>
                      </a:moveTo>
                      <a:lnTo>
                        <a:pt x="53" y="106"/>
                      </a:lnTo>
                      <a:lnTo>
                        <a:pt x="81" y="137"/>
                      </a:lnTo>
                      <a:lnTo>
                        <a:pt x="106" y="161"/>
                      </a:lnTo>
                      <a:lnTo>
                        <a:pt x="132" y="184"/>
                      </a:lnTo>
                      <a:lnTo>
                        <a:pt x="158" y="204"/>
                      </a:lnTo>
                      <a:lnTo>
                        <a:pt x="187" y="224"/>
                      </a:lnTo>
                      <a:lnTo>
                        <a:pt x="214" y="241"/>
                      </a:lnTo>
                      <a:lnTo>
                        <a:pt x="243" y="258"/>
                      </a:lnTo>
                      <a:lnTo>
                        <a:pt x="273" y="273"/>
                      </a:lnTo>
                      <a:lnTo>
                        <a:pt x="303" y="287"/>
                      </a:lnTo>
                      <a:lnTo>
                        <a:pt x="336" y="290"/>
                      </a:lnTo>
                      <a:lnTo>
                        <a:pt x="373" y="292"/>
                      </a:lnTo>
                      <a:lnTo>
                        <a:pt x="391" y="292"/>
                      </a:lnTo>
                      <a:lnTo>
                        <a:pt x="349" y="280"/>
                      </a:lnTo>
                      <a:lnTo>
                        <a:pt x="309" y="265"/>
                      </a:lnTo>
                      <a:lnTo>
                        <a:pt x="271" y="247"/>
                      </a:lnTo>
                      <a:lnTo>
                        <a:pt x="234" y="228"/>
                      </a:lnTo>
                      <a:lnTo>
                        <a:pt x="197" y="204"/>
                      </a:lnTo>
                      <a:lnTo>
                        <a:pt x="162" y="180"/>
                      </a:lnTo>
                      <a:lnTo>
                        <a:pt x="128" y="152"/>
                      </a:lnTo>
                      <a:lnTo>
                        <a:pt x="96" y="122"/>
                      </a:lnTo>
                      <a:lnTo>
                        <a:pt x="68" y="92"/>
                      </a:lnTo>
                      <a:lnTo>
                        <a:pt x="43" y="62"/>
                      </a:lnTo>
                      <a:lnTo>
                        <a:pt x="19" y="30"/>
                      </a:lnTo>
                      <a:lnTo>
                        <a:pt x="0" y="0"/>
                      </a:lnTo>
                      <a:lnTo>
                        <a:pt x="11" y="38"/>
                      </a:lnTo>
                      <a:lnTo>
                        <a:pt x="18" y="57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667480" y="403452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9" h="352">
                      <a:moveTo>
                        <a:pt x="10" y="60"/>
                      </a:moveTo>
                      <a:lnTo>
                        <a:pt x="29" y="90"/>
                      </a:lnTo>
                      <a:lnTo>
                        <a:pt x="53" y="122"/>
                      </a:lnTo>
                      <a:lnTo>
                        <a:pt x="78" y="152"/>
                      </a:lnTo>
                      <a:lnTo>
                        <a:pt x="106" y="182"/>
                      </a:lnTo>
                      <a:lnTo>
                        <a:pt x="138" y="212"/>
                      </a:lnTo>
                      <a:lnTo>
                        <a:pt x="172" y="240"/>
                      </a:lnTo>
                      <a:lnTo>
                        <a:pt x="207" y="264"/>
                      </a:lnTo>
                      <a:lnTo>
                        <a:pt x="244" y="288"/>
                      </a:lnTo>
                      <a:lnTo>
                        <a:pt x="281" y="307"/>
                      </a:lnTo>
                      <a:lnTo>
                        <a:pt x="319" y="325"/>
                      </a:lnTo>
                      <a:lnTo>
                        <a:pt x="359" y="340"/>
                      </a:lnTo>
                      <a:lnTo>
                        <a:pt x="401" y="352"/>
                      </a:lnTo>
                      <a:lnTo>
                        <a:pt x="435" y="349"/>
                      </a:lnTo>
                      <a:lnTo>
                        <a:pt x="469" y="343"/>
                      </a:lnTo>
                      <a:lnTo>
                        <a:pt x="419" y="333"/>
                      </a:lnTo>
                      <a:lnTo>
                        <a:pt x="371" y="321"/>
                      </a:lnTo>
                      <a:lnTo>
                        <a:pt x="325" y="304"/>
                      </a:lnTo>
                      <a:lnTo>
                        <a:pt x="282" y="284"/>
                      </a:lnTo>
                      <a:lnTo>
                        <a:pt x="239" y="259"/>
                      </a:lnTo>
                      <a:lnTo>
                        <a:pt x="198" y="232"/>
                      </a:lnTo>
                      <a:lnTo>
                        <a:pt x="158" y="200"/>
                      </a:lnTo>
                      <a:lnTo>
                        <a:pt x="122" y="166"/>
                      </a:lnTo>
                      <a:lnTo>
                        <a:pt x="84" y="127"/>
                      </a:lnTo>
                      <a:lnTo>
                        <a:pt x="53" y="86"/>
                      </a:lnTo>
                      <a:lnTo>
                        <a:pt x="23" y="43"/>
                      </a:lnTo>
                      <a:lnTo>
                        <a:pt x="0" y="0"/>
                      </a:lnTo>
                      <a:lnTo>
                        <a:pt x="4" y="29"/>
                      </a:lnTo>
                      <a:lnTo>
                        <a:pt x="10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667480" y="3915720"/>
                  <a:ext cx="218880" cy="219240"/>
                </a:xfrm>
                <a:custGeom>
                  <a:avLst/>
                  <a:gdLst/>
                  <a:ahLst/>
                  <a:rect l="l" t="t" r="r" b="b"/>
                  <a:pathLst>
                    <a:path w="768" h="767">
                      <a:moveTo>
                        <a:pt x="384" y="0"/>
                      </a:moveTo>
                      <a:lnTo>
                        <a:pt x="344" y="1"/>
                      </a:lnTo>
                      <a:lnTo>
                        <a:pt x="306" y="7"/>
                      </a:lnTo>
                      <a:lnTo>
                        <a:pt x="270" y="15"/>
                      </a:lnTo>
                      <a:lnTo>
                        <a:pt x="236" y="27"/>
                      </a:lnTo>
                      <a:lnTo>
                        <a:pt x="202" y="42"/>
                      </a:lnTo>
                      <a:lnTo>
                        <a:pt x="170" y="62"/>
                      </a:lnTo>
                      <a:lnTo>
                        <a:pt x="140" y="85"/>
                      </a:lnTo>
                      <a:lnTo>
                        <a:pt x="113" y="112"/>
                      </a:lnTo>
                      <a:lnTo>
                        <a:pt x="85" y="139"/>
                      </a:lnTo>
                      <a:lnTo>
                        <a:pt x="63" y="170"/>
                      </a:lnTo>
                      <a:lnTo>
                        <a:pt x="42" y="202"/>
                      </a:lnTo>
                      <a:lnTo>
                        <a:pt x="28" y="236"/>
                      </a:lnTo>
                      <a:lnTo>
                        <a:pt x="15" y="270"/>
                      </a:lnTo>
                      <a:lnTo>
                        <a:pt x="7" y="306"/>
                      </a:lnTo>
                      <a:lnTo>
                        <a:pt x="1" y="343"/>
                      </a:lnTo>
                      <a:lnTo>
                        <a:pt x="0" y="383"/>
                      </a:lnTo>
                      <a:lnTo>
                        <a:pt x="1" y="422"/>
                      </a:lnTo>
                      <a:lnTo>
                        <a:pt x="7" y="459"/>
                      </a:lnTo>
                      <a:lnTo>
                        <a:pt x="15" y="495"/>
                      </a:lnTo>
                      <a:lnTo>
                        <a:pt x="28" y="530"/>
                      </a:lnTo>
                      <a:lnTo>
                        <a:pt x="42" y="563"/>
                      </a:lnTo>
                      <a:lnTo>
                        <a:pt x="63" y="595"/>
                      </a:lnTo>
                      <a:lnTo>
                        <a:pt x="73" y="610"/>
                      </a:lnTo>
                      <a:lnTo>
                        <a:pt x="85" y="626"/>
                      </a:lnTo>
                      <a:lnTo>
                        <a:pt x="113" y="655"/>
                      </a:lnTo>
                      <a:lnTo>
                        <a:pt x="140" y="680"/>
                      </a:lnTo>
                      <a:lnTo>
                        <a:pt x="170" y="703"/>
                      </a:lnTo>
                      <a:lnTo>
                        <a:pt x="202" y="722"/>
                      </a:lnTo>
                      <a:lnTo>
                        <a:pt x="236" y="739"/>
                      </a:lnTo>
                      <a:lnTo>
                        <a:pt x="270" y="750"/>
                      </a:lnTo>
                      <a:lnTo>
                        <a:pt x="306" y="759"/>
                      </a:lnTo>
                      <a:lnTo>
                        <a:pt x="344" y="765"/>
                      </a:lnTo>
                      <a:lnTo>
                        <a:pt x="384" y="767"/>
                      </a:lnTo>
                      <a:lnTo>
                        <a:pt x="422" y="765"/>
                      </a:lnTo>
                      <a:lnTo>
                        <a:pt x="440" y="762"/>
                      </a:lnTo>
                      <a:lnTo>
                        <a:pt x="460" y="759"/>
                      </a:lnTo>
                      <a:lnTo>
                        <a:pt x="496" y="750"/>
                      </a:lnTo>
                      <a:lnTo>
                        <a:pt x="499" y="748"/>
                      </a:lnTo>
                      <a:lnTo>
                        <a:pt x="504" y="747"/>
                      </a:lnTo>
                      <a:lnTo>
                        <a:pt x="513" y="745"/>
                      </a:lnTo>
                      <a:lnTo>
                        <a:pt x="531" y="739"/>
                      </a:lnTo>
                      <a:lnTo>
                        <a:pt x="547" y="730"/>
                      </a:lnTo>
                      <a:lnTo>
                        <a:pt x="555" y="725"/>
                      </a:lnTo>
                      <a:lnTo>
                        <a:pt x="564" y="722"/>
                      </a:lnTo>
                      <a:lnTo>
                        <a:pt x="596" y="703"/>
                      </a:lnTo>
                      <a:lnTo>
                        <a:pt x="610" y="691"/>
                      </a:lnTo>
                      <a:lnTo>
                        <a:pt x="626" y="680"/>
                      </a:lnTo>
                      <a:lnTo>
                        <a:pt x="656" y="655"/>
                      </a:lnTo>
                      <a:lnTo>
                        <a:pt x="681" y="626"/>
                      </a:lnTo>
                      <a:lnTo>
                        <a:pt x="692" y="610"/>
                      </a:lnTo>
                      <a:lnTo>
                        <a:pt x="703" y="595"/>
                      </a:lnTo>
                      <a:lnTo>
                        <a:pt x="723" y="563"/>
                      </a:lnTo>
                      <a:lnTo>
                        <a:pt x="726" y="554"/>
                      </a:lnTo>
                      <a:lnTo>
                        <a:pt x="731" y="546"/>
                      </a:lnTo>
                      <a:lnTo>
                        <a:pt x="740" y="530"/>
                      </a:lnTo>
                      <a:lnTo>
                        <a:pt x="745" y="512"/>
                      </a:lnTo>
                      <a:lnTo>
                        <a:pt x="748" y="503"/>
                      </a:lnTo>
                      <a:lnTo>
                        <a:pt x="749" y="499"/>
                      </a:lnTo>
                      <a:lnTo>
                        <a:pt x="751" y="495"/>
                      </a:lnTo>
                      <a:lnTo>
                        <a:pt x="760" y="459"/>
                      </a:lnTo>
                      <a:lnTo>
                        <a:pt x="762" y="440"/>
                      </a:lnTo>
                      <a:lnTo>
                        <a:pt x="766" y="422"/>
                      </a:lnTo>
                      <a:lnTo>
                        <a:pt x="768" y="383"/>
                      </a:lnTo>
                      <a:lnTo>
                        <a:pt x="766" y="343"/>
                      </a:lnTo>
                      <a:lnTo>
                        <a:pt x="760" y="306"/>
                      </a:lnTo>
                      <a:lnTo>
                        <a:pt x="751" y="270"/>
                      </a:lnTo>
                      <a:lnTo>
                        <a:pt x="740" y="236"/>
                      </a:lnTo>
                      <a:lnTo>
                        <a:pt x="723" y="202"/>
                      </a:lnTo>
                      <a:lnTo>
                        <a:pt x="703" y="170"/>
                      </a:lnTo>
                      <a:lnTo>
                        <a:pt x="681" y="139"/>
                      </a:lnTo>
                      <a:lnTo>
                        <a:pt x="656" y="112"/>
                      </a:lnTo>
                      <a:lnTo>
                        <a:pt x="626" y="85"/>
                      </a:lnTo>
                      <a:lnTo>
                        <a:pt x="610" y="72"/>
                      </a:lnTo>
                      <a:lnTo>
                        <a:pt x="596" y="62"/>
                      </a:lnTo>
                      <a:lnTo>
                        <a:pt x="564" y="42"/>
                      </a:lnTo>
                      <a:lnTo>
                        <a:pt x="531" y="27"/>
                      </a:lnTo>
                      <a:lnTo>
                        <a:pt x="496" y="15"/>
                      </a:lnTo>
                      <a:lnTo>
                        <a:pt x="460" y="7"/>
                      </a:lnTo>
                      <a:lnTo>
                        <a:pt x="422" y="1"/>
                      </a:lnTo>
                      <a:lnTo>
                        <a:pt x="3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25800" y="4015080"/>
                  <a:ext cx="10116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31560" y="4020840"/>
                  <a:ext cx="89640" cy="14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480360" y="398376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333" h="306">
                      <a:moveTo>
                        <a:pt x="66" y="26"/>
                      </a:moveTo>
                      <a:lnTo>
                        <a:pt x="92" y="5"/>
                      </a:lnTo>
                      <a:lnTo>
                        <a:pt x="62" y="0"/>
                      </a:lnTo>
                      <a:lnTo>
                        <a:pt x="51" y="11"/>
                      </a:lnTo>
                      <a:lnTo>
                        <a:pt x="27" y="37"/>
                      </a:lnTo>
                      <a:lnTo>
                        <a:pt x="18" y="51"/>
                      </a:lnTo>
                      <a:lnTo>
                        <a:pt x="12" y="67"/>
                      </a:lnTo>
                      <a:lnTo>
                        <a:pt x="5" y="81"/>
                      </a:lnTo>
                      <a:lnTo>
                        <a:pt x="2" y="98"/>
                      </a:lnTo>
                      <a:lnTo>
                        <a:pt x="0" y="134"/>
                      </a:lnTo>
                      <a:lnTo>
                        <a:pt x="0" y="149"/>
                      </a:lnTo>
                      <a:lnTo>
                        <a:pt x="2" y="166"/>
                      </a:lnTo>
                      <a:lnTo>
                        <a:pt x="5" y="182"/>
                      </a:lnTo>
                      <a:lnTo>
                        <a:pt x="12" y="199"/>
                      </a:lnTo>
                      <a:lnTo>
                        <a:pt x="18" y="213"/>
                      </a:lnTo>
                      <a:lnTo>
                        <a:pt x="27" y="228"/>
                      </a:lnTo>
                      <a:lnTo>
                        <a:pt x="37" y="241"/>
                      </a:lnTo>
                      <a:lnTo>
                        <a:pt x="51" y="255"/>
                      </a:lnTo>
                      <a:lnTo>
                        <a:pt x="63" y="266"/>
                      </a:lnTo>
                      <a:lnTo>
                        <a:pt x="77" y="276"/>
                      </a:lnTo>
                      <a:lnTo>
                        <a:pt x="91" y="284"/>
                      </a:lnTo>
                      <a:lnTo>
                        <a:pt x="106" y="292"/>
                      </a:lnTo>
                      <a:lnTo>
                        <a:pt x="121" y="298"/>
                      </a:lnTo>
                      <a:lnTo>
                        <a:pt x="138" y="302"/>
                      </a:lnTo>
                      <a:lnTo>
                        <a:pt x="155" y="305"/>
                      </a:lnTo>
                      <a:lnTo>
                        <a:pt x="173" y="306"/>
                      </a:lnTo>
                      <a:lnTo>
                        <a:pt x="189" y="305"/>
                      </a:lnTo>
                      <a:lnTo>
                        <a:pt x="206" y="302"/>
                      </a:lnTo>
                      <a:lnTo>
                        <a:pt x="222" y="298"/>
                      </a:lnTo>
                      <a:lnTo>
                        <a:pt x="225" y="296"/>
                      </a:lnTo>
                      <a:lnTo>
                        <a:pt x="230" y="295"/>
                      </a:lnTo>
                      <a:lnTo>
                        <a:pt x="239" y="292"/>
                      </a:lnTo>
                      <a:lnTo>
                        <a:pt x="253" y="284"/>
                      </a:lnTo>
                      <a:lnTo>
                        <a:pt x="259" y="280"/>
                      </a:lnTo>
                      <a:lnTo>
                        <a:pt x="263" y="278"/>
                      </a:lnTo>
                      <a:lnTo>
                        <a:pt x="267" y="276"/>
                      </a:lnTo>
                      <a:lnTo>
                        <a:pt x="281" y="266"/>
                      </a:lnTo>
                      <a:lnTo>
                        <a:pt x="296" y="255"/>
                      </a:lnTo>
                      <a:lnTo>
                        <a:pt x="307" y="241"/>
                      </a:lnTo>
                      <a:lnTo>
                        <a:pt x="312" y="234"/>
                      </a:lnTo>
                      <a:lnTo>
                        <a:pt x="314" y="231"/>
                      </a:lnTo>
                      <a:lnTo>
                        <a:pt x="317" y="229"/>
                      </a:lnTo>
                      <a:lnTo>
                        <a:pt x="318" y="224"/>
                      </a:lnTo>
                      <a:lnTo>
                        <a:pt x="321" y="221"/>
                      </a:lnTo>
                      <a:lnTo>
                        <a:pt x="325" y="214"/>
                      </a:lnTo>
                      <a:lnTo>
                        <a:pt x="333" y="200"/>
                      </a:lnTo>
                      <a:lnTo>
                        <a:pt x="325" y="187"/>
                      </a:lnTo>
                      <a:lnTo>
                        <a:pt x="318" y="175"/>
                      </a:lnTo>
                      <a:lnTo>
                        <a:pt x="314" y="183"/>
                      </a:lnTo>
                      <a:lnTo>
                        <a:pt x="310" y="192"/>
                      </a:lnTo>
                      <a:lnTo>
                        <a:pt x="306" y="200"/>
                      </a:lnTo>
                      <a:lnTo>
                        <a:pt x="303" y="209"/>
                      </a:lnTo>
                      <a:lnTo>
                        <a:pt x="297" y="216"/>
                      </a:lnTo>
                      <a:lnTo>
                        <a:pt x="292" y="224"/>
                      </a:lnTo>
                      <a:lnTo>
                        <a:pt x="280" y="240"/>
                      </a:lnTo>
                      <a:lnTo>
                        <a:pt x="267" y="249"/>
                      </a:lnTo>
                      <a:lnTo>
                        <a:pt x="256" y="258"/>
                      </a:lnTo>
                      <a:lnTo>
                        <a:pt x="242" y="266"/>
                      </a:lnTo>
                      <a:lnTo>
                        <a:pt x="230" y="273"/>
                      </a:lnTo>
                      <a:lnTo>
                        <a:pt x="215" y="278"/>
                      </a:lnTo>
                      <a:lnTo>
                        <a:pt x="202" y="281"/>
                      </a:lnTo>
                      <a:lnTo>
                        <a:pt x="187" y="283"/>
                      </a:lnTo>
                      <a:lnTo>
                        <a:pt x="173" y="284"/>
                      </a:lnTo>
                      <a:lnTo>
                        <a:pt x="157" y="283"/>
                      </a:lnTo>
                      <a:lnTo>
                        <a:pt x="143" y="281"/>
                      </a:lnTo>
                      <a:lnTo>
                        <a:pt x="128" y="278"/>
                      </a:lnTo>
                      <a:lnTo>
                        <a:pt x="114" y="273"/>
                      </a:lnTo>
                      <a:lnTo>
                        <a:pt x="101" y="266"/>
                      </a:lnTo>
                      <a:lnTo>
                        <a:pt x="88" y="258"/>
                      </a:lnTo>
                      <a:lnTo>
                        <a:pt x="66" y="240"/>
                      </a:lnTo>
                      <a:lnTo>
                        <a:pt x="54" y="228"/>
                      </a:lnTo>
                      <a:lnTo>
                        <a:pt x="45" y="216"/>
                      </a:lnTo>
                      <a:lnTo>
                        <a:pt x="37" y="203"/>
                      </a:lnTo>
                      <a:lnTo>
                        <a:pt x="32" y="190"/>
                      </a:lnTo>
                      <a:lnTo>
                        <a:pt x="26" y="175"/>
                      </a:lnTo>
                      <a:lnTo>
                        <a:pt x="24" y="162"/>
                      </a:lnTo>
                      <a:lnTo>
                        <a:pt x="21" y="147"/>
                      </a:lnTo>
                      <a:lnTo>
                        <a:pt x="21" y="134"/>
                      </a:lnTo>
                      <a:lnTo>
                        <a:pt x="24" y="103"/>
                      </a:lnTo>
                      <a:lnTo>
                        <a:pt x="32" y="75"/>
                      </a:lnTo>
                      <a:lnTo>
                        <a:pt x="45" y="48"/>
                      </a:lnTo>
                      <a:lnTo>
                        <a:pt x="54" y="36"/>
                      </a:lnTo>
                      <a:lnTo>
                        <a:pt x="66" y="26"/>
                      </a:lnTo>
                      <a:close/>
                    </a:path>
                  </a:pathLst>
                </a:custGeom>
                <a:solidFill>
                  <a:srgbClr val="00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486480" y="3985200"/>
                  <a:ext cx="84600" cy="79200"/>
                </a:xfrm>
                <a:custGeom>
                  <a:avLst/>
                  <a:gdLst/>
                  <a:ahLst/>
                  <a:rect l="l" t="t" r="r" b="b"/>
                  <a:pathLst>
                    <a:path w="297" h="279">
                      <a:moveTo>
                        <a:pt x="71" y="0"/>
                      </a:moveTo>
                      <a:lnTo>
                        <a:pt x="45" y="21"/>
                      </a:lnTo>
                      <a:lnTo>
                        <a:pt x="33" y="31"/>
                      </a:lnTo>
                      <a:lnTo>
                        <a:pt x="24" y="43"/>
                      </a:lnTo>
                      <a:lnTo>
                        <a:pt x="11" y="70"/>
                      </a:lnTo>
                      <a:lnTo>
                        <a:pt x="3" y="98"/>
                      </a:lnTo>
                      <a:lnTo>
                        <a:pt x="0" y="129"/>
                      </a:lnTo>
                      <a:lnTo>
                        <a:pt x="0" y="142"/>
                      </a:lnTo>
                      <a:lnTo>
                        <a:pt x="3" y="157"/>
                      </a:lnTo>
                      <a:lnTo>
                        <a:pt x="5" y="170"/>
                      </a:lnTo>
                      <a:lnTo>
                        <a:pt x="11" y="185"/>
                      </a:lnTo>
                      <a:lnTo>
                        <a:pt x="16" y="198"/>
                      </a:lnTo>
                      <a:lnTo>
                        <a:pt x="24" y="211"/>
                      </a:lnTo>
                      <a:lnTo>
                        <a:pt x="33" y="223"/>
                      </a:lnTo>
                      <a:lnTo>
                        <a:pt x="45" y="235"/>
                      </a:lnTo>
                      <a:lnTo>
                        <a:pt x="67" y="253"/>
                      </a:lnTo>
                      <a:lnTo>
                        <a:pt x="80" y="261"/>
                      </a:lnTo>
                      <a:lnTo>
                        <a:pt x="93" y="268"/>
                      </a:lnTo>
                      <a:lnTo>
                        <a:pt x="107" y="273"/>
                      </a:lnTo>
                      <a:lnTo>
                        <a:pt x="122" y="276"/>
                      </a:lnTo>
                      <a:lnTo>
                        <a:pt x="136" y="278"/>
                      </a:lnTo>
                      <a:lnTo>
                        <a:pt x="152" y="279"/>
                      </a:lnTo>
                      <a:lnTo>
                        <a:pt x="166" y="278"/>
                      </a:lnTo>
                      <a:lnTo>
                        <a:pt x="181" y="276"/>
                      </a:lnTo>
                      <a:lnTo>
                        <a:pt x="194" y="273"/>
                      </a:lnTo>
                      <a:lnTo>
                        <a:pt x="209" y="268"/>
                      </a:lnTo>
                      <a:lnTo>
                        <a:pt x="221" y="261"/>
                      </a:lnTo>
                      <a:lnTo>
                        <a:pt x="235" y="253"/>
                      </a:lnTo>
                      <a:lnTo>
                        <a:pt x="246" y="244"/>
                      </a:lnTo>
                      <a:lnTo>
                        <a:pt x="259" y="235"/>
                      </a:lnTo>
                      <a:lnTo>
                        <a:pt x="271" y="219"/>
                      </a:lnTo>
                      <a:lnTo>
                        <a:pt x="276" y="211"/>
                      </a:lnTo>
                      <a:lnTo>
                        <a:pt x="282" y="204"/>
                      </a:lnTo>
                      <a:lnTo>
                        <a:pt x="285" y="195"/>
                      </a:lnTo>
                      <a:lnTo>
                        <a:pt x="289" y="187"/>
                      </a:lnTo>
                      <a:lnTo>
                        <a:pt x="293" y="178"/>
                      </a:lnTo>
                      <a:lnTo>
                        <a:pt x="297" y="170"/>
                      </a:lnTo>
                      <a:lnTo>
                        <a:pt x="280" y="146"/>
                      </a:lnTo>
                      <a:lnTo>
                        <a:pt x="277" y="155"/>
                      </a:lnTo>
                      <a:lnTo>
                        <a:pt x="275" y="165"/>
                      </a:lnTo>
                      <a:lnTo>
                        <a:pt x="271" y="174"/>
                      </a:lnTo>
                      <a:lnTo>
                        <a:pt x="269" y="178"/>
                      </a:lnTo>
                      <a:lnTo>
                        <a:pt x="268" y="181"/>
                      </a:lnTo>
                      <a:lnTo>
                        <a:pt x="268" y="184"/>
                      </a:lnTo>
                      <a:lnTo>
                        <a:pt x="257" y="202"/>
                      </a:lnTo>
                      <a:lnTo>
                        <a:pt x="250" y="210"/>
                      </a:lnTo>
                      <a:lnTo>
                        <a:pt x="244" y="219"/>
                      </a:lnTo>
                      <a:lnTo>
                        <a:pt x="233" y="227"/>
                      </a:lnTo>
                      <a:lnTo>
                        <a:pt x="231" y="227"/>
                      </a:lnTo>
                      <a:lnTo>
                        <a:pt x="229" y="227"/>
                      </a:lnTo>
                      <a:lnTo>
                        <a:pt x="229" y="228"/>
                      </a:lnTo>
                      <a:lnTo>
                        <a:pt x="227" y="231"/>
                      </a:lnTo>
                      <a:lnTo>
                        <a:pt x="223" y="235"/>
                      </a:lnTo>
                      <a:lnTo>
                        <a:pt x="211" y="242"/>
                      </a:lnTo>
                      <a:lnTo>
                        <a:pt x="206" y="244"/>
                      </a:lnTo>
                      <a:lnTo>
                        <a:pt x="201" y="248"/>
                      </a:lnTo>
                      <a:lnTo>
                        <a:pt x="194" y="249"/>
                      </a:lnTo>
                      <a:lnTo>
                        <a:pt x="189" y="251"/>
                      </a:lnTo>
                      <a:lnTo>
                        <a:pt x="177" y="254"/>
                      </a:lnTo>
                      <a:lnTo>
                        <a:pt x="164" y="257"/>
                      </a:lnTo>
                      <a:lnTo>
                        <a:pt x="152" y="258"/>
                      </a:lnTo>
                      <a:lnTo>
                        <a:pt x="139" y="257"/>
                      </a:lnTo>
                      <a:lnTo>
                        <a:pt x="125" y="254"/>
                      </a:lnTo>
                      <a:lnTo>
                        <a:pt x="101" y="248"/>
                      </a:lnTo>
                      <a:lnTo>
                        <a:pt x="90" y="242"/>
                      </a:lnTo>
                      <a:lnTo>
                        <a:pt x="80" y="235"/>
                      </a:lnTo>
                      <a:lnTo>
                        <a:pt x="60" y="219"/>
                      </a:lnTo>
                      <a:lnTo>
                        <a:pt x="42" y="199"/>
                      </a:lnTo>
                      <a:lnTo>
                        <a:pt x="36" y="187"/>
                      </a:lnTo>
                      <a:lnTo>
                        <a:pt x="31" y="177"/>
                      </a:lnTo>
                      <a:lnTo>
                        <a:pt x="26" y="165"/>
                      </a:lnTo>
                      <a:lnTo>
                        <a:pt x="24" y="153"/>
                      </a:lnTo>
                      <a:lnTo>
                        <a:pt x="22" y="129"/>
                      </a:lnTo>
                      <a:lnTo>
                        <a:pt x="24" y="101"/>
                      </a:lnTo>
                      <a:lnTo>
                        <a:pt x="31" y="78"/>
                      </a:lnTo>
                      <a:lnTo>
                        <a:pt x="42" y="56"/>
                      </a:lnTo>
                      <a:lnTo>
                        <a:pt x="60" y="37"/>
                      </a:lnTo>
                      <a:lnTo>
                        <a:pt x="77" y="21"/>
                      </a:lnTo>
                      <a:lnTo>
                        <a:pt x="99" y="9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473880" y="3982320"/>
                  <a:ext cx="104400" cy="94680"/>
                </a:xfrm>
                <a:custGeom>
                  <a:avLst/>
                  <a:gdLst/>
                  <a:ahLst/>
                  <a:rect l="l" t="t" r="r" b="b"/>
                  <a:pathLst>
                    <a:path w="367" h="331">
                      <a:moveTo>
                        <a:pt x="73" y="15"/>
                      </a:moveTo>
                      <a:lnTo>
                        <a:pt x="84" y="4"/>
                      </a:lnTo>
                      <a:lnTo>
                        <a:pt x="57" y="0"/>
                      </a:lnTo>
                      <a:lnTo>
                        <a:pt x="42" y="14"/>
                      </a:lnTo>
                      <a:lnTo>
                        <a:pt x="31" y="30"/>
                      </a:lnTo>
                      <a:lnTo>
                        <a:pt x="14" y="63"/>
                      </a:lnTo>
                      <a:lnTo>
                        <a:pt x="4" y="98"/>
                      </a:lnTo>
                      <a:lnTo>
                        <a:pt x="0" y="138"/>
                      </a:lnTo>
                      <a:lnTo>
                        <a:pt x="0" y="156"/>
                      </a:lnTo>
                      <a:lnTo>
                        <a:pt x="4" y="175"/>
                      </a:lnTo>
                      <a:lnTo>
                        <a:pt x="7" y="193"/>
                      </a:lnTo>
                      <a:lnTo>
                        <a:pt x="14" y="211"/>
                      </a:lnTo>
                      <a:lnTo>
                        <a:pt x="21" y="227"/>
                      </a:lnTo>
                      <a:lnTo>
                        <a:pt x="31" y="244"/>
                      </a:lnTo>
                      <a:lnTo>
                        <a:pt x="42" y="259"/>
                      </a:lnTo>
                      <a:lnTo>
                        <a:pt x="57" y="275"/>
                      </a:lnTo>
                      <a:lnTo>
                        <a:pt x="71" y="287"/>
                      </a:lnTo>
                      <a:lnTo>
                        <a:pt x="86" y="299"/>
                      </a:lnTo>
                      <a:lnTo>
                        <a:pt x="102" y="309"/>
                      </a:lnTo>
                      <a:lnTo>
                        <a:pt x="119" y="317"/>
                      </a:lnTo>
                      <a:lnTo>
                        <a:pt x="136" y="322"/>
                      </a:lnTo>
                      <a:lnTo>
                        <a:pt x="156" y="327"/>
                      </a:lnTo>
                      <a:lnTo>
                        <a:pt x="175" y="330"/>
                      </a:lnTo>
                      <a:lnTo>
                        <a:pt x="195" y="331"/>
                      </a:lnTo>
                      <a:lnTo>
                        <a:pt x="213" y="330"/>
                      </a:lnTo>
                      <a:lnTo>
                        <a:pt x="223" y="328"/>
                      </a:lnTo>
                      <a:lnTo>
                        <a:pt x="227" y="327"/>
                      </a:lnTo>
                      <a:lnTo>
                        <a:pt x="233" y="327"/>
                      </a:lnTo>
                      <a:lnTo>
                        <a:pt x="251" y="322"/>
                      </a:lnTo>
                      <a:lnTo>
                        <a:pt x="269" y="317"/>
                      </a:lnTo>
                      <a:lnTo>
                        <a:pt x="285" y="309"/>
                      </a:lnTo>
                      <a:lnTo>
                        <a:pt x="286" y="306"/>
                      </a:lnTo>
                      <a:lnTo>
                        <a:pt x="288" y="305"/>
                      </a:lnTo>
                      <a:lnTo>
                        <a:pt x="293" y="303"/>
                      </a:lnTo>
                      <a:lnTo>
                        <a:pt x="302" y="299"/>
                      </a:lnTo>
                      <a:lnTo>
                        <a:pt x="317" y="287"/>
                      </a:lnTo>
                      <a:lnTo>
                        <a:pt x="332" y="275"/>
                      </a:lnTo>
                      <a:lnTo>
                        <a:pt x="351" y="252"/>
                      </a:lnTo>
                      <a:lnTo>
                        <a:pt x="367" y="229"/>
                      </a:lnTo>
                      <a:lnTo>
                        <a:pt x="355" y="204"/>
                      </a:lnTo>
                      <a:lnTo>
                        <a:pt x="347" y="218"/>
                      </a:lnTo>
                      <a:lnTo>
                        <a:pt x="343" y="225"/>
                      </a:lnTo>
                      <a:lnTo>
                        <a:pt x="340" y="228"/>
                      </a:lnTo>
                      <a:lnTo>
                        <a:pt x="339" y="233"/>
                      </a:lnTo>
                      <a:lnTo>
                        <a:pt x="336" y="235"/>
                      </a:lnTo>
                      <a:lnTo>
                        <a:pt x="334" y="238"/>
                      </a:lnTo>
                      <a:lnTo>
                        <a:pt x="329" y="245"/>
                      </a:lnTo>
                      <a:lnTo>
                        <a:pt x="318" y="259"/>
                      </a:lnTo>
                      <a:lnTo>
                        <a:pt x="303" y="270"/>
                      </a:lnTo>
                      <a:lnTo>
                        <a:pt x="289" y="280"/>
                      </a:lnTo>
                      <a:lnTo>
                        <a:pt x="285" y="282"/>
                      </a:lnTo>
                      <a:lnTo>
                        <a:pt x="281" y="284"/>
                      </a:lnTo>
                      <a:lnTo>
                        <a:pt x="275" y="288"/>
                      </a:lnTo>
                      <a:lnTo>
                        <a:pt x="261" y="296"/>
                      </a:lnTo>
                      <a:lnTo>
                        <a:pt x="252" y="299"/>
                      </a:lnTo>
                      <a:lnTo>
                        <a:pt x="247" y="300"/>
                      </a:lnTo>
                      <a:lnTo>
                        <a:pt x="244" y="302"/>
                      </a:lnTo>
                      <a:lnTo>
                        <a:pt x="228" y="306"/>
                      </a:lnTo>
                      <a:lnTo>
                        <a:pt x="211" y="309"/>
                      </a:lnTo>
                      <a:lnTo>
                        <a:pt x="195" y="310"/>
                      </a:lnTo>
                      <a:lnTo>
                        <a:pt x="177" y="309"/>
                      </a:lnTo>
                      <a:lnTo>
                        <a:pt x="160" y="306"/>
                      </a:lnTo>
                      <a:lnTo>
                        <a:pt x="143" y="302"/>
                      </a:lnTo>
                      <a:lnTo>
                        <a:pt x="128" y="296"/>
                      </a:lnTo>
                      <a:lnTo>
                        <a:pt x="113" y="288"/>
                      </a:lnTo>
                      <a:lnTo>
                        <a:pt x="99" y="280"/>
                      </a:lnTo>
                      <a:lnTo>
                        <a:pt x="85" y="270"/>
                      </a:lnTo>
                      <a:lnTo>
                        <a:pt x="73" y="259"/>
                      </a:lnTo>
                      <a:lnTo>
                        <a:pt x="59" y="245"/>
                      </a:lnTo>
                      <a:lnTo>
                        <a:pt x="49" y="232"/>
                      </a:lnTo>
                      <a:lnTo>
                        <a:pt x="40" y="217"/>
                      </a:lnTo>
                      <a:lnTo>
                        <a:pt x="34" y="203"/>
                      </a:lnTo>
                      <a:lnTo>
                        <a:pt x="27" y="186"/>
                      </a:lnTo>
                      <a:lnTo>
                        <a:pt x="24" y="170"/>
                      </a:lnTo>
                      <a:lnTo>
                        <a:pt x="22" y="153"/>
                      </a:lnTo>
                      <a:lnTo>
                        <a:pt x="22" y="138"/>
                      </a:lnTo>
                      <a:lnTo>
                        <a:pt x="24" y="102"/>
                      </a:lnTo>
                      <a:lnTo>
                        <a:pt x="27" y="85"/>
                      </a:lnTo>
                      <a:lnTo>
                        <a:pt x="34" y="71"/>
                      </a:lnTo>
                      <a:lnTo>
                        <a:pt x="40" y="55"/>
                      </a:lnTo>
                      <a:lnTo>
                        <a:pt x="49" y="41"/>
                      </a:lnTo>
                      <a:lnTo>
                        <a:pt x="73" y="15"/>
                      </a:lnTo>
                      <a:close/>
                    </a:path>
                  </a:pathLst>
                </a:custGeom>
                <a:solidFill>
                  <a:srgbClr val="00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462000" y="3981960"/>
                  <a:ext cx="121680" cy="107280"/>
                </a:xfrm>
                <a:custGeom>
                  <a:avLst/>
                  <a:gdLst/>
                  <a:ahLst/>
                  <a:rect l="l" t="t" r="r" b="b"/>
                  <a:pathLst>
                    <a:path w="428" h="376">
                      <a:moveTo>
                        <a:pt x="56" y="0"/>
                      </a:moveTo>
                      <a:lnTo>
                        <a:pt x="44" y="0"/>
                      </a:lnTo>
                      <a:lnTo>
                        <a:pt x="24" y="31"/>
                      </a:lnTo>
                      <a:lnTo>
                        <a:pt x="16" y="47"/>
                      </a:lnTo>
                      <a:lnTo>
                        <a:pt x="10" y="65"/>
                      </a:lnTo>
                      <a:lnTo>
                        <a:pt x="2" y="100"/>
                      </a:lnTo>
                      <a:lnTo>
                        <a:pt x="0" y="140"/>
                      </a:lnTo>
                      <a:lnTo>
                        <a:pt x="0" y="162"/>
                      </a:lnTo>
                      <a:lnTo>
                        <a:pt x="4" y="186"/>
                      </a:lnTo>
                      <a:lnTo>
                        <a:pt x="9" y="208"/>
                      </a:lnTo>
                      <a:lnTo>
                        <a:pt x="17" y="230"/>
                      </a:lnTo>
                      <a:lnTo>
                        <a:pt x="25" y="250"/>
                      </a:lnTo>
                      <a:lnTo>
                        <a:pt x="38" y="270"/>
                      </a:lnTo>
                      <a:lnTo>
                        <a:pt x="52" y="288"/>
                      </a:lnTo>
                      <a:lnTo>
                        <a:pt x="69" y="307"/>
                      </a:lnTo>
                      <a:lnTo>
                        <a:pt x="86" y="322"/>
                      </a:lnTo>
                      <a:lnTo>
                        <a:pt x="106" y="337"/>
                      </a:lnTo>
                      <a:lnTo>
                        <a:pt x="125" y="348"/>
                      </a:lnTo>
                      <a:lnTo>
                        <a:pt x="146" y="358"/>
                      </a:lnTo>
                      <a:lnTo>
                        <a:pt x="167" y="366"/>
                      </a:lnTo>
                      <a:lnTo>
                        <a:pt x="190" y="372"/>
                      </a:lnTo>
                      <a:lnTo>
                        <a:pt x="213" y="375"/>
                      </a:lnTo>
                      <a:lnTo>
                        <a:pt x="238" y="376"/>
                      </a:lnTo>
                      <a:lnTo>
                        <a:pt x="261" y="375"/>
                      </a:lnTo>
                      <a:lnTo>
                        <a:pt x="272" y="373"/>
                      </a:lnTo>
                      <a:lnTo>
                        <a:pt x="275" y="372"/>
                      </a:lnTo>
                      <a:lnTo>
                        <a:pt x="278" y="372"/>
                      </a:lnTo>
                      <a:lnTo>
                        <a:pt x="285" y="372"/>
                      </a:lnTo>
                      <a:lnTo>
                        <a:pt x="289" y="370"/>
                      </a:lnTo>
                      <a:lnTo>
                        <a:pt x="292" y="369"/>
                      </a:lnTo>
                      <a:lnTo>
                        <a:pt x="295" y="369"/>
                      </a:lnTo>
                      <a:lnTo>
                        <a:pt x="306" y="366"/>
                      </a:lnTo>
                      <a:lnTo>
                        <a:pt x="329" y="358"/>
                      </a:lnTo>
                      <a:lnTo>
                        <a:pt x="338" y="353"/>
                      </a:lnTo>
                      <a:lnTo>
                        <a:pt x="348" y="348"/>
                      </a:lnTo>
                      <a:lnTo>
                        <a:pt x="369" y="337"/>
                      </a:lnTo>
                      <a:lnTo>
                        <a:pt x="387" y="322"/>
                      </a:lnTo>
                      <a:lnTo>
                        <a:pt x="396" y="314"/>
                      </a:lnTo>
                      <a:lnTo>
                        <a:pt x="406" y="307"/>
                      </a:lnTo>
                      <a:lnTo>
                        <a:pt x="411" y="301"/>
                      </a:lnTo>
                      <a:lnTo>
                        <a:pt x="413" y="297"/>
                      </a:lnTo>
                      <a:lnTo>
                        <a:pt x="416" y="295"/>
                      </a:lnTo>
                      <a:lnTo>
                        <a:pt x="428" y="282"/>
                      </a:lnTo>
                      <a:lnTo>
                        <a:pt x="420" y="256"/>
                      </a:lnTo>
                      <a:lnTo>
                        <a:pt x="415" y="260"/>
                      </a:lnTo>
                      <a:lnTo>
                        <a:pt x="412" y="264"/>
                      </a:lnTo>
                      <a:lnTo>
                        <a:pt x="405" y="273"/>
                      </a:lnTo>
                      <a:lnTo>
                        <a:pt x="390" y="291"/>
                      </a:lnTo>
                      <a:lnTo>
                        <a:pt x="381" y="298"/>
                      </a:lnTo>
                      <a:lnTo>
                        <a:pt x="377" y="302"/>
                      </a:lnTo>
                      <a:lnTo>
                        <a:pt x="373" y="306"/>
                      </a:lnTo>
                      <a:lnTo>
                        <a:pt x="364" y="312"/>
                      </a:lnTo>
                      <a:lnTo>
                        <a:pt x="356" y="319"/>
                      </a:lnTo>
                      <a:lnTo>
                        <a:pt x="338" y="329"/>
                      </a:lnTo>
                      <a:lnTo>
                        <a:pt x="320" y="339"/>
                      </a:lnTo>
                      <a:lnTo>
                        <a:pt x="300" y="345"/>
                      </a:lnTo>
                      <a:lnTo>
                        <a:pt x="289" y="347"/>
                      </a:lnTo>
                      <a:lnTo>
                        <a:pt x="280" y="350"/>
                      </a:lnTo>
                      <a:lnTo>
                        <a:pt x="269" y="352"/>
                      </a:lnTo>
                      <a:lnTo>
                        <a:pt x="259" y="354"/>
                      </a:lnTo>
                      <a:lnTo>
                        <a:pt x="238" y="355"/>
                      </a:lnTo>
                      <a:lnTo>
                        <a:pt x="216" y="354"/>
                      </a:lnTo>
                      <a:lnTo>
                        <a:pt x="194" y="350"/>
                      </a:lnTo>
                      <a:lnTo>
                        <a:pt x="174" y="345"/>
                      </a:lnTo>
                      <a:lnTo>
                        <a:pt x="154" y="339"/>
                      </a:lnTo>
                      <a:lnTo>
                        <a:pt x="135" y="329"/>
                      </a:lnTo>
                      <a:lnTo>
                        <a:pt x="118" y="319"/>
                      </a:lnTo>
                      <a:lnTo>
                        <a:pt x="101" y="306"/>
                      </a:lnTo>
                      <a:lnTo>
                        <a:pt x="85" y="291"/>
                      </a:lnTo>
                      <a:lnTo>
                        <a:pt x="69" y="274"/>
                      </a:lnTo>
                      <a:lnTo>
                        <a:pt x="57" y="257"/>
                      </a:lnTo>
                      <a:lnTo>
                        <a:pt x="46" y="239"/>
                      </a:lnTo>
                      <a:lnTo>
                        <a:pt x="38" y="221"/>
                      </a:lnTo>
                      <a:lnTo>
                        <a:pt x="30" y="201"/>
                      </a:lnTo>
                      <a:lnTo>
                        <a:pt x="25" y="181"/>
                      </a:lnTo>
                      <a:lnTo>
                        <a:pt x="22" y="160"/>
                      </a:lnTo>
                      <a:lnTo>
                        <a:pt x="22" y="140"/>
                      </a:lnTo>
                      <a:lnTo>
                        <a:pt x="24" y="100"/>
                      </a:lnTo>
                      <a:lnTo>
                        <a:pt x="27" y="81"/>
                      </a:lnTo>
                      <a:lnTo>
                        <a:pt x="34" y="64"/>
                      </a:lnTo>
                      <a:lnTo>
                        <a:pt x="49" y="31"/>
                      </a:lnTo>
                      <a:lnTo>
                        <a:pt x="73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467760" y="3981960"/>
                  <a:ext cx="113760" cy="100800"/>
                </a:xfrm>
                <a:custGeom>
                  <a:avLst/>
                  <a:gdLst/>
                  <a:ahLst/>
                  <a:rect l="l" t="t" r="r" b="b"/>
                  <a:pathLst>
                    <a:path w="398" h="355">
                      <a:moveTo>
                        <a:pt x="78" y="2"/>
                      </a:moveTo>
                      <a:lnTo>
                        <a:pt x="51" y="0"/>
                      </a:lnTo>
                      <a:lnTo>
                        <a:pt x="27" y="31"/>
                      </a:lnTo>
                      <a:lnTo>
                        <a:pt x="12" y="64"/>
                      </a:lnTo>
                      <a:lnTo>
                        <a:pt x="5" y="81"/>
                      </a:lnTo>
                      <a:lnTo>
                        <a:pt x="2" y="100"/>
                      </a:lnTo>
                      <a:lnTo>
                        <a:pt x="0" y="140"/>
                      </a:lnTo>
                      <a:lnTo>
                        <a:pt x="0" y="160"/>
                      </a:lnTo>
                      <a:lnTo>
                        <a:pt x="3" y="181"/>
                      </a:lnTo>
                      <a:lnTo>
                        <a:pt x="8" y="201"/>
                      </a:lnTo>
                      <a:lnTo>
                        <a:pt x="16" y="221"/>
                      </a:lnTo>
                      <a:lnTo>
                        <a:pt x="24" y="239"/>
                      </a:lnTo>
                      <a:lnTo>
                        <a:pt x="35" y="257"/>
                      </a:lnTo>
                      <a:lnTo>
                        <a:pt x="47" y="274"/>
                      </a:lnTo>
                      <a:lnTo>
                        <a:pt x="63" y="291"/>
                      </a:lnTo>
                      <a:lnTo>
                        <a:pt x="79" y="306"/>
                      </a:lnTo>
                      <a:lnTo>
                        <a:pt x="96" y="319"/>
                      </a:lnTo>
                      <a:lnTo>
                        <a:pt x="113" y="329"/>
                      </a:lnTo>
                      <a:lnTo>
                        <a:pt x="132" y="339"/>
                      </a:lnTo>
                      <a:lnTo>
                        <a:pt x="152" y="345"/>
                      </a:lnTo>
                      <a:lnTo>
                        <a:pt x="172" y="350"/>
                      </a:lnTo>
                      <a:lnTo>
                        <a:pt x="194" y="354"/>
                      </a:lnTo>
                      <a:lnTo>
                        <a:pt x="216" y="355"/>
                      </a:lnTo>
                      <a:lnTo>
                        <a:pt x="237" y="354"/>
                      </a:lnTo>
                      <a:lnTo>
                        <a:pt x="247" y="352"/>
                      </a:lnTo>
                      <a:lnTo>
                        <a:pt x="258" y="350"/>
                      </a:lnTo>
                      <a:lnTo>
                        <a:pt x="267" y="347"/>
                      </a:lnTo>
                      <a:lnTo>
                        <a:pt x="278" y="345"/>
                      </a:lnTo>
                      <a:lnTo>
                        <a:pt x="298" y="339"/>
                      </a:lnTo>
                      <a:lnTo>
                        <a:pt x="316" y="329"/>
                      </a:lnTo>
                      <a:lnTo>
                        <a:pt x="334" y="319"/>
                      </a:lnTo>
                      <a:lnTo>
                        <a:pt x="342" y="312"/>
                      </a:lnTo>
                      <a:lnTo>
                        <a:pt x="351" y="306"/>
                      </a:lnTo>
                      <a:lnTo>
                        <a:pt x="355" y="302"/>
                      </a:lnTo>
                      <a:lnTo>
                        <a:pt x="359" y="298"/>
                      </a:lnTo>
                      <a:lnTo>
                        <a:pt x="368" y="291"/>
                      </a:lnTo>
                      <a:lnTo>
                        <a:pt x="383" y="273"/>
                      </a:lnTo>
                      <a:lnTo>
                        <a:pt x="390" y="264"/>
                      </a:lnTo>
                      <a:lnTo>
                        <a:pt x="393" y="260"/>
                      </a:lnTo>
                      <a:lnTo>
                        <a:pt x="398" y="256"/>
                      </a:lnTo>
                      <a:lnTo>
                        <a:pt x="388" y="231"/>
                      </a:lnTo>
                      <a:lnTo>
                        <a:pt x="372" y="254"/>
                      </a:lnTo>
                      <a:lnTo>
                        <a:pt x="353" y="277"/>
                      </a:lnTo>
                      <a:lnTo>
                        <a:pt x="338" y="289"/>
                      </a:lnTo>
                      <a:lnTo>
                        <a:pt x="323" y="301"/>
                      </a:lnTo>
                      <a:lnTo>
                        <a:pt x="314" y="305"/>
                      </a:lnTo>
                      <a:lnTo>
                        <a:pt x="309" y="307"/>
                      </a:lnTo>
                      <a:lnTo>
                        <a:pt x="307" y="308"/>
                      </a:lnTo>
                      <a:lnTo>
                        <a:pt x="306" y="311"/>
                      </a:lnTo>
                      <a:lnTo>
                        <a:pt x="290" y="319"/>
                      </a:lnTo>
                      <a:lnTo>
                        <a:pt x="272" y="324"/>
                      </a:lnTo>
                      <a:lnTo>
                        <a:pt x="254" y="329"/>
                      </a:lnTo>
                      <a:lnTo>
                        <a:pt x="248" y="329"/>
                      </a:lnTo>
                      <a:lnTo>
                        <a:pt x="244" y="330"/>
                      </a:lnTo>
                      <a:lnTo>
                        <a:pt x="234" y="332"/>
                      </a:lnTo>
                      <a:lnTo>
                        <a:pt x="216" y="333"/>
                      </a:lnTo>
                      <a:lnTo>
                        <a:pt x="196" y="332"/>
                      </a:lnTo>
                      <a:lnTo>
                        <a:pt x="177" y="329"/>
                      </a:lnTo>
                      <a:lnTo>
                        <a:pt x="157" y="324"/>
                      </a:lnTo>
                      <a:lnTo>
                        <a:pt x="140" y="319"/>
                      </a:lnTo>
                      <a:lnTo>
                        <a:pt x="123" y="311"/>
                      </a:lnTo>
                      <a:lnTo>
                        <a:pt x="107" y="301"/>
                      </a:lnTo>
                      <a:lnTo>
                        <a:pt x="92" y="289"/>
                      </a:lnTo>
                      <a:lnTo>
                        <a:pt x="78" y="277"/>
                      </a:lnTo>
                      <a:lnTo>
                        <a:pt x="63" y="261"/>
                      </a:lnTo>
                      <a:lnTo>
                        <a:pt x="52" y="246"/>
                      </a:lnTo>
                      <a:lnTo>
                        <a:pt x="42" y="229"/>
                      </a:lnTo>
                      <a:lnTo>
                        <a:pt x="35" y="213"/>
                      </a:lnTo>
                      <a:lnTo>
                        <a:pt x="28" y="195"/>
                      </a:lnTo>
                      <a:lnTo>
                        <a:pt x="25" y="177"/>
                      </a:lnTo>
                      <a:lnTo>
                        <a:pt x="21" y="158"/>
                      </a:lnTo>
                      <a:lnTo>
                        <a:pt x="21" y="140"/>
                      </a:lnTo>
                      <a:lnTo>
                        <a:pt x="25" y="100"/>
                      </a:lnTo>
                      <a:lnTo>
                        <a:pt x="35" y="65"/>
                      </a:lnTo>
                      <a:lnTo>
                        <a:pt x="52" y="32"/>
                      </a:lnTo>
                      <a:lnTo>
                        <a:pt x="63" y="16"/>
                      </a:lnTo>
                      <a:lnTo>
                        <a:pt x="78" y="2"/>
                      </a:lnTo>
                      <a:close/>
                    </a:path>
                  </a:pathLst>
                </a:custGeom>
                <a:solidFill>
                  <a:srgbClr val="00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492240" y="3987720"/>
                  <a:ext cx="74160" cy="70560"/>
                </a:xfrm>
                <a:custGeom>
                  <a:avLst/>
                  <a:gdLst/>
                  <a:ahLst/>
                  <a:rect l="l" t="t" r="r" b="b"/>
                  <a:pathLst>
                    <a:path w="258" h="249">
                      <a:moveTo>
                        <a:pt x="21" y="120"/>
                      </a:moveTo>
                      <a:lnTo>
                        <a:pt x="23" y="97"/>
                      </a:lnTo>
                      <a:lnTo>
                        <a:pt x="29" y="78"/>
                      </a:lnTo>
                      <a:lnTo>
                        <a:pt x="38" y="58"/>
                      </a:lnTo>
                      <a:lnTo>
                        <a:pt x="53" y="42"/>
                      </a:lnTo>
                      <a:lnTo>
                        <a:pt x="65" y="30"/>
                      </a:lnTo>
                      <a:lnTo>
                        <a:pt x="78" y="22"/>
                      </a:lnTo>
                      <a:lnTo>
                        <a:pt x="92" y="16"/>
                      </a:lnTo>
                      <a:lnTo>
                        <a:pt x="108" y="13"/>
                      </a:lnTo>
                      <a:lnTo>
                        <a:pt x="77" y="0"/>
                      </a:lnTo>
                      <a:lnTo>
                        <a:pt x="55" y="12"/>
                      </a:lnTo>
                      <a:lnTo>
                        <a:pt x="38" y="28"/>
                      </a:lnTo>
                      <a:lnTo>
                        <a:pt x="20" y="47"/>
                      </a:lnTo>
                      <a:lnTo>
                        <a:pt x="9" y="69"/>
                      </a:lnTo>
                      <a:lnTo>
                        <a:pt x="2" y="92"/>
                      </a:lnTo>
                      <a:lnTo>
                        <a:pt x="0" y="120"/>
                      </a:lnTo>
                      <a:lnTo>
                        <a:pt x="2" y="144"/>
                      </a:lnTo>
                      <a:lnTo>
                        <a:pt x="4" y="156"/>
                      </a:lnTo>
                      <a:lnTo>
                        <a:pt x="9" y="168"/>
                      </a:lnTo>
                      <a:lnTo>
                        <a:pt x="14" y="178"/>
                      </a:lnTo>
                      <a:lnTo>
                        <a:pt x="20" y="190"/>
                      </a:lnTo>
                      <a:lnTo>
                        <a:pt x="38" y="210"/>
                      </a:lnTo>
                      <a:lnTo>
                        <a:pt x="58" y="226"/>
                      </a:lnTo>
                      <a:lnTo>
                        <a:pt x="68" y="233"/>
                      </a:lnTo>
                      <a:lnTo>
                        <a:pt x="79" y="239"/>
                      </a:lnTo>
                      <a:lnTo>
                        <a:pt x="103" y="245"/>
                      </a:lnTo>
                      <a:lnTo>
                        <a:pt x="117" y="248"/>
                      </a:lnTo>
                      <a:lnTo>
                        <a:pt x="130" y="249"/>
                      </a:lnTo>
                      <a:lnTo>
                        <a:pt x="142" y="248"/>
                      </a:lnTo>
                      <a:lnTo>
                        <a:pt x="155" y="245"/>
                      </a:lnTo>
                      <a:lnTo>
                        <a:pt x="167" y="242"/>
                      </a:lnTo>
                      <a:lnTo>
                        <a:pt x="172" y="240"/>
                      </a:lnTo>
                      <a:lnTo>
                        <a:pt x="179" y="239"/>
                      </a:lnTo>
                      <a:lnTo>
                        <a:pt x="184" y="235"/>
                      </a:lnTo>
                      <a:lnTo>
                        <a:pt x="189" y="233"/>
                      </a:lnTo>
                      <a:lnTo>
                        <a:pt x="201" y="226"/>
                      </a:lnTo>
                      <a:lnTo>
                        <a:pt x="205" y="222"/>
                      </a:lnTo>
                      <a:lnTo>
                        <a:pt x="207" y="219"/>
                      </a:lnTo>
                      <a:lnTo>
                        <a:pt x="207" y="218"/>
                      </a:lnTo>
                      <a:lnTo>
                        <a:pt x="209" y="218"/>
                      </a:lnTo>
                      <a:lnTo>
                        <a:pt x="211" y="218"/>
                      </a:lnTo>
                      <a:lnTo>
                        <a:pt x="222" y="210"/>
                      </a:lnTo>
                      <a:lnTo>
                        <a:pt x="228" y="201"/>
                      </a:lnTo>
                      <a:lnTo>
                        <a:pt x="235" y="193"/>
                      </a:lnTo>
                      <a:lnTo>
                        <a:pt x="246" y="175"/>
                      </a:lnTo>
                      <a:lnTo>
                        <a:pt x="246" y="172"/>
                      </a:lnTo>
                      <a:lnTo>
                        <a:pt x="247" y="169"/>
                      </a:lnTo>
                      <a:lnTo>
                        <a:pt x="249" y="165"/>
                      </a:lnTo>
                      <a:lnTo>
                        <a:pt x="253" y="156"/>
                      </a:lnTo>
                      <a:lnTo>
                        <a:pt x="255" y="146"/>
                      </a:lnTo>
                      <a:lnTo>
                        <a:pt x="258" y="137"/>
                      </a:lnTo>
                      <a:lnTo>
                        <a:pt x="238" y="112"/>
                      </a:lnTo>
                      <a:lnTo>
                        <a:pt x="238" y="120"/>
                      </a:lnTo>
                      <a:lnTo>
                        <a:pt x="236" y="140"/>
                      </a:lnTo>
                      <a:lnTo>
                        <a:pt x="230" y="160"/>
                      </a:lnTo>
                      <a:lnTo>
                        <a:pt x="220" y="178"/>
                      </a:lnTo>
                      <a:lnTo>
                        <a:pt x="213" y="186"/>
                      </a:lnTo>
                      <a:lnTo>
                        <a:pt x="206" y="195"/>
                      </a:lnTo>
                      <a:lnTo>
                        <a:pt x="197" y="202"/>
                      </a:lnTo>
                      <a:lnTo>
                        <a:pt x="189" y="209"/>
                      </a:lnTo>
                      <a:lnTo>
                        <a:pt x="171" y="219"/>
                      </a:lnTo>
                      <a:lnTo>
                        <a:pt x="151" y="225"/>
                      </a:lnTo>
                      <a:lnTo>
                        <a:pt x="130" y="227"/>
                      </a:lnTo>
                      <a:lnTo>
                        <a:pt x="108" y="225"/>
                      </a:lnTo>
                      <a:lnTo>
                        <a:pt x="88" y="219"/>
                      </a:lnTo>
                      <a:lnTo>
                        <a:pt x="69" y="209"/>
                      </a:lnTo>
                      <a:lnTo>
                        <a:pt x="53" y="195"/>
                      </a:lnTo>
                      <a:lnTo>
                        <a:pt x="38" y="178"/>
                      </a:lnTo>
                      <a:lnTo>
                        <a:pt x="29" y="160"/>
                      </a:lnTo>
                      <a:lnTo>
                        <a:pt x="23" y="140"/>
                      </a:lnTo>
                      <a:lnTo>
                        <a:pt x="21" y="120"/>
                      </a:lnTo>
                      <a:close/>
                    </a:path>
                  </a:pathLst>
                </a:custGeom>
                <a:solidFill>
                  <a:srgbClr val="00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498720" y="3990960"/>
                  <a:ext cx="62280" cy="61560"/>
                </a:xfrm>
                <a:custGeom>
                  <a:avLst/>
                  <a:gdLst/>
                  <a:ahLst/>
                  <a:rect l="l" t="t" r="r" b="b"/>
                  <a:pathLst>
                    <a:path w="217" h="214">
                      <a:moveTo>
                        <a:pt x="32" y="29"/>
                      </a:moveTo>
                      <a:lnTo>
                        <a:pt x="17" y="45"/>
                      </a:lnTo>
                      <a:lnTo>
                        <a:pt x="8" y="65"/>
                      </a:lnTo>
                      <a:lnTo>
                        <a:pt x="2" y="84"/>
                      </a:lnTo>
                      <a:lnTo>
                        <a:pt x="0" y="107"/>
                      </a:lnTo>
                      <a:lnTo>
                        <a:pt x="2" y="127"/>
                      </a:lnTo>
                      <a:lnTo>
                        <a:pt x="8" y="147"/>
                      </a:lnTo>
                      <a:lnTo>
                        <a:pt x="17" y="165"/>
                      </a:lnTo>
                      <a:lnTo>
                        <a:pt x="32" y="182"/>
                      </a:lnTo>
                      <a:lnTo>
                        <a:pt x="48" y="196"/>
                      </a:lnTo>
                      <a:lnTo>
                        <a:pt x="67" y="206"/>
                      </a:lnTo>
                      <a:lnTo>
                        <a:pt x="87" y="212"/>
                      </a:lnTo>
                      <a:lnTo>
                        <a:pt x="109" y="214"/>
                      </a:lnTo>
                      <a:lnTo>
                        <a:pt x="130" y="212"/>
                      </a:lnTo>
                      <a:lnTo>
                        <a:pt x="150" y="206"/>
                      </a:lnTo>
                      <a:lnTo>
                        <a:pt x="168" y="196"/>
                      </a:lnTo>
                      <a:lnTo>
                        <a:pt x="176" y="189"/>
                      </a:lnTo>
                      <a:lnTo>
                        <a:pt x="185" y="182"/>
                      </a:lnTo>
                      <a:lnTo>
                        <a:pt x="192" y="173"/>
                      </a:lnTo>
                      <a:lnTo>
                        <a:pt x="199" y="165"/>
                      </a:lnTo>
                      <a:lnTo>
                        <a:pt x="209" y="147"/>
                      </a:lnTo>
                      <a:lnTo>
                        <a:pt x="215" y="127"/>
                      </a:lnTo>
                      <a:lnTo>
                        <a:pt x="217" y="107"/>
                      </a:lnTo>
                      <a:lnTo>
                        <a:pt x="217" y="99"/>
                      </a:lnTo>
                      <a:lnTo>
                        <a:pt x="199" y="79"/>
                      </a:lnTo>
                      <a:lnTo>
                        <a:pt x="192" y="73"/>
                      </a:lnTo>
                      <a:lnTo>
                        <a:pt x="190" y="70"/>
                      </a:lnTo>
                      <a:lnTo>
                        <a:pt x="189" y="69"/>
                      </a:lnTo>
                      <a:lnTo>
                        <a:pt x="186" y="67"/>
                      </a:lnTo>
                      <a:lnTo>
                        <a:pt x="193" y="85"/>
                      </a:lnTo>
                      <a:lnTo>
                        <a:pt x="195" y="107"/>
                      </a:lnTo>
                      <a:lnTo>
                        <a:pt x="193" y="122"/>
                      </a:lnTo>
                      <a:lnTo>
                        <a:pt x="189" y="138"/>
                      </a:lnTo>
                      <a:lnTo>
                        <a:pt x="184" y="145"/>
                      </a:lnTo>
                      <a:lnTo>
                        <a:pt x="182" y="148"/>
                      </a:lnTo>
                      <a:lnTo>
                        <a:pt x="181" y="153"/>
                      </a:lnTo>
                      <a:lnTo>
                        <a:pt x="171" y="167"/>
                      </a:lnTo>
                      <a:lnTo>
                        <a:pt x="163" y="171"/>
                      </a:lnTo>
                      <a:lnTo>
                        <a:pt x="156" y="177"/>
                      </a:lnTo>
                      <a:lnTo>
                        <a:pt x="148" y="181"/>
                      </a:lnTo>
                      <a:lnTo>
                        <a:pt x="141" y="186"/>
                      </a:lnTo>
                      <a:lnTo>
                        <a:pt x="125" y="190"/>
                      </a:lnTo>
                      <a:lnTo>
                        <a:pt x="109" y="193"/>
                      </a:lnTo>
                      <a:lnTo>
                        <a:pt x="91" y="190"/>
                      </a:lnTo>
                      <a:lnTo>
                        <a:pt x="75" y="186"/>
                      </a:lnTo>
                      <a:lnTo>
                        <a:pt x="61" y="177"/>
                      </a:lnTo>
                      <a:lnTo>
                        <a:pt x="48" y="167"/>
                      </a:lnTo>
                      <a:lnTo>
                        <a:pt x="37" y="153"/>
                      </a:lnTo>
                      <a:lnTo>
                        <a:pt x="29" y="138"/>
                      </a:lnTo>
                      <a:lnTo>
                        <a:pt x="24" y="122"/>
                      </a:lnTo>
                      <a:lnTo>
                        <a:pt x="23" y="107"/>
                      </a:lnTo>
                      <a:lnTo>
                        <a:pt x="24" y="88"/>
                      </a:lnTo>
                      <a:lnTo>
                        <a:pt x="29" y="73"/>
                      </a:lnTo>
                      <a:lnTo>
                        <a:pt x="37" y="58"/>
                      </a:lnTo>
                      <a:lnTo>
                        <a:pt x="48" y="45"/>
                      </a:lnTo>
                      <a:lnTo>
                        <a:pt x="61" y="33"/>
                      </a:lnTo>
                      <a:lnTo>
                        <a:pt x="75" y="25"/>
                      </a:lnTo>
                      <a:lnTo>
                        <a:pt x="91" y="20"/>
                      </a:lnTo>
                      <a:lnTo>
                        <a:pt x="109" y="19"/>
                      </a:lnTo>
                      <a:lnTo>
                        <a:pt x="117" y="19"/>
                      </a:lnTo>
                      <a:lnTo>
                        <a:pt x="126" y="21"/>
                      </a:lnTo>
                      <a:lnTo>
                        <a:pt x="106" y="9"/>
                      </a:lnTo>
                      <a:lnTo>
                        <a:pt x="87" y="0"/>
                      </a:lnTo>
                      <a:lnTo>
                        <a:pt x="71" y="3"/>
                      </a:lnTo>
                      <a:lnTo>
                        <a:pt x="57" y="9"/>
                      </a:lnTo>
                      <a:lnTo>
                        <a:pt x="44" y="17"/>
                      </a:lnTo>
                      <a:lnTo>
                        <a:pt x="32" y="29"/>
                      </a:lnTo>
                      <a:close/>
                    </a:path>
                  </a:pathLst>
                </a:custGeom>
                <a:solidFill>
                  <a:srgbClr val="00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505560" y="3996720"/>
                  <a:ext cx="48960" cy="49680"/>
                </a:xfrm>
                <a:custGeom>
                  <a:avLst/>
                  <a:gdLst/>
                  <a:ahLst/>
                  <a:rect l="l" t="t" r="r" b="b"/>
                  <a:pathLst>
                    <a:path w="172" h="174">
                      <a:moveTo>
                        <a:pt x="103" y="2"/>
                      </a:move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68" y="1"/>
                      </a:lnTo>
                      <a:lnTo>
                        <a:pt x="52" y="6"/>
                      </a:lnTo>
                      <a:lnTo>
                        <a:pt x="38" y="14"/>
                      </a:lnTo>
                      <a:lnTo>
                        <a:pt x="25" y="26"/>
                      </a:lnTo>
                      <a:lnTo>
                        <a:pt x="14" y="39"/>
                      </a:lnTo>
                      <a:lnTo>
                        <a:pt x="6" y="54"/>
                      </a:lnTo>
                      <a:lnTo>
                        <a:pt x="1" y="69"/>
                      </a:lnTo>
                      <a:lnTo>
                        <a:pt x="0" y="88"/>
                      </a:lnTo>
                      <a:lnTo>
                        <a:pt x="1" y="103"/>
                      </a:lnTo>
                      <a:lnTo>
                        <a:pt x="6" y="119"/>
                      </a:lnTo>
                      <a:lnTo>
                        <a:pt x="14" y="134"/>
                      </a:lnTo>
                      <a:lnTo>
                        <a:pt x="25" y="148"/>
                      </a:lnTo>
                      <a:lnTo>
                        <a:pt x="38" y="158"/>
                      </a:lnTo>
                      <a:lnTo>
                        <a:pt x="52" y="167"/>
                      </a:lnTo>
                      <a:lnTo>
                        <a:pt x="68" y="171"/>
                      </a:lnTo>
                      <a:lnTo>
                        <a:pt x="86" y="174"/>
                      </a:lnTo>
                      <a:lnTo>
                        <a:pt x="102" y="171"/>
                      </a:lnTo>
                      <a:lnTo>
                        <a:pt x="118" y="167"/>
                      </a:lnTo>
                      <a:lnTo>
                        <a:pt x="125" y="162"/>
                      </a:lnTo>
                      <a:lnTo>
                        <a:pt x="133" y="158"/>
                      </a:lnTo>
                      <a:lnTo>
                        <a:pt x="140" y="152"/>
                      </a:lnTo>
                      <a:lnTo>
                        <a:pt x="148" y="148"/>
                      </a:lnTo>
                      <a:lnTo>
                        <a:pt x="158" y="134"/>
                      </a:lnTo>
                      <a:lnTo>
                        <a:pt x="159" y="129"/>
                      </a:lnTo>
                      <a:lnTo>
                        <a:pt x="161" y="126"/>
                      </a:lnTo>
                      <a:lnTo>
                        <a:pt x="166" y="119"/>
                      </a:lnTo>
                      <a:lnTo>
                        <a:pt x="170" y="103"/>
                      </a:lnTo>
                      <a:lnTo>
                        <a:pt x="172" y="88"/>
                      </a:lnTo>
                      <a:lnTo>
                        <a:pt x="170" y="66"/>
                      </a:lnTo>
                      <a:lnTo>
                        <a:pt x="163" y="48"/>
                      </a:lnTo>
                      <a:lnTo>
                        <a:pt x="134" y="23"/>
                      </a:lnTo>
                      <a:lnTo>
                        <a:pt x="118" y="12"/>
                      </a:lnTo>
                      <a:lnTo>
                        <a:pt x="103" y="2"/>
                      </a:lnTo>
                      <a:close/>
                      <a:moveTo>
                        <a:pt x="22" y="88"/>
                      </a:moveTo>
                      <a:lnTo>
                        <a:pt x="23" y="74"/>
                      </a:lnTo>
                      <a:lnTo>
                        <a:pt x="26" y="61"/>
                      </a:lnTo>
                      <a:lnTo>
                        <a:pt x="32" y="50"/>
                      </a:lnTo>
                      <a:lnTo>
                        <a:pt x="40" y="41"/>
                      </a:lnTo>
                      <a:lnTo>
                        <a:pt x="49" y="32"/>
                      </a:lnTo>
                      <a:lnTo>
                        <a:pt x="60" y="26"/>
                      </a:lnTo>
                      <a:lnTo>
                        <a:pt x="73" y="23"/>
                      </a:lnTo>
                      <a:lnTo>
                        <a:pt x="86" y="22"/>
                      </a:lnTo>
                      <a:lnTo>
                        <a:pt x="98" y="23"/>
                      </a:lnTo>
                      <a:lnTo>
                        <a:pt x="110" y="26"/>
                      </a:lnTo>
                      <a:lnTo>
                        <a:pt x="120" y="32"/>
                      </a:lnTo>
                      <a:lnTo>
                        <a:pt x="132" y="41"/>
                      </a:lnTo>
                      <a:lnTo>
                        <a:pt x="140" y="50"/>
                      </a:lnTo>
                      <a:lnTo>
                        <a:pt x="145" y="61"/>
                      </a:lnTo>
                      <a:lnTo>
                        <a:pt x="149" y="74"/>
                      </a:lnTo>
                      <a:lnTo>
                        <a:pt x="151" y="88"/>
                      </a:lnTo>
                      <a:lnTo>
                        <a:pt x="149" y="99"/>
                      </a:lnTo>
                      <a:lnTo>
                        <a:pt x="146" y="105"/>
                      </a:lnTo>
                      <a:lnTo>
                        <a:pt x="145" y="111"/>
                      </a:lnTo>
                      <a:lnTo>
                        <a:pt x="142" y="116"/>
                      </a:lnTo>
                      <a:lnTo>
                        <a:pt x="140" y="122"/>
                      </a:lnTo>
                      <a:lnTo>
                        <a:pt x="132" y="133"/>
                      </a:lnTo>
                      <a:lnTo>
                        <a:pt x="120" y="141"/>
                      </a:lnTo>
                      <a:lnTo>
                        <a:pt x="115" y="143"/>
                      </a:lnTo>
                      <a:lnTo>
                        <a:pt x="110" y="146"/>
                      </a:lnTo>
                      <a:lnTo>
                        <a:pt x="103" y="148"/>
                      </a:lnTo>
                      <a:lnTo>
                        <a:pt x="98" y="150"/>
                      </a:lnTo>
                      <a:lnTo>
                        <a:pt x="86" y="152"/>
                      </a:lnTo>
                      <a:lnTo>
                        <a:pt x="73" y="150"/>
                      </a:lnTo>
                      <a:lnTo>
                        <a:pt x="60" y="146"/>
                      </a:lnTo>
                      <a:lnTo>
                        <a:pt x="49" y="141"/>
                      </a:lnTo>
                      <a:lnTo>
                        <a:pt x="40" y="133"/>
                      </a:lnTo>
                      <a:lnTo>
                        <a:pt x="32" y="122"/>
                      </a:lnTo>
                      <a:lnTo>
                        <a:pt x="26" y="111"/>
                      </a:lnTo>
                      <a:lnTo>
                        <a:pt x="23" y="99"/>
                      </a:lnTo>
                      <a:lnTo>
                        <a:pt x="22" y="88"/>
                      </a:lnTo>
                      <a:close/>
                    </a:path>
                  </a:pathLst>
                </a:custGeom>
                <a:solidFill>
                  <a:srgbClr val="00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511320" y="4003200"/>
                  <a:ext cx="37080" cy="36720"/>
                </a:xfrm>
                <a:custGeom>
                  <a:avLst/>
                  <a:gdLst/>
                  <a:ahLst/>
                  <a:rect l="l" t="t" r="r" b="b"/>
                  <a:pathLst>
                    <a:path w="129" h="130">
                      <a:moveTo>
                        <a:pt x="18" y="19"/>
                      </a:moveTo>
                      <a:lnTo>
                        <a:pt x="10" y="28"/>
                      </a:lnTo>
                      <a:lnTo>
                        <a:pt x="4" y="39"/>
                      </a:lnTo>
                      <a:lnTo>
                        <a:pt x="1" y="52"/>
                      </a:lnTo>
                      <a:lnTo>
                        <a:pt x="0" y="66"/>
                      </a:lnTo>
                      <a:lnTo>
                        <a:pt x="1" y="77"/>
                      </a:lnTo>
                      <a:lnTo>
                        <a:pt x="4" y="89"/>
                      </a:lnTo>
                      <a:lnTo>
                        <a:pt x="10" y="100"/>
                      </a:lnTo>
                      <a:lnTo>
                        <a:pt x="18" y="111"/>
                      </a:lnTo>
                      <a:lnTo>
                        <a:pt x="27" y="119"/>
                      </a:lnTo>
                      <a:lnTo>
                        <a:pt x="38" y="124"/>
                      </a:lnTo>
                      <a:lnTo>
                        <a:pt x="51" y="128"/>
                      </a:lnTo>
                      <a:lnTo>
                        <a:pt x="64" y="130"/>
                      </a:lnTo>
                      <a:lnTo>
                        <a:pt x="76" y="128"/>
                      </a:lnTo>
                      <a:lnTo>
                        <a:pt x="81" y="126"/>
                      </a:lnTo>
                      <a:lnTo>
                        <a:pt x="88" y="124"/>
                      </a:lnTo>
                      <a:lnTo>
                        <a:pt x="93" y="121"/>
                      </a:lnTo>
                      <a:lnTo>
                        <a:pt x="98" y="119"/>
                      </a:lnTo>
                      <a:lnTo>
                        <a:pt x="110" y="111"/>
                      </a:lnTo>
                      <a:lnTo>
                        <a:pt x="118" y="100"/>
                      </a:lnTo>
                      <a:lnTo>
                        <a:pt x="120" y="94"/>
                      </a:lnTo>
                      <a:lnTo>
                        <a:pt x="123" y="89"/>
                      </a:lnTo>
                      <a:lnTo>
                        <a:pt x="124" y="83"/>
                      </a:lnTo>
                      <a:lnTo>
                        <a:pt x="127" y="77"/>
                      </a:lnTo>
                      <a:lnTo>
                        <a:pt x="129" y="66"/>
                      </a:lnTo>
                      <a:lnTo>
                        <a:pt x="127" y="52"/>
                      </a:lnTo>
                      <a:lnTo>
                        <a:pt x="123" y="39"/>
                      </a:lnTo>
                      <a:lnTo>
                        <a:pt x="118" y="28"/>
                      </a:lnTo>
                      <a:lnTo>
                        <a:pt x="110" y="19"/>
                      </a:lnTo>
                      <a:lnTo>
                        <a:pt x="98" y="10"/>
                      </a:lnTo>
                      <a:lnTo>
                        <a:pt x="88" y="4"/>
                      </a:lnTo>
                      <a:lnTo>
                        <a:pt x="76" y="1"/>
                      </a:lnTo>
                      <a:lnTo>
                        <a:pt x="64" y="0"/>
                      </a:lnTo>
                      <a:lnTo>
                        <a:pt x="51" y="1"/>
                      </a:lnTo>
                      <a:lnTo>
                        <a:pt x="38" y="4"/>
                      </a:lnTo>
                      <a:lnTo>
                        <a:pt x="27" y="10"/>
                      </a:lnTo>
                      <a:lnTo>
                        <a:pt x="18" y="19"/>
                      </a:lnTo>
                      <a:close/>
                      <a:moveTo>
                        <a:pt x="21" y="66"/>
                      </a:moveTo>
                      <a:lnTo>
                        <a:pt x="23" y="49"/>
                      </a:lnTo>
                      <a:lnTo>
                        <a:pt x="34" y="34"/>
                      </a:lnTo>
                      <a:lnTo>
                        <a:pt x="39" y="27"/>
                      </a:lnTo>
                      <a:lnTo>
                        <a:pt x="47" y="24"/>
                      </a:lnTo>
                      <a:lnTo>
                        <a:pt x="64" y="21"/>
                      </a:lnTo>
                      <a:lnTo>
                        <a:pt x="72" y="21"/>
                      </a:lnTo>
                      <a:lnTo>
                        <a:pt x="80" y="24"/>
                      </a:lnTo>
                      <a:lnTo>
                        <a:pt x="87" y="27"/>
                      </a:lnTo>
                      <a:lnTo>
                        <a:pt x="95" y="34"/>
                      </a:lnTo>
                      <a:lnTo>
                        <a:pt x="104" y="49"/>
                      </a:lnTo>
                      <a:lnTo>
                        <a:pt x="106" y="56"/>
                      </a:lnTo>
                      <a:lnTo>
                        <a:pt x="107" y="66"/>
                      </a:lnTo>
                      <a:lnTo>
                        <a:pt x="106" y="72"/>
                      </a:lnTo>
                      <a:lnTo>
                        <a:pt x="104" y="81"/>
                      </a:lnTo>
                      <a:lnTo>
                        <a:pt x="99" y="88"/>
                      </a:lnTo>
                      <a:lnTo>
                        <a:pt x="95" y="96"/>
                      </a:lnTo>
                      <a:lnTo>
                        <a:pt x="87" y="101"/>
                      </a:lnTo>
                      <a:lnTo>
                        <a:pt x="80" y="105"/>
                      </a:lnTo>
                      <a:lnTo>
                        <a:pt x="72" y="107"/>
                      </a:lnTo>
                      <a:lnTo>
                        <a:pt x="68" y="107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4" y="109"/>
                      </a:lnTo>
                      <a:lnTo>
                        <a:pt x="55" y="107"/>
                      </a:lnTo>
                      <a:lnTo>
                        <a:pt x="47" y="105"/>
                      </a:lnTo>
                      <a:lnTo>
                        <a:pt x="39" y="101"/>
                      </a:lnTo>
                      <a:lnTo>
                        <a:pt x="34" y="96"/>
                      </a:lnTo>
                      <a:lnTo>
                        <a:pt x="27" y="88"/>
                      </a:lnTo>
                      <a:lnTo>
                        <a:pt x="23" y="81"/>
                      </a:lnTo>
                      <a:lnTo>
                        <a:pt x="21" y="66"/>
                      </a:lnTo>
                      <a:close/>
                    </a:path>
                  </a:pathLst>
                </a:cu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517440" y="4009320"/>
                  <a:ext cx="24480" cy="24480"/>
                </a:xfrm>
                <a:custGeom>
                  <a:avLst/>
                  <a:gdLst/>
                  <a:ahLst/>
                  <a:rect l="l" t="t" r="r" b="b"/>
                  <a:pathLst>
                    <a:path w="86" h="88">
                      <a:moveTo>
                        <a:pt x="13" y="13"/>
                      </a:moveTo>
                      <a:lnTo>
                        <a:pt x="2" y="28"/>
                      </a:lnTo>
                      <a:lnTo>
                        <a:pt x="0" y="45"/>
                      </a:lnTo>
                      <a:lnTo>
                        <a:pt x="2" y="60"/>
                      </a:lnTo>
                      <a:lnTo>
                        <a:pt x="6" y="67"/>
                      </a:lnTo>
                      <a:lnTo>
                        <a:pt x="13" y="75"/>
                      </a:lnTo>
                      <a:lnTo>
                        <a:pt x="18" y="80"/>
                      </a:lnTo>
                      <a:lnTo>
                        <a:pt x="26" y="84"/>
                      </a:lnTo>
                      <a:lnTo>
                        <a:pt x="34" y="86"/>
                      </a:lnTo>
                      <a:lnTo>
                        <a:pt x="43" y="88"/>
                      </a:lnTo>
                      <a:lnTo>
                        <a:pt x="43" y="86"/>
                      </a:lnTo>
                      <a:lnTo>
                        <a:pt x="44" y="86"/>
                      </a:lnTo>
                      <a:lnTo>
                        <a:pt x="47" y="86"/>
                      </a:lnTo>
                      <a:lnTo>
                        <a:pt x="51" y="86"/>
                      </a:lnTo>
                      <a:lnTo>
                        <a:pt x="59" y="84"/>
                      </a:lnTo>
                      <a:lnTo>
                        <a:pt x="66" y="80"/>
                      </a:lnTo>
                      <a:lnTo>
                        <a:pt x="74" y="75"/>
                      </a:lnTo>
                      <a:lnTo>
                        <a:pt x="78" y="67"/>
                      </a:lnTo>
                      <a:lnTo>
                        <a:pt x="83" y="60"/>
                      </a:lnTo>
                      <a:lnTo>
                        <a:pt x="85" y="51"/>
                      </a:lnTo>
                      <a:lnTo>
                        <a:pt x="86" y="45"/>
                      </a:lnTo>
                      <a:lnTo>
                        <a:pt x="85" y="35"/>
                      </a:lnTo>
                      <a:lnTo>
                        <a:pt x="83" y="28"/>
                      </a:lnTo>
                      <a:lnTo>
                        <a:pt x="74" y="13"/>
                      </a:lnTo>
                      <a:lnTo>
                        <a:pt x="66" y="6"/>
                      </a:lnTo>
                      <a:lnTo>
                        <a:pt x="59" y="3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26" y="3"/>
                      </a:lnTo>
                      <a:lnTo>
                        <a:pt x="18" y="6"/>
                      </a:lnTo>
                      <a:lnTo>
                        <a:pt x="13" y="13"/>
                      </a:lnTo>
                      <a:close/>
                      <a:moveTo>
                        <a:pt x="22" y="45"/>
                      </a:moveTo>
                      <a:lnTo>
                        <a:pt x="23" y="35"/>
                      </a:lnTo>
                      <a:lnTo>
                        <a:pt x="27" y="29"/>
                      </a:lnTo>
                      <a:lnTo>
                        <a:pt x="34" y="24"/>
                      </a:lnTo>
                      <a:lnTo>
                        <a:pt x="43" y="23"/>
                      </a:lnTo>
                      <a:lnTo>
                        <a:pt x="51" y="24"/>
                      </a:lnTo>
                      <a:lnTo>
                        <a:pt x="58" y="29"/>
                      </a:lnTo>
                      <a:lnTo>
                        <a:pt x="63" y="35"/>
                      </a:lnTo>
                      <a:lnTo>
                        <a:pt x="65" y="45"/>
                      </a:lnTo>
                      <a:lnTo>
                        <a:pt x="63" y="51"/>
                      </a:lnTo>
                      <a:lnTo>
                        <a:pt x="60" y="55"/>
                      </a:lnTo>
                      <a:lnTo>
                        <a:pt x="58" y="59"/>
                      </a:lnTo>
                      <a:lnTo>
                        <a:pt x="51" y="63"/>
                      </a:lnTo>
                      <a:lnTo>
                        <a:pt x="47" y="64"/>
                      </a:lnTo>
                      <a:lnTo>
                        <a:pt x="44" y="64"/>
                      </a:lnTo>
                      <a:lnTo>
                        <a:pt x="43" y="64"/>
                      </a:lnTo>
                      <a:lnTo>
                        <a:pt x="43" y="65"/>
                      </a:lnTo>
                      <a:lnTo>
                        <a:pt x="34" y="63"/>
                      </a:lnTo>
                      <a:lnTo>
                        <a:pt x="27" y="59"/>
                      </a:lnTo>
                      <a:lnTo>
                        <a:pt x="24" y="55"/>
                      </a:lnTo>
                      <a:lnTo>
                        <a:pt x="23" y="51"/>
                      </a:lnTo>
                      <a:lnTo>
                        <a:pt x="22" y="45"/>
                      </a:lnTo>
                      <a:close/>
                    </a:path>
                  </a:pathLst>
                </a:custGeom>
                <a:solidFill>
                  <a:srgbClr val="00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523920" y="40154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5" y="6"/>
                      </a:moveTo>
                      <a:lnTo>
                        <a:pt x="1" y="12"/>
                      </a:lnTo>
                      <a:lnTo>
                        <a:pt x="0" y="22"/>
                      </a:lnTo>
                      <a:lnTo>
                        <a:pt x="1" y="28"/>
                      </a:lnTo>
                      <a:lnTo>
                        <a:pt x="2" y="32"/>
                      </a:lnTo>
                      <a:lnTo>
                        <a:pt x="5" y="36"/>
                      </a:lnTo>
                      <a:lnTo>
                        <a:pt x="12" y="40"/>
                      </a:lnTo>
                      <a:lnTo>
                        <a:pt x="21" y="42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5" y="41"/>
                      </a:lnTo>
                      <a:lnTo>
                        <a:pt x="29" y="40"/>
                      </a:lnTo>
                      <a:lnTo>
                        <a:pt x="36" y="36"/>
                      </a:lnTo>
                      <a:lnTo>
                        <a:pt x="38" y="32"/>
                      </a:lnTo>
                      <a:lnTo>
                        <a:pt x="41" y="28"/>
                      </a:lnTo>
                      <a:lnTo>
                        <a:pt x="43" y="22"/>
                      </a:lnTo>
                      <a:lnTo>
                        <a:pt x="41" y="12"/>
                      </a:lnTo>
                      <a:lnTo>
                        <a:pt x="36" y="6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387480" y="4020840"/>
                  <a:ext cx="181800" cy="142560"/>
                </a:xfrm>
                <a:custGeom>
                  <a:avLst/>
                  <a:gdLst/>
                  <a:ahLst/>
                  <a:rect l="l" t="t" r="r" b="b"/>
                  <a:pathLst>
                    <a:path w="636" h="500">
                      <a:moveTo>
                        <a:pt x="20" y="4"/>
                      </a:moveTo>
                      <a:lnTo>
                        <a:pt x="20" y="0"/>
                      </a:lnTo>
                      <a:lnTo>
                        <a:pt x="0" y="26"/>
                      </a:lnTo>
                      <a:lnTo>
                        <a:pt x="0" y="49"/>
                      </a:lnTo>
                      <a:lnTo>
                        <a:pt x="2" y="73"/>
                      </a:lnTo>
                      <a:lnTo>
                        <a:pt x="11" y="118"/>
                      </a:lnTo>
                      <a:lnTo>
                        <a:pt x="22" y="161"/>
                      </a:lnTo>
                      <a:lnTo>
                        <a:pt x="39" y="203"/>
                      </a:lnTo>
                      <a:lnTo>
                        <a:pt x="59" y="243"/>
                      </a:lnTo>
                      <a:lnTo>
                        <a:pt x="84" y="281"/>
                      </a:lnTo>
                      <a:lnTo>
                        <a:pt x="96" y="299"/>
                      </a:lnTo>
                      <a:lnTo>
                        <a:pt x="111" y="319"/>
                      </a:lnTo>
                      <a:lnTo>
                        <a:pt x="145" y="355"/>
                      </a:lnTo>
                      <a:lnTo>
                        <a:pt x="181" y="389"/>
                      </a:lnTo>
                      <a:lnTo>
                        <a:pt x="221" y="418"/>
                      </a:lnTo>
                      <a:lnTo>
                        <a:pt x="260" y="443"/>
                      </a:lnTo>
                      <a:lnTo>
                        <a:pt x="305" y="464"/>
                      </a:lnTo>
                      <a:lnTo>
                        <a:pt x="349" y="480"/>
                      </a:lnTo>
                      <a:lnTo>
                        <a:pt x="397" y="491"/>
                      </a:lnTo>
                      <a:lnTo>
                        <a:pt x="445" y="498"/>
                      </a:lnTo>
                      <a:lnTo>
                        <a:pt x="496" y="500"/>
                      </a:lnTo>
                      <a:lnTo>
                        <a:pt x="526" y="499"/>
                      </a:lnTo>
                      <a:lnTo>
                        <a:pt x="556" y="497"/>
                      </a:lnTo>
                      <a:lnTo>
                        <a:pt x="586" y="492"/>
                      </a:lnTo>
                      <a:lnTo>
                        <a:pt x="615" y="487"/>
                      </a:lnTo>
                      <a:lnTo>
                        <a:pt x="636" y="459"/>
                      </a:lnTo>
                      <a:lnTo>
                        <a:pt x="602" y="467"/>
                      </a:lnTo>
                      <a:lnTo>
                        <a:pt x="568" y="473"/>
                      </a:lnTo>
                      <a:lnTo>
                        <a:pt x="531" y="476"/>
                      </a:lnTo>
                      <a:lnTo>
                        <a:pt x="513" y="477"/>
                      </a:lnTo>
                      <a:lnTo>
                        <a:pt x="504" y="477"/>
                      </a:lnTo>
                      <a:lnTo>
                        <a:pt x="500" y="477"/>
                      </a:lnTo>
                      <a:lnTo>
                        <a:pt x="497" y="477"/>
                      </a:lnTo>
                      <a:lnTo>
                        <a:pt x="496" y="477"/>
                      </a:lnTo>
                      <a:lnTo>
                        <a:pt x="496" y="479"/>
                      </a:lnTo>
                      <a:lnTo>
                        <a:pt x="446" y="476"/>
                      </a:lnTo>
                      <a:lnTo>
                        <a:pt x="400" y="470"/>
                      </a:lnTo>
                      <a:lnTo>
                        <a:pt x="355" y="458"/>
                      </a:lnTo>
                      <a:lnTo>
                        <a:pt x="313" y="443"/>
                      </a:lnTo>
                      <a:lnTo>
                        <a:pt x="271" y="423"/>
                      </a:lnTo>
                      <a:lnTo>
                        <a:pt x="232" y="399"/>
                      </a:lnTo>
                      <a:lnTo>
                        <a:pt x="195" y="371"/>
                      </a:lnTo>
                      <a:lnTo>
                        <a:pt x="160" y="339"/>
                      </a:lnTo>
                      <a:lnTo>
                        <a:pt x="126" y="303"/>
                      </a:lnTo>
                      <a:lnTo>
                        <a:pt x="97" y="265"/>
                      </a:lnTo>
                      <a:lnTo>
                        <a:pt x="84" y="245"/>
                      </a:lnTo>
                      <a:lnTo>
                        <a:pt x="72" y="226"/>
                      </a:lnTo>
                      <a:lnTo>
                        <a:pt x="54" y="185"/>
                      </a:lnTo>
                      <a:lnTo>
                        <a:pt x="38" y="142"/>
                      </a:lnTo>
                      <a:lnTo>
                        <a:pt x="28" y="98"/>
                      </a:lnTo>
                      <a:lnTo>
                        <a:pt x="24" y="74"/>
                      </a:lnTo>
                      <a:lnTo>
                        <a:pt x="21" y="51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93960" y="4014000"/>
                  <a:ext cx="180360" cy="142920"/>
                </a:xfrm>
                <a:custGeom>
                  <a:avLst/>
                  <a:gdLst/>
                  <a:ahLst/>
                  <a:rect l="l" t="t" r="r" b="b"/>
                  <a:pathLst>
                    <a:path w="634" h="503">
                      <a:moveTo>
                        <a:pt x="0" y="24"/>
                      </a:moveTo>
                      <a:lnTo>
                        <a:pt x="0" y="28"/>
                      </a:lnTo>
                      <a:lnTo>
                        <a:pt x="1" y="75"/>
                      </a:lnTo>
                      <a:lnTo>
                        <a:pt x="4" y="98"/>
                      </a:lnTo>
                      <a:lnTo>
                        <a:pt x="8" y="122"/>
                      </a:lnTo>
                      <a:lnTo>
                        <a:pt x="18" y="166"/>
                      </a:lnTo>
                      <a:lnTo>
                        <a:pt x="34" y="209"/>
                      </a:lnTo>
                      <a:lnTo>
                        <a:pt x="52" y="250"/>
                      </a:lnTo>
                      <a:lnTo>
                        <a:pt x="64" y="269"/>
                      </a:lnTo>
                      <a:lnTo>
                        <a:pt x="77" y="289"/>
                      </a:lnTo>
                      <a:lnTo>
                        <a:pt x="106" y="327"/>
                      </a:lnTo>
                      <a:lnTo>
                        <a:pt x="140" y="363"/>
                      </a:lnTo>
                      <a:lnTo>
                        <a:pt x="175" y="395"/>
                      </a:lnTo>
                      <a:lnTo>
                        <a:pt x="212" y="423"/>
                      </a:lnTo>
                      <a:lnTo>
                        <a:pt x="251" y="447"/>
                      </a:lnTo>
                      <a:lnTo>
                        <a:pt x="293" y="467"/>
                      </a:lnTo>
                      <a:lnTo>
                        <a:pt x="335" y="482"/>
                      </a:lnTo>
                      <a:lnTo>
                        <a:pt x="380" y="494"/>
                      </a:lnTo>
                      <a:lnTo>
                        <a:pt x="426" y="500"/>
                      </a:lnTo>
                      <a:lnTo>
                        <a:pt x="476" y="503"/>
                      </a:lnTo>
                      <a:lnTo>
                        <a:pt x="476" y="501"/>
                      </a:lnTo>
                      <a:lnTo>
                        <a:pt x="477" y="501"/>
                      </a:lnTo>
                      <a:lnTo>
                        <a:pt x="480" y="501"/>
                      </a:lnTo>
                      <a:lnTo>
                        <a:pt x="484" y="501"/>
                      </a:lnTo>
                      <a:lnTo>
                        <a:pt x="493" y="501"/>
                      </a:lnTo>
                      <a:lnTo>
                        <a:pt x="511" y="500"/>
                      </a:lnTo>
                      <a:lnTo>
                        <a:pt x="548" y="497"/>
                      </a:lnTo>
                      <a:lnTo>
                        <a:pt x="582" y="491"/>
                      </a:lnTo>
                      <a:lnTo>
                        <a:pt x="616" y="483"/>
                      </a:lnTo>
                      <a:lnTo>
                        <a:pt x="634" y="454"/>
                      </a:lnTo>
                      <a:lnTo>
                        <a:pt x="595" y="465"/>
                      </a:lnTo>
                      <a:lnTo>
                        <a:pt x="557" y="474"/>
                      </a:lnTo>
                      <a:lnTo>
                        <a:pt x="536" y="477"/>
                      </a:lnTo>
                      <a:lnTo>
                        <a:pt x="517" y="479"/>
                      </a:lnTo>
                      <a:lnTo>
                        <a:pt x="476" y="481"/>
                      </a:lnTo>
                      <a:lnTo>
                        <a:pt x="429" y="479"/>
                      </a:lnTo>
                      <a:lnTo>
                        <a:pt x="384" y="472"/>
                      </a:lnTo>
                      <a:lnTo>
                        <a:pt x="341" y="461"/>
                      </a:lnTo>
                      <a:lnTo>
                        <a:pt x="302" y="447"/>
                      </a:lnTo>
                      <a:lnTo>
                        <a:pt x="262" y="428"/>
                      </a:lnTo>
                      <a:lnTo>
                        <a:pt x="225" y="405"/>
                      </a:lnTo>
                      <a:lnTo>
                        <a:pt x="188" y="378"/>
                      </a:lnTo>
                      <a:lnTo>
                        <a:pt x="155" y="347"/>
                      </a:lnTo>
                      <a:lnTo>
                        <a:pt x="138" y="329"/>
                      </a:lnTo>
                      <a:lnTo>
                        <a:pt x="124" y="312"/>
                      </a:lnTo>
                      <a:lnTo>
                        <a:pt x="96" y="276"/>
                      </a:lnTo>
                      <a:lnTo>
                        <a:pt x="84" y="257"/>
                      </a:lnTo>
                      <a:lnTo>
                        <a:pt x="74" y="238"/>
                      </a:lnTo>
                      <a:lnTo>
                        <a:pt x="56" y="200"/>
                      </a:lnTo>
                      <a:lnTo>
                        <a:pt x="40" y="159"/>
                      </a:lnTo>
                      <a:lnTo>
                        <a:pt x="34" y="138"/>
                      </a:lnTo>
                      <a:lnTo>
                        <a:pt x="31" y="117"/>
                      </a:lnTo>
                      <a:lnTo>
                        <a:pt x="26" y="94"/>
                      </a:lnTo>
                      <a:lnTo>
                        <a:pt x="24" y="73"/>
                      </a:lnTo>
                      <a:lnTo>
                        <a:pt x="23" y="28"/>
                      </a:lnTo>
                      <a:lnTo>
                        <a:pt x="23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418440" y="3993480"/>
                  <a:ext cx="167400" cy="139320"/>
                </a:xfrm>
                <a:custGeom>
                  <a:avLst/>
                  <a:gdLst/>
                  <a:ahLst/>
                  <a:rect l="l" t="t" r="r" b="b"/>
                  <a:pathLst>
                    <a:path w="585" h="487">
                      <a:moveTo>
                        <a:pt x="34" y="0"/>
                      </a:moveTo>
                      <a:lnTo>
                        <a:pt x="9" y="14"/>
                      </a:lnTo>
                      <a:lnTo>
                        <a:pt x="5" y="34"/>
                      </a:lnTo>
                      <a:lnTo>
                        <a:pt x="3" y="55"/>
                      </a:lnTo>
                      <a:lnTo>
                        <a:pt x="0" y="100"/>
                      </a:lnTo>
                      <a:lnTo>
                        <a:pt x="2" y="138"/>
                      </a:lnTo>
                      <a:lnTo>
                        <a:pt x="7" y="177"/>
                      </a:lnTo>
                      <a:lnTo>
                        <a:pt x="15" y="213"/>
                      </a:lnTo>
                      <a:lnTo>
                        <a:pt x="21" y="230"/>
                      </a:lnTo>
                      <a:lnTo>
                        <a:pt x="29" y="248"/>
                      </a:lnTo>
                      <a:lnTo>
                        <a:pt x="43" y="281"/>
                      </a:lnTo>
                      <a:lnTo>
                        <a:pt x="53" y="297"/>
                      </a:lnTo>
                      <a:lnTo>
                        <a:pt x="64" y="314"/>
                      </a:lnTo>
                      <a:lnTo>
                        <a:pt x="74" y="329"/>
                      </a:lnTo>
                      <a:lnTo>
                        <a:pt x="87" y="344"/>
                      </a:lnTo>
                      <a:lnTo>
                        <a:pt x="114" y="374"/>
                      </a:lnTo>
                      <a:lnTo>
                        <a:pt x="142" y="400"/>
                      </a:lnTo>
                      <a:lnTo>
                        <a:pt x="173" y="423"/>
                      </a:lnTo>
                      <a:lnTo>
                        <a:pt x="204" y="442"/>
                      </a:lnTo>
                      <a:lnTo>
                        <a:pt x="240" y="459"/>
                      </a:lnTo>
                      <a:lnTo>
                        <a:pt x="274" y="470"/>
                      </a:lnTo>
                      <a:lnTo>
                        <a:pt x="311" y="479"/>
                      </a:lnTo>
                      <a:lnTo>
                        <a:pt x="348" y="485"/>
                      </a:lnTo>
                      <a:lnTo>
                        <a:pt x="389" y="487"/>
                      </a:lnTo>
                      <a:lnTo>
                        <a:pt x="414" y="486"/>
                      </a:lnTo>
                      <a:lnTo>
                        <a:pt x="440" y="484"/>
                      </a:lnTo>
                      <a:lnTo>
                        <a:pt x="464" y="479"/>
                      </a:lnTo>
                      <a:lnTo>
                        <a:pt x="489" y="475"/>
                      </a:lnTo>
                      <a:lnTo>
                        <a:pt x="512" y="467"/>
                      </a:lnTo>
                      <a:lnTo>
                        <a:pt x="523" y="462"/>
                      </a:lnTo>
                      <a:lnTo>
                        <a:pt x="529" y="460"/>
                      </a:lnTo>
                      <a:lnTo>
                        <a:pt x="536" y="459"/>
                      </a:lnTo>
                      <a:lnTo>
                        <a:pt x="540" y="456"/>
                      </a:lnTo>
                      <a:lnTo>
                        <a:pt x="546" y="453"/>
                      </a:lnTo>
                      <a:lnTo>
                        <a:pt x="557" y="449"/>
                      </a:lnTo>
                      <a:lnTo>
                        <a:pt x="580" y="439"/>
                      </a:lnTo>
                      <a:lnTo>
                        <a:pt x="582" y="424"/>
                      </a:lnTo>
                      <a:lnTo>
                        <a:pt x="585" y="410"/>
                      </a:lnTo>
                      <a:lnTo>
                        <a:pt x="563" y="423"/>
                      </a:lnTo>
                      <a:lnTo>
                        <a:pt x="540" y="434"/>
                      </a:lnTo>
                      <a:lnTo>
                        <a:pt x="516" y="443"/>
                      </a:lnTo>
                      <a:lnTo>
                        <a:pt x="509" y="444"/>
                      </a:lnTo>
                      <a:lnTo>
                        <a:pt x="504" y="446"/>
                      </a:lnTo>
                      <a:lnTo>
                        <a:pt x="492" y="451"/>
                      </a:lnTo>
                      <a:lnTo>
                        <a:pt x="479" y="453"/>
                      </a:lnTo>
                      <a:lnTo>
                        <a:pt x="472" y="454"/>
                      </a:lnTo>
                      <a:lnTo>
                        <a:pt x="466" y="457"/>
                      </a:lnTo>
                      <a:lnTo>
                        <a:pt x="441" y="461"/>
                      </a:lnTo>
                      <a:lnTo>
                        <a:pt x="428" y="462"/>
                      </a:lnTo>
                      <a:lnTo>
                        <a:pt x="415" y="465"/>
                      </a:lnTo>
                      <a:lnTo>
                        <a:pt x="402" y="465"/>
                      </a:lnTo>
                      <a:lnTo>
                        <a:pt x="395" y="465"/>
                      </a:lnTo>
                      <a:lnTo>
                        <a:pt x="392" y="465"/>
                      </a:lnTo>
                      <a:lnTo>
                        <a:pt x="389" y="466"/>
                      </a:lnTo>
                      <a:lnTo>
                        <a:pt x="351" y="463"/>
                      </a:lnTo>
                      <a:lnTo>
                        <a:pt x="316" y="459"/>
                      </a:lnTo>
                      <a:lnTo>
                        <a:pt x="280" y="450"/>
                      </a:lnTo>
                      <a:lnTo>
                        <a:pt x="248" y="439"/>
                      </a:lnTo>
                      <a:lnTo>
                        <a:pt x="215" y="423"/>
                      </a:lnTo>
                      <a:lnTo>
                        <a:pt x="185" y="405"/>
                      </a:lnTo>
                      <a:lnTo>
                        <a:pt x="156" y="383"/>
                      </a:lnTo>
                      <a:lnTo>
                        <a:pt x="130" y="359"/>
                      </a:lnTo>
                      <a:lnTo>
                        <a:pt x="104" y="331"/>
                      </a:lnTo>
                      <a:lnTo>
                        <a:pt x="82" y="301"/>
                      </a:lnTo>
                      <a:lnTo>
                        <a:pt x="63" y="271"/>
                      </a:lnTo>
                      <a:lnTo>
                        <a:pt x="48" y="240"/>
                      </a:lnTo>
                      <a:lnTo>
                        <a:pt x="36" y="206"/>
                      </a:lnTo>
                      <a:lnTo>
                        <a:pt x="28" y="172"/>
                      </a:lnTo>
                      <a:lnTo>
                        <a:pt x="23" y="136"/>
                      </a:lnTo>
                      <a:lnTo>
                        <a:pt x="22" y="100"/>
                      </a:lnTo>
                      <a:lnTo>
                        <a:pt x="22" y="72"/>
                      </a:lnTo>
                      <a:lnTo>
                        <a:pt x="24" y="47"/>
                      </a:lnTo>
                      <a:lnTo>
                        <a:pt x="28" y="22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400440" y="4007520"/>
                  <a:ext cx="178200" cy="143640"/>
                </a:xfrm>
                <a:custGeom>
                  <a:avLst/>
                  <a:gdLst/>
                  <a:ahLst/>
                  <a:rect l="l" t="t" r="r" b="b"/>
                  <a:pathLst>
                    <a:path w="625" h="502">
                      <a:moveTo>
                        <a:pt x="0" y="21"/>
                      </a:moveTo>
                      <a:lnTo>
                        <a:pt x="0" y="49"/>
                      </a:lnTo>
                      <a:lnTo>
                        <a:pt x="1" y="94"/>
                      </a:lnTo>
                      <a:lnTo>
                        <a:pt x="3" y="115"/>
                      </a:lnTo>
                      <a:lnTo>
                        <a:pt x="8" y="138"/>
                      </a:lnTo>
                      <a:lnTo>
                        <a:pt x="11" y="159"/>
                      </a:lnTo>
                      <a:lnTo>
                        <a:pt x="17" y="180"/>
                      </a:lnTo>
                      <a:lnTo>
                        <a:pt x="33" y="221"/>
                      </a:lnTo>
                      <a:lnTo>
                        <a:pt x="51" y="259"/>
                      </a:lnTo>
                      <a:lnTo>
                        <a:pt x="61" y="278"/>
                      </a:lnTo>
                      <a:lnTo>
                        <a:pt x="73" y="297"/>
                      </a:lnTo>
                      <a:lnTo>
                        <a:pt x="101" y="333"/>
                      </a:lnTo>
                      <a:lnTo>
                        <a:pt x="115" y="350"/>
                      </a:lnTo>
                      <a:lnTo>
                        <a:pt x="132" y="368"/>
                      </a:lnTo>
                      <a:lnTo>
                        <a:pt x="165" y="399"/>
                      </a:lnTo>
                      <a:lnTo>
                        <a:pt x="202" y="426"/>
                      </a:lnTo>
                      <a:lnTo>
                        <a:pt x="239" y="449"/>
                      </a:lnTo>
                      <a:lnTo>
                        <a:pt x="279" y="468"/>
                      </a:lnTo>
                      <a:lnTo>
                        <a:pt x="318" y="482"/>
                      </a:lnTo>
                      <a:lnTo>
                        <a:pt x="361" y="493"/>
                      </a:lnTo>
                      <a:lnTo>
                        <a:pt x="406" y="500"/>
                      </a:lnTo>
                      <a:lnTo>
                        <a:pt x="453" y="502"/>
                      </a:lnTo>
                      <a:lnTo>
                        <a:pt x="494" y="500"/>
                      </a:lnTo>
                      <a:lnTo>
                        <a:pt x="513" y="498"/>
                      </a:lnTo>
                      <a:lnTo>
                        <a:pt x="534" y="495"/>
                      </a:lnTo>
                      <a:lnTo>
                        <a:pt x="572" y="486"/>
                      </a:lnTo>
                      <a:lnTo>
                        <a:pt x="611" y="475"/>
                      </a:lnTo>
                      <a:lnTo>
                        <a:pt x="625" y="446"/>
                      </a:lnTo>
                      <a:lnTo>
                        <a:pt x="584" y="460"/>
                      </a:lnTo>
                      <a:lnTo>
                        <a:pt x="572" y="462"/>
                      </a:lnTo>
                      <a:lnTo>
                        <a:pt x="569" y="462"/>
                      </a:lnTo>
                      <a:lnTo>
                        <a:pt x="567" y="463"/>
                      </a:lnTo>
                      <a:lnTo>
                        <a:pt x="562" y="466"/>
                      </a:lnTo>
                      <a:lnTo>
                        <a:pt x="542" y="471"/>
                      </a:lnTo>
                      <a:lnTo>
                        <a:pt x="519" y="475"/>
                      </a:lnTo>
                      <a:lnTo>
                        <a:pt x="508" y="476"/>
                      </a:lnTo>
                      <a:lnTo>
                        <a:pt x="498" y="478"/>
                      </a:lnTo>
                      <a:lnTo>
                        <a:pt x="475" y="479"/>
                      </a:lnTo>
                      <a:lnTo>
                        <a:pt x="464" y="479"/>
                      </a:lnTo>
                      <a:lnTo>
                        <a:pt x="458" y="479"/>
                      </a:lnTo>
                      <a:lnTo>
                        <a:pt x="453" y="481"/>
                      </a:lnTo>
                      <a:lnTo>
                        <a:pt x="408" y="478"/>
                      </a:lnTo>
                      <a:lnTo>
                        <a:pt x="366" y="473"/>
                      </a:lnTo>
                      <a:lnTo>
                        <a:pt x="325" y="462"/>
                      </a:lnTo>
                      <a:lnTo>
                        <a:pt x="287" y="449"/>
                      </a:lnTo>
                      <a:lnTo>
                        <a:pt x="248" y="431"/>
                      </a:lnTo>
                      <a:lnTo>
                        <a:pt x="213" y="409"/>
                      </a:lnTo>
                      <a:lnTo>
                        <a:pt x="179" y="383"/>
                      </a:lnTo>
                      <a:lnTo>
                        <a:pt x="147" y="354"/>
                      </a:lnTo>
                      <a:lnTo>
                        <a:pt x="117" y="321"/>
                      </a:lnTo>
                      <a:lnTo>
                        <a:pt x="92" y="287"/>
                      </a:lnTo>
                      <a:lnTo>
                        <a:pt x="69" y="250"/>
                      </a:lnTo>
                      <a:lnTo>
                        <a:pt x="52" y="213"/>
                      </a:lnTo>
                      <a:lnTo>
                        <a:pt x="37" y="173"/>
                      </a:lnTo>
                      <a:lnTo>
                        <a:pt x="32" y="153"/>
                      </a:lnTo>
                      <a:lnTo>
                        <a:pt x="28" y="134"/>
                      </a:lnTo>
                      <a:lnTo>
                        <a:pt x="22" y="92"/>
                      </a:lnTo>
                      <a:lnTo>
                        <a:pt x="21" y="49"/>
                      </a:lnTo>
                      <a:lnTo>
                        <a:pt x="21" y="22"/>
                      </a:lnTo>
                      <a:lnTo>
                        <a:pt x="24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406560" y="4002480"/>
                  <a:ext cx="175320" cy="142560"/>
                </a:xfrm>
                <a:custGeom>
                  <a:avLst/>
                  <a:gdLst/>
                  <a:ahLst/>
                  <a:rect l="l" t="t" r="r" b="b"/>
                  <a:pathLst>
                    <a:path w="615" h="500">
                      <a:moveTo>
                        <a:pt x="22" y="68"/>
                      </a:moveTo>
                      <a:lnTo>
                        <a:pt x="23" y="32"/>
                      </a:lnTo>
                      <a:lnTo>
                        <a:pt x="26" y="0"/>
                      </a:lnTo>
                      <a:lnTo>
                        <a:pt x="3" y="19"/>
                      </a:lnTo>
                      <a:lnTo>
                        <a:pt x="0" y="41"/>
                      </a:lnTo>
                      <a:lnTo>
                        <a:pt x="0" y="68"/>
                      </a:lnTo>
                      <a:lnTo>
                        <a:pt x="1" y="111"/>
                      </a:lnTo>
                      <a:lnTo>
                        <a:pt x="7" y="153"/>
                      </a:lnTo>
                      <a:lnTo>
                        <a:pt x="11" y="172"/>
                      </a:lnTo>
                      <a:lnTo>
                        <a:pt x="16" y="192"/>
                      </a:lnTo>
                      <a:lnTo>
                        <a:pt x="31" y="232"/>
                      </a:lnTo>
                      <a:lnTo>
                        <a:pt x="48" y="269"/>
                      </a:lnTo>
                      <a:lnTo>
                        <a:pt x="71" y="306"/>
                      </a:lnTo>
                      <a:lnTo>
                        <a:pt x="96" y="340"/>
                      </a:lnTo>
                      <a:lnTo>
                        <a:pt x="126" y="373"/>
                      </a:lnTo>
                      <a:lnTo>
                        <a:pt x="158" y="402"/>
                      </a:lnTo>
                      <a:lnTo>
                        <a:pt x="192" y="428"/>
                      </a:lnTo>
                      <a:lnTo>
                        <a:pt x="227" y="450"/>
                      </a:lnTo>
                      <a:lnTo>
                        <a:pt x="266" y="468"/>
                      </a:lnTo>
                      <a:lnTo>
                        <a:pt x="304" y="481"/>
                      </a:lnTo>
                      <a:lnTo>
                        <a:pt x="345" y="492"/>
                      </a:lnTo>
                      <a:lnTo>
                        <a:pt x="387" y="497"/>
                      </a:lnTo>
                      <a:lnTo>
                        <a:pt x="432" y="500"/>
                      </a:lnTo>
                      <a:lnTo>
                        <a:pt x="437" y="498"/>
                      </a:lnTo>
                      <a:lnTo>
                        <a:pt x="443" y="498"/>
                      </a:lnTo>
                      <a:lnTo>
                        <a:pt x="454" y="498"/>
                      </a:lnTo>
                      <a:lnTo>
                        <a:pt x="477" y="497"/>
                      </a:lnTo>
                      <a:lnTo>
                        <a:pt x="487" y="495"/>
                      </a:lnTo>
                      <a:lnTo>
                        <a:pt x="498" y="494"/>
                      </a:lnTo>
                      <a:lnTo>
                        <a:pt x="521" y="490"/>
                      </a:lnTo>
                      <a:lnTo>
                        <a:pt x="541" y="485"/>
                      </a:lnTo>
                      <a:lnTo>
                        <a:pt x="546" y="482"/>
                      </a:lnTo>
                      <a:lnTo>
                        <a:pt x="548" y="481"/>
                      </a:lnTo>
                      <a:lnTo>
                        <a:pt x="551" y="481"/>
                      </a:lnTo>
                      <a:lnTo>
                        <a:pt x="563" y="479"/>
                      </a:lnTo>
                      <a:lnTo>
                        <a:pt x="604" y="465"/>
                      </a:lnTo>
                      <a:lnTo>
                        <a:pt x="615" y="436"/>
                      </a:lnTo>
                      <a:lnTo>
                        <a:pt x="592" y="445"/>
                      </a:lnTo>
                      <a:lnTo>
                        <a:pt x="572" y="453"/>
                      </a:lnTo>
                      <a:lnTo>
                        <a:pt x="549" y="460"/>
                      </a:lnTo>
                      <a:lnTo>
                        <a:pt x="528" y="467"/>
                      </a:lnTo>
                      <a:lnTo>
                        <a:pt x="504" y="471"/>
                      </a:lnTo>
                      <a:lnTo>
                        <a:pt x="481" y="475"/>
                      </a:lnTo>
                      <a:lnTo>
                        <a:pt x="456" y="477"/>
                      </a:lnTo>
                      <a:lnTo>
                        <a:pt x="444" y="477"/>
                      </a:lnTo>
                      <a:lnTo>
                        <a:pt x="432" y="478"/>
                      </a:lnTo>
                      <a:lnTo>
                        <a:pt x="389" y="476"/>
                      </a:lnTo>
                      <a:lnTo>
                        <a:pt x="350" y="470"/>
                      </a:lnTo>
                      <a:lnTo>
                        <a:pt x="311" y="460"/>
                      </a:lnTo>
                      <a:lnTo>
                        <a:pt x="275" y="447"/>
                      </a:lnTo>
                      <a:lnTo>
                        <a:pt x="238" y="429"/>
                      </a:lnTo>
                      <a:lnTo>
                        <a:pt x="204" y="409"/>
                      </a:lnTo>
                      <a:lnTo>
                        <a:pt x="172" y="384"/>
                      </a:lnTo>
                      <a:lnTo>
                        <a:pt x="142" y="357"/>
                      </a:lnTo>
                      <a:lnTo>
                        <a:pt x="113" y="325"/>
                      </a:lnTo>
                      <a:lnTo>
                        <a:pt x="89" y="293"/>
                      </a:lnTo>
                      <a:lnTo>
                        <a:pt x="67" y="259"/>
                      </a:lnTo>
                      <a:lnTo>
                        <a:pt x="58" y="241"/>
                      </a:lnTo>
                      <a:lnTo>
                        <a:pt x="51" y="224"/>
                      </a:lnTo>
                      <a:lnTo>
                        <a:pt x="43" y="205"/>
                      </a:lnTo>
                      <a:lnTo>
                        <a:pt x="38" y="187"/>
                      </a:lnTo>
                      <a:lnTo>
                        <a:pt x="29" y="148"/>
                      </a:lnTo>
                      <a:lnTo>
                        <a:pt x="23" y="108"/>
                      </a:lnTo>
                      <a:lnTo>
                        <a:pt x="22" y="68"/>
                      </a:lnTo>
                      <a:close/>
                    </a:path>
                  </a:pathLst>
                </a:custGeom>
                <a:solidFill>
                  <a:srgbClr val="00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412320" y="3997440"/>
                  <a:ext cx="172080" cy="141480"/>
                </a:xfrm>
                <a:custGeom>
                  <a:avLst/>
                  <a:gdLst/>
                  <a:ahLst/>
                  <a:rect l="l" t="t" r="r" b="b"/>
                  <a:pathLst>
                    <a:path w="601" h="496">
                      <a:moveTo>
                        <a:pt x="4" y="18"/>
                      </a:moveTo>
                      <a:lnTo>
                        <a:pt x="1" y="50"/>
                      </a:lnTo>
                      <a:lnTo>
                        <a:pt x="0" y="86"/>
                      </a:lnTo>
                      <a:lnTo>
                        <a:pt x="1" y="126"/>
                      </a:lnTo>
                      <a:lnTo>
                        <a:pt x="7" y="166"/>
                      </a:lnTo>
                      <a:lnTo>
                        <a:pt x="16" y="205"/>
                      </a:lnTo>
                      <a:lnTo>
                        <a:pt x="21" y="223"/>
                      </a:lnTo>
                      <a:lnTo>
                        <a:pt x="29" y="242"/>
                      </a:lnTo>
                      <a:lnTo>
                        <a:pt x="36" y="259"/>
                      </a:lnTo>
                      <a:lnTo>
                        <a:pt x="45" y="277"/>
                      </a:lnTo>
                      <a:lnTo>
                        <a:pt x="67" y="311"/>
                      </a:lnTo>
                      <a:lnTo>
                        <a:pt x="91" y="343"/>
                      </a:lnTo>
                      <a:lnTo>
                        <a:pt x="120" y="375"/>
                      </a:lnTo>
                      <a:lnTo>
                        <a:pt x="150" y="402"/>
                      </a:lnTo>
                      <a:lnTo>
                        <a:pt x="182" y="427"/>
                      </a:lnTo>
                      <a:lnTo>
                        <a:pt x="216" y="447"/>
                      </a:lnTo>
                      <a:lnTo>
                        <a:pt x="253" y="465"/>
                      </a:lnTo>
                      <a:lnTo>
                        <a:pt x="289" y="478"/>
                      </a:lnTo>
                      <a:lnTo>
                        <a:pt x="328" y="488"/>
                      </a:lnTo>
                      <a:lnTo>
                        <a:pt x="367" y="494"/>
                      </a:lnTo>
                      <a:lnTo>
                        <a:pt x="410" y="496"/>
                      </a:lnTo>
                      <a:lnTo>
                        <a:pt x="422" y="495"/>
                      </a:lnTo>
                      <a:lnTo>
                        <a:pt x="434" y="495"/>
                      </a:lnTo>
                      <a:lnTo>
                        <a:pt x="459" y="493"/>
                      </a:lnTo>
                      <a:lnTo>
                        <a:pt x="482" y="489"/>
                      </a:lnTo>
                      <a:lnTo>
                        <a:pt x="506" y="485"/>
                      </a:lnTo>
                      <a:lnTo>
                        <a:pt x="527" y="478"/>
                      </a:lnTo>
                      <a:lnTo>
                        <a:pt x="550" y="471"/>
                      </a:lnTo>
                      <a:lnTo>
                        <a:pt x="570" y="463"/>
                      </a:lnTo>
                      <a:lnTo>
                        <a:pt x="593" y="454"/>
                      </a:lnTo>
                      <a:lnTo>
                        <a:pt x="601" y="425"/>
                      </a:lnTo>
                      <a:lnTo>
                        <a:pt x="578" y="435"/>
                      </a:lnTo>
                      <a:lnTo>
                        <a:pt x="567" y="439"/>
                      </a:lnTo>
                      <a:lnTo>
                        <a:pt x="561" y="442"/>
                      </a:lnTo>
                      <a:lnTo>
                        <a:pt x="557" y="445"/>
                      </a:lnTo>
                      <a:lnTo>
                        <a:pt x="550" y="446"/>
                      </a:lnTo>
                      <a:lnTo>
                        <a:pt x="544" y="448"/>
                      </a:lnTo>
                      <a:lnTo>
                        <a:pt x="533" y="453"/>
                      </a:lnTo>
                      <a:lnTo>
                        <a:pt x="510" y="461"/>
                      </a:lnTo>
                      <a:lnTo>
                        <a:pt x="485" y="465"/>
                      </a:lnTo>
                      <a:lnTo>
                        <a:pt x="461" y="470"/>
                      </a:lnTo>
                      <a:lnTo>
                        <a:pt x="435" y="472"/>
                      </a:lnTo>
                      <a:lnTo>
                        <a:pt x="410" y="473"/>
                      </a:lnTo>
                      <a:lnTo>
                        <a:pt x="369" y="471"/>
                      </a:lnTo>
                      <a:lnTo>
                        <a:pt x="332" y="465"/>
                      </a:lnTo>
                      <a:lnTo>
                        <a:pt x="295" y="456"/>
                      </a:lnTo>
                      <a:lnTo>
                        <a:pt x="261" y="445"/>
                      </a:lnTo>
                      <a:lnTo>
                        <a:pt x="225" y="428"/>
                      </a:lnTo>
                      <a:lnTo>
                        <a:pt x="194" y="409"/>
                      </a:lnTo>
                      <a:lnTo>
                        <a:pt x="163" y="386"/>
                      </a:lnTo>
                      <a:lnTo>
                        <a:pt x="135" y="360"/>
                      </a:lnTo>
                      <a:lnTo>
                        <a:pt x="108" y="330"/>
                      </a:lnTo>
                      <a:lnTo>
                        <a:pt x="95" y="315"/>
                      </a:lnTo>
                      <a:lnTo>
                        <a:pt x="85" y="300"/>
                      </a:lnTo>
                      <a:lnTo>
                        <a:pt x="74" y="283"/>
                      </a:lnTo>
                      <a:lnTo>
                        <a:pt x="64" y="267"/>
                      </a:lnTo>
                      <a:lnTo>
                        <a:pt x="50" y="234"/>
                      </a:lnTo>
                      <a:lnTo>
                        <a:pt x="42" y="216"/>
                      </a:lnTo>
                      <a:lnTo>
                        <a:pt x="36" y="199"/>
                      </a:lnTo>
                      <a:lnTo>
                        <a:pt x="28" y="163"/>
                      </a:lnTo>
                      <a:lnTo>
                        <a:pt x="23" y="124"/>
                      </a:lnTo>
                      <a:lnTo>
                        <a:pt x="21" y="86"/>
                      </a:lnTo>
                      <a:lnTo>
                        <a:pt x="24" y="41"/>
                      </a:lnTo>
                      <a:lnTo>
                        <a:pt x="26" y="20"/>
                      </a:lnTo>
                      <a:lnTo>
                        <a:pt x="30" y="0"/>
                      </a:lnTo>
                      <a:lnTo>
                        <a:pt x="4" y="18"/>
                      </a:lnTo>
                      <a:close/>
                    </a:path>
                  </a:pathLst>
                </a:custGeom>
                <a:solidFill>
                  <a:srgbClr val="00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424920" y="3989880"/>
                  <a:ext cx="162360" cy="136440"/>
                </a:xfrm>
                <a:custGeom>
                  <a:avLst/>
                  <a:gdLst/>
                  <a:ahLst/>
                  <a:rect l="l" t="t" r="r" b="b"/>
                  <a:pathLst>
                    <a:path w="568" h="479">
                      <a:moveTo>
                        <a:pt x="12" y="13"/>
                      </a:moveTo>
                      <a:lnTo>
                        <a:pt x="6" y="35"/>
                      </a:lnTo>
                      <a:lnTo>
                        <a:pt x="2" y="60"/>
                      </a:lnTo>
                      <a:lnTo>
                        <a:pt x="0" y="85"/>
                      </a:lnTo>
                      <a:lnTo>
                        <a:pt x="0" y="113"/>
                      </a:lnTo>
                      <a:lnTo>
                        <a:pt x="1" y="149"/>
                      </a:lnTo>
                      <a:lnTo>
                        <a:pt x="6" y="185"/>
                      </a:lnTo>
                      <a:lnTo>
                        <a:pt x="14" y="219"/>
                      </a:lnTo>
                      <a:lnTo>
                        <a:pt x="26" y="253"/>
                      </a:lnTo>
                      <a:lnTo>
                        <a:pt x="41" y="284"/>
                      </a:lnTo>
                      <a:lnTo>
                        <a:pt x="60" y="314"/>
                      </a:lnTo>
                      <a:lnTo>
                        <a:pt x="82" y="344"/>
                      </a:lnTo>
                      <a:lnTo>
                        <a:pt x="108" y="372"/>
                      </a:lnTo>
                      <a:lnTo>
                        <a:pt x="134" y="396"/>
                      </a:lnTo>
                      <a:lnTo>
                        <a:pt x="163" y="418"/>
                      </a:lnTo>
                      <a:lnTo>
                        <a:pt x="193" y="436"/>
                      </a:lnTo>
                      <a:lnTo>
                        <a:pt x="226" y="452"/>
                      </a:lnTo>
                      <a:lnTo>
                        <a:pt x="258" y="463"/>
                      </a:lnTo>
                      <a:lnTo>
                        <a:pt x="294" y="472"/>
                      </a:lnTo>
                      <a:lnTo>
                        <a:pt x="329" y="476"/>
                      </a:lnTo>
                      <a:lnTo>
                        <a:pt x="367" y="479"/>
                      </a:lnTo>
                      <a:lnTo>
                        <a:pt x="370" y="478"/>
                      </a:lnTo>
                      <a:lnTo>
                        <a:pt x="373" y="478"/>
                      </a:lnTo>
                      <a:lnTo>
                        <a:pt x="380" y="478"/>
                      </a:lnTo>
                      <a:lnTo>
                        <a:pt x="393" y="478"/>
                      </a:lnTo>
                      <a:lnTo>
                        <a:pt x="406" y="475"/>
                      </a:lnTo>
                      <a:lnTo>
                        <a:pt x="419" y="474"/>
                      </a:lnTo>
                      <a:lnTo>
                        <a:pt x="444" y="470"/>
                      </a:lnTo>
                      <a:lnTo>
                        <a:pt x="450" y="467"/>
                      </a:lnTo>
                      <a:lnTo>
                        <a:pt x="457" y="466"/>
                      </a:lnTo>
                      <a:lnTo>
                        <a:pt x="470" y="464"/>
                      </a:lnTo>
                      <a:lnTo>
                        <a:pt x="482" y="459"/>
                      </a:lnTo>
                      <a:lnTo>
                        <a:pt x="487" y="457"/>
                      </a:lnTo>
                      <a:lnTo>
                        <a:pt x="494" y="456"/>
                      </a:lnTo>
                      <a:lnTo>
                        <a:pt x="518" y="447"/>
                      </a:lnTo>
                      <a:lnTo>
                        <a:pt x="541" y="436"/>
                      </a:lnTo>
                      <a:lnTo>
                        <a:pt x="563" y="423"/>
                      </a:lnTo>
                      <a:lnTo>
                        <a:pt x="568" y="394"/>
                      </a:lnTo>
                      <a:lnTo>
                        <a:pt x="556" y="401"/>
                      </a:lnTo>
                      <a:lnTo>
                        <a:pt x="544" y="408"/>
                      </a:lnTo>
                      <a:lnTo>
                        <a:pt x="522" y="421"/>
                      </a:lnTo>
                      <a:lnTo>
                        <a:pt x="509" y="425"/>
                      </a:lnTo>
                      <a:lnTo>
                        <a:pt x="498" y="431"/>
                      </a:lnTo>
                      <a:lnTo>
                        <a:pt x="485" y="436"/>
                      </a:lnTo>
                      <a:lnTo>
                        <a:pt x="474" y="441"/>
                      </a:lnTo>
                      <a:lnTo>
                        <a:pt x="448" y="448"/>
                      </a:lnTo>
                      <a:lnTo>
                        <a:pt x="434" y="450"/>
                      </a:lnTo>
                      <a:lnTo>
                        <a:pt x="427" y="452"/>
                      </a:lnTo>
                      <a:lnTo>
                        <a:pt x="422" y="454"/>
                      </a:lnTo>
                      <a:lnTo>
                        <a:pt x="395" y="457"/>
                      </a:lnTo>
                      <a:lnTo>
                        <a:pt x="367" y="458"/>
                      </a:lnTo>
                      <a:lnTo>
                        <a:pt x="331" y="456"/>
                      </a:lnTo>
                      <a:lnTo>
                        <a:pt x="297" y="452"/>
                      </a:lnTo>
                      <a:lnTo>
                        <a:pt x="264" y="442"/>
                      </a:lnTo>
                      <a:lnTo>
                        <a:pt x="234" y="432"/>
                      </a:lnTo>
                      <a:lnTo>
                        <a:pt x="203" y="418"/>
                      </a:lnTo>
                      <a:lnTo>
                        <a:pt x="175" y="401"/>
                      </a:lnTo>
                      <a:lnTo>
                        <a:pt x="147" y="379"/>
                      </a:lnTo>
                      <a:lnTo>
                        <a:pt x="122" y="356"/>
                      </a:lnTo>
                      <a:lnTo>
                        <a:pt x="97" y="329"/>
                      </a:lnTo>
                      <a:lnTo>
                        <a:pt x="77" y="302"/>
                      </a:lnTo>
                      <a:lnTo>
                        <a:pt x="60" y="274"/>
                      </a:lnTo>
                      <a:lnTo>
                        <a:pt x="46" y="244"/>
                      </a:lnTo>
                      <a:lnTo>
                        <a:pt x="35" y="212"/>
                      </a:lnTo>
                      <a:lnTo>
                        <a:pt x="27" y="181"/>
                      </a:lnTo>
                      <a:lnTo>
                        <a:pt x="23" y="147"/>
                      </a:lnTo>
                      <a:lnTo>
                        <a:pt x="21" y="113"/>
                      </a:lnTo>
                      <a:lnTo>
                        <a:pt x="23" y="82"/>
                      </a:lnTo>
                      <a:lnTo>
                        <a:pt x="26" y="54"/>
                      </a:lnTo>
                      <a:lnTo>
                        <a:pt x="32" y="26"/>
                      </a:lnTo>
                      <a:lnTo>
                        <a:pt x="40" y="0"/>
                      </a:lnTo>
                      <a:lnTo>
                        <a:pt x="12" y="1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431040" y="3987000"/>
                  <a:ext cx="156600" cy="133560"/>
                </a:xfrm>
                <a:custGeom>
                  <a:avLst/>
                  <a:gdLst/>
                  <a:ahLst/>
                  <a:rect l="l" t="t" r="r" b="b"/>
                  <a:pathLst>
                    <a:path w="548" h="468">
                      <a:moveTo>
                        <a:pt x="45" y="0"/>
                      </a:moveTo>
                      <a:lnTo>
                        <a:pt x="19" y="10"/>
                      </a:lnTo>
                      <a:lnTo>
                        <a:pt x="11" y="36"/>
                      </a:lnTo>
                      <a:lnTo>
                        <a:pt x="5" y="64"/>
                      </a:lnTo>
                      <a:lnTo>
                        <a:pt x="2" y="92"/>
                      </a:lnTo>
                      <a:lnTo>
                        <a:pt x="0" y="123"/>
                      </a:lnTo>
                      <a:lnTo>
                        <a:pt x="2" y="157"/>
                      </a:lnTo>
                      <a:lnTo>
                        <a:pt x="6" y="191"/>
                      </a:lnTo>
                      <a:lnTo>
                        <a:pt x="14" y="222"/>
                      </a:lnTo>
                      <a:lnTo>
                        <a:pt x="25" y="254"/>
                      </a:lnTo>
                      <a:lnTo>
                        <a:pt x="39" y="284"/>
                      </a:lnTo>
                      <a:lnTo>
                        <a:pt x="56" y="312"/>
                      </a:lnTo>
                      <a:lnTo>
                        <a:pt x="76" y="339"/>
                      </a:lnTo>
                      <a:lnTo>
                        <a:pt x="101" y="366"/>
                      </a:lnTo>
                      <a:lnTo>
                        <a:pt x="126" y="389"/>
                      </a:lnTo>
                      <a:lnTo>
                        <a:pt x="154" y="411"/>
                      </a:lnTo>
                      <a:lnTo>
                        <a:pt x="182" y="428"/>
                      </a:lnTo>
                      <a:lnTo>
                        <a:pt x="213" y="442"/>
                      </a:lnTo>
                      <a:lnTo>
                        <a:pt x="243" y="452"/>
                      </a:lnTo>
                      <a:lnTo>
                        <a:pt x="276" y="462"/>
                      </a:lnTo>
                      <a:lnTo>
                        <a:pt x="310" y="466"/>
                      </a:lnTo>
                      <a:lnTo>
                        <a:pt x="346" y="468"/>
                      </a:lnTo>
                      <a:lnTo>
                        <a:pt x="374" y="467"/>
                      </a:lnTo>
                      <a:lnTo>
                        <a:pt x="401" y="464"/>
                      </a:lnTo>
                      <a:lnTo>
                        <a:pt x="406" y="462"/>
                      </a:lnTo>
                      <a:lnTo>
                        <a:pt x="413" y="460"/>
                      </a:lnTo>
                      <a:lnTo>
                        <a:pt x="427" y="458"/>
                      </a:lnTo>
                      <a:lnTo>
                        <a:pt x="453" y="451"/>
                      </a:lnTo>
                      <a:lnTo>
                        <a:pt x="464" y="446"/>
                      </a:lnTo>
                      <a:lnTo>
                        <a:pt x="477" y="441"/>
                      </a:lnTo>
                      <a:lnTo>
                        <a:pt x="488" y="435"/>
                      </a:lnTo>
                      <a:lnTo>
                        <a:pt x="501" y="431"/>
                      </a:lnTo>
                      <a:lnTo>
                        <a:pt x="523" y="418"/>
                      </a:lnTo>
                      <a:lnTo>
                        <a:pt x="535" y="411"/>
                      </a:lnTo>
                      <a:lnTo>
                        <a:pt x="547" y="404"/>
                      </a:lnTo>
                      <a:lnTo>
                        <a:pt x="547" y="389"/>
                      </a:lnTo>
                      <a:lnTo>
                        <a:pt x="548" y="375"/>
                      </a:lnTo>
                      <a:lnTo>
                        <a:pt x="525" y="390"/>
                      </a:lnTo>
                      <a:lnTo>
                        <a:pt x="503" y="405"/>
                      </a:lnTo>
                      <a:lnTo>
                        <a:pt x="478" y="417"/>
                      </a:lnTo>
                      <a:lnTo>
                        <a:pt x="465" y="422"/>
                      </a:lnTo>
                      <a:lnTo>
                        <a:pt x="454" y="428"/>
                      </a:lnTo>
                      <a:lnTo>
                        <a:pt x="440" y="431"/>
                      </a:lnTo>
                      <a:lnTo>
                        <a:pt x="428" y="435"/>
                      </a:lnTo>
                      <a:lnTo>
                        <a:pt x="414" y="438"/>
                      </a:lnTo>
                      <a:lnTo>
                        <a:pt x="408" y="439"/>
                      </a:lnTo>
                      <a:lnTo>
                        <a:pt x="402" y="441"/>
                      </a:lnTo>
                      <a:lnTo>
                        <a:pt x="394" y="441"/>
                      </a:lnTo>
                      <a:lnTo>
                        <a:pt x="387" y="442"/>
                      </a:lnTo>
                      <a:lnTo>
                        <a:pt x="374" y="445"/>
                      </a:lnTo>
                      <a:lnTo>
                        <a:pt x="346" y="446"/>
                      </a:lnTo>
                      <a:lnTo>
                        <a:pt x="312" y="443"/>
                      </a:lnTo>
                      <a:lnTo>
                        <a:pt x="281" y="439"/>
                      </a:lnTo>
                      <a:lnTo>
                        <a:pt x="249" y="431"/>
                      </a:lnTo>
                      <a:lnTo>
                        <a:pt x="220" y="422"/>
                      </a:lnTo>
                      <a:lnTo>
                        <a:pt x="192" y="407"/>
                      </a:lnTo>
                      <a:lnTo>
                        <a:pt x="166" y="391"/>
                      </a:lnTo>
                      <a:lnTo>
                        <a:pt x="140" y="372"/>
                      </a:lnTo>
                      <a:lnTo>
                        <a:pt x="117" y="352"/>
                      </a:lnTo>
                      <a:lnTo>
                        <a:pt x="95" y="327"/>
                      </a:lnTo>
                      <a:lnTo>
                        <a:pt x="75" y="301"/>
                      </a:lnTo>
                      <a:lnTo>
                        <a:pt x="58" y="273"/>
                      </a:lnTo>
                      <a:lnTo>
                        <a:pt x="46" y="246"/>
                      </a:lnTo>
                      <a:lnTo>
                        <a:pt x="35" y="217"/>
                      </a:lnTo>
                      <a:lnTo>
                        <a:pt x="30" y="201"/>
                      </a:lnTo>
                      <a:lnTo>
                        <a:pt x="28" y="186"/>
                      </a:lnTo>
                      <a:lnTo>
                        <a:pt x="23" y="154"/>
                      </a:lnTo>
                      <a:lnTo>
                        <a:pt x="22" y="123"/>
                      </a:lnTo>
                      <a:lnTo>
                        <a:pt x="23" y="90"/>
                      </a:lnTo>
                      <a:lnTo>
                        <a:pt x="28" y="59"/>
                      </a:lnTo>
                      <a:lnTo>
                        <a:pt x="35" y="28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449400" y="3982320"/>
                  <a:ext cx="137160" cy="119160"/>
                </a:xfrm>
                <a:custGeom>
                  <a:avLst/>
                  <a:gdLst/>
                  <a:ahLst/>
                  <a:rect l="l" t="t" r="r" b="b"/>
                  <a:pathLst>
                    <a:path w="481" h="419">
                      <a:moveTo>
                        <a:pt x="22" y="139"/>
                      </a:moveTo>
                      <a:lnTo>
                        <a:pt x="24" y="100"/>
                      </a:lnTo>
                      <a:lnTo>
                        <a:pt x="31" y="65"/>
                      </a:lnTo>
                      <a:lnTo>
                        <a:pt x="42" y="31"/>
                      </a:lnTo>
                      <a:lnTo>
                        <a:pt x="60" y="0"/>
                      </a:lnTo>
                      <a:lnTo>
                        <a:pt x="34" y="4"/>
                      </a:lnTo>
                      <a:lnTo>
                        <a:pt x="18" y="34"/>
                      </a:lnTo>
                      <a:lnTo>
                        <a:pt x="8" y="67"/>
                      </a:lnTo>
                      <a:lnTo>
                        <a:pt x="1" y="101"/>
                      </a:lnTo>
                      <a:lnTo>
                        <a:pt x="0" y="139"/>
                      </a:lnTo>
                      <a:lnTo>
                        <a:pt x="1" y="166"/>
                      </a:lnTo>
                      <a:lnTo>
                        <a:pt x="5" y="193"/>
                      </a:lnTo>
                      <a:lnTo>
                        <a:pt x="10" y="219"/>
                      </a:lnTo>
                      <a:lnTo>
                        <a:pt x="21" y="245"/>
                      </a:lnTo>
                      <a:lnTo>
                        <a:pt x="31" y="269"/>
                      </a:lnTo>
                      <a:lnTo>
                        <a:pt x="45" y="293"/>
                      </a:lnTo>
                      <a:lnTo>
                        <a:pt x="62" y="314"/>
                      </a:lnTo>
                      <a:lnTo>
                        <a:pt x="83" y="337"/>
                      </a:lnTo>
                      <a:lnTo>
                        <a:pt x="103" y="355"/>
                      </a:lnTo>
                      <a:lnTo>
                        <a:pt x="125" y="372"/>
                      </a:lnTo>
                      <a:lnTo>
                        <a:pt x="148" y="386"/>
                      </a:lnTo>
                      <a:lnTo>
                        <a:pt x="172" y="398"/>
                      </a:lnTo>
                      <a:lnTo>
                        <a:pt x="197" y="406"/>
                      </a:lnTo>
                      <a:lnTo>
                        <a:pt x="225" y="413"/>
                      </a:lnTo>
                      <a:lnTo>
                        <a:pt x="252" y="416"/>
                      </a:lnTo>
                      <a:lnTo>
                        <a:pt x="281" y="419"/>
                      </a:lnTo>
                      <a:lnTo>
                        <a:pt x="309" y="416"/>
                      </a:lnTo>
                      <a:lnTo>
                        <a:pt x="336" y="413"/>
                      </a:lnTo>
                      <a:lnTo>
                        <a:pt x="341" y="411"/>
                      </a:lnTo>
                      <a:lnTo>
                        <a:pt x="348" y="410"/>
                      </a:lnTo>
                      <a:lnTo>
                        <a:pt x="362" y="406"/>
                      </a:lnTo>
                      <a:lnTo>
                        <a:pt x="374" y="402"/>
                      </a:lnTo>
                      <a:lnTo>
                        <a:pt x="388" y="398"/>
                      </a:lnTo>
                      <a:lnTo>
                        <a:pt x="399" y="391"/>
                      </a:lnTo>
                      <a:lnTo>
                        <a:pt x="401" y="389"/>
                      </a:lnTo>
                      <a:lnTo>
                        <a:pt x="403" y="388"/>
                      </a:lnTo>
                      <a:lnTo>
                        <a:pt x="405" y="388"/>
                      </a:lnTo>
                      <a:lnTo>
                        <a:pt x="412" y="386"/>
                      </a:lnTo>
                      <a:lnTo>
                        <a:pt x="423" y="379"/>
                      </a:lnTo>
                      <a:lnTo>
                        <a:pt x="436" y="372"/>
                      </a:lnTo>
                      <a:lnTo>
                        <a:pt x="446" y="363"/>
                      </a:lnTo>
                      <a:lnTo>
                        <a:pt x="457" y="355"/>
                      </a:lnTo>
                      <a:lnTo>
                        <a:pt x="480" y="337"/>
                      </a:lnTo>
                      <a:lnTo>
                        <a:pt x="481" y="335"/>
                      </a:lnTo>
                      <a:lnTo>
                        <a:pt x="476" y="309"/>
                      </a:lnTo>
                      <a:lnTo>
                        <a:pt x="470" y="314"/>
                      </a:lnTo>
                      <a:lnTo>
                        <a:pt x="464" y="321"/>
                      </a:lnTo>
                      <a:lnTo>
                        <a:pt x="443" y="338"/>
                      </a:lnTo>
                      <a:lnTo>
                        <a:pt x="423" y="353"/>
                      </a:lnTo>
                      <a:lnTo>
                        <a:pt x="412" y="358"/>
                      </a:lnTo>
                      <a:lnTo>
                        <a:pt x="401" y="365"/>
                      </a:lnTo>
                      <a:lnTo>
                        <a:pt x="390" y="371"/>
                      </a:lnTo>
                      <a:lnTo>
                        <a:pt x="380" y="378"/>
                      </a:lnTo>
                      <a:lnTo>
                        <a:pt x="373" y="379"/>
                      </a:lnTo>
                      <a:lnTo>
                        <a:pt x="367" y="381"/>
                      </a:lnTo>
                      <a:lnTo>
                        <a:pt x="356" y="386"/>
                      </a:lnTo>
                      <a:lnTo>
                        <a:pt x="344" y="388"/>
                      </a:lnTo>
                      <a:lnTo>
                        <a:pt x="332" y="391"/>
                      </a:lnTo>
                      <a:lnTo>
                        <a:pt x="319" y="393"/>
                      </a:lnTo>
                      <a:lnTo>
                        <a:pt x="306" y="395"/>
                      </a:lnTo>
                      <a:lnTo>
                        <a:pt x="281" y="397"/>
                      </a:lnTo>
                      <a:lnTo>
                        <a:pt x="254" y="395"/>
                      </a:lnTo>
                      <a:lnTo>
                        <a:pt x="228" y="391"/>
                      </a:lnTo>
                      <a:lnTo>
                        <a:pt x="203" y="386"/>
                      </a:lnTo>
                      <a:lnTo>
                        <a:pt x="180" y="378"/>
                      </a:lnTo>
                      <a:lnTo>
                        <a:pt x="158" y="365"/>
                      </a:lnTo>
                      <a:lnTo>
                        <a:pt x="136" y="353"/>
                      </a:lnTo>
                      <a:lnTo>
                        <a:pt x="116" y="338"/>
                      </a:lnTo>
                      <a:lnTo>
                        <a:pt x="98" y="321"/>
                      </a:lnTo>
                      <a:lnTo>
                        <a:pt x="78" y="301"/>
                      </a:lnTo>
                      <a:lnTo>
                        <a:pt x="64" y="280"/>
                      </a:lnTo>
                      <a:lnTo>
                        <a:pt x="56" y="269"/>
                      </a:lnTo>
                      <a:lnTo>
                        <a:pt x="50" y="259"/>
                      </a:lnTo>
                      <a:lnTo>
                        <a:pt x="40" y="237"/>
                      </a:lnTo>
                      <a:lnTo>
                        <a:pt x="32" y="213"/>
                      </a:lnTo>
                      <a:lnTo>
                        <a:pt x="26" y="190"/>
                      </a:lnTo>
                      <a:lnTo>
                        <a:pt x="23" y="163"/>
                      </a:lnTo>
                      <a:lnTo>
                        <a:pt x="22" y="139"/>
                      </a:lnTo>
                      <a:close/>
                    </a:path>
                  </a:pathLst>
                </a:custGeom>
                <a:solidFill>
                  <a:srgbClr val="00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455520" y="3981960"/>
                  <a:ext cx="129600" cy="113400"/>
                </a:xfrm>
                <a:custGeom>
                  <a:avLst/>
                  <a:gdLst/>
                  <a:ahLst/>
                  <a:rect l="l" t="t" r="r" b="b"/>
                  <a:pathLst>
                    <a:path w="454" h="398">
                      <a:moveTo>
                        <a:pt x="38" y="1"/>
                      </a:moveTo>
                      <a:lnTo>
                        <a:pt x="20" y="32"/>
                      </a:lnTo>
                      <a:lnTo>
                        <a:pt x="9" y="66"/>
                      </a:lnTo>
                      <a:lnTo>
                        <a:pt x="2" y="101"/>
                      </a:lnTo>
                      <a:lnTo>
                        <a:pt x="0" y="140"/>
                      </a:lnTo>
                      <a:lnTo>
                        <a:pt x="1" y="164"/>
                      </a:lnTo>
                      <a:lnTo>
                        <a:pt x="4" y="191"/>
                      </a:lnTo>
                      <a:lnTo>
                        <a:pt x="10" y="214"/>
                      </a:lnTo>
                      <a:lnTo>
                        <a:pt x="18" y="238"/>
                      </a:lnTo>
                      <a:lnTo>
                        <a:pt x="28" y="260"/>
                      </a:lnTo>
                      <a:lnTo>
                        <a:pt x="34" y="270"/>
                      </a:lnTo>
                      <a:lnTo>
                        <a:pt x="42" y="281"/>
                      </a:lnTo>
                      <a:lnTo>
                        <a:pt x="56" y="302"/>
                      </a:lnTo>
                      <a:lnTo>
                        <a:pt x="76" y="322"/>
                      </a:lnTo>
                      <a:lnTo>
                        <a:pt x="94" y="339"/>
                      </a:lnTo>
                      <a:lnTo>
                        <a:pt x="114" y="354"/>
                      </a:lnTo>
                      <a:lnTo>
                        <a:pt x="136" y="366"/>
                      </a:lnTo>
                      <a:lnTo>
                        <a:pt x="158" y="379"/>
                      </a:lnTo>
                      <a:lnTo>
                        <a:pt x="181" y="387"/>
                      </a:lnTo>
                      <a:lnTo>
                        <a:pt x="206" y="392"/>
                      </a:lnTo>
                      <a:lnTo>
                        <a:pt x="232" y="396"/>
                      </a:lnTo>
                      <a:lnTo>
                        <a:pt x="259" y="398"/>
                      </a:lnTo>
                      <a:lnTo>
                        <a:pt x="284" y="396"/>
                      </a:lnTo>
                      <a:lnTo>
                        <a:pt x="297" y="394"/>
                      </a:lnTo>
                      <a:lnTo>
                        <a:pt x="310" y="392"/>
                      </a:lnTo>
                      <a:lnTo>
                        <a:pt x="322" y="389"/>
                      </a:lnTo>
                      <a:lnTo>
                        <a:pt x="334" y="387"/>
                      </a:lnTo>
                      <a:lnTo>
                        <a:pt x="345" y="382"/>
                      </a:lnTo>
                      <a:lnTo>
                        <a:pt x="351" y="380"/>
                      </a:lnTo>
                      <a:lnTo>
                        <a:pt x="358" y="379"/>
                      </a:lnTo>
                      <a:lnTo>
                        <a:pt x="368" y="372"/>
                      </a:lnTo>
                      <a:lnTo>
                        <a:pt x="379" y="366"/>
                      </a:lnTo>
                      <a:lnTo>
                        <a:pt x="390" y="359"/>
                      </a:lnTo>
                      <a:lnTo>
                        <a:pt x="401" y="354"/>
                      </a:lnTo>
                      <a:lnTo>
                        <a:pt x="421" y="339"/>
                      </a:lnTo>
                      <a:lnTo>
                        <a:pt x="442" y="322"/>
                      </a:lnTo>
                      <a:lnTo>
                        <a:pt x="448" y="315"/>
                      </a:lnTo>
                      <a:lnTo>
                        <a:pt x="454" y="310"/>
                      </a:lnTo>
                      <a:lnTo>
                        <a:pt x="449" y="282"/>
                      </a:lnTo>
                      <a:lnTo>
                        <a:pt x="437" y="295"/>
                      </a:lnTo>
                      <a:lnTo>
                        <a:pt x="434" y="297"/>
                      </a:lnTo>
                      <a:lnTo>
                        <a:pt x="432" y="301"/>
                      </a:lnTo>
                      <a:lnTo>
                        <a:pt x="427" y="307"/>
                      </a:lnTo>
                      <a:lnTo>
                        <a:pt x="417" y="314"/>
                      </a:lnTo>
                      <a:lnTo>
                        <a:pt x="408" y="322"/>
                      </a:lnTo>
                      <a:lnTo>
                        <a:pt x="390" y="337"/>
                      </a:lnTo>
                      <a:lnTo>
                        <a:pt x="369" y="348"/>
                      </a:lnTo>
                      <a:lnTo>
                        <a:pt x="359" y="353"/>
                      </a:lnTo>
                      <a:lnTo>
                        <a:pt x="350" y="358"/>
                      </a:lnTo>
                      <a:lnTo>
                        <a:pt x="327" y="366"/>
                      </a:lnTo>
                      <a:lnTo>
                        <a:pt x="316" y="369"/>
                      </a:lnTo>
                      <a:lnTo>
                        <a:pt x="313" y="369"/>
                      </a:lnTo>
                      <a:lnTo>
                        <a:pt x="310" y="370"/>
                      </a:lnTo>
                      <a:lnTo>
                        <a:pt x="306" y="372"/>
                      </a:lnTo>
                      <a:lnTo>
                        <a:pt x="299" y="372"/>
                      </a:lnTo>
                      <a:lnTo>
                        <a:pt x="296" y="372"/>
                      </a:lnTo>
                      <a:lnTo>
                        <a:pt x="293" y="373"/>
                      </a:lnTo>
                      <a:lnTo>
                        <a:pt x="282" y="375"/>
                      </a:lnTo>
                      <a:lnTo>
                        <a:pt x="259" y="376"/>
                      </a:lnTo>
                      <a:lnTo>
                        <a:pt x="234" y="375"/>
                      </a:lnTo>
                      <a:lnTo>
                        <a:pt x="211" y="372"/>
                      </a:lnTo>
                      <a:lnTo>
                        <a:pt x="188" y="366"/>
                      </a:lnTo>
                      <a:lnTo>
                        <a:pt x="167" y="358"/>
                      </a:lnTo>
                      <a:lnTo>
                        <a:pt x="146" y="348"/>
                      </a:lnTo>
                      <a:lnTo>
                        <a:pt x="127" y="337"/>
                      </a:lnTo>
                      <a:lnTo>
                        <a:pt x="107" y="322"/>
                      </a:lnTo>
                      <a:lnTo>
                        <a:pt x="90" y="307"/>
                      </a:lnTo>
                      <a:lnTo>
                        <a:pt x="73" y="288"/>
                      </a:lnTo>
                      <a:lnTo>
                        <a:pt x="59" y="270"/>
                      </a:lnTo>
                      <a:lnTo>
                        <a:pt x="46" y="250"/>
                      </a:lnTo>
                      <a:lnTo>
                        <a:pt x="38" y="230"/>
                      </a:lnTo>
                      <a:lnTo>
                        <a:pt x="30" y="208"/>
                      </a:lnTo>
                      <a:lnTo>
                        <a:pt x="25" y="186"/>
                      </a:lnTo>
                      <a:lnTo>
                        <a:pt x="21" y="162"/>
                      </a:lnTo>
                      <a:lnTo>
                        <a:pt x="21" y="140"/>
                      </a:lnTo>
                      <a:lnTo>
                        <a:pt x="23" y="100"/>
                      </a:lnTo>
                      <a:lnTo>
                        <a:pt x="31" y="65"/>
                      </a:lnTo>
                      <a:lnTo>
                        <a:pt x="37" y="47"/>
                      </a:lnTo>
                      <a:lnTo>
                        <a:pt x="45" y="31"/>
                      </a:lnTo>
                      <a:lnTo>
                        <a:pt x="65" y="0"/>
                      </a:lnTo>
                      <a:lnTo>
                        <a:pt x="38" y="1"/>
                      </a:lnTo>
                      <a:close/>
                    </a:path>
                  </a:pathLst>
                </a:custGeom>
                <a:solidFill>
                  <a:srgbClr val="00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443280" y="3983040"/>
                  <a:ext cx="144720" cy="124920"/>
                </a:xfrm>
                <a:custGeom>
                  <a:avLst/>
                  <a:gdLst/>
                  <a:ahLst/>
                  <a:rect l="l" t="t" r="r" b="b"/>
                  <a:pathLst>
                    <a:path w="504" h="436">
                      <a:moveTo>
                        <a:pt x="21" y="135"/>
                      </a:moveTo>
                      <a:lnTo>
                        <a:pt x="22" y="97"/>
                      </a:lnTo>
                      <a:lnTo>
                        <a:pt x="29" y="63"/>
                      </a:lnTo>
                      <a:lnTo>
                        <a:pt x="39" y="30"/>
                      </a:lnTo>
                      <a:lnTo>
                        <a:pt x="55" y="0"/>
                      </a:lnTo>
                      <a:lnTo>
                        <a:pt x="27" y="5"/>
                      </a:lnTo>
                      <a:lnTo>
                        <a:pt x="14" y="35"/>
                      </a:lnTo>
                      <a:lnTo>
                        <a:pt x="6" y="67"/>
                      </a:lnTo>
                      <a:lnTo>
                        <a:pt x="1" y="99"/>
                      </a:lnTo>
                      <a:lnTo>
                        <a:pt x="0" y="135"/>
                      </a:lnTo>
                      <a:lnTo>
                        <a:pt x="1" y="164"/>
                      </a:lnTo>
                      <a:lnTo>
                        <a:pt x="4" y="193"/>
                      </a:lnTo>
                      <a:lnTo>
                        <a:pt x="6" y="207"/>
                      </a:lnTo>
                      <a:lnTo>
                        <a:pt x="11" y="222"/>
                      </a:lnTo>
                      <a:lnTo>
                        <a:pt x="21" y="250"/>
                      </a:lnTo>
                      <a:lnTo>
                        <a:pt x="34" y="275"/>
                      </a:lnTo>
                      <a:lnTo>
                        <a:pt x="48" y="300"/>
                      </a:lnTo>
                      <a:lnTo>
                        <a:pt x="56" y="311"/>
                      </a:lnTo>
                      <a:lnTo>
                        <a:pt x="66" y="324"/>
                      </a:lnTo>
                      <a:lnTo>
                        <a:pt x="88" y="348"/>
                      </a:lnTo>
                      <a:lnTo>
                        <a:pt x="110" y="367"/>
                      </a:lnTo>
                      <a:lnTo>
                        <a:pt x="133" y="385"/>
                      </a:lnTo>
                      <a:lnTo>
                        <a:pt x="158" y="400"/>
                      </a:lnTo>
                      <a:lnTo>
                        <a:pt x="186" y="413"/>
                      </a:lnTo>
                      <a:lnTo>
                        <a:pt x="212" y="423"/>
                      </a:lnTo>
                      <a:lnTo>
                        <a:pt x="241" y="430"/>
                      </a:lnTo>
                      <a:lnTo>
                        <a:pt x="271" y="434"/>
                      </a:lnTo>
                      <a:lnTo>
                        <a:pt x="302" y="436"/>
                      </a:lnTo>
                      <a:lnTo>
                        <a:pt x="330" y="434"/>
                      </a:lnTo>
                      <a:lnTo>
                        <a:pt x="343" y="432"/>
                      </a:lnTo>
                      <a:lnTo>
                        <a:pt x="350" y="430"/>
                      </a:lnTo>
                      <a:lnTo>
                        <a:pt x="358" y="430"/>
                      </a:lnTo>
                      <a:lnTo>
                        <a:pt x="364" y="428"/>
                      </a:lnTo>
                      <a:lnTo>
                        <a:pt x="370" y="427"/>
                      </a:lnTo>
                      <a:lnTo>
                        <a:pt x="384" y="425"/>
                      </a:lnTo>
                      <a:lnTo>
                        <a:pt x="396" y="420"/>
                      </a:lnTo>
                      <a:lnTo>
                        <a:pt x="410" y="417"/>
                      </a:lnTo>
                      <a:lnTo>
                        <a:pt x="421" y="410"/>
                      </a:lnTo>
                      <a:lnTo>
                        <a:pt x="424" y="408"/>
                      </a:lnTo>
                      <a:lnTo>
                        <a:pt x="425" y="407"/>
                      </a:lnTo>
                      <a:lnTo>
                        <a:pt x="427" y="407"/>
                      </a:lnTo>
                      <a:lnTo>
                        <a:pt x="434" y="404"/>
                      </a:lnTo>
                      <a:lnTo>
                        <a:pt x="459" y="392"/>
                      </a:lnTo>
                      <a:lnTo>
                        <a:pt x="481" y="376"/>
                      </a:lnTo>
                      <a:lnTo>
                        <a:pt x="504" y="359"/>
                      </a:lnTo>
                      <a:lnTo>
                        <a:pt x="502" y="331"/>
                      </a:lnTo>
                      <a:lnTo>
                        <a:pt x="501" y="333"/>
                      </a:lnTo>
                      <a:lnTo>
                        <a:pt x="478" y="351"/>
                      </a:lnTo>
                      <a:lnTo>
                        <a:pt x="467" y="359"/>
                      </a:lnTo>
                      <a:lnTo>
                        <a:pt x="457" y="368"/>
                      </a:lnTo>
                      <a:lnTo>
                        <a:pt x="444" y="375"/>
                      </a:lnTo>
                      <a:lnTo>
                        <a:pt x="433" y="382"/>
                      </a:lnTo>
                      <a:lnTo>
                        <a:pt x="426" y="384"/>
                      </a:lnTo>
                      <a:lnTo>
                        <a:pt x="424" y="384"/>
                      </a:lnTo>
                      <a:lnTo>
                        <a:pt x="422" y="385"/>
                      </a:lnTo>
                      <a:lnTo>
                        <a:pt x="420" y="387"/>
                      </a:lnTo>
                      <a:lnTo>
                        <a:pt x="409" y="394"/>
                      </a:lnTo>
                      <a:lnTo>
                        <a:pt x="395" y="398"/>
                      </a:lnTo>
                      <a:lnTo>
                        <a:pt x="383" y="402"/>
                      </a:lnTo>
                      <a:lnTo>
                        <a:pt x="369" y="406"/>
                      </a:lnTo>
                      <a:lnTo>
                        <a:pt x="362" y="407"/>
                      </a:lnTo>
                      <a:lnTo>
                        <a:pt x="357" y="409"/>
                      </a:lnTo>
                      <a:lnTo>
                        <a:pt x="330" y="412"/>
                      </a:lnTo>
                      <a:lnTo>
                        <a:pt x="302" y="415"/>
                      </a:lnTo>
                      <a:lnTo>
                        <a:pt x="273" y="412"/>
                      </a:lnTo>
                      <a:lnTo>
                        <a:pt x="246" y="409"/>
                      </a:lnTo>
                      <a:lnTo>
                        <a:pt x="218" y="402"/>
                      </a:lnTo>
                      <a:lnTo>
                        <a:pt x="193" y="394"/>
                      </a:lnTo>
                      <a:lnTo>
                        <a:pt x="169" y="382"/>
                      </a:lnTo>
                      <a:lnTo>
                        <a:pt x="146" y="368"/>
                      </a:lnTo>
                      <a:lnTo>
                        <a:pt x="124" y="351"/>
                      </a:lnTo>
                      <a:lnTo>
                        <a:pt x="104" y="333"/>
                      </a:lnTo>
                      <a:lnTo>
                        <a:pt x="83" y="310"/>
                      </a:lnTo>
                      <a:lnTo>
                        <a:pt x="66" y="289"/>
                      </a:lnTo>
                      <a:lnTo>
                        <a:pt x="52" y="265"/>
                      </a:lnTo>
                      <a:lnTo>
                        <a:pt x="42" y="241"/>
                      </a:lnTo>
                      <a:lnTo>
                        <a:pt x="31" y="215"/>
                      </a:lnTo>
                      <a:lnTo>
                        <a:pt x="26" y="189"/>
                      </a:lnTo>
                      <a:lnTo>
                        <a:pt x="22" y="162"/>
                      </a:lnTo>
                      <a:lnTo>
                        <a:pt x="21" y="135"/>
                      </a:lnTo>
                      <a:close/>
                    </a:path>
                  </a:pathLst>
                </a:custGeom>
                <a:solidFill>
                  <a:srgbClr val="00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37520" y="3984840"/>
                  <a:ext cx="150480" cy="128880"/>
                </a:xfrm>
                <a:custGeom>
                  <a:avLst/>
                  <a:gdLst/>
                  <a:ahLst/>
                  <a:rect l="l" t="t" r="r" b="b"/>
                  <a:pathLst>
                    <a:path w="526" h="453">
                      <a:moveTo>
                        <a:pt x="22" y="130"/>
                      </a:moveTo>
                      <a:lnTo>
                        <a:pt x="23" y="94"/>
                      </a:lnTo>
                      <a:lnTo>
                        <a:pt x="28" y="62"/>
                      </a:lnTo>
                      <a:lnTo>
                        <a:pt x="36" y="30"/>
                      </a:lnTo>
                      <a:lnTo>
                        <a:pt x="49" y="0"/>
                      </a:lnTo>
                      <a:lnTo>
                        <a:pt x="23" y="7"/>
                      </a:lnTo>
                      <a:lnTo>
                        <a:pt x="13" y="35"/>
                      </a:lnTo>
                      <a:lnTo>
                        <a:pt x="6" y="66"/>
                      </a:lnTo>
                      <a:lnTo>
                        <a:pt x="1" y="97"/>
                      </a:lnTo>
                      <a:lnTo>
                        <a:pt x="0" y="130"/>
                      </a:lnTo>
                      <a:lnTo>
                        <a:pt x="1" y="161"/>
                      </a:lnTo>
                      <a:lnTo>
                        <a:pt x="6" y="193"/>
                      </a:lnTo>
                      <a:lnTo>
                        <a:pt x="8" y="208"/>
                      </a:lnTo>
                      <a:lnTo>
                        <a:pt x="13" y="224"/>
                      </a:lnTo>
                      <a:lnTo>
                        <a:pt x="24" y="253"/>
                      </a:lnTo>
                      <a:lnTo>
                        <a:pt x="36" y="280"/>
                      </a:lnTo>
                      <a:lnTo>
                        <a:pt x="53" y="308"/>
                      </a:lnTo>
                      <a:lnTo>
                        <a:pt x="73" y="334"/>
                      </a:lnTo>
                      <a:lnTo>
                        <a:pt x="95" y="359"/>
                      </a:lnTo>
                      <a:lnTo>
                        <a:pt x="118" y="379"/>
                      </a:lnTo>
                      <a:lnTo>
                        <a:pt x="144" y="398"/>
                      </a:lnTo>
                      <a:lnTo>
                        <a:pt x="170" y="414"/>
                      </a:lnTo>
                      <a:lnTo>
                        <a:pt x="198" y="429"/>
                      </a:lnTo>
                      <a:lnTo>
                        <a:pt x="227" y="438"/>
                      </a:lnTo>
                      <a:lnTo>
                        <a:pt x="259" y="446"/>
                      </a:lnTo>
                      <a:lnTo>
                        <a:pt x="290" y="450"/>
                      </a:lnTo>
                      <a:lnTo>
                        <a:pt x="324" y="453"/>
                      </a:lnTo>
                      <a:lnTo>
                        <a:pt x="352" y="452"/>
                      </a:lnTo>
                      <a:lnTo>
                        <a:pt x="365" y="449"/>
                      </a:lnTo>
                      <a:lnTo>
                        <a:pt x="372" y="448"/>
                      </a:lnTo>
                      <a:lnTo>
                        <a:pt x="380" y="448"/>
                      </a:lnTo>
                      <a:lnTo>
                        <a:pt x="386" y="446"/>
                      </a:lnTo>
                      <a:lnTo>
                        <a:pt x="392" y="445"/>
                      </a:lnTo>
                      <a:lnTo>
                        <a:pt x="406" y="442"/>
                      </a:lnTo>
                      <a:lnTo>
                        <a:pt x="418" y="438"/>
                      </a:lnTo>
                      <a:lnTo>
                        <a:pt x="432" y="435"/>
                      </a:lnTo>
                      <a:lnTo>
                        <a:pt x="443" y="429"/>
                      </a:lnTo>
                      <a:lnTo>
                        <a:pt x="456" y="424"/>
                      </a:lnTo>
                      <a:lnTo>
                        <a:pt x="481" y="412"/>
                      </a:lnTo>
                      <a:lnTo>
                        <a:pt x="503" y="397"/>
                      </a:lnTo>
                      <a:lnTo>
                        <a:pt x="526" y="382"/>
                      </a:lnTo>
                      <a:lnTo>
                        <a:pt x="526" y="373"/>
                      </a:lnTo>
                      <a:lnTo>
                        <a:pt x="526" y="354"/>
                      </a:lnTo>
                      <a:lnTo>
                        <a:pt x="503" y="371"/>
                      </a:lnTo>
                      <a:lnTo>
                        <a:pt x="481" y="387"/>
                      </a:lnTo>
                      <a:lnTo>
                        <a:pt x="456" y="399"/>
                      </a:lnTo>
                      <a:lnTo>
                        <a:pt x="449" y="402"/>
                      </a:lnTo>
                      <a:lnTo>
                        <a:pt x="447" y="402"/>
                      </a:lnTo>
                      <a:lnTo>
                        <a:pt x="446" y="403"/>
                      </a:lnTo>
                      <a:lnTo>
                        <a:pt x="443" y="405"/>
                      </a:lnTo>
                      <a:lnTo>
                        <a:pt x="432" y="412"/>
                      </a:lnTo>
                      <a:lnTo>
                        <a:pt x="418" y="415"/>
                      </a:lnTo>
                      <a:lnTo>
                        <a:pt x="406" y="420"/>
                      </a:lnTo>
                      <a:lnTo>
                        <a:pt x="392" y="422"/>
                      </a:lnTo>
                      <a:lnTo>
                        <a:pt x="386" y="423"/>
                      </a:lnTo>
                      <a:lnTo>
                        <a:pt x="380" y="425"/>
                      </a:lnTo>
                      <a:lnTo>
                        <a:pt x="372" y="425"/>
                      </a:lnTo>
                      <a:lnTo>
                        <a:pt x="365" y="427"/>
                      </a:lnTo>
                      <a:lnTo>
                        <a:pt x="352" y="429"/>
                      </a:lnTo>
                      <a:lnTo>
                        <a:pt x="324" y="431"/>
                      </a:lnTo>
                      <a:lnTo>
                        <a:pt x="293" y="429"/>
                      </a:lnTo>
                      <a:lnTo>
                        <a:pt x="263" y="425"/>
                      </a:lnTo>
                      <a:lnTo>
                        <a:pt x="234" y="418"/>
                      </a:lnTo>
                      <a:lnTo>
                        <a:pt x="208" y="408"/>
                      </a:lnTo>
                      <a:lnTo>
                        <a:pt x="180" y="395"/>
                      </a:lnTo>
                      <a:lnTo>
                        <a:pt x="155" y="380"/>
                      </a:lnTo>
                      <a:lnTo>
                        <a:pt x="132" y="362"/>
                      </a:lnTo>
                      <a:lnTo>
                        <a:pt x="110" y="343"/>
                      </a:lnTo>
                      <a:lnTo>
                        <a:pt x="88" y="319"/>
                      </a:lnTo>
                      <a:lnTo>
                        <a:pt x="78" y="306"/>
                      </a:lnTo>
                      <a:lnTo>
                        <a:pt x="70" y="295"/>
                      </a:lnTo>
                      <a:lnTo>
                        <a:pt x="56" y="270"/>
                      </a:lnTo>
                      <a:lnTo>
                        <a:pt x="43" y="245"/>
                      </a:lnTo>
                      <a:lnTo>
                        <a:pt x="33" y="217"/>
                      </a:lnTo>
                      <a:lnTo>
                        <a:pt x="28" y="202"/>
                      </a:lnTo>
                      <a:lnTo>
                        <a:pt x="26" y="188"/>
                      </a:lnTo>
                      <a:lnTo>
                        <a:pt x="23" y="159"/>
                      </a:lnTo>
                      <a:lnTo>
                        <a:pt x="22" y="130"/>
                      </a:lnTo>
                      <a:close/>
                    </a:path>
                  </a:pathLst>
                </a:custGeom>
                <a:solidFill>
                  <a:srgbClr val="00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368400" y="4084560"/>
                  <a:ext cx="149760" cy="113400"/>
                </a:xfrm>
                <a:custGeom>
                  <a:avLst/>
                  <a:gdLst/>
                  <a:ahLst/>
                  <a:rect l="l" t="t" r="r" b="b"/>
                  <a:pathLst>
                    <a:path w="523" h="398">
                      <a:moveTo>
                        <a:pt x="0" y="22"/>
                      </a:moveTo>
                      <a:lnTo>
                        <a:pt x="1" y="54"/>
                      </a:lnTo>
                      <a:lnTo>
                        <a:pt x="23" y="97"/>
                      </a:lnTo>
                      <a:lnTo>
                        <a:pt x="53" y="140"/>
                      </a:lnTo>
                      <a:lnTo>
                        <a:pt x="85" y="181"/>
                      </a:lnTo>
                      <a:lnTo>
                        <a:pt x="122" y="221"/>
                      </a:lnTo>
                      <a:lnTo>
                        <a:pt x="158" y="255"/>
                      </a:lnTo>
                      <a:lnTo>
                        <a:pt x="198" y="286"/>
                      </a:lnTo>
                      <a:lnTo>
                        <a:pt x="239" y="314"/>
                      </a:lnTo>
                      <a:lnTo>
                        <a:pt x="282" y="339"/>
                      </a:lnTo>
                      <a:lnTo>
                        <a:pt x="325" y="358"/>
                      </a:lnTo>
                      <a:lnTo>
                        <a:pt x="371" y="375"/>
                      </a:lnTo>
                      <a:lnTo>
                        <a:pt x="419" y="387"/>
                      </a:lnTo>
                      <a:lnTo>
                        <a:pt x="469" y="398"/>
                      </a:lnTo>
                      <a:lnTo>
                        <a:pt x="496" y="390"/>
                      </a:lnTo>
                      <a:lnTo>
                        <a:pt x="523" y="382"/>
                      </a:lnTo>
                      <a:lnTo>
                        <a:pt x="468" y="375"/>
                      </a:lnTo>
                      <a:lnTo>
                        <a:pt x="441" y="370"/>
                      </a:lnTo>
                      <a:lnTo>
                        <a:pt x="415" y="365"/>
                      </a:lnTo>
                      <a:lnTo>
                        <a:pt x="363" y="349"/>
                      </a:lnTo>
                      <a:lnTo>
                        <a:pt x="315" y="331"/>
                      </a:lnTo>
                      <a:lnTo>
                        <a:pt x="266" y="306"/>
                      </a:lnTo>
                      <a:lnTo>
                        <a:pt x="222" y="276"/>
                      </a:lnTo>
                      <a:lnTo>
                        <a:pt x="178" y="242"/>
                      </a:lnTo>
                      <a:lnTo>
                        <a:pt x="138" y="206"/>
                      </a:lnTo>
                      <a:lnTo>
                        <a:pt x="114" y="181"/>
                      </a:lnTo>
                      <a:lnTo>
                        <a:pt x="93" y="157"/>
                      </a:lnTo>
                      <a:lnTo>
                        <a:pt x="72" y="131"/>
                      </a:lnTo>
                      <a:lnTo>
                        <a:pt x="55" y="106"/>
                      </a:lnTo>
                      <a:lnTo>
                        <a:pt x="38" y="79"/>
                      </a:lnTo>
                      <a:lnTo>
                        <a:pt x="23" y="53"/>
                      </a:lnTo>
                      <a:lnTo>
                        <a:pt x="10" y="26"/>
                      </a:lnTo>
                      <a:lnTo>
                        <a:pt x="0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368400" y="4070520"/>
                  <a:ext cx="161640" cy="123120"/>
                </a:xfrm>
                <a:custGeom>
                  <a:avLst/>
                  <a:gdLst/>
                  <a:ahLst/>
                  <a:rect l="l" t="t" r="r" b="b"/>
                  <a:pathLst>
                    <a:path w="566" h="433">
                      <a:moveTo>
                        <a:pt x="6" y="0"/>
                      </a:moveTo>
                      <a:lnTo>
                        <a:pt x="1" y="25"/>
                      </a:lnTo>
                      <a:lnTo>
                        <a:pt x="0" y="51"/>
                      </a:lnTo>
                      <a:lnTo>
                        <a:pt x="10" y="77"/>
                      </a:lnTo>
                      <a:lnTo>
                        <a:pt x="23" y="104"/>
                      </a:lnTo>
                      <a:lnTo>
                        <a:pt x="38" y="130"/>
                      </a:lnTo>
                      <a:lnTo>
                        <a:pt x="55" y="157"/>
                      </a:lnTo>
                      <a:lnTo>
                        <a:pt x="72" y="182"/>
                      </a:lnTo>
                      <a:lnTo>
                        <a:pt x="93" y="208"/>
                      </a:lnTo>
                      <a:lnTo>
                        <a:pt x="114" y="232"/>
                      </a:lnTo>
                      <a:lnTo>
                        <a:pt x="138" y="257"/>
                      </a:lnTo>
                      <a:lnTo>
                        <a:pt x="178" y="293"/>
                      </a:lnTo>
                      <a:lnTo>
                        <a:pt x="222" y="327"/>
                      </a:lnTo>
                      <a:lnTo>
                        <a:pt x="266" y="357"/>
                      </a:lnTo>
                      <a:lnTo>
                        <a:pt x="315" y="382"/>
                      </a:lnTo>
                      <a:lnTo>
                        <a:pt x="363" y="400"/>
                      </a:lnTo>
                      <a:lnTo>
                        <a:pt x="415" y="416"/>
                      </a:lnTo>
                      <a:lnTo>
                        <a:pt x="441" y="421"/>
                      </a:lnTo>
                      <a:lnTo>
                        <a:pt x="468" y="426"/>
                      </a:lnTo>
                      <a:lnTo>
                        <a:pt x="523" y="433"/>
                      </a:lnTo>
                      <a:lnTo>
                        <a:pt x="566" y="412"/>
                      </a:lnTo>
                      <a:lnTo>
                        <a:pt x="565" y="412"/>
                      </a:lnTo>
                      <a:lnTo>
                        <a:pt x="535" y="411"/>
                      </a:lnTo>
                      <a:lnTo>
                        <a:pt x="505" y="409"/>
                      </a:lnTo>
                      <a:lnTo>
                        <a:pt x="476" y="405"/>
                      </a:lnTo>
                      <a:lnTo>
                        <a:pt x="447" y="401"/>
                      </a:lnTo>
                      <a:lnTo>
                        <a:pt x="392" y="387"/>
                      </a:lnTo>
                      <a:lnTo>
                        <a:pt x="341" y="369"/>
                      </a:lnTo>
                      <a:lnTo>
                        <a:pt x="290" y="344"/>
                      </a:lnTo>
                      <a:lnTo>
                        <a:pt x="241" y="315"/>
                      </a:lnTo>
                      <a:lnTo>
                        <a:pt x="217" y="298"/>
                      </a:lnTo>
                      <a:lnTo>
                        <a:pt x="195" y="280"/>
                      </a:lnTo>
                      <a:lnTo>
                        <a:pt x="153" y="241"/>
                      </a:lnTo>
                      <a:lnTo>
                        <a:pt x="127" y="213"/>
                      </a:lnTo>
                      <a:lnTo>
                        <a:pt x="103" y="186"/>
                      </a:lnTo>
                      <a:lnTo>
                        <a:pt x="81" y="156"/>
                      </a:lnTo>
                      <a:lnTo>
                        <a:pt x="62" y="127"/>
                      </a:lnTo>
                      <a:lnTo>
                        <a:pt x="44" y="95"/>
                      </a:lnTo>
                      <a:lnTo>
                        <a:pt x="29" y="64"/>
                      </a:lnTo>
                      <a:lnTo>
                        <a:pt x="17" y="3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69840" y="4057920"/>
                  <a:ext cx="170280" cy="129960"/>
                </a:xfrm>
                <a:custGeom>
                  <a:avLst/>
                  <a:gdLst/>
                  <a:ahLst/>
                  <a:rect l="l" t="t" r="r" b="b"/>
                  <a:pathLst>
                    <a:path w="597" h="457">
                      <a:moveTo>
                        <a:pt x="11" y="0"/>
                      </a:moveTo>
                      <a:lnTo>
                        <a:pt x="0" y="45"/>
                      </a:lnTo>
                      <a:lnTo>
                        <a:pt x="11" y="76"/>
                      </a:lnTo>
                      <a:lnTo>
                        <a:pt x="23" y="109"/>
                      </a:lnTo>
                      <a:lnTo>
                        <a:pt x="38" y="140"/>
                      </a:lnTo>
                      <a:lnTo>
                        <a:pt x="56" y="172"/>
                      </a:lnTo>
                      <a:lnTo>
                        <a:pt x="75" y="201"/>
                      </a:lnTo>
                      <a:lnTo>
                        <a:pt x="97" y="231"/>
                      </a:lnTo>
                      <a:lnTo>
                        <a:pt x="121" y="258"/>
                      </a:lnTo>
                      <a:lnTo>
                        <a:pt x="147" y="286"/>
                      </a:lnTo>
                      <a:lnTo>
                        <a:pt x="189" y="325"/>
                      </a:lnTo>
                      <a:lnTo>
                        <a:pt x="211" y="343"/>
                      </a:lnTo>
                      <a:lnTo>
                        <a:pt x="235" y="360"/>
                      </a:lnTo>
                      <a:lnTo>
                        <a:pt x="284" y="389"/>
                      </a:lnTo>
                      <a:lnTo>
                        <a:pt x="335" y="414"/>
                      </a:lnTo>
                      <a:lnTo>
                        <a:pt x="386" y="432"/>
                      </a:lnTo>
                      <a:lnTo>
                        <a:pt x="441" y="446"/>
                      </a:lnTo>
                      <a:lnTo>
                        <a:pt x="470" y="450"/>
                      </a:lnTo>
                      <a:lnTo>
                        <a:pt x="499" y="454"/>
                      </a:lnTo>
                      <a:lnTo>
                        <a:pt x="529" y="456"/>
                      </a:lnTo>
                      <a:lnTo>
                        <a:pt x="559" y="457"/>
                      </a:lnTo>
                      <a:lnTo>
                        <a:pt x="560" y="457"/>
                      </a:lnTo>
                      <a:lnTo>
                        <a:pt x="597" y="435"/>
                      </a:lnTo>
                      <a:lnTo>
                        <a:pt x="559" y="436"/>
                      </a:lnTo>
                      <a:lnTo>
                        <a:pt x="530" y="435"/>
                      </a:lnTo>
                      <a:lnTo>
                        <a:pt x="501" y="432"/>
                      </a:lnTo>
                      <a:lnTo>
                        <a:pt x="473" y="429"/>
                      </a:lnTo>
                      <a:lnTo>
                        <a:pt x="446" y="424"/>
                      </a:lnTo>
                      <a:lnTo>
                        <a:pt x="393" y="411"/>
                      </a:lnTo>
                      <a:lnTo>
                        <a:pt x="368" y="403"/>
                      </a:lnTo>
                      <a:lnTo>
                        <a:pt x="343" y="394"/>
                      </a:lnTo>
                      <a:lnTo>
                        <a:pt x="318" y="382"/>
                      </a:lnTo>
                      <a:lnTo>
                        <a:pt x="294" y="370"/>
                      </a:lnTo>
                      <a:lnTo>
                        <a:pt x="248" y="343"/>
                      </a:lnTo>
                      <a:lnTo>
                        <a:pt x="203" y="309"/>
                      </a:lnTo>
                      <a:lnTo>
                        <a:pt x="182" y="291"/>
                      </a:lnTo>
                      <a:lnTo>
                        <a:pt x="161" y="271"/>
                      </a:lnTo>
                      <a:lnTo>
                        <a:pt x="133" y="241"/>
                      </a:lnTo>
                      <a:lnTo>
                        <a:pt x="107" y="210"/>
                      </a:lnTo>
                      <a:lnTo>
                        <a:pt x="94" y="193"/>
                      </a:lnTo>
                      <a:lnTo>
                        <a:pt x="84" y="177"/>
                      </a:lnTo>
                      <a:lnTo>
                        <a:pt x="65" y="144"/>
                      </a:lnTo>
                      <a:lnTo>
                        <a:pt x="55" y="126"/>
                      </a:lnTo>
                      <a:lnTo>
                        <a:pt x="47" y="109"/>
                      </a:lnTo>
                      <a:lnTo>
                        <a:pt x="32" y="74"/>
                      </a:lnTo>
                      <a:lnTo>
                        <a:pt x="20" y="3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72720" y="4046400"/>
                  <a:ext cx="176400" cy="135360"/>
                </a:xfrm>
                <a:custGeom>
                  <a:avLst/>
                  <a:gdLst/>
                  <a:ahLst/>
                  <a:rect l="l" t="t" r="r" b="b"/>
                  <a:pathLst>
                    <a:path w="616" h="474">
                      <a:moveTo>
                        <a:pt x="14" y="0"/>
                      </a:moveTo>
                      <a:lnTo>
                        <a:pt x="0" y="38"/>
                      </a:lnTo>
                      <a:lnTo>
                        <a:pt x="9" y="75"/>
                      </a:lnTo>
                      <a:lnTo>
                        <a:pt x="21" y="112"/>
                      </a:lnTo>
                      <a:lnTo>
                        <a:pt x="36" y="147"/>
                      </a:lnTo>
                      <a:lnTo>
                        <a:pt x="44" y="164"/>
                      </a:lnTo>
                      <a:lnTo>
                        <a:pt x="54" y="182"/>
                      </a:lnTo>
                      <a:lnTo>
                        <a:pt x="73" y="215"/>
                      </a:lnTo>
                      <a:lnTo>
                        <a:pt x="83" y="231"/>
                      </a:lnTo>
                      <a:lnTo>
                        <a:pt x="96" y="248"/>
                      </a:lnTo>
                      <a:lnTo>
                        <a:pt x="122" y="279"/>
                      </a:lnTo>
                      <a:lnTo>
                        <a:pt x="150" y="309"/>
                      </a:lnTo>
                      <a:lnTo>
                        <a:pt x="171" y="329"/>
                      </a:lnTo>
                      <a:lnTo>
                        <a:pt x="192" y="347"/>
                      </a:lnTo>
                      <a:lnTo>
                        <a:pt x="237" y="381"/>
                      </a:lnTo>
                      <a:lnTo>
                        <a:pt x="283" y="408"/>
                      </a:lnTo>
                      <a:lnTo>
                        <a:pt x="307" y="420"/>
                      </a:lnTo>
                      <a:lnTo>
                        <a:pt x="332" y="432"/>
                      </a:lnTo>
                      <a:lnTo>
                        <a:pt x="357" y="441"/>
                      </a:lnTo>
                      <a:lnTo>
                        <a:pt x="382" y="449"/>
                      </a:lnTo>
                      <a:lnTo>
                        <a:pt x="435" y="462"/>
                      </a:lnTo>
                      <a:lnTo>
                        <a:pt x="462" y="467"/>
                      </a:lnTo>
                      <a:lnTo>
                        <a:pt x="490" y="470"/>
                      </a:lnTo>
                      <a:lnTo>
                        <a:pt x="519" y="473"/>
                      </a:lnTo>
                      <a:lnTo>
                        <a:pt x="548" y="474"/>
                      </a:lnTo>
                      <a:lnTo>
                        <a:pt x="586" y="473"/>
                      </a:lnTo>
                      <a:lnTo>
                        <a:pt x="593" y="466"/>
                      </a:lnTo>
                      <a:lnTo>
                        <a:pt x="594" y="464"/>
                      </a:lnTo>
                      <a:lnTo>
                        <a:pt x="596" y="462"/>
                      </a:lnTo>
                      <a:lnTo>
                        <a:pt x="600" y="460"/>
                      </a:lnTo>
                      <a:lnTo>
                        <a:pt x="616" y="449"/>
                      </a:lnTo>
                      <a:lnTo>
                        <a:pt x="582" y="451"/>
                      </a:lnTo>
                      <a:lnTo>
                        <a:pt x="548" y="452"/>
                      </a:lnTo>
                      <a:lnTo>
                        <a:pt x="520" y="451"/>
                      </a:lnTo>
                      <a:lnTo>
                        <a:pt x="493" y="449"/>
                      </a:lnTo>
                      <a:lnTo>
                        <a:pt x="439" y="442"/>
                      </a:lnTo>
                      <a:lnTo>
                        <a:pt x="388" y="428"/>
                      </a:lnTo>
                      <a:lnTo>
                        <a:pt x="340" y="413"/>
                      </a:lnTo>
                      <a:lnTo>
                        <a:pt x="292" y="390"/>
                      </a:lnTo>
                      <a:lnTo>
                        <a:pt x="248" y="363"/>
                      </a:lnTo>
                      <a:lnTo>
                        <a:pt x="226" y="347"/>
                      </a:lnTo>
                      <a:lnTo>
                        <a:pt x="206" y="330"/>
                      </a:lnTo>
                      <a:lnTo>
                        <a:pt x="166" y="293"/>
                      </a:lnTo>
                      <a:lnTo>
                        <a:pt x="136" y="261"/>
                      </a:lnTo>
                      <a:lnTo>
                        <a:pt x="108" y="227"/>
                      </a:lnTo>
                      <a:lnTo>
                        <a:pt x="85" y="191"/>
                      </a:lnTo>
                      <a:lnTo>
                        <a:pt x="73" y="173"/>
                      </a:lnTo>
                      <a:lnTo>
                        <a:pt x="64" y="156"/>
                      </a:lnTo>
                      <a:lnTo>
                        <a:pt x="54" y="137"/>
                      </a:lnTo>
                      <a:lnTo>
                        <a:pt x="46" y="119"/>
                      </a:lnTo>
                      <a:lnTo>
                        <a:pt x="32" y="80"/>
                      </a:lnTo>
                      <a:lnTo>
                        <a:pt x="26" y="60"/>
                      </a:lnTo>
                      <a:lnTo>
                        <a:pt x="21" y="4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7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377400" y="4036680"/>
                  <a:ext cx="179640" cy="139320"/>
                </a:xfrm>
                <a:custGeom>
                  <a:avLst/>
                  <a:gdLst/>
                  <a:ahLst/>
                  <a:rect l="l" t="t" r="r" b="b"/>
                  <a:pathLst>
                    <a:path w="630" h="486">
                      <a:moveTo>
                        <a:pt x="18" y="0"/>
                      </a:moveTo>
                      <a:lnTo>
                        <a:pt x="0" y="34"/>
                      </a:lnTo>
                      <a:lnTo>
                        <a:pt x="7" y="75"/>
                      </a:lnTo>
                      <a:lnTo>
                        <a:pt x="12" y="94"/>
                      </a:lnTo>
                      <a:lnTo>
                        <a:pt x="18" y="114"/>
                      </a:lnTo>
                      <a:lnTo>
                        <a:pt x="32" y="153"/>
                      </a:lnTo>
                      <a:lnTo>
                        <a:pt x="40" y="171"/>
                      </a:lnTo>
                      <a:lnTo>
                        <a:pt x="50" y="190"/>
                      </a:lnTo>
                      <a:lnTo>
                        <a:pt x="59" y="207"/>
                      </a:lnTo>
                      <a:lnTo>
                        <a:pt x="71" y="225"/>
                      </a:lnTo>
                      <a:lnTo>
                        <a:pt x="94" y="261"/>
                      </a:lnTo>
                      <a:lnTo>
                        <a:pt x="122" y="295"/>
                      </a:lnTo>
                      <a:lnTo>
                        <a:pt x="152" y="327"/>
                      </a:lnTo>
                      <a:lnTo>
                        <a:pt x="192" y="364"/>
                      </a:lnTo>
                      <a:lnTo>
                        <a:pt x="212" y="381"/>
                      </a:lnTo>
                      <a:lnTo>
                        <a:pt x="234" y="397"/>
                      </a:lnTo>
                      <a:lnTo>
                        <a:pt x="278" y="424"/>
                      </a:lnTo>
                      <a:lnTo>
                        <a:pt x="326" y="447"/>
                      </a:lnTo>
                      <a:lnTo>
                        <a:pt x="374" y="462"/>
                      </a:lnTo>
                      <a:lnTo>
                        <a:pt x="425" y="476"/>
                      </a:lnTo>
                      <a:lnTo>
                        <a:pt x="479" y="483"/>
                      </a:lnTo>
                      <a:lnTo>
                        <a:pt x="506" y="485"/>
                      </a:lnTo>
                      <a:lnTo>
                        <a:pt x="534" y="486"/>
                      </a:lnTo>
                      <a:lnTo>
                        <a:pt x="568" y="485"/>
                      </a:lnTo>
                      <a:lnTo>
                        <a:pt x="602" y="483"/>
                      </a:lnTo>
                      <a:lnTo>
                        <a:pt x="624" y="462"/>
                      </a:lnTo>
                      <a:lnTo>
                        <a:pt x="630" y="457"/>
                      </a:lnTo>
                      <a:lnTo>
                        <a:pt x="582" y="462"/>
                      </a:lnTo>
                      <a:lnTo>
                        <a:pt x="534" y="465"/>
                      </a:lnTo>
                      <a:lnTo>
                        <a:pt x="507" y="464"/>
                      </a:lnTo>
                      <a:lnTo>
                        <a:pt x="481" y="461"/>
                      </a:lnTo>
                      <a:lnTo>
                        <a:pt x="430" y="454"/>
                      </a:lnTo>
                      <a:lnTo>
                        <a:pt x="405" y="449"/>
                      </a:lnTo>
                      <a:lnTo>
                        <a:pt x="381" y="442"/>
                      </a:lnTo>
                      <a:lnTo>
                        <a:pt x="335" y="426"/>
                      </a:lnTo>
                      <a:lnTo>
                        <a:pt x="288" y="403"/>
                      </a:lnTo>
                      <a:lnTo>
                        <a:pt x="246" y="379"/>
                      </a:lnTo>
                      <a:lnTo>
                        <a:pt x="204" y="347"/>
                      </a:lnTo>
                      <a:lnTo>
                        <a:pt x="167" y="313"/>
                      </a:lnTo>
                      <a:lnTo>
                        <a:pt x="150" y="295"/>
                      </a:lnTo>
                      <a:lnTo>
                        <a:pt x="135" y="278"/>
                      </a:lnTo>
                      <a:lnTo>
                        <a:pt x="120" y="259"/>
                      </a:lnTo>
                      <a:lnTo>
                        <a:pt x="108" y="242"/>
                      </a:lnTo>
                      <a:lnTo>
                        <a:pt x="94" y="223"/>
                      </a:lnTo>
                      <a:lnTo>
                        <a:pt x="83" y="205"/>
                      </a:lnTo>
                      <a:lnTo>
                        <a:pt x="64" y="168"/>
                      </a:lnTo>
                      <a:lnTo>
                        <a:pt x="46" y="127"/>
                      </a:lnTo>
                      <a:lnTo>
                        <a:pt x="33" y="86"/>
                      </a:lnTo>
                      <a:lnTo>
                        <a:pt x="23" y="4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382440" y="4028040"/>
                  <a:ext cx="181080" cy="141480"/>
                </a:xfrm>
                <a:custGeom>
                  <a:avLst/>
                  <a:gdLst/>
                  <a:ahLst/>
                  <a:rect l="l" t="t" r="r" b="b"/>
                  <a:pathLst>
                    <a:path w="635" h="496">
                      <a:moveTo>
                        <a:pt x="20" y="0"/>
                      </a:moveTo>
                      <a:lnTo>
                        <a:pt x="0" y="31"/>
                      </a:lnTo>
                      <a:lnTo>
                        <a:pt x="5" y="74"/>
                      </a:lnTo>
                      <a:lnTo>
                        <a:pt x="15" y="117"/>
                      </a:lnTo>
                      <a:lnTo>
                        <a:pt x="28" y="158"/>
                      </a:lnTo>
                      <a:lnTo>
                        <a:pt x="46" y="199"/>
                      </a:lnTo>
                      <a:lnTo>
                        <a:pt x="65" y="236"/>
                      </a:lnTo>
                      <a:lnTo>
                        <a:pt x="76" y="254"/>
                      </a:lnTo>
                      <a:lnTo>
                        <a:pt x="90" y="273"/>
                      </a:lnTo>
                      <a:lnTo>
                        <a:pt x="102" y="290"/>
                      </a:lnTo>
                      <a:lnTo>
                        <a:pt x="117" y="309"/>
                      </a:lnTo>
                      <a:lnTo>
                        <a:pt x="132" y="326"/>
                      </a:lnTo>
                      <a:lnTo>
                        <a:pt x="149" y="344"/>
                      </a:lnTo>
                      <a:lnTo>
                        <a:pt x="186" y="378"/>
                      </a:lnTo>
                      <a:lnTo>
                        <a:pt x="228" y="410"/>
                      </a:lnTo>
                      <a:lnTo>
                        <a:pt x="270" y="434"/>
                      </a:lnTo>
                      <a:lnTo>
                        <a:pt x="317" y="457"/>
                      </a:lnTo>
                      <a:lnTo>
                        <a:pt x="363" y="473"/>
                      </a:lnTo>
                      <a:lnTo>
                        <a:pt x="387" y="480"/>
                      </a:lnTo>
                      <a:lnTo>
                        <a:pt x="412" y="485"/>
                      </a:lnTo>
                      <a:lnTo>
                        <a:pt x="463" y="492"/>
                      </a:lnTo>
                      <a:lnTo>
                        <a:pt x="489" y="495"/>
                      </a:lnTo>
                      <a:lnTo>
                        <a:pt x="516" y="496"/>
                      </a:lnTo>
                      <a:lnTo>
                        <a:pt x="564" y="493"/>
                      </a:lnTo>
                      <a:lnTo>
                        <a:pt x="612" y="488"/>
                      </a:lnTo>
                      <a:lnTo>
                        <a:pt x="635" y="461"/>
                      </a:lnTo>
                      <a:lnTo>
                        <a:pt x="606" y="466"/>
                      </a:lnTo>
                      <a:lnTo>
                        <a:pt x="576" y="471"/>
                      </a:lnTo>
                      <a:lnTo>
                        <a:pt x="546" y="473"/>
                      </a:lnTo>
                      <a:lnTo>
                        <a:pt x="516" y="474"/>
                      </a:lnTo>
                      <a:lnTo>
                        <a:pt x="465" y="472"/>
                      </a:lnTo>
                      <a:lnTo>
                        <a:pt x="417" y="465"/>
                      </a:lnTo>
                      <a:lnTo>
                        <a:pt x="369" y="454"/>
                      </a:lnTo>
                      <a:lnTo>
                        <a:pt x="325" y="438"/>
                      </a:lnTo>
                      <a:lnTo>
                        <a:pt x="280" y="417"/>
                      </a:lnTo>
                      <a:lnTo>
                        <a:pt x="241" y="392"/>
                      </a:lnTo>
                      <a:lnTo>
                        <a:pt x="201" y="363"/>
                      </a:lnTo>
                      <a:lnTo>
                        <a:pt x="165" y="329"/>
                      </a:lnTo>
                      <a:lnTo>
                        <a:pt x="131" y="293"/>
                      </a:lnTo>
                      <a:lnTo>
                        <a:pt x="116" y="273"/>
                      </a:lnTo>
                      <a:lnTo>
                        <a:pt x="104" y="255"/>
                      </a:lnTo>
                      <a:lnTo>
                        <a:pt x="79" y="217"/>
                      </a:lnTo>
                      <a:lnTo>
                        <a:pt x="59" y="177"/>
                      </a:lnTo>
                      <a:lnTo>
                        <a:pt x="42" y="135"/>
                      </a:lnTo>
                      <a:lnTo>
                        <a:pt x="31" y="92"/>
                      </a:lnTo>
                      <a:lnTo>
                        <a:pt x="22" y="47"/>
                      </a:lnTo>
                      <a:lnTo>
                        <a:pt x="20" y="2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378480" y="4139640"/>
                  <a:ext cx="79200" cy="59760"/>
                </a:xfrm>
                <a:custGeom>
                  <a:avLst/>
                  <a:gdLst/>
                  <a:ahLst/>
                  <a:rect l="l" t="t" r="r" b="b"/>
                  <a:pathLst>
                    <a:path w="277" h="211">
                      <a:moveTo>
                        <a:pt x="54" y="61"/>
                      </a:moveTo>
                      <a:lnTo>
                        <a:pt x="26" y="31"/>
                      </a:lnTo>
                      <a:lnTo>
                        <a:pt x="0" y="0"/>
                      </a:lnTo>
                      <a:lnTo>
                        <a:pt x="15" y="26"/>
                      </a:lnTo>
                      <a:lnTo>
                        <a:pt x="32" y="53"/>
                      </a:lnTo>
                      <a:lnTo>
                        <a:pt x="51" y="78"/>
                      </a:lnTo>
                      <a:lnTo>
                        <a:pt x="75" y="104"/>
                      </a:lnTo>
                      <a:lnTo>
                        <a:pt x="96" y="124"/>
                      </a:lnTo>
                      <a:lnTo>
                        <a:pt x="119" y="143"/>
                      </a:lnTo>
                      <a:lnTo>
                        <a:pt x="143" y="159"/>
                      </a:lnTo>
                      <a:lnTo>
                        <a:pt x="168" y="174"/>
                      </a:lnTo>
                      <a:lnTo>
                        <a:pt x="193" y="186"/>
                      </a:lnTo>
                      <a:lnTo>
                        <a:pt x="220" y="196"/>
                      </a:lnTo>
                      <a:lnTo>
                        <a:pt x="247" y="204"/>
                      </a:lnTo>
                      <a:lnTo>
                        <a:pt x="277" y="211"/>
                      </a:lnTo>
                      <a:lnTo>
                        <a:pt x="246" y="197"/>
                      </a:lnTo>
                      <a:lnTo>
                        <a:pt x="217" y="183"/>
                      </a:lnTo>
                      <a:lnTo>
                        <a:pt x="187" y="166"/>
                      </a:lnTo>
                      <a:lnTo>
                        <a:pt x="160" y="149"/>
                      </a:lnTo>
                      <a:lnTo>
                        <a:pt x="131" y="128"/>
                      </a:lnTo>
                      <a:lnTo>
                        <a:pt x="105" y="108"/>
                      </a:lnTo>
                      <a:lnTo>
                        <a:pt x="79" y="85"/>
                      </a:lnTo>
                      <a:lnTo>
                        <a:pt x="54" y="61"/>
                      </a:lnTo>
                      <a:close/>
                    </a:path>
                  </a:pathLst>
                </a:custGeom>
                <a:solidFill>
                  <a:srgbClr val="00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371280" y="4117680"/>
                  <a:ext cx="111240" cy="83160"/>
                </a:xfrm>
                <a:custGeom>
                  <a:avLst/>
                  <a:gdLst/>
                  <a:ahLst/>
                  <a:rect l="l" t="t" r="r" b="b"/>
                  <a:pathLst>
                    <a:path w="391" h="293">
                      <a:moveTo>
                        <a:pt x="27" y="76"/>
                      </a:moveTo>
                      <a:lnTo>
                        <a:pt x="53" y="107"/>
                      </a:lnTo>
                      <a:lnTo>
                        <a:pt x="81" y="137"/>
                      </a:lnTo>
                      <a:lnTo>
                        <a:pt x="106" y="161"/>
                      </a:lnTo>
                      <a:lnTo>
                        <a:pt x="132" y="184"/>
                      </a:lnTo>
                      <a:lnTo>
                        <a:pt x="158" y="204"/>
                      </a:lnTo>
                      <a:lnTo>
                        <a:pt x="187" y="225"/>
                      </a:lnTo>
                      <a:lnTo>
                        <a:pt x="214" y="242"/>
                      </a:lnTo>
                      <a:lnTo>
                        <a:pt x="244" y="259"/>
                      </a:lnTo>
                      <a:lnTo>
                        <a:pt x="273" y="273"/>
                      </a:lnTo>
                      <a:lnTo>
                        <a:pt x="304" y="287"/>
                      </a:lnTo>
                      <a:lnTo>
                        <a:pt x="336" y="290"/>
                      </a:lnTo>
                      <a:lnTo>
                        <a:pt x="373" y="293"/>
                      </a:lnTo>
                      <a:lnTo>
                        <a:pt x="391" y="293"/>
                      </a:lnTo>
                      <a:lnTo>
                        <a:pt x="349" y="280"/>
                      </a:lnTo>
                      <a:lnTo>
                        <a:pt x="309" y="265"/>
                      </a:lnTo>
                      <a:lnTo>
                        <a:pt x="271" y="247"/>
                      </a:lnTo>
                      <a:lnTo>
                        <a:pt x="234" y="228"/>
                      </a:lnTo>
                      <a:lnTo>
                        <a:pt x="197" y="204"/>
                      </a:lnTo>
                      <a:lnTo>
                        <a:pt x="162" y="180"/>
                      </a:lnTo>
                      <a:lnTo>
                        <a:pt x="128" y="152"/>
                      </a:lnTo>
                      <a:lnTo>
                        <a:pt x="96" y="123"/>
                      </a:lnTo>
                      <a:lnTo>
                        <a:pt x="68" y="92"/>
                      </a:lnTo>
                      <a:lnTo>
                        <a:pt x="43" y="62"/>
                      </a:lnTo>
                      <a:lnTo>
                        <a:pt x="19" y="31"/>
                      </a:lnTo>
                      <a:lnTo>
                        <a:pt x="0" y="0"/>
                      </a:lnTo>
                      <a:lnTo>
                        <a:pt x="11" y="39"/>
                      </a:lnTo>
                      <a:lnTo>
                        <a:pt x="18" y="57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solidFill>
                  <a:srgbClr val="00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368400" y="4100760"/>
                  <a:ext cx="133560" cy="100440"/>
                </a:xfrm>
                <a:custGeom>
                  <a:avLst/>
                  <a:gdLst/>
                  <a:ahLst/>
                  <a:rect l="l" t="t" r="r" b="b"/>
                  <a:pathLst>
                    <a:path w="468" h="353">
                      <a:moveTo>
                        <a:pt x="9" y="60"/>
                      </a:moveTo>
                      <a:lnTo>
                        <a:pt x="28" y="91"/>
                      </a:lnTo>
                      <a:lnTo>
                        <a:pt x="52" y="122"/>
                      </a:lnTo>
                      <a:lnTo>
                        <a:pt x="77" y="152"/>
                      </a:lnTo>
                      <a:lnTo>
                        <a:pt x="105" y="183"/>
                      </a:lnTo>
                      <a:lnTo>
                        <a:pt x="137" y="212"/>
                      </a:lnTo>
                      <a:lnTo>
                        <a:pt x="171" y="240"/>
                      </a:lnTo>
                      <a:lnTo>
                        <a:pt x="206" y="264"/>
                      </a:lnTo>
                      <a:lnTo>
                        <a:pt x="243" y="288"/>
                      </a:lnTo>
                      <a:lnTo>
                        <a:pt x="280" y="307"/>
                      </a:lnTo>
                      <a:lnTo>
                        <a:pt x="318" y="325"/>
                      </a:lnTo>
                      <a:lnTo>
                        <a:pt x="358" y="340"/>
                      </a:lnTo>
                      <a:lnTo>
                        <a:pt x="400" y="353"/>
                      </a:lnTo>
                      <a:lnTo>
                        <a:pt x="434" y="349"/>
                      </a:lnTo>
                      <a:lnTo>
                        <a:pt x="468" y="344"/>
                      </a:lnTo>
                      <a:lnTo>
                        <a:pt x="418" y="333"/>
                      </a:lnTo>
                      <a:lnTo>
                        <a:pt x="370" y="321"/>
                      </a:lnTo>
                      <a:lnTo>
                        <a:pt x="324" y="304"/>
                      </a:lnTo>
                      <a:lnTo>
                        <a:pt x="281" y="285"/>
                      </a:lnTo>
                      <a:lnTo>
                        <a:pt x="238" y="260"/>
                      </a:lnTo>
                      <a:lnTo>
                        <a:pt x="197" y="232"/>
                      </a:lnTo>
                      <a:lnTo>
                        <a:pt x="157" y="201"/>
                      </a:lnTo>
                      <a:lnTo>
                        <a:pt x="121" y="167"/>
                      </a:lnTo>
                      <a:lnTo>
                        <a:pt x="84" y="127"/>
                      </a:lnTo>
                      <a:lnTo>
                        <a:pt x="52" y="86"/>
                      </a:lnTo>
                      <a:lnTo>
                        <a:pt x="22" y="43"/>
                      </a:lnTo>
                      <a:lnTo>
                        <a:pt x="0" y="0"/>
                      </a:lnTo>
                      <a:lnTo>
                        <a:pt x="3" y="30"/>
                      </a:lnTo>
                      <a:lnTo>
                        <a:pt x="9" y="60"/>
                      </a:lnTo>
                      <a:close/>
                    </a:path>
                  </a:pathLst>
                </a:custGeom>
                <a:solidFill>
                  <a:srgbClr val="006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68400" y="3981960"/>
                  <a:ext cx="219600" cy="219240"/>
                </a:xfrm>
                <a:custGeom>
                  <a:avLst/>
                  <a:gdLst/>
                  <a:ahLst/>
                  <a:rect l="l" t="t" r="r" b="b"/>
                  <a:pathLst>
                    <a:path w="767" h="768">
                      <a:moveTo>
                        <a:pt x="383" y="0"/>
                      </a:moveTo>
                      <a:lnTo>
                        <a:pt x="343" y="1"/>
                      </a:lnTo>
                      <a:lnTo>
                        <a:pt x="306" y="7"/>
                      </a:lnTo>
                      <a:lnTo>
                        <a:pt x="269" y="15"/>
                      </a:lnTo>
                      <a:lnTo>
                        <a:pt x="235" y="27"/>
                      </a:lnTo>
                      <a:lnTo>
                        <a:pt x="201" y="42"/>
                      </a:lnTo>
                      <a:lnTo>
                        <a:pt x="170" y="62"/>
                      </a:lnTo>
                      <a:lnTo>
                        <a:pt x="139" y="85"/>
                      </a:lnTo>
                      <a:lnTo>
                        <a:pt x="112" y="112"/>
                      </a:lnTo>
                      <a:lnTo>
                        <a:pt x="85" y="140"/>
                      </a:lnTo>
                      <a:lnTo>
                        <a:pt x="62" y="170"/>
                      </a:lnTo>
                      <a:lnTo>
                        <a:pt x="41" y="202"/>
                      </a:lnTo>
                      <a:lnTo>
                        <a:pt x="27" y="236"/>
                      </a:lnTo>
                      <a:lnTo>
                        <a:pt x="14" y="270"/>
                      </a:lnTo>
                      <a:lnTo>
                        <a:pt x="6" y="306"/>
                      </a:lnTo>
                      <a:lnTo>
                        <a:pt x="1" y="344"/>
                      </a:lnTo>
                      <a:lnTo>
                        <a:pt x="0" y="383"/>
                      </a:lnTo>
                      <a:lnTo>
                        <a:pt x="1" y="422"/>
                      </a:lnTo>
                      <a:lnTo>
                        <a:pt x="6" y="459"/>
                      </a:lnTo>
                      <a:lnTo>
                        <a:pt x="14" y="496"/>
                      </a:lnTo>
                      <a:lnTo>
                        <a:pt x="27" y="531"/>
                      </a:lnTo>
                      <a:lnTo>
                        <a:pt x="41" y="564"/>
                      </a:lnTo>
                      <a:lnTo>
                        <a:pt x="62" y="595"/>
                      </a:lnTo>
                      <a:lnTo>
                        <a:pt x="72" y="610"/>
                      </a:lnTo>
                      <a:lnTo>
                        <a:pt x="85" y="626"/>
                      </a:lnTo>
                      <a:lnTo>
                        <a:pt x="112" y="655"/>
                      </a:lnTo>
                      <a:lnTo>
                        <a:pt x="139" y="680"/>
                      </a:lnTo>
                      <a:lnTo>
                        <a:pt x="170" y="703"/>
                      </a:lnTo>
                      <a:lnTo>
                        <a:pt x="201" y="722"/>
                      </a:lnTo>
                      <a:lnTo>
                        <a:pt x="235" y="739"/>
                      </a:lnTo>
                      <a:lnTo>
                        <a:pt x="269" y="751"/>
                      </a:lnTo>
                      <a:lnTo>
                        <a:pt x="306" y="760"/>
                      </a:lnTo>
                      <a:lnTo>
                        <a:pt x="343" y="765"/>
                      </a:lnTo>
                      <a:lnTo>
                        <a:pt x="383" y="768"/>
                      </a:lnTo>
                      <a:lnTo>
                        <a:pt x="421" y="765"/>
                      </a:lnTo>
                      <a:lnTo>
                        <a:pt x="439" y="762"/>
                      </a:lnTo>
                      <a:lnTo>
                        <a:pt x="459" y="760"/>
                      </a:lnTo>
                      <a:lnTo>
                        <a:pt x="495" y="751"/>
                      </a:lnTo>
                      <a:lnTo>
                        <a:pt x="498" y="748"/>
                      </a:lnTo>
                      <a:lnTo>
                        <a:pt x="503" y="747"/>
                      </a:lnTo>
                      <a:lnTo>
                        <a:pt x="512" y="745"/>
                      </a:lnTo>
                      <a:lnTo>
                        <a:pt x="530" y="739"/>
                      </a:lnTo>
                      <a:lnTo>
                        <a:pt x="546" y="730"/>
                      </a:lnTo>
                      <a:lnTo>
                        <a:pt x="554" y="726"/>
                      </a:lnTo>
                      <a:lnTo>
                        <a:pt x="563" y="722"/>
                      </a:lnTo>
                      <a:lnTo>
                        <a:pt x="595" y="703"/>
                      </a:lnTo>
                      <a:lnTo>
                        <a:pt x="610" y="692"/>
                      </a:lnTo>
                      <a:lnTo>
                        <a:pt x="625" y="680"/>
                      </a:lnTo>
                      <a:lnTo>
                        <a:pt x="655" y="655"/>
                      </a:lnTo>
                      <a:lnTo>
                        <a:pt x="680" y="626"/>
                      </a:lnTo>
                      <a:lnTo>
                        <a:pt x="691" y="610"/>
                      </a:lnTo>
                      <a:lnTo>
                        <a:pt x="702" y="595"/>
                      </a:lnTo>
                      <a:lnTo>
                        <a:pt x="722" y="564"/>
                      </a:lnTo>
                      <a:lnTo>
                        <a:pt x="725" y="554"/>
                      </a:lnTo>
                      <a:lnTo>
                        <a:pt x="730" y="547"/>
                      </a:lnTo>
                      <a:lnTo>
                        <a:pt x="739" y="531"/>
                      </a:lnTo>
                      <a:lnTo>
                        <a:pt x="744" y="513"/>
                      </a:lnTo>
                      <a:lnTo>
                        <a:pt x="747" y="503"/>
                      </a:lnTo>
                      <a:lnTo>
                        <a:pt x="748" y="499"/>
                      </a:lnTo>
                      <a:lnTo>
                        <a:pt x="750" y="496"/>
                      </a:lnTo>
                      <a:lnTo>
                        <a:pt x="759" y="459"/>
                      </a:lnTo>
                      <a:lnTo>
                        <a:pt x="761" y="440"/>
                      </a:lnTo>
                      <a:lnTo>
                        <a:pt x="765" y="422"/>
                      </a:lnTo>
                      <a:lnTo>
                        <a:pt x="767" y="383"/>
                      </a:lnTo>
                      <a:lnTo>
                        <a:pt x="765" y="344"/>
                      </a:lnTo>
                      <a:lnTo>
                        <a:pt x="759" y="306"/>
                      </a:lnTo>
                      <a:lnTo>
                        <a:pt x="750" y="270"/>
                      </a:lnTo>
                      <a:lnTo>
                        <a:pt x="739" y="236"/>
                      </a:lnTo>
                      <a:lnTo>
                        <a:pt x="722" y="202"/>
                      </a:lnTo>
                      <a:lnTo>
                        <a:pt x="702" y="170"/>
                      </a:lnTo>
                      <a:lnTo>
                        <a:pt x="680" y="140"/>
                      </a:lnTo>
                      <a:lnTo>
                        <a:pt x="655" y="112"/>
                      </a:lnTo>
                      <a:lnTo>
                        <a:pt x="625" y="85"/>
                      </a:lnTo>
                      <a:lnTo>
                        <a:pt x="610" y="73"/>
                      </a:lnTo>
                      <a:lnTo>
                        <a:pt x="595" y="62"/>
                      </a:lnTo>
                      <a:lnTo>
                        <a:pt x="563" y="42"/>
                      </a:lnTo>
                      <a:lnTo>
                        <a:pt x="530" y="27"/>
                      </a:lnTo>
                      <a:lnTo>
                        <a:pt x="495" y="15"/>
                      </a:lnTo>
                      <a:lnTo>
                        <a:pt x="459" y="7"/>
                      </a:lnTo>
                      <a:lnTo>
                        <a:pt x="421" y="1"/>
                      </a:lnTo>
                      <a:lnTo>
                        <a:pt x="38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426360" y="4081680"/>
                  <a:ext cx="1011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32120" y="4087440"/>
                  <a:ext cx="89640" cy="13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335200" y="2955960"/>
                  <a:ext cx="169560" cy="223200"/>
                </a:xfrm>
                <a:custGeom>
                  <a:avLst/>
                  <a:gdLst/>
                  <a:ahLst/>
                  <a:rect l="l" t="t" r="r" b="b"/>
                  <a:pathLst>
                    <a:path w="593" h="783">
                      <a:moveTo>
                        <a:pt x="145" y="0"/>
                      </a:moveTo>
                      <a:lnTo>
                        <a:pt x="121" y="0"/>
                      </a:lnTo>
                      <a:lnTo>
                        <a:pt x="91" y="33"/>
                      </a:lnTo>
                      <a:lnTo>
                        <a:pt x="67" y="68"/>
                      </a:lnTo>
                      <a:lnTo>
                        <a:pt x="46" y="105"/>
                      </a:lnTo>
                      <a:lnTo>
                        <a:pt x="30" y="144"/>
                      </a:lnTo>
                      <a:lnTo>
                        <a:pt x="16" y="183"/>
                      </a:lnTo>
                      <a:lnTo>
                        <a:pt x="7" y="225"/>
                      </a:lnTo>
                      <a:lnTo>
                        <a:pt x="1" y="268"/>
                      </a:lnTo>
                      <a:lnTo>
                        <a:pt x="0" y="313"/>
                      </a:lnTo>
                      <a:lnTo>
                        <a:pt x="1" y="360"/>
                      </a:lnTo>
                      <a:lnTo>
                        <a:pt x="4" y="382"/>
                      </a:lnTo>
                      <a:lnTo>
                        <a:pt x="8" y="406"/>
                      </a:lnTo>
                      <a:lnTo>
                        <a:pt x="18" y="450"/>
                      </a:lnTo>
                      <a:lnTo>
                        <a:pt x="34" y="493"/>
                      </a:lnTo>
                      <a:lnTo>
                        <a:pt x="42" y="513"/>
                      </a:lnTo>
                      <a:lnTo>
                        <a:pt x="52" y="533"/>
                      </a:lnTo>
                      <a:lnTo>
                        <a:pt x="76" y="572"/>
                      </a:lnTo>
                      <a:lnTo>
                        <a:pt x="89" y="590"/>
                      </a:lnTo>
                      <a:lnTo>
                        <a:pt x="103" y="609"/>
                      </a:lnTo>
                      <a:lnTo>
                        <a:pt x="138" y="645"/>
                      </a:lnTo>
                      <a:lnTo>
                        <a:pt x="172" y="677"/>
                      </a:lnTo>
                      <a:lnTo>
                        <a:pt x="209" y="704"/>
                      </a:lnTo>
                      <a:lnTo>
                        <a:pt x="246" y="727"/>
                      </a:lnTo>
                      <a:lnTo>
                        <a:pt x="288" y="747"/>
                      </a:lnTo>
                      <a:lnTo>
                        <a:pt x="330" y="762"/>
                      </a:lnTo>
                      <a:lnTo>
                        <a:pt x="374" y="773"/>
                      </a:lnTo>
                      <a:lnTo>
                        <a:pt x="420" y="780"/>
                      </a:lnTo>
                      <a:lnTo>
                        <a:pt x="469" y="783"/>
                      </a:lnTo>
                      <a:lnTo>
                        <a:pt x="471" y="781"/>
                      </a:lnTo>
                      <a:lnTo>
                        <a:pt x="474" y="781"/>
                      </a:lnTo>
                      <a:lnTo>
                        <a:pt x="481" y="781"/>
                      </a:lnTo>
                      <a:lnTo>
                        <a:pt x="495" y="781"/>
                      </a:lnTo>
                      <a:lnTo>
                        <a:pt x="522" y="779"/>
                      </a:lnTo>
                      <a:lnTo>
                        <a:pt x="534" y="777"/>
                      </a:lnTo>
                      <a:lnTo>
                        <a:pt x="548" y="776"/>
                      </a:lnTo>
                      <a:lnTo>
                        <a:pt x="574" y="771"/>
                      </a:lnTo>
                      <a:lnTo>
                        <a:pt x="583" y="754"/>
                      </a:lnTo>
                      <a:lnTo>
                        <a:pt x="593" y="738"/>
                      </a:lnTo>
                      <a:lnTo>
                        <a:pt x="563" y="745"/>
                      </a:lnTo>
                      <a:lnTo>
                        <a:pt x="547" y="747"/>
                      </a:lnTo>
                      <a:lnTo>
                        <a:pt x="542" y="747"/>
                      </a:lnTo>
                      <a:lnTo>
                        <a:pt x="540" y="747"/>
                      </a:lnTo>
                      <a:lnTo>
                        <a:pt x="539" y="747"/>
                      </a:lnTo>
                      <a:lnTo>
                        <a:pt x="539" y="749"/>
                      </a:lnTo>
                      <a:lnTo>
                        <a:pt x="532" y="751"/>
                      </a:lnTo>
                      <a:lnTo>
                        <a:pt x="500" y="754"/>
                      </a:lnTo>
                      <a:lnTo>
                        <a:pt x="469" y="755"/>
                      </a:lnTo>
                      <a:lnTo>
                        <a:pt x="422" y="753"/>
                      </a:lnTo>
                      <a:lnTo>
                        <a:pt x="379" y="746"/>
                      </a:lnTo>
                      <a:lnTo>
                        <a:pt x="337" y="736"/>
                      </a:lnTo>
                      <a:lnTo>
                        <a:pt x="299" y="722"/>
                      </a:lnTo>
                      <a:lnTo>
                        <a:pt x="260" y="703"/>
                      </a:lnTo>
                      <a:lnTo>
                        <a:pt x="224" y="681"/>
                      </a:lnTo>
                      <a:lnTo>
                        <a:pt x="189" y="654"/>
                      </a:lnTo>
                      <a:lnTo>
                        <a:pt x="157" y="625"/>
                      </a:lnTo>
                      <a:lnTo>
                        <a:pt x="125" y="591"/>
                      </a:lnTo>
                      <a:lnTo>
                        <a:pt x="99" y="556"/>
                      </a:lnTo>
                      <a:lnTo>
                        <a:pt x="76" y="520"/>
                      </a:lnTo>
                      <a:lnTo>
                        <a:pt x="59" y="482"/>
                      </a:lnTo>
                      <a:lnTo>
                        <a:pt x="45" y="442"/>
                      </a:lnTo>
                      <a:lnTo>
                        <a:pt x="39" y="421"/>
                      </a:lnTo>
                      <a:lnTo>
                        <a:pt x="35" y="400"/>
                      </a:lnTo>
                      <a:lnTo>
                        <a:pt x="29" y="357"/>
                      </a:lnTo>
                      <a:lnTo>
                        <a:pt x="28" y="313"/>
                      </a:lnTo>
                      <a:lnTo>
                        <a:pt x="29" y="267"/>
                      </a:lnTo>
                      <a:lnTo>
                        <a:pt x="35" y="224"/>
                      </a:lnTo>
                      <a:lnTo>
                        <a:pt x="45" y="182"/>
                      </a:lnTo>
                      <a:lnTo>
                        <a:pt x="59" y="143"/>
                      </a:lnTo>
                      <a:lnTo>
                        <a:pt x="76" y="105"/>
                      </a:lnTo>
                      <a:lnTo>
                        <a:pt x="99" y="68"/>
                      </a:lnTo>
                      <a:lnTo>
                        <a:pt x="125" y="33"/>
                      </a:lnTo>
                      <a:lnTo>
                        <a:pt x="157" y="1"/>
                      </a:lnTo>
                      <a:lnTo>
                        <a:pt x="159" y="0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324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343120" y="2955960"/>
                  <a:ext cx="166320" cy="215640"/>
                </a:xfrm>
                <a:custGeom>
                  <a:avLst/>
                  <a:gdLst/>
                  <a:ahLst/>
                  <a:rect l="l" t="t" r="r" b="b"/>
                  <a:pathLst>
                    <a:path w="582" h="755">
                      <a:moveTo>
                        <a:pt x="131" y="0"/>
                      </a:moveTo>
                      <a:lnTo>
                        <a:pt x="129" y="1"/>
                      </a:lnTo>
                      <a:lnTo>
                        <a:pt x="97" y="33"/>
                      </a:lnTo>
                      <a:lnTo>
                        <a:pt x="71" y="68"/>
                      </a:lnTo>
                      <a:lnTo>
                        <a:pt x="48" y="105"/>
                      </a:lnTo>
                      <a:lnTo>
                        <a:pt x="31" y="143"/>
                      </a:lnTo>
                      <a:lnTo>
                        <a:pt x="17" y="182"/>
                      </a:lnTo>
                      <a:lnTo>
                        <a:pt x="7" y="224"/>
                      </a:lnTo>
                      <a:lnTo>
                        <a:pt x="1" y="267"/>
                      </a:lnTo>
                      <a:lnTo>
                        <a:pt x="0" y="313"/>
                      </a:lnTo>
                      <a:lnTo>
                        <a:pt x="1" y="357"/>
                      </a:lnTo>
                      <a:lnTo>
                        <a:pt x="7" y="400"/>
                      </a:lnTo>
                      <a:lnTo>
                        <a:pt x="11" y="421"/>
                      </a:lnTo>
                      <a:lnTo>
                        <a:pt x="17" y="442"/>
                      </a:lnTo>
                      <a:lnTo>
                        <a:pt x="31" y="482"/>
                      </a:lnTo>
                      <a:lnTo>
                        <a:pt x="48" y="520"/>
                      </a:lnTo>
                      <a:lnTo>
                        <a:pt x="71" y="556"/>
                      </a:lnTo>
                      <a:lnTo>
                        <a:pt x="97" y="591"/>
                      </a:lnTo>
                      <a:lnTo>
                        <a:pt x="129" y="625"/>
                      </a:lnTo>
                      <a:lnTo>
                        <a:pt x="161" y="654"/>
                      </a:lnTo>
                      <a:lnTo>
                        <a:pt x="196" y="681"/>
                      </a:lnTo>
                      <a:lnTo>
                        <a:pt x="232" y="703"/>
                      </a:lnTo>
                      <a:lnTo>
                        <a:pt x="271" y="722"/>
                      </a:lnTo>
                      <a:lnTo>
                        <a:pt x="309" y="736"/>
                      </a:lnTo>
                      <a:lnTo>
                        <a:pt x="351" y="746"/>
                      </a:lnTo>
                      <a:lnTo>
                        <a:pt x="394" y="753"/>
                      </a:lnTo>
                      <a:lnTo>
                        <a:pt x="441" y="755"/>
                      </a:lnTo>
                      <a:lnTo>
                        <a:pt x="472" y="754"/>
                      </a:lnTo>
                      <a:lnTo>
                        <a:pt x="504" y="751"/>
                      </a:lnTo>
                      <a:lnTo>
                        <a:pt x="511" y="749"/>
                      </a:lnTo>
                      <a:lnTo>
                        <a:pt x="511" y="747"/>
                      </a:lnTo>
                      <a:lnTo>
                        <a:pt x="512" y="747"/>
                      </a:lnTo>
                      <a:lnTo>
                        <a:pt x="514" y="747"/>
                      </a:lnTo>
                      <a:lnTo>
                        <a:pt x="519" y="747"/>
                      </a:lnTo>
                      <a:lnTo>
                        <a:pt x="535" y="745"/>
                      </a:lnTo>
                      <a:lnTo>
                        <a:pt x="565" y="738"/>
                      </a:lnTo>
                      <a:lnTo>
                        <a:pt x="582" y="704"/>
                      </a:lnTo>
                      <a:lnTo>
                        <a:pt x="548" y="713"/>
                      </a:lnTo>
                      <a:lnTo>
                        <a:pt x="530" y="717"/>
                      </a:lnTo>
                      <a:lnTo>
                        <a:pt x="513" y="721"/>
                      </a:lnTo>
                      <a:lnTo>
                        <a:pt x="477" y="725"/>
                      </a:lnTo>
                      <a:lnTo>
                        <a:pt x="441" y="727"/>
                      </a:lnTo>
                      <a:lnTo>
                        <a:pt x="398" y="725"/>
                      </a:lnTo>
                      <a:lnTo>
                        <a:pt x="357" y="719"/>
                      </a:lnTo>
                      <a:lnTo>
                        <a:pt x="317" y="709"/>
                      </a:lnTo>
                      <a:lnTo>
                        <a:pt x="281" y="696"/>
                      </a:lnTo>
                      <a:lnTo>
                        <a:pt x="244" y="678"/>
                      </a:lnTo>
                      <a:lnTo>
                        <a:pt x="210" y="658"/>
                      </a:lnTo>
                      <a:lnTo>
                        <a:pt x="178" y="633"/>
                      </a:lnTo>
                      <a:lnTo>
                        <a:pt x="148" y="606"/>
                      </a:lnTo>
                      <a:lnTo>
                        <a:pt x="119" y="574"/>
                      </a:lnTo>
                      <a:lnTo>
                        <a:pt x="95" y="541"/>
                      </a:lnTo>
                      <a:lnTo>
                        <a:pt x="73" y="506"/>
                      </a:lnTo>
                      <a:lnTo>
                        <a:pt x="64" y="488"/>
                      </a:lnTo>
                      <a:lnTo>
                        <a:pt x="57" y="471"/>
                      </a:lnTo>
                      <a:lnTo>
                        <a:pt x="49" y="451"/>
                      </a:lnTo>
                      <a:lnTo>
                        <a:pt x="44" y="433"/>
                      </a:lnTo>
                      <a:lnTo>
                        <a:pt x="35" y="395"/>
                      </a:lnTo>
                      <a:lnTo>
                        <a:pt x="29" y="354"/>
                      </a:lnTo>
                      <a:lnTo>
                        <a:pt x="28" y="313"/>
                      </a:lnTo>
                      <a:lnTo>
                        <a:pt x="29" y="270"/>
                      </a:lnTo>
                      <a:lnTo>
                        <a:pt x="35" y="229"/>
                      </a:lnTo>
                      <a:lnTo>
                        <a:pt x="44" y="190"/>
                      </a:lnTo>
                      <a:lnTo>
                        <a:pt x="57" y="153"/>
                      </a:lnTo>
                      <a:lnTo>
                        <a:pt x="73" y="117"/>
                      </a:lnTo>
                      <a:lnTo>
                        <a:pt x="95" y="83"/>
                      </a:lnTo>
                      <a:lnTo>
                        <a:pt x="119" y="50"/>
                      </a:lnTo>
                      <a:lnTo>
                        <a:pt x="148" y="21"/>
                      </a:lnTo>
                      <a:lnTo>
                        <a:pt x="168" y="3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365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303520" y="2961720"/>
                  <a:ext cx="173880" cy="248760"/>
                </a:xfrm>
                <a:custGeom>
                  <a:avLst/>
                  <a:gdLst/>
                  <a:ahLst/>
                  <a:rect l="l" t="t" r="r" b="b"/>
                  <a:pathLst>
                    <a:path w="608" h="873">
                      <a:moveTo>
                        <a:pt x="111" y="0"/>
                      </a:moveTo>
                      <a:lnTo>
                        <a:pt x="90" y="5"/>
                      </a:lnTo>
                      <a:lnTo>
                        <a:pt x="71" y="13"/>
                      </a:lnTo>
                      <a:lnTo>
                        <a:pt x="54" y="44"/>
                      </a:lnTo>
                      <a:lnTo>
                        <a:pt x="39" y="77"/>
                      </a:lnTo>
                      <a:lnTo>
                        <a:pt x="17" y="146"/>
                      </a:lnTo>
                      <a:lnTo>
                        <a:pt x="9" y="181"/>
                      </a:lnTo>
                      <a:lnTo>
                        <a:pt x="4" y="217"/>
                      </a:lnTo>
                      <a:lnTo>
                        <a:pt x="0" y="293"/>
                      </a:lnTo>
                      <a:lnTo>
                        <a:pt x="0" y="322"/>
                      </a:lnTo>
                      <a:lnTo>
                        <a:pt x="3" y="351"/>
                      </a:lnTo>
                      <a:lnTo>
                        <a:pt x="5" y="379"/>
                      </a:lnTo>
                      <a:lnTo>
                        <a:pt x="11" y="409"/>
                      </a:lnTo>
                      <a:lnTo>
                        <a:pt x="15" y="435"/>
                      </a:lnTo>
                      <a:lnTo>
                        <a:pt x="23" y="462"/>
                      </a:lnTo>
                      <a:lnTo>
                        <a:pt x="31" y="488"/>
                      </a:lnTo>
                      <a:lnTo>
                        <a:pt x="42" y="515"/>
                      </a:lnTo>
                      <a:lnTo>
                        <a:pt x="52" y="539"/>
                      </a:lnTo>
                      <a:lnTo>
                        <a:pt x="65" y="564"/>
                      </a:lnTo>
                      <a:lnTo>
                        <a:pt x="79" y="588"/>
                      </a:lnTo>
                      <a:lnTo>
                        <a:pt x="94" y="613"/>
                      </a:lnTo>
                      <a:lnTo>
                        <a:pt x="128" y="658"/>
                      </a:lnTo>
                      <a:lnTo>
                        <a:pt x="148" y="680"/>
                      </a:lnTo>
                      <a:lnTo>
                        <a:pt x="169" y="702"/>
                      </a:lnTo>
                      <a:lnTo>
                        <a:pt x="211" y="741"/>
                      </a:lnTo>
                      <a:lnTo>
                        <a:pt x="258" y="775"/>
                      </a:lnTo>
                      <a:lnTo>
                        <a:pt x="280" y="790"/>
                      </a:lnTo>
                      <a:lnTo>
                        <a:pt x="304" y="803"/>
                      </a:lnTo>
                      <a:lnTo>
                        <a:pt x="355" y="828"/>
                      </a:lnTo>
                      <a:lnTo>
                        <a:pt x="406" y="846"/>
                      </a:lnTo>
                      <a:lnTo>
                        <a:pt x="462" y="860"/>
                      </a:lnTo>
                      <a:lnTo>
                        <a:pt x="489" y="865"/>
                      </a:lnTo>
                      <a:lnTo>
                        <a:pt x="517" y="868"/>
                      </a:lnTo>
                      <a:lnTo>
                        <a:pt x="577" y="873"/>
                      </a:lnTo>
                      <a:lnTo>
                        <a:pt x="608" y="844"/>
                      </a:lnTo>
                      <a:lnTo>
                        <a:pt x="579" y="845"/>
                      </a:lnTo>
                      <a:lnTo>
                        <a:pt x="549" y="844"/>
                      </a:lnTo>
                      <a:lnTo>
                        <a:pt x="521" y="842"/>
                      </a:lnTo>
                      <a:lnTo>
                        <a:pt x="467" y="835"/>
                      </a:lnTo>
                      <a:lnTo>
                        <a:pt x="415" y="822"/>
                      </a:lnTo>
                      <a:lnTo>
                        <a:pt x="390" y="814"/>
                      </a:lnTo>
                      <a:lnTo>
                        <a:pt x="367" y="805"/>
                      </a:lnTo>
                      <a:lnTo>
                        <a:pt x="342" y="793"/>
                      </a:lnTo>
                      <a:lnTo>
                        <a:pt x="318" y="781"/>
                      </a:lnTo>
                      <a:lnTo>
                        <a:pt x="272" y="753"/>
                      </a:lnTo>
                      <a:lnTo>
                        <a:pt x="228" y="719"/>
                      </a:lnTo>
                      <a:lnTo>
                        <a:pt x="189" y="683"/>
                      </a:lnTo>
                      <a:lnTo>
                        <a:pt x="168" y="662"/>
                      </a:lnTo>
                      <a:lnTo>
                        <a:pt x="150" y="641"/>
                      </a:lnTo>
                      <a:lnTo>
                        <a:pt x="117" y="598"/>
                      </a:lnTo>
                      <a:lnTo>
                        <a:pt x="102" y="574"/>
                      </a:lnTo>
                      <a:lnTo>
                        <a:pt x="90" y="552"/>
                      </a:lnTo>
                      <a:lnTo>
                        <a:pt x="77" y="528"/>
                      </a:lnTo>
                      <a:lnTo>
                        <a:pt x="67" y="505"/>
                      </a:lnTo>
                      <a:lnTo>
                        <a:pt x="57" y="479"/>
                      </a:lnTo>
                      <a:lnTo>
                        <a:pt x="49" y="454"/>
                      </a:lnTo>
                      <a:lnTo>
                        <a:pt x="41" y="428"/>
                      </a:lnTo>
                      <a:lnTo>
                        <a:pt x="37" y="403"/>
                      </a:lnTo>
                      <a:lnTo>
                        <a:pt x="30" y="349"/>
                      </a:lnTo>
                      <a:lnTo>
                        <a:pt x="28" y="320"/>
                      </a:lnTo>
                      <a:lnTo>
                        <a:pt x="28" y="293"/>
                      </a:lnTo>
                      <a:lnTo>
                        <a:pt x="29" y="251"/>
                      </a:lnTo>
                      <a:lnTo>
                        <a:pt x="32" y="212"/>
                      </a:lnTo>
                      <a:lnTo>
                        <a:pt x="38" y="173"/>
                      </a:lnTo>
                      <a:lnTo>
                        <a:pt x="48" y="137"/>
                      </a:lnTo>
                      <a:lnTo>
                        <a:pt x="59" y="100"/>
                      </a:lnTo>
                      <a:lnTo>
                        <a:pt x="74" y="65"/>
                      </a:lnTo>
                      <a:lnTo>
                        <a:pt x="91" y="31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263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295600" y="2965680"/>
                  <a:ext cx="173160" cy="252720"/>
                </a:xfrm>
                <a:custGeom>
                  <a:avLst/>
                  <a:gdLst/>
                  <a:ahLst/>
                  <a:rect l="l" t="t" r="r" b="b"/>
                  <a:pathLst>
                    <a:path w="605" h="887">
                      <a:moveTo>
                        <a:pt x="99" y="0"/>
                      </a:moveTo>
                      <a:lnTo>
                        <a:pt x="77" y="8"/>
                      </a:lnTo>
                      <a:lnTo>
                        <a:pt x="58" y="18"/>
                      </a:lnTo>
                      <a:lnTo>
                        <a:pt x="32" y="78"/>
                      </a:lnTo>
                      <a:lnTo>
                        <a:pt x="22" y="110"/>
                      </a:lnTo>
                      <a:lnTo>
                        <a:pt x="14" y="143"/>
                      </a:lnTo>
                      <a:lnTo>
                        <a:pt x="3" y="210"/>
                      </a:lnTo>
                      <a:lnTo>
                        <a:pt x="0" y="244"/>
                      </a:lnTo>
                      <a:lnTo>
                        <a:pt x="0" y="280"/>
                      </a:lnTo>
                      <a:lnTo>
                        <a:pt x="0" y="310"/>
                      </a:lnTo>
                      <a:lnTo>
                        <a:pt x="2" y="340"/>
                      </a:lnTo>
                      <a:lnTo>
                        <a:pt x="5" y="370"/>
                      </a:lnTo>
                      <a:lnTo>
                        <a:pt x="10" y="400"/>
                      </a:lnTo>
                      <a:lnTo>
                        <a:pt x="16" y="429"/>
                      </a:lnTo>
                      <a:lnTo>
                        <a:pt x="24" y="457"/>
                      </a:lnTo>
                      <a:lnTo>
                        <a:pt x="33" y="484"/>
                      </a:lnTo>
                      <a:lnTo>
                        <a:pt x="44" y="513"/>
                      </a:lnTo>
                      <a:lnTo>
                        <a:pt x="54" y="538"/>
                      </a:lnTo>
                      <a:lnTo>
                        <a:pt x="68" y="564"/>
                      </a:lnTo>
                      <a:lnTo>
                        <a:pt x="82" y="589"/>
                      </a:lnTo>
                      <a:lnTo>
                        <a:pt x="99" y="615"/>
                      </a:lnTo>
                      <a:lnTo>
                        <a:pt x="116" y="638"/>
                      </a:lnTo>
                      <a:lnTo>
                        <a:pt x="135" y="663"/>
                      </a:lnTo>
                      <a:lnTo>
                        <a:pt x="155" y="686"/>
                      </a:lnTo>
                      <a:lnTo>
                        <a:pt x="178" y="710"/>
                      </a:lnTo>
                      <a:lnTo>
                        <a:pt x="198" y="729"/>
                      </a:lnTo>
                      <a:lnTo>
                        <a:pt x="219" y="747"/>
                      </a:lnTo>
                      <a:lnTo>
                        <a:pt x="263" y="781"/>
                      </a:lnTo>
                      <a:lnTo>
                        <a:pt x="310" y="811"/>
                      </a:lnTo>
                      <a:lnTo>
                        <a:pt x="358" y="836"/>
                      </a:lnTo>
                      <a:lnTo>
                        <a:pt x="407" y="854"/>
                      </a:lnTo>
                      <a:lnTo>
                        <a:pt x="460" y="870"/>
                      </a:lnTo>
                      <a:lnTo>
                        <a:pt x="486" y="875"/>
                      </a:lnTo>
                      <a:lnTo>
                        <a:pt x="514" y="880"/>
                      </a:lnTo>
                      <a:lnTo>
                        <a:pt x="571" y="887"/>
                      </a:lnTo>
                      <a:lnTo>
                        <a:pt x="605" y="860"/>
                      </a:lnTo>
                      <a:lnTo>
                        <a:pt x="545" y="855"/>
                      </a:lnTo>
                      <a:lnTo>
                        <a:pt x="517" y="852"/>
                      </a:lnTo>
                      <a:lnTo>
                        <a:pt x="490" y="847"/>
                      </a:lnTo>
                      <a:lnTo>
                        <a:pt x="434" y="833"/>
                      </a:lnTo>
                      <a:lnTo>
                        <a:pt x="383" y="815"/>
                      </a:lnTo>
                      <a:lnTo>
                        <a:pt x="332" y="790"/>
                      </a:lnTo>
                      <a:lnTo>
                        <a:pt x="308" y="777"/>
                      </a:lnTo>
                      <a:lnTo>
                        <a:pt x="286" y="762"/>
                      </a:lnTo>
                      <a:lnTo>
                        <a:pt x="239" y="728"/>
                      </a:lnTo>
                      <a:lnTo>
                        <a:pt x="197" y="689"/>
                      </a:lnTo>
                      <a:lnTo>
                        <a:pt x="176" y="667"/>
                      </a:lnTo>
                      <a:lnTo>
                        <a:pt x="156" y="645"/>
                      </a:lnTo>
                      <a:lnTo>
                        <a:pt x="122" y="600"/>
                      </a:lnTo>
                      <a:lnTo>
                        <a:pt x="107" y="575"/>
                      </a:lnTo>
                      <a:lnTo>
                        <a:pt x="93" y="551"/>
                      </a:lnTo>
                      <a:lnTo>
                        <a:pt x="80" y="526"/>
                      </a:lnTo>
                      <a:lnTo>
                        <a:pt x="70" y="502"/>
                      </a:lnTo>
                      <a:lnTo>
                        <a:pt x="59" y="475"/>
                      </a:lnTo>
                      <a:lnTo>
                        <a:pt x="51" y="449"/>
                      </a:lnTo>
                      <a:lnTo>
                        <a:pt x="43" y="422"/>
                      </a:lnTo>
                      <a:lnTo>
                        <a:pt x="39" y="396"/>
                      </a:lnTo>
                      <a:lnTo>
                        <a:pt x="33" y="366"/>
                      </a:lnTo>
                      <a:lnTo>
                        <a:pt x="31" y="338"/>
                      </a:lnTo>
                      <a:lnTo>
                        <a:pt x="28" y="309"/>
                      </a:lnTo>
                      <a:lnTo>
                        <a:pt x="28" y="280"/>
                      </a:lnTo>
                      <a:lnTo>
                        <a:pt x="32" y="204"/>
                      </a:lnTo>
                      <a:lnTo>
                        <a:pt x="37" y="168"/>
                      </a:lnTo>
                      <a:lnTo>
                        <a:pt x="45" y="133"/>
                      </a:lnTo>
                      <a:lnTo>
                        <a:pt x="67" y="64"/>
                      </a:lnTo>
                      <a:lnTo>
                        <a:pt x="82" y="31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223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287680" y="2970720"/>
                  <a:ext cx="171360" cy="254520"/>
                </a:xfrm>
                <a:custGeom>
                  <a:avLst/>
                  <a:gdLst/>
                  <a:ahLst/>
                  <a:rect l="l" t="t" r="r" b="b"/>
                  <a:pathLst>
                    <a:path w="598" h="894">
                      <a:moveTo>
                        <a:pt x="85" y="0"/>
                      </a:moveTo>
                      <a:lnTo>
                        <a:pt x="44" y="24"/>
                      </a:lnTo>
                      <a:lnTo>
                        <a:pt x="24" y="80"/>
                      </a:lnTo>
                      <a:lnTo>
                        <a:pt x="10" y="137"/>
                      </a:lnTo>
                      <a:lnTo>
                        <a:pt x="2" y="198"/>
                      </a:lnTo>
                      <a:lnTo>
                        <a:pt x="0" y="262"/>
                      </a:lnTo>
                      <a:lnTo>
                        <a:pt x="0" y="294"/>
                      </a:lnTo>
                      <a:lnTo>
                        <a:pt x="2" y="326"/>
                      </a:lnTo>
                      <a:lnTo>
                        <a:pt x="5" y="356"/>
                      </a:lnTo>
                      <a:lnTo>
                        <a:pt x="11" y="388"/>
                      </a:lnTo>
                      <a:lnTo>
                        <a:pt x="17" y="417"/>
                      </a:lnTo>
                      <a:lnTo>
                        <a:pt x="25" y="448"/>
                      </a:lnTo>
                      <a:lnTo>
                        <a:pt x="34" y="476"/>
                      </a:lnTo>
                      <a:lnTo>
                        <a:pt x="46" y="506"/>
                      </a:lnTo>
                      <a:lnTo>
                        <a:pt x="58" y="532"/>
                      </a:lnTo>
                      <a:lnTo>
                        <a:pt x="71" y="559"/>
                      </a:lnTo>
                      <a:lnTo>
                        <a:pt x="86" y="585"/>
                      </a:lnTo>
                      <a:lnTo>
                        <a:pt x="104" y="613"/>
                      </a:lnTo>
                      <a:lnTo>
                        <a:pt x="121" y="637"/>
                      </a:lnTo>
                      <a:lnTo>
                        <a:pt x="142" y="662"/>
                      </a:lnTo>
                      <a:lnTo>
                        <a:pt x="162" y="686"/>
                      </a:lnTo>
                      <a:lnTo>
                        <a:pt x="186" y="711"/>
                      </a:lnTo>
                      <a:lnTo>
                        <a:pt x="225" y="747"/>
                      </a:lnTo>
                      <a:lnTo>
                        <a:pt x="268" y="781"/>
                      </a:lnTo>
                      <a:lnTo>
                        <a:pt x="312" y="811"/>
                      </a:lnTo>
                      <a:lnTo>
                        <a:pt x="358" y="836"/>
                      </a:lnTo>
                      <a:lnTo>
                        <a:pt x="405" y="856"/>
                      </a:lnTo>
                      <a:lnTo>
                        <a:pt x="454" y="872"/>
                      </a:lnTo>
                      <a:lnTo>
                        <a:pt x="505" y="885"/>
                      </a:lnTo>
                      <a:lnTo>
                        <a:pt x="559" y="894"/>
                      </a:lnTo>
                      <a:lnTo>
                        <a:pt x="598" y="869"/>
                      </a:lnTo>
                      <a:lnTo>
                        <a:pt x="541" y="862"/>
                      </a:lnTo>
                      <a:lnTo>
                        <a:pt x="513" y="857"/>
                      </a:lnTo>
                      <a:lnTo>
                        <a:pt x="487" y="852"/>
                      </a:lnTo>
                      <a:lnTo>
                        <a:pt x="434" y="836"/>
                      </a:lnTo>
                      <a:lnTo>
                        <a:pt x="385" y="818"/>
                      </a:lnTo>
                      <a:lnTo>
                        <a:pt x="337" y="793"/>
                      </a:lnTo>
                      <a:lnTo>
                        <a:pt x="290" y="763"/>
                      </a:lnTo>
                      <a:lnTo>
                        <a:pt x="246" y="729"/>
                      </a:lnTo>
                      <a:lnTo>
                        <a:pt x="225" y="711"/>
                      </a:lnTo>
                      <a:lnTo>
                        <a:pt x="205" y="692"/>
                      </a:lnTo>
                      <a:lnTo>
                        <a:pt x="182" y="668"/>
                      </a:lnTo>
                      <a:lnTo>
                        <a:pt x="162" y="645"/>
                      </a:lnTo>
                      <a:lnTo>
                        <a:pt x="143" y="620"/>
                      </a:lnTo>
                      <a:lnTo>
                        <a:pt x="126" y="597"/>
                      </a:lnTo>
                      <a:lnTo>
                        <a:pt x="109" y="571"/>
                      </a:lnTo>
                      <a:lnTo>
                        <a:pt x="95" y="546"/>
                      </a:lnTo>
                      <a:lnTo>
                        <a:pt x="81" y="520"/>
                      </a:lnTo>
                      <a:lnTo>
                        <a:pt x="71" y="495"/>
                      </a:lnTo>
                      <a:lnTo>
                        <a:pt x="60" y="466"/>
                      </a:lnTo>
                      <a:lnTo>
                        <a:pt x="51" y="439"/>
                      </a:lnTo>
                      <a:lnTo>
                        <a:pt x="43" y="411"/>
                      </a:lnTo>
                      <a:lnTo>
                        <a:pt x="37" y="382"/>
                      </a:lnTo>
                      <a:lnTo>
                        <a:pt x="32" y="352"/>
                      </a:lnTo>
                      <a:lnTo>
                        <a:pt x="29" y="322"/>
                      </a:lnTo>
                      <a:lnTo>
                        <a:pt x="27" y="292"/>
                      </a:lnTo>
                      <a:lnTo>
                        <a:pt x="27" y="262"/>
                      </a:lnTo>
                      <a:lnTo>
                        <a:pt x="27" y="226"/>
                      </a:lnTo>
                      <a:lnTo>
                        <a:pt x="30" y="192"/>
                      </a:lnTo>
                      <a:lnTo>
                        <a:pt x="41" y="125"/>
                      </a:lnTo>
                      <a:lnTo>
                        <a:pt x="49" y="92"/>
                      </a:lnTo>
                      <a:lnTo>
                        <a:pt x="59" y="6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1f2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264280" y="2994840"/>
                  <a:ext cx="157680" cy="245880"/>
                </a:xfrm>
                <a:custGeom>
                  <a:avLst/>
                  <a:gdLst/>
                  <a:ahLst/>
                  <a:rect l="l" t="t" r="r" b="b"/>
                  <a:pathLst>
                    <a:path w="551" h="862">
                      <a:moveTo>
                        <a:pt x="37" y="12"/>
                      </a:moveTo>
                      <a:lnTo>
                        <a:pt x="12" y="38"/>
                      </a:lnTo>
                      <a:lnTo>
                        <a:pt x="6" y="71"/>
                      </a:lnTo>
                      <a:lnTo>
                        <a:pt x="2" y="106"/>
                      </a:lnTo>
                      <a:lnTo>
                        <a:pt x="0" y="177"/>
                      </a:lnTo>
                      <a:lnTo>
                        <a:pt x="0" y="212"/>
                      </a:lnTo>
                      <a:lnTo>
                        <a:pt x="2" y="249"/>
                      </a:lnTo>
                      <a:lnTo>
                        <a:pt x="6" y="284"/>
                      </a:lnTo>
                      <a:lnTo>
                        <a:pt x="12" y="319"/>
                      </a:lnTo>
                      <a:lnTo>
                        <a:pt x="19" y="352"/>
                      </a:lnTo>
                      <a:lnTo>
                        <a:pt x="28" y="386"/>
                      </a:lnTo>
                      <a:lnTo>
                        <a:pt x="39" y="419"/>
                      </a:lnTo>
                      <a:lnTo>
                        <a:pt x="52" y="452"/>
                      </a:lnTo>
                      <a:lnTo>
                        <a:pt x="65" y="482"/>
                      </a:lnTo>
                      <a:lnTo>
                        <a:pt x="81" y="513"/>
                      </a:lnTo>
                      <a:lnTo>
                        <a:pt x="98" y="542"/>
                      </a:lnTo>
                      <a:lnTo>
                        <a:pt x="117" y="573"/>
                      </a:lnTo>
                      <a:lnTo>
                        <a:pt x="136" y="600"/>
                      </a:lnTo>
                      <a:lnTo>
                        <a:pt x="159" y="628"/>
                      </a:lnTo>
                      <a:lnTo>
                        <a:pt x="183" y="656"/>
                      </a:lnTo>
                      <a:lnTo>
                        <a:pt x="210" y="684"/>
                      </a:lnTo>
                      <a:lnTo>
                        <a:pt x="242" y="713"/>
                      </a:lnTo>
                      <a:lnTo>
                        <a:pt x="274" y="742"/>
                      </a:lnTo>
                      <a:lnTo>
                        <a:pt x="308" y="768"/>
                      </a:lnTo>
                      <a:lnTo>
                        <a:pt x="345" y="792"/>
                      </a:lnTo>
                      <a:lnTo>
                        <a:pt x="381" y="812"/>
                      </a:lnTo>
                      <a:lnTo>
                        <a:pt x="418" y="831"/>
                      </a:lnTo>
                      <a:lnTo>
                        <a:pt x="457" y="847"/>
                      </a:lnTo>
                      <a:lnTo>
                        <a:pt x="498" y="862"/>
                      </a:lnTo>
                      <a:lnTo>
                        <a:pt x="524" y="855"/>
                      </a:lnTo>
                      <a:lnTo>
                        <a:pt x="551" y="848"/>
                      </a:lnTo>
                      <a:lnTo>
                        <a:pt x="506" y="835"/>
                      </a:lnTo>
                      <a:lnTo>
                        <a:pt x="463" y="820"/>
                      </a:lnTo>
                      <a:lnTo>
                        <a:pt x="420" y="801"/>
                      </a:lnTo>
                      <a:lnTo>
                        <a:pt x="380" y="780"/>
                      </a:lnTo>
                      <a:lnTo>
                        <a:pt x="339" y="755"/>
                      </a:lnTo>
                      <a:lnTo>
                        <a:pt x="302" y="728"/>
                      </a:lnTo>
                      <a:lnTo>
                        <a:pt x="264" y="698"/>
                      </a:lnTo>
                      <a:lnTo>
                        <a:pt x="229" y="665"/>
                      </a:lnTo>
                      <a:lnTo>
                        <a:pt x="203" y="637"/>
                      </a:lnTo>
                      <a:lnTo>
                        <a:pt x="180" y="611"/>
                      </a:lnTo>
                      <a:lnTo>
                        <a:pt x="159" y="584"/>
                      </a:lnTo>
                      <a:lnTo>
                        <a:pt x="139" y="558"/>
                      </a:lnTo>
                      <a:lnTo>
                        <a:pt x="120" y="529"/>
                      </a:lnTo>
                      <a:lnTo>
                        <a:pt x="104" y="500"/>
                      </a:lnTo>
                      <a:lnTo>
                        <a:pt x="90" y="471"/>
                      </a:lnTo>
                      <a:lnTo>
                        <a:pt x="77" y="441"/>
                      </a:lnTo>
                      <a:lnTo>
                        <a:pt x="65" y="410"/>
                      </a:lnTo>
                      <a:lnTo>
                        <a:pt x="54" y="379"/>
                      </a:lnTo>
                      <a:lnTo>
                        <a:pt x="45" y="346"/>
                      </a:lnTo>
                      <a:lnTo>
                        <a:pt x="40" y="314"/>
                      </a:lnTo>
                      <a:lnTo>
                        <a:pt x="33" y="280"/>
                      </a:lnTo>
                      <a:lnTo>
                        <a:pt x="29" y="246"/>
                      </a:lnTo>
                      <a:lnTo>
                        <a:pt x="27" y="211"/>
                      </a:lnTo>
                      <a:lnTo>
                        <a:pt x="27" y="177"/>
                      </a:lnTo>
                      <a:lnTo>
                        <a:pt x="28" y="131"/>
                      </a:lnTo>
                      <a:lnTo>
                        <a:pt x="32" y="86"/>
                      </a:lnTo>
                      <a:lnTo>
                        <a:pt x="39" y="42"/>
                      </a:lnTo>
                      <a:lnTo>
                        <a:pt x="49" y="0"/>
                      </a:lnTo>
                      <a:lnTo>
                        <a:pt x="37" y="12"/>
                      </a:lnTo>
                      <a:close/>
                    </a:path>
                  </a:pathLst>
                </a:custGeom>
                <a:solidFill>
                  <a:srgbClr val="16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272200" y="2985120"/>
                  <a:ext cx="163440" cy="251640"/>
                </a:xfrm>
                <a:custGeom>
                  <a:avLst/>
                  <a:gdLst/>
                  <a:ahLst/>
                  <a:rect l="l" t="t" r="r" b="b"/>
                  <a:pathLst>
                    <a:path w="573" h="882">
                      <a:moveTo>
                        <a:pt x="60" y="0"/>
                      </a:moveTo>
                      <a:lnTo>
                        <a:pt x="22" y="34"/>
                      </a:lnTo>
                      <a:lnTo>
                        <a:pt x="12" y="76"/>
                      </a:lnTo>
                      <a:lnTo>
                        <a:pt x="5" y="120"/>
                      </a:lnTo>
                      <a:lnTo>
                        <a:pt x="1" y="165"/>
                      </a:lnTo>
                      <a:lnTo>
                        <a:pt x="0" y="211"/>
                      </a:lnTo>
                      <a:lnTo>
                        <a:pt x="0" y="245"/>
                      </a:lnTo>
                      <a:lnTo>
                        <a:pt x="2" y="280"/>
                      </a:lnTo>
                      <a:lnTo>
                        <a:pt x="6" y="314"/>
                      </a:lnTo>
                      <a:lnTo>
                        <a:pt x="13" y="348"/>
                      </a:lnTo>
                      <a:lnTo>
                        <a:pt x="18" y="380"/>
                      </a:lnTo>
                      <a:lnTo>
                        <a:pt x="27" y="413"/>
                      </a:lnTo>
                      <a:lnTo>
                        <a:pt x="38" y="444"/>
                      </a:lnTo>
                      <a:lnTo>
                        <a:pt x="50" y="475"/>
                      </a:lnTo>
                      <a:lnTo>
                        <a:pt x="63" y="505"/>
                      </a:lnTo>
                      <a:lnTo>
                        <a:pt x="77" y="534"/>
                      </a:lnTo>
                      <a:lnTo>
                        <a:pt x="93" y="563"/>
                      </a:lnTo>
                      <a:lnTo>
                        <a:pt x="112" y="592"/>
                      </a:lnTo>
                      <a:lnTo>
                        <a:pt x="132" y="618"/>
                      </a:lnTo>
                      <a:lnTo>
                        <a:pt x="153" y="645"/>
                      </a:lnTo>
                      <a:lnTo>
                        <a:pt x="176" y="671"/>
                      </a:lnTo>
                      <a:lnTo>
                        <a:pt x="202" y="699"/>
                      </a:lnTo>
                      <a:lnTo>
                        <a:pt x="237" y="732"/>
                      </a:lnTo>
                      <a:lnTo>
                        <a:pt x="275" y="762"/>
                      </a:lnTo>
                      <a:lnTo>
                        <a:pt x="312" y="789"/>
                      </a:lnTo>
                      <a:lnTo>
                        <a:pt x="353" y="814"/>
                      </a:lnTo>
                      <a:lnTo>
                        <a:pt x="393" y="835"/>
                      </a:lnTo>
                      <a:lnTo>
                        <a:pt x="436" y="854"/>
                      </a:lnTo>
                      <a:lnTo>
                        <a:pt x="479" y="869"/>
                      </a:lnTo>
                      <a:lnTo>
                        <a:pt x="524" y="882"/>
                      </a:lnTo>
                      <a:lnTo>
                        <a:pt x="548" y="873"/>
                      </a:lnTo>
                      <a:lnTo>
                        <a:pt x="573" y="864"/>
                      </a:lnTo>
                      <a:lnTo>
                        <a:pt x="522" y="853"/>
                      </a:lnTo>
                      <a:lnTo>
                        <a:pt x="474" y="839"/>
                      </a:lnTo>
                      <a:lnTo>
                        <a:pt x="428" y="821"/>
                      </a:lnTo>
                      <a:lnTo>
                        <a:pt x="385" y="801"/>
                      </a:lnTo>
                      <a:lnTo>
                        <a:pt x="340" y="775"/>
                      </a:lnTo>
                      <a:lnTo>
                        <a:pt x="300" y="746"/>
                      </a:lnTo>
                      <a:lnTo>
                        <a:pt x="260" y="715"/>
                      </a:lnTo>
                      <a:lnTo>
                        <a:pt x="222" y="679"/>
                      </a:lnTo>
                      <a:lnTo>
                        <a:pt x="198" y="653"/>
                      </a:lnTo>
                      <a:lnTo>
                        <a:pt x="176" y="628"/>
                      </a:lnTo>
                      <a:lnTo>
                        <a:pt x="154" y="602"/>
                      </a:lnTo>
                      <a:lnTo>
                        <a:pt x="136" y="576"/>
                      </a:lnTo>
                      <a:lnTo>
                        <a:pt x="118" y="548"/>
                      </a:lnTo>
                      <a:lnTo>
                        <a:pt x="102" y="521"/>
                      </a:lnTo>
                      <a:lnTo>
                        <a:pt x="88" y="492"/>
                      </a:lnTo>
                      <a:lnTo>
                        <a:pt x="76" y="465"/>
                      </a:lnTo>
                      <a:lnTo>
                        <a:pt x="64" y="435"/>
                      </a:lnTo>
                      <a:lnTo>
                        <a:pt x="55" y="405"/>
                      </a:lnTo>
                      <a:lnTo>
                        <a:pt x="46" y="373"/>
                      </a:lnTo>
                      <a:lnTo>
                        <a:pt x="40" y="343"/>
                      </a:lnTo>
                      <a:lnTo>
                        <a:pt x="34" y="310"/>
                      </a:lnTo>
                      <a:lnTo>
                        <a:pt x="31" y="278"/>
                      </a:lnTo>
                      <a:lnTo>
                        <a:pt x="29" y="244"/>
                      </a:lnTo>
                      <a:lnTo>
                        <a:pt x="29" y="211"/>
                      </a:lnTo>
                      <a:lnTo>
                        <a:pt x="30" y="154"/>
                      </a:lnTo>
                      <a:lnTo>
                        <a:pt x="37" y="101"/>
                      </a:lnTo>
                      <a:lnTo>
                        <a:pt x="46" y="49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192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240520" y="3032640"/>
                  <a:ext cx="130320" cy="210960"/>
                </a:xfrm>
                <a:custGeom>
                  <a:avLst/>
                  <a:gdLst/>
                  <a:ahLst/>
                  <a:rect l="l" t="t" r="r" b="b"/>
                  <a:pathLst>
                    <a:path w="457" h="738">
                      <a:moveTo>
                        <a:pt x="27" y="44"/>
                      </a:moveTo>
                      <a:lnTo>
                        <a:pt x="29" y="0"/>
                      </a:lnTo>
                      <a:lnTo>
                        <a:pt x="13" y="32"/>
                      </a:lnTo>
                      <a:lnTo>
                        <a:pt x="0" y="65"/>
                      </a:lnTo>
                      <a:lnTo>
                        <a:pt x="0" y="103"/>
                      </a:lnTo>
                      <a:lnTo>
                        <a:pt x="4" y="142"/>
                      </a:lnTo>
                      <a:lnTo>
                        <a:pt x="8" y="179"/>
                      </a:lnTo>
                      <a:lnTo>
                        <a:pt x="16" y="218"/>
                      </a:lnTo>
                      <a:lnTo>
                        <a:pt x="24" y="253"/>
                      </a:lnTo>
                      <a:lnTo>
                        <a:pt x="35" y="289"/>
                      </a:lnTo>
                      <a:lnTo>
                        <a:pt x="47" y="324"/>
                      </a:lnTo>
                      <a:lnTo>
                        <a:pt x="61" y="359"/>
                      </a:lnTo>
                      <a:lnTo>
                        <a:pt x="76" y="392"/>
                      </a:lnTo>
                      <a:lnTo>
                        <a:pt x="94" y="425"/>
                      </a:lnTo>
                      <a:lnTo>
                        <a:pt x="112" y="457"/>
                      </a:lnTo>
                      <a:lnTo>
                        <a:pt x="134" y="490"/>
                      </a:lnTo>
                      <a:lnTo>
                        <a:pt x="156" y="520"/>
                      </a:lnTo>
                      <a:lnTo>
                        <a:pt x="181" y="551"/>
                      </a:lnTo>
                      <a:lnTo>
                        <a:pt x="207" y="580"/>
                      </a:lnTo>
                      <a:lnTo>
                        <a:pt x="235" y="610"/>
                      </a:lnTo>
                      <a:lnTo>
                        <a:pt x="270" y="643"/>
                      </a:lnTo>
                      <a:lnTo>
                        <a:pt x="309" y="676"/>
                      </a:lnTo>
                      <a:lnTo>
                        <a:pt x="347" y="704"/>
                      </a:lnTo>
                      <a:lnTo>
                        <a:pt x="388" y="732"/>
                      </a:lnTo>
                      <a:lnTo>
                        <a:pt x="421" y="736"/>
                      </a:lnTo>
                      <a:lnTo>
                        <a:pt x="457" y="738"/>
                      </a:lnTo>
                      <a:lnTo>
                        <a:pt x="429" y="723"/>
                      </a:lnTo>
                      <a:lnTo>
                        <a:pt x="402" y="707"/>
                      </a:lnTo>
                      <a:lnTo>
                        <a:pt x="351" y="673"/>
                      </a:lnTo>
                      <a:lnTo>
                        <a:pt x="326" y="654"/>
                      </a:lnTo>
                      <a:lnTo>
                        <a:pt x="301" y="634"/>
                      </a:lnTo>
                      <a:lnTo>
                        <a:pt x="254" y="591"/>
                      </a:lnTo>
                      <a:lnTo>
                        <a:pt x="226" y="561"/>
                      </a:lnTo>
                      <a:lnTo>
                        <a:pt x="201" y="532"/>
                      </a:lnTo>
                      <a:lnTo>
                        <a:pt x="176" y="501"/>
                      </a:lnTo>
                      <a:lnTo>
                        <a:pt x="154" y="470"/>
                      </a:lnTo>
                      <a:lnTo>
                        <a:pt x="133" y="438"/>
                      </a:lnTo>
                      <a:lnTo>
                        <a:pt x="115" y="406"/>
                      </a:lnTo>
                      <a:lnTo>
                        <a:pt x="98" y="373"/>
                      </a:lnTo>
                      <a:lnTo>
                        <a:pt x="84" y="340"/>
                      </a:lnTo>
                      <a:lnTo>
                        <a:pt x="69" y="305"/>
                      </a:lnTo>
                      <a:lnTo>
                        <a:pt x="58" y="270"/>
                      </a:lnTo>
                      <a:lnTo>
                        <a:pt x="48" y="234"/>
                      </a:lnTo>
                      <a:lnTo>
                        <a:pt x="41" y="197"/>
                      </a:lnTo>
                      <a:lnTo>
                        <a:pt x="34" y="159"/>
                      </a:lnTo>
                      <a:lnTo>
                        <a:pt x="31" y="121"/>
                      </a:lnTo>
                      <a:lnTo>
                        <a:pt x="27" y="83"/>
                      </a:lnTo>
                      <a:lnTo>
                        <a:pt x="27" y="44"/>
                      </a:lnTo>
                      <a:close/>
                    </a:path>
                  </a:pathLst>
                </a:custGeom>
                <a:solidFill>
                  <a:srgbClr val="0c1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248080" y="3017520"/>
                  <a:ext cx="141120" cy="226080"/>
                </a:xfrm>
                <a:custGeom>
                  <a:avLst/>
                  <a:gdLst/>
                  <a:ahLst/>
                  <a:rect l="l" t="t" r="r" b="b"/>
                  <a:pathLst>
                    <a:path w="494" h="791">
                      <a:moveTo>
                        <a:pt x="2" y="52"/>
                      </a:moveTo>
                      <a:lnTo>
                        <a:pt x="0" y="96"/>
                      </a:lnTo>
                      <a:lnTo>
                        <a:pt x="0" y="135"/>
                      </a:lnTo>
                      <a:lnTo>
                        <a:pt x="4" y="173"/>
                      </a:lnTo>
                      <a:lnTo>
                        <a:pt x="7" y="211"/>
                      </a:lnTo>
                      <a:lnTo>
                        <a:pt x="14" y="249"/>
                      </a:lnTo>
                      <a:lnTo>
                        <a:pt x="21" y="286"/>
                      </a:lnTo>
                      <a:lnTo>
                        <a:pt x="31" y="322"/>
                      </a:lnTo>
                      <a:lnTo>
                        <a:pt x="42" y="357"/>
                      </a:lnTo>
                      <a:lnTo>
                        <a:pt x="57" y="392"/>
                      </a:lnTo>
                      <a:lnTo>
                        <a:pt x="71" y="425"/>
                      </a:lnTo>
                      <a:lnTo>
                        <a:pt x="88" y="458"/>
                      </a:lnTo>
                      <a:lnTo>
                        <a:pt x="106" y="490"/>
                      </a:lnTo>
                      <a:lnTo>
                        <a:pt x="127" y="522"/>
                      </a:lnTo>
                      <a:lnTo>
                        <a:pt x="149" y="553"/>
                      </a:lnTo>
                      <a:lnTo>
                        <a:pt x="174" y="584"/>
                      </a:lnTo>
                      <a:lnTo>
                        <a:pt x="199" y="613"/>
                      </a:lnTo>
                      <a:lnTo>
                        <a:pt x="227" y="643"/>
                      </a:lnTo>
                      <a:lnTo>
                        <a:pt x="274" y="686"/>
                      </a:lnTo>
                      <a:lnTo>
                        <a:pt x="299" y="706"/>
                      </a:lnTo>
                      <a:lnTo>
                        <a:pt x="324" y="725"/>
                      </a:lnTo>
                      <a:lnTo>
                        <a:pt x="375" y="759"/>
                      </a:lnTo>
                      <a:lnTo>
                        <a:pt x="402" y="775"/>
                      </a:lnTo>
                      <a:lnTo>
                        <a:pt x="430" y="790"/>
                      </a:lnTo>
                      <a:lnTo>
                        <a:pt x="449" y="791"/>
                      </a:lnTo>
                      <a:lnTo>
                        <a:pt x="454" y="790"/>
                      </a:lnTo>
                      <a:lnTo>
                        <a:pt x="460" y="790"/>
                      </a:lnTo>
                      <a:lnTo>
                        <a:pt x="471" y="790"/>
                      </a:lnTo>
                      <a:lnTo>
                        <a:pt x="494" y="789"/>
                      </a:lnTo>
                      <a:lnTo>
                        <a:pt x="460" y="774"/>
                      </a:lnTo>
                      <a:lnTo>
                        <a:pt x="427" y="757"/>
                      </a:lnTo>
                      <a:lnTo>
                        <a:pt x="394" y="739"/>
                      </a:lnTo>
                      <a:lnTo>
                        <a:pt x="363" y="720"/>
                      </a:lnTo>
                      <a:lnTo>
                        <a:pt x="333" y="698"/>
                      </a:lnTo>
                      <a:lnTo>
                        <a:pt x="303" y="674"/>
                      </a:lnTo>
                      <a:lnTo>
                        <a:pt x="274" y="649"/>
                      </a:lnTo>
                      <a:lnTo>
                        <a:pt x="246" y="623"/>
                      </a:lnTo>
                      <a:lnTo>
                        <a:pt x="219" y="594"/>
                      </a:lnTo>
                      <a:lnTo>
                        <a:pt x="195" y="566"/>
                      </a:lnTo>
                      <a:lnTo>
                        <a:pt x="172" y="536"/>
                      </a:lnTo>
                      <a:lnTo>
                        <a:pt x="151" y="508"/>
                      </a:lnTo>
                      <a:lnTo>
                        <a:pt x="131" y="476"/>
                      </a:lnTo>
                      <a:lnTo>
                        <a:pt x="114" y="445"/>
                      </a:lnTo>
                      <a:lnTo>
                        <a:pt x="97" y="414"/>
                      </a:lnTo>
                      <a:lnTo>
                        <a:pt x="83" y="382"/>
                      </a:lnTo>
                      <a:lnTo>
                        <a:pt x="70" y="348"/>
                      </a:lnTo>
                      <a:lnTo>
                        <a:pt x="59" y="314"/>
                      </a:lnTo>
                      <a:lnTo>
                        <a:pt x="49" y="279"/>
                      </a:lnTo>
                      <a:lnTo>
                        <a:pt x="42" y="245"/>
                      </a:lnTo>
                      <a:lnTo>
                        <a:pt x="36" y="207"/>
                      </a:lnTo>
                      <a:lnTo>
                        <a:pt x="32" y="171"/>
                      </a:lnTo>
                      <a:lnTo>
                        <a:pt x="29" y="134"/>
                      </a:lnTo>
                      <a:lnTo>
                        <a:pt x="29" y="96"/>
                      </a:lnTo>
                      <a:lnTo>
                        <a:pt x="30" y="47"/>
                      </a:lnTo>
                      <a:lnTo>
                        <a:pt x="34" y="0"/>
                      </a:lnTo>
                      <a:lnTo>
                        <a:pt x="16" y="25"/>
                      </a:lnTo>
                      <a:lnTo>
                        <a:pt x="2" y="52"/>
                      </a:lnTo>
                      <a:close/>
                    </a:path>
                  </a:pathLst>
                </a:custGeom>
                <a:solidFill>
                  <a:srgbClr val="0f1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256000" y="3005640"/>
                  <a:ext cx="150480" cy="237600"/>
                </a:xfrm>
                <a:custGeom>
                  <a:avLst/>
                  <a:gdLst/>
                  <a:ahLst/>
                  <a:rect l="l" t="t" r="r" b="b"/>
                  <a:pathLst>
                    <a:path w="525" h="832">
                      <a:moveTo>
                        <a:pt x="5" y="43"/>
                      </a:moveTo>
                      <a:lnTo>
                        <a:pt x="1" y="90"/>
                      </a:lnTo>
                      <a:lnTo>
                        <a:pt x="0" y="139"/>
                      </a:lnTo>
                      <a:lnTo>
                        <a:pt x="0" y="177"/>
                      </a:lnTo>
                      <a:lnTo>
                        <a:pt x="3" y="214"/>
                      </a:lnTo>
                      <a:lnTo>
                        <a:pt x="7" y="250"/>
                      </a:lnTo>
                      <a:lnTo>
                        <a:pt x="13" y="288"/>
                      </a:lnTo>
                      <a:lnTo>
                        <a:pt x="20" y="322"/>
                      </a:lnTo>
                      <a:lnTo>
                        <a:pt x="30" y="357"/>
                      </a:lnTo>
                      <a:lnTo>
                        <a:pt x="41" y="391"/>
                      </a:lnTo>
                      <a:lnTo>
                        <a:pt x="54" y="425"/>
                      </a:lnTo>
                      <a:lnTo>
                        <a:pt x="68" y="457"/>
                      </a:lnTo>
                      <a:lnTo>
                        <a:pt x="85" y="488"/>
                      </a:lnTo>
                      <a:lnTo>
                        <a:pt x="102" y="519"/>
                      </a:lnTo>
                      <a:lnTo>
                        <a:pt x="122" y="551"/>
                      </a:lnTo>
                      <a:lnTo>
                        <a:pt x="143" y="579"/>
                      </a:lnTo>
                      <a:lnTo>
                        <a:pt x="166" y="609"/>
                      </a:lnTo>
                      <a:lnTo>
                        <a:pt x="190" y="637"/>
                      </a:lnTo>
                      <a:lnTo>
                        <a:pt x="217" y="666"/>
                      </a:lnTo>
                      <a:lnTo>
                        <a:pt x="245" y="692"/>
                      </a:lnTo>
                      <a:lnTo>
                        <a:pt x="274" y="717"/>
                      </a:lnTo>
                      <a:lnTo>
                        <a:pt x="304" y="741"/>
                      </a:lnTo>
                      <a:lnTo>
                        <a:pt x="334" y="763"/>
                      </a:lnTo>
                      <a:lnTo>
                        <a:pt x="365" y="782"/>
                      </a:lnTo>
                      <a:lnTo>
                        <a:pt x="398" y="800"/>
                      </a:lnTo>
                      <a:lnTo>
                        <a:pt x="431" y="817"/>
                      </a:lnTo>
                      <a:lnTo>
                        <a:pt x="465" y="832"/>
                      </a:lnTo>
                      <a:lnTo>
                        <a:pt x="494" y="829"/>
                      </a:lnTo>
                      <a:lnTo>
                        <a:pt x="525" y="824"/>
                      </a:lnTo>
                      <a:lnTo>
                        <a:pt x="484" y="809"/>
                      </a:lnTo>
                      <a:lnTo>
                        <a:pt x="445" y="793"/>
                      </a:lnTo>
                      <a:lnTo>
                        <a:pt x="408" y="774"/>
                      </a:lnTo>
                      <a:lnTo>
                        <a:pt x="372" y="754"/>
                      </a:lnTo>
                      <a:lnTo>
                        <a:pt x="335" y="730"/>
                      </a:lnTo>
                      <a:lnTo>
                        <a:pt x="301" y="704"/>
                      </a:lnTo>
                      <a:lnTo>
                        <a:pt x="269" y="675"/>
                      </a:lnTo>
                      <a:lnTo>
                        <a:pt x="237" y="646"/>
                      </a:lnTo>
                      <a:lnTo>
                        <a:pt x="210" y="618"/>
                      </a:lnTo>
                      <a:lnTo>
                        <a:pt x="186" y="590"/>
                      </a:lnTo>
                      <a:lnTo>
                        <a:pt x="163" y="562"/>
                      </a:lnTo>
                      <a:lnTo>
                        <a:pt x="144" y="535"/>
                      </a:lnTo>
                      <a:lnTo>
                        <a:pt x="125" y="504"/>
                      </a:lnTo>
                      <a:lnTo>
                        <a:pt x="108" y="475"/>
                      </a:lnTo>
                      <a:lnTo>
                        <a:pt x="92" y="444"/>
                      </a:lnTo>
                      <a:lnTo>
                        <a:pt x="79" y="414"/>
                      </a:lnTo>
                      <a:lnTo>
                        <a:pt x="66" y="381"/>
                      </a:lnTo>
                      <a:lnTo>
                        <a:pt x="55" y="348"/>
                      </a:lnTo>
                      <a:lnTo>
                        <a:pt x="46" y="314"/>
                      </a:lnTo>
                      <a:lnTo>
                        <a:pt x="39" y="281"/>
                      </a:lnTo>
                      <a:lnTo>
                        <a:pt x="33" y="246"/>
                      </a:lnTo>
                      <a:lnTo>
                        <a:pt x="29" y="211"/>
                      </a:lnTo>
                      <a:lnTo>
                        <a:pt x="27" y="174"/>
                      </a:lnTo>
                      <a:lnTo>
                        <a:pt x="27" y="139"/>
                      </a:lnTo>
                      <a:lnTo>
                        <a:pt x="29" y="68"/>
                      </a:lnTo>
                      <a:lnTo>
                        <a:pt x="33" y="33"/>
                      </a:lnTo>
                      <a:lnTo>
                        <a:pt x="39" y="0"/>
                      </a:lnTo>
                      <a:lnTo>
                        <a:pt x="5" y="43"/>
                      </a:lnTo>
                      <a:close/>
                    </a:path>
                  </a:pathLst>
                </a:custGeom>
                <a:solidFill>
                  <a:srgbClr val="121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280120" y="2977560"/>
                  <a:ext cx="167400" cy="254160"/>
                </a:xfrm>
                <a:custGeom>
                  <a:avLst/>
                  <a:gdLst/>
                  <a:ahLst/>
                  <a:rect l="l" t="t" r="r" b="b"/>
                  <a:pathLst>
                    <a:path w="586" h="891">
                      <a:moveTo>
                        <a:pt x="31" y="27"/>
                      </a:moveTo>
                      <a:lnTo>
                        <a:pt x="17" y="76"/>
                      </a:lnTo>
                      <a:lnTo>
                        <a:pt x="8" y="128"/>
                      </a:lnTo>
                      <a:lnTo>
                        <a:pt x="1" y="181"/>
                      </a:lnTo>
                      <a:lnTo>
                        <a:pt x="0" y="238"/>
                      </a:lnTo>
                      <a:lnTo>
                        <a:pt x="0" y="271"/>
                      </a:lnTo>
                      <a:lnTo>
                        <a:pt x="2" y="305"/>
                      </a:lnTo>
                      <a:lnTo>
                        <a:pt x="5" y="337"/>
                      </a:lnTo>
                      <a:lnTo>
                        <a:pt x="11" y="370"/>
                      </a:lnTo>
                      <a:lnTo>
                        <a:pt x="17" y="400"/>
                      </a:lnTo>
                      <a:lnTo>
                        <a:pt x="26" y="432"/>
                      </a:lnTo>
                      <a:lnTo>
                        <a:pt x="35" y="462"/>
                      </a:lnTo>
                      <a:lnTo>
                        <a:pt x="47" y="492"/>
                      </a:lnTo>
                      <a:lnTo>
                        <a:pt x="59" y="519"/>
                      </a:lnTo>
                      <a:lnTo>
                        <a:pt x="73" y="548"/>
                      </a:lnTo>
                      <a:lnTo>
                        <a:pt x="89" y="575"/>
                      </a:lnTo>
                      <a:lnTo>
                        <a:pt x="107" y="603"/>
                      </a:lnTo>
                      <a:lnTo>
                        <a:pt x="125" y="629"/>
                      </a:lnTo>
                      <a:lnTo>
                        <a:pt x="147" y="655"/>
                      </a:lnTo>
                      <a:lnTo>
                        <a:pt x="169" y="680"/>
                      </a:lnTo>
                      <a:lnTo>
                        <a:pt x="193" y="706"/>
                      </a:lnTo>
                      <a:lnTo>
                        <a:pt x="231" y="742"/>
                      </a:lnTo>
                      <a:lnTo>
                        <a:pt x="271" y="773"/>
                      </a:lnTo>
                      <a:lnTo>
                        <a:pt x="311" y="802"/>
                      </a:lnTo>
                      <a:lnTo>
                        <a:pt x="356" y="828"/>
                      </a:lnTo>
                      <a:lnTo>
                        <a:pt x="399" y="848"/>
                      </a:lnTo>
                      <a:lnTo>
                        <a:pt x="445" y="866"/>
                      </a:lnTo>
                      <a:lnTo>
                        <a:pt x="493" y="880"/>
                      </a:lnTo>
                      <a:lnTo>
                        <a:pt x="544" y="891"/>
                      </a:lnTo>
                      <a:lnTo>
                        <a:pt x="564" y="880"/>
                      </a:lnTo>
                      <a:lnTo>
                        <a:pt x="569" y="876"/>
                      </a:lnTo>
                      <a:lnTo>
                        <a:pt x="574" y="874"/>
                      </a:lnTo>
                      <a:lnTo>
                        <a:pt x="586" y="870"/>
                      </a:lnTo>
                      <a:lnTo>
                        <a:pt x="532" y="861"/>
                      </a:lnTo>
                      <a:lnTo>
                        <a:pt x="481" y="848"/>
                      </a:lnTo>
                      <a:lnTo>
                        <a:pt x="432" y="832"/>
                      </a:lnTo>
                      <a:lnTo>
                        <a:pt x="385" y="812"/>
                      </a:lnTo>
                      <a:lnTo>
                        <a:pt x="339" y="787"/>
                      </a:lnTo>
                      <a:lnTo>
                        <a:pt x="295" y="757"/>
                      </a:lnTo>
                      <a:lnTo>
                        <a:pt x="252" y="723"/>
                      </a:lnTo>
                      <a:lnTo>
                        <a:pt x="213" y="687"/>
                      </a:lnTo>
                      <a:lnTo>
                        <a:pt x="189" y="662"/>
                      </a:lnTo>
                      <a:lnTo>
                        <a:pt x="169" y="638"/>
                      </a:lnTo>
                      <a:lnTo>
                        <a:pt x="148" y="613"/>
                      </a:lnTo>
                      <a:lnTo>
                        <a:pt x="131" y="589"/>
                      </a:lnTo>
                      <a:lnTo>
                        <a:pt x="113" y="561"/>
                      </a:lnTo>
                      <a:lnTo>
                        <a:pt x="98" y="535"/>
                      </a:lnTo>
                      <a:lnTo>
                        <a:pt x="85" y="508"/>
                      </a:lnTo>
                      <a:lnTo>
                        <a:pt x="73" y="482"/>
                      </a:lnTo>
                      <a:lnTo>
                        <a:pt x="61" y="452"/>
                      </a:lnTo>
                      <a:lnTo>
                        <a:pt x="52" y="424"/>
                      </a:lnTo>
                      <a:lnTo>
                        <a:pt x="44" y="393"/>
                      </a:lnTo>
                      <a:lnTo>
                        <a:pt x="38" y="364"/>
                      </a:lnTo>
                      <a:lnTo>
                        <a:pt x="32" y="332"/>
                      </a:lnTo>
                      <a:lnTo>
                        <a:pt x="29" y="302"/>
                      </a:lnTo>
                      <a:lnTo>
                        <a:pt x="27" y="270"/>
                      </a:lnTo>
                      <a:lnTo>
                        <a:pt x="27" y="238"/>
                      </a:lnTo>
                      <a:lnTo>
                        <a:pt x="29" y="174"/>
                      </a:lnTo>
                      <a:lnTo>
                        <a:pt x="37" y="113"/>
                      </a:lnTo>
                      <a:lnTo>
                        <a:pt x="51" y="56"/>
                      </a:lnTo>
                      <a:lnTo>
                        <a:pt x="71" y="0"/>
                      </a:lnTo>
                      <a:lnTo>
                        <a:pt x="31" y="27"/>
                      </a:lnTo>
                      <a:close/>
                    </a:path>
                  </a:pathLst>
                </a:custGeom>
                <a:solidFill>
                  <a:srgbClr val="1c2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311440" y="2958840"/>
                  <a:ext cx="173520" cy="244440"/>
                </a:xfrm>
                <a:custGeom>
                  <a:avLst/>
                  <a:gdLst/>
                  <a:ahLst/>
                  <a:rect l="l" t="t" r="r" b="b"/>
                  <a:pathLst>
                    <a:path w="608" h="856">
                      <a:moveTo>
                        <a:pt x="83" y="11"/>
                      </a:moveTo>
                      <a:lnTo>
                        <a:pt x="63" y="42"/>
                      </a:lnTo>
                      <a:lnTo>
                        <a:pt x="46" y="76"/>
                      </a:lnTo>
                      <a:lnTo>
                        <a:pt x="31" y="111"/>
                      </a:lnTo>
                      <a:lnTo>
                        <a:pt x="20" y="148"/>
                      </a:lnTo>
                      <a:lnTo>
                        <a:pt x="10" y="184"/>
                      </a:lnTo>
                      <a:lnTo>
                        <a:pt x="4" y="223"/>
                      </a:lnTo>
                      <a:lnTo>
                        <a:pt x="1" y="262"/>
                      </a:lnTo>
                      <a:lnTo>
                        <a:pt x="0" y="304"/>
                      </a:lnTo>
                      <a:lnTo>
                        <a:pt x="0" y="331"/>
                      </a:lnTo>
                      <a:lnTo>
                        <a:pt x="2" y="360"/>
                      </a:lnTo>
                      <a:lnTo>
                        <a:pt x="9" y="414"/>
                      </a:lnTo>
                      <a:lnTo>
                        <a:pt x="13" y="439"/>
                      </a:lnTo>
                      <a:lnTo>
                        <a:pt x="21" y="465"/>
                      </a:lnTo>
                      <a:lnTo>
                        <a:pt x="29" y="490"/>
                      </a:lnTo>
                      <a:lnTo>
                        <a:pt x="39" y="516"/>
                      </a:lnTo>
                      <a:lnTo>
                        <a:pt x="49" y="539"/>
                      </a:lnTo>
                      <a:lnTo>
                        <a:pt x="62" y="563"/>
                      </a:lnTo>
                      <a:lnTo>
                        <a:pt x="74" y="585"/>
                      </a:lnTo>
                      <a:lnTo>
                        <a:pt x="89" y="609"/>
                      </a:lnTo>
                      <a:lnTo>
                        <a:pt x="122" y="652"/>
                      </a:lnTo>
                      <a:lnTo>
                        <a:pt x="140" y="673"/>
                      </a:lnTo>
                      <a:lnTo>
                        <a:pt x="161" y="694"/>
                      </a:lnTo>
                      <a:lnTo>
                        <a:pt x="200" y="730"/>
                      </a:lnTo>
                      <a:lnTo>
                        <a:pt x="244" y="764"/>
                      </a:lnTo>
                      <a:lnTo>
                        <a:pt x="290" y="792"/>
                      </a:lnTo>
                      <a:lnTo>
                        <a:pt x="314" y="804"/>
                      </a:lnTo>
                      <a:lnTo>
                        <a:pt x="339" y="816"/>
                      </a:lnTo>
                      <a:lnTo>
                        <a:pt x="362" y="825"/>
                      </a:lnTo>
                      <a:lnTo>
                        <a:pt x="387" y="833"/>
                      </a:lnTo>
                      <a:lnTo>
                        <a:pt x="439" y="846"/>
                      </a:lnTo>
                      <a:lnTo>
                        <a:pt x="493" y="853"/>
                      </a:lnTo>
                      <a:lnTo>
                        <a:pt x="521" y="855"/>
                      </a:lnTo>
                      <a:lnTo>
                        <a:pt x="551" y="856"/>
                      </a:lnTo>
                      <a:lnTo>
                        <a:pt x="580" y="855"/>
                      </a:lnTo>
                      <a:lnTo>
                        <a:pt x="583" y="852"/>
                      </a:lnTo>
                      <a:lnTo>
                        <a:pt x="608" y="826"/>
                      </a:lnTo>
                      <a:lnTo>
                        <a:pt x="579" y="827"/>
                      </a:lnTo>
                      <a:lnTo>
                        <a:pt x="564" y="827"/>
                      </a:lnTo>
                      <a:lnTo>
                        <a:pt x="551" y="828"/>
                      </a:lnTo>
                      <a:lnTo>
                        <a:pt x="523" y="827"/>
                      </a:lnTo>
                      <a:lnTo>
                        <a:pt x="496" y="825"/>
                      </a:lnTo>
                      <a:lnTo>
                        <a:pt x="445" y="818"/>
                      </a:lnTo>
                      <a:lnTo>
                        <a:pt x="420" y="812"/>
                      </a:lnTo>
                      <a:lnTo>
                        <a:pt x="395" y="805"/>
                      </a:lnTo>
                      <a:lnTo>
                        <a:pt x="349" y="789"/>
                      </a:lnTo>
                      <a:lnTo>
                        <a:pt x="302" y="767"/>
                      </a:lnTo>
                      <a:lnTo>
                        <a:pt x="281" y="754"/>
                      </a:lnTo>
                      <a:lnTo>
                        <a:pt x="260" y="741"/>
                      </a:lnTo>
                      <a:lnTo>
                        <a:pt x="218" y="709"/>
                      </a:lnTo>
                      <a:lnTo>
                        <a:pt x="181" y="675"/>
                      </a:lnTo>
                      <a:lnTo>
                        <a:pt x="162" y="655"/>
                      </a:lnTo>
                      <a:lnTo>
                        <a:pt x="145" y="635"/>
                      </a:lnTo>
                      <a:lnTo>
                        <a:pt x="128" y="614"/>
                      </a:lnTo>
                      <a:lnTo>
                        <a:pt x="113" y="593"/>
                      </a:lnTo>
                      <a:lnTo>
                        <a:pt x="98" y="571"/>
                      </a:lnTo>
                      <a:lnTo>
                        <a:pt x="86" y="549"/>
                      </a:lnTo>
                      <a:lnTo>
                        <a:pt x="74" y="526"/>
                      </a:lnTo>
                      <a:lnTo>
                        <a:pt x="65" y="505"/>
                      </a:lnTo>
                      <a:lnTo>
                        <a:pt x="47" y="457"/>
                      </a:lnTo>
                      <a:lnTo>
                        <a:pt x="40" y="432"/>
                      </a:lnTo>
                      <a:lnTo>
                        <a:pt x="36" y="408"/>
                      </a:lnTo>
                      <a:lnTo>
                        <a:pt x="31" y="382"/>
                      </a:lnTo>
                      <a:lnTo>
                        <a:pt x="29" y="357"/>
                      </a:lnTo>
                      <a:lnTo>
                        <a:pt x="27" y="330"/>
                      </a:lnTo>
                      <a:lnTo>
                        <a:pt x="27" y="304"/>
                      </a:lnTo>
                      <a:lnTo>
                        <a:pt x="28" y="261"/>
                      </a:lnTo>
                      <a:lnTo>
                        <a:pt x="32" y="220"/>
                      </a:lnTo>
                      <a:lnTo>
                        <a:pt x="39" y="179"/>
                      </a:lnTo>
                      <a:lnTo>
                        <a:pt x="51" y="142"/>
                      </a:lnTo>
                      <a:lnTo>
                        <a:pt x="63" y="103"/>
                      </a:lnTo>
                      <a:lnTo>
                        <a:pt x="80" y="68"/>
                      </a:lnTo>
                      <a:lnTo>
                        <a:pt x="99" y="33"/>
                      </a:lnTo>
                      <a:lnTo>
                        <a:pt x="123" y="0"/>
                      </a:lnTo>
                      <a:lnTo>
                        <a:pt x="83" y="11"/>
                      </a:lnTo>
                      <a:close/>
                    </a:path>
                  </a:pathLst>
                </a:custGeom>
                <a:solidFill>
                  <a:srgbClr val="293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351040" y="2956320"/>
                  <a:ext cx="162360" cy="206640"/>
                </a:xfrm>
                <a:custGeom>
                  <a:avLst/>
                  <a:gdLst/>
                  <a:ahLst/>
                  <a:rect l="l" t="t" r="r" b="b"/>
                  <a:pathLst>
                    <a:path w="568" h="724">
                      <a:moveTo>
                        <a:pt x="140" y="37"/>
                      </a:moveTo>
                      <a:lnTo>
                        <a:pt x="178" y="4"/>
                      </a:lnTo>
                      <a:lnTo>
                        <a:pt x="159" y="1"/>
                      </a:lnTo>
                      <a:lnTo>
                        <a:pt x="140" y="0"/>
                      </a:lnTo>
                      <a:lnTo>
                        <a:pt x="120" y="18"/>
                      </a:lnTo>
                      <a:lnTo>
                        <a:pt x="91" y="47"/>
                      </a:lnTo>
                      <a:lnTo>
                        <a:pt x="67" y="80"/>
                      </a:lnTo>
                      <a:lnTo>
                        <a:pt x="45" y="114"/>
                      </a:lnTo>
                      <a:lnTo>
                        <a:pt x="29" y="150"/>
                      </a:lnTo>
                      <a:lnTo>
                        <a:pt x="16" y="187"/>
                      </a:lnTo>
                      <a:lnTo>
                        <a:pt x="7" y="226"/>
                      </a:lnTo>
                      <a:lnTo>
                        <a:pt x="1" y="267"/>
                      </a:lnTo>
                      <a:lnTo>
                        <a:pt x="0" y="310"/>
                      </a:lnTo>
                      <a:lnTo>
                        <a:pt x="1" y="351"/>
                      </a:lnTo>
                      <a:lnTo>
                        <a:pt x="7" y="392"/>
                      </a:lnTo>
                      <a:lnTo>
                        <a:pt x="16" y="430"/>
                      </a:lnTo>
                      <a:lnTo>
                        <a:pt x="21" y="448"/>
                      </a:lnTo>
                      <a:lnTo>
                        <a:pt x="29" y="468"/>
                      </a:lnTo>
                      <a:lnTo>
                        <a:pt x="36" y="485"/>
                      </a:lnTo>
                      <a:lnTo>
                        <a:pt x="45" y="503"/>
                      </a:lnTo>
                      <a:lnTo>
                        <a:pt x="67" y="538"/>
                      </a:lnTo>
                      <a:lnTo>
                        <a:pt x="91" y="571"/>
                      </a:lnTo>
                      <a:lnTo>
                        <a:pt x="120" y="603"/>
                      </a:lnTo>
                      <a:lnTo>
                        <a:pt x="150" y="630"/>
                      </a:lnTo>
                      <a:lnTo>
                        <a:pt x="182" y="655"/>
                      </a:lnTo>
                      <a:lnTo>
                        <a:pt x="216" y="675"/>
                      </a:lnTo>
                      <a:lnTo>
                        <a:pt x="253" y="693"/>
                      </a:lnTo>
                      <a:lnTo>
                        <a:pt x="289" y="706"/>
                      </a:lnTo>
                      <a:lnTo>
                        <a:pt x="329" y="716"/>
                      </a:lnTo>
                      <a:lnTo>
                        <a:pt x="370" y="722"/>
                      </a:lnTo>
                      <a:lnTo>
                        <a:pt x="413" y="724"/>
                      </a:lnTo>
                      <a:lnTo>
                        <a:pt x="449" y="722"/>
                      </a:lnTo>
                      <a:lnTo>
                        <a:pt x="485" y="718"/>
                      </a:lnTo>
                      <a:lnTo>
                        <a:pt x="502" y="714"/>
                      </a:lnTo>
                      <a:lnTo>
                        <a:pt x="520" y="710"/>
                      </a:lnTo>
                      <a:lnTo>
                        <a:pt x="554" y="701"/>
                      </a:lnTo>
                      <a:lnTo>
                        <a:pt x="568" y="666"/>
                      </a:lnTo>
                      <a:lnTo>
                        <a:pt x="558" y="668"/>
                      </a:lnTo>
                      <a:lnTo>
                        <a:pt x="549" y="672"/>
                      </a:lnTo>
                      <a:lnTo>
                        <a:pt x="531" y="679"/>
                      </a:lnTo>
                      <a:lnTo>
                        <a:pt x="511" y="683"/>
                      </a:lnTo>
                      <a:lnTo>
                        <a:pt x="493" y="689"/>
                      </a:lnTo>
                      <a:lnTo>
                        <a:pt x="473" y="691"/>
                      </a:lnTo>
                      <a:lnTo>
                        <a:pt x="467" y="691"/>
                      </a:lnTo>
                      <a:lnTo>
                        <a:pt x="462" y="692"/>
                      </a:lnTo>
                      <a:lnTo>
                        <a:pt x="453" y="695"/>
                      </a:lnTo>
                      <a:lnTo>
                        <a:pt x="413" y="697"/>
                      </a:lnTo>
                      <a:lnTo>
                        <a:pt x="372" y="695"/>
                      </a:lnTo>
                      <a:lnTo>
                        <a:pt x="334" y="689"/>
                      </a:lnTo>
                      <a:lnTo>
                        <a:pt x="298" y="680"/>
                      </a:lnTo>
                      <a:lnTo>
                        <a:pt x="264" y="668"/>
                      </a:lnTo>
                      <a:lnTo>
                        <a:pt x="230" y="651"/>
                      </a:lnTo>
                      <a:lnTo>
                        <a:pt x="198" y="632"/>
                      </a:lnTo>
                      <a:lnTo>
                        <a:pt x="168" y="609"/>
                      </a:lnTo>
                      <a:lnTo>
                        <a:pt x="140" y="583"/>
                      </a:lnTo>
                      <a:lnTo>
                        <a:pt x="113" y="554"/>
                      </a:lnTo>
                      <a:lnTo>
                        <a:pt x="101" y="538"/>
                      </a:lnTo>
                      <a:lnTo>
                        <a:pt x="91" y="523"/>
                      </a:lnTo>
                      <a:lnTo>
                        <a:pt x="79" y="506"/>
                      </a:lnTo>
                      <a:lnTo>
                        <a:pt x="70" y="490"/>
                      </a:lnTo>
                      <a:lnTo>
                        <a:pt x="55" y="458"/>
                      </a:lnTo>
                      <a:lnTo>
                        <a:pt x="47" y="439"/>
                      </a:lnTo>
                      <a:lnTo>
                        <a:pt x="42" y="422"/>
                      </a:lnTo>
                      <a:lnTo>
                        <a:pt x="34" y="386"/>
                      </a:lnTo>
                      <a:lnTo>
                        <a:pt x="28" y="349"/>
                      </a:lnTo>
                      <a:lnTo>
                        <a:pt x="27" y="310"/>
                      </a:lnTo>
                      <a:lnTo>
                        <a:pt x="28" y="269"/>
                      </a:lnTo>
                      <a:lnTo>
                        <a:pt x="34" y="232"/>
                      </a:lnTo>
                      <a:lnTo>
                        <a:pt x="42" y="196"/>
                      </a:lnTo>
                      <a:lnTo>
                        <a:pt x="55" y="162"/>
                      </a:lnTo>
                      <a:lnTo>
                        <a:pt x="70" y="128"/>
                      </a:lnTo>
                      <a:lnTo>
                        <a:pt x="91" y="96"/>
                      </a:lnTo>
                      <a:lnTo>
                        <a:pt x="113" y="65"/>
                      </a:lnTo>
                      <a:lnTo>
                        <a:pt x="140" y="37"/>
                      </a:lnTo>
                      <a:close/>
                    </a:path>
                  </a:pathLst>
                </a:custGeom>
                <a:solidFill>
                  <a:srgbClr val="395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358960" y="2958120"/>
                  <a:ext cx="156960" cy="197640"/>
                </a:xfrm>
                <a:custGeom>
                  <a:avLst/>
                  <a:gdLst/>
                  <a:ahLst/>
                  <a:rect l="l" t="t" r="r" b="b"/>
                  <a:pathLst>
                    <a:path w="551" h="693">
                      <a:moveTo>
                        <a:pt x="151" y="0"/>
                      </a:moveTo>
                      <a:lnTo>
                        <a:pt x="113" y="33"/>
                      </a:lnTo>
                      <a:lnTo>
                        <a:pt x="86" y="61"/>
                      </a:lnTo>
                      <a:lnTo>
                        <a:pt x="64" y="92"/>
                      </a:lnTo>
                      <a:lnTo>
                        <a:pt x="43" y="124"/>
                      </a:lnTo>
                      <a:lnTo>
                        <a:pt x="28" y="158"/>
                      </a:lnTo>
                      <a:lnTo>
                        <a:pt x="15" y="192"/>
                      </a:lnTo>
                      <a:lnTo>
                        <a:pt x="7" y="228"/>
                      </a:lnTo>
                      <a:lnTo>
                        <a:pt x="1" y="265"/>
                      </a:lnTo>
                      <a:lnTo>
                        <a:pt x="0" y="306"/>
                      </a:lnTo>
                      <a:lnTo>
                        <a:pt x="1" y="345"/>
                      </a:lnTo>
                      <a:lnTo>
                        <a:pt x="7" y="382"/>
                      </a:lnTo>
                      <a:lnTo>
                        <a:pt x="15" y="418"/>
                      </a:lnTo>
                      <a:lnTo>
                        <a:pt x="20" y="435"/>
                      </a:lnTo>
                      <a:lnTo>
                        <a:pt x="28" y="454"/>
                      </a:lnTo>
                      <a:lnTo>
                        <a:pt x="43" y="486"/>
                      </a:lnTo>
                      <a:lnTo>
                        <a:pt x="52" y="502"/>
                      </a:lnTo>
                      <a:lnTo>
                        <a:pt x="64" y="519"/>
                      </a:lnTo>
                      <a:lnTo>
                        <a:pt x="74" y="534"/>
                      </a:lnTo>
                      <a:lnTo>
                        <a:pt x="86" y="550"/>
                      </a:lnTo>
                      <a:lnTo>
                        <a:pt x="113" y="579"/>
                      </a:lnTo>
                      <a:lnTo>
                        <a:pt x="141" y="605"/>
                      </a:lnTo>
                      <a:lnTo>
                        <a:pt x="171" y="628"/>
                      </a:lnTo>
                      <a:lnTo>
                        <a:pt x="203" y="647"/>
                      </a:lnTo>
                      <a:lnTo>
                        <a:pt x="237" y="664"/>
                      </a:lnTo>
                      <a:lnTo>
                        <a:pt x="271" y="676"/>
                      </a:lnTo>
                      <a:lnTo>
                        <a:pt x="307" y="685"/>
                      </a:lnTo>
                      <a:lnTo>
                        <a:pt x="345" y="691"/>
                      </a:lnTo>
                      <a:lnTo>
                        <a:pt x="386" y="693"/>
                      </a:lnTo>
                      <a:lnTo>
                        <a:pt x="426" y="691"/>
                      </a:lnTo>
                      <a:lnTo>
                        <a:pt x="435" y="688"/>
                      </a:lnTo>
                      <a:lnTo>
                        <a:pt x="440" y="687"/>
                      </a:lnTo>
                      <a:lnTo>
                        <a:pt x="446" y="687"/>
                      </a:lnTo>
                      <a:lnTo>
                        <a:pt x="466" y="685"/>
                      </a:lnTo>
                      <a:lnTo>
                        <a:pt x="484" y="679"/>
                      </a:lnTo>
                      <a:lnTo>
                        <a:pt x="504" y="675"/>
                      </a:lnTo>
                      <a:lnTo>
                        <a:pt x="522" y="668"/>
                      </a:lnTo>
                      <a:lnTo>
                        <a:pt x="531" y="664"/>
                      </a:lnTo>
                      <a:lnTo>
                        <a:pt x="541" y="662"/>
                      </a:lnTo>
                      <a:lnTo>
                        <a:pt x="551" y="626"/>
                      </a:lnTo>
                      <a:lnTo>
                        <a:pt x="531" y="634"/>
                      </a:lnTo>
                      <a:lnTo>
                        <a:pt x="527" y="634"/>
                      </a:lnTo>
                      <a:lnTo>
                        <a:pt x="525" y="635"/>
                      </a:lnTo>
                      <a:lnTo>
                        <a:pt x="521" y="637"/>
                      </a:lnTo>
                      <a:lnTo>
                        <a:pt x="511" y="642"/>
                      </a:lnTo>
                      <a:lnTo>
                        <a:pt x="491" y="649"/>
                      </a:lnTo>
                      <a:lnTo>
                        <a:pt x="481" y="651"/>
                      </a:lnTo>
                      <a:lnTo>
                        <a:pt x="472" y="654"/>
                      </a:lnTo>
                      <a:lnTo>
                        <a:pt x="460" y="655"/>
                      </a:lnTo>
                      <a:lnTo>
                        <a:pt x="450" y="658"/>
                      </a:lnTo>
                      <a:lnTo>
                        <a:pt x="430" y="661"/>
                      </a:lnTo>
                      <a:lnTo>
                        <a:pt x="407" y="663"/>
                      </a:lnTo>
                      <a:lnTo>
                        <a:pt x="396" y="663"/>
                      </a:lnTo>
                      <a:lnTo>
                        <a:pt x="390" y="663"/>
                      </a:lnTo>
                      <a:lnTo>
                        <a:pt x="386" y="664"/>
                      </a:lnTo>
                      <a:lnTo>
                        <a:pt x="348" y="662"/>
                      </a:lnTo>
                      <a:lnTo>
                        <a:pt x="313" y="658"/>
                      </a:lnTo>
                      <a:lnTo>
                        <a:pt x="279" y="649"/>
                      </a:lnTo>
                      <a:lnTo>
                        <a:pt x="247" y="638"/>
                      </a:lnTo>
                      <a:lnTo>
                        <a:pt x="216" y="622"/>
                      </a:lnTo>
                      <a:lnTo>
                        <a:pt x="187" y="605"/>
                      </a:lnTo>
                      <a:lnTo>
                        <a:pt x="159" y="584"/>
                      </a:lnTo>
                      <a:lnTo>
                        <a:pt x="133" y="560"/>
                      </a:lnTo>
                      <a:lnTo>
                        <a:pt x="107" y="532"/>
                      </a:lnTo>
                      <a:lnTo>
                        <a:pt x="85" y="503"/>
                      </a:lnTo>
                      <a:lnTo>
                        <a:pt x="67" y="474"/>
                      </a:lnTo>
                      <a:lnTo>
                        <a:pt x="59" y="458"/>
                      </a:lnTo>
                      <a:lnTo>
                        <a:pt x="53" y="443"/>
                      </a:lnTo>
                      <a:lnTo>
                        <a:pt x="41" y="410"/>
                      </a:lnTo>
                      <a:lnTo>
                        <a:pt x="33" y="376"/>
                      </a:lnTo>
                      <a:lnTo>
                        <a:pt x="30" y="358"/>
                      </a:lnTo>
                      <a:lnTo>
                        <a:pt x="28" y="341"/>
                      </a:lnTo>
                      <a:lnTo>
                        <a:pt x="27" y="306"/>
                      </a:lnTo>
                      <a:lnTo>
                        <a:pt x="28" y="269"/>
                      </a:lnTo>
                      <a:lnTo>
                        <a:pt x="33" y="234"/>
                      </a:lnTo>
                      <a:lnTo>
                        <a:pt x="41" y="200"/>
                      </a:lnTo>
                      <a:lnTo>
                        <a:pt x="53" y="168"/>
                      </a:lnTo>
                      <a:lnTo>
                        <a:pt x="67" y="136"/>
                      </a:lnTo>
                      <a:lnTo>
                        <a:pt x="85" y="108"/>
                      </a:lnTo>
                      <a:lnTo>
                        <a:pt x="107" y="79"/>
                      </a:lnTo>
                      <a:lnTo>
                        <a:pt x="133" y="53"/>
                      </a:lnTo>
                      <a:lnTo>
                        <a:pt x="159" y="28"/>
                      </a:lnTo>
                      <a:lnTo>
                        <a:pt x="187" y="7"/>
                      </a:lnTo>
                      <a:lnTo>
                        <a:pt x="151" y="0"/>
                      </a:lnTo>
                      <a:close/>
                    </a:path>
                  </a:pathLst>
                </a:custGeom>
                <a:solidFill>
                  <a:srgbClr val="3c5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366520" y="2959920"/>
                  <a:ext cx="151920" cy="187560"/>
                </a:xfrm>
                <a:custGeom>
                  <a:avLst/>
                  <a:gdLst/>
                  <a:ahLst/>
                  <a:rect l="l" t="t" r="r" b="b"/>
                  <a:pathLst>
                    <a:path w="532" h="657">
                      <a:moveTo>
                        <a:pt x="160" y="0"/>
                      </a:moveTo>
                      <a:lnTo>
                        <a:pt x="132" y="21"/>
                      </a:lnTo>
                      <a:lnTo>
                        <a:pt x="106" y="46"/>
                      </a:lnTo>
                      <a:lnTo>
                        <a:pt x="80" y="72"/>
                      </a:lnTo>
                      <a:lnTo>
                        <a:pt x="58" y="101"/>
                      </a:lnTo>
                      <a:lnTo>
                        <a:pt x="40" y="129"/>
                      </a:lnTo>
                      <a:lnTo>
                        <a:pt x="26" y="161"/>
                      </a:lnTo>
                      <a:lnTo>
                        <a:pt x="14" y="193"/>
                      </a:lnTo>
                      <a:lnTo>
                        <a:pt x="6" y="227"/>
                      </a:lnTo>
                      <a:lnTo>
                        <a:pt x="1" y="262"/>
                      </a:lnTo>
                      <a:lnTo>
                        <a:pt x="0" y="299"/>
                      </a:lnTo>
                      <a:lnTo>
                        <a:pt x="1" y="334"/>
                      </a:lnTo>
                      <a:lnTo>
                        <a:pt x="3" y="351"/>
                      </a:lnTo>
                      <a:lnTo>
                        <a:pt x="6" y="369"/>
                      </a:lnTo>
                      <a:lnTo>
                        <a:pt x="14" y="403"/>
                      </a:lnTo>
                      <a:lnTo>
                        <a:pt x="26" y="436"/>
                      </a:lnTo>
                      <a:lnTo>
                        <a:pt x="32" y="451"/>
                      </a:lnTo>
                      <a:lnTo>
                        <a:pt x="40" y="467"/>
                      </a:lnTo>
                      <a:lnTo>
                        <a:pt x="58" y="496"/>
                      </a:lnTo>
                      <a:lnTo>
                        <a:pt x="80" y="525"/>
                      </a:lnTo>
                      <a:lnTo>
                        <a:pt x="106" y="553"/>
                      </a:lnTo>
                      <a:lnTo>
                        <a:pt x="132" y="577"/>
                      </a:lnTo>
                      <a:lnTo>
                        <a:pt x="160" y="598"/>
                      </a:lnTo>
                      <a:lnTo>
                        <a:pt x="189" y="615"/>
                      </a:lnTo>
                      <a:lnTo>
                        <a:pt x="220" y="631"/>
                      </a:lnTo>
                      <a:lnTo>
                        <a:pt x="252" y="642"/>
                      </a:lnTo>
                      <a:lnTo>
                        <a:pt x="286" y="651"/>
                      </a:lnTo>
                      <a:lnTo>
                        <a:pt x="321" y="655"/>
                      </a:lnTo>
                      <a:lnTo>
                        <a:pt x="359" y="657"/>
                      </a:lnTo>
                      <a:lnTo>
                        <a:pt x="363" y="656"/>
                      </a:lnTo>
                      <a:lnTo>
                        <a:pt x="369" y="656"/>
                      </a:lnTo>
                      <a:lnTo>
                        <a:pt x="380" y="656"/>
                      </a:lnTo>
                      <a:lnTo>
                        <a:pt x="403" y="654"/>
                      </a:lnTo>
                      <a:lnTo>
                        <a:pt x="423" y="651"/>
                      </a:lnTo>
                      <a:lnTo>
                        <a:pt x="433" y="648"/>
                      </a:lnTo>
                      <a:lnTo>
                        <a:pt x="445" y="647"/>
                      </a:lnTo>
                      <a:lnTo>
                        <a:pt x="454" y="644"/>
                      </a:lnTo>
                      <a:lnTo>
                        <a:pt x="464" y="642"/>
                      </a:lnTo>
                      <a:lnTo>
                        <a:pt x="484" y="635"/>
                      </a:lnTo>
                      <a:lnTo>
                        <a:pt x="494" y="630"/>
                      </a:lnTo>
                      <a:lnTo>
                        <a:pt x="498" y="628"/>
                      </a:lnTo>
                      <a:lnTo>
                        <a:pt x="500" y="627"/>
                      </a:lnTo>
                      <a:lnTo>
                        <a:pt x="504" y="627"/>
                      </a:lnTo>
                      <a:lnTo>
                        <a:pt x="524" y="619"/>
                      </a:lnTo>
                      <a:lnTo>
                        <a:pt x="532" y="583"/>
                      </a:lnTo>
                      <a:lnTo>
                        <a:pt x="512" y="593"/>
                      </a:lnTo>
                      <a:lnTo>
                        <a:pt x="491" y="603"/>
                      </a:lnTo>
                      <a:lnTo>
                        <a:pt x="480" y="606"/>
                      </a:lnTo>
                      <a:lnTo>
                        <a:pt x="470" y="611"/>
                      </a:lnTo>
                      <a:lnTo>
                        <a:pt x="449" y="618"/>
                      </a:lnTo>
                      <a:lnTo>
                        <a:pt x="427" y="622"/>
                      </a:lnTo>
                      <a:lnTo>
                        <a:pt x="405" y="627"/>
                      </a:lnTo>
                      <a:lnTo>
                        <a:pt x="381" y="629"/>
                      </a:lnTo>
                      <a:lnTo>
                        <a:pt x="359" y="630"/>
                      </a:lnTo>
                      <a:lnTo>
                        <a:pt x="325" y="628"/>
                      </a:lnTo>
                      <a:lnTo>
                        <a:pt x="293" y="623"/>
                      </a:lnTo>
                      <a:lnTo>
                        <a:pt x="261" y="615"/>
                      </a:lnTo>
                      <a:lnTo>
                        <a:pt x="232" y="605"/>
                      </a:lnTo>
                      <a:lnTo>
                        <a:pt x="202" y="591"/>
                      </a:lnTo>
                      <a:lnTo>
                        <a:pt x="175" y="575"/>
                      </a:lnTo>
                      <a:lnTo>
                        <a:pt x="149" y="555"/>
                      </a:lnTo>
                      <a:lnTo>
                        <a:pt x="125" y="534"/>
                      </a:lnTo>
                      <a:lnTo>
                        <a:pt x="101" y="508"/>
                      </a:lnTo>
                      <a:lnTo>
                        <a:pt x="82" y="482"/>
                      </a:lnTo>
                      <a:lnTo>
                        <a:pt x="65" y="454"/>
                      </a:lnTo>
                      <a:lnTo>
                        <a:pt x="57" y="440"/>
                      </a:lnTo>
                      <a:lnTo>
                        <a:pt x="51" y="426"/>
                      </a:lnTo>
                      <a:lnTo>
                        <a:pt x="45" y="410"/>
                      </a:lnTo>
                      <a:lnTo>
                        <a:pt x="40" y="396"/>
                      </a:lnTo>
                      <a:lnTo>
                        <a:pt x="35" y="380"/>
                      </a:lnTo>
                      <a:lnTo>
                        <a:pt x="33" y="365"/>
                      </a:lnTo>
                      <a:lnTo>
                        <a:pt x="30" y="348"/>
                      </a:lnTo>
                      <a:lnTo>
                        <a:pt x="29" y="332"/>
                      </a:lnTo>
                      <a:lnTo>
                        <a:pt x="28" y="299"/>
                      </a:lnTo>
                      <a:lnTo>
                        <a:pt x="29" y="265"/>
                      </a:lnTo>
                      <a:lnTo>
                        <a:pt x="33" y="233"/>
                      </a:lnTo>
                      <a:lnTo>
                        <a:pt x="40" y="202"/>
                      </a:lnTo>
                      <a:lnTo>
                        <a:pt x="51" y="172"/>
                      </a:lnTo>
                      <a:lnTo>
                        <a:pt x="65" y="143"/>
                      </a:lnTo>
                      <a:lnTo>
                        <a:pt x="82" y="115"/>
                      </a:lnTo>
                      <a:lnTo>
                        <a:pt x="101" y="89"/>
                      </a:lnTo>
                      <a:lnTo>
                        <a:pt x="125" y="66"/>
                      </a:lnTo>
                      <a:lnTo>
                        <a:pt x="141" y="49"/>
                      </a:lnTo>
                      <a:lnTo>
                        <a:pt x="159" y="35"/>
                      </a:lnTo>
                      <a:lnTo>
                        <a:pt x="196" y="11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3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374440" y="2963520"/>
                  <a:ext cx="145080" cy="176400"/>
                </a:xfrm>
                <a:custGeom>
                  <a:avLst/>
                  <a:gdLst/>
                  <a:ahLst/>
                  <a:rect l="l" t="t" r="r" b="b"/>
                  <a:pathLst>
                    <a:path w="509" h="619">
                      <a:moveTo>
                        <a:pt x="116" y="74"/>
                      </a:moveTo>
                      <a:lnTo>
                        <a:pt x="136" y="55"/>
                      </a:lnTo>
                      <a:lnTo>
                        <a:pt x="157" y="38"/>
                      </a:lnTo>
                      <a:lnTo>
                        <a:pt x="179" y="23"/>
                      </a:lnTo>
                      <a:lnTo>
                        <a:pt x="202" y="13"/>
                      </a:lnTo>
                      <a:lnTo>
                        <a:pt x="168" y="0"/>
                      </a:lnTo>
                      <a:lnTo>
                        <a:pt x="131" y="24"/>
                      </a:lnTo>
                      <a:lnTo>
                        <a:pt x="113" y="38"/>
                      </a:lnTo>
                      <a:lnTo>
                        <a:pt x="97" y="55"/>
                      </a:lnTo>
                      <a:lnTo>
                        <a:pt x="73" y="78"/>
                      </a:lnTo>
                      <a:lnTo>
                        <a:pt x="54" y="104"/>
                      </a:lnTo>
                      <a:lnTo>
                        <a:pt x="37" y="132"/>
                      </a:lnTo>
                      <a:lnTo>
                        <a:pt x="23" y="161"/>
                      </a:lnTo>
                      <a:lnTo>
                        <a:pt x="12" y="191"/>
                      </a:lnTo>
                      <a:lnTo>
                        <a:pt x="5" y="222"/>
                      </a:lnTo>
                      <a:lnTo>
                        <a:pt x="1" y="254"/>
                      </a:lnTo>
                      <a:lnTo>
                        <a:pt x="0" y="288"/>
                      </a:lnTo>
                      <a:lnTo>
                        <a:pt x="1" y="321"/>
                      </a:lnTo>
                      <a:lnTo>
                        <a:pt x="2" y="337"/>
                      </a:lnTo>
                      <a:lnTo>
                        <a:pt x="5" y="354"/>
                      </a:lnTo>
                      <a:lnTo>
                        <a:pt x="7" y="369"/>
                      </a:lnTo>
                      <a:lnTo>
                        <a:pt x="12" y="385"/>
                      </a:lnTo>
                      <a:lnTo>
                        <a:pt x="17" y="399"/>
                      </a:lnTo>
                      <a:lnTo>
                        <a:pt x="23" y="415"/>
                      </a:lnTo>
                      <a:lnTo>
                        <a:pt x="29" y="429"/>
                      </a:lnTo>
                      <a:lnTo>
                        <a:pt x="37" y="443"/>
                      </a:lnTo>
                      <a:lnTo>
                        <a:pt x="54" y="471"/>
                      </a:lnTo>
                      <a:lnTo>
                        <a:pt x="73" y="497"/>
                      </a:lnTo>
                      <a:lnTo>
                        <a:pt x="97" y="523"/>
                      </a:lnTo>
                      <a:lnTo>
                        <a:pt x="121" y="544"/>
                      </a:lnTo>
                      <a:lnTo>
                        <a:pt x="147" y="564"/>
                      </a:lnTo>
                      <a:lnTo>
                        <a:pt x="174" y="580"/>
                      </a:lnTo>
                      <a:lnTo>
                        <a:pt x="204" y="594"/>
                      </a:lnTo>
                      <a:lnTo>
                        <a:pt x="233" y="604"/>
                      </a:lnTo>
                      <a:lnTo>
                        <a:pt x="265" y="612"/>
                      </a:lnTo>
                      <a:lnTo>
                        <a:pt x="297" y="617"/>
                      </a:lnTo>
                      <a:lnTo>
                        <a:pt x="331" y="619"/>
                      </a:lnTo>
                      <a:lnTo>
                        <a:pt x="353" y="618"/>
                      </a:lnTo>
                      <a:lnTo>
                        <a:pt x="377" y="616"/>
                      </a:lnTo>
                      <a:lnTo>
                        <a:pt x="399" y="611"/>
                      </a:lnTo>
                      <a:lnTo>
                        <a:pt x="421" y="607"/>
                      </a:lnTo>
                      <a:lnTo>
                        <a:pt x="442" y="600"/>
                      </a:lnTo>
                      <a:lnTo>
                        <a:pt x="452" y="595"/>
                      </a:lnTo>
                      <a:lnTo>
                        <a:pt x="463" y="592"/>
                      </a:lnTo>
                      <a:lnTo>
                        <a:pt x="484" y="582"/>
                      </a:lnTo>
                      <a:lnTo>
                        <a:pt x="504" y="572"/>
                      </a:lnTo>
                      <a:lnTo>
                        <a:pt x="509" y="535"/>
                      </a:lnTo>
                      <a:lnTo>
                        <a:pt x="488" y="548"/>
                      </a:lnTo>
                      <a:lnTo>
                        <a:pt x="468" y="559"/>
                      </a:lnTo>
                      <a:lnTo>
                        <a:pt x="456" y="564"/>
                      </a:lnTo>
                      <a:lnTo>
                        <a:pt x="451" y="566"/>
                      </a:lnTo>
                      <a:lnTo>
                        <a:pt x="446" y="569"/>
                      </a:lnTo>
                      <a:lnTo>
                        <a:pt x="435" y="573"/>
                      </a:lnTo>
                      <a:lnTo>
                        <a:pt x="425" y="577"/>
                      </a:lnTo>
                      <a:lnTo>
                        <a:pt x="412" y="580"/>
                      </a:lnTo>
                      <a:lnTo>
                        <a:pt x="401" y="583"/>
                      </a:lnTo>
                      <a:lnTo>
                        <a:pt x="378" y="587"/>
                      </a:lnTo>
                      <a:lnTo>
                        <a:pt x="371" y="587"/>
                      </a:lnTo>
                      <a:lnTo>
                        <a:pt x="368" y="587"/>
                      </a:lnTo>
                      <a:lnTo>
                        <a:pt x="366" y="589"/>
                      </a:lnTo>
                      <a:lnTo>
                        <a:pt x="354" y="591"/>
                      </a:lnTo>
                      <a:lnTo>
                        <a:pt x="342" y="591"/>
                      </a:lnTo>
                      <a:lnTo>
                        <a:pt x="331" y="592"/>
                      </a:lnTo>
                      <a:lnTo>
                        <a:pt x="299" y="590"/>
                      </a:lnTo>
                      <a:lnTo>
                        <a:pt x="269" y="586"/>
                      </a:lnTo>
                      <a:lnTo>
                        <a:pt x="240" y="578"/>
                      </a:lnTo>
                      <a:lnTo>
                        <a:pt x="214" y="569"/>
                      </a:lnTo>
                      <a:lnTo>
                        <a:pt x="187" y="556"/>
                      </a:lnTo>
                      <a:lnTo>
                        <a:pt x="162" y="541"/>
                      </a:lnTo>
                      <a:lnTo>
                        <a:pt x="138" y="522"/>
                      </a:lnTo>
                      <a:lnTo>
                        <a:pt x="116" y="502"/>
                      </a:lnTo>
                      <a:lnTo>
                        <a:pt x="95" y="479"/>
                      </a:lnTo>
                      <a:lnTo>
                        <a:pt x="85" y="466"/>
                      </a:lnTo>
                      <a:lnTo>
                        <a:pt x="77" y="455"/>
                      </a:lnTo>
                      <a:lnTo>
                        <a:pt x="62" y="430"/>
                      </a:lnTo>
                      <a:lnTo>
                        <a:pt x="49" y="404"/>
                      </a:lnTo>
                      <a:lnTo>
                        <a:pt x="39" y="375"/>
                      </a:lnTo>
                      <a:lnTo>
                        <a:pt x="35" y="361"/>
                      </a:lnTo>
                      <a:lnTo>
                        <a:pt x="32" y="347"/>
                      </a:lnTo>
                      <a:lnTo>
                        <a:pt x="29" y="318"/>
                      </a:lnTo>
                      <a:lnTo>
                        <a:pt x="28" y="288"/>
                      </a:lnTo>
                      <a:lnTo>
                        <a:pt x="29" y="256"/>
                      </a:lnTo>
                      <a:lnTo>
                        <a:pt x="32" y="227"/>
                      </a:lnTo>
                      <a:lnTo>
                        <a:pt x="39" y="197"/>
                      </a:lnTo>
                      <a:lnTo>
                        <a:pt x="49" y="171"/>
                      </a:lnTo>
                      <a:lnTo>
                        <a:pt x="62" y="144"/>
                      </a:lnTo>
                      <a:lnTo>
                        <a:pt x="77" y="119"/>
                      </a:lnTo>
                      <a:lnTo>
                        <a:pt x="95" y="95"/>
                      </a:lnTo>
                      <a:lnTo>
                        <a:pt x="116" y="74"/>
                      </a:lnTo>
                      <a:close/>
                    </a:path>
                  </a:pathLst>
                </a:custGeom>
                <a:solidFill>
                  <a:srgbClr val="426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382720" y="2966760"/>
                  <a:ext cx="138240" cy="165240"/>
                </a:xfrm>
                <a:custGeom>
                  <a:avLst/>
                  <a:gdLst/>
                  <a:ahLst/>
                  <a:rect l="l" t="t" r="r" b="b"/>
                  <a:pathLst>
                    <a:path w="484" h="579">
                      <a:moveTo>
                        <a:pt x="174" y="0"/>
                      </a:moveTo>
                      <a:lnTo>
                        <a:pt x="151" y="10"/>
                      </a:lnTo>
                      <a:lnTo>
                        <a:pt x="129" y="25"/>
                      </a:lnTo>
                      <a:lnTo>
                        <a:pt x="108" y="42"/>
                      </a:lnTo>
                      <a:lnTo>
                        <a:pt x="88" y="61"/>
                      </a:lnTo>
                      <a:lnTo>
                        <a:pt x="67" y="82"/>
                      </a:lnTo>
                      <a:lnTo>
                        <a:pt x="49" y="106"/>
                      </a:lnTo>
                      <a:lnTo>
                        <a:pt x="34" y="131"/>
                      </a:lnTo>
                      <a:lnTo>
                        <a:pt x="21" y="158"/>
                      </a:lnTo>
                      <a:lnTo>
                        <a:pt x="11" y="184"/>
                      </a:lnTo>
                      <a:lnTo>
                        <a:pt x="4" y="214"/>
                      </a:lnTo>
                      <a:lnTo>
                        <a:pt x="1" y="243"/>
                      </a:lnTo>
                      <a:lnTo>
                        <a:pt x="0" y="275"/>
                      </a:lnTo>
                      <a:lnTo>
                        <a:pt x="1" y="305"/>
                      </a:lnTo>
                      <a:lnTo>
                        <a:pt x="4" y="334"/>
                      </a:lnTo>
                      <a:lnTo>
                        <a:pt x="7" y="348"/>
                      </a:lnTo>
                      <a:lnTo>
                        <a:pt x="11" y="362"/>
                      </a:lnTo>
                      <a:lnTo>
                        <a:pt x="21" y="391"/>
                      </a:lnTo>
                      <a:lnTo>
                        <a:pt x="34" y="417"/>
                      </a:lnTo>
                      <a:lnTo>
                        <a:pt x="49" y="442"/>
                      </a:lnTo>
                      <a:lnTo>
                        <a:pt x="57" y="453"/>
                      </a:lnTo>
                      <a:lnTo>
                        <a:pt x="67" y="466"/>
                      </a:lnTo>
                      <a:lnTo>
                        <a:pt x="88" y="489"/>
                      </a:lnTo>
                      <a:lnTo>
                        <a:pt x="110" y="509"/>
                      </a:lnTo>
                      <a:lnTo>
                        <a:pt x="134" y="528"/>
                      </a:lnTo>
                      <a:lnTo>
                        <a:pt x="159" y="543"/>
                      </a:lnTo>
                      <a:lnTo>
                        <a:pt x="186" y="556"/>
                      </a:lnTo>
                      <a:lnTo>
                        <a:pt x="212" y="565"/>
                      </a:lnTo>
                      <a:lnTo>
                        <a:pt x="241" y="573"/>
                      </a:lnTo>
                      <a:lnTo>
                        <a:pt x="271" y="577"/>
                      </a:lnTo>
                      <a:lnTo>
                        <a:pt x="303" y="579"/>
                      </a:lnTo>
                      <a:lnTo>
                        <a:pt x="314" y="578"/>
                      </a:lnTo>
                      <a:lnTo>
                        <a:pt x="326" y="578"/>
                      </a:lnTo>
                      <a:lnTo>
                        <a:pt x="338" y="576"/>
                      </a:lnTo>
                      <a:lnTo>
                        <a:pt x="340" y="574"/>
                      </a:lnTo>
                      <a:lnTo>
                        <a:pt x="343" y="574"/>
                      </a:lnTo>
                      <a:lnTo>
                        <a:pt x="350" y="574"/>
                      </a:lnTo>
                      <a:lnTo>
                        <a:pt x="373" y="570"/>
                      </a:lnTo>
                      <a:lnTo>
                        <a:pt x="384" y="567"/>
                      </a:lnTo>
                      <a:lnTo>
                        <a:pt x="397" y="564"/>
                      </a:lnTo>
                      <a:lnTo>
                        <a:pt x="407" y="560"/>
                      </a:lnTo>
                      <a:lnTo>
                        <a:pt x="418" y="556"/>
                      </a:lnTo>
                      <a:lnTo>
                        <a:pt x="423" y="553"/>
                      </a:lnTo>
                      <a:lnTo>
                        <a:pt x="428" y="551"/>
                      </a:lnTo>
                      <a:lnTo>
                        <a:pt x="440" y="546"/>
                      </a:lnTo>
                      <a:lnTo>
                        <a:pt x="460" y="535"/>
                      </a:lnTo>
                      <a:lnTo>
                        <a:pt x="481" y="522"/>
                      </a:lnTo>
                      <a:lnTo>
                        <a:pt x="484" y="485"/>
                      </a:lnTo>
                      <a:lnTo>
                        <a:pt x="464" y="500"/>
                      </a:lnTo>
                      <a:lnTo>
                        <a:pt x="443" y="513"/>
                      </a:lnTo>
                      <a:lnTo>
                        <a:pt x="422" y="525"/>
                      </a:lnTo>
                      <a:lnTo>
                        <a:pt x="410" y="529"/>
                      </a:lnTo>
                      <a:lnTo>
                        <a:pt x="405" y="531"/>
                      </a:lnTo>
                      <a:lnTo>
                        <a:pt x="400" y="535"/>
                      </a:lnTo>
                      <a:lnTo>
                        <a:pt x="376" y="542"/>
                      </a:lnTo>
                      <a:lnTo>
                        <a:pt x="364" y="544"/>
                      </a:lnTo>
                      <a:lnTo>
                        <a:pt x="352" y="547"/>
                      </a:lnTo>
                      <a:lnTo>
                        <a:pt x="328" y="551"/>
                      </a:lnTo>
                      <a:lnTo>
                        <a:pt x="303" y="552"/>
                      </a:lnTo>
                      <a:lnTo>
                        <a:pt x="274" y="550"/>
                      </a:lnTo>
                      <a:lnTo>
                        <a:pt x="247" y="546"/>
                      </a:lnTo>
                      <a:lnTo>
                        <a:pt x="221" y="539"/>
                      </a:lnTo>
                      <a:lnTo>
                        <a:pt x="197" y="531"/>
                      </a:lnTo>
                      <a:lnTo>
                        <a:pt x="172" y="519"/>
                      </a:lnTo>
                      <a:lnTo>
                        <a:pt x="150" y="505"/>
                      </a:lnTo>
                      <a:lnTo>
                        <a:pt x="128" y="488"/>
                      </a:lnTo>
                      <a:lnTo>
                        <a:pt x="108" y="470"/>
                      </a:lnTo>
                      <a:lnTo>
                        <a:pt x="88" y="449"/>
                      </a:lnTo>
                      <a:lnTo>
                        <a:pt x="71" y="427"/>
                      </a:lnTo>
                      <a:lnTo>
                        <a:pt x="57" y="403"/>
                      </a:lnTo>
                      <a:lnTo>
                        <a:pt x="46" y="381"/>
                      </a:lnTo>
                      <a:lnTo>
                        <a:pt x="41" y="367"/>
                      </a:lnTo>
                      <a:lnTo>
                        <a:pt x="37" y="355"/>
                      </a:lnTo>
                      <a:lnTo>
                        <a:pt x="32" y="330"/>
                      </a:lnTo>
                      <a:lnTo>
                        <a:pt x="28" y="302"/>
                      </a:lnTo>
                      <a:lnTo>
                        <a:pt x="27" y="275"/>
                      </a:lnTo>
                      <a:lnTo>
                        <a:pt x="28" y="247"/>
                      </a:lnTo>
                      <a:lnTo>
                        <a:pt x="32" y="220"/>
                      </a:lnTo>
                      <a:lnTo>
                        <a:pt x="37" y="194"/>
                      </a:lnTo>
                      <a:lnTo>
                        <a:pt x="46" y="170"/>
                      </a:lnTo>
                      <a:lnTo>
                        <a:pt x="57" y="145"/>
                      </a:lnTo>
                      <a:lnTo>
                        <a:pt x="71" y="122"/>
                      </a:lnTo>
                      <a:lnTo>
                        <a:pt x="88" y="101"/>
                      </a:lnTo>
                      <a:lnTo>
                        <a:pt x="108" y="80"/>
                      </a:lnTo>
                      <a:lnTo>
                        <a:pt x="130" y="59"/>
                      </a:lnTo>
                      <a:lnTo>
                        <a:pt x="155" y="40"/>
                      </a:lnTo>
                      <a:lnTo>
                        <a:pt x="180" y="26"/>
                      </a:lnTo>
                      <a:lnTo>
                        <a:pt x="208" y="16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466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319000" y="2957040"/>
                  <a:ext cx="173880" cy="237240"/>
                </a:xfrm>
                <a:custGeom>
                  <a:avLst/>
                  <a:gdLst/>
                  <a:ahLst/>
                  <a:rect l="l" t="t" r="r" b="b"/>
                  <a:pathLst>
                    <a:path w="606" h="833">
                      <a:moveTo>
                        <a:pt x="136" y="0"/>
                      </a:moveTo>
                      <a:lnTo>
                        <a:pt x="96" y="5"/>
                      </a:lnTo>
                      <a:lnTo>
                        <a:pt x="72" y="38"/>
                      </a:lnTo>
                      <a:lnTo>
                        <a:pt x="53" y="73"/>
                      </a:lnTo>
                      <a:lnTo>
                        <a:pt x="36" y="108"/>
                      </a:lnTo>
                      <a:lnTo>
                        <a:pt x="24" y="147"/>
                      </a:lnTo>
                      <a:lnTo>
                        <a:pt x="12" y="184"/>
                      </a:lnTo>
                      <a:lnTo>
                        <a:pt x="5" y="225"/>
                      </a:lnTo>
                      <a:lnTo>
                        <a:pt x="1" y="266"/>
                      </a:lnTo>
                      <a:lnTo>
                        <a:pt x="0" y="309"/>
                      </a:lnTo>
                      <a:lnTo>
                        <a:pt x="0" y="335"/>
                      </a:lnTo>
                      <a:lnTo>
                        <a:pt x="2" y="362"/>
                      </a:lnTo>
                      <a:lnTo>
                        <a:pt x="4" y="387"/>
                      </a:lnTo>
                      <a:lnTo>
                        <a:pt x="9" y="413"/>
                      </a:lnTo>
                      <a:lnTo>
                        <a:pt x="13" y="437"/>
                      </a:lnTo>
                      <a:lnTo>
                        <a:pt x="20" y="462"/>
                      </a:lnTo>
                      <a:lnTo>
                        <a:pt x="38" y="510"/>
                      </a:lnTo>
                      <a:lnTo>
                        <a:pt x="47" y="531"/>
                      </a:lnTo>
                      <a:lnTo>
                        <a:pt x="59" y="554"/>
                      </a:lnTo>
                      <a:lnTo>
                        <a:pt x="71" y="576"/>
                      </a:lnTo>
                      <a:lnTo>
                        <a:pt x="86" y="598"/>
                      </a:lnTo>
                      <a:lnTo>
                        <a:pt x="101" y="619"/>
                      </a:lnTo>
                      <a:lnTo>
                        <a:pt x="118" y="640"/>
                      </a:lnTo>
                      <a:lnTo>
                        <a:pt x="135" y="660"/>
                      </a:lnTo>
                      <a:lnTo>
                        <a:pt x="154" y="680"/>
                      </a:lnTo>
                      <a:lnTo>
                        <a:pt x="191" y="714"/>
                      </a:lnTo>
                      <a:lnTo>
                        <a:pt x="233" y="746"/>
                      </a:lnTo>
                      <a:lnTo>
                        <a:pt x="254" y="759"/>
                      </a:lnTo>
                      <a:lnTo>
                        <a:pt x="275" y="772"/>
                      </a:lnTo>
                      <a:lnTo>
                        <a:pt x="322" y="794"/>
                      </a:lnTo>
                      <a:lnTo>
                        <a:pt x="368" y="810"/>
                      </a:lnTo>
                      <a:lnTo>
                        <a:pt x="393" y="817"/>
                      </a:lnTo>
                      <a:lnTo>
                        <a:pt x="418" y="823"/>
                      </a:lnTo>
                      <a:lnTo>
                        <a:pt x="469" y="830"/>
                      </a:lnTo>
                      <a:lnTo>
                        <a:pt x="496" y="832"/>
                      </a:lnTo>
                      <a:lnTo>
                        <a:pt x="524" y="833"/>
                      </a:lnTo>
                      <a:lnTo>
                        <a:pt x="537" y="832"/>
                      </a:lnTo>
                      <a:lnTo>
                        <a:pt x="552" y="832"/>
                      </a:lnTo>
                      <a:lnTo>
                        <a:pt x="581" y="831"/>
                      </a:lnTo>
                      <a:lnTo>
                        <a:pt x="606" y="799"/>
                      </a:lnTo>
                      <a:lnTo>
                        <a:pt x="566" y="803"/>
                      </a:lnTo>
                      <a:lnTo>
                        <a:pt x="554" y="803"/>
                      </a:lnTo>
                      <a:lnTo>
                        <a:pt x="549" y="803"/>
                      </a:lnTo>
                      <a:lnTo>
                        <a:pt x="544" y="805"/>
                      </a:lnTo>
                      <a:lnTo>
                        <a:pt x="524" y="806"/>
                      </a:lnTo>
                      <a:lnTo>
                        <a:pt x="473" y="803"/>
                      </a:lnTo>
                      <a:lnTo>
                        <a:pt x="424" y="797"/>
                      </a:lnTo>
                      <a:lnTo>
                        <a:pt x="377" y="785"/>
                      </a:lnTo>
                      <a:lnTo>
                        <a:pt x="333" y="769"/>
                      </a:lnTo>
                      <a:lnTo>
                        <a:pt x="289" y="749"/>
                      </a:lnTo>
                      <a:lnTo>
                        <a:pt x="249" y="724"/>
                      </a:lnTo>
                      <a:lnTo>
                        <a:pt x="210" y="695"/>
                      </a:lnTo>
                      <a:lnTo>
                        <a:pt x="173" y="661"/>
                      </a:lnTo>
                      <a:lnTo>
                        <a:pt x="155" y="641"/>
                      </a:lnTo>
                      <a:lnTo>
                        <a:pt x="139" y="623"/>
                      </a:lnTo>
                      <a:lnTo>
                        <a:pt x="123" y="603"/>
                      </a:lnTo>
                      <a:lnTo>
                        <a:pt x="110" y="584"/>
                      </a:lnTo>
                      <a:lnTo>
                        <a:pt x="96" y="562"/>
                      </a:lnTo>
                      <a:lnTo>
                        <a:pt x="85" y="542"/>
                      </a:lnTo>
                      <a:lnTo>
                        <a:pt x="73" y="520"/>
                      </a:lnTo>
                      <a:lnTo>
                        <a:pt x="64" y="500"/>
                      </a:lnTo>
                      <a:lnTo>
                        <a:pt x="49" y="454"/>
                      </a:lnTo>
                      <a:lnTo>
                        <a:pt x="42" y="430"/>
                      </a:lnTo>
                      <a:lnTo>
                        <a:pt x="37" y="408"/>
                      </a:lnTo>
                      <a:lnTo>
                        <a:pt x="33" y="383"/>
                      </a:lnTo>
                      <a:lnTo>
                        <a:pt x="30" y="359"/>
                      </a:lnTo>
                      <a:lnTo>
                        <a:pt x="28" y="309"/>
                      </a:lnTo>
                      <a:lnTo>
                        <a:pt x="29" y="265"/>
                      </a:lnTo>
                      <a:lnTo>
                        <a:pt x="34" y="223"/>
                      </a:lnTo>
                      <a:lnTo>
                        <a:pt x="42" y="181"/>
                      </a:lnTo>
                      <a:lnTo>
                        <a:pt x="54" y="142"/>
                      </a:lnTo>
                      <a:lnTo>
                        <a:pt x="69" y="104"/>
                      </a:lnTo>
                      <a:lnTo>
                        <a:pt x="88" y="68"/>
                      </a:lnTo>
                      <a:lnTo>
                        <a:pt x="110" y="3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2c4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405760" y="2982600"/>
                  <a:ext cx="113760" cy="125640"/>
                </a:xfrm>
                <a:custGeom>
                  <a:avLst/>
                  <a:gdLst/>
                  <a:ahLst/>
                  <a:rect l="l" t="t" r="r" b="b"/>
                  <a:pathLst>
                    <a:path w="398" h="440">
                      <a:moveTo>
                        <a:pt x="27" y="219"/>
                      </a:moveTo>
                      <a:lnTo>
                        <a:pt x="27" y="199"/>
                      </a:lnTo>
                      <a:lnTo>
                        <a:pt x="30" y="181"/>
                      </a:lnTo>
                      <a:lnTo>
                        <a:pt x="40" y="145"/>
                      </a:lnTo>
                      <a:lnTo>
                        <a:pt x="57" y="113"/>
                      </a:lnTo>
                      <a:lnTo>
                        <a:pt x="69" y="97"/>
                      </a:lnTo>
                      <a:lnTo>
                        <a:pt x="84" y="83"/>
                      </a:lnTo>
                      <a:lnTo>
                        <a:pt x="97" y="68"/>
                      </a:lnTo>
                      <a:lnTo>
                        <a:pt x="113" y="57"/>
                      </a:lnTo>
                      <a:lnTo>
                        <a:pt x="146" y="40"/>
                      </a:lnTo>
                      <a:lnTo>
                        <a:pt x="181" y="30"/>
                      </a:lnTo>
                      <a:lnTo>
                        <a:pt x="199" y="26"/>
                      </a:lnTo>
                      <a:lnTo>
                        <a:pt x="220" y="26"/>
                      </a:lnTo>
                      <a:lnTo>
                        <a:pt x="224" y="26"/>
                      </a:lnTo>
                      <a:lnTo>
                        <a:pt x="191" y="0"/>
                      </a:lnTo>
                      <a:lnTo>
                        <a:pt x="156" y="7"/>
                      </a:lnTo>
                      <a:lnTo>
                        <a:pt x="123" y="21"/>
                      </a:lnTo>
                      <a:lnTo>
                        <a:pt x="93" y="39"/>
                      </a:lnTo>
                      <a:lnTo>
                        <a:pt x="64" y="64"/>
                      </a:lnTo>
                      <a:lnTo>
                        <a:pt x="47" y="80"/>
                      </a:lnTo>
                      <a:lnTo>
                        <a:pt x="35" y="97"/>
                      </a:lnTo>
                      <a:lnTo>
                        <a:pt x="16" y="134"/>
                      </a:lnTo>
                      <a:lnTo>
                        <a:pt x="8" y="153"/>
                      </a:lnTo>
                      <a:lnTo>
                        <a:pt x="3" y="175"/>
                      </a:lnTo>
                      <a:lnTo>
                        <a:pt x="0" y="219"/>
                      </a:lnTo>
                      <a:lnTo>
                        <a:pt x="0" y="241"/>
                      </a:lnTo>
                      <a:lnTo>
                        <a:pt x="3" y="262"/>
                      </a:lnTo>
                      <a:lnTo>
                        <a:pt x="8" y="283"/>
                      </a:lnTo>
                      <a:lnTo>
                        <a:pt x="16" y="303"/>
                      </a:lnTo>
                      <a:lnTo>
                        <a:pt x="23" y="321"/>
                      </a:lnTo>
                      <a:lnTo>
                        <a:pt x="35" y="340"/>
                      </a:lnTo>
                      <a:lnTo>
                        <a:pt x="47" y="357"/>
                      </a:lnTo>
                      <a:lnTo>
                        <a:pt x="64" y="376"/>
                      </a:lnTo>
                      <a:lnTo>
                        <a:pt x="80" y="390"/>
                      </a:lnTo>
                      <a:lnTo>
                        <a:pt x="97" y="403"/>
                      </a:lnTo>
                      <a:lnTo>
                        <a:pt x="115" y="413"/>
                      </a:lnTo>
                      <a:lnTo>
                        <a:pt x="135" y="423"/>
                      </a:lnTo>
                      <a:lnTo>
                        <a:pt x="154" y="430"/>
                      </a:lnTo>
                      <a:lnTo>
                        <a:pt x="175" y="436"/>
                      </a:lnTo>
                      <a:lnTo>
                        <a:pt x="197" y="439"/>
                      </a:lnTo>
                      <a:lnTo>
                        <a:pt x="220" y="440"/>
                      </a:lnTo>
                      <a:lnTo>
                        <a:pt x="224" y="439"/>
                      </a:lnTo>
                      <a:lnTo>
                        <a:pt x="230" y="439"/>
                      </a:lnTo>
                      <a:lnTo>
                        <a:pt x="241" y="439"/>
                      </a:lnTo>
                      <a:lnTo>
                        <a:pt x="251" y="437"/>
                      </a:lnTo>
                      <a:lnTo>
                        <a:pt x="263" y="436"/>
                      </a:lnTo>
                      <a:lnTo>
                        <a:pt x="283" y="430"/>
                      </a:lnTo>
                      <a:lnTo>
                        <a:pt x="303" y="423"/>
                      </a:lnTo>
                      <a:lnTo>
                        <a:pt x="322" y="413"/>
                      </a:lnTo>
                      <a:lnTo>
                        <a:pt x="331" y="407"/>
                      </a:lnTo>
                      <a:lnTo>
                        <a:pt x="341" y="403"/>
                      </a:lnTo>
                      <a:lnTo>
                        <a:pt x="349" y="396"/>
                      </a:lnTo>
                      <a:lnTo>
                        <a:pt x="358" y="390"/>
                      </a:lnTo>
                      <a:lnTo>
                        <a:pt x="376" y="376"/>
                      </a:lnTo>
                      <a:lnTo>
                        <a:pt x="381" y="369"/>
                      </a:lnTo>
                      <a:lnTo>
                        <a:pt x="383" y="365"/>
                      </a:lnTo>
                      <a:lnTo>
                        <a:pt x="386" y="363"/>
                      </a:lnTo>
                      <a:lnTo>
                        <a:pt x="398" y="351"/>
                      </a:lnTo>
                      <a:lnTo>
                        <a:pt x="391" y="310"/>
                      </a:lnTo>
                      <a:lnTo>
                        <a:pt x="383" y="321"/>
                      </a:lnTo>
                      <a:lnTo>
                        <a:pt x="378" y="327"/>
                      </a:lnTo>
                      <a:lnTo>
                        <a:pt x="375" y="334"/>
                      </a:lnTo>
                      <a:lnTo>
                        <a:pt x="357" y="356"/>
                      </a:lnTo>
                      <a:lnTo>
                        <a:pt x="341" y="369"/>
                      </a:lnTo>
                      <a:lnTo>
                        <a:pt x="326" y="380"/>
                      </a:lnTo>
                      <a:lnTo>
                        <a:pt x="309" y="389"/>
                      </a:lnTo>
                      <a:lnTo>
                        <a:pt x="293" y="397"/>
                      </a:lnTo>
                      <a:lnTo>
                        <a:pt x="275" y="403"/>
                      </a:lnTo>
                      <a:lnTo>
                        <a:pt x="257" y="407"/>
                      </a:lnTo>
                      <a:lnTo>
                        <a:pt x="251" y="407"/>
                      </a:lnTo>
                      <a:lnTo>
                        <a:pt x="247" y="409"/>
                      </a:lnTo>
                      <a:lnTo>
                        <a:pt x="238" y="411"/>
                      </a:lnTo>
                      <a:lnTo>
                        <a:pt x="220" y="412"/>
                      </a:lnTo>
                      <a:lnTo>
                        <a:pt x="199" y="411"/>
                      </a:lnTo>
                      <a:lnTo>
                        <a:pt x="181" y="407"/>
                      </a:lnTo>
                      <a:lnTo>
                        <a:pt x="163" y="403"/>
                      </a:lnTo>
                      <a:lnTo>
                        <a:pt x="146" y="397"/>
                      </a:lnTo>
                      <a:lnTo>
                        <a:pt x="129" y="389"/>
                      </a:lnTo>
                      <a:lnTo>
                        <a:pt x="113" y="380"/>
                      </a:lnTo>
                      <a:lnTo>
                        <a:pt x="97" y="369"/>
                      </a:lnTo>
                      <a:lnTo>
                        <a:pt x="84" y="356"/>
                      </a:lnTo>
                      <a:lnTo>
                        <a:pt x="69" y="340"/>
                      </a:lnTo>
                      <a:lnTo>
                        <a:pt x="57" y="326"/>
                      </a:lnTo>
                      <a:lnTo>
                        <a:pt x="47" y="309"/>
                      </a:lnTo>
                      <a:lnTo>
                        <a:pt x="40" y="293"/>
                      </a:lnTo>
                      <a:lnTo>
                        <a:pt x="34" y="275"/>
                      </a:lnTo>
                      <a:lnTo>
                        <a:pt x="30" y="257"/>
                      </a:lnTo>
                      <a:lnTo>
                        <a:pt x="27" y="237"/>
                      </a:lnTo>
                      <a:lnTo>
                        <a:pt x="27" y="219"/>
                      </a:lnTo>
                      <a:close/>
                    </a:path>
                  </a:pathLst>
                </a:custGeom>
                <a:solidFill>
                  <a:srgbClr val="4f7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414040" y="2990160"/>
                  <a:ext cx="104040" cy="110160"/>
                </a:xfrm>
                <a:custGeom>
                  <a:avLst/>
                  <a:gdLst/>
                  <a:ahLst/>
                  <a:rect l="l" t="t" r="r" b="b"/>
                  <a:pathLst>
                    <a:path w="364" h="386">
                      <a:moveTo>
                        <a:pt x="57" y="57"/>
                      </a:moveTo>
                      <a:lnTo>
                        <a:pt x="42" y="71"/>
                      </a:lnTo>
                      <a:lnTo>
                        <a:pt x="30" y="87"/>
                      </a:lnTo>
                      <a:lnTo>
                        <a:pt x="13" y="119"/>
                      </a:lnTo>
                      <a:lnTo>
                        <a:pt x="3" y="155"/>
                      </a:lnTo>
                      <a:lnTo>
                        <a:pt x="0" y="173"/>
                      </a:lnTo>
                      <a:lnTo>
                        <a:pt x="0" y="193"/>
                      </a:lnTo>
                      <a:lnTo>
                        <a:pt x="0" y="211"/>
                      </a:lnTo>
                      <a:lnTo>
                        <a:pt x="3" y="231"/>
                      </a:lnTo>
                      <a:lnTo>
                        <a:pt x="7" y="249"/>
                      </a:lnTo>
                      <a:lnTo>
                        <a:pt x="13" y="267"/>
                      </a:lnTo>
                      <a:lnTo>
                        <a:pt x="20" y="283"/>
                      </a:lnTo>
                      <a:lnTo>
                        <a:pt x="30" y="300"/>
                      </a:lnTo>
                      <a:lnTo>
                        <a:pt x="42" y="314"/>
                      </a:lnTo>
                      <a:lnTo>
                        <a:pt x="57" y="330"/>
                      </a:lnTo>
                      <a:lnTo>
                        <a:pt x="70" y="343"/>
                      </a:lnTo>
                      <a:lnTo>
                        <a:pt x="86" y="354"/>
                      </a:lnTo>
                      <a:lnTo>
                        <a:pt x="102" y="363"/>
                      </a:lnTo>
                      <a:lnTo>
                        <a:pt x="119" y="371"/>
                      </a:lnTo>
                      <a:lnTo>
                        <a:pt x="136" y="377"/>
                      </a:lnTo>
                      <a:lnTo>
                        <a:pt x="154" y="381"/>
                      </a:lnTo>
                      <a:lnTo>
                        <a:pt x="172" y="385"/>
                      </a:lnTo>
                      <a:lnTo>
                        <a:pt x="193" y="386"/>
                      </a:lnTo>
                      <a:lnTo>
                        <a:pt x="211" y="385"/>
                      </a:lnTo>
                      <a:lnTo>
                        <a:pt x="220" y="383"/>
                      </a:lnTo>
                      <a:lnTo>
                        <a:pt x="224" y="381"/>
                      </a:lnTo>
                      <a:lnTo>
                        <a:pt x="230" y="381"/>
                      </a:lnTo>
                      <a:lnTo>
                        <a:pt x="248" y="377"/>
                      </a:lnTo>
                      <a:lnTo>
                        <a:pt x="266" y="371"/>
                      </a:lnTo>
                      <a:lnTo>
                        <a:pt x="282" y="363"/>
                      </a:lnTo>
                      <a:lnTo>
                        <a:pt x="299" y="354"/>
                      </a:lnTo>
                      <a:lnTo>
                        <a:pt x="314" y="343"/>
                      </a:lnTo>
                      <a:lnTo>
                        <a:pt x="330" y="330"/>
                      </a:lnTo>
                      <a:lnTo>
                        <a:pt x="348" y="308"/>
                      </a:lnTo>
                      <a:lnTo>
                        <a:pt x="351" y="301"/>
                      </a:lnTo>
                      <a:lnTo>
                        <a:pt x="356" y="295"/>
                      </a:lnTo>
                      <a:lnTo>
                        <a:pt x="364" y="284"/>
                      </a:lnTo>
                      <a:lnTo>
                        <a:pt x="354" y="237"/>
                      </a:lnTo>
                      <a:lnTo>
                        <a:pt x="349" y="246"/>
                      </a:lnTo>
                      <a:lnTo>
                        <a:pt x="347" y="251"/>
                      </a:lnTo>
                      <a:lnTo>
                        <a:pt x="346" y="253"/>
                      </a:lnTo>
                      <a:lnTo>
                        <a:pt x="346" y="257"/>
                      </a:lnTo>
                      <a:lnTo>
                        <a:pt x="341" y="266"/>
                      </a:lnTo>
                      <a:lnTo>
                        <a:pt x="337" y="276"/>
                      </a:lnTo>
                      <a:lnTo>
                        <a:pt x="330" y="284"/>
                      </a:lnTo>
                      <a:lnTo>
                        <a:pt x="324" y="293"/>
                      </a:lnTo>
                      <a:lnTo>
                        <a:pt x="317" y="301"/>
                      </a:lnTo>
                      <a:lnTo>
                        <a:pt x="311" y="310"/>
                      </a:lnTo>
                      <a:lnTo>
                        <a:pt x="297" y="320"/>
                      </a:lnTo>
                      <a:lnTo>
                        <a:pt x="290" y="325"/>
                      </a:lnTo>
                      <a:lnTo>
                        <a:pt x="287" y="327"/>
                      </a:lnTo>
                      <a:lnTo>
                        <a:pt x="284" y="330"/>
                      </a:lnTo>
                      <a:lnTo>
                        <a:pt x="280" y="331"/>
                      </a:lnTo>
                      <a:lnTo>
                        <a:pt x="276" y="334"/>
                      </a:lnTo>
                      <a:lnTo>
                        <a:pt x="270" y="338"/>
                      </a:lnTo>
                      <a:lnTo>
                        <a:pt x="256" y="346"/>
                      </a:lnTo>
                      <a:lnTo>
                        <a:pt x="240" y="351"/>
                      </a:lnTo>
                      <a:lnTo>
                        <a:pt x="225" y="355"/>
                      </a:lnTo>
                      <a:lnTo>
                        <a:pt x="208" y="358"/>
                      </a:lnTo>
                      <a:lnTo>
                        <a:pt x="193" y="359"/>
                      </a:lnTo>
                      <a:lnTo>
                        <a:pt x="176" y="358"/>
                      </a:lnTo>
                      <a:lnTo>
                        <a:pt x="160" y="355"/>
                      </a:lnTo>
                      <a:lnTo>
                        <a:pt x="129" y="346"/>
                      </a:lnTo>
                      <a:lnTo>
                        <a:pt x="101" y="330"/>
                      </a:lnTo>
                      <a:lnTo>
                        <a:pt x="87" y="320"/>
                      </a:lnTo>
                      <a:lnTo>
                        <a:pt x="76" y="310"/>
                      </a:lnTo>
                      <a:lnTo>
                        <a:pt x="63" y="296"/>
                      </a:lnTo>
                      <a:lnTo>
                        <a:pt x="53" y="284"/>
                      </a:lnTo>
                      <a:lnTo>
                        <a:pt x="44" y="270"/>
                      </a:lnTo>
                      <a:lnTo>
                        <a:pt x="38" y="257"/>
                      </a:lnTo>
                      <a:lnTo>
                        <a:pt x="33" y="241"/>
                      </a:lnTo>
                      <a:lnTo>
                        <a:pt x="29" y="226"/>
                      </a:lnTo>
                      <a:lnTo>
                        <a:pt x="27" y="209"/>
                      </a:lnTo>
                      <a:lnTo>
                        <a:pt x="27" y="193"/>
                      </a:lnTo>
                      <a:lnTo>
                        <a:pt x="29" y="160"/>
                      </a:lnTo>
                      <a:lnTo>
                        <a:pt x="38" y="130"/>
                      </a:lnTo>
                      <a:lnTo>
                        <a:pt x="53" y="101"/>
                      </a:lnTo>
                      <a:lnTo>
                        <a:pt x="63" y="88"/>
                      </a:lnTo>
                      <a:lnTo>
                        <a:pt x="76" y="76"/>
                      </a:lnTo>
                      <a:lnTo>
                        <a:pt x="87" y="64"/>
                      </a:lnTo>
                      <a:lnTo>
                        <a:pt x="101" y="54"/>
                      </a:lnTo>
                      <a:lnTo>
                        <a:pt x="129" y="39"/>
                      </a:lnTo>
                      <a:lnTo>
                        <a:pt x="160" y="30"/>
                      </a:lnTo>
                      <a:lnTo>
                        <a:pt x="193" y="28"/>
                      </a:lnTo>
                      <a:lnTo>
                        <a:pt x="212" y="29"/>
                      </a:lnTo>
                      <a:lnTo>
                        <a:pt x="230" y="32"/>
                      </a:lnTo>
                      <a:lnTo>
                        <a:pt x="225" y="28"/>
                      </a:lnTo>
                      <a:lnTo>
                        <a:pt x="211" y="13"/>
                      </a:lnTo>
                      <a:lnTo>
                        <a:pt x="197" y="0"/>
                      </a:lnTo>
                      <a:lnTo>
                        <a:pt x="193" y="0"/>
                      </a:lnTo>
                      <a:lnTo>
                        <a:pt x="172" y="0"/>
                      </a:lnTo>
                      <a:lnTo>
                        <a:pt x="154" y="4"/>
                      </a:lnTo>
                      <a:lnTo>
                        <a:pt x="119" y="14"/>
                      </a:lnTo>
                      <a:lnTo>
                        <a:pt x="86" y="31"/>
                      </a:lnTo>
                      <a:lnTo>
                        <a:pt x="70" y="42"/>
                      </a:lnTo>
                      <a:lnTo>
                        <a:pt x="57" y="57"/>
                      </a:lnTo>
                      <a:close/>
                    </a:path>
                  </a:pathLst>
                </a:custGeom>
                <a:solidFill>
                  <a:srgbClr val="52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98560" y="2976480"/>
                  <a:ext cx="121680" cy="139680"/>
                </a:xfrm>
                <a:custGeom>
                  <a:avLst/>
                  <a:gdLst/>
                  <a:ahLst/>
                  <a:rect l="l" t="t" r="r" b="b"/>
                  <a:pathLst>
                    <a:path w="428" h="488">
                      <a:moveTo>
                        <a:pt x="28" y="240"/>
                      </a:moveTo>
                      <a:lnTo>
                        <a:pt x="31" y="196"/>
                      </a:lnTo>
                      <a:lnTo>
                        <a:pt x="36" y="174"/>
                      </a:lnTo>
                      <a:lnTo>
                        <a:pt x="44" y="155"/>
                      </a:lnTo>
                      <a:lnTo>
                        <a:pt x="63" y="118"/>
                      </a:lnTo>
                      <a:lnTo>
                        <a:pt x="75" y="101"/>
                      </a:lnTo>
                      <a:lnTo>
                        <a:pt x="92" y="85"/>
                      </a:lnTo>
                      <a:lnTo>
                        <a:pt x="121" y="60"/>
                      </a:lnTo>
                      <a:lnTo>
                        <a:pt x="151" y="42"/>
                      </a:lnTo>
                      <a:lnTo>
                        <a:pt x="184" y="28"/>
                      </a:lnTo>
                      <a:lnTo>
                        <a:pt x="219" y="21"/>
                      </a:lnTo>
                      <a:lnTo>
                        <a:pt x="187" y="0"/>
                      </a:lnTo>
                      <a:lnTo>
                        <a:pt x="155" y="9"/>
                      </a:lnTo>
                      <a:lnTo>
                        <a:pt x="126" y="22"/>
                      </a:lnTo>
                      <a:lnTo>
                        <a:pt x="98" y="41"/>
                      </a:lnTo>
                      <a:lnTo>
                        <a:pt x="73" y="64"/>
                      </a:lnTo>
                      <a:lnTo>
                        <a:pt x="56" y="83"/>
                      </a:lnTo>
                      <a:lnTo>
                        <a:pt x="41" y="102"/>
                      </a:lnTo>
                      <a:lnTo>
                        <a:pt x="29" y="122"/>
                      </a:lnTo>
                      <a:lnTo>
                        <a:pt x="19" y="145"/>
                      </a:lnTo>
                      <a:lnTo>
                        <a:pt x="11" y="166"/>
                      </a:lnTo>
                      <a:lnTo>
                        <a:pt x="5" y="190"/>
                      </a:lnTo>
                      <a:lnTo>
                        <a:pt x="2" y="214"/>
                      </a:lnTo>
                      <a:lnTo>
                        <a:pt x="0" y="240"/>
                      </a:lnTo>
                      <a:lnTo>
                        <a:pt x="2" y="264"/>
                      </a:lnTo>
                      <a:lnTo>
                        <a:pt x="5" y="289"/>
                      </a:lnTo>
                      <a:lnTo>
                        <a:pt x="11" y="312"/>
                      </a:lnTo>
                      <a:lnTo>
                        <a:pt x="19" y="335"/>
                      </a:lnTo>
                      <a:lnTo>
                        <a:pt x="29" y="356"/>
                      </a:lnTo>
                      <a:lnTo>
                        <a:pt x="41" y="377"/>
                      </a:lnTo>
                      <a:lnTo>
                        <a:pt x="56" y="397"/>
                      </a:lnTo>
                      <a:lnTo>
                        <a:pt x="73" y="416"/>
                      </a:lnTo>
                      <a:lnTo>
                        <a:pt x="91" y="433"/>
                      </a:lnTo>
                      <a:lnTo>
                        <a:pt x="110" y="448"/>
                      </a:lnTo>
                      <a:lnTo>
                        <a:pt x="131" y="460"/>
                      </a:lnTo>
                      <a:lnTo>
                        <a:pt x="152" y="470"/>
                      </a:lnTo>
                      <a:lnTo>
                        <a:pt x="174" y="478"/>
                      </a:lnTo>
                      <a:lnTo>
                        <a:pt x="198" y="484"/>
                      </a:lnTo>
                      <a:lnTo>
                        <a:pt x="222" y="487"/>
                      </a:lnTo>
                      <a:lnTo>
                        <a:pt x="248" y="488"/>
                      </a:lnTo>
                      <a:lnTo>
                        <a:pt x="259" y="487"/>
                      </a:lnTo>
                      <a:lnTo>
                        <a:pt x="271" y="487"/>
                      </a:lnTo>
                      <a:lnTo>
                        <a:pt x="296" y="484"/>
                      </a:lnTo>
                      <a:lnTo>
                        <a:pt x="319" y="478"/>
                      </a:lnTo>
                      <a:lnTo>
                        <a:pt x="330" y="474"/>
                      </a:lnTo>
                      <a:lnTo>
                        <a:pt x="336" y="471"/>
                      </a:lnTo>
                      <a:lnTo>
                        <a:pt x="343" y="470"/>
                      </a:lnTo>
                      <a:lnTo>
                        <a:pt x="363" y="460"/>
                      </a:lnTo>
                      <a:lnTo>
                        <a:pt x="373" y="453"/>
                      </a:lnTo>
                      <a:lnTo>
                        <a:pt x="385" y="448"/>
                      </a:lnTo>
                      <a:lnTo>
                        <a:pt x="394" y="440"/>
                      </a:lnTo>
                      <a:lnTo>
                        <a:pt x="404" y="433"/>
                      </a:lnTo>
                      <a:lnTo>
                        <a:pt x="413" y="424"/>
                      </a:lnTo>
                      <a:lnTo>
                        <a:pt x="418" y="419"/>
                      </a:lnTo>
                      <a:lnTo>
                        <a:pt x="420" y="417"/>
                      </a:lnTo>
                      <a:lnTo>
                        <a:pt x="421" y="416"/>
                      </a:lnTo>
                      <a:lnTo>
                        <a:pt x="423" y="416"/>
                      </a:lnTo>
                      <a:lnTo>
                        <a:pt x="428" y="411"/>
                      </a:lnTo>
                      <a:lnTo>
                        <a:pt x="426" y="372"/>
                      </a:lnTo>
                      <a:lnTo>
                        <a:pt x="414" y="384"/>
                      </a:lnTo>
                      <a:lnTo>
                        <a:pt x="411" y="386"/>
                      </a:lnTo>
                      <a:lnTo>
                        <a:pt x="409" y="390"/>
                      </a:lnTo>
                      <a:lnTo>
                        <a:pt x="404" y="397"/>
                      </a:lnTo>
                      <a:lnTo>
                        <a:pt x="386" y="411"/>
                      </a:lnTo>
                      <a:lnTo>
                        <a:pt x="377" y="417"/>
                      </a:lnTo>
                      <a:lnTo>
                        <a:pt x="369" y="424"/>
                      </a:lnTo>
                      <a:lnTo>
                        <a:pt x="359" y="428"/>
                      </a:lnTo>
                      <a:lnTo>
                        <a:pt x="350" y="434"/>
                      </a:lnTo>
                      <a:lnTo>
                        <a:pt x="331" y="444"/>
                      </a:lnTo>
                      <a:lnTo>
                        <a:pt x="311" y="451"/>
                      </a:lnTo>
                      <a:lnTo>
                        <a:pt x="291" y="457"/>
                      </a:lnTo>
                      <a:lnTo>
                        <a:pt x="279" y="458"/>
                      </a:lnTo>
                      <a:lnTo>
                        <a:pt x="269" y="460"/>
                      </a:lnTo>
                      <a:lnTo>
                        <a:pt x="258" y="460"/>
                      </a:lnTo>
                      <a:lnTo>
                        <a:pt x="252" y="460"/>
                      </a:lnTo>
                      <a:lnTo>
                        <a:pt x="248" y="461"/>
                      </a:lnTo>
                      <a:lnTo>
                        <a:pt x="225" y="460"/>
                      </a:lnTo>
                      <a:lnTo>
                        <a:pt x="203" y="457"/>
                      </a:lnTo>
                      <a:lnTo>
                        <a:pt x="182" y="451"/>
                      </a:lnTo>
                      <a:lnTo>
                        <a:pt x="163" y="444"/>
                      </a:lnTo>
                      <a:lnTo>
                        <a:pt x="143" y="434"/>
                      </a:lnTo>
                      <a:lnTo>
                        <a:pt x="125" y="424"/>
                      </a:lnTo>
                      <a:lnTo>
                        <a:pt x="108" y="411"/>
                      </a:lnTo>
                      <a:lnTo>
                        <a:pt x="92" y="397"/>
                      </a:lnTo>
                      <a:lnTo>
                        <a:pt x="75" y="378"/>
                      </a:lnTo>
                      <a:lnTo>
                        <a:pt x="63" y="361"/>
                      </a:lnTo>
                      <a:lnTo>
                        <a:pt x="51" y="342"/>
                      </a:lnTo>
                      <a:lnTo>
                        <a:pt x="44" y="324"/>
                      </a:lnTo>
                      <a:lnTo>
                        <a:pt x="36" y="304"/>
                      </a:lnTo>
                      <a:lnTo>
                        <a:pt x="31" y="283"/>
                      </a:lnTo>
                      <a:lnTo>
                        <a:pt x="28" y="262"/>
                      </a:lnTo>
                      <a:lnTo>
                        <a:pt x="28" y="240"/>
                      </a:lnTo>
                      <a:close/>
                    </a:path>
                  </a:pathLst>
                </a:custGeom>
                <a:solidFill>
                  <a:srgbClr val="4c7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90640" y="2971440"/>
                  <a:ext cx="130320" cy="153000"/>
                </a:xfrm>
                <a:custGeom>
                  <a:avLst/>
                  <a:gdLst/>
                  <a:ahLst/>
                  <a:rect l="l" t="t" r="r" b="b"/>
                  <a:pathLst>
                    <a:path w="457" h="536">
                      <a:moveTo>
                        <a:pt x="28" y="259"/>
                      </a:moveTo>
                      <a:lnTo>
                        <a:pt x="30" y="233"/>
                      </a:lnTo>
                      <a:lnTo>
                        <a:pt x="33" y="209"/>
                      </a:lnTo>
                      <a:lnTo>
                        <a:pt x="39" y="185"/>
                      </a:lnTo>
                      <a:lnTo>
                        <a:pt x="47" y="164"/>
                      </a:lnTo>
                      <a:lnTo>
                        <a:pt x="57" y="141"/>
                      </a:lnTo>
                      <a:lnTo>
                        <a:pt x="69" y="121"/>
                      </a:lnTo>
                      <a:lnTo>
                        <a:pt x="84" y="102"/>
                      </a:lnTo>
                      <a:lnTo>
                        <a:pt x="101" y="83"/>
                      </a:lnTo>
                      <a:lnTo>
                        <a:pt x="126" y="60"/>
                      </a:lnTo>
                      <a:lnTo>
                        <a:pt x="154" y="41"/>
                      </a:lnTo>
                      <a:lnTo>
                        <a:pt x="183" y="28"/>
                      </a:lnTo>
                      <a:lnTo>
                        <a:pt x="215" y="19"/>
                      </a:lnTo>
                      <a:lnTo>
                        <a:pt x="181" y="0"/>
                      </a:lnTo>
                      <a:lnTo>
                        <a:pt x="153" y="10"/>
                      </a:lnTo>
                      <a:lnTo>
                        <a:pt x="128" y="24"/>
                      </a:lnTo>
                      <a:lnTo>
                        <a:pt x="103" y="43"/>
                      </a:lnTo>
                      <a:lnTo>
                        <a:pt x="81" y="64"/>
                      </a:lnTo>
                      <a:lnTo>
                        <a:pt x="61" y="85"/>
                      </a:lnTo>
                      <a:lnTo>
                        <a:pt x="44" y="106"/>
                      </a:lnTo>
                      <a:lnTo>
                        <a:pt x="30" y="129"/>
                      </a:lnTo>
                      <a:lnTo>
                        <a:pt x="19" y="154"/>
                      </a:lnTo>
                      <a:lnTo>
                        <a:pt x="10" y="178"/>
                      </a:lnTo>
                      <a:lnTo>
                        <a:pt x="5" y="204"/>
                      </a:lnTo>
                      <a:lnTo>
                        <a:pt x="1" y="231"/>
                      </a:lnTo>
                      <a:lnTo>
                        <a:pt x="0" y="259"/>
                      </a:lnTo>
                      <a:lnTo>
                        <a:pt x="1" y="286"/>
                      </a:lnTo>
                      <a:lnTo>
                        <a:pt x="5" y="314"/>
                      </a:lnTo>
                      <a:lnTo>
                        <a:pt x="10" y="339"/>
                      </a:lnTo>
                      <a:lnTo>
                        <a:pt x="14" y="351"/>
                      </a:lnTo>
                      <a:lnTo>
                        <a:pt x="19" y="365"/>
                      </a:lnTo>
                      <a:lnTo>
                        <a:pt x="30" y="387"/>
                      </a:lnTo>
                      <a:lnTo>
                        <a:pt x="44" y="411"/>
                      </a:lnTo>
                      <a:lnTo>
                        <a:pt x="61" y="433"/>
                      </a:lnTo>
                      <a:lnTo>
                        <a:pt x="81" y="454"/>
                      </a:lnTo>
                      <a:lnTo>
                        <a:pt x="101" y="472"/>
                      </a:lnTo>
                      <a:lnTo>
                        <a:pt x="123" y="489"/>
                      </a:lnTo>
                      <a:lnTo>
                        <a:pt x="145" y="503"/>
                      </a:lnTo>
                      <a:lnTo>
                        <a:pt x="170" y="515"/>
                      </a:lnTo>
                      <a:lnTo>
                        <a:pt x="194" y="523"/>
                      </a:lnTo>
                      <a:lnTo>
                        <a:pt x="220" y="530"/>
                      </a:lnTo>
                      <a:lnTo>
                        <a:pt x="247" y="534"/>
                      </a:lnTo>
                      <a:lnTo>
                        <a:pt x="276" y="536"/>
                      </a:lnTo>
                      <a:lnTo>
                        <a:pt x="301" y="535"/>
                      </a:lnTo>
                      <a:lnTo>
                        <a:pt x="325" y="531"/>
                      </a:lnTo>
                      <a:lnTo>
                        <a:pt x="337" y="528"/>
                      </a:lnTo>
                      <a:lnTo>
                        <a:pt x="349" y="526"/>
                      </a:lnTo>
                      <a:lnTo>
                        <a:pt x="373" y="519"/>
                      </a:lnTo>
                      <a:lnTo>
                        <a:pt x="378" y="515"/>
                      </a:lnTo>
                      <a:lnTo>
                        <a:pt x="383" y="513"/>
                      </a:lnTo>
                      <a:lnTo>
                        <a:pt x="395" y="509"/>
                      </a:lnTo>
                      <a:lnTo>
                        <a:pt x="416" y="497"/>
                      </a:lnTo>
                      <a:lnTo>
                        <a:pt x="437" y="484"/>
                      </a:lnTo>
                      <a:lnTo>
                        <a:pt x="457" y="469"/>
                      </a:lnTo>
                      <a:lnTo>
                        <a:pt x="457" y="450"/>
                      </a:lnTo>
                      <a:lnTo>
                        <a:pt x="456" y="430"/>
                      </a:lnTo>
                      <a:lnTo>
                        <a:pt x="451" y="435"/>
                      </a:lnTo>
                      <a:lnTo>
                        <a:pt x="449" y="435"/>
                      </a:lnTo>
                      <a:lnTo>
                        <a:pt x="448" y="436"/>
                      </a:lnTo>
                      <a:lnTo>
                        <a:pt x="446" y="438"/>
                      </a:lnTo>
                      <a:lnTo>
                        <a:pt x="441" y="443"/>
                      </a:lnTo>
                      <a:lnTo>
                        <a:pt x="432" y="452"/>
                      </a:lnTo>
                      <a:lnTo>
                        <a:pt x="422" y="459"/>
                      </a:lnTo>
                      <a:lnTo>
                        <a:pt x="413" y="467"/>
                      </a:lnTo>
                      <a:lnTo>
                        <a:pt x="401" y="472"/>
                      </a:lnTo>
                      <a:lnTo>
                        <a:pt x="391" y="479"/>
                      </a:lnTo>
                      <a:lnTo>
                        <a:pt x="371" y="489"/>
                      </a:lnTo>
                      <a:lnTo>
                        <a:pt x="364" y="490"/>
                      </a:lnTo>
                      <a:lnTo>
                        <a:pt x="358" y="493"/>
                      </a:lnTo>
                      <a:lnTo>
                        <a:pt x="347" y="497"/>
                      </a:lnTo>
                      <a:lnTo>
                        <a:pt x="324" y="503"/>
                      </a:lnTo>
                      <a:lnTo>
                        <a:pt x="299" y="506"/>
                      </a:lnTo>
                      <a:lnTo>
                        <a:pt x="287" y="506"/>
                      </a:lnTo>
                      <a:lnTo>
                        <a:pt x="276" y="507"/>
                      </a:lnTo>
                      <a:lnTo>
                        <a:pt x="250" y="506"/>
                      </a:lnTo>
                      <a:lnTo>
                        <a:pt x="226" y="503"/>
                      </a:lnTo>
                      <a:lnTo>
                        <a:pt x="202" y="497"/>
                      </a:lnTo>
                      <a:lnTo>
                        <a:pt x="180" y="489"/>
                      </a:lnTo>
                      <a:lnTo>
                        <a:pt x="159" y="479"/>
                      </a:lnTo>
                      <a:lnTo>
                        <a:pt x="138" y="467"/>
                      </a:lnTo>
                      <a:lnTo>
                        <a:pt x="119" y="452"/>
                      </a:lnTo>
                      <a:lnTo>
                        <a:pt x="101" y="435"/>
                      </a:lnTo>
                      <a:lnTo>
                        <a:pt x="84" y="416"/>
                      </a:lnTo>
                      <a:lnTo>
                        <a:pt x="69" y="396"/>
                      </a:lnTo>
                      <a:lnTo>
                        <a:pt x="57" y="375"/>
                      </a:lnTo>
                      <a:lnTo>
                        <a:pt x="47" y="354"/>
                      </a:lnTo>
                      <a:lnTo>
                        <a:pt x="39" y="331"/>
                      </a:lnTo>
                      <a:lnTo>
                        <a:pt x="33" y="308"/>
                      </a:lnTo>
                      <a:lnTo>
                        <a:pt x="30" y="283"/>
                      </a:lnTo>
                      <a:lnTo>
                        <a:pt x="28" y="259"/>
                      </a:lnTo>
                      <a:close/>
                    </a:path>
                  </a:pathLst>
                </a:custGeom>
                <a:solidFill>
                  <a:srgbClr val="496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27640" y="2955960"/>
                  <a:ext cx="171360" cy="231120"/>
                </a:xfrm>
                <a:custGeom>
                  <a:avLst/>
                  <a:gdLst/>
                  <a:ahLst/>
                  <a:rect l="l" t="t" r="r" b="b"/>
                  <a:pathLst>
                    <a:path w="601" h="810">
                      <a:moveTo>
                        <a:pt x="108" y="4"/>
                      </a:moveTo>
                      <a:lnTo>
                        <a:pt x="82" y="37"/>
                      </a:lnTo>
                      <a:lnTo>
                        <a:pt x="60" y="72"/>
                      </a:lnTo>
                      <a:lnTo>
                        <a:pt x="41" y="108"/>
                      </a:lnTo>
                      <a:lnTo>
                        <a:pt x="26" y="146"/>
                      </a:lnTo>
                      <a:lnTo>
                        <a:pt x="14" y="185"/>
                      </a:lnTo>
                      <a:lnTo>
                        <a:pt x="6" y="227"/>
                      </a:lnTo>
                      <a:lnTo>
                        <a:pt x="1" y="269"/>
                      </a:lnTo>
                      <a:lnTo>
                        <a:pt x="0" y="313"/>
                      </a:lnTo>
                      <a:lnTo>
                        <a:pt x="2" y="363"/>
                      </a:lnTo>
                      <a:lnTo>
                        <a:pt x="5" y="387"/>
                      </a:lnTo>
                      <a:lnTo>
                        <a:pt x="9" y="412"/>
                      </a:lnTo>
                      <a:lnTo>
                        <a:pt x="14" y="434"/>
                      </a:lnTo>
                      <a:lnTo>
                        <a:pt x="21" y="458"/>
                      </a:lnTo>
                      <a:lnTo>
                        <a:pt x="36" y="504"/>
                      </a:lnTo>
                      <a:lnTo>
                        <a:pt x="45" y="524"/>
                      </a:lnTo>
                      <a:lnTo>
                        <a:pt x="57" y="546"/>
                      </a:lnTo>
                      <a:lnTo>
                        <a:pt x="68" y="566"/>
                      </a:lnTo>
                      <a:lnTo>
                        <a:pt x="82" y="588"/>
                      </a:lnTo>
                      <a:lnTo>
                        <a:pt x="95" y="607"/>
                      </a:lnTo>
                      <a:lnTo>
                        <a:pt x="111" y="627"/>
                      </a:lnTo>
                      <a:lnTo>
                        <a:pt x="127" y="645"/>
                      </a:lnTo>
                      <a:lnTo>
                        <a:pt x="145" y="665"/>
                      </a:lnTo>
                      <a:lnTo>
                        <a:pt x="182" y="699"/>
                      </a:lnTo>
                      <a:lnTo>
                        <a:pt x="221" y="728"/>
                      </a:lnTo>
                      <a:lnTo>
                        <a:pt x="261" y="753"/>
                      </a:lnTo>
                      <a:lnTo>
                        <a:pt x="305" y="773"/>
                      </a:lnTo>
                      <a:lnTo>
                        <a:pt x="349" y="789"/>
                      </a:lnTo>
                      <a:lnTo>
                        <a:pt x="396" y="801"/>
                      </a:lnTo>
                      <a:lnTo>
                        <a:pt x="445" y="807"/>
                      </a:lnTo>
                      <a:lnTo>
                        <a:pt x="496" y="810"/>
                      </a:lnTo>
                      <a:lnTo>
                        <a:pt x="516" y="809"/>
                      </a:lnTo>
                      <a:lnTo>
                        <a:pt x="521" y="807"/>
                      </a:lnTo>
                      <a:lnTo>
                        <a:pt x="526" y="807"/>
                      </a:lnTo>
                      <a:lnTo>
                        <a:pt x="538" y="807"/>
                      </a:lnTo>
                      <a:lnTo>
                        <a:pt x="578" y="803"/>
                      </a:lnTo>
                      <a:lnTo>
                        <a:pt x="601" y="771"/>
                      </a:lnTo>
                      <a:lnTo>
                        <a:pt x="575" y="776"/>
                      </a:lnTo>
                      <a:lnTo>
                        <a:pt x="561" y="777"/>
                      </a:lnTo>
                      <a:lnTo>
                        <a:pt x="549" y="779"/>
                      </a:lnTo>
                      <a:lnTo>
                        <a:pt x="522" y="781"/>
                      </a:lnTo>
                      <a:lnTo>
                        <a:pt x="508" y="781"/>
                      </a:lnTo>
                      <a:lnTo>
                        <a:pt x="501" y="781"/>
                      </a:lnTo>
                      <a:lnTo>
                        <a:pt x="498" y="781"/>
                      </a:lnTo>
                      <a:lnTo>
                        <a:pt x="496" y="783"/>
                      </a:lnTo>
                      <a:lnTo>
                        <a:pt x="447" y="780"/>
                      </a:lnTo>
                      <a:lnTo>
                        <a:pt x="401" y="773"/>
                      </a:lnTo>
                      <a:lnTo>
                        <a:pt x="357" y="762"/>
                      </a:lnTo>
                      <a:lnTo>
                        <a:pt x="315" y="747"/>
                      </a:lnTo>
                      <a:lnTo>
                        <a:pt x="273" y="727"/>
                      </a:lnTo>
                      <a:lnTo>
                        <a:pt x="236" y="704"/>
                      </a:lnTo>
                      <a:lnTo>
                        <a:pt x="199" y="677"/>
                      </a:lnTo>
                      <a:lnTo>
                        <a:pt x="165" y="645"/>
                      </a:lnTo>
                      <a:lnTo>
                        <a:pt x="130" y="609"/>
                      </a:lnTo>
                      <a:lnTo>
                        <a:pt x="116" y="590"/>
                      </a:lnTo>
                      <a:lnTo>
                        <a:pt x="103" y="572"/>
                      </a:lnTo>
                      <a:lnTo>
                        <a:pt x="79" y="533"/>
                      </a:lnTo>
                      <a:lnTo>
                        <a:pt x="69" y="513"/>
                      </a:lnTo>
                      <a:lnTo>
                        <a:pt x="61" y="493"/>
                      </a:lnTo>
                      <a:lnTo>
                        <a:pt x="45" y="450"/>
                      </a:lnTo>
                      <a:lnTo>
                        <a:pt x="35" y="406"/>
                      </a:lnTo>
                      <a:lnTo>
                        <a:pt x="31" y="382"/>
                      </a:lnTo>
                      <a:lnTo>
                        <a:pt x="28" y="360"/>
                      </a:lnTo>
                      <a:lnTo>
                        <a:pt x="27" y="313"/>
                      </a:lnTo>
                      <a:lnTo>
                        <a:pt x="28" y="268"/>
                      </a:lnTo>
                      <a:lnTo>
                        <a:pt x="34" y="225"/>
                      </a:lnTo>
                      <a:lnTo>
                        <a:pt x="43" y="183"/>
                      </a:lnTo>
                      <a:lnTo>
                        <a:pt x="57" y="144"/>
                      </a:lnTo>
                      <a:lnTo>
                        <a:pt x="73" y="105"/>
                      </a:lnTo>
                      <a:lnTo>
                        <a:pt x="94" y="68"/>
                      </a:lnTo>
                      <a:lnTo>
                        <a:pt x="118" y="33"/>
                      </a:lnTo>
                      <a:lnTo>
                        <a:pt x="148" y="0"/>
                      </a:lnTo>
                      <a:lnTo>
                        <a:pt x="108" y="4"/>
                      </a:lnTo>
                      <a:close/>
                    </a:path>
                  </a:pathLst>
                </a:custGeom>
                <a:solidFill>
                  <a:srgbClr val="2f4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21960" y="2998080"/>
                  <a:ext cx="93240" cy="93960"/>
                </a:xfrm>
                <a:custGeom>
                  <a:avLst/>
                  <a:gdLst/>
                  <a:ahLst/>
                  <a:rect l="l" t="t" r="r" b="b"/>
                  <a:pathLst>
                    <a:path w="327" h="331">
                      <a:moveTo>
                        <a:pt x="203" y="4"/>
                      </a:moveTo>
                      <a:lnTo>
                        <a:pt x="185" y="1"/>
                      </a:lnTo>
                      <a:lnTo>
                        <a:pt x="166" y="0"/>
                      </a:lnTo>
                      <a:lnTo>
                        <a:pt x="133" y="2"/>
                      </a:lnTo>
                      <a:lnTo>
                        <a:pt x="102" y="11"/>
                      </a:lnTo>
                      <a:lnTo>
                        <a:pt x="74" y="26"/>
                      </a:lnTo>
                      <a:lnTo>
                        <a:pt x="60" y="36"/>
                      </a:lnTo>
                      <a:lnTo>
                        <a:pt x="49" y="48"/>
                      </a:lnTo>
                      <a:lnTo>
                        <a:pt x="36" y="60"/>
                      </a:lnTo>
                      <a:lnTo>
                        <a:pt x="26" y="73"/>
                      </a:lnTo>
                      <a:lnTo>
                        <a:pt x="11" y="102"/>
                      </a:lnTo>
                      <a:lnTo>
                        <a:pt x="2" y="132"/>
                      </a:lnTo>
                      <a:lnTo>
                        <a:pt x="0" y="165"/>
                      </a:lnTo>
                      <a:lnTo>
                        <a:pt x="0" y="181"/>
                      </a:lnTo>
                      <a:lnTo>
                        <a:pt x="2" y="198"/>
                      </a:lnTo>
                      <a:lnTo>
                        <a:pt x="6" y="213"/>
                      </a:lnTo>
                      <a:lnTo>
                        <a:pt x="11" y="229"/>
                      </a:lnTo>
                      <a:lnTo>
                        <a:pt x="17" y="242"/>
                      </a:lnTo>
                      <a:lnTo>
                        <a:pt x="26" y="256"/>
                      </a:lnTo>
                      <a:lnTo>
                        <a:pt x="36" y="268"/>
                      </a:lnTo>
                      <a:lnTo>
                        <a:pt x="49" y="282"/>
                      </a:lnTo>
                      <a:lnTo>
                        <a:pt x="60" y="292"/>
                      </a:lnTo>
                      <a:lnTo>
                        <a:pt x="74" y="302"/>
                      </a:lnTo>
                      <a:lnTo>
                        <a:pt x="102" y="318"/>
                      </a:lnTo>
                      <a:lnTo>
                        <a:pt x="133" y="327"/>
                      </a:lnTo>
                      <a:lnTo>
                        <a:pt x="149" y="330"/>
                      </a:lnTo>
                      <a:lnTo>
                        <a:pt x="166" y="331"/>
                      </a:lnTo>
                      <a:lnTo>
                        <a:pt x="181" y="330"/>
                      </a:lnTo>
                      <a:lnTo>
                        <a:pt x="198" y="327"/>
                      </a:lnTo>
                      <a:lnTo>
                        <a:pt x="213" y="323"/>
                      </a:lnTo>
                      <a:lnTo>
                        <a:pt x="229" y="318"/>
                      </a:lnTo>
                      <a:lnTo>
                        <a:pt x="243" y="310"/>
                      </a:lnTo>
                      <a:lnTo>
                        <a:pt x="249" y="306"/>
                      </a:lnTo>
                      <a:lnTo>
                        <a:pt x="253" y="303"/>
                      </a:lnTo>
                      <a:lnTo>
                        <a:pt x="257" y="302"/>
                      </a:lnTo>
                      <a:lnTo>
                        <a:pt x="260" y="299"/>
                      </a:lnTo>
                      <a:lnTo>
                        <a:pt x="263" y="297"/>
                      </a:lnTo>
                      <a:lnTo>
                        <a:pt x="270" y="292"/>
                      </a:lnTo>
                      <a:lnTo>
                        <a:pt x="284" y="282"/>
                      </a:lnTo>
                      <a:lnTo>
                        <a:pt x="290" y="273"/>
                      </a:lnTo>
                      <a:lnTo>
                        <a:pt x="297" y="265"/>
                      </a:lnTo>
                      <a:lnTo>
                        <a:pt x="303" y="256"/>
                      </a:lnTo>
                      <a:lnTo>
                        <a:pt x="310" y="248"/>
                      </a:lnTo>
                      <a:lnTo>
                        <a:pt x="314" y="238"/>
                      </a:lnTo>
                      <a:lnTo>
                        <a:pt x="319" y="229"/>
                      </a:lnTo>
                      <a:lnTo>
                        <a:pt x="319" y="225"/>
                      </a:lnTo>
                      <a:lnTo>
                        <a:pt x="320" y="223"/>
                      </a:lnTo>
                      <a:lnTo>
                        <a:pt x="322" y="218"/>
                      </a:lnTo>
                      <a:lnTo>
                        <a:pt x="327" y="209"/>
                      </a:lnTo>
                      <a:lnTo>
                        <a:pt x="315" y="178"/>
                      </a:lnTo>
                      <a:lnTo>
                        <a:pt x="303" y="146"/>
                      </a:lnTo>
                      <a:lnTo>
                        <a:pt x="303" y="155"/>
                      </a:lnTo>
                      <a:lnTo>
                        <a:pt x="303" y="159"/>
                      </a:lnTo>
                      <a:lnTo>
                        <a:pt x="303" y="162"/>
                      </a:lnTo>
                      <a:lnTo>
                        <a:pt x="303" y="163"/>
                      </a:lnTo>
                      <a:lnTo>
                        <a:pt x="304" y="165"/>
                      </a:lnTo>
                      <a:lnTo>
                        <a:pt x="303" y="167"/>
                      </a:lnTo>
                      <a:lnTo>
                        <a:pt x="303" y="171"/>
                      </a:lnTo>
                      <a:lnTo>
                        <a:pt x="303" y="178"/>
                      </a:lnTo>
                      <a:lnTo>
                        <a:pt x="301" y="191"/>
                      </a:lnTo>
                      <a:lnTo>
                        <a:pt x="298" y="197"/>
                      </a:lnTo>
                      <a:lnTo>
                        <a:pt x="297" y="204"/>
                      </a:lnTo>
                      <a:lnTo>
                        <a:pt x="294" y="217"/>
                      </a:lnTo>
                      <a:lnTo>
                        <a:pt x="287" y="229"/>
                      </a:lnTo>
                      <a:lnTo>
                        <a:pt x="280" y="241"/>
                      </a:lnTo>
                      <a:lnTo>
                        <a:pt x="276" y="246"/>
                      </a:lnTo>
                      <a:lnTo>
                        <a:pt x="273" y="248"/>
                      </a:lnTo>
                      <a:lnTo>
                        <a:pt x="272" y="248"/>
                      </a:lnTo>
                      <a:lnTo>
                        <a:pt x="272" y="249"/>
                      </a:lnTo>
                      <a:lnTo>
                        <a:pt x="272" y="251"/>
                      </a:lnTo>
                      <a:lnTo>
                        <a:pt x="263" y="263"/>
                      </a:lnTo>
                      <a:lnTo>
                        <a:pt x="252" y="272"/>
                      </a:lnTo>
                      <a:lnTo>
                        <a:pt x="249" y="272"/>
                      </a:lnTo>
                      <a:lnTo>
                        <a:pt x="248" y="272"/>
                      </a:lnTo>
                      <a:lnTo>
                        <a:pt x="248" y="273"/>
                      </a:lnTo>
                      <a:lnTo>
                        <a:pt x="246" y="275"/>
                      </a:lnTo>
                      <a:lnTo>
                        <a:pt x="242" y="280"/>
                      </a:lnTo>
                      <a:lnTo>
                        <a:pt x="229" y="286"/>
                      </a:lnTo>
                      <a:lnTo>
                        <a:pt x="218" y="293"/>
                      </a:lnTo>
                      <a:lnTo>
                        <a:pt x="204" y="297"/>
                      </a:lnTo>
                      <a:lnTo>
                        <a:pt x="197" y="298"/>
                      </a:lnTo>
                      <a:lnTo>
                        <a:pt x="192" y="300"/>
                      </a:lnTo>
                      <a:lnTo>
                        <a:pt x="178" y="302"/>
                      </a:lnTo>
                      <a:lnTo>
                        <a:pt x="171" y="302"/>
                      </a:lnTo>
                      <a:lnTo>
                        <a:pt x="168" y="302"/>
                      </a:lnTo>
                      <a:lnTo>
                        <a:pt x="166" y="303"/>
                      </a:lnTo>
                      <a:lnTo>
                        <a:pt x="151" y="302"/>
                      </a:lnTo>
                      <a:lnTo>
                        <a:pt x="137" y="300"/>
                      </a:lnTo>
                      <a:lnTo>
                        <a:pt x="112" y="293"/>
                      </a:lnTo>
                      <a:lnTo>
                        <a:pt x="88" y="280"/>
                      </a:lnTo>
                      <a:lnTo>
                        <a:pt x="77" y="272"/>
                      </a:lnTo>
                      <a:lnTo>
                        <a:pt x="68" y="263"/>
                      </a:lnTo>
                      <a:lnTo>
                        <a:pt x="58" y="251"/>
                      </a:lnTo>
                      <a:lnTo>
                        <a:pt x="50" y="241"/>
                      </a:lnTo>
                      <a:lnTo>
                        <a:pt x="42" y="229"/>
                      </a:lnTo>
                      <a:lnTo>
                        <a:pt x="37" y="217"/>
                      </a:lnTo>
                      <a:lnTo>
                        <a:pt x="33" y="204"/>
                      </a:lnTo>
                      <a:lnTo>
                        <a:pt x="31" y="191"/>
                      </a:lnTo>
                      <a:lnTo>
                        <a:pt x="28" y="178"/>
                      </a:lnTo>
                      <a:lnTo>
                        <a:pt x="28" y="165"/>
                      </a:lnTo>
                      <a:lnTo>
                        <a:pt x="31" y="137"/>
                      </a:lnTo>
                      <a:lnTo>
                        <a:pt x="37" y="112"/>
                      </a:lnTo>
                      <a:lnTo>
                        <a:pt x="50" y="88"/>
                      </a:lnTo>
                      <a:lnTo>
                        <a:pt x="68" y="68"/>
                      </a:lnTo>
                      <a:lnTo>
                        <a:pt x="88" y="50"/>
                      </a:lnTo>
                      <a:lnTo>
                        <a:pt x="112" y="37"/>
                      </a:lnTo>
                      <a:lnTo>
                        <a:pt x="137" y="30"/>
                      </a:lnTo>
                      <a:lnTo>
                        <a:pt x="166" y="28"/>
                      </a:lnTo>
                      <a:lnTo>
                        <a:pt x="187" y="29"/>
                      </a:lnTo>
                      <a:lnTo>
                        <a:pt x="208" y="34"/>
                      </a:lnTo>
                      <a:lnTo>
                        <a:pt x="227" y="42"/>
                      </a:lnTo>
                      <a:lnTo>
                        <a:pt x="236" y="46"/>
                      </a:lnTo>
                      <a:lnTo>
                        <a:pt x="246" y="53"/>
                      </a:lnTo>
                      <a:lnTo>
                        <a:pt x="225" y="27"/>
                      </a:lnTo>
                      <a:lnTo>
                        <a:pt x="203" y="4"/>
                      </a:lnTo>
                      <a:close/>
                    </a:path>
                  </a:pathLst>
                </a:custGeom>
                <a:solidFill>
                  <a:srgbClr val="568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29880" y="3006360"/>
                  <a:ext cx="78120" cy="78480"/>
                </a:xfrm>
                <a:custGeom>
                  <a:avLst/>
                  <a:gdLst/>
                  <a:ahLst/>
                  <a:rect l="l" t="t" r="r" b="b"/>
                  <a:pathLst>
                    <a:path w="276" h="275">
                      <a:moveTo>
                        <a:pt x="235" y="235"/>
                      </a:moveTo>
                      <a:lnTo>
                        <a:pt x="244" y="223"/>
                      </a:lnTo>
                      <a:lnTo>
                        <a:pt x="244" y="221"/>
                      </a:lnTo>
                      <a:lnTo>
                        <a:pt x="244" y="220"/>
                      </a:lnTo>
                      <a:lnTo>
                        <a:pt x="245" y="220"/>
                      </a:lnTo>
                      <a:lnTo>
                        <a:pt x="248" y="218"/>
                      </a:lnTo>
                      <a:lnTo>
                        <a:pt x="252" y="213"/>
                      </a:lnTo>
                      <a:lnTo>
                        <a:pt x="259" y="201"/>
                      </a:lnTo>
                      <a:lnTo>
                        <a:pt x="266" y="189"/>
                      </a:lnTo>
                      <a:lnTo>
                        <a:pt x="269" y="176"/>
                      </a:lnTo>
                      <a:lnTo>
                        <a:pt x="270" y="169"/>
                      </a:lnTo>
                      <a:lnTo>
                        <a:pt x="273" y="163"/>
                      </a:lnTo>
                      <a:lnTo>
                        <a:pt x="275" y="150"/>
                      </a:lnTo>
                      <a:lnTo>
                        <a:pt x="275" y="143"/>
                      </a:lnTo>
                      <a:lnTo>
                        <a:pt x="275" y="139"/>
                      </a:lnTo>
                      <a:lnTo>
                        <a:pt x="276" y="137"/>
                      </a:lnTo>
                      <a:lnTo>
                        <a:pt x="275" y="135"/>
                      </a:lnTo>
                      <a:lnTo>
                        <a:pt x="275" y="134"/>
                      </a:lnTo>
                      <a:lnTo>
                        <a:pt x="275" y="131"/>
                      </a:lnTo>
                      <a:lnTo>
                        <a:pt x="275" y="127"/>
                      </a:lnTo>
                      <a:lnTo>
                        <a:pt x="275" y="118"/>
                      </a:lnTo>
                      <a:lnTo>
                        <a:pt x="262" y="93"/>
                      </a:lnTo>
                      <a:lnTo>
                        <a:pt x="249" y="69"/>
                      </a:lnTo>
                      <a:lnTo>
                        <a:pt x="234" y="46"/>
                      </a:lnTo>
                      <a:lnTo>
                        <a:pt x="218" y="25"/>
                      </a:lnTo>
                      <a:lnTo>
                        <a:pt x="208" y="18"/>
                      </a:lnTo>
                      <a:lnTo>
                        <a:pt x="199" y="14"/>
                      </a:lnTo>
                      <a:lnTo>
                        <a:pt x="180" y="6"/>
                      </a:lnTo>
                      <a:lnTo>
                        <a:pt x="159" y="1"/>
                      </a:lnTo>
                      <a:lnTo>
                        <a:pt x="138" y="0"/>
                      </a:lnTo>
                      <a:lnTo>
                        <a:pt x="109" y="2"/>
                      </a:lnTo>
                      <a:lnTo>
                        <a:pt x="84" y="9"/>
                      </a:lnTo>
                      <a:lnTo>
                        <a:pt x="60" y="22"/>
                      </a:lnTo>
                      <a:lnTo>
                        <a:pt x="40" y="40"/>
                      </a:lnTo>
                      <a:lnTo>
                        <a:pt x="22" y="60"/>
                      </a:lnTo>
                      <a:lnTo>
                        <a:pt x="9" y="84"/>
                      </a:lnTo>
                      <a:lnTo>
                        <a:pt x="3" y="109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3" y="163"/>
                      </a:lnTo>
                      <a:lnTo>
                        <a:pt x="5" y="176"/>
                      </a:lnTo>
                      <a:lnTo>
                        <a:pt x="9" y="189"/>
                      </a:lnTo>
                      <a:lnTo>
                        <a:pt x="14" y="201"/>
                      </a:lnTo>
                      <a:lnTo>
                        <a:pt x="22" y="213"/>
                      </a:lnTo>
                      <a:lnTo>
                        <a:pt x="30" y="223"/>
                      </a:lnTo>
                      <a:lnTo>
                        <a:pt x="40" y="235"/>
                      </a:lnTo>
                      <a:lnTo>
                        <a:pt x="49" y="244"/>
                      </a:lnTo>
                      <a:lnTo>
                        <a:pt x="60" y="252"/>
                      </a:lnTo>
                      <a:lnTo>
                        <a:pt x="84" y="265"/>
                      </a:lnTo>
                      <a:lnTo>
                        <a:pt x="109" y="272"/>
                      </a:lnTo>
                      <a:lnTo>
                        <a:pt x="123" y="274"/>
                      </a:lnTo>
                      <a:lnTo>
                        <a:pt x="138" y="275"/>
                      </a:lnTo>
                      <a:lnTo>
                        <a:pt x="140" y="274"/>
                      </a:lnTo>
                      <a:lnTo>
                        <a:pt x="143" y="274"/>
                      </a:lnTo>
                      <a:lnTo>
                        <a:pt x="150" y="274"/>
                      </a:lnTo>
                      <a:lnTo>
                        <a:pt x="164" y="272"/>
                      </a:lnTo>
                      <a:lnTo>
                        <a:pt x="169" y="270"/>
                      </a:lnTo>
                      <a:lnTo>
                        <a:pt x="176" y="269"/>
                      </a:lnTo>
                      <a:lnTo>
                        <a:pt x="190" y="265"/>
                      </a:lnTo>
                      <a:lnTo>
                        <a:pt x="201" y="258"/>
                      </a:lnTo>
                      <a:lnTo>
                        <a:pt x="214" y="252"/>
                      </a:lnTo>
                      <a:lnTo>
                        <a:pt x="218" y="247"/>
                      </a:lnTo>
                      <a:lnTo>
                        <a:pt x="220" y="245"/>
                      </a:lnTo>
                      <a:lnTo>
                        <a:pt x="220" y="244"/>
                      </a:lnTo>
                      <a:lnTo>
                        <a:pt x="221" y="244"/>
                      </a:lnTo>
                      <a:lnTo>
                        <a:pt x="224" y="244"/>
                      </a:lnTo>
                      <a:lnTo>
                        <a:pt x="235" y="235"/>
                      </a:lnTo>
                      <a:close/>
                      <a:moveTo>
                        <a:pt x="60" y="215"/>
                      </a:moveTo>
                      <a:lnTo>
                        <a:pt x="51" y="206"/>
                      </a:lnTo>
                      <a:lnTo>
                        <a:pt x="45" y="198"/>
                      </a:lnTo>
                      <a:lnTo>
                        <a:pt x="39" y="188"/>
                      </a:lnTo>
                      <a:lnTo>
                        <a:pt x="36" y="179"/>
                      </a:lnTo>
                      <a:lnTo>
                        <a:pt x="29" y="159"/>
                      </a:lnTo>
                      <a:lnTo>
                        <a:pt x="28" y="137"/>
                      </a:lnTo>
                      <a:lnTo>
                        <a:pt x="29" y="114"/>
                      </a:lnTo>
                      <a:lnTo>
                        <a:pt x="36" y="94"/>
                      </a:lnTo>
                      <a:lnTo>
                        <a:pt x="45" y="75"/>
                      </a:lnTo>
                      <a:lnTo>
                        <a:pt x="60" y="59"/>
                      </a:lnTo>
                      <a:lnTo>
                        <a:pt x="76" y="44"/>
                      </a:lnTo>
                      <a:lnTo>
                        <a:pt x="96" y="35"/>
                      </a:lnTo>
                      <a:lnTo>
                        <a:pt x="115" y="28"/>
                      </a:lnTo>
                      <a:lnTo>
                        <a:pt x="138" y="27"/>
                      </a:lnTo>
                      <a:lnTo>
                        <a:pt x="159" y="28"/>
                      </a:lnTo>
                      <a:lnTo>
                        <a:pt x="180" y="35"/>
                      </a:lnTo>
                      <a:lnTo>
                        <a:pt x="189" y="39"/>
                      </a:lnTo>
                      <a:lnTo>
                        <a:pt x="199" y="44"/>
                      </a:lnTo>
                      <a:lnTo>
                        <a:pt x="216" y="59"/>
                      </a:lnTo>
                      <a:lnTo>
                        <a:pt x="229" y="75"/>
                      </a:lnTo>
                      <a:lnTo>
                        <a:pt x="240" y="94"/>
                      </a:lnTo>
                      <a:lnTo>
                        <a:pt x="246" y="114"/>
                      </a:lnTo>
                      <a:lnTo>
                        <a:pt x="249" y="137"/>
                      </a:lnTo>
                      <a:lnTo>
                        <a:pt x="248" y="142"/>
                      </a:lnTo>
                      <a:lnTo>
                        <a:pt x="248" y="147"/>
                      </a:lnTo>
                      <a:lnTo>
                        <a:pt x="246" y="159"/>
                      </a:lnTo>
                      <a:lnTo>
                        <a:pt x="240" y="179"/>
                      </a:lnTo>
                      <a:lnTo>
                        <a:pt x="234" y="188"/>
                      </a:lnTo>
                      <a:lnTo>
                        <a:pt x="229" y="198"/>
                      </a:lnTo>
                      <a:lnTo>
                        <a:pt x="223" y="206"/>
                      </a:lnTo>
                      <a:lnTo>
                        <a:pt x="216" y="215"/>
                      </a:lnTo>
                      <a:lnTo>
                        <a:pt x="207" y="222"/>
                      </a:lnTo>
                      <a:lnTo>
                        <a:pt x="199" y="229"/>
                      </a:lnTo>
                      <a:lnTo>
                        <a:pt x="189" y="234"/>
                      </a:lnTo>
                      <a:lnTo>
                        <a:pt x="180" y="239"/>
                      </a:lnTo>
                      <a:lnTo>
                        <a:pt x="159" y="246"/>
                      </a:lnTo>
                      <a:lnTo>
                        <a:pt x="148" y="247"/>
                      </a:lnTo>
                      <a:lnTo>
                        <a:pt x="142" y="247"/>
                      </a:lnTo>
                      <a:lnTo>
                        <a:pt x="138" y="248"/>
                      </a:lnTo>
                      <a:lnTo>
                        <a:pt x="115" y="246"/>
                      </a:lnTo>
                      <a:lnTo>
                        <a:pt x="96" y="239"/>
                      </a:lnTo>
                      <a:lnTo>
                        <a:pt x="76" y="229"/>
                      </a:lnTo>
                      <a:lnTo>
                        <a:pt x="60" y="215"/>
                      </a:lnTo>
                      <a:close/>
                    </a:path>
                  </a:pathLst>
                </a:custGeom>
                <a:solidFill>
                  <a:srgbClr val="598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37440" y="3014280"/>
                  <a:ext cx="63360" cy="62640"/>
                </a:xfrm>
                <a:custGeom>
                  <a:avLst/>
                  <a:gdLst/>
                  <a:ahLst/>
                  <a:rect l="l" t="t" r="r" b="b"/>
                  <a:pathLst>
                    <a:path w="221" h="221">
                      <a:moveTo>
                        <a:pt x="0" y="110"/>
                      </a:moveTo>
                      <a:lnTo>
                        <a:pt x="1" y="132"/>
                      </a:lnTo>
                      <a:lnTo>
                        <a:pt x="8" y="152"/>
                      </a:lnTo>
                      <a:lnTo>
                        <a:pt x="11" y="161"/>
                      </a:lnTo>
                      <a:lnTo>
                        <a:pt x="17" y="171"/>
                      </a:lnTo>
                      <a:lnTo>
                        <a:pt x="23" y="179"/>
                      </a:lnTo>
                      <a:lnTo>
                        <a:pt x="32" y="188"/>
                      </a:lnTo>
                      <a:lnTo>
                        <a:pt x="48" y="202"/>
                      </a:lnTo>
                      <a:lnTo>
                        <a:pt x="68" y="212"/>
                      </a:lnTo>
                      <a:lnTo>
                        <a:pt x="87" y="219"/>
                      </a:lnTo>
                      <a:lnTo>
                        <a:pt x="110" y="221"/>
                      </a:lnTo>
                      <a:lnTo>
                        <a:pt x="114" y="220"/>
                      </a:lnTo>
                      <a:lnTo>
                        <a:pt x="120" y="220"/>
                      </a:lnTo>
                      <a:lnTo>
                        <a:pt x="131" y="219"/>
                      </a:lnTo>
                      <a:lnTo>
                        <a:pt x="152" y="212"/>
                      </a:lnTo>
                      <a:lnTo>
                        <a:pt x="161" y="207"/>
                      </a:lnTo>
                      <a:lnTo>
                        <a:pt x="171" y="202"/>
                      </a:lnTo>
                      <a:lnTo>
                        <a:pt x="179" y="195"/>
                      </a:lnTo>
                      <a:lnTo>
                        <a:pt x="188" y="188"/>
                      </a:lnTo>
                      <a:lnTo>
                        <a:pt x="195" y="179"/>
                      </a:lnTo>
                      <a:lnTo>
                        <a:pt x="201" y="171"/>
                      </a:lnTo>
                      <a:lnTo>
                        <a:pt x="206" y="161"/>
                      </a:lnTo>
                      <a:lnTo>
                        <a:pt x="212" y="152"/>
                      </a:lnTo>
                      <a:lnTo>
                        <a:pt x="218" y="132"/>
                      </a:lnTo>
                      <a:lnTo>
                        <a:pt x="220" y="120"/>
                      </a:lnTo>
                      <a:lnTo>
                        <a:pt x="220" y="115"/>
                      </a:lnTo>
                      <a:lnTo>
                        <a:pt x="221" y="110"/>
                      </a:lnTo>
                      <a:lnTo>
                        <a:pt x="218" y="87"/>
                      </a:lnTo>
                      <a:lnTo>
                        <a:pt x="212" y="67"/>
                      </a:lnTo>
                      <a:lnTo>
                        <a:pt x="201" y="48"/>
                      </a:lnTo>
                      <a:lnTo>
                        <a:pt x="188" y="32"/>
                      </a:lnTo>
                      <a:lnTo>
                        <a:pt x="171" y="17"/>
                      </a:lnTo>
                      <a:lnTo>
                        <a:pt x="161" y="12"/>
                      </a:lnTo>
                      <a:lnTo>
                        <a:pt x="152" y="8"/>
                      </a:lnTo>
                      <a:lnTo>
                        <a:pt x="131" y="1"/>
                      </a:lnTo>
                      <a:lnTo>
                        <a:pt x="110" y="0"/>
                      </a:lnTo>
                      <a:lnTo>
                        <a:pt x="87" y="1"/>
                      </a:lnTo>
                      <a:lnTo>
                        <a:pt x="68" y="8"/>
                      </a:lnTo>
                      <a:lnTo>
                        <a:pt x="48" y="17"/>
                      </a:lnTo>
                      <a:lnTo>
                        <a:pt x="32" y="32"/>
                      </a:lnTo>
                      <a:lnTo>
                        <a:pt x="17" y="48"/>
                      </a:lnTo>
                      <a:lnTo>
                        <a:pt x="8" y="67"/>
                      </a:lnTo>
                      <a:lnTo>
                        <a:pt x="1" y="87"/>
                      </a:lnTo>
                      <a:lnTo>
                        <a:pt x="0" y="110"/>
                      </a:lnTo>
                      <a:close/>
                      <a:moveTo>
                        <a:pt x="52" y="169"/>
                      </a:moveTo>
                      <a:lnTo>
                        <a:pt x="40" y="156"/>
                      </a:lnTo>
                      <a:lnTo>
                        <a:pt x="34" y="142"/>
                      </a:lnTo>
                      <a:lnTo>
                        <a:pt x="29" y="126"/>
                      </a:lnTo>
                      <a:lnTo>
                        <a:pt x="28" y="110"/>
                      </a:lnTo>
                      <a:lnTo>
                        <a:pt x="29" y="93"/>
                      </a:lnTo>
                      <a:lnTo>
                        <a:pt x="34" y="78"/>
                      </a:lnTo>
                      <a:lnTo>
                        <a:pt x="40" y="64"/>
                      </a:lnTo>
                      <a:lnTo>
                        <a:pt x="52" y="52"/>
                      </a:lnTo>
                      <a:lnTo>
                        <a:pt x="63" y="41"/>
                      </a:lnTo>
                      <a:lnTo>
                        <a:pt x="78" y="33"/>
                      </a:lnTo>
                      <a:lnTo>
                        <a:pt x="93" y="29"/>
                      </a:lnTo>
                      <a:lnTo>
                        <a:pt x="110" y="27"/>
                      </a:lnTo>
                      <a:lnTo>
                        <a:pt x="125" y="29"/>
                      </a:lnTo>
                      <a:lnTo>
                        <a:pt x="141" y="33"/>
                      </a:lnTo>
                      <a:lnTo>
                        <a:pt x="155" y="41"/>
                      </a:lnTo>
                      <a:lnTo>
                        <a:pt x="169" y="52"/>
                      </a:lnTo>
                      <a:lnTo>
                        <a:pt x="178" y="64"/>
                      </a:lnTo>
                      <a:lnTo>
                        <a:pt x="186" y="78"/>
                      </a:lnTo>
                      <a:lnTo>
                        <a:pt x="190" y="93"/>
                      </a:lnTo>
                      <a:lnTo>
                        <a:pt x="192" y="110"/>
                      </a:lnTo>
                      <a:lnTo>
                        <a:pt x="190" y="126"/>
                      </a:lnTo>
                      <a:lnTo>
                        <a:pt x="186" y="142"/>
                      </a:lnTo>
                      <a:lnTo>
                        <a:pt x="178" y="156"/>
                      </a:lnTo>
                      <a:lnTo>
                        <a:pt x="169" y="169"/>
                      </a:lnTo>
                      <a:lnTo>
                        <a:pt x="155" y="178"/>
                      </a:lnTo>
                      <a:lnTo>
                        <a:pt x="141" y="186"/>
                      </a:lnTo>
                      <a:lnTo>
                        <a:pt x="125" y="191"/>
                      </a:lnTo>
                      <a:lnTo>
                        <a:pt x="110" y="193"/>
                      </a:lnTo>
                      <a:lnTo>
                        <a:pt x="93" y="191"/>
                      </a:lnTo>
                      <a:lnTo>
                        <a:pt x="78" y="186"/>
                      </a:lnTo>
                      <a:lnTo>
                        <a:pt x="63" y="178"/>
                      </a:lnTo>
                      <a:lnTo>
                        <a:pt x="52" y="169"/>
                      </a:lnTo>
                      <a:close/>
                    </a:path>
                  </a:pathLst>
                </a:custGeom>
                <a:solidFill>
                  <a:srgbClr val="5c8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445360" y="3021480"/>
                  <a:ext cx="47160" cy="47160"/>
                </a:xfrm>
                <a:custGeom>
                  <a:avLst/>
                  <a:gdLst/>
                  <a:ahLst/>
                  <a:rect l="l" t="t" r="r" b="b"/>
                  <a:pathLst>
                    <a:path w="164" h="166">
                      <a:moveTo>
                        <a:pt x="0" y="83"/>
                      </a:moveTo>
                      <a:lnTo>
                        <a:pt x="1" y="99"/>
                      </a:lnTo>
                      <a:lnTo>
                        <a:pt x="6" y="115"/>
                      </a:lnTo>
                      <a:lnTo>
                        <a:pt x="12" y="129"/>
                      </a:lnTo>
                      <a:lnTo>
                        <a:pt x="24" y="142"/>
                      </a:lnTo>
                      <a:lnTo>
                        <a:pt x="35" y="151"/>
                      </a:lnTo>
                      <a:lnTo>
                        <a:pt x="50" y="159"/>
                      </a:lnTo>
                      <a:lnTo>
                        <a:pt x="65" y="164"/>
                      </a:lnTo>
                      <a:lnTo>
                        <a:pt x="82" y="166"/>
                      </a:lnTo>
                      <a:lnTo>
                        <a:pt x="97" y="164"/>
                      </a:lnTo>
                      <a:lnTo>
                        <a:pt x="113" y="159"/>
                      </a:lnTo>
                      <a:lnTo>
                        <a:pt x="127" y="151"/>
                      </a:lnTo>
                      <a:lnTo>
                        <a:pt x="141" y="142"/>
                      </a:lnTo>
                      <a:lnTo>
                        <a:pt x="150" y="129"/>
                      </a:lnTo>
                      <a:lnTo>
                        <a:pt x="158" y="115"/>
                      </a:lnTo>
                      <a:lnTo>
                        <a:pt x="162" y="99"/>
                      </a:lnTo>
                      <a:lnTo>
                        <a:pt x="164" y="83"/>
                      </a:lnTo>
                      <a:lnTo>
                        <a:pt x="162" y="66"/>
                      </a:lnTo>
                      <a:lnTo>
                        <a:pt x="158" y="51"/>
                      </a:lnTo>
                      <a:lnTo>
                        <a:pt x="150" y="37"/>
                      </a:lnTo>
                      <a:lnTo>
                        <a:pt x="141" y="25"/>
                      </a:lnTo>
                      <a:lnTo>
                        <a:pt x="127" y="14"/>
                      </a:lnTo>
                      <a:lnTo>
                        <a:pt x="113" y="6"/>
                      </a:lnTo>
                      <a:lnTo>
                        <a:pt x="97" y="2"/>
                      </a:lnTo>
                      <a:lnTo>
                        <a:pt x="82" y="0"/>
                      </a:lnTo>
                      <a:lnTo>
                        <a:pt x="65" y="2"/>
                      </a:lnTo>
                      <a:lnTo>
                        <a:pt x="50" y="6"/>
                      </a:lnTo>
                      <a:lnTo>
                        <a:pt x="35" y="14"/>
                      </a:lnTo>
                      <a:lnTo>
                        <a:pt x="24" y="25"/>
                      </a:lnTo>
                      <a:lnTo>
                        <a:pt x="12" y="37"/>
                      </a:lnTo>
                      <a:lnTo>
                        <a:pt x="6" y="51"/>
                      </a:lnTo>
                      <a:lnTo>
                        <a:pt x="1" y="66"/>
                      </a:lnTo>
                      <a:lnTo>
                        <a:pt x="0" y="83"/>
                      </a:lnTo>
                      <a:close/>
                      <a:moveTo>
                        <a:pt x="82" y="29"/>
                      </a:moveTo>
                      <a:lnTo>
                        <a:pt x="92" y="29"/>
                      </a:lnTo>
                      <a:lnTo>
                        <a:pt x="102" y="32"/>
                      </a:lnTo>
                      <a:lnTo>
                        <a:pt x="111" y="37"/>
                      </a:lnTo>
                      <a:lnTo>
                        <a:pt x="121" y="45"/>
                      </a:lnTo>
                      <a:lnTo>
                        <a:pt x="127" y="53"/>
                      </a:lnTo>
                      <a:lnTo>
                        <a:pt x="133" y="62"/>
                      </a:lnTo>
                      <a:lnTo>
                        <a:pt x="136" y="72"/>
                      </a:lnTo>
                      <a:lnTo>
                        <a:pt x="137" y="83"/>
                      </a:lnTo>
                      <a:lnTo>
                        <a:pt x="136" y="88"/>
                      </a:lnTo>
                      <a:lnTo>
                        <a:pt x="136" y="93"/>
                      </a:lnTo>
                      <a:lnTo>
                        <a:pt x="134" y="98"/>
                      </a:lnTo>
                      <a:lnTo>
                        <a:pt x="133" y="100"/>
                      </a:lnTo>
                      <a:lnTo>
                        <a:pt x="133" y="104"/>
                      </a:lnTo>
                      <a:lnTo>
                        <a:pt x="127" y="113"/>
                      </a:lnTo>
                      <a:lnTo>
                        <a:pt x="124" y="117"/>
                      </a:lnTo>
                      <a:lnTo>
                        <a:pt x="121" y="123"/>
                      </a:lnTo>
                      <a:lnTo>
                        <a:pt x="116" y="125"/>
                      </a:lnTo>
                      <a:lnTo>
                        <a:pt x="111" y="129"/>
                      </a:lnTo>
                      <a:lnTo>
                        <a:pt x="102" y="134"/>
                      </a:lnTo>
                      <a:lnTo>
                        <a:pt x="99" y="134"/>
                      </a:lnTo>
                      <a:lnTo>
                        <a:pt x="96" y="135"/>
                      </a:lnTo>
                      <a:lnTo>
                        <a:pt x="92" y="138"/>
                      </a:lnTo>
                      <a:lnTo>
                        <a:pt x="86" y="138"/>
                      </a:lnTo>
                      <a:lnTo>
                        <a:pt x="82" y="139"/>
                      </a:lnTo>
                      <a:lnTo>
                        <a:pt x="70" y="138"/>
                      </a:lnTo>
                      <a:lnTo>
                        <a:pt x="60" y="134"/>
                      </a:lnTo>
                      <a:lnTo>
                        <a:pt x="51" y="129"/>
                      </a:lnTo>
                      <a:lnTo>
                        <a:pt x="43" y="123"/>
                      </a:lnTo>
                      <a:lnTo>
                        <a:pt x="35" y="113"/>
                      </a:lnTo>
                      <a:lnTo>
                        <a:pt x="31" y="104"/>
                      </a:lnTo>
                      <a:lnTo>
                        <a:pt x="27" y="93"/>
                      </a:lnTo>
                      <a:lnTo>
                        <a:pt x="27" y="83"/>
                      </a:lnTo>
                      <a:lnTo>
                        <a:pt x="31" y="62"/>
                      </a:lnTo>
                      <a:lnTo>
                        <a:pt x="43" y="45"/>
                      </a:lnTo>
                      <a:lnTo>
                        <a:pt x="60" y="32"/>
                      </a:lnTo>
                      <a:lnTo>
                        <a:pt x="82" y="29"/>
                      </a:lnTo>
                      <a:close/>
                    </a:path>
                  </a:pathLst>
                </a:custGeom>
                <a:solidFill>
                  <a:srgbClr val="5f8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453280" y="3029760"/>
                  <a:ext cx="31320" cy="3132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94" y="16"/>
                      </a:moveTo>
                      <a:lnTo>
                        <a:pt x="84" y="8"/>
                      </a:lnTo>
                      <a:lnTo>
                        <a:pt x="75" y="3"/>
                      </a:lnTo>
                      <a:lnTo>
                        <a:pt x="65" y="0"/>
                      </a:lnTo>
                      <a:lnTo>
                        <a:pt x="55" y="0"/>
                      </a:lnTo>
                      <a:lnTo>
                        <a:pt x="33" y="3"/>
                      </a:lnTo>
                      <a:lnTo>
                        <a:pt x="16" y="16"/>
                      </a:lnTo>
                      <a:lnTo>
                        <a:pt x="4" y="33"/>
                      </a:lnTo>
                      <a:lnTo>
                        <a:pt x="0" y="54"/>
                      </a:lnTo>
                      <a:lnTo>
                        <a:pt x="0" y="64"/>
                      </a:lnTo>
                      <a:lnTo>
                        <a:pt x="4" y="75"/>
                      </a:lnTo>
                      <a:lnTo>
                        <a:pt x="8" y="84"/>
                      </a:lnTo>
                      <a:lnTo>
                        <a:pt x="16" y="94"/>
                      </a:lnTo>
                      <a:lnTo>
                        <a:pt x="24" y="100"/>
                      </a:lnTo>
                      <a:lnTo>
                        <a:pt x="33" y="105"/>
                      </a:lnTo>
                      <a:lnTo>
                        <a:pt x="43" y="109"/>
                      </a:lnTo>
                      <a:lnTo>
                        <a:pt x="55" y="110"/>
                      </a:lnTo>
                      <a:lnTo>
                        <a:pt x="59" y="109"/>
                      </a:lnTo>
                      <a:lnTo>
                        <a:pt x="65" y="109"/>
                      </a:lnTo>
                      <a:lnTo>
                        <a:pt x="69" y="106"/>
                      </a:lnTo>
                      <a:lnTo>
                        <a:pt x="72" y="105"/>
                      </a:lnTo>
                      <a:lnTo>
                        <a:pt x="75" y="105"/>
                      </a:lnTo>
                      <a:lnTo>
                        <a:pt x="84" y="100"/>
                      </a:lnTo>
                      <a:lnTo>
                        <a:pt x="89" y="96"/>
                      </a:lnTo>
                      <a:lnTo>
                        <a:pt x="94" y="94"/>
                      </a:lnTo>
                      <a:lnTo>
                        <a:pt x="97" y="88"/>
                      </a:lnTo>
                      <a:lnTo>
                        <a:pt x="100" y="84"/>
                      </a:lnTo>
                      <a:lnTo>
                        <a:pt x="106" y="75"/>
                      </a:lnTo>
                      <a:lnTo>
                        <a:pt x="106" y="71"/>
                      </a:lnTo>
                      <a:lnTo>
                        <a:pt x="107" y="69"/>
                      </a:lnTo>
                      <a:lnTo>
                        <a:pt x="109" y="64"/>
                      </a:lnTo>
                      <a:lnTo>
                        <a:pt x="109" y="59"/>
                      </a:lnTo>
                      <a:lnTo>
                        <a:pt x="110" y="54"/>
                      </a:lnTo>
                      <a:lnTo>
                        <a:pt x="109" y="43"/>
                      </a:lnTo>
                      <a:lnTo>
                        <a:pt x="106" y="33"/>
                      </a:lnTo>
                      <a:lnTo>
                        <a:pt x="100" y="24"/>
                      </a:lnTo>
                      <a:lnTo>
                        <a:pt x="94" y="16"/>
                      </a:lnTo>
                      <a:close/>
                      <a:moveTo>
                        <a:pt x="55" y="27"/>
                      </a:moveTo>
                      <a:lnTo>
                        <a:pt x="65" y="28"/>
                      </a:lnTo>
                      <a:lnTo>
                        <a:pt x="69" y="30"/>
                      </a:lnTo>
                      <a:lnTo>
                        <a:pt x="75" y="35"/>
                      </a:lnTo>
                      <a:lnTo>
                        <a:pt x="81" y="43"/>
                      </a:lnTo>
                      <a:lnTo>
                        <a:pt x="83" y="54"/>
                      </a:lnTo>
                      <a:lnTo>
                        <a:pt x="82" y="59"/>
                      </a:lnTo>
                      <a:lnTo>
                        <a:pt x="81" y="61"/>
                      </a:lnTo>
                      <a:lnTo>
                        <a:pt x="81" y="64"/>
                      </a:lnTo>
                      <a:lnTo>
                        <a:pt x="77" y="69"/>
                      </a:lnTo>
                      <a:lnTo>
                        <a:pt x="75" y="73"/>
                      </a:lnTo>
                      <a:lnTo>
                        <a:pt x="69" y="76"/>
                      </a:lnTo>
                      <a:lnTo>
                        <a:pt x="65" y="79"/>
                      </a:lnTo>
                      <a:lnTo>
                        <a:pt x="61" y="79"/>
                      </a:lnTo>
                      <a:lnTo>
                        <a:pt x="59" y="80"/>
                      </a:lnTo>
                      <a:lnTo>
                        <a:pt x="55" y="81"/>
                      </a:lnTo>
                      <a:lnTo>
                        <a:pt x="43" y="79"/>
                      </a:lnTo>
                      <a:lnTo>
                        <a:pt x="35" y="73"/>
                      </a:lnTo>
                      <a:lnTo>
                        <a:pt x="31" y="69"/>
                      </a:lnTo>
                      <a:lnTo>
                        <a:pt x="29" y="64"/>
                      </a:lnTo>
                      <a:lnTo>
                        <a:pt x="27" y="54"/>
                      </a:lnTo>
                      <a:lnTo>
                        <a:pt x="29" y="43"/>
                      </a:lnTo>
                      <a:lnTo>
                        <a:pt x="35" y="35"/>
                      </a:lnTo>
                      <a:lnTo>
                        <a:pt x="43" y="28"/>
                      </a:lnTo>
                      <a:lnTo>
                        <a:pt x="55" y="27"/>
                      </a:lnTo>
                      <a:close/>
                    </a:path>
                  </a:pathLst>
                </a:custGeom>
                <a:solidFill>
                  <a:srgbClr val="62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461560" y="3037680"/>
                  <a:ext cx="15120" cy="15120"/>
                </a:xfrm>
                <a:custGeom>
                  <a:avLst/>
                  <a:gdLst/>
                  <a:ahLst/>
                  <a:rect l="l" t="t" r="r" b="b"/>
                  <a:pathLst>
                    <a:path w="56" h="54">
                      <a:moveTo>
                        <a:pt x="48" y="8"/>
                      </a:moveTo>
                      <a:lnTo>
                        <a:pt x="42" y="3"/>
                      </a:lnTo>
                      <a:lnTo>
                        <a:pt x="38" y="1"/>
                      </a:lnTo>
                      <a:lnTo>
                        <a:pt x="28" y="0"/>
                      </a:lnTo>
                      <a:lnTo>
                        <a:pt x="16" y="1"/>
                      </a:lnTo>
                      <a:lnTo>
                        <a:pt x="8" y="8"/>
                      </a:lnTo>
                      <a:lnTo>
                        <a:pt x="2" y="16"/>
                      </a:lnTo>
                      <a:lnTo>
                        <a:pt x="0" y="27"/>
                      </a:lnTo>
                      <a:lnTo>
                        <a:pt x="2" y="37"/>
                      </a:lnTo>
                      <a:lnTo>
                        <a:pt x="4" y="42"/>
                      </a:lnTo>
                      <a:lnTo>
                        <a:pt x="8" y="46"/>
                      </a:lnTo>
                      <a:lnTo>
                        <a:pt x="16" y="52"/>
                      </a:lnTo>
                      <a:lnTo>
                        <a:pt x="28" y="54"/>
                      </a:lnTo>
                      <a:lnTo>
                        <a:pt x="32" y="53"/>
                      </a:lnTo>
                      <a:lnTo>
                        <a:pt x="34" y="52"/>
                      </a:lnTo>
                      <a:lnTo>
                        <a:pt x="38" y="52"/>
                      </a:lnTo>
                      <a:lnTo>
                        <a:pt x="42" y="49"/>
                      </a:lnTo>
                      <a:lnTo>
                        <a:pt x="48" y="46"/>
                      </a:lnTo>
                      <a:lnTo>
                        <a:pt x="50" y="42"/>
                      </a:lnTo>
                      <a:lnTo>
                        <a:pt x="54" y="37"/>
                      </a:lnTo>
                      <a:lnTo>
                        <a:pt x="54" y="34"/>
                      </a:lnTo>
                      <a:lnTo>
                        <a:pt x="55" y="32"/>
                      </a:lnTo>
                      <a:lnTo>
                        <a:pt x="56" y="27"/>
                      </a:lnTo>
                      <a:lnTo>
                        <a:pt x="54" y="16"/>
                      </a:lnTo>
                      <a:lnTo>
                        <a:pt x="48" y="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232600" y="3110760"/>
                  <a:ext cx="68400" cy="111600"/>
                </a:xfrm>
                <a:custGeom>
                  <a:avLst/>
                  <a:gdLst/>
                  <a:ahLst/>
                  <a:rect l="l" t="t" r="r" b="b"/>
                  <a:pathLst>
                    <a:path w="239" h="393">
                      <a:moveTo>
                        <a:pt x="239" y="393"/>
                      </a:moveTo>
                      <a:lnTo>
                        <a:pt x="230" y="384"/>
                      </a:lnTo>
                      <a:lnTo>
                        <a:pt x="226" y="380"/>
                      </a:lnTo>
                      <a:lnTo>
                        <a:pt x="223" y="378"/>
                      </a:lnTo>
                      <a:lnTo>
                        <a:pt x="222" y="376"/>
                      </a:lnTo>
                      <a:lnTo>
                        <a:pt x="181" y="333"/>
                      </a:lnTo>
                      <a:lnTo>
                        <a:pt x="145" y="290"/>
                      </a:lnTo>
                      <a:lnTo>
                        <a:pt x="112" y="245"/>
                      </a:lnTo>
                      <a:lnTo>
                        <a:pt x="84" y="200"/>
                      </a:lnTo>
                      <a:lnTo>
                        <a:pt x="69" y="175"/>
                      </a:lnTo>
                      <a:lnTo>
                        <a:pt x="57" y="151"/>
                      </a:lnTo>
                      <a:lnTo>
                        <a:pt x="44" y="126"/>
                      </a:lnTo>
                      <a:lnTo>
                        <a:pt x="34" y="102"/>
                      </a:lnTo>
                      <a:lnTo>
                        <a:pt x="15" y="51"/>
                      </a:lnTo>
                      <a:lnTo>
                        <a:pt x="0" y="0"/>
                      </a:lnTo>
                      <a:lnTo>
                        <a:pt x="3" y="44"/>
                      </a:lnTo>
                      <a:lnTo>
                        <a:pt x="7" y="66"/>
                      </a:lnTo>
                      <a:lnTo>
                        <a:pt x="13" y="88"/>
                      </a:lnTo>
                      <a:lnTo>
                        <a:pt x="25" y="130"/>
                      </a:lnTo>
                      <a:lnTo>
                        <a:pt x="42" y="171"/>
                      </a:lnTo>
                      <a:lnTo>
                        <a:pt x="61" y="210"/>
                      </a:lnTo>
                      <a:lnTo>
                        <a:pt x="86" y="248"/>
                      </a:lnTo>
                      <a:lnTo>
                        <a:pt x="115" y="285"/>
                      </a:lnTo>
                      <a:lnTo>
                        <a:pt x="147" y="320"/>
                      </a:lnTo>
                      <a:lnTo>
                        <a:pt x="169" y="340"/>
                      </a:lnTo>
                      <a:lnTo>
                        <a:pt x="192" y="359"/>
                      </a:lnTo>
                      <a:lnTo>
                        <a:pt x="214" y="376"/>
                      </a:lnTo>
                      <a:lnTo>
                        <a:pt x="239" y="393"/>
                      </a:lnTo>
                      <a:close/>
                    </a:path>
                  </a:pathLst>
                </a:custGeom>
                <a:solidFill>
                  <a:srgbClr val="020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232240" y="3075840"/>
                  <a:ext cx="96480" cy="159840"/>
                </a:xfrm>
                <a:custGeom>
                  <a:avLst/>
                  <a:gdLst/>
                  <a:ahLst/>
                  <a:rect l="l" t="t" r="r" b="b"/>
                  <a:pathLst>
                    <a:path w="338" h="561">
                      <a:moveTo>
                        <a:pt x="223" y="497"/>
                      </a:moveTo>
                      <a:lnTo>
                        <a:pt x="224" y="499"/>
                      </a:lnTo>
                      <a:lnTo>
                        <a:pt x="227" y="501"/>
                      </a:lnTo>
                      <a:lnTo>
                        <a:pt x="231" y="505"/>
                      </a:lnTo>
                      <a:lnTo>
                        <a:pt x="240" y="514"/>
                      </a:lnTo>
                      <a:lnTo>
                        <a:pt x="263" y="528"/>
                      </a:lnTo>
                      <a:lnTo>
                        <a:pt x="287" y="541"/>
                      </a:lnTo>
                      <a:lnTo>
                        <a:pt x="338" y="561"/>
                      </a:lnTo>
                      <a:lnTo>
                        <a:pt x="313" y="542"/>
                      </a:lnTo>
                      <a:lnTo>
                        <a:pt x="289" y="521"/>
                      </a:lnTo>
                      <a:lnTo>
                        <a:pt x="243" y="478"/>
                      </a:lnTo>
                      <a:lnTo>
                        <a:pt x="216" y="451"/>
                      </a:lnTo>
                      <a:lnTo>
                        <a:pt x="194" y="425"/>
                      </a:lnTo>
                      <a:lnTo>
                        <a:pt x="171" y="398"/>
                      </a:lnTo>
                      <a:lnTo>
                        <a:pt x="151" y="372"/>
                      </a:lnTo>
                      <a:lnTo>
                        <a:pt x="130" y="342"/>
                      </a:lnTo>
                      <a:lnTo>
                        <a:pt x="113" y="314"/>
                      </a:lnTo>
                      <a:lnTo>
                        <a:pt x="96" y="284"/>
                      </a:lnTo>
                      <a:lnTo>
                        <a:pt x="82" y="256"/>
                      </a:lnTo>
                      <a:lnTo>
                        <a:pt x="67" y="224"/>
                      </a:lnTo>
                      <a:lnTo>
                        <a:pt x="54" y="194"/>
                      </a:lnTo>
                      <a:lnTo>
                        <a:pt x="42" y="162"/>
                      </a:lnTo>
                      <a:lnTo>
                        <a:pt x="33" y="131"/>
                      </a:lnTo>
                      <a:lnTo>
                        <a:pt x="24" y="98"/>
                      </a:lnTo>
                      <a:lnTo>
                        <a:pt x="17" y="67"/>
                      </a:lnTo>
                      <a:lnTo>
                        <a:pt x="10" y="33"/>
                      </a:lnTo>
                      <a:lnTo>
                        <a:pt x="7" y="0"/>
                      </a:lnTo>
                      <a:lnTo>
                        <a:pt x="1" y="41"/>
                      </a:lnTo>
                      <a:lnTo>
                        <a:pt x="0" y="84"/>
                      </a:lnTo>
                      <a:lnTo>
                        <a:pt x="1" y="121"/>
                      </a:lnTo>
                      <a:lnTo>
                        <a:pt x="16" y="172"/>
                      </a:lnTo>
                      <a:lnTo>
                        <a:pt x="35" y="223"/>
                      </a:lnTo>
                      <a:lnTo>
                        <a:pt x="45" y="247"/>
                      </a:lnTo>
                      <a:lnTo>
                        <a:pt x="58" y="272"/>
                      </a:lnTo>
                      <a:lnTo>
                        <a:pt x="70" y="296"/>
                      </a:lnTo>
                      <a:lnTo>
                        <a:pt x="85" y="321"/>
                      </a:lnTo>
                      <a:lnTo>
                        <a:pt x="113" y="366"/>
                      </a:lnTo>
                      <a:lnTo>
                        <a:pt x="146" y="411"/>
                      </a:lnTo>
                      <a:lnTo>
                        <a:pt x="182" y="454"/>
                      </a:lnTo>
                      <a:lnTo>
                        <a:pt x="223" y="497"/>
                      </a:lnTo>
                      <a:close/>
                    </a:path>
                  </a:pathLst>
                </a:custGeom>
                <a:solidFill>
                  <a:srgbClr val="060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34400" y="3051360"/>
                  <a:ext cx="117000" cy="190800"/>
                </a:xfrm>
                <a:custGeom>
                  <a:avLst/>
                  <a:gdLst/>
                  <a:ahLst/>
                  <a:rect l="l" t="t" r="r" b="b"/>
                  <a:pathLst>
                    <a:path w="409" h="667">
                      <a:moveTo>
                        <a:pt x="236" y="564"/>
                      </a:moveTo>
                      <a:lnTo>
                        <a:pt x="282" y="607"/>
                      </a:lnTo>
                      <a:lnTo>
                        <a:pt x="306" y="628"/>
                      </a:lnTo>
                      <a:lnTo>
                        <a:pt x="331" y="647"/>
                      </a:lnTo>
                      <a:lnTo>
                        <a:pt x="368" y="657"/>
                      </a:lnTo>
                      <a:lnTo>
                        <a:pt x="409" y="667"/>
                      </a:lnTo>
                      <a:lnTo>
                        <a:pt x="368" y="639"/>
                      </a:lnTo>
                      <a:lnTo>
                        <a:pt x="330" y="611"/>
                      </a:lnTo>
                      <a:lnTo>
                        <a:pt x="291" y="578"/>
                      </a:lnTo>
                      <a:lnTo>
                        <a:pt x="256" y="545"/>
                      </a:lnTo>
                      <a:lnTo>
                        <a:pt x="228" y="515"/>
                      </a:lnTo>
                      <a:lnTo>
                        <a:pt x="202" y="486"/>
                      </a:lnTo>
                      <a:lnTo>
                        <a:pt x="177" y="455"/>
                      </a:lnTo>
                      <a:lnTo>
                        <a:pt x="155" y="425"/>
                      </a:lnTo>
                      <a:lnTo>
                        <a:pt x="133" y="392"/>
                      </a:lnTo>
                      <a:lnTo>
                        <a:pt x="115" y="360"/>
                      </a:lnTo>
                      <a:lnTo>
                        <a:pt x="97" y="327"/>
                      </a:lnTo>
                      <a:lnTo>
                        <a:pt x="82" y="294"/>
                      </a:lnTo>
                      <a:lnTo>
                        <a:pt x="68" y="259"/>
                      </a:lnTo>
                      <a:lnTo>
                        <a:pt x="56" y="224"/>
                      </a:lnTo>
                      <a:lnTo>
                        <a:pt x="45" y="188"/>
                      </a:lnTo>
                      <a:lnTo>
                        <a:pt x="37" y="153"/>
                      </a:lnTo>
                      <a:lnTo>
                        <a:pt x="29" y="114"/>
                      </a:lnTo>
                      <a:lnTo>
                        <a:pt x="25" y="77"/>
                      </a:lnTo>
                      <a:lnTo>
                        <a:pt x="21" y="38"/>
                      </a:lnTo>
                      <a:lnTo>
                        <a:pt x="21" y="0"/>
                      </a:lnTo>
                      <a:lnTo>
                        <a:pt x="8" y="42"/>
                      </a:lnTo>
                      <a:lnTo>
                        <a:pt x="0" y="86"/>
                      </a:lnTo>
                      <a:lnTo>
                        <a:pt x="3" y="119"/>
                      </a:lnTo>
                      <a:lnTo>
                        <a:pt x="10" y="153"/>
                      </a:lnTo>
                      <a:lnTo>
                        <a:pt x="17" y="184"/>
                      </a:lnTo>
                      <a:lnTo>
                        <a:pt x="26" y="217"/>
                      </a:lnTo>
                      <a:lnTo>
                        <a:pt x="35" y="248"/>
                      </a:lnTo>
                      <a:lnTo>
                        <a:pt x="47" y="280"/>
                      </a:lnTo>
                      <a:lnTo>
                        <a:pt x="60" y="310"/>
                      </a:lnTo>
                      <a:lnTo>
                        <a:pt x="75" y="342"/>
                      </a:lnTo>
                      <a:lnTo>
                        <a:pt x="89" y="370"/>
                      </a:lnTo>
                      <a:lnTo>
                        <a:pt x="106" y="400"/>
                      </a:lnTo>
                      <a:lnTo>
                        <a:pt x="123" y="428"/>
                      </a:lnTo>
                      <a:lnTo>
                        <a:pt x="144" y="458"/>
                      </a:lnTo>
                      <a:lnTo>
                        <a:pt x="164" y="484"/>
                      </a:lnTo>
                      <a:lnTo>
                        <a:pt x="187" y="511"/>
                      </a:lnTo>
                      <a:lnTo>
                        <a:pt x="209" y="537"/>
                      </a:lnTo>
                      <a:lnTo>
                        <a:pt x="236" y="564"/>
                      </a:lnTo>
                      <a:close/>
                    </a:path>
                  </a:pathLst>
                </a:custGeom>
                <a:solidFill>
                  <a:srgbClr val="090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232240" y="2955960"/>
                  <a:ext cx="288720" cy="287640"/>
                </a:xfrm>
                <a:custGeom>
                  <a:avLst/>
                  <a:gdLst/>
                  <a:ahLst/>
                  <a:rect l="l" t="t" r="r" b="b"/>
                  <a:pathLst>
                    <a:path w="1009" h="1008">
                      <a:moveTo>
                        <a:pt x="148" y="148"/>
                      </a:moveTo>
                      <a:lnTo>
                        <a:pt x="112" y="185"/>
                      </a:lnTo>
                      <a:lnTo>
                        <a:pt x="83" y="225"/>
                      </a:lnTo>
                      <a:lnTo>
                        <a:pt x="57" y="266"/>
                      </a:lnTo>
                      <a:lnTo>
                        <a:pt x="36" y="310"/>
                      </a:lnTo>
                      <a:lnTo>
                        <a:pt x="20" y="354"/>
                      </a:lnTo>
                      <a:lnTo>
                        <a:pt x="9" y="403"/>
                      </a:lnTo>
                      <a:lnTo>
                        <a:pt x="2" y="451"/>
                      </a:lnTo>
                      <a:lnTo>
                        <a:pt x="0" y="504"/>
                      </a:lnTo>
                      <a:lnTo>
                        <a:pt x="0" y="529"/>
                      </a:lnTo>
                      <a:lnTo>
                        <a:pt x="2" y="555"/>
                      </a:lnTo>
                      <a:lnTo>
                        <a:pt x="4" y="578"/>
                      </a:lnTo>
                      <a:lnTo>
                        <a:pt x="9" y="603"/>
                      </a:lnTo>
                      <a:lnTo>
                        <a:pt x="14" y="626"/>
                      </a:lnTo>
                      <a:lnTo>
                        <a:pt x="20" y="650"/>
                      </a:lnTo>
                      <a:lnTo>
                        <a:pt x="27" y="673"/>
                      </a:lnTo>
                      <a:lnTo>
                        <a:pt x="36" y="696"/>
                      </a:lnTo>
                      <a:lnTo>
                        <a:pt x="57" y="739"/>
                      </a:lnTo>
                      <a:lnTo>
                        <a:pt x="68" y="760"/>
                      </a:lnTo>
                      <a:lnTo>
                        <a:pt x="83" y="781"/>
                      </a:lnTo>
                      <a:lnTo>
                        <a:pt x="96" y="801"/>
                      </a:lnTo>
                      <a:lnTo>
                        <a:pt x="112" y="821"/>
                      </a:lnTo>
                      <a:lnTo>
                        <a:pt x="129" y="840"/>
                      </a:lnTo>
                      <a:lnTo>
                        <a:pt x="148" y="861"/>
                      </a:lnTo>
                      <a:lnTo>
                        <a:pt x="186" y="895"/>
                      </a:lnTo>
                      <a:lnTo>
                        <a:pt x="226" y="924"/>
                      </a:lnTo>
                      <a:lnTo>
                        <a:pt x="266" y="949"/>
                      </a:lnTo>
                      <a:lnTo>
                        <a:pt x="288" y="961"/>
                      </a:lnTo>
                      <a:lnTo>
                        <a:pt x="311" y="971"/>
                      </a:lnTo>
                      <a:lnTo>
                        <a:pt x="355" y="987"/>
                      </a:lnTo>
                      <a:lnTo>
                        <a:pt x="404" y="998"/>
                      </a:lnTo>
                      <a:lnTo>
                        <a:pt x="452" y="1005"/>
                      </a:lnTo>
                      <a:lnTo>
                        <a:pt x="477" y="1007"/>
                      </a:lnTo>
                      <a:lnTo>
                        <a:pt x="504" y="1008"/>
                      </a:lnTo>
                      <a:lnTo>
                        <a:pt x="529" y="1007"/>
                      </a:lnTo>
                      <a:lnTo>
                        <a:pt x="555" y="1005"/>
                      </a:lnTo>
                      <a:lnTo>
                        <a:pt x="567" y="1003"/>
                      </a:lnTo>
                      <a:lnTo>
                        <a:pt x="569" y="1001"/>
                      </a:lnTo>
                      <a:lnTo>
                        <a:pt x="572" y="1001"/>
                      </a:lnTo>
                      <a:lnTo>
                        <a:pt x="579" y="1001"/>
                      </a:lnTo>
                      <a:lnTo>
                        <a:pt x="604" y="998"/>
                      </a:lnTo>
                      <a:lnTo>
                        <a:pt x="627" y="992"/>
                      </a:lnTo>
                      <a:lnTo>
                        <a:pt x="638" y="989"/>
                      </a:lnTo>
                      <a:lnTo>
                        <a:pt x="651" y="987"/>
                      </a:lnTo>
                      <a:lnTo>
                        <a:pt x="673" y="979"/>
                      </a:lnTo>
                      <a:lnTo>
                        <a:pt x="685" y="974"/>
                      </a:lnTo>
                      <a:lnTo>
                        <a:pt x="690" y="972"/>
                      </a:lnTo>
                      <a:lnTo>
                        <a:pt x="697" y="971"/>
                      </a:lnTo>
                      <a:lnTo>
                        <a:pt x="718" y="961"/>
                      </a:lnTo>
                      <a:lnTo>
                        <a:pt x="740" y="949"/>
                      </a:lnTo>
                      <a:lnTo>
                        <a:pt x="761" y="937"/>
                      </a:lnTo>
                      <a:lnTo>
                        <a:pt x="771" y="930"/>
                      </a:lnTo>
                      <a:lnTo>
                        <a:pt x="782" y="924"/>
                      </a:lnTo>
                      <a:lnTo>
                        <a:pt x="791" y="916"/>
                      </a:lnTo>
                      <a:lnTo>
                        <a:pt x="802" y="910"/>
                      </a:lnTo>
                      <a:lnTo>
                        <a:pt x="822" y="895"/>
                      </a:lnTo>
                      <a:lnTo>
                        <a:pt x="860" y="861"/>
                      </a:lnTo>
                      <a:lnTo>
                        <a:pt x="877" y="840"/>
                      </a:lnTo>
                      <a:lnTo>
                        <a:pt x="879" y="837"/>
                      </a:lnTo>
                      <a:lnTo>
                        <a:pt x="881" y="835"/>
                      </a:lnTo>
                      <a:lnTo>
                        <a:pt x="885" y="830"/>
                      </a:lnTo>
                      <a:lnTo>
                        <a:pt x="894" y="821"/>
                      </a:lnTo>
                      <a:lnTo>
                        <a:pt x="909" y="801"/>
                      </a:lnTo>
                      <a:lnTo>
                        <a:pt x="916" y="790"/>
                      </a:lnTo>
                      <a:lnTo>
                        <a:pt x="924" y="781"/>
                      </a:lnTo>
                      <a:lnTo>
                        <a:pt x="930" y="770"/>
                      </a:lnTo>
                      <a:lnTo>
                        <a:pt x="936" y="760"/>
                      </a:lnTo>
                      <a:lnTo>
                        <a:pt x="949" y="739"/>
                      </a:lnTo>
                      <a:lnTo>
                        <a:pt x="972" y="696"/>
                      </a:lnTo>
                      <a:lnTo>
                        <a:pt x="973" y="690"/>
                      </a:lnTo>
                      <a:lnTo>
                        <a:pt x="975" y="684"/>
                      </a:lnTo>
                      <a:lnTo>
                        <a:pt x="980" y="673"/>
                      </a:lnTo>
                      <a:lnTo>
                        <a:pt x="987" y="650"/>
                      </a:lnTo>
                      <a:lnTo>
                        <a:pt x="990" y="637"/>
                      </a:lnTo>
                      <a:lnTo>
                        <a:pt x="993" y="626"/>
                      </a:lnTo>
                      <a:lnTo>
                        <a:pt x="999" y="603"/>
                      </a:lnTo>
                      <a:lnTo>
                        <a:pt x="1002" y="578"/>
                      </a:lnTo>
                      <a:lnTo>
                        <a:pt x="1002" y="572"/>
                      </a:lnTo>
                      <a:lnTo>
                        <a:pt x="1002" y="568"/>
                      </a:lnTo>
                      <a:lnTo>
                        <a:pt x="1003" y="566"/>
                      </a:lnTo>
                      <a:lnTo>
                        <a:pt x="1006" y="555"/>
                      </a:lnTo>
                      <a:lnTo>
                        <a:pt x="1008" y="529"/>
                      </a:lnTo>
                      <a:lnTo>
                        <a:pt x="1009" y="504"/>
                      </a:lnTo>
                      <a:lnTo>
                        <a:pt x="1008" y="476"/>
                      </a:lnTo>
                      <a:lnTo>
                        <a:pt x="1006" y="451"/>
                      </a:lnTo>
                      <a:lnTo>
                        <a:pt x="999" y="403"/>
                      </a:lnTo>
                      <a:lnTo>
                        <a:pt x="987" y="354"/>
                      </a:lnTo>
                      <a:lnTo>
                        <a:pt x="972" y="310"/>
                      </a:lnTo>
                      <a:lnTo>
                        <a:pt x="949" y="266"/>
                      </a:lnTo>
                      <a:lnTo>
                        <a:pt x="924" y="225"/>
                      </a:lnTo>
                      <a:lnTo>
                        <a:pt x="894" y="185"/>
                      </a:lnTo>
                      <a:lnTo>
                        <a:pt x="860" y="148"/>
                      </a:lnTo>
                      <a:lnTo>
                        <a:pt x="822" y="111"/>
                      </a:lnTo>
                      <a:lnTo>
                        <a:pt x="802" y="95"/>
                      </a:lnTo>
                      <a:lnTo>
                        <a:pt x="782" y="82"/>
                      </a:lnTo>
                      <a:lnTo>
                        <a:pt x="761" y="68"/>
                      </a:lnTo>
                      <a:lnTo>
                        <a:pt x="740" y="57"/>
                      </a:lnTo>
                      <a:lnTo>
                        <a:pt x="697" y="37"/>
                      </a:lnTo>
                      <a:lnTo>
                        <a:pt x="673" y="27"/>
                      </a:lnTo>
                      <a:lnTo>
                        <a:pt x="651" y="21"/>
                      </a:lnTo>
                      <a:lnTo>
                        <a:pt x="627" y="14"/>
                      </a:lnTo>
                      <a:lnTo>
                        <a:pt x="604" y="9"/>
                      </a:lnTo>
                      <a:lnTo>
                        <a:pt x="579" y="5"/>
                      </a:lnTo>
                      <a:lnTo>
                        <a:pt x="555" y="3"/>
                      </a:lnTo>
                      <a:lnTo>
                        <a:pt x="529" y="0"/>
                      </a:lnTo>
                      <a:lnTo>
                        <a:pt x="504" y="0"/>
                      </a:lnTo>
                      <a:lnTo>
                        <a:pt x="452" y="3"/>
                      </a:lnTo>
                      <a:lnTo>
                        <a:pt x="404" y="9"/>
                      </a:lnTo>
                      <a:lnTo>
                        <a:pt x="355" y="21"/>
                      </a:lnTo>
                      <a:lnTo>
                        <a:pt x="311" y="37"/>
                      </a:lnTo>
                      <a:lnTo>
                        <a:pt x="266" y="57"/>
                      </a:lnTo>
                      <a:lnTo>
                        <a:pt x="226" y="82"/>
                      </a:lnTo>
                      <a:lnTo>
                        <a:pt x="186" y="111"/>
                      </a:lnTo>
                      <a:lnTo>
                        <a:pt x="148" y="14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308200" y="3035880"/>
                  <a:ext cx="144000" cy="132480"/>
                </a:xfrm>
                <a:custGeom>
                  <a:avLst/>
                  <a:gdLst/>
                  <a:ahLst/>
                  <a:rect l="l" t="t" r="r" b="b"/>
                  <a:pathLst>
                    <a:path w="506" h="465">
                      <a:moveTo>
                        <a:pt x="506" y="275"/>
                      </a:moveTo>
                      <a:lnTo>
                        <a:pt x="506" y="175"/>
                      </a:lnTo>
                      <a:lnTo>
                        <a:pt x="290" y="175"/>
                      </a:lnTo>
                      <a:lnTo>
                        <a:pt x="290" y="0"/>
                      </a:lnTo>
                      <a:lnTo>
                        <a:pt x="200" y="0"/>
                      </a:lnTo>
                      <a:lnTo>
                        <a:pt x="200" y="175"/>
                      </a:lnTo>
                      <a:lnTo>
                        <a:pt x="0" y="175"/>
                      </a:lnTo>
                      <a:lnTo>
                        <a:pt x="0" y="275"/>
                      </a:lnTo>
                      <a:lnTo>
                        <a:pt x="200" y="275"/>
                      </a:lnTo>
                      <a:lnTo>
                        <a:pt x="200" y="465"/>
                      </a:lnTo>
                      <a:lnTo>
                        <a:pt x="290" y="465"/>
                      </a:lnTo>
                      <a:lnTo>
                        <a:pt x="290" y="275"/>
                      </a:lnTo>
                      <a:lnTo>
                        <a:pt x="506" y="2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308200" y="3035880"/>
                  <a:ext cx="144000" cy="132480"/>
                </a:xfrm>
                <a:custGeom>
                  <a:avLst/>
                  <a:gdLst/>
                  <a:ahLst/>
                  <a:rect l="l" t="t" r="r" b="b"/>
                  <a:pathLst>
                    <a:path w="506" h="465">
                      <a:moveTo>
                        <a:pt x="506" y="175"/>
                      </a:moveTo>
                      <a:lnTo>
                        <a:pt x="290" y="175"/>
                      </a:lnTo>
                      <a:lnTo>
                        <a:pt x="290" y="0"/>
                      </a:lnTo>
                      <a:lnTo>
                        <a:pt x="200" y="0"/>
                      </a:lnTo>
                      <a:lnTo>
                        <a:pt x="200" y="175"/>
                      </a:lnTo>
                      <a:lnTo>
                        <a:pt x="0" y="175"/>
                      </a:lnTo>
                      <a:lnTo>
                        <a:pt x="0" y="275"/>
                      </a:lnTo>
                      <a:lnTo>
                        <a:pt x="200" y="275"/>
                      </a:lnTo>
                      <a:lnTo>
                        <a:pt x="200" y="465"/>
                      </a:lnTo>
                      <a:lnTo>
                        <a:pt x="290" y="465"/>
                      </a:lnTo>
                      <a:lnTo>
                        <a:pt x="290" y="275"/>
                      </a:lnTo>
                      <a:lnTo>
                        <a:pt x="506" y="275"/>
                      </a:lnTo>
                      <a:lnTo>
                        <a:pt x="506" y="17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135840" y="2499120"/>
                  <a:ext cx="169200" cy="223200"/>
                </a:xfrm>
                <a:custGeom>
                  <a:avLst/>
                  <a:gdLst/>
                  <a:ahLst/>
                  <a:rect l="l" t="t" r="r" b="b"/>
                  <a:pathLst>
                    <a:path w="593" h="783">
                      <a:moveTo>
                        <a:pt x="145" y="0"/>
                      </a:moveTo>
                      <a:lnTo>
                        <a:pt x="120" y="0"/>
                      </a:lnTo>
                      <a:lnTo>
                        <a:pt x="90" y="33"/>
                      </a:lnTo>
                      <a:lnTo>
                        <a:pt x="67" y="68"/>
                      </a:lnTo>
                      <a:lnTo>
                        <a:pt x="45" y="105"/>
                      </a:lnTo>
                      <a:lnTo>
                        <a:pt x="29" y="144"/>
                      </a:lnTo>
                      <a:lnTo>
                        <a:pt x="16" y="183"/>
                      </a:lnTo>
                      <a:lnTo>
                        <a:pt x="7" y="225"/>
                      </a:lnTo>
                      <a:lnTo>
                        <a:pt x="1" y="268"/>
                      </a:lnTo>
                      <a:lnTo>
                        <a:pt x="0" y="313"/>
                      </a:lnTo>
                      <a:lnTo>
                        <a:pt x="1" y="360"/>
                      </a:lnTo>
                      <a:lnTo>
                        <a:pt x="3" y="383"/>
                      </a:lnTo>
                      <a:lnTo>
                        <a:pt x="8" y="406"/>
                      </a:lnTo>
                      <a:lnTo>
                        <a:pt x="18" y="451"/>
                      </a:lnTo>
                      <a:lnTo>
                        <a:pt x="34" y="494"/>
                      </a:lnTo>
                      <a:lnTo>
                        <a:pt x="42" y="513"/>
                      </a:lnTo>
                      <a:lnTo>
                        <a:pt x="52" y="533"/>
                      </a:lnTo>
                      <a:lnTo>
                        <a:pt x="76" y="572"/>
                      </a:lnTo>
                      <a:lnTo>
                        <a:pt x="88" y="590"/>
                      </a:lnTo>
                      <a:lnTo>
                        <a:pt x="103" y="609"/>
                      </a:lnTo>
                      <a:lnTo>
                        <a:pt x="137" y="646"/>
                      </a:lnTo>
                      <a:lnTo>
                        <a:pt x="171" y="677"/>
                      </a:lnTo>
                      <a:lnTo>
                        <a:pt x="208" y="705"/>
                      </a:lnTo>
                      <a:lnTo>
                        <a:pt x="246" y="727"/>
                      </a:lnTo>
                      <a:lnTo>
                        <a:pt x="288" y="748"/>
                      </a:lnTo>
                      <a:lnTo>
                        <a:pt x="330" y="762"/>
                      </a:lnTo>
                      <a:lnTo>
                        <a:pt x="374" y="774"/>
                      </a:lnTo>
                      <a:lnTo>
                        <a:pt x="419" y="781"/>
                      </a:lnTo>
                      <a:lnTo>
                        <a:pt x="468" y="783"/>
                      </a:lnTo>
                      <a:lnTo>
                        <a:pt x="470" y="782"/>
                      </a:lnTo>
                      <a:lnTo>
                        <a:pt x="474" y="782"/>
                      </a:lnTo>
                      <a:lnTo>
                        <a:pt x="480" y="782"/>
                      </a:lnTo>
                      <a:lnTo>
                        <a:pt x="494" y="782"/>
                      </a:lnTo>
                      <a:lnTo>
                        <a:pt x="521" y="779"/>
                      </a:lnTo>
                      <a:lnTo>
                        <a:pt x="534" y="777"/>
                      </a:lnTo>
                      <a:lnTo>
                        <a:pt x="547" y="776"/>
                      </a:lnTo>
                      <a:lnTo>
                        <a:pt x="573" y="771"/>
                      </a:lnTo>
                      <a:lnTo>
                        <a:pt x="582" y="754"/>
                      </a:lnTo>
                      <a:lnTo>
                        <a:pt x="593" y="739"/>
                      </a:lnTo>
                      <a:lnTo>
                        <a:pt x="562" y="745"/>
                      </a:lnTo>
                      <a:lnTo>
                        <a:pt x="546" y="748"/>
                      </a:lnTo>
                      <a:lnTo>
                        <a:pt x="542" y="748"/>
                      </a:lnTo>
                      <a:lnTo>
                        <a:pt x="539" y="748"/>
                      </a:lnTo>
                      <a:lnTo>
                        <a:pt x="538" y="748"/>
                      </a:lnTo>
                      <a:lnTo>
                        <a:pt x="538" y="749"/>
                      </a:lnTo>
                      <a:lnTo>
                        <a:pt x="531" y="751"/>
                      </a:lnTo>
                      <a:lnTo>
                        <a:pt x="500" y="754"/>
                      </a:lnTo>
                      <a:lnTo>
                        <a:pt x="468" y="756"/>
                      </a:lnTo>
                      <a:lnTo>
                        <a:pt x="421" y="753"/>
                      </a:lnTo>
                      <a:lnTo>
                        <a:pt x="378" y="746"/>
                      </a:lnTo>
                      <a:lnTo>
                        <a:pt x="336" y="736"/>
                      </a:lnTo>
                      <a:lnTo>
                        <a:pt x="298" y="723"/>
                      </a:lnTo>
                      <a:lnTo>
                        <a:pt x="259" y="703"/>
                      </a:lnTo>
                      <a:lnTo>
                        <a:pt x="223" y="681"/>
                      </a:lnTo>
                      <a:lnTo>
                        <a:pt x="188" y="655"/>
                      </a:lnTo>
                      <a:lnTo>
                        <a:pt x="156" y="625"/>
                      </a:lnTo>
                      <a:lnTo>
                        <a:pt x="124" y="591"/>
                      </a:lnTo>
                      <a:lnTo>
                        <a:pt x="98" y="556"/>
                      </a:lnTo>
                      <a:lnTo>
                        <a:pt x="76" y="520"/>
                      </a:lnTo>
                      <a:lnTo>
                        <a:pt x="59" y="482"/>
                      </a:lnTo>
                      <a:lnTo>
                        <a:pt x="44" y="443"/>
                      </a:lnTo>
                      <a:lnTo>
                        <a:pt x="38" y="421"/>
                      </a:lnTo>
                      <a:lnTo>
                        <a:pt x="35" y="401"/>
                      </a:lnTo>
                      <a:lnTo>
                        <a:pt x="28" y="358"/>
                      </a:lnTo>
                      <a:lnTo>
                        <a:pt x="27" y="313"/>
                      </a:lnTo>
                      <a:lnTo>
                        <a:pt x="28" y="267"/>
                      </a:lnTo>
                      <a:lnTo>
                        <a:pt x="35" y="224"/>
                      </a:lnTo>
                      <a:lnTo>
                        <a:pt x="44" y="182"/>
                      </a:lnTo>
                      <a:lnTo>
                        <a:pt x="59" y="143"/>
                      </a:lnTo>
                      <a:lnTo>
                        <a:pt x="76" y="105"/>
                      </a:lnTo>
                      <a:lnTo>
                        <a:pt x="98" y="68"/>
                      </a:lnTo>
                      <a:lnTo>
                        <a:pt x="124" y="33"/>
                      </a:lnTo>
                      <a:lnTo>
                        <a:pt x="156" y="2"/>
                      </a:lnTo>
                      <a:lnTo>
                        <a:pt x="158" y="0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324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143400" y="2499120"/>
                  <a:ext cx="166680" cy="215640"/>
                </a:xfrm>
                <a:custGeom>
                  <a:avLst/>
                  <a:gdLst/>
                  <a:ahLst/>
                  <a:rect l="l" t="t" r="r" b="b"/>
                  <a:pathLst>
                    <a:path w="583" h="756">
                      <a:moveTo>
                        <a:pt x="131" y="0"/>
                      </a:moveTo>
                      <a:lnTo>
                        <a:pt x="129" y="2"/>
                      </a:lnTo>
                      <a:lnTo>
                        <a:pt x="97" y="33"/>
                      </a:lnTo>
                      <a:lnTo>
                        <a:pt x="71" y="68"/>
                      </a:lnTo>
                      <a:lnTo>
                        <a:pt x="49" y="105"/>
                      </a:lnTo>
                      <a:lnTo>
                        <a:pt x="32" y="143"/>
                      </a:lnTo>
                      <a:lnTo>
                        <a:pt x="17" y="182"/>
                      </a:lnTo>
                      <a:lnTo>
                        <a:pt x="8" y="224"/>
                      </a:lnTo>
                      <a:lnTo>
                        <a:pt x="1" y="267"/>
                      </a:lnTo>
                      <a:lnTo>
                        <a:pt x="0" y="313"/>
                      </a:lnTo>
                      <a:lnTo>
                        <a:pt x="1" y="358"/>
                      </a:lnTo>
                      <a:lnTo>
                        <a:pt x="8" y="401"/>
                      </a:lnTo>
                      <a:lnTo>
                        <a:pt x="11" y="421"/>
                      </a:lnTo>
                      <a:lnTo>
                        <a:pt x="17" y="443"/>
                      </a:lnTo>
                      <a:lnTo>
                        <a:pt x="32" y="482"/>
                      </a:lnTo>
                      <a:lnTo>
                        <a:pt x="49" y="520"/>
                      </a:lnTo>
                      <a:lnTo>
                        <a:pt x="71" y="556"/>
                      </a:lnTo>
                      <a:lnTo>
                        <a:pt x="97" y="591"/>
                      </a:lnTo>
                      <a:lnTo>
                        <a:pt x="129" y="625"/>
                      </a:lnTo>
                      <a:lnTo>
                        <a:pt x="161" y="655"/>
                      </a:lnTo>
                      <a:lnTo>
                        <a:pt x="196" y="681"/>
                      </a:lnTo>
                      <a:lnTo>
                        <a:pt x="232" y="703"/>
                      </a:lnTo>
                      <a:lnTo>
                        <a:pt x="271" y="723"/>
                      </a:lnTo>
                      <a:lnTo>
                        <a:pt x="309" y="736"/>
                      </a:lnTo>
                      <a:lnTo>
                        <a:pt x="351" y="746"/>
                      </a:lnTo>
                      <a:lnTo>
                        <a:pt x="394" y="753"/>
                      </a:lnTo>
                      <a:lnTo>
                        <a:pt x="441" y="756"/>
                      </a:lnTo>
                      <a:lnTo>
                        <a:pt x="473" y="754"/>
                      </a:lnTo>
                      <a:lnTo>
                        <a:pt x="504" y="751"/>
                      </a:lnTo>
                      <a:lnTo>
                        <a:pt x="511" y="749"/>
                      </a:lnTo>
                      <a:lnTo>
                        <a:pt x="511" y="748"/>
                      </a:lnTo>
                      <a:lnTo>
                        <a:pt x="512" y="748"/>
                      </a:lnTo>
                      <a:lnTo>
                        <a:pt x="515" y="748"/>
                      </a:lnTo>
                      <a:lnTo>
                        <a:pt x="519" y="748"/>
                      </a:lnTo>
                      <a:lnTo>
                        <a:pt x="535" y="745"/>
                      </a:lnTo>
                      <a:lnTo>
                        <a:pt x="566" y="739"/>
                      </a:lnTo>
                      <a:lnTo>
                        <a:pt x="583" y="705"/>
                      </a:lnTo>
                      <a:lnTo>
                        <a:pt x="549" y="714"/>
                      </a:lnTo>
                      <a:lnTo>
                        <a:pt x="531" y="717"/>
                      </a:lnTo>
                      <a:lnTo>
                        <a:pt x="514" y="722"/>
                      </a:lnTo>
                      <a:lnTo>
                        <a:pt x="477" y="725"/>
                      </a:lnTo>
                      <a:lnTo>
                        <a:pt x="441" y="727"/>
                      </a:lnTo>
                      <a:lnTo>
                        <a:pt x="398" y="725"/>
                      </a:lnTo>
                      <a:lnTo>
                        <a:pt x="357" y="719"/>
                      </a:lnTo>
                      <a:lnTo>
                        <a:pt x="317" y="709"/>
                      </a:lnTo>
                      <a:lnTo>
                        <a:pt x="281" y="697"/>
                      </a:lnTo>
                      <a:lnTo>
                        <a:pt x="245" y="678"/>
                      </a:lnTo>
                      <a:lnTo>
                        <a:pt x="211" y="658"/>
                      </a:lnTo>
                      <a:lnTo>
                        <a:pt x="178" y="633"/>
                      </a:lnTo>
                      <a:lnTo>
                        <a:pt x="148" y="606"/>
                      </a:lnTo>
                      <a:lnTo>
                        <a:pt x="119" y="574"/>
                      </a:lnTo>
                      <a:lnTo>
                        <a:pt x="95" y="541"/>
                      </a:lnTo>
                      <a:lnTo>
                        <a:pt x="74" y="506"/>
                      </a:lnTo>
                      <a:lnTo>
                        <a:pt x="65" y="488"/>
                      </a:lnTo>
                      <a:lnTo>
                        <a:pt x="58" y="471"/>
                      </a:lnTo>
                      <a:lnTo>
                        <a:pt x="50" y="452"/>
                      </a:lnTo>
                      <a:lnTo>
                        <a:pt x="44" y="434"/>
                      </a:lnTo>
                      <a:lnTo>
                        <a:pt x="35" y="395"/>
                      </a:lnTo>
                      <a:lnTo>
                        <a:pt x="29" y="354"/>
                      </a:lnTo>
                      <a:lnTo>
                        <a:pt x="28" y="313"/>
                      </a:lnTo>
                      <a:lnTo>
                        <a:pt x="29" y="270"/>
                      </a:lnTo>
                      <a:lnTo>
                        <a:pt x="35" y="229"/>
                      </a:lnTo>
                      <a:lnTo>
                        <a:pt x="44" y="190"/>
                      </a:lnTo>
                      <a:lnTo>
                        <a:pt x="58" y="154"/>
                      </a:lnTo>
                      <a:lnTo>
                        <a:pt x="74" y="117"/>
                      </a:lnTo>
                      <a:lnTo>
                        <a:pt x="95" y="83"/>
                      </a:lnTo>
                      <a:lnTo>
                        <a:pt x="119" y="50"/>
                      </a:lnTo>
                      <a:lnTo>
                        <a:pt x="148" y="21"/>
                      </a:lnTo>
                      <a:lnTo>
                        <a:pt x="169" y="3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365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04520" y="2504520"/>
                  <a:ext cx="173520" cy="248760"/>
                </a:xfrm>
                <a:custGeom>
                  <a:avLst/>
                  <a:gdLst/>
                  <a:ahLst/>
                  <a:rect l="l" t="t" r="r" b="b"/>
                  <a:pathLst>
                    <a:path w="607" h="873">
                      <a:moveTo>
                        <a:pt x="111" y="0"/>
                      </a:moveTo>
                      <a:lnTo>
                        <a:pt x="89" y="5"/>
                      </a:lnTo>
                      <a:lnTo>
                        <a:pt x="70" y="13"/>
                      </a:lnTo>
                      <a:lnTo>
                        <a:pt x="53" y="44"/>
                      </a:lnTo>
                      <a:lnTo>
                        <a:pt x="38" y="77"/>
                      </a:lnTo>
                      <a:lnTo>
                        <a:pt x="17" y="146"/>
                      </a:lnTo>
                      <a:lnTo>
                        <a:pt x="9" y="181"/>
                      </a:lnTo>
                      <a:lnTo>
                        <a:pt x="3" y="217"/>
                      </a:lnTo>
                      <a:lnTo>
                        <a:pt x="0" y="293"/>
                      </a:lnTo>
                      <a:lnTo>
                        <a:pt x="0" y="322"/>
                      </a:lnTo>
                      <a:lnTo>
                        <a:pt x="2" y="351"/>
                      </a:lnTo>
                      <a:lnTo>
                        <a:pt x="4" y="380"/>
                      </a:lnTo>
                      <a:lnTo>
                        <a:pt x="10" y="409"/>
                      </a:lnTo>
                      <a:lnTo>
                        <a:pt x="14" y="435"/>
                      </a:lnTo>
                      <a:lnTo>
                        <a:pt x="22" y="462"/>
                      </a:lnTo>
                      <a:lnTo>
                        <a:pt x="30" y="488"/>
                      </a:lnTo>
                      <a:lnTo>
                        <a:pt x="42" y="516"/>
                      </a:lnTo>
                      <a:lnTo>
                        <a:pt x="52" y="539"/>
                      </a:lnTo>
                      <a:lnTo>
                        <a:pt x="64" y="564"/>
                      </a:lnTo>
                      <a:lnTo>
                        <a:pt x="78" y="588"/>
                      </a:lnTo>
                      <a:lnTo>
                        <a:pt x="94" y="613"/>
                      </a:lnTo>
                      <a:lnTo>
                        <a:pt x="128" y="658"/>
                      </a:lnTo>
                      <a:lnTo>
                        <a:pt x="147" y="680"/>
                      </a:lnTo>
                      <a:lnTo>
                        <a:pt x="169" y="703"/>
                      </a:lnTo>
                      <a:lnTo>
                        <a:pt x="211" y="741"/>
                      </a:lnTo>
                      <a:lnTo>
                        <a:pt x="257" y="775"/>
                      </a:lnTo>
                      <a:lnTo>
                        <a:pt x="280" y="790"/>
                      </a:lnTo>
                      <a:lnTo>
                        <a:pt x="304" y="804"/>
                      </a:lnTo>
                      <a:lnTo>
                        <a:pt x="355" y="829"/>
                      </a:lnTo>
                      <a:lnTo>
                        <a:pt x="406" y="847"/>
                      </a:lnTo>
                      <a:lnTo>
                        <a:pt x="461" y="860"/>
                      </a:lnTo>
                      <a:lnTo>
                        <a:pt x="488" y="865"/>
                      </a:lnTo>
                      <a:lnTo>
                        <a:pt x="517" y="868"/>
                      </a:lnTo>
                      <a:lnTo>
                        <a:pt x="577" y="873"/>
                      </a:lnTo>
                      <a:lnTo>
                        <a:pt x="607" y="844"/>
                      </a:lnTo>
                      <a:lnTo>
                        <a:pt x="578" y="846"/>
                      </a:lnTo>
                      <a:lnTo>
                        <a:pt x="549" y="844"/>
                      </a:lnTo>
                      <a:lnTo>
                        <a:pt x="520" y="842"/>
                      </a:lnTo>
                      <a:lnTo>
                        <a:pt x="467" y="835"/>
                      </a:lnTo>
                      <a:lnTo>
                        <a:pt x="415" y="822"/>
                      </a:lnTo>
                      <a:lnTo>
                        <a:pt x="390" y="814"/>
                      </a:lnTo>
                      <a:lnTo>
                        <a:pt x="366" y="805"/>
                      </a:lnTo>
                      <a:lnTo>
                        <a:pt x="341" y="793"/>
                      </a:lnTo>
                      <a:lnTo>
                        <a:pt x="317" y="781"/>
                      </a:lnTo>
                      <a:lnTo>
                        <a:pt x="272" y="754"/>
                      </a:lnTo>
                      <a:lnTo>
                        <a:pt x="228" y="720"/>
                      </a:lnTo>
                      <a:lnTo>
                        <a:pt x="188" y="683"/>
                      </a:lnTo>
                      <a:lnTo>
                        <a:pt x="168" y="662"/>
                      </a:lnTo>
                      <a:lnTo>
                        <a:pt x="149" y="641"/>
                      </a:lnTo>
                      <a:lnTo>
                        <a:pt x="117" y="598"/>
                      </a:lnTo>
                      <a:lnTo>
                        <a:pt x="102" y="575"/>
                      </a:lnTo>
                      <a:lnTo>
                        <a:pt x="89" y="552"/>
                      </a:lnTo>
                      <a:lnTo>
                        <a:pt x="77" y="528"/>
                      </a:lnTo>
                      <a:lnTo>
                        <a:pt x="67" y="505"/>
                      </a:lnTo>
                      <a:lnTo>
                        <a:pt x="56" y="479"/>
                      </a:lnTo>
                      <a:lnTo>
                        <a:pt x="48" y="454"/>
                      </a:lnTo>
                      <a:lnTo>
                        <a:pt x="41" y="428"/>
                      </a:lnTo>
                      <a:lnTo>
                        <a:pt x="36" y="403"/>
                      </a:lnTo>
                      <a:lnTo>
                        <a:pt x="29" y="349"/>
                      </a:lnTo>
                      <a:lnTo>
                        <a:pt x="27" y="321"/>
                      </a:lnTo>
                      <a:lnTo>
                        <a:pt x="27" y="293"/>
                      </a:lnTo>
                      <a:lnTo>
                        <a:pt x="28" y="251"/>
                      </a:lnTo>
                      <a:lnTo>
                        <a:pt x="31" y="212"/>
                      </a:lnTo>
                      <a:lnTo>
                        <a:pt x="37" y="173"/>
                      </a:lnTo>
                      <a:lnTo>
                        <a:pt x="47" y="137"/>
                      </a:lnTo>
                      <a:lnTo>
                        <a:pt x="59" y="101"/>
                      </a:lnTo>
                      <a:lnTo>
                        <a:pt x="73" y="66"/>
                      </a:lnTo>
                      <a:lnTo>
                        <a:pt x="90" y="31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263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096600" y="2508480"/>
                  <a:ext cx="172800" cy="252720"/>
                </a:xfrm>
                <a:custGeom>
                  <a:avLst/>
                  <a:gdLst/>
                  <a:ahLst/>
                  <a:rect l="l" t="t" r="r" b="b"/>
                  <a:pathLst>
                    <a:path w="606" h="887">
                      <a:moveTo>
                        <a:pt x="99" y="0"/>
                      </a:moveTo>
                      <a:lnTo>
                        <a:pt x="77" y="8"/>
                      </a:lnTo>
                      <a:lnTo>
                        <a:pt x="58" y="18"/>
                      </a:lnTo>
                      <a:lnTo>
                        <a:pt x="32" y="79"/>
                      </a:lnTo>
                      <a:lnTo>
                        <a:pt x="22" y="110"/>
                      </a:lnTo>
                      <a:lnTo>
                        <a:pt x="14" y="143"/>
                      </a:lnTo>
                      <a:lnTo>
                        <a:pt x="4" y="210"/>
                      </a:lnTo>
                      <a:lnTo>
                        <a:pt x="0" y="244"/>
                      </a:lnTo>
                      <a:lnTo>
                        <a:pt x="0" y="280"/>
                      </a:lnTo>
                      <a:lnTo>
                        <a:pt x="0" y="310"/>
                      </a:lnTo>
                      <a:lnTo>
                        <a:pt x="3" y="340"/>
                      </a:lnTo>
                      <a:lnTo>
                        <a:pt x="5" y="370"/>
                      </a:lnTo>
                      <a:lnTo>
                        <a:pt x="11" y="401"/>
                      </a:lnTo>
                      <a:lnTo>
                        <a:pt x="16" y="429"/>
                      </a:lnTo>
                      <a:lnTo>
                        <a:pt x="24" y="457"/>
                      </a:lnTo>
                      <a:lnTo>
                        <a:pt x="33" y="484"/>
                      </a:lnTo>
                      <a:lnTo>
                        <a:pt x="45" y="513"/>
                      </a:lnTo>
                      <a:lnTo>
                        <a:pt x="55" y="538"/>
                      </a:lnTo>
                      <a:lnTo>
                        <a:pt x="68" y="564"/>
                      </a:lnTo>
                      <a:lnTo>
                        <a:pt x="82" y="589"/>
                      </a:lnTo>
                      <a:lnTo>
                        <a:pt x="99" y="615"/>
                      </a:lnTo>
                      <a:lnTo>
                        <a:pt x="116" y="639"/>
                      </a:lnTo>
                      <a:lnTo>
                        <a:pt x="135" y="664"/>
                      </a:lnTo>
                      <a:lnTo>
                        <a:pt x="156" y="686"/>
                      </a:lnTo>
                      <a:lnTo>
                        <a:pt x="178" y="710"/>
                      </a:lnTo>
                      <a:lnTo>
                        <a:pt x="199" y="729"/>
                      </a:lnTo>
                      <a:lnTo>
                        <a:pt x="219" y="748"/>
                      </a:lnTo>
                      <a:lnTo>
                        <a:pt x="263" y="782"/>
                      </a:lnTo>
                      <a:lnTo>
                        <a:pt x="310" y="811"/>
                      </a:lnTo>
                      <a:lnTo>
                        <a:pt x="359" y="836"/>
                      </a:lnTo>
                      <a:lnTo>
                        <a:pt x="407" y="854"/>
                      </a:lnTo>
                      <a:lnTo>
                        <a:pt x="461" y="870"/>
                      </a:lnTo>
                      <a:lnTo>
                        <a:pt x="487" y="876"/>
                      </a:lnTo>
                      <a:lnTo>
                        <a:pt x="514" y="880"/>
                      </a:lnTo>
                      <a:lnTo>
                        <a:pt x="572" y="887"/>
                      </a:lnTo>
                      <a:lnTo>
                        <a:pt x="606" y="860"/>
                      </a:lnTo>
                      <a:lnTo>
                        <a:pt x="546" y="855"/>
                      </a:lnTo>
                      <a:lnTo>
                        <a:pt x="517" y="852"/>
                      </a:lnTo>
                      <a:lnTo>
                        <a:pt x="490" y="847"/>
                      </a:lnTo>
                      <a:lnTo>
                        <a:pt x="435" y="834"/>
                      </a:lnTo>
                      <a:lnTo>
                        <a:pt x="384" y="816"/>
                      </a:lnTo>
                      <a:lnTo>
                        <a:pt x="333" y="791"/>
                      </a:lnTo>
                      <a:lnTo>
                        <a:pt x="309" y="777"/>
                      </a:lnTo>
                      <a:lnTo>
                        <a:pt x="286" y="762"/>
                      </a:lnTo>
                      <a:lnTo>
                        <a:pt x="240" y="728"/>
                      </a:lnTo>
                      <a:lnTo>
                        <a:pt x="198" y="690"/>
                      </a:lnTo>
                      <a:lnTo>
                        <a:pt x="176" y="667"/>
                      </a:lnTo>
                      <a:lnTo>
                        <a:pt x="157" y="645"/>
                      </a:lnTo>
                      <a:lnTo>
                        <a:pt x="123" y="600"/>
                      </a:lnTo>
                      <a:lnTo>
                        <a:pt x="107" y="575"/>
                      </a:lnTo>
                      <a:lnTo>
                        <a:pt x="93" y="551"/>
                      </a:lnTo>
                      <a:lnTo>
                        <a:pt x="81" y="526"/>
                      </a:lnTo>
                      <a:lnTo>
                        <a:pt x="71" y="503"/>
                      </a:lnTo>
                      <a:lnTo>
                        <a:pt x="59" y="475"/>
                      </a:lnTo>
                      <a:lnTo>
                        <a:pt x="51" y="449"/>
                      </a:lnTo>
                      <a:lnTo>
                        <a:pt x="43" y="422"/>
                      </a:lnTo>
                      <a:lnTo>
                        <a:pt x="39" y="396"/>
                      </a:lnTo>
                      <a:lnTo>
                        <a:pt x="33" y="367"/>
                      </a:lnTo>
                      <a:lnTo>
                        <a:pt x="31" y="338"/>
                      </a:lnTo>
                      <a:lnTo>
                        <a:pt x="29" y="309"/>
                      </a:lnTo>
                      <a:lnTo>
                        <a:pt x="29" y="280"/>
                      </a:lnTo>
                      <a:lnTo>
                        <a:pt x="32" y="204"/>
                      </a:lnTo>
                      <a:lnTo>
                        <a:pt x="38" y="168"/>
                      </a:lnTo>
                      <a:lnTo>
                        <a:pt x="46" y="133"/>
                      </a:lnTo>
                      <a:lnTo>
                        <a:pt x="67" y="64"/>
                      </a:lnTo>
                      <a:lnTo>
                        <a:pt x="82" y="31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223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088320" y="2513880"/>
                  <a:ext cx="171000" cy="254520"/>
                </a:xfrm>
                <a:custGeom>
                  <a:avLst/>
                  <a:gdLst/>
                  <a:ahLst/>
                  <a:rect l="l" t="t" r="r" b="b"/>
                  <a:pathLst>
                    <a:path w="599" h="894">
                      <a:moveTo>
                        <a:pt x="85" y="0"/>
                      </a:moveTo>
                      <a:lnTo>
                        <a:pt x="44" y="24"/>
                      </a:lnTo>
                      <a:lnTo>
                        <a:pt x="24" y="80"/>
                      </a:lnTo>
                      <a:lnTo>
                        <a:pt x="10" y="138"/>
                      </a:lnTo>
                      <a:lnTo>
                        <a:pt x="2" y="198"/>
                      </a:lnTo>
                      <a:lnTo>
                        <a:pt x="0" y="262"/>
                      </a:lnTo>
                      <a:lnTo>
                        <a:pt x="0" y="294"/>
                      </a:lnTo>
                      <a:lnTo>
                        <a:pt x="2" y="326"/>
                      </a:lnTo>
                      <a:lnTo>
                        <a:pt x="6" y="356"/>
                      </a:lnTo>
                      <a:lnTo>
                        <a:pt x="12" y="388"/>
                      </a:lnTo>
                      <a:lnTo>
                        <a:pt x="17" y="418"/>
                      </a:lnTo>
                      <a:lnTo>
                        <a:pt x="25" y="448"/>
                      </a:lnTo>
                      <a:lnTo>
                        <a:pt x="34" y="477"/>
                      </a:lnTo>
                      <a:lnTo>
                        <a:pt x="47" y="506"/>
                      </a:lnTo>
                      <a:lnTo>
                        <a:pt x="58" y="532"/>
                      </a:lnTo>
                      <a:lnTo>
                        <a:pt x="72" y="559"/>
                      </a:lnTo>
                      <a:lnTo>
                        <a:pt x="86" y="586"/>
                      </a:lnTo>
                      <a:lnTo>
                        <a:pt x="104" y="613"/>
                      </a:lnTo>
                      <a:lnTo>
                        <a:pt x="121" y="638"/>
                      </a:lnTo>
                      <a:lnTo>
                        <a:pt x="142" y="663"/>
                      </a:lnTo>
                      <a:lnTo>
                        <a:pt x="162" y="686"/>
                      </a:lnTo>
                      <a:lnTo>
                        <a:pt x="186" y="711"/>
                      </a:lnTo>
                      <a:lnTo>
                        <a:pt x="226" y="748"/>
                      </a:lnTo>
                      <a:lnTo>
                        <a:pt x="269" y="782"/>
                      </a:lnTo>
                      <a:lnTo>
                        <a:pt x="312" y="811"/>
                      </a:lnTo>
                      <a:lnTo>
                        <a:pt x="358" y="836"/>
                      </a:lnTo>
                      <a:lnTo>
                        <a:pt x="405" y="856"/>
                      </a:lnTo>
                      <a:lnTo>
                        <a:pt x="455" y="872"/>
                      </a:lnTo>
                      <a:lnTo>
                        <a:pt x="506" y="885"/>
                      </a:lnTo>
                      <a:lnTo>
                        <a:pt x="559" y="894"/>
                      </a:lnTo>
                      <a:lnTo>
                        <a:pt x="599" y="869"/>
                      </a:lnTo>
                      <a:lnTo>
                        <a:pt x="541" y="862"/>
                      </a:lnTo>
                      <a:lnTo>
                        <a:pt x="514" y="858"/>
                      </a:lnTo>
                      <a:lnTo>
                        <a:pt x="488" y="852"/>
                      </a:lnTo>
                      <a:lnTo>
                        <a:pt x="434" y="836"/>
                      </a:lnTo>
                      <a:lnTo>
                        <a:pt x="386" y="818"/>
                      </a:lnTo>
                      <a:lnTo>
                        <a:pt x="337" y="793"/>
                      </a:lnTo>
                      <a:lnTo>
                        <a:pt x="290" y="764"/>
                      </a:lnTo>
                      <a:lnTo>
                        <a:pt x="246" y="730"/>
                      </a:lnTo>
                      <a:lnTo>
                        <a:pt x="226" y="711"/>
                      </a:lnTo>
                      <a:lnTo>
                        <a:pt x="205" y="692"/>
                      </a:lnTo>
                      <a:lnTo>
                        <a:pt x="183" y="668"/>
                      </a:lnTo>
                      <a:lnTo>
                        <a:pt x="162" y="646"/>
                      </a:lnTo>
                      <a:lnTo>
                        <a:pt x="143" y="621"/>
                      </a:lnTo>
                      <a:lnTo>
                        <a:pt x="126" y="597"/>
                      </a:lnTo>
                      <a:lnTo>
                        <a:pt x="109" y="571"/>
                      </a:lnTo>
                      <a:lnTo>
                        <a:pt x="95" y="546"/>
                      </a:lnTo>
                      <a:lnTo>
                        <a:pt x="82" y="520"/>
                      </a:lnTo>
                      <a:lnTo>
                        <a:pt x="72" y="495"/>
                      </a:lnTo>
                      <a:lnTo>
                        <a:pt x="60" y="466"/>
                      </a:lnTo>
                      <a:lnTo>
                        <a:pt x="51" y="439"/>
                      </a:lnTo>
                      <a:lnTo>
                        <a:pt x="43" y="411"/>
                      </a:lnTo>
                      <a:lnTo>
                        <a:pt x="38" y="383"/>
                      </a:lnTo>
                      <a:lnTo>
                        <a:pt x="32" y="352"/>
                      </a:lnTo>
                      <a:lnTo>
                        <a:pt x="30" y="322"/>
                      </a:lnTo>
                      <a:lnTo>
                        <a:pt x="27" y="292"/>
                      </a:lnTo>
                      <a:lnTo>
                        <a:pt x="27" y="262"/>
                      </a:lnTo>
                      <a:lnTo>
                        <a:pt x="27" y="226"/>
                      </a:lnTo>
                      <a:lnTo>
                        <a:pt x="31" y="192"/>
                      </a:lnTo>
                      <a:lnTo>
                        <a:pt x="41" y="125"/>
                      </a:lnTo>
                      <a:lnTo>
                        <a:pt x="49" y="92"/>
                      </a:lnTo>
                      <a:lnTo>
                        <a:pt x="59" y="61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1f2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64920" y="2537640"/>
                  <a:ext cx="157320" cy="245880"/>
                </a:xfrm>
                <a:custGeom>
                  <a:avLst/>
                  <a:gdLst/>
                  <a:ahLst/>
                  <a:rect l="l" t="t" r="r" b="b"/>
                  <a:pathLst>
                    <a:path w="551" h="861">
                      <a:moveTo>
                        <a:pt x="38" y="11"/>
                      </a:moveTo>
                      <a:lnTo>
                        <a:pt x="13" y="37"/>
                      </a:lnTo>
                      <a:lnTo>
                        <a:pt x="6" y="70"/>
                      </a:lnTo>
                      <a:lnTo>
                        <a:pt x="3" y="105"/>
                      </a:lnTo>
                      <a:lnTo>
                        <a:pt x="0" y="176"/>
                      </a:lnTo>
                      <a:lnTo>
                        <a:pt x="0" y="212"/>
                      </a:lnTo>
                      <a:lnTo>
                        <a:pt x="3" y="248"/>
                      </a:lnTo>
                      <a:lnTo>
                        <a:pt x="6" y="283"/>
                      </a:lnTo>
                      <a:lnTo>
                        <a:pt x="13" y="318"/>
                      </a:lnTo>
                      <a:lnTo>
                        <a:pt x="20" y="351"/>
                      </a:lnTo>
                      <a:lnTo>
                        <a:pt x="29" y="385"/>
                      </a:lnTo>
                      <a:lnTo>
                        <a:pt x="39" y="418"/>
                      </a:lnTo>
                      <a:lnTo>
                        <a:pt x="53" y="451"/>
                      </a:lnTo>
                      <a:lnTo>
                        <a:pt x="65" y="481"/>
                      </a:lnTo>
                      <a:lnTo>
                        <a:pt x="81" y="512"/>
                      </a:lnTo>
                      <a:lnTo>
                        <a:pt x="98" y="541"/>
                      </a:lnTo>
                      <a:lnTo>
                        <a:pt x="117" y="572"/>
                      </a:lnTo>
                      <a:lnTo>
                        <a:pt x="136" y="599"/>
                      </a:lnTo>
                      <a:lnTo>
                        <a:pt x="159" y="628"/>
                      </a:lnTo>
                      <a:lnTo>
                        <a:pt x="183" y="655"/>
                      </a:lnTo>
                      <a:lnTo>
                        <a:pt x="210" y="683"/>
                      </a:lnTo>
                      <a:lnTo>
                        <a:pt x="242" y="713"/>
                      </a:lnTo>
                      <a:lnTo>
                        <a:pt x="275" y="741"/>
                      </a:lnTo>
                      <a:lnTo>
                        <a:pt x="309" y="767"/>
                      </a:lnTo>
                      <a:lnTo>
                        <a:pt x="345" y="791"/>
                      </a:lnTo>
                      <a:lnTo>
                        <a:pt x="381" y="811"/>
                      </a:lnTo>
                      <a:lnTo>
                        <a:pt x="419" y="831"/>
                      </a:lnTo>
                      <a:lnTo>
                        <a:pt x="457" y="846"/>
                      </a:lnTo>
                      <a:lnTo>
                        <a:pt x="498" y="861"/>
                      </a:lnTo>
                      <a:lnTo>
                        <a:pt x="524" y="854"/>
                      </a:lnTo>
                      <a:lnTo>
                        <a:pt x="551" y="848"/>
                      </a:lnTo>
                      <a:lnTo>
                        <a:pt x="506" y="834"/>
                      </a:lnTo>
                      <a:lnTo>
                        <a:pt x="463" y="819"/>
                      </a:lnTo>
                      <a:lnTo>
                        <a:pt x="420" y="800"/>
                      </a:lnTo>
                      <a:lnTo>
                        <a:pt x="380" y="780"/>
                      </a:lnTo>
                      <a:lnTo>
                        <a:pt x="339" y="755"/>
                      </a:lnTo>
                      <a:lnTo>
                        <a:pt x="302" y="727"/>
                      </a:lnTo>
                      <a:lnTo>
                        <a:pt x="265" y="697"/>
                      </a:lnTo>
                      <a:lnTo>
                        <a:pt x="229" y="664"/>
                      </a:lnTo>
                      <a:lnTo>
                        <a:pt x="203" y="637"/>
                      </a:lnTo>
                      <a:lnTo>
                        <a:pt x="181" y="611"/>
                      </a:lnTo>
                      <a:lnTo>
                        <a:pt x="159" y="583"/>
                      </a:lnTo>
                      <a:lnTo>
                        <a:pt x="140" y="557"/>
                      </a:lnTo>
                      <a:lnTo>
                        <a:pt x="121" y="528"/>
                      </a:lnTo>
                      <a:lnTo>
                        <a:pt x="105" y="500"/>
                      </a:lnTo>
                      <a:lnTo>
                        <a:pt x="90" y="470"/>
                      </a:lnTo>
                      <a:lnTo>
                        <a:pt x="78" y="441"/>
                      </a:lnTo>
                      <a:lnTo>
                        <a:pt x="65" y="409"/>
                      </a:lnTo>
                      <a:lnTo>
                        <a:pt x="55" y="378"/>
                      </a:lnTo>
                      <a:lnTo>
                        <a:pt x="46" y="345"/>
                      </a:lnTo>
                      <a:lnTo>
                        <a:pt x="40" y="314"/>
                      </a:lnTo>
                      <a:lnTo>
                        <a:pt x="33" y="280"/>
                      </a:lnTo>
                      <a:lnTo>
                        <a:pt x="30" y="246"/>
                      </a:lnTo>
                      <a:lnTo>
                        <a:pt x="28" y="210"/>
                      </a:lnTo>
                      <a:lnTo>
                        <a:pt x="28" y="176"/>
                      </a:lnTo>
                      <a:lnTo>
                        <a:pt x="29" y="130"/>
                      </a:lnTo>
                      <a:lnTo>
                        <a:pt x="32" y="86"/>
                      </a:lnTo>
                      <a:lnTo>
                        <a:pt x="39" y="41"/>
                      </a:lnTo>
                      <a:lnTo>
                        <a:pt x="49" y="0"/>
                      </a:lnTo>
                      <a:lnTo>
                        <a:pt x="38" y="11"/>
                      </a:lnTo>
                      <a:close/>
                    </a:path>
                  </a:pathLst>
                </a:custGeom>
                <a:solidFill>
                  <a:srgbClr val="16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72480" y="2527920"/>
                  <a:ext cx="163800" cy="251640"/>
                </a:xfrm>
                <a:custGeom>
                  <a:avLst/>
                  <a:gdLst/>
                  <a:ahLst/>
                  <a:rect l="l" t="t" r="r" b="b"/>
                  <a:pathLst>
                    <a:path w="572" h="882">
                      <a:moveTo>
                        <a:pt x="60" y="0"/>
                      </a:moveTo>
                      <a:lnTo>
                        <a:pt x="21" y="34"/>
                      </a:lnTo>
                      <a:lnTo>
                        <a:pt x="11" y="75"/>
                      </a:lnTo>
                      <a:lnTo>
                        <a:pt x="4" y="120"/>
                      </a:lnTo>
                      <a:lnTo>
                        <a:pt x="1" y="164"/>
                      </a:lnTo>
                      <a:lnTo>
                        <a:pt x="0" y="210"/>
                      </a:lnTo>
                      <a:lnTo>
                        <a:pt x="0" y="244"/>
                      </a:lnTo>
                      <a:lnTo>
                        <a:pt x="2" y="280"/>
                      </a:lnTo>
                      <a:lnTo>
                        <a:pt x="5" y="314"/>
                      </a:lnTo>
                      <a:lnTo>
                        <a:pt x="12" y="348"/>
                      </a:lnTo>
                      <a:lnTo>
                        <a:pt x="18" y="379"/>
                      </a:lnTo>
                      <a:lnTo>
                        <a:pt x="27" y="412"/>
                      </a:lnTo>
                      <a:lnTo>
                        <a:pt x="37" y="443"/>
                      </a:lnTo>
                      <a:lnTo>
                        <a:pt x="50" y="475"/>
                      </a:lnTo>
                      <a:lnTo>
                        <a:pt x="62" y="504"/>
                      </a:lnTo>
                      <a:lnTo>
                        <a:pt x="77" y="534"/>
                      </a:lnTo>
                      <a:lnTo>
                        <a:pt x="93" y="562"/>
                      </a:lnTo>
                      <a:lnTo>
                        <a:pt x="112" y="591"/>
                      </a:lnTo>
                      <a:lnTo>
                        <a:pt x="131" y="617"/>
                      </a:lnTo>
                      <a:lnTo>
                        <a:pt x="153" y="645"/>
                      </a:lnTo>
                      <a:lnTo>
                        <a:pt x="175" y="671"/>
                      </a:lnTo>
                      <a:lnTo>
                        <a:pt x="201" y="698"/>
                      </a:lnTo>
                      <a:lnTo>
                        <a:pt x="237" y="731"/>
                      </a:lnTo>
                      <a:lnTo>
                        <a:pt x="274" y="761"/>
                      </a:lnTo>
                      <a:lnTo>
                        <a:pt x="311" y="789"/>
                      </a:lnTo>
                      <a:lnTo>
                        <a:pt x="352" y="814"/>
                      </a:lnTo>
                      <a:lnTo>
                        <a:pt x="392" y="834"/>
                      </a:lnTo>
                      <a:lnTo>
                        <a:pt x="435" y="853"/>
                      </a:lnTo>
                      <a:lnTo>
                        <a:pt x="478" y="868"/>
                      </a:lnTo>
                      <a:lnTo>
                        <a:pt x="523" y="882"/>
                      </a:lnTo>
                      <a:lnTo>
                        <a:pt x="547" y="873"/>
                      </a:lnTo>
                      <a:lnTo>
                        <a:pt x="572" y="863"/>
                      </a:lnTo>
                      <a:lnTo>
                        <a:pt x="521" y="852"/>
                      </a:lnTo>
                      <a:lnTo>
                        <a:pt x="474" y="839"/>
                      </a:lnTo>
                      <a:lnTo>
                        <a:pt x="427" y="820"/>
                      </a:lnTo>
                      <a:lnTo>
                        <a:pt x="384" y="800"/>
                      </a:lnTo>
                      <a:lnTo>
                        <a:pt x="340" y="774"/>
                      </a:lnTo>
                      <a:lnTo>
                        <a:pt x="299" y="746"/>
                      </a:lnTo>
                      <a:lnTo>
                        <a:pt x="259" y="714"/>
                      </a:lnTo>
                      <a:lnTo>
                        <a:pt x="222" y="679"/>
                      </a:lnTo>
                      <a:lnTo>
                        <a:pt x="197" y="653"/>
                      </a:lnTo>
                      <a:lnTo>
                        <a:pt x="175" y="628"/>
                      </a:lnTo>
                      <a:lnTo>
                        <a:pt x="154" y="602"/>
                      </a:lnTo>
                      <a:lnTo>
                        <a:pt x="136" y="575"/>
                      </a:lnTo>
                      <a:lnTo>
                        <a:pt x="118" y="547"/>
                      </a:lnTo>
                      <a:lnTo>
                        <a:pt x="102" y="520"/>
                      </a:lnTo>
                      <a:lnTo>
                        <a:pt x="87" y="492"/>
                      </a:lnTo>
                      <a:lnTo>
                        <a:pt x="76" y="464"/>
                      </a:lnTo>
                      <a:lnTo>
                        <a:pt x="63" y="434"/>
                      </a:lnTo>
                      <a:lnTo>
                        <a:pt x="54" y="404"/>
                      </a:lnTo>
                      <a:lnTo>
                        <a:pt x="45" y="373"/>
                      </a:lnTo>
                      <a:lnTo>
                        <a:pt x="39" y="342"/>
                      </a:lnTo>
                      <a:lnTo>
                        <a:pt x="34" y="309"/>
                      </a:lnTo>
                      <a:lnTo>
                        <a:pt x="30" y="277"/>
                      </a:lnTo>
                      <a:lnTo>
                        <a:pt x="28" y="243"/>
                      </a:lnTo>
                      <a:lnTo>
                        <a:pt x="28" y="210"/>
                      </a:lnTo>
                      <a:lnTo>
                        <a:pt x="29" y="154"/>
                      </a:lnTo>
                      <a:lnTo>
                        <a:pt x="36" y="100"/>
                      </a:lnTo>
                      <a:lnTo>
                        <a:pt x="45" y="48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192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40800" y="2576160"/>
                  <a:ext cx="130680" cy="210600"/>
                </a:xfrm>
                <a:custGeom>
                  <a:avLst/>
                  <a:gdLst/>
                  <a:ahLst/>
                  <a:rect l="l" t="t" r="r" b="b"/>
                  <a:pathLst>
                    <a:path w="457" h="738">
                      <a:moveTo>
                        <a:pt x="27" y="44"/>
                      </a:moveTo>
                      <a:lnTo>
                        <a:pt x="28" y="0"/>
                      </a:lnTo>
                      <a:lnTo>
                        <a:pt x="12" y="32"/>
                      </a:lnTo>
                      <a:lnTo>
                        <a:pt x="0" y="65"/>
                      </a:lnTo>
                      <a:lnTo>
                        <a:pt x="0" y="103"/>
                      </a:lnTo>
                      <a:lnTo>
                        <a:pt x="3" y="142"/>
                      </a:lnTo>
                      <a:lnTo>
                        <a:pt x="8" y="179"/>
                      </a:lnTo>
                      <a:lnTo>
                        <a:pt x="16" y="218"/>
                      </a:lnTo>
                      <a:lnTo>
                        <a:pt x="23" y="253"/>
                      </a:lnTo>
                      <a:lnTo>
                        <a:pt x="35" y="289"/>
                      </a:lnTo>
                      <a:lnTo>
                        <a:pt x="46" y="324"/>
                      </a:lnTo>
                      <a:lnTo>
                        <a:pt x="61" y="360"/>
                      </a:lnTo>
                      <a:lnTo>
                        <a:pt x="76" y="392"/>
                      </a:lnTo>
                      <a:lnTo>
                        <a:pt x="94" y="425"/>
                      </a:lnTo>
                      <a:lnTo>
                        <a:pt x="112" y="457"/>
                      </a:lnTo>
                      <a:lnTo>
                        <a:pt x="133" y="490"/>
                      </a:lnTo>
                      <a:lnTo>
                        <a:pt x="155" y="521"/>
                      </a:lnTo>
                      <a:lnTo>
                        <a:pt x="180" y="551"/>
                      </a:lnTo>
                      <a:lnTo>
                        <a:pt x="206" y="581"/>
                      </a:lnTo>
                      <a:lnTo>
                        <a:pt x="234" y="610"/>
                      </a:lnTo>
                      <a:lnTo>
                        <a:pt x="269" y="643"/>
                      </a:lnTo>
                      <a:lnTo>
                        <a:pt x="308" y="676"/>
                      </a:lnTo>
                      <a:lnTo>
                        <a:pt x="347" y="704"/>
                      </a:lnTo>
                      <a:lnTo>
                        <a:pt x="387" y="733"/>
                      </a:lnTo>
                      <a:lnTo>
                        <a:pt x="420" y="736"/>
                      </a:lnTo>
                      <a:lnTo>
                        <a:pt x="457" y="738"/>
                      </a:lnTo>
                      <a:lnTo>
                        <a:pt x="428" y="724"/>
                      </a:lnTo>
                      <a:lnTo>
                        <a:pt x="401" y="708"/>
                      </a:lnTo>
                      <a:lnTo>
                        <a:pt x="350" y="674"/>
                      </a:lnTo>
                      <a:lnTo>
                        <a:pt x="325" y="654"/>
                      </a:lnTo>
                      <a:lnTo>
                        <a:pt x="300" y="634"/>
                      </a:lnTo>
                      <a:lnTo>
                        <a:pt x="254" y="591"/>
                      </a:lnTo>
                      <a:lnTo>
                        <a:pt x="225" y="561"/>
                      </a:lnTo>
                      <a:lnTo>
                        <a:pt x="200" y="532"/>
                      </a:lnTo>
                      <a:lnTo>
                        <a:pt x="175" y="501"/>
                      </a:lnTo>
                      <a:lnTo>
                        <a:pt x="154" y="471"/>
                      </a:lnTo>
                      <a:lnTo>
                        <a:pt x="132" y="438"/>
                      </a:lnTo>
                      <a:lnTo>
                        <a:pt x="114" y="406"/>
                      </a:lnTo>
                      <a:lnTo>
                        <a:pt x="97" y="373"/>
                      </a:lnTo>
                      <a:lnTo>
                        <a:pt x="84" y="340"/>
                      </a:lnTo>
                      <a:lnTo>
                        <a:pt x="69" y="305"/>
                      </a:lnTo>
                      <a:lnTo>
                        <a:pt x="57" y="270"/>
                      </a:lnTo>
                      <a:lnTo>
                        <a:pt x="47" y="234"/>
                      </a:lnTo>
                      <a:lnTo>
                        <a:pt x="40" y="197"/>
                      </a:lnTo>
                      <a:lnTo>
                        <a:pt x="34" y="159"/>
                      </a:lnTo>
                      <a:lnTo>
                        <a:pt x="30" y="121"/>
                      </a:lnTo>
                      <a:lnTo>
                        <a:pt x="27" y="83"/>
                      </a:lnTo>
                      <a:lnTo>
                        <a:pt x="27" y="44"/>
                      </a:lnTo>
                      <a:close/>
                    </a:path>
                  </a:pathLst>
                </a:custGeom>
                <a:solidFill>
                  <a:srgbClr val="0c1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049080" y="2561400"/>
                  <a:ext cx="141120" cy="225360"/>
                </a:xfrm>
                <a:custGeom>
                  <a:avLst/>
                  <a:gdLst/>
                  <a:ahLst/>
                  <a:rect l="l" t="t" r="r" b="b"/>
                  <a:pathLst>
                    <a:path w="493" h="791">
                      <a:moveTo>
                        <a:pt x="1" y="52"/>
                      </a:moveTo>
                      <a:lnTo>
                        <a:pt x="0" y="96"/>
                      </a:lnTo>
                      <a:lnTo>
                        <a:pt x="0" y="135"/>
                      </a:lnTo>
                      <a:lnTo>
                        <a:pt x="3" y="173"/>
                      </a:lnTo>
                      <a:lnTo>
                        <a:pt x="7" y="211"/>
                      </a:lnTo>
                      <a:lnTo>
                        <a:pt x="13" y="249"/>
                      </a:lnTo>
                      <a:lnTo>
                        <a:pt x="20" y="286"/>
                      </a:lnTo>
                      <a:lnTo>
                        <a:pt x="30" y="322"/>
                      </a:lnTo>
                      <a:lnTo>
                        <a:pt x="42" y="357"/>
                      </a:lnTo>
                      <a:lnTo>
                        <a:pt x="57" y="392"/>
                      </a:lnTo>
                      <a:lnTo>
                        <a:pt x="70" y="425"/>
                      </a:lnTo>
                      <a:lnTo>
                        <a:pt x="87" y="458"/>
                      </a:lnTo>
                      <a:lnTo>
                        <a:pt x="105" y="490"/>
                      </a:lnTo>
                      <a:lnTo>
                        <a:pt x="127" y="523"/>
                      </a:lnTo>
                      <a:lnTo>
                        <a:pt x="148" y="553"/>
                      </a:lnTo>
                      <a:lnTo>
                        <a:pt x="173" y="584"/>
                      </a:lnTo>
                      <a:lnTo>
                        <a:pt x="198" y="613"/>
                      </a:lnTo>
                      <a:lnTo>
                        <a:pt x="227" y="643"/>
                      </a:lnTo>
                      <a:lnTo>
                        <a:pt x="273" y="686"/>
                      </a:lnTo>
                      <a:lnTo>
                        <a:pt x="298" y="706"/>
                      </a:lnTo>
                      <a:lnTo>
                        <a:pt x="323" y="726"/>
                      </a:lnTo>
                      <a:lnTo>
                        <a:pt x="374" y="760"/>
                      </a:lnTo>
                      <a:lnTo>
                        <a:pt x="401" y="776"/>
                      </a:lnTo>
                      <a:lnTo>
                        <a:pt x="430" y="790"/>
                      </a:lnTo>
                      <a:lnTo>
                        <a:pt x="449" y="791"/>
                      </a:lnTo>
                      <a:lnTo>
                        <a:pt x="453" y="790"/>
                      </a:lnTo>
                      <a:lnTo>
                        <a:pt x="459" y="790"/>
                      </a:lnTo>
                      <a:lnTo>
                        <a:pt x="470" y="790"/>
                      </a:lnTo>
                      <a:lnTo>
                        <a:pt x="493" y="789"/>
                      </a:lnTo>
                      <a:lnTo>
                        <a:pt x="459" y="774"/>
                      </a:lnTo>
                      <a:lnTo>
                        <a:pt x="426" y="757"/>
                      </a:lnTo>
                      <a:lnTo>
                        <a:pt x="393" y="739"/>
                      </a:lnTo>
                      <a:lnTo>
                        <a:pt x="363" y="720"/>
                      </a:lnTo>
                      <a:lnTo>
                        <a:pt x="332" y="698"/>
                      </a:lnTo>
                      <a:lnTo>
                        <a:pt x="303" y="675"/>
                      </a:lnTo>
                      <a:lnTo>
                        <a:pt x="273" y="650"/>
                      </a:lnTo>
                      <a:lnTo>
                        <a:pt x="246" y="624"/>
                      </a:lnTo>
                      <a:lnTo>
                        <a:pt x="219" y="594"/>
                      </a:lnTo>
                      <a:lnTo>
                        <a:pt x="195" y="566"/>
                      </a:lnTo>
                      <a:lnTo>
                        <a:pt x="171" y="536"/>
                      </a:lnTo>
                      <a:lnTo>
                        <a:pt x="151" y="508"/>
                      </a:lnTo>
                      <a:lnTo>
                        <a:pt x="130" y="476"/>
                      </a:lnTo>
                      <a:lnTo>
                        <a:pt x="113" y="446"/>
                      </a:lnTo>
                      <a:lnTo>
                        <a:pt x="96" y="414"/>
                      </a:lnTo>
                      <a:lnTo>
                        <a:pt x="83" y="382"/>
                      </a:lnTo>
                      <a:lnTo>
                        <a:pt x="69" y="348"/>
                      </a:lnTo>
                      <a:lnTo>
                        <a:pt x="59" y="314"/>
                      </a:lnTo>
                      <a:lnTo>
                        <a:pt x="49" y="279"/>
                      </a:lnTo>
                      <a:lnTo>
                        <a:pt x="42" y="245"/>
                      </a:lnTo>
                      <a:lnTo>
                        <a:pt x="35" y="208"/>
                      </a:lnTo>
                      <a:lnTo>
                        <a:pt x="32" y="171"/>
                      </a:lnTo>
                      <a:lnTo>
                        <a:pt x="28" y="134"/>
                      </a:lnTo>
                      <a:lnTo>
                        <a:pt x="28" y="96"/>
                      </a:lnTo>
                      <a:lnTo>
                        <a:pt x="29" y="48"/>
                      </a:lnTo>
                      <a:lnTo>
                        <a:pt x="34" y="0"/>
                      </a:lnTo>
                      <a:lnTo>
                        <a:pt x="16" y="25"/>
                      </a:lnTo>
                      <a:lnTo>
                        <a:pt x="1" y="52"/>
                      </a:lnTo>
                      <a:close/>
                    </a:path>
                  </a:pathLst>
                </a:custGeom>
                <a:solidFill>
                  <a:srgbClr val="0f1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057000" y="2548800"/>
                  <a:ext cx="150120" cy="237240"/>
                </a:xfrm>
                <a:custGeom>
                  <a:avLst/>
                  <a:gdLst/>
                  <a:ahLst/>
                  <a:rect l="l" t="t" r="r" b="b"/>
                  <a:pathLst>
                    <a:path w="525" h="832">
                      <a:moveTo>
                        <a:pt x="6" y="43"/>
                      </a:moveTo>
                      <a:lnTo>
                        <a:pt x="1" y="91"/>
                      </a:lnTo>
                      <a:lnTo>
                        <a:pt x="0" y="139"/>
                      </a:lnTo>
                      <a:lnTo>
                        <a:pt x="0" y="177"/>
                      </a:lnTo>
                      <a:lnTo>
                        <a:pt x="4" y="214"/>
                      </a:lnTo>
                      <a:lnTo>
                        <a:pt x="7" y="251"/>
                      </a:lnTo>
                      <a:lnTo>
                        <a:pt x="14" y="288"/>
                      </a:lnTo>
                      <a:lnTo>
                        <a:pt x="21" y="322"/>
                      </a:lnTo>
                      <a:lnTo>
                        <a:pt x="31" y="357"/>
                      </a:lnTo>
                      <a:lnTo>
                        <a:pt x="41" y="391"/>
                      </a:lnTo>
                      <a:lnTo>
                        <a:pt x="55" y="425"/>
                      </a:lnTo>
                      <a:lnTo>
                        <a:pt x="68" y="457"/>
                      </a:lnTo>
                      <a:lnTo>
                        <a:pt x="85" y="489"/>
                      </a:lnTo>
                      <a:lnTo>
                        <a:pt x="102" y="519"/>
                      </a:lnTo>
                      <a:lnTo>
                        <a:pt x="123" y="551"/>
                      </a:lnTo>
                      <a:lnTo>
                        <a:pt x="143" y="579"/>
                      </a:lnTo>
                      <a:lnTo>
                        <a:pt x="167" y="609"/>
                      </a:lnTo>
                      <a:lnTo>
                        <a:pt x="191" y="637"/>
                      </a:lnTo>
                      <a:lnTo>
                        <a:pt x="218" y="667"/>
                      </a:lnTo>
                      <a:lnTo>
                        <a:pt x="245" y="693"/>
                      </a:lnTo>
                      <a:lnTo>
                        <a:pt x="275" y="718"/>
                      </a:lnTo>
                      <a:lnTo>
                        <a:pt x="304" y="741"/>
                      </a:lnTo>
                      <a:lnTo>
                        <a:pt x="335" y="763"/>
                      </a:lnTo>
                      <a:lnTo>
                        <a:pt x="365" y="782"/>
                      </a:lnTo>
                      <a:lnTo>
                        <a:pt x="398" y="800"/>
                      </a:lnTo>
                      <a:lnTo>
                        <a:pt x="431" y="817"/>
                      </a:lnTo>
                      <a:lnTo>
                        <a:pt x="465" y="832"/>
                      </a:lnTo>
                      <a:lnTo>
                        <a:pt x="495" y="829"/>
                      </a:lnTo>
                      <a:lnTo>
                        <a:pt x="525" y="824"/>
                      </a:lnTo>
                      <a:lnTo>
                        <a:pt x="484" y="809"/>
                      </a:lnTo>
                      <a:lnTo>
                        <a:pt x="446" y="794"/>
                      </a:lnTo>
                      <a:lnTo>
                        <a:pt x="408" y="774"/>
                      </a:lnTo>
                      <a:lnTo>
                        <a:pt x="372" y="754"/>
                      </a:lnTo>
                      <a:lnTo>
                        <a:pt x="336" y="730"/>
                      </a:lnTo>
                      <a:lnTo>
                        <a:pt x="302" y="704"/>
                      </a:lnTo>
                      <a:lnTo>
                        <a:pt x="269" y="676"/>
                      </a:lnTo>
                      <a:lnTo>
                        <a:pt x="237" y="646"/>
                      </a:lnTo>
                      <a:lnTo>
                        <a:pt x="210" y="618"/>
                      </a:lnTo>
                      <a:lnTo>
                        <a:pt x="186" y="591"/>
                      </a:lnTo>
                      <a:lnTo>
                        <a:pt x="163" y="562"/>
                      </a:lnTo>
                      <a:lnTo>
                        <a:pt x="144" y="535"/>
                      </a:lnTo>
                      <a:lnTo>
                        <a:pt x="125" y="504"/>
                      </a:lnTo>
                      <a:lnTo>
                        <a:pt x="108" y="475"/>
                      </a:lnTo>
                      <a:lnTo>
                        <a:pt x="92" y="444"/>
                      </a:lnTo>
                      <a:lnTo>
                        <a:pt x="80" y="414"/>
                      </a:lnTo>
                      <a:lnTo>
                        <a:pt x="66" y="381"/>
                      </a:lnTo>
                      <a:lnTo>
                        <a:pt x="56" y="348"/>
                      </a:lnTo>
                      <a:lnTo>
                        <a:pt x="47" y="314"/>
                      </a:lnTo>
                      <a:lnTo>
                        <a:pt x="40" y="281"/>
                      </a:lnTo>
                      <a:lnTo>
                        <a:pt x="33" y="246"/>
                      </a:lnTo>
                      <a:lnTo>
                        <a:pt x="30" y="211"/>
                      </a:lnTo>
                      <a:lnTo>
                        <a:pt x="27" y="175"/>
                      </a:lnTo>
                      <a:lnTo>
                        <a:pt x="27" y="139"/>
                      </a:lnTo>
                      <a:lnTo>
                        <a:pt x="30" y="68"/>
                      </a:lnTo>
                      <a:lnTo>
                        <a:pt x="33" y="33"/>
                      </a:lnTo>
                      <a:lnTo>
                        <a:pt x="40" y="0"/>
                      </a:lnTo>
                      <a:lnTo>
                        <a:pt x="6" y="43"/>
                      </a:lnTo>
                      <a:close/>
                    </a:path>
                  </a:pathLst>
                </a:custGeom>
                <a:solidFill>
                  <a:srgbClr val="121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080400" y="2520720"/>
                  <a:ext cx="168120" cy="254160"/>
                </a:xfrm>
                <a:custGeom>
                  <a:avLst/>
                  <a:gdLst/>
                  <a:ahLst/>
                  <a:rect l="l" t="t" r="r" b="b"/>
                  <a:pathLst>
                    <a:path w="586" h="891">
                      <a:moveTo>
                        <a:pt x="32" y="28"/>
                      </a:moveTo>
                      <a:lnTo>
                        <a:pt x="17" y="76"/>
                      </a:lnTo>
                      <a:lnTo>
                        <a:pt x="8" y="128"/>
                      </a:lnTo>
                      <a:lnTo>
                        <a:pt x="1" y="182"/>
                      </a:lnTo>
                      <a:lnTo>
                        <a:pt x="0" y="238"/>
                      </a:lnTo>
                      <a:lnTo>
                        <a:pt x="0" y="271"/>
                      </a:lnTo>
                      <a:lnTo>
                        <a:pt x="2" y="305"/>
                      </a:lnTo>
                      <a:lnTo>
                        <a:pt x="6" y="337"/>
                      </a:lnTo>
                      <a:lnTo>
                        <a:pt x="11" y="370"/>
                      </a:lnTo>
                      <a:lnTo>
                        <a:pt x="17" y="401"/>
                      </a:lnTo>
                      <a:lnTo>
                        <a:pt x="26" y="432"/>
                      </a:lnTo>
                      <a:lnTo>
                        <a:pt x="35" y="462"/>
                      </a:lnTo>
                      <a:lnTo>
                        <a:pt x="48" y="492"/>
                      </a:lnTo>
                      <a:lnTo>
                        <a:pt x="59" y="520"/>
                      </a:lnTo>
                      <a:lnTo>
                        <a:pt x="74" y="548"/>
                      </a:lnTo>
                      <a:lnTo>
                        <a:pt x="90" y="575"/>
                      </a:lnTo>
                      <a:lnTo>
                        <a:pt x="108" y="603"/>
                      </a:lnTo>
                      <a:lnTo>
                        <a:pt x="126" y="630"/>
                      </a:lnTo>
                      <a:lnTo>
                        <a:pt x="147" y="656"/>
                      </a:lnTo>
                      <a:lnTo>
                        <a:pt x="169" y="681"/>
                      </a:lnTo>
                      <a:lnTo>
                        <a:pt x="194" y="707"/>
                      </a:lnTo>
                      <a:lnTo>
                        <a:pt x="231" y="742"/>
                      </a:lnTo>
                      <a:lnTo>
                        <a:pt x="271" y="774"/>
                      </a:lnTo>
                      <a:lnTo>
                        <a:pt x="312" y="802"/>
                      </a:lnTo>
                      <a:lnTo>
                        <a:pt x="356" y="828"/>
                      </a:lnTo>
                      <a:lnTo>
                        <a:pt x="399" y="848"/>
                      </a:lnTo>
                      <a:lnTo>
                        <a:pt x="446" y="867"/>
                      </a:lnTo>
                      <a:lnTo>
                        <a:pt x="493" y="880"/>
                      </a:lnTo>
                      <a:lnTo>
                        <a:pt x="544" y="891"/>
                      </a:lnTo>
                      <a:lnTo>
                        <a:pt x="565" y="880"/>
                      </a:lnTo>
                      <a:lnTo>
                        <a:pt x="569" y="877"/>
                      </a:lnTo>
                      <a:lnTo>
                        <a:pt x="575" y="874"/>
                      </a:lnTo>
                      <a:lnTo>
                        <a:pt x="586" y="870"/>
                      </a:lnTo>
                      <a:lnTo>
                        <a:pt x="533" y="861"/>
                      </a:lnTo>
                      <a:lnTo>
                        <a:pt x="482" y="848"/>
                      </a:lnTo>
                      <a:lnTo>
                        <a:pt x="432" y="832"/>
                      </a:lnTo>
                      <a:lnTo>
                        <a:pt x="385" y="812"/>
                      </a:lnTo>
                      <a:lnTo>
                        <a:pt x="339" y="787"/>
                      </a:lnTo>
                      <a:lnTo>
                        <a:pt x="296" y="758"/>
                      </a:lnTo>
                      <a:lnTo>
                        <a:pt x="253" y="724"/>
                      </a:lnTo>
                      <a:lnTo>
                        <a:pt x="213" y="687"/>
                      </a:lnTo>
                      <a:lnTo>
                        <a:pt x="189" y="662"/>
                      </a:lnTo>
                      <a:lnTo>
                        <a:pt x="169" y="639"/>
                      </a:lnTo>
                      <a:lnTo>
                        <a:pt x="148" y="614"/>
                      </a:lnTo>
                      <a:lnTo>
                        <a:pt x="131" y="589"/>
                      </a:lnTo>
                      <a:lnTo>
                        <a:pt x="113" y="562"/>
                      </a:lnTo>
                      <a:lnTo>
                        <a:pt x="99" y="535"/>
                      </a:lnTo>
                      <a:lnTo>
                        <a:pt x="85" y="508"/>
                      </a:lnTo>
                      <a:lnTo>
                        <a:pt x="74" y="482"/>
                      </a:lnTo>
                      <a:lnTo>
                        <a:pt x="61" y="453"/>
                      </a:lnTo>
                      <a:lnTo>
                        <a:pt x="52" y="424"/>
                      </a:lnTo>
                      <a:lnTo>
                        <a:pt x="44" y="394"/>
                      </a:lnTo>
                      <a:lnTo>
                        <a:pt x="39" y="364"/>
                      </a:lnTo>
                      <a:lnTo>
                        <a:pt x="33" y="332"/>
                      </a:lnTo>
                      <a:lnTo>
                        <a:pt x="29" y="302"/>
                      </a:lnTo>
                      <a:lnTo>
                        <a:pt x="27" y="270"/>
                      </a:lnTo>
                      <a:lnTo>
                        <a:pt x="27" y="238"/>
                      </a:lnTo>
                      <a:lnTo>
                        <a:pt x="29" y="174"/>
                      </a:lnTo>
                      <a:lnTo>
                        <a:pt x="37" y="114"/>
                      </a:lnTo>
                      <a:lnTo>
                        <a:pt x="51" y="56"/>
                      </a:lnTo>
                      <a:lnTo>
                        <a:pt x="71" y="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1c2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112080" y="2501640"/>
                  <a:ext cx="174240" cy="244440"/>
                </a:xfrm>
                <a:custGeom>
                  <a:avLst/>
                  <a:gdLst/>
                  <a:ahLst/>
                  <a:rect l="l" t="t" r="r" b="b"/>
                  <a:pathLst>
                    <a:path w="609" h="856">
                      <a:moveTo>
                        <a:pt x="84" y="10"/>
                      </a:moveTo>
                      <a:lnTo>
                        <a:pt x="63" y="41"/>
                      </a:lnTo>
                      <a:lnTo>
                        <a:pt x="46" y="76"/>
                      </a:lnTo>
                      <a:lnTo>
                        <a:pt x="32" y="111"/>
                      </a:lnTo>
                      <a:lnTo>
                        <a:pt x="20" y="147"/>
                      </a:lnTo>
                      <a:lnTo>
                        <a:pt x="10" y="183"/>
                      </a:lnTo>
                      <a:lnTo>
                        <a:pt x="4" y="222"/>
                      </a:lnTo>
                      <a:lnTo>
                        <a:pt x="1" y="261"/>
                      </a:lnTo>
                      <a:lnTo>
                        <a:pt x="0" y="303"/>
                      </a:lnTo>
                      <a:lnTo>
                        <a:pt x="0" y="331"/>
                      </a:lnTo>
                      <a:lnTo>
                        <a:pt x="2" y="359"/>
                      </a:lnTo>
                      <a:lnTo>
                        <a:pt x="9" y="413"/>
                      </a:lnTo>
                      <a:lnTo>
                        <a:pt x="14" y="438"/>
                      </a:lnTo>
                      <a:lnTo>
                        <a:pt x="21" y="464"/>
                      </a:lnTo>
                      <a:lnTo>
                        <a:pt x="29" y="489"/>
                      </a:lnTo>
                      <a:lnTo>
                        <a:pt x="40" y="515"/>
                      </a:lnTo>
                      <a:lnTo>
                        <a:pt x="50" y="538"/>
                      </a:lnTo>
                      <a:lnTo>
                        <a:pt x="62" y="562"/>
                      </a:lnTo>
                      <a:lnTo>
                        <a:pt x="75" y="585"/>
                      </a:lnTo>
                      <a:lnTo>
                        <a:pt x="90" y="608"/>
                      </a:lnTo>
                      <a:lnTo>
                        <a:pt x="122" y="651"/>
                      </a:lnTo>
                      <a:lnTo>
                        <a:pt x="141" y="672"/>
                      </a:lnTo>
                      <a:lnTo>
                        <a:pt x="161" y="693"/>
                      </a:lnTo>
                      <a:lnTo>
                        <a:pt x="201" y="730"/>
                      </a:lnTo>
                      <a:lnTo>
                        <a:pt x="245" y="764"/>
                      </a:lnTo>
                      <a:lnTo>
                        <a:pt x="290" y="791"/>
                      </a:lnTo>
                      <a:lnTo>
                        <a:pt x="314" y="803"/>
                      </a:lnTo>
                      <a:lnTo>
                        <a:pt x="339" y="815"/>
                      </a:lnTo>
                      <a:lnTo>
                        <a:pt x="363" y="824"/>
                      </a:lnTo>
                      <a:lnTo>
                        <a:pt x="388" y="832"/>
                      </a:lnTo>
                      <a:lnTo>
                        <a:pt x="440" y="845"/>
                      </a:lnTo>
                      <a:lnTo>
                        <a:pt x="493" y="852"/>
                      </a:lnTo>
                      <a:lnTo>
                        <a:pt x="522" y="854"/>
                      </a:lnTo>
                      <a:lnTo>
                        <a:pt x="551" y="856"/>
                      </a:lnTo>
                      <a:lnTo>
                        <a:pt x="580" y="854"/>
                      </a:lnTo>
                      <a:lnTo>
                        <a:pt x="584" y="851"/>
                      </a:lnTo>
                      <a:lnTo>
                        <a:pt x="609" y="825"/>
                      </a:lnTo>
                      <a:lnTo>
                        <a:pt x="579" y="826"/>
                      </a:lnTo>
                      <a:lnTo>
                        <a:pt x="565" y="826"/>
                      </a:lnTo>
                      <a:lnTo>
                        <a:pt x="551" y="827"/>
                      </a:lnTo>
                      <a:lnTo>
                        <a:pt x="524" y="826"/>
                      </a:lnTo>
                      <a:lnTo>
                        <a:pt x="497" y="824"/>
                      </a:lnTo>
                      <a:lnTo>
                        <a:pt x="446" y="817"/>
                      </a:lnTo>
                      <a:lnTo>
                        <a:pt x="421" y="811"/>
                      </a:lnTo>
                      <a:lnTo>
                        <a:pt x="396" y="805"/>
                      </a:lnTo>
                      <a:lnTo>
                        <a:pt x="349" y="789"/>
                      </a:lnTo>
                      <a:lnTo>
                        <a:pt x="303" y="766"/>
                      </a:lnTo>
                      <a:lnTo>
                        <a:pt x="281" y="754"/>
                      </a:lnTo>
                      <a:lnTo>
                        <a:pt x="261" y="740"/>
                      </a:lnTo>
                      <a:lnTo>
                        <a:pt x="219" y="708"/>
                      </a:lnTo>
                      <a:lnTo>
                        <a:pt x="181" y="674"/>
                      </a:lnTo>
                      <a:lnTo>
                        <a:pt x="162" y="654"/>
                      </a:lnTo>
                      <a:lnTo>
                        <a:pt x="145" y="634"/>
                      </a:lnTo>
                      <a:lnTo>
                        <a:pt x="128" y="613"/>
                      </a:lnTo>
                      <a:lnTo>
                        <a:pt x="113" y="593"/>
                      </a:lnTo>
                      <a:lnTo>
                        <a:pt x="99" y="570"/>
                      </a:lnTo>
                      <a:lnTo>
                        <a:pt x="86" y="548"/>
                      </a:lnTo>
                      <a:lnTo>
                        <a:pt x="75" y="526"/>
                      </a:lnTo>
                      <a:lnTo>
                        <a:pt x="66" y="504"/>
                      </a:lnTo>
                      <a:lnTo>
                        <a:pt x="48" y="456"/>
                      </a:lnTo>
                      <a:lnTo>
                        <a:pt x="41" y="432"/>
                      </a:lnTo>
                      <a:lnTo>
                        <a:pt x="36" y="408"/>
                      </a:lnTo>
                      <a:lnTo>
                        <a:pt x="32" y="382"/>
                      </a:lnTo>
                      <a:lnTo>
                        <a:pt x="29" y="357"/>
                      </a:lnTo>
                      <a:lnTo>
                        <a:pt x="27" y="329"/>
                      </a:lnTo>
                      <a:lnTo>
                        <a:pt x="27" y="303"/>
                      </a:lnTo>
                      <a:lnTo>
                        <a:pt x="28" y="260"/>
                      </a:lnTo>
                      <a:lnTo>
                        <a:pt x="33" y="219"/>
                      </a:lnTo>
                      <a:lnTo>
                        <a:pt x="40" y="179"/>
                      </a:lnTo>
                      <a:lnTo>
                        <a:pt x="51" y="141"/>
                      </a:lnTo>
                      <a:lnTo>
                        <a:pt x="63" y="103"/>
                      </a:lnTo>
                      <a:lnTo>
                        <a:pt x="80" y="68"/>
                      </a:lnTo>
                      <a:lnTo>
                        <a:pt x="100" y="32"/>
                      </a:lnTo>
                      <a:lnTo>
                        <a:pt x="124" y="0"/>
                      </a:lnTo>
                      <a:lnTo>
                        <a:pt x="84" y="10"/>
                      </a:lnTo>
                      <a:close/>
                    </a:path>
                  </a:pathLst>
                </a:custGeom>
                <a:solidFill>
                  <a:srgbClr val="293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152040" y="2499480"/>
                  <a:ext cx="162360" cy="207360"/>
                </a:xfrm>
                <a:custGeom>
                  <a:avLst/>
                  <a:gdLst/>
                  <a:ahLst/>
                  <a:rect l="l" t="t" r="r" b="b"/>
                  <a:pathLst>
                    <a:path w="568" h="724">
                      <a:moveTo>
                        <a:pt x="141" y="37"/>
                      </a:moveTo>
                      <a:lnTo>
                        <a:pt x="178" y="4"/>
                      </a:lnTo>
                      <a:lnTo>
                        <a:pt x="159" y="1"/>
                      </a:lnTo>
                      <a:lnTo>
                        <a:pt x="141" y="0"/>
                      </a:lnTo>
                      <a:lnTo>
                        <a:pt x="120" y="18"/>
                      </a:lnTo>
                      <a:lnTo>
                        <a:pt x="91" y="47"/>
                      </a:lnTo>
                      <a:lnTo>
                        <a:pt x="67" y="80"/>
                      </a:lnTo>
                      <a:lnTo>
                        <a:pt x="46" y="114"/>
                      </a:lnTo>
                      <a:lnTo>
                        <a:pt x="30" y="151"/>
                      </a:lnTo>
                      <a:lnTo>
                        <a:pt x="16" y="187"/>
                      </a:lnTo>
                      <a:lnTo>
                        <a:pt x="7" y="226"/>
                      </a:lnTo>
                      <a:lnTo>
                        <a:pt x="1" y="267"/>
                      </a:lnTo>
                      <a:lnTo>
                        <a:pt x="0" y="310"/>
                      </a:lnTo>
                      <a:lnTo>
                        <a:pt x="1" y="351"/>
                      </a:lnTo>
                      <a:lnTo>
                        <a:pt x="7" y="392"/>
                      </a:lnTo>
                      <a:lnTo>
                        <a:pt x="16" y="431"/>
                      </a:lnTo>
                      <a:lnTo>
                        <a:pt x="22" y="449"/>
                      </a:lnTo>
                      <a:lnTo>
                        <a:pt x="30" y="468"/>
                      </a:lnTo>
                      <a:lnTo>
                        <a:pt x="37" y="485"/>
                      </a:lnTo>
                      <a:lnTo>
                        <a:pt x="46" y="503"/>
                      </a:lnTo>
                      <a:lnTo>
                        <a:pt x="67" y="538"/>
                      </a:lnTo>
                      <a:lnTo>
                        <a:pt x="91" y="571"/>
                      </a:lnTo>
                      <a:lnTo>
                        <a:pt x="120" y="603"/>
                      </a:lnTo>
                      <a:lnTo>
                        <a:pt x="150" y="630"/>
                      </a:lnTo>
                      <a:lnTo>
                        <a:pt x="183" y="655"/>
                      </a:lnTo>
                      <a:lnTo>
                        <a:pt x="217" y="675"/>
                      </a:lnTo>
                      <a:lnTo>
                        <a:pt x="253" y="694"/>
                      </a:lnTo>
                      <a:lnTo>
                        <a:pt x="289" y="706"/>
                      </a:lnTo>
                      <a:lnTo>
                        <a:pt x="329" y="716"/>
                      </a:lnTo>
                      <a:lnTo>
                        <a:pt x="370" y="722"/>
                      </a:lnTo>
                      <a:lnTo>
                        <a:pt x="413" y="724"/>
                      </a:lnTo>
                      <a:lnTo>
                        <a:pt x="449" y="722"/>
                      </a:lnTo>
                      <a:lnTo>
                        <a:pt x="486" y="719"/>
                      </a:lnTo>
                      <a:lnTo>
                        <a:pt x="503" y="714"/>
                      </a:lnTo>
                      <a:lnTo>
                        <a:pt x="521" y="711"/>
                      </a:lnTo>
                      <a:lnTo>
                        <a:pt x="555" y="702"/>
                      </a:lnTo>
                      <a:lnTo>
                        <a:pt x="568" y="666"/>
                      </a:lnTo>
                      <a:lnTo>
                        <a:pt x="558" y="669"/>
                      </a:lnTo>
                      <a:lnTo>
                        <a:pt x="549" y="672"/>
                      </a:lnTo>
                      <a:lnTo>
                        <a:pt x="531" y="679"/>
                      </a:lnTo>
                      <a:lnTo>
                        <a:pt x="512" y="683"/>
                      </a:lnTo>
                      <a:lnTo>
                        <a:pt x="493" y="689"/>
                      </a:lnTo>
                      <a:lnTo>
                        <a:pt x="473" y="691"/>
                      </a:lnTo>
                      <a:lnTo>
                        <a:pt x="467" y="691"/>
                      </a:lnTo>
                      <a:lnTo>
                        <a:pt x="463" y="692"/>
                      </a:lnTo>
                      <a:lnTo>
                        <a:pt x="454" y="695"/>
                      </a:lnTo>
                      <a:lnTo>
                        <a:pt x="413" y="697"/>
                      </a:lnTo>
                      <a:lnTo>
                        <a:pt x="372" y="695"/>
                      </a:lnTo>
                      <a:lnTo>
                        <a:pt x="335" y="689"/>
                      </a:lnTo>
                      <a:lnTo>
                        <a:pt x="298" y="680"/>
                      </a:lnTo>
                      <a:lnTo>
                        <a:pt x="264" y="669"/>
                      </a:lnTo>
                      <a:lnTo>
                        <a:pt x="230" y="652"/>
                      </a:lnTo>
                      <a:lnTo>
                        <a:pt x="199" y="632"/>
                      </a:lnTo>
                      <a:lnTo>
                        <a:pt x="168" y="610"/>
                      </a:lnTo>
                      <a:lnTo>
                        <a:pt x="141" y="584"/>
                      </a:lnTo>
                      <a:lnTo>
                        <a:pt x="114" y="554"/>
                      </a:lnTo>
                      <a:lnTo>
                        <a:pt x="101" y="538"/>
                      </a:lnTo>
                      <a:lnTo>
                        <a:pt x="91" y="524"/>
                      </a:lnTo>
                      <a:lnTo>
                        <a:pt x="80" y="507"/>
                      </a:lnTo>
                      <a:lnTo>
                        <a:pt x="71" y="491"/>
                      </a:lnTo>
                      <a:lnTo>
                        <a:pt x="56" y="458"/>
                      </a:lnTo>
                      <a:lnTo>
                        <a:pt x="48" y="440"/>
                      </a:lnTo>
                      <a:lnTo>
                        <a:pt x="42" y="423"/>
                      </a:lnTo>
                      <a:lnTo>
                        <a:pt x="34" y="386"/>
                      </a:lnTo>
                      <a:lnTo>
                        <a:pt x="29" y="349"/>
                      </a:lnTo>
                      <a:lnTo>
                        <a:pt x="27" y="310"/>
                      </a:lnTo>
                      <a:lnTo>
                        <a:pt x="29" y="270"/>
                      </a:lnTo>
                      <a:lnTo>
                        <a:pt x="34" y="232"/>
                      </a:lnTo>
                      <a:lnTo>
                        <a:pt x="42" y="196"/>
                      </a:lnTo>
                      <a:lnTo>
                        <a:pt x="56" y="162"/>
                      </a:lnTo>
                      <a:lnTo>
                        <a:pt x="71" y="128"/>
                      </a:lnTo>
                      <a:lnTo>
                        <a:pt x="91" y="96"/>
                      </a:lnTo>
                      <a:lnTo>
                        <a:pt x="114" y="65"/>
                      </a:lnTo>
                      <a:lnTo>
                        <a:pt x="141" y="37"/>
                      </a:lnTo>
                      <a:close/>
                    </a:path>
                  </a:pathLst>
                </a:custGeom>
                <a:solidFill>
                  <a:srgbClr val="395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159240" y="2501280"/>
                  <a:ext cx="157680" cy="197280"/>
                </a:xfrm>
                <a:custGeom>
                  <a:avLst/>
                  <a:gdLst/>
                  <a:ahLst/>
                  <a:rect l="l" t="t" r="r" b="b"/>
                  <a:pathLst>
                    <a:path w="552" h="693">
                      <a:moveTo>
                        <a:pt x="151" y="0"/>
                      </a:moveTo>
                      <a:lnTo>
                        <a:pt x="114" y="33"/>
                      </a:lnTo>
                      <a:lnTo>
                        <a:pt x="87" y="61"/>
                      </a:lnTo>
                      <a:lnTo>
                        <a:pt x="64" y="92"/>
                      </a:lnTo>
                      <a:lnTo>
                        <a:pt x="44" y="124"/>
                      </a:lnTo>
                      <a:lnTo>
                        <a:pt x="29" y="158"/>
                      </a:lnTo>
                      <a:lnTo>
                        <a:pt x="15" y="192"/>
                      </a:lnTo>
                      <a:lnTo>
                        <a:pt x="7" y="228"/>
                      </a:lnTo>
                      <a:lnTo>
                        <a:pt x="2" y="266"/>
                      </a:lnTo>
                      <a:lnTo>
                        <a:pt x="0" y="306"/>
                      </a:lnTo>
                      <a:lnTo>
                        <a:pt x="2" y="345"/>
                      </a:lnTo>
                      <a:lnTo>
                        <a:pt x="7" y="382"/>
                      </a:lnTo>
                      <a:lnTo>
                        <a:pt x="15" y="419"/>
                      </a:lnTo>
                      <a:lnTo>
                        <a:pt x="21" y="436"/>
                      </a:lnTo>
                      <a:lnTo>
                        <a:pt x="29" y="454"/>
                      </a:lnTo>
                      <a:lnTo>
                        <a:pt x="44" y="487"/>
                      </a:lnTo>
                      <a:lnTo>
                        <a:pt x="53" y="503"/>
                      </a:lnTo>
                      <a:lnTo>
                        <a:pt x="64" y="520"/>
                      </a:lnTo>
                      <a:lnTo>
                        <a:pt x="74" y="534"/>
                      </a:lnTo>
                      <a:lnTo>
                        <a:pt x="87" y="550"/>
                      </a:lnTo>
                      <a:lnTo>
                        <a:pt x="114" y="580"/>
                      </a:lnTo>
                      <a:lnTo>
                        <a:pt x="141" y="606"/>
                      </a:lnTo>
                      <a:lnTo>
                        <a:pt x="172" y="628"/>
                      </a:lnTo>
                      <a:lnTo>
                        <a:pt x="203" y="648"/>
                      </a:lnTo>
                      <a:lnTo>
                        <a:pt x="237" y="665"/>
                      </a:lnTo>
                      <a:lnTo>
                        <a:pt x="271" y="676"/>
                      </a:lnTo>
                      <a:lnTo>
                        <a:pt x="308" y="685"/>
                      </a:lnTo>
                      <a:lnTo>
                        <a:pt x="345" y="691"/>
                      </a:lnTo>
                      <a:lnTo>
                        <a:pt x="386" y="693"/>
                      </a:lnTo>
                      <a:lnTo>
                        <a:pt x="427" y="691"/>
                      </a:lnTo>
                      <a:lnTo>
                        <a:pt x="436" y="688"/>
                      </a:lnTo>
                      <a:lnTo>
                        <a:pt x="440" y="687"/>
                      </a:lnTo>
                      <a:lnTo>
                        <a:pt x="446" y="687"/>
                      </a:lnTo>
                      <a:lnTo>
                        <a:pt x="466" y="685"/>
                      </a:lnTo>
                      <a:lnTo>
                        <a:pt x="485" y="679"/>
                      </a:lnTo>
                      <a:lnTo>
                        <a:pt x="504" y="675"/>
                      </a:lnTo>
                      <a:lnTo>
                        <a:pt x="522" y="668"/>
                      </a:lnTo>
                      <a:lnTo>
                        <a:pt x="531" y="665"/>
                      </a:lnTo>
                      <a:lnTo>
                        <a:pt x="541" y="662"/>
                      </a:lnTo>
                      <a:lnTo>
                        <a:pt x="552" y="626"/>
                      </a:lnTo>
                      <a:lnTo>
                        <a:pt x="531" y="634"/>
                      </a:lnTo>
                      <a:lnTo>
                        <a:pt x="528" y="634"/>
                      </a:lnTo>
                      <a:lnTo>
                        <a:pt x="525" y="635"/>
                      </a:lnTo>
                      <a:lnTo>
                        <a:pt x="521" y="637"/>
                      </a:lnTo>
                      <a:lnTo>
                        <a:pt x="512" y="642"/>
                      </a:lnTo>
                      <a:lnTo>
                        <a:pt x="491" y="649"/>
                      </a:lnTo>
                      <a:lnTo>
                        <a:pt x="481" y="651"/>
                      </a:lnTo>
                      <a:lnTo>
                        <a:pt x="472" y="654"/>
                      </a:lnTo>
                      <a:lnTo>
                        <a:pt x="461" y="656"/>
                      </a:lnTo>
                      <a:lnTo>
                        <a:pt x="451" y="658"/>
                      </a:lnTo>
                      <a:lnTo>
                        <a:pt x="430" y="661"/>
                      </a:lnTo>
                      <a:lnTo>
                        <a:pt x="408" y="664"/>
                      </a:lnTo>
                      <a:lnTo>
                        <a:pt x="396" y="664"/>
                      </a:lnTo>
                      <a:lnTo>
                        <a:pt x="391" y="664"/>
                      </a:lnTo>
                      <a:lnTo>
                        <a:pt x="386" y="665"/>
                      </a:lnTo>
                      <a:lnTo>
                        <a:pt x="349" y="662"/>
                      </a:lnTo>
                      <a:lnTo>
                        <a:pt x="313" y="658"/>
                      </a:lnTo>
                      <a:lnTo>
                        <a:pt x="279" y="649"/>
                      </a:lnTo>
                      <a:lnTo>
                        <a:pt x="248" y="639"/>
                      </a:lnTo>
                      <a:lnTo>
                        <a:pt x="216" y="623"/>
                      </a:lnTo>
                      <a:lnTo>
                        <a:pt x="188" y="606"/>
                      </a:lnTo>
                      <a:lnTo>
                        <a:pt x="159" y="584"/>
                      </a:lnTo>
                      <a:lnTo>
                        <a:pt x="133" y="560"/>
                      </a:lnTo>
                      <a:lnTo>
                        <a:pt x="107" y="532"/>
                      </a:lnTo>
                      <a:lnTo>
                        <a:pt x="86" y="504"/>
                      </a:lnTo>
                      <a:lnTo>
                        <a:pt x="67" y="474"/>
                      </a:lnTo>
                      <a:lnTo>
                        <a:pt x="59" y="458"/>
                      </a:lnTo>
                      <a:lnTo>
                        <a:pt x="54" y="444"/>
                      </a:lnTo>
                      <a:lnTo>
                        <a:pt x="41" y="411"/>
                      </a:lnTo>
                      <a:lnTo>
                        <a:pt x="33" y="377"/>
                      </a:lnTo>
                      <a:lnTo>
                        <a:pt x="30" y="359"/>
                      </a:lnTo>
                      <a:lnTo>
                        <a:pt x="29" y="342"/>
                      </a:lnTo>
                      <a:lnTo>
                        <a:pt x="28" y="306"/>
                      </a:lnTo>
                      <a:lnTo>
                        <a:pt x="29" y="269"/>
                      </a:lnTo>
                      <a:lnTo>
                        <a:pt x="33" y="234"/>
                      </a:lnTo>
                      <a:lnTo>
                        <a:pt x="41" y="200"/>
                      </a:lnTo>
                      <a:lnTo>
                        <a:pt x="54" y="168"/>
                      </a:lnTo>
                      <a:lnTo>
                        <a:pt x="67" y="136"/>
                      </a:lnTo>
                      <a:lnTo>
                        <a:pt x="86" y="108"/>
                      </a:lnTo>
                      <a:lnTo>
                        <a:pt x="107" y="80"/>
                      </a:lnTo>
                      <a:lnTo>
                        <a:pt x="133" y="54"/>
                      </a:lnTo>
                      <a:lnTo>
                        <a:pt x="159" y="29"/>
                      </a:lnTo>
                      <a:lnTo>
                        <a:pt x="188" y="7"/>
                      </a:lnTo>
                      <a:lnTo>
                        <a:pt x="151" y="0"/>
                      </a:lnTo>
                      <a:close/>
                    </a:path>
                  </a:pathLst>
                </a:custGeom>
                <a:solidFill>
                  <a:srgbClr val="3c5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167520" y="2503080"/>
                  <a:ext cx="151920" cy="187920"/>
                </a:xfrm>
                <a:custGeom>
                  <a:avLst/>
                  <a:gdLst/>
                  <a:ahLst/>
                  <a:rect l="l" t="t" r="r" b="b"/>
                  <a:pathLst>
                    <a:path w="531" h="658">
                      <a:moveTo>
                        <a:pt x="160" y="0"/>
                      </a:moveTo>
                      <a:lnTo>
                        <a:pt x="131" y="22"/>
                      </a:lnTo>
                      <a:lnTo>
                        <a:pt x="105" y="47"/>
                      </a:lnTo>
                      <a:lnTo>
                        <a:pt x="79" y="73"/>
                      </a:lnTo>
                      <a:lnTo>
                        <a:pt x="58" y="101"/>
                      </a:lnTo>
                      <a:lnTo>
                        <a:pt x="39" y="129"/>
                      </a:lnTo>
                      <a:lnTo>
                        <a:pt x="26" y="161"/>
                      </a:lnTo>
                      <a:lnTo>
                        <a:pt x="13" y="193"/>
                      </a:lnTo>
                      <a:lnTo>
                        <a:pt x="5" y="227"/>
                      </a:lnTo>
                      <a:lnTo>
                        <a:pt x="1" y="262"/>
                      </a:lnTo>
                      <a:lnTo>
                        <a:pt x="0" y="299"/>
                      </a:lnTo>
                      <a:lnTo>
                        <a:pt x="1" y="335"/>
                      </a:lnTo>
                      <a:lnTo>
                        <a:pt x="2" y="352"/>
                      </a:lnTo>
                      <a:lnTo>
                        <a:pt x="5" y="370"/>
                      </a:lnTo>
                      <a:lnTo>
                        <a:pt x="13" y="404"/>
                      </a:lnTo>
                      <a:lnTo>
                        <a:pt x="26" y="437"/>
                      </a:lnTo>
                      <a:lnTo>
                        <a:pt x="31" y="451"/>
                      </a:lnTo>
                      <a:lnTo>
                        <a:pt x="39" y="467"/>
                      </a:lnTo>
                      <a:lnTo>
                        <a:pt x="58" y="497"/>
                      </a:lnTo>
                      <a:lnTo>
                        <a:pt x="79" y="525"/>
                      </a:lnTo>
                      <a:lnTo>
                        <a:pt x="105" y="553"/>
                      </a:lnTo>
                      <a:lnTo>
                        <a:pt x="131" y="577"/>
                      </a:lnTo>
                      <a:lnTo>
                        <a:pt x="160" y="599"/>
                      </a:lnTo>
                      <a:lnTo>
                        <a:pt x="188" y="616"/>
                      </a:lnTo>
                      <a:lnTo>
                        <a:pt x="220" y="632"/>
                      </a:lnTo>
                      <a:lnTo>
                        <a:pt x="251" y="642"/>
                      </a:lnTo>
                      <a:lnTo>
                        <a:pt x="285" y="651"/>
                      </a:lnTo>
                      <a:lnTo>
                        <a:pt x="321" y="655"/>
                      </a:lnTo>
                      <a:lnTo>
                        <a:pt x="358" y="658"/>
                      </a:lnTo>
                      <a:lnTo>
                        <a:pt x="363" y="657"/>
                      </a:lnTo>
                      <a:lnTo>
                        <a:pt x="368" y="657"/>
                      </a:lnTo>
                      <a:lnTo>
                        <a:pt x="380" y="657"/>
                      </a:lnTo>
                      <a:lnTo>
                        <a:pt x="402" y="654"/>
                      </a:lnTo>
                      <a:lnTo>
                        <a:pt x="423" y="651"/>
                      </a:lnTo>
                      <a:lnTo>
                        <a:pt x="433" y="649"/>
                      </a:lnTo>
                      <a:lnTo>
                        <a:pt x="444" y="647"/>
                      </a:lnTo>
                      <a:lnTo>
                        <a:pt x="453" y="644"/>
                      </a:lnTo>
                      <a:lnTo>
                        <a:pt x="463" y="642"/>
                      </a:lnTo>
                      <a:lnTo>
                        <a:pt x="484" y="635"/>
                      </a:lnTo>
                      <a:lnTo>
                        <a:pt x="493" y="630"/>
                      </a:lnTo>
                      <a:lnTo>
                        <a:pt x="497" y="628"/>
                      </a:lnTo>
                      <a:lnTo>
                        <a:pt x="500" y="627"/>
                      </a:lnTo>
                      <a:lnTo>
                        <a:pt x="503" y="627"/>
                      </a:lnTo>
                      <a:lnTo>
                        <a:pt x="524" y="619"/>
                      </a:lnTo>
                      <a:lnTo>
                        <a:pt x="531" y="583"/>
                      </a:lnTo>
                      <a:lnTo>
                        <a:pt x="511" y="593"/>
                      </a:lnTo>
                      <a:lnTo>
                        <a:pt x="491" y="603"/>
                      </a:lnTo>
                      <a:lnTo>
                        <a:pt x="479" y="607"/>
                      </a:lnTo>
                      <a:lnTo>
                        <a:pt x="469" y="611"/>
                      </a:lnTo>
                      <a:lnTo>
                        <a:pt x="449" y="618"/>
                      </a:lnTo>
                      <a:lnTo>
                        <a:pt x="426" y="623"/>
                      </a:lnTo>
                      <a:lnTo>
                        <a:pt x="404" y="627"/>
                      </a:lnTo>
                      <a:lnTo>
                        <a:pt x="381" y="629"/>
                      </a:lnTo>
                      <a:lnTo>
                        <a:pt x="358" y="630"/>
                      </a:lnTo>
                      <a:lnTo>
                        <a:pt x="324" y="628"/>
                      </a:lnTo>
                      <a:lnTo>
                        <a:pt x="292" y="624"/>
                      </a:lnTo>
                      <a:lnTo>
                        <a:pt x="260" y="616"/>
                      </a:lnTo>
                      <a:lnTo>
                        <a:pt x="231" y="606"/>
                      </a:lnTo>
                      <a:lnTo>
                        <a:pt x="202" y="591"/>
                      </a:lnTo>
                      <a:lnTo>
                        <a:pt x="174" y="575"/>
                      </a:lnTo>
                      <a:lnTo>
                        <a:pt x="148" y="556"/>
                      </a:lnTo>
                      <a:lnTo>
                        <a:pt x="124" y="534"/>
                      </a:lnTo>
                      <a:lnTo>
                        <a:pt x="101" y="508"/>
                      </a:lnTo>
                      <a:lnTo>
                        <a:pt x="81" y="482"/>
                      </a:lnTo>
                      <a:lnTo>
                        <a:pt x="64" y="455"/>
                      </a:lnTo>
                      <a:lnTo>
                        <a:pt x="56" y="440"/>
                      </a:lnTo>
                      <a:lnTo>
                        <a:pt x="51" y="426"/>
                      </a:lnTo>
                      <a:lnTo>
                        <a:pt x="44" y="411"/>
                      </a:lnTo>
                      <a:lnTo>
                        <a:pt x="39" y="396"/>
                      </a:lnTo>
                      <a:lnTo>
                        <a:pt x="35" y="380"/>
                      </a:lnTo>
                      <a:lnTo>
                        <a:pt x="33" y="365"/>
                      </a:lnTo>
                      <a:lnTo>
                        <a:pt x="29" y="348"/>
                      </a:lnTo>
                      <a:lnTo>
                        <a:pt x="28" y="332"/>
                      </a:lnTo>
                      <a:lnTo>
                        <a:pt x="27" y="299"/>
                      </a:lnTo>
                      <a:lnTo>
                        <a:pt x="28" y="265"/>
                      </a:lnTo>
                      <a:lnTo>
                        <a:pt x="33" y="234"/>
                      </a:lnTo>
                      <a:lnTo>
                        <a:pt x="39" y="202"/>
                      </a:lnTo>
                      <a:lnTo>
                        <a:pt x="51" y="172"/>
                      </a:lnTo>
                      <a:lnTo>
                        <a:pt x="64" y="143"/>
                      </a:lnTo>
                      <a:lnTo>
                        <a:pt x="81" y="116"/>
                      </a:lnTo>
                      <a:lnTo>
                        <a:pt x="101" y="90"/>
                      </a:lnTo>
                      <a:lnTo>
                        <a:pt x="124" y="66"/>
                      </a:lnTo>
                      <a:lnTo>
                        <a:pt x="140" y="49"/>
                      </a:lnTo>
                      <a:lnTo>
                        <a:pt x="158" y="35"/>
                      </a:lnTo>
                      <a:lnTo>
                        <a:pt x="196" y="11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3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174720" y="2506320"/>
                  <a:ext cx="145800" cy="176400"/>
                </a:xfrm>
                <a:custGeom>
                  <a:avLst/>
                  <a:gdLst/>
                  <a:ahLst/>
                  <a:rect l="l" t="t" r="r" b="b"/>
                  <a:pathLst>
                    <a:path w="509" h="619">
                      <a:moveTo>
                        <a:pt x="117" y="74"/>
                      </a:moveTo>
                      <a:lnTo>
                        <a:pt x="136" y="55"/>
                      </a:lnTo>
                      <a:lnTo>
                        <a:pt x="158" y="38"/>
                      </a:lnTo>
                      <a:lnTo>
                        <a:pt x="179" y="23"/>
                      </a:lnTo>
                      <a:lnTo>
                        <a:pt x="203" y="13"/>
                      </a:lnTo>
                      <a:lnTo>
                        <a:pt x="169" y="0"/>
                      </a:lnTo>
                      <a:lnTo>
                        <a:pt x="131" y="24"/>
                      </a:lnTo>
                      <a:lnTo>
                        <a:pt x="113" y="38"/>
                      </a:lnTo>
                      <a:lnTo>
                        <a:pt x="97" y="55"/>
                      </a:lnTo>
                      <a:lnTo>
                        <a:pt x="74" y="79"/>
                      </a:lnTo>
                      <a:lnTo>
                        <a:pt x="54" y="105"/>
                      </a:lnTo>
                      <a:lnTo>
                        <a:pt x="37" y="132"/>
                      </a:lnTo>
                      <a:lnTo>
                        <a:pt x="24" y="161"/>
                      </a:lnTo>
                      <a:lnTo>
                        <a:pt x="12" y="191"/>
                      </a:lnTo>
                      <a:lnTo>
                        <a:pt x="6" y="223"/>
                      </a:lnTo>
                      <a:lnTo>
                        <a:pt x="1" y="254"/>
                      </a:lnTo>
                      <a:lnTo>
                        <a:pt x="0" y="288"/>
                      </a:lnTo>
                      <a:lnTo>
                        <a:pt x="1" y="321"/>
                      </a:lnTo>
                      <a:lnTo>
                        <a:pt x="2" y="337"/>
                      </a:lnTo>
                      <a:lnTo>
                        <a:pt x="6" y="354"/>
                      </a:lnTo>
                      <a:lnTo>
                        <a:pt x="8" y="369"/>
                      </a:lnTo>
                      <a:lnTo>
                        <a:pt x="12" y="385"/>
                      </a:lnTo>
                      <a:lnTo>
                        <a:pt x="17" y="400"/>
                      </a:lnTo>
                      <a:lnTo>
                        <a:pt x="24" y="415"/>
                      </a:lnTo>
                      <a:lnTo>
                        <a:pt x="29" y="429"/>
                      </a:lnTo>
                      <a:lnTo>
                        <a:pt x="37" y="444"/>
                      </a:lnTo>
                      <a:lnTo>
                        <a:pt x="54" y="471"/>
                      </a:lnTo>
                      <a:lnTo>
                        <a:pt x="74" y="497"/>
                      </a:lnTo>
                      <a:lnTo>
                        <a:pt x="97" y="523"/>
                      </a:lnTo>
                      <a:lnTo>
                        <a:pt x="121" y="545"/>
                      </a:lnTo>
                      <a:lnTo>
                        <a:pt x="147" y="564"/>
                      </a:lnTo>
                      <a:lnTo>
                        <a:pt x="175" y="580"/>
                      </a:lnTo>
                      <a:lnTo>
                        <a:pt x="204" y="595"/>
                      </a:lnTo>
                      <a:lnTo>
                        <a:pt x="233" y="605"/>
                      </a:lnTo>
                      <a:lnTo>
                        <a:pt x="265" y="613"/>
                      </a:lnTo>
                      <a:lnTo>
                        <a:pt x="297" y="617"/>
                      </a:lnTo>
                      <a:lnTo>
                        <a:pt x="331" y="619"/>
                      </a:lnTo>
                      <a:lnTo>
                        <a:pt x="354" y="618"/>
                      </a:lnTo>
                      <a:lnTo>
                        <a:pt x="377" y="616"/>
                      </a:lnTo>
                      <a:lnTo>
                        <a:pt x="399" y="612"/>
                      </a:lnTo>
                      <a:lnTo>
                        <a:pt x="422" y="607"/>
                      </a:lnTo>
                      <a:lnTo>
                        <a:pt x="442" y="600"/>
                      </a:lnTo>
                      <a:lnTo>
                        <a:pt x="452" y="596"/>
                      </a:lnTo>
                      <a:lnTo>
                        <a:pt x="464" y="592"/>
                      </a:lnTo>
                      <a:lnTo>
                        <a:pt x="484" y="582"/>
                      </a:lnTo>
                      <a:lnTo>
                        <a:pt x="504" y="572"/>
                      </a:lnTo>
                      <a:lnTo>
                        <a:pt x="509" y="536"/>
                      </a:lnTo>
                      <a:lnTo>
                        <a:pt x="489" y="548"/>
                      </a:lnTo>
                      <a:lnTo>
                        <a:pt x="468" y="559"/>
                      </a:lnTo>
                      <a:lnTo>
                        <a:pt x="457" y="564"/>
                      </a:lnTo>
                      <a:lnTo>
                        <a:pt x="451" y="566"/>
                      </a:lnTo>
                      <a:lnTo>
                        <a:pt x="447" y="570"/>
                      </a:lnTo>
                      <a:lnTo>
                        <a:pt x="435" y="573"/>
                      </a:lnTo>
                      <a:lnTo>
                        <a:pt x="425" y="578"/>
                      </a:lnTo>
                      <a:lnTo>
                        <a:pt x="413" y="580"/>
                      </a:lnTo>
                      <a:lnTo>
                        <a:pt x="401" y="583"/>
                      </a:lnTo>
                      <a:lnTo>
                        <a:pt x="379" y="588"/>
                      </a:lnTo>
                      <a:lnTo>
                        <a:pt x="372" y="588"/>
                      </a:lnTo>
                      <a:lnTo>
                        <a:pt x="368" y="588"/>
                      </a:lnTo>
                      <a:lnTo>
                        <a:pt x="366" y="589"/>
                      </a:lnTo>
                      <a:lnTo>
                        <a:pt x="355" y="591"/>
                      </a:lnTo>
                      <a:lnTo>
                        <a:pt x="342" y="591"/>
                      </a:lnTo>
                      <a:lnTo>
                        <a:pt x="331" y="592"/>
                      </a:lnTo>
                      <a:lnTo>
                        <a:pt x="299" y="590"/>
                      </a:lnTo>
                      <a:lnTo>
                        <a:pt x="270" y="587"/>
                      </a:lnTo>
                      <a:lnTo>
                        <a:pt x="240" y="579"/>
                      </a:lnTo>
                      <a:lnTo>
                        <a:pt x="214" y="570"/>
                      </a:lnTo>
                      <a:lnTo>
                        <a:pt x="187" y="556"/>
                      </a:lnTo>
                      <a:lnTo>
                        <a:pt x="162" y="541"/>
                      </a:lnTo>
                      <a:lnTo>
                        <a:pt x="138" y="522"/>
                      </a:lnTo>
                      <a:lnTo>
                        <a:pt x="117" y="503"/>
                      </a:lnTo>
                      <a:lnTo>
                        <a:pt x="95" y="479"/>
                      </a:lnTo>
                      <a:lnTo>
                        <a:pt x="85" y="466"/>
                      </a:lnTo>
                      <a:lnTo>
                        <a:pt x="77" y="455"/>
                      </a:lnTo>
                      <a:lnTo>
                        <a:pt x="62" y="430"/>
                      </a:lnTo>
                      <a:lnTo>
                        <a:pt x="50" y="404"/>
                      </a:lnTo>
                      <a:lnTo>
                        <a:pt x="40" y="376"/>
                      </a:lnTo>
                      <a:lnTo>
                        <a:pt x="35" y="361"/>
                      </a:lnTo>
                      <a:lnTo>
                        <a:pt x="33" y="347"/>
                      </a:lnTo>
                      <a:lnTo>
                        <a:pt x="29" y="318"/>
                      </a:lnTo>
                      <a:lnTo>
                        <a:pt x="28" y="288"/>
                      </a:lnTo>
                      <a:lnTo>
                        <a:pt x="29" y="257"/>
                      </a:lnTo>
                      <a:lnTo>
                        <a:pt x="33" y="227"/>
                      </a:lnTo>
                      <a:lnTo>
                        <a:pt x="40" y="198"/>
                      </a:lnTo>
                      <a:lnTo>
                        <a:pt x="50" y="172"/>
                      </a:lnTo>
                      <a:lnTo>
                        <a:pt x="62" y="144"/>
                      </a:lnTo>
                      <a:lnTo>
                        <a:pt x="77" y="119"/>
                      </a:lnTo>
                      <a:lnTo>
                        <a:pt x="95" y="96"/>
                      </a:lnTo>
                      <a:lnTo>
                        <a:pt x="117" y="74"/>
                      </a:lnTo>
                      <a:close/>
                    </a:path>
                  </a:pathLst>
                </a:custGeom>
                <a:solidFill>
                  <a:srgbClr val="426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183360" y="2509920"/>
                  <a:ext cx="138240" cy="165600"/>
                </a:xfrm>
                <a:custGeom>
                  <a:avLst/>
                  <a:gdLst/>
                  <a:ahLst/>
                  <a:rect l="l" t="t" r="r" b="b"/>
                  <a:pathLst>
                    <a:path w="484" h="579">
                      <a:moveTo>
                        <a:pt x="175" y="0"/>
                      </a:moveTo>
                      <a:lnTo>
                        <a:pt x="151" y="10"/>
                      </a:lnTo>
                      <a:lnTo>
                        <a:pt x="130" y="25"/>
                      </a:lnTo>
                      <a:lnTo>
                        <a:pt x="108" y="42"/>
                      </a:lnTo>
                      <a:lnTo>
                        <a:pt x="89" y="61"/>
                      </a:lnTo>
                      <a:lnTo>
                        <a:pt x="67" y="83"/>
                      </a:lnTo>
                      <a:lnTo>
                        <a:pt x="49" y="106"/>
                      </a:lnTo>
                      <a:lnTo>
                        <a:pt x="34" y="131"/>
                      </a:lnTo>
                      <a:lnTo>
                        <a:pt x="22" y="159"/>
                      </a:lnTo>
                      <a:lnTo>
                        <a:pt x="12" y="185"/>
                      </a:lnTo>
                      <a:lnTo>
                        <a:pt x="5" y="214"/>
                      </a:lnTo>
                      <a:lnTo>
                        <a:pt x="1" y="244"/>
                      </a:lnTo>
                      <a:lnTo>
                        <a:pt x="0" y="275"/>
                      </a:lnTo>
                      <a:lnTo>
                        <a:pt x="1" y="305"/>
                      </a:lnTo>
                      <a:lnTo>
                        <a:pt x="5" y="334"/>
                      </a:lnTo>
                      <a:lnTo>
                        <a:pt x="7" y="348"/>
                      </a:lnTo>
                      <a:lnTo>
                        <a:pt x="12" y="363"/>
                      </a:lnTo>
                      <a:lnTo>
                        <a:pt x="22" y="391"/>
                      </a:lnTo>
                      <a:lnTo>
                        <a:pt x="34" y="417"/>
                      </a:lnTo>
                      <a:lnTo>
                        <a:pt x="49" y="442"/>
                      </a:lnTo>
                      <a:lnTo>
                        <a:pt x="57" y="453"/>
                      </a:lnTo>
                      <a:lnTo>
                        <a:pt x="67" y="466"/>
                      </a:lnTo>
                      <a:lnTo>
                        <a:pt x="89" y="490"/>
                      </a:lnTo>
                      <a:lnTo>
                        <a:pt x="110" y="509"/>
                      </a:lnTo>
                      <a:lnTo>
                        <a:pt x="134" y="528"/>
                      </a:lnTo>
                      <a:lnTo>
                        <a:pt x="159" y="543"/>
                      </a:lnTo>
                      <a:lnTo>
                        <a:pt x="186" y="557"/>
                      </a:lnTo>
                      <a:lnTo>
                        <a:pt x="212" y="566"/>
                      </a:lnTo>
                      <a:lnTo>
                        <a:pt x="242" y="574"/>
                      </a:lnTo>
                      <a:lnTo>
                        <a:pt x="271" y="577"/>
                      </a:lnTo>
                      <a:lnTo>
                        <a:pt x="303" y="579"/>
                      </a:lnTo>
                      <a:lnTo>
                        <a:pt x="314" y="578"/>
                      </a:lnTo>
                      <a:lnTo>
                        <a:pt x="327" y="578"/>
                      </a:lnTo>
                      <a:lnTo>
                        <a:pt x="338" y="576"/>
                      </a:lnTo>
                      <a:lnTo>
                        <a:pt x="340" y="575"/>
                      </a:lnTo>
                      <a:lnTo>
                        <a:pt x="344" y="575"/>
                      </a:lnTo>
                      <a:lnTo>
                        <a:pt x="351" y="575"/>
                      </a:lnTo>
                      <a:lnTo>
                        <a:pt x="373" y="570"/>
                      </a:lnTo>
                      <a:lnTo>
                        <a:pt x="385" y="567"/>
                      </a:lnTo>
                      <a:lnTo>
                        <a:pt x="397" y="565"/>
                      </a:lnTo>
                      <a:lnTo>
                        <a:pt x="407" y="560"/>
                      </a:lnTo>
                      <a:lnTo>
                        <a:pt x="419" y="557"/>
                      </a:lnTo>
                      <a:lnTo>
                        <a:pt x="423" y="553"/>
                      </a:lnTo>
                      <a:lnTo>
                        <a:pt x="429" y="551"/>
                      </a:lnTo>
                      <a:lnTo>
                        <a:pt x="440" y="546"/>
                      </a:lnTo>
                      <a:lnTo>
                        <a:pt x="461" y="535"/>
                      </a:lnTo>
                      <a:lnTo>
                        <a:pt x="481" y="523"/>
                      </a:lnTo>
                      <a:lnTo>
                        <a:pt x="484" y="485"/>
                      </a:lnTo>
                      <a:lnTo>
                        <a:pt x="464" y="500"/>
                      </a:lnTo>
                      <a:lnTo>
                        <a:pt x="444" y="513"/>
                      </a:lnTo>
                      <a:lnTo>
                        <a:pt x="422" y="525"/>
                      </a:lnTo>
                      <a:lnTo>
                        <a:pt x="411" y="529"/>
                      </a:lnTo>
                      <a:lnTo>
                        <a:pt x="405" y="532"/>
                      </a:lnTo>
                      <a:lnTo>
                        <a:pt x="400" y="535"/>
                      </a:lnTo>
                      <a:lnTo>
                        <a:pt x="377" y="542"/>
                      </a:lnTo>
                      <a:lnTo>
                        <a:pt x="364" y="544"/>
                      </a:lnTo>
                      <a:lnTo>
                        <a:pt x="353" y="548"/>
                      </a:lnTo>
                      <a:lnTo>
                        <a:pt x="328" y="551"/>
                      </a:lnTo>
                      <a:lnTo>
                        <a:pt x="303" y="552"/>
                      </a:lnTo>
                      <a:lnTo>
                        <a:pt x="275" y="550"/>
                      </a:lnTo>
                      <a:lnTo>
                        <a:pt x="247" y="546"/>
                      </a:lnTo>
                      <a:lnTo>
                        <a:pt x="221" y="540"/>
                      </a:lnTo>
                      <a:lnTo>
                        <a:pt x="198" y="532"/>
                      </a:lnTo>
                      <a:lnTo>
                        <a:pt x="173" y="519"/>
                      </a:lnTo>
                      <a:lnTo>
                        <a:pt x="150" y="506"/>
                      </a:lnTo>
                      <a:lnTo>
                        <a:pt x="128" y="489"/>
                      </a:lnTo>
                      <a:lnTo>
                        <a:pt x="108" y="470"/>
                      </a:lnTo>
                      <a:lnTo>
                        <a:pt x="89" y="449"/>
                      </a:lnTo>
                      <a:lnTo>
                        <a:pt x="72" y="427"/>
                      </a:lnTo>
                      <a:lnTo>
                        <a:pt x="57" y="404"/>
                      </a:lnTo>
                      <a:lnTo>
                        <a:pt x="47" y="381"/>
                      </a:lnTo>
                      <a:lnTo>
                        <a:pt x="41" y="367"/>
                      </a:lnTo>
                      <a:lnTo>
                        <a:pt x="38" y="355"/>
                      </a:lnTo>
                      <a:lnTo>
                        <a:pt x="32" y="330"/>
                      </a:lnTo>
                      <a:lnTo>
                        <a:pt x="29" y="303"/>
                      </a:lnTo>
                      <a:lnTo>
                        <a:pt x="27" y="275"/>
                      </a:lnTo>
                      <a:lnTo>
                        <a:pt x="29" y="247"/>
                      </a:lnTo>
                      <a:lnTo>
                        <a:pt x="32" y="220"/>
                      </a:lnTo>
                      <a:lnTo>
                        <a:pt x="38" y="194"/>
                      </a:lnTo>
                      <a:lnTo>
                        <a:pt x="47" y="170"/>
                      </a:lnTo>
                      <a:lnTo>
                        <a:pt x="57" y="145"/>
                      </a:lnTo>
                      <a:lnTo>
                        <a:pt x="72" y="122"/>
                      </a:lnTo>
                      <a:lnTo>
                        <a:pt x="89" y="101"/>
                      </a:lnTo>
                      <a:lnTo>
                        <a:pt x="108" y="80"/>
                      </a:lnTo>
                      <a:lnTo>
                        <a:pt x="131" y="59"/>
                      </a:lnTo>
                      <a:lnTo>
                        <a:pt x="156" y="41"/>
                      </a:lnTo>
                      <a:lnTo>
                        <a:pt x="181" y="26"/>
                      </a:lnTo>
                      <a:lnTo>
                        <a:pt x="209" y="16"/>
                      </a:lnTo>
                      <a:lnTo>
                        <a:pt x="175" y="0"/>
                      </a:lnTo>
                      <a:close/>
                    </a:path>
                  </a:pathLst>
                </a:custGeom>
                <a:solidFill>
                  <a:srgbClr val="466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120000" y="2500200"/>
                  <a:ext cx="173160" cy="237960"/>
                </a:xfrm>
                <a:custGeom>
                  <a:avLst/>
                  <a:gdLst/>
                  <a:ahLst/>
                  <a:rect l="l" t="t" r="r" b="b"/>
                  <a:pathLst>
                    <a:path w="607" h="833">
                      <a:moveTo>
                        <a:pt x="136" y="0"/>
                      </a:moveTo>
                      <a:lnTo>
                        <a:pt x="97" y="6"/>
                      </a:lnTo>
                      <a:lnTo>
                        <a:pt x="73" y="38"/>
                      </a:lnTo>
                      <a:lnTo>
                        <a:pt x="53" y="74"/>
                      </a:lnTo>
                      <a:lnTo>
                        <a:pt x="36" y="109"/>
                      </a:lnTo>
                      <a:lnTo>
                        <a:pt x="24" y="147"/>
                      </a:lnTo>
                      <a:lnTo>
                        <a:pt x="13" y="185"/>
                      </a:lnTo>
                      <a:lnTo>
                        <a:pt x="6" y="225"/>
                      </a:lnTo>
                      <a:lnTo>
                        <a:pt x="1" y="266"/>
                      </a:lnTo>
                      <a:lnTo>
                        <a:pt x="0" y="309"/>
                      </a:lnTo>
                      <a:lnTo>
                        <a:pt x="0" y="335"/>
                      </a:lnTo>
                      <a:lnTo>
                        <a:pt x="2" y="363"/>
                      </a:lnTo>
                      <a:lnTo>
                        <a:pt x="5" y="388"/>
                      </a:lnTo>
                      <a:lnTo>
                        <a:pt x="9" y="414"/>
                      </a:lnTo>
                      <a:lnTo>
                        <a:pt x="14" y="438"/>
                      </a:lnTo>
                      <a:lnTo>
                        <a:pt x="21" y="462"/>
                      </a:lnTo>
                      <a:lnTo>
                        <a:pt x="39" y="510"/>
                      </a:lnTo>
                      <a:lnTo>
                        <a:pt x="48" y="532"/>
                      </a:lnTo>
                      <a:lnTo>
                        <a:pt x="59" y="554"/>
                      </a:lnTo>
                      <a:lnTo>
                        <a:pt x="72" y="576"/>
                      </a:lnTo>
                      <a:lnTo>
                        <a:pt x="86" y="599"/>
                      </a:lnTo>
                      <a:lnTo>
                        <a:pt x="101" y="619"/>
                      </a:lnTo>
                      <a:lnTo>
                        <a:pt x="118" y="640"/>
                      </a:lnTo>
                      <a:lnTo>
                        <a:pt x="135" y="660"/>
                      </a:lnTo>
                      <a:lnTo>
                        <a:pt x="154" y="680"/>
                      </a:lnTo>
                      <a:lnTo>
                        <a:pt x="192" y="714"/>
                      </a:lnTo>
                      <a:lnTo>
                        <a:pt x="234" y="746"/>
                      </a:lnTo>
                      <a:lnTo>
                        <a:pt x="254" y="760"/>
                      </a:lnTo>
                      <a:lnTo>
                        <a:pt x="276" y="772"/>
                      </a:lnTo>
                      <a:lnTo>
                        <a:pt x="322" y="795"/>
                      </a:lnTo>
                      <a:lnTo>
                        <a:pt x="369" y="811"/>
                      </a:lnTo>
                      <a:lnTo>
                        <a:pt x="394" y="817"/>
                      </a:lnTo>
                      <a:lnTo>
                        <a:pt x="419" y="823"/>
                      </a:lnTo>
                      <a:lnTo>
                        <a:pt x="470" y="830"/>
                      </a:lnTo>
                      <a:lnTo>
                        <a:pt x="497" y="832"/>
                      </a:lnTo>
                      <a:lnTo>
                        <a:pt x="524" y="833"/>
                      </a:lnTo>
                      <a:lnTo>
                        <a:pt x="538" y="832"/>
                      </a:lnTo>
                      <a:lnTo>
                        <a:pt x="552" y="832"/>
                      </a:lnTo>
                      <a:lnTo>
                        <a:pt x="582" y="831"/>
                      </a:lnTo>
                      <a:lnTo>
                        <a:pt x="607" y="799"/>
                      </a:lnTo>
                      <a:lnTo>
                        <a:pt x="566" y="804"/>
                      </a:lnTo>
                      <a:lnTo>
                        <a:pt x="555" y="804"/>
                      </a:lnTo>
                      <a:lnTo>
                        <a:pt x="549" y="804"/>
                      </a:lnTo>
                      <a:lnTo>
                        <a:pt x="544" y="805"/>
                      </a:lnTo>
                      <a:lnTo>
                        <a:pt x="524" y="806"/>
                      </a:lnTo>
                      <a:lnTo>
                        <a:pt x="473" y="804"/>
                      </a:lnTo>
                      <a:lnTo>
                        <a:pt x="424" y="797"/>
                      </a:lnTo>
                      <a:lnTo>
                        <a:pt x="378" y="786"/>
                      </a:lnTo>
                      <a:lnTo>
                        <a:pt x="334" y="770"/>
                      </a:lnTo>
                      <a:lnTo>
                        <a:pt x="289" y="749"/>
                      </a:lnTo>
                      <a:lnTo>
                        <a:pt x="250" y="724"/>
                      </a:lnTo>
                      <a:lnTo>
                        <a:pt x="210" y="695"/>
                      </a:lnTo>
                      <a:lnTo>
                        <a:pt x="174" y="661"/>
                      </a:lnTo>
                      <a:lnTo>
                        <a:pt x="155" y="642"/>
                      </a:lnTo>
                      <a:lnTo>
                        <a:pt x="140" y="623"/>
                      </a:lnTo>
                      <a:lnTo>
                        <a:pt x="124" y="603"/>
                      </a:lnTo>
                      <a:lnTo>
                        <a:pt x="110" y="584"/>
                      </a:lnTo>
                      <a:lnTo>
                        <a:pt x="97" y="562"/>
                      </a:lnTo>
                      <a:lnTo>
                        <a:pt x="85" y="542"/>
                      </a:lnTo>
                      <a:lnTo>
                        <a:pt x="74" y="520"/>
                      </a:lnTo>
                      <a:lnTo>
                        <a:pt x="65" y="500"/>
                      </a:lnTo>
                      <a:lnTo>
                        <a:pt x="49" y="455"/>
                      </a:lnTo>
                      <a:lnTo>
                        <a:pt x="42" y="431"/>
                      </a:lnTo>
                      <a:lnTo>
                        <a:pt x="38" y="408"/>
                      </a:lnTo>
                      <a:lnTo>
                        <a:pt x="33" y="383"/>
                      </a:lnTo>
                      <a:lnTo>
                        <a:pt x="31" y="359"/>
                      </a:lnTo>
                      <a:lnTo>
                        <a:pt x="29" y="309"/>
                      </a:lnTo>
                      <a:lnTo>
                        <a:pt x="30" y="265"/>
                      </a:lnTo>
                      <a:lnTo>
                        <a:pt x="34" y="223"/>
                      </a:lnTo>
                      <a:lnTo>
                        <a:pt x="42" y="181"/>
                      </a:lnTo>
                      <a:lnTo>
                        <a:pt x="55" y="143"/>
                      </a:lnTo>
                      <a:lnTo>
                        <a:pt x="69" y="104"/>
                      </a:lnTo>
                      <a:lnTo>
                        <a:pt x="89" y="68"/>
                      </a:lnTo>
                      <a:lnTo>
                        <a:pt x="110" y="3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2c4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206760" y="2525760"/>
                  <a:ext cx="113760" cy="125640"/>
                </a:xfrm>
                <a:custGeom>
                  <a:avLst/>
                  <a:gdLst/>
                  <a:ahLst/>
                  <a:rect l="l" t="t" r="r" b="b"/>
                  <a:pathLst>
                    <a:path w="398" h="439">
                      <a:moveTo>
                        <a:pt x="27" y="218"/>
                      </a:moveTo>
                      <a:lnTo>
                        <a:pt x="27" y="198"/>
                      </a:lnTo>
                      <a:lnTo>
                        <a:pt x="31" y="180"/>
                      </a:lnTo>
                      <a:lnTo>
                        <a:pt x="41" y="145"/>
                      </a:lnTo>
                      <a:lnTo>
                        <a:pt x="58" y="112"/>
                      </a:lnTo>
                      <a:lnTo>
                        <a:pt x="69" y="96"/>
                      </a:lnTo>
                      <a:lnTo>
                        <a:pt x="84" y="82"/>
                      </a:lnTo>
                      <a:lnTo>
                        <a:pt x="98" y="68"/>
                      </a:lnTo>
                      <a:lnTo>
                        <a:pt x="113" y="56"/>
                      </a:lnTo>
                      <a:lnTo>
                        <a:pt x="146" y="39"/>
                      </a:lnTo>
                      <a:lnTo>
                        <a:pt x="181" y="29"/>
                      </a:lnTo>
                      <a:lnTo>
                        <a:pt x="200" y="26"/>
                      </a:lnTo>
                      <a:lnTo>
                        <a:pt x="220" y="26"/>
                      </a:lnTo>
                      <a:lnTo>
                        <a:pt x="225" y="26"/>
                      </a:lnTo>
                      <a:lnTo>
                        <a:pt x="192" y="0"/>
                      </a:lnTo>
                      <a:lnTo>
                        <a:pt x="156" y="6"/>
                      </a:lnTo>
                      <a:lnTo>
                        <a:pt x="124" y="20"/>
                      </a:lnTo>
                      <a:lnTo>
                        <a:pt x="93" y="38"/>
                      </a:lnTo>
                      <a:lnTo>
                        <a:pt x="65" y="63"/>
                      </a:lnTo>
                      <a:lnTo>
                        <a:pt x="48" y="79"/>
                      </a:lnTo>
                      <a:lnTo>
                        <a:pt x="35" y="96"/>
                      </a:lnTo>
                      <a:lnTo>
                        <a:pt x="16" y="133"/>
                      </a:lnTo>
                      <a:lnTo>
                        <a:pt x="8" y="153"/>
                      </a:lnTo>
                      <a:lnTo>
                        <a:pt x="3" y="174"/>
                      </a:lnTo>
                      <a:lnTo>
                        <a:pt x="0" y="218"/>
                      </a:lnTo>
                      <a:lnTo>
                        <a:pt x="0" y="240"/>
                      </a:lnTo>
                      <a:lnTo>
                        <a:pt x="3" y="261"/>
                      </a:lnTo>
                      <a:lnTo>
                        <a:pt x="8" y="282"/>
                      </a:lnTo>
                      <a:lnTo>
                        <a:pt x="16" y="302"/>
                      </a:lnTo>
                      <a:lnTo>
                        <a:pt x="24" y="320"/>
                      </a:lnTo>
                      <a:lnTo>
                        <a:pt x="35" y="340"/>
                      </a:lnTo>
                      <a:lnTo>
                        <a:pt x="48" y="357"/>
                      </a:lnTo>
                      <a:lnTo>
                        <a:pt x="65" y="375"/>
                      </a:lnTo>
                      <a:lnTo>
                        <a:pt x="81" y="390"/>
                      </a:lnTo>
                      <a:lnTo>
                        <a:pt x="98" y="402"/>
                      </a:lnTo>
                      <a:lnTo>
                        <a:pt x="116" y="412"/>
                      </a:lnTo>
                      <a:lnTo>
                        <a:pt x="135" y="422"/>
                      </a:lnTo>
                      <a:lnTo>
                        <a:pt x="154" y="429"/>
                      </a:lnTo>
                      <a:lnTo>
                        <a:pt x="176" y="435"/>
                      </a:lnTo>
                      <a:lnTo>
                        <a:pt x="197" y="438"/>
                      </a:lnTo>
                      <a:lnTo>
                        <a:pt x="220" y="439"/>
                      </a:lnTo>
                      <a:lnTo>
                        <a:pt x="225" y="438"/>
                      </a:lnTo>
                      <a:lnTo>
                        <a:pt x="230" y="438"/>
                      </a:lnTo>
                      <a:lnTo>
                        <a:pt x="242" y="438"/>
                      </a:lnTo>
                      <a:lnTo>
                        <a:pt x="252" y="436"/>
                      </a:lnTo>
                      <a:lnTo>
                        <a:pt x="263" y="435"/>
                      </a:lnTo>
                      <a:lnTo>
                        <a:pt x="283" y="429"/>
                      </a:lnTo>
                      <a:lnTo>
                        <a:pt x="304" y="422"/>
                      </a:lnTo>
                      <a:lnTo>
                        <a:pt x="322" y="412"/>
                      </a:lnTo>
                      <a:lnTo>
                        <a:pt x="331" y="407"/>
                      </a:lnTo>
                      <a:lnTo>
                        <a:pt x="341" y="402"/>
                      </a:lnTo>
                      <a:lnTo>
                        <a:pt x="349" y="395"/>
                      </a:lnTo>
                      <a:lnTo>
                        <a:pt x="358" y="390"/>
                      </a:lnTo>
                      <a:lnTo>
                        <a:pt x="376" y="375"/>
                      </a:lnTo>
                      <a:lnTo>
                        <a:pt x="381" y="368"/>
                      </a:lnTo>
                      <a:lnTo>
                        <a:pt x="383" y="365"/>
                      </a:lnTo>
                      <a:lnTo>
                        <a:pt x="387" y="362"/>
                      </a:lnTo>
                      <a:lnTo>
                        <a:pt x="398" y="350"/>
                      </a:lnTo>
                      <a:lnTo>
                        <a:pt x="391" y="309"/>
                      </a:lnTo>
                      <a:lnTo>
                        <a:pt x="383" y="320"/>
                      </a:lnTo>
                      <a:lnTo>
                        <a:pt x="379" y="326"/>
                      </a:lnTo>
                      <a:lnTo>
                        <a:pt x="375" y="333"/>
                      </a:lnTo>
                      <a:lnTo>
                        <a:pt x="357" y="356"/>
                      </a:lnTo>
                      <a:lnTo>
                        <a:pt x="341" y="368"/>
                      </a:lnTo>
                      <a:lnTo>
                        <a:pt x="327" y="379"/>
                      </a:lnTo>
                      <a:lnTo>
                        <a:pt x="310" y="388"/>
                      </a:lnTo>
                      <a:lnTo>
                        <a:pt x="294" y="396"/>
                      </a:lnTo>
                      <a:lnTo>
                        <a:pt x="276" y="402"/>
                      </a:lnTo>
                      <a:lnTo>
                        <a:pt x="257" y="407"/>
                      </a:lnTo>
                      <a:lnTo>
                        <a:pt x="252" y="407"/>
                      </a:lnTo>
                      <a:lnTo>
                        <a:pt x="247" y="408"/>
                      </a:lnTo>
                      <a:lnTo>
                        <a:pt x="238" y="410"/>
                      </a:lnTo>
                      <a:lnTo>
                        <a:pt x="220" y="411"/>
                      </a:lnTo>
                      <a:lnTo>
                        <a:pt x="200" y="410"/>
                      </a:lnTo>
                      <a:lnTo>
                        <a:pt x="181" y="407"/>
                      </a:lnTo>
                      <a:lnTo>
                        <a:pt x="163" y="402"/>
                      </a:lnTo>
                      <a:lnTo>
                        <a:pt x="146" y="396"/>
                      </a:lnTo>
                      <a:lnTo>
                        <a:pt x="129" y="388"/>
                      </a:lnTo>
                      <a:lnTo>
                        <a:pt x="113" y="379"/>
                      </a:lnTo>
                      <a:lnTo>
                        <a:pt x="98" y="368"/>
                      </a:lnTo>
                      <a:lnTo>
                        <a:pt x="84" y="356"/>
                      </a:lnTo>
                      <a:lnTo>
                        <a:pt x="69" y="340"/>
                      </a:lnTo>
                      <a:lnTo>
                        <a:pt x="58" y="325"/>
                      </a:lnTo>
                      <a:lnTo>
                        <a:pt x="48" y="308"/>
                      </a:lnTo>
                      <a:lnTo>
                        <a:pt x="41" y="292"/>
                      </a:lnTo>
                      <a:lnTo>
                        <a:pt x="34" y="274"/>
                      </a:lnTo>
                      <a:lnTo>
                        <a:pt x="31" y="256"/>
                      </a:lnTo>
                      <a:lnTo>
                        <a:pt x="27" y="237"/>
                      </a:lnTo>
                      <a:lnTo>
                        <a:pt x="27" y="218"/>
                      </a:lnTo>
                      <a:close/>
                    </a:path>
                  </a:pathLst>
                </a:custGeom>
                <a:solidFill>
                  <a:srgbClr val="4f7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215040" y="2533320"/>
                  <a:ext cx="104040" cy="110160"/>
                </a:xfrm>
                <a:custGeom>
                  <a:avLst/>
                  <a:gdLst/>
                  <a:ahLst/>
                  <a:rect l="l" t="t" r="r" b="b"/>
                  <a:pathLst>
                    <a:path w="364" h="385">
                      <a:moveTo>
                        <a:pt x="57" y="56"/>
                      </a:moveTo>
                      <a:lnTo>
                        <a:pt x="42" y="70"/>
                      </a:lnTo>
                      <a:lnTo>
                        <a:pt x="31" y="86"/>
                      </a:lnTo>
                      <a:lnTo>
                        <a:pt x="14" y="119"/>
                      </a:lnTo>
                      <a:lnTo>
                        <a:pt x="4" y="154"/>
                      </a:lnTo>
                      <a:lnTo>
                        <a:pt x="0" y="172"/>
                      </a:lnTo>
                      <a:lnTo>
                        <a:pt x="0" y="192"/>
                      </a:lnTo>
                      <a:lnTo>
                        <a:pt x="0" y="211"/>
                      </a:lnTo>
                      <a:lnTo>
                        <a:pt x="4" y="230"/>
                      </a:lnTo>
                      <a:lnTo>
                        <a:pt x="7" y="248"/>
                      </a:lnTo>
                      <a:lnTo>
                        <a:pt x="14" y="266"/>
                      </a:lnTo>
                      <a:lnTo>
                        <a:pt x="21" y="282"/>
                      </a:lnTo>
                      <a:lnTo>
                        <a:pt x="31" y="299"/>
                      </a:lnTo>
                      <a:lnTo>
                        <a:pt x="42" y="314"/>
                      </a:lnTo>
                      <a:lnTo>
                        <a:pt x="57" y="330"/>
                      </a:lnTo>
                      <a:lnTo>
                        <a:pt x="71" y="342"/>
                      </a:lnTo>
                      <a:lnTo>
                        <a:pt x="86" y="353"/>
                      </a:lnTo>
                      <a:lnTo>
                        <a:pt x="102" y="362"/>
                      </a:lnTo>
                      <a:lnTo>
                        <a:pt x="119" y="370"/>
                      </a:lnTo>
                      <a:lnTo>
                        <a:pt x="136" y="376"/>
                      </a:lnTo>
                      <a:lnTo>
                        <a:pt x="154" y="381"/>
                      </a:lnTo>
                      <a:lnTo>
                        <a:pt x="173" y="384"/>
                      </a:lnTo>
                      <a:lnTo>
                        <a:pt x="193" y="385"/>
                      </a:lnTo>
                      <a:lnTo>
                        <a:pt x="211" y="384"/>
                      </a:lnTo>
                      <a:lnTo>
                        <a:pt x="220" y="382"/>
                      </a:lnTo>
                      <a:lnTo>
                        <a:pt x="225" y="381"/>
                      </a:lnTo>
                      <a:lnTo>
                        <a:pt x="230" y="381"/>
                      </a:lnTo>
                      <a:lnTo>
                        <a:pt x="249" y="376"/>
                      </a:lnTo>
                      <a:lnTo>
                        <a:pt x="267" y="370"/>
                      </a:lnTo>
                      <a:lnTo>
                        <a:pt x="283" y="362"/>
                      </a:lnTo>
                      <a:lnTo>
                        <a:pt x="300" y="353"/>
                      </a:lnTo>
                      <a:lnTo>
                        <a:pt x="314" y="342"/>
                      </a:lnTo>
                      <a:lnTo>
                        <a:pt x="330" y="330"/>
                      </a:lnTo>
                      <a:lnTo>
                        <a:pt x="348" y="307"/>
                      </a:lnTo>
                      <a:lnTo>
                        <a:pt x="352" y="300"/>
                      </a:lnTo>
                      <a:lnTo>
                        <a:pt x="356" y="294"/>
                      </a:lnTo>
                      <a:lnTo>
                        <a:pt x="364" y="283"/>
                      </a:lnTo>
                      <a:lnTo>
                        <a:pt x="354" y="237"/>
                      </a:lnTo>
                      <a:lnTo>
                        <a:pt x="349" y="246"/>
                      </a:lnTo>
                      <a:lnTo>
                        <a:pt x="347" y="250"/>
                      </a:lnTo>
                      <a:lnTo>
                        <a:pt x="346" y="252"/>
                      </a:lnTo>
                      <a:lnTo>
                        <a:pt x="346" y="256"/>
                      </a:lnTo>
                      <a:lnTo>
                        <a:pt x="342" y="265"/>
                      </a:lnTo>
                      <a:lnTo>
                        <a:pt x="337" y="275"/>
                      </a:lnTo>
                      <a:lnTo>
                        <a:pt x="330" y="283"/>
                      </a:lnTo>
                      <a:lnTo>
                        <a:pt x="325" y="292"/>
                      </a:lnTo>
                      <a:lnTo>
                        <a:pt x="318" y="300"/>
                      </a:lnTo>
                      <a:lnTo>
                        <a:pt x="311" y="309"/>
                      </a:lnTo>
                      <a:lnTo>
                        <a:pt x="297" y="319"/>
                      </a:lnTo>
                      <a:lnTo>
                        <a:pt x="290" y="324"/>
                      </a:lnTo>
                      <a:lnTo>
                        <a:pt x="287" y="326"/>
                      </a:lnTo>
                      <a:lnTo>
                        <a:pt x="285" y="330"/>
                      </a:lnTo>
                      <a:lnTo>
                        <a:pt x="280" y="331"/>
                      </a:lnTo>
                      <a:lnTo>
                        <a:pt x="277" y="333"/>
                      </a:lnTo>
                      <a:lnTo>
                        <a:pt x="270" y="338"/>
                      </a:lnTo>
                      <a:lnTo>
                        <a:pt x="256" y="345"/>
                      </a:lnTo>
                      <a:lnTo>
                        <a:pt x="241" y="350"/>
                      </a:lnTo>
                      <a:lnTo>
                        <a:pt x="226" y="355"/>
                      </a:lnTo>
                      <a:lnTo>
                        <a:pt x="209" y="357"/>
                      </a:lnTo>
                      <a:lnTo>
                        <a:pt x="193" y="358"/>
                      </a:lnTo>
                      <a:lnTo>
                        <a:pt x="176" y="357"/>
                      </a:lnTo>
                      <a:lnTo>
                        <a:pt x="160" y="355"/>
                      </a:lnTo>
                      <a:lnTo>
                        <a:pt x="129" y="345"/>
                      </a:lnTo>
                      <a:lnTo>
                        <a:pt x="101" y="330"/>
                      </a:lnTo>
                      <a:lnTo>
                        <a:pt x="88" y="319"/>
                      </a:lnTo>
                      <a:lnTo>
                        <a:pt x="76" y="309"/>
                      </a:lnTo>
                      <a:lnTo>
                        <a:pt x="64" y="296"/>
                      </a:lnTo>
                      <a:lnTo>
                        <a:pt x="54" y="283"/>
                      </a:lnTo>
                      <a:lnTo>
                        <a:pt x="44" y="269"/>
                      </a:lnTo>
                      <a:lnTo>
                        <a:pt x="39" y="256"/>
                      </a:lnTo>
                      <a:lnTo>
                        <a:pt x="33" y="240"/>
                      </a:lnTo>
                      <a:lnTo>
                        <a:pt x="30" y="225"/>
                      </a:lnTo>
                      <a:lnTo>
                        <a:pt x="27" y="208"/>
                      </a:lnTo>
                      <a:lnTo>
                        <a:pt x="27" y="192"/>
                      </a:lnTo>
                      <a:lnTo>
                        <a:pt x="30" y="160"/>
                      </a:lnTo>
                      <a:lnTo>
                        <a:pt x="39" y="129"/>
                      </a:lnTo>
                      <a:lnTo>
                        <a:pt x="54" y="101"/>
                      </a:lnTo>
                      <a:lnTo>
                        <a:pt x="64" y="87"/>
                      </a:lnTo>
                      <a:lnTo>
                        <a:pt x="76" y="76"/>
                      </a:lnTo>
                      <a:lnTo>
                        <a:pt x="88" y="63"/>
                      </a:lnTo>
                      <a:lnTo>
                        <a:pt x="101" y="53"/>
                      </a:lnTo>
                      <a:lnTo>
                        <a:pt x="129" y="38"/>
                      </a:lnTo>
                      <a:lnTo>
                        <a:pt x="160" y="29"/>
                      </a:lnTo>
                      <a:lnTo>
                        <a:pt x="193" y="27"/>
                      </a:lnTo>
                      <a:lnTo>
                        <a:pt x="212" y="28"/>
                      </a:lnTo>
                      <a:lnTo>
                        <a:pt x="230" y="31"/>
                      </a:lnTo>
                      <a:lnTo>
                        <a:pt x="226" y="27"/>
                      </a:lnTo>
                      <a:lnTo>
                        <a:pt x="211" y="12"/>
                      </a:lnTo>
                      <a:lnTo>
                        <a:pt x="198" y="0"/>
                      </a:lnTo>
                      <a:lnTo>
                        <a:pt x="193" y="0"/>
                      </a:lnTo>
                      <a:lnTo>
                        <a:pt x="173" y="0"/>
                      </a:lnTo>
                      <a:lnTo>
                        <a:pt x="154" y="3"/>
                      </a:lnTo>
                      <a:lnTo>
                        <a:pt x="119" y="13"/>
                      </a:lnTo>
                      <a:lnTo>
                        <a:pt x="86" y="30"/>
                      </a:lnTo>
                      <a:lnTo>
                        <a:pt x="71" y="42"/>
                      </a:lnTo>
                      <a:lnTo>
                        <a:pt x="57" y="56"/>
                      </a:lnTo>
                      <a:close/>
                    </a:path>
                  </a:pathLst>
                </a:custGeom>
                <a:solidFill>
                  <a:srgbClr val="52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198840" y="2520000"/>
                  <a:ext cx="122400" cy="139320"/>
                </a:xfrm>
                <a:custGeom>
                  <a:avLst/>
                  <a:gdLst/>
                  <a:ahLst/>
                  <a:rect l="l" t="t" r="r" b="b"/>
                  <a:pathLst>
                    <a:path w="427" h="489">
                      <a:moveTo>
                        <a:pt x="27" y="240"/>
                      </a:moveTo>
                      <a:lnTo>
                        <a:pt x="30" y="196"/>
                      </a:lnTo>
                      <a:lnTo>
                        <a:pt x="35" y="175"/>
                      </a:lnTo>
                      <a:lnTo>
                        <a:pt x="43" y="155"/>
                      </a:lnTo>
                      <a:lnTo>
                        <a:pt x="62" y="118"/>
                      </a:lnTo>
                      <a:lnTo>
                        <a:pt x="75" y="101"/>
                      </a:lnTo>
                      <a:lnTo>
                        <a:pt x="92" y="85"/>
                      </a:lnTo>
                      <a:lnTo>
                        <a:pt x="120" y="60"/>
                      </a:lnTo>
                      <a:lnTo>
                        <a:pt x="151" y="42"/>
                      </a:lnTo>
                      <a:lnTo>
                        <a:pt x="183" y="28"/>
                      </a:lnTo>
                      <a:lnTo>
                        <a:pt x="219" y="22"/>
                      </a:lnTo>
                      <a:lnTo>
                        <a:pt x="187" y="0"/>
                      </a:lnTo>
                      <a:lnTo>
                        <a:pt x="154" y="9"/>
                      </a:lnTo>
                      <a:lnTo>
                        <a:pt x="126" y="23"/>
                      </a:lnTo>
                      <a:lnTo>
                        <a:pt x="97" y="41"/>
                      </a:lnTo>
                      <a:lnTo>
                        <a:pt x="72" y="65"/>
                      </a:lnTo>
                      <a:lnTo>
                        <a:pt x="55" y="83"/>
                      </a:lnTo>
                      <a:lnTo>
                        <a:pt x="41" y="102"/>
                      </a:lnTo>
                      <a:lnTo>
                        <a:pt x="28" y="122"/>
                      </a:lnTo>
                      <a:lnTo>
                        <a:pt x="18" y="145"/>
                      </a:lnTo>
                      <a:lnTo>
                        <a:pt x="10" y="167"/>
                      </a:lnTo>
                      <a:lnTo>
                        <a:pt x="4" y="191"/>
                      </a:lnTo>
                      <a:lnTo>
                        <a:pt x="1" y="214"/>
                      </a:lnTo>
                      <a:lnTo>
                        <a:pt x="0" y="240"/>
                      </a:lnTo>
                      <a:lnTo>
                        <a:pt x="1" y="264"/>
                      </a:lnTo>
                      <a:lnTo>
                        <a:pt x="4" y="289"/>
                      </a:lnTo>
                      <a:lnTo>
                        <a:pt x="10" y="312"/>
                      </a:lnTo>
                      <a:lnTo>
                        <a:pt x="18" y="336"/>
                      </a:lnTo>
                      <a:lnTo>
                        <a:pt x="28" y="356"/>
                      </a:lnTo>
                      <a:lnTo>
                        <a:pt x="41" y="378"/>
                      </a:lnTo>
                      <a:lnTo>
                        <a:pt x="55" y="397"/>
                      </a:lnTo>
                      <a:lnTo>
                        <a:pt x="72" y="416"/>
                      </a:lnTo>
                      <a:lnTo>
                        <a:pt x="91" y="433"/>
                      </a:lnTo>
                      <a:lnTo>
                        <a:pt x="110" y="448"/>
                      </a:lnTo>
                      <a:lnTo>
                        <a:pt x="130" y="460"/>
                      </a:lnTo>
                      <a:lnTo>
                        <a:pt x="152" y="471"/>
                      </a:lnTo>
                      <a:lnTo>
                        <a:pt x="173" y="478"/>
                      </a:lnTo>
                      <a:lnTo>
                        <a:pt x="197" y="484"/>
                      </a:lnTo>
                      <a:lnTo>
                        <a:pt x="221" y="488"/>
                      </a:lnTo>
                      <a:lnTo>
                        <a:pt x="247" y="489"/>
                      </a:lnTo>
                      <a:lnTo>
                        <a:pt x="258" y="488"/>
                      </a:lnTo>
                      <a:lnTo>
                        <a:pt x="271" y="488"/>
                      </a:lnTo>
                      <a:lnTo>
                        <a:pt x="296" y="484"/>
                      </a:lnTo>
                      <a:lnTo>
                        <a:pt x="318" y="478"/>
                      </a:lnTo>
                      <a:lnTo>
                        <a:pt x="330" y="474"/>
                      </a:lnTo>
                      <a:lnTo>
                        <a:pt x="335" y="472"/>
                      </a:lnTo>
                      <a:lnTo>
                        <a:pt x="342" y="471"/>
                      </a:lnTo>
                      <a:lnTo>
                        <a:pt x="363" y="460"/>
                      </a:lnTo>
                      <a:lnTo>
                        <a:pt x="373" y="454"/>
                      </a:lnTo>
                      <a:lnTo>
                        <a:pt x="384" y="448"/>
                      </a:lnTo>
                      <a:lnTo>
                        <a:pt x="393" y="440"/>
                      </a:lnTo>
                      <a:lnTo>
                        <a:pt x="403" y="433"/>
                      </a:lnTo>
                      <a:lnTo>
                        <a:pt x="413" y="424"/>
                      </a:lnTo>
                      <a:lnTo>
                        <a:pt x="417" y="420"/>
                      </a:lnTo>
                      <a:lnTo>
                        <a:pt x="419" y="417"/>
                      </a:lnTo>
                      <a:lnTo>
                        <a:pt x="420" y="416"/>
                      </a:lnTo>
                      <a:lnTo>
                        <a:pt x="423" y="416"/>
                      </a:lnTo>
                      <a:lnTo>
                        <a:pt x="427" y="412"/>
                      </a:lnTo>
                      <a:lnTo>
                        <a:pt x="425" y="372"/>
                      </a:lnTo>
                      <a:lnTo>
                        <a:pt x="414" y="384"/>
                      </a:lnTo>
                      <a:lnTo>
                        <a:pt x="410" y="387"/>
                      </a:lnTo>
                      <a:lnTo>
                        <a:pt x="408" y="390"/>
                      </a:lnTo>
                      <a:lnTo>
                        <a:pt x="403" y="397"/>
                      </a:lnTo>
                      <a:lnTo>
                        <a:pt x="385" y="412"/>
                      </a:lnTo>
                      <a:lnTo>
                        <a:pt x="376" y="417"/>
                      </a:lnTo>
                      <a:lnTo>
                        <a:pt x="368" y="424"/>
                      </a:lnTo>
                      <a:lnTo>
                        <a:pt x="358" y="429"/>
                      </a:lnTo>
                      <a:lnTo>
                        <a:pt x="349" y="434"/>
                      </a:lnTo>
                      <a:lnTo>
                        <a:pt x="331" y="444"/>
                      </a:lnTo>
                      <a:lnTo>
                        <a:pt x="310" y="451"/>
                      </a:lnTo>
                      <a:lnTo>
                        <a:pt x="290" y="457"/>
                      </a:lnTo>
                      <a:lnTo>
                        <a:pt x="279" y="458"/>
                      </a:lnTo>
                      <a:lnTo>
                        <a:pt x="269" y="460"/>
                      </a:lnTo>
                      <a:lnTo>
                        <a:pt x="257" y="460"/>
                      </a:lnTo>
                      <a:lnTo>
                        <a:pt x="252" y="460"/>
                      </a:lnTo>
                      <a:lnTo>
                        <a:pt x="247" y="461"/>
                      </a:lnTo>
                      <a:lnTo>
                        <a:pt x="224" y="460"/>
                      </a:lnTo>
                      <a:lnTo>
                        <a:pt x="203" y="457"/>
                      </a:lnTo>
                      <a:lnTo>
                        <a:pt x="181" y="451"/>
                      </a:lnTo>
                      <a:lnTo>
                        <a:pt x="162" y="444"/>
                      </a:lnTo>
                      <a:lnTo>
                        <a:pt x="143" y="434"/>
                      </a:lnTo>
                      <a:lnTo>
                        <a:pt x="125" y="424"/>
                      </a:lnTo>
                      <a:lnTo>
                        <a:pt x="108" y="412"/>
                      </a:lnTo>
                      <a:lnTo>
                        <a:pt x="92" y="397"/>
                      </a:lnTo>
                      <a:lnTo>
                        <a:pt x="75" y="379"/>
                      </a:lnTo>
                      <a:lnTo>
                        <a:pt x="62" y="362"/>
                      </a:lnTo>
                      <a:lnTo>
                        <a:pt x="51" y="342"/>
                      </a:lnTo>
                      <a:lnTo>
                        <a:pt x="43" y="324"/>
                      </a:lnTo>
                      <a:lnTo>
                        <a:pt x="35" y="304"/>
                      </a:lnTo>
                      <a:lnTo>
                        <a:pt x="30" y="283"/>
                      </a:lnTo>
                      <a:lnTo>
                        <a:pt x="27" y="262"/>
                      </a:lnTo>
                      <a:lnTo>
                        <a:pt x="27" y="240"/>
                      </a:lnTo>
                      <a:close/>
                    </a:path>
                  </a:pathLst>
                </a:custGeom>
                <a:solidFill>
                  <a:srgbClr val="4c7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190920" y="2514240"/>
                  <a:ext cx="130680" cy="153000"/>
                </a:xfrm>
                <a:custGeom>
                  <a:avLst/>
                  <a:gdLst/>
                  <a:ahLst/>
                  <a:rect l="l" t="t" r="r" b="b"/>
                  <a:pathLst>
                    <a:path w="457" h="536">
                      <a:moveTo>
                        <a:pt x="29" y="259"/>
                      </a:moveTo>
                      <a:lnTo>
                        <a:pt x="30" y="233"/>
                      </a:lnTo>
                      <a:lnTo>
                        <a:pt x="33" y="210"/>
                      </a:lnTo>
                      <a:lnTo>
                        <a:pt x="39" y="186"/>
                      </a:lnTo>
                      <a:lnTo>
                        <a:pt x="47" y="164"/>
                      </a:lnTo>
                      <a:lnTo>
                        <a:pt x="57" y="141"/>
                      </a:lnTo>
                      <a:lnTo>
                        <a:pt x="70" y="121"/>
                      </a:lnTo>
                      <a:lnTo>
                        <a:pt x="84" y="102"/>
                      </a:lnTo>
                      <a:lnTo>
                        <a:pt x="101" y="84"/>
                      </a:lnTo>
                      <a:lnTo>
                        <a:pt x="126" y="60"/>
                      </a:lnTo>
                      <a:lnTo>
                        <a:pt x="155" y="42"/>
                      </a:lnTo>
                      <a:lnTo>
                        <a:pt x="183" y="28"/>
                      </a:lnTo>
                      <a:lnTo>
                        <a:pt x="216" y="19"/>
                      </a:lnTo>
                      <a:lnTo>
                        <a:pt x="182" y="0"/>
                      </a:lnTo>
                      <a:lnTo>
                        <a:pt x="154" y="10"/>
                      </a:lnTo>
                      <a:lnTo>
                        <a:pt x="129" y="25"/>
                      </a:lnTo>
                      <a:lnTo>
                        <a:pt x="104" y="43"/>
                      </a:lnTo>
                      <a:lnTo>
                        <a:pt x="81" y="64"/>
                      </a:lnTo>
                      <a:lnTo>
                        <a:pt x="62" y="85"/>
                      </a:lnTo>
                      <a:lnTo>
                        <a:pt x="45" y="106"/>
                      </a:lnTo>
                      <a:lnTo>
                        <a:pt x="30" y="129"/>
                      </a:lnTo>
                      <a:lnTo>
                        <a:pt x="20" y="154"/>
                      </a:lnTo>
                      <a:lnTo>
                        <a:pt x="11" y="178"/>
                      </a:lnTo>
                      <a:lnTo>
                        <a:pt x="5" y="204"/>
                      </a:lnTo>
                      <a:lnTo>
                        <a:pt x="2" y="231"/>
                      </a:lnTo>
                      <a:lnTo>
                        <a:pt x="0" y="259"/>
                      </a:lnTo>
                      <a:lnTo>
                        <a:pt x="2" y="287"/>
                      </a:lnTo>
                      <a:lnTo>
                        <a:pt x="5" y="314"/>
                      </a:lnTo>
                      <a:lnTo>
                        <a:pt x="11" y="339"/>
                      </a:lnTo>
                      <a:lnTo>
                        <a:pt x="14" y="351"/>
                      </a:lnTo>
                      <a:lnTo>
                        <a:pt x="20" y="365"/>
                      </a:lnTo>
                      <a:lnTo>
                        <a:pt x="30" y="388"/>
                      </a:lnTo>
                      <a:lnTo>
                        <a:pt x="45" y="411"/>
                      </a:lnTo>
                      <a:lnTo>
                        <a:pt x="62" y="433"/>
                      </a:lnTo>
                      <a:lnTo>
                        <a:pt x="81" y="454"/>
                      </a:lnTo>
                      <a:lnTo>
                        <a:pt x="101" y="473"/>
                      </a:lnTo>
                      <a:lnTo>
                        <a:pt x="123" y="490"/>
                      </a:lnTo>
                      <a:lnTo>
                        <a:pt x="146" y="503"/>
                      </a:lnTo>
                      <a:lnTo>
                        <a:pt x="171" y="516"/>
                      </a:lnTo>
                      <a:lnTo>
                        <a:pt x="194" y="524"/>
                      </a:lnTo>
                      <a:lnTo>
                        <a:pt x="220" y="530"/>
                      </a:lnTo>
                      <a:lnTo>
                        <a:pt x="248" y="534"/>
                      </a:lnTo>
                      <a:lnTo>
                        <a:pt x="276" y="536"/>
                      </a:lnTo>
                      <a:lnTo>
                        <a:pt x="301" y="535"/>
                      </a:lnTo>
                      <a:lnTo>
                        <a:pt x="326" y="532"/>
                      </a:lnTo>
                      <a:lnTo>
                        <a:pt x="337" y="528"/>
                      </a:lnTo>
                      <a:lnTo>
                        <a:pt x="350" y="526"/>
                      </a:lnTo>
                      <a:lnTo>
                        <a:pt x="373" y="519"/>
                      </a:lnTo>
                      <a:lnTo>
                        <a:pt x="378" y="516"/>
                      </a:lnTo>
                      <a:lnTo>
                        <a:pt x="384" y="513"/>
                      </a:lnTo>
                      <a:lnTo>
                        <a:pt x="395" y="509"/>
                      </a:lnTo>
                      <a:lnTo>
                        <a:pt x="417" y="497"/>
                      </a:lnTo>
                      <a:lnTo>
                        <a:pt x="437" y="484"/>
                      </a:lnTo>
                      <a:lnTo>
                        <a:pt x="457" y="469"/>
                      </a:lnTo>
                      <a:lnTo>
                        <a:pt x="457" y="450"/>
                      </a:lnTo>
                      <a:lnTo>
                        <a:pt x="456" y="431"/>
                      </a:lnTo>
                      <a:lnTo>
                        <a:pt x="452" y="435"/>
                      </a:lnTo>
                      <a:lnTo>
                        <a:pt x="449" y="435"/>
                      </a:lnTo>
                      <a:lnTo>
                        <a:pt x="448" y="436"/>
                      </a:lnTo>
                      <a:lnTo>
                        <a:pt x="446" y="439"/>
                      </a:lnTo>
                      <a:lnTo>
                        <a:pt x="442" y="443"/>
                      </a:lnTo>
                      <a:lnTo>
                        <a:pt x="432" y="452"/>
                      </a:lnTo>
                      <a:lnTo>
                        <a:pt x="422" y="459"/>
                      </a:lnTo>
                      <a:lnTo>
                        <a:pt x="413" y="467"/>
                      </a:lnTo>
                      <a:lnTo>
                        <a:pt x="402" y="473"/>
                      </a:lnTo>
                      <a:lnTo>
                        <a:pt x="392" y="479"/>
                      </a:lnTo>
                      <a:lnTo>
                        <a:pt x="371" y="490"/>
                      </a:lnTo>
                      <a:lnTo>
                        <a:pt x="364" y="491"/>
                      </a:lnTo>
                      <a:lnTo>
                        <a:pt x="359" y="493"/>
                      </a:lnTo>
                      <a:lnTo>
                        <a:pt x="347" y="497"/>
                      </a:lnTo>
                      <a:lnTo>
                        <a:pt x="325" y="503"/>
                      </a:lnTo>
                      <a:lnTo>
                        <a:pt x="300" y="507"/>
                      </a:lnTo>
                      <a:lnTo>
                        <a:pt x="287" y="507"/>
                      </a:lnTo>
                      <a:lnTo>
                        <a:pt x="276" y="508"/>
                      </a:lnTo>
                      <a:lnTo>
                        <a:pt x="250" y="507"/>
                      </a:lnTo>
                      <a:lnTo>
                        <a:pt x="226" y="503"/>
                      </a:lnTo>
                      <a:lnTo>
                        <a:pt x="202" y="497"/>
                      </a:lnTo>
                      <a:lnTo>
                        <a:pt x="181" y="490"/>
                      </a:lnTo>
                      <a:lnTo>
                        <a:pt x="159" y="479"/>
                      </a:lnTo>
                      <a:lnTo>
                        <a:pt x="139" y="467"/>
                      </a:lnTo>
                      <a:lnTo>
                        <a:pt x="120" y="452"/>
                      </a:lnTo>
                      <a:lnTo>
                        <a:pt x="101" y="435"/>
                      </a:lnTo>
                      <a:lnTo>
                        <a:pt x="84" y="416"/>
                      </a:lnTo>
                      <a:lnTo>
                        <a:pt x="70" y="397"/>
                      </a:lnTo>
                      <a:lnTo>
                        <a:pt x="57" y="375"/>
                      </a:lnTo>
                      <a:lnTo>
                        <a:pt x="47" y="355"/>
                      </a:lnTo>
                      <a:lnTo>
                        <a:pt x="39" y="331"/>
                      </a:lnTo>
                      <a:lnTo>
                        <a:pt x="33" y="308"/>
                      </a:lnTo>
                      <a:lnTo>
                        <a:pt x="30" y="283"/>
                      </a:lnTo>
                      <a:lnTo>
                        <a:pt x="29" y="259"/>
                      </a:lnTo>
                      <a:close/>
                    </a:path>
                  </a:pathLst>
                </a:custGeom>
                <a:solidFill>
                  <a:srgbClr val="496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127920" y="2499120"/>
                  <a:ext cx="172080" cy="231120"/>
                </a:xfrm>
                <a:custGeom>
                  <a:avLst/>
                  <a:gdLst/>
                  <a:ahLst/>
                  <a:rect l="l" t="t" r="r" b="b"/>
                  <a:pathLst>
                    <a:path w="600" h="810">
                      <a:moveTo>
                        <a:pt x="107" y="4"/>
                      </a:moveTo>
                      <a:lnTo>
                        <a:pt x="81" y="37"/>
                      </a:lnTo>
                      <a:lnTo>
                        <a:pt x="60" y="72"/>
                      </a:lnTo>
                      <a:lnTo>
                        <a:pt x="40" y="108"/>
                      </a:lnTo>
                      <a:lnTo>
                        <a:pt x="26" y="147"/>
                      </a:lnTo>
                      <a:lnTo>
                        <a:pt x="13" y="185"/>
                      </a:lnTo>
                      <a:lnTo>
                        <a:pt x="5" y="227"/>
                      </a:lnTo>
                      <a:lnTo>
                        <a:pt x="1" y="269"/>
                      </a:lnTo>
                      <a:lnTo>
                        <a:pt x="0" y="313"/>
                      </a:lnTo>
                      <a:lnTo>
                        <a:pt x="2" y="363"/>
                      </a:lnTo>
                      <a:lnTo>
                        <a:pt x="4" y="387"/>
                      </a:lnTo>
                      <a:lnTo>
                        <a:pt x="9" y="412"/>
                      </a:lnTo>
                      <a:lnTo>
                        <a:pt x="13" y="435"/>
                      </a:lnTo>
                      <a:lnTo>
                        <a:pt x="20" y="459"/>
                      </a:lnTo>
                      <a:lnTo>
                        <a:pt x="36" y="504"/>
                      </a:lnTo>
                      <a:lnTo>
                        <a:pt x="45" y="524"/>
                      </a:lnTo>
                      <a:lnTo>
                        <a:pt x="56" y="546"/>
                      </a:lnTo>
                      <a:lnTo>
                        <a:pt x="68" y="566"/>
                      </a:lnTo>
                      <a:lnTo>
                        <a:pt x="81" y="588"/>
                      </a:lnTo>
                      <a:lnTo>
                        <a:pt x="95" y="607"/>
                      </a:lnTo>
                      <a:lnTo>
                        <a:pt x="111" y="627"/>
                      </a:lnTo>
                      <a:lnTo>
                        <a:pt x="126" y="646"/>
                      </a:lnTo>
                      <a:lnTo>
                        <a:pt x="145" y="665"/>
                      </a:lnTo>
                      <a:lnTo>
                        <a:pt x="181" y="699"/>
                      </a:lnTo>
                      <a:lnTo>
                        <a:pt x="221" y="728"/>
                      </a:lnTo>
                      <a:lnTo>
                        <a:pt x="260" y="753"/>
                      </a:lnTo>
                      <a:lnTo>
                        <a:pt x="305" y="774"/>
                      </a:lnTo>
                      <a:lnTo>
                        <a:pt x="349" y="790"/>
                      </a:lnTo>
                      <a:lnTo>
                        <a:pt x="395" y="801"/>
                      </a:lnTo>
                      <a:lnTo>
                        <a:pt x="444" y="808"/>
                      </a:lnTo>
                      <a:lnTo>
                        <a:pt x="495" y="810"/>
                      </a:lnTo>
                      <a:lnTo>
                        <a:pt x="515" y="809"/>
                      </a:lnTo>
                      <a:lnTo>
                        <a:pt x="520" y="808"/>
                      </a:lnTo>
                      <a:lnTo>
                        <a:pt x="526" y="808"/>
                      </a:lnTo>
                      <a:lnTo>
                        <a:pt x="537" y="808"/>
                      </a:lnTo>
                      <a:lnTo>
                        <a:pt x="578" y="803"/>
                      </a:lnTo>
                      <a:lnTo>
                        <a:pt x="600" y="771"/>
                      </a:lnTo>
                      <a:lnTo>
                        <a:pt x="574" y="776"/>
                      </a:lnTo>
                      <a:lnTo>
                        <a:pt x="561" y="777"/>
                      </a:lnTo>
                      <a:lnTo>
                        <a:pt x="548" y="779"/>
                      </a:lnTo>
                      <a:lnTo>
                        <a:pt x="521" y="782"/>
                      </a:lnTo>
                      <a:lnTo>
                        <a:pt x="507" y="782"/>
                      </a:lnTo>
                      <a:lnTo>
                        <a:pt x="501" y="782"/>
                      </a:lnTo>
                      <a:lnTo>
                        <a:pt x="497" y="782"/>
                      </a:lnTo>
                      <a:lnTo>
                        <a:pt x="495" y="783"/>
                      </a:lnTo>
                      <a:lnTo>
                        <a:pt x="446" y="781"/>
                      </a:lnTo>
                      <a:lnTo>
                        <a:pt x="401" y="774"/>
                      </a:lnTo>
                      <a:lnTo>
                        <a:pt x="357" y="762"/>
                      </a:lnTo>
                      <a:lnTo>
                        <a:pt x="315" y="748"/>
                      </a:lnTo>
                      <a:lnTo>
                        <a:pt x="273" y="727"/>
                      </a:lnTo>
                      <a:lnTo>
                        <a:pt x="235" y="705"/>
                      </a:lnTo>
                      <a:lnTo>
                        <a:pt x="198" y="677"/>
                      </a:lnTo>
                      <a:lnTo>
                        <a:pt x="164" y="646"/>
                      </a:lnTo>
                      <a:lnTo>
                        <a:pt x="130" y="609"/>
                      </a:lnTo>
                      <a:lnTo>
                        <a:pt x="115" y="590"/>
                      </a:lnTo>
                      <a:lnTo>
                        <a:pt x="103" y="572"/>
                      </a:lnTo>
                      <a:lnTo>
                        <a:pt x="79" y="533"/>
                      </a:lnTo>
                      <a:lnTo>
                        <a:pt x="69" y="513"/>
                      </a:lnTo>
                      <a:lnTo>
                        <a:pt x="61" y="494"/>
                      </a:lnTo>
                      <a:lnTo>
                        <a:pt x="45" y="451"/>
                      </a:lnTo>
                      <a:lnTo>
                        <a:pt x="35" y="406"/>
                      </a:lnTo>
                      <a:lnTo>
                        <a:pt x="30" y="383"/>
                      </a:lnTo>
                      <a:lnTo>
                        <a:pt x="28" y="360"/>
                      </a:lnTo>
                      <a:lnTo>
                        <a:pt x="27" y="313"/>
                      </a:lnTo>
                      <a:lnTo>
                        <a:pt x="28" y="268"/>
                      </a:lnTo>
                      <a:lnTo>
                        <a:pt x="34" y="225"/>
                      </a:lnTo>
                      <a:lnTo>
                        <a:pt x="43" y="183"/>
                      </a:lnTo>
                      <a:lnTo>
                        <a:pt x="56" y="144"/>
                      </a:lnTo>
                      <a:lnTo>
                        <a:pt x="72" y="105"/>
                      </a:lnTo>
                      <a:lnTo>
                        <a:pt x="94" y="68"/>
                      </a:lnTo>
                      <a:lnTo>
                        <a:pt x="117" y="33"/>
                      </a:lnTo>
                      <a:lnTo>
                        <a:pt x="147" y="0"/>
                      </a:lnTo>
                      <a:lnTo>
                        <a:pt x="107" y="4"/>
                      </a:lnTo>
                      <a:close/>
                    </a:path>
                  </a:pathLst>
                </a:custGeom>
                <a:solidFill>
                  <a:srgbClr val="2f4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222240" y="2541240"/>
                  <a:ext cx="93240" cy="93960"/>
                </a:xfrm>
                <a:custGeom>
                  <a:avLst/>
                  <a:gdLst/>
                  <a:ahLst/>
                  <a:rect l="l" t="t" r="r" b="b"/>
                  <a:pathLst>
                    <a:path w="327" h="331">
                      <a:moveTo>
                        <a:pt x="203" y="4"/>
                      </a:moveTo>
                      <a:lnTo>
                        <a:pt x="185" y="1"/>
                      </a:lnTo>
                      <a:lnTo>
                        <a:pt x="166" y="0"/>
                      </a:lnTo>
                      <a:lnTo>
                        <a:pt x="133" y="2"/>
                      </a:lnTo>
                      <a:lnTo>
                        <a:pt x="102" y="11"/>
                      </a:lnTo>
                      <a:lnTo>
                        <a:pt x="74" y="26"/>
                      </a:lnTo>
                      <a:lnTo>
                        <a:pt x="61" y="36"/>
                      </a:lnTo>
                      <a:lnTo>
                        <a:pt x="49" y="49"/>
                      </a:lnTo>
                      <a:lnTo>
                        <a:pt x="37" y="60"/>
                      </a:lnTo>
                      <a:lnTo>
                        <a:pt x="27" y="74"/>
                      </a:lnTo>
                      <a:lnTo>
                        <a:pt x="12" y="102"/>
                      </a:lnTo>
                      <a:lnTo>
                        <a:pt x="3" y="133"/>
                      </a:lnTo>
                      <a:lnTo>
                        <a:pt x="0" y="165"/>
                      </a:lnTo>
                      <a:lnTo>
                        <a:pt x="0" y="181"/>
                      </a:lnTo>
                      <a:lnTo>
                        <a:pt x="3" y="198"/>
                      </a:lnTo>
                      <a:lnTo>
                        <a:pt x="6" y="213"/>
                      </a:lnTo>
                      <a:lnTo>
                        <a:pt x="12" y="229"/>
                      </a:lnTo>
                      <a:lnTo>
                        <a:pt x="17" y="242"/>
                      </a:lnTo>
                      <a:lnTo>
                        <a:pt x="27" y="256"/>
                      </a:lnTo>
                      <a:lnTo>
                        <a:pt x="37" y="269"/>
                      </a:lnTo>
                      <a:lnTo>
                        <a:pt x="49" y="282"/>
                      </a:lnTo>
                      <a:lnTo>
                        <a:pt x="61" y="292"/>
                      </a:lnTo>
                      <a:lnTo>
                        <a:pt x="74" y="303"/>
                      </a:lnTo>
                      <a:lnTo>
                        <a:pt x="102" y="318"/>
                      </a:lnTo>
                      <a:lnTo>
                        <a:pt x="133" y="328"/>
                      </a:lnTo>
                      <a:lnTo>
                        <a:pt x="149" y="330"/>
                      </a:lnTo>
                      <a:lnTo>
                        <a:pt x="166" y="331"/>
                      </a:lnTo>
                      <a:lnTo>
                        <a:pt x="182" y="330"/>
                      </a:lnTo>
                      <a:lnTo>
                        <a:pt x="199" y="328"/>
                      </a:lnTo>
                      <a:lnTo>
                        <a:pt x="214" y="323"/>
                      </a:lnTo>
                      <a:lnTo>
                        <a:pt x="229" y="318"/>
                      </a:lnTo>
                      <a:lnTo>
                        <a:pt x="243" y="311"/>
                      </a:lnTo>
                      <a:lnTo>
                        <a:pt x="250" y="306"/>
                      </a:lnTo>
                      <a:lnTo>
                        <a:pt x="253" y="304"/>
                      </a:lnTo>
                      <a:lnTo>
                        <a:pt x="258" y="303"/>
                      </a:lnTo>
                      <a:lnTo>
                        <a:pt x="260" y="299"/>
                      </a:lnTo>
                      <a:lnTo>
                        <a:pt x="263" y="297"/>
                      </a:lnTo>
                      <a:lnTo>
                        <a:pt x="270" y="292"/>
                      </a:lnTo>
                      <a:lnTo>
                        <a:pt x="284" y="282"/>
                      </a:lnTo>
                      <a:lnTo>
                        <a:pt x="291" y="273"/>
                      </a:lnTo>
                      <a:lnTo>
                        <a:pt x="298" y="265"/>
                      </a:lnTo>
                      <a:lnTo>
                        <a:pt x="303" y="256"/>
                      </a:lnTo>
                      <a:lnTo>
                        <a:pt x="310" y="248"/>
                      </a:lnTo>
                      <a:lnTo>
                        <a:pt x="315" y="238"/>
                      </a:lnTo>
                      <a:lnTo>
                        <a:pt x="319" y="229"/>
                      </a:lnTo>
                      <a:lnTo>
                        <a:pt x="319" y="225"/>
                      </a:lnTo>
                      <a:lnTo>
                        <a:pt x="320" y="223"/>
                      </a:lnTo>
                      <a:lnTo>
                        <a:pt x="322" y="219"/>
                      </a:lnTo>
                      <a:lnTo>
                        <a:pt x="327" y="210"/>
                      </a:lnTo>
                      <a:lnTo>
                        <a:pt x="316" y="178"/>
                      </a:lnTo>
                      <a:lnTo>
                        <a:pt x="303" y="146"/>
                      </a:lnTo>
                      <a:lnTo>
                        <a:pt x="303" y="155"/>
                      </a:lnTo>
                      <a:lnTo>
                        <a:pt x="303" y="160"/>
                      </a:lnTo>
                      <a:lnTo>
                        <a:pt x="303" y="162"/>
                      </a:lnTo>
                      <a:lnTo>
                        <a:pt x="303" y="163"/>
                      </a:lnTo>
                      <a:lnTo>
                        <a:pt x="304" y="165"/>
                      </a:lnTo>
                      <a:lnTo>
                        <a:pt x="303" y="168"/>
                      </a:lnTo>
                      <a:lnTo>
                        <a:pt x="303" y="171"/>
                      </a:lnTo>
                      <a:lnTo>
                        <a:pt x="303" y="178"/>
                      </a:lnTo>
                      <a:lnTo>
                        <a:pt x="301" y="191"/>
                      </a:lnTo>
                      <a:lnTo>
                        <a:pt x="299" y="197"/>
                      </a:lnTo>
                      <a:lnTo>
                        <a:pt x="298" y="204"/>
                      </a:lnTo>
                      <a:lnTo>
                        <a:pt x="294" y="218"/>
                      </a:lnTo>
                      <a:lnTo>
                        <a:pt x="287" y="229"/>
                      </a:lnTo>
                      <a:lnTo>
                        <a:pt x="280" y="241"/>
                      </a:lnTo>
                      <a:lnTo>
                        <a:pt x="276" y="246"/>
                      </a:lnTo>
                      <a:lnTo>
                        <a:pt x="274" y="248"/>
                      </a:lnTo>
                      <a:lnTo>
                        <a:pt x="273" y="248"/>
                      </a:lnTo>
                      <a:lnTo>
                        <a:pt x="273" y="249"/>
                      </a:lnTo>
                      <a:lnTo>
                        <a:pt x="273" y="252"/>
                      </a:lnTo>
                      <a:lnTo>
                        <a:pt x="263" y="263"/>
                      </a:lnTo>
                      <a:lnTo>
                        <a:pt x="252" y="272"/>
                      </a:lnTo>
                      <a:lnTo>
                        <a:pt x="250" y="272"/>
                      </a:lnTo>
                      <a:lnTo>
                        <a:pt x="249" y="272"/>
                      </a:lnTo>
                      <a:lnTo>
                        <a:pt x="249" y="273"/>
                      </a:lnTo>
                      <a:lnTo>
                        <a:pt x="246" y="275"/>
                      </a:lnTo>
                      <a:lnTo>
                        <a:pt x="242" y="280"/>
                      </a:lnTo>
                      <a:lnTo>
                        <a:pt x="229" y="287"/>
                      </a:lnTo>
                      <a:lnTo>
                        <a:pt x="218" y="294"/>
                      </a:lnTo>
                      <a:lnTo>
                        <a:pt x="205" y="297"/>
                      </a:lnTo>
                      <a:lnTo>
                        <a:pt x="198" y="298"/>
                      </a:lnTo>
                      <a:lnTo>
                        <a:pt x="192" y="300"/>
                      </a:lnTo>
                      <a:lnTo>
                        <a:pt x="178" y="303"/>
                      </a:lnTo>
                      <a:lnTo>
                        <a:pt x="172" y="303"/>
                      </a:lnTo>
                      <a:lnTo>
                        <a:pt x="168" y="303"/>
                      </a:lnTo>
                      <a:lnTo>
                        <a:pt x="166" y="304"/>
                      </a:lnTo>
                      <a:lnTo>
                        <a:pt x="151" y="303"/>
                      </a:lnTo>
                      <a:lnTo>
                        <a:pt x="138" y="300"/>
                      </a:lnTo>
                      <a:lnTo>
                        <a:pt x="113" y="294"/>
                      </a:lnTo>
                      <a:lnTo>
                        <a:pt x="89" y="280"/>
                      </a:lnTo>
                      <a:lnTo>
                        <a:pt x="78" y="272"/>
                      </a:lnTo>
                      <a:lnTo>
                        <a:pt x="68" y="263"/>
                      </a:lnTo>
                      <a:lnTo>
                        <a:pt x="58" y="252"/>
                      </a:lnTo>
                      <a:lnTo>
                        <a:pt x="50" y="241"/>
                      </a:lnTo>
                      <a:lnTo>
                        <a:pt x="42" y="229"/>
                      </a:lnTo>
                      <a:lnTo>
                        <a:pt x="38" y="218"/>
                      </a:lnTo>
                      <a:lnTo>
                        <a:pt x="33" y="204"/>
                      </a:lnTo>
                      <a:lnTo>
                        <a:pt x="31" y="191"/>
                      </a:lnTo>
                      <a:lnTo>
                        <a:pt x="29" y="178"/>
                      </a:lnTo>
                      <a:lnTo>
                        <a:pt x="29" y="165"/>
                      </a:lnTo>
                      <a:lnTo>
                        <a:pt x="31" y="137"/>
                      </a:lnTo>
                      <a:lnTo>
                        <a:pt x="38" y="112"/>
                      </a:lnTo>
                      <a:lnTo>
                        <a:pt x="50" y="88"/>
                      </a:lnTo>
                      <a:lnTo>
                        <a:pt x="68" y="68"/>
                      </a:lnTo>
                      <a:lnTo>
                        <a:pt x="89" y="50"/>
                      </a:lnTo>
                      <a:lnTo>
                        <a:pt x="113" y="37"/>
                      </a:lnTo>
                      <a:lnTo>
                        <a:pt x="138" y="30"/>
                      </a:lnTo>
                      <a:lnTo>
                        <a:pt x="166" y="28"/>
                      </a:lnTo>
                      <a:lnTo>
                        <a:pt x="188" y="29"/>
                      </a:lnTo>
                      <a:lnTo>
                        <a:pt x="208" y="34"/>
                      </a:lnTo>
                      <a:lnTo>
                        <a:pt x="227" y="42"/>
                      </a:lnTo>
                      <a:lnTo>
                        <a:pt x="236" y="46"/>
                      </a:lnTo>
                      <a:lnTo>
                        <a:pt x="246" y="53"/>
                      </a:lnTo>
                      <a:lnTo>
                        <a:pt x="225" y="27"/>
                      </a:lnTo>
                      <a:lnTo>
                        <a:pt x="203" y="4"/>
                      </a:lnTo>
                      <a:close/>
                    </a:path>
                  </a:pathLst>
                </a:custGeom>
                <a:solidFill>
                  <a:srgbClr val="568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230520" y="2549160"/>
                  <a:ext cx="78840" cy="78840"/>
                </a:xfrm>
                <a:custGeom>
                  <a:avLst/>
                  <a:gdLst/>
                  <a:ahLst/>
                  <a:rect l="l" t="t" r="r" b="b"/>
                  <a:pathLst>
                    <a:path w="275" h="276">
                      <a:moveTo>
                        <a:pt x="234" y="235"/>
                      </a:moveTo>
                      <a:lnTo>
                        <a:pt x="244" y="224"/>
                      </a:lnTo>
                      <a:lnTo>
                        <a:pt x="244" y="221"/>
                      </a:lnTo>
                      <a:lnTo>
                        <a:pt x="244" y="220"/>
                      </a:lnTo>
                      <a:lnTo>
                        <a:pt x="245" y="220"/>
                      </a:lnTo>
                      <a:lnTo>
                        <a:pt x="247" y="218"/>
                      </a:lnTo>
                      <a:lnTo>
                        <a:pt x="251" y="213"/>
                      </a:lnTo>
                      <a:lnTo>
                        <a:pt x="258" y="201"/>
                      </a:lnTo>
                      <a:lnTo>
                        <a:pt x="265" y="190"/>
                      </a:lnTo>
                      <a:lnTo>
                        <a:pt x="269" y="176"/>
                      </a:lnTo>
                      <a:lnTo>
                        <a:pt x="270" y="169"/>
                      </a:lnTo>
                      <a:lnTo>
                        <a:pt x="272" y="163"/>
                      </a:lnTo>
                      <a:lnTo>
                        <a:pt x="274" y="150"/>
                      </a:lnTo>
                      <a:lnTo>
                        <a:pt x="274" y="143"/>
                      </a:lnTo>
                      <a:lnTo>
                        <a:pt x="274" y="140"/>
                      </a:lnTo>
                      <a:lnTo>
                        <a:pt x="275" y="137"/>
                      </a:lnTo>
                      <a:lnTo>
                        <a:pt x="274" y="135"/>
                      </a:lnTo>
                      <a:lnTo>
                        <a:pt x="274" y="134"/>
                      </a:lnTo>
                      <a:lnTo>
                        <a:pt x="274" y="132"/>
                      </a:lnTo>
                      <a:lnTo>
                        <a:pt x="274" y="127"/>
                      </a:lnTo>
                      <a:lnTo>
                        <a:pt x="274" y="118"/>
                      </a:lnTo>
                      <a:lnTo>
                        <a:pt x="262" y="93"/>
                      </a:lnTo>
                      <a:lnTo>
                        <a:pt x="248" y="69"/>
                      </a:lnTo>
                      <a:lnTo>
                        <a:pt x="233" y="47"/>
                      </a:lnTo>
                      <a:lnTo>
                        <a:pt x="217" y="25"/>
                      </a:lnTo>
                      <a:lnTo>
                        <a:pt x="207" y="18"/>
                      </a:lnTo>
                      <a:lnTo>
                        <a:pt x="198" y="14"/>
                      </a:lnTo>
                      <a:lnTo>
                        <a:pt x="179" y="6"/>
                      </a:lnTo>
                      <a:lnTo>
                        <a:pt x="159" y="1"/>
                      </a:lnTo>
                      <a:lnTo>
                        <a:pt x="137" y="0"/>
                      </a:lnTo>
                      <a:lnTo>
                        <a:pt x="109" y="2"/>
                      </a:lnTo>
                      <a:lnTo>
                        <a:pt x="84" y="9"/>
                      </a:lnTo>
                      <a:lnTo>
                        <a:pt x="60" y="22"/>
                      </a:lnTo>
                      <a:lnTo>
                        <a:pt x="39" y="40"/>
                      </a:lnTo>
                      <a:lnTo>
                        <a:pt x="21" y="60"/>
                      </a:lnTo>
                      <a:lnTo>
                        <a:pt x="9" y="84"/>
                      </a:lnTo>
                      <a:lnTo>
                        <a:pt x="2" y="109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2" y="163"/>
                      </a:lnTo>
                      <a:lnTo>
                        <a:pt x="4" y="176"/>
                      </a:lnTo>
                      <a:lnTo>
                        <a:pt x="9" y="190"/>
                      </a:lnTo>
                      <a:lnTo>
                        <a:pt x="13" y="201"/>
                      </a:lnTo>
                      <a:lnTo>
                        <a:pt x="21" y="213"/>
                      </a:lnTo>
                      <a:lnTo>
                        <a:pt x="29" y="224"/>
                      </a:lnTo>
                      <a:lnTo>
                        <a:pt x="39" y="235"/>
                      </a:lnTo>
                      <a:lnTo>
                        <a:pt x="49" y="244"/>
                      </a:lnTo>
                      <a:lnTo>
                        <a:pt x="60" y="252"/>
                      </a:lnTo>
                      <a:lnTo>
                        <a:pt x="84" y="266"/>
                      </a:lnTo>
                      <a:lnTo>
                        <a:pt x="109" y="272"/>
                      </a:lnTo>
                      <a:lnTo>
                        <a:pt x="122" y="275"/>
                      </a:lnTo>
                      <a:lnTo>
                        <a:pt x="137" y="276"/>
                      </a:lnTo>
                      <a:lnTo>
                        <a:pt x="139" y="275"/>
                      </a:lnTo>
                      <a:lnTo>
                        <a:pt x="143" y="275"/>
                      </a:lnTo>
                      <a:lnTo>
                        <a:pt x="149" y="275"/>
                      </a:lnTo>
                      <a:lnTo>
                        <a:pt x="163" y="272"/>
                      </a:lnTo>
                      <a:lnTo>
                        <a:pt x="169" y="270"/>
                      </a:lnTo>
                      <a:lnTo>
                        <a:pt x="176" y="269"/>
                      </a:lnTo>
                      <a:lnTo>
                        <a:pt x="189" y="266"/>
                      </a:lnTo>
                      <a:lnTo>
                        <a:pt x="200" y="259"/>
                      </a:lnTo>
                      <a:lnTo>
                        <a:pt x="213" y="252"/>
                      </a:lnTo>
                      <a:lnTo>
                        <a:pt x="217" y="247"/>
                      </a:lnTo>
                      <a:lnTo>
                        <a:pt x="220" y="245"/>
                      </a:lnTo>
                      <a:lnTo>
                        <a:pt x="220" y="244"/>
                      </a:lnTo>
                      <a:lnTo>
                        <a:pt x="221" y="244"/>
                      </a:lnTo>
                      <a:lnTo>
                        <a:pt x="223" y="244"/>
                      </a:lnTo>
                      <a:lnTo>
                        <a:pt x="234" y="235"/>
                      </a:lnTo>
                      <a:close/>
                      <a:moveTo>
                        <a:pt x="60" y="216"/>
                      </a:moveTo>
                      <a:lnTo>
                        <a:pt x="51" y="207"/>
                      </a:lnTo>
                      <a:lnTo>
                        <a:pt x="44" y="199"/>
                      </a:lnTo>
                      <a:lnTo>
                        <a:pt x="38" y="188"/>
                      </a:lnTo>
                      <a:lnTo>
                        <a:pt x="35" y="179"/>
                      </a:lnTo>
                      <a:lnTo>
                        <a:pt x="28" y="159"/>
                      </a:lnTo>
                      <a:lnTo>
                        <a:pt x="27" y="137"/>
                      </a:lnTo>
                      <a:lnTo>
                        <a:pt x="28" y="115"/>
                      </a:lnTo>
                      <a:lnTo>
                        <a:pt x="35" y="94"/>
                      </a:lnTo>
                      <a:lnTo>
                        <a:pt x="44" y="75"/>
                      </a:lnTo>
                      <a:lnTo>
                        <a:pt x="60" y="59"/>
                      </a:lnTo>
                      <a:lnTo>
                        <a:pt x="76" y="44"/>
                      </a:lnTo>
                      <a:lnTo>
                        <a:pt x="95" y="35"/>
                      </a:lnTo>
                      <a:lnTo>
                        <a:pt x="114" y="29"/>
                      </a:lnTo>
                      <a:lnTo>
                        <a:pt x="137" y="27"/>
                      </a:lnTo>
                      <a:lnTo>
                        <a:pt x="159" y="29"/>
                      </a:lnTo>
                      <a:lnTo>
                        <a:pt x="179" y="35"/>
                      </a:lnTo>
                      <a:lnTo>
                        <a:pt x="188" y="39"/>
                      </a:lnTo>
                      <a:lnTo>
                        <a:pt x="198" y="44"/>
                      </a:lnTo>
                      <a:lnTo>
                        <a:pt x="215" y="59"/>
                      </a:lnTo>
                      <a:lnTo>
                        <a:pt x="229" y="75"/>
                      </a:lnTo>
                      <a:lnTo>
                        <a:pt x="239" y="94"/>
                      </a:lnTo>
                      <a:lnTo>
                        <a:pt x="246" y="115"/>
                      </a:lnTo>
                      <a:lnTo>
                        <a:pt x="248" y="137"/>
                      </a:lnTo>
                      <a:lnTo>
                        <a:pt x="247" y="142"/>
                      </a:lnTo>
                      <a:lnTo>
                        <a:pt x="247" y="148"/>
                      </a:lnTo>
                      <a:lnTo>
                        <a:pt x="246" y="159"/>
                      </a:lnTo>
                      <a:lnTo>
                        <a:pt x="239" y="179"/>
                      </a:lnTo>
                      <a:lnTo>
                        <a:pt x="233" y="188"/>
                      </a:lnTo>
                      <a:lnTo>
                        <a:pt x="229" y="199"/>
                      </a:lnTo>
                      <a:lnTo>
                        <a:pt x="222" y="207"/>
                      </a:lnTo>
                      <a:lnTo>
                        <a:pt x="215" y="216"/>
                      </a:lnTo>
                      <a:lnTo>
                        <a:pt x="206" y="222"/>
                      </a:lnTo>
                      <a:lnTo>
                        <a:pt x="198" y="229"/>
                      </a:lnTo>
                      <a:lnTo>
                        <a:pt x="188" y="234"/>
                      </a:lnTo>
                      <a:lnTo>
                        <a:pt x="179" y="239"/>
                      </a:lnTo>
                      <a:lnTo>
                        <a:pt x="159" y="246"/>
                      </a:lnTo>
                      <a:lnTo>
                        <a:pt x="147" y="247"/>
                      </a:lnTo>
                      <a:lnTo>
                        <a:pt x="142" y="247"/>
                      </a:lnTo>
                      <a:lnTo>
                        <a:pt x="137" y="249"/>
                      </a:lnTo>
                      <a:lnTo>
                        <a:pt x="114" y="246"/>
                      </a:lnTo>
                      <a:lnTo>
                        <a:pt x="95" y="239"/>
                      </a:lnTo>
                      <a:lnTo>
                        <a:pt x="76" y="229"/>
                      </a:lnTo>
                      <a:lnTo>
                        <a:pt x="60" y="216"/>
                      </a:lnTo>
                      <a:close/>
                    </a:path>
                  </a:pathLst>
                </a:custGeom>
                <a:solidFill>
                  <a:srgbClr val="598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238440" y="2557080"/>
                  <a:ext cx="63360" cy="62640"/>
                </a:xfrm>
                <a:custGeom>
                  <a:avLst/>
                  <a:gdLst/>
                  <a:ahLst/>
                  <a:rect l="l" t="t" r="r" b="b"/>
                  <a:pathLst>
                    <a:path w="221" h="222">
                      <a:moveTo>
                        <a:pt x="0" y="110"/>
                      </a:moveTo>
                      <a:lnTo>
                        <a:pt x="1" y="132"/>
                      </a:lnTo>
                      <a:lnTo>
                        <a:pt x="8" y="152"/>
                      </a:lnTo>
                      <a:lnTo>
                        <a:pt x="11" y="161"/>
                      </a:lnTo>
                      <a:lnTo>
                        <a:pt x="17" y="172"/>
                      </a:lnTo>
                      <a:lnTo>
                        <a:pt x="24" y="180"/>
                      </a:lnTo>
                      <a:lnTo>
                        <a:pt x="33" y="189"/>
                      </a:lnTo>
                      <a:lnTo>
                        <a:pt x="49" y="202"/>
                      </a:lnTo>
                      <a:lnTo>
                        <a:pt x="68" y="212"/>
                      </a:lnTo>
                      <a:lnTo>
                        <a:pt x="87" y="219"/>
                      </a:lnTo>
                      <a:lnTo>
                        <a:pt x="110" y="222"/>
                      </a:lnTo>
                      <a:lnTo>
                        <a:pt x="115" y="220"/>
                      </a:lnTo>
                      <a:lnTo>
                        <a:pt x="120" y="220"/>
                      </a:lnTo>
                      <a:lnTo>
                        <a:pt x="132" y="219"/>
                      </a:lnTo>
                      <a:lnTo>
                        <a:pt x="152" y="212"/>
                      </a:lnTo>
                      <a:lnTo>
                        <a:pt x="161" y="207"/>
                      </a:lnTo>
                      <a:lnTo>
                        <a:pt x="171" y="202"/>
                      </a:lnTo>
                      <a:lnTo>
                        <a:pt x="179" y="195"/>
                      </a:lnTo>
                      <a:lnTo>
                        <a:pt x="188" y="189"/>
                      </a:lnTo>
                      <a:lnTo>
                        <a:pt x="195" y="180"/>
                      </a:lnTo>
                      <a:lnTo>
                        <a:pt x="202" y="172"/>
                      </a:lnTo>
                      <a:lnTo>
                        <a:pt x="206" y="161"/>
                      </a:lnTo>
                      <a:lnTo>
                        <a:pt x="212" y="152"/>
                      </a:lnTo>
                      <a:lnTo>
                        <a:pt x="219" y="132"/>
                      </a:lnTo>
                      <a:lnTo>
                        <a:pt x="220" y="121"/>
                      </a:lnTo>
                      <a:lnTo>
                        <a:pt x="220" y="115"/>
                      </a:lnTo>
                      <a:lnTo>
                        <a:pt x="221" y="110"/>
                      </a:lnTo>
                      <a:lnTo>
                        <a:pt x="219" y="88"/>
                      </a:lnTo>
                      <a:lnTo>
                        <a:pt x="212" y="67"/>
                      </a:lnTo>
                      <a:lnTo>
                        <a:pt x="202" y="48"/>
                      </a:lnTo>
                      <a:lnTo>
                        <a:pt x="188" y="32"/>
                      </a:lnTo>
                      <a:lnTo>
                        <a:pt x="171" y="17"/>
                      </a:lnTo>
                      <a:lnTo>
                        <a:pt x="161" y="12"/>
                      </a:lnTo>
                      <a:lnTo>
                        <a:pt x="152" y="8"/>
                      </a:lnTo>
                      <a:lnTo>
                        <a:pt x="132" y="2"/>
                      </a:lnTo>
                      <a:lnTo>
                        <a:pt x="110" y="0"/>
                      </a:lnTo>
                      <a:lnTo>
                        <a:pt x="87" y="2"/>
                      </a:lnTo>
                      <a:lnTo>
                        <a:pt x="68" y="8"/>
                      </a:lnTo>
                      <a:lnTo>
                        <a:pt x="49" y="17"/>
                      </a:lnTo>
                      <a:lnTo>
                        <a:pt x="33" y="32"/>
                      </a:lnTo>
                      <a:lnTo>
                        <a:pt x="17" y="48"/>
                      </a:lnTo>
                      <a:lnTo>
                        <a:pt x="8" y="67"/>
                      </a:lnTo>
                      <a:lnTo>
                        <a:pt x="1" y="88"/>
                      </a:lnTo>
                      <a:lnTo>
                        <a:pt x="0" y="110"/>
                      </a:lnTo>
                      <a:close/>
                      <a:moveTo>
                        <a:pt x="52" y="169"/>
                      </a:moveTo>
                      <a:lnTo>
                        <a:pt x="41" y="156"/>
                      </a:lnTo>
                      <a:lnTo>
                        <a:pt x="34" y="142"/>
                      </a:lnTo>
                      <a:lnTo>
                        <a:pt x="29" y="126"/>
                      </a:lnTo>
                      <a:lnTo>
                        <a:pt x="28" y="110"/>
                      </a:lnTo>
                      <a:lnTo>
                        <a:pt x="29" y="93"/>
                      </a:lnTo>
                      <a:lnTo>
                        <a:pt x="34" y="79"/>
                      </a:lnTo>
                      <a:lnTo>
                        <a:pt x="41" y="64"/>
                      </a:lnTo>
                      <a:lnTo>
                        <a:pt x="52" y="53"/>
                      </a:lnTo>
                      <a:lnTo>
                        <a:pt x="63" y="41"/>
                      </a:lnTo>
                      <a:lnTo>
                        <a:pt x="78" y="33"/>
                      </a:lnTo>
                      <a:lnTo>
                        <a:pt x="93" y="29"/>
                      </a:lnTo>
                      <a:lnTo>
                        <a:pt x="110" y="28"/>
                      </a:lnTo>
                      <a:lnTo>
                        <a:pt x="126" y="29"/>
                      </a:lnTo>
                      <a:lnTo>
                        <a:pt x="142" y="33"/>
                      </a:lnTo>
                      <a:lnTo>
                        <a:pt x="155" y="41"/>
                      </a:lnTo>
                      <a:lnTo>
                        <a:pt x="169" y="53"/>
                      </a:lnTo>
                      <a:lnTo>
                        <a:pt x="178" y="64"/>
                      </a:lnTo>
                      <a:lnTo>
                        <a:pt x="186" y="79"/>
                      </a:lnTo>
                      <a:lnTo>
                        <a:pt x="190" y="93"/>
                      </a:lnTo>
                      <a:lnTo>
                        <a:pt x="193" y="110"/>
                      </a:lnTo>
                      <a:lnTo>
                        <a:pt x="190" y="126"/>
                      </a:lnTo>
                      <a:lnTo>
                        <a:pt x="186" y="142"/>
                      </a:lnTo>
                      <a:lnTo>
                        <a:pt x="178" y="156"/>
                      </a:lnTo>
                      <a:lnTo>
                        <a:pt x="169" y="169"/>
                      </a:lnTo>
                      <a:lnTo>
                        <a:pt x="155" y="178"/>
                      </a:lnTo>
                      <a:lnTo>
                        <a:pt x="142" y="186"/>
                      </a:lnTo>
                      <a:lnTo>
                        <a:pt x="126" y="191"/>
                      </a:lnTo>
                      <a:lnTo>
                        <a:pt x="110" y="193"/>
                      </a:lnTo>
                      <a:lnTo>
                        <a:pt x="93" y="191"/>
                      </a:lnTo>
                      <a:lnTo>
                        <a:pt x="78" y="186"/>
                      </a:lnTo>
                      <a:lnTo>
                        <a:pt x="63" y="178"/>
                      </a:lnTo>
                      <a:lnTo>
                        <a:pt x="52" y="169"/>
                      </a:lnTo>
                      <a:close/>
                    </a:path>
                  </a:pathLst>
                </a:custGeom>
                <a:solidFill>
                  <a:srgbClr val="5c8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246360" y="2564640"/>
                  <a:ext cx="46800" cy="47160"/>
                </a:xfrm>
                <a:custGeom>
                  <a:avLst/>
                  <a:gdLst/>
                  <a:ahLst/>
                  <a:rect l="l" t="t" r="r" b="b"/>
                  <a:pathLst>
                    <a:path w="165" h="165">
                      <a:moveTo>
                        <a:pt x="0" y="82"/>
                      </a:moveTo>
                      <a:lnTo>
                        <a:pt x="1" y="98"/>
                      </a:lnTo>
                      <a:lnTo>
                        <a:pt x="6" y="114"/>
                      </a:lnTo>
                      <a:lnTo>
                        <a:pt x="13" y="128"/>
                      </a:lnTo>
                      <a:lnTo>
                        <a:pt x="24" y="141"/>
                      </a:lnTo>
                      <a:lnTo>
                        <a:pt x="35" y="150"/>
                      </a:lnTo>
                      <a:lnTo>
                        <a:pt x="50" y="158"/>
                      </a:lnTo>
                      <a:lnTo>
                        <a:pt x="65" y="163"/>
                      </a:lnTo>
                      <a:lnTo>
                        <a:pt x="82" y="165"/>
                      </a:lnTo>
                      <a:lnTo>
                        <a:pt x="98" y="163"/>
                      </a:lnTo>
                      <a:lnTo>
                        <a:pt x="114" y="158"/>
                      </a:lnTo>
                      <a:lnTo>
                        <a:pt x="127" y="150"/>
                      </a:lnTo>
                      <a:lnTo>
                        <a:pt x="141" y="141"/>
                      </a:lnTo>
                      <a:lnTo>
                        <a:pt x="150" y="128"/>
                      </a:lnTo>
                      <a:lnTo>
                        <a:pt x="158" y="114"/>
                      </a:lnTo>
                      <a:lnTo>
                        <a:pt x="162" y="98"/>
                      </a:lnTo>
                      <a:lnTo>
                        <a:pt x="165" y="82"/>
                      </a:lnTo>
                      <a:lnTo>
                        <a:pt x="162" y="65"/>
                      </a:lnTo>
                      <a:lnTo>
                        <a:pt x="158" y="51"/>
                      </a:lnTo>
                      <a:lnTo>
                        <a:pt x="150" y="36"/>
                      </a:lnTo>
                      <a:lnTo>
                        <a:pt x="141" y="25"/>
                      </a:lnTo>
                      <a:lnTo>
                        <a:pt x="127" y="13"/>
                      </a:lnTo>
                      <a:lnTo>
                        <a:pt x="114" y="5"/>
                      </a:lnTo>
                      <a:lnTo>
                        <a:pt x="98" y="1"/>
                      </a:lnTo>
                      <a:lnTo>
                        <a:pt x="82" y="0"/>
                      </a:lnTo>
                      <a:lnTo>
                        <a:pt x="65" y="1"/>
                      </a:lnTo>
                      <a:lnTo>
                        <a:pt x="50" y="5"/>
                      </a:lnTo>
                      <a:lnTo>
                        <a:pt x="35" y="13"/>
                      </a:lnTo>
                      <a:lnTo>
                        <a:pt x="24" y="25"/>
                      </a:lnTo>
                      <a:lnTo>
                        <a:pt x="13" y="36"/>
                      </a:lnTo>
                      <a:lnTo>
                        <a:pt x="6" y="51"/>
                      </a:lnTo>
                      <a:lnTo>
                        <a:pt x="1" y="65"/>
                      </a:lnTo>
                      <a:lnTo>
                        <a:pt x="0" y="82"/>
                      </a:lnTo>
                      <a:close/>
                      <a:moveTo>
                        <a:pt x="82" y="28"/>
                      </a:moveTo>
                      <a:lnTo>
                        <a:pt x="92" y="28"/>
                      </a:lnTo>
                      <a:lnTo>
                        <a:pt x="102" y="31"/>
                      </a:lnTo>
                      <a:lnTo>
                        <a:pt x="111" y="36"/>
                      </a:lnTo>
                      <a:lnTo>
                        <a:pt x="122" y="44"/>
                      </a:lnTo>
                      <a:lnTo>
                        <a:pt x="127" y="52"/>
                      </a:lnTo>
                      <a:lnTo>
                        <a:pt x="133" y="61"/>
                      </a:lnTo>
                      <a:lnTo>
                        <a:pt x="136" y="71"/>
                      </a:lnTo>
                      <a:lnTo>
                        <a:pt x="138" y="82"/>
                      </a:lnTo>
                      <a:lnTo>
                        <a:pt x="136" y="87"/>
                      </a:lnTo>
                      <a:lnTo>
                        <a:pt x="136" y="93"/>
                      </a:lnTo>
                      <a:lnTo>
                        <a:pt x="134" y="97"/>
                      </a:lnTo>
                      <a:lnTo>
                        <a:pt x="133" y="99"/>
                      </a:lnTo>
                      <a:lnTo>
                        <a:pt x="133" y="103"/>
                      </a:lnTo>
                      <a:lnTo>
                        <a:pt x="127" y="112"/>
                      </a:lnTo>
                      <a:lnTo>
                        <a:pt x="124" y="116"/>
                      </a:lnTo>
                      <a:lnTo>
                        <a:pt x="122" y="122"/>
                      </a:lnTo>
                      <a:lnTo>
                        <a:pt x="116" y="124"/>
                      </a:lnTo>
                      <a:lnTo>
                        <a:pt x="111" y="128"/>
                      </a:lnTo>
                      <a:lnTo>
                        <a:pt x="102" y="133"/>
                      </a:lnTo>
                      <a:lnTo>
                        <a:pt x="99" y="133"/>
                      </a:lnTo>
                      <a:lnTo>
                        <a:pt x="97" y="135"/>
                      </a:lnTo>
                      <a:lnTo>
                        <a:pt x="92" y="137"/>
                      </a:lnTo>
                      <a:lnTo>
                        <a:pt x="87" y="137"/>
                      </a:lnTo>
                      <a:lnTo>
                        <a:pt x="82" y="138"/>
                      </a:lnTo>
                      <a:lnTo>
                        <a:pt x="71" y="137"/>
                      </a:lnTo>
                      <a:lnTo>
                        <a:pt x="60" y="133"/>
                      </a:lnTo>
                      <a:lnTo>
                        <a:pt x="51" y="128"/>
                      </a:lnTo>
                      <a:lnTo>
                        <a:pt x="43" y="122"/>
                      </a:lnTo>
                      <a:lnTo>
                        <a:pt x="35" y="112"/>
                      </a:lnTo>
                      <a:lnTo>
                        <a:pt x="31" y="103"/>
                      </a:lnTo>
                      <a:lnTo>
                        <a:pt x="28" y="93"/>
                      </a:lnTo>
                      <a:lnTo>
                        <a:pt x="28" y="82"/>
                      </a:lnTo>
                      <a:lnTo>
                        <a:pt x="31" y="61"/>
                      </a:lnTo>
                      <a:lnTo>
                        <a:pt x="43" y="44"/>
                      </a:lnTo>
                      <a:lnTo>
                        <a:pt x="60" y="31"/>
                      </a:lnTo>
                      <a:lnTo>
                        <a:pt x="82" y="28"/>
                      </a:lnTo>
                      <a:close/>
                    </a:path>
                  </a:pathLst>
                </a:custGeom>
                <a:solidFill>
                  <a:srgbClr val="5f8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254280" y="2572560"/>
                  <a:ext cx="31320" cy="3132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94" y="16"/>
                      </a:moveTo>
                      <a:lnTo>
                        <a:pt x="83" y="8"/>
                      </a:lnTo>
                      <a:lnTo>
                        <a:pt x="74" y="3"/>
                      </a:lnTo>
                      <a:lnTo>
                        <a:pt x="64" y="0"/>
                      </a:lnTo>
                      <a:lnTo>
                        <a:pt x="54" y="0"/>
                      </a:lnTo>
                      <a:lnTo>
                        <a:pt x="32" y="3"/>
                      </a:lnTo>
                      <a:lnTo>
                        <a:pt x="15" y="16"/>
                      </a:lnTo>
                      <a:lnTo>
                        <a:pt x="3" y="33"/>
                      </a:lnTo>
                      <a:lnTo>
                        <a:pt x="0" y="54"/>
                      </a:lnTo>
                      <a:lnTo>
                        <a:pt x="0" y="65"/>
                      </a:lnTo>
                      <a:lnTo>
                        <a:pt x="3" y="75"/>
                      </a:lnTo>
                      <a:lnTo>
                        <a:pt x="7" y="84"/>
                      </a:lnTo>
                      <a:lnTo>
                        <a:pt x="15" y="94"/>
                      </a:lnTo>
                      <a:lnTo>
                        <a:pt x="23" y="100"/>
                      </a:lnTo>
                      <a:lnTo>
                        <a:pt x="32" y="105"/>
                      </a:lnTo>
                      <a:lnTo>
                        <a:pt x="43" y="109"/>
                      </a:lnTo>
                      <a:lnTo>
                        <a:pt x="54" y="110"/>
                      </a:lnTo>
                      <a:lnTo>
                        <a:pt x="59" y="109"/>
                      </a:lnTo>
                      <a:lnTo>
                        <a:pt x="64" y="109"/>
                      </a:lnTo>
                      <a:lnTo>
                        <a:pt x="69" y="107"/>
                      </a:lnTo>
                      <a:lnTo>
                        <a:pt x="71" y="105"/>
                      </a:lnTo>
                      <a:lnTo>
                        <a:pt x="74" y="105"/>
                      </a:lnTo>
                      <a:lnTo>
                        <a:pt x="83" y="100"/>
                      </a:lnTo>
                      <a:lnTo>
                        <a:pt x="88" y="96"/>
                      </a:lnTo>
                      <a:lnTo>
                        <a:pt x="94" y="94"/>
                      </a:lnTo>
                      <a:lnTo>
                        <a:pt x="96" y="88"/>
                      </a:lnTo>
                      <a:lnTo>
                        <a:pt x="99" y="84"/>
                      </a:lnTo>
                      <a:lnTo>
                        <a:pt x="105" y="75"/>
                      </a:lnTo>
                      <a:lnTo>
                        <a:pt x="105" y="71"/>
                      </a:lnTo>
                      <a:lnTo>
                        <a:pt x="106" y="69"/>
                      </a:lnTo>
                      <a:lnTo>
                        <a:pt x="108" y="65"/>
                      </a:lnTo>
                      <a:lnTo>
                        <a:pt x="108" y="59"/>
                      </a:lnTo>
                      <a:lnTo>
                        <a:pt x="110" y="54"/>
                      </a:lnTo>
                      <a:lnTo>
                        <a:pt x="108" y="43"/>
                      </a:lnTo>
                      <a:lnTo>
                        <a:pt x="105" y="33"/>
                      </a:lnTo>
                      <a:lnTo>
                        <a:pt x="99" y="24"/>
                      </a:lnTo>
                      <a:lnTo>
                        <a:pt x="94" y="16"/>
                      </a:lnTo>
                      <a:close/>
                      <a:moveTo>
                        <a:pt x="54" y="27"/>
                      </a:moveTo>
                      <a:lnTo>
                        <a:pt x="64" y="28"/>
                      </a:lnTo>
                      <a:lnTo>
                        <a:pt x="69" y="31"/>
                      </a:lnTo>
                      <a:lnTo>
                        <a:pt x="74" y="35"/>
                      </a:lnTo>
                      <a:lnTo>
                        <a:pt x="80" y="43"/>
                      </a:lnTo>
                      <a:lnTo>
                        <a:pt x="82" y="54"/>
                      </a:lnTo>
                      <a:lnTo>
                        <a:pt x="81" y="59"/>
                      </a:lnTo>
                      <a:lnTo>
                        <a:pt x="80" y="61"/>
                      </a:lnTo>
                      <a:lnTo>
                        <a:pt x="80" y="65"/>
                      </a:lnTo>
                      <a:lnTo>
                        <a:pt x="77" y="69"/>
                      </a:lnTo>
                      <a:lnTo>
                        <a:pt x="74" y="74"/>
                      </a:lnTo>
                      <a:lnTo>
                        <a:pt x="69" y="76"/>
                      </a:lnTo>
                      <a:lnTo>
                        <a:pt x="64" y="79"/>
                      </a:lnTo>
                      <a:lnTo>
                        <a:pt x="61" y="79"/>
                      </a:lnTo>
                      <a:lnTo>
                        <a:pt x="59" y="80"/>
                      </a:lnTo>
                      <a:lnTo>
                        <a:pt x="54" y="82"/>
                      </a:lnTo>
                      <a:lnTo>
                        <a:pt x="43" y="79"/>
                      </a:lnTo>
                      <a:lnTo>
                        <a:pt x="35" y="74"/>
                      </a:lnTo>
                      <a:lnTo>
                        <a:pt x="30" y="69"/>
                      </a:lnTo>
                      <a:lnTo>
                        <a:pt x="28" y="65"/>
                      </a:lnTo>
                      <a:lnTo>
                        <a:pt x="27" y="54"/>
                      </a:lnTo>
                      <a:lnTo>
                        <a:pt x="28" y="43"/>
                      </a:lnTo>
                      <a:lnTo>
                        <a:pt x="35" y="35"/>
                      </a:lnTo>
                      <a:lnTo>
                        <a:pt x="43" y="28"/>
                      </a:lnTo>
                      <a:lnTo>
                        <a:pt x="54" y="27"/>
                      </a:lnTo>
                      <a:close/>
                    </a:path>
                  </a:pathLst>
                </a:custGeom>
                <a:solidFill>
                  <a:srgbClr val="62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261840" y="2580840"/>
                  <a:ext cx="15840" cy="1512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47" y="8"/>
                      </a:moveTo>
                      <a:lnTo>
                        <a:pt x="42" y="4"/>
                      </a:lnTo>
                      <a:lnTo>
                        <a:pt x="37" y="1"/>
                      </a:lnTo>
                      <a:lnTo>
                        <a:pt x="27" y="0"/>
                      </a:lnTo>
                      <a:lnTo>
                        <a:pt x="16" y="1"/>
                      </a:lnTo>
                      <a:lnTo>
                        <a:pt x="8" y="8"/>
                      </a:lnTo>
                      <a:lnTo>
                        <a:pt x="1" y="16"/>
                      </a:lnTo>
                      <a:lnTo>
                        <a:pt x="0" y="27"/>
                      </a:lnTo>
                      <a:lnTo>
                        <a:pt x="1" y="38"/>
                      </a:lnTo>
                      <a:lnTo>
                        <a:pt x="3" y="42"/>
                      </a:lnTo>
                      <a:lnTo>
                        <a:pt x="8" y="47"/>
                      </a:lnTo>
                      <a:lnTo>
                        <a:pt x="16" y="52"/>
                      </a:lnTo>
                      <a:lnTo>
                        <a:pt x="27" y="55"/>
                      </a:lnTo>
                      <a:lnTo>
                        <a:pt x="32" y="53"/>
                      </a:lnTo>
                      <a:lnTo>
                        <a:pt x="34" y="52"/>
                      </a:lnTo>
                      <a:lnTo>
                        <a:pt x="37" y="52"/>
                      </a:lnTo>
                      <a:lnTo>
                        <a:pt x="42" y="49"/>
                      </a:lnTo>
                      <a:lnTo>
                        <a:pt x="47" y="47"/>
                      </a:lnTo>
                      <a:lnTo>
                        <a:pt x="50" y="42"/>
                      </a:lnTo>
                      <a:lnTo>
                        <a:pt x="53" y="38"/>
                      </a:lnTo>
                      <a:lnTo>
                        <a:pt x="53" y="34"/>
                      </a:lnTo>
                      <a:lnTo>
                        <a:pt x="54" y="32"/>
                      </a:lnTo>
                      <a:lnTo>
                        <a:pt x="55" y="27"/>
                      </a:lnTo>
                      <a:lnTo>
                        <a:pt x="53" y="16"/>
                      </a:lnTo>
                      <a:lnTo>
                        <a:pt x="47" y="8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033600" y="2653920"/>
                  <a:ext cx="68040" cy="111600"/>
                </a:xfrm>
                <a:custGeom>
                  <a:avLst/>
                  <a:gdLst/>
                  <a:ahLst/>
                  <a:rect l="l" t="t" r="r" b="b"/>
                  <a:pathLst>
                    <a:path w="240" h="394">
                      <a:moveTo>
                        <a:pt x="240" y="394"/>
                      </a:moveTo>
                      <a:lnTo>
                        <a:pt x="231" y="385"/>
                      </a:lnTo>
                      <a:lnTo>
                        <a:pt x="226" y="380"/>
                      </a:lnTo>
                      <a:lnTo>
                        <a:pt x="224" y="378"/>
                      </a:lnTo>
                      <a:lnTo>
                        <a:pt x="223" y="377"/>
                      </a:lnTo>
                      <a:lnTo>
                        <a:pt x="182" y="334"/>
                      </a:lnTo>
                      <a:lnTo>
                        <a:pt x="146" y="291"/>
                      </a:lnTo>
                      <a:lnTo>
                        <a:pt x="113" y="245"/>
                      </a:lnTo>
                      <a:lnTo>
                        <a:pt x="84" y="200"/>
                      </a:lnTo>
                      <a:lnTo>
                        <a:pt x="70" y="175"/>
                      </a:lnTo>
                      <a:lnTo>
                        <a:pt x="57" y="151"/>
                      </a:lnTo>
                      <a:lnTo>
                        <a:pt x="45" y="126"/>
                      </a:lnTo>
                      <a:lnTo>
                        <a:pt x="34" y="102"/>
                      </a:lnTo>
                      <a:lnTo>
                        <a:pt x="15" y="51"/>
                      </a:lnTo>
                      <a:lnTo>
                        <a:pt x="0" y="0"/>
                      </a:lnTo>
                      <a:lnTo>
                        <a:pt x="4" y="45"/>
                      </a:lnTo>
                      <a:lnTo>
                        <a:pt x="7" y="66"/>
                      </a:lnTo>
                      <a:lnTo>
                        <a:pt x="13" y="89"/>
                      </a:lnTo>
                      <a:lnTo>
                        <a:pt x="25" y="131"/>
                      </a:lnTo>
                      <a:lnTo>
                        <a:pt x="42" y="171"/>
                      </a:lnTo>
                      <a:lnTo>
                        <a:pt x="62" y="210"/>
                      </a:lnTo>
                      <a:lnTo>
                        <a:pt x="87" y="249"/>
                      </a:lnTo>
                      <a:lnTo>
                        <a:pt x="115" y="285"/>
                      </a:lnTo>
                      <a:lnTo>
                        <a:pt x="148" y="320"/>
                      </a:lnTo>
                      <a:lnTo>
                        <a:pt x="169" y="340"/>
                      </a:lnTo>
                      <a:lnTo>
                        <a:pt x="192" y="360"/>
                      </a:lnTo>
                      <a:lnTo>
                        <a:pt x="215" y="377"/>
                      </a:lnTo>
                      <a:lnTo>
                        <a:pt x="240" y="394"/>
                      </a:lnTo>
                      <a:close/>
                    </a:path>
                  </a:pathLst>
                </a:custGeom>
                <a:solidFill>
                  <a:srgbClr val="020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032880" y="2619000"/>
                  <a:ext cx="96480" cy="160200"/>
                </a:xfrm>
                <a:custGeom>
                  <a:avLst/>
                  <a:gdLst/>
                  <a:ahLst/>
                  <a:rect l="l" t="t" r="r" b="b"/>
                  <a:pathLst>
                    <a:path w="338" h="561">
                      <a:moveTo>
                        <a:pt x="224" y="498"/>
                      </a:moveTo>
                      <a:lnTo>
                        <a:pt x="225" y="499"/>
                      </a:lnTo>
                      <a:lnTo>
                        <a:pt x="227" y="501"/>
                      </a:lnTo>
                      <a:lnTo>
                        <a:pt x="232" y="506"/>
                      </a:lnTo>
                      <a:lnTo>
                        <a:pt x="241" y="515"/>
                      </a:lnTo>
                      <a:lnTo>
                        <a:pt x="263" y="528"/>
                      </a:lnTo>
                      <a:lnTo>
                        <a:pt x="287" y="541"/>
                      </a:lnTo>
                      <a:lnTo>
                        <a:pt x="338" y="561"/>
                      </a:lnTo>
                      <a:lnTo>
                        <a:pt x="313" y="542"/>
                      </a:lnTo>
                      <a:lnTo>
                        <a:pt x="289" y="522"/>
                      </a:lnTo>
                      <a:lnTo>
                        <a:pt x="243" y="478"/>
                      </a:lnTo>
                      <a:lnTo>
                        <a:pt x="217" y="451"/>
                      </a:lnTo>
                      <a:lnTo>
                        <a:pt x="194" y="425"/>
                      </a:lnTo>
                      <a:lnTo>
                        <a:pt x="172" y="398"/>
                      </a:lnTo>
                      <a:lnTo>
                        <a:pt x="151" y="372"/>
                      </a:lnTo>
                      <a:lnTo>
                        <a:pt x="131" y="342"/>
                      </a:lnTo>
                      <a:lnTo>
                        <a:pt x="114" y="314"/>
                      </a:lnTo>
                      <a:lnTo>
                        <a:pt x="97" y="285"/>
                      </a:lnTo>
                      <a:lnTo>
                        <a:pt x="82" y="256"/>
                      </a:lnTo>
                      <a:lnTo>
                        <a:pt x="67" y="224"/>
                      </a:lnTo>
                      <a:lnTo>
                        <a:pt x="55" y="194"/>
                      </a:lnTo>
                      <a:lnTo>
                        <a:pt x="42" y="162"/>
                      </a:lnTo>
                      <a:lnTo>
                        <a:pt x="33" y="131"/>
                      </a:lnTo>
                      <a:lnTo>
                        <a:pt x="24" y="99"/>
                      </a:lnTo>
                      <a:lnTo>
                        <a:pt x="17" y="67"/>
                      </a:lnTo>
                      <a:lnTo>
                        <a:pt x="10" y="33"/>
                      </a:lnTo>
                      <a:lnTo>
                        <a:pt x="7" y="0"/>
                      </a:lnTo>
                      <a:lnTo>
                        <a:pt x="1" y="41"/>
                      </a:lnTo>
                      <a:lnTo>
                        <a:pt x="0" y="84"/>
                      </a:lnTo>
                      <a:lnTo>
                        <a:pt x="1" y="121"/>
                      </a:lnTo>
                      <a:lnTo>
                        <a:pt x="16" y="172"/>
                      </a:lnTo>
                      <a:lnTo>
                        <a:pt x="35" y="223"/>
                      </a:lnTo>
                      <a:lnTo>
                        <a:pt x="46" y="247"/>
                      </a:lnTo>
                      <a:lnTo>
                        <a:pt x="58" y="272"/>
                      </a:lnTo>
                      <a:lnTo>
                        <a:pt x="71" y="296"/>
                      </a:lnTo>
                      <a:lnTo>
                        <a:pt x="85" y="321"/>
                      </a:lnTo>
                      <a:lnTo>
                        <a:pt x="114" y="366"/>
                      </a:lnTo>
                      <a:lnTo>
                        <a:pt x="147" y="412"/>
                      </a:lnTo>
                      <a:lnTo>
                        <a:pt x="183" y="455"/>
                      </a:lnTo>
                      <a:lnTo>
                        <a:pt x="224" y="498"/>
                      </a:lnTo>
                      <a:close/>
                    </a:path>
                  </a:pathLst>
                </a:custGeom>
                <a:solidFill>
                  <a:srgbClr val="060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035400" y="2594160"/>
                  <a:ext cx="116640" cy="190800"/>
                </a:xfrm>
                <a:custGeom>
                  <a:avLst/>
                  <a:gdLst/>
                  <a:ahLst/>
                  <a:rect l="l" t="t" r="r" b="b"/>
                  <a:pathLst>
                    <a:path w="409" h="668">
                      <a:moveTo>
                        <a:pt x="236" y="564"/>
                      </a:moveTo>
                      <a:lnTo>
                        <a:pt x="282" y="608"/>
                      </a:lnTo>
                      <a:lnTo>
                        <a:pt x="306" y="628"/>
                      </a:lnTo>
                      <a:lnTo>
                        <a:pt x="331" y="647"/>
                      </a:lnTo>
                      <a:lnTo>
                        <a:pt x="369" y="657"/>
                      </a:lnTo>
                      <a:lnTo>
                        <a:pt x="409" y="668"/>
                      </a:lnTo>
                      <a:lnTo>
                        <a:pt x="369" y="639"/>
                      </a:lnTo>
                      <a:lnTo>
                        <a:pt x="330" y="611"/>
                      </a:lnTo>
                      <a:lnTo>
                        <a:pt x="291" y="578"/>
                      </a:lnTo>
                      <a:lnTo>
                        <a:pt x="256" y="545"/>
                      </a:lnTo>
                      <a:lnTo>
                        <a:pt x="228" y="516"/>
                      </a:lnTo>
                      <a:lnTo>
                        <a:pt x="202" y="486"/>
                      </a:lnTo>
                      <a:lnTo>
                        <a:pt x="177" y="456"/>
                      </a:lnTo>
                      <a:lnTo>
                        <a:pt x="155" y="425"/>
                      </a:lnTo>
                      <a:lnTo>
                        <a:pt x="134" y="392"/>
                      </a:lnTo>
                      <a:lnTo>
                        <a:pt x="116" y="360"/>
                      </a:lnTo>
                      <a:lnTo>
                        <a:pt x="98" y="327"/>
                      </a:lnTo>
                      <a:lnTo>
                        <a:pt x="83" y="295"/>
                      </a:lnTo>
                      <a:lnTo>
                        <a:pt x="68" y="259"/>
                      </a:lnTo>
                      <a:lnTo>
                        <a:pt x="57" y="224"/>
                      </a:lnTo>
                      <a:lnTo>
                        <a:pt x="45" y="188"/>
                      </a:lnTo>
                      <a:lnTo>
                        <a:pt x="38" y="153"/>
                      </a:lnTo>
                      <a:lnTo>
                        <a:pt x="30" y="114"/>
                      </a:lnTo>
                      <a:lnTo>
                        <a:pt x="25" y="77"/>
                      </a:lnTo>
                      <a:lnTo>
                        <a:pt x="22" y="38"/>
                      </a:lnTo>
                      <a:lnTo>
                        <a:pt x="22" y="0"/>
                      </a:lnTo>
                      <a:lnTo>
                        <a:pt x="8" y="42"/>
                      </a:lnTo>
                      <a:lnTo>
                        <a:pt x="0" y="86"/>
                      </a:lnTo>
                      <a:lnTo>
                        <a:pt x="3" y="119"/>
                      </a:lnTo>
                      <a:lnTo>
                        <a:pt x="10" y="153"/>
                      </a:lnTo>
                      <a:lnTo>
                        <a:pt x="17" y="185"/>
                      </a:lnTo>
                      <a:lnTo>
                        <a:pt x="26" y="217"/>
                      </a:lnTo>
                      <a:lnTo>
                        <a:pt x="35" y="248"/>
                      </a:lnTo>
                      <a:lnTo>
                        <a:pt x="48" y="280"/>
                      </a:lnTo>
                      <a:lnTo>
                        <a:pt x="60" y="310"/>
                      </a:lnTo>
                      <a:lnTo>
                        <a:pt x="75" y="342"/>
                      </a:lnTo>
                      <a:lnTo>
                        <a:pt x="90" y="371"/>
                      </a:lnTo>
                      <a:lnTo>
                        <a:pt x="107" y="400"/>
                      </a:lnTo>
                      <a:lnTo>
                        <a:pt x="124" y="428"/>
                      </a:lnTo>
                      <a:lnTo>
                        <a:pt x="144" y="458"/>
                      </a:lnTo>
                      <a:lnTo>
                        <a:pt x="165" y="484"/>
                      </a:lnTo>
                      <a:lnTo>
                        <a:pt x="187" y="511"/>
                      </a:lnTo>
                      <a:lnTo>
                        <a:pt x="210" y="537"/>
                      </a:lnTo>
                      <a:lnTo>
                        <a:pt x="236" y="564"/>
                      </a:lnTo>
                      <a:close/>
                    </a:path>
                  </a:pathLst>
                </a:custGeom>
                <a:solidFill>
                  <a:srgbClr val="090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032880" y="2499120"/>
                  <a:ext cx="288720" cy="287640"/>
                </a:xfrm>
                <a:custGeom>
                  <a:avLst/>
                  <a:gdLst/>
                  <a:ahLst/>
                  <a:rect l="l" t="t" r="r" b="b"/>
                  <a:pathLst>
                    <a:path w="1009" h="1008">
                      <a:moveTo>
                        <a:pt x="149" y="148"/>
                      </a:moveTo>
                      <a:lnTo>
                        <a:pt x="113" y="185"/>
                      </a:lnTo>
                      <a:lnTo>
                        <a:pt x="83" y="225"/>
                      </a:lnTo>
                      <a:lnTo>
                        <a:pt x="57" y="266"/>
                      </a:lnTo>
                      <a:lnTo>
                        <a:pt x="37" y="310"/>
                      </a:lnTo>
                      <a:lnTo>
                        <a:pt x="21" y="354"/>
                      </a:lnTo>
                      <a:lnTo>
                        <a:pt x="9" y="403"/>
                      </a:lnTo>
                      <a:lnTo>
                        <a:pt x="3" y="452"/>
                      </a:lnTo>
                      <a:lnTo>
                        <a:pt x="0" y="504"/>
                      </a:lnTo>
                      <a:lnTo>
                        <a:pt x="0" y="529"/>
                      </a:lnTo>
                      <a:lnTo>
                        <a:pt x="3" y="555"/>
                      </a:lnTo>
                      <a:lnTo>
                        <a:pt x="5" y="579"/>
                      </a:lnTo>
                      <a:lnTo>
                        <a:pt x="9" y="604"/>
                      </a:lnTo>
                      <a:lnTo>
                        <a:pt x="14" y="626"/>
                      </a:lnTo>
                      <a:lnTo>
                        <a:pt x="21" y="650"/>
                      </a:lnTo>
                      <a:lnTo>
                        <a:pt x="28" y="673"/>
                      </a:lnTo>
                      <a:lnTo>
                        <a:pt x="37" y="697"/>
                      </a:lnTo>
                      <a:lnTo>
                        <a:pt x="57" y="740"/>
                      </a:lnTo>
                      <a:lnTo>
                        <a:pt x="68" y="760"/>
                      </a:lnTo>
                      <a:lnTo>
                        <a:pt x="83" y="782"/>
                      </a:lnTo>
                      <a:lnTo>
                        <a:pt x="97" y="801"/>
                      </a:lnTo>
                      <a:lnTo>
                        <a:pt x="113" y="821"/>
                      </a:lnTo>
                      <a:lnTo>
                        <a:pt x="130" y="841"/>
                      </a:lnTo>
                      <a:lnTo>
                        <a:pt x="149" y="861"/>
                      </a:lnTo>
                      <a:lnTo>
                        <a:pt x="186" y="895"/>
                      </a:lnTo>
                      <a:lnTo>
                        <a:pt x="226" y="925"/>
                      </a:lnTo>
                      <a:lnTo>
                        <a:pt x="267" y="949"/>
                      </a:lnTo>
                      <a:lnTo>
                        <a:pt x="288" y="961"/>
                      </a:lnTo>
                      <a:lnTo>
                        <a:pt x="311" y="971"/>
                      </a:lnTo>
                      <a:lnTo>
                        <a:pt x="355" y="987"/>
                      </a:lnTo>
                      <a:lnTo>
                        <a:pt x="404" y="998"/>
                      </a:lnTo>
                      <a:lnTo>
                        <a:pt x="453" y="1005"/>
                      </a:lnTo>
                      <a:lnTo>
                        <a:pt x="478" y="1007"/>
                      </a:lnTo>
                      <a:lnTo>
                        <a:pt x="505" y="1008"/>
                      </a:lnTo>
                      <a:lnTo>
                        <a:pt x="530" y="1007"/>
                      </a:lnTo>
                      <a:lnTo>
                        <a:pt x="556" y="1005"/>
                      </a:lnTo>
                      <a:lnTo>
                        <a:pt x="567" y="1003"/>
                      </a:lnTo>
                      <a:lnTo>
                        <a:pt x="569" y="1002"/>
                      </a:lnTo>
                      <a:lnTo>
                        <a:pt x="573" y="1002"/>
                      </a:lnTo>
                      <a:lnTo>
                        <a:pt x="580" y="1002"/>
                      </a:lnTo>
                      <a:lnTo>
                        <a:pt x="605" y="998"/>
                      </a:lnTo>
                      <a:lnTo>
                        <a:pt x="627" y="993"/>
                      </a:lnTo>
                      <a:lnTo>
                        <a:pt x="639" y="989"/>
                      </a:lnTo>
                      <a:lnTo>
                        <a:pt x="651" y="987"/>
                      </a:lnTo>
                      <a:lnTo>
                        <a:pt x="674" y="979"/>
                      </a:lnTo>
                      <a:lnTo>
                        <a:pt x="685" y="974"/>
                      </a:lnTo>
                      <a:lnTo>
                        <a:pt x="691" y="972"/>
                      </a:lnTo>
                      <a:lnTo>
                        <a:pt x="698" y="971"/>
                      </a:lnTo>
                      <a:lnTo>
                        <a:pt x="718" y="961"/>
                      </a:lnTo>
                      <a:lnTo>
                        <a:pt x="741" y="949"/>
                      </a:lnTo>
                      <a:lnTo>
                        <a:pt x="761" y="937"/>
                      </a:lnTo>
                      <a:lnTo>
                        <a:pt x="771" y="930"/>
                      </a:lnTo>
                      <a:lnTo>
                        <a:pt x="783" y="925"/>
                      </a:lnTo>
                      <a:lnTo>
                        <a:pt x="792" y="917"/>
                      </a:lnTo>
                      <a:lnTo>
                        <a:pt x="802" y="910"/>
                      </a:lnTo>
                      <a:lnTo>
                        <a:pt x="822" y="895"/>
                      </a:lnTo>
                      <a:lnTo>
                        <a:pt x="861" y="861"/>
                      </a:lnTo>
                      <a:lnTo>
                        <a:pt x="878" y="841"/>
                      </a:lnTo>
                      <a:lnTo>
                        <a:pt x="879" y="837"/>
                      </a:lnTo>
                      <a:lnTo>
                        <a:pt x="881" y="835"/>
                      </a:lnTo>
                      <a:lnTo>
                        <a:pt x="886" y="830"/>
                      </a:lnTo>
                      <a:lnTo>
                        <a:pt x="895" y="821"/>
                      </a:lnTo>
                      <a:lnTo>
                        <a:pt x="910" y="801"/>
                      </a:lnTo>
                      <a:lnTo>
                        <a:pt x="916" y="791"/>
                      </a:lnTo>
                      <a:lnTo>
                        <a:pt x="924" y="782"/>
                      </a:lnTo>
                      <a:lnTo>
                        <a:pt x="930" y="770"/>
                      </a:lnTo>
                      <a:lnTo>
                        <a:pt x="937" y="760"/>
                      </a:lnTo>
                      <a:lnTo>
                        <a:pt x="949" y="740"/>
                      </a:lnTo>
                      <a:lnTo>
                        <a:pt x="972" y="697"/>
                      </a:lnTo>
                      <a:lnTo>
                        <a:pt x="973" y="690"/>
                      </a:lnTo>
                      <a:lnTo>
                        <a:pt x="975" y="684"/>
                      </a:lnTo>
                      <a:lnTo>
                        <a:pt x="980" y="673"/>
                      </a:lnTo>
                      <a:lnTo>
                        <a:pt x="988" y="650"/>
                      </a:lnTo>
                      <a:lnTo>
                        <a:pt x="990" y="638"/>
                      </a:lnTo>
                      <a:lnTo>
                        <a:pt x="994" y="626"/>
                      </a:lnTo>
                      <a:lnTo>
                        <a:pt x="999" y="604"/>
                      </a:lnTo>
                      <a:lnTo>
                        <a:pt x="1003" y="579"/>
                      </a:lnTo>
                      <a:lnTo>
                        <a:pt x="1003" y="572"/>
                      </a:lnTo>
                      <a:lnTo>
                        <a:pt x="1003" y="568"/>
                      </a:lnTo>
                      <a:lnTo>
                        <a:pt x="1004" y="566"/>
                      </a:lnTo>
                      <a:lnTo>
                        <a:pt x="1006" y="555"/>
                      </a:lnTo>
                      <a:lnTo>
                        <a:pt x="1008" y="529"/>
                      </a:lnTo>
                      <a:lnTo>
                        <a:pt x="1009" y="504"/>
                      </a:lnTo>
                      <a:lnTo>
                        <a:pt x="1008" y="477"/>
                      </a:lnTo>
                      <a:lnTo>
                        <a:pt x="1006" y="452"/>
                      </a:lnTo>
                      <a:lnTo>
                        <a:pt x="999" y="403"/>
                      </a:lnTo>
                      <a:lnTo>
                        <a:pt x="988" y="354"/>
                      </a:lnTo>
                      <a:lnTo>
                        <a:pt x="972" y="310"/>
                      </a:lnTo>
                      <a:lnTo>
                        <a:pt x="949" y="266"/>
                      </a:lnTo>
                      <a:lnTo>
                        <a:pt x="924" y="225"/>
                      </a:lnTo>
                      <a:lnTo>
                        <a:pt x="895" y="185"/>
                      </a:lnTo>
                      <a:lnTo>
                        <a:pt x="861" y="148"/>
                      </a:lnTo>
                      <a:lnTo>
                        <a:pt x="822" y="112"/>
                      </a:lnTo>
                      <a:lnTo>
                        <a:pt x="802" y="96"/>
                      </a:lnTo>
                      <a:lnTo>
                        <a:pt x="783" y="82"/>
                      </a:lnTo>
                      <a:lnTo>
                        <a:pt x="761" y="68"/>
                      </a:lnTo>
                      <a:lnTo>
                        <a:pt x="741" y="57"/>
                      </a:lnTo>
                      <a:lnTo>
                        <a:pt x="698" y="37"/>
                      </a:lnTo>
                      <a:lnTo>
                        <a:pt x="674" y="28"/>
                      </a:lnTo>
                      <a:lnTo>
                        <a:pt x="651" y="21"/>
                      </a:lnTo>
                      <a:lnTo>
                        <a:pt x="627" y="14"/>
                      </a:lnTo>
                      <a:lnTo>
                        <a:pt x="605" y="10"/>
                      </a:lnTo>
                      <a:lnTo>
                        <a:pt x="580" y="5"/>
                      </a:lnTo>
                      <a:lnTo>
                        <a:pt x="556" y="3"/>
                      </a:lnTo>
                      <a:lnTo>
                        <a:pt x="530" y="0"/>
                      </a:lnTo>
                      <a:lnTo>
                        <a:pt x="505" y="0"/>
                      </a:lnTo>
                      <a:lnTo>
                        <a:pt x="453" y="3"/>
                      </a:lnTo>
                      <a:lnTo>
                        <a:pt x="404" y="10"/>
                      </a:lnTo>
                      <a:lnTo>
                        <a:pt x="355" y="21"/>
                      </a:lnTo>
                      <a:lnTo>
                        <a:pt x="311" y="37"/>
                      </a:lnTo>
                      <a:lnTo>
                        <a:pt x="267" y="57"/>
                      </a:lnTo>
                      <a:lnTo>
                        <a:pt x="226" y="82"/>
                      </a:lnTo>
                      <a:lnTo>
                        <a:pt x="186" y="112"/>
                      </a:lnTo>
                      <a:lnTo>
                        <a:pt x="149" y="14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109200" y="2579040"/>
                  <a:ext cx="144720" cy="132480"/>
                </a:xfrm>
                <a:custGeom>
                  <a:avLst/>
                  <a:gdLst/>
                  <a:ahLst/>
                  <a:rect l="l" t="t" r="r" b="b"/>
                  <a:pathLst>
                    <a:path w="505" h="465">
                      <a:moveTo>
                        <a:pt x="505" y="275"/>
                      </a:moveTo>
                      <a:lnTo>
                        <a:pt x="505" y="175"/>
                      </a:lnTo>
                      <a:lnTo>
                        <a:pt x="290" y="175"/>
                      </a:lnTo>
                      <a:lnTo>
                        <a:pt x="290" y="0"/>
                      </a:lnTo>
                      <a:lnTo>
                        <a:pt x="199" y="0"/>
                      </a:lnTo>
                      <a:lnTo>
                        <a:pt x="199" y="175"/>
                      </a:lnTo>
                      <a:lnTo>
                        <a:pt x="0" y="175"/>
                      </a:lnTo>
                      <a:lnTo>
                        <a:pt x="0" y="275"/>
                      </a:lnTo>
                      <a:lnTo>
                        <a:pt x="199" y="275"/>
                      </a:lnTo>
                      <a:lnTo>
                        <a:pt x="199" y="465"/>
                      </a:lnTo>
                      <a:lnTo>
                        <a:pt x="290" y="465"/>
                      </a:lnTo>
                      <a:lnTo>
                        <a:pt x="290" y="275"/>
                      </a:lnTo>
                      <a:lnTo>
                        <a:pt x="505" y="2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109200" y="2579040"/>
                  <a:ext cx="144720" cy="132480"/>
                </a:xfrm>
                <a:custGeom>
                  <a:avLst/>
                  <a:gdLst/>
                  <a:ahLst/>
                  <a:rect l="l" t="t" r="r" b="b"/>
                  <a:pathLst>
                    <a:path w="505" h="465">
                      <a:moveTo>
                        <a:pt x="505" y="175"/>
                      </a:moveTo>
                      <a:lnTo>
                        <a:pt x="290" y="175"/>
                      </a:lnTo>
                      <a:lnTo>
                        <a:pt x="290" y="0"/>
                      </a:lnTo>
                      <a:lnTo>
                        <a:pt x="199" y="0"/>
                      </a:lnTo>
                      <a:lnTo>
                        <a:pt x="199" y="175"/>
                      </a:lnTo>
                      <a:lnTo>
                        <a:pt x="0" y="175"/>
                      </a:lnTo>
                      <a:lnTo>
                        <a:pt x="0" y="275"/>
                      </a:lnTo>
                      <a:lnTo>
                        <a:pt x="199" y="275"/>
                      </a:lnTo>
                      <a:lnTo>
                        <a:pt x="199" y="465"/>
                      </a:lnTo>
                      <a:lnTo>
                        <a:pt x="290" y="465"/>
                      </a:lnTo>
                      <a:lnTo>
                        <a:pt x="290" y="275"/>
                      </a:lnTo>
                      <a:lnTo>
                        <a:pt x="505" y="275"/>
                      </a:lnTo>
                      <a:lnTo>
                        <a:pt x="505" y="17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788160" y="2955960"/>
                  <a:ext cx="169200" cy="223200"/>
                </a:xfrm>
                <a:custGeom>
                  <a:avLst/>
                  <a:gdLst/>
                  <a:ahLst/>
                  <a:rect l="l" t="t" r="r" b="b"/>
                  <a:pathLst>
                    <a:path w="593" h="783">
                      <a:moveTo>
                        <a:pt x="145" y="0"/>
                      </a:moveTo>
                      <a:lnTo>
                        <a:pt x="120" y="0"/>
                      </a:lnTo>
                      <a:lnTo>
                        <a:pt x="91" y="33"/>
                      </a:lnTo>
                      <a:lnTo>
                        <a:pt x="67" y="68"/>
                      </a:lnTo>
                      <a:lnTo>
                        <a:pt x="45" y="105"/>
                      </a:lnTo>
                      <a:lnTo>
                        <a:pt x="29" y="144"/>
                      </a:lnTo>
                      <a:lnTo>
                        <a:pt x="16" y="183"/>
                      </a:lnTo>
                      <a:lnTo>
                        <a:pt x="7" y="225"/>
                      </a:lnTo>
                      <a:lnTo>
                        <a:pt x="1" y="268"/>
                      </a:lnTo>
                      <a:lnTo>
                        <a:pt x="0" y="313"/>
                      </a:lnTo>
                      <a:lnTo>
                        <a:pt x="1" y="360"/>
                      </a:lnTo>
                      <a:lnTo>
                        <a:pt x="3" y="382"/>
                      </a:lnTo>
                      <a:lnTo>
                        <a:pt x="8" y="406"/>
                      </a:lnTo>
                      <a:lnTo>
                        <a:pt x="18" y="450"/>
                      </a:lnTo>
                      <a:lnTo>
                        <a:pt x="34" y="493"/>
                      </a:lnTo>
                      <a:lnTo>
                        <a:pt x="42" y="513"/>
                      </a:lnTo>
                      <a:lnTo>
                        <a:pt x="52" y="533"/>
                      </a:lnTo>
                      <a:lnTo>
                        <a:pt x="76" y="572"/>
                      </a:lnTo>
                      <a:lnTo>
                        <a:pt x="88" y="590"/>
                      </a:lnTo>
                      <a:lnTo>
                        <a:pt x="103" y="609"/>
                      </a:lnTo>
                      <a:lnTo>
                        <a:pt x="137" y="645"/>
                      </a:lnTo>
                      <a:lnTo>
                        <a:pt x="171" y="677"/>
                      </a:lnTo>
                      <a:lnTo>
                        <a:pt x="208" y="704"/>
                      </a:lnTo>
                      <a:lnTo>
                        <a:pt x="246" y="727"/>
                      </a:lnTo>
                      <a:lnTo>
                        <a:pt x="288" y="747"/>
                      </a:lnTo>
                      <a:lnTo>
                        <a:pt x="330" y="762"/>
                      </a:lnTo>
                      <a:lnTo>
                        <a:pt x="374" y="773"/>
                      </a:lnTo>
                      <a:lnTo>
                        <a:pt x="419" y="780"/>
                      </a:lnTo>
                      <a:lnTo>
                        <a:pt x="468" y="783"/>
                      </a:lnTo>
                      <a:lnTo>
                        <a:pt x="470" y="781"/>
                      </a:lnTo>
                      <a:lnTo>
                        <a:pt x="474" y="781"/>
                      </a:lnTo>
                      <a:lnTo>
                        <a:pt x="481" y="781"/>
                      </a:lnTo>
                      <a:lnTo>
                        <a:pt x="494" y="781"/>
                      </a:lnTo>
                      <a:lnTo>
                        <a:pt x="521" y="779"/>
                      </a:lnTo>
                      <a:lnTo>
                        <a:pt x="534" y="777"/>
                      </a:lnTo>
                      <a:lnTo>
                        <a:pt x="547" y="776"/>
                      </a:lnTo>
                      <a:lnTo>
                        <a:pt x="574" y="771"/>
                      </a:lnTo>
                      <a:lnTo>
                        <a:pt x="583" y="754"/>
                      </a:lnTo>
                      <a:lnTo>
                        <a:pt x="593" y="738"/>
                      </a:lnTo>
                      <a:lnTo>
                        <a:pt x="562" y="745"/>
                      </a:lnTo>
                      <a:lnTo>
                        <a:pt x="546" y="747"/>
                      </a:lnTo>
                      <a:lnTo>
                        <a:pt x="542" y="747"/>
                      </a:lnTo>
                      <a:lnTo>
                        <a:pt x="540" y="747"/>
                      </a:lnTo>
                      <a:lnTo>
                        <a:pt x="538" y="747"/>
                      </a:lnTo>
                      <a:lnTo>
                        <a:pt x="538" y="749"/>
                      </a:lnTo>
                      <a:lnTo>
                        <a:pt x="532" y="751"/>
                      </a:lnTo>
                      <a:lnTo>
                        <a:pt x="500" y="754"/>
                      </a:lnTo>
                      <a:lnTo>
                        <a:pt x="468" y="755"/>
                      </a:lnTo>
                      <a:lnTo>
                        <a:pt x="422" y="753"/>
                      </a:lnTo>
                      <a:lnTo>
                        <a:pt x="379" y="746"/>
                      </a:lnTo>
                      <a:lnTo>
                        <a:pt x="337" y="736"/>
                      </a:lnTo>
                      <a:lnTo>
                        <a:pt x="298" y="722"/>
                      </a:lnTo>
                      <a:lnTo>
                        <a:pt x="259" y="703"/>
                      </a:lnTo>
                      <a:lnTo>
                        <a:pt x="223" y="681"/>
                      </a:lnTo>
                      <a:lnTo>
                        <a:pt x="188" y="654"/>
                      </a:lnTo>
                      <a:lnTo>
                        <a:pt x="156" y="625"/>
                      </a:lnTo>
                      <a:lnTo>
                        <a:pt x="125" y="591"/>
                      </a:lnTo>
                      <a:lnTo>
                        <a:pt x="98" y="556"/>
                      </a:lnTo>
                      <a:lnTo>
                        <a:pt x="76" y="520"/>
                      </a:lnTo>
                      <a:lnTo>
                        <a:pt x="59" y="482"/>
                      </a:lnTo>
                      <a:lnTo>
                        <a:pt x="44" y="442"/>
                      </a:lnTo>
                      <a:lnTo>
                        <a:pt x="38" y="421"/>
                      </a:lnTo>
                      <a:lnTo>
                        <a:pt x="35" y="400"/>
                      </a:lnTo>
                      <a:lnTo>
                        <a:pt x="28" y="357"/>
                      </a:lnTo>
                      <a:lnTo>
                        <a:pt x="27" y="313"/>
                      </a:lnTo>
                      <a:lnTo>
                        <a:pt x="28" y="267"/>
                      </a:lnTo>
                      <a:lnTo>
                        <a:pt x="35" y="224"/>
                      </a:lnTo>
                      <a:lnTo>
                        <a:pt x="44" y="182"/>
                      </a:lnTo>
                      <a:lnTo>
                        <a:pt x="59" y="143"/>
                      </a:lnTo>
                      <a:lnTo>
                        <a:pt x="76" y="105"/>
                      </a:lnTo>
                      <a:lnTo>
                        <a:pt x="98" y="68"/>
                      </a:lnTo>
                      <a:lnTo>
                        <a:pt x="125" y="33"/>
                      </a:lnTo>
                      <a:lnTo>
                        <a:pt x="156" y="1"/>
                      </a:lnTo>
                      <a:lnTo>
                        <a:pt x="159" y="0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324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796080" y="2955960"/>
                  <a:ext cx="166320" cy="215640"/>
                </a:xfrm>
                <a:custGeom>
                  <a:avLst/>
                  <a:gdLst/>
                  <a:ahLst/>
                  <a:rect l="l" t="t" r="r" b="b"/>
                  <a:pathLst>
                    <a:path w="583" h="755">
                      <a:moveTo>
                        <a:pt x="132" y="0"/>
                      </a:moveTo>
                      <a:lnTo>
                        <a:pt x="129" y="1"/>
                      </a:lnTo>
                      <a:lnTo>
                        <a:pt x="98" y="33"/>
                      </a:lnTo>
                      <a:lnTo>
                        <a:pt x="71" y="68"/>
                      </a:lnTo>
                      <a:lnTo>
                        <a:pt x="49" y="105"/>
                      </a:lnTo>
                      <a:lnTo>
                        <a:pt x="32" y="143"/>
                      </a:lnTo>
                      <a:lnTo>
                        <a:pt x="17" y="182"/>
                      </a:lnTo>
                      <a:lnTo>
                        <a:pt x="8" y="224"/>
                      </a:lnTo>
                      <a:lnTo>
                        <a:pt x="1" y="267"/>
                      </a:lnTo>
                      <a:lnTo>
                        <a:pt x="0" y="313"/>
                      </a:lnTo>
                      <a:lnTo>
                        <a:pt x="1" y="357"/>
                      </a:lnTo>
                      <a:lnTo>
                        <a:pt x="8" y="400"/>
                      </a:lnTo>
                      <a:lnTo>
                        <a:pt x="11" y="421"/>
                      </a:lnTo>
                      <a:lnTo>
                        <a:pt x="17" y="442"/>
                      </a:lnTo>
                      <a:lnTo>
                        <a:pt x="32" y="482"/>
                      </a:lnTo>
                      <a:lnTo>
                        <a:pt x="49" y="520"/>
                      </a:lnTo>
                      <a:lnTo>
                        <a:pt x="71" y="556"/>
                      </a:lnTo>
                      <a:lnTo>
                        <a:pt x="98" y="591"/>
                      </a:lnTo>
                      <a:lnTo>
                        <a:pt x="129" y="625"/>
                      </a:lnTo>
                      <a:lnTo>
                        <a:pt x="161" y="654"/>
                      </a:lnTo>
                      <a:lnTo>
                        <a:pt x="196" y="681"/>
                      </a:lnTo>
                      <a:lnTo>
                        <a:pt x="232" y="703"/>
                      </a:lnTo>
                      <a:lnTo>
                        <a:pt x="271" y="722"/>
                      </a:lnTo>
                      <a:lnTo>
                        <a:pt x="310" y="736"/>
                      </a:lnTo>
                      <a:lnTo>
                        <a:pt x="352" y="746"/>
                      </a:lnTo>
                      <a:lnTo>
                        <a:pt x="395" y="753"/>
                      </a:lnTo>
                      <a:lnTo>
                        <a:pt x="441" y="755"/>
                      </a:lnTo>
                      <a:lnTo>
                        <a:pt x="473" y="754"/>
                      </a:lnTo>
                      <a:lnTo>
                        <a:pt x="505" y="751"/>
                      </a:lnTo>
                      <a:lnTo>
                        <a:pt x="511" y="749"/>
                      </a:lnTo>
                      <a:lnTo>
                        <a:pt x="511" y="747"/>
                      </a:lnTo>
                      <a:lnTo>
                        <a:pt x="513" y="747"/>
                      </a:lnTo>
                      <a:lnTo>
                        <a:pt x="515" y="747"/>
                      </a:lnTo>
                      <a:lnTo>
                        <a:pt x="519" y="747"/>
                      </a:lnTo>
                      <a:lnTo>
                        <a:pt x="535" y="745"/>
                      </a:lnTo>
                      <a:lnTo>
                        <a:pt x="566" y="738"/>
                      </a:lnTo>
                      <a:lnTo>
                        <a:pt x="583" y="704"/>
                      </a:lnTo>
                      <a:lnTo>
                        <a:pt x="549" y="713"/>
                      </a:lnTo>
                      <a:lnTo>
                        <a:pt x="531" y="717"/>
                      </a:lnTo>
                      <a:lnTo>
                        <a:pt x="514" y="721"/>
                      </a:lnTo>
                      <a:lnTo>
                        <a:pt x="477" y="725"/>
                      </a:lnTo>
                      <a:lnTo>
                        <a:pt x="441" y="727"/>
                      </a:lnTo>
                      <a:lnTo>
                        <a:pt x="398" y="725"/>
                      </a:lnTo>
                      <a:lnTo>
                        <a:pt x="357" y="719"/>
                      </a:lnTo>
                      <a:lnTo>
                        <a:pt x="318" y="709"/>
                      </a:lnTo>
                      <a:lnTo>
                        <a:pt x="281" y="696"/>
                      </a:lnTo>
                      <a:lnTo>
                        <a:pt x="245" y="678"/>
                      </a:lnTo>
                      <a:lnTo>
                        <a:pt x="211" y="658"/>
                      </a:lnTo>
                      <a:lnTo>
                        <a:pt x="178" y="633"/>
                      </a:lnTo>
                      <a:lnTo>
                        <a:pt x="149" y="606"/>
                      </a:lnTo>
                      <a:lnTo>
                        <a:pt x="119" y="574"/>
                      </a:lnTo>
                      <a:lnTo>
                        <a:pt x="95" y="541"/>
                      </a:lnTo>
                      <a:lnTo>
                        <a:pt x="74" y="506"/>
                      </a:lnTo>
                      <a:lnTo>
                        <a:pt x="65" y="488"/>
                      </a:lnTo>
                      <a:lnTo>
                        <a:pt x="58" y="471"/>
                      </a:lnTo>
                      <a:lnTo>
                        <a:pt x="50" y="451"/>
                      </a:lnTo>
                      <a:lnTo>
                        <a:pt x="44" y="433"/>
                      </a:lnTo>
                      <a:lnTo>
                        <a:pt x="35" y="395"/>
                      </a:lnTo>
                      <a:lnTo>
                        <a:pt x="30" y="354"/>
                      </a:lnTo>
                      <a:lnTo>
                        <a:pt x="28" y="313"/>
                      </a:lnTo>
                      <a:lnTo>
                        <a:pt x="30" y="270"/>
                      </a:lnTo>
                      <a:lnTo>
                        <a:pt x="35" y="229"/>
                      </a:lnTo>
                      <a:lnTo>
                        <a:pt x="44" y="190"/>
                      </a:lnTo>
                      <a:lnTo>
                        <a:pt x="58" y="153"/>
                      </a:lnTo>
                      <a:lnTo>
                        <a:pt x="74" y="117"/>
                      </a:lnTo>
                      <a:lnTo>
                        <a:pt x="95" y="83"/>
                      </a:lnTo>
                      <a:lnTo>
                        <a:pt x="119" y="50"/>
                      </a:lnTo>
                      <a:lnTo>
                        <a:pt x="149" y="21"/>
                      </a:lnTo>
                      <a:lnTo>
                        <a:pt x="169" y="3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365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756840" y="2961720"/>
                  <a:ext cx="173520" cy="248760"/>
                </a:xfrm>
                <a:custGeom>
                  <a:avLst/>
                  <a:gdLst/>
                  <a:ahLst/>
                  <a:rect l="l" t="t" r="r" b="b"/>
                  <a:pathLst>
                    <a:path w="608" h="873">
                      <a:moveTo>
                        <a:pt x="111" y="0"/>
                      </a:moveTo>
                      <a:lnTo>
                        <a:pt x="89" y="5"/>
                      </a:lnTo>
                      <a:lnTo>
                        <a:pt x="70" y="13"/>
                      </a:lnTo>
                      <a:lnTo>
                        <a:pt x="53" y="44"/>
                      </a:lnTo>
                      <a:lnTo>
                        <a:pt x="38" y="77"/>
                      </a:lnTo>
                      <a:lnTo>
                        <a:pt x="17" y="146"/>
                      </a:lnTo>
                      <a:lnTo>
                        <a:pt x="9" y="181"/>
                      </a:lnTo>
                      <a:lnTo>
                        <a:pt x="3" y="217"/>
                      </a:lnTo>
                      <a:lnTo>
                        <a:pt x="0" y="293"/>
                      </a:lnTo>
                      <a:lnTo>
                        <a:pt x="0" y="322"/>
                      </a:lnTo>
                      <a:lnTo>
                        <a:pt x="2" y="351"/>
                      </a:lnTo>
                      <a:lnTo>
                        <a:pt x="4" y="379"/>
                      </a:lnTo>
                      <a:lnTo>
                        <a:pt x="10" y="409"/>
                      </a:lnTo>
                      <a:lnTo>
                        <a:pt x="15" y="435"/>
                      </a:lnTo>
                      <a:lnTo>
                        <a:pt x="23" y="462"/>
                      </a:lnTo>
                      <a:lnTo>
                        <a:pt x="30" y="488"/>
                      </a:lnTo>
                      <a:lnTo>
                        <a:pt x="42" y="515"/>
                      </a:lnTo>
                      <a:lnTo>
                        <a:pt x="52" y="539"/>
                      </a:lnTo>
                      <a:lnTo>
                        <a:pt x="64" y="564"/>
                      </a:lnTo>
                      <a:lnTo>
                        <a:pt x="78" y="588"/>
                      </a:lnTo>
                      <a:lnTo>
                        <a:pt x="94" y="613"/>
                      </a:lnTo>
                      <a:lnTo>
                        <a:pt x="128" y="658"/>
                      </a:lnTo>
                      <a:lnTo>
                        <a:pt x="147" y="680"/>
                      </a:lnTo>
                      <a:lnTo>
                        <a:pt x="169" y="702"/>
                      </a:lnTo>
                      <a:lnTo>
                        <a:pt x="211" y="741"/>
                      </a:lnTo>
                      <a:lnTo>
                        <a:pt x="257" y="775"/>
                      </a:lnTo>
                      <a:lnTo>
                        <a:pt x="280" y="790"/>
                      </a:lnTo>
                      <a:lnTo>
                        <a:pt x="304" y="803"/>
                      </a:lnTo>
                      <a:lnTo>
                        <a:pt x="355" y="828"/>
                      </a:lnTo>
                      <a:lnTo>
                        <a:pt x="406" y="846"/>
                      </a:lnTo>
                      <a:lnTo>
                        <a:pt x="461" y="860"/>
                      </a:lnTo>
                      <a:lnTo>
                        <a:pt x="489" y="865"/>
                      </a:lnTo>
                      <a:lnTo>
                        <a:pt x="517" y="868"/>
                      </a:lnTo>
                      <a:lnTo>
                        <a:pt x="577" y="873"/>
                      </a:lnTo>
                      <a:lnTo>
                        <a:pt x="608" y="844"/>
                      </a:lnTo>
                      <a:lnTo>
                        <a:pt x="578" y="845"/>
                      </a:lnTo>
                      <a:lnTo>
                        <a:pt x="549" y="844"/>
                      </a:lnTo>
                      <a:lnTo>
                        <a:pt x="520" y="842"/>
                      </a:lnTo>
                      <a:lnTo>
                        <a:pt x="467" y="835"/>
                      </a:lnTo>
                      <a:lnTo>
                        <a:pt x="415" y="822"/>
                      </a:lnTo>
                      <a:lnTo>
                        <a:pt x="390" y="814"/>
                      </a:lnTo>
                      <a:lnTo>
                        <a:pt x="366" y="805"/>
                      </a:lnTo>
                      <a:lnTo>
                        <a:pt x="341" y="793"/>
                      </a:lnTo>
                      <a:lnTo>
                        <a:pt x="317" y="781"/>
                      </a:lnTo>
                      <a:lnTo>
                        <a:pt x="272" y="753"/>
                      </a:lnTo>
                      <a:lnTo>
                        <a:pt x="228" y="719"/>
                      </a:lnTo>
                      <a:lnTo>
                        <a:pt x="188" y="683"/>
                      </a:lnTo>
                      <a:lnTo>
                        <a:pt x="168" y="662"/>
                      </a:lnTo>
                      <a:lnTo>
                        <a:pt x="150" y="641"/>
                      </a:lnTo>
                      <a:lnTo>
                        <a:pt x="117" y="598"/>
                      </a:lnTo>
                      <a:lnTo>
                        <a:pt x="102" y="574"/>
                      </a:lnTo>
                      <a:lnTo>
                        <a:pt x="89" y="552"/>
                      </a:lnTo>
                      <a:lnTo>
                        <a:pt x="77" y="528"/>
                      </a:lnTo>
                      <a:lnTo>
                        <a:pt x="67" y="505"/>
                      </a:lnTo>
                      <a:lnTo>
                        <a:pt x="57" y="479"/>
                      </a:lnTo>
                      <a:lnTo>
                        <a:pt x="49" y="454"/>
                      </a:lnTo>
                      <a:lnTo>
                        <a:pt x="41" y="428"/>
                      </a:lnTo>
                      <a:lnTo>
                        <a:pt x="36" y="403"/>
                      </a:lnTo>
                      <a:lnTo>
                        <a:pt x="29" y="349"/>
                      </a:lnTo>
                      <a:lnTo>
                        <a:pt x="27" y="320"/>
                      </a:lnTo>
                      <a:lnTo>
                        <a:pt x="27" y="293"/>
                      </a:lnTo>
                      <a:lnTo>
                        <a:pt x="28" y="251"/>
                      </a:lnTo>
                      <a:lnTo>
                        <a:pt x="32" y="212"/>
                      </a:lnTo>
                      <a:lnTo>
                        <a:pt x="37" y="173"/>
                      </a:lnTo>
                      <a:lnTo>
                        <a:pt x="47" y="137"/>
                      </a:lnTo>
                      <a:lnTo>
                        <a:pt x="59" y="100"/>
                      </a:lnTo>
                      <a:lnTo>
                        <a:pt x="74" y="65"/>
                      </a:lnTo>
                      <a:lnTo>
                        <a:pt x="91" y="31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263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748560" y="2965680"/>
                  <a:ext cx="172800" cy="252720"/>
                </a:xfrm>
                <a:custGeom>
                  <a:avLst/>
                  <a:gdLst/>
                  <a:ahLst/>
                  <a:rect l="l" t="t" r="r" b="b"/>
                  <a:pathLst>
                    <a:path w="606" h="887">
                      <a:moveTo>
                        <a:pt x="99" y="0"/>
                      </a:moveTo>
                      <a:lnTo>
                        <a:pt x="78" y="8"/>
                      </a:lnTo>
                      <a:lnTo>
                        <a:pt x="58" y="18"/>
                      </a:lnTo>
                      <a:lnTo>
                        <a:pt x="32" y="78"/>
                      </a:lnTo>
                      <a:lnTo>
                        <a:pt x="22" y="110"/>
                      </a:lnTo>
                      <a:lnTo>
                        <a:pt x="14" y="143"/>
                      </a:lnTo>
                      <a:lnTo>
                        <a:pt x="4" y="210"/>
                      </a:lnTo>
                      <a:lnTo>
                        <a:pt x="0" y="244"/>
                      </a:lnTo>
                      <a:lnTo>
                        <a:pt x="0" y="280"/>
                      </a:lnTo>
                      <a:lnTo>
                        <a:pt x="0" y="310"/>
                      </a:lnTo>
                      <a:lnTo>
                        <a:pt x="3" y="340"/>
                      </a:lnTo>
                      <a:lnTo>
                        <a:pt x="5" y="370"/>
                      </a:lnTo>
                      <a:lnTo>
                        <a:pt x="11" y="400"/>
                      </a:lnTo>
                      <a:lnTo>
                        <a:pt x="16" y="429"/>
                      </a:lnTo>
                      <a:lnTo>
                        <a:pt x="24" y="457"/>
                      </a:lnTo>
                      <a:lnTo>
                        <a:pt x="33" y="484"/>
                      </a:lnTo>
                      <a:lnTo>
                        <a:pt x="45" y="513"/>
                      </a:lnTo>
                      <a:lnTo>
                        <a:pt x="55" y="538"/>
                      </a:lnTo>
                      <a:lnTo>
                        <a:pt x="69" y="564"/>
                      </a:lnTo>
                      <a:lnTo>
                        <a:pt x="82" y="589"/>
                      </a:lnTo>
                      <a:lnTo>
                        <a:pt x="99" y="615"/>
                      </a:lnTo>
                      <a:lnTo>
                        <a:pt x="116" y="638"/>
                      </a:lnTo>
                      <a:lnTo>
                        <a:pt x="135" y="663"/>
                      </a:lnTo>
                      <a:lnTo>
                        <a:pt x="156" y="686"/>
                      </a:lnTo>
                      <a:lnTo>
                        <a:pt x="179" y="710"/>
                      </a:lnTo>
                      <a:lnTo>
                        <a:pt x="199" y="729"/>
                      </a:lnTo>
                      <a:lnTo>
                        <a:pt x="219" y="747"/>
                      </a:lnTo>
                      <a:lnTo>
                        <a:pt x="264" y="781"/>
                      </a:lnTo>
                      <a:lnTo>
                        <a:pt x="310" y="811"/>
                      </a:lnTo>
                      <a:lnTo>
                        <a:pt x="359" y="836"/>
                      </a:lnTo>
                      <a:lnTo>
                        <a:pt x="408" y="854"/>
                      </a:lnTo>
                      <a:lnTo>
                        <a:pt x="461" y="870"/>
                      </a:lnTo>
                      <a:lnTo>
                        <a:pt x="487" y="875"/>
                      </a:lnTo>
                      <a:lnTo>
                        <a:pt x="514" y="880"/>
                      </a:lnTo>
                      <a:lnTo>
                        <a:pt x="572" y="887"/>
                      </a:lnTo>
                      <a:lnTo>
                        <a:pt x="606" y="860"/>
                      </a:lnTo>
                      <a:lnTo>
                        <a:pt x="546" y="855"/>
                      </a:lnTo>
                      <a:lnTo>
                        <a:pt x="518" y="852"/>
                      </a:lnTo>
                      <a:lnTo>
                        <a:pt x="490" y="847"/>
                      </a:lnTo>
                      <a:lnTo>
                        <a:pt x="435" y="833"/>
                      </a:lnTo>
                      <a:lnTo>
                        <a:pt x="384" y="815"/>
                      </a:lnTo>
                      <a:lnTo>
                        <a:pt x="333" y="790"/>
                      </a:lnTo>
                      <a:lnTo>
                        <a:pt x="309" y="777"/>
                      </a:lnTo>
                      <a:lnTo>
                        <a:pt x="286" y="762"/>
                      </a:lnTo>
                      <a:lnTo>
                        <a:pt x="240" y="728"/>
                      </a:lnTo>
                      <a:lnTo>
                        <a:pt x="198" y="689"/>
                      </a:lnTo>
                      <a:lnTo>
                        <a:pt x="176" y="667"/>
                      </a:lnTo>
                      <a:lnTo>
                        <a:pt x="157" y="645"/>
                      </a:lnTo>
                      <a:lnTo>
                        <a:pt x="123" y="600"/>
                      </a:lnTo>
                      <a:lnTo>
                        <a:pt x="107" y="575"/>
                      </a:lnTo>
                      <a:lnTo>
                        <a:pt x="93" y="551"/>
                      </a:lnTo>
                      <a:lnTo>
                        <a:pt x="81" y="526"/>
                      </a:lnTo>
                      <a:lnTo>
                        <a:pt x="71" y="502"/>
                      </a:lnTo>
                      <a:lnTo>
                        <a:pt x="59" y="475"/>
                      </a:lnTo>
                      <a:lnTo>
                        <a:pt x="52" y="449"/>
                      </a:lnTo>
                      <a:lnTo>
                        <a:pt x="44" y="422"/>
                      </a:lnTo>
                      <a:lnTo>
                        <a:pt x="39" y="396"/>
                      </a:lnTo>
                      <a:lnTo>
                        <a:pt x="33" y="366"/>
                      </a:lnTo>
                      <a:lnTo>
                        <a:pt x="31" y="338"/>
                      </a:lnTo>
                      <a:lnTo>
                        <a:pt x="29" y="309"/>
                      </a:lnTo>
                      <a:lnTo>
                        <a:pt x="29" y="280"/>
                      </a:lnTo>
                      <a:lnTo>
                        <a:pt x="32" y="204"/>
                      </a:lnTo>
                      <a:lnTo>
                        <a:pt x="38" y="168"/>
                      </a:lnTo>
                      <a:lnTo>
                        <a:pt x="46" y="133"/>
                      </a:lnTo>
                      <a:lnTo>
                        <a:pt x="67" y="64"/>
                      </a:lnTo>
                      <a:lnTo>
                        <a:pt x="82" y="31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223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740640" y="2970720"/>
                  <a:ext cx="171000" cy="254520"/>
                </a:xfrm>
                <a:custGeom>
                  <a:avLst/>
                  <a:gdLst/>
                  <a:ahLst/>
                  <a:rect l="l" t="t" r="r" b="b"/>
                  <a:pathLst>
                    <a:path w="599" h="894">
                      <a:moveTo>
                        <a:pt x="85" y="0"/>
                      </a:moveTo>
                      <a:lnTo>
                        <a:pt x="45" y="24"/>
                      </a:lnTo>
                      <a:lnTo>
                        <a:pt x="24" y="80"/>
                      </a:lnTo>
                      <a:lnTo>
                        <a:pt x="10" y="137"/>
                      </a:lnTo>
                      <a:lnTo>
                        <a:pt x="3" y="198"/>
                      </a:lnTo>
                      <a:lnTo>
                        <a:pt x="0" y="262"/>
                      </a:lnTo>
                      <a:lnTo>
                        <a:pt x="0" y="294"/>
                      </a:lnTo>
                      <a:lnTo>
                        <a:pt x="3" y="326"/>
                      </a:lnTo>
                      <a:lnTo>
                        <a:pt x="6" y="356"/>
                      </a:lnTo>
                      <a:lnTo>
                        <a:pt x="12" y="388"/>
                      </a:lnTo>
                      <a:lnTo>
                        <a:pt x="17" y="417"/>
                      </a:lnTo>
                      <a:lnTo>
                        <a:pt x="25" y="448"/>
                      </a:lnTo>
                      <a:lnTo>
                        <a:pt x="34" y="476"/>
                      </a:lnTo>
                      <a:lnTo>
                        <a:pt x="47" y="506"/>
                      </a:lnTo>
                      <a:lnTo>
                        <a:pt x="58" y="532"/>
                      </a:lnTo>
                      <a:lnTo>
                        <a:pt x="72" y="559"/>
                      </a:lnTo>
                      <a:lnTo>
                        <a:pt x="86" y="585"/>
                      </a:lnTo>
                      <a:lnTo>
                        <a:pt x="105" y="613"/>
                      </a:lnTo>
                      <a:lnTo>
                        <a:pt x="122" y="637"/>
                      </a:lnTo>
                      <a:lnTo>
                        <a:pt x="142" y="662"/>
                      </a:lnTo>
                      <a:lnTo>
                        <a:pt x="162" y="686"/>
                      </a:lnTo>
                      <a:lnTo>
                        <a:pt x="186" y="711"/>
                      </a:lnTo>
                      <a:lnTo>
                        <a:pt x="226" y="747"/>
                      </a:lnTo>
                      <a:lnTo>
                        <a:pt x="269" y="781"/>
                      </a:lnTo>
                      <a:lnTo>
                        <a:pt x="312" y="811"/>
                      </a:lnTo>
                      <a:lnTo>
                        <a:pt x="359" y="836"/>
                      </a:lnTo>
                      <a:lnTo>
                        <a:pt x="405" y="856"/>
                      </a:lnTo>
                      <a:lnTo>
                        <a:pt x="455" y="872"/>
                      </a:lnTo>
                      <a:lnTo>
                        <a:pt x="506" y="885"/>
                      </a:lnTo>
                      <a:lnTo>
                        <a:pt x="559" y="894"/>
                      </a:lnTo>
                      <a:lnTo>
                        <a:pt x="599" y="869"/>
                      </a:lnTo>
                      <a:lnTo>
                        <a:pt x="541" y="862"/>
                      </a:lnTo>
                      <a:lnTo>
                        <a:pt x="514" y="857"/>
                      </a:lnTo>
                      <a:lnTo>
                        <a:pt x="488" y="852"/>
                      </a:lnTo>
                      <a:lnTo>
                        <a:pt x="435" y="836"/>
                      </a:lnTo>
                      <a:lnTo>
                        <a:pt x="386" y="818"/>
                      </a:lnTo>
                      <a:lnTo>
                        <a:pt x="337" y="793"/>
                      </a:lnTo>
                      <a:lnTo>
                        <a:pt x="291" y="763"/>
                      </a:lnTo>
                      <a:lnTo>
                        <a:pt x="246" y="729"/>
                      </a:lnTo>
                      <a:lnTo>
                        <a:pt x="226" y="711"/>
                      </a:lnTo>
                      <a:lnTo>
                        <a:pt x="206" y="692"/>
                      </a:lnTo>
                      <a:lnTo>
                        <a:pt x="183" y="668"/>
                      </a:lnTo>
                      <a:lnTo>
                        <a:pt x="162" y="645"/>
                      </a:lnTo>
                      <a:lnTo>
                        <a:pt x="143" y="620"/>
                      </a:lnTo>
                      <a:lnTo>
                        <a:pt x="126" y="597"/>
                      </a:lnTo>
                      <a:lnTo>
                        <a:pt x="109" y="571"/>
                      </a:lnTo>
                      <a:lnTo>
                        <a:pt x="96" y="546"/>
                      </a:lnTo>
                      <a:lnTo>
                        <a:pt x="82" y="520"/>
                      </a:lnTo>
                      <a:lnTo>
                        <a:pt x="72" y="495"/>
                      </a:lnTo>
                      <a:lnTo>
                        <a:pt x="60" y="466"/>
                      </a:lnTo>
                      <a:lnTo>
                        <a:pt x="51" y="439"/>
                      </a:lnTo>
                      <a:lnTo>
                        <a:pt x="43" y="411"/>
                      </a:lnTo>
                      <a:lnTo>
                        <a:pt x="38" y="382"/>
                      </a:lnTo>
                      <a:lnTo>
                        <a:pt x="32" y="352"/>
                      </a:lnTo>
                      <a:lnTo>
                        <a:pt x="30" y="322"/>
                      </a:lnTo>
                      <a:lnTo>
                        <a:pt x="27" y="292"/>
                      </a:lnTo>
                      <a:lnTo>
                        <a:pt x="27" y="262"/>
                      </a:lnTo>
                      <a:lnTo>
                        <a:pt x="27" y="226"/>
                      </a:lnTo>
                      <a:lnTo>
                        <a:pt x="31" y="192"/>
                      </a:lnTo>
                      <a:lnTo>
                        <a:pt x="41" y="125"/>
                      </a:lnTo>
                      <a:lnTo>
                        <a:pt x="49" y="92"/>
                      </a:lnTo>
                      <a:lnTo>
                        <a:pt x="59" y="6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1f2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717240" y="2994840"/>
                  <a:ext cx="157320" cy="245880"/>
                </a:xfrm>
                <a:custGeom>
                  <a:avLst/>
                  <a:gdLst/>
                  <a:ahLst/>
                  <a:rect l="l" t="t" r="r" b="b"/>
                  <a:pathLst>
                    <a:path w="551" h="862">
                      <a:moveTo>
                        <a:pt x="37" y="12"/>
                      </a:moveTo>
                      <a:lnTo>
                        <a:pt x="12" y="38"/>
                      </a:lnTo>
                      <a:lnTo>
                        <a:pt x="5" y="71"/>
                      </a:lnTo>
                      <a:lnTo>
                        <a:pt x="2" y="106"/>
                      </a:lnTo>
                      <a:lnTo>
                        <a:pt x="0" y="177"/>
                      </a:lnTo>
                      <a:lnTo>
                        <a:pt x="0" y="212"/>
                      </a:lnTo>
                      <a:lnTo>
                        <a:pt x="2" y="249"/>
                      </a:lnTo>
                      <a:lnTo>
                        <a:pt x="5" y="284"/>
                      </a:lnTo>
                      <a:lnTo>
                        <a:pt x="12" y="319"/>
                      </a:lnTo>
                      <a:lnTo>
                        <a:pt x="19" y="352"/>
                      </a:lnTo>
                      <a:lnTo>
                        <a:pt x="28" y="386"/>
                      </a:lnTo>
                      <a:lnTo>
                        <a:pt x="38" y="419"/>
                      </a:lnTo>
                      <a:lnTo>
                        <a:pt x="52" y="452"/>
                      </a:lnTo>
                      <a:lnTo>
                        <a:pt x="64" y="482"/>
                      </a:lnTo>
                      <a:lnTo>
                        <a:pt x="80" y="513"/>
                      </a:lnTo>
                      <a:lnTo>
                        <a:pt x="97" y="542"/>
                      </a:lnTo>
                      <a:lnTo>
                        <a:pt x="116" y="573"/>
                      </a:lnTo>
                      <a:lnTo>
                        <a:pt x="136" y="600"/>
                      </a:lnTo>
                      <a:lnTo>
                        <a:pt x="158" y="628"/>
                      </a:lnTo>
                      <a:lnTo>
                        <a:pt x="182" y="656"/>
                      </a:lnTo>
                      <a:lnTo>
                        <a:pt x="209" y="684"/>
                      </a:lnTo>
                      <a:lnTo>
                        <a:pt x="241" y="713"/>
                      </a:lnTo>
                      <a:lnTo>
                        <a:pt x="274" y="742"/>
                      </a:lnTo>
                      <a:lnTo>
                        <a:pt x="308" y="768"/>
                      </a:lnTo>
                      <a:lnTo>
                        <a:pt x="344" y="792"/>
                      </a:lnTo>
                      <a:lnTo>
                        <a:pt x="380" y="812"/>
                      </a:lnTo>
                      <a:lnTo>
                        <a:pt x="418" y="831"/>
                      </a:lnTo>
                      <a:lnTo>
                        <a:pt x="456" y="847"/>
                      </a:lnTo>
                      <a:lnTo>
                        <a:pt x="497" y="862"/>
                      </a:lnTo>
                      <a:lnTo>
                        <a:pt x="523" y="855"/>
                      </a:lnTo>
                      <a:lnTo>
                        <a:pt x="551" y="848"/>
                      </a:lnTo>
                      <a:lnTo>
                        <a:pt x="505" y="835"/>
                      </a:lnTo>
                      <a:lnTo>
                        <a:pt x="462" y="820"/>
                      </a:lnTo>
                      <a:lnTo>
                        <a:pt x="419" y="801"/>
                      </a:lnTo>
                      <a:lnTo>
                        <a:pt x="379" y="780"/>
                      </a:lnTo>
                      <a:lnTo>
                        <a:pt x="339" y="755"/>
                      </a:lnTo>
                      <a:lnTo>
                        <a:pt x="301" y="728"/>
                      </a:lnTo>
                      <a:lnTo>
                        <a:pt x="264" y="698"/>
                      </a:lnTo>
                      <a:lnTo>
                        <a:pt x="229" y="665"/>
                      </a:lnTo>
                      <a:lnTo>
                        <a:pt x="202" y="637"/>
                      </a:lnTo>
                      <a:lnTo>
                        <a:pt x="180" y="611"/>
                      </a:lnTo>
                      <a:lnTo>
                        <a:pt x="158" y="584"/>
                      </a:lnTo>
                      <a:lnTo>
                        <a:pt x="139" y="558"/>
                      </a:lnTo>
                      <a:lnTo>
                        <a:pt x="120" y="529"/>
                      </a:lnTo>
                      <a:lnTo>
                        <a:pt x="104" y="500"/>
                      </a:lnTo>
                      <a:lnTo>
                        <a:pt x="89" y="471"/>
                      </a:lnTo>
                      <a:lnTo>
                        <a:pt x="77" y="441"/>
                      </a:lnTo>
                      <a:lnTo>
                        <a:pt x="64" y="410"/>
                      </a:lnTo>
                      <a:lnTo>
                        <a:pt x="54" y="379"/>
                      </a:lnTo>
                      <a:lnTo>
                        <a:pt x="45" y="346"/>
                      </a:lnTo>
                      <a:lnTo>
                        <a:pt x="39" y="314"/>
                      </a:lnTo>
                      <a:lnTo>
                        <a:pt x="32" y="280"/>
                      </a:lnTo>
                      <a:lnTo>
                        <a:pt x="29" y="246"/>
                      </a:lnTo>
                      <a:lnTo>
                        <a:pt x="27" y="211"/>
                      </a:lnTo>
                      <a:lnTo>
                        <a:pt x="27" y="177"/>
                      </a:lnTo>
                      <a:lnTo>
                        <a:pt x="28" y="131"/>
                      </a:lnTo>
                      <a:lnTo>
                        <a:pt x="31" y="86"/>
                      </a:lnTo>
                      <a:lnTo>
                        <a:pt x="38" y="42"/>
                      </a:lnTo>
                      <a:lnTo>
                        <a:pt x="48" y="0"/>
                      </a:lnTo>
                      <a:lnTo>
                        <a:pt x="37" y="12"/>
                      </a:lnTo>
                      <a:close/>
                    </a:path>
                  </a:pathLst>
                </a:custGeom>
                <a:solidFill>
                  <a:srgbClr val="16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724800" y="2985120"/>
                  <a:ext cx="163800" cy="251640"/>
                </a:xfrm>
                <a:custGeom>
                  <a:avLst/>
                  <a:gdLst/>
                  <a:ahLst/>
                  <a:rect l="l" t="t" r="r" b="b"/>
                  <a:pathLst>
                    <a:path w="572" h="882">
                      <a:moveTo>
                        <a:pt x="60" y="0"/>
                      </a:moveTo>
                      <a:lnTo>
                        <a:pt x="21" y="34"/>
                      </a:lnTo>
                      <a:lnTo>
                        <a:pt x="11" y="76"/>
                      </a:lnTo>
                      <a:lnTo>
                        <a:pt x="4" y="120"/>
                      </a:lnTo>
                      <a:lnTo>
                        <a:pt x="1" y="165"/>
                      </a:lnTo>
                      <a:lnTo>
                        <a:pt x="0" y="211"/>
                      </a:lnTo>
                      <a:lnTo>
                        <a:pt x="0" y="245"/>
                      </a:lnTo>
                      <a:lnTo>
                        <a:pt x="2" y="280"/>
                      </a:lnTo>
                      <a:lnTo>
                        <a:pt x="5" y="314"/>
                      </a:lnTo>
                      <a:lnTo>
                        <a:pt x="12" y="348"/>
                      </a:lnTo>
                      <a:lnTo>
                        <a:pt x="18" y="380"/>
                      </a:lnTo>
                      <a:lnTo>
                        <a:pt x="27" y="413"/>
                      </a:lnTo>
                      <a:lnTo>
                        <a:pt x="37" y="444"/>
                      </a:lnTo>
                      <a:lnTo>
                        <a:pt x="50" y="475"/>
                      </a:lnTo>
                      <a:lnTo>
                        <a:pt x="62" y="505"/>
                      </a:lnTo>
                      <a:lnTo>
                        <a:pt x="77" y="534"/>
                      </a:lnTo>
                      <a:lnTo>
                        <a:pt x="93" y="563"/>
                      </a:lnTo>
                      <a:lnTo>
                        <a:pt x="112" y="592"/>
                      </a:lnTo>
                      <a:lnTo>
                        <a:pt x="131" y="618"/>
                      </a:lnTo>
                      <a:lnTo>
                        <a:pt x="153" y="645"/>
                      </a:lnTo>
                      <a:lnTo>
                        <a:pt x="175" y="671"/>
                      </a:lnTo>
                      <a:lnTo>
                        <a:pt x="202" y="699"/>
                      </a:lnTo>
                      <a:lnTo>
                        <a:pt x="237" y="732"/>
                      </a:lnTo>
                      <a:lnTo>
                        <a:pt x="274" y="762"/>
                      </a:lnTo>
                      <a:lnTo>
                        <a:pt x="312" y="789"/>
                      </a:lnTo>
                      <a:lnTo>
                        <a:pt x="352" y="814"/>
                      </a:lnTo>
                      <a:lnTo>
                        <a:pt x="392" y="835"/>
                      </a:lnTo>
                      <a:lnTo>
                        <a:pt x="435" y="854"/>
                      </a:lnTo>
                      <a:lnTo>
                        <a:pt x="478" y="869"/>
                      </a:lnTo>
                      <a:lnTo>
                        <a:pt x="524" y="882"/>
                      </a:lnTo>
                      <a:lnTo>
                        <a:pt x="547" y="873"/>
                      </a:lnTo>
                      <a:lnTo>
                        <a:pt x="572" y="864"/>
                      </a:lnTo>
                      <a:lnTo>
                        <a:pt x="521" y="853"/>
                      </a:lnTo>
                      <a:lnTo>
                        <a:pt x="474" y="839"/>
                      </a:lnTo>
                      <a:lnTo>
                        <a:pt x="427" y="821"/>
                      </a:lnTo>
                      <a:lnTo>
                        <a:pt x="384" y="801"/>
                      </a:lnTo>
                      <a:lnTo>
                        <a:pt x="340" y="775"/>
                      </a:lnTo>
                      <a:lnTo>
                        <a:pt x="299" y="746"/>
                      </a:lnTo>
                      <a:lnTo>
                        <a:pt x="259" y="715"/>
                      </a:lnTo>
                      <a:lnTo>
                        <a:pt x="222" y="679"/>
                      </a:lnTo>
                      <a:lnTo>
                        <a:pt x="197" y="653"/>
                      </a:lnTo>
                      <a:lnTo>
                        <a:pt x="175" y="628"/>
                      </a:lnTo>
                      <a:lnTo>
                        <a:pt x="154" y="602"/>
                      </a:lnTo>
                      <a:lnTo>
                        <a:pt x="136" y="576"/>
                      </a:lnTo>
                      <a:lnTo>
                        <a:pt x="118" y="548"/>
                      </a:lnTo>
                      <a:lnTo>
                        <a:pt x="102" y="521"/>
                      </a:lnTo>
                      <a:lnTo>
                        <a:pt x="87" y="492"/>
                      </a:lnTo>
                      <a:lnTo>
                        <a:pt x="76" y="465"/>
                      </a:lnTo>
                      <a:lnTo>
                        <a:pt x="63" y="435"/>
                      </a:lnTo>
                      <a:lnTo>
                        <a:pt x="54" y="405"/>
                      </a:lnTo>
                      <a:lnTo>
                        <a:pt x="45" y="373"/>
                      </a:lnTo>
                      <a:lnTo>
                        <a:pt x="39" y="343"/>
                      </a:lnTo>
                      <a:lnTo>
                        <a:pt x="34" y="310"/>
                      </a:lnTo>
                      <a:lnTo>
                        <a:pt x="30" y="278"/>
                      </a:lnTo>
                      <a:lnTo>
                        <a:pt x="28" y="244"/>
                      </a:lnTo>
                      <a:lnTo>
                        <a:pt x="28" y="211"/>
                      </a:lnTo>
                      <a:lnTo>
                        <a:pt x="29" y="154"/>
                      </a:lnTo>
                      <a:lnTo>
                        <a:pt x="36" y="101"/>
                      </a:lnTo>
                      <a:lnTo>
                        <a:pt x="45" y="49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192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693120" y="3032640"/>
                  <a:ext cx="130680" cy="210960"/>
                </a:xfrm>
                <a:custGeom>
                  <a:avLst/>
                  <a:gdLst/>
                  <a:ahLst/>
                  <a:rect l="l" t="t" r="r" b="b"/>
                  <a:pathLst>
                    <a:path w="457" h="738">
                      <a:moveTo>
                        <a:pt x="27" y="44"/>
                      </a:moveTo>
                      <a:lnTo>
                        <a:pt x="28" y="0"/>
                      </a:lnTo>
                      <a:lnTo>
                        <a:pt x="12" y="32"/>
                      </a:lnTo>
                      <a:lnTo>
                        <a:pt x="0" y="65"/>
                      </a:lnTo>
                      <a:lnTo>
                        <a:pt x="0" y="103"/>
                      </a:lnTo>
                      <a:lnTo>
                        <a:pt x="3" y="142"/>
                      </a:lnTo>
                      <a:lnTo>
                        <a:pt x="8" y="179"/>
                      </a:lnTo>
                      <a:lnTo>
                        <a:pt x="16" y="218"/>
                      </a:lnTo>
                      <a:lnTo>
                        <a:pt x="24" y="253"/>
                      </a:lnTo>
                      <a:lnTo>
                        <a:pt x="35" y="289"/>
                      </a:lnTo>
                      <a:lnTo>
                        <a:pt x="46" y="324"/>
                      </a:lnTo>
                      <a:lnTo>
                        <a:pt x="61" y="359"/>
                      </a:lnTo>
                      <a:lnTo>
                        <a:pt x="76" y="392"/>
                      </a:lnTo>
                      <a:lnTo>
                        <a:pt x="94" y="425"/>
                      </a:lnTo>
                      <a:lnTo>
                        <a:pt x="112" y="457"/>
                      </a:lnTo>
                      <a:lnTo>
                        <a:pt x="134" y="490"/>
                      </a:lnTo>
                      <a:lnTo>
                        <a:pt x="155" y="520"/>
                      </a:lnTo>
                      <a:lnTo>
                        <a:pt x="180" y="551"/>
                      </a:lnTo>
                      <a:lnTo>
                        <a:pt x="206" y="580"/>
                      </a:lnTo>
                      <a:lnTo>
                        <a:pt x="234" y="610"/>
                      </a:lnTo>
                      <a:lnTo>
                        <a:pt x="270" y="643"/>
                      </a:lnTo>
                      <a:lnTo>
                        <a:pt x="308" y="676"/>
                      </a:lnTo>
                      <a:lnTo>
                        <a:pt x="347" y="704"/>
                      </a:lnTo>
                      <a:lnTo>
                        <a:pt x="388" y="732"/>
                      </a:lnTo>
                      <a:lnTo>
                        <a:pt x="420" y="736"/>
                      </a:lnTo>
                      <a:lnTo>
                        <a:pt x="457" y="738"/>
                      </a:lnTo>
                      <a:lnTo>
                        <a:pt x="428" y="723"/>
                      </a:lnTo>
                      <a:lnTo>
                        <a:pt x="401" y="707"/>
                      </a:lnTo>
                      <a:lnTo>
                        <a:pt x="350" y="673"/>
                      </a:lnTo>
                      <a:lnTo>
                        <a:pt x="325" y="654"/>
                      </a:lnTo>
                      <a:lnTo>
                        <a:pt x="300" y="634"/>
                      </a:lnTo>
                      <a:lnTo>
                        <a:pt x="254" y="591"/>
                      </a:lnTo>
                      <a:lnTo>
                        <a:pt x="225" y="561"/>
                      </a:lnTo>
                      <a:lnTo>
                        <a:pt x="200" y="532"/>
                      </a:lnTo>
                      <a:lnTo>
                        <a:pt x="175" y="501"/>
                      </a:lnTo>
                      <a:lnTo>
                        <a:pt x="154" y="470"/>
                      </a:lnTo>
                      <a:lnTo>
                        <a:pt x="132" y="438"/>
                      </a:lnTo>
                      <a:lnTo>
                        <a:pt x="114" y="406"/>
                      </a:lnTo>
                      <a:lnTo>
                        <a:pt x="97" y="373"/>
                      </a:lnTo>
                      <a:lnTo>
                        <a:pt x="84" y="340"/>
                      </a:lnTo>
                      <a:lnTo>
                        <a:pt x="69" y="305"/>
                      </a:lnTo>
                      <a:lnTo>
                        <a:pt x="58" y="270"/>
                      </a:lnTo>
                      <a:lnTo>
                        <a:pt x="47" y="234"/>
                      </a:lnTo>
                      <a:lnTo>
                        <a:pt x="41" y="197"/>
                      </a:lnTo>
                      <a:lnTo>
                        <a:pt x="34" y="159"/>
                      </a:lnTo>
                      <a:lnTo>
                        <a:pt x="30" y="121"/>
                      </a:lnTo>
                      <a:lnTo>
                        <a:pt x="27" y="83"/>
                      </a:lnTo>
                      <a:lnTo>
                        <a:pt x="27" y="44"/>
                      </a:lnTo>
                      <a:close/>
                    </a:path>
                  </a:pathLst>
                </a:custGeom>
                <a:solidFill>
                  <a:srgbClr val="0c1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6701040" y="3017520"/>
                  <a:ext cx="141120" cy="226080"/>
                </a:xfrm>
                <a:custGeom>
                  <a:avLst/>
                  <a:gdLst/>
                  <a:ahLst/>
                  <a:rect l="l" t="t" r="r" b="b"/>
                  <a:pathLst>
                    <a:path w="493" h="791">
                      <a:moveTo>
                        <a:pt x="1" y="52"/>
                      </a:moveTo>
                      <a:lnTo>
                        <a:pt x="0" y="96"/>
                      </a:lnTo>
                      <a:lnTo>
                        <a:pt x="0" y="135"/>
                      </a:lnTo>
                      <a:lnTo>
                        <a:pt x="3" y="173"/>
                      </a:lnTo>
                      <a:lnTo>
                        <a:pt x="7" y="211"/>
                      </a:lnTo>
                      <a:lnTo>
                        <a:pt x="14" y="249"/>
                      </a:lnTo>
                      <a:lnTo>
                        <a:pt x="20" y="286"/>
                      </a:lnTo>
                      <a:lnTo>
                        <a:pt x="31" y="322"/>
                      </a:lnTo>
                      <a:lnTo>
                        <a:pt x="42" y="357"/>
                      </a:lnTo>
                      <a:lnTo>
                        <a:pt x="57" y="392"/>
                      </a:lnTo>
                      <a:lnTo>
                        <a:pt x="70" y="425"/>
                      </a:lnTo>
                      <a:lnTo>
                        <a:pt x="87" y="458"/>
                      </a:lnTo>
                      <a:lnTo>
                        <a:pt x="105" y="490"/>
                      </a:lnTo>
                      <a:lnTo>
                        <a:pt x="127" y="522"/>
                      </a:lnTo>
                      <a:lnTo>
                        <a:pt x="148" y="553"/>
                      </a:lnTo>
                      <a:lnTo>
                        <a:pt x="173" y="584"/>
                      </a:lnTo>
                      <a:lnTo>
                        <a:pt x="198" y="613"/>
                      </a:lnTo>
                      <a:lnTo>
                        <a:pt x="227" y="643"/>
                      </a:lnTo>
                      <a:lnTo>
                        <a:pt x="273" y="686"/>
                      </a:lnTo>
                      <a:lnTo>
                        <a:pt x="298" y="706"/>
                      </a:lnTo>
                      <a:lnTo>
                        <a:pt x="323" y="725"/>
                      </a:lnTo>
                      <a:lnTo>
                        <a:pt x="374" y="759"/>
                      </a:lnTo>
                      <a:lnTo>
                        <a:pt x="401" y="775"/>
                      </a:lnTo>
                      <a:lnTo>
                        <a:pt x="430" y="790"/>
                      </a:lnTo>
                      <a:lnTo>
                        <a:pt x="449" y="791"/>
                      </a:lnTo>
                      <a:lnTo>
                        <a:pt x="453" y="790"/>
                      </a:lnTo>
                      <a:lnTo>
                        <a:pt x="459" y="790"/>
                      </a:lnTo>
                      <a:lnTo>
                        <a:pt x="470" y="790"/>
                      </a:lnTo>
                      <a:lnTo>
                        <a:pt x="493" y="789"/>
                      </a:lnTo>
                      <a:lnTo>
                        <a:pt x="459" y="774"/>
                      </a:lnTo>
                      <a:lnTo>
                        <a:pt x="426" y="757"/>
                      </a:lnTo>
                      <a:lnTo>
                        <a:pt x="393" y="739"/>
                      </a:lnTo>
                      <a:lnTo>
                        <a:pt x="363" y="720"/>
                      </a:lnTo>
                      <a:lnTo>
                        <a:pt x="332" y="698"/>
                      </a:lnTo>
                      <a:lnTo>
                        <a:pt x="303" y="674"/>
                      </a:lnTo>
                      <a:lnTo>
                        <a:pt x="273" y="649"/>
                      </a:lnTo>
                      <a:lnTo>
                        <a:pt x="246" y="623"/>
                      </a:lnTo>
                      <a:lnTo>
                        <a:pt x="219" y="594"/>
                      </a:lnTo>
                      <a:lnTo>
                        <a:pt x="195" y="566"/>
                      </a:lnTo>
                      <a:lnTo>
                        <a:pt x="171" y="536"/>
                      </a:lnTo>
                      <a:lnTo>
                        <a:pt x="151" y="508"/>
                      </a:lnTo>
                      <a:lnTo>
                        <a:pt x="130" y="476"/>
                      </a:lnTo>
                      <a:lnTo>
                        <a:pt x="113" y="445"/>
                      </a:lnTo>
                      <a:lnTo>
                        <a:pt x="96" y="414"/>
                      </a:lnTo>
                      <a:lnTo>
                        <a:pt x="83" y="382"/>
                      </a:lnTo>
                      <a:lnTo>
                        <a:pt x="69" y="348"/>
                      </a:lnTo>
                      <a:lnTo>
                        <a:pt x="59" y="314"/>
                      </a:lnTo>
                      <a:lnTo>
                        <a:pt x="49" y="279"/>
                      </a:lnTo>
                      <a:lnTo>
                        <a:pt x="42" y="245"/>
                      </a:lnTo>
                      <a:lnTo>
                        <a:pt x="35" y="207"/>
                      </a:lnTo>
                      <a:lnTo>
                        <a:pt x="32" y="171"/>
                      </a:lnTo>
                      <a:lnTo>
                        <a:pt x="28" y="134"/>
                      </a:lnTo>
                      <a:lnTo>
                        <a:pt x="28" y="96"/>
                      </a:lnTo>
                      <a:lnTo>
                        <a:pt x="29" y="47"/>
                      </a:lnTo>
                      <a:lnTo>
                        <a:pt x="34" y="0"/>
                      </a:lnTo>
                      <a:lnTo>
                        <a:pt x="16" y="25"/>
                      </a:lnTo>
                      <a:lnTo>
                        <a:pt x="1" y="52"/>
                      </a:lnTo>
                      <a:close/>
                    </a:path>
                  </a:pathLst>
                </a:custGeom>
                <a:solidFill>
                  <a:srgbClr val="0f1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709320" y="3005640"/>
                  <a:ext cx="150480" cy="237600"/>
                </a:xfrm>
                <a:custGeom>
                  <a:avLst/>
                  <a:gdLst/>
                  <a:ahLst/>
                  <a:rect l="l" t="t" r="r" b="b"/>
                  <a:pathLst>
                    <a:path w="525" h="832">
                      <a:moveTo>
                        <a:pt x="6" y="43"/>
                      </a:moveTo>
                      <a:lnTo>
                        <a:pt x="1" y="90"/>
                      </a:lnTo>
                      <a:lnTo>
                        <a:pt x="0" y="139"/>
                      </a:lnTo>
                      <a:lnTo>
                        <a:pt x="0" y="177"/>
                      </a:lnTo>
                      <a:lnTo>
                        <a:pt x="4" y="214"/>
                      </a:lnTo>
                      <a:lnTo>
                        <a:pt x="7" y="250"/>
                      </a:lnTo>
                      <a:lnTo>
                        <a:pt x="14" y="288"/>
                      </a:lnTo>
                      <a:lnTo>
                        <a:pt x="21" y="322"/>
                      </a:lnTo>
                      <a:lnTo>
                        <a:pt x="31" y="357"/>
                      </a:lnTo>
                      <a:lnTo>
                        <a:pt x="41" y="391"/>
                      </a:lnTo>
                      <a:lnTo>
                        <a:pt x="55" y="425"/>
                      </a:lnTo>
                      <a:lnTo>
                        <a:pt x="68" y="457"/>
                      </a:lnTo>
                      <a:lnTo>
                        <a:pt x="85" y="488"/>
                      </a:lnTo>
                      <a:lnTo>
                        <a:pt x="102" y="519"/>
                      </a:lnTo>
                      <a:lnTo>
                        <a:pt x="123" y="551"/>
                      </a:lnTo>
                      <a:lnTo>
                        <a:pt x="143" y="579"/>
                      </a:lnTo>
                      <a:lnTo>
                        <a:pt x="167" y="609"/>
                      </a:lnTo>
                      <a:lnTo>
                        <a:pt x="191" y="637"/>
                      </a:lnTo>
                      <a:lnTo>
                        <a:pt x="218" y="666"/>
                      </a:lnTo>
                      <a:lnTo>
                        <a:pt x="245" y="692"/>
                      </a:lnTo>
                      <a:lnTo>
                        <a:pt x="275" y="717"/>
                      </a:lnTo>
                      <a:lnTo>
                        <a:pt x="304" y="741"/>
                      </a:lnTo>
                      <a:lnTo>
                        <a:pt x="335" y="763"/>
                      </a:lnTo>
                      <a:lnTo>
                        <a:pt x="365" y="782"/>
                      </a:lnTo>
                      <a:lnTo>
                        <a:pt x="398" y="800"/>
                      </a:lnTo>
                      <a:lnTo>
                        <a:pt x="431" y="817"/>
                      </a:lnTo>
                      <a:lnTo>
                        <a:pt x="465" y="832"/>
                      </a:lnTo>
                      <a:lnTo>
                        <a:pt x="495" y="829"/>
                      </a:lnTo>
                      <a:lnTo>
                        <a:pt x="525" y="824"/>
                      </a:lnTo>
                      <a:lnTo>
                        <a:pt x="484" y="809"/>
                      </a:lnTo>
                      <a:lnTo>
                        <a:pt x="446" y="793"/>
                      </a:lnTo>
                      <a:lnTo>
                        <a:pt x="408" y="774"/>
                      </a:lnTo>
                      <a:lnTo>
                        <a:pt x="372" y="754"/>
                      </a:lnTo>
                      <a:lnTo>
                        <a:pt x="336" y="730"/>
                      </a:lnTo>
                      <a:lnTo>
                        <a:pt x="302" y="704"/>
                      </a:lnTo>
                      <a:lnTo>
                        <a:pt x="269" y="675"/>
                      </a:lnTo>
                      <a:lnTo>
                        <a:pt x="237" y="646"/>
                      </a:lnTo>
                      <a:lnTo>
                        <a:pt x="210" y="618"/>
                      </a:lnTo>
                      <a:lnTo>
                        <a:pt x="186" y="590"/>
                      </a:lnTo>
                      <a:lnTo>
                        <a:pt x="164" y="562"/>
                      </a:lnTo>
                      <a:lnTo>
                        <a:pt x="144" y="535"/>
                      </a:lnTo>
                      <a:lnTo>
                        <a:pt x="125" y="504"/>
                      </a:lnTo>
                      <a:lnTo>
                        <a:pt x="108" y="475"/>
                      </a:lnTo>
                      <a:lnTo>
                        <a:pt x="92" y="444"/>
                      </a:lnTo>
                      <a:lnTo>
                        <a:pt x="80" y="414"/>
                      </a:lnTo>
                      <a:lnTo>
                        <a:pt x="66" y="381"/>
                      </a:lnTo>
                      <a:lnTo>
                        <a:pt x="56" y="348"/>
                      </a:lnTo>
                      <a:lnTo>
                        <a:pt x="47" y="314"/>
                      </a:lnTo>
                      <a:lnTo>
                        <a:pt x="40" y="281"/>
                      </a:lnTo>
                      <a:lnTo>
                        <a:pt x="33" y="246"/>
                      </a:lnTo>
                      <a:lnTo>
                        <a:pt x="30" y="211"/>
                      </a:lnTo>
                      <a:lnTo>
                        <a:pt x="28" y="174"/>
                      </a:lnTo>
                      <a:lnTo>
                        <a:pt x="28" y="139"/>
                      </a:lnTo>
                      <a:lnTo>
                        <a:pt x="30" y="68"/>
                      </a:lnTo>
                      <a:lnTo>
                        <a:pt x="33" y="33"/>
                      </a:lnTo>
                      <a:lnTo>
                        <a:pt x="40" y="0"/>
                      </a:lnTo>
                      <a:lnTo>
                        <a:pt x="6" y="43"/>
                      </a:lnTo>
                      <a:close/>
                    </a:path>
                  </a:pathLst>
                </a:custGeom>
                <a:solidFill>
                  <a:srgbClr val="121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733080" y="2977560"/>
                  <a:ext cx="167400" cy="254160"/>
                </a:xfrm>
                <a:custGeom>
                  <a:avLst/>
                  <a:gdLst/>
                  <a:ahLst/>
                  <a:rect l="l" t="t" r="r" b="b"/>
                  <a:pathLst>
                    <a:path w="586" h="891">
                      <a:moveTo>
                        <a:pt x="32" y="27"/>
                      </a:moveTo>
                      <a:lnTo>
                        <a:pt x="17" y="76"/>
                      </a:lnTo>
                      <a:lnTo>
                        <a:pt x="8" y="128"/>
                      </a:lnTo>
                      <a:lnTo>
                        <a:pt x="1" y="181"/>
                      </a:lnTo>
                      <a:lnTo>
                        <a:pt x="0" y="238"/>
                      </a:lnTo>
                      <a:lnTo>
                        <a:pt x="0" y="271"/>
                      </a:lnTo>
                      <a:lnTo>
                        <a:pt x="2" y="305"/>
                      </a:lnTo>
                      <a:lnTo>
                        <a:pt x="6" y="337"/>
                      </a:lnTo>
                      <a:lnTo>
                        <a:pt x="11" y="370"/>
                      </a:lnTo>
                      <a:lnTo>
                        <a:pt x="17" y="400"/>
                      </a:lnTo>
                      <a:lnTo>
                        <a:pt x="26" y="432"/>
                      </a:lnTo>
                      <a:lnTo>
                        <a:pt x="35" y="462"/>
                      </a:lnTo>
                      <a:lnTo>
                        <a:pt x="48" y="492"/>
                      </a:lnTo>
                      <a:lnTo>
                        <a:pt x="59" y="519"/>
                      </a:lnTo>
                      <a:lnTo>
                        <a:pt x="74" y="548"/>
                      </a:lnTo>
                      <a:lnTo>
                        <a:pt x="90" y="575"/>
                      </a:lnTo>
                      <a:lnTo>
                        <a:pt x="108" y="603"/>
                      </a:lnTo>
                      <a:lnTo>
                        <a:pt x="126" y="629"/>
                      </a:lnTo>
                      <a:lnTo>
                        <a:pt x="147" y="655"/>
                      </a:lnTo>
                      <a:lnTo>
                        <a:pt x="169" y="680"/>
                      </a:lnTo>
                      <a:lnTo>
                        <a:pt x="194" y="706"/>
                      </a:lnTo>
                      <a:lnTo>
                        <a:pt x="231" y="742"/>
                      </a:lnTo>
                      <a:lnTo>
                        <a:pt x="271" y="773"/>
                      </a:lnTo>
                      <a:lnTo>
                        <a:pt x="312" y="802"/>
                      </a:lnTo>
                      <a:lnTo>
                        <a:pt x="356" y="828"/>
                      </a:lnTo>
                      <a:lnTo>
                        <a:pt x="399" y="848"/>
                      </a:lnTo>
                      <a:lnTo>
                        <a:pt x="446" y="866"/>
                      </a:lnTo>
                      <a:lnTo>
                        <a:pt x="493" y="880"/>
                      </a:lnTo>
                      <a:lnTo>
                        <a:pt x="544" y="891"/>
                      </a:lnTo>
                      <a:lnTo>
                        <a:pt x="565" y="880"/>
                      </a:lnTo>
                      <a:lnTo>
                        <a:pt x="569" y="876"/>
                      </a:lnTo>
                      <a:lnTo>
                        <a:pt x="575" y="874"/>
                      </a:lnTo>
                      <a:lnTo>
                        <a:pt x="586" y="870"/>
                      </a:lnTo>
                      <a:lnTo>
                        <a:pt x="533" y="861"/>
                      </a:lnTo>
                      <a:lnTo>
                        <a:pt x="482" y="848"/>
                      </a:lnTo>
                      <a:lnTo>
                        <a:pt x="432" y="832"/>
                      </a:lnTo>
                      <a:lnTo>
                        <a:pt x="386" y="812"/>
                      </a:lnTo>
                      <a:lnTo>
                        <a:pt x="339" y="787"/>
                      </a:lnTo>
                      <a:lnTo>
                        <a:pt x="296" y="757"/>
                      </a:lnTo>
                      <a:lnTo>
                        <a:pt x="253" y="723"/>
                      </a:lnTo>
                      <a:lnTo>
                        <a:pt x="213" y="687"/>
                      </a:lnTo>
                      <a:lnTo>
                        <a:pt x="189" y="662"/>
                      </a:lnTo>
                      <a:lnTo>
                        <a:pt x="169" y="638"/>
                      </a:lnTo>
                      <a:lnTo>
                        <a:pt x="149" y="613"/>
                      </a:lnTo>
                      <a:lnTo>
                        <a:pt x="132" y="589"/>
                      </a:lnTo>
                      <a:lnTo>
                        <a:pt x="113" y="561"/>
                      </a:lnTo>
                      <a:lnTo>
                        <a:pt x="99" y="535"/>
                      </a:lnTo>
                      <a:lnTo>
                        <a:pt x="85" y="508"/>
                      </a:lnTo>
                      <a:lnTo>
                        <a:pt x="74" y="482"/>
                      </a:lnTo>
                      <a:lnTo>
                        <a:pt x="61" y="452"/>
                      </a:lnTo>
                      <a:lnTo>
                        <a:pt x="52" y="424"/>
                      </a:lnTo>
                      <a:lnTo>
                        <a:pt x="44" y="393"/>
                      </a:lnTo>
                      <a:lnTo>
                        <a:pt x="39" y="364"/>
                      </a:lnTo>
                      <a:lnTo>
                        <a:pt x="33" y="332"/>
                      </a:lnTo>
                      <a:lnTo>
                        <a:pt x="30" y="302"/>
                      </a:lnTo>
                      <a:lnTo>
                        <a:pt x="27" y="270"/>
                      </a:lnTo>
                      <a:lnTo>
                        <a:pt x="27" y="238"/>
                      </a:lnTo>
                      <a:lnTo>
                        <a:pt x="30" y="174"/>
                      </a:lnTo>
                      <a:lnTo>
                        <a:pt x="37" y="113"/>
                      </a:lnTo>
                      <a:lnTo>
                        <a:pt x="51" y="56"/>
                      </a:lnTo>
                      <a:lnTo>
                        <a:pt x="72" y="0"/>
                      </a:lnTo>
                      <a:lnTo>
                        <a:pt x="32" y="27"/>
                      </a:lnTo>
                      <a:close/>
                    </a:path>
                  </a:pathLst>
                </a:custGeom>
                <a:solidFill>
                  <a:srgbClr val="1c2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764760" y="2958840"/>
                  <a:ext cx="173520" cy="244440"/>
                </a:xfrm>
                <a:custGeom>
                  <a:avLst/>
                  <a:gdLst/>
                  <a:ahLst/>
                  <a:rect l="l" t="t" r="r" b="b"/>
                  <a:pathLst>
                    <a:path w="609" h="856">
                      <a:moveTo>
                        <a:pt x="84" y="11"/>
                      </a:moveTo>
                      <a:lnTo>
                        <a:pt x="64" y="42"/>
                      </a:lnTo>
                      <a:lnTo>
                        <a:pt x="47" y="76"/>
                      </a:lnTo>
                      <a:lnTo>
                        <a:pt x="32" y="111"/>
                      </a:lnTo>
                      <a:lnTo>
                        <a:pt x="20" y="148"/>
                      </a:lnTo>
                      <a:lnTo>
                        <a:pt x="10" y="184"/>
                      </a:lnTo>
                      <a:lnTo>
                        <a:pt x="5" y="223"/>
                      </a:lnTo>
                      <a:lnTo>
                        <a:pt x="1" y="262"/>
                      </a:lnTo>
                      <a:lnTo>
                        <a:pt x="0" y="304"/>
                      </a:lnTo>
                      <a:lnTo>
                        <a:pt x="0" y="331"/>
                      </a:lnTo>
                      <a:lnTo>
                        <a:pt x="2" y="360"/>
                      </a:lnTo>
                      <a:lnTo>
                        <a:pt x="9" y="414"/>
                      </a:lnTo>
                      <a:lnTo>
                        <a:pt x="14" y="439"/>
                      </a:lnTo>
                      <a:lnTo>
                        <a:pt x="22" y="465"/>
                      </a:lnTo>
                      <a:lnTo>
                        <a:pt x="30" y="490"/>
                      </a:lnTo>
                      <a:lnTo>
                        <a:pt x="40" y="516"/>
                      </a:lnTo>
                      <a:lnTo>
                        <a:pt x="50" y="539"/>
                      </a:lnTo>
                      <a:lnTo>
                        <a:pt x="62" y="563"/>
                      </a:lnTo>
                      <a:lnTo>
                        <a:pt x="75" y="585"/>
                      </a:lnTo>
                      <a:lnTo>
                        <a:pt x="90" y="609"/>
                      </a:lnTo>
                      <a:lnTo>
                        <a:pt x="123" y="652"/>
                      </a:lnTo>
                      <a:lnTo>
                        <a:pt x="141" y="673"/>
                      </a:lnTo>
                      <a:lnTo>
                        <a:pt x="161" y="694"/>
                      </a:lnTo>
                      <a:lnTo>
                        <a:pt x="201" y="730"/>
                      </a:lnTo>
                      <a:lnTo>
                        <a:pt x="245" y="764"/>
                      </a:lnTo>
                      <a:lnTo>
                        <a:pt x="290" y="792"/>
                      </a:lnTo>
                      <a:lnTo>
                        <a:pt x="314" y="804"/>
                      </a:lnTo>
                      <a:lnTo>
                        <a:pt x="339" y="816"/>
                      </a:lnTo>
                      <a:lnTo>
                        <a:pt x="363" y="825"/>
                      </a:lnTo>
                      <a:lnTo>
                        <a:pt x="388" y="833"/>
                      </a:lnTo>
                      <a:lnTo>
                        <a:pt x="440" y="846"/>
                      </a:lnTo>
                      <a:lnTo>
                        <a:pt x="493" y="853"/>
                      </a:lnTo>
                      <a:lnTo>
                        <a:pt x="522" y="855"/>
                      </a:lnTo>
                      <a:lnTo>
                        <a:pt x="551" y="856"/>
                      </a:lnTo>
                      <a:lnTo>
                        <a:pt x="581" y="855"/>
                      </a:lnTo>
                      <a:lnTo>
                        <a:pt x="584" y="852"/>
                      </a:lnTo>
                      <a:lnTo>
                        <a:pt x="609" y="826"/>
                      </a:lnTo>
                      <a:lnTo>
                        <a:pt x="579" y="827"/>
                      </a:lnTo>
                      <a:lnTo>
                        <a:pt x="565" y="827"/>
                      </a:lnTo>
                      <a:lnTo>
                        <a:pt x="551" y="828"/>
                      </a:lnTo>
                      <a:lnTo>
                        <a:pt x="524" y="827"/>
                      </a:lnTo>
                      <a:lnTo>
                        <a:pt x="497" y="825"/>
                      </a:lnTo>
                      <a:lnTo>
                        <a:pt x="446" y="818"/>
                      </a:lnTo>
                      <a:lnTo>
                        <a:pt x="421" y="812"/>
                      </a:lnTo>
                      <a:lnTo>
                        <a:pt x="396" y="805"/>
                      </a:lnTo>
                      <a:lnTo>
                        <a:pt x="349" y="789"/>
                      </a:lnTo>
                      <a:lnTo>
                        <a:pt x="303" y="767"/>
                      </a:lnTo>
                      <a:lnTo>
                        <a:pt x="281" y="754"/>
                      </a:lnTo>
                      <a:lnTo>
                        <a:pt x="261" y="741"/>
                      </a:lnTo>
                      <a:lnTo>
                        <a:pt x="219" y="709"/>
                      </a:lnTo>
                      <a:lnTo>
                        <a:pt x="181" y="675"/>
                      </a:lnTo>
                      <a:lnTo>
                        <a:pt x="162" y="655"/>
                      </a:lnTo>
                      <a:lnTo>
                        <a:pt x="145" y="635"/>
                      </a:lnTo>
                      <a:lnTo>
                        <a:pt x="128" y="614"/>
                      </a:lnTo>
                      <a:lnTo>
                        <a:pt x="113" y="593"/>
                      </a:lnTo>
                      <a:lnTo>
                        <a:pt x="99" y="571"/>
                      </a:lnTo>
                      <a:lnTo>
                        <a:pt x="86" y="549"/>
                      </a:lnTo>
                      <a:lnTo>
                        <a:pt x="75" y="526"/>
                      </a:lnTo>
                      <a:lnTo>
                        <a:pt x="66" y="505"/>
                      </a:lnTo>
                      <a:lnTo>
                        <a:pt x="48" y="457"/>
                      </a:lnTo>
                      <a:lnTo>
                        <a:pt x="41" y="432"/>
                      </a:lnTo>
                      <a:lnTo>
                        <a:pt x="36" y="408"/>
                      </a:lnTo>
                      <a:lnTo>
                        <a:pt x="32" y="382"/>
                      </a:lnTo>
                      <a:lnTo>
                        <a:pt x="30" y="357"/>
                      </a:lnTo>
                      <a:lnTo>
                        <a:pt x="27" y="330"/>
                      </a:lnTo>
                      <a:lnTo>
                        <a:pt x="27" y="304"/>
                      </a:lnTo>
                      <a:lnTo>
                        <a:pt x="28" y="261"/>
                      </a:lnTo>
                      <a:lnTo>
                        <a:pt x="33" y="220"/>
                      </a:lnTo>
                      <a:lnTo>
                        <a:pt x="40" y="179"/>
                      </a:lnTo>
                      <a:lnTo>
                        <a:pt x="51" y="142"/>
                      </a:lnTo>
                      <a:lnTo>
                        <a:pt x="64" y="103"/>
                      </a:lnTo>
                      <a:lnTo>
                        <a:pt x="81" y="68"/>
                      </a:lnTo>
                      <a:lnTo>
                        <a:pt x="100" y="33"/>
                      </a:lnTo>
                      <a:lnTo>
                        <a:pt x="124" y="0"/>
                      </a:lnTo>
                      <a:lnTo>
                        <a:pt x="84" y="11"/>
                      </a:lnTo>
                      <a:close/>
                    </a:path>
                  </a:pathLst>
                </a:custGeom>
                <a:solidFill>
                  <a:srgbClr val="293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804000" y="2956320"/>
                  <a:ext cx="162360" cy="206640"/>
                </a:xfrm>
                <a:custGeom>
                  <a:avLst/>
                  <a:gdLst/>
                  <a:ahLst/>
                  <a:rect l="l" t="t" r="r" b="b"/>
                  <a:pathLst>
                    <a:path w="568" h="724">
                      <a:moveTo>
                        <a:pt x="141" y="37"/>
                      </a:moveTo>
                      <a:lnTo>
                        <a:pt x="178" y="4"/>
                      </a:lnTo>
                      <a:lnTo>
                        <a:pt x="159" y="1"/>
                      </a:lnTo>
                      <a:lnTo>
                        <a:pt x="141" y="0"/>
                      </a:lnTo>
                      <a:lnTo>
                        <a:pt x="121" y="18"/>
                      </a:lnTo>
                      <a:lnTo>
                        <a:pt x="91" y="47"/>
                      </a:lnTo>
                      <a:lnTo>
                        <a:pt x="67" y="80"/>
                      </a:lnTo>
                      <a:lnTo>
                        <a:pt x="46" y="114"/>
                      </a:lnTo>
                      <a:lnTo>
                        <a:pt x="30" y="150"/>
                      </a:lnTo>
                      <a:lnTo>
                        <a:pt x="16" y="187"/>
                      </a:lnTo>
                      <a:lnTo>
                        <a:pt x="7" y="226"/>
                      </a:lnTo>
                      <a:lnTo>
                        <a:pt x="2" y="267"/>
                      </a:lnTo>
                      <a:lnTo>
                        <a:pt x="0" y="310"/>
                      </a:lnTo>
                      <a:lnTo>
                        <a:pt x="2" y="351"/>
                      </a:lnTo>
                      <a:lnTo>
                        <a:pt x="7" y="392"/>
                      </a:lnTo>
                      <a:lnTo>
                        <a:pt x="16" y="430"/>
                      </a:lnTo>
                      <a:lnTo>
                        <a:pt x="22" y="448"/>
                      </a:lnTo>
                      <a:lnTo>
                        <a:pt x="30" y="468"/>
                      </a:lnTo>
                      <a:lnTo>
                        <a:pt x="37" y="485"/>
                      </a:lnTo>
                      <a:lnTo>
                        <a:pt x="46" y="503"/>
                      </a:lnTo>
                      <a:lnTo>
                        <a:pt x="67" y="538"/>
                      </a:lnTo>
                      <a:lnTo>
                        <a:pt x="91" y="571"/>
                      </a:lnTo>
                      <a:lnTo>
                        <a:pt x="121" y="603"/>
                      </a:lnTo>
                      <a:lnTo>
                        <a:pt x="150" y="630"/>
                      </a:lnTo>
                      <a:lnTo>
                        <a:pt x="183" y="655"/>
                      </a:lnTo>
                      <a:lnTo>
                        <a:pt x="217" y="675"/>
                      </a:lnTo>
                      <a:lnTo>
                        <a:pt x="253" y="693"/>
                      </a:lnTo>
                      <a:lnTo>
                        <a:pt x="290" y="706"/>
                      </a:lnTo>
                      <a:lnTo>
                        <a:pt x="329" y="716"/>
                      </a:lnTo>
                      <a:lnTo>
                        <a:pt x="370" y="722"/>
                      </a:lnTo>
                      <a:lnTo>
                        <a:pt x="413" y="724"/>
                      </a:lnTo>
                      <a:lnTo>
                        <a:pt x="449" y="722"/>
                      </a:lnTo>
                      <a:lnTo>
                        <a:pt x="486" y="718"/>
                      </a:lnTo>
                      <a:lnTo>
                        <a:pt x="503" y="714"/>
                      </a:lnTo>
                      <a:lnTo>
                        <a:pt x="521" y="710"/>
                      </a:lnTo>
                      <a:lnTo>
                        <a:pt x="555" y="701"/>
                      </a:lnTo>
                      <a:lnTo>
                        <a:pt x="568" y="666"/>
                      </a:lnTo>
                      <a:lnTo>
                        <a:pt x="558" y="668"/>
                      </a:lnTo>
                      <a:lnTo>
                        <a:pt x="549" y="672"/>
                      </a:lnTo>
                      <a:lnTo>
                        <a:pt x="531" y="679"/>
                      </a:lnTo>
                      <a:lnTo>
                        <a:pt x="512" y="683"/>
                      </a:lnTo>
                      <a:lnTo>
                        <a:pt x="494" y="689"/>
                      </a:lnTo>
                      <a:lnTo>
                        <a:pt x="473" y="691"/>
                      </a:lnTo>
                      <a:lnTo>
                        <a:pt x="468" y="691"/>
                      </a:lnTo>
                      <a:lnTo>
                        <a:pt x="463" y="692"/>
                      </a:lnTo>
                      <a:lnTo>
                        <a:pt x="454" y="695"/>
                      </a:lnTo>
                      <a:lnTo>
                        <a:pt x="413" y="697"/>
                      </a:lnTo>
                      <a:lnTo>
                        <a:pt x="372" y="695"/>
                      </a:lnTo>
                      <a:lnTo>
                        <a:pt x="335" y="689"/>
                      </a:lnTo>
                      <a:lnTo>
                        <a:pt x="299" y="680"/>
                      </a:lnTo>
                      <a:lnTo>
                        <a:pt x="265" y="668"/>
                      </a:lnTo>
                      <a:lnTo>
                        <a:pt x="231" y="651"/>
                      </a:lnTo>
                      <a:lnTo>
                        <a:pt x="199" y="632"/>
                      </a:lnTo>
                      <a:lnTo>
                        <a:pt x="168" y="609"/>
                      </a:lnTo>
                      <a:lnTo>
                        <a:pt x="141" y="583"/>
                      </a:lnTo>
                      <a:lnTo>
                        <a:pt x="114" y="554"/>
                      </a:lnTo>
                      <a:lnTo>
                        <a:pt x="101" y="538"/>
                      </a:lnTo>
                      <a:lnTo>
                        <a:pt x="91" y="523"/>
                      </a:lnTo>
                      <a:lnTo>
                        <a:pt x="80" y="506"/>
                      </a:lnTo>
                      <a:lnTo>
                        <a:pt x="71" y="490"/>
                      </a:lnTo>
                      <a:lnTo>
                        <a:pt x="56" y="458"/>
                      </a:lnTo>
                      <a:lnTo>
                        <a:pt x="48" y="439"/>
                      </a:lnTo>
                      <a:lnTo>
                        <a:pt x="42" y="422"/>
                      </a:lnTo>
                      <a:lnTo>
                        <a:pt x="34" y="386"/>
                      </a:lnTo>
                      <a:lnTo>
                        <a:pt x="29" y="349"/>
                      </a:lnTo>
                      <a:lnTo>
                        <a:pt x="28" y="310"/>
                      </a:lnTo>
                      <a:lnTo>
                        <a:pt x="29" y="269"/>
                      </a:lnTo>
                      <a:lnTo>
                        <a:pt x="34" y="232"/>
                      </a:lnTo>
                      <a:lnTo>
                        <a:pt x="42" y="196"/>
                      </a:lnTo>
                      <a:lnTo>
                        <a:pt x="56" y="162"/>
                      </a:lnTo>
                      <a:lnTo>
                        <a:pt x="71" y="128"/>
                      </a:lnTo>
                      <a:lnTo>
                        <a:pt x="91" y="96"/>
                      </a:lnTo>
                      <a:lnTo>
                        <a:pt x="114" y="65"/>
                      </a:lnTo>
                      <a:lnTo>
                        <a:pt x="141" y="37"/>
                      </a:lnTo>
                      <a:close/>
                    </a:path>
                  </a:pathLst>
                </a:custGeom>
                <a:solidFill>
                  <a:srgbClr val="395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811560" y="2958120"/>
                  <a:ext cx="157680" cy="197640"/>
                </a:xfrm>
                <a:custGeom>
                  <a:avLst/>
                  <a:gdLst/>
                  <a:ahLst/>
                  <a:rect l="l" t="t" r="r" b="b"/>
                  <a:pathLst>
                    <a:path w="551" h="693">
                      <a:moveTo>
                        <a:pt x="150" y="0"/>
                      </a:moveTo>
                      <a:lnTo>
                        <a:pt x="113" y="33"/>
                      </a:lnTo>
                      <a:lnTo>
                        <a:pt x="86" y="61"/>
                      </a:lnTo>
                      <a:lnTo>
                        <a:pt x="63" y="92"/>
                      </a:lnTo>
                      <a:lnTo>
                        <a:pt x="43" y="124"/>
                      </a:lnTo>
                      <a:lnTo>
                        <a:pt x="28" y="158"/>
                      </a:lnTo>
                      <a:lnTo>
                        <a:pt x="14" y="192"/>
                      </a:lnTo>
                      <a:lnTo>
                        <a:pt x="6" y="228"/>
                      </a:lnTo>
                      <a:lnTo>
                        <a:pt x="1" y="265"/>
                      </a:lnTo>
                      <a:lnTo>
                        <a:pt x="0" y="306"/>
                      </a:lnTo>
                      <a:lnTo>
                        <a:pt x="1" y="345"/>
                      </a:lnTo>
                      <a:lnTo>
                        <a:pt x="6" y="382"/>
                      </a:lnTo>
                      <a:lnTo>
                        <a:pt x="14" y="418"/>
                      </a:lnTo>
                      <a:lnTo>
                        <a:pt x="20" y="435"/>
                      </a:lnTo>
                      <a:lnTo>
                        <a:pt x="28" y="454"/>
                      </a:lnTo>
                      <a:lnTo>
                        <a:pt x="43" y="486"/>
                      </a:lnTo>
                      <a:lnTo>
                        <a:pt x="52" y="502"/>
                      </a:lnTo>
                      <a:lnTo>
                        <a:pt x="63" y="519"/>
                      </a:lnTo>
                      <a:lnTo>
                        <a:pt x="73" y="534"/>
                      </a:lnTo>
                      <a:lnTo>
                        <a:pt x="86" y="550"/>
                      </a:lnTo>
                      <a:lnTo>
                        <a:pt x="113" y="579"/>
                      </a:lnTo>
                      <a:lnTo>
                        <a:pt x="140" y="605"/>
                      </a:lnTo>
                      <a:lnTo>
                        <a:pt x="171" y="628"/>
                      </a:lnTo>
                      <a:lnTo>
                        <a:pt x="203" y="647"/>
                      </a:lnTo>
                      <a:lnTo>
                        <a:pt x="237" y="664"/>
                      </a:lnTo>
                      <a:lnTo>
                        <a:pt x="271" y="676"/>
                      </a:lnTo>
                      <a:lnTo>
                        <a:pt x="307" y="685"/>
                      </a:lnTo>
                      <a:lnTo>
                        <a:pt x="344" y="691"/>
                      </a:lnTo>
                      <a:lnTo>
                        <a:pt x="385" y="693"/>
                      </a:lnTo>
                      <a:lnTo>
                        <a:pt x="426" y="691"/>
                      </a:lnTo>
                      <a:lnTo>
                        <a:pt x="435" y="688"/>
                      </a:lnTo>
                      <a:lnTo>
                        <a:pt x="440" y="687"/>
                      </a:lnTo>
                      <a:lnTo>
                        <a:pt x="445" y="687"/>
                      </a:lnTo>
                      <a:lnTo>
                        <a:pt x="466" y="685"/>
                      </a:lnTo>
                      <a:lnTo>
                        <a:pt x="484" y="679"/>
                      </a:lnTo>
                      <a:lnTo>
                        <a:pt x="503" y="675"/>
                      </a:lnTo>
                      <a:lnTo>
                        <a:pt x="521" y="668"/>
                      </a:lnTo>
                      <a:lnTo>
                        <a:pt x="530" y="664"/>
                      </a:lnTo>
                      <a:lnTo>
                        <a:pt x="540" y="662"/>
                      </a:lnTo>
                      <a:lnTo>
                        <a:pt x="551" y="626"/>
                      </a:lnTo>
                      <a:lnTo>
                        <a:pt x="530" y="634"/>
                      </a:lnTo>
                      <a:lnTo>
                        <a:pt x="527" y="634"/>
                      </a:lnTo>
                      <a:lnTo>
                        <a:pt x="525" y="635"/>
                      </a:lnTo>
                      <a:lnTo>
                        <a:pt x="520" y="637"/>
                      </a:lnTo>
                      <a:lnTo>
                        <a:pt x="511" y="642"/>
                      </a:lnTo>
                      <a:lnTo>
                        <a:pt x="491" y="649"/>
                      </a:lnTo>
                      <a:lnTo>
                        <a:pt x="480" y="651"/>
                      </a:lnTo>
                      <a:lnTo>
                        <a:pt x="471" y="654"/>
                      </a:lnTo>
                      <a:lnTo>
                        <a:pt x="460" y="655"/>
                      </a:lnTo>
                      <a:lnTo>
                        <a:pt x="450" y="658"/>
                      </a:lnTo>
                      <a:lnTo>
                        <a:pt x="429" y="661"/>
                      </a:lnTo>
                      <a:lnTo>
                        <a:pt x="407" y="663"/>
                      </a:lnTo>
                      <a:lnTo>
                        <a:pt x="395" y="663"/>
                      </a:lnTo>
                      <a:lnTo>
                        <a:pt x="390" y="663"/>
                      </a:lnTo>
                      <a:lnTo>
                        <a:pt x="385" y="664"/>
                      </a:lnTo>
                      <a:lnTo>
                        <a:pt x="348" y="662"/>
                      </a:lnTo>
                      <a:lnTo>
                        <a:pt x="313" y="658"/>
                      </a:lnTo>
                      <a:lnTo>
                        <a:pt x="279" y="649"/>
                      </a:lnTo>
                      <a:lnTo>
                        <a:pt x="247" y="638"/>
                      </a:lnTo>
                      <a:lnTo>
                        <a:pt x="215" y="622"/>
                      </a:lnTo>
                      <a:lnTo>
                        <a:pt x="187" y="605"/>
                      </a:lnTo>
                      <a:lnTo>
                        <a:pt x="158" y="584"/>
                      </a:lnTo>
                      <a:lnTo>
                        <a:pt x="132" y="560"/>
                      </a:lnTo>
                      <a:lnTo>
                        <a:pt x="106" y="532"/>
                      </a:lnTo>
                      <a:lnTo>
                        <a:pt x="85" y="503"/>
                      </a:lnTo>
                      <a:lnTo>
                        <a:pt x="66" y="474"/>
                      </a:lnTo>
                      <a:lnTo>
                        <a:pt x="59" y="458"/>
                      </a:lnTo>
                      <a:lnTo>
                        <a:pt x="53" y="443"/>
                      </a:lnTo>
                      <a:lnTo>
                        <a:pt x="40" y="410"/>
                      </a:lnTo>
                      <a:lnTo>
                        <a:pt x="32" y="376"/>
                      </a:lnTo>
                      <a:lnTo>
                        <a:pt x="29" y="358"/>
                      </a:lnTo>
                      <a:lnTo>
                        <a:pt x="28" y="341"/>
                      </a:lnTo>
                      <a:lnTo>
                        <a:pt x="27" y="306"/>
                      </a:lnTo>
                      <a:lnTo>
                        <a:pt x="28" y="269"/>
                      </a:lnTo>
                      <a:lnTo>
                        <a:pt x="32" y="234"/>
                      </a:lnTo>
                      <a:lnTo>
                        <a:pt x="40" y="200"/>
                      </a:lnTo>
                      <a:lnTo>
                        <a:pt x="53" y="168"/>
                      </a:lnTo>
                      <a:lnTo>
                        <a:pt x="66" y="136"/>
                      </a:lnTo>
                      <a:lnTo>
                        <a:pt x="85" y="108"/>
                      </a:lnTo>
                      <a:lnTo>
                        <a:pt x="106" y="79"/>
                      </a:lnTo>
                      <a:lnTo>
                        <a:pt x="132" y="53"/>
                      </a:lnTo>
                      <a:lnTo>
                        <a:pt x="158" y="28"/>
                      </a:lnTo>
                      <a:lnTo>
                        <a:pt x="187" y="7"/>
                      </a:lnTo>
                      <a:lnTo>
                        <a:pt x="150" y="0"/>
                      </a:lnTo>
                      <a:close/>
                    </a:path>
                  </a:pathLst>
                </a:custGeom>
                <a:solidFill>
                  <a:srgbClr val="3c5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819480" y="2959920"/>
                  <a:ext cx="151920" cy="187560"/>
                </a:xfrm>
                <a:custGeom>
                  <a:avLst/>
                  <a:gdLst/>
                  <a:ahLst/>
                  <a:rect l="l" t="t" r="r" b="b"/>
                  <a:pathLst>
                    <a:path w="532" h="657">
                      <a:moveTo>
                        <a:pt x="160" y="0"/>
                      </a:moveTo>
                      <a:lnTo>
                        <a:pt x="131" y="21"/>
                      </a:lnTo>
                      <a:lnTo>
                        <a:pt x="105" y="46"/>
                      </a:lnTo>
                      <a:lnTo>
                        <a:pt x="79" y="72"/>
                      </a:lnTo>
                      <a:lnTo>
                        <a:pt x="58" y="101"/>
                      </a:lnTo>
                      <a:lnTo>
                        <a:pt x="39" y="129"/>
                      </a:lnTo>
                      <a:lnTo>
                        <a:pt x="26" y="161"/>
                      </a:lnTo>
                      <a:lnTo>
                        <a:pt x="13" y="193"/>
                      </a:lnTo>
                      <a:lnTo>
                        <a:pt x="5" y="227"/>
                      </a:lnTo>
                      <a:lnTo>
                        <a:pt x="1" y="262"/>
                      </a:lnTo>
                      <a:lnTo>
                        <a:pt x="0" y="299"/>
                      </a:lnTo>
                      <a:lnTo>
                        <a:pt x="1" y="334"/>
                      </a:lnTo>
                      <a:lnTo>
                        <a:pt x="2" y="351"/>
                      </a:lnTo>
                      <a:lnTo>
                        <a:pt x="5" y="369"/>
                      </a:lnTo>
                      <a:lnTo>
                        <a:pt x="13" y="403"/>
                      </a:lnTo>
                      <a:lnTo>
                        <a:pt x="26" y="436"/>
                      </a:lnTo>
                      <a:lnTo>
                        <a:pt x="32" y="451"/>
                      </a:lnTo>
                      <a:lnTo>
                        <a:pt x="39" y="467"/>
                      </a:lnTo>
                      <a:lnTo>
                        <a:pt x="58" y="496"/>
                      </a:lnTo>
                      <a:lnTo>
                        <a:pt x="79" y="525"/>
                      </a:lnTo>
                      <a:lnTo>
                        <a:pt x="105" y="553"/>
                      </a:lnTo>
                      <a:lnTo>
                        <a:pt x="131" y="577"/>
                      </a:lnTo>
                      <a:lnTo>
                        <a:pt x="160" y="598"/>
                      </a:lnTo>
                      <a:lnTo>
                        <a:pt x="188" y="615"/>
                      </a:lnTo>
                      <a:lnTo>
                        <a:pt x="220" y="631"/>
                      </a:lnTo>
                      <a:lnTo>
                        <a:pt x="252" y="642"/>
                      </a:lnTo>
                      <a:lnTo>
                        <a:pt x="286" y="651"/>
                      </a:lnTo>
                      <a:lnTo>
                        <a:pt x="321" y="655"/>
                      </a:lnTo>
                      <a:lnTo>
                        <a:pt x="358" y="657"/>
                      </a:lnTo>
                      <a:lnTo>
                        <a:pt x="363" y="656"/>
                      </a:lnTo>
                      <a:lnTo>
                        <a:pt x="368" y="656"/>
                      </a:lnTo>
                      <a:lnTo>
                        <a:pt x="380" y="656"/>
                      </a:lnTo>
                      <a:lnTo>
                        <a:pt x="402" y="654"/>
                      </a:lnTo>
                      <a:lnTo>
                        <a:pt x="423" y="651"/>
                      </a:lnTo>
                      <a:lnTo>
                        <a:pt x="433" y="648"/>
                      </a:lnTo>
                      <a:lnTo>
                        <a:pt x="444" y="647"/>
                      </a:lnTo>
                      <a:lnTo>
                        <a:pt x="453" y="644"/>
                      </a:lnTo>
                      <a:lnTo>
                        <a:pt x="464" y="642"/>
                      </a:lnTo>
                      <a:lnTo>
                        <a:pt x="484" y="635"/>
                      </a:lnTo>
                      <a:lnTo>
                        <a:pt x="493" y="630"/>
                      </a:lnTo>
                      <a:lnTo>
                        <a:pt x="498" y="628"/>
                      </a:lnTo>
                      <a:lnTo>
                        <a:pt x="500" y="627"/>
                      </a:lnTo>
                      <a:lnTo>
                        <a:pt x="503" y="627"/>
                      </a:lnTo>
                      <a:lnTo>
                        <a:pt x="524" y="619"/>
                      </a:lnTo>
                      <a:lnTo>
                        <a:pt x="532" y="583"/>
                      </a:lnTo>
                      <a:lnTo>
                        <a:pt x="511" y="593"/>
                      </a:lnTo>
                      <a:lnTo>
                        <a:pt x="491" y="603"/>
                      </a:lnTo>
                      <a:lnTo>
                        <a:pt x="479" y="606"/>
                      </a:lnTo>
                      <a:lnTo>
                        <a:pt x="469" y="611"/>
                      </a:lnTo>
                      <a:lnTo>
                        <a:pt x="449" y="618"/>
                      </a:lnTo>
                      <a:lnTo>
                        <a:pt x="426" y="622"/>
                      </a:lnTo>
                      <a:lnTo>
                        <a:pt x="405" y="627"/>
                      </a:lnTo>
                      <a:lnTo>
                        <a:pt x="381" y="629"/>
                      </a:lnTo>
                      <a:lnTo>
                        <a:pt x="358" y="630"/>
                      </a:lnTo>
                      <a:lnTo>
                        <a:pt x="324" y="628"/>
                      </a:lnTo>
                      <a:lnTo>
                        <a:pt x="292" y="623"/>
                      </a:lnTo>
                      <a:lnTo>
                        <a:pt x="261" y="615"/>
                      </a:lnTo>
                      <a:lnTo>
                        <a:pt x="231" y="605"/>
                      </a:lnTo>
                      <a:lnTo>
                        <a:pt x="202" y="591"/>
                      </a:lnTo>
                      <a:lnTo>
                        <a:pt x="174" y="575"/>
                      </a:lnTo>
                      <a:lnTo>
                        <a:pt x="148" y="555"/>
                      </a:lnTo>
                      <a:lnTo>
                        <a:pt x="125" y="534"/>
                      </a:lnTo>
                      <a:lnTo>
                        <a:pt x="101" y="508"/>
                      </a:lnTo>
                      <a:lnTo>
                        <a:pt x="81" y="482"/>
                      </a:lnTo>
                      <a:lnTo>
                        <a:pt x="64" y="454"/>
                      </a:lnTo>
                      <a:lnTo>
                        <a:pt x="56" y="440"/>
                      </a:lnTo>
                      <a:lnTo>
                        <a:pt x="51" y="426"/>
                      </a:lnTo>
                      <a:lnTo>
                        <a:pt x="44" y="410"/>
                      </a:lnTo>
                      <a:lnTo>
                        <a:pt x="39" y="396"/>
                      </a:lnTo>
                      <a:lnTo>
                        <a:pt x="35" y="380"/>
                      </a:lnTo>
                      <a:lnTo>
                        <a:pt x="33" y="365"/>
                      </a:lnTo>
                      <a:lnTo>
                        <a:pt x="29" y="348"/>
                      </a:lnTo>
                      <a:lnTo>
                        <a:pt x="28" y="332"/>
                      </a:lnTo>
                      <a:lnTo>
                        <a:pt x="27" y="299"/>
                      </a:lnTo>
                      <a:lnTo>
                        <a:pt x="28" y="265"/>
                      </a:lnTo>
                      <a:lnTo>
                        <a:pt x="33" y="233"/>
                      </a:lnTo>
                      <a:lnTo>
                        <a:pt x="39" y="202"/>
                      </a:lnTo>
                      <a:lnTo>
                        <a:pt x="51" y="172"/>
                      </a:lnTo>
                      <a:lnTo>
                        <a:pt x="64" y="143"/>
                      </a:lnTo>
                      <a:lnTo>
                        <a:pt x="81" y="115"/>
                      </a:lnTo>
                      <a:lnTo>
                        <a:pt x="101" y="89"/>
                      </a:lnTo>
                      <a:lnTo>
                        <a:pt x="125" y="66"/>
                      </a:lnTo>
                      <a:lnTo>
                        <a:pt x="140" y="49"/>
                      </a:lnTo>
                      <a:lnTo>
                        <a:pt x="159" y="35"/>
                      </a:lnTo>
                      <a:lnTo>
                        <a:pt x="196" y="11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3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827760" y="2963520"/>
                  <a:ext cx="145080" cy="176400"/>
                </a:xfrm>
                <a:custGeom>
                  <a:avLst/>
                  <a:gdLst/>
                  <a:ahLst/>
                  <a:rect l="l" t="t" r="r" b="b"/>
                  <a:pathLst>
                    <a:path w="509" h="619">
                      <a:moveTo>
                        <a:pt x="117" y="74"/>
                      </a:moveTo>
                      <a:lnTo>
                        <a:pt x="136" y="55"/>
                      </a:lnTo>
                      <a:lnTo>
                        <a:pt x="158" y="38"/>
                      </a:lnTo>
                      <a:lnTo>
                        <a:pt x="179" y="23"/>
                      </a:lnTo>
                      <a:lnTo>
                        <a:pt x="203" y="13"/>
                      </a:lnTo>
                      <a:lnTo>
                        <a:pt x="169" y="0"/>
                      </a:lnTo>
                      <a:lnTo>
                        <a:pt x="132" y="24"/>
                      </a:lnTo>
                      <a:lnTo>
                        <a:pt x="113" y="38"/>
                      </a:lnTo>
                      <a:lnTo>
                        <a:pt x="98" y="55"/>
                      </a:lnTo>
                      <a:lnTo>
                        <a:pt x="74" y="78"/>
                      </a:lnTo>
                      <a:lnTo>
                        <a:pt x="54" y="104"/>
                      </a:lnTo>
                      <a:lnTo>
                        <a:pt x="37" y="132"/>
                      </a:lnTo>
                      <a:lnTo>
                        <a:pt x="24" y="161"/>
                      </a:lnTo>
                      <a:lnTo>
                        <a:pt x="12" y="191"/>
                      </a:lnTo>
                      <a:lnTo>
                        <a:pt x="6" y="222"/>
                      </a:lnTo>
                      <a:lnTo>
                        <a:pt x="1" y="254"/>
                      </a:lnTo>
                      <a:lnTo>
                        <a:pt x="0" y="288"/>
                      </a:lnTo>
                      <a:lnTo>
                        <a:pt x="1" y="321"/>
                      </a:lnTo>
                      <a:lnTo>
                        <a:pt x="2" y="337"/>
                      </a:lnTo>
                      <a:lnTo>
                        <a:pt x="6" y="354"/>
                      </a:lnTo>
                      <a:lnTo>
                        <a:pt x="8" y="369"/>
                      </a:lnTo>
                      <a:lnTo>
                        <a:pt x="12" y="385"/>
                      </a:lnTo>
                      <a:lnTo>
                        <a:pt x="17" y="399"/>
                      </a:lnTo>
                      <a:lnTo>
                        <a:pt x="24" y="415"/>
                      </a:lnTo>
                      <a:lnTo>
                        <a:pt x="29" y="429"/>
                      </a:lnTo>
                      <a:lnTo>
                        <a:pt x="37" y="443"/>
                      </a:lnTo>
                      <a:lnTo>
                        <a:pt x="54" y="471"/>
                      </a:lnTo>
                      <a:lnTo>
                        <a:pt x="74" y="497"/>
                      </a:lnTo>
                      <a:lnTo>
                        <a:pt x="98" y="523"/>
                      </a:lnTo>
                      <a:lnTo>
                        <a:pt x="121" y="544"/>
                      </a:lnTo>
                      <a:lnTo>
                        <a:pt x="147" y="564"/>
                      </a:lnTo>
                      <a:lnTo>
                        <a:pt x="175" y="580"/>
                      </a:lnTo>
                      <a:lnTo>
                        <a:pt x="204" y="594"/>
                      </a:lnTo>
                      <a:lnTo>
                        <a:pt x="234" y="604"/>
                      </a:lnTo>
                      <a:lnTo>
                        <a:pt x="265" y="612"/>
                      </a:lnTo>
                      <a:lnTo>
                        <a:pt x="297" y="617"/>
                      </a:lnTo>
                      <a:lnTo>
                        <a:pt x="331" y="619"/>
                      </a:lnTo>
                      <a:lnTo>
                        <a:pt x="354" y="618"/>
                      </a:lnTo>
                      <a:lnTo>
                        <a:pt x="378" y="616"/>
                      </a:lnTo>
                      <a:lnTo>
                        <a:pt x="399" y="611"/>
                      </a:lnTo>
                      <a:lnTo>
                        <a:pt x="422" y="607"/>
                      </a:lnTo>
                      <a:lnTo>
                        <a:pt x="442" y="600"/>
                      </a:lnTo>
                      <a:lnTo>
                        <a:pt x="452" y="595"/>
                      </a:lnTo>
                      <a:lnTo>
                        <a:pt x="464" y="592"/>
                      </a:lnTo>
                      <a:lnTo>
                        <a:pt x="484" y="582"/>
                      </a:lnTo>
                      <a:lnTo>
                        <a:pt x="505" y="572"/>
                      </a:lnTo>
                      <a:lnTo>
                        <a:pt x="509" y="535"/>
                      </a:lnTo>
                      <a:lnTo>
                        <a:pt x="489" y="548"/>
                      </a:lnTo>
                      <a:lnTo>
                        <a:pt x="468" y="559"/>
                      </a:lnTo>
                      <a:lnTo>
                        <a:pt x="457" y="564"/>
                      </a:lnTo>
                      <a:lnTo>
                        <a:pt x="451" y="566"/>
                      </a:lnTo>
                      <a:lnTo>
                        <a:pt x="447" y="569"/>
                      </a:lnTo>
                      <a:lnTo>
                        <a:pt x="435" y="573"/>
                      </a:lnTo>
                      <a:lnTo>
                        <a:pt x="425" y="577"/>
                      </a:lnTo>
                      <a:lnTo>
                        <a:pt x="413" y="580"/>
                      </a:lnTo>
                      <a:lnTo>
                        <a:pt x="401" y="583"/>
                      </a:lnTo>
                      <a:lnTo>
                        <a:pt x="379" y="587"/>
                      </a:lnTo>
                      <a:lnTo>
                        <a:pt x="372" y="587"/>
                      </a:lnTo>
                      <a:lnTo>
                        <a:pt x="369" y="587"/>
                      </a:lnTo>
                      <a:lnTo>
                        <a:pt x="366" y="589"/>
                      </a:lnTo>
                      <a:lnTo>
                        <a:pt x="355" y="591"/>
                      </a:lnTo>
                      <a:lnTo>
                        <a:pt x="342" y="591"/>
                      </a:lnTo>
                      <a:lnTo>
                        <a:pt x="331" y="592"/>
                      </a:lnTo>
                      <a:lnTo>
                        <a:pt x="299" y="590"/>
                      </a:lnTo>
                      <a:lnTo>
                        <a:pt x="270" y="586"/>
                      </a:lnTo>
                      <a:lnTo>
                        <a:pt x="240" y="578"/>
                      </a:lnTo>
                      <a:lnTo>
                        <a:pt x="214" y="569"/>
                      </a:lnTo>
                      <a:lnTo>
                        <a:pt x="187" y="556"/>
                      </a:lnTo>
                      <a:lnTo>
                        <a:pt x="162" y="541"/>
                      </a:lnTo>
                      <a:lnTo>
                        <a:pt x="138" y="522"/>
                      </a:lnTo>
                      <a:lnTo>
                        <a:pt x="117" y="502"/>
                      </a:lnTo>
                      <a:lnTo>
                        <a:pt x="95" y="479"/>
                      </a:lnTo>
                      <a:lnTo>
                        <a:pt x="85" y="466"/>
                      </a:lnTo>
                      <a:lnTo>
                        <a:pt x="77" y="455"/>
                      </a:lnTo>
                      <a:lnTo>
                        <a:pt x="62" y="430"/>
                      </a:lnTo>
                      <a:lnTo>
                        <a:pt x="50" y="404"/>
                      </a:lnTo>
                      <a:lnTo>
                        <a:pt x="40" y="375"/>
                      </a:lnTo>
                      <a:lnTo>
                        <a:pt x="35" y="361"/>
                      </a:lnTo>
                      <a:lnTo>
                        <a:pt x="33" y="347"/>
                      </a:lnTo>
                      <a:lnTo>
                        <a:pt x="29" y="318"/>
                      </a:lnTo>
                      <a:lnTo>
                        <a:pt x="28" y="288"/>
                      </a:lnTo>
                      <a:lnTo>
                        <a:pt x="29" y="256"/>
                      </a:lnTo>
                      <a:lnTo>
                        <a:pt x="33" y="227"/>
                      </a:lnTo>
                      <a:lnTo>
                        <a:pt x="40" y="197"/>
                      </a:lnTo>
                      <a:lnTo>
                        <a:pt x="50" y="171"/>
                      </a:lnTo>
                      <a:lnTo>
                        <a:pt x="62" y="144"/>
                      </a:lnTo>
                      <a:lnTo>
                        <a:pt x="77" y="119"/>
                      </a:lnTo>
                      <a:lnTo>
                        <a:pt x="95" y="95"/>
                      </a:lnTo>
                      <a:lnTo>
                        <a:pt x="117" y="74"/>
                      </a:lnTo>
                      <a:close/>
                    </a:path>
                  </a:pathLst>
                </a:custGeom>
                <a:solidFill>
                  <a:srgbClr val="426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835680" y="2966760"/>
                  <a:ext cx="138240" cy="165240"/>
                </a:xfrm>
                <a:custGeom>
                  <a:avLst/>
                  <a:gdLst/>
                  <a:ahLst/>
                  <a:rect l="l" t="t" r="r" b="b"/>
                  <a:pathLst>
                    <a:path w="484" h="579">
                      <a:moveTo>
                        <a:pt x="175" y="0"/>
                      </a:moveTo>
                      <a:lnTo>
                        <a:pt x="151" y="10"/>
                      </a:lnTo>
                      <a:lnTo>
                        <a:pt x="130" y="25"/>
                      </a:lnTo>
                      <a:lnTo>
                        <a:pt x="108" y="42"/>
                      </a:lnTo>
                      <a:lnTo>
                        <a:pt x="89" y="61"/>
                      </a:lnTo>
                      <a:lnTo>
                        <a:pt x="67" y="82"/>
                      </a:lnTo>
                      <a:lnTo>
                        <a:pt x="49" y="106"/>
                      </a:lnTo>
                      <a:lnTo>
                        <a:pt x="34" y="131"/>
                      </a:lnTo>
                      <a:lnTo>
                        <a:pt x="22" y="158"/>
                      </a:lnTo>
                      <a:lnTo>
                        <a:pt x="12" y="184"/>
                      </a:lnTo>
                      <a:lnTo>
                        <a:pt x="5" y="214"/>
                      </a:lnTo>
                      <a:lnTo>
                        <a:pt x="1" y="243"/>
                      </a:lnTo>
                      <a:lnTo>
                        <a:pt x="0" y="275"/>
                      </a:lnTo>
                      <a:lnTo>
                        <a:pt x="1" y="305"/>
                      </a:lnTo>
                      <a:lnTo>
                        <a:pt x="5" y="334"/>
                      </a:lnTo>
                      <a:lnTo>
                        <a:pt x="7" y="348"/>
                      </a:lnTo>
                      <a:lnTo>
                        <a:pt x="12" y="362"/>
                      </a:lnTo>
                      <a:lnTo>
                        <a:pt x="22" y="391"/>
                      </a:lnTo>
                      <a:lnTo>
                        <a:pt x="34" y="417"/>
                      </a:lnTo>
                      <a:lnTo>
                        <a:pt x="49" y="442"/>
                      </a:lnTo>
                      <a:lnTo>
                        <a:pt x="57" y="453"/>
                      </a:lnTo>
                      <a:lnTo>
                        <a:pt x="67" y="466"/>
                      </a:lnTo>
                      <a:lnTo>
                        <a:pt x="89" y="489"/>
                      </a:lnTo>
                      <a:lnTo>
                        <a:pt x="110" y="509"/>
                      </a:lnTo>
                      <a:lnTo>
                        <a:pt x="134" y="528"/>
                      </a:lnTo>
                      <a:lnTo>
                        <a:pt x="159" y="543"/>
                      </a:lnTo>
                      <a:lnTo>
                        <a:pt x="186" y="556"/>
                      </a:lnTo>
                      <a:lnTo>
                        <a:pt x="212" y="565"/>
                      </a:lnTo>
                      <a:lnTo>
                        <a:pt x="242" y="573"/>
                      </a:lnTo>
                      <a:lnTo>
                        <a:pt x="271" y="577"/>
                      </a:lnTo>
                      <a:lnTo>
                        <a:pt x="303" y="579"/>
                      </a:lnTo>
                      <a:lnTo>
                        <a:pt x="314" y="578"/>
                      </a:lnTo>
                      <a:lnTo>
                        <a:pt x="327" y="578"/>
                      </a:lnTo>
                      <a:lnTo>
                        <a:pt x="338" y="576"/>
                      </a:lnTo>
                      <a:lnTo>
                        <a:pt x="341" y="574"/>
                      </a:lnTo>
                      <a:lnTo>
                        <a:pt x="344" y="574"/>
                      </a:lnTo>
                      <a:lnTo>
                        <a:pt x="351" y="574"/>
                      </a:lnTo>
                      <a:lnTo>
                        <a:pt x="373" y="570"/>
                      </a:lnTo>
                      <a:lnTo>
                        <a:pt x="385" y="567"/>
                      </a:lnTo>
                      <a:lnTo>
                        <a:pt x="397" y="564"/>
                      </a:lnTo>
                      <a:lnTo>
                        <a:pt x="407" y="560"/>
                      </a:lnTo>
                      <a:lnTo>
                        <a:pt x="419" y="556"/>
                      </a:lnTo>
                      <a:lnTo>
                        <a:pt x="423" y="553"/>
                      </a:lnTo>
                      <a:lnTo>
                        <a:pt x="429" y="551"/>
                      </a:lnTo>
                      <a:lnTo>
                        <a:pt x="440" y="546"/>
                      </a:lnTo>
                      <a:lnTo>
                        <a:pt x="461" y="535"/>
                      </a:lnTo>
                      <a:lnTo>
                        <a:pt x="481" y="522"/>
                      </a:lnTo>
                      <a:lnTo>
                        <a:pt x="484" y="485"/>
                      </a:lnTo>
                      <a:lnTo>
                        <a:pt x="464" y="500"/>
                      </a:lnTo>
                      <a:lnTo>
                        <a:pt x="444" y="513"/>
                      </a:lnTo>
                      <a:lnTo>
                        <a:pt x="422" y="525"/>
                      </a:lnTo>
                      <a:lnTo>
                        <a:pt x="411" y="529"/>
                      </a:lnTo>
                      <a:lnTo>
                        <a:pt x="405" y="531"/>
                      </a:lnTo>
                      <a:lnTo>
                        <a:pt x="401" y="535"/>
                      </a:lnTo>
                      <a:lnTo>
                        <a:pt x="377" y="542"/>
                      </a:lnTo>
                      <a:lnTo>
                        <a:pt x="364" y="544"/>
                      </a:lnTo>
                      <a:lnTo>
                        <a:pt x="353" y="547"/>
                      </a:lnTo>
                      <a:lnTo>
                        <a:pt x="328" y="551"/>
                      </a:lnTo>
                      <a:lnTo>
                        <a:pt x="303" y="552"/>
                      </a:lnTo>
                      <a:lnTo>
                        <a:pt x="275" y="550"/>
                      </a:lnTo>
                      <a:lnTo>
                        <a:pt x="248" y="546"/>
                      </a:lnTo>
                      <a:lnTo>
                        <a:pt x="221" y="539"/>
                      </a:lnTo>
                      <a:lnTo>
                        <a:pt x="198" y="531"/>
                      </a:lnTo>
                      <a:lnTo>
                        <a:pt x="173" y="519"/>
                      </a:lnTo>
                      <a:lnTo>
                        <a:pt x="150" y="505"/>
                      </a:lnTo>
                      <a:lnTo>
                        <a:pt x="128" y="488"/>
                      </a:lnTo>
                      <a:lnTo>
                        <a:pt x="108" y="470"/>
                      </a:lnTo>
                      <a:lnTo>
                        <a:pt x="89" y="449"/>
                      </a:lnTo>
                      <a:lnTo>
                        <a:pt x="72" y="427"/>
                      </a:lnTo>
                      <a:lnTo>
                        <a:pt x="57" y="403"/>
                      </a:lnTo>
                      <a:lnTo>
                        <a:pt x="47" y="381"/>
                      </a:lnTo>
                      <a:lnTo>
                        <a:pt x="41" y="367"/>
                      </a:lnTo>
                      <a:lnTo>
                        <a:pt x="38" y="355"/>
                      </a:lnTo>
                      <a:lnTo>
                        <a:pt x="32" y="330"/>
                      </a:lnTo>
                      <a:lnTo>
                        <a:pt x="29" y="302"/>
                      </a:lnTo>
                      <a:lnTo>
                        <a:pt x="28" y="275"/>
                      </a:lnTo>
                      <a:lnTo>
                        <a:pt x="29" y="247"/>
                      </a:lnTo>
                      <a:lnTo>
                        <a:pt x="32" y="220"/>
                      </a:lnTo>
                      <a:lnTo>
                        <a:pt x="38" y="194"/>
                      </a:lnTo>
                      <a:lnTo>
                        <a:pt x="47" y="170"/>
                      </a:lnTo>
                      <a:lnTo>
                        <a:pt x="57" y="145"/>
                      </a:lnTo>
                      <a:lnTo>
                        <a:pt x="72" y="122"/>
                      </a:lnTo>
                      <a:lnTo>
                        <a:pt x="89" y="101"/>
                      </a:lnTo>
                      <a:lnTo>
                        <a:pt x="108" y="80"/>
                      </a:lnTo>
                      <a:lnTo>
                        <a:pt x="131" y="59"/>
                      </a:lnTo>
                      <a:lnTo>
                        <a:pt x="156" y="40"/>
                      </a:lnTo>
                      <a:lnTo>
                        <a:pt x="181" y="26"/>
                      </a:lnTo>
                      <a:lnTo>
                        <a:pt x="209" y="16"/>
                      </a:lnTo>
                      <a:lnTo>
                        <a:pt x="175" y="0"/>
                      </a:lnTo>
                      <a:close/>
                    </a:path>
                  </a:pathLst>
                </a:custGeom>
                <a:solidFill>
                  <a:srgbClr val="466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771960" y="2957040"/>
                  <a:ext cx="173160" cy="237240"/>
                </a:xfrm>
                <a:custGeom>
                  <a:avLst/>
                  <a:gdLst/>
                  <a:ahLst/>
                  <a:rect l="l" t="t" r="r" b="b"/>
                  <a:pathLst>
                    <a:path w="607" h="833">
                      <a:moveTo>
                        <a:pt x="136" y="0"/>
                      </a:moveTo>
                      <a:lnTo>
                        <a:pt x="97" y="5"/>
                      </a:lnTo>
                      <a:lnTo>
                        <a:pt x="73" y="38"/>
                      </a:lnTo>
                      <a:lnTo>
                        <a:pt x="54" y="73"/>
                      </a:lnTo>
                      <a:lnTo>
                        <a:pt x="37" y="108"/>
                      </a:lnTo>
                      <a:lnTo>
                        <a:pt x="24" y="147"/>
                      </a:lnTo>
                      <a:lnTo>
                        <a:pt x="13" y="184"/>
                      </a:lnTo>
                      <a:lnTo>
                        <a:pt x="6" y="225"/>
                      </a:lnTo>
                      <a:lnTo>
                        <a:pt x="1" y="266"/>
                      </a:lnTo>
                      <a:lnTo>
                        <a:pt x="0" y="309"/>
                      </a:lnTo>
                      <a:lnTo>
                        <a:pt x="0" y="335"/>
                      </a:lnTo>
                      <a:lnTo>
                        <a:pt x="3" y="362"/>
                      </a:lnTo>
                      <a:lnTo>
                        <a:pt x="5" y="387"/>
                      </a:lnTo>
                      <a:lnTo>
                        <a:pt x="9" y="413"/>
                      </a:lnTo>
                      <a:lnTo>
                        <a:pt x="14" y="437"/>
                      </a:lnTo>
                      <a:lnTo>
                        <a:pt x="21" y="462"/>
                      </a:lnTo>
                      <a:lnTo>
                        <a:pt x="39" y="510"/>
                      </a:lnTo>
                      <a:lnTo>
                        <a:pt x="48" y="531"/>
                      </a:lnTo>
                      <a:lnTo>
                        <a:pt x="59" y="554"/>
                      </a:lnTo>
                      <a:lnTo>
                        <a:pt x="72" y="576"/>
                      </a:lnTo>
                      <a:lnTo>
                        <a:pt x="86" y="598"/>
                      </a:lnTo>
                      <a:lnTo>
                        <a:pt x="101" y="619"/>
                      </a:lnTo>
                      <a:lnTo>
                        <a:pt x="118" y="640"/>
                      </a:lnTo>
                      <a:lnTo>
                        <a:pt x="135" y="660"/>
                      </a:lnTo>
                      <a:lnTo>
                        <a:pt x="154" y="680"/>
                      </a:lnTo>
                      <a:lnTo>
                        <a:pt x="192" y="714"/>
                      </a:lnTo>
                      <a:lnTo>
                        <a:pt x="234" y="746"/>
                      </a:lnTo>
                      <a:lnTo>
                        <a:pt x="254" y="759"/>
                      </a:lnTo>
                      <a:lnTo>
                        <a:pt x="276" y="772"/>
                      </a:lnTo>
                      <a:lnTo>
                        <a:pt x="322" y="794"/>
                      </a:lnTo>
                      <a:lnTo>
                        <a:pt x="369" y="810"/>
                      </a:lnTo>
                      <a:lnTo>
                        <a:pt x="394" y="817"/>
                      </a:lnTo>
                      <a:lnTo>
                        <a:pt x="419" y="823"/>
                      </a:lnTo>
                      <a:lnTo>
                        <a:pt x="470" y="830"/>
                      </a:lnTo>
                      <a:lnTo>
                        <a:pt x="497" y="832"/>
                      </a:lnTo>
                      <a:lnTo>
                        <a:pt x="524" y="833"/>
                      </a:lnTo>
                      <a:lnTo>
                        <a:pt x="538" y="832"/>
                      </a:lnTo>
                      <a:lnTo>
                        <a:pt x="552" y="832"/>
                      </a:lnTo>
                      <a:lnTo>
                        <a:pt x="582" y="831"/>
                      </a:lnTo>
                      <a:lnTo>
                        <a:pt x="607" y="799"/>
                      </a:lnTo>
                      <a:lnTo>
                        <a:pt x="566" y="803"/>
                      </a:lnTo>
                      <a:lnTo>
                        <a:pt x="555" y="803"/>
                      </a:lnTo>
                      <a:lnTo>
                        <a:pt x="549" y="803"/>
                      </a:lnTo>
                      <a:lnTo>
                        <a:pt x="544" y="805"/>
                      </a:lnTo>
                      <a:lnTo>
                        <a:pt x="524" y="806"/>
                      </a:lnTo>
                      <a:lnTo>
                        <a:pt x="473" y="803"/>
                      </a:lnTo>
                      <a:lnTo>
                        <a:pt x="424" y="797"/>
                      </a:lnTo>
                      <a:lnTo>
                        <a:pt x="378" y="785"/>
                      </a:lnTo>
                      <a:lnTo>
                        <a:pt x="334" y="769"/>
                      </a:lnTo>
                      <a:lnTo>
                        <a:pt x="289" y="749"/>
                      </a:lnTo>
                      <a:lnTo>
                        <a:pt x="250" y="724"/>
                      </a:lnTo>
                      <a:lnTo>
                        <a:pt x="210" y="695"/>
                      </a:lnTo>
                      <a:lnTo>
                        <a:pt x="174" y="661"/>
                      </a:lnTo>
                      <a:lnTo>
                        <a:pt x="156" y="641"/>
                      </a:lnTo>
                      <a:lnTo>
                        <a:pt x="140" y="623"/>
                      </a:lnTo>
                      <a:lnTo>
                        <a:pt x="124" y="603"/>
                      </a:lnTo>
                      <a:lnTo>
                        <a:pt x="110" y="584"/>
                      </a:lnTo>
                      <a:lnTo>
                        <a:pt x="97" y="562"/>
                      </a:lnTo>
                      <a:lnTo>
                        <a:pt x="85" y="542"/>
                      </a:lnTo>
                      <a:lnTo>
                        <a:pt x="74" y="520"/>
                      </a:lnTo>
                      <a:lnTo>
                        <a:pt x="65" y="500"/>
                      </a:lnTo>
                      <a:lnTo>
                        <a:pt x="49" y="454"/>
                      </a:lnTo>
                      <a:lnTo>
                        <a:pt x="42" y="430"/>
                      </a:lnTo>
                      <a:lnTo>
                        <a:pt x="38" y="408"/>
                      </a:lnTo>
                      <a:lnTo>
                        <a:pt x="33" y="383"/>
                      </a:lnTo>
                      <a:lnTo>
                        <a:pt x="31" y="359"/>
                      </a:lnTo>
                      <a:lnTo>
                        <a:pt x="29" y="309"/>
                      </a:lnTo>
                      <a:lnTo>
                        <a:pt x="30" y="265"/>
                      </a:lnTo>
                      <a:lnTo>
                        <a:pt x="34" y="223"/>
                      </a:lnTo>
                      <a:lnTo>
                        <a:pt x="42" y="181"/>
                      </a:lnTo>
                      <a:lnTo>
                        <a:pt x="55" y="142"/>
                      </a:lnTo>
                      <a:lnTo>
                        <a:pt x="69" y="104"/>
                      </a:lnTo>
                      <a:lnTo>
                        <a:pt x="89" y="68"/>
                      </a:lnTo>
                      <a:lnTo>
                        <a:pt x="110" y="3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2c4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859080" y="2982600"/>
                  <a:ext cx="113760" cy="125640"/>
                </a:xfrm>
                <a:custGeom>
                  <a:avLst/>
                  <a:gdLst/>
                  <a:ahLst/>
                  <a:rect l="l" t="t" r="r" b="b"/>
                  <a:pathLst>
                    <a:path w="398" h="440">
                      <a:moveTo>
                        <a:pt x="27" y="219"/>
                      </a:moveTo>
                      <a:lnTo>
                        <a:pt x="27" y="199"/>
                      </a:lnTo>
                      <a:lnTo>
                        <a:pt x="31" y="181"/>
                      </a:lnTo>
                      <a:lnTo>
                        <a:pt x="41" y="145"/>
                      </a:lnTo>
                      <a:lnTo>
                        <a:pt x="58" y="113"/>
                      </a:lnTo>
                      <a:lnTo>
                        <a:pt x="69" y="97"/>
                      </a:lnTo>
                      <a:lnTo>
                        <a:pt x="84" y="83"/>
                      </a:lnTo>
                      <a:lnTo>
                        <a:pt x="98" y="68"/>
                      </a:lnTo>
                      <a:lnTo>
                        <a:pt x="114" y="57"/>
                      </a:lnTo>
                      <a:lnTo>
                        <a:pt x="146" y="40"/>
                      </a:lnTo>
                      <a:lnTo>
                        <a:pt x="182" y="30"/>
                      </a:lnTo>
                      <a:lnTo>
                        <a:pt x="200" y="26"/>
                      </a:lnTo>
                      <a:lnTo>
                        <a:pt x="220" y="26"/>
                      </a:lnTo>
                      <a:lnTo>
                        <a:pt x="225" y="26"/>
                      </a:lnTo>
                      <a:lnTo>
                        <a:pt x="192" y="0"/>
                      </a:lnTo>
                      <a:lnTo>
                        <a:pt x="157" y="7"/>
                      </a:lnTo>
                      <a:lnTo>
                        <a:pt x="124" y="21"/>
                      </a:lnTo>
                      <a:lnTo>
                        <a:pt x="93" y="39"/>
                      </a:lnTo>
                      <a:lnTo>
                        <a:pt x="65" y="64"/>
                      </a:lnTo>
                      <a:lnTo>
                        <a:pt x="48" y="80"/>
                      </a:lnTo>
                      <a:lnTo>
                        <a:pt x="35" y="97"/>
                      </a:lnTo>
                      <a:lnTo>
                        <a:pt x="16" y="134"/>
                      </a:lnTo>
                      <a:lnTo>
                        <a:pt x="8" y="153"/>
                      </a:lnTo>
                      <a:lnTo>
                        <a:pt x="4" y="175"/>
                      </a:lnTo>
                      <a:lnTo>
                        <a:pt x="0" y="219"/>
                      </a:lnTo>
                      <a:lnTo>
                        <a:pt x="0" y="241"/>
                      </a:lnTo>
                      <a:lnTo>
                        <a:pt x="4" y="262"/>
                      </a:lnTo>
                      <a:lnTo>
                        <a:pt x="8" y="283"/>
                      </a:lnTo>
                      <a:lnTo>
                        <a:pt x="16" y="303"/>
                      </a:lnTo>
                      <a:lnTo>
                        <a:pt x="24" y="321"/>
                      </a:lnTo>
                      <a:lnTo>
                        <a:pt x="35" y="340"/>
                      </a:lnTo>
                      <a:lnTo>
                        <a:pt x="48" y="357"/>
                      </a:lnTo>
                      <a:lnTo>
                        <a:pt x="65" y="376"/>
                      </a:lnTo>
                      <a:lnTo>
                        <a:pt x="81" y="390"/>
                      </a:lnTo>
                      <a:lnTo>
                        <a:pt x="98" y="403"/>
                      </a:lnTo>
                      <a:lnTo>
                        <a:pt x="116" y="413"/>
                      </a:lnTo>
                      <a:lnTo>
                        <a:pt x="135" y="423"/>
                      </a:lnTo>
                      <a:lnTo>
                        <a:pt x="154" y="430"/>
                      </a:lnTo>
                      <a:lnTo>
                        <a:pt x="176" y="436"/>
                      </a:lnTo>
                      <a:lnTo>
                        <a:pt x="197" y="439"/>
                      </a:lnTo>
                      <a:lnTo>
                        <a:pt x="220" y="440"/>
                      </a:lnTo>
                      <a:lnTo>
                        <a:pt x="225" y="439"/>
                      </a:lnTo>
                      <a:lnTo>
                        <a:pt x="230" y="439"/>
                      </a:lnTo>
                      <a:lnTo>
                        <a:pt x="242" y="439"/>
                      </a:lnTo>
                      <a:lnTo>
                        <a:pt x="252" y="437"/>
                      </a:lnTo>
                      <a:lnTo>
                        <a:pt x="263" y="436"/>
                      </a:lnTo>
                      <a:lnTo>
                        <a:pt x="284" y="430"/>
                      </a:lnTo>
                      <a:lnTo>
                        <a:pt x="304" y="423"/>
                      </a:lnTo>
                      <a:lnTo>
                        <a:pt x="322" y="413"/>
                      </a:lnTo>
                      <a:lnTo>
                        <a:pt x="331" y="407"/>
                      </a:lnTo>
                      <a:lnTo>
                        <a:pt x="341" y="403"/>
                      </a:lnTo>
                      <a:lnTo>
                        <a:pt x="349" y="396"/>
                      </a:lnTo>
                      <a:lnTo>
                        <a:pt x="358" y="390"/>
                      </a:lnTo>
                      <a:lnTo>
                        <a:pt x="377" y="376"/>
                      </a:lnTo>
                      <a:lnTo>
                        <a:pt x="381" y="369"/>
                      </a:lnTo>
                      <a:lnTo>
                        <a:pt x="383" y="365"/>
                      </a:lnTo>
                      <a:lnTo>
                        <a:pt x="387" y="363"/>
                      </a:lnTo>
                      <a:lnTo>
                        <a:pt x="398" y="351"/>
                      </a:lnTo>
                      <a:lnTo>
                        <a:pt x="391" y="310"/>
                      </a:lnTo>
                      <a:lnTo>
                        <a:pt x="383" y="321"/>
                      </a:lnTo>
                      <a:lnTo>
                        <a:pt x="379" y="327"/>
                      </a:lnTo>
                      <a:lnTo>
                        <a:pt x="375" y="334"/>
                      </a:lnTo>
                      <a:lnTo>
                        <a:pt x="357" y="356"/>
                      </a:lnTo>
                      <a:lnTo>
                        <a:pt x="341" y="369"/>
                      </a:lnTo>
                      <a:lnTo>
                        <a:pt x="327" y="380"/>
                      </a:lnTo>
                      <a:lnTo>
                        <a:pt x="310" y="389"/>
                      </a:lnTo>
                      <a:lnTo>
                        <a:pt x="294" y="397"/>
                      </a:lnTo>
                      <a:lnTo>
                        <a:pt x="276" y="403"/>
                      </a:lnTo>
                      <a:lnTo>
                        <a:pt x="258" y="407"/>
                      </a:lnTo>
                      <a:lnTo>
                        <a:pt x="252" y="407"/>
                      </a:lnTo>
                      <a:lnTo>
                        <a:pt x="247" y="409"/>
                      </a:lnTo>
                      <a:lnTo>
                        <a:pt x="238" y="411"/>
                      </a:lnTo>
                      <a:lnTo>
                        <a:pt x="220" y="412"/>
                      </a:lnTo>
                      <a:lnTo>
                        <a:pt x="200" y="411"/>
                      </a:lnTo>
                      <a:lnTo>
                        <a:pt x="182" y="407"/>
                      </a:lnTo>
                      <a:lnTo>
                        <a:pt x="163" y="403"/>
                      </a:lnTo>
                      <a:lnTo>
                        <a:pt x="146" y="397"/>
                      </a:lnTo>
                      <a:lnTo>
                        <a:pt x="129" y="389"/>
                      </a:lnTo>
                      <a:lnTo>
                        <a:pt x="114" y="380"/>
                      </a:lnTo>
                      <a:lnTo>
                        <a:pt x="98" y="369"/>
                      </a:lnTo>
                      <a:lnTo>
                        <a:pt x="84" y="356"/>
                      </a:lnTo>
                      <a:lnTo>
                        <a:pt x="69" y="340"/>
                      </a:lnTo>
                      <a:lnTo>
                        <a:pt x="58" y="326"/>
                      </a:lnTo>
                      <a:lnTo>
                        <a:pt x="48" y="309"/>
                      </a:lnTo>
                      <a:lnTo>
                        <a:pt x="41" y="293"/>
                      </a:lnTo>
                      <a:lnTo>
                        <a:pt x="34" y="275"/>
                      </a:lnTo>
                      <a:lnTo>
                        <a:pt x="31" y="257"/>
                      </a:lnTo>
                      <a:lnTo>
                        <a:pt x="27" y="237"/>
                      </a:lnTo>
                      <a:lnTo>
                        <a:pt x="27" y="219"/>
                      </a:lnTo>
                      <a:close/>
                    </a:path>
                  </a:pathLst>
                </a:custGeom>
                <a:solidFill>
                  <a:srgbClr val="4f7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867000" y="2990160"/>
                  <a:ext cx="104040" cy="110160"/>
                </a:xfrm>
                <a:custGeom>
                  <a:avLst/>
                  <a:gdLst/>
                  <a:ahLst/>
                  <a:rect l="l" t="t" r="r" b="b"/>
                  <a:pathLst>
                    <a:path w="364" h="386">
                      <a:moveTo>
                        <a:pt x="57" y="57"/>
                      </a:moveTo>
                      <a:lnTo>
                        <a:pt x="42" y="71"/>
                      </a:lnTo>
                      <a:lnTo>
                        <a:pt x="31" y="87"/>
                      </a:lnTo>
                      <a:lnTo>
                        <a:pt x="14" y="119"/>
                      </a:lnTo>
                      <a:lnTo>
                        <a:pt x="4" y="155"/>
                      </a:lnTo>
                      <a:lnTo>
                        <a:pt x="0" y="173"/>
                      </a:lnTo>
                      <a:lnTo>
                        <a:pt x="0" y="193"/>
                      </a:lnTo>
                      <a:lnTo>
                        <a:pt x="0" y="211"/>
                      </a:lnTo>
                      <a:lnTo>
                        <a:pt x="4" y="231"/>
                      </a:lnTo>
                      <a:lnTo>
                        <a:pt x="7" y="249"/>
                      </a:lnTo>
                      <a:lnTo>
                        <a:pt x="14" y="267"/>
                      </a:lnTo>
                      <a:lnTo>
                        <a:pt x="21" y="283"/>
                      </a:lnTo>
                      <a:lnTo>
                        <a:pt x="31" y="300"/>
                      </a:lnTo>
                      <a:lnTo>
                        <a:pt x="42" y="314"/>
                      </a:lnTo>
                      <a:lnTo>
                        <a:pt x="57" y="330"/>
                      </a:lnTo>
                      <a:lnTo>
                        <a:pt x="71" y="343"/>
                      </a:lnTo>
                      <a:lnTo>
                        <a:pt x="87" y="354"/>
                      </a:lnTo>
                      <a:lnTo>
                        <a:pt x="102" y="363"/>
                      </a:lnTo>
                      <a:lnTo>
                        <a:pt x="119" y="371"/>
                      </a:lnTo>
                      <a:lnTo>
                        <a:pt x="136" y="377"/>
                      </a:lnTo>
                      <a:lnTo>
                        <a:pt x="155" y="381"/>
                      </a:lnTo>
                      <a:lnTo>
                        <a:pt x="173" y="385"/>
                      </a:lnTo>
                      <a:lnTo>
                        <a:pt x="193" y="386"/>
                      </a:lnTo>
                      <a:lnTo>
                        <a:pt x="211" y="385"/>
                      </a:lnTo>
                      <a:lnTo>
                        <a:pt x="220" y="383"/>
                      </a:lnTo>
                      <a:lnTo>
                        <a:pt x="225" y="381"/>
                      </a:lnTo>
                      <a:lnTo>
                        <a:pt x="231" y="381"/>
                      </a:lnTo>
                      <a:lnTo>
                        <a:pt x="249" y="377"/>
                      </a:lnTo>
                      <a:lnTo>
                        <a:pt x="267" y="371"/>
                      </a:lnTo>
                      <a:lnTo>
                        <a:pt x="283" y="363"/>
                      </a:lnTo>
                      <a:lnTo>
                        <a:pt x="300" y="354"/>
                      </a:lnTo>
                      <a:lnTo>
                        <a:pt x="314" y="343"/>
                      </a:lnTo>
                      <a:lnTo>
                        <a:pt x="330" y="330"/>
                      </a:lnTo>
                      <a:lnTo>
                        <a:pt x="348" y="308"/>
                      </a:lnTo>
                      <a:lnTo>
                        <a:pt x="352" y="301"/>
                      </a:lnTo>
                      <a:lnTo>
                        <a:pt x="356" y="295"/>
                      </a:lnTo>
                      <a:lnTo>
                        <a:pt x="364" y="284"/>
                      </a:lnTo>
                      <a:lnTo>
                        <a:pt x="354" y="237"/>
                      </a:lnTo>
                      <a:lnTo>
                        <a:pt x="350" y="246"/>
                      </a:lnTo>
                      <a:lnTo>
                        <a:pt x="347" y="251"/>
                      </a:lnTo>
                      <a:lnTo>
                        <a:pt x="346" y="253"/>
                      </a:lnTo>
                      <a:lnTo>
                        <a:pt x="346" y="257"/>
                      </a:lnTo>
                      <a:lnTo>
                        <a:pt x="342" y="266"/>
                      </a:lnTo>
                      <a:lnTo>
                        <a:pt x="337" y="276"/>
                      </a:lnTo>
                      <a:lnTo>
                        <a:pt x="330" y="284"/>
                      </a:lnTo>
                      <a:lnTo>
                        <a:pt x="325" y="293"/>
                      </a:lnTo>
                      <a:lnTo>
                        <a:pt x="318" y="301"/>
                      </a:lnTo>
                      <a:lnTo>
                        <a:pt x="311" y="310"/>
                      </a:lnTo>
                      <a:lnTo>
                        <a:pt x="297" y="320"/>
                      </a:lnTo>
                      <a:lnTo>
                        <a:pt x="291" y="325"/>
                      </a:lnTo>
                      <a:lnTo>
                        <a:pt x="287" y="327"/>
                      </a:lnTo>
                      <a:lnTo>
                        <a:pt x="285" y="330"/>
                      </a:lnTo>
                      <a:lnTo>
                        <a:pt x="280" y="331"/>
                      </a:lnTo>
                      <a:lnTo>
                        <a:pt x="277" y="334"/>
                      </a:lnTo>
                      <a:lnTo>
                        <a:pt x="270" y="338"/>
                      </a:lnTo>
                      <a:lnTo>
                        <a:pt x="257" y="346"/>
                      </a:lnTo>
                      <a:lnTo>
                        <a:pt x="241" y="351"/>
                      </a:lnTo>
                      <a:lnTo>
                        <a:pt x="226" y="355"/>
                      </a:lnTo>
                      <a:lnTo>
                        <a:pt x="209" y="358"/>
                      </a:lnTo>
                      <a:lnTo>
                        <a:pt x="193" y="359"/>
                      </a:lnTo>
                      <a:lnTo>
                        <a:pt x="176" y="358"/>
                      </a:lnTo>
                      <a:lnTo>
                        <a:pt x="160" y="355"/>
                      </a:lnTo>
                      <a:lnTo>
                        <a:pt x="130" y="346"/>
                      </a:lnTo>
                      <a:lnTo>
                        <a:pt x="101" y="330"/>
                      </a:lnTo>
                      <a:lnTo>
                        <a:pt x="88" y="320"/>
                      </a:lnTo>
                      <a:lnTo>
                        <a:pt x="76" y="310"/>
                      </a:lnTo>
                      <a:lnTo>
                        <a:pt x="64" y="296"/>
                      </a:lnTo>
                      <a:lnTo>
                        <a:pt x="54" y="284"/>
                      </a:lnTo>
                      <a:lnTo>
                        <a:pt x="45" y="270"/>
                      </a:lnTo>
                      <a:lnTo>
                        <a:pt x="39" y="257"/>
                      </a:lnTo>
                      <a:lnTo>
                        <a:pt x="33" y="241"/>
                      </a:lnTo>
                      <a:lnTo>
                        <a:pt x="30" y="226"/>
                      </a:lnTo>
                      <a:lnTo>
                        <a:pt x="28" y="209"/>
                      </a:lnTo>
                      <a:lnTo>
                        <a:pt x="28" y="193"/>
                      </a:lnTo>
                      <a:lnTo>
                        <a:pt x="30" y="160"/>
                      </a:lnTo>
                      <a:lnTo>
                        <a:pt x="39" y="130"/>
                      </a:lnTo>
                      <a:lnTo>
                        <a:pt x="54" y="101"/>
                      </a:lnTo>
                      <a:lnTo>
                        <a:pt x="64" y="88"/>
                      </a:lnTo>
                      <a:lnTo>
                        <a:pt x="76" y="76"/>
                      </a:lnTo>
                      <a:lnTo>
                        <a:pt x="88" y="64"/>
                      </a:lnTo>
                      <a:lnTo>
                        <a:pt x="101" y="54"/>
                      </a:lnTo>
                      <a:lnTo>
                        <a:pt x="130" y="39"/>
                      </a:lnTo>
                      <a:lnTo>
                        <a:pt x="160" y="30"/>
                      </a:lnTo>
                      <a:lnTo>
                        <a:pt x="193" y="28"/>
                      </a:lnTo>
                      <a:lnTo>
                        <a:pt x="212" y="29"/>
                      </a:lnTo>
                      <a:lnTo>
                        <a:pt x="231" y="32"/>
                      </a:lnTo>
                      <a:lnTo>
                        <a:pt x="226" y="28"/>
                      </a:lnTo>
                      <a:lnTo>
                        <a:pt x="211" y="13"/>
                      </a:lnTo>
                      <a:lnTo>
                        <a:pt x="198" y="0"/>
                      </a:lnTo>
                      <a:lnTo>
                        <a:pt x="193" y="0"/>
                      </a:lnTo>
                      <a:lnTo>
                        <a:pt x="173" y="0"/>
                      </a:lnTo>
                      <a:lnTo>
                        <a:pt x="155" y="4"/>
                      </a:lnTo>
                      <a:lnTo>
                        <a:pt x="119" y="14"/>
                      </a:lnTo>
                      <a:lnTo>
                        <a:pt x="87" y="31"/>
                      </a:lnTo>
                      <a:lnTo>
                        <a:pt x="71" y="42"/>
                      </a:lnTo>
                      <a:lnTo>
                        <a:pt x="57" y="57"/>
                      </a:lnTo>
                      <a:close/>
                    </a:path>
                  </a:pathLst>
                </a:custGeom>
                <a:solidFill>
                  <a:srgbClr val="52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851160" y="2976480"/>
                  <a:ext cx="122400" cy="139680"/>
                </a:xfrm>
                <a:custGeom>
                  <a:avLst/>
                  <a:gdLst/>
                  <a:ahLst/>
                  <a:rect l="l" t="t" r="r" b="b"/>
                  <a:pathLst>
                    <a:path w="427" h="488">
                      <a:moveTo>
                        <a:pt x="27" y="240"/>
                      </a:moveTo>
                      <a:lnTo>
                        <a:pt x="31" y="196"/>
                      </a:lnTo>
                      <a:lnTo>
                        <a:pt x="35" y="174"/>
                      </a:lnTo>
                      <a:lnTo>
                        <a:pt x="43" y="155"/>
                      </a:lnTo>
                      <a:lnTo>
                        <a:pt x="62" y="118"/>
                      </a:lnTo>
                      <a:lnTo>
                        <a:pt x="75" y="101"/>
                      </a:lnTo>
                      <a:lnTo>
                        <a:pt x="92" y="85"/>
                      </a:lnTo>
                      <a:lnTo>
                        <a:pt x="120" y="60"/>
                      </a:lnTo>
                      <a:lnTo>
                        <a:pt x="151" y="42"/>
                      </a:lnTo>
                      <a:lnTo>
                        <a:pt x="184" y="28"/>
                      </a:lnTo>
                      <a:lnTo>
                        <a:pt x="219" y="21"/>
                      </a:lnTo>
                      <a:lnTo>
                        <a:pt x="187" y="0"/>
                      </a:lnTo>
                      <a:lnTo>
                        <a:pt x="154" y="9"/>
                      </a:lnTo>
                      <a:lnTo>
                        <a:pt x="126" y="22"/>
                      </a:lnTo>
                      <a:lnTo>
                        <a:pt x="97" y="41"/>
                      </a:lnTo>
                      <a:lnTo>
                        <a:pt x="72" y="64"/>
                      </a:lnTo>
                      <a:lnTo>
                        <a:pt x="55" y="83"/>
                      </a:lnTo>
                      <a:lnTo>
                        <a:pt x="41" y="102"/>
                      </a:lnTo>
                      <a:lnTo>
                        <a:pt x="28" y="122"/>
                      </a:lnTo>
                      <a:lnTo>
                        <a:pt x="18" y="145"/>
                      </a:lnTo>
                      <a:lnTo>
                        <a:pt x="10" y="166"/>
                      </a:lnTo>
                      <a:lnTo>
                        <a:pt x="4" y="190"/>
                      </a:lnTo>
                      <a:lnTo>
                        <a:pt x="1" y="214"/>
                      </a:lnTo>
                      <a:lnTo>
                        <a:pt x="0" y="240"/>
                      </a:lnTo>
                      <a:lnTo>
                        <a:pt x="1" y="264"/>
                      </a:lnTo>
                      <a:lnTo>
                        <a:pt x="4" y="289"/>
                      </a:lnTo>
                      <a:lnTo>
                        <a:pt x="10" y="312"/>
                      </a:lnTo>
                      <a:lnTo>
                        <a:pt x="18" y="335"/>
                      </a:lnTo>
                      <a:lnTo>
                        <a:pt x="28" y="356"/>
                      </a:lnTo>
                      <a:lnTo>
                        <a:pt x="41" y="377"/>
                      </a:lnTo>
                      <a:lnTo>
                        <a:pt x="55" y="397"/>
                      </a:lnTo>
                      <a:lnTo>
                        <a:pt x="72" y="416"/>
                      </a:lnTo>
                      <a:lnTo>
                        <a:pt x="91" y="433"/>
                      </a:lnTo>
                      <a:lnTo>
                        <a:pt x="110" y="448"/>
                      </a:lnTo>
                      <a:lnTo>
                        <a:pt x="130" y="460"/>
                      </a:lnTo>
                      <a:lnTo>
                        <a:pt x="152" y="470"/>
                      </a:lnTo>
                      <a:lnTo>
                        <a:pt x="173" y="478"/>
                      </a:lnTo>
                      <a:lnTo>
                        <a:pt x="197" y="484"/>
                      </a:lnTo>
                      <a:lnTo>
                        <a:pt x="221" y="487"/>
                      </a:lnTo>
                      <a:lnTo>
                        <a:pt x="247" y="488"/>
                      </a:lnTo>
                      <a:lnTo>
                        <a:pt x="258" y="487"/>
                      </a:lnTo>
                      <a:lnTo>
                        <a:pt x="271" y="487"/>
                      </a:lnTo>
                      <a:lnTo>
                        <a:pt x="296" y="484"/>
                      </a:lnTo>
                      <a:lnTo>
                        <a:pt x="319" y="478"/>
                      </a:lnTo>
                      <a:lnTo>
                        <a:pt x="330" y="474"/>
                      </a:lnTo>
                      <a:lnTo>
                        <a:pt x="336" y="471"/>
                      </a:lnTo>
                      <a:lnTo>
                        <a:pt x="342" y="470"/>
                      </a:lnTo>
                      <a:lnTo>
                        <a:pt x="363" y="460"/>
                      </a:lnTo>
                      <a:lnTo>
                        <a:pt x="373" y="453"/>
                      </a:lnTo>
                      <a:lnTo>
                        <a:pt x="384" y="448"/>
                      </a:lnTo>
                      <a:lnTo>
                        <a:pt x="393" y="440"/>
                      </a:lnTo>
                      <a:lnTo>
                        <a:pt x="404" y="433"/>
                      </a:lnTo>
                      <a:lnTo>
                        <a:pt x="413" y="424"/>
                      </a:lnTo>
                      <a:lnTo>
                        <a:pt x="417" y="419"/>
                      </a:lnTo>
                      <a:lnTo>
                        <a:pt x="419" y="417"/>
                      </a:lnTo>
                      <a:lnTo>
                        <a:pt x="421" y="416"/>
                      </a:lnTo>
                      <a:lnTo>
                        <a:pt x="423" y="416"/>
                      </a:lnTo>
                      <a:lnTo>
                        <a:pt x="427" y="411"/>
                      </a:lnTo>
                      <a:lnTo>
                        <a:pt x="425" y="372"/>
                      </a:lnTo>
                      <a:lnTo>
                        <a:pt x="414" y="384"/>
                      </a:lnTo>
                      <a:lnTo>
                        <a:pt x="410" y="386"/>
                      </a:lnTo>
                      <a:lnTo>
                        <a:pt x="408" y="390"/>
                      </a:lnTo>
                      <a:lnTo>
                        <a:pt x="404" y="397"/>
                      </a:lnTo>
                      <a:lnTo>
                        <a:pt x="385" y="411"/>
                      </a:lnTo>
                      <a:lnTo>
                        <a:pt x="376" y="417"/>
                      </a:lnTo>
                      <a:lnTo>
                        <a:pt x="368" y="424"/>
                      </a:lnTo>
                      <a:lnTo>
                        <a:pt x="358" y="428"/>
                      </a:lnTo>
                      <a:lnTo>
                        <a:pt x="349" y="434"/>
                      </a:lnTo>
                      <a:lnTo>
                        <a:pt x="331" y="444"/>
                      </a:lnTo>
                      <a:lnTo>
                        <a:pt x="311" y="451"/>
                      </a:lnTo>
                      <a:lnTo>
                        <a:pt x="290" y="457"/>
                      </a:lnTo>
                      <a:lnTo>
                        <a:pt x="279" y="458"/>
                      </a:lnTo>
                      <a:lnTo>
                        <a:pt x="269" y="460"/>
                      </a:lnTo>
                      <a:lnTo>
                        <a:pt x="257" y="460"/>
                      </a:lnTo>
                      <a:lnTo>
                        <a:pt x="252" y="460"/>
                      </a:lnTo>
                      <a:lnTo>
                        <a:pt x="247" y="461"/>
                      </a:lnTo>
                      <a:lnTo>
                        <a:pt x="224" y="460"/>
                      </a:lnTo>
                      <a:lnTo>
                        <a:pt x="203" y="457"/>
                      </a:lnTo>
                      <a:lnTo>
                        <a:pt x="181" y="451"/>
                      </a:lnTo>
                      <a:lnTo>
                        <a:pt x="162" y="444"/>
                      </a:lnTo>
                      <a:lnTo>
                        <a:pt x="143" y="434"/>
                      </a:lnTo>
                      <a:lnTo>
                        <a:pt x="125" y="424"/>
                      </a:lnTo>
                      <a:lnTo>
                        <a:pt x="108" y="411"/>
                      </a:lnTo>
                      <a:lnTo>
                        <a:pt x="92" y="397"/>
                      </a:lnTo>
                      <a:lnTo>
                        <a:pt x="75" y="378"/>
                      </a:lnTo>
                      <a:lnTo>
                        <a:pt x="62" y="361"/>
                      </a:lnTo>
                      <a:lnTo>
                        <a:pt x="51" y="342"/>
                      </a:lnTo>
                      <a:lnTo>
                        <a:pt x="43" y="324"/>
                      </a:lnTo>
                      <a:lnTo>
                        <a:pt x="35" y="304"/>
                      </a:lnTo>
                      <a:lnTo>
                        <a:pt x="31" y="283"/>
                      </a:lnTo>
                      <a:lnTo>
                        <a:pt x="27" y="262"/>
                      </a:lnTo>
                      <a:lnTo>
                        <a:pt x="27" y="240"/>
                      </a:lnTo>
                      <a:close/>
                    </a:path>
                  </a:pathLst>
                </a:custGeom>
                <a:solidFill>
                  <a:srgbClr val="4c7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843240" y="2971440"/>
                  <a:ext cx="130680" cy="153000"/>
                </a:xfrm>
                <a:custGeom>
                  <a:avLst/>
                  <a:gdLst/>
                  <a:ahLst/>
                  <a:rect l="l" t="t" r="r" b="b"/>
                  <a:pathLst>
                    <a:path w="456" h="536">
                      <a:moveTo>
                        <a:pt x="28" y="259"/>
                      </a:moveTo>
                      <a:lnTo>
                        <a:pt x="29" y="233"/>
                      </a:lnTo>
                      <a:lnTo>
                        <a:pt x="32" y="209"/>
                      </a:lnTo>
                      <a:lnTo>
                        <a:pt x="38" y="185"/>
                      </a:lnTo>
                      <a:lnTo>
                        <a:pt x="46" y="164"/>
                      </a:lnTo>
                      <a:lnTo>
                        <a:pt x="56" y="141"/>
                      </a:lnTo>
                      <a:lnTo>
                        <a:pt x="69" y="121"/>
                      </a:lnTo>
                      <a:lnTo>
                        <a:pt x="83" y="102"/>
                      </a:lnTo>
                      <a:lnTo>
                        <a:pt x="100" y="83"/>
                      </a:lnTo>
                      <a:lnTo>
                        <a:pt x="125" y="60"/>
                      </a:lnTo>
                      <a:lnTo>
                        <a:pt x="154" y="41"/>
                      </a:lnTo>
                      <a:lnTo>
                        <a:pt x="182" y="28"/>
                      </a:lnTo>
                      <a:lnTo>
                        <a:pt x="215" y="19"/>
                      </a:lnTo>
                      <a:lnTo>
                        <a:pt x="181" y="0"/>
                      </a:lnTo>
                      <a:lnTo>
                        <a:pt x="153" y="10"/>
                      </a:lnTo>
                      <a:lnTo>
                        <a:pt x="128" y="24"/>
                      </a:lnTo>
                      <a:lnTo>
                        <a:pt x="103" y="43"/>
                      </a:lnTo>
                      <a:lnTo>
                        <a:pt x="80" y="64"/>
                      </a:lnTo>
                      <a:lnTo>
                        <a:pt x="61" y="85"/>
                      </a:lnTo>
                      <a:lnTo>
                        <a:pt x="44" y="106"/>
                      </a:lnTo>
                      <a:lnTo>
                        <a:pt x="29" y="129"/>
                      </a:lnTo>
                      <a:lnTo>
                        <a:pt x="19" y="154"/>
                      </a:lnTo>
                      <a:lnTo>
                        <a:pt x="10" y="178"/>
                      </a:lnTo>
                      <a:lnTo>
                        <a:pt x="4" y="204"/>
                      </a:lnTo>
                      <a:lnTo>
                        <a:pt x="1" y="231"/>
                      </a:lnTo>
                      <a:lnTo>
                        <a:pt x="0" y="259"/>
                      </a:lnTo>
                      <a:lnTo>
                        <a:pt x="1" y="286"/>
                      </a:lnTo>
                      <a:lnTo>
                        <a:pt x="4" y="314"/>
                      </a:lnTo>
                      <a:lnTo>
                        <a:pt x="10" y="339"/>
                      </a:lnTo>
                      <a:lnTo>
                        <a:pt x="13" y="351"/>
                      </a:lnTo>
                      <a:lnTo>
                        <a:pt x="19" y="365"/>
                      </a:lnTo>
                      <a:lnTo>
                        <a:pt x="29" y="387"/>
                      </a:lnTo>
                      <a:lnTo>
                        <a:pt x="44" y="411"/>
                      </a:lnTo>
                      <a:lnTo>
                        <a:pt x="61" y="433"/>
                      </a:lnTo>
                      <a:lnTo>
                        <a:pt x="80" y="454"/>
                      </a:lnTo>
                      <a:lnTo>
                        <a:pt x="100" y="472"/>
                      </a:lnTo>
                      <a:lnTo>
                        <a:pt x="122" y="489"/>
                      </a:lnTo>
                      <a:lnTo>
                        <a:pt x="145" y="503"/>
                      </a:lnTo>
                      <a:lnTo>
                        <a:pt x="170" y="515"/>
                      </a:lnTo>
                      <a:lnTo>
                        <a:pt x="193" y="523"/>
                      </a:lnTo>
                      <a:lnTo>
                        <a:pt x="220" y="530"/>
                      </a:lnTo>
                      <a:lnTo>
                        <a:pt x="247" y="534"/>
                      </a:lnTo>
                      <a:lnTo>
                        <a:pt x="275" y="536"/>
                      </a:lnTo>
                      <a:lnTo>
                        <a:pt x="300" y="535"/>
                      </a:lnTo>
                      <a:lnTo>
                        <a:pt x="325" y="531"/>
                      </a:lnTo>
                      <a:lnTo>
                        <a:pt x="336" y="528"/>
                      </a:lnTo>
                      <a:lnTo>
                        <a:pt x="349" y="526"/>
                      </a:lnTo>
                      <a:lnTo>
                        <a:pt x="373" y="519"/>
                      </a:lnTo>
                      <a:lnTo>
                        <a:pt x="377" y="515"/>
                      </a:lnTo>
                      <a:lnTo>
                        <a:pt x="383" y="513"/>
                      </a:lnTo>
                      <a:lnTo>
                        <a:pt x="394" y="509"/>
                      </a:lnTo>
                      <a:lnTo>
                        <a:pt x="416" y="497"/>
                      </a:lnTo>
                      <a:lnTo>
                        <a:pt x="436" y="484"/>
                      </a:lnTo>
                      <a:lnTo>
                        <a:pt x="456" y="469"/>
                      </a:lnTo>
                      <a:lnTo>
                        <a:pt x="456" y="450"/>
                      </a:lnTo>
                      <a:lnTo>
                        <a:pt x="455" y="430"/>
                      </a:lnTo>
                      <a:lnTo>
                        <a:pt x="451" y="435"/>
                      </a:lnTo>
                      <a:lnTo>
                        <a:pt x="449" y="435"/>
                      </a:lnTo>
                      <a:lnTo>
                        <a:pt x="447" y="436"/>
                      </a:lnTo>
                      <a:lnTo>
                        <a:pt x="445" y="438"/>
                      </a:lnTo>
                      <a:lnTo>
                        <a:pt x="441" y="443"/>
                      </a:lnTo>
                      <a:lnTo>
                        <a:pt x="432" y="452"/>
                      </a:lnTo>
                      <a:lnTo>
                        <a:pt x="421" y="459"/>
                      </a:lnTo>
                      <a:lnTo>
                        <a:pt x="412" y="467"/>
                      </a:lnTo>
                      <a:lnTo>
                        <a:pt x="401" y="472"/>
                      </a:lnTo>
                      <a:lnTo>
                        <a:pt x="391" y="479"/>
                      </a:lnTo>
                      <a:lnTo>
                        <a:pt x="370" y="489"/>
                      </a:lnTo>
                      <a:lnTo>
                        <a:pt x="364" y="490"/>
                      </a:lnTo>
                      <a:lnTo>
                        <a:pt x="358" y="493"/>
                      </a:lnTo>
                      <a:lnTo>
                        <a:pt x="347" y="497"/>
                      </a:lnTo>
                      <a:lnTo>
                        <a:pt x="324" y="503"/>
                      </a:lnTo>
                      <a:lnTo>
                        <a:pt x="299" y="506"/>
                      </a:lnTo>
                      <a:lnTo>
                        <a:pt x="286" y="506"/>
                      </a:lnTo>
                      <a:lnTo>
                        <a:pt x="275" y="507"/>
                      </a:lnTo>
                      <a:lnTo>
                        <a:pt x="249" y="506"/>
                      </a:lnTo>
                      <a:lnTo>
                        <a:pt x="225" y="503"/>
                      </a:lnTo>
                      <a:lnTo>
                        <a:pt x="201" y="497"/>
                      </a:lnTo>
                      <a:lnTo>
                        <a:pt x="180" y="489"/>
                      </a:lnTo>
                      <a:lnTo>
                        <a:pt x="158" y="479"/>
                      </a:lnTo>
                      <a:lnTo>
                        <a:pt x="138" y="467"/>
                      </a:lnTo>
                      <a:lnTo>
                        <a:pt x="119" y="452"/>
                      </a:lnTo>
                      <a:lnTo>
                        <a:pt x="100" y="435"/>
                      </a:lnTo>
                      <a:lnTo>
                        <a:pt x="83" y="416"/>
                      </a:lnTo>
                      <a:lnTo>
                        <a:pt x="69" y="396"/>
                      </a:lnTo>
                      <a:lnTo>
                        <a:pt x="56" y="375"/>
                      </a:lnTo>
                      <a:lnTo>
                        <a:pt x="46" y="354"/>
                      </a:lnTo>
                      <a:lnTo>
                        <a:pt x="38" y="331"/>
                      </a:lnTo>
                      <a:lnTo>
                        <a:pt x="32" y="308"/>
                      </a:lnTo>
                      <a:lnTo>
                        <a:pt x="29" y="283"/>
                      </a:lnTo>
                      <a:lnTo>
                        <a:pt x="28" y="259"/>
                      </a:lnTo>
                      <a:close/>
                    </a:path>
                  </a:pathLst>
                </a:custGeom>
                <a:solidFill>
                  <a:srgbClr val="496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6780240" y="2956320"/>
                <a:ext cx="172080" cy="231120"/>
              </a:xfrm>
              <a:custGeom>
                <a:avLst/>
                <a:gdLst/>
                <a:ahLst/>
                <a:rect l="l" t="t" r="r" b="b"/>
                <a:pathLst>
                  <a:path w="601" h="810">
                    <a:moveTo>
                      <a:pt x="107" y="4"/>
                    </a:moveTo>
                    <a:lnTo>
                      <a:pt x="81" y="37"/>
                    </a:lnTo>
                    <a:lnTo>
                      <a:pt x="60" y="72"/>
                    </a:lnTo>
                    <a:lnTo>
                      <a:pt x="40" y="108"/>
                    </a:lnTo>
                    <a:lnTo>
                      <a:pt x="26" y="146"/>
                    </a:lnTo>
                    <a:lnTo>
                      <a:pt x="13" y="185"/>
                    </a:lnTo>
                    <a:lnTo>
                      <a:pt x="5" y="227"/>
                    </a:lnTo>
                    <a:lnTo>
                      <a:pt x="1" y="269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4" y="387"/>
                    </a:lnTo>
                    <a:lnTo>
                      <a:pt x="9" y="412"/>
                    </a:lnTo>
                    <a:lnTo>
                      <a:pt x="13" y="434"/>
                    </a:lnTo>
                    <a:lnTo>
                      <a:pt x="20" y="458"/>
                    </a:lnTo>
                    <a:lnTo>
                      <a:pt x="36" y="504"/>
                    </a:lnTo>
                    <a:lnTo>
                      <a:pt x="45" y="524"/>
                    </a:lnTo>
                    <a:lnTo>
                      <a:pt x="56" y="546"/>
                    </a:lnTo>
                    <a:lnTo>
                      <a:pt x="68" y="566"/>
                    </a:lnTo>
                    <a:lnTo>
                      <a:pt x="81" y="588"/>
                    </a:lnTo>
                    <a:lnTo>
                      <a:pt x="95" y="607"/>
                    </a:lnTo>
                    <a:lnTo>
                      <a:pt x="111" y="627"/>
                    </a:lnTo>
                    <a:lnTo>
                      <a:pt x="127" y="645"/>
                    </a:lnTo>
                    <a:lnTo>
                      <a:pt x="145" y="665"/>
                    </a:lnTo>
                    <a:lnTo>
                      <a:pt x="181" y="699"/>
                    </a:lnTo>
                    <a:lnTo>
                      <a:pt x="221" y="728"/>
                    </a:lnTo>
                    <a:lnTo>
                      <a:pt x="260" y="753"/>
                    </a:lnTo>
                    <a:lnTo>
                      <a:pt x="305" y="773"/>
                    </a:lnTo>
                    <a:lnTo>
                      <a:pt x="349" y="789"/>
                    </a:lnTo>
                    <a:lnTo>
                      <a:pt x="395" y="801"/>
                    </a:lnTo>
                    <a:lnTo>
                      <a:pt x="444" y="807"/>
                    </a:lnTo>
                    <a:lnTo>
                      <a:pt x="495" y="810"/>
                    </a:lnTo>
                    <a:lnTo>
                      <a:pt x="515" y="809"/>
                    </a:lnTo>
                    <a:lnTo>
                      <a:pt x="520" y="807"/>
                    </a:lnTo>
                    <a:lnTo>
                      <a:pt x="526" y="807"/>
                    </a:lnTo>
                    <a:lnTo>
                      <a:pt x="537" y="807"/>
                    </a:lnTo>
                    <a:lnTo>
                      <a:pt x="578" y="803"/>
                    </a:lnTo>
                    <a:lnTo>
                      <a:pt x="601" y="771"/>
                    </a:lnTo>
                    <a:lnTo>
                      <a:pt x="574" y="776"/>
                    </a:lnTo>
                    <a:lnTo>
                      <a:pt x="561" y="777"/>
                    </a:lnTo>
                    <a:lnTo>
                      <a:pt x="548" y="779"/>
                    </a:lnTo>
                    <a:lnTo>
                      <a:pt x="521" y="781"/>
                    </a:lnTo>
                    <a:lnTo>
                      <a:pt x="508" y="781"/>
                    </a:lnTo>
                    <a:lnTo>
                      <a:pt x="501" y="781"/>
                    </a:lnTo>
                    <a:lnTo>
                      <a:pt x="497" y="781"/>
                    </a:lnTo>
                    <a:lnTo>
                      <a:pt x="495" y="783"/>
                    </a:lnTo>
                    <a:lnTo>
                      <a:pt x="446" y="780"/>
                    </a:lnTo>
                    <a:lnTo>
                      <a:pt x="401" y="773"/>
                    </a:lnTo>
                    <a:lnTo>
                      <a:pt x="357" y="762"/>
                    </a:lnTo>
                    <a:lnTo>
                      <a:pt x="315" y="747"/>
                    </a:lnTo>
                    <a:lnTo>
                      <a:pt x="273" y="727"/>
                    </a:lnTo>
                    <a:lnTo>
                      <a:pt x="235" y="704"/>
                    </a:lnTo>
                    <a:lnTo>
                      <a:pt x="198" y="677"/>
                    </a:lnTo>
                    <a:lnTo>
                      <a:pt x="164" y="645"/>
                    </a:lnTo>
                    <a:lnTo>
                      <a:pt x="130" y="609"/>
                    </a:lnTo>
                    <a:lnTo>
                      <a:pt x="115" y="590"/>
                    </a:lnTo>
                    <a:lnTo>
                      <a:pt x="103" y="572"/>
                    </a:lnTo>
                    <a:lnTo>
                      <a:pt x="79" y="533"/>
                    </a:lnTo>
                    <a:lnTo>
                      <a:pt x="69" y="513"/>
                    </a:lnTo>
                    <a:lnTo>
                      <a:pt x="61" y="493"/>
                    </a:lnTo>
                    <a:lnTo>
                      <a:pt x="45" y="450"/>
                    </a:lnTo>
                    <a:lnTo>
                      <a:pt x="35" y="406"/>
                    </a:lnTo>
                    <a:lnTo>
                      <a:pt x="30" y="382"/>
                    </a:lnTo>
                    <a:lnTo>
                      <a:pt x="28" y="360"/>
                    </a:lnTo>
                    <a:lnTo>
                      <a:pt x="27" y="313"/>
                    </a:lnTo>
                    <a:lnTo>
                      <a:pt x="28" y="268"/>
                    </a:lnTo>
                    <a:lnTo>
                      <a:pt x="34" y="225"/>
                    </a:lnTo>
                    <a:lnTo>
                      <a:pt x="43" y="183"/>
                    </a:lnTo>
                    <a:lnTo>
                      <a:pt x="56" y="144"/>
                    </a:lnTo>
                    <a:lnTo>
                      <a:pt x="72" y="105"/>
                    </a:lnTo>
                    <a:lnTo>
                      <a:pt x="94" y="68"/>
                    </a:lnTo>
                    <a:lnTo>
                      <a:pt x="118" y="33"/>
                    </a:lnTo>
                    <a:lnTo>
                      <a:pt x="147" y="0"/>
                    </a:lnTo>
                    <a:lnTo>
                      <a:pt x="107" y="4"/>
                    </a:lnTo>
                    <a:close/>
                  </a:path>
                </a:pathLst>
              </a:custGeom>
              <a:solidFill>
                <a:srgbClr val="2f4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874560" y="2998440"/>
                <a:ext cx="93600" cy="93960"/>
              </a:xfrm>
              <a:custGeom>
                <a:avLst/>
                <a:gdLst/>
                <a:ahLst/>
                <a:rect l="l" t="t" r="r" b="b"/>
                <a:pathLst>
                  <a:path w="326" h="331">
                    <a:moveTo>
                      <a:pt x="203" y="4"/>
                    </a:moveTo>
                    <a:lnTo>
                      <a:pt x="184" y="1"/>
                    </a:lnTo>
                    <a:lnTo>
                      <a:pt x="165" y="0"/>
                    </a:lnTo>
                    <a:lnTo>
                      <a:pt x="132" y="2"/>
                    </a:lnTo>
                    <a:lnTo>
                      <a:pt x="102" y="11"/>
                    </a:lnTo>
                    <a:lnTo>
                      <a:pt x="73" y="26"/>
                    </a:lnTo>
                    <a:lnTo>
                      <a:pt x="60" y="36"/>
                    </a:lnTo>
                    <a:lnTo>
                      <a:pt x="48" y="48"/>
                    </a:lnTo>
                    <a:lnTo>
                      <a:pt x="36" y="60"/>
                    </a:lnTo>
                    <a:lnTo>
                      <a:pt x="26" y="73"/>
                    </a:lnTo>
                    <a:lnTo>
                      <a:pt x="11" y="102"/>
                    </a:lnTo>
                    <a:lnTo>
                      <a:pt x="2" y="132"/>
                    </a:lnTo>
                    <a:lnTo>
                      <a:pt x="0" y="165"/>
                    </a:lnTo>
                    <a:lnTo>
                      <a:pt x="0" y="181"/>
                    </a:lnTo>
                    <a:lnTo>
                      <a:pt x="2" y="198"/>
                    </a:lnTo>
                    <a:lnTo>
                      <a:pt x="5" y="213"/>
                    </a:lnTo>
                    <a:lnTo>
                      <a:pt x="11" y="229"/>
                    </a:lnTo>
                    <a:lnTo>
                      <a:pt x="17" y="242"/>
                    </a:lnTo>
                    <a:lnTo>
                      <a:pt x="26" y="256"/>
                    </a:lnTo>
                    <a:lnTo>
                      <a:pt x="36" y="268"/>
                    </a:lnTo>
                    <a:lnTo>
                      <a:pt x="48" y="282"/>
                    </a:lnTo>
                    <a:lnTo>
                      <a:pt x="60" y="292"/>
                    </a:lnTo>
                    <a:lnTo>
                      <a:pt x="73" y="302"/>
                    </a:lnTo>
                    <a:lnTo>
                      <a:pt x="102" y="318"/>
                    </a:lnTo>
                    <a:lnTo>
                      <a:pt x="132" y="327"/>
                    </a:lnTo>
                    <a:lnTo>
                      <a:pt x="148" y="330"/>
                    </a:lnTo>
                    <a:lnTo>
                      <a:pt x="165" y="331"/>
                    </a:lnTo>
                    <a:lnTo>
                      <a:pt x="181" y="330"/>
                    </a:lnTo>
                    <a:lnTo>
                      <a:pt x="198" y="327"/>
                    </a:lnTo>
                    <a:lnTo>
                      <a:pt x="213" y="323"/>
                    </a:lnTo>
                    <a:lnTo>
                      <a:pt x="229" y="318"/>
                    </a:lnTo>
                    <a:lnTo>
                      <a:pt x="242" y="310"/>
                    </a:lnTo>
                    <a:lnTo>
                      <a:pt x="249" y="306"/>
                    </a:lnTo>
                    <a:lnTo>
                      <a:pt x="252" y="303"/>
                    </a:lnTo>
                    <a:lnTo>
                      <a:pt x="257" y="302"/>
                    </a:lnTo>
                    <a:lnTo>
                      <a:pt x="259" y="299"/>
                    </a:lnTo>
                    <a:lnTo>
                      <a:pt x="263" y="297"/>
                    </a:lnTo>
                    <a:lnTo>
                      <a:pt x="269" y="292"/>
                    </a:lnTo>
                    <a:lnTo>
                      <a:pt x="283" y="282"/>
                    </a:lnTo>
                    <a:lnTo>
                      <a:pt x="290" y="273"/>
                    </a:lnTo>
                    <a:lnTo>
                      <a:pt x="297" y="265"/>
                    </a:lnTo>
                    <a:lnTo>
                      <a:pt x="302" y="256"/>
                    </a:lnTo>
                    <a:lnTo>
                      <a:pt x="309" y="248"/>
                    </a:lnTo>
                    <a:lnTo>
                      <a:pt x="314" y="238"/>
                    </a:lnTo>
                    <a:lnTo>
                      <a:pt x="318" y="229"/>
                    </a:lnTo>
                    <a:lnTo>
                      <a:pt x="318" y="225"/>
                    </a:lnTo>
                    <a:lnTo>
                      <a:pt x="319" y="223"/>
                    </a:lnTo>
                    <a:lnTo>
                      <a:pt x="322" y="218"/>
                    </a:lnTo>
                    <a:lnTo>
                      <a:pt x="326" y="209"/>
                    </a:lnTo>
                    <a:lnTo>
                      <a:pt x="315" y="178"/>
                    </a:lnTo>
                    <a:lnTo>
                      <a:pt x="302" y="146"/>
                    </a:lnTo>
                    <a:lnTo>
                      <a:pt x="302" y="155"/>
                    </a:lnTo>
                    <a:lnTo>
                      <a:pt x="302" y="159"/>
                    </a:lnTo>
                    <a:lnTo>
                      <a:pt x="302" y="162"/>
                    </a:lnTo>
                    <a:lnTo>
                      <a:pt x="302" y="163"/>
                    </a:lnTo>
                    <a:lnTo>
                      <a:pt x="303" y="165"/>
                    </a:lnTo>
                    <a:lnTo>
                      <a:pt x="302" y="167"/>
                    </a:lnTo>
                    <a:lnTo>
                      <a:pt x="302" y="171"/>
                    </a:lnTo>
                    <a:lnTo>
                      <a:pt x="302" y="178"/>
                    </a:lnTo>
                    <a:lnTo>
                      <a:pt x="300" y="191"/>
                    </a:lnTo>
                    <a:lnTo>
                      <a:pt x="298" y="197"/>
                    </a:lnTo>
                    <a:lnTo>
                      <a:pt x="297" y="204"/>
                    </a:lnTo>
                    <a:lnTo>
                      <a:pt x="293" y="217"/>
                    </a:lnTo>
                    <a:lnTo>
                      <a:pt x="286" y="229"/>
                    </a:lnTo>
                    <a:lnTo>
                      <a:pt x="280" y="241"/>
                    </a:lnTo>
                    <a:lnTo>
                      <a:pt x="275" y="246"/>
                    </a:lnTo>
                    <a:lnTo>
                      <a:pt x="273" y="248"/>
                    </a:lnTo>
                    <a:lnTo>
                      <a:pt x="272" y="248"/>
                    </a:lnTo>
                    <a:lnTo>
                      <a:pt x="272" y="249"/>
                    </a:lnTo>
                    <a:lnTo>
                      <a:pt x="272" y="251"/>
                    </a:lnTo>
                    <a:lnTo>
                      <a:pt x="263" y="263"/>
                    </a:lnTo>
                    <a:lnTo>
                      <a:pt x="251" y="272"/>
                    </a:lnTo>
                    <a:lnTo>
                      <a:pt x="249" y="272"/>
                    </a:lnTo>
                    <a:lnTo>
                      <a:pt x="248" y="272"/>
                    </a:lnTo>
                    <a:lnTo>
                      <a:pt x="248" y="273"/>
                    </a:lnTo>
                    <a:lnTo>
                      <a:pt x="246" y="275"/>
                    </a:lnTo>
                    <a:lnTo>
                      <a:pt x="241" y="280"/>
                    </a:lnTo>
                    <a:lnTo>
                      <a:pt x="229" y="286"/>
                    </a:lnTo>
                    <a:lnTo>
                      <a:pt x="217" y="293"/>
                    </a:lnTo>
                    <a:lnTo>
                      <a:pt x="204" y="297"/>
                    </a:lnTo>
                    <a:lnTo>
                      <a:pt x="197" y="298"/>
                    </a:lnTo>
                    <a:lnTo>
                      <a:pt x="191" y="300"/>
                    </a:lnTo>
                    <a:lnTo>
                      <a:pt x="178" y="302"/>
                    </a:lnTo>
                    <a:lnTo>
                      <a:pt x="171" y="302"/>
                    </a:lnTo>
                    <a:lnTo>
                      <a:pt x="167" y="302"/>
                    </a:lnTo>
                    <a:lnTo>
                      <a:pt x="165" y="303"/>
                    </a:lnTo>
                    <a:lnTo>
                      <a:pt x="150" y="302"/>
                    </a:lnTo>
                    <a:lnTo>
                      <a:pt x="137" y="300"/>
                    </a:lnTo>
                    <a:lnTo>
                      <a:pt x="112" y="293"/>
                    </a:lnTo>
                    <a:lnTo>
                      <a:pt x="88" y="280"/>
                    </a:lnTo>
                    <a:lnTo>
                      <a:pt x="77" y="272"/>
                    </a:lnTo>
                    <a:lnTo>
                      <a:pt x="68" y="263"/>
                    </a:lnTo>
                    <a:lnTo>
                      <a:pt x="57" y="251"/>
                    </a:lnTo>
                    <a:lnTo>
                      <a:pt x="49" y="241"/>
                    </a:lnTo>
                    <a:lnTo>
                      <a:pt x="42" y="229"/>
                    </a:lnTo>
                    <a:lnTo>
                      <a:pt x="37" y="217"/>
                    </a:lnTo>
                    <a:lnTo>
                      <a:pt x="32" y="204"/>
                    </a:lnTo>
                    <a:lnTo>
                      <a:pt x="30" y="191"/>
                    </a:lnTo>
                    <a:lnTo>
                      <a:pt x="28" y="178"/>
                    </a:lnTo>
                    <a:lnTo>
                      <a:pt x="28" y="165"/>
                    </a:lnTo>
                    <a:lnTo>
                      <a:pt x="30" y="137"/>
                    </a:lnTo>
                    <a:lnTo>
                      <a:pt x="37" y="112"/>
                    </a:lnTo>
                    <a:lnTo>
                      <a:pt x="49" y="88"/>
                    </a:lnTo>
                    <a:lnTo>
                      <a:pt x="68" y="68"/>
                    </a:lnTo>
                    <a:lnTo>
                      <a:pt x="88" y="50"/>
                    </a:lnTo>
                    <a:lnTo>
                      <a:pt x="112" y="37"/>
                    </a:lnTo>
                    <a:lnTo>
                      <a:pt x="137" y="30"/>
                    </a:lnTo>
                    <a:lnTo>
                      <a:pt x="165" y="28"/>
                    </a:lnTo>
                    <a:lnTo>
                      <a:pt x="187" y="29"/>
                    </a:lnTo>
                    <a:lnTo>
                      <a:pt x="207" y="34"/>
                    </a:lnTo>
                    <a:lnTo>
                      <a:pt x="226" y="42"/>
                    </a:lnTo>
                    <a:lnTo>
                      <a:pt x="235" y="46"/>
                    </a:lnTo>
                    <a:lnTo>
                      <a:pt x="246" y="53"/>
                    </a:lnTo>
                    <a:lnTo>
                      <a:pt x="224" y="27"/>
                    </a:lnTo>
                    <a:lnTo>
                      <a:pt x="203" y="4"/>
                    </a:lnTo>
                    <a:close/>
                  </a:path>
                </a:pathLst>
              </a:custGeom>
              <a:solidFill>
                <a:srgbClr val="56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882480" y="3006360"/>
                <a:ext cx="78840" cy="78480"/>
              </a:xfrm>
              <a:custGeom>
                <a:avLst/>
                <a:gdLst/>
                <a:ahLst/>
                <a:rect l="l" t="t" r="r" b="b"/>
                <a:pathLst>
                  <a:path w="275" h="275">
                    <a:moveTo>
                      <a:pt x="235" y="235"/>
                    </a:moveTo>
                    <a:lnTo>
                      <a:pt x="244" y="223"/>
                    </a:lnTo>
                    <a:lnTo>
                      <a:pt x="244" y="221"/>
                    </a:lnTo>
                    <a:lnTo>
                      <a:pt x="244" y="220"/>
                    </a:lnTo>
                    <a:lnTo>
                      <a:pt x="245" y="220"/>
                    </a:lnTo>
                    <a:lnTo>
                      <a:pt x="247" y="218"/>
                    </a:lnTo>
                    <a:lnTo>
                      <a:pt x="252" y="213"/>
                    </a:lnTo>
                    <a:lnTo>
                      <a:pt x="258" y="201"/>
                    </a:lnTo>
                    <a:lnTo>
                      <a:pt x="265" y="189"/>
                    </a:lnTo>
                    <a:lnTo>
                      <a:pt x="269" y="176"/>
                    </a:lnTo>
                    <a:lnTo>
                      <a:pt x="270" y="169"/>
                    </a:lnTo>
                    <a:lnTo>
                      <a:pt x="272" y="163"/>
                    </a:lnTo>
                    <a:lnTo>
                      <a:pt x="274" y="150"/>
                    </a:lnTo>
                    <a:lnTo>
                      <a:pt x="274" y="143"/>
                    </a:lnTo>
                    <a:lnTo>
                      <a:pt x="274" y="139"/>
                    </a:lnTo>
                    <a:lnTo>
                      <a:pt x="275" y="137"/>
                    </a:lnTo>
                    <a:lnTo>
                      <a:pt x="274" y="135"/>
                    </a:lnTo>
                    <a:lnTo>
                      <a:pt x="274" y="134"/>
                    </a:lnTo>
                    <a:lnTo>
                      <a:pt x="274" y="131"/>
                    </a:lnTo>
                    <a:lnTo>
                      <a:pt x="274" y="127"/>
                    </a:lnTo>
                    <a:lnTo>
                      <a:pt x="274" y="118"/>
                    </a:lnTo>
                    <a:lnTo>
                      <a:pt x="262" y="93"/>
                    </a:lnTo>
                    <a:lnTo>
                      <a:pt x="248" y="69"/>
                    </a:lnTo>
                    <a:lnTo>
                      <a:pt x="233" y="46"/>
                    </a:lnTo>
                    <a:lnTo>
                      <a:pt x="218" y="25"/>
                    </a:lnTo>
                    <a:lnTo>
                      <a:pt x="207" y="18"/>
                    </a:lnTo>
                    <a:lnTo>
                      <a:pt x="198" y="14"/>
                    </a:lnTo>
                    <a:lnTo>
                      <a:pt x="179" y="6"/>
                    </a:lnTo>
                    <a:lnTo>
                      <a:pt x="159" y="1"/>
                    </a:lnTo>
                    <a:lnTo>
                      <a:pt x="137" y="0"/>
                    </a:lnTo>
                    <a:lnTo>
                      <a:pt x="109" y="2"/>
                    </a:lnTo>
                    <a:lnTo>
                      <a:pt x="84" y="9"/>
                    </a:lnTo>
                    <a:lnTo>
                      <a:pt x="60" y="22"/>
                    </a:lnTo>
                    <a:lnTo>
                      <a:pt x="40" y="40"/>
                    </a:lnTo>
                    <a:lnTo>
                      <a:pt x="21" y="60"/>
                    </a:lnTo>
                    <a:lnTo>
                      <a:pt x="9" y="84"/>
                    </a:lnTo>
                    <a:lnTo>
                      <a:pt x="2" y="109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2" y="163"/>
                    </a:lnTo>
                    <a:lnTo>
                      <a:pt x="4" y="176"/>
                    </a:lnTo>
                    <a:lnTo>
                      <a:pt x="9" y="189"/>
                    </a:lnTo>
                    <a:lnTo>
                      <a:pt x="14" y="201"/>
                    </a:lnTo>
                    <a:lnTo>
                      <a:pt x="21" y="213"/>
                    </a:lnTo>
                    <a:lnTo>
                      <a:pt x="29" y="223"/>
                    </a:lnTo>
                    <a:lnTo>
                      <a:pt x="40" y="235"/>
                    </a:lnTo>
                    <a:lnTo>
                      <a:pt x="49" y="244"/>
                    </a:lnTo>
                    <a:lnTo>
                      <a:pt x="60" y="252"/>
                    </a:lnTo>
                    <a:lnTo>
                      <a:pt x="84" y="265"/>
                    </a:lnTo>
                    <a:lnTo>
                      <a:pt x="109" y="272"/>
                    </a:lnTo>
                    <a:lnTo>
                      <a:pt x="122" y="274"/>
                    </a:lnTo>
                    <a:lnTo>
                      <a:pt x="137" y="275"/>
                    </a:lnTo>
                    <a:lnTo>
                      <a:pt x="139" y="274"/>
                    </a:lnTo>
                    <a:lnTo>
                      <a:pt x="143" y="274"/>
                    </a:lnTo>
                    <a:lnTo>
                      <a:pt x="150" y="274"/>
                    </a:lnTo>
                    <a:lnTo>
                      <a:pt x="163" y="272"/>
                    </a:lnTo>
                    <a:lnTo>
                      <a:pt x="169" y="270"/>
                    </a:lnTo>
                    <a:lnTo>
                      <a:pt x="176" y="269"/>
                    </a:lnTo>
                    <a:lnTo>
                      <a:pt x="189" y="265"/>
                    </a:lnTo>
                    <a:lnTo>
                      <a:pt x="201" y="258"/>
                    </a:lnTo>
                    <a:lnTo>
                      <a:pt x="213" y="252"/>
                    </a:lnTo>
                    <a:lnTo>
                      <a:pt x="218" y="247"/>
                    </a:lnTo>
                    <a:lnTo>
                      <a:pt x="220" y="245"/>
                    </a:lnTo>
                    <a:lnTo>
                      <a:pt x="220" y="244"/>
                    </a:lnTo>
                    <a:lnTo>
                      <a:pt x="221" y="244"/>
                    </a:lnTo>
                    <a:lnTo>
                      <a:pt x="223" y="244"/>
                    </a:lnTo>
                    <a:lnTo>
                      <a:pt x="235" y="235"/>
                    </a:lnTo>
                    <a:close/>
                    <a:moveTo>
                      <a:pt x="60" y="215"/>
                    </a:moveTo>
                    <a:lnTo>
                      <a:pt x="51" y="206"/>
                    </a:lnTo>
                    <a:lnTo>
                      <a:pt x="44" y="198"/>
                    </a:lnTo>
                    <a:lnTo>
                      <a:pt x="38" y="188"/>
                    </a:lnTo>
                    <a:lnTo>
                      <a:pt x="35" y="179"/>
                    </a:lnTo>
                    <a:lnTo>
                      <a:pt x="28" y="159"/>
                    </a:lnTo>
                    <a:lnTo>
                      <a:pt x="27" y="137"/>
                    </a:lnTo>
                    <a:lnTo>
                      <a:pt x="28" y="114"/>
                    </a:lnTo>
                    <a:lnTo>
                      <a:pt x="35" y="94"/>
                    </a:lnTo>
                    <a:lnTo>
                      <a:pt x="44" y="75"/>
                    </a:lnTo>
                    <a:lnTo>
                      <a:pt x="60" y="59"/>
                    </a:lnTo>
                    <a:lnTo>
                      <a:pt x="76" y="44"/>
                    </a:lnTo>
                    <a:lnTo>
                      <a:pt x="95" y="35"/>
                    </a:lnTo>
                    <a:lnTo>
                      <a:pt x="114" y="28"/>
                    </a:lnTo>
                    <a:lnTo>
                      <a:pt x="137" y="27"/>
                    </a:lnTo>
                    <a:lnTo>
                      <a:pt x="159" y="28"/>
                    </a:lnTo>
                    <a:lnTo>
                      <a:pt x="179" y="35"/>
                    </a:lnTo>
                    <a:lnTo>
                      <a:pt x="188" y="39"/>
                    </a:lnTo>
                    <a:lnTo>
                      <a:pt x="198" y="44"/>
                    </a:lnTo>
                    <a:lnTo>
                      <a:pt x="215" y="59"/>
                    </a:lnTo>
                    <a:lnTo>
                      <a:pt x="229" y="75"/>
                    </a:lnTo>
                    <a:lnTo>
                      <a:pt x="239" y="94"/>
                    </a:lnTo>
                    <a:lnTo>
                      <a:pt x="246" y="114"/>
                    </a:lnTo>
                    <a:lnTo>
                      <a:pt x="248" y="137"/>
                    </a:lnTo>
                    <a:lnTo>
                      <a:pt x="247" y="142"/>
                    </a:lnTo>
                    <a:lnTo>
                      <a:pt x="247" y="147"/>
                    </a:lnTo>
                    <a:lnTo>
                      <a:pt x="246" y="159"/>
                    </a:lnTo>
                    <a:lnTo>
                      <a:pt x="239" y="179"/>
                    </a:lnTo>
                    <a:lnTo>
                      <a:pt x="233" y="188"/>
                    </a:lnTo>
                    <a:lnTo>
                      <a:pt x="229" y="198"/>
                    </a:lnTo>
                    <a:lnTo>
                      <a:pt x="222" y="206"/>
                    </a:lnTo>
                    <a:lnTo>
                      <a:pt x="215" y="215"/>
                    </a:lnTo>
                    <a:lnTo>
                      <a:pt x="206" y="222"/>
                    </a:lnTo>
                    <a:lnTo>
                      <a:pt x="198" y="229"/>
                    </a:lnTo>
                    <a:lnTo>
                      <a:pt x="188" y="234"/>
                    </a:lnTo>
                    <a:lnTo>
                      <a:pt x="179" y="239"/>
                    </a:lnTo>
                    <a:lnTo>
                      <a:pt x="159" y="246"/>
                    </a:lnTo>
                    <a:lnTo>
                      <a:pt x="147" y="247"/>
                    </a:lnTo>
                    <a:lnTo>
                      <a:pt x="142" y="247"/>
                    </a:lnTo>
                    <a:lnTo>
                      <a:pt x="137" y="248"/>
                    </a:lnTo>
                    <a:lnTo>
                      <a:pt x="114" y="246"/>
                    </a:lnTo>
                    <a:lnTo>
                      <a:pt x="95" y="239"/>
                    </a:lnTo>
                    <a:lnTo>
                      <a:pt x="76" y="229"/>
                    </a:lnTo>
                    <a:lnTo>
                      <a:pt x="60" y="215"/>
                    </a:lnTo>
                    <a:close/>
                  </a:path>
                </a:pathLst>
              </a:custGeom>
              <a:solidFill>
                <a:srgbClr val="59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890760" y="3014640"/>
                <a:ext cx="63360" cy="62640"/>
              </a:xfrm>
              <a:custGeom>
                <a:avLst/>
                <a:gdLst/>
                <a:ahLst/>
                <a:rect l="l" t="t" r="r" b="b"/>
                <a:pathLst>
                  <a:path w="221" h="221">
                    <a:moveTo>
                      <a:pt x="0" y="110"/>
                    </a:moveTo>
                    <a:lnTo>
                      <a:pt x="1" y="132"/>
                    </a:lnTo>
                    <a:lnTo>
                      <a:pt x="8" y="152"/>
                    </a:lnTo>
                    <a:lnTo>
                      <a:pt x="11" y="161"/>
                    </a:lnTo>
                    <a:lnTo>
                      <a:pt x="17" y="171"/>
                    </a:lnTo>
                    <a:lnTo>
                      <a:pt x="24" y="179"/>
                    </a:lnTo>
                    <a:lnTo>
                      <a:pt x="33" y="188"/>
                    </a:lnTo>
                    <a:lnTo>
                      <a:pt x="49" y="202"/>
                    </a:lnTo>
                    <a:lnTo>
                      <a:pt x="68" y="212"/>
                    </a:lnTo>
                    <a:lnTo>
                      <a:pt x="87" y="219"/>
                    </a:lnTo>
                    <a:lnTo>
                      <a:pt x="110" y="221"/>
                    </a:lnTo>
                    <a:lnTo>
                      <a:pt x="115" y="220"/>
                    </a:lnTo>
                    <a:lnTo>
                      <a:pt x="120" y="220"/>
                    </a:lnTo>
                    <a:lnTo>
                      <a:pt x="132" y="219"/>
                    </a:lnTo>
                    <a:lnTo>
                      <a:pt x="152" y="212"/>
                    </a:lnTo>
                    <a:lnTo>
                      <a:pt x="161" y="207"/>
                    </a:lnTo>
                    <a:lnTo>
                      <a:pt x="171" y="202"/>
                    </a:lnTo>
                    <a:lnTo>
                      <a:pt x="179" y="195"/>
                    </a:lnTo>
                    <a:lnTo>
                      <a:pt x="188" y="188"/>
                    </a:lnTo>
                    <a:lnTo>
                      <a:pt x="195" y="179"/>
                    </a:lnTo>
                    <a:lnTo>
                      <a:pt x="202" y="171"/>
                    </a:lnTo>
                    <a:lnTo>
                      <a:pt x="206" y="161"/>
                    </a:lnTo>
                    <a:lnTo>
                      <a:pt x="212" y="152"/>
                    </a:lnTo>
                    <a:lnTo>
                      <a:pt x="219" y="132"/>
                    </a:lnTo>
                    <a:lnTo>
                      <a:pt x="220" y="120"/>
                    </a:lnTo>
                    <a:lnTo>
                      <a:pt x="220" y="115"/>
                    </a:lnTo>
                    <a:lnTo>
                      <a:pt x="221" y="110"/>
                    </a:lnTo>
                    <a:lnTo>
                      <a:pt x="219" y="87"/>
                    </a:lnTo>
                    <a:lnTo>
                      <a:pt x="212" y="67"/>
                    </a:lnTo>
                    <a:lnTo>
                      <a:pt x="202" y="48"/>
                    </a:lnTo>
                    <a:lnTo>
                      <a:pt x="188" y="32"/>
                    </a:lnTo>
                    <a:lnTo>
                      <a:pt x="171" y="17"/>
                    </a:lnTo>
                    <a:lnTo>
                      <a:pt x="161" y="12"/>
                    </a:lnTo>
                    <a:lnTo>
                      <a:pt x="152" y="8"/>
                    </a:lnTo>
                    <a:lnTo>
                      <a:pt x="132" y="1"/>
                    </a:lnTo>
                    <a:lnTo>
                      <a:pt x="110" y="0"/>
                    </a:lnTo>
                    <a:lnTo>
                      <a:pt x="87" y="1"/>
                    </a:lnTo>
                    <a:lnTo>
                      <a:pt x="68" y="8"/>
                    </a:lnTo>
                    <a:lnTo>
                      <a:pt x="49" y="17"/>
                    </a:lnTo>
                    <a:lnTo>
                      <a:pt x="33" y="32"/>
                    </a:lnTo>
                    <a:lnTo>
                      <a:pt x="17" y="48"/>
                    </a:lnTo>
                    <a:lnTo>
                      <a:pt x="8" y="67"/>
                    </a:lnTo>
                    <a:lnTo>
                      <a:pt x="1" y="87"/>
                    </a:lnTo>
                    <a:lnTo>
                      <a:pt x="0" y="110"/>
                    </a:lnTo>
                    <a:close/>
                    <a:moveTo>
                      <a:pt x="52" y="169"/>
                    </a:moveTo>
                    <a:lnTo>
                      <a:pt x="41" y="156"/>
                    </a:lnTo>
                    <a:lnTo>
                      <a:pt x="34" y="142"/>
                    </a:lnTo>
                    <a:lnTo>
                      <a:pt x="30" y="126"/>
                    </a:lnTo>
                    <a:lnTo>
                      <a:pt x="28" y="110"/>
                    </a:lnTo>
                    <a:lnTo>
                      <a:pt x="30" y="93"/>
                    </a:lnTo>
                    <a:lnTo>
                      <a:pt x="34" y="78"/>
                    </a:lnTo>
                    <a:lnTo>
                      <a:pt x="41" y="64"/>
                    </a:lnTo>
                    <a:lnTo>
                      <a:pt x="52" y="52"/>
                    </a:lnTo>
                    <a:lnTo>
                      <a:pt x="64" y="41"/>
                    </a:lnTo>
                    <a:lnTo>
                      <a:pt x="78" y="33"/>
                    </a:lnTo>
                    <a:lnTo>
                      <a:pt x="93" y="29"/>
                    </a:lnTo>
                    <a:lnTo>
                      <a:pt x="110" y="27"/>
                    </a:lnTo>
                    <a:lnTo>
                      <a:pt x="126" y="29"/>
                    </a:lnTo>
                    <a:lnTo>
                      <a:pt x="142" y="33"/>
                    </a:lnTo>
                    <a:lnTo>
                      <a:pt x="155" y="41"/>
                    </a:lnTo>
                    <a:lnTo>
                      <a:pt x="169" y="52"/>
                    </a:lnTo>
                    <a:lnTo>
                      <a:pt x="178" y="64"/>
                    </a:lnTo>
                    <a:lnTo>
                      <a:pt x="186" y="78"/>
                    </a:lnTo>
                    <a:lnTo>
                      <a:pt x="191" y="93"/>
                    </a:lnTo>
                    <a:lnTo>
                      <a:pt x="193" y="110"/>
                    </a:lnTo>
                    <a:lnTo>
                      <a:pt x="191" y="126"/>
                    </a:lnTo>
                    <a:lnTo>
                      <a:pt x="186" y="142"/>
                    </a:lnTo>
                    <a:lnTo>
                      <a:pt x="178" y="156"/>
                    </a:lnTo>
                    <a:lnTo>
                      <a:pt x="169" y="169"/>
                    </a:lnTo>
                    <a:lnTo>
                      <a:pt x="155" y="178"/>
                    </a:lnTo>
                    <a:lnTo>
                      <a:pt x="142" y="186"/>
                    </a:lnTo>
                    <a:lnTo>
                      <a:pt x="126" y="191"/>
                    </a:lnTo>
                    <a:lnTo>
                      <a:pt x="110" y="193"/>
                    </a:lnTo>
                    <a:lnTo>
                      <a:pt x="93" y="191"/>
                    </a:lnTo>
                    <a:lnTo>
                      <a:pt x="78" y="186"/>
                    </a:lnTo>
                    <a:lnTo>
                      <a:pt x="64" y="178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5c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898680" y="3021840"/>
                <a:ext cx="46800" cy="47160"/>
              </a:xfrm>
              <a:custGeom>
                <a:avLst/>
                <a:gdLst/>
                <a:ahLst/>
                <a:rect l="l" t="t" r="r" b="b"/>
                <a:pathLst>
                  <a:path w="165" h="166">
                    <a:moveTo>
                      <a:pt x="0" y="83"/>
                    </a:moveTo>
                    <a:lnTo>
                      <a:pt x="2" y="99"/>
                    </a:lnTo>
                    <a:lnTo>
                      <a:pt x="6" y="115"/>
                    </a:lnTo>
                    <a:lnTo>
                      <a:pt x="13" y="129"/>
                    </a:lnTo>
                    <a:lnTo>
                      <a:pt x="24" y="142"/>
                    </a:lnTo>
                    <a:lnTo>
                      <a:pt x="36" y="151"/>
                    </a:lnTo>
                    <a:lnTo>
                      <a:pt x="50" y="159"/>
                    </a:lnTo>
                    <a:lnTo>
                      <a:pt x="65" y="164"/>
                    </a:lnTo>
                    <a:lnTo>
                      <a:pt x="82" y="166"/>
                    </a:lnTo>
                    <a:lnTo>
                      <a:pt x="98" y="164"/>
                    </a:lnTo>
                    <a:lnTo>
                      <a:pt x="114" y="159"/>
                    </a:lnTo>
                    <a:lnTo>
                      <a:pt x="127" y="151"/>
                    </a:lnTo>
                    <a:lnTo>
                      <a:pt x="141" y="142"/>
                    </a:lnTo>
                    <a:lnTo>
                      <a:pt x="150" y="129"/>
                    </a:lnTo>
                    <a:lnTo>
                      <a:pt x="158" y="115"/>
                    </a:lnTo>
                    <a:lnTo>
                      <a:pt x="163" y="99"/>
                    </a:lnTo>
                    <a:lnTo>
                      <a:pt x="165" y="83"/>
                    </a:lnTo>
                    <a:lnTo>
                      <a:pt x="163" y="66"/>
                    </a:lnTo>
                    <a:lnTo>
                      <a:pt x="158" y="51"/>
                    </a:lnTo>
                    <a:lnTo>
                      <a:pt x="150" y="37"/>
                    </a:lnTo>
                    <a:lnTo>
                      <a:pt x="141" y="25"/>
                    </a:lnTo>
                    <a:lnTo>
                      <a:pt x="127" y="14"/>
                    </a:lnTo>
                    <a:lnTo>
                      <a:pt x="114" y="6"/>
                    </a:lnTo>
                    <a:lnTo>
                      <a:pt x="98" y="2"/>
                    </a:lnTo>
                    <a:lnTo>
                      <a:pt x="82" y="0"/>
                    </a:lnTo>
                    <a:lnTo>
                      <a:pt x="65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5"/>
                    </a:lnTo>
                    <a:lnTo>
                      <a:pt x="13" y="37"/>
                    </a:lnTo>
                    <a:lnTo>
                      <a:pt x="6" y="51"/>
                    </a:lnTo>
                    <a:lnTo>
                      <a:pt x="2" y="66"/>
                    </a:lnTo>
                    <a:lnTo>
                      <a:pt x="0" y="83"/>
                    </a:lnTo>
                    <a:close/>
                    <a:moveTo>
                      <a:pt x="82" y="29"/>
                    </a:moveTo>
                    <a:lnTo>
                      <a:pt x="92" y="29"/>
                    </a:lnTo>
                    <a:lnTo>
                      <a:pt x="102" y="32"/>
                    </a:lnTo>
                    <a:lnTo>
                      <a:pt x="112" y="37"/>
                    </a:lnTo>
                    <a:lnTo>
                      <a:pt x="122" y="45"/>
                    </a:lnTo>
                    <a:lnTo>
                      <a:pt x="127" y="53"/>
                    </a:lnTo>
                    <a:lnTo>
                      <a:pt x="133" y="62"/>
                    </a:lnTo>
                    <a:lnTo>
                      <a:pt x="137" y="72"/>
                    </a:lnTo>
                    <a:lnTo>
                      <a:pt x="138" y="83"/>
                    </a:lnTo>
                    <a:lnTo>
                      <a:pt x="137" y="88"/>
                    </a:lnTo>
                    <a:lnTo>
                      <a:pt x="137" y="93"/>
                    </a:lnTo>
                    <a:lnTo>
                      <a:pt x="134" y="98"/>
                    </a:lnTo>
                    <a:lnTo>
                      <a:pt x="133" y="100"/>
                    </a:lnTo>
                    <a:lnTo>
                      <a:pt x="133" y="104"/>
                    </a:lnTo>
                    <a:lnTo>
                      <a:pt x="127" y="113"/>
                    </a:lnTo>
                    <a:lnTo>
                      <a:pt x="124" y="117"/>
                    </a:lnTo>
                    <a:lnTo>
                      <a:pt x="122" y="123"/>
                    </a:lnTo>
                    <a:lnTo>
                      <a:pt x="116" y="125"/>
                    </a:lnTo>
                    <a:lnTo>
                      <a:pt x="112" y="129"/>
                    </a:lnTo>
                    <a:lnTo>
                      <a:pt x="102" y="134"/>
                    </a:lnTo>
                    <a:lnTo>
                      <a:pt x="99" y="134"/>
                    </a:lnTo>
                    <a:lnTo>
                      <a:pt x="97" y="135"/>
                    </a:lnTo>
                    <a:lnTo>
                      <a:pt x="92" y="138"/>
                    </a:lnTo>
                    <a:lnTo>
                      <a:pt x="87" y="138"/>
                    </a:lnTo>
                    <a:lnTo>
                      <a:pt x="82" y="139"/>
                    </a:lnTo>
                    <a:lnTo>
                      <a:pt x="71" y="138"/>
                    </a:lnTo>
                    <a:lnTo>
                      <a:pt x="61" y="134"/>
                    </a:lnTo>
                    <a:lnTo>
                      <a:pt x="51" y="129"/>
                    </a:lnTo>
                    <a:lnTo>
                      <a:pt x="44" y="123"/>
                    </a:lnTo>
                    <a:lnTo>
                      <a:pt x="36" y="113"/>
                    </a:lnTo>
                    <a:lnTo>
                      <a:pt x="31" y="104"/>
                    </a:lnTo>
                    <a:lnTo>
                      <a:pt x="28" y="93"/>
                    </a:lnTo>
                    <a:lnTo>
                      <a:pt x="28" y="83"/>
                    </a:lnTo>
                    <a:lnTo>
                      <a:pt x="31" y="62"/>
                    </a:lnTo>
                    <a:lnTo>
                      <a:pt x="44" y="45"/>
                    </a:lnTo>
                    <a:lnTo>
                      <a:pt x="61" y="32"/>
                    </a:lnTo>
                    <a:lnTo>
                      <a:pt x="82" y="29"/>
                    </a:lnTo>
                    <a:close/>
                  </a:path>
                </a:pathLst>
              </a:custGeom>
              <a:solidFill>
                <a:srgbClr val="5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06600" y="303012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94" y="16"/>
                    </a:moveTo>
                    <a:lnTo>
                      <a:pt x="84" y="8"/>
                    </a:lnTo>
                    <a:lnTo>
                      <a:pt x="74" y="3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33" y="3"/>
                    </a:lnTo>
                    <a:lnTo>
                      <a:pt x="16" y="16"/>
                    </a:lnTo>
                    <a:lnTo>
                      <a:pt x="3" y="33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3" y="75"/>
                    </a:lnTo>
                    <a:lnTo>
                      <a:pt x="8" y="84"/>
                    </a:lnTo>
                    <a:lnTo>
                      <a:pt x="16" y="94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9"/>
                    </a:lnTo>
                    <a:lnTo>
                      <a:pt x="54" y="110"/>
                    </a:lnTo>
                    <a:lnTo>
                      <a:pt x="59" y="109"/>
                    </a:lnTo>
                    <a:lnTo>
                      <a:pt x="64" y="109"/>
                    </a:lnTo>
                    <a:lnTo>
                      <a:pt x="69" y="106"/>
                    </a:lnTo>
                    <a:lnTo>
                      <a:pt x="71" y="105"/>
                    </a:lnTo>
                    <a:lnTo>
                      <a:pt x="74" y="105"/>
                    </a:lnTo>
                    <a:lnTo>
                      <a:pt x="84" y="100"/>
                    </a:lnTo>
                    <a:lnTo>
                      <a:pt x="88" y="96"/>
                    </a:lnTo>
                    <a:lnTo>
                      <a:pt x="94" y="94"/>
                    </a:lnTo>
                    <a:lnTo>
                      <a:pt x="96" y="88"/>
                    </a:lnTo>
                    <a:lnTo>
                      <a:pt x="99" y="84"/>
                    </a:lnTo>
                    <a:lnTo>
                      <a:pt x="105" y="75"/>
                    </a:lnTo>
                    <a:lnTo>
                      <a:pt x="105" y="71"/>
                    </a:lnTo>
                    <a:lnTo>
                      <a:pt x="106" y="69"/>
                    </a:lnTo>
                    <a:lnTo>
                      <a:pt x="109" y="64"/>
                    </a:lnTo>
                    <a:lnTo>
                      <a:pt x="109" y="59"/>
                    </a:lnTo>
                    <a:lnTo>
                      <a:pt x="110" y="54"/>
                    </a:lnTo>
                    <a:lnTo>
                      <a:pt x="109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4" y="16"/>
                    </a:lnTo>
                    <a:close/>
                    <a:moveTo>
                      <a:pt x="54" y="27"/>
                    </a:moveTo>
                    <a:lnTo>
                      <a:pt x="64" y="28"/>
                    </a:lnTo>
                    <a:lnTo>
                      <a:pt x="69" y="30"/>
                    </a:lnTo>
                    <a:lnTo>
                      <a:pt x="74" y="35"/>
                    </a:lnTo>
                    <a:lnTo>
                      <a:pt x="80" y="43"/>
                    </a:lnTo>
                    <a:lnTo>
                      <a:pt x="82" y="54"/>
                    </a:lnTo>
                    <a:lnTo>
                      <a:pt x="81" y="59"/>
                    </a:lnTo>
                    <a:lnTo>
                      <a:pt x="80" y="61"/>
                    </a:lnTo>
                    <a:lnTo>
                      <a:pt x="80" y="64"/>
                    </a:lnTo>
                    <a:lnTo>
                      <a:pt x="77" y="69"/>
                    </a:lnTo>
                    <a:lnTo>
                      <a:pt x="74" y="73"/>
                    </a:lnTo>
                    <a:lnTo>
                      <a:pt x="69" y="76"/>
                    </a:lnTo>
                    <a:lnTo>
                      <a:pt x="64" y="79"/>
                    </a:lnTo>
                    <a:lnTo>
                      <a:pt x="61" y="79"/>
                    </a:lnTo>
                    <a:lnTo>
                      <a:pt x="59" y="80"/>
                    </a:lnTo>
                    <a:lnTo>
                      <a:pt x="54" y="81"/>
                    </a:lnTo>
                    <a:lnTo>
                      <a:pt x="43" y="79"/>
                    </a:lnTo>
                    <a:lnTo>
                      <a:pt x="35" y="73"/>
                    </a:lnTo>
                    <a:lnTo>
                      <a:pt x="30" y="69"/>
                    </a:lnTo>
                    <a:lnTo>
                      <a:pt x="28" y="64"/>
                    </a:lnTo>
                    <a:lnTo>
                      <a:pt x="27" y="54"/>
                    </a:lnTo>
                    <a:lnTo>
                      <a:pt x="28" y="43"/>
                    </a:lnTo>
                    <a:lnTo>
                      <a:pt x="35" y="35"/>
                    </a:lnTo>
                    <a:lnTo>
                      <a:pt x="43" y="28"/>
                    </a:lnTo>
                    <a:lnTo>
                      <a:pt x="54" y="27"/>
                    </a:lnTo>
                    <a:close/>
                  </a:path>
                </a:pathLst>
              </a:custGeom>
              <a:solidFill>
                <a:srgbClr val="62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914160" y="3037680"/>
                <a:ext cx="15840" cy="1512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47" y="8"/>
                    </a:moveTo>
                    <a:lnTo>
                      <a:pt x="42" y="3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6" y="1"/>
                    </a:lnTo>
                    <a:lnTo>
                      <a:pt x="8" y="8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1" y="37"/>
                    </a:lnTo>
                    <a:lnTo>
                      <a:pt x="3" y="42"/>
                    </a:lnTo>
                    <a:lnTo>
                      <a:pt x="8" y="46"/>
                    </a:lnTo>
                    <a:lnTo>
                      <a:pt x="16" y="52"/>
                    </a:lnTo>
                    <a:lnTo>
                      <a:pt x="27" y="54"/>
                    </a:lnTo>
                    <a:lnTo>
                      <a:pt x="32" y="53"/>
                    </a:lnTo>
                    <a:lnTo>
                      <a:pt x="34" y="52"/>
                    </a:lnTo>
                    <a:lnTo>
                      <a:pt x="37" y="52"/>
                    </a:lnTo>
                    <a:lnTo>
                      <a:pt x="42" y="49"/>
                    </a:lnTo>
                    <a:lnTo>
                      <a:pt x="47" y="46"/>
                    </a:lnTo>
                    <a:lnTo>
                      <a:pt x="50" y="42"/>
                    </a:lnTo>
                    <a:lnTo>
                      <a:pt x="53" y="37"/>
                    </a:lnTo>
                    <a:lnTo>
                      <a:pt x="53" y="34"/>
                    </a:lnTo>
                    <a:lnTo>
                      <a:pt x="54" y="32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7" y="8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685920" y="3111120"/>
                <a:ext cx="68040" cy="111600"/>
              </a:xfrm>
              <a:custGeom>
                <a:avLst/>
                <a:gdLst/>
                <a:ahLst/>
                <a:rect l="l" t="t" r="r" b="b"/>
                <a:pathLst>
                  <a:path w="239" h="393">
                    <a:moveTo>
                      <a:pt x="239" y="393"/>
                    </a:moveTo>
                    <a:lnTo>
                      <a:pt x="230" y="384"/>
                    </a:lnTo>
                    <a:lnTo>
                      <a:pt x="225" y="380"/>
                    </a:lnTo>
                    <a:lnTo>
                      <a:pt x="223" y="378"/>
                    </a:lnTo>
                    <a:lnTo>
                      <a:pt x="222" y="376"/>
                    </a:lnTo>
                    <a:lnTo>
                      <a:pt x="181" y="333"/>
                    </a:lnTo>
                    <a:lnTo>
                      <a:pt x="145" y="290"/>
                    </a:lnTo>
                    <a:lnTo>
                      <a:pt x="112" y="245"/>
                    </a:lnTo>
                    <a:lnTo>
                      <a:pt x="83" y="200"/>
                    </a:lnTo>
                    <a:lnTo>
                      <a:pt x="69" y="175"/>
                    </a:lnTo>
                    <a:lnTo>
                      <a:pt x="56" y="151"/>
                    </a:lnTo>
                    <a:lnTo>
                      <a:pt x="44" y="126"/>
                    </a:lnTo>
                    <a:lnTo>
                      <a:pt x="34" y="102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3" y="44"/>
                    </a:lnTo>
                    <a:lnTo>
                      <a:pt x="6" y="66"/>
                    </a:lnTo>
                    <a:lnTo>
                      <a:pt x="12" y="88"/>
                    </a:lnTo>
                    <a:lnTo>
                      <a:pt x="24" y="130"/>
                    </a:lnTo>
                    <a:lnTo>
                      <a:pt x="41" y="171"/>
                    </a:lnTo>
                    <a:lnTo>
                      <a:pt x="61" y="210"/>
                    </a:lnTo>
                    <a:lnTo>
                      <a:pt x="86" y="248"/>
                    </a:lnTo>
                    <a:lnTo>
                      <a:pt x="114" y="285"/>
                    </a:lnTo>
                    <a:lnTo>
                      <a:pt x="147" y="320"/>
                    </a:lnTo>
                    <a:lnTo>
                      <a:pt x="168" y="340"/>
                    </a:lnTo>
                    <a:lnTo>
                      <a:pt x="191" y="359"/>
                    </a:lnTo>
                    <a:lnTo>
                      <a:pt x="214" y="376"/>
                    </a:lnTo>
                    <a:lnTo>
                      <a:pt x="239" y="393"/>
                    </a:lnTo>
                    <a:close/>
                  </a:path>
                </a:pathLst>
              </a:custGeom>
              <a:solidFill>
                <a:srgbClr val="020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685200" y="3076200"/>
                <a:ext cx="96480" cy="159840"/>
              </a:xfrm>
              <a:custGeom>
                <a:avLst/>
                <a:gdLst/>
                <a:ahLst/>
                <a:rect l="l" t="t" r="r" b="b"/>
                <a:pathLst>
                  <a:path w="338" h="561">
                    <a:moveTo>
                      <a:pt x="224" y="497"/>
                    </a:moveTo>
                    <a:lnTo>
                      <a:pt x="225" y="499"/>
                    </a:lnTo>
                    <a:lnTo>
                      <a:pt x="227" y="501"/>
                    </a:lnTo>
                    <a:lnTo>
                      <a:pt x="232" y="505"/>
                    </a:lnTo>
                    <a:lnTo>
                      <a:pt x="241" y="514"/>
                    </a:lnTo>
                    <a:lnTo>
                      <a:pt x="263" y="528"/>
                    </a:lnTo>
                    <a:lnTo>
                      <a:pt x="287" y="541"/>
                    </a:lnTo>
                    <a:lnTo>
                      <a:pt x="338" y="561"/>
                    </a:lnTo>
                    <a:lnTo>
                      <a:pt x="313" y="542"/>
                    </a:lnTo>
                    <a:lnTo>
                      <a:pt x="290" y="521"/>
                    </a:lnTo>
                    <a:lnTo>
                      <a:pt x="243" y="478"/>
                    </a:lnTo>
                    <a:lnTo>
                      <a:pt x="217" y="451"/>
                    </a:lnTo>
                    <a:lnTo>
                      <a:pt x="194" y="425"/>
                    </a:lnTo>
                    <a:lnTo>
                      <a:pt x="172" y="398"/>
                    </a:lnTo>
                    <a:lnTo>
                      <a:pt x="151" y="372"/>
                    </a:lnTo>
                    <a:lnTo>
                      <a:pt x="131" y="342"/>
                    </a:lnTo>
                    <a:lnTo>
                      <a:pt x="114" y="314"/>
                    </a:lnTo>
                    <a:lnTo>
                      <a:pt x="97" y="284"/>
                    </a:lnTo>
                    <a:lnTo>
                      <a:pt x="82" y="256"/>
                    </a:lnTo>
                    <a:lnTo>
                      <a:pt x="67" y="224"/>
                    </a:lnTo>
                    <a:lnTo>
                      <a:pt x="55" y="194"/>
                    </a:lnTo>
                    <a:lnTo>
                      <a:pt x="42" y="162"/>
                    </a:lnTo>
                    <a:lnTo>
                      <a:pt x="33" y="131"/>
                    </a:lnTo>
                    <a:lnTo>
                      <a:pt x="24" y="98"/>
                    </a:lnTo>
                    <a:lnTo>
                      <a:pt x="17" y="67"/>
                    </a:lnTo>
                    <a:lnTo>
                      <a:pt x="11" y="33"/>
                    </a:lnTo>
                    <a:lnTo>
                      <a:pt x="7" y="0"/>
                    </a:lnTo>
                    <a:lnTo>
                      <a:pt x="2" y="41"/>
                    </a:lnTo>
                    <a:lnTo>
                      <a:pt x="0" y="84"/>
                    </a:lnTo>
                    <a:lnTo>
                      <a:pt x="2" y="121"/>
                    </a:lnTo>
                    <a:lnTo>
                      <a:pt x="16" y="172"/>
                    </a:lnTo>
                    <a:lnTo>
                      <a:pt x="36" y="223"/>
                    </a:lnTo>
                    <a:lnTo>
                      <a:pt x="46" y="247"/>
                    </a:lnTo>
                    <a:lnTo>
                      <a:pt x="58" y="272"/>
                    </a:lnTo>
                    <a:lnTo>
                      <a:pt x="71" y="296"/>
                    </a:lnTo>
                    <a:lnTo>
                      <a:pt x="85" y="321"/>
                    </a:lnTo>
                    <a:lnTo>
                      <a:pt x="114" y="366"/>
                    </a:lnTo>
                    <a:lnTo>
                      <a:pt x="147" y="411"/>
                    </a:lnTo>
                    <a:lnTo>
                      <a:pt x="183" y="454"/>
                    </a:lnTo>
                    <a:lnTo>
                      <a:pt x="224" y="497"/>
                    </a:lnTo>
                    <a:close/>
                  </a:path>
                </a:pathLst>
              </a:custGeom>
              <a:solidFill>
                <a:srgbClr val="060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687720" y="3051720"/>
                <a:ext cx="116640" cy="190800"/>
              </a:xfrm>
              <a:custGeom>
                <a:avLst/>
                <a:gdLst/>
                <a:ahLst/>
                <a:rect l="l" t="t" r="r" b="b"/>
                <a:pathLst>
                  <a:path w="410" h="667">
                    <a:moveTo>
                      <a:pt x="236" y="564"/>
                    </a:moveTo>
                    <a:lnTo>
                      <a:pt x="283" y="607"/>
                    </a:lnTo>
                    <a:lnTo>
                      <a:pt x="306" y="628"/>
                    </a:lnTo>
                    <a:lnTo>
                      <a:pt x="331" y="647"/>
                    </a:lnTo>
                    <a:lnTo>
                      <a:pt x="369" y="657"/>
                    </a:lnTo>
                    <a:lnTo>
                      <a:pt x="410" y="667"/>
                    </a:lnTo>
                    <a:lnTo>
                      <a:pt x="369" y="639"/>
                    </a:lnTo>
                    <a:lnTo>
                      <a:pt x="330" y="611"/>
                    </a:lnTo>
                    <a:lnTo>
                      <a:pt x="292" y="578"/>
                    </a:lnTo>
                    <a:lnTo>
                      <a:pt x="256" y="545"/>
                    </a:lnTo>
                    <a:lnTo>
                      <a:pt x="228" y="515"/>
                    </a:lnTo>
                    <a:lnTo>
                      <a:pt x="202" y="486"/>
                    </a:lnTo>
                    <a:lnTo>
                      <a:pt x="177" y="455"/>
                    </a:lnTo>
                    <a:lnTo>
                      <a:pt x="156" y="425"/>
                    </a:lnTo>
                    <a:lnTo>
                      <a:pt x="134" y="392"/>
                    </a:lnTo>
                    <a:lnTo>
                      <a:pt x="116" y="360"/>
                    </a:lnTo>
                    <a:lnTo>
                      <a:pt x="98" y="327"/>
                    </a:lnTo>
                    <a:lnTo>
                      <a:pt x="83" y="294"/>
                    </a:lnTo>
                    <a:lnTo>
                      <a:pt x="68" y="259"/>
                    </a:lnTo>
                    <a:lnTo>
                      <a:pt x="57" y="224"/>
                    </a:lnTo>
                    <a:lnTo>
                      <a:pt x="46" y="188"/>
                    </a:lnTo>
                    <a:lnTo>
                      <a:pt x="38" y="153"/>
                    </a:lnTo>
                    <a:lnTo>
                      <a:pt x="30" y="114"/>
                    </a:lnTo>
                    <a:lnTo>
                      <a:pt x="25" y="77"/>
                    </a:lnTo>
                    <a:lnTo>
                      <a:pt x="22" y="38"/>
                    </a:lnTo>
                    <a:lnTo>
                      <a:pt x="22" y="0"/>
                    </a:lnTo>
                    <a:lnTo>
                      <a:pt x="8" y="42"/>
                    </a:lnTo>
                    <a:lnTo>
                      <a:pt x="0" y="86"/>
                    </a:lnTo>
                    <a:lnTo>
                      <a:pt x="4" y="119"/>
                    </a:lnTo>
                    <a:lnTo>
                      <a:pt x="10" y="153"/>
                    </a:lnTo>
                    <a:lnTo>
                      <a:pt x="17" y="184"/>
                    </a:lnTo>
                    <a:lnTo>
                      <a:pt x="26" y="217"/>
                    </a:lnTo>
                    <a:lnTo>
                      <a:pt x="35" y="248"/>
                    </a:lnTo>
                    <a:lnTo>
                      <a:pt x="48" y="280"/>
                    </a:lnTo>
                    <a:lnTo>
                      <a:pt x="60" y="310"/>
                    </a:lnTo>
                    <a:lnTo>
                      <a:pt x="75" y="342"/>
                    </a:lnTo>
                    <a:lnTo>
                      <a:pt x="90" y="370"/>
                    </a:lnTo>
                    <a:lnTo>
                      <a:pt x="107" y="400"/>
                    </a:lnTo>
                    <a:lnTo>
                      <a:pt x="124" y="428"/>
                    </a:lnTo>
                    <a:lnTo>
                      <a:pt x="144" y="458"/>
                    </a:lnTo>
                    <a:lnTo>
                      <a:pt x="165" y="484"/>
                    </a:lnTo>
                    <a:lnTo>
                      <a:pt x="187" y="511"/>
                    </a:lnTo>
                    <a:lnTo>
                      <a:pt x="210" y="537"/>
                    </a:lnTo>
                    <a:lnTo>
                      <a:pt x="236" y="564"/>
                    </a:lnTo>
                    <a:close/>
                  </a:path>
                </a:pathLst>
              </a:custGeom>
              <a:solidFill>
                <a:srgbClr val="090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685200" y="2956320"/>
                <a:ext cx="288720" cy="287640"/>
              </a:xfrm>
              <a:custGeom>
                <a:avLst/>
                <a:gdLst/>
                <a:ahLst/>
                <a:rect l="l" t="t" r="r" b="b"/>
                <a:pathLst>
                  <a:path w="1009" h="1008">
                    <a:moveTo>
                      <a:pt x="149" y="148"/>
                    </a:moveTo>
                    <a:lnTo>
                      <a:pt x="113" y="185"/>
                    </a:lnTo>
                    <a:lnTo>
                      <a:pt x="83" y="225"/>
                    </a:lnTo>
                    <a:lnTo>
                      <a:pt x="57" y="266"/>
                    </a:lnTo>
                    <a:lnTo>
                      <a:pt x="37" y="310"/>
                    </a:lnTo>
                    <a:lnTo>
                      <a:pt x="21" y="354"/>
                    </a:lnTo>
                    <a:lnTo>
                      <a:pt x="9" y="403"/>
                    </a:lnTo>
                    <a:lnTo>
                      <a:pt x="3" y="451"/>
                    </a:lnTo>
                    <a:lnTo>
                      <a:pt x="0" y="504"/>
                    </a:lnTo>
                    <a:lnTo>
                      <a:pt x="0" y="529"/>
                    </a:lnTo>
                    <a:lnTo>
                      <a:pt x="3" y="555"/>
                    </a:lnTo>
                    <a:lnTo>
                      <a:pt x="5" y="578"/>
                    </a:lnTo>
                    <a:lnTo>
                      <a:pt x="9" y="603"/>
                    </a:lnTo>
                    <a:lnTo>
                      <a:pt x="14" y="626"/>
                    </a:lnTo>
                    <a:lnTo>
                      <a:pt x="21" y="650"/>
                    </a:lnTo>
                    <a:lnTo>
                      <a:pt x="28" y="673"/>
                    </a:lnTo>
                    <a:lnTo>
                      <a:pt x="37" y="696"/>
                    </a:lnTo>
                    <a:lnTo>
                      <a:pt x="57" y="739"/>
                    </a:lnTo>
                    <a:lnTo>
                      <a:pt x="68" y="760"/>
                    </a:lnTo>
                    <a:lnTo>
                      <a:pt x="83" y="781"/>
                    </a:lnTo>
                    <a:lnTo>
                      <a:pt x="97" y="801"/>
                    </a:lnTo>
                    <a:lnTo>
                      <a:pt x="113" y="821"/>
                    </a:lnTo>
                    <a:lnTo>
                      <a:pt x="130" y="840"/>
                    </a:lnTo>
                    <a:lnTo>
                      <a:pt x="149" y="861"/>
                    </a:lnTo>
                    <a:lnTo>
                      <a:pt x="186" y="895"/>
                    </a:lnTo>
                    <a:lnTo>
                      <a:pt x="226" y="924"/>
                    </a:lnTo>
                    <a:lnTo>
                      <a:pt x="267" y="949"/>
                    </a:lnTo>
                    <a:lnTo>
                      <a:pt x="288" y="961"/>
                    </a:lnTo>
                    <a:lnTo>
                      <a:pt x="311" y="971"/>
                    </a:lnTo>
                    <a:lnTo>
                      <a:pt x="355" y="987"/>
                    </a:lnTo>
                    <a:lnTo>
                      <a:pt x="404" y="998"/>
                    </a:lnTo>
                    <a:lnTo>
                      <a:pt x="453" y="1005"/>
                    </a:lnTo>
                    <a:lnTo>
                      <a:pt x="478" y="1007"/>
                    </a:lnTo>
                    <a:lnTo>
                      <a:pt x="505" y="1008"/>
                    </a:lnTo>
                    <a:lnTo>
                      <a:pt x="530" y="1007"/>
                    </a:lnTo>
                    <a:lnTo>
                      <a:pt x="556" y="1005"/>
                    </a:lnTo>
                    <a:lnTo>
                      <a:pt x="567" y="1003"/>
                    </a:lnTo>
                    <a:lnTo>
                      <a:pt x="570" y="1001"/>
                    </a:lnTo>
                    <a:lnTo>
                      <a:pt x="573" y="1001"/>
                    </a:lnTo>
                    <a:lnTo>
                      <a:pt x="580" y="1001"/>
                    </a:lnTo>
                    <a:lnTo>
                      <a:pt x="605" y="998"/>
                    </a:lnTo>
                    <a:lnTo>
                      <a:pt x="627" y="992"/>
                    </a:lnTo>
                    <a:lnTo>
                      <a:pt x="639" y="989"/>
                    </a:lnTo>
                    <a:lnTo>
                      <a:pt x="651" y="987"/>
                    </a:lnTo>
                    <a:lnTo>
                      <a:pt x="674" y="979"/>
                    </a:lnTo>
                    <a:lnTo>
                      <a:pt x="685" y="974"/>
                    </a:lnTo>
                    <a:lnTo>
                      <a:pt x="691" y="972"/>
                    </a:lnTo>
                    <a:lnTo>
                      <a:pt x="698" y="971"/>
                    </a:lnTo>
                    <a:lnTo>
                      <a:pt x="718" y="961"/>
                    </a:lnTo>
                    <a:lnTo>
                      <a:pt x="741" y="949"/>
                    </a:lnTo>
                    <a:lnTo>
                      <a:pt x="761" y="937"/>
                    </a:lnTo>
                    <a:lnTo>
                      <a:pt x="771" y="930"/>
                    </a:lnTo>
                    <a:lnTo>
                      <a:pt x="783" y="924"/>
                    </a:lnTo>
                    <a:lnTo>
                      <a:pt x="792" y="916"/>
                    </a:lnTo>
                    <a:lnTo>
                      <a:pt x="802" y="910"/>
                    </a:lnTo>
                    <a:lnTo>
                      <a:pt x="822" y="895"/>
                    </a:lnTo>
                    <a:lnTo>
                      <a:pt x="861" y="861"/>
                    </a:lnTo>
                    <a:lnTo>
                      <a:pt x="878" y="840"/>
                    </a:lnTo>
                    <a:lnTo>
                      <a:pt x="879" y="837"/>
                    </a:lnTo>
                    <a:lnTo>
                      <a:pt x="881" y="835"/>
                    </a:lnTo>
                    <a:lnTo>
                      <a:pt x="886" y="830"/>
                    </a:lnTo>
                    <a:lnTo>
                      <a:pt x="895" y="821"/>
                    </a:lnTo>
                    <a:lnTo>
                      <a:pt x="910" y="801"/>
                    </a:lnTo>
                    <a:lnTo>
                      <a:pt x="917" y="790"/>
                    </a:lnTo>
                    <a:lnTo>
                      <a:pt x="924" y="781"/>
                    </a:lnTo>
                    <a:lnTo>
                      <a:pt x="930" y="770"/>
                    </a:lnTo>
                    <a:lnTo>
                      <a:pt x="937" y="760"/>
                    </a:lnTo>
                    <a:lnTo>
                      <a:pt x="949" y="739"/>
                    </a:lnTo>
                    <a:lnTo>
                      <a:pt x="972" y="696"/>
                    </a:lnTo>
                    <a:lnTo>
                      <a:pt x="973" y="690"/>
                    </a:lnTo>
                    <a:lnTo>
                      <a:pt x="975" y="684"/>
                    </a:lnTo>
                    <a:lnTo>
                      <a:pt x="980" y="673"/>
                    </a:lnTo>
                    <a:lnTo>
                      <a:pt x="988" y="650"/>
                    </a:lnTo>
                    <a:lnTo>
                      <a:pt x="990" y="637"/>
                    </a:lnTo>
                    <a:lnTo>
                      <a:pt x="994" y="626"/>
                    </a:lnTo>
                    <a:lnTo>
                      <a:pt x="999" y="603"/>
                    </a:lnTo>
                    <a:lnTo>
                      <a:pt x="1003" y="578"/>
                    </a:lnTo>
                    <a:lnTo>
                      <a:pt x="1003" y="572"/>
                    </a:lnTo>
                    <a:lnTo>
                      <a:pt x="1003" y="568"/>
                    </a:lnTo>
                    <a:lnTo>
                      <a:pt x="1004" y="566"/>
                    </a:lnTo>
                    <a:lnTo>
                      <a:pt x="1006" y="555"/>
                    </a:lnTo>
                    <a:lnTo>
                      <a:pt x="1008" y="529"/>
                    </a:lnTo>
                    <a:lnTo>
                      <a:pt x="1009" y="504"/>
                    </a:lnTo>
                    <a:lnTo>
                      <a:pt x="1008" y="476"/>
                    </a:lnTo>
                    <a:lnTo>
                      <a:pt x="1006" y="451"/>
                    </a:lnTo>
                    <a:lnTo>
                      <a:pt x="999" y="403"/>
                    </a:lnTo>
                    <a:lnTo>
                      <a:pt x="988" y="354"/>
                    </a:lnTo>
                    <a:lnTo>
                      <a:pt x="972" y="310"/>
                    </a:lnTo>
                    <a:lnTo>
                      <a:pt x="949" y="266"/>
                    </a:lnTo>
                    <a:lnTo>
                      <a:pt x="924" y="225"/>
                    </a:lnTo>
                    <a:lnTo>
                      <a:pt x="895" y="185"/>
                    </a:lnTo>
                    <a:lnTo>
                      <a:pt x="861" y="148"/>
                    </a:lnTo>
                    <a:lnTo>
                      <a:pt x="822" y="111"/>
                    </a:lnTo>
                    <a:lnTo>
                      <a:pt x="802" y="95"/>
                    </a:lnTo>
                    <a:lnTo>
                      <a:pt x="783" y="82"/>
                    </a:lnTo>
                    <a:lnTo>
                      <a:pt x="761" y="68"/>
                    </a:lnTo>
                    <a:lnTo>
                      <a:pt x="741" y="57"/>
                    </a:lnTo>
                    <a:lnTo>
                      <a:pt x="698" y="37"/>
                    </a:lnTo>
                    <a:lnTo>
                      <a:pt x="674" y="27"/>
                    </a:lnTo>
                    <a:lnTo>
                      <a:pt x="651" y="21"/>
                    </a:lnTo>
                    <a:lnTo>
                      <a:pt x="627" y="14"/>
                    </a:lnTo>
                    <a:lnTo>
                      <a:pt x="605" y="9"/>
                    </a:lnTo>
                    <a:lnTo>
                      <a:pt x="580" y="5"/>
                    </a:lnTo>
                    <a:lnTo>
                      <a:pt x="556" y="3"/>
                    </a:lnTo>
                    <a:lnTo>
                      <a:pt x="530" y="0"/>
                    </a:lnTo>
                    <a:lnTo>
                      <a:pt x="505" y="0"/>
                    </a:lnTo>
                    <a:lnTo>
                      <a:pt x="453" y="3"/>
                    </a:lnTo>
                    <a:lnTo>
                      <a:pt x="404" y="9"/>
                    </a:lnTo>
                    <a:lnTo>
                      <a:pt x="355" y="21"/>
                    </a:lnTo>
                    <a:lnTo>
                      <a:pt x="311" y="37"/>
                    </a:lnTo>
                    <a:lnTo>
                      <a:pt x="267" y="57"/>
                    </a:lnTo>
                    <a:lnTo>
                      <a:pt x="226" y="82"/>
                    </a:lnTo>
                    <a:lnTo>
                      <a:pt x="186" y="111"/>
                    </a:lnTo>
                    <a:lnTo>
                      <a:pt x="149" y="1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761520" y="3036240"/>
                <a:ext cx="144720" cy="132480"/>
              </a:xfrm>
              <a:custGeom>
                <a:avLst/>
                <a:gdLst/>
                <a:ahLst/>
                <a:rect l="l" t="t" r="r" b="b"/>
                <a:pathLst>
                  <a:path w="505" h="465">
                    <a:moveTo>
                      <a:pt x="505" y="275"/>
                    </a:moveTo>
                    <a:lnTo>
                      <a:pt x="505" y="175"/>
                    </a:lnTo>
                    <a:lnTo>
                      <a:pt x="290" y="175"/>
                    </a:lnTo>
                    <a:lnTo>
                      <a:pt x="290" y="0"/>
                    </a:lnTo>
                    <a:lnTo>
                      <a:pt x="199" y="0"/>
                    </a:lnTo>
                    <a:lnTo>
                      <a:pt x="199" y="175"/>
                    </a:lnTo>
                    <a:lnTo>
                      <a:pt x="0" y="175"/>
                    </a:lnTo>
                    <a:lnTo>
                      <a:pt x="0" y="275"/>
                    </a:lnTo>
                    <a:lnTo>
                      <a:pt x="199" y="275"/>
                    </a:lnTo>
                    <a:lnTo>
                      <a:pt x="199" y="465"/>
                    </a:lnTo>
                    <a:lnTo>
                      <a:pt x="290" y="465"/>
                    </a:lnTo>
                    <a:lnTo>
                      <a:pt x="290" y="275"/>
                    </a:lnTo>
                    <a:lnTo>
                      <a:pt x="505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761520" y="3036240"/>
                <a:ext cx="144720" cy="132480"/>
              </a:xfrm>
              <a:custGeom>
                <a:avLst/>
                <a:gdLst/>
                <a:ahLst/>
                <a:rect l="l" t="t" r="r" b="b"/>
                <a:pathLst>
                  <a:path w="505" h="465">
                    <a:moveTo>
                      <a:pt x="505" y="175"/>
                    </a:moveTo>
                    <a:lnTo>
                      <a:pt x="290" y="175"/>
                    </a:lnTo>
                    <a:lnTo>
                      <a:pt x="290" y="0"/>
                    </a:lnTo>
                    <a:lnTo>
                      <a:pt x="199" y="0"/>
                    </a:lnTo>
                    <a:lnTo>
                      <a:pt x="199" y="175"/>
                    </a:lnTo>
                    <a:lnTo>
                      <a:pt x="0" y="175"/>
                    </a:lnTo>
                    <a:lnTo>
                      <a:pt x="0" y="275"/>
                    </a:lnTo>
                    <a:lnTo>
                      <a:pt x="199" y="275"/>
                    </a:lnTo>
                    <a:lnTo>
                      <a:pt x="199" y="465"/>
                    </a:lnTo>
                    <a:lnTo>
                      <a:pt x="290" y="465"/>
                    </a:lnTo>
                    <a:lnTo>
                      <a:pt x="290" y="275"/>
                    </a:lnTo>
                    <a:lnTo>
                      <a:pt x="505" y="275"/>
                    </a:lnTo>
                    <a:lnTo>
                      <a:pt x="505" y="1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8240" y="3778920"/>
                <a:ext cx="169200" cy="223200"/>
              </a:xfrm>
              <a:custGeom>
                <a:avLst/>
                <a:gdLst/>
                <a:ahLst/>
                <a:rect l="l" t="t" r="r" b="b"/>
                <a:pathLst>
                  <a:path w="593" h="782">
                    <a:moveTo>
                      <a:pt x="145" y="0"/>
                    </a:moveTo>
                    <a:lnTo>
                      <a:pt x="120" y="0"/>
                    </a:lnTo>
                    <a:lnTo>
                      <a:pt x="90" y="33"/>
                    </a:lnTo>
                    <a:lnTo>
                      <a:pt x="67" y="68"/>
                    </a:lnTo>
                    <a:lnTo>
                      <a:pt x="45" y="104"/>
                    </a:lnTo>
                    <a:lnTo>
                      <a:pt x="29" y="144"/>
                    </a:lnTo>
                    <a:lnTo>
                      <a:pt x="16" y="183"/>
                    </a:lnTo>
                    <a:lnTo>
                      <a:pt x="6" y="225"/>
                    </a:lnTo>
                    <a:lnTo>
                      <a:pt x="1" y="268"/>
                    </a:lnTo>
                    <a:lnTo>
                      <a:pt x="0" y="313"/>
                    </a:lnTo>
                    <a:lnTo>
                      <a:pt x="1" y="359"/>
                    </a:lnTo>
                    <a:lnTo>
                      <a:pt x="3" y="382"/>
                    </a:lnTo>
                    <a:lnTo>
                      <a:pt x="8" y="406"/>
                    </a:lnTo>
                    <a:lnTo>
                      <a:pt x="18" y="450"/>
                    </a:lnTo>
                    <a:lnTo>
                      <a:pt x="34" y="493"/>
                    </a:lnTo>
                    <a:lnTo>
                      <a:pt x="42" y="513"/>
                    </a:lnTo>
                    <a:lnTo>
                      <a:pt x="52" y="533"/>
                    </a:lnTo>
                    <a:lnTo>
                      <a:pt x="76" y="571"/>
                    </a:lnTo>
                    <a:lnTo>
                      <a:pt x="88" y="590"/>
                    </a:lnTo>
                    <a:lnTo>
                      <a:pt x="103" y="609"/>
                    </a:lnTo>
                    <a:lnTo>
                      <a:pt x="137" y="645"/>
                    </a:lnTo>
                    <a:lnTo>
                      <a:pt x="171" y="677"/>
                    </a:lnTo>
                    <a:lnTo>
                      <a:pt x="208" y="704"/>
                    </a:lnTo>
                    <a:lnTo>
                      <a:pt x="246" y="727"/>
                    </a:lnTo>
                    <a:lnTo>
                      <a:pt x="288" y="747"/>
                    </a:lnTo>
                    <a:lnTo>
                      <a:pt x="330" y="762"/>
                    </a:lnTo>
                    <a:lnTo>
                      <a:pt x="374" y="773"/>
                    </a:lnTo>
                    <a:lnTo>
                      <a:pt x="419" y="780"/>
                    </a:lnTo>
                    <a:lnTo>
                      <a:pt x="468" y="782"/>
                    </a:lnTo>
                    <a:lnTo>
                      <a:pt x="470" y="781"/>
                    </a:lnTo>
                    <a:lnTo>
                      <a:pt x="474" y="781"/>
                    </a:lnTo>
                    <a:lnTo>
                      <a:pt x="480" y="781"/>
                    </a:lnTo>
                    <a:lnTo>
                      <a:pt x="494" y="781"/>
                    </a:lnTo>
                    <a:lnTo>
                      <a:pt x="521" y="779"/>
                    </a:lnTo>
                    <a:lnTo>
                      <a:pt x="534" y="777"/>
                    </a:lnTo>
                    <a:lnTo>
                      <a:pt x="547" y="776"/>
                    </a:lnTo>
                    <a:lnTo>
                      <a:pt x="573" y="771"/>
                    </a:lnTo>
                    <a:lnTo>
                      <a:pt x="582" y="754"/>
                    </a:lnTo>
                    <a:lnTo>
                      <a:pt x="593" y="738"/>
                    </a:lnTo>
                    <a:lnTo>
                      <a:pt x="562" y="745"/>
                    </a:lnTo>
                    <a:lnTo>
                      <a:pt x="546" y="747"/>
                    </a:lnTo>
                    <a:lnTo>
                      <a:pt x="542" y="747"/>
                    </a:lnTo>
                    <a:lnTo>
                      <a:pt x="539" y="747"/>
                    </a:lnTo>
                    <a:lnTo>
                      <a:pt x="538" y="747"/>
                    </a:lnTo>
                    <a:lnTo>
                      <a:pt x="538" y="748"/>
                    </a:lnTo>
                    <a:lnTo>
                      <a:pt x="531" y="751"/>
                    </a:lnTo>
                    <a:lnTo>
                      <a:pt x="500" y="754"/>
                    </a:lnTo>
                    <a:lnTo>
                      <a:pt x="468" y="755"/>
                    </a:lnTo>
                    <a:lnTo>
                      <a:pt x="421" y="753"/>
                    </a:lnTo>
                    <a:lnTo>
                      <a:pt x="378" y="746"/>
                    </a:lnTo>
                    <a:lnTo>
                      <a:pt x="336" y="736"/>
                    </a:lnTo>
                    <a:lnTo>
                      <a:pt x="298" y="722"/>
                    </a:lnTo>
                    <a:lnTo>
                      <a:pt x="259" y="703"/>
                    </a:lnTo>
                    <a:lnTo>
                      <a:pt x="223" y="680"/>
                    </a:lnTo>
                    <a:lnTo>
                      <a:pt x="188" y="654"/>
                    </a:lnTo>
                    <a:lnTo>
                      <a:pt x="156" y="625"/>
                    </a:lnTo>
                    <a:lnTo>
                      <a:pt x="124" y="591"/>
                    </a:lnTo>
                    <a:lnTo>
                      <a:pt x="98" y="556"/>
                    </a:lnTo>
                    <a:lnTo>
                      <a:pt x="76" y="519"/>
                    </a:lnTo>
                    <a:lnTo>
                      <a:pt x="59" y="482"/>
                    </a:lnTo>
                    <a:lnTo>
                      <a:pt x="44" y="442"/>
                    </a:lnTo>
                    <a:lnTo>
                      <a:pt x="38" y="421"/>
                    </a:lnTo>
                    <a:lnTo>
                      <a:pt x="35" y="400"/>
                    </a:lnTo>
                    <a:lnTo>
                      <a:pt x="28" y="357"/>
                    </a:lnTo>
                    <a:lnTo>
                      <a:pt x="27" y="313"/>
                    </a:lnTo>
                    <a:lnTo>
                      <a:pt x="28" y="266"/>
                    </a:lnTo>
                    <a:lnTo>
                      <a:pt x="35" y="223"/>
                    </a:lnTo>
                    <a:lnTo>
                      <a:pt x="44" y="181"/>
                    </a:lnTo>
                    <a:lnTo>
                      <a:pt x="59" y="143"/>
                    </a:lnTo>
                    <a:lnTo>
                      <a:pt x="76" y="104"/>
                    </a:lnTo>
                    <a:lnTo>
                      <a:pt x="98" y="68"/>
                    </a:lnTo>
                    <a:lnTo>
                      <a:pt x="124" y="33"/>
                    </a:lnTo>
                    <a:lnTo>
                      <a:pt x="156" y="1"/>
                    </a:lnTo>
                    <a:lnTo>
                      <a:pt x="158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324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65440" y="3778920"/>
                <a:ext cx="167040" cy="215640"/>
              </a:xfrm>
              <a:custGeom>
                <a:avLst/>
                <a:gdLst/>
                <a:ahLst/>
                <a:rect l="l" t="t" r="r" b="b"/>
                <a:pathLst>
                  <a:path w="583" h="755">
                    <a:moveTo>
                      <a:pt x="131" y="0"/>
                    </a:moveTo>
                    <a:lnTo>
                      <a:pt x="129" y="1"/>
                    </a:lnTo>
                    <a:lnTo>
                      <a:pt x="97" y="33"/>
                    </a:lnTo>
                    <a:lnTo>
                      <a:pt x="71" y="68"/>
                    </a:lnTo>
                    <a:lnTo>
                      <a:pt x="49" y="104"/>
                    </a:lnTo>
                    <a:lnTo>
                      <a:pt x="32" y="143"/>
                    </a:lnTo>
                    <a:lnTo>
                      <a:pt x="17" y="181"/>
                    </a:lnTo>
                    <a:lnTo>
                      <a:pt x="8" y="223"/>
                    </a:lnTo>
                    <a:lnTo>
                      <a:pt x="1" y="266"/>
                    </a:lnTo>
                    <a:lnTo>
                      <a:pt x="0" y="313"/>
                    </a:lnTo>
                    <a:lnTo>
                      <a:pt x="1" y="357"/>
                    </a:lnTo>
                    <a:lnTo>
                      <a:pt x="8" y="400"/>
                    </a:lnTo>
                    <a:lnTo>
                      <a:pt x="11" y="421"/>
                    </a:lnTo>
                    <a:lnTo>
                      <a:pt x="17" y="442"/>
                    </a:lnTo>
                    <a:lnTo>
                      <a:pt x="32" y="482"/>
                    </a:lnTo>
                    <a:lnTo>
                      <a:pt x="49" y="519"/>
                    </a:lnTo>
                    <a:lnTo>
                      <a:pt x="71" y="556"/>
                    </a:lnTo>
                    <a:lnTo>
                      <a:pt x="97" y="591"/>
                    </a:lnTo>
                    <a:lnTo>
                      <a:pt x="129" y="625"/>
                    </a:lnTo>
                    <a:lnTo>
                      <a:pt x="161" y="654"/>
                    </a:lnTo>
                    <a:lnTo>
                      <a:pt x="196" y="680"/>
                    </a:lnTo>
                    <a:lnTo>
                      <a:pt x="232" y="703"/>
                    </a:lnTo>
                    <a:lnTo>
                      <a:pt x="271" y="722"/>
                    </a:lnTo>
                    <a:lnTo>
                      <a:pt x="309" y="736"/>
                    </a:lnTo>
                    <a:lnTo>
                      <a:pt x="351" y="746"/>
                    </a:lnTo>
                    <a:lnTo>
                      <a:pt x="394" y="753"/>
                    </a:lnTo>
                    <a:lnTo>
                      <a:pt x="441" y="755"/>
                    </a:lnTo>
                    <a:lnTo>
                      <a:pt x="473" y="754"/>
                    </a:lnTo>
                    <a:lnTo>
                      <a:pt x="504" y="751"/>
                    </a:lnTo>
                    <a:lnTo>
                      <a:pt x="511" y="748"/>
                    </a:lnTo>
                    <a:lnTo>
                      <a:pt x="511" y="747"/>
                    </a:lnTo>
                    <a:lnTo>
                      <a:pt x="512" y="747"/>
                    </a:lnTo>
                    <a:lnTo>
                      <a:pt x="515" y="747"/>
                    </a:lnTo>
                    <a:lnTo>
                      <a:pt x="519" y="747"/>
                    </a:lnTo>
                    <a:lnTo>
                      <a:pt x="535" y="745"/>
                    </a:lnTo>
                    <a:lnTo>
                      <a:pt x="566" y="738"/>
                    </a:lnTo>
                    <a:lnTo>
                      <a:pt x="583" y="704"/>
                    </a:lnTo>
                    <a:lnTo>
                      <a:pt x="549" y="713"/>
                    </a:lnTo>
                    <a:lnTo>
                      <a:pt x="531" y="717"/>
                    </a:lnTo>
                    <a:lnTo>
                      <a:pt x="514" y="721"/>
                    </a:lnTo>
                    <a:lnTo>
                      <a:pt x="477" y="725"/>
                    </a:lnTo>
                    <a:lnTo>
                      <a:pt x="441" y="727"/>
                    </a:lnTo>
                    <a:lnTo>
                      <a:pt x="398" y="725"/>
                    </a:lnTo>
                    <a:lnTo>
                      <a:pt x="357" y="719"/>
                    </a:lnTo>
                    <a:lnTo>
                      <a:pt x="317" y="709"/>
                    </a:lnTo>
                    <a:lnTo>
                      <a:pt x="281" y="696"/>
                    </a:lnTo>
                    <a:lnTo>
                      <a:pt x="245" y="678"/>
                    </a:lnTo>
                    <a:lnTo>
                      <a:pt x="211" y="658"/>
                    </a:lnTo>
                    <a:lnTo>
                      <a:pt x="178" y="633"/>
                    </a:lnTo>
                    <a:lnTo>
                      <a:pt x="148" y="606"/>
                    </a:lnTo>
                    <a:lnTo>
                      <a:pt x="119" y="574"/>
                    </a:lnTo>
                    <a:lnTo>
                      <a:pt x="95" y="541"/>
                    </a:lnTo>
                    <a:lnTo>
                      <a:pt x="74" y="506"/>
                    </a:lnTo>
                    <a:lnTo>
                      <a:pt x="65" y="488"/>
                    </a:lnTo>
                    <a:lnTo>
                      <a:pt x="58" y="471"/>
                    </a:lnTo>
                    <a:lnTo>
                      <a:pt x="50" y="451"/>
                    </a:lnTo>
                    <a:lnTo>
                      <a:pt x="44" y="433"/>
                    </a:lnTo>
                    <a:lnTo>
                      <a:pt x="35" y="395"/>
                    </a:lnTo>
                    <a:lnTo>
                      <a:pt x="29" y="354"/>
                    </a:lnTo>
                    <a:lnTo>
                      <a:pt x="28" y="313"/>
                    </a:lnTo>
                    <a:lnTo>
                      <a:pt x="29" y="270"/>
                    </a:lnTo>
                    <a:lnTo>
                      <a:pt x="35" y="229"/>
                    </a:lnTo>
                    <a:lnTo>
                      <a:pt x="44" y="189"/>
                    </a:lnTo>
                    <a:lnTo>
                      <a:pt x="58" y="153"/>
                    </a:lnTo>
                    <a:lnTo>
                      <a:pt x="74" y="117"/>
                    </a:lnTo>
                    <a:lnTo>
                      <a:pt x="95" y="83"/>
                    </a:lnTo>
                    <a:lnTo>
                      <a:pt x="119" y="50"/>
                    </a:lnTo>
                    <a:lnTo>
                      <a:pt x="148" y="20"/>
                    </a:lnTo>
                    <a:lnTo>
                      <a:pt x="169" y="2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365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326560" y="3784680"/>
                <a:ext cx="173880" cy="248760"/>
              </a:xfrm>
              <a:custGeom>
                <a:avLst/>
                <a:gdLst/>
                <a:ahLst/>
                <a:rect l="l" t="t" r="r" b="b"/>
                <a:pathLst>
                  <a:path w="607" h="873">
                    <a:moveTo>
                      <a:pt x="111" y="0"/>
                    </a:moveTo>
                    <a:lnTo>
                      <a:pt x="89" y="6"/>
                    </a:lnTo>
                    <a:lnTo>
                      <a:pt x="70" y="14"/>
                    </a:lnTo>
                    <a:lnTo>
                      <a:pt x="53" y="45"/>
                    </a:lnTo>
                    <a:lnTo>
                      <a:pt x="38" y="77"/>
                    </a:lnTo>
                    <a:lnTo>
                      <a:pt x="17" y="147"/>
                    </a:lnTo>
                    <a:lnTo>
                      <a:pt x="9" y="182"/>
                    </a:lnTo>
                    <a:lnTo>
                      <a:pt x="3" y="218"/>
                    </a:lnTo>
                    <a:lnTo>
                      <a:pt x="0" y="294"/>
                    </a:lnTo>
                    <a:lnTo>
                      <a:pt x="0" y="322"/>
                    </a:lnTo>
                    <a:lnTo>
                      <a:pt x="2" y="352"/>
                    </a:lnTo>
                    <a:lnTo>
                      <a:pt x="4" y="380"/>
                    </a:lnTo>
                    <a:lnTo>
                      <a:pt x="10" y="410"/>
                    </a:lnTo>
                    <a:lnTo>
                      <a:pt x="14" y="436"/>
                    </a:lnTo>
                    <a:lnTo>
                      <a:pt x="22" y="463"/>
                    </a:lnTo>
                    <a:lnTo>
                      <a:pt x="30" y="489"/>
                    </a:lnTo>
                    <a:lnTo>
                      <a:pt x="42" y="516"/>
                    </a:lnTo>
                    <a:lnTo>
                      <a:pt x="52" y="540"/>
                    </a:lnTo>
                    <a:lnTo>
                      <a:pt x="64" y="565"/>
                    </a:lnTo>
                    <a:lnTo>
                      <a:pt x="78" y="589"/>
                    </a:lnTo>
                    <a:lnTo>
                      <a:pt x="94" y="614"/>
                    </a:lnTo>
                    <a:lnTo>
                      <a:pt x="128" y="659"/>
                    </a:lnTo>
                    <a:lnTo>
                      <a:pt x="147" y="681"/>
                    </a:lnTo>
                    <a:lnTo>
                      <a:pt x="169" y="703"/>
                    </a:lnTo>
                    <a:lnTo>
                      <a:pt x="211" y="742"/>
                    </a:lnTo>
                    <a:lnTo>
                      <a:pt x="257" y="776"/>
                    </a:lnTo>
                    <a:lnTo>
                      <a:pt x="280" y="791"/>
                    </a:lnTo>
                    <a:lnTo>
                      <a:pt x="304" y="804"/>
                    </a:lnTo>
                    <a:lnTo>
                      <a:pt x="355" y="829"/>
                    </a:lnTo>
                    <a:lnTo>
                      <a:pt x="406" y="847"/>
                    </a:lnTo>
                    <a:lnTo>
                      <a:pt x="461" y="861"/>
                    </a:lnTo>
                    <a:lnTo>
                      <a:pt x="488" y="865"/>
                    </a:lnTo>
                    <a:lnTo>
                      <a:pt x="517" y="869"/>
                    </a:lnTo>
                    <a:lnTo>
                      <a:pt x="577" y="873"/>
                    </a:lnTo>
                    <a:lnTo>
                      <a:pt x="607" y="845"/>
                    </a:lnTo>
                    <a:lnTo>
                      <a:pt x="578" y="846"/>
                    </a:lnTo>
                    <a:lnTo>
                      <a:pt x="548" y="845"/>
                    </a:lnTo>
                    <a:lnTo>
                      <a:pt x="520" y="843"/>
                    </a:lnTo>
                    <a:lnTo>
                      <a:pt x="467" y="836"/>
                    </a:lnTo>
                    <a:lnTo>
                      <a:pt x="415" y="822"/>
                    </a:lnTo>
                    <a:lnTo>
                      <a:pt x="390" y="814"/>
                    </a:lnTo>
                    <a:lnTo>
                      <a:pt x="366" y="805"/>
                    </a:lnTo>
                    <a:lnTo>
                      <a:pt x="341" y="794"/>
                    </a:lnTo>
                    <a:lnTo>
                      <a:pt x="317" y="782"/>
                    </a:lnTo>
                    <a:lnTo>
                      <a:pt x="272" y="754"/>
                    </a:lnTo>
                    <a:lnTo>
                      <a:pt x="228" y="720"/>
                    </a:lnTo>
                    <a:lnTo>
                      <a:pt x="188" y="684"/>
                    </a:lnTo>
                    <a:lnTo>
                      <a:pt x="168" y="662"/>
                    </a:lnTo>
                    <a:lnTo>
                      <a:pt x="149" y="642"/>
                    </a:lnTo>
                    <a:lnTo>
                      <a:pt x="116" y="599"/>
                    </a:lnTo>
                    <a:lnTo>
                      <a:pt x="102" y="575"/>
                    </a:lnTo>
                    <a:lnTo>
                      <a:pt x="89" y="552"/>
                    </a:lnTo>
                    <a:lnTo>
                      <a:pt x="77" y="529"/>
                    </a:lnTo>
                    <a:lnTo>
                      <a:pt x="67" y="506"/>
                    </a:lnTo>
                    <a:lnTo>
                      <a:pt x="56" y="480"/>
                    </a:lnTo>
                    <a:lnTo>
                      <a:pt x="48" y="455"/>
                    </a:lnTo>
                    <a:lnTo>
                      <a:pt x="41" y="429"/>
                    </a:lnTo>
                    <a:lnTo>
                      <a:pt x="36" y="404"/>
                    </a:lnTo>
                    <a:lnTo>
                      <a:pt x="29" y="350"/>
                    </a:lnTo>
                    <a:lnTo>
                      <a:pt x="27" y="321"/>
                    </a:lnTo>
                    <a:lnTo>
                      <a:pt x="27" y="294"/>
                    </a:lnTo>
                    <a:lnTo>
                      <a:pt x="28" y="252"/>
                    </a:lnTo>
                    <a:lnTo>
                      <a:pt x="31" y="212"/>
                    </a:lnTo>
                    <a:lnTo>
                      <a:pt x="37" y="174"/>
                    </a:lnTo>
                    <a:lnTo>
                      <a:pt x="47" y="138"/>
                    </a:lnTo>
                    <a:lnTo>
                      <a:pt x="59" y="101"/>
                    </a:lnTo>
                    <a:lnTo>
                      <a:pt x="73" y="66"/>
                    </a:lnTo>
                    <a:lnTo>
                      <a:pt x="90" y="32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263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318640" y="3787920"/>
                <a:ext cx="172440" cy="253440"/>
              </a:xfrm>
              <a:custGeom>
                <a:avLst/>
                <a:gdLst/>
                <a:ahLst/>
                <a:rect l="l" t="t" r="r" b="b"/>
                <a:pathLst>
                  <a:path w="606" h="887">
                    <a:moveTo>
                      <a:pt x="99" y="0"/>
                    </a:moveTo>
                    <a:lnTo>
                      <a:pt x="77" y="8"/>
                    </a:lnTo>
                    <a:lnTo>
                      <a:pt x="58" y="18"/>
                    </a:lnTo>
                    <a:lnTo>
                      <a:pt x="32" y="78"/>
                    </a:lnTo>
                    <a:lnTo>
                      <a:pt x="22" y="110"/>
                    </a:lnTo>
                    <a:lnTo>
                      <a:pt x="14" y="143"/>
                    </a:lnTo>
                    <a:lnTo>
                      <a:pt x="4" y="210"/>
                    </a:lnTo>
                    <a:lnTo>
                      <a:pt x="0" y="244"/>
                    </a:lnTo>
                    <a:lnTo>
                      <a:pt x="0" y="280"/>
                    </a:lnTo>
                    <a:lnTo>
                      <a:pt x="0" y="309"/>
                    </a:lnTo>
                    <a:lnTo>
                      <a:pt x="3" y="340"/>
                    </a:lnTo>
                    <a:lnTo>
                      <a:pt x="5" y="370"/>
                    </a:lnTo>
                    <a:lnTo>
                      <a:pt x="11" y="400"/>
                    </a:lnTo>
                    <a:lnTo>
                      <a:pt x="16" y="429"/>
                    </a:lnTo>
                    <a:lnTo>
                      <a:pt x="24" y="457"/>
                    </a:lnTo>
                    <a:lnTo>
                      <a:pt x="33" y="484"/>
                    </a:lnTo>
                    <a:lnTo>
                      <a:pt x="45" y="512"/>
                    </a:lnTo>
                    <a:lnTo>
                      <a:pt x="55" y="537"/>
                    </a:lnTo>
                    <a:lnTo>
                      <a:pt x="68" y="563"/>
                    </a:lnTo>
                    <a:lnTo>
                      <a:pt x="82" y="588"/>
                    </a:lnTo>
                    <a:lnTo>
                      <a:pt x="99" y="614"/>
                    </a:lnTo>
                    <a:lnTo>
                      <a:pt x="116" y="638"/>
                    </a:lnTo>
                    <a:lnTo>
                      <a:pt x="135" y="663"/>
                    </a:lnTo>
                    <a:lnTo>
                      <a:pt x="156" y="686"/>
                    </a:lnTo>
                    <a:lnTo>
                      <a:pt x="178" y="710"/>
                    </a:lnTo>
                    <a:lnTo>
                      <a:pt x="199" y="729"/>
                    </a:lnTo>
                    <a:lnTo>
                      <a:pt x="219" y="747"/>
                    </a:lnTo>
                    <a:lnTo>
                      <a:pt x="263" y="781"/>
                    </a:lnTo>
                    <a:lnTo>
                      <a:pt x="310" y="811"/>
                    </a:lnTo>
                    <a:lnTo>
                      <a:pt x="359" y="836"/>
                    </a:lnTo>
                    <a:lnTo>
                      <a:pt x="407" y="854"/>
                    </a:lnTo>
                    <a:lnTo>
                      <a:pt x="461" y="870"/>
                    </a:lnTo>
                    <a:lnTo>
                      <a:pt x="487" y="875"/>
                    </a:lnTo>
                    <a:lnTo>
                      <a:pt x="514" y="880"/>
                    </a:lnTo>
                    <a:lnTo>
                      <a:pt x="572" y="887"/>
                    </a:lnTo>
                    <a:lnTo>
                      <a:pt x="606" y="859"/>
                    </a:lnTo>
                    <a:lnTo>
                      <a:pt x="546" y="855"/>
                    </a:lnTo>
                    <a:lnTo>
                      <a:pt x="517" y="851"/>
                    </a:lnTo>
                    <a:lnTo>
                      <a:pt x="490" y="847"/>
                    </a:lnTo>
                    <a:lnTo>
                      <a:pt x="435" y="833"/>
                    </a:lnTo>
                    <a:lnTo>
                      <a:pt x="384" y="815"/>
                    </a:lnTo>
                    <a:lnTo>
                      <a:pt x="333" y="790"/>
                    </a:lnTo>
                    <a:lnTo>
                      <a:pt x="309" y="777"/>
                    </a:lnTo>
                    <a:lnTo>
                      <a:pt x="286" y="762"/>
                    </a:lnTo>
                    <a:lnTo>
                      <a:pt x="240" y="728"/>
                    </a:lnTo>
                    <a:lnTo>
                      <a:pt x="198" y="689"/>
                    </a:lnTo>
                    <a:lnTo>
                      <a:pt x="176" y="667"/>
                    </a:lnTo>
                    <a:lnTo>
                      <a:pt x="157" y="645"/>
                    </a:lnTo>
                    <a:lnTo>
                      <a:pt x="123" y="600"/>
                    </a:lnTo>
                    <a:lnTo>
                      <a:pt x="107" y="575"/>
                    </a:lnTo>
                    <a:lnTo>
                      <a:pt x="93" y="551"/>
                    </a:lnTo>
                    <a:lnTo>
                      <a:pt x="81" y="526"/>
                    </a:lnTo>
                    <a:lnTo>
                      <a:pt x="71" y="502"/>
                    </a:lnTo>
                    <a:lnTo>
                      <a:pt x="59" y="475"/>
                    </a:lnTo>
                    <a:lnTo>
                      <a:pt x="51" y="449"/>
                    </a:lnTo>
                    <a:lnTo>
                      <a:pt x="43" y="422"/>
                    </a:lnTo>
                    <a:lnTo>
                      <a:pt x="39" y="396"/>
                    </a:lnTo>
                    <a:lnTo>
                      <a:pt x="33" y="366"/>
                    </a:lnTo>
                    <a:lnTo>
                      <a:pt x="31" y="338"/>
                    </a:lnTo>
                    <a:lnTo>
                      <a:pt x="29" y="308"/>
                    </a:lnTo>
                    <a:lnTo>
                      <a:pt x="29" y="280"/>
                    </a:lnTo>
                    <a:lnTo>
                      <a:pt x="32" y="204"/>
                    </a:lnTo>
                    <a:lnTo>
                      <a:pt x="38" y="168"/>
                    </a:lnTo>
                    <a:lnTo>
                      <a:pt x="46" y="133"/>
                    </a:lnTo>
                    <a:lnTo>
                      <a:pt x="67" y="63"/>
                    </a:lnTo>
                    <a:lnTo>
                      <a:pt x="82" y="3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223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310720" y="3793680"/>
                <a:ext cx="170640" cy="254520"/>
              </a:xfrm>
              <a:custGeom>
                <a:avLst/>
                <a:gdLst/>
                <a:ahLst/>
                <a:rect l="l" t="t" r="r" b="b"/>
                <a:pathLst>
                  <a:path w="599" h="894">
                    <a:moveTo>
                      <a:pt x="85" y="0"/>
                    </a:moveTo>
                    <a:lnTo>
                      <a:pt x="44" y="24"/>
                    </a:lnTo>
                    <a:lnTo>
                      <a:pt x="24" y="79"/>
                    </a:lnTo>
                    <a:lnTo>
                      <a:pt x="10" y="137"/>
                    </a:lnTo>
                    <a:lnTo>
                      <a:pt x="2" y="197"/>
                    </a:lnTo>
                    <a:lnTo>
                      <a:pt x="0" y="262"/>
                    </a:lnTo>
                    <a:lnTo>
                      <a:pt x="0" y="294"/>
                    </a:lnTo>
                    <a:lnTo>
                      <a:pt x="2" y="325"/>
                    </a:lnTo>
                    <a:lnTo>
                      <a:pt x="6" y="356"/>
                    </a:lnTo>
                    <a:lnTo>
                      <a:pt x="11" y="388"/>
                    </a:lnTo>
                    <a:lnTo>
                      <a:pt x="17" y="417"/>
                    </a:lnTo>
                    <a:lnTo>
                      <a:pt x="25" y="448"/>
                    </a:lnTo>
                    <a:lnTo>
                      <a:pt x="34" y="476"/>
                    </a:lnTo>
                    <a:lnTo>
                      <a:pt x="47" y="506"/>
                    </a:lnTo>
                    <a:lnTo>
                      <a:pt x="58" y="532"/>
                    </a:lnTo>
                    <a:lnTo>
                      <a:pt x="72" y="559"/>
                    </a:lnTo>
                    <a:lnTo>
                      <a:pt x="86" y="585"/>
                    </a:lnTo>
                    <a:lnTo>
                      <a:pt x="104" y="612"/>
                    </a:lnTo>
                    <a:lnTo>
                      <a:pt x="121" y="637"/>
                    </a:lnTo>
                    <a:lnTo>
                      <a:pt x="142" y="662"/>
                    </a:lnTo>
                    <a:lnTo>
                      <a:pt x="162" y="686"/>
                    </a:lnTo>
                    <a:lnTo>
                      <a:pt x="186" y="711"/>
                    </a:lnTo>
                    <a:lnTo>
                      <a:pt x="226" y="747"/>
                    </a:lnTo>
                    <a:lnTo>
                      <a:pt x="269" y="781"/>
                    </a:lnTo>
                    <a:lnTo>
                      <a:pt x="312" y="811"/>
                    </a:lnTo>
                    <a:lnTo>
                      <a:pt x="358" y="836"/>
                    </a:lnTo>
                    <a:lnTo>
                      <a:pt x="405" y="856"/>
                    </a:lnTo>
                    <a:lnTo>
                      <a:pt x="455" y="872"/>
                    </a:lnTo>
                    <a:lnTo>
                      <a:pt x="506" y="884"/>
                    </a:lnTo>
                    <a:lnTo>
                      <a:pt x="559" y="894"/>
                    </a:lnTo>
                    <a:lnTo>
                      <a:pt x="599" y="869"/>
                    </a:lnTo>
                    <a:lnTo>
                      <a:pt x="541" y="862"/>
                    </a:lnTo>
                    <a:lnTo>
                      <a:pt x="514" y="857"/>
                    </a:lnTo>
                    <a:lnTo>
                      <a:pt x="488" y="852"/>
                    </a:lnTo>
                    <a:lnTo>
                      <a:pt x="434" y="836"/>
                    </a:lnTo>
                    <a:lnTo>
                      <a:pt x="386" y="818"/>
                    </a:lnTo>
                    <a:lnTo>
                      <a:pt x="337" y="793"/>
                    </a:lnTo>
                    <a:lnTo>
                      <a:pt x="290" y="763"/>
                    </a:lnTo>
                    <a:lnTo>
                      <a:pt x="246" y="729"/>
                    </a:lnTo>
                    <a:lnTo>
                      <a:pt x="226" y="711"/>
                    </a:lnTo>
                    <a:lnTo>
                      <a:pt x="205" y="692"/>
                    </a:lnTo>
                    <a:lnTo>
                      <a:pt x="183" y="668"/>
                    </a:lnTo>
                    <a:lnTo>
                      <a:pt x="162" y="645"/>
                    </a:lnTo>
                    <a:lnTo>
                      <a:pt x="143" y="620"/>
                    </a:lnTo>
                    <a:lnTo>
                      <a:pt x="126" y="596"/>
                    </a:lnTo>
                    <a:lnTo>
                      <a:pt x="109" y="570"/>
                    </a:lnTo>
                    <a:lnTo>
                      <a:pt x="95" y="545"/>
                    </a:lnTo>
                    <a:lnTo>
                      <a:pt x="82" y="519"/>
                    </a:lnTo>
                    <a:lnTo>
                      <a:pt x="72" y="494"/>
                    </a:lnTo>
                    <a:lnTo>
                      <a:pt x="60" y="466"/>
                    </a:lnTo>
                    <a:lnTo>
                      <a:pt x="51" y="439"/>
                    </a:lnTo>
                    <a:lnTo>
                      <a:pt x="43" y="411"/>
                    </a:lnTo>
                    <a:lnTo>
                      <a:pt x="38" y="382"/>
                    </a:lnTo>
                    <a:lnTo>
                      <a:pt x="32" y="352"/>
                    </a:lnTo>
                    <a:lnTo>
                      <a:pt x="30" y="322"/>
                    </a:lnTo>
                    <a:lnTo>
                      <a:pt x="27" y="291"/>
                    </a:lnTo>
                    <a:lnTo>
                      <a:pt x="27" y="262"/>
                    </a:lnTo>
                    <a:lnTo>
                      <a:pt x="27" y="226"/>
                    </a:lnTo>
                    <a:lnTo>
                      <a:pt x="31" y="192"/>
                    </a:lnTo>
                    <a:lnTo>
                      <a:pt x="41" y="125"/>
                    </a:lnTo>
                    <a:lnTo>
                      <a:pt x="49" y="92"/>
                    </a:lnTo>
                    <a:lnTo>
                      <a:pt x="59" y="6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1f2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287320" y="3817800"/>
                <a:ext cx="157320" cy="245880"/>
              </a:xfrm>
              <a:custGeom>
                <a:avLst/>
                <a:gdLst/>
                <a:ahLst/>
                <a:rect l="l" t="t" r="r" b="b"/>
                <a:pathLst>
                  <a:path w="551" h="862">
                    <a:moveTo>
                      <a:pt x="38" y="11"/>
                    </a:moveTo>
                    <a:lnTo>
                      <a:pt x="13" y="38"/>
                    </a:lnTo>
                    <a:lnTo>
                      <a:pt x="6" y="70"/>
                    </a:lnTo>
                    <a:lnTo>
                      <a:pt x="3" y="106"/>
                    </a:lnTo>
                    <a:lnTo>
                      <a:pt x="0" y="177"/>
                    </a:lnTo>
                    <a:lnTo>
                      <a:pt x="0" y="212"/>
                    </a:lnTo>
                    <a:lnTo>
                      <a:pt x="3" y="248"/>
                    </a:lnTo>
                    <a:lnTo>
                      <a:pt x="6" y="284"/>
                    </a:lnTo>
                    <a:lnTo>
                      <a:pt x="13" y="319"/>
                    </a:lnTo>
                    <a:lnTo>
                      <a:pt x="20" y="352"/>
                    </a:lnTo>
                    <a:lnTo>
                      <a:pt x="29" y="386"/>
                    </a:lnTo>
                    <a:lnTo>
                      <a:pt x="39" y="418"/>
                    </a:lnTo>
                    <a:lnTo>
                      <a:pt x="53" y="451"/>
                    </a:lnTo>
                    <a:lnTo>
                      <a:pt x="65" y="482"/>
                    </a:lnTo>
                    <a:lnTo>
                      <a:pt x="81" y="513"/>
                    </a:lnTo>
                    <a:lnTo>
                      <a:pt x="98" y="542"/>
                    </a:lnTo>
                    <a:lnTo>
                      <a:pt x="117" y="573"/>
                    </a:lnTo>
                    <a:lnTo>
                      <a:pt x="136" y="600"/>
                    </a:lnTo>
                    <a:lnTo>
                      <a:pt x="159" y="628"/>
                    </a:lnTo>
                    <a:lnTo>
                      <a:pt x="183" y="655"/>
                    </a:lnTo>
                    <a:lnTo>
                      <a:pt x="210" y="684"/>
                    </a:lnTo>
                    <a:lnTo>
                      <a:pt x="242" y="713"/>
                    </a:lnTo>
                    <a:lnTo>
                      <a:pt x="275" y="742"/>
                    </a:lnTo>
                    <a:lnTo>
                      <a:pt x="309" y="768"/>
                    </a:lnTo>
                    <a:lnTo>
                      <a:pt x="345" y="791"/>
                    </a:lnTo>
                    <a:lnTo>
                      <a:pt x="381" y="812"/>
                    </a:lnTo>
                    <a:lnTo>
                      <a:pt x="419" y="831"/>
                    </a:lnTo>
                    <a:lnTo>
                      <a:pt x="457" y="847"/>
                    </a:lnTo>
                    <a:lnTo>
                      <a:pt x="498" y="862"/>
                    </a:lnTo>
                    <a:lnTo>
                      <a:pt x="524" y="855"/>
                    </a:lnTo>
                    <a:lnTo>
                      <a:pt x="551" y="848"/>
                    </a:lnTo>
                    <a:lnTo>
                      <a:pt x="506" y="835"/>
                    </a:lnTo>
                    <a:lnTo>
                      <a:pt x="463" y="820"/>
                    </a:lnTo>
                    <a:lnTo>
                      <a:pt x="420" y="801"/>
                    </a:lnTo>
                    <a:lnTo>
                      <a:pt x="380" y="780"/>
                    </a:lnTo>
                    <a:lnTo>
                      <a:pt x="339" y="755"/>
                    </a:lnTo>
                    <a:lnTo>
                      <a:pt x="302" y="728"/>
                    </a:lnTo>
                    <a:lnTo>
                      <a:pt x="265" y="697"/>
                    </a:lnTo>
                    <a:lnTo>
                      <a:pt x="229" y="665"/>
                    </a:lnTo>
                    <a:lnTo>
                      <a:pt x="203" y="637"/>
                    </a:lnTo>
                    <a:lnTo>
                      <a:pt x="181" y="611"/>
                    </a:lnTo>
                    <a:lnTo>
                      <a:pt x="159" y="584"/>
                    </a:lnTo>
                    <a:lnTo>
                      <a:pt x="140" y="558"/>
                    </a:lnTo>
                    <a:lnTo>
                      <a:pt x="121" y="528"/>
                    </a:lnTo>
                    <a:lnTo>
                      <a:pt x="105" y="500"/>
                    </a:lnTo>
                    <a:lnTo>
                      <a:pt x="90" y="471"/>
                    </a:lnTo>
                    <a:lnTo>
                      <a:pt x="77" y="441"/>
                    </a:lnTo>
                    <a:lnTo>
                      <a:pt x="65" y="409"/>
                    </a:lnTo>
                    <a:lnTo>
                      <a:pt x="55" y="379"/>
                    </a:lnTo>
                    <a:lnTo>
                      <a:pt x="46" y="346"/>
                    </a:lnTo>
                    <a:lnTo>
                      <a:pt x="40" y="314"/>
                    </a:lnTo>
                    <a:lnTo>
                      <a:pt x="33" y="280"/>
                    </a:lnTo>
                    <a:lnTo>
                      <a:pt x="30" y="246"/>
                    </a:lnTo>
                    <a:lnTo>
                      <a:pt x="28" y="211"/>
                    </a:lnTo>
                    <a:lnTo>
                      <a:pt x="28" y="177"/>
                    </a:lnTo>
                    <a:lnTo>
                      <a:pt x="29" y="130"/>
                    </a:lnTo>
                    <a:lnTo>
                      <a:pt x="32" y="86"/>
                    </a:lnTo>
                    <a:lnTo>
                      <a:pt x="39" y="42"/>
                    </a:lnTo>
                    <a:lnTo>
                      <a:pt x="49" y="0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16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294880" y="3808080"/>
                <a:ext cx="163800" cy="251640"/>
              </a:xfrm>
              <a:custGeom>
                <a:avLst/>
                <a:gdLst/>
                <a:ahLst/>
                <a:rect l="l" t="t" r="r" b="b"/>
                <a:pathLst>
                  <a:path w="572" h="882">
                    <a:moveTo>
                      <a:pt x="60" y="0"/>
                    </a:moveTo>
                    <a:lnTo>
                      <a:pt x="21" y="34"/>
                    </a:lnTo>
                    <a:lnTo>
                      <a:pt x="11" y="76"/>
                    </a:lnTo>
                    <a:lnTo>
                      <a:pt x="4" y="120"/>
                    </a:lnTo>
                    <a:lnTo>
                      <a:pt x="1" y="164"/>
                    </a:lnTo>
                    <a:lnTo>
                      <a:pt x="0" y="211"/>
                    </a:lnTo>
                    <a:lnTo>
                      <a:pt x="0" y="245"/>
                    </a:lnTo>
                    <a:lnTo>
                      <a:pt x="2" y="280"/>
                    </a:lnTo>
                    <a:lnTo>
                      <a:pt x="5" y="314"/>
                    </a:lnTo>
                    <a:lnTo>
                      <a:pt x="12" y="348"/>
                    </a:lnTo>
                    <a:lnTo>
                      <a:pt x="18" y="380"/>
                    </a:lnTo>
                    <a:lnTo>
                      <a:pt x="27" y="413"/>
                    </a:lnTo>
                    <a:lnTo>
                      <a:pt x="37" y="443"/>
                    </a:lnTo>
                    <a:lnTo>
                      <a:pt x="49" y="475"/>
                    </a:lnTo>
                    <a:lnTo>
                      <a:pt x="62" y="505"/>
                    </a:lnTo>
                    <a:lnTo>
                      <a:pt x="77" y="534"/>
                    </a:lnTo>
                    <a:lnTo>
                      <a:pt x="93" y="562"/>
                    </a:lnTo>
                    <a:lnTo>
                      <a:pt x="112" y="592"/>
                    </a:lnTo>
                    <a:lnTo>
                      <a:pt x="131" y="618"/>
                    </a:lnTo>
                    <a:lnTo>
                      <a:pt x="153" y="645"/>
                    </a:lnTo>
                    <a:lnTo>
                      <a:pt x="175" y="671"/>
                    </a:lnTo>
                    <a:lnTo>
                      <a:pt x="201" y="699"/>
                    </a:lnTo>
                    <a:lnTo>
                      <a:pt x="237" y="731"/>
                    </a:lnTo>
                    <a:lnTo>
                      <a:pt x="274" y="762"/>
                    </a:lnTo>
                    <a:lnTo>
                      <a:pt x="311" y="789"/>
                    </a:lnTo>
                    <a:lnTo>
                      <a:pt x="352" y="814"/>
                    </a:lnTo>
                    <a:lnTo>
                      <a:pt x="392" y="835"/>
                    </a:lnTo>
                    <a:lnTo>
                      <a:pt x="435" y="854"/>
                    </a:lnTo>
                    <a:lnTo>
                      <a:pt x="478" y="869"/>
                    </a:lnTo>
                    <a:lnTo>
                      <a:pt x="523" y="882"/>
                    </a:lnTo>
                    <a:lnTo>
                      <a:pt x="547" y="873"/>
                    </a:lnTo>
                    <a:lnTo>
                      <a:pt x="572" y="864"/>
                    </a:lnTo>
                    <a:lnTo>
                      <a:pt x="521" y="853"/>
                    </a:lnTo>
                    <a:lnTo>
                      <a:pt x="474" y="839"/>
                    </a:lnTo>
                    <a:lnTo>
                      <a:pt x="427" y="821"/>
                    </a:lnTo>
                    <a:lnTo>
                      <a:pt x="384" y="801"/>
                    </a:lnTo>
                    <a:lnTo>
                      <a:pt x="340" y="774"/>
                    </a:lnTo>
                    <a:lnTo>
                      <a:pt x="299" y="746"/>
                    </a:lnTo>
                    <a:lnTo>
                      <a:pt x="259" y="714"/>
                    </a:lnTo>
                    <a:lnTo>
                      <a:pt x="222" y="679"/>
                    </a:lnTo>
                    <a:lnTo>
                      <a:pt x="197" y="653"/>
                    </a:lnTo>
                    <a:lnTo>
                      <a:pt x="175" y="628"/>
                    </a:lnTo>
                    <a:lnTo>
                      <a:pt x="154" y="602"/>
                    </a:lnTo>
                    <a:lnTo>
                      <a:pt x="136" y="576"/>
                    </a:lnTo>
                    <a:lnTo>
                      <a:pt x="118" y="548"/>
                    </a:lnTo>
                    <a:lnTo>
                      <a:pt x="102" y="521"/>
                    </a:lnTo>
                    <a:lnTo>
                      <a:pt x="87" y="492"/>
                    </a:lnTo>
                    <a:lnTo>
                      <a:pt x="76" y="465"/>
                    </a:lnTo>
                    <a:lnTo>
                      <a:pt x="63" y="434"/>
                    </a:lnTo>
                    <a:lnTo>
                      <a:pt x="54" y="405"/>
                    </a:lnTo>
                    <a:lnTo>
                      <a:pt x="45" y="373"/>
                    </a:lnTo>
                    <a:lnTo>
                      <a:pt x="39" y="343"/>
                    </a:lnTo>
                    <a:lnTo>
                      <a:pt x="34" y="310"/>
                    </a:lnTo>
                    <a:lnTo>
                      <a:pt x="30" y="278"/>
                    </a:lnTo>
                    <a:lnTo>
                      <a:pt x="28" y="244"/>
                    </a:lnTo>
                    <a:lnTo>
                      <a:pt x="28" y="211"/>
                    </a:lnTo>
                    <a:lnTo>
                      <a:pt x="29" y="154"/>
                    </a:lnTo>
                    <a:lnTo>
                      <a:pt x="36" y="101"/>
                    </a:lnTo>
                    <a:lnTo>
                      <a:pt x="45" y="49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92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263200" y="3855240"/>
                <a:ext cx="130680" cy="210600"/>
              </a:xfrm>
              <a:custGeom>
                <a:avLst/>
                <a:gdLst/>
                <a:ahLst/>
                <a:rect l="l" t="t" r="r" b="b"/>
                <a:pathLst>
                  <a:path w="457" h="738">
                    <a:moveTo>
                      <a:pt x="27" y="44"/>
                    </a:moveTo>
                    <a:lnTo>
                      <a:pt x="28" y="0"/>
                    </a:lnTo>
                    <a:lnTo>
                      <a:pt x="12" y="32"/>
                    </a:lnTo>
                    <a:lnTo>
                      <a:pt x="0" y="64"/>
                    </a:lnTo>
                    <a:lnTo>
                      <a:pt x="0" y="103"/>
                    </a:lnTo>
                    <a:lnTo>
                      <a:pt x="3" y="141"/>
                    </a:lnTo>
                    <a:lnTo>
                      <a:pt x="8" y="179"/>
                    </a:lnTo>
                    <a:lnTo>
                      <a:pt x="15" y="217"/>
                    </a:lnTo>
                    <a:lnTo>
                      <a:pt x="23" y="253"/>
                    </a:lnTo>
                    <a:lnTo>
                      <a:pt x="35" y="289"/>
                    </a:lnTo>
                    <a:lnTo>
                      <a:pt x="46" y="324"/>
                    </a:lnTo>
                    <a:lnTo>
                      <a:pt x="61" y="359"/>
                    </a:lnTo>
                    <a:lnTo>
                      <a:pt x="76" y="392"/>
                    </a:lnTo>
                    <a:lnTo>
                      <a:pt x="94" y="425"/>
                    </a:lnTo>
                    <a:lnTo>
                      <a:pt x="112" y="457"/>
                    </a:lnTo>
                    <a:lnTo>
                      <a:pt x="133" y="490"/>
                    </a:lnTo>
                    <a:lnTo>
                      <a:pt x="155" y="520"/>
                    </a:lnTo>
                    <a:lnTo>
                      <a:pt x="180" y="551"/>
                    </a:lnTo>
                    <a:lnTo>
                      <a:pt x="206" y="580"/>
                    </a:lnTo>
                    <a:lnTo>
                      <a:pt x="234" y="610"/>
                    </a:lnTo>
                    <a:lnTo>
                      <a:pt x="269" y="643"/>
                    </a:lnTo>
                    <a:lnTo>
                      <a:pt x="308" y="676"/>
                    </a:lnTo>
                    <a:lnTo>
                      <a:pt x="347" y="704"/>
                    </a:lnTo>
                    <a:lnTo>
                      <a:pt x="387" y="732"/>
                    </a:lnTo>
                    <a:lnTo>
                      <a:pt x="420" y="736"/>
                    </a:lnTo>
                    <a:lnTo>
                      <a:pt x="457" y="738"/>
                    </a:lnTo>
                    <a:lnTo>
                      <a:pt x="428" y="723"/>
                    </a:lnTo>
                    <a:lnTo>
                      <a:pt x="401" y="707"/>
                    </a:lnTo>
                    <a:lnTo>
                      <a:pt x="350" y="673"/>
                    </a:lnTo>
                    <a:lnTo>
                      <a:pt x="325" y="654"/>
                    </a:lnTo>
                    <a:lnTo>
                      <a:pt x="300" y="634"/>
                    </a:lnTo>
                    <a:lnTo>
                      <a:pt x="254" y="590"/>
                    </a:lnTo>
                    <a:lnTo>
                      <a:pt x="225" y="561"/>
                    </a:lnTo>
                    <a:lnTo>
                      <a:pt x="200" y="532"/>
                    </a:lnTo>
                    <a:lnTo>
                      <a:pt x="175" y="501"/>
                    </a:lnTo>
                    <a:lnTo>
                      <a:pt x="154" y="470"/>
                    </a:lnTo>
                    <a:lnTo>
                      <a:pt x="132" y="437"/>
                    </a:lnTo>
                    <a:lnTo>
                      <a:pt x="114" y="406"/>
                    </a:lnTo>
                    <a:lnTo>
                      <a:pt x="97" y="373"/>
                    </a:lnTo>
                    <a:lnTo>
                      <a:pt x="84" y="340"/>
                    </a:lnTo>
                    <a:lnTo>
                      <a:pt x="69" y="305"/>
                    </a:lnTo>
                    <a:lnTo>
                      <a:pt x="57" y="270"/>
                    </a:lnTo>
                    <a:lnTo>
                      <a:pt x="47" y="233"/>
                    </a:lnTo>
                    <a:lnTo>
                      <a:pt x="40" y="197"/>
                    </a:lnTo>
                    <a:lnTo>
                      <a:pt x="34" y="158"/>
                    </a:lnTo>
                    <a:lnTo>
                      <a:pt x="30" y="121"/>
                    </a:lnTo>
                    <a:lnTo>
                      <a:pt x="27" y="83"/>
                    </a:lnTo>
                    <a:lnTo>
                      <a:pt x="27" y="44"/>
                    </a:lnTo>
                    <a:close/>
                  </a:path>
                </a:pathLst>
              </a:custGeom>
              <a:solidFill>
                <a:srgbClr val="0c1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1120" y="3840480"/>
                <a:ext cx="141120" cy="226080"/>
              </a:xfrm>
              <a:custGeom>
                <a:avLst/>
                <a:gdLst/>
                <a:ahLst/>
                <a:rect l="l" t="t" r="r" b="b"/>
                <a:pathLst>
                  <a:path w="493" h="791">
                    <a:moveTo>
                      <a:pt x="1" y="52"/>
                    </a:moveTo>
                    <a:lnTo>
                      <a:pt x="0" y="96"/>
                    </a:lnTo>
                    <a:lnTo>
                      <a:pt x="0" y="135"/>
                    </a:lnTo>
                    <a:lnTo>
                      <a:pt x="3" y="173"/>
                    </a:lnTo>
                    <a:lnTo>
                      <a:pt x="7" y="210"/>
                    </a:lnTo>
                    <a:lnTo>
                      <a:pt x="13" y="249"/>
                    </a:lnTo>
                    <a:lnTo>
                      <a:pt x="20" y="285"/>
                    </a:lnTo>
                    <a:lnTo>
                      <a:pt x="30" y="322"/>
                    </a:lnTo>
                    <a:lnTo>
                      <a:pt x="42" y="357"/>
                    </a:lnTo>
                    <a:lnTo>
                      <a:pt x="57" y="392"/>
                    </a:lnTo>
                    <a:lnTo>
                      <a:pt x="70" y="425"/>
                    </a:lnTo>
                    <a:lnTo>
                      <a:pt x="87" y="458"/>
                    </a:lnTo>
                    <a:lnTo>
                      <a:pt x="105" y="489"/>
                    </a:lnTo>
                    <a:lnTo>
                      <a:pt x="127" y="522"/>
                    </a:lnTo>
                    <a:lnTo>
                      <a:pt x="148" y="553"/>
                    </a:lnTo>
                    <a:lnTo>
                      <a:pt x="173" y="584"/>
                    </a:lnTo>
                    <a:lnTo>
                      <a:pt x="198" y="613"/>
                    </a:lnTo>
                    <a:lnTo>
                      <a:pt x="227" y="642"/>
                    </a:lnTo>
                    <a:lnTo>
                      <a:pt x="273" y="686"/>
                    </a:lnTo>
                    <a:lnTo>
                      <a:pt x="298" y="706"/>
                    </a:lnTo>
                    <a:lnTo>
                      <a:pt x="323" y="725"/>
                    </a:lnTo>
                    <a:lnTo>
                      <a:pt x="374" y="759"/>
                    </a:lnTo>
                    <a:lnTo>
                      <a:pt x="401" y="775"/>
                    </a:lnTo>
                    <a:lnTo>
                      <a:pt x="430" y="790"/>
                    </a:lnTo>
                    <a:lnTo>
                      <a:pt x="449" y="791"/>
                    </a:lnTo>
                    <a:lnTo>
                      <a:pt x="453" y="790"/>
                    </a:lnTo>
                    <a:lnTo>
                      <a:pt x="459" y="790"/>
                    </a:lnTo>
                    <a:lnTo>
                      <a:pt x="470" y="790"/>
                    </a:lnTo>
                    <a:lnTo>
                      <a:pt x="493" y="789"/>
                    </a:lnTo>
                    <a:lnTo>
                      <a:pt x="459" y="774"/>
                    </a:lnTo>
                    <a:lnTo>
                      <a:pt x="426" y="757"/>
                    </a:lnTo>
                    <a:lnTo>
                      <a:pt x="393" y="739"/>
                    </a:lnTo>
                    <a:lnTo>
                      <a:pt x="363" y="720"/>
                    </a:lnTo>
                    <a:lnTo>
                      <a:pt x="332" y="698"/>
                    </a:lnTo>
                    <a:lnTo>
                      <a:pt x="303" y="674"/>
                    </a:lnTo>
                    <a:lnTo>
                      <a:pt x="273" y="649"/>
                    </a:lnTo>
                    <a:lnTo>
                      <a:pt x="246" y="623"/>
                    </a:lnTo>
                    <a:lnTo>
                      <a:pt x="219" y="594"/>
                    </a:lnTo>
                    <a:lnTo>
                      <a:pt x="195" y="565"/>
                    </a:lnTo>
                    <a:lnTo>
                      <a:pt x="171" y="536"/>
                    </a:lnTo>
                    <a:lnTo>
                      <a:pt x="151" y="508"/>
                    </a:lnTo>
                    <a:lnTo>
                      <a:pt x="130" y="476"/>
                    </a:lnTo>
                    <a:lnTo>
                      <a:pt x="113" y="445"/>
                    </a:lnTo>
                    <a:lnTo>
                      <a:pt x="96" y="413"/>
                    </a:lnTo>
                    <a:lnTo>
                      <a:pt x="83" y="382"/>
                    </a:lnTo>
                    <a:lnTo>
                      <a:pt x="69" y="348"/>
                    </a:lnTo>
                    <a:lnTo>
                      <a:pt x="59" y="314"/>
                    </a:lnTo>
                    <a:lnTo>
                      <a:pt x="49" y="279"/>
                    </a:lnTo>
                    <a:lnTo>
                      <a:pt x="42" y="245"/>
                    </a:lnTo>
                    <a:lnTo>
                      <a:pt x="35" y="207"/>
                    </a:lnTo>
                    <a:lnTo>
                      <a:pt x="32" y="171"/>
                    </a:lnTo>
                    <a:lnTo>
                      <a:pt x="28" y="133"/>
                    </a:lnTo>
                    <a:lnTo>
                      <a:pt x="28" y="96"/>
                    </a:lnTo>
                    <a:lnTo>
                      <a:pt x="29" y="47"/>
                    </a:lnTo>
                    <a:lnTo>
                      <a:pt x="34" y="0"/>
                    </a:lnTo>
                    <a:lnTo>
                      <a:pt x="16" y="25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0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279040" y="3828600"/>
                <a:ext cx="150120" cy="237600"/>
              </a:xfrm>
              <a:custGeom>
                <a:avLst/>
                <a:gdLst/>
                <a:ahLst/>
                <a:rect l="l" t="t" r="r" b="b"/>
                <a:pathLst>
                  <a:path w="525" h="832">
                    <a:moveTo>
                      <a:pt x="6" y="43"/>
                    </a:moveTo>
                    <a:lnTo>
                      <a:pt x="1" y="90"/>
                    </a:lnTo>
                    <a:lnTo>
                      <a:pt x="0" y="139"/>
                    </a:lnTo>
                    <a:lnTo>
                      <a:pt x="0" y="176"/>
                    </a:lnTo>
                    <a:lnTo>
                      <a:pt x="4" y="214"/>
                    </a:lnTo>
                    <a:lnTo>
                      <a:pt x="7" y="250"/>
                    </a:lnTo>
                    <a:lnTo>
                      <a:pt x="14" y="288"/>
                    </a:lnTo>
                    <a:lnTo>
                      <a:pt x="21" y="322"/>
                    </a:lnTo>
                    <a:lnTo>
                      <a:pt x="31" y="357"/>
                    </a:lnTo>
                    <a:lnTo>
                      <a:pt x="41" y="391"/>
                    </a:lnTo>
                    <a:lnTo>
                      <a:pt x="55" y="425"/>
                    </a:lnTo>
                    <a:lnTo>
                      <a:pt x="68" y="456"/>
                    </a:lnTo>
                    <a:lnTo>
                      <a:pt x="85" y="488"/>
                    </a:lnTo>
                    <a:lnTo>
                      <a:pt x="102" y="519"/>
                    </a:lnTo>
                    <a:lnTo>
                      <a:pt x="123" y="551"/>
                    </a:lnTo>
                    <a:lnTo>
                      <a:pt x="143" y="579"/>
                    </a:lnTo>
                    <a:lnTo>
                      <a:pt x="167" y="608"/>
                    </a:lnTo>
                    <a:lnTo>
                      <a:pt x="191" y="637"/>
                    </a:lnTo>
                    <a:lnTo>
                      <a:pt x="218" y="666"/>
                    </a:lnTo>
                    <a:lnTo>
                      <a:pt x="245" y="692"/>
                    </a:lnTo>
                    <a:lnTo>
                      <a:pt x="275" y="717"/>
                    </a:lnTo>
                    <a:lnTo>
                      <a:pt x="304" y="741"/>
                    </a:lnTo>
                    <a:lnTo>
                      <a:pt x="335" y="763"/>
                    </a:lnTo>
                    <a:lnTo>
                      <a:pt x="365" y="782"/>
                    </a:lnTo>
                    <a:lnTo>
                      <a:pt x="398" y="800"/>
                    </a:lnTo>
                    <a:lnTo>
                      <a:pt x="431" y="817"/>
                    </a:lnTo>
                    <a:lnTo>
                      <a:pt x="465" y="832"/>
                    </a:lnTo>
                    <a:lnTo>
                      <a:pt x="495" y="828"/>
                    </a:lnTo>
                    <a:lnTo>
                      <a:pt x="525" y="824"/>
                    </a:lnTo>
                    <a:lnTo>
                      <a:pt x="484" y="809"/>
                    </a:lnTo>
                    <a:lnTo>
                      <a:pt x="446" y="793"/>
                    </a:lnTo>
                    <a:lnTo>
                      <a:pt x="408" y="774"/>
                    </a:lnTo>
                    <a:lnTo>
                      <a:pt x="372" y="753"/>
                    </a:lnTo>
                    <a:lnTo>
                      <a:pt x="336" y="730"/>
                    </a:lnTo>
                    <a:lnTo>
                      <a:pt x="302" y="704"/>
                    </a:lnTo>
                    <a:lnTo>
                      <a:pt x="269" y="675"/>
                    </a:lnTo>
                    <a:lnTo>
                      <a:pt x="237" y="646"/>
                    </a:lnTo>
                    <a:lnTo>
                      <a:pt x="210" y="617"/>
                    </a:lnTo>
                    <a:lnTo>
                      <a:pt x="186" y="590"/>
                    </a:lnTo>
                    <a:lnTo>
                      <a:pt x="163" y="562"/>
                    </a:lnTo>
                    <a:lnTo>
                      <a:pt x="144" y="535"/>
                    </a:lnTo>
                    <a:lnTo>
                      <a:pt x="125" y="504"/>
                    </a:lnTo>
                    <a:lnTo>
                      <a:pt x="108" y="475"/>
                    </a:lnTo>
                    <a:lnTo>
                      <a:pt x="92" y="444"/>
                    </a:lnTo>
                    <a:lnTo>
                      <a:pt x="80" y="413"/>
                    </a:lnTo>
                    <a:lnTo>
                      <a:pt x="66" y="380"/>
                    </a:lnTo>
                    <a:lnTo>
                      <a:pt x="56" y="348"/>
                    </a:lnTo>
                    <a:lnTo>
                      <a:pt x="47" y="314"/>
                    </a:lnTo>
                    <a:lnTo>
                      <a:pt x="40" y="281"/>
                    </a:lnTo>
                    <a:lnTo>
                      <a:pt x="33" y="246"/>
                    </a:lnTo>
                    <a:lnTo>
                      <a:pt x="30" y="210"/>
                    </a:lnTo>
                    <a:lnTo>
                      <a:pt x="27" y="174"/>
                    </a:lnTo>
                    <a:lnTo>
                      <a:pt x="27" y="139"/>
                    </a:lnTo>
                    <a:lnTo>
                      <a:pt x="30" y="68"/>
                    </a:lnTo>
                    <a:lnTo>
                      <a:pt x="33" y="32"/>
                    </a:lnTo>
                    <a:lnTo>
                      <a:pt x="40" y="0"/>
                    </a:lnTo>
                    <a:lnTo>
                      <a:pt x="6" y="43"/>
                    </a:lnTo>
                    <a:close/>
                  </a:path>
                </a:pathLst>
              </a:custGeom>
              <a:solidFill>
                <a:srgbClr val="121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302800" y="3799800"/>
                <a:ext cx="168120" cy="254520"/>
              </a:xfrm>
              <a:custGeom>
                <a:avLst/>
                <a:gdLst/>
                <a:ahLst/>
                <a:rect l="l" t="t" r="r" b="b"/>
                <a:pathLst>
                  <a:path w="586" h="891">
                    <a:moveTo>
                      <a:pt x="32" y="27"/>
                    </a:moveTo>
                    <a:lnTo>
                      <a:pt x="17" y="76"/>
                    </a:lnTo>
                    <a:lnTo>
                      <a:pt x="8" y="128"/>
                    </a:lnTo>
                    <a:lnTo>
                      <a:pt x="1" y="181"/>
                    </a:lnTo>
                    <a:lnTo>
                      <a:pt x="0" y="238"/>
                    </a:lnTo>
                    <a:lnTo>
                      <a:pt x="0" y="271"/>
                    </a:lnTo>
                    <a:lnTo>
                      <a:pt x="2" y="305"/>
                    </a:lnTo>
                    <a:lnTo>
                      <a:pt x="6" y="337"/>
                    </a:lnTo>
                    <a:lnTo>
                      <a:pt x="11" y="370"/>
                    </a:lnTo>
                    <a:lnTo>
                      <a:pt x="17" y="400"/>
                    </a:lnTo>
                    <a:lnTo>
                      <a:pt x="26" y="432"/>
                    </a:lnTo>
                    <a:lnTo>
                      <a:pt x="35" y="461"/>
                    </a:lnTo>
                    <a:lnTo>
                      <a:pt x="48" y="492"/>
                    </a:lnTo>
                    <a:lnTo>
                      <a:pt x="59" y="519"/>
                    </a:lnTo>
                    <a:lnTo>
                      <a:pt x="74" y="548"/>
                    </a:lnTo>
                    <a:lnTo>
                      <a:pt x="90" y="575"/>
                    </a:lnTo>
                    <a:lnTo>
                      <a:pt x="108" y="603"/>
                    </a:lnTo>
                    <a:lnTo>
                      <a:pt x="126" y="629"/>
                    </a:lnTo>
                    <a:lnTo>
                      <a:pt x="147" y="655"/>
                    </a:lnTo>
                    <a:lnTo>
                      <a:pt x="169" y="680"/>
                    </a:lnTo>
                    <a:lnTo>
                      <a:pt x="194" y="706"/>
                    </a:lnTo>
                    <a:lnTo>
                      <a:pt x="231" y="741"/>
                    </a:lnTo>
                    <a:lnTo>
                      <a:pt x="271" y="773"/>
                    </a:lnTo>
                    <a:lnTo>
                      <a:pt x="312" y="801"/>
                    </a:lnTo>
                    <a:lnTo>
                      <a:pt x="356" y="828"/>
                    </a:lnTo>
                    <a:lnTo>
                      <a:pt x="399" y="848"/>
                    </a:lnTo>
                    <a:lnTo>
                      <a:pt x="446" y="866"/>
                    </a:lnTo>
                    <a:lnTo>
                      <a:pt x="493" y="880"/>
                    </a:lnTo>
                    <a:lnTo>
                      <a:pt x="544" y="891"/>
                    </a:lnTo>
                    <a:lnTo>
                      <a:pt x="565" y="880"/>
                    </a:lnTo>
                    <a:lnTo>
                      <a:pt x="569" y="876"/>
                    </a:lnTo>
                    <a:lnTo>
                      <a:pt x="575" y="874"/>
                    </a:lnTo>
                    <a:lnTo>
                      <a:pt x="586" y="870"/>
                    </a:lnTo>
                    <a:lnTo>
                      <a:pt x="533" y="860"/>
                    </a:lnTo>
                    <a:lnTo>
                      <a:pt x="482" y="848"/>
                    </a:lnTo>
                    <a:lnTo>
                      <a:pt x="432" y="832"/>
                    </a:lnTo>
                    <a:lnTo>
                      <a:pt x="385" y="812"/>
                    </a:lnTo>
                    <a:lnTo>
                      <a:pt x="339" y="787"/>
                    </a:lnTo>
                    <a:lnTo>
                      <a:pt x="296" y="757"/>
                    </a:lnTo>
                    <a:lnTo>
                      <a:pt x="253" y="723"/>
                    </a:lnTo>
                    <a:lnTo>
                      <a:pt x="213" y="687"/>
                    </a:lnTo>
                    <a:lnTo>
                      <a:pt x="189" y="662"/>
                    </a:lnTo>
                    <a:lnTo>
                      <a:pt x="169" y="638"/>
                    </a:lnTo>
                    <a:lnTo>
                      <a:pt x="148" y="613"/>
                    </a:lnTo>
                    <a:lnTo>
                      <a:pt x="131" y="588"/>
                    </a:lnTo>
                    <a:lnTo>
                      <a:pt x="113" y="561"/>
                    </a:lnTo>
                    <a:lnTo>
                      <a:pt x="99" y="535"/>
                    </a:lnTo>
                    <a:lnTo>
                      <a:pt x="85" y="508"/>
                    </a:lnTo>
                    <a:lnTo>
                      <a:pt x="74" y="482"/>
                    </a:lnTo>
                    <a:lnTo>
                      <a:pt x="61" y="452"/>
                    </a:lnTo>
                    <a:lnTo>
                      <a:pt x="52" y="424"/>
                    </a:lnTo>
                    <a:lnTo>
                      <a:pt x="44" y="393"/>
                    </a:lnTo>
                    <a:lnTo>
                      <a:pt x="38" y="364"/>
                    </a:lnTo>
                    <a:lnTo>
                      <a:pt x="33" y="332"/>
                    </a:lnTo>
                    <a:lnTo>
                      <a:pt x="29" y="301"/>
                    </a:lnTo>
                    <a:lnTo>
                      <a:pt x="27" y="270"/>
                    </a:lnTo>
                    <a:lnTo>
                      <a:pt x="27" y="238"/>
                    </a:lnTo>
                    <a:lnTo>
                      <a:pt x="29" y="173"/>
                    </a:lnTo>
                    <a:lnTo>
                      <a:pt x="37" y="113"/>
                    </a:lnTo>
                    <a:lnTo>
                      <a:pt x="51" y="55"/>
                    </a:lnTo>
                    <a:lnTo>
                      <a:pt x="71" y="0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1c2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334120" y="3781800"/>
                <a:ext cx="174240" cy="244080"/>
              </a:xfrm>
              <a:custGeom>
                <a:avLst/>
                <a:gdLst/>
                <a:ahLst/>
                <a:rect l="l" t="t" r="r" b="b"/>
                <a:pathLst>
                  <a:path w="609" h="856">
                    <a:moveTo>
                      <a:pt x="84" y="10"/>
                    </a:moveTo>
                    <a:lnTo>
                      <a:pt x="63" y="42"/>
                    </a:lnTo>
                    <a:lnTo>
                      <a:pt x="46" y="76"/>
                    </a:lnTo>
                    <a:lnTo>
                      <a:pt x="32" y="111"/>
                    </a:lnTo>
                    <a:lnTo>
                      <a:pt x="20" y="148"/>
                    </a:lnTo>
                    <a:lnTo>
                      <a:pt x="10" y="184"/>
                    </a:lnTo>
                    <a:lnTo>
                      <a:pt x="4" y="222"/>
                    </a:lnTo>
                    <a:lnTo>
                      <a:pt x="1" y="262"/>
                    </a:lnTo>
                    <a:lnTo>
                      <a:pt x="0" y="304"/>
                    </a:lnTo>
                    <a:lnTo>
                      <a:pt x="0" y="331"/>
                    </a:lnTo>
                    <a:lnTo>
                      <a:pt x="2" y="360"/>
                    </a:lnTo>
                    <a:lnTo>
                      <a:pt x="9" y="414"/>
                    </a:lnTo>
                    <a:lnTo>
                      <a:pt x="14" y="439"/>
                    </a:lnTo>
                    <a:lnTo>
                      <a:pt x="21" y="465"/>
                    </a:lnTo>
                    <a:lnTo>
                      <a:pt x="29" y="490"/>
                    </a:lnTo>
                    <a:lnTo>
                      <a:pt x="40" y="516"/>
                    </a:lnTo>
                    <a:lnTo>
                      <a:pt x="50" y="539"/>
                    </a:lnTo>
                    <a:lnTo>
                      <a:pt x="62" y="562"/>
                    </a:lnTo>
                    <a:lnTo>
                      <a:pt x="75" y="585"/>
                    </a:lnTo>
                    <a:lnTo>
                      <a:pt x="89" y="609"/>
                    </a:lnTo>
                    <a:lnTo>
                      <a:pt x="122" y="652"/>
                    </a:lnTo>
                    <a:lnTo>
                      <a:pt x="141" y="672"/>
                    </a:lnTo>
                    <a:lnTo>
                      <a:pt x="161" y="694"/>
                    </a:lnTo>
                    <a:lnTo>
                      <a:pt x="201" y="730"/>
                    </a:lnTo>
                    <a:lnTo>
                      <a:pt x="245" y="764"/>
                    </a:lnTo>
                    <a:lnTo>
                      <a:pt x="290" y="792"/>
                    </a:lnTo>
                    <a:lnTo>
                      <a:pt x="314" y="804"/>
                    </a:lnTo>
                    <a:lnTo>
                      <a:pt x="339" y="815"/>
                    </a:lnTo>
                    <a:lnTo>
                      <a:pt x="363" y="824"/>
                    </a:lnTo>
                    <a:lnTo>
                      <a:pt x="388" y="832"/>
                    </a:lnTo>
                    <a:lnTo>
                      <a:pt x="440" y="846"/>
                    </a:lnTo>
                    <a:lnTo>
                      <a:pt x="493" y="853"/>
                    </a:lnTo>
                    <a:lnTo>
                      <a:pt x="521" y="855"/>
                    </a:lnTo>
                    <a:lnTo>
                      <a:pt x="551" y="856"/>
                    </a:lnTo>
                    <a:lnTo>
                      <a:pt x="580" y="855"/>
                    </a:lnTo>
                    <a:lnTo>
                      <a:pt x="584" y="852"/>
                    </a:lnTo>
                    <a:lnTo>
                      <a:pt x="609" y="826"/>
                    </a:lnTo>
                    <a:lnTo>
                      <a:pt x="579" y="827"/>
                    </a:lnTo>
                    <a:lnTo>
                      <a:pt x="565" y="827"/>
                    </a:lnTo>
                    <a:lnTo>
                      <a:pt x="551" y="828"/>
                    </a:lnTo>
                    <a:lnTo>
                      <a:pt x="524" y="827"/>
                    </a:lnTo>
                    <a:lnTo>
                      <a:pt x="497" y="824"/>
                    </a:lnTo>
                    <a:lnTo>
                      <a:pt x="446" y="818"/>
                    </a:lnTo>
                    <a:lnTo>
                      <a:pt x="421" y="812"/>
                    </a:lnTo>
                    <a:lnTo>
                      <a:pt x="396" y="805"/>
                    </a:lnTo>
                    <a:lnTo>
                      <a:pt x="349" y="789"/>
                    </a:lnTo>
                    <a:lnTo>
                      <a:pt x="303" y="767"/>
                    </a:lnTo>
                    <a:lnTo>
                      <a:pt x="281" y="754"/>
                    </a:lnTo>
                    <a:lnTo>
                      <a:pt x="261" y="740"/>
                    </a:lnTo>
                    <a:lnTo>
                      <a:pt x="219" y="709"/>
                    </a:lnTo>
                    <a:lnTo>
                      <a:pt x="181" y="675"/>
                    </a:lnTo>
                    <a:lnTo>
                      <a:pt x="162" y="654"/>
                    </a:lnTo>
                    <a:lnTo>
                      <a:pt x="145" y="635"/>
                    </a:lnTo>
                    <a:lnTo>
                      <a:pt x="128" y="614"/>
                    </a:lnTo>
                    <a:lnTo>
                      <a:pt x="113" y="593"/>
                    </a:lnTo>
                    <a:lnTo>
                      <a:pt x="99" y="570"/>
                    </a:lnTo>
                    <a:lnTo>
                      <a:pt x="86" y="549"/>
                    </a:lnTo>
                    <a:lnTo>
                      <a:pt x="75" y="526"/>
                    </a:lnTo>
                    <a:lnTo>
                      <a:pt x="66" y="505"/>
                    </a:lnTo>
                    <a:lnTo>
                      <a:pt x="48" y="457"/>
                    </a:lnTo>
                    <a:lnTo>
                      <a:pt x="41" y="432"/>
                    </a:lnTo>
                    <a:lnTo>
                      <a:pt x="36" y="408"/>
                    </a:lnTo>
                    <a:lnTo>
                      <a:pt x="32" y="382"/>
                    </a:lnTo>
                    <a:lnTo>
                      <a:pt x="29" y="357"/>
                    </a:lnTo>
                    <a:lnTo>
                      <a:pt x="27" y="330"/>
                    </a:lnTo>
                    <a:lnTo>
                      <a:pt x="27" y="304"/>
                    </a:lnTo>
                    <a:lnTo>
                      <a:pt x="28" y="261"/>
                    </a:lnTo>
                    <a:lnTo>
                      <a:pt x="33" y="220"/>
                    </a:lnTo>
                    <a:lnTo>
                      <a:pt x="40" y="179"/>
                    </a:lnTo>
                    <a:lnTo>
                      <a:pt x="51" y="142"/>
                    </a:lnTo>
                    <a:lnTo>
                      <a:pt x="63" y="103"/>
                    </a:lnTo>
                    <a:lnTo>
                      <a:pt x="80" y="68"/>
                    </a:lnTo>
                    <a:lnTo>
                      <a:pt x="100" y="33"/>
                    </a:lnTo>
                    <a:lnTo>
                      <a:pt x="124" y="0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29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374080" y="3779280"/>
                <a:ext cx="162360" cy="206640"/>
              </a:xfrm>
              <a:custGeom>
                <a:avLst/>
                <a:gdLst/>
                <a:ahLst/>
                <a:rect l="l" t="t" r="r" b="b"/>
                <a:pathLst>
                  <a:path w="568" h="725">
                    <a:moveTo>
                      <a:pt x="141" y="38"/>
                    </a:moveTo>
                    <a:lnTo>
                      <a:pt x="178" y="5"/>
                    </a:lnTo>
                    <a:lnTo>
                      <a:pt x="159" y="1"/>
                    </a:lnTo>
                    <a:lnTo>
                      <a:pt x="141" y="0"/>
                    </a:lnTo>
                    <a:lnTo>
                      <a:pt x="120" y="18"/>
                    </a:lnTo>
                    <a:lnTo>
                      <a:pt x="91" y="48"/>
                    </a:lnTo>
                    <a:lnTo>
                      <a:pt x="67" y="81"/>
                    </a:lnTo>
                    <a:lnTo>
                      <a:pt x="46" y="115"/>
                    </a:lnTo>
                    <a:lnTo>
                      <a:pt x="30" y="151"/>
                    </a:lnTo>
                    <a:lnTo>
                      <a:pt x="16" y="187"/>
                    </a:lnTo>
                    <a:lnTo>
                      <a:pt x="7" y="227"/>
                    </a:lnTo>
                    <a:lnTo>
                      <a:pt x="1" y="268"/>
                    </a:lnTo>
                    <a:lnTo>
                      <a:pt x="0" y="311"/>
                    </a:lnTo>
                    <a:lnTo>
                      <a:pt x="1" y="352"/>
                    </a:lnTo>
                    <a:lnTo>
                      <a:pt x="7" y="393"/>
                    </a:lnTo>
                    <a:lnTo>
                      <a:pt x="16" y="431"/>
                    </a:lnTo>
                    <a:lnTo>
                      <a:pt x="22" y="449"/>
                    </a:lnTo>
                    <a:lnTo>
                      <a:pt x="30" y="469"/>
                    </a:lnTo>
                    <a:lnTo>
                      <a:pt x="37" y="486"/>
                    </a:lnTo>
                    <a:lnTo>
                      <a:pt x="46" y="504"/>
                    </a:lnTo>
                    <a:lnTo>
                      <a:pt x="67" y="539"/>
                    </a:lnTo>
                    <a:lnTo>
                      <a:pt x="91" y="572"/>
                    </a:lnTo>
                    <a:lnTo>
                      <a:pt x="120" y="604"/>
                    </a:lnTo>
                    <a:lnTo>
                      <a:pt x="150" y="631"/>
                    </a:lnTo>
                    <a:lnTo>
                      <a:pt x="183" y="656"/>
                    </a:lnTo>
                    <a:lnTo>
                      <a:pt x="217" y="676"/>
                    </a:lnTo>
                    <a:lnTo>
                      <a:pt x="253" y="694"/>
                    </a:lnTo>
                    <a:lnTo>
                      <a:pt x="289" y="707"/>
                    </a:lnTo>
                    <a:lnTo>
                      <a:pt x="329" y="717"/>
                    </a:lnTo>
                    <a:lnTo>
                      <a:pt x="370" y="723"/>
                    </a:lnTo>
                    <a:lnTo>
                      <a:pt x="413" y="725"/>
                    </a:lnTo>
                    <a:lnTo>
                      <a:pt x="449" y="723"/>
                    </a:lnTo>
                    <a:lnTo>
                      <a:pt x="486" y="719"/>
                    </a:lnTo>
                    <a:lnTo>
                      <a:pt x="503" y="715"/>
                    </a:lnTo>
                    <a:lnTo>
                      <a:pt x="521" y="711"/>
                    </a:lnTo>
                    <a:lnTo>
                      <a:pt x="555" y="702"/>
                    </a:lnTo>
                    <a:lnTo>
                      <a:pt x="568" y="667"/>
                    </a:lnTo>
                    <a:lnTo>
                      <a:pt x="558" y="669"/>
                    </a:lnTo>
                    <a:lnTo>
                      <a:pt x="549" y="673"/>
                    </a:lnTo>
                    <a:lnTo>
                      <a:pt x="531" y="679"/>
                    </a:lnTo>
                    <a:lnTo>
                      <a:pt x="512" y="684"/>
                    </a:lnTo>
                    <a:lnTo>
                      <a:pt x="493" y="690"/>
                    </a:lnTo>
                    <a:lnTo>
                      <a:pt x="473" y="692"/>
                    </a:lnTo>
                    <a:lnTo>
                      <a:pt x="467" y="692"/>
                    </a:lnTo>
                    <a:lnTo>
                      <a:pt x="463" y="693"/>
                    </a:lnTo>
                    <a:lnTo>
                      <a:pt x="454" y="695"/>
                    </a:lnTo>
                    <a:lnTo>
                      <a:pt x="413" y="698"/>
                    </a:lnTo>
                    <a:lnTo>
                      <a:pt x="372" y="695"/>
                    </a:lnTo>
                    <a:lnTo>
                      <a:pt x="335" y="690"/>
                    </a:lnTo>
                    <a:lnTo>
                      <a:pt x="298" y="681"/>
                    </a:lnTo>
                    <a:lnTo>
                      <a:pt x="264" y="669"/>
                    </a:lnTo>
                    <a:lnTo>
                      <a:pt x="230" y="652"/>
                    </a:lnTo>
                    <a:lnTo>
                      <a:pt x="199" y="633"/>
                    </a:lnTo>
                    <a:lnTo>
                      <a:pt x="168" y="610"/>
                    </a:lnTo>
                    <a:lnTo>
                      <a:pt x="141" y="584"/>
                    </a:lnTo>
                    <a:lnTo>
                      <a:pt x="114" y="555"/>
                    </a:lnTo>
                    <a:lnTo>
                      <a:pt x="101" y="539"/>
                    </a:lnTo>
                    <a:lnTo>
                      <a:pt x="91" y="524"/>
                    </a:lnTo>
                    <a:lnTo>
                      <a:pt x="80" y="507"/>
                    </a:lnTo>
                    <a:lnTo>
                      <a:pt x="71" y="491"/>
                    </a:lnTo>
                    <a:lnTo>
                      <a:pt x="56" y="458"/>
                    </a:lnTo>
                    <a:lnTo>
                      <a:pt x="48" y="440"/>
                    </a:lnTo>
                    <a:lnTo>
                      <a:pt x="42" y="423"/>
                    </a:lnTo>
                    <a:lnTo>
                      <a:pt x="34" y="387"/>
                    </a:lnTo>
                    <a:lnTo>
                      <a:pt x="29" y="350"/>
                    </a:lnTo>
                    <a:lnTo>
                      <a:pt x="27" y="311"/>
                    </a:lnTo>
                    <a:lnTo>
                      <a:pt x="29" y="270"/>
                    </a:lnTo>
                    <a:lnTo>
                      <a:pt x="34" y="233"/>
                    </a:lnTo>
                    <a:lnTo>
                      <a:pt x="42" y="196"/>
                    </a:lnTo>
                    <a:lnTo>
                      <a:pt x="56" y="162"/>
                    </a:lnTo>
                    <a:lnTo>
                      <a:pt x="71" y="128"/>
                    </a:lnTo>
                    <a:lnTo>
                      <a:pt x="91" y="97"/>
                    </a:lnTo>
                    <a:lnTo>
                      <a:pt x="114" y="66"/>
                    </a:lnTo>
                    <a:lnTo>
                      <a:pt x="141" y="38"/>
                    </a:lnTo>
                    <a:close/>
                  </a:path>
                </a:pathLst>
              </a:custGeom>
              <a:solidFill>
                <a:srgbClr val="39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81640" y="3780360"/>
                <a:ext cx="157680" cy="198000"/>
              </a:xfrm>
              <a:custGeom>
                <a:avLst/>
                <a:gdLst/>
                <a:ahLst/>
                <a:rect l="l" t="t" r="r" b="b"/>
                <a:pathLst>
                  <a:path w="551" h="693">
                    <a:moveTo>
                      <a:pt x="151" y="0"/>
                    </a:moveTo>
                    <a:lnTo>
                      <a:pt x="114" y="33"/>
                    </a:lnTo>
                    <a:lnTo>
                      <a:pt x="87" y="61"/>
                    </a:lnTo>
                    <a:lnTo>
                      <a:pt x="64" y="92"/>
                    </a:lnTo>
                    <a:lnTo>
                      <a:pt x="44" y="123"/>
                    </a:lnTo>
                    <a:lnTo>
                      <a:pt x="29" y="157"/>
                    </a:lnTo>
                    <a:lnTo>
                      <a:pt x="15" y="191"/>
                    </a:lnTo>
                    <a:lnTo>
                      <a:pt x="7" y="228"/>
                    </a:lnTo>
                    <a:lnTo>
                      <a:pt x="2" y="265"/>
                    </a:lnTo>
                    <a:lnTo>
                      <a:pt x="0" y="306"/>
                    </a:lnTo>
                    <a:lnTo>
                      <a:pt x="2" y="345"/>
                    </a:lnTo>
                    <a:lnTo>
                      <a:pt x="7" y="382"/>
                    </a:lnTo>
                    <a:lnTo>
                      <a:pt x="15" y="418"/>
                    </a:lnTo>
                    <a:lnTo>
                      <a:pt x="21" y="435"/>
                    </a:lnTo>
                    <a:lnTo>
                      <a:pt x="29" y="453"/>
                    </a:lnTo>
                    <a:lnTo>
                      <a:pt x="44" y="486"/>
                    </a:lnTo>
                    <a:lnTo>
                      <a:pt x="53" y="502"/>
                    </a:lnTo>
                    <a:lnTo>
                      <a:pt x="64" y="519"/>
                    </a:lnTo>
                    <a:lnTo>
                      <a:pt x="74" y="534"/>
                    </a:lnTo>
                    <a:lnTo>
                      <a:pt x="87" y="550"/>
                    </a:lnTo>
                    <a:lnTo>
                      <a:pt x="114" y="579"/>
                    </a:lnTo>
                    <a:lnTo>
                      <a:pt x="141" y="605"/>
                    </a:lnTo>
                    <a:lnTo>
                      <a:pt x="172" y="628"/>
                    </a:lnTo>
                    <a:lnTo>
                      <a:pt x="203" y="647"/>
                    </a:lnTo>
                    <a:lnTo>
                      <a:pt x="237" y="664"/>
                    </a:lnTo>
                    <a:lnTo>
                      <a:pt x="271" y="676"/>
                    </a:lnTo>
                    <a:lnTo>
                      <a:pt x="308" y="685"/>
                    </a:lnTo>
                    <a:lnTo>
                      <a:pt x="345" y="690"/>
                    </a:lnTo>
                    <a:lnTo>
                      <a:pt x="386" y="693"/>
                    </a:lnTo>
                    <a:lnTo>
                      <a:pt x="427" y="690"/>
                    </a:lnTo>
                    <a:lnTo>
                      <a:pt x="436" y="688"/>
                    </a:lnTo>
                    <a:lnTo>
                      <a:pt x="440" y="687"/>
                    </a:lnTo>
                    <a:lnTo>
                      <a:pt x="446" y="687"/>
                    </a:lnTo>
                    <a:lnTo>
                      <a:pt x="466" y="685"/>
                    </a:lnTo>
                    <a:lnTo>
                      <a:pt x="485" y="679"/>
                    </a:lnTo>
                    <a:lnTo>
                      <a:pt x="504" y="674"/>
                    </a:lnTo>
                    <a:lnTo>
                      <a:pt x="522" y="668"/>
                    </a:lnTo>
                    <a:lnTo>
                      <a:pt x="531" y="664"/>
                    </a:lnTo>
                    <a:lnTo>
                      <a:pt x="541" y="662"/>
                    </a:lnTo>
                    <a:lnTo>
                      <a:pt x="551" y="626"/>
                    </a:lnTo>
                    <a:lnTo>
                      <a:pt x="531" y="634"/>
                    </a:lnTo>
                    <a:lnTo>
                      <a:pt x="528" y="634"/>
                    </a:lnTo>
                    <a:lnTo>
                      <a:pt x="525" y="635"/>
                    </a:lnTo>
                    <a:lnTo>
                      <a:pt x="521" y="637"/>
                    </a:lnTo>
                    <a:lnTo>
                      <a:pt x="512" y="642"/>
                    </a:lnTo>
                    <a:lnTo>
                      <a:pt x="491" y="648"/>
                    </a:lnTo>
                    <a:lnTo>
                      <a:pt x="481" y="651"/>
                    </a:lnTo>
                    <a:lnTo>
                      <a:pt x="472" y="654"/>
                    </a:lnTo>
                    <a:lnTo>
                      <a:pt x="461" y="655"/>
                    </a:lnTo>
                    <a:lnTo>
                      <a:pt x="451" y="657"/>
                    </a:lnTo>
                    <a:lnTo>
                      <a:pt x="430" y="661"/>
                    </a:lnTo>
                    <a:lnTo>
                      <a:pt x="407" y="663"/>
                    </a:lnTo>
                    <a:lnTo>
                      <a:pt x="396" y="663"/>
                    </a:lnTo>
                    <a:lnTo>
                      <a:pt x="390" y="663"/>
                    </a:lnTo>
                    <a:lnTo>
                      <a:pt x="386" y="664"/>
                    </a:lnTo>
                    <a:lnTo>
                      <a:pt x="349" y="662"/>
                    </a:lnTo>
                    <a:lnTo>
                      <a:pt x="313" y="657"/>
                    </a:lnTo>
                    <a:lnTo>
                      <a:pt x="279" y="648"/>
                    </a:lnTo>
                    <a:lnTo>
                      <a:pt x="248" y="638"/>
                    </a:lnTo>
                    <a:lnTo>
                      <a:pt x="216" y="622"/>
                    </a:lnTo>
                    <a:lnTo>
                      <a:pt x="188" y="605"/>
                    </a:lnTo>
                    <a:lnTo>
                      <a:pt x="159" y="584"/>
                    </a:lnTo>
                    <a:lnTo>
                      <a:pt x="133" y="560"/>
                    </a:lnTo>
                    <a:lnTo>
                      <a:pt x="107" y="532"/>
                    </a:lnTo>
                    <a:lnTo>
                      <a:pt x="85" y="503"/>
                    </a:lnTo>
                    <a:lnTo>
                      <a:pt x="67" y="474"/>
                    </a:lnTo>
                    <a:lnTo>
                      <a:pt x="59" y="458"/>
                    </a:lnTo>
                    <a:lnTo>
                      <a:pt x="54" y="443"/>
                    </a:lnTo>
                    <a:lnTo>
                      <a:pt x="41" y="410"/>
                    </a:lnTo>
                    <a:lnTo>
                      <a:pt x="33" y="376"/>
                    </a:lnTo>
                    <a:lnTo>
                      <a:pt x="30" y="358"/>
                    </a:lnTo>
                    <a:lnTo>
                      <a:pt x="29" y="341"/>
                    </a:lnTo>
                    <a:lnTo>
                      <a:pt x="28" y="306"/>
                    </a:lnTo>
                    <a:lnTo>
                      <a:pt x="29" y="269"/>
                    </a:lnTo>
                    <a:lnTo>
                      <a:pt x="33" y="233"/>
                    </a:lnTo>
                    <a:lnTo>
                      <a:pt x="41" y="199"/>
                    </a:lnTo>
                    <a:lnTo>
                      <a:pt x="54" y="168"/>
                    </a:lnTo>
                    <a:lnTo>
                      <a:pt x="67" y="136"/>
                    </a:lnTo>
                    <a:lnTo>
                      <a:pt x="85" y="108"/>
                    </a:lnTo>
                    <a:lnTo>
                      <a:pt x="107" y="79"/>
                    </a:lnTo>
                    <a:lnTo>
                      <a:pt x="133" y="53"/>
                    </a:lnTo>
                    <a:lnTo>
                      <a:pt x="159" y="28"/>
                    </a:lnTo>
                    <a:lnTo>
                      <a:pt x="188" y="7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3c5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389560" y="3782880"/>
                <a:ext cx="151920" cy="187560"/>
              </a:xfrm>
              <a:custGeom>
                <a:avLst/>
                <a:gdLst/>
                <a:ahLst/>
                <a:rect l="l" t="t" r="r" b="b"/>
                <a:pathLst>
                  <a:path w="531" h="657">
                    <a:moveTo>
                      <a:pt x="160" y="0"/>
                    </a:moveTo>
                    <a:lnTo>
                      <a:pt x="131" y="21"/>
                    </a:lnTo>
                    <a:lnTo>
                      <a:pt x="105" y="46"/>
                    </a:lnTo>
                    <a:lnTo>
                      <a:pt x="79" y="72"/>
                    </a:lnTo>
                    <a:lnTo>
                      <a:pt x="57" y="101"/>
                    </a:lnTo>
                    <a:lnTo>
                      <a:pt x="39" y="129"/>
                    </a:lnTo>
                    <a:lnTo>
                      <a:pt x="26" y="161"/>
                    </a:lnTo>
                    <a:lnTo>
                      <a:pt x="13" y="192"/>
                    </a:lnTo>
                    <a:lnTo>
                      <a:pt x="5" y="226"/>
                    </a:lnTo>
                    <a:lnTo>
                      <a:pt x="1" y="262"/>
                    </a:lnTo>
                    <a:lnTo>
                      <a:pt x="0" y="299"/>
                    </a:lnTo>
                    <a:lnTo>
                      <a:pt x="1" y="334"/>
                    </a:lnTo>
                    <a:lnTo>
                      <a:pt x="2" y="351"/>
                    </a:lnTo>
                    <a:lnTo>
                      <a:pt x="5" y="369"/>
                    </a:lnTo>
                    <a:lnTo>
                      <a:pt x="13" y="403"/>
                    </a:lnTo>
                    <a:lnTo>
                      <a:pt x="26" y="436"/>
                    </a:lnTo>
                    <a:lnTo>
                      <a:pt x="31" y="451"/>
                    </a:lnTo>
                    <a:lnTo>
                      <a:pt x="39" y="467"/>
                    </a:lnTo>
                    <a:lnTo>
                      <a:pt x="57" y="496"/>
                    </a:lnTo>
                    <a:lnTo>
                      <a:pt x="79" y="525"/>
                    </a:lnTo>
                    <a:lnTo>
                      <a:pt x="105" y="553"/>
                    </a:lnTo>
                    <a:lnTo>
                      <a:pt x="131" y="577"/>
                    </a:lnTo>
                    <a:lnTo>
                      <a:pt x="160" y="598"/>
                    </a:lnTo>
                    <a:lnTo>
                      <a:pt x="188" y="615"/>
                    </a:lnTo>
                    <a:lnTo>
                      <a:pt x="220" y="631"/>
                    </a:lnTo>
                    <a:lnTo>
                      <a:pt x="251" y="641"/>
                    </a:lnTo>
                    <a:lnTo>
                      <a:pt x="285" y="650"/>
                    </a:lnTo>
                    <a:lnTo>
                      <a:pt x="321" y="655"/>
                    </a:lnTo>
                    <a:lnTo>
                      <a:pt x="358" y="657"/>
                    </a:lnTo>
                    <a:lnTo>
                      <a:pt x="362" y="656"/>
                    </a:lnTo>
                    <a:lnTo>
                      <a:pt x="368" y="656"/>
                    </a:lnTo>
                    <a:lnTo>
                      <a:pt x="379" y="656"/>
                    </a:lnTo>
                    <a:lnTo>
                      <a:pt x="402" y="654"/>
                    </a:lnTo>
                    <a:lnTo>
                      <a:pt x="423" y="650"/>
                    </a:lnTo>
                    <a:lnTo>
                      <a:pt x="433" y="648"/>
                    </a:lnTo>
                    <a:lnTo>
                      <a:pt x="444" y="647"/>
                    </a:lnTo>
                    <a:lnTo>
                      <a:pt x="453" y="644"/>
                    </a:lnTo>
                    <a:lnTo>
                      <a:pt x="463" y="641"/>
                    </a:lnTo>
                    <a:lnTo>
                      <a:pt x="484" y="635"/>
                    </a:lnTo>
                    <a:lnTo>
                      <a:pt x="493" y="630"/>
                    </a:lnTo>
                    <a:lnTo>
                      <a:pt x="497" y="628"/>
                    </a:lnTo>
                    <a:lnTo>
                      <a:pt x="500" y="627"/>
                    </a:lnTo>
                    <a:lnTo>
                      <a:pt x="503" y="627"/>
                    </a:lnTo>
                    <a:lnTo>
                      <a:pt x="523" y="619"/>
                    </a:lnTo>
                    <a:lnTo>
                      <a:pt x="531" y="582"/>
                    </a:lnTo>
                    <a:lnTo>
                      <a:pt x="511" y="593"/>
                    </a:lnTo>
                    <a:lnTo>
                      <a:pt x="491" y="603"/>
                    </a:lnTo>
                    <a:lnTo>
                      <a:pt x="479" y="606"/>
                    </a:lnTo>
                    <a:lnTo>
                      <a:pt x="469" y="611"/>
                    </a:lnTo>
                    <a:lnTo>
                      <a:pt x="449" y="618"/>
                    </a:lnTo>
                    <a:lnTo>
                      <a:pt x="426" y="622"/>
                    </a:lnTo>
                    <a:lnTo>
                      <a:pt x="404" y="627"/>
                    </a:lnTo>
                    <a:lnTo>
                      <a:pt x="381" y="629"/>
                    </a:lnTo>
                    <a:lnTo>
                      <a:pt x="358" y="630"/>
                    </a:lnTo>
                    <a:lnTo>
                      <a:pt x="324" y="628"/>
                    </a:lnTo>
                    <a:lnTo>
                      <a:pt x="292" y="623"/>
                    </a:lnTo>
                    <a:lnTo>
                      <a:pt x="260" y="615"/>
                    </a:lnTo>
                    <a:lnTo>
                      <a:pt x="231" y="605"/>
                    </a:lnTo>
                    <a:lnTo>
                      <a:pt x="201" y="590"/>
                    </a:lnTo>
                    <a:lnTo>
                      <a:pt x="174" y="574"/>
                    </a:lnTo>
                    <a:lnTo>
                      <a:pt x="148" y="555"/>
                    </a:lnTo>
                    <a:lnTo>
                      <a:pt x="124" y="534"/>
                    </a:lnTo>
                    <a:lnTo>
                      <a:pt x="101" y="508"/>
                    </a:lnTo>
                    <a:lnTo>
                      <a:pt x="81" y="482"/>
                    </a:lnTo>
                    <a:lnTo>
                      <a:pt x="64" y="454"/>
                    </a:lnTo>
                    <a:lnTo>
                      <a:pt x="56" y="440"/>
                    </a:lnTo>
                    <a:lnTo>
                      <a:pt x="51" y="426"/>
                    </a:lnTo>
                    <a:lnTo>
                      <a:pt x="44" y="410"/>
                    </a:lnTo>
                    <a:lnTo>
                      <a:pt x="39" y="395"/>
                    </a:lnTo>
                    <a:lnTo>
                      <a:pt x="35" y="379"/>
                    </a:lnTo>
                    <a:lnTo>
                      <a:pt x="33" y="365"/>
                    </a:lnTo>
                    <a:lnTo>
                      <a:pt x="29" y="348"/>
                    </a:lnTo>
                    <a:lnTo>
                      <a:pt x="28" y="332"/>
                    </a:lnTo>
                    <a:lnTo>
                      <a:pt x="27" y="299"/>
                    </a:lnTo>
                    <a:lnTo>
                      <a:pt x="28" y="265"/>
                    </a:lnTo>
                    <a:lnTo>
                      <a:pt x="33" y="233"/>
                    </a:lnTo>
                    <a:lnTo>
                      <a:pt x="39" y="201"/>
                    </a:lnTo>
                    <a:lnTo>
                      <a:pt x="51" y="172"/>
                    </a:lnTo>
                    <a:lnTo>
                      <a:pt x="64" y="143"/>
                    </a:lnTo>
                    <a:lnTo>
                      <a:pt x="81" y="115"/>
                    </a:lnTo>
                    <a:lnTo>
                      <a:pt x="101" y="89"/>
                    </a:lnTo>
                    <a:lnTo>
                      <a:pt x="124" y="65"/>
                    </a:lnTo>
                    <a:lnTo>
                      <a:pt x="140" y="48"/>
                    </a:lnTo>
                    <a:lnTo>
                      <a:pt x="158" y="35"/>
                    </a:lnTo>
                    <a:lnTo>
                      <a:pt x="196" y="11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3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397120" y="3786120"/>
                <a:ext cx="145800" cy="176400"/>
              </a:xfrm>
              <a:custGeom>
                <a:avLst/>
                <a:gdLst/>
                <a:ahLst/>
                <a:rect l="l" t="t" r="r" b="b"/>
                <a:pathLst>
                  <a:path w="509" h="619">
                    <a:moveTo>
                      <a:pt x="117" y="74"/>
                    </a:moveTo>
                    <a:lnTo>
                      <a:pt x="136" y="54"/>
                    </a:lnTo>
                    <a:lnTo>
                      <a:pt x="157" y="37"/>
                    </a:lnTo>
                    <a:lnTo>
                      <a:pt x="179" y="23"/>
                    </a:lnTo>
                    <a:lnTo>
                      <a:pt x="203" y="12"/>
                    </a:lnTo>
                    <a:lnTo>
                      <a:pt x="169" y="0"/>
                    </a:lnTo>
                    <a:lnTo>
                      <a:pt x="131" y="24"/>
                    </a:lnTo>
                    <a:lnTo>
                      <a:pt x="113" y="37"/>
                    </a:lnTo>
                    <a:lnTo>
                      <a:pt x="97" y="54"/>
                    </a:lnTo>
                    <a:lnTo>
                      <a:pt x="74" y="78"/>
                    </a:lnTo>
                    <a:lnTo>
                      <a:pt x="54" y="104"/>
                    </a:lnTo>
                    <a:lnTo>
                      <a:pt x="37" y="132"/>
                    </a:lnTo>
                    <a:lnTo>
                      <a:pt x="24" y="161"/>
                    </a:lnTo>
                    <a:lnTo>
                      <a:pt x="12" y="190"/>
                    </a:lnTo>
                    <a:lnTo>
                      <a:pt x="6" y="222"/>
                    </a:lnTo>
                    <a:lnTo>
                      <a:pt x="1" y="254"/>
                    </a:lnTo>
                    <a:lnTo>
                      <a:pt x="0" y="288"/>
                    </a:lnTo>
                    <a:lnTo>
                      <a:pt x="1" y="321"/>
                    </a:lnTo>
                    <a:lnTo>
                      <a:pt x="2" y="337"/>
                    </a:lnTo>
                    <a:lnTo>
                      <a:pt x="6" y="354"/>
                    </a:lnTo>
                    <a:lnTo>
                      <a:pt x="8" y="368"/>
                    </a:lnTo>
                    <a:lnTo>
                      <a:pt x="12" y="384"/>
                    </a:lnTo>
                    <a:lnTo>
                      <a:pt x="17" y="399"/>
                    </a:lnTo>
                    <a:lnTo>
                      <a:pt x="24" y="415"/>
                    </a:lnTo>
                    <a:lnTo>
                      <a:pt x="29" y="429"/>
                    </a:lnTo>
                    <a:lnTo>
                      <a:pt x="37" y="443"/>
                    </a:lnTo>
                    <a:lnTo>
                      <a:pt x="54" y="471"/>
                    </a:lnTo>
                    <a:lnTo>
                      <a:pt x="74" y="497"/>
                    </a:lnTo>
                    <a:lnTo>
                      <a:pt x="97" y="523"/>
                    </a:lnTo>
                    <a:lnTo>
                      <a:pt x="121" y="544"/>
                    </a:lnTo>
                    <a:lnTo>
                      <a:pt x="147" y="563"/>
                    </a:lnTo>
                    <a:lnTo>
                      <a:pt x="174" y="579"/>
                    </a:lnTo>
                    <a:lnTo>
                      <a:pt x="204" y="594"/>
                    </a:lnTo>
                    <a:lnTo>
                      <a:pt x="233" y="604"/>
                    </a:lnTo>
                    <a:lnTo>
                      <a:pt x="265" y="612"/>
                    </a:lnTo>
                    <a:lnTo>
                      <a:pt x="297" y="617"/>
                    </a:lnTo>
                    <a:lnTo>
                      <a:pt x="331" y="619"/>
                    </a:lnTo>
                    <a:lnTo>
                      <a:pt x="354" y="618"/>
                    </a:lnTo>
                    <a:lnTo>
                      <a:pt x="377" y="616"/>
                    </a:lnTo>
                    <a:lnTo>
                      <a:pt x="399" y="611"/>
                    </a:lnTo>
                    <a:lnTo>
                      <a:pt x="422" y="607"/>
                    </a:lnTo>
                    <a:lnTo>
                      <a:pt x="442" y="600"/>
                    </a:lnTo>
                    <a:lnTo>
                      <a:pt x="452" y="595"/>
                    </a:lnTo>
                    <a:lnTo>
                      <a:pt x="464" y="592"/>
                    </a:lnTo>
                    <a:lnTo>
                      <a:pt x="484" y="582"/>
                    </a:lnTo>
                    <a:lnTo>
                      <a:pt x="504" y="571"/>
                    </a:lnTo>
                    <a:lnTo>
                      <a:pt x="509" y="535"/>
                    </a:lnTo>
                    <a:lnTo>
                      <a:pt x="489" y="548"/>
                    </a:lnTo>
                    <a:lnTo>
                      <a:pt x="468" y="559"/>
                    </a:lnTo>
                    <a:lnTo>
                      <a:pt x="457" y="563"/>
                    </a:lnTo>
                    <a:lnTo>
                      <a:pt x="451" y="566"/>
                    </a:lnTo>
                    <a:lnTo>
                      <a:pt x="447" y="569"/>
                    </a:lnTo>
                    <a:lnTo>
                      <a:pt x="435" y="573"/>
                    </a:lnTo>
                    <a:lnTo>
                      <a:pt x="425" y="577"/>
                    </a:lnTo>
                    <a:lnTo>
                      <a:pt x="413" y="579"/>
                    </a:lnTo>
                    <a:lnTo>
                      <a:pt x="401" y="583"/>
                    </a:lnTo>
                    <a:lnTo>
                      <a:pt x="379" y="587"/>
                    </a:lnTo>
                    <a:lnTo>
                      <a:pt x="372" y="587"/>
                    </a:lnTo>
                    <a:lnTo>
                      <a:pt x="368" y="587"/>
                    </a:lnTo>
                    <a:lnTo>
                      <a:pt x="366" y="588"/>
                    </a:lnTo>
                    <a:lnTo>
                      <a:pt x="355" y="591"/>
                    </a:lnTo>
                    <a:lnTo>
                      <a:pt x="342" y="591"/>
                    </a:lnTo>
                    <a:lnTo>
                      <a:pt x="331" y="592"/>
                    </a:lnTo>
                    <a:lnTo>
                      <a:pt x="299" y="590"/>
                    </a:lnTo>
                    <a:lnTo>
                      <a:pt x="270" y="586"/>
                    </a:lnTo>
                    <a:lnTo>
                      <a:pt x="240" y="578"/>
                    </a:lnTo>
                    <a:lnTo>
                      <a:pt x="214" y="569"/>
                    </a:lnTo>
                    <a:lnTo>
                      <a:pt x="187" y="556"/>
                    </a:lnTo>
                    <a:lnTo>
                      <a:pt x="162" y="541"/>
                    </a:lnTo>
                    <a:lnTo>
                      <a:pt x="138" y="522"/>
                    </a:lnTo>
                    <a:lnTo>
                      <a:pt x="117" y="502"/>
                    </a:lnTo>
                    <a:lnTo>
                      <a:pt x="95" y="478"/>
                    </a:lnTo>
                    <a:lnTo>
                      <a:pt x="85" y="466"/>
                    </a:lnTo>
                    <a:lnTo>
                      <a:pt x="77" y="455"/>
                    </a:lnTo>
                    <a:lnTo>
                      <a:pt x="62" y="430"/>
                    </a:lnTo>
                    <a:lnTo>
                      <a:pt x="50" y="404"/>
                    </a:lnTo>
                    <a:lnTo>
                      <a:pt x="40" y="375"/>
                    </a:lnTo>
                    <a:lnTo>
                      <a:pt x="35" y="361"/>
                    </a:lnTo>
                    <a:lnTo>
                      <a:pt x="33" y="347"/>
                    </a:lnTo>
                    <a:lnTo>
                      <a:pt x="29" y="317"/>
                    </a:lnTo>
                    <a:lnTo>
                      <a:pt x="28" y="288"/>
                    </a:lnTo>
                    <a:lnTo>
                      <a:pt x="29" y="256"/>
                    </a:lnTo>
                    <a:lnTo>
                      <a:pt x="33" y="227"/>
                    </a:lnTo>
                    <a:lnTo>
                      <a:pt x="40" y="197"/>
                    </a:lnTo>
                    <a:lnTo>
                      <a:pt x="50" y="171"/>
                    </a:lnTo>
                    <a:lnTo>
                      <a:pt x="62" y="144"/>
                    </a:lnTo>
                    <a:lnTo>
                      <a:pt x="77" y="119"/>
                    </a:lnTo>
                    <a:lnTo>
                      <a:pt x="95" y="95"/>
                    </a:lnTo>
                    <a:lnTo>
                      <a:pt x="117" y="74"/>
                    </a:lnTo>
                    <a:close/>
                  </a:path>
                </a:pathLst>
              </a:custGeom>
              <a:solidFill>
                <a:srgbClr val="42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405760" y="3789720"/>
                <a:ext cx="138240" cy="164880"/>
              </a:xfrm>
              <a:custGeom>
                <a:avLst/>
                <a:gdLst/>
                <a:ahLst/>
                <a:rect l="l" t="t" r="r" b="b"/>
                <a:pathLst>
                  <a:path w="484" h="580">
                    <a:moveTo>
                      <a:pt x="175" y="0"/>
                    </a:moveTo>
                    <a:lnTo>
                      <a:pt x="151" y="11"/>
                    </a:lnTo>
                    <a:lnTo>
                      <a:pt x="129" y="25"/>
                    </a:lnTo>
                    <a:lnTo>
                      <a:pt x="108" y="42"/>
                    </a:lnTo>
                    <a:lnTo>
                      <a:pt x="89" y="62"/>
                    </a:lnTo>
                    <a:lnTo>
                      <a:pt x="67" y="83"/>
                    </a:lnTo>
                    <a:lnTo>
                      <a:pt x="49" y="107"/>
                    </a:lnTo>
                    <a:lnTo>
                      <a:pt x="34" y="132"/>
                    </a:lnTo>
                    <a:lnTo>
                      <a:pt x="22" y="159"/>
                    </a:lnTo>
                    <a:lnTo>
                      <a:pt x="12" y="185"/>
                    </a:lnTo>
                    <a:lnTo>
                      <a:pt x="5" y="215"/>
                    </a:lnTo>
                    <a:lnTo>
                      <a:pt x="1" y="244"/>
                    </a:lnTo>
                    <a:lnTo>
                      <a:pt x="0" y="276"/>
                    </a:lnTo>
                    <a:lnTo>
                      <a:pt x="1" y="305"/>
                    </a:lnTo>
                    <a:lnTo>
                      <a:pt x="5" y="335"/>
                    </a:lnTo>
                    <a:lnTo>
                      <a:pt x="7" y="349"/>
                    </a:lnTo>
                    <a:lnTo>
                      <a:pt x="12" y="363"/>
                    </a:lnTo>
                    <a:lnTo>
                      <a:pt x="22" y="392"/>
                    </a:lnTo>
                    <a:lnTo>
                      <a:pt x="34" y="418"/>
                    </a:lnTo>
                    <a:lnTo>
                      <a:pt x="49" y="443"/>
                    </a:lnTo>
                    <a:lnTo>
                      <a:pt x="57" y="454"/>
                    </a:lnTo>
                    <a:lnTo>
                      <a:pt x="67" y="466"/>
                    </a:lnTo>
                    <a:lnTo>
                      <a:pt x="89" y="490"/>
                    </a:lnTo>
                    <a:lnTo>
                      <a:pt x="110" y="510"/>
                    </a:lnTo>
                    <a:lnTo>
                      <a:pt x="134" y="529"/>
                    </a:lnTo>
                    <a:lnTo>
                      <a:pt x="159" y="544"/>
                    </a:lnTo>
                    <a:lnTo>
                      <a:pt x="186" y="557"/>
                    </a:lnTo>
                    <a:lnTo>
                      <a:pt x="212" y="566"/>
                    </a:lnTo>
                    <a:lnTo>
                      <a:pt x="242" y="574"/>
                    </a:lnTo>
                    <a:lnTo>
                      <a:pt x="271" y="578"/>
                    </a:lnTo>
                    <a:lnTo>
                      <a:pt x="303" y="580"/>
                    </a:lnTo>
                    <a:lnTo>
                      <a:pt x="314" y="579"/>
                    </a:lnTo>
                    <a:lnTo>
                      <a:pt x="327" y="579"/>
                    </a:lnTo>
                    <a:lnTo>
                      <a:pt x="338" y="576"/>
                    </a:lnTo>
                    <a:lnTo>
                      <a:pt x="340" y="575"/>
                    </a:lnTo>
                    <a:lnTo>
                      <a:pt x="344" y="575"/>
                    </a:lnTo>
                    <a:lnTo>
                      <a:pt x="351" y="575"/>
                    </a:lnTo>
                    <a:lnTo>
                      <a:pt x="373" y="571"/>
                    </a:lnTo>
                    <a:lnTo>
                      <a:pt x="385" y="567"/>
                    </a:lnTo>
                    <a:lnTo>
                      <a:pt x="397" y="565"/>
                    </a:lnTo>
                    <a:lnTo>
                      <a:pt x="407" y="561"/>
                    </a:lnTo>
                    <a:lnTo>
                      <a:pt x="419" y="557"/>
                    </a:lnTo>
                    <a:lnTo>
                      <a:pt x="423" y="554"/>
                    </a:lnTo>
                    <a:lnTo>
                      <a:pt x="429" y="551"/>
                    </a:lnTo>
                    <a:lnTo>
                      <a:pt x="440" y="547"/>
                    </a:lnTo>
                    <a:lnTo>
                      <a:pt x="461" y="536"/>
                    </a:lnTo>
                    <a:lnTo>
                      <a:pt x="481" y="523"/>
                    </a:lnTo>
                    <a:lnTo>
                      <a:pt x="484" y="486"/>
                    </a:lnTo>
                    <a:lnTo>
                      <a:pt x="464" y="500"/>
                    </a:lnTo>
                    <a:lnTo>
                      <a:pt x="444" y="514"/>
                    </a:lnTo>
                    <a:lnTo>
                      <a:pt x="422" y="525"/>
                    </a:lnTo>
                    <a:lnTo>
                      <a:pt x="411" y="530"/>
                    </a:lnTo>
                    <a:lnTo>
                      <a:pt x="405" y="532"/>
                    </a:lnTo>
                    <a:lnTo>
                      <a:pt x="400" y="536"/>
                    </a:lnTo>
                    <a:lnTo>
                      <a:pt x="377" y="542"/>
                    </a:lnTo>
                    <a:lnTo>
                      <a:pt x="364" y="545"/>
                    </a:lnTo>
                    <a:lnTo>
                      <a:pt x="353" y="548"/>
                    </a:lnTo>
                    <a:lnTo>
                      <a:pt x="328" y="551"/>
                    </a:lnTo>
                    <a:lnTo>
                      <a:pt x="303" y="553"/>
                    </a:lnTo>
                    <a:lnTo>
                      <a:pt x="275" y="550"/>
                    </a:lnTo>
                    <a:lnTo>
                      <a:pt x="247" y="547"/>
                    </a:lnTo>
                    <a:lnTo>
                      <a:pt x="221" y="540"/>
                    </a:lnTo>
                    <a:lnTo>
                      <a:pt x="198" y="532"/>
                    </a:lnTo>
                    <a:lnTo>
                      <a:pt x="173" y="520"/>
                    </a:lnTo>
                    <a:lnTo>
                      <a:pt x="150" y="506"/>
                    </a:lnTo>
                    <a:lnTo>
                      <a:pt x="128" y="489"/>
                    </a:lnTo>
                    <a:lnTo>
                      <a:pt x="108" y="471"/>
                    </a:lnTo>
                    <a:lnTo>
                      <a:pt x="89" y="449"/>
                    </a:lnTo>
                    <a:lnTo>
                      <a:pt x="72" y="428"/>
                    </a:lnTo>
                    <a:lnTo>
                      <a:pt x="57" y="404"/>
                    </a:lnTo>
                    <a:lnTo>
                      <a:pt x="47" y="381"/>
                    </a:lnTo>
                    <a:lnTo>
                      <a:pt x="41" y="368"/>
                    </a:lnTo>
                    <a:lnTo>
                      <a:pt x="38" y="355"/>
                    </a:lnTo>
                    <a:lnTo>
                      <a:pt x="32" y="330"/>
                    </a:lnTo>
                    <a:lnTo>
                      <a:pt x="29" y="303"/>
                    </a:lnTo>
                    <a:lnTo>
                      <a:pt x="27" y="276"/>
                    </a:lnTo>
                    <a:lnTo>
                      <a:pt x="29" y="248"/>
                    </a:lnTo>
                    <a:lnTo>
                      <a:pt x="32" y="220"/>
                    </a:lnTo>
                    <a:lnTo>
                      <a:pt x="38" y="194"/>
                    </a:lnTo>
                    <a:lnTo>
                      <a:pt x="47" y="171"/>
                    </a:lnTo>
                    <a:lnTo>
                      <a:pt x="57" y="146"/>
                    </a:lnTo>
                    <a:lnTo>
                      <a:pt x="72" y="123"/>
                    </a:lnTo>
                    <a:lnTo>
                      <a:pt x="89" y="101"/>
                    </a:lnTo>
                    <a:lnTo>
                      <a:pt x="108" y="81"/>
                    </a:lnTo>
                    <a:lnTo>
                      <a:pt x="131" y="59"/>
                    </a:lnTo>
                    <a:lnTo>
                      <a:pt x="156" y="41"/>
                    </a:lnTo>
                    <a:lnTo>
                      <a:pt x="181" y="27"/>
                    </a:lnTo>
                    <a:lnTo>
                      <a:pt x="209" y="16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46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342400" y="3780000"/>
                <a:ext cx="173160" cy="237240"/>
              </a:xfrm>
              <a:custGeom>
                <a:avLst/>
                <a:gdLst/>
                <a:ahLst/>
                <a:rect l="l" t="t" r="r" b="b"/>
                <a:pathLst>
                  <a:path w="607" h="834">
                    <a:moveTo>
                      <a:pt x="136" y="0"/>
                    </a:moveTo>
                    <a:lnTo>
                      <a:pt x="97" y="6"/>
                    </a:lnTo>
                    <a:lnTo>
                      <a:pt x="73" y="39"/>
                    </a:lnTo>
                    <a:lnTo>
                      <a:pt x="53" y="74"/>
                    </a:lnTo>
                    <a:lnTo>
                      <a:pt x="36" y="109"/>
                    </a:lnTo>
                    <a:lnTo>
                      <a:pt x="24" y="148"/>
                    </a:lnTo>
                    <a:lnTo>
                      <a:pt x="13" y="185"/>
                    </a:lnTo>
                    <a:lnTo>
                      <a:pt x="6" y="226"/>
                    </a:lnTo>
                    <a:lnTo>
                      <a:pt x="1" y="267"/>
                    </a:lnTo>
                    <a:lnTo>
                      <a:pt x="0" y="310"/>
                    </a:lnTo>
                    <a:lnTo>
                      <a:pt x="0" y="336"/>
                    </a:lnTo>
                    <a:lnTo>
                      <a:pt x="2" y="363"/>
                    </a:lnTo>
                    <a:lnTo>
                      <a:pt x="5" y="388"/>
                    </a:lnTo>
                    <a:lnTo>
                      <a:pt x="9" y="414"/>
                    </a:lnTo>
                    <a:lnTo>
                      <a:pt x="14" y="438"/>
                    </a:lnTo>
                    <a:lnTo>
                      <a:pt x="21" y="463"/>
                    </a:lnTo>
                    <a:lnTo>
                      <a:pt x="39" y="511"/>
                    </a:lnTo>
                    <a:lnTo>
                      <a:pt x="48" y="532"/>
                    </a:lnTo>
                    <a:lnTo>
                      <a:pt x="59" y="555"/>
                    </a:lnTo>
                    <a:lnTo>
                      <a:pt x="72" y="576"/>
                    </a:lnTo>
                    <a:lnTo>
                      <a:pt x="86" y="599"/>
                    </a:lnTo>
                    <a:lnTo>
                      <a:pt x="101" y="620"/>
                    </a:lnTo>
                    <a:lnTo>
                      <a:pt x="118" y="641"/>
                    </a:lnTo>
                    <a:lnTo>
                      <a:pt x="135" y="660"/>
                    </a:lnTo>
                    <a:lnTo>
                      <a:pt x="154" y="681"/>
                    </a:lnTo>
                    <a:lnTo>
                      <a:pt x="192" y="715"/>
                    </a:lnTo>
                    <a:lnTo>
                      <a:pt x="234" y="746"/>
                    </a:lnTo>
                    <a:lnTo>
                      <a:pt x="254" y="760"/>
                    </a:lnTo>
                    <a:lnTo>
                      <a:pt x="276" y="773"/>
                    </a:lnTo>
                    <a:lnTo>
                      <a:pt x="322" y="795"/>
                    </a:lnTo>
                    <a:lnTo>
                      <a:pt x="369" y="811"/>
                    </a:lnTo>
                    <a:lnTo>
                      <a:pt x="394" y="818"/>
                    </a:lnTo>
                    <a:lnTo>
                      <a:pt x="419" y="824"/>
                    </a:lnTo>
                    <a:lnTo>
                      <a:pt x="470" y="830"/>
                    </a:lnTo>
                    <a:lnTo>
                      <a:pt x="497" y="833"/>
                    </a:lnTo>
                    <a:lnTo>
                      <a:pt x="524" y="834"/>
                    </a:lnTo>
                    <a:lnTo>
                      <a:pt x="538" y="833"/>
                    </a:lnTo>
                    <a:lnTo>
                      <a:pt x="552" y="833"/>
                    </a:lnTo>
                    <a:lnTo>
                      <a:pt x="582" y="832"/>
                    </a:lnTo>
                    <a:lnTo>
                      <a:pt x="607" y="800"/>
                    </a:lnTo>
                    <a:lnTo>
                      <a:pt x="566" y="804"/>
                    </a:lnTo>
                    <a:lnTo>
                      <a:pt x="555" y="804"/>
                    </a:lnTo>
                    <a:lnTo>
                      <a:pt x="549" y="804"/>
                    </a:lnTo>
                    <a:lnTo>
                      <a:pt x="544" y="805"/>
                    </a:lnTo>
                    <a:lnTo>
                      <a:pt x="524" y="807"/>
                    </a:lnTo>
                    <a:lnTo>
                      <a:pt x="473" y="804"/>
                    </a:lnTo>
                    <a:lnTo>
                      <a:pt x="424" y="798"/>
                    </a:lnTo>
                    <a:lnTo>
                      <a:pt x="378" y="786"/>
                    </a:lnTo>
                    <a:lnTo>
                      <a:pt x="333" y="770"/>
                    </a:lnTo>
                    <a:lnTo>
                      <a:pt x="289" y="750"/>
                    </a:lnTo>
                    <a:lnTo>
                      <a:pt x="250" y="725"/>
                    </a:lnTo>
                    <a:lnTo>
                      <a:pt x="210" y="695"/>
                    </a:lnTo>
                    <a:lnTo>
                      <a:pt x="174" y="661"/>
                    </a:lnTo>
                    <a:lnTo>
                      <a:pt x="155" y="642"/>
                    </a:lnTo>
                    <a:lnTo>
                      <a:pt x="140" y="624"/>
                    </a:lnTo>
                    <a:lnTo>
                      <a:pt x="124" y="604"/>
                    </a:lnTo>
                    <a:lnTo>
                      <a:pt x="110" y="584"/>
                    </a:lnTo>
                    <a:lnTo>
                      <a:pt x="97" y="563"/>
                    </a:lnTo>
                    <a:lnTo>
                      <a:pt x="85" y="542"/>
                    </a:lnTo>
                    <a:lnTo>
                      <a:pt x="74" y="521"/>
                    </a:lnTo>
                    <a:lnTo>
                      <a:pt x="65" y="500"/>
                    </a:lnTo>
                    <a:lnTo>
                      <a:pt x="49" y="455"/>
                    </a:lnTo>
                    <a:lnTo>
                      <a:pt x="42" y="431"/>
                    </a:lnTo>
                    <a:lnTo>
                      <a:pt x="38" y="409"/>
                    </a:lnTo>
                    <a:lnTo>
                      <a:pt x="33" y="384"/>
                    </a:lnTo>
                    <a:lnTo>
                      <a:pt x="31" y="360"/>
                    </a:lnTo>
                    <a:lnTo>
                      <a:pt x="28" y="310"/>
                    </a:lnTo>
                    <a:lnTo>
                      <a:pt x="30" y="266"/>
                    </a:lnTo>
                    <a:lnTo>
                      <a:pt x="34" y="224"/>
                    </a:lnTo>
                    <a:lnTo>
                      <a:pt x="42" y="182"/>
                    </a:lnTo>
                    <a:lnTo>
                      <a:pt x="55" y="143"/>
                    </a:lnTo>
                    <a:lnTo>
                      <a:pt x="69" y="105"/>
                    </a:lnTo>
                    <a:lnTo>
                      <a:pt x="89" y="68"/>
                    </a:lnTo>
                    <a:lnTo>
                      <a:pt x="110" y="33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2c4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429160" y="3805560"/>
                <a:ext cx="113760" cy="125640"/>
              </a:xfrm>
              <a:custGeom>
                <a:avLst/>
                <a:gdLst/>
                <a:ahLst/>
                <a:rect l="l" t="t" r="r" b="b"/>
                <a:pathLst>
                  <a:path w="398" h="440">
                    <a:moveTo>
                      <a:pt x="27" y="219"/>
                    </a:moveTo>
                    <a:lnTo>
                      <a:pt x="27" y="199"/>
                    </a:lnTo>
                    <a:lnTo>
                      <a:pt x="31" y="180"/>
                    </a:lnTo>
                    <a:lnTo>
                      <a:pt x="41" y="145"/>
                    </a:lnTo>
                    <a:lnTo>
                      <a:pt x="58" y="112"/>
                    </a:lnTo>
                    <a:lnTo>
                      <a:pt x="69" y="97"/>
                    </a:lnTo>
                    <a:lnTo>
                      <a:pt x="84" y="83"/>
                    </a:lnTo>
                    <a:lnTo>
                      <a:pt x="98" y="68"/>
                    </a:lnTo>
                    <a:lnTo>
                      <a:pt x="113" y="57"/>
                    </a:lnTo>
                    <a:lnTo>
                      <a:pt x="146" y="40"/>
                    </a:lnTo>
                    <a:lnTo>
                      <a:pt x="181" y="30"/>
                    </a:lnTo>
                    <a:lnTo>
                      <a:pt x="200" y="26"/>
                    </a:lnTo>
                    <a:lnTo>
                      <a:pt x="220" y="26"/>
                    </a:lnTo>
                    <a:lnTo>
                      <a:pt x="224" y="26"/>
                    </a:lnTo>
                    <a:lnTo>
                      <a:pt x="192" y="0"/>
                    </a:lnTo>
                    <a:lnTo>
                      <a:pt x="156" y="7"/>
                    </a:lnTo>
                    <a:lnTo>
                      <a:pt x="124" y="21"/>
                    </a:lnTo>
                    <a:lnTo>
                      <a:pt x="93" y="39"/>
                    </a:lnTo>
                    <a:lnTo>
                      <a:pt x="65" y="64"/>
                    </a:lnTo>
                    <a:lnTo>
                      <a:pt x="48" y="80"/>
                    </a:lnTo>
                    <a:lnTo>
                      <a:pt x="35" y="97"/>
                    </a:lnTo>
                    <a:lnTo>
                      <a:pt x="16" y="134"/>
                    </a:lnTo>
                    <a:lnTo>
                      <a:pt x="8" y="153"/>
                    </a:lnTo>
                    <a:lnTo>
                      <a:pt x="3" y="175"/>
                    </a:lnTo>
                    <a:lnTo>
                      <a:pt x="0" y="219"/>
                    </a:lnTo>
                    <a:lnTo>
                      <a:pt x="0" y="241"/>
                    </a:lnTo>
                    <a:lnTo>
                      <a:pt x="3" y="262"/>
                    </a:lnTo>
                    <a:lnTo>
                      <a:pt x="8" y="282"/>
                    </a:lnTo>
                    <a:lnTo>
                      <a:pt x="16" y="303"/>
                    </a:lnTo>
                    <a:lnTo>
                      <a:pt x="24" y="321"/>
                    </a:lnTo>
                    <a:lnTo>
                      <a:pt x="35" y="340"/>
                    </a:lnTo>
                    <a:lnTo>
                      <a:pt x="48" y="357"/>
                    </a:lnTo>
                    <a:lnTo>
                      <a:pt x="65" y="375"/>
                    </a:lnTo>
                    <a:lnTo>
                      <a:pt x="80" y="390"/>
                    </a:lnTo>
                    <a:lnTo>
                      <a:pt x="98" y="403"/>
                    </a:lnTo>
                    <a:lnTo>
                      <a:pt x="116" y="413"/>
                    </a:lnTo>
                    <a:lnTo>
                      <a:pt x="135" y="423"/>
                    </a:lnTo>
                    <a:lnTo>
                      <a:pt x="154" y="430"/>
                    </a:lnTo>
                    <a:lnTo>
                      <a:pt x="176" y="436"/>
                    </a:lnTo>
                    <a:lnTo>
                      <a:pt x="197" y="439"/>
                    </a:lnTo>
                    <a:lnTo>
                      <a:pt x="220" y="440"/>
                    </a:lnTo>
                    <a:lnTo>
                      <a:pt x="224" y="439"/>
                    </a:lnTo>
                    <a:lnTo>
                      <a:pt x="230" y="439"/>
                    </a:lnTo>
                    <a:lnTo>
                      <a:pt x="241" y="439"/>
                    </a:lnTo>
                    <a:lnTo>
                      <a:pt x="252" y="437"/>
                    </a:lnTo>
                    <a:lnTo>
                      <a:pt x="263" y="436"/>
                    </a:lnTo>
                    <a:lnTo>
                      <a:pt x="283" y="430"/>
                    </a:lnTo>
                    <a:lnTo>
                      <a:pt x="304" y="423"/>
                    </a:lnTo>
                    <a:lnTo>
                      <a:pt x="322" y="413"/>
                    </a:lnTo>
                    <a:lnTo>
                      <a:pt x="331" y="407"/>
                    </a:lnTo>
                    <a:lnTo>
                      <a:pt x="341" y="403"/>
                    </a:lnTo>
                    <a:lnTo>
                      <a:pt x="349" y="396"/>
                    </a:lnTo>
                    <a:lnTo>
                      <a:pt x="358" y="390"/>
                    </a:lnTo>
                    <a:lnTo>
                      <a:pt x="376" y="375"/>
                    </a:lnTo>
                    <a:lnTo>
                      <a:pt x="381" y="369"/>
                    </a:lnTo>
                    <a:lnTo>
                      <a:pt x="383" y="365"/>
                    </a:lnTo>
                    <a:lnTo>
                      <a:pt x="387" y="363"/>
                    </a:lnTo>
                    <a:lnTo>
                      <a:pt x="398" y="351"/>
                    </a:lnTo>
                    <a:lnTo>
                      <a:pt x="391" y="310"/>
                    </a:lnTo>
                    <a:lnTo>
                      <a:pt x="383" y="321"/>
                    </a:lnTo>
                    <a:lnTo>
                      <a:pt x="379" y="327"/>
                    </a:lnTo>
                    <a:lnTo>
                      <a:pt x="375" y="333"/>
                    </a:lnTo>
                    <a:lnTo>
                      <a:pt x="357" y="356"/>
                    </a:lnTo>
                    <a:lnTo>
                      <a:pt x="341" y="369"/>
                    </a:lnTo>
                    <a:lnTo>
                      <a:pt x="327" y="380"/>
                    </a:lnTo>
                    <a:lnTo>
                      <a:pt x="310" y="389"/>
                    </a:lnTo>
                    <a:lnTo>
                      <a:pt x="294" y="397"/>
                    </a:lnTo>
                    <a:lnTo>
                      <a:pt x="276" y="403"/>
                    </a:lnTo>
                    <a:lnTo>
                      <a:pt x="257" y="407"/>
                    </a:lnTo>
                    <a:lnTo>
                      <a:pt x="252" y="407"/>
                    </a:lnTo>
                    <a:lnTo>
                      <a:pt x="247" y="408"/>
                    </a:lnTo>
                    <a:lnTo>
                      <a:pt x="238" y="411"/>
                    </a:lnTo>
                    <a:lnTo>
                      <a:pt x="220" y="412"/>
                    </a:lnTo>
                    <a:lnTo>
                      <a:pt x="200" y="411"/>
                    </a:lnTo>
                    <a:lnTo>
                      <a:pt x="181" y="407"/>
                    </a:lnTo>
                    <a:lnTo>
                      <a:pt x="163" y="403"/>
                    </a:lnTo>
                    <a:lnTo>
                      <a:pt x="146" y="397"/>
                    </a:lnTo>
                    <a:lnTo>
                      <a:pt x="129" y="389"/>
                    </a:lnTo>
                    <a:lnTo>
                      <a:pt x="113" y="380"/>
                    </a:lnTo>
                    <a:lnTo>
                      <a:pt x="98" y="369"/>
                    </a:lnTo>
                    <a:lnTo>
                      <a:pt x="84" y="356"/>
                    </a:lnTo>
                    <a:lnTo>
                      <a:pt x="69" y="340"/>
                    </a:lnTo>
                    <a:lnTo>
                      <a:pt x="58" y="326"/>
                    </a:lnTo>
                    <a:lnTo>
                      <a:pt x="48" y="309"/>
                    </a:lnTo>
                    <a:lnTo>
                      <a:pt x="41" y="293"/>
                    </a:lnTo>
                    <a:lnTo>
                      <a:pt x="34" y="275"/>
                    </a:lnTo>
                    <a:lnTo>
                      <a:pt x="31" y="256"/>
                    </a:lnTo>
                    <a:lnTo>
                      <a:pt x="27" y="237"/>
                    </a:lnTo>
                    <a:lnTo>
                      <a:pt x="27" y="219"/>
                    </a:lnTo>
                    <a:close/>
                  </a:path>
                </a:pathLst>
              </a:custGeom>
              <a:solidFill>
                <a:srgbClr val="4f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37080" y="3813120"/>
                <a:ext cx="103680" cy="110160"/>
              </a:xfrm>
              <a:custGeom>
                <a:avLst/>
                <a:gdLst/>
                <a:ahLst/>
                <a:rect l="l" t="t" r="r" b="b"/>
                <a:pathLst>
                  <a:path w="364" h="386">
                    <a:moveTo>
                      <a:pt x="57" y="57"/>
                    </a:moveTo>
                    <a:lnTo>
                      <a:pt x="42" y="71"/>
                    </a:lnTo>
                    <a:lnTo>
                      <a:pt x="31" y="86"/>
                    </a:lnTo>
                    <a:lnTo>
                      <a:pt x="14" y="119"/>
                    </a:lnTo>
                    <a:lnTo>
                      <a:pt x="4" y="154"/>
                    </a:lnTo>
                    <a:lnTo>
                      <a:pt x="0" y="173"/>
                    </a:lnTo>
                    <a:lnTo>
                      <a:pt x="0" y="193"/>
                    </a:lnTo>
                    <a:lnTo>
                      <a:pt x="0" y="211"/>
                    </a:lnTo>
                    <a:lnTo>
                      <a:pt x="4" y="230"/>
                    </a:lnTo>
                    <a:lnTo>
                      <a:pt x="7" y="249"/>
                    </a:lnTo>
                    <a:lnTo>
                      <a:pt x="14" y="267"/>
                    </a:lnTo>
                    <a:lnTo>
                      <a:pt x="21" y="283"/>
                    </a:lnTo>
                    <a:lnTo>
                      <a:pt x="31" y="300"/>
                    </a:lnTo>
                    <a:lnTo>
                      <a:pt x="42" y="314"/>
                    </a:lnTo>
                    <a:lnTo>
                      <a:pt x="57" y="330"/>
                    </a:lnTo>
                    <a:lnTo>
                      <a:pt x="71" y="343"/>
                    </a:lnTo>
                    <a:lnTo>
                      <a:pt x="86" y="354"/>
                    </a:lnTo>
                    <a:lnTo>
                      <a:pt x="102" y="363"/>
                    </a:lnTo>
                    <a:lnTo>
                      <a:pt x="119" y="371"/>
                    </a:lnTo>
                    <a:lnTo>
                      <a:pt x="136" y="377"/>
                    </a:lnTo>
                    <a:lnTo>
                      <a:pt x="154" y="381"/>
                    </a:lnTo>
                    <a:lnTo>
                      <a:pt x="173" y="385"/>
                    </a:lnTo>
                    <a:lnTo>
                      <a:pt x="193" y="386"/>
                    </a:lnTo>
                    <a:lnTo>
                      <a:pt x="211" y="385"/>
                    </a:lnTo>
                    <a:lnTo>
                      <a:pt x="220" y="382"/>
                    </a:lnTo>
                    <a:lnTo>
                      <a:pt x="225" y="381"/>
                    </a:lnTo>
                    <a:lnTo>
                      <a:pt x="230" y="381"/>
                    </a:lnTo>
                    <a:lnTo>
                      <a:pt x="249" y="377"/>
                    </a:lnTo>
                    <a:lnTo>
                      <a:pt x="267" y="371"/>
                    </a:lnTo>
                    <a:lnTo>
                      <a:pt x="283" y="363"/>
                    </a:lnTo>
                    <a:lnTo>
                      <a:pt x="300" y="354"/>
                    </a:lnTo>
                    <a:lnTo>
                      <a:pt x="314" y="343"/>
                    </a:lnTo>
                    <a:lnTo>
                      <a:pt x="330" y="330"/>
                    </a:lnTo>
                    <a:lnTo>
                      <a:pt x="348" y="307"/>
                    </a:lnTo>
                    <a:lnTo>
                      <a:pt x="352" y="301"/>
                    </a:lnTo>
                    <a:lnTo>
                      <a:pt x="356" y="295"/>
                    </a:lnTo>
                    <a:lnTo>
                      <a:pt x="364" y="284"/>
                    </a:lnTo>
                    <a:lnTo>
                      <a:pt x="354" y="237"/>
                    </a:lnTo>
                    <a:lnTo>
                      <a:pt x="349" y="246"/>
                    </a:lnTo>
                    <a:lnTo>
                      <a:pt x="347" y="251"/>
                    </a:lnTo>
                    <a:lnTo>
                      <a:pt x="346" y="253"/>
                    </a:lnTo>
                    <a:lnTo>
                      <a:pt x="346" y="256"/>
                    </a:lnTo>
                    <a:lnTo>
                      <a:pt x="341" y="266"/>
                    </a:lnTo>
                    <a:lnTo>
                      <a:pt x="337" y="276"/>
                    </a:lnTo>
                    <a:lnTo>
                      <a:pt x="330" y="284"/>
                    </a:lnTo>
                    <a:lnTo>
                      <a:pt x="324" y="293"/>
                    </a:lnTo>
                    <a:lnTo>
                      <a:pt x="318" y="301"/>
                    </a:lnTo>
                    <a:lnTo>
                      <a:pt x="311" y="310"/>
                    </a:lnTo>
                    <a:lnTo>
                      <a:pt x="297" y="320"/>
                    </a:lnTo>
                    <a:lnTo>
                      <a:pt x="290" y="325"/>
                    </a:lnTo>
                    <a:lnTo>
                      <a:pt x="287" y="327"/>
                    </a:lnTo>
                    <a:lnTo>
                      <a:pt x="285" y="330"/>
                    </a:lnTo>
                    <a:lnTo>
                      <a:pt x="280" y="331"/>
                    </a:lnTo>
                    <a:lnTo>
                      <a:pt x="277" y="334"/>
                    </a:lnTo>
                    <a:lnTo>
                      <a:pt x="270" y="338"/>
                    </a:lnTo>
                    <a:lnTo>
                      <a:pt x="256" y="346"/>
                    </a:lnTo>
                    <a:lnTo>
                      <a:pt x="241" y="351"/>
                    </a:lnTo>
                    <a:lnTo>
                      <a:pt x="226" y="355"/>
                    </a:lnTo>
                    <a:lnTo>
                      <a:pt x="209" y="357"/>
                    </a:lnTo>
                    <a:lnTo>
                      <a:pt x="193" y="359"/>
                    </a:lnTo>
                    <a:lnTo>
                      <a:pt x="176" y="357"/>
                    </a:lnTo>
                    <a:lnTo>
                      <a:pt x="160" y="355"/>
                    </a:lnTo>
                    <a:lnTo>
                      <a:pt x="129" y="346"/>
                    </a:lnTo>
                    <a:lnTo>
                      <a:pt x="101" y="330"/>
                    </a:lnTo>
                    <a:lnTo>
                      <a:pt x="88" y="320"/>
                    </a:lnTo>
                    <a:lnTo>
                      <a:pt x="76" y="310"/>
                    </a:lnTo>
                    <a:lnTo>
                      <a:pt x="64" y="296"/>
                    </a:lnTo>
                    <a:lnTo>
                      <a:pt x="53" y="284"/>
                    </a:lnTo>
                    <a:lnTo>
                      <a:pt x="44" y="270"/>
                    </a:lnTo>
                    <a:lnTo>
                      <a:pt x="39" y="256"/>
                    </a:lnTo>
                    <a:lnTo>
                      <a:pt x="33" y="241"/>
                    </a:lnTo>
                    <a:lnTo>
                      <a:pt x="30" y="226"/>
                    </a:lnTo>
                    <a:lnTo>
                      <a:pt x="27" y="209"/>
                    </a:lnTo>
                    <a:lnTo>
                      <a:pt x="27" y="193"/>
                    </a:lnTo>
                    <a:lnTo>
                      <a:pt x="30" y="160"/>
                    </a:lnTo>
                    <a:lnTo>
                      <a:pt x="39" y="129"/>
                    </a:lnTo>
                    <a:lnTo>
                      <a:pt x="53" y="101"/>
                    </a:lnTo>
                    <a:lnTo>
                      <a:pt x="64" y="88"/>
                    </a:lnTo>
                    <a:lnTo>
                      <a:pt x="76" y="76"/>
                    </a:lnTo>
                    <a:lnTo>
                      <a:pt x="88" y="64"/>
                    </a:lnTo>
                    <a:lnTo>
                      <a:pt x="101" y="54"/>
                    </a:lnTo>
                    <a:lnTo>
                      <a:pt x="129" y="39"/>
                    </a:lnTo>
                    <a:lnTo>
                      <a:pt x="160" y="30"/>
                    </a:lnTo>
                    <a:lnTo>
                      <a:pt x="193" y="27"/>
                    </a:lnTo>
                    <a:lnTo>
                      <a:pt x="212" y="29"/>
                    </a:lnTo>
                    <a:lnTo>
                      <a:pt x="230" y="32"/>
                    </a:lnTo>
                    <a:lnTo>
                      <a:pt x="226" y="27"/>
                    </a:lnTo>
                    <a:lnTo>
                      <a:pt x="211" y="13"/>
                    </a:lnTo>
                    <a:lnTo>
                      <a:pt x="197" y="0"/>
                    </a:lnTo>
                    <a:lnTo>
                      <a:pt x="193" y="0"/>
                    </a:lnTo>
                    <a:lnTo>
                      <a:pt x="173" y="0"/>
                    </a:lnTo>
                    <a:lnTo>
                      <a:pt x="154" y="4"/>
                    </a:lnTo>
                    <a:lnTo>
                      <a:pt x="119" y="14"/>
                    </a:lnTo>
                    <a:lnTo>
                      <a:pt x="86" y="31"/>
                    </a:lnTo>
                    <a:lnTo>
                      <a:pt x="71" y="42"/>
                    </a:lnTo>
                    <a:lnTo>
                      <a:pt x="57" y="57"/>
                    </a:lnTo>
                    <a:close/>
                  </a:path>
                </a:pathLst>
              </a:custGeom>
              <a:solidFill>
                <a:srgbClr val="52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21240" y="3799440"/>
                <a:ext cx="122400" cy="139680"/>
              </a:xfrm>
              <a:custGeom>
                <a:avLst/>
                <a:gdLst/>
                <a:ahLst/>
                <a:rect l="l" t="t" r="r" b="b"/>
                <a:pathLst>
                  <a:path w="427" h="488">
                    <a:moveTo>
                      <a:pt x="27" y="240"/>
                    </a:moveTo>
                    <a:lnTo>
                      <a:pt x="30" y="196"/>
                    </a:lnTo>
                    <a:lnTo>
                      <a:pt x="35" y="174"/>
                    </a:lnTo>
                    <a:lnTo>
                      <a:pt x="43" y="155"/>
                    </a:lnTo>
                    <a:lnTo>
                      <a:pt x="62" y="118"/>
                    </a:lnTo>
                    <a:lnTo>
                      <a:pt x="75" y="101"/>
                    </a:lnTo>
                    <a:lnTo>
                      <a:pt x="92" y="85"/>
                    </a:lnTo>
                    <a:lnTo>
                      <a:pt x="120" y="60"/>
                    </a:lnTo>
                    <a:lnTo>
                      <a:pt x="151" y="42"/>
                    </a:lnTo>
                    <a:lnTo>
                      <a:pt x="183" y="28"/>
                    </a:lnTo>
                    <a:lnTo>
                      <a:pt x="219" y="21"/>
                    </a:lnTo>
                    <a:lnTo>
                      <a:pt x="187" y="0"/>
                    </a:lnTo>
                    <a:lnTo>
                      <a:pt x="154" y="9"/>
                    </a:lnTo>
                    <a:lnTo>
                      <a:pt x="126" y="22"/>
                    </a:lnTo>
                    <a:lnTo>
                      <a:pt x="97" y="40"/>
                    </a:lnTo>
                    <a:lnTo>
                      <a:pt x="72" y="64"/>
                    </a:lnTo>
                    <a:lnTo>
                      <a:pt x="55" y="82"/>
                    </a:lnTo>
                    <a:lnTo>
                      <a:pt x="41" y="102"/>
                    </a:lnTo>
                    <a:lnTo>
                      <a:pt x="28" y="122"/>
                    </a:lnTo>
                    <a:lnTo>
                      <a:pt x="18" y="145"/>
                    </a:lnTo>
                    <a:lnTo>
                      <a:pt x="10" y="166"/>
                    </a:lnTo>
                    <a:lnTo>
                      <a:pt x="4" y="190"/>
                    </a:lnTo>
                    <a:lnTo>
                      <a:pt x="1" y="214"/>
                    </a:lnTo>
                    <a:lnTo>
                      <a:pt x="0" y="240"/>
                    </a:lnTo>
                    <a:lnTo>
                      <a:pt x="1" y="264"/>
                    </a:lnTo>
                    <a:lnTo>
                      <a:pt x="4" y="289"/>
                    </a:lnTo>
                    <a:lnTo>
                      <a:pt x="10" y="311"/>
                    </a:lnTo>
                    <a:lnTo>
                      <a:pt x="18" y="335"/>
                    </a:lnTo>
                    <a:lnTo>
                      <a:pt x="28" y="356"/>
                    </a:lnTo>
                    <a:lnTo>
                      <a:pt x="41" y="377"/>
                    </a:lnTo>
                    <a:lnTo>
                      <a:pt x="55" y="396"/>
                    </a:lnTo>
                    <a:lnTo>
                      <a:pt x="72" y="416"/>
                    </a:lnTo>
                    <a:lnTo>
                      <a:pt x="90" y="433"/>
                    </a:lnTo>
                    <a:lnTo>
                      <a:pt x="110" y="447"/>
                    </a:lnTo>
                    <a:lnTo>
                      <a:pt x="130" y="460"/>
                    </a:lnTo>
                    <a:lnTo>
                      <a:pt x="152" y="470"/>
                    </a:lnTo>
                    <a:lnTo>
                      <a:pt x="173" y="478"/>
                    </a:lnTo>
                    <a:lnTo>
                      <a:pt x="197" y="484"/>
                    </a:lnTo>
                    <a:lnTo>
                      <a:pt x="221" y="487"/>
                    </a:lnTo>
                    <a:lnTo>
                      <a:pt x="247" y="488"/>
                    </a:lnTo>
                    <a:lnTo>
                      <a:pt x="258" y="487"/>
                    </a:lnTo>
                    <a:lnTo>
                      <a:pt x="271" y="487"/>
                    </a:lnTo>
                    <a:lnTo>
                      <a:pt x="296" y="484"/>
                    </a:lnTo>
                    <a:lnTo>
                      <a:pt x="318" y="478"/>
                    </a:lnTo>
                    <a:lnTo>
                      <a:pt x="330" y="474"/>
                    </a:lnTo>
                    <a:lnTo>
                      <a:pt x="335" y="471"/>
                    </a:lnTo>
                    <a:lnTo>
                      <a:pt x="342" y="470"/>
                    </a:lnTo>
                    <a:lnTo>
                      <a:pt x="363" y="460"/>
                    </a:lnTo>
                    <a:lnTo>
                      <a:pt x="373" y="453"/>
                    </a:lnTo>
                    <a:lnTo>
                      <a:pt x="384" y="447"/>
                    </a:lnTo>
                    <a:lnTo>
                      <a:pt x="393" y="440"/>
                    </a:lnTo>
                    <a:lnTo>
                      <a:pt x="403" y="433"/>
                    </a:lnTo>
                    <a:lnTo>
                      <a:pt x="412" y="424"/>
                    </a:lnTo>
                    <a:lnTo>
                      <a:pt x="417" y="419"/>
                    </a:lnTo>
                    <a:lnTo>
                      <a:pt x="419" y="417"/>
                    </a:lnTo>
                    <a:lnTo>
                      <a:pt x="420" y="416"/>
                    </a:lnTo>
                    <a:lnTo>
                      <a:pt x="423" y="416"/>
                    </a:lnTo>
                    <a:lnTo>
                      <a:pt x="427" y="411"/>
                    </a:lnTo>
                    <a:lnTo>
                      <a:pt x="425" y="372"/>
                    </a:lnTo>
                    <a:lnTo>
                      <a:pt x="414" y="384"/>
                    </a:lnTo>
                    <a:lnTo>
                      <a:pt x="410" y="386"/>
                    </a:lnTo>
                    <a:lnTo>
                      <a:pt x="408" y="390"/>
                    </a:lnTo>
                    <a:lnTo>
                      <a:pt x="403" y="396"/>
                    </a:lnTo>
                    <a:lnTo>
                      <a:pt x="385" y="411"/>
                    </a:lnTo>
                    <a:lnTo>
                      <a:pt x="376" y="417"/>
                    </a:lnTo>
                    <a:lnTo>
                      <a:pt x="368" y="424"/>
                    </a:lnTo>
                    <a:lnTo>
                      <a:pt x="358" y="428"/>
                    </a:lnTo>
                    <a:lnTo>
                      <a:pt x="349" y="434"/>
                    </a:lnTo>
                    <a:lnTo>
                      <a:pt x="331" y="444"/>
                    </a:lnTo>
                    <a:lnTo>
                      <a:pt x="310" y="451"/>
                    </a:lnTo>
                    <a:lnTo>
                      <a:pt x="290" y="457"/>
                    </a:lnTo>
                    <a:lnTo>
                      <a:pt x="279" y="458"/>
                    </a:lnTo>
                    <a:lnTo>
                      <a:pt x="268" y="460"/>
                    </a:lnTo>
                    <a:lnTo>
                      <a:pt x="257" y="460"/>
                    </a:lnTo>
                    <a:lnTo>
                      <a:pt x="251" y="460"/>
                    </a:lnTo>
                    <a:lnTo>
                      <a:pt x="247" y="461"/>
                    </a:lnTo>
                    <a:lnTo>
                      <a:pt x="224" y="460"/>
                    </a:lnTo>
                    <a:lnTo>
                      <a:pt x="203" y="457"/>
                    </a:lnTo>
                    <a:lnTo>
                      <a:pt x="181" y="451"/>
                    </a:lnTo>
                    <a:lnTo>
                      <a:pt x="162" y="444"/>
                    </a:lnTo>
                    <a:lnTo>
                      <a:pt x="143" y="434"/>
                    </a:lnTo>
                    <a:lnTo>
                      <a:pt x="125" y="424"/>
                    </a:lnTo>
                    <a:lnTo>
                      <a:pt x="107" y="411"/>
                    </a:lnTo>
                    <a:lnTo>
                      <a:pt x="92" y="396"/>
                    </a:lnTo>
                    <a:lnTo>
                      <a:pt x="75" y="378"/>
                    </a:lnTo>
                    <a:lnTo>
                      <a:pt x="62" y="361"/>
                    </a:lnTo>
                    <a:lnTo>
                      <a:pt x="51" y="342"/>
                    </a:lnTo>
                    <a:lnTo>
                      <a:pt x="43" y="324"/>
                    </a:lnTo>
                    <a:lnTo>
                      <a:pt x="35" y="303"/>
                    </a:lnTo>
                    <a:lnTo>
                      <a:pt x="30" y="283"/>
                    </a:lnTo>
                    <a:lnTo>
                      <a:pt x="27" y="262"/>
                    </a:lnTo>
                    <a:lnTo>
                      <a:pt x="27" y="24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412960" y="3794400"/>
                <a:ext cx="130680" cy="153000"/>
              </a:xfrm>
              <a:custGeom>
                <a:avLst/>
                <a:gdLst/>
                <a:ahLst/>
                <a:rect l="l" t="t" r="r" b="b"/>
                <a:pathLst>
                  <a:path w="457" h="537">
                    <a:moveTo>
                      <a:pt x="29" y="260"/>
                    </a:moveTo>
                    <a:lnTo>
                      <a:pt x="30" y="234"/>
                    </a:lnTo>
                    <a:lnTo>
                      <a:pt x="33" y="210"/>
                    </a:lnTo>
                    <a:lnTo>
                      <a:pt x="39" y="186"/>
                    </a:lnTo>
                    <a:lnTo>
                      <a:pt x="47" y="165"/>
                    </a:lnTo>
                    <a:lnTo>
                      <a:pt x="57" y="142"/>
                    </a:lnTo>
                    <a:lnTo>
                      <a:pt x="70" y="122"/>
                    </a:lnTo>
                    <a:lnTo>
                      <a:pt x="84" y="102"/>
                    </a:lnTo>
                    <a:lnTo>
                      <a:pt x="101" y="84"/>
                    </a:lnTo>
                    <a:lnTo>
                      <a:pt x="126" y="60"/>
                    </a:lnTo>
                    <a:lnTo>
                      <a:pt x="155" y="42"/>
                    </a:lnTo>
                    <a:lnTo>
                      <a:pt x="183" y="29"/>
                    </a:lnTo>
                    <a:lnTo>
                      <a:pt x="216" y="20"/>
                    </a:lnTo>
                    <a:lnTo>
                      <a:pt x="182" y="0"/>
                    </a:lnTo>
                    <a:lnTo>
                      <a:pt x="154" y="11"/>
                    </a:lnTo>
                    <a:lnTo>
                      <a:pt x="129" y="25"/>
                    </a:lnTo>
                    <a:lnTo>
                      <a:pt x="104" y="43"/>
                    </a:lnTo>
                    <a:lnTo>
                      <a:pt x="81" y="65"/>
                    </a:lnTo>
                    <a:lnTo>
                      <a:pt x="62" y="85"/>
                    </a:lnTo>
                    <a:lnTo>
                      <a:pt x="45" y="107"/>
                    </a:lnTo>
                    <a:lnTo>
                      <a:pt x="30" y="130"/>
                    </a:lnTo>
                    <a:lnTo>
                      <a:pt x="20" y="155"/>
                    </a:lnTo>
                    <a:lnTo>
                      <a:pt x="11" y="178"/>
                    </a:lnTo>
                    <a:lnTo>
                      <a:pt x="5" y="204"/>
                    </a:lnTo>
                    <a:lnTo>
                      <a:pt x="2" y="232"/>
                    </a:lnTo>
                    <a:lnTo>
                      <a:pt x="0" y="260"/>
                    </a:lnTo>
                    <a:lnTo>
                      <a:pt x="2" y="287"/>
                    </a:lnTo>
                    <a:lnTo>
                      <a:pt x="5" y="314"/>
                    </a:lnTo>
                    <a:lnTo>
                      <a:pt x="11" y="339"/>
                    </a:lnTo>
                    <a:lnTo>
                      <a:pt x="14" y="352"/>
                    </a:lnTo>
                    <a:lnTo>
                      <a:pt x="20" y="365"/>
                    </a:lnTo>
                    <a:lnTo>
                      <a:pt x="30" y="388"/>
                    </a:lnTo>
                    <a:lnTo>
                      <a:pt x="45" y="412"/>
                    </a:lnTo>
                    <a:lnTo>
                      <a:pt x="62" y="433"/>
                    </a:lnTo>
                    <a:lnTo>
                      <a:pt x="81" y="455"/>
                    </a:lnTo>
                    <a:lnTo>
                      <a:pt x="101" y="473"/>
                    </a:lnTo>
                    <a:lnTo>
                      <a:pt x="123" y="490"/>
                    </a:lnTo>
                    <a:lnTo>
                      <a:pt x="146" y="504"/>
                    </a:lnTo>
                    <a:lnTo>
                      <a:pt x="171" y="516"/>
                    </a:lnTo>
                    <a:lnTo>
                      <a:pt x="194" y="524"/>
                    </a:lnTo>
                    <a:lnTo>
                      <a:pt x="220" y="531"/>
                    </a:lnTo>
                    <a:lnTo>
                      <a:pt x="248" y="534"/>
                    </a:lnTo>
                    <a:lnTo>
                      <a:pt x="276" y="537"/>
                    </a:lnTo>
                    <a:lnTo>
                      <a:pt x="301" y="535"/>
                    </a:lnTo>
                    <a:lnTo>
                      <a:pt x="326" y="532"/>
                    </a:lnTo>
                    <a:lnTo>
                      <a:pt x="337" y="529"/>
                    </a:lnTo>
                    <a:lnTo>
                      <a:pt x="350" y="526"/>
                    </a:lnTo>
                    <a:lnTo>
                      <a:pt x="373" y="520"/>
                    </a:lnTo>
                    <a:lnTo>
                      <a:pt x="378" y="516"/>
                    </a:lnTo>
                    <a:lnTo>
                      <a:pt x="384" y="514"/>
                    </a:lnTo>
                    <a:lnTo>
                      <a:pt x="395" y="509"/>
                    </a:lnTo>
                    <a:lnTo>
                      <a:pt x="417" y="498"/>
                    </a:lnTo>
                    <a:lnTo>
                      <a:pt x="437" y="484"/>
                    </a:lnTo>
                    <a:lnTo>
                      <a:pt x="457" y="470"/>
                    </a:lnTo>
                    <a:lnTo>
                      <a:pt x="457" y="450"/>
                    </a:lnTo>
                    <a:lnTo>
                      <a:pt x="456" y="431"/>
                    </a:lnTo>
                    <a:lnTo>
                      <a:pt x="452" y="436"/>
                    </a:lnTo>
                    <a:lnTo>
                      <a:pt x="449" y="436"/>
                    </a:lnTo>
                    <a:lnTo>
                      <a:pt x="448" y="437"/>
                    </a:lnTo>
                    <a:lnTo>
                      <a:pt x="446" y="439"/>
                    </a:lnTo>
                    <a:lnTo>
                      <a:pt x="441" y="444"/>
                    </a:lnTo>
                    <a:lnTo>
                      <a:pt x="432" y="453"/>
                    </a:lnTo>
                    <a:lnTo>
                      <a:pt x="422" y="460"/>
                    </a:lnTo>
                    <a:lnTo>
                      <a:pt x="413" y="467"/>
                    </a:lnTo>
                    <a:lnTo>
                      <a:pt x="402" y="473"/>
                    </a:lnTo>
                    <a:lnTo>
                      <a:pt x="392" y="480"/>
                    </a:lnTo>
                    <a:lnTo>
                      <a:pt x="371" y="490"/>
                    </a:lnTo>
                    <a:lnTo>
                      <a:pt x="364" y="491"/>
                    </a:lnTo>
                    <a:lnTo>
                      <a:pt x="359" y="494"/>
                    </a:lnTo>
                    <a:lnTo>
                      <a:pt x="347" y="498"/>
                    </a:lnTo>
                    <a:lnTo>
                      <a:pt x="325" y="504"/>
                    </a:lnTo>
                    <a:lnTo>
                      <a:pt x="300" y="507"/>
                    </a:lnTo>
                    <a:lnTo>
                      <a:pt x="287" y="507"/>
                    </a:lnTo>
                    <a:lnTo>
                      <a:pt x="276" y="508"/>
                    </a:lnTo>
                    <a:lnTo>
                      <a:pt x="250" y="507"/>
                    </a:lnTo>
                    <a:lnTo>
                      <a:pt x="226" y="504"/>
                    </a:lnTo>
                    <a:lnTo>
                      <a:pt x="202" y="498"/>
                    </a:lnTo>
                    <a:lnTo>
                      <a:pt x="181" y="490"/>
                    </a:lnTo>
                    <a:lnTo>
                      <a:pt x="159" y="480"/>
                    </a:lnTo>
                    <a:lnTo>
                      <a:pt x="139" y="467"/>
                    </a:lnTo>
                    <a:lnTo>
                      <a:pt x="119" y="453"/>
                    </a:lnTo>
                    <a:lnTo>
                      <a:pt x="101" y="436"/>
                    </a:lnTo>
                    <a:lnTo>
                      <a:pt x="84" y="416"/>
                    </a:lnTo>
                    <a:lnTo>
                      <a:pt x="70" y="397"/>
                    </a:lnTo>
                    <a:lnTo>
                      <a:pt x="57" y="376"/>
                    </a:lnTo>
                    <a:lnTo>
                      <a:pt x="47" y="355"/>
                    </a:lnTo>
                    <a:lnTo>
                      <a:pt x="39" y="331"/>
                    </a:lnTo>
                    <a:lnTo>
                      <a:pt x="33" y="309"/>
                    </a:lnTo>
                    <a:lnTo>
                      <a:pt x="30" y="284"/>
                    </a:lnTo>
                    <a:lnTo>
                      <a:pt x="29" y="260"/>
                    </a:lnTo>
                    <a:close/>
                  </a:path>
                </a:pathLst>
              </a:custGeom>
              <a:solidFill>
                <a:srgbClr val="49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350320" y="3778920"/>
                <a:ext cx="172080" cy="231120"/>
              </a:xfrm>
              <a:custGeom>
                <a:avLst/>
                <a:gdLst/>
                <a:ahLst/>
                <a:rect l="l" t="t" r="r" b="b"/>
                <a:pathLst>
                  <a:path w="601" h="810">
                    <a:moveTo>
                      <a:pt x="108" y="3"/>
                    </a:moveTo>
                    <a:lnTo>
                      <a:pt x="82" y="36"/>
                    </a:lnTo>
                    <a:lnTo>
                      <a:pt x="61" y="71"/>
                    </a:lnTo>
                    <a:lnTo>
                      <a:pt x="41" y="108"/>
                    </a:lnTo>
                    <a:lnTo>
                      <a:pt x="27" y="146"/>
                    </a:lnTo>
                    <a:lnTo>
                      <a:pt x="14" y="185"/>
                    </a:lnTo>
                    <a:lnTo>
                      <a:pt x="6" y="227"/>
                    </a:lnTo>
                    <a:lnTo>
                      <a:pt x="2" y="269"/>
                    </a:lnTo>
                    <a:lnTo>
                      <a:pt x="0" y="313"/>
                    </a:lnTo>
                    <a:lnTo>
                      <a:pt x="3" y="363"/>
                    </a:lnTo>
                    <a:lnTo>
                      <a:pt x="5" y="387"/>
                    </a:lnTo>
                    <a:lnTo>
                      <a:pt x="10" y="412"/>
                    </a:lnTo>
                    <a:lnTo>
                      <a:pt x="14" y="434"/>
                    </a:lnTo>
                    <a:lnTo>
                      <a:pt x="21" y="458"/>
                    </a:lnTo>
                    <a:lnTo>
                      <a:pt x="37" y="503"/>
                    </a:lnTo>
                    <a:lnTo>
                      <a:pt x="46" y="524"/>
                    </a:lnTo>
                    <a:lnTo>
                      <a:pt x="57" y="545"/>
                    </a:lnTo>
                    <a:lnTo>
                      <a:pt x="69" y="566"/>
                    </a:lnTo>
                    <a:lnTo>
                      <a:pt x="82" y="587"/>
                    </a:lnTo>
                    <a:lnTo>
                      <a:pt x="96" y="607"/>
                    </a:lnTo>
                    <a:lnTo>
                      <a:pt x="112" y="627"/>
                    </a:lnTo>
                    <a:lnTo>
                      <a:pt x="127" y="645"/>
                    </a:lnTo>
                    <a:lnTo>
                      <a:pt x="146" y="664"/>
                    </a:lnTo>
                    <a:lnTo>
                      <a:pt x="182" y="698"/>
                    </a:lnTo>
                    <a:lnTo>
                      <a:pt x="222" y="728"/>
                    </a:lnTo>
                    <a:lnTo>
                      <a:pt x="261" y="753"/>
                    </a:lnTo>
                    <a:lnTo>
                      <a:pt x="305" y="773"/>
                    </a:lnTo>
                    <a:lnTo>
                      <a:pt x="350" y="789"/>
                    </a:lnTo>
                    <a:lnTo>
                      <a:pt x="396" y="801"/>
                    </a:lnTo>
                    <a:lnTo>
                      <a:pt x="445" y="807"/>
                    </a:lnTo>
                    <a:lnTo>
                      <a:pt x="496" y="810"/>
                    </a:lnTo>
                    <a:lnTo>
                      <a:pt x="516" y="808"/>
                    </a:lnTo>
                    <a:lnTo>
                      <a:pt x="521" y="807"/>
                    </a:lnTo>
                    <a:lnTo>
                      <a:pt x="527" y="807"/>
                    </a:lnTo>
                    <a:lnTo>
                      <a:pt x="538" y="807"/>
                    </a:lnTo>
                    <a:lnTo>
                      <a:pt x="579" y="803"/>
                    </a:lnTo>
                    <a:lnTo>
                      <a:pt x="601" y="771"/>
                    </a:lnTo>
                    <a:lnTo>
                      <a:pt x="575" y="776"/>
                    </a:lnTo>
                    <a:lnTo>
                      <a:pt x="562" y="777"/>
                    </a:lnTo>
                    <a:lnTo>
                      <a:pt x="549" y="779"/>
                    </a:lnTo>
                    <a:lnTo>
                      <a:pt x="522" y="781"/>
                    </a:lnTo>
                    <a:lnTo>
                      <a:pt x="508" y="781"/>
                    </a:lnTo>
                    <a:lnTo>
                      <a:pt x="502" y="781"/>
                    </a:lnTo>
                    <a:lnTo>
                      <a:pt x="498" y="781"/>
                    </a:lnTo>
                    <a:lnTo>
                      <a:pt x="496" y="782"/>
                    </a:lnTo>
                    <a:lnTo>
                      <a:pt x="447" y="780"/>
                    </a:lnTo>
                    <a:lnTo>
                      <a:pt x="402" y="773"/>
                    </a:lnTo>
                    <a:lnTo>
                      <a:pt x="358" y="762"/>
                    </a:lnTo>
                    <a:lnTo>
                      <a:pt x="316" y="747"/>
                    </a:lnTo>
                    <a:lnTo>
                      <a:pt x="274" y="727"/>
                    </a:lnTo>
                    <a:lnTo>
                      <a:pt x="236" y="704"/>
                    </a:lnTo>
                    <a:lnTo>
                      <a:pt x="199" y="677"/>
                    </a:lnTo>
                    <a:lnTo>
                      <a:pt x="165" y="645"/>
                    </a:lnTo>
                    <a:lnTo>
                      <a:pt x="131" y="609"/>
                    </a:lnTo>
                    <a:lnTo>
                      <a:pt x="116" y="590"/>
                    </a:lnTo>
                    <a:lnTo>
                      <a:pt x="104" y="571"/>
                    </a:lnTo>
                    <a:lnTo>
                      <a:pt x="80" y="533"/>
                    </a:lnTo>
                    <a:lnTo>
                      <a:pt x="70" y="513"/>
                    </a:lnTo>
                    <a:lnTo>
                      <a:pt x="62" y="493"/>
                    </a:lnTo>
                    <a:lnTo>
                      <a:pt x="46" y="450"/>
                    </a:lnTo>
                    <a:lnTo>
                      <a:pt x="36" y="406"/>
                    </a:lnTo>
                    <a:lnTo>
                      <a:pt x="31" y="382"/>
                    </a:lnTo>
                    <a:lnTo>
                      <a:pt x="29" y="359"/>
                    </a:lnTo>
                    <a:lnTo>
                      <a:pt x="28" y="313"/>
                    </a:lnTo>
                    <a:lnTo>
                      <a:pt x="29" y="268"/>
                    </a:lnTo>
                    <a:lnTo>
                      <a:pt x="34" y="225"/>
                    </a:lnTo>
                    <a:lnTo>
                      <a:pt x="44" y="183"/>
                    </a:lnTo>
                    <a:lnTo>
                      <a:pt x="57" y="144"/>
                    </a:lnTo>
                    <a:lnTo>
                      <a:pt x="73" y="104"/>
                    </a:lnTo>
                    <a:lnTo>
                      <a:pt x="95" y="68"/>
                    </a:lnTo>
                    <a:lnTo>
                      <a:pt x="118" y="33"/>
                    </a:lnTo>
                    <a:lnTo>
                      <a:pt x="148" y="0"/>
                    </a:lnTo>
                    <a:lnTo>
                      <a:pt x="108" y="3"/>
                    </a:lnTo>
                    <a:close/>
                  </a:path>
                </a:pathLst>
              </a:custGeom>
              <a:solidFill>
                <a:srgbClr val="2f4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444640" y="3821040"/>
                <a:ext cx="93240" cy="93960"/>
              </a:xfrm>
              <a:custGeom>
                <a:avLst/>
                <a:gdLst/>
                <a:ahLst/>
                <a:rect l="l" t="t" r="r" b="b"/>
                <a:pathLst>
                  <a:path w="327" h="332">
                    <a:moveTo>
                      <a:pt x="203" y="5"/>
                    </a:moveTo>
                    <a:lnTo>
                      <a:pt x="185" y="2"/>
                    </a:lnTo>
                    <a:lnTo>
                      <a:pt x="166" y="0"/>
                    </a:lnTo>
                    <a:lnTo>
                      <a:pt x="133" y="3"/>
                    </a:lnTo>
                    <a:lnTo>
                      <a:pt x="102" y="12"/>
                    </a:lnTo>
                    <a:lnTo>
                      <a:pt x="74" y="27"/>
                    </a:lnTo>
                    <a:lnTo>
                      <a:pt x="61" y="37"/>
                    </a:lnTo>
                    <a:lnTo>
                      <a:pt x="49" y="49"/>
                    </a:lnTo>
                    <a:lnTo>
                      <a:pt x="37" y="61"/>
                    </a:lnTo>
                    <a:lnTo>
                      <a:pt x="26" y="74"/>
                    </a:lnTo>
                    <a:lnTo>
                      <a:pt x="12" y="102"/>
                    </a:lnTo>
                    <a:lnTo>
                      <a:pt x="3" y="133"/>
                    </a:lnTo>
                    <a:lnTo>
                      <a:pt x="0" y="166"/>
                    </a:lnTo>
                    <a:lnTo>
                      <a:pt x="0" y="182"/>
                    </a:lnTo>
                    <a:lnTo>
                      <a:pt x="3" y="199"/>
                    </a:lnTo>
                    <a:lnTo>
                      <a:pt x="6" y="214"/>
                    </a:lnTo>
                    <a:lnTo>
                      <a:pt x="12" y="229"/>
                    </a:lnTo>
                    <a:lnTo>
                      <a:pt x="17" y="243"/>
                    </a:lnTo>
                    <a:lnTo>
                      <a:pt x="26" y="257"/>
                    </a:lnTo>
                    <a:lnTo>
                      <a:pt x="37" y="269"/>
                    </a:lnTo>
                    <a:lnTo>
                      <a:pt x="49" y="283"/>
                    </a:lnTo>
                    <a:lnTo>
                      <a:pt x="61" y="293"/>
                    </a:lnTo>
                    <a:lnTo>
                      <a:pt x="74" y="303"/>
                    </a:lnTo>
                    <a:lnTo>
                      <a:pt x="102" y="319"/>
                    </a:lnTo>
                    <a:lnTo>
                      <a:pt x="133" y="328"/>
                    </a:lnTo>
                    <a:lnTo>
                      <a:pt x="149" y="330"/>
                    </a:lnTo>
                    <a:lnTo>
                      <a:pt x="166" y="332"/>
                    </a:lnTo>
                    <a:lnTo>
                      <a:pt x="182" y="330"/>
                    </a:lnTo>
                    <a:lnTo>
                      <a:pt x="199" y="328"/>
                    </a:lnTo>
                    <a:lnTo>
                      <a:pt x="214" y="324"/>
                    </a:lnTo>
                    <a:lnTo>
                      <a:pt x="229" y="319"/>
                    </a:lnTo>
                    <a:lnTo>
                      <a:pt x="243" y="311"/>
                    </a:lnTo>
                    <a:lnTo>
                      <a:pt x="250" y="307"/>
                    </a:lnTo>
                    <a:lnTo>
                      <a:pt x="253" y="304"/>
                    </a:lnTo>
                    <a:lnTo>
                      <a:pt x="258" y="303"/>
                    </a:lnTo>
                    <a:lnTo>
                      <a:pt x="260" y="300"/>
                    </a:lnTo>
                    <a:lnTo>
                      <a:pt x="263" y="298"/>
                    </a:lnTo>
                    <a:lnTo>
                      <a:pt x="270" y="293"/>
                    </a:lnTo>
                    <a:lnTo>
                      <a:pt x="284" y="283"/>
                    </a:lnTo>
                    <a:lnTo>
                      <a:pt x="291" y="274"/>
                    </a:lnTo>
                    <a:lnTo>
                      <a:pt x="297" y="266"/>
                    </a:lnTo>
                    <a:lnTo>
                      <a:pt x="303" y="257"/>
                    </a:lnTo>
                    <a:lnTo>
                      <a:pt x="310" y="249"/>
                    </a:lnTo>
                    <a:lnTo>
                      <a:pt x="314" y="239"/>
                    </a:lnTo>
                    <a:lnTo>
                      <a:pt x="319" y="229"/>
                    </a:lnTo>
                    <a:lnTo>
                      <a:pt x="319" y="226"/>
                    </a:lnTo>
                    <a:lnTo>
                      <a:pt x="320" y="224"/>
                    </a:lnTo>
                    <a:lnTo>
                      <a:pt x="322" y="219"/>
                    </a:lnTo>
                    <a:lnTo>
                      <a:pt x="327" y="210"/>
                    </a:lnTo>
                    <a:lnTo>
                      <a:pt x="316" y="178"/>
                    </a:lnTo>
                    <a:lnTo>
                      <a:pt x="303" y="147"/>
                    </a:lnTo>
                    <a:lnTo>
                      <a:pt x="303" y="156"/>
                    </a:lnTo>
                    <a:lnTo>
                      <a:pt x="303" y="160"/>
                    </a:lnTo>
                    <a:lnTo>
                      <a:pt x="303" y="163"/>
                    </a:lnTo>
                    <a:lnTo>
                      <a:pt x="303" y="164"/>
                    </a:lnTo>
                    <a:lnTo>
                      <a:pt x="304" y="166"/>
                    </a:lnTo>
                    <a:lnTo>
                      <a:pt x="303" y="168"/>
                    </a:lnTo>
                    <a:lnTo>
                      <a:pt x="303" y="172"/>
                    </a:lnTo>
                    <a:lnTo>
                      <a:pt x="303" y="178"/>
                    </a:lnTo>
                    <a:lnTo>
                      <a:pt x="301" y="192"/>
                    </a:lnTo>
                    <a:lnTo>
                      <a:pt x="299" y="198"/>
                    </a:lnTo>
                    <a:lnTo>
                      <a:pt x="297" y="205"/>
                    </a:lnTo>
                    <a:lnTo>
                      <a:pt x="294" y="218"/>
                    </a:lnTo>
                    <a:lnTo>
                      <a:pt x="287" y="229"/>
                    </a:lnTo>
                    <a:lnTo>
                      <a:pt x="280" y="242"/>
                    </a:lnTo>
                    <a:lnTo>
                      <a:pt x="276" y="246"/>
                    </a:lnTo>
                    <a:lnTo>
                      <a:pt x="274" y="249"/>
                    </a:lnTo>
                    <a:lnTo>
                      <a:pt x="273" y="249"/>
                    </a:lnTo>
                    <a:lnTo>
                      <a:pt x="273" y="250"/>
                    </a:lnTo>
                    <a:lnTo>
                      <a:pt x="273" y="252"/>
                    </a:lnTo>
                    <a:lnTo>
                      <a:pt x="263" y="263"/>
                    </a:lnTo>
                    <a:lnTo>
                      <a:pt x="252" y="273"/>
                    </a:lnTo>
                    <a:lnTo>
                      <a:pt x="250" y="273"/>
                    </a:lnTo>
                    <a:lnTo>
                      <a:pt x="249" y="273"/>
                    </a:lnTo>
                    <a:lnTo>
                      <a:pt x="249" y="274"/>
                    </a:lnTo>
                    <a:lnTo>
                      <a:pt x="246" y="276"/>
                    </a:lnTo>
                    <a:lnTo>
                      <a:pt x="242" y="280"/>
                    </a:lnTo>
                    <a:lnTo>
                      <a:pt x="229" y="287"/>
                    </a:lnTo>
                    <a:lnTo>
                      <a:pt x="218" y="294"/>
                    </a:lnTo>
                    <a:lnTo>
                      <a:pt x="205" y="298"/>
                    </a:lnTo>
                    <a:lnTo>
                      <a:pt x="198" y="299"/>
                    </a:lnTo>
                    <a:lnTo>
                      <a:pt x="192" y="301"/>
                    </a:lnTo>
                    <a:lnTo>
                      <a:pt x="178" y="303"/>
                    </a:lnTo>
                    <a:lnTo>
                      <a:pt x="172" y="303"/>
                    </a:lnTo>
                    <a:lnTo>
                      <a:pt x="168" y="303"/>
                    </a:lnTo>
                    <a:lnTo>
                      <a:pt x="166" y="304"/>
                    </a:lnTo>
                    <a:lnTo>
                      <a:pt x="151" y="303"/>
                    </a:lnTo>
                    <a:lnTo>
                      <a:pt x="138" y="301"/>
                    </a:lnTo>
                    <a:lnTo>
                      <a:pt x="113" y="294"/>
                    </a:lnTo>
                    <a:lnTo>
                      <a:pt x="89" y="280"/>
                    </a:lnTo>
                    <a:lnTo>
                      <a:pt x="78" y="273"/>
                    </a:lnTo>
                    <a:lnTo>
                      <a:pt x="68" y="263"/>
                    </a:lnTo>
                    <a:lnTo>
                      <a:pt x="58" y="252"/>
                    </a:lnTo>
                    <a:lnTo>
                      <a:pt x="50" y="242"/>
                    </a:lnTo>
                    <a:lnTo>
                      <a:pt x="42" y="229"/>
                    </a:lnTo>
                    <a:lnTo>
                      <a:pt x="38" y="218"/>
                    </a:lnTo>
                    <a:lnTo>
                      <a:pt x="33" y="205"/>
                    </a:lnTo>
                    <a:lnTo>
                      <a:pt x="31" y="192"/>
                    </a:lnTo>
                    <a:lnTo>
                      <a:pt x="29" y="178"/>
                    </a:lnTo>
                    <a:lnTo>
                      <a:pt x="29" y="166"/>
                    </a:lnTo>
                    <a:lnTo>
                      <a:pt x="31" y="138"/>
                    </a:lnTo>
                    <a:lnTo>
                      <a:pt x="38" y="113"/>
                    </a:lnTo>
                    <a:lnTo>
                      <a:pt x="50" y="89"/>
                    </a:lnTo>
                    <a:lnTo>
                      <a:pt x="68" y="68"/>
                    </a:lnTo>
                    <a:lnTo>
                      <a:pt x="89" y="50"/>
                    </a:lnTo>
                    <a:lnTo>
                      <a:pt x="113" y="38"/>
                    </a:lnTo>
                    <a:lnTo>
                      <a:pt x="138" y="31"/>
                    </a:lnTo>
                    <a:lnTo>
                      <a:pt x="166" y="29"/>
                    </a:lnTo>
                    <a:lnTo>
                      <a:pt x="187" y="30"/>
                    </a:lnTo>
                    <a:lnTo>
                      <a:pt x="208" y="34"/>
                    </a:lnTo>
                    <a:lnTo>
                      <a:pt x="227" y="42"/>
                    </a:lnTo>
                    <a:lnTo>
                      <a:pt x="236" y="47"/>
                    </a:lnTo>
                    <a:lnTo>
                      <a:pt x="246" y="54"/>
                    </a:lnTo>
                    <a:lnTo>
                      <a:pt x="225" y="28"/>
                    </a:lnTo>
                    <a:lnTo>
                      <a:pt x="203" y="5"/>
                    </a:lnTo>
                    <a:close/>
                  </a:path>
                </a:pathLst>
              </a:custGeom>
              <a:solidFill>
                <a:srgbClr val="56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452560" y="3828960"/>
                <a:ext cx="78840" cy="78480"/>
              </a:xfrm>
              <a:custGeom>
                <a:avLst/>
                <a:gdLst/>
                <a:ahLst/>
                <a:rect l="l" t="t" r="r" b="b"/>
                <a:pathLst>
                  <a:path w="275" h="275">
                    <a:moveTo>
                      <a:pt x="234" y="234"/>
                    </a:moveTo>
                    <a:lnTo>
                      <a:pt x="244" y="223"/>
                    </a:lnTo>
                    <a:lnTo>
                      <a:pt x="244" y="221"/>
                    </a:lnTo>
                    <a:lnTo>
                      <a:pt x="244" y="220"/>
                    </a:lnTo>
                    <a:lnTo>
                      <a:pt x="245" y="220"/>
                    </a:lnTo>
                    <a:lnTo>
                      <a:pt x="247" y="217"/>
                    </a:lnTo>
                    <a:lnTo>
                      <a:pt x="251" y="213"/>
                    </a:lnTo>
                    <a:lnTo>
                      <a:pt x="258" y="200"/>
                    </a:lnTo>
                    <a:lnTo>
                      <a:pt x="265" y="189"/>
                    </a:lnTo>
                    <a:lnTo>
                      <a:pt x="268" y="176"/>
                    </a:lnTo>
                    <a:lnTo>
                      <a:pt x="270" y="169"/>
                    </a:lnTo>
                    <a:lnTo>
                      <a:pt x="272" y="163"/>
                    </a:lnTo>
                    <a:lnTo>
                      <a:pt x="274" y="149"/>
                    </a:lnTo>
                    <a:lnTo>
                      <a:pt x="274" y="143"/>
                    </a:lnTo>
                    <a:lnTo>
                      <a:pt x="274" y="139"/>
                    </a:lnTo>
                    <a:lnTo>
                      <a:pt x="275" y="137"/>
                    </a:lnTo>
                    <a:lnTo>
                      <a:pt x="274" y="135"/>
                    </a:lnTo>
                    <a:lnTo>
                      <a:pt x="274" y="134"/>
                    </a:lnTo>
                    <a:lnTo>
                      <a:pt x="274" y="131"/>
                    </a:lnTo>
                    <a:lnTo>
                      <a:pt x="274" y="127"/>
                    </a:lnTo>
                    <a:lnTo>
                      <a:pt x="274" y="118"/>
                    </a:lnTo>
                    <a:lnTo>
                      <a:pt x="262" y="93"/>
                    </a:lnTo>
                    <a:lnTo>
                      <a:pt x="248" y="69"/>
                    </a:lnTo>
                    <a:lnTo>
                      <a:pt x="233" y="46"/>
                    </a:lnTo>
                    <a:lnTo>
                      <a:pt x="217" y="25"/>
                    </a:lnTo>
                    <a:lnTo>
                      <a:pt x="207" y="18"/>
                    </a:lnTo>
                    <a:lnTo>
                      <a:pt x="198" y="13"/>
                    </a:lnTo>
                    <a:lnTo>
                      <a:pt x="179" y="5"/>
                    </a:lnTo>
                    <a:lnTo>
                      <a:pt x="158" y="1"/>
                    </a:lnTo>
                    <a:lnTo>
                      <a:pt x="137" y="0"/>
                    </a:lnTo>
                    <a:lnTo>
                      <a:pt x="109" y="2"/>
                    </a:lnTo>
                    <a:lnTo>
                      <a:pt x="84" y="9"/>
                    </a:lnTo>
                    <a:lnTo>
                      <a:pt x="60" y="21"/>
                    </a:lnTo>
                    <a:lnTo>
                      <a:pt x="39" y="39"/>
                    </a:lnTo>
                    <a:lnTo>
                      <a:pt x="21" y="60"/>
                    </a:lnTo>
                    <a:lnTo>
                      <a:pt x="9" y="84"/>
                    </a:lnTo>
                    <a:lnTo>
                      <a:pt x="2" y="109"/>
                    </a:lnTo>
                    <a:lnTo>
                      <a:pt x="0" y="137"/>
                    </a:lnTo>
                    <a:lnTo>
                      <a:pt x="0" y="149"/>
                    </a:lnTo>
                    <a:lnTo>
                      <a:pt x="2" y="163"/>
                    </a:lnTo>
                    <a:lnTo>
                      <a:pt x="4" y="176"/>
                    </a:lnTo>
                    <a:lnTo>
                      <a:pt x="9" y="189"/>
                    </a:lnTo>
                    <a:lnTo>
                      <a:pt x="13" y="200"/>
                    </a:lnTo>
                    <a:lnTo>
                      <a:pt x="21" y="213"/>
                    </a:lnTo>
                    <a:lnTo>
                      <a:pt x="29" y="223"/>
                    </a:lnTo>
                    <a:lnTo>
                      <a:pt x="39" y="234"/>
                    </a:lnTo>
                    <a:lnTo>
                      <a:pt x="49" y="244"/>
                    </a:lnTo>
                    <a:lnTo>
                      <a:pt x="60" y="251"/>
                    </a:lnTo>
                    <a:lnTo>
                      <a:pt x="84" y="265"/>
                    </a:lnTo>
                    <a:lnTo>
                      <a:pt x="109" y="272"/>
                    </a:lnTo>
                    <a:lnTo>
                      <a:pt x="122" y="274"/>
                    </a:lnTo>
                    <a:lnTo>
                      <a:pt x="137" y="275"/>
                    </a:lnTo>
                    <a:lnTo>
                      <a:pt x="139" y="274"/>
                    </a:lnTo>
                    <a:lnTo>
                      <a:pt x="143" y="274"/>
                    </a:lnTo>
                    <a:lnTo>
                      <a:pt x="149" y="274"/>
                    </a:lnTo>
                    <a:lnTo>
                      <a:pt x="163" y="272"/>
                    </a:lnTo>
                    <a:lnTo>
                      <a:pt x="169" y="270"/>
                    </a:lnTo>
                    <a:lnTo>
                      <a:pt x="176" y="269"/>
                    </a:lnTo>
                    <a:lnTo>
                      <a:pt x="189" y="265"/>
                    </a:lnTo>
                    <a:lnTo>
                      <a:pt x="200" y="258"/>
                    </a:lnTo>
                    <a:lnTo>
                      <a:pt x="213" y="251"/>
                    </a:lnTo>
                    <a:lnTo>
                      <a:pt x="217" y="247"/>
                    </a:lnTo>
                    <a:lnTo>
                      <a:pt x="220" y="245"/>
                    </a:lnTo>
                    <a:lnTo>
                      <a:pt x="220" y="244"/>
                    </a:lnTo>
                    <a:lnTo>
                      <a:pt x="221" y="244"/>
                    </a:lnTo>
                    <a:lnTo>
                      <a:pt x="223" y="244"/>
                    </a:lnTo>
                    <a:lnTo>
                      <a:pt x="234" y="234"/>
                    </a:lnTo>
                    <a:close/>
                    <a:moveTo>
                      <a:pt x="60" y="215"/>
                    </a:moveTo>
                    <a:lnTo>
                      <a:pt x="51" y="206"/>
                    </a:lnTo>
                    <a:lnTo>
                      <a:pt x="44" y="198"/>
                    </a:lnTo>
                    <a:lnTo>
                      <a:pt x="38" y="188"/>
                    </a:lnTo>
                    <a:lnTo>
                      <a:pt x="35" y="179"/>
                    </a:lnTo>
                    <a:lnTo>
                      <a:pt x="28" y="159"/>
                    </a:lnTo>
                    <a:lnTo>
                      <a:pt x="27" y="137"/>
                    </a:lnTo>
                    <a:lnTo>
                      <a:pt x="28" y="114"/>
                    </a:lnTo>
                    <a:lnTo>
                      <a:pt x="35" y="94"/>
                    </a:lnTo>
                    <a:lnTo>
                      <a:pt x="44" y="75"/>
                    </a:lnTo>
                    <a:lnTo>
                      <a:pt x="60" y="59"/>
                    </a:lnTo>
                    <a:lnTo>
                      <a:pt x="76" y="44"/>
                    </a:lnTo>
                    <a:lnTo>
                      <a:pt x="95" y="35"/>
                    </a:lnTo>
                    <a:lnTo>
                      <a:pt x="114" y="28"/>
                    </a:lnTo>
                    <a:lnTo>
                      <a:pt x="137" y="27"/>
                    </a:lnTo>
                    <a:lnTo>
                      <a:pt x="158" y="28"/>
                    </a:lnTo>
                    <a:lnTo>
                      <a:pt x="179" y="35"/>
                    </a:lnTo>
                    <a:lnTo>
                      <a:pt x="188" y="38"/>
                    </a:lnTo>
                    <a:lnTo>
                      <a:pt x="198" y="44"/>
                    </a:lnTo>
                    <a:lnTo>
                      <a:pt x="215" y="59"/>
                    </a:lnTo>
                    <a:lnTo>
                      <a:pt x="229" y="75"/>
                    </a:lnTo>
                    <a:lnTo>
                      <a:pt x="239" y="94"/>
                    </a:lnTo>
                    <a:lnTo>
                      <a:pt x="246" y="114"/>
                    </a:lnTo>
                    <a:lnTo>
                      <a:pt x="248" y="137"/>
                    </a:lnTo>
                    <a:lnTo>
                      <a:pt x="247" y="142"/>
                    </a:lnTo>
                    <a:lnTo>
                      <a:pt x="247" y="147"/>
                    </a:lnTo>
                    <a:lnTo>
                      <a:pt x="246" y="159"/>
                    </a:lnTo>
                    <a:lnTo>
                      <a:pt x="239" y="179"/>
                    </a:lnTo>
                    <a:lnTo>
                      <a:pt x="233" y="188"/>
                    </a:lnTo>
                    <a:lnTo>
                      <a:pt x="229" y="198"/>
                    </a:lnTo>
                    <a:lnTo>
                      <a:pt x="222" y="206"/>
                    </a:lnTo>
                    <a:lnTo>
                      <a:pt x="215" y="215"/>
                    </a:lnTo>
                    <a:lnTo>
                      <a:pt x="206" y="222"/>
                    </a:lnTo>
                    <a:lnTo>
                      <a:pt x="198" y="229"/>
                    </a:lnTo>
                    <a:lnTo>
                      <a:pt x="188" y="233"/>
                    </a:lnTo>
                    <a:lnTo>
                      <a:pt x="179" y="239"/>
                    </a:lnTo>
                    <a:lnTo>
                      <a:pt x="158" y="246"/>
                    </a:lnTo>
                    <a:lnTo>
                      <a:pt x="147" y="247"/>
                    </a:lnTo>
                    <a:lnTo>
                      <a:pt x="141" y="247"/>
                    </a:lnTo>
                    <a:lnTo>
                      <a:pt x="137" y="248"/>
                    </a:lnTo>
                    <a:lnTo>
                      <a:pt x="114" y="246"/>
                    </a:lnTo>
                    <a:lnTo>
                      <a:pt x="95" y="239"/>
                    </a:lnTo>
                    <a:lnTo>
                      <a:pt x="76" y="229"/>
                    </a:lnTo>
                    <a:lnTo>
                      <a:pt x="60" y="215"/>
                    </a:lnTo>
                    <a:close/>
                  </a:path>
                </a:pathLst>
              </a:custGeom>
              <a:solidFill>
                <a:srgbClr val="59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460480" y="3837240"/>
                <a:ext cx="63360" cy="62640"/>
              </a:xfrm>
              <a:custGeom>
                <a:avLst/>
                <a:gdLst/>
                <a:ahLst/>
                <a:rect l="l" t="t" r="r" b="b"/>
                <a:pathLst>
                  <a:path w="221" h="221">
                    <a:moveTo>
                      <a:pt x="0" y="110"/>
                    </a:moveTo>
                    <a:lnTo>
                      <a:pt x="1" y="132"/>
                    </a:lnTo>
                    <a:lnTo>
                      <a:pt x="8" y="152"/>
                    </a:lnTo>
                    <a:lnTo>
                      <a:pt x="11" y="161"/>
                    </a:lnTo>
                    <a:lnTo>
                      <a:pt x="17" y="171"/>
                    </a:lnTo>
                    <a:lnTo>
                      <a:pt x="24" y="179"/>
                    </a:lnTo>
                    <a:lnTo>
                      <a:pt x="33" y="188"/>
                    </a:lnTo>
                    <a:lnTo>
                      <a:pt x="49" y="202"/>
                    </a:lnTo>
                    <a:lnTo>
                      <a:pt x="68" y="212"/>
                    </a:lnTo>
                    <a:lnTo>
                      <a:pt x="87" y="219"/>
                    </a:lnTo>
                    <a:lnTo>
                      <a:pt x="110" y="221"/>
                    </a:lnTo>
                    <a:lnTo>
                      <a:pt x="114" y="220"/>
                    </a:lnTo>
                    <a:lnTo>
                      <a:pt x="120" y="220"/>
                    </a:lnTo>
                    <a:lnTo>
                      <a:pt x="131" y="219"/>
                    </a:lnTo>
                    <a:lnTo>
                      <a:pt x="152" y="212"/>
                    </a:lnTo>
                    <a:lnTo>
                      <a:pt x="161" y="206"/>
                    </a:lnTo>
                    <a:lnTo>
                      <a:pt x="171" y="202"/>
                    </a:lnTo>
                    <a:lnTo>
                      <a:pt x="179" y="195"/>
                    </a:lnTo>
                    <a:lnTo>
                      <a:pt x="188" y="188"/>
                    </a:lnTo>
                    <a:lnTo>
                      <a:pt x="195" y="179"/>
                    </a:lnTo>
                    <a:lnTo>
                      <a:pt x="202" y="171"/>
                    </a:lnTo>
                    <a:lnTo>
                      <a:pt x="206" y="161"/>
                    </a:lnTo>
                    <a:lnTo>
                      <a:pt x="212" y="152"/>
                    </a:lnTo>
                    <a:lnTo>
                      <a:pt x="219" y="132"/>
                    </a:lnTo>
                    <a:lnTo>
                      <a:pt x="220" y="120"/>
                    </a:lnTo>
                    <a:lnTo>
                      <a:pt x="220" y="115"/>
                    </a:lnTo>
                    <a:lnTo>
                      <a:pt x="221" y="110"/>
                    </a:lnTo>
                    <a:lnTo>
                      <a:pt x="219" y="87"/>
                    </a:lnTo>
                    <a:lnTo>
                      <a:pt x="212" y="67"/>
                    </a:lnTo>
                    <a:lnTo>
                      <a:pt x="202" y="48"/>
                    </a:lnTo>
                    <a:lnTo>
                      <a:pt x="188" y="32"/>
                    </a:lnTo>
                    <a:lnTo>
                      <a:pt x="171" y="17"/>
                    </a:lnTo>
                    <a:lnTo>
                      <a:pt x="161" y="11"/>
                    </a:lnTo>
                    <a:lnTo>
                      <a:pt x="152" y="8"/>
                    </a:lnTo>
                    <a:lnTo>
                      <a:pt x="131" y="1"/>
                    </a:lnTo>
                    <a:lnTo>
                      <a:pt x="110" y="0"/>
                    </a:lnTo>
                    <a:lnTo>
                      <a:pt x="87" y="1"/>
                    </a:lnTo>
                    <a:lnTo>
                      <a:pt x="68" y="8"/>
                    </a:lnTo>
                    <a:lnTo>
                      <a:pt x="49" y="17"/>
                    </a:lnTo>
                    <a:lnTo>
                      <a:pt x="33" y="32"/>
                    </a:lnTo>
                    <a:lnTo>
                      <a:pt x="17" y="48"/>
                    </a:lnTo>
                    <a:lnTo>
                      <a:pt x="8" y="67"/>
                    </a:lnTo>
                    <a:lnTo>
                      <a:pt x="1" y="87"/>
                    </a:lnTo>
                    <a:lnTo>
                      <a:pt x="0" y="110"/>
                    </a:lnTo>
                    <a:close/>
                    <a:moveTo>
                      <a:pt x="52" y="169"/>
                    </a:moveTo>
                    <a:lnTo>
                      <a:pt x="41" y="155"/>
                    </a:lnTo>
                    <a:lnTo>
                      <a:pt x="34" y="142"/>
                    </a:lnTo>
                    <a:lnTo>
                      <a:pt x="29" y="126"/>
                    </a:lnTo>
                    <a:lnTo>
                      <a:pt x="28" y="110"/>
                    </a:lnTo>
                    <a:lnTo>
                      <a:pt x="29" y="93"/>
                    </a:lnTo>
                    <a:lnTo>
                      <a:pt x="34" y="78"/>
                    </a:lnTo>
                    <a:lnTo>
                      <a:pt x="41" y="63"/>
                    </a:lnTo>
                    <a:lnTo>
                      <a:pt x="52" y="52"/>
                    </a:lnTo>
                    <a:lnTo>
                      <a:pt x="63" y="41"/>
                    </a:lnTo>
                    <a:lnTo>
                      <a:pt x="78" y="33"/>
                    </a:lnTo>
                    <a:lnTo>
                      <a:pt x="93" y="28"/>
                    </a:lnTo>
                    <a:lnTo>
                      <a:pt x="110" y="27"/>
                    </a:lnTo>
                    <a:lnTo>
                      <a:pt x="126" y="28"/>
                    </a:lnTo>
                    <a:lnTo>
                      <a:pt x="142" y="33"/>
                    </a:lnTo>
                    <a:lnTo>
                      <a:pt x="155" y="41"/>
                    </a:lnTo>
                    <a:lnTo>
                      <a:pt x="169" y="52"/>
                    </a:lnTo>
                    <a:lnTo>
                      <a:pt x="178" y="63"/>
                    </a:lnTo>
                    <a:lnTo>
                      <a:pt x="186" y="78"/>
                    </a:lnTo>
                    <a:lnTo>
                      <a:pt x="190" y="93"/>
                    </a:lnTo>
                    <a:lnTo>
                      <a:pt x="193" y="110"/>
                    </a:lnTo>
                    <a:lnTo>
                      <a:pt x="190" y="126"/>
                    </a:lnTo>
                    <a:lnTo>
                      <a:pt x="186" y="142"/>
                    </a:lnTo>
                    <a:lnTo>
                      <a:pt x="178" y="155"/>
                    </a:lnTo>
                    <a:lnTo>
                      <a:pt x="169" y="169"/>
                    </a:lnTo>
                    <a:lnTo>
                      <a:pt x="155" y="178"/>
                    </a:lnTo>
                    <a:lnTo>
                      <a:pt x="142" y="186"/>
                    </a:lnTo>
                    <a:lnTo>
                      <a:pt x="126" y="190"/>
                    </a:lnTo>
                    <a:lnTo>
                      <a:pt x="110" y="193"/>
                    </a:lnTo>
                    <a:lnTo>
                      <a:pt x="93" y="190"/>
                    </a:lnTo>
                    <a:lnTo>
                      <a:pt x="78" y="186"/>
                    </a:lnTo>
                    <a:lnTo>
                      <a:pt x="63" y="178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5c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468760" y="3844440"/>
                <a:ext cx="46800" cy="47160"/>
              </a:xfrm>
              <a:custGeom>
                <a:avLst/>
                <a:gdLst/>
                <a:ahLst/>
                <a:rect l="l" t="t" r="r" b="b"/>
                <a:pathLst>
                  <a:path w="165" h="166">
                    <a:moveTo>
                      <a:pt x="0" y="83"/>
                    </a:moveTo>
                    <a:lnTo>
                      <a:pt x="1" y="99"/>
                    </a:lnTo>
                    <a:lnTo>
                      <a:pt x="6" y="115"/>
                    </a:lnTo>
                    <a:lnTo>
                      <a:pt x="13" y="128"/>
                    </a:lnTo>
                    <a:lnTo>
                      <a:pt x="24" y="142"/>
                    </a:lnTo>
                    <a:lnTo>
                      <a:pt x="35" y="151"/>
                    </a:lnTo>
                    <a:lnTo>
                      <a:pt x="50" y="159"/>
                    </a:lnTo>
                    <a:lnTo>
                      <a:pt x="65" y="163"/>
                    </a:lnTo>
                    <a:lnTo>
                      <a:pt x="82" y="166"/>
                    </a:lnTo>
                    <a:lnTo>
                      <a:pt x="98" y="163"/>
                    </a:lnTo>
                    <a:lnTo>
                      <a:pt x="114" y="159"/>
                    </a:lnTo>
                    <a:lnTo>
                      <a:pt x="127" y="151"/>
                    </a:lnTo>
                    <a:lnTo>
                      <a:pt x="141" y="142"/>
                    </a:lnTo>
                    <a:lnTo>
                      <a:pt x="150" y="128"/>
                    </a:lnTo>
                    <a:lnTo>
                      <a:pt x="158" y="115"/>
                    </a:lnTo>
                    <a:lnTo>
                      <a:pt x="162" y="99"/>
                    </a:lnTo>
                    <a:lnTo>
                      <a:pt x="165" y="83"/>
                    </a:lnTo>
                    <a:lnTo>
                      <a:pt x="162" y="66"/>
                    </a:lnTo>
                    <a:lnTo>
                      <a:pt x="158" y="51"/>
                    </a:lnTo>
                    <a:lnTo>
                      <a:pt x="150" y="36"/>
                    </a:lnTo>
                    <a:lnTo>
                      <a:pt x="141" y="25"/>
                    </a:lnTo>
                    <a:lnTo>
                      <a:pt x="127" y="14"/>
                    </a:lnTo>
                    <a:lnTo>
                      <a:pt x="114" y="6"/>
                    </a:lnTo>
                    <a:lnTo>
                      <a:pt x="98" y="1"/>
                    </a:lnTo>
                    <a:lnTo>
                      <a:pt x="82" y="0"/>
                    </a:lnTo>
                    <a:lnTo>
                      <a:pt x="65" y="1"/>
                    </a:lnTo>
                    <a:lnTo>
                      <a:pt x="50" y="6"/>
                    </a:lnTo>
                    <a:lnTo>
                      <a:pt x="35" y="14"/>
                    </a:lnTo>
                    <a:lnTo>
                      <a:pt x="24" y="25"/>
                    </a:lnTo>
                    <a:lnTo>
                      <a:pt x="13" y="36"/>
                    </a:lnTo>
                    <a:lnTo>
                      <a:pt x="6" y="51"/>
                    </a:lnTo>
                    <a:lnTo>
                      <a:pt x="1" y="66"/>
                    </a:lnTo>
                    <a:lnTo>
                      <a:pt x="0" y="83"/>
                    </a:lnTo>
                    <a:close/>
                    <a:moveTo>
                      <a:pt x="82" y="29"/>
                    </a:moveTo>
                    <a:lnTo>
                      <a:pt x="92" y="29"/>
                    </a:lnTo>
                    <a:lnTo>
                      <a:pt x="102" y="32"/>
                    </a:lnTo>
                    <a:lnTo>
                      <a:pt x="111" y="36"/>
                    </a:lnTo>
                    <a:lnTo>
                      <a:pt x="122" y="44"/>
                    </a:lnTo>
                    <a:lnTo>
                      <a:pt x="127" y="52"/>
                    </a:lnTo>
                    <a:lnTo>
                      <a:pt x="133" y="61"/>
                    </a:lnTo>
                    <a:lnTo>
                      <a:pt x="136" y="72"/>
                    </a:lnTo>
                    <a:lnTo>
                      <a:pt x="138" y="83"/>
                    </a:lnTo>
                    <a:lnTo>
                      <a:pt x="136" y="88"/>
                    </a:lnTo>
                    <a:lnTo>
                      <a:pt x="136" y="93"/>
                    </a:lnTo>
                    <a:lnTo>
                      <a:pt x="134" y="98"/>
                    </a:lnTo>
                    <a:lnTo>
                      <a:pt x="133" y="100"/>
                    </a:lnTo>
                    <a:lnTo>
                      <a:pt x="133" y="103"/>
                    </a:lnTo>
                    <a:lnTo>
                      <a:pt x="127" y="112"/>
                    </a:lnTo>
                    <a:lnTo>
                      <a:pt x="124" y="117"/>
                    </a:lnTo>
                    <a:lnTo>
                      <a:pt x="122" y="123"/>
                    </a:lnTo>
                    <a:lnTo>
                      <a:pt x="116" y="125"/>
                    </a:lnTo>
                    <a:lnTo>
                      <a:pt x="111" y="128"/>
                    </a:lnTo>
                    <a:lnTo>
                      <a:pt x="102" y="134"/>
                    </a:lnTo>
                    <a:lnTo>
                      <a:pt x="99" y="134"/>
                    </a:lnTo>
                    <a:lnTo>
                      <a:pt x="97" y="135"/>
                    </a:lnTo>
                    <a:lnTo>
                      <a:pt x="92" y="137"/>
                    </a:lnTo>
                    <a:lnTo>
                      <a:pt x="86" y="137"/>
                    </a:lnTo>
                    <a:lnTo>
                      <a:pt x="82" y="139"/>
                    </a:lnTo>
                    <a:lnTo>
                      <a:pt x="71" y="137"/>
                    </a:lnTo>
                    <a:lnTo>
                      <a:pt x="60" y="134"/>
                    </a:lnTo>
                    <a:lnTo>
                      <a:pt x="51" y="128"/>
                    </a:lnTo>
                    <a:lnTo>
                      <a:pt x="43" y="123"/>
                    </a:lnTo>
                    <a:lnTo>
                      <a:pt x="35" y="112"/>
                    </a:lnTo>
                    <a:lnTo>
                      <a:pt x="31" y="103"/>
                    </a:lnTo>
                    <a:lnTo>
                      <a:pt x="28" y="93"/>
                    </a:lnTo>
                    <a:lnTo>
                      <a:pt x="28" y="83"/>
                    </a:lnTo>
                    <a:lnTo>
                      <a:pt x="31" y="61"/>
                    </a:lnTo>
                    <a:lnTo>
                      <a:pt x="43" y="44"/>
                    </a:lnTo>
                    <a:lnTo>
                      <a:pt x="60" y="32"/>
                    </a:lnTo>
                    <a:lnTo>
                      <a:pt x="82" y="29"/>
                    </a:lnTo>
                    <a:close/>
                  </a:path>
                </a:pathLst>
              </a:custGeom>
              <a:solidFill>
                <a:srgbClr val="5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476680" y="38523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94" y="15"/>
                    </a:moveTo>
                    <a:lnTo>
                      <a:pt x="83" y="7"/>
                    </a:lnTo>
                    <a:lnTo>
                      <a:pt x="74" y="3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32" y="3"/>
                    </a:lnTo>
                    <a:lnTo>
                      <a:pt x="15" y="15"/>
                    </a:lnTo>
                    <a:lnTo>
                      <a:pt x="3" y="32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3" y="74"/>
                    </a:lnTo>
                    <a:lnTo>
                      <a:pt x="7" y="83"/>
                    </a:lnTo>
                    <a:lnTo>
                      <a:pt x="15" y="94"/>
                    </a:lnTo>
                    <a:lnTo>
                      <a:pt x="23" y="99"/>
                    </a:lnTo>
                    <a:lnTo>
                      <a:pt x="32" y="105"/>
                    </a:lnTo>
                    <a:lnTo>
                      <a:pt x="43" y="108"/>
                    </a:lnTo>
                    <a:lnTo>
                      <a:pt x="54" y="110"/>
                    </a:lnTo>
                    <a:lnTo>
                      <a:pt x="58" y="108"/>
                    </a:lnTo>
                    <a:lnTo>
                      <a:pt x="64" y="108"/>
                    </a:lnTo>
                    <a:lnTo>
                      <a:pt x="69" y="106"/>
                    </a:lnTo>
                    <a:lnTo>
                      <a:pt x="71" y="105"/>
                    </a:lnTo>
                    <a:lnTo>
                      <a:pt x="74" y="105"/>
                    </a:lnTo>
                    <a:lnTo>
                      <a:pt x="83" y="99"/>
                    </a:lnTo>
                    <a:lnTo>
                      <a:pt x="88" y="96"/>
                    </a:lnTo>
                    <a:lnTo>
                      <a:pt x="94" y="94"/>
                    </a:lnTo>
                    <a:lnTo>
                      <a:pt x="96" y="88"/>
                    </a:lnTo>
                    <a:lnTo>
                      <a:pt x="99" y="83"/>
                    </a:lnTo>
                    <a:lnTo>
                      <a:pt x="105" y="74"/>
                    </a:lnTo>
                    <a:lnTo>
                      <a:pt x="105" y="71"/>
                    </a:lnTo>
                    <a:lnTo>
                      <a:pt x="106" y="69"/>
                    </a:lnTo>
                    <a:lnTo>
                      <a:pt x="108" y="64"/>
                    </a:lnTo>
                    <a:lnTo>
                      <a:pt x="108" y="59"/>
                    </a:lnTo>
                    <a:lnTo>
                      <a:pt x="110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99" y="23"/>
                    </a:lnTo>
                    <a:lnTo>
                      <a:pt x="94" y="15"/>
                    </a:lnTo>
                    <a:close/>
                    <a:moveTo>
                      <a:pt x="54" y="27"/>
                    </a:moveTo>
                    <a:lnTo>
                      <a:pt x="64" y="28"/>
                    </a:lnTo>
                    <a:lnTo>
                      <a:pt x="69" y="30"/>
                    </a:lnTo>
                    <a:lnTo>
                      <a:pt x="74" y="35"/>
                    </a:lnTo>
                    <a:lnTo>
                      <a:pt x="80" y="43"/>
                    </a:lnTo>
                    <a:lnTo>
                      <a:pt x="82" y="54"/>
                    </a:lnTo>
                    <a:lnTo>
                      <a:pt x="81" y="59"/>
                    </a:lnTo>
                    <a:lnTo>
                      <a:pt x="80" y="61"/>
                    </a:lnTo>
                    <a:lnTo>
                      <a:pt x="80" y="64"/>
                    </a:lnTo>
                    <a:lnTo>
                      <a:pt x="77" y="69"/>
                    </a:lnTo>
                    <a:lnTo>
                      <a:pt x="74" y="73"/>
                    </a:lnTo>
                    <a:lnTo>
                      <a:pt x="69" y="76"/>
                    </a:lnTo>
                    <a:lnTo>
                      <a:pt x="64" y="79"/>
                    </a:lnTo>
                    <a:lnTo>
                      <a:pt x="61" y="79"/>
                    </a:lnTo>
                    <a:lnTo>
                      <a:pt x="58" y="80"/>
                    </a:lnTo>
                    <a:lnTo>
                      <a:pt x="54" y="81"/>
                    </a:lnTo>
                    <a:lnTo>
                      <a:pt x="43" y="79"/>
                    </a:lnTo>
                    <a:lnTo>
                      <a:pt x="35" y="73"/>
                    </a:lnTo>
                    <a:lnTo>
                      <a:pt x="30" y="69"/>
                    </a:lnTo>
                    <a:lnTo>
                      <a:pt x="28" y="64"/>
                    </a:lnTo>
                    <a:lnTo>
                      <a:pt x="27" y="54"/>
                    </a:lnTo>
                    <a:lnTo>
                      <a:pt x="28" y="43"/>
                    </a:lnTo>
                    <a:lnTo>
                      <a:pt x="35" y="35"/>
                    </a:lnTo>
                    <a:lnTo>
                      <a:pt x="43" y="28"/>
                    </a:lnTo>
                    <a:lnTo>
                      <a:pt x="54" y="27"/>
                    </a:lnTo>
                    <a:close/>
                  </a:path>
                </a:pathLst>
              </a:custGeom>
              <a:solidFill>
                <a:srgbClr val="62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83880" y="3860280"/>
                <a:ext cx="15840" cy="1512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47" y="8"/>
                    </a:moveTo>
                    <a:lnTo>
                      <a:pt x="42" y="3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6" y="1"/>
                    </a:lnTo>
                    <a:lnTo>
                      <a:pt x="8" y="8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1" y="37"/>
                    </a:lnTo>
                    <a:lnTo>
                      <a:pt x="3" y="42"/>
                    </a:lnTo>
                    <a:lnTo>
                      <a:pt x="8" y="46"/>
                    </a:lnTo>
                    <a:lnTo>
                      <a:pt x="16" y="52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4" y="52"/>
                    </a:lnTo>
                    <a:lnTo>
                      <a:pt x="37" y="52"/>
                    </a:lnTo>
                    <a:lnTo>
                      <a:pt x="42" y="49"/>
                    </a:lnTo>
                    <a:lnTo>
                      <a:pt x="47" y="46"/>
                    </a:lnTo>
                    <a:lnTo>
                      <a:pt x="50" y="42"/>
                    </a:lnTo>
                    <a:lnTo>
                      <a:pt x="53" y="37"/>
                    </a:lnTo>
                    <a:lnTo>
                      <a:pt x="53" y="34"/>
                    </a:lnTo>
                    <a:lnTo>
                      <a:pt x="54" y="32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7" y="8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256000" y="3933000"/>
                <a:ext cx="67680" cy="112320"/>
              </a:xfrm>
              <a:custGeom>
                <a:avLst/>
                <a:gdLst/>
                <a:ahLst/>
                <a:rect l="l" t="t" r="r" b="b"/>
                <a:pathLst>
                  <a:path w="240" h="393">
                    <a:moveTo>
                      <a:pt x="240" y="393"/>
                    </a:moveTo>
                    <a:lnTo>
                      <a:pt x="231" y="384"/>
                    </a:lnTo>
                    <a:lnTo>
                      <a:pt x="226" y="380"/>
                    </a:lnTo>
                    <a:lnTo>
                      <a:pt x="224" y="377"/>
                    </a:lnTo>
                    <a:lnTo>
                      <a:pt x="223" y="376"/>
                    </a:lnTo>
                    <a:lnTo>
                      <a:pt x="182" y="333"/>
                    </a:lnTo>
                    <a:lnTo>
                      <a:pt x="146" y="290"/>
                    </a:lnTo>
                    <a:lnTo>
                      <a:pt x="113" y="245"/>
                    </a:lnTo>
                    <a:lnTo>
                      <a:pt x="84" y="199"/>
                    </a:lnTo>
                    <a:lnTo>
                      <a:pt x="70" y="174"/>
                    </a:lnTo>
                    <a:lnTo>
                      <a:pt x="57" y="151"/>
                    </a:lnTo>
                    <a:lnTo>
                      <a:pt x="45" y="126"/>
                    </a:lnTo>
                    <a:lnTo>
                      <a:pt x="34" y="102"/>
                    </a:lnTo>
                    <a:lnTo>
                      <a:pt x="15" y="51"/>
                    </a:lnTo>
                    <a:lnTo>
                      <a:pt x="0" y="0"/>
                    </a:lnTo>
                    <a:lnTo>
                      <a:pt x="4" y="44"/>
                    </a:lnTo>
                    <a:lnTo>
                      <a:pt x="7" y="66"/>
                    </a:lnTo>
                    <a:lnTo>
                      <a:pt x="13" y="88"/>
                    </a:lnTo>
                    <a:lnTo>
                      <a:pt x="25" y="130"/>
                    </a:lnTo>
                    <a:lnTo>
                      <a:pt x="42" y="171"/>
                    </a:lnTo>
                    <a:lnTo>
                      <a:pt x="62" y="210"/>
                    </a:lnTo>
                    <a:lnTo>
                      <a:pt x="87" y="248"/>
                    </a:lnTo>
                    <a:lnTo>
                      <a:pt x="115" y="284"/>
                    </a:lnTo>
                    <a:lnTo>
                      <a:pt x="148" y="320"/>
                    </a:lnTo>
                    <a:lnTo>
                      <a:pt x="169" y="340"/>
                    </a:lnTo>
                    <a:lnTo>
                      <a:pt x="192" y="359"/>
                    </a:lnTo>
                    <a:lnTo>
                      <a:pt x="215" y="376"/>
                    </a:lnTo>
                    <a:lnTo>
                      <a:pt x="240" y="393"/>
                    </a:lnTo>
                    <a:close/>
                  </a:path>
                </a:pathLst>
              </a:custGeom>
              <a:solidFill>
                <a:srgbClr val="020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255280" y="3898800"/>
                <a:ext cx="96480" cy="159840"/>
              </a:xfrm>
              <a:custGeom>
                <a:avLst/>
                <a:gdLst/>
                <a:ahLst/>
                <a:rect l="l" t="t" r="r" b="b"/>
                <a:pathLst>
                  <a:path w="338" h="561">
                    <a:moveTo>
                      <a:pt x="224" y="497"/>
                    </a:moveTo>
                    <a:lnTo>
                      <a:pt x="225" y="498"/>
                    </a:lnTo>
                    <a:lnTo>
                      <a:pt x="227" y="501"/>
                    </a:lnTo>
                    <a:lnTo>
                      <a:pt x="232" y="505"/>
                    </a:lnTo>
                    <a:lnTo>
                      <a:pt x="241" y="514"/>
                    </a:lnTo>
                    <a:lnTo>
                      <a:pt x="263" y="528"/>
                    </a:lnTo>
                    <a:lnTo>
                      <a:pt x="287" y="540"/>
                    </a:lnTo>
                    <a:lnTo>
                      <a:pt x="338" y="561"/>
                    </a:lnTo>
                    <a:lnTo>
                      <a:pt x="313" y="542"/>
                    </a:lnTo>
                    <a:lnTo>
                      <a:pt x="289" y="521"/>
                    </a:lnTo>
                    <a:lnTo>
                      <a:pt x="243" y="478"/>
                    </a:lnTo>
                    <a:lnTo>
                      <a:pt x="217" y="451"/>
                    </a:lnTo>
                    <a:lnTo>
                      <a:pt x="194" y="425"/>
                    </a:lnTo>
                    <a:lnTo>
                      <a:pt x="171" y="398"/>
                    </a:lnTo>
                    <a:lnTo>
                      <a:pt x="151" y="371"/>
                    </a:lnTo>
                    <a:lnTo>
                      <a:pt x="131" y="342"/>
                    </a:lnTo>
                    <a:lnTo>
                      <a:pt x="114" y="314"/>
                    </a:lnTo>
                    <a:lnTo>
                      <a:pt x="97" y="284"/>
                    </a:lnTo>
                    <a:lnTo>
                      <a:pt x="82" y="256"/>
                    </a:lnTo>
                    <a:lnTo>
                      <a:pt x="67" y="224"/>
                    </a:lnTo>
                    <a:lnTo>
                      <a:pt x="55" y="193"/>
                    </a:lnTo>
                    <a:lnTo>
                      <a:pt x="42" y="162"/>
                    </a:lnTo>
                    <a:lnTo>
                      <a:pt x="33" y="131"/>
                    </a:lnTo>
                    <a:lnTo>
                      <a:pt x="24" y="98"/>
                    </a:lnTo>
                    <a:lnTo>
                      <a:pt x="17" y="66"/>
                    </a:lnTo>
                    <a:lnTo>
                      <a:pt x="10" y="32"/>
                    </a:lnTo>
                    <a:lnTo>
                      <a:pt x="7" y="0"/>
                    </a:lnTo>
                    <a:lnTo>
                      <a:pt x="1" y="40"/>
                    </a:lnTo>
                    <a:lnTo>
                      <a:pt x="0" y="83"/>
                    </a:lnTo>
                    <a:lnTo>
                      <a:pt x="1" y="121"/>
                    </a:lnTo>
                    <a:lnTo>
                      <a:pt x="16" y="172"/>
                    </a:lnTo>
                    <a:lnTo>
                      <a:pt x="35" y="223"/>
                    </a:lnTo>
                    <a:lnTo>
                      <a:pt x="46" y="247"/>
                    </a:lnTo>
                    <a:lnTo>
                      <a:pt x="58" y="272"/>
                    </a:lnTo>
                    <a:lnTo>
                      <a:pt x="71" y="295"/>
                    </a:lnTo>
                    <a:lnTo>
                      <a:pt x="85" y="320"/>
                    </a:lnTo>
                    <a:lnTo>
                      <a:pt x="114" y="366"/>
                    </a:lnTo>
                    <a:lnTo>
                      <a:pt x="147" y="411"/>
                    </a:lnTo>
                    <a:lnTo>
                      <a:pt x="183" y="454"/>
                    </a:lnTo>
                    <a:lnTo>
                      <a:pt x="224" y="497"/>
                    </a:lnTo>
                    <a:close/>
                  </a:path>
                </a:pathLst>
              </a:custGeom>
              <a:solidFill>
                <a:srgbClr val="060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57440" y="3874320"/>
                <a:ext cx="116280" cy="190800"/>
              </a:xfrm>
              <a:custGeom>
                <a:avLst/>
                <a:gdLst/>
                <a:ahLst/>
                <a:rect l="l" t="t" r="r" b="b"/>
                <a:pathLst>
                  <a:path w="409" h="668">
                    <a:moveTo>
                      <a:pt x="236" y="565"/>
                    </a:moveTo>
                    <a:lnTo>
                      <a:pt x="282" y="608"/>
                    </a:lnTo>
                    <a:lnTo>
                      <a:pt x="306" y="629"/>
                    </a:lnTo>
                    <a:lnTo>
                      <a:pt x="331" y="648"/>
                    </a:lnTo>
                    <a:lnTo>
                      <a:pt x="369" y="658"/>
                    </a:lnTo>
                    <a:lnTo>
                      <a:pt x="409" y="668"/>
                    </a:lnTo>
                    <a:lnTo>
                      <a:pt x="369" y="640"/>
                    </a:lnTo>
                    <a:lnTo>
                      <a:pt x="330" y="612"/>
                    </a:lnTo>
                    <a:lnTo>
                      <a:pt x="291" y="579"/>
                    </a:lnTo>
                    <a:lnTo>
                      <a:pt x="256" y="546"/>
                    </a:lnTo>
                    <a:lnTo>
                      <a:pt x="228" y="516"/>
                    </a:lnTo>
                    <a:lnTo>
                      <a:pt x="202" y="487"/>
                    </a:lnTo>
                    <a:lnTo>
                      <a:pt x="177" y="456"/>
                    </a:lnTo>
                    <a:lnTo>
                      <a:pt x="155" y="426"/>
                    </a:lnTo>
                    <a:lnTo>
                      <a:pt x="134" y="393"/>
                    </a:lnTo>
                    <a:lnTo>
                      <a:pt x="116" y="361"/>
                    </a:lnTo>
                    <a:lnTo>
                      <a:pt x="98" y="328"/>
                    </a:lnTo>
                    <a:lnTo>
                      <a:pt x="83" y="295"/>
                    </a:lnTo>
                    <a:lnTo>
                      <a:pt x="68" y="260"/>
                    </a:lnTo>
                    <a:lnTo>
                      <a:pt x="57" y="225"/>
                    </a:lnTo>
                    <a:lnTo>
                      <a:pt x="45" y="189"/>
                    </a:lnTo>
                    <a:lnTo>
                      <a:pt x="37" y="153"/>
                    </a:lnTo>
                    <a:lnTo>
                      <a:pt x="30" y="115"/>
                    </a:lnTo>
                    <a:lnTo>
                      <a:pt x="25" y="77"/>
                    </a:lnTo>
                    <a:lnTo>
                      <a:pt x="22" y="39"/>
                    </a:lnTo>
                    <a:lnTo>
                      <a:pt x="22" y="0"/>
                    </a:lnTo>
                    <a:lnTo>
                      <a:pt x="8" y="42"/>
                    </a:lnTo>
                    <a:lnTo>
                      <a:pt x="0" y="87"/>
                    </a:lnTo>
                    <a:lnTo>
                      <a:pt x="3" y="119"/>
                    </a:lnTo>
                    <a:lnTo>
                      <a:pt x="10" y="153"/>
                    </a:lnTo>
                    <a:lnTo>
                      <a:pt x="17" y="185"/>
                    </a:lnTo>
                    <a:lnTo>
                      <a:pt x="26" y="218"/>
                    </a:lnTo>
                    <a:lnTo>
                      <a:pt x="35" y="249"/>
                    </a:lnTo>
                    <a:lnTo>
                      <a:pt x="48" y="280"/>
                    </a:lnTo>
                    <a:lnTo>
                      <a:pt x="60" y="311"/>
                    </a:lnTo>
                    <a:lnTo>
                      <a:pt x="75" y="343"/>
                    </a:lnTo>
                    <a:lnTo>
                      <a:pt x="90" y="371"/>
                    </a:lnTo>
                    <a:lnTo>
                      <a:pt x="107" y="401"/>
                    </a:lnTo>
                    <a:lnTo>
                      <a:pt x="124" y="429"/>
                    </a:lnTo>
                    <a:lnTo>
                      <a:pt x="144" y="458"/>
                    </a:lnTo>
                    <a:lnTo>
                      <a:pt x="164" y="485"/>
                    </a:lnTo>
                    <a:lnTo>
                      <a:pt x="187" y="512"/>
                    </a:lnTo>
                    <a:lnTo>
                      <a:pt x="210" y="538"/>
                    </a:lnTo>
                    <a:lnTo>
                      <a:pt x="236" y="565"/>
                    </a:lnTo>
                    <a:close/>
                  </a:path>
                </a:pathLst>
              </a:custGeom>
              <a:solidFill>
                <a:srgbClr val="090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255280" y="3778920"/>
                <a:ext cx="288720" cy="287640"/>
              </a:xfrm>
              <a:custGeom>
                <a:avLst/>
                <a:gdLst/>
                <a:ahLst/>
                <a:rect l="l" t="t" r="r" b="b"/>
                <a:pathLst>
                  <a:path w="1009" h="1008">
                    <a:moveTo>
                      <a:pt x="149" y="147"/>
                    </a:moveTo>
                    <a:lnTo>
                      <a:pt x="113" y="185"/>
                    </a:lnTo>
                    <a:lnTo>
                      <a:pt x="83" y="225"/>
                    </a:lnTo>
                    <a:lnTo>
                      <a:pt x="57" y="265"/>
                    </a:lnTo>
                    <a:lnTo>
                      <a:pt x="37" y="310"/>
                    </a:lnTo>
                    <a:lnTo>
                      <a:pt x="21" y="354"/>
                    </a:lnTo>
                    <a:lnTo>
                      <a:pt x="9" y="403"/>
                    </a:lnTo>
                    <a:lnTo>
                      <a:pt x="3" y="451"/>
                    </a:lnTo>
                    <a:lnTo>
                      <a:pt x="0" y="503"/>
                    </a:lnTo>
                    <a:lnTo>
                      <a:pt x="0" y="528"/>
                    </a:lnTo>
                    <a:lnTo>
                      <a:pt x="3" y="554"/>
                    </a:lnTo>
                    <a:lnTo>
                      <a:pt x="5" y="578"/>
                    </a:lnTo>
                    <a:lnTo>
                      <a:pt x="9" y="603"/>
                    </a:lnTo>
                    <a:lnTo>
                      <a:pt x="14" y="626"/>
                    </a:lnTo>
                    <a:lnTo>
                      <a:pt x="21" y="650"/>
                    </a:lnTo>
                    <a:lnTo>
                      <a:pt x="27" y="672"/>
                    </a:lnTo>
                    <a:lnTo>
                      <a:pt x="37" y="696"/>
                    </a:lnTo>
                    <a:lnTo>
                      <a:pt x="57" y="739"/>
                    </a:lnTo>
                    <a:lnTo>
                      <a:pt x="68" y="760"/>
                    </a:lnTo>
                    <a:lnTo>
                      <a:pt x="83" y="781"/>
                    </a:lnTo>
                    <a:lnTo>
                      <a:pt x="97" y="801"/>
                    </a:lnTo>
                    <a:lnTo>
                      <a:pt x="113" y="821"/>
                    </a:lnTo>
                    <a:lnTo>
                      <a:pt x="130" y="840"/>
                    </a:lnTo>
                    <a:lnTo>
                      <a:pt x="149" y="861"/>
                    </a:lnTo>
                    <a:lnTo>
                      <a:pt x="186" y="895"/>
                    </a:lnTo>
                    <a:lnTo>
                      <a:pt x="226" y="924"/>
                    </a:lnTo>
                    <a:lnTo>
                      <a:pt x="267" y="949"/>
                    </a:lnTo>
                    <a:lnTo>
                      <a:pt x="288" y="960"/>
                    </a:lnTo>
                    <a:lnTo>
                      <a:pt x="311" y="971"/>
                    </a:lnTo>
                    <a:lnTo>
                      <a:pt x="355" y="986"/>
                    </a:lnTo>
                    <a:lnTo>
                      <a:pt x="404" y="998"/>
                    </a:lnTo>
                    <a:lnTo>
                      <a:pt x="453" y="1005"/>
                    </a:lnTo>
                    <a:lnTo>
                      <a:pt x="478" y="1007"/>
                    </a:lnTo>
                    <a:lnTo>
                      <a:pt x="505" y="1008"/>
                    </a:lnTo>
                    <a:lnTo>
                      <a:pt x="530" y="1007"/>
                    </a:lnTo>
                    <a:lnTo>
                      <a:pt x="556" y="1005"/>
                    </a:lnTo>
                    <a:lnTo>
                      <a:pt x="567" y="1002"/>
                    </a:lnTo>
                    <a:lnTo>
                      <a:pt x="569" y="1001"/>
                    </a:lnTo>
                    <a:lnTo>
                      <a:pt x="573" y="1001"/>
                    </a:lnTo>
                    <a:lnTo>
                      <a:pt x="580" y="1001"/>
                    </a:lnTo>
                    <a:lnTo>
                      <a:pt x="605" y="998"/>
                    </a:lnTo>
                    <a:lnTo>
                      <a:pt x="627" y="992"/>
                    </a:lnTo>
                    <a:lnTo>
                      <a:pt x="639" y="989"/>
                    </a:lnTo>
                    <a:lnTo>
                      <a:pt x="651" y="986"/>
                    </a:lnTo>
                    <a:lnTo>
                      <a:pt x="674" y="979"/>
                    </a:lnTo>
                    <a:lnTo>
                      <a:pt x="685" y="974"/>
                    </a:lnTo>
                    <a:lnTo>
                      <a:pt x="691" y="972"/>
                    </a:lnTo>
                    <a:lnTo>
                      <a:pt x="698" y="971"/>
                    </a:lnTo>
                    <a:lnTo>
                      <a:pt x="718" y="960"/>
                    </a:lnTo>
                    <a:lnTo>
                      <a:pt x="741" y="949"/>
                    </a:lnTo>
                    <a:lnTo>
                      <a:pt x="761" y="937"/>
                    </a:lnTo>
                    <a:lnTo>
                      <a:pt x="771" y="930"/>
                    </a:lnTo>
                    <a:lnTo>
                      <a:pt x="783" y="924"/>
                    </a:lnTo>
                    <a:lnTo>
                      <a:pt x="792" y="916"/>
                    </a:lnTo>
                    <a:lnTo>
                      <a:pt x="802" y="909"/>
                    </a:lnTo>
                    <a:lnTo>
                      <a:pt x="822" y="895"/>
                    </a:lnTo>
                    <a:lnTo>
                      <a:pt x="861" y="861"/>
                    </a:lnTo>
                    <a:lnTo>
                      <a:pt x="878" y="840"/>
                    </a:lnTo>
                    <a:lnTo>
                      <a:pt x="879" y="837"/>
                    </a:lnTo>
                    <a:lnTo>
                      <a:pt x="881" y="835"/>
                    </a:lnTo>
                    <a:lnTo>
                      <a:pt x="886" y="830"/>
                    </a:lnTo>
                    <a:lnTo>
                      <a:pt x="895" y="821"/>
                    </a:lnTo>
                    <a:lnTo>
                      <a:pt x="910" y="801"/>
                    </a:lnTo>
                    <a:lnTo>
                      <a:pt x="916" y="790"/>
                    </a:lnTo>
                    <a:lnTo>
                      <a:pt x="924" y="781"/>
                    </a:lnTo>
                    <a:lnTo>
                      <a:pt x="930" y="770"/>
                    </a:lnTo>
                    <a:lnTo>
                      <a:pt x="937" y="760"/>
                    </a:lnTo>
                    <a:lnTo>
                      <a:pt x="949" y="739"/>
                    </a:lnTo>
                    <a:lnTo>
                      <a:pt x="972" y="696"/>
                    </a:lnTo>
                    <a:lnTo>
                      <a:pt x="973" y="689"/>
                    </a:lnTo>
                    <a:lnTo>
                      <a:pt x="975" y="684"/>
                    </a:lnTo>
                    <a:lnTo>
                      <a:pt x="980" y="672"/>
                    </a:lnTo>
                    <a:lnTo>
                      <a:pt x="988" y="650"/>
                    </a:lnTo>
                    <a:lnTo>
                      <a:pt x="990" y="637"/>
                    </a:lnTo>
                    <a:lnTo>
                      <a:pt x="993" y="626"/>
                    </a:lnTo>
                    <a:lnTo>
                      <a:pt x="999" y="603"/>
                    </a:lnTo>
                    <a:lnTo>
                      <a:pt x="1003" y="578"/>
                    </a:lnTo>
                    <a:lnTo>
                      <a:pt x="1003" y="571"/>
                    </a:lnTo>
                    <a:lnTo>
                      <a:pt x="1003" y="568"/>
                    </a:lnTo>
                    <a:lnTo>
                      <a:pt x="1004" y="566"/>
                    </a:lnTo>
                    <a:lnTo>
                      <a:pt x="1006" y="554"/>
                    </a:lnTo>
                    <a:lnTo>
                      <a:pt x="1008" y="528"/>
                    </a:lnTo>
                    <a:lnTo>
                      <a:pt x="1009" y="503"/>
                    </a:lnTo>
                    <a:lnTo>
                      <a:pt x="1008" y="476"/>
                    </a:lnTo>
                    <a:lnTo>
                      <a:pt x="1006" y="451"/>
                    </a:lnTo>
                    <a:lnTo>
                      <a:pt x="999" y="403"/>
                    </a:lnTo>
                    <a:lnTo>
                      <a:pt x="988" y="354"/>
                    </a:lnTo>
                    <a:lnTo>
                      <a:pt x="972" y="310"/>
                    </a:lnTo>
                    <a:lnTo>
                      <a:pt x="949" y="265"/>
                    </a:lnTo>
                    <a:lnTo>
                      <a:pt x="924" y="225"/>
                    </a:lnTo>
                    <a:lnTo>
                      <a:pt x="895" y="185"/>
                    </a:lnTo>
                    <a:lnTo>
                      <a:pt x="861" y="147"/>
                    </a:lnTo>
                    <a:lnTo>
                      <a:pt x="822" y="111"/>
                    </a:lnTo>
                    <a:lnTo>
                      <a:pt x="802" y="95"/>
                    </a:lnTo>
                    <a:lnTo>
                      <a:pt x="783" y="82"/>
                    </a:lnTo>
                    <a:lnTo>
                      <a:pt x="761" y="68"/>
                    </a:lnTo>
                    <a:lnTo>
                      <a:pt x="741" y="57"/>
                    </a:lnTo>
                    <a:lnTo>
                      <a:pt x="698" y="36"/>
                    </a:lnTo>
                    <a:lnTo>
                      <a:pt x="674" y="27"/>
                    </a:lnTo>
                    <a:lnTo>
                      <a:pt x="651" y="20"/>
                    </a:lnTo>
                    <a:lnTo>
                      <a:pt x="627" y="14"/>
                    </a:lnTo>
                    <a:lnTo>
                      <a:pt x="605" y="9"/>
                    </a:lnTo>
                    <a:lnTo>
                      <a:pt x="580" y="5"/>
                    </a:lnTo>
                    <a:lnTo>
                      <a:pt x="556" y="2"/>
                    </a:lnTo>
                    <a:lnTo>
                      <a:pt x="530" y="0"/>
                    </a:lnTo>
                    <a:lnTo>
                      <a:pt x="505" y="0"/>
                    </a:lnTo>
                    <a:lnTo>
                      <a:pt x="453" y="2"/>
                    </a:lnTo>
                    <a:lnTo>
                      <a:pt x="404" y="9"/>
                    </a:lnTo>
                    <a:lnTo>
                      <a:pt x="355" y="20"/>
                    </a:lnTo>
                    <a:lnTo>
                      <a:pt x="311" y="36"/>
                    </a:lnTo>
                    <a:lnTo>
                      <a:pt x="267" y="57"/>
                    </a:lnTo>
                    <a:lnTo>
                      <a:pt x="226" y="82"/>
                    </a:lnTo>
                    <a:lnTo>
                      <a:pt x="186" y="111"/>
                    </a:lnTo>
                    <a:lnTo>
                      <a:pt x="149" y="1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1240" y="3858120"/>
                <a:ext cx="144360" cy="132840"/>
              </a:xfrm>
              <a:custGeom>
                <a:avLst/>
                <a:gdLst/>
                <a:ahLst/>
                <a:rect l="l" t="t" r="r" b="b"/>
                <a:pathLst>
                  <a:path w="505" h="465">
                    <a:moveTo>
                      <a:pt x="505" y="274"/>
                    </a:moveTo>
                    <a:lnTo>
                      <a:pt x="505" y="175"/>
                    </a:lnTo>
                    <a:lnTo>
                      <a:pt x="290" y="175"/>
                    </a:lnTo>
                    <a:lnTo>
                      <a:pt x="290" y="0"/>
                    </a:lnTo>
                    <a:lnTo>
                      <a:pt x="199" y="0"/>
                    </a:lnTo>
                    <a:lnTo>
                      <a:pt x="199" y="175"/>
                    </a:lnTo>
                    <a:lnTo>
                      <a:pt x="0" y="175"/>
                    </a:lnTo>
                    <a:lnTo>
                      <a:pt x="0" y="274"/>
                    </a:lnTo>
                    <a:lnTo>
                      <a:pt x="199" y="274"/>
                    </a:lnTo>
                    <a:lnTo>
                      <a:pt x="199" y="465"/>
                    </a:lnTo>
                    <a:lnTo>
                      <a:pt x="290" y="465"/>
                    </a:lnTo>
                    <a:lnTo>
                      <a:pt x="290" y="274"/>
                    </a:lnTo>
                    <a:lnTo>
                      <a:pt x="505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331240" y="3858120"/>
                <a:ext cx="144360" cy="132840"/>
              </a:xfrm>
              <a:custGeom>
                <a:avLst/>
                <a:gdLst/>
                <a:ahLst/>
                <a:rect l="l" t="t" r="r" b="b"/>
                <a:pathLst>
                  <a:path w="505" h="465">
                    <a:moveTo>
                      <a:pt x="505" y="175"/>
                    </a:moveTo>
                    <a:lnTo>
                      <a:pt x="290" y="175"/>
                    </a:lnTo>
                    <a:lnTo>
                      <a:pt x="290" y="0"/>
                    </a:lnTo>
                    <a:lnTo>
                      <a:pt x="199" y="0"/>
                    </a:lnTo>
                    <a:lnTo>
                      <a:pt x="199" y="175"/>
                    </a:lnTo>
                    <a:lnTo>
                      <a:pt x="0" y="175"/>
                    </a:lnTo>
                    <a:lnTo>
                      <a:pt x="0" y="274"/>
                    </a:lnTo>
                    <a:lnTo>
                      <a:pt x="199" y="274"/>
                    </a:lnTo>
                    <a:lnTo>
                      <a:pt x="199" y="465"/>
                    </a:lnTo>
                    <a:lnTo>
                      <a:pt x="290" y="465"/>
                    </a:lnTo>
                    <a:lnTo>
                      <a:pt x="290" y="274"/>
                    </a:lnTo>
                    <a:lnTo>
                      <a:pt x="505" y="274"/>
                    </a:lnTo>
                    <a:lnTo>
                      <a:pt x="505" y="1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113160" y="4190040"/>
                <a:ext cx="169920" cy="223200"/>
              </a:xfrm>
              <a:custGeom>
                <a:avLst/>
                <a:gdLst/>
                <a:ahLst/>
                <a:rect l="l" t="t" r="r" b="b"/>
                <a:pathLst>
                  <a:path w="593" h="782">
                    <a:moveTo>
                      <a:pt x="145" y="0"/>
                    </a:moveTo>
                    <a:lnTo>
                      <a:pt x="121" y="0"/>
                    </a:lnTo>
                    <a:lnTo>
                      <a:pt x="91" y="33"/>
                    </a:lnTo>
                    <a:lnTo>
                      <a:pt x="67" y="68"/>
                    </a:lnTo>
                    <a:lnTo>
                      <a:pt x="46" y="104"/>
                    </a:lnTo>
                    <a:lnTo>
                      <a:pt x="30" y="144"/>
                    </a:lnTo>
                    <a:lnTo>
                      <a:pt x="16" y="183"/>
                    </a:lnTo>
                    <a:lnTo>
                      <a:pt x="7" y="224"/>
                    </a:lnTo>
                    <a:lnTo>
                      <a:pt x="1" y="268"/>
                    </a:lnTo>
                    <a:lnTo>
                      <a:pt x="0" y="313"/>
                    </a:lnTo>
                    <a:lnTo>
                      <a:pt x="1" y="359"/>
                    </a:lnTo>
                    <a:lnTo>
                      <a:pt x="4" y="382"/>
                    </a:lnTo>
                    <a:lnTo>
                      <a:pt x="8" y="406"/>
                    </a:lnTo>
                    <a:lnTo>
                      <a:pt x="18" y="450"/>
                    </a:lnTo>
                    <a:lnTo>
                      <a:pt x="34" y="493"/>
                    </a:lnTo>
                    <a:lnTo>
                      <a:pt x="42" y="512"/>
                    </a:lnTo>
                    <a:lnTo>
                      <a:pt x="53" y="533"/>
                    </a:lnTo>
                    <a:lnTo>
                      <a:pt x="76" y="571"/>
                    </a:lnTo>
                    <a:lnTo>
                      <a:pt x="89" y="590"/>
                    </a:lnTo>
                    <a:lnTo>
                      <a:pt x="104" y="609"/>
                    </a:lnTo>
                    <a:lnTo>
                      <a:pt x="138" y="645"/>
                    </a:lnTo>
                    <a:lnTo>
                      <a:pt x="172" y="677"/>
                    </a:lnTo>
                    <a:lnTo>
                      <a:pt x="209" y="704"/>
                    </a:lnTo>
                    <a:lnTo>
                      <a:pt x="246" y="727"/>
                    </a:lnTo>
                    <a:lnTo>
                      <a:pt x="288" y="747"/>
                    </a:lnTo>
                    <a:lnTo>
                      <a:pt x="330" y="762"/>
                    </a:lnTo>
                    <a:lnTo>
                      <a:pt x="375" y="773"/>
                    </a:lnTo>
                    <a:lnTo>
                      <a:pt x="420" y="780"/>
                    </a:lnTo>
                    <a:lnTo>
                      <a:pt x="469" y="782"/>
                    </a:lnTo>
                    <a:lnTo>
                      <a:pt x="471" y="781"/>
                    </a:lnTo>
                    <a:lnTo>
                      <a:pt x="474" y="781"/>
                    </a:lnTo>
                    <a:lnTo>
                      <a:pt x="481" y="781"/>
                    </a:lnTo>
                    <a:lnTo>
                      <a:pt x="495" y="781"/>
                    </a:lnTo>
                    <a:lnTo>
                      <a:pt x="522" y="779"/>
                    </a:lnTo>
                    <a:lnTo>
                      <a:pt x="534" y="777"/>
                    </a:lnTo>
                    <a:lnTo>
                      <a:pt x="548" y="775"/>
                    </a:lnTo>
                    <a:lnTo>
                      <a:pt x="574" y="771"/>
                    </a:lnTo>
                    <a:lnTo>
                      <a:pt x="583" y="754"/>
                    </a:lnTo>
                    <a:lnTo>
                      <a:pt x="593" y="738"/>
                    </a:lnTo>
                    <a:lnTo>
                      <a:pt x="563" y="745"/>
                    </a:lnTo>
                    <a:lnTo>
                      <a:pt x="547" y="747"/>
                    </a:lnTo>
                    <a:lnTo>
                      <a:pt x="542" y="747"/>
                    </a:lnTo>
                    <a:lnTo>
                      <a:pt x="540" y="747"/>
                    </a:lnTo>
                    <a:lnTo>
                      <a:pt x="539" y="747"/>
                    </a:lnTo>
                    <a:lnTo>
                      <a:pt x="539" y="748"/>
                    </a:lnTo>
                    <a:lnTo>
                      <a:pt x="532" y="751"/>
                    </a:lnTo>
                    <a:lnTo>
                      <a:pt x="500" y="754"/>
                    </a:lnTo>
                    <a:lnTo>
                      <a:pt x="469" y="755"/>
                    </a:lnTo>
                    <a:lnTo>
                      <a:pt x="422" y="753"/>
                    </a:lnTo>
                    <a:lnTo>
                      <a:pt x="379" y="746"/>
                    </a:lnTo>
                    <a:lnTo>
                      <a:pt x="337" y="736"/>
                    </a:lnTo>
                    <a:lnTo>
                      <a:pt x="299" y="722"/>
                    </a:lnTo>
                    <a:lnTo>
                      <a:pt x="260" y="703"/>
                    </a:lnTo>
                    <a:lnTo>
                      <a:pt x="224" y="680"/>
                    </a:lnTo>
                    <a:lnTo>
                      <a:pt x="189" y="654"/>
                    </a:lnTo>
                    <a:lnTo>
                      <a:pt x="157" y="625"/>
                    </a:lnTo>
                    <a:lnTo>
                      <a:pt x="125" y="591"/>
                    </a:lnTo>
                    <a:lnTo>
                      <a:pt x="99" y="556"/>
                    </a:lnTo>
                    <a:lnTo>
                      <a:pt x="76" y="519"/>
                    </a:lnTo>
                    <a:lnTo>
                      <a:pt x="59" y="482"/>
                    </a:lnTo>
                    <a:lnTo>
                      <a:pt x="45" y="442"/>
                    </a:lnTo>
                    <a:lnTo>
                      <a:pt x="39" y="421"/>
                    </a:lnTo>
                    <a:lnTo>
                      <a:pt x="35" y="400"/>
                    </a:lnTo>
                    <a:lnTo>
                      <a:pt x="29" y="357"/>
                    </a:lnTo>
                    <a:lnTo>
                      <a:pt x="28" y="313"/>
                    </a:lnTo>
                    <a:lnTo>
                      <a:pt x="29" y="266"/>
                    </a:lnTo>
                    <a:lnTo>
                      <a:pt x="35" y="223"/>
                    </a:lnTo>
                    <a:lnTo>
                      <a:pt x="45" y="181"/>
                    </a:lnTo>
                    <a:lnTo>
                      <a:pt x="59" y="143"/>
                    </a:lnTo>
                    <a:lnTo>
                      <a:pt x="76" y="104"/>
                    </a:lnTo>
                    <a:lnTo>
                      <a:pt x="99" y="68"/>
                    </a:lnTo>
                    <a:lnTo>
                      <a:pt x="125" y="33"/>
                    </a:lnTo>
                    <a:lnTo>
                      <a:pt x="157" y="1"/>
                    </a:lnTo>
                    <a:lnTo>
                      <a:pt x="159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324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121440" y="4190040"/>
                <a:ext cx="166320" cy="215640"/>
              </a:xfrm>
              <a:custGeom>
                <a:avLst/>
                <a:gdLst/>
                <a:ahLst/>
                <a:rect l="l" t="t" r="r" b="b"/>
                <a:pathLst>
                  <a:path w="582" h="755">
                    <a:moveTo>
                      <a:pt x="131" y="0"/>
                    </a:moveTo>
                    <a:lnTo>
                      <a:pt x="129" y="1"/>
                    </a:lnTo>
                    <a:lnTo>
                      <a:pt x="97" y="33"/>
                    </a:lnTo>
                    <a:lnTo>
                      <a:pt x="71" y="68"/>
                    </a:lnTo>
                    <a:lnTo>
                      <a:pt x="48" y="104"/>
                    </a:lnTo>
                    <a:lnTo>
                      <a:pt x="31" y="143"/>
                    </a:lnTo>
                    <a:lnTo>
                      <a:pt x="17" y="181"/>
                    </a:lnTo>
                    <a:lnTo>
                      <a:pt x="7" y="223"/>
                    </a:lnTo>
                    <a:lnTo>
                      <a:pt x="1" y="266"/>
                    </a:lnTo>
                    <a:lnTo>
                      <a:pt x="0" y="313"/>
                    </a:lnTo>
                    <a:lnTo>
                      <a:pt x="1" y="357"/>
                    </a:lnTo>
                    <a:lnTo>
                      <a:pt x="7" y="400"/>
                    </a:lnTo>
                    <a:lnTo>
                      <a:pt x="11" y="421"/>
                    </a:lnTo>
                    <a:lnTo>
                      <a:pt x="17" y="442"/>
                    </a:lnTo>
                    <a:lnTo>
                      <a:pt x="31" y="482"/>
                    </a:lnTo>
                    <a:lnTo>
                      <a:pt x="48" y="519"/>
                    </a:lnTo>
                    <a:lnTo>
                      <a:pt x="71" y="556"/>
                    </a:lnTo>
                    <a:lnTo>
                      <a:pt x="97" y="591"/>
                    </a:lnTo>
                    <a:lnTo>
                      <a:pt x="129" y="625"/>
                    </a:lnTo>
                    <a:lnTo>
                      <a:pt x="161" y="654"/>
                    </a:lnTo>
                    <a:lnTo>
                      <a:pt x="196" y="680"/>
                    </a:lnTo>
                    <a:lnTo>
                      <a:pt x="232" y="703"/>
                    </a:lnTo>
                    <a:lnTo>
                      <a:pt x="271" y="722"/>
                    </a:lnTo>
                    <a:lnTo>
                      <a:pt x="309" y="736"/>
                    </a:lnTo>
                    <a:lnTo>
                      <a:pt x="351" y="746"/>
                    </a:lnTo>
                    <a:lnTo>
                      <a:pt x="394" y="753"/>
                    </a:lnTo>
                    <a:lnTo>
                      <a:pt x="441" y="755"/>
                    </a:lnTo>
                    <a:lnTo>
                      <a:pt x="472" y="754"/>
                    </a:lnTo>
                    <a:lnTo>
                      <a:pt x="504" y="751"/>
                    </a:lnTo>
                    <a:lnTo>
                      <a:pt x="511" y="748"/>
                    </a:lnTo>
                    <a:lnTo>
                      <a:pt x="511" y="747"/>
                    </a:lnTo>
                    <a:lnTo>
                      <a:pt x="512" y="747"/>
                    </a:lnTo>
                    <a:lnTo>
                      <a:pt x="514" y="747"/>
                    </a:lnTo>
                    <a:lnTo>
                      <a:pt x="519" y="747"/>
                    </a:lnTo>
                    <a:lnTo>
                      <a:pt x="535" y="745"/>
                    </a:lnTo>
                    <a:lnTo>
                      <a:pt x="565" y="738"/>
                    </a:lnTo>
                    <a:lnTo>
                      <a:pt x="582" y="704"/>
                    </a:lnTo>
                    <a:lnTo>
                      <a:pt x="548" y="713"/>
                    </a:lnTo>
                    <a:lnTo>
                      <a:pt x="530" y="717"/>
                    </a:lnTo>
                    <a:lnTo>
                      <a:pt x="513" y="721"/>
                    </a:lnTo>
                    <a:lnTo>
                      <a:pt x="477" y="724"/>
                    </a:lnTo>
                    <a:lnTo>
                      <a:pt x="441" y="727"/>
                    </a:lnTo>
                    <a:lnTo>
                      <a:pt x="398" y="724"/>
                    </a:lnTo>
                    <a:lnTo>
                      <a:pt x="357" y="719"/>
                    </a:lnTo>
                    <a:lnTo>
                      <a:pt x="317" y="709"/>
                    </a:lnTo>
                    <a:lnTo>
                      <a:pt x="281" y="696"/>
                    </a:lnTo>
                    <a:lnTo>
                      <a:pt x="244" y="678"/>
                    </a:lnTo>
                    <a:lnTo>
                      <a:pt x="210" y="658"/>
                    </a:lnTo>
                    <a:lnTo>
                      <a:pt x="178" y="633"/>
                    </a:lnTo>
                    <a:lnTo>
                      <a:pt x="148" y="605"/>
                    </a:lnTo>
                    <a:lnTo>
                      <a:pt x="119" y="574"/>
                    </a:lnTo>
                    <a:lnTo>
                      <a:pt x="95" y="541"/>
                    </a:lnTo>
                    <a:lnTo>
                      <a:pt x="73" y="506"/>
                    </a:lnTo>
                    <a:lnTo>
                      <a:pt x="64" y="487"/>
                    </a:lnTo>
                    <a:lnTo>
                      <a:pt x="57" y="470"/>
                    </a:lnTo>
                    <a:lnTo>
                      <a:pt x="49" y="451"/>
                    </a:lnTo>
                    <a:lnTo>
                      <a:pt x="44" y="433"/>
                    </a:lnTo>
                    <a:lnTo>
                      <a:pt x="35" y="395"/>
                    </a:lnTo>
                    <a:lnTo>
                      <a:pt x="29" y="354"/>
                    </a:lnTo>
                    <a:lnTo>
                      <a:pt x="28" y="313"/>
                    </a:lnTo>
                    <a:lnTo>
                      <a:pt x="29" y="270"/>
                    </a:lnTo>
                    <a:lnTo>
                      <a:pt x="35" y="229"/>
                    </a:lnTo>
                    <a:lnTo>
                      <a:pt x="44" y="189"/>
                    </a:lnTo>
                    <a:lnTo>
                      <a:pt x="57" y="153"/>
                    </a:lnTo>
                    <a:lnTo>
                      <a:pt x="73" y="117"/>
                    </a:lnTo>
                    <a:lnTo>
                      <a:pt x="95" y="83"/>
                    </a:lnTo>
                    <a:lnTo>
                      <a:pt x="119" y="50"/>
                    </a:lnTo>
                    <a:lnTo>
                      <a:pt x="148" y="20"/>
                    </a:lnTo>
                    <a:lnTo>
                      <a:pt x="168" y="2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365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081840" y="4195800"/>
                <a:ext cx="173880" cy="248760"/>
              </a:xfrm>
              <a:custGeom>
                <a:avLst/>
                <a:gdLst/>
                <a:ahLst/>
                <a:rect l="l" t="t" r="r" b="b"/>
                <a:pathLst>
                  <a:path w="608" h="873">
                    <a:moveTo>
                      <a:pt x="111" y="0"/>
                    </a:moveTo>
                    <a:lnTo>
                      <a:pt x="90" y="6"/>
                    </a:lnTo>
                    <a:lnTo>
                      <a:pt x="71" y="14"/>
                    </a:lnTo>
                    <a:lnTo>
                      <a:pt x="54" y="44"/>
                    </a:lnTo>
                    <a:lnTo>
                      <a:pt x="39" y="77"/>
                    </a:lnTo>
                    <a:lnTo>
                      <a:pt x="17" y="147"/>
                    </a:lnTo>
                    <a:lnTo>
                      <a:pt x="9" y="182"/>
                    </a:lnTo>
                    <a:lnTo>
                      <a:pt x="4" y="218"/>
                    </a:lnTo>
                    <a:lnTo>
                      <a:pt x="0" y="294"/>
                    </a:lnTo>
                    <a:lnTo>
                      <a:pt x="0" y="322"/>
                    </a:lnTo>
                    <a:lnTo>
                      <a:pt x="3" y="352"/>
                    </a:lnTo>
                    <a:lnTo>
                      <a:pt x="5" y="380"/>
                    </a:lnTo>
                    <a:lnTo>
                      <a:pt x="11" y="410"/>
                    </a:lnTo>
                    <a:lnTo>
                      <a:pt x="15" y="436"/>
                    </a:lnTo>
                    <a:lnTo>
                      <a:pt x="23" y="463"/>
                    </a:lnTo>
                    <a:lnTo>
                      <a:pt x="31" y="489"/>
                    </a:lnTo>
                    <a:lnTo>
                      <a:pt x="42" y="516"/>
                    </a:lnTo>
                    <a:lnTo>
                      <a:pt x="53" y="540"/>
                    </a:lnTo>
                    <a:lnTo>
                      <a:pt x="65" y="565"/>
                    </a:lnTo>
                    <a:lnTo>
                      <a:pt x="79" y="589"/>
                    </a:lnTo>
                    <a:lnTo>
                      <a:pt x="94" y="614"/>
                    </a:lnTo>
                    <a:lnTo>
                      <a:pt x="128" y="659"/>
                    </a:lnTo>
                    <a:lnTo>
                      <a:pt x="148" y="681"/>
                    </a:lnTo>
                    <a:lnTo>
                      <a:pt x="169" y="703"/>
                    </a:lnTo>
                    <a:lnTo>
                      <a:pt x="211" y="742"/>
                    </a:lnTo>
                    <a:lnTo>
                      <a:pt x="258" y="776"/>
                    </a:lnTo>
                    <a:lnTo>
                      <a:pt x="280" y="790"/>
                    </a:lnTo>
                    <a:lnTo>
                      <a:pt x="304" y="804"/>
                    </a:lnTo>
                    <a:lnTo>
                      <a:pt x="355" y="829"/>
                    </a:lnTo>
                    <a:lnTo>
                      <a:pt x="406" y="847"/>
                    </a:lnTo>
                    <a:lnTo>
                      <a:pt x="462" y="861"/>
                    </a:lnTo>
                    <a:lnTo>
                      <a:pt x="489" y="865"/>
                    </a:lnTo>
                    <a:lnTo>
                      <a:pt x="517" y="869"/>
                    </a:lnTo>
                    <a:lnTo>
                      <a:pt x="577" y="873"/>
                    </a:lnTo>
                    <a:lnTo>
                      <a:pt x="608" y="845"/>
                    </a:lnTo>
                    <a:lnTo>
                      <a:pt x="579" y="846"/>
                    </a:lnTo>
                    <a:lnTo>
                      <a:pt x="549" y="845"/>
                    </a:lnTo>
                    <a:lnTo>
                      <a:pt x="521" y="843"/>
                    </a:lnTo>
                    <a:lnTo>
                      <a:pt x="468" y="836"/>
                    </a:lnTo>
                    <a:lnTo>
                      <a:pt x="415" y="822"/>
                    </a:lnTo>
                    <a:lnTo>
                      <a:pt x="390" y="814"/>
                    </a:lnTo>
                    <a:lnTo>
                      <a:pt x="367" y="805"/>
                    </a:lnTo>
                    <a:lnTo>
                      <a:pt x="342" y="794"/>
                    </a:lnTo>
                    <a:lnTo>
                      <a:pt x="318" y="781"/>
                    </a:lnTo>
                    <a:lnTo>
                      <a:pt x="272" y="754"/>
                    </a:lnTo>
                    <a:lnTo>
                      <a:pt x="228" y="720"/>
                    </a:lnTo>
                    <a:lnTo>
                      <a:pt x="189" y="684"/>
                    </a:lnTo>
                    <a:lnTo>
                      <a:pt x="168" y="662"/>
                    </a:lnTo>
                    <a:lnTo>
                      <a:pt x="150" y="642"/>
                    </a:lnTo>
                    <a:lnTo>
                      <a:pt x="117" y="599"/>
                    </a:lnTo>
                    <a:lnTo>
                      <a:pt x="102" y="575"/>
                    </a:lnTo>
                    <a:lnTo>
                      <a:pt x="90" y="552"/>
                    </a:lnTo>
                    <a:lnTo>
                      <a:pt x="77" y="529"/>
                    </a:lnTo>
                    <a:lnTo>
                      <a:pt x="67" y="506"/>
                    </a:lnTo>
                    <a:lnTo>
                      <a:pt x="57" y="480"/>
                    </a:lnTo>
                    <a:lnTo>
                      <a:pt x="49" y="455"/>
                    </a:lnTo>
                    <a:lnTo>
                      <a:pt x="41" y="429"/>
                    </a:lnTo>
                    <a:lnTo>
                      <a:pt x="37" y="404"/>
                    </a:lnTo>
                    <a:lnTo>
                      <a:pt x="30" y="349"/>
                    </a:lnTo>
                    <a:lnTo>
                      <a:pt x="28" y="321"/>
                    </a:lnTo>
                    <a:lnTo>
                      <a:pt x="28" y="294"/>
                    </a:lnTo>
                    <a:lnTo>
                      <a:pt x="29" y="252"/>
                    </a:lnTo>
                    <a:lnTo>
                      <a:pt x="32" y="212"/>
                    </a:lnTo>
                    <a:lnTo>
                      <a:pt x="38" y="174"/>
                    </a:lnTo>
                    <a:lnTo>
                      <a:pt x="48" y="137"/>
                    </a:lnTo>
                    <a:lnTo>
                      <a:pt x="59" y="101"/>
                    </a:lnTo>
                    <a:lnTo>
                      <a:pt x="74" y="66"/>
                    </a:lnTo>
                    <a:lnTo>
                      <a:pt x="91" y="32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263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073920" y="4199040"/>
                <a:ext cx="173160" cy="253440"/>
              </a:xfrm>
              <a:custGeom>
                <a:avLst/>
                <a:gdLst/>
                <a:ahLst/>
                <a:rect l="l" t="t" r="r" b="b"/>
                <a:pathLst>
                  <a:path w="605" h="886">
                    <a:moveTo>
                      <a:pt x="99" y="0"/>
                    </a:moveTo>
                    <a:lnTo>
                      <a:pt x="77" y="8"/>
                    </a:lnTo>
                    <a:lnTo>
                      <a:pt x="58" y="18"/>
                    </a:lnTo>
                    <a:lnTo>
                      <a:pt x="32" y="78"/>
                    </a:lnTo>
                    <a:lnTo>
                      <a:pt x="22" y="110"/>
                    </a:lnTo>
                    <a:lnTo>
                      <a:pt x="14" y="143"/>
                    </a:lnTo>
                    <a:lnTo>
                      <a:pt x="3" y="210"/>
                    </a:lnTo>
                    <a:lnTo>
                      <a:pt x="0" y="244"/>
                    </a:lnTo>
                    <a:lnTo>
                      <a:pt x="0" y="280"/>
                    </a:lnTo>
                    <a:lnTo>
                      <a:pt x="0" y="309"/>
                    </a:lnTo>
                    <a:lnTo>
                      <a:pt x="2" y="340"/>
                    </a:lnTo>
                    <a:lnTo>
                      <a:pt x="5" y="369"/>
                    </a:lnTo>
                    <a:lnTo>
                      <a:pt x="10" y="400"/>
                    </a:lnTo>
                    <a:lnTo>
                      <a:pt x="16" y="428"/>
                    </a:lnTo>
                    <a:lnTo>
                      <a:pt x="24" y="457"/>
                    </a:lnTo>
                    <a:lnTo>
                      <a:pt x="33" y="484"/>
                    </a:lnTo>
                    <a:lnTo>
                      <a:pt x="44" y="512"/>
                    </a:lnTo>
                    <a:lnTo>
                      <a:pt x="54" y="537"/>
                    </a:lnTo>
                    <a:lnTo>
                      <a:pt x="68" y="563"/>
                    </a:lnTo>
                    <a:lnTo>
                      <a:pt x="82" y="588"/>
                    </a:lnTo>
                    <a:lnTo>
                      <a:pt x="99" y="614"/>
                    </a:lnTo>
                    <a:lnTo>
                      <a:pt x="116" y="638"/>
                    </a:lnTo>
                    <a:lnTo>
                      <a:pt x="135" y="663"/>
                    </a:lnTo>
                    <a:lnTo>
                      <a:pt x="155" y="686"/>
                    </a:lnTo>
                    <a:lnTo>
                      <a:pt x="178" y="710"/>
                    </a:lnTo>
                    <a:lnTo>
                      <a:pt x="198" y="729"/>
                    </a:lnTo>
                    <a:lnTo>
                      <a:pt x="219" y="747"/>
                    </a:lnTo>
                    <a:lnTo>
                      <a:pt x="263" y="781"/>
                    </a:lnTo>
                    <a:lnTo>
                      <a:pt x="310" y="811"/>
                    </a:lnTo>
                    <a:lnTo>
                      <a:pt x="358" y="835"/>
                    </a:lnTo>
                    <a:lnTo>
                      <a:pt x="407" y="854"/>
                    </a:lnTo>
                    <a:lnTo>
                      <a:pt x="460" y="869"/>
                    </a:lnTo>
                    <a:lnTo>
                      <a:pt x="486" y="875"/>
                    </a:lnTo>
                    <a:lnTo>
                      <a:pt x="514" y="880"/>
                    </a:lnTo>
                    <a:lnTo>
                      <a:pt x="571" y="886"/>
                    </a:lnTo>
                    <a:lnTo>
                      <a:pt x="605" y="859"/>
                    </a:lnTo>
                    <a:lnTo>
                      <a:pt x="545" y="855"/>
                    </a:lnTo>
                    <a:lnTo>
                      <a:pt x="517" y="851"/>
                    </a:lnTo>
                    <a:lnTo>
                      <a:pt x="490" y="847"/>
                    </a:lnTo>
                    <a:lnTo>
                      <a:pt x="434" y="833"/>
                    </a:lnTo>
                    <a:lnTo>
                      <a:pt x="383" y="815"/>
                    </a:lnTo>
                    <a:lnTo>
                      <a:pt x="332" y="790"/>
                    </a:lnTo>
                    <a:lnTo>
                      <a:pt x="308" y="776"/>
                    </a:lnTo>
                    <a:lnTo>
                      <a:pt x="286" y="762"/>
                    </a:lnTo>
                    <a:lnTo>
                      <a:pt x="239" y="728"/>
                    </a:lnTo>
                    <a:lnTo>
                      <a:pt x="197" y="689"/>
                    </a:lnTo>
                    <a:lnTo>
                      <a:pt x="176" y="667"/>
                    </a:lnTo>
                    <a:lnTo>
                      <a:pt x="156" y="645"/>
                    </a:lnTo>
                    <a:lnTo>
                      <a:pt x="122" y="600"/>
                    </a:lnTo>
                    <a:lnTo>
                      <a:pt x="107" y="575"/>
                    </a:lnTo>
                    <a:lnTo>
                      <a:pt x="93" y="551"/>
                    </a:lnTo>
                    <a:lnTo>
                      <a:pt x="81" y="526"/>
                    </a:lnTo>
                    <a:lnTo>
                      <a:pt x="70" y="502"/>
                    </a:lnTo>
                    <a:lnTo>
                      <a:pt x="59" y="475"/>
                    </a:lnTo>
                    <a:lnTo>
                      <a:pt x="51" y="449"/>
                    </a:lnTo>
                    <a:lnTo>
                      <a:pt x="43" y="422"/>
                    </a:lnTo>
                    <a:lnTo>
                      <a:pt x="39" y="396"/>
                    </a:lnTo>
                    <a:lnTo>
                      <a:pt x="33" y="366"/>
                    </a:lnTo>
                    <a:lnTo>
                      <a:pt x="31" y="338"/>
                    </a:lnTo>
                    <a:lnTo>
                      <a:pt x="28" y="308"/>
                    </a:lnTo>
                    <a:lnTo>
                      <a:pt x="28" y="280"/>
                    </a:lnTo>
                    <a:lnTo>
                      <a:pt x="32" y="204"/>
                    </a:lnTo>
                    <a:lnTo>
                      <a:pt x="37" y="168"/>
                    </a:lnTo>
                    <a:lnTo>
                      <a:pt x="45" y="133"/>
                    </a:lnTo>
                    <a:lnTo>
                      <a:pt x="67" y="63"/>
                    </a:lnTo>
                    <a:lnTo>
                      <a:pt x="82" y="3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223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065640" y="4204440"/>
                <a:ext cx="171360" cy="255240"/>
              </a:xfrm>
              <a:custGeom>
                <a:avLst/>
                <a:gdLst/>
                <a:ahLst/>
                <a:rect l="l" t="t" r="r" b="b"/>
                <a:pathLst>
                  <a:path w="598" h="893">
                    <a:moveTo>
                      <a:pt x="85" y="0"/>
                    </a:moveTo>
                    <a:lnTo>
                      <a:pt x="44" y="24"/>
                    </a:lnTo>
                    <a:lnTo>
                      <a:pt x="24" y="79"/>
                    </a:lnTo>
                    <a:lnTo>
                      <a:pt x="10" y="137"/>
                    </a:lnTo>
                    <a:lnTo>
                      <a:pt x="2" y="197"/>
                    </a:lnTo>
                    <a:lnTo>
                      <a:pt x="0" y="262"/>
                    </a:lnTo>
                    <a:lnTo>
                      <a:pt x="0" y="294"/>
                    </a:lnTo>
                    <a:lnTo>
                      <a:pt x="2" y="325"/>
                    </a:lnTo>
                    <a:lnTo>
                      <a:pt x="5" y="356"/>
                    </a:lnTo>
                    <a:lnTo>
                      <a:pt x="11" y="388"/>
                    </a:lnTo>
                    <a:lnTo>
                      <a:pt x="17" y="417"/>
                    </a:lnTo>
                    <a:lnTo>
                      <a:pt x="25" y="448"/>
                    </a:lnTo>
                    <a:lnTo>
                      <a:pt x="34" y="476"/>
                    </a:lnTo>
                    <a:lnTo>
                      <a:pt x="46" y="506"/>
                    </a:lnTo>
                    <a:lnTo>
                      <a:pt x="58" y="532"/>
                    </a:lnTo>
                    <a:lnTo>
                      <a:pt x="71" y="559"/>
                    </a:lnTo>
                    <a:lnTo>
                      <a:pt x="86" y="585"/>
                    </a:lnTo>
                    <a:lnTo>
                      <a:pt x="104" y="612"/>
                    </a:lnTo>
                    <a:lnTo>
                      <a:pt x="121" y="637"/>
                    </a:lnTo>
                    <a:lnTo>
                      <a:pt x="142" y="662"/>
                    </a:lnTo>
                    <a:lnTo>
                      <a:pt x="162" y="686"/>
                    </a:lnTo>
                    <a:lnTo>
                      <a:pt x="186" y="711"/>
                    </a:lnTo>
                    <a:lnTo>
                      <a:pt x="225" y="747"/>
                    </a:lnTo>
                    <a:lnTo>
                      <a:pt x="269" y="781"/>
                    </a:lnTo>
                    <a:lnTo>
                      <a:pt x="312" y="811"/>
                    </a:lnTo>
                    <a:lnTo>
                      <a:pt x="358" y="836"/>
                    </a:lnTo>
                    <a:lnTo>
                      <a:pt x="405" y="856"/>
                    </a:lnTo>
                    <a:lnTo>
                      <a:pt x="454" y="872"/>
                    </a:lnTo>
                    <a:lnTo>
                      <a:pt x="505" y="884"/>
                    </a:lnTo>
                    <a:lnTo>
                      <a:pt x="559" y="893"/>
                    </a:lnTo>
                    <a:lnTo>
                      <a:pt x="598" y="868"/>
                    </a:lnTo>
                    <a:lnTo>
                      <a:pt x="541" y="862"/>
                    </a:lnTo>
                    <a:lnTo>
                      <a:pt x="513" y="857"/>
                    </a:lnTo>
                    <a:lnTo>
                      <a:pt x="487" y="851"/>
                    </a:lnTo>
                    <a:lnTo>
                      <a:pt x="434" y="836"/>
                    </a:lnTo>
                    <a:lnTo>
                      <a:pt x="385" y="817"/>
                    </a:lnTo>
                    <a:lnTo>
                      <a:pt x="337" y="793"/>
                    </a:lnTo>
                    <a:lnTo>
                      <a:pt x="290" y="763"/>
                    </a:lnTo>
                    <a:lnTo>
                      <a:pt x="246" y="729"/>
                    </a:lnTo>
                    <a:lnTo>
                      <a:pt x="225" y="711"/>
                    </a:lnTo>
                    <a:lnTo>
                      <a:pt x="205" y="692"/>
                    </a:lnTo>
                    <a:lnTo>
                      <a:pt x="182" y="668"/>
                    </a:lnTo>
                    <a:lnTo>
                      <a:pt x="162" y="645"/>
                    </a:lnTo>
                    <a:lnTo>
                      <a:pt x="143" y="620"/>
                    </a:lnTo>
                    <a:lnTo>
                      <a:pt x="126" y="596"/>
                    </a:lnTo>
                    <a:lnTo>
                      <a:pt x="109" y="570"/>
                    </a:lnTo>
                    <a:lnTo>
                      <a:pt x="95" y="545"/>
                    </a:lnTo>
                    <a:lnTo>
                      <a:pt x="81" y="519"/>
                    </a:lnTo>
                    <a:lnTo>
                      <a:pt x="71" y="494"/>
                    </a:lnTo>
                    <a:lnTo>
                      <a:pt x="60" y="466"/>
                    </a:lnTo>
                    <a:lnTo>
                      <a:pt x="51" y="439"/>
                    </a:lnTo>
                    <a:lnTo>
                      <a:pt x="43" y="410"/>
                    </a:lnTo>
                    <a:lnTo>
                      <a:pt x="37" y="382"/>
                    </a:lnTo>
                    <a:lnTo>
                      <a:pt x="32" y="351"/>
                    </a:lnTo>
                    <a:lnTo>
                      <a:pt x="29" y="322"/>
                    </a:lnTo>
                    <a:lnTo>
                      <a:pt x="27" y="291"/>
                    </a:lnTo>
                    <a:lnTo>
                      <a:pt x="27" y="262"/>
                    </a:lnTo>
                    <a:lnTo>
                      <a:pt x="27" y="226"/>
                    </a:lnTo>
                    <a:lnTo>
                      <a:pt x="30" y="192"/>
                    </a:lnTo>
                    <a:lnTo>
                      <a:pt x="41" y="125"/>
                    </a:lnTo>
                    <a:lnTo>
                      <a:pt x="49" y="92"/>
                    </a:lnTo>
                    <a:lnTo>
                      <a:pt x="59" y="6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1f2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42240" y="4228920"/>
                <a:ext cx="157680" cy="245880"/>
              </a:xfrm>
              <a:custGeom>
                <a:avLst/>
                <a:gdLst/>
                <a:ahLst/>
                <a:rect l="l" t="t" r="r" b="b"/>
                <a:pathLst>
                  <a:path w="551" h="862">
                    <a:moveTo>
                      <a:pt x="37" y="11"/>
                    </a:moveTo>
                    <a:lnTo>
                      <a:pt x="13" y="37"/>
                    </a:lnTo>
                    <a:lnTo>
                      <a:pt x="6" y="70"/>
                    </a:lnTo>
                    <a:lnTo>
                      <a:pt x="2" y="105"/>
                    </a:lnTo>
                    <a:lnTo>
                      <a:pt x="0" y="177"/>
                    </a:lnTo>
                    <a:lnTo>
                      <a:pt x="0" y="212"/>
                    </a:lnTo>
                    <a:lnTo>
                      <a:pt x="2" y="248"/>
                    </a:lnTo>
                    <a:lnTo>
                      <a:pt x="6" y="283"/>
                    </a:lnTo>
                    <a:lnTo>
                      <a:pt x="13" y="319"/>
                    </a:lnTo>
                    <a:lnTo>
                      <a:pt x="19" y="351"/>
                    </a:lnTo>
                    <a:lnTo>
                      <a:pt x="28" y="386"/>
                    </a:lnTo>
                    <a:lnTo>
                      <a:pt x="39" y="418"/>
                    </a:lnTo>
                    <a:lnTo>
                      <a:pt x="52" y="451"/>
                    </a:lnTo>
                    <a:lnTo>
                      <a:pt x="65" y="482"/>
                    </a:lnTo>
                    <a:lnTo>
                      <a:pt x="81" y="512"/>
                    </a:lnTo>
                    <a:lnTo>
                      <a:pt x="98" y="542"/>
                    </a:lnTo>
                    <a:lnTo>
                      <a:pt x="117" y="573"/>
                    </a:lnTo>
                    <a:lnTo>
                      <a:pt x="136" y="600"/>
                    </a:lnTo>
                    <a:lnTo>
                      <a:pt x="159" y="628"/>
                    </a:lnTo>
                    <a:lnTo>
                      <a:pt x="183" y="655"/>
                    </a:lnTo>
                    <a:lnTo>
                      <a:pt x="210" y="684"/>
                    </a:lnTo>
                    <a:lnTo>
                      <a:pt x="242" y="713"/>
                    </a:lnTo>
                    <a:lnTo>
                      <a:pt x="274" y="742"/>
                    </a:lnTo>
                    <a:lnTo>
                      <a:pt x="308" y="768"/>
                    </a:lnTo>
                    <a:lnTo>
                      <a:pt x="345" y="791"/>
                    </a:lnTo>
                    <a:lnTo>
                      <a:pt x="381" y="812"/>
                    </a:lnTo>
                    <a:lnTo>
                      <a:pt x="418" y="831"/>
                    </a:lnTo>
                    <a:lnTo>
                      <a:pt x="457" y="847"/>
                    </a:lnTo>
                    <a:lnTo>
                      <a:pt x="498" y="862"/>
                    </a:lnTo>
                    <a:lnTo>
                      <a:pt x="524" y="855"/>
                    </a:lnTo>
                    <a:lnTo>
                      <a:pt x="551" y="848"/>
                    </a:lnTo>
                    <a:lnTo>
                      <a:pt x="506" y="834"/>
                    </a:lnTo>
                    <a:lnTo>
                      <a:pt x="463" y="820"/>
                    </a:lnTo>
                    <a:lnTo>
                      <a:pt x="420" y="800"/>
                    </a:lnTo>
                    <a:lnTo>
                      <a:pt x="380" y="780"/>
                    </a:lnTo>
                    <a:lnTo>
                      <a:pt x="339" y="755"/>
                    </a:lnTo>
                    <a:lnTo>
                      <a:pt x="302" y="728"/>
                    </a:lnTo>
                    <a:lnTo>
                      <a:pt x="264" y="697"/>
                    </a:lnTo>
                    <a:lnTo>
                      <a:pt x="229" y="664"/>
                    </a:lnTo>
                    <a:lnTo>
                      <a:pt x="203" y="637"/>
                    </a:lnTo>
                    <a:lnTo>
                      <a:pt x="180" y="611"/>
                    </a:lnTo>
                    <a:lnTo>
                      <a:pt x="159" y="584"/>
                    </a:lnTo>
                    <a:lnTo>
                      <a:pt x="140" y="558"/>
                    </a:lnTo>
                    <a:lnTo>
                      <a:pt x="120" y="528"/>
                    </a:lnTo>
                    <a:lnTo>
                      <a:pt x="104" y="500"/>
                    </a:lnTo>
                    <a:lnTo>
                      <a:pt x="90" y="471"/>
                    </a:lnTo>
                    <a:lnTo>
                      <a:pt x="77" y="441"/>
                    </a:lnTo>
                    <a:lnTo>
                      <a:pt x="65" y="409"/>
                    </a:lnTo>
                    <a:lnTo>
                      <a:pt x="54" y="379"/>
                    </a:lnTo>
                    <a:lnTo>
                      <a:pt x="45" y="346"/>
                    </a:lnTo>
                    <a:lnTo>
                      <a:pt x="40" y="314"/>
                    </a:lnTo>
                    <a:lnTo>
                      <a:pt x="33" y="280"/>
                    </a:lnTo>
                    <a:lnTo>
                      <a:pt x="30" y="246"/>
                    </a:lnTo>
                    <a:lnTo>
                      <a:pt x="27" y="211"/>
                    </a:lnTo>
                    <a:lnTo>
                      <a:pt x="27" y="177"/>
                    </a:lnTo>
                    <a:lnTo>
                      <a:pt x="28" y="130"/>
                    </a:lnTo>
                    <a:lnTo>
                      <a:pt x="32" y="86"/>
                    </a:lnTo>
                    <a:lnTo>
                      <a:pt x="39" y="42"/>
                    </a:lnTo>
                    <a:lnTo>
                      <a:pt x="49" y="0"/>
                    </a:lnTo>
                    <a:lnTo>
                      <a:pt x="37" y="11"/>
                    </a:lnTo>
                    <a:close/>
                  </a:path>
                </a:pathLst>
              </a:custGeom>
              <a:solidFill>
                <a:srgbClr val="16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50520" y="4219200"/>
                <a:ext cx="163440" cy="251640"/>
              </a:xfrm>
              <a:custGeom>
                <a:avLst/>
                <a:gdLst/>
                <a:ahLst/>
                <a:rect l="l" t="t" r="r" b="b"/>
                <a:pathLst>
                  <a:path w="573" h="882">
                    <a:moveTo>
                      <a:pt x="60" y="0"/>
                    </a:moveTo>
                    <a:lnTo>
                      <a:pt x="22" y="34"/>
                    </a:lnTo>
                    <a:lnTo>
                      <a:pt x="12" y="76"/>
                    </a:lnTo>
                    <a:lnTo>
                      <a:pt x="5" y="120"/>
                    </a:lnTo>
                    <a:lnTo>
                      <a:pt x="1" y="164"/>
                    </a:lnTo>
                    <a:lnTo>
                      <a:pt x="0" y="211"/>
                    </a:lnTo>
                    <a:lnTo>
                      <a:pt x="0" y="245"/>
                    </a:lnTo>
                    <a:lnTo>
                      <a:pt x="3" y="280"/>
                    </a:lnTo>
                    <a:lnTo>
                      <a:pt x="6" y="314"/>
                    </a:lnTo>
                    <a:lnTo>
                      <a:pt x="13" y="348"/>
                    </a:lnTo>
                    <a:lnTo>
                      <a:pt x="18" y="380"/>
                    </a:lnTo>
                    <a:lnTo>
                      <a:pt x="27" y="413"/>
                    </a:lnTo>
                    <a:lnTo>
                      <a:pt x="38" y="443"/>
                    </a:lnTo>
                    <a:lnTo>
                      <a:pt x="50" y="475"/>
                    </a:lnTo>
                    <a:lnTo>
                      <a:pt x="63" y="505"/>
                    </a:lnTo>
                    <a:lnTo>
                      <a:pt x="77" y="534"/>
                    </a:lnTo>
                    <a:lnTo>
                      <a:pt x="93" y="562"/>
                    </a:lnTo>
                    <a:lnTo>
                      <a:pt x="113" y="592"/>
                    </a:lnTo>
                    <a:lnTo>
                      <a:pt x="132" y="618"/>
                    </a:lnTo>
                    <a:lnTo>
                      <a:pt x="153" y="645"/>
                    </a:lnTo>
                    <a:lnTo>
                      <a:pt x="176" y="671"/>
                    </a:lnTo>
                    <a:lnTo>
                      <a:pt x="202" y="698"/>
                    </a:lnTo>
                    <a:lnTo>
                      <a:pt x="237" y="731"/>
                    </a:lnTo>
                    <a:lnTo>
                      <a:pt x="275" y="762"/>
                    </a:lnTo>
                    <a:lnTo>
                      <a:pt x="312" y="789"/>
                    </a:lnTo>
                    <a:lnTo>
                      <a:pt x="353" y="814"/>
                    </a:lnTo>
                    <a:lnTo>
                      <a:pt x="393" y="834"/>
                    </a:lnTo>
                    <a:lnTo>
                      <a:pt x="436" y="854"/>
                    </a:lnTo>
                    <a:lnTo>
                      <a:pt x="479" y="868"/>
                    </a:lnTo>
                    <a:lnTo>
                      <a:pt x="524" y="882"/>
                    </a:lnTo>
                    <a:lnTo>
                      <a:pt x="548" y="873"/>
                    </a:lnTo>
                    <a:lnTo>
                      <a:pt x="573" y="864"/>
                    </a:lnTo>
                    <a:lnTo>
                      <a:pt x="522" y="853"/>
                    </a:lnTo>
                    <a:lnTo>
                      <a:pt x="474" y="839"/>
                    </a:lnTo>
                    <a:lnTo>
                      <a:pt x="428" y="821"/>
                    </a:lnTo>
                    <a:lnTo>
                      <a:pt x="385" y="800"/>
                    </a:lnTo>
                    <a:lnTo>
                      <a:pt x="340" y="774"/>
                    </a:lnTo>
                    <a:lnTo>
                      <a:pt x="300" y="746"/>
                    </a:lnTo>
                    <a:lnTo>
                      <a:pt x="260" y="714"/>
                    </a:lnTo>
                    <a:lnTo>
                      <a:pt x="222" y="679"/>
                    </a:lnTo>
                    <a:lnTo>
                      <a:pt x="198" y="653"/>
                    </a:lnTo>
                    <a:lnTo>
                      <a:pt x="176" y="628"/>
                    </a:lnTo>
                    <a:lnTo>
                      <a:pt x="154" y="602"/>
                    </a:lnTo>
                    <a:lnTo>
                      <a:pt x="136" y="576"/>
                    </a:lnTo>
                    <a:lnTo>
                      <a:pt x="118" y="548"/>
                    </a:lnTo>
                    <a:lnTo>
                      <a:pt x="102" y="520"/>
                    </a:lnTo>
                    <a:lnTo>
                      <a:pt x="88" y="492"/>
                    </a:lnTo>
                    <a:lnTo>
                      <a:pt x="76" y="465"/>
                    </a:lnTo>
                    <a:lnTo>
                      <a:pt x="64" y="434"/>
                    </a:lnTo>
                    <a:lnTo>
                      <a:pt x="55" y="405"/>
                    </a:lnTo>
                    <a:lnTo>
                      <a:pt x="46" y="373"/>
                    </a:lnTo>
                    <a:lnTo>
                      <a:pt x="40" y="342"/>
                    </a:lnTo>
                    <a:lnTo>
                      <a:pt x="34" y="310"/>
                    </a:lnTo>
                    <a:lnTo>
                      <a:pt x="31" y="278"/>
                    </a:lnTo>
                    <a:lnTo>
                      <a:pt x="29" y="244"/>
                    </a:lnTo>
                    <a:lnTo>
                      <a:pt x="29" y="211"/>
                    </a:lnTo>
                    <a:lnTo>
                      <a:pt x="30" y="154"/>
                    </a:lnTo>
                    <a:lnTo>
                      <a:pt x="37" y="101"/>
                    </a:lnTo>
                    <a:lnTo>
                      <a:pt x="46" y="49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92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18840" y="4266720"/>
                <a:ext cx="130320" cy="210600"/>
              </a:xfrm>
              <a:custGeom>
                <a:avLst/>
                <a:gdLst/>
                <a:ahLst/>
                <a:rect l="l" t="t" r="r" b="b"/>
                <a:pathLst>
                  <a:path w="457" h="738">
                    <a:moveTo>
                      <a:pt x="27" y="44"/>
                    </a:moveTo>
                    <a:lnTo>
                      <a:pt x="29" y="0"/>
                    </a:lnTo>
                    <a:lnTo>
                      <a:pt x="13" y="31"/>
                    </a:lnTo>
                    <a:lnTo>
                      <a:pt x="0" y="64"/>
                    </a:lnTo>
                    <a:lnTo>
                      <a:pt x="0" y="103"/>
                    </a:lnTo>
                    <a:lnTo>
                      <a:pt x="4" y="141"/>
                    </a:lnTo>
                    <a:lnTo>
                      <a:pt x="8" y="179"/>
                    </a:lnTo>
                    <a:lnTo>
                      <a:pt x="16" y="217"/>
                    </a:lnTo>
                    <a:lnTo>
                      <a:pt x="24" y="253"/>
                    </a:lnTo>
                    <a:lnTo>
                      <a:pt x="35" y="289"/>
                    </a:lnTo>
                    <a:lnTo>
                      <a:pt x="47" y="324"/>
                    </a:lnTo>
                    <a:lnTo>
                      <a:pt x="61" y="359"/>
                    </a:lnTo>
                    <a:lnTo>
                      <a:pt x="76" y="392"/>
                    </a:lnTo>
                    <a:lnTo>
                      <a:pt x="94" y="425"/>
                    </a:lnTo>
                    <a:lnTo>
                      <a:pt x="113" y="457"/>
                    </a:lnTo>
                    <a:lnTo>
                      <a:pt x="134" y="489"/>
                    </a:lnTo>
                    <a:lnTo>
                      <a:pt x="156" y="520"/>
                    </a:lnTo>
                    <a:lnTo>
                      <a:pt x="181" y="551"/>
                    </a:lnTo>
                    <a:lnTo>
                      <a:pt x="207" y="580"/>
                    </a:lnTo>
                    <a:lnTo>
                      <a:pt x="235" y="610"/>
                    </a:lnTo>
                    <a:lnTo>
                      <a:pt x="270" y="643"/>
                    </a:lnTo>
                    <a:lnTo>
                      <a:pt x="309" y="675"/>
                    </a:lnTo>
                    <a:lnTo>
                      <a:pt x="347" y="704"/>
                    </a:lnTo>
                    <a:lnTo>
                      <a:pt x="388" y="732"/>
                    </a:lnTo>
                    <a:lnTo>
                      <a:pt x="421" y="736"/>
                    </a:lnTo>
                    <a:lnTo>
                      <a:pt x="457" y="738"/>
                    </a:lnTo>
                    <a:lnTo>
                      <a:pt x="429" y="723"/>
                    </a:lnTo>
                    <a:lnTo>
                      <a:pt x="402" y="707"/>
                    </a:lnTo>
                    <a:lnTo>
                      <a:pt x="351" y="673"/>
                    </a:lnTo>
                    <a:lnTo>
                      <a:pt x="326" y="654"/>
                    </a:lnTo>
                    <a:lnTo>
                      <a:pt x="301" y="633"/>
                    </a:lnTo>
                    <a:lnTo>
                      <a:pt x="254" y="590"/>
                    </a:lnTo>
                    <a:lnTo>
                      <a:pt x="226" y="561"/>
                    </a:lnTo>
                    <a:lnTo>
                      <a:pt x="201" y="531"/>
                    </a:lnTo>
                    <a:lnTo>
                      <a:pt x="176" y="501"/>
                    </a:lnTo>
                    <a:lnTo>
                      <a:pt x="154" y="470"/>
                    </a:lnTo>
                    <a:lnTo>
                      <a:pt x="133" y="437"/>
                    </a:lnTo>
                    <a:lnTo>
                      <a:pt x="115" y="406"/>
                    </a:lnTo>
                    <a:lnTo>
                      <a:pt x="98" y="373"/>
                    </a:lnTo>
                    <a:lnTo>
                      <a:pt x="84" y="340"/>
                    </a:lnTo>
                    <a:lnTo>
                      <a:pt x="69" y="305"/>
                    </a:lnTo>
                    <a:lnTo>
                      <a:pt x="58" y="270"/>
                    </a:lnTo>
                    <a:lnTo>
                      <a:pt x="48" y="233"/>
                    </a:lnTo>
                    <a:lnTo>
                      <a:pt x="41" y="197"/>
                    </a:lnTo>
                    <a:lnTo>
                      <a:pt x="34" y="158"/>
                    </a:lnTo>
                    <a:lnTo>
                      <a:pt x="31" y="121"/>
                    </a:lnTo>
                    <a:lnTo>
                      <a:pt x="27" y="82"/>
                    </a:lnTo>
                    <a:lnTo>
                      <a:pt x="27" y="44"/>
                    </a:lnTo>
                    <a:close/>
                  </a:path>
                </a:pathLst>
              </a:custGeom>
              <a:solidFill>
                <a:srgbClr val="0c1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026400" y="4251600"/>
                <a:ext cx="141120" cy="226080"/>
              </a:xfrm>
              <a:custGeom>
                <a:avLst/>
                <a:gdLst/>
                <a:ahLst/>
                <a:rect l="l" t="t" r="r" b="b"/>
                <a:pathLst>
                  <a:path w="494" h="791">
                    <a:moveTo>
                      <a:pt x="2" y="52"/>
                    </a:moveTo>
                    <a:lnTo>
                      <a:pt x="0" y="96"/>
                    </a:lnTo>
                    <a:lnTo>
                      <a:pt x="0" y="134"/>
                    </a:lnTo>
                    <a:lnTo>
                      <a:pt x="4" y="173"/>
                    </a:lnTo>
                    <a:lnTo>
                      <a:pt x="7" y="210"/>
                    </a:lnTo>
                    <a:lnTo>
                      <a:pt x="14" y="249"/>
                    </a:lnTo>
                    <a:lnTo>
                      <a:pt x="21" y="285"/>
                    </a:lnTo>
                    <a:lnTo>
                      <a:pt x="31" y="322"/>
                    </a:lnTo>
                    <a:lnTo>
                      <a:pt x="42" y="357"/>
                    </a:lnTo>
                    <a:lnTo>
                      <a:pt x="57" y="392"/>
                    </a:lnTo>
                    <a:lnTo>
                      <a:pt x="71" y="425"/>
                    </a:lnTo>
                    <a:lnTo>
                      <a:pt x="88" y="458"/>
                    </a:lnTo>
                    <a:lnTo>
                      <a:pt x="106" y="489"/>
                    </a:lnTo>
                    <a:lnTo>
                      <a:pt x="127" y="522"/>
                    </a:lnTo>
                    <a:lnTo>
                      <a:pt x="149" y="553"/>
                    </a:lnTo>
                    <a:lnTo>
                      <a:pt x="174" y="583"/>
                    </a:lnTo>
                    <a:lnTo>
                      <a:pt x="199" y="613"/>
                    </a:lnTo>
                    <a:lnTo>
                      <a:pt x="227" y="642"/>
                    </a:lnTo>
                    <a:lnTo>
                      <a:pt x="274" y="685"/>
                    </a:lnTo>
                    <a:lnTo>
                      <a:pt x="299" y="706"/>
                    </a:lnTo>
                    <a:lnTo>
                      <a:pt x="324" y="725"/>
                    </a:lnTo>
                    <a:lnTo>
                      <a:pt x="375" y="759"/>
                    </a:lnTo>
                    <a:lnTo>
                      <a:pt x="402" y="775"/>
                    </a:lnTo>
                    <a:lnTo>
                      <a:pt x="430" y="790"/>
                    </a:lnTo>
                    <a:lnTo>
                      <a:pt x="449" y="791"/>
                    </a:lnTo>
                    <a:lnTo>
                      <a:pt x="454" y="790"/>
                    </a:lnTo>
                    <a:lnTo>
                      <a:pt x="460" y="790"/>
                    </a:lnTo>
                    <a:lnTo>
                      <a:pt x="471" y="790"/>
                    </a:lnTo>
                    <a:lnTo>
                      <a:pt x="494" y="789"/>
                    </a:lnTo>
                    <a:lnTo>
                      <a:pt x="460" y="774"/>
                    </a:lnTo>
                    <a:lnTo>
                      <a:pt x="427" y="757"/>
                    </a:lnTo>
                    <a:lnTo>
                      <a:pt x="394" y="739"/>
                    </a:lnTo>
                    <a:lnTo>
                      <a:pt x="363" y="719"/>
                    </a:lnTo>
                    <a:lnTo>
                      <a:pt x="333" y="698"/>
                    </a:lnTo>
                    <a:lnTo>
                      <a:pt x="303" y="674"/>
                    </a:lnTo>
                    <a:lnTo>
                      <a:pt x="274" y="649"/>
                    </a:lnTo>
                    <a:lnTo>
                      <a:pt x="247" y="623"/>
                    </a:lnTo>
                    <a:lnTo>
                      <a:pt x="219" y="594"/>
                    </a:lnTo>
                    <a:lnTo>
                      <a:pt x="196" y="565"/>
                    </a:lnTo>
                    <a:lnTo>
                      <a:pt x="172" y="536"/>
                    </a:lnTo>
                    <a:lnTo>
                      <a:pt x="151" y="507"/>
                    </a:lnTo>
                    <a:lnTo>
                      <a:pt x="131" y="476"/>
                    </a:lnTo>
                    <a:lnTo>
                      <a:pt x="114" y="445"/>
                    </a:lnTo>
                    <a:lnTo>
                      <a:pt x="97" y="413"/>
                    </a:lnTo>
                    <a:lnTo>
                      <a:pt x="83" y="382"/>
                    </a:lnTo>
                    <a:lnTo>
                      <a:pt x="70" y="348"/>
                    </a:lnTo>
                    <a:lnTo>
                      <a:pt x="59" y="314"/>
                    </a:lnTo>
                    <a:lnTo>
                      <a:pt x="49" y="278"/>
                    </a:lnTo>
                    <a:lnTo>
                      <a:pt x="42" y="244"/>
                    </a:lnTo>
                    <a:lnTo>
                      <a:pt x="36" y="207"/>
                    </a:lnTo>
                    <a:lnTo>
                      <a:pt x="32" y="171"/>
                    </a:lnTo>
                    <a:lnTo>
                      <a:pt x="29" y="133"/>
                    </a:lnTo>
                    <a:lnTo>
                      <a:pt x="29" y="96"/>
                    </a:lnTo>
                    <a:lnTo>
                      <a:pt x="30" y="47"/>
                    </a:lnTo>
                    <a:lnTo>
                      <a:pt x="34" y="0"/>
                    </a:lnTo>
                    <a:lnTo>
                      <a:pt x="16" y="24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0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34320" y="4239720"/>
                <a:ext cx="150120" cy="237600"/>
              </a:xfrm>
              <a:custGeom>
                <a:avLst/>
                <a:gdLst/>
                <a:ahLst/>
                <a:rect l="l" t="t" r="r" b="b"/>
                <a:pathLst>
                  <a:path w="525" h="833">
                    <a:moveTo>
                      <a:pt x="5" y="44"/>
                    </a:moveTo>
                    <a:lnTo>
                      <a:pt x="1" y="91"/>
                    </a:lnTo>
                    <a:lnTo>
                      <a:pt x="0" y="140"/>
                    </a:lnTo>
                    <a:lnTo>
                      <a:pt x="0" y="177"/>
                    </a:lnTo>
                    <a:lnTo>
                      <a:pt x="3" y="215"/>
                    </a:lnTo>
                    <a:lnTo>
                      <a:pt x="7" y="251"/>
                    </a:lnTo>
                    <a:lnTo>
                      <a:pt x="13" y="288"/>
                    </a:lnTo>
                    <a:lnTo>
                      <a:pt x="20" y="322"/>
                    </a:lnTo>
                    <a:lnTo>
                      <a:pt x="30" y="358"/>
                    </a:lnTo>
                    <a:lnTo>
                      <a:pt x="41" y="392"/>
                    </a:lnTo>
                    <a:lnTo>
                      <a:pt x="54" y="426"/>
                    </a:lnTo>
                    <a:lnTo>
                      <a:pt x="68" y="457"/>
                    </a:lnTo>
                    <a:lnTo>
                      <a:pt x="85" y="489"/>
                    </a:lnTo>
                    <a:lnTo>
                      <a:pt x="102" y="520"/>
                    </a:lnTo>
                    <a:lnTo>
                      <a:pt x="122" y="551"/>
                    </a:lnTo>
                    <a:lnTo>
                      <a:pt x="143" y="580"/>
                    </a:lnTo>
                    <a:lnTo>
                      <a:pt x="167" y="609"/>
                    </a:lnTo>
                    <a:lnTo>
                      <a:pt x="190" y="638"/>
                    </a:lnTo>
                    <a:lnTo>
                      <a:pt x="218" y="667"/>
                    </a:lnTo>
                    <a:lnTo>
                      <a:pt x="245" y="693"/>
                    </a:lnTo>
                    <a:lnTo>
                      <a:pt x="274" y="718"/>
                    </a:lnTo>
                    <a:lnTo>
                      <a:pt x="304" y="742"/>
                    </a:lnTo>
                    <a:lnTo>
                      <a:pt x="334" y="763"/>
                    </a:lnTo>
                    <a:lnTo>
                      <a:pt x="365" y="783"/>
                    </a:lnTo>
                    <a:lnTo>
                      <a:pt x="398" y="801"/>
                    </a:lnTo>
                    <a:lnTo>
                      <a:pt x="431" y="818"/>
                    </a:lnTo>
                    <a:lnTo>
                      <a:pt x="465" y="833"/>
                    </a:lnTo>
                    <a:lnTo>
                      <a:pt x="494" y="829"/>
                    </a:lnTo>
                    <a:lnTo>
                      <a:pt x="525" y="825"/>
                    </a:lnTo>
                    <a:lnTo>
                      <a:pt x="484" y="810"/>
                    </a:lnTo>
                    <a:lnTo>
                      <a:pt x="445" y="794"/>
                    </a:lnTo>
                    <a:lnTo>
                      <a:pt x="408" y="775"/>
                    </a:lnTo>
                    <a:lnTo>
                      <a:pt x="372" y="754"/>
                    </a:lnTo>
                    <a:lnTo>
                      <a:pt x="335" y="731"/>
                    </a:lnTo>
                    <a:lnTo>
                      <a:pt x="301" y="705"/>
                    </a:lnTo>
                    <a:lnTo>
                      <a:pt x="269" y="676"/>
                    </a:lnTo>
                    <a:lnTo>
                      <a:pt x="237" y="647"/>
                    </a:lnTo>
                    <a:lnTo>
                      <a:pt x="210" y="618"/>
                    </a:lnTo>
                    <a:lnTo>
                      <a:pt x="186" y="591"/>
                    </a:lnTo>
                    <a:lnTo>
                      <a:pt x="163" y="563"/>
                    </a:lnTo>
                    <a:lnTo>
                      <a:pt x="144" y="536"/>
                    </a:lnTo>
                    <a:lnTo>
                      <a:pt x="125" y="505"/>
                    </a:lnTo>
                    <a:lnTo>
                      <a:pt x="108" y="475"/>
                    </a:lnTo>
                    <a:lnTo>
                      <a:pt x="92" y="445"/>
                    </a:lnTo>
                    <a:lnTo>
                      <a:pt x="79" y="414"/>
                    </a:lnTo>
                    <a:lnTo>
                      <a:pt x="66" y="381"/>
                    </a:lnTo>
                    <a:lnTo>
                      <a:pt x="55" y="349"/>
                    </a:lnTo>
                    <a:lnTo>
                      <a:pt x="46" y="314"/>
                    </a:lnTo>
                    <a:lnTo>
                      <a:pt x="40" y="282"/>
                    </a:lnTo>
                    <a:lnTo>
                      <a:pt x="33" y="246"/>
                    </a:lnTo>
                    <a:lnTo>
                      <a:pt x="29" y="211"/>
                    </a:lnTo>
                    <a:lnTo>
                      <a:pt x="27" y="175"/>
                    </a:lnTo>
                    <a:lnTo>
                      <a:pt x="27" y="140"/>
                    </a:lnTo>
                    <a:lnTo>
                      <a:pt x="29" y="68"/>
                    </a:lnTo>
                    <a:lnTo>
                      <a:pt x="33" y="33"/>
                    </a:lnTo>
                    <a:lnTo>
                      <a:pt x="40" y="0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121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058440" y="4211280"/>
                <a:ext cx="167400" cy="254520"/>
              </a:xfrm>
              <a:custGeom>
                <a:avLst/>
                <a:gdLst/>
                <a:ahLst/>
                <a:rect l="l" t="t" r="r" b="b"/>
                <a:pathLst>
                  <a:path w="586" h="891">
                    <a:moveTo>
                      <a:pt x="31" y="27"/>
                    </a:moveTo>
                    <a:lnTo>
                      <a:pt x="17" y="76"/>
                    </a:lnTo>
                    <a:lnTo>
                      <a:pt x="8" y="128"/>
                    </a:lnTo>
                    <a:lnTo>
                      <a:pt x="1" y="181"/>
                    </a:lnTo>
                    <a:lnTo>
                      <a:pt x="0" y="238"/>
                    </a:lnTo>
                    <a:lnTo>
                      <a:pt x="0" y="271"/>
                    </a:lnTo>
                    <a:lnTo>
                      <a:pt x="2" y="305"/>
                    </a:lnTo>
                    <a:lnTo>
                      <a:pt x="5" y="337"/>
                    </a:lnTo>
                    <a:lnTo>
                      <a:pt x="11" y="369"/>
                    </a:lnTo>
                    <a:lnTo>
                      <a:pt x="17" y="400"/>
                    </a:lnTo>
                    <a:lnTo>
                      <a:pt x="26" y="432"/>
                    </a:lnTo>
                    <a:lnTo>
                      <a:pt x="35" y="461"/>
                    </a:lnTo>
                    <a:lnTo>
                      <a:pt x="47" y="492"/>
                    </a:lnTo>
                    <a:lnTo>
                      <a:pt x="59" y="519"/>
                    </a:lnTo>
                    <a:lnTo>
                      <a:pt x="73" y="547"/>
                    </a:lnTo>
                    <a:lnTo>
                      <a:pt x="89" y="575"/>
                    </a:lnTo>
                    <a:lnTo>
                      <a:pt x="107" y="603"/>
                    </a:lnTo>
                    <a:lnTo>
                      <a:pt x="125" y="629"/>
                    </a:lnTo>
                    <a:lnTo>
                      <a:pt x="147" y="655"/>
                    </a:lnTo>
                    <a:lnTo>
                      <a:pt x="169" y="680"/>
                    </a:lnTo>
                    <a:lnTo>
                      <a:pt x="193" y="706"/>
                    </a:lnTo>
                    <a:lnTo>
                      <a:pt x="231" y="741"/>
                    </a:lnTo>
                    <a:lnTo>
                      <a:pt x="271" y="773"/>
                    </a:lnTo>
                    <a:lnTo>
                      <a:pt x="311" y="801"/>
                    </a:lnTo>
                    <a:lnTo>
                      <a:pt x="356" y="827"/>
                    </a:lnTo>
                    <a:lnTo>
                      <a:pt x="399" y="848"/>
                    </a:lnTo>
                    <a:lnTo>
                      <a:pt x="445" y="866"/>
                    </a:lnTo>
                    <a:lnTo>
                      <a:pt x="493" y="880"/>
                    </a:lnTo>
                    <a:lnTo>
                      <a:pt x="544" y="891"/>
                    </a:lnTo>
                    <a:lnTo>
                      <a:pt x="564" y="880"/>
                    </a:lnTo>
                    <a:lnTo>
                      <a:pt x="569" y="876"/>
                    </a:lnTo>
                    <a:lnTo>
                      <a:pt x="574" y="874"/>
                    </a:lnTo>
                    <a:lnTo>
                      <a:pt x="586" y="869"/>
                    </a:lnTo>
                    <a:lnTo>
                      <a:pt x="532" y="860"/>
                    </a:lnTo>
                    <a:lnTo>
                      <a:pt x="481" y="848"/>
                    </a:lnTo>
                    <a:lnTo>
                      <a:pt x="432" y="832"/>
                    </a:lnTo>
                    <a:lnTo>
                      <a:pt x="385" y="812"/>
                    </a:lnTo>
                    <a:lnTo>
                      <a:pt x="339" y="787"/>
                    </a:lnTo>
                    <a:lnTo>
                      <a:pt x="296" y="757"/>
                    </a:lnTo>
                    <a:lnTo>
                      <a:pt x="252" y="723"/>
                    </a:lnTo>
                    <a:lnTo>
                      <a:pt x="213" y="687"/>
                    </a:lnTo>
                    <a:lnTo>
                      <a:pt x="189" y="662"/>
                    </a:lnTo>
                    <a:lnTo>
                      <a:pt x="169" y="638"/>
                    </a:lnTo>
                    <a:lnTo>
                      <a:pt x="148" y="613"/>
                    </a:lnTo>
                    <a:lnTo>
                      <a:pt x="131" y="588"/>
                    </a:lnTo>
                    <a:lnTo>
                      <a:pt x="113" y="561"/>
                    </a:lnTo>
                    <a:lnTo>
                      <a:pt x="98" y="535"/>
                    </a:lnTo>
                    <a:lnTo>
                      <a:pt x="85" y="508"/>
                    </a:lnTo>
                    <a:lnTo>
                      <a:pt x="73" y="482"/>
                    </a:lnTo>
                    <a:lnTo>
                      <a:pt x="61" y="452"/>
                    </a:lnTo>
                    <a:lnTo>
                      <a:pt x="52" y="424"/>
                    </a:lnTo>
                    <a:lnTo>
                      <a:pt x="44" y="393"/>
                    </a:lnTo>
                    <a:lnTo>
                      <a:pt x="38" y="364"/>
                    </a:lnTo>
                    <a:lnTo>
                      <a:pt x="32" y="332"/>
                    </a:lnTo>
                    <a:lnTo>
                      <a:pt x="29" y="301"/>
                    </a:lnTo>
                    <a:lnTo>
                      <a:pt x="27" y="270"/>
                    </a:lnTo>
                    <a:lnTo>
                      <a:pt x="27" y="238"/>
                    </a:lnTo>
                    <a:lnTo>
                      <a:pt x="29" y="173"/>
                    </a:lnTo>
                    <a:lnTo>
                      <a:pt x="37" y="113"/>
                    </a:lnTo>
                    <a:lnTo>
                      <a:pt x="51" y="55"/>
                    </a:lnTo>
                    <a:lnTo>
                      <a:pt x="71" y="0"/>
                    </a:lnTo>
                    <a:lnTo>
                      <a:pt x="31" y="27"/>
                    </a:lnTo>
                    <a:close/>
                  </a:path>
                </a:pathLst>
              </a:custGeom>
              <a:solidFill>
                <a:srgbClr val="1c2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89760" y="4192920"/>
                <a:ext cx="173880" cy="244080"/>
              </a:xfrm>
              <a:custGeom>
                <a:avLst/>
                <a:gdLst/>
                <a:ahLst/>
                <a:rect l="l" t="t" r="r" b="b"/>
                <a:pathLst>
                  <a:path w="608" h="856">
                    <a:moveTo>
                      <a:pt x="83" y="10"/>
                    </a:moveTo>
                    <a:lnTo>
                      <a:pt x="63" y="42"/>
                    </a:lnTo>
                    <a:lnTo>
                      <a:pt x="46" y="76"/>
                    </a:lnTo>
                    <a:lnTo>
                      <a:pt x="31" y="111"/>
                    </a:lnTo>
                    <a:lnTo>
                      <a:pt x="20" y="147"/>
                    </a:lnTo>
                    <a:lnTo>
                      <a:pt x="10" y="184"/>
                    </a:lnTo>
                    <a:lnTo>
                      <a:pt x="4" y="222"/>
                    </a:lnTo>
                    <a:lnTo>
                      <a:pt x="1" y="262"/>
                    </a:lnTo>
                    <a:lnTo>
                      <a:pt x="0" y="304"/>
                    </a:lnTo>
                    <a:lnTo>
                      <a:pt x="0" y="331"/>
                    </a:lnTo>
                    <a:lnTo>
                      <a:pt x="2" y="359"/>
                    </a:lnTo>
                    <a:lnTo>
                      <a:pt x="9" y="414"/>
                    </a:lnTo>
                    <a:lnTo>
                      <a:pt x="13" y="439"/>
                    </a:lnTo>
                    <a:lnTo>
                      <a:pt x="21" y="465"/>
                    </a:lnTo>
                    <a:lnTo>
                      <a:pt x="29" y="490"/>
                    </a:lnTo>
                    <a:lnTo>
                      <a:pt x="39" y="516"/>
                    </a:lnTo>
                    <a:lnTo>
                      <a:pt x="49" y="539"/>
                    </a:lnTo>
                    <a:lnTo>
                      <a:pt x="62" y="562"/>
                    </a:lnTo>
                    <a:lnTo>
                      <a:pt x="74" y="585"/>
                    </a:lnTo>
                    <a:lnTo>
                      <a:pt x="89" y="609"/>
                    </a:lnTo>
                    <a:lnTo>
                      <a:pt x="122" y="652"/>
                    </a:lnTo>
                    <a:lnTo>
                      <a:pt x="140" y="672"/>
                    </a:lnTo>
                    <a:lnTo>
                      <a:pt x="161" y="694"/>
                    </a:lnTo>
                    <a:lnTo>
                      <a:pt x="200" y="730"/>
                    </a:lnTo>
                    <a:lnTo>
                      <a:pt x="244" y="764"/>
                    </a:lnTo>
                    <a:lnTo>
                      <a:pt x="290" y="791"/>
                    </a:lnTo>
                    <a:lnTo>
                      <a:pt x="314" y="804"/>
                    </a:lnTo>
                    <a:lnTo>
                      <a:pt x="339" y="815"/>
                    </a:lnTo>
                    <a:lnTo>
                      <a:pt x="362" y="824"/>
                    </a:lnTo>
                    <a:lnTo>
                      <a:pt x="387" y="832"/>
                    </a:lnTo>
                    <a:lnTo>
                      <a:pt x="440" y="846"/>
                    </a:lnTo>
                    <a:lnTo>
                      <a:pt x="493" y="853"/>
                    </a:lnTo>
                    <a:lnTo>
                      <a:pt x="521" y="855"/>
                    </a:lnTo>
                    <a:lnTo>
                      <a:pt x="551" y="856"/>
                    </a:lnTo>
                    <a:lnTo>
                      <a:pt x="580" y="855"/>
                    </a:lnTo>
                    <a:lnTo>
                      <a:pt x="583" y="852"/>
                    </a:lnTo>
                    <a:lnTo>
                      <a:pt x="608" y="825"/>
                    </a:lnTo>
                    <a:lnTo>
                      <a:pt x="579" y="827"/>
                    </a:lnTo>
                    <a:lnTo>
                      <a:pt x="564" y="827"/>
                    </a:lnTo>
                    <a:lnTo>
                      <a:pt x="551" y="828"/>
                    </a:lnTo>
                    <a:lnTo>
                      <a:pt x="523" y="827"/>
                    </a:lnTo>
                    <a:lnTo>
                      <a:pt x="496" y="824"/>
                    </a:lnTo>
                    <a:lnTo>
                      <a:pt x="445" y="817"/>
                    </a:lnTo>
                    <a:lnTo>
                      <a:pt x="420" y="812"/>
                    </a:lnTo>
                    <a:lnTo>
                      <a:pt x="395" y="805"/>
                    </a:lnTo>
                    <a:lnTo>
                      <a:pt x="349" y="789"/>
                    </a:lnTo>
                    <a:lnTo>
                      <a:pt x="302" y="766"/>
                    </a:lnTo>
                    <a:lnTo>
                      <a:pt x="281" y="754"/>
                    </a:lnTo>
                    <a:lnTo>
                      <a:pt x="260" y="740"/>
                    </a:lnTo>
                    <a:lnTo>
                      <a:pt x="218" y="709"/>
                    </a:lnTo>
                    <a:lnTo>
                      <a:pt x="181" y="675"/>
                    </a:lnTo>
                    <a:lnTo>
                      <a:pt x="162" y="654"/>
                    </a:lnTo>
                    <a:lnTo>
                      <a:pt x="145" y="635"/>
                    </a:lnTo>
                    <a:lnTo>
                      <a:pt x="128" y="613"/>
                    </a:lnTo>
                    <a:lnTo>
                      <a:pt x="113" y="593"/>
                    </a:lnTo>
                    <a:lnTo>
                      <a:pt x="98" y="570"/>
                    </a:lnTo>
                    <a:lnTo>
                      <a:pt x="86" y="549"/>
                    </a:lnTo>
                    <a:lnTo>
                      <a:pt x="74" y="526"/>
                    </a:lnTo>
                    <a:lnTo>
                      <a:pt x="65" y="505"/>
                    </a:lnTo>
                    <a:lnTo>
                      <a:pt x="47" y="457"/>
                    </a:lnTo>
                    <a:lnTo>
                      <a:pt x="40" y="432"/>
                    </a:lnTo>
                    <a:lnTo>
                      <a:pt x="36" y="408"/>
                    </a:lnTo>
                    <a:lnTo>
                      <a:pt x="31" y="382"/>
                    </a:lnTo>
                    <a:lnTo>
                      <a:pt x="29" y="357"/>
                    </a:lnTo>
                    <a:lnTo>
                      <a:pt x="27" y="330"/>
                    </a:lnTo>
                    <a:lnTo>
                      <a:pt x="27" y="304"/>
                    </a:lnTo>
                    <a:lnTo>
                      <a:pt x="28" y="261"/>
                    </a:lnTo>
                    <a:lnTo>
                      <a:pt x="32" y="220"/>
                    </a:lnTo>
                    <a:lnTo>
                      <a:pt x="39" y="179"/>
                    </a:lnTo>
                    <a:lnTo>
                      <a:pt x="51" y="142"/>
                    </a:lnTo>
                    <a:lnTo>
                      <a:pt x="63" y="103"/>
                    </a:lnTo>
                    <a:lnTo>
                      <a:pt x="80" y="68"/>
                    </a:lnTo>
                    <a:lnTo>
                      <a:pt x="99" y="33"/>
                    </a:lnTo>
                    <a:lnTo>
                      <a:pt x="123" y="0"/>
                    </a:lnTo>
                    <a:lnTo>
                      <a:pt x="83" y="10"/>
                    </a:lnTo>
                    <a:close/>
                  </a:path>
                </a:pathLst>
              </a:custGeom>
              <a:solidFill>
                <a:srgbClr val="29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29360" y="4190760"/>
                <a:ext cx="162360" cy="206640"/>
              </a:xfrm>
              <a:custGeom>
                <a:avLst/>
                <a:gdLst/>
                <a:ahLst/>
                <a:rect l="l" t="t" r="r" b="b"/>
                <a:pathLst>
                  <a:path w="568" h="725">
                    <a:moveTo>
                      <a:pt x="140" y="38"/>
                    </a:moveTo>
                    <a:lnTo>
                      <a:pt x="178" y="5"/>
                    </a:lnTo>
                    <a:lnTo>
                      <a:pt x="159" y="1"/>
                    </a:lnTo>
                    <a:lnTo>
                      <a:pt x="140" y="0"/>
                    </a:lnTo>
                    <a:lnTo>
                      <a:pt x="120" y="18"/>
                    </a:lnTo>
                    <a:lnTo>
                      <a:pt x="91" y="48"/>
                    </a:lnTo>
                    <a:lnTo>
                      <a:pt x="67" y="81"/>
                    </a:lnTo>
                    <a:lnTo>
                      <a:pt x="45" y="115"/>
                    </a:lnTo>
                    <a:lnTo>
                      <a:pt x="29" y="151"/>
                    </a:lnTo>
                    <a:lnTo>
                      <a:pt x="16" y="187"/>
                    </a:lnTo>
                    <a:lnTo>
                      <a:pt x="7" y="227"/>
                    </a:lnTo>
                    <a:lnTo>
                      <a:pt x="1" y="268"/>
                    </a:lnTo>
                    <a:lnTo>
                      <a:pt x="0" y="311"/>
                    </a:lnTo>
                    <a:lnTo>
                      <a:pt x="1" y="352"/>
                    </a:lnTo>
                    <a:lnTo>
                      <a:pt x="7" y="393"/>
                    </a:lnTo>
                    <a:lnTo>
                      <a:pt x="16" y="431"/>
                    </a:lnTo>
                    <a:lnTo>
                      <a:pt x="21" y="449"/>
                    </a:lnTo>
                    <a:lnTo>
                      <a:pt x="29" y="468"/>
                    </a:lnTo>
                    <a:lnTo>
                      <a:pt x="36" y="485"/>
                    </a:lnTo>
                    <a:lnTo>
                      <a:pt x="45" y="504"/>
                    </a:lnTo>
                    <a:lnTo>
                      <a:pt x="67" y="539"/>
                    </a:lnTo>
                    <a:lnTo>
                      <a:pt x="91" y="572"/>
                    </a:lnTo>
                    <a:lnTo>
                      <a:pt x="120" y="603"/>
                    </a:lnTo>
                    <a:lnTo>
                      <a:pt x="150" y="631"/>
                    </a:lnTo>
                    <a:lnTo>
                      <a:pt x="182" y="656"/>
                    </a:lnTo>
                    <a:lnTo>
                      <a:pt x="216" y="676"/>
                    </a:lnTo>
                    <a:lnTo>
                      <a:pt x="253" y="694"/>
                    </a:lnTo>
                    <a:lnTo>
                      <a:pt x="289" y="707"/>
                    </a:lnTo>
                    <a:lnTo>
                      <a:pt x="329" y="717"/>
                    </a:lnTo>
                    <a:lnTo>
                      <a:pt x="370" y="722"/>
                    </a:lnTo>
                    <a:lnTo>
                      <a:pt x="413" y="725"/>
                    </a:lnTo>
                    <a:lnTo>
                      <a:pt x="449" y="722"/>
                    </a:lnTo>
                    <a:lnTo>
                      <a:pt x="485" y="719"/>
                    </a:lnTo>
                    <a:lnTo>
                      <a:pt x="502" y="715"/>
                    </a:lnTo>
                    <a:lnTo>
                      <a:pt x="520" y="711"/>
                    </a:lnTo>
                    <a:lnTo>
                      <a:pt x="554" y="702"/>
                    </a:lnTo>
                    <a:lnTo>
                      <a:pt x="568" y="667"/>
                    </a:lnTo>
                    <a:lnTo>
                      <a:pt x="558" y="669"/>
                    </a:lnTo>
                    <a:lnTo>
                      <a:pt x="549" y="673"/>
                    </a:lnTo>
                    <a:lnTo>
                      <a:pt x="531" y="679"/>
                    </a:lnTo>
                    <a:lnTo>
                      <a:pt x="511" y="684"/>
                    </a:lnTo>
                    <a:lnTo>
                      <a:pt x="493" y="690"/>
                    </a:lnTo>
                    <a:lnTo>
                      <a:pt x="473" y="692"/>
                    </a:lnTo>
                    <a:lnTo>
                      <a:pt x="467" y="692"/>
                    </a:lnTo>
                    <a:lnTo>
                      <a:pt x="463" y="693"/>
                    </a:lnTo>
                    <a:lnTo>
                      <a:pt x="453" y="695"/>
                    </a:lnTo>
                    <a:lnTo>
                      <a:pt x="413" y="698"/>
                    </a:lnTo>
                    <a:lnTo>
                      <a:pt x="372" y="695"/>
                    </a:lnTo>
                    <a:lnTo>
                      <a:pt x="334" y="690"/>
                    </a:lnTo>
                    <a:lnTo>
                      <a:pt x="298" y="681"/>
                    </a:lnTo>
                    <a:lnTo>
                      <a:pt x="264" y="669"/>
                    </a:lnTo>
                    <a:lnTo>
                      <a:pt x="230" y="652"/>
                    </a:lnTo>
                    <a:lnTo>
                      <a:pt x="198" y="633"/>
                    </a:lnTo>
                    <a:lnTo>
                      <a:pt x="168" y="610"/>
                    </a:lnTo>
                    <a:lnTo>
                      <a:pt x="140" y="584"/>
                    </a:lnTo>
                    <a:lnTo>
                      <a:pt x="113" y="555"/>
                    </a:lnTo>
                    <a:lnTo>
                      <a:pt x="101" y="539"/>
                    </a:lnTo>
                    <a:lnTo>
                      <a:pt x="91" y="524"/>
                    </a:lnTo>
                    <a:lnTo>
                      <a:pt x="79" y="507"/>
                    </a:lnTo>
                    <a:lnTo>
                      <a:pt x="70" y="491"/>
                    </a:lnTo>
                    <a:lnTo>
                      <a:pt x="55" y="458"/>
                    </a:lnTo>
                    <a:lnTo>
                      <a:pt x="48" y="440"/>
                    </a:lnTo>
                    <a:lnTo>
                      <a:pt x="42" y="423"/>
                    </a:lnTo>
                    <a:lnTo>
                      <a:pt x="34" y="387"/>
                    </a:lnTo>
                    <a:lnTo>
                      <a:pt x="28" y="349"/>
                    </a:lnTo>
                    <a:lnTo>
                      <a:pt x="27" y="311"/>
                    </a:lnTo>
                    <a:lnTo>
                      <a:pt x="28" y="270"/>
                    </a:lnTo>
                    <a:lnTo>
                      <a:pt x="34" y="233"/>
                    </a:lnTo>
                    <a:lnTo>
                      <a:pt x="42" y="196"/>
                    </a:lnTo>
                    <a:lnTo>
                      <a:pt x="55" y="162"/>
                    </a:lnTo>
                    <a:lnTo>
                      <a:pt x="70" y="128"/>
                    </a:lnTo>
                    <a:lnTo>
                      <a:pt x="91" y="97"/>
                    </a:lnTo>
                    <a:lnTo>
                      <a:pt x="113" y="66"/>
                    </a:lnTo>
                    <a:lnTo>
                      <a:pt x="140" y="38"/>
                    </a:lnTo>
                    <a:close/>
                  </a:path>
                </a:pathLst>
              </a:custGeom>
              <a:solidFill>
                <a:srgbClr val="39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37280" y="4191840"/>
                <a:ext cx="157320" cy="198000"/>
              </a:xfrm>
              <a:custGeom>
                <a:avLst/>
                <a:gdLst/>
                <a:ahLst/>
                <a:rect l="l" t="t" r="r" b="b"/>
                <a:pathLst>
                  <a:path w="551" h="693">
                    <a:moveTo>
                      <a:pt x="151" y="0"/>
                    </a:moveTo>
                    <a:lnTo>
                      <a:pt x="113" y="33"/>
                    </a:lnTo>
                    <a:lnTo>
                      <a:pt x="86" y="61"/>
                    </a:lnTo>
                    <a:lnTo>
                      <a:pt x="64" y="92"/>
                    </a:lnTo>
                    <a:lnTo>
                      <a:pt x="43" y="123"/>
                    </a:lnTo>
                    <a:lnTo>
                      <a:pt x="28" y="157"/>
                    </a:lnTo>
                    <a:lnTo>
                      <a:pt x="15" y="191"/>
                    </a:lnTo>
                    <a:lnTo>
                      <a:pt x="7" y="228"/>
                    </a:lnTo>
                    <a:lnTo>
                      <a:pt x="1" y="265"/>
                    </a:lnTo>
                    <a:lnTo>
                      <a:pt x="0" y="306"/>
                    </a:lnTo>
                    <a:lnTo>
                      <a:pt x="1" y="344"/>
                    </a:lnTo>
                    <a:lnTo>
                      <a:pt x="7" y="382"/>
                    </a:lnTo>
                    <a:lnTo>
                      <a:pt x="15" y="418"/>
                    </a:lnTo>
                    <a:lnTo>
                      <a:pt x="21" y="435"/>
                    </a:lnTo>
                    <a:lnTo>
                      <a:pt x="28" y="453"/>
                    </a:lnTo>
                    <a:lnTo>
                      <a:pt x="43" y="486"/>
                    </a:lnTo>
                    <a:lnTo>
                      <a:pt x="52" y="502"/>
                    </a:lnTo>
                    <a:lnTo>
                      <a:pt x="64" y="519"/>
                    </a:lnTo>
                    <a:lnTo>
                      <a:pt x="74" y="534"/>
                    </a:lnTo>
                    <a:lnTo>
                      <a:pt x="86" y="550"/>
                    </a:lnTo>
                    <a:lnTo>
                      <a:pt x="113" y="579"/>
                    </a:lnTo>
                    <a:lnTo>
                      <a:pt x="141" y="605"/>
                    </a:lnTo>
                    <a:lnTo>
                      <a:pt x="171" y="628"/>
                    </a:lnTo>
                    <a:lnTo>
                      <a:pt x="203" y="647"/>
                    </a:lnTo>
                    <a:lnTo>
                      <a:pt x="237" y="664"/>
                    </a:lnTo>
                    <a:lnTo>
                      <a:pt x="271" y="676"/>
                    </a:lnTo>
                    <a:lnTo>
                      <a:pt x="307" y="685"/>
                    </a:lnTo>
                    <a:lnTo>
                      <a:pt x="345" y="690"/>
                    </a:lnTo>
                    <a:lnTo>
                      <a:pt x="386" y="693"/>
                    </a:lnTo>
                    <a:lnTo>
                      <a:pt x="426" y="690"/>
                    </a:lnTo>
                    <a:lnTo>
                      <a:pt x="436" y="688"/>
                    </a:lnTo>
                    <a:lnTo>
                      <a:pt x="440" y="687"/>
                    </a:lnTo>
                    <a:lnTo>
                      <a:pt x="446" y="687"/>
                    </a:lnTo>
                    <a:lnTo>
                      <a:pt x="466" y="685"/>
                    </a:lnTo>
                    <a:lnTo>
                      <a:pt x="484" y="679"/>
                    </a:lnTo>
                    <a:lnTo>
                      <a:pt x="504" y="674"/>
                    </a:lnTo>
                    <a:lnTo>
                      <a:pt x="522" y="668"/>
                    </a:lnTo>
                    <a:lnTo>
                      <a:pt x="531" y="664"/>
                    </a:lnTo>
                    <a:lnTo>
                      <a:pt x="541" y="662"/>
                    </a:lnTo>
                    <a:lnTo>
                      <a:pt x="551" y="626"/>
                    </a:lnTo>
                    <a:lnTo>
                      <a:pt x="531" y="634"/>
                    </a:lnTo>
                    <a:lnTo>
                      <a:pt x="527" y="634"/>
                    </a:lnTo>
                    <a:lnTo>
                      <a:pt x="525" y="635"/>
                    </a:lnTo>
                    <a:lnTo>
                      <a:pt x="521" y="637"/>
                    </a:lnTo>
                    <a:lnTo>
                      <a:pt x="511" y="641"/>
                    </a:lnTo>
                    <a:lnTo>
                      <a:pt x="491" y="648"/>
                    </a:lnTo>
                    <a:lnTo>
                      <a:pt x="481" y="651"/>
                    </a:lnTo>
                    <a:lnTo>
                      <a:pt x="472" y="654"/>
                    </a:lnTo>
                    <a:lnTo>
                      <a:pt x="460" y="655"/>
                    </a:lnTo>
                    <a:lnTo>
                      <a:pt x="450" y="657"/>
                    </a:lnTo>
                    <a:lnTo>
                      <a:pt x="430" y="661"/>
                    </a:lnTo>
                    <a:lnTo>
                      <a:pt x="407" y="663"/>
                    </a:lnTo>
                    <a:lnTo>
                      <a:pt x="396" y="663"/>
                    </a:lnTo>
                    <a:lnTo>
                      <a:pt x="390" y="663"/>
                    </a:lnTo>
                    <a:lnTo>
                      <a:pt x="386" y="664"/>
                    </a:lnTo>
                    <a:lnTo>
                      <a:pt x="348" y="662"/>
                    </a:lnTo>
                    <a:lnTo>
                      <a:pt x="313" y="657"/>
                    </a:lnTo>
                    <a:lnTo>
                      <a:pt x="279" y="648"/>
                    </a:lnTo>
                    <a:lnTo>
                      <a:pt x="247" y="638"/>
                    </a:lnTo>
                    <a:lnTo>
                      <a:pt x="216" y="622"/>
                    </a:lnTo>
                    <a:lnTo>
                      <a:pt x="187" y="605"/>
                    </a:lnTo>
                    <a:lnTo>
                      <a:pt x="159" y="584"/>
                    </a:lnTo>
                    <a:lnTo>
                      <a:pt x="133" y="560"/>
                    </a:lnTo>
                    <a:lnTo>
                      <a:pt x="107" y="532"/>
                    </a:lnTo>
                    <a:lnTo>
                      <a:pt x="85" y="503"/>
                    </a:lnTo>
                    <a:lnTo>
                      <a:pt x="67" y="474"/>
                    </a:lnTo>
                    <a:lnTo>
                      <a:pt x="59" y="458"/>
                    </a:lnTo>
                    <a:lnTo>
                      <a:pt x="53" y="443"/>
                    </a:lnTo>
                    <a:lnTo>
                      <a:pt x="41" y="410"/>
                    </a:lnTo>
                    <a:lnTo>
                      <a:pt x="33" y="376"/>
                    </a:lnTo>
                    <a:lnTo>
                      <a:pt x="30" y="358"/>
                    </a:lnTo>
                    <a:lnTo>
                      <a:pt x="28" y="341"/>
                    </a:lnTo>
                    <a:lnTo>
                      <a:pt x="27" y="306"/>
                    </a:lnTo>
                    <a:lnTo>
                      <a:pt x="28" y="268"/>
                    </a:lnTo>
                    <a:lnTo>
                      <a:pt x="33" y="233"/>
                    </a:lnTo>
                    <a:lnTo>
                      <a:pt x="41" y="199"/>
                    </a:lnTo>
                    <a:lnTo>
                      <a:pt x="53" y="168"/>
                    </a:lnTo>
                    <a:lnTo>
                      <a:pt x="67" y="136"/>
                    </a:lnTo>
                    <a:lnTo>
                      <a:pt x="85" y="107"/>
                    </a:lnTo>
                    <a:lnTo>
                      <a:pt x="107" y="79"/>
                    </a:lnTo>
                    <a:lnTo>
                      <a:pt x="133" y="53"/>
                    </a:lnTo>
                    <a:lnTo>
                      <a:pt x="159" y="28"/>
                    </a:lnTo>
                    <a:lnTo>
                      <a:pt x="187" y="7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3c5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144840" y="4194000"/>
                <a:ext cx="151920" cy="187560"/>
              </a:xfrm>
              <a:custGeom>
                <a:avLst/>
                <a:gdLst/>
                <a:ahLst/>
                <a:rect l="l" t="t" r="r" b="b"/>
                <a:pathLst>
                  <a:path w="532" h="657">
                    <a:moveTo>
                      <a:pt x="160" y="0"/>
                    </a:moveTo>
                    <a:lnTo>
                      <a:pt x="132" y="21"/>
                    </a:lnTo>
                    <a:lnTo>
                      <a:pt x="106" y="46"/>
                    </a:lnTo>
                    <a:lnTo>
                      <a:pt x="80" y="72"/>
                    </a:lnTo>
                    <a:lnTo>
                      <a:pt x="58" y="100"/>
                    </a:lnTo>
                    <a:lnTo>
                      <a:pt x="40" y="129"/>
                    </a:lnTo>
                    <a:lnTo>
                      <a:pt x="26" y="161"/>
                    </a:lnTo>
                    <a:lnTo>
                      <a:pt x="14" y="192"/>
                    </a:lnTo>
                    <a:lnTo>
                      <a:pt x="6" y="226"/>
                    </a:lnTo>
                    <a:lnTo>
                      <a:pt x="1" y="261"/>
                    </a:lnTo>
                    <a:lnTo>
                      <a:pt x="0" y="299"/>
                    </a:lnTo>
                    <a:lnTo>
                      <a:pt x="1" y="334"/>
                    </a:lnTo>
                    <a:lnTo>
                      <a:pt x="3" y="351"/>
                    </a:lnTo>
                    <a:lnTo>
                      <a:pt x="6" y="369"/>
                    </a:lnTo>
                    <a:lnTo>
                      <a:pt x="14" y="403"/>
                    </a:lnTo>
                    <a:lnTo>
                      <a:pt x="26" y="436"/>
                    </a:lnTo>
                    <a:lnTo>
                      <a:pt x="32" y="451"/>
                    </a:lnTo>
                    <a:lnTo>
                      <a:pt x="40" y="467"/>
                    </a:lnTo>
                    <a:lnTo>
                      <a:pt x="58" y="496"/>
                    </a:lnTo>
                    <a:lnTo>
                      <a:pt x="80" y="525"/>
                    </a:lnTo>
                    <a:lnTo>
                      <a:pt x="106" y="553"/>
                    </a:lnTo>
                    <a:lnTo>
                      <a:pt x="132" y="577"/>
                    </a:lnTo>
                    <a:lnTo>
                      <a:pt x="160" y="598"/>
                    </a:lnTo>
                    <a:lnTo>
                      <a:pt x="189" y="615"/>
                    </a:lnTo>
                    <a:lnTo>
                      <a:pt x="220" y="631"/>
                    </a:lnTo>
                    <a:lnTo>
                      <a:pt x="252" y="641"/>
                    </a:lnTo>
                    <a:lnTo>
                      <a:pt x="286" y="650"/>
                    </a:lnTo>
                    <a:lnTo>
                      <a:pt x="321" y="655"/>
                    </a:lnTo>
                    <a:lnTo>
                      <a:pt x="359" y="657"/>
                    </a:lnTo>
                    <a:lnTo>
                      <a:pt x="363" y="656"/>
                    </a:lnTo>
                    <a:lnTo>
                      <a:pt x="369" y="656"/>
                    </a:lnTo>
                    <a:lnTo>
                      <a:pt x="380" y="656"/>
                    </a:lnTo>
                    <a:lnTo>
                      <a:pt x="403" y="654"/>
                    </a:lnTo>
                    <a:lnTo>
                      <a:pt x="423" y="650"/>
                    </a:lnTo>
                    <a:lnTo>
                      <a:pt x="433" y="648"/>
                    </a:lnTo>
                    <a:lnTo>
                      <a:pt x="445" y="647"/>
                    </a:lnTo>
                    <a:lnTo>
                      <a:pt x="454" y="644"/>
                    </a:lnTo>
                    <a:lnTo>
                      <a:pt x="464" y="641"/>
                    </a:lnTo>
                    <a:lnTo>
                      <a:pt x="484" y="634"/>
                    </a:lnTo>
                    <a:lnTo>
                      <a:pt x="494" y="630"/>
                    </a:lnTo>
                    <a:lnTo>
                      <a:pt x="498" y="628"/>
                    </a:lnTo>
                    <a:lnTo>
                      <a:pt x="500" y="627"/>
                    </a:lnTo>
                    <a:lnTo>
                      <a:pt x="504" y="627"/>
                    </a:lnTo>
                    <a:lnTo>
                      <a:pt x="524" y="619"/>
                    </a:lnTo>
                    <a:lnTo>
                      <a:pt x="532" y="582"/>
                    </a:lnTo>
                    <a:lnTo>
                      <a:pt x="512" y="593"/>
                    </a:lnTo>
                    <a:lnTo>
                      <a:pt x="491" y="603"/>
                    </a:lnTo>
                    <a:lnTo>
                      <a:pt x="480" y="606"/>
                    </a:lnTo>
                    <a:lnTo>
                      <a:pt x="470" y="611"/>
                    </a:lnTo>
                    <a:lnTo>
                      <a:pt x="449" y="617"/>
                    </a:lnTo>
                    <a:lnTo>
                      <a:pt x="427" y="622"/>
                    </a:lnTo>
                    <a:lnTo>
                      <a:pt x="405" y="627"/>
                    </a:lnTo>
                    <a:lnTo>
                      <a:pt x="381" y="629"/>
                    </a:lnTo>
                    <a:lnTo>
                      <a:pt x="359" y="630"/>
                    </a:lnTo>
                    <a:lnTo>
                      <a:pt x="325" y="628"/>
                    </a:lnTo>
                    <a:lnTo>
                      <a:pt x="293" y="623"/>
                    </a:lnTo>
                    <a:lnTo>
                      <a:pt x="261" y="615"/>
                    </a:lnTo>
                    <a:lnTo>
                      <a:pt x="232" y="605"/>
                    </a:lnTo>
                    <a:lnTo>
                      <a:pt x="202" y="590"/>
                    </a:lnTo>
                    <a:lnTo>
                      <a:pt x="175" y="574"/>
                    </a:lnTo>
                    <a:lnTo>
                      <a:pt x="149" y="555"/>
                    </a:lnTo>
                    <a:lnTo>
                      <a:pt x="125" y="534"/>
                    </a:lnTo>
                    <a:lnTo>
                      <a:pt x="101" y="508"/>
                    </a:lnTo>
                    <a:lnTo>
                      <a:pt x="82" y="481"/>
                    </a:lnTo>
                    <a:lnTo>
                      <a:pt x="65" y="454"/>
                    </a:lnTo>
                    <a:lnTo>
                      <a:pt x="57" y="439"/>
                    </a:lnTo>
                    <a:lnTo>
                      <a:pt x="51" y="426"/>
                    </a:lnTo>
                    <a:lnTo>
                      <a:pt x="45" y="410"/>
                    </a:lnTo>
                    <a:lnTo>
                      <a:pt x="40" y="395"/>
                    </a:lnTo>
                    <a:lnTo>
                      <a:pt x="35" y="379"/>
                    </a:lnTo>
                    <a:lnTo>
                      <a:pt x="33" y="365"/>
                    </a:lnTo>
                    <a:lnTo>
                      <a:pt x="30" y="348"/>
                    </a:lnTo>
                    <a:lnTo>
                      <a:pt x="29" y="332"/>
                    </a:lnTo>
                    <a:lnTo>
                      <a:pt x="28" y="299"/>
                    </a:lnTo>
                    <a:lnTo>
                      <a:pt x="29" y="265"/>
                    </a:lnTo>
                    <a:lnTo>
                      <a:pt x="33" y="233"/>
                    </a:lnTo>
                    <a:lnTo>
                      <a:pt x="40" y="201"/>
                    </a:lnTo>
                    <a:lnTo>
                      <a:pt x="51" y="172"/>
                    </a:lnTo>
                    <a:lnTo>
                      <a:pt x="65" y="142"/>
                    </a:lnTo>
                    <a:lnTo>
                      <a:pt x="82" y="115"/>
                    </a:lnTo>
                    <a:lnTo>
                      <a:pt x="101" y="89"/>
                    </a:lnTo>
                    <a:lnTo>
                      <a:pt x="125" y="65"/>
                    </a:lnTo>
                    <a:lnTo>
                      <a:pt x="141" y="48"/>
                    </a:lnTo>
                    <a:lnTo>
                      <a:pt x="159" y="35"/>
                    </a:lnTo>
                    <a:lnTo>
                      <a:pt x="196" y="11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3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152760" y="4196880"/>
                <a:ext cx="145080" cy="176760"/>
              </a:xfrm>
              <a:custGeom>
                <a:avLst/>
                <a:gdLst/>
                <a:ahLst/>
                <a:rect l="l" t="t" r="r" b="b"/>
                <a:pathLst>
                  <a:path w="509" h="619">
                    <a:moveTo>
                      <a:pt x="116" y="74"/>
                    </a:moveTo>
                    <a:lnTo>
                      <a:pt x="136" y="54"/>
                    </a:lnTo>
                    <a:lnTo>
                      <a:pt x="157" y="37"/>
                    </a:lnTo>
                    <a:lnTo>
                      <a:pt x="179" y="23"/>
                    </a:lnTo>
                    <a:lnTo>
                      <a:pt x="202" y="12"/>
                    </a:lnTo>
                    <a:lnTo>
                      <a:pt x="168" y="0"/>
                    </a:lnTo>
                    <a:lnTo>
                      <a:pt x="131" y="24"/>
                    </a:lnTo>
                    <a:lnTo>
                      <a:pt x="113" y="37"/>
                    </a:lnTo>
                    <a:lnTo>
                      <a:pt x="97" y="54"/>
                    </a:lnTo>
                    <a:lnTo>
                      <a:pt x="73" y="78"/>
                    </a:lnTo>
                    <a:lnTo>
                      <a:pt x="54" y="104"/>
                    </a:lnTo>
                    <a:lnTo>
                      <a:pt x="37" y="131"/>
                    </a:lnTo>
                    <a:lnTo>
                      <a:pt x="23" y="161"/>
                    </a:lnTo>
                    <a:lnTo>
                      <a:pt x="12" y="190"/>
                    </a:lnTo>
                    <a:lnTo>
                      <a:pt x="5" y="222"/>
                    </a:lnTo>
                    <a:lnTo>
                      <a:pt x="1" y="254"/>
                    </a:lnTo>
                    <a:lnTo>
                      <a:pt x="0" y="288"/>
                    </a:lnTo>
                    <a:lnTo>
                      <a:pt x="1" y="321"/>
                    </a:lnTo>
                    <a:lnTo>
                      <a:pt x="2" y="337"/>
                    </a:lnTo>
                    <a:lnTo>
                      <a:pt x="5" y="354"/>
                    </a:lnTo>
                    <a:lnTo>
                      <a:pt x="7" y="368"/>
                    </a:lnTo>
                    <a:lnTo>
                      <a:pt x="12" y="384"/>
                    </a:lnTo>
                    <a:lnTo>
                      <a:pt x="17" y="399"/>
                    </a:lnTo>
                    <a:lnTo>
                      <a:pt x="23" y="415"/>
                    </a:lnTo>
                    <a:lnTo>
                      <a:pt x="29" y="428"/>
                    </a:lnTo>
                    <a:lnTo>
                      <a:pt x="37" y="443"/>
                    </a:lnTo>
                    <a:lnTo>
                      <a:pt x="54" y="470"/>
                    </a:lnTo>
                    <a:lnTo>
                      <a:pt x="73" y="497"/>
                    </a:lnTo>
                    <a:lnTo>
                      <a:pt x="97" y="523"/>
                    </a:lnTo>
                    <a:lnTo>
                      <a:pt x="121" y="544"/>
                    </a:lnTo>
                    <a:lnTo>
                      <a:pt x="147" y="563"/>
                    </a:lnTo>
                    <a:lnTo>
                      <a:pt x="174" y="579"/>
                    </a:lnTo>
                    <a:lnTo>
                      <a:pt x="204" y="594"/>
                    </a:lnTo>
                    <a:lnTo>
                      <a:pt x="233" y="604"/>
                    </a:lnTo>
                    <a:lnTo>
                      <a:pt x="265" y="612"/>
                    </a:lnTo>
                    <a:lnTo>
                      <a:pt x="297" y="617"/>
                    </a:lnTo>
                    <a:lnTo>
                      <a:pt x="331" y="619"/>
                    </a:lnTo>
                    <a:lnTo>
                      <a:pt x="353" y="618"/>
                    </a:lnTo>
                    <a:lnTo>
                      <a:pt x="377" y="616"/>
                    </a:lnTo>
                    <a:lnTo>
                      <a:pt x="399" y="611"/>
                    </a:lnTo>
                    <a:lnTo>
                      <a:pt x="421" y="606"/>
                    </a:lnTo>
                    <a:lnTo>
                      <a:pt x="442" y="600"/>
                    </a:lnTo>
                    <a:lnTo>
                      <a:pt x="452" y="595"/>
                    </a:lnTo>
                    <a:lnTo>
                      <a:pt x="463" y="592"/>
                    </a:lnTo>
                    <a:lnTo>
                      <a:pt x="484" y="582"/>
                    </a:lnTo>
                    <a:lnTo>
                      <a:pt x="504" y="571"/>
                    </a:lnTo>
                    <a:lnTo>
                      <a:pt x="509" y="535"/>
                    </a:lnTo>
                    <a:lnTo>
                      <a:pt x="488" y="548"/>
                    </a:lnTo>
                    <a:lnTo>
                      <a:pt x="468" y="559"/>
                    </a:lnTo>
                    <a:lnTo>
                      <a:pt x="456" y="563"/>
                    </a:lnTo>
                    <a:lnTo>
                      <a:pt x="451" y="566"/>
                    </a:lnTo>
                    <a:lnTo>
                      <a:pt x="446" y="569"/>
                    </a:lnTo>
                    <a:lnTo>
                      <a:pt x="435" y="572"/>
                    </a:lnTo>
                    <a:lnTo>
                      <a:pt x="425" y="577"/>
                    </a:lnTo>
                    <a:lnTo>
                      <a:pt x="412" y="579"/>
                    </a:lnTo>
                    <a:lnTo>
                      <a:pt x="401" y="583"/>
                    </a:lnTo>
                    <a:lnTo>
                      <a:pt x="378" y="587"/>
                    </a:lnTo>
                    <a:lnTo>
                      <a:pt x="371" y="587"/>
                    </a:lnTo>
                    <a:lnTo>
                      <a:pt x="368" y="587"/>
                    </a:lnTo>
                    <a:lnTo>
                      <a:pt x="366" y="588"/>
                    </a:lnTo>
                    <a:lnTo>
                      <a:pt x="354" y="591"/>
                    </a:lnTo>
                    <a:lnTo>
                      <a:pt x="342" y="591"/>
                    </a:lnTo>
                    <a:lnTo>
                      <a:pt x="331" y="592"/>
                    </a:lnTo>
                    <a:lnTo>
                      <a:pt x="299" y="589"/>
                    </a:lnTo>
                    <a:lnTo>
                      <a:pt x="269" y="586"/>
                    </a:lnTo>
                    <a:lnTo>
                      <a:pt x="240" y="578"/>
                    </a:lnTo>
                    <a:lnTo>
                      <a:pt x="214" y="569"/>
                    </a:lnTo>
                    <a:lnTo>
                      <a:pt x="187" y="555"/>
                    </a:lnTo>
                    <a:lnTo>
                      <a:pt x="162" y="541"/>
                    </a:lnTo>
                    <a:lnTo>
                      <a:pt x="138" y="521"/>
                    </a:lnTo>
                    <a:lnTo>
                      <a:pt x="116" y="502"/>
                    </a:lnTo>
                    <a:lnTo>
                      <a:pt x="95" y="478"/>
                    </a:lnTo>
                    <a:lnTo>
                      <a:pt x="85" y="466"/>
                    </a:lnTo>
                    <a:lnTo>
                      <a:pt x="77" y="455"/>
                    </a:lnTo>
                    <a:lnTo>
                      <a:pt x="62" y="430"/>
                    </a:lnTo>
                    <a:lnTo>
                      <a:pt x="49" y="404"/>
                    </a:lnTo>
                    <a:lnTo>
                      <a:pt x="39" y="375"/>
                    </a:lnTo>
                    <a:lnTo>
                      <a:pt x="35" y="360"/>
                    </a:lnTo>
                    <a:lnTo>
                      <a:pt x="32" y="347"/>
                    </a:lnTo>
                    <a:lnTo>
                      <a:pt x="29" y="317"/>
                    </a:lnTo>
                    <a:lnTo>
                      <a:pt x="28" y="288"/>
                    </a:lnTo>
                    <a:lnTo>
                      <a:pt x="29" y="256"/>
                    </a:lnTo>
                    <a:lnTo>
                      <a:pt x="32" y="227"/>
                    </a:lnTo>
                    <a:lnTo>
                      <a:pt x="39" y="197"/>
                    </a:lnTo>
                    <a:lnTo>
                      <a:pt x="49" y="171"/>
                    </a:lnTo>
                    <a:lnTo>
                      <a:pt x="62" y="144"/>
                    </a:lnTo>
                    <a:lnTo>
                      <a:pt x="77" y="119"/>
                    </a:lnTo>
                    <a:lnTo>
                      <a:pt x="95" y="95"/>
                    </a:lnTo>
                    <a:lnTo>
                      <a:pt x="116" y="74"/>
                    </a:lnTo>
                    <a:close/>
                  </a:path>
                </a:pathLst>
              </a:custGeom>
              <a:solidFill>
                <a:srgbClr val="42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60680" y="4200840"/>
                <a:ext cx="138240" cy="164880"/>
              </a:xfrm>
              <a:custGeom>
                <a:avLst/>
                <a:gdLst/>
                <a:ahLst/>
                <a:rect l="l" t="t" r="r" b="b"/>
                <a:pathLst>
                  <a:path w="484" h="580">
                    <a:moveTo>
                      <a:pt x="174" y="0"/>
                    </a:moveTo>
                    <a:lnTo>
                      <a:pt x="151" y="11"/>
                    </a:lnTo>
                    <a:lnTo>
                      <a:pt x="129" y="25"/>
                    </a:lnTo>
                    <a:lnTo>
                      <a:pt x="108" y="42"/>
                    </a:lnTo>
                    <a:lnTo>
                      <a:pt x="88" y="62"/>
                    </a:lnTo>
                    <a:lnTo>
                      <a:pt x="67" y="83"/>
                    </a:lnTo>
                    <a:lnTo>
                      <a:pt x="49" y="107"/>
                    </a:lnTo>
                    <a:lnTo>
                      <a:pt x="34" y="132"/>
                    </a:lnTo>
                    <a:lnTo>
                      <a:pt x="21" y="159"/>
                    </a:lnTo>
                    <a:lnTo>
                      <a:pt x="11" y="185"/>
                    </a:lnTo>
                    <a:lnTo>
                      <a:pt x="4" y="215"/>
                    </a:lnTo>
                    <a:lnTo>
                      <a:pt x="1" y="244"/>
                    </a:lnTo>
                    <a:lnTo>
                      <a:pt x="0" y="276"/>
                    </a:lnTo>
                    <a:lnTo>
                      <a:pt x="1" y="305"/>
                    </a:lnTo>
                    <a:lnTo>
                      <a:pt x="4" y="335"/>
                    </a:lnTo>
                    <a:lnTo>
                      <a:pt x="7" y="348"/>
                    </a:lnTo>
                    <a:lnTo>
                      <a:pt x="11" y="363"/>
                    </a:lnTo>
                    <a:lnTo>
                      <a:pt x="21" y="392"/>
                    </a:lnTo>
                    <a:lnTo>
                      <a:pt x="34" y="418"/>
                    </a:lnTo>
                    <a:lnTo>
                      <a:pt x="49" y="443"/>
                    </a:lnTo>
                    <a:lnTo>
                      <a:pt x="57" y="454"/>
                    </a:lnTo>
                    <a:lnTo>
                      <a:pt x="67" y="466"/>
                    </a:lnTo>
                    <a:lnTo>
                      <a:pt x="88" y="490"/>
                    </a:lnTo>
                    <a:lnTo>
                      <a:pt x="110" y="509"/>
                    </a:lnTo>
                    <a:lnTo>
                      <a:pt x="134" y="529"/>
                    </a:lnTo>
                    <a:lnTo>
                      <a:pt x="159" y="543"/>
                    </a:lnTo>
                    <a:lnTo>
                      <a:pt x="186" y="557"/>
                    </a:lnTo>
                    <a:lnTo>
                      <a:pt x="212" y="566"/>
                    </a:lnTo>
                    <a:lnTo>
                      <a:pt x="241" y="574"/>
                    </a:lnTo>
                    <a:lnTo>
                      <a:pt x="271" y="577"/>
                    </a:lnTo>
                    <a:lnTo>
                      <a:pt x="303" y="580"/>
                    </a:lnTo>
                    <a:lnTo>
                      <a:pt x="314" y="579"/>
                    </a:lnTo>
                    <a:lnTo>
                      <a:pt x="326" y="579"/>
                    </a:lnTo>
                    <a:lnTo>
                      <a:pt x="338" y="576"/>
                    </a:lnTo>
                    <a:lnTo>
                      <a:pt x="340" y="575"/>
                    </a:lnTo>
                    <a:lnTo>
                      <a:pt x="343" y="575"/>
                    </a:lnTo>
                    <a:lnTo>
                      <a:pt x="350" y="575"/>
                    </a:lnTo>
                    <a:lnTo>
                      <a:pt x="373" y="571"/>
                    </a:lnTo>
                    <a:lnTo>
                      <a:pt x="384" y="567"/>
                    </a:lnTo>
                    <a:lnTo>
                      <a:pt x="397" y="565"/>
                    </a:lnTo>
                    <a:lnTo>
                      <a:pt x="407" y="560"/>
                    </a:lnTo>
                    <a:lnTo>
                      <a:pt x="418" y="557"/>
                    </a:lnTo>
                    <a:lnTo>
                      <a:pt x="423" y="554"/>
                    </a:lnTo>
                    <a:lnTo>
                      <a:pt x="428" y="551"/>
                    </a:lnTo>
                    <a:lnTo>
                      <a:pt x="440" y="547"/>
                    </a:lnTo>
                    <a:lnTo>
                      <a:pt x="460" y="536"/>
                    </a:lnTo>
                    <a:lnTo>
                      <a:pt x="481" y="523"/>
                    </a:lnTo>
                    <a:lnTo>
                      <a:pt x="484" y="486"/>
                    </a:lnTo>
                    <a:lnTo>
                      <a:pt x="464" y="500"/>
                    </a:lnTo>
                    <a:lnTo>
                      <a:pt x="443" y="514"/>
                    </a:lnTo>
                    <a:lnTo>
                      <a:pt x="422" y="525"/>
                    </a:lnTo>
                    <a:lnTo>
                      <a:pt x="410" y="530"/>
                    </a:lnTo>
                    <a:lnTo>
                      <a:pt x="405" y="532"/>
                    </a:lnTo>
                    <a:lnTo>
                      <a:pt x="400" y="536"/>
                    </a:lnTo>
                    <a:lnTo>
                      <a:pt x="376" y="542"/>
                    </a:lnTo>
                    <a:lnTo>
                      <a:pt x="364" y="545"/>
                    </a:lnTo>
                    <a:lnTo>
                      <a:pt x="353" y="548"/>
                    </a:lnTo>
                    <a:lnTo>
                      <a:pt x="328" y="551"/>
                    </a:lnTo>
                    <a:lnTo>
                      <a:pt x="303" y="553"/>
                    </a:lnTo>
                    <a:lnTo>
                      <a:pt x="274" y="550"/>
                    </a:lnTo>
                    <a:lnTo>
                      <a:pt x="247" y="547"/>
                    </a:lnTo>
                    <a:lnTo>
                      <a:pt x="221" y="540"/>
                    </a:lnTo>
                    <a:lnTo>
                      <a:pt x="197" y="532"/>
                    </a:lnTo>
                    <a:lnTo>
                      <a:pt x="172" y="520"/>
                    </a:lnTo>
                    <a:lnTo>
                      <a:pt x="150" y="506"/>
                    </a:lnTo>
                    <a:lnTo>
                      <a:pt x="128" y="489"/>
                    </a:lnTo>
                    <a:lnTo>
                      <a:pt x="108" y="471"/>
                    </a:lnTo>
                    <a:lnTo>
                      <a:pt x="88" y="449"/>
                    </a:lnTo>
                    <a:lnTo>
                      <a:pt x="71" y="428"/>
                    </a:lnTo>
                    <a:lnTo>
                      <a:pt x="57" y="404"/>
                    </a:lnTo>
                    <a:lnTo>
                      <a:pt x="46" y="381"/>
                    </a:lnTo>
                    <a:lnTo>
                      <a:pt x="41" y="368"/>
                    </a:lnTo>
                    <a:lnTo>
                      <a:pt x="37" y="355"/>
                    </a:lnTo>
                    <a:lnTo>
                      <a:pt x="32" y="330"/>
                    </a:lnTo>
                    <a:lnTo>
                      <a:pt x="28" y="303"/>
                    </a:lnTo>
                    <a:lnTo>
                      <a:pt x="27" y="276"/>
                    </a:lnTo>
                    <a:lnTo>
                      <a:pt x="28" y="248"/>
                    </a:lnTo>
                    <a:lnTo>
                      <a:pt x="32" y="220"/>
                    </a:lnTo>
                    <a:lnTo>
                      <a:pt x="37" y="194"/>
                    </a:lnTo>
                    <a:lnTo>
                      <a:pt x="46" y="170"/>
                    </a:lnTo>
                    <a:lnTo>
                      <a:pt x="57" y="146"/>
                    </a:lnTo>
                    <a:lnTo>
                      <a:pt x="71" y="123"/>
                    </a:lnTo>
                    <a:lnTo>
                      <a:pt x="88" y="101"/>
                    </a:lnTo>
                    <a:lnTo>
                      <a:pt x="108" y="81"/>
                    </a:lnTo>
                    <a:lnTo>
                      <a:pt x="130" y="59"/>
                    </a:lnTo>
                    <a:lnTo>
                      <a:pt x="155" y="41"/>
                    </a:lnTo>
                    <a:lnTo>
                      <a:pt x="180" y="26"/>
                    </a:lnTo>
                    <a:lnTo>
                      <a:pt x="209" y="16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46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097320" y="4191120"/>
                <a:ext cx="173880" cy="237240"/>
              </a:xfrm>
              <a:custGeom>
                <a:avLst/>
                <a:gdLst/>
                <a:ahLst/>
                <a:rect l="l" t="t" r="r" b="b"/>
                <a:pathLst>
                  <a:path w="606" h="834">
                    <a:moveTo>
                      <a:pt x="136" y="0"/>
                    </a:moveTo>
                    <a:lnTo>
                      <a:pt x="96" y="6"/>
                    </a:lnTo>
                    <a:lnTo>
                      <a:pt x="72" y="39"/>
                    </a:lnTo>
                    <a:lnTo>
                      <a:pt x="53" y="74"/>
                    </a:lnTo>
                    <a:lnTo>
                      <a:pt x="36" y="109"/>
                    </a:lnTo>
                    <a:lnTo>
                      <a:pt x="24" y="148"/>
                    </a:lnTo>
                    <a:lnTo>
                      <a:pt x="12" y="185"/>
                    </a:lnTo>
                    <a:lnTo>
                      <a:pt x="5" y="226"/>
                    </a:lnTo>
                    <a:lnTo>
                      <a:pt x="1" y="267"/>
                    </a:lnTo>
                    <a:lnTo>
                      <a:pt x="0" y="310"/>
                    </a:lnTo>
                    <a:lnTo>
                      <a:pt x="0" y="336"/>
                    </a:lnTo>
                    <a:lnTo>
                      <a:pt x="2" y="363"/>
                    </a:lnTo>
                    <a:lnTo>
                      <a:pt x="4" y="388"/>
                    </a:lnTo>
                    <a:lnTo>
                      <a:pt x="9" y="414"/>
                    </a:lnTo>
                    <a:lnTo>
                      <a:pt x="13" y="438"/>
                    </a:lnTo>
                    <a:lnTo>
                      <a:pt x="20" y="463"/>
                    </a:lnTo>
                    <a:lnTo>
                      <a:pt x="38" y="511"/>
                    </a:lnTo>
                    <a:lnTo>
                      <a:pt x="47" y="532"/>
                    </a:lnTo>
                    <a:lnTo>
                      <a:pt x="59" y="555"/>
                    </a:lnTo>
                    <a:lnTo>
                      <a:pt x="71" y="576"/>
                    </a:lnTo>
                    <a:lnTo>
                      <a:pt x="86" y="599"/>
                    </a:lnTo>
                    <a:lnTo>
                      <a:pt x="101" y="619"/>
                    </a:lnTo>
                    <a:lnTo>
                      <a:pt x="118" y="641"/>
                    </a:lnTo>
                    <a:lnTo>
                      <a:pt x="135" y="660"/>
                    </a:lnTo>
                    <a:lnTo>
                      <a:pt x="154" y="681"/>
                    </a:lnTo>
                    <a:lnTo>
                      <a:pt x="191" y="715"/>
                    </a:lnTo>
                    <a:lnTo>
                      <a:pt x="233" y="746"/>
                    </a:lnTo>
                    <a:lnTo>
                      <a:pt x="254" y="760"/>
                    </a:lnTo>
                    <a:lnTo>
                      <a:pt x="275" y="772"/>
                    </a:lnTo>
                    <a:lnTo>
                      <a:pt x="322" y="795"/>
                    </a:lnTo>
                    <a:lnTo>
                      <a:pt x="368" y="811"/>
                    </a:lnTo>
                    <a:lnTo>
                      <a:pt x="393" y="818"/>
                    </a:lnTo>
                    <a:lnTo>
                      <a:pt x="418" y="823"/>
                    </a:lnTo>
                    <a:lnTo>
                      <a:pt x="469" y="830"/>
                    </a:lnTo>
                    <a:lnTo>
                      <a:pt x="496" y="833"/>
                    </a:lnTo>
                    <a:lnTo>
                      <a:pt x="524" y="834"/>
                    </a:lnTo>
                    <a:lnTo>
                      <a:pt x="537" y="833"/>
                    </a:lnTo>
                    <a:lnTo>
                      <a:pt x="552" y="833"/>
                    </a:lnTo>
                    <a:lnTo>
                      <a:pt x="581" y="831"/>
                    </a:lnTo>
                    <a:lnTo>
                      <a:pt x="606" y="800"/>
                    </a:lnTo>
                    <a:lnTo>
                      <a:pt x="566" y="804"/>
                    </a:lnTo>
                    <a:lnTo>
                      <a:pt x="554" y="804"/>
                    </a:lnTo>
                    <a:lnTo>
                      <a:pt x="549" y="804"/>
                    </a:lnTo>
                    <a:lnTo>
                      <a:pt x="544" y="805"/>
                    </a:lnTo>
                    <a:lnTo>
                      <a:pt x="524" y="806"/>
                    </a:lnTo>
                    <a:lnTo>
                      <a:pt x="473" y="804"/>
                    </a:lnTo>
                    <a:lnTo>
                      <a:pt x="424" y="797"/>
                    </a:lnTo>
                    <a:lnTo>
                      <a:pt x="377" y="786"/>
                    </a:lnTo>
                    <a:lnTo>
                      <a:pt x="333" y="770"/>
                    </a:lnTo>
                    <a:lnTo>
                      <a:pt x="289" y="750"/>
                    </a:lnTo>
                    <a:lnTo>
                      <a:pt x="249" y="725"/>
                    </a:lnTo>
                    <a:lnTo>
                      <a:pt x="210" y="695"/>
                    </a:lnTo>
                    <a:lnTo>
                      <a:pt x="173" y="661"/>
                    </a:lnTo>
                    <a:lnTo>
                      <a:pt x="155" y="642"/>
                    </a:lnTo>
                    <a:lnTo>
                      <a:pt x="139" y="624"/>
                    </a:lnTo>
                    <a:lnTo>
                      <a:pt x="123" y="604"/>
                    </a:lnTo>
                    <a:lnTo>
                      <a:pt x="110" y="584"/>
                    </a:lnTo>
                    <a:lnTo>
                      <a:pt x="96" y="563"/>
                    </a:lnTo>
                    <a:lnTo>
                      <a:pt x="85" y="542"/>
                    </a:lnTo>
                    <a:lnTo>
                      <a:pt x="73" y="521"/>
                    </a:lnTo>
                    <a:lnTo>
                      <a:pt x="64" y="500"/>
                    </a:lnTo>
                    <a:lnTo>
                      <a:pt x="49" y="455"/>
                    </a:lnTo>
                    <a:lnTo>
                      <a:pt x="42" y="431"/>
                    </a:lnTo>
                    <a:lnTo>
                      <a:pt x="37" y="409"/>
                    </a:lnTo>
                    <a:lnTo>
                      <a:pt x="33" y="384"/>
                    </a:lnTo>
                    <a:lnTo>
                      <a:pt x="30" y="360"/>
                    </a:lnTo>
                    <a:lnTo>
                      <a:pt x="28" y="310"/>
                    </a:lnTo>
                    <a:lnTo>
                      <a:pt x="29" y="266"/>
                    </a:lnTo>
                    <a:lnTo>
                      <a:pt x="34" y="224"/>
                    </a:lnTo>
                    <a:lnTo>
                      <a:pt x="42" y="182"/>
                    </a:lnTo>
                    <a:lnTo>
                      <a:pt x="54" y="143"/>
                    </a:lnTo>
                    <a:lnTo>
                      <a:pt x="69" y="105"/>
                    </a:lnTo>
                    <a:lnTo>
                      <a:pt x="88" y="68"/>
                    </a:lnTo>
                    <a:lnTo>
                      <a:pt x="110" y="33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2c4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184080" y="4217040"/>
                <a:ext cx="113760" cy="125640"/>
              </a:xfrm>
              <a:custGeom>
                <a:avLst/>
                <a:gdLst/>
                <a:ahLst/>
                <a:rect l="l" t="t" r="r" b="b"/>
                <a:pathLst>
                  <a:path w="398" h="440">
                    <a:moveTo>
                      <a:pt x="27" y="219"/>
                    </a:moveTo>
                    <a:lnTo>
                      <a:pt x="27" y="198"/>
                    </a:lnTo>
                    <a:lnTo>
                      <a:pt x="30" y="180"/>
                    </a:lnTo>
                    <a:lnTo>
                      <a:pt x="40" y="145"/>
                    </a:lnTo>
                    <a:lnTo>
                      <a:pt x="57" y="112"/>
                    </a:lnTo>
                    <a:lnTo>
                      <a:pt x="69" y="96"/>
                    </a:lnTo>
                    <a:lnTo>
                      <a:pt x="84" y="83"/>
                    </a:lnTo>
                    <a:lnTo>
                      <a:pt x="97" y="68"/>
                    </a:lnTo>
                    <a:lnTo>
                      <a:pt x="113" y="57"/>
                    </a:lnTo>
                    <a:lnTo>
                      <a:pt x="146" y="40"/>
                    </a:lnTo>
                    <a:lnTo>
                      <a:pt x="181" y="30"/>
                    </a:lnTo>
                    <a:lnTo>
                      <a:pt x="199" y="26"/>
                    </a:lnTo>
                    <a:lnTo>
                      <a:pt x="220" y="26"/>
                    </a:lnTo>
                    <a:lnTo>
                      <a:pt x="224" y="26"/>
                    </a:lnTo>
                    <a:lnTo>
                      <a:pt x="191" y="0"/>
                    </a:lnTo>
                    <a:lnTo>
                      <a:pt x="156" y="7"/>
                    </a:lnTo>
                    <a:lnTo>
                      <a:pt x="123" y="20"/>
                    </a:lnTo>
                    <a:lnTo>
                      <a:pt x="93" y="39"/>
                    </a:lnTo>
                    <a:lnTo>
                      <a:pt x="64" y="64"/>
                    </a:lnTo>
                    <a:lnTo>
                      <a:pt x="47" y="79"/>
                    </a:lnTo>
                    <a:lnTo>
                      <a:pt x="35" y="96"/>
                    </a:lnTo>
                    <a:lnTo>
                      <a:pt x="16" y="134"/>
                    </a:lnTo>
                    <a:lnTo>
                      <a:pt x="8" y="153"/>
                    </a:lnTo>
                    <a:lnTo>
                      <a:pt x="3" y="175"/>
                    </a:lnTo>
                    <a:lnTo>
                      <a:pt x="0" y="219"/>
                    </a:lnTo>
                    <a:lnTo>
                      <a:pt x="0" y="240"/>
                    </a:lnTo>
                    <a:lnTo>
                      <a:pt x="3" y="262"/>
                    </a:lnTo>
                    <a:lnTo>
                      <a:pt x="8" y="282"/>
                    </a:lnTo>
                    <a:lnTo>
                      <a:pt x="16" y="303"/>
                    </a:lnTo>
                    <a:lnTo>
                      <a:pt x="23" y="321"/>
                    </a:lnTo>
                    <a:lnTo>
                      <a:pt x="35" y="340"/>
                    </a:lnTo>
                    <a:lnTo>
                      <a:pt x="47" y="357"/>
                    </a:lnTo>
                    <a:lnTo>
                      <a:pt x="64" y="375"/>
                    </a:lnTo>
                    <a:lnTo>
                      <a:pt x="80" y="390"/>
                    </a:lnTo>
                    <a:lnTo>
                      <a:pt x="97" y="403"/>
                    </a:lnTo>
                    <a:lnTo>
                      <a:pt x="115" y="413"/>
                    </a:lnTo>
                    <a:lnTo>
                      <a:pt x="135" y="423"/>
                    </a:lnTo>
                    <a:lnTo>
                      <a:pt x="154" y="430"/>
                    </a:lnTo>
                    <a:lnTo>
                      <a:pt x="175" y="435"/>
                    </a:lnTo>
                    <a:lnTo>
                      <a:pt x="197" y="439"/>
                    </a:lnTo>
                    <a:lnTo>
                      <a:pt x="220" y="440"/>
                    </a:lnTo>
                    <a:lnTo>
                      <a:pt x="224" y="439"/>
                    </a:lnTo>
                    <a:lnTo>
                      <a:pt x="230" y="439"/>
                    </a:lnTo>
                    <a:lnTo>
                      <a:pt x="241" y="439"/>
                    </a:lnTo>
                    <a:lnTo>
                      <a:pt x="251" y="437"/>
                    </a:lnTo>
                    <a:lnTo>
                      <a:pt x="263" y="435"/>
                    </a:lnTo>
                    <a:lnTo>
                      <a:pt x="283" y="430"/>
                    </a:lnTo>
                    <a:lnTo>
                      <a:pt x="304" y="423"/>
                    </a:lnTo>
                    <a:lnTo>
                      <a:pt x="322" y="413"/>
                    </a:lnTo>
                    <a:lnTo>
                      <a:pt x="331" y="407"/>
                    </a:lnTo>
                    <a:lnTo>
                      <a:pt x="341" y="403"/>
                    </a:lnTo>
                    <a:lnTo>
                      <a:pt x="349" y="396"/>
                    </a:lnTo>
                    <a:lnTo>
                      <a:pt x="358" y="390"/>
                    </a:lnTo>
                    <a:lnTo>
                      <a:pt x="376" y="375"/>
                    </a:lnTo>
                    <a:lnTo>
                      <a:pt x="381" y="369"/>
                    </a:lnTo>
                    <a:lnTo>
                      <a:pt x="383" y="365"/>
                    </a:lnTo>
                    <a:lnTo>
                      <a:pt x="386" y="363"/>
                    </a:lnTo>
                    <a:lnTo>
                      <a:pt x="398" y="350"/>
                    </a:lnTo>
                    <a:lnTo>
                      <a:pt x="391" y="310"/>
                    </a:lnTo>
                    <a:lnTo>
                      <a:pt x="383" y="321"/>
                    </a:lnTo>
                    <a:lnTo>
                      <a:pt x="378" y="327"/>
                    </a:lnTo>
                    <a:lnTo>
                      <a:pt x="375" y="333"/>
                    </a:lnTo>
                    <a:lnTo>
                      <a:pt x="357" y="356"/>
                    </a:lnTo>
                    <a:lnTo>
                      <a:pt x="341" y="369"/>
                    </a:lnTo>
                    <a:lnTo>
                      <a:pt x="326" y="380"/>
                    </a:lnTo>
                    <a:lnTo>
                      <a:pt x="309" y="389"/>
                    </a:lnTo>
                    <a:lnTo>
                      <a:pt x="293" y="397"/>
                    </a:lnTo>
                    <a:lnTo>
                      <a:pt x="275" y="403"/>
                    </a:lnTo>
                    <a:lnTo>
                      <a:pt x="257" y="407"/>
                    </a:lnTo>
                    <a:lnTo>
                      <a:pt x="251" y="407"/>
                    </a:lnTo>
                    <a:lnTo>
                      <a:pt x="247" y="408"/>
                    </a:lnTo>
                    <a:lnTo>
                      <a:pt x="238" y="411"/>
                    </a:lnTo>
                    <a:lnTo>
                      <a:pt x="220" y="412"/>
                    </a:lnTo>
                    <a:lnTo>
                      <a:pt x="199" y="411"/>
                    </a:lnTo>
                    <a:lnTo>
                      <a:pt x="181" y="407"/>
                    </a:lnTo>
                    <a:lnTo>
                      <a:pt x="163" y="403"/>
                    </a:lnTo>
                    <a:lnTo>
                      <a:pt x="146" y="397"/>
                    </a:lnTo>
                    <a:lnTo>
                      <a:pt x="129" y="389"/>
                    </a:lnTo>
                    <a:lnTo>
                      <a:pt x="113" y="380"/>
                    </a:lnTo>
                    <a:lnTo>
                      <a:pt x="97" y="369"/>
                    </a:lnTo>
                    <a:lnTo>
                      <a:pt x="84" y="356"/>
                    </a:lnTo>
                    <a:lnTo>
                      <a:pt x="69" y="340"/>
                    </a:lnTo>
                    <a:lnTo>
                      <a:pt x="57" y="325"/>
                    </a:lnTo>
                    <a:lnTo>
                      <a:pt x="47" y="308"/>
                    </a:lnTo>
                    <a:lnTo>
                      <a:pt x="40" y="293"/>
                    </a:lnTo>
                    <a:lnTo>
                      <a:pt x="34" y="274"/>
                    </a:lnTo>
                    <a:lnTo>
                      <a:pt x="30" y="256"/>
                    </a:lnTo>
                    <a:lnTo>
                      <a:pt x="27" y="237"/>
                    </a:lnTo>
                    <a:lnTo>
                      <a:pt x="27" y="219"/>
                    </a:lnTo>
                    <a:close/>
                  </a:path>
                </a:pathLst>
              </a:custGeom>
              <a:solidFill>
                <a:srgbClr val="4f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192000" y="4224240"/>
                <a:ext cx="104040" cy="110160"/>
              </a:xfrm>
              <a:custGeom>
                <a:avLst/>
                <a:gdLst/>
                <a:ahLst/>
                <a:rect l="l" t="t" r="r" b="b"/>
                <a:pathLst>
                  <a:path w="364" h="386">
                    <a:moveTo>
                      <a:pt x="57" y="57"/>
                    </a:moveTo>
                    <a:lnTo>
                      <a:pt x="42" y="70"/>
                    </a:lnTo>
                    <a:lnTo>
                      <a:pt x="30" y="86"/>
                    </a:lnTo>
                    <a:lnTo>
                      <a:pt x="13" y="119"/>
                    </a:lnTo>
                    <a:lnTo>
                      <a:pt x="3" y="154"/>
                    </a:lnTo>
                    <a:lnTo>
                      <a:pt x="0" y="172"/>
                    </a:lnTo>
                    <a:lnTo>
                      <a:pt x="0" y="193"/>
                    </a:lnTo>
                    <a:lnTo>
                      <a:pt x="0" y="211"/>
                    </a:lnTo>
                    <a:lnTo>
                      <a:pt x="3" y="230"/>
                    </a:lnTo>
                    <a:lnTo>
                      <a:pt x="7" y="248"/>
                    </a:lnTo>
                    <a:lnTo>
                      <a:pt x="13" y="267"/>
                    </a:lnTo>
                    <a:lnTo>
                      <a:pt x="20" y="282"/>
                    </a:lnTo>
                    <a:lnTo>
                      <a:pt x="30" y="299"/>
                    </a:lnTo>
                    <a:lnTo>
                      <a:pt x="42" y="314"/>
                    </a:lnTo>
                    <a:lnTo>
                      <a:pt x="57" y="330"/>
                    </a:lnTo>
                    <a:lnTo>
                      <a:pt x="70" y="343"/>
                    </a:lnTo>
                    <a:lnTo>
                      <a:pt x="86" y="354"/>
                    </a:lnTo>
                    <a:lnTo>
                      <a:pt x="102" y="363"/>
                    </a:lnTo>
                    <a:lnTo>
                      <a:pt x="119" y="371"/>
                    </a:lnTo>
                    <a:lnTo>
                      <a:pt x="136" y="377"/>
                    </a:lnTo>
                    <a:lnTo>
                      <a:pt x="154" y="381"/>
                    </a:lnTo>
                    <a:lnTo>
                      <a:pt x="172" y="385"/>
                    </a:lnTo>
                    <a:lnTo>
                      <a:pt x="193" y="386"/>
                    </a:lnTo>
                    <a:lnTo>
                      <a:pt x="211" y="385"/>
                    </a:lnTo>
                    <a:lnTo>
                      <a:pt x="220" y="382"/>
                    </a:lnTo>
                    <a:lnTo>
                      <a:pt x="224" y="381"/>
                    </a:lnTo>
                    <a:lnTo>
                      <a:pt x="230" y="381"/>
                    </a:lnTo>
                    <a:lnTo>
                      <a:pt x="248" y="377"/>
                    </a:lnTo>
                    <a:lnTo>
                      <a:pt x="266" y="371"/>
                    </a:lnTo>
                    <a:lnTo>
                      <a:pt x="282" y="363"/>
                    </a:lnTo>
                    <a:lnTo>
                      <a:pt x="299" y="354"/>
                    </a:lnTo>
                    <a:lnTo>
                      <a:pt x="314" y="343"/>
                    </a:lnTo>
                    <a:lnTo>
                      <a:pt x="330" y="330"/>
                    </a:lnTo>
                    <a:lnTo>
                      <a:pt x="348" y="307"/>
                    </a:lnTo>
                    <a:lnTo>
                      <a:pt x="351" y="301"/>
                    </a:lnTo>
                    <a:lnTo>
                      <a:pt x="356" y="295"/>
                    </a:lnTo>
                    <a:lnTo>
                      <a:pt x="364" y="284"/>
                    </a:lnTo>
                    <a:lnTo>
                      <a:pt x="354" y="237"/>
                    </a:lnTo>
                    <a:lnTo>
                      <a:pt x="349" y="246"/>
                    </a:lnTo>
                    <a:lnTo>
                      <a:pt x="347" y="251"/>
                    </a:lnTo>
                    <a:lnTo>
                      <a:pt x="346" y="253"/>
                    </a:lnTo>
                    <a:lnTo>
                      <a:pt x="346" y="256"/>
                    </a:lnTo>
                    <a:lnTo>
                      <a:pt x="341" y="265"/>
                    </a:lnTo>
                    <a:lnTo>
                      <a:pt x="337" y="276"/>
                    </a:lnTo>
                    <a:lnTo>
                      <a:pt x="330" y="284"/>
                    </a:lnTo>
                    <a:lnTo>
                      <a:pt x="324" y="293"/>
                    </a:lnTo>
                    <a:lnTo>
                      <a:pt x="317" y="301"/>
                    </a:lnTo>
                    <a:lnTo>
                      <a:pt x="311" y="310"/>
                    </a:lnTo>
                    <a:lnTo>
                      <a:pt x="297" y="320"/>
                    </a:lnTo>
                    <a:lnTo>
                      <a:pt x="290" y="324"/>
                    </a:lnTo>
                    <a:lnTo>
                      <a:pt x="287" y="327"/>
                    </a:lnTo>
                    <a:lnTo>
                      <a:pt x="284" y="330"/>
                    </a:lnTo>
                    <a:lnTo>
                      <a:pt x="280" y="331"/>
                    </a:lnTo>
                    <a:lnTo>
                      <a:pt x="277" y="333"/>
                    </a:lnTo>
                    <a:lnTo>
                      <a:pt x="270" y="338"/>
                    </a:lnTo>
                    <a:lnTo>
                      <a:pt x="256" y="346"/>
                    </a:lnTo>
                    <a:lnTo>
                      <a:pt x="240" y="350"/>
                    </a:lnTo>
                    <a:lnTo>
                      <a:pt x="225" y="355"/>
                    </a:lnTo>
                    <a:lnTo>
                      <a:pt x="208" y="357"/>
                    </a:lnTo>
                    <a:lnTo>
                      <a:pt x="193" y="358"/>
                    </a:lnTo>
                    <a:lnTo>
                      <a:pt x="176" y="357"/>
                    </a:lnTo>
                    <a:lnTo>
                      <a:pt x="160" y="355"/>
                    </a:lnTo>
                    <a:lnTo>
                      <a:pt x="129" y="346"/>
                    </a:lnTo>
                    <a:lnTo>
                      <a:pt x="101" y="330"/>
                    </a:lnTo>
                    <a:lnTo>
                      <a:pt x="87" y="320"/>
                    </a:lnTo>
                    <a:lnTo>
                      <a:pt x="76" y="310"/>
                    </a:lnTo>
                    <a:lnTo>
                      <a:pt x="63" y="296"/>
                    </a:lnTo>
                    <a:lnTo>
                      <a:pt x="53" y="284"/>
                    </a:lnTo>
                    <a:lnTo>
                      <a:pt x="44" y="270"/>
                    </a:lnTo>
                    <a:lnTo>
                      <a:pt x="38" y="256"/>
                    </a:lnTo>
                    <a:lnTo>
                      <a:pt x="33" y="241"/>
                    </a:lnTo>
                    <a:lnTo>
                      <a:pt x="29" y="226"/>
                    </a:lnTo>
                    <a:lnTo>
                      <a:pt x="27" y="209"/>
                    </a:lnTo>
                    <a:lnTo>
                      <a:pt x="27" y="193"/>
                    </a:lnTo>
                    <a:lnTo>
                      <a:pt x="29" y="160"/>
                    </a:lnTo>
                    <a:lnTo>
                      <a:pt x="38" y="129"/>
                    </a:lnTo>
                    <a:lnTo>
                      <a:pt x="53" y="101"/>
                    </a:lnTo>
                    <a:lnTo>
                      <a:pt x="63" y="87"/>
                    </a:lnTo>
                    <a:lnTo>
                      <a:pt x="76" y="76"/>
                    </a:lnTo>
                    <a:lnTo>
                      <a:pt x="87" y="64"/>
                    </a:lnTo>
                    <a:lnTo>
                      <a:pt x="101" y="53"/>
                    </a:lnTo>
                    <a:lnTo>
                      <a:pt x="129" y="39"/>
                    </a:lnTo>
                    <a:lnTo>
                      <a:pt x="160" y="30"/>
                    </a:lnTo>
                    <a:lnTo>
                      <a:pt x="193" y="27"/>
                    </a:lnTo>
                    <a:lnTo>
                      <a:pt x="212" y="28"/>
                    </a:lnTo>
                    <a:lnTo>
                      <a:pt x="230" y="32"/>
                    </a:lnTo>
                    <a:lnTo>
                      <a:pt x="225" y="27"/>
                    </a:lnTo>
                    <a:lnTo>
                      <a:pt x="211" y="13"/>
                    </a:lnTo>
                    <a:lnTo>
                      <a:pt x="197" y="0"/>
                    </a:lnTo>
                    <a:lnTo>
                      <a:pt x="193" y="0"/>
                    </a:lnTo>
                    <a:lnTo>
                      <a:pt x="172" y="0"/>
                    </a:lnTo>
                    <a:lnTo>
                      <a:pt x="154" y="4"/>
                    </a:lnTo>
                    <a:lnTo>
                      <a:pt x="119" y="14"/>
                    </a:lnTo>
                    <a:lnTo>
                      <a:pt x="86" y="31"/>
                    </a:lnTo>
                    <a:lnTo>
                      <a:pt x="70" y="42"/>
                    </a:lnTo>
                    <a:lnTo>
                      <a:pt x="57" y="57"/>
                    </a:lnTo>
                    <a:close/>
                  </a:path>
                </a:pathLst>
              </a:custGeom>
              <a:solidFill>
                <a:srgbClr val="52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176880" y="421056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428" h="488">
                    <a:moveTo>
                      <a:pt x="28" y="240"/>
                    </a:moveTo>
                    <a:lnTo>
                      <a:pt x="31" y="196"/>
                    </a:lnTo>
                    <a:lnTo>
                      <a:pt x="36" y="174"/>
                    </a:lnTo>
                    <a:lnTo>
                      <a:pt x="44" y="155"/>
                    </a:lnTo>
                    <a:lnTo>
                      <a:pt x="63" y="117"/>
                    </a:lnTo>
                    <a:lnTo>
                      <a:pt x="75" y="100"/>
                    </a:lnTo>
                    <a:lnTo>
                      <a:pt x="92" y="85"/>
                    </a:lnTo>
                    <a:lnTo>
                      <a:pt x="121" y="60"/>
                    </a:lnTo>
                    <a:lnTo>
                      <a:pt x="151" y="41"/>
                    </a:lnTo>
                    <a:lnTo>
                      <a:pt x="184" y="28"/>
                    </a:lnTo>
                    <a:lnTo>
                      <a:pt x="219" y="21"/>
                    </a:lnTo>
                    <a:lnTo>
                      <a:pt x="188" y="0"/>
                    </a:lnTo>
                    <a:lnTo>
                      <a:pt x="155" y="9"/>
                    </a:lnTo>
                    <a:lnTo>
                      <a:pt x="126" y="22"/>
                    </a:lnTo>
                    <a:lnTo>
                      <a:pt x="98" y="40"/>
                    </a:lnTo>
                    <a:lnTo>
                      <a:pt x="73" y="64"/>
                    </a:lnTo>
                    <a:lnTo>
                      <a:pt x="56" y="82"/>
                    </a:lnTo>
                    <a:lnTo>
                      <a:pt x="41" y="102"/>
                    </a:lnTo>
                    <a:lnTo>
                      <a:pt x="29" y="122"/>
                    </a:lnTo>
                    <a:lnTo>
                      <a:pt x="19" y="145"/>
                    </a:lnTo>
                    <a:lnTo>
                      <a:pt x="11" y="166"/>
                    </a:lnTo>
                    <a:lnTo>
                      <a:pt x="5" y="190"/>
                    </a:lnTo>
                    <a:lnTo>
                      <a:pt x="2" y="214"/>
                    </a:lnTo>
                    <a:lnTo>
                      <a:pt x="0" y="240"/>
                    </a:lnTo>
                    <a:lnTo>
                      <a:pt x="2" y="264"/>
                    </a:lnTo>
                    <a:lnTo>
                      <a:pt x="5" y="289"/>
                    </a:lnTo>
                    <a:lnTo>
                      <a:pt x="11" y="311"/>
                    </a:lnTo>
                    <a:lnTo>
                      <a:pt x="19" y="335"/>
                    </a:lnTo>
                    <a:lnTo>
                      <a:pt x="29" y="356"/>
                    </a:lnTo>
                    <a:lnTo>
                      <a:pt x="41" y="377"/>
                    </a:lnTo>
                    <a:lnTo>
                      <a:pt x="56" y="396"/>
                    </a:lnTo>
                    <a:lnTo>
                      <a:pt x="73" y="416"/>
                    </a:lnTo>
                    <a:lnTo>
                      <a:pt x="91" y="433"/>
                    </a:lnTo>
                    <a:lnTo>
                      <a:pt x="110" y="447"/>
                    </a:lnTo>
                    <a:lnTo>
                      <a:pt x="131" y="460"/>
                    </a:lnTo>
                    <a:lnTo>
                      <a:pt x="152" y="470"/>
                    </a:lnTo>
                    <a:lnTo>
                      <a:pt x="174" y="478"/>
                    </a:lnTo>
                    <a:lnTo>
                      <a:pt x="198" y="484"/>
                    </a:lnTo>
                    <a:lnTo>
                      <a:pt x="222" y="487"/>
                    </a:lnTo>
                    <a:lnTo>
                      <a:pt x="248" y="488"/>
                    </a:lnTo>
                    <a:lnTo>
                      <a:pt x="259" y="487"/>
                    </a:lnTo>
                    <a:lnTo>
                      <a:pt x="271" y="487"/>
                    </a:lnTo>
                    <a:lnTo>
                      <a:pt x="296" y="484"/>
                    </a:lnTo>
                    <a:lnTo>
                      <a:pt x="319" y="478"/>
                    </a:lnTo>
                    <a:lnTo>
                      <a:pt x="330" y="473"/>
                    </a:lnTo>
                    <a:lnTo>
                      <a:pt x="336" y="471"/>
                    </a:lnTo>
                    <a:lnTo>
                      <a:pt x="343" y="470"/>
                    </a:lnTo>
                    <a:lnTo>
                      <a:pt x="363" y="460"/>
                    </a:lnTo>
                    <a:lnTo>
                      <a:pt x="373" y="453"/>
                    </a:lnTo>
                    <a:lnTo>
                      <a:pt x="385" y="447"/>
                    </a:lnTo>
                    <a:lnTo>
                      <a:pt x="394" y="439"/>
                    </a:lnTo>
                    <a:lnTo>
                      <a:pt x="404" y="433"/>
                    </a:lnTo>
                    <a:lnTo>
                      <a:pt x="413" y="424"/>
                    </a:lnTo>
                    <a:lnTo>
                      <a:pt x="418" y="419"/>
                    </a:lnTo>
                    <a:lnTo>
                      <a:pt x="420" y="417"/>
                    </a:lnTo>
                    <a:lnTo>
                      <a:pt x="421" y="416"/>
                    </a:lnTo>
                    <a:lnTo>
                      <a:pt x="423" y="416"/>
                    </a:lnTo>
                    <a:lnTo>
                      <a:pt x="428" y="411"/>
                    </a:lnTo>
                    <a:lnTo>
                      <a:pt x="426" y="371"/>
                    </a:lnTo>
                    <a:lnTo>
                      <a:pt x="414" y="384"/>
                    </a:lnTo>
                    <a:lnTo>
                      <a:pt x="411" y="386"/>
                    </a:lnTo>
                    <a:lnTo>
                      <a:pt x="409" y="390"/>
                    </a:lnTo>
                    <a:lnTo>
                      <a:pt x="404" y="396"/>
                    </a:lnTo>
                    <a:lnTo>
                      <a:pt x="386" y="411"/>
                    </a:lnTo>
                    <a:lnTo>
                      <a:pt x="377" y="417"/>
                    </a:lnTo>
                    <a:lnTo>
                      <a:pt x="369" y="424"/>
                    </a:lnTo>
                    <a:lnTo>
                      <a:pt x="359" y="428"/>
                    </a:lnTo>
                    <a:lnTo>
                      <a:pt x="350" y="434"/>
                    </a:lnTo>
                    <a:lnTo>
                      <a:pt x="332" y="444"/>
                    </a:lnTo>
                    <a:lnTo>
                      <a:pt x="311" y="451"/>
                    </a:lnTo>
                    <a:lnTo>
                      <a:pt x="291" y="456"/>
                    </a:lnTo>
                    <a:lnTo>
                      <a:pt x="279" y="458"/>
                    </a:lnTo>
                    <a:lnTo>
                      <a:pt x="269" y="460"/>
                    </a:lnTo>
                    <a:lnTo>
                      <a:pt x="258" y="460"/>
                    </a:lnTo>
                    <a:lnTo>
                      <a:pt x="252" y="460"/>
                    </a:lnTo>
                    <a:lnTo>
                      <a:pt x="248" y="461"/>
                    </a:lnTo>
                    <a:lnTo>
                      <a:pt x="225" y="460"/>
                    </a:lnTo>
                    <a:lnTo>
                      <a:pt x="203" y="456"/>
                    </a:lnTo>
                    <a:lnTo>
                      <a:pt x="182" y="451"/>
                    </a:lnTo>
                    <a:lnTo>
                      <a:pt x="163" y="444"/>
                    </a:lnTo>
                    <a:lnTo>
                      <a:pt x="143" y="434"/>
                    </a:lnTo>
                    <a:lnTo>
                      <a:pt x="125" y="424"/>
                    </a:lnTo>
                    <a:lnTo>
                      <a:pt x="108" y="411"/>
                    </a:lnTo>
                    <a:lnTo>
                      <a:pt x="92" y="396"/>
                    </a:lnTo>
                    <a:lnTo>
                      <a:pt x="75" y="378"/>
                    </a:lnTo>
                    <a:lnTo>
                      <a:pt x="63" y="361"/>
                    </a:lnTo>
                    <a:lnTo>
                      <a:pt x="51" y="342"/>
                    </a:lnTo>
                    <a:lnTo>
                      <a:pt x="44" y="324"/>
                    </a:lnTo>
                    <a:lnTo>
                      <a:pt x="36" y="303"/>
                    </a:lnTo>
                    <a:lnTo>
                      <a:pt x="31" y="283"/>
                    </a:lnTo>
                    <a:lnTo>
                      <a:pt x="28" y="261"/>
                    </a:lnTo>
                    <a:lnTo>
                      <a:pt x="28" y="24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68960" y="4205520"/>
                <a:ext cx="130320" cy="153000"/>
              </a:xfrm>
              <a:custGeom>
                <a:avLst/>
                <a:gdLst/>
                <a:ahLst/>
                <a:rect l="l" t="t" r="r" b="b"/>
                <a:pathLst>
                  <a:path w="457" h="537">
                    <a:moveTo>
                      <a:pt x="28" y="260"/>
                    </a:moveTo>
                    <a:lnTo>
                      <a:pt x="30" y="234"/>
                    </a:lnTo>
                    <a:lnTo>
                      <a:pt x="33" y="210"/>
                    </a:lnTo>
                    <a:lnTo>
                      <a:pt x="39" y="186"/>
                    </a:lnTo>
                    <a:lnTo>
                      <a:pt x="47" y="165"/>
                    </a:lnTo>
                    <a:lnTo>
                      <a:pt x="57" y="142"/>
                    </a:lnTo>
                    <a:lnTo>
                      <a:pt x="69" y="122"/>
                    </a:lnTo>
                    <a:lnTo>
                      <a:pt x="84" y="102"/>
                    </a:lnTo>
                    <a:lnTo>
                      <a:pt x="101" y="84"/>
                    </a:lnTo>
                    <a:lnTo>
                      <a:pt x="126" y="60"/>
                    </a:lnTo>
                    <a:lnTo>
                      <a:pt x="154" y="42"/>
                    </a:lnTo>
                    <a:lnTo>
                      <a:pt x="183" y="29"/>
                    </a:lnTo>
                    <a:lnTo>
                      <a:pt x="216" y="20"/>
                    </a:lnTo>
                    <a:lnTo>
                      <a:pt x="182" y="0"/>
                    </a:lnTo>
                    <a:lnTo>
                      <a:pt x="153" y="10"/>
                    </a:lnTo>
                    <a:lnTo>
                      <a:pt x="128" y="25"/>
                    </a:lnTo>
                    <a:lnTo>
                      <a:pt x="103" y="43"/>
                    </a:lnTo>
                    <a:lnTo>
                      <a:pt x="81" y="65"/>
                    </a:lnTo>
                    <a:lnTo>
                      <a:pt x="61" y="85"/>
                    </a:lnTo>
                    <a:lnTo>
                      <a:pt x="44" y="107"/>
                    </a:lnTo>
                    <a:lnTo>
                      <a:pt x="30" y="130"/>
                    </a:lnTo>
                    <a:lnTo>
                      <a:pt x="19" y="154"/>
                    </a:lnTo>
                    <a:lnTo>
                      <a:pt x="10" y="178"/>
                    </a:lnTo>
                    <a:lnTo>
                      <a:pt x="5" y="204"/>
                    </a:lnTo>
                    <a:lnTo>
                      <a:pt x="1" y="232"/>
                    </a:lnTo>
                    <a:lnTo>
                      <a:pt x="0" y="260"/>
                    </a:lnTo>
                    <a:lnTo>
                      <a:pt x="1" y="287"/>
                    </a:lnTo>
                    <a:lnTo>
                      <a:pt x="5" y="314"/>
                    </a:lnTo>
                    <a:lnTo>
                      <a:pt x="10" y="339"/>
                    </a:lnTo>
                    <a:lnTo>
                      <a:pt x="14" y="352"/>
                    </a:lnTo>
                    <a:lnTo>
                      <a:pt x="19" y="365"/>
                    </a:lnTo>
                    <a:lnTo>
                      <a:pt x="30" y="388"/>
                    </a:lnTo>
                    <a:lnTo>
                      <a:pt x="44" y="412"/>
                    </a:lnTo>
                    <a:lnTo>
                      <a:pt x="61" y="433"/>
                    </a:lnTo>
                    <a:lnTo>
                      <a:pt x="81" y="455"/>
                    </a:lnTo>
                    <a:lnTo>
                      <a:pt x="101" y="473"/>
                    </a:lnTo>
                    <a:lnTo>
                      <a:pt x="123" y="490"/>
                    </a:lnTo>
                    <a:lnTo>
                      <a:pt x="145" y="504"/>
                    </a:lnTo>
                    <a:lnTo>
                      <a:pt x="170" y="516"/>
                    </a:lnTo>
                    <a:lnTo>
                      <a:pt x="194" y="524"/>
                    </a:lnTo>
                    <a:lnTo>
                      <a:pt x="220" y="531"/>
                    </a:lnTo>
                    <a:lnTo>
                      <a:pt x="247" y="534"/>
                    </a:lnTo>
                    <a:lnTo>
                      <a:pt x="276" y="537"/>
                    </a:lnTo>
                    <a:lnTo>
                      <a:pt x="301" y="535"/>
                    </a:lnTo>
                    <a:lnTo>
                      <a:pt x="326" y="532"/>
                    </a:lnTo>
                    <a:lnTo>
                      <a:pt x="337" y="529"/>
                    </a:lnTo>
                    <a:lnTo>
                      <a:pt x="349" y="526"/>
                    </a:lnTo>
                    <a:lnTo>
                      <a:pt x="373" y="520"/>
                    </a:lnTo>
                    <a:lnTo>
                      <a:pt x="378" y="516"/>
                    </a:lnTo>
                    <a:lnTo>
                      <a:pt x="383" y="514"/>
                    </a:lnTo>
                    <a:lnTo>
                      <a:pt x="395" y="509"/>
                    </a:lnTo>
                    <a:lnTo>
                      <a:pt x="416" y="498"/>
                    </a:lnTo>
                    <a:lnTo>
                      <a:pt x="437" y="484"/>
                    </a:lnTo>
                    <a:lnTo>
                      <a:pt x="457" y="470"/>
                    </a:lnTo>
                    <a:lnTo>
                      <a:pt x="457" y="450"/>
                    </a:lnTo>
                    <a:lnTo>
                      <a:pt x="456" y="431"/>
                    </a:lnTo>
                    <a:lnTo>
                      <a:pt x="451" y="436"/>
                    </a:lnTo>
                    <a:lnTo>
                      <a:pt x="449" y="436"/>
                    </a:lnTo>
                    <a:lnTo>
                      <a:pt x="448" y="437"/>
                    </a:lnTo>
                    <a:lnTo>
                      <a:pt x="446" y="439"/>
                    </a:lnTo>
                    <a:lnTo>
                      <a:pt x="441" y="444"/>
                    </a:lnTo>
                    <a:lnTo>
                      <a:pt x="432" y="453"/>
                    </a:lnTo>
                    <a:lnTo>
                      <a:pt x="422" y="459"/>
                    </a:lnTo>
                    <a:lnTo>
                      <a:pt x="413" y="467"/>
                    </a:lnTo>
                    <a:lnTo>
                      <a:pt x="401" y="473"/>
                    </a:lnTo>
                    <a:lnTo>
                      <a:pt x="391" y="480"/>
                    </a:lnTo>
                    <a:lnTo>
                      <a:pt x="371" y="490"/>
                    </a:lnTo>
                    <a:lnTo>
                      <a:pt x="364" y="491"/>
                    </a:lnTo>
                    <a:lnTo>
                      <a:pt x="358" y="493"/>
                    </a:lnTo>
                    <a:lnTo>
                      <a:pt x="347" y="498"/>
                    </a:lnTo>
                    <a:lnTo>
                      <a:pt x="324" y="504"/>
                    </a:lnTo>
                    <a:lnTo>
                      <a:pt x="299" y="507"/>
                    </a:lnTo>
                    <a:lnTo>
                      <a:pt x="287" y="507"/>
                    </a:lnTo>
                    <a:lnTo>
                      <a:pt x="276" y="508"/>
                    </a:lnTo>
                    <a:lnTo>
                      <a:pt x="250" y="507"/>
                    </a:lnTo>
                    <a:lnTo>
                      <a:pt x="226" y="504"/>
                    </a:lnTo>
                    <a:lnTo>
                      <a:pt x="202" y="498"/>
                    </a:lnTo>
                    <a:lnTo>
                      <a:pt x="180" y="490"/>
                    </a:lnTo>
                    <a:lnTo>
                      <a:pt x="159" y="480"/>
                    </a:lnTo>
                    <a:lnTo>
                      <a:pt x="138" y="467"/>
                    </a:lnTo>
                    <a:lnTo>
                      <a:pt x="119" y="453"/>
                    </a:lnTo>
                    <a:lnTo>
                      <a:pt x="101" y="436"/>
                    </a:lnTo>
                    <a:lnTo>
                      <a:pt x="84" y="416"/>
                    </a:lnTo>
                    <a:lnTo>
                      <a:pt x="69" y="397"/>
                    </a:lnTo>
                    <a:lnTo>
                      <a:pt x="57" y="376"/>
                    </a:lnTo>
                    <a:lnTo>
                      <a:pt x="47" y="355"/>
                    </a:lnTo>
                    <a:lnTo>
                      <a:pt x="39" y="331"/>
                    </a:lnTo>
                    <a:lnTo>
                      <a:pt x="33" y="309"/>
                    </a:lnTo>
                    <a:lnTo>
                      <a:pt x="30" y="284"/>
                    </a:lnTo>
                    <a:lnTo>
                      <a:pt x="28" y="260"/>
                    </a:lnTo>
                    <a:close/>
                  </a:path>
                </a:pathLst>
              </a:custGeom>
              <a:solidFill>
                <a:srgbClr val="49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105960" y="4190040"/>
                <a:ext cx="171360" cy="231120"/>
              </a:xfrm>
              <a:custGeom>
                <a:avLst/>
                <a:gdLst/>
                <a:ahLst/>
                <a:rect l="l" t="t" r="r" b="b"/>
                <a:pathLst>
                  <a:path w="601" h="809">
                    <a:moveTo>
                      <a:pt x="108" y="3"/>
                    </a:moveTo>
                    <a:lnTo>
                      <a:pt x="82" y="36"/>
                    </a:lnTo>
                    <a:lnTo>
                      <a:pt x="60" y="71"/>
                    </a:lnTo>
                    <a:lnTo>
                      <a:pt x="41" y="108"/>
                    </a:lnTo>
                    <a:lnTo>
                      <a:pt x="26" y="146"/>
                    </a:lnTo>
                    <a:lnTo>
                      <a:pt x="14" y="185"/>
                    </a:lnTo>
                    <a:lnTo>
                      <a:pt x="6" y="227"/>
                    </a:lnTo>
                    <a:lnTo>
                      <a:pt x="1" y="269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5" y="387"/>
                    </a:lnTo>
                    <a:lnTo>
                      <a:pt x="9" y="412"/>
                    </a:lnTo>
                    <a:lnTo>
                      <a:pt x="14" y="434"/>
                    </a:lnTo>
                    <a:lnTo>
                      <a:pt x="21" y="458"/>
                    </a:lnTo>
                    <a:lnTo>
                      <a:pt x="36" y="503"/>
                    </a:lnTo>
                    <a:lnTo>
                      <a:pt x="45" y="524"/>
                    </a:lnTo>
                    <a:lnTo>
                      <a:pt x="57" y="545"/>
                    </a:lnTo>
                    <a:lnTo>
                      <a:pt x="68" y="566"/>
                    </a:lnTo>
                    <a:lnTo>
                      <a:pt x="82" y="587"/>
                    </a:lnTo>
                    <a:lnTo>
                      <a:pt x="95" y="607"/>
                    </a:lnTo>
                    <a:lnTo>
                      <a:pt x="111" y="627"/>
                    </a:lnTo>
                    <a:lnTo>
                      <a:pt x="127" y="645"/>
                    </a:lnTo>
                    <a:lnTo>
                      <a:pt x="145" y="664"/>
                    </a:lnTo>
                    <a:lnTo>
                      <a:pt x="182" y="698"/>
                    </a:lnTo>
                    <a:lnTo>
                      <a:pt x="221" y="728"/>
                    </a:lnTo>
                    <a:lnTo>
                      <a:pt x="261" y="753"/>
                    </a:lnTo>
                    <a:lnTo>
                      <a:pt x="305" y="773"/>
                    </a:lnTo>
                    <a:lnTo>
                      <a:pt x="349" y="789"/>
                    </a:lnTo>
                    <a:lnTo>
                      <a:pt x="396" y="800"/>
                    </a:lnTo>
                    <a:lnTo>
                      <a:pt x="445" y="807"/>
                    </a:lnTo>
                    <a:lnTo>
                      <a:pt x="496" y="809"/>
                    </a:lnTo>
                    <a:lnTo>
                      <a:pt x="516" y="808"/>
                    </a:lnTo>
                    <a:lnTo>
                      <a:pt x="521" y="807"/>
                    </a:lnTo>
                    <a:lnTo>
                      <a:pt x="526" y="807"/>
                    </a:lnTo>
                    <a:lnTo>
                      <a:pt x="538" y="807"/>
                    </a:lnTo>
                    <a:lnTo>
                      <a:pt x="578" y="803"/>
                    </a:lnTo>
                    <a:lnTo>
                      <a:pt x="601" y="771"/>
                    </a:lnTo>
                    <a:lnTo>
                      <a:pt x="575" y="775"/>
                    </a:lnTo>
                    <a:lnTo>
                      <a:pt x="561" y="777"/>
                    </a:lnTo>
                    <a:lnTo>
                      <a:pt x="549" y="779"/>
                    </a:lnTo>
                    <a:lnTo>
                      <a:pt x="522" y="781"/>
                    </a:lnTo>
                    <a:lnTo>
                      <a:pt x="508" y="781"/>
                    </a:lnTo>
                    <a:lnTo>
                      <a:pt x="501" y="781"/>
                    </a:lnTo>
                    <a:lnTo>
                      <a:pt x="498" y="781"/>
                    </a:lnTo>
                    <a:lnTo>
                      <a:pt x="496" y="782"/>
                    </a:lnTo>
                    <a:lnTo>
                      <a:pt x="447" y="780"/>
                    </a:lnTo>
                    <a:lnTo>
                      <a:pt x="402" y="773"/>
                    </a:lnTo>
                    <a:lnTo>
                      <a:pt x="357" y="762"/>
                    </a:lnTo>
                    <a:lnTo>
                      <a:pt x="315" y="747"/>
                    </a:lnTo>
                    <a:lnTo>
                      <a:pt x="273" y="727"/>
                    </a:lnTo>
                    <a:lnTo>
                      <a:pt x="236" y="704"/>
                    </a:lnTo>
                    <a:lnTo>
                      <a:pt x="199" y="677"/>
                    </a:lnTo>
                    <a:lnTo>
                      <a:pt x="165" y="645"/>
                    </a:lnTo>
                    <a:lnTo>
                      <a:pt x="131" y="609"/>
                    </a:lnTo>
                    <a:lnTo>
                      <a:pt x="116" y="590"/>
                    </a:lnTo>
                    <a:lnTo>
                      <a:pt x="103" y="571"/>
                    </a:lnTo>
                    <a:lnTo>
                      <a:pt x="80" y="533"/>
                    </a:lnTo>
                    <a:lnTo>
                      <a:pt x="69" y="512"/>
                    </a:lnTo>
                    <a:lnTo>
                      <a:pt x="61" y="493"/>
                    </a:lnTo>
                    <a:lnTo>
                      <a:pt x="45" y="450"/>
                    </a:lnTo>
                    <a:lnTo>
                      <a:pt x="35" y="406"/>
                    </a:lnTo>
                    <a:lnTo>
                      <a:pt x="31" y="382"/>
                    </a:lnTo>
                    <a:lnTo>
                      <a:pt x="28" y="359"/>
                    </a:lnTo>
                    <a:lnTo>
                      <a:pt x="27" y="313"/>
                    </a:lnTo>
                    <a:lnTo>
                      <a:pt x="28" y="268"/>
                    </a:lnTo>
                    <a:lnTo>
                      <a:pt x="34" y="224"/>
                    </a:lnTo>
                    <a:lnTo>
                      <a:pt x="43" y="183"/>
                    </a:lnTo>
                    <a:lnTo>
                      <a:pt x="57" y="144"/>
                    </a:lnTo>
                    <a:lnTo>
                      <a:pt x="73" y="104"/>
                    </a:lnTo>
                    <a:lnTo>
                      <a:pt x="94" y="68"/>
                    </a:lnTo>
                    <a:lnTo>
                      <a:pt x="118" y="33"/>
                    </a:lnTo>
                    <a:lnTo>
                      <a:pt x="148" y="0"/>
                    </a:lnTo>
                    <a:lnTo>
                      <a:pt x="108" y="3"/>
                    </a:lnTo>
                    <a:close/>
                  </a:path>
                </a:pathLst>
              </a:custGeom>
              <a:solidFill>
                <a:srgbClr val="2f4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200280" y="4232160"/>
                <a:ext cx="93240" cy="93960"/>
              </a:xfrm>
              <a:custGeom>
                <a:avLst/>
                <a:gdLst/>
                <a:ahLst/>
                <a:rect l="l" t="t" r="r" b="b"/>
                <a:pathLst>
                  <a:path w="327" h="331">
                    <a:moveTo>
                      <a:pt x="203" y="5"/>
                    </a:moveTo>
                    <a:lnTo>
                      <a:pt x="185" y="1"/>
                    </a:lnTo>
                    <a:lnTo>
                      <a:pt x="166" y="0"/>
                    </a:lnTo>
                    <a:lnTo>
                      <a:pt x="133" y="3"/>
                    </a:lnTo>
                    <a:lnTo>
                      <a:pt x="102" y="12"/>
                    </a:lnTo>
                    <a:lnTo>
                      <a:pt x="74" y="26"/>
                    </a:lnTo>
                    <a:lnTo>
                      <a:pt x="60" y="37"/>
                    </a:lnTo>
                    <a:lnTo>
                      <a:pt x="49" y="49"/>
                    </a:lnTo>
                    <a:lnTo>
                      <a:pt x="36" y="60"/>
                    </a:lnTo>
                    <a:lnTo>
                      <a:pt x="26" y="74"/>
                    </a:lnTo>
                    <a:lnTo>
                      <a:pt x="11" y="102"/>
                    </a:lnTo>
                    <a:lnTo>
                      <a:pt x="2" y="133"/>
                    </a:lnTo>
                    <a:lnTo>
                      <a:pt x="0" y="166"/>
                    </a:lnTo>
                    <a:lnTo>
                      <a:pt x="0" y="182"/>
                    </a:lnTo>
                    <a:lnTo>
                      <a:pt x="2" y="199"/>
                    </a:lnTo>
                    <a:lnTo>
                      <a:pt x="6" y="214"/>
                    </a:lnTo>
                    <a:lnTo>
                      <a:pt x="11" y="229"/>
                    </a:lnTo>
                    <a:lnTo>
                      <a:pt x="17" y="243"/>
                    </a:lnTo>
                    <a:lnTo>
                      <a:pt x="26" y="257"/>
                    </a:lnTo>
                    <a:lnTo>
                      <a:pt x="36" y="269"/>
                    </a:lnTo>
                    <a:lnTo>
                      <a:pt x="49" y="283"/>
                    </a:lnTo>
                    <a:lnTo>
                      <a:pt x="60" y="293"/>
                    </a:lnTo>
                    <a:lnTo>
                      <a:pt x="74" y="303"/>
                    </a:lnTo>
                    <a:lnTo>
                      <a:pt x="102" y="319"/>
                    </a:lnTo>
                    <a:lnTo>
                      <a:pt x="133" y="328"/>
                    </a:lnTo>
                    <a:lnTo>
                      <a:pt x="149" y="330"/>
                    </a:lnTo>
                    <a:lnTo>
                      <a:pt x="166" y="331"/>
                    </a:lnTo>
                    <a:lnTo>
                      <a:pt x="181" y="330"/>
                    </a:lnTo>
                    <a:lnTo>
                      <a:pt x="198" y="328"/>
                    </a:lnTo>
                    <a:lnTo>
                      <a:pt x="213" y="323"/>
                    </a:lnTo>
                    <a:lnTo>
                      <a:pt x="229" y="319"/>
                    </a:lnTo>
                    <a:lnTo>
                      <a:pt x="243" y="311"/>
                    </a:lnTo>
                    <a:lnTo>
                      <a:pt x="250" y="306"/>
                    </a:lnTo>
                    <a:lnTo>
                      <a:pt x="253" y="304"/>
                    </a:lnTo>
                    <a:lnTo>
                      <a:pt x="257" y="303"/>
                    </a:lnTo>
                    <a:lnTo>
                      <a:pt x="260" y="300"/>
                    </a:lnTo>
                    <a:lnTo>
                      <a:pt x="263" y="297"/>
                    </a:lnTo>
                    <a:lnTo>
                      <a:pt x="270" y="293"/>
                    </a:lnTo>
                    <a:lnTo>
                      <a:pt x="284" y="283"/>
                    </a:lnTo>
                    <a:lnTo>
                      <a:pt x="290" y="274"/>
                    </a:lnTo>
                    <a:lnTo>
                      <a:pt x="297" y="266"/>
                    </a:lnTo>
                    <a:lnTo>
                      <a:pt x="303" y="257"/>
                    </a:lnTo>
                    <a:lnTo>
                      <a:pt x="310" y="249"/>
                    </a:lnTo>
                    <a:lnTo>
                      <a:pt x="314" y="238"/>
                    </a:lnTo>
                    <a:lnTo>
                      <a:pt x="319" y="229"/>
                    </a:lnTo>
                    <a:lnTo>
                      <a:pt x="319" y="226"/>
                    </a:lnTo>
                    <a:lnTo>
                      <a:pt x="320" y="224"/>
                    </a:lnTo>
                    <a:lnTo>
                      <a:pt x="322" y="219"/>
                    </a:lnTo>
                    <a:lnTo>
                      <a:pt x="327" y="210"/>
                    </a:lnTo>
                    <a:lnTo>
                      <a:pt x="315" y="178"/>
                    </a:lnTo>
                    <a:lnTo>
                      <a:pt x="303" y="147"/>
                    </a:lnTo>
                    <a:lnTo>
                      <a:pt x="303" y="156"/>
                    </a:lnTo>
                    <a:lnTo>
                      <a:pt x="303" y="160"/>
                    </a:lnTo>
                    <a:lnTo>
                      <a:pt x="303" y="162"/>
                    </a:lnTo>
                    <a:lnTo>
                      <a:pt x="303" y="164"/>
                    </a:lnTo>
                    <a:lnTo>
                      <a:pt x="304" y="166"/>
                    </a:lnTo>
                    <a:lnTo>
                      <a:pt x="303" y="168"/>
                    </a:lnTo>
                    <a:lnTo>
                      <a:pt x="303" y="172"/>
                    </a:lnTo>
                    <a:lnTo>
                      <a:pt x="303" y="178"/>
                    </a:lnTo>
                    <a:lnTo>
                      <a:pt x="301" y="192"/>
                    </a:lnTo>
                    <a:lnTo>
                      <a:pt x="298" y="198"/>
                    </a:lnTo>
                    <a:lnTo>
                      <a:pt x="297" y="204"/>
                    </a:lnTo>
                    <a:lnTo>
                      <a:pt x="294" y="218"/>
                    </a:lnTo>
                    <a:lnTo>
                      <a:pt x="287" y="229"/>
                    </a:lnTo>
                    <a:lnTo>
                      <a:pt x="280" y="242"/>
                    </a:lnTo>
                    <a:lnTo>
                      <a:pt x="276" y="246"/>
                    </a:lnTo>
                    <a:lnTo>
                      <a:pt x="273" y="249"/>
                    </a:lnTo>
                    <a:lnTo>
                      <a:pt x="272" y="249"/>
                    </a:lnTo>
                    <a:lnTo>
                      <a:pt x="272" y="250"/>
                    </a:lnTo>
                    <a:lnTo>
                      <a:pt x="272" y="252"/>
                    </a:lnTo>
                    <a:lnTo>
                      <a:pt x="263" y="263"/>
                    </a:lnTo>
                    <a:lnTo>
                      <a:pt x="252" y="272"/>
                    </a:lnTo>
                    <a:lnTo>
                      <a:pt x="250" y="272"/>
                    </a:lnTo>
                    <a:lnTo>
                      <a:pt x="248" y="272"/>
                    </a:lnTo>
                    <a:lnTo>
                      <a:pt x="248" y="274"/>
                    </a:lnTo>
                    <a:lnTo>
                      <a:pt x="246" y="276"/>
                    </a:lnTo>
                    <a:lnTo>
                      <a:pt x="242" y="280"/>
                    </a:lnTo>
                    <a:lnTo>
                      <a:pt x="229" y="287"/>
                    </a:lnTo>
                    <a:lnTo>
                      <a:pt x="218" y="294"/>
                    </a:lnTo>
                    <a:lnTo>
                      <a:pt x="204" y="297"/>
                    </a:lnTo>
                    <a:lnTo>
                      <a:pt x="197" y="299"/>
                    </a:lnTo>
                    <a:lnTo>
                      <a:pt x="192" y="301"/>
                    </a:lnTo>
                    <a:lnTo>
                      <a:pt x="178" y="303"/>
                    </a:lnTo>
                    <a:lnTo>
                      <a:pt x="171" y="303"/>
                    </a:lnTo>
                    <a:lnTo>
                      <a:pt x="168" y="303"/>
                    </a:lnTo>
                    <a:lnTo>
                      <a:pt x="166" y="304"/>
                    </a:lnTo>
                    <a:lnTo>
                      <a:pt x="151" y="303"/>
                    </a:lnTo>
                    <a:lnTo>
                      <a:pt x="137" y="301"/>
                    </a:lnTo>
                    <a:lnTo>
                      <a:pt x="112" y="294"/>
                    </a:lnTo>
                    <a:lnTo>
                      <a:pt x="89" y="280"/>
                    </a:lnTo>
                    <a:lnTo>
                      <a:pt x="77" y="272"/>
                    </a:lnTo>
                    <a:lnTo>
                      <a:pt x="68" y="263"/>
                    </a:lnTo>
                    <a:lnTo>
                      <a:pt x="58" y="252"/>
                    </a:lnTo>
                    <a:lnTo>
                      <a:pt x="50" y="242"/>
                    </a:lnTo>
                    <a:lnTo>
                      <a:pt x="42" y="229"/>
                    </a:lnTo>
                    <a:lnTo>
                      <a:pt x="37" y="218"/>
                    </a:lnTo>
                    <a:lnTo>
                      <a:pt x="33" y="204"/>
                    </a:lnTo>
                    <a:lnTo>
                      <a:pt x="31" y="192"/>
                    </a:lnTo>
                    <a:lnTo>
                      <a:pt x="28" y="178"/>
                    </a:lnTo>
                    <a:lnTo>
                      <a:pt x="28" y="166"/>
                    </a:lnTo>
                    <a:lnTo>
                      <a:pt x="31" y="138"/>
                    </a:lnTo>
                    <a:lnTo>
                      <a:pt x="37" y="113"/>
                    </a:lnTo>
                    <a:lnTo>
                      <a:pt x="50" y="89"/>
                    </a:lnTo>
                    <a:lnTo>
                      <a:pt x="68" y="68"/>
                    </a:lnTo>
                    <a:lnTo>
                      <a:pt x="89" y="50"/>
                    </a:lnTo>
                    <a:lnTo>
                      <a:pt x="112" y="38"/>
                    </a:lnTo>
                    <a:lnTo>
                      <a:pt x="137" y="31"/>
                    </a:lnTo>
                    <a:lnTo>
                      <a:pt x="166" y="29"/>
                    </a:lnTo>
                    <a:lnTo>
                      <a:pt x="187" y="30"/>
                    </a:lnTo>
                    <a:lnTo>
                      <a:pt x="208" y="34"/>
                    </a:lnTo>
                    <a:lnTo>
                      <a:pt x="227" y="42"/>
                    </a:lnTo>
                    <a:lnTo>
                      <a:pt x="236" y="47"/>
                    </a:lnTo>
                    <a:lnTo>
                      <a:pt x="246" y="54"/>
                    </a:lnTo>
                    <a:lnTo>
                      <a:pt x="225" y="28"/>
                    </a:lnTo>
                    <a:lnTo>
                      <a:pt x="203" y="5"/>
                    </a:lnTo>
                    <a:close/>
                  </a:path>
                </a:pathLst>
              </a:custGeom>
              <a:solidFill>
                <a:srgbClr val="56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208200" y="4240440"/>
                <a:ext cx="78120" cy="78480"/>
              </a:xfrm>
              <a:custGeom>
                <a:avLst/>
                <a:gdLst/>
                <a:ahLst/>
                <a:rect l="l" t="t" r="r" b="b"/>
                <a:pathLst>
                  <a:path w="276" h="275">
                    <a:moveTo>
                      <a:pt x="235" y="234"/>
                    </a:moveTo>
                    <a:lnTo>
                      <a:pt x="244" y="223"/>
                    </a:lnTo>
                    <a:lnTo>
                      <a:pt x="244" y="221"/>
                    </a:lnTo>
                    <a:lnTo>
                      <a:pt x="244" y="220"/>
                    </a:lnTo>
                    <a:lnTo>
                      <a:pt x="245" y="220"/>
                    </a:lnTo>
                    <a:lnTo>
                      <a:pt x="248" y="217"/>
                    </a:lnTo>
                    <a:lnTo>
                      <a:pt x="252" y="213"/>
                    </a:lnTo>
                    <a:lnTo>
                      <a:pt x="259" y="200"/>
                    </a:lnTo>
                    <a:lnTo>
                      <a:pt x="266" y="189"/>
                    </a:lnTo>
                    <a:lnTo>
                      <a:pt x="269" y="175"/>
                    </a:lnTo>
                    <a:lnTo>
                      <a:pt x="270" y="169"/>
                    </a:lnTo>
                    <a:lnTo>
                      <a:pt x="273" y="163"/>
                    </a:lnTo>
                    <a:lnTo>
                      <a:pt x="275" y="149"/>
                    </a:lnTo>
                    <a:lnTo>
                      <a:pt x="275" y="143"/>
                    </a:lnTo>
                    <a:lnTo>
                      <a:pt x="275" y="139"/>
                    </a:lnTo>
                    <a:lnTo>
                      <a:pt x="276" y="137"/>
                    </a:lnTo>
                    <a:lnTo>
                      <a:pt x="275" y="135"/>
                    </a:lnTo>
                    <a:lnTo>
                      <a:pt x="275" y="133"/>
                    </a:lnTo>
                    <a:lnTo>
                      <a:pt x="275" y="131"/>
                    </a:lnTo>
                    <a:lnTo>
                      <a:pt x="275" y="127"/>
                    </a:lnTo>
                    <a:lnTo>
                      <a:pt x="275" y="118"/>
                    </a:lnTo>
                    <a:lnTo>
                      <a:pt x="262" y="93"/>
                    </a:lnTo>
                    <a:lnTo>
                      <a:pt x="249" y="69"/>
                    </a:lnTo>
                    <a:lnTo>
                      <a:pt x="234" y="46"/>
                    </a:lnTo>
                    <a:lnTo>
                      <a:pt x="218" y="25"/>
                    </a:lnTo>
                    <a:lnTo>
                      <a:pt x="208" y="18"/>
                    </a:lnTo>
                    <a:lnTo>
                      <a:pt x="199" y="13"/>
                    </a:lnTo>
                    <a:lnTo>
                      <a:pt x="180" y="5"/>
                    </a:lnTo>
                    <a:lnTo>
                      <a:pt x="159" y="1"/>
                    </a:lnTo>
                    <a:lnTo>
                      <a:pt x="138" y="0"/>
                    </a:lnTo>
                    <a:lnTo>
                      <a:pt x="109" y="2"/>
                    </a:lnTo>
                    <a:lnTo>
                      <a:pt x="84" y="9"/>
                    </a:lnTo>
                    <a:lnTo>
                      <a:pt x="61" y="21"/>
                    </a:lnTo>
                    <a:lnTo>
                      <a:pt x="40" y="39"/>
                    </a:lnTo>
                    <a:lnTo>
                      <a:pt x="22" y="60"/>
                    </a:lnTo>
                    <a:lnTo>
                      <a:pt x="9" y="84"/>
                    </a:lnTo>
                    <a:lnTo>
                      <a:pt x="3" y="109"/>
                    </a:lnTo>
                    <a:lnTo>
                      <a:pt x="0" y="137"/>
                    </a:lnTo>
                    <a:lnTo>
                      <a:pt x="0" y="149"/>
                    </a:lnTo>
                    <a:lnTo>
                      <a:pt x="3" y="163"/>
                    </a:lnTo>
                    <a:lnTo>
                      <a:pt x="5" y="175"/>
                    </a:lnTo>
                    <a:lnTo>
                      <a:pt x="9" y="189"/>
                    </a:lnTo>
                    <a:lnTo>
                      <a:pt x="14" y="200"/>
                    </a:lnTo>
                    <a:lnTo>
                      <a:pt x="22" y="213"/>
                    </a:lnTo>
                    <a:lnTo>
                      <a:pt x="30" y="223"/>
                    </a:lnTo>
                    <a:lnTo>
                      <a:pt x="40" y="234"/>
                    </a:lnTo>
                    <a:lnTo>
                      <a:pt x="49" y="243"/>
                    </a:lnTo>
                    <a:lnTo>
                      <a:pt x="61" y="251"/>
                    </a:lnTo>
                    <a:lnTo>
                      <a:pt x="84" y="265"/>
                    </a:lnTo>
                    <a:lnTo>
                      <a:pt x="109" y="272"/>
                    </a:lnTo>
                    <a:lnTo>
                      <a:pt x="123" y="274"/>
                    </a:lnTo>
                    <a:lnTo>
                      <a:pt x="138" y="275"/>
                    </a:lnTo>
                    <a:lnTo>
                      <a:pt x="140" y="274"/>
                    </a:lnTo>
                    <a:lnTo>
                      <a:pt x="143" y="274"/>
                    </a:lnTo>
                    <a:lnTo>
                      <a:pt x="150" y="274"/>
                    </a:lnTo>
                    <a:lnTo>
                      <a:pt x="164" y="272"/>
                    </a:lnTo>
                    <a:lnTo>
                      <a:pt x="169" y="270"/>
                    </a:lnTo>
                    <a:lnTo>
                      <a:pt x="176" y="268"/>
                    </a:lnTo>
                    <a:lnTo>
                      <a:pt x="190" y="265"/>
                    </a:lnTo>
                    <a:lnTo>
                      <a:pt x="201" y="258"/>
                    </a:lnTo>
                    <a:lnTo>
                      <a:pt x="214" y="251"/>
                    </a:lnTo>
                    <a:lnTo>
                      <a:pt x="218" y="247"/>
                    </a:lnTo>
                    <a:lnTo>
                      <a:pt x="220" y="245"/>
                    </a:lnTo>
                    <a:lnTo>
                      <a:pt x="220" y="243"/>
                    </a:lnTo>
                    <a:lnTo>
                      <a:pt x="222" y="243"/>
                    </a:lnTo>
                    <a:lnTo>
                      <a:pt x="224" y="243"/>
                    </a:lnTo>
                    <a:lnTo>
                      <a:pt x="235" y="234"/>
                    </a:lnTo>
                    <a:close/>
                    <a:moveTo>
                      <a:pt x="61" y="215"/>
                    </a:moveTo>
                    <a:lnTo>
                      <a:pt x="51" y="206"/>
                    </a:lnTo>
                    <a:lnTo>
                      <a:pt x="45" y="198"/>
                    </a:lnTo>
                    <a:lnTo>
                      <a:pt x="39" y="188"/>
                    </a:lnTo>
                    <a:lnTo>
                      <a:pt x="36" y="179"/>
                    </a:lnTo>
                    <a:lnTo>
                      <a:pt x="29" y="158"/>
                    </a:lnTo>
                    <a:lnTo>
                      <a:pt x="28" y="137"/>
                    </a:lnTo>
                    <a:lnTo>
                      <a:pt x="29" y="114"/>
                    </a:lnTo>
                    <a:lnTo>
                      <a:pt x="36" y="94"/>
                    </a:lnTo>
                    <a:lnTo>
                      <a:pt x="45" y="75"/>
                    </a:lnTo>
                    <a:lnTo>
                      <a:pt x="61" y="59"/>
                    </a:lnTo>
                    <a:lnTo>
                      <a:pt x="76" y="44"/>
                    </a:lnTo>
                    <a:lnTo>
                      <a:pt x="96" y="35"/>
                    </a:lnTo>
                    <a:lnTo>
                      <a:pt x="115" y="28"/>
                    </a:lnTo>
                    <a:lnTo>
                      <a:pt x="138" y="27"/>
                    </a:lnTo>
                    <a:lnTo>
                      <a:pt x="159" y="28"/>
                    </a:lnTo>
                    <a:lnTo>
                      <a:pt x="180" y="35"/>
                    </a:lnTo>
                    <a:lnTo>
                      <a:pt x="189" y="38"/>
                    </a:lnTo>
                    <a:lnTo>
                      <a:pt x="199" y="44"/>
                    </a:lnTo>
                    <a:lnTo>
                      <a:pt x="216" y="59"/>
                    </a:lnTo>
                    <a:lnTo>
                      <a:pt x="229" y="75"/>
                    </a:lnTo>
                    <a:lnTo>
                      <a:pt x="240" y="94"/>
                    </a:lnTo>
                    <a:lnTo>
                      <a:pt x="246" y="114"/>
                    </a:lnTo>
                    <a:lnTo>
                      <a:pt x="249" y="137"/>
                    </a:lnTo>
                    <a:lnTo>
                      <a:pt x="248" y="141"/>
                    </a:lnTo>
                    <a:lnTo>
                      <a:pt x="248" y="147"/>
                    </a:lnTo>
                    <a:lnTo>
                      <a:pt x="246" y="158"/>
                    </a:lnTo>
                    <a:lnTo>
                      <a:pt x="240" y="179"/>
                    </a:lnTo>
                    <a:lnTo>
                      <a:pt x="234" y="188"/>
                    </a:lnTo>
                    <a:lnTo>
                      <a:pt x="229" y="198"/>
                    </a:lnTo>
                    <a:lnTo>
                      <a:pt x="223" y="206"/>
                    </a:lnTo>
                    <a:lnTo>
                      <a:pt x="216" y="215"/>
                    </a:lnTo>
                    <a:lnTo>
                      <a:pt x="207" y="222"/>
                    </a:lnTo>
                    <a:lnTo>
                      <a:pt x="199" y="229"/>
                    </a:lnTo>
                    <a:lnTo>
                      <a:pt x="189" y="233"/>
                    </a:lnTo>
                    <a:lnTo>
                      <a:pt x="180" y="239"/>
                    </a:lnTo>
                    <a:lnTo>
                      <a:pt x="159" y="246"/>
                    </a:lnTo>
                    <a:lnTo>
                      <a:pt x="148" y="247"/>
                    </a:lnTo>
                    <a:lnTo>
                      <a:pt x="142" y="247"/>
                    </a:lnTo>
                    <a:lnTo>
                      <a:pt x="138" y="248"/>
                    </a:lnTo>
                    <a:lnTo>
                      <a:pt x="115" y="246"/>
                    </a:lnTo>
                    <a:lnTo>
                      <a:pt x="96" y="239"/>
                    </a:lnTo>
                    <a:lnTo>
                      <a:pt x="76" y="229"/>
                    </a:lnTo>
                    <a:lnTo>
                      <a:pt x="61" y="215"/>
                    </a:lnTo>
                    <a:close/>
                  </a:path>
                </a:pathLst>
              </a:custGeom>
              <a:solidFill>
                <a:srgbClr val="59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15760" y="424764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221" h="221">
                    <a:moveTo>
                      <a:pt x="0" y="110"/>
                    </a:moveTo>
                    <a:lnTo>
                      <a:pt x="1" y="131"/>
                    </a:lnTo>
                    <a:lnTo>
                      <a:pt x="8" y="152"/>
                    </a:lnTo>
                    <a:lnTo>
                      <a:pt x="11" y="161"/>
                    </a:lnTo>
                    <a:lnTo>
                      <a:pt x="17" y="171"/>
                    </a:lnTo>
                    <a:lnTo>
                      <a:pt x="23" y="179"/>
                    </a:lnTo>
                    <a:lnTo>
                      <a:pt x="33" y="188"/>
                    </a:lnTo>
                    <a:lnTo>
                      <a:pt x="48" y="202"/>
                    </a:lnTo>
                    <a:lnTo>
                      <a:pt x="68" y="212"/>
                    </a:lnTo>
                    <a:lnTo>
                      <a:pt x="87" y="219"/>
                    </a:lnTo>
                    <a:lnTo>
                      <a:pt x="110" y="221"/>
                    </a:lnTo>
                    <a:lnTo>
                      <a:pt x="114" y="220"/>
                    </a:lnTo>
                    <a:lnTo>
                      <a:pt x="120" y="220"/>
                    </a:lnTo>
                    <a:lnTo>
                      <a:pt x="131" y="219"/>
                    </a:lnTo>
                    <a:lnTo>
                      <a:pt x="152" y="212"/>
                    </a:lnTo>
                    <a:lnTo>
                      <a:pt x="161" y="206"/>
                    </a:lnTo>
                    <a:lnTo>
                      <a:pt x="171" y="202"/>
                    </a:lnTo>
                    <a:lnTo>
                      <a:pt x="179" y="195"/>
                    </a:lnTo>
                    <a:lnTo>
                      <a:pt x="188" y="188"/>
                    </a:lnTo>
                    <a:lnTo>
                      <a:pt x="195" y="179"/>
                    </a:lnTo>
                    <a:lnTo>
                      <a:pt x="201" y="171"/>
                    </a:lnTo>
                    <a:lnTo>
                      <a:pt x="206" y="161"/>
                    </a:lnTo>
                    <a:lnTo>
                      <a:pt x="212" y="152"/>
                    </a:lnTo>
                    <a:lnTo>
                      <a:pt x="218" y="131"/>
                    </a:lnTo>
                    <a:lnTo>
                      <a:pt x="220" y="120"/>
                    </a:lnTo>
                    <a:lnTo>
                      <a:pt x="220" y="114"/>
                    </a:lnTo>
                    <a:lnTo>
                      <a:pt x="221" y="110"/>
                    </a:lnTo>
                    <a:lnTo>
                      <a:pt x="218" y="87"/>
                    </a:lnTo>
                    <a:lnTo>
                      <a:pt x="212" y="67"/>
                    </a:lnTo>
                    <a:lnTo>
                      <a:pt x="201" y="48"/>
                    </a:lnTo>
                    <a:lnTo>
                      <a:pt x="188" y="32"/>
                    </a:lnTo>
                    <a:lnTo>
                      <a:pt x="171" y="17"/>
                    </a:lnTo>
                    <a:lnTo>
                      <a:pt x="161" y="11"/>
                    </a:lnTo>
                    <a:lnTo>
                      <a:pt x="152" y="8"/>
                    </a:lnTo>
                    <a:lnTo>
                      <a:pt x="131" y="1"/>
                    </a:lnTo>
                    <a:lnTo>
                      <a:pt x="110" y="0"/>
                    </a:lnTo>
                    <a:lnTo>
                      <a:pt x="87" y="1"/>
                    </a:lnTo>
                    <a:lnTo>
                      <a:pt x="68" y="8"/>
                    </a:lnTo>
                    <a:lnTo>
                      <a:pt x="48" y="17"/>
                    </a:lnTo>
                    <a:lnTo>
                      <a:pt x="33" y="32"/>
                    </a:lnTo>
                    <a:lnTo>
                      <a:pt x="17" y="48"/>
                    </a:lnTo>
                    <a:lnTo>
                      <a:pt x="8" y="67"/>
                    </a:lnTo>
                    <a:lnTo>
                      <a:pt x="1" y="87"/>
                    </a:lnTo>
                    <a:lnTo>
                      <a:pt x="0" y="110"/>
                    </a:lnTo>
                    <a:close/>
                    <a:moveTo>
                      <a:pt x="52" y="169"/>
                    </a:moveTo>
                    <a:lnTo>
                      <a:pt x="40" y="155"/>
                    </a:lnTo>
                    <a:lnTo>
                      <a:pt x="34" y="142"/>
                    </a:lnTo>
                    <a:lnTo>
                      <a:pt x="29" y="126"/>
                    </a:lnTo>
                    <a:lnTo>
                      <a:pt x="28" y="110"/>
                    </a:lnTo>
                    <a:lnTo>
                      <a:pt x="29" y="93"/>
                    </a:lnTo>
                    <a:lnTo>
                      <a:pt x="34" y="78"/>
                    </a:lnTo>
                    <a:lnTo>
                      <a:pt x="40" y="63"/>
                    </a:lnTo>
                    <a:lnTo>
                      <a:pt x="52" y="52"/>
                    </a:lnTo>
                    <a:lnTo>
                      <a:pt x="63" y="41"/>
                    </a:lnTo>
                    <a:lnTo>
                      <a:pt x="78" y="33"/>
                    </a:lnTo>
                    <a:lnTo>
                      <a:pt x="93" y="28"/>
                    </a:lnTo>
                    <a:lnTo>
                      <a:pt x="110" y="27"/>
                    </a:lnTo>
                    <a:lnTo>
                      <a:pt x="125" y="28"/>
                    </a:lnTo>
                    <a:lnTo>
                      <a:pt x="141" y="33"/>
                    </a:lnTo>
                    <a:lnTo>
                      <a:pt x="155" y="41"/>
                    </a:lnTo>
                    <a:lnTo>
                      <a:pt x="169" y="52"/>
                    </a:lnTo>
                    <a:lnTo>
                      <a:pt x="178" y="63"/>
                    </a:lnTo>
                    <a:lnTo>
                      <a:pt x="186" y="78"/>
                    </a:lnTo>
                    <a:lnTo>
                      <a:pt x="190" y="93"/>
                    </a:lnTo>
                    <a:lnTo>
                      <a:pt x="192" y="110"/>
                    </a:lnTo>
                    <a:lnTo>
                      <a:pt x="190" y="126"/>
                    </a:lnTo>
                    <a:lnTo>
                      <a:pt x="186" y="142"/>
                    </a:lnTo>
                    <a:lnTo>
                      <a:pt x="178" y="155"/>
                    </a:lnTo>
                    <a:lnTo>
                      <a:pt x="169" y="169"/>
                    </a:lnTo>
                    <a:lnTo>
                      <a:pt x="155" y="178"/>
                    </a:lnTo>
                    <a:lnTo>
                      <a:pt x="141" y="186"/>
                    </a:lnTo>
                    <a:lnTo>
                      <a:pt x="125" y="190"/>
                    </a:lnTo>
                    <a:lnTo>
                      <a:pt x="110" y="193"/>
                    </a:lnTo>
                    <a:lnTo>
                      <a:pt x="93" y="190"/>
                    </a:lnTo>
                    <a:lnTo>
                      <a:pt x="78" y="186"/>
                    </a:lnTo>
                    <a:lnTo>
                      <a:pt x="63" y="178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5c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23680" y="425592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164" h="166">
                    <a:moveTo>
                      <a:pt x="0" y="83"/>
                    </a:moveTo>
                    <a:lnTo>
                      <a:pt x="1" y="99"/>
                    </a:lnTo>
                    <a:lnTo>
                      <a:pt x="6" y="115"/>
                    </a:lnTo>
                    <a:lnTo>
                      <a:pt x="12" y="128"/>
                    </a:lnTo>
                    <a:lnTo>
                      <a:pt x="24" y="142"/>
                    </a:lnTo>
                    <a:lnTo>
                      <a:pt x="35" y="151"/>
                    </a:lnTo>
                    <a:lnTo>
                      <a:pt x="50" y="159"/>
                    </a:lnTo>
                    <a:lnTo>
                      <a:pt x="65" y="163"/>
                    </a:lnTo>
                    <a:lnTo>
                      <a:pt x="82" y="166"/>
                    </a:lnTo>
                    <a:lnTo>
                      <a:pt x="97" y="163"/>
                    </a:lnTo>
                    <a:lnTo>
                      <a:pt x="113" y="159"/>
                    </a:lnTo>
                    <a:lnTo>
                      <a:pt x="127" y="151"/>
                    </a:lnTo>
                    <a:lnTo>
                      <a:pt x="141" y="142"/>
                    </a:lnTo>
                    <a:lnTo>
                      <a:pt x="150" y="128"/>
                    </a:lnTo>
                    <a:lnTo>
                      <a:pt x="158" y="115"/>
                    </a:lnTo>
                    <a:lnTo>
                      <a:pt x="162" y="99"/>
                    </a:lnTo>
                    <a:lnTo>
                      <a:pt x="164" y="83"/>
                    </a:lnTo>
                    <a:lnTo>
                      <a:pt x="162" y="66"/>
                    </a:lnTo>
                    <a:lnTo>
                      <a:pt x="158" y="51"/>
                    </a:lnTo>
                    <a:lnTo>
                      <a:pt x="150" y="36"/>
                    </a:lnTo>
                    <a:lnTo>
                      <a:pt x="141" y="25"/>
                    </a:lnTo>
                    <a:lnTo>
                      <a:pt x="127" y="14"/>
                    </a:lnTo>
                    <a:lnTo>
                      <a:pt x="113" y="6"/>
                    </a:lnTo>
                    <a:lnTo>
                      <a:pt x="97" y="1"/>
                    </a:lnTo>
                    <a:lnTo>
                      <a:pt x="82" y="0"/>
                    </a:lnTo>
                    <a:lnTo>
                      <a:pt x="65" y="1"/>
                    </a:lnTo>
                    <a:lnTo>
                      <a:pt x="50" y="6"/>
                    </a:lnTo>
                    <a:lnTo>
                      <a:pt x="35" y="14"/>
                    </a:lnTo>
                    <a:lnTo>
                      <a:pt x="24" y="25"/>
                    </a:lnTo>
                    <a:lnTo>
                      <a:pt x="12" y="36"/>
                    </a:lnTo>
                    <a:lnTo>
                      <a:pt x="6" y="51"/>
                    </a:lnTo>
                    <a:lnTo>
                      <a:pt x="1" y="66"/>
                    </a:lnTo>
                    <a:lnTo>
                      <a:pt x="0" y="83"/>
                    </a:lnTo>
                    <a:close/>
                    <a:moveTo>
                      <a:pt x="82" y="28"/>
                    </a:moveTo>
                    <a:lnTo>
                      <a:pt x="92" y="28"/>
                    </a:lnTo>
                    <a:lnTo>
                      <a:pt x="102" y="32"/>
                    </a:lnTo>
                    <a:lnTo>
                      <a:pt x="111" y="36"/>
                    </a:lnTo>
                    <a:lnTo>
                      <a:pt x="121" y="44"/>
                    </a:lnTo>
                    <a:lnTo>
                      <a:pt x="127" y="52"/>
                    </a:lnTo>
                    <a:lnTo>
                      <a:pt x="133" y="61"/>
                    </a:lnTo>
                    <a:lnTo>
                      <a:pt x="136" y="72"/>
                    </a:lnTo>
                    <a:lnTo>
                      <a:pt x="137" y="83"/>
                    </a:lnTo>
                    <a:lnTo>
                      <a:pt x="136" y="87"/>
                    </a:lnTo>
                    <a:lnTo>
                      <a:pt x="136" y="93"/>
                    </a:lnTo>
                    <a:lnTo>
                      <a:pt x="134" y="98"/>
                    </a:lnTo>
                    <a:lnTo>
                      <a:pt x="133" y="100"/>
                    </a:lnTo>
                    <a:lnTo>
                      <a:pt x="133" y="103"/>
                    </a:lnTo>
                    <a:lnTo>
                      <a:pt x="127" y="112"/>
                    </a:lnTo>
                    <a:lnTo>
                      <a:pt x="124" y="117"/>
                    </a:lnTo>
                    <a:lnTo>
                      <a:pt x="121" y="123"/>
                    </a:lnTo>
                    <a:lnTo>
                      <a:pt x="116" y="125"/>
                    </a:lnTo>
                    <a:lnTo>
                      <a:pt x="111" y="128"/>
                    </a:lnTo>
                    <a:lnTo>
                      <a:pt x="102" y="134"/>
                    </a:lnTo>
                    <a:lnTo>
                      <a:pt x="99" y="134"/>
                    </a:lnTo>
                    <a:lnTo>
                      <a:pt x="96" y="135"/>
                    </a:lnTo>
                    <a:lnTo>
                      <a:pt x="92" y="137"/>
                    </a:lnTo>
                    <a:lnTo>
                      <a:pt x="86" y="137"/>
                    </a:lnTo>
                    <a:lnTo>
                      <a:pt x="82" y="138"/>
                    </a:lnTo>
                    <a:lnTo>
                      <a:pt x="70" y="137"/>
                    </a:lnTo>
                    <a:lnTo>
                      <a:pt x="60" y="134"/>
                    </a:lnTo>
                    <a:lnTo>
                      <a:pt x="51" y="128"/>
                    </a:lnTo>
                    <a:lnTo>
                      <a:pt x="43" y="123"/>
                    </a:lnTo>
                    <a:lnTo>
                      <a:pt x="35" y="112"/>
                    </a:lnTo>
                    <a:lnTo>
                      <a:pt x="31" y="103"/>
                    </a:lnTo>
                    <a:lnTo>
                      <a:pt x="27" y="93"/>
                    </a:lnTo>
                    <a:lnTo>
                      <a:pt x="27" y="83"/>
                    </a:lnTo>
                    <a:lnTo>
                      <a:pt x="31" y="61"/>
                    </a:lnTo>
                    <a:lnTo>
                      <a:pt x="43" y="44"/>
                    </a:lnTo>
                    <a:lnTo>
                      <a:pt x="60" y="32"/>
                    </a:lnTo>
                    <a:lnTo>
                      <a:pt x="82" y="28"/>
                    </a:lnTo>
                    <a:close/>
                  </a:path>
                </a:pathLst>
              </a:custGeom>
              <a:solidFill>
                <a:srgbClr val="5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231600" y="42638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94" y="16"/>
                    </a:moveTo>
                    <a:lnTo>
                      <a:pt x="84" y="8"/>
                    </a:lnTo>
                    <a:lnTo>
                      <a:pt x="75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33" y="4"/>
                    </a:lnTo>
                    <a:lnTo>
                      <a:pt x="16" y="16"/>
                    </a:lnTo>
                    <a:lnTo>
                      <a:pt x="4" y="33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4" y="75"/>
                    </a:lnTo>
                    <a:lnTo>
                      <a:pt x="8" y="84"/>
                    </a:lnTo>
                    <a:lnTo>
                      <a:pt x="16" y="95"/>
                    </a:lnTo>
                    <a:lnTo>
                      <a:pt x="24" y="100"/>
                    </a:lnTo>
                    <a:lnTo>
                      <a:pt x="33" y="106"/>
                    </a:lnTo>
                    <a:lnTo>
                      <a:pt x="43" y="109"/>
                    </a:lnTo>
                    <a:lnTo>
                      <a:pt x="55" y="110"/>
                    </a:lnTo>
                    <a:lnTo>
                      <a:pt x="59" y="109"/>
                    </a:lnTo>
                    <a:lnTo>
                      <a:pt x="65" y="109"/>
                    </a:lnTo>
                    <a:lnTo>
                      <a:pt x="69" y="107"/>
                    </a:lnTo>
                    <a:lnTo>
                      <a:pt x="72" y="106"/>
                    </a:lnTo>
                    <a:lnTo>
                      <a:pt x="75" y="106"/>
                    </a:lnTo>
                    <a:lnTo>
                      <a:pt x="84" y="100"/>
                    </a:lnTo>
                    <a:lnTo>
                      <a:pt x="89" y="97"/>
                    </a:lnTo>
                    <a:lnTo>
                      <a:pt x="94" y="95"/>
                    </a:lnTo>
                    <a:lnTo>
                      <a:pt x="97" y="89"/>
                    </a:lnTo>
                    <a:lnTo>
                      <a:pt x="100" y="84"/>
                    </a:lnTo>
                    <a:lnTo>
                      <a:pt x="106" y="75"/>
                    </a:lnTo>
                    <a:lnTo>
                      <a:pt x="106" y="72"/>
                    </a:lnTo>
                    <a:lnTo>
                      <a:pt x="107" y="70"/>
                    </a:lnTo>
                    <a:lnTo>
                      <a:pt x="109" y="65"/>
                    </a:lnTo>
                    <a:lnTo>
                      <a:pt x="109" y="59"/>
                    </a:lnTo>
                    <a:lnTo>
                      <a:pt x="110" y="55"/>
                    </a:lnTo>
                    <a:lnTo>
                      <a:pt x="109" y="44"/>
                    </a:lnTo>
                    <a:lnTo>
                      <a:pt x="106" y="33"/>
                    </a:lnTo>
                    <a:lnTo>
                      <a:pt x="100" y="24"/>
                    </a:lnTo>
                    <a:lnTo>
                      <a:pt x="94" y="16"/>
                    </a:lnTo>
                    <a:close/>
                    <a:moveTo>
                      <a:pt x="55" y="28"/>
                    </a:moveTo>
                    <a:lnTo>
                      <a:pt x="65" y="29"/>
                    </a:lnTo>
                    <a:lnTo>
                      <a:pt x="69" y="31"/>
                    </a:lnTo>
                    <a:lnTo>
                      <a:pt x="75" y="36"/>
                    </a:lnTo>
                    <a:lnTo>
                      <a:pt x="81" y="44"/>
                    </a:lnTo>
                    <a:lnTo>
                      <a:pt x="83" y="55"/>
                    </a:lnTo>
                    <a:lnTo>
                      <a:pt x="82" y="59"/>
                    </a:lnTo>
                    <a:lnTo>
                      <a:pt x="81" y="62"/>
                    </a:lnTo>
                    <a:lnTo>
                      <a:pt x="81" y="65"/>
                    </a:lnTo>
                    <a:lnTo>
                      <a:pt x="77" y="70"/>
                    </a:lnTo>
                    <a:lnTo>
                      <a:pt x="75" y="74"/>
                    </a:lnTo>
                    <a:lnTo>
                      <a:pt x="69" y="76"/>
                    </a:lnTo>
                    <a:lnTo>
                      <a:pt x="65" y="80"/>
                    </a:lnTo>
                    <a:lnTo>
                      <a:pt x="61" y="80"/>
                    </a:lnTo>
                    <a:lnTo>
                      <a:pt x="59" y="81"/>
                    </a:lnTo>
                    <a:lnTo>
                      <a:pt x="55" y="82"/>
                    </a:lnTo>
                    <a:lnTo>
                      <a:pt x="43" y="80"/>
                    </a:lnTo>
                    <a:lnTo>
                      <a:pt x="35" y="74"/>
                    </a:lnTo>
                    <a:lnTo>
                      <a:pt x="31" y="70"/>
                    </a:lnTo>
                    <a:lnTo>
                      <a:pt x="29" y="65"/>
                    </a:lnTo>
                    <a:lnTo>
                      <a:pt x="27" y="55"/>
                    </a:lnTo>
                    <a:lnTo>
                      <a:pt x="29" y="44"/>
                    </a:lnTo>
                    <a:lnTo>
                      <a:pt x="35" y="36"/>
                    </a:lnTo>
                    <a:lnTo>
                      <a:pt x="43" y="29"/>
                    </a:lnTo>
                    <a:lnTo>
                      <a:pt x="55" y="28"/>
                    </a:lnTo>
                    <a:close/>
                  </a:path>
                </a:pathLst>
              </a:custGeom>
              <a:solidFill>
                <a:srgbClr val="62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239520" y="427176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48" y="8"/>
                    </a:moveTo>
                    <a:lnTo>
                      <a:pt x="42" y="3"/>
                    </a:lnTo>
                    <a:lnTo>
                      <a:pt x="38" y="1"/>
                    </a:lnTo>
                    <a:lnTo>
                      <a:pt x="28" y="0"/>
                    </a:lnTo>
                    <a:lnTo>
                      <a:pt x="16" y="1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4" y="42"/>
                    </a:lnTo>
                    <a:lnTo>
                      <a:pt x="8" y="46"/>
                    </a:lnTo>
                    <a:lnTo>
                      <a:pt x="16" y="52"/>
                    </a:lnTo>
                    <a:lnTo>
                      <a:pt x="28" y="54"/>
                    </a:lnTo>
                    <a:lnTo>
                      <a:pt x="32" y="53"/>
                    </a:lnTo>
                    <a:lnTo>
                      <a:pt x="34" y="52"/>
                    </a:lnTo>
                    <a:lnTo>
                      <a:pt x="38" y="52"/>
                    </a:lnTo>
                    <a:lnTo>
                      <a:pt x="42" y="48"/>
                    </a:lnTo>
                    <a:lnTo>
                      <a:pt x="48" y="46"/>
                    </a:lnTo>
                    <a:lnTo>
                      <a:pt x="50" y="42"/>
                    </a:lnTo>
                    <a:lnTo>
                      <a:pt x="54" y="37"/>
                    </a:lnTo>
                    <a:lnTo>
                      <a:pt x="54" y="34"/>
                    </a:lnTo>
                    <a:lnTo>
                      <a:pt x="55" y="31"/>
                    </a:lnTo>
                    <a:lnTo>
                      <a:pt x="56" y="27"/>
                    </a:lnTo>
                    <a:lnTo>
                      <a:pt x="54" y="16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010920" y="4344120"/>
                <a:ext cx="68400" cy="112320"/>
              </a:xfrm>
              <a:custGeom>
                <a:avLst/>
                <a:gdLst/>
                <a:ahLst/>
                <a:rect l="l" t="t" r="r" b="b"/>
                <a:pathLst>
                  <a:path w="239" h="393">
                    <a:moveTo>
                      <a:pt x="239" y="393"/>
                    </a:moveTo>
                    <a:lnTo>
                      <a:pt x="230" y="384"/>
                    </a:lnTo>
                    <a:lnTo>
                      <a:pt x="226" y="380"/>
                    </a:lnTo>
                    <a:lnTo>
                      <a:pt x="223" y="377"/>
                    </a:lnTo>
                    <a:lnTo>
                      <a:pt x="222" y="376"/>
                    </a:lnTo>
                    <a:lnTo>
                      <a:pt x="181" y="333"/>
                    </a:lnTo>
                    <a:lnTo>
                      <a:pt x="145" y="290"/>
                    </a:lnTo>
                    <a:lnTo>
                      <a:pt x="112" y="245"/>
                    </a:lnTo>
                    <a:lnTo>
                      <a:pt x="84" y="199"/>
                    </a:lnTo>
                    <a:lnTo>
                      <a:pt x="69" y="174"/>
                    </a:lnTo>
                    <a:lnTo>
                      <a:pt x="57" y="151"/>
                    </a:lnTo>
                    <a:lnTo>
                      <a:pt x="44" y="126"/>
                    </a:lnTo>
                    <a:lnTo>
                      <a:pt x="34" y="102"/>
                    </a:lnTo>
                    <a:lnTo>
                      <a:pt x="15" y="51"/>
                    </a:lnTo>
                    <a:lnTo>
                      <a:pt x="0" y="0"/>
                    </a:lnTo>
                    <a:lnTo>
                      <a:pt x="3" y="44"/>
                    </a:lnTo>
                    <a:lnTo>
                      <a:pt x="7" y="66"/>
                    </a:lnTo>
                    <a:lnTo>
                      <a:pt x="13" y="88"/>
                    </a:lnTo>
                    <a:lnTo>
                      <a:pt x="25" y="130"/>
                    </a:lnTo>
                    <a:lnTo>
                      <a:pt x="42" y="171"/>
                    </a:lnTo>
                    <a:lnTo>
                      <a:pt x="61" y="210"/>
                    </a:lnTo>
                    <a:lnTo>
                      <a:pt x="86" y="248"/>
                    </a:lnTo>
                    <a:lnTo>
                      <a:pt x="115" y="284"/>
                    </a:lnTo>
                    <a:lnTo>
                      <a:pt x="147" y="320"/>
                    </a:lnTo>
                    <a:lnTo>
                      <a:pt x="169" y="340"/>
                    </a:lnTo>
                    <a:lnTo>
                      <a:pt x="192" y="359"/>
                    </a:lnTo>
                    <a:lnTo>
                      <a:pt x="214" y="376"/>
                    </a:lnTo>
                    <a:lnTo>
                      <a:pt x="239" y="393"/>
                    </a:lnTo>
                    <a:close/>
                  </a:path>
                </a:pathLst>
              </a:custGeom>
              <a:solidFill>
                <a:srgbClr val="020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010200" y="4309920"/>
                <a:ext cx="96480" cy="159840"/>
              </a:xfrm>
              <a:custGeom>
                <a:avLst/>
                <a:gdLst/>
                <a:ahLst/>
                <a:rect l="l" t="t" r="r" b="b"/>
                <a:pathLst>
                  <a:path w="338" h="562">
                    <a:moveTo>
                      <a:pt x="223" y="498"/>
                    </a:moveTo>
                    <a:lnTo>
                      <a:pt x="224" y="499"/>
                    </a:lnTo>
                    <a:lnTo>
                      <a:pt x="227" y="502"/>
                    </a:lnTo>
                    <a:lnTo>
                      <a:pt x="231" y="506"/>
                    </a:lnTo>
                    <a:lnTo>
                      <a:pt x="240" y="515"/>
                    </a:lnTo>
                    <a:lnTo>
                      <a:pt x="263" y="529"/>
                    </a:lnTo>
                    <a:lnTo>
                      <a:pt x="287" y="541"/>
                    </a:lnTo>
                    <a:lnTo>
                      <a:pt x="338" y="562"/>
                    </a:lnTo>
                    <a:lnTo>
                      <a:pt x="313" y="542"/>
                    </a:lnTo>
                    <a:lnTo>
                      <a:pt x="289" y="522"/>
                    </a:lnTo>
                    <a:lnTo>
                      <a:pt x="243" y="479"/>
                    </a:lnTo>
                    <a:lnTo>
                      <a:pt x="216" y="452"/>
                    </a:lnTo>
                    <a:lnTo>
                      <a:pt x="194" y="426"/>
                    </a:lnTo>
                    <a:lnTo>
                      <a:pt x="171" y="398"/>
                    </a:lnTo>
                    <a:lnTo>
                      <a:pt x="151" y="372"/>
                    </a:lnTo>
                    <a:lnTo>
                      <a:pt x="130" y="343"/>
                    </a:lnTo>
                    <a:lnTo>
                      <a:pt x="113" y="315"/>
                    </a:lnTo>
                    <a:lnTo>
                      <a:pt x="96" y="285"/>
                    </a:lnTo>
                    <a:lnTo>
                      <a:pt x="82" y="257"/>
                    </a:lnTo>
                    <a:lnTo>
                      <a:pt x="67" y="225"/>
                    </a:lnTo>
                    <a:lnTo>
                      <a:pt x="54" y="194"/>
                    </a:lnTo>
                    <a:lnTo>
                      <a:pt x="42" y="163"/>
                    </a:lnTo>
                    <a:lnTo>
                      <a:pt x="33" y="132"/>
                    </a:lnTo>
                    <a:lnTo>
                      <a:pt x="24" y="99"/>
                    </a:lnTo>
                    <a:lnTo>
                      <a:pt x="17" y="67"/>
                    </a:lnTo>
                    <a:lnTo>
                      <a:pt x="10" y="33"/>
                    </a:lnTo>
                    <a:lnTo>
                      <a:pt x="7" y="0"/>
                    </a:lnTo>
                    <a:lnTo>
                      <a:pt x="1" y="41"/>
                    </a:lnTo>
                    <a:lnTo>
                      <a:pt x="0" y="84"/>
                    </a:lnTo>
                    <a:lnTo>
                      <a:pt x="1" y="122"/>
                    </a:lnTo>
                    <a:lnTo>
                      <a:pt x="16" y="173"/>
                    </a:lnTo>
                    <a:lnTo>
                      <a:pt x="35" y="224"/>
                    </a:lnTo>
                    <a:lnTo>
                      <a:pt x="45" y="248"/>
                    </a:lnTo>
                    <a:lnTo>
                      <a:pt x="58" y="273"/>
                    </a:lnTo>
                    <a:lnTo>
                      <a:pt x="70" y="296"/>
                    </a:lnTo>
                    <a:lnTo>
                      <a:pt x="85" y="321"/>
                    </a:lnTo>
                    <a:lnTo>
                      <a:pt x="113" y="367"/>
                    </a:lnTo>
                    <a:lnTo>
                      <a:pt x="146" y="412"/>
                    </a:lnTo>
                    <a:lnTo>
                      <a:pt x="182" y="455"/>
                    </a:lnTo>
                    <a:lnTo>
                      <a:pt x="223" y="498"/>
                    </a:lnTo>
                    <a:close/>
                  </a:path>
                </a:pathLst>
              </a:custGeom>
              <a:solidFill>
                <a:srgbClr val="060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12720" y="4285440"/>
                <a:ext cx="117000" cy="190800"/>
              </a:xfrm>
              <a:custGeom>
                <a:avLst/>
                <a:gdLst/>
                <a:ahLst/>
                <a:rect l="l" t="t" r="r" b="b"/>
                <a:pathLst>
                  <a:path w="409" h="668">
                    <a:moveTo>
                      <a:pt x="236" y="565"/>
                    </a:moveTo>
                    <a:lnTo>
                      <a:pt x="282" y="608"/>
                    </a:lnTo>
                    <a:lnTo>
                      <a:pt x="306" y="628"/>
                    </a:lnTo>
                    <a:lnTo>
                      <a:pt x="331" y="648"/>
                    </a:lnTo>
                    <a:lnTo>
                      <a:pt x="368" y="658"/>
                    </a:lnTo>
                    <a:lnTo>
                      <a:pt x="409" y="668"/>
                    </a:lnTo>
                    <a:lnTo>
                      <a:pt x="368" y="640"/>
                    </a:lnTo>
                    <a:lnTo>
                      <a:pt x="330" y="611"/>
                    </a:lnTo>
                    <a:lnTo>
                      <a:pt x="291" y="579"/>
                    </a:lnTo>
                    <a:lnTo>
                      <a:pt x="256" y="546"/>
                    </a:lnTo>
                    <a:lnTo>
                      <a:pt x="228" y="516"/>
                    </a:lnTo>
                    <a:lnTo>
                      <a:pt x="202" y="487"/>
                    </a:lnTo>
                    <a:lnTo>
                      <a:pt x="177" y="456"/>
                    </a:lnTo>
                    <a:lnTo>
                      <a:pt x="155" y="425"/>
                    </a:lnTo>
                    <a:lnTo>
                      <a:pt x="134" y="393"/>
                    </a:lnTo>
                    <a:lnTo>
                      <a:pt x="115" y="361"/>
                    </a:lnTo>
                    <a:lnTo>
                      <a:pt x="97" y="328"/>
                    </a:lnTo>
                    <a:lnTo>
                      <a:pt x="82" y="295"/>
                    </a:lnTo>
                    <a:lnTo>
                      <a:pt x="68" y="260"/>
                    </a:lnTo>
                    <a:lnTo>
                      <a:pt x="56" y="225"/>
                    </a:lnTo>
                    <a:lnTo>
                      <a:pt x="45" y="189"/>
                    </a:lnTo>
                    <a:lnTo>
                      <a:pt x="37" y="153"/>
                    </a:lnTo>
                    <a:lnTo>
                      <a:pt x="29" y="115"/>
                    </a:lnTo>
                    <a:lnTo>
                      <a:pt x="25" y="77"/>
                    </a:lnTo>
                    <a:lnTo>
                      <a:pt x="21" y="39"/>
                    </a:lnTo>
                    <a:lnTo>
                      <a:pt x="21" y="0"/>
                    </a:lnTo>
                    <a:lnTo>
                      <a:pt x="8" y="42"/>
                    </a:lnTo>
                    <a:lnTo>
                      <a:pt x="0" y="86"/>
                    </a:lnTo>
                    <a:lnTo>
                      <a:pt x="3" y="119"/>
                    </a:lnTo>
                    <a:lnTo>
                      <a:pt x="10" y="153"/>
                    </a:lnTo>
                    <a:lnTo>
                      <a:pt x="17" y="185"/>
                    </a:lnTo>
                    <a:lnTo>
                      <a:pt x="26" y="218"/>
                    </a:lnTo>
                    <a:lnTo>
                      <a:pt x="35" y="249"/>
                    </a:lnTo>
                    <a:lnTo>
                      <a:pt x="47" y="280"/>
                    </a:lnTo>
                    <a:lnTo>
                      <a:pt x="60" y="311"/>
                    </a:lnTo>
                    <a:lnTo>
                      <a:pt x="75" y="343"/>
                    </a:lnTo>
                    <a:lnTo>
                      <a:pt x="89" y="371"/>
                    </a:lnTo>
                    <a:lnTo>
                      <a:pt x="106" y="401"/>
                    </a:lnTo>
                    <a:lnTo>
                      <a:pt x="123" y="429"/>
                    </a:lnTo>
                    <a:lnTo>
                      <a:pt x="144" y="458"/>
                    </a:lnTo>
                    <a:lnTo>
                      <a:pt x="164" y="484"/>
                    </a:lnTo>
                    <a:lnTo>
                      <a:pt x="187" y="512"/>
                    </a:lnTo>
                    <a:lnTo>
                      <a:pt x="209" y="538"/>
                    </a:lnTo>
                    <a:lnTo>
                      <a:pt x="236" y="565"/>
                    </a:lnTo>
                    <a:close/>
                  </a:path>
                </a:pathLst>
              </a:custGeom>
              <a:solidFill>
                <a:srgbClr val="090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010200" y="4190040"/>
                <a:ext cx="288720" cy="287640"/>
              </a:xfrm>
              <a:custGeom>
                <a:avLst/>
                <a:gdLst/>
                <a:ahLst/>
                <a:rect l="l" t="t" r="r" b="b"/>
                <a:pathLst>
                  <a:path w="1009" h="1008">
                    <a:moveTo>
                      <a:pt x="148" y="147"/>
                    </a:moveTo>
                    <a:lnTo>
                      <a:pt x="112" y="185"/>
                    </a:lnTo>
                    <a:lnTo>
                      <a:pt x="83" y="224"/>
                    </a:lnTo>
                    <a:lnTo>
                      <a:pt x="57" y="265"/>
                    </a:lnTo>
                    <a:lnTo>
                      <a:pt x="36" y="309"/>
                    </a:lnTo>
                    <a:lnTo>
                      <a:pt x="20" y="354"/>
                    </a:lnTo>
                    <a:lnTo>
                      <a:pt x="9" y="402"/>
                    </a:lnTo>
                    <a:lnTo>
                      <a:pt x="2" y="451"/>
                    </a:lnTo>
                    <a:lnTo>
                      <a:pt x="0" y="503"/>
                    </a:lnTo>
                    <a:lnTo>
                      <a:pt x="0" y="528"/>
                    </a:lnTo>
                    <a:lnTo>
                      <a:pt x="2" y="554"/>
                    </a:lnTo>
                    <a:lnTo>
                      <a:pt x="4" y="578"/>
                    </a:lnTo>
                    <a:lnTo>
                      <a:pt x="9" y="603"/>
                    </a:lnTo>
                    <a:lnTo>
                      <a:pt x="14" y="626"/>
                    </a:lnTo>
                    <a:lnTo>
                      <a:pt x="20" y="650"/>
                    </a:lnTo>
                    <a:lnTo>
                      <a:pt x="27" y="672"/>
                    </a:lnTo>
                    <a:lnTo>
                      <a:pt x="36" y="696"/>
                    </a:lnTo>
                    <a:lnTo>
                      <a:pt x="57" y="739"/>
                    </a:lnTo>
                    <a:lnTo>
                      <a:pt x="68" y="760"/>
                    </a:lnTo>
                    <a:lnTo>
                      <a:pt x="83" y="781"/>
                    </a:lnTo>
                    <a:lnTo>
                      <a:pt x="96" y="800"/>
                    </a:lnTo>
                    <a:lnTo>
                      <a:pt x="112" y="821"/>
                    </a:lnTo>
                    <a:lnTo>
                      <a:pt x="129" y="840"/>
                    </a:lnTo>
                    <a:lnTo>
                      <a:pt x="148" y="861"/>
                    </a:lnTo>
                    <a:lnTo>
                      <a:pt x="186" y="895"/>
                    </a:lnTo>
                    <a:lnTo>
                      <a:pt x="226" y="924"/>
                    </a:lnTo>
                    <a:lnTo>
                      <a:pt x="266" y="949"/>
                    </a:lnTo>
                    <a:lnTo>
                      <a:pt x="288" y="960"/>
                    </a:lnTo>
                    <a:lnTo>
                      <a:pt x="311" y="970"/>
                    </a:lnTo>
                    <a:lnTo>
                      <a:pt x="355" y="986"/>
                    </a:lnTo>
                    <a:lnTo>
                      <a:pt x="404" y="998"/>
                    </a:lnTo>
                    <a:lnTo>
                      <a:pt x="452" y="1005"/>
                    </a:lnTo>
                    <a:lnTo>
                      <a:pt x="477" y="1007"/>
                    </a:lnTo>
                    <a:lnTo>
                      <a:pt x="504" y="1008"/>
                    </a:lnTo>
                    <a:lnTo>
                      <a:pt x="529" y="1007"/>
                    </a:lnTo>
                    <a:lnTo>
                      <a:pt x="555" y="1005"/>
                    </a:lnTo>
                    <a:lnTo>
                      <a:pt x="567" y="1002"/>
                    </a:lnTo>
                    <a:lnTo>
                      <a:pt x="569" y="1001"/>
                    </a:lnTo>
                    <a:lnTo>
                      <a:pt x="573" y="1001"/>
                    </a:lnTo>
                    <a:lnTo>
                      <a:pt x="579" y="1001"/>
                    </a:lnTo>
                    <a:lnTo>
                      <a:pt x="604" y="998"/>
                    </a:lnTo>
                    <a:lnTo>
                      <a:pt x="627" y="992"/>
                    </a:lnTo>
                    <a:lnTo>
                      <a:pt x="638" y="989"/>
                    </a:lnTo>
                    <a:lnTo>
                      <a:pt x="651" y="986"/>
                    </a:lnTo>
                    <a:lnTo>
                      <a:pt x="673" y="978"/>
                    </a:lnTo>
                    <a:lnTo>
                      <a:pt x="685" y="974"/>
                    </a:lnTo>
                    <a:lnTo>
                      <a:pt x="690" y="972"/>
                    </a:lnTo>
                    <a:lnTo>
                      <a:pt x="697" y="970"/>
                    </a:lnTo>
                    <a:lnTo>
                      <a:pt x="718" y="960"/>
                    </a:lnTo>
                    <a:lnTo>
                      <a:pt x="740" y="949"/>
                    </a:lnTo>
                    <a:lnTo>
                      <a:pt x="761" y="936"/>
                    </a:lnTo>
                    <a:lnTo>
                      <a:pt x="771" y="930"/>
                    </a:lnTo>
                    <a:lnTo>
                      <a:pt x="782" y="924"/>
                    </a:lnTo>
                    <a:lnTo>
                      <a:pt x="791" y="916"/>
                    </a:lnTo>
                    <a:lnTo>
                      <a:pt x="802" y="909"/>
                    </a:lnTo>
                    <a:lnTo>
                      <a:pt x="822" y="895"/>
                    </a:lnTo>
                    <a:lnTo>
                      <a:pt x="860" y="861"/>
                    </a:lnTo>
                    <a:lnTo>
                      <a:pt x="878" y="840"/>
                    </a:lnTo>
                    <a:lnTo>
                      <a:pt x="879" y="837"/>
                    </a:lnTo>
                    <a:lnTo>
                      <a:pt x="881" y="834"/>
                    </a:lnTo>
                    <a:lnTo>
                      <a:pt x="885" y="830"/>
                    </a:lnTo>
                    <a:lnTo>
                      <a:pt x="895" y="821"/>
                    </a:lnTo>
                    <a:lnTo>
                      <a:pt x="909" y="800"/>
                    </a:lnTo>
                    <a:lnTo>
                      <a:pt x="916" y="790"/>
                    </a:lnTo>
                    <a:lnTo>
                      <a:pt x="924" y="781"/>
                    </a:lnTo>
                    <a:lnTo>
                      <a:pt x="930" y="770"/>
                    </a:lnTo>
                    <a:lnTo>
                      <a:pt x="936" y="760"/>
                    </a:lnTo>
                    <a:lnTo>
                      <a:pt x="949" y="739"/>
                    </a:lnTo>
                    <a:lnTo>
                      <a:pt x="972" y="696"/>
                    </a:lnTo>
                    <a:lnTo>
                      <a:pt x="973" y="689"/>
                    </a:lnTo>
                    <a:lnTo>
                      <a:pt x="975" y="684"/>
                    </a:lnTo>
                    <a:lnTo>
                      <a:pt x="980" y="672"/>
                    </a:lnTo>
                    <a:lnTo>
                      <a:pt x="987" y="650"/>
                    </a:lnTo>
                    <a:lnTo>
                      <a:pt x="990" y="637"/>
                    </a:lnTo>
                    <a:lnTo>
                      <a:pt x="993" y="626"/>
                    </a:lnTo>
                    <a:lnTo>
                      <a:pt x="999" y="603"/>
                    </a:lnTo>
                    <a:lnTo>
                      <a:pt x="1002" y="578"/>
                    </a:lnTo>
                    <a:lnTo>
                      <a:pt x="1002" y="571"/>
                    </a:lnTo>
                    <a:lnTo>
                      <a:pt x="1002" y="568"/>
                    </a:lnTo>
                    <a:lnTo>
                      <a:pt x="1003" y="566"/>
                    </a:lnTo>
                    <a:lnTo>
                      <a:pt x="1006" y="554"/>
                    </a:lnTo>
                    <a:lnTo>
                      <a:pt x="1008" y="528"/>
                    </a:lnTo>
                    <a:lnTo>
                      <a:pt x="1009" y="503"/>
                    </a:lnTo>
                    <a:lnTo>
                      <a:pt x="1008" y="476"/>
                    </a:lnTo>
                    <a:lnTo>
                      <a:pt x="1006" y="451"/>
                    </a:lnTo>
                    <a:lnTo>
                      <a:pt x="999" y="402"/>
                    </a:lnTo>
                    <a:lnTo>
                      <a:pt x="987" y="354"/>
                    </a:lnTo>
                    <a:lnTo>
                      <a:pt x="972" y="309"/>
                    </a:lnTo>
                    <a:lnTo>
                      <a:pt x="949" y="265"/>
                    </a:lnTo>
                    <a:lnTo>
                      <a:pt x="924" y="224"/>
                    </a:lnTo>
                    <a:lnTo>
                      <a:pt x="895" y="185"/>
                    </a:lnTo>
                    <a:lnTo>
                      <a:pt x="860" y="147"/>
                    </a:lnTo>
                    <a:lnTo>
                      <a:pt x="822" y="111"/>
                    </a:lnTo>
                    <a:lnTo>
                      <a:pt x="802" y="95"/>
                    </a:lnTo>
                    <a:lnTo>
                      <a:pt x="782" y="82"/>
                    </a:lnTo>
                    <a:lnTo>
                      <a:pt x="761" y="68"/>
                    </a:lnTo>
                    <a:lnTo>
                      <a:pt x="740" y="57"/>
                    </a:lnTo>
                    <a:lnTo>
                      <a:pt x="697" y="36"/>
                    </a:lnTo>
                    <a:lnTo>
                      <a:pt x="673" y="27"/>
                    </a:lnTo>
                    <a:lnTo>
                      <a:pt x="651" y="20"/>
                    </a:lnTo>
                    <a:lnTo>
                      <a:pt x="627" y="14"/>
                    </a:lnTo>
                    <a:lnTo>
                      <a:pt x="604" y="9"/>
                    </a:lnTo>
                    <a:lnTo>
                      <a:pt x="579" y="5"/>
                    </a:lnTo>
                    <a:lnTo>
                      <a:pt x="555" y="2"/>
                    </a:lnTo>
                    <a:lnTo>
                      <a:pt x="529" y="0"/>
                    </a:lnTo>
                    <a:lnTo>
                      <a:pt x="504" y="0"/>
                    </a:lnTo>
                    <a:lnTo>
                      <a:pt x="452" y="2"/>
                    </a:lnTo>
                    <a:lnTo>
                      <a:pt x="404" y="9"/>
                    </a:lnTo>
                    <a:lnTo>
                      <a:pt x="355" y="20"/>
                    </a:lnTo>
                    <a:lnTo>
                      <a:pt x="311" y="36"/>
                    </a:lnTo>
                    <a:lnTo>
                      <a:pt x="266" y="57"/>
                    </a:lnTo>
                    <a:lnTo>
                      <a:pt x="226" y="82"/>
                    </a:lnTo>
                    <a:lnTo>
                      <a:pt x="186" y="111"/>
                    </a:lnTo>
                    <a:lnTo>
                      <a:pt x="148" y="1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86520" y="4269600"/>
                <a:ext cx="144000" cy="132840"/>
              </a:xfrm>
              <a:custGeom>
                <a:avLst/>
                <a:gdLst/>
                <a:ahLst/>
                <a:rect l="l" t="t" r="r" b="b"/>
                <a:pathLst>
                  <a:path w="506" h="465">
                    <a:moveTo>
                      <a:pt x="506" y="274"/>
                    </a:moveTo>
                    <a:lnTo>
                      <a:pt x="506" y="174"/>
                    </a:lnTo>
                    <a:lnTo>
                      <a:pt x="290" y="174"/>
                    </a:lnTo>
                    <a:lnTo>
                      <a:pt x="290" y="0"/>
                    </a:lnTo>
                    <a:lnTo>
                      <a:pt x="200" y="0"/>
                    </a:lnTo>
                    <a:lnTo>
                      <a:pt x="200" y="174"/>
                    </a:lnTo>
                    <a:lnTo>
                      <a:pt x="0" y="174"/>
                    </a:lnTo>
                    <a:lnTo>
                      <a:pt x="0" y="274"/>
                    </a:lnTo>
                    <a:lnTo>
                      <a:pt x="200" y="274"/>
                    </a:lnTo>
                    <a:lnTo>
                      <a:pt x="200" y="465"/>
                    </a:lnTo>
                    <a:lnTo>
                      <a:pt x="290" y="465"/>
                    </a:lnTo>
                    <a:lnTo>
                      <a:pt x="290" y="274"/>
                    </a:lnTo>
                    <a:lnTo>
                      <a:pt x="506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86520" y="4269600"/>
                <a:ext cx="144000" cy="132840"/>
              </a:xfrm>
              <a:custGeom>
                <a:avLst/>
                <a:gdLst/>
                <a:ahLst/>
                <a:rect l="l" t="t" r="r" b="b"/>
                <a:pathLst>
                  <a:path w="506" h="465">
                    <a:moveTo>
                      <a:pt x="506" y="174"/>
                    </a:moveTo>
                    <a:lnTo>
                      <a:pt x="290" y="174"/>
                    </a:lnTo>
                    <a:lnTo>
                      <a:pt x="290" y="0"/>
                    </a:lnTo>
                    <a:lnTo>
                      <a:pt x="200" y="0"/>
                    </a:lnTo>
                    <a:lnTo>
                      <a:pt x="200" y="174"/>
                    </a:lnTo>
                    <a:lnTo>
                      <a:pt x="0" y="174"/>
                    </a:lnTo>
                    <a:lnTo>
                      <a:pt x="0" y="274"/>
                    </a:lnTo>
                    <a:lnTo>
                      <a:pt x="200" y="274"/>
                    </a:lnTo>
                    <a:lnTo>
                      <a:pt x="200" y="465"/>
                    </a:lnTo>
                    <a:lnTo>
                      <a:pt x="290" y="465"/>
                    </a:lnTo>
                    <a:lnTo>
                      <a:pt x="290" y="274"/>
                    </a:lnTo>
                    <a:lnTo>
                      <a:pt x="506" y="274"/>
                    </a:lnTo>
                    <a:lnTo>
                      <a:pt x="506" y="1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68440" y="3744360"/>
                <a:ext cx="169200" cy="223200"/>
              </a:xfrm>
              <a:custGeom>
                <a:avLst/>
                <a:gdLst/>
                <a:ahLst/>
                <a:rect l="l" t="t" r="r" b="b"/>
                <a:pathLst>
                  <a:path w="593" h="782">
                    <a:moveTo>
                      <a:pt x="145" y="0"/>
                    </a:moveTo>
                    <a:lnTo>
                      <a:pt x="120" y="0"/>
                    </a:lnTo>
                    <a:lnTo>
                      <a:pt x="91" y="33"/>
                    </a:lnTo>
                    <a:lnTo>
                      <a:pt x="67" y="68"/>
                    </a:lnTo>
                    <a:lnTo>
                      <a:pt x="45" y="104"/>
                    </a:lnTo>
                    <a:lnTo>
                      <a:pt x="29" y="144"/>
                    </a:lnTo>
                    <a:lnTo>
                      <a:pt x="16" y="182"/>
                    </a:lnTo>
                    <a:lnTo>
                      <a:pt x="7" y="224"/>
                    </a:lnTo>
                    <a:lnTo>
                      <a:pt x="1" y="267"/>
                    </a:lnTo>
                    <a:lnTo>
                      <a:pt x="0" y="313"/>
                    </a:lnTo>
                    <a:lnTo>
                      <a:pt x="1" y="359"/>
                    </a:lnTo>
                    <a:lnTo>
                      <a:pt x="3" y="382"/>
                    </a:lnTo>
                    <a:lnTo>
                      <a:pt x="8" y="406"/>
                    </a:lnTo>
                    <a:lnTo>
                      <a:pt x="18" y="450"/>
                    </a:lnTo>
                    <a:lnTo>
                      <a:pt x="34" y="493"/>
                    </a:lnTo>
                    <a:lnTo>
                      <a:pt x="42" y="512"/>
                    </a:lnTo>
                    <a:lnTo>
                      <a:pt x="52" y="533"/>
                    </a:lnTo>
                    <a:lnTo>
                      <a:pt x="76" y="571"/>
                    </a:lnTo>
                    <a:lnTo>
                      <a:pt x="88" y="589"/>
                    </a:lnTo>
                    <a:lnTo>
                      <a:pt x="103" y="609"/>
                    </a:lnTo>
                    <a:lnTo>
                      <a:pt x="137" y="645"/>
                    </a:lnTo>
                    <a:lnTo>
                      <a:pt x="171" y="677"/>
                    </a:lnTo>
                    <a:lnTo>
                      <a:pt x="208" y="704"/>
                    </a:lnTo>
                    <a:lnTo>
                      <a:pt x="246" y="727"/>
                    </a:lnTo>
                    <a:lnTo>
                      <a:pt x="288" y="747"/>
                    </a:lnTo>
                    <a:lnTo>
                      <a:pt x="330" y="762"/>
                    </a:lnTo>
                    <a:lnTo>
                      <a:pt x="374" y="773"/>
                    </a:lnTo>
                    <a:lnTo>
                      <a:pt x="419" y="780"/>
                    </a:lnTo>
                    <a:lnTo>
                      <a:pt x="468" y="782"/>
                    </a:lnTo>
                    <a:lnTo>
                      <a:pt x="470" y="781"/>
                    </a:lnTo>
                    <a:lnTo>
                      <a:pt x="474" y="781"/>
                    </a:lnTo>
                    <a:lnTo>
                      <a:pt x="481" y="781"/>
                    </a:lnTo>
                    <a:lnTo>
                      <a:pt x="494" y="781"/>
                    </a:lnTo>
                    <a:lnTo>
                      <a:pt x="521" y="779"/>
                    </a:lnTo>
                    <a:lnTo>
                      <a:pt x="534" y="777"/>
                    </a:lnTo>
                    <a:lnTo>
                      <a:pt x="548" y="775"/>
                    </a:lnTo>
                    <a:lnTo>
                      <a:pt x="574" y="771"/>
                    </a:lnTo>
                    <a:lnTo>
                      <a:pt x="583" y="754"/>
                    </a:lnTo>
                    <a:lnTo>
                      <a:pt x="593" y="738"/>
                    </a:lnTo>
                    <a:lnTo>
                      <a:pt x="562" y="745"/>
                    </a:lnTo>
                    <a:lnTo>
                      <a:pt x="546" y="747"/>
                    </a:lnTo>
                    <a:lnTo>
                      <a:pt x="542" y="747"/>
                    </a:lnTo>
                    <a:lnTo>
                      <a:pt x="540" y="747"/>
                    </a:lnTo>
                    <a:lnTo>
                      <a:pt x="538" y="747"/>
                    </a:lnTo>
                    <a:lnTo>
                      <a:pt x="538" y="748"/>
                    </a:lnTo>
                    <a:lnTo>
                      <a:pt x="532" y="750"/>
                    </a:lnTo>
                    <a:lnTo>
                      <a:pt x="500" y="754"/>
                    </a:lnTo>
                    <a:lnTo>
                      <a:pt x="468" y="755"/>
                    </a:lnTo>
                    <a:lnTo>
                      <a:pt x="422" y="753"/>
                    </a:lnTo>
                    <a:lnTo>
                      <a:pt x="379" y="746"/>
                    </a:lnTo>
                    <a:lnTo>
                      <a:pt x="337" y="736"/>
                    </a:lnTo>
                    <a:lnTo>
                      <a:pt x="298" y="722"/>
                    </a:lnTo>
                    <a:lnTo>
                      <a:pt x="260" y="703"/>
                    </a:lnTo>
                    <a:lnTo>
                      <a:pt x="223" y="680"/>
                    </a:lnTo>
                    <a:lnTo>
                      <a:pt x="188" y="654"/>
                    </a:lnTo>
                    <a:lnTo>
                      <a:pt x="156" y="625"/>
                    </a:lnTo>
                    <a:lnTo>
                      <a:pt x="125" y="591"/>
                    </a:lnTo>
                    <a:lnTo>
                      <a:pt x="99" y="555"/>
                    </a:lnTo>
                    <a:lnTo>
                      <a:pt x="76" y="519"/>
                    </a:lnTo>
                    <a:lnTo>
                      <a:pt x="59" y="482"/>
                    </a:lnTo>
                    <a:lnTo>
                      <a:pt x="44" y="442"/>
                    </a:lnTo>
                    <a:lnTo>
                      <a:pt x="38" y="421"/>
                    </a:lnTo>
                    <a:lnTo>
                      <a:pt x="35" y="400"/>
                    </a:lnTo>
                    <a:lnTo>
                      <a:pt x="28" y="357"/>
                    </a:lnTo>
                    <a:lnTo>
                      <a:pt x="27" y="313"/>
                    </a:lnTo>
                    <a:lnTo>
                      <a:pt x="28" y="266"/>
                    </a:lnTo>
                    <a:lnTo>
                      <a:pt x="35" y="223"/>
                    </a:lnTo>
                    <a:lnTo>
                      <a:pt x="44" y="181"/>
                    </a:lnTo>
                    <a:lnTo>
                      <a:pt x="59" y="143"/>
                    </a:lnTo>
                    <a:lnTo>
                      <a:pt x="76" y="104"/>
                    </a:lnTo>
                    <a:lnTo>
                      <a:pt x="99" y="68"/>
                    </a:lnTo>
                    <a:lnTo>
                      <a:pt x="125" y="33"/>
                    </a:lnTo>
                    <a:lnTo>
                      <a:pt x="156" y="1"/>
                    </a:lnTo>
                    <a:lnTo>
                      <a:pt x="159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324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876360" y="3744360"/>
                <a:ext cx="166320" cy="215280"/>
              </a:xfrm>
              <a:custGeom>
                <a:avLst/>
                <a:gdLst/>
                <a:ahLst/>
                <a:rect l="l" t="t" r="r" b="b"/>
                <a:pathLst>
                  <a:path w="583" h="755">
                    <a:moveTo>
                      <a:pt x="132" y="0"/>
                    </a:moveTo>
                    <a:lnTo>
                      <a:pt x="129" y="1"/>
                    </a:lnTo>
                    <a:lnTo>
                      <a:pt x="98" y="33"/>
                    </a:lnTo>
                    <a:lnTo>
                      <a:pt x="72" y="68"/>
                    </a:lnTo>
                    <a:lnTo>
                      <a:pt x="49" y="104"/>
                    </a:lnTo>
                    <a:lnTo>
                      <a:pt x="32" y="143"/>
                    </a:lnTo>
                    <a:lnTo>
                      <a:pt x="17" y="181"/>
                    </a:lnTo>
                    <a:lnTo>
                      <a:pt x="8" y="223"/>
                    </a:lnTo>
                    <a:lnTo>
                      <a:pt x="1" y="266"/>
                    </a:lnTo>
                    <a:lnTo>
                      <a:pt x="0" y="313"/>
                    </a:lnTo>
                    <a:lnTo>
                      <a:pt x="1" y="357"/>
                    </a:lnTo>
                    <a:lnTo>
                      <a:pt x="8" y="400"/>
                    </a:lnTo>
                    <a:lnTo>
                      <a:pt x="11" y="421"/>
                    </a:lnTo>
                    <a:lnTo>
                      <a:pt x="17" y="442"/>
                    </a:lnTo>
                    <a:lnTo>
                      <a:pt x="32" y="482"/>
                    </a:lnTo>
                    <a:lnTo>
                      <a:pt x="49" y="519"/>
                    </a:lnTo>
                    <a:lnTo>
                      <a:pt x="72" y="555"/>
                    </a:lnTo>
                    <a:lnTo>
                      <a:pt x="98" y="591"/>
                    </a:lnTo>
                    <a:lnTo>
                      <a:pt x="129" y="625"/>
                    </a:lnTo>
                    <a:lnTo>
                      <a:pt x="161" y="654"/>
                    </a:lnTo>
                    <a:lnTo>
                      <a:pt x="196" y="680"/>
                    </a:lnTo>
                    <a:lnTo>
                      <a:pt x="233" y="703"/>
                    </a:lnTo>
                    <a:lnTo>
                      <a:pt x="271" y="722"/>
                    </a:lnTo>
                    <a:lnTo>
                      <a:pt x="310" y="736"/>
                    </a:lnTo>
                    <a:lnTo>
                      <a:pt x="352" y="746"/>
                    </a:lnTo>
                    <a:lnTo>
                      <a:pt x="395" y="753"/>
                    </a:lnTo>
                    <a:lnTo>
                      <a:pt x="441" y="755"/>
                    </a:lnTo>
                    <a:lnTo>
                      <a:pt x="473" y="754"/>
                    </a:lnTo>
                    <a:lnTo>
                      <a:pt x="505" y="750"/>
                    </a:lnTo>
                    <a:lnTo>
                      <a:pt x="511" y="748"/>
                    </a:lnTo>
                    <a:lnTo>
                      <a:pt x="511" y="747"/>
                    </a:lnTo>
                    <a:lnTo>
                      <a:pt x="513" y="747"/>
                    </a:lnTo>
                    <a:lnTo>
                      <a:pt x="515" y="747"/>
                    </a:lnTo>
                    <a:lnTo>
                      <a:pt x="519" y="747"/>
                    </a:lnTo>
                    <a:lnTo>
                      <a:pt x="535" y="745"/>
                    </a:lnTo>
                    <a:lnTo>
                      <a:pt x="566" y="738"/>
                    </a:lnTo>
                    <a:lnTo>
                      <a:pt x="583" y="704"/>
                    </a:lnTo>
                    <a:lnTo>
                      <a:pt x="549" y="713"/>
                    </a:lnTo>
                    <a:lnTo>
                      <a:pt x="531" y="716"/>
                    </a:lnTo>
                    <a:lnTo>
                      <a:pt x="514" y="721"/>
                    </a:lnTo>
                    <a:lnTo>
                      <a:pt x="477" y="724"/>
                    </a:lnTo>
                    <a:lnTo>
                      <a:pt x="441" y="727"/>
                    </a:lnTo>
                    <a:lnTo>
                      <a:pt x="398" y="724"/>
                    </a:lnTo>
                    <a:lnTo>
                      <a:pt x="357" y="719"/>
                    </a:lnTo>
                    <a:lnTo>
                      <a:pt x="318" y="708"/>
                    </a:lnTo>
                    <a:lnTo>
                      <a:pt x="281" y="696"/>
                    </a:lnTo>
                    <a:lnTo>
                      <a:pt x="245" y="678"/>
                    </a:lnTo>
                    <a:lnTo>
                      <a:pt x="211" y="657"/>
                    </a:lnTo>
                    <a:lnTo>
                      <a:pt x="178" y="633"/>
                    </a:lnTo>
                    <a:lnTo>
                      <a:pt x="149" y="605"/>
                    </a:lnTo>
                    <a:lnTo>
                      <a:pt x="119" y="574"/>
                    </a:lnTo>
                    <a:lnTo>
                      <a:pt x="95" y="541"/>
                    </a:lnTo>
                    <a:lnTo>
                      <a:pt x="74" y="506"/>
                    </a:lnTo>
                    <a:lnTo>
                      <a:pt x="65" y="487"/>
                    </a:lnTo>
                    <a:lnTo>
                      <a:pt x="58" y="470"/>
                    </a:lnTo>
                    <a:lnTo>
                      <a:pt x="50" y="451"/>
                    </a:lnTo>
                    <a:lnTo>
                      <a:pt x="44" y="433"/>
                    </a:lnTo>
                    <a:lnTo>
                      <a:pt x="35" y="394"/>
                    </a:lnTo>
                    <a:lnTo>
                      <a:pt x="30" y="354"/>
                    </a:lnTo>
                    <a:lnTo>
                      <a:pt x="28" y="313"/>
                    </a:lnTo>
                    <a:lnTo>
                      <a:pt x="30" y="270"/>
                    </a:lnTo>
                    <a:lnTo>
                      <a:pt x="35" y="229"/>
                    </a:lnTo>
                    <a:lnTo>
                      <a:pt x="44" y="189"/>
                    </a:lnTo>
                    <a:lnTo>
                      <a:pt x="58" y="153"/>
                    </a:lnTo>
                    <a:lnTo>
                      <a:pt x="74" y="117"/>
                    </a:lnTo>
                    <a:lnTo>
                      <a:pt x="95" y="83"/>
                    </a:lnTo>
                    <a:lnTo>
                      <a:pt x="119" y="50"/>
                    </a:lnTo>
                    <a:lnTo>
                      <a:pt x="149" y="20"/>
                    </a:lnTo>
                    <a:lnTo>
                      <a:pt x="169" y="2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365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36760" y="3750120"/>
                <a:ext cx="173880" cy="248760"/>
              </a:xfrm>
              <a:custGeom>
                <a:avLst/>
                <a:gdLst/>
                <a:ahLst/>
                <a:rect l="l" t="t" r="r" b="b"/>
                <a:pathLst>
                  <a:path w="608" h="873">
                    <a:moveTo>
                      <a:pt x="111" y="0"/>
                    </a:moveTo>
                    <a:lnTo>
                      <a:pt x="89" y="6"/>
                    </a:lnTo>
                    <a:lnTo>
                      <a:pt x="70" y="14"/>
                    </a:lnTo>
                    <a:lnTo>
                      <a:pt x="53" y="44"/>
                    </a:lnTo>
                    <a:lnTo>
                      <a:pt x="38" y="77"/>
                    </a:lnTo>
                    <a:lnTo>
                      <a:pt x="17" y="146"/>
                    </a:lnTo>
                    <a:lnTo>
                      <a:pt x="9" y="182"/>
                    </a:lnTo>
                    <a:lnTo>
                      <a:pt x="3" y="218"/>
                    </a:lnTo>
                    <a:lnTo>
                      <a:pt x="0" y="294"/>
                    </a:lnTo>
                    <a:lnTo>
                      <a:pt x="0" y="322"/>
                    </a:lnTo>
                    <a:lnTo>
                      <a:pt x="2" y="352"/>
                    </a:lnTo>
                    <a:lnTo>
                      <a:pt x="4" y="380"/>
                    </a:lnTo>
                    <a:lnTo>
                      <a:pt x="10" y="409"/>
                    </a:lnTo>
                    <a:lnTo>
                      <a:pt x="15" y="436"/>
                    </a:lnTo>
                    <a:lnTo>
                      <a:pt x="23" y="463"/>
                    </a:lnTo>
                    <a:lnTo>
                      <a:pt x="31" y="489"/>
                    </a:lnTo>
                    <a:lnTo>
                      <a:pt x="42" y="516"/>
                    </a:lnTo>
                    <a:lnTo>
                      <a:pt x="52" y="540"/>
                    </a:lnTo>
                    <a:lnTo>
                      <a:pt x="65" y="565"/>
                    </a:lnTo>
                    <a:lnTo>
                      <a:pt x="78" y="589"/>
                    </a:lnTo>
                    <a:lnTo>
                      <a:pt x="94" y="614"/>
                    </a:lnTo>
                    <a:lnTo>
                      <a:pt x="128" y="659"/>
                    </a:lnTo>
                    <a:lnTo>
                      <a:pt x="147" y="680"/>
                    </a:lnTo>
                    <a:lnTo>
                      <a:pt x="169" y="703"/>
                    </a:lnTo>
                    <a:lnTo>
                      <a:pt x="211" y="742"/>
                    </a:lnTo>
                    <a:lnTo>
                      <a:pt x="257" y="776"/>
                    </a:lnTo>
                    <a:lnTo>
                      <a:pt x="280" y="790"/>
                    </a:lnTo>
                    <a:lnTo>
                      <a:pt x="304" y="804"/>
                    </a:lnTo>
                    <a:lnTo>
                      <a:pt x="355" y="829"/>
                    </a:lnTo>
                    <a:lnTo>
                      <a:pt x="406" y="847"/>
                    </a:lnTo>
                    <a:lnTo>
                      <a:pt x="461" y="861"/>
                    </a:lnTo>
                    <a:lnTo>
                      <a:pt x="489" y="865"/>
                    </a:lnTo>
                    <a:lnTo>
                      <a:pt x="517" y="869"/>
                    </a:lnTo>
                    <a:lnTo>
                      <a:pt x="577" y="873"/>
                    </a:lnTo>
                    <a:lnTo>
                      <a:pt x="608" y="845"/>
                    </a:lnTo>
                    <a:lnTo>
                      <a:pt x="578" y="846"/>
                    </a:lnTo>
                    <a:lnTo>
                      <a:pt x="549" y="845"/>
                    </a:lnTo>
                    <a:lnTo>
                      <a:pt x="520" y="843"/>
                    </a:lnTo>
                    <a:lnTo>
                      <a:pt x="467" y="836"/>
                    </a:lnTo>
                    <a:lnTo>
                      <a:pt x="415" y="822"/>
                    </a:lnTo>
                    <a:lnTo>
                      <a:pt x="390" y="814"/>
                    </a:lnTo>
                    <a:lnTo>
                      <a:pt x="366" y="805"/>
                    </a:lnTo>
                    <a:lnTo>
                      <a:pt x="341" y="794"/>
                    </a:lnTo>
                    <a:lnTo>
                      <a:pt x="317" y="781"/>
                    </a:lnTo>
                    <a:lnTo>
                      <a:pt x="272" y="754"/>
                    </a:lnTo>
                    <a:lnTo>
                      <a:pt x="228" y="720"/>
                    </a:lnTo>
                    <a:lnTo>
                      <a:pt x="188" y="684"/>
                    </a:lnTo>
                    <a:lnTo>
                      <a:pt x="168" y="662"/>
                    </a:lnTo>
                    <a:lnTo>
                      <a:pt x="150" y="642"/>
                    </a:lnTo>
                    <a:lnTo>
                      <a:pt x="117" y="599"/>
                    </a:lnTo>
                    <a:lnTo>
                      <a:pt x="102" y="575"/>
                    </a:lnTo>
                    <a:lnTo>
                      <a:pt x="89" y="552"/>
                    </a:lnTo>
                    <a:lnTo>
                      <a:pt x="77" y="528"/>
                    </a:lnTo>
                    <a:lnTo>
                      <a:pt x="67" y="506"/>
                    </a:lnTo>
                    <a:lnTo>
                      <a:pt x="57" y="480"/>
                    </a:lnTo>
                    <a:lnTo>
                      <a:pt x="49" y="455"/>
                    </a:lnTo>
                    <a:lnTo>
                      <a:pt x="41" y="429"/>
                    </a:lnTo>
                    <a:lnTo>
                      <a:pt x="36" y="404"/>
                    </a:lnTo>
                    <a:lnTo>
                      <a:pt x="29" y="349"/>
                    </a:lnTo>
                    <a:lnTo>
                      <a:pt x="27" y="321"/>
                    </a:lnTo>
                    <a:lnTo>
                      <a:pt x="27" y="294"/>
                    </a:lnTo>
                    <a:lnTo>
                      <a:pt x="28" y="252"/>
                    </a:lnTo>
                    <a:lnTo>
                      <a:pt x="32" y="212"/>
                    </a:lnTo>
                    <a:lnTo>
                      <a:pt x="37" y="174"/>
                    </a:lnTo>
                    <a:lnTo>
                      <a:pt x="48" y="137"/>
                    </a:lnTo>
                    <a:lnTo>
                      <a:pt x="59" y="101"/>
                    </a:lnTo>
                    <a:lnTo>
                      <a:pt x="74" y="66"/>
                    </a:lnTo>
                    <a:lnTo>
                      <a:pt x="91" y="32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263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828840" y="3753720"/>
                <a:ext cx="173160" cy="253440"/>
              </a:xfrm>
              <a:custGeom>
                <a:avLst/>
                <a:gdLst/>
                <a:ahLst/>
                <a:rect l="l" t="t" r="r" b="b"/>
                <a:pathLst>
                  <a:path w="605" h="886">
                    <a:moveTo>
                      <a:pt x="98" y="0"/>
                    </a:moveTo>
                    <a:lnTo>
                      <a:pt x="77" y="8"/>
                    </a:lnTo>
                    <a:lnTo>
                      <a:pt x="57" y="18"/>
                    </a:lnTo>
                    <a:lnTo>
                      <a:pt x="31" y="78"/>
                    </a:lnTo>
                    <a:lnTo>
                      <a:pt x="21" y="110"/>
                    </a:lnTo>
                    <a:lnTo>
                      <a:pt x="13" y="143"/>
                    </a:lnTo>
                    <a:lnTo>
                      <a:pt x="3" y="210"/>
                    </a:lnTo>
                    <a:lnTo>
                      <a:pt x="0" y="244"/>
                    </a:lnTo>
                    <a:lnTo>
                      <a:pt x="0" y="280"/>
                    </a:lnTo>
                    <a:lnTo>
                      <a:pt x="0" y="309"/>
                    </a:lnTo>
                    <a:lnTo>
                      <a:pt x="2" y="340"/>
                    </a:lnTo>
                    <a:lnTo>
                      <a:pt x="4" y="369"/>
                    </a:lnTo>
                    <a:lnTo>
                      <a:pt x="10" y="400"/>
                    </a:lnTo>
                    <a:lnTo>
                      <a:pt x="15" y="428"/>
                    </a:lnTo>
                    <a:lnTo>
                      <a:pt x="23" y="457"/>
                    </a:lnTo>
                    <a:lnTo>
                      <a:pt x="32" y="484"/>
                    </a:lnTo>
                    <a:lnTo>
                      <a:pt x="44" y="512"/>
                    </a:lnTo>
                    <a:lnTo>
                      <a:pt x="54" y="537"/>
                    </a:lnTo>
                    <a:lnTo>
                      <a:pt x="68" y="563"/>
                    </a:lnTo>
                    <a:lnTo>
                      <a:pt x="81" y="588"/>
                    </a:lnTo>
                    <a:lnTo>
                      <a:pt x="98" y="614"/>
                    </a:lnTo>
                    <a:lnTo>
                      <a:pt x="115" y="638"/>
                    </a:lnTo>
                    <a:lnTo>
                      <a:pt x="134" y="663"/>
                    </a:lnTo>
                    <a:lnTo>
                      <a:pt x="155" y="686"/>
                    </a:lnTo>
                    <a:lnTo>
                      <a:pt x="178" y="710"/>
                    </a:lnTo>
                    <a:lnTo>
                      <a:pt x="198" y="729"/>
                    </a:lnTo>
                    <a:lnTo>
                      <a:pt x="218" y="747"/>
                    </a:lnTo>
                    <a:lnTo>
                      <a:pt x="263" y="781"/>
                    </a:lnTo>
                    <a:lnTo>
                      <a:pt x="309" y="810"/>
                    </a:lnTo>
                    <a:lnTo>
                      <a:pt x="358" y="835"/>
                    </a:lnTo>
                    <a:lnTo>
                      <a:pt x="407" y="853"/>
                    </a:lnTo>
                    <a:lnTo>
                      <a:pt x="460" y="869"/>
                    </a:lnTo>
                    <a:lnTo>
                      <a:pt x="486" y="875"/>
                    </a:lnTo>
                    <a:lnTo>
                      <a:pt x="513" y="880"/>
                    </a:lnTo>
                    <a:lnTo>
                      <a:pt x="571" y="886"/>
                    </a:lnTo>
                    <a:lnTo>
                      <a:pt x="605" y="859"/>
                    </a:lnTo>
                    <a:lnTo>
                      <a:pt x="545" y="855"/>
                    </a:lnTo>
                    <a:lnTo>
                      <a:pt x="517" y="851"/>
                    </a:lnTo>
                    <a:lnTo>
                      <a:pt x="489" y="847"/>
                    </a:lnTo>
                    <a:lnTo>
                      <a:pt x="434" y="833"/>
                    </a:lnTo>
                    <a:lnTo>
                      <a:pt x="383" y="815"/>
                    </a:lnTo>
                    <a:lnTo>
                      <a:pt x="332" y="790"/>
                    </a:lnTo>
                    <a:lnTo>
                      <a:pt x="308" y="776"/>
                    </a:lnTo>
                    <a:lnTo>
                      <a:pt x="285" y="762"/>
                    </a:lnTo>
                    <a:lnTo>
                      <a:pt x="239" y="728"/>
                    </a:lnTo>
                    <a:lnTo>
                      <a:pt x="197" y="689"/>
                    </a:lnTo>
                    <a:lnTo>
                      <a:pt x="175" y="666"/>
                    </a:lnTo>
                    <a:lnTo>
                      <a:pt x="156" y="645"/>
                    </a:lnTo>
                    <a:lnTo>
                      <a:pt x="122" y="600"/>
                    </a:lnTo>
                    <a:lnTo>
                      <a:pt x="106" y="575"/>
                    </a:lnTo>
                    <a:lnTo>
                      <a:pt x="93" y="551"/>
                    </a:lnTo>
                    <a:lnTo>
                      <a:pt x="80" y="526"/>
                    </a:lnTo>
                    <a:lnTo>
                      <a:pt x="70" y="502"/>
                    </a:lnTo>
                    <a:lnTo>
                      <a:pt x="59" y="475"/>
                    </a:lnTo>
                    <a:lnTo>
                      <a:pt x="51" y="449"/>
                    </a:lnTo>
                    <a:lnTo>
                      <a:pt x="43" y="422"/>
                    </a:lnTo>
                    <a:lnTo>
                      <a:pt x="38" y="395"/>
                    </a:lnTo>
                    <a:lnTo>
                      <a:pt x="32" y="366"/>
                    </a:lnTo>
                    <a:lnTo>
                      <a:pt x="30" y="338"/>
                    </a:lnTo>
                    <a:lnTo>
                      <a:pt x="28" y="308"/>
                    </a:lnTo>
                    <a:lnTo>
                      <a:pt x="28" y="280"/>
                    </a:lnTo>
                    <a:lnTo>
                      <a:pt x="31" y="204"/>
                    </a:lnTo>
                    <a:lnTo>
                      <a:pt x="37" y="168"/>
                    </a:lnTo>
                    <a:lnTo>
                      <a:pt x="45" y="132"/>
                    </a:lnTo>
                    <a:lnTo>
                      <a:pt x="66" y="63"/>
                    </a:lnTo>
                    <a:lnTo>
                      <a:pt x="81" y="3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223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20920" y="3758760"/>
                <a:ext cx="170640" cy="255240"/>
              </a:xfrm>
              <a:custGeom>
                <a:avLst/>
                <a:gdLst/>
                <a:ahLst/>
                <a:rect l="l" t="t" r="r" b="b"/>
                <a:pathLst>
                  <a:path w="599" h="893">
                    <a:moveTo>
                      <a:pt x="85" y="0"/>
                    </a:moveTo>
                    <a:lnTo>
                      <a:pt x="45" y="24"/>
                    </a:lnTo>
                    <a:lnTo>
                      <a:pt x="24" y="79"/>
                    </a:lnTo>
                    <a:lnTo>
                      <a:pt x="11" y="137"/>
                    </a:lnTo>
                    <a:lnTo>
                      <a:pt x="3" y="197"/>
                    </a:lnTo>
                    <a:lnTo>
                      <a:pt x="0" y="262"/>
                    </a:lnTo>
                    <a:lnTo>
                      <a:pt x="0" y="294"/>
                    </a:lnTo>
                    <a:lnTo>
                      <a:pt x="3" y="325"/>
                    </a:lnTo>
                    <a:lnTo>
                      <a:pt x="6" y="356"/>
                    </a:lnTo>
                    <a:lnTo>
                      <a:pt x="12" y="388"/>
                    </a:lnTo>
                    <a:lnTo>
                      <a:pt x="17" y="417"/>
                    </a:lnTo>
                    <a:lnTo>
                      <a:pt x="25" y="448"/>
                    </a:lnTo>
                    <a:lnTo>
                      <a:pt x="34" y="476"/>
                    </a:lnTo>
                    <a:lnTo>
                      <a:pt x="47" y="506"/>
                    </a:lnTo>
                    <a:lnTo>
                      <a:pt x="58" y="532"/>
                    </a:lnTo>
                    <a:lnTo>
                      <a:pt x="72" y="559"/>
                    </a:lnTo>
                    <a:lnTo>
                      <a:pt x="87" y="585"/>
                    </a:lnTo>
                    <a:lnTo>
                      <a:pt x="105" y="612"/>
                    </a:lnTo>
                    <a:lnTo>
                      <a:pt x="122" y="637"/>
                    </a:lnTo>
                    <a:lnTo>
                      <a:pt x="142" y="662"/>
                    </a:lnTo>
                    <a:lnTo>
                      <a:pt x="162" y="686"/>
                    </a:lnTo>
                    <a:lnTo>
                      <a:pt x="186" y="711"/>
                    </a:lnTo>
                    <a:lnTo>
                      <a:pt x="226" y="747"/>
                    </a:lnTo>
                    <a:lnTo>
                      <a:pt x="269" y="781"/>
                    </a:lnTo>
                    <a:lnTo>
                      <a:pt x="312" y="811"/>
                    </a:lnTo>
                    <a:lnTo>
                      <a:pt x="359" y="835"/>
                    </a:lnTo>
                    <a:lnTo>
                      <a:pt x="405" y="856"/>
                    </a:lnTo>
                    <a:lnTo>
                      <a:pt x="455" y="872"/>
                    </a:lnTo>
                    <a:lnTo>
                      <a:pt x="506" y="884"/>
                    </a:lnTo>
                    <a:lnTo>
                      <a:pt x="559" y="893"/>
                    </a:lnTo>
                    <a:lnTo>
                      <a:pt x="599" y="868"/>
                    </a:lnTo>
                    <a:lnTo>
                      <a:pt x="541" y="862"/>
                    </a:lnTo>
                    <a:lnTo>
                      <a:pt x="514" y="857"/>
                    </a:lnTo>
                    <a:lnTo>
                      <a:pt x="488" y="851"/>
                    </a:lnTo>
                    <a:lnTo>
                      <a:pt x="435" y="835"/>
                    </a:lnTo>
                    <a:lnTo>
                      <a:pt x="386" y="817"/>
                    </a:lnTo>
                    <a:lnTo>
                      <a:pt x="337" y="792"/>
                    </a:lnTo>
                    <a:lnTo>
                      <a:pt x="291" y="763"/>
                    </a:lnTo>
                    <a:lnTo>
                      <a:pt x="246" y="729"/>
                    </a:lnTo>
                    <a:lnTo>
                      <a:pt x="226" y="711"/>
                    </a:lnTo>
                    <a:lnTo>
                      <a:pt x="206" y="692"/>
                    </a:lnTo>
                    <a:lnTo>
                      <a:pt x="183" y="668"/>
                    </a:lnTo>
                    <a:lnTo>
                      <a:pt x="162" y="645"/>
                    </a:lnTo>
                    <a:lnTo>
                      <a:pt x="143" y="620"/>
                    </a:lnTo>
                    <a:lnTo>
                      <a:pt x="126" y="596"/>
                    </a:lnTo>
                    <a:lnTo>
                      <a:pt x="109" y="570"/>
                    </a:lnTo>
                    <a:lnTo>
                      <a:pt x="96" y="545"/>
                    </a:lnTo>
                    <a:lnTo>
                      <a:pt x="82" y="519"/>
                    </a:lnTo>
                    <a:lnTo>
                      <a:pt x="72" y="494"/>
                    </a:lnTo>
                    <a:lnTo>
                      <a:pt x="60" y="466"/>
                    </a:lnTo>
                    <a:lnTo>
                      <a:pt x="51" y="439"/>
                    </a:lnTo>
                    <a:lnTo>
                      <a:pt x="43" y="410"/>
                    </a:lnTo>
                    <a:lnTo>
                      <a:pt x="38" y="382"/>
                    </a:lnTo>
                    <a:lnTo>
                      <a:pt x="32" y="351"/>
                    </a:lnTo>
                    <a:lnTo>
                      <a:pt x="30" y="322"/>
                    </a:lnTo>
                    <a:lnTo>
                      <a:pt x="28" y="291"/>
                    </a:lnTo>
                    <a:lnTo>
                      <a:pt x="28" y="262"/>
                    </a:lnTo>
                    <a:lnTo>
                      <a:pt x="28" y="226"/>
                    </a:lnTo>
                    <a:lnTo>
                      <a:pt x="31" y="192"/>
                    </a:lnTo>
                    <a:lnTo>
                      <a:pt x="41" y="125"/>
                    </a:lnTo>
                    <a:lnTo>
                      <a:pt x="49" y="92"/>
                    </a:lnTo>
                    <a:lnTo>
                      <a:pt x="59" y="6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1f2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797520" y="3783240"/>
                <a:ext cx="157320" cy="246240"/>
              </a:xfrm>
              <a:custGeom>
                <a:avLst/>
                <a:gdLst/>
                <a:ahLst/>
                <a:rect l="l" t="t" r="r" b="b"/>
                <a:pathLst>
                  <a:path w="551" h="862">
                    <a:moveTo>
                      <a:pt x="37" y="11"/>
                    </a:moveTo>
                    <a:lnTo>
                      <a:pt x="12" y="37"/>
                    </a:lnTo>
                    <a:lnTo>
                      <a:pt x="5" y="70"/>
                    </a:lnTo>
                    <a:lnTo>
                      <a:pt x="2" y="105"/>
                    </a:lnTo>
                    <a:lnTo>
                      <a:pt x="0" y="177"/>
                    </a:lnTo>
                    <a:lnTo>
                      <a:pt x="0" y="212"/>
                    </a:lnTo>
                    <a:lnTo>
                      <a:pt x="2" y="248"/>
                    </a:lnTo>
                    <a:lnTo>
                      <a:pt x="5" y="283"/>
                    </a:lnTo>
                    <a:lnTo>
                      <a:pt x="12" y="319"/>
                    </a:lnTo>
                    <a:lnTo>
                      <a:pt x="19" y="351"/>
                    </a:lnTo>
                    <a:lnTo>
                      <a:pt x="28" y="385"/>
                    </a:lnTo>
                    <a:lnTo>
                      <a:pt x="38" y="418"/>
                    </a:lnTo>
                    <a:lnTo>
                      <a:pt x="52" y="451"/>
                    </a:lnTo>
                    <a:lnTo>
                      <a:pt x="64" y="482"/>
                    </a:lnTo>
                    <a:lnTo>
                      <a:pt x="80" y="512"/>
                    </a:lnTo>
                    <a:lnTo>
                      <a:pt x="97" y="542"/>
                    </a:lnTo>
                    <a:lnTo>
                      <a:pt x="116" y="572"/>
                    </a:lnTo>
                    <a:lnTo>
                      <a:pt x="136" y="600"/>
                    </a:lnTo>
                    <a:lnTo>
                      <a:pt x="158" y="628"/>
                    </a:lnTo>
                    <a:lnTo>
                      <a:pt x="182" y="655"/>
                    </a:lnTo>
                    <a:lnTo>
                      <a:pt x="209" y="684"/>
                    </a:lnTo>
                    <a:lnTo>
                      <a:pt x="241" y="713"/>
                    </a:lnTo>
                    <a:lnTo>
                      <a:pt x="274" y="741"/>
                    </a:lnTo>
                    <a:lnTo>
                      <a:pt x="308" y="768"/>
                    </a:lnTo>
                    <a:lnTo>
                      <a:pt x="344" y="791"/>
                    </a:lnTo>
                    <a:lnTo>
                      <a:pt x="381" y="812"/>
                    </a:lnTo>
                    <a:lnTo>
                      <a:pt x="418" y="831"/>
                    </a:lnTo>
                    <a:lnTo>
                      <a:pt x="456" y="847"/>
                    </a:lnTo>
                    <a:lnTo>
                      <a:pt x="497" y="862"/>
                    </a:lnTo>
                    <a:lnTo>
                      <a:pt x="523" y="855"/>
                    </a:lnTo>
                    <a:lnTo>
                      <a:pt x="551" y="848"/>
                    </a:lnTo>
                    <a:lnTo>
                      <a:pt x="505" y="834"/>
                    </a:lnTo>
                    <a:lnTo>
                      <a:pt x="462" y="820"/>
                    </a:lnTo>
                    <a:lnTo>
                      <a:pt x="419" y="800"/>
                    </a:lnTo>
                    <a:lnTo>
                      <a:pt x="379" y="780"/>
                    </a:lnTo>
                    <a:lnTo>
                      <a:pt x="339" y="755"/>
                    </a:lnTo>
                    <a:lnTo>
                      <a:pt x="301" y="728"/>
                    </a:lnTo>
                    <a:lnTo>
                      <a:pt x="264" y="697"/>
                    </a:lnTo>
                    <a:lnTo>
                      <a:pt x="229" y="664"/>
                    </a:lnTo>
                    <a:lnTo>
                      <a:pt x="203" y="637"/>
                    </a:lnTo>
                    <a:lnTo>
                      <a:pt x="180" y="611"/>
                    </a:lnTo>
                    <a:lnTo>
                      <a:pt x="158" y="584"/>
                    </a:lnTo>
                    <a:lnTo>
                      <a:pt x="139" y="558"/>
                    </a:lnTo>
                    <a:lnTo>
                      <a:pt x="120" y="528"/>
                    </a:lnTo>
                    <a:lnTo>
                      <a:pt x="104" y="500"/>
                    </a:lnTo>
                    <a:lnTo>
                      <a:pt x="89" y="470"/>
                    </a:lnTo>
                    <a:lnTo>
                      <a:pt x="77" y="441"/>
                    </a:lnTo>
                    <a:lnTo>
                      <a:pt x="64" y="409"/>
                    </a:lnTo>
                    <a:lnTo>
                      <a:pt x="54" y="379"/>
                    </a:lnTo>
                    <a:lnTo>
                      <a:pt x="45" y="346"/>
                    </a:lnTo>
                    <a:lnTo>
                      <a:pt x="39" y="314"/>
                    </a:lnTo>
                    <a:lnTo>
                      <a:pt x="32" y="280"/>
                    </a:lnTo>
                    <a:lnTo>
                      <a:pt x="29" y="246"/>
                    </a:lnTo>
                    <a:lnTo>
                      <a:pt x="27" y="211"/>
                    </a:lnTo>
                    <a:lnTo>
                      <a:pt x="27" y="177"/>
                    </a:lnTo>
                    <a:lnTo>
                      <a:pt x="28" y="130"/>
                    </a:lnTo>
                    <a:lnTo>
                      <a:pt x="31" y="86"/>
                    </a:lnTo>
                    <a:lnTo>
                      <a:pt x="38" y="42"/>
                    </a:lnTo>
                    <a:lnTo>
                      <a:pt x="48" y="0"/>
                    </a:lnTo>
                    <a:lnTo>
                      <a:pt x="37" y="11"/>
                    </a:lnTo>
                    <a:close/>
                  </a:path>
                </a:pathLst>
              </a:custGeom>
              <a:solidFill>
                <a:srgbClr val="16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804720" y="3773520"/>
                <a:ext cx="164160" cy="251640"/>
              </a:xfrm>
              <a:custGeom>
                <a:avLst/>
                <a:gdLst/>
                <a:ahLst/>
                <a:rect l="l" t="t" r="r" b="b"/>
                <a:pathLst>
                  <a:path w="572" h="882">
                    <a:moveTo>
                      <a:pt x="60" y="0"/>
                    </a:moveTo>
                    <a:lnTo>
                      <a:pt x="21" y="34"/>
                    </a:lnTo>
                    <a:lnTo>
                      <a:pt x="11" y="76"/>
                    </a:lnTo>
                    <a:lnTo>
                      <a:pt x="4" y="120"/>
                    </a:lnTo>
                    <a:lnTo>
                      <a:pt x="1" y="164"/>
                    </a:lnTo>
                    <a:lnTo>
                      <a:pt x="0" y="211"/>
                    </a:lnTo>
                    <a:lnTo>
                      <a:pt x="0" y="245"/>
                    </a:lnTo>
                    <a:lnTo>
                      <a:pt x="2" y="280"/>
                    </a:lnTo>
                    <a:lnTo>
                      <a:pt x="5" y="314"/>
                    </a:lnTo>
                    <a:lnTo>
                      <a:pt x="12" y="348"/>
                    </a:lnTo>
                    <a:lnTo>
                      <a:pt x="18" y="380"/>
                    </a:lnTo>
                    <a:lnTo>
                      <a:pt x="27" y="413"/>
                    </a:lnTo>
                    <a:lnTo>
                      <a:pt x="37" y="443"/>
                    </a:lnTo>
                    <a:lnTo>
                      <a:pt x="50" y="475"/>
                    </a:lnTo>
                    <a:lnTo>
                      <a:pt x="62" y="504"/>
                    </a:lnTo>
                    <a:lnTo>
                      <a:pt x="77" y="534"/>
                    </a:lnTo>
                    <a:lnTo>
                      <a:pt x="93" y="562"/>
                    </a:lnTo>
                    <a:lnTo>
                      <a:pt x="112" y="592"/>
                    </a:lnTo>
                    <a:lnTo>
                      <a:pt x="131" y="618"/>
                    </a:lnTo>
                    <a:lnTo>
                      <a:pt x="153" y="645"/>
                    </a:lnTo>
                    <a:lnTo>
                      <a:pt x="176" y="671"/>
                    </a:lnTo>
                    <a:lnTo>
                      <a:pt x="202" y="698"/>
                    </a:lnTo>
                    <a:lnTo>
                      <a:pt x="237" y="731"/>
                    </a:lnTo>
                    <a:lnTo>
                      <a:pt x="274" y="762"/>
                    </a:lnTo>
                    <a:lnTo>
                      <a:pt x="312" y="789"/>
                    </a:lnTo>
                    <a:lnTo>
                      <a:pt x="352" y="814"/>
                    </a:lnTo>
                    <a:lnTo>
                      <a:pt x="392" y="834"/>
                    </a:lnTo>
                    <a:lnTo>
                      <a:pt x="435" y="854"/>
                    </a:lnTo>
                    <a:lnTo>
                      <a:pt x="478" y="868"/>
                    </a:lnTo>
                    <a:lnTo>
                      <a:pt x="524" y="882"/>
                    </a:lnTo>
                    <a:lnTo>
                      <a:pt x="547" y="873"/>
                    </a:lnTo>
                    <a:lnTo>
                      <a:pt x="572" y="864"/>
                    </a:lnTo>
                    <a:lnTo>
                      <a:pt x="521" y="853"/>
                    </a:lnTo>
                    <a:lnTo>
                      <a:pt x="474" y="839"/>
                    </a:lnTo>
                    <a:lnTo>
                      <a:pt x="427" y="821"/>
                    </a:lnTo>
                    <a:lnTo>
                      <a:pt x="384" y="800"/>
                    </a:lnTo>
                    <a:lnTo>
                      <a:pt x="340" y="774"/>
                    </a:lnTo>
                    <a:lnTo>
                      <a:pt x="299" y="746"/>
                    </a:lnTo>
                    <a:lnTo>
                      <a:pt x="259" y="714"/>
                    </a:lnTo>
                    <a:lnTo>
                      <a:pt x="222" y="679"/>
                    </a:lnTo>
                    <a:lnTo>
                      <a:pt x="197" y="653"/>
                    </a:lnTo>
                    <a:lnTo>
                      <a:pt x="176" y="628"/>
                    </a:lnTo>
                    <a:lnTo>
                      <a:pt x="154" y="602"/>
                    </a:lnTo>
                    <a:lnTo>
                      <a:pt x="136" y="576"/>
                    </a:lnTo>
                    <a:lnTo>
                      <a:pt x="118" y="548"/>
                    </a:lnTo>
                    <a:lnTo>
                      <a:pt x="102" y="520"/>
                    </a:lnTo>
                    <a:lnTo>
                      <a:pt x="87" y="492"/>
                    </a:lnTo>
                    <a:lnTo>
                      <a:pt x="76" y="465"/>
                    </a:lnTo>
                    <a:lnTo>
                      <a:pt x="63" y="434"/>
                    </a:lnTo>
                    <a:lnTo>
                      <a:pt x="54" y="405"/>
                    </a:lnTo>
                    <a:lnTo>
                      <a:pt x="45" y="373"/>
                    </a:lnTo>
                    <a:lnTo>
                      <a:pt x="39" y="342"/>
                    </a:lnTo>
                    <a:lnTo>
                      <a:pt x="34" y="309"/>
                    </a:lnTo>
                    <a:lnTo>
                      <a:pt x="30" y="278"/>
                    </a:lnTo>
                    <a:lnTo>
                      <a:pt x="28" y="244"/>
                    </a:lnTo>
                    <a:lnTo>
                      <a:pt x="28" y="211"/>
                    </a:lnTo>
                    <a:lnTo>
                      <a:pt x="29" y="154"/>
                    </a:lnTo>
                    <a:lnTo>
                      <a:pt x="36" y="101"/>
                    </a:lnTo>
                    <a:lnTo>
                      <a:pt x="45" y="49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92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773400" y="3821040"/>
                <a:ext cx="130680" cy="210600"/>
              </a:xfrm>
              <a:custGeom>
                <a:avLst/>
                <a:gdLst/>
                <a:ahLst/>
                <a:rect l="l" t="t" r="r" b="b"/>
                <a:pathLst>
                  <a:path w="457" h="738">
                    <a:moveTo>
                      <a:pt x="27" y="44"/>
                    </a:moveTo>
                    <a:lnTo>
                      <a:pt x="28" y="0"/>
                    </a:lnTo>
                    <a:lnTo>
                      <a:pt x="12" y="31"/>
                    </a:lnTo>
                    <a:lnTo>
                      <a:pt x="0" y="64"/>
                    </a:lnTo>
                    <a:lnTo>
                      <a:pt x="0" y="103"/>
                    </a:lnTo>
                    <a:lnTo>
                      <a:pt x="3" y="141"/>
                    </a:lnTo>
                    <a:lnTo>
                      <a:pt x="8" y="179"/>
                    </a:lnTo>
                    <a:lnTo>
                      <a:pt x="16" y="217"/>
                    </a:lnTo>
                    <a:lnTo>
                      <a:pt x="24" y="252"/>
                    </a:lnTo>
                    <a:lnTo>
                      <a:pt x="35" y="289"/>
                    </a:lnTo>
                    <a:lnTo>
                      <a:pt x="46" y="324"/>
                    </a:lnTo>
                    <a:lnTo>
                      <a:pt x="61" y="359"/>
                    </a:lnTo>
                    <a:lnTo>
                      <a:pt x="76" y="392"/>
                    </a:lnTo>
                    <a:lnTo>
                      <a:pt x="94" y="425"/>
                    </a:lnTo>
                    <a:lnTo>
                      <a:pt x="112" y="457"/>
                    </a:lnTo>
                    <a:lnTo>
                      <a:pt x="134" y="489"/>
                    </a:lnTo>
                    <a:lnTo>
                      <a:pt x="155" y="520"/>
                    </a:lnTo>
                    <a:lnTo>
                      <a:pt x="180" y="551"/>
                    </a:lnTo>
                    <a:lnTo>
                      <a:pt x="206" y="580"/>
                    </a:lnTo>
                    <a:lnTo>
                      <a:pt x="234" y="610"/>
                    </a:lnTo>
                    <a:lnTo>
                      <a:pt x="270" y="642"/>
                    </a:lnTo>
                    <a:lnTo>
                      <a:pt x="308" y="675"/>
                    </a:lnTo>
                    <a:lnTo>
                      <a:pt x="347" y="704"/>
                    </a:lnTo>
                    <a:lnTo>
                      <a:pt x="388" y="732"/>
                    </a:lnTo>
                    <a:lnTo>
                      <a:pt x="420" y="735"/>
                    </a:lnTo>
                    <a:lnTo>
                      <a:pt x="457" y="738"/>
                    </a:lnTo>
                    <a:lnTo>
                      <a:pt x="428" y="723"/>
                    </a:lnTo>
                    <a:lnTo>
                      <a:pt x="401" y="707"/>
                    </a:lnTo>
                    <a:lnTo>
                      <a:pt x="350" y="673"/>
                    </a:lnTo>
                    <a:lnTo>
                      <a:pt x="325" y="654"/>
                    </a:lnTo>
                    <a:lnTo>
                      <a:pt x="300" y="633"/>
                    </a:lnTo>
                    <a:lnTo>
                      <a:pt x="254" y="590"/>
                    </a:lnTo>
                    <a:lnTo>
                      <a:pt x="225" y="561"/>
                    </a:lnTo>
                    <a:lnTo>
                      <a:pt x="200" y="531"/>
                    </a:lnTo>
                    <a:lnTo>
                      <a:pt x="176" y="501"/>
                    </a:lnTo>
                    <a:lnTo>
                      <a:pt x="154" y="470"/>
                    </a:lnTo>
                    <a:lnTo>
                      <a:pt x="132" y="437"/>
                    </a:lnTo>
                    <a:lnTo>
                      <a:pt x="114" y="405"/>
                    </a:lnTo>
                    <a:lnTo>
                      <a:pt x="97" y="373"/>
                    </a:lnTo>
                    <a:lnTo>
                      <a:pt x="84" y="340"/>
                    </a:lnTo>
                    <a:lnTo>
                      <a:pt x="69" y="305"/>
                    </a:lnTo>
                    <a:lnTo>
                      <a:pt x="58" y="269"/>
                    </a:lnTo>
                    <a:lnTo>
                      <a:pt x="47" y="233"/>
                    </a:lnTo>
                    <a:lnTo>
                      <a:pt x="41" y="197"/>
                    </a:lnTo>
                    <a:lnTo>
                      <a:pt x="34" y="158"/>
                    </a:lnTo>
                    <a:lnTo>
                      <a:pt x="30" y="121"/>
                    </a:lnTo>
                    <a:lnTo>
                      <a:pt x="27" y="82"/>
                    </a:lnTo>
                    <a:lnTo>
                      <a:pt x="27" y="44"/>
                    </a:lnTo>
                    <a:close/>
                  </a:path>
                </a:pathLst>
              </a:custGeom>
              <a:solidFill>
                <a:srgbClr val="0c1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781320" y="3806280"/>
                <a:ext cx="141120" cy="226080"/>
              </a:xfrm>
              <a:custGeom>
                <a:avLst/>
                <a:gdLst/>
                <a:ahLst/>
                <a:rect l="l" t="t" r="r" b="b"/>
                <a:pathLst>
                  <a:path w="493" h="792">
                    <a:moveTo>
                      <a:pt x="1" y="53"/>
                    </a:moveTo>
                    <a:lnTo>
                      <a:pt x="0" y="97"/>
                    </a:lnTo>
                    <a:lnTo>
                      <a:pt x="0" y="135"/>
                    </a:lnTo>
                    <a:lnTo>
                      <a:pt x="3" y="174"/>
                    </a:lnTo>
                    <a:lnTo>
                      <a:pt x="7" y="211"/>
                    </a:lnTo>
                    <a:lnTo>
                      <a:pt x="14" y="250"/>
                    </a:lnTo>
                    <a:lnTo>
                      <a:pt x="20" y="286"/>
                    </a:lnTo>
                    <a:lnTo>
                      <a:pt x="31" y="322"/>
                    </a:lnTo>
                    <a:lnTo>
                      <a:pt x="42" y="358"/>
                    </a:lnTo>
                    <a:lnTo>
                      <a:pt x="57" y="393"/>
                    </a:lnTo>
                    <a:lnTo>
                      <a:pt x="70" y="426"/>
                    </a:lnTo>
                    <a:lnTo>
                      <a:pt x="87" y="458"/>
                    </a:lnTo>
                    <a:lnTo>
                      <a:pt x="105" y="490"/>
                    </a:lnTo>
                    <a:lnTo>
                      <a:pt x="127" y="523"/>
                    </a:lnTo>
                    <a:lnTo>
                      <a:pt x="149" y="554"/>
                    </a:lnTo>
                    <a:lnTo>
                      <a:pt x="173" y="584"/>
                    </a:lnTo>
                    <a:lnTo>
                      <a:pt x="198" y="614"/>
                    </a:lnTo>
                    <a:lnTo>
                      <a:pt x="227" y="643"/>
                    </a:lnTo>
                    <a:lnTo>
                      <a:pt x="273" y="686"/>
                    </a:lnTo>
                    <a:lnTo>
                      <a:pt x="298" y="707"/>
                    </a:lnTo>
                    <a:lnTo>
                      <a:pt x="323" y="726"/>
                    </a:lnTo>
                    <a:lnTo>
                      <a:pt x="374" y="760"/>
                    </a:lnTo>
                    <a:lnTo>
                      <a:pt x="401" y="776"/>
                    </a:lnTo>
                    <a:lnTo>
                      <a:pt x="430" y="791"/>
                    </a:lnTo>
                    <a:lnTo>
                      <a:pt x="449" y="792"/>
                    </a:lnTo>
                    <a:lnTo>
                      <a:pt x="454" y="791"/>
                    </a:lnTo>
                    <a:lnTo>
                      <a:pt x="459" y="791"/>
                    </a:lnTo>
                    <a:lnTo>
                      <a:pt x="471" y="791"/>
                    </a:lnTo>
                    <a:lnTo>
                      <a:pt x="493" y="790"/>
                    </a:lnTo>
                    <a:lnTo>
                      <a:pt x="459" y="775"/>
                    </a:lnTo>
                    <a:lnTo>
                      <a:pt x="426" y="758"/>
                    </a:lnTo>
                    <a:lnTo>
                      <a:pt x="393" y="740"/>
                    </a:lnTo>
                    <a:lnTo>
                      <a:pt x="363" y="720"/>
                    </a:lnTo>
                    <a:lnTo>
                      <a:pt x="332" y="699"/>
                    </a:lnTo>
                    <a:lnTo>
                      <a:pt x="303" y="675"/>
                    </a:lnTo>
                    <a:lnTo>
                      <a:pt x="273" y="650"/>
                    </a:lnTo>
                    <a:lnTo>
                      <a:pt x="246" y="624"/>
                    </a:lnTo>
                    <a:lnTo>
                      <a:pt x="219" y="595"/>
                    </a:lnTo>
                    <a:lnTo>
                      <a:pt x="195" y="566"/>
                    </a:lnTo>
                    <a:lnTo>
                      <a:pt x="171" y="537"/>
                    </a:lnTo>
                    <a:lnTo>
                      <a:pt x="151" y="508"/>
                    </a:lnTo>
                    <a:lnTo>
                      <a:pt x="130" y="477"/>
                    </a:lnTo>
                    <a:lnTo>
                      <a:pt x="113" y="446"/>
                    </a:lnTo>
                    <a:lnTo>
                      <a:pt x="96" y="414"/>
                    </a:lnTo>
                    <a:lnTo>
                      <a:pt x="83" y="383"/>
                    </a:lnTo>
                    <a:lnTo>
                      <a:pt x="69" y="349"/>
                    </a:lnTo>
                    <a:lnTo>
                      <a:pt x="59" y="314"/>
                    </a:lnTo>
                    <a:lnTo>
                      <a:pt x="49" y="279"/>
                    </a:lnTo>
                    <a:lnTo>
                      <a:pt x="42" y="245"/>
                    </a:lnTo>
                    <a:lnTo>
                      <a:pt x="35" y="208"/>
                    </a:lnTo>
                    <a:lnTo>
                      <a:pt x="32" y="172"/>
                    </a:lnTo>
                    <a:lnTo>
                      <a:pt x="28" y="134"/>
                    </a:lnTo>
                    <a:lnTo>
                      <a:pt x="28" y="97"/>
                    </a:lnTo>
                    <a:lnTo>
                      <a:pt x="29" y="48"/>
                    </a:lnTo>
                    <a:lnTo>
                      <a:pt x="34" y="0"/>
                    </a:lnTo>
                    <a:lnTo>
                      <a:pt x="16" y="25"/>
                    </a:lnTo>
                    <a:lnTo>
                      <a:pt x="1" y="53"/>
                    </a:lnTo>
                    <a:close/>
                  </a:path>
                </a:pathLst>
              </a:custGeom>
              <a:solidFill>
                <a:srgbClr val="0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789240" y="3794400"/>
                <a:ext cx="150120" cy="237240"/>
              </a:xfrm>
              <a:custGeom>
                <a:avLst/>
                <a:gdLst/>
                <a:ahLst/>
                <a:rect l="l" t="t" r="r" b="b"/>
                <a:pathLst>
                  <a:path w="525" h="833">
                    <a:moveTo>
                      <a:pt x="6" y="43"/>
                    </a:moveTo>
                    <a:lnTo>
                      <a:pt x="1" y="91"/>
                    </a:lnTo>
                    <a:lnTo>
                      <a:pt x="0" y="140"/>
                    </a:lnTo>
                    <a:lnTo>
                      <a:pt x="0" y="177"/>
                    </a:lnTo>
                    <a:lnTo>
                      <a:pt x="4" y="215"/>
                    </a:lnTo>
                    <a:lnTo>
                      <a:pt x="7" y="251"/>
                    </a:lnTo>
                    <a:lnTo>
                      <a:pt x="14" y="288"/>
                    </a:lnTo>
                    <a:lnTo>
                      <a:pt x="21" y="322"/>
                    </a:lnTo>
                    <a:lnTo>
                      <a:pt x="31" y="357"/>
                    </a:lnTo>
                    <a:lnTo>
                      <a:pt x="41" y="392"/>
                    </a:lnTo>
                    <a:lnTo>
                      <a:pt x="55" y="426"/>
                    </a:lnTo>
                    <a:lnTo>
                      <a:pt x="68" y="457"/>
                    </a:lnTo>
                    <a:lnTo>
                      <a:pt x="85" y="489"/>
                    </a:lnTo>
                    <a:lnTo>
                      <a:pt x="102" y="520"/>
                    </a:lnTo>
                    <a:lnTo>
                      <a:pt x="123" y="551"/>
                    </a:lnTo>
                    <a:lnTo>
                      <a:pt x="143" y="580"/>
                    </a:lnTo>
                    <a:lnTo>
                      <a:pt x="167" y="609"/>
                    </a:lnTo>
                    <a:lnTo>
                      <a:pt x="191" y="638"/>
                    </a:lnTo>
                    <a:lnTo>
                      <a:pt x="218" y="667"/>
                    </a:lnTo>
                    <a:lnTo>
                      <a:pt x="245" y="693"/>
                    </a:lnTo>
                    <a:lnTo>
                      <a:pt x="275" y="718"/>
                    </a:lnTo>
                    <a:lnTo>
                      <a:pt x="304" y="742"/>
                    </a:lnTo>
                    <a:lnTo>
                      <a:pt x="335" y="763"/>
                    </a:lnTo>
                    <a:lnTo>
                      <a:pt x="365" y="783"/>
                    </a:lnTo>
                    <a:lnTo>
                      <a:pt x="398" y="801"/>
                    </a:lnTo>
                    <a:lnTo>
                      <a:pt x="431" y="818"/>
                    </a:lnTo>
                    <a:lnTo>
                      <a:pt x="465" y="833"/>
                    </a:lnTo>
                    <a:lnTo>
                      <a:pt x="495" y="829"/>
                    </a:lnTo>
                    <a:lnTo>
                      <a:pt x="525" y="825"/>
                    </a:lnTo>
                    <a:lnTo>
                      <a:pt x="484" y="810"/>
                    </a:lnTo>
                    <a:lnTo>
                      <a:pt x="446" y="794"/>
                    </a:lnTo>
                    <a:lnTo>
                      <a:pt x="409" y="775"/>
                    </a:lnTo>
                    <a:lnTo>
                      <a:pt x="372" y="754"/>
                    </a:lnTo>
                    <a:lnTo>
                      <a:pt x="336" y="731"/>
                    </a:lnTo>
                    <a:lnTo>
                      <a:pt x="302" y="704"/>
                    </a:lnTo>
                    <a:lnTo>
                      <a:pt x="269" y="676"/>
                    </a:lnTo>
                    <a:lnTo>
                      <a:pt x="237" y="647"/>
                    </a:lnTo>
                    <a:lnTo>
                      <a:pt x="210" y="618"/>
                    </a:lnTo>
                    <a:lnTo>
                      <a:pt x="186" y="591"/>
                    </a:lnTo>
                    <a:lnTo>
                      <a:pt x="164" y="563"/>
                    </a:lnTo>
                    <a:lnTo>
                      <a:pt x="144" y="535"/>
                    </a:lnTo>
                    <a:lnTo>
                      <a:pt x="125" y="505"/>
                    </a:lnTo>
                    <a:lnTo>
                      <a:pt x="108" y="475"/>
                    </a:lnTo>
                    <a:lnTo>
                      <a:pt x="92" y="445"/>
                    </a:lnTo>
                    <a:lnTo>
                      <a:pt x="80" y="414"/>
                    </a:lnTo>
                    <a:lnTo>
                      <a:pt x="66" y="381"/>
                    </a:lnTo>
                    <a:lnTo>
                      <a:pt x="56" y="348"/>
                    </a:lnTo>
                    <a:lnTo>
                      <a:pt x="47" y="314"/>
                    </a:lnTo>
                    <a:lnTo>
                      <a:pt x="40" y="282"/>
                    </a:lnTo>
                    <a:lnTo>
                      <a:pt x="33" y="246"/>
                    </a:lnTo>
                    <a:lnTo>
                      <a:pt x="30" y="211"/>
                    </a:lnTo>
                    <a:lnTo>
                      <a:pt x="28" y="175"/>
                    </a:lnTo>
                    <a:lnTo>
                      <a:pt x="28" y="140"/>
                    </a:lnTo>
                    <a:lnTo>
                      <a:pt x="30" y="68"/>
                    </a:lnTo>
                    <a:lnTo>
                      <a:pt x="33" y="33"/>
                    </a:lnTo>
                    <a:lnTo>
                      <a:pt x="40" y="0"/>
                    </a:lnTo>
                    <a:lnTo>
                      <a:pt x="6" y="43"/>
                    </a:lnTo>
                    <a:close/>
                  </a:path>
                </a:pathLst>
              </a:custGeom>
              <a:solidFill>
                <a:srgbClr val="121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3360" y="3765600"/>
                <a:ext cx="167400" cy="254520"/>
              </a:xfrm>
              <a:custGeom>
                <a:avLst/>
                <a:gdLst/>
                <a:ahLst/>
                <a:rect l="l" t="t" r="r" b="b"/>
                <a:pathLst>
                  <a:path w="586" h="891">
                    <a:moveTo>
                      <a:pt x="32" y="27"/>
                    </a:moveTo>
                    <a:lnTo>
                      <a:pt x="17" y="76"/>
                    </a:lnTo>
                    <a:lnTo>
                      <a:pt x="8" y="128"/>
                    </a:lnTo>
                    <a:lnTo>
                      <a:pt x="1" y="181"/>
                    </a:lnTo>
                    <a:lnTo>
                      <a:pt x="0" y="238"/>
                    </a:lnTo>
                    <a:lnTo>
                      <a:pt x="0" y="271"/>
                    </a:lnTo>
                    <a:lnTo>
                      <a:pt x="2" y="305"/>
                    </a:lnTo>
                    <a:lnTo>
                      <a:pt x="6" y="336"/>
                    </a:lnTo>
                    <a:lnTo>
                      <a:pt x="11" y="369"/>
                    </a:lnTo>
                    <a:lnTo>
                      <a:pt x="17" y="400"/>
                    </a:lnTo>
                    <a:lnTo>
                      <a:pt x="26" y="432"/>
                    </a:lnTo>
                    <a:lnTo>
                      <a:pt x="35" y="461"/>
                    </a:lnTo>
                    <a:lnTo>
                      <a:pt x="48" y="492"/>
                    </a:lnTo>
                    <a:lnTo>
                      <a:pt x="59" y="519"/>
                    </a:lnTo>
                    <a:lnTo>
                      <a:pt x="74" y="547"/>
                    </a:lnTo>
                    <a:lnTo>
                      <a:pt x="90" y="575"/>
                    </a:lnTo>
                    <a:lnTo>
                      <a:pt x="108" y="603"/>
                    </a:lnTo>
                    <a:lnTo>
                      <a:pt x="126" y="629"/>
                    </a:lnTo>
                    <a:lnTo>
                      <a:pt x="148" y="655"/>
                    </a:lnTo>
                    <a:lnTo>
                      <a:pt x="169" y="680"/>
                    </a:lnTo>
                    <a:lnTo>
                      <a:pt x="194" y="706"/>
                    </a:lnTo>
                    <a:lnTo>
                      <a:pt x="231" y="741"/>
                    </a:lnTo>
                    <a:lnTo>
                      <a:pt x="271" y="773"/>
                    </a:lnTo>
                    <a:lnTo>
                      <a:pt x="312" y="801"/>
                    </a:lnTo>
                    <a:lnTo>
                      <a:pt x="356" y="827"/>
                    </a:lnTo>
                    <a:lnTo>
                      <a:pt x="399" y="848"/>
                    </a:lnTo>
                    <a:lnTo>
                      <a:pt x="446" y="866"/>
                    </a:lnTo>
                    <a:lnTo>
                      <a:pt x="493" y="880"/>
                    </a:lnTo>
                    <a:lnTo>
                      <a:pt x="544" y="891"/>
                    </a:lnTo>
                    <a:lnTo>
                      <a:pt x="565" y="880"/>
                    </a:lnTo>
                    <a:lnTo>
                      <a:pt x="569" y="876"/>
                    </a:lnTo>
                    <a:lnTo>
                      <a:pt x="575" y="874"/>
                    </a:lnTo>
                    <a:lnTo>
                      <a:pt x="586" y="869"/>
                    </a:lnTo>
                    <a:lnTo>
                      <a:pt x="533" y="860"/>
                    </a:lnTo>
                    <a:lnTo>
                      <a:pt x="482" y="848"/>
                    </a:lnTo>
                    <a:lnTo>
                      <a:pt x="432" y="832"/>
                    </a:lnTo>
                    <a:lnTo>
                      <a:pt x="386" y="811"/>
                    </a:lnTo>
                    <a:lnTo>
                      <a:pt x="339" y="787"/>
                    </a:lnTo>
                    <a:lnTo>
                      <a:pt x="296" y="757"/>
                    </a:lnTo>
                    <a:lnTo>
                      <a:pt x="253" y="723"/>
                    </a:lnTo>
                    <a:lnTo>
                      <a:pt x="213" y="687"/>
                    </a:lnTo>
                    <a:lnTo>
                      <a:pt x="189" y="662"/>
                    </a:lnTo>
                    <a:lnTo>
                      <a:pt x="169" y="638"/>
                    </a:lnTo>
                    <a:lnTo>
                      <a:pt x="149" y="613"/>
                    </a:lnTo>
                    <a:lnTo>
                      <a:pt x="132" y="588"/>
                    </a:lnTo>
                    <a:lnTo>
                      <a:pt x="114" y="561"/>
                    </a:lnTo>
                    <a:lnTo>
                      <a:pt x="99" y="535"/>
                    </a:lnTo>
                    <a:lnTo>
                      <a:pt x="85" y="508"/>
                    </a:lnTo>
                    <a:lnTo>
                      <a:pt x="74" y="482"/>
                    </a:lnTo>
                    <a:lnTo>
                      <a:pt x="61" y="452"/>
                    </a:lnTo>
                    <a:lnTo>
                      <a:pt x="52" y="424"/>
                    </a:lnTo>
                    <a:lnTo>
                      <a:pt x="44" y="393"/>
                    </a:lnTo>
                    <a:lnTo>
                      <a:pt x="39" y="364"/>
                    </a:lnTo>
                    <a:lnTo>
                      <a:pt x="33" y="332"/>
                    </a:lnTo>
                    <a:lnTo>
                      <a:pt x="30" y="301"/>
                    </a:lnTo>
                    <a:lnTo>
                      <a:pt x="27" y="270"/>
                    </a:lnTo>
                    <a:lnTo>
                      <a:pt x="27" y="238"/>
                    </a:lnTo>
                    <a:lnTo>
                      <a:pt x="30" y="173"/>
                    </a:lnTo>
                    <a:lnTo>
                      <a:pt x="38" y="113"/>
                    </a:lnTo>
                    <a:lnTo>
                      <a:pt x="51" y="55"/>
                    </a:lnTo>
                    <a:lnTo>
                      <a:pt x="72" y="0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1c2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845040" y="3746880"/>
                <a:ext cx="173520" cy="244080"/>
              </a:xfrm>
              <a:custGeom>
                <a:avLst/>
                <a:gdLst/>
                <a:ahLst/>
                <a:rect l="l" t="t" r="r" b="b"/>
                <a:pathLst>
                  <a:path w="609" h="856">
                    <a:moveTo>
                      <a:pt x="84" y="10"/>
                    </a:moveTo>
                    <a:lnTo>
                      <a:pt x="64" y="42"/>
                    </a:lnTo>
                    <a:lnTo>
                      <a:pt x="47" y="76"/>
                    </a:lnTo>
                    <a:lnTo>
                      <a:pt x="32" y="111"/>
                    </a:lnTo>
                    <a:lnTo>
                      <a:pt x="21" y="147"/>
                    </a:lnTo>
                    <a:lnTo>
                      <a:pt x="10" y="184"/>
                    </a:lnTo>
                    <a:lnTo>
                      <a:pt x="5" y="222"/>
                    </a:lnTo>
                    <a:lnTo>
                      <a:pt x="1" y="262"/>
                    </a:lnTo>
                    <a:lnTo>
                      <a:pt x="0" y="304"/>
                    </a:lnTo>
                    <a:lnTo>
                      <a:pt x="0" y="331"/>
                    </a:lnTo>
                    <a:lnTo>
                      <a:pt x="2" y="359"/>
                    </a:lnTo>
                    <a:lnTo>
                      <a:pt x="9" y="414"/>
                    </a:lnTo>
                    <a:lnTo>
                      <a:pt x="14" y="439"/>
                    </a:lnTo>
                    <a:lnTo>
                      <a:pt x="22" y="465"/>
                    </a:lnTo>
                    <a:lnTo>
                      <a:pt x="30" y="490"/>
                    </a:lnTo>
                    <a:lnTo>
                      <a:pt x="40" y="516"/>
                    </a:lnTo>
                    <a:lnTo>
                      <a:pt x="50" y="538"/>
                    </a:lnTo>
                    <a:lnTo>
                      <a:pt x="62" y="562"/>
                    </a:lnTo>
                    <a:lnTo>
                      <a:pt x="75" y="585"/>
                    </a:lnTo>
                    <a:lnTo>
                      <a:pt x="90" y="609"/>
                    </a:lnTo>
                    <a:lnTo>
                      <a:pt x="123" y="652"/>
                    </a:lnTo>
                    <a:lnTo>
                      <a:pt x="141" y="672"/>
                    </a:lnTo>
                    <a:lnTo>
                      <a:pt x="161" y="694"/>
                    </a:lnTo>
                    <a:lnTo>
                      <a:pt x="201" y="730"/>
                    </a:lnTo>
                    <a:lnTo>
                      <a:pt x="245" y="764"/>
                    </a:lnTo>
                    <a:lnTo>
                      <a:pt x="290" y="791"/>
                    </a:lnTo>
                    <a:lnTo>
                      <a:pt x="314" y="804"/>
                    </a:lnTo>
                    <a:lnTo>
                      <a:pt x="339" y="815"/>
                    </a:lnTo>
                    <a:lnTo>
                      <a:pt x="363" y="824"/>
                    </a:lnTo>
                    <a:lnTo>
                      <a:pt x="388" y="832"/>
                    </a:lnTo>
                    <a:lnTo>
                      <a:pt x="440" y="846"/>
                    </a:lnTo>
                    <a:lnTo>
                      <a:pt x="493" y="853"/>
                    </a:lnTo>
                    <a:lnTo>
                      <a:pt x="522" y="855"/>
                    </a:lnTo>
                    <a:lnTo>
                      <a:pt x="551" y="856"/>
                    </a:lnTo>
                    <a:lnTo>
                      <a:pt x="581" y="855"/>
                    </a:lnTo>
                    <a:lnTo>
                      <a:pt x="584" y="851"/>
                    </a:lnTo>
                    <a:lnTo>
                      <a:pt x="609" y="825"/>
                    </a:lnTo>
                    <a:lnTo>
                      <a:pt x="579" y="826"/>
                    </a:lnTo>
                    <a:lnTo>
                      <a:pt x="565" y="826"/>
                    </a:lnTo>
                    <a:lnTo>
                      <a:pt x="551" y="828"/>
                    </a:lnTo>
                    <a:lnTo>
                      <a:pt x="524" y="826"/>
                    </a:lnTo>
                    <a:lnTo>
                      <a:pt x="497" y="824"/>
                    </a:lnTo>
                    <a:lnTo>
                      <a:pt x="446" y="817"/>
                    </a:lnTo>
                    <a:lnTo>
                      <a:pt x="421" y="812"/>
                    </a:lnTo>
                    <a:lnTo>
                      <a:pt x="396" y="805"/>
                    </a:lnTo>
                    <a:lnTo>
                      <a:pt x="349" y="789"/>
                    </a:lnTo>
                    <a:lnTo>
                      <a:pt x="303" y="766"/>
                    </a:lnTo>
                    <a:lnTo>
                      <a:pt x="281" y="754"/>
                    </a:lnTo>
                    <a:lnTo>
                      <a:pt x="261" y="740"/>
                    </a:lnTo>
                    <a:lnTo>
                      <a:pt x="219" y="709"/>
                    </a:lnTo>
                    <a:lnTo>
                      <a:pt x="182" y="675"/>
                    </a:lnTo>
                    <a:lnTo>
                      <a:pt x="162" y="654"/>
                    </a:lnTo>
                    <a:lnTo>
                      <a:pt x="145" y="635"/>
                    </a:lnTo>
                    <a:lnTo>
                      <a:pt x="128" y="613"/>
                    </a:lnTo>
                    <a:lnTo>
                      <a:pt x="113" y="593"/>
                    </a:lnTo>
                    <a:lnTo>
                      <a:pt x="99" y="570"/>
                    </a:lnTo>
                    <a:lnTo>
                      <a:pt x="86" y="549"/>
                    </a:lnTo>
                    <a:lnTo>
                      <a:pt x="75" y="526"/>
                    </a:lnTo>
                    <a:lnTo>
                      <a:pt x="66" y="504"/>
                    </a:lnTo>
                    <a:lnTo>
                      <a:pt x="48" y="457"/>
                    </a:lnTo>
                    <a:lnTo>
                      <a:pt x="41" y="432"/>
                    </a:lnTo>
                    <a:lnTo>
                      <a:pt x="36" y="408"/>
                    </a:lnTo>
                    <a:lnTo>
                      <a:pt x="32" y="382"/>
                    </a:lnTo>
                    <a:lnTo>
                      <a:pt x="30" y="357"/>
                    </a:lnTo>
                    <a:lnTo>
                      <a:pt x="27" y="330"/>
                    </a:lnTo>
                    <a:lnTo>
                      <a:pt x="27" y="304"/>
                    </a:lnTo>
                    <a:lnTo>
                      <a:pt x="28" y="261"/>
                    </a:lnTo>
                    <a:lnTo>
                      <a:pt x="33" y="220"/>
                    </a:lnTo>
                    <a:lnTo>
                      <a:pt x="40" y="179"/>
                    </a:lnTo>
                    <a:lnTo>
                      <a:pt x="51" y="142"/>
                    </a:lnTo>
                    <a:lnTo>
                      <a:pt x="64" y="103"/>
                    </a:lnTo>
                    <a:lnTo>
                      <a:pt x="81" y="68"/>
                    </a:lnTo>
                    <a:lnTo>
                      <a:pt x="100" y="33"/>
                    </a:lnTo>
                    <a:lnTo>
                      <a:pt x="124" y="0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29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84280" y="3745080"/>
                <a:ext cx="162360" cy="206640"/>
              </a:xfrm>
              <a:custGeom>
                <a:avLst/>
                <a:gdLst/>
                <a:ahLst/>
                <a:rect l="l" t="t" r="r" b="b"/>
                <a:pathLst>
                  <a:path w="568" h="725">
                    <a:moveTo>
                      <a:pt x="141" y="38"/>
                    </a:moveTo>
                    <a:lnTo>
                      <a:pt x="178" y="5"/>
                    </a:lnTo>
                    <a:lnTo>
                      <a:pt x="159" y="1"/>
                    </a:lnTo>
                    <a:lnTo>
                      <a:pt x="141" y="0"/>
                    </a:lnTo>
                    <a:lnTo>
                      <a:pt x="121" y="18"/>
                    </a:lnTo>
                    <a:lnTo>
                      <a:pt x="91" y="48"/>
                    </a:lnTo>
                    <a:lnTo>
                      <a:pt x="67" y="81"/>
                    </a:lnTo>
                    <a:lnTo>
                      <a:pt x="46" y="115"/>
                    </a:lnTo>
                    <a:lnTo>
                      <a:pt x="30" y="151"/>
                    </a:lnTo>
                    <a:lnTo>
                      <a:pt x="16" y="187"/>
                    </a:lnTo>
                    <a:lnTo>
                      <a:pt x="7" y="227"/>
                    </a:lnTo>
                    <a:lnTo>
                      <a:pt x="2" y="268"/>
                    </a:lnTo>
                    <a:lnTo>
                      <a:pt x="0" y="311"/>
                    </a:lnTo>
                    <a:lnTo>
                      <a:pt x="2" y="352"/>
                    </a:lnTo>
                    <a:lnTo>
                      <a:pt x="7" y="392"/>
                    </a:lnTo>
                    <a:lnTo>
                      <a:pt x="16" y="431"/>
                    </a:lnTo>
                    <a:lnTo>
                      <a:pt x="22" y="449"/>
                    </a:lnTo>
                    <a:lnTo>
                      <a:pt x="30" y="468"/>
                    </a:lnTo>
                    <a:lnTo>
                      <a:pt x="37" y="485"/>
                    </a:lnTo>
                    <a:lnTo>
                      <a:pt x="46" y="504"/>
                    </a:lnTo>
                    <a:lnTo>
                      <a:pt x="67" y="539"/>
                    </a:lnTo>
                    <a:lnTo>
                      <a:pt x="91" y="572"/>
                    </a:lnTo>
                    <a:lnTo>
                      <a:pt x="121" y="603"/>
                    </a:lnTo>
                    <a:lnTo>
                      <a:pt x="150" y="631"/>
                    </a:lnTo>
                    <a:lnTo>
                      <a:pt x="183" y="655"/>
                    </a:lnTo>
                    <a:lnTo>
                      <a:pt x="217" y="676"/>
                    </a:lnTo>
                    <a:lnTo>
                      <a:pt x="253" y="694"/>
                    </a:lnTo>
                    <a:lnTo>
                      <a:pt x="290" y="706"/>
                    </a:lnTo>
                    <a:lnTo>
                      <a:pt x="329" y="717"/>
                    </a:lnTo>
                    <a:lnTo>
                      <a:pt x="370" y="722"/>
                    </a:lnTo>
                    <a:lnTo>
                      <a:pt x="413" y="725"/>
                    </a:lnTo>
                    <a:lnTo>
                      <a:pt x="449" y="722"/>
                    </a:lnTo>
                    <a:lnTo>
                      <a:pt x="486" y="719"/>
                    </a:lnTo>
                    <a:lnTo>
                      <a:pt x="503" y="714"/>
                    </a:lnTo>
                    <a:lnTo>
                      <a:pt x="521" y="711"/>
                    </a:lnTo>
                    <a:lnTo>
                      <a:pt x="555" y="702"/>
                    </a:lnTo>
                    <a:lnTo>
                      <a:pt x="568" y="667"/>
                    </a:lnTo>
                    <a:lnTo>
                      <a:pt x="558" y="669"/>
                    </a:lnTo>
                    <a:lnTo>
                      <a:pt x="549" y="672"/>
                    </a:lnTo>
                    <a:lnTo>
                      <a:pt x="531" y="679"/>
                    </a:lnTo>
                    <a:lnTo>
                      <a:pt x="512" y="684"/>
                    </a:lnTo>
                    <a:lnTo>
                      <a:pt x="494" y="689"/>
                    </a:lnTo>
                    <a:lnTo>
                      <a:pt x="473" y="692"/>
                    </a:lnTo>
                    <a:lnTo>
                      <a:pt x="468" y="692"/>
                    </a:lnTo>
                    <a:lnTo>
                      <a:pt x="463" y="693"/>
                    </a:lnTo>
                    <a:lnTo>
                      <a:pt x="454" y="695"/>
                    </a:lnTo>
                    <a:lnTo>
                      <a:pt x="413" y="697"/>
                    </a:lnTo>
                    <a:lnTo>
                      <a:pt x="372" y="695"/>
                    </a:lnTo>
                    <a:lnTo>
                      <a:pt x="335" y="689"/>
                    </a:lnTo>
                    <a:lnTo>
                      <a:pt x="299" y="680"/>
                    </a:lnTo>
                    <a:lnTo>
                      <a:pt x="265" y="669"/>
                    </a:lnTo>
                    <a:lnTo>
                      <a:pt x="231" y="652"/>
                    </a:lnTo>
                    <a:lnTo>
                      <a:pt x="199" y="633"/>
                    </a:lnTo>
                    <a:lnTo>
                      <a:pt x="168" y="610"/>
                    </a:lnTo>
                    <a:lnTo>
                      <a:pt x="141" y="584"/>
                    </a:lnTo>
                    <a:lnTo>
                      <a:pt x="114" y="555"/>
                    </a:lnTo>
                    <a:lnTo>
                      <a:pt x="101" y="539"/>
                    </a:lnTo>
                    <a:lnTo>
                      <a:pt x="91" y="524"/>
                    </a:lnTo>
                    <a:lnTo>
                      <a:pt x="80" y="507"/>
                    </a:lnTo>
                    <a:lnTo>
                      <a:pt x="71" y="491"/>
                    </a:lnTo>
                    <a:lnTo>
                      <a:pt x="56" y="458"/>
                    </a:lnTo>
                    <a:lnTo>
                      <a:pt x="48" y="440"/>
                    </a:lnTo>
                    <a:lnTo>
                      <a:pt x="42" y="423"/>
                    </a:lnTo>
                    <a:lnTo>
                      <a:pt x="34" y="387"/>
                    </a:lnTo>
                    <a:lnTo>
                      <a:pt x="29" y="349"/>
                    </a:lnTo>
                    <a:lnTo>
                      <a:pt x="28" y="311"/>
                    </a:lnTo>
                    <a:lnTo>
                      <a:pt x="29" y="270"/>
                    </a:lnTo>
                    <a:lnTo>
                      <a:pt x="34" y="233"/>
                    </a:lnTo>
                    <a:lnTo>
                      <a:pt x="42" y="196"/>
                    </a:lnTo>
                    <a:lnTo>
                      <a:pt x="56" y="162"/>
                    </a:lnTo>
                    <a:lnTo>
                      <a:pt x="71" y="128"/>
                    </a:lnTo>
                    <a:lnTo>
                      <a:pt x="91" y="97"/>
                    </a:lnTo>
                    <a:lnTo>
                      <a:pt x="114" y="66"/>
                    </a:lnTo>
                    <a:lnTo>
                      <a:pt x="141" y="38"/>
                    </a:lnTo>
                    <a:close/>
                  </a:path>
                </a:pathLst>
              </a:custGeom>
              <a:solidFill>
                <a:srgbClr val="39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891840" y="3746160"/>
                <a:ext cx="157680" cy="198000"/>
              </a:xfrm>
              <a:custGeom>
                <a:avLst/>
                <a:gdLst/>
                <a:ahLst/>
                <a:rect l="l" t="t" r="r" b="b"/>
                <a:pathLst>
                  <a:path w="551" h="692">
                    <a:moveTo>
                      <a:pt x="150" y="0"/>
                    </a:moveTo>
                    <a:lnTo>
                      <a:pt x="113" y="33"/>
                    </a:lnTo>
                    <a:lnTo>
                      <a:pt x="86" y="61"/>
                    </a:lnTo>
                    <a:lnTo>
                      <a:pt x="63" y="92"/>
                    </a:lnTo>
                    <a:lnTo>
                      <a:pt x="43" y="123"/>
                    </a:lnTo>
                    <a:lnTo>
                      <a:pt x="28" y="157"/>
                    </a:lnTo>
                    <a:lnTo>
                      <a:pt x="14" y="191"/>
                    </a:lnTo>
                    <a:lnTo>
                      <a:pt x="6" y="228"/>
                    </a:lnTo>
                    <a:lnTo>
                      <a:pt x="1" y="265"/>
                    </a:lnTo>
                    <a:lnTo>
                      <a:pt x="0" y="306"/>
                    </a:lnTo>
                    <a:lnTo>
                      <a:pt x="1" y="344"/>
                    </a:lnTo>
                    <a:lnTo>
                      <a:pt x="6" y="382"/>
                    </a:lnTo>
                    <a:lnTo>
                      <a:pt x="14" y="418"/>
                    </a:lnTo>
                    <a:lnTo>
                      <a:pt x="20" y="435"/>
                    </a:lnTo>
                    <a:lnTo>
                      <a:pt x="28" y="453"/>
                    </a:lnTo>
                    <a:lnTo>
                      <a:pt x="43" y="486"/>
                    </a:lnTo>
                    <a:lnTo>
                      <a:pt x="52" y="502"/>
                    </a:lnTo>
                    <a:lnTo>
                      <a:pt x="63" y="519"/>
                    </a:lnTo>
                    <a:lnTo>
                      <a:pt x="73" y="534"/>
                    </a:lnTo>
                    <a:lnTo>
                      <a:pt x="86" y="550"/>
                    </a:lnTo>
                    <a:lnTo>
                      <a:pt x="113" y="579"/>
                    </a:lnTo>
                    <a:lnTo>
                      <a:pt x="140" y="605"/>
                    </a:lnTo>
                    <a:lnTo>
                      <a:pt x="171" y="628"/>
                    </a:lnTo>
                    <a:lnTo>
                      <a:pt x="203" y="647"/>
                    </a:lnTo>
                    <a:lnTo>
                      <a:pt x="237" y="664"/>
                    </a:lnTo>
                    <a:lnTo>
                      <a:pt x="271" y="675"/>
                    </a:lnTo>
                    <a:lnTo>
                      <a:pt x="307" y="684"/>
                    </a:lnTo>
                    <a:lnTo>
                      <a:pt x="344" y="690"/>
                    </a:lnTo>
                    <a:lnTo>
                      <a:pt x="385" y="692"/>
                    </a:lnTo>
                    <a:lnTo>
                      <a:pt x="426" y="690"/>
                    </a:lnTo>
                    <a:lnTo>
                      <a:pt x="435" y="688"/>
                    </a:lnTo>
                    <a:lnTo>
                      <a:pt x="440" y="687"/>
                    </a:lnTo>
                    <a:lnTo>
                      <a:pt x="445" y="687"/>
                    </a:lnTo>
                    <a:lnTo>
                      <a:pt x="466" y="684"/>
                    </a:lnTo>
                    <a:lnTo>
                      <a:pt x="484" y="679"/>
                    </a:lnTo>
                    <a:lnTo>
                      <a:pt x="503" y="674"/>
                    </a:lnTo>
                    <a:lnTo>
                      <a:pt x="521" y="667"/>
                    </a:lnTo>
                    <a:lnTo>
                      <a:pt x="530" y="664"/>
                    </a:lnTo>
                    <a:lnTo>
                      <a:pt x="540" y="662"/>
                    </a:lnTo>
                    <a:lnTo>
                      <a:pt x="551" y="626"/>
                    </a:lnTo>
                    <a:lnTo>
                      <a:pt x="530" y="633"/>
                    </a:lnTo>
                    <a:lnTo>
                      <a:pt x="527" y="633"/>
                    </a:lnTo>
                    <a:lnTo>
                      <a:pt x="525" y="635"/>
                    </a:lnTo>
                    <a:lnTo>
                      <a:pt x="520" y="637"/>
                    </a:lnTo>
                    <a:lnTo>
                      <a:pt x="511" y="641"/>
                    </a:lnTo>
                    <a:lnTo>
                      <a:pt x="491" y="648"/>
                    </a:lnTo>
                    <a:lnTo>
                      <a:pt x="480" y="650"/>
                    </a:lnTo>
                    <a:lnTo>
                      <a:pt x="471" y="654"/>
                    </a:lnTo>
                    <a:lnTo>
                      <a:pt x="460" y="655"/>
                    </a:lnTo>
                    <a:lnTo>
                      <a:pt x="450" y="657"/>
                    </a:lnTo>
                    <a:lnTo>
                      <a:pt x="429" y="661"/>
                    </a:lnTo>
                    <a:lnTo>
                      <a:pt x="407" y="663"/>
                    </a:lnTo>
                    <a:lnTo>
                      <a:pt x="395" y="663"/>
                    </a:lnTo>
                    <a:lnTo>
                      <a:pt x="390" y="663"/>
                    </a:lnTo>
                    <a:lnTo>
                      <a:pt x="385" y="664"/>
                    </a:lnTo>
                    <a:lnTo>
                      <a:pt x="348" y="662"/>
                    </a:lnTo>
                    <a:lnTo>
                      <a:pt x="313" y="657"/>
                    </a:lnTo>
                    <a:lnTo>
                      <a:pt x="279" y="648"/>
                    </a:lnTo>
                    <a:lnTo>
                      <a:pt x="247" y="638"/>
                    </a:lnTo>
                    <a:lnTo>
                      <a:pt x="215" y="622"/>
                    </a:lnTo>
                    <a:lnTo>
                      <a:pt x="187" y="605"/>
                    </a:lnTo>
                    <a:lnTo>
                      <a:pt x="158" y="584"/>
                    </a:lnTo>
                    <a:lnTo>
                      <a:pt x="132" y="560"/>
                    </a:lnTo>
                    <a:lnTo>
                      <a:pt x="106" y="531"/>
                    </a:lnTo>
                    <a:lnTo>
                      <a:pt x="85" y="503"/>
                    </a:lnTo>
                    <a:lnTo>
                      <a:pt x="67" y="474"/>
                    </a:lnTo>
                    <a:lnTo>
                      <a:pt x="59" y="458"/>
                    </a:lnTo>
                    <a:lnTo>
                      <a:pt x="53" y="443"/>
                    </a:lnTo>
                    <a:lnTo>
                      <a:pt x="40" y="410"/>
                    </a:lnTo>
                    <a:lnTo>
                      <a:pt x="33" y="376"/>
                    </a:lnTo>
                    <a:lnTo>
                      <a:pt x="29" y="358"/>
                    </a:lnTo>
                    <a:lnTo>
                      <a:pt x="28" y="341"/>
                    </a:lnTo>
                    <a:lnTo>
                      <a:pt x="27" y="306"/>
                    </a:lnTo>
                    <a:lnTo>
                      <a:pt x="28" y="268"/>
                    </a:lnTo>
                    <a:lnTo>
                      <a:pt x="33" y="233"/>
                    </a:lnTo>
                    <a:lnTo>
                      <a:pt x="40" y="199"/>
                    </a:lnTo>
                    <a:lnTo>
                      <a:pt x="53" y="167"/>
                    </a:lnTo>
                    <a:lnTo>
                      <a:pt x="67" y="136"/>
                    </a:lnTo>
                    <a:lnTo>
                      <a:pt x="85" y="107"/>
                    </a:lnTo>
                    <a:lnTo>
                      <a:pt x="106" y="79"/>
                    </a:lnTo>
                    <a:lnTo>
                      <a:pt x="132" y="53"/>
                    </a:lnTo>
                    <a:lnTo>
                      <a:pt x="158" y="28"/>
                    </a:lnTo>
                    <a:lnTo>
                      <a:pt x="187" y="6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c5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899760" y="3748680"/>
                <a:ext cx="151920" cy="187920"/>
              </a:xfrm>
              <a:custGeom>
                <a:avLst/>
                <a:gdLst/>
                <a:ahLst/>
                <a:rect l="l" t="t" r="r" b="b"/>
                <a:pathLst>
                  <a:path w="532" h="658">
                    <a:moveTo>
                      <a:pt x="160" y="0"/>
                    </a:moveTo>
                    <a:lnTo>
                      <a:pt x="131" y="22"/>
                    </a:lnTo>
                    <a:lnTo>
                      <a:pt x="105" y="47"/>
                    </a:lnTo>
                    <a:lnTo>
                      <a:pt x="79" y="73"/>
                    </a:lnTo>
                    <a:lnTo>
                      <a:pt x="58" y="101"/>
                    </a:lnTo>
                    <a:lnTo>
                      <a:pt x="40" y="130"/>
                    </a:lnTo>
                    <a:lnTo>
                      <a:pt x="26" y="161"/>
                    </a:lnTo>
                    <a:lnTo>
                      <a:pt x="13" y="193"/>
                    </a:lnTo>
                    <a:lnTo>
                      <a:pt x="6" y="227"/>
                    </a:lnTo>
                    <a:lnTo>
                      <a:pt x="1" y="262"/>
                    </a:lnTo>
                    <a:lnTo>
                      <a:pt x="0" y="300"/>
                    </a:lnTo>
                    <a:lnTo>
                      <a:pt x="1" y="335"/>
                    </a:lnTo>
                    <a:lnTo>
                      <a:pt x="2" y="352"/>
                    </a:lnTo>
                    <a:lnTo>
                      <a:pt x="6" y="370"/>
                    </a:lnTo>
                    <a:lnTo>
                      <a:pt x="13" y="404"/>
                    </a:lnTo>
                    <a:lnTo>
                      <a:pt x="26" y="437"/>
                    </a:lnTo>
                    <a:lnTo>
                      <a:pt x="32" y="452"/>
                    </a:lnTo>
                    <a:lnTo>
                      <a:pt x="40" y="468"/>
                    </a:lnTo>
                    <a:lnTo>
                      <a:pt x="58" y="497"/>
                    </a:lnTo>
                    <a:lnTo>
                      <a:pt x="79" y="525"/>
                    </a:lnTo>
                    <a:lnTo>
                      <a:pt x="105" y="554"/>
                    </a:lnTo>
                    <a:lnTo>
                      <a:pt x="131" y="578"/>
                    </a:lnTo>
                    <a:lnTo>
                      <a:pt x="160" y="599"/>
                    </a:lnTo>
                    <a:lnTo>
                      <a:pt x="188" y="616"/>
                    </a:lnTo>
                    <a:lnTo>
                      <a:pt x="220" y="632"/>
                    </a:lnTo>
                    <a:lnTo>
                      <a:pt x="252" y="642"/>
                    </a:lnTo>
                    <a:lnTo>
                      <a:pt x="286" y="651"/>
                    </a:lnTo>
                    <a:lnTo>
                      <a:pt x="321" y="656"/>
                    </a:lnTo>
                    <a:lnTo>
                      <a:pt x="358" y="658"/>
                    </a:lnTo>
                    <a:lnTo>
                      <a:pt x="363" y="657"/>
                    </a:lnTo>
                    <a:lnTo>
                      <a:pt x="368" y="657"/>
                    </a:lnTo>
                    <a:lnTo>
                      <a:pt x="380" y="657"/>
                    </a:lnTo>
                    <a:lnTo>
                      <a:pt x="402" y="655"/>
                    </a:lnTo>
                    <a:lnTo>
                      <a:pt x="423" y="651"/>
                    </a:lnTo>
                    <a:lnTo>
                      <a:pt x="433" y="649"/>
                    </a:lnTo>
                    <a:lnTo>
                      <a:pt x="444" y="648"/>
                    </a:lnTo>
                    <a:lnTo>
                      <a:pt x="453" y="644"/>
                    </a:lnTo>
                    <a:lnTo>
                      <a:pt x="464" y="642"/>
                    </a:lnTo>
                    <a:lnTo>
                      <a:pt x="484" y="635"/>
                    </a:lnTo>
                    <a:lnTo>
                      <a:pt x="493" y="631"/>
                    </a:lnTo>
                    <a:lnTo>
                      <a:pt x="498" y="629"/>
                    </a:lnTo>
                    <a:lnTo>
                      <a:pt x="500" y="627"/>
                    </a:lnTo>
                    <a:lnTo>
                      <a:pt x="503" y="627"/>
                    </a:lnTo>
                    <a:lnTo>
                      <a:pt x="524" y="620"/>
                    </a:lnTo>
                    <a:lnTo>
                      <a:pt x="532" y="583"/>
                    </a:lnTo>
                    <a:lnTo>
                      <a:pt x="511" y="593"/>
                    </a:lnTo>
                    <a:lnTo>
                      <a:pt x="491" y="604"/>
                    </a:lnTo>
                    <a:lnTo>
                      <a:pt x="479" y="607"/>
                    </a:lnTo>
                    <a:lnTo>
                      <a:pt x="469" y="612"/>
                    </a:lnTo>
                    <a:lnTo>
                      <a:pt x="449" y="618"/>
                    </a:lnTo>
                    <a:lnTo>
                      <a:pt x="426" y="623"/>
                    </a:lnTo>
                    <a:lnTo>
                      <a:pt x="405" y="627"/>
                    </a:lnTo>
                    <a:lnTo>
                      <a:pt x="381" y="630"/>
                    </a:lnTo>
                    <a:lnTo>
                      <a:pt x="358" y="631"/>
                    </a:lnTo>
                    <a:lnTo>
                      <a:pt x="324" y="629"/>
                    </a:lnTo>
                    <a:lnTo>
                      <a:pt x="292" y="624"/>
                    </a:lnTo>
                    <a:lnTo>
                      <a:pt x="261" y="616"/>
                    </a:lnTo>
                    <a:lnTo>
                      <a:pt x="231" y="606"/>
                    </a:lnTo>
                    <a:lnTo>
                      <a:pt x="202" y="591"/>
                    </a:lnTo>
                    <a:lnTo>
                      <a:pt x="174" y="575"/>
                    </a:lnTo>
                    <a:lnTo>
                      <a:pt x="148" y="556"/>
                    </a:lnTo>
                    <a:lnTo>
                      <a:pt x="125" y="534"/>
                    </a:lnTo>
                    <a:lnTo>
                      <a:pt x="101" y="508"/>
                    </a:lnTo>
                    <a:lnTo>
                      <a:pt x="81" y="482"/>
                    </a:lnTo>
                    <a:lnTo>
                      <a:pt x="64" y="455"/>
                    </a:lnTo>
                    <a:lnTo>
                      <a:pt x="57" y="440"/>
                    </a:lnTo>
                    <a:lnTo>
                      <a:pt x="51" y="427"/>
                    </a:lnTo>
                    <a:lnTo>
                      <a:pt x="44" y="411"/>
                    </a:lnTo>
                    <a:lnTo>
                      <a:pt x="40" y="396"/>
                    </a:lnTo>
                    <a:lnTo>
                      <a:pt x="35" y="380"/>
                    </a:lnTo>
                    <a:lnTo>
                      <a:pt x="33" y="366"/>
                    </a:lnTo>
                    <a:lnTo>
                      <a:pt x="29" y="349"/>
                    </a:lnTo>
                    <a:lnTo>
                      <a:pt x="28" y="333"/>
                    </a:lnTo>
                    <a:lnTo>
                      <a:pt x="27" y="300"/>
                    </a:lnTo>
                    <a:lnTo>
                      <a:pt x="28" y="266"/>
                    </a:lnTo>
                    <a:lnTo>
                      <a:pt x="33" y="234"/>
                    </a:lnTo>
                    <a:lnTo>
                      <a:pt x="40" y="202"/>
                    </a:lnTo>
                    <a:lnTo>
                      <a:pt x="51" y="173"/>
                    </a:lnTo>
                    <a:lnTo>
                      <a:pt x="64" y="143"/>
                    </a:lnTo>
                    <a:lnTo>
                      <a:pt x="81" y="116"/>
                    </a:lnTo>
                    <a:lnTo>
                      <a:pt x="101" y="90"/>
                    </a:lnTo>
                    <a:lnTo>
                      <a:pt x="125" y="66"/>
                    </a:lnTo>
                    <a:lnTo>
                      <a:pt x="140" y="49"/>
                    </a:lnTo>
                    <a:lnTo>
                      <a:pt x="159" y="36"/>
                    </a:lnTo>
                    <a:lnTo>
                      <a:pt x="196" y="12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3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907680" y="3751200"/>
                <a:ext cx="145080" cy="176760"/>
              </a:xfrm>
              <a:custGeom>
                <a:avLst/>
                <a:gdLst/>
                <a:ahLst/>
                <a:rect l="l" t="t" r="r" b="b"/>
                <a:pathLst>
                  <a:path w="509" h="619">
                    <a:moveTo>
                      <a:pt x="117" y="74"/>
                    </a:moveTo>
                    <a:lnTo>
                      <a:pt x="136" y="54"/>
                    </a:lnTo>
                    <a:lnTo>
                      <a:pt x="158" y="37"/>
                    </a:lnTo>
                    <a:lnTo>
                      <a:pt x="179" y="22"/>
                    </a:lnTo>
                    <a:lnTo>
                      <a:pt x="203" y="12"/>
                    </a:lnTo>
                    <a:lnTo>
                      <a:pt x="169" y="0"/>
                    </a:lnTo>
                    <a:lnTo>
                      <a:pt x="132" y="24"/>
                    </a:lnTo>
                    <a:lnTo>
                      <a:pt x="113" y="37"/>
                    </a:lnTo>
                    <a:lnTo>
                      <a:pt x="98" y="54"/>
                    </a:lnTo>
                    <a:lnTo>
                      <a:pt x="74" y="78"/>
                    </a:lnTo>
                    <a:lnTo>
                      <a:pt x="54" y="104"/>
                    </a:lnTo>
                    <a:lnTo>
                      <a:pt x="37" y="131"/>
                    </a:lnTo>
                    <a:lnTo>
                      <a:pt x="24" y="161"/>
                    </a:lnTo>
                    <a:lnTo>
                      <a:pt x="13" y="190"/>
                    </a:lnTo>
                    <a:lnTo>
                      <a:pt x="6" y="222"/>
                    </a:lnTo>
                    <a:lnTo>
                      <a:pt x="1" y="254"/>
                    </a:lnTo>
                    <a:lnTo>
                      <a:pt x="0" y="288"/>
                    </a:lnTo>
                    <a:lnTo>
                      <a:pt x="1" y="321"/>
                    </a:lnTo>
                    <a:lnTo>
                      <a:pt x="2" y="337"/>
                    </a:lnTo>
                    <a:lnTo>
                      <a:pt x="6" y="354"/>
                    </a:lnTo>
                    <a:lnTo>
                      <a:pt x="8" y="368"/>
                    </a:lnTo>
                    <a:lnTo>
                      <a:pt x="13" y="384"/>
                    </a:lnTo>
                    <a:lnTo>
                      <a:pt x="17" y="399"/>
                    </a:lnTo>
                    <a:lnTo>
                      <a:pt x="24" y="415"/>
                    </a:lnTo>
                    <a:lnTo>
                      <a:pt x="30" y="428"/>
                    </a:lnTo>
                    <a:lnTo>
                      <a:pt x="37" y="443"/>
                    </a:lnTo>
                    <a:lnTo>
                      <a:pt x="54" y="470"/>
                    </a:lnTo>
                    <a:lnTo>
                      <a:pt x="74" y="496"/>
                    </a:lnTo>
                    <a:lnTo>
                      <a:pt x="98" y="522"/>
                    </a:lnTo>
                    <a:lnTo>
                      <a:pt x="121" y="544"/>
                    </a:lnTo>
                    <a:lnTo>
                      <a:pt x="147" y="563"/>
                    </a:lnTo>
                    <a:lnTo>
                      <a:pt x="175" y="579"/>
                    </a:lnTo>
                    <a:lnTo>
                      <a:pt x="204" y="594"/>
                    </a:lnTo>
                    <a:lnTo>
                      <a:pt x="234" y="604"/>
                    </a:lnTo>
                    <a:lnTo>
                      <a:pt x="265" y="612"/>
                    </a:lnTo>
                    <a:lnTo>
                      <a:pt x="297" y="617"/>
                    </a:lnTo>
                    <a:lnTo>
                      <a:pt x="331" y="619"/>
                    </a:lnTo>
                    <a:lnTo>
                      <a:pt x="354" y="618"/>
                    </a:lnTo>
                    <a:lnTo>
                      <a:pt x="378" y="615"/>
                    </a:lnTo>
                    <a:lnTo>
                      <a:pt x="399" y="611"/>
                    </a:lnTo>
                    <a:lnTo>
                      <a:pt x="422" y="606"/>
                    </a:lnTo>
                    <a:lnTo>
                      <a:pt x="442" y="600"/>
                    </a:lnTo>
                    <a:lnTo>
                      <a:pt x="452" y="595"/>
                    </a:lnTo>
                    <a:lnTo>
                      <a:pt x="464" y="592"/>
                    </a:lnTo>
                    <a:lnTo>
                      <a:pt x="484" y="581"/>
                    </a:lnTo>
                    <a:lnTo>
                      <a:pt x="505" y="571"/>
                    </a:lnTo>
                    <a:lnTo>
                      <a:pt x="509" y="535"/>
                    </a:lnTo>
                    <a:lnTo>
                      <a:pt x="489" y="547"/>
                    </a:lnTo>
                    <a:lnTo>
                      <a:pt x="468" y="559"/>
                    </a:lnTo>
                    <a:lnTo>
                      <a:pt x="457" y="563"/>
                    </a:lnTo>
                    <a:lnTo>
                      <a:pt x="451" y="566"/>
                    </a:lnTo>
                    <a:lnTo>
                      <a:pt x="447" y="569"/>
                    </a:lnTo>
                    <a:lnTo>
                      <a:pt x="435" y="572"/>
                    </a:lnTo>
                    <a:lnTo>
                      <a:pt x="425" y="577"/>
                    </a:lnTo>
                    <a:lnTo>
                      <a:pt x="413" y="579"/>
                    </a:lnTo>
                    <a:lnTo>
                      <a:pt x="401" y="583"/>
                    </a:lnTo>
                    <a:lnTo>
                      <a:pt x="379" y="587"/>
                    </a:lnTo>
                    <a:lnTo>
                      <a:pt x="372" y="587"/>
                    </a:lnTo>
                    <a:lnTo>
                      <a:pt x="369" y="587"/>
                    </a:lnTo>
                    <a:lnTo>
                      <a:pt x="366" y="588"/>
                    </a:lnTo>
                    <a:lnTo>
                      <a:pt x="355" y="591"/>
                    </a:lnTo>
                    <a:lnTo>
                      <a:pt x="342" y="591"/>
                    </a:lnTo>
                    <a:lnTo>
                      <a:pt x="331" y="592"/>
                    </a:lnTo>
                    <a:lnTo>
                      <a:pt x="299" y="589"/>
                    </a:lnTo>
                    <a:lnTo>
                      <a:pt x="270" y="586"/>
                    </a:lnTo>
                    <a:lnTo>
                      <a:pt x="240" y="578"/>
                    </a:lnTo>
                    <a:lnTo>
                      <a:pt x="214" y="569"/>
                    </a:lnTo>
                    <a:lnTo>
                      <a:pt x="187" y="555"/>
                    </a:lnTo>
                    <a:lnTo>
                      <a:pt x="162" y="541"/>
                    </a:lnTo>
                    <a:lnTo>
                      <a:pt x="138" y="521"/>
                    </a:lnTo>
                    <a:lnTo>
                      <a:pt x="117" y="502"/>
                    </a:lnTo>
                    <a:lnTo>
                      <a:pt x="95" y="478"/>
                    </a:lnTo>
                    <a:lnTo>
                      <a:pt x="85" y="466"/>
                    </a:lnTo>
                    <a:lnTo>
                      <a:pt x="77" y="454"/>
                    </a:lnTo>
                    <a:lnTo>
                      <a:pt x="62" y="430"/>
                    </a:lnTo>
                    <a:lnTo>
                      <a:pt x="50" y="403"/>
                    </a:lnTo>
                    <a:lnTo>
                      <a:pt x="40" y="375"/>
                    </a:lnTo>
                    <a:lnTo>
                      <a:pt x="35" y="360"/>
                    </a:lnTo>
                    <a:lnTo>
                      <a:pt x="33" y="347"/>
                    </a:lnTo>
                    <a:lnTo>
                      <a:pt x="30" y="317"/>
                    </a:lnTo>
                    <a:lnTo>
                      <a:pt x="28" y="288"/>
                    </a:lnTo>
                    <a:lnTo>
                      <a:pt x="30" y="256"/>
                    </a:lnTo>
                    <a:lnTo>
                      <a:pt x="33" y="227"/>
                    </a:lnTo>
                    <a:lnTo>
                      <a:pt x="40" y="197"/>
                    </a:lnTo>
                    <a:lnTo>
                      <a:pt x="50" y="171"/>
                    </a:lnTo>
                    <a:lnTo>
                      <a:pt x="62" y="144"/>
                    </a:lnTo>
                    <a:lnTo>
                      <a:pt x="77" y="119"/>
                    </a:lnTo>
                    <a:lnTo>
                      <a:pt x="95" y="95"/>
                    </a:lnTo>
                    <a:lnTo>
                      <a:pt x="117" y="74"/>
                    </a:lnTo>
                    <a:close/>
                  </a:path>
                </a:pathLst>
              </a:custGeom>
              <a:solidFill>
                <a:srgbClr val="42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915960" y="3755520"/>
                <a:ext cx="138240" cy="164880"/>
              </a:xfrm>
              <a:custGeom>
                <a:avLst/>
                <a:gdLst/>
                <a:ahLst/>
                <a:rect l="l" t="t" r="r" b="b"/>
                <a:pathLst>
                  <a:path w="485" h="580">
                    <a:moveTo>
                      <a:pt x="175" y="0"/>
                    </a:moveTo>
                    <a:lnTo>
                      <a:pt x="151" y="10"/>
                    </a:lnTo>
                    <a:lnTo>
                      <a:pt x="130" y="25"/>
                    </a:lnTo>
                    <a:lnTo>
                      <a:pt x="108" y="42"/>
                    </a:lnTo>
                    <a:lnTo>
                      <a:pt x="89" y="62"/>
                    </a:lnTo>
                    <a:lnTo>
                      <a:pt x="67" y="83"/>
                    </a:lnTo>
                    <a:lnTo>
                      <a:pt x="49" y="107"/>
                    </a:lnTo>
                    <a:lnTo>
                      <a:pt x="34" y="132"/>
                    </a:lnTo>
                    <a:lnTo>
                      <a:pt x="22" y="159"/>
                    </a:lnTo>
                    <a:lnTo>
                      <a:pt x="12" y="185"/>
                    </a:lnTo>
                    <a:lnTo>
                      <a:pt x="5" y="215"/>
                    </a:lnTo>
                    <a:lnTo>
                      <a:pt x="2" y="244"/>
                    </a:lnTo>
                    <a:lnTo>
                      <a:pt x="0" y="276"/>
                    </a:lnTo>
                    <a:lnTo>
                      <a:pt x="2" y="305"/>
                    </a:lnTo>
                    <a:lnTo>
                      <a:pt x="5" y="335"/>
                    </a:lnTo>
                    <a:lnTo>
                      <a:pt x="7" y="348"/>
                    </a:lnTo>
                    <a:lnTo>
                      <a:pt x="12" y="363"/>
                    </a:lnTo>
                    <a:lnTo>
                      <a:pt x="22" y="391"/>
                    </a:lnTo>
                    <a:lnTo>
                      <a:pt x="34" y="418"/>
                    </a:lnTo>
                    <a:lnTo>
                      <a:pt x="49" y="442"/>
                    </a:lnTo>
                    <a:lnTo>
                      <a:pt x="57" y="454"/>
                    </a:lnTo>
                    <a:lnTo>
                      <a:pt x="67" y="466"/>
                    </a:lnTo>
                    <a:lnTo>
                      <a:pt x="89" y="490"/>
                    </a:lnTo>
                    <a:lnTo>
                      <a:pt x="110" y="509"/>
                    </a:lnTo>
                    <a:lnTo>
                      <a:pt x="134" y="529"/>
                    </a:lnTo>
                    <a:lnTo>
                      <a:pt x="159" y="543"/>
                    </a:lnTo>
                    <a:lnTo>
                      <a:pt x="186" y="557"/>
                    </a:lnTo>
                    <a:lnTo>
                      <a:pt x="212" y="566"/>
                    </a:lnTo>
                    <a:lnTo>
                      <a:pt x="242" y="574"/>
                    </a:lnTo>
                    <a:lnTo>
                      <a:pt x="271" y="577"/>
                    </a:lnTo>
                    <a:lnTo>
                      <a:pt x="303" y="580"/>
                    </a:lnTo>
                    <a:lnTo>
                      <a:pt x="314" y="579"/>
                    </a:lnTo>
                    <a:lnTo>
                      <a:pt x="327" y="579"/>
                    </a:lnTo>
                    <a:lnTo>
                      <a:pt x="338" y="576"/>
                    </a:lnTo>
                    <a:lnTo>
                      <a:pt x="341" y="575"/>
                    </a:lnTo>
                    <a:lnTo>
                      <a:pt x="344" y="575"/>
                    </a:lnTo>
                    <a:lnTo>
                      <a:pt x="351" y="575"/>
                    </a:lnTo>
                    <a:lnTo>
                      <a:pt x="373" y="571"/>
                    </a:lnTo>
                    <a:lnTo>
                      <a:pt x="385" y="567"/>
                    </a:lnTo>
                    <a:lnTo>
                      <a:pt x="397" y="565"/>
                    </a:lnTo>
                    <a:lnTo>
                      <a:pt x="407" y="560"/>
                    </a:lnTo>
                    <a:lnTo>
                      <a:pt x="419" y="557"/>
                    </a:lnTo>
                    <a:lnTo>
                      <a:pt x="423" y="554"/>
                    </a:lnTo>
                    <a:lnTo>
                      <a:pt x="429" y="551"/>
                    </a:lnTo>
                    <a:lnTo>
                      <a:pt x="440" y="547"/>
                    </a:lnTo>
                    <a:lnTo>
                      <a:pt x="461" y="535"/>
                    </a:lnTo>
                    <a:lnTo>
                      <a:pt x="481" y="523"/>
                    </a:lnTo>
                    <a:lnTo>
                      <a:pt x="485" y="486"/>
                    </a:lnTo>
                    <a:lnTo>
                      <a:pt x="464" y="500"/>
                    </a:lnTo>
                    <a:lnTo>
                      <a:pt x="444" y="514"/>
                    </a:lnTo>
                    <a:lnTo>
                      <a:pt x="422" y="525"/>
                    </a:lnTo>
                    <a:lnTo>
                      <a:pt x="411" y="530"/>
                    </a:lnTo>
                    <a:lnTo>
                      <a:pt x="405" y="532"/>
                    </a:lnTo>
                    <a:lnTo>
                      <a:pt x="401" y="535"/>
                    </a:lnTo>
                    <a:lnTo>
                      <a:pt x="377" y="542"/>
                    </a:lnTo>
                    <a:lnTo>
                      <a:pt x="364" y="545"/>
                    </a:lnTo>
                    <a:lnTo>
                      <a:pt x="353" y="548"/>
                    </a:lnTo>
                    <a:lnTo>
                      <a:pt x="328" y="551"/>
                    </a:lnTo>
                    <a:lnTo>
                      <a:pt x="303" y="552"/>
                    </a:lnTo>
                    <a:lnTo>
                      <a:pt x="275" y="550"/>
                    </a:lnTo>
                    <a:lnTo>
                      <a:pt x="248" y="547"/>
                    </a:lnTo>
                    <a:lnTo>
                      <a:pt x="222" y="540"/>
                    </a:lnTo>
                    <a:lnTo>
                      <a:pt x="198" y="532"/>
                    </a:lnTo>
                    <a:lnTo>
                      <a:pt x="173" y="520"/>
                    </a:lnTo>
                    <a:lnTo>
                      <a:pt x="150" y="506"/>
                    </a:lnTo>
                    <a:lnTo>
                      <a:pt x="129" y="489"/>
                    </a:lnTo>
                    <a:lnTo>
                      <a:pt x="108" y="471"/>
                    </a:lnTo>
                    <a:lnTo>
                      <a:pt x="89" y="449"/>
                    </a:lnTo>
                    <a:lnTo>
                      <a:pt x="72" y="428"/>
                    </a:lnTo>
                    <a:lnTo>
                      <a:pt x="57" y="404"/>
                    </a:lnTo>
                    <a:lnTo>
                      <a:pt x="47" y="381"/>
                    </a:lnTo>
                    <a:lnTo>
                      <a:pt x="41" y="368"/>
                    </a:lnTo>
                    <a:lnTo>
                      <a:pt x="38" y="355"/>
                    </a:lnTo>
                    <a:lnTo>
                      <a:pt x="32" y="330"/>
                    </a:lnTo>
                    <a:lnTo>
                      <a:pt x="29" y="303"/>
                    </a:lnTo>
                    <a:lnTo>
                      <a:pt x="28" y="276"/>
                    </a:lnTo>
                    <a:lnTo>
                      <a:pt x="29" y="247"/>
                    </a:lnTo>
                    <a:lnTo>
                      <a:pt x="32" y="220"/>
                    </a:lnTo>
                    <a:lnTo>
                      <a:pt x="38" y="194"/>
                    </a:lnTo>
                    <a:lnTo>
                      <a:pt x="47" y="170"/>
                    </a:lnTo>
                    <a:lnTo>
                      <a:pt x="57" y="145"/>
                    </a:lnTo>
                    <a:lnTo>
                      <a:pt x="72" y="123"/>
                    </a:lnTo>
                    <a:lnTo>
                      <a:pt x="89" y="101"/>
                    </a:lnTo>
                    <a:lnTo>
                      <a:pt x="108" y="81"/>
                    </a:lnTo>
                    <a:lnTo>
                      <a:pt x="131" y="59"/>
                    </a:lnTo>
                    <a:lnTo>
                      <a:pt x="156" y="41"/>
                    </a:lnTo>
                    <a:lnTo>
                      <a:pt x="181" y="26"/>
                    </a:lnTo>
                    <a:lnTo>
                      <a:pt x="209" y="16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46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52240" y="3745800"/>
                <a:ext cx="173160" cy="237240"/>
              </a:xfrm>
              <a:custGeom>
                <a:avLst/>
                <a:gdLst/>
                <a:ahLst/>
                <a:rect l="l" t="t" r="r" b="b"/>
                <a:pathLst>
                  <a:path w="607" h="834">
                    <a:moveTo>
                      <a:pt x="136" y="0"/>
                    </a:moveTo>
                    <a:lnTo>
                      <a:pt x="97" y="6"/>
                    </a:lnTo>
                    <a:lnTo>
                      <a:pt x="73" y="39"/>
                    </a:lnTo>
                    <a:lnTo>
                      <a:pt x="54" y="74"/>
                    </a:lnTo>
                    <a:lnTo>
                      <a:pt x="37" y="109"/>
                    </a:lnTo>
                    <a:lnTo>
                      <a:pt x="24" y="148"/>
                    </a:lnTo>
                    <a:lnTo>
                      <a:pt x="13" y="185"/>
                    </a:lnTo>
                    <a:lnTo>
                      <a:pt x="6" y="226"/>
                    </a:lnTo>
                    <a:lnTo>
                      <a:pt x="1" y="267"/>
                    </a:lnTo>
                    <a:lnTo>
                      <a:pt x="0" y="310"/>
                    </a:lnTo>
                    <a:lnTo>
                      <a:pt x="0" y="336"/>
                    </a:lnTo>
                    <a:lnTo>
                      <a:pt x="3" y="363"/>
                    </a:lnTo>
                    <a:lnTo>
                      <a:pt x="5" y="388"/>
                    </a:lnTo>
                    <a:lnTo>
                      <a:pt x="9" y="414"/>
                    </a:lnTo>
                    <a:lnTo>
                      <a:pt x="14" y="438"/>
                    </a:lnTo>
                    <a:lnTo>
                      <a:pt x="21" y="463"/>
                    </a:lnTo>
                    <a:lnTo>
                      <a:pt x="39" y="510"/>
                    </a:lnTo>
                    <a:lnTo>
                      <a:pt x="48" y="532"/>
                    </a:lnTo>
                    <a:lnTo>
                      <a:pt x="59" y="555"/>
                    </a:lnTo>
                    <a:lnTo>
                      <a:pt x="72" y="576"/>
                    </a:lnTo>
                    <a:lnTo>
                      <a:pt x="86" y="599"/>
                    </a:lnTo>
                    <a:lnTo>
                      <a:pt x="101" y="619"/>
                    </a:lnTo>
                    <a:lnTo>
                      <a:pt x="118" y="641"/>
                    </a:lnTo>
                    <a:lnTo>
                      <a:pt x="135" y="660"/>
                    </a:lnTo>
                    <a:lnTo>
                      <a:pt x="155" y="681"/>
                    </a:lnTo>
                    <a:lnTo>
                      <a:pt x="192" y="715"/>
                    </a:lnTo>
                    <a:lnTo>
                      <a:pt x="234" y="746"/>
                    </a:lnTo>
                    <a:lnTo>
                      <a:pt x="254" y="760"/>
                    </a:lnTo>
                    <a:lnTo>
                      <a:pt x="276" y="772"/>
                    </a:lnTo>
                    <a:lnTo>
                      <a:pt x="322" y="795"/>
                    </a:lnTo>
                    <a:lnTo>
                      <a:pt x="369" y="811"/>
                    </a:lnTo>
                    <a:lnTo>
                      <a:pt x="394" y="818"/>
                    </a:lnTo>
                    <a:lnTo>
                      <a:pt x="419" y="823"/>
                    </a:lnTo>
                    <a:lnTo>
                      <a:pt x="470" y="830"/>
                    </a:lnTo>
                    <a:lnTo>
                      <a:pt x="497" y="832"/>
                    </a:lnTo>
                    <a:lnTo>
                      <a:pt x="524" y="834"/>
                    </a:lnTo>
                    <a:lnTo>
                      <a:pt x="538" y="832"/>
                    </a:lnTo>
                    <a:lnTo>
                      <a:pt x="552" y="832"/>
                    </a:lnTo>
                    <a:lnTo>
                      <a:pt x="582" y="831"/>
                    </a:lnTo>
                    <a:lnTo>
                      <a:pt x="607" y="800"/>
                    </a:lnTo>
                    <a:lnTo>
                      <a:pt x="566" y="804"/>
                    </a:lnTo>
                    <a:lnTo>
                      <a:pt x="555" y="804"/>
                    </a:lnTo>
                    <a:lnTo>
                      <a:pt x="549" y="804"/>
                    </a:lnTo>
                    <a:lnTo>
                      <a:pt x="545" y="805"/>
                    </a:lnTo>
                    <a:lnTo>
                      <a:pt x="524" y="806"/>
                    </a:lnTo>
                    <a:lnTo>
                      <a:pt x="473" y="804"/>
                    </a:lnTo>
                    <a:lnTo>
                      <a:pt x="424" y="797"/>
                    </a:lnTo>
                    <a:lnTo>
                      <a:pt x="378" y="786"/>
                    </a:lnTo>
                    <a:lnTo>
                      <a:pt x="334" y="770"/>
                    </a:lnTo>
                    <a:lnTo>
                      <a:pt x="289" y="750"/>
                    </a:lnTo>
                    <a:lnTo>
                      <a:pt x="250" y="725"/>
                    </a:lnTo>
                    <a:lnTo>
                      <a:pt x="210" y="695"/>
                    </a:lnTo>
                    <a:lnTo>
                      <a:pt x="174" y="661"/>
                    </a:lnTo>
                    <a:lnTo>
                      <a:pt x="156" y="642"/>
                    </a:lnTo>
                    <a:lnTo>
                      <a:pt x="140" y="624"/>
                    </a:lnTo>
                    <a:lnTo>
                      <a:pt x="124" y="603"/>
                    </a:lnTo>
                    <a:lnTo>
                      <a:pt x="110" y="584"/>
                    </a:lnTo>
                    <a:lnTo>
                      <a:pt x="97" y="563"/>
                    </a:lnTo>
                    <a:lnTo>
                      <a:pt x="85" y="542"/>
                    </a:lnTo>
                    <a:lnTo>
                      <a:pt x="74" y="521"/>
                    </a:lnTo>
                    <a:lnTo>
                      <a:pt x="65" y="500"/>
                    </a:lnTo>
                    <a:lnTo>
                      <a:pt x="49" y="455"/>
                    </a:lnTo>
                    <a:lnTo>
                      <a:pt x="42" y="431"/>
                    </a:lnTo>
                    <a:lnTo>
                      <a:pt x="38" y="408"/>
                    </a:lnTo>
                    <a:lnTo>
                      <a:pt x="33" y="383"/>
                    </a:lnTo>
                    <a:lnTo>
                      <a:pt x="31" y="360"/>
                    </a:lnTo>
                    <a:lnTo>
                      <a:pt x="29" y="310"/>
                    </a:lnTo>
                    <a:lnTo>
                      <a:pt x="30" y="266"/>
                    </a:lnTo>
                    <a:lnTo>
                      <a:pt x="34" y="224"/>
                    </a:lnTo>
                    <a:lnTo>
                      <a:pt x="42" y="182"/>
                    </a:lnTo>
                    <a:lnTo>
                      <a:pt x="55" y="143"/>
                    </a:lnTo>
                    <a:lnTo>
                      <a:pt x="69" y="105"/>
                    </a:lnTo>
                    <a:lnTo>
                      <a:pt x="89" y="68"/>
                    </a:lnTo>
                    <a:lnTo>
                      <a:pt x="110" y="33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2c4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39360" y="3771360"/>
                <a:ext cx="113760" cy="125640"/>
              </a:xfrm>
              <a:custGeom>
                <a:avLst/>
                <a:gdLst/>
                <a:ahLst/>
                <a:rect l="l" t="t" r="r" b="b"/>
                <a:pathLst>
                  <a:path w="398" h="440">
                    <a:moveTo>
                      <a:pt x="27" y="219"/>
                    </a:moveTo>
                    <a:lnTo>
                      <a:pt x="27" y="198"/>
                    </a:lnTo>
                    <a:lnTo>
                      <a:pt x="31" y="180"/>
                    </a:lnTo>
                    <a:lnTo>
                      <a:pt x="41" y="145"/>
                    </a:lnTo>
                    <a:lnTo>
                      <a:pt x="58" y="112"/>
                    </a:lnTo>
                    <a:lnTo>
                      <a:pt x="69" y="96"/>
                    </a:lnTo>
                    <a:lnTo>
                      <a:pt x="84" y="83"/>
                    </a:lnTo>
                    <a:lnTo>
                      <a:pt x="98" y="68"/>
                    </a:lnTo>
                    <a:lnTo>
                      <a:pt x="114" y="57"/>
                    </a:lnTo>
                    <a:lnTo>
                      <a:pt x="146" y="40"/>
                    </a:lnTo>
                    <a:lnTo>
                      <a:pt x="182" y="29"/>
                    </a:lnTo>
                    <a:lnTo>
                      <a:pt x="200" y="26"/>
                    </a:lnTo>
                    <a:lnTo>
                      <a:pt x="220" y="26"/>
                    </a:lnTo>
                    <a:lnTo>
                      <a:pt x="225" y="26"/>
                    </a:lnTo>
                    <a:lnTo>
                      <a:pt x="192" y="0"/>
                    </a:lnTo>
                    <a:lnTo>
                      <a:pt x="157" y="7"/>
                    </a:lnTo>
                    <a:lnTo>
                      <a:pt x="124" y="20"/>
                    </a:lnTo>
                    <a:lnTo>
                      <a:pt x="93" y="39"/>
                    </a:lnTo>
                    <a:lnTo>
                      <a:pt x="65" y="63"/>
                    </a:lnTo>
                    <a:lnTo>
                      <a:pt x="48" y="79"/>
                    </a:lnTo>
                    <a:lnTo>
                      <a:pt x="35" y="96"/>
                    </a:lnTo>
                    <a:lnTo>
                      <a:pt x="16" y="134"/>
                    </a:lnTo>
                    <a:lnTo>
                      <a:pt x="8" y="153"/>
                    </a:lnTo>
                    <a:lnTo>
                      <a:pt x="4" y="175"/>
                    </a:lnTo>
                    <a:lnTo>
                      <a:pt x="0" y="219"/>
                    </a:lnTo>
                    <a:lnTo>
                      <a:pt x="0" y="240"/>
                    </a:lnTo>
                    <a:lnTo>
                      <a:pt x="4" y="262"/>
                    </a:lnTo>
                    <a:lnTo>
                      <a:pt x="8" y="282"/>
                    </a:lnTo>
                    <a:lnTo>
                      <a:pt x="16" y="303"/>
                    </a:lnTo>
                    <a:lnTo>
                      <a:pt x="24" y="321"/>
                    </a:lnTo>
                    <a:lnTo>
                      <a:pt x="35" y="340"/>
                    </a:lnTo>
                    <a:lnTo>
                      <a:pt x="48" y="357"/>
                    </a:lnTo>
                    <a:lnTo>
                      <a:pt x="65" y="375"/>
                    </a:lnTo>
                    <a:lnTo>
                      <a:pt x="81" y="390"/>
                    </a:lnTo>
                    <a:lnTo>
                      <a:pt x="98" y="402"/>
                    </a:lnTo>
                    <a:lnTo>
                      <a:pt x="116" y="413"/>
                    </a:lnTo>
                    <a:lnTo>
                      <a:pt x="135" y="423"/>
                    </a:lnTo>
                    <a:lnTo>
                      <a:pt x="154" y="430"/>
                    </a:lnTo>
                    <a:lnTo>
                      <a:pt x="176" y="435"/>
                    </a:lnTo>
                    <a:lnTo>
                      <a:pt x="197" y="439"/>
                    </a:lnTo>
                    <a:lnTo>
                      <a:pt x="220" y="440"/>
                    </a:lnTo>
                    <a:lnTo>
                      <a:pt x="225" y="439"/>
                    </a:lnTo>
                    <a:lnTo>
                      <a:pt x="230" y="439"/>
                    </a:lnTo>
                    <a:lnTo>
                      <a:pt x="242" y="439"/>
                    </a:lnTo>
                    <a:lnTo>
                      <a:pt x="252" y="436"/>
                    </a:lnTo>
                    <a:lnTo>
                      <a:pt x="263" y="435"/>
                    </a:lnTo>
                    <a:lnTo>
                      <a:pt x="284" y="430"/>
                    </a:lnTo>
                    <a:lnTo>
                      <a:pt x="304" y="423"/>
                    </a:lnTo>
                    <a:lnTo>
                      <a:pt x="322" y="413"/>
                    </a:lnTo>
                    <a:lnTo>
                      <a:pt x="331" y="407"/>
                    </a:lnTo>
                    <a:lnTo>
                      <a:pt x="341" y="402"/>
                    </a:lnTo>
                    <a:lnTo>
                      <a:pt x="349" y="396"/>
                    </a:lnTo>
                    <a:lnTo>
                      <a:pt x="358" y="390"/>
                    </a:lnTo>
                    <a:lnTo>
                      <a:pt x="377" y="375"/>
                    </a:lnTo>
                    <a:lnTo>
                      <a:pt x="381" y="368"/>
                    </a:lnTo>
                    <a:lnTo>
                      <a:pt x="383" y="365"/>
                    </a:lnTo>
                    <a:lnTo>
                      <a:pt x="387" y="363"/>
                    </a:lnTo>
                    <a:lnTo>
                      <a:pt x="398" y="350"/>
                    </a:lnTo>
                    <a:lnTo>
                      <a:pt x="391" y="310"/>
                    </a:lnTo>
                    <a:lnTo>
                      <a:pt x="383" y="321"/>
                    </a:lnTo>
                    <a:lnTo>
                      <a:pt x="379" y="327"/>
                    </a:lnTo>
                    <a:lnTo>
                      <a:pt x="375" y="333"/>
                    </a:lnTo>
                    <a:lnTo>
                      <a:pt x="357" y="356"/>
                    </a:lnTo>
                    <a:lnTo>
                      <a:pt x="341" y="368"/>
                    </a:lnTo>
                    <a:lnTo>
                      <a:pt x="327" y="380"/>
                    </a:lnTo>
                    <a:lnTo>
                      <a:pt x="310" y="389"/>
                    </a:lnTo>
                    <a:lnTo>
                      <a:pt x="294" y="397"/>
                    </a:lnTo>
                    <a:lnTo>
                      <a:pt x="276" y="402"/>
                    </a:lnTo>
                    <a:lnTo>
                      <a:pt x="258" y="407"/>
                    </a:lnTo>
                    <a:lnTo>
                      <a:pt x="252" y="407"/>
                    </a:lnTo>
                    <a:lnTo>
                      <a:pt x="247" y="408"/>
                    </a:lnTo>
                    <a:lnTo>
                      <a:pt x="238" y="410"/>
                    </a:lnTo>
                    <a:lnTo>
                      <a:pt x="220" y="412"/>
                    </a:lnTo>
                    <a:lnTo>
                      <a:pt x="200" y="410"/>
                    </a:lnTo>
                    <a:lnTo>
                      <a:pt x="182" y="407"/>
                    </a:lnTo>
                    <a:lnTo>
                      <a:pt x="163" y="402"/>
                    </a:lnTo>
                    <a:lnTo>
                      <a:pt x="146" y="397"/>
                    </a:lnTo>
                    <a:lnTo>
                      <a:pt x="129" y="389"/>
                    </a:lnTo>
                    <a:lnTo>
                      <a:pt x="114" y="380"/>
                    </a:lnTo>
                    <a:lnTo>
                      <a:pt x="98" y="368"/>
                    </a:lnTo>
                    <a:lnTo>
                      <a:pt x="84" y="356"/>
                    </a:lnTo>
                    <a:lnTo>
                      <a:pt x="69" y="340"/>
                    </a:lnTo>
                    <a:lnTo>
                      <a:pt x="58" y="325"/>
                    </a:lnTo>
                    <a:lnTo>
                      <a:pt x="48" y="308"/>
                    </a:lnTo>
                    <a:lnTo>
                      <a:pt x="41" y="292"/>
                    </a:lnTo>
                    <a:lnTo>
                      <a:pt x="34" y="274"/>
                    </a:lnTo>
                    <a:lnTo>
                      <a:pt x="31" y="256"/>
                    </a:lnTo>
                    <a:lnTo>
                      <a:pt x="27" y="237"/>
                    </a:lnTo>
                    <a:lnTo>
                      <a:pt x="27" y="219"/>
                    </a:lnTo>
                    <a:close/>
                  </a:path>
                </a:pathLst>
              </a:custGeom>
              <a:solidFill>
                <a:srgbClr val="4f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47280" y="3778920"/>
                <a:ext cx="104040" cy="110160"/>
              </a:xfrm>
              <a:custGeom>
                <a:avLst/>
                <a:gdLst/>
                <a:ahLst/>
                <a:rect l="l" t="t" r="r" b="b"/>
                <a:pathLst>
                  <a:path w="364" h="386">
                    <a:moveTo>
                      <a:pt x="57" y="57"/>
                    </a:moveTo>
                    <a:lnTo>
                      <a:pt x="42" y="70"/>
                    </a:lnTo>
                    <a:lnTo>
                      <a:pt x="31" y="86"/>
                    </a:lnTo>
                    <a:lnTo>
                      <a:pt x="14" y="119"/>
                    </a:lnTo>
                    <a:lnTo>
                      <a:pt x="4" y="154"/>
                    </a:lnTo>
                    <a:lnTo>
                      <a:pt x="0" y="172"/>
                    </a:lnTo>
                    <a:lnTo>
                      <a:pt x="0" y="193"/>
                    </a:lnTo>
                    <a:lnTo>
                      <a:pt x="0" y="211"/>
                    </a:lnTo>
                    <a:lnTo>
                      <a:pt x="4" y="230"/>
                    </a:lnTo>
                    <a:lnTo>
                      <a:pt x="7" y="248"/>
                    </a:lnTo>
                    <a:lnTo>
                      <a:pt x="14" y="266"/>
                    </a:lnTo>
                    <a:lnTo>
                      <a:pt x="21" y="282"/>
                    </a:lnTo>
                    <a:lnTo>
                      <a:pt x="31" y="299"/>
                    </a:lnTo>
                    <a:lnTo>
                      <a:pt x="42" y="314"/>
                    </a:lnTo>
                    <a:lnTo>
                      <a:pt x="57" y="330"/>
                    </a:lnTo>
                    <a:lnTo>
                      <a:pt x="71" y="342"/>
                    </a:lnTo>
                    <a:lnTo>
                      <a:pt x="87" y="354"/>
                    </a:lnTo>
                    <a:lnTo>
                      <a:pt x="102" y="363"/>
                    </a:lnTo>
                    <a:lnTo>
                      <a:pt x="119" y="371"/>
                    </a:lnTo>
                    <a:lnTo>
                      <a:pt x="136" y="376"/>
                    </a:lnTo>
                    <a:lnTo>
                      <a:pt x="155" y="381"/>
                    </a:lnTo>
                    <a:lnTo>
                      <a:pt x="173" y="384"/>
                    </a:lnTo>
                    <a:lnTo>
                      <a:pt x="193" y="386"/>
                    </a:lnTo>
                    <a:lnTo>
                      <a:pt x="211" y="384"/>
                    </a:lnTo>
                    <a:lnTo>
                      <a:pt x="220" y="382"/>
                    </a:lnTo>
                    <a:lnTo>
                      <a:pt x="225" y="381"/>
                    </a:lnTo>
                    <a:lnTo>
                      <a:pt x="231" y="381"/>
                    </a:lnTo>
                    <a:lnTo>
                      <a:pt x="249" y="376"/>
                    </a:lnTo>
                    <a:lnTo>
                      <a:pt x="267" y="371"/>
                    </a:lnTo>
                    <a:lnTo>
                      <a:pt x="283" y="363"/>
                    </a:lnTo>
                    <a:lnTo>
                      <a:pt x="300" y="354"/>
                    </a:lnTo>
                    <a:lnTo>
                      <a:pt x="314" y="342"/>
                    </a:lnTo>
                    <a:lnTo>
                      <a:pt x="330" y="330"/>
                    </a:lnTo>
                    <a:lnTo>
                      <a:pt x="348" y="307"/>
                    </a:lnTo>
                    <a:lnTo>
                      <a:pt x="352" y="301"/>
                    </a:lnTo>
                    <a:lnTo>
                      <a:pt x="356" y="295"/>
                    </a:lnTo>
                    <a:lnTo>
                      <a:pt x="364" y="284"/>
                    </a:lnTo>
                    <a:lnTo>
                      <a:pt x="354" y="237"/>
                    </a:lnTo>
                    <a:lnTo>
                      <a:pt x="350" y="246"/>
                    </a:lnTo>
                    <a:lnTo>
                      <a:pt x="347" y="251"/>
                    </a:lnTo>
                    <a:lnTo>
                      <a:pt x="346" y="253"/>
                    </a:lnTo>
                    <a:lnTo>
                      <a:pt x="346" y="256"/>
                    </a:lnTo>
                    <a:lnTo>
                      <a:pt x="342" y="265"/>
                    </a:lnTo>
                    <a:lnTo>
                      <a:pt x="337" y="276"/>
                    </a:lnTo>
                    <a:lnTo>
                      <a:pt x="330" y="284"/>
                    </a:lnTo>
                    <a:lnTo>
                      <a:pt x="325" y="293"/>
                    </a:lnTo>
                    <a:lnTo>
                      <a:pt x="318" y="301"/>
                    </a:lnTo>
                    <a:lnTo>
                      <a:pt x="311" y="310"/>
                    </a:lnTo>
                    <a:lnTo>
                      <a:pt x="297" y="320"/>
                    </a:lnTo>
                    <a:lnTo>
                      <a:pt x="291" y="324"/>
                    </a:lnTo>
                    <a:lnTo>
                      <a:pt x="287" y="327"/>
                    </a:lnTo>
                    <a:lnTo>
                      <a:pt x="285" y="330"/>
                    </a:lnTo>
                    <a:lnTo>
                      <a:pt x="280" y="331"/>
                    </a:lnTo>
                    <a:lnTo>
                      <a:pt x="277" y="333"/>
                    </a:lnTo>
                    <a:lnTo>
                      <a:pt x="270" y="338"/>
                    </a:lnTo>
                    <a:lnTo>
                      <a:pt x="257" y="346"/>
                    </a:lnTo>
                    <a:lnTo>
                      <a:pt x="241" y="350"/>
                    </a:lnTo>
                    <a:lnTo>
                      <a:pt x="226" y="355"/>
                    </a:lnTo>
                    <a:lnTo>
                      <a:pt x="209" y="357"/>
                    </a:lnTo>
                    <a:lnTo>
                      <a:pt x="193" y="358"/>
                    </a:lnTo>
                    <a:lnTo>
                      <a:pt x="176" y="357"/>
                    </a:lnTo>
                    <a:lnTo>
                      <a:pt x="160" y="355"/>
                    </a:lnTo>
                    <a:lnTo>
                      <a:pt x="130" y="346"/>
                    </a:lnTo>
                    <a:lnTo>
                      <a:pt x="101" y="330"/>
                    </a:lnTo>
                    <a:lnTo>
                      <a:pt x="88" y="320"/>
                    </a:lnTo>
                    <a:lnTo>
                      <a:pt x="76" y="310"/>
                    </a:lnTo>
                    <a:lnTo>
                      <a:pt x="64" y="296"/>
                    </a:lnTo>
                    <a:lnTo>
                      <a:pt x="54" y="284"/>
                    </a:lnTo>
                    <a:lnTo>
                      <a:pt x="45" y="270"/>
                    </a:lnTo>
                    <a:lnTo>
                      <a:pt x="39" y="256"/>
                    </a:lnTo>
                    <a:lnTo>
                      <a:pt x="33" y="240"/>
                    </a:lnTo>
                    <a:lnTo>
                      <a:pt x="30" y="226"/>
                    </a:lnTo>
                    <a:lnTo>
                      <a:pt x="28" y="209"/>
                    </a:lnTo>
                    <a:lnTo>
                      <a:pt x="28" y="193"/>
                    </a:lnTo>
                    <a:lnTo>
                      <a:pt x="30" y="160"/>
                    </a:lnTo>
                    <a:lnTo>
                      <a:pt x="39" y="129"/>
                    </a:lnTo>
                    <a:lnTo>
                      <a:pt x="54" y="101"/>
                    </a:lnTo>
                    <a:lnTo>
                      <a:pt x="64" y="87"/>
                    </a:lnTo>
                    <a:lnTo>
                      <a:pt x="76" y="76"/>
                    </a:lnTo>
                    <a:lnTo>
                      <a:pt x="88" y="64"/>
                    </a:lnTo>
                    <a:lnTo>
                      <a:pt x="101" y="53"/>
                    </a:lnTo>
                    <a:lnTo>
                      <a:pt x="130" y="39"/>
                    </a:lnTo>
                    <a:lnTo>
                      <a:pt x="160" y="30"/>
                    </a:lnTo>
                    <a:lnTo>
                      <a:pt x="193" y="27"/>
                    </a:lnTo>
                    <a:lnTo>
                      <a:pt x="212" y="28"/>
                    </a:lnTo>
                    <a:lnTo>
                      <a:pt x="231" y="32"/>
                    </a:lnTo>
                    <a:lnTo>
                      <a:pt x="226" y="27"/>
                    </a:lnTo>
                    <a:lnTo>
                      <a:pt x="211" y="13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173" y="0"/>
                    </a:lnTo>
                    <a:lnTo>
                      <a:pt x="155" y="3"/>
                    </a:lnTo>
                    <a:lnTo>
                      <a:pt x="119" y="14"/>
                    </a:lnTo>
                    <a:lnTo>
                      <a:pt x="87" y="31"/>
                    </a:lnTo>
                    <a:lnTo>
                      <a:pt x="71" y="42"/>
                    </a:lnTo>
                    <a:lnTo>
                      <a:pt x="57" y="57"/>
                    </a:lnTo>
                    <a:close/>
                  </a:path>
                </a:pathLst>
              </a:custGeom>
              <a:solidFill>
                <a:srgbClr val="52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31440" y="3765240"/>
                <a:ext cx="122040" cy="139680"/>
              </a:xfrm>
              <a:custGeom>
                <a:avLst/>
                <a:gdLst/>
                <a:ahLst/>
                <a:rect l="l" t="t" r="r" b="b"/>
                <a:pathLst>
                  <a:path w="427" h="489">
                    <a:moveTo>
                      <a:pt x="27" y="241"/>
                    </a:moveTo>
                    <a:lnTo>
                      <a:pt x="31" y="197"/>
                    </a:lnTo>
                    <a:lnTo>
                      <a:pt x="35" y="175"/>
                    </a:lnTo>
                    <a:lnTo>
                      <a:pt x="43" y="156"/>
                    </a:lnTo>
                    <a:lnTo>
                      <a:pt x="62" y="118"/>
                    </a:lnTo>
                    <a:lnTo>
                      <a:pt x="75" y="101"/>
                    </a:lnTo>
                    <a:lnTo>
                      <a:pt x="92" y="85"/>
                    </a:lnTo>
                    <a:lnTo>
                      <a:pt x="120" y="61"/>
                    </a:lnTo>
                    <a:lnTo>
                      <a:pt x="151" y="42"/>
                    </a:lnTo>
                    <a:lnTo>
                      <a:pt x="184" y="29"/>
                    </a:lnTo>
                    <a:lnTo>
                      <a:pt x="219" y="22"/>
                    </a:lnTo>
                    <a:lnTo>
                      <a:pt x="187" y="0"/>
                    </a:lnTo>
                    <a:lnTo>
                      <a:pt x="154" y="10"/>
                    </a:lnTo>
                    <a:lnTo>
                      <a:pt x="126" y="23"/>
                    </a:lnTo>
                    <a:lnTo>
                      <a:pt x="97" y="41"/>
                    </a:lnTo>
                    <a:lnTo>
                      <a:pt x="73" y="65"/>
                    </a:lnTo>
                    <a:lnTo>
                      <a:pt x="56" y="83"/>
                    </a:lnTo>
                    <a:lnTo>
                      <a:pt x="41" y="102"/>
                    </a:lnTo>
                    <a:lnTo>
                      <a:pt x="28" y="123"/>
                    </a:lnTo>
                    <a:lnTo>
                      <a:pt x="18" y="146"/>
                    </a:lnTo>
                    <a:lnTo>
                      <a:pt x="10" y="167"/>
                    </a:lnTo>
                    <a:lnTo>
                      <a:pt x="5" y="191"/>
                    </a:lnTo>
                    <a:lnTo>
                      <a:pt x="1" y="215"/>
                    </a:lnTo>
                    <a:lnTo>
                      <a:pt x="0" y="241"/>
                    </a:lnTo>
                    <a:lnTo>
                      <a:pt x="1" y="265"/>
                    </a:lnTo>
                    <a:lnTo>
                      <a:pt x="5" y="290"/>
                    </a:lnTo>
                    <a:lnTo>
                      <a:pt x="10" y="312"/>
                    </a:lnTo>
                    <a:lnTo>
                      <a:pt x="18" y="336"/>
                    </a:lnTo>
                    <a:lnTo>
                      <a:pt x="28" y="356"/>
                    </a:lnTo>
                    <a:lnTo>
                      <a:pt x="41" y="378"/>
                    </a:lnTo>
                    <a:lnTo>
                      <a:pt x="56" y="397"/>
                    </a:lnTo>
                    <a:lnTo>
                      <a:pt x="73" y="417"/>
                    </a:lnTo>
                    <a:lnTo>
                      <a:pt x="91" y="434"/>
                    </a:lnTo>
                    <a:lnTo>
                      <a:pt x="110" y="448"/>
                    </a:lnTo>
                    <a:lnTo>
                      <a:pt x="130" y="461"/>
                    </a:lnTo>
                    <a:lnTo>
                      <a:pt x="152" y="471"/>
                    </a:lnTo>
                    <a:lnTo>
                      <a:pt x="173" y="479"/>
                    </a:lnTo>
                    <a:lnTo>
                      <a:pt x="197" y="485"/>
                    </a:lnTo>
                    <a:lnTo>
                      <a:pt x="221" y="488"/>
                    </a:lnTo>
                    <a:lnTo>
                      <a:pt x="247" y="489"/>
                    </a:lnTo>
                    <a:lnTo>
                      <a:pt x="258" y="488"/>
                    </a:lnTo>
                    <a:lnTo>
                      <a:pt x="271" y="488"/>
                    </a:lnTo>
                    <a:lnTo>
                      <a:pt x="296" y="485"/>
                    </a:lnTo>
                    <a:lnTo>
                      <a:pt x="319" y="479"/>
                    </a:lnTo>
                    <a:lnTo>
                      <a:pt x="330" y="474"/>
                    </a:lnTo>
                    <a:lnTo>
                      <a:pt x="336" y="472"/>
                    </a:lnTo>
                    <a:lnTo>
                      <a:pt x="342" y="471"/>
                    </a:lnTo>
                    <a:lnTo>
                      <a:pt x="363" y="461"/>
                    </a:lnTo>
                    <a:lnTo>
                      <a:pt x="373" y="454"/>
                    </a:lnTo>
                    <a:lnTo>
                      <a:pt x="384" y="448"/>
                    </a:lnTo>
                    <a:lnTo>
                      <a:pt x="393" y="440"/>
                    </a:lnTo>
                    <a:lnTo>
                      <a:pt x="404" y="434"/>
                    </a:lnTo>
                    <a:lnTo>
                      <a:pt x="413" y="424"/>
                    </a:lnTo>
                    <a:lnTo>
                      <a:pt x="417" y="420"/>
                    </a:lnTo>
                    <a:lnTo>
                      <a:pt x="419" y="418"/>
                    </a:lnTo>
                    <a:lnTo>
                      <a:pt x="421" y="417"/>
                    </a:lnTo>
                    <a:lnTo>
                      <a:pt x="423" y="417"/>
                    </a:lnTo>
                    <a:lnTo>
                      <a:pt x="427" y="412"/>
                    </a:lnTo>
                    <a:lnTo>
                      <a:pt x="425" y="372"/>
                    </a:lnTo>
                    <a:lnTo>
                      <a:pt x="414" y="385"/>
                    </a:lnTo>
                    <a:lnTo>
                      <a:pt x="410" y="387"/>
                    </a:lnTo>
                    <a:lnTo>
                      <a:pt x="408" y="390"/>
                    </a:lnTo>
                    <a:lnTo>
                      <a:pt x="404" y="397"/>
                    </a:lnTo>
                    <a:lnTo>
                      <a:pt x="385" y="412"/>
                    </a:lnTo>
                    <a:lnTo>
                      <a:pt x="376" y="418"/>
                    </a:lnTo>
                    <a:lnTo>
                      <a:pt x="368" y="424"/>
                    </a:lnTo>
                    <a:lnTo>
                      <a:pt x="358" y="429"/>
                    </a:lnTo>
                    <a:lnTo>
                      <a:pt x="349" y="435"/>
                    </a:lnTo>
                    <a:lnTo>
                      <a:pt x="331" y="445"/>
                    </a:lnTo>
                    <a:lnTo>
                      <a:pt x="311" y="452"/>
                    </a:lnTo>
                    <a:lnTo>
                      <a:pt x="290" y="457"/>
                    </a:lnTo>
                    <a:lnTo>
                      <a:pt x="279" y="458"/>
                    </a:lnTo>
                    <a:lnTo>
                      <a:pt x="269" y="461"/>
                    </a:lnTo>
                    <a:lnTo>
                      <a:pt x="257" y="461"/>
                    </a:lnTo>
                    <a:lnTo>
                      <a:pt x="252" y="461"/>
                    </a:lnTo>
                    <a:lnTo>
                      <a:pt x="247" y="462"/>
                    </a:lnTo>
                    <a:lnTo>
                      <a:pt x="224" y="461"/>
                    </a:lnTo>
                    <a:lnTo>
                      <a:pt x="203" y="457"/>
                    </a:lnTo>
                    <a:lnTo>
                      <a:pt x="181" y="452"/>
                    </a:lnTo>
                    <a:lnTo>
                      <a:pt x="162" y="445"/>
                    </a:lnTo>
                    <a:lnTo>
                      <a:pt x="143" y="435"/>
                    </a:lnTo>
                    <a:lnTo>
                      <a:pt x="125" y="424"/>
                    </a:lnTo>
                    <a:lnTo>
                      <a:pt x="108" y="412"/>
                    </a:lnTo>
                    <a:lnTo>
                      <a:pt x="92" y="397"/>
                    </a:lnTo>
                    <a:lnTo>
                      <a:pt x="75" y="379"/>
                    </a:lnTo>
                    <a:lnTo>
                      <a:pt x="62" y="362"/>
                    </a:lnTo>
                    <a:lnTo>
                      <a:pt x="51" y="343"/>
                    </a:lnTo>
                    <a:lnTo>
                      <a:pt x="43" y="325"/>
                    </a:lnTo>
                    <a:lnTo>
                      <a:pt x="35" y="304"/>
                    </a:lnTo>
                    <a:lnTo>
                      <a:pt x="31" y="284"/>
                    </a:lnTo>
                    <a:lnTo>
                      <a:pt x="27" y="262"/>
                    </a:lnTo>
                    <a:lnTo>
                      <a:pt x="27" y="241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23160" y="3759840"/>
                <a:ext cx="130680" cy="153000"/>
              </a:xfrm>
              <a:custGeom>
                <a:avLst/>
                <a:gdLst/>
                <a:ahLst/>
                <a:rect l="l" t="t" r="r" b="b"/>
                <a:pathLst>
                  <a:path w="457" h="536">
                    <a:moveTo>
                      <a:pt x="28" y="260"/>
                    </a:moveTo>
                    <a:lnTo>
                      <a:pt x="29" y="234"/>
                    </a:lnTo>
                    <a:lnTo>
                      <a:pt x="33" y="210"/>
                    </a:lnTo>
                    <a:lnTo>
                      <a:pt x="38" y="186"/>
                    </a:lnTo>
                    <a:lnTo>
                      <a:pt x="46" y="165"/>
                    </a:lnTo>
                    <a:lnTo>
                      <a:pt x="56" y="142"/>
                    </a:lnTo>
                    <a:lnTo>
                      <a:pt x="69" y="121"/>
                    </a:lnTo>
                    <a:lnTo>
                      <a:pt x="84" y="102"/>
                    </a:lnTo>
                    <a:lnTo>
                      <a:pt x="101" y="84"/>
                    </a:lnTo>
                    <a:lnTo>
                      <a:pt x="125" y="60"/>
                    </a:lnTo>
                    <a:lnTo>
                      <a:pt x="154" y="42"/>
                    </a:lnTo>
                    <a:lnTo>
                      <a:pt x="182" y="29"/>
                    </a:lnTo>
                    <a:lnTo>
                      <a:pt x="215" y="19"/>
                    </a:lnTo>
                    <a:lnTo>
                      <a:pt x="181" y="0"/>
                    </a:lnTo>
                    <a:lnTo>
                      <a:pt x="153" y="10"/>
                    </a:lnTo>
                    <a:lnTo>
                      <a:pt x="128" y="25"/>
                    </a:lnTo>
                    <a:lnTo>
                      <a:pt x="103" y="43"/>
                    </a:lnTo>
                    <a:lnTo>
                      <a:pt x="80" y="65"/>
                    </a:lnTo>
                    <a:lnTo>
                      <a:pt x="61" y="85"/>
                    </a:lnTo>
                    <a:lnTo>
                      <a:pt x="44" y="107"/>
                    </a:lnTo>
                    <a:lnTo>
                      <a:pt x="29" y="129"/>
                    </a:lnTo>
                    <a:lnTo>
                      <a:pt x="19" y="154"/>
                    </a:lnTo>
                    <a:lnTo>
                      <a:pt x="10" y="178"/>
                    </a:lnTo>
                    <a:lnTo>
                      <a:pt x="4" y="204"/>
                    </a:lnTo>
                    <a:lnTo>
                      <a:pt x="1" y="231"/>
                    </a:lnTo>
                    <a:lnTo>
                      <a:pt x="0" y="260"/>
                    </a:lnTo>
                    <a:lnTo>
                      <a:pt x="1" y="287"/>
                    </a:lnTo>
                    <a:lnTo>
                      <a:pt x="4" y="314"/>
                    </a:lnTo>
                    <a:lnTo>
                      <a:pt x="10" y="339"/>
                    </a:lnTo>
                    <a:lnTo>
                      <a:pt x="13" y="352"/>
                    </a:lnTo>
                    <a:lnTo>
                      <a:pt x="19" y="365"/>
                    </a:lnTo>
                    <a:lnTo>
                      <a:pt x="29" y="388"/>
                    </a:lnTo>
                    <a:lnTo>
                      <a:pt x="44" y="412"/>
                    </a:lnTo>
                    <a:lnTo>
                      <a:pt x="61" y="433"/>
                    </a:lnTo>
                    <a:lnTo>
                      <a:pt x="80" y="455"/>
                    </a:lnTo>
                    <a:lnTo>
                      <a:pt x="101" y="473"/>
                    </a:lnTo>
                    <a:lnTo>
                      <a:pt x="122" y="490"/>
                    </a:lnTo>
                    <a:lnTo>
                      <a:pt x="145" y="504"/>
                    </a:lnTo>
                    <a:lnTo>
                      <a:pt x="170" y="516"/>
                    </a:lnTo>
                    <a:lnTo>
                      <a:pt x="194" y="524"/>
                    </a:lnTo>
                    <a:lnTo>
                      <a:pt x="220" y="531"/>
                    </a:lnTo>
                    <a:lnTo>
                      <a:pt x="247" y="534"/>
                    </a:lnTo>
                    <a:lnTo>
                      <a:pt x="275" y="536"/>
                    </a:lnTo>
                    <a:lnTo>
                      <a:pt x="300" y="535"/>
                    </a:lnTo>
                    <a:lnTo>
                      <a:pt x="325" y="532"/>
                    </a:lnTo>
                    <a:lnTo>
                      <a:pt x="336" y="529"/>
                    </a:lnTo>
                    <a:lnTo>
                      <a:pt x="349" y="526"/>
                    </a:lnTo>
                    <a:lnTo>
                      <a:pt x="373" y="519"/>
                    </a:lnTo>
                    <a:lnTo>
                      <a:pt x="377" y="516"/>
                    </a:lnTo>
                    <a:lnTo>
                      <a:pt x="383" y="514"/>
                    </a:lnTo>
                    <a:lnTo>
                      <a:pt x="394" y="509"/>
                    </a:lnTo>
                    <a:lnTo>
                      <a:pt x="416" y="498"/>
                    </a:lnTo>
                    <a:lnTo>
                      <a:pt x="436" y="484"/>
                    </a:lnTo>
                    <a:lnTo>
                      <a:pt x="457" y="470"/>
                    </a:lnTo>
                    <a:lnTo>
                      <a:pt x="457" y="450"/>
                    </a:lnTo>
                    <a:lnTo>
                      <a:pt x="455" y="431"/>
                    </a:lnTo>
                    <a:lnTo>
                      <a:pt x="451" y="436"/>
                    </a:lnTo>
                    <a:lnTo>
                      <a:pt x="449" y="436"/>
                    </a:lnTo>
                    <a:lnTo>
                      <a:pt x="447" y="437"/>
                    </a:lnTo>
                    <a:lnTo>
                      <a:pt x="445" y="439"/>
                    </a:lnTo>
                    <a:lnTo>
                      <a:pt x="441" y="443"/>
                    </a:lnTo>
                    <a:lnTo>
                      <a:pt x="432" y="453"/>
                    </a:lnTo>
                    <a:lnTo>
                      <a:pt x="421" y="459"/>
                    </a:lnTo>
                    <a:lnTo>
                      <a:pt x="412" y="467"/>
                    </a:lnTo>
                    <a:lnTo>
                      <a:pt x="401" y="473"/>
                    </a:lnTo>
                    <a:lnTo>
                      <a:pt x="391" y="480"/>
                    </a:lnTo>
                    <a:lnTo>
                      <a:pt x="370" y="490"/>
                    </a:lnTo>
                    <a:lnTo>
                      <a:pt x="364" y="491"/>
                    </a:lnTo>
                    <a:lnTo>
                      <a:pt x="358" y="493"/>
                    </a:lnTo>
                    <a:lnTo>
                      <a:pt x="347" y="498"/>
                    </a:lnTo>
                    <a:lnTo>
                      <a:pt x="324" y="504"/>
                    </a:lnTo>
                    <a:lnTo>
                      <a:pt x="299" y="507"/>
                    </a:lnTo>
                    <a:lnTo>
                      <a:pt x="286" y="507"/>
                    </a:lnTo>
                    <a:lnTo>
                      <a:pt x="275" y="508"/>
                    </a:lnTo>
                    <a:lnTo>
                      <a:pt x="249" y="507"/>
                    </a:lnTo>
                    <a:lnTo>
                      <a:pt x="225" y="504"/>
                    </a:lnTo>
                    <a:lnTo>
                      <a:pt x="201" y="498"/>
                    </a:lnTo>
                    <a:lnTo>
                      <a:pt x="180" y="490"/>
                    </a:lnTo>
                    <a:lnTo>
                      <a:pt x="158" y="480"/>
                    </a:lnTo>
                    <a:lnTo>
                      <a:pt x="138" y="467"/>
                    </a:lnTo>
                    <a:lnTo>
                      <a:pt x="119" y="453"/>
                    </a:lnTo>
                    <a:lnTo>
                      <a:pt x="101" y="436"/>
                    </a:lnTo>
                    <a:lnTo>
                      <a:pt x="84" y="416"/>
                    </a:lnTo>
                    <a:lnTo>
                      <a:pt x="69" y="397"/>
                    </a:lnTo>
                    <a:lnTo>
                      <a:pt x="56" y="375"/>
                    </a:lnTo>
                    <a:lnTo>
                      <a:pt x="46" y="355"/>
                    </a:lnTo>
                    <a:lnTo>
                      <a:pt x="38" y="331"/>
                    </a:lnTo>
                    <a:lnTo>
                      <a:pt x="33" y="309"/>
                    </a:lnTo>
                    <a:lnTo>
                      <a:pt x="29" y="284"/>
                    </a:lnTo>
                    <a:lnTo>
                      <a:pt x="28" y="260"/>
                    </a:lnTo>
                    <a:close/>
                  </a:path>
                </a:pathLst>
              </a:custGeom>
              <a:solidFill>
                <a:srgbClr val="49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60520" y="3744360"/>
                <a:ext cx="172080" cy="231120"/>
              </a:xfrm>
              <a:custGeom>
                <a:avLst/>
                <a:gdLst/>
                <a:ahLst/>
                <a:rect l="l" t="t" r="r" b="b"/>
                <a:pathLst>
                  <a:path w="601" h="809">
                    <a:moveTo>
                      <a:pt x="107" y="3"/>
                    </a:moveTo>
                    <a:lnTo>
                      <a:pt x="81" y="36"/>
                    </a:lnTo>
                    <a:lnTo>
                      <a:pt x="60" y="71"/>
                    </a:lnTo>
                    <a:lnTo>
                      <a:pt x="40" y="108"/>
                    </a:lnTo>
                    <a:lnTo>
                      <a:pt x="26" y="146"/>
                    </a:lnTo>
                    <a:lnTo>
                      <a:pt x="13" y="185"/>
                    </a:lnTo>
                    <a:lnTo>
                      <a:pt x="5" y="227"/>
                    </a:lnTo>
                    <a:lnTo>
                      <a:pt x="1" y="269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4" y="386"/>
                    </a:lnTo>
                    <a:lnTo>
                      <a:pt x="9" y="411"/>
                    </a:lnTo>
                    <a:lnTo>
                      <a:pt x="13" y="434"/>
                    </a:lnTo>
                    <a:lnTo>
                      <a:pt x="20" y="458"/>
                    </a:lnTo>
                    <a:lnTo>
                      <a:pt x="36" y="503"/>
                    </a:lnTo>
                    <a:lnTo>
                      <a:pt x="45" y="524"/>
                    </a:lnTo>
                    <a:lnTo>
                      <a:pt x="56" y="545"/>
                    </a:lnTo>
                    <a:lnTo>
                      <a:pt x="68" y="566"/>
                    </a:lnTo>
                    <a:lnTo>
                      <a:pt x="81" y="587"/>
                    </a:lnTo>
                    <a:lnTo>
                      <a:pt x="95" y="606"/>
                    </a:lnTo>
                    <a:lnTo>
                      <a:pt x="111" y="627"/>
                    </a:lnTo>
                    <a:lnTo>
                      <a:pt x="127" y="645"/>
                    </a:lnTo>
                    <a:lnTo>
                      <a:pt x="145" y="664"/>
                    </a:lnTo>
                    <a:lnTo>
                      <a:pt x="181" y="698"/>
                    </a:lnTo>
                    <a:lnTo>
                      <a:pt x="221" y="728"/>
                    </a:lnTo>
                    <a:lnTo>
                      <a:pt x="260" y="753"/>
                    </a:lnTo>
                    <a:lnTo>
                      <a:pt x="305" y="773"/>
                    </a:lnTo>
                    <a:lnTo>
                      <a:pt x="349" y="789"/>
                    </a:lnTo>
                    <a:lnTo>
                      <a:pt x="395" y="800"/>
                    </a:lnTo>
                    <a:lnTo>
                      <a:pt x="444" y="807"/>
                    </a:lnTo>
                    <a:lnTo>
                      <a:pt x="495" y="809"/>
                    </a:lnTo>
                    <a:lnTo>
                      <a:pt x="516" y="808"/>
                    </a:lnTo>
                    <a:lnTo>
                      <a:pt x="520" y="807"/>
                    </a:lnTo>
                    <a:lnTo>
                      <a:pt x="526" y="807"/>
                    </a:lnTo>
                    <a:lnTo>
                      <a:pt x="537" y="807"/>
                    </a:lnTo>
                    <a:lnTo>
                      <a:pt x="578" y="803"/>
                    </a:lnTo>
                    <a:lnTo>
                      <a:pt x="601" y="771"/>
                    </a:lnTo>
                    <a:lnTo>
                      <a:pt x="575" y="775"/>
                    </a:lnTo>
                    <a:lnTo>
                      <a:pt x="561" y="777"/>
                    </a:lnTo>
                    <a:lnTo>
                      <a:pt x="548" y="779"/>
                    </a:lnTo>
                    <a:lnTo>
                      <a:pt x="521" y="781"/>
                    </a:lnTo>
                    <a:lnTo>
                      <a:pt x="508" y="781"/>
                    </a:lnTo>
                    <a:lnTo>
                      <a:pt x="501" y="781"/>
                    </a:lnTo>
                    <a:lnTo>
                      <a:pt x="497" y="781"/>
                    </a:lnTo>
                    <a:lnTo>
                      <a:pt x="495" y="782"/>
                    </a:lnTo>
                    <a:lnTo>
                      <a:pt x="446" y="780"/>
                    </a:lnTo>
                    <a:lnTo>
                      <a:pt x="401" y="773"/>
                    </a:lnTo>
                    <a:lnTo>
                      <a:pt x="357" y="762"/>
                    </a:lnTo>
                    <a:lnTo>
                      <a:pt x="315" y="747"/>
                    </a:lnTo>
                    <a:lnTo>
                      <a:pt x="273" y="727"/>
                    </a:lnTo>
                    <a:lnTo>
                      <a:pt x="235" y="704"/>
                    </a:lnTo>
                    <a:lnTo>
                      <a:pt x="198" y="677"/>
                    </a:lnTo>
                    <a:lnTo>
                      <a:pt x="164" y="645"/>
                    </a:lnTo>
                    <a:lnTo>
                      <a:pt x="130" y="609"/>
                    </a:lnTo>
                    <a:lnTo>
                      <a:pt x="115" y="589"/>
                    </a:lnTo>
                    <a:lnTo>
                      <a:pt x="103" y="571"/>
                    </a:lnTo>
                    <a:lnTo>
                      <a:pt x="79" y="533"/>
                    </a:lnTo>
                    <a:lnTo>
                      <a:pt x="69" y="512"/>
                    </a:lnTo>
                    <a:lnTo>
                      <a:pt x="61" y="493"/>
                    </a:lnTo>
                    <a:lnTo>
                      <a:pt x="45" y="450"/>
                    </a:lnTo>
                    <a:lnTo>
                      <a:pt x="35" y="406"/>
                    </a:lnTo>
                    <a:lnTo>
                      <a:pt x="30" y="382"/>
                    </a:lnTo>
                    <a:lnTo>
                      <a:pt x="28" y="359"/>
                    </a:lnTo>
                    <a:lnTo>
                      <a:pt x="27" y="313"/>
                    </a:lnTo>
                    <a:lnTo>
                      <a:pt x="28" y="267"/>
                    </a:lnTo>
                    <a:lnTo>
                      <a:pt x="34" y="224"/>
                    </a:lnTo>
                    <a:lnTo>
                      <a:pt x="43" y="182"/>
                    </a:lnTo>
                    <a:lnTo>
                      <a:pt x="56" y="144"/>
                    </a:lnTo>
                    <a:lnTo>
                      <a:pt x="72" y="104"/>
                    </a:lnTo>
                    <a:lnTo>
                      <a:pt x="94" y="68"/>
                    </a:lnTo>
                    <a:lnTo>
                      <a:pt x="118" y="33"/>
                    </a:lnTo>
                    <a:lnTo>
                      <a:pt x="147" y="0"/>
                    </a:lnTo>
                    <a:lnTo>
                      <a:pt x="107" y="3"/>
                    </a:lnTo>
                    <a:close/>
                  </a:path>
                </a:pathLst>
              </a:custGeom>
              <a:solidFill>
                <a:srgbClr val="2f4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54840" y="3786840"/>
                <a:ext cx="93600" cy="93960"/>
              </a:xfrm>
              <a:custGeom>
                <a:avLst/>
                <a:gdLst/>
                <a:ahLst/>
                <a:rect l="l" t="t" r="r" b="b"/>
                <a:pathLst>
                  <a:path w="326" h="331">
                    <a:moveTo>
                      <a:pt x="203" y="5"/>
                    </a:moveTo>
                    <a:lnTo>
                      <a:pt x="184" y="1"/>
                    </a:lnTo>
                    <a:lnTo>
                      <a:pt x="165" y="0"/>
                    </a:lnTo>
                    <a:lnTo>
                      <a:pt x="132" y="3"/>
                    </a:lnTo>
                    <a:lnTo>
                      <a:pt x="102" y="12"/>
                    </a:lnTo>
                    <a:lnTo>
                      <a:pt x="73" y="26"/>
                    </a:lnTo>
                    <a:lnTo>
                      <a:pt x="60" y="37"/>
                    </a:lnTo>
                    <a:lnTo>
                      <a:pt x="48" y="49"/>
                    </a:lnTo>
                    <a:lnTo>
                      <a:pt x="36" y="60"/>
                    </a:lnTo>
                    <a:lnTo>
                      <a:pt x="26" y="74"/>
                    </a:lnTo>
                    <a:lnTo>
                      <a:pt x="11" y="102"/>
                    </a:lnTo>
                    <a:lnTo>
                      <a:pt x="2" y="133"/>
                    </a:lnTo>
                    <a:lnTo>
                      <a:pt x="0" y="166"/>
                    </a:lnTo>
                    <a:lnTo>
                      <a:pt x="0" y="182"/>
                    </a:lnTo>
                    <a:lnTo>
                      <a:pt x="2" y="199"/>
                    </a:lnTo>
                    <a:lnTo>
                      <a:pt x="5" y="213"/>
                    </a:lnTo>
                    <a:lnTo>
                      <a:pt x="11" y="229"/>
                    </a:lnTo>
                    <a:lnTo>
                      <a:pt x="17" y="243"/>
                    </a:lnTo>
                    <a:lnTo>
                      <a:pt x="26" y="257"/>
                    </a:lnTo>
                    <a:lnTo>
                      <a:pt x="36" y="269"/>
                    </a:lnTo>
                    <a:lnTo>
                      <a:pt x="48" y="283"/>
                    </a:lnTo>
                    <a:lnTo>
                      <a:pt x="60" y="293"/>
                    </a:lnTo>
                    <a:lnTo>
                      <a:pt x="73" y="303"/>
                    </a:lnTo>
                    <a:lnTo>
                      <a:pt x="102" y="319"/>
                    </a:lnTo>
                    <a:lnTo>
                      <a:pt x="132" y="328"/>
                    </a:lnTo>
                    <a:lnTo>
                      <a:pt x="148" y="330"/>
                    </a:lnTo>
                    <a:lnTo>
                      <a:pt x="165" y="331"/>
                    </a:lnTo>
                    <a:lnTo>
                      <a:pt x="181" y="330"/>
                    </a:lnTo>
                    <a:lnTo>
                      <a:pt x="198" y="328"/>
                    </a:lnTo>
                    <a:lnTo>
                      <a:pt x="213" y="323"/>
                    </a:lnTo>
                    <a:lnTo>
                      <a:pt x="229" y="319"/>
                    </a:lnTo>
                    <a:lnTo>
                      <a:pt x="242" y="311"/>
                    </a:lnTo>
                    <a:lnTo>
                      <a:pt x="249" y="306"/>
                    </a:lnTo>
                    <a:lnTo>
                      <a:pt x="252" y="304"/>
                    </a:lnTo>
                    <a:lnTo>
                      <a:pt x="257" y="303"/>
                    </a:lnTo>
                    <a:lnTo>
                      <a:pt x="259" y="300"/>
                    </a:lnTo>
                    <a:lnTo>
                      <a:pt x="263" y="297"/>
                    </a:lnTo>
                    <a:lnTo>
                      <a:pt x="269" y="293"/>
                    </a:lnTo>
                    <a:lnTo>
                      <a:pt x="283" y="283"/>
                    </a:lnTo>
                    <a:lnTo>
                      <a:pt x="290" y="274"/>
                    </a:lnTo>
                    <a:lnTo>
                      <a:pt x="297" y="266"/>
                    </a:lnTo>
                    <a:lnTo>
                      <a:pt x="302" y="257"/>
                    </a:lnTo>
                    <a:lnTo>
                      <a:pt x="309" y="249"/>
                    </a:lnTo>
                    <a:lnTo>
                      <a:pt x="314" y="238"/>
                    </a:lnTo>
                    <a:lnTo>
                      <a:pt x="318" y="229"/>
                    </a:lnTo>
                    <a:lnTo>
                      <a:pt x="318" y="226"/>
                    </a:lnTo>
                    <a:lnTo>
                      <a:pt x="319" y="224"/>
                    </a:lnTo>
                    <a:lnTo>
                      <a:pt x="322" y="219"/>
                    </a:lnTo>
                    <a:lnTo>
                      <a:pt x="326" y="210"/>
                    </a:lnTo>
                    <a:lnTo>
                      <a:pt x="315" y="178"/>
                    </a:lnTo>
                    <a:lnTo>
                      <a:pt x="302" y="147"/>
                    </a:lnTo>
                    <a:lnTo>
                      <a:pt x="302" y="156"/>
                    </a:lnTo>
                    <a:lnTo>
                      <a:pt x="302" y="160"/>
                    </a:lnTo>
                    <a:lnTo>
                      <a:pt x="302" y="162"/>
                    </a:lnTo>
                    <a:lnTo>
                      <a:pt x="302" y="164"/>
                    </a:lnTo>
                    <a:lnTo>
                      <a:pt x="303" y="166"/>
                    </a:lnTo>
                    <a:lnTo>
                      <a:pt x="302" y="168"/>
                    </a:lnTo>
                    <a:lnTo>
                      <a:pt x="302" y="171"/>
                    </a:lnTo>
                    <a:lnTo>
                      <a:pt x="302" y="178"/>
                    </a:lnTo>
                    <a:lnTo>
                      <a:pt x="300" y="192"/>
                    </a:lnTo>
                    <a:lnTo>
                      <a:pt x="298" y="198"/>
                    </a:lnTo>
                    <a:lnTo>
                      <a:pt x="297" y="204"/>
                    </a:lnTo>
                    <a:lnTo>
                      <a:pt x="293" y="218"/>
                    </a:lnTo>
                    <a:lnTo>
                      <a:pt x="286" y="229"/>
                    </a:lnTo>
                    <a:lnTo>
                      <a:pt x="280" y="242"/>
                    </a:lnTo>
                    <a:lnTo>
                      <a:pt x="275" y="246"/>
                    </a:lnTo>
                    <a:lnTo>
                      <a:pt x="273" y="249"/>
                    </a:lnTo>
                    <a:lnTo>
                      <a:pt x="272" y="249"/>
                    </a:lnTo>
                    <a:lnTo>
                      <a:pt x="272" y="250"/>
                    </a:lnTo>
                    <a:lnTo>
                      <a:pt x="272" y="252"/>
                    </a:lnTo>
                    <a:lnTo>
                      <a:pt x="263" y="263"/>
                    </a:lnTo>
                    <a:lnTo>
                      <a:pt x="251" y="272"/>
                    </a:lnTo>
                    <a:lnTo>
                      <a:pt x="249" y="272"/>
                    </a:lnTo>
                    <a:lnTo>
                      <a:pt x="248" y="272"/>
                    </a:lnTo>
                    <a:lnTo>
                      <a:pt x="248" y="274"/>
                    </a:lnTo>
                    <a:lnTo>
                      <a:pt x="246" y="276"/>
                    </a:lnTo>
                    <a:lnTo>
                      <a:pt x="241" y="280"/>
                    </a:lnTo>
                    <a:lnTo>
                      <a:pt x="229" y="287"/>
                    </a:lnTo>
                    <a:lnTo>
                      <a:pt x="217" y="294"/>
                    </a:lnTo>
                    <a:lnTo>
                      <a:pt x="204" y="297"/>
                    </a:lnTo>
                    <a:lnTo>
                      <a:pt x="197" y="298"/>
                    </a:lnTo>
                    <a:lnTo>
                      <a:pt x="191" y="301"/>
                    </a:lnTo>
                    <a:lnTo>
                      <a:pt x="178" y="303"/>
                    </a:lnTo>
                    <a:lnTo>
                      <a:pt x="171" y="303"/>
                    </a:lnTo>
                    <a:lnTo>
                      <a:pt x="167" y="303"/>
                    </a:lnTo>
                    <a:lnTo>
                      <a:pt x="165" y="304"/>
                    </a:lnTo>
                    <a:lnTo>
                      <a:pt x="150" y="303"/>
                    </a:lnTo>
                    <a:lnTo>
                      <a:pt x="137" y="301"/>
                    </a:lnTo>
                    <a:lnTo>
                      <a:pt x="112" y="294"/>
                    </a:lnTo>
                    <a:lnTo>
                      <a:pt x="88" y="280"/>
                    </a:lnTo>
                    <a:lnTo>
                      <a:pt x="77" y="272"/>
                    </a:lnTo>
                    <a:lnTo>
                      <a:pt x="68" y="263"/>
                    </a:lnTo>
                    <a:lnTo>
                      <a:pt x="57" y="252"/>
                    </a:lnTo>
                    <a:lnTo>
                      <a:pt x="49" y="242"/>
                    </a:lnTo>
                    <a:lnTo>
                      <a:pt x="42" y="229"/>
                    </a:lnTo>
                    <a:lnTo>
                      <a:pt x="37" y="218"/>
                    </a:lnTo>
                    <a:lnTo>
                      <a:pt x="32" y="204"/>
                    </a:lnTo>
                    <a:lnTo>
                      <a:pt x="30" y="192"/>
                    </a:lnTo>
                    <a:lnTo>
                      <a:pt x="28" y="178"/>
                    </a:lnTo>
                    <a:lnTo>
                      <a:pt x="28" y="166"/>
                    </a:lnTo>
                    <a:lnTo>
                      <a:pt x="30" y="137"/>
                    </a:lnTo>
                    <a:lnTo>
                      <a:pt x="37" y="113"/>
                    </a:lnTo>
                    <a:lnTo>
                      <a:pt x="49" y="89"/>
                    </a:lnTo>
                    <a:lnTo>
                      <a:pt x="68" y="68"/>
                    </a:lnTo>
                    <a:lnTo>
                      <a:pt x="88" y="50"/>
                    </a:lnTo>
                    <a:lnTo>
                      <a:pt x="112" y="38"/>
                    </a:lnTo>
                    <a:lnTo>
                      <a:pt x="137" y="31"/>
                    </a:lnTo>
                    <a:lnTo>
                      <a:pt x="165" y="29"/>
                    </a:lnTo>
                    <a:lnTo>
                      <a:pt x="187" y="30"/>
                    </a:lnTo>
                    <a:lnTo>
                      <a:pt x="207" y="34"/>
                    </a:lnTo>
                    <a:lnTo>
                      <a:pt x="226" y="42"/>
                    </a:lnTo>
                    <a:lnTo>
                      <a:pt x="235" y="47"/>
                    </a:lnTo>
                    <a:lnTo>
                      <a:pt x="246" y="54"/>
                    </a:lnTo>
                    <a:lnTo>
                      <a:pt x="224" y="27"/>
                    </a:lnTo>
                    <a:lnTo>
                      <a:pt x="203" y="5"/>
                    </a:lnTo>
                    <a:close/>
                  </a:path>
                </a:pathLst>
              </a:custGeom>
              <a:solidFill>
                <a:srgbClr val="56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62760" y="3794760"/>
                <a:ext cx="78840" cy="78840"/>
              </a:xfrm>
              <a:custGeom>
                <a:avLst/>
                <a:gdLst/>
                <a:ahLst/>
                <a:rect l="l" t="t" r="r" b="b"/>
                <a:pathLst>
                  <a:path w="275" h="275">
                    <a:moveTo>
                      <a:pt x="235" y="234"/>
                    </a:moveTo>
                    <a:lnTo>
                      <a:pt x="244" y="223"/>
                    </a:lnTo>
                    <a:lnTo>
                      <a:pt x="244" y="221"/>
                    </a:lnTo>
                    <a:lnTo>
                      <a:pt x="244" y="220"/>
                    </a:lnTo>
                    <a:lnTo>
                      <a:pt x="245" y="220"/>
                    </a:lnTo>
                    <a:lnTo>
                      <a:pt x="247" y="217"/>
                    </a:lnTo>
                    <a:lnTo>
                      <a:pt x="252" y="213"/>
                    </a:lnTo>
                    <a:lnTo>
                      <a:pt x="258" y="200"/>
                    </a:lnTo>
                    <a:lnTo>
                      <a:pt x="265" y="189"/>
                    </a:lnTo>
                    <a:lnTo>
                      <a:pt x="269" y="175"/>
                    </a:lnTo>
                    <a:lnTo>
                      <a:pt x="270" y="169"/>
                    </a:lnTo>
                    <a:lnTo>
                      <a:pt x="272" y="163"/>
                    </a:lnTo>
                    <a:lnTo>
                      <a:pt x="274" y="149"/>
                    </a:lnTo>
                    <a:lnTo>
                      <a:pt x="274" y="142"/>
                    </a:lnTo>
                    <a:lnTo>
                      <a:pt x="274" y="139"/>
                    </a:lnTo>
                    <a:lnTo>
                      <a:pt x="275" y="137"/>
                    </a:lnTo>
                    <a:lnTo>
                      <a:pt x="274" y="135"/>
                    </a:lnTo>
                    <a:lnTo>
                      <a:pt x="274" y="133"/>
                    </a:lnTo>
                    <a:lnTo>
                      <a:pt x="274" y="131"/>
                    </a:lnTo>
                    <a:lnTo>
                      <a:pt x="274" y="127"/>
                    </a:lnTo>
                    <a:lnTo>
                      <a:pt x="274" y="118"/>
                    </a:lnTo>
                    <a:lnTo>
                      <a:pt x="262" y="93"/>
                    </a:lnTo>
                    <a:lnTo>
                      <a:pt x="248" y="69"/>
                    </a:lnTo>
                    <a:lnTo>
                      <a:pt x="234" y="46"/>
                    </a:lnTo>
                    <a:lnTo>
                      <a:pt x="218" y="25"/>
                    </a:lnTo>
                    <a:lnTo>
                      <a:pt x="207" y="18"/>
                    </a:lnTo>
                    <a:lnTo>
                      <a:pt x="198" y="13"/>
                    </a:lnTo>
                    <a:lnTo>
                      <a:pt x="179" y="5"/>
                    </a:lnTo>
                    <a:lnTo>
                      <a:pt x="159" y="1"/>
                    </a:lnTo>
                    <a:lnTo>
                      <a:pt x="137" y="0"/>
                    </a:lnTo>
                    <a:lnTo>
                      <a:pt x="109" y="2"/>
                    </a:lnTo>
                    <a:lnTo>
                      <a:pt x="84" y="9"/>
                    </a:lnTo>
                    <a:lnTo>
                      <a:pt x="60" y="21"/>
                    </a:lnTo>
                    <a:lnTo>
                      <a:pt x="40" y="39"/>
                    </a:lnTo>
                    <a:lnTo>
                      <a:pt x="21" y="60"/>
                    </a:lnTo>
                    <a:lnTo>
                      <a:pt x="9" y="84"/>
                    </a:lnTo>
                    <a:lnTo>
                      <a:pt x="2" y="108"/>
                    </a:lnTo>
                    <a:lnTo>
                      <a:pt x="0" y="137"/>
                    </a:lnTo>
                    <a:lnTo>
                      <a:pt x="0" y="149"/>
                    </a:lnTo>
                    <a:lnTo>
                      <a:pt x="2" y="163"/>
                    </a:lnTo>
                    <a:lnTo>
                      <a:pt x="4" y="175"/>
                    </a:lnTo>
                    <a:lnTo>
                      <a:pt x="9" y="189"/>
                    </a:lnTo>
                    <a:lnTo>
                      <a:pt x="14" y="200"/>
                    </a:lnTo>
                    <a:lnTo>
                      <a:pt x="21" y="213"/>
                    </a:lnTo>
                    <a:lnTo>
                      <a:pt x="29" y="223"/>
                    </a:lnTo>
                    <a:lnTo>
                      <a:pt x="40" y="234"/>
                    </a:lnTo>
                    <a:lnTo>
                      <a:pt x="49" y="243"/>
                    </a:lnTo>
                    <a:lnTo>
                      <a:pt x="60" y="251"/>
                    </a:lnTo>
                    <a:lnTo>
                      <a:pt x="84" y="265"/>
                    </a:lnTo>
                    <a:lnTo>
                      <a:pt x="109" y="272"/>
                    </a:lnTo>
                    <a:lnTo>
                      <a:pt x="122" y="274"/>
                    </a:lnTo>
                    <a:lnTo>
                      <a:pt x="137" y="275"/>
                    </a:lnTo>
                    <a:lnTo>
                      <a:pt x="139" y="274"/>
                    </a:lnTo>
                    <a:lnTo>
                      <a:pt x="143" y="274"/>
                    </a:lnTo>
                    <a:lnTo>
                      <a:pt x="150" y="274"/>
                    </a:lnTo>
                    <a:lnTo>
                      <a:pt x="163" y="272"/>
                    </a:lnTo>
                    <a:lnTo>
                      <a:pt x="169" y="269"/>
                    </a:lnTo>
                    <a:lnTo>
                      <a:pt x="176" y="268"/>
                    </a:lnTo>
                    <a:lnTo>
                      <a:pt x="189" y="265"/>
                    </a:lnTo>
                    <a:lnTo>
                      <a:pt x="201" y="258"/>
                    </a:lnTo>
                    <a:lnTo>
                      <a:pt x="213" y="251"/>
                    </a:lnTo>
                    <a:lnTo>
                      <a:pt x="218" y="247"/>
                    </a:lnTo>
                    <a:lnTo>
                      <a:pt x="220" y="245"/>
                    </a:lnTo>
                    <a:lnTo>
                      <a:pt x="220" y="243"/>
                    </a:lnTo>
                    <a:lnTo>
                      <a:pt x="221" y="243"/>
                    </a:lnTo>
                    <a:lnTo>
                      <a:pt x="223" y="243"/>
                    </a:lnTo>
                    <a:lnTo>
                      <a:pt x="235" y="234"/>
                    </a:lnTo>
                    <a:close/>
                    <a:moveTo>
                      <a:pt x="60" y="215"/>
                    </a:moveTo>
                    <a:lnTo>
                      <a:pt x="51" y="206"/>
                    </a:lnTo>
                    <a:lnTo>
                      <a:pt x="44" y="198"/>
                    </a:lnTo>
                    <a:lnTo>
                      <a:pt x="38" y="188"/>
                    </a:lnTo>
                    <a:lnTo>
                      <a:pt x="35" y="179"/>
                    </a:lnTo>
                    <a:lnTo>
                      <a:pt x="28" y="158"/>
                    </a:lnTo>
                    <a:lnTo>
                      <a:pt x="27" y="137"/>
                    </a:lnTo>
                    <a:lnTo>
                      <a:pt x="28" y="114"/>
                    </a:lnTo>
                    <a:lnTo>
                      <a:pt x="35" y="94"/>
                    </a:lnTo>
                    <a:lnTo>
                      <a:pt x="44" y="74"/>
                    </a:lnTo>
                    <a:lnTo>
                      <a:pt x="60" y="59"/>
                    </a:lnTo>
                    <a:lnTo>
                      <a:pt x="76" y="44"/>
                    </a:lnTo>
                    <a:lnTo>
                      <a:pt x="95" y="35"/>
                    </a:lnTo>
                    <a:lnTo>
                      <a:pt x="114" y="28"/>
                    </a:lnTo>
                    <a:lnTo>
                      <a:pt x="137" y="27"/>
                    </a:lnTo>
                    <a:lnTo>
                      <a:pt x="159" y="28"/>
                    </a:lnTo>
                    <a:lnTo>
                      <a:pt x="179" y="35"/>
                    </a:lnTo>
                    <a:lnTo>
                      <a:pt x="188" y="38"/>
                    </a:lnTo>
                    <a:lnTo>
                      <a:pt x="198" y="44"/>
                    </a:lnTo>
                    <a:lnTo>
                      <a:pt x="215" y="59"/>
                    </a:lnTo>
                    <a:lnTo>
                      <a:pt x="229" y="74"/>
                    </a:lnTo>
                    <a:lnTo>
                      <a:pt x="239" y="94"/>
                    </a:lnTo>
                    <a:lnTo>
                      <a:pt x="246" y="114"/>
                    </a:lnTo>
                    <a:lnTo>
                      <a:pt x="248" y="137"/>
                    </a:lnTo>
                    <a:lnTo>
                      <a:pt x="247" y="141"/>
                    </a:lnTo>
                    <a:lnTo>
                      <a:pt x="247" y="147"/>
                    </a:lnTo>
                    <a:lnTo>
                      <a:pt x="246" y="158"/>
                    </a:lnTo>
                    <a:lnTo>
                      <a:pt x="239" y="179"/>
                    </a:lnTo>
                    <a:lnTo>
                      <a:pt x="234" y="188"/>
                    </a:lnTo>
                    <a:lnTo>
                      <a:pt x="229" y="198"/>
                    </a:lnTo>
                    <a:lnTo>
                      <a:pt x="222" y="206"/>
                    </a:lnTo>
                    <a:lnTo>
                      <a:pt x="215" y="215"/>
                    </a:lnTo>
                    <a:lnTo>
                      <a:pt x="206" y="222"/>
                    </a:lnTo>
                    <a:lnTo>
                      <a:pt x="198" y="229"/>
                    </a:lnTo>
                    <a:lnTo>
                      <a:pt x="188" y="233"/>
                    </a:lnTo>
                    <a:lnTo>
                      <a:pt x="179" y="239"/>
                    </a:lnTo>
                    <a:lnTo>
                      <a:pt x="159" y="246"/>
                    </a:lnTo>
                    <a:lnTo>
                      <a:pt x="147" y="247"/>
                    </a:lnTo>
                    <a:lnTo>
                      <a:pt x="142" y="247"/>
                    </a:lnTo>
                    <a:lnTo>
                      <a:pt x="137" y="248"/>
                    </a:lnTo>
                    <a:lnTo>
                      <a:pt x="114" y="246"/>
                    </a:lnTo>
                    <a:lnTo>
                      <a:pt x="95" y="239"/>
                    </a:lnTo>
                    <a:lnTo>
                      <a:pt x="76" y="229"/>
                    </a:lnTo>
                    <a:lnTo>
                      <a:pt x="60" y="215"/>
                    </a:lnTo>
                    <a:close/>
                  </a:path>
                </a:pathLst>
              </a:custGeom>
              <a:solidFill>
                <a:srgbClr val="59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70680" y="3802320"/>
                <a:ext cx="63360" cy="63000"/>
              </a:xfrm>
              <a:custGeom>
                <a:avLst/>
                <a:gdLst/>
                <a:ahLst/>
                <a:rect l="l" t="t" r="r" b="b"/>
                <a:pathLst>
                  <a:path w="221" h="221">
                    <a:moveTo>
                      <a:pt x="0" y="110"/>
                    </a:moveTo>
                    <a:lnTo>
                      <a:pt x="1" y="131"/>
                    </a:lnTo>
                    <a:lnTo>
                      <a:pt x="8" y="152"/>
                    </a:lnTo>
                    <a:lnTo>
                      <a:pt x="11" y="161"/>
                    </a:lnTo>
                    <a:lnTo>
                      <a:pt x="17" y="171"/>
                    </a:lnTo>
                    <a:lnTo>
                      <a:pt x="24" y="179"/>
                    </a:lnTo>
                    <a:lnTo>
                      <a:pt x="33" y="188"/>
                    </a:lnTo>
                    <a:lnTo>
                      <a:pt x="49" y="202"/>
                    </a:lnTo>
                    <a:lnTo>
                      <a:pt x="68" y="212"/>
                    </a:lnTo>
                    <a:lnTo>
                      <a:pt x="87" y="219"/>
                    </a:lnTo>
                    <a:lnTo>
                      <a:pt x="110" y="221"/>
                    </a:lnTo>
                    <a:lnTo>
                      <a:pt x="115" y="220"/>
                    </a:lnTo>
                    <a:lnTo>
                      <a:pt x="120" y="220"/>
                    </a:lnTo>
                    <a:lnTo>
                      <a:pt x="132" y="219"/>
                    </a:lnTo>
                    <a:lnTo>
                      <a:pt x="152" y="212"/>
                    </a:lnTo>
                    <a:lnTo>
                      <a:pt x="161" y="206"/>
                    </a:lnTo>
                    <a:lnTo>
                      <a:pt x="171" y="202"/>
                    </a:lnTo>
                    <a:lnTo>
                      <a:pt x="179" y="195"/>
                    </a:lnTo>
                    <a:lnTo>
                      <a:pt x="188" y="188"/>
                    </a:lnTo>
                    <a:lnTo>
                      <a:pt x="195" y="179"/>
                    </a:lnTo>
                    <a:lnTo>
                      <a:pt x="202" y="171"/>
                    </a:lnTo>
                    <a:lnTo>
                      <a:pt x="207" y="161"/>
                    </a:lnTo>
                    <a:lnTo>
                      <a:pt x="212" y="152"/>
                    </a:lnTo>
                    <a:lnTo>
                      <a:pt x="219" y="131"/>
                    </a:lnTo>
                    <a:lnTo>
                      <a:pt x="220" y="120"/>
                    </a:lnTo>
                    <a:lnTo>
                      <a:pt x="220" y="114"/>
                    </a:lnTo>
                    <a:lnTo>
                      <a:pt x="221" y="110"/>
                    </a:lnTo>
                    <a:lnTo>
                      <a:pt x="219" y="87"/>
                    </a:lnTo>
                    <a:lnTo>
                      <a:pt x="212" y="67"/>
                    </a:lnTo>
                    <a:lnTo>
                      <a:pt x="202" y="47"/>
                    </a:lnTo>
                    <a:lnTo>
                      <a:pt x="188" y="32"/>
                    </a:lnTo>
                    <a:lnTo>
                      <a:pt x="171" y="17"/>
                    </a:lnTo>
                    <a:lnTo>
                      <a:pt x="161" y="11"/>
                    </a:lnTo>
                    <a:lnTo>
                      <a:pt x="152" y="8"/>
                    </a:lnTo>
                    <a:lnTo>
                      <a:pt x="132" y="1"/>
                    </a:lnTo>
                    <a:lnTo>
                      <a:pt x="110" y="0"/>
                    </a:lnTo>
                    <a:lnTo>
                      <a:pt x="87" y="1"/>
                    </a:lnTo>
                    <a:lnTo>
                      <a:pt x="68" y="8"/>
                    </a:lnTo>
                    <a:lnTo>
                      <a:pt x="49" y="17"/>
                    </a:lnTo>
                    <a:lnTo>
                      <a:pt x="33" y="32"/>
                    </a:lnTo>
                    <a:lnTo>
                      <a:pt x="17" y="47"/>
                    </a:lnTo>
                    <a:lnTo>
                      <a:pt x="8" y="67"/>
                    </a:lnTo>
                    <a:lnTo>
                      <a:pt x="1" y="87"/>
                    </a:lnTo>
                    <a:lnTo>
                      <a:pt x="0" y="110"/>
                    </a:lnTo>
                    <a:close/>
                    <a:moveTo>
                      <a:pt x="52" y="169"/>
                    </a:moveTo>
                    <a:lnTo>
                      <a:pt x="41" y="155"/>
                    </a:lnTo>
                    <a:lnTo>
                      <a:pt x="34" y="142"/>
                    </a:lnTo>
                    <a:lnTo>
                      <a:pt x="30" y="126"/>
                    </a:lnTo>
                    <a:lnTo>
                      <a:pt x="29" y="110"/>
                    </a:lnTo>
                    <a:lnTo>
                      <a:pt x="30" y="93"/>
                    </a:lnTo>
                    <a:lnTo>
                      <a:pt x="34" y="78"/>
                    </a:lnTo>
                    <a:lnTo>
                      <a:pt x="41" y="63"/>
                    </a:lnTo>
                    <a:lnTo>
                      <a:pt x="52" y="52"/>
                    </a:lnTo>
                    <a:lnTo>
                      <a:pt x="64" y="41"/>
                    </a:lnTo>
                    <a:lnTo>
                      <a:pt x="78" y="33"/>
                    </a:lnTo>
                    <a:lnTo>
                      <a:pt x="93" y="28"/>
                    </a:lnTo>
                    <a:lnTo>
                      <a:pt x="110" y="27"/>
                    </a:lnTo>
                    <a:lnTo>
                      <a:pt x="126" y="28"/>
                    </a:lnTo>
                    <a:lnTo>
                      <a:pt x="142" y="33"/>
                    </a:lnTo>
                    <a:lnTo>
                      <a:pt x="155" y="41"/>
                    </a:lnTo>
                    <a:lnTo>
                      <a:pt x="169" y="52"/>
                    </a:lnTo>
                    <a:lnTo>
                      <a:pt x="178" y="63"/>
                    </a:lnTo>
                    <a:lnTo>
                      <a:pt x="186" y="78"/>
                    </a:lnTo>
                    <a:lnTo>
                      <a:pt x="191" y="93"/>
                    </a:lnTo>
                    <a:lnTo>
                      <a:pt x="193" y="110"/>
                    </a:lnTo>
                    <a:lnTo>
                      <a:pt x="191" y="126"/>
                    </a:lnTo>
                    <a:lnTo>
                      <a:pt x="186" y="142"/>
                    </a:lnTo>
                    <a:lnTo>
                      <a:pt x="178" y="155"/>
                    </a:lnTo>
                    <a:lnTo>
                      <a:pt x="169" y="169"/>
                    </a:lnTo>
                    <a:lnTo>
                      <a:pt x="155" y="178"/>
                    </a:lnTo>
                    <a:lnTo>
                      <a:pt x="142" y="186"/>
                    </a:lnTo>
                    <a:lnTo>
                      <a:pt x="126" y="190"/>
                    </a:lnTo>
                    <a:lnTo>
                      <a:pt x="110" y="193"/>
                    </a:lnTo>
                    <a:lnTo>
                      <a:pt x="93" y="190"/>
                    </a:lnTo>
                    <a:lnTo>
                      <a:pt x="78" y="186"/>
                    </a:lnTo>
                    <a:lnTo>
                      <a:pt x="64" y="178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5c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978960" y="3810240"/>
                <a:ext cx="46800" cy="47160"/>
              </a:xfrm>
              <a:custGeom>
                <a:avLst/>
                <a:gdLst/>
                <a:ahLst/>
                <a:rect l="l" t="t" r="r" b="b"/>
                <a:pathLst>
                  <a:path w="164" h="166">
                    <a:moveTo>
                      <a:pt x="0" y="83"/>
                    </a:moveTo>
                    <a:lnTo>
                      <a:pt x="1" y="99"/>
                    </a:lnTo>
                    <a:lnTo>
                      <a:pt x="5" y="115"/>
                    </a:lnTo>
                    <a:lnTo>
                      <a:pt x="12" y="128"/>
                    </a:lnTo>
                    <a:lnTo>
                      <a:pt x="23" y="142"/>
                    </a:lnTo>
                    <a:lnTo>
                      <a:pt x="35" y="151"/>
                    </a:lnTo>
                    <a:lnTo>
                      <a:pt x="49" y="159"/>
                    </a:lnTo>
                    <a:lnTo>
                      <a:pt x="64" y="163"/>
                    </a:lnTo>
                    <a:lnTo>
                      <a:pt x="81" y="166"/>
                    </a:lnTo>
                    <a:lnTo>
                      <a:pt x="97" y="163"/>
                    </a:lnTo>
                    <a:lnTo>
                      <a:pt x="113" y="159"/>
                    </a:lnTo>
                    <a:lnTo>
                      <a:pt x="126" y="151"/>
                    </a:lnTo>
                    <a:lnTo>
                      <a:pt x="140" y="142"/>
                    </a:lnTo>
                    <a:lnTo>
                      <a:pt x="149" y="128"/>
                    </a:lnTo>
                    <a:lnTo>
                      <a:pt x="157" y="115"/>
                    </a:lnTo>
                    <a:lnTo>
                      <a:pt x="162" y="99"/>
                    </a:lnTo>
                    <a:lnTo>
                      <a:pt x="164" y="83"/>
                    </a:lnTo>
                    <a:lnTo>
                      <a:pt x="162" y="66"/>
                    </a:lnTo>
                    <a:lnTo>
                      <a:pt x="157" y="51"/>
                    </a:lnTo>
                    <a:lnTo>
                      <a:pt x="149" y="36"/>
                    </a:lnTo>
                    <a:lnTo>
                      <a:pt x="140" y="25"/>
                    </a:lnTo>
                    <a:lnTo>
                      <a:pt x="126" y="14"/>
                    </a:lnTo>
                    <a:lnTo>
                      <a:pt x="113" y="6"/>
                    </a:lnTo>
                    <a:lnTo>
                      <a:pt x="97" y="1"/>
                    </a:lnTo>
                    <a:lnTo>
                      <a:pt x="81" y="0"/>
                    </a:lnTo>
                    <a:lnTo>
                      <a:pt x="64" y="1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5"/>
                    </a:lnTo>
                    <a:lnTo>
                      <a:pt x="12" y="36"/>
                    </a:lnTo>
                    <a:lnTo>
                      <a:pt x="5" y="51"/>
                    </a:lnTo>
                    <a:lnTo>
                      <a:pt x="1" y="66"/>
                    </a:lnTo>
                    <a:lnTo>
                      <a:pt x="0" y="83"/>
                    </a:lnTo>
                    <a:close/>
                    <a:moveTo>
                      <a:pt x="81" y="28"/>
                    </a:moveTo>
                    <a:lnTo>
                      <a:pt x="91" y="28"/>
                    </a:lnTo>
                    <a:lnTo>
                      <a:pt x="102" y="32"/>
                    </a:lnTo>
                    <a:lnTo>
                      <a:pt x="111" y="36"/>
                    </a:lnTo>
                    <a:lnTo>
                      <a:pt x="121" y="44"/>
                    </a:lnTo>
                    <a:lnTo>
                      <a:pt x="126" y="52"/>
                    </a:lnTo>
                    <a:lnTo>
                      <a:pt x="132" y="61"/>
                    </a:lnTo>
                    <a:lnTo>
                      <a:pt x="136" y="71"/>
                    </a:lnTo>
                    <a:lnTo>
                      <a:pt x="137" y="83"/>
                    </a:lnTo>
                    <a:lnTo>
                      <a:pt x="136" y="87"/>
                    </a:lnTo>
                    <a:lnTo>
                      <a:pt x="136" y="93"/>
                    </a:lnTo>
                    <a:lnTo>
                      <a:pt x="133" y="98"/>
                    </a:lnTo>
                    <a:lnTo>
                      <a:pt x="132" y="100"/>
                    </a:lnTo>
                    <a:lnTo>
                      <a:pt x="132" y="103"/>
                    </a:lnTo>
                    <a:lnTo>
                      <a:pt x="126" y="112"/>
                    </a:lnTo>
                    <a:lnTo>
                      <a:pt x="123" y="117"/>
                    </a:lnTo>
                    <a:lnTo>
                      <a:pt x="121" y="122"/>
                    </a:lnTo>
                    <a:lnTo>
                      <a:pt x="115" y="125"/>
                    </a:lnTo>
                    <a:lnTo>
                      <a:pt x="111" y="128"/>
                    </a:lnTo>
                    <a:lnTo>
                      <a:pt x="102" y="134"/>
                    </a:lnTo>
                    <a:lnTo>
                      <a:pt x="98" y="134"/>
                    </a:lnTo>
                    <a:lnTo>
                      <a:pt x="96" y="135"/>
                    </a:lnTo>
                    <a:lnTo>
                      <a:pt x="91" y="137"/>
                    </a:lnTo>
                    <a:lnTo>
                      <a:pt x="86" y="137"/>
                    </a:lnTo>
                    <a:lnTo>
                      <a:pt x="81" y="138"/>
                    </a:lnTo>
                    <a:lnTo>
                      <a:pt x="70" y="137"/>
                    </a:lnTo>
                    <a:lnTo>
                      <a:pt x="60" y="134"/>
                    </a:lnTo>
                    <a:lnTo>
                      <a:pt x="51" y="128"/>
                    </a:lnTo>
                    <a:lnTo>
                      <a:pt x="43" y="122"/>
                    </a:lnTo>
                    <a:lnTo>
                      <a:pt x="35" y="112"/>
                    </a:lnTo>
                    <a:lnTo>
                      <a:pt x="30" y="103"/>
                    </a:lnTo>
                    <a:lnTo>
                      <a:pt x="27" y="93"/>
                    </a:lnTo>
                    <a:lnTo>
                      <a:pt x="27" y="83"/>
                    </a:lnTo>
                    <a:lnTo>
                      <a:pt x="30" y="61"/>
                    </a:lnTo>
                    <a:lnTo>
                      <a:pt x="43" y="44"/>
                    </a:lnTo>
                    <a:lnTo>
                      <a:pt x="60" y="32"/>
                    </a:lnTo>
                    <a:lnTo>
                      <a:pt x="81" y="28"/>
                    </a:lnTo>
                    <a:close/>
                  </a:path>
                </a:pathLst>
              </a:custGeom>
              <a:solidFill>
                <a:srgbClr val="5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986520" y="381816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94" y="16"/>
                    </a:moveTo>
                    <a:lnTo>
                      <a:pt x="84" y="8"/>
                    </a:lnTo>
                    <a:lnTo>
                      <a:pt x="75" y="4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33" y="4"/>
                    </a:lnTo>
                    <a:lnTo>
                      <a:pt x="16" y="16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3" y="75"/>
                    </a:lnTo>
                    <a:lnTo>
                      <a:pt x="8" y="84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3" y="106"/>
                    </a:lnTo>
                    <a:lnTo>
                      <a:pt x="43" y="109"/>
                    </a:lnTo>
                    <a:lnTo>
                      <a:pt x="54" y="110"/>
                    </a:lnTo>
                    <a:lnTo>
                      <a:pt x="59" y="109"/>
                    </a:lnTo>
                    <a:lnTo>
                      <a:pt x="64" y="109"/>
                    </a:lnTo>
                    <a:lnTo>
                      <a:pt x="69" y="107"/>
                    </a:lnTo>
                    <a:lnTo>
                      <a:pt x="71" y="106"/>
                    </a:lnTo>
                    <a:lnTo>
                      <a:pt x="75" y="106"/>
                    </a:lnTo>
                    <a:lnTo>
                      <a:pt x="84" y="100"/>
                    </a:lnTo>
                    <a:lnTo>
                      <a:pt x="88" y="97"/>
                    </a:lnTo>
                    <a:lnTo>
                      <a:pt x="94" y="94"/>
                    </a:lnTo>
                    <a:lnTo>
                      <a:pt x="96" y="89"/>
                    </a:lnTo>
                    <a:lnTo>
                      <a:pt x="99" y="84"/>
                    </a:lnTo>
                    <a:lnTo>
                      <a:pt x="105" y="75"/>
                    </a:lnTo>
                    <a:lnTo>
                      <a:pt x="105" y="72"/>
                    </a:lnTo>
                    <a:lnTo>
                      <a:pt x="106" y="70"/>
                    </a:lnTo>
                    <a:lnTo>
                      <a:pt x="109" y="65"/>
                    </a:lnTo>
                    <a:lnTo>
                      <a:pt x="109" y="59"/>
                    </a:lnTo>
                    <a:lnTo>
                      <a:pt x="110" y="55"/>
                    </a:lnTo>
                    <a:lnTo>
                      <a:pt x="109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4" y="16"/>
                    </a:lnTo>
                    <a:close/>
                    <a:moveTo>
                      <a:pt x="54" y="28"/>
                    </a:moveTo>
                    <a:lnTo>
                      <a:pt x="64" y="29"/>
                    </a:lnTo>
                    <a:lnTo>
                      <a:pt x="69" y="31"/>
                    </a:lnTo>
                    <a:lnTo>
                      <a:pt x="75" y="36"/>
                    </a:lnTo>
                    <a:lnTo>
                      <a:pt x="80" y="43"/>
                    </a:lnTo>
                    <a:lnTo>
                      <a:pt x="82" y="55"/>
                    </a:lnTo>
                    <a:lnTo>
                      <a:pt x="81" y="59"/>
                    </a:lnTo>
                    <a:lnTo>
                      <a:pt x="80" y="62"/>
                    </a:lnTo>
                    <a:lnTo>
                      <a:pt x="80" y="65"/>
                    </a:lnTo>
                    <a:lnTo>
                      <a:pt x="77" y="70"/>
                    </a:lnTo>
                    <a:lnTo>
                      <a:pt x="75" y="74"/>
                    </a:lnTo>
                    <a:lnTo>
                      <a:pt x="69" y="76"/>
                    </a:lnTo>
                    <a:lnTo>
                      <a:pt x="64" y="80"/>
                    </a:lnTo>
                    <a:lnTo>
                      <a:pt x="61" y="80"/>
                    </a:lnTo>
                    <a:lnTo>
                      <a:pt x="59" y="81"/>
                    </a:lnTo>
                    <a:lnTo>
                      <a:pt x="54" y="82"/>
                    </a:lnTo>
                    <a:lnTo>
                      <a:pt x="43" y="80"/>
                    </a:lnTo>
                    <a:lnTo>
                      <a:pt x="35" y="74"/>
                    </a:lnTo>
                    <a:lnTo>
                      <a:pt x="30" y="70"/>
                    </a:lnTo>
                    <a:lnTo>
                      <a:pt x="28" y="65"/>
                    </a:lnTo>
                    <a:lnTo>
                      <a:pt x="27" y="55"/>
                    </a:lnTo>
                    <a:lnTo>
                      <a:pt x="28" y="43"/>
                    </a:lnTo>
                    <a:lnTo>
                      <a:pt x="35" y="36"/>
                    </a:lnTo>
                    <a:lnTo>
                      <a:pt x="43" y="29"/>
                    </a:lnTo>
                    <a:lnTo>
                      <a:pt x="54" y="28"/>
                    </a:lnTo>
                    <a:close/>
                  </a:path>
                </a:pathLst>
              </a:custGeom>
              <a:solidFill>
                <a:srgbClr val="62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994080" y="3826080"/>
                <a:ext cx="15840" cy="1512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48" y="8"/>
                    </a:moveTo>
                    <a:lnTo>
                      <a:pt x="42" y="3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6" y="1"/>
                    </a:lnTo>
                    <a:lnTo>
                      <a:pt x="8" y="8"/>
                    </a:lnTo>
                    <a:lnTo>
                      <a:pt x="1" y="15"/>
                    </a:lnTo>
                    <a:lnTo>
                      <a:pt x="0" y="27"/>
                    </a:lnTo>
                    <a:lnTo>
                      <a:pt x="1" y="37"/>
                    </a:lnTo>
                    <a:lnTo>
                      <a:pt x="3" y="42"/>
                    </a:lnTo>
                    <a:lnTo>
                      <a:pt x="8" y="46"/>
                    </a:lnTo>
                    <a:lnTo>
                      <a:pt x="16" y="52"/>
                    </a:lnTo>
                    <a:lnTo>
                      <a:pt x="27" y="54"/>
                    </a:lnTo>
                    <a:lnTo>
                      <a:pt x="32" y="53"/>
                    </a:lnTo>
                    <a:lnTo>
                      <a:pt x="34" y="52"/>
                    </a:lnTo>
                    <a:lnTo>
                      <a:pt x="37" y="52"/>
                    </a:lnTo>
                    <a:lnTo>
                      <a:pt x="42" y="48"/>
                    </a:lnTo>
                    <a:lnTo>
                      <a:pt x="48" y="46"/>
                    </a:lnTo>
                    <a:lnTo>
                      <a:pt x="50" y="42"/>
                    </a:lnTo>
                    <a:lnTo>
                      <a:pt x="53" y="37"/>
                    </a:lnTo>
                    <a:lnTo>
                      <a:pt x="53" y="34"/>
                    </a:lnTo>
                    <a:lnTo>
                      <a:pt x="54" y="31"/>
                    </a:lnTo>
                    <a:lnTo>
                      <a:pt x="55" y="27"/>
                    </a:lnTo>
                    <a:lnTo>
                      <a:pt x="53" y="15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765840" y="3898800"/>
                <a:ext cx="68040" cy="112320"/>
              </a:xfrm>
              <a:custGeom>
                <a:avLst/>
                <a:gdLst/>
                <a:ahLst/>
                <a:rect l="l" t="t" r="r" b="b"/>
                <a:pathLst>
                  <a:path w="239" h="393">
                    <a:moveTo>
                      <a:pt x="239" y="393"/>
                    </a:moveTo>
                    <a:lnTo>
                      <a:pt x="230" y="384"/>
                    </a:lnTo>
                    <a:lnTo>
                      <a:pt x="225" y="380"/>
                    </a:lnTo>
                    <a:lnTo>
                      <a:pt x="223" y="377"/>
                    </a:lnTo>
                    <a:lnTo>
                      <a:pt x="222" y="376"/>
                    </a:lnTo>
                    <a:lnTo>
                      <a:pt x="181" y="333"/>
                    </a:lnTo>
                    <a:lnTo>
                      <a:pt x="145" y="290"/>
                    </a:lnTo>
                    <a:lnTo>
                      <a:pt x="112" y="245"/>
                    </a:lnTo>
                    <a:lnTo>
                      <a:pt x="83" y="199"/>
                    </a:lnTo>
                    <a:lnTo>
                      <a:pt x="69" y="174"/>
                    </a:lnTo>
                    <a:lnTo>
                      <a:pt x="56" y="150"/>
                    </a:lnTo>
                    <a:lnTo>
                      <a:pt x="44" y="126"/>
                    </a:lnTo>
                    <a:lnTo>
                      <a:pt x="34" y="102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3" y="44"/>
                    </a:lnTo>
                    <a:lnTo>
                      <a:pt x="6" y="65"/>
                    </a:lnTo>
                    <a:lnTo>
                      <a:pt x="12" y="88"/>
                    </a:lnTo>
                    <a:lnTo>
                      <a:pt x="25" y="130"/>
                    </a:lnTo>
                    <a:lnTo>
                      <a:pt x="42" y="171"/>
                    </a:lnTo>
                    <a:lnTo>
                      <a:pt x="61" y="209"/>
                    </a:lnTo>
                    <a:lnTo>
                      <a:pt x="86" y="248"/>
                    </a:lnTo>
                    <a:lnTo>
                      <a:pt x="114" y="284"/>
                    </a:lnTo>
                    <a:lnTo>
                      <a:pt x="147" y="319"/>
                    </a:lnTo>
                    <a:lnTo>
                      <a:pt x="169" y="340"/>
                    </a:lnTo>
                    <a:lnTo>
                      <a:pt x="191" y="359"/>
                    </a:lnTo>
                    <a:lnTo>
                      <a:pt x="214" y="376"/>
                    </a:lnTo>
                    <a:lnTo>
                      <a:pt x="239" y="393"/>
                    </a:lnTo>
                    <a:close/>
                  </a:path>
                </a:pathLst>
              </a:custGeom>
              <a:solidFill>
                <a:srgbClr val="020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765480" y="3864600"/>
                <a:ext cx="96480" cy="159840"/>
              </a:xfrm>
              <a:custGeom>
                <a:avLst/>
                <a:gdLst/>
                <a:ahLst/>
                <a:rect l="l" t="t" r="r" b="b"/>
                <a:pathLst>
                  <a:path w="338" h="562">
                    <a:moveTo>
                      <a:pt x="224" y="498"/>
                    </a:moveTo>
                    <a:lnTo>
                      <a:pt x="225" y="499"/>
                    </a:lnTo>
                    <a:lnTo>
                      <a:pt x="227" y="502"/>
                    </a:lnTo>
                    <a:lnTo>
                      <a:pt x="232" y="506"/>
                    </a:lnTo>
                    <a:lnTo>
                      <a:pt x="241" y="515"/>
                    </a:lnTo>
                    <a:lnTo>
                      <a:pt x="263" y="529"/>
                    </a:lnTo>
                    <a:lnTo>
                      <a:pt x="287" y="541"/>
                    </a:lnTo>
                    <a:lnTo>
                      <a:pt x="338" y="562"/>
                    </a:lnTo>
                    <a:lnTo>
                      <a:pt x="313" y="542"/>
                    </a:lnTo>
                    <a:lnTo>
                      <a:pt x="290" y="522"/>
                    </a:lnTo>
                    <a:lnTo>
                      <a:pt x="243" y="479"/>
                    </a:lnTo>
                    <a:lnTo>
                      <a:pt x="217" y="452"/>
                    </a:lnTo>
                    <a:lnTo>
                      <a:pt x="194" y="426"/>
                    </a:lnTo>
                    <a:lnTo>
                      <a:pt x="172" y="398"/>
                    </a:lnTo>
                    <a:lnTo>
                      <a:pt x="151" y="372"/>
                    </a:lnTo>
                    <a:lnTo>
                      <a:pt x="131" y="343"/>
                    </a:lnTo>
                    <a:lnTo>
                      <a:pt x="114" y="314"/>
                    </a:lnTo>
                    <a:lnTo>
                      <a:pt x="97" y="285"/>
                    </a:lnTo>
                    <a:lnTo>
                      <a:pt x="82" y="257"/>
                    </a:lnTo>
                    <a:lnTo>
                      <a:pt x="67" y="225"/>
                    </a:lnTo>
                    <a:lnTo>
                      <a:pt x="55" y="194"/>
                    </a:lnTo>
                    <a:lnTo>
                      <a:pt x="42" y="163"/>
                    </a:lnTo>
                    <a:lnTo>
                      <a:pt x="33" y="132"/>
                    </a:lnTo>
                    <a:lnTo>
                      <a:pt x="24" y="99"/>
                    </a:lnTo>
                    <a:lnTo>
                      <a:pt x="17" y="67"/>
                    </a:lnTo>
                    <a:lnTo>
                      <a:pt x="11" y="33"/>
                    </a:lnTo>
                    <a:lnTo>
                      <a:pt x="7" y="0"/>
                    </a:lnTo>
                    <a:lnTo>
                      <a:pt x="2" y="41"/>
                    </a:lnTo>
                    <a:lnTo>
                      <a:pt x="0" y="84"/>
                    </a:lnTo>
                    <a:lnTo>
                      <a:pt x="2" y="122"/>
                    </a:lnTo>
                    <a:lnTo>
                      <a:pt x="16" y="173"/>
                    </a:lnTo>
                    <a:lnTo>
                      <a:pt x="36" y="224"/>
                    </a:lnTo>
                    <a:lnTo>
                      <a:pt x="46" y="248"/>
                    </a:lnTo>
                    <a:lnTo>
                      <a:pt x="58" y="272"/>
                    </a:lnTo>
                    <a:lnTo>
                      <a:pt x="71" y="296"/>
                    </a:lnTo>
                    <a:lnTo>
                      <a:pt x="85" y="321"/>
                    </a:lnTo>
                    <a:lnTo>
                      <a:pt x="114" y="367"/>
                    </a:lnTo>
                    <a:lnTo>
                      <a:pt x="147" y="412"/>
                    </a:lnTo>
                    <a:lnTo>
                      <a:pt x="183" y="455"/>
                    </a:lnTo>
                    <a:lnTo>
                      <a:pt x="224" y="498"/>
                    </a:lnTo>
                    <a:close/>
                  </a:path>
                </a:pathLst>
              </a:custGeom>
              <a:solidFill>
                <a:srgbClr val="060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767640" y="3840120"/>
                <a:ext cx="116280" cy="190440"/>
              </a:xfrm>
              <a:custGeom>
                <a:avLst/>
                <a:gdLst/>
                <a:ahLst/>
                <a:rect l="l" t="t" r="r" b="b"/>
                <a:pathLst>
                  <a:path w="410" h="668">
                    <a:moveTo>
                      <a:pt x="236" y="565"/>
                    </a:moveTo>
                    <a:lnTo>
                      <a:pt x="283" y="608"/>
                    </a:lnTo>
                    <a:lnTo>
                      <a:pt x="306" y="628"/>
                    </a:lnTo>
                    <a:lnTo>
                      <a:pt x="331" y="648"/>
                    </a:lnTo>
                    <a:lnTo>
                      <a:pt x="369" y="658"/>
                    </a:lnTo>
                    <a:lnTo>
                      <a:pt x="410" y="668"/>
                    </a:lnTo>
                    <a:lnTo>
                      <a:pt x="369" y="640"/>
                    </a:lnTo>
                    <a:lnTo>
                      <a:pt x="330" y="611"/>
                    </a:lnTo>
                    <a:lnTo>
                      <a:pt x="292" y="578"/>
                    </a:lnTo>
                    <a:lnTo>
                      <a:pt x="256" y="546"/>
                    </a:lnTo>
                    <a:lnTo>
                      <a:pt x="228" y="516"/>
                    </a:lnTo>
                    <a:lnTo>
                      <a:pt x="202" y="487"/>
                    </a:lnTo>
                    <a:lnTo>
                      <a:pt x="177" y="456"/>
                    </a:lnTo>
                    <a:lnTo>
                      <a:pt x="156" y="425"/>
                    </a:lnTo>
                    <a:lnTo>
                      <a:pt x="134" y="393"/>
                    </a:lnTo>
                    <a:lnTo>
                      <a:pt x="116" y="361"/>
                    </a:lnTo>
                    <a:lnTo>
                      <a:pt x="98" y="328"/>
                    </a:lnTo>
                    <a:lnTo>
                      <a:pt x="83" y="295"/>
                    </a:lnTo>
                    <a:lnTo>
                      <a:pt x="68" y="260"/>
                    </a:lnTo>
                    <a:lnTo>
                      <a:pt x="57" y="225"/>
                    </a:lnTo>
                    <a:lnTo>
                      <a:pt x="46" y="188"/>
                    </a:lnTo>
                    <a:lnTo>
                      <a:pt x="38" y="153"/>
                    </a:lnTo>
                    <a:lnTo>
                      <a:pt x="30" y="115"/>
                    </a:lnTo>
                    <a:lnTo>
                      <a:pt x="25" y="77"/>
                    </a:lnTo>
                    <a:lnTo>
                      <a:pt x="22" y="39"/>
                    </a:lnTo>
                    <a:lnTo>
                      <a:pt x="22" y="0"/>
                    </a:lnTo>
                    <a:lnTo>
                      <a:pt x="8" y="42"/>
                    </a:lnTo>
                    <a:lnTo>
                      <a:pt x="0" y="86"/>
                    </a:lnTo>
                    <a:lnTo>
                      <a:pt x="4" y="119"/>
                    </a:lnTo>
                    <a:lnTo>
                      <a:pt x="10" y="153"/>
                    </a:lnTo>
                    <a:lnTo>
                      <a:pt x="17" y="185"/>
                    </a:lnTo>
                    <a:lnTo>
                      <a:pt x="26" y="218"/>
                    </a:lnTo>
                    <a:lnTo>
                      <a:pt x="35" y="249"/>
                    </a:lnTo>
                    <a:lnTo>
                      <a:pt x="48" y="280"/>
                    </a:lnTo>
                    <a:lnTo>
                      <a:pt x="60" y="311"/>
                    </a:lnTo>
                    <a:lnTo>
                      <a:pt x="75" y="343"/>
                    </a:lnTo>
                    <a:lnTo>
                      <a:pt x="90" y="371"/>
                    </a:lnTo>
                    <a:lnTo>
                      <a:pt x="107" y="400"/>
                    </a:lnTo>
                    <a:lnTo>
                      <a:pt x="124" y="429"/>
                    </a:lnTo>
                    <a:lnTo>
                      <a:pt x="144" y="458"/>
                    </a:lnTo>
                    <a:lnTo>
                      <a:pt x="165" y="484"/>
                    </a:lnTo>
                    <a:lnTo>
                      <a:pt x="187" y="512"/>
                    </a:lnTo>
                    <a:lnTo>
                      <a:pt x="210" y="538"/>
                    </a:lnTo>
                    <a:lnTo>
                      <a:pt x="236" y="565"/>
                    </a:lnTo>
                    <a:close/>
                  </a:path>
                </a:pathLst>
              </a:custGeom>
              <a:solidFill>
                <a:srgbClr val="090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765480" y="3744360"/>
                <a:ext cx="288720" cy="287640"/>
              </a:xfrm>
              <a:custGeom>
                <a:avLst/>
                <a:gdLst/>
                <a:ahLst/>
                <a:rect l="l" t="t" r="r" b="b"/>
                <a:pathLst>
                  <a:path w="1010" h="1008">
                    <a:moveTo>
                      <a:pt x="149" y="147"/>
                    </a:moveTo>
                    <a:lnTo>
                      <a:pt x="113" y="185"/>
                    </a:lnTo>
                    <a:lnTo>
                      <a:pt x="83" y="224"/>
                    </a:lnTo>
                    <a:lnTo>
                      <a:pt x="57" y="265"/>
                    </a:lnTo>
                    <a:lnTo>
                      <a:pt x="37" y="309"/>
                    </a:lnTo>
                    <a:lnTo>
                      <a:pt x="21" y="354"/>
                    </a:lnTo>
                    <a:lnTo>
                      <a:pt x="10" y="402"/>
                    </a:lnTo>
                    <a:lnTo>
                      <a:pt x="3" y="451"/>
                    </a:lnTo>
                    <a:lnTo>
                      <a:pt x="0" y="503"/>
                    </a:lnTo>
                    <a:lnTo>
                      <a:pt x="0" y="528"/>
                    </a:lnTo>
                    <a:lnTo>
                      <a:pt x="3" y="554"/>
                    </a:lnTo>
                    <a:lnTo>
                      <a:pt x="5" y="578"/>
                    </a:lnTo>
                    <a:lnTo>
                      <a:pt x="10" y="603"/>
                    </a:lnTo>
                    <a:lnTo>
                      <a:pt x="14" y="626"/>
                    </a:lnTo>
                    <a:lnTo>
                      <a:pt x="21" y="650"/>
                    </a:lnTo>
                    <a:lnTo>
                      <a:pt x="28" y="672"/>
                    </a:lnTo>
                    <a:lnTo>
                      <a:pt x="37" y="696"/>
                    </a:lnTo>
                    <a:lnTo>
                      <a:pt x="57" y="739"/>
                    </a:lnTo>
                    <a:lnTo>
                      <a:pt x="68" y="760"/>
                    </a:lnTo>
                    <a:lnTo>
                      <a:pt x="83" y="781"/>
                    </a:lnTo>
                    <a:lnTo>
                      <a:pt x="97" y="800"/>
                    </a:lnTo>
                    <a:lnTo>
                      <a:pt x="113" y="821"/>
                    </a:lnTo>
                    <a:lnTo>
                      <a:pt x="130" y="840"/>
                    </a:lnTo>
                    <a:lnTo>
                      <a:pt x="149" y="860"/>
                    </a:lnTo>
                    <a:lnTo>
                      <a:pt x="186" y="894"/>
                    </a:lnTo>
                    <a:lnTo>
                      <a:pt x="226" y="924"/>
                    </a:lnTo>
                    <a:lnTo>
                      <a:pt x="267" y="949"/>
                    </a:lnTo>
                    <a:lnTo>
                      <a:pt x="288" y="960"/>
                    </a:lnTo>
                    <a:lnTo>
                      <a:pt x="311" y="970"/>
                    </a:lnTo>
                    <a:lnTo>
                      <a:pt x="355" y="986"/>
                    </a:lnTo>
                    <a:lnTo>
                      <a:pt x="404" y="998"/>
                    </a:lnTo>
                    <a:lnTo>
                      <a:pt x="453" y="1004"/>
                    </a:lnTo>
                    <a:lnTo>
                      <a:pt x="478" y="1007"/>
                    </a:lnTo>
                    <a:lnTo>
                      <a:pt x="505" y="1008"/>
                    </a:lnTo>
                    <a:lnTo>
                      <a:pt x="530" y="1007"/>
                    </a:lnTo>
                    <a:lnTo>
                      <a:pt x="556" y="1004"/>
                    </a:lnTo>
                    <a:lnTo>
                      <a:pt x="567" y="1002"/>
                    </a:lnTo>
                    <a:lnTo>
                      <a:pt x="570" y="1001"/>
                    </a:lnTo>
                    <a:lnTo>
                      <a:pt x="573" y="1001"/>
                    </a:lnTo>
                    <a:lnTo>
                      <a:pt x="580" y="1001"/>
                    </a:lnTo>
                    <a:lnTo>
                      <a:pt x="605" y="998"/>
                    </a:lnTo>
                    <a:lnTo>
                      <a:pt x="627" y="992"/>
                    </a:lnTo>
                    <a:lnTo>
                      <a:pt x="639" y="989"/>
                    </a:lnTo>
                    <a:lnTo>
                      <a:pt x="651" y="986"/>
                    </a:lnTo>
                    <a:lnTo>
                      <a:pt x="674" y="978"/>
                    </a:lnTo>
                    <a:lnTo>
                      <a:pt x="685" y="974"/>
                    </a:lnTo>
                    <a:lnTo>
                      <a:pt x="691" y="972"/>
                    </a:lnTo>
                    <a:lnTo>
                      <a:pt x="698" y="970"/>
                    </a:lnTo>
                    <a:lnTo>
                      <a:pt x="718" y="960"/>
                    </a:lnTo>
                    <a:lnTo>
                      <a:pt x="741" y="949"/>
                    </a:lnTo>
                    <a:lnTo>
                      <a:pt x="761" y="936"/>
                    </a:lnTo>
                    <a:lnTo>
                      <a:pt x="771" y="930"/>
                    </a:lnTo>
                    <a:lnTo>
                      <a:pt x="783" y="924"/>
                    </a:lnTo>
                    <a:lnTo>
                      <a:pt x="792" y="916"/>
                    </a:lnTo>
                    <a:lnTo>
                      <a:pt x="802" y="909"/>
                    </a:lnTo>
                    <a:lnTo>
                      <a:pt x="822" y="894"/>
                    </a:lnTo>
                    <a:lnTo>
                      <a:pt x="861" y="860"/>
                    </a:lnTo>
                    <a:lnTo>
                      <a:pt x="878" y="840"/>
                    </a:lnTo>
                    <a:lnTo>
                      <a:pt x="879" y="837"/>
                    </a:lnTo>
                    <a:lnTo>
                      <a:pt x="881" y="834"/>
                    </a:lnTo>
                    <a:lnTo>
                      <a:pt x="886" y="830"/>
                    </a:lnTo>
                    <a:lnTo>
                      <a:pt x="895" y="821"/>
                    </a:lnTo>
                    <a:lnTo>
                      <a:pt x="910" y="800"/>
                    </a:lnTo>
                    <a:lnTo>
                      <a:pt x="917" y="790"/>
                    </a:lnTo>
                    <a:lnTo>
                      <a:pt x="925" y="781"/>
                    </a:lnTo>
                    <a:lnTo>
                      <a:pt x="930" y="770"/>
                    </a:lnTo>
                    <a:lnTo>
                      <a:pt x="937" y="760"/>
                    </a:lnTo>
                    <a:lnTo>
                      <a:pt x="949" y="739"/>
                    </a:lnTo>
                    <a:lnTo>
                      <a:pt x="972" y="696"/>
                    </a:lnTo>
                    <a:lnTo>
                      <a:pt x="973" y="689"/>
                    </a:lnTo>
                    <a:lnTo>
                      <a:pt x="976" y="684"/>
                    </a:lnTo>
                    <a:lnTo>
                      <a:pt x="980" y="672"/>
                    </a:lnTo>
                    <a:lnTo>
                      <a:pt x="988" y="650"/>
                    </a:lnTo>
                    <a:lnTo>
                      <a:pt x="990" y="637"/>
                    </a:lnTo>
                    <a:lnTo>
                      <a:pt x="994" y="626"/>
                    </a:lnTo>
                    <a:lnTo>
                      <a:pt x="999" y="603"/>
                    </a:lnTo>
                    <a:lnTo>
                      <a:pt x="1003" y="578"/>
                    </a:lnTo>
                    <a:lnTo>
                      <a:pt x="1003" y="571"/>
                    </a:lnTo>
                    <a:lnTo>
                      <a:pt x="1003" y="568"/>
                    </a:lnTo>
                    <a:lnTo>
                      <a:pt x="1004" y="566"/>
                    </a:lnTo>
                    <a:lnTo>
                      <a:pt x="1006" y="554"/>
                    </a:lnTo>
                    <a:lnTo>
                      <a:pt x="1008" y="528"/>
                    </a:lnTo>
                    <a:lnTo>
                      <a:pt x="1010" y="503"/>
                    </a:lnTo>
                    <a:lnTo>
                      <a:pt x="1008" y="476"/>
                    </a:lnTo>
                    <a:lnTo>
                      <a:pt x="1006" y="451"/>
                    </a:lnTo>
                    <a:lnTo>
                      <a:pt x="999" y="402"/>
                    </a:lnTo>
                    <a:lnTo>
                      <a:pt x="988" y="354"/>
                    </a:lnTo>
                    <a:lnTo>
                      <a:pt x="972" y="309"/>
                    </a:lnTo>
                    <a:lnTo>
                      <a:pt x="949" y="265"/>
                    </a:lnTo>
                    <a:lnTo>
                      <a:pt x="925" y="224"/>
                    </a:lnTo>
                    <a:lnTo>
                      <a:pt x="895" y="185"/>
                    </a:lnTo>
                    <a:lnTo>
                      <a:pt x="861" y="147"/>
                    </a:lnTo>
                    <a:lnTo>
                      <a:pt x="822" y="111"/>
                    </a:lnTo>
                    <a:lnTo>
                      <a:pt x="802" y="95"/>
                    </a:lnTo>
                    <a:lnTo>
                      <a:pt x="783" y="82"/>
                    </a:lnTo>
                    <a:lnTo>
                      <a:pt x="761" y="68"/>
                    </a:lnTo>
                    <a:lnTo>
                      <a:pt x="741" y="57"/>
                    </a:lnTo>
                    <a:lnTo>
                      <a:pt x="698" y="36"/>
                    </a:lnTo>
                    <a:lnTo>
                      <a:pt x="674" y="27"/>
                    </a:lnTo>
                    <a:lnTo>
                      <a:pt x="651" y="20"/>
                    </a:lnTo>
                    <a:lnTo>
                      <a:pt x="627" y="13"/>
                    </a:lnTo>
                    <a:lnTo>
                      <a:pt x="605" y="9"/>
                    </a:lnTo>
                    <a:lnTo>
                      <a:pt x="580" y="4"/>
                    </a:lnTo>
                    <a:lnTo>
                      <a:pt x="556" y="2"/>
                    </a:lnTo>
                    <a:lnTo>
                      <a:pt x="530" y="0"/>
                    </a:lnTo>
                    <a:lnTo>
                      <a:pt x="505" y="0"/>
                    </a:lnTo>
                    <a:lnTo>
                      <a:pt x="453" y="2"/>
                    </a:lnTo>
                    <a:lnTo>
                      <a:pt x="404" y="9"/>
                    </a:lnTo>
                    <a:lnTo>
                      <a:pt x="355" y="20"/>
                    </a:lnTo>
                    <a:lnTo>
                      <a:pt x="311" y="36"/>
                    </a:lnTo>
                    <a:lnTo>
                      <a:pt x="267" y="57"/>
                    </a:lnTo>
                    <a:lnTo>
                      <a:pt x="226" y="82"/>
                    </a:lnTo>
                    <a:lnTo>
                      <a:pt x="186" y="111"/>
                    </a:lnTo>
                    <a:lnTo>
                      <a:pt x="149" y="1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41440" y="3823920"/>
                <a:ext cx="144720" cy="132840"/>
              </a:xfrm>
              <a:custGeom>
                <a:avLst/>
                <a:gdLst/>
                <a:ahLst/>
                <a:rect l="l" t="t" r="r" b="b"/>
                <a:pathLst>
                  <a:path w="505" h="465">
                    <a:moveTo>
                      <a:pt x="505" y="274"/>
                    </a:moveTo>
                    <a:lnTo>
                      <a:pt x="505" y="174"/>
                    </a:lnTo>
                    <a:lnTo>
                      <a:pt x="290" y="174"/>
                    </a:lnTo>
                    <a:lnTo>
                      <a:pt x="290" y="0"/>
                    </a:lnTo>
                    <a:lnTo>
                      <a:pt x="199" y="0"/>
                    </a:lnTo>
                    <a:lnTo>
                      <a:pt x="199" y="174"/>
                    </a:lnTo>
                    <a:lnTo>
                      <a:pt x="0" y="174"/>
                    </a:lnTo>
                    <a:lnTo>
                      <a:pt x="0" y="274"/>
                    </a:lnTo>
                    <a:lnTo>
                      <a:pt x="199" y="274"/>
                    </a:lnTo>
                    <a:lnTo>
                      <a:pt x="199" y="465"/>
                    </a:lnTo>
                    <a:lnTo>
                      <a:pt x="290" y="465"/>
                    </a:lnTo>
                    <a:lnTo>
                      <a:pt x="290" y="274"/>
                    </a:lnTo>
                    <a:lnTo>
                      <a:pt x="505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41440" y="3823920"/>
                <a:ext cx="144720" cy="132840"/>
              </a:xfrm>
              <a:custGeom>
                <a:avLst/>
                <a:gdLst/>
                <a:ahLst/>
                <a:rect l="l" t="t" r="r" b="b"/>
                <a:pathLst>
                  <a:path w="505" h="465">
                    <a:moveTo>
                      <a:pt x="505" y="174"/>
                    </a:moveTo>
                    <a:lnTo>
                      <a:pt x="290" y="174"/>
                    </a:lnTo>
                    <a:lnTo>
                      <a:pt x="290" y="0"/>
                    </a:lnTo>
                    <a:lnTo>
                      <a:pt x="199" y="0"/>
                    </a:lnTo>
                    <a:lnTo>
                      <a:pt x="199" y="174"/>
                    </a:lnTo>
                    <a:lnTo>
                      <a:pt x="0" y="174"/>
                    </a:lnTo>
                    <a:lnTo>
                      <a:pt x="0" y="274"/>
                    </a:lnTo>
                    <a:lnTo>
                      <a:pt x="199" y="274"/>
                    </a:lnTo>
                    <a:lnTo>
                      <a:pt x="199" y="465"/>
                    </a:lnTo>
                    <a:lnTo>
                      <a:pt x="290" y="465"/>
                    </a:lnTo>
                    <a:lnTo>
                      <a:pt x="290" y="274"/>
                    </a:lnTo>
                    <a:lnTo>
                      <a:pt x="505" y="274"/>
                    </a:lnTo>
                    <a:lnTo>
                      <a:pt x="505" y="1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060880" y="3321720"/>
                <a:ext cx="169200" cy="223200"/>
              </a:xfrm>
              <a:custGeom>
                <a:avLst/>
                <a:gdLst/>
                <a:ahLst/>
                <a:rect l="l" t="t" r="r" b="b"/>
                <a:pathLst>
                  <a:path w="593" h="783">
                    <a:moveTo>
                      <a:pt x="145" y="0"/>
                    </a:moveTo>
                    <a:lnTo>
                      <a:pt x="120" y="0"/>
                    </a:lnTo>
                    <a:lnTo>
                      <a:pt x="91" y="33"/>
                    </a:lnTo>
                    <a:lnTo>
                      <a:pt x="67" y="68"/>
                    </a:lnTo>
                    <a:lnTo>
                      <a:pt x="45" y="105"/>
                    </a:lnTo>
                    <a:lnTo>
                      <a:pt x="29" y="144"/>
                    </a:lnTo>
                    <a:lnTo>
                      <a:pt x="16" y="183"/>
                    </a:lnTo>
                    <a:lnTo>
                      <a:pt x="7" y="225"/>
                    </a:lnTo>
                    <a:lnTo>
                      <a:pt x="1" y="268"/>
                    </a:lnTo>
                    <a:lnTo>
                      <a:pt x="0" y="313"/>
                    </a:lnTo>
                    <a:lnTo>
                      <a:pt x="1" y="360"/>
                    </a:lnTo>
                    <a:lnTo>
                      <a:pt x="3" y="382"/>
                    </a:lnTo>
                    <a:lnTo>
                      <a:pt x="8" y="406"/>
                    </a:lnTo>
                    <a:lnTo>
                      <a:pt x="18" y="450"/>
                    </a:lnTo>
                    <a:lnTo>
                      <a:pt x="34" y="493"/>
                    </a:lnTo>
                    <a:lnTo>
                      <a:pt x="42" y="513"/>
                    </a:lnTo>
                    <a:lnTo>
                      <a:pt x="52" y="533"/>
                    </a:lnTo>
                    <a:lnTo>
                      <a:pt x="76" y="572"/>
                    </a:lnTo>
                    <a:lnTo>
                      <a:pt x="88" y="590"/>
                    </a:lnTo>
                    <a:lnTo>
                      <a:pt x="103" y="609"/>
                    </a:lnTo>
                    <a:lnTo>
                      <a:pt x="137" y="645"/>
                    </a:lnTo>
                    <a:lnTo>
                      <a:pt x="171" y="677"/>
                    </a:lnTo>
                    <a:lnTo>
                      <a:pt x="209" y="704"/>
                    </a:lnTo>
                    <a:lnTo>
                      <a:pt x="246" y="727"/>
                    </a:lnTo>
                    <a:lnTo>
                      <a:pt x="288" y="747"/>
                    </a:lnTo>
                    <a:lnTo>
                      <a:pt x="330" y="762"/>
                    </a:lnTo>
                    <a:lnTo>
                      <a:pt x="374" y="774"/>
                    </a:lnTo>
                    <a:lnTo>
                      <a:pt x="419" y="780"/>
                    </a:lnTo>
                    <a:lnTo>
                      <a:pt x="468" y="783"/>
                    </a:lnTo>
                    <a:lnTo>
                      <a:pt x="471" y="781"/>
                    </a:lnTo>
                    <a:lnTo>
                      <a:pt x="474" y="781"/>
                    </a:lnTo>
                    <a:lnTo>
                      <a:pt x="481" y="781"/>
                    </a:lnTo>
                    <a:lnTo>
                      <a:pt x="494" y="781"/>
                    </a:lnTo>
                    <a:lnTo>
                      <a:pt x="522" y="779"/>
                    </a:lnTo>
                    <a:lnTo>
                      <a:pt x="534" y="777"/>
                    </a:lnTo>
                    <a:lnTo>
                      <a:pt x="548" y="776"/>
                    </a:lnTo>
                    <a:lnTo>
                      <a:pt x="574" y="771"/>
                    </a:lnTo>
                    <a:lnTo>
                      <a:pt x="583" y="754"/>
                    </a:lnTo>
                    <a:lnTo>
                      <a:pt x="593" y="738"/>
                    </a:lnTo>
                    <a:lnTo>
                      <a:pt x="562" y="745"/>
                    </a:lnTo>
                    <a:lnTo>
                      <a:pt x="546" y="747"/>
                    </a:lnTo>
                    <a:lnTo>
                      <a:pt x="542" y="747"/>
                    </a:lnTo>
                    <a:lnTo>
                      <a:pt x="540" y="747"/>
                    </a:lnTo>
                    <a:lnTo>
                      <a:pt x="539" y="747"/>
                    </a:lnTo>
                    <a:lnTo>
                      <a:pt x="539" y="749"/>
                    </a:lnTo>
                    <a:lnTo>
                      <a:pt x="532" y="751"/>
                    </a:lnTo>
                    <a:lnTo>
                      <a:pt x="500" y="754"/>
                    </a:lnTo>
                    <a:lnTo>
                      <a:pt x="468" y="755"/>
                    </a:lnTo>
                    <a:lnTo>
                      <a:pt x="422" y="753"/>
                    </a:lnTo>
                    <a:lnTo>
                      <a:pt x="379" y="746"/>
                    </a:lnTo>
                    <a:lnTo>
                      <a:pt x="337" y="736"/>
                    </a:lnTo>
                    <a:lnTo>
                      <a:pt x="298" y="723"/>
                    </a:lnTo>
                    <a:lnTo>
                      <a:pt x="260" y="703"/>
                    </a:lnTo>
                    <a:lnTo>
                      <a:pt x="223" y="681"/>
                    </a:lnTo>
                    <a:lnTo>
                      <a:pt x="188" y="654"/>
                    </a:lnTo>
                    <a:lnTo>
                      <a:pt x="156" y="625"/>
                    </a:lnTo>
                    <a:lnTo>
                      <a:pt x="125" y="591"/>
                    </a:lnTo>
                    <a:lnTo>
                      <a:pt x="99" y="556"/>
                    </a:lnTo>
                    <a:lnTo>
                      <a:pt x="76" y="520"/>
                    </a:lnTo>
                    <a:lnTo>
                      <a:pt x="59" y="482"/>
                    </a:lnTo>
                    <a:lnTo>
                      <a:pt x="44" y="442"/>
                    </a:lnTo>
                    <a:lnTo>
                      <a:pt x="39" y="421"/>
                    </a:lnTo>
                    <a:lnTo>
                      <a:pt x="35" y="401"/>
                    </a:lnTo>
                    <a:lnTo>
                      <a:pt x="28" y="357"/>
                    </a:lnTo>
                    <a:lnTo>
                      <a:pt x="27" y="313"/>
                    </a:lnTo>
                    <a:lnTo>
                      <a:pt x="28" y="267"/>
                    </a:lnTo>
                    <a:lnTo>
                      <a:pt x="35" y="224"/>
                    </a:lnTo>
                    <a:lnTo>
                      <a:pt x="44" y="182"/>
                    </a:lnTo>
                    <a:lnTo>
                      <a:pt x="59" y="143"/>
                    </a:lnTo>
                    <a:lnTo>
                      <a:pt x="76" y="105"/>
                    </a:lnTo>
                    <a:lnTo>
                      <a:pt x="99" y="68"/>
                    </a:lnTo>
                    <a:lnTo>
                      <a:pt x="125" y="33"/>
                    </a:lnTo>
                    <a:lnTo>
                      <a:pt x="156" y="1"/>
                    </a:lnTo>
                    <a:lnTo>
                      <a:pt x="159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324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68800" y="3321720"/>
                <a:ext cx="166320" cy="215640"/>
              </a:xfrm>
              <a:custGeom>
                <a:avLst/>
                <a:gdLst/>
                <a:ahLst/>
                <a:rect l="l" t="t" r="r" b="b"/>
                <a:pathLst>
                  <a:path w="583" h="755">
                    <a:moveTo>
                      <a:pt x="132" y="0"/>
                    </a:moveTo>
                    <a:lnTo>
                      <a:pt x="129" y="1"/>
                    </a:lnTo>
                    <a:lnTo>
                      <a:pt x="98" y="33"/>
                    </a:lnTo>
                    <a:lnTo>
                      <a:pt x="72" y="68"/>
                    </a:lnTo>
                    <a:lnTo>
                      <a:pt x="49" y="105"/>
                    </a:lnTo>
                    <a:lnTo>
                      <a:pt x="32" y="143"/>
                    </a:lnTo>
                    <a:lnTo>
                      <a:pt x="17" y="182"/>
                    </a:lnTo>
                    <a:lnTo>
                      <a:pt x="8" y="224"/>
                    </a:lnTo>
                    <a:lnTo>
                      <a:pt x="1" y="267"/>
                    </a:lnTo>
                    <a:lnTo>
                      <a:pt x="0" y="313"/>
                    </a:lnTo>
                    <a:lnTo>
                      <a:pt x="1" y="357"/>
                    </a:lnTo>
                    <a:lnTo>
                      <a:pt x="8" y="401"/>
                    </a:lnTo>
                    <a:lnTo>
                      <a:pt x="12" y="421"/>
                    </a:lnTo>
                    <a:lnTo>
                      <a:pt x="17" y="442"/>
                    </a:lnTo>
                    <a:lnTo>
                      <a:pt x="32" y="482"/>
                    </a:lnTo>
                    <a:lnTo>
                      <a:pt x="49" y="520"/>
                    </a:lnTo>
                    <a:lnTo>
                      <a:pt x="72" y="556"/>
                    </a:lnTo>
                    <a:lnTo>
                      <a:pt x="98" y="591"/>
                    </a:lnTo>
                    <a:lnTo>
                      <a:pt x="129" y="625"/>
                    </a:lnTo>
                    <a:lnTo>
                      <a:pt x="161" y="654"/>
                    </a:lnTo>
                    <a:lnTo>
                      <a:pt x="196" y="681"/>
                    </a:lnTo>
                    <a:lnTo>
                      <a:pt x="233" y="703"/>
                    </a:lnTo>
                    <a:lnTo>
                      <a:pt x="271" y="723"/>
                    </a:lnTo>
                    <a:lnTo>
                      <a:pt x="310" y="736"/>
                    </a:lnTo>
                    <a:lnTo>
                      <a:pt x="352" y="746"/>
                    </a:lnTo>
                    <a:lnTo>
                      <a:pt x="395" y="753"/>
                    </a:lnTo>
                    <a:lnTo>
                      <a:pt x="441" y="755"/>
                    </a:lnTo>
                    <a:lnTo>
                      <a:pt x="473" y="754"/>
                    </a:lnTo>
                    <a:lnTo>
                      <a:pt x="505" y="751"/>
                    </a:lnTo>
                    <a:lnTo>
                      <a:pt x="512" y="749"/>
                    </a:lnTo>
                    <a:lnTo>
                      <a:pt x="512" y="747"/>
                    </a:lnTo>
                    <a:lnTo>
                      <a:pt x="513" y="747"/>
                    </a:lnTo>
                    <a:lnTo>
                      <a:pt x="515" y="747"/>
                    </a:lnTo>
                    <a:lnTo>
                      <a:pt x="519" y="747"/>
                    </a:lnTo>
                    <a:lnTo>
                      <a:pt x="535" y="745"/>
                    </a:lnTo>
                    <a:lnTo>
                      <a:pt x="566" y="738"/>
                    </a:lnTo>
                    <a:lnTo>
                      <a:pt x="583" y="704"/>
                    </a:lnTo>
                    <a:lnTo>
                      <a:pt x="549" y="713"/>
                    </a:lnTo>
                    <a:lnTo>
                      <a:pt x="531" y="717"/>
                    </a:lnTo>
                    <a:lnTo>
                      <a:pt x="514" y="721"/>
                    </a:lnTo>
                    <a:lnTo>
                      <a:pt x="478" y="725"/>
                    </a:lnTo>
                    <a:lnTo>
                      <a:pt x="441" y="727"/>
                    </a:lnTo>
                    <a:lnTo>
                      <a:pt x="398" y="725"/>
                    </a:lnTo>
                    <a:lnTo>
                      <a:pt x="357" y="719"/>
                    </a:lnTo>
                    <a:lnTo>
                      <a:pt x="318" y="709"/>
                    </a:lnTo>
                    <a:lnTo>
                      <a:pt x="281" y="696"/>
                    </a:lnTo>
                    <a:lnTo>
                      <a:pt x="245" y="678"/>
                    </a:lnTo>
                    <a:lnTo>
                      <a:pt x="211" y="658"/>
                    </a:lnTo>
                    <a:lnTo>
                      <a:pt x="178" y="633"/>
                    </a:lnTo>
                    <a:lnTo>
                      <a:pt x="149" y="606"/>
                    </a:lnTo>
                    <a:lnTo>
                      <a:pt x="119" y="574"/>
                    </a:lnTo>
                    <a:lnTo>
                      <a:pt x="95" y="541"/>
                    </a:lnTo>
                    <a:lnTo>
                      <a:pt x="74" y="506"/>
                    </a:lnTo>
                    <a:lnTo>
                      <a:pt x="65" y="488"/>
                    </a:lnTo>
                    <a:lnTo>
                      <a:pt x="58" y="471"/>
                    </a:lnTo>
                    <a:lnTo>
                      <a:pt x="50" y="452"/>
                    </a:lnTo>
                    <a:lnTo>
                      <a:pt x="44" y="433"/>
                    </a:lnTo>
                    <a:lnTo>
                      <a:pt x="35" y="395"/>
                    </a:lnTo>
                    <a:lnTo>
                      <a:pt x="30" y="354"/>
                    </a:lnTo>
                    <a:lnTo>
                      <a:pt x="29" y="313"/>
                    </a:lnTo>
                    <a:lnTo>
                      <a:pt x="30" y="270"/>
                    </a:lnTo>
                    <a:lnTo>
                      <a:pt x="35" y="229"/>
                    </a:lnTo>
                    <a:lnTo>
                      <a:pt x="44" y="190"/>
                    </a:lnTo>
                    <a:lnTo>
                      <a:pt x="58" y="153"/>
                    </a:lnTo>
                    <a:lnTo>
                      <a:pt x="74" y="117"/>
                    </a:lnTo>
                    <a:lnTo>
                      <a:pt x="95" y="83"/>
                    </a:lnTo>
                    <a:lnTo>
                      <a:pt x="119" y="50"/>
                    </a:lnTo>
                    <a:lnTo>
                      <a:pt x="149" y="21"/>
                    </a:lnTo>
                    <a:lnTo>
                      <a:pt x="169" y="3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365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029200" y="3327480"/>
                <a:ext cx="173880" cy="248760"/>
              </a:xfrm>
              <a:custGeom>
                <a:avLst/>
                <a:gdLst/>
                <a:ahLst/>
                <a:rect l="l" t="t" r="r" b="b"/>
                <a:pathLst>
                  <a:path w="608" h="873">
                    <a:moveTo>
                      <a:pt x="111" y="0"/>
                    </a:moveTo>
                    <a:lnTo>
                      <a:pt x="90" y="5"/>
                    </a:lnTo>
                    <a:lnTo>
                      <a:pt x="70" y="13"/>
                    </a:lnTo>
                    <a:lnTo>
                      <a:pt x="53" y="44"/>
                    </a:lnTo>
                    <a:lnTo>
                      <a:pt x="39" y="77"/>
                    </a:lnTo>
                    <a:lnTo>
                      <a:pt x="17" y="146"/>
                    </a:lnTo>
                    <a:lnTo>
                      <a:pt x="9" y="181"/>
                    </a:lnTo>
                    <a:lnTo>
                      <a:pt x="3" y="217"/>
                    </a:lnTo>
                    <a:lnTo>
                      <a:pt x="0" y="293"/>
                    </a:lnTo>
                    <a:lnTo>
                      <a:pt x="0" y="322"/>
                    </a:lnTo>
                    <a:lnTo>
                      <a:pt x="2" y="351"/>
                    </a:lnTo>
                    <a:lnTo>
                      <a:pt x="5" y="379"/>
                    </a:lnTo>
                    <a:lnTo>
                      <a:pt x="10" y="409"/>
                    </a:lnTo>
                    <a:lnTo>
                      <a:pt x="15" y="435"/>
                    </a:lnTo>
                    <a:lnTo>
                      <a:pt x="23" y="462"/>
                    </a:lnTo>
                    <a:lnTo>
                      <a:pt x="31" y="488"/>
                    </a:lnTo>
                    <a:lnTo>
                      <a:pt x="42" y="515"/>
                    </a:lnTo>
                    <a:lnTo>
                      <a:pt x="52" y="539"/>
                    </a:lnTo>
                    <a:lnTo>
                      <a:pt x="65" y="564"/>
                    </a:lnTo>
                    <a:lnTo>
                      <a:pt x="78" y="588"/>
                    </a:lnTo>
                    <a:lnTo>
                      <a:pt x="94" y="613"/>
                    </a:lnTo>
                    <a:lnTo>
                      <a:pt x="128" y="658"/>
                    </a:lnTo>
                    <a:lnTo>
                      <a:pt x="147" y="680"/>
                    </a:lnTo>
                    <a:lnTo>
                      <a:pt x="169" y="703"/>
                    </a:lnTo>
                    <a:lnTo>
                      <a:pt x="211" y="741"/>
                    </a:lnTo>
                    <a:lnTo>
                      <a:pt x="257" y="775"/>
                    </a:lnTo>
                    <a:lnTo>
                      <a:pt x="280" y="790"/>
                    </a:lnTo>
                    <a:lnTo>
                      <a:pt x="304" y="803"/>
                    </a:lnTo>
                    <a:lnTo>
                      <a:pt x="355" y="828"/>
                    </a:lnTo>
                    <a:lnTo>
                      <a:pt x="406" y="846"/>
                    </a:lnTo>
                    <a:lnTo>
                      <a:pt x="461" y="860"/>
                    </a:lnTo>
                    <a:lnTo>
                      <a:pt x="489" y="865"/>
                    </a:lnTo>
                    <a:lnTo>
                      <a:pt x="517" y="868"/>
                    </a:lnTo>
                    <a:lnTo>
                      <a:pt x="577" y="873"/>
                    </a:lnTo>
                    <a:lnTo>
                      <a:pt x="608" y="844"/>
                    </a:lnTo>
                    <a:lnTo>
                      <a:pt x="578" y="845"/>
                    </a:lnTo>
                    <a:lnTo>
                      <a:pt x="549" y="844"/>
                    </a:lnTo>
                    <a:lnTo>
                      <a:pt x="520" y="842"/>
                    </a:lnTo>
                    <a:lnTo>
                      <a:pt x="467" y="835"/>
                    </a:lnTo>
                    <a:lnTo>
                      <a:pt x="415" y="822"/>
                    </a:lnTo>
                    <a:lnTo>
                      <a:pt x="390" y="814"/>
                    </a:lnTo>
                    <a:lnTo>
                      <a:pt x="366" y="805"/>
                    </a:lnTo>
                    <a:lnTo>
                      <a:pt x="341" y="793"/>
                    </a:lnTo>
                    <a:lnTo>
                      <a:pt x="317" y="781"/>
                    </a:lnTo>
                    <a:lnTo>
                      <a:pt x="272" y="754"/>
                    </a:lnTo>
                    <a:lnTo>
                      <a:pt x="228" y="720"/>
                    </a:lnTo>
                    <a:lnTo>
                      <a:pt x="188" y="683"/>
                    </a:lnTo>
                    <a:lnTo>
                      <a:pt x="168" y="662"/>
                    </a:lnTo>
                    <a:lnTo>
                      <a:pt x="150" y="641"/>
                    </a:lnTo>
                    <a:lnTo>
                      <a:pt x="117" y="598"/>
                    </a:lnTo>
                    <a:lnTo>
                      <a:pt x="102" y="574"/>
                    </a:lnTo>
                    <a:lnTo>
                      <a:pt x="90" y="552"/>
                    </a:lnTo>
                    <a:lnTo>
                      <a:pt x="77" y="528"/>
                    </a:lnTo>
                    <a:lnTo>
                      <a:pt x="67" y="505"/>
                    </a:lnTo>
                    <a:lnTo>
                      <a:pt x="57" y="479"/>
                    </a:lnTo>
                    <a:lnTo>
                      <a:pt x="49" y="454"/>
                    </a:lnTo>
                    <a:lnTo>
                      <a:pt x="41" y="428"/>
                    </a:lnTo>
                    <a:lnTo>
                      <a:pt x="36" y="403"/>
                    </a:lnTo>
                    <a:lnTo>
                      <a:pt x="29" y="349"/>
                    </a:lnTo>
                    <a:lnTo>
                      <a:pt x="27" y="320"/>
                    </a:lnTo>
                    <a:lnTo>
                      <a:pt x="27" y="293"/>
                    </a:lnTo>
                    <a:lnTo>
                      <a:pt x="28" y="251"/>
                    </a:lnTo>
                    <a:lnTo>
                      <a:pt x="32" y="212"/>
                    </a:lnTo>
                    <a:lnTo>
                      <a:pt x="37" y="173"/>
                    </a:lnTo>
                    <a:lnTo>
                      <a:pt x="48" y="137"/>
                    </a:lnTo>
                    <a:lnTo>
                      <a:pt x="59" y="100"/>
                    </a:lnTo>
                    <a:lnTo>
                      <a:pt x="74" y="65"/>
                    </a:lnTo>
                    <a:lnTo>
                      <a:pt x="91" y="31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263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021280" y="3331440"/>
                <a:ext cx="173160" cy="252720"/>
              </a:xfrm>
              <a:custGeom>
                <a:avLst/>
                <a:gdLst/>
                <a:ahLst/>
                <a:rect l="l" t="t" r="r" b="b"/>
                <a:pathLst>
                  <a:path w="605" h="887">
                    <a:moveTo>
                      <a:pt x="98" y="0"/>
                    </a:moveTo>
                    <a:lnTo>
                      <a:pt x="77" y="8"/>
                    </a:lnTo>
                    <a:lnTo>
                      <a:pt x="57" y="18"/>
                    </a:lnTo>
                    <a:lnTo>
                      <a:pt x="31" y="78"/>
                    </a:lnTo>
                    <a:lnTo>
                      <a:pt x="21" y="110"/>
                    </a:lnTo>
                    <a:lnTo>
                      <a:pt x="13" y="143"/>
                    </a:lnTo>
                    <a:lnTo>
                      <a:pt x="3" y="210"/>
                    </a:lnTo>
                    <a:lnTo>
                      <a:pt x="0" y="244"/>
                    </a:lnTo>
                    <a:lnTo>
                      <a:pt x="0" y="280"/>
                    </a:lnTo>
                    <a:lnTo>
                      <a:pt x="0" y="310"/>
                    </a:lnTo>
                    <a:lnTo>
                      <a:pt x="2" y="340"/>
                    </a:lnTo>
                    <a:lnTo>
                      <a:pt x="4" y="370"/>
                    </a:lnTo>
                    <a:lnTo>
                      <a:pt x="10" y="400"/>
                    </a:lnTo>
                    <a:lnTo>
                      <a:pt x="16" y="429"/>
                    </a:lnTo>
                    <a:lnTo>
                      <a:pt x="23" y="457"/>
                    </a:lnTo>
                    <a:lnTo>
                      <a:pt x="33" y="484"/>
                    </a:lnTo>
                    <a:lnTo>
                      <a:pt x="44" y="513"/>
                    </a:lnTo>
                    <a:lnTo>
                      <a:pt x="54" y="538"/>
                    </a:lnTo>
                    <a:lnTo>
                      <a:pt x="68" y="564"/>
                    </a:lnTo>
                    <a:lnTo>
                      <a:pt x="81" y="589"/>
                    </a:lnTo>
                    <a:lnTo>
                      <a:pt x="98" y="615"/>
                    </a:lnTo>
                    <a:lnTo>
                      <a:pt x="115" y="638"/>
                    </a:lnTo>
                    <a:lnTo>
                      <a:pt x="135" y="663"/>
                    </a:lnTo>
                    <a:lnTo>
                      <a:pt x="155" y="686"/>
                    </a:lnTo>
                    <a:lnTo>
                      <a:pt x="178" y="710"/>
                    </a:lnTo>
                    <a:lnTo>
                      <a:pt x="198" y="729"/>
                    </a:lnTo>
                    <a:lnTo>
                      <a:pt x="218" y="747"/>
                    </a:lnTo>
                    <a:lnTo>
                      <a:pt x="263" y="781"/>
                    </a:lnTo>
                    <a:lnTo>
                      <a:pt x="309" y="811"/>
                    </a:lnTo>
                    <a:lnTo>
                      <a:pt x="358" y="836"/>
                    </a:lnTo>
                    <a:lnTo>
                      <a:pt x="407" y="854"/>
                    </a:lnTo>
                    <a:lnTo>
                      <a:pt x="460" y="870"/>
                    </a:lnTo>
                    <a:lnTo>
                      <a:pt x="486" y="875"/>
                    </a:lnTo>
                    <a:lnTo>
                      <a:pt x="513" y="880"/>
                    </a:lnTo>
                    <a:lnTo>
                      <a:pt x="571" y="887"/>
                    </a:lnTo>
                    <a:lnTo>
                      <a:pt x="605" y="860"/>
                    </a:lnTo>
                    <a:lnTo>
                      <a:pt x="545" y="855"/>
                    </a:lnTo>
                    <a:lnTo>
                      <a:pt x="517" y="852"/>
                    </a:lnTo>
                    <a:lnTo>
                      <a:pt x="489" y="847"/>
                    </a:lnTo>
                    <a:lnTo>
                      <a:pt x="434" y="833"/>
                    </a:lnTo>
                    <a:lnTo>
                      <a:pt x="383" y="815"/>
                    </a:lnTo>
                    <a:lnTo>
                      <a:pt x="332" y="790"/>
                    </a:lnTo>
                    <a:lnTo>
                      <a:pt x="308" y="777"/>
                    </a:lnTo>
                    <a:lnTo>
                      <a:pt x="285" y="762"/>
                    </a:lnTo>
                    <a:lnTo>
                      <a:pt x="239" y="728"/>
                    </a:lnTo>
                    <a:lnTo>
                      <a:pt x="197" y="690"/>
                    </a:lnTo>
                    <a:lnTo>
                      <a:pt x="175" y="667"/>
                    </a:lnTo>
                    <a:lnTo>
                      <a:pt x="156" y="645"/>
                    </a:lnTo>
                    <a:lnTo>
                      <a:pt x="122" y="600"/>
                    </a:lnTo>
                    <a:lnTo>
                      <a:pt x="106" y="575"/>
                    </a:lnTo>
                    <a:lnTo>
                      <a:pt x="93" y="551"/>
                    </a:lnTo>
                    <a:lnTo>
                      <a:pt x="80" y="526"/>
                    </a:lnTo>
                    <a:lnTo>
                      <a:pt x="70" y="502"/>
                    </a:lnTo>
                    <a:lnTo>
                      <a:pt x="59" y="475"/>
                    </a:lnTo>
                    <a:lnTo>
                      <a:pt x="51" y="449"/>
                    </a:lnTo>
                    <a:lnTo>
                      <a:pt x="43" y="422"/>
                    </a:lnTo>
                    <a:lnTo>
                      <a:pt x="38" y="396"/>
                    </a:lnTo>
                    <a:lnTo>
                      <a:pt x="33" y="366"/>
                    </a:lnTo>
                    <a:lnTo>
                      <a:pt x="30" y="338"/>
                    </a:lnTo>
                    <a:lnTo>
                      <a:pt x="28" y="309"/>
                    </a:lnTo>
                    <a:lnTo>
                      <a:pt x="28" y="280"/>
                    </a:lnTo>
                    <a:lnTo>
                      <a:pt x="31" y="204"/>
                    </a:lnTo>
                    <a:lnTo>
                      <a:pt x="37" y="168"/>
                    </a:lnTo>
                    <a:lnTo>
                      <a:pt x="45" y="133"/>
                    </a:lnTo>
                    <a:lnTo>
                      <a:pt x="67" y="64"/>
                    </a:lnTo>
                    <a:lnTo>
                      <a:pt x="81" y="3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223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013360" y="3336840"/>
                <a:ext cx="171360" cy="254520"/>
              </a:xfrm>
              <a:custGeom>
                <a:avLst/>
                <a:gdLst/>
                <a:ahLst/>
                <a:rect l="l" t="t" r="r" b="b"/>
                <a:pathLst>
                  <a:path w="599" h="894">
                    <a:moveTo>
                      <a:pt x="85" y="0"/>
                    </a:moveTo>
                    <a:lnTo>
                      <a:pt x="45" y="24"/>
                    </a:lnTo>
                    <a:lnTo>
                      <a:pt x="24" y="80"/>
                    </a:lnTo>
                    <a:lnTo>
                      <a:pt x="11" y="137"/>
                    </a:lnTo>
                    <a:lnTo>
                      <a:pt x="3" y="198"/>
                    </a:lnTo>
                    <a:lnTo>
                      <a:pt x="0" y="262"/>
                    </a:lnTo>
                    <a:lnTo>
                      <a:pt x="0" y="294"/>
                    </a:lnTo>
                    <a:lnTo>
                      <a:pt x="3" y="326"/>
                    </a:lnTo>
                    <a:lnTo>
                      <a:pt x="6" y="356"/>
                    </a:lnTo>
                    <a:lnTo>
                      <a:pt x="12" y="388"/>
                    </a:lnTo>
                    <a:lnTo>
                      <a:pt x="17" y="418"/>
                    </a:lnTo>
                    <a:lnTo>
                      <a:pt x="25" y="448"/>
                    </a:lnTo>
                    <a:lnTo>
                      <a:pt x="34" y="476"/>
                    </a:lnTo>
                    <a:lnTo>
                      <a:pt x="47" y="506"/>
                    </a:lnTo>
                    <a:lnTo>
                      <a:pt x="58" y="532"/>
                    </a:lnTo>
                    <a:lnTo>
                      <a:pt x="72" y="559"/>
                    </a:lnTo>
                    <a:lnTo>
                      <a:pt x="87" y="585"/>
                    </a:lnTo>
                    <a:lnTo>
                      <a:pt x="105" y="613"/>
                    </a:lnTo>
                    <a:lnTo>
                      <a:pt x="122" y="637"/>
                    </a:lnTo>
                    <a:lnTo>
                      <a:pt x="142" y="662"/>
                    </a:lnTo>
                    <a:lnTo>
                      <a:pt x="163" y="686"/>
                    </a:lnTo>
                    <a:lnTo>
                      <a:pt x="186" y="711"/>
                    </a:lnTo>
                    <a:lnTo>
                      <a:pt x="226" y="747"/>
                    </a:lnTo>
                    <a:lnTo>
                      <a:pt x="269" y="781"/>
                    </a:lnTo>
                    <a:lnTo>
                      <a:pt x="312" y="811"/>
                    </a:lnTo>
                    <a:lnTo>
                      <a:pt x="359" y="836"/>
                    </a:lnTo>
                    <a:lnTo>
                      <a:pt x="405" y="856"/>
                    </a:lnTo>
                    <a:lnTo>
                      <a:pt x="455" y="872"/>
                    </a:lnTo>
                    <a:lnTo>
                      <a:pt x="506" y="885"/>
                    </a:lnTo>
                    <a:lnTo>
                      <a:pt x="559" y="894"/>
                    </a:lnTo>
                    <a:lnTo>
                      <a:pt x="599" y="869"/>
                    </a:lnTo>
                    <a:lnTo>
                      <a:pt x="541" y="862"/>
                    </a:lnTo>
                    <a:lnTo>
                      <a:pt x="514" y="857"/>
                    </a:lnTo>
                    <a:lnTo>
                      <a:pt x="488" y="852"/>
                    </a:lnTo>
                    <a:lnTo>
                      <a:pt x="435" y="836"/>
                    </a:lnTo>
                    <a:lnTo>
                      <a:pt x="386" y="818"/>
                    </a:lnTo>
                    <a:lnTo>
                      <a:pt x="337" y="793"/>
                    </a:lnTo>
                    <a:lnTo>
                      <a:pt x="291" y="763"/>
                    </a:lnTo>
                    <a:lnTo>
                      <a:pt x="246" y="729"/>
                    </a:lnTo>
                    <a:lnTo>
                      <a:pt x="226" y="711"/>
                    </a:lnTo>
                    <a:lnTo>
                      <a:pt x="206" y="692"/>
                    </a:lnTo>
                    <a:lnTo>
                      <a:pt x="183" y="668"/>
                    </a:lnTo>
                    <a:lnTo>
                      <a:pt x="163" y="645"/>
                    </a:lnTo>
                    <a:lnTo>
                      <a:pt x="143" y="620"/>
                    </a:lnTo>
                    <a:lnTo>
                      <a:pt x="126" y="597"/>
                    </a:lnTo>
                    <a:lnTo>
                      <a:pt x="109" y="571"/>
                    </a:lnTo>
                    <a:lnTo>
                      <a:pt x="96" y="546"/>
                    </a:lnTo>
                    <a:lnTo>
                      <a:pt x="82" y="520"/>
                    </a:lnTo>
                    <a:lnTo>
                      <a:pt x="72" y="495"/>
                    </a:lnTo>
                    <a:lnTo>
                      <a:pt x="61" y="466"/>
                    </a:lnTo>
                    <a:lnTo>
                      <a:pt x="51" y="439"/>
                    </a:lnTo>
                    <a:lnTo>
                      <a:pt x="44" y="411"/>
                    </a:lnTo>
                    <a:lnTo>
                      <a:pt x="38" y="382"/>
                    </a:lnTo>
                    <a:lnTo>
                      <a:pt x="32" y="352"/>
                    </a:lnTo>
                    <a:lnTo>
                      <a:pt x="30" y="322"/>
                    </a:lnTo>
                    <a:lnTo>
                      <a:pt x="28" y="292"/>
                    </a:lnTo>
                    <a:lnTo>
                      <a:pt x="28" y="262"/>
                    </a:lnTo>
                    <a:lnTo>
                      <a:pt x="28" y="226"/>
                    </a:lnTo>
                    <a:lnTo>
                      <a:pt x="31" y="192"/>
                    </a:lnTo>
                    <a:lnTo>
                      <a:pt x="41" y="125"/>
                    </a:lnTo>
                    <a:lnTo>
                      <a:pt x="49" y="92"/>
                    </a:lnTo>
                    <a:lnTo>
                      <a:pt x="59" y="6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1f2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989960" y="3360600"/>
                <a:ext cx="157320" cy="245880"/>
              </a:xfrm>
              <a:custGeom>
                <a:avLst/>
                <a:gdLst/>
                <a:ahLst/>
                <a:rect l="l" t="t" r="r" b="b"/>
                <a:pathLst>
                  <a:path w="551" h="862">
                    <a:moveTo>
                      <a:pt x="37" y="12"/>
                    </a:moveTo>
                    <a:lnTo>
                      <a:pt x="12" y="38"/>
                    </a:lnTo>
                    <a:lnTo>
                      <a:pt x="5" y="71"/>
                    </a:lnTo>
                    <a:lnTo>
                      <a:pt x="2" y="106"/>
                    </a:lnTo>
                    <a:lnTo>
                      <a:pt x="0" y="177"/>
                    </a:lnTo>
                    <a:lnTo>
                      <a:pt x="0" y="212"/>
                    </a:lnTo>
                    <a:lnTo>
                      <a:pt x="2" y="249"/>
                    </a:lnTo>
                    <a:lnTo>
                      <a:pt x="5" y="284"/>
                    </a:lnTo>
                    <a:lnTo>
                      <a:pt x="12" y="319"/>
                    </a:lnTo>
                    <a:lnTo>
                      <a:pt x="19" y="352"/>
                    </a:lnTo>
                    <a:lnTo>
                      <a:pt x="28" y="386"/>
                    </a:lnTo>
                    <a:lnTo>
                      <a:pt x="38" y="419"/>
                    </a:lnTo>
                    <a:lnTo>
                      <a:pt x="52" y="452"/>
                    </a:lnTo>
                    <a:lnTo>
                      <a:pt x="64" y="482"/>
                    </a:lnTo>
                    <a:lnTo>
                      <a:pt x="80" y="513"/>
                    </a:lnTo>
                    <a:lnTo>
                      <a:pt x="97" y="542"/>
                    </a:lnTo>
                    <a:lnTo>
                      <a:pt x="116" y="573"/>
                    </a:lnTo>
                    <a:lnTo>
                      <a:pt x="136" y="600"/>
                    </a:lnTo>
                    <a:lnTo>
                      <a:pt x="158" y="628"/>
                    </a:lnTo>
                    <a:lnTo>
                      <a:pt x="182" y="656"/>
                    </a:lnTo>
                    <a:lnTo>
                      <a:pt x="209" y="684"/>
                    </a:lnTo>
                    <a:lnTo>
                      <a:pt x="241" y="713"/>
                    </a:lnTo>
                    <a:lnTo>
                      <a:pt x="274" y="742"/>
                    </a:lnTo>
                    <a:lnTo>
                      <a:pt x="308" y="768"/>
                    </a:lnTo>
                    <a:lnTo>
                      <a:pt x="344" y="792"/>
                    </a:lnTo>
                    <a:lnTo>
                      <a:pt x="381" y="812"/>
                    </a:lnTo>
                    <a:lnTo>
                      <a:pt x="418" y="831"/>
                    </a:lnTo>
                    <a:lnTo>
                      <a:pt x="457" y="847"/>
                    </a:lnTo>
                    <a:lnTo>
                      <a:pt x="497" y="862"/>
                    </a:lnTo>
                    <a:lnTo>
                      <a:pt x="523" y="855"/>
                    </a:lnTo>
                    <a:lnTo>
                      <a:pt x="551" y="848"/>
                    </a:lnTo>
                    <a:lnTo>
                      <a:pt x="505" y="835"/>
                    </a:lnTo>
                    <a:lnTo>
                      <a:pt x="462" y="820"/>
                    </a:lnTo>
                    <a:lnTo>
                      <a:pt x="419" y="801"/>
                    </a:lnTo>
                    <a:lnTo>
                      <a:pt x="380" y="780"/>
                    </a:lnTo>
                    <a:lnTo>
                      <a:pt x="339" y="755"/>
                    </a:lnTo>
                    <a:lnTo>
                      <a:pt x="301" y="728"/>
                    </a:lnTo>
                    <a:lnTo>
                      <a:pt x="264" y="698"/>
                    </a:lnTo>
                    <a:lnTo>
                      <a:pt x="229" y="665"/>
                    </a:lnTo>
                    <a:lnTo>
                      <a:pt x="203" y="638"/>
                    </a:lnTo>
                    <a:lnTo>
                      <a:pt x="180" y="611"/>
                    </a:lnTo>
                    <a:lnTo>
                      <a:pt x="158" y="584"/>
                    </a:lnTo>
                    <a:lnTo>
                      <a:pt x="139" y="558"/>
                    </a:lnTo>
                    <a:lnTo>
                      <a:pt x="120" y="529"/>
                    </a:lnTo>
                    <a:lnTo>
                      <a:pt x="104" y="500"/>
                    </a:lnTo>
                    <a:lnTo>
                      <a:pt x="89" y="471"/>
                    </a:lnTo>
                    <a:lnTo>
                      <a:pt x="77" y="441"/>
                    </a:lnTo>
                    <a:lnTo>
                      <a:pt x="64" y="410"/>
                    </a:lnTo>
                    <a:lnTo>
                      <a:pt x="54" y="379"/>
                    </a:lnTo>
                    <a:lnTo>
                      <a:pt x="45" y="346"/>
                    </a:lnTo>
                    <a:lnTo>
                      <a:pt x="39" y="314"/>
                    </a:lnTo>
                    <a:lnTo>
                      <a:pt x="33" y="280"/>
                    </a:lnTo>
                    <a:lnTo>
                      <a:pt x="29" y="246"/>
                    </a:lnTo>
                    <a:lnTo>
                      <a:pt x="27" y="211"/>
                    </a:lnTo>
                    <a:lnTo>
                      <a:pt x="27" y="177"/>
                    </a:lnTo>
                    <a:lnTo>
                      <a:pt x="28" y="131"/>
                    </a:lnTo>
                    <a:lnTo>
                      <a:pt x="31" y="87"/>
                    </a:lnTo>
                    <a:lnTo>
                      <a:pt x="38" y="42"/>
                    </a:lnTo>
                    <a:lnTo>
                      <a:pt x="48" y="0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16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997160" y="3350880"/>
                <a:ext cx="164160" cy="251640"/>
              </a:xfrm>
              <a:custGeom>
                <a:avLst/>
                <a:gdLst/>
                <a:ahLst/>
                <a:rect l="l" t="t" r="r" b="b"/>
                <a:pathLst>
                  <a:path w="572" h="882">
                    <a:moveTo>
                      <a:pt x="60" y="0"/>
                    </a:moveTo>
                    <a:lnTo>
                      <a:pt x="21" y="34"/>
                    </a:lnTo>
                    <a:lnTo>
                      <a:pt x="11" y="76"/>
                    </a:lnTo>
                    <a:lnTo>
                      <a:pt x="4" y="121"/>
                    </a:lnTo>
                    <a:lnTo>
                      <a:pt x="1" y="165"/>
                    </a:lnTo>
                    <a:lnTo>
                      <a:pt x="0" y="211"/>
                    </a:lnTo>
                    <a:lnTo>
                      <a:pt x="0" y="245"/>
                    </a:lnTo>
                    <a:lnTo>
                      <a:pt x="2" y="280"/>
                    </a:lnTo>
                    <a:lnTo>
                      <a:pt x="6" y="314"/>
                    </a:lnTo>
                    <a:lnTo>
                      <a:pt x="12" y="348"/>
                    </a:lnTo>
                    <a:lnTo>
                      <a:pt x="18" y="380"/>
                    </a:lnTo>
                    <a:lnTo>
                      <a:pt x="27" y="413"/>
                    </a:lnTo>
                    <a:lnTo>
                      <a:pt x="37" y="444"/>
                    </a:lnTo>
                    <a:lnTo>
                      <a:pt x="50" y="475"/>
                    </a:lnTo>
                    <a:lnTo>
                      <a:pt x="62" y="505"/>
                    </a:lnTo>
                    <a:lnTo>
                      <a:pt x="77" y="534"/>
                    </a:lnTo>
                    <a:lnTo>
                      <a:pt x="93" y="563"/>
                    </a:lnTo>
                    <a:lnTo>
                      <a:pt x="112" y="592"/>
                    </a:lnTo>
                    <a:lnTo>
                      <a:pt x="131" y="618"/>
                    </a:lnTo>
                    <a:lnTo>
                      <a:pt x="153" y="645"/>
                    </a:lnTo>
                    <a:lnTo>
                      <a:pt x="176" y="672"/>
                    </a:lnTo>
                    <a:lnTo>
                      <a:pt x="202" y="699"/>
                    </a:lnTo>
                    <a:lnTo>
                      <a:pt x="237" y="732"/>
                    </a:lnTo>
                    <a:lnTo>
                      <a:pt x="274" y="762"/>
                    </a:lnTo>
                    <a:lnTo>
                      <a:pt x="312" y="789"/>
                    </a:lnTo>
                    <a:lnTo>
                      <a:pt x="353" y="814"/>
                    </a:lnTo>
                    <a:lnTo>
                      <a:pt x="392" y="835"/>
                    </a:lnTo>
                    <a:lnTo>
                      <a:pt x="435" y="854"/>
                    </a:lnTo>
                    <a:lnTo>
                      <a:pt x="478" y="869"/>
                    </a:lnTo>
                    <a:lnTo>
                      <a:pt x="524" y="882"/>
                    </a:lnTo>
                    <a:lnTo>
                      <a:pt x="548" y="873"/>
                    </a:lnTo>
                    <a:lnTo>
                      <a:pt x="572" y="864"/>
                    </a:lnTo>
                    <a:lnTo>
                      <a:pt x="521" y="853"/>
                    </a:lnTo>
                    <a:lnTo>
                      <a:pt x="474" y="839"/>
                    </a:lnTo>
                    <a:lnTo>
                      <a:pt x="427" y="821"/>
                    </a:lnTo>
                    <a:lnTo>
                      <a:pt x="384" y="801"/>
                    </a:lnTo>
                    <a:lnTo>
                      <a:pt x="340" y="775"/>
                    </a:lnTo>
                    <a:lnTo>
                      <a:pt x="299" y="746"/>
                    </a:lnTo>
                    <a:lnTo>
                      <a:pt x="260" y="715"/>
                    </a:lnTo>
                    <a:lnTo>
                      <a:pt x="222" y="679"/>
                    </a:lnTo>
                    <a:lnTo>
                      <a:pt x="197" y="653"/>
                    </a:lnTo>
                    <a:lnTo>
                      <a:pt x="176" y="628"/>
                    </a:lnTo>
                    <a:lnTo>
                      <a:pt x="154" y="602"/>
                    </a:lnTo>
                    <a:lnTo>
                      <a:pt x="136" y="576"/>
                    </a:lnTo>
                    <a:lnTo>
                      <a:pt x="118" y="548"/>
                    </a:lnTo>
                    <a:lnTo>
                      <a:pt x="102" y="521"/>
                    </a:lnTo>
                    <a:lnTo>
                      <a:pt x="87" y="492"/>
                    </a:lnTo>
                    <a:lnTo>
                      <a:pt x="76" y="465"/>
                    </a:lnTo>
                    <a:lnTo>
                      <a:pt x="63" y="435"/>
                    </a:lnTo>
                    <a:lnTo>
                      <a:pt x="54" y="405"/>
                    </a:lnTo>
                    <a:lnTo>
                      <a:pt x="45" y="373"/>
                    </a:lnTo>
                    <a:lnTo>
                      <a:pt x="40" y="343"/>
                    </a:lnTo>
                    <a:lnTo>
                      <a:pt x="34" y="310"/>
                    </a:lnTo>
                    <a:lnTo>
                      <a:pt x="30" y="278"/>
                    </a:lnTo>
                    <a:lnTo>
                      <a:pt x="28" y="244"/>
                    </a:lnTo>
                    <a:lnTo>
                      <a:pt x="28" y="211"/>
                    </a:lnTo>
                    <a:lnTo>
                      <a:pt x="29" y="155"/>
                    </a:lnTo>
                    <a:lnTo>
                      <a:pt x="36" y="101"/>
                    </a:lnTo>
                    <a:lnTo>
                      <a:pt x="45" y="49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92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965840" y="3398400"/>
                <a:ext cx="130680" cy="211320"/>
              </a:xfrm>
              <a:custGeom>
                <a:avLst/>
                <a:gdLst/>
                <a:ahLst/>
                <a:rect l="l" t="t" r="r" b="b"/>
                <a:pathLst>
                  <a:path w="457" h="738">
                    <a:moveTo>
                      <a:pt x="27" y="44"/>
                    </a:moveTo>
                    <a:lnTo>
                      <a:pt x="28" y="0"/>
                    </a:lnTo>
                    <a:lnTo>
                      <a:pt x="12" y="32"/>
                    </a:lnTo>
                    <a:lnTo>
                      <a:pt x="0" y="65"/>
                    </a:lnTo>
                    <a:lnTo>
                      <a:pt x="0" y="103"/>
                    </a:lnTo>
                    <a:lnTo>
                      <a:pt x="3" y="142"/>
                    </a:lnTo>
                    <a:lnTo>
                      <a:pt x="8" y="179"/>
                    </a:lnTo>
                    <a:lnTo>
                      <a:pt x="16" y="218"/>
                    </a:lnTo>
                    <a:lnTo>
                      <a:pt x="24" y="253"/>
                    </a:lnTo>
                    <a:lnTo>
                      <a:pt x="35" y="289"/>
                    </a:lnTo>
                    <a:lnTo>
                      <a:pt x="46" y="324"/>
                    </a:lnTo>
                    <a:lnTo>
                      <a:pt x="61" y="359"/>
                    </a:lnTo>
                    <a:lnTo>
                      <a:pt x="76" y="392"/>
                    </a:lnTo>
                    <a:lnTo>
                      <a:pt x="94" y="425"/>
                    </a:lnTo>
                    <a:lnTo>
                      <a:pt x="112" y="457"/>
                    </a:lnTo>
                    <a:lnTo>
                      <a:pt x="134" y="490"/>
                    </a:lnTo>
                    <a:lnTo>
                      <a:pt x="155" y="520"/>
                    </a:lnTo>
                    <a:lnTo>
                      <a:pt x="180" y="551"/>
                    </a:lnTo>
                    <a:lnTo>
                      <a:pt x="206" y="580"/>
                    </a:lnTo>
                    <a:lnTo>
                      <a:pt x="235" y="610"/>
                    </a:lnTo>
                    <a:lnTo>
                      <a:pt x="270" y="643"/>
                    </a:lnTo>
                    <a:lnTo>
                      <a:pt x="308" y="676"/>
                    </a:lnTo>
                    <a:lnTo>
                      <a:pt x="347" y="704"/>
                    </a:lnTo>
                    <a:lnTo>
                      <a:pt x="388" y="732"/>
                    </a:lnTo>
                    <a:lnTo>
                      <a:pt x="421" y="736"/>
                    </a:lnTo>
                    <a:lnTo>
                      <a:pt x="457" y="738"/>
                    </a:lnTo>
                    <a:lnTo>
                      <a:pt x="428" y="723"/>
                    </a:lnTo>
                    <a:lnTo>
                      <a:pt x="401" y="707"/>
                    </a:lnTo>
                    <a:lnTo>
                      <a:pt x="350" y="673"/>
                    </a:lnTo>
                    <a:lnTo>
                      <a:pt x="325" y="654"/>
                    </a:lnTo>
                    <a:lnTo>
                      <a:pt x="300" y="634"/>
                    </a:lnTo>
                    <a:lnTo>
                      <a:pt x="254" y="591"/>
                    </a:lnTo>
                    <a:lnTo>
                      <a:pt x="226" y="561"/>
                    </a:lnTo>
                    <a:lnTo>
                      <a:pt x="201" y="532"/>
                    </a:lnTo>
                    <a:lnTo>
                      <a:pt x="176" y="501"/>
                    </a:lnTo>
                    <a:lnTo>
                      <a:pt x="154" y="471"/>
                    </a:lnTo>
                    <a:lnTo>
                      <a:pt x="133" y="438"/>
                    </a:lnTo>
                    <a:lnTo>
                      <a:pt x="114" y="406"/>
                    </a:lnTo>
                    <a:lnTo>
                      <a:pt x="97" y="373"/>
                    </a:lnTo>
                    <a:lnTo>
                      <a:pt x="84" y="340"/>
                    </a:lnTo>
                    <a:lnTo>
                      <a:pt x="69" y="305"/>
                    </a:lnTo>
                    <a:lnTo>
                      <a:pt x="58" y="270"/>
                    </a:lnTo>
                    <a:lnTo>
                      <a:pt x="48" y="234"/>
                    </a:lnTo>
                    <a:lnTo>
                      <a:pt x="41" y="197"/>
                    </a:lnTo>
                    <a:lnTo>
                      <a:pt x="34" y="159"/>
                    </a:lnTo>
                    <a:lnTo>
                      <a:pt x="31" y="121"/>
                    </a:lnTo>
                    <a:lnTo>
                      <a:pt x="27" y="83"/>
                    </a:lnTo>
                    <a:lnTo>
                      <a:pt x="27" y="44"/>
                    </a:lnTo>
                    <a:close/>
                  </a:path>
                </a:pathLst>
              </a:custGeom>
              <a:solidFill>
                <a:srgbClr val="0c1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973760" y="3383640"/>
                <a:ext cx="141120" cy="226080"/>
              </a:xfrm>
              <a:custGeom>
                <a:avLst/>
                <a:gdLst/>
                <a:ahLst/>
                <a:rect l="l" t="t" r="r" b="b"/>
                <a:pathLst>
                  <a:path w="493" h="791">
                    <a:moveTo>
                      <a:pt x="1" y="52"/>
                    </a:moveTo>
                    <a:lnTo>
                      <a:pt x="0" y="96"/>
                    </a:lnTo>
                    <a:lnTo>
                      <a:pt x="0" y="135"/>
                    </a:lnTo>
                    <a:lnTo>
                      <a:pt x="4" y="173"/>
                    </a:lnTo>
                    <a:lnTo>
                      <a:pt x="7" y="211"/>
                    </a:lnTo>
                    <a:lnTo>
                      <a:pt x="14" y="249"/>
                    </a:lnTo>
                    <a:lnTo>
                      <a:pt x="21" y="286"/>
                    </a:lnTo>
                    <a:lnTo>
                      <a:pt x="31" y="322"/>
                    </a:lnTo>
                    <a:lnTo>
                      <a:pt x="42" y="357"/>
                    </a:lnTo>
                    <a:lnTo>
                      <a:pt x="57" y="392"/>
                    </a:lnTo>
                    <a:lnTo>
                      <a:pt x="70" y="425"/>
                    </a:lnTo>
                    <a:lnTo>
                      <a:pt x="87" y="458"/>
                    </a:lnTo>
                    <a:lnTo>
                      <a:pt x="106" y="490"/>
                    </a:lnTo>
                    <a:lnTo>
                      <a:pt x="127" y="523"/>
                    </a:lnTo>
                    <a:lnTo>
                      <a:pt x="149" y="553"/>
                    </a:lnTo>
                    <a:lnTo>
                      <a:pt x="174" y="584"/>
                    </a:lnTo>
                    <a:lnTo>
                      <a:pt x="199" y="613"/>
                    </a:lnTo>
                    <a:lnTo>
                      <a:pt x="227" y="643"/>
                    </a:lnTo>
                    <a:lnTo>
                      <a:pt x="273" y="686"/>
                    </a:lnTo>
                    <a:lnTo>
                      <a:pt x="298" y="706"/>
                    </a:lnTo>
                    <a:lnTo>
                      <a:pt x="323" y="725"/>
                    </a:lnTo>
                    <a:lnTo>
                      <a:pt x="374" y="759"/>
                    </a:lnTo>
                    <a:lnTo>
                      <a:pt x="401" y="775"/>
                    </a:lnTo>
                    <a:lnTo>
                      <a:pt x="430" y="790"/>
                    </a:lnTo>
                    <a:lnTo>
                      <a:pt x="449" y="791"/>
                    </a:lnTo>
                    <a:lnTo>
                      <a:pt x="454" y="790"/>
                    </a:lnTo>
                    <a:lnTo>
                      <a:pt x="459" y="790"/>
                    </a:lnTo>
                    <a:lnTo>
                      <a:pt x="471" y="790"/>
                    </a:lnTo>
                    <a:lnTo>
                      <a:pt x="493" y="789"/>
                    </a:lnTo>
                    <a:lnTo>
                      <a:pt x="459" y="774"/>
                    </a:lnTo>
                    <a:lnTo>
                      <a:pt x="426" y="757"/>
                    </a:lnTo>
                    <a:lnTo>
                      <a:pt x="394" y="739"/>
                    </a:lnTo>
                    <a:lnTo>
                      <a:pt x="363" y="720"/>
                    </a:lnTo>
                    <a:lnTo>
                      <a:pt x="332" y="698"/>
                    </a:lnTo>
                    <a:lnTo>
                      <a:pt x="303" y="674"/>
                    </a:lnTo>
                    <a:lnTo>
                      <a:pt x="273" y="649"/>
                    </a:lnTo>
                    <a:lnTo>
                      <a:pt x="246" y="623"/>
                    </a:lnTo>
                    <a:lnTo>
                      <a:pt x="219" y="594"/>
                    </a:lnTo>
                    <a:lnTo>
                      <a:pt x="195" y="566"/>
                    </a:lnTo>
                    <a:lnTo>
                      <a:pt x="171" y="536"/>
                    </a:lnTo>
                    <a:lnTo>
                      <a:pt x="151" y="508"/>
                    </a:lnTo>
                    <a:lnTo>
                      <a:pt x="131" y="476"/>
                    </a:lnTo>
                    <a:lnTo>
                      <a:pt x="113" y="445"/>
                    </a:lnTo>
                    <a:lnTo>
                      <a:pt x="96" y="414"/>
                    </a:lnTo>
                    <a:lnTo>
                      <a:pt x="83" y="382"/>
                    </a:lnTo>
                    <a:lnTo>
                      <a:pt x="69" y="348"/>
                    </a:lnTo>
                    <a:lnTo>
                      <a:pt x="59" y="314"/>
                    </a:lnTo>
                    <a:lnTo>
                      <a:pt x="49" y="279"/>
                    </a:lnTo>
                    <a:lnTo>
                      <a:pt x="42" y="245"/>
                    </a:lnTo>
                    <a:lnTo>
                      <a:pt x="35" y="207"/>
                    </a:lnTo>
                    <a:lnTo>
                      <a:pt x="32" y="171"/>
                    </a:lnTo>
                    <a:lnTo>
                      <a:pt x="28" y="134"/>
                    </a:lnTo>
                    <a:lnTo>
                      <a:pt x="28" y="96"/>
                    </a:lnTo>
                    <a:lnTo>
                      <a:pt x="30" y="47"/>
                    </a:lnTo>
                    <a:lnTo>
                      <a:pt x="34" y="0"/>
                    </a:lnTo>
                    <a:lnTo>
                      <a:pt x="16" y="25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0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981680" y="3371400"/>
                <a:ext cx="150120" cy="237240"/>
              </a:xfrm>
              <a:custGeom>
                <a:avLst/>
                <a:gdLst/>
                <a:ahLst/>
                <a:rect l="l" t="t" r="r" b="b"/>
                <a:pathLst>
                  <a:path w="525" h="832">
                    <a:moveTo>
                      <a:pt x="6" y="43"/>
                    </a:moveTo>
                    <a:lnTo>
                      <a:pt x="2" y="90"/>
                    </a:lnTo>
                    <a:lnTo>
                      <a:pt x="0" y="139"/>
                    </a:lnTo>
                    <a:lnTo>
                      <a:pt x="0" y="177"/>
                    </a:lnTo>
                    <a:lnTo>
                      <a:pt x="4" y="214"/>
                    </a:lnTo>
                    <a:lnTo>
                      <a:pt x="7" y="250"/>
                    </a:lnTo>
                    <a:lnTo>
                      <a:pt x="14" y="288"/>
                    </a:lnTo>
                    <a:lnTo>
                      <a:pt x="21" y="322"/>
                    </a:lnTo>
                    <a:lnTo>
                      <a:pt x="31" y="357"/>
                    </a:lnTo>
                    <a:lnTo>
                      <a:pt x="41" y="391"/>
                    </a:lnTo>
                    <a:lnTo>
                      <a:pt x="55" y="425"/>
                    </a:lnTo>
                    <a:lnTo>
                      <a:pt x="68" y="457"/>
                    </a:lnTo>
                    <a:lnTo>
                      <a:pt x="85" y="488"/>
                    </a:lnTo>
                    <a:lnTo>
                      <a:pt x="103" y="519"/>
                    </a:lnTo>
                    <a:lnTo>
                      <a:pt x="123" y="551"/>
                    </a:lnTo>
                    <a:lnTo>
                      <a:pt x="143" y="579"/>
                    </a:lnTo>
                    <a:lnTo>
                      <a:pt x="167" y="609"/>
                    </a:lnTo>
                    <a:lnTo>
                      <a:pt x="191" y="637"/>
                    </a:lnTo>
                    <a:lnTo>
                      <a:pt x="218" y="666"/>
                    </a:lnTo>
                    <a:lnTo>
                      <a:pt x="245" y="692"/>
                    </a:lnTo>
                    <a:lnTo>
                      <a:pt x="275" y="717"/>
                    </a:lnTo>
                    <a:lnTo>
                      <a:pt x="304" y="741"/>
                    </a:lnTo>
                    <a:lnTo>
                      <a:pt x="335" y="763"/>
                    </a:lnTo>
                    <a:lnTo>
                      <a:pt x="366" y="782"/>
                    </a:lnTo>
                    <a:lnTo>
                      <a:pt x="398" y="800"/>
                    </a:lnTo>
                    <a:lnTo>
                      <a:pt x="431" y="817"/>
                    </a:lnTo>
                    <a:lnTo>
                      <a:pt x="465" y="832"/>
                    </a:lnTo>
                    <a:lnTo>
                      <a:pt x="495" y="829"/>
                    </a:lnTo>
                    <a:lnTo>
                      <a:pt x="525" y="824"/>
                    </a:lnTo>
                    <a:lnTo>
                      <a:pt x="485" y="809"/>
                    </a:lnTo>
                    <a:lnTo>
                      <a:pt x="446" y="793"/>
                    </a:lnTo>
                    <a:lnTo>
                      <a:pt x="409" y="774"/>
                    </a:lnTo>
                    <a:lnTo>
                      <a:pt x="372" y="754"/>
                    </a:lnTo>
                    <a:lnTo>
                      <a:pt x="336" y="730"/>
                    </a:lnTo>
                    <a:lnTo>
                      <a:pt x="302" y="704"/>
                    </a:lnTo>
                    <a:lnTo>
                      <a:pt x="269" y="675"/>
                    </a:lnTo>
                    <a:lnTo>
                      <a:pt x="237" y="646"/>
                    </a:lnTo>
                    <a:lnTo>
                      <a:pt x="210" y="618"/>
                    </a:lnTo>
                    <a:lnTo>
                      <a:pt x="186" y="590"/>
                    </a:lnTo>
                    <a:lnTo>
                      <a:pt x="164" y="562"/>
                    </a:lnTo>
                    <a:lnTo>
                      <a:pt x="144" y="535"/>
                    </a:lnTo>
                    <a:lnTo>
                      <a:pt x="125" y="504"/>
                    </a:lnTo>
                    <a:lnTo>
                      <a:pt x="108" y="475"/>
                    </a:lnTo>
                    <a:lnTo>
                      <a:pt x="92" y="444"/>
                    </a:lnTo>
                    <a:lnTo>
                      <a:pt x="80" y="414"/>
                    </a:lnTo>
                    <a:lnTo>
                      <a:pt x="66" y="381"/>
                    </a:lnTo>
                    <a:lnTo>
                      <a:pt x="56" y="348"/>
                    </a:lnTo>
                    <a:lnTo>
                      <a:pt x="47" y="314"/>
                    </a:lnTo>
                    <a:lnTo>
                      <a:pt x="40" y="281"/>
                    </a:lnTo>
                    <a:lnTo>
                      <a:pt x="33" y="246"/>
                    </a:lnTo>
                    <a:lnTo>
                      <a:pt x="30" y="211"/>
                    </a:lnTo>
                    <a:lnTo>
                      <a:pt x="28" y="174"/>
                    </a:lnTo>
                    <a:lnTo>
                      <a:pt x="28" y="139"/>
                    </a:lnTo>
                    <a:lnTo>
                      <a:pt x="30" y="68"/>
                    </a:lnTo>
                    <a:lnTo>
                      <a:pt x="33" y="33"/>
                    </a:lnTo>
                    <a:lnTo>
                      <a:pt x="40" y="0"/>
                    </a:lnTo>
                    <a:lnTo>
                      <a:pt x="6" y="43"/>
                    </a:lnTo>
                    <a:close/>
                  </a:path>
                </a:pathLst>
              </a:custGeom>
              <a:solidFill>
                <a:srgbClr val="121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005800" y="3343680"/>
                <a:ext cx="167400" cy="253800"/>
              </a:xfrm>
              <a:custGeom>
                <a:avLst/>
                <a:gdLst/>
                <a:ahLst/>
                <a:rect l="l" t="t" r="r" b="b"/>
                <a:pathLst>
                  <a:path w="586" h="891">
                    <a:moveTo>
                      <a:pt x="32" y="27"/>
                    </a:moveTo>
                    <a:lnTo>
                      <a:pt x="17" y="76"/>
                    </a:lnTo>
                    <a:lnTo>
                      <a:pt x="8" y="128"/>
                    </a:lnTo>
                    <a:lnTo>
                      <a:pt x="1" y="182"/>
                    </a:lnTo>
                    <a:lnTo>
                      <a:pt x="0" y="238"/>
                    </a:lnTo>
                    <a:lnTo>
                      <a:pt x="0" y="271"/>
                    </a:lnTo>
                    <a:lnTo>
                      <a:pt x="2" y="305"/>
                    </a:lnTo>
                    <a:lnTo>
                      <a:pt x="6" y="337"/>
                    </a:lnTo>
                    <a:lnTo>
                      <a:pt x="12" y="370"/>
                    </a:lnTo>
                    <a:lnTo>
                      <a:pt x="17" y="400"/>
                    </a:lnTo>
                    <a:lnTo>
                      <a:pt x="26" y="432"/>
                    </a:lnTo>
                    <a:lnTo>
                      <a:pt x="35" y="462"/>
                    </a:lnTo>
                    <a:lnTo>
                      <a:pt x="48" y="492"/>
                    </a:lnTo>
                    <a:lnTo>
                      <a:pt x="59" y="519"/>
                    </a:lnTo>
                    <a:lnTo>
                      <a:pt x="74" y="548"/>
                    </a:lnTo>
                    <a:lnTo>
                      <a:pt x="90" y="575"/>
                    </a:lnTo>
                    <a:lnTo>
                      <a:pt x="108" y="603"/>
                    </a:lnTo>
                    <a:lnTo>
                      <a:pt x="126" y="629"/>
                    </a:lnTo>
                    <a:lnTo>
                      <a:pt x="148" y="655"/>
                    </a:lnTo>
                    <a:lnTo>
                      <a:pt x="169" y="680"/>
                    </a:lnTo>
                    <a:lnTo>
                      <a:pt x="194" y="706"/>
                    </a:lnTo>
                    <a:lnTo>
                      <a:pt x="232" y="742"/>
                    </a:lnTo>
                    <a:lnTo>
                      <a:pt x="271" y="773"/>
                    </a:lnTo>
                    <a:lnTo>
                      <a:pt x="312" y="802"/>
                    </a:lnTo>
                    <a:lnTo>
                      <a:pt x="356" y="828"/>
                    </a:lnTo>
                    <a:lnTo>
                      <a:pt x="399" y="848"/>
                    </a:lnTo>
                    <a:lnTo>
                      <a:pt x="446" y="866"/>
                    </a:lnTo>
                    <a:lnTo>
                      <a:pt x="493" y="880"/>
                    </a:lnTo>
                    <a:lnTo>
                      <a:pt x="544" y="891"/>
                    </a:lnTo>
                    <a:lnTo>
                      <a:pt x="565" y="880"/>
                    </a:lnTo>
                    <a:lnTo>
                      <a:pt x="569" y="877"/>
                    </a:lnTo>
                    <a:lnTo>
                      <a:pt x="575" y="874"/>
                    </a:lnTo>
                    <a:lnTo>
                      <a:pt x="586" y="870"/>
                    </a:lnTo>
                    <a:lnTo>
                      <a:pt x="533" y="861"/>
                    </a:lnTo>
                    <a:lnTo>
                      <a:pt x="482" y="848"/>
                    </a:lnTo>
                    <a:lnTo>
                      <a:pt x="432" y="832"/>
                    </a:lnTo>
                    <a:lnTo>
                      <a:pt x="386" y="812"/>
                    </a:lnTo>
                    <a:lnTo>
                      <a:pt x="339" y="787"/>
                    </a:lnTo>
                    <a:lnTo>
                      <a:pt x="296" y="757"/>
                    </a:lnTo>
                    <a:lnTo>
                      <a:pt x="253" y="723"/>
                    </a:lnTo>
                    <a:lnTo>
                      <a:pt x="213" y="687"/>
                    </a:lnTo>
                    <a:lnTo>
                      <a:pt x="190" y="662"/>
                    </a:lnTo>
                    <a:lnTo>
                      <a:pt x="169" y="638"/>
                    </a:lnTo>
                    <a:lnTo>
                      <a:pt x="149" y="613"/>
                    </a:lnTo>
                    <a:lnTo>
                      <a:pt x="132" y="589"/>
                    </a:lnTo>
                    <a:lnTo>
                      <a:pt x="114" y="561"/>
                    </a:lnTo>
                    <a:lnTo>
                      <a:pt x="99" y="535"/>
                    </a:lnTo>
                    <a:lnTo>
                      <a:pt x="85" y="508"/>
                    </a:lnTo>
                    <a:lnTo>
                      <a:pt x="74" y="482"/>
                    </a:lnTo>
                    <a:lnTo>
                      <a:pt x="61" y="452"/>
                    </a:lnTo>
                    <a:lnTo>
                      <a:pt x="52" y="424"/>
                    </a:lnTo>
                    <a:lnTo>
                      <a:pt x="44" y="394"/>
                    </a:lnTo>
                    <a:lnTo>
                      <a:pt x="39" y="364"/>
                    </a:lnTo>
                    <a:lnTo>
                      <a:pt x="33" y="332"/>
                    </a:lnTo>
                    <a:lnTo>
                      <a:pt x="30" y="302"/>
                    </a:lnTo>
                    <a:lnTo>
                      <a:pt x="27" y="270"/>
                    </a:lnTo>
                    <a:lnTo>
                      <a:pt x="27" y="238"/>
                    </a:lnTo>
                    <a:lnTo>
                      <a:pt x="30" y="174"/>
                    </a:lnTo>
                    <a:lnTo>
                      <a:pt x="38" y="113"/>
                    </a:lnTo>
                    <a:lnTo>
                      <a:pt x="51" y="56"/>
                    </a:lnTo>
                    <a:lnTo>
                      <a:pt x="72" y="0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1c2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037120" y="3324600"/>
                <a:ext cx="173880" cy="244080"/>
              </a:xfrm>
              <a:custGeom>
                <a:avLst/>
                <a:gdLst/>
                <a:ahLst/>
                <a:rect l="l" t="t" r="r" b="b"/>
                <a:pathLst>
                  <a:path w="609" h="856">
                    <a:moveTo>
                      <a:pt x="84" y="11"/>
                    </a:moveTo>
                    <a:lnTo>
                      <a:pt x="64" y="42"/>
                    </a:lnTo>
                    <a:lnTo>
                      <a:pt x="47" y="76"/>
                    </a:lnTo>
                    <a:lnTo>
                      <a:pt x="32" y="111"/>
                    </a:lnTo>
                    <a:lnTo>
                      <a:pt x="21" y="148"/>
                    </a:lnTo>
                    <a:lnTo>
                      <a:pt x="10" y="184"/>
                    </a:lnTo>
                    <a:lnTo>
                      <a:pt x="5" y="223"/>
                    </a:lnTo>
                    <a:lnTo>
                      <a:pt x="1" y="262"/>
                    </a:lnTo>
                    <a:lnTo>
                      <a:pt x="0" y="304"/>
                    </a:lnTo>
                    <a:lnTo>
                      <a:pt x="0" y="331"/>
                    </a:lnTo>
                    <a:lnTo>
                      <a:pt x="2" y="360"/>
                    </a:lnTo>
                    <a:lnTo>
                      <a:pt x="9" y="414"/>
                    </a:lnTo>
                    <a:lnTo>
                      <a:pt x="14" y="439"/>
                    </a:lnTo>
                    <a:lnTo>
                      <a:pt x="22" y="465"/>
                    </a:lnTo>
                    <a:lnTo>
                      <a:pt x="30" y="490"/>
                    </a:lnTo>
                    <a:lnTo>
                      <a:pt x="40" y="516"/>
                    </a:lnTo>
                    <a:lnTo>
                      <a:pt x="50" y="539"/>
                    </a:lnTo>
                    <a:lnTo>
                      <a:pt x="63" y="563"/>
                    </a:lnTo>
                    <a:lnTo>
                      <a:pt x="75" y="585"/>
                    </a:lnTo>
                    <a:lnTo>
                      <a:pt x="90" y="609"/>
                    </a:lnTo>
                    <a:lnTo>
                      <a:pt x="123" y="652"/>
                    </a:lnTo>
                    <a:lnTo>
                      <a:pt x="141" y="673"/>
                    </a:lnTo>
                    <a:lnTo>
                      <a:pt x="161" y="694"/>
                    </a:lnTo>
                    <a:lnTo>
                      <a:pt x="201" y="731"/>
                    </a:lnTo>
                    <a:lnTo>
                      <a:pt x="245" y="765"/>
                    </a:lnTo>
                    <a:lnTo>
                      <a:pt x="290" y="792"/>
                    </a:lnTo>
                    <a:lnTo>
                      <a:pt x="314" y="804"/>
                    </a:lnTo>
                    <a:lnTo>
                      <a:pt x="339" y="816"/>
                    </a:lnTo>
                    <a:lnTo>
                      <a:pt x="363" y="825"/>
                    </a:lnTo>
                    <a:lnTo>
                      <a:pt x="388" y="833"/>
                    </a:lnTo>
                    <a:lnTo>
                      <a:pt x="440" y="846"/>
                    </a:lnTo>
                    <a:lnTo>
                      <a:pt x="493" y="853"/>
                    </a:lnTo>
                    <a:lnTo>
                      <a:pt x="522" y="855"/>
                    </a:lnTo>
                    <a:lnTo>
                      <a:pt x="551" y="856"/>
                    </a:lnTo>
                    <a:lnTo>
                      <a:pt x="581" y="855"/>
                    </a:lnTo>
                    <a:lnTo>
                      <a:pt x="584" y="852"/>
                    </a:lnTo>
                    <a:lnTo>
                      <a:pt x="609" y="826"/>
                    </a:lnTo>
                    <a:lnTo>
                      <a:pt x="580" y="827"/>
                    </a:lnTo>
                    <a:lnTo>
                      <a:pt x="565" y="827"/>
                    </a:lnTo>
                    <a:lnTo>
                      <a:pt x="551" y="828"/>
                    </a:lnTo>
                    <a:lnTo>
                      <a:pt x="524" y="827"/>
                    </a:lnTo>
                    <a:lnTo>
                      <a:pt x="497" y="825"/>
                    </a:lnTo>
                    <a:lnTo>
                      <a:pt x="446" y="818"/>
                    </a:lnTo>
                    <a:lnTo>
                      <a:pt x="421" y="812"/>
                    </a:lnTo>
                    <a:lnTo>
                      <a:pt x="396" y="805"/>
                    </a:lnTo>
                    <a:lnTo>
                      <a:pt x="349" y="789"/>
                    </a:lnTo>
                    <a:lnTo>
                      <a:pt x="303" y="767"/>
                    </a:lnTo>
                    <a:lnTo>
                      <a:pt x="281" y="754"/>
                    </a:lnTo>
                    <a:lnTo>
                      <a:pt x="261" y="741"/>
                    </a:lnTo>
                    <a:lnTo>
                      <a:pt x="219" y="709"/>
                    </a:lnTo>
                    <a:lnTo>
                      <a:pt x="182" y="675"/>
                    </a:lnTo>
                    <a:lnTo>
                      <a:pt x="162" y="655"/>
                    </a:lnTo>
                    <a:lnTo>
                      <a:pt x="145" y="635"/>
                    </a:lnTo>
                    <a:lnTo>
                      <a:pt x="128" y="614"/>
                    </a:lnTo>
                    <a:lnTo>
                      <a:pt x="114" y="593"/>
                    </a:lnTo>
                    <a:lnTo>
                      <a:pt x="99" y="571"/>
                    </a:lnTo>
                    <a:lnTo>
                      <a:pt x="86" y="549"/>
                    </a:lnTo>
                    <a:lnTo>
                      <a:pt x="75" y="526"/>
                    </a:lnTo>
                    <a:lnTo>
                      <a:pt x="66" y="505"/>
                    </a:lnTo>
                    <a:lnTo>
                      <a:pt x="48" y="457"/>
                    </a:lnTo>
                    <a:lnTo>
                      <a:pt x="41" y="432"/>
                    </a:lnTo>
                    <a:lnTo>
                      <a:pt x="36" y="409"/>
                    </a:lnTo>
                    <a:lnTo>
                      <a:pt x="32" y="382"/>
                    </a:lnTo>
                    <a:lnTo>
                      <a:pt x="30" y="357"/>
                    </a:lnTo>
                    <a:lnTo>
                      <a:pt x="27" y="330"/>
                    </a:lnTo>
                    <a:lnTo>
                      <a:pt x="27" y="304"/>
                    </a:lnTo>
                    <a:lnTo>
                      <a:pt x="29" y="261"/>
                    </a:lnTo>
                    <a:lnTo>
                      <a:pt x="33" y="220"/>
                    </a:lnTo>
                    <a:lnTo>
                      <a:pt x="40" y="179"/>
                    </a:lnTo>
                    <a:lnTo>
                      <a:pt x="51" y="142"/>
                    </a:lnTo>
                    <a:lnTo>
                      <a:pt x="64" y="104"/>
                    </a:lnTo>
                    <a:lnTo>
                      <a:pt x="81" y="68"/>
                    </a:lnTo>
                    <a:lnTo>
                      <a:pt x="100" y="33"/>
                    </a:lnTo>
                    <a:lnTo>
                      <a:pt x="124" y="0"/>
                    </a:lnTo>
                    <a:lnTo>
                      <a:pt x="84" y="11"/>
                    </a:lnTo>
                    <a:close/>
                  </a:path>
                </a:pathLst>
              </a:custGeom>
              <a:solidFill>
                <a:srgbClr val="29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76720" y="3322440"/>
                <a:ext cx="162360" cy="207360"/>
              </a:xfrm>
              <a:custGeom>
                <a:avLst/>
                <a:gdLst/>
                <a:ahLst/>
                <a:rect l="l" t="t" r="r" b="b"/>
                <a:pathLst>
                  <a:path w="568" h="724">
                    <a:moveTo>
                      <a:pt x="140" y="37"/>
                    </a:moveTo>
                    <a:lnTo>
                      <a:pt x="178" y="4"/>
                    </a:lnTo>
                    <a:lnTo>
                      <a:pt x="158" y="1"/>
                    </a:lnTo>
                    <a:lnTo>
                      <a:pt x="140" y="0"/>
                    </a:lnTo>
                    <a:lnTo>
                      <a:pt x="120" y="18"/>
                    </a:lnTo>
                    <a:lnTo>
                      <a:pt x="90" y="47"/>
                    </a:lnTo>
                    <a:lnTo>
                      <a:pt x="66" y="80"/>
                    </a:lnTo>
                    <a:lnTo>
                      <a:pt x="45" y="114"/>
                    </a:lnTo>
                    <a:lnTo>
                      <a:pt x="29" y="150"/>
                    </a:lnTo>
                    <a:lnTo>
                      <a:pt x="15" y="187"/>
                    </a:lnTo>
                    <a:lnTo>
                      <a:pt x="6" y="226"/>
                    </a:lnTo>
                    <a:lnTo>
                      <a:pt x="1" y="267"/>
                    </a:lnTo>
                    <a:lnTo>
                      <a:pt x="0" y="310"/>
                    </a:lnTo>
                    <a:lnTo>
                      <a:pt x="1" y="351"/>
                    </a:lnTo>
                    <a:lnTo>
                      <a:pt x="6" y="392"/>
                    </a:lnTo>
                    <a:lnTo>
                      <a:pt x="15" y="430"/>
                    </a:lnTo>
                    <a:lnTo>
                      <a:pt x="21" y="449"/>
                    </a:lnTo>
                    <a:lnTo>
                      <a:pt x="29" y="468"/>
                    </a:lnTo>
                    <a:lnTo>
                      <a:pt x="36" y="485"/>
                    </a:lnTo>
                    <a:lnTo>
                      <a:pt x="45" y="503"/>
                    </a:lnTo>
                    <a:lnTo>
                      <a:pt x="66" y="538"/>
                    </a:lnTo>
                    <a:lnTo>
                      <a:pt x="90" y="571"/>
                    </a:lnTo>
                    <a:lnTo>
                      <a:pt x="120" y="603"/>
                    </a:lnTo>
                    <a:lnTo>
                      <a:pt x="149" y="630"/>
                    </a:lnTo>
                    <a:lnTo>
                      <a:pt x="182" y="655"/>
                    </a:lnTo>
                    <a:lnTo>
                      <a:pt x="216" y="675"/>
                    </a:lnTo>
                    <a:lnTo>
                      <a:pt x="252" y="693"/>
                    </a:lnTo>
                    <a:lnTo>
                      <a:pt x="289" y="706"/>
                    </a:lnTo>
                    <a:lnTo>
                      <a:pt x="328" y="716"/>
                    </a:lnTo>
                    <a:lnTo>
                      <a:pt x="369" y="722"/>
                    </a:lnTo>
                    <a:lnTo>
                      <a:pt x="412" y="724"/>
                    </a:lnTo>
                    <a:lnTo>
                      <a:pt x="449" y="722"/>
                    </a:lnTo>
                    <a:lnTo>
                      <a:pt x="485" y="718"/>
                    </a:lnTo>
                    <a:lnTo>
                      <a:pt x="502" y="714"/>
                    </a:lnTo>
                    <a:lnTo>
                      <a:pt x="520" y="710"/>
                    </a:lnTo>
                    <a:lnTo>
                      <a:pt x="554" y="701"/>
                    </a:lnTo>
                    <a:lnTo>
                      <a:pt x="568" y="666"/>
                    </a:lnTo>
                    <a:lnTo>
                      <a:pt x="557" y="668"/>
                    </a:lnTo>
                    <a:lnTo>
                      <a:pt x="548" y="672"/>
                    </a:lnTo>
                    <a:lnTo>
                      <a:pt x="530" y="679"/>
                    </a:lnTo>
                    <a:lnTo>
                      <a:pt x="511" y="683"/>
                    </a:lnTo>
                    <a:lnTo>
                      <a:pt x="493" y="689"/>
                    </a:lnTo>
                    <a:lnTo>
                      <a:pt x="472" y="691"/>
                    </a:lnTo>
                    <a:lnTo>
                      <a:pt x="467" y="691"/>
                    </a:lnTo>
                    <a:lnTo>
                      <a:pt x="462" y="692"/>
                    </a:lnTo>
                    <a:lnTo>
                      <a:pt x="453" y="695"/>
                    </a:lnTo>
                    <a:lnTo>
                      <a:pt x="412" y="697"/>
                    </a:lnTo>
                    <a:lnTo>
                      <a:pt x="371" y="695"/>
                    </a:lnTo>
                    <a:lnTo>
                      <a:pt x="334" y="689"/>
                    </a:lnTo>
                    <a:lnTo>
                      <a:pt x="298" y="680"/>
                    </a:lnTo>
                    <a:lnTo>
                      <a:pt x="264" y="668"/>
                    </a:lnTo>
                    <a:lnTo>
                      <a:pt x="230" y="651"/>
                    </a:lnTo>
                    <a:lnTo>
                      <a:pt x="198" y="632"/>
                    </a:lnTo>
                    <a:lnTo>
                      <a:pt x="167" y="610"/>
                    </a:lnTo>
                    <a:lnTo>
                      <a:pt x="140" y="583"/>
                    </a:lnTo>
                    <a:lnTo>
                      <a:pt x="113" y="554"/>
                    </a:lnTo>
                    <a:lnTo>
                      <a:pt x="100" y="538"/>
                    </a:lnTo>
                    <a:lnTo>
                      <a:pt x="90" y="523"/>
                    </a:lnTo>
                    <a:lnTo>
                      <a:pt x="79" y="506"/>
                    </a:lnTo>
                    <a:lnTo>
                      <a:pt x="70" y="490"/>
                    </a:lnTo>
                    <a:lnTo>
                      <a:pt x="55" y="458"/>
                    </a:lnTo>
                    <a:lnTo>
                      <a:pt x="47" y="439"/>
                    </a:lnTo>
                    <a:lnTo>
                      <a:pt x="41" y="422"/>
                    </a:lnTo>
                    <a:lnTo>
                      <a:pt x="34" y="386"/>
                    </a:lnTo>
                    <a:lnTo>
                      <a:pt x="28" y="349"/>
                    </a:lnTo>
                    <a:lnTo>
                      <a:pt x="27" y="310"/>
                    </a:lnTo>
                    <a:lnTo>
                      <a:pt x="28" y="269"/>
                    </a:lnTo>
                    <a:lnTo>
                      <a:pt x="34" y="232"/>
                    </a:lnTo>
                    <a:lnTo>
                      <a:pt x="41" y="196"/>
                    </a:lnTo>
                    <a:lnTo>
                      <a:pt x="55" y="162"/>
                    </a:lnTo>
                    <a:lnTo>
                      <a:pt x="70" y="128"/>
                    </a:lnTo>
                    <a:lnTo>
                      <a:pt x="90" y="96"/>
                    </a:lnTo>
                    <a:lnTo>
                      <a:pt x="113" y="65"/>
                    </a:lnTo>
                    <a:lnTo>
                      <a:pt x="140" y="37"/>
                    </a:lnTo>
                    <a:close/>
                  </a:path>
                </a:pathLst>
              </a:custGeom>
              <a:solidFill>
                <a:srgbClr val="39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084280" y="3324240"/>
                <a:ext cx="157680" cy="197280"/>
              </a:xfrm>
              <a:custGeom>
                <a:avLst/>
                <a:gdLst/>
                <a:ahLst/>
                <a:rect l="l" t="t" r="r" b="b"/>
                <a:pathLst>
                  <a:path w="551" h="693">
                    <a:moveTo>
                      <a:pt x="151" y="0"/>
                    </a:moveTo>
                    <a:lnTo>
                      <a:pt x="113" y="33"/>
                    </a:lnTo>
                    <a:lnTo>
                      <a:pt x="86" y="61"/>
                    </a:lnTo>
                    <a:lnTo>
                      <a:pt x="63" y="92"/>
                    </a:lnTo>
                    <a:lnTo>
                      <a:pt x="43" y="124"/>
                    </a:lnTo>
                    <a:lnTo>
                      <a:pt x="28" y="158"/>
                    </a:lnTo>
                    <a:lnTo>
                      <a:pt x="14" y="192"/>
                    </a:lnTo>
                    <a:lnTo>
                      <a:pt x="7" y="228"/>
                    </a:lnTo>
                    <a:lnTo>
                      <a:pt x="1" y="265"/>
                    </a:lnTo>
                    <a:lnTo>
                      <a:pt x="0" y="306"/>
                    </a:lnTo>
                    <a:lnTo>
                      <a:pt x="1" y="345"/>
                    </a:lnTo>
                    <a:lnTo>
                      <a:pt x="7" y="382"/>
                    </a:lnTo>
                    <a:lnTo>
                      <a:pt x="14" y="418"/>
                    </a:lnTo>
                    <a:lnTo>
                      <a:pt x="20" y="435"/>
                    </a:lnTo>
                    <a:lnTo>
                      <a:pt x="28" y="454"/>
                    </a:lnTo>
                    <a:lnTo>
                      <a:pt x="43" y="486"/>
                    </a:lnTo>
                    <a:lnTo>
                      <a:pt x="52" y="502"/>
                    </a:lnTo>
                    <a:lnTo>
                      <a:pt x="63" y="519"/>
                    </a:lnTo>
                    <a:lnTo>
                      <a:pt x="73" y="534"/>
                    </a:lnTo>
                    <a:lnTo>
                      <a:pt x="86" y="550"/>
                    </a:lnTo>
                    <a:lnTo>
                      <a:pt x="113" y="579"/>
                    </a:lnTo>
                    <a:lnTo>
                      <a:pt x="140" y="606"/>
                    </a:lnTo>
                    <a:lnTo>
                      <a:pt x="171" y="628"/>
                    </a:lnTo>
                    <a:lnTo>
                      <a:pt x="203" y="647"/>
                    </a:lnTo>
                    <a:lnTo>
                      <a:pt x="237" y="664"/>
                    </a:lnTo>
                    <a:lnTo>
                      <a:pt x="271" y="676"/>
                    </a:lnTo>
                    <a:lnTo>
                      <a:pt x="307" y="685"/>
                    </a:lnTo>
                    <a:lnTo>
                      <a:pt x="344" y="691"/>
                    </a:lnTo>
                    <a:lnTo>
                      <a:pt x="385" y="693"/>
                    </a:lnTo>
                    <a:lnTo>
                      <a:pt x="426" y="691"/>
                    </a:lnTo>
                    <a:lnTo>
                      <a:pt x="435" y="688"/>
                    </a:lnTo>
                    <a:lnTo>
                      <a:pt x="440" y="687"/>
                    </a:lnTo>
                    <a:lnTo>
                      <a:pt x="445" y="687"/>
                    </a:lnTo>
                    <a:lnTo>
                      <a:pt x="466" y="685"/>
                    </a:lnTo>
                    <a:lnTo>
                      <a:pt x="484" y="679"/>
                    </a:lnTo>
                    <a:lnTo>
                      <a:pt x="503" y="675"/>
                    </a:lnTo>
                    <a:lnTo>
                      <a:pt x="521" y="668"/>
                    </a:lnTo>
                    <a:lnTo>
                      <a:pt x="530" y="664"/>
                    </a:lnTo>
                    <a:lnTo>
                      <a:pt x="541" y="662"/>
                    </a:lnTo>
                    <a:lnTo>
                      <a:pt x="551" y="626"/>
                    </a:lnTo>
                    <a:lnTo>
                      <a:pt x="530" y="634"/>
                    </a:lnTo>
                    <a:lnTo>
                      <a:pt x="527" y="634"/>
                    </a:lnTo>
                    <a:lnTo>
                      <a:pt x="525" y="635"/>
                    </a:lnTo>
                    <a:lnTo>
                      <a:pt x="520" y="637"/>
                    </a:lnTo>
                    <a:lnTo>
                      <a:pt x="511" y="642"/>
                    </a:lnTo>
                    <a:lnTo>
                      <a:pt x="491" y="649"/>
                    </a:lnTo>
                    <a:lnTo>
                      <a:pt x="480" y="651"/>
                    </a:lnTo>
                    <a:lnTo>
                      <a:pt x="471" y="654"/>
                    </a:lnTo>
                    <a:lnTo>
                      <a:pt x="460" y="655"/>
                    </a:lnTo>
                    <a:lnTo>
                      <a:pt x="450" y="658"/>
                    </a:lnTo>
                    <a:lnTo>
                      <a:pt x="429" y="661"/>
                    </a:lnTo>
                    <a:lnTo>
                      <a:pt x="407" y="663"/>
                    </a:lnTo>
                    <a:lnTo>
                      <a:pt x="395" y="663"/>
                    </a:lnTo>
                    <a:lnTo>
                      <a:pt x="390" y="663"/>
                    </a:lnTo>
                    <a:lnTo>
                      <a:pt x="385" y="664"/>
                    </a:lnTo>
                    <a:lnTo>
                      <a:pt x="348" y="662"/>
                    </a:lnTo>
                    <a:lnTo>
                      <a:pt x="313" y="658"/>
                    </a:lnTo>
                    <a:lnTo>
                      <a:pt x="279" y="649"/>
                    </a:lnTo>
                    <a:lnTo>
                      <a:pt x="247" y="638"/>
                    </a:lnTo>
                    <a:lnTo>
                      <a:pt x="215" y="623"/>
                    </a:lnTo>
                    <a:lnTo>
                      <a:pt x="187" y="606"/>
                    </a:lnTo>
                    <a:lnTo>
                      <a:pt x="158" y="584"/>
                    </a:lnTo>
                    <a:lnTo>
                      <a:pt x="132" y="560"/>
                    </a:lnTo>
                    <a:lnTo>
                      <a:pt x="106" y="532"/>
                    </a:lnTo>
                    <a:lnTo>
                      <a:pt x="85" y="503"/>
                    </a:lnTo>
                    <a:lnTo>
                      <a:pt x="67" y="474"/>
                    </a:lnTo>
                    <a:lnTo>
                      <a:pt x="59" y="458"/>
                    </a:lnTo>
                    <a:lnTo>
                      <a:pt x="53" y="443"/>
                    </a:lnTo>
                    <a:lnTo>
                      <a:pt x="41" y="411"/>
                    </a:lnTo>
                    <a:lnTo>
                      <a:pt x="33" y="377"/>
                    </a:lnTo>
                    <a:lnTo>
                      <a:pt x="29" y="358"/>
                    </a:lnTo>
                    <a:lnTo>
                      <a:pt x="28" y="341"/>
                    </a:lnTo>
                    <a:lnTo>
                      <a:pt x="27" y="306"/>
                    </a:lnTo>
                    <a:lnTo>
                      <a:pt x="28" y="269"/>
                    </a:lnTo>
                    <a:lnTo>
                      <a:pt x="33" y="234"/>
                    </a:lnTo>
                    <a:lnTo>
                      <a:pt x="41" y="200"/>
                    </a:lnTo>
                    <a:lnTo>
                      <a:pt x="53" y="168"/>
                    </a:lnTo>
                    <a:lnTo>
                      <a:pt x="67" y="136"/>
                    </a:lnTo>
                    <a:lnTo>
                      <a:pt x="85" y="108"/>
                    </a:lnTo>
                    <a:lnTo>
                      <a:pt x="106" y="79"/>
                    </a:lnTo>
                    <a:lnTo>
                      <a:pt x="132" y="53"/>
                    </a:lnTo>
                    <a:lnTo>
                      <a:pt x="158" y="28"/>
                    </a:lnTo>
                    <a:lnTo>
                      <a:pt x="187" y="7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3c5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092200" y="3325680"/>
                <a:ext cx="151920" cy="187920"/>
              </a:xfrm>
              <a:custGeom>
                <a:avLst/>
                <a:gdLst/>
                <a:ahLst/>
                <a:rect l="l" t="t" r="r" b="b"/>
                <a:pathLst>
                  <a:path w="532" h="657">
                    <a:moveTo>
                      <a:pt x="160" y="0"/>
                    </a:moveTo>
                    <a:lnTo>
                      <a:pt x="131" y="21"/>
                    </a:lnTo>
                    <a:lnTo>
                      <a:pt x="105" y="46"/>
                    </a:lnTo>
                    <a:lnTo>
                      <a:pt x="79" y="72"/>
                    </a:lnTo>
                    <a:lnTo>
                      <a:pt x="58" y="101"/>
                    </a:lnTo>
                    <a:lnTo>
                      <a:pt x="40" y="129"/>
                    </a:lnTo>
                    <a:lnTo>
                      <a:pt x="26" y="161"/>
                    </a:lnTo>
                    <a:lnTo>
                      <a:pt x="14" y="193"/>
                    </a:lnTo>
                    <a:lnTo>
                      <a:pt x="6" y="227"/>
                    </a:lnTo>
                    <a:lnTo>
                      <a:pt x="1" y="262"/>
                    </a:lnTo>
                    <a:lnTo>
                      <a:pt x="0" y="299"/>
                    </a:lnTo>
                    <a:lnTo>
                      <a:pt x="1" y="334"/>
                    </a:lnTo>
                    <a:lnTo>
                      <a:pt x="2" y="351"/>
                    </a:lnTo>
                    <a:lnTo>
                      <a:pt x="6" y="370"/>
                    </a:lnTo>
                    <a:lnTo>
                      <a:pt x="14" y="404"/>
                    </a:lnTo>
                    <a:lnTo>
                      <a:pt x="26" y="436"/>
                    </a:lnTo>
                    <a:lnTo>
                      <a:pt x="32" y="451"/>
                    </a:lnTo>
                    <a:lnTo>
                      <a:pt x="40" y="467"/>
                    </a:lnTo>
                    <a:lnTo>
                      <a:pt x="58" y="496"/>
                    </a:lnTo>
                    <a:lnTo>
                      <a:pt x="79" y="525"/>
                    </a:lnTo>
                    <a:lnTo>
                      <a:pt x="105" y="553"/>
                    </a:lnTo>
                    <a:lnTo>
                      <a:pt x="131" y="577"/>
                    </a:lnTo>
                    <a:lnTo>
                      <a:pt x="160" y="599"/>
                    </a:lnTo>
                    <a:lnTo>
                      <a:pt x="188" y="616"/>
                    </a:lnTo>
                    <a:lnTo>
                      <a:pt x="220" y="631"/>
                    </a:lnTo>
                    <a:lnTo>
                      <a:pt x="252" y="642"/>
                    </a:lnTo>
                    <a:lnTo>
                      <a:pt x="286" y="651"/>
                    </a:lnTo>
                    <a:lnTo>
                      <a:pt x="321" y="655"/>
                    </a:lnTo>
                    <a:lnTo>
                      <a:pt x="358" y="657"/>
                    </a:lnTo>
                    <a:lnTo>
                      <a:pt x="363" y="656"/>
                    </a:lnTo>
                    <a:lnTo>
                      <a:pt x="368" y="656"/>
                    </a:lnTo>
                    <a:lnTo>
                      <a:pt x="380" y="656"/>
                    </a:lnTo>
                    <a:lnTo>
                      <a:pt x="402" y="654"/>
                    </a:lnTo>
                    <a:lnTo>
                      <a:pt x="423" y="651"/>
                    </a:lnTo>
                    <a:lnTo>
                      <a:pt x="433" y="648"/>
                    </a:lnTo>
                    <a:lnTo>
                      <a:pt x="444" y="647"/>
                    </a:lnTo>
                    <a:lnTo>
                      <a:pt x="453" y="644"/>
                    </a:lnTo>
                    <a:lnTo>
                      <a:pt x="464" y="642"/>
                    </a:lnTo>
                    <a:lnTo>
                      <a:pt x="484" y="635"/>
                    </a:lnTo>
                    <a:lnTo>
                      <a:pt x="493" y="630"/>
                    </a:lnTo>
                    <a:lnTo>
                      <a:pt x="498" y="628"/>
                    </a:lnTo>
                    <a:lnTo>
                      <a:pt x="500" y="627"/>
                    </a:lnTo>
                    <a:lnTo>
                      <a:pt x="503" y="627"/>
                    </a:lnTo>
                    <a:lnTo>
                      <a:pt x="524" y="619"/>
                    </a:lnTo>
                    <a:lnTo>
                      <a:pt x="532" y="583"/>
                    </a:lnTo>
                    <a:lnTo>
                      <a:pt x="511" y="593"/>
                    </a:lnTo>
                    <a:lnTo>
                      <a:pt x="491" y="603"/>
                    </a:lnTo>
                    <a:lnTo>
                      <a:pt x="480" y="606"/>
                    </a:lnTo>
                    <a:lnTo>
                      <a:pt x="469" y="611"/>
                    </a:lnTo>
                    <a:lnTo>
                      <a:pt x="449" y="618"/>
                    </a:lnTo>
                    <a:lnTo>
                      <a:pt x="426" y="622"/>
                    </a:lnTo>
                    <a:lnTo>
                      <a:pt x="405" y="627"/>
                    </a:lnTo>
                    <a:lnTo>
                      <a:pt x="381" y="629"/>
                    </a:lnTo>
                    <a:lnTo>
                      <a:pt x="358" y="630"/>
                    </a:lnTo>
                    <a:lnTo>
                      <a:pt x="324" y="628"/>
                    </a:lnTo>
                    <a:lnTo>
                      <a:pt x="292" y="623"/>
                    </a:lnTo>
                    <a:lnTo>
                      <a:pt x="261" y="616"/>
                    </a:lnTo>
                    <a:lnTo>
                      <a:pt x="231" y="605"/>
                    </a:lnTo>
                    <a:lnTo>
                      <a:pt x="202" y="591"/>
                    </a:lnTo>
                    <a:lnTo>
                      <a:pt x="175" y="575"/>
                    </a:lnTo>
                    <a:lnTo>
                      <a:pt x="148" y="555"/>
                    </a:lnTo>
                    <a:lnTo>
                      <a:pt x="125" y="534"/>
                    </a:lnTo>
                    <a:lnTo>
                      <a:pt x="101" y="508"/>
                    </a:lnTo>
                    <a:lnTo>
                      <a:pt x="82" y="482"/>
                    </a:lnTo>
                    <a:lnTo>
                      <a:pt x="65" y="455"/>
                    </a:lnTo>
                    <a:lnTo>
                      <a:pt x="57" y="440"/>
                    </a:lnTo>
                    <a:lnTo>
                      <a:pt x="51" y="426"/>
                    </a:lnTo>
                    <a:lnTo>
                      <a:pt x="44" y="410"/>
                    </a:lnTo>
                    <a:lnTo>
                      <a:pt x="40" y="396"/>
                    </a:lnTo>
                    <a:lnTo>
                      <a:pt x="35" y="380"/>
                    </a:lnTo>
                    <a:lnTo>
                      <a:pt x="33" y="365"/>
                    </a:lnTo>
                    <a:lnTo>
                      <a:pt x="29" y="348"/>
                    </a:lnTo>
                    <a:lnTo>
                      <a:pt x="28" y="332"/>
                    </a:lnTo>
                    <a:lnTo>
                      <a:pt x="27" y="299"/>
                    </a:lnTo>
                    <a:lnTo>
                      <a:pt x="28" y="265"/>
                    </a:lnTo>
                    <a:lnTo>
                      <a:pt x="33" y="233"/>
                    </a:lnTo>
                    <a:lnTo>
                      <a:pt x="40" y="202"/>
                    </a:lnTo>
                    <a:lnTo>
                      <a:pt x="51" y="172"/>
                    </a:lnTo>
                    <a:lnTo>
                      <a:pt x="65" y="143"/>
                    </a:lnTo>
                    <a:lnTo>
                      <a:pt x="82" y="116"/>
                    </a:lnTo>
                    <a:lnTo>
                      <a:pt x="101" y="89"/>
                    </a:lnTo>
                    <a:lnTo>
                      <a:pt x="125" y="66"/>
                    </a:lnTo>
                    <a:lnTo>
                      <a:pt x="141" y="49"/>
                    </a:lnTo>
                    <a:lnTo>
                      <a:pt x="159" y="35"/>
                    </a:lnTo>
                    <a:lnTo>
                      <a:pt x="196" y="11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3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00120" y="3329280"/>
                <a:ext cx="145080" cy="176400"/>
              </a:xfrm>
              <a:custGeom>
                <a:avLst/>
                <a:gdLst/>
                <a:ahLst/>
                <a:rect l="l" t="t" r="r" b="b"/>
                <a:pathLst>
                  <a:path w="509" h="619">
                    <a:moveTo>
                      <a:pt x="117" y="74"/>
                    </a:moveTo>
                    <a:lnTo>
                      <a:pt x="136" y="55"/>
                    </a:lnTo>
                    <a:lnTo>
                      <a:pt x="158" y="38"/>
                    </a:lnTo>
                    <a:lnTo>
                      <a:pt x="179" y="23"/>
                    </a:lnTo>
                    <a:lnTo>
                      <a:pt x="203" y="13"/>
                    </a:lnTo>
                    <a:lnTo>
                      <a:pt x="169" y="0"/>
                    </a:lnTo>
                    <a:lnTo>
                      <a:pt x="132" y="24"/>
                    </a:lnTo>
                    <a:lnTo>
                      <a:pt x="114" y="38"/>
                    </a:lnTo>
                    <a:lnTo>
                      <a:pt x="98" y="55"/>
                    </a:lnTo>
                    <a:lnTo>
                      <a:pt x="74" y="78"/>
                    </a:lnTo>
                    <a:lnTo>
                      <a:pt x="55" y="105"/>
                    </a:lnTo>
                    <a:lnTo>
                      <a:pt x="38" y="132"/>
                    </a:lnTo>
                    <a:lnTo>
                      <a:pt x="24" y="161"/>
                    </a:lnTo>
                    <a:lnTo>
                      <a:pt x="13" y="191"/>
                    </a:lnTo>
                    <a:lnTo>
                      <a:pt x="6" y="222"/>
                    </a:lnTo>
                    <a:lnTo>
                      <a:pt x="1" y="254"/>
                    </a:lnTo>
                    <a:lnTo>
                      <a:pt x="0" y="288"/>
                    </a:lnTo>
                    <a:lnTo>
                      <a:pt x="1" y="321"/>
                    </a:lnTo>
                    <a:lnTo>
                      <a:pt x="2" y="337"/>
                    </a:lnTo>
                    <a:lnTo>
                      <a:pt x="6" y="354"/>
                    </a:lnTo>
                    <a:lnTo>
                      <a:pt x="8" y="369"/>
                    </a:lnTo>
                    <a:lnTo>
                      <a:pt x="13" y="385"/>
                    </a:lnTo>
                    <a:lnTo>
                      <a:pt x="17" y="399"/>
                    </a:lnTo>
                    <a:lnTo>
                      <a:pt x="24" y="415"/>
                    </a:lnTo>
                    <a:lnTo>
                      <a:pt x="30" y="429"/>
                    </a:lnTo>
                    <a:lnTo>
                      <a:pt x="38" y="444"/>
                    </a:lnTo>
                    <a:lnTo>
                      <a:pt x="55" y="471"/>
                    </a:lnTo>
                    <a:lnTo>
                      <a:pt x="74" y="497"/>
                    </a:lnTo>
                    <a:lnTo>
                      <a:pt x="98" y="523"/>
                    </a:lnTo>
                    <a:lnTo>
                      <a:pt x="121" y="544"/>
                    </a:lnTo>
                    <a:lnTo>
                      <a:pt x="148" y="564"/>
                    </a:lnTo>
                    <a:lnTo>
                      <a:pt x="175" y="580"/>
                    </a:lnTo>
                    <a:lnTo>
                      <a:pt x="204" y="594"/>
                    </a:lnTo>
                    <a:lnTo>
                      <a:pt x="234" y="605"/>
                    </a:lnTo>
                    <a:lnTo>
                      <a:pt x="265" y="612"/>
                    </a:lnTo>
                    <a:lnTo>
                      <a:pt x="297" y="617"/>
                    </a:lnTo>
                    <a:lnTo>
                      <a:pt x="331" y="619"/>
                    </a:lnTo>
                    <a:lnTo>
                      <a:pt x="354" y="618"/>
                    </a:lnTo>
                    <a:lnTo>
                      <a:pt x="378" y="616"/>
                    </a:lnTo>
                    <a:lnTo>
                      <a:pt x="399" y="611"/>
                    </a:lnTo>
                    <a:lnTo>
                      <a:pt x="422" y="607"/>
                    </a:lnTo>
                    <a:lnTo>
                      <a:pt x="442" y="600"/>
                    </a:lnTo>
                    <a:lnTo>
                      <a:pt x="453" y="595"/>
                    </a:lnTo>
                    <a:lnTo>
                      <a:pt x="464" y="592"/>
                    </a:lnTo>
                    <a:lnTo>
                      <a:pt x="484" y="582"/>
                    </a:lnTo>
                    <a:lnTo>
                      <a:pt x="505" y="572"/>
                    </a:lnTo>
                    <a:lnTo>
                      <a:pt x="509" y="535"/>
                    </a:lnTo>
                    <a:lnTo>
                      <a:pt x="489" y="548"/>
                    </a:lnTo>
                    <a:lnTo>
                      <a:pt x="468" y="559"/>
                    </a:lnTo>
                    <a:lnTo>
                      <a:pt x="457" y="564"/>
                    </a:lnTo>
                    <a:lnTo>
                      <a:pt x="451" y="566"/>
                    </a:lnTo>
                    <a:lnTo>
                      <a:pt x="447" y="569"/>
                    </a:lnTo>
                    <a:lnTo>
                      <a:pt x="436" y="573"/>
                    </a:lnTo>
                    <a:lnTo>
                      <a:pt x="425" y="577"/>
                    </a:lnTo>
                    <a:lnTo>
                      <a:pt x="413" y="580"/>
                    </a:lnTo>
                    <a:lnTo>
                      <a:pt x="402" y="583"/>
                    </a:lnTo>
                    <a:lnTo>
                      <a:pt x="379" y="588"/>
                    </a:lnTo>
                    <a:lnTo>
                      <a:pt x="372" y="588"/>
                    </a:lnTo>
                    <a:lnTo>
                      <a:pt x="369" y="588"/>
                    </a:lnTo>
                    <a:lnTo>
                      <a:pt x="366" y="589"/>
                    </a:lnTo>
                    <a:lnTo>
                      <a:pt x="355" y="591"/>
                    </a:lnTo>
                    <a:lnTo>
                      <a:pt x="343" y="591"/>
                    </a:lnTo>
                    <a:lnTo>
                      <a:pt x="331" y="592"/>
                    </a:lnTo>
                    <a:lnTo>
                      <a:pt x="299" y="590"/>
                    </a:lnTo>
                    <a:lnTo>
                      <a:pt x="270" y="586"/>
                    </a:lnTo>
                    <a:lnTo>
                      <a:pt x="241" y="578"/>
                    </a:lnTo>
                    <a:lnTo>
                      <a:pt x="214" y="569"/>
                    </a:lnTo>
                    <a:lnTo>
                      <a:pt x="187" y="556"/>
                    </a:lnTo>
                    <a:lnTo>
                      <a:pt x="162" y="541"/>
                    </a:lnTo>
                    <a:lnTo>
                      <a:pt x="138" y="522"/>
                    </a:lnTo>
                    <a:lnTo>
                      <a:pt x="117" y="502"/>
                    </a:lnTo>
                    <a:lnTo>
                      <a:pt x="95" y="479"/>
                    </a:lnTo>
                    <a:lnTo>
                      <a:pt x="85" y="466"/>
                    </a:lnTo>
                    <a:lnTo>
                      <a:pt x="77" y="455"/>
                    </a:lnTo>
                    <a:lnTo>
                      <a:pt x="63" y="430"/>
                    </a:lnTo>
                    <a:lnTo>
                      <a:pt x="50" y="404"/>
                    </a:lnTo>
                    <a:lnTo>
                      <a:pt x="40" y="376"/>
                    </a:lnTo>
                    <a:lnTo>
                      <a:pt x="35" y="361"/>
                    </a:lnTo>
                    <a:lnTo>
                      <a:pt x="33" y="347"/>
                    </a:lnTo>
                    <a:lnTo>
                      <a:pt x="30" y="318"/>
                    </a:lnTo>
                    <a:lnTo>
                      <a:pt x="29" y="288"/>
                    </a:lnTo>
                    <a:lnTo>
                      <a:pt x="30" y="256"/>
                    </a:lnTo>
                    <a:lnTo>
                      <a:pt x="33" y="227"/>
                    </a:lnTo>
                    <a:lnTo>
                      <a:pt x="40" y="198"/>
                    </a:lnTo>
                    <a:lnTo>
                      <a:pt x="50" y="171"/>
                    </a:lnTo>
                    <a:lnTo>
                      <a:pt x="63" y="144"/>
                    </a:lnTo>
                    <a:lnTo>
                      <a:pt x="77" y="119"/>
                    </a:lnTo>
                    <a:lnTo>
                      <a:pt x="95" y="95"/>
                    </a:lnTo>
                    <a:lnTo>
                      <a:pt x="117" y="74"/>
                    </a:lnTo>
                    <a:close/>
                  </a:path>
                </a:pathLst>
              </a:custGeom>
              <a:solidFill>
                <a:srgbClr val="42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108400" y="3332520"/>
                <a:ext cx="138240" cy="165600"/>
              </a:xfrm>
              <a:custGeom>
                <a:avLst/>
                <a:gdLst/>
                <a:ahLst/>
                <a:rect l="l" t="t" r="r" b="b"/>
                <a:pathLst>
                  <a:path w="484" h="579">
                    <a:moveTo>
                      <a:pt x="174" y="0"/>
                    </a:moveTo>
                    <a:lnTo>
                      <a:pt x="150" y="10"/>
                    </a:lnTo>
                    <a:lnTo>
                      <a:pt x="129" y="25"/>
                    </a:lnTo>
                    <a:lnTo>
                      <a:pt x="107" y="42"/>
                    </a:lnTo>
                    <a:lnTo>
                      <a:pt x="88" y="61"/>
                    </a:lnTo>
                    <a:lnTo>
                      <a:pt x="66" y="82"/>
                    </a:lnTo>
                    <a:lnTo>
                      <a:pt x="48" y="106"/>
                    </a:lnTo>
                    <a:lnTo>
                      <a:pt x="34" y="131"/>
                    </a:lnTo>
                    <a:lnTo>
                      <a:pt x="21" y="158"/>
                    </a:lnTo>
                    <a:lnTo>
                      <a:pt x="11" y="185"/>
                    </a:lnTo>
                    <a:lnTo>
                      <a:pt x="4" y="214"/>
                    </a:lnTo>
                    <a:lnTo>
                      <a:pt x="1" y="243"/>
                    </a:lnTo>
                    <a:lnTo>
                      <a:pt x="0" y="275"/>
                    </a:lnTo>
                    <a:lnTo>
                      <a:pt x="1" y="305"/>
                    </a:lnTo>
                    <a:lnTo>
                      <a:pt x="4" y="334"/>
                    </a:lnTo>
                    <a:lnTo>
                      <a:pt x="6" y="348"/>
                    </a:lnTo>
                    <a:lnTo>
                      <a:pt x="11" y="363"/>
                    </a:lnTo>
                    <a:lnTo>
                      <a:pt x="21" y="391"/>
                    </a:lnTo>
                    <a:lnTo>
                      <a:pt x="34" y="417"/>
                    </a:lnTo>
                    <a:lnTo>
                      <a:pt x="48" y="442"/>
                    </a:lnTo>
                    <a:lnTo>
                      <a:pt x="56" y="453"/>
                    </a:lnTo>
                    <a:lnTo>
                      <a:pt x="66" y="466"/>
                    </a:lnTo>
                    <a:lnTo>
                      <a:pt x="88" y="489"/>
                    </a:lnTo>
                    <a:lnTo>
                      <a:pt x="109" y="509"/>
                    </a:lnTo>
                    <a:lnTo>
                      <a:pt x="133" y="528"/>
                    </a:lnTo>
                    <a:lnTo>
                      <a:pt x="158" y="543"/>
                    </a:lnTo>
                    <a:lnTo>
                      <a:pt x="185" y="556"/>
                    </a:lnTo>
                    <a:lnTo>
                      <a:pt x="212" y="565"/>
                    </a:lnTo>
                    <a:lnTo>
                      <a:pt x="241" y="573"/>
                    </a:lnTo>
                    <a:lnTo>
                      <a:pt x="270" y="577"/>
                    </a:lnTo>
                    <a:lnTo>
                      <a:pt x="302" y="579"/>
                    </a:lnTo>
                    <a:lnTo>
                      <a:pt x="314" y="578"/>
                    </a:lnTo>
                    <a:lnTo>
                      <a:pt x="326" y="578"/>
                    </a:lnTo>
                    <a:lnTo>
                      <a:pt x="337" y="576"/>
                    </a:lnTo>
                    <a:lnTo>
                      <a:pt x="340" y="575"/>
                    </a:lnTo>
                    <a:lnTo>
                      <a:pt x="343" y="575"/>
                    </a:lnTo>
                    <a:lnTo>
                      <a:pt x="350" y="575"/>
                    </a:lnTo>
                    <a:lnTo>
                      <a:pt x="373" y="570"/>
                    </a:lnTo>
                    <a:lnTo>
                      <a:pt x="384" y="567"/>
                    </a:lnTo>
                    <a:lnTo>
                      <a:pt x="396" y="564"/>
                    </a:lnTo>
                    <a:lnTo>
                      <a:pt x="407" y="560"/>
                    </a:lnTo>
                    <a:lnTo>
                      <a:pt x="418" y="556"/>
                    </a:lnTo>
                    <a:lnTo>
                      <a:pt x="422" y="553"/>
                    </a:lnTo>
                    <a:lnTo>
                      <a:pt x="428" y="551"/>
                    </a:lnTo>
                    <a:lnTo>
                      <a:pt x="439" y="546"/>
                    </a:lnTo>
                    <a:lnTo>
                      <a:pt x="460" y="535"/>
                    </a:lnTo>
                    <a:lnTo>
                      <a:pt x="480" y="522"/>
                    </a:lnTo>
                    <a:lnTo>
                      <a:pt x="484" y="485"/>
                    </a:lnTo>
                    <a:lnTo>
                      <a:pt x="463" y="500"/>
                    </a:lnTo>
                    <a:lnTo>
                      <a:pt x="443" y="513"/>
                    </a:lnTo>
                    <a:lnTo>
                      <a:pt x="421" y="525"/>
                    </a:lnTo>
                    <a:lnTo>
                      <a:pt x="410" y="529"/>
                    </a:lnTo>
                    <a:lnTo>
                      <a:pt x="404" y="531"/>
                    </a:lnTo>
                    <a:lnTo>
                      <a:pt x="400" y="535"/>
                    </a:lnTo>
                    <a:lnTo>
                      <a:pt x="376" y="542"/>
                    </a:lnTo>
                    <a:lnTo>
                      <a:pt x="363" y="544"/>
                    </a:lnTo>
                    <a:lnTo>
                      <a:pt x="352" y="547"/>
                    </a:lnTo>
                    <a:lnTo>
                      <a:pt x="327" y="551"/>
                    </a:lnTo>
                    <a:lnTo>
                      <a:pt x="302" y="552"/>
                    </a:lnTo>
                    <a:lnTo>
                      <a:pt x="274" y="550"/>
                    </a:lnTo>
                    <a:lnTo>
                      <a:pt x="247" y="546"/>
                    </a:lnTo>
                    <a:lnTo>
                      <a:pt x="221" y="539"/>
                    </a:lnTo>
                    <a:lnTo>
                      <a:pt x="197" y="531"/>
                    </a:lnTo>
                    <a:lnTo>
                      <a:pt x="172" y="519"/>
                    </a:lnTo>
                    <a:lnTo>
                      <a:pt x="149" y="505"/>
                    </a:lnTo>
                    <a:lnTo>
                      <a:pt x="128" y="488"/>
                    </a:lnTo>
                    <a:lnTo>
                      <a:pt x="107" y="470"/>
                    </a:lnTo>
                    <a:lnTo>
                      <a:pt x="88" y="449"/>
                    </a:lnTo>
                    <a:lnTo>
                      <a:pt x="71" y="427"/>
                    </a:lnTo>
                    <a:lnTo>
                      <a:pt x="56" y="403"/>
                    </a:lnTo>
                    <a:lnTo>
                      <a:pt x="46" y="381"/>
                    </a:lnTo>
                    <a:lnTo>
                      <a:pt x="40" y="367"/>
                    </a:lnTo>
                    <a:lnTo>
                      <a:pt x="37" y="355"/>
                    </a:lnTo>
                    <a:lnTo>
                      <a:pt x="31" y="330"/>
                    </a:lnTo>
                    <a:lnTo>
                      <a:pt x="28" y="302"/>
                    </a:lnTo>
                    <a:lnTo>
                      <a:pt x="27" y="275"/>
                    </a:lnTo>
                    <a:lnTo>
                      <a:pt x="28" y="247"/>
                    </a:lnTo>
                    <a:lnTo>
                      <a:pt x="31" y="220"/>
                    </a:lnTo>
                    <a:lnTo>
                      <a:pt x="37" y="194"/>
                    </a:lnTo>
                    <a:lnTo>
                      <a:pt x="46" y="170"/>
                    </a:lnTo>
                    <a:lnTo>
                      <a:pt x="56" y="145"/>
                    </a:lnTo>
                    <a:lnTo>
                      <a:pt x="71" y="122"/>
                    </a:lnTo>
                    <a:lnTo>
                      <a:pt x="88" y="101"/>
                    </a:lnTo>
                    <a:lnTo>
                      <a:pt x="107" y="80"/>
                    </a:lnTo>
                    <a:lnTo>
                      <a:pt x="130" y="59"/>
                    </a:lnTo>
                    <a:lnTo>
                      <a:pt x="155" y="41"/>
                    </a:lnTo>
                    <a:lnTo>
                      <a:pt x="180" y="26"/>
                    </a:lnTo>
                    <a:lnTo>
                      <a:pt x="208" y="16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46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044680" y="3322800"/>
                <a:ext cx="173880" cy="237960"/>
              </a:xfrm>
              <a:custGeom>
                <a:avLst/>
                <a:gdLst/>
                <a:ahLst/>
                <a:rect l="l" t="t" r="r" b="b"/>
                <a:pathLst>
                  <a:path w="607" h="833">
                    <a:moveTo>
                      <a:pt x="136" y="0"/>
                    </a:moveTo>
                    <a:lnTo>
                      <a:pt x="97" y="5"/>
                    </a:lnTo>
                    <a:lnTo>
                      <a:pt x="73" y="38"/>
                    </a:lnTo>
                    <a:lnTo>
                      <a:pt x="54" y="73"/>
                    </a:lnTo>
                    <a:lnTo>
                      <a:pt x="37" y="109"/>
                    </a:lnTo>
                    <a:lnTo>
                      <a:pt x="24" y="147"/>
                    </a:lnTo>
                    <a:lnTo>
                      <a:pt x="13" y="184"/>
                    </a:lnTo>
                    <a:lnTo>
                      <a:pt x="6" y="225"/>
                    </a:lnTo>
                    <a:lnTo>
                      <a:pt x="2" y="266"/>
                    </a:lnTo>
                    <a:lnTo>
                      <a:pt x="0" y="309"/>
                    </a:lnTo>
                    <a:lnTo>
                      <a:pt x="0" y="335"/>
                    </a:lnTo>
                    <a:lnTo>
                      <a:pt x="3" y="362"/>
                    </a:lnTo>
                    <a:lnTo>
                      <a:pt x="5" y="387"/>
                    </a:lnTo>
                    <a:lnTo>
                      <a:pt x="9" y="414"/>
                    </a:lnTo>
                    <a:lnTo>
                      <a:pt x="14" y="437"/>
                    </a:lnTo>
                    <a:lnTo>
                      <a:pt x="21" y="462"/>
                    </a:lnTo>
                    <a:lnTo>
                      <a:pt x="39" y="510"/>
                    </a:lnTo>
                    <a:lnTo>
                      <a:pt x="48" y="531"/>
                    </a:lnTo>
                    <a:lnTo>
                      <a:pt x="59" y="554"/>
                    </a:lnTo>
                    <a:lnTo>
                      <a:pt x="72" y="576"/>
                    </a:lnTo>
                    <a:lnTo>
                      <a:pt x="87" y="598"/>
                    </a:lnTo>
                    <a:lnTo>
                      <a:pt x="101" y="619"/>
                    </a:lnTo>
                    <a:lnTo>
                      <a:pt x="118" y="640"/>
                    </a:lnTo>
                    <a:lnTo>
                      <a:pt x="135" y="660"/>
                    </a:lnTo>
                    <a:lnTo>
                      <a:pt x="155" y="680"/>
                    </a:lnTo>
                    <a:lnTo>
                      <a:pt x="192" y="714"/>
                    </a:lnTo>
                    <a:lnTo>
                      <a:pt x="234" y="746"/>
                    </a:lnTo>
                    <a:lnTo>
                      <a:pt x="254" y="759"/>
                    </a:lnTo>
                    <a:lnTo>
                      <a:pt x="276" y="772"/>
                    </a:lnTo>
                    <a:lnTo>
                      <a:pt x="322" y="794"/>
                    </a:lnTo>
                    <a:lnTo>
                      <a:pt x="369" y="810"/>
                    </a:lnTo>
                    <a:lnTo>
                      <a:pt x="394" y="817"/>
                    </a:lnTo>
                    <a:lnTo>
                      <a:pt x="419" y="823"/>
                    </a:lnTo>
                    <a:lnTo>
                      <a:pt x="470" y="830"/>
                    </a:lnTo>
                    <a:lnTo>
                      <a:pt x="497" y="832"/>
                    </a:lnTo>
                    <a:lnTo>
                      <a:pt x="524" y="833"/>
                    </a:lnTo>
                    <a:lnTo>
                      <a:pt x="538" y="832"/>
                    </a:lnTo>
                    <a:lnTo>
                      <a:pt x="553" y="832"/>
                    </a:lnTo>
                    <a:lnTo>
                      <a:pt x="582" y="831"/>
                    </a:lnTo>
                    <a:lnTo>
                      <a:pt x="607" y="799"/>
                    </a:lnTo>
                    <a:lnTo>
                      <a:pt x="566" y="804"/>
                    </a:lnTo>
                    <a:lnTo>
                      <a:pt x="555" y="804"/>
                    </a:lnTo>
                    <a:lnTo>
                      <a:pt x="549" y="804"/>
                    </a:lnTo>
                    <a:lnTo>
                      <a:pt x="545" y="805"/>
                    </a:lnTo>
                    <a:lnTo>
                      <a:pt x="524" y="806"/>
                    </a:lnTo>
                    <a:lnTo>
                      <a:pt x="473" y="804"/>
                    </a:lnTo>
                    <a:lnTo>
                      <a:pt x="424" y="797"/>
                    </a:lnTo>
                    <a:lnTo>
                      <a:pt x="378" y="785"/>
                    </a:lnTo>
                    <a:lnTo>
                      <a:pt x="334" y="770"/>
                    </a:lnTo>
                    <a:lnTo>
                      <a:pt x="290" y="749"/>
                    </a:lnTo>
                    <a:lnTo>
                      <a:pt x="250" y="724"/>
                    </a:lnTo>
                    <a:lnTo>
                      <a:pt x="210" y="695"/>
                    </a:lnTo>
                    <a:lnTo>
                      <a:pt x="174" y="661"/>
                    </a:lnTo>
                    <a:lnTo>
                      <a:pt x="156" y="641"/>
                    </a:lnTo>
                    <a:lnTo>
                      <a:pt x="140" y="623"/>
                    </a:lnTo>
                    <a:lnTo>
                      <a:pt x="124" y="603"/>
                    </a:lnTo>
                    <a:lnTo>
                      <a:pt x="110" y="584"/>
                    </a:lnTo>
                    <a:lnTo>
                      <a:pt x="97" y="562"/>
                    </a:lnTo>
                    <a:lnTo>
                      <a:pt x="85" y="542"/>
                    </a:lnTo>
                    <a:lnTo>
                      <a:pt x="74" y="520"/>
                    </a:lnTo>
                    <a:lnTo>
                      <a:pt x="65" y="500"/>
                    </a:lnTo>
                    <a:lnTo>
                      <a:pt x="49" y="454"/>
                    </a:lnTo>
                    <a:lnTo>
                      <a:pt x="42" y="431"/>
                    </a:lnTo>
                    <a:lnTo>
                      <a:pt x="38" y="408"/>
                    </a:lnTo>
                    <a:lnTo>
                      <a:pt x="33" y="383"/>
                    </a:lnTo>
                    <a:lnTo>
                      <a:pt x="31" y="359"/>
                    </a:lnTo>
                    <a:lnTo>
                      <a:pt x="29" y="309"/>
                    </a:lnTo>
                    <a:lnTo>
                      <a:pt x="30" y="265"/>
                    </a:lnTo>
                    <a:lnTo>
                      <a:pt x="34" y="223"/>
                    </a:lnTo>
                    <a:lnTo>
                      <a:pt x="42" y="181"/>
                    </a:lnTo>
                    <a:lnTo>
                      <a:pt x="55" y="143"/>
                    </a:lnTo>
                    <a:lnTo>
                      <a:pt x="70" y="104"/>
                    </a:lnTo>
                    <a:lnTo>
                      <a:pt x="89" y="68"/>
                    </a:lnTo>
                    <a:lnTo>
                      <a:pt x="110" y="33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2c4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131800" y="3348720"/>
                <a:ext cx="113760" cy="125640"/>
              </a:xfrm>
              <a:custGeom>
                <a:avLst/>
                <a:gdLst/>
                <a:ahLst/>
                <a:rect l="l" t="t" r="r" b="b"/>
                <a:pathLst>
                  <a:path w="398" h="440">
                    <a:moveTo>
                      <a:pt x="27" y="219"/>
                    </a:moveTo>
                    <a:lnTo>
                      <a:pt x="27" y="199"/>
                    </a:lnTo>
                    <a:lnTo>
                      <a:pt x="31" y="181"/>
                    </a:lnTo>
                    <a:lnTo>
                      <a:pt x="41" y="146"/>
                    </a:lnTo>
                    <a:lnTo>
                      <a:pt x="58" y="113"/>
                    </a:lnTo>
                    <a:lnTo>
                      <a:pt x="69" y="97"/>
                    </a:lnTo>
                    <a:lnTo>
                      <a:pt x="84" y="83"/>
                    </a:lnTo>
                    <a:lnTo>
                      <a:pt x="98" y="68"/>
                    </a:lnTo>
                    <a:lnTo>
                      <a:pt x="114" y="57"/>
                    </a:lnTo>
                    <a:lnTo>
                      <a:pt x="147" y="40"/>
                    </a:lnTo>
                    <a:lnTo>
                      <a:pt x="182" y="30"/>
                    </a:lnTo>
                    <a:lnTo>
                      <a:pt x="200" y="26"/>
                    </a:lnTo>
                    <a:lnTo>
                      <a:pt x="220" y="26"/>
                    </a:lnTo>
                    <a:lnTo>
                      <a:pt x="225" y="26"/>
                    </a:lnTo>
                    <a:lnTo>
                      <a:pt x="192" y="0"/>
                    </a:lnTo>
                    <a:lnTo>
                      <a:pt x="157" y="7"/>
                    </a:lnTo>
                    <a:lnTo>
                      <a:pt x="124" y="21"/>
                    </a:lnTo>
                    <a:lnTo>
                      <a:pt x="93" y="39"/>
                    </a:lnTo>
                    <a:lnTo>
                      <a:pt x="65" y="64"/>
                    </a:lnTo>
                    <a:lnTo>
                      <a:pt x="48" y="80"/>
                    </a:lnTo>
                    <a:lnTo>
                      <a:pt x="35" y="97"/>
                    </a:lnTo>
                    <a:lnTo>
                      <a:pt x="16" y="134"/>
                    </a:lnTo>
                    <a:lnTo>
                      <a:pt x="8" y="153"/>
                    </a:lnTo>
                    <a:lnTo>
                      <a:pt x="4" y="175"/>
                    </a:lnTo>
                    <a:lnTo>
                      <a:pt x="0" y="219"/>
                    </a:lnTo>
                    <a:lnTo>
                      <a:pt x="0" y="241"/>
                    </a:lnTo>
                    <a:lnTo>
                      <a:pt x="4" y="262"/>
                    </a:lnTo>
                    <a:lnTo>
                      <a:pt x="8" y="283"/>
                    </a:lnTo>
                    <a:lnTo>
                      <a:pt x="16" y="303"/>
                    </a:lnTo>
                    <a:lnTo>
                      <a:pt x="24" y="321"/>
                    </a:lnTo>
                    <a:lnTo>
                      <a:pt x="35" y="341"/>
                    </a:lnTo>
                    <a:lnTo>
                      <a:pt x="48" y="358"/>
                    </a:lnTo>
                    <a:lnTo>
                      <a:pt x="65" y="376"/>
                    </a:lnTo>
                    <a:lnTo>
                      <a:pt x="81" y="390"/>
                    </a:lnTo>
                    <a:lnTo>
                      <a:pt x="98" y="403"/>
                    </a:lnTo>
                    <a:lnTo>
                      <a:pt x="116" y="413"/>
                    </a:lnTo>
                    <a:lnTo>
                      <a:pt x="135" y="423"/>
                    </a:lnTo>
                    <a:lnTo>
                      <a:pt x="154" y="430"/>
                    </a:lnTo>
                    <a:lnTo>
                      <a:pt x="176" y="436"/>
                    </a:lnTo>
                    <a:lnTo>
                      <a:pt x="198" y="439"/>
                    </a:lnTo>
                    <a:lnTo>
                      <a:pt x="220" y="440"/>
                    </a:lnTo>
                    <a:lnTo>
                      <a:pt x="225" y="439"/>
                    </a:lnTo>
                    <a:lnTo>
                      <a:pt x="230" y="439"/>
                    </a:lnTo>
                    <a:lnTo>
                      <a:pt x="242" y="439"/>
                    </a:lnTo>
                    <a:lnTo>
                      <a:pt x="252" y="437"/>
                    </a:lnTo>
                    <a:lnTo>
                      <a:pt x="263" y="436"/>
                    </a:lnTo>
                    <a:lnTo>
                      <a:pt x="284" y="430"/>
                    </a:lnTo>
                    <a:lnTo>
                      <a:pt x="304" y="423"/>
                    </a:lnTo>
                    <a:lnTo>
                      <a:pt x="322" y="413"/>
                    </a:lnTo>
                    <a:lnTo>
                      <a:pt x="331" y="407"/>
                    </a:lnTo>
                    <a:lnTo>
                      <a:pt x="342" y="403"/>
                    </a:lnTo>
                    <a:lnTo>
                      <a:pt x="350" y="396"/>
                    </a:lnTo>
                    <a:lnTo>
                      <a:pt x="359" y="390"/>
                    </a:lnTo>
                    <a:lnTo>
                      <a:pt x="377" y="376"/>
                    </a:lnTo>
                    <a:lnTo>
                      <a:pt x="381" y="369"/>
                    </a:lnTo>
                    <a:lnTo>
                      <a:pt x="384" y="365"/>
                    </a:lnTo>
                    <a:lnTo>
                      <a:pt x="387" y="363"/>
                    </a:lnTo>
                    <a:lnTo>
                      <a:pt x="398" y="351"/>
                    </a:lnTo>
                    <a:lnTo>
                      <a:pt x="391" y="310"/>
                    </a:lnTo>
                    <a:lnTo>
                      <a:pt x="384" y="321"/>
                    </a:lnTo>
                    <a:lnTo>
                      <a:pt x="379" y="327"/>
                    </a:lnTo>
                    <a:lnTo>
                      <a:pt x="376" y="334"/>
                    </a:lnTo>
                    <a:lnTo>
                      <a:pt x="357" y="356"/>
                    </a:lnTo>
                    <a:lnTo>
                      <a:pt x="342" y="369"/>
                    </a:lnTo>
                    <a:lnTo>
                      <a:pt x="327" y="380"/>
                    </a:lnTo>
                    <a:lnTo>
                      <a:pt x="310" y="389"/>
                    </a:lnTo>
                    <a:lnTo>
                      <a:pt x="294" y="397"/>
                    </a:lnTo>
                    <a:lnTo>
                      <a:pt x="276" y="403"/>
                    </a:lnTo>
                    <a:lnTo>
                      <a:pt x="258" y="407"/>
                    </a:lnTo>
                    <a:lnTo>
                      <a:pt x="252" y="407"/>
                    </a:lnTo>
                    <a:lnTo>
                      <a:pt x="247" y="409"/>
                    </a:lnTo>
                    <a:lnTo>
                      <a:pt x="238" y="411"/>
                    </a:lnTo>
                    <a:lnTo>
                      <a:pt x="220" y="412"/>
                    </a:lnTo>
                    <a:lnTo>
                      <a:pt x="200" y="411"/>
                    </a:lnTo>
                    <a:lnTo>
                      <a:pt x="182" y="407"/>
                    </a:lnTo>
                    <a:lnTo>
                      <a:pt x="164" y="403"/>
                    </a:lnTo>
                    <a:lnTo>
                      <a:pt x="147" y="397"/>
                    </a:lnTo>
                    <a:lnTo>
                      <a:pt x="130" y="389"/>
                    </a:lnTo>
                    <a:lnTo>
                      <a:pt x="114" y="380"/>
                    </a:lnTo>
                    <a:lnTo>
                      <a:pt x="98" y="369"/>
                    </a:lnTo>
                    <a:lnTo>
                      <a:pt x="84" y="356"/>
                    </a:lnTo>
                    <a:lnTo>
                      <a:pt x="69" y="341"/>
                    </a:lnTo>
                    <a:lnTo>
                      <a:pt x="58" y="326"/>
                    </a:lnTo>
                    <a:lnTo>
                      <a:pt x="48" y="309"/>
                    </a:lnTo>
                    <a:lnTo>
                      <a:pt x="41" y="293"/>
                    </a:lnTo>
                    <a:lnTo>
                      <a:pt x="34" y="275"/>
                    </a:lnTo>
                    <a:lnTo>
                      <a:pt x="31" y="257"/>
                    </a:lnTo>
                    <a:lnTo>
                      <a:pt x="27" y="237"/>
                    </a:lnTo>
                    <a:lnTo>
                      <a:pt x="27" y="219"/>
                    </a:lnTo>
                    <a:close/>
                  </a:path>
                </a:pathLst>
              </a:custGeom>
              <a:solidFill>
                <a:srgbClr val="4f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139720" y="3356280"/>
                <a:ext cx="104040" cy="110160"/>
              </a:xfrm>
              <a:custGeom>
                <a:avLst/>
                <a:gdLst/>
                <a:ahLst/>
                <a:rect l="l" t="t" r="r" b="b"/>
                <a:pathLst>
                  <a:path w="364" h="386">
                    <a:moveTo>
                      <a:pt x="57" y="57"/>
                    </a:moveTo>
                    <a:lnTo>
                      <a:pt x="42" y="71"/>
                    </a:lnTo>
                    <a:lnTo>
                      <a:pt x="31" y="87"/>
                    </a:lnTo>
                    <a:lnTo>
                      <a:pt x="14" y="120"/>
                    </a:lnTo>
                    <a:lnTo>
                      <a:pt x="4" y="155"/>
                    </a:lnTo>
                    <a:lnTo>
                      <a:pt x="0" y="173"/>
                    </a:lnTo>
                    <a:lnTo>
                      <a:pt x="0" y="193"/>
                    </a:lnTo>
                    <a:lnTo>
                      <a:pt x="0" y="211"/>
                    </a:lnTo>
                    <a:lnTo>
                      <a:pt x="4" y="231"/>
                    </a:lnTo>
                    <a:lnTo>
                      <a:pt x="7" y="249"/>
                    </a:lnTo>
                    <a:lnTo>
                      <a:pt x="14" y="267"/>
                    </a:lnTo>
                    <a:lnTo>
                      <a:pt x="21" y="283"/>
                    </a:lnTo>
                    <a:lnTo>
                      <a:pt x="31" y="300"/>
                    </a:lnTo>
                    <a:lnTo>
                      <a:pt x="42" y="315"/>
                    </a:lnTo>
                    <a:lnTo>
                      <a:pt x="57" y="330"/>
                    </a:lnTo>
                    <a:lnTo>
                      <a:pt x="71" y="343"/>
                    </a:lnTo>
                    <a:lnTo>
                      <a:pt x="87" y="354"/>
                    </a:lnTo>
                    <a:lnTo>
                      <a:pt x="103" y="363"/>
                    </a:lnTo>
                    <a:lnTo>
                      <a:pt x="120" y="371"/>
                    </a:lnTo>
                    <a:lnTo>
                      <a:pt x="137" y="377"/>
                    </a:lnTo>
                    <a:lnTo>
                      <a:pt x="155" y="381"/>
                    </a:lnTo>
                    <a:lnTo>
                      <a:pt x="173" y="385"/>
                    </a:lnTo>
                    <a:lnTo>
                      <a:pt x="193" y="386"/>
                    </a:lnTo>
                    <a:lnTo>
                      <a:pt x="211" y="385"/>
                    </a:lnTo>
                    <a:lnTo>
                      <a:pt x="220" y="383"/>
                    </a:lnTo>
                    <a:lnTo>
                      <a:pt x="225" y="381"/>
                    </a:lnTo>
                    <a:lnTo>
                      <a:pt x="231" y="381"/>
                    </a:lnTo>
                    <a:lnTo>
                      <a:pt x="249" y="377"/>
                    </a:lnTo>
                    <a:lnTo>
                      <a:pt x="267" y="371"/>
                    </a:lnTo>
                    <a:lnTo>
                      <a:pt x="283" y="363"/>
                    </a:lnTo>
                    <a:lnTo>
                      <a:pt x="300" y="354"/>
                    </a:lnTo>
                    <a:lnTo>
                      <a:pt x="315" y="343"/>
                    </a:lnTo>
                    <a:lnTo>
                      <a:pt x="330" y="330"/>
                    </a:lnTo>
                    <a:lnTo>
                      <a:pt x="349" y="308"/>
                    </a:lnTo>
                    <a:lnTo>
                      <a:pt x="352" y="301"/>
                    </a:lnTo>
                    <a:lnTo>
                      <a:pt x="357" y="295"/>
                    </a:lnTo>
                    <a:lnTo>
                      <a:pt x="364" y="284"/>
                    </a:lnTo>
                    <a:lnTo>
                      <a:pt x="354" y="237"/>
                    </a:lnTo>
                    <a:lnTo>
                      <a:pt x="350" y="246"/>
                    </a:lnTo>
                    <a:lnTo>
                      <a:pt x="347" y="251"/>
                    </a:lnTo>
                    <a:lnTo>
                      <a:pt x="346" y="253"/>
                    </a:lnTo>
                    <a:lnTo>
                      <a:pt x="346" y="257"/>
                    </a:lnTo>
                    <a:lnTo>
                      <a:pt x="342" y="266"/>
                    </a:lnTo>
                    <a:lnTo>
                      <a:pt x="337" y="276"/>
                    </a:lnTo>
                    <a:lnTo>
                      <a:pt x="330" y="284"/>
                    </a:lnTo>
                    <a:lnTo>
                      <a:pt x="325" y="293"/>
                    </a:lnTo>
                    <a:lnTo>
                      <a:pt x="318" y="301"/>
                    </a:lnTo>
                    <a:lnTo>
                      <a:pt x="311" y="310"/>
                    </a:lnTo>
                    <a:lnTo>
                      <a:pt x="298" y="320"/>
                    </a:lnTo>
                    <a:lnTo>
                      <a:pt x="291" y="325"/>
                    </a:lnTo>
                    <a:lnTo>
                      <a:pt x="287" y="327"/>
                    </a:lnTo>
                    <a:lnTo>
                      <a:pt x="285" y="330"/>
                    </a:lnTo>
                    <a:lnTo>
                      <a:pt x="281" y="332"/>
                    </a:lnTo>
                    <a:lnTo>
                      <a:pt x="277" y="334"/>
                    </a:lnTo>
                    <a:lnTo>
                      <a:pt x="270" y="338"/>
                    </a:lnTo>
                    <a:lnTo>
                      <a:pt x="257" y="346"/>
                    </a:lnTo>
                    <a:lnTo>
                      <a:pt x="241" y="351"/>
                    </a:lnTo>
                    <a:lnTo>
                      <a:pt x="226" y="355"/>
                    </a:lnTo>
                    <a:lnTo>
                      <a:pt x="209" y="358"/>
                    </a:lnTo>
                    <a:lnTo>
                      <a:pt x="193" y="359"/>
                    </a:lnTo>
                    <a:lnTo>
                      <a:pt x="176" y="358"/>
                    </a:lnTo>
                    <a:lnTo>
                      <a:pt x="160" y="355"/>
                    </a:lnTo>
                    <a:lnTo>
                      <a:pt x="130" y="346"/>
                    </a:lnTo>
                    <a:lnTo>
                      <a:pt x="101" y="330"/>
                    </a:lnTo>
                    <a:lnTo>
                      <a:pt x="88" y="320"/>
                    </a:lnTo>
                    <a:lnTo>
                      <a:pt x="76" y="310"/>
                    </a:lnTo>
                    <a:lnTo>
                      <a:pt x="64" y="296"/>
                    </a:lnTo>
                    <a:lnTo>
                      <a:pt x="54" y="284"/>
                    </a:lnTo>
                    <a:lnTo>
                      <a:pt x="45" y="270"/>
                    </a:lnTo>
                    <a:lnTo>
                      <a:pt x="39" y="257"/>
                    </a:lnTo>
                    <a:lnTo>
                      <a:pt x="33" y="241"/>
                    </a:lnTo>
                    <a:lnTo>
                      <a:pt x="30" y="226"/>
                    </a:lnTo>
                    <a:lnTo>
                      <a:pt x="28" y="209"/>
                    </a:lnTo>
                    <a:lnTo>
                      <a:pt x="28" y="193"/>
                    </a:lnTo>
                    <a:lnTo>
                      <a:pt x="30" y="160"/>
                    </a:lnTo>
                    <a:lnTo>
                      <a:pt x="39" y="130"/>
                    </a:lnTo>
                    <a:lnTo>
                      <a:pt x="54" y="101"/>
                    </a:lnTo>
                    <a:lnTo>
                      <a:pt x="64" y="88"/>
                    </a:lnTo>
                    <a:lnTo>
                      <a:pt x="76" y="76"/>
                    </a:lnTo>
                    <a:lnTo>
                      <a:pt x="88" y="64"/>
                    </a:lnTo>
                    <a:lnTo>
                      <a:pt x="101" y="54"/>
                    </a:lnTo>
                    <a:lnTo>
                      <a:pt x="130" y="39"/>
                    </a:lnTo>
                    <a:lnTo>
                      <a:pt x="160" y="30"/>
                    </a:lnTo>
                    <a:lnTo>
                      <a:pt x="193" y="28"/>
                    </a:lnTo>
                    <a:lnTo>
                      <a:pt x="213" y="29"/>
                    </a:lnTo>
                    <a:lnTo>
                      <a:pt x="231" y="32"/>
                    </a:lnTo>
                    <a:lnTo>
                      <a:pt x="226" y="28"/>
                    </a:lnTo>
                    <a:lnTo>
                      <a:pt x="211" y="13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173" y="0"/>
                    </a:lnTo>
                    <a:lnTo>
                      <a:pt x="155" y="4"/>
                    </a:lnTo>
                    <a:lnTo>
                      <a:pt x="120" y="14"/>
                    </a:lnTo>
                    <a:lnTo>
                      <a:pt x="87" y="31"/>
                    </a:lnTo>
                    <a:lnTo>
                      <a:pt x="71" y="42"/>
                    </a:lnTo>
                    <a:lnTo>
                      <a:pt x="57" y="57"/>
                    </a:lnTo>
                    <a:close/>
                  </a:path>
                </a:pathLst>
              </a:custGeom>
              <a:solidFill>
                <a:srgbClr val="52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124240" y="334224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428" h="489">
                    <a:moveTo>
                      <a:pt x="27" y="240"/>
                    </a:moveTo>
                    <a:lnTo>
                      <a:pt x="31" y="196"/>
                    </a:lnTo>
                    <a:lnTo>
                      <a:pt x="35" y="174"/>
                    </a:lnTo>
                    <a:lnTo>
                      <a:pt x="43" y="155"/>
                    </a:lnTo>
                    <a:lnTo>
                      <a:pt x="62" y="118"/>
                    </a:lnTo>
                    <a:lnTo>
                      <a:pt x="75" y="101"/>
                    </a:lnTo>
                    <a:lnTo>
                      <a:pt x="92" y="85"/>
                    </a:lnTo>
                    <a:lnTo>
                      <a:pt x="120" y="60"/>
                    </a:lnTo>
                    <a:lnTo>
                      <a:pt x="151" y="42"/>
                    </a:lnTo>
                    <a:lnTo>
                      <a:pt x="184" y="28"/>
                    </a:lnTo>
                    <a:lnTo>
                      <a:pt x="219" y="21"/>
                    </a:lnTo>
                    <a:lnTo>
                      <a:pt x="187" y="0"/>
                    </a:lnTo>
                    <a:lnTo>
                      <a:pt x="154" y="9"/>
                    </a:lnTo>
                    <a:lnTo>
                      <a:pt x="126" y="23"/>
                    </a:lnTo>
                    <a:lnTo>
                      <a:pt x="98" y="41"/>
                    </a:lnTo>
                    <a:lnTo>
                      <a:pt x="73" y="64"/>
                    </a:lnTo>
                    <a:lnTo>
                      <a:pt x="56" y="83"/>
                    </a:lnTo>
                    <a:lnTo>
                      <a:pt x="41" y="102"/>
                    </a:lnTo>
                    <a:lnTo>
                      <a:pt x="28" y="122"/>
                    </a:lnTo>
                    <a:lnTo>
                      <a:pt x="18" y="145"/>
                    </a:lnTo>
                    <a:lnTo>
                      <a:pt x="10" y="167"/>
                    </a:lnTo>
                    <a:lnTo>
                      <a:pt x="5" y="190"/>
                    </a:lnTo>
                    <a:lnTo>
                      <a:pt x="1" y="214"/>
                    </a:lnTo>
                    <a:lnTo>
                      <a:pt x="0" y="240"/>
                    </a:lnTo>
                    <a:lnTo>
                      <a:pt x="1" y="264"/>
                    </a:lnTo>
                    <a:lnTo>
                      <a:pt x="5" y="289"/>
                    </a:lnTo>
                    <a:lnTo>
                      <a:pt x="10" y="312"/>
                    </a:lnTo>
                    <a:lnTo>
                      <a:pt x="18" y="335"/>
                    </a:lnTo>
                    <a:lnTo>
                      <a:pt x="28" y="356"/>
                    </a:lnTo>
                    <a:lnTo>
                      <a:pt x="41" y="377"/>
                    </a:lnTo>
                    <a:lnTo>
                      <a:pt x="56" y="397"/>
                    </a:lnTo>
                    <a:lnTo>
                      <a:pt x="73" y="416"/>
                    </a:lnTo>
                    <a:lnTo>
                      <a:pt x="91" y="433"/>
                    </a:lnTo>
                    <a:lnTo>
                      <a:pt x="110" y="448"/>
                    </a:lnTo>
                    <a:lnTo>
                      <a:pt x="130" y="460"/>
                    </a:lnTo>
                    <a:lnTo>
                      <a:pt x="152" y="470"/>
                    </a:lnTo>
                    <a:lnTo>
                      <a:pt x="174" y="478"/>
                    </a:lnTo>
                    <a:lnTo>
                      <a:pt x="197" y="484"/>
                    </a:lnTo>
                    <a:lnTo>
                      <a:pt x="221" y="487"/>
                    </a:lnTo>
                    <a:lnTo>
                      <a:pt x="247" y="489"/>
                    </a:lnTo>
                    <a:lnTo>
                      <a:pt x="259" y="487"/>
                    </a:lnTo>
                    <a:lnTo>
                      <a:pt x="271" y="487"/>
                    </a:lnTo>
                    <a:lnTo>
                      <a:pt x="296" y="484"/>
                    </a:lnTo>
                    <a:lnTo>
                      <a:pt x="319" y="478"/>
                    </a:lnTo>
                    <a:lnTo>
                      <a:pt x="330" y="474"/>
                    </a:lnTo>
                    <a:lnTo>
                      <a:pt x="336" y="472"/>
                    </a:lnTo>
                    <a:lnTo>
                      <a:pt x="342" y="470"/>
                    </a:lnTo>
                    <a:lnTo>
                      <a:pt x="363" y="460"/>
                    </a:lnTo>
                    <a:lnTo>
                      <a:pt x="373" y="453"/>
                    </a:lnTo>
                    <a:lnTo>
                      <a:pt x="384" y="448"/>
                    </a:lnTo>
                    <a:lnTo>
                      <a:pt x="394" y="440"/>
                    </a:lnTo>
                    <a:lnTo>
                      <a:pt x="404" y="433"/>
                    </a:lnTo>
                    <a:lnTo>
                      <a:pt x="413" y="424"/>
                    </a:lnTo>
                    <a:lnTo>
                      <a:pt x="417" y="419"/>
                    </a:lnTo>
                    <a:lnTo>
                      <a:pt x="420" y="417"/>
                    </a:lnTo>
                    <a:lnTo>
                      <a:pt x="421" y="416"/>
                    </a:lnTo>
                    <a:lnTo>
                      <a:pt x="423" y="416"/>
                    </a:lnTo>
                    <a:lnTo>
                      <a:pt x="428" y="411"/>
                    </a:lnTo>
                    <a:lnTo>
                      <a:pt x="425" y="372"/>
                    </a:lnTo>
                    <a:lnTo>
                      <a:pt x="414" y="384"/>
                    </a:lnTo>
                    <a:lnTo>
                      <a:pt x="411" y="386"/>
                    </a:lnTo>
                    <a:lnTo>
                      <a:pt x="408" y="390"/>
                    </a:lnTo>
                    <a:lnTo>
                      <a:pt x="404" y="397"/>
                    </a:lnTo>
                    <a:lnTo>
                      <a:pt x="386" y="411"/>
                    </a:lnTo>
                    <a:lnTo>
                      <a:pt x="377" y="417"/>
                    </a:lnTo>
                    <a:lnTo>
                      <a:pt x="369" y="424"/>
                    </a:lnTo>
                    <a:lnTo>
                      <a:pt x="358" y="428"/>
                    </a:lnTo>
                    <a:lnTo>
                      <a:pt x="349" y="434"/>
                    </a:lnTo>
                    <a:lnTo>
                      <a:pt x="331" y="444"/>
                    </a:lnTo>
                    <a:lnTo>
                      <a:pt x="311" y="451"/>
                    </a:lnTo>
                    <a:lnTo>
                      <a:pt x="290" y="457"/>
                    </a:lnTo>
                    <a:lnTo>
                      <a:pt x="279" y="458"/>
                    </a:lnTo>
                    <a:lnTo>
                      <a:pt x="269" y="460"/>
                    </a:lnTo>
                    <a:lnTo>
                      <a:pt x="257" y="460"/>
                    </a:lnTo>
                    <a:lnTo>
                      <a:pt x="252" y="460"/>
                    </a:lnTo>
                    <a:lnTo>
                      <a:pt x="247" y="461"/>
                    </a:lnTo>
                    <a:lnTo>
                      <a:pt x="225" y="460"/>
                    </a:lnTo>
                    <a:lnTo>
                      <a:pt x="203" y="457"/>
                    </a:lnTo>
                    <a:lnTo>
                      <a:pt x="181" y="451"/>
                    </a:lnTo>
                    <a:lnTo>
                      <a:pt x="162" y="444"/>
                    </a:lnTo>
                    <a:lnTo>
                      <a:pt x="143" y="434"/>
                    </a:lnTo>
                    <a:lnTo>
                      <a:pt x="125" y="424"/>
                    </a:lnTo>
                    <a:lnTo>
                      <a:pt x="108" y="411"/>
                    </a:lnTo>
                    <a:lnTo>
                      <a:pt x="92" y="397"/>
                    </a:lnTo>
                    <a:lnTo>
                      <a:pt x="75" y="379"/>
                    </a:lnTo>
                    <a:lnTo>
                      <a:pt x="62" y="362"/>
                    </a:lnTo>
                    <a:lnTo>
                      <a:pt x="51" y="342"/>
                    </a:lnTo>
                    <a:lnTo>
                      <a:pt x="43" y="324"/>
                    </a:lnTo>
                    <a:lnTo>
                      <a:pt x="35" y="304"/>
                    </a:lnTo>
                    <a:lnTo>
                      <a:pt x="31" y="283"/>
                    </a:lnTo>
                    <a:lnTo>
                      <a:pt x="27" y="262"/>
                    </a:lnTo>
                    <a:lnTo>
                      <a:pt x="27" y="24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115600" y="3337200"/>
                <a:ext cx="130680" cy="153000"/>
              </a:xfrm>
              <a:custGeom>
                <a:avLst/>
                <a:gdLst/>
                <a:ahLst/>
                <a:rect l="l" t="t" r="r" b="b"/>
                <a:pathLst>
                  <a:path w="457" h="536">
                    <a:moveTo>
                      <a:pt x="28" y="259"/>
                    </a:moveTo>
                    <a:lnTo>
                      <a:pt x="29" y="233"/>
                    </a:lnTo>
                    <a:lnTo>
                      <a:pt x="33" y="209"/>
                    </a:lnTo>
                    <a:lnTo>
                      <a:pt x="38" y="186"/>
                    </a:lnTo>
                    <a:lnTo>
                      <a:pt x="46" y="164"/>
                    </a:lnTo>
                    <a:lnTo>
                      <a:pt x="56" y="141"/>
                    </a:lnTo>
                    <a:lnTo>
                      <a:pt x="69" y="121"/>
                    </a:lnTo>
                    <a:lnTo>
                      <a:pt x="84" y="102"/>
                    </a:lnTo>
                    <a:lnTo>
                      <a:pt x="101" y="83"/>
                    </a:lnTo>
                    <a:lnTo>
                      <a:pt x="126" y="60"/>
                    </a:lnTo>
                    <a:lnTo>
                      <a:pt x="154" y="42"/>
                    </a:lnTo>
                    <a:lnTo>
                      <a:pt x="182" y="28"/>
                    </a:lnTo>
                    <a:lnTo>
                      <a:pt x="215" y="19"/>
                    </a:lnTo>
                    <a:lnTo>
                      <a:pt x="181" y="0"/>
                    </a:lnTo>
                    <a:lnTo>
                      <a:pt x="153" y="10"/>
                    </a:lnTo>
                    <a:lnTo>
                      <a:pt x="128" y="25"/>
                    </a:lnTo>
                    <a:lnTo>
                      <a:pt x="103" y="43"/>
                    </a:lnTo>
                    <a:lnTo>
                      <a:pt x="80" y="64"/>
                    </a:lnTo>
                    <a:lnTo>
                      <a:pt x="61" y="85"/>
                    </a:lnTo>
                    <a:lnTo>
                      <a:pt x="44" y="106"/>
                    </a:lnTo>
                    <a:lnTo>
                      <a:pt x="29" y="129"/>
                    </a:lnTo>
                    <a:lnTo>
                      <a:pt x="19" y="154"/>
                    </a:lnTo>
                    <a:lnTo>
                      <a:pt x="10" y="178"/>
                    </a:lnTo>
                    <a:lnTo>
                      <a:pt x="4" y="204"/>
                    </a:lnTo>
                    <a:lnTo>
                      <a:pt x="1" y="231"/>
                    </a:lnTo>
                    <a:lnTo>
                      <a:pt x="0" y="259"/>
                    </a:lnTo>
                    <a:lnTo>
                      <a:pt x="1" y="286"/>
                    </a:lnTo>
                    <a:lnTo>
                      <a:pt x="4" y="314"/>
                    </a:lnTo>
                    <a:lnTo>
                      <a:pt x="10" y="339"/>
                    </a:lnTo>
                    <a:lnTo>
                      <a:pt x="13" y="351"/>
                    </a:lnTo>
                    <a:lnTo>
                      <a:pt x="19" y="365"/>
                    </a:lnTo>
                    <a:lnTo>
                      <a:pt x="29" y="387"/>
                    </a:lnTo>
                    <a:lnTo>
                      <a:pt x="44" y="411"/>
                    </a:lnTo>
                    <a:lnTo>
                      <a:pt x="61" y="433"/>
                    </a:lnTo>
                    <a:lnTo>
                      <a:pt x="80" y="454"/>
                    </a:lnTo>
                    <a:lnTo>
                      <a:pt x="101" y="472"/>
                    </a:lnTo>
                    <a:lnTo>
                      <a:pt x="122" y="489"/>
                    </a:lnTo>
                    <a:lnTo>
                      <a:pt x="145" y="503"/>
                    </a:lnTo>
                    <a:lnTo>
                      <a:pt x="170" y="515"/>
                    </a:lnTo>
                    <a:lnTo>
                      <a:pt x="194" y="523"/>
                    </a:lnTo>
                    <a:lnTo>
                      <a:pt x="220" y="530"/>
                    </a:lnTo>
                    <a:lnTo>
                      <a:pt x="247" y="534"/>
                    </a:lnTo>
                    <a:lnTo>
                      <a:pt x="275" y="536"/>
                    </a:lnTo>
                    <a:lnTo>
                      <a:pt x="300" y="535"/>
                    </a:lnTo>
                    <a:lnTo>
                      <a:pt x="325" y="531"/>
                    </a:lnTo>
                    <a:lnTo>
                      <a:pt x="336" y="528"/>
                    </a:lnTo>
                    <a:lnTo>
                      <a:pt x="349" y="526"/>
                    </a:lnTo>
                    <a:lnTo>
                      <a:pt x="373" y="519"/>
                    </a:lnTo>
                    <a:lnTo>
                      <a:pt x="377" y="515"/>
                    </a:lnTo>
                    <a:lnTo>
                      <a:pt x="383" y="513"/>
                    </a:lnTo>
                    <a:lnTo>
                      <a:pt x="394" y="509"/>
                    </a:lnTo>
                    <a:lnTo>
                      <a:pt x="416" y="497"/>
                    </a:lnTo>
                    <a:lnTo>
                      <a:pt x="436" y="484"/>
                    </a:lnTo>
                    <a:lnTo>
                      <a:pt x="457" y="469"/>
                    </a:lnTo>
                    <a:lnTo>
                      <a:pt x="457" y="450"/>
                    </a:lnTo>
                    <a:lnTo>
                      <a:pt x="456" y="430"/>
                    </a:lnTo>
                    <a:lnTo>
                      <a:pt x="451" y="435"/>
                    </a:lnTo>
                    <a:lnTo>
                      <a:pt x="449" y="435"/>
                    </a:lnTo>
                    <a:lnTo>
                      <a:pt x="448" y="436"/>
                    </a:lnTo>
                    <a:lnTo>
                      <a:pt x="445" y="438"/>
                    </a:lnTo>
                    <a:lnTo>
                      <a:pt x="441" y="443"/>
                    </a:lnTo>
                    <a:lnTo>
                      <a:pt x="432" y="452"/>
                    </a:lnTo>
                    <a:lnTo>
                      <a:pt x="422" y="459"/>
                    </a:lnTo>
                    <a:lnTo>
                      <a:pt x="412" y="467"/>
                    </a:lnTo>
                    <a:lnTo>
                      <a:pt x="401" y="472"/>
                    </a:lnTo>
                    <a:lnTo>
                      <a:pt x="391" y="479"/>
                    </a:lnTo>
                    <a:lnTo>
                      <a:pt x="370" y="489"/>
                    </a:lnTo>
                    <a:lnTo>
                      <a:pt x="364" y="491"/>
                    </a:lnTo>
                    <a:lnTo>
                      <a:pt x="358" y="493"/>
                    </a:lnTo>
                    <a:lnTo>
                      <a:pt x="347" y="497"/>
                    </a:lnTo>
                    <a:lnTo>
                      <a:pt x="324" y="503"/>
                    </a:lnTo>
                    <a:lnTo>
                      <a:pt x="299" y="506"/>
                    </a:lnTo>
                    <a:lnTo>
                      <a:pt x="287" y="506"/>
                    </a:lnTo>
                    <a:lnTo>
                      <a:pt x="275" y="508"/>
                    </a:lnTo>
                    <a:lnTo>
                      <a:pt x="249" y="506"/>
                    </a:lnTo>
                    <a:lnTo>
                      <a:pt x="225" y="503"/>
                    </a:lnTo>
                    <a:lnTo>
                      <a:pt x="202" y="497"/>
                    </a:lnTo>
                    <a:lnTo>
                      <a:pt x="180" y="489"/>
                    </a:lnTo>
                    <a:lnTo>
                      <a:pt x="158" y="479"/>
                    </a:lnTo>
                    <a:lnTo>
                      <a:pt x="138" y="467"/>
                    </a:lnTo>
                    <a:lnTo>
                      <a:pt x="119" y="452"/>
                    </a:lnTo>
                    <a:lnTo>
                      <a:pt x="101" y="435"/>
                    </a:lnTo>
                    <a:lnTo>
                      <a:pt x="84" y="416"/>
                    </a:lnTo>
                    <a:lnTo>
                      <a:pt x="69" y="396"/>
                    </a:lnTo>
                    <a:lnTo>
                      <a:pt x="56" y="375"/>
                    </a:lnTo>
                    <a:lnTo>
                      <a:pt x="46" y="354"/>
                    </a:lnTo>
                    <a:lnTo>
                      <a:pt x="38" y="331"/>
                    </a:lnTo>
                    <a:lnTo>
                      <a:pt x="33" y="308"/>
                    </a:lnTo>
                    <a:lnTo>
                      <a:pt x="29" y="283"/>
                    </a:lnTo>
                    <a:lnTo>
                      <a:pt x="28" y="259"/>
                    </a:lnTo>
                    <a:close/>
                  </a:path>
                </a:pathLst>
              </a:custGeom>
              <a:solidFill>
                <a:srgbClr val="49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052600" y="3321720"/>
                <a:ext cx="172080" cy="231120"/>
              </a:xfrm>
              <a:custGeom>
                <a:avLst/>
                <a:gdLst/>
                <a:ahLst/>
                <a:rect l="l" t="t" r="r" b="b"/>
                <a:pathLst>
                  <a:path w="601" h="810">
                    <a:moveTo>
                      <a:pt x="107" y="4"/>
                    </a:moveTo>
                    <a:lnTo>
                      <a:pt x="81" y="37"/>
                    </a:lnTo>
                    <a:lnTo>
                      <a:pt x="60" y="72"/>
                    </a:lnTo>
                    <a:lnTo>
                      <a:pt x="41" y="108"/>
                    </a:lnTo>
                    <a:lnTo>
                      <a:pt x="26" y="147"/>
                    </a:lnTo>
                    <a:lnTo>
                      <a:pt x="13" y="185"/>
                    </a:lnTo>
                    <a:lnTo>
                      <a:pt x="5" y="227"/>
                    </a:lnTo>
                    <a:lnTo>
                      <a:pt x="1" y="269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4" y="387"/>
                    </a:lnTo>
                    <a:lnTo>
                      <a:pt x="9" y="412"/>
                    </a:lnTo>
                    <a:lnTo>
                      <a:pt x="13" y="435"/>
                    </a:lnTo>
                    <a:lnTo>
                      <a:pt x="20" y="458"/>
                    </a:lnTo>
                    <a:lnTo>
                      <a:pt x="36" y="504"/>
                    </a:lnTo>
                    <a:lnTo>
                      <a:pt x="45" y="524"/>
                    </a:lnTo>
                    <a:lnTo>
                      <a:pt x="56" y="546"/>
                    </a:lnTo>
                    <a:lnTo>
                      <a:pt x="68" y="566"/>
                    </a:lnTo>
                    <a:lnTo>
                      <a:pt x="81" y="588"/>
                    </a:lnTo>
                    <a:lnTo>
                      <a:pt x="95" y="607"/>
                    </a:lnTo>
                    <a:lnTo>
                      <a:pt x="111" y="627"/>
                    </a:lnTo>
                    <a:lnTo>
                      <a:pt x="127" y="645"/>
                    </a:lnTo>
                    <a:lnTo>
                      <a:pt x="145" y="665"/>
                    </a:lnTo>
                    <a:lnTo>
                      <a:pt x="181" y="699"/>
                    </a:lnTo>
                    <a:lnTo>
                      <a:pt x="221" y="728"/>
                    </a:lnTo>
                    <a:lnTo>
                      <a:pt x="261" y="753"/>
                    </a:lnTo>
                    <a:lnTo>
                      <a:pt x="305" y="774"/>
                    </a:lnTo>
                    <a:lnTo>
                      <a:pt x="349" y="789"/>
                    </a:lnTo>
                    <a:lnTo>
                      <a:pt x="395" y="801"/>
                    </a:lnTo>
                    <a:lnTo>
                      <a:pt x="444" y="808"/>
                    </a:lnTo>
                    <a:lnTo>
                      <a:pt x="495" y="810"/>
                    </a:lnTo>
                    <a:lnTo>
                      <a:pt x="516" y="809"/>
                    </a:lnTo>
                    <a:lnTo>
                      <a:pt x="520" y="808"/>
                    </a:lnTo>
                    <a:lnTo>
                      <a:pt x="526" y="808"/>
                    </a:lnTo>
                    <a:lnTo>
                      <a:pt x="537" y="808"/>
                    </a:lnTo>
                    <a:lnTo>
                      <a:pt x="578" y="803"/>
                    </a:lnTo>
                    <a:lnTo>
                      <a:pt x="601" y="771"/>
                    </a:lnTo>
                    <a:lnTo>
                      <a:pt x="575" y="776"/>
                    </a:lnTo>
                    <a:lnTo>
                      <a:pt x="561" y="777"/>
                    </a:lnTo>
                    <a:lnTo>
                      <a:pt x="549" y="779"/>
                    </a:lnTo>
                    <a:lnTo>
                      <a:pt x="521" y="781"/>
                    </a:lnTo>
                    <a:lnTo>
                      <a:pt x="508" y="781"/>
                    </a:lnTo>
                    <a:lnTo>
                      <a:pt x="501" y="781"/>
                    </a:lnTo>
                    <a:lnTo>
                      <a:pt x="498" y="781"/>
                    </a:lnTo>
                    <a:lnTo>
                      <a:pt x="495" y="783"/>
                    </a:lnTo>
                    <a:lnTo>
                      <a:pt x="446" y="780"/>
                    </a:lnTo>
                    <a:lnTo>
                      <a:pt x="401" y="774"/>
                    </a:lnTo>
                    <a:lnTo>
                      <a:pt x="357" y="762"/>
                    </a:lnTo>
                    <a:lnTo>
                      <a:pt x="315" y="747"/>
                    </a:lnTo>
                    <a:lnTo>
                      <a:pt x="273" y="727"/>
                    </a:lnTo>
                    <a:lnTo>
                      <a:pt x="236" y="704"/>
                    </a:lnTo>
                    <a:lnTo>
                      <a:pt x="198" y="677"/>
                    </a:lnTo>
                    <a:lnTo>
                      <a:pt x="164" y="645"/>
                    </a:lnTo>
                    <a:lnTo>
                      <a:pt x="130" y="609"/>
                    </a:lnTo>
                    <a:lnTo>
                      <a:pt x="115" y="590"/>
                    </a:lnTo>
                    <a:lnTo>
                      <a:pt x="103" y="572"/>
                    </a:lnTo>
                    <a:lnTo>
                      <a:pt x="79" y="533"/>
                    </a:lnTo>
                    <a:lnTo>
                      <a:pt x="69" y="513"/>
                    </a:lnTo>
                    <a:lnTo>
                      <a:pt x="61" y="493"/>
                    </a:lnTo>
                    <a:lnTo>
                      <a:pt x="45" y="450"/>
                    </a:lnTo>
                    <a:lnTo>
                      <a:pt x="35" y="406"/>
                    </a:lnTo>
                    <a:lnTo>
                      <a:pt x="30" y="382"/>
                    </a:lnTo>
                    <a:lnTo>
                      <a:pt x="28" y="360"/>
                    </a:lnTo>
                    <a:lnTo>
                      <a:pt x="27" y="313"/>
                    </a:lnTo>
                    <a:lnTo>
                      <a:pt x="28" y="268"/>
                    </a:lnTo>
                    <a:lnTo>
                      <a:pt x="34" y="225"/>
                    </a:lnTo>
                    <a:lnTo>
                      <a:pt x="43" y="183"/>
                    </a:lnTo>
                    <a:lnTo>
                      <a:pt x="56" y="144"/>
                    </a:lnTo>
                    <a:lnTo>
                      <a:pt x="72" y="105"/>
                    </a:lnTo>
                    <a:lnTo>
                      <a:pt x="94" y="68"/>
                    </a:lnTo>
                    <a:lnTo>
                      <a:pt x="118" y="33"/>
                    </a:lnTo>
                    <a:lnTo>
                      <a:pt x="147" y="0"/>
                    </a:lnTo>
                    <a:lnTo>
                      <a:pt x="107" y="4"/>
                    </a:lnTo>
                    <a:close/>
                  </a:path>
                </a:pathLst>
              </a:custGeom>
              <a:solidFill>
                <a:srgbClr val="2f4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147280" y="3364200"/>
                <a:ext cx="93600" cy="93960"/>
              </a:xfrm>
              <a:custGeom>
                <a:avLst/>
                <a:gdLst/>
                <a:ahLst/>
                <a:rect l="l" t="t" r="r" b="b"/>
                <a:pathLst>
                  <a:path w="326" h="331">
                    <a:moveTo>
                      <a:pt x="203" y="4"/>
                    </a:moveTo>
                    <a:lnTo>
                      <a:pt x="185" y="1"/>
                    </a:lnTo>
                    <a:lnTo>
                      <a:pt x="165" y="0"/>
                    </a:lnTo>
                    <a:lnTo>
                      <a:pt x="132" y="2"/>
                    </a:lnTo>
                    <a:lnTo>
                      <a:pt x="102" y="11"/>
                    </a:lnTo>
                    <a:lnTo>
                      <a:pt x="73" y="26"/>
                    </a:lnTo>
                    <a:lnTo>
                      <a:pt x="60" y="36"/>
                    </a:lnTo>
                    <a:lnTo>
                      <a:pt x="48" y="48"/>
                    </a:lnTo>
                    <a:lnTo>
                      <a:pt x="36" y="60"/>
                    </a:lnTo>
                    <a:lnTo>
                      <a:pt x="26" y="73"/>
                    </a:lnTo>
                    <a:lnTo>
                      <a:pt x="11" y="102"/>
                    </a:lnTo>
                    <a:lnTo>
                      <a:pt x="2" y="132"/>
                    </a:lnTo>
                    <a:lnTo>
                      <a:pt x="0" y="165"/>
                    </a:lnTo>
                    <a:lnTo>
                      <a:pt x="0" y="181"/>
                    </a:lnTo>
                    <a:lnTo>
                      <a:pt x="2" y="198"/>
                    </a:lnTo>
                    <a:lnTo>
                      <a:pt x="5" y="213"/>
                    </a:lnTo>
                    <a:lnTo>
                      <a:pt x="11" y="229"/>
                    </a:lnTo>
                    <a:lnTo>
                      <a:pt x="17" y="242"/>
                    </a:lnTo>
                    <a:lnTo>
                      <a:pt x="26" y="256"/>
                    </a:lnTo>
                    <a:lnTo>
                      <a:pt x="36" y="268"/>
                    </a:lnTo>
                    <a:lnTo>
                      <a:pt x="48" y="282"/>
                    </a:lnTo>
                    <a:lnTo>
                      <a:pt x="60" y="292"/>
                    </a:lnTo>
                    <a:lnTo>
                      <a:pt x="73" y="302"/>
                    </a:lnTo>
                    <a:lnTo>
                      <a:pt x="102" y="318"/>
                    </a:lnTo>
                    <a:lnTo>
                      <a:pt x="132" y="327"/>
                    </a:lnTo>
                    <a:lnTo>
                      <a:pt x="148" y="330"/>
                    </a:lnTo>
                    <a:lnTo>
                      <a:pt x="165" y="331"/>
                    </a:lnTo>
                    <a:lnTo>
                      <a:pt x="181" y="330"/>
                    </a:lnTo>
                    <a:lnTo>
                      <a:pt x="198" y="327"/>
                    </a:lnTo>
                    <a:lnTo>
                      <a:pt x="213" y="323"/>
                    </a:lnTo>
                    <a:lnTo>
                      <a:pt x="229" y="318"/>
                    </a:lnTo>
                    <a:lnTo>
                      <a:pt x="242" y="310"/>
                    </a:lnTo>
                    <a:lnTo>
                      <a:pt x="249" y="306"/>
                    </a:lnTo>
                    <a:lnTo>
                      <a:pt x="253" y="304"/>
                    </a:lnTo>
                    <a:lnTo>
                      <a:pt x="257" y="302"/>
                    </a:lnTo>
                    <a:lnTo>
                      <a:pt x="259" y="299"/>
                    </a:lnTo>
                    <a:lnTo>
                      <a:pt x="263" y="297"/>
                    </a:lnTo>
                    <a:lnTo>
                      <a:pt x="270" y="292"/>
                    </a:lnTo>
                    <a:lnTo>
                      <a:pt x="283" y="282"/>
                    </a:lnTo>
                    <a:lnTo>
                      <a:pt x="290" y="273"/>
                    </a:lnTo>
                    <a:lnTo>
                      <a:pt x="297" y="265"/>
                    </a:lnTo>
                    <a:lnTo>
                      <a:pt x="302" y="256"/>
                    </a:lnTo>
                    <a:lnTo>
                      <a:pt x="309" y="248"/>
                    </a:lnTo>
                    <a:lnTo>
                      <a:pt x="314" y="238"/>
                    </a:lnTo>
                    <a:lnTo>
                      <a:pt x="318" y="229"/>
                    </a:lnTo>
                    <a:lnTo>
                      <a:pt x="318" y="225"/>
                    </a:lnTo>
                    <a:lnTo>
                      <a:pt x="319" y="223"/>
                    </a:lnTo>
                    <a:lnTo>
                      <a:pt x="322" y="218"/>
                    </a:lnTo>
                    <a:lnTo>
                      <a:pt x="326" y="209"/>
                    </a:lnTo>
                    <a:lnTo>
                      <a:pt x="315" y="178"/>
                    </a:lnTo>
                    <a:lnTo>
                      <a:pt x="302" y="146"/>
                    </a:lnTo>
                    <a:lnTo>
                      <a:pt x="302" y="155"/>
                    </a:lnTo>
                    <a:lnTo>
                      <a:pt x="302" y="160"/>
                    </a:lnTo>
                    <a:lnTo>
                      <a:pt x="302" y="162"/>
                    </a:lnTo>
                    <a:lnTo>
                      <a:pt x="302" y="163"/>
                    </a:lnTo>
                    <a:lnTo>
                      <a:pt x="304" y="165"/>
                    </a:lnTo>
                    <a:lnTo>
                      <a:pt x="302" y="167"/>
                    </a:lnTo>
                    <a:lnTo>
                      <a:pt x="302" y="171"/>
                    </a:lnTo>
                    <a:lnTo>
                      <a:pt x="302" y="178"/>
                    </a:lnTo>
                    <a:lnTo>
                      <a:pt x="300" y="191"/>
                    </a:lnTo>
                    <a:lnTo>
                      <a:pt x="298" y="197"/>
                    </a:lnTo>
                    <a:lnTo>
                      <a:pt x="297" y="204"/>
                    </a:lnTo>
                    <a:lnTo>
                      <a:pt x="293" y="217"/>
                    </a:lnTo>
                    <a:lnTo>
                      <a:pt x="287" y="229"/>
                    </a:lnTo>
                    <a:lnTo>
                      <a:pt x="280" y="241"/>
                    </a:lnTo>
                    <a:lnTo>
                      <a:pt x="275" y="246"/>
                    </a:lnTo>
                    <a:lnTo>
                      <a:pt x="273" y="248"/>
                    </a:lnTo>
                    <a:lnTo>
                      <a:pt x="272" y="248"/>
                    </a:lnTo>
                    <a:lnTo>
                      <a:pt x="272" y="249"/>
                    </a:lnTo>
                    <a:lnTo>
                      <a:pt x="272" y="251"/>
                    </a:lnTo>
                    <a:lnTo>
                      <a:pt x="263" y="263"/>
                    </a:lnTo>
                    <a:lnTo>
                      <a:pt x="251" y="272"/>
                    </a:lnTo>
                    <a:lnTo>
                      <a:pt x="249" y="272"/>
                    </a:lnTo>
                    <a:lnTo>
                      <a:pt x="248" y="272"/>
                    </a:lnTo>
                    <a:lnTo>
                      <a:pt x="248" y="273"/>
                    </a:lnTo>
                    <a:lnTo>
                      <a:pt x="246" y="275"/>
                    </a:lnTo>
                    <a:lnTo>
                      <a:pt x="241" y="280"/>
                    </a:lnTo>
                    <a:lnTo>
                      <a:pt x="229" y="287"/>
                    </a:lnTo>
                    <a:lnTo>
                      <a:pt x="217" y="293"/>
                    </a:lnTo>
                    <a:lnTo>
                      <a:pt x="204" y="297"/>
                    </a:lnTo>
                    <a:lnTo>
                      <a:pt x="197" y="298"/>
                    </a:lnTo>
                    <a:lnTo>
                      <a:pt x="191" y="300"/>
                    </a:lnTo>
                    <a:lnTo>
                      <a:pt x="178" y="302"/>
                    </a:lnTo>
                    <a:lnTo>
                      <a:pt x="171" y="302"/>
                    </a:lnTo>
                    <a:lnTo>
                      <a:pt x="168" y="302"/>
                    </a:lnTo>
                    <a:lnTo>
                      <a:pt x="165" y="304"/>
                    </a:lnTo>
                    <a:lnTo>
                      <a:pt x="151" y="302"/>
                    </a:lnTo>
                    <a:lnTo>
                      <a:pt x="137" y="300"/>
                    </a:lnTo>
                    <a:lnTo>
                      <a:pt x="112" y="293"/>
                    </a:lnTo>
                    <a:lnTo>
                      <a:pt x="88" y="280"/>
                    </a:lnTo>
                    <a:lnTo>
                      <a:pt x="77" y="272"/>
                    </a:lnTo>
                    <a:lnTo>
                      <a:pt x="68" y="263"/>
                    </a:lnTo>
                    <a:lnTo>
                      <a:pt x="58" y="251"/>
                    </a:lnTo>
                    <a:lnTo>
                      <a:pt x="50" y="241"/>
                    </a:lnTo>
                    <a:lnTo>
                      <a:pt x="42" y="229"/>
                    </a:lnTo>
                    <a:lnTo>
                      <a:pt x="37" y="217"/>
                    </a:lnTo>
                    <a:lnTo>
                      <a:pt x="33" y="204"/>
                    </a:lnTo>
                    <a:lnTo>
                      <a:pt x="30" y="191"/>
                    </a:lnTo>
                    <a:lnTo>
                      <a:pt x="28" y="178"/>
                    </a:lnTo>
                    <a:lnTo>
                      <a:pt x="28" y="165"/>
                    </a:lnTo>
                    <a:lnTo>
                      <a:pt x="30" y="137"/>
                    </a:lnTo>
                    <a:lnTo>
                      <a:pt x="37" y="112"/>
                    </a:lnTo>
                    <a:lnTo>
                      <a:pt x="50" y="88"/>
                    </a:lnTo>
                    <a:lnTo>
                      <a:pt x="68" y="68"/>
                    </a:lnTo>
                    <a:lnTo>
                      <a:pt x="88" y="50"/>
                    </a:lnTo>
                    <a:lnTo>
                      <a:pt x="112" y="37"/>
                    </a:lnTo>
                    <a:lnTo>
                      <a:pt x="137" y="30"/>
                    </a:lnTo>
                    <a:lnTo>
                      <a:pt x="165" y="28"/>
                    </a:lnTo>
                    <a:lnTo>
                      <a:pt x="187" y="29"/>
                    </a:lnTo>
                    <a:lnTo>
                      <a:pt x="207" y="34"/>
                    </a:lnTo>
                    <a:lnTo>
                      <a:pt x="226" y="42"/>
                    </a:lnTo>
                    <a:lnTo>
                      <a:pt x="236" y="46"/>
                    </a:lnTo>
                    <a:lnTo>
                      <a:pt x="246" y="53"/>
                    </a:lnTo>
                    <a:lnTo>
                      <a:pt x="224" y="27"/>
                    </a:lnTo>
                    <a:lnTo>
                      <a:pt x="203" y="4"/>
                    </a:lnTo>
                    <a:close/>
                  </a:path>
                </a:pathLst>
              </a:custGeom>
              <a:solidFill>
                <a:srgbClr val="56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155560" y="3372120"/>
                <a:ext cx="78120" cy="78840"/>
              </a:xfrm>
              <a:custGeom>
                <a:avLst/>
                <a:gdLst/>
                <a:ahLst/>
                <a:rect l="l" t="t" r="r" b="b"/>
                <a:pathLst>
                  <a:path w="276" h="276">
                    <a:moveTo>
                      <a:pt x="235" y="235"/>
                    </a:moveTo>
                    <a:lnTo>
                      <a:pt x="244" y="223"/>
                    </a:lnTo>
                    <a:lnTo>
                      <a:pt x="244" y="221"/>
                    </a:lnTo>
                    <a:lnTo>
                      <a:pt x="244" y="220"/>
                    </a:lnTo>
                    <a:lnTo>
                      <a:pt x="245" y="220"/>
                    </a:lnTo>
                    <a:lnTo>
                      <a:pt x="247" y="218"/>
                    </a:lnTo>
                    <a:lnTo>
                      <a:pt x="252" y="213"/>
                    </a:lnTo>
                    <a:lnTo>
                      <a:pt x="259" y="201"/>
                    </a:lnTo>
                    <a:lnTo>
                      <a:pt x="265" y="189"/>
                    </a:lnTo>
                    <a:lnTo>
                      <a:pt x="269" y="176"/>
                    </a:lnTo>
                    <a:lnTo>
                      <a:pt x="270" y="169"/>
                    </a:lnTo>
                    <a:lnTo>
                      <a:pt x="272" y="163"/>
                    </a:lnTo>
                    <a:lnTo>
                      <a:pt x="274" y="150"/>
                    </a:lnTo>
                    <a:lnTo>
                      <a:pt x="274" y="143"/>
                    </a:lnTo>
                    <a:lnTo>
                      <a:pt x="274" y="139"/>
                    </a:lnTo>
                    <a:lnTo>
                      <a:pt x="276" y="137"/>
                    </a:lnTo>
                    <a:lnTo>
                      <a:pt x="274" y="135"/>
                    </a:lnTo>
                    <a:lnTo>
                      <a:pt x="274" y="134"/>
                    </a:lnTo>
                    <a:lnTo>
                      <a:pt x="274" y="132"/>
                    </a:lnTo>
                    <a:lnTo>
                      <a:pt x="274" y="127"/>
                    </a:lnTo>
                    <a:lnTo>
                      <a:pt x="274" y="118"/>
                    </a:lnTo>
                    <a:lnTo>
                      <a:pt x="262" y="93"/>
                    </a:lnTo>
                    <a:lnTo>
                      <a:pt x="248" y="69"/>
                    </a:lnTo>
                    <a:lnTo>
                      <a:pt x="234" y="47"/>
                    </a:lnTo>
                    <a:lnTo>
                      <a:pt x="218" y="25"/>
                    </a:lnTo>
                    <a:lnTo>
                      <a:pt x="208" y="18"/>
                    </a:lnTo>
                    <a:lnTo>
                      <a:pt x="198" y="14"/>
                    </a:lnTo>
                    <a:lnTo>
                      <a:pt x="179" y="6"/>
                    </a:lnTo>
                    <a:lnTo>
                      <a:pt x="159" y="1"/>
                    </a:lnTo>
                    <a:lnTo>
                      <a:pt x="137" y="0"/>
                    </a:lnTo>
                    <a:lnTo>
                      <a:pt x="109" y="2"/>
                    </a:lnTo>
                    <a:lnTo>
                      <a:pt x="84" y="9"/>
                    </a:lnTo>
                    <a:lnTo>
                      <a:pt x="60" y="22"/>
                    </a:lnTo>
                    <a:lnTo>
                      <a:pt x="40" y="40"/>
                    </a:lnTo>
                    <a:lnTo>
                      <a:pt x="22" y="60"/>
                    </a:lnTo>
                    <a:lnTo>
                      <a:pt x="9" y="84"/>
                    </a:lnTo>
                    <a:lnTo>
                      <a:pt x="2" y="109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2" y="163"/>
                    </a:lnTo>
                    <a:lnTo>
                      <a:pt x="5" y="176"/>
                    </a:lnTo>
                    <a:lnTo>
                      <a:pt x="9" y="189"/>
                    </a:lnTo>
                    <a:lnTo>
                      <a:pt x="14" y="201"/>
                    </a:lnTo>
                    <a:lnTo>
                      <a:pt x="22" y="213"/>
                    </a:lnTo>
                    <a:lnTo>
                      <a:pt x="30" y="223"/>
                    </a:lnTo>
                    <a:lnTo>
                      <a:pt x="40" y="235"/>
                    </a:lnTo>
                    <a:lnTo>
                      <a:pt x="49" y="244"/>
                    </a:lnTo>
                    <a:lnTo>
                      <a:pt x="60" y="252"/>
                    </a:lnTo>
                    <a:lnTo>
                      <a:pt x="84" y="265"/>
                    </a:lnTo>
                    <a:lnTo>
                      <a:pt x="109" y="272"/>
                    </a:lnTo>
                    <a:lnTo>
                      <a:pt x="123" y="274"/>
                    </a:lnTo>
                    <a:lnTo>
                      <a:pt x="137" y="276"/>
                    </a:lnTo>
                    <a:lnTo>
                      <a:pt x="140" y="274"/>
                    </a:lnTo>
                    <a:lnTo>
                      <a:pt x="143" y="274"/>
                    </a:lnTo>
                    <a:lnTo>
                      <a:pt x="150" y="274"/>
                    </a:lnTo>
                    <a:lnTo>
                      <a:pt x="163" y="272"/>
                    </a:lnTo>
                    <a:lnTo>
                      <a:pt x="169" y="270"/>
                    </a:lnTo>
                    <a:lnTo>
                      <a:pt x="176" y="269"/>
                    </a:lnTo>
                    <a:lnTo>
                      <a:pt x="189" y="265"/>
                    </a:lnTo>
                    <a:lnTo>
                      <a:pt x="201" y="259"/>
                    </a:lnTo>
                    <a:lnTo>
                      <a:pt x="213" y="252"/>
                    </a:lnTo>
                    <a:lnTo>
                      <a:pt x="218" y="247"/>
                    </a:lnTo>
                    <a:lnTo>
                      <a:pt x="220" y="245"/>
                    </a:lnTo>
                    <a:lnTo>
                      <a:pt x="220" y="244"/>
                    </a:lnTo>
                    <a:lnTo>
                      <a:pt x="221" y="244"/>
                    </a:lnTo>
                    <a:lnTo>
                      <a:pt x="223" y="244"/>
                    </a:lnTo>
                    <a:lnTo>
                      <a:pt x="235" y="235"/>
                    </a:lnTo>
                    <a:close/>
                    <a:moveTo>
                      <a:pt x="60" y="215"/>
                    </a:moveTo>
                    <a:lnTo>
                      <a:pt x="51" y="206"/>
                    </a:lnTo>
                    <a:lnTo>
                      <a:pt x="44" y="198"/>
                    </a:lnTo>
                    <a:lnTo>
                      <a:pt x="39" y="188"/>
                    </a:lnTo>
                    <a:lnTo>
                      <a:pt x="35" y="179"/>
                    </a:lnTo>
                    <a:lnTo>
                      <a:pt x="28" y="159"/>
                    </a:lnTo>
                    <a:lnTo>
                      <a:pt x="27" y="137"/>
                    </a:lnTo>
                    <a:lnTo>
                      <a:pt x="28" y="115"/>
                    </a:lnTo>
                    <a:lnTo>
                      <a:pt x="35" y="94"/>
                    </a:lnTo>
                    <a:lnTo>
                      <a:pt x="44" y="75"/>
                    </a:lnTo>
                    <a:lnTo>
                      <a:pt x="60" y="59"/>
                    </a:lnTo>
                    <a:lnTo>
                      <a:pt x="76" y="44"/>
                    </a:lnTo>
                    <a:lnTo>
                      <a:pt x="95" y="35"/>
                    </a:lnTo>
                    <a:lnTo>
                      <a:pt x="115" y="28"/>
                    </a:lnTo>
                    <a:lnTo>
                      <a:pt x="137" y="27"/>
                    </a:lnTo>
                    <a:lnTo>
                      <a:pt x="159" y="28"/>
                    </a:lnTo>
                    <a:lnTo>
                      <a:pt x="179" y="35"/>
                    </a:lnTo>
                    <a:lnTo>
                      <a:pt x="188" y="39"/>
                    </a:lnTo>
                    <a:lnTo>
                      <a:pt x="198" y="44"/>
                    </a:lnTo>
                    <a:lnTo>
                      <a:pt x="215" y="59"/>
                    </a:lnTo>
                    <a:lnTo>
                      <a:pt x="229" y="75"/>
                    </a:lnTo>
                    <a:lnTo>
                      <a:pt x="239" y="94"/>
                    </a:lnTo>
                    <a:lnTo>
                      <a:pt x="246" y="115"/>
                    </a:lnTo>
                    <a:lnTo>
                      <a:pt x="248" y="137"/>
                    </a:lnTo>
                    <a:lnTo>
                      <a:pt x="247" y="142"/>
                    </a:lnTo>
                    <a:lnTo>
                      <a:pt x="247" y="147"/>
                    </a:lnTo>
                    <a:lnTo>
                      <a:pt x="246" y="159"/>
                    </a:lnTo>
                    <a:lnTo>
                      <a:pt x="239" y="179"/>
                    </a:lnTo>
                    <a:lnTo>
                      <a:pt x="234" y="188"/>
                    </a:lnTo>
                    <a:lnTo>
                      <a:pt x="229" y="198"/>
                    </a:lnTo>
                    <a:lnTo>
                      <a:pt x="222" y="206"/>
                    </a:lnTo>
                    <a:lnTo>
                      <a:pt x="215" y="215"/>
                    </a:lnTo>
                    <a:lnTo>
                      <a:pt x="206" y="222"/>
                    </a:lnTo>
                    <a:lnTo>
                      <a:pt x="198" y="229"/>
                    </a:lnTo>
                    <a:lnTo>
                      <a:pt x="188" y="234"/>
                    </a:lnTo>
                    <a:lnTo>
                      <a:pt x="179" y="239"/>
                    </a:lnTo>
                    <a:lnTo>
                      <a:pt x="159" y="246"/>
                    </a:lnTo>
                    <a:lnTo>
                      <a:pt x="147" y="247"/>
                    </a:lnTo>
                    <a:lnTo>
                      <a:pt x="142" y="247"/>
                    </a:lnTo>
                    <a:lnTo>
                      <a:pt x="137" y="248"/>
                    </a:lnTo>
                    <a:lnTo>
                      <a:pt x="115" y="246"/>
                    </a:lnTo>
                    <a:lnTo>
                      <a:pt x="95" y="239"/>
                    </a:lnTo>
                    <a:lnTo>
                      <a:pt x="76" y="229"/>
                    </a:lnTo>
                    <a:lnTo>
                      <a:pt x="60" y="215"/>
                    </a:lnTo>
                    <a:close/>
                  </a:path>
                </a:pathLst>
              </a:custGeom>
              <a:solidFill>
                <a:srgbClr val="59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163120" y="3380040"/>
                <a:ext cx="63360" cy="62640"/>
              </a:xfrm>
              <a:custGeom>
                <a:avLst/>
                <a:gdLst/>
                <a:ahLst/>
                <a:rect l="l" t="t" r="r" b="b"/>
                <a:pathLst>
                  <a:path w="221" h="221">
                    <a:moveTo>
                      <a:pt x="0" y="110"/>
                    </a:moveTo>
                    <a:lnTo>
                      <a:pt x="1" y="132"/>
                    </a:lnTo>
                    <a:lnTo>
                      <a:pt x="8" y="152"/>
                    </a:lnTo>
                    <a:lnTo>
                      <a:pt x="12" y="161"/>
                    </a:lnTo>
                    <a:lnTo>
                      <a:pt x="17" y="171"/>
                    </a:lnTo>
                    <a:lnTo>
                      <a:pt x="24" y="179"/>
                    </a:lnTo>
                    <a:lnTo>
                      <a:pt x="33" y="188"/>
                    </a:lnTo>
                    <a:lnTo>
                      <a:pt x="49" y="202"/>
                    </a:lnTo>
                    <a:lnTo>
                      <a:pt x="68" y="212"/>
                    </a:lnTo>
                    <a:lnTo>
                      <a:pt x="88" y="219"/>
                    </a:lnTo>
                    <a:lnTo>
                      <a:pt x="110" y="221"/>
                    </a:lnTo>
                    <a:lnTo>
                      <a:pt x="115" y="220"/>
                    </a:lnTo>
                    <a:lnTo>
                      <a:pt x="120" y="220"/>
                    </a:lnTo>
                    <a:lnTo>
                      <a:pt x="132" y="219"/>
                    </a:lnTo>
                    <a:lnTo>
                      <a:pt x="152" y="212"/>
                    </a:lnTo>
                    <a:lnTo>
                      <a:pt x="161" y="207"/>
                    </a:lnTo>
                    <a:lnTo>
                      <a:pt x="171" y="202"/>
                    </a:lnTo>
                    <a:lnTo>
                      <a:pt x="179" y="195"/>
                    </a:lnTo>
                    <a:lnTo>
                      <a:pt x="188" y="188"/>
                    </a:lnTo>
                    <a:lnTo>
                      <a:pt x="195" y="179"/>
                    </a:lnTo>
                    <a:lnTo>
                      <a:pt x="202" y="171"/>
                    </a:lnTo>
                    <a:lnTo>
                      <a:pt x="207" y="161"/>
                    </a:lnTo>
                    <a:lnTo>
                      <a:pt x="212" y="152"/>
                    </a:lnTo>
                    <a:lnTo>
                      <a:pt x="219" y="132"/>
                    </a:lnTo>
                    <a:lnTo>
                      <a:pt x="220" y="120"/>
                    </a:lnTo>
                    <a:lnTo>
                      <a:pt x="220" y="115"/>
                    </a:lnTo>
                    <a:lnTo>
                      <a:pt x="221" y="110"/>
                    </a:lnTo>
                    <a:lnTo>
                      <a:pt x="219" y="88"/>
                    </a:lnTo>
                    <a:lnTo>
                      <a:pt x="212" y="67"/>
                    </a:lnTo>
                    <a:lnTo>
                      <a:pt x="202" y="48"/>
                    </a:lnTo>
                    <a:lnTo>
                      <a:pt x="188" y="32"/>
                    </a:lnTo>
                    <a:lnTo>
                      <a:pt x="171" y="17"/>
                    </a:lnTo>
                    <a:lnTo>
                      <a:pt x="161" y="12"/>
                    </a:lnTo>
                    <a:lnTo>
                      <a:pt x="152" y="8"/>
                    </a:lnTo>
                    <a:lnTo>
                      <a:pt x="132" y="1"/>
                    </a:lnTo>
                    <a:lnTo>
                      <a:pt x="110" y="0"/>
                    </a:lnTo>
                    <a:lnTo>
                      <a:pt x="88" y="1"/>
                    </a:lnTo>
                    <a:lnTo>
                      <a:pt x="68" y="8"/>
                    </a:lnTo>
                    <a:lnTo>
                      <a:pt x="49" y="17"/>
                    </a:lnTo>
                    <a:lnTo>
                      <a:pt x="33" y="32"/>
                    </a:lnTo>
                    <a:lnTo>
                      <a:pt x="17" y="48"/>
                    </a:lnTo>
                    <a:lnTo>
                      <a:pt x="8" y="67"/>
                    </a:lnTo>
                    <a:lnTo>
                      <a:pt x="1" y="88"/>
                    </a:lnTo>
                    <a:lnTo>
                      <a:pt x="0" y="110"/>
                    </a:lnTo>
                    <a:close/>
                    <a:moveTo>
                      <a:pt x="52" y="169"/>
                    </a:moveTo>
                    <a:lnTo>
                      <a:pt x="41" y="156"/>
                    </a:lnTo>
                    <a:lnTo>
                      <a:pt x="34" y="142"/>
                    </a:lnTo>
                    <a:lnTo>
                      <a:pt x="30" y="126"/>
                    </a:lnTo>
                    <a:lnTo>
                      <a:pt x="29" y="110"/>
                    </a:lnTo>
                    <a:lnTo>
                      <a:pt x="30" y="93"/>
                    </a:lnTo>
                    <a:lnTo>
                      <a:pt x="34" y="78"/>
                    </a:lnTo>
                    <a:lnTo>
                      <a:pt x="41" y="64"/>
                    </a:lnTo>
                    <a:lnTo>
                      <a:pt x="52" y="52"/>
                    </a:lnTo>
                    <a:lnTo>
                      <a:pt x="64" y="41"/>
                    </a:lnTo>
                    <a:lnTo>
                      <a:pt x="78" y="33"/>
                    </a:lnTo>
                    <a:lnTo>
                      <a:pt x="93" y="29"/>
                    </a:lnTo>
                    <a:lnTo>
                      <a:pt x="110" y="27"/>
                    </a:lnTo>
                    <a:lnTo>
                      <a:pt x="126" y="29"/>
                    </a:lnTo>
                    <a:lnTo>
                      <a:pt x="142" y="33"/>
                    </a:lnTo>
                    <a:lnTo>
                      <a:pt x="156" y="41"/>
                    </a:lnTo>
                    <a:lnTo>
                      <a:pt x="169" y="52"/>
                    </a:lnTo>
                    <a:lnTo>
                      <a:pt x="178" y="64"/>
                    </a:lnTo>
                    <a:lnTo>
                      <a:pt x="186" y="78"/>
                    </a:lnTo>
                    <a:lnTo>
                      <a:pt x="191" y="93"/>
                    </a:lnTo>
                    <a:lnTo>
                      <a:pt x="193" y="110"/>
                    </a:lnTo>
                    <a:lnTo>
                      <a:pt x="191" y="126"/>
                    </a:lnTo>
                    <a:lnTo>
                      <a:pt x="186" y="142"/>
                    </a:lnTo>
                    <a:lnTo>
                      <a:pt x="178" y="156"/>
                    </a:lnTo>
                    <a:lnTo>
                      <a:pt x="169" y="169"/>
                    </a:lnTo>
                    <a:lnTo>
                      <a:pt x="156" y="178"/>
                    </a:lnTo>
                    <a:lnTo>
                      <a:pt x="142" y="186"/>
                    </a:lnTo>
                    <a:lnTo>
                      <a:pt x="126" y="191"/>
                    </a:lnTo>
                    <a:lnTo>
                      <a:pt x="110" y="193"/>
                    </a:lnTo>
                    <a:lnTo>
                      <a:pt x="93" y="191"/>
                    </a:lnTo>
                    <a:lnTo>
                      <a:pt x="78" y="186"/>
                    </a:lnTo>
                    <a:lnTo>
                      <a:pt x="64" y="178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5c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71040" y="338760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164" h="166">
                    <a:moveTo>
                      <a:pt x="0" y="83"/>
                    </a:moveTo>
                    <a:lnTo>
                      <a:pt x="1" y="99"/>
                    </a:lnTo>
                    <a:lnTo>
                      <a:pt x="5" y="115"/>
                    </a:lnTo>
                    <a:lnTo>
                      <a:pt x="12" y="129"/>
                    </a:lnTo>
                    <a:lnTo>
                      <a:pt x="23" y="142"/>
                    </a:lnTo>
                    <a:lnTo>
                      <a:pt x="35" y="151"/>
                    </a:lnTo>
                    <a:lnTo>
                      <a:pt x="49" y="159"/>
                    </a:lnTo>
                    <a:lnTo>
                      <a:pt x="64" y="164"/>
                    </a:lnTo>
                    <a:lnTo>
                      <a:pt x="81" y="166"/>
                    </a:lnTo>
                    <a:lnTo>
                      <a:pt x="97" y="164"/>
                    </a:lnTo>
                    <a:lnTo>
                      <a:pt x="113" y="159"/>
                    </a:lnTo>
                    <a:lnTo>
                      <a:pt x="127" y="151"/>
                    </a:lnTo>
                    <a:lnTo>
                      <a:pt x="140" y="142"/>
                    </a:lnTo>
                    <a:lnTo>
                      <a:pt x="149" y="129"/>
                    </a:lnTo>
                    <a:lnTo>
                      <a:pt x="157" y="115"/>
                    </a:lnTo>
                    <a:lnTo>
                      <a:pt x="162" y="99"/>
                    </a:lnTo>
                    <a:lnTo>
                      <a:pt x="164" y="83"/>
                    </a:lnTo>
                    <a:lnTo>
                      <a:pt x="162" y="66"/>
                    </a:lnTo>
                    <a:lnTo>
                      <a:pt x="157" y="51"/>
                    </a:lnTo>
                    <a:lnTo>
                      <a:pt x="149" y="37"/>
                    </a:lnTo>
                    <a:lnTo>
                      <a:pt x="140" y="25"/>
                    </a:lnTo>
                    <a:lnTo>
                      <a:pt x="127" y="14"/>
                    </a:lnTo>
                    <a:lnTo>
                      <a:pt x="113" y="6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5"/>
                    </a:lnTo>
                    <a:lnTo>
                      <a:pt x="12" y="37"/>
                    </a:lnTo>
                    <a:lnTo>
                      <a:pt x="5" y="51"/>
                    </a:lnTo>
                    <a:lnTo>
                      <a:pt x="1" y="66"/>
                    </a:lnTo>
                    <a:lnTo>
                      <a:pt x="0" y="83"/>
                    </a:lnTo>
                    <a:close/>
                    <a:moveTo>
                      <a:pt x="81" y="29"/>
                    </a:moveTo>
                    <a:lnTo>
                      <a:pt x="91" y="29"/>
                    </a:lnTo>
                    <a:lnTo>
                      <a:pt x="102" y="32"/>
                    </a:lnTo>
                    <a:lnTo>
                      <a:pt x="111" y="37"/>
                    </a:lnTo>
                    <a:lnTo>
                      <a:pt x="121" y="45"/>
                    </a:lnTo>
                    <a:lnTo>
                      <a:pt x="127" y="53"/>
                    </a:lnTo>
                    <a:lnTo>
                      <a:pt x="132" y="62"/>
                    </a:lnTo>
                    <a:lnTo>
                      <a:pt x="136" y="72"/>
                    </a:lnTo>
                    <a:lnTo>
                      <a:pt x="137" y="83"/>
                    </a:lnTo>
                    <a:lnTo>
                      <a:pt x="136" y="88"/>
                    </a:lnTo>
                    <a:lnTo>
                      <a:pt x="136" y="93"/>
                    </a:lnTo>
                    <a:lnTo>
                      <a:pt x="133" y="98"/>
                    </a:lnTo>
                    <a:lnTo>
                      <a:pt x="132" y="100"/>
                    </a:lnTo>
                    <a:lnTo>
                      <a:pt x="132" y="104"/>
                    </a:lnTo>
                    <a:lnTo>
                      <a:pt x="127" y="113"/>
                    </a:lnTo>
                    <a:lnTo>
                      <a:pt x="123" y="117"/>
                    </a:lnTo>
                    <a:lnTo>
                      <a:pt x="121" y="123"/>
                    </a:lnTo>
                    <a:lnTo>
                      <a:pt x="115" y="125"/>
                    </a:lnTo>
                    <a:lnTo>
                      <a:pt x="111" y="129"/>
                    </a:lnTo>
                    <a:lnTo>
                      <a:pt x="102" y="134"/>
                    </a:lnTo>
                    <a:lnTo>
                      <a:pt x="98" y="134"/>
                    </a:lnTo>
                    <a:lnTo>
                      <a:pt x="96" y="135"/>
                    </a:lnTo>
                    <a:lnTo>
                      <a:pt x="91" y="138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0" y="138"/>
                    </a:lnTo>
                    <a:lnTo>
                      <a:pt x="60" y="134"/>
                    </a:lnTo>
                    <a:lnTo>
                      <a:pt x="51" y="129"/>
                    </a:lnTo>
                    <a:lnTo>
                      <a:pt x="43" y="123"/>
                    </a:lnTo>
                    <a:lnTo>
                      <a:pt x="35" y="113"/>
                    </a:lnTo>
                    <a:lnTo>
                      <a:pt x="30" y="104"/>
                    </a:lnTo>
                    <a:lnTo>
                      <a:pt x="27" y="93"/>
                    </a:lnTo>
                    <a:lnTo>
                      <a:pt x="27" y="83"/>
                    </a:lnTo>
                    <a:lnTo>
                      <a:pt x="30" y="62"/>
                    </a:lnTo>
                    <a:lnTo>
                      <a:pt x="43" y="45"/>
                    </a:lnTo>
                    <a:lnTo>
                      <a:pt x="60" y="32"/>
                    </a:lnTo>
                    <a:lnTo>
                      <a:pt x="81" y="29"/>
                    </a:lnTo>
                    <a:close/>
                  </a:path>
                </a:pathLst>
              </a:custGeom>
              <a:solidFill>
                <a:srgbClr val="5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79320" y="339552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94" y="16"/>
                    </a:moveTo>
                    <a:lnTo>
                      <a:pt x="84" y="8"/>
                    </a:lnTo>
                    <a:lnTo>
                      <a:pt x="75" y="3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33" y="3"/>
                    </a:lnTo>
                    <a:lnTo>
                      <a:pt x="16" y="16"/>
                    </a:lnTo>
                    <a:lnTo>
                      <a:pt x="3" y="33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3" y="75"/>
                    </a:lnTo>
                    <a:lnTo>
                      <a:pt x="8" y="84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9"/>
                    </a:lnTo>
                    <a:lnTo>
                      <a:pt x="54" y="110"/>
                    </a:lnTo>
                    <a:lnTo>
                      <a:pt x="59" y="109"/>
                    </a:lnTo>
                    <a:lnTo>
                      <a:pt x="64" y="109"/>
                    </a:lnTo>
                    <a:lnTo>
                      <a:pt x="69" y="106"/>
                    </a:lnTo>
                    <a:lnTo>
                      <a:pt x="71" y="105"/>
                    </a:lnTo>
                    <a:lnTo>
                      <a:pt x="75" y="105"/>
                    </a:lnTo>
                    <a:lnTo>
                      <a:pt x="84" y="100"/>
                    </a:lnTo>
                    <a:lnTo>
                      <a:pt x="88" y="96"/>
                    </a:lnTo>
                    <a:lnTo>
                      <a:pt x="94" y="94"/>
                    </a:lnTo>
                    <a:lnTo>
                      <a:pt x="96" y="88"/>
                    </a:lnTo>
                    <a:lnTo>
                      <a:pt x="100" y="84"/>
                    </a:lnTo>
                    <a:lnTo>
                      <a:pt x="105" y="75"/>
                    </a:lnTo>
                    <a:lnTo>
                      <a:pt x="105" y="71"/>
                    </a:lnTo>
                    <a:lnTo>
                      <a:pt x="106" y="69"/>
                    </a:lnTo>
                    <a:lnTo>
                      <a:pt x="109" y="64"/>
                    </a:lnTo>
                    <a:lnTo>
                      <a:pt x="109" y="59"/>
                    </a:lnTo>
                    <a:lnTo>
                      <a:pt x="110" y="54"/>
                    </a:lnTo>
                    <a:lnTo>
                      <a:pt x="109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4" y="16"/>
                    </a:lnTo>
                    <a:close/>
                    <a:moveTo>
                      <a:pt x="54" y="27"/>
                    </a:moveTo>
                    <a:lnTo>
                      <a:pt x="64" y="28"/>
                    </a:lnTo>
                    <a:lnTo>
                      <a:pt x="69" y="30"/>
                    </a:lnTo>
                    <a:lnTo>
                      <a:pt x="75" y="35"/>
                    </a:lnTo>
                    <a:lnTo>
                      <a:pt x="80" y="43"/>
                    </a:lnTo>
                    <a:lnTo>
                      <a:pt x="83" y="54"/>
                    </a:lnTo>
                    <a:lnTo>
                      <a:pt x="81" y="59"/>
                    </a:lnTo>
                    <a:lnTo>
                      <a:pt x="80" y="61"/>
                    </a:lnTo>
                    <a:lnTo>
                      <a:pt x="80" y="64"/>
                    </a:lnTo>
                    <a:lnTo>
                      <a:pt x="77" y="69"/>
                    </a:lnTo>
                    <a:lnTo>
                      <a:pt x="75" y="73"/>
                    </a:lnTo>
                    <a:lnTo>
                      <a:pt x="69" y="76"/>
                    </a:lnTo>
                    <a:lnTo>
                      <a:pt x="64" y="79"/>
                    </a:lnTo>
                    <a:lnTo>
                      <a:pt x="61" y="79"/>
                    </a:lnTo>
                    <a:lnTo>
                      <a:pt x="59" y="80"/>
                    </a:lnTo>
                    <a:lnTo>
                      <a:pt x="54" y="81"/>
                    </a:lnTo>
                    <a:lnTo>
                      <a:pt x="43" y="79"/>
                    </a:lnTo>
                    <a:lnTo>
                      <a:pt x="35" y="73"/>
                    </a:lnTo>
                    <a:lnTo>
                      <a:pt x="30" y="69"/>
                    </a:lnTo>
                    <a:lnTo>
                      <a:pt x="28" y="64"/>
                    </a:lnTo>
                    <a:lnTo>
                      <a:pt x="27" y="54"/>
                    </a:lnTo>
                    <a:lnTo>
                      <a:pt x="28" y="43"/>
                    </a:lnTo>
                    <a:lnTo>
                      <a:pt x="35" y="35"/>
                    </a:lnTo>
                    <a:lnTo>
                      <a:pt x="43" y="28"/>
                    </a:lnTo>
                    <a:lnTo>
                      <a:pt x="54" y="27"/>
                    </a:lnTo>
                    <a:close/>
                  </a:path>
                </a:pathLst>
              </a:custGeom>
              <a:solidFill>
                <a:srgbClr val="62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187240" y="340344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48" y="8"/>
                    </a:moveTo>
                    <a:lnTo>
                      <a:pt x="42" y="3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6" y="1"/>
                    </a:lnTo>
                    <a:lnTo>
                      <a:pt x="8" y="8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1" y="37"/>
                    </a:lnTo>
                    <a:lnTo>
                      <a:pt x="3" y="42"/>
                    </a:lnTo>
                    <a:lnTo>
                      <a:pt x="8" y="46"/>
                    </a:lnTo>
                    <a:lnTo>
                      <a:pt x="16" y="52"/>
                    </a:lnTo>
                    <a:lnTo>
                      <a:pt x="27" y="54"/>
                    </a:lnTo>
                    <a:lnTo>
                      <a:pt x="32" y="53"/>
                    </a:lnTo>
                    <a:lnTo>
                      <a:pt x="34" y="52"/>
                    </a:lnTo>
                    <a:lnTo>
                      <a:pt x="37" y="52"/>
                    </a:lnTo>
                    <a:lnTo>
                      <a:pt x="42" y="49"/>
                    </a:lnTo>
                    <a:lnTo>
                      <a:pt x="48" y="46"/>
                    </a:lnTo>
                    <a:lnTo>
                      <a:pt x="50" y="42"/>
                    </a:lnTo>
                    <a:lnTo>
                      <a:pt x="53" y="37"/>
                    </a:lnTo>
                    <a:lnTo>
                      <a:pt x="53" y="34"/>
                    </a:lnTo>
                    <a:lnTo>
                      <a:pt x="54" y="32"/>
                    </a:lnTo>
                    <a:lnTo>
                      <a:pt x="56" y="27"/>
                    </a:lnTo>
                    <a:lnTo>
                      <a:pt x="53" y="16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958280" y="3476520"/>
                <a:ext cx="67680" cy="111600"/>
              </a:xfrm>
              <a:custGeom>
                <a:avLst/>
                <a:gdLst/>
                <a:ahLst/>
                <a:rect l="l" t="t" r="r" b="b"/>
                <a:pathLst>
                  <a:path w="239" h="394">
                    <a:moveTo>
                      <a:pt x="239" y="394"/>
                    </a:moveTo>
                    <a:lnTo>
                      <a:pt x="230" y="384"/>
                    </a:lnTo>
                    <a:lnTo>
                      <a:pt x="225" y="380"/>
                    </a:lnTo>
                    <a:lnTo>
                      <a:pt x="223" y="378"/>
                    </a:lnTo>
                    <a:lnTo>
                      <a:pt x="222" y="377"/>
                    </a:lnTo>
                    <a:lnTo>
                      <a:pt x="181" y="333"/>
                    </a:lnTo>
                    <a:lnTo>
                      <a:pt x="145" y="290"/>
                    </a:lnTo>
                    <a:lnTo>
                      <a:pt x="112" y="245"/>
                    </a:lnTo>
                    <a:lnTo>
                      <a:pt x="84" y="200"/>
                    </a:lnTo>
                    <a:lnTo>
                      <a:pt x="69" y="175"/>
                    </a:lnTo>
                    <a:lnTo>
                      <a:pt x="56" y="151"/>
                    </a:lnTo>
                    <a:lnTo>
                      <a:pt x="44" y="126"/>
                    </a:lnTo>
                    <a:lnTo>
                      <a:pt x="34" y="102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3" y="44"/>
                    </a:lnTo>
                    <a:lnTo>
                      <a:pt x="6" y="66"/>
                    </a:lnTo>
                    <a:lnTo>
                      <a:pt x="12" y="89"/>
                    </a:lnTo>
                    <a:lnTo>
                      <a:pt x="25" y="130"/>
                    </a:lnTo>
                    <a:lnTo>
                      <a:pt x="42" y="171"/>
                    </a:lnTo>
                    <a:lnTo>
                      <a:pt x="61" y="210"/>
                    </a:lnTo>
                    <a:lnTo>
                      <a:pt x="86" y="248"/>
                    </a:lnTo>
                    <a:lnTo>
                      <a:pt x="114" y="285"/>
                    </a:lnTo>
                    <a:lnTo>
                      <a:pt x="147" y="320"/>
                    </a:lnTo>
                    <a:lnTo>
                      <a:pt x="169" y="340"/>
                    </a:lnTo>
                    <a:lnTo>
                      <a:pt x="191" y="360"/>
                    </a:lnTo>
                    <a:lnTo>
                      <a:pt x="214" y="377"/>
                    </a:lnTo>
                    <a:lnTo>
                      <a:pt x="239" y="394"/>
                    </a:lnTo>
                    <a:close/>
                  </a:path>
                </a:pathLst>
              </a:custGeom>
              <a:solidFill>
                <a:srgbClr val="020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957920" y="3441600"/>
                <a:ext cx="96480" cy="160200"/>
              </a:xfrm>
              <a:custGeom>
                <a:avLst/>
                <a:gdLst/>
                <a:ahLst/>
                <a:rect l="l" t="t" r="r" b="b"/>
                <a:pathLst>
                  <a:path w="337" h="561">
                    <a:moveTo>
                      <a:pt x="223" y="498"/>
                    </a:moveTo>
                    <a:lnTo>
                      <a:pt x="224" y="499"/>
                    </a:lnTo>
                    <a:lnTo>
                      <a:pt x="226" y="501"/>
                    </a:lnTo>
                    <a:lnTo>
                      <a:pt x="231" y="505"/>
                    </a:lnTo>
                    <a:lnTo>
                      <a:pt x="240" y="515"/>
                    </a:lnTo>
                    <a:lnTo>
                      <a:pt x="263" y="528"/>
                    </a:lnTo>
                    <a:lnTo>
                      <a:pt x="286" y="541"/>
                    </a:lnTo>
                    <a:lnTo>
                      <a:pt x="337" y="561"/>
                    </a:lnTo>
                    <a:lnTo>
                      <a:pt x="312" y="542"/>
                    </a:lnTo>
                    <a:lnTo>
                      <a:pt x="289" y="521"/>
                    </a:lnTo>
                    <a:lnTo>
                      <a:pt x="242" y="478"/>
                    </a:lnTo>
                    <a:lnTo>
                      <a:pt x="216" y="451"/>
                    </a:lnTo>
                    <a:lnTo>
                      <a:pt x="193" y="425"/>
                    </a:lnTo>
                    <a:lnTo>
                      <a:pt x="171" y="398"/>
                    </a:lnTo>
                    <a:lnTo>
                      <a:pt x="150" y="372"/>
                    </a:lnTo>
                    <a:lnTo>
                      <a:pt x="130" y="342"/>
                    </a:lnTo>
                    <a:lnTo>
                      <a:pt x="113" y="314"/>
                    </a:lnTo>
                    <a:lnTo>
                      <a:pt x="96" y="284"/>
                    </a:lnTo>
                    <a:lnTo>
                      <a:pt x="81" y="256"/>
                    </a:lnTo>
                    <a:lnTo>
                      <a:pt x="66" y="224"/>
                    </a:lnTo>
                    <a:lnTo>
                      <a:pt x="54" y="194"/>
                    </a:lnTo>
                    <a:lnTo>
                      <a:pt x="42" y="162"/>
                    </a:lnTo>
                    <a:lnTo>
                      <a:pt x="32" y="131"/>
                    </a:lnTo>
                    <a:lnTo>
                      <a:pt x="23" y="98"/>
                    </a:lnTo>
                    <a:lnTo>
                      <a:pt x="17" y="67"/>
                    </a:lnTo>
                    <a:lnTo>
                      <a:pt x="10" y="33"/>
                    </a:lnTo>
                    <a:lnTo>
                      <a:pt x="6" y="0"/>
                    </a:lnTo>
                    <a:lnTo>
                      <a:pt x="1" y="41"/>
                    </a:lnTo>
                    <a:lnTo>
                      <a:pt x="0" y="84"/>
                    </a:lnTo>
                    <a:lnTo>
                      <a:pt x="1" y="121"/>
                    </a:lnTo>
                    <a:lnTo>
                      <a:pt x="15" y="172"/>
                    </a:lnTo>
                    <a:lnTo>
                      <a:pt x="35" y="223"/>
                    </a:lnTo>
                    <a:lnTo>
                      <a:pt x="45" y="247"/>
                    </a:lnTo>
                    <a:lnTo>
                      <a:pt x="57" y="272"/>
                    </a:lnTo>
                    <a:lnTo>
                      <a:pt x="70" y="296"/>
                    </a:lnTo>
                    <a:lnTo>
                      <a:pt x="85" y="321"/>
                    </a:lnTo>
                    <a:lnTo>
                      <a:pt x="113" y="366"/>
                    </a:lnTo>
                    <a:lnTo>
                      <a:pt x="146" y="411"/>
                    </a:lnTo>
                    <a:lnTo>
                      <a:pt x="182" y="454"/>
                    </a:lnTo>
                    <a:lnTo>
                      <a:pt x="223" y="498"/>
                    </a:lnTo>
                    <a:close/>
                  </a:path>
                </a:pathLst>
              </a:custGeom>
              <a:solidFill>
                <a:srgbClr val="060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0080" y="3417120"/>
                <a:ext cx="116280" cy="190800"/>
              </a:xfrm>
              <a:custGeom>
                <a:avLst/>
                <a:gdLst/>
                <a:ahLst/>
                <a:rect l="l" t="t" r="r" b="b"/>
                <a:pathLst>
                  <a:path w="410" h="667">
                    <a:moveTo>
                      <a:pt x="236" y="564"/>
                    </a:moveTo>
                    <a:lnTo>
                      <a:pt x="283" y="607"/>
                    </a:lnTo>
                    <a:lnTo>
                      <a:pt x="306" y="628"/>
                    </a:lnTo>
                    <a:lnTo>
                      <a:pt x="331" y="647"/>
                    </a:lnTo>
                    <a:lnTo>
                      <a:pt x="369" y="657"/>
                    </a:lnTo>
                    <a:lnTo>
                      <a:pt x="410" y="667"/>
                    </a:lnTo>
                    <a:lnTo>
                      <a:pt x="369" y="639"/>
                    </a:lnTo>
                    <a:lnTo>
                      <a:pt x="330" y="611"/>
                    </a:lnTo>
                    <a:lnTo>
                      <a:pt x="292" y="578"/>
                    </a:lnTo>
                    <a:lnTo>
                      <a:pt x="257" y="545"/>
                    </a:lnTo>
                    <a:lnTo>
                      <a:pt x="228" y="515"/>
                    </a:lnTo>
                    <a:lnTo>
                      <a:pt x="202" y="486"/>
                    </a:lnTo>
                    <a:lnTo>
                      <a:pt x="177" y="455"/>
                    </a:lnTo>
                    <a:lnTo>
                      <a:pt x="156" y="425"/>
                    </a:lnTo>
                    <a:lnTo>
                      <a:pt x="134" y="392"/>
                    </a:lnTo>
                    <a:lnTo>
                      <a:pt x="116" y="360"/>
                    </a:lnTo>
                    <a:lnTo>
                      <a:pt x="98" y="327"/>
                    </a:lnTo>
                    <a:lnTo>
                      <a:pt x="83" y="294"/>
                    </a:lnTo>
                    <a:lnTo>
                      <a:pt x="68" y="259"/>
                    </a:lnTo>
                    <a:lnTo>
                      <a:pt x="57" y="224"/>
                    </a:lnTo>
                    <a:lnTo>
                      <a:pt x="46" y="188"/>
                    </a:lnTo>
                    <a:lnTo>
                      <a:pt x="38" y="153"/>
                    </a:lnTo>
                    <a:lnTo>
                      <a:pt x="30" y="114"/>
                    </a:lnTo>
                    <a:lnTo>
                      <a:pt x="25" y="77"/>
                    </a:lnTo>
                    <a:lnTo>
                      <a:pt x="22" y="38"/>
                    </a:lnTo>
                    <a:lnTo>
                      <a:pt x="22" y="0"/>
                    </a:lnTo>
                    <a:lnTo>
                      <a:pt x="8" y="42"/>
                    </a:lnTo>
                    <a:lnTo>
                      <a:pt x="0" y="86"/>
                    </a:lnTo>
                    <a:lnTo>
                      <a:pt x="4" y="119"/>
                    </a:lnTo>
                    <a:lnTo>
                      <a:pt x="11" y="153"/>
                    </a:lnTo>
                    <a:lnTo>
                      <a:pt x="17" y="184"/>
                    </a:lnTo>
                    <a:lnTo>
                      <a:pt x="26" y="217"/>
                    </a:lnTo>
                    <a:lnTo>
                      <a:pt x="36" y="248"/>
                    </a:lnTo>
                    <a:lnTo>
                      <a:pt x="48" y="280"/>
                    </a:lnTo>
                    <a:lnTo>
                      <a:pt x="60" y="310"/>
                    </a:lnTo>
                    <a:lnTo>
                      <a:pt x="75" y="342"/>
                    </a:lnTo>
                    <a:lnTo>
                      <a:pt x="90" y="370"/>
                    </a:lnTo>
                    <a:lnTo>
                      <a:pt x="107" y="400"/>
                    </a:lnTo>
                    <a:lnTo>
                      <a:pt x="124" y="428"/>
                    </a:lnTo>
                    <a:lnTo>
                      <a:pt x="144" y="458"/>
                    </a:lnTo>
                    <a:lnTo>
                      <a:pt x="165" y="484"/>
                    </a:lnTo>
                    <a:lnTo>
                      <a:pt x="187" y="511"/>
                    </a:lnTo>
                    <a:lnTo>
                      <a:pt x="210" y="537"/>
                    </a:lnTo>
                    <a:lnTo>
                      <a:pt x="236" y="564"/>
                    </a:lnTo>
                    <a:close/>
                  </a:path>
                </a:pathLst>
              </a:custGeom>
              <a:solidFill>
                <a:srgbClr val="090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57920" y="3321720"/>
                <a:ext cx="288720" cy="287640"/>
              </a:xfrm>
              <a:custGeom>
                <a:avLst/>
                <a:gdLst/>
                <a:ahLst/>
                <a:rect l="l" t="t" r="r" b="b"/>
                <a:pathLst>
                  <a:path w="1009" h="1008">
                    <a:moveTo>
                      <a:pt x="148" y="148"/>
                    </a:moveTo>
                    <a:lnTo>
                      <a:pt x="112" y="185"/>
                    </a:lnTo>
                    <a:lnTo>
                      <a:pt x="82" y="225"/>
                    </a:lnTo>
                    <a:lnTo>
                      <a:pt x="56" y="266"/>
                    </a:lnTo>
                    <a:lnTo>
                      <a:pt x="36" y="310"/>
                    </a:lnTo>
                    <a:lnTo>
                      <a:pt x="20" y="354"/>
                    </a:lnTo>
                    <a:lnTo>
                      <a:pt x="9" y="403"/>
                    </a:lnTo>
                    <a:lnTo>
                      <a:pt x="2" y="452"/>
                    </a:lnTo>
                    <a:lnTo>
                      <a:pt x="0" y="504"/>
                    </a:lnTo>
                    <a:lnTo>
                      <a:pt x="0" y="529"/>
                    </a:lnTo>
                    <a:lnTo>
                      <a:pt x="2" y="555"/>
                    </a:lnTo>
                    <a:lnTo>
                      <a:pt x="4" y="579"/>
                    </a:lnTo>
                    <a:lnTo>
                      <a:pt x="9" y="603"/>
                    </a:lnTo>
                    <a:lnTo>
                      <a:pt x="13" y="626"/>
                    </a:lnTo>
                    <a:lnTo>
                      <a:pt x="20" y="650"/>
                    </a:lnTo>
                    <a:lnTo>
                      <a:pt x="27" y="673"/>
                    </a:lnTo>
                    <a:lnTo>
                      <a:pt x="36" y="696"/>
                    </a:lnTo>
                    <a:lnTo>
                      <a:pt x="56" y="740"/>
                    </a:lnTo>
                    <a:lnTo>
                      <a:pt x="68" y="760"/>
                    </a:lnTo>
                    <a:lnTo>
                      <a:pt x="82" y="781"/>
                    </a:lnTo>
                    <a:lnTo>
                      <a:pt x="96" y="801"/>
                    </a:lnTo>
                    <a:lnTo>
                      <a:pt x="112" y="821"/>
                    </a:lnTo>
                    <a:lnTo>
                      <a:pt x="129" y="840"/>
                    </a:lnTo>
                    <a:lnTo>
                      <a:pt x="148" y="861"/>
                    </a:lnTo>
                    <a:lnTo>
                      <a:pt x="186" y="895"/>
                    </a:lnTo>
                    <a:lnTo>
                      <a:pt x="225" y="924"/>
                    </a:lnTo>
                    <a:lnTo>
                      <a:pt x="266" y="949"/>
                    </a:lnTo>
                    <a:lnTo>
                      <a:pt x="288" y="961"/>
                    </a:lnTo>
                    <a:lnTo>
                      <a:pt x="310" y="971"/>
                    </a:lnTo>
                    <a:lnTo>
                      <a:pt x="354" y="987"/>
                    </a:lnTo>
                    <a:lnTo>
                      <a:pt x="403" y="998"/>
                    </a:lnTo>
                    <a:lnTo>
                      <a:pt x="452" y="1005"/>
                    </a:lnTo>
                    <a:lnTo>
                      <a:pt x="477" y="1007"/>
                    </a:lnTo>
                    <a:lnTo>
                      <a:pt x="504" y="1008"/>
                    </a:lnTo>
                    <a:lnTo>
                      <a:pt x="529" y="1007"/>
                    </a:lnTo>
                    <a:lnTo>
                      <a:pt x="555" y="1005"/>
                    </a:lnTo>
                    <a:lnTo>
                      <a:pt x="566" y="1003"/>
                    </a:lnTo>
                    <a:lnTo>
                      <a:pt x="569" y="1001"/>
                    </a:lnTo>
                    <a:lnTo>
                      <a:pt x="572" y="1001"/>
                    </a:lnTo>
                    <a:lnTo>
                      <a:pt x="579" y="1001"/>
                    </a:lnTo>
                    <a:lnTo>
                      <a:pt x="604" y="998"/>
                    </a:lnTo>
                    <a:lnTo>
                      <a:pt x="627" y="992"/>
                    </a:lnTo>
                    <a:lnTo>
                      <a:pt x="638" y="989"/>
                    </a:lnTo>
                    <a:lnTo>
                      <a:pt x="650" y="987"/>
                    </a:lnTo>
                    <a:lnTo>
                      <a:pt x="673" y="979"/>
                    </a:lnTo>
                    <a:lnTo>
                      <a:pt x="684" y="974"/>
                    </a:lnTo>
                    <a:lnTo>
                      <a:pt x="690" y="972"/>
                    </a:lnTo>
                    <a:lnTo>
                      <a:pt x="697" y="971"/>
                    </a:lnTo>
                    <a:lnTo>
                      <a:pt x="717" y="961"/>
                    </a:lnTo>
                    <a:lnTo>
                      <a:pt x="740" y="949"/>
                    </a:lnTo>
                    <a:lnTo>
                      <a:pt x="760" y="937"/>
                    </a:lnTo>
                    <a:lnTo>
                      <a:pt x="771" y="930"/>
                    </a:lnTo>
                    <a:lnTo>
                      <a:pt x="782" y="924"/>
                    </a:lnTo>
                    <a:lnTo>
                      <a:pt x="791" y="916"/>
                    </a:lnTo>
                    <a:lnTo>
                      <a:pt x="801" y="910"/>
                    </a:lnTo>
                    <a:lnTo>
                      <a:pt x="822" y="895"/>
                    </a:lnTo>
                    <a:lnTo>
                      <a:pt x="860" y="861"/>
                    </a:lnTo>
                    <a:lnTo>
                      <a:pt x="877" y="840"/>
                    </a:lnTo>
                    <a:lnTo>
                      <a:pt x="878" y="837"/>
                    </a:lnTo>
                    <a:lnTo>
                      <a:pt x="881" y="835"/>
                    </a:lnTo>
                    <a:lnTo>
                      <a:pt x="885" y="830"/>
                    </a:lnTo>
                    <a:lnTo>
                      <a:pt x="894" y="821"/>
                    </a:lnTo>
                    <a:lnTo>
                      <a:pt x="909" y="801"/>
                    </a:lnTo>
                    <a:lnTo>
                      <a:pt x="916" y="791"/>
                    </a:lnTo>
                    <a:lnTo>
                      <a:pt x="924" y="781"/>
                    </a:lnTo>
                    <a:lnTo>
                      <a:pt x="929" y="770"/>
                    </a:lnTo>
                    <a:lnTo>
                      <a:pt x="936" y="760"/>
                    </a:lnTo>
                    <a:lnTo>
                      <a:pt x="949" y="740"/>
                    </a:lnTo>
                    <a:lnTo>
                      <a:pt x="971" y="696"/>
                    </a:lnTo>
                    <a:lnTo>
                      <a:pt x="972" y="690"/>
                    </a:lnTo>
                    <a:lnTo>
                      <a:pt x="975" y="684"/>
                    </a:lnTo>
                    <a:lnTo>
                      <a:pt x="979" y="673"/>
                    </a:lnTo>
                    <a:lnTo>
                      <a:pt x="987" y="650"/>
                    </a:lnTo>
                    <a:lnTo>
                      <a:pt x="989" y="637"/>
                    </a:lnTo>
                    <a:lnTo>
                      <a:pt x="993" y="626"/>
                    </a:lnTo>
                    <a:lnTo>
                      <a:pt x="998" y="603"/>
                    </a:lnTo>
                    <a:lnTo>
                      <a:pt x="1002" y="579"/>
                    </a:lnTo>
                    <a:lnTo>
                      <a:pt x="1002" y="572"/>
                    </a:lnTo>
                    <a:lnTo>
                      <a:pt x="1002" y="568"/>
                    </a:lnTo>
                    <a:lnTo>
                      <a:pt x="1003" y="566"/>
                    </a:lnTo>
                    <a:lnTo>
                      <a:pt x="1005" y="555"/>
                    </a:lnTo>
                    <a:lnTo>
                      <a:pt x="1008" y="529"/>
                    </a:lnTo>
                    <a:lnTo>
                      <a:pt x="1009" y="504"/>
                    </a:lnTo>
                    <a:lnTo>
                      <a:pt x="1008" y="476"/>
                    </a:lnTo>
                    <a:lnTo>
                      <a:pt x="1005" y="452"/>
                    </a:lnTo>
                    <a:lnTo>
                      <a:pt x="998" y="403"/>
                    </a:lnTo>
                    <a:lnTo>
                      <a:pt x="987" y="354"/>
                    </a:lnTo>
                    <a:lnTo>
                      <a:pt x="971" y="310"/>
                    </a:lnTo>
                    <a:lnTo>
                      <a:pt x="949" y="266"/>
                    </a:lnTo>
                    <a:lnTo>
                      <a:pt x="924" y="225"/>
                    </a:lnTo>
                    <a:lnTo>
                      <a:pt x="894" y="185"/>
                    </a:lnTo>
                    <a:lnTo>
                      <a:pt x="860" y="148"/>
                    </a:lnTo>
                    <a:lnTo>
                      <a:pt x="822" y="111"/>
                    </a:lnTo>
                    <a:lnTo>
                      <a:pt x="801" y="96"/>
                    </a:lnTo>
                    <a:lnTo>
                      <a:pt x="782" y="82"/>
                    </a:lnTo>
                    <a:lnTo>
                      <a:pt x="760" y="68"/>
                    </a:lnTo>
                    <a:lnTo>
                      <a:pt x="740" y="57"/>
                    </a:lnTo>
                    <a:lnTo>
                      <a:pt x="697" y="37"/>
                    </a:lnTo>
                    <a:lnTo>
                      <a:pt x="673" y="27"/>
                    </a:lnTo>
                    <a:lnTo>
                      <a:pt x="650" y="21"/>
                    </a:lnTo>
                    <a:lnTo>
                      <a:pt x="627" y="14"/>
                    </a:lnTo>
                    <a:lnTo>
                      <a:pt x="604" y="9"/>
                    </a:lnTo>
                    <a:lnTo>
                      <a:pt x="579" y="5"/>
                    </a:lnTo>
                    <a:lnTo>
                      <a:pt x="555" y="3"/>
                    </a:lnTo>
                    <a:lnTo>
                      <a:pt x="529" y="0"/>
                    </a:lnTo>
                    <a:lnTo>
                      <a:pt x="504" y="0"/>
                    </a:lnTo>
                    <a:lnTo>
                      <a:pt x="452" y="3"/>
                    </a:lnTo>
                    <a:lnTo>
                      <a:pt x="403" y="9"/>
                    </a:lnTo>
                    <a:lnTo>
                      <a:pt x="354" y="21"/>
                    </a:lnTo>
                    <a:lnTo>
                      <a:pt x="310" y="37"/>
                    </a:lnTo>
                    <a:lnTo>
                      <a:pt x="266" y="57"/>
                    </a:lnTo>
                    <a:lnTo>
                      <a:pt x="225" y="82"/>
                    </a:lnTo>
                    <a:lnTo>
                      <a:pt x="186" y="111"/>
                    </a:lnTo>
                    <a:lnTo>
                      <a:pt x="148" y="1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33880" y="3401640"/>
                <a:ext cx="144360" cy="132480"/>
              </a:xfrm>
              <a:custGeom>
                <a:avLst/>
                <a:gdLst/>
                <a:ahLst/>
                <a:rect l="l" t="t" r="r" b="b"/>
                <a:pathLst>
                  <a:path w="506" h="465">
                    <a:moveTo>
                      <a:pt x="506" y="275"/>
                    </a:moveTo>
                    <a:lnTo>
                      <a:pt x="506" y="175"/>
                    </a:lnTo>
                    <a:lnTo>
                      <a:pt x="290" y="175"/>
                    </a:lnTo>
                    <a:lnTo>
                      <a:pt x="290" y="0"/>
                    </a:lnTo>
                    <a:lnTo>
                      <a:pt x="199" y="0"/>
                    </a:lnTo>
                    <a:lnTo>
                      <a:pt x="199" y="175"/>
                    </a:lnTo>
                    <a:lnTo>
                      <a:pt x="0" y="175"/>
                    </a:lnTo>
                    <a:lnTo>
                      <a:pt x="0" y="275"/>
                    </a:lnTo>
                    <a:lnTo>
                      <a:pt x="199" y="275"/>
                    </a:lnTo>
                    <a:lnTo>
                      <a:pt x="199" y="465"/>
                    </a:lnTo>
                    <a:lnTo>
                      <a:pt x="290" y="465"/>
                    </a:lnTo>
                    <a:lnTo>
                      <a:pt x="290" y="275"/>
                    </a:lnTo>
                    <a:lnTo>
                      <a:pt x="506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33880" y="3401640"/>
                <a:ext cx="144360" cy="132480"/>
              </a:xfrm>
              <a:custGeom>
                <a:avLst/>
                <a:gdLst/>
                <a:ahLst/>
                <a:rect l="l" t="t" r="r" b="b"/>
                <a:pathLst>
                  <a:path w="506" h="465">
                    <a:moveTo>
                      <a:pt x="506" y="175"/>
                    </a:moveTo>
                    <a:lnTo>
                      <a:pt x="290" y="175"/>
                    </a:lnTo>
                    <a:lnTo>
                      <a:pt x="290" y="0"/>
                    </a:lnTo>
                    <a:lnTo>
                      <a:pt x="199" y="0"/>
                    </a:lnTo>
                    <a:lnTo>
                      <a:pt x="199" y="175"/>
                    </a:lnTo>
                    <a:lnTo>
                      <a:pt x="0" y="175"/>
                    </a:lnTo>
                    <a:lnTo>
                      <a:pt x="0" y="275"/>
                    </a:lnTo>
                    <a:lnTo>
                      <a:pt x="199" y="275"/>
                    </a:lnTo>
                    <a:lnTo>
                      <a:pt x="199" y="465"/>
                    </a:lnTo>
                    <a:lnTo>
                      <a:pt x="290" y="465"/>
                    </a:lnTo>
                    <a:lnTo>
                      <a:pt x="290" y="275"/>
                    </a:lnTo>
                    <a:lnTo>
                      <a:pt x="506" y="275"/>
                    </a:lnTo>
                    <a:lnTo>
                      <a:pt x="506" y="1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097040" y="3356280"/>
                <a:ext cx="169560" cy="223200"/>
              </a:xfrm>
              <a:custGeom>
                <a:avLst/>
                <a:gdLst/>
                <a:ahLst/>
                <a:rect l="l" t="t" r="r" b="b"/>
                <a:pathLst>
                  <a:path w="593" h="783">
                    <a:moveTo>
                      <a:pt x="145" y="0"/>
                    </a:moveTo>
                    <a:lnTo>
                      <a:pt x="121" y="0"/>
                    </a:lnTo>
                    <a:lnTo>
                      <a:pt x="91" y="33"/>
                    </a:lnTo>
                    <a:lnTo>
                      <a:pt x="67" y="68"/>
                    </a:lnTo>
                    <a:lnTo>
                      <a:pt x="46" y="105"/>
                    </a:lnTo>
                    <a:lnTo>
                      <a:pt x="30" y="144"/>
                    </a:lnTo>
                    <a:lnTo>
                      <a:pt x="16" y="183"/>
                    </a:lnTo>
                    <a:lnTo>
                      <a:pt x="7" y="225"/>
                    </a:lnTo>
                    <a:lnTo>
                      <a:pt x="1" y="268"/>
                    </a:lnTo>
                    <a:lnTo>
                      <a:pt x="0" y="313"/>
                    </a:lnTo>
                    <a:lnTo>
                      <a:pt x="1" y="360"/>
                    </a:lnTo>
                    <a:lnTo>
                      <a:pt x="4" y="383"/>
                    </a:lnTo>
                    <a:lnTo>
                      <a:pt x="8" y="406"/>
                    </a:lnTo>
                    <a:lnTo>
                      <a:pt x="18" y="451"/>
                    </a:lnTo>
                    <a:lnTo>
                      <a:pt x="34" y="494"/>
                    </a:lnTo>
                    <a:lnTo>
                      <a:pt x="42" y="513"/>
                    </a:lnTo>
                    <a:lnTo>
                      <a:pt x="53" y="533"/>
                    </a:lnTo>
                    <a:lnTo>
                      <a:pt x="76" y="572"/>
                    </a:lnTo>
                    <a:lnTo>
                      <a:pt x="89" y="590"/>
                    </a:lnTo>
                    <a:lnTo>
                      <a:pt x="104" y="609"/>
                    </a:lnTo>
                    <a:lnTo>
                      <a:pt x="138" y="646"/>
                    </a:lnTo>
                    <a:lnTo>
                      <a:pt x="172" y="677"/>
                    </a:lnTo>
                    <a:lnTo>
                      <a:pt x="209" y="705"/>
                    </a:lnTo>
                    <a:lnTo>
                      <a:pt x="246" y="727"/>
                    </a:lnTo>
                    <a:lnTo>
                      <a:pt x="288" y="748"/>
                    </a:lnTo>
                    <a:lnTo>
                      <a:pt x="330" y="762"/>
                    </a:lnTo>
                    <a:lnTo>
                      <a:pt x="375" y="774"/>
                    </a:lnTo>
                    <a:lnTo>
                      <a:pt x="420" y="781"/>
                    </a:lnTo>
                    <a:lnTo>
                      <a:pt x="469" y="783"/>
                    </a:lnTo>
                    <a:lnTo>
                      <a:pt x="471" y="782"/>
                    </a:lnTo>
                    <a:lnTo>
                      <a:pt x="474" y="782"/>
                    </a:lnTo>
                    <a:lnTo>
                      <a:pt x="481" y="782"/>
                    </a:lnTo>
                    <a:lnTo>
                      <a:pt x="495" y="782"/>
                    </a:lnTo>
                    <a:lnTo>
                      <a:pt x="522" y="779"/>
                    </a:lnTo>
                    <a:lnTo>
                      <a:pt x="534" y="777"/>
                    </a:lnTo>
                    <a:lnTo>
                      <a:pt x="548" y="776"/>
                    </a:lnTo>
                    <a:lnTo>
                      <a:pt x="574" y="771"/>
                    </a:lnTo>
                    <a:lnTo>
                      <a:pt x="583" y="754"/>
                    </a:lnTo>
                    <a:lnTo>
                      <a:pt x="593" y="739"/>
                    </a:lnTo>
                    <a:lnTo>
                      <a:pt x="563" y="745"/>
                    </a:lnTo>
                    <a:lnTo>
                      <a:pt x="547" y="748"/>
                    </a:lnTo>
                    <a:lnTo>
                      <a:pt x="542" y="748"/>
                    </a:lnTo>
                    <a:lnTo>
                      <a:pt x="540" y="748"/>
                    </a:lnTo>
                    <a:lnTo>
                      <a:pt x="539" y="748"/>
                    </a:lnTo>
                    <a:lnTo>
                      <a:pt x="539" y="749"/>
                    </a:lnTo>
                    <a:lnTo>
                      <a:pt x="532" y="751"/>
                    </a:lnTo>
                    <a:lnTo>
                      <a:pt x="500" y="754"/>
                    </a:lnTo>
                    <a:lnTo>
                      <a:pt x="469" y="756"/>
                    </a:lnTo>
                    <a:lnTo>
                      <a:pt x="422" y="753"/>
                    </a:lnTo>
                    <a:lnTo>
                      <a:pt x="379" y="746"/>
                    </a:lnTo>
                    <a:lnTo>
                      <a:pt x="337" y="736"/>
                    </a:lnTo>
                    <a:lnTo>
                      <a:pt x="299" y="723"/>
                    </a:lnTo>
                    <a:lnTo>
                      <a:pt x="260" y="703"/>
                    </a:lnTo>
                    <a:lnTo>
                      <a:pt x="224" y="681"/>
                    </a:lnTo>
                    <a:lnTo>
                      <a:pt x="189" y="655"/>
                    </a:lnTo>
                    <a:lnTo>
                      <a:pt x="157" y="625"/>
                    </a:lnTo>
                    <a:lnTo>
                      <a:pt x="125" y="591"/>
                    </a:lnTo>
                    <a:lnTo>
                      <a:pt x="99" y="556"/>
                    </a:lnTo>
                    <a:lnTo>
                      <a:pt x="76" y="520"/>
                    </a:lnTo>
                    <a:lnTo>
                      <a:pt x="59" y="482"/>
                    </a:lnTo>
                    <a:lnTo>
                      <a:pt x="45" y="443"/>
                    </a:lnTo>
                    <a:lnTo>
                      <a:pt x="39" y="421"/>
                    </a:lnTo>
                    <a:lnTo>
                      <a:pt x="35" y="401"/>
                    </a:lnTo>
                    <a:lnTo>
                      <a:pt x="29" y="358"/>
                    </a:lnTo>
                    <a:lnTo>
                      <a:pt x="28" y="313"/>
                    </a:lnTo>
                    <a:lnTo>
                      <a:pt x="29" y="267"/>
                    </a:lnTo>
                    <a:lnTo>
                      <a:pt x="35" y="224"/>
                    </a:lnTo>
                    <a:lnTo>
                      <a:pt x="45" y="182"/>
                    </a:lnTo>
                    <a:lnTo>
                      <a:pt x="59" y="143"/>
                    </a:lnTo>
                    <a:lnTo>
                      <a:pt x="76" y="105"/>
                    </a:lnTo>
                    <a:lnTo>
                      <a:pt x="99" y="68"/>
                    </a:lnTo>
                    <a:lnTo>
                      <a:pt x="125" y="33"/>
                    </a:lnTo>
                    <a:lnTo>
                      <a:pt x="157" y="2"/>
                    </a:lnTo>
                    <a:lnTo>
                      <a:pt x="159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324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104960" y="3356280"/>
                <a:ext cx="166320" cy="215640"/>
              </a:xfrm>
              <a:custGeom>
                <a:avLst/>
                <a:gdLst/>
                <a:ahLst/>
                <a:rect l="l" t="t" r="r" b="b"/>
                <a:pathLst>
                  <a:path w="582" h="756">
                    <a:moveTo>
                      <a:pt x="131" y="0"/>
                    </a:moveTo>
                    <a:lnTo>
                      <a:pt x="129" y="2"/>
                    </a:lnTo>
                    <a:lnTo>
                      <a:pt x="97" y="33"/>
                    </a:lnTo>
                    <a:lnTo>
                      <a:pt x="71" y="68"/>
                    </a:lnTo>
                    <a:lnTo>
                      <a:pt x="48" y="105"/>
                    </a:lnTo>
                    <a:lnTo>
                      <a:pt x="31" y="143"/>
                    </a:lnTo>
                    <a:lnTo>
                      <a:pt x="17" y="182"/>
                    </a:lnTo>
                    <a:lnTo>
                      <a:pt x="7" y="224"/>
                    </a:lnTo>
                    <a:lnTo>
                      <a:pt x="1" y="267"/>
                    </a:lnTo>
                    <a:lnTo>
                      <a:pt x="0" y="313"/>
                    </a:lnTo>
                    <a:lnTo>
                      <a:pt x="1" y="358"/>
                    </a:lnTo>
                    <a:lnTo>
                      <a:pt x="7" y="401"/>
                    </a:lnTo>
                    <a:lnTo>
                      <a:pt x="11" y="421"/>
                    </a:lnTo>
                    <a:lnTo>
                      <a:pt x="17" y="443"/>
                    </a:lnTo>
                    <a:lnTo>
                      <a:pt x="31" y="482"/>
                    </a:lnTo>
                    <a:lnTo>
                      <a:pt x="48" y="520"/>
                    </a:lnTo>
                    <a:lnTo>
                      <a:pt x="71" y="556"/>
                    </a:lnTo>
                    <a:lnTo>
                      <a:pt x="97" y="591"/>
                    </a:lnTo>
                    <a:lnTo>
                      <a:pt x="129" y="625"/>
                    </a:lnTo>
                    <a:lnTo>
                      <a:pt x="161" y="655"/>
                    </a:lnTo>
                    <a:lnTo>
                      <a:pt x="196" y="681"/>
                    </a:lnTo>
                    <a:lnTo>
                      <a:pt x="232" y="703"/>
                    </a:lnTo>
                    <a:lnTo>
                      <a:pt x="271" y="723"/>
                    </a:lnTo>
                    <a:lnTo>
                      <a:pt x="309" y="736"/>
                    </a:lnTo>
                    <a:lnTo>
                      <a:pt x="351" y="746"/>
                    </a:lnTo>
                    <a:lnTo>
                      <a:pt x="394" y="753"/>
                    </a:lnTo>
                    <a:lnTo>
                      <a:pt x="441" y="756"/>
                    </a:lnTo>
                    <a:lnTo>
                      <a:pt x="472" y="754"/>
                    </a:lnTo>
                    <a:lnTo>
                      <a:pt x="504" y="751"/>
                    </a:lnTo>
                    <a:lnTo>
                      <a:pt x="511" y="749"/>
                    </a:lnTo>
                    <a:lnTo>
                      <a:pt x="511" y="748"/>
                    </a:lnTo>
                    <a:lnTo>
                      <a:pt x="512" y="748"/>
                    </a:lnTo>
                    <a:lnTo>
                      <a:pt x="514" y="748"/>
                    </a:lnTo>
                    <a:lnTo>
                      <a:pt x="519" y="748"/>
                    </a:lnTo>
                    <a:lnTo>
                      <a:pt x="535" y="745"/>
                    </a:lnTo>
                    <a:lnTo>
                      <a:pt x="565" y="739"/>
                    </a:lnTo>
                    <a:lnTo>
                      <a:pt x="582" y="705"/>
                    </a:lnTo>
                    <a:lnTo>
                      <a:pt x="548" y="714"/>
                    </a:lnTo>
                    <a:lnTo>
                      <a:pt x="530" y="717"/>
                    </a:lnTo>
                    <a:lnTo>
                      <a:pt x="513" y="722"/>
                    </a:lnTo>
                    <a:lnTo>
                      <a:pt x="477" y="725"/>
                    </a:lnTo>
                    <a:lnTo>
                      <a:pt x="441" y="727"/>
                    </a:lnTo>
                    <a:lnTo>
                      <a:pt x="398" y="725"/>
                    </a:lnTo>
                    <a:lnTo>
                      <a:pt x="357" y="719"/>
                    </a:lnTo>
                    <a:lnTo>
                      <a:pt x="317" y="709"/>
                    </a:lnTo>
                    <a:lnTo>
                      <a:pt x="281" y="697"/>
                    </a:lnTo>
                    <a:lnTo>
                      <a:pt x="244" y="678"/>
                    </a:lnTo>
                    <a:lnTo>
                      <a:pt x="210" y="658"/>
                    </a:lnTo>
                    <a:lnTo>
                      <a:pt x="178" y="633"/>
                    </a:lnTo>
                    <a:lnTo>
                      <a:pt x="148" y="606"/>
                    </a:lnTo>
                    <a:lnTo>
                      <a:pt x="119" y="574"/>
                    </a:lnTo>
                    <a:lnTo>
                      <a:pt x="95" y="541"/>
                    </a:lnTo>
                    <a:lnTo>
                      <a:pt x="73" y="506"/>
                    </a:lnTo>
                    <a:lnTo>
                      <a:pt x="64" y="488"/>
                    </a:lnTo>
                    <a:lnTo>
                      <a:pt x="57" y="471"/>
                    </a:lnTo>
                    <a:lnTo>
                      <a:pt x="49" y="452"/>
                    </a:lnTo>
                    <a:lnTo>
                      <a:pt x="44" y="434"/>
                    </a:lnTo>
                    <a:lnTo>
                      <a:pt x="35" y="395"/>
                    </a:lnTo>
                    <a:lnTo>
                      <a:pt x="29" y="354"/>
                    </a:lnTo>
                    <a:lnTo>
                      <a:pt x="28" y="313"/>
                    </a:lnTo>
                    <a:lnTo>
                      <a:pt x="29" y="270"/>
                    </a:lnTo>
                    <a:lnTo>
                      <a:pt x="35" y="229"/>
                    </a:lnTo>
                    <a:lnTo>
                      <a:pt x="44" y="190"/>
                    </a:lnTo>
                    <a:lnTo>
                      <a:pt x="57" y="154"/>
                    </a:lnTo>
                    <a:lnTo>
                      <a:pt x="73" y="117"/>
                    </a:lnTo>
                    <a:lnTo>
                      <a:pt x="95" y="83"/>
                    </a:lnTo>
                    <a:lnTo>
                      <a:pt x="119" y="50"/>
                    </a:lnTo>
                    <a:lnTo>
                      <a:pt x="148" y="21"/>
                    </a:lnTo>
                    <a:lnTo>
                      <a:pt x="168" y="3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365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065720" y="3361680"/>
                <a:ext cx="173880" cy="248760"/>
              </a:xfrm>
              <a:custGeom>
                <a:avLst/>
                <a:gdLst/>
                <a:ahLst/>
                <a:rect l="l" t="t" r="r" b="b"/>
                <a:pathLst>
                  <a:path w="608" h="873">
                    <a:moveTo>
                      <a:pt x="111" y="0"/>
                    </a:moveTo>
                    <a:lnTo>
                      <a:pt x="90" y="5"/>
                    </a:lnTo>
                    <a:lnTo>
                      <a:pt x="71" y="13"/>
                    </a:lnTo>
                    <a:lnTo>
                      <a:pt x="54" y="44"/>
                    </a:lnTo>
                    <a:lnTo>
                      <a:pt x="39" y="77"/>
                    </a:lnTo>
                    <a:lnTo>
                      <a:pt x="17" y="146"/>
                    </a:lnTo>
                    <a:lnTo>
                      <a:pt x="9" y="181"/>
                    </a:lnTo>
                    <a:lnTo>
                      <a:pt x="4" y="217"/>
                    </a:lnTo>
                    <a:lnTo>
                      <a:pt x="0" y="293"/>
                    </a:lnTo>
                    <a:lnTo>
                      <a:pt x="0" y="322"/>
                    </a:lnTo>
                    <a:lnTo>
                      <a:pt x="3" y="351"/>
                    </a:lnTo>
                    <a:lnTo>
                      <a:pt x="5" y="380"/>
                    </a:lnTo>
                    <a:lnTo>
                      <a:pt x="11" y="409"/>
                    </a:lnTo>
                    <a:lnTo>
                      <a:pt x="15" y="435"/>
                    </a:lnTo>
                    <a:lnTo>
                      <a:pt x="23" y="462"/>
                    </a:lnTo>
                    <a:lnTo>
                      <a:pt x="31" y="488"/>
                    </a:lnTo>
                    <a:lnTo>
                      <a:pt x="42" y="516"/>
                    </a:lnTo>
                    <a:lnTo>
                      <a:pt x="53" y="539"/>
                    </a:lnTo>
                    <a:lnTo>
                      <a:pt x="65" y="564"/>
                    </a:lnTo>
                    <a:lnTo>
                      <a:pt x="79" y="588"/>
                    </a:lnTo>
                    <a:lnTo>
                      <a:pt x="94" y="613"/>
                    </a:lnTo>
                    <a:lnTo>
                      <a:pt x="128" y="658"/>
                    </a:lnTo>
                    <a:lnTo>
                      <a:pt x="148" y="680"/>
                    </a:lnTo>
                    <a:lnTo>
                      <a:pt x="169" y="703"/>
                    </a:lnTo>
                    <a:lnTo>
                      <a:pt x="211" y="741"/>
                    </a:lnTo>
                    <a:lnTo>
                      <a:pt x="258" y="775"/>
                    </a:lnTo>
                    <a:lnTo>
                      <a:pt x="280" y="790"/>
                    </a:lnTo>
                    <a:lnTo>
                      <a:pt x="304" y="804"/>
                    </a:lnTo>
                    <a:lnTo>
                      <a:pt x="355" y="829"/>
                    </a:lnTo>
                    <a:lnTo>
                      <a:pt x="406" y="847"/>
                    </a:lnTo>
                    <a:lnTo>
                      <a:pt x="462" y="860"/>
                    </a:lnTo>
                    <a:lnTo>
                      <a:pt x="489" y="865"/>
                    </a:lnTo>
                    <a:lnTo>
                      <a:pt x="517" y="868"/>
                    </a:lnTo>
                    <a:lnTo>
                      <a:pt x="577" y="873"/>
                    </a:lnTo>
                    <a:lnTo>
                      <a:pt x="608" y="844"/>
                    </a:lnTo>
                    <a:lnTo>
                      <a:pt x="579" y="846"/>
                    </a:lnTo>
                    <a:lnTo>
                      <a:pt x="549" y="844"/>
                    </a:lnTo>
                    <a:lnTo>
                      <a:pt x="521" y="842"/>
                    </a:lnTo>
                    <a:lnTo>
                      <a:pt x="468" y="835"/>
                    </a:lnTo>
                    <a:lnTo>
                      <a:pt x="415" y="822"/>
                    </a:lnTo>
                    <a:lnTo>
                      <a:pt x="390" y="814"/>
                    </a:lnTo>
                    <a:lnTo>
                      <a:pt x="367" y="805"/>
                    </a:lnTo>
                    <a:lnTo>
                      <a:pt x="342" y="793"/>
                    </a:lnTo>
                    <a:lnTo>
                      <a:pt x="318" y="781"/>
                    </a:lnTo>
                    <a:lnTo>
                      <a:pt x="272" y="754"/>
                    </a:lnTo>
                    <a:lnTo>
                      <a:pt x="228" y="720"/>
                    </a:lnTo>
                    <a:lnTo>
                      <a:pt x="189" y="683"/>
                    </a:lnTo>
                    <a:lnTo>
                      <a:pt x="168" y="662"/>
                    </a:lnTo>
                    <a:lnTo>
                      <a:pt x="150" y="641"/>
                    </a:lnTo>
                    <a:lnTo>
                      <a:pt x="117" y="598"/>
                    </a:lnTo>
                    <a:lnTo>
                      <a:pt x="102" y="575"/>
                    </a:lnTo>
                    <a:lnTo>
                      <a:pt x="90" y="552"/>
                    </a:lnTo>
                    <a:lnTo>
                      <a:pt x="77" y="528"/>
                    </a:lnTo>
                    <a:lnTo>
                      <a:pt x="67" y="505"/>
                    </a:lnTo>
                    <a:lnTo>
                      <a:pt x="57" y="479"/>
                    </a:lnTo>
                    <a:lnTo>
                      <a:pt x="49" y="454"/>
                    </a:lnTo>
                    <a:lnTo>
                      <a:pt x="41" y="428"/>
                    </a:lnTo>
                    <a:lnTo>
                      <a:pt x="37" y="403"/>
                    </a:lnTo>
                    <a:lnTo>
                      <a:pt x="30" y="349"/>
                    </a:lnTo>
                    <a:lnTo>
                      <a:pt x="28" y="321"/>
                    </a:lnTo>
                    <a:lnTo>
                      <a:pt x="28" y="293"/>
                    </a:lnTo>
                    <a:lnTo>
                      <a:pt x="29" y="251"/>
                    </a:lnTo>
                    <a:lnTo>
                      <a:pt x="32" y="212"/>
                    </a:lnTo>
                    <a:lnTo>
                      <a:pt x="38" y="173"/>
                    </a:lnTo>
                    <a:lnTo>
                      <a:pt x="48" y="137"/>
                    </a:lnTo>
                    <a:lnTo>
                      <a:pt x="59" y="101"/>
                    </a:lnTo>
                    <a:lnTo>
                      <a:pt x="74" y="66"/>
                    </a:lnTo>
                    <a:lnTo>
                      <a:pt x="91" y="31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263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057800" y="3366000"/>
                <a:ext cx="173160" cy="252720"/>
              </a:xfrm>
              <a:custGeom>
                <a:avLst/>
                <a:gdLst/>
                <a:ahLst/>
                <a:rect l="l" t="t" r="r" b="b"/>
                <a:pathLst>
                  <a:path w="605" h="887">
                    <a:moveTo>
                      <a:pt x="99" y="0"/>
                    </a:moveTo>
                    <a:lnTo>
                      <a:pt x="77" y="8"/>
                    </a:lnTo>
                    <a:lnTo>
                      <a:pt x="58" y="18"/>
                    </a:lnTo>
                    <a:lnTo>
                      <a:pt x="32" y="79"/>
                    </a:lnTo>
                    <a:lnTo>
                      <a:pt x="22" y="110"/>
                    </a:lnTo>
                    <a:lnTo>
                      <a:pt x="14" y="143"/>
                    </a:lnTo>
                    <a:lnTo>
                      <a:pt x="3" y="210"/>
                    </a:lnTo>
                    <a:lnTo>
                      <a:pt x="0" y="244"/>
                    </a:lnTo>
                    <a:lnTo>
                      <a:pt x="0" y="280"/>
                    </a:lnTo>
                    <a:lnTo>
                      <a:pt x="0" y="310"/>
                    </a:lnTo>
                    <a:lnTo>
                      <a:pt x="2" y="340"/>
                    </a:lnTo>
                    <a:lnTo>
                      <a:pt x="5" y="370"/>
                    </a:lnTo>
                    <a:lnTo>
                      <a:pt x="10" y="401"/>
                    </a:lnTo>
                    <a:lnTo>
                      <a:pt x="16" y="429"/>
                    </a:lnTo>
                    <a:lnTo>
                      <a:pt x="24" y="457"/>
                    </a:lnTo>
                    <a:lnTo>
                      <a:pt x="33" y="484"/>
                    </a:lnTo>
                    <a:lnTo>
                      <a:pt x="44" y="513"/>
                    </a:lnTo>
                    <a:lnTo>
                      <a:pt x="54" y="538"/>
                    </a:lnTo>
                    <a:lnTo>
                      <a:pt x="68" y="564"/>
                    </a:lnTo>
                    <a:lnTo>
                      <a:pt x="82" y="589"/>
                    </a:lnTo>
                    <a:lnTo>
                      <a:pt x="99" y="615"/>
                    </a:lnTo>
                    <a:lnTo>
                      <a:pt x="116" y="639"/>
                    </a:lnTo>
                    <a:lnTo>
                      <a:pt x="135" y="664"/>
                    </a:lnTo>
                    <a:lnTo>
                      <a:pt x="155" y="686"/>
                    </a:lnTo>
                    <a:lnTo>
                      <a:pt x="178" y="710"/>
                    </a:lnTo>
                    <a:lnTo>
                      <a:pt x="198" y="729"/>
                    </a:lnTo>
                    <a:lnTo>
                      <a:pt x="219" y="748"/>
                    </a:lnTo>
                    <a:lnTo>
                      <a:pt x="263" y="782"/>
                    </a:lnTo>
                    <a:lnTo>
                      <a:pt x="310" y="811"/>
                    </a:lnTo>
                    <a:lnTo>
                      <a:pt x="358" y="836"/>
                    </a:lnTo>
                    <a:lnTo>
                      <a:pt x="407" y="854"/>
                    </a:lnTo>
                    <a:lnTo>
                      <a:pt x="460" y="870"/>
                    </a:lnTo>
                    <a:lnTo>
                      <a:pt x="486" y="876"/>
                    </a:lnTo>
                    <a:lnTo>
                      <a:pt x="514" y="880"/>
                    </a:lnTo>
                    <a:lnTo>
                      <a:pt x="571" y="887"/>
                    </a:lnTo>
                    <a:lnTo>
                      <a:pt x="605" y="860"/>
                    </a:lnTo>
                    <a:lnTo>
                      <a:pt x="545" y="855"/>
                    </a:lnTo>
                    <a:lnTo>
                      <a:pt x="517" y="852"/>
                    </a:lnTo>
                    <a:lnTo>
                      <a:pt x="490" y="847"/>
                    </a:lnTo>
                    <a:lnTo>
                      <a:pt x="434" y="834"/>
                    </a:lnTo>
                    <a:lnTo>
                      <a:pt x="383" y="816"/>
                    </a:lnTo>
                    <a:lnTo>
                      <a:pt x="332" y="791"/>
                    </a:lnTo>
                    <a:lnTo>
                      <a:pt x="308" y="777"/>
                    </a:lnTo>
                    <a:lnTo>
                      <a:pt x="286" y="762"/>
                    </a:lnTo>
                    <a:lnTo>
                      <a:pt x="239" y="728"/>
                    </a:lnTo>
                    <a:lnTo>
                      <a:pt x="197" y="690"/>
                    </a:lnTo>
                    <a:lnTo>
                      <a:pt x="176" y="667"/>
                    </a:lnTo>
                    <a:lnTo>
                      <a:pt x="156" y="645"/>
                    </a:lnTo>
                    <a:lnTo>
                      <a:pt x="122" y="600"/>
                    </a:lnTo>
                    <a:lnTo>
                      <a:pt x="107" y="575"/>
                    </a:lnTo>
                    <a:lnTo>
                      <a:pt x="93" y="551"/>
                    </a:lnTo>
                    <a:lnTo>
                      <a:pt x="81" y="526"/>
                    </a:lnTo>
                    <a:lnTo>
                      <a:pt x="70" y="503"/>
                    </a:lnTo>
                    <a:lnTo>
                      <a:pt x="59" y="475"/>
                    </a:lnTo>
                    <a:lnTo>
                      <a:pt x="51" y="449"/>
                    </a:lnTo>
                    <a:lnTo>
                      <a:pt x="43" y="422"/>
                    </a:lnTo>
                    <a:lnTo>
                      <a:pt x="39" y="396"/>
                    </a:lnTo>
                    <a:lnTo>
                      <a:pt x="33" y="367"/>
                    </a:lnTo>
                    <a:lnTo>
                      <a:pt x="31" y="338"/>
                    </a:lnTo>
                    <a:lnTo>
                      <a:pt x="28" y="309"/>
                    </a:lnTo>
                    <a:lnTo>
                      <a:pt x="28" y="280"/>
                    </a:lnTo>
                    <a:lnTo>
                      <a:pt x="32" y="204"/>
                    </a:lnTo>
                    <a:lnTo>
                      <a:pt x="37" y="168"/>
                    </a:lnTo>
                    <a:lnTo>
                      <a:pt x="45" y="133"/>
                    </a:lnTo>
                    <a:lnTo>
                      <a:pt x="67" y="64"/>
                    </a:lnTo>
                    <a:lnTo>
                      <a:pt x="82" y="3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223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049880" y="3371040"/>
                <a:ext cx="171360" cy="254520"/>
              </a:xfrm>
              <a:custGeom>
                <a:avLst/>
                <a:gdLst/>
                <a:ahLst/>
                <a:rect l="l" t="t" r="r" b="b"/>
                <a:pathLst>
                  <a:path w="598" h="894">
                    <a:moveTo>
                      <a:pt x="85" y="0"/>
                    </a:moveTo>
                    <a:lnTo>
                      <a:pt x="44" y="24"/>
                    </a:lnTo>
                    <a:lnTo>
                      <a:pt x="24" y="80"/>
                    </a:lnTo>
                    <a:lnTo>
                      <a:pt x="10" y="138"/>
                    </a:lnTo>
                    <a:lnTo>
                      <a:pt x="2" y="198"/>
                    </a:lnTo>
                    <a:lnTo>
                      <a:pt x="0" y="262"/>
                    </a:lnTo>
                    <a:lnTo>
                      <a:pt x="0" y="294"/>
                    </a:lnTo>
                    <a:lnTo>
                      <a:pt x="2" y="326"/>
                    </a:lnTo>
                    <a:lnTo>
                      <a:pt x="5" y="356"/>
                    </a:lnTo>
                    <a:lnTo>
                      <a:pt x="11" y="388"/>
                    </a:lnTo>
                    <a:lnTo>
                      <a:pt x="17" y="418"/>
                    </a:lnTo>
                    <a:lnTo>
                      <a:pt x="25" y="448"/>
                    </a:lnTo>
                    <a:lnTo>
                      <a:pt x="34" y="477"/>
                    </a:lnTo>
                    <a:lnTo>
                      <a:pt x="46" y="506"/>
                    </a:lnTo>
                    <a:lnTo>
                      <a:pt x="58" y="532"/>
                    </a:lnTo>
                    <a:lnTo>
                      <a:pt x="71" y="559"/>
                    </a:lnTo>
                    <a:lnTo>
                      <a:pt x="86" y="586"/>
                    </a:lnTo>
                    <a:lnTo>
                      <a:pt x="104" y="613"/>
                    </a:lnTo>
                    <a:lnTo>
                      <a:pt x="121" y="638"/>
                    </a:lnTo>
                    <a:lnTo>
                      <a:pt x="142" y="663"/>
                    </a:lnTo>
                    <a:lnTo>
                      <a:pt x="162" y="686"/>
                    </a:lnTo>
                    <a:lnTo>
                      <a:pt x="186" y="711"/>
                    </a:lnTo>
                    <a:lnTo>
                      <a:pt x="225" y="748"/>
                    </a:lnTo>
                    <a:lnTo>
                      <a:pt x="269" y="782"/>
                    </a:lnTo>
                    <a:lnTo>
                      <a:pt x="312" y="811"/>
                    </a:lnTo>
                    <a:lnTo>
                      <a:pt x="358" y="836"/>
                    </a:lnTo>
                    <a:lnTo>
                      <a:pt x="405" y="856"/>
                    </a:lnTo>
                    <a:lnTo>
                      <a:pt x="454" y="872"/>
                    </a:lnTo>
                    <a:lnTo>
                      <a:pt x="505" y="885"/>
                    </a:lnTo>
                    <a:lnTo>
                      <a:pt x="559" y="894"/>
                    </a:lnTo>
                    <a:lnTo>
                      <a:pt x="598" y="869"/>
                    </a:lnTo>
                    <a:lnTo>
                      <a:pt x="541" y="862"/>
                    </a:lnTo>
                    <a:lnTo>
                      <a:pt x="513" y="858"/>
                    </a:lnTo>
                    <a:lnTo>
                      <a:pt x="487" y="852"/>
                    </a:lnTo>
                    <a:lnTo>
                      <a:pt x="434" y="836"/>
                    </a:lnTo>
                    <a:lnTo>
                      <a:pt x="385" y="818"/>
                    </a:lnTo>
                    <a:lnTo>
                      <a:pt x="337" y="793"/>
                    </a:lnTo>
                    <a:lnTo>
                      <a:pt x="290" y="764"/>
                    </a:lnTo>
                    <a:lnTo>
                      <a:pt x="246" y="730"/>
                    </a:lnTo>
                    <a:lnTo>
                      <a:pt x="225" y="711"/>
                    </a:lnTo>
                    <a:lnTo>
                      <a:pt x="205" y="692"/>
                    </a:lnTo>
                    <a:lnTo>
                      <a:pt x="182" y="668"/>
                    </a:lnTo>
                    <a:lnTo>
                      <a:pt x="162" y="646"/>
                    </a:lnTo>
                    <a:lnTo>
                      <a:pt x="143" y="621"/>
                    </a:lnTo>
                    <a:lnTo>
                      <a:pt x="126" y="597"/>
                    </a:lnTo>
                    <a:lnTo>
                      <a:pt x="109" y="571"/>
                    </a:lnTo>
                    <a:lnTo>
                      <a:pt x="95" y="546"/>
                    </a:lnTo>
                    <a:lnTo>
                      <a:pt x="81" y="520"/>
                    </a:lnTo>
                    <a:lnTo>
                      <a:pt x="71" y="495"/>
                    </a:lnTo>
                    <a:lnTo>
                      <a:pt x="60" y="466"/>
                    </a:lnTo>
                    <a:lnTo>
                      <a:pt x="51" y="439"/>
                    </a:lnTo>
                    <a:lnTo>
                      <a:pt x="43" y="411"/>
                    </a:lnTo>
                    <a:lnTo>
                      <a:pt x="37" y="383"/>
                    </a:lnTo>
                    <a:lnTo>
                      <a:pt x="32" y="352"/>
                    </a:lnTo>
                    <a:lnTo>
                      <a:pt x="29" y="322"/>
                    </a:lnTo>
                    <a:lnTo>
                      <a:pt x="27" y="292"/>
                    </a:lnTo>
                    <a:lnTo>
                      <a:pt x="27" y="262"/>
                    </a:lnTo>
                    <a:lnTo>
                      <a:pt x="27" y="226"/>
                    </a:lnTo>
                    <a:lnTo>
                      <a:pt x="30" y="192"/>
                    </a:lnTo>
                    <a:lnTo>
                      <a:pt x="41" y="125"/>
                    </a:lnTo>
                    <a:lnTo>
                      <a:pt x="49" y="92"/>
                    </a:lnTo>
                    <a:lnTo>
                      <a:pt x="59" y="6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1f2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026120" y="3394800"/>
                <a:ext cx="157680" cy="246240"/>
              </a:xfrm>
              <a:custGeom>
                <a:avLst/>
                <a:gdLst/>
                <a:ahLst/>
                <a:rect l="l" t="t" r="r" b="b"/>
                <a:pathLst>
                  <a:path w="551" h="861">
                    <a:moveTo>
                      <a:pt x="37" y="11"/>
                    </a:moveTo>
                    <a:lnTo>
                      <a:pt x="13" y="37"/>
                    </a:lnTo>
                    <a:lnTo>
                      <a:pt x="6" y="70"/>
                    </a:lnTo>
                    <a:lnTo>
                      <a:pt x="2" y="105"/>
                    </a:lnTo>
                    <a:lnTo>
                      <a:pt x="0" y="176"/>
                    </a:lnTo>
                    <a:lnTo>
                      <a:pt x="0" y="212"/>
                    </a:lnTo>
                    <a:lnTo>
                      <a:pt x="2" y="248"/>
                    </a:lnTo>
                    <a:lnTo>
                      <a:pt x="6" y="283"/>
                    </a:lnTo>
                    <a:lnTo>
                      <a:pt x="13" y="318"/>
                    </a:lnTo>
                    <a:lnTo>
                      <a:pt x="19" y="351"/>
                    </a:lnTo>
                    <a:lnTo>
                      <a:pt x="28" y="385"/>
                    </a:lnTo>
                    <a:lnTo>
                      <a:pt x="39" y="418"/>
                    </a:lnTo>
                    <a:lnTo>
                      <a:pt x="52" y="451"/>
                    </a:lnTo>
                    <a:lnTo>
                      <a:pt x="65" y="481"/>
                    </a:lnTo>
                    <a:lnTo>
                      <a:pt x="81" y="512"/>
                    </a:lnTo>
                    <a:lnTo>
                      <a:pt x="98" y="541"/>
                    </a:lnTo>
                    <a:lnTo>
                      <a:pt x="117" y="572"/>
                    </a:lnTo>
                    <a:lnTo>
                      <a:pt x="136" y="599"/>
                    </a:lnTo>
                    <a:lnTo>
                      <a:pt x="159" y="628"/>
                    </a:lnTo>
                    <a:lnTo>
                      <a:pt x="183" y="655"/>
                    </a:lnTo>
                    <a:lnTo>
                      <a:pt x="210" y="683"/>
                    </a:lnTo>
                    <a:lnTo>
                      <a:pt x="242" y="713"/>
                    </a:lnTo>
                    <a:lnTo>
                      <a:pt x="274" y="741"/>
                    </a:lnTo>
                    <a:lnTo>
                      <a:pt x="308" y="767"/>
                    </a:lnTo>
                    <a:lnTo>
                      <a:pt x="345" y="791"/>
                    </a:lnTo>
                    <a:lnTo>
                      <a:pt x="381" y="811"/>
                    </a:lnTo>
                    <a:lnTo>
                      <a:pt x="418" y="831"/>
                    </a:lnTo>
                    <a:lnTo>
                      <a:pt x="457" y="846"/>
                    </a:lnTo>
                    <a:lnTo>
                      <a:pt x="498" y="861"/>
                    </a:lnTo>
                    <a:lnTo>
                      <a:pt x="524" y="854"/>
                    </a:lnTo>
                    <a:lnTo>
                      <a:pt x="551" y="848"/>
                    </a:lnTo>
                    <a:lnTo>
                      <a:pt x="506" y="834"/>
                    </a:lnTo>
                    <a:lnTo>
                      <a:pt x="463" y="819"/>
                    </a:lnTo>
                    <a:lnTo>
                      <a:pt x="420" y="800"/>
                    </a:lnTo>
                    <a:lnTo>
                      <a:pt x="380" y="780"/>
                    </a:lnTo>
                    <a:lnTo>
                      <a:pt x="339" y="755"/>
                    </a:lnTo>
                    <a:lnTo>
                      <a:pt x="302" y="727"/>
                    </a:lnTo>
                    <a:lnTo>
                      <a:pt x="264" y="697"/>
                    </a:lnTo>
                    <a:lnTo>
                      <a:pt x="229" y="664"/>
                    </a:lnTo>
                    <a:lnTo>
                      <a:pt x="203" y="637"/>
                    </a:lnTo>
                    <a:lnTo>
                      <a:pt x="180" y="611"/>
                    </a:lnTo>
                    <a:lnTo>
                      <a:pt x="159" y="583"/>
                    </a:lnTo>
                    <a:lnTo>
                      <a:pt x="140" y="557"/>
                    </a:lnTo>
                    <a:lnTo>
                      <a:pt x="120" y="528"/>
                    </a:lnTo>
                    <a:lnTo>
                      <a:pt x="104" y="500"/>
                    </a:lnTo>
                    <a:lnTo>
                      <a:pt x="90" y="470"/>
                    </a:lnTo>
                    <a:lnTo>
                      <a:pt x="77" y="441"/>
                    </a:lnTo>
                    <a:lnTo>
                      <a:pt x="65" y="409"/>
                    </a:lnTo>
                    <a:lnTo>
                      <a:pt x="54" y="378"/>
                    </a:lnTo>
                    <a:lnTo>
                      <a:pt x="45" y="345"/>
                    </a:lnTo>
                    <a:lnTo>
                      <a:pt x="40" y="314"/>
                    </a:lnTo>
                    <a:lnTo>
                      <a:pt x="33" y="280"/>
                    </a:lnTo>
                    <a:lnTo>
                      <a:pt x="30" y="246"/>
                    </a:lnTo>
                    <a:lnTo>
                      <a:pt x="27" y="210"/>
                    </a:lnTo>
                    <a:lnTo>
                      <a:pt x="27" y="176"/>
                    </a:lnTo>
                    <a:lnTo>
                      <a:pt x="28" y="130"/>
                    </a:lnTo>
                    <a:lnTo>
                      <a:pt x="32" y="86"/>
                    </a:lnTo>
                    <a:lnTo>
                      <a:pt x="39" y="41"/>
                    </a:lnTo>
                    <a:lnTo>
                      <a:pt x="49" y="0"/>
                    </a:lnTo>
                    <a:lnTo>
                      <a:pt x="37" y="11"/>
                    </a:lnTo>
                    <a:close/>
                  </a:path>
                </a:pathLst>
              </a:custGeom>
              <a:solidFill>
                <a:srgbClr val="16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034040" y="3385080"/>
                <a:ext cx="163440" cy="251640"/>
              </a:xfrm>
              <a:custGeom>
                <a:avLst/>
                <a:gdLst/>
                <a:ahLst/>
                <a:rect l="l" t="t" r="r" b="b"/>
                <a:pathLst>
                  <a:path w="573" h="882">
                    <a:moveTo>
                      <a:pt x="60" y="0"/>
                    </a:moveTo>
                    <a:lnTo>
                      <a:pt x="22" y="34"/>
                    </a:lnTo>
                    <a:lnTo>
                      <a:pt x="12" y="75"/>
                    </a:lnTo>
                    <a:lnTo>
                      <a:pt x="5" y="120"/>
                    </a:lnTo>
                    <a:lnTo>
                      <a:pt x="1" y="164"/>
                    </a:lnTo>
                    <a:lnTo>
                      <a:pt x="0" y="210"/>
                    </a:lnTo>
                    <a:lnTo>
                      <a:pt x="0" y="244"/>
                    </a:lnTo>
                    <a:lnTo>
                      <a:pt x="3" y="280"/>
                    </a:lnTo>
                    <a:lnTo>
                      <a:pt x="6" y="314"/>
                    </a:lnTo>
                    <a:lnTo>
                      <a:pt x="13" y="348"/>
                    </a:lnTo>
                    <a:lnTo>
                      <a:pt x="18" y="379"/>
                    </a:lnTo>
                    <a:lnTo>
                      <a:pt x="27" y="412"/>
                    </a:lnTo>
                    <a:lnTo>
                      <a:pt x="38" y="443"/>
                    </a:lnTo>
                    <a:lnTo>
                      <a:pt x="50" y="475"/>
                    </a:lnTo>
                    <a:lnTo>
                      <a:pt x="63" y="504"/>
                    </a:lnTo>
                    <a:lnTo>
                      <a:pt x="77" y="534"/>
                    </a:lnTo>
                    <a:lnTo>
                      <a:pt x="93" y="562"/>
                    </a:lnTo>
                    <a:lnTo>
                      <a:pt x="113" y="591"/>
                    </a:lnTo>
                    <a:lnTo>
                      <a:pt x="132" y="617"/>
                    </a:lnTo>
                    <a:lnTo>
                      <a:pt x="153" y="645"/>
                    </a:lnTo>
                    <a:lnTo>
                      <a:pt x="176" y="671"/>
                    </a:lnTo>
                    <a:lnTo>
                      <a:pt x="202" y="698"/>
                    </a:lnTo>
                    <a:lnTo>
                      <a:pt x="237" y="731"/>
                    </a:lnTo>
                    <a:lnTo>
                      <a:pt x="275" y="761"/>
                    </a:lnTo>
                    <a:lnTo>
                      <a:pt x="312" y="789"/>
                    </a:lnTo>
                    <a:lnTo>
                      <a:pt x="353" y="814"/>
                    </a:lnTo>
                    <a:lnTo>
                      <a:pt x="393" y="834"/>
                    </a:lnTo>
                    <a:lnTo>
                      <a:pt x="436" y="853"/>
                    </a:lnTo>
                    <a:lnTo>
                      <a:pt x="479" y="868"/>
                    </a:lnTo>
                    <a:lnTo>
                      <a:pt x="524" y="882"/>
                    </a:lnTo>
                    <a:lnTo>
                      <a:pt x="548" y="873"/>
                    </a:lnTo>
                    <a:lnTo>
                      <a:pt x="573" y="863"/>
                    </a:lnTo>
                    <a:lnTo>
                      <a:pt x="522" y="852"/>
                    </a:lnTo>
                    <a:lnTo>
                      <a:pt x="474" y="839"/>
                    </a:lnTo>
                    <a:lnTo>
                      <a:pt x="428" y="820"/>
                    </a:lnTo>
                    <a:lnTo>
                      <a:pt x="385" y="800"/>
                    </a:lnTo>
                    <a:lnTo>
                      <a:pt x="340" y="774"/>
                    </a:lnTo>
                    <a:lnTo>
                      <a:pt x="300" y="746"/>
                    </a:lnTo>
                    <a:lnTo>
                      <a:pt x="260" y="714"/>
                    </a:lnTo>
                    <a:lnTo>
                      <a:pt x="222" y="679"/>
                    </a:lnTo>
                    <a:lnTo>
                      <a:pt x="198" y="653"/>
                    </a:lnTo>
                    <a:lnTo>
                      <a:pt x="176" y="628"/>
                    </a:lnTo>
                    <a:lnTo>
                      <a:pt x="154" y="602"/>
                    </a:lnTo>
                    <a:lnTo>
                      <a:pt x="136" y="575"/>
                    </a:lnTo>
                    <a:lnTo>
                      <a:pt x="118" y="547"/>
                    </a:lnTo>
                    <a:lnTo>
                      <a:pt x="102" y="520"/>
                    </a:lnTo>
                    <a:lnTo>
                      <a:pt x="88" y="492"/>
                    </a:lnTo>
                    <a:lnTo>
                      <a:pt x="76" y="464"/>
                    </a:lnTo>
                    <a:lnTo>
                      <a:pt x="64" y="434"/>
                    </a:lnTo>
                    <a:lnTo>
                      <a:pt x="55" y="404"/>
                    </a:lnTo>
                    <a:lnTo>
                      <a:pt x="46" y="373"/>
                    </a:lnTo>
                    <a:lnTo>
                      <a:pt x="40" y="342"/>
                    </a:lnTo>
                    <a:lnTo>
                      <a:pt x="34" y="309"/>
                    </a:lnTo>
                    <a:lnTo>
                      <a:pt x="31" y="277"/>
                    </a:lnTo>
                    <a:lnTo>
                      <a:pt x="29" y="243"/>
                    </a:lnTo>
                    <a:lnTo>
                      <a:pt x="29" y="210"/>
                    </a:lnTo>
                    <a:lnTo>
                      <a:pt x="30" y="154"/>
                    </a:lnTo>
                    <a:lnTo>
                      <a:pt x="37" y="100"/>
                    </a:lnTo>
                    <a:lnTo>
                      <a:pt x="46" y="48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92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002720" y="3433320"/>
                <a:ext cx="130320" cy="210600"/>
              </a:xfrm>
              <a:custGeom>
                <a:avLst/>
                <a:gdLst/>
                <a:ahLst/>
                <a:rect l="l" t="t" r="r" b="b"/>
                <a:pathLst>
                  <a:path w="457" h="738">
                    <a:moveTo>
                      <a:pt x="27" y="44"/>
                    </a:moveTo>
                    <a:lnTo>
                      <a:pt x="29" y="0"/>
                    </a:lnTo>
                    <a:lnTo>
                      <a:pt x="13" y="32"/>
                    </a:lnTo>
                    <a:lnTo>
                      <a:pt x="0" y="65"/>
                    </a:lnTo>
                    <a:lnTo>
                      <a:pt x="0" y="103"/>
                    </a:lnTo>
                    <a:lnTo>
                      <a:pt x="4" y="142"/>
                    </a:lnTo>
                    <a:lnTo>
                      <a:pt x="8" y="179"/>
                    </a:lnTo>
                    <a:lnTo>
                      <a:pt x="16" y="218"/>
                    </a:lnTo>
                    <a:lnTo>
                      <a:pt x="24" y="253"/>
                    </a:lnTo>
                    <a:lnTo>
                      <a:pt x="35" y="289"/>
                    </a:lnTo>
                    <a:lnTo>
                      <a:pt x="47" y="324"/>
                    </a:lnTo>
                    <a:lnTo>
                      <a:pt x="61" y="360"/>
                    </a:lnTo>
                    <a:lnTo>
                      <a:pt x="76" y="392"/>
                    </a:lnTo>
                    <a:lnTo>
                      <a:pt x="94" y="425"/>
                    </a:lnTo>
                    <a:lnTo>
                      <a:pt x="113" y="457"/>
                    </a:lnTo>
                    <a:lnTo>
                      <a:pt x="134" y="490"/>
                    </a:lnTo>
                    <a:lnTo>
                      <a:pt x="156" y="521"/>
                    </a:lnTo>
                    <a:lnTo>
                      <a:pt x="181" y="551"/>
                    </a:lnTo>
                    <a:lnTo>
                      <a:pt x="207" y="581"/>
                    </a:lnTo>
                    <a:lnTo>
                      <a:pt x="235" y="610"/>
                    </a:lnTo>
                    <a:lnTo>
                      <a:pt x="270" y="643"/>
                    </a:lnTo>
                    <a:lnTo>
                      <a:pt x="309" y="676"/>
                    </a:lnTo>
                    <a:lnTo>
                      <a:pt x="347" y="704"/>
                    </a:lnTo>
                    <a:lnTo>
                      <a:pt x="388" y="733"/>
                    </a:lnTo>
                    <a:lnTo>
                      <a:pt x="421" y="736"/>
                    </a:lnTo>
                    <a:lnTo>
                      <a:pt x="457" y="738"/>
                    </a:lnTo>
                    <a:lnTo>
                      <a:pt x="429" y="724"/>
                    </a:lnTo>
                    <a:lnTo>
                      <a:pt x="402" y="708"/>
                    </a:lnTo>
                    <a:lnTo>
                      <a:pt x="351" y="674"/>
                    </a:lnTo>
                    <a:lnTo>
                      <a:pt x="326" y="654"/>
                    </a:lnTo>
                    <a:lnTo>
                      <a:pt x="301" y="634"/>
                    </a:lnTo>
                    <a:lnTo>
                      <a:pt x="254" y="591"/>
                    </a:lnTo>
                    <a:lnTo>
                      <a:pt x="226" y="561"/>
                    </a:lnTo>
                    <a:lnTo>
                      <a:pt x="201" y="532"/>
                    </a:lnTo>
                    <a:lnTo>
                      <a:pt x="176" y="501"/>
                    </a:lnTo>
                    <a:lnTo>
                      <a:pt x="154" y="471"/>
                    </a:lnTo>
                    <a:lnTo>
                      <a:pt x="133" y="438"/>
                    </a:lnTo>
                    <a:lnTo>
                      <a:pt x="115" y="406"/>
                    </a:lnTo>
                    <a:lnTo>
                      <a:pt x="98" y="373"/>
                    </a:lnTo>
                    <a:lnTo>
                      <a:pt x="84" y="340"/>
                    </a:lnTo>
                    <a:lnTo>
                      <a:pt x="69" y="305"/>
                    </a:lnTo>
                    <a:lnTo>
                      <a:pt x="58" y="270"/>
                    </a:lnTo>
                    <a:lnTo>
                      <a:pt x="48" y="234"/>
                    </a:lnTo>
                    <a:lnTo>
                      <a:pt x="41" y="197"/>
                    </a:lnTo>
                    <a:lnTo>
                      <a:pt x="34" y="159"/>
                    </a:lnTo>
                    <a:lnTo>
                      <a:pt x="31" y="121"/>
                    </a:lnTo>
                    <a:lnTo>
                      <a:pt x="27" y="83"/>
                    </a:lnTo>
                    <a:lnTo>
                      <a:pt x="27" y="44"/>
                    </a:lnTo>
                    <a:close/>
                  </a:path>
                </a:pathLst>
              </a:custGeom>
              <a:solidFill>
                <a:srgbClr val="0c1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010280" y="3418200"/>
                <a:ext cx="141120" cy="225360"/>
              </a:xfrm>
              <a:custGeom>
                <a:avLst/>
                <a:gdLst/>
                <a:ahLst/>
                <a:rect l="l" t="t" r="r" b="b"/>
                <a:pathLst>
                  <a:path w="494" h="791">
                    <a:moveTo>
                      <a:pt x="2" y="52"/>
                    </a:moveTo>
                    <a:lnTo>
                      <a:pt x="0" y="96"/>
                    </a:lnTo>
                    <a:lnTo>
                      <a:pt x="0" y="135"/>
                    </a:lnTo>
                    <a:lnTo>
                      <a:pt x="4" y="173"/>
                    </a:lnTo>
                    <a:lnTo>
                      <a:pt x="7" y="211"/>
                    </a:lnTo>
                    <a:lnTo>
                      <a:pt x="14" y="249"/>
                    </a:lnTo>
                    <a:lnTo>
                      <a:pt x="21" y="286"/>
                    </a:lnTo>
                    <a:lnTo>
                      <a:pt x="31" y="322"/>
                    </a:lnTo>
                    <a:lnTo>
                      <a:pt x="42" y="357"/>
                    </a:lnTo>
                    <a:lnTo>
                      <a:pt x="57" y="392"/>
                    </a:lnTo>
                    <a:lnTo>
                      <a:pt x="71" y="425"/>
                    </a:lnTo>
                    <a:lnTo>
                      <a:pt x="88" y="458"/>
                    </a:lnTo>
                    <a:lnTo>
                      <a:pt x="106" y="490"/>
                    </a:lnTo>
                    <a:lnTo>
                      <a:pt x="127" y="523"/>
                    </a:lnTo>
                    <a:lnTo>
                      <a:pt x="149" y="553"/>
                    </a:lnTo>
                    <a:lnTo>
                      <a:pt x="174" y="584"/>
                    </a:lnTo>
                    <a:lnTo>
                      <a:pt x="199" y="613"/>
                    </a:lnTo>
                    <a:lnTo>
                      <a:pt x="227" y="643"/>
                    </a:lnTo>
                    <a:lnTo>
                      <a:pt x="274" y="686"/>
                    </a:lnTo>
                    <a:lnTo>
                      <a:pt x="299" y="706"/>
                    </a:lnTo>
                    <a:lnTo>
                      <a:pt x="324" y="726"/>
                    </a:lnTo>
                    <a:lnTo>
                      <a:pt x="375" y="760"/>
                    </a:lnTo>
                    <a:lnTo>
                      <a:pt x="402" y="776"/>
                    </a:lnTo>
                    <a:lnTo>
                      <a:pt x="430" y="790"/>
                    </a:lnTo>
                    <a:lnTo>
                      <a:pt x="449" y="791"/>
                    </a:lnTo>
                    <a:lnTo>
                      <a:pt x="454" y="790"/>
                    </a:lnTo>
                    <a:lnTo>
                      <a:pt x="460" y="790"/>
                    </a:lnTo>
                    <a:lnTo>
                      <a:pt x="471" y="790"/>
                    </a:lnTo>
                    <a:lnTo>
                      <a:pt x="494" y="789"/>
                    </a:lnTo>
                    <a:lnTo>
                      <a:pt x="460" y="774"/>
                    </a:lnTo>
                    <a:lnTo>
                      <a:pt x="427" y="757"/>
                    </a:lnTo>
                    <a:lnTo>
                      <a:pt x="394" y="739"/>
                    </a:lnTo>
                    <a:lnTo>
                      <a:pt x="363" y="720"/>
                    </a:lnTo>
                    <a:lnTo>
                      <a:pt x="333" y="698"/>
                    </a:lnTo>
                    <a:lnTo>
                      <a:pt x="303" y="675"/>
                    </a:lnTo>
                    <a:lnTo>
                      <a:pt x="274" y="650"/>
                    </a:lnTo>
                    <a:lnTo>
                      <a:pt x="247" y="624"/>
                    </a:lnTo>
                    <a:lnTo>
                      <a:pt x="219" y="594"/>
                    </a:lnTo>
                    <a:lnTo>
                      <a:pt x="196" y="566"/>
                    </a:lnTo>
                    <a:lnTo>
                      <a:pt x="172" y="536"/>
                    </a:lnTo>
                    <a:lnTo>
                      <a:pt x="151" y="508"/>
                    </a:lnTo>
                    <a:lnTo>
                      <a:pt x="131" y="476"/>
                    </a:lnTo>
                    <a:lnTo>
                      <a:pt x="114" y="446"/>
                    </a:lnTo>
                    <a:lnTo>
                      <a:pt x="97" y="414"/>
                    </a:lnTo>
                    <a:lnTo>
                      <a:pt x="83" y="382"/>
                    </a:lnTo>
                    <a:lnTo>
                      <a:pt x="70" y="348"/>
                    </a:lnTo>
                    <a:lnTo>
                      <a:pt x="59" y="314"/>
                    </a:lnTo>
                    <a:lnTo>
                      <a:pt x="49" y="279"/>
                    </a:lnTo>
                    <a:lnTo>
                      <a:pt x="42" y="245"/>
                    </a:lnTo>
                    <a:lnTo>
                      <a:pt x="36" y="208"/>
                    </a:lnTo>
                    <a:lnTo>
                      <a:pt x="32" y="171"/>
                    </a:lnTo>
                    <a:lnTo>
                      <a:pt x="29" y="134"/>
                    </a:lnTo>
                    <a:lnTo>
                      <a:pt x="29" y="96"/>
                    </a:lnTo>
                    <a:lnTo>
                      <a:pt x="30" y="48"/>
                    </a:lnTo>
                    <a:lnTo>
                      <a:pt x="34" y="0"/>
                    </a:lnTo>
                    <a:lnTo>
                      <a:pt x="16" y="25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0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018200" y="3405600"/>
                <a:ext cx="150120" cy="237600"/>
              </a:xfrm>
              <a:custGeom>
                <a:avLst/>
                <a:gdLst/>
                <a:ahLst/>
                <a:rect l="l" t="t" r="r" b="b"/>
                <a:pathLst>
                  <a:path w="525" h="832">
                    <a:moveTo>
                      <a:pt x="5" y="43"/>
                    </a:moveTo>
                    <a:lnTo>
                      <a:pt x="1" y="91"/>
                    </a:lnTo>
                    <a:lnTo>
                      <a:pt x="0" y="139"/>
                    </a:lnTo>
                    <a:lnTo>
                      <a:pt x="0" y="177"/>
                    </a:lnTo>
                    <a:lnTo>
                      <a:pt x="3" y="214"/>
                    </a:lnTo>
                    <a:lnTo>
                      <a:pt x="7" y="251"/>
                    </a:lnTo>
                    <a:lnTo>
                      <a:pt x="13" y="288"/>
                    </a:lnTo>
                    <a:lnTo>
                      <a:pt x="20" y="322"/>
                    </a:lnTo>
                    <a:lnTo>
                      <a:pt x="30" y="357"/>
                    </a:lnTo>
                    <a:lnTo>
                      <a:pt x="41" y="391"/>
                    </a:lnTo>
                    <a:lnTo>
                      <a:pt x="54" y="425"/>
                    </a:lnTo>
                    <a:lnTo>
                      <a:pt x="68" y="457"/>
                    </a:lnTo>
                    <a:lnTo>
                      <a:pt x="85" y="489"/>
                    </a:lnTo>
                    <a:lnTo>
                      <a:pt x="102" y="519"/>
                    </a:lnTo>
                    <a:lnTo>
                      <a:pt x="122" y="551"/>
                    </a:lnTo>
                    <a:lnTo>
                      <a:pt x="143" y="579"/>
                    </a:lnTo>
                    <a:lnTo>
                      <a:pt x="167" y="609"/>
                    </a:lnTo>
                    <a:lnTo>
                      <a:pt x="190" y="637"/>
                    </a:lnTo>
                    <a:lnTo>
                      <a:pt x="218" y="667"/>
                    </a:lnTo>
                    <a:lnTo>
                      <a:pt x="245" y="693"/>
                    </a:lnTo>
                    <a:lnTo>
                      <a:pt x="274" y="718"/>
                    </a:lnTo>
                    <a:lnTo>
                      <a:pt x="304" y="741"/>
                    </a:lnTo>
                    <a:lnTo>
                      <a:pt x="334" y="763"/>
                    </a:lnTo>
                    <a:lnTo>
                      <a:pt x="365" y="782"/>
                    </a:lnTo>
                    <a:lnTo>
                      <a:pt x="398" y="800"/>
                    </a:lnTo>
                    <a:lnTo>
                      <a:pt x="431" y="817"/>
                    </a:lnTo>
                    <a:lnTo>
                      <a:pt x="465" y="832"/>
                    </a:lnTo>
                    <a:lnTo>
                      <a:pt x="494" y="829"/>
                    </a:lnTo>
                    <a:lnTo>
                      <a:pt x="525" y="824"/>
                    </a:lnTo>
                    <a:lnTo>
                      <a:pt x="484" y="809"/>
                    </a:lnTo>
                    <a:lnTo>
                      <a:pt x="445" y="794"/>
                    </a:lnTo>
                    <a:lnTo>
                      <a:pt x="408" y="774"/>
                    </a:lnTo>
                    <a:lnTo>
                      <a:pt x="372" y="754"/>
                    </a:lnTo>
                    <a:lnTo>
                      <a:pt x="335" y="730"/>
                    </a:lnTo>
                    <a:lnTo>
                      <a:pt x="301" y="704"/>
                    </a:lnTo>
                    <a:lnTo>
                      <a:pt x="269" y="676"/>
                    </a:lnTo>
                    <a:lnTo>
                      <a:pt x="237" y="646"/>
                    </a:lnTo>
                    <a:lnTo>
                      <a:pt x="210" y="618"/>
                    </a:lnTo>
                    <a:lnTo>
                      <a:pt x="186" y="591"/>
                    </a:lnTo>
                    <a:lnTo>
                      <a:pt x="163" y="562"/>
                    </a:lnTo>
                    <a:lnTo>
                      <a:pt x="144" y="535"/>
                    </a:lnTo>
                    <a:lnTo>
                      <a:pt x="125" y="504"/>
                    </a:lnTo>
                    <a:lnTo>
                      <a:pt x="108" y="475"/>
                    </a:lnTo>
                    <a:lnTo>
                      <a:pt x="92" y="444"/>
                    </a:lnTo>
                    <a:lnTo>
                      <a:pt x="79" y="414"/>
                    </a:lnTo>
                    <a:lnTo>
                      <a:pt x="66" y="381"/>
                    </a:lnTo>
                    <a:lnTo>
                      <a:pt x="55" y="348"/>
                    </a:lnTo>
                    <a:lnTo>
                      <a:pt x="46" y="314"/>
                    </a:lnTo>
                    <a:lnTo>
                      <a:pt x="40" y="281"/>
                    </a:lnTo>
                    <a:lnTo>
                      <a:pt x="33" y="246"/>
                    </a:lnTo>
                    <a:lnTo>
                      <a:pt x="29" y="211"/>
                    </a:lnTo>
                    <a:lnTo>
                      <a:pt x="27" y="175"/>
                    </a:lnTo>
                    <a:lnTo>
                      <a:pt x="27" y="139"/>
                    </a:lnTo>
                    <a:lnTo>
                      <a:pt x="29" y="68"/>
                    </a:lnTo>
                    <a:lnTo>
                      <a:pt x="33" y="33"/>
                    </a:lnTo>
                    <a:lnTo>
                      <a:pt x="40" y="0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121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042320" y="3377880"/>
                <a:ext cx="167400" cy="253800"/>
              </a:xfrm>
              <a:custGeom>
                <a:avLst/>
                <a:gdLst/>
                <a:ahLst/>
                <a:rect l="l" t="t" r="r" b="b"/>
                <a:pathLst>
                  <a:path w="586" h="891">
                    <a:moveTo>
                      <a:pt x="31" y="28"/>
                    </a:moveTo>
                    <a:lnTo>
                      <a:pt x="17" y="76"/>
                    </a:lnTo>
                    <a:lnTo>
                      <a:pt x="8" y="128"/>
                    </a:lnTo>
                    <a:lnTo>
                      <a:pt x="1" y="182"/>
                    </a:lnTo>
                    <a:lnTo>
                      <a:pt x="0" y="238"/>
                    </a:lnTo>
                    <a:lnTo>
                      <a:pt x="0" y="271"/>
                    </a:lnTo>
                    <a:lnTo>
                      <a:pt x="2" y="305"/>
                    </a:lnTo>
                    <a:lnTo>
                      <a:pt x="5" y="337"/>
                    </a:lnTo>
                    <a:lnTo>
                      <a:pt x="11" y="370"/>
                    </a:lnTo>
                    <a:lnTo>
                      <a:pt x="17" y="401"/>
                    </a:lnTo>
                    <a:lnTo>
                      <a:pt x="26" y="432"/>
                    </a:lnTo>
                    <a:lnTo>
                      <a:pt x="35" y="462"/>
                    </a:lnTo>
                    <a:lnTo>
                      <a:pt x="47" y="492"/>
                    </a:lnTo>
                    <a:lnTo>
                      <a:pt x="59" y="520"/>
                    </a:lnTo>
                    <a:lnTo>
                      <a:pt x="73" y="548"/>
                    </a:lnTo>
                    <a:lnTo>
                      <a:pt x="89" y="575"/>
                    </a:lnTo>
                    <a:lnTo>
                      <a:pt x="107" y="603"/>
                    </a:lnTo>
                    <a:lnTo>
                      <a:pt x="125" y="630"/>
                    </a:lnTo>
                    <a:lnTo>
                      <a:pt x="147" y="656"/>
                    </a:lnTo>
                    <a:lnTo>
                      <a:pt x="169" y="681"/>
                    </a:lnTo>
                    <a:lnTo>
                      <a:pt x="193" y="707"/>
                    </a:lnTo>
                    <a:lnTo>
                      <a:pt x="231" y="742"/>
                    </a:lnTo>
                    <a:lnTo>
                      <a:pt x="271" y="774"/>
                    </a:lnTo>
                    <a:lnTo>
                      <a:pt x="311" y="802"/>
                    </a:lnTo>
                    <a:lnTo>
                      <a:pt x="356" y="828"/>
                    </a:lnTo>
                    <a:lnTo>
                      <a:pt x="399" y="848"/>
                    </a:lnTo>
                    <a:lnTo>
                      <a:pt x="445" y="867"/>
                    </a:lnTo>
                    <a:lnTo>
                      <a:pt x="493" y="880"/>
                    </a:lnTo>
                    <a:lnTo>
                      <a:pt x="544" y="891"/>
                    </a:lnTo>
                    <a:lnTo>
                      <a:pt x="564" y="880"/>
                    </a:lnTo>
                    <a:lnTo>
                      <a:pt x="569" y="877"/>
                    </a:lnTo>
                    <a:lnTo>
                      <a:pt x="574" y="874"/>
                    </a:lnTo>
                    <a:lnTo>
                      <a:pt x="586" y="870"/>
                    </a:lnTo>
                    <a:lnTo>
                      <a:pt x="532" y="861"/>
                    </a:lnTo>
                    <a:lnTo>
                      <a:pt x="481" y="848"/>
                    </a:lnTo>
                    <a:lnTo>
                      <a:pt x="432" y="832"/>
                    </a:lnTo>
                    <a:lnTo>
                      <a:pt x="385" y="812"/>
                    </a:lnTo>
                    <a:lnTo>
                      <a:pt x="339" y="787"/>
                    </a:lnTo>
                    <a:lnTo>
                      <a:pt x="296" y="758"/>
                    </a:lnTo>
                    <a:lnTo>
                      <a:pt x="252" y="724"/>
                    </a:lnTo>
                    <a:lnTo>
                      <a:pt x="213" y="687"/>
                    </a:lnTo>
                    <a:lnTo>
                      <a:pt x="189" y="662"/>
                    </a:lnTo>
                    <a:lnTo>
                      <a:pt x="169" y="639"/>
                    </a:lnTo>
                    <a:lnTo>
                      <a:pt x="148" y="614"/>
                    </a:lnTo>
                    <a:lnTo>
                      <a:pt x="131" y="589"/>
                    </a:lnTo>
                    <a:lnTo>
                      <a:pt x="113" y="562"/>
                    </a:lnTo>
                    <a:lnTo>
                      <a:pt x="98" y="535"/>
                    </a:lnTo>
                    <a:lnTo>
                      <a:pt x="85" y="508"/>
                    </a:lnTo>
                    <a:lnTo>
                      <a:pt x="73" y="482"/>
                    </a:lnTo>
                    <a:lnTo>
                      <a:pt x="61" y="453"/>
                    </a:lnTo>
                    <a:lnTo>
                      <a:pt x="52" y="424"/>
                    </a:lnTo>
                    <a:lnTo>
                      <a:pt x="44" y="394"/>
                    </a:lnTo>
                    <a:lnTo>
                      <a:pt x="38" y="364"/>
                    </a:lnTo>
                    <a:lnTo>
                      <a:pt x="32" y="332"/>
                    </a:lnTo>
                    <a:lnTo>
                      <a:pt x="29" y="302"/>
                    </a:lnTo>
                    <a:lnTo>
                      <a:pt x="27" y="270"/>
                    </a:lnTo>
                    <a:lnTo>
                      <a:pt x="27" y="238"/>
                    </a:lnTo>
                    <a:lnTo>
                      <a:pt x="29" y="174"/>
                    </a:lnTo>
                    <a:lnTo>
                      <a:pt x="37" y="114"/>
                    </a:lnTo>
                    <a:lnTo>
                      <a:pt x="51" y="56"/>
                    </a:lnTo>
                    <a:lnTo>
                      <a:pt x="71" y="0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1c2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073640" y="3359160"/>
                <a:ext cx="173520" cy="244080"/>
              </a:xfrm>
              <a:custGeom>
                <a:avLst/>
                <a:gdLst/>
                <a:ahLst/>
                <a:rect l="l" t="t" r="r" b="b"/>
                <a:pathLst>
                  <a:path w="608" h="856">
                    <a:moveTo>
                      <a:pt x="83" y="10"/>
                    </a:moveTo>
                    <a:lnTo>
                      <a:pt x="63" y="41"/>
                    </a:lnTo>
                    <a:lnTo>
                      <a:pt x="46" y="76"/>
                    </a:lnTo>
                    <a:lnTo>
                      <a:pt x="31" y="111"/>
                    </a:lnTo>
                    <a:lnTo>
                      <a:pt x="20" y="147"/>
                    </a:lnTo>
                    <a:lnTo>
                      <a:pt x="10" y="183"/>
                    </a:lnTo>
                    <a:lnTo>
                      <a:pt x="4" y="222"/>
                    </a:lnTo>
                    <a:lnTo>
                      <a:pt x="1" y="261"/>
                    </a:lnTo>
                    <a:lnTo>
                      <a:pt x="0" y="303"/>
                    </a:lnTo>
                    <a:lnTo>
                      <a:pt x="0" y="331"/>
                    </a:lnTo>
                    <a:lnTo>
                      <a:pt x="2" y="359"/>
                    </a:lnTo>
                    <a:lnTo>
                      <a:pt x="9" y="413"/>
                    </a:lnTo>
                    <a:lnTo>
                      <a:pt x="13" y="438"/>
                    </a:lnTo>
                    <a:lnTo>
                      <a:pt x="21" y="464"/>
                    </a:lnTo>
                    <a:lnTo>
                      <a:pt x="29" y="489"/>
                    </a:lnTo>
                    <a:lnTo>
                      <a:pt x="39" y="515"/>
                    </a:lnTo>
                    <a:lnTo>
                      <a:pt x="49" y="538"/>
                    </a:lnTo>
                    <a:lnTo>
                      <a:pt x="62" y="562"/>
                    </a:lnTo>
                    <a:lnTo>
                      <a:pt x="74" y="585"/>
                    </a:lnTo>
                    <a:lnTo>
                      <a:pt x="89" y="608"/>
                    </a:lnTo>
                    <a:lnTo>
                      <a:pt x="122" y="651"/>
                    </a:lnTo>
                    <a:lnTo>
                      <a:pt x="140" y="672"/>
                    </a:lnTo>
                    <a:lnTo>
                      <a:pt x="161" y="693"/>
                    </a:lnTo>
                    <a:lnTo>
                      <a:pt x="200" y="730"/>
                    </a:lnTo>
                    <a:lnTo>
                      <a:pt x="244" y="764"/>
                    </a:lnTo>
                    <a:lnTo>
                      <a:pt x="290" y="791"/>
                    </a:lnTo>
                    <a:lnTo>
                      <a:pt x="314" y="803"/>
                    </a:lnTo>
                    <a:lnTo>
                      <a:pt x="339" y="815"/>
                    </a:lnTo>
                    <a:lnTo>
                      <a:pt x="362" y="824"/>
                    </a:lnTo>
                    <a:lnTo>
                      <a:pt x="387" y="832"/>
                    </a:lnTo>
                    <a:lnTo>
                      <a:pt x="440" y="845"/>
                    </a:lnTo>
                    <a:lnTo>
                      <a:pt x="493" y="852"/>
                    </a:lnTo>
                    <a:lnTo>
                      <a:pt x="521" y="854"/>
                    </a:lnTo>
                    <a:lnTo>
                      <a:pt x="551" y="856"/>
                    </a:lnTo>
                    <a:lnTo>
                      <a:pt x="580" y="854"/>
                    </a:lnTo>
                    <a:lnTo>
                      <a:pt x="583" y="851"/>
                    </a:lnTo>
                    <a:lnTo>
                      <a:pt x="608" y="825"/>
                    </a:lnTo>
                    <a:lnTo>
                      <a:pt x="579" y="826"/>
                    </a:lnTo>
                    <a:lnTo>
                      <a:pt x="564" y="826"/>
                    </a:lnTo>
                    <a:lnTo>
                      <a:pt x="551" y="827"/>
                    </a:lnTo>
                    <a:lnTo>
                      <a:pt x="523" y="826"/>
                    </a:lnTo>
                    <a:lnTo>
                      <a:pt x="496" y="824"/>
                    </a:lnTo>
                    <a:lnTo>
                      <a:pt x="445" y="817"/>
                    </a:lnTo>
                    <a:lnTo>
                      <a:pt x="420" y="811"/>
                    </a:lnTo>
                    <a:lnTo>
                      <a:pt x="395" y="805"/>
                    </a:lnTo>
                    <a:lnTo>
                      <a:pt x="349" y="789"/>
                    </a:lnTo>
                    <a:lnTo>
                      <a:pt x="302" y="766"/>
                    </a:lnTo>
                    <a:lnTo>
                      <a:pt x="281" y="754"/>
                    </a:lnTo>
                    <a:lnTo>
                      <a:pt x="260" y="740"/>
                    </a:lnTo>
                    <a:lnTo>
                      <a:pt x="218" y="708"/>
                    </a:lnTo>
                    <a:lnTo>
                      <a:pt x="181" y="674"/>
                    </a:lnTo>
                    <a:lnTo>
                      <a:pt x="162" y="654"/>
                    </a:lnTo>
                    <a:lnTo>
                      <a:pt x="145" y="634"/>
                    </a:lnTo>
                    <a:lnTo>
                      <a:pt x="128" y="613"/>
                    </a:lnTo>
                    <a:lnTo>
                      <a:pt x="113" y="593"/>
                    </a:lnTo>
                    <a:lnTo>
                      <a:pt x="98" y="570"/>
                    </a:lnTo>
                    <a:lnTo>
                      <a:pt x="86" y="548"/>
                    </a:lnTo>
                    <a:lnTo>
                      <a:pt x="74" y="526"/>
                    </a:lnTo>
                    <a:lnTo>
                      <a:pt x="65" y="504"/>
                    </a:lnTo>
                    <a:lnTo>
                      <a:pt x="47" y="456"/>
                    </a:lnTo>
                    <a:lnTo>
                      <a:pt x="40" y="432"/>
                    </a:lnTo>
                    <a:lnTo>
                      <a:pt x="36" y="408"/>
                    </a:lnTo>
                    <a:lnTo>
                      <a:pt x="31" y="382"/>
                    </a:lnTo>
                    <a:lnTo>
                      <a:pt x="29" y="357"/>
                    </a:lnTo>
                    <a:lnTo>
                      <a:pt x="27" y="329"/>
                    </a:lnTo>
                    <a:lnTo>
                      <a:pt x="27" y="303"/>
                    </a:lnTo>
                    <a:lnTo>
                      <a:pt x="28" y="260"/>
                    </a:lnTo>
                    <a:lnTo>
                      <a:pt x="32" y="219"/>
                    </a:lnTo>
                    <a:lnTo>
                      <a:pt x="39" y="179"/>
                    </a:lnTo>
                    <a:lnTo>
                      <a:pt x="51" y="141"/>
                    </a:lnTo>
                    <a:lnTo>
                      <a:pt x="63" y="103"/>
                    </a:lnTo>
                    <a:lnTo>
                      <a:pt x="80" y="68"/>
                    </a:lnTo>
                    <a:lnTo>
                      <a:pt x="99" y="32"/>
                    </a:lnTo>
                    <a:lnTo>
                      <a:pt x="123" y="0"/>
                    </a:lnTo>
                    <a:lnTo>
                      <a:pt x="83" y="10"/>
                    </a:lnTo>
                    <a:close/>
                  </a:path>
                </a:pathLst>
              </a:custGeom>
              <a:solidFill>
                <a:srgbClr val="29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113240" y="3356640"/>
                <a:ext cx="162360" cy="207360"/>
              </a:xfrm>
              <a:custGeom>
                <a:avLst/>
                <a:gdLst/>
                <a:ahLst/>
                <a:rect l="l" t="t" r="r" b="b"/>
                <a:pathLst>
                  <a:path w="568" h="724">
                    <a:moveTo>
                      <a:pt x="140" y="37"/>
                    </a:moveTo>
                    <a:lnTo>
                      <a:pt x="178" y="4"/>
                    </a:lnTo>
                    <a:lnTo>
                      <a:pt x="159" y="1"/>
                    </a:lnTo>
                    <a:lnTo>
                      <a:pt x="140" y="0"/>
                    </a:lnTo>
                    <a:lnTo>
                      <a:pt x="120" y="18"/>
                    </a:lnTo>
                    <a:lnTo>
                      <a:pt x="91" y="47"/>
                    </a:lnTo>
                    <a:lnTo>
                      <a:pt x="67" y="80"/>
                    </a:lnTo>
                    <a:lnTo>
                      <a:pt x="45" y="114"/>
                    </a:lnTo>
                    <a:lnTo>
                      <a:pt x="29" y="151"/>
                    </a:lnTo>
                    <a:lnTo>
                      <a:pt x="16" y="187"/>
                    </a:lnTo>
                    <a:lnTo>
                      <a:pt x="7" y="226"/>
                    </a:lnTo>
                    <a:lnTo>
                      <a:pt x="1" y="267"/>
                    </a:lnTo>
                    <a:lnTo>
                      <a:pt x="0" y="310"/>
                    </a:lnTo>
                    <a:lnTo>
                      <a:pt x="1" y="351"/>
                    </a:lnTo>
                    <a:lnTo>
                      <a:pt x="7" y="392"/>
                    </a:lnTo>
                    <a:lnTo>
                      <a:pt x="16" y="431"/>
                    </a:lnTo>
                    <a:lnTo>
                      <a:pt x="21" y="449"/>
                    </a:lnTo>
                    <a:lnTo>
                      <a:pt x="29" y="468"/>
                    </a:lnTo>
                    <a:lnTo>
                      <a:pt x="36" y="485"/>
                    </a:lnTo>
                    <a:lnTo>
                      <a:pt x="45" y="503"/>
                    </a:lnTo>
                    <a:lnTo>
                      <a:pt x="67" y="538"/>
                    </a:lnTo>
                    <a:lnTo>
                      <a:pt x="91" y="571"/>
                    </a:lnTo>
                    <a:lnTo>
                      <a:pt x="120" y="603"/>
                    </a:lnTo>
                    <a:lnTo>
                      <a:pt x="150" y="630"/>
                    </a:lnTo>
                    <a:lnTo>
                      <a:pt x="182" y="655"/>
                    </a:lnTo>
                    <a:lnTo>
                      <a:pt x="216" y="675"/>
                    </a:lnTo>
                    <a:lnTo>
                      <a:pt x="253" y="694"/>
                    </a:lnTo>
                    <a:lnTo>
                      <a:pt x="289" y="706"/>
                    </a:lnTo>
                    <a:lnTo>
                      <a:pt x="329" y="716"/>
                    </a:lnTo>
                    <a:lnTo>
                      <a:pt x="370" y="722"/>
                    </a:lnTo>
                    <a:lnTo>
                      <a:pt x="413" y="724"/>
                    </a:lnTo>
                    <a:lnTo>
                      <a:pt x="449" y="722"/>
                    </a:lnTo>
                    <a:lnTo>
                      <a:pt x="485" y="719"/>
                    </a:lnTo>
                    <a:lnTo>
                      <a:pt x="502" y="714"/>
                    </a:lnTo>
                    <a:lnTo>
                      <a:pt x="520" y="711"/>
                    </a:lnTo>
                    <a:lnTo>
                      <a:pt x="554" y="702"/>
                    </a:lnTo>
                    <a:lnTo>
                      <a:pt x="568" y="666"/>
                    </a:lnTo>
                    <a:lnTo>
                      <a:pt x="558" y="669"/>
                    </a:lnTo>
                    <a:lnTo>
                      <a:pt x="549" y="672"/>
                    </a:lnTo>
                    <a:lnTo>
                      <a:pt x="531" y="679"/>
                    </a:lnTo>
                    <a:lnTo>
                      <a:pt x="511" y="683"/>
                    </a:lnTo>
                    <a:lnTo>
                      <a:pt x="493" y="689"/>
                    </a:lnTo>
                    <a:lnTo>
                      <a:pt x="473" y="691"/>
                    </a:lnTo>
                    <a:lnTo>
                      <a:pt x="467" y="691"/>
                    </a:lnTo>
                    <a:lnTo>
                      <a:pt x="463" y="692"/>
                    </a:lnTo>
                    <a:lnTo>
                      <a:pt x="453" y="695"/>
                    </a:lnTo>
                    <a:lnTo>
                      <a:pt x="413" y="697"/>
                    </a:lnTo>
                    <a:lnTo>
                      <a:pt x="372" y="695"/>
                    </a:lnTo>
                    <a:lnTo>
                      <a:pt x="334" y="689"/>
                    </a:lnTo>
                    <a:lnTo>
                      <a:pt x="298" y="680"/>
                    </a:lnTo>
                    <a:lnTo>
                      <a:pt x="264" y="669"/>
                    </a:lnTo>
                    <a:lnTo>
                      <a:pt x="230" y="652"/>
                    </a:lnTo>
                    <a:lnTo>
                      <a:pt x="198" y="632"/>
                    </a:lnTo>
                    <a:lnTo>
                      <a:pt x="168" y="610"/>
                    </a:lnTo>
                    <a:lnTo>
                      <a:pt x="140" y="584"/>
                    </a:lnTo>
                    <a:lnTo>
                      <a:pt x="113" y="554"/>
                    </a:lnTo>
                    <a:lnTo>
                      <a:pt x="101" y="538"/>
                    </a:lnTo>
                    <a:lnTo>
                      <a:pt x="91" y="524"/>
                    </a:lnTo>
                    <a:lnTo>
                      <a:pt x="79" y="507"/>
                    </a:lnTo>
                    <a:lnTo>
                      <a:pt x="70" y="491"/>
                    </a:lnTo>
                    <a:lnTo>
                      <a:pt x="55" y="458"/>
                    </a:lnTo>
                    <a:lnTo>
                      <a:pt x="48" y="440"/>
                    </a:lnTo>
                    <a:lnTo>
                      <a:pt x="42" y="423"/>
                    </a:lnTo>
                    <a:lnTo>
                      <a:pt x="34" y="386"/>
                    </a:lnTo>
                    <a:lnTo>
                      <a:pt x="28" y="349"/>
                    </a:lnTo>
                    <a:lnTo>
                      <a:pt x="27" y="310"/>
                    </a:lnTo>
                    <a:lnTo>
                      <a:pt x="28" y="270"/>
                    </a:lnTo>
                    <a:lnTo>
                      <a:pt x="34" y="232"/>
                    </a:lnTo>
                    <a:lnTo>
                      <a:pt x="42" y="196"/>
                    </a:lnTo>
                    <a:lnTo>
                      <a:pt x="55" y="162"/>
                    </a:lnTo>
                    <a:lnTo>
                      <a:pt x="70" y="128"/>
                    </a:lnTo>
                    <a:lnTo>
                      <a:pt x="91" y="96"/>
                    </a:lnTo>
                    <a:lnTo>
                      <a:pt x="113" y="65"/>
                    </a:lnTo>
                    <a:lnTo>
                      <a:pt x="140" y="37"/>
                    </a:lnTo>
                    <a:close/>
                  </a:path>
                </a:pathLst>
              </a:custGeom>
              <a:solidFill>
                <a:srgbClr val="39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121160" y="3358440"/>
                <a:ext cx="156960" cy="197640"/>
              </a:xfrm>
              <a:custGeom>
                <a:avLst/>
                <a:gdLst/>
                <a:ahLst/>
                <a:rect l="l" t="t" r="r" b="b"/>
                <a:pathLst>
                  <a:path w="551" h="693">
                    <a:moveTo>
                      <a:pt x="151" y="0"/>
                    </a:moveTo>
                    <a:lnTo>
                      <a:pt x="113" y="33"/>
                    </a:lnTo>
                    <a:lnTo>
                      <a:pt x="86" y="61"/>
                    </a:lnTo>
                    <a:lnTo>
                      <a:pt x="64" y="92"/>
                    </a:lnTo>
                    <a:lnTo>
                      <a:pt x="43" y="124"/>
                    </a:lnTo>
                    <a:lnTo>
                      <a:pt x="28" y="158"/>
                    </a:lnTo>
                    <a:lnTo>
                      <a:pt x="15" y="192"/>
                    </a:lnTo>
                    <a:lnTo>
                      <a:pt x="7" y="228"/>
                    </a:lnTo>
                    <a:lnTo>
                      <a:pt x="1" y="266"/>
                    </a:lnTo>
                    <a:lnTo>
                      <a:pt x="0" y="306"/>
                    </a:lnTo>
                    <a:lnTo>
                      <a:pt x="1" y="345"/>
                    </a:lnTo>
                    <a:lnTo>
                      <a:pt x="7" y="382"/>
                    </a:lnTo>
                    <a:lnTo>
                      <a:pt x="15" y="419"/>
                    </a:lnTo>
                    <a:lnTo>
                      <a:pt x="21" y="436"/>
                    </a:lnTo>
                    <a:lnTo>
                      <a:pt x="28" y="454"/>
                    </a:lnTo>
                    <a:lnTo>
                      <a:pt x="43" y="487"/>
                    </a:lnTo>
                    <a:lnTo>
                      <a:pt x="52" y="503"/>
                    </a:lnTo>
                    <a:lnTo>
                      <a:pt x="64" y="520"/>
                    </a:lnTo>
                    <a:lnTo>
                      <a:pt x="74" y="534"/>
                    </a:lnTo>
                    <a:lnTo>
                      <a:pt x="86" y="550"/>
                    </a:lnTo>
                    <a:lnTo>
                      <a:pt x="113" y="580"/>
                    </a:lnTo>
                    <a:lnTo>
                      <a:pt x="141" y="606"/>
                    </a:lnTo>
                    <a:lnTo>
                      <a:pt x="171" y="628"/>
                    </a:lnTo>
                    <a:lnTo>
                      <a:pt x="203" y="648"/>
                    </a:lnTo>
                    <a:lnTo>
                      <a:pt x="237" y="665"/>
                    </a:lnTo>
                    <a:lnTo>
                      <a:pt x="271" y="676"/>
                    </a:lnTo>
                    <a:lnTo>
                      <a:pt x="307" y="685"/>
                    </a:lnTo>
                    <a:lnTo>
                      <a:pt x="345" y="691"/>
                    </a:lnTo>
                    <a:lnTo>
                      <a:pt x="386" y="693"/>
                    </a:lnTo>
                    <a:lnTo>
                      <a:pt x="426" y="691"/>
                    </a:lnTo>
                    <a:lnTo>
                      <a:pt x="436" y="688"/>
                    </a:lnTo>
                    <a:lnTo>
                      <a:pt x="440" y="687"/>
                    </a:lnTo>
                    <a:lnTo>
                      <a:pt x="446" y="687"/>
                    </a:lnTo>
                    <a:lnTo>
                      <a:pt x="466" y="685"/>
                    </a:lnTo>
                    <a:lnTo>
                      <a:pt x="484" y="679"/>
                    </a:lnTo>
                    <a:lnTo>
                      <a:pt x="504" y="675"/>
                    </a:lnTo>
                    <a:lnTo>
                      <a:pt x="522" y="668"/>
                    </a:lnTo>
                    <a:lnTo>
                      <a:pt x="531" y="665"/>
                    </a:lnTo>
                    <a:lnTo>
                      <a:pt x="541" y="662"/>
                    </a:lnTo>
                    <a:lnTo>
                      <a:pt x="551" y="626"/>
                    </a:lnTo>
                    <a:lnTo>
                      <a:pt x="531" y="634"/>
                    </a:lnTo>
                    <a:lnTo>
                      <a:pt x="527" y="634"/>
                    </a:lnTo>
                    <a:lnTo>
                      <a:pt x="525" y="635"/>
                    </a:lnTo>
                    <a:lnTo>
                      <a:pt x="521" y="637"/>
                    </a:lnTo>
                    <a:lnTo>
                      <a:pt x="511" y="642"/>
                    </a:lnTo>
                    <a:lnTo>
                      <a:pt x="491" y="649"/>
                    </a:lnTo>
                    <a:lnTo>
                      <a:pt x="481" y="651"/>
                    </a:lnTo>
                    <a:lnTo>
                      <a:pt x="472" y="654"/>
                    </a:lnTo>
                    <a:lnTo>
                      <a:pt x="460" y="656"/>
                    </a:lnTo>
                    <a:lnTo>
                      <a:pt x="450" y="658"/>
                    </a:lnTo>
                    <a:lnTo>
                      <a:pt x="430" y="661"/>
                    </a:lnTo>
                    <a:lnTo>
                      <a:pt x="407" y="664"/>
                    </a:lnTo>
                    <a:lnTo>
                      <a:pt x="396" y="664"/>
                    </a:lnTo>
                    <a:lnTo>
                      <a:pt x="390" y="664"/>
                    </a:lnTo>
                    <a:lnTo>
                      <a:pt x="386" y="665"/>
                    </a:lnTo>
                    <a:lnTo>
                      <a:pt x="348" y="662"/>
                    </a:lnTo>
                    <a:lnTo>
                      <a:pt x="313" y="658"/>
                    </a:lnTo>
                    <a:lnTo>
                      <a:pt x="279" y="649"/>
                    </a:lnTo>
                    <a:lnTo>
                      <a:pt x="247" y="639"/>
                    </a:lnTo>
                    <a:lnTo>
                      <a:pt x="216" y="623"/>
                    </a:lnTo>
                    <a:lnTo>
                      <a:pt x="187" y="606"/>
                    </a:lnTo>
                    <a:lnTo>
                      <a:pt x="159" y="584"/>
                    </a:lnTo>
                    <a:lnTo>
                      <a:pt x="133" y="560"/>
                    </a:lnTo>
                    <a:lnTo>
                      <a:pt x="107" y="532"/>
                    </a:lnTo>
                    <a:lnTo>
                      <a:pt x="85" y="504"/>
                    </a:lnTo>
                    <a:lnTo>
                      <a:pt x="67" y="474"/>
                    </a:lnTo>
                    <a:lnTo>
                      <a:pt x="59" y="458"/>
                    </a:lnTo>
                    <a:lnTo>
                      <a:pt x="53" y="444"/>
                    </a:lnTo>
                    <a:lnTo>
                      <a:pt x="41" y="411"/>
                    </a:lnTo>
                    <a:lnTo>
                      <a:pt x="33" y="377"/>
                    </a:lnTo>
                    <a:lnTo>
                      <a:pt x="30" y="359"/>
                    </a:lnTo>
                    <a:lnTo>
                      <a:pt x="28" y="342"/>
                    </a:lnTo>
                    <a:lnTo>
                      <a:pt x="27" y="306"/>
                    </a:lnTo>
                    <a:lnTo>
                      <a:pt x="28" y="269"/>
                    </a:lnTo>
                    <a:lnTo>
                      <a:pt x="33" y="234"/>
                    </a:lnTo>
                    <a:lnTo>
                      <a:pt x="41" y="200"/>
                    </a:lnTo>
                    <a:lnTo>
                      <a:pt x="53" y="168"/>
                    </a:lnTo>
                    <a:lnTo>
                      <a:pt x="67" y="136"/>
                    </a:lnTo>
                    <a:lnTo>
                      <a:pt x="85" y="108"/>
                    </a:lnTo>
                    <a:lnTo>
                      <a:pt x="107" y="80"/>
                    </a:lnTo>
                    <a:lnTo>
                      <a:pt x="133" y="54"/>
                    </a:lnTo>
                    <a:lnTo>
                      <a:pt x="159" y="29"/>
                    </a:lnTo>
                    <a:lnTo>
                      <a:pt x="187" y="7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3c5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128720" y="3359880"/>
                <a:ext cx="151920" cy="187920"/>
              </a:xfrm>
              <a:custGeom>
                <a:avLst/>
                <a:gdLst/>
                <a:ahLst/>
                <a:rect l="l" t="t" r="r" b="b"/>
                <a:pathLst>
                  <a:path w="532" h="658">
                    <a:moveTo>
                      <a:pt x="160" y="0"/>
                    </a:moveTo>
                    <a:lnTo>
                      <a:pt x="132" y="22"/>
                    </a:lnTo>
                    <a:lnTo>
                      <a:pt x="106" y="47"/>
                    </a:lnTo>
                    <a:lnTo>
                      <a:pt x="80" y="73"/>
                    </a:lnTo>
                    <a:lnTo>
                      <a:pt x="58" y="101"/>
                    </a:lnTo>
                    <a:lnTo>
                      <a:pt x="40" y="129"/>
                    </a:lnTo>
                    <a:lnTo>
                      <a:pt x="26" y="161"/>
                    </a:lnTo>
                    <a:lnTo>
                      <a:pt x="14" y="193"/>
                    </a:lnTo>
                    <a:lnTo>
                      <a:pt x="6" y="227"/>
                    </a:lnTo>
                    <a:lnTo>
                      <a:pt x="1" y="262"/>
                    </a:lnTo>
                    <a:lnTo>
                      <a:pt x="0" y="299"/>
                    </a:lnTo>
                    <a:lnTo>
                      <a:pt x="1" y="335"/>
                    </a:lnTo>
                    <a:lnTo>
                      <a:pt x="3" y="352"/>
                    </a:lnTo>
                    <a:lnTo>
                      <a:pt x="6" y="370"/>
                    </a:lnTo>
                    <a:lnTo>
                      <a:pt x="14" y="404"/>
                    </a:lnTo>
                    <a:lnTo>
                      <a:pt x="26" y="437"/>
                    </a:lnTo>
                    <a:lnTo>
                      <a:pt x="32" y="451"/>
                    </a:lnTo>
                    <a:lnTo>
                      <a:pt x="40" y="467"/>
                    </a:lnTo>
                    <a:lnTo>
                      <a:pt x="58" y="497"/>
                    </a:lnTo>
                    <a:lnTo>
                      <a:pt x="80" y="525"/>
                    </a:lnTo>
                    <a:lnTo>
                      <a:pt x="106" y="553"/>
                    </a:lnTo>
                    <a:lnTo>
                      <a:pt x="132" y="577"/>
                    </a:lnTo>
                    <a:lnTo>
                      <a:pt x="160" y="599"/>
                    </a:lnTo>
                    <a:lnTo>
                      <a:pt x="189" y="616"/>
                    </a:lnTo>
                    <a:lnTo>
                      <a:pt x="220" y="632"/>
                    </a:lnTo>
                    <a:lnTo>
                      <a:pt x="252" y="642"/>
                    </a:lnTo>
                    <a:lnTo>
                      <a:pt x="286" y="651"/>
                    </a:lnTo>
                    <a:lnTo>
                      <a:pt x="321" y="655"/>
                    </a:lnTo>
                    <a:lnTo>
                      <a:pt x="359" y="658"/>
                    </a:lnTo>
                    <a:lnTo>
                      <a:pt x="363" y="657"/>
                    </a:lnTo>
                    <a:lnTo>
                      <a:pt x="369" y="657"/>
                    </a:lnTo>
                    <a:lnTo>
                      <a:pt x="380" y="657"/>
                    </a:lnTo>
                    <a:lnTo>
                      <a:pt x="403" y="654"/>
                    </a:lnTo>
                    <a:lnTo>
                      <a:pt x="423" y="651"/>
                    </a:lnTo>
                    <a:lnTo>
                      <a:pt x="433" y="649"/>
                    </a:lnTo>
                    <a:lnTo>
                      <a:pt x="445" y="647"/>
                    </a:lnTo>
                    <a:lnTo>
                      <a:pt x="454" y="644"/>
                    </a:lnTo>
                    <a:lnTo>
                      <a:pt x="464" y="642"/>
                    </a:lnTo>
                    <a:lnTo>
                      <a:pt x="484" y="635"/>
                    </a:lnTo>
                    <a:lnTo>
                      <a:pt x="494" y="630"/>
                    </a:lnTo>
                    <a:lnTo>
                      <a:pt x="498" y="628"/>
                    </a:lnTo>
                    <a:lnTo>
                      <a:pt x="500" y="627"/>
                    </a:lnTo>
                    <a:lnTo>
                      <a:pt x="504" y="627"/>
                    </a:lnTo>
                    <a:lnTo>
                      <a:pt x="524" y="619"/>
                    </a:lnTo>
                    <a:lnTo>
                      <a:pt x="532" y="583"/>
                    </a:lnTo>
                    <a:lnTo>
                      <a:pt x="512" y="593"/>
                    </a:lnTo>
                    <a:lnTo>
                      <a:pt x="491" y="603"/>
                    </a:lnTo>
                    <a:lnTo>
                      <a:pt x="480" y="607"/>
                    </a:lnTo>
                    <a:lnTo>
                      <a:pt x="470" y="611"/>
                    </a:lnTo>
                    <a:lnTo>
                      <a:pt x="449" y="618"/>
                    </a:lnTo>
                    <a:lnTo>
                      <a:pt x="427" y="623"/>
                    </a:lnTo>
                    <a:lnTo>
                      <a:pt x="405" y="627"/>
                    </a:lnTo>
                    <a:lnTo>
                      <a:pt x="381" y="629"/>
                    </a:lnTo>
                    <a:lnTo>
                      <a:pt x="359" y="630"/>
                    </a:lnTo>
                    <a:lnTo>
                      <a:pt x="325" y="628"/>
                    </a:lnTo>
                    <a:lnTo>
                      <a:pt x="293" y="624"/>
                    </a:lnTo>
                    <a:lnTo>
                      <a:pt x="261" y="616"/>
                    </a:lnTo>
                    <a:lnTo>
                      <a:pt x="232" y="606"/>
                    </a:lnTo>
                    <a:lnTo>
                      <a:pt x="202" y="591"/>
                    </a:lnTo>
                    <a:lnTo>
                      <a:pt x="175" y="575"/>
                    </a:lnTo>
                    <a:lnTo>
                      <a:pt x="149" y="556"/>
                    </a:lnTo>
                    <a:lnTo>
                      <a:pt x="125" y="534"/>
                    </a:lnTo>
                    <a:lnTo>
                      <a:pt x="101" y="508"/>
                    </a:lnTo>
                    <a:lnTo>
                      <a:pt x="82" y="482"/>
                    </a:lnTo>
                    <a:lnTo>
                      <a:pt x="65" y="455"/>
                    </a:lnTo>
                    <a:lnTo>
                      <a:pt x="57" y="440"/>
                    </a:lnTo>
                    <a:lnTo>
                      <a:pt x="51" y="426"/>
                    </a:lnTo>
                    <a:lnTo>
                      <a:pt x="45" y="411"/>
                    </a:lnTo>
                    <a:lnTo>
                      <a:pt x="40" y="396"/>
                    </a:lnTo>
                    <a:lnTo>
                      <a:pt x="35" y="380"/>
                    </a:lnTo>
                    <a:lnTo>
                      <a:pt x="33" y="365"/>
                    </a:lnTo>
                    <a:lnTo>
                      <a:pt x="30" y="348"/>
                    </a:lnTo>
                    <a:lnTo>
                      <a:pt x="29" y="332"/>
                    </a:lnTo>
                    <a:lnTo>
                      <a:pt x="28" y="299"/>
                    </a:lnTo>
                    <a:lnTo>
                      <a:pt x="29" y="265"/>
                    </a:lnTo>
                    <a:lnTo>
                      <a:pt x="33" y="234"/>
                    </a:lnTo>
                    <a:lnTo>
                      <a:pt x="40" y="202"/>
                    </a:lnTo>
                    <a:lnTo>
                      <a:pt x="51" y="172"/>
                    </a:lnTo>
                    <a:lnTo>
                      <a:pt x="65" y="143"/>
                    </a:lnTo>
                    <a:lnTo>
                      <a:pt x="82" y="116"/>
                    </a:lnTo>
                    <a:lnTo>
                      <a:pt x="101" y="90"/>
                    </a:lnTo>
                    <a:lnTo>
                      <a:pt x="125" y="66"/>
                    </a:lnTo>
                    <a:lnTo>
                      <a:pt x="141" y="49"/>
                    </a:lnTo>
                    <a:lnTo>
                      <a:pt x="159" y="35"/>
                    </a:lnTo>
                    <a:lnTo>
                      <a:pt x="196" y="11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3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136640" y="3363480"/>
                <a:ext cx="145080" cy="176400"/>
              </a:xfrm>
              <a:custGeom>
                <a:avLst/>
                <a:gdLst/>
                <a:ahLst/>
                <a:rect l="l" t="t" r="r" b="b"/>
                <a:pathLst>
                  <a:path w="509" h="619">
                    <a:moveTo>
                      <a:pt x="116" y="74"/>
                    </a:moveTo>
                    <a:lnTo>
                      <a:pt x="136" y="55"/>
                    </a:lnTo>
                    <a:lnTo>
                      <a:pt x="157" y="38"/>
                    </a:lnTo>
                    <a:lnTo>
                      <a:pt x="179" y="23"/>
                    </a:lnTo>
                    <a:lnTo>
                      <a:pt x="202" y="13"/>
                    </a:lnTo>
                    <a:lnTo>
                      <a:pt x="168" y="0"/>
                    </a:lnTo>
                    <a:lnTo>
                      <a:pt x="131" y="24"/>
                    </a:lnTo>
                    <a:lnTo>
                      <a:pt x="113" y="38"/>
                    </a:lnTo>
                    <a:lnTo>
                      <a:pt x="97" y="55"/>
                    </a:lnTo>
                    <a:lnTo>
                      <a:pt x="73" y="79"/>
                    </a:lnTo>
                    <a:lnTo>
                      <a:pt x="54" y="105"/>
                    </a:lnTo>
                    <a:lnTo>
                      <a:pt x="37" y="132"/>
                    </a:lnTo>
                    <a:lnTo>
                      <a:pt x="23" y="161"/>
                    </a:lnTo>
                    <a:lnTo>
                      <a:pt x="12" y="191"/>
                    </a:lnTo>
                    <a:lnTo>
                      <a:pt x="5" y="223"/>
                    </a:lnTo>
                    <a:lnTo>
                      <a:pt x="1" y="254"/>
                    </a:lnTo>
                    <a:lnTo>
                      <a:pt x="0" y="288"/>
                    </a:lnTo>
                    <a:lnTo>
                      <a:pt x="1" y="321"/>
                    </a:lnTo>
                    <a:lnTo>
                      <a:pt x="2" y="337"/>
                    </a:lnTo>
                    <a:lnTo>
                      <a:pt x="5" y="354"/>
                    </a:lnTo>
                    <a:lnTo>
                      <a:pt x="7" y="369"/>
                    </a:lnTo>
                    <a:lnTo>
                      <a:pt x="12" y="385"/>
                    </a:lnTo>
                    <a:lnTo>
                      <a:pt x="17" y="400"/>
                    </a:lnTo>
                    <a:lnTo>
                      <a:pt x="23" y="415"/>
                    </a:lnTo>
                    <a:lnTo>
                      <a:pt x="29" y="429"/>
                    </a:lnTo>
                    <a:lnTo>
                      <a:pt x="37" y="444"/>
                    </a:lnTo>
                    <a:lnTo>
                      <a:pt x="54" y="471"/>
                    </a:lnTo>
                    <a:lnTo>
                      <a:pt x="73" y="497"/>
                    </a:lnTo>
                    <a:lnTo>
                      <a:pt x="97" y="523"/>
                    </a:lnTo>
                    <a:lnTo>
                      <a:pt x="121" y="545"/>
                    </a:lnTo>
                    <a:lnTo>
                      <a:pt x="147" y="564"/>
                    </a:lnTo>
                    <a:lnTo>
                      <a:pt x="174" y="580"/>
                    </a:lnTo>
                    <a:lnTo>
                      <a:pt x="204" y="595"/>
                    </a:lnTo>
                    <a:lnTo>
                      <a:pt x="233" y="605"/>
                    </a:lnTo>
                    <a:lnTo>
                      <a:pt x="265" y="613"/>
                    </a:lnTo>
                    <a:lnTo>
                      <a:pt x="297" y="617"/>
                    </a:lnTo>
                    <a:lnTo>
                      <a:pt x="331" y="619"/>
                    </a:lnTo>
                    <a:lnTo>
                      <a:pt x="353" y="618"/>
                    </a:lnTo>
                    <a:lnTo>
                      <a:pt x="377" y="616"/>
                    </a:lnTo>
                    <a:lnTo>
                      <a:pt x="399" y="612"/>
                    </a:lnTo>
                    <a:lnTo>
                      <a:pt x="421" y="607"/>
                    </a:lnTo>
                    <a:lnTo>
                      <a:pt x="442" y="600"/>
                    </a:lnTo>
                    <a:lnTo>
                      <a:pt x="452" y="596"/>
                    </a:lnTo>
                    <a:lnTo>
                      <a:pt x="463" y="592"/>
                    </a:lnTo>
                    <a:lnTo>
                      <a:pt x="484" y="582"/>
                    </a:lnTo>
                    <a:lnTo>
                      <a:pt x="504" y="572"/>
                    </a:lnTo>
                    <a:lnTo>
                      <a:pt x="509" y="536"/>
                    </a:lnTo>
                    <a:lnTo>
                      <a:pt x="488" y="548"/>
                    </a:lnTo>
                    <a:lnTo>
                      <a:pt x="468" y="559"/>
                    </a:lnTo>
                    <a:lnTo>
                      <a:pt x="456" y="564"/>
                    </a:lnTo>
                    <a:lnTo>
                      <a:pt x="451" y="566"/>
                    </a:lnTo>
                    <a:lnTo>
                      <a:pt x="446" y="570"/>
                    </a:lnTo>
                    <a:lnTo>
                      <a:pt x="435" y="573"/>
                    </a:lnTo>
                    <a:lnTo>
                      <a:pt x="425" y="578"/>
                    </a:lnTo>
                    <a:lnTo>
                      <a:pt x="412" y="580"/>
                    </a:lnTo>
                    <a:lnTo>
                      <a:pt x="401" y="583"/>
                    </a:lnTo>
                    <a:lnTo>
                      <a:pt x="378" y="588"/>
                    </a:lnTo>
                    <a:lnTo>
                      <a:pt x="371" y="588"/>
                    </a:lnTo>
                    <a:lnTo>
                      <a:pt x="368" y="588"/>
                    </a:lnTo>
                    <a:lnTo>
                      <a:pt x="366" y="589"/>
                    </a:lnTo>
                    <a:lnTo>
                      <a:pt x="354" y="591"/>
                    </a:lnTo>
                    <a:lnTo>
                      <a:pt x="342" y="591"/>
                    </a:lnTo>
                    <a:lnTo>
                      <a:pt x="331" y="592"/>
                    </a:lnTo>
                    <a:lnTo>
                      <a:pt x="299" y="590"/>
                    </a:lnTo>
                    <a:lnTo>
                      <a:pt x="269" y="587"/>
                    </a:lnTo>
                    <a:lnTo>
                      <a:pt x="240" y="579"/>
                    </a:lnTo>
                    <a:lnTo>
                      <a:pt x="214" y="570"/>
                    </a:lnTo>
                    <a:lnTo>
                      <a:pt x="187" y="556"/>
                    </a:lnTo>
                    <a:lnTo>
                      <a:pt x="162" y="541"/>
                    </a:lnTo>
                    <a:lnTo>
                      <a:pt x="138" y="522"/>
                    </a:lnTo>
                    <a:lnTo>
                      <a:pt x="116" y="503"/>
                    </a:lnTo>
                    <a:lnTo>
                      <a:pt x="95" y="479"/>
                    </a:lnTo>
                    <a:lnTo>
                      <a:pt x="85" y="466"/>
                    </a:lnTo>
                    <a:lnTo>
                      <a:pt x="77" y="455"/>
                    </a:lnTo>
                    <a:lnTo>
                      <a:pt x="62" y="430"/>
                    </a:lnTo>
                    <a:lnTo>
                      <a:pt x="49" y="404"/>
                    </a:lnTo>
                    <a:lnTo>
                      <a:pt x="39" y="376"/>
                    </a:lnTo>
                    <a:lnTo>
                      <a:pt x="35" y="361"/>
                    </a:lnTo>
                    <a:lnTo>
                      <a:pt x="32" y="347"/>
                    </a:lnTo>
                    <a:lnTo>
                      <a:pt x="29" y="318"/>
                    </a:lnTo>
                    <a:lnTo>
                      <a:pt x="28" y="288"/>
                    </a:lnTo>
                    <a:lnTo>
                      <a:pt x="29" y="257"/>
                    </a:lnTo>
                    <a:lnTo>
                      <a:pt x="32" y="227"/>
                    </a:lnTo>
                    <a:lnTo>
                      <a:pt x="39" y="198"/>
                    </a:lnTo>
                    <a:lnTo>
                      <a:pt x="49" y="172"/>
                    </a:lnTo>
                    <a:lnTo>
                      <a:pt x="62" y="144"/>
                    </a:lnTo>
                    <a:lnTo>
                      <a:pt x="77" y="119"/>
                    </a:lnTo>
                    <a:lnTo>
                      <a:pt x="95" y="96"/>
                    </a:lnTo>
                    <a:lnTo>
                      <a:pt x="116" y="74"/>
                    </a:lnTo>
                    <a:close/>
                  </a:path>
                </a:pathLst>
              </a:custGeom>
              <a:solidFill>
                <a:srgbClr val="42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144560" y="3366720"/>
                <a:ext cx="138240" cy="165600"/>
              </a:xfrm>
              <a:custGeom>
                <a:avLst/>
                <a:gdLst/>
                <a:ahLst/>
                <a:rect l="l" t="t" r="r" b="b"/>
                <a:pathLst>
                  <a:path w="484" h="579">
                    <a:moveTo>
                      <a:pt x="174" y="0"/>
                    </a:moveTo>
                    <a:lnTo>
                      <a:pt x="151" y="10"/>
                    </a:lnTo>
                    <a:lnTo>
                      <a:pt x="129" y="25"/>
                    </a:lnTo>
                    <a:lnTo>
                      <a:pt x="108" y="42"/>
                    </a:lnTo>
                    <a:lnTo>
                      <a:pt x="88" y="61"/>
                    </a:lnTo>
                    <a:lnTo>
                      <a:pt x="67" y="83"/>
                    </a:lnTo>
                    <a:lnTo>
                      <a:pt x="49" y="106"/>
                    </a:lnTo>
                    <a:lnTo>
                      <a:pt x="34" y="131"/>
                    </a:lnTo>
                    <a:lnTo>
                      <a:pt x="21" y="159"/>
                    </a:lnTo>
                    <a:lnTo>
                      <a:pt x="11" y="185"/>
                    </a:lnTo>
                    <a:lnTo>
                      <a:pt x="4" y="214"/>
                    </a:lnTo>
                    <a:lnTo>
                      <a:pt x="1" y="244"/>
                    </a:lnTo>
                    <a:lnTo>
                      <a:pt x="0" y="275"/>
                    </a:lnTo>
                    <a:lnTo>
                      <a:pt x="1" y="305"/>
                    </a:lnTo>
                    <a:lnTo>
                      <a:pt x="4" y="334"/>
                    </a:lnTo>
                    <a:lnTo>
                      <a:pt x="7" y="348"/>
                    </a:lnTo>
                    <a:lnTo>
                      <a:pt x="11" y="363"/>
                    </a:lnTo>
                    <a:lnTo>
                      <a:pt x="21" y="391"/>
                    </a:lnTo>
                    <a:lnTo>
                      <a:pt x="34" y="417"/>
                    </a:lnTo>
                    <a:lnTo>
                      <a:pt x="49" y="442"/>
                    </a:lnTo>
                    <a:lnTo>
                      <a:pt x="57" y="453"/>
                    </a:lnTo>
                    <a:lnTo>
                      <a:pt x="67" y="466"/>
                    </a:lnTo>
                    <a:lnTo>
                      <a:pt x="88" y="490"/>
                    </a:lnTo>
                    <a:lnTo>
                      <a:pt x="110" y="509"/>
                    </a:lnTo>
                    <a:lnTo>
                      <a:pt x="134" y="528"/>
                    </a:lnTo>
                    <a:lnTo>
                      <a:pt x="159" y="543"/>
                    </a:lnTo>
                    <a:lnTo>
                      <a:pt x="186" y="557"/>
                    </a:lnTo>
                    <a:lnTo>
                      <a:pt x="212" y="566"/>
                    </a:lnTo>
                    <a:lnTo>
                      <a:pt x="241" y="574"/>
                    </a:lnTo>
                    <a:lnTo>
                      <a:pt x="271" y="577"/>
                    </a:lnTo>
                    <a:lnTo>
                      <a:pt x="303" y="579"/>
                    </a:lnTo>
                    <a:lnTo>
                      <a:pt x="314" y="578"/>
                    </a:lnTo>
                    <a:lnTo>
                      <a:pt x="326" y="578"/>
                    </a:lnTo>
                    <a:lnTo>
                      <a:pt x="338" y="576"/>
                    </a:lnTo>
                    <a:lnTo>
                      <a:pt x="340" y="575"/>
                    </a:lnTo>
                    <a:lnTo>
                      <a:pt x="343" y="575"/>
                    </a:lnTo>
                    <a:lnTo>
                      <a:pt x="350" y="575"/>
                    </a:lnTo>
                    <a:lnTo>
                      <a:pt x="373" y="570"/>
                    </a:lnTo>
                    <a:lnTo>
                      <a:pt x="384" y="567"/>
                    </a:lnTo>
                    <a:lnTo>
                      <a:pt x="397" y="565"/>
                    </a:lnTo>
                    <a:lnTo>
                      <a:pt x="407" y="560"/>
                    </a:lnTo>
                    <a:lnTo>
                      <a:pt x="418" y="557"/>
                    </a:lnTo>
                    <a:lnTo>
                      <a:pt x="423" y="553"/>
                    </a:lnTo>
                    <a:lnTo>
                      <a:pt x="428" y="551"/>
                    </a:lnTo>
                    <a:lnTo>
                      <a:pt x="440" y="546"/>
                    </a:lnTo>
                    <a:lnTo>
                      <a:pt x="460" y="535"/>
                    </a:lnTo>
                    <a:lnTo>
                      <a:pt x="481" y="523"/>
                    </a:lnTo>
                    <a:lnTo>
                      <a:pt x="484" y="485"/>
                    </a:lnTo>
                    <a:lnTo>
                      <a:pt x="464" y="500"/>
                    </a:lnTo>
                    <a:lnTo>
                      <a:pt x="443" y="513"/>
                    </a:lnTo>
                    <a:lnTo>
                      <a:pt x="422" y="525"/>
                    </a:lnTo>
                    <a:lnTo>
                      <a:pt x="410" y="529"/>
                    </a:lnTo>
                    <a:lnTo>
                      <a:pt x="405" y="532"/>
                    </a:lnTo>
                    <a:lnTo>
                      <a:pt x="400" y="535"/>
                    </a:lnTo>
                    <a:lnTo>
                      <a:pt x="376" y="542"/>
                    </a:lnTo>
                    <a:lnTo>
                      <a:pt x="364" y="544"/>
                    </a:lnTo>
                    <a:lnTo>
                      <a:pt x="353" y="548"/>
                    </a:lnTo>
                    <a:lnTo>
                      <a:pt x="328" y="551"/>
                    </a:lnTo>
                    <a:lnTo>
                      <a:pt x="303" y="552"/>
                    </a:lnTo>
                    <a:lnTo>
                      <a:pt x="274" y="550"/>
                    </a:lnTo>
                    <a:lnTo>
                      <a:pt x="247" y="546"/>
                    </a:lnTo>
                    <a:lnTo>
                      <a:pt x="221" y="540"/>
                    </a:lnTo>
                    <a:lnTo>
                      <a:pt x="197" y="532"/>
                    </a:lnTo>
                    <a:lnTo>
                      <a:pt x="172" y="519"/>
                    </a:lnTo>
                    <a:lnTo>
                      <a:pt x="150" y="506"/>
                    </a:lnTo>
                    <a:lnTo>
                      <a:pt x="128" y="489"/>
                    </a:lnTo>
                    <a:lnTo>
                      <a:pt x="108" y="470"/>
                    </a:lnTo>
                    <a:lnTo>
                      <a:pt x="88" y="449"/>
                    </a:lnTo>
                    <a:lnTo>
                      <a:pt x="71" y="427"/>
                    </a:lnTo>
                    <a:lnTo>
                      <a:pt x="57" y="404"/>
                    </a:lnTo>
                    <a:lnTo>
                      <a:pt x="46" y="381"/>
                    </a:lnTo>
                    <a:lnTo>
                      <a:pt x="41" y="367"/>
                    </a:lnTo>
                    <a:lnTo>
                      <a:pt x="37" y="355"/>
                    </a:lnTo>
                    <a:lnTo>
                      <a:pt x="32" y="330"/>
                    </a:lnTo>
                    <a:lnTo>
                      <a:pt x="28" y="303"/>
                    </a:lnTo>
                    <a:lnTo>
                      <a:pt x="27" y="275"/>
                    </a:lnTo>
                    <a:lnTo>
                      <a:pt x="28" y="247"/>
                    </a:lnTo>
                    <a:lnTo>
                      <a:pt x="32" y="220"/>
                    </a:lnTo>
                    <a:lnTo>
                      <a:pt x="37" y="194"/>
                    </a:lnTo>
                    <a:lnTo>
                      <a:pt x="46" y="170"/>
                    </a:lnTo>
                    <a:lnTo>
                      <a:pt x="57" y="145"/>
                    </a:lnTo>
                    <a:lnTo>
                      <a:pt x="71" y="122"/>
                    </a:lnTo>
                    <a:lnTo>
                      <a:pt x="88" y="101"/>
                    </a:lnTo>
                    <a:lnTo>
                      <a:pt x="108" y="80"/>
                    </a:lnTo>
                    <a:lnTo>
                      <a:pt x="130" y="59"/>
                    </a:lnTo>
                    <a:lnTo>
                      <a:pt x="155" y="41"/>
                    </a:lnTo>
                    <a:lnTo>
                      <a:pt x="180" y="26"/>
                    </a:lnTo>
                    <a:lnTo>
                      <a:pt x="209" y="16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46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081200" y="3357000"/>
                <a:ext cx="173880" cy="237960"/>
              </a:xfrm>
              <a:custGeom>
                <a:avLst/>
                <a:gdLst/>
                <a:ahLst/>
                <a:rect l="l" t="t" r="r" b="b"/>
                <a:pathLst>
                  <a:path w="606" h="833">
                    <a:moveTo>
                      <a:pt x="136" y="0"/>
                    </a:moveTo>
                    <a:lnTo>
                      <a:pt x="96" y="6"/>
                    </a:lnTo>
                    <a:lnTo>
                      <a:pt x="72" y="38"/>
                    </a:lnTo>
                    <a:lnTo>
                      <a:pt x="53" y="74"/>
                    </a:lnTo>
                    <a:lnTo>
                      <a:pt x="36" y="109"/>
                    </a:lnTo>
                    <a:lnTo>
                      <a:pt x="24" y="147"/>
                    </a:lnTo>
                    <a:lnTo>
                      <a:pt x="12" y="185"/>
                    </a:lnTo>
                    <a:lnTo>
                      <a:pt x="5" y="225"/>
                    </a:lnTo>
                    <a:lnTo>
                      <a:pt x="1" y="266"/>
                    </a:lnTo>
                    <a:lnTo>
                      <a:pt x="0" y="309"/>
                    </a:lnTo>
                    <a:lnTo>
                      <a:pt x="0" y="335"/>
                    </a:lnTo>
                    <a:lnTo>
                      <a:pt x="2" y="363"/>
                    </a:lnTo>
                    <a:lnTo>
                      <a:pt x="4" y="388"/>
                    </a:lnTo>
                    <a:lnTo>
                      <a:pt x="9" y="414"/>
                    </a:lnTo>
                    <a:lnTo>
                      <a:pt x="13" y="438"/>
                    </a:lnTo>
                    <a:lnTo>
                      <a:pt x="20" y="462"/>
                    </a:lnTo>
                    <a:lnTo>
                      <a:pt x="38" y="510"/>
                    </a:lnTo>
                    <a:lnTo>
                      <a:pt x="47" y="532"/>
                    </a:lnTo>
                    <a:lnTo>
                      <a:pt x="59" y="554"/>
                    </a:lnTo>
                    <a:lnTo>
                      <a:pt x="71" y="576"/>
                    </a:lnTo>
                    <a:lnTo>
                      <a:pt x="86" y="599"/>
                    </a:lnTo>
                    <a:lnTo>
                      <a:pt x="101" y="619"/>
                    </a:lnTo>
                    <a:lnTo>
                      <a:pt x="118" y="640"/>
                    </a:lnTo>
                    <a:lnTo>
                      <a:pt x="135" y="660"/>
                    </a:lnTo>
                    <a:lnTo>
                      <a:pt x="154" y="680"/>
                    </a:lnTo>
                    <a:lnTo>
                      <a:pt x="191" y="714"/>
                    </a:lnTo>
                    <a:lnTo>
                      <a:pt x="233" y="746"/>
                    </a:lnTo>
                    <a:lnTo>
                      <a:pt x="254" y="760"/>
                    </a:lnTo>
                    <a:lnTo>
                      <a:pt x="275" y="772"/>
                    </a:lnTo>
                    <a:lnTo>
                      <a:pt x="322" y="795"/>
                    </a:lnTo>
                    <a:lnTo>
                      <a:pt x="368" y="811"/>
                    </a:lnTo>
                    <a:lnTo>
                      <a:pt x="393" y="817"/>
                    </a:lnTo>
                    <a:lnTo>
                      <a:pt x="418" y="823"/>
                    </a:lnTo>
                    <a:lnTo>
                      <a:pt x="469" y="830"/>
                    </a:lnTo>
                    <a:lnTo>
                      <a:pt x="496" y="832"/>
                    </a:lnTo>
                    <a:lnTo>
                      <a:pt x="524" y="833"/>
                    </a:lnTo>
                    <a:lnTo>
                      <a:pt x="537" y="832"/>
                    </a:lnTo>
                    <a:lnTo>
                      <a:pt x="552" y="832"/>
                    </a:lnTo>
                    <a:lnTo>
                      <a:pt x="581" y="831"/>
                    </a:lnTo>
                    <a:lnTo>
                      <a:pt x="606" y="799"/>
                    </a:lnTo>
                    <a:lnTo>
                      <a:pt x="566" y="804"/>
                    </a:lnTo>
                    <a:lnTo>
                      <a:pt x="554" y="804"/>
                    </a:lnTo>
                    <a:lnTo>
                      <a:pt x="549" y="804"/>
                    </a:lnTo>
                    <a:lnTo>
                      <a:pt x="544" y="805"/>
                    </a:lnTo>
                    <a:lnTo>
                      <a:pt x="524" y="806"/>
                    </a:lnTo>
                    <a:lnTo>
                      <a:pt x="473" y="804"/>
                    </a:lnTo>
                    <a:lnTo>
                      <a:pt x="424" y="797"/>
                    </a:lnTo>
                    <a:lnTo>
                      <a:pt x="377" y="786"/>
                    </a:lnTo>
                    <a:lnTo>
                      <a:pt x="333" y="770"/>
                    </a:lnTo>
                    <a:lnTo>
                      <a:pt x="289" y="749"/>
                    </a:lnTo>
                    <a:lnTo>
                      <a:pt x="249" y="724"/>
                    </a:lnTo>
                    <a:lnTo>
                      <a:pt x="210" y="695"/>
                    </a:lnTo>
                    <a:lnTo>
                      <a:pt x="173" y="661"/>
                    </a:lnTo>
                    <a:lnTo>
                      <a:pt x="155" y="642"/>
                    </a:lnTo>
                    <a:lnTo>
                      <a:pt x="139" y="623"/>
                    </a:lnTo>
                    <a:lnTo>
                      <a:pt x="123" y="603"/>
                    </a:lnTo>
                    <a:lnTo>
                      <a:pt x="110" y="584"/>
                    </a:lnTo>
                    <a:lnTo>
                      <a:pt x="96" y="562"/>
                    </a:lnTo>
                    <a:lnTo>
                      <a:pt x="85" y="542"/>
                    </a:lnTo>
                    <a:lnTo>
                      <a:pt x="73" y="520"/>
                    </a:lnTo>
                    <a:lnTo>
                      <a:pt x="64" y="500"/>
                    </a:lnTo>
                    <a:lnTo>
                      <a:pt x="49" y="455"/>
                    </a:lnTo>
                    <a:lnTo>
                      <a:pt x="42" y="431"/>
                    </a:lnTo>
                    <a:lnTo>
                      <a:pt x="37" y="408"/>
                    </a:lnTo>
                    <a:lnTo>
                      <a:pt x="33" y="383"/>
                    </a:lnTo>
                    <a:lnTo>
                      <a:pt x="30" y="359"/>
                    </a:lnTo>
                    <a:lnTo>
                      <a:pt x="28" y="309"/>
                    </a:lnTo>
                    <a:lnTo>
                      <a:pt x="29" y="265"/>
                    </a:lnTo>
                    <a:lnTo>
                      <a:pt x="34" y="223"/>
                    </a:lnTo>
                    <a:lnTo>
                      <a:pt x="42" y="181"/>
                    </a:lnTo>
                    <a:lnTo>
                      <a:pt x="54" y="143"/>
                    </a:lnTo>
                    <a:lnTo>
                      <a:pt x="69" y="104"/>
                    </a:lnTo>
                    <a:lnTo>
                      <a:pt x="88" y="68"/>
                    </a:lnTo>
                    <a:lnTo>
                      <a:pt x="110" y="33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2c4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167960" y="3382920"/>
                <a:ext cx="113760" cy="125640"/>
              </a:xfrm>
              <a:custGeom>
                <a:avLst/>
                <a:gdLst/>
                <a:ahLst/>
                <a:rect l="l" t="t" r="r" b="b"/>
                <a:pathLst>
                  <a:path w="398" h="439">
                    <a:moveTo>
                      <a:pt x="27" y="218"/>
                    </a:moveTo>
                    <a:lnTo>
                      <a:pt x="27" y="198"/>
                    </a:lnTo>
                    <a:lnTo>
                      <a:pt x="30" y="180"/>
                    </a:lnTo>
                    <a:lnTo>
                      <a:pt x="40" y="145"/>
                    </a:lnTo>
                    <a:lnTo>
                      <a:pt x="57" y="112"/>
                    </a:lnTo>
                    <a:lnTo>
                      <a:pt x="69" y="96"/>
                    </a:lnTo>
                    <a:lnTo>
                      <a:pt x="84" y="82"/>
                    </a:lnTo>
                    <a:lnTo>
                      <a:pt x="97" y="68"/>
                    </a:lnTo>
                    <a:lnTo>
                      <a:pt x="113" y="56"/>
                    </a:lnTo>
                    <a:lnTo>
                      <a:pt x="146" y="39"/>
                    </a:lnTo>
                    <a:lnTo>
                      <a:pt x="181" y="29"/>
                    </a:lnTo>
                    <a:lnTo>
                      <a:pt x="199" y="26"/>
                    </a:lnTo>
                    <a:lnTo>
                      <a:pt x="220" y="26"/>
                    </a:lnTo>
                    <a:lnTo>
                      <a:pt x="224" y="26"/>
                    </a:lnTo>
                    <a:lnTo>
                      <a:pt x="191" y="0"/>
                    </a:lnTo>
                    <a:lnTo>
                      <a:pt x="156" y="6"/>
                    </a:lnTo>
                    <a:lnTo>
                      <a:pt x="123" y="20"/>
                    </a:lnTo>
                    <a:lnTo>
                      <a:pt x="93" y="38"/>
                    </a:lnTo>
                    <a:lnTo>
                      <a:pt x="64" y="63"/>
                    </a:lnTo>
                    <a:lnTo>
                      <a:pt x="47" y="79"/>
                    </a:lnTo>
                    <a:lnTo>
                      <a:pt x="35" y="96"/>
                    </a:lnTo>
                    <a:lnTo>
                      <a:pt x="16" y="133"/>
                    </a:lnTo>
                    <a:lnTo>
                      <a:pt x="8" y="153"/>
                    </a:lnTo>
                    <a:lnTo>
                      <a:pt x="3" y="174"/>
                    </a:lnTo>
                    <a:lnTo>
                      <a:pt x="0" y="218"/>
                    </a:lnTo>
                    <a:lnTo>
                      <a:pt x="0" y="240"/>
                    </a:lnTo>
                    <a:lnTo>
                      <a:pt x="3" y="261"/>
                    </a:lnTo>
                    <a:lnTo>
                      <a:pt x="8" y="282"/>
                    </a:lnTo>
                    <a:lnTo>
                      <a:pt x="16" y="302"/>
                    </a:lnTo>
                    <a:lnTo>
                      <a:pt x="23" y="320"/>
                    </a:lnTo>
                    <a:lnTo>
                      <a:pt x="35" y="340"/>
                    </a:lnTo>
                    <a:lnTo>
                      <a:pt x="47" y="357"/>
                    </a:lnTo>
                    <a:lnTo>
                      <a:pt x="64" y="375"/>
                    </a:lnTo>
                    <a:lnTo>
                      <a:pt x="80" y="390"/>
                    </a:lnTo>
                    <a:lnTo>
                      <a:pt x="97" y="402"/>
                    </a:lnTo>
                    <a:lnTo>
                      <a:pt x="115" y="412"/>
                    </a:lnTo>
                    <a:lnTo>
                      <a:pt x="135" y="422"/>
                    </a:lnTo>
                    <a:lnTo>
                      <a:pt x="154" y="429"/>
                    </a:lnTo>
                    <a:lnTo>
                      <a:pt x="175" y="435"/>
                    </a:lnTo>
                    <a:lnTo>
                      <a:pt x="197" y="438"/>
                    </a:lnTo>
                    <a:lnTo>
                      <a:pt x="220" y="439"/>
                    </a:lnTo>
                    <a:lnTo>
                      <a:pt x="224" y="438"/>
                    </a:lnTo>
                    <a:lnTo>
                      <a:pt x="230" y="438"/>
                    </a:lnTo>
                    <a:lnTo>
                      <a:pt x="241" y="438"/>
                    </a:lnTo>
                    <a:lnTo>
                      <a:pt x="251" y="436"/>
                    </a:lnTo>
                    <a:lnTo>
                      <a:pt x="263" y="435"/>
                    </a:lnTo>
                    <a:lnTo>
                      <a:pt x="283" y="429"/>
                    </a:lnTo>
                    <a:lnTo>
                      <a:pt x="304" y="422"/>
                    </a:lnTo>
                    <a:lnTo>
                      <a:pt x="322" y="412"/>
                    </a:lnTo>
                    <a:lnTo>
                      <a:pt x="331" y="407"/>
                    </a:lnTo>
                    <a:lnTo>
                      <a:pt x="341" y="402"/>
                    </a:lnTo>
                    <a:lnTo>
                      <a:pt x="349" y="395"/>
                    </a:lnTo>
                    <a:lnTo>
                      <a:pt x="358" y="390"/>
                    </a:lnTo>
                    <a:lnTo>
                      <a:pt x="376" y="375"/>
                    </a:lnTo>
                    <a:lnTo>
                      <a:pt x="381" y="368"/>
                    </a:lnTo>
                    <a:lnTo>
                      <a:pt x="383" y="365"/>
                    </a:lnTo>
                    <a:lnTo>
                      <a:pt x="386" y="362"/>
                    </a:lnTo>
                    <a:lnTo>
                      <a:pt x="398" y="350"/>
                    </a:lnTo>
                    <a:lnTo>
                      <a:pt x="391" y="309"/>
                    </a:lnTo>
                    <a:lnTo>
                      <a:pt x="383" y="320"/>
                    </a:lnTo>
                    <a:lnTo>
                      <a:pt x="378" y="326"/>
                    </a:lnTo>
                    <a:lnTo>
                      <a:pt x="375" y="333"/>
                    </a:lnTo>
                    <a:lnTo>
                      <a:pt x="357" y="356"/>
                    </a:lnTo>
                    <a:lnTo>
                      <a:pt x="341" y="368"/>
                    </a:lnTo>
                    <a:lnTo>
                      <a:pt x="326" y="379"/>
                    </a:lnTo>
                    <a:lnTo>
                      <a:pt x="309" y="388"/>
                    </a:lnTo>
                    <a:lnTo>
                      <a:pt x="293" y="396"/>
                    </a:lnTo>
                    <a:lnTo>
                      <a:pt x="275" y="402"/>
                    </a:lnTo>
                    <a:lnTo>
                      <a:pt x="257" y="407"/>
                    </a:lnTo>
                    <a:lnTo>
                      <a:pt x="251" y="407"/>
                    </a:lnTo>
                    <a:lnTo>
                      <a:pt x="247" y="408"/>
                    </a:lnTo>
                    <a:lnTo>
                      <a:pt x="238" y="410"/>
                    </a:lnTo>
                    <a:lnTo>
                      <a:pt x="220" y="411"/>
                    </a:lnTo>
                    <a:lnTo>
                      <a:pt x="199" y="410"/>
                    </a:lnTo>
                    <a:lnTo>
                      <a:pt x="181" y="407"/>
                    </a:lnTo>
                    <a:lnTo>
                      <a:pt x="163" y="402"/>
                    </a:lnTo>
                    <a:lnTo>
                      <a:pt x="146" y="396"/>
                    </a:lnTo>
                    <a:lnTo>
                      <a:pt x="129" y="388"/>
                    </a:lnTo>
                    <a:lnTo>
                      <a:pt x="113" y="379"/>
                    </a:lnTo>
                    <a:lnTo>
                      <a:pt x="97" y="368"/>
                    </a:lnTo>
                    <a:lnTo>
                      <a:pt x="84" y="356"/>
                    </a:lnTo>
                    <a:lnTo>
                      <a:pt x="69" y="340"/>
                    </a:lnTo>
                    <a:lnTo>
                      <a:pt x="57" y="325"/>
                    </a:lnTo>
                    <a:lnTo>
                      <a:pt x="47" y="308"/>
                    </a:lnTo>
                    <a:lnTo>
                      <a:pt x="40" y="292"/>
                    </a:lnTo>
                    <a:lnTo>
                      <a:pt x="34" y="274"/>
                    </a:lnTo>
                    <a:lnTo>
                      <a:pt x="30" y="256"/>
                    </a:lnTo>
                    <a:lnTo>
                      <a:pt x="27" y="237"/>
                    </a:lnTo>
                    <a:lnTo>
                      <a:pt x="27" y="218"/>
                    </a:lnTo>
                    <a:close/>
                  </a:path>
                </a:pathLst>
              </a:custGeom>
              <a:solidFill>
                <a:srgbClr val="4f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176240" y="3390480"/>
                <a:ext cx="104040" cy="110160"/>
              </a:xfrm>
              <a:custGeom>
                <a:avLst/>
                <a:gdLst/>
                <a:ahLst/>
                <a:rect l="l" t="t" r="r" b="b"/>
                <a:pathLst>
                  <a:path w="364" h="385">
                    <a:moveTo>
                      <a:pt x="57" y="56"/>
                    </a:moveTo>
                    <a:lnTo>
                      <a:pt x="42" y="70"/>
                    </a:lnTo>
                    <a:lnTo>
                      <a:pt x="30" y="86"/>
                    </a:lnTo>
                    <a:lnTo>
                      <a:pt x="13" y="119"/>
                    </a:lnTo>
                    <a:lnTo>
                      <a:pt x="3" y="154"/>
                    </a:lnTo>
                    <a:lnTo>
                      <a:pt x="0" y="172"/>
                    </a:lnTo>
                    <a:lnTo>
                      <a:pt x="0" y="192"/>
                    </a:lnTo>
                    <a:lnTo>
                      <a:pt x="0" y="211"/>
                    </a:lnTo>
                    <a:lnTo>
                      <a:pt x="3" y="230"/>
                    </a:lnTo>
                    <a:lnTo>
                      <a:pt x="7" y="248"/>
                    </a:lnTo>
                    <a:lnTo>
                      <a:pt x="13" y="266"/>
                    </a:lnTo>
                    <a:lnTo>
                      <a:pt x="20" y="282"/>
                    </a:lnTo>
                    <a:lnTo>
                      <a:pt x="30" y="299"/>
                    </a:lnTo>
                    <a:lnTo>
                      <a:pt x="42" y="314"/>
                    </a:lnTo>
                    <a:lnTo>
                      <a:pt x="57" y="330"/>
                    </a:lnTo>
                    <a:lnTo>
                      <a:pt x="70" y="342"/>
                    </a:lnTo>
                    <a:lnTo>
                      <a:pt x="86" y="353"/>
                    </a:lnTo>
                    <a:lnTo>
                      <a:pt x="102" y="362"/>
                    </a:lnTo>
                    <a:lnTo>
                      <a:pt x="119" y="370"/>
                    </a:lnTo>
                    <a:lnTo>
                      <a:pt x="136" y="376"/>
                    </a:lnTo>
                    <a:lnTo>
                      <a:pt x="154" y="381"/>
                    </a:lnTo>
                    <a:lnTo>
                      <a:pt x="172" y="384"/>
                    </a:lnTo>
                    <a:lnTo>
                      <a:pt x="193" y="385"/>
                    </a:lnTo>
                    <a:lnTo>
                      <a:pt x="211" y="384"/>
                    </a:lnTo>
                    <a:lnTo>
                      <a:pt x="220" y="382"/>
                    </a:lnTo>
                    <a:lnTo>
                      <a:pt x="224" y="381"/>
                    </a:lnTo>
                    <a:lnTo>
                      <a:pt x="230" y="381"/>
                    </a:lnTo>
                    <a:lnTo>
                      <a:pt x="248" y="376"/>
                    </a:lnTo>
                    <a:lnTo>
                      <a:pt x="266" y="370"/>
                    </a:lnTo>
                    <a:lnTo>
                      <a:pt x="282" y="362"/>
                    </a:lnTo>
                    <a:lnTo>
                      <a:pt x="299" y="353"/>
                    </a:lnTo>
                    <a:lnTo>
                      <a:pt x="314" y="342"/>
                    </a:lnTo>
                    <a:lnTo>
                      <a:pt x="330" y="330"/>
                    </a:lnTo>
                    <a:lnTo>
                      <a:pt x="348" y="307"/>
                    </a:lnTo>
                    <a:lnTo>
                      <a:pt x="351" y="300"/>
                    </a:lnTo>
                    <a:lnTo>
                      <a:pt x="356" y="294"/>
                    </a:lnTo>
                    <a:lnTo>
                      <a:pt x="364" y="283"/>
                    </a:lnTo>
                    <a:lnTo>
                      <a:pt x="354" y="237"/>
                    </a:lnTo>
                    <a:lnTo>
                      <a:pt x="349" y="246"/>
                    </a:lnTo>
                    <a:lnTo>
                      <a:pt x="347" y="250"/>
                    </a:lnTo>
                    <a:lnTo>
                      <a:pt x="346" y="252"/>
                    </a:lnTo>
                    <a:lnTo>
                      <a:pt x="346" y="256"/>
                    </a:lnTo>
                    <a:lnTo>
                      <a:pt x="341" y="265"/>
                    </a:lnTo>
                    <a:lnTo>
                      <a:pt x="337" y="275"/>
                    </a:lnTo>
                    <a:lnTo>
                      <a:pt x="330" y="283"/>
                    </a:lnTo>
                    <a:lnTo>
                      <a:pt x="324" y="292"/>
                    </a:lnTo>
                    <a:lnTo>
                      <a:pt x="317" y="300"/>
                    </a:lnTo>
                    <a:lnTo>
                      <a:pt x="311" y="309"/>
                    </a:lnTo>
                    <a:lnTo>
                      <a:pt x="297" y="319"/>
                    </a:lnTo>
                    <a:lnTo>
                      <a:pt x="290" y="324"/>
                    </a:lnTo>
                    <a:lnTo>
                      <a:pt x="287" y="326"/>
                    </a:lnTo>
                    <a:lnTo>
                      <a:pt x="284" y="330"/>
                    </a:lnTo>
                    <a:lnTo>
                      <a:pt x="280" y="331"/>
                    </a:lnTo>
                    <a:lnTo>
                      <a:pt x="277" y="333"/>
                    </a:lnTo>
                    <a:lnTo>
                      <a:pt x="270" y="338"/>
                    </a:lnTo>
                    <a:lnTo>
                      <a:pt x="256" y="345"/>
                    </a:lnTo>
                    <a:lnTo>
                      <a:pt x="240" y="350"/>
                    </a:lnTo>
                    <a:lnTo>
                      <a:pt x="225" y="355"/>
                    </a:lnTo>
                    <a:lnTo>
                      <a:pt x="208" y="357"/>
                    </a:lnTo>
                    <a:lnTo>
                      <a:pt x="193" y="358"/>
                    </a:lnTo>
                    <a:lnTo>
                      <a:pt x="176" y="357"/>
                    </a:lnTo>
                    <a:lnTo>
                      <a:pt x="160" y="355"/>
                    </a:lnTo>
                    <a:lnTo>
                      <a:pt x="129" y="345"/>
                    </a:lnTo>
                    <a:lnTo>
                      <a:pt x="101" y="330"/>
                    </a:lnTo>
                    <a:lnTo>
                      <a:pt x="87" y="319"/>
                    </a:lnTo>
                    <a:lnTo>
                      <a:pt x="76" y="309"/>
                    </a:lnTo>
                    <a:lnTo>
                      <a:pt x="63" y="296"/>
                    </a:lnTo>
                    <a:lnTo>
                      <a:pt x="53" y="283"/>
                    </a:lnTo>
                    <a:lnTo>
                      <a:pt x="44" y="269"/>
                    </a:lnTo>
                    <a:lnTo>
                      <a:pt x="38" y="256"/>
                    </a:lnTo>
                    <a:lnTo>
                      <a:pt x="33" y="240"/>
                    </a:lnTo>
                    <a:lnTo>
                      <a:pt x="29" y="225"/>
                    </a:lnTo>
                    <a:lnTo>
                      <a:pt x="27" y="208"/>
                    </a:lnTo>
                    <a:lnTo>
                      <a:pt x="27" y="192"/>
                    </a:lnTo>
                    <a:lnTo>
                      <a:pt x="29" y="160"/>
                    </a:lnTo>
                    <a:lnTo>
                      <a:pt x="38" y="129"/>
                    </a:lnTo>
                    <a:lnTo>
                      <a:pt x="53" y="101"/>
                    </a:lnTo>
                    <a:lnTo>
                      <a:pt x="63" y="87"/>
                    </a:lnTo>
                    <a:lnTo>
                      <a:pt x="76" y="76"/>
                    </a:lnTo>
                    <a:lnTo>
                      <a:pt x="87" y="63"/>
                    </a:lnTo>
                    <a:lnTo>
                      <a:pt x="101" y="53"/>
                    </a:lnTo>
                    <a:lnTo>
                      <a:pt x="129" y="38"/>
                    </a:lnTo>
                    <a:lnTo>
                      <a:pt x="160" y="29"/>
                    </a:lnTo>
                    <a:lnTo>
                      <a:pt x="193" y="27"/>
                    </a:lnTo>
                    <a:lnTo>
                      <a:pt x="212" y="28"/>
                    </a:lnTo>
                    <a:lnTo>
                      <a:pt x="230" y="31"/>
                    </a:lnTo>
                    <a:lnTo>
                      <a:pt x="225" y="27"/>
                    </a:lnTo>
                    <a:lnTo>
                      <a:pt x="211" y="12"/>
                    </a:lnTo>
                    <a:lnTo>
                      <a:pt x="197" y="0"/>
                    </a:lnTo>
                    <a:lnTo>
                      <a:pt x="193" y="0"/>
                    </a:lnTo>
                    <a:lnTo>
                      <a:pt x="172" y="0"/>
                    </a:lnTo>
                    <a:lnTo>
                      <a:pt x="154" y="3"/>
                    </a:lnTo>
                    <a:lnTo>
                      <a:pt x="119" y="13"/>
                    </a:lnTo>
                    <a:lnTo>
                      <a:pt x="86" y="30"/>
                    </a:lnTo>
                    <a:lnTo>
                      <a:pt x="70" y="42"/>
                    </a:lnTo>
                    <a:lnTo>
                      <a:pt x="57" y="56"/>
                    </a:lnTo>
                    <a:close/>
                  </a:path>
                </a:pathLst>
              </a:custGeom>
              <a:solidFill>
                <a:srgbClr val="52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160760" y="3377160"/>
                <a:ext cx="121680" cy="139320"/>
              </a:xfrm>
              <a:custGeom>
                <a:avLst/>
                <a:gdLst/>
                <a:ahLst/>
                <a:rect l="l" t="t" r="r" b="b"/>
                <a:pathLst>
                  <a:path w="428" h="489">
                    <a:moveTo>
                      <a:pt x="28" y="240"/>
                    </a:moveTo>
                    <a:lnTo>
                      <a:pt x="31" y="196"/>
                    </a:lnTo>
                    <a:lnTo>
                      <a:pt x="36" y="175"/>
                    </a:lnTo>
                    <a:lnTo>
                      <a:pt x="44" y="155"/>
                    </a:lnTo>
                    <a:lnTo>
                      <a:pt x="63" y="118"/>
                    </a:lnTo>
                    <a:lnTo>
                      <a:pt x="75" y="101"/>
                    </a:lnTo>
                    <a:lnTo>
                      <a:pt x="92" y="85"/>
                    </a:lnTo>
                    <a:lnTo>
                      <a:pt x="121" y="60"/>
                    </a:lnTo>
                    <a:lnTo>
                      <a:pt x="151" y="42"/>
                    </a:lnTo>
                    <a:lnTo>
                      <a:pt x="184" y="28"/>
                    </a:lnTo>
                    <a:lnTo>
                      <a:pt x="219" y="22"/>
                    </a:lnTo>
                    <a:lnTo>
                      <a:pt x="188" y="0"/>
                    </a:lnTo>
                    <a:lnTo>
                      <a:pt x="155" y="9"/>
                    </a:lnTo>
                    <a:lnTo>
                      <a:pt x="126" y="23"/>
                    </a:lnTo>
                    <a:lnTo>
                      <a:pt x="98" y="41"/>
                    </a:lnTo>
                    <a:lnTo>
                      <a:pt x="73" y="65"/>
                    </a:lnTo>
                    <a:lnTo>
                      <a:pt x="56" y="83"/>
                    </a:lnTo>
                    <a:lnTo>
                      <a:pt x="41" y="102"/>
                    </a:lnTo>
                    <a:lnTo>
                      <a:pt x="29" y="122"/>
                    </a:lnTo>
                    <a:lnTo>
                      <a:pt x="19" y="145"/>
                    </a:lnTo>
                    <a:lnTo>
                      <a:pt x="11" y="167"/>
                    </a:lnTo>
                    <a:lnTo>
                      <a:pt x="5" y="191"/>
                    </a:lnTo>
                    <a:lnTo>
                      <a:pt x="2" y="214"/>
                    </a:lnTo>
                    <a:lnTo>
                      <a:pt x="0" y="240"/>
                    </a:lnTo>
                    <a:lnTo>
                      <a:pt x="2" y="264"/>
                    </a:lnTo>
                    <a:lnTo>
                      <a:pt x="5" y="289"/>
                    </a:lnTo>
                    <a:lnTo>
                      <a:pt x="11" y="312"/>
                    </a:lnTo>
                    <a:lnTo>
                      <a:pt x="19" y="336"/>
                    </a:lnTo>
                    <a:lnTo>
                      <a:pt x="29" y="356"/>
                    </a:lnTo>
                    <a:lnTo>
                      <a:pt x="41" y="378"/>
                    </a:lnTo>
                    <a:lnTo>
                      <a:pt x="56" y="397"/>
                    </a:lnTo>
                    <a:lnTo>
                      <a:pt x="73" y="416"/>
                    </a:lnTo>
                    <a:lnTo>
                      <a:pt x="91" y="433"/>
                    </a:lnTo>
                    <a:lnTo>
                      <a:pt x="110" y="448"/>
                    </a:lnTo>
                    <a:lnTo>
                      <a:pt x="131" y="460"/>
                    </a:lnTo>
                    <a:lnTo>
                      <a:pt x="152" y="471"/>
                    </a:lnTo>
                    <a:lnTo>
                      <a:pt x="174" y="478"/>
                    </a:lnTo>
                    <a:lnTo>
                      <a:pt x="198" y="484"/>
                    </a:lnTo>
                    <a:lnTo>
                      <a:pt x="222" y="488"/>
                    </a:lnTo>
                    <a:lnTo>
                      <a:pt x="248" y="489"/>
                    </a:lnTo>
                    <a:lnTo>
                      <a:pt x="259" y="488"/>
                    </a:lnTo>
                    <a:lnTo>
                      <a:pt x="271" y="488"/>
                    </a:lnTo>
                    <a:lnTo>
                      <a:pt x="296" y="484"/>
                    </a:lnTo>
                    <a:lnTo>
                      <a:pt x="319" y="478"/>
                    </a:lnTo>
                    <a:lnTo>
                      <a:pt x="330" y="474"/>
                    </a:lnTo>
                    <a:lnTo>
                      <a:pt x="336" y="472"/>
                    </a:lnTo>
                    <a:lnTo>
                      <a:pt x="343" y="471"/>
                    </a:lnTo>
                    <a:lnTo>
                      <a:pt x="363" y="460"/>
                    </a:lnTo>
                    <a:lnTo>
                      <a:pt x="373" y="454"/>
                    </a:lnTo>
                    <a:lnTo>
                      <a:pt x="385" y="448"/>
                    </a:lnTo>
                    <a:lnTo>
                      <a:pt x="394" y="440"/>
                    </a:lnTo>
                    <a:lnTo>
                      <a:pt x="404" y="433"/>
                    </a:lnTo>
                    <a:lnTo>
                      <a:pt x="413" y="424"/>
                    </a:lnTo>
                    <a:lnTo>
                      <a:pt x="418" y="420"/>
                    </a:lnTo>
                    <a:lnTo>
                      <a:pt x="420" y="417"/>
                    </a:lnTo>
                    <a:lnTo>
                      <a:pt x="421" y="416"/>
                    </a:lnTo>
                    <a:lnTo>
                      <a:pt x="423" y="416"/>
                    </a:lnTo>
                    <a:lnTo>
                      <a:pt x="428" y="412"/>
                    </a:lnTo>
                    <a:lnTo>
                      <a:pt x="426" y="372"/>
                    </a:lnTo>
                    <a:lnTo>
                      <a:pt x="414" y="384"/>
                    </a:lnTo>
                    <a:lnTo>
                      <a:pt x="411" y="387"/>
                    </a:lnTo>
                    <a:lnTo>
                      <a:pt x="409" y="390"/>
                    </a:lnTo>
                    <a:lnTo>
                      <a:pt x="404" y="397"/>
                    </a:lnTo>
                    <a:lnTo>
                      <a:pt x="386" y="412"/>
                    </a:lnTo>
                    <a:lnTo>
                      <a:pt x="377" y="417"/>
                    </a:lnTo>
                    <a:lnTo>
                      <a:pt x="369" y="424"/>
                    </a:lnTo>
                    <a:lnTo>
                      <a:pt x="359" y="429"/>
                    </a:lnTo>
                    <a:lnTo>
                      <a:pt x="350" y="434"/>
                    </a:lnTo>
                    <a:lnTo>
                      <a:pt x="332" y="444"/>
                    </a:lnTo>
                    <a:lnTo>
                      <a:pt x="311" y="451"/>
                    </a:lnTo>
                    <a:lnTo>
                      <a:pt x="291" y="457"/>
                    </a:lnTo>
                    <a:lnTo>
                      <a:pt x="279" y="458"/>
                    </a:lnTo>
                    <a:lnTo>
                      <a:pt x="269" y="460"/>
                    </a:lnTo>
                    <a:lnTo>
                      <a:pt x="258" y="460"/>
                    </a:lnTo>
                    <a:lnTo>
                      <a:pt x="252" y="460"/>
                    </a:lnTo>
                    <a:lnTo>
                      <a:pt x="248" y="461"/>
                    </a:lnTo>
                    <a:lnTo>
                      <a:pt x="225" y="460"/>
                    </a:lnTo>
                    <a:lnTo>
                      <a:pt x="203" y="457"/>
                    </a:lnTo>
                    <a:lnTo>
                      <a:pt x="182" y="451"/>
                    </a:lnTo>
                    <a:lnTo>
                      <a:pt x="163" y="444"/>
                    </a:lnTo>
                    <a:lnTo>
                      <a:pt x="143" y="434"/>
                    </a:lnTo>
                    <a:lnTo>
                      <a:pt x="125" y="424"/>
                    </a:lnTo>
                    <a:lnTo>
                      <a:pt x="108" y="412"/>
                    </a:lnTo>
                    <a:lnTo>
                      <a:pt x="92" y="397"/>
                    </a:lnTo>
                    <a:lnTo>
                      <a:pt x="75" y="379"/>
                    </a:lnTo>
                    <a:lnTo>
                      <a:pt x="63" y="362"/>
                    </a:lnTo>
                    <a:lnTo>
                      <a:pt x="51" y="342"/>
                    </a:lnTo>
                    <a:lnTo>
                      <a:pt x="44" y="324"/>
                    </a:lnTo>
                    <a:lnTo>
                      <a:pt x="36" y="304"/>
                    </a:lnTo>
                    <a:lnTo>
                      <a:pt x="31" y="283"/>
                    </a:lnTo>
                    <a:lnTo>
                      <a:pt x="28" y="262"/>
                    </a:lnTo>
                    <a:lnTo>
                      <a:pt x="28" y="24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152480" y="3371400"/>
                <a:ext cx="130320" cy="152640"/>
              </a:xfrm>
              <a:custGeom>
                <a:avLst/>
                <a:gdLst/>
                <a:ahLst/>
                <a:rect l="l" t="t" r="r" b="b"/>
                <a:pathLst>
                  <a:path w="457" h="536">
                    <a:moveTo>
                      <a:pt x="28" y="259"/>
                    </a:moveTo>
                    <a:lnTo>
                      <a:pt x="30" y="233"/>
                    </a:lnTo>
                    <a:lnTo>
                      <a:pt x="33" y="210"/>
                    </a:lnTo>
                    <a:lnTo>
                      <a:pt x="39" y="186"/>
                    </a:lnTo>
                    <a:lnTo>
                      <a:pt x="47" y="164"/>
                    </a:lnTo>
                    <a:lnTo>
                      <a:pt x="57" y="141"/>
                    </a:lnTo>
                    <a:lnTo>
                      <a:pt x="69" y="121"/>
                    </a:lnTo>
                    <a:lnTo>
                      <a:pt x="84" y="102"/>
                    </a:lnTo>
                    <a:lnTo>
                      <a:pt x="101" y="84"/>
                    </a:lnTo>
                    <a:lnTo>
                      <a:pt x="126" y="60"/>
                    </a:lnTo>
                    <a:lnTo>
                      <a:pt x="154" y="42"/>
                    </a:lnTo>
                    <a:lnTo>
                      <a:pt x="183" y="28"/>
                    </a:lnTo>
                    <a:lnTo>
                      <a:pt x="216" y="19"/>
                    </a:lnTo>
                    <a:lnTo>
                      <a:pt x="182" y="0"/>
                    </a:lnTo>
                    <a:lnTo>
                      <a:pt x="153" y="10"/>
                    </a:lnTo>
                    <a:lnTo>
                      <a:pt x="128" y="25"/>
                    </a:lnTo>
                    <a:lnTo>
                      <a:pt x="103" y="43"/>
                    </a:lnTo>
                    <a:lnTo>
                      <a:pt x="81" y="64"/>
                    </a:lnTo>
                    <a:lnTo>
                      <a:pt x="61" y="85"/>
                    </a:lnTo>
                    <a:lnTo>
                      <a:pt x="44" y="106"/>
                    </a:lnTo>
                    <a:lnTo>
                      <a:pt x="30" y="129"/>
                    </a:lnTo>
                    <a:lnTo>
                      <a:pt x="19" y="154"/>
                    </a:lnTo>
                    <a:lnTo>
                      <a:pt x="10" y="178"/>
                    </a:lnTo>
                    <a:lnTo>
                      <a:pt x="5" y="204"/>
                    </a:lnTo>
                    <a:lnTo>
                      <a:pt x="1" y="231"/>
                    </a:lnTo>
                    <a:lnTo>
                      <a:pt x="0" y="259"/>
                    </a:lnTo>
                    <a:lnTo>
                      <a:pt x="1" y="287"/>
                    </a:lnTo>
                    <a:lnTo>
                      <a:pt x="5" y="314"/>
                    </a:lnTo>
                    <a:lnTo>
                      <a:pt x="10" y="339"/>
                    </a:lnTo>
                    <a:lnTo>
                      <a:pt x="14" y="351"/>
                    </a:lnTo>
                    <a:lnTo>
                      <a:pt x="19" y="365"/>
                    </a:lnTo>
                    <a:lnTo>
                      <a:pt x="30" y="388"/>
                    </a:lnTo>
                    <a:lnTo>
                      <a:pt x="44" y="411"/>
                    </a:lnTo>
                    <a:lnTo>
                      <a:pt x="61" y="433"/>
                    </a:lnTo>
                    <a:lnTo>
                      <a:pt x="81" y="454"/>
                    </a:lnTo>
                    <a:lnTo>
                      <a:pt x="101" y="473"/>
                    </a:lnTo>
                    <a:lnTo>
                      <a:pt x="123" y="490"/>
                    </a:lnTo>
                    <a:lnTo>
                      <a:pt x="145" y="503"/>
                    </a:lnTo>
                    <a:lnTo>
                      <a:pt x="170" y="516"/>
                    </a:lnTo>
                    <a:lnTo>
                      <a:pt x="194" y="524"/>
                    </a:lnTo>
                    <a:lnTo>
                      <a:pt x="220" y="530"/>
                    </a:lnTo>
                    <a:lnTo>
                      <a:pt x="247" y="534"/>
                    </a:lnTo>
                    <a:lnTo>
                      <a:pt x="276" y="536"/>
                    </a:lnTo>
                    <a:lnTo>
                      <a:pt x="301" y="535"/>
                    </a:lnTo>
                    <a:lnTo>
                      <a:pt x="326" y="532"/>
                    </a:lnTo>
                    <a:lnTo>
                      <a:pt x="337" y="528"/>
                    </a:lnTo>
                    <a:lnTo>
                      <a:pt x="349" y="526"/>
                    </a:lnTo>
                    <a:lnTo>
                      <a:pt x="373" y="519"/>
                    </a:lnTo>
                    <a:lnTo>
                      <a:pt x="378" y="516"/>
                    </a:lnTo>
                    <a:lnTo>
                      <a:pt x="383" y="513"/>
                    </a:lnTo>
                    <a:lnTo>
                      <a:pt x="395" y="509"/>
                    </a:lnTo>
                    <a:lnTo>
                      <a:pt x="416" y="497"/>
                    </a:lnTo>
                    <a:lnTo>
                      <a:pt x="437" y="484"/>
                    </a:lnTo>
                    <a:lnTo>
                      <a:pt x="457" y="469"/>
                    </a:lnTo>
                    <a:lnTo>
                      <a:pt x="457" y="450"/>
                    </a:lnTo>
                    <a:lnTo>
                      <a:pt x="456" y="431"/>
                    </a:lnTo>
                    <a:lnTo>
                      <a:pt x="451" y="435"/>
                    </a:lnTo>
                    <a:lnTo>
                      <a:pt x="449" y="435"/>
                    </a:lnTo>
                    <a:lnTo>
                      <a:pt x="448" y="436"/>
                    </a:lnTo>
                    <a:lnTo>
                      <a:pt x="446" y="439"/>
                    </a:lnTo>
                    <a:lnTo>
                      <a:pt x="441" y="443"/>
                    </a:lnTo>
                    <a:lnTo>
                      <a:pt x="432" y="452"/>
                    </a:lnTo>
                    <a:lnTo>
                      <a:pt x="422" y="459"/>
                    </a:lnTo>
                    <a:lnTo>
                      <a:pt x="413" y="467"/>
                    </a:lnTo>
                    <a:lnTo>
                      <a:pt x="401" y="473"/>
                    </a:lnTo>
                    <a:lnTo>
                      <a:pt x="391" y="479"/>
                    </a:lnTo>
                    <a:lnTo>
                      <a:pt x="371" y="490"/>
                    </a:lnTo>
                    <a:lnTo>
                      <a:pt x="364" y="491"/>
                    </a:lnTo>
                    <a:lnTo>
                      <a:pt x="358" y="493"/>
                    </a:lnTo>
                    <a:lnTo>
                      <a:pt x="347" y="497"/>
                    </a:lnTo>
                    <a:lnTo>
                      <a:pt x="324" y="503"/>
                    </a:lnTo>
                    <a:lnTo>
                      <a:pt x="299" y="507"/>
                    </a:lnTo>
                    <a:lnTo>
                      <a:pt x="287" y="507"/>
                    </a:lnTo>
                    <a:lnTo>
                      <a:pt x="276" y="508"/>
                    </a:lnTo>
                    <a:lnTo>
                      <a:pt x="250" y="507"/>
                    </a:lnTo>
                    <a:lnTo>
                      <a:pt x="226" y="503"/>
                    </a:lnTo>
                    <a:lnTo>
                      <a:pt x="202" y="497"/>
                    </a:lnTo>
                    <a:lnTo>
                      <a:pt x="180" y="490"/>
                    </a:lnTo>
                    <a:lnTo>
                      <a:pt x="159" y="479"/>
                    </a:lnTo>
                    <a:lnTo>
                      <a:pt x="138" y="467"/>
                    </a:lnTo>
                    <a:lnTo>
                      <a:pt x="119" y="452"/>
                    </a:lnTo>
                    <a:lnTo>
                      <a:pt x="101" y="435"/>
                    </a:lnTo>
                    <a:lnTo>
                      <a:pt x="84" y="416"/>
                    </a:lnTo>
                    <a:lnTo>
                      <a:pt x="69" y="397"/>
                    </a:lnTo>
                    <a:lnTo>
                      <a:pt x="57" y="375"/>
                    </a:lnTo>
                    <a:lnTo>
                      <a:pt x="47" y="355"/>
                    </a:lnTo>
                    <a:lnTo>
                      <a:pt x="39" y="331"/>
                    </a:lnTo>
                    <a:lnTo>
                      <a:pt x="33" y="308"/>
                    </a:lnTo>
                    <a:lnTo>
                      <a:pt x="30" y="283"/>
                    </a:lnTo>
                    <a:lnTo>
                      <a:pt x="28" y="259"/>
                    </a:lnTo>
                    <a:close/>
                  </a:path>
                </a:pathLst>
              </a:custGeom>
              <a:solidFill>
                <a:srgbClr val="49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89840" y="3356280"/>
                <a:ext cx="171360" cy="231120"/>
              </a:xfrm>
              <a:custGeom>
                <a:avLst/>
                <a:gdLst/>
                <a:ahLst/>
                <a:rect l="l" t="t" r="r" b="b"/>
                <a:pathLst>
                  <a:path w="601" h="810">
                    <a:moveTo>
                      <a:pt x="108" y="4"/>
                    </a:moveTo>
                    <a:lnTo>
                      <a:pt x="82" y="37"/>
                    </a:lnTo>
                    <a:lnTo>
                      <a:pt x="60" y="72"/>
                    </a:lnTo>
                    <a:lnTo>
                      <a:pt x="41" y="108"/>
                    </a:lnTo>
                    <a:lnTo>
                      <a:pt x="26" y="147"/>
                    </a:lnTo>
                    <a:lnTo>
                      <a:pt x="14" y="185"/>
                    </a:lnTo>
                    <a:lnTo>
                      <a:pt x="6" y="227"/>
                    </a:lnTo>
                    <a:lnTo>
                      <a:pt x="1" y="269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5" y="387"/>
                    </a:lnTo>
                    <a:lnTo>
                      <a:pt x="9" y="412"/>
                    </a:lnTo>
                    <a:lnTo>
                      <a:pt x="14" y="435"/>
                    </a:lnTo>
                    <a:lnTo>
                      <a:pt x="21" y="459"/>
                    </a:lnTo>
                    <a:lnTo>
                      <a:pt x="36" y="504"/>
                    </a:lnTo>
                    <a:lnTo>
                      <a:pt x="45" y="524"/>
                    </a:lnTo>
                    <a:lnTo>
                      <a:pt x="57" y="546"/>
                    </a:lnTo>
                    <a:lnTo>
                      <a:pt x="68" y="566"/>
                    </a:lnTo>
                    <a:lnTo>
                      <a:pt x="82" y="588"/>
                    </a:lnTo>
                    <a:lnTo>
                      <a:pt x="95" y="607"/>
                    </a:lnTo>
                    <a:lnTo>
                      <a:pt x="111" y="627"/>
                    </a:lnTo>
                    <a:lnTo>
                      <a:pt x="127" y="646"/>
                    </a:lnTo>
                    <a:lnTo>
                      <a:pt x="145" y="665"/>
                    </a:lnTo>
                    <a:lnTo>
                      <a:pt x="182" y="699"/>
                    </a:lnTo>
                    <a:lnTo>
                      <a:pt x="221" y="728"/>
                    </a:lnTo>
                    <a:lnTo>
                      <a:pt x="261" y="753"/>
                    </a:lnTo>
                    <a:lnTo>
                      <a:pt x="305" y="774"/>
                    </a:lnTo>
                    <a:lnTo>
                      <a:pt x="349" y="790"/>
                    </a:lnTo>
                    <a:lnTo>
                      <a:pt x="396" y="801"/>
                    </a:lnTo>
                    <a:lnTo>
                      <a:pt x="445" y="808"/>
                    </a:lnTo>
                    <a:lnTo>
                      <a:pt x="496" y="810"/>
                    </a:lnTo>
                    <a:lnTo>
                      <a:pt x="516" y="809"/>
                    </a:lnTo>
                    <a:lnTo>
                      <a:pt x="521" y="808"/>
                    </a:lnTo>
                    <a:lnTo>
                      <a:pt x="526" y="808"/>
                    </a:lnTo>
                    <a:lnTo>
                      <a:pt x="538" y="808"/>
                    </a:lnTo>
                    <a:lnTo>
                      <a:pt x="578" y="803"/>
                    </a:lnTo>
                    <a:lnTo>
                      <a:pt x="601" y="771"/>
                    </a:lnTo>
                    <a:lnTo>
                      <a:pt x="575" y="776"/>
                    </a:lnTo>
                    <a:lnTo>
                      <a:pt x="561" y="777"/>
                    </a:lnTo>
                    <a:lnTo>
                      <a:pt x="549" y="779"/>
                    </a:lnTo>
                    <a:lnTo>
                      <a:pt x="522" y="782"/>
                    </a:lnTo>
                    <a:lnTo>
                      <a:pt x="508" y="782"/>
                    </a:lnTo>
                    <a:lnTo>
                      <a:pt x="501" y="782"/>
                    </a:lnTo>
                    <a:lnTo>
                      <a:pt x="498" y="782"/>
                    </a:lnTo>
                    <a:lnTo>
                      <a:pt x="496" y="783"/>
                    </a:lnTo>
                    <a:lnTo>
                      <a:pt x="447" y="781"/>
                    </a:lnTo>
                    <a:lnTo>
                      <a:pt x="402" y="774"/>
                    </a:lnTo>
                    <a:lnTo>
                      <a:pt x="357" y="762"/>
                    </a:lnTo>
                    <a:lnTo>
                      <a:pt x="315" y="748"/>
                    </a:lnTo>
                    <a:lnTo>
                      <a:pt x="273" y="727"/>
                    </a:lnTo>
                    <a:lnTo>
                      <a:pt x="236" y="705"/>
                    </a:lnTo>
                    <a:lnTo>
                      <a:pt x="199" y="677"/>
                    </a:lnTo>
                    <a:lnTo>
                      <a:pt x="165" y="646"/>
                    </a:lnTo>
                    <a:lnTo>
                      <a:pt x="131" y="609"/>
                    </a:lnTo>
                    <a:lnTo>
                      <a:pt x="116" y="590"/>
                    </a:lnTo>
                    <a:lnTo>
                      <a:pt x="103" y="572"/>
                    </a:lnTo>
                    <a:lnTo>
                      <a:pt x="80" y="533"/>
                    </a:lnTo>
                    <a:lnTo>
                      <a:pt x="69" y="513"/>
                    </a:lnTo>
                    <a:lnTo>
                      <a:pt x="61" y="494"/>
                    </a:lnTo>
                    <a:lnTo>
                      <a:pt x="45" y="451"/>
                    </a:lnTo>
                    <a:lnTo>
                      <a:pt x="35" y="406"/>
                    </a:lnTo>
                    <a:lnTo>
                      <a:pt x="31" y="383"/>
                    </a:lnTo>
                    <a:lnTo>
                      <a:pt x="28" y="360"/>
                    </a:lnTo>
                    <a:lnTo>
                      <a:pt x="27" y="313"/>
                    </a:lnTo>
                    <a:lnTo>
                      <a:pt x="28" y="268"/>
                    </a:lnTo>
                    <a:lnTo>
                      <a:pt x="34" y="225"/>
                    </a:lnTo>
                    <a:lnTo>
                      <a:pt x="43" y="183"/>
                    </a:lnTo>
                    <a:lnTo>
                      <a:pt x="57" y="144"/>
                    </a:lnTo>
                    <a:lnTo>
                      <a:pt x="73" y="105"/>
                    </a:lnTo>
                    <a:lnTo>
                      <a:pt x="94" y="68"/>
                    </a:lnTo>
                    <a:lnTo>
                      <a:pt x="118" y="33"/>
                    </a:lnTo>
                    <a:lnTo>
                      <a:pt x="148" y="0"/>
                    </a:lnTo>
                    <a:lnTo>
                      <a:pt x="108" y="4"/>
                    </a:lnTo>
                    <a:close/>
                  </a:path>
                </a:pathLst>
              </a:custGeom>
              <a:solidFill>
                <a:srgbClr val="2f4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184160" y="3398400"/>
                <a:ext cx="93240" cy="93960"/>
              </a:xfrm>
              <a:custGeom>
                <a:avLst/>
                <a:gdLst/>
                <a:ahLst/>
                <a:rect l="l" t="t" r="r" b="b"/>
                <a:pathLst>
                  <a:path w="327" h="331">
                    <a:moveTo>
                      <a:pt x="203" y="4"/>
                    </a:moveTo>
                    <a:lnTo>
                      <a:pt x="185" y="1"/>
                    </a:lnTo>
                    <a:lnTo>
                      <a:pt x="166" y="0"/>
                    </a:lnTo>
                    <a:lnTo>
                      <a:pt x="133" y="2"/>
                    </a:lnTo>
                    <a:lnTo>
                      <a:pt x="102" y="11"/>
                    </a:lnTo>
                    <a:lnTo>
                      <a:pt x="74" y="26"/>
                    </a:lnTo>
                    <a:lnTo>
                      <a:pt x="60" y="36"/>
                    </a:lnTo>
                    <a:lnTo>
                      <a:pt x="49" y="49"/>
                    </a:lnTo>
                    <a:lnTo>
                      <a:pt x="36" y="60"/>
                    </a:lnTo>
                    <a:lnTo>
                      <a:pt x="26" y="74"/>
                    </a:lnTo>
                    <a:lnTo>
                      <a:pt x="11" y="102"/>
                    </a:lnTo>
                    <a:lnTo>
                      <a:pt x="2" y="133"/>
                    </a:lnTo>
                    <a:lnTo>
                      <a:pt x="0" y="165"/>
                    </a:lnTo>
                    <a:lnTo>
                      <a:pt x="0" y="181"/>
                    </a:lnTo>
                    <a:lnTo>
                      <a:pt x="2" y="198"/>
                    </a:lnTo>
                    <a:lnTo>
                      <a:pt x="6" y="213"/>
                    </a:lnTo>
                    <a:lnTo>
                      <a:pt x="11" y="229"/>
                    </a:lnTo>
                    <a:lnTo>
                      <a:pt x="17" y="242"/>
                    </a:lnTo>
                    <a:lnTo>
                      <a:pt x="26" y="256"/>
                    </a:lnTo>
                    <a:lnTo>
                      <a:pt x="36" y="269"/>
                    </a:lnTo>
                    <a:lnTo>
                      <a:pt x="49" y="282"/>
                    </a:lnTo>
                    <a:lnTo>
                      <a:pt x="60" y="292"/>
                    </a:lnTo>
                    <a:lnTo>
                      <a:pt x="74" y="303"/>
                    </a:lnTo>
                    <a:lnTo>
                      <a:pt x="102" y="318"/>
                    </a:lnTo>
                    <a:lnTo>
                      <a:pt x="133" y="328"/>
                    </a:lnTo>
                    <a:lnTo>
                      <a:pt x="149" y="330"/>
                    </a:lnTo>
                    <a:lnTo>
                      <a:pt x="166" y="331"/>
                    </a:lnTo>
                    <a:lnTo>
                      <a:pt x="181" y="330"/>
                    </a:lnTo>
                    <a:lnTo>
                      <a:pt x="198" y="328"/>
                    </a:lnTo>
                    <a:lnTo>
                      <a:pt x="213" y="323"/>
                    </a:lnTo>
                    <a:lnTo>
                      <a:pt x="229" y="318"/>
                    </a:lnTo>
                    <a:lnTo>
                      <a:pt x="243" y="311"/>
                    </a:lnTo>
                    <a:lnTo>
                      <a:pt x="250" y="306"/>
                    </a:lnTo>
                    <a:lnTo>
                      <a:pt x="253" y="304"/>
                    </a:lnTo>
                    <a:lnTo>
                      <a:pt x="257" y="303"/>
                    </a:lnTo>
                    <a:lnTo>
                      <a:pt x="260" y="299"/>
                    </a:lnTo>
                    <a:lnTo>
                      <a:pt x="263" y="297"/>
                    </a:lnTo>
                    <a:lnTo>
                      <a:pt x="270" y="292"/>
                    </a:lnTo>
                    <a:lnTo>
                      <a:pt x="284" y="282"/>
                    </a:lnTo>
                    <a:lnTo>
                      <a:pt x="290" y="273"/>
                    </a:lnTo>
                    <a:lnTo>
                      <a:pt x="297" y="265"/>
                    </a:lnTo>
                    <a:lnTo>
                      <a:pt x="303" y="256"/>
                    </a:lnTo>
                    <a:lnTo>
                      <a:pt x="310" y="248"/>
                    </a:lnTo>
                    <a:lnTo>
                      <a:pt x="314" y="238"/>
                    </a:lnTo>
                    <a:lnTo>
                      <a:pt x="319" y="229"/>
                    </a:lnTo>
                    <a:lnTo>
                      <a:pt x="319" y="225"/>
                    </a:lnTo>
                    <a:lnTo>
                      <a:pt x="320" y="223"/>
                    </a:lnTo>
                    <a:lnTo>
                      <a:pt x="322" y="219"/>
                    </a:lnTo>
                    <a:lnTo>
                      <a:pt x="327" y="210"/>
                    </a:lnTo>
                    <a:lnTo>
                      <a:pt x="315" y="178"/>
                    </a:lnTo>
                    <a:lnTo>
                      <a:pt x="303" y="146"/>
                    </a:lnTo>
                    <a:lnTo>
                      <a:pt x="303" y="155"/>
                    </a:lnTo>
                    <a:lnTo>
                      <a:pt x="303" y="160"/>
                    </a:lnTo>
                    <a:lnTo>
                      <a:pt x="303" y="162"/>
                    </a:lnTo>
                    <a:lnTo>
                      <a:pt x="303" y="163"/>
                    </a:lnTo>
                    <a:lnTo>
                      <a:pt x="304" y="165"/>
                    </a:lnTo>
                    <a:lnTo>
                      <a:pt x="303" y="168"/>
                    </a:lnTo>
                    <a:lnTo>
                      <a:pt x="303" y="171"/>
                    </a:lnTo>
                    <a:lnTo>
                      <a:pt x="303" y="178"/>
                    </a:lnTo>
                    <a:lnTo>
                      <a:pt x="301" y="191"/>
                    </a:lnTo>
                    <a:lnTo>
                      <a:pt x="298" y="197"/>
                    </a:lnTo>
                    <a:lnTo>
                      <a:pt x="297" y="204"/>
                    </a:lnTo>
                    <a:lnTo>
                      <a:pt x="294" y="218"/>
                    </a:lnTo>
                    <a:lnTo>
                      <a:pt x="287" y="229"/>
                    </a:lnTo>
                    <a:lnTo>
                      <a:pt x="280" y="241"/>
                    </a:lnTo>
                    <a:lnTo>
                      <a:pt x="276" y="246"/>
                    </a:lnTo>
                    <a:lnTo>
                      <a:pt x="273" y="248"/>
                    </a:lnTo>
                    <a:lnTo>
                      <a:pt x="272" y="248"/>
                    </a:lnTo>
                    <a:lnTo>
                      <a:pt x="272" y="249"/>
                    </a:lnTo>
                    <a:lnTo>
                      <a:pt x="272" y="252"/>
                    </a:lnTo>
                    <a:lnTo>
                      <a:pt x="263" y="263"/>
                    </a:lnTo>
                    <a:lnTo>
                      <a:pt x="252" y="272"/>
                    </a:lnTo>
                    <a:lnTo>
                      <a:pt x="250" y="272"/>
                    </a:lnTo>
                    <a:lnTo>
                      <a:pt x="248" y="272"/>
                    </a:lnTo>
                    <a:lnTo>
                      <a:pt x="248" y="273"/>
                    </a:lnTo>
                    <a:lnTo>
                      <a:pt x="246" y="275"/>
                    </a:lnTo>
                    <a:lnTo>
                      <a:pt x="242" y="280"/>
                    </a:lnTo>
                    <a:lnTo>
                      <a:pt x="229" y="287"/>
                    </a:lnTo>
                    <a:lnTo>
                      <a:pt x="218" y="294"/>
                    </a:lnTo>
                    <a:lnTo>
                      <a:pt x="204" y="297"/>
                    </a:lnTo>
                    <a:lnTo>
                      <a:pt x="197" y="298"/>
                    </a:lnTo>
                    <a:lnTo>
                      <a:pt x="192" y="300"/>
                    </a:lnTo>
                    <a:lnTo>
                      <a:pt x="178" y="303"/>
                    </a:lnTo>
                    <a:lnTo>
                      <a:pt x="171" y="303"/>
                    </a:lnTo>
                    <a:lnTo>
                      <a:pt x="168" y="303"/>
                    </a:lnTo>
                    <a:lnTo>
                      <a:pt x="166" y="304"/>
                    </a:lnTo>
                    <a:lnTo>
                      <a:pt x="151" y="303"/>
                    </a:lnTo>
                    <a:lnTo>
                      <a:pt x="137" y="300"/>
                    </a:lnTo>
                    <a:lnTo>
                      <a:pt x="112" y="294"/>
                    </a:lnTo>
                    <a:lnTo>
                      <a:pt x="89" y="280"/>
                    </a:lnTo>
                    <a:lnTo>
                      <a:pt x="77" y="272"/>
                    </a:lnTo>
                    <a:lnTo>
                      <a:pt x="68" y="263"/>
                    </a:lnTo>
                    <a:lnTo>
                      <a:pt x="58" y="252"/>
                    </a:lnTo>
                    <a:lnTo>
                      <a:pt x="50" y="241"/>
                    </a:lnTo>
                    <a:lnTo>
                      <a:pt x="42" y="229"/>
                    </a:lnTo>
                    <a:lnTo>
                      <a:pt x="37" y="218"/>
                    </a:lnTo>
                    <a:lnTo>
                      <a:pt x="33" y="204"/>
                    </a:lnTo>
                    <a:lnTo>
                      <a:pt x="31" y="191"/>
                    </a:lnTo>
                    <a:lnTo>
                      <a:pt x="28" y="178"/>
                    </a:lnTo>
                    <a:lnTo>
                      <a:pt x="28" y="165"/>
                    </a:lnTo>
                    <a:lnTo>
                      <a:pt x="31" y="137"/>
                    </a:lnTo>
                    <a:lnTo>
                      <a:pt x="37" y="112"/>
                    </a:lnTo>
                    <a:lnTo>
                      <a:pt x="50" y="88"/>
                    </a:lnTo>
                    <a:lnTo>
                      <a:pt x="68" y="68"/>
                    </a:lnTo>
                    <a:lnTo>
                      <a:pt x="89" y="50"/>
                    </a:lnTo>
                    <a:lnTo>
                      <a:pt x="112" y="37"/>
                    </a:lnTo>
                    <a:lnTo>
                      <a:pt x="137" y="30"/>
                    </a:lnTo>
                    <a:lnTo>
                      <a:pt x="166" y="28"/>
                    </a:lnTo>
                    <a:lnTo>
                      <a:pt x="187" y="29"/>
                    </a:lnTo>
                    <a:lnTo>
                      <a:pt x="208" y="34"/>
                    </a:lnTo>
                    <a:lnTo>
                      <a:pt x="227" y="42"/>
                    </a:lnTo>
                    <a:lnTo>
                      <a:pt x="236" y="46"/>
                    </a:lnTo>
                    <a:lnTo>
                      <a:pt x="246" y="53"/>
                    </a:lnTo>
                    <a:lnTo>
                      <a:pt x="225" y="27"/>
                    </a:lnTo>
                    <a:lnTo>
                      <a:pt x="203" y="4"/>
                    </a:lnTo>
                    <a:close/>
                  </a:path>
                </a:pathLst>
              </a:custGeom>
              <a:solidFill>
                <a:srgbClr val="56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192080" y="3406320"/>
                <a:ext cx="78120" cy="78480"/>
              </a:xfrm>
              <a:custGeom>
                <a:avLst/>
                <a:gdLst/>
                <a:ahLst/>
                <a:rect l="l" t="t" r="r" b="b"/>
                <a:pathLst>
                  <a:path w="276" h="276">
                    <a:moveTo>
                      <a:pt x="235" y="235"/>
                    </a:moveTo>
                    <a:lnTo>
                      <a:pt x="244" y="224"/>
                    </a:lnTo>
                    <a:lnTo>
                      <a:pt x="244" y="221"/>
                    </a:lnTo>
                    <a:lnTo>
                      <a:pt x="244" y="220"/>
                    </a:lnTo>
                    <a:lnTo>
                      <a:pt x="245" y="220"/>
                    </a:lnTo>
                    <a:lnTo>
                      <a:pt x="248" y="218"/>
                    </a:lnTo>
                    <a:lnTo>
                      <a:pt x="252" y="213"/>
                    </a:lnTo>
                    <a:lnTo>
                      <a:pt x="259" y="201"/>
                    </a:lnTo>
                    <a:lnTo>
                      <a:pt x="266" y="190"/>
                    </a:lnTo>
                    <a:lnTo>
                      <a:pt x="269" y="176"/>
                    </a:lnTo>
                    <a:lnTo>
                      <a:pt x="270" y="169"/>
                    </a:lnTo>
                    <a:lnTo>
                      <a:pt x="273" y="163"/>
                    </a:lnTo>
                    <a:lnTo>
                      <a:pt x="275" y="150"/>
                    </a:lnTo>
                    <a:lnTo>
                      <a:pt x="275" y="143"/>
                    </a:lnTo>
                    <a:lnTo>
                      <a:pt x="275" y="140"/>
                    </a:lnTo>
                    <a:lnTo>
                      <a:pt x="276" y="137"/>
                    </a:lnTo>
                    <a:lnTo>
                      <a:pt x="275" y="135"/>
                    </a:lnTo>
                    <a:lnTo>
                      <a:pt x="275" y="134"/>
                    </a:lnTo>
                    <a:lnTo>
                      <a:pt x="275" y="132"/>
                    </a:lnTo>
                    <a:lnTo>
                      <a:pt x="275" y="127"/>
                    </a:lnTo>
                    <a:lnTo>
                      <a:pt x="275" y="118"/>
                    </a:lnTo>
                    <a:lnTo>
                      <a:pt x="262" y="93"/>
                    </a:lnTo>
                    <a:lnTo>
                      <a:pt x="249" y="69"/>
                    </a:lnTo>
                    <a:lnTo>
                      <a:pt x="234" y="47"/>
                    </a:lnTo>
                    <a:lnTo>
                      <a:pt x="218" y="25"/>
                    </a:lnTo>
                    <a:lnTo>
                      <a:pt x="208" y="18"/>
                    </a:lnTo>
                    <a:lnTo>
                      <a:pt x="199" y="14"/>
                    </a:lnTo>
                    <a:lnTo>
                      <a:pt x="180" y="6"/>
                    </a:lnTo>
                    <a:lnTo>
                      <a:pt x="159" y="1"/>
                    </a:lnTo>
                    <a:lnTo>
                      <a:pt x="138" y="0"/>
                    </a:lnTo>
                    <a:lnTo>
                      <a:pt x="109" y="2"/>
                    </a:lnTo>
                    <a:lnTo>
                      <a:pt x="84" y="9"/>
                    </a:lnTo>
                    <a:lnTo>
                      <a:pt x="61" y="22"/>
                    </a:lnTo>
                    <a:lnTo>
                      <a:pt x="40" y="40"/>
                    </a:lnTo>
                    <a:lnTo>
                      <a:pt x="22" y="60"/>
                    </a:lnTo>
                    <a:lnTo>
                      <a:pt x="9" y="84"/>
                    </a:lnTo>
                    <a:lnTo>
                      <a:pt x="3" y="109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3" y="163"/>
                    </a:lnTo>
                    <a:lnTo>
                      <a:pt x="5" y="176"/>
                    </a:lnTo>
                    <a:lnTo>
                      <a:pt x="9" y="190"/>
                    </a:lnTo>
                    <a:lnTo>
                      <a:pt x="14" y="201"/>
                    </a:lnTo>
                    <a:lnTo>
                      <a:pt x="22" y="213"/>
                    </a:lnTo>
                    <a:lnTo>
                      <a:pt x="30" y="224"/>
                    </a:lnTo>
                    <a:lnTo>
                      <a:pt x="40" y="235"/>
                    </a:lnTo>
                    <a:lnTo>
                      <a:pt x="49" y="244"/>
                    </a:lnTo>
                    <a:lnTo>
                      <a:pt x="61" y="252"/>
                    </a:lnTo>
                    <a:lnTo>
                      <a:pt x="84" y="266"/>
                    </a:lnTo>
                    <a:lnTo>
                      <a:pt x="109" y="272"/>
                    </a:lnTo>
                    <a:lnTo>
                      <a:pt x="123" y="275"/>
                    </a:lnTo>
                    <a:lnTo>
                      <a:pt x="138" y="276"/>
                    </a:lnTo>
                    <a:lnTo>
                      <a:pt x="140" y="275"/>
                    </a:lnTo>
                    <a:lnTo>
                      <a:pt x="143" y="275"/>
                    </a:lnTo>
                    <a:lnTo>
                      <a:pt x="150" y="275"/>
                    </a:lnTo>
                    <a:lnTo>
                      <a:pt x="164" y="272"/>
                    </a:lnTo>
                    <a:lnTo>
                      <a:pt x="169" y="270"/>
                    </a:lnTo>
                    <a:lnTo>
                      <a:pt x="176" y="269"/>
                    </a:lnTo>
                    <a:lnTo>
                      <a:pt x="190" y="266"/>
                    </a:lnTo>
                    <a:lnTo>
                      <a:pt x="201" y="259"/>
                    </a:lnTo>
                    <a:lnTo>
                      <a:pt x="214" y="252"/>
                    </a:lnTo>
                    <a:lnTo>
                      <a:pt x="218" y="247"/>
                    </a:lnTo>
                    <a:lnTo>
                      <a:pt x="220" y="245"/>
                    </a:lnTo>
                    <a:lnTo>
                      <a:pt x="220" y="244"/>
                    </a:lnTo>
                    <a:lnTo>
                      <a:pt x="222" y="244"/>
                    </a:lnTo>
                    <a:lnTo>
                      <a:pt x="224" y="244"/>
                    </a:lnTo>
                    <a:lnTo>
                      <a:pt x="235" y="235"/>
                    </a:lnTo>
                    <a:close/>
                    <a:moveTo>
                      <a:pt x="61" y="216"/>
                    </a:moveTo>
                    <a:lnTo>
                      <a:pt x="51" y="207"/>
                    </a:lnTo>
                    <a:lnTo>
                      <a:pt x="45" y="199"/>
                    </a:lnTo>
                    <a:lnTo>
                      <a:pt x="39" y="188"/>
                    </a:lnTo>
                    <a:lnTo>
                      <a:pt x="36" y="179"/>
                    </a:lnTo>
                    <a:lnTo>
                      <a:pt x="29" y="159"/>
                    </a:lnTo>
                    <a:lnTo>
                      <a:pt x="28" y="137"/>
                    </a:lnTo>
                    <a:lnTo>
                      <a:pt x="29" y="115"/>
                    </a:lnTo>
                    <a:lnTo>
                      <a:pt x="36" y="94"/>
                    </a:lnTo>
                    <a:lnTo>
                      <a:pt x="45" y="75"/>
                    </a:lnTo>
                    <a:lnTo>
                      <a:pt x="61" y="59"/>
                    </a:lnTo>
                    <a:lnTo>
                      <a:pt x="76" y="44"/>
                    </a:lnTo>
                    <a:lnTo>
                      <a:pt x="96" y="35"/>
                    </a:lnTo>
                    <a:lnTo>
                      <a:pt x="115" y="29"/>
                    </a:lnTo>
                    <a:lnTo>
                      <a:pt x="138" y="27"/>
                    </a:lnTo>
                    <a:lnTo>
                      <a:pt x="159" y="29"/>
                    </a:lnTo>
                    <a:lnTo>
                      <a:pt x="180" y="35"/>
                    </a:lnTo>
                    <a:lnTo>
                      <a:pt x="189" y="39"/>
                    </a:lnTo>
                    <a:lnTo>
                      <a:pt x="199" y="44"/>
                    </a:lnTo>
                    <a:lnTo>
                      <a:pt x="216" y="59"/>
                    </a:lnTo>
                    <a:lnTo>
                      <a:pt x="229" y="75"/>
                    </a:lnTo>
                    <a:lnTo>
                      <a:pt x="240" y="94"/>
                    </a:lnTo>
                    <a:lnTo>
                      <a:pt x="246" y="115"/>
                    </a:lnTo>
                    <a:lnTo>
                      <a:pt x="249" y="137"/>
                    </a:lnTo>
                    <a:lnTo>
                      <a:pt x="248" y="142"/>
                    </a:lnTo>
                    <a:lnTo>
                      <a:pt x="248" y="148"/>
                    </a:lnTo>
                    <a:lnTo>
                      <a:pt x="246" y="159"/>
                    </a:lnTo>
                    <a:lnTo>
                      <a:pt x="240" y="179"/>
                    </a:lnTo>
                    <a:lnTo>
                      <a:pt x="234" y="188"/>
                    </a:lnTo>
                    <a:lnTo>
                      <a:pt x="229" y="199"/>
                    </a:lnTo>
                    <a:lnTo>
                      <a:pt x="223" y="207"/>
                    </a:lnTo>
                    <a:lnTo>
                      <a:pt x="216" y="216"/>
                    </a:lnTo>
                    <a:lnTo>
                      <a:pt x="207" y="222"/>
                    </a:lnTo>
                    <a:lnTo>
                      <a:pt x="199" y="229"/>
                    </a:lnTo>
                    <a:lnTo>
                      <a:pt x="189" y="234"/>
                    </a:lnTo>
                    <a:lnTo>
                      <a:pt x="180" y="239"/>
                    </a:lnTo>
                    <a:lnTo>
                      <a:pt x="159" y="246"/>
                    </a:lnTo>
                    <a:lnTo>
                      <a:pt x="148" y="247"/>
                    </a:lnTo>
                    <a:lnTo>
                      <a:pt x="142" y="247"/>
                    </a:lnTo>
                    <a:lnTo>
                      <a:pt x="138" y="249"/>
                    </a:lnTo>
                    <a:lnTo>
                      <a:pt x="115" y="246"/>
                    </a:lnTo>
                    <a:lnTo>
                      <a:pt x="96" y="239"/>
                    </a:lnTo>
                    <a:lnTo>
                      <a:pt x="76" y="229"/>
                    </a:lnTo>
                    <a:lnTo>
                      <a:pt x="61" y="216"/>
                    </a:lnTo>
                    <a:close/>
                  </a:path>
                </a:pathLst>
              </a:custGeom>
              <a:solidFill>
                <a:srgbClr val="59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199640" y="3414240"/>
                <a:ext cx="63360" cy="62640"/>
              </a:xfrm>
              <a:custGeom>
                <a:avLst/>
                <a:gdLst/>
                <a:ahLst/>
                <a:rect l="l" t="t" r="r" b="b"/>
                <a:pathLst>
                  <a:path w="221" h="222">
                    <a:moveTo>
                      <a:pt x="0" y="110"/>
                    </a:moveTo>
                    <a:lnTo>
                      <a:pt x="1" y="132"/>
                    </a:lnTo>
                    <a:lnTo>
                      <a:pt x="8" y="152"/>
                    </a:lnTo>
                    <a:lnTo>
                      <a:pt x="11" y="161"/>
                    </a:lnTo>
                    <a:lnTo>
                      <a:pt x="17" y="172"/>
                    </a:lnTo>
                    <a:lnTo>
                      <a:pt x="23" y="180"/>
                    </a:lnTo>
                    <a:lnTo>
                      <a:pt x="33" y="189"/>
                    </a:lnTo>
                    <a:lnTo>
                      <a:pt x="48" y="202"/>
                    </a:lnTo>
                    <a:lnTo>
                      <a:pt x="68" y="212"/>
                    </a:lnTo>
                    <a:lnTo>
                      <a:pt x="87" y="219"/>
                    </a:lnTo>
                    <a:lnTo>
                      <a:pt x="110" y="222"/>
                    </a:lnTo>
                    <a:lnTo>
                      <a:pt x="114" y="220"/>
                    </a:lnTo>
                    <a:lnTo>
                      <a:pt x="120" y="220"/>
                    </a:lnTo>
                    <a:lnTo>
                      <a:pt x="131" y="219"/>
                    </a:lnTo>
                    <a:lnTo>
                      <a:pt x="152" y="212"/>
                    </a:lnTo>
                    <a:lnTo>
                      <a:pt x="161" y="207"/>
                    </a:lnTo>
                    <a:lnTo>
                      <a:pt x="171" y="202"/>
                    </a:lnTo>
                    <a:lnTo>
                      <a:pt x="179" y="195"/>
                    </a:lnTo>
                    <a:lnTo>
                      <a:pt x="188" y="189"/>
                    </a:lnTo>
                    <a:lnTo>
                      <a:pt x="195" y="180"/>
                    </a:lnTo>
                    <a:lnTo>
                      <a:pt x="201" y="172"/>
                    </a:lnTo>
                    <a:lnTo>
                      <a:pt x="206" y="161"/>
                    </a:lnTo>
                    <a:lnTo>
                      <a:pt x="212" y="152"/>
                    </a:lnTo>
                    <a:lnTo>
                      <a:pt x="218" y="132"/>
                    </a:lnTo>
                    <a:lnTo>
                      <a:pt x="220" y="121"/>
                    </a:lnTo>
                    <a:lnTo>
                      <a:pt x="220" y="115"/>
                    </a:lnTo>
                    <a:lnTo>
                      <a:pt x="221" y="110"/>
                    </a:lnTo>
                    <a:lnTo>
                      <a:pt x="218" y="88"/>
                    </a:lnTo>
                    <a:lnTo>
                      <a:pt x="212" y="67"/>
                    </a:lnTo>
                    <a:lnTo>
                      <a:pt x="201" y="48"/>
                    </a:lnTo>
                    <a:lnTo>
                      <a:pt x="188" y="32"/>
                    </a:lnTo>
                    <a:lnTo>
                      <a:pt x="171" y="17"/>
                    </a:lnTo>
                    <a:lnTo>
                      <a:pt x="161" y="12"/>
                    </a:lnTo>
                    <a:lnTo>
                      <a:pt x="152" y="8"/>
                    </a:lnTo>
                    <a:lnTo>
                      <a:pt x="131" y="2"/>
                    </a:lnTo>
                    <a:lnTo>
                      <a:pt x="110" y="0"/>
                    </a:lnTo>
                    <a:lnTo>
                      <a:pt x="87" y="2"/>
                    </a:lnTo>
                    <a:lnTo>
                      <a:pt x="68" y="8"/>
                    </a:lnTo>
                    <a:lnTo>
                      <a:pt x="48" y="17"/>
                    </a:lnTo>
                    <a:lnTo>
                      <a:pt x="33" y="32"/>
                    </a:lnTo>
                    <a:lnTo>
                      <a:pt x="17" y="48"/>
                    </a:lnTo>
                    <a:lnTo>
                      <a:pt x="8" y="67"/>
                    </a:lnTo>
                    <a:lnTo>
                      <a:pt x="1" y="88"/>
                    </a:lnTo>
                    <a:lnTo>
                      <a:pt x="0" y="110"/>
                    </a:lnTo>
                    <a:close/>
                    <a:moveTo>
                      <a:pt x="52" y="169"/>
                    </a:moveTo>
                    <a:lnTo>
                      <a:pt x="40" y="156"/>
                    </a:lnTo>
                    <a:lnTo>
                      <a:pt x="34" y="142"/>
                    </a:lnTo>
                    <a:lnTo>
                      <a:pt x="29" y="126"/>
                    </a:lnTo>
                    <a:lnTo>
                      <a:pt x="28" y="110"/>
                    </a:lnTo>
                    <a:lnTo>
                      <a:pt x="29" y="93"/>
                    </a:lnTo>
                    <a:lnTo>
                      <a:pt x="34" y="79"/>
                    </a:lnTo>
                    <a:lnTo>
                      <a:pt x="40" y="64"/>
                    </a:lnTo>
                    <a:lnTo>
                      <a:pt x="52" y="53"/>
                    </a:lnTo>
                    <a:lnTo>
                      <a:pt x="63" y="41"/>
                    </a:lnTo>
                    <a:lnTo>
                      <a:pt x="78" y="33"/>
                    </a:lnTo>
                    <a:lnTo>
                      <a:pt x="93" y="29"/>
                    </a:lnTo>
                    <a:lnTo>
                      <a:pt x="110" y="28"/>
                    </a:lnTo>
                    <a:lnTo>
                      <a:pt x="125" y="29"/>
                    </a:lnTo>
                    <a:lnTo>
                      <a:pt x="141" y="33"/>
                    </a:lnTo>
                    <a:lnTo>
                      <a:pt x="155" y="41"/>
                    </a:lnTo>
                    <a:lnTo>
                      <a:pt x="169" y="53"/>
                    </a:lnTo>
                    <a:lnTo>
                      <a:pt x="178" y="64"/>
                    </a:lnTo>
                    <a:lnTo>
                      <a:pt x="186" y="79"/>
                    </a:lnTo>
                    <a:lnTo>
                      <a:pt x="190" y="93"/>
                    </a:lnTo>
                    <a:lnTo>
                      <a:pt x="192" y="110"/>
                    </a:lnTo>
                    <a:lnTo>
                      <a:pt x="190" y="126"/>
                    </a:lnTo>
                    <a:lnTo>
                      <a:pt x="186" y="142"/>
                    </a:lnTo>
                    <a:lnTo>
                      <a:pt x="178" y="156"/>
                    </a:lnTo>
                    <a:lnTo>
                      <a:pt x="169" y="169"/>
                    </a:lnTo>
                    <a:lnTo>
                      <a:pt x="155" y="178"/>
                    </a:lnTo>
                    <a:lnTo>
                      <a:pt x="141" y="186"/>
                    </a:lnTo>
                    <a:lnTo>
                      <a:pt x="125" y="191"/>
                    </a:lnTo>
                    <a:lnTo>
                      <a:pt x="110" y="193"/>
                    </a:lnTo>
                    <a:lnTo>
                      <a:pt x="93" y="191"/>
                    </a:lnTo>
                    <a:lnTo>
                      <a:pt x="78" y="186"/>
                    </a:lnTo>
                    <a:lnTo>
                      <a:pt x="63" y="178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5c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560" y="342180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164" h="165">
                    <a:moveTo>
                      <a:pt x="0" y="82"/>
                    </a:moveTo>
                    <a:lnTo>
                      <a:pt x="1" y="98"/>
                    </a:lnTo>
                    <a:lnTo>
                      <a:pt x="6" y="114"/>
                    </a:lnTo>
                    <a:lnTo>
                      <a:pt x="12" y="128"/>
                    </a:lnTo>
                    <a:lnTo>
                      <a:pt x="24" y="141"/>
                    </a:lnTo>
                    <a:lnTo>
                      <a:pt x="35" y="150"/>
                    </a:lnTo>
                    <a:lnTo>
                      <a:pt x="50" y="158"/>
                    </a:lnTo>
                    <a:lnTo>
                      <a:pt x="65" y="163"/>
                    </a:lnTo>
                    <a:lnTo>
                      <a:pt x="82" y="165"/>
                    </a:lnTo>
                    <a:lnTo>
                      <a:pt x="97" y="163"/>
                    </a:lnTo>
                    <a:lnTo>
                      <a:pt x="113" y="158"/>
                    </a:lnTo>
                    <a:lnTo>
                      <a:pt x="127" y="150"/>
                    </a:lnTo>
                    <a:lnTo>
                      <a:pt x="141" y="141"/>
                    </a:lnTo>
                    <a:lnTo>
                      <a:pt x="150" y="128"/>
                    </a:lnTo>
                    <a:lnTo>
                      <a:pt x="158" y="114"/>
                    </a:lnTo>
                    <a:lnTo>
                      <a:pt x="162" y="98"/>
                    </a:lnTo>
                    <a:lnTo>
                      <a:pt x="164" y="82"/>
                    </a:lnTo>
                    <a:lnTo>
                      <a:pt x="162" y="65"/>
                    </a:lnTo>
                    <a:lnTo>
                      <a:pt x="158" y="51"/>
                    </a:lnTo>
                    <a:lnTo>
                      <a:pt x="150" y="36"/>
                    </a:lnTo>
                    <a:lnTo>
                      <a:pt x="141" y="25"/>
                    </a:lnTo>
                    <a:lnTo>
                      <a:pt x="127" y="13"/>
                    </a:lnTo>
                    <a:lnTo>
                      <a:pt x="113" y="5"/>
                    </a:lnTo>
                    <a:lnTo>
                      <a:pt x="97" y="1"/>
                    </a:lnTo>
                    <a:lnTo>
                      <a:pt x="82" y="0"/>
                    </a:lnTo>
                    <a:lnTo>
                      <a:pt x="65" y="1"/>
                    </a:lnTo>
                    <a:lnTo>
                      <a:pt x="50" y="5"/>
                    </a:lnTo>
                    <a:lnTo>
                      <a:pt x="35" y="13"/>
                    </a:lnTo>
                    <a:lnTo>
                      <a:pt x="24" y="25"/>
                    </a:lnTo>
                    <a:lnTo>
                      <a:pt x="12" y="36"/>
                    </a:lnTo>
                    <a:lnTo>
                      <a:pt x="6" y="51"/>
                    </a:lnTo>
                    <a:lnTo>
                      <a:pt x="1" y="65"/>
                    </a:lnTo>
                    <a:lnTo>
                      <a:pt x="0" y="82"/>
                    </a:lnTo>
                    <a:close/>
                    <a:moveTo>
                      <a:pt x="82" y="28"/>
                    </a:moveTo>
                    <a:lnTo>
                      <a:pt x="92" y="28"/>
                    </a:lnTo>
                    <a:lnTo>
                      <a:pt x="102" y="31"/>
                    </a:lnTo>
                    <a:lnTo>
                      <a:pt x="111" y="36"/>
                    </a:lnTo>
                    <a:lnTo>
                      <a:pt x="121" y="44"/>
                    </a:lnTo>
                    <a:lnTo>
                      <a:pt x="127" y="52"/>
                    </a:lnTo>
                    <a:lnTo>
                      <a:pt x="133" y="61"/>
                    </a:lnTo>
                    <a:lnTo>
                      <a:pt x="136" y="71"/>
                    </a:lnTo>
                    <a:lnTo>
                      <a:pt x="137" y="82"/>
                    </a:lnTo>
                    <a:lnTo>
                      <a:pt x="136" y="87"/>
                    </a:lnTo>
                    <a:lnTo>
                      <a:pt x="136" y="93"/>
                    </a:lnTo>
                    <a:lnTo>
                      <a:pt x="134" y="97"/>
                    </a:lnTo>
                    <a:lnTo>
                      <a:pt x="133" y="99"/>
                    </a:lnTo>
                    <a:lnTo>
                      <a:pt x="133" y="103"/>
                    </a:lnTo>
                    <a:lnTo>
                      <a:pt x="127" y="112"/>
                    </a:lnTo>
                    <a:lnTo>
                      <a:pt x="124" y="116"/>
                    </a:lnTo>
                    <a:lnTo>
                      <a:pt x="121" y="122"/>
                    </a:lnTo>
                    <a:lnTo>
                      <a:pt x="116" y="124"/>
                    </a:lnTo>
                    <a:lnTo>
                      <a:pt x="111" y="128"/>
                    </a:lnTo>
                    <a:lnTo>
                      <a:pt x="102" y="133"/>
                    </a:lnTo>
                    <a:lnTo>
                      <a:pt x="99" y="133"/>
                    </a:lnTo>
                    <a:lnTo>
                      <a:pt x="96" y="135"/>
                    </a:lnTo>
                    <a:lnTo>
                      <a:pt x="92" y="137"/>
                    </a:lnTo>
                    <a:lnTo>
                      <a:pt x="86" y="137"/>
                    </a:lnTo>
                    <a:lnTo>
                      <a:pt x="82" y="138"/>
                    </a:lnTo>
                    <a:lnTo>
                      <a:pt x="70" y="137"/>
                    </a:lnTo>
                    <a:lnTo>
                      <a:pt x="60" y="133"/>
                    </a:lnTo>
                    <a:lnTo>
                      <a:pt x="51" y="128"/>
                    </a:lnTo>
                    <a:lnTo>
                      <a:pt x="43" y="122"/>
                    </a:lnTo>
                    <a:lnTo>
                      <a:pt x="35" y="112"/>
                    </a:lnTo>
                    <a:lnTo>
                      <a:pt x="31" y="103"/>
                    </a:lnTo>
                    <a:lnTo>
                      <a:pt x="27" y="93"/>
                    </a:lnTo>
                    <a:lnTo>
                      <a:pt x="27" y="82"/>
                    </a:lnTo>
                    <a:lnTo>
                      <a:pt x="31" y="61"/>
                    </a:lnTo>
                    <a:lnTo>
                      <a:pt x="43" y="44"/>
                    </a:lnTo>
                    <a:lnTo>
                      <a:pt x="60" y="31"/>
                    </a:lnTo>
                    <a:lnTo>
                      <a:pt x="82" y="28"/>
                    </a:lnTo>
                    <a:close/>
                  </a:path>
                </a:pathLst>
              </a:custGeom>
              <a:solidFill>
                <a:srgbClr val="5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215480" y="342972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94" y="16"/>
                    </a:moveTo>
                    <a:lnTo>
                      <a:pt x="84" y="8"/>
                    </a:lnTo>
                    <a:lnTo>
                      <a:pt x="75" y="3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33" y="3"/>
                    </a:lnTo>
                    <a:lnTo>
                      <a:pt x="16" y="16"/>
                    </a:lnTo>
                    <a:lnTo>
                      <a:pt x="4" y="33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4" y="75"/>
                    </a:lnTo>
                    <a:lnTo>
                      <a:pt x="8" y="84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9"/>
                    </a:lnTo>
                    <a:lnTo>
                      <a:pt x="55" y="110"/>
                    </a:lnTo>
                    <a:lnTo>
                      <a:pt x="59" y="109"/>
                    </a:lnTo>
                    <a:lnTo>
                      <a:pt x="65" y="109"/>
                    </a:lnTo>
                    <a:lnTo>
                      <a:pt x="69" y="107"/>
                    </a:lnTo>
                    <a:lnTo>
                      <a:pt x="72" y="105"/>
                    </a:lnTo>
                    <a:lnTo>
                      <a:pt x="75" y="105"/>
                    </a:lnTo>
                    <a:lnTo>
                      <a:pt x="84" y="100"/>
                    </a:lnTo>
                    <a:lnTo>
                      <a:pt x="89" y="96"/>
                    </a:lnTo>
                    <a:lnTo>
                      <a:pt x="94" y="94"/>
                    </a:lnTo>
                    <a:lnTo>
                      <a:pt x="97" y="88"/>
                    </a:lnTo>
                    <a:lnTo>
                      <a:pt x="100" y="84"/>
                    </a:lnTo>
                    <a:lnTo>
                      <a:pt x="106" y="75"/>
                    </a:lnTo>
                    <a:lnTo>
                      <a:pt x="106" y="71"/>
                    </a:lnTo>
                    <a:lnTo>
                      <a:pt x="107" y="69"/>
                    </a:lnTo>
                    <a:lnTo>
                      <a:pt x="109" y="65"/>
                    </a:lnTo>
                    <a:lnTo>
                      <a:pt x="109" y="59"/>
                    </a:lnTo>
                    <a:lnTo>
                      <a:pt x="110" y="54"/>
                    </a:lnTo>
                    <a:lnTo>
                      <a:pt x="109" y="43"/>
                    </a:lnTo>
                    <a:lnTo>
                      <a:pt x="106" y="33"/>
                    </a:lnTo>
                    <a:lnTo>
                      <a:pt x="100" y="24"/>
                    </a:lnTo>
                    <a:lnTo>
                      <a:pt x="94" y="16"/>
                    </a:lnTo>
                    <a:close/>
                    <a:moveTo>
                      <a:pt x="55" y="27"/>
                    </a:moveTo>
                    <a:lnTo>
                      <a:pt x="65" y="28"/>
                    </a:lnTo>
                    <a:lnTo>
                      <a:pt x="69" y="31"/>
                    </a:lnTo>
                    <a:lnTo>
                      <a:pt x="75" y="35"/>
                    </a:lnTo>
                    <a:lnTo>
                      <a:pt x="81" y="43"/>
                    </a:lnTo>
                    <a:lnTo>
                      <a:pt x="83" y="54"/>
                    </a:lnTo>
                    <a:lnTo>
                      <a:pt x="82" y="59"/>
                    </a:lnTo>
                    <a:lnTo>
                      <a:pt x="81" y="61"/>
                    </a:lnTo>
                    <a:lnTo>
                      <a:pt x="81" y="65"/>
                    </a:lnTo>
                    <a:lnTo>
                      <a:pt x="77" y="69"/>
                    </a:lnTo>
                    <a:lnTo>
                      <a:pt x="75" y="74"/>
                    </a:lnTo>
                    <a:lnTo>
                      <a:pt x="69" y="76"/>
                    </a:lnTo>
                    <a:lnTo>
                      <a:pt x="65" y="79"/>
                    </a:lnTo>
                    <a:lnTo>
                      <a:pt x="61" y="79"/>
                    </a:lnTo>
                    <a:lnTo>
                      <a:pt x="59" y="80"/>
                    </a:lnTo>
                    <a:lnTo>
                      <a:pt x="55" y="82"/>
                    </a:lnTo>
                    <a:lnTo>
                      <a:pt x="43" y="79"/>
                    </a:lnTo>
                    <a:lnTo>
                      <a:pt x="35" y="74"/>
                    </a:lnTo>
                    <a:lnTo>
                      <a:pt x="31" y="69"/>
                    </a:lnTo>
                    <a:lnTo>
                      <a:pt x="29" y="65"/>
                    </a:lnTo>
                    <a:lnTo>
                      <a:pt x="27" y="54"/>
                    </a:lnTo>
                    <a:lnTo>
                      <a:pt x="29" y="43"/>
                    </a:lnTo>
                    <a:lnTo>
                      <a:pt x="35" y="35"/>
                    </a:lnTo>
                    <a:lnTo>
                      <a:pt x="43" y="28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62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223400" y="343764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48" y="8"/>
                    </a:moveTo>
                    <a:lnTo>
                      <a:pt x="42" y="4"/>
                    </a:lnTo>
                    <a:lnTo>
                      <a:pt x="38" y="1"/>
                    </a:lnTo>
                    <a:lnTo>
                      <a:pt x="28" y="0"/>
                    </a:lnTo>
                    <a:lnTo>
                      <a:pt x="16" y="1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4" y="42"/>
                    </a:lnTo>
                    <a:lnTo>
                      <a:pt x="8" y="47"/>
                    </a:lnTo>
                    <a:lnTo>
                      <a:pt x="16" y="52"/>
                    </a:lnTo>
                    <a:lnTo>
                      <a:pt x="28" y="55"/>
                    </a:lnTo>
                    <a:lnTo>
                      <a:pt x="32" y="53"/>
                    </a:lnTo>
                    <a:lnTo>
                      <a:pt x="34" y="52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7"/>
                    </a:lnTo>
                    <a:lnTo>
                      <a:pt x="50" y="42"/>
                    </a:lnTo>
                    <a:lnTo>
                      <a:pt x="54" y="38"/>
                    </a:lnTo>
                    <a:lnTo>
                      <a:pt x="54" y="34"/>
                    </a:lnTo>
                    <a:lnTo>
                      <a:pt x="55" y="32"/>
                    </a:lnTo>
                    <a:lnTo>
                      <a:pt x="56" y="27"/>
                    </a:lnTo>
                    <a:lnTo>
                      <a:pt x="54" y="16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94800" y="3511080"/>
                <a:ext cx="68400" cy="111600"/>
              </a:xfrm>
              <a:custGeom>
                <a:avLst/>
                <a:gdLst/>
                <a:ahLst/>
                <a:rect l="l" t="t" r="r" b="b"/>
                <a:pathLst>
                  <a:path w="239" h="394">
                    <a:moveTo>
                      <a:pt x="239" y="394"/>
                    </a:moveTo>
                    <a:lnTo>
                      <a:pt x="230" y="385"/>
                    </a:lnTo>
                    <a:lnTo>
                      <a:pt x="226" y="380"/>
                    </a:lnTo>
                    <a:lnTo>
                      <a:pt x="223" y="378"/>
                    </a:lnTo>
                    <a:lnTo>
                      <a:pt x="222" y="377"/>
                    </a:lnTo>
                    <a:lnTo>
                      <a:pt x="181" y="334"/>
                    </a:lnTo>
                    <a:lnTo>
                      <a:pt x="145" y="291"/>
                    </a:lnTo>
                    <a:lnTo>
                      <a:pt x="112" y="245"/>
                    </a:lnTo>
                    <a:lnTo>
                      <a:pt x="84" y="200"/>
                    </a:lnTo>
                    <a:lnTo>
                      <a:pt x="69" y="175"/>
                    </a:lnTo>
                    <a:lnTo>
                      <a:pt x="57" y="151"/>
                    </a:lnTo>
                    <a:lnTo>
                      <a:pt x="44" y="126"/>
                    </a:lnTo>
                    <a:lnTo>
                      <a:pt x="34" y="102"/>
                    </a:lnTo>
                    <a:lnTo>
                      <a:pt x="15" y="51"/>
                    </a:lnTo>
                    <a:lnTo>
                      <a:pt x="0" y="0"/>
                    </a:lnTo>
                    <a:lnTo>
                      <a:pt x="3" y="45"/>
                    </a:lnTo>
                    <a:lnTo>
                      <a:pt x="7" y="66"/>
                    </a:lnTo>
                    <a:lnTo>
                      <a:pt x="13" y="89"/>
                    </a:lnTo>
                    <a:lnTo>
                      <a:pt x="25" y="131"/>
                    </a:lnTo>
                    <a:lnTo>
                      <a:pt x="42" y="171"/>
                    </a:lnTo>
                    <a:lnTo>
                      <a:pt x="61" y="210"/>
                    </a:lnTo>
                    <a:lnTo>
                      <a:pt x="86" y="249"/>
                    </a:lnTo>
                    <a:lnTo>
                      <a:pt x="115" y="285"/>
                    </a:lnTo>
                    <a:lnTo>
                      <a:pt x="147" y="320"/>
                    </a:lnTo>
                    <a:lnTo>
                      <a:pt x="169" y="340"/>
                    </a:lnTo>
                    <a:lnTo>
                      <a:pt x="192" y="360"/>
                    </a:lnTo>
                    <a:lnTo>
                      <a:pt x="214" y="377"/>
                    </a:lnTo>
                    <a:lnTo>
                      <a:pt x="239" y="394"/>
                    </a:lnTo>
                    <a:close/>
                  </a:path>
                </a:pathLst>
              </a:custGeom>
              <a:solidFill>
                <a:srgbClr val="020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994080" y="3476160"/>
                <a:ext cx="96480" cy="160200"/>
              </a:xfrm>
              <a:custGeom>
                <a:avLst/>
                <a:gdLst/>
                <a:ahLst/>
                <a:rect l="l" t="t" r="r" b="b"/>
                <a:pathLst>
                  <a:path w="338" h="561">
                    <a:moveTo>
                      <a:pt x="223" y="498"/>
                    </a:moveTo>
                    <a:lnTo>
                      <a:pt x="224" y="499"/>
                    </a:lnTo>
                    <a:lnTo>
                      <a:pt x="227" y="501"/>
                    </a:lnTo>
                    <a:lnTo>
                      <a:pt x="231" y="506"/>
                    </a:lnTo>
                    <a:lnTo>
                      <a:pt x="240" y="515"/>
                    </a:lnTo>
                    <a:lnTo>
                      <a:pt x="263" y="528"/>
                    </a:lnTo>
                    <a:lnTo>
                      <a:pt x="287" y="541"/>
                    </a:lnTo>
                    <a:lnTo>
                      <a:pt x="338" y="561"/>
                    </a:lnTo>
                    <a:lnTo>
                      <a:pt x="313" y="542"/>
                    </a:lnTo>
                    <a:lnTo>
                      <a:pt x="289" y="522"/>
                    </a:lnTo>
                    <a:lnTo>
                      <a:pt x="243" y="478"/>
                    </a:lnTo>
                    <a:lnTo>
                      <a:pt x="216" y="451"/>
                    </a:lnTo>
                    <a:lnTo>
                      <a:pt x="194" y="425"/>
                    </a:lnTo>
                    <a:lnTo>
                      <a:pt x="171" y="398"/>
                    </a:lnTo>
                    <a:lnTo>
                      <a:pt x="151" y="372"/>
                    </a:lnTo>
                    <a:lnTo>
                      <a:pt x="130" y="342"/>
                    </a:lnTo>
                    <a:lnTo>
                      <a:pt x="113" y="314"/>
                    </a:lnTo>
                    <a:lnTo>
                      <a:pt x="96" y="285"/>
                    </a:lnTo>
                    <a:lnTo>
                      <a:pt x="82" y="256"/>
                    </a:lnTo>
                    <a:lnTo>
                      <a:pt x="67" y="224"/>
                    </a:lnTo>
                    <a:lnTo>
                      <a:pt x="54" y="194"/>
                    </a:lnTo>
                    <a:lnTo>
                      <a:pt x="42" y="162"/>
                    </a:lnTo>
                    <a:lnTo>
                      <a:pt x="33" y="131"/>
                    </a:lnTo>
                    <a:lnTo>
                      <a:pt x="24" y="99"/>
                    </a:lnTo>
                    <a:lnTo>
                      <a:pt x="17" y="67"/>
                    </a:lnTo>
                    <a:lnTo>
                      <a:pt x="10" y="33"/>
                    </a:lnTo>
                    <a:lnTo>
                      <a:pt x="7" y="0"/>
                    </a:lnTo>
                    <a:lnTo>
                      <a:pt x="1" y="41"/>
                    </a:lnTo>
                    <a:lnTo>
                      <a:pt x="0" y="84"/>
                    </a:lnTo>
                    <a:lnTo>
                      <a:pt x="1" y="121"/>
                    </a:lnTo>
                    <a:lnTo>
                      <a:pt x="16" y="172"/>
                    </a:lnTo>
                    <a:lnTo>
                      <a:pt x="35" y="223"/>
                    </a:lnTo>
                    <a:lnTo>
                      <a:pt x="45" y="247"/>
                    </a:lnTo>
                    <a:lnTo>
                      <a:pt x="58" y="272"/>
                    </a:lnTo>
                    <a:lnTo>
                      <a:pt x="70" y="296"/>
                    </a:lnTo>
                    <a:lnTo>
                      <a:pt x="85" y="321"/>
                    </a:lnTo>
                    <a:lnTo>
                      <a:pt x="113" y="366"/>
                    </a:lnTo>
                    <a:lnTo>
                      <a:pt x="146" y="412"/>
                    </a:lnTo>
                    <a:lnTo>
                      <a:pt x="182" y="455"/>
                    </a:lnTo>
                    <a:lnTo>
                      <a:pt x="223" y="498"/>
                    </a:lnTo>
                    <a:close/>
                  </a:path>
                </a:pathLst>
              </a:custGeom>
              <a:solidFill>
                <a:srgbClr val="060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96600" y="3451320"/>
                <a:ext cx="117000" cy="190800"/>
              </a:xfrm>
              <a:custGeom>
                <a:avLst/>
                <a:gdLst/>
                <a:ahLst/>
                <a:rect l="l" t="t" r="r" b="b"/>
                <a:pathLst>
                  <a:path w="409" h="668">
                    <a:moveTo>
                      <a:pt x="236" y="564"/>
                    </a:moveTo>
                    <a:lnTo>
                      <a:pt x="282" y="608"/>
                    </a:lnTo>
                    <a:lnTo>
                      <a:pt x="306" y="628"/>
                    </a:lnTo>
                    <a:lnTo>
                      <a:pt x="331" y="647"/>
                    </a:lnTo>
                    <a:lnTo>
                      <a:pt x="368" y="657"/>
                    </a:lnTo>
                    <a:lnTo>
                      <a:pt x="409" y="668"/>
                    </a:lnTo>
                    <a:lnTo>
                      <a:pt x="368" y="639"/>
                    </a:lnTo>
                    <a:lnTo>
                      <a:pt x="330" y="611"/>
                    </a:lnTo>
                    <a:lnTo>
                      <a:pt x="291" y="578"/>
                    </a:lnTo>
                    <a:lnTo>
                      <a:pt x="256" y="545"/>
                    </a:lnTo>
                    <a:lnTo>
                      <a:pt x="228" y="516"/>
                    </a:lnTo>
                    <a:lnTo>
                      <a:pt x="202" y="486"/>
                    </a:lnTo>
                    <a:lnTo>
                      <a:pt x="177" y="456"/>
                    </a:lnTo>
                    <a:lnTo>
                      <a:pt x="155" y="425"/>
                    </a:lnTo>
                    <a:lnTo>
                      <a:pt x="134" y="392"/>
                    </a:lnTo>
                    <a:lnTo>
                      <a:pt x="115" y="360"/>
                    </a:lnTo>
                    <a:lnTo>
                      <a:pt x="97" y="327"/>
                    </a:lnTo>
                    <a:lnTo>
                      <a:pt x="82" y="295"/>
                    </a:lnTo>
                    <a:lnTo>
                      <a:pt x="68" y="259"/>
                    </a:lnTo>
                    <a:lnTo>
                      <a:pt x="56" y="224"/>
                    </a:lnTo>
                    <a:lnTo>
                      <a:pt x="45" y="188"/>
                    </a:lnTo>
                    <a:lnTo>
                      <a:pt x="37" y="153"/>
                    </a:lnTo>
                    <a:lnTo>
                      <a:pt x="29" y="114"/>
                    </a:lnTo>
                    <a:lnTo>
                      <a:pt x="25" y="77"/>
                    </a:lnTo>
                    <a:lnTo>
                      <a:pt x="21" y="38"/>
                    </a:lnTo>
                    <a:lnTo>
                      <a:pt x="21" y="0"/>
                    </a:lnTo>
                    <a:lnTo>
                      <a:pt x="8" y="42"/>
                    </a:lnTo>
                    <a:lnTo>
                      <a:pt x="0" y="86"/>
                    </a:lnTo>
                    <a:lnTo>
                      <a:pt x="3" y="119"/>
                    </a:lnTo>
                    <a:lnTo>
                      <a:pt x="10" y="153"/>
                    </a:lnTo>
                    <a:lnTo>
                      <a:pt x="17" y="185"/>
                    </a:lnTo>
                    <a:lnTo>
                      <a:pt x="26" y="217"/>
                    </a:lnTo>
                    <a:lnTo>
                      <a:pt x="35" y="248"/>
                    </a:lnTo>
                    <a:lnTo>
                      <a:pt x="47" y="280"/>
                    </a:lnTo>
                    <a:lnTo>
                      <a:pt x="60" y="310"/>
                    </a:lnTo>
                    <a:lnTo>
                      <a:pt x="75" y="342"/>
                    </a:lnTo>
                    <a:lnTo>
                      <a:pt x="89" y="371"/>
                    </a:lnTo>
                    <a:lnTo>
                      <a:pt x="106" y="400"/>
                    </a:lnTo>
                    <a:lnTo>
                      <a:pt x="123" y="428"/>
                    </a:lnTo>
                    <a:lnTo>
                      <a:pt x="144" y="458"/>
                    </a:lnTo>
                    <a:lnTo>
                      <a:pt x="164" y="484"/>
                    </a:lnTo>
                    <a:lnTo>
                      <a:pt x="187" y="511"/>
                    </a:lnTo>
                    <a:lnTo>
                      <a:pt x="209" y="537"/>
                    </a:lnTo>
                    <a:lnTo>
                      <a:pt x="236" y="564"/>
                    </a:lnTo>
                    <a:close/>
                  </a:path>
                </a:pathLst>
              </a:custGeom>
              <a:solidFill>
                <a:srgbClr val="090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994080" y="3356280"/>
                <a:ext cx="288720" cy="287640"/>
              </a:xfrm>
              <a:custGeom>
                <a:avLst/>
                <a:gdLst/>
                <a:ahLst/>
                <a:rect l="l" t="t" r="r" b="b"/>
                <a:pathLst>
                  <a:path w="1009" h="1008">
                    <a:moveTo>
                      <a:pt x="148" y="148"/>
                    </a:moveTo>
                    <a:lnTo>
                      <a:pt x="112" y="185"/>
                    </a:lnTo>
                    <a:lnTo>
                      <a:pt x="83" y="225"/>
                    </a:lnTo>
                    <a:lnTo>
                      <a:pt x="57" y="266"/>
                    </a:lnTo>
                    <a:lnTo>
                      <a:pt x="36" y="310"/>
                    </a:lnTo>
                    <a:lnTo>
                      <a:pt x="20" y="354"/>
                    </a:lnTo>
                    <a:lnTo>
                      <a:pt x="9" y="403"/>
                    </a:lnTo>
                    <a:lnTo>
                      <a:pt x="2" y="452"/>
                    </a:lnTo>
                    <a:lnTo>
                      <a:pt x="0" y="504"/>
                    </a:lnTo>
                    <a:lnTo>
                      <a:pt x="0" y="529"/>
                    </a:lnTo>
                    <a:lnTo>
                      <a:pt x="2" y="555"/>
                    </a:lnTo>
                    <a:lnTo>
                      <a:pt x="4" y="579"/>
                    </a:lnTo>
                    <a:lnTo>
                      <a:pt x="9" y="604"/>
                    </a:lnTo>
                    <a:lnTo>
                      <a:pt x="14" y="626"/>
                    </a:lnTo>
                    <a:lnTo>
                      <a:pt x="20" y="650"/>
                    </a:lnTo>
                    <a:lnTo>
                      <a:pt x="27" y="673"/>
                    </a:lnTo>
                    <a:lnTo>
                      <a:pt x="36" y="697"/>
                    </a:lnTo>
                    <a:lnTo>
                      <a:pt x="57" y="740"/>
                    </a:lnTo>
                    <a:lnTo>
                      <a:pt x="68" y="760"/>
                    </a:lnTo>
                    <a:lnTo>
                      <a:pt x="83" y="782"/>
                    </a:lnTo>
                    <a:lnTo>
                      <a:pt x="96" y="801"/>
                    </a:lnTo>
                    <a:lnTo>
                      <a:pt x="112" y="821"/>
                    </a:lnTo>
                    <a:lnTo>
                      <a:pt x="129" y="841"/>
                    </a:lnTo>
                    <a:lnTo>
                      <a:pt x="148" y="861"/>
                    </a:lnTo>
                    <a:lnTo>
                      <a:pt x="186" y="895"/>
                    </a:lnTo>
                    <a:lnTo>
                      <a:pt x="226" y="925"/>
                    </a:lnTo>
                    <a:lnTo>
                      <a:pt x="266" y="949"/>
                    </a:lnTo>
                    <a:lnTo>
                      <a:pt x="288" y="961"/>
                    </a:lnTo>
                    <a:lnTo>
                      <a:pt x="311" y="971"/>
                    </a:lnTo>
                    <a:lnTo>
                      <a:pt x="355" y="987"/>
                    </a:lnTo>
                    <a:lnTo>
                      <a:pt x="404" y="998"/>
                    </a:lnTo>
                    <a:lnTo>
                      <a:pt x="452" y="1005"/>
                    </a:lnTo>
                    <a:lnTo>
                      <a:pt x="477" y="1007"/>
                    </a:lnTo>
                    <a:lnTo>
                      <a:pt x="504" y="1008"/>
                    </a:lnTo>
                    <a:lnTo>
                      <a:pt x="529" y="1007"/>
                    </a:lnTo>
                    <a:lnTo>
                      <a:pt x="555" y="1005"/>
                    </a:lnTo>
                    <a:lnTo>
                      <a:pt x="567" y="1003"/>
                    </a:lnTo>
                    <a:lnTo>
                      <a:pt x="569" y="1002"/>
                    </a:lnTo>
                    <a:lnTo>
                      <a:pt x="573" y="1002"/>
                    </a:lnTo>
                    <a:lnTo>
                      <a:pt x="579" y="1002"/>
                    </a:lnTo>
                    <a:lnTo>
                      <a:pt x="604" y="998"/>
                    </a:lnTo>
                    <a:lnTo>
                      <a:pt x="627" y="993"/>
                    </a:lnTo>
                    <a:lnTo>
                      <a:pt x="638" y="989"/>
                    </a:lnTo>
                    <a:lnTo>
                      <a:pt x="651" y="987"/>
                    </a:lnTo>
                    <a:lnTo>
                      <a:pt x="673" y="979"/>
                    </a:lnTo>
                    <a:lnTo>
                      <a:pt x="685" y="974"/>
                    </a:lnTo>
                    <a:lnTo>
                      <a:pt x="690" y="972"/>
                    </a:lnTo>
                    <a:lnTo>
                      <a:pt x="697" y="971"/>
                    </a:lnTo>
                    <a:lnTo>
                      <a:pt x="718" y="961"/>
                    </a:lnTo>
                    <a:lnTo>
                      <a:pt x="740" y="949"/>
                    </a:lnTo>
                    <a:lnTo>
                      <a:pt x="761" y="937"/>
                    </a:lnTo>
                    <a:lnTo>
                      <a:pt x="771" y="930"/>
                    </a:lnTo>
                    <a:lnTo>
                      <a:pt x="782" y="925"/>
                    </a:lnTo>
                    <a:lnTo>
                      <a:pt x="791" y="917"/>
                    </a:lnTo>
                    <a:lnTo>
                      <a:pt x="802" y="910"/>
                    </a:lnTo>
                    <a:lnTo>
                      <a:pt x="822" y="895"/>
                    </a:lnTo>
                    <a:lnTo>
                      <a:pt x="860" y="861"/>
                    </a:lnTo>
                    <a:lnTo>
                      <a:pt x="878" y="841"/>
                    </a:lnTo>
                    <a:lnTo>
                      <a:pt x="879" y="837"/>
                    </a:lnTo>
                    <a:lnTo>
                      <a:pt x="881" y="835"/>
                    </a:lnTo>
                    <a:lnTo>
                      <a:pt x="885" y="830"/>
                    </a:lnTo>
                    <a:lnTo>
                      <a:pt x="895" y="821"/>
                    </a:lnTo>
                    <a:lnTo>
                      <a:pt x="909" y="801"/>
                    </a:lnTo>
                    <a:lnTo>
                      <a:pt x="916" y="791"/>
                    </a:lnTo>
                    <a:lnTo>
                      <a:pt x="924" y="782"/>
                    </a:lnTo>
                    <a:lnTo>
                      <a:pt x="930" y="770"/>
                    </a:lnTo>
                    <a:lnTo>
                      <a:pt x="936" y="760"/>
                    </a:lnTo>
                    <a:lnTo>
                      <a:pt x="949" y="740"/>
                    </a:lnTo>
                    <a:lnTo>
                      <a:pt x="972" y="697"/>
                    </a:lnTo>
                    <a:lnTo>
                      <a:pt x="973" y="690"/>
                    </a:lnTo>
                    <a:lnTo>
                      <a:pt x="975" y="684"/>
                    </a:lnTo>
                    <a:lnTo>
                      <a:pt x="980" y="673"/>
                    </a:lnTo>
                    <a:lnTo>
                      <a:pt x="987" y="650"/>
                    </a:lnTo>
                    <a:lnTo>
                      <a:pt x="990" y="638"/>
                    </a:lnTo>
                    <a:lnTo>
                      <a:pt x="993" y="626"/>
                    </a:lnTo>
                    <a:lnTo>
                      <a:pt x="999" y="604"/>
                    </a:lnTo>
                    <a:lnTo>
                      <a:pt x="1002" y="579"/>
                    </a:lnTo>
                    <a:lnTo>
                      <a:pt x="1002" y="572"/>
                    </a:lnTo>
                    <a:lnTo>
                      <a:pt x="1002" y="568"/>
                    </a:lnTo>
                    <a:lnTo>
                      <a:pt x="1003" y="566"/>
                    </a:lnTo>
                    <a:lnTo>
                      <a:pt x="1006" y="555"/>
                    </a:lnTo>
                    <a:lnTo>
                      <a:pt x="1008" y="529"/>
                    </a:lnTo>
                    <a:lnTo>
                      <a:pt x="1009" y="504"/>
                    </a:lnTo>
                    <a:lnTo>
                      <a:pt x="1008" y="477"/>
                    </a:lnTo>
                    <a:lnTo>
                      <a:pt x="1006" y="452"/>
                    </a:lnTo>
                    <a:lnTo>
                      <a:pt x="999" y="403"/>
                    </a:lnTo>
                    <a:lnTo>
                      <a:pt x="987" y="354"/>
                    </a:lnTo>
                    <a:lnTo>
                      <a:pt x="972" y="310"/>
                    </a:lnTo>
                    <a:lnTo>
                      <a:pt x="949" y="266"/>
                    </a:lnTo>
                    <a:lnTo>
                      <a:pt x="924" y="225"/>
                    </a:lnTo>
                    <a:lnTo>
                      <a:pt x="895" y="185"/>
                    </a:lnTo>
                    <a:lnTo>
                      <a:pt x="860" y="148"/>
                    </a:lnTo>
                    <a:lnTo>
                      <a:pt x="822" y="112"/>
                    </a:lnTo>
                    <a:lnTo>
                      <a:pt x="802" y="96"/>
                    </a:lnTo>
                    <a:lnTo>
                      <a:pt x="782" y="82"/>
                    </a:lnTo>
                    <a:lnTo>
                      <a:pt x="761" y="68"/>
                    </a:lnTo>
                    <a:lnTo>
                      <a:pt x="740" y="57"/>
                    </a:lnTo>
                    <a:lnTo>
                      <a:pt x="697" y="37"/>
                    </a:lnTo>
                    <a:lnTo>
                      <a:pt x="673" y="28"/>
                    </a:lnTo>
                    <a:lnTo>
                      <a:pt x="651" y="21"/>
                    </a:lnTo>
                    <a:lnTo>
                      <a:pt x="627" y="14"/>
                    </a:lnTo>
                    <a:lnTo>
                      <a:pt x="604" y="10"/>
                    </a:lnTo>
                    <a:lnTo>
                      <a:pt x="579" y="5"/>
                    </a:lnTo>
                    <a:lnTo>
                      <a:pt x="555" y="3"/>
                    </a:lnTo>
                    <a:lnTo>
                      <a:pt x="529" y="0"/>
                    </a:lnTo>
                    <a:lnTo>
                      <a:pt x="504" y="0"/>
                    </a:lnTo>
                    <a:lnTo>
                      <a:pt x="452" y="3"/>
                    </a:lnTo>
                    <a:lnTo>
                      <a:pt x="404" y="10"/>
                    </a:lnTo>
                    <a:lnTo>
                      <a:pt x="355" y="21"/>
                    </a:lnTo>
                    <a:lnTo>
                      <a:pt x="311" y="37"/>
                    </a:lnTo>
                    <a:lnTo>
                      <a:pt x="266" y="57"/>
                    </a:lnTo>
                    <a:lnTo>
                      <a:pt x="226" y="82"/>
                    </a:lnTo>
                    <a:lnTo>
                      <a:pt x="186" y="112"/>
                    </a:lnTo>
                    <a:lnTo>
                      <a:pt x="148" y="1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70400" y="3436200"/>
                <a:ext cx="144000" cy="132480"/>
              </a:xfrm>
              <a:custGeom>
                <a:avLst/>
                <a:gdLst/>
                <a:ahLst/>
                <a:rect l="l" t="t" r="r" b="b"/>
                <a:pathLst>
                  <a:path w="506" h="465">
                    <a:moveTo>
                      <a:pt x="506" y="275"/>
                    </a:moveTo>
                    <a:lnTo>
                      <a:pt x="506" y="175"/>
                    </a:lnTo>
                    <a:lnTo>
                      <a:pt x="290" y="175"/>
                    </a:lnTo>
                    <a:lnTo>
                      <a:pt x="290" y="0"/>
                    </a:lnTo>
                    <a:lnTo>
                      <a:pt x="200" y="0"/>
                    </a:lnTo>
                    <a:lnTo>
                      <a:pt x="200" y="175"/>
                    </a:lnTo>
                    <a:lnTo>
                      <a:pt x="0" y="175"/>
                    </a:lnTo>
                    <a:lnTo>
                      <a:pt x="0" y="275"/>
                    </a:lnTo>
                    <a:lnTo>
                      <a:pt x="200" y="275"/>
                    </a:lnTo>
                    <a:lnTo>
                      <a:pt x="200" y="465"/>
                    </a:lnTo>
                    <a:lnTo>
                      <a:pt x="290" y="465"/>
                    </a:lnTo>
                    <a:lnTo>
                      <a:pt x="290" y="275"/>
                    </a:lnTo>
                    <a:lnTo>
                      <a:pt x="506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070400" y="3436200"/>
                <a:ext cx="144000" cy="132480"/>
              </a:xfrm>
              <a:custGeom>
                <a:avLst/>
                <a:gdLst/>
                <a:ahLst/>
                <a:rect l="l" t="t" r="r" b="b"/>
                <a:pathLst>
                  <a:path w="506" h="465">
                    <a:moveTo>
                      <a:pt x="506" y="175"/>
                    </a:moveTo>
                    <a:lnTo>
                      <a:pt x="290" y="175"/>
                    </a:lnTo>
                    <a:lnTo>
                      <a:pt x="290" y="0"/>
                    </a:lnTo>
                    <a:lnTo>
                      <a:pt x="200" y="0"/>
                    </a:lnTo>
                    <a:lnTo>
                      <a:pt x="200" y="175"/>
                    </a:lnTo>
                    <a:lnTo>
                      <a:pt x="0" y="175"/>
                    </a:lnTo>
                    <a:lnTo>
                      <a:pt x="0" y="275"/>
                    </a:lnTo>
                    <a:lnTo>
                      <a:pt x="200" y="275"/>
                    </a:lnTo>
                    <a:lnTo>
                      <a:pt x="200" y="465"/>
                    </a:lnTo>
                    <a:lnTo>
                      <a:pt x="290" y="465"/>
                    </a:lnTo>
                    <a:lnTo>
                      <a:pt x="290" y="275"/>
                    </a:lnTo>
                    <a:lnTo>
                      <a:pt x="506" y="275"/>
                    </a:lnTo>
                    <a:lnTo>
                      <a:pt x="506" y="1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V="1">
              <a:off x="2666880" y="2644200"/>
              <a:ext cx="2778120" cy="92412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6880" y="4082760"/>
              <a:ext cx="3087360" cy="51444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4886280" y="4905360"/>
            <a:ext cx="2857680" cy="1417680"/>
          </a:xfrm>
          <a:prstGeom prst="flowChartAlternateProcess">
            <a:avLst/>
          </a:prstGeom>
          <a:gradFill rotWithShape="0">
            <a:gsLst>
              <a:gs pos="0">
                <a:srgbClr val="99cc00"/>
              </a:gs>
              <a:gs pos="5000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Esfera de Deby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Carga positiva vermelha que foi acrescentada ao plasma é rodeada por elétrons e íons do plasma.  Esse efeito coletivo é chamado de </a:t>
            </a: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Blindagem de Deby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A neutralidade não é mantida, porque o número de elétrons é ma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1470960" y="3104280"/>
            <a:ext cx="2673360" cy="3372480"/>
            <a:chOff x="1470960" y="3104280"/>
            <a:chExt cx="2673360" cy="3372480"/>
          </a:xfrm>
        </p:grpSpPr>
        <p:sp>
          <p:nvSpPr>
            <p:cNvPr id="949" name=""/>
            <p:cNvSpPr/>
            <p:nvPr/>
          </p:nvSpPr>
          <p:spPr>
            <a:xfrm>
              <a:off x="1536840" y="4957200"/>
              <a:ext cx="2334960" cy="1519560"/>
            </a:xfrm>
            <a:prstGeom prst="flowChartAlternateProcess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00"/>
                </a:gs>
                <a:gs pos="100000">
                  <a:srgbClr val="99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eutralidade do plasma em escala maior do que o raio da </a:t>
              </a:r>
              <a:r>
                <a:rPr b="1" lang="en-US" sz="1200" spc="-1" strike="noStrike">
                  <a:solidFill>
                    <a:srgbClr val="ff3300"/>
                  </a:solidFill>
                  <a:latin typeface="Comic Sans MS"/>
                </a:rPr>
                <a:t>Esfera de Debye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é mantida. O plasma destas regiões não sente a influência da carga positiva vermelha que foi adicionada ao plasm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3280200">
              <a:off x="2086200" y="3461400"/>
              <a:ext cx="1735200" cy="168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2894600">
              <a:off x="1814040" y="3435840"/>
              <a:ext cx="1704960" cy="173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1447920" y="533520"/>
            <a:ext cx="2895480" cy="392040"/>
            <a:chOff x="1447920" y="533520"/>
            <a:chExt cx="2895480" cy="392040"/>
          </a:xfrm>
        </p:grpSpPr>
        <p:graphicFrame>
          <p:nvGraphicFramePr>
            <p:cNvPr id="953" name=""/>
            <p:cNvGraphicFramePr/>
            <p:nvPr/>
          </p:nvGraphicFramePr>
          <p:xfrm rot="10800000">
            <a:off x="1523880" y="838080"/>
            <a:ext cx="2590920" cy="87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1523880" y="838080"/>
                      <a:ext cx="2590920" cy="8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5" name=""/>
            <p:cNvSpPr/>
            <p:nvPr/>
          </p:nvSpPr>
          <p:spPr>
            <a:xfrm>
              <a:off x="1447920" y="533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rimento de Deby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181480" y="533520"/>
            <a:ext cx="3124080" cy="391680"/>
            <a:chOff x="5181480" y="533520"/>
            <a:chExt cx="3124080" cy="391680"/>
          </a:xfrm>
        </p:grpSpPr>
        <p:graphicFrame>
          <p:nvGraphicFramePr>
            <p:cNvPr id="957" name=""/>
            <p:cNvGraphicFramePr/>
            <p:nvPr/>
          </p:nvGraphicFramePr>
          <p:xfrm rot="10800000">
            <a:off x="5181480" y="837360"/>
            <a:ext cx="2590560" cy="87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0800000">
                      <a:off x="5181480" y="837360"/>
                      <a:ext cx="2590560" cy="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9" name=""/>
            <p:cNvSpPr/>
            <p:nvPr/>
          </p:nvSpPr>
          <p:spPr>
            <a:xfrm>
              <a:off x="5410080" y="533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otencial de Deby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0" y="0"/>
            <a:ext cx="2581920" cy="368280"/>
            <a:chOff x="0" y="0"/>
            <a:chExt cx="2581920" cy="368280"/>
          </a:xfrm>
        </p:grpSpPr>
        <p:graphicFrame>
          <p:nvGraphicFramePr>
            <p:cNvPr id="961" name=""/>
            <p:cNvGraphicFramePr/>
            <p:nvPr/>
          </p:nvGraphicFramePr>
          <p:xfrm>
            <a:off x="0" y="74520"/>
            <a:ext cx="228600" cy="228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0" y="7452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"/>
            <p:cNvSpPr/>
            <p:nvPr/>
          </p:nvSpPr>
          <p:spPr>
            <a:xfrm>
              <a:off x="107640" y="0"/>
              <a:ext cx="24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indagem de Deby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-360360" y="0"/>
            <a:ext cx="4251600" cy="507600"/>
            <a:chOff x="-360360" y="0"/>
            <a:chExt cx="4251600" cy="507600"/>
          </a:xfrm>
        </p:grpSpPr>
        <p:graphicFrame>
          <p:nvGraphicFramePr>
            <p:cNvPr id="965" name=""/>
            <p:cNvGraphicFramePr/>
            <p:nvPr/>
          </p:nvGraphicFramePr>
          <p:xfrm rot="10800000">
            <a:off x="75960" y="380160"/>
            <a:ext cx="3733920" cy="12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75960" y="380160"/>
                      <a:ext cx="373392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7" name=""/>
            <p:cNvSpPr/>
            <p:nvPr/>
          </p:nvSpPr>
          <p:spPr>
            <a:xfrm>
              <a:off x="-360360" y="0"/>
              <a:ext cx="42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os de Produção de Plas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85800" y="609480"/>
            <a:ext cx="7543800" cy="2133360"/>
            <a:chOff x="685800" y="609480"/>
            <a:chExt cx="7543800" cy="2133360"/>
          </a:xfrm>
        </p:grpSpPr>
        <p:sp>
          <p:nvSpPr>
            <p:cNvPr id="969" name=""/>
            <p:cNvSpPr/>
            <p:nvPr/>
          </p:nvSpPr>
          <p:spPr>
            <a:xfrm>
              <a:off x="685800" y="609480"/>
              <a:ext cx="7543800" cy="213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0" name=""/>
            <p:cNvGraphicFramePr/>
            <p:nvPr/>
          </p:nvGraphicFramePr>
          <p:xfrm>
            <a:off x="838080" y="912600"/>
            <a:ext cx="22860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91260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2" name=""/>
            <p:cNvSpPr/>
            <p:nvPr/>
          </p:nvSpPr>
          <p:spPr>
            <a:xfrm>
              <a:off x="990720" y="83808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oto-ionizaçã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11520" y="1599840"/>
              <a:ext cx="18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combin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4" name=""/>
            <p:cNvGraphicFramePr/>
            <p:nvPr/>
          </p:nvGraphicFramePr>
          <p:xfrm>
            <a:off x="838080" y="1369800"/>
            <a:ext cx="22860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136980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6" name=""/>
            <p:cNvSpPr/>
            <p:nvPr/>
          </p:nvSpPr>
          <p:spPr>
            <a:xfrm>
              <a:off x="1012320" y="1295280"/>
              <a:ext cx="237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scargas elétrica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14400" y="1828440"/>
              <a:ext cx="25146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38080" y="1828440"/>
              <a:ext cx="28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o de Ioniz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romp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86200" y="1981080"/>
              <a:ext cx="1447560" cy="380880"/>
            </a:xfrm>
            <a:custGeom>
              <a:avLst/>
              <a:gdLst>
                <a:gd name="textAreaLeft" fmla="*/ 226080 w 1447560"/>
                <a:gd name="textAreaRight" fmla="*/ 1266840 w 144756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90960" y="1828440"/>
              <a:ext cx="20574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15000" y="182844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Grau de Ioniz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imin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-315360" y="2971800"/>
            <a:ext cx="4125240" cy="507600"/>
            <a:chOff x="-315360" y="2971800"/>
            <a:chExt cx="4125240" cy="507600"/>
          </a:xfrm>
        </p:grpSpPr>
        <p:graphicFrame>
          <p:nvGraphicFramePr>
            <p:cNvPr id="983" name=""/>
            <p:cNvGraphicFramePr/>
            <p:nvPr/>
          </p:nvGraphicFramePr>
          <p:xfrm rot="10800000">
            <a:off x="75960" y="3352320"/>
            <a:ext cx="3733920" cy="12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75960" y="3352320"/>
                      <a:ext cx="373392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5" name=""/>
            <p:cNvSpPr/>
            <p:nvPr/>
          </p:nvSpPr>
          <p:spPr>
            <a:xfrm>
              <a:off x="-315360" y="2971800"/>
              <a:ext cx="40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pos de Plasmas-Grau Ioniz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85800" y="3733920"/>
            <a:ext cx="7543800" cy="2590560"/>
            <a:chOff x="685800" y="3733920"/>
            <a:chExt cx="7543800" cy="2590560"/>
          </a:xfrm>
        </p:grpSpPr>
        <p:sp>
          <p:nvSpPr>
            <p:cNvPr id="987" name=""/>
            <p:cNvSpPr/>
            <p:nvPr/>
          </p:nvSpPr>
          <p:spPr>
            <a:xfrm>
              <a:off x="685800" y="3733920"/>
              <a:ext cx="7543800" cy="25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914400" y="3886200"/>
              <a:ext cx="5653440" cy="641880"/>
              <a:chOff x="914400" y="3886200"/>
              <a:chExt cx="5653440" cy="64188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914400" y="3886200"/>
                <a:ext cx="2791440" cy="368280"/>
                <a:chOff x="914400" y="3886200"/>
                <a:chExt cx="2791440" cy="368280"/>
              </a:xfrm>
            </p:grpSpPr>
            <p:graphicFrame>
              <p:nvGraphicFramePr>
                <p:cNvPr id="990" name=""/>
                <p:cNvGraphicFramePr/>
                <p:nvPr/>
              </p:nvGraphicFramePr>
              <p:xfrm>
                <a:off x="914400" y="3960720"/>
                <a:ext cx="228600" cy="22824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991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914400" y="3960720"/>
                          <a:ext cx="228600" cy="228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92" name=""/>
                <p:cNvSpPr/>
                <p:nvPr/>
              </p:nvSpPr>
              <p:spPr>
                <a:xfrm>
                  <a:off x="1045440" y="3886200"/>
                  <a:ext cx="2660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Fracamente ionizados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3" name=""/>
              <p:cNvSpPr/>
              <p:nvPr/>
            </p:nvSpPr>
            <p:spPr>
              <a:xfrm>
                <a:off x="972360" y="4190760"/>
                <a:ext cx="559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Predomina Interação Carga Elétrica-Partícula Neutr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859320" y="4648320"/>
              <a:ext cx="4978080" cy="641880"/>
              <a:chOff x="859320" y="4648320"/>
              <a:chExt cx="4978080" cy="641880"/>
            </a:xfrm>
          </p:grpSpPr>
          <p:graphicFrame>
            <p:nvGraphicFramePr>
              <p:cNvPr id="995" name=""/>
              <p:cNvGraphicFramePr/>
              <p:nvPr/>
            </p:nvGraphicFramePr>
            <p:xfrm>
              <a:off x="914400" y="4722480"/>
              <a:ext cx="228600" cy="228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996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914400" y="4722480"/>
                        <a:ext cx="228600" cy="22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97" name=""/>
              <p:cNvSpPr/>
              <p:nvPr/>
            </p:nvSpPr>
            <p:spPr>
              <a:xfrm>
                <a:off x="1054440" y="4648320"/>
                <a:ext cx="264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temente ionizados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59320" y="4952880"/>
                <a:ext cx="497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pt-BR" sz="1600" spc="-1" strike="noStrike">
                    <a:solidFill>
                      <a:srgbClr val="3333cc"/>
                    </a:solidFill>
                    <a:latin typeface="Comic Sans MS"/>
                  </a:rPr>
                  <a:t>Predomina Interações Coulombianas Múltipl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734040" y="5334120"/>
              <a:ext cx="7435080" cy="718200"/>
              <a:chOff x="734040" y="5334120"/>
              <a:chExt cx="7435080" cy="718200"/>
            </a:xfrm>
          </p:grpSpPr>
          <p:grpSp>
            <p:nvGrpSpPr>
              <p:cNvPr id="1000" name=""/>
              <p:cNvGrpSpPr/>
              <p:nvPr/>
            </p:nvGrpSpPr>
            <p:grpSpPr>
              <a:xfrm>
                <a:off x="914400" y="5334120"/>
                <a:ext cx="2751120" cy="368280"/>
                <a:chOff x="914400" y="5334120"/>
                <a:chExt cx="2751120" cy="368280"/>
              </a:xfrm>
            </p:grpSpPr>
            <p:graphicFrame>
              <p:nvGraphicFramePr>
                <p:cNvPr id="1001" name=""/>
                <p:cNvGraphicFramePr/>
                <p:nvPr/>
              </p:nvGraphicFramePr>
              <p:xfrm>
                <a:off x="914400" y="5408280"/>
                <a:ext cx="228600" cy="22824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1002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914400" y="5408280"/>
                          <a:ext cx="228600" cy="228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003" name=""/>
                <p:cNvSpPr/>
                <p:nvPr/>
              </p:nvSpPr>
              <p:spPr>
                <a:xfrm>
                  <a:off x="1049400" y="5334120"/>
                  <a:ext cx="2616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mente ionizados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"/>
              <p:cNvSpPr/>
              <p:nvPr/>
            </p:nvSpPr>
            <p:spPr>
              <a:xfrm>
                <a:off x="734040" y="5715000"/>
                <a:ext cx="743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pt-BR" sz="1600" spc="-1" strike="noStrike">
                    <a:solidFill>
                      <a:srgbClr val="3333cc"/>
                    </a:solidFill>
                    <a:latin typeface="Comic Sans MS"/>
                  </a:rPr>
                  <a:t>Todas as Partículas Estão Sujeitas a Múltiplas Interações Coulombia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"/>
          <p:cNvGrpSpPr/>
          <p:nvPr/>
        </p:nvGrpSpPr>
        <p:grpSpPr>
          <a:xfrm>
            <a:off x="-260280" y="0"/>
            <a:ext cx="4448160" cy="515520"/>
            <a:chOff x="-260280" y="0"/>
            <a:chExt cx="4448160" cy="515520"/>
          </a:xfrm>
        </p:grpSpPr>
        <p:graphicFrame>
          <p:nvGraphicFramePr>
            <p:cNvPr id="1006" name=""/>
            <p:cNvGraphicFramePr/>
            <p:nvPr/>
          </p:nvGraphicFramePr>
          <p:xfrm rot="10800000">
            <a:off x="152280" y="380160"/>
            <a:ext cx="3962520" cy="13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152280" y="380160"/>
                      <a:ext cx="3962520" cy="1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8" name=""/>
            <p:cNvSpPr/>
            <p:nvPr/>
          </p:nvSpPr>
          <p:spPr>
            <a:xfrm>
              <a:off x="-260280" y="0"/>
              <a:ext cx="44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priedades Exibidas pelos Plas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304920" y="685800"/>
            <a:ext cx="7543800" cy="2590920"/>
            <a:chOff x="304920" y="685800"/>
            <a:chExt cx="7543800" cy="2590920"/>
          </a:xfrm>
        </p:grpSpPr>
        <p:sp>
          <p:nvSpPr>
            <p:cNvPr id="1010" name=""/>
            <p:cNvSpPr/>
            <p:nvPr/>
          </p:nvSpPr>
          <p:spPr>
            <a:xfrm>
              <a:off x="304920" y="685800"/>
              <a:ext cx="7543800" cy="2590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52300" dir="83643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533520" y="838080"/>
              <a:ext cx="2188080" cy="368280"/>
              <a:chOff x="533520" y="838080"/>
              <a:chExt cx="2188080" cy="368280"/>
            </a:xfrm>
          </p:grpSpPr>
          <p:graphicFrame>
            <p:nvGraphicFramePr>
              <p:cNvPr id="1012" name=""/>
              <p:cNvGraphicFramePr/>
              <p:nvPr/>
            </p:nvGraphicFramePr>
            <p:xfrm>
              <a:off x="533520" y="912960"/>
              <a:ext cx="228600" cy="22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1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3520" y="912960"/>
                        <a:ext cx="22860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4" name=""/>
              <p:cNvSpPr/>
              <p:nvPr/>
            </p:nvSpPr>
            <p:spPr>
              <a:xfrm>
                <a:off x="718200" y="838080"/>
                <a:ext cx="200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feitos Coletiv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33520" y="1981080"/>
              <a:ext cx="5551560" cy="825480"/>
              <a:chOff x="533520" y="1981080"/>
              <a:chExt cx="5551560" cy="825480"/>
            </a:xfrm>
          </p:grpSpPr>
          <p:graphicFrame>
            <p:nvGraphicFramePr>
              <p:cNvPr id="1016" name=""/>
              <p:cNvGraphicFramePr/>
              <p:nvPr/>
            </p:nvGraphicFramePr>
            <p:xfrm>
              <a:off x="533520" y="2055600"/>
              <a:ext cx="228600" cy="228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3520" y="2055600"/>
                        <a:ext cx="22860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8" name=""/>
              <p:cNvSpPr/>
              <p:nvPr/>
            </p:nvSpPr>
            <p:spPr>
              <a:xfrm>
                <a:off x="718200" y="1981080"/>
                <a:ext cx="531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nterações Partícula-Partícula e Partícula-Onda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19" name=""/>
              <p:cNvGraphicFramePr/>
              <p:nvPr/>
            </p:nvGraphicFramePr>
            <p:xfrm>
              <a:off x="533520" y="2512800"/>
              <a:ext cx="228600" cy="228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02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33520" y="2512800"/>
                        <a:ext cx="22860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1" name=""/>
              <p:cNvSpPr/>
              <p:nvPr/>
            </p:nvSpPr>
            <p:spPr>
              <a:xfrm>
                <a:off x="652680" y="2438280"/>
                <a:ext cx="543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scilações de Plasma e Ondas de Diversos Tip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524520" y="1219320"/>
              <a:ext cx="7023600" cy="761760"/>
              <a:chOff x="524520" y="1219320"/>
              <a:chExt cx="7023600" cy="761760"/>
            </a:xfrm>
          </p:grpSpPr>
          <p:sp>
            <p:nvSpPr>
              <p:cNvPr id="1023" name=""/>
              <p:cNvSpPr/>
              <p:nvPr/>
            </p:nvSpPr>
            <p:spPr>
              <a:xfrm>
                <a:off x="685800" y="1219320"/>
                <a:ext cx="6858000" cy="761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52300" dir="836435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24520" y="1295280"/>
                <a:ext cx="7023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pt-BR" sz="1600" spc="-1" strike="noStrike">
                    <a:solidFill>
                      <a:srgbClr val="3333cc"/>
                    </a:solidFill>
                    <a:latin typeface="Comic Sans MS"/>
                  </a:rPr>
                  <a:t>Uma partícula interage simultaneamente com diversas outra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Comic Sans MS"/>
                  </a:rPr>
                  <a:t> </a:t>
                </a:r>
                <a:r>
                  <a:rPr b="1" lang="pt-BR" sz="1600" spc="-1" strike="noStrike">
                    <a:solidFill>
                      <a:srgbClr val="3333cc"/>
                    </a:solidFill>
                    <a:latin typeface="Comic Sans MS"/>
                  </a:rPr>
                  <a:t>partículas por meio da </a:t>
                </a:r>
                <a:r>
                  <a:rPr b="1" lang="pt-BR" sz="1600" spc="-1" strike="noStrike">
                    <a:solidFill>
                      <a:srgbClr val="ff3300"/>
                    </a:solidFill>
                    <a:latin typeface="Comic Sans MS"/>
                  </a:rPr>
                  <a:t>força elétrica coulombiana</a:t>
                </a:r>
                <a:r>
                  <a:rPr b="1" lang="pt-BR" sz="1600" spc="-1" strike="noStrike">
                    <a:solidFill>
                      <a:srgbClr val="3333cc"/>
                    </a:solidFill>
                    <a:latin typeface="Comic Sans MS"/>
                  </a:rPr>
                  <a:t> de longo alc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"/>
          <p:cNvGrpSpPr/>
          <p:nvPr/>
        </p:nvGrpSpPr>
        <p:grpSpPr>
          <a:xfrm>
            <a:off x="4267080" y="1236960"/>
            <a:ext cx="4876920" cy="5621040"/>
            <a:chOff x="4267080" y="1236960"/>
            <a:chExt cx="4876920" cy="5621040"/>
          </a:xfrm>
        </p:grpSpPr>
        <p:grpSp>
          <p:nvGrpSpPr>
            <p:cNvPr id="1026" name=""/>
            <p:cNvGrpSpPr/>
            <p:nvPr/>
          </p:nvGrpSpPr>
          <p:grpSpPr>
            <a:xfrm>
              <a:off x="4267080" y="3429000"/>
              <a:ext cx="4876920" cy="3429000"/>
              <a:chOff x="4267080" y="3429000"/>
              <a:chExt cx="4876920" cy="3429000"/>
            </a:xfrm>
          </p:grpSpPr>
          <p:sp>
            <p:nvSpPr>
              <p:cNvPr id="1027" name=""/>
              <p:cNvSpPr/>
              <p:nvPr/>
            </p:nvSpPr>
            <p:spPr>
              <a:xfrm>
                <a:off x="4267080" y="3429000"/>
                <a:ext cx="4876920" cy="3429000"/>
              </a:xfrm>
              <a:prstGeom prst="cloudCallout">
                <a:avLst>
                  <a:gd name="adj1" fmla="val -29652"/>
                  <a:gd name="adj2" fmla="val 16712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8" name=""/>
              <p:cNvGrpSpPr/>
              <p:nvPr/>
            </p:nvGrpSpPr>
            <p:grpSpPr>
              <a:xfrm>
                <a:off x="5105520" y="3657240"/>
                <a:ext cx="3980880" cy="2870280"/>
                <a:chOff x="5105520" y="3657240"/>
                <a:chExt cx="3980880" cy="2870280"/>
              </a:xfrm>
            </p:grpSpPr>
            <p:sp>
              <p:nvSpPr>
                <p:cNvPr id="1029" name=""/>
                <p:cNvSpPr/>
                <p:nvPr/>
              </p:nvSpPr>
              <p:spPr>
                <a:xfrm flipH="1">
                  <a:off x="7275960" y="4396320"/>
                  <a:ext cx="36576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H="1" flipV="1">
                  <a:off x="7367400" y="5491440"/>
                  <a:ext cx="27432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H="1">
                  <a:off x="5354280" y="5767920"/>
                  <a:ext cx="457200" cy="36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818400" y="3937320"/>
                  <a:ext cx="0" cy="54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H="1" flipV="1">
                  <a:off x="5537520" y="3845160"/>
                  <a:ext cx="365760" cy="36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4" name=""/>
                <p:cNvGrpSpPr/>
                <p:nvPr/>
              </p:nvGrpSpPr>
              <p:grpSpPr>
                <a:xfrm>
                  <a:off x="5283720" y="3657240"/>
                  <a:ext cx="2914920" cy="2729520"/>
                  <a:chOff x="5283720" y="3657240"/>
                  <a:chExt cx="2914920" cy="2729520"/>
                </a:xfrm>
              </p:grpSpPr>
              <p:sp>
                <p:nvSpPr>
                  <p:cNvPr id="1035" name=""/>
                  <p:cNvSpPr/>
                  <p:nvPr/>
                </p:nvSpPr>
                <p:spPr>
                  <a:xfrm flipV="1">
                    <a:off x="5823000" y="5068080"/>
                    <a:ext cx="918360" cy="716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984640" y="4283640"/>
                    <a:ext cx="838080" cy="737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283720" y="5022360"/>
                    <a:ext cx="153900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V="1">
                    <a:off x="6822720" y="3657240"/>
                    <a:ext cx="360" cy="136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 flipH="1">
                    <a:off x="6822720" y="5022360"/>
                    <a:ext cx="137592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H="1">
                    <a:off x="6822720" y="4381560"/>
                    <a:ext cx="804240" cy="640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822720" y="5022360"/>
                    <a:ext cx="860400" cy="776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V="1">
                    <a:off x="6822720" y="5022000"/>
                    <a:ext cx="360" cy="136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3" name=""/>
                <p:cNvGrpSpPr/>
                <p:nvPr/>
              </p:nvGrpSpPr>
              <p:grpSpPr>
                <a:xfrm>
                  <a:off x="5105520" y="3657600"/>
                  <a:ext cx="3334680" cy="2869920"/>
                  <a:chOff x="5105520" y="3657600"/>
                  <a:chExt cx="3334680" cy="286992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5278320" y="4870800"/>
                    <a:ext cx="14616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75" h="529">
                        <a:moveTo>
                          <a:pt x="115" y="45"/>
                        </a:moveTo>
                        <a:lnTo>
                          <a:pt x="134" y="26"/>
                        </a:lnTo>
                        <a:lnTo>
                          <a:pt x="158" y="11"/>
                        </a:lnTo>
                        <a:lnTo>
                          <a:pt x="108" y="0"/>
                        </a:lnTo>
                        <a:lnTo>
                          <a:pt x="88" y="19"/>
                        </a:lnTo>
                        <a:lnTo>
                          <a:pt x="66" y="41"/>
                        </a:lnTo>
                        <a:lnTo>
                          <a:pt x="48" y="64"/>
                        </a:lnTo>
                        <a:lnTo>
                          <a:pt x="33" y="88"/>
                        </a:lnTo>
                        <a:lnTo>
                          <a:pt x="22" y="114"/>
                        </a:lnTo>
                        <a:lnTo>
                          <a:pt x="12" y="140"/>
                        </a:lnTo>
                        <a:lnTo>
                          <a:pt x="5" y="169"/>
                        </a:lnTo>
                        <a:lnTo>
                          <a:pt x="1" y="198"/>
                        </a:lnTo>
                        <a:lnTo>
                          <a:pt x="0" y="230"/>
                        </a:lnTo>
                        <a:lnTo>
                          <a:pt x="1" y="259"/>
                        </a:lnTo>
                        <a:lnTo>
                          <a:pt x="5" y="289"/>
                        </a:lnTo>
                        <a:lnTo>
                          <a:pt x="7" y="302"/>
                        </a:lnTo>
                        <a:lnTo>
                          <a:pt x="12" y="317"/>
                        </a:lnTo>
                        <a:lnTo>
                          <a:pt x="22" y="344"/>
                        </a:lnTo>
                        <a:lnTo>
                          <a:pt x="33" y="369"/>
                        </a:lnTo>
                        <a:lnTo>
                          <a:pt x="48" y="394"/>
                        </a:lnTo>
                        <a:lnTo>
                          <a:pt x="56" y="406"/>
                        </a:lnTo>
                        <a:lnTo>
                          <a:pt x="66" y="418"/>
                        </a:lnTo>
                        <a:lnTo>
                          <a:pt x="88" y="442"/>
                        </a:lnTo>
                        <a:lnTo>
                          <a:pt x="109" y="461"/>
                        </a:lnTo>
                        <a:lnTo>
                          <a:pt x="133" y="479"/>
                        </a:lnTo>
                        <a:lnTo>
                          <a:pt x="157" y="494"/>
                        </a:lnTo>
                        <a:lnTo>
                          <a:pt x="183" y="506"/>
                        </a:lnTo>
                        <a:lnTo>
                          <a:pt x="209" y="516"/>
                        </a:lnTo>
                        <a:lnTo>
                          <a:pt x="237" y="523"/>
                        </a:lnTo>
                        <a:lnTo>
                          <a:pt x="267" y="527"/>
                        </a:lnTo>
                        <a:lnTo>
                          <a:pt x="298" y="529"/>
                        </a:lnTo>
                        <a:lnTo>
                          <a:pt x="328" y="527"/>
                        </a:lnTo>
                        <a:lnTo>
                          <a:pt x="357" y="523"/>
                        </a:lnTo>
                        <a:lnTo>
                          <a:pt x="371" y="519"/>
                        </a:lnTo>
                        <a:lnTo>
                          <a:pt x="378" y="517"/>
                        </a:lnTo>
                        <a:lnTo>
                          <a:pt x="379" y="516"/>
                        </a:lnTo>
                        <a:lnTo>
                          <a:pt x="381" y="516"/>
                        </a:lnTo>
                        <a:lnTo>
                          <a:pt x="386" y="516"/>
                        </a:lnTo>
                        <a:lnTo>
                          <a:pt x="413" y="506"/>
                        </a:lnTo>
                        <a:lnTo>
                          <a:pt x="438" y="494"/>
                        </a:lnTo>
                        <a:lnTo>
                          <a:pt x="463" y="479"/>
                        </a:lnTo>
                        <a:lnTo>
                          <a:pt x="474" y="470"/>
                        </a:lnTo>
                        <a:lnTo>
                          <a:pt x="487" y="461"/>
                        </a:lnTo>
                        <a:lnTo>
                          <a:pt x="498" y="451"/>
                        </a:lnTo>
                        <a:lnTo>
                          <a:pt x="510" y="442"/>
                        </a:lnTo>
                        <a:lnTo>
                          <a:pt x="530" y="419"/>
                        </a:lnTo>
                        <a:lnTo>
                          <a:pt x="548" y="397"/>
                        </a:lnTo>
                        <a:lnTo>
                          <a:pt x="563" y="372"/>
                        </a:lnTo>
                        <a:lnTo>
                          <a:pt x="575" y="347"/>
                        </a:lnTo>
                        <a:lnTo>
                          <a:pt x="563" y="324"/>
                        </a:lnTo>
                        <a:lnTo>
                          <a:pt x="550" y="304"/>
                        </a:lnTo>
                        <a:lnTo>
                          <a:pt x="539" y="333"/>
                        </a:lnTo>
                        <a:lnTo>
                          <a:pt x="531" y="347"/>
                        </a:lnTo>
                        <a:lnTo>
                          <a:pt x="524" y="361"/>
                        </a:lnTo>
                        <a:lnTo>
                          <a:pt x="506" y="389"/>
                        </a:lnTo>
                        <a:lnTo>
                          <a:pt x="495" y="401"/>
                        </a:lnTo>
                        <a:lnTo>
                          <a:pt x="483" y="415"/>
                        </a:lnTo>
                        <a:lnTo>
                          <a:pt x="463" y="432"/>
                        </a:lnTo>
                        <a:lnTo>
                          <a:pt x="442" y="448"/>
                        </a:lnTo>
                        <a:lnTo>
                          <a:pt x="420" y="460"/>
                        </a:lnTo>
                        <a:lnTo>
                          <a:pt x="408" y="466"/>
                        </a:lnTo>
                        <a:lnTo>
                          <a:pt x="398" y="472"/>
                        </a:lnTo>
                        <a:lnTo>
                          <a:pt x="391" y="474"/>
                        </a:lnTo>
                        <a:lnTo>
                          <a:pt x="386" y="476"/>
                        </a:lnTo>
                        <a:lnTo>
                          <a:pt x="374" y="480"/>
                        </a:lnTo>
                        <a:lnTo>
                          <a:pt x="362" y="483"/>
                        </a:lnTo>
                        <a:lnTo>
                          <a:pt x="351" y="486"/>
                        </a:lnTo>
                        <a:lnTo>
                          <a:pt x="337" y="487"/>
                        </a:lnTo>
                        <a:lnTo>
                          <a:pt x="325" y="489"/>
                        </a:lnTo>
                        <a:lnTo>
                          <a:pt x="311" y="491"/>
                        </a:lnTo>
                        <a:lnTo>
                          <a:pt x="304" y="491"/>
                        </a:lnTo>
                        <a:lnTo>
                          <a:pt x="301" y="491"/>
                        </a:lnTo>
                        <a:lnTo>
                          <a:pt x="298" y="492"/>
                        </a:lnTo>
                        <a:lnTo>
                          <a:pt x="271" y="489"/>
                        </a:lnTo>
                        <a:lnTo>
                          <a:pt x="245" y="486"/>
                        </a:lnTo>
                        <a:lnTo>
                          <a:pt x="220" y="480"/>
                        </a:lnTo>
                        <a:lnTo>
                          <a:pt x="198" y="472"/>
                        </a:lnTo>
                        <a:lnTo>
                          <a:pt x="175" y="460"/>
                        </a:lnTo>
                        <a:lnTo>
                          <a:pt x="153" y="448"/>
                        </a:lnTo>
                        <a:lnTo>
                          <a:pt x="133" y="432"/>
                        </a:lnTo>
                        <a:lnTo>
                          <a:pt x="115" y="415"/>
                        </a:lnTo>
                        <a:lnTo>
                          <a:pt x="95" y="394"/>
                        </a:lnTo>
                        <a:lnTo>
                          <a:pt x="81" y="374"/>
                        </a:lnTo>
                        <a:lnTo>
                          <a:pt x="67" y="351"/>
                        </a:lnTo>
                        <a:lnTo>
                          <a:pt x="57" y="330"/>
                        </a:lnTo>
                        <a:lnTo>
                          <a:pt x="51" y="317"/>
                        </a:lnTo>
                        <a:lnTo>
                          <a:pt x="48" y="306"/>
                        </a:lnTo>
                        <a:lnTo>
                          <a:pt x="42" y="282"/>
                        </a:lnTo>
                        <a:lnTo>
                          <a:pt x="39" y="256"/>
                        </a:lnTo>
                        <a:lnTo>
                          <a:pt x="38" y="230"/>
                        </a:lnTo>
                        <a:lnTo>
                          <a:pt x="39" y="203"/>
                        </a:lnTo>
                        <a:lnTo>
                          <a:pt x="42" y="177"/>
                        </a:lnTo>
                        <a:lnTo>
                          <a:pt x="48" y="152"/>
                        </a:lnTo>
                        <a:lnTo>
                          <a:pt x="57" y="129"/>
                        </a:lnTo>
                        <a:lnTo>
                          <a:pt x="67" y="106"/>
                        </a:lnTo>
                        <a:lnTo>
                          <a:pt x="81" y="85"/>
                        </a:lnTo>
                        <a:lnTo>
                          <a:pt x="95" y="64"/>
                        </a:lnTo>
                        <a:lnTo>
                          <a:pt x="115" y="45"/>
                        </a:lnTo>
                        <a:close/>
                      </a:path>
                    </a:pathLst>
                  </a:custGeom>
                  <a:solidFill>
                    <a:srgbClr val="00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5288040" y="4874040"/>
                    <a:ext cx="12996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481">
                        <a:moveTo>
                          <a:pt x="120" y="0"/>
                        </a:moveTo>
                        <a:lnTo>
                          <a:pt x="96" y="15"/>
                        </a:lnTo>
                        <a:lnTo>
                          <a:pt x="77" y="34"/>
                        </a:lnTo>
                        <a:lnTo>
                          <a:pt x="57" y="53"/>
                        </a:lnTo>
                        <a:lnTo>
                          <a:pt x="43" y="74"/>
                        </a:lnTo>
                        <a:lnTo>
                          <a:pt x="29" y="95"/>
                        </a:lnTo>
                        <a:lnTo>
                          <a:pt x="19" y="118"/>
                        </a:lnTo>
                        <a:lnTo>
                          <a:pt x="10" y="141"/>
                        </a:lnTo>
                        <a:lnTo>
                          <a:pt x="4" y="166"/>
                        </a:lnTo>
                        <a:lnTo>
                          <a:pt x="1" y="192"/>
                        </a:lnTo>
                        <a:lnTo>
                          <a:pt x="0" y="219"/>
                        </a:lnTo>
                        <a:lnTo>
                          <a:pt x="1" y="245"/>
                        </a:lnTo>
                        <a:lnTo>
                          <a:pt x="4" y="271"/>
                        </a:lnTo>
                        <a:lnTo>
                          <a:pt x="10" y="295"/>
                        </a:lnTo>
                        <a:lnTo>
                          <a:pt x="13" y="306"/>
                        </a:lnTo>
                        <a:lnTo>
                          <a:pt x="19" y="319"/>
                        </a:lnTo>
                        <a:lnTo>
                          <a:pt x="29" y="340"/>
                        </a:lnTo>
                        <a:lnTo>
                          <a:pt x="43" y="363"/>
                        </a:lnTo>
                        <a:lnTo>
                          <a:pt x="57" y="383"/>
                        </a:lnTo>
                        <a:lnTo>
                          <a:pt x="77" y="404"/>
                        </a:lnTo>
                        <a:lnTo>
                          <a:pt x="95" y="421"/>
                        </a:lnTo>
                        <a:lnTo>
                          <a:pt x="115" y="437"/>
                        </a:lnTo>
                        <a:lnTo>
                          <a:pt x="137" y="449"/>
                        </a:lnTo>
                        <a:lnTo>
                          <a:pt x="160" y="461"/>
                        </a:lnTo>
                        <a:lnTo>
                          <a:pt x="182" y="469"/>
                        </a:lnTo>
                        <a:lnTo>
                          <a:pt x="207" y="475"/>
                        </a:lnTo>
                        <a:lnTo>
                          <a:pt x="233" y="478"/>
                        </a:lnTo>
                        <a:lnTo>
                          <a:pt x="260" y="481"/>
                        </a:lnTo>
                        <a:lnTo>
                          <a:pt x="263" y="480"/>
                        </a:lnTo>
                        <a:lnTo>
                          <a:pt x="266" y="480"/>
                        </a:lnTo>
                        <a:lnTo>
                          <a:pt x="273" y="480"/>
                        </a:lnTo>
                        <a:lnTo>
                          <a:pt x="287" y="478"/>
                        </a:lnTo>
                        <a:lnTo>
                          <a:pt x="299" y="476"/>
                        </a:lnTo>
                        <a:lnTo>
                          <a:pt x="313" y="475"/>
                        </a:lnTo>
                        <a:lnTo>
                          <a:pt x="324" y="472"/>
                        </a:lnTo>
                        <a:lnTo>
                          <a:pt x="336" y="469"/>
                        </a:lnTo>
                        <a:lnTo>
                          <a:pt x="348" y="465"/>
                        </a:lnTo>
                        <a:lnTo>
                          <a:pt x="353" y="463"/>
                        </a:lnTo>
                        <a:lnTo>
                          <a:pt x="360" y="461"/>
                        </a:lnTo>
                        <a:lnTo>
                          <a:pt x="370" y="455"/>
                        </a:lnTo>
                        <a:lnTo>
                          <a:pt x="382" y="449"/>
                        </a:lnTo>
                        <a:lnTo>
                          <a:pt x="404" y="437"/>
                        </a:lnTo>
                        <a:lnTo>
                          <a:pt x="425" y="421"/>
                        </a:lnTo>
                        <a:lnTo>
                          <a:pt x="445" y="404"/>
                        </a:lnTo>
                        <a:lnTo>
                          <a:pt x="457" y="390"/>
                        </a:lnTo>
                        <a:lnTo>
                          <a:pt x="468" y="378"/>
                        </a:lnTo>
                        <a:lnTo>
                          <a:pt x="486" y="350"/>
                        </a:lnTo>
                        <a:lnTo>
                          <a:pt x="493" y="336"/>
                        </a:lnTo>
                        <a:lnTo>
                          <a:pt x="501" y="322"/>
                        </a:lnTo>
                        <a:lnTo>
                          <a:pt x="512" y="293"/>
                        </a:lnTo>
                        <a:lnTo>
                          <a:pt x="484" y="249"/>
                        </a:lnTo>
                        <a:lnTo>
                          <a:pt x="482" y="257"/>
                        </a:lnTo>
                        <a:lnTo>
                          <a:pt x="480" y="266"/>
                        </a:lnTo>
                        <a:lnTo>
                          <a:pt x="476" y="285"/>
                        </a:lnTo>
                        <a:lnTo>
                          <a:pt x="469" y="300"/>
                        </a:lnTo>
                        <a:lnTo>
                          <a:pt x="462" y="318"/>
                        </a:lnTo>
                        <a:lnTo>
                          <a:pt x="453" y="332"/>
                        </a:lnTo>
                        <a:lnTo>
                          <a:pt x="443" y="348"/>
                        </a:lnTo>
                        <a:lnTo>
                          <a:pt x="432" y="363"/>
                        </a:lnTo>
                        <a:lnTo>
                          <a:pt x="425" y="370"/>
                        </a:lnTo>
                        <a:lnTo>
                          <a:pt x="423" y="371"/>
                        </a:lnTo>
                        <a:lnTo>
                          <a:pt x="421" y="373"/>
                        </a:lnTo>
                        <a:lnTo>
                          <a:pt x="419" y="378"/>
                        </a:lnTo>
                        <a:lnTo>
                          <a:pt x="401" y="392"/>
                        </a:lnTo>
                        <a:lnTo>
                          <a:pt x="384" y="406"/>
                        </a:lnTo>
                        <a:lnTo>
                          <a:pt x="374" y="410"/>
                        </a:lnTo>
                        <a:lnTo>
                          <a:pt x="365" y="416"/>
                        </a:lnTo>
                        <a:lnTo>
                          <a:pt x="347" y="426"/>
                        </a:lnTo>
                        <a:lnTo>
                          <a:pt x="325" y="433"/>
                        </a:lnTo>
                        <a:lnTo>
                          <a:pt x="305" y="439"/>
                        </a:lnTo>
                        <a:lnTo>
                          <a:pt x="282" y="442"/>
                        </a:lnTo>
                        <a:lnTo>
                          <a:pt x="271" y="442"/>
                        </a:lnTo>
                        <a:lnTo>
                          <a:pt x="265" y="442"/>
                        </a:lnTo>
                        <a:lnTo>
                          <a:pt x="260" y="443"/>
                        </a:lnTo>
                        <a:lnTo>
                          <a:pt x="237" y="442"/>
                        </a:lnTo>
                        <a:lnTo>
                          <a:pt x="215" y="439"/>
                        </a:lnTo>
                        <a:lnTo>
                          <a:pt x="194" y="433"/>
                        </a:lnTo>
                        <a:lnTo>
                          <a:pt x="174" y="426"/>
                        </a:lnTo>
                        <a:lnTo>
                          <a:pt x="155" y="416"/>
                        </a:lnTo>
                        <a:lnTo>
                          <a:pt x="137" y="406"/>
                        </a:lnTo>
                        <a:lnTo>
                          <a:pt x="119" y="392"/>
                        </a:lnTo>
                        <a:lnTo>
                          <a:pt x="103" y="378"/>
                        </a:lnTo>
                        <a:lnTo>
                          <a:pt x="86" y="359"/>
                        </a:lnTo>
                        <a:lnTo>
                          <a:pt x="73" y="342"/>
                        </a:lnTo>
                        <a:lnTo>
                          <a:pt x="61" y="323"/>
                        </a:lnTo>
                        <a:lnTo>
                          <a:pt x="53" y="305"/>
                        </a:lnTo>
                        <a:lnTo>
                          <a:pt x="45" y="283"/>
                        </a:lnTo>
                        <a:lnTo>
                          <a:pt x="40" y="263"/>
                        </a:lnTo>
                        <a:lnTo>
                          <a:pt x="37" y="240"/>
                        </a:lnTo>
                        <a:lnTo>
                          <a:pt x="37" y="219"/>
                        </a:lnTo>
                        <a:lnTo>
                          <a:pt x="37" y="195"/>
                        </a:lnTo>
                        <a:lnTo>
                          <a:pt x="40" y="174"/>
                        </a:lnTo>
                        <a:lnTo>
                          <a:pt x="45" y="152"/>
                        </a:lnTo>
                        <a:lnTo>
                          <a:pt x="53" y="133"/>
                        </a:lnTo>
                        <a:lnTo>
                          <a:pt x="61" y="112"/>
                        </a:lnTo>
                        <a:lnTo>
                          <a:pt x="73" y="94"/>
                        </a:lnTo>
                        <a:lnTo>
                          <a:pt x="86" y="77"/>
                        </a:lnTo>
                        <a:lnTo>
                          <a:pt x="103" y="61"/>
                        </a:lnTo>
                        <a:lnTo>
                          <a:pt x="118" y="47"/>
                        </a:lnTo>
                        <a:lnTo>
                          <a:pt x="133" y="34"/>
                        </a:lnTo>
                        <a:lnTo>
                          <a:pt x="169" y="15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00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5268600" y="4869360"/>
                    <a:ext cx="16092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574">
                        <a:moveTo>
                          <a:pt x="125" y="26"/>
                        </a:moveTo>
                        <a:lnTo>
                          <a:pt x="145" y="7"/>
                        </a:lnTo>
                        <a:lnTo>
                          <a:pt x="97" y="0"/>
                        </a:lnTo>
                        <a:lnTo>
                          <a:pt x="73" y="24"/>
                        </a:lnTo>
                        <a:lnTo>
                          <a:pt x="54" y="51"/>
                        </a:lnTo>
                        <a:lnTo>
                          <a:pt x="37" y="78"/>
                        </a:lnTo>
                        <a:lnTo>
                          <a:pt x="24" y="108"/>
                        </a:lnTo>
                        <a:lnTo>
                          <a:pt x="12" y="137"/>
                        </a:lnTo>
                        <a:lnTo>
                          <a:pt x="5" y="169"/>
                        </a:lnTo>
                        <a:lnTo>
                          <a:pt x="1" y="202"/>
                        </a:lnTo>
                        <a:lnTo>
                          <a:pt x="0" y="237"/>
                        </a:lnTo>
                        <a:lnTo>
                          <a:pt x="1" y="270"/>
                        </a:lnTo>
                        <a:lnTo>
                          <a:pt x="2" y="286"/>
                        </a:lnTo>
                        <a:lnTo>
                          <a:pt x="5" y="303"/>
                        </a:lnTo>
                        <a:lnTo>
                          <a:pt x="12" y="334"/>
                        </a:lnTo>
                        <a:lnTo>
                          <a:pt x="17" y="349"/>
                        </a:lnTo>
                        <a:lnTo>
                          <a:pt x="24" y="365"/>
                        </a:lnTo>
                        <a:lnTo>
                          <a:pt x="29" y="379"/>
                        </a:lnTo>
                        <a:lnTo>
                          <a:pt x="37" y="393"/>
                        </a:lnTo>
                        <a:lnTo>
                          <a:pt x="54" y="422"/>
                        </a:lnTo>
                        <a:lnTo>
                          <a:pt x="75" y="449"/>
                        </a:lnTo>
                        <a:lnTo>
                          <a:pt x="98" y="475"/>
                        </a:lnTo>
                        <a:lnTo>
                          <a:pt x="122" y="496"/>
                        </a:lnTo>
                        <a:lnTo>
                          <a:pt x="149" y="517"/>
                        </a:lnTo>
                        <a:lnTo>
                          <a:pt x="177" y="534"/>
                        </a:lnTo>
                        <a:lnTo>
                          <a:pt x="206" y="549"/>
                        </a:lnTo>
                        <a:lnTo>
                          <a:pt x="236" y="559"/>
                        </a:lnTo>
                        <a:lnTo>
                          <a:pt x="267" y="567"/>
                        </a:lnTo>
                        <a:lnTo>
                          <a:pt x="300" y="571"/>
                        </a:lnTo>
                        <a:lnTo>
                          <a:pt x="335" y="574"/>
                        </a:lnTo>
                        <a:lnTo>
                          <a:pt x="351" y="572"/>
                        </a:lnTo>
                        <a:lnTo>
                          <a:pt x="352" y="571"/>
                        </a:lnTo>
                        <a:lnTo>
                          <a:pt x="355" y="571"/>
                        </a:lnTo>
                        <a:lnTo>
                          <a:pt x="359" y="571"/>
                        </a:lnTo>
                        <a:lnTo>
                          <a:pt x="368" y="571"/>
                        </a:lnTo>
                        <a:lnTo>
                          <a:pt x="384" y="569"/>
                        </a:lnTo>
                        <a:lnTo>
                          <a:pt x="401" y="567"/>
                        </a:lnTo>
                        <a:lnTo>
                          <a:pt x="433" y="559"/>
                        </a:lnTo>
                        <a:lnTo>
                          <a:pt x="440" y="555"/>
                        </a:lnTo>
                        <a:lnTo>
                          <a:pt x="448" y="553"/>
                        </a:lnTo>
                        <a:lnTo>
                          <a:pt x="464" y="549"/>
                        </a:lnTo>
                        <a:lnTo>
                          <a:pt x="477" y="541"/>
                        </a:lnTo>
                        <a:lnTo>
                          <a:pt x="492" y="534"/>
                        </a:lnTo>
                        <a:lnTo>
                          <a:pt x="506" y="525"/>
                        </a:lnTo>
                        <a:lnTo>
                          <a:pt x="512" y="520"/>
                        </a:lnTo>
                        <a:lnTo>
                          <a:pt x="516" y="518"/>
                        </a:lnTo>
                        <a:lnTo>
                          <a:pt x="520" y="517"/>
                        </a:lnTo>
                        <a:lnTo>
                          <a:pt x="547" y="496"/>
                        </a:lnTo>
                        <a:lnTo>
                          <a:pt x="560" y="485"/>
                        </a:lnTo>
                        <a:lnTo>
                          <a:pt x="574" y="475"/>
                        </a:lnTo>
                        <a:lnTo>
                          <a:pt x="574" y="473"/>
                        </a:lnTo>
                        <a:lnTo>
                          <a:pt x="574" y="472"/>
                        </a:lnTo>
                        <a:lnTo>
                          <a:pt x="575" y="472"/>
                        </a:lnTo>
                        <a:lnTo>
                          <a:pt x="577" y="469"/>
                        </a:lnTo>
                        <a:lnTo>
                          <a:pt x="582" y="465"/>
                        </a:lnTo>
                        <a:lnTo>
                          <a:pt x="591" y="456"/>
                        </a:lnTo>
                        <a:lnTo>
                          <a:pt x="606" y="436"/>
                        </a:lnTo>
                        <a:lnTo>
                          <a:pt x="621" y="416"/>
                        </a:lnTo>
                        <a:lnTo>
                          <a:pt x="623" y="410"/>
                        </a:lnTo>
                        <a:lnTo>
                          <a:pt x="627" y="406"/>
                        </a:lnTo>
                        <a:lnTo>
                          <a:pt x="634" y="397"/>
                        </a:lnTo>
                        <a:lnTo>
                          <a:pt x="622" y="374"/>
                        </a:lnTo>
                        <a:lnTo>
                          <a:pt x="612" y="354"/>
                        </a:lnTo>
                        <a:lnTo>
                          <a:pt x="600" y="379"/>
                        </a:lnTo>
                        <a:lnTo>
                          <a:pt x="585" y="404"/>
                        </a:lnTo>
                        <a:lnTo>
                          <a:pt x="567" y="426"/>
                        </a:lnTo>
                        <a:lnTo>
                          <a:pt x="547" y="449"/>
                        </a:lnTo>
                        <a:lnTo>
                          <a:pt x="535" y="458"/>
                        </a:lnTo>
                        <a:lnTo>
                          <a:pt x="524" y="468"/>
                        </a:lnTo>
                        <a:lnTo>
                          <a:pt x="511" y="477"/>
                        </a:lnTo>
                        <a:lnTo>
                          <a:pt x="500" y="486"/>
                        </a:lnTo>
                        <a:lnTo>
                          <a:pt x="475" y="501"/>
                        </a:lnTo>
                        <a:lnTo>
                          <a:pt x="450" y="513"/>
                        </a:lnTo>
                        <a:lnTo>
                          <a:pt x="423" y="523"/>
                        </a:lnTo>
                        <a:lnTo>
                          <a:pt x="418" y="523"/>
                        </a:lnTo>
                        <a:lnTo>
                          <a:pt x="416" y="523"/>
                        </a:lnTo>
                        <a:lnTo>
                          <a:pt x="415" y="524"/>
                        </a:lnTo>
                        <a:lnTo>
                          <a:pt x="408" y="526"/>
                        </a:lnTo>
                        <a:lnTo>
                          <a:pt x="394" y="530"/>
                        </a:lnTo>
                        <a:lnTo>
                          <a:pt x="365" y="534"/>
                        </a:lnTo>
                        <a:lnTo>
                          <a:pt x="335" y="536"/>
                        </a:lnTo>
                        <a:lnTo>
                          <a:pt x="304" y="534"/>
                        </a:lnTo>
                        <a:lnTo>
                          <a:pt x="274" y="530"/>
                        </a:lnTo>
                        <a:lnTo>
                          <a:pt x="246" y="523"/>
                        </a:lnTo>
                        <a:lnTo>
                          <a:pt x="220" y="513"/>
                        </a:lnTo>
                        <a:lnTo>
                          <a:pt x="194" y="501"/>
                        </a:lnTo>
                        <a:lnTo>
                          <a:pt x="170" y="486"/>
                        </a:lnTo>
                        <a:lnTo>
                          <a:pt x="146" y="468"/>
                        </a:lnTo>
                        <a:lnTo>
                          <a:pt x="125" y="449"/>
                        </a:lnTo>
                        <a:lnTo>
                          <a:pt x="103" y="425"/>
                        </a:lnTo>
                        <a:lnTo>
                          <a:pt x="93" y="413"/>
                        </a:lnTo>
                        <a:lnTo>
                          <a:pt x="85" y="401"/>
                        </a:lnTo>
                        <a:lnTo>
                          <a:pt x="70" y="376"/>
                        </a:lnTo>
                        <a:lnTo>
                          <a:pt x="59" y="351"/>
                        </a:lnTo>
                        <a:lnTo>
                          <a:pt x="49" y="324"/>
                        </a:lnTo>
                        <a:lnTo>
                          <a:pt x="44" y="309"/>
                        </a:lnTo>
                        <a:lnTo>
                          <a:pt x="42" y="296"/>
                        </a:lnTo>
                        <a:lnTo>
                          <a:pt x="38" y="266"/>
                        </a:lnTo>
                        <a:lnTo>
                          <a:pt x="37" y="237"/>
                        </a:lnTo>
                        <a:lnTo>
                          <a:pt x="38" y="205"/>
                        </a:lnTo>
                        <a:lnTo>
                          <a:pt x="42" y="176"/>
                        </a:lnTo>
                        <a:lnTo>
                          <a:pt x="49" y="147"/>
                        </a:lnTo>
                        <a:lnTo>
                          <a:pt x="59" y="121"/>
                        </a:lnTo>
                        <a:lnTo>
                          <a:pt x="70" y="95"/>
                        </a:lnTo>
                        <a:lnTo>
                          <a:pt x="85" y="71"/>
                        </a:lnTo>
                        <a:lnTo>
                          <a:pt x="103" y="48"/>
                        </a:lnTo>
                        <a:lnTo>
                          <a:pt x="125" y="26"/>
                        </a:lnTo>
                        <a:close/>
                      </a:path>
                    </a:pathLst>
                  </a:custGeom>
                  <a:solidFill>
                    <a:srgbClr val="00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5249880" y="4868280"/>
                    <a:ext cx="18792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651">
                        <a:moveTo>
                          <a:pt x="96" y="0"/>
                        </a:moveTo>
                        <a:lnTo>
                          <a:pt x="77" y="0"/>
                        </a:lnTo>
                        <a:lnTo>
                          <a:pt x="58" y="26"/>
                        </a:lnTo>
                        <a:lnTo>
                          <a:pt x="43" y="53"/>
                        </a:lnTo>
                        <a:lnTo>
                          <a:pt x="29" y="81"/>
                        </a:lnTo>
                        <a:lnTo>
                          <a:pt x="19" y="112"/>
                        </a:lnTo>
                        <a:lnTo>
                          <a:pt x="10" y="141"/>
                        </a:lnTo>
                        <a:lnTo>
                          <a:pt x="4" y="173"/>
                        </a:lnTo>
                        <a:lnTo>
                          <a:pt x="1" y="206"/>
                        </a:lnTo>
                        <a:lnTo>
                          <a:pt x="0" y="240"/>
                        </a:lnTo>
                        <a:lnTo>
                          <a:pt x="1" y="281"/>
                        </a:lnTo>
                        <a:lnTo>
                          <a:pt x="7" y="321"/>
                        </a:lnTo>
                        <a:lnTo>
                          <a:pt x="16" y="360"/>
                        </a:lnTo>
                        <a:lnTo>
                          <a:pt x="21" y="378"/>
                        </a:lnTo>
                        <a:lnTo>
                          <a:pt x="29" y="397"/>
                        </a:lnTo>
                        <a:lnTo>
                          <a:pt x="36" y="414"/>
                        </a:lnTo>
                        <a:lnTo>
                          <a:pt x="45" y="433"/>
                        </a:lnTo>
                        <a:lnTo>
                          <a:pt x="67" y="467"/>
                        </a:lnTo>
                        <a:lnTo>
                          <a:pt x="91" y="499"/>
                        </a:lnTo>
                        <a:lnTo>
                          <a:pt x="120" y="531"/>
                        </a:lnTo>
                        <a:lnTo>
                          <a:pt x="150" y="558"/>
                        </a:lnTo>
                        <a:lnTo>
                          <a:pt x="183" y="583"/>
                        </a:lnTo>
                        <a:lnTo>
                          <a:pt x="217" y="604"/>
                        </a:lnTo>
                        <a:lnTo>
                          <a:pt x="253" y="621"/>
                        </a:lnTo>
                        <a:lnTo>
                          <a:pt x="289" y="633"/>
                        </a:lnTo>
                        <a:lnTo>
                          <a:pt x="328" y="643"/>
                        </a:lnTo>
                        <a:lnTo>
                          <a:pt x="367" y="649"/>
                        </a:lnTo>
                        <a:lnTo>
                          <a:pt x="410" y="651"/>
                        </a:lnTo>
                        <a:lnTo>
                          <a:pt x="451" y="649"/>
                        </a:lnTo>
                        <a:lnTo>
                          <a:pt x="492" y="643"/>
                        </a:lnTo>
                        <a:lnTo>
                          <a:pt x="531" y="633"/>
                        </a:lnTo>
                        <a:lnTo>
                          <a:pt x="549" y="626"/>
                        </a:lnTo>
                        <a:lnTo>
                          <a:pt x="558" y="623"/>
                        </a:lnTo>
                        <a:lnTo>
                          <a:pt x="568" y="621"/>
                        </a:lnTo>
                        <a:lnTo>
                          <a:pt x="585" y="612"/>
                        </a:lnTo>
                        <a:lnTo>
                          <a:pt x="603" y="604"/>
                        </a:lnTo>
                        <a:lnTo>
                          <a:pt x="637" y="583"/>
                        </a:lnTo>
                        <a:lnTo>
                          <a:pt x="653" y="571"/>
                        </a:lnTo>
                        <a:lnTo>
                          <a:pt x="661" y="564"/>
                        </a:lnTo>
                        <a:lnTo>
                          <a:pt x="670" y="558"/>
                        </a:lnTo>
                        <a:lnTo>
                          <a:pt x="702" y="531"/>
                        </a:lnTo>
                        <a:lnTo>
                          <a:pt x="711" y="520"/>
                        </a:lnTo>
                        <a:lnTo>
                          <a:pt x="715" y="514"/>
                        </a:lnTo>
                        <a:lnTo>
                          <a:pt x="721" y="510"/>
                        </a:lnTo>
                        <a:lnTo>
                          <a:pt x="739" y="489"/>
                        </a:lnTo>
                        <a:lnTo>
                          <a:pt x="726" y="443"/>
                        </a:lnTo>
                        <a:lnTo>
                          <a:pt x="719" y="450"/>
                        </a:lnTo>
                        <a:lnTo>
                          <a:pt x="717" y="451"/>
                        </a:lnTo>
                        <a:lnTo>
                          <a:pt x="715" y="453"/>
                        </a:lnTo>
                        <a:lnTo>
                          <a:pt x="713" y="458"/>
                        </a:lnTo>
                        <a:lnTo>
                          <a:pt x="702" y="473"/>
                        </a:lnTo>
                        <a:lnTo>
                          <a:pt x="688" y="488"/>
                        </a:lnTo>
                        <a:lnTo>
                          <a:pt x="675" y="504"/>
                        </a:lnTo>
                        <a:lnTo>
                          <a:pt x="670" y="506"/>
                        </a:lnTo>
                        <a:lnTo>
                          <a:pt x="668" y="507"/>
                        </a:lnTo>
                        <a:lnTo>
                          <a:pt x="667" y="510"/>
                        </a:lnTo>
                        <a:lnTo>
                          <a:pt x="660" y="516"/>
                        </a:lnTo>
                        <a:lnTo>
                          <a:pt x="646" y="529"/>
                        </a:lnTo>
                        <a:lnTo>
                          <a:pt x="617" y="552"/>
                        </a:lnTo>
                        <a:lnTo>
                          <a:pt x="585" y="570"/>
                        </a:lnTo>
                        <a:lnTo>
                          <a:pt x="553" y="586"/>
                        </a:lnTo>
                        <a:lnTo>
                          <a:pt x="519" y="597"/>
                        </a:lnTo>
                        <a:lnTo>
                          <a:pt x="501" y="601"/>
                        </a:lnTo>
                        <a:lnTo>
                          <a:pt x="484" y="606"/>
                        </a:lnTo>
                        <a:lnTo>
                          <a:pt x="448" y="612"/>
                        </a:lnTo>
                        <a:lnTo>
                          <a:pt x="438" y="612"/>
                        </a:lnTo>
                        <a:lnTo>
                          <a:pt x="429" y="613"/>
                        </a:lnTo>
                        <a:lnTo>
                          <a:pt x="410" y="614"/>
                        </a:lnTo>
                        <a:lnTo>
                          <a:pt x="372" y="612"/>
                        </a:lnTo>
                        <a:lnTo>
                          <a:pt x="336" y="606"/>
                        </a:lnTo>
                        <a:lnTo>
                          <a:pt x="300" y="597"/>
                        </a:lnTo>
                        <a:lnTo>
                          <a:pt x="268" y="586"/>
                        </a:lnTo>
                        <a:lnTo>
                          <a:pt x="235" y="570"/>
                        </a:lnTo>
                        <a:lnTo>
                          <a:pt x="204" y="552"/>
                        </a:lnTo>
                        <a:lnTo>
                          <a:pt x="175" y="529"/>
                        </a:lnTo>
                        <a:lnTo>
                          <a:pt x="147" y="504"/>
                        </a:lnTo>
                        <a:lnTo>
                          <a:pt x="133" y="489"/>
                        </a:lnTo>
                        <a:lnTo>
                          <a:pt x="120" y="476"/>
                        </a:lnTo>
                        <a:lnTo>
                          <a:pt x="99" y="446"/>
                        </a:lnTo>
                        <a:lnTo>
                          <a:pt x="79" y="414"/>
                        </a:lnTo>
                        <a:lnTo>
                          <a:pt x="65" y="383"/>
                        </a:lnTo>
                        <a:lnTo>
                          <a:pt x="52" y="349"/>
                        </a:lnTo>
                        <a:lnTo>
                          <a:pt x="44" y="314"/>
                        </a:lnTo>
                        <a:lnTo>
                          <a:pt x="38" y="277"/>
                        </a:lnTo>
                        <a:lnTo>
                          <a:pt x="37" y="240"/>
                        </a:lnTo>
                        <a:lnTo>
                          <a:pt x="38" y="205"/>
                        </a:lnTo>
                        <a:lnTo>
                          <a:pt x="42" y="172"/>
                        </a:lnTo>
                        <a:lnTo>
                          <a:pt x="49" y="140"/>
                        </a:lnTo>
                        <a:lnTo>
                          <a:pt x="59" y="111"/>
                        </a:lnTo>
                        <a:lnTo>
                          <a:pt x="70" y="80"/>
                        </a:lnTo>
                        <a:lnTo>
                          <a:pt x="85" y="52"/>
                        </a:lnTo>
                        <a:lnTo>
                          <a:pt x="103" y="25"/>
                        </a:lnTo>
                        <a:lnTo>
                          <a:pt x="125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00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9600" y="4868280"/>
                    <a:ext cx="17460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614">
                        <a:moveTo>
                          <a:pt x="135" y="3"/>
                        </a:moveTo>
                        <a:lnTo>
                          <a:pt x="88" y="0"/>
                        </a:lnTo>
                        <a:lnTo>
                          <a:pt x="66" y="25"/>
                        </a:lnTo>
                        <a:lnTo>
                          <a:pt x="48" y="52"/>
                        </a:lnTo>
                        <a:lnTo>
                          <a:pt x="33" y="80"/>
                        </a:lnTo>
                        <a:lnTo>
                          <a:pt x="22" y="111"/>
                        </a:lnTo>
                        <a:lnTo>
                          <a:pt x="12" y="140"/>
                        </a:lnTo>
                        <a:lnTo>
                          <a:pt x="5" y="172"/>
                        </a:lnTo>
                        <a:lnTo>
                          <a:pt x="1" y="205"/>
                        </a:lnTo>
                        <a:lnTo>
                          <a:pt x="0" y="240"/>
                        </a:lnTo>
                        <a:lnTo>
                          <a:pt x="1" y="277"/>
                        </a:lnTo>
                        <a:lnTo>
                          <a:pt x="7" y="314"/>
                        </a:lnTo>
                        <a:lnTo>
                          <a:pt x="15" y="349"/>
                        </a:lnTo>
                        <a:lnTo>
                          <a:pt x="28" y="383"/>
                        </a:lnTo>
                        <a:lnTo>
                          <a:pt x="42" y="414"/>
                        </a:lnTo>
                        <a:lnTo>
                          <a:pt x="62" y="446"/>
                        </a:lnTo>
                        <a:lnTo>
                          <a:pt x="83" y="476"/>
                        </a:lnTo>
                        <a:lnTo>
                          <a:pt x="96" y="489"/>
                        </a:lnTo>
                        <a:lnTo>
                          <a:pt x="110" y="504"/>
                        </a:lnTo>
                        <a:lnTo>
                          <a:pt x="138" y="529"/>
                        </a:lnTo>
                        <a:lnTo>
                          <a:pt x="167" y="552"/>
                        </a:lnTo>
                        <a:lnTo>
                          <a:pt x="198" y="570"/>
                        </a:lnTo>
                        <a:lnTo>
                          <a:pt x="231" y="586"/>
                        </a:lnTo>
                        <a:lnTo>
                          <a:pt x="263" y="597"/>
                        </a:lnTo>
                        <a:lnTo>
                          <a:pt x="299" y="606"/>
                        </a:lnTo>
                        <a:lnTo>
                          <a:pt x="335" y="612"/>
                        </a:lnTo>
                        <a:lnTo>
                          <a:pt x="373" y="614"/>
                        </a:lnTo>
                        <a:lnTo>
                          <a:pt x="392" y="613"/>
                        </a:lnTo>
                        <a:lnTo>
                          <a:pt x="401" y="612"/>
                        </a:lnTo>
                        <a:lnTo>
                          <a:pt x="411" y="612"/>
                        </a:lnTo>
                        <a:lnTo>
                          <a:pt x="447" y="606"/>
                        </a:lnTo>
                        <a:lnTo>
                          <a:pt x="464" y="601"/>
                        </a:lnTo>
                        <a:lnTo>
                          <a:pt x="482" y="597"/>
                        </a:lnTo>
                        <a:lnTo>
                          <a:pt x="516" y="586"/>
                        </a:lnTo>
                        <a:lnTo>
                          <a:pt x="548" y="570"/>
                        </a:lnTo>
                        <a:lnTo>
                          <a:pt x="580" y="552"/>
                        </a:lnTo>
                        <a:lnTo>
                          <a:pt x="609" y="529"/>
                        </a:lnTo>
                        <a:lnTo>
                          <a:pt x="623" y="516"/>
                        </a:lnTo>
                        <a:lnTo>
                          <a:pt x="630" y="510"/>
                        </a:lnTo>
                        <a:lnTo>
                          <a:pt x="631" y="507"/>
                        </a:lnTo>
                        <a:lnTo>
                          <a:pt x="633" y="506"/>
                        </a:lnTo>
                        <a:lnTo>
                          <a:pt x="638" y="504"/>
                        </a:lnTo>
                        <a:lnTo>
                          <a:pt x="651" y="488"/>
                        </a:lnTo>
                        <a:lnTo>
                          <a:pt x="665" y="473"/>
                        </a:lnTo>
                        <a:lnTo>
                          <a:pt x="676" y="458"/>
                        </a:lnTo>
                        <a:lnTo>
                          <a:pt x="678" y="453"/>
                        </a:lnTo>
                        <a:lnTo>
                          <a:pt x="680" y="451"/>
                        </a:lnTo>
                        <a:lnTo>
                          <a:pt x="682" y="450"/>
                        </a:lnTo>
                        <a:lnTo>
                          <a:pt x="689" y="443"/>
                        </a:lnTo>
                        <a:lnTo>
                          <a:pt x="680" y="420"/>
                        </a:lnTo>
                        <a:lnTo>
                          <a:pt x="672" y="400"/>
                        </a:lnTo>
                        <a:lnTo>
                          <a:pt x="665" y="409"/>
                        </a:lnTo>
                        <a:lnTo>
                          <a:pt x="661" y="413"/>
                        </a:lnTo>
                        <a:lnTo>
                          <a:pt x="659" y="419"/>
                        </a:lnTo>
                        <a:lnTo>
                          <a:pt x="644" y="439"/>
                        </a:lnTo>
                        <a:lnTo>
                          <a:pt x="629" y="459"/>
                        </a:lnTo>
                        <a:lnTo>
                          <a:pt x="620" y="468"/>
                        </a:lnTo>
                        <a:lnTo>
                          <a:pt x="615" y="472"/>
                        </a:lnTo>
                        <a:lnTo>
                          <a:pt x="613" y="475"/>
                        </a:lnTo>
                        <a:lnTo>
                          <a:pt x="612" y="475"/>
                        </a:lnTo>
                        <a:lnTo>
                          <a:pt x="612" y="476"/>
                        </a:lnTo>
                        <a:lnTo>
                          <a:pt x="612" y="478"/>
                        </a:lnTo>
                        <a:lnTo>
                          <a:pt x="598" y="488"/>
                        </a:lnTo>
                        <a:lnTo>
                          <a:pt x="585" y="499"/>
                        </a:lnTo>
                        <a:lnTo>
                          <a:pt x="558" y="520"/>
                        </a:lnTo>
                        <a:lnTo>
                          <a:pt x="554" y="521"/>
                        </a:lnTo>
                        <a:lnTo>
                          <a:pt x="550" y="523"/>
                        </a:lnTo>
                        <a:lnTo>
                          <a:pt x="544" y="528"/>
                        </a:lnTo>
                        <a:lnTo>
                          <a:pt x="530" y="537"/>
                        </a:lnTo>
                        <a:lnTo>
                          <a:pt x="515" y="544"/>
                        </a:lnTo>
                        <a:lnTo>
                          <a:pt x="502" y="552"/>
                        </a:lnTo>
                        <a:lnTo>
                          <a:pt x="486" y="556"/>
                        </a:lnTo>
                        <a:lnTo>
                          <a:pt x="478" y="558"/>
                        </a:lnTo>
                        <a:lnTo>
                          <a:pt x="471" y="562"/>
                        </a:lnTo>
                        <a:lnTo>
                          <a:pt x="439" y="570"/>
                        </a:lnTo>
                        <a:lnTo>
                          <a:pt x="422" y="572"/>
                        </a:lnTo>
                        <a:lnTo>
                          <a:pt x="406" y="574"/>
                        </a:lnTo>
                        <a:lnTo>
                          <a:pt x="397" y="574"/>
                        </a:lnTo>
                        <a:lnTo>
                          <a:pt x="393" y="574"/>
                        </a:lnTo>
                        <a:lnTo>
                          <a:pt x="390" y="574"/>
                        </a:lnTo>
                        <a:lnTo>
                          <a:pt x="389" y="575"/>
                        </a:lnTo>
                        <a:lnTo>
                          <a:pt x="373" y="577"/>
                        </a:lnTo>
                        <a:lnTo>
                          <a:pt x="338" y="574"/>
                        </a:lnTo>
                        <a:lnTo>
                          <a:pt x="305" y="570"/>
                        </a:lnTo>
                        <a:lnTo>
                          <a:pt x="274" y="562"/>
                        </a:lnTo>
                        <a:lnTo>
                          <a:pt x="244" y="552"/>
                        </a:lnTo>
                        <a:lnTo>
                          <a:pt x="215" y="537"/>
                        </a:lnTo>
                        <a:lnTo>
                          <a:pt x="187" y="520"/>
                        </a:lnTo>
                        <a:lnTo>
                          <a:pt x="160" y="499"/>
                        </a:lnTo>
                        <a:lnTo>
                          <a:pt x="136" y="478"/>
                        </a:lnTo>
                        <a:lnTo>
                          <a:pt x="113" y="452"/>
                        </a:lnTo>
                        <a:lnTo>
                          <a:pt x="92" y="425"/>
                        </a:lnTo>
                        <a:lnTo>
                          <a:pt x="75" y="396"/>
                        </a:lnTo>
                        <a:lnTo>
                          <a:pt x="67" y="382"/>
                        </a:lnTo>
                        <a:lnTo>
                          <a:pt x="62" y="368"/>
                        </a:lnTo>
                        <a:lnTo>
                          <a:pt x="55" y="352"/>
                        </a:lnTo>
                        <a:lnTo>
                          <a:pt x="50" y="337"/>
                        </a:lnTo>
                        <a:lnTo>
                          <a:pt x="43" y="306"/>
                        </a:lnTo>
                        <a:lnTo>
                          <a:pt x="40" y="289"/>
                        </a:lnTo>
                        <a:lnTo>
                          <a:pt x="39" y="273"/>
                        </a:lnTo>
                        <a:lnTo>
                          <a:pt x="38" y="240"/>
                        </a:lnTo>
                        <a:lnTo>
                          <a:pt x="39" y="205"/>
                        </a:lnTo>
                        <a:lnTo>
                          <a:pt x="43" y="172"/>
                        </a:lnTo>
                        <a:lnTo>
                          <a:pt x="50" y="140"/>
                        </a:lnTo>
                        <a:lnTo>
                          <a:pt x="62" y="111"/>
                        </a:lnTo>
                        <a:lnTo>
                          <a:pt x="75" y="81"/>
                        </a:lnTo>
                        <a:lnTo>
                          <a:pt x="92" y="54"/>
                        </a:lnTo>
                        <a:lnTo>
                          <a:pt x="111" y="27"/>
                        </a:lnTo>
                        <a:lnTo>
                          <a:pt x="135" y="3"/>
                        </a:lnTo>
                        <a:close/>
                      </a:path>
                    </a:pathLst>
                  </a:custGeom>
                  <a:solidFill>
                    <a:srgbClr val="00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5297400" y="4877280"/>
                    <a:ext cx="113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428">
                        <a:moveTo>
                          <a:pt x="37" y="204"/>
                        </a:moveTo>
                        <a:lnTo>
                          <a:pt x="41" y="166"/>
                        </a:lnTo>
                        <a:lnTo>
                          <a:pt x="44" y="148"/>
                        </a:lnTo>
                        <a:lnTo>
                          <a:pt x="51" y="132"/>
                        </a:lnTo>
                        <a:lnTo>
                          <a:pt x="58" y="115"/>
                        </a:lnTo>
                        <a:lnTo>
                          <a:pt x="68" y="101"/>
                        </a:lnTo>
                        <a:lnTo>
                          <a:pt x="92" y="72"/>
                        </a:lnTo>
                        <a:lnTo>
                          <a:pt x="112" y="53"/>
                        </a:lnTo>
                        <a:lnTo>
                          <a:pt x="135" y="38"/>
                        </a:lnTo>
                        <a:lnTo>
                          <a:pt x="159" y="27"/>
                        </a:lnTo>
                        <a:lnTo>
                          <a:pt x="186" y="21"/>
                        </a:lnTo>
                        <a:lnTo>
                          <a:pt x="132" y="0"/>
                        </a:lnTo>
                        <a:lnTo>
                          <a:pt x="96" y="19"/>
                        </a:lnTo>
                        <a:lnTo>
                          <a:pt x="81" y="32"/>
                        </a:lnTo>
                        <a:lnTo>
                          <a:pt x="66" y="46"/>
                        </a:lnTo>
                        <a:lnTo>
                          <a:pt x="49" y="62"/>
                        </a:lnTo>
                        <a:lnTo>
                          <a:pt x="36" y="79"/>
                        </a:lnTo>
                        <a:lnTo>
                          <a:pt x="24" y="97"/>
                        </a:lnTo>
                        <a:lnTo>
                          <a:pt x="16" y="118"/>
                        </a:lnTo>
                        <a:lnTo>
                          <a:pt x="8" y="137"/>
                        </a:lnTo>
                        <a:lnTo>
                          <a:pt x="3" y="159"/>
                        </a:lnTo>
                        <a:lnTo>
                          <a:pt x="0" y="180"/>
                        </a:lnTo>
                        <a:lnTo>
                          <a:pt x="0" y="204"/>
                        </a:lnTo>
                        <a:lnTo>
                          <a:pt x="0" y="225"/>
                        </a:lnTo>
                        <a:lnTo>
                          <a:pt x="3" y="248"/>
                        </a:lnTo>
                        <a:lnTo>
                          <a:pt x="8" y="268"/>
                        </a:lnTo>
                        <a:lnTo>
                          <a:pt x="16" y="290"/>
                        </a:lnTo>
                        <a:lnTo>
                          <a:pt x="24" y="308"/>
                        </a:lnTo>
                        <a:lnTo>
                          <a:pt x="36" y="327"/>
                        </a:lnTo>
                        <a:lnTo>
                          <a:pt x="49" y="344"/>
                        </a:lnTo>
                        <a:lnTo>
                          <a:pt x="66" y="363"/>
                        </a:lnTo>
                        <a:lnTo>
                          <a:pt x="82" y="377"/>
                        </a:lnTo>
                        <a:lnTo>
                          <a:pt x="100" y="391"/>
                        </a:lnTo>
                        <a:lnTo>
                          <a:pt x="118" y="401"/>
                        </a:lnTo>
                        <a:lnTo>
                          <a:pt x="137" y="411"/>
                        </a:lnTo>
                        <a:lnTo>
                          <a:pt x="157" y="418"/>
                        </a:lnTo>
                        <a:lnTo>
                          <a:pt x="178" y="424"/>
                        </a:lnTo>
                        <a:lnTo>
                          <a:pt x="200" y="427"/>
                        </a:lnTo>
                        <a:lnTo>
                          <a:pt x="223" y="428"/>
                        </a:lnTo>
                        <a:lnTo>
                          <a:pt x="228" y="427"/>
                        </a:lnTo>
                        <a:lnTo>
                          <a:pt x="234" y="427"/>
                        </a:lnTo>
                        <a:lnTo>
                          <a:pt x="245" y="427"/>
                        </a:lnTo>
                        <a:lnTo>
                          <a:pt x="268" y="424"/>
                        </a:lnTo>
                        <a:lnTo>
                          <a:pt x="288" y="418"/>
                        </a:lnTo>
                        <a:lnTo>
                          <a:pt x="310" y="411"/>
                        </a:lnTo>
                        <a:lnTo>
                          <a:pt x="328" y="401"/>
                        </a:lnTo>
                        <a:lnTo>
                          <a:pt x="337" y="395"/>
                        </a:lnTo>
                        <a:lnTo>
                          <a:pt x="347" y="391"/>
                        </a:lnTo>
                        <a:lnTo>
                          <a:pt x="364" y="377"/>
                        </a:lnTo>
                        <a:lnTo>
                          <a:pt x="382" y="363"/>
                        </a:lnTo>
                        <a:lnTo>
                          <a:pt x="384" y="358"/>
                        </a:lnTo>
                        <a:lnTo>
                          <a:pt x="386" y="356"/>
                        </a:lnTo>
                        <a:lnTo>
                          <a:pt x="388" y="355"/>
                        </a:lnTo>
                        <a:lnTo>
                          <a:pt x="395" y="348"/>
                        </a:lnTo>
                        <a:lnTo>
                          <a:pt x="406" y="333"/>
                        </a:lnTo>
                        <a:lnTo>
                          <a:pt x="416" y="317"/>
                        </a:lnTo>
                        <a:lnTo>
                          <a:pt x="425" y="303"/>
                        </a:lnTo>
                        <a:lnTo>
                          <a:pt x="432" y="285"/>
                        </a:lnTo>
                        <a:lnTo>
                          <a:pt x="439" y="270"/>
                        </a:lnTo>
                        <a:lnTo>
                          <a:pt x="443" y="251"/>
                        </a:lnTo>
                        <a:lnTo>
                          <a:pt x="445" y="242"/>
                        </a:lnTo>
                        <a:lnTo>
                          <a:pt x="447" y="234"/>
                        </a:lnTo>
                        <a:lnTo>
                          <a:pt x="411" y="191"/>
                        </a:lnTo>
                        <a:lnTo>
                          <a:pt x="411" y="204"/>
                        </a:lnTo>
                        <a:lnTo>
                          <a:pt x="409" y="222"/>
                        </a:lnTo>
                        <a:lnTo>
                          <a:pt x="407" y="240"/>
                        </a:lnTo>
                        <a:lnTo>
                          <a:pt x="403" y="257"/>
                        </a:lnTo>
                        <a:lnTo>
                          <a:pt x="397" y="275"/>
                        </a:lnTo>
                        <a:lnTo>
                          <a:pt x="392" y="282"/>
                        </a:lnTo>
                        <a:lnTo>
                          <a:pt x="390" y="285"/>
                        </a:lnTo>
                        <a:lnTo>
                          <a:pt x="389" y="290"/>
                        </a:lnTo>
                        <a:lnTo>
                          <a:pt x="380" y="306"/>
                        </a:lnTo>
                        <a:lnTo>
                          <a:pt x="369" y="321"/>
                        </a:lnTo>
                        <a:lnTo>
                          <a:pt x="356" y="337"/>
                        </a:lnTo>
                        <a:lnTo>
                          <a:pt x="340" y="349"/>
                        </a:lnTo>
                        <a:lnTo>
                          <a:pt x="325" y="360"/>
                        </a:lnTo>
                        <a:lnTo>
                          <a:pt x="310" y="369"/>
                        </a:lnTo>
                        <a:lnTo>
                          <a:pt x="305" y="371"/>
                        </a:lnTo>
                        <a:lnTo>
                          <a:pt x="302" y="373"/>
                        </a:lnTo>
                        <a:lnTo>
                          <a:pt x="295" y="377"/>
                        </a:lnTo>
                        <a:lnTo>
                          <a:pt x="277" y="383"/>
                        </a:lnTo>
                        <a:lnTo>
                          <a:pt x="260" y="388"/>
                        </a:lnTo>
                        <a:lnTo>
                          <a:pt x="242" y="390"/>
                        </a:lnTo>
                        <a:lnTo>
                          <a:pt x="223" y="391"/>
                        </a:lnTo>
                        <a:lnTo>
                          <a:pt x="204" y="390"/>
                        </a:lnTo>
                        <a:lnTo>
                          <a:pt x="186" y="388"/>
                        </a:lnTo>
                        <a:lnTo>
                          <a:pt x="168" y="383"/>
                        </a:lnTo>
                        <a:lnTo>
                          <a:pt x="152" y="377"/>
                        </a:lnTo>
                        <a:lnTo>
                          <a:pt x="135" y="369"/>
                        </a:lnTo>
                        <a:lnTo>
                          <a:pt x="120" y="360"/>
                        </a:lnTo>
                        <a:lnTo>
                          <a:pt x="106" y="349"/>
                        </a:lnTo>
                        <a:lnTo>
                          <a:pt x="92" y="337"/>
                        </a:lnTo>
                        <a:lnTo>
                          <a:pt x="78" y="321"/>
                        </a:lnTo>
                        <a:lnTo>
                          <a:pt x="68" y="306"/>
                        </a:lnTo>
                        <a:lnTo>
                          <a:pt x="58" y="290"/>
                        </a:lnTo>
                        <a:lnTo>
                          <a:pt x="51" y="275"/>
                        </a:lnTo>
                        <a:lnTo>
                          <a:pt x="44" y="257"/>
                        </a:lnTo>
                        <a:lnTo>
                          <a:pt x="41" y="240"/>
                        </a:lnTo>
                        <a:lnTo>
                          <a:pt x="37" y="222"/>
                        </a:lnTo>
                        <a:lnTo>
                          <a:pt x="37" y="204"/>
                        </a:lnTo>
                        <a:close/>
                      </a:path>
                    </a:pathLst>
                  </a:custGeom>
                  <a:solidFill>
                    <a:srgbClr val="00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5306760" y="4883040"/>
                    <a:ext cx="946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370">
                        <a:moveTo>
                          <a:pt x="55" y="51"/>
                        </a:moveTo>
                        <a:lnTo>
                          <a:pt x="31" y="80"/>
                        </a:lnTo>
                        <a:lnTo>
                          <a:pt x="21" y="94"/>
                        </a:lnTo>
                        <a:lnTo>
                          <a:pt x="14" y="111"/>
                        </a:lnTo>
                        <a:lnTo>
                          <a:pt x="7" y="127"/>
                        </a:lnTo>
                        <a:lnTo>
                          <a:pt x="4" y="145"/>
                        </a:lnTo>
                        <a:lnTo>
                          <a:pt x="0" y="183"/>
                        </a:lnTo>
                        <a:lnTo>
                          <a:pt x="0" y="201"/>
                        </a:lnTo>
                        <a:lnTo>
                          <a:pt x="4" y="219"/>
                        </a:lnTo>
                        <a:lnTo>
                          <a:pt x="7" y="236"/>
                        </a:lnTo>
                        <a:lnTo>
                          <a:pt x="14" y="254"/>
                        </a:lnTo>
                        <a:lnTo>
                          <a:pt x="21" y="269"/>
                        </a:lnTo>
                        <a:lnTo>
                          <a:pt x="31" y="285"/>
                        </a:lnTo>
                        <a:lnTo>
                          <a:pt x="41" y="300"/>
                        </a:lnTo>
                        <a:lnTo>
                          <a:pt x="55" y="316"/>
                        </a:lnTo>
                        <a:lnTo>
                          <a:pt x="69" y="328"/>
                        </a:lnTo>
                        <a:lnTo>
                          <a:pt x="83" y="339"/>
                        </a:lnTo>
                        <a:lnTo>
                          <a:pt x="98" y="348"/>
                        </a:lnTo>
                        <a:lnTo>
                          <a:pt x="115" y="356"/>
                        </a:lnTo>
                        <a:lnTo>
                          <a:pt x="131" y="362"/>
                        </a:lnTo>
                        <a:lnTo>
                          <a:pt x="149" y="367"/>
                        </a:lnTo>
                        <a:lnTo>
                          <a:pt x="167" y="369"/>
                        </a:lnTo>
                        <a:lnTo>
                          <a:pt x="186" y="370"/>
                        </a:lnTo>
                        <a:lnTo>
                          <a:pt x="205" y="369"/>
                        </a:lnTo>
                        <a:lnTo>
                          <a:pt x="223" y="367"/>
                        </a:lnTo>
                        <a:lnTo>
                          <a:pt x="240" y="362"/>
                        </a:lnTo>
                        <a:lnTo>
                          <a:pt x="258" y="356"/>
                        </a:lnTo>
                        <a:lnTo>
                          <a:pt x="265" y="352"/>
                        </a:lnTo>
                        <a:lnTo>
                          <a:pt x="268" y="350"/>
                        </a:lnTo>
                        <a:lnTo>
                          <a:pt x="273" y="348"/>
                        </a:lnTo>
                        <a:lnTo>
                          <a:pt x="288" y="339"/>
                        </a:lnTo>
                        <a:lnTo>
                          <a:pt x="303" y="328"/>
                        </a:lnTo>
                        <a:lnTo>
                          <a:pt x="319" y="316"/>
                        </a:lnTo>
                        <a:lnTo>
                          <a:pt x="332" y="300"/>
                        </a:lnTo>
                        <a:lnTo>
                          <a:pt x="343" y="285"/>
                        </a:lnTo>
                        <a:lnTo>
                          <a:pt x="352" y="269"/>
                        </a:lnTo>
                        <a:lnTo>
                          <a:pt x="353" y="264"/>
                        </a:lnTo>
                        <a:lnTo>
                          <a:pt x="355" y="261"/>
                        </a:lnTo>
                        <a:lnTo>
                          <a:pt x="360" y="254"/>
                        </a:lnTo>
                        <a:lnTo>
                          <a:pt x="366" y="236"/>
                        </a:lnTo>
                        <a:lnTo>
                          <a:pt x="370" y="219"/>
                        </a:lnTo>
                        <a:lnTo>
                          <a:pt x="372" y="201"/>
                        </a:lnTo>
                        <a:lnTo>
                          <a:pt x="374" y="183"/>
                        </a:lnTo>
                        <a:lnTo>
                          <a:pt x="374" y="170"/>
                        </a:lnTo>
                        <a:lnTo>
                          <a:pt x="342" y="136"/>
                        </a:lnTo>
                        <a:lnTo>
                          <a:pt x="321" y="116"/>
                        </a:lnTo>
                        <a:lnTo>
                          <a:pt x="327" y="131"/>
                        </a:lnTo>
                        <a:lnTo>
                          <a:pt x="332" y="148"/>
                        </a:lnTo>
                        <a:lnTo>
                          <a:pt x="335" y="165"/>
                        </a:lnTo>
                        <a:lnTo>
                          <a:pt x="336" y="183"/>
                        </a:lnTo>
                        <a:lnTo>
                          <a:pt x="335" y="196"/>
                        </a:lnTo>
                        <a:lnTo>
                          <a:pt x="333" y="211"/>
                        </a:lnTo>
                        <a:lnTo>
                          <a:pt x="329" y="225"/>
                        </a:lnTo>
                        <a:lnTo>
                          <a:pt x="325" y="240"/>
                        </a:lnTo>
                        <a:lnTo>
                          <a:pt x="318" y="252"/>
                        </a:lnTo>
                        <a:lnTo>
                          <a:pt x="311" y="264"/>
                        </a:lnTo>
                        <a:lnTo>
                          <a:pt x="302" y="276"/>
                        </a:lnTo>
                        <a:lnTo>
                          <a:pt x="293" y="288"/>
                        </a:lnTo>
                        <a:lnTo>
                          <a:pt x="281" y="297"/>
                        </a:lnTo>
                        <a:lnTo>
                          <a:pt x="269" y="306"/>
                        </a:lnTo>
                        <a:lnTo>
                          <a:pt x="256" y="314"/>
                        </a:lnTo>
                        <a:lnTo>
                          <a:pt x="243" y="321"/>
                        </a:lnTo>
                        <a:lnTo>
                          <a:pt x="228" y="326"/>
                        </a:lnTo>
                        <a:lnTo>
                          <a:pt x="215" y="329"/>
                        </a:lnTo>
                        <a:lnTo>
                          <a:pt x="200" y="331"/>
                        </a:lnTo>
                        <a:lnTo>
                          <a:pt x="186" y="333"/>
                        </a:lnTo>
                        <a:lnTo>
                          <a:pt x="171" y="331"/>
                        </a:lnTo>
                        <a:lnTo>
                          <a:pt x="156" y="329"/>
                        </a:lnTo>
                        <a:lnTo>
                          <a:pt x="142" y="326"/>
                        </a:lnTo>
                        <a:lnTo>
                          <a:pt x="129" y="321"/>
                        </a:lnTo>
                        <a:lnTo>
                          <a:pt x="115" y="314"/>
                        </a:lnTo>
                        <a:lnTo>
                          <a:pt x="103" y="306"/>
                        </a:lnTo>
                        <a:lnTo>
                          <a:pt x="81" y="288"/>
                        </a:lnTo>
                        <a:lnTo>
                          <a:pt x="70" y="276"/>
                        </a:lnTo>
                        <a:lnTo>
                          <a:pt x="62" y="264"/>
                        </a:lnTo>
                        <a:lnTo>
                          <a:pt x="54" y="252"/>
                        </a:lnTo>
                        <a:lnTo>
                          <a:pt x="48" y="240"/>
                        </a:lnTo>
                        <a:lnTo>
                          <a:pt x="42" y="225"/>
                        </a:lnTo>
                        <a:lnTo>
                          <a:pt x="40" y="211"/>
                        </a:lnTo>
                        <a:lnTo>
                          <a:pt x="38" y="196"/>
                        </a:lnTo>
                        <a:lnTo>
                          <a:pt x="38" y="183"/>
                        </a:lnTo>
                        <a:lnTo>
                          <a:pt x="40" y="152"/>
                        </a:lnTo>
                        <a:lnTo>
                          <a:pt x="48" y="125"/>
                        </a:lnTo>
                        <a:lnTo>
                          <a:pt x="62" y="99"/>
                        </a:lnTo>
                        <a:lnTo>
                          <a:pt x="81" y="77"/>
                        </a:lnTo>
                        <a:lnTo>
                          <a:pt x="103" y="58"/>
                        </a:lnTo>
                        <a:lnTo>
                          <a:pt x="129" y="45"/>
                        </a:lnTo>
                        <a:lnTo>
                          <a:pt x="156" y="37"/>
                        </a:lnTo>
                        <a:lnTo>
                          <a:pt x="186" y="34"/>
                        </a:lnTo>
                        <a:lnTo>
                          <a:pt x="201" y="34"/>
                        </a:lnTo>
                        <a:lnTo>
                          <a:pt x="217" y="37"/>
                        </a:lnTo>
                        <a:lnTo>
                          <a:pt x="183" y="17"/>
                        </a:lnTo>
                        <a:lnTo>
                          <a:pt x="149" y="0"/>
                        </a:lnTo>
                        <a:lnTo>
                          <a:pt x="122" y="6"/>
                        </a:lnTo>
                        <a:lnTo>
                          <a:pt x="98" y="17"/>
                        </a:lnTo>
                        <a:lnTo>
                          <a:pt x="75" y="32"/>
                        </a:lnTo>
                        <a:lnTo>
                          <a:pt x="55" y="51"/>
                        </a:lnTo>
                        <a:close/>
                      </a:path>
                    </a:pathLst>
                  </a:custGeom>
                  <a:solidFill>
                    <a:srgbClr val="00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5316120" y="4891680"/>
                    <a:ext cx="7560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299">
                        <a:moveTo>
                          <a:pt x="179" y="3"/>
                        </a:moveTo>
                        <a:lnTo>
                          <a:pt x="163" y="0"/>
                        </a:lnTo>
                        <a:lnTo>
                          <a:pt x="148" y="0"/>
                        </a:lnTo>
                        <a:lnTo>
                          <a:pt x="118" y="3"/>
                        </a:lnTo>
                        <a:lnTo>
                          <a:pt x="91" y="11"/>
                        </a:lnTo>
                        <a:lnTo>
                          <a:pt x="65" y="24"/>
                        </a:lnTo>
                        <a:lnTo>
                          <a:pt x="43" y="43"/>
                        </a:lnTo>
                        <a:lnTo>
                          <a:pt x="24" y="65"/>
                        </a:lnTo>
                        <a:lnTo>
                          <a:pt x="10" y="91"/>
                        </a:lnTo>
                        <a:lnTo>
                          <a:pt x="2" y="118"/>
                        </a:lnTo>
                        <a:lnTo>
                          <a:pt x="0" y="149"/>
                        </a:lnTo>
                        <a:lnTo>
                          <a:pt x="0" y="162"/>
                        </a:lnTo>
                        <a:lnTo>
                          <a:pt x="2" y="177"/>
                        </a:lnTo>
                        <a:lnTo>
                          <a:pt x="4" y="191"/>
                        </a:lnTo>
                        <a:lnTo>
                          <a:pt x="10" y="206"/>
                        </a:lnTo>
                        <a:lnTo>
                          <a:pt x="16" y="218"/>
                        </a:lnTo>
                        <a:lnTo>
                          <a:pt x="24" y="230"/>
                        </a:lnTo>
                        <a:lnTo>
                          <a:pt x="32" y="242"/>
                        </a:lnTo>
                        <a:lnTo>
                          <a:pt x="43" y="254"/>
                        </a:lnTo>
                        <a:lnTo>
                          <a:pt x="65" y="272"/>
                        </a:lnTo>
                        <a:lnTo>
                          <a:pt x="77" y="280"/>
                        </a:lnTo>
                        <a:lnTo>
                          <a:pt x="91" y="287"/>
                        </a:lnTo>
                        <a:lnTo>
                          <a:pt x="104" y="292"/>
                        </a:lnTo>
                        <a:lnTo>
                          <a:pt x="118" y="295"/>
                        </a:lnTo>
                        <a:lnTo>
                          <a:pt x="133" y="297"/>
                        </a:lnTo>
                        <a:lnTo>
                          <a:pt x="148" y="299"/>
                        </a:lnTo>
                        <a:lnTo>
                          <a:pt x="162" y="297"/>
                        </a:lnTo>
                        <a:lnTo>
                          <a:pt x="177" y="295"/>
                        </a:lnTo>
                        <a:lnTo>
                          <a:pt x="190" y="292"/>
                        </a:lnTo>
                        <a:lnTo>
                          <a:pt x="205" y="287"/>
                        </a:lnTo>
                        <a:lnTo>
                          <a:pt x="218" y="280"/>
                        </a:lnTo>
                        <a:lnTo>
                          <a:pt x="231" y="272"/>
                        </a:lnTo>
                        <a:lnTo>
                          <a:pt x="243" y="263"/>
                        </a:lnTo>
                        <a:lnTo>
                          <a:pt x="255" y="254"/>
                        </a:lnTo>
                        <a:lnTo>
                          <a:pt x="264" y="242"/>
                        </a:lnTo>
                        <a:lnTo>
                          <a:pt x="273" y="230"/>
                        </a:lnTo>
                        <a:lnTo>
                          <a:pt x="280" y="218"/>
                        </a:lnTo>
                        <a:lnTo>
                          <a:pt x="287" y="206"/>
                        </a:lnTo>
                        <a:lnTo>
                          <a:pt x="291" y="191"/>
                        </a:lnTo>
                        <a:lnTo>
                          <a:pt x="295" y="177"/>
                        </a:lnTo>
                        <a:lnTo>
                          <a:pt x="297" y="162"/>
                        </a:lnTo>
                        <a:lnTo>
                          <a:pt x="298" y="149"/>
                        </a:lnTo>
                        <a:lnTo>
                          <a:pt x="297" y="131"/>
                        </a:lnTo>
                        <a:lnTo>
                          <a:pt x="294" y="114"/>
                        </a:lnTo>
                        <a:lnTo>
                          <a:pt x="289" y="97"/>
                        </a:lnTo>
                        <a:lnTo>
                          <a:pt x="283" y="82"/>
                        </a:lnTo>
                        <a:lnTo>
                          <a:pt x="257" y="59"/>
                        </a:lnTo>
                        <a:lnTo>
                          <a:pt x="232" y="39"/>
                        </a:lnTo>
                        <a:lnTo>
                          <a:pt x="205" y="20"/>
                        </a:lnTo>
                        <a:lnTo>
                          <a:pt x="179" y="3"/>
                        </a:lnTo>
                        <a:close/>
                        <a:moveTo>
                          <a:pt x="37" y="149"/>
                        </a:moveTo>
                        <a:lnTo>
                          <a:pt x="38" y="125"/>
                        </a:lnTo>
                        <a:lnTo>
                          <a:pt x="45" y="105"/>
                        </a:lnTo>
                        <a:lnTo>
                          <a:pt x="54" y="85"/>
                        </a:lnTo>
                        <a:lnTo>
                          <a:pt x="70" y="70"/>
                        </a:lnTo>
                        <a:lnTo>
                          <a:pt x="86" y="55"/>
                        </a:lnTo>
                        <a:lnTo>
                          <a:pt x="105" y="46"/>
                        </a:lnTo>
                        <a:lnTo>
                          <a:pt x="126" y="39"/>
                        </a:lnTo>
                        <a:lnTo>
                          <a:pt x="148" y="38"/>
                        </a:lnTo>
                        <a:lnTo>
                          <a:pt x="170" y="39"/>
                        </a:lnTo>
                        <a:lnTo>
                          <a:pt x="190" y="46"/>
                        </a:lnTo>
                        <a:lnTo>
                          <a:pt x="199" y="49"/>
                        </a:lnTo>
                        <a:lnTo>
                          <a:pt x="210" y="55"/>
                        </a:lnTo>
                        <a:lnTo>
                          <a:pt x="228" y="70"/>
                        </a:lnTo>
                        <a:lnTo>
                          <a:pt x="241" y="85"/>
                        </a:lnTo>
                        <a:lnTo>
                          <a:pt x="252" y="105"/>
                        </a:lnTo>
                        <a:lnTo>
                          <a:pt x="258" y="125"/>
                        </a:lnTo>
                        <a:lnTo>
                          <a:pt x="261" y="149"/>
                        </a:lnTo>
                        <a:lnTo>
                          <a:pt x="260" y="153"/>
                        </a:lnTo>
                        <a:lnTo>
                          <a:pt x="260" y="159"/>
                        </a:lnTo>
                        <a:lnTo>
                          <a:pt x="258" y="170"/>
                        </a:lnTo>
                        <a:lnTo>
                          <a:pt x="252" y="191"/>
                        </a:lnTo>
                        <a:lnTo>
                          <a:pt x="246" y="200"/>
                        </a:lnTo>
                        <a:lnTo>
                          <a:pt x="241" y="210"/>
                        </a:lnTo>
                        <a:lnTo>
                          <a:pt x="228" y="228"/>
                        </a:lnTo>
                        <a:lnTo>
                          <a:pt x="210" y="242"/>
                        </a:lnTo>
                        <a:lnTo>
                          <a:pt x="199" y="246"/>
                        </a:lnTo>
                        <a:lnTo>
                          <a:pt x="190" y="252"/>
                        </a:lnTo>
                        <a:lnTo>
                          <a:pt x="170" y="259"/>
                        </a:lnTo>
                        <a:lnTo>
                          <a:pt x="159" y="260"/>
                        </a:lnTo>
                        <a:lnTo>
                          <a:pt x="153" y="260"/>
                        </a:lnTo>
                        <a:lnTo>
                          <a:pt x="148" y="261"/>
                        </a:lnTo>
                        <a:lnTo>
                          <a:pt x="126" y="259"/>
                        </a:lnTo>
                        <a:lnTo>
                          <a:pt x="105" y="252"/>
                        </a:lnTo>
                        <a:lnTo>
                          <a:pt x="86" y="242"/>
                        </a:lnTo>
                        <a:lnTo>
                          <a:pt x="70" y="228"/>
                        </a:lnTo>
                        <a:lnTo>
                          <a:pt x="54" y="210"/>
                        </a:lnTo>
                        <a:lnTo>
                          <a:pt x="49" y="200"/>
                        </a:lnTo>
                        <a:lnTo>
                          <a:pt x="45" y="191"/>
                        </a:lnTo>
                        <a:lnTo>
                          <a:pt x="38" y="170"/>
                        </a:lnTo>
                        <a:lnTo>
                          <a:pt x="37" y="149"/>
                        </a:lnTo>
                        <a:close/>
                      </a:path>
                    </a:pathLst>
                  </a:custGeom>
                  <a:solidFill>
                    <a:srgbClr val="00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5325840" y="4901400"/>
                    <a:ext cx="561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223">
                        <a:moveTo>
                          <a:pt x="33" y="32"/>
                        </a:moveTo>
                        <a:lnTo>
                          <a:pt x="17" y="47"/>
                        </a:lnTo>
                        <a:lnTo>
                          <a:pt x="8" y="67"/>
                        </a:lnTo>
                        <a:lnTo>
                          <a:pt x="1" y="87"/>
                        </a:lnTo>
                        <a:lnTo>
                          <a:pt x="0" y="111"/>
                        </a:lnTo>
                        <a:lnTo>
                          <a:pt x="1" y="132"/>
                        </a:lnTo>
                        <a:lnTo>
                          <a:pt x="8" y="153"/>
                        </a:lnTo>
                        <a:lnTo>
                          <a:pt x="12" y="162"/>
                        </a:lnTo>
                        <a:lnTo>
                          <a:pt x="17" y="172"/>
                        </a:lnTo>
                        <a:lnTo>
                          <a:pt x="33" y="190"/>
                        </a:lnTo>
                        <a:lnTo>
                          <a:pt x="49" y="204"/>
                        </a:lnTo>
                        <a:lnTo>
                          <a:pt x="68" y="214"/>
                        </a:lnTo>
                        <a:lnTo>
                          <a:pt x="89" y="221"/>
                        </a:lnTo>
                        <a:lnTo>
                          <a:pt x="111" y="223"/>
                        </a:lnTo>
                        <a:lnTo>
                          <a:pt x="116" y="222"/>
                        </a:lnTo>
                        <a:lnTo>
                          <a:pt x="122" y="222"/>
                        </a:lnTo>
                        <a:lnTo>
                          <a:pt x="133" y="221"/>
                        </a:lnTo>
                        <a:lnTo>
                          <a:pt x="153" y="214"/>
                        </a:lnTo>
                        <a:lnTo>
                          <a:pt x="162" y="208"/>
                        </a:lnTo>
                        <a:lnTo>
                          <a:pt x="173" y="204"/>
                        </a:lnTo>
                        <a:lnTo>
                          <a:pt x="191" y="190"/>
                        </a:lnTo>
                        <a:lnTo>
                          <a:pt x="204" y="172"/>
                        </a:lnTo>
                        <a:lnTo>
                          <a:pt x="209" y="162"/>
                        </a:lnTo>
                        <a:lnTo>
                          <a:pt x="215" y="153"/>
                        </a:lnTo>
                        <a:lnTo>
                          <a:pt x="221" y="132"/>
                        </a:lnTo>
                        <a:lnTo>
                          <a:pt x="223" y="121"/>
                        </a:lnTo>
                        <a:lnTo>
                          <a:pt x="223" y="115"/>
                        </a:lnTo>
                        <a:lnTo>
                          <a:pt x="224" y="111"/>
                        </a:lnTo>
                        <a:lnTo>
                          <a:pt x="221" y="87"/>
                        </a:lnTo>
                        <a:lnTo>
                          <a:pt x="215" y="67"/>
                        </a:lnTo>
                        <a:lnTo>
                          <a:pt x="204" y="47"/>
                        </a:lnTo>
                        <a:lnTo>
                          <a:pt x="191" y="32"/>
                        </a:lnTo>
                        <a:lnTo>
                          <a:pt x="173" y="17"/>
                        </a:lnTo>
                        <a:lnTo>
                          <a:pt x="162" y="11"/>
                        </a:lnTo>
                        <a:lnTo>
                          <a:pt x="153" y="8"/>
                        </a:lnTo>
                        <a:lnTo>
                          <a:pt x="133" y="1"/>
                        </a:lnTo>
                        <a:lnTo>
                          <a:pt x="111" y="0"/>
                        </a:lnTo>
                        <a:lnTo>
                          <a:pt x="89" y="1"/>
                        </a:lnTo>
                        <a:lnTo>
                          <a:pt x="68" y="8"/>
                        </a:lnTo>
                        <a:lnTo>
                          <a:pt x="49" y="17"/>
                        </a:lnTo>
                        <a:lnTo>
                          <a:pt x="33" y="32"/>
                        </a:lnTo>
                        <a:close/>
                        <a:moveTo>
                          <a:pt x="37" y="111"/>
                        </a:moveTo>
                        <a:lnTo>
                          <a:pt x="38" y="95"/>
                        </a:lnTo>
                        <a:lnTo>
                          <a:pt x="42" y="81"/>
                        </a:lnTo>
                        <a:lnTo>
                          <a:pt x="49" y="69"/>
                        </a:lnTo>
                        <a:lnTo>
                          <a:pt x="59" y="59"/>
                        </a:lnTo>
                        <a:lnTo>
                          <a:pt x="69" y="49"/>
                        </a:lnTo>
                        <a:lnTo>
                          <a:pt x="82" y="42"/>
                        </a:lnTo>
                        <a:lnTo>
                          <a:pt x="96" y="37"/>
                        </a:lnTo>
                        <a:lnTo>
                          <a:pt x="111" y="36"/>
                        </a:lnTo>
                        <a:lnTo>
                          <a:pt x="126" y="37"/>
                        </a:lnTo>
                        <a:lnTo>
                          <a:pt x="140" y="42"/>
                        </a:lnTo>
                        <a:lnTo>
                          <a:pt x="145" y="44"/>
                        </a:lnTo>
                        <a:lnTo>
                          <a:pt x="152" y="49"/>
                        </a:lnTo>
                        <a:lnTo>
                          <a:pt x="165" y="59"/>
                        </a:lnTo>
                        <a:lnTo>
                          <a:pt x="174" y="69"/>
                        </a:lnTo>
                        <a:lnTo>
                          <a:pt x="182" y="81"/>
                        </a:lnTo>
                        <a:lnTo>
                          <a:pt x="185" y="95"/>
                        </a:lnTo>
                        <a:lnTo>
                          <a:pt x="187" y="111"/>
                        </a:lnTo>
                        <a:lnTo>
                          <a:pt x="186" y="118"/>
                        </a:lnTo>
                        <a:lnTo>
                          <a:pt x="185" y="118"/>
                        </a:lnTo>
                        <a:lnTo>
                          <a:pt x="185" y="119"/>
                        </a:lnTo>
                        <a:lnTo>
                          <a:pt x="185" y="121"/>
                        </a:lnTo>
                        <a:lnTo>
                          <a:pt x="185" y="126"/>
                        </a:lnTo>
                        <a:lnTo>
                          <a:pt x="182" y="139"/>
                        </a:lnTo>
                        <a:lnTo>
                          <a:pt x="177" y="145"/>
                        </a:lnTo>
                        <a:lnTo>
                          <a:pt x="174" y="152"/>
                        </a:lnTo>
                        <a:lnTo>
                          <a:pt x="169" y="157"/>
                        </a:lnTo>
                        <a:lnTo>
                          <a:pt x="165" y="164"/>
                        </a:lnTo>
                        <a:lnTo>
                          <a:pt x="158" y="168"/>
                        </a:lnTo>
                        <a:lnTo>
                          <a:pt x="152" y="172"/>
                        </a:lnTo>
                        <a:lnTo>
                          <a:pt x="145" y="175"/>
                        </a:lnTo>
                        <a:lnTo>
                          <a:pt x="140" y="180"/>
                        </a:lnTo>
                        <a:lnTo>
                          <a:pt x="126" y="183"/>
                        </a:lnTo>
                        <a:lnTo>
                          <a:pt x="122" y="183"/>
                        </a:lnTo>
                        <a:lnTo>
                          <a:pt x="119" y="183"/>
                        </a:lnTo>
                        <a:lnTo>
                          <a:pt x="118" y="183"/>
                        </a:lnTo>
                        <a:lnTo>
                          <a:pt x="118" y="185"/>
                        </a:lnTo>
                        <a:lnTo>
                          <a:pt x="111" y="186"/>
                        </a:lnTo>
                        <a:lnTo>
                          <a:pt x="96" y="183"/>
                        </a:lnTo>
                        <a:lnTo>
                          <a:pt x="82" y="180"/>
                        </a:lnTo>
                        <a:lnTo>
                          <a:pt x="69" y="172"/>
                        </a:lnTo>
                        <a:lnTo>
                          <a:pt x="59" y="164"/>
                        </a:lnTo>
                        <a:lnTo>
                          <a:pt x="49" y="152"/>
                        </a:lnTo>
                        <a:lnTo>
                          <a:pt x="45" y="145"/>
                        </a:lnTo>
                        <a:lnTo>
                          <a:pt x="42" y="139"/>
                        </a:lnTo>
                        <a:lnTo>
                          <a:pt x="38" y="126"/>
                        </a:lnTo>
                        <a:lnTo>
                          <a:pt x="37" y="111"/>
                        </a:lnTo>
                        <a:close/>
                      </a:path>
                    </a:pathLst>
                  </a:custGeom>
                  <a:solidFill>
                    <a:srgbClr val="00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335200" y="4910400"/>
                    <a:ext cx="378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150">
                        <a:moveTo>
                          <a:pt x="22" y="23"/>
                        </a:moveTo>
                        <a:lnTo>
                          <a:pt x="12" y="33"/>
                        </a:lnTo>
                        <a:lnTo>
                          <a:pt x="5" y="45"/>
                        </a:lnTo>
                        <a:lnTo>
                          <a:pt x="1" y="59"/>
                        </a:lnTo>
                        <a:lnTo>
                          <a:pt x="0" y="75"/>
                        </a:lnTo>
                        <a:lnTo>
                          <a:pt x="1" y="90"/>
                        </a:lnTo>
                        <a:lnTo>
                          <a:pt x="5" y="103"/>
                        </a:lnTo>
                        <a:lnTo>
                          <a:pt x="8" y="109"/>
                        </a:lnTo>
                        <a:lnTo>
                          <a:pt x="12" y="116"/>
                        </a:lnTo>
                        <a:lnTo>
                          <a:pt x="22" y="128"/>
                        </a:lnTo>
                        <a:lnTo>
                          <a:pt x="32" y="136"/>
                        </a:lnTo>
                        <a:lnTo>
                          <a:pt x="45" y="144"/>
                        </a:lnTo>
                        <a:lnTo>
                          <a:pt x="59" y="147"/>
                        </a:lnTo>
                        <a:lnTo>
                          <a:pt x="74" y="150"/>
                        </a:lnTo>
                        <a:lnTo>
                          <a:pt x="81" y="149"/>
                        </a:lnTo>
                        <a:lnTo>
                          <a:pt x="81" y="147"/>
                        </a:lnTo>
                        <a:lnTo>
                          <a:pt x="82" y="147"/>
                        </a:lnTo>
                        <a:lnTo>
                          <a:pt x="85" y="147"/>
                        </a:lnTo>
                        <a:lnTo>
                          <a:pt x="89" y="147"/>
                        </a:lnTo>
                        <a:lnTo>
                          <a:pt x="103" y="144"/>
                        </a:lnTo>
                        <a:lnTo>
                          <a:pt x="108" y="139"/>
                        </a:lnTo>
                        <a:lnTo>
                          <a:pt x="115" y="136"/>
                        </a:lnTo>
                        <a:lnTo>
                          <a:pt x="121" y="132"/>
                        </a:lnTo>
                        <a:lnTo>
                          <a:pt x="128" y="128"/>
                        </a:lnTo>
                        <a:lnTo>
                          <a:pt x="132" y="121"/>
                        </a:lnTo>
                        <a:lnTo>
                          <a:pt x="137" y="116"/>
                        </a:lnTo>
                        <a:lnTo>
                          <a:pt x="140" y="109"/>
                        </a:lnTo>
                        <a:lnTo>
                          <a:pt x="145" y="103"/>
                        </a:lnTo>
                        <a:lnTo>
                          <a:pt x="148" y="90"/>
                        </a:lnTo>
                        <a:lnTo>
                          <a:pt x="148" y="85"/>
                        </a:lnTo>
                        <a:lnTo>
                          <a:pt x="148" y="83"/>
                        </a:lnTo>
                        <a:lnTo>
                          <a:pt x="148" y="82"/>
                        </a:lnTo>
                        <a:lnTo>
                          <a:pt x="149" y="82"/>
                        </a:lnTo>
                        <a:lnTo>
                          <a:pt x="150" y="75"/>
                        </a:lnTo>
                        <a:lnTo>
                          <a:pt x="148" y="59"/>
                        </a:lnTo>
                        <a:lnTo>
                          <a:pt x="145" y="45"/>
                        </a:lnTo>
                        <a:lnTo>
                          <a:pt x="137" y="33"/>
                        </a:lnTo>
                        <a:lnTo>
                          <a:pt x="128" y="23"/>
                        </a:lnTo>
                        <a:lnTo>
                          <a:pt x="115" y="13"/>
                        </a:lnTo>
                        <a:lnTo>
                          <a:pt x="108" y="8"/>
                        </a:lnTo>
                        <a:lnTo>
                          <a:pt x="103" y="6"/>
                        </a:lnTo>
                        <a:lnTo>
                          <a:pt x="89" y="1"/>
                        </a:lnTo>
                        <a:lnTo>
                          <a:pt x="74" y="0"/>
                        </a:lnTo>
                        <a:lnTo>
                          <a:pt x="59" y="1"/>
                        </a:lnTo>
                        <a:lnTo>
                          <a:pt x="45" y="6"/>
                        </a:lnTo>
                        <a:lnTo>
                          <a:pt x="32" y="13"/>
                        </a:lnTo>
                        <a:lnTo>
                          <a:pt x="22" y="23"/>
                        </a:lnTo>
                        <a:close/>
                        <a:moveTo>
                          <a:pt x="38" y="75"/>
                        </a:moveTo>
                        <a:lnTo>
                          <a:pt x="40" y="60"/>
                        </a:lnTo>
                        <a:lnTo>
                          <a:pt x="48" y="49"/>
                        </a:lnTo>
                        <a:lnTo>
                          <a:pt x="60" y="41"/>
                        </a:lnTo>
                        <a:lnTo>
                          <a:pt x="74" y="39"/>
                        </a:lnTo>
                        <a:lnTo>
                          <a:pt x="81" y="39"/>
                        </a:lnTo>
                        <a:lnTo>
                          <a:pt x="89" y="41"/>
                        </a:lnTo>
                        <a:lnTo>
                          <a:pt x="95" y="43"/>
                        </a:lnTo>
                        <a:lnTo>
                          <a:pt x="102" y="49"/>
                        </a:lnTo>
                        <a:lnTo>
                          <a:pt x="108" y="60"/>
                        </a:lnTo>
                        <a:lnTo>
                          <a:pt x="111" y="67"/>
                        </a:lnTo>
                        <a:lnTo>
                          <a:pt x="112" y="75"/>
                        </a:lnTo>
                        <a:lnTo>
                          <a:pt x="111" y="82"/>
                        </a:lnTo>
                        <a:lnTo>
                          <a:pt x="108" y="88"/>
                        </a:lnTo>
                        <a:lnTo>
                          <a:pt x="106" y="91"/>
                        </a:lnTo>
                        <a:lnTo>
                          <a:pt x="105" y="91"/>
                        </a:lnTo>
                        <a:lnTo>
                          <a:pt x="105" y="92"/>
                        </a:lnTo>
                        <a:lnTo>
                          <a:pt x="105" y="94"/>
                        </a:lnTo>
                        <a:lnTo>
                          <a:pt x="102" y="101"/>
                        </a:lnTo>
                        <a:lnTo>
                          <a:pt x="95" y="105"/>
                        </a:lnTo>
                        <a:lnTo>
                          <a:pt x="93" y="105"/>
                        </a:lnTo>
                        <a:lnTo>
                          <a:pt x="91" y="105"/>
                        </a:lnTo>
                        <a:lnTo>
                          <a:pt x="91" y="107"/>
                        </a:lnTo>
                        <a:lnTo>
                          <a:pt x="89" y="109"/>
                        </a:lnTo>
                        <a:lnTo>
                          <a:pt x="81" y="111"/>
                        </a:lnTo>
                        <a:lnTo>
                          <a:pt x="74" y="112"/>
                        </a:lnTo>
                        <a:lnTo>
                          <a:pt x="66" y="111"/>
                        </a:lnTo>
                        <a:lnTo>
                          <a:pt x="60" y="109"/>
                        </a:lnTo>
                        <a:lnTo>
                          <a:pt x="53" y="105"/>
                        </a:lnTo>
                        <a:lnTo>
                          <a:pt x="48" y="101"/>
                        </a:lnTo>
                        <a:lnTo>
                          <a:pt x="43" y="94"/>
                        </a:lnTo>
                        <a:lnTo>
                          <a:pt x="40" y="88"/>
                        </a:lnTo>
                        <a:lnTo>
                          <a:pt x="38" y="82"/>
                        </a:lnTo>
                        <a:lnTo>
                          <a:pt x="38" y="75"/>
                        </a:lnTo>
                        <a:close/>
                      </a:path>
                    </a:pathLst>
                  </a:custGeom>
                  <a:solidFill>
                    <a:srgbClr val="00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5344920" y="4920120"/>
                    <a:ext cx="187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3">
                        <a:moveTo>
                          <a:pt x="10" y="10"/>
                        </a:moveTo>
                        <a:lnTo>
                          <a:pt x="2" y="21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2" y="49"/>
                        </a:lnTo>
                        <a:lnTo>
                          <a:pt x="5" y="55"/>
                        </a:lnTo>
                        <a:lnTo>
                          <a:pt x="10" y="62"/>
                        </a:lnTo>
                        <a:lnTo>
                          <a:pt x="15" y="66"/>
                        </a:lnTo>
                        <a:lnTo>
                          <a:pt x="22" y="70"/>
                        </a:lnTo>
                        <a:lnTo>
                          <a:pt x="28" y="72"/>
                        </a:lnTo>
                        <a:lnTo>
                          <a:pt x="36" y="73"/>
                        </a:lnTo>
                        <a:lnTo>
                          <a:pt x="43" y="72"/>
                        </a:lnTo>
                        <a:lnTo>
                          <a:pt x="51" y="70"/>
                        </a:lnTo>
                        <a:lnTo>
                          <a:pt x="53" y="68"/>
                        </a:lnTo>
                        <a:lnTo>
                          <a:pt x="53" y="66"/>
                        </a:lnTo>
                        <a:lnTo>
                          <a:pt x="55" y="66"/>
                        </a:lnTo>
                        <a:lnTo>
                          <a:pt x="57" y="66"/>
                        </a:lnTo>
                        <a:lnTo>
                          <a:pt x="64" y="62"/>
                        </a:lnTo>
                        <a:lnTo>
                          <a:pt x="67" y="55"/>
                        </a:lnTo>
                        <a:lnTo>
                          <a:pt x="67" y="53"/>
                        </a:lnTo>
                        <a:lnTo>
                          <a:pt x="67" y="52"/>
                        </a:lnTo>
                        <a:lnTo>
                          <a:pt x="68" y="52"/>
                        </a:lnTo>
                        <a:lnTo>
                          <a:pt x="70" y="49"/>
                        </a:lnTo>
                        <a:lnTo>
                          <a:pt x="73" y="43"/>
                        </a:lnTo>
                        <a:lnTo>
                          <a:pt x="74" y="36"/>
                        </a:lnTo>
                        <a:lnTo>
                          <a:pt x="73" y="28"/>
                        </a:lnTo>
                        <a:lnTo>
                          <a:pt x="70" y="21"/>
                        </a:lnTo>
                        <a:lnTo>
                          <a:pt x="64" y="10"/>
                        </a:lnTo>
                        <a:lnTo>
                          <a:pt x="57" y="4"/>
                        </a:lnTo>
                        <a:lnTo>
                          <a:pt x="51" y="2"/>
                        </a:ln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2" y="2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5136480" y="4928040"/>
                    <a:ext cx="279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864">
                        <a:moveTo>
                          <a:pt x="35" y="5"/>
                        </a:moveTo>
                        <a:lnTo>
                          <a:pt x="35" y="0"/>
                        </a:lnTo>
                        <a:lnTo>
                          <a:pt x="0" y="47"/>
                        </a:lnTo>
                        <a:lnTo>
                          <a:pt x="1" y="86"/>
                        </a:lnTo>
                        <a:lnTo>
                          <a:pt x="6" y="126"/>
                        </a:lnTo>
                        <a:lnTo>
                          <a:pt x="11" y="165"/>
                        </a:lnTo>
                        <a:lnTo>
                          <a:pt x="21" y="204"/>
                        </a:lnTo>
                        <a:lnTo>
                          <a:pt x="28" y="242"/>
                        </a:lnTo>
                        <a:lnTo>
                          <a:pt x="41" y="279"/>
                        </a:lnTo>
                        <a:lnTo>
                          <a:pt x="53" y="315"/>
                        </a:lnTo>
                        <a:lnTo>
                          <a:pt x="69" y="352"/>
                        </a:lnTo>
                        <a:lnTo>
                          <a:pt x="84" y="386"/>
                        </a:lnTo>
                        <a:lnTo>
                          <a:pt x="103" y="420"/>
                        </a:lnTo>
                        <a:lnTo>
                          <a:pt x="123" y="453"/>
                        </a:lnTo>
                        <a:lnTo>
                          <a:pt x="145" y="487"/>
                        </a:lnTo>
                        <a:lnTo>
                          <a:pt x="168" y="518"/>
                        </a:lnTo>
                        <a:lnTo>
                          <a:pt x="194" y="550"/>
                        </a:lnTo>
                        <a:lnTo>
                          <a:pt x="220" y="581"/>
                        </a:lnTo>
                        <a:lnTo>
                          <a:pt x="250" y="612"/>
                        </a:lnTo>
                        <a:lnTo>
                          <a:pt x="280" y="642"/>
                        </a:lnTo>
                        <a:lnTo>
                          <a:pt x="313" y="670"/>
                        </a:lnTo>
                        <a:lnTo>
                          <a:pt x="346" y="696"/>
                        </a:lnTo>
                        <a:lnTo>
                          <a:pt x="381" y="721"/>
                        </a:lnTo>
                        <a:lnTo>
                          <a:pt x="416" y="743"/>
                        </a:lnTo>
                        <a:lnTo>
                          <a:pt x="453" y="764"/>
                        </a:lnTo>
                        <a:lnTo>
                          <a:pt x="489" y="784"/>
                        </a:lnTo>
                        <a:lnTo>
                          <a:pt x="527" y="801"/>
                        </a:lnTo>
                        <a:lnTo>
                          <a:pt x="565" y="815"/>
                        </a:lnTo>
                        <a:lnTo>
                          <a:pt x="605" y="828"/>
                        </a:lnTo>
                        <a:lnTo>
                          <a:pt x="644" y="838"/>
                        </a:lnTo>
                        <a:lnTo>
                          <a:pt x="685" y="848"/>
                        </a:lnTo>
                        <a:lnTo>
                          <a:pt x="726" y="854"/>
                        </a:lnTo>
                        <a:lnTo>
                          <a:pt x="769" y="860"/>
                        </a:lnTo>
                        <a:lnTo>
                          <a:pt x="812" y="863"/>
                        </a:lnTo>
                        <a:lnTo>
                          <a:pt x="857" y="864"/>
                        </a:lnTo>
                        <a:lnTo>
                          <a:pt x="910" y="862"/>
                        </a:lnTo>
                        <a:lnTo>
                          <a:pt x="962" y="858"/>
                        </a:lnTo>
                        <a:lnTo>
                          <a:pt x="987" y="854"/>
                        </a:lnTo>
                        <a:lnTo>
                          <a:pt x="999" y="852"/>
                        </a:lnTo>
                        <a:lnTo>
                          <a:pt x="1013" y="850"/>
                        </a:lnTo>
                        <a:lnTo>
                          <a:pt x="1038" y="846"/>
                        </a:lnTo>
                        <a:lnTo>
                          <a:pt x="1064" y="841"/>
                        </a:lnTo>
                        <a:lnTo>
                          <a:pt x="1100" y="794"/>
                        </a:lnTo>
                        <a:lnTo>
                          <a:pt x="1041" y="807"/>
                        </a:lnTo>
                        <a:lnTo>
                          <a:pt x="1011" y="812"/>
                        </a:lnTo>
                        <a:lnTo>
                          <a:pt x="981" y="818"/>
                        </a:lnTo>
                        <a:lnTo>
                          <a:pt x="920" y="824"/>
                        </a:lnTo>
                        <a:lnTo>
                          <a:pt x="888" y="826"/>
                        </a:lnTo>
                        <a:lnTo>
                          <a:pt x="872" y="826"/>
                        </a:lnTo>
                        <a:lnTo>
                          <a:pt x="864" y="826"/>
                        </a:lnTo>
                        <a:lnTo>
                          <a:pt x="857" y="827"/>
                        </a:lnTo>
                        <a:lnTo>
                          <a:pt x="814" y="826"/>
                        </a:lnTo>
                        <a:lnTo>
                          <a:pt x="774" y="822"/>
                        </a:lnTo>
                        <a:lnTo>
                          <a:pt x="733" y="816"/>
                        </a:lnTo>
                        <a:lnTo>
                          <a:pt x="693" y="811"/>
                        </a:lnTo>
                        <a:lnTo>
                          <a:pt x="653" y="802"/>
                        </a:lnTo>
                        <a:lnTo>
                          <a:pt x="616" y="792"/>
                        </a:lnTo>
                        <a:lnTo>
                          <a:pt x="578" y="779"/>
                        </a:lnTo>
                        <a:lnTo>
                          <a:pt x="542" y="767"/>
                        </a:lnTo>
                        <a:lnTo>
                          <a:pt x="506" y="750"/>
                        </a:lnTo>
                        <a:lnTo>
                          <a:pt x="471" y="731"/>
                        </a:lnTo>
                        <a:lnTo>
                          <a:pt x="436" y="712"/>
                        </a:lnTo>
                        <a:lnTo>
                          <a:pt x="403" y="691"/>
                        </a:lnTo>
                        <a:lnTo>
                          <a:pt x="370" y="667"/>
                        </a:lnTo>
                        <a:lnTo>
                          <a:pt x="338" y="642"/>
                        </a:lnTo>
                        <a:lnTo>
                          <a:pt x="306" y="615"/>
                        </a:lnTo>
                        <a:lnTo>
                          <a:pt x="277" y="586"/>
                        </a:lnTo>
                        <a:lnTo>
                          <a:pt x="246" y="555"/>
                        </a:lnTo>
                        <a:lnTo>
                          <a:pt x="219" y="524"/>
                        </a:lnTo>
                        <a:lnTo>
                          <a:pt x="193" y="491"/>
                        </a:lnTo>
                        <a:lnTo>
                          <a:pt x="170" y="459"/>
                        </a:lnTo>
                        <a:lnTo>
                          <a:pt x="148" y="424"/>
                        </a:lnTo>
                        <a:lnTo>
                          <a:pt x="128" y="390"/>
                        </a:lnTo>
                        <a:lnTo>
                          <a:pt x="110" y="355"/>
                        </a:lnTo>
                        <a:lnTo>
                          <a:pt x="95" y="320"/>
                        </a:lnTo>
                        <a:lnTo>
                          <a:pt x="81" y="283"/>
                        </a:lnTo>
                        <a:lnTo>
                          <a:pt x="68" y="245"/>
                        </a:lnTo>
                        <a:lnTo>
                          <a:pt x="58" y="207"/>
                        </a:lnTo>
                        <a:lnTo>
                          <a:pt x="50" y="168"/>
                        </a:lnTo>
                        <a:lnTo>
                          <a:pt x="42" y="127"/>
                        </a:lnTo>
                        <a:lnTo>
                          <a:pt x="39" y="88"/>
                        </a:lnTo>
                        <a:lnTo>
                          <a:pt x="35" y="46"/>
                        </a:lnTo>
                        <a:lnTo>
                          <a:pt x="35" y="5"/>
                        </a:lnTo>
                        <a:close/>
                      </a:path>
                    </a:pathLst>
                  </a:custGeom>
                  <a:solidFill>
                    <a:srgbClr val="00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45120" y="4917600"/>
                    <a:ext cx="27828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6" h="869">
                        <a:moveTo>
                          <a:pt x="0" y="42"/>
                        </a:moveTo>
                        <a:lnTo>
                          <a:pt x="0" y="47"/>
                        </a:lnTo>
                        <a:lnTo>
                          <a:pt x="0" y="88"/>
                        </a:lnTo>
                        <a:lnTo>
                          <a:pt x="4" y="130"/>
                        </a:lnTo>
                        <a:lnTo>
                          <a:pt x="7" y="169"/>
                        </a:lnTo>
                        <a:lnTo>
                          <a:pt x="15" y="210"/>
                        </a:lnTo>
                        <a:lnTo>
                          <a:pt x="23" y="249"/>
                        </a:lnTo>
                        <a:lnTo>
                          <a:pt x="33" y="287"/>
                        </a:lnTo>
                        <a:lnTo>
                          <a:pt x="46" y="325"/>
                        </a:lnTo>
                        <a:lnTo>
                          <a:pt x="60" y="362"/>
                        </a:lnTo>
                        <a:lnTo>
                          <a:pt x="75" y="397"/>
                        </a:lnTo>
                        <a:lnTo>
                          <a:pt x="93" y="432"/>
                        </a:lnTo>
                        <a:lnTo>
                          <a:pt x="113" y="466"/>
                        </a:lnTo>
                        <a:lnTo>
                          <a:pt x="135" y="501"/>
                        </a:lnTo>
                        <a:lnTo>
                          <a:pt x="158" y="533"/>
                        </a:lnTo>
                        <a:lnTo>
                          <a:pt x="184" y="566"/>
                        </a:lnTo>
                        <a:lnTo>
                          <a:pt x="211" y="597"/>
                        </a:lnTo>
                        <a:lnTo>
                          <a:pt x="242" y="628"/>
                        </a:lnTo>
                        <a:lnTo>
                          <a:pt x="271" y="657"/>
                        </a:lnTo>
                        <a:lnTo>
                          <a:pt x="303" y="684"/>
                        </a:lnTo>
                        <a:lnTo>
                          <a:pt x="335" y="709"/>
                        </a:lnTo>
                        <a:lnTo>
                          <a:pt x="368" y="733"/>
                        </a:lnTo>
                        <a:lnTo>
                          <a:pt x="401" y="754"/>
                        </a:lnTo>
                        <a:lnTo>
                          <a:pt x="436" y="773"/>
                        </a:lnTo>
                        <a:lnTo>
                          <a:pt x="471" y="792"/>
                        </a:lnTo>
                        <a:lnTo>
                          <a:pt x="507" y="809"/>
                        </a:lnTo>
                        <a:lnTo>
                          <a:pt x="543" y="821"/>
                        </a:lnTo>
                        <a:lnTo>
                          <a:pt x="581" y="834"/>
                        </a:lnTo>
                        <a:lnTo>
                          <a:pt x="618" y="844"/>
                        </a:lnTo>
                        <a:lnTo>
                          <a:pt x="658" y="853"/>
                        </a:lnTo>
                        <a:lnTo>
                          <a:pt x="698" y="858"/>
                        </a:lnTo>
                        <a:lnTo>
                          <a:pt x="739" y="864"/>
                        </a:lnTo>
                        <a:lnTo>
                          <a:pt x="779" y="868"/>
                        </a:lnTo>
                        <a:lnTo>
                          <a:pt x="822" y="869"/>
                        </a:lnTo>
                        <a:lnTo>
                          <a:pt x="829" y="868"/>
                        </a:lnTo>
                        <a:lnTo>
                          <a:pt x="837" y="868"/>
                        </a:lnTo>
                        <a:lnTo>
                          <a:pt x="853" y="868"/>
                        </a:lnTo>
                        <a:lnTo>
                          <a:pt x="885" y="866"/>
                        </a:lnTo>
                        <a:lnTo>
                          <a:pt x="946" y="860"/>
                        </a:lnTo>
                        <a:lnTo>
                          <a:pt x="976" y="854"/>
                        </a:lnTo>
                        <a:lnTo>
                          <a:pt x="1006" y="849"/>
                        </a:lnTo>
                        <a:lnTo>
                          <a:pt x="1065" y="836"/>
                        </a:lnTo>
                        <a:lnTo>
                          <a:pt x="1081" y="811"/>
                        </a:lnTo>
                        <a:lnTo>
                          <a:pt x="1096" y="786"/>
                        </a:lnTo>
                        <a:lnTo>
                          <a:pt x="1079" y="790"/>
                        </a:lnTo>
                        <a:lnTo>
                          <a:pt x="1063" y="796"/>
                        </a:lnTo>
                        <a:lnTo>
                          <a:pt x="1030" y="805"/>
                        </a:lnTo>
                        <a:lnTo>
                          <a:pt x="996" y="813"/>
                        </a:lnTo>
                        <a:lnTo>
                          <a:pt x="963" y="820"/>
                        </a:lnTo>
                        <a:lnTo>
                          <a:pt x="928" y="824"/>
                        </a:lnTo>
                        <a:lnTo>
                          <a:pt x="894" y="828"/>
                        </a:lnTo>
                        <a:lnTo>
                          <a:pt x="858" y="830"/>
                        </a:lnTo>
                        <a:lnTo>
                          <a:pt x="839" y="830"/>
                        </a:lnTo>
                        <a:lnTo>
                          <a:pt x="830" y="830"/>
                        </a:lnTo>
                        <a:lnTo>
                          <a:pt x="826" y="830"/>
                        </a:lnTo>
                        <a:lnTo>
                          <a:pt x="824" y="830"/>
                        </a:lnTo>
                        <a:lnTo>
                          <a:pt x="822" y="831"/>
                        </a:lnTo>
                        <a:lnTo>
                          <a:pt x="782" y="830"/>
                        </a:lnTo>
                        <a:lnTo>
                          <a:pt x="742" y="827"/>
                        </a:lnTo>
                        <a:lnTo>
                          <a:pt x="702" y="822"/>
                        </a:lnTo>
                        <a:lnTo>
                          <a:pt x="665" y="817"/>
                        </a:lnTo>
                        <a:lnTo>
                          <a:pt x="627" y="807"/>
                        </a:lnTo>
                        <a:lnTo>
                          <a:pt x="591" y="797"/>
                        </a:lnTo>
                        <a:lnTo>
                          <a:pt x="555" y="786"/>
                        </a:lnTo>
                        <a:lnTo>
                          <a:pt x="521" y="773"/>
                        </a:lnTo>
                        <a:lnTo>
                          <a:pt x="486" y="758"/>
                        </a:lnTo>
                        <a:lnTo>
                          <a:pt x="453" y="741"/>
                        </a:lnTo>
                        <a:lnTo>
                          <a:pt x="420" y="721"/>
                        </a:lnTo>
                        <a:lnTo>
                          <a:pt x="388" y="702"/>
                        </a:lnTo>
                        <a:lnTo>
                          <a:pt x="356" y="679"/>
                        </a:lnTo>
                        <a:lnTo>
                          <a:pt x="326" y="656"/>
                        </a:lnTo>
                        <a:lnTo>
                          <a:pt x="296" y="629"/>
                        </a:lnTo>
                        <a:lnTo>
                          <a:pt x="268" y="602"/>
                        </a:lnTo>
                        <a:lnTo>
                          <a:pt x="240" y="572"/>
                        </a:lnTo>
                        <a:lnTo>
                          <a:pt x="213" y="542"/>
                        </a:lnTo>
                        <a:lnTo>
                          <a:pt x="189" y="510"/>
                        </a:lnTo>
                        <a:lnTo>
                          <a:pt x="167" y="480"/>
                        </a:lnTo>
                        <a:lnTo>
                          <a:pt x="145" y="447"/>
                        </a:lnTo>
                        <a:lnTo>
                          <a:pt x="127" y="414"/>
                        </a:lnTo>
                        <a:lnTo>
                          <a:pt x="110" y="380"/>
                        </a:lnTo>
                        <a:lnTo>
                          <a:pt x="96" y="347"/>
                        </a:lnTo>
                        <a:lnTo>
                          <a:pt x="81" y="311"/>
                        </a:lnTo>
                        <a:lnTo>
                          <a:pt x="69" y="276"/>
                        </a:lnTo>
                        <a:lnTo>
                          <a:pt x="59" y="238"/>
                        </a:lnTo>
                        <a:lnTo>
                          <a:pt x="52" y="202"/>
                        </a:lnTo>
                        <a:lnTo>
                          <a:pt x="46" y="164"/>
                        </a:lnTo>
                        <a:lnTo>
                          <a:pt x="42" y="125"/>
                        </a:lnTo>
                        <a:lnTo>
                          <a:pt x="39" y="85"/>
                        </a:lnTo>
                        <a:lnTo>
                          <a:pt x="39" y="47"/>
                        </a:lnTo>
                        <a:lnTo>
                          <a:pt x="40" y="0"/>
                        </a:lnTo>
                        <a:lnTo>
                          <a:pt x="39" y="0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5183640" y="4885920"/>
                    <a:ext cx="25704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843">
                        <a:moveTo>
                          <a:pt x="59" y="0"/>
                        </a:moveTo>
                        <a:lnTo>
                          <a:pt x="15" y="25"/>
                        </a:lnTo>
                        <a:lnTo>
                          <a:pt x="7" y="59"/>
                        </a:lnTo>
                        <a:lnTo>
                          <a:pt x="4" y="95"/>
                        </a:lnTo>
                        <a:lnTo>
                          <a:pt x="0" y="171"/>
                        </a:lnTo>
                        <a:lnTo>
                          <a:pt x="0" y="204"/>
                        </a:lnTo>
                        <a:lnTo>
                          <a:pt x="2" y="238"/>
                        </a:lnTo>
                        <a:lnTo>
                          <a:pt x="6" y="271"/>
                        </a:lnTo>
                        <a:lnTo>
                          <a:pt x="11" y="305"/>
                        </a:lnTo>
                        <a:lnTo>
                          <a:pt x="17" y="335"/>
                        </a:lnTo>
                        <a:lnTo>
                          <a:pt x="26" y="367"/>
                        </a:lnTo>
                        <a:lnTo>
                          <a:pt x="36" y="398"/>
                        </a:lnTo>
                        <a:lnTo>
                          <a:pt x="49" y="429"/>
                        </a:lnTo>
                        <a:lnTo>
                          <a:pt x="60" y="458"/>
                        </a:lnTo>
                        <a:lnTo>
                          <a:pt x="75" y="487"/>
                        </a:lnTo>
                        <a:lnTo>
                          <a:pt x="91" y="514"/>
                        </a:lnTo>
                        <a:lnTo>
                          <a:pt x="109" y="543"/>
                        </a:lnTo>
                        <a:lnTo>
                          <a:pt x="127" y="569"/>
                        </a:lnTo>
                        <a:lnTo>
                          <a:pt x="149" y="596"/>
                        </a:lnTo>
                        <a:lnTo>
                          <a:pt x="171" y="621"/>
                        </a:lnTo>
                        <a:lnTo>
                          <a:pt x="196" y="647"/>
                        </a:lnTo>
                        <a:lnTo>
                          <a:pt x="220" y="670"/>
                        </a:lnTo>
                        <a:lnTo>
                          <a:pt x="246" y="692"/>
                        </a:lnTo>
                        <a:lnTo>
                          <a:pt x="272" y="713"/>
                        </a:lnTo>
                        <a:lnTo>
                          <a:pt x="299" y="732"/>
                        </a:lnTo>
                        <a:lnTo>
                          <a:pt x="327" y="749"/>
                        </a:lnTo>
                        <a:lnTo>
                          <a:pt x="355" y="765"/>
                        </a:lnTo>
                        <a:lnTo>
                          <a:pt x="383" y="780"/>
                        </a:lnTo>
                        <a:lnTo>
                          <a:pt x="413" y="793"/>
                        </a:lnTo>
                        <a:lnTo>
                          <a:pt x="442" y="804"/>
                        </a:lnTo>
                        <a:lnTo>
                          <a:pt x="473" y="815"/>
                        </a:lnTo>
                        <a:lnTo>
                          <a:pt x="504" y="823"/>
                        </a:lnTo>
                        <a:lnTo>
                          <a:pt x="536" y="831"/>
                        </a:lnTo>
                        <a:lnTo>
                          <a:pt x="568" y="835"/>
                        </a:lnTo>
                        <a:lnTo>
                          <a:pt x="602" y="840"/>
                        </a:lnTo>
                        <a:lnTo>
                          <a:pt x="636" y="842"/>
                        </a:lnTo>
                        <a:lnTo>
                          <a:pt x="671" y="843"/>
                        </a:lnTo>
                        <a:lnTo>
                          <a:pt x="676" y="842"/>
                        </a:lnTo>
                        <a:lnTo>
                          <a:pt x="682" y="842"/>
                        </a:lnTo>
                        <a:lnTo>
                          <a:pt x="693" y="842"/>
                        </a:lnTo>
                        <a:lnTo>
                          <a:pt x="716" y="841"/>
                        </a:lnTo>
                        <a:lnTo>
                          <a:pt x="737" y="839"/>
                        </a:lnTo>
                        <a:lnTo>
                          <a:pt x="760" y="837"/>
                        </a:lnTo>
                        <a:lnTo>
                          <a:pt x="803" y="829"/>
                        </a:lnTo>
                        <a:lnTo>
                          <a:pt x="846" y="822"/>
                        </a:lnTo>
                        <a:lnTo>
                          <a:pt x="865" y="815"/>
                        </a:lnTo>
                        <a:lnTo>
                          <a:pt x="886" y="809"/>
                        </a:lnTo>
                        <a:lnTo>
                          <a:pt x="905" y="802"/>
                        </a:lnTo>
                        <a:lnTo>
                          <a:pt x="925" y="795"/>
                        </a:lnTo>
                        <a:lnTo>
                          <a:pt x="964" y="778"/>
                        </a:lnTo>
                        <a:lnTo>
                          <a:pt x="1003" y="759"/>
                        </a:lnTo>
                        <a:lnTo>
                          <a:pt x="1013" y="709"/>
                        </a:lnTo>
                        <a:lnTo>
                          <a:pt x="992" y="719"/>
                        </a:lnTo>
                        <a:lnTo>
                          <a:pt x="973" y="731"/>
                        </a:lnTo>
                        <a:lnTo>
                          <a:pt x="953" y="741"/>
                        </a:lnTo>
                        <a:lnTo>
                          <a:pt x="942" y="746"/>
                        </a:lnTo>
                        <a:lnTo>
                          <a:pt x="933" y="751"/>
                        </a:lnTo>
                        <a:lnTo>
                          <a:pt x="893" y="767"/>
                        </a:lnTo>
                        <a:lnTo>
                          <a:pt x="852" y="782"/>
                        </a:lnTo>
                        <a:lnTo>
                          <a:pt x="829" y="786"/>
                        </a:lnTo>
                        <a:lnTo>
                          <a:pt x="818" y="789"/>
                        </a:lnTo>
                        <a:lnTo>
                          <a:pt x="814" y="789"/>
                        </a:lnTo>
                        <a:lnTo>
                          <a:pt x="812" y="790"/>
                        </a:lnTo>
                        <a:lnTo>
                          <a:pt x="808" y="792"/>
                        </a:lnTo>
                        <a:lnTo>
                          <a:pt x="785" y="795"/>
                        </a:lnTo>
                        <a:lnTo>
                          <a:pt x="763" y="800"/>
                        </a:lnTo>
                        <a:lnTo>
                          <a:pt x="718" y="804"/>
                        </a:lnTo>
                        <a:lnTo>
                          <a:pt x="705" y="804"/>
                        </a:lnTo>
                        <a:lnTo>
                          <a:pt x="694" y="806"/>
                        </a:lnTo>
                        <a:lnTo>
                          <a:pt x="671" y="807"/>
                        </a:lnTo>
                        <a:lnTo>
                          <a:pt x="639" y="806"/>
                        </a:lnTo>
                        <a:lnTo>
                          <a:pt x="607" y="803"/>
                        </a:lnTo>
                        <a:lnTo>
                          <a:pt x="544" y="794"/>
                        </a:lnTo>
                        <a:lnTo>
                          <a:pt x="514" y="787"/>
                        </a:lnTo>
                        <a:lnTo>
                          <a:pt x="484" y="780"/>
                        </a:lnTo>
                        <a:lnTo>
                          <a:pt x="455" y="770"/>
                        </a:lnTo>
                        <a:lnTo>
                          <a:pt x="428" y="760"/>
                        </a:lnTo>
                        <a:lnTo>
                          <a:pt x="372" y="733"/>
                        </a:lnTo>
                        <a:lnTo>
                          <a:pt x="345" y="717"/>
                        </a:lnTo>
                        <a:lnTo>
                          <a:pt x="320" y="701"/>
                        </a:lnTo>
                        <a:lnTo>
                          <a:pt x="294" y="683"/>
                        </a:lnTo>
                        <a:lnTo>
                          <a:pt x="269" y="664"/>
                        </a:lnTo>
                        <a:lnTo>
                          <a:pt x="222" y="621"/>
                        </a:lnTo>
                        <a:lnTo>
                          <a:pt x="199" y="596"/>
                        </a:lnTo>
                        <a:lnTo>
                          <a:pt x="178" y="572"/>
                        </a:lnTo>
                        <a:lnTo>
                          <a:pt x="158" y="546"/>
                        </a:lnTo>
                        <a:lnTo>
                          <a:pt x="141" y="521"/>
                        </a:lnTo>
                        <a:lnTo>
                          <a:pt x="123" y="494"/>
                        </a:lnTo>
                        <a:lnTo>
                          <a:pt x="108" y="468"/>
                        </a:lnTo>
                        <a:lnTo>
                          <a:pt x="94" y="441"/>
                        </a:lnTo>
                        <a:lnTo>
                          <a:pt x="83" y="415"/>
                        </a:lnTo>
                        <a:lnTo>
                          <a:pt x="70" y="385"/>
                        </a:lnTo>
                        <a:lnTo>
                          <a:pt x="61" y="357"/>
                        </a:lnTo>
                        <a:lnTo>
                          <a:pt x="53" y="326"/>
                        </a:lnTo>
                        <a:lnTo>
                          <a:pt x="48" y="297"/>
                        </a:lnTo>
                        <a:lnTo>
                          <a:pt x="42" y="265"/>
                        </a:lnTo>
                        <a:lnTo>
                          <a:pt x="39" y="234"/>
                        </a:lnTo>
                        <a:lnTo>
                          <a:pt x="36" y="203"/>
                        </a:lnTo>
                        <a:lnTo>
                          <a:pt x="36" y="171"/>
                        </a:lnTo>
                        <a:lnTo>
                          <a:pt x="38" y="126"/>
                        </a:lnTo>
                        <a:lnTo>
                          <a:pt x="42" y="82"/>
                        </a:lnTo>
                        <a:lnTo>
                          <a:pt x="49" y="39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154840" y="4908240"/>
                    <a:ext cx="27468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868">
                        <a:moveTo>
                          <a:pt x="1" y="37"/>
                        </a:moveTo>
                        <a:lnTo>
                          <a:pt x="0" y="84"/>
                        </a:lnTo>
                        <a:lnTo>
                          <a:pt x="0" y="122"/>
                        </a:lnTo>
                        <a:lnTo>
                          <a:pt x="3" y="162"/>
                        </a:lnTo>
                        <a:lnTo>
                          <a:pt x="7" y="201"/>
                        </a:lnTo>
                        <a:lnTo>
                          <a:pt x="13" y="239"/>
                        </a:lnTo>
                        <a:lnTo>
                          <a:pt x="20" y="275"/>
                        </a:lnTo>
                        <a:lnTo>
                          <a:pt x="30" y="313"/>
                        </a:lnTo>
                        <a:lnTo>
                          <a:pt x="42" y="348"/>
                        </a:lnTo>
                        <a:lnTo>
                          <a:pt x="57" y="384"/>
                        </a:lnTo>
                        <a:lnTo>
                          <a:pt x="71" y="417"/>
                        </a:lnTo>
                        <a:lnTo>
                          <a:pt x="88" y="451"/>
                        </a:lnTo>
                        <a:lnTo>
                          <a:pt x="106" y="484"/>
                        </a:lnTo>
                        <a:lnTo>
                          <a:pt x="128" y="517"/>
                        </a:lnTo>
                        <a:lnTo>
                          <a:pt x="150" y="547"/>
                        </a:lnTo>
                        <a:lnTo>
                          <a:pt x="174" y="579"/>
                        </a:lnTo>
                        <a:lnTo>
                          <a:pt x="201" y="609"/>
                        </a:lnTo>
                        <a:lnTo>
                          <a:pt x="229" y="639"/>
                        </a:lnTo>
                        <a:lnTo>
                          <a:pt x="257" y="666"/>
                        </a:lnTo>
                        <a:lnTo>
                          <a:pt x="287" y="693"/>
                        </a:lnTo>
                        <a:lnTo>
                          <a:pt x="317" y="716"/>
                        </a:lnTo>
                        <a:lnTo>
                          <a:pt x="349" y="739"/>
                        </a:lnTo>
                        <a:lnTo>
                          <a:pt x="381" y="758"/>
                        </a:lnTo>
                        <a:lnTo>
                          <a:pt x="414" y="778"/>
                        </a:lnTo>
                        <a:lnTo>
                          <a:pt x="447" y="795"/>
                        </a:lnTo>
                        <a:lnTo>
                          <a:pt x="482" y="810"/>
                        </a:lnTo>
                        <a:lnTo>
                          <a:pt x="516" y="823"/>
                        </a:lnTo>
                        <a:lnTo>
                          <a:pt x="552" y="834"/>
                        </a:lnTo>
                        <a:lnTo>
                          <a:pt x="588" y="844"/>
                        </a:lnTo>
                        <a:lnTo>
                          <a:pt x="626" y="854"/>
                        </a:lnTo>
                        <a:lnTo>
                          <a:pt x="663" y="859"/>
                        </a:lnTo>
                        <a:lnTo>
                          <a:pt x="703" y="864"/>
                        </a:lnTo>
                        <a:lnTo>
                          <a:pt x="743" y="867"/>
                        </a:lnTo>
                        <a:lnTo>
                          <a:pt x="783" y="868"/>
                        </a:lnTo>
                        <a:lnTo>
                          <a:pt x="785" y="867"/>
                        </a:lnTo>
                        <a:lnTo>
                          <a:pt x="787" y="867"/>
                        </a:lnTo>
                        <a:lnTo>
                          <a:pt x="791" y="867"/>
                        </a:lnTo>
                        <a:lnTo>
                          <a:pt x="800" y="867"/>
                        </a:lnTo>
                        <a:lnTo>
                          <a:pt x="819" y="867"/>
                        </a:lnTo>
                        <a:lnTo>
                          <a:pt x="855" y="865"/>
                        </a:lnTo>
                        <a:lnTo>
                          <a:pt x="889" y="861"/>
                        </a:lnTo>
                        <a:lnTo>
                          <a:pt x="924" y="857"/>
                        </a:lnTo>
                        <a:lnTo>
                          <a:pt x="957" y="850"/>
                        </a:lnTo>
                        <a:lnTo>
                          <a:pt x="991" y="842"/>
                        </a:lnTo>
                        <a:lnTo>
                          <a:pt x="1024" y="833"/>
                        </a:lnTo>
                        <a:lnTo>
                          <a:pt x="1040" y="827"/>
                        </a:lnTo>
                        <a:lnTo>
                          <a:pt x="1057" y="823"/>
                        </a:lnTo>
                        <a:lnTo>
                          <a:pt x="1081" y="773"/>
                        </a:lnTo>
                        <a:lnTo>
                          <a:pt x="1062" y="779"/>
                        </a:lnTo>
                        <a:lnTo>
                          <a:pt x="1045" y="786"/>
                        </a:lnTo>
                        <a:lnTo>
                          <a:pt x="1010" y="797"/>
                        </a:lnTo>
                        <a:lnTo>
                          <a:pt x="974" y="807"/>
                        </a:lnTo>
                        <a:lnTo>
                          <a:pt x="938" y="816"/>
                        </a:lnTo>
                        <a:lnTo>
                          <a:pt x="899" y="822"/>
                        </a:lnTo>
                        <a:lnTo>
                          <a:pt x="862" y="826"/>
                        </a:lnTo>
                        <a:lnTo>
                          <a:pt x="841" y="827"/>
                        </a:lnTo>
                        <a:lnTo>
                          <a:pt x="822" y="830"/>
                        </a:lnTo>
                        <a:lnTo>
                          <a:pt x="783" y="831"/>
                        </a:lnTo>
                        <a:lnTo>
                          <a:pt x="745" y="830"/>
                        </a:lnTo>
                        <a:lnTo>
                          <a:pt x="707" y="827"/>
                        </a:lnTo>
                        <a:lnTo>
                          <a:pt x="670" y="823"/>
                        </a:lnTo>
                        <a:lnTo>
                          <a:pt x="634" y="817"/>
                        </a:lnTo>
                        <a:lnTo>
                          <a:pt x="597" y="809"/>
                        </a:lnTo>
                        <a:lnTo>
                          <a:pt x="563" y="800"/>
                        </a:lnTo>
                        <a:lnTo>
                          <a:pt x="529" y="789"/>
                        </a:lnTo>
                        <a:lnTo>
                          <a:pt x="497" y="776"/>
                        </a:lnTo>
                        <a:lnTo>
                          <a:pt x="464" y="762"/>
                        </a:lnTo>
                        <a:lnTo>
                          <a:pt x="432" y="746"/>
                        </a:lnTo>
                        <a:lnTo>
                          <a:pt x="400" y="728"/>
                        </a:lnTo>
                        <a:lnTo>
                          <a:pt x="370" y="708"/>
                        </a:lnTo>
                        <a:lnTo>
                          <a:pt x="339" y="687"/>
                        </a:lnTo>
                        <a:lnTo>
                          <a:pt x="311" y="664"/>
                        </a:lnTo>
                        <a:lnTo>
                          <a:pt x="282" y="639"/>
                        </a:lnTo>
                        <a:lnTo>
                          <a:pt x="255" y="613"/>
                        </a:lnTo>
                        <a:lnTo>
                          <a:pt x="227" y="584"/>
                        </a:lnTo>
                        <a:lnTo>
                          <a:pt x="203" y="555"/>
                        </a:lnTo>
                        <a:lnTo>
                          <a:pt x="179" y="526"/>
                        </a:lnTo>
                        <a:lnTo>
                          <a:pt x="159" y="496"/>
                        </a:lnTo>
                        <a:lnTo>
                          <a:pt x="138" y="465"/>
                        </a:lnTo>
                        <a:lnTo>
                          <a:pt x="121" y="434"/>
                        </a:lnTo>
                        <a:lnTo>
                          <a:pt x="104" y="402"/>
                        </a:lnTo>
                        <a:lnTo>
                          <a:pt x="91" y="371"/>
                        </a:lnTo>
                        <a:lnTo>
                          <a:pt x="77" y="336"/>
                        </a:lnTo>
                        <a:lnTo>
                          <a:pt x="67" y="302"/>
                        </a:lnTo>
                        <a:lnTo>
                          <a:pt x="57" y="266"/>
                        </a:lnTo>
                        <a:lnTo>
                          <a:pt x="50" y="232"/>
                        </a:lnTo>
                        <a:lnTo>
                          <a:pt x="43" y="195"/>
                        </a:lnTo>
                        <a:lnTo>
                          <a:pt x="40" y="159"/>
                        </a:lnTo>
                        <a:lnTo>
                          <a:pt x="36" y="121"/>
                        </a:lnTo>
                        <a:lnTo>
                          <a:pt x="36" y="84"/>
                        </a:lnTo>
                        <a:lnTo>
                          <a:pt x="37" y="41"/>
                        </a:lnTo>
                        <a:lnTo>
                          <a:pt x="41" y="0"/>
                        </a:lnTo>
                        <a:lnTo>
                          <a:pt x="1" y="37"/>
                        </a:lnTo>
                        <a:close/>
                      </a:path>
                    </a:pathLst>
                  </a:custGeom>
                  <a:solidFill>
                    <a:srgbClr val="00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164200" y="4899600"/>
                    <a:ext cx="26964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864">
                        <a:moveTo>
                          <a:pt x="38" y="117"/>
                        </a:moveTo>
                        <a:lnTo>
                          <a:pt x="40" y="57"/>
                        </a:lnTo>
                        <a:lnTo>
                          <a:pt x="47" y="0"/>
                        </a:lnTo>
                        <a:lnTo>
                          <a:pt x="5" y="33"/>
                        </a:lnTo>
                        <a:lnTo>
                          <a:pt x="1" y="74"/>
                        </a:lnTo>
                        <a:lnTo>
                          <a:pt x="0" y="117"/>
                        </a:lnTo>
                        <a:lnTo>
                          <a:pt x="0" y="154"/>
                        </a:lnTo>
                        <a:lnTo>
                          <a:pt x="4" y="192"/>
                        </a:lnTo>
                        <a:lnTo>
                          <a:pt x="7" y="228"/>
                        </a:lnTo>
                        <a:lnTo>
                          <a:pt x="14" y="265"/>
                        </a:lnTo>
                        <a:lnTo>
                          <a:pt x="21" y="299"/>
                        </a:lnTo>
                        <a:lnTo>
                          <a:pt x="31" y="335"/>
                        </a:lnTo>
                        <a:lnTo>
                          <a:pt x="41" y="369"/>
                        </a:lnTo>
                        <a:lnTo>
                          <a:pt x="55" y="404"/>
                        </a:lnTo>
                        <a:lnTo>
                          <a:pt x="68" y="435"/>
                        </a:lnTo>
                        <a:lnTo>
                          <a:pt x="85" y="467"/>
                        </a:lnTo>
                        <a:lnTo>
                          <a:pt x="102" y="498"/>
                        </a:lnTo>
                        <a:lnTo>
                          <a:pt x="123" y="529"/>
                        </a:lnTo>
                        <a:lnTo>
                          <a:pt x="143" y="559"/>
                        </a:lnTo>
                        <a:lnTo>
                          <a:pt x="167" y="588"/>
                        </a:lnTo>
                        <a:lnTo>
                          <a:pt x="191" y="617"/>
                        </a:lnTo>
                        <a:lnTo>
                          <a:pt x="219" y="646"/>
                        </a:lnTo>
                        <a:lnTo>
                          <a:pt x="246" y="672"/>
                        </a:lnTo>
                        <a:lnTo>
                          <a:pt x="275" y="697"/>
                        </a:lnTo>
                        <a:lnTo>
                          <a:pt x="303" y="720"/>
                        </a:lnTo>
                        <a:lnTo>
                          <a:pt x="334" y="741"/>
                        </a:lnTo>
                        <a:lnTo>
                          <a:pt x="364" y="761"/>
                        </a:lnTo>
                        <a:lnTo>
                          <a:pt x="396" y="779"/>
                        </a:lnTo>
                        <a:lnTo>
                          <a:pt x="428" y="795"/>
                        </a:lnTo>
                        <a:lnTo>
                          <a:pt x="461" y="809"/>
                        </a:lnTo>
                        <a:lnTo>
                          <a:pt x="493" y="822"/>
                        </a:lnTo>
                        <a:lnTo>
                          <a:pt x="527" y="833"/>
                        </a:lnTo>
                        <a:lnTo>
                          <a:pt x="561" y="842"/>
                        </a:lnTo>
                        <a:lnTo>
                          <a:pt x="598" y="850"/>
                        </a:lnTo>
                        <a:lnTo>
                          <a:pt x="634" y="856"/>
                        </a:lnTo>
                        <a:lnTo>
                          <a:pt x="671" y="860"/>
                        </a:lnTo>
                        <a:lnTo>
                          <a:pt x="709" y="863"/>
                        </a:lnTo>
                        <a:lnTo>
                          <a:pt x="747" y="864"/>
                        </a:lnTo>
                        <a:lnTo>
                          <a:pt x="786" y="863"/>
                        </a:lnTo>
                        <a:lnTo>
                          <a:pt x="805" y="860"/>
                        </a:lnTo>
                        <a:lnTo>
                          <a:pt x="826" y="859"/>
                        </a:lnTo>
                        <a:lnTo>
                          <a:pt x="863" y="855"/>
                        </a:lnTo>
                        <a:lnTo>
                          <a:pt x="902" y="849"/>
                        </a:lnTo>
                        <a:lnTo>
                          <a:pt x="938" y="840"/>
                        </a:lnTo>
                        <a:lnTo>
                          <a:pt x="974" y="830"/>
                        </a:lnTo>
                        <a:lnTo>
                          <a:pt x="1009" y="819"/>
                        </a:lnTo>
                        <a:lnTo>
                          <a:pt x="1026" y="812"/>
                        </a:lnTo>
                        <a:lnTo>
                          <a:pt x="1045" y="806"/>
                        </a:lnTo>
                        <a:lnTo>
                          <a:pt x="1054" y="780"/>
                        </a:lnTo>
                        <a:lnTo>
                          <a:pt x="1064" y="755"/>
                        </a:lnTo>
                        <a:lnTo>
                          <a:pt x="1060" y="755"/>
                        </a:lnTo>
                        <a:lnTo>
                          <a:pt x="1058" y="756"/>
                        </a:lnTo>
                        <a:lnTo>
                          <a:pt x="1054" y="758"/>
                        </a:lnTo>
                        <a:lnTo>
                          <a:pt x="1045" y="763"/>
                        </a:lnTo>
                        <a:lnTo>
                          <a:pt x="1026" y="772"/>
                        </a:lnTo>
                        <a:lnTo>
                          <a:pt x="990" y="787"/>
                        </a:lnTo>
                        <a:lnTo>
                          <a:pt x="952" y="799"/>
                        </a:lnTo>
                        <a:lnTo>
                          <a:pt x="913" y="809"/>
                        </a:lnTo>
                        <a:lnTo>
                          <a:pt x="872" y="817"/>
                        </a:lnTo>
                        <a:lnTo>
                          <a:pt x="831" y="823"/>
                        </a:lnTo>
                        <a:lnTo>
                          <a:pt x="820" y="823"/>
                        </a:lnTo>
                        <a:lnTo>
                          <a:pt x="814" y="823"/>
                        </a:lnTo>
                        <a:lnTo>
                          <a:pt x="810" y="824"/>
                        </a:lnTo>
                        <a:lnTo>
                          <a:pt x="789" y="826"/>
                        </a:lnTo>
                        <a:lnTo>
                          <a:pt x="768" y="826"/>
                        </a:lnTo>
                        <a:lnTo>
                          <a:pt x="747" y="828"/>
                        </a:lnTo>
                        <a:lnTo>
                          <a:pt x="710" y="826"/>
                        </a:lnTo>
                        <a:lnTo>
                          <a:pt x="674" y="824"/>
                        </a:lnTo>
                        <a:lnTo>
                          <a:pt x="639" y="820"/>
                        </a:lnTo>
                        <a:lnTo>
                          <a:pt x="605" y="814"/>
                        </a:lnTo>
                        <a:lnTo>
                          <a:pt x="571" y="806"/>
                        </a:lnTo>
                        <a:lnTo>
                          <a:pt x="538" y="797"/>
                        </a:lnTo>
                        <a:lnTo>
                          <a:pt x="505" y="787"/>
                        </a:lnTo>
                        <a:lnTo>
                          <a:pt x="474" y="775"/>
                        </a:lnTo>
                        <a:lnTo>
                          <a:pt x="442" y="761"/>
                        </a:lnTo>
                        <a:lnTo>
                          <a:pt x="412" y="745"/>
                        </a:lnTo>
                        <a:lnTo>
                          <a:pt x="382" y="728"/>
                        </a:lnTo>
                        <a:lnTo>
                          <a:pt x="354" y="710"/>
                        </a:lnTo>
                        <a:lnTo>
                          <a:pt x="326" y="689"/>
                        </a:lnTo>
                        <a:lnTo>
                          <a:pt x="298" y="668"/>
                        </a:lnTo>
                        <a:lnTo>
                          <a:pt x="271" y="644"/>
                        </a:lnTo>
                        <a:lnTo>
                          <a:pt x="246" y="619"/>
                        </a:lnTo>
                        <a:lnTo>
                          <a:pt x="220" y="592"/>
                        </a:lnTo>
                        <a:lnTo>
                          <a:pt x="196" y="565"/>
                        </a:lnTo>
                        <a:lnTo>
                          <a:pt x="174" y="536"/>
                        </a:lnTo>
                        <a:lnTo>
                          <a:pt x="154" y="509"/>
                        </a:lnTo>
                        <a:lnTo>
                          <a:pt x="135" y="478"/>
                        </a:lnTo>
                        <a:lnTo>
                          <a:pt x="118" y="449"/>
                        </a:lnTo>
                        <a:lnTo>
                          <a:pt x="102" y="418"/>
                        </a:lnTo>
                        <a:lnTo>
                          <a:pt x="90" y="389"/>
                        </a:lnTo>
                        <a:lnTo>
                          <a:pt x="76" y="356"/>
                        </a:lnTo>
                        <a:lnTo>
                          <a:pt x="66" y="324"/>
                        </a:lnTo>
                        <a:lnTo>
                          <a:pt x="57" y="291"/>
                        </a:lnTo>
                        <a:lnTo>
                          <a:pt x="50" y="259"/>
                        </a:lnTo>
                        <a:lnTo>
                          <a:pt x="43" y="223"/>
                        </a:lnTo>
                        <a:lnTo>
                          <a:pt x="40" y="188"/>
                        </a:lnTo>
                        <a:lnTo>
                          <a:pt x="38" y="152"/>
                        </a:lnTo>
                        <a:lnTo>
                          <a:pt x="38" y="117"/>
                        </a:lnTo>
                        <a:close/>
                      </a:path>
                    </a:pathLst>
                  </a:custGeom>
                  <a:solidFill>
                    <a:srgbClr val="00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5173560" y="4892040"/>
                    <a:ext cx="26460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1" h="857">
                        <a:moveTo>
                          <a:pt x="9" y="29"/>
                        </a:moveTo>
                        <a:lnTo>
                          <a:pt x="2" y="86"/>
                        </a:lnTo>
                        <a:lnTo>
                          <a:pt x="0" y="146"/>
                        </a:lnTo>
                        <a:lnTo>
                          <a:pt x="0" y="181"/>
                        </a:lnTo>
                        <a:lnTo>
                          <a:pt x="2" y="217"/>
                        </a:lnTo>
                        <a:lnTo>
                          <a:pt x="5" y="252"/>
                        </a:lnTo>
                        <a:lnTo>
                          <a:pt x="12" y="288"/>
                        </a:lnTo>
                        <a:lnTo>
                          <a:pt x="19" y="320"/>
                        </a:lnTo>
                        <a:lnTo>
                          <a:pt x="28" y="353"/>
                        </a:lnTo>
                        <a:lnTo>
                          <a:pt x="38" y="385"/>
                        </a:lnTo>
                        <a:lnTo>
                          <a:pt x="52" y="418"/>
                        </a:lnTo>
                        <a:lnTo>
                          <a:pt x="64" y="447"/>
                        </a:lnTo>
                        <a:lnTo>
                          <a:pt x="80" y="478"/>
                        </a:lnTo>
                        <a:lnTo>
                          <a:pt x="97" y="507"/>
                        </a:lnTo>
                        <a:lnTo>
                          <a:pt x="116" y="538"/>
                        </a:lnTo>
                        <a:lnTo>
                          <a:pt x="136" y="565"/>
                        </a:lnTo>
                        <a:lnTo>
                          <a:pt x="158" y="594"/>
                        </a:lnTo>
                        <a:lnTo>
                          <a:pt x="182" y="621"/>
                        </a:lnTo>
                        <a:lnTo>
                          <a:pt x="208" y="648"/>
                        </a:lnTo>
                        <a:lnTo>
                          <a:pt x="233" y="673"/>
                        </a:lnTo>
                        <a:lnTo>
                          <a:pt x="260" y="697"/>
                        </a:lnTo>
                        <a:lnTo>
                          <a:pt x="288" y="718"/>
                        </a:lnTo>
                        <a:lnTo>
                          <a:pt x="316" y="739"/>
                        </a:lnTo>
                        <a:lnTo>
                          <a:pt x="344" y="757"/>
                        </a:lnTo>
                        <a:lnTo>
                          <a:pt x="374" y="774"/>
                        </a:lnTo>
                        <a:lnTo>
                          <a:pt x="404" y="790"/>
                        </a:lnTo>
                        <a:lnTo>
                          <a:pt x="436" y="804"/>
                        </a:lnTo>
                        <a:lnTo>
                          <a:pt x="467" y="816"/>
                        </a:lnTo>
                        <a:lnTo>
                          <a:pt x="500" y="826"/>
                        </a:lnTo>
                        <a:lnTo>
                          <a:pt x="533" y="835"/>
                        </a:lnTo>
                        <a:lnTo>
                          <a:pt x="567" y="843"/>
                        </a:lnTo>
                        <a:lnTo>
                          <a:pt x="601" y="849"/>
                        </a:lnTo>
                        <a:lnTo>
                          <a:pt x="636" y="853"/>
                        </a:lnTo>
                        <a:lnTo>
                          <a:pt x="672" y="855"/>
                        </a:lnTo>
                        <a:lnTo>
                          <a:pt x="709" y="857"/>
                        </a:lnTo>
                        <a:lnTo>
                          <a:pt x="730" y="855"/>
                        </a:lnTo>
                        <a:lnTo>
                          <a:pt x="751" y="855"/>
                        </a:lnTo>
                        <a:lnTo>
                          <a:pt x="772" y="853"/>
                        </a:lnTo>
                        <a:lnTo>
                          <a:pt x="776" y="852"/>
                        </a:lnTo>
                        <a:lnTo>
                          <a:pt x="782" y="852"/>
                        </a:lnTo>
                        <a:lnTo>
                          <a:pt x="793" y="852"/>
                        </a:lnTo>
                        <a:lnTo>
                          <a:pt x="834" y="846"/>
                        </a:lnTo>
                        <a:lnTo>
                          <a:pt x="875" y="838"/>
                        </a:lnTo>
                        <a:lnTo>
                          <a:pt x="914" y="828"/>
                        </a:lnTo>
                        <a:lnTo>
                          <a:pt x="952" y="816"/>
                        </a:lnTo>
                        <a:lnTo>
                          <a:pt x="988" y="801"/>
                        </a:lnTo>
                        <a:lnTo>
                          <a:pt x="1007" y="792"/>
                        </a:lnTo>
                        <a:lnTo>
                          <a:pt x="1016" y="787"/>
                        </a:lnTo>
                        <a:lnTo>
                          <a:pt x="1020" y="785"/>
                        </a:lnTo>
                        <a:lnTo>
                          <a:pt x="1022" y="784"/>
                        </a:lnTo>
                        <a:lnTo>
                          <a:pt x="1026" y="784"/>
                        </a:lnTo>
                        <a:lnTo>
                          <a:pt x="1041" y="734"/>
                        </a:lnTo>
                        <a:lnTo>
                          <a:pt x="1002" y="753"/>
                        </a:lnTo>
                        <a:lnTo>
                          <a:pt x="963" y="770"/>
                        </a:lnTo>
                        <a:lnTo>
                          <a:pt x="943" y="777"/>
                        </a:lnTo>
                        <a:lnTo>
                          <a:pt x="924" y="784"/>
                        </a:lnTo>
                        <a:lnTo>
                          <a:pt x="903" y="790"/>
                        </a:lnTo>
                        <a:lnTo>
                          <a:pt x="884" y="797"/>
                        </a:lnTo>
                        <a:lnTo>
                          <a:pt x="841" y="804"/>
                        </a:lnTo>
                        <a:lnTo>
                          <a:pt x="798" y="812"/>
                        </a:lnTo>
                        <a:lnTo>
                          <a:pt x="775" y="814"/>
                        </a:lnTo>
                        <a:lnTo>
                          <a:pt x="754" y="816"/>
                        </a:lnTo>
                        <a:lnTo>
                          <a:pt x="731" y="817"/>
                        </a:lnTo>
                        <a:lnTo>
                          <a:pt x="720" y="817"/>
                        </a:lnTo>
                        <a:lnTo>
                          <a:pt x="714" y="817"/>
                        </a:lnTo>
                        <a:lnTo>
                          <a:pt x="709" y="818"/>
                        </a:lnTo>
                        <a:lnTo>
                          <a:pt x="674" y="817"/>
                        </a:lnTo>
                        <a:lnTo>
                          <a:pt x="640" y="815"/>
                        </a:lnTo>
                        <a:lnTo>
                          <a:pt x="606" y="810"/>
                        </a:lnTo>
                        <a:lnTo>
                          <a:pt x="574" y="806"/>
                        </a:lnTo>
                        <a:lnTo>
                          <a:pt x="542" y="798"/>
                        </a:lnTo>
                        <a:lnTo>
                          <a:pt x="511" y="790"/>
                        </a:lnTo>
                        <a:lnTo>
                          <a:pt x="480" y="779"/>
                        </a:lnTo>
                        <a:lnTo>
                          <a:pt x="451" y="768"/>
                        </a:lnTo>
                        <a:lnTo>
                          <a:pt x="421" y="755"/>
                        </a:lnTo>
                        <a:lnTo>
                          <a:pt x="393" y="740"/>
                        </a:lnTo>
                        <a:lnTo>
                          <a:pt x="365" y="724"/>
                        </a:lnTo>
                        <a:lnTo>
                          <a:pt x="337" y="707"/>
                        </a:lnTo>
                        <a:lnTo>
                          <a:pt x="310" y="688"/>
                        </a:lnTo>
                        <a:lnTo>
                          <a:pt x="284" y="667"/>
                        </a:lnTo>
                        <a:lnTo>
                          <a:pt x="258" y="645"/>
                        </a:lnTo>
                        <a:lnTo>
                          <a:pt x="234" y="622"/>
                        </a:lnTo>
                        <a:lnTo>
                          <a:pt x="209" y="596"/>
                        </a:lnTo>
                        <a:lnTo>
                          <a:pt x="187" y="571"/>
                        </a:lnTo>
                        <a:lnTo>
                          <a:pt x="165" y="544"/>
                        </a:lnTo>
                        <a:lnTo>
                          <a:pt x="147" y="518"/>
                        </a:lnTo>
                        <a:lnTo>
                          <a:pt x="129" y="489"/>
                        </a:lnTo>
                        <a:lnTo>
                          <a:pt x="113" y="462"/>
                        </a:lnTo>
                        <a:lnTo>
                          <a:pt x="98" y="433"/>
                        </a:lnTo>
                        <a:lnTo>
                          <a:pt x="87" y="404"/>
                        </a:lnTo>
                        <a:lnTo>
                          <a:pt x="74" y="373"/>
                        </a:lnTo>
                        <a:lnTo>
                          <a:pt x="64" y="342"/>
                        </a:lnTo>
                        <a:lnTo>
                          <a:pt x="55" y="310"/>
                        </a:lnTo>
                        <a:lnTo>
                          <a:pt x="49" y="280"/>
                        </a:lnTo>
                        <a:lnTo>
                          <a:pt x="44" y="246"/>
                        </a:lnTo>
                        <a:lnTo>
                          <a:pt x="40" y="213"/>
                        </a:lnTo>
                        <a:lnTo>
                          <a:pt x="38" y="179"/>
                        </a:lnTo>
                        <a:lnTo>
                          <a:pt x="38" y="146"/>
                        </a:lnTo>
                        <a:lnTo>
                          <a:pt x="42" y="70"/>
                        </a:lnTo>
                        <a:lnTo>
                          <a:pt x="45" y="34"/>
                        </a:lnTo>
                        <a:lnTo>
                          <a:pt x="53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5193000" y="4880520"/>
                    <a:ext cx="24948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29">
                        <a:moveTo>
                          <a:pt x="23" y="22"/>
                        </a:moveTo>
                        <a:lnTo>
                          <a:pt x="13" y="61"/>
                        </a:lnTo>
                        <a:lnTo>
                          <a:pt x="6" y="104"/>
                        </a:lnTo>
                        <a:lnTo>
                          <a:pt x="2" y="148"/>
                        </a:lnTo>
                        <a:lnTo>
                          <a:pt x="0" y="193"/>
                        </a:lnTo>
                        <a:lnTo>
                          <a:pt x="0" y="225"/>
                        </a:lnTo>
                        <a:lnTo>
                          <a:pt x="3" y="256"/>
                        </a:lnTo>
                        <a:lnTo>
                          <a:pt x="6" y="287"/>
                        </a:lnTo>
                        <a:lnTo>
                          <a:pt x="12" y="319"/>
                        </a:lnTo>
                        <a:lnTo>
                          <a:pt x="17" y="348"/>
                        </a:lnTo>
                        <a:lnTo>
                          <a:pt x="25" y="379"/>
                        </a:lnTo>
                        <a:lnTo>
                          <a:pt x="34" y="407"/>
                        </a:lnTo>
                        <a:lnTo>
                          <a:pt x="47" y="437"/>
                        </a:lnTo>
                        <a:lnTo>
                          <a:pt x="58" y="463"/>
                        </a:lnTo>
                        <a:lnTo>
                          <a:pt x="72" y="490"/>
                        </a:lnTo>
                        <a:lnTo>
                          <a:pt x="87" y="516"/>
                        </a:lnTo>
                        <a:lnTo>
                          <a:pt x="105" y="543"/>
                        </a:lnTo>
                        <a:lnTo>
                          <a:pt x="122" y="568"/>
                        </a:lnTo>
                        <a:lnTo>
                          <a:pt x="142" y="594"/>
                        </a:lnTo>
                        <a:lnTo>
                          <a:pt x="163" y="618"/>
                        </a:lnTo>
                        <a:lnTo>
                          <a:pt x="186" y="643"/>
                        </a:lnTo>
                        <a:lnTo>
                          <a:pt x="233" y="686"/>
                        </a:lnTo>
                        <a:lnTo>
                          <a:pt x="258" y="705"/>
                        </a:lnTo>
                        <a:lnTo>
                          <a:pt x="284" y="723"/>
                        </a:lnTo>
                        <a:lnTo>
                          <a:pt x="309" y="739"/>
                        </a:lnTo>
                        <a:lnTo>
                          <a:pt x="336" y="755"/>
                        </a:lnTo>
                        <a:lnTo>
                          <a:pt x="392" y="782"/>
                        </a:lnTo>
                        <a:lnTo>
                          <a:pt x="419" y="792"/>
                        </a:lnTo>
                        <a:lnTo>
                          <a:pt x="448" y="802"/>
                        </a:lnTo>
                        <a:lnTo>
                          <a:pt x="478" y="809"/>
                        </a:lnTo>
                        <a:lnTo>
                          <a:pt x="508" y="816"/>
                        </a:lnTo>
                        <a:lnTo>
                          <a:pt x="571" y="825"/>
                        </a:lnTo>
                        <a:lnTo>
                          <a:pt x="603" y="828"/>
                        </a:lnTo>
                        <a:lnTo>
                          <a:pt x="635" y="829"/>
                        </a:lnTo>
                        <a:lnTo>
                          <a:pt x="658" y="828"/>
                        </a:lnTo>
                        <a:lnTo>
                          <a:pt x="669" y="826"/>
                        </a:lnTo>
                        <a:lnTo>
                          <a:pt x="682" y="826"/>
                        </a:lnTo>
                        <a:lnTo>
                          <a:pt x="727" y="822"/>
                        </a:lnTo>
                        <a:lnTo>
                          <a:pt x="749" y="817"/>
                        </a:lnTo>
                        <a:lnTo>
                          <a:pt x="772" y="814"/>
                        </a:lnTo>
                        <a:lnTo>
                          <a:pt x="776" y="812"/>
                        </a:lnTo>
                        <a:lnTo>
                          <a:pt x="778" y="811"/>
                        </a:lnTo>
                        <a:lnTo>
                          <a:pt x="782" y="811"/>
                        </a:lnTo>
                        <a:lnTo>
                          <a:pt x="793" y="808"/>
                        </a:lnTo>
                        <a:lnTo>
                          <a:pt x="816" y="804"/>
                        </a:lnTo>
                        <a:lnTo>
                          <a:pt x="857" y="789"/>
                        </a:lnTo>
                        <a:lnTo>
                          <a:pt x="897" y="773"/>
                        </a:lnTo>
                        <a:lnTo>
                          <a:pt x="906" y="768"/>
                        </a:lnTo>
                        <a:lnTo>
                          <a:pt x="917" y="763"/>
                        </a:lnTo>
                        <a:lnTo>
                          <a:pt x="937" y="753"/>
                        </a:lnTo>
                        <a:lnTo>
                          <a:pt x="956" y="741"/>
                        </a:lnTo>
                        <a:lnTo>
                          <a:pt x="977" y="731"/>
                        </a:lnTo>
                        <a:lnTo>
                          <a:pt x="984" y="680"/>
                        </a:lnTo>
                        <a:lnTo>
                          <a:pt x="963" y="693"/>
                        </a:lnTo>
                        <a:lnTo>
                          <a:pt x="957" y="695"/>
                        </a:lnTo>
                        <a:lnTo>
                          <a:pt x="953" y="698"/>
                        </a:lnTo>
                        <a:lnTo>
                          <a:pt x="944" y="705"/>
                        </a:lnTo>
                        <a:lnTo>
                          <a:pt x="923" y="717"/>
                        </a:lnTo>
                        <a:lnTo>
                          <a:pt x="904" y="728"/>
                        </a:lnTo>
                        <a:lnTo>
                          <a:pt x="883" y="737"/>
                        </a:lnTo>
                        <a:lnTo>
                          <a:pt x="862" y="747"/>
                        </a:lnTo>
                        <a:lnTo>
                          <a:pt x="851" y="751"/>
                        </a:lnTo>
                        <a:lnTo>
                          <a:pt x="841" y="755"/>
                        </a:lnTo>
                        <a:lnTo>
                          <a:pt x="820" y="763"/>
                        </a:lnTo>
                        <a:lnTo>
                          <a:pt x="798" y="769"/>
                        </a:lnTo>
                        <a:lnTo>
                          <a:pt x="786" y="771"/>
                        </a:lnTo>
                        <a:lnTo>
                          <a:pt x="783" y="771"/>
                        </a:lnTo>
                        <a:lnTo>
                          <a:pt x="781" y="772"/>
                        </a:lnTo>
                        <a:lnTo>
                          <a:pt x="776" y="774"/>
                        </a:lnTo>
                        <a:lnTo>
                          <a:pt x="731" y="783"/>
                        </a:lnTo>
                        <a:lnTo>
                          <a:pt x="683" y="789"/>
                        </a:lnTo>
                        <a:lnTo>
                          <a:pt x="635" y="791"/>
                        </a:lnTo>
                        <a:lnTo>
                          <a:pt x="604" y="790"/>
                        </a:lnTo>
                        <a:lnTo>
                          <a:pt x="573" y="788"/>
                        </a:lnTo>
                        <a:lnTo>
                          <a:pt x="544" y="785"/>
                        </a:lnTo>
                        <a:lnTo>
                          <a:pt x="515" y="780"/>
                        </a:lnTo>
                        <a:lnTo>
                          <a:pt x="487" y="773"/>
                        </a:lnTo>
                        <a:lnTo>
                          <a:pt x="460" y="765"/>
                        </a:lnTo>
                        <a:lnTo>
                          <a:pt x="406" y="747"/>
                        </a:lnTo>
                        <a:lnTo>
                          <a:pt x="379" y="735"/>
                        </a:lnTo>
                        <a:lnTo>
                          <a:pt x="353" y="721"/>
                        </a:lnTo>
                        <a:lnTo>
                          <a:pt x="304" y="692"/>
                        </a:lnTo>
                        <a:lnTo>
                          <a:pt x="258" y="655"/>
                        </a:lnTo>
                        <a:lnTo>
                          <a:pt x="235" y="636"/>
                        </a:lnTo>
                        <a:lnTo>
                          <a:pt x="214" y="616"/>
                        </a:lnTo>
                        <a:lnTo>
                          <a:pt x="191" y="592"/>
                        </a:lnTo>
                        <a:lnTo>
                          <a:pt x="172" y="569"/>
                        </a:lnTo>
                        <a:lnTo>
                          <a:pt x="152" y="545"/>
                        </a:lnTo>
                        <a:lnTo>
                          <a:pt x="136" y="523"/>
                        </a:lnTo>
                        <a:lnTo>
                          <a:pt x="119" y="498"/>
                        </a:lnTo>
                        <a:lnTo>
                          <a:pt x="106" y="473"/>
                        </a:lnTo>
                        <a:lnTo>
                          <a:pt x="92" y="447"/>
                        </a:lnTo>
                        <a:lnTo>
                          <a:pt x="82" y="422"/>
                        </a:lnTo>
                        <a:lnTo>
                          <a:pt x="71" y="394"/>
                        </a:lnTo>
                        <a:lnTo>
                          <a:pt x="63" y="366"/>
                        </a:lnTo>
                        <a:lnTo>
                          <a:pt x="55" y="338"/>
                        </a:lnTo>
                        <a:lnTo>
                          <a:pt x="49" y="311"/>
                        </a:lnTo>
                        <a:lnTo>
                          <a:pt x="43" y="281"/>
                        </a:lnTo>
                        <a:lnTo>
                          <a:pt x="41" y="253"/>
                        </a:lnTo>
                        <a:lnTo>
                          <a:pt x="39" y="222"/>
                        </a:lnTo>
                        <a:lnTo>
                          <a:pt x="39" y="193"/>
                        </a:lnTo>
                        <a:lnTo>
                          <a:pt x="40" y="142"/>
                        </a:lnTo>
                        <a:lnTo>
                          <a:pt x="46" y="93"/>
                        </a:lnTo>
                        <a:lnTo>
                          <a:pt x="55" y="46"/>
                        </a:lnTo>
                        <a:lnTo>
                          <a:pt x="70" y="0"/>
                        </a:lnTo>
                        <a:lnTo>
                          <a:pt x="23" y="22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202360" y="4876560"/>
                    <a:ext cx="24012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7" h="808">
                        <a:moveTo>
                          <a:pt x="76" y="0"/>
                        </a:moveTo>
                        <a:lnTo>
                          <a:pt x="31" y="17"/>
                        </a:lnTo>
                        <a:lnTo>
                          <a:pt x="16" y="63"/>
                        </a:lnTo>
                        <a:lnTo>
                          <a:pt x="7" y="110"/>
                        </a:lnTo>
                        <a:lnTo>
                          <a:pt x="1" y="159"/>
                        </a:lnTo>
                        <a:lnTo>
                          <a:pt x="0" y="210"/>
                        </a:lnTo>
                        <a:lnTo>
                          <a:pt x="0" y="239"/>
                        </a:lnTo>
                        <a:lnTo>
                          <a:pt x="2" y="270"/>
                        </a:lnTo>
                        <a:lnTo>
                          <a:pt x="4" y="298"/>
                        </a:lnTo>
                        <a:lnTo>
                          <a:pt x="10" y="328"/>
                        </a:lnTo>
                        <a:lnTo>
                          <a:pt x="16" y="355"/>
                        </a:lnTo>
                        <a:lnTo>
                          <a:pt x="24" y="383"/>
                        </a:lnTo>
                        <a:lnTo>
                          <a:pt x="32" y="411"/>
                        </a:lnTo>
                        <a:lnTo>
                          <a:pt x="43" y="439"/>
                        </a:lnTo>
                        <a:lnTo>
                          <a:pt x="53" y="464"/>
                        </a:lnTo>
                        <a:lnTo>
                          <a:pt x="67" y="490"/>
                        </a:lnTo>
                        <a:lnTo>
                          <a:pt x="80" y="515"/>
                        </a:lnTo>
                        <a:lnTo>
                          <a:pt x="97" y="540"/>
                        </a:lnTo>
                        <a:lnTo>
                          <a:pt x="113" y="562"/>
                        </a:lnTo>
                        <a:lnTo>
                          <a:pt x="133" y="586"/>
                        </a:lnTo>
                        <a:lnTo>
                          <a:pt x="152" y="609"/>
                        </a:lnTo>
                        <a:lnTo>
                          <a:pt x="175" y="633"/>
                        </a:lnTo>
                        <a:lnTo>
                          <a:pt x="196" y="653"/>
                        </a:lnTo>
                        <a:lnTo>
                          <a:pt x="219" y="672"/>
                        </a:lnTo>
                        <a:lnTo>
                          <a:pt x="265" y="709"/>
                        </a:lnTo>
                        <a:lnTo>
                          <a:pt x="314" y="738"/>
                        </a:lnTo>
                        <a:lnTo>
                          <a:pt x="340" y="752"/>
                        </a:lnTo>
                        <a:lnTo>
                          <a:pt x="367" y="764"/>
                        </a:lnTo>
                        <a:lnTo>
                          <a:pt x="421" y="782"/>
                        </a:lnTo>
                        <a:lnTo>
                          <a:pt x="448" y="790"/>
                        </a:lnTo>
                        <a:lnTo>
                          <a:pt x="476" y="797"/>
                        </a:lnTo>
                        <a:lnTo>
                          <a:pt x="505" y="802"/>
                        </a:lnTo>
                        <a:lnTo>
                          <a:pt x="534" y="805"/>
                        </a:lnTo>
                        <a:lnTo>
                          <a:pt x="565" y="807"/>
                        </a:lnTo>
                        <a:lnTo>
                          <a:pt x="596" y="808"/>
                        </a:lnTo>
                        <a:lnTo>
                          <a:pt x="644" y="806"/>
                        </a:lnTo>
                        <a:lnTo>
                          <a:pt x="692" y="800"/>
                        </a:lnTo>
                        <a:lnTo>
                          <a:pt x="737" y="791"/>
                        </a:lnTo>
                        <a:lnTo>
                          <a:pt x="742" y="789"/>
                        </a:lnTo>
                        <a:lnTo>
                          <a:pt x="744" y="788"/>
                        </a:lnTo>
                        <a:lnTo>
                          <a:pt x="747" y="788"/>
                        </a:lnTo>
                        <a:lnTo>
                          <a:pt x="759" y="786"/>
                        </a:lnTo>
                        <a:lnTo>
                          <a:pt x="781" y="780"/>
                        </a:lnTo>
                        <a:lnTo>
                          <a:pt x="802" y="772"/>
                        </a:lnTo>
                        <a:lnTo>
                          <a:pt x="812" y="768"/>
                        </a:lnTo>
                        <a:lnTo>
                          <a:pt x="823" y="764"/>
                        </a:lnTo>
                        <a:lnTo>
                          <a:pt x="844" y="754"/>
                        </a:lnTo>
                        <a:lnTo>
                          <a:pt x="865" y="745"/>
                        </a:lnTo>
                        <a:lnTo>
                          <a:pt x="884" y="734"/>
                        </a:lnTo>
                        <a:lnTo>
                          <a:pt x="905" y="722"/>
                        </a:lnTo>
                        <a:lnTo>
                          <a:pt x="914" y="715"/>
                        </a:lnTo>
                        <a:lnTo>
                          <a:pt x="918" y="712"/>
                        </a:lnTo>
                        <a:lnTo>
                          <a:pt x="924" y="710"/>
                        </a:lnTo>
                        <a:lnTo>
                          <a:pt x="945" y="697"/>
                        </a:lnTo>
                        <a:lnTo>
                          <a:pt x="946" y="672"/>
                        </a:lnTo>
                        <a:lnTo>
                          <a:pt x="946" y="660"/>
                        </a:lnTo>
                        <a:lnTo>
                          <a:pt x="947" y="649"/>
                        </a:lnTo>
                        <a:lnTo>
                          <a:pt x="908" y="676"/>
                        </a:lnTo>
                        <a:lnTo>
                          <a:pt x="888" y="688"/>
                        </a:lnTo>
                        <a:lnTo>
                          <a:pt x="882" y="690"/>
                        </a:lnTo>
                        <a:lnTo>
                          <a:pt x="878" y="694"/>
                        </a:lnTo>
                        <a:lnTo>
                          <a:pt x="869" y="701"/>
                        </a:lnTo>
                        <a:lnTo>
                          <a:pt x="857" y="705"/>
                        </a:lnTo>
                        <a:lnTo>
                          <a:pt x="852" y="707"/>
                        </a:lnTo>
                        <a:lnTo>
                          <a:pt x="847" y="711"/>
                        </a:lnTo>
                        <a:lnTo>
                          <a:pt x="827" y="721"/>
                        </a:lnTo>
                        <a:lnTo>
                          <a:pt x="784" y="739"/>
                        </a:lnTo>
                        <a:lnTo>
                          <a:pt x="738" y="752"/>
                        </a:lnTo>
                        <a:lnTo>
                          <a:pt x="693" y="762"/>
                        </a:lnTo>
                        <a:lnTo>
                          <a:pt x="645" y="768"/>
                        </a:lnTo>
                        <a:lnTo>
                          <a:pt x="620" y="769"/>
                        </a:lnTo>
                        <a:lnTo>
                          <a:pt x="608" y="769"/>
                        </a:lnTo>
                        <a:lnTo>
                          <a:pt x="596" y="770"/>
                        </a:lnTo>
                        <a:lnTo>
                          <a:pt x="567" y="769"/>
                        </a:lnTo>
                        <a:lnTo>
                          <a:pt x="539" y="766"/>
                        </a:lnTo>
                        <a:lnTo>
                          <a:pt x="484" y="760"/>
                        </a:lnTo>
                        <a:lnTo>
                          <a:pt x="431" y="746"/>
                        </a:lnTo>
                        <a:lnTo>
                          <a:pt x="406" y="738"/>
                        </a:lnTo>
                        <a:lnTo>
                          <a:pt x="381" y="729"/>
                        </a:lnTo>
                        <a:lnTo>
                          <a:pt x="356" y="718"/>
                        </a:lnTo>
                        <a:lnTo>
                          <a:pt x="332" y="705"/>
                        </a:lnTo>
                        <a:lnTo>
                          <a:pt x="286" y="678"/>
                        </a:lnTo>
                        <a:lnTo>
                          <a:pt x="241" y="644"/>
                        </a:lnTo>
                        <a:lnTo>
                          <a:pt x="221" y="626"/>
                        </a:lnTo>
                        <a:lnTo>
                          <a:pt x="201" y="607"/>
                        </a:lnTo>
                        <a:lnTo>
                          <a:pt x="161" y="564"/>
                        </a:lnTo>
                        <a:lnTo>
                          <a:pt x="143" y="541"/>
                        </a:lnTo>
                        <a:lnTo>
                          <a:pt x="128" y="519"/>
                        </a:lnTo>
                        <a:lnTo>
                          <a:pt x="112" y="496"/>
                        </a:lnTo>
                        <a:lnTo>
                          <a:pt x="100" y="473"/>
                        </a:lnTo>
                        <a:lnTo>
                          <a:pt x="87" y="448"/>
                        </a:lnTo>
                        <a:lnTo>
                          <a:pt x="77" y="424"/>
                        </a:lnTo>
                        <a:lnTo>
                          <a:pt x="67" y="398"/>
                        </a:lnTo>
                        <a:lnTo>
                          <a:pt x="59" y="373"/>
                        </a:lnTo>
                        <a:lnTo>
                          <a:pt x="46" y="321"/>
                        </a:lnTo>
                        <a:lnTo>
                          <a:pt x="41" y="293"/>
                        </a:lnTo>
                        <a:lnTo>
                          <a:pt x="39" y="265"/>
                        </a:lnTo>
                        <a:lnTo>
                          <a:pt x="36" y="237"/>
                        </a:lnTo>
                        <a:lnTo>
                          <a:pt x="36" y="210"/>
                        </a:lnTo>
                        <a:lnTo>
                          <a:pt x="39" y="154"/>
                        </a:lnTo>
                        <a:lnTo>
                          <a:pt x="45" y="101"/>
                        </a:lnTo>
                        <a:lnTo>
                          <a:pt x="58" y="49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00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5230800" y="4869360"/>
                    <a:ext cx="21060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1" h="722">
                        <a:moveTo>
                          <a:pt x="38" y="237"/>
                        </a:moveTo>
                        <a:lnTo>
                          <a:pt x="38" y="203"/>
                        </a:lnTo>
                        <a:lnTo>
                          <a:pt x="41" y="171"/>
                        </a:lnTo>
                        <a:lnTo>
                          <a:pt x="53" y="111"/>
                        </a:lnTo>
                        <a:lnTo>
                          <a:pt x="61" y="82"/>
                        </a:lnTo>
                        <a:lnTo>
                          <a:pt x="74" y="53"/>
                        </a:lnTo>
                        <a:lnTo>
                          <a:pt x="104" y="0"/>
                        </a:lnTo>
                        <a:lnTo>
                          <a:pt x="59" y="5"/>
                        </a:lnTo>
                        <a:lnTo>
                          <a:pt x="33" y="58"/>
                        </a:lnTo>
                        <a:lnTo>
                          <a:pt x="23" y="85"/>
                        </a:lnTo>
                        <a:lnTo>
                          <a:pt x="15" y="114"/>
                        </a:lnTo>
                        <a:lnTo>
                          <a:pt x="7" y="144"/>
                        </a:lnTo>
                        <a:lnTo>
                          <a:pt x="3" y="175"/>
                        </a:lnTo>
                        <a:lnTo>
                          <a:pt x="0" y="237"/>
                        </a:lnTo>
                        <a:lnTo>
                          <a:pt x="1" y="286"/>
                        </a:lnTo>
                        <a:lnTo>
                          <a:pt x="8" y="333"/>
                        </a:lnTo>
                        <a:lnTo>
                          <a:pt x="19" y="379"/>
                        </a:lnTo>
                        <a:lnTo>
                          <a:pt x="26" y="400"/>
                        </a:lnTo>
                        <a:lnTo>
                          <a:pt x="35" y="423"/>
                        </a:lnTo>
                        <a:lnTo>
                          <a:pt x="55" y="465"/>
                        </a:lnTo>
                        <a:lnTo>
                          <a:pt x="66" y="484"/>
                        </a:lnTo>
                        <a:lnTo>
                          <a:pt x="79" y="504"/>
                        </a:lnTo>
                        <a:lnTo>
                          <a:pt x="109" y="543"/>
                        </a:lnTo>
                        <a:lnTo>
                          <a:pt x="125" y="561"/>
                        </a:lnTo>
                        <a:lnTo>
                          <a:pt x="143" y="580"/>
                        </a:lnTo>
                        <a:lnTo>
                          <a:pt x="178" y="612"/>
                        </a:lnTo>
                        <a:lnTo>
                          <a:pt x="217" y="642"/>
                        </a:lnTo>
                        <a:lnTo>
                          <a:pt x="256" y="665"/>
                        </a:lnTo>
                        <a:lnTo>
                          <a:pt x="298" y="686"/>
                        </a:lnTo>
                        <a:lnTo>
                          <a:pt x="341" y="702"/>
                        </a:lnTo>
                        <a:lnTo>
                          <a:pt x="388" y="713"/>
                        </a:lnTo>
                        <a:lnTo>
                          <a:pt x="434" y="720"/>
                        </a:lnTo>
                        <a:lnTo>
                          <a:pt x="485" y="722"/>
                        </a:lnTo>
                        <a:lnTo>
                          <a:pt x="497" y="721"/>
                        </a:lnTo>
                        <a:lnTo>
                          <a:pt x="509" y="721"/>
                        </a:lnTo>
                        <a:lnTo>
                          <a:pt x="534" y="720"/>
                        </a:lnTo>
                        <a:lnTo>
                          <a:pt x="582" y="713"/>
                        </a:lnTo>
                        <a:lnTo>
                          <a:pt x="627" y="702"/>
                        </a:lnTo>
                        <a:lnTo>
                          <a:pt x="637" y="697"/>
                        </a:lnTo>
                        <a:lnTo>
                          <a:pt x="649" y="694"/>
                        </a:lnTo>
                        <a:lnTo>
                          <a:pt x="671" y="686"/>
                        </a:lnTo>
                        <a:lnTo>
                          <a:pt x="692" y="676"/>
                        </a:lnTo>
                        <a:lnTo>
                          <a:pt x="696" y="672"/>
                        </a:lnTo>
                        <a:lnTo>
                          <a:pt x="702" y="670"/>
                        </a:lnTo>
                        <a:lnTo>
                          <a:pt x="713" y="665"/>
                        </a:lnTo>
                        <a:lnTo>
                          <a:pt x="722" y="659"/>
                        </a:lnTo>
                        <a:lnTo>
                          <a:pt x="727" y="655"/>
                        </a:lnTo>
                        <a:lnTo>
                          <a:pt x="733" y="653"/>
                        </a:lnTo>
                        <a:lnTo>
                          <a:pt x="753" y="642"/>
                        </a:lnTo>
                        <a:lnTo>
                          <a:pt x="792" y="612"/>
                        </a:lnTo>
                        <a:lnTo>
                          <a:pt x="810" y="596"/>
                        </a:lnTo>
                        <a:lnTo>
                          <a:pt x="829" y="580"/>
                        </a:lnTo>
                        <a:lnTo>
                          <a:pt x="831" y="578"/>
                        </a:lnTo>
                        <a:lnTo>
                          <a:pt x="825" y="532"/>
                        </a:lnTo>
                        <a:lnTo>
                          <a:pt x="803" y="554"/>
                        </a:lnTo>
                        <a:lnTo>
                          <a:pt x="769" y="584"/>
                        </a:lnTo>
                        <a:lnTo>
                          <a:pt x="751" y="597"/>
                        </a:lnTo>
                        <a:lnTo>
                          <a:pt x="734" y="611"/>
                        </a:lnTo>
                        <a:lnTo>
                          <a:pt x="715" y="622"/>
                        </a:lnTo>
                        <a:lnTo>
                          <a:pt x="696" y="634"/>
                        </a:lnTo>
                        <a:lnTo>
                          <a:pt x="658" y="653"/>
                        </a:lnTo>
                        <a:lnTo>
                          <a:pt x="617" y="666"/>
                        </a:lnTo>
                        <a:lnTo>
                          <a:pt x="595" y="671"/>
                        </a:lnTo>
                        <a:lnTo>
                          <a:pt x="575" y="677"/>
                        </a:lnTo>
                        <a:lnTo>
                          <a:pt x="552" y="680"/>
                        </a:lnTo>
                        <a:lnTo>
                          <a:pt x="541" y="681"/>
                        </a:lnTo>
                        <a:lnTo>
                          <a:pt x="531" y="683"/>
                        </a:lnTo>
                        <a:lnTo>
                          <a:pt x="485" y="686"/>
                        </a:lnTo>
                        <a:lnTo>
                          <a:pt x="439" y="683"/>
                        </a:lnTo>
                        <a:lnTo>
                          <a:pt x="396" y="677"/>
                        </a:lnTo>
                        <a:lnTo>
                          <a:pt x="353" y="666"/>
                        </a:lnTo>
                        <a:lnTo>
                          <a:pt x="313" y="653"/>
                        </a:lnTo>
                        <a:lnTo>
                          <a:pt x="273" y="634"/>
                        </a:lnTo>
                        <a:lnTo>
                          <a:pt x="237" y="611"/>
                        </a:lnTo>
                        <a:lnTo>
                          <a:pt x="202" y="584"/>
                        </a:lnTo>
                        <a:lnTo>
                          <a:pt x="169" y="554"/>
                        </a:lnTo>
                        <a:lnTo>
                          <a:pt x="137" y="520"/>
                        </a:lnTo>
                        <a:lnTo>
                          <a:pt x="111" y="485"/>
                        </a:lnTo>
                        <a:lnTo>
                          <a:pt x="99" y="466"/>
                        </a:lnTo>
                        <a:lnTo>
                          <a:pt x="89" y="448"/>
                        </a:lnTo>
                        <a:lnTo>
                          <a:pt x="70" y="409"/>
                        </a:lnTo>
                        <a:lnTo>
                          <a:pt x="55" y="368"/>
                        </a:lnTo>
                        <a:lnTo>
                          <a:pt x="49" y="347"/>
                        </a:lnTo>
                        <a:lnTo>
                          <a:pt x="45" y="326"/>
                        </a:lnTo>
                        <a:lnTo>
                          <a:pt x="41" y="304"/>
                        </a:lnTo>
                        <a:lnTo>
                          <a:pt x="39" y="282"/>
                        </a:lnTo>
                        <a:lnTo>
                          <a:pt x="38" y="237"/>
                        </a:lnTo>
                        <a:close/>
                      </a:path>
                    </a:pathLst>
                  </a:custGeom>
                  <a:solidFill>
                    <a:srgbClr val="00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5240160" y="4868280"/>
                    <a:ext cx="20016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787" h="689">
                        <a:moveTo>
                          <a:pt x="66" y="3"/>
                        </a:moveTo>
                        <a:lnTo>
                          <a:pt x="36" y="56"/>
                        </a:lnTo>
                        <a:lnTo>
                          <a:pt x="23" y="85"/>
                        </a:lnTo>
                        <a:lnTo>
                          <a:pt x="15" y="114"/>
                        </a:lnTo>
                        <a:lnTo>
                          <a:pt x="3" y="174"/>
                        </a:lnTo>
                        <a:lnTo>
                          <a:pt x="0" y="206"/>
                        </a:lnTo>
                        <a:lnTo>
                          <a:pt x="0" y="240"/>
                        </a:lnTo>
                        <a:lnTo>
                          <a:pt x="1" y="285"/>
                        </a:lnTo>
                        <a:lnTo>
                          <a:pt x="3" y="307"/>
                        </a:lnTo>
                        <a:lnTo>
                          <a:pt x="7" y="329"/>
                        </a:lnTo>
                        <a:lnTo>
                          <a:pt x="11" y="350"/>
                        </a:lnTo>
                        <a:lnTo>
                          <a:pt x="17" y="371"/>
                        </a:lnTo>
                        <a:lnTo>
                          <a:pt x="32" y="412"/>
                        </a:lnTo>
                        <a:lnTo>
                          <a:pt x="51" y="451"/>
                        </a:lnTo>
                        <a:lnTo>
                          <a:pt x="61" y="469"/>
                        </a:lnTo>
                        <a:lnTo>
                          <a:pt x="73" y="488"/>
                        </a:lnTo>
                        <a:lnTo>
                          <a:pt x="99" y="523"/>
                        </a:lnTo>
                        <a:lnTo>
                          <a:pt x="131" y="557"/>
                        </a:lnTo>
                        <a:lnTo>
                          <a:pt x="164" y="587"/>
                        </a:lnTo>
                        <a:lnTo>
                          <a:pt x="199" y="614"/>
                        </a:lnTo>
                        <a:lnTo>
                          <a:pt x="235" y="637"/>
                        </a:lnTo>
                        <a:lnTo>
                          <a:pt x="275" y="656"/>
                        </a:lnTo>
                        <a:lnTo>
                          <a:pt x="315" y="669"/>
                        </a:lnTo>
                        <a:lnTo>
                          <a:pt x="358" y="680"/>
                        </a:lnTo>
                        <a:lnTo>
                          <a:pt x="401" y="686"/>
                        </a:lnTo>
                        <a:lnTo>
                          <a:pt x="447" y="689"/>
                        </a:lnTo>
                        <a:lnTo>
                          <a:pt x="493" y="686"/>
                        </a:lnTo>
                        <a:lnTo>
                          <a:pt x="503" y="684"/>
                        </a:lnTo>
                        <a:lnTo>
                          <a:pt x="514" y="683"/>
                        </a:lnTo>
                        <a:lnTo>
                          <a:pt x="537" y="680"/>
                        </a:lnTo>
                        <a:lnTo>
                          <a:pt x="557" y="674"/>
                        </a:lnTo>
                        <a:lnTo>
                          <a:pt x="579" y="669"/>
                        </a:lnTo>
                        <a:lnTo>
                          <a:pt x="620" y="656"/>
                        </a:lnTo>
                        <a:lnTo>
                          <a:pt x="658" y="637"/>
                        </a:lnTo>
                        <a:lnTo>
                          <a:pt x="677" y="625"/>
                        </a:lnTo>
                        <a:lnTo>
                          <a:pt x="696" y="614"/>
                        </a:lnTo>
                        <a:lnTo>
                          <a:pt x="713" y="600"/>
                        </a:lnTo>
                        <a:lnTo>
                          <a:pt x="731" y="587"/>
                        </a:lnTo>
                        <a:lnTo>
                          <a:pt x="765" y="557"/>
                        </a:lnTo>
                        <a:lnTo>
                          <a:pt x="787" y="535"/>
                        </a:lnTo>
                        <a:lnTo>
                          <a:pt x="781" y="511"/>
                        </a:lnTo>
                        <a:lnTo>
                          <a:pt x="776" y="489"/>
                        </a:lnTo>
                        <a:lnTo>
                          <a:pt x="758" y="510"/>
                        </a:lnTo>
                        <a:lnTo>
                          <a:pt x="752" y="514"/>
                        </a:lnTo>
                        <a:lnTo>
                          <a:pt x="748" y="520"/>
                        </a:lnTo>
                        <a:lnTo>
                          <a:pt x="739" y="531"/>
                        </a:lnTo>
                        <a:lnTo>
                          <a:pt x="707" y="558"/>
                        </a:lnTo>
                        <a:lnTo>
                          <a:pt x="698" y="564"/>
                        </a:lnTo>
                        <a:lnTo>
                          <a:pt x="690" y="571"/>
                        </a:lnTo>
                        <a:lnTo>
                          <a:pt x="674" y="583"/>
                        </a:lnTo>
                        <a:lnTo>
                          <a:pt x="640" y="604"/>
                        </a:lnTo>
                        <a:lnTo>
                          <a:pt x="622" y="612"/>
                        </a:lnTo>
                        <a:lnTo>
                          <a:pt x="605" y="621"/>
                        </a:lnTo>
                        <a:lnTo>
                          <a:pt x="595" y="623"/>
                        </a:lnTo>
                        <a:lnTo>
                          <a:pt x="586" y="626"/>
                        </a:lnTo>
                        <a:lnTo>
                          <a:pt x="568" y="633"/>
                        </a:lnTo>
                        <a:lnTo>
                          <a:pt x="529" y="643"/>
                        </a:lnTo>
                        <a:lnTo>
                          <a:pt x="488" y="649"/>
                        </a:lnTo>
                        <a:lnTo>
                          <a:pt x="447" y="651"/>
                        </a:lnTo>
                        <a:lnTo>
                          <a:pt x="404" y="649"/>
                        </a:lnTo>
                        <a:lnTo>
                          <a:pt x="365" y="643"/>
                        </a:lnTo>
                        <a:lnTo>
                          <a:pt x="326" y="633"/>
                        </a:lnTo>
                        <a:lnTo>
                          <a:pt x="290" y="621"/>
                        </a:lnTo>
                        <a:lnTo>
                          <a:pt x="254" y="604"/>
                        </a:lnTo>
                        <a:lnTo>
                          <a:pt x="220" y="583"/>
                        </a:lnTo>
                        <a:lnTo>
                          <a:pt x="187" y="558"/>
                        </a:lnTo>
                        <a:lnTo>
                          <a:pt x="157" y="531"/>
                        </a:lnTo>
                        <a:lnTo>
                          <a:pt x="128" y="499"/>
                        </a:lnTo>
                        <a:lnTo>
                          <a:pt x="104" y="467"/>
                        </a:lnTo>
                        <a:lnTo>
                          <a:pt x="82" y="433"/>
                        </a:lnTo>
                        <a:lnTo>
                          <a:pt x="73" y="414"/>
                        </a:lnTo>
                        <a:lnTo>
                          <a:pt x="66" y="397"/>
                        </a:lnTo>
                        <a:lnTo>
                          <a:pt x="58" y="378"/>
                        </a:lnTo>
                        <a:lnTo>
                          <a:pt x="53" y="360"/>
                        </a:lnTo>
                        <a:lnTo>
                          <a:pt x="44" y="321"/>
                        </a:lnTo>
                        <a:lnTo>
                          <a:pt x="38" y="281"/>
                        </a:lnTo>
                        <a:lnTo>
                          <a:pt x="37" y="240"/>
                        </a:lnTo>
                        <a:lnTo>
                          <a:pt x="38" y="206"/>
                        </a:lnTo>
                        <a:lnTo>
                          <a:pt x="41" y="173"/>
                        </a:lnTo>
                        <a:lnTo>
                          <a:pt x="47" y="141"/>
                        </a:lnTo>
                        <a:lnTo>
                          <a:pt x="56" y="112"/>
                        </a:lnTo>
                        <a:lnTo>
                          <a:pt x="66" y="81"/>
                        </a:lnTo>
                        <a:lnTo>
                          <a:pt x="80" y="53"/>
                        </a:lnTo>
                        <a:lnTo>
                          <a:pt x="95" y="26"/>
                        </a:lnTo>
                        <a:lnTo>
                          <a:pt x="114" y="0"/>
                        </a:lnTo>
                        <a:lnTo>
                          <a:pt x="66" y="3"/>
                        </a:lnTo>
                        <a:close/>
                      </a:path>
                    </a:pathLst>
                  </a:custGeom>
                  <a:solidFill>
                    <a:srgbClr val="00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5221440" y="4870440"/>
                    <a:ext cx="22140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3" h="756">
                        <a:moveTo>
                          <a:pt x="37" y="232"/>
                        </a:moveTo>
                        <a:lnTo>
                          <a:pt x="40" y="170"/>
                        </a:lnTo>
                        <a:lnTo>
                          <a:pt x="44" y="139"/>
                        </a:lnTo>
                        <a:lnTo>
                          <a:pt x="52" y="109"/>
                        </a:lnTo>
                        <a:lnTo>
                          <a:pt x="60" y="80"/>
                        </a:lnTo>
                        <a:lnTo>
                          <a:pt x="70" y="53"/>
                        </a:lnTo>
                        <a:lnTo>
                          <a:pt x="96" y="0"/>
                        </a:lnTo>
                        <a:lnTo>
                          <a:pt x="48" y="10"/>
                        </a:lnTo>
                        <a:lnTo>
                          <a:pt x="26" y="61"/>
                        </a:lnTo>
                        <a:lnTo>
                          <a:pt x="17" y="87"/>
                        </a:lnTo>
                        <a:lnTo>
                          <a:pt x="11" y="115"/>
                        </a:lnTo>
                        <a:lnTo>
                          <a:pt x="5" y="142"/>
                        </a:lnTo>
                        <a:lnTo>
                          <a:pt x="2" y="172"/>
                        </a:lnTo>
                        <a:lnTo>
                          <a:pt x="0" y="232"/>
                        </a:lnTo>
                        <a:lnTo>
                          <a:pt x="2" y="284"/>
                        </a:lnTo>
                        <a:lnTo>
                          <a:pt x="4" y="309"/>
                        </a:lnTo>
                        <a:lnTo>
                          <a:pt x="9" y="335"/>
                        </a:lnTo>
                        <a:lnTo>
                          <a:pt x="13" y="359"/>
                        </a:lnTo>
                        <a:lnTo>
                          <a:pt x="20" y="384"/>
                        </a:lnTo>
                        <a:lnTo>
                          <a:pt x="37" y="431"/>
                        </a:lnTo>
                        <a:lnTo>
                          <a:pt x="46" y="453"/>
                        </a:lnTo>
                        <a:lnTo>
                          <a:pt x="57" y="476"/>
                        </a:lnTo>
                        <a:lnTo>
                          <a:pt x="70" y="497"/>
                        </a:lnTo>
                        <a:lnTo>
                          <a:pt x="85" y="520"/>
                        </a:lnTo>
                        <a:lnTo>
                          <a:pt x="99" y="540"/>
                        </a:lnTo>
                        <a:lnTo>
                          <a:pt x="116" y="562"/>
                        </a:lnTo>
                        <a:lnTo>
                          <a:pt x="133" y="581"/>
                        </a:lnTo>
                        <a:lnTo>
                          <a:pt x="153" y="601"/>
                        </a:lnTo>
                        <a:lnTo>
                          <a:pt x="171" y="620"/>
                        </a:lnTo>
                        <a:lnTo>
                          <a:pt x="191" y="637"/>
                        </a:lnTo>
                        <a:lnTo>
                          <a:pt x="233" y="668"/>
                        </a:lnTo>
                        <a:lnTo>
                          <a:pt x="254" y="682"/>
                        </a:lnTo>
                        <a:lnTo>
                          <a:pt x="275" y="694"/>
                        </a:lnTo>
                        <a:lnTo>
                          <a:pt x="322" y="717"/>
                        </a:lnTo>
                        <a:lnTo>
                          <a:pt x="368" y="733"/>
                        </a:lnTo>
                        <a:lnTo>
                          <a:pt x="393" y="740"/>
                        </a:lnTo>
                        <a:lnTo>
                          <a:pt x="418" y="745"/>
                        </a:lnTo>
                        <a:lnTo>
                          <a:pt x="469" y="752"/>
                        </a:lnTo>
                        <a:lnTo>
                          <a:pt x="495" y="754"/>
                        </a:lnTo>
                        <a:lnTo>
                          <a:pt x="522" y="756"/>
                        </a:lnTo>
                        <a:lnTo>
                          <a:pt x="534" y="754"/>
                        </a:lnTo>
                        <a:lnTo>
                          <a:pt x="546" y="754"/>
                        </a:lnTo>
                        <a:lnTo>
                          <a:pt x="571" y="753"/>
                        </a:lnTo>
                        <a:lnTo>
                          <a:pt x="619" y="746"/>
                        </a:lnTo>
                        <a:lnTo>
                          <a:pt x="642" y="741"/>
                        </a:lnTo>
                        <a:lnTo>
                          <a:pt x="653" y="737"/>
                        </a:lnTo>
                        <a:lnTo>
                          <a:pt x="665" y="735"/>
                        </a:lnTo>
                        <a:lnTo>
                          <a:pt x="711" y="722"/>
                        </a:lnTo>
                        <a:lnTo>
                          <a:pt x="731" y="711"/>
                        </a:lnTo>
                        <a:lnTo>
                          <a:pt x="753" y="702"/>
                        </a:lnTo>
                        <a:lnTo>
                          <a:pt x="773" y="691"/>
                        </a:lnTo>
                        <a:lnTo>
                          <a:pt x="795" y="680"/>
                        </a:lnTo>
                        <a:lnTo>
                          <a:pt x="814" y="666"/>
                        </a:lnTo>
                        <a:lnTo>
                          <a:pt x="834" y="652"/>
                        </a:lnTo>
                        <a:lnTo>
                          <a:pt x="873" y="622"/>
                        </a:lnTo>
                        <a:lnTo>
                          <a:pt x="868" y="573"/>
                        </a:lnTo>
                        <a:lnTo>
                          <a:pt x="866" y="575"/>
                        </a:lnTo>
                        <a:lnTo>
                          <a:pt x="847" y="591"/>
                        </a:lnTo>
                        <a:lnTo>
                          <a:pt x="829" y="607"/>
                        </a:lnTo>
                        <a:lnTo>
                          <a:pt x="790" y="637"/>
                        </a:lnTo>
                        <a:lnTo>
                          <a:pt x="770" y="648"/>
                        </a:lnTo>
                        <a:lnTo>
                          <a:pt x="764" y="650"/>
                        </a:lnTo>
                        <a:lnTo>
                          <a:pt x="759" y="654"/>
                        </a:lnTo>
                        <a:lnTo>
                          <a:pt x="750" y="660"/>
                        </a:lnTo>
                        <a:lnTo>
                          <a:pt x="739" y="665"/>
                        </a:lnTo>
                        <a:lnTo>
                          <a:pt x="733" y="667"/>
                        </a:lnTo>
                        <a:lnTo>
                          <a:pt x="729" y="671"/>
                        </a:lnTo>
                        <a:lnTo>
                          <a:pt x="708" y="681"/>
                        </a:lnTo>
                        <a:lnTo>
                          <a:pt x="686" y="689"/>
                        </a:lnTo>
                        <a:lnTo>
                          <a:pt x="674" y="692"/>
                        </a:lnTo>
                        <a:lnTo>
                          <a:pt x="664" y="697"/>
                        </a:lnTo>
                        <a:lnTo>
                          <a:pt x="619" y="708"/>
                        </a:lnTo>
                        <a:lnTo>
                          <a:pt x="571" y="715"/>
                        </a:lnTo>
                        <a:lnTo>
                          <a:pt x="546" y="716"/>
                        </a:lnTo>
                        <a:lnTo>
                          <a:pt x="534" y="716"/>
                        </a:lnTo>
                        <a:lnTo>
                          <a:pt x="522" y="717"/>
                        </a:lnTo>
                        <a:lnTo>
                          <a:pt x="471" y="715"/>
                        </a:lnTo>
                        <a:lnTo>
                          <a:pt x="425" y="708"/>
                        </a:lnTo>
                        <a:lnTo>
                          <a:pt x="378" y="697"/>
                        </a:lnTo>
                        <a:lnTo>
                          <a:pt x="335" y="681"/>
                        </a:lnTo>
                        <a:lnTo>
                          <a:pt x="293" y="660"/>
                        </a:lnTo>
                        <a:lnTo>
                          <a:pt x="254" y="637"/>
                        </a:lnTo>
                        <a:lnTo>
                          <a:pt x="215" y="607"/>
                        </a:lnTo>
                        <a:lnTo>
                          <a:pt x="180" y="575"/>
                        </a:lnTo>
                        <a:lnTo>
                          <a:pt x="162" y="556"/>
                        </a:lnTo>
                        <a:lnTo>
                          <a:pt x="146" y="538"/>
                        </a:lnTo>
                        <a:lnTo>
                          <a:pt x="116" y="499"/>
                        </a:lnTo>
                        <a:lnTo>
                          <a:pt x="103" y="479"/>
                        </a:lnTo>
                        <a:lnTo>
                          <a:pt x="92" y="460"/>
                        </a:lnTo>
                        <a:lnTo>
                          <a:pt x="72" y="418"/>
                        </a:lnTo>
                        <a:lnTo>
                          <a:pt x="63" y="395"/>
                        </a:lnTo>
                        <a:lnTo>
                          <a:pt x="56" y="374"/>
                        </a:lnTo>
                        <a:lnTo>
                          <a:pt x="45" y="328"/>
                        </a:lnTo>
                        <a:lnTo>
                          <a:pt x="38" y="281"/>
                        </a:lnTo>
                        <a:lnTo>
                          <a:pt x="37" y="232"/>
                        </a:lnTo>
                        <a:close/>
                      </a:path>
                    </a:pathLst>
                  </a:custGeom>
                  <a:solidFill>
                    <a:srgbClr val="00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211720" y="4872960"/>
                    <a:ext cx="2311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782">
                        <a:moveTo>
                          <a:pt x="38" y="222"/>
                        </a:moveTo>
                        <a:lnTo>
                          <a:pt x="40" y="162"/>
                        </a:lnTo>
                        <a:lnTo>
                          <a:pt x="43" y="132"/>
                        </a:lnTo>
                        <a:lnTo>
                          <a:pt x="49" y="105"/>
                        </a:lnTo>
                        <a:lnTo>
                          <a:pt x="55" y="77"/>
                        </a:lnTo>
                        <a:lnTo>
                          <a:pt x="64" y="51"/>
                        </a:lnTo>
                        <a:lnTo>
                          <a:pt x="86" y="0"/>
                        </a:lnTo>
                        <a:lnTo>
                          <a:pt x="40" y="12"/>
                        </a:lnTo>
                        <a:lnTo>
                          <a:pt x="22" y="61"/>
                        </a:lnTo>
                        <a:lnTo>
                          <a:pt x="9" y="113"/>
                        </a:lnTo>
                        <a:lnTo>
                          <a:pt x="3" y="166"/>
                        </a:lnTo>
                        <a:lnTo>
                          <a:pt x="0" y="222"/>
                        </a:lnTo>
                        <a:lnTo>
                          <a:pt x="0" y="249"/>
                        </a:lnTo>
                        <a:lnTo>
                          <a:pt x="3" y="277"/>
                        </a:lnTo>
                        <a:lnTo>
                          <a:pt x="5" y="305"/>
                        </a:lnTo>
                        <a:lnTo>
                          <a:pt x="10" y="333"/>
                        </a:lnTo>
                        <a:lnTo>
                          <a:pt x="23" y="385"/>
                        </a:lnTo>
                        <a:lnTo>
                          <a:pt x="31" y="410"/>
                        </a:lnTo>
                        <a:lnTo>
                          <a:pt x="41" y="436"/>
                        </a:lnTo>
                        <a:lnTo>
                          <a:pt x="51" y="460"/>
                        </a:lnTo>
                        <a:lnTo>
                          <a:pt x="64" y="485"/>
                        </a:lnTo>
                        <a:lnTo>
                          <a:pt x="76" y="508"/>
                        </a:lnTo>
                        <a:lnTo>
                          <a:pt x="92" y="531"/>
                        </a:lnTo>
                        <a:lnTo>
                          <a:pt x="107" y="553"/>
                        </a:lnTo>
                        <a:lnTo>
                          <a:pt x="125" y="576"/>
                        </a:lnTo>
                        <a:lnTo>
                          <a:pt x="165" y="619"/>
                        </a:lnTo>
                        <a:lnTo>
                          <a:pt x="185" y="638"/>
                        </a:lnTo>
                        <a:lnTo>
                          <a:pt x="205" y="656"/>
                        </a:lnTo>
                        <a:lnTo>
                          <a:pt x="250" y="690"/>
                        </a:lnTo>
                        <a:lnTo>
                          <a:pt x="296" y="717"/>
                        </a:lnTo>
                        <a:lnTo>
                          <a:pt x="320" y="730"/>
                        </a:lnTo>
                        <a:lnTo>
                          <a:pt x="345" y="741"/>
                        </a:lnTo>
                        <a:lnTo>
                          <a:pt x="370" y="750"/>
                        </a:lnTo>
                        <a:lnTo>
                          <a:pt x="395" y="758"/>
                        </a:lnTo>
                        <a:lnTo>
                          <a:pt x="448" y="772"/>
                        </a:lnTo>
                        <a:lnTo>
                          <a:pt x="503" y="778"/>
                        </a:lnTo>
                        <a:lnTo>
                          <a:pt x="531" y="781"/>
                        </a:lnTo>
                        <a:lnTo>
                          <a:pt x="560" y="782"/>
                        </a:lnTo>
                        <a:lnTo>
                          <a:pt x="572" y="781"/>
                        </a:lnTo>
                        <a:lnTo>
                          <a:pt x="584" y="781"/>
                        </a:lnTo>
                        <a:lnTo>
                          <a:pt x="609" y="780"/>
                        </a:lnTo>
                        <a:lnTo>
                          <a:pt x="657" y="774"/>
                        </a:lnTo>
                        <a:lnTo>
                          <a:pt x="702" y="764"/>
                        </a:lnTo>
                        <a:lnTo>
                          <a:pt x="748" y="751"/>
                        </a:lnTo>
                        <a:lnTo>
                          <a:pt x="791" y="733"/>
                        </a:lnTo>
                        <a:lnTo>
                          <a:pt x="811" y="723"/>
                        </a:lnTo>
                        <a:lnTo>
                          <a:pt x="816" y="719"/>
                        </a:lnTo>
                        <a:lnTo>
                          <a:pt x="821" y="717"/>
                        </a:lnTo>
                        <a:lnTo>
                          <a:pt x="833" y="713"/>
                        </a:lnTo>
                        <a:lnTo>
                          <a:pt x="842" y="706"/>
                        </a:lnTo>
                        <a:lnTo>
                          <a:pt x="846" y="702"/>
                        </a:lnTo>
                        <a:lnTo>
                          <a:pt x="852" y="700"/>
                        </a:lnTo>
                        <a:lnTo>
                          <a:pt x="872" y="688"/>
                        </a:lnTo>
                        <a:lnTo>
                          <a:pt x="911" y="661"/>
                        </a:lnTo>
                        <a:lnTo>
                          <a:pt x="911" y="645"/>
                        </a:lnTo>
                        <a:lnTo>
                          <a:pt x="911" y="612"/>
                        </a:lnTo>
                        <a:lnTo>
                          <a:pt x="872" y="642"/>
                        </a:lnTo>
                        <a:lnTo>
                          <a:pt x="852" y="656"/>
                        </a:lnTo>
                        <a:lnTo>
                          <a:pt x="833" y="670"/>
                        </a:lnTo>
                        <a:lnTo>
                          <a:pt x="811" y="681"/>
                        </a:lnTo>
                        <a:lnTo>
                          <a:pt x="791" y="692"/>
                        </a:lnTo>
                        <a:lnTo>
                          <a:pt x="769" y="701"/>
                        </a:lnTo>
                        <a:lnTo>
                          <a:pt x="749" y="712"/>
                        </a:lnTo>
                        <a:lnTo>
                          <a:pt x="703" y="725"/>
                        </a:lnTo>
                        <a:lnTo>
                          <a:pt x="691" y="727"/>
                        </a:lnTo>
                        <a:lnTo>
                          <a:pt x="680" y="731"/>
                        </a:lnTo>
                        <a:lnTo>
                          <a:pt x="657" y="736"/>
                        </a:lnTo>
                        <a:lnTo>
                          <a:pt x="609" y="743"/>
                        </a:lnTo>
                        <a:lnTo>
                          <a:pt x="584" y="744"/>
                        </a:lnTo>
                        <a:lnTo>
                          <a:pt x="572" y="744"/>
                        </a:lnTo>
                        <a:lnTo>
                          <a:pt x="560" y="746"/>
                        </a:lnTo>
                        <a:lnTo>
                          <a:pt x="533" y="744"/>
                        </a:lnTo>
                        <a:lnTo>
                          <a:pt x="507" y="742"/>
                        </a:lnTo>
                        <a:lnTo>
                          <a:pt x="456" y="735"/>
                        </a:lnTo>
                        <a:lnTo>
                          <a:pt x="431" y="730"/>
                        </a:lnTo>
                        <a:lnTo>
                          <a:pt x="406" y="723"/>
                        </a:lnTo>
                        <a:lnTo>
                          <a:pt x="360" y="707"/>
                        </a:lnTo>
                        <a:lnTo>
                          <a:pt x="313" y="684"/>
                        </a:lnTo>
                        <a:lnTo>
                          <a:pt x="292" y="672"/>
                        </a:lnTo>
                        <a:lnTo>
                          <a:pt x="271" y="658"/>
                        </a:lnTo>
                        <a:lnTo>
                          <a:pt x="229" y="627"/>
                        </a:lnTo>
                        <a:lnTo>
                          <a:pt x="209" y="610"/>
                        </a:lnTo>
                        <a:lnTo>
                          <a:pt x="191" y="591"/>
                        </a:lnTo>
                        <a:lnTo>
                          <a:pt x="171" y="571"/>
                        </a:lnTo>
                        <a:lnTo>
                          <a:pt x="154" y="552"/>
                        </a:lnTo>
                        <a:lnTo>
                          <a:pt x="137" y="530"/>
                        </a:lnTo>
                        <a:lnTo>
                          <a:pt x="123" y="510"/>
                        </a:lnTo>
                        <a:lnTo>
                          <a:pt x="108" y="487"/>
                        </a:lnTo>
                        <a:lnTo>
                          <a:pt x="95" y="466"/>
                        </a:lnTo>
                        <a:lnTo>
                          <a:pt x="84" y="443"/>
                        </a:lnTo>
                        <a:lnTo>
                          <a:pt x="75" y="421"/>
                        </a:lnTo>
                        <a:lnTo>
                          <a:pt x="58" y="374"/>
                        </a:lnTo>
                        <a:lnTo>
                          <a:pt x="51" y="349"/>
                        </a:lnTo>
                        <a:lnTo>
                          <a:pt x="47" y="325"/>
                        </a:lnTo>
                        <a:lnTo>
                          <a:pt x="42" y="299"/>
                        </a:lnTo>
                        <a:lnTo>
                          <a:pt x="40" y="274"/>
                        </a:lnTo>
                        <a:lnTo>
                          <a:pt x="38" y="222"/>
                        </a:lnTo>
                        <a:close/>
                      </a:path>
                    </a:pathLst>
                  </a:custGeom>
                  <a:solidFill>
                    <a:srgbClr val="00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105520" y="5027040"/>
                    <a:ext cx="23004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689">
                        <a:moveTo>
                          <a:pt x="0" y="40"/>
                        </a:moveTo>
                        <a:lnTo>
                          <a:pt x="1" y="94"/>
                        </a:lnTo>
                        <a:lnTo>
                          <a:pt x="20" y="131"/>
                        </a:lnTo>
                        <a:lnTo>
                          <a:pt x="43" y="170"/>
                        </a:lnTo>
                        <a:lnTo>
                          <a:pt x="66" y="206"/>
                        </a:lnTo>
                        <a:lnTo>
                          <a:pt x="92" y="244"/>
                        </a:lnTo>
                        <a:lnTo>
                          <a:pt x="118" y="279"/>
                        </a:lnTo>
                        <a:lnTo>
                          <a:pt x="147" y="314"/>
                        </a:lnTo>
                        <a:lnTo>
                          <a:pt x="178" y="348"/>
                        </a:lnTo>
                        <a:lnTo>
                          <a:pt x="212" y="383"/>
                        </a:lnTo>
                        <a:lnTo>
                          <a:pt x="244" y="414"/>
                        </a:lnTo>
                        <a:lnTo>
                          <a:pt x="277" y="443"/>
                        </a:lnTo>
                        <a:lnTo>
                          <a:pt x="310" y="470"/>
                        </a:lnTo>
                        <a:lnTo>
                          <a:pt x="345" y="498"/>
                        </a:lnTo>
                        <a:lnTo>
                          <a:pt x="416" y="545"/>
                        </a:lnTo>
                        <a:lnTo>
                          <a:pt x="452" y="567"/>
                        </a:lnTo>
                        <a:lnTo>
                          <a:pt x="490" y="587"/>
                        </a:lnTo>
                        <a:lnTo>
                          <a:pt x="527" y="605"/>
                        </a:lnTo>
                        <a:lnTo>
                          <a:pt x="566" y="622"/>
                        </a:lnTo>
                        <a:lnTo>
                          <a:pt x="604" y="637"/>
                        </a:lnTo>
                        <a:lnTo>
                          <a:pt x="645" y="651"/>
                        </a:lnTo>
                        <a:lnTo>
                          <a:pt x="685" y="662"/>
                        </a:lnTo>
                        <a:lnTo>
                          <a:pt x="727" y="672"/>
                        </a:lnTo>
                        <a:lnTo>
                          <a:pt x="769" y="681"/>
                        </a:lnTo>
                        <a:lnTo>
                          <a:pt x="812" y="689"/>
                        </a:lnTo>
                        <a:lnTo>
                          <a:pt x="835" y="682"/>
                        </a:lnTo>
                        <a:lnTo>
                          <a:pt x="846" y="679"/>
                        </a:lnTo>
                        <a:lnTo>
                          <a:pt x="858" y="677"/>
                        </a:lnTo>
                        <a:lnTo>
                          <a:pt x="881" y="669"/>
                        </a:lnTo>
                        <a:lnTo>
                          <a:pt x="892" y="664"/>
                        </a:lnTo>
                        <a:lnTo>
                          <a:pt x="898" y="662"/>
                        </a:lnTo>
                        <a:lnTo>
                          <a:pt x="905" y="661"/>
                        </a:lnTo>
                        <a:lnTo>
                          <a:pt x="856" y="655"/>
                        </a:lnTo>
                        <a:lnTo>
                          <a:pt x="808" y="649"/>
                        </a:lnTo>
                        <a:lnTo>
                          <a:pt x="762" y="642"/>
                        </a:lnTo>
                        <a:lnTo>
                          <a:pt x="717" y="631"/>
                        </a:lnTo>
                        <a:lnTo>
                          <a:pt x="671" y="619"/>
                        </a:lnTo>
                        <a:lnTo>
                          <a:pt x="628" y="605"/>
                        </a:lnTo>
                        <a:lnTo>
                          <a:pt x="585" y="589"/>
                        </a:lnTo>
                        <a:lnTo>
                          <a:pt x="544" y="572"/>
                        </a:lnTo>
                        <a:lnTo>
                          <a:pt x="502" y="551"/>
                        </a:lnTo>
                        <a:lnTo>
                          <a:pt x="461" y="529"/>
                        </a:lnTo>
                        <a:lnTo>
                          <a:pt x="422" y="506"/>
                        </a:lnTo>
                        <a:lnTo>
                          <a:pt x="383" y="479"/>
                        </a:lnTo>
                        <a:lnTo>
                          <a:pt x="345" y="451"/>
                        </a:lnTo>
                        <a:lnTo>
                          <a:pt x="308" y="422"/>
                        </a:lnTo>
                        <a:lnTo>
                          <a:pt x="272" y="390"/>
                        </a:lnTo>
                        <a:lnTo>
                          <a:pt x="238" y="357"/>
                        </a:lnTo>
                        <a:lnTo>
                          <a:pt x="198" y="315"/>
                        </a:lnTo>
                        <a:lnTo>
                          <a:pt x="179" y="294"/>
                        </a:lnTo>
                        <a:lnTo>
                          <a:pt x="162" y="273"/>
                        </a:lnTo>
                        <a:lnTo>
                          <a:pt x="144" y="250"/>
                        </a:lnTo>
                        <a:lnTo>
                          <a:pt x="128" y="229"/>
                        </a:lnTo>
                        <a:lnTo>
                          <a:pt x="97" y="186"/>
                        </a:lnTo>
                        <a:lnTo>
                          <a:pt x="69" y="141"/>
                        </a:lnTo>
                        <a:lnTo>
                          <a:pt x="43" y="95"/>
                        </a:lnTo>
                        <a:lnTo>
                          <a:pt x="20" y="48"/>
                        </a:lnTo>
                        <a:lnTo>
                          <a:pt x="1" y="0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5105880" y="5004360"/>
                    <a:ext cx="248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0" h="748">
                        <a:moveTo>
                          <a:pt x="10" y="0"/>
                        </a:moveTo>
                        <a:lnTo>
                          <a:pt x="2" y="42"/>
                        </a:lnTo>
                        <a:lnTo>
                          <a:pt x="0" y="87"/>
                        </a:lnTo>
                        <a:lnTo>
                          <a:pt x="19" y="135"/>
                        </a:lnTo>
                        <a:lnTo>
                          <a:pt x="42" y="182"/>
                        </a:lnTo>
                        <a:lnTo>
                          <a:pt x="68" y="228"/>
                        </a:lnTo>
                        <a:lnTo>
                          <a:pt x="96" y="273"/>
                        </a:lnTo>
                        <a:lnTo>
                          <a:pt x="127" y="316"/>
                        </a:lnTo>
                        <a:lnTo>
                          <a:pt x="143" y="337"/>
                        </a:lnTo>
                        <a:lnTo>
                          <a:pt x="161" y="360"/>
                        </a:lnTo>
                        <a:lnTo>
                          <a:pt x="178" y="381"/>
                        </a:lnTo>
                        <a:lnTo>
                          <a:pt x="197" y="402"/>
                        </a:lnTo>
                        <a:lnTo>
                          <a:pt x="237" y="444"/>
                        </a:lnTo>
                        <a:lnTo>
                          <a:pt x="271" y="477"/>
                        </a:lnTo>
                        <a:lnTo>
                          <a:pt x="307" y="509"/>
                        </a:lnTo>
                        <a:lnTo>
                          <a:pt x="344" y="538"/>
                        </a:lnTo>
                        <a:lnTo>
                          <a:pt x="382" y="566"/>
                        </a:lnTo>
                        <a:lnTo>
                          <a:pt x="421" y="593"/>
                        </a:lnTo>
                        <a:lnTo>
                          <a:pt x="460" y="616"/>
                        </a:lnTo>
                        <a:lnTo>
                          <a:pt x="501" y="638"/>
                        </a:lnTo>
                        <a:lnTo>
                          <a:pt x="543" y="659"/>
                        </a:lnTo>
                        <a:lnTo>
                          <a:pt x="584" y="676"/>
                        </a:lnTo>
                        <a:lnTo>
                          <a:pt x="627" y="692"/>
                        </a:lnTo>
                        <a:lnTo>
                          <a:pt x="670" y="706"/>
                        </a:lnTo>
                        <a:lnTo>
                          <a:pt x="716" y="718"/>
                        </a:lnTo>
                        <a:lnTo>
                          <a:pt x="761" y="729"/>
                        </a:lnTo>
                        <a:lnTo>
                          <a:pt x="807" y="736"/>
                        </a:lnTo>
                        <a:lnTo>
                          <a:pt x="855" y="742"/>
                        </a:lnTo>
                        <a:lnTo>
                          <a:pt x="904" y="748"/>
                        </a:lnTo>
                        <a:lnTo>
                          <a:pt x="942" y="731"/>
                        </a:lnTo>
                        <a:lnTo>
                          <a:pt x="961" y="722"/>
                        </a:lnTo>
                        <a:lnTo>
                          <a:pt x="980" y="713"/>
                        </a:lnTo>
                        <a:lnTo>
                          <a:pt x="976" y="713"/>
                        </a:lnTo>
                        <a:lnTo>
                          <a:pt x="924" y="710"/>
                        </a:lnTo>
                        <a:lnTo>
                          <a:pt x="873" y="707"/>
                        </a:lnTo>
                        <a:lnTo>
                          <a:pt x="823" y="701"/>
                        </a:lnTo>
                        <a:lnTo>
                          <a:pt x="775" y="693"/>
                        </a:lnTo>
                        <a:lnTo>
                          <a:pt x="726" y="682"/>
                        </a:lnTo>
                        <a:lnTo>
                          <a:pt x="679" y="670"/>
                        </a:lnTo>
                        <a:lnTo>
                          <a:pt x="633" y="655"/>
                        </a:lnTo>
                        <a:lnTo>
                          <a:pt x="589" y="638"/>
                        </a:lnTo>
                        <a:lnTo>
                          <a:pt x="543" y="616"/>
                        </a:lnTo>
                        <a:lnTo>
                          <a:pt x="500" y="595"/>
                        </a:lnTo>
                        <a:lnTo>
                          <a:pt x="458" y="571"/>
                        </a:lnTo>
                        <a:lnTo>
                          <a:pt x="417" y="545"/>
                        </a:lnTo>
                        <a:lnTo>
                          <a:pt x="377" y="515"/>
                        </a:lnTo>
                        <a:lnTo>
                          <a:pt x="338" y="485"/>
                        </a:lnTo>
                        <a:lnTo>
                          <a:pt x="299" y="452"/>
                        </a:lnTo>
                        <a:lnTo>
                          <a:pt x="263" y="417"/>
                        </a:lnTo>
                        <a:lnTo>
                          <a:pt x="218" y="369"/>
                        </a:lnTo>
                        <a:lnTo>
                          <a:pt x="196" y="344"/>
                        </a:lnTo>
                        <a:lnTo>
                          <a:pt x="177" y="320"/>
                        </a:lnTo>
                        <a:lnTo>
                          <a:pt x="140" y="271"/>
                        </a:lnTo>
                        <a:lnTo>
                          <a:pt x="107" y="220"/>
                        </a:lnTo>
                        <a:lnTo>
                          <a:pt x="76" y="166"/>
                        </a:lnTo>
                        <a:lnTo>
                          <a:pt x="51" y="112"/>
                        </a:lnTo>
                        <a:lnTo>
                          <a:pt x="39" y="84"/>
                        </a:lnTo>
                        <a:lnTo>
                          <a:pt x="28" y="56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7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5108400" y="4985280"/>
                    <a:ext cx="26208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2" h="789">
                        <a:moveTo>
                          <a:pt x="18" y="0"/>
                        </a:moveTo>
                        <a:lnTo>
                          <a:pt x="8" y="36"/>
                        </a:lnTo>
                        <a:lnTo>
                          <a:pt x="0" y="76"/>
                        </a:lnTo>
                        <a:lnTo>
                          <a:pt x="18" y="132"/>
                        </a:lnTo>
                        <a:lnTo>
                          <a:pt x="29" y="160"/>
                        </a:lnTo>
                        <a:lnTo>
                          <a:pt x="41" y="188"/>
                        </a:lnTo>
                        <a:lnTo>
                          <a:pt x="66" y="242"/>
                        </a:lnTo>
                        <a:lnTo>
                          <a:pt x="97" y="296"/>
                        </a:lnTo>
                        <a:lnTo>
                          <a:pt x="130" y="347"/>
                        </a:lnTo>
                        <a:lnTo>
                          <a:pt x="167" y="396"/>
                        </a:lnTo>
                        <a:lnTo>
                          <a:pt x="186" y="420"/>
                        </a:lnTo>
                        <a:lnTo>
                          <a:pt x="208" y="445"/>
                        </a:lnTo>
                        <a:lnTo>
                          <a:pt x="253" y="493"/>
                        </a:lnTo>
                        <a:lnTo>
                          <a:pt x="289" y="528"/>
                        </a:lnTo>
                        <a:lnTo>
                          <a:pt x="328" y="561"/>
                        </a:lnTo>
                        <a:lnTo>
                          <a:pt x="367" y="591"/>
                        </a:lnTo>
                        <a:lnTo>
                          <a:pt x="407" y="621"/>
                        </a:lnTo>
                        <a:lnTo>
                          <a:pt x="448" y="647"/>
                        </a:lnTo>
                        <a:lnTo>
                          <a:pt x="490" y="671"/>
                        </a:lnTo>
                        <a:lnTo>
                          <a:pt x="533" y="692"/>
                        </a:lnTo>
                        <a:lnTo>
                          <a:pt x="579" y="714"/>
                        </a:lnTo>
                        <a:lnTo>
                          <a:pt x="623" y="731"/>
                        </a:lnTo>
                        <a:lnTo>
                          <a:pt x="669" y="746"/>
                        </a:lnTo>
                        <a:lnTo>
                          <a:pt x="716" y="758"/>
                        </a:lnTo>
                        <a:lnTo>
                          <a:pt x="765" y="769"/>
                        </a:lnTo>
                        <a:lnTo>
                          <a:pt x="813" y="777"/>
                        </a:lnTo>
                        <a:lnTo>
                          <a:pt x="863" y="783"/>
                        </a:lnTo>
                        <a:lnTo>
                          <a:pt x="914" y="786"/>
                        </a:lnTo>
                        <a:lnTo>
                          <a:pt x="966" y="789"/>
                        </a:lnTo>
                        <a:lnTo>
                          <a:pt x="970" y="789"/>
                        </a:lnTo>
                        <a:lnTo>
                          <a:pt x="977" y="783"/>
                        </a:lnTo>
                        <a:lnTo>
                          <a:pt x="985" y="778"/>
                        </a:lnTo>
                        <a:lnTo>
                          <a:pt x="1000" y="769"/>
                        </a:lnTo>
                        <a:lnTo>
                          <a:pt x="1032" y="750"/>
                        </a:lnTo>
                        <a:lnTo>
                          <a:pt x="966" y="751"/>
                        </a:lnTo>
                        <a:lnTo>
                          <a:pt x="915" y="750"/>
                        </a:lnTo>
                        <a:lnTo>
                          <a:pt x="867" y="747"/>
                        </a:lnTo>
                        <a:lnTo>
                          <a:pt x="819" y="741"/>
                        </a:lnTo>
                        <a:lnTo>
                          <a:pt x="773" y="733"/>
                        </a:lnTo>
                        <a:lnTo>
                          <a:pt x="726" y="723"/>
                        </a:lnTo>
                        <a:lnTo>
                          <a:pt x="681" y="710"/>
                        </a:lnTo>
                        <a:lnTo>
                          <a:pt x="636" y="696"/>
                        </a:lnTo>
                        <a:lnTo>
                          <a:pt x="593" y="680"/>
                        </a:lnTo>
                        <a:lnTo>
                          <a:pt x="550" y="661"/>
                        </a:lnTo>
                        <a:lnTo>
                          <a:pt x="508" y="639"/>
                        </a:lnTo>
                        <a:lnTo>
                          <a:pt x="467" y="615"/>
                        </a:lnTo>
                        <a:lnTo>
                          <a:pt x="429" y="590"/>
                        </a:lnTo>
                        <a:lnTo>
                          <a:pt x="389" y="562"/>
                        </a:lnTo>
                        <a:lnTo>
                          <a:pt x="352" y="533"/>
                        </a:lnTo>
                        <a:lnTo>
                          <a:pt x="316" y="500"/>
                        </a:lnTo>
                        <a:lnTo>
                          <a:pt x="280" y="467"/>
                        </a:lnTo>
                        <a:lnTo>
                          <a:pt x="254" y="440"/>
                        </a:lnTo>
                        <a:lnTo>
                          <a:pt x="230" y="413"/>
                        </a:lnTo>
                        <a:lnTo>
                          <a:pt x="208" y="386"/>
                        </a:lnTo>
                        <a:lnTo>
                          <a:pt x="187" y="360"/>
                        </a:lnTo>
                        <a:lnTo>
                          <a:pt x="166" y="332"/>
                        </a:lnTo>
                        <a:lnTo>
                          <a:pt x="147" y="305"/>
                        </a:lnTo>
                        <a:lnTo>
                          <a:pt x="113" y="248"/>
                        </a:lnTo>
                        <a:lnTo>
                          <a:pt x="96" y="217"/>
                        </a:lnTo>
                        <a:lnTo>
                          <a:pt x="81" y="188"/>
                        </a:lnTo>
                        <a:lnTo>
                          <a:pt x="56" y="127"/>
                        </a:lnTo>
                        <a:lnTo>
                          <a:pt x="43" y="95"/>
                        </a:lnTo>
                        <a:lnTo>
                          <a:pt x="34" y="64"/>
                        </a:lnTo>
                        <a:lnTo>
                          <a:pt x="25" y="3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7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113080" y="4968360"/>
                    <a:ext cx="27108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818">
                        <a:moveTo>
                          <a:pt x="26" y="0"/>
                        </a:moveTo>
                        <a:lnTo>
                          <a:pt x="12" y="32"/>
                        </a:lnTo>
                        <a:lnTo>
                          <a:pt x="0" y="67"/>
                        </a:lnTo>
                        <a:lnTo>
                          <a:pt x="7" y="99"/>
                        </a:lnTo>
                        <a:lnTo>
                          <a:pt x="16" y="131"/>
                        </a:lnTo>
                        <a:lnTo>
                          <a:pt x="25" y="162"/>
                        </a:lnTo>
                        <a:lnTo>
                          <a:pt x="38" y="194"/>
                        </a:lnTo>
                        <a:lnTo>
                          <a:pt x="63" y="255"/>
                        </a:lnTo>
                        <a:lnTo>
                          <a:pt x="78" y="284"/>
                        </a:lnTo>
                        <a:lnTo>
                          <a:pt x="95" y="315"/>
                        </a:lnTo>
                        <a:lnTo>
                          <a:pt x="129" y="372"/>
                        </a:lnTo>
                        <a:lnTo>
                          <a:pt x="148" y="399"/>
                        </a:lnTo>
                        <a:lnTo>
                          <a:pt x="169" y="427"/>
                        </a:lnTo>
                        <a:lnTo>
                          <a:pt x="190" y="453"/>
                        </a:lnTo>
                        <a:lnTo>
                          <a:pt x="212" y="480"/>
                        </a:lnTo>
                        <a:lnTo>
                          <a:pt x="236" y="507"/>
                        </a:lnTo>
                        <a:lnTo>
                          <a:pt x="262" y="534"/>
                        </a:lnTo>
                        <a:lnTo>
                          <a:pt x="298" y="567"/>
                        </a:lnTo>
                        <a:lnTo>
                          <a:pt x="334" y="600"/>
                        </a:lnTo>
                        <a:lnTo>
                          <a:pt x="371" y="629"/>
                        </a:lnTo>
                        <a:lnTo>
                          <a:pt x="411" y="657"/>
                        </a:lnTo>
                        <a:lnTo>
                          <a:pt x="449" y="682"/>
                        </a:lnTo>
                        <a:lnTo>
                          <a:pt x="490" y="706"/>
                        </a:lnTo>
                        <a:lnTo>
                          <a:pt x="532" y="728"/>
                        </a:lnTo>
                        <a:lnTo>
                          <a:pt x="575" y="747"/>
                        </a:lnTo>
                        <a:lnTo>
                          <a:pt x="618" y="763"/>
                        </a:lnTo>
                        <a:lnTo>
                          <a:pt x="663" y="777"/>
                        </a:lnTo>
                        <a:lnTo>
                          <a:pt x="708" y="790"/>
                        </a:lnTo>
                        <a:lnTo>
                          <a:pt x="755" y="800"/>
                        </a:lnTo>
                        <a:lnTo>
                          <a:pt x="801" y="808"/>
                        </a:lnTo>
                        <a:lnTo>
                          <a:pt x="849" y="814"/>
                        </a:lnTo>
                        <a:lnTo>
                          <a:pt x="897" y="817"/>
                        </a:lnTo>
                        <a:lnTo>
                          <a:pt x="948" y="818"/>
                        </a:lnTo>
                        <a:lnTo>
                          <a:pt x="1014" y="817"/>
                        </a:lnTo>
                        <a:lnTo>
                          <a:pt x="1068" y="774"/>
                        </a:lnTo>
                        <a:lnTo>
                          <a:pt x="1009" y="779"/>
                        </a:lnTo>
                        <a:lnTo>
                          <a:pt x="993" y="779"/>
                        </a:lnTo>
                        <a:lnTo>
                          <a:pt x="985" y="779"/>
                        </a:lnTo>
                        <a:lnTo>
                          <a:pt x="978" y="780"/>
                        </a:lnTo>
                        <a:lnTo>
                          <a:pt x="948" y="781"/>
                        </a:lnTo>
                        <a:lnTo>
                          <a:pt x="900" y="780"/>
                        </a:lnTo>
                        <a:lnTo>
                          <a:pt x="852" y="776"/>
                        </a:lnTo>
                        <a:lnTo>
                          <a:pt x="806" y="771"/>
                        </a:lnTo>
                        <a:lnTo>
                          <a:pt x="761" y="763"/>
                        </a:lnTo>
                        <a:lnTo>
                          <a:pt x="716" y="753"/>
                        </a:lnTo>
                        <a:lnTo>
                          <a:pt x="673" y="741"/>
                        </a:lnTo>
                        <a:lnTo>
                          <a:pt x="630" y="726"/>
                        </a:lnTo>
                        <a:lnTo>
                          <a:pt x="589" y="712"/>
                        </a:lnTo>
                        <a:lnTo>
                          <a:pt x="547" y="692"/>
                        </a:lnTo>
                        <a:lnTo>
                          <a:pt x="507" y="673"/>
                        </a:lnTo>
                        <a:lnTo>
                          <a:pt x="469" y="651"/>
                        </a:lnTo>
                        <a:lnTo>
                          <a:pt x="431" y="627"/>
                        </a:lnTo>
                        <a:lnTo>
                          <a:pt x="394" y="600"/>
                        </a:lnTo>
                        <a:lnTo>
                          <a:pt x="358" y="571"/>
                        </a:lnTo>
                        <a:lnTo>
                          <a:pt x="322" y="541"/>
                        </a:lnTo>
                        <a:lnTo>
                          <a:pt x="288" y="508"/>
                        </a:lnTo>
                        <a:lnTo>
                          <a:pt x="235" y="451"/>
                        </a:lnTo>
                        <a:lnTo>
                          <a:pt x="210" y="422"/>
                        </a:lnTo>
                        <a:lnTo>
                          <a:pt x="189" y="393"/>
                        </a:lnTo>
                        <a:lnTo>
                          <a:pt x="167" y="363"/>
                        </a:lnTo>
                        <a:lnTo>
                          <a:pt x="148" y="333"/>
                        </a:lnTo>
                        <a:lnTo>
                          <a:pt x="129" y="301"/>
                        </a:lnTo>
                        <a:lnTo>
                          <a:pt x="113" y="271"/>
                        </a:lnTo>
                        <a:lnTo>
                          <a:pt x="96" y="238"/>
                        </a:lnTo>
                        <a:lnTo>
                          <a:pt x="82" y="206"/>
                        </a:lnTo>
                        <a:lnTo>
                          <a:pt x="68" y="172"/>
                        </a:lnTo>
                        <a:lnTo>
                          <a:pt x="58" y="139"/>
                        </a:lnTo>
                        <a:lnTo>
                          <a:pt x="47" y="104"/>
                        </a:lnTo>
                        <a:lnTo>
                          <a:pt x="39" y="7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007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119560" y="4953240"/>
                    <a:ext cx="2764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841">
                        <a:moveTo>
                          <a:pt x="31" y="0"/>
                        </a:moveTo>
                        <a:lnTo>
                          <a:pt x="14" y="29"/>
                        </a:lnTo>
                        <a:lnTo>
                          <a:pt x="0" y="60"/>
                        </a:lnTo>
                        <a:lnTo>
                          <a:pt x="13" y="130"/>
                        </a:lnTo>
                        <a:lnTo>
                          <a:pt x="21" y="164"/>
                        </a:lnTo>
                        <a:lnTo>
                          <a:pt x="32" y="199"/>
                        </a:lnTo>
                        <a:lnTo>
                          <a:pt x="42" y="232"/>
                        </a:lnTo>
                        <a:lnTo>
                          <a:pt x="56" y="266"/>
                        </a:lnTo>
                        <a:lnTo>
                          <a:pt x="70" y="298"/>
                        </a:lnTo>
                        <a:lnTo>
                          <a:pt x="87" y="331"/>
                        </a:lnTo>
                        <a:lnTo>
                          <a:pt x="103" y="361"/>
                        </a:lnTo>
                        <a:lnTo>
                          <a:pt x="122" y="393"/>
                        </a:lnTo>
                        <a:lnTo>
                          <a:pt x="141" y="423"/>
                        </a:lnTo>
                        <a:lnTo>
                          <a:pt x="163" y="453"/>
                        </a:lnTo>
                        <a:lnTo>
                          <a:pt x="184" y="482"/>
                        </a:lnTo>
                        <a:lnTo>
                          <a:pt x="209" y="511"/>
                        </a:lnTo>
                        <a:lnTo>
                          <a:pt x="262" y="568"/>
                        </a:lnTo>
                        <a:lnTo>
                          <a:pt x="296" y="601"/>
                        </a:lnTo>
                        <a:lnTo>
                          <a:pt x="332" y="631"/>
                        </a:lnTo>
                        <a:lnTo>
                          <a:pt x="368" y="660"/>
                        </a:lnTo>
                        <a:lnTo>
                          <a:pt x="405" y="687"/>
                        </a:lnTo>
                        <a:lnTo>
                          <a:pt x="443" y="711"/>
                        </a:lnTo>
                        <a:lnTo>
                          <a:pt x="481" y="733"/>
                        </a:lnTo>
                        <a:lnTo>
                          <a:pt x="521" y="752"/>
                        </a:lnTo>
                        <a:lnTo>
                          <a:pt x="563" y="772"/>
                        </a:lnTo>
                        <a:lnTo>
                          <a:pt x="604" y="786"/>
                        </a:lnTo>
                        <a:lnTo>
                          <a:pt x="647" y="801"/>
                        </a:lnTo>
                        <a:lnTo>
                          <a:pt x="690" y="813"/>
                        </a:lnTo>
                        <a:lnTo>
                          <a:pt x="735" y="823"/>
                        </a:lnTo>
                        <a:lnTo>
                          <a:pt x="780" y="831"/>
                        </a:lnTo>
                        <a:lnTo>
                          <a:pt x="826" y="836"/>
                        </a:lnTo>
                        <a:lnTo>
                          <a:pt x="874" y="840"/>
                        </a:lnTo>
                        <a:lnTo>
                          <a:pt x="922" y="841"/>
                        </a:lnTo>
                        <a:lnTo>
                          <a:pt x="952" y="840"/>
                        </a:lnTo>
                        <a:lnTo>
                          <a:pt x="959" y="839"/>
                        </a:lnTo>
                        <a:lnTo>
                          <a:pt x="967" y="839"/>
                        </a:lnTo>
                        <a:lnTo>
                          <a:pt x="983" y="839"/>
                        </a:lnTo>
                        <a:lnTo>
                          <a:pt x="1042" y="834"/>
                        </a:lnTo>
                        <a:lnTo>
                          <a:pt x="1078" y="800"/>
                        </a:lnTo>
                        <a:lnTo>
                          <a:pt x="1088" y="790"/>
                        </a:lnTo>
                        <a:lnTo>
                          <a:pt x="1047" y="796"/>
                        </a:lnTo>
                        <a:lnTo>
                          <a:pt x="1006" y="800"/>
                        </a:lnTo>
                        <a:lnTo>
                          <a:pt x="964" y="802"/>
                        </a:lnTo>
                        <a:lnTo>
                          <a:pt x="943" y="802"/>
                        </a:lnTo>
                        <a:lnTo>
                          <a:pt x="922" y="803"/>
                        </a:lnTo>
                        <a:lnTo>
                          <a:pt x="876" y="802"/>
                        </a:lnTo>
                        <a:lnTo>
                          <a:pt x="831" y="799"/>
                        </a:lnTo>
                        <a:lnTo>
                          <a:pt x="786" y="793"/>
                        </a:lnTo>
                        <a:lnTo>
                          <a:pt x="743" y="786"/>
                        </a:lnTo>
                        <a:lnTo>
                          <a:pt x="700" y="776"/>
                        </a:lnTo>
                        <a:lnTo>
                          <a:pt x="658" y="766"/>
                        </a:lnTo>
                        <a:lnTo>
                          <a:pt x="617" y="752"/>
                        </a:lnTo>
                        <a:lnTo>
                          <a:pt x="578" y="738"/>
                        </a:lnTo>
                        <a:lnTo>
                          <a:pt x="538" y="720"/>
                        </a:lnTo>
                        <a:lnTo>
                          <a:pt x="499" y="700"/>
                        </a:lnTo>
                        <a:lnTo>
                          <a:pt x="462" y="679"/>
                        </a:lnTo>
                        <a:lnTo>
                          <a:pt x="426" y="655"/>
                        </a:lnTo>
                        <a:lnTo>
                          <a:pt x="389" y="629"/>
                        </a:lnTo>
                        <a:lnTo>
                          <a:pt x="355" y="602"/>
                        </a:lnTo>
                        <a:lnTo>
                          <a:pt x="321" y="572"/>
                        </a:lnTo>
                        <a:lnTo>
                          <a:pt x="289" y="542"/>
                        </a:lnTo>
                        <a:lnTo>
                          <a:pt x="259" y="511"/>
                        </a:lnTo>
                        <a:lnTo>
                          <a:pt x="233" y="482"/>
                        </a:lnTo>
                        <a:lnTo>
                          <a:pt x="208" y="451"/>
                        </a:lnTo>
                        <a:lnTo>
                          <a:pt x="185" y="420"/>
                        </a:lnTo>
                        <a:lnTo>
                          <a:pt x="163" y="387"/>
                        </a:lnTo>
                        <a:lnTo>
                          <a:pt x="143" y="356"/>
                        </a:lnTo>
                        <a:lnTo>
                          <a:pt x="125" y="323"/>
                        </a:lnTo>
                        <a:lnTo>
                          <a:pt x="109" y="290"/>
                        </a:lnTo>
                        <a:lnTo>
                          <a:pt x="92" y="255"/>
                        </a:lnTo>
                        <a:lnTo>
                          <a:pt x="79" y="221"/>
                        </a:lnTo>
                        <a:lnTo>
                          <a:pt x="66" y="185"/>
                        </a:lnTo>
                        <a:lnTo>
                          <a:pt x="57" y="149"/>
                        </a:lnTo>
                        <a:lnTo>
                          <a:pt x="47" y="112"/>
                        </a:lnTo>
                        <a:lnTo>
                          <a:pt x="40" y="76"/>
                        </a:lnTo>
                        <a:lnTo>
                          <a:pt x="35" y="37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127840" y="4939920"/>
                    <a:ext cx="2782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854">
                        <a:moveTo>
                          <a:pt x="34" y="0"/>
                        </a:moveTo>
                        <a:lnTo>
                          <a:pt x="15" y="25"/>
                        </a:lnTo>
                        <a:lnTo>
                          <a:pt x="0" y="51"/>
                        </a:lnTo>
                        <a:lnTo>
                          <a:pt x="4" y="88"/>
                        </a:lnTo>
                        <a:lnTo>
                          <a:pt x="9" y="127"/>
                        </a:lnTo>
                        <a:lnTo>
                          <a:pt x="16" y="163"/>
                        </a:lnTo>
                        <a:lnTo>
                          <a:pt x="26" y="200"/>
                        </a:lnTo>
                        <a:lnTo>
                          <a:pt x="35" y="236"/>
                        </a:lnTo>
                        <a:lnTo>
                          <a:pt x="48" y="272"/>
                        </a:lnTo>
                        <a:lnTo>
                          <a:pt x="61" y="306"/>
                        </a:lnTo>
                        <a:lnTo>
                          <a:pt x="78" y="341"/>
                        </a:lnTo>
                        <a:lnTo>
                          <a:pt x="94" y="374"/>
                        </a:lnTo>
                        <a:lnTo>
                          <a:pt x="112" y="407"/>
                        </a:lnTo>
                        <a:lnTo>
                          <a:pt x="132" y="438"/>
                        </a:lnTo>
                        <a:lnTo>
                          <a:pt x="154" y="471"/>
                        </a:lnTo>
                        <a:lnTo>
                          <a:pt x="177" y="502"/>
                        </a:lnTo>
                        <a:lnTo>
                          <a:pt x="202" y="533"/>
                        </a:lnTo>
                        <a:lnTo>
                          <a:pt x="228" y="562"/>
                        </a:lnTo>
                        <a:lnTo>
                          <a:pt x="258" y="593"/>
                        </a:lnTo>
                        <a:lnTo>
                          <a:pt x="290" y="623"/>
                        </a:lnTo>
                        <a:lnTo>
                          <a:pt x="324" y="653"/>
                        </a:lnTo>
                        <a:lnTo>
                          <a:pt x="358" y="680"/>
                        </a:lnTo>
                        <a:lnTo>
                          <a:pt x="395" y="706"/>
                        </a:lnTo>
                        <a:lnTo>
                          <a:pt x="431" y="730"/>
                        </a:lnTo>
                        <a:lnTo>
                          <a:pt x="468" y="751"/>
                        </a:lnTo>
                        <a:lnTo>
                          <a:pt x="507" y="771"/>
                        </a:lnTo>
                        <a:lnTo>
                          <a:pt x="547" y="789"/>
                        </a:lnTo>
                        <a:lnTo>
                          <a:pt x="586" y="803"/>
                        </a:lnTo>
                        <a:lnTo>
                          <a:pt x="627" y="817"/>
                        </a:lnTo>
                        <a:lnTo>
                          <a:pt x="669" y="827"/>
                        </a:lnTo>
                        <a:lnTo>
                          <a:pt x="712" y="837"/>
                        </a:lnTo>
                        <a:lnTo>
                          <a:pt x="755" y="844"/>
                        </a:lnTo>
                        <a:lnTo>
                          <a:pt x="800" y="850"/>
                        </a:lnTo>
                        <a:lnTo>
                          <a:pt x="845" y="853"/>
                        </a:lnTo>
                        <a:lnTo>
                          <a:pt x="891" y="854"/>
                        </a:lnTo>
                        <a:lnTo>
                          <a:pt x="912" y="853"/>
                        </a:lnTo>
                        <a:lnTo>
                          <a:pt x="933" y="853"/>
                        </a:lnTo>
                        <a:lnTo>
                          <a:pt x="975" y="851"/>
                        </a:lnTo>
                        <a:lnTo>
                          <a:pt x="1016" y="847"/>
                        </a:lnTo>
                        <a:lnTo>
                          <a:pt x="1057" y="841"/>
                        </a:lnTo>
                        <a:lnTo>
                          <a:pt x="1077" y="817"/>
                        </a:lnTo>
                        <a:lnTo>
                          <a:pt x="1098" y="794"/>
                        </a:lnTo>
                        <a:lnTo>
                          <a:pt x="1072" y="799"/>
                        </a:lnTo>
                        <a:lnTo>
                          <a:pt x="1047" y="803"/>
                        </a:lnTo>
                        <a:lnTo>
                          <a:pt x="1033" y="805"/>
                        </a:lnTo>
                        <a:lnTo>
                          <a:pt x="1021" y="807"/>
                        </a:lnTo>
                        <a:lnTo>
                          <a:pt x="996" y="811"/>
                        </a:lnTo>
                        <a:lnTo>
                          <a:pt x="944" y="815"/>
                        </a:lnTo>
                        <a:lnTo>
                          <a:pt x="891" y="817"/>
                        </a:lnTo>
                        <a:lnTo>
                          <a:pt x="846" y="816"/>
                        </a:lnTo>
                        <a:lnTo>
                          <a:pt x="803" y="813"/>
                        </a:lnTo>
                        <a:lnTo>
                          <a:pt x="760" y="807"/>
                        </a:lnTo>
                        <a:lnTo>
                          <a:pt x="719" y="801"/>
                        </a:lnTo>
                        <a:lnTo>
                          <a:pt x="678" y="791"/>
                        </a:lnTo>
                        <a:lnTo>
                          <a:pt x="639" y="781"/>
                        </a:lnTo>
                        <a:lnTo>
                          <a:pt x="599" y="768"/>
                        </a:lnTo>
                        <a:lnTo>
                          <a:pt x="561" y="754"/>
                        </a:lnTo>
                        <a:lnTo>
                          <a:pt x="523" y="737"/>
                        </a:lnTo>
                        <a:lnTo>
                          <a:pt x="487" y="717"/>
                        </a:lnTo>
                        <a:lnTo>
                          <a:pt x="450" y="696"/>
                        </a:lnTo>
                        <a:lnTo>
                          <a:pt x="415" y="674"/>
                        </a:lnTo>
                        <a:lnTo>
                          <a:pt x="380" y="649"/>
                        </a:lnTo>
                        <a:lnTo>
                          <a:pt x="347" y="623"/>
                        </a:lnTo>
                        <a:lnTo>
                          <a:pt x="314" y="595"/>
                        </a:lnTo>
                        <a:lnTo>
                          <a:pt x="284" y="565"/>
                        </a:lnTo>
                        <a:lnTo>
                          <a:pt x="254" y="534"/>
                        </a:lnTo>
                        <a:lnTo>
                          <a:pt x="228" y="503"/>
                        </a:lnTo>
                        <a:lnTo>
                          <a:pt x="202" y="471"/>
                        </a:lnTo>
                        <a:lnTo>
                          <a:pt x="179" y="440"/>
                        </a:lnTo>
                        <a:lnTo>
                          <a:pt x="157" y="406"/>
                        </a:lnTo>
                        <a:lnTo>
                          <a:pt x="137" y="373"/>
                        </a:lnTo>
                        <a:lnTo>
                          <a:pt x="118" y="339"/>
                        </a:lnTo>
                        <a:lnTo>
                          <a:pt x="103" y="305"/>
                        </a:lnTo>
                        <a:lnTo>
                          <a:pt x="87" y="268"/>
                        </a:lnTo>
                        <a:lnTo>
                          <a:pt x="75" y="232"/>
                        </a:lnTo>
                        <a:lnTo>
                          <a:pt x="62" y="195"/>
                        </a:lnTo>
                        <a:lnTo>
                          <a:pt x="55" y="157"/>
                        </a:lnTo>
                        <a:lnTo>
                          <a:pt x="45" y="118"/>
                        </a:lnTo>
                        <a:lnTo>
                          <a:pt x="40" y="79"/>
                        </a:lnTo>
                        <a:lnTo>
                          <a:pt x="35" y="39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00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5121720" y="5110560"/>
                    <a:ext cx="12132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9" h="365">
                        <a:moveTo>
                          <a:pt x="96" y="106"/>
                        </a:moveTo>
                        <a:lnTo>
                          <a:pt x="70" y="79"/>
                        </a:lnTo>
                        <a:lnTo>
                          <a:pt x="46" y="53"/>
                        </a:lnTo>
                        <a:lnTo>
                          <a:pt x="22" y="26"/>
                        </a:lnTo>
                        <a:lnTo>
                          <a:pt x="0" y="0"/>
                        </a:lnTo>
                        <a:lnTo>
                          <a:pt x="12" y="23"/>
                        </a:lnTo>
                        <a:lnTo>
                          <a:pt x="25" y="46"/>
                        </a:lnTo>
                        <a:lnTo>
                          <a:pt x="56" y="93"/>
                        </a:lnTo>
                        <a:lnTo>
                          <a:pt x="72" y="114"/>
                        </a:lnTo>
                        <a:lnTo>
                          <a:pt x="90" y="137"/>
                        </a:lnTo>
                        <a:lnTo>
                          <a:pt x="131" y="180"/>
                        </a:lnTo>
                        <a:lnTo>
                          <a:pt x="168" y="215"/>
                        </a:lnTo>
                        <a:lnTo>
                          <a:pt x="208" y="247"/>
                        </a:lnTo>
                        <a:lnTo>
                          <a:pt x="249" y="275"/>
                        </a:lnTo>
                        <a:lnTo>
                          <a:pt x="293" y="300"/>
                        </a:lnTo>
                        <a:lnTo>
                          <a:pt x="336" y="321"/>
                        </a:lnTo>
                        <a:lnTo>
                          <a:pt x="383" y="339"/>
                        </a:lnTo>
                        <a:lnTo>
                          <a:pt x="429" y="353"/>
                        </a:lnTo>
                        <a:lnTo>
                          <a:pt x="479" y="365"/>
                        </a:lnTo>
                        <a:lnTo>
                          <a:pt x="426" y="341"/>
                        </a:lnTo>
                        <a:lnTo>
                          <a:pt x="375" y="316"/>
                        </a:lnTo>
                        <a:lnTo>
                          <a:pt x="325" y="288"/>
                        </a:lnTo>
                        <a:lnTo>
                          <a:pt x="277" y="257"/>
                        </a:lnTo>
                        <a:lnTo>
                          <a:pt x="229" y="222"/>
                        </a:lnTo>
                        <a:lnTo>
                          <a:pt x="184" y="187"/>
                        </a:lnTo>
                        <a:lnTo>
                          <a:pt x="139" y="147"/>
                        </a:lnTo>
                        <a:lnTo>
                          <a:pt x="96" y="106"/>
                        </a:lnTo>
                        <a:close/>
                      </a:path>
                    </a:pathLst>
                  </a:custGeom>
                  <a:solidFill>
                    <a:srgbClr val="006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5109840" y="5077800"/>
                    <a:ext cx="1717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505">
                        <a:moveTo>
                          <a:pt x="46" y="131"/>
                        </a:moveTo>
                        <a:lnTo>
                          <a:pt x="68" y="157"/>
                        </a:lnTo>
                        <a:lnTo>
                          <a:pt x="92" y="184"/>
                        </a:lnTo>
                        <a:lnTo>
                          <a:pt x="116" y="210"/>
                        </a:lnTo>
                        <a:lnTo>
                          <a:pt x="142" y="237"/>
                        </a:lnTo>
                        <a:lnTo>
                          <a:pt x="185" y="278"/>
                        </a:lnTo>
                        <a:lnTo>
                          <a:pt x="230" y="318"/>
                        </a:lnTo>
                        <a:lnTo>
                          <a:pt x="275" y="353"/>
                        </a:lnTo>
                        <a:lnTo>
                          <a:pt x="323" y="388"/>
                        </a:lnTo>
                        <a:lnTo>
                          <a:pt x="371" y="419"/>
                        </a:lnTo>
                        <a:lnTo>
                          <a:pt x="421" y="447"/>
                        </a:lnTo>
                        <a:lnTo>
                          <a:pt x="472" y="472"/>
                        </a:lnTo>
                        <a:lnTo>
                          <a:pt x="525" y="496"/>
                        </a:lnTo>
                        <a:lnTo>
                          <a:pt x="584" y="503"/>
                        </a:lnTo>
                        <a:lnTo>
                          <a:pt x="646" y="505"/>
                        </a:lnTo>
                        <a:lnTo>
                          <a:pt x="677" y="505"/>
                        </a:lnTo>
                        <a:lnTo>
                          <a:pt x="641" y="495"/>
                        </a:lnTo>
                        <a:lnTo>
                          <a:pt x="605" y="483"/>
                        </a:lnTo>
                        <a:lnTo>
                          <a:pt x="537" y="458"/>
                        </a:lnTo>
                        <a:lnTo>
                          <a:pt x="471" y="429"/>
                        </a:lnTo>
                        <a:lnTo>
                          <a:pt x="406" y="395"/>
                        </a:lnTo>
                        <a:lnTo>
                          <a:pt x="342" y="354"/>
                        </a:lnTo>
                        <a:lnTo>
                          <a:pt x="282" y="311"/>
                        </a:lnTo>
                        <a:lnTo>
                          <a:pt x="253" y="287"/>
                        </a:lnTo>
                        <a:lnTo>
                          <a:pt x="223" y="262"/>
                        </a:lnTo>
                        <a:lnTo>
                          <a:pt x="168" y="210"/>
                        </a:lnTo>
                        <a:lnTo>
                          <a:pt x="119" y="159"/>
                        </a:lnTo>
                        <a:lnTo>
                          <a:pt x="96" y="133"/>
                        </a:lnTo>
                        <a:lnTo>
                          <a:pt x="76" y="108"/>
                        </a:lnTo>
                        <a:lnTo>
                          <a:pt x="54" y="81"/>
                        </a:lnTo>
                        <a:lnTo>
                          <a:pt x="35" y="55"/>
                        </a:lnTo>
                        <a:lnTo>
                          <a:pt x="0" y="0"/>
                        </a:lnTo>
                        <a:lnTo>
                          <a:pt x="8" y="33"/>
                        </a:lnTo>
                        <a:lnTo>
                          <a:pt x="19" y="66"/>
                        </a:lnTo>
                        <a:lnTo>
                          <a:pt x="32" y="98"/>
                        </a:lnTo>
                        <a:lnTo>
                          <a:pt x="46" y="131"/>
                        </a:lnTo>
                        <a:close/>
                      </a:path>
                    </a:pathLst>
                  </a:custGeom>
                  <a:solidFill>
                    <a:srgbClr val="00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5105880" y="5050800"/>
                    <a:ext cx="20556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1" h="610">
                        <a:moveTo>
                          <a:pt x="16" y="105"/>
                        </a:moveTo>
                        <a:lnTo>
                          <a:pt x="51" y="160"/>
                        </a:lnTo>
                        <a:lnTo>
                          <a:pt x="70" y="186"/>
                        </a:lnTo>
                        <a:lnTo>
                          <a:pt x="92" y="213"/>
                        </a:lnTo>
                        <a:lnTo>
                          <a:pt x="112" y="238"/>
                        </a:lnTo>
                        <a:lnTo>
                          <a:pt x="135" y="264"/>
                        </a:lnTo>
                        <a:lnTo>
                          <a:pt x="184" y="315"/>
                        </a:lnTo>
                        <a:lnTo>
                          <a:pt x="239" y="367"/>
                        </a:lnTo>
                        <a:lnTo>
                          <a:pt x="269" y="392"/>
                        </a:lnTo>
                        <a:lnTo>
                          <a:pt x="298" y="416"/>
                        </a:lnTo>
                        <a:lnTo>
                          <a:pt x="358" y="459"/>
                        </a:lnTo>
                        <a:lnTo>
                          <a:pt x="422" y="500"/>
                        </a:lnTo>
                        <a:lnTo>
                          <a:pt x="487" y="534"/>
                        </a:lnTo>
                        <a:lnTo>
                          <a:pt x="553" y="563"/>
                        </a:lnTo>
                        <a:lnTo>
                          <a:pt x="621" y="588"/>
                        </a:lnTo>
                        <a:lnTo>
                          <a:pt x="657" y="600"/>
                        </a:lnTo>
                        <a:lnTo>
                          <a:pt x="693" y="610"/>
                        </a:lnTo>
                        <a:lnTo>
                          <a:pt x="722" y="608"/>
                        </a:lnTo>
                        <a:lnTo>
                          <a:pt x="737" y="605"/>
                        </a:lnTo>
                        <a:lnTo>
                          <a:pt x="753" y="604"/>
                        </a:lnTo>
                        <a:lnTo>
                          <a:pt x="781" y="600"/>
                        </a:lnTo>
                        <a:lnTo>
                          <a:pt x="811" y="595"/>
                        </a:lnTo>
                        <a:lnTo>
                          <a:pt x="768" y="587"/>
                        </a:lnTo>
                        <a:lnTo>
                          <a:pt x="726" y="578"/>
                        </a:lnTo>
                        <a:lnTo>
                          <a:pt x="684" y="568"/>
                        </a:lnTo>
                        <a:lnTo>
                          <a:pt x="644" y="557"/>
                        </a:lnTo>
                        <a:lnTo>
                          <a:pt x="603" y="543"/>
                        </a:lnTo>
                        <a:lnTo>
                          <a:pt x="565" y="528"/>
                        </a:lnTo>
                        <a:lnTo>
                          <a:pt x="526" y="511"/>
                        </a:lnTo>
                        <a:lnTo>
                          <a:pt x="489" y="493"/>
                        </a:lnTo>
                        <a:lnTo>
                          <a:pt x="451" y="473"/>
                        </a:lnTo>
                        <a:lnTo>
                          <a:pt x="415" y="451"/>
                        </a:lnTo>
                        <a:lnTo>
                          <a:pt x="344" y="404"/>
                        </a:lnTo>
                        <a:lnTo>
                          <a:pt x="309" y="376"/>
                        </a:lnTo>
                        <a:lnTo>
                          <a:pt x="276" y="349"/>
                        </a:lnTo>
                        <a:lnTo>
                          <a:pt x="243" y="320"/>
                        </a:lnTo>
                        <a:lnTo>
                          <a:pt x="211" y="289"/>
                        </a:lnTo>
                        <a:lnTo>
                          <a:pt x="177" y="254"/>
                        </a:lnTo>
                        <a:lnTo>
                          <a:pt x="146" y="220"/>
                        </a:lnTo>
                        <a:lnTo>
                          <a:pt x="117" y="185"/>
                        </a:lnTo>
                        <a:lnTo>
                          <a:pt x="91" y="150"/>
                        </a:lnTo>
                        <a:lnTo>
                          <a:pt x="65" y="112"/>
                        </a:lnTo>
                        <a:lnTo>
                          <a:pt x="42" y="76"/>
                        </a:lnTo>
                        <a:lnTo>
                          <a:pt x="19" y="37"/>
                        </a:lnTo>
                        <a:lnTo>
                          <a:pt x="0" y="0"/>
                        </a:lnTo>
                        <a:lnTo>
                          <a:pt x="6" y="52"/>
                        </a:lnTo>
                        <a:lnTo>
                          <a:pt x="16" y="105"/>
                        </a:lnTo>
                        <a:close/>
                      </a:path>
                    </a:pathLst>
                  </a:custGeom>
                  <a:solidFill>
                    <a:srgbClr val="006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5105520" y="4868280"/>
                    <a:ext cx="337320" cy="33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8" h="1327">
                        <a:moveTo>
                          <a:pt x="663" y="0"/>
                        </a:moveTo>
                        <a:lnTo>
                          <a:pt x="628" y="0"/>
                        </a:lnTo>
                        <a:lnTo>
                          <a:pt x="595" y="2"/>
                        </a:lnTo>
                        <a:lnTo>
                          <a:pt x="531" y="11"/>
                        </a:lnTo>
                        <a:lnTo>
                          <a:pt x="468" y="26"/>
                        </a:lnTo>
                        <a:lnTo>
                          <a:pt x="408" y="47"/>
                        </a:lnTo>
                        <a:lnTo>
                          <a:pt x="350" y="73"/>
                        </a:lnTo>
                        <a:lnTo>
                          <a:pt x="322" y="89"/>
                        </a:lnTo>
                        <a:lnTo>
                          <a:pt x="296" y="107"/>
                        </a:lnTo>
                        <a:lnTo>
                          <a:pt x="243" y="147"/>
                        </a:lnTo>
                        <a:lnTo>
                          <a:pt x="194" y="193"/>
                        </a:lnTo>
                        <a:lnTo>
                          <a:pt x="147" y="242"/>
                        </a:lnTo>
                        <a:lnTo>
                          <a:pt x="108" y="295"/>
                        </a:lnTo>
                        <a:lnTo>
                          <a:pt x="90" y="321"/>
                        </a:lnTo>
                        <a:lnTo>
                          <a:pt x="74" y="350"/>
                        </a:lnTo>
                        <a:lnTo>
                          <a:pt x="48" y="408"/>
                        </a:lnTo>
                        <a:lnTo>
                          <a:pt x="26" y="468"/>
                        </a:lnTo>
                        <a:lnTo>
                          <a:pt x="11" y="530"/>
                        </a:lnTo>
                        <a:lnTo>
                          <a:pt x="2" y="595"/>
                        </a:lnTo>
                        <a:lnTo>
                          <a:pt x="0" y="628"/>
                        </a:lnTo>
                        <a:lnTo>
                          <a:pt x="0" y="663"/>
                        </a:lnTo>
                        <a:lnTo>
                          <a:pt x="0" y="696"/>
                        </a:lnTo>
                        <a:lnTo>
                          <a:pt x="2" y="730"/>
                        </a:lnTo>
                        <a:lnTo>
                          <a:pt x="6" y="761"/>
                        </a:lnTo>
                        <a:lnTo>
                          <a:pt x="11" y="794"/>
                        </a:lnTo>
                        <a:lnTo>
                          <a:pt x="17" y="825"/>
                        </a:lnTo>
                        <a:lnTo>
                          <a:pt x="26" y="856"/>
                        </a:lnTo>
                        <a:lnTo>
                          <a:pt x="35" y="887"/>
                        </a:lnTo>
                        <a:lnTo>
                          <a:pt x="48" y="918"/>
                        </a:lnTo>
                        <a:lnTo>
                          <a:pt x="59" y="946"/>
                        </a:lnTo>
                        <a:lnTo>
                          <a:pt x="74" y="974"/>
                        </a:lnTo>
                        <a:lnTo>
                          <a:pt x="90" y="1002"/>
                        </a:lnTo>
                        <a:lnTo>
                          <a:pt x="108" y="1030"/>
                        </a:lnTo>
                        <a:lnTo>
                          <a:pt x="126" y="1056"/>
                        </a:lnTo>
                        <a:lnTo>
                          <a:pt x="147" y="1082"/>
                        </a:lnTo>
                        <a:lnTo>
                          <a:pt x="169" y="1107"/>
                        </a:lnTo>
                        <a:lnTo>
                          <a:pt x="194" y="1133"/>
                        </a:lnTo>
                        <a:lnTo>
                          <a:pt x="218" y="1156"/>
                        </a:lnTo>
                        <a:lnTo>
                          <a:pt x="243" y="1177"/>
                        </a:lnTo>
                        <a:lnTo>
                          <a:pt x="269" y="1198"/>
                        </a:lnTo>
                        <a:lnTo>
                          <a:pt x="296" y="1217"/>
                        </a:lnTo>
                        <a:lnTo>
                          <a:pt x="322" y="1234"/>
                        </a:lnTo>
                        <a:lnTo>
                          <a:pt x="350" y="1250"/>
                        </a:lnTo>
                        <a:lnTo>
                          <a:pt x="379" y="1265"/>
                        </a:lnTo>
                        <a:lnTo>
                          <a:pt x="408" y="1278"/>
                        </a:lnTo>
                        <a:lnTo>
                          <a:pt x="468" y="1299"/>
                        </a:lnTo>
                        <a:lnTo>
                          <a:pt x="531" y="1314"/>
                        </a:lnTo>
                        <a:lnTo>
                          <a:pt x="595" y="1323"/>
                        </a:lnTo>
                        <a:lnTo>
                          <a:pt x="628" y="1326"/>
                        </a:lnTo>
                        <a:lnTo>
                          <a:pt x="663" y="1327"/>
                        </a:lnTo>
                        <a:lnTo>
                          <a:pt x="679" y="1326"/>
                        </a:lnTo>
                        <a:lnTo>
                          <a:pt x="696" y="1326"/>
                        </a:lnTo>
                        <a:lnTo>
                          <a:pt x="730" y="1323"/>
                        </a:lnTo>
                        <a:lnTo>
                          <a:pt x="762" y="1319"/>
                        </a:lnTo>
                        <a:lnTo>
                          <a:pt x="795" y="1314"/>
                        </a:lnTo>
                        <a:lnTo>
                          <a:pt x="810" y="1310"/>
                        </a:lnTo>
                        <a:lnTo>
                          <a:pt x="825" y="1306"/>
                        </a:lnTo>
                        <a:lnTo>
                          <a:pt x="857" y="1299"/>
                        </a:lnTo>
                        <a:lnTo>
                          <a:pt x="887" y="1288"/>
                        </a:lnTo>
                        <a:lnTo>
                          <a:pt x="894" y="1285"/>
                        </a:lnTo>
                        <a:lnTo>
                          <a:pt x="901" y="1283"/>
                        </a:lnTo>
                        <a:lnTo>
                          <a:pt x="917" y="1278"/>
                        </a:lnTo>
                        <a:lnTo>
                          <a:pt x="946" y="1265"/>
                        </a:lnTo>
                        <a:lnTo>
                          <a:pt x="959" y="1257"/>
                        </a:lnTo>
                        <a:lnTo>
                          <a:pt x="974" y="1250"/>
                        </a:lnTo>
                        <a:lnTo>
                          <a:pt x="1001" y="1234"/>
                        </a:lnTo>
                        <a:lnTo>
                          <a:pt x="1015" y="1225"/>
                        </a:lnTo>
                        <a:lnTo>
                          <a:pt x="1022" y="1220"/>
                        </a:lnTo>
                        <a:lnTo>
                          <a:pt x="1025" y="1218"/>
                        </a:lnTo>
                        <a:lnTo>
                          <a:pt x="1030" y="1217"/>
                        </a:lnTo>
                        <a:lnTo>
                          <a:pt x="1032" y="1214"/>
                        </a:lnTo>
                        <a:lnTo>
                          <a:pt x="1035" y="1211"/>
                        </a:lnTo>
                        <a:lnTo>
                          <a:pt x="1042" y="1207"/>
                        </a:lnTo>
                        <a:lnTo>
                          <a:pt x="1056" y="1198"/>
                        </a:lnTo>
                        <a:lnTo>
                          <a:pt x="1082" y="1177"/>
                        </a:lnTo>
                        <a:lnTo>
                          <a:pt x="1107" y="1156"/>
                        </a:lnTo>
                        <a:lnTo>
                          <a:pt x="1133" y="1133"/>
                        </a:lnTo>
                        <a:lnTo>
                          <a:pt x="1155" y="1107"/>
                        </a:lnTo>
                        <a:lnTo>
                          <a:pt x="1178" y="1082"/>
                        </a:lnTo>
                        <a:lnTo>
                          <a:pt x="1199" y="1056"/>
                        </a:lnTo>
                        <a:lnTo>
                          <a:pt x="1208" y="1042"/>
                        </a:lnTo>
                        <a:lnTo>
                          <a:pt x="1212" y="1036"/>
                        </a:lnTo>
                        <a:lnTo>
                          <a:pt x="1214" y="1032"/>
                        </a:lnTo>
                        <a:lnTo>
                          <a:pt x="1218" y="1030"/>
                        </a:lnTo>
                        <a:lnTo>
                          <a:pt x="1219" y="1025"/>
                        </a:lnTo>
                        <a:lnTo>
                          <a:pt x="1221" y="1022"/>
                        </a:lnTo>
                        <a:lnTo>
                          <a:pt x="1226" y="1015"/>
                        </a:lnTo>
                        <a:lnTo>
                          <a:pt x="1235" y="1002"/>
                        </a:lnTo>
                        <a:lnTo>
                          <a:pt x="1251" y="974"/>
                        </a:lnTo>
                        <a:lnTo>
                          <a:pt x="1258" y="960"/>
                        </a:lnTo>
                        <a:lnTo>
                          <a:pt x="1265" y="946"/>
                        </a:lnTo>
                        <a:lnTo>
                          <a:pt x="1279" y="918"/>
                        </a:lnTo>
                        <a:lnTo>
                          <a:pt x="1284" y="902"/>
                        </a:lnTo>
                        <a:lnTo>
                          <a:pt x="1286" y="894"/>
                        </a:lnTo>
                        <a:lnTo>
                          <a:pt x="1289" y="887"/>
                        </a:lnTo>
                        <a:lnTo>
                          <a:pt x="1294" y="871"/>
                        </a:lnTo>
                        <a:lnTo>
                          <a:pt x="1296" y="863"/>
                        </a:lnTo>
                        <a:lnTo>
                          <a:pt x="1299" y="856"/>
                        </a:lnTo>
                        <a:lnTo>
                          <a:pt x="1307" y="825"/>
                        </a:lnTo>
                        <a:lnTo>
                          <a:pt x="1311" y="809"/>
                        </a:lnTo>
                        <a:lnTo>
                          <a:pt x="1315" y="794"/>
                        </a:lnTo>
                        <a:lnTo>
                          <a:pt x="1320" y="761"/>
                        </a:lnTo>
                        <a:lnTo>
                          <a:pt x="1324" y="730"/>
                        </a:lnTo>
                        <a:lnTo>
                          <a:pt x="1327" y="696"/>
                        </a:lnTo>
                        <a:lnTo>
                          <a:pt x="1327" y="679"/>
                        </a:lnTo>
                        <a:lnTo>
                          <a:pt x="1328" y="663"/>
                        </a:lnTo>
                        <a:lnTo>
                          <a:pt x="1327" y="628"/>
                        </a:lnTo>
                        <a:lnTo>
                          <a:pt x="1324" y="595"/>
                        </a:lnTo>
                        <a:lnTo>
                          <a:pt x="1315" y="530"/>
                        </a:lnTo>
                        <a:lnTo>
                          <a:pt x="1299" y="468"/>
                        </a:lnTo>
                        <a:lnTo>
                          <a:pt x="1279" y="408"/>
                        </a:lnTo>
                        <a:lnTo>
                          <a:pt x="1265" y="378"/>
                        </a:lnTo>
                        <a:lnTo>
                          <a:pt x="1251" y="350"/>
                        </a:lnTo>
                        <a:lnTo>
                          <a:pt x="1235" y="321"/>
                        </a:lnTo>
                        <a:lnTo>
                          <a:pt x="1218" y="295"/>
                        </a:lnTo>
                        <a:lnTo>
                          <a:pt x="1199" y="268"/>
                        </a:lnTo>
                        <a:lnTo>
                          <a:pt x="1178" y="242"/>
                        </a:lnTo>
                        <a:lnTo>
                          <a:pt x="1133" y="193"/>
                        </a:lnTo>
                        <a:lnTo>
                          <a:pt x="1107" y="168"/>
                        </a:lnTo>
                        <a:lnTo>
                          <a:pt x="1082" y="147"/>
                        </a:lnTo>
                        <a:lnTo>
                          <a:pt x="1056" y="125"/>
                        </a:lnTo>
                        <a:lnTo>
                          <a:pt x="1030" y="107"/>
                        </a:lnTo>
                        <a:lnTo>
                          <a:pt x="1001" y="89"/>
                        </a:lnTo>
                        <a:lnTo>
                          <a:pt x="974" y="73"/>
                        </a:lnTo>
                        <a:lnTo>
                          <a:pt x="946" y="59"/>
                        </a:lnTo>
                        <a:lnTo>
                          <a:pt x="917" y="47"/>
                        </a:lnTo>
                        <a:lnTo>
                          <a:pt x="887" y="35"/>
                        </a:lnTo>
                        <a:lnTo>
                          <a:pt x="857" y="26"/>
                        </a:lnTo>
                        <a:lnTo>
                          <a:pt x="825" y="17"/>
                        </a:lnTo>
                        <a:lnTo>
                          <a:pt x="795" y="11"/>
                        </a:lnTo>
                        <a:lnTo>
                          <a:pt x="762" y="5"/>
                        </a:lnTo>
                        <a:lnTo>
                          <a:pt x="730" y="2"/>
                        </a:lnTo>
                        <a:lnTo>
                          <a:pt x="696" y="0"/>
                        </a:lnTo>
                        <a:lnTo>
                          <a:pt x="663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5195880" y="5022000"/>
                    <a:ext cx="155520" cy="38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5200920" y="5027040"/>
                    <a:ext cx="145440" cy="284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8222760" y="4857120"/>
                    <a:ext cx="19836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3" h="1031">
                        <a:moveTo>
                          <a:pt x="192" y="0"/>
                        </a:moveTo>
                        <a:lnTo>
                          <a:pt x="159" y="2"/>
                        </a:lnTo>
                        <a:lnTo>
                          <a:pt x="120" y="45"/>
                        </a:lnTo>
                        <a:lnTo>
                          <a:pt x="89" y="91"/>
                        </a:lnTo>
                        <a:lnTo>
                          <a:pt x="61" y="140"/>
                        </a:lnTo>
                        <a:lnTo>
                          <a:pt x="40" y="191"/>
                        </a:lnTo>
                        <a:lnTo>
                          <a:pt x="22" y="242"/>
                        </a:lnTo>
                        <a:lnTo>
                          <a:pt x="9" y="297"/>
                        </a:lnTo>
                        <a:lnTo>
                          <a:pt x="2" y="353"/>
                        </a:lnTo>
                        <a:lnTo>
                          <a:pt x="0" y="413"/>
                        </a:lnTo>
                        <a:lnTo>
                          <a:pt x="0" y="444"/>
                        </a:lnTo>
                        <a:lnTo>
                          <a:pt x="2" y="475"/>
                        </a:lnTo>
                        <a:lnTo>
                          <a:pt x="6" y="505"/>
                        </a:lnTo>
                        <a:lnTo>
                          <a:pt x="12" y="535"/>
                        </a:lnTo>
                        <a:lnTo>
                          <a:pt x="17" y="564"/>
                        </a:lnTo>
                        <a:lnTo>
                          <a:pt x="25" y="593"/>
                        </a:lnTo>
                        <a:lnTo>
                          <a:pt x="34" y="622"/>
                        </a:lnTo>
                        <a:lnTo>
                          <a:pt x="46" y="650"/>
                        </a:lnTo>
                        <a:lnTo>
                          <a:pt x="57" y="676"/>
                        </a:lnTo>
                        <a:lnTo>
                          <a:pt x="70" y="703"/>
                        </a:lnTo>
                        <a:lnTo>
                          <a:pt x="85" y="728"/>
                        </a:lnTo>
                        <a:lnTo>
                          <a:pt x="102" y="754"/>
                        </a:lnTo>
                        <a:lnTo>
                          <a:pt x="119" y="778"/>
                        </a:lnTo>
                        <a:lnTo>
                          <a:pt x="139" y="803"/>
                        </a:lnTo>
                        <a:lnTo>
                          <a:pt x="159" y="826"/>
                        </a:lnTo>
                        <a:lnTo>
                          <a:pt x="182" y="849"/>
                        </a:lnTo>
                        <a:lnTo>
                          <a:pt x="203" y="871"/>
                        </a:lnTo>
                        <a:lnTo>
                          <a:pt x="227" y="891"/>
                        </a:lnTo>
                        <a:lnTo>
                          <a:pt x="251" y="911"/>
                        </a:lnTo>
                        <a:lnTo>
                          <a:pt x="276" y="929"/>
                        </a:lnTo>
                        <a:lnTo>
                          <a:pt x="301" y="945"/>
                        </a:lnTo>
                        <a:lnTo>
                          <a:pt x="327" y="959"/>
                        </a:lnTo>
                        <a:lnTo>
                          <a:pt x="353" y="973"/>
                        </a:lnTo>
                        <a:lnTo>
                          <a:pt x="380" y="985"/>
                        </a:lnTo>
                        <a:lnTo>
                          <a:pt x="407" y="996"/>
                        </a:lnTo>
                        <a:lnTo>
                          <a:pt x="436" y="1005"/>
                        </a:lnTo>
                        <a:lnTo>
                          <a:pt x="464" y="1013"/>
                        </a:lnTo>
                        <a:lnTo>
                          <a:pt x="493" y="1019"/>
                        </a:lnTo>
                        <a:lnTo>
                          <a:pt x="523" y="1024"/>
                        </a:lnTo>
                        <a:lnTo>
                          <a:pt x="554" y="1027"/>
                        </a:lnTo>
                        <a:lnTo>
                          <a:pt x="585" y="1030"/>
                        </a:lnTo>
                        <a:lnTo>
                          <a:pt x="618" y="1031"/>
                        </a:lnTo>
                        <a:lnTo>
                          <a:pt x="618" y="1030"/>
                        </a:lnTo>
                        <a:lnTo>
                          <a:pt x="619" y="1030"/>
                        </a:lnTo>
                        <a:lnTo>
                          <a:pt x="622" y="1030"/>
                        </a:lnTo>
                        <a:lnTo>
                          <a:pt x="626" y="1030"/>
                        </a:lnTo>
                        <a:lnTo>
                          <a:pt x="635" y="1030"/>
                        </a:lnTo>
                        <a:lnTo>
                          <a:pt x="653" y="1030"/>
                        </a:lnTo>
                        <a:lnTo>
                          <a:pt x="689" y="1027"/>
                        </a:lnTo>
                        <a:lnTo>
                          <a:pt x="723" y="1023"/>
                        </a:lnTo>
                        <a:lnTo>
                          <a:pt x="757" y="1017"/>
                        </a:lnTo>
                        <a:lnTo>
                          <a:pt x="769" y="994"/>
                        </a:lnTo>
                        <a:lnTo>
                          <a:pt x="783" y="973"/>
                        </a:lnTo>
                        <a:lnTo>
                          <a:pt x="742" y="981"/>
                        </a:lnTo>
                        <a:lnTo>
                          <a:pt x="721" y="984"/>
                        </a:lnTo>
                        <a:lnTo>
                          <a:pt x="702" y="989"/>
                        </a:lnTo>
                        <a:lnTo>
                          <a:pt x="691" y="989"/>
                        </a:lnTo>
                        <a:lnTo>
                          <a:pt x="685" y="989"/>
                        </a:lnTo>
                        <a:lnTo>
                          <a:pt x="681" y="990"/>
                        </a:lnTo>
                        <a:lnTo>
                          <a:pt x="660" y="992"/>
                        </a:lnTo>
                        <a:lnTo>
                          <a:pt x="649" y="992"/>
                        </a:lnTo>
                        <a:lnTo>
                          <a:pt x="643" y="992"/>
                        </a:lnTo>
                        <a:lnTo>
                          <a:pt x="639" y="993"/>
                        </a:lnTo>
                        <a:lnTo>
                          <a:pt x="618" y="994"/>
                        </a:lnTo>
                        <a:lnTo>
                          <a:pt x="588" y="993"/>
                        </a:lnTo>
                        <a:lnTo>
                          <a:pt x="558" y="991"/>
                        </a:lnTo>
                        <a:lnTo>
                          <a:pt x="529" y="988"/>
                        </a:lnTo>
                        <a:lnTo>
                          <a:pt x="501" y="983"/>
                        </a:lnTo>
                        <a:lnTo>
                          <a:pt x="446" y="970"/>
                        </a:lnTo>
                        <a:lnTo>
                          <a:pt x="395" y="951"/>
                        </a:lnTo>
                        <a:lnTo>
                          <a:pt x="344" y="926"/>
                        </a:lnTo>
                        <a:lnTo>
                          <a:pt x="319" y="913"/>
                        </a:lnTo>
                        <a:lnTo>
                          <a:pt x="296" y="898"/>
                        </a:lnTo>
                        <a:lnTo>
                          <a:pt x="272" y="881"/>
                        </a:lnTo>
                        <a:lnTo>
                          <a:pt x="250" y="863"/>
                        </a:lnTo>
                        <a:lnTo>
                          <a:pt x="208" y="824"/>
                        </a:lnTo>
                        <a:lnTo>
                          <a:pt x="186" y="802"/>
                        </a:lnTo>
                        <a:lnTo>
                          <a:pt x="167" y="780"/>
                        </a:lnTo>
                        <a:lnTo>
                          <a:pt x="149" y="756"/>
                        </a:lnTo>
                        <a:lnTo>
                          <a:pt x="133" y="734"/>
                        </a:lnTo>
                        <a:lnTo>
                          <a:pt x="117" y="709"/>
                        </a:lnTo>
                        <a:lnTo>
                          <a:pt x="103" y="685"/>
                        </a:lnTo>
                        <a:lnTo>
                          <a:pt x="90" y="660"/>
                        </a:lnTo>
                        <a:lnTo>
                          <a:pt x="80" y="636"/>
                        </a:lnTo>
                        <a:lnTo>
                          <a:pt x="68" y="609"/>
                        </a:lnTo>
                        <a:lnTo>
                          <a:pt x="60" y="583"/>
                        </a:lnTo>
                        <a:lnTo>
                          <a:pt x="48" y="529"/>
                        </a:lnTo>
                        <a:lnTo>
                          <a:pt x="42" y="499"/>
                        </a:lnTo>
                        <a:lnTo>
                          <a:pt x="40" y="471"/>
                        </a:lnTo>
                        <a:lnTo>
                          <a:pt x="38" y="441"/>
                        </a:lnTo>
                        <a:lnTo>
                          <a:pt x="38" y="413"/>
                        </a:lnTo>
                        <a:lnTo>
                          <a:pt x="40" y="353"/>
                        </a:lnTo>
                        <a:lnTo>
                          <a:pt x="48" y="296"/>
                        </a:lnTo>
                        <a:lnTo>
                          <a:pt x="60" y="241"/>
                        </a:lnTo>
                        <a:lnTo>
                          <a:pt x="80" y="190"/>
                        </a:lnTo>
                        <a:lnTo>
                          <a:pt x="103" y="139"/>
                        </a:lnTo>
                        <a:lnTo>
                          <a:pt x="133" y="91"/>
                        </a:lnTo>
                        <a:lnTo>
                          <a:pt x="167" y="45"/>
                        </a:lnTo>
                        <a:lnTo>
                          <a:pt x="208" y="3"/>
                        </a:lnTo>
                        <a:lnTo>
                          <a:pt x="209" y="0"/>
                        </a:lnTo>
                        <a:lnTo>
                          <a:pt x="192" y="0"/>
                        </a:lnTo>
                        <a:close/>
                      </a:path>
                    </a:pathLst>
                  </a:custGeom>
                  <a:solidFill>
                    <a:srgbClr val="324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8231760" y="4857120"/>
                    <a:ext cx="19512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766" h="994">
                        <a:moveTo>
                          <a:pt x="171" y="0"/>
                        </a:moveTo>
                        <a:lnTo>
                          <a:pt x="170" y="3"/>
                        </a:lnTo>
                        <a:lnTo>
                          <a:pt x="129" y="45"/>
                        </a:lnTo>
                        <a:lnTo>
                          <a:pt x="95" y="91"/>
                        </a:lnTo>
                        <a:lnTo>
                          <a:pt x="65" y="139"/>
                        </a:lnTo>
                        <a:lnTo>
                          <a:pt x="42" y="190"/>
                        </a:lnTo>
                        <a:lnTo>
                          <a:pt x="22" y="241"/>
                        </a:lnTo>
                        <a:lnTo>
                          <a:pt x="10" y="296"/>
                        </a:lnTo>
                        <a:lnTo>
                          <a:pt x="2" y="353"/>
                        </a:lnTo>
                        <a:lnTo>
                          <a:pt x="0" y="413"/>
                        </a:lnTo>
                        <a:lnTo>
                          <a:pt x="0" y="441"/>
                        </a:lnTo>
                        <a:lnTo>
                          <a:pt x="2" y="471"/>
                        </a:lnTo>
                        <a:lnTo>
                          <a:pt x="4" y="499"/>
                        </a:lnTo>
                        <a:lnTo>
                          <a:pt x="10" y="529"/>
                        </a:lnTo>
                        <a:lnTo>
                          <a:pt x="22" y="583"/>
                        </a:lnTo>
                        <a:lnTo>
                          <a:pt x="30" y="609"/>
                        </a:lnTo>
                        <a:lnTo>
                          <a:pt x="42" y="636"/>
                        </a:lnTo>
                        <a:lnTo>
                          <a:pt x="52" y="660"/>
                        </a:lnTo>
                        <a:lnTo>
                          <a:pt x="65" y="685"/>
                        </a:lnTo>
                        <a:lnTo>
                          <a:pt x="79" y="709"/>
                        </a:lnTo>
                        <a:lnTo>
                          <a:pt x="95" y="734"/>
                        </a:lnTo>
                        <a:lnTo>
                          <a:pt x="111" y="756"/>
                        </a:lnTo>
                        <a:lnTo>
                          <a:pt x="129" y="780"/>
                        </a:lnTo>
                        <a:lnTo>
                          <a:pt x="148" y="802"/>
                        </a:lnTo>
                        <a:lnTo>
                          <a:pt x="170" y="824"/>
                        </a:lnTo>
                        <a:lnTo>
                          <a:pt x="212" y="863"/>
                        </a:lnTo>
                        <a:lnTo>
                          <a:pt x="234" y="881"/>
                        </a:lnTo>
                        <a:lnTo>
                          <a:pt x="258" y="898"/>
                        </a:lnTo>
                        <a:lnTo>
                          <a:pt x="281" y="913"/>
                        </a:lnTo>
                        <a:lnTo>
                          <a:pt x="306" y="926"/>
                        </a:lnTo>
                        <a:lnTo>
                          <a:pt x="357" y="951"/>
                        </a:lnTo>
                        <a:lnTo>
                          <a:pt x="408" y="970"/>
                        </a:lnTo>
                        <a:lnTo>
                          <a:pt x="463" y="983"/>
                        </a:lnTo>
                        <a:lnTo>
                          <a:pt x="491" y="988"/>
                        </a:lnTo>
                        <a:lnTo>
                          <a:pt x="520" y="991"/>
                        </a:lnTo>
                        <a:lnTo>
                          <a:pt x="550" y="993"/>
                        </a:lnTo>
                        <a:lnTo>
                          <a:pt x="580" y="994"/>
                        </a:lnTo>
                        <a:lnTo>
                          <a:pt x="601" y="993"/>
                        </a:lnTo>
                        <a:lnTo>
                          <a:pt x="605" y="992"/>
                        </a:lnTo>
                        <a:lnTo>
                          <a:pt x="611" y="992"/>
                        </a:lnTo>
                        <a:lnTo>
                          <a:pt x="622" y="992"/>
                        </a:lnTo>
                        <a:lnTo>
                          <a:pt x="643" y="990"/>
                        </a:lnTo>
                        <a:lnTo>
                          <a:pt x="647" y="989"/>
                        </a:lnTo>
                        <a:lnTo>
                          <a:pt x="653" y="989"/>
                        </a:lnTo>
                        <a:lnTo>
                          <a:pt x="664" y="989"/>
                        </a:lnTo>
                        <a:lnTo>
                          <a:pt x="683" y="984"/>
                        </a:lnTo>
                        <a:lnTo>
                          <a:pt x="704" y="981"/>
                        </a:lnTo>
                        <a:lnTo>
                          <a:pt x="745" y="973"/>
                        </a:lnTo>
                        <a:lnTo>
                          <a:pt x="766" y="928"/>
                        </a:lnTo>
                        <a:lnTo>
                          <a:pt x="743" y="933"/>
                        </a:lnTo>
                        <a:lnTo>
                          <a:pt x="722" y="940"/>
                        </a:lnTo>
                        <a:lnTo>
                          <a:pt x="677" y="950"/>
                        </a:lnTo>
                        <a:lnTo>
                          <a:pt x="629" y="956"/>
                        </a:lnTo>
                        <a:lnTo>
                          <a:pt x="604" y="957"/>
                        </a:lnTo>
                        <a:lnTo>
                          <a:pt x="592" y="957"/>
                        </a:lnTo>
                        <a:lnTo>
                          <a:pt x="580" y="958"/>
                        </a:lnTo>
                        <a:lnTo>
                          <a:pt x="551" y="957"/>
                        </a:lnTo>
                        <a:lnTo>
                          <a:pt x="524" y="955"/>
                        </a:lnTo>
                        <a:lnTo>
                          <a:pt x="470" y="948"/>
                        </a:lnTo>
                        <a:lnTo>
                          <a:pt x="419" y="934"/>
                        </a:lnTo>
                        <a:lnTo>
                          <a:pt x="394" y="926"/>
                        </a:lnTo>
                        <a:lnTo>
                          <a:pt x="370" y="917"/>
                        </a:lnTo>
                        <a:lnTo>
                          <a:pt x="322" y="895"/>
                        </a:lnTo>
                        <a:lnTo>
                          <a:pt x="277" y="867"/>
                        </a:lnTo>
                        <a:lnTo>
                          <a:pt x="255" y="852"/>
                        </a:lnTo>
                        <a:lnTo>
                          <a:pt x="234" y="835"/>
                        </a:lnTo>
                        <a:lnTo>
                          <a:pt x="195" y="798"/>
                        </a:lnTo>
                        <a:lnTo>
                          <a:pt x="174" y="777"/>
                        </a:lnTo>
                        <a:lnTo>
                          <a:pt x="156" y="756"/>
                        </a:lnTo>
                        <a:lnTo>
                          <a:pt x="123" y="713"/>
                        </a:lnTo>
                        <a:lnTo>
                          <a:pt x="96" y="668"/>
                        </a:lnTo>
                        <a:lnTo>
                          <a:pt x="84" y="644"/>
                        </a:lnTo>
                        <a:lnTo>
                          <a:pt x="74" y="622"/>
                        </a:lnTo>
                        <a:lnTo>
                          <a:pt x="56" y="572"/>
                        </a:lnTo>
                        <a:lnTo>
                          <a:pt x="48" y="546"/>
                        </a:lnTo>
                        <a:lnTo>
                          <a:pt x="44" y="521"/>
                        </a:lnTo>
                        <a:lnTo>
                          <a:pt x="39" y="493"/>
                        </a:lnTo>
                        <a:lnTo>
                          <a:pt x="37" y="467"/>
                        </a:lnTo>
                        <a:lnTo>
                          <a:pt x="35" y="413"/>
                        </a:lnTo>
                        <a:lnTo>
                          <a:pt x="37" y="356"/>
                        </a:lnTo>
                        <a:lnTo>
                          <a:pt x="44" y="303"/>
                        </a:lnTo>
                        <a:lnTo>
                          <a:pt x="56" y="252"/>
                        </a:lnTo>
                        <a:lnTo>
                          <a:pt x="74" y="203"/>
                        </a:lnTo>
                        <a:lnTo>
                          <a:pt x="96" y="155"/>
                        </a:lnTo>
                        <a:lnTo>
                          <a:pt x="123" y="110"/>
                        </a:lnTo>
                        <a:lnTo>
                          <a:pt x="156" y="67"/>
                        </a:lnTo>
                        <a:lnTo>
                          <a:pt x="195" y="28"/>
                        </a:lnTo>
                        <a:lnTo>
                          <a:pt x="221" y="4"/>
                        </a:lnTo>
                        <a:lnTo>
                          <a:pt x="196" y="0"/>
                        </a:lnTo>
                        <a:lnTo>
                          <a:pt x="171" y="0"/>
                        </a:lnTo>
                        <a:close/>
                      </a:path>
                    </a:pathLst>
                  </a:custGeom>
                  <a:solidFill>
                    <a:srgbClr val="365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8185680" y="4863600"/>
                    <a:ext cx="20376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150">
                        <a:moveTo>
                          <a:pt x="146" y="0"/>
                        </a:moveTo>
                        <a:lnTo>
                          <a:pt x="93" y="19"/>
                        </a:lnTo>
                        <a:lnTo>
                          <a:pt x="70" y="59"/>
                        </a:lnTo>
                        <a:lnTo>
                          <a:pt x="51" y="102"/>
                        </a:lnTo>
                        <a:lnTo>
                          <a:pt x="35" y="146"/>
                        </a:lnTo>
                        <a:lnTo>
                          <a:pt x="23" y="192"/>
                        </a:lnTo>
                        <a:lnTo>
                          <a:pt x="12" y="238"/>
                        </a:lnTo>
                        <a:lnTo>
                          <a:pt x="6" y="287"/>
                        </a:lnTo>
                        <a:lnTo>
                          <a:pt x="1" y="336"/>
                        </a:lnTo>
                        <a:lnTo>
                          <a:pt x="0" y="387"/>
                        </a:lnTo>
                        <a:lnTo>
                          <a:pt x="0" y="424"/>
                        </a:lnTo>
                        <a:lnTo>
                          <a:pt x="3" y="463"/>
                        </a:lnTo>
                        <a:lnTo>
                          <a:pt x="7" y="500"/>
                        </a:lnTo>
                        <a:lnTo>
                          <a:pt x="14" y="538"/>
                        </a:lnTo>
                        <a:lnTo>
                          <a:pt x="20" y="573"/>
                        </a:lnTo>
                        <a:lnTo>
                          <a:pt x="31" y="609"/>
                        </a:lnTo>
                        <a:lnTo>
                          <a:pt x="41" y="644"/>
                        </a:lnTo>
                        <a:lnTo>
                          <a:pt x="56" y="679"/>
                        </a:lnTo>
                        <a:lnTo>
                          <a:pt x="69" y="711"/>
                        </a:lnTo>
                        <a:lnTo>
                          <a:pt x="86" y="744"/>
                        </a:lnTo>
                        <a:lnTo>
                          <a:pt x="103" y="776"/>
                        </a:lnTo>
                        <a:lnTo>
                          <a:pt x="125" y="807"/>
                        </a:lnTo>
                        <a:lnTo>
                          <a:pt x="146" y="837"/>
                        </a:lnTo>
                        <a:lnTo>
                          <a:pt x="170" y="868"/>
                        </a:lnTo>
                        <a:lnTo>
                          <a:pt x="195" y="897"/>
                        </a:lnTo>
                        <a:lnTo>
                          <a:pt x="223" y="927"/>
                        </a:lnTo>
                        <a:lnTo>
                          <a:pt x="251" y="953"/>
                        </a:lnTo>
                        <a:lnTo>
                          <a:pt x="280" y="978"/>
                        </a:lnTo>
                        <a:lnTo>
                          <a:pt x="310" y="1001"/>
                        </a:lnTo>
                        <a:lnTo>
                          <a:pt x="340" y="1023"/>
                        </a:lnTo>
                        <a:lnTo>
                          <a:pt x="371" y="1042"/>
                        </a:lnTo>
                        <a:lnTo>
                          <a:pt x="403" y="1060"/>
                        </a:lnTo>
                        <a:lnTo>
                          <a:pt x="434" y="1077"/>
                        </a:lnTo>
                        <a:lnTo>
                          <a:pt x="468" y="1093"/>
                        </a:lnTo>
                        <a:lnTo>
                          <a:pt x="501" y="1106"/>
                        </a:lnTo>
                        <a:lnTo>
                          <a:pt x="536" y="1117"/>
                        </a:lnTo>
                        <a:lnTo>
                          <a:pt x="572" y="1126"/>
                        </a:lnTo>
                        <a:lnTo>
                          <a:pt x="608" y="1134"/>
                        </a:lnTo>
                        <a:lnTo>
                          <a:pt x="644" y="1140"/>
                        </a:lnTo>
                        <a:lnTo>
                          <a:pt x="683" y="1144"/>
                        </a:lnTo>
                        <a:lnTo>
                          <a:pt x="721" y="1148"/>
                        </a:lnTo>
                        <a:lnTo>
                          <a:pt x="761" y="1150"/>
                        </a:lnTo>
                        <a:lnTo>
                          <a:pt x="781" y="1132"/>
                        </a:lnTo>
                        <a:lnTo>
                          <a:pt x="802" y="1112"/>
                        </a:lnTo>
                        <a:lnTo>
                          <a:pt x="763" y="1114"/>
                        </a:lnTo>
                        <a:lnTo>
                          <a:pt x="725" y="1112"/>
                        </a:lnTo>
                        <a:lnTo>
                          <a:pt x="688" y="1110"/>
                        </a:lnTo>
                        <a:lnTo>
                          <a:pt x="652" y="1106"/>
                        </a:lnTo>
                        <a:lnTo>
                          <a:pt x="617" y="1100"/>
                        </a:lnTo>
                        <a:lnTo>
                          <a:pt x="582" y="1092"/>
                        </a:lnTo>
                        <a:lnTo>
                          <a:pt x="548" y="1083"/>
                        </a:lnTo>
                        <a:lnTo>
                          <a:pt x="483" y="1060"/>
                        </a:lnTo>
                        <a:lnTo>
                          <a:pt x="450" y="1046"/>
                        </a:lnTo>
                        <a:lnTo>
                          <a:pt x="420" y="1030"/>
                        </a:lnTo>
                        <a:lnTo>
                          <a:pt x="359" y="993"/>
                        </a:lnTo>
                        <a:lnTo>
                          <a:pt x="330" y="972"/>
                        </a:lnTo>
                        <a:lnTo>
                          <a:pt x="303" y="949"/>
                        </a:lnTo>
                        <a:lnTo>
                          <a:pt x="276" y="925"/>
                        </a:lnTo>
                        <a:lnTo>
                          <a:pt x="249" y="900"/>
                        </a:lnTo>
                        <a:lnTo>
                          <a:pt x="222" y="872"/>
                        </a:lnTo>
                        <a:lnTo>
                          <a:pt x="198" y="845"/>
                        </a:lnTo>
                        <a:lnTo>
                          <a:pt x="176" y="817"/>
                        </a:lnTo>
                        <a:lnTo>
                          <a:pt x="155" y="788"/>
                        </a:lnTo>
                        <a:lnTo>
                          <a:pt x="135" y="758"/>
                        </a:lnTo>
                        <a:lnTo>
                          <a:pt x="118" y="728"/>
                        </a:lnTo>
                        <a:lnTo>
                          <a:pt x="102" y="696"/>
                        </a:lnTo>
                        <a:lnTo>
                          <a:pt x="90" y="666"/>
                        </a:lnTo>
                        <a:lnTo>
                          <a:pt x="76" y="632"/>
                        </a:lnTo>
                        <a:lnTo>
                          <a:pt x="66" y="599"/>
                        </a:lnTo>
                        <a:lnTo>
                          <a:pt x="56" y="565"/>
                        </a:lnTo>
                        <a:lnTo>
                          <a:pt x="49" y="531"/>
                        </a:lnTo>
                        <a:lnTo>
                          <a:pt x="42" y="495"/>
                        </a:lnTo>
                        <a:lnTo>
                          <a:pt x="39" y="460"/>
                        </a:lnTo>
                        <a:lnTo>
                          <a:pt x="36" y="423"/>
                        </a:lnTo>
                        <a:lnTo>
                          <a:pt x="36" y="387"/>
                        </a:lnTo>
                        <a:lnTo>
                          <a:pt x="37" y="333"/>
                        </a:lnTo>
                        <a:lnTo>
                          <a:pt x="43" y="280"/>
                        </a:lnTo>
                        <a:lnTo>
                          <a:pt x="51" y="229"/>
                        </a:lnTo>
                        <a:lnTo>
                          <a:pt x="64" y="182"/>
                        </a:lnTo>
                        <a:lnTo>
                          <a:pt x="78" y="133"/>
                        </a:lnTo>
                        <a:lnTo>
                          <a:pt x="98" y="88"/>
                        </a:lnTo>
                        <a:lnTo>
                          <a:pt x="119" y="42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263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8176320" y="4868280"/>
                    <a:ext cx="20196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97" h="1166">
                        <a:moveTo>
                          <a:pt x="129" y="0"/>
                        </a:moveTo>
                        <a:lnTo>
                          <a:pt x="76" y="23"/>
                        </a:lnTo>
                        <a:lnTo>
                          <a:pt x="56" y="62"/>
                        </a:lnTo>
                        <a:lnTo>
                          <a:pt x="42" y="103"/>
                        </a:lnTo>
                        <a:lnTo>
                          <a:pt x="28" y="145"/>
                        </a:lnTo>
                        <a:lnTo>
                          <a:pt x="18" y="188"/>
                        </a:lnTo>
                        <a:lnTo>
                          <a:pt x="10" y="231"/>
                        </a:lnTo>
                        <a:lnTo>
                          <a:pt x="4" y="275"/>
                        </a:lnTo>
                        <a:lnTo>
                          <a:pt x="1" y="320"/>
                        </a:lnTo>
                        <a:lnTo>
                          <a:pt x="0" y="368"/>
                        </a:lnTo>
                        <a:lnTo>
                          <a:pt x="0" y="408"/>
                        </a:lnTo>
                        <a:lnTo>
                          <a:pt x="3" y="448"/>
                        </a:lnTo>
                        <a:lnTo>
                          <a:pt x="7" y="487"/>
                        </a:lnTo>
                        <a:lnTo>
                          <a:pt x="13" y="527"/>
                        </a:lnTo>
                        <a:lnTo>
                          <a:pt x="21" y="564"/>
                        </a:lnTo>
                        <a:lnTo>
                          <a:pt x="31" y="601"/>
                        </a:lnTo>
                        <a:lnTo>
                          <a:pt x="43" y="638"/>
                        </a:lnTo>
                        <a:lnTo>
                          <a:pt x="58" y="674"/>
                        </a:lnTo>
                        <a:lnTo>
                          <a:pt x="72" y="708"/>
                        </a:lnTo>
                        <a:lnTo>
                          <a:pt x="90" y="742"/>
                        </a:lnTo>
                        <a:lnTo>
                          <a:pt x="110" y="775"/>
                        </a:lnTo>
                        <a:lnTo>
                          <a:pt x="131" y="809"/>
                        </a:lnTo>
                        <a:lnTo>
                          <a:pt x="153" y="841"/>
                        </a:lnTo>
                        <a:lnTo>
                          <a:pt x="179" y="872"/>
                        </a:lnTo>
                        <a:lnTo>
                          <a:pt x="205" y="903"/>
                        </a:lnTo>
                        <a:lnTo>
                          <a:pt x="234" y="934"/>
                        </a:lnTo>
                        <a:lnTo>
                          <a:pt x="261" y="959"/>
                        </a:lnTo>
                        <a:lnTo>
                          <a:pt x="289" y="983"/>
                        </a:lnTo>
                        <a:lnTo>
                          <a:pt x="317" y="1006"/>
                        </a:lnTo>
                        <a:lnTo>
                          <a:pt x="347" y="1028"/>
                        </a:lnTo>
                        <a:lnTo>
                          <a:pt x="407" y="1066"/>
                        </a:lnTo>
                        <a:lnTo>
                          <a:pt x="439" y="1083"/>
                        </a:lnTo>
                        <a:lnTo>
                          <a:pt x="471" y="1099"/>
                        </a:lnTo>
                        <a:lnTo>
                          <a:pt x="503" y="1113"/>
                        </a:lnTo>
                        <a:lnTo>
                          <a:pt x="536" y="1125"/>
                        </a:lnTo>
                        <a:lnTo>
                          <a:pt x="570" y="1135"/>
                        </a:lnTo>
                        <a:lnTo>
                          <a:pt x="605" y="1144"/>
                        </a:lnTo>
                        <a:lnTo>
                          <a:pt x="677" y="1158"/>
                        </a:lnTo>
                        <a:lnTo>
                          <a:pt x="713" y="1163"/>
                        </a:lnTo>
                        <a:lnTo>
                          <a:pt x="752" y="1166"/>
                        </a:lnTo>
                        <a:lnTo>
                          <a:pt x="774" y="1149"/>
                        </a:lnTo>
                        <a:lnTo>
                          <a:pt x="797" y="1131"/>
                        </a:lnTo>
                        <a:lnTo>
                          <a:pt x="757" y="1129"/>
                        </a:lnTo>
                        <a:lnTo>
                          <a:pt x="719" y="1125"/>
                        </a:lnTo>
                        <a:lnTo>
                          <a:pt x="680" y="1121"/>
                        </a:lnTo>
                        <a:lnTo>
                          <a:pt x="644" y="1115"/>
                        </a:lnTo>
                        <a:lnTo>
                          <a:pt x="608" y="1107"/>
                        </a:lnTo>
                        <a:lnTo>
                          <a:pt x="572" y="1098"/>
                        </a:lnTo>
                        <a:lnTo>
                          <a:pt x="537" y="1087"/>
                        </a:lnTo>
                        <a:lnTo>
                          <a:pt x="504" y="1074"/>
                        </a:lnTo>
                        <a:lnTo>
                          <a:pt x="470" y="1058"/>
                        </a:lnTo>
                        <a:lnTo>
                          <a:pt x="439" y="1041"/>
                        </a:lnTo>
                        <a:lnTo>
                          <a:pt x="407" y="1023"/>
                        </a:lnTo>
                        <a:lnTo>
                          <a:pt x="376" y="1004"/>
                        </a:lnTo>
                        <a:lnTo>
                          <a:pt x="346" y="982"/>
                        </a:lnTo>
                        <a:lnTo>
                          <a:pt x="316" y="959"/>
                        </a:lnTo>
                        <a:lnTo>
                          <a:pt x="287" y="934"/>
                        </a:lnTo>
                        <a:lnTo>
                          <a:pt x="259" y="908"/>
                        </a:lnTo>
                        <a:lnTo>
                          <a:pt x="231" y="878"/>
                        </a:lnTo>
                        <a:lnTo>
                          <a:pt x="206" y="849"/>
                        </a:lnTo>
                        <a:lnTo>
                          <a:pt x="182" y="818"/>
                        </a:lnTo>
                        <a:lnTo>
                          <a:pt x="161" y="788"/>
                        </a:lnTo>
                        <a:lnTo>
                          <a:pt x="139" y="757"/>
                        </a:lnTo>
                        <a:lnTo>
                          <a:pt x="122" y="725"/>
                        </a:lnTo>
                        <a:lnTo>
                          <a:pt x="105" y="692"/>
                        </a:lnTo>
                        <a:lnTo>
                          <a:pt x="92" y="660"/>
                        </a:lnTo>
                        <a:lnTo>
                          <a:pt x="77" y="625"/>
                        </a:lnTo>
                        <a:lnTo>
                          <a:pt x="67" y="590"/>
                        </a:lnTo>
                        <a:lnTo>
                          <a:pt x="56" y="554"/>
                        </a:lnTo>
                        <a:lnTo>
                          <a:pt x="50" y="519"/>
                        </a:lnTo>
                        <a:lnTo>
                          <a:pt x="43" y="481"/>
                        </a:lnTo>
                        <a:lnTo>
                          <a:pt x="39" y="444"/>
                        </a:lnTo>
                        <a:lnTo>
                          <a:pt x="36" y="405"/>
                        </a:lnTo>
                        <a:lnTo>
                          <a:pt x="36" y="368"/>
                        </a:lnTo>
                        <a:lnTo>
                          <a:pt x="37" y="317"/>
                        </a:lnTo>
                        <a:lnTo>
                          <a:pt x="42" y="268"/>
                        </a:lnTo>
                        <a:lnTo>
                          <a:pt x="48" y="219"/>
                        </a:lnTo>
                        <a:lnTo>
                          <a:pt x="59" y="173"/>
                        </a:lnTo>
                        <a:lnTo>
                          <a:pt x="71" y="127"/>
                        </a:lnTo>
                        <a:lnTo>
                          <a:pt x="87" y="83"/>
                        </a:lnTo>
                        <a:lnTo>
                          <a:pt x="106" y="40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223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8167320" y="4874400"/>
                    <a:ext cx="200160" cy="29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1176">
                        <a:moveTo>
                          <a:pt x="113" y="0"/>
                        </a:moveTo>
                        <a:lnTo>
                          <a:pt x="59" y="31"/>
                        </a:lnTo>
                        <a:lnTo>
                          <a:pt x="33" y="105"/>
                        </a:lnTo>
                        <a:lnTo>
                          <a:pt x="23" y="142"/>
                        </a:lnTo>
                        <a:lnTo>
                          <a:pt x="15" y="182"/>
                        </a:lnTo>
                        <a:lnTo>
                          <a:pt x="7" y="220"/>
                        </a:lnTo>
                        <a:lnTo>
                          <a:pt x="4" y="261"/>
                        </a:lnTo>
                        <a:lnTo>
                          <a:pt x="0" y="302"/>
                        </a:lnTo>
                        <a:lnTo>
                          <a:pt x="0" y="345"/>
                        </a:lnTo>
                        <a:lnTo>
                          <a:pt x="0" y="387"/>
                        </a:lnTo>
                        <a:lnTo>
                          <a:pt x="4" y="429"/>
                        </a:lnTo>
                        <a:lnTo>
                          <a:pt x="7" y="470"/>
                        </a:lnTo>
                        <a:lnTo>
                          <a:pt x="15" y="510"/>
                        </a:lnTo>
                        <a:lnTo>
                          <a:pt x="23" y="549"/>
                        </a:lnTo>
                        <a:lnTo>
                          <a:pt x="34" y="589"/>
                        </a:lnTo>
                        <a:lnTo>
                          <a:pt x="47" y="626"/>
                        </a:lnTo>
                        <a:lnTo>
                          <a:pt x="62" y="665"/>
                        </a:lnTo>
                        <a:lnTo>
                          <a:pt x="76" y="700"/>
                        </a:lnTo>
                        <a:lnTo>
                          <a:pt x="96" y="736"/>
                        </a:lnTo>
                        <a:lnTo>
                          <a:pt x="115" y="771"/>
                        </a:lnTo>
                        <a:lnTo>
                          <a:pt x="138" y="806"/>
                        </a:lnTo>
                        <a:lnTo>
                          <a:pt x="161" y="839"/>
                        </a:lnTo>
                        <a:lnTo>
                          <a:pt x="188" y="872"/>
                        </a:lnTo>
                        <a:lnTo>
                          <a:pt x="215" y="904"/>
                        </a:lnTo>
                        <a:lnTo>
                          <a:pt x="245" y="936"/>
                        </a:lnTo>
                        <a:lnTo>
                          <a:pt x="271" y="960"/>
                        </a:lnTo>
                        <a:lnTo>
                          <a:pt x="299" y="984"/>
                        </a:lnTo>
                        <a:lnTo>
                          <a:pt x="326" y="1007"/>
                        </a:lnTo>
                        <a:lnTo>
                          <a:pt x="354" y="1028"/>
                        </a:lnTo>
                        <a:lnTo>
                          <a:pt x="383" y="1048"/>
                        </a:lnTo>
                        <a:lnTo>
                          <a:pt x="412" y="1066"/>
                        </a:lnTo>
                        <a:lnTo>
                          <a:pt x="472" y="1100"/>
                        </a:lnTo>
                        <a:lnTo>
                          <a:pt x="503" y="1113"/>
                        </a:lnTo>
                        <a:lnTo>
                          <a:pt x="535" y="1126"/>
                        </a:lnTo>
                        <a:lnTo>
                          <a:pt x="599" y="1149"/>
                        </a:lnTo>
                        <a:lnTo>
                          <a:pt x="666" y="1164"/>
                        </a:lnTo>
                        <a:lnTo>
                          <a:pt x="738" y="1176"/>
                        </a:lnTo>
                        <a:lnTo>
                          <a:pt x="762" y="1160"/>
                        </a:lnTo>
                        <a:lnTo>
                          <a:pt x="775" y="1151"/>
                        </a:lnTo>
                        <a:lnTo>
                          <a:pt x="789" y="1143"/>
                        </a:lnTo>
                        <a:lnTo>
                          <a:pt x="750" y="1140"/>
                        </a:lnTo>
                        <a:lnTo>
                          <a:pt x="714" y="1135"/>
                        </a:lnTo>
                        <a:lnTo>
                          <a:pt x="642" y="1121"/>
                        </a:lnTo>
                        <a:lnTo>
                          <a:pt x="607" y="1112"/>
                        </a:lnTo>
                        <a:lnTo>
                          <a:pt x="573" y="1102"/>
                        </a:lnTo>
                        <a:lnTo>
                          <a:pt x="540" y="1090"/>
                        </a:lnTo>
                        <a:lnTo>
                          <a:pt x="508" y="1076"/>
                        </a:lnTo>
                        <a:lnTo>
                          <a:pt x="476" y="1060"/>
                        </a:lnTo>
                        <a:lnTo>
                          <a:pt x="444" y="1043"/>
                        </a:lnTo>
                        <a:lnTo>
                          <a:pt x="384" y="1005"/>
                        </a:lnTo>
                        <a:lnTo>
                          <a:pt x="354" y="983"/>
                        </a:lnTo>
                        <a:lnTo>
                          <a:pt x="326" y="960"/>
                        </a:lnTo>
                        <a:lnTo>
                          <a:pt x="298" y="936"/>
                        </a:lnTo>
                        <a:lnTo>
                          <a:pt x="271" y="911"/>
                        </a:lnTo>
                        <a:lnTo>
                          <a:pt x="242" y="880"/>
                        </a:lnTo>
                        <a:lnTo>
                          <a:pt x="216" y="849"/>
                        </a:lnTo>
                        <a:lnTo>
                          <a:pt x="190" y="818"/>
                        </a:lnTo>
                        <a:lnTo>
                          <a:pt x="168" y="786"/>
                        </a:lnTo>
                        <a:lnTo>
                          <a:pt x="147" y="752"/>
                        </a:lnTo>
                        <a:lnTo>
                          <a:pt x="127" y="719"/>
                        </a:lnTo>
                        <a:lnTo>
                          <a:pt x="109" y="685"/>
                        </a:lnTo>
                        <a:lnTo>
                          <a:pt x="95" y="651"/>
                        </a:lnTo>
                        <a:lnTo>
                          <a:pt x="80" y="615"/>
                        </a:lnTo>
                        <a:lnTo>
                          <a:pt x="68" y="578"/>
                        </a:lnTo>
                        <a:lnTo>
                          <a:pt x="58" y="541"/>
                        </a:lnTo>
                        <a:lnTo>
                          <a:pt x="50" y="504"/>
                        </a:lnTo>
                        <a:lnTo>
                          <a:pt x="44" y="464"/>
                        </a:lnTo>
                        <a:lnTo>
                          <a:pt x="40" y="425"/>
                        </a:lnTo>
                        <a:lnTo>
                          <a:pt x="37" y="385"/>
                        </a:lnTo>
                        <a:lnTo>
                          <a:pt x="37" y="345"/>
                        </a:lnTo>
                        <a:lnTo>
                          <a:pt x="38" y="297"/>
                        </a:lnTo>
                        <a:lnTo>
                          <a:pt x="41" y="252"/>
                        </a:lnTo>
                        <a:lnTo>
                          <a:pt x="47" y="208"/>
                        </a:lnTo>
                        <a:lnTo>
                          <a:pt x="55" y="165"/>
                        </a:lnTo>
                        <a:lnTo>
                          <a:pt x="65" y="122"/>
                        </a:lnTo>
                        <a:lnTo>
                          <a:pt x="79" y="80"/>
                        </a:lnTo>
                        <a:lnTo>
                          <a:pt x="93" y="39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1f2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8139240" y="4902840"/>
                    <a:ext cx="184320" cy="28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25" h="1136">
                        <a:moveTo>
                          <a:pt x="48" y="15"/>
                        </a:moveTo>
                        <a:lnTo>
                          <a:pt x="15" y="50"/>
                        </a:lnTo>
                        <a:lnTo>
                          <a:pt x="3" y="140"/>
                        </a:lnTo>
                        <a:lnTo>
                          <a:pt x="0" y="234"/>
                        </a:lnTo>
                        <a:lnTo>
                          <a:pt x="0" y="282"/>
                        </a:lnTo>
                        <a:lnTo>
                          <a:pt x="3" y="329"/>
                        </a:lnTo>
                        <a:lnTo>
                          <a:pt x="9" y="375"/>
                        </a:lnTo>
                        <a:lnTo>
                          <a:pt x="17" y="421"/>
                        </a:lnTo>
                        <a:lnTo>
                          <a:pt x="25" y="465"/>
                        </a:lnTo>
                        <a:lnTo>
                          <a:pt x="37" y="509"/>
                        </a:lnTo>
                        <a:lnTo>
                          <a:pt x="52" y="552"/>
                        </a:lnTo>
                        <a:lnTo>
                          <a:pt x="69" y="596"/>
                        </a:lnTo>
                        <a:lnTo>
                          <a:pt x="86" y="636"/>
                        </a:lnTo>
                        <a:lnTo>
                          <a:pt x="107" y="677"/>
                        </a:lnTo>
                        <a:lnTo>
                          <a:pt x="129" y="716"/>
                        </a:lnTo>
                        <a:lnTo>
                          <a:pt x="155" y="755"/>
                        </a:lnTo>
                        <a:lnTo>
                          <a:pt x="181" y="793"/>
                        </a:lnTo>
                        <a:lnTo>
                          <a:pt x="211" y="830"/>
                        </a:lnTo>
                        <a:lnTo>
                          <a:pt x="241" y="865"/>
                        </a:lnTo>
                        <a:lnTo>
                          <a:pt x="276" y="902"/>
                        </a:lnTo>
                        <a:lnTo>
                          <a:pt x="318" y="941"/>
                        </a:lnTo>
                        <a:lnTo>
                          <a:pt x="362" y="979"/>
                        </a:lnTo>
                        <a:lnTo>
                          <a:pt x="407" y="1013"/>
                        </a:lnTo>
                        <a:lnTo>
                          <a:pt x="454" y="1044"/>
                        </a:lnTo>
                        <a:lnTo>
                          <a:pt x="502" y="1072"/>
                        </a:lnTo>
                        <a:lnTo>
                          <a:pt x="552" y="1097"/>
                        </a:lnTo>
                        <a:lnTo>
                          <a:pt x="602" y="1117"/>
                        </a:lnTo>
                        <a:lnTo>
                          <a:pt x="655" y="1136"/>
                        </a:lnTo>
                        <a:lnTo>
                          <a:pt x="690" y="1127"/>
                        </a:lnTo>
                        <a:lnTo>
                          <a:pt x="725" y="1118"/>
                        </a:lnTo>
                        <a:lnTo>
                          <a:pt x="665" y="1101"/>
                        </a:lnTo>
                        <a:lnTo>
                          <a:pt x="609" y="1081"/>
                        </a:lnTo>
                        <a:lnTo>
                          <a:pt x="553" y="1056"/>
                        </a:lnTo>
                        <a:lnTo>
                          <a:pt x="500" y="1029"/>
                        </a:lnTo>
                        <a:lnTo>
                          <a:pt x="446" y="996"/>
                        </a:lnTo>
                        <a:lnTo>
                          <a:pt x="396" y="959"/>
                        </a:lnTo>
                        <a:lnTo>
                          <a:pt x="348" y="920"/>
                        </a:lnTo>
                        <a:lnTo>
                          <a:pt x="302" y="877"/>
                        </a:lnTo>
                        <a:lnTo>
                          <a:pt x="269" y="842"/>
                        </a:lnTo>
                        <a:lnTo>
                          <a:pt x="239" y="808"/>
                        </a:lnTo>
                        <a:lnTo>
                          <a:pt x="211" y="771"/>
                        </a:lnTo>
                        <a:lnTo>
                          <a:pt x="184" y="736"/>
                        </a:lnTo>
                        <a:lnTo>
                          <a:pt x="159" y="698"/>
                        </a:lnTo>
                        <a:lnTo>
                          <a:pt x="138" y="660"/>
                        </a:lnTo>
                        <a:lnTo>
                          <a:pt x="119" y="620"/>
                        </a:lnTo>
                        <a:lnTo>
                          <a:pt x="102" y="582"/>
                        </a:lnTo>
                        <a:lnTo>
                          <a:pt x="85" y="540"/>
                        </a:lnTo>
                        <a:lnTo>
                          <a:pt x="72" y="499"/>
                        </a:lnTo>
                        <a:lnTo>
                          <a:pt x="60" y="456"/>
                        </a:lnTo>
                        <a:lnTo>
                          <a:pt x="52" y="414"/>
                        </a:lnTo>
                        <a:lnTo>
                          <a:pt x="44" y="370"/>
                        </a:lnTo>
                        <a:lnTo>
                          <a:pt x="39" y="326"/>
                        </a:lnTo>
                        <a:lnTo>
                          <a:pt x="36" y="279"/>
                        </a:lnTo>
                        <a:lnTo>
                          <a:pt x="36" y="234"/>
                        </a:lnTo>
                        <a:lnTo>
                          <a:pt x="37" y="173"/>
                        </a:lnTo>
                        <a:lnTo>
                          <a:pt x="43" y="114"/>
                        </a:lnTo>
                        <a:lnTo>
                          <a:pt x="51" y="56"/>
                        </a:lnTo>
                        <a:lnTo>
                          <a:pt x="64" y="0"/>
                        </a:lnTo>
                        <a:lnTo>
                          <a:pt x="48" y="15"/>
                        </a:lnTo>
                        <a:close/>
                      </a:path>
                    </a:pathLst>
                  </a:custGeom>
                  <a:solidFill>
                    <a:srgbClr val="162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8148240" y="4891680"/>
                    <a:ext cx="19152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4" h="1162">
                        <a:moveTo>
                          <a:pt x="79" y="0"/>
                        </a:moveTo>
                        <a:lnTo>
                          <a:pt x="28" y="44"/>
                        </a:lnTo>
                        <a:lnTo>
                          <a:pt x="15" y="100"/>
                        </a:lnTo>
                        <a:lnTo>
                          <a:pt x="7" y="158"/>
                        </a:lnTo>
                        <a:lnTo>
                          <a:pt x="1" y="217"/>
                        </a:lnTo>
                        <a:lnTo>
                          <a:pt x="0" y="278"/>
                        </a:lnTo>
                        <a:lnTo>
                          <a:pt x="0" y="323"/>
                        </a:lnTo>
                        <a:lnTo>
                          <a:pt x="3" y="370"/>
                        </a:lnTo>
                        <a:lnTo>
                          <a:pt x="8" y="414"/>
                        </a:lnTo>
                        <a:lnTo>
                          <a:pt x="16" y="458"/>
                        </a:lnTo>
                        <a:lnTo>
                          <a:pt x="24" y="500"/>
                        </a:lnTo>
                        <a:lnTo>
                          <a:pt x="36" y="543"/>
                        </a:lnTo>
                        <a:lnTo>
                          <a:pt x="49" y="584"/>
                        </a:lnTo>
                        <a:lnTo>
                          <a:pt x="66" y="626"/>
                        </a:lnTo>
                        <a:lnTo>
                          <a:pt x="83" y="664"/>
                        </a:lnTo>
                        <a:lnTo>
                          <a:pt x="102" y="704"/>
                        </a:lnTo>
                        <a:lnTo>
                          <a:pt x="123" y="742"/>
                        </a:lnTo>
                        <a:lnTo>
                          <a:pt x="148" y="780"/>
                        </a:lnTo>
                        <a:lnTo>
                          <a:pt x="175" y="815"/>
                        </a:lnTo>
                        <a:lnTo>
                          <a:pt x="203" y="852"/>
                        </a:lnTo>
                        <a:lnTo>
                          <a:pt x="233" y="886"/>
                        </a:lnTo>
                        <a:lnTo>
                          <a:pt x="266" y="921"/>
                        </a:lnTo>
                        <a:lnTo>
                          <a:pt x="312" y="964"/>
                        </a:lnTo>
                        <a:lnTo>
                          <a:pt x="360" y="1003"/>
                        </a:lnTo>
                        <a:lnTo>
                          <a:pt x="410" y="1040"/>
                        </a:lnTo>
                        <a:lnTo>
                          <a:pt x="464" y="1073"/>
                        </a:lnTo>
                        <a:lnTo>
                          <a:pt x="517" y="1100"/>
                        </a:lnTo>
                        <a:lnTo>
                          <a:pt x="573" y="1125"/>
                        </a:lnTo>
                        <a:lnTo>
                          <a:pt x="629" y="1145"/>
                        </a:lnTo>
                        <a:lnTo>
                          <a:pt x="689" y="1162"/>
                        </a:lnTo>
                        <a:lnTo>
                          <a:pt x="721" y="1150"/>
                        </a:lnTo>
                        <a:lnTo>
                          <a:pt x="737" y="1143"/>
                        </a:lnTo>
                        <a:lnTo>
                          <a:pt x="740" y="1141"/>
                        </a:lnTo>
                        <a:lnTo>
                          <a:pt x="745" y="1139"/>
                        </a:lnTo>
                        <a:lnTo>
                          <a:pt x="754" y="1137"/>
                        </a:lnTo>
                        <a:lnTo>
                          <a:pt x="720" y="1130"/>
                        </a:lnTo>
                        <a:lnTo>
                          <a:pt x="687" y="1122"/>
                        </a:lnTo>
                        <a:lnTo>
                          <a:pt x="625" y="1104"/>
                        </a:lnTo>
                        <a:lnTo>
                          <a:pt x="593" y="1093"/>
                        </a:lnTo>
                        <a:lnTo>
                          <a:pt x="563" y="1080"/>
                        </a:lnTo>
                        <a:lnTo>
                          <a:pt x="506" y="1053"/>
                        </a:lnTo>
                        <a:lnTo>
                          <a:pt x="448" y="1019"/>
                        </a:lnTo>
                        <a:lnTo>
                          <a:pt x="393" y="983"/>
                        </a:lnTo>
                        <a:lnTo>
                          <a:pt x="340" y="940"/>
                        </a:lnTo>
                        <a:lnTo>
                          <a:pt x="291" y="895"/>
                        </a:lnTo>
                        <a:lnTo>
                          <a:pt x="258" y="861"/>
                        </a:lnTo>
                        <a:lnTo>
                          <a:pt x="230" y="828"/>
                        </a:lnTo>
                        <a:lnTo>
                          <a:pt x="203" y="794"/>
                        </a:lnTo>
                        <a:lnTo>
                          <a:pt x="179" y="760"/>
                        </a:lnTo>
                        <a:lnTo>
                          <a:pt x="155" y="723"/>
                        </a:lnTo>
                        <a:lnTo>
                          <a:pt x="135" y="687"/>
                        </a:lnTo>
                        <a:lnTo>
                          <a:pt x="116" y="650"/>
                        </a:lnTo>
                        <a:lnTo>
                          <a:pt x="100" y="612"/>
                        </a:lnTo>
                        <a:lnTo>
                          <a:pt x="84" y="573"/>
                        </a:lnTo>
                        <a:lnTo>
                          <a:pt x="71" y="533"/>
                        </a:lnTo>
                        <a:lnTo>
                          <a:pt x="60" y="492"/>
                        </a:lnTo>
                        <a:lnTo>
                          <a:pt x="52" y="451"/>
                        </a:lnTo>
                        <a:lnTo>
                          <a:pt x="44" y="408"/>
                        </a:lnTo>
                        <a:lnTo>
                          <a:pt x="40" y="365"/>
                        </a:lnTo>
                        <a:lnTo>
                          <a:pt x="36" y="321"/>
                        </a:lnTo>
                        <a:lnTo>
                          <a:pt x="36" y="278"/>
                        </a:lnTo>
                        <a:lnTo>
                          <a:pt x="38" y="204"/>
                        </a:lnTo>
                        <a:lnTo>
                          <a:pt x="46" y="134"/>
                        </a:lnTo>
                        <a:lnTo>
                          <a:pt x="60" y="65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solidFill>
                    <a:srgbClr val="192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8111880" y="4947120"/>
                    <a:ext cx="1522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974">
                        <a:moveTo>
                          <a:pt x="36" y="59"/>
                        </a:moveTo>
                        <a:lnTo>
                          <a:pt x="37" y="0"/>
                        </a:lnTo>
                        <a:lnTo>
                          <a:pt x="17" y="42"/>
                        </a:lnTo>
                        <a:lnTo>
                          <a:pt x="0" y="86"/>
                        </a:lnTo>
                        <a:lnTo>
                          <a:pt x="1" y="137"/>
                        </a:lnTo>
                        <a:lnTo>
                          <a:pt x="7" y="188"/>
                        </a:lnTo>
                        <a:lnTo>
                          <a:pt x="12" y="238"/>
                        </a:lnTo>
                        <a:lnTo>
                          <a:pt x="22" y="288"/>
                        </a:lnTo>
                        <a:lnTo>
                          <a:pt x="33" y="336"/>
                        </a:lnTo>
                        <a:lnTo>
                          <a:pt x="47" y="383"/>
                        </a:lnTo>
                        <a:lnTo>
                          <a:pt x="62" y="428"/>
                        </a:lnTo>
                        <a:lnTo>
                          <a:pt x="81" y="475"/>
                        </a:lnTo>
                        <a:lnTo>
                          <a:pt x="101" y="518"/>
                        </a:lnTo>
                        <a:lnTo>
                          <a:pt x="124" y="562"/>
                        </a:lnTo>
                        <a:lnTo>
                          <a:pt x="148" y="604"/>
                        </a:lnTo>
                        <a:lnTo>
                          <a:pt x="177" y="646"/>
                        </a:lnTo>
                        <a:lnTo>
                          <a:pt x="205" y="686"/>
                        </a:lnTo>
                        <a:lnTo>
                          <a:pt x="238" y="727"/>
                        </a:lnTo>
                        <a:lnTo>
                          <a:pt x="271" y="765"/>
                        </a:lnTo>
                        <a:lnTo>
                          <a:pt x="308" y="804"/>
                        </a:lnTo>
                        <a:lnTo>
                          <a:pt x="355" y="849"/>
                        </a:lnTo>
                        <a:lnTo>
                          <a:pt x="405" y="891"/>
                        </a:lnTo>
                        <a:lnTo>
                          <a:pt x="456" y="929"/>
                        </a:lnTo>
                        <a:lnTo>
                          <a:pt x="510" y="965"/>
                        </a:lnTo>
                        <a:lnTo>
                          <a:pt x="554" y="970"/>
                        </a:lnTo>
                        <a:lnTo>
                          <a:pt x="601" y="974"/>
                        </a:lnTo>
                        <a:lnTo>
                          <a:pt x="564" y="954"/>
                        </a:lnTo>
                        <a:lnTo>
                          <a:pt x="529" y="934"/>
                        </a:lnTo>
                        <a:lnTo>
                          <a:pt x="494" y="911"/>
                        </a:lnTo>
                        <a:lnTo>
                          <a:pt x="461" y="889"/>
                        </a:lnTo>
                        <a:lnTo>
                          <a:pt x="397" y="837"/>
                        </a:lnTo>
                        <a:lnTo>
                          <a:pt x="365" y="808"/>
                        </a:lnTo>
                        <a:lnTo>
                          <a:pt x="334" y="779"/>
                        </a:lnTo>
                        <a:lnTo>
                          <a:pt x="297" y="740"/>
                        </a:lnTo>
                        <a:lnTo>
                          <a:pt x="264" y="702"/>
                        </a:lnTo>
                        <a:lnTo>
                          <a:pt x="231" y="661"/>
                        </a:lnTo>
                        <a:lnTo>
                          <a:pt x="203" y="621"/>
                        </a:lnTo>
                        <a:lnTo>
                          <a:pt x="174" y="578"/>
                        </a:lnTo>
                        <a:lnTo>
                          <a:pt x="151" y="536"/>
                        </a:lnTo>
                        <a:lnTo>
                          <a:pt x="129" y="492"/>
                        </a:lnTo>
                        <a:lnTo>
                          <a:pt x="110" y="449"/>
                        </a:lnTo>
                        <a:lnTo>
                          <a:pt x="100" y="425"/>
                        </a:lnTo>
                        <a:lnTo>
                          <a:pt x="92" y="402"/>
                        </a:lnTo>
                        <a:lnTo>
                          <a:pt x="77" y="357"/>
                        </a:lnTo>
                        <a:lnTo>
                          <a:pt x="64" y="309"/>
                        </a:lnTo>
                        <a:lnTo>
                          <a:pt x="54" y="262"/>
                        </a:lnTo>
                        <a:lnTo>
                          <a:pt x="46" y="212"/>
                        </a:lnTo>
                        <a:lnTo>
                          <a:pt x="41" y="162"/>
                        </a:lnTo>
                        <a:lnTo>
                          <a:pt x="37" y="110"/>
                        </a:lnTo>
                        <a:lnTo>
                          <a:pt x="36" y="59"/>
                        </a:lnTo>
                        <a:close/>
                      </a:path>
                    </a:pathLst>
                  </a:custGeom>
                  <a:solidFill>
                    <a:srgbClr val="0c1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8120880" y="4929840"/>
                    <a:ext cx="16488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1042">
                        <a:moveTo>
                          <a:pt x="1" y="68"/>
                        </a:moveTo>
                        <a:lnTo>
                          <a:pt x="0" y="127"/>
                        </a:lnTo>
                        <a:lnTo>
                          <a:pt x="1" y="178"/>
                        </a:lnTo>
                        <a:lnTo>
                          <a:pt x="5" y="230"/>
                        </a:lnTo>
                        <a:lnTo>
                          <a:pt x="10" y="280"/>
                        </a:lnTo>
                        <a:lnTo>
                          <a:pt x="18" y="330"/>
                        </a:lnTo>
                        <a:lnTo>
                          <a:pt x="28" y="377"/>
                        </a:lnTo>
                        <a:lnTo>
                          <a:pt x="41" y="425"/>
                        </a:lnTo>
                        <a:lnTo>
                          <a:pt x="56" y="470"/>
                        </a:lnTo>
                        <a:lnTo>
                          <a:pt x="64" y="493"/>
                        </a:lnTo>
                        <a:lnTo>
                          <a:pt x="74" y="517"/>
                        </a:lnTo>
                        <a:lnTo>
                          <a:pt x="93" y="560"/>
                        </a:lnTo>
                        <a:lnTo>
                          <a:pt x="115" y="604"/>
                        </a:lnTo>
                        <a:lnTo>
                          <a:pt x="138" y="646"/>
                        </a:lnTo>
                        <a:lnTo>
                          <a:pt x="167" y="689"/>
                        </a:lnTo>
                        <a:lnTo>
                          <a:pt x="195" y="729"/>
                        </a:lnTo>
                        <a:lnTo>
                          <a:pt x="228" y="770"/>
                        </a:lnTo>
                        <a:lnTo>
                          <a:pt x="261" y="808"/>
                        </a:lnTo>
                        <a:lnTo>
                          <a:pt x="298" y="847"/>
                        </a:lnTo>
                        <a:lnTo>
                          <a:pt x="329" y="876"/>
                        </a:lnTo>
                        <a:lnTo>
                          <a:pt x="361" y="905"/>
                        </a:lnTo>
                        <a:lnTo>
                          <a:pt x="425" y="957"/>
                        </a:lnTo>
                        <a:lnTo>
                          <a:pt x="458" y="979"/>
                        </a:lnTo>
                        <a:lnTo>
                          <a:pt x="493" y="1002"/>
                        </a:lnTo>
                        <a:lnTo>
                          <a:pt x="528" y="1022"/>
                        </a:lnTo>
                        <a:lnTo>
                          <a:pt x="565" y="1042"/>
                        </a:lnTo>
                        <a:lnTo>
                          <a:pt x="591" y="1042"/>
                        </a:lnTo>
                        <a:lnTo>
                          <a:pt x="650" y="1039"/>
                        </a:lnTo>
                        <a:lnTo>
                          <a:pt x="604" y="1020"/>
                        </a:lnTo>
                        <a:lnTo>
                          <a:pt x="561" y="999"/>
                        </a:lnTo>
                        <a:lnTo>
                          <a:pt x="519" y="975"/>
                        </a:lnTo>
                        <a:lnTo>
                          <a:pt x="479" y="949"/>
                        </a:lnTo>
                        <a:lnTo>
                          <a:pt x="438" y="919"/>
                        </a:lnTo>
                        <a:lnTo>
                          <a:pt x="398" y="889"/>
                        </a:lnTo>
                        <a:lnTo>
                          <a:pt x="359" y="856"/>
                        </a:lnTo>
                        <a:lnTo>
                          <a:pt x="323" y="821"/>
                        </a:lnTo>
                        <a:lnTo>
                          <a:pt x="288" y="783"/>
                        </a:lnTo>
                        <a:lnTo>
                          <a:pt x="255" y="746"/>
                        </a:lnTo>
                        <a:lnTo>
                          <a:pt x="225" y="707"/>
                        </a:lnTo>
                        <a:lnTo>
                          <a:pt x="196" y="669"/>
                        </a:lnTo>
                        <a:lnTo>
                          <a:pt x="170" y="628"/>
                        </a:lnTo>
                        <a:lnTo>
                          <a:pt x="146" y="587"/>
                        </a:lnTo>
                        <a:lnTo>
                          <a:pt x="125" y="545"/>
                        </a:lnTo>
                        <a:lnTo>
                          <a:pt x="108" y="503"/>
                        </a:lnTo>
                        <a:lnTo>
                          <a:pt x="91" y="458"/>
                        </a:lnTo>
                        <a:lnTo>
                          <a:pt x="76" y="414"/>
                        </a:lnTo>
                        <a:lnTo>
                          <a:pt x="64" y="367"/>
                        </a:lnTo>
                        <a:lnTo>
                          <a:pt x="53" y="322"/>
                        </a:lnTo>
                        <a:lnTo>
                          <a:pt x="45" y="273"/>
                        </a:lnTo>
                        <a:lnTo>
                          <a:pt x="40" y="226"/>
                        </a:lnTo>
                        <a:lnTo>
                          <a:pt x="36" y="176"/>
                        </a:lnTo>
                        <a:lnTo>
                          <a:pt x="36" y="127"/>
                        </a:lnTo>
                        <a:lnTo>
                          <a:pt x="37" y="62"/>
                        </a:lnTo>
                        <a:lnTo>
                          <a:pt x="43" y="0"/>
                        </a:lnTo>
                        <a:lnTo>
                          <a:pt x="20" y="33"/>
                        </a:lnTo>
                        <a:lnTo>
                          <a:pt x="1" y="68"/>
                        </a:lnTo>
                        <a:close/>
                      </a:path>
                    </a:pathLst>
                  </a:custGeom>
                  <a:solidFill>
                    <a:srgbClr val="0f1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8130240" y="4915440"/>
                    <a:ext cx="175680" cy="278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1096">
                        <a:moveTo>
                          <a:pt x="7" y="57"/>
                        </a:moveTo>
                        <a:lnTo>
                          <a:pt x="1" y="119"/>
                        </a:lnTo>
                        <a:lnTo>
                          <a:pt x="0" y="184"/>
                        </a:lnTo>
                        <a:lnTo>
                          <a:pt x="0" y="233"/>
                        </a:lnTo>
                        <a:lnTo>
                          <a:pt x="4" y="283"/>
                        </a:lnTo>
                        <a:lnTo>
                          <a:pt x="9" y="330"/>
                        </a:lnTo>
                        <a:lnTo>
                          <a:pt x="17" y="379"/>
                        </a:lnTo>
                        <a:lnTo>
                          <a:pt x="28" y="424"/>
                        </a:lnTo>
                        <a:lnTo>
                          <a:pt x="40" y="471"/>
                        </a:lnTo>
                        <a:lnTo>
                          <a:pt x="55" y="515"/>
                        </a:lnTo>
                        <a:lnTo>
                          <a:pt x="72" y="560"/>
                        </a:lnTo>
                        <a:lnTo>
                          <a:pt x="89" y="602"/>
                        </a:lnTo>
                        <a:lnTo>
                          <a:pt x="110" y="644"/>
                        </a:lnTo>
                        <a:lnTo>
                          <a:pt x="134" y="685"/>
                        </a:lnTo>
                        <a:lnTo>
                          <a:pt x="160" y="726"/>
                        </a:lnTo>
                        <a:lnTo>
                          <a:pt x="189" y="764"/>
                        </a:lnTo>
                        <a:lnTo>
                          <a:pt x="219" y="803"/>
                        </a:lnTo>
                        <a:lnTo>
                          <a:pt x="252" y="840"/>
                        </a:lnTo>
                        <a:lnTo>
                          <a:pt x="287" y="878"/>
                        </a:lnTo>
                        <a:lnTo>
                          <a:pt x="323" y="913"/>
                        </a:lnTo>
                        <a:lnTo>
                          <a:pt x="362" y="946"/>
                        </a:lnTo>
                        <a:lnTo>
                          <a:pt x="402" y="976"/>
                        </a:lnTo>
                        <a:lnTo>
                          <a:pt x="443" y="1006"/>
                        </a:lnTo>
                        <a:lnTo>
                          <a:pt x="483" y="1032"/>
                        </a:lnTo>
                        <a:lnTo>
                          <a:pt x="525" y="1056"/>
                        </a:lnTo>
                        <a:lnTo>
                          <a:pt x="568" y="1077"/>
                        </a:lnTo>
                        <a:lnTo>
                          <a:pt x="614" y="1096"/>
                        </a:lnTo>
                        <a:lnTo>
                          <a:pt x="652" y="1092"/>
                        </a:lnTo>
                        <a:lnTo>
                          <a:pt x="661" y="1090"/>
                        </a:lnTo>
                        <a:lnTo>
                          <a:pt x="666" y="1088"/>
                        </a:lnTo>
                        <a:lnTo>
                          <a:pt x="672" y="1088"/>
                        </a:lnTo>
                        <a:lnTo>
                          <a:pt x="692" y="1086"/>
                        </a:lnTo>
                        <a:lnTo>
                          <a:pt x="639" y="1067"/>
                        </a:lnTo>
                        <a:lnTo>
                          <a:pt x="589" y="1047"/>
                        </a:lnTo>
                        <a:lnTo>
                          <a:pt x="539" y="1022"/>
                        </a:lnTo>
                        <a:lnTo>
                          <a:pt x="491" y="994"/>
                        </a:lnTo>
                        <a:lnTo>
                          <a:pt x="444" y="963"/>
                        </a:lnTo>
                        <a:lnTo>
                          <a:pt x="399" y="929"/>
                        </a:lnTo>
                        <a:lnTo>
                          <a:pt x="355" y="891"/>
                        </a:lnTo>
                        <a:lnTo>
                          <a:pt x="313" y="852"/>
                        </a:lnTo>
                        <a:lnTo>
                          <a:pt x="278" y="815"/>
                        </a:lnTo>
                        <a:lnTo>
                          <a:pt x="248" y="780"/>
                        </a:lnTo>
                        <a:lnTo>
                          <a:pt x="218" y="743"/>
                        </a:lnTo>
                        <a:lnTo>
                          <a:pt x="192" y="705"/>
                        </a:lnTo>
                        <a:lnTo>
                          <a:pt x="166" y="666"/>
                        </a:lnTo>
                        <a:lnTo>
                          <a:pt x="144" y="627"/>
                        </a:lnTo>
                        <a:lnTo>
                          <a:pt x="123" y="586"/>
                        </a:lnTo>
                        <a:lnTo>
                          <a:pt x="106" y="546"/>
                        </a:lnTo>
                        <a:lnTo>
                          <a:pt x="89" y="502"/>
                        </a:lnTo>
                        <a:lnTo>
                          <a:pt x="74" y="459"/>
                        </a:lnTo>
                        <a:lnTo>
                          <a:pt x="62" y="415"/>
                        </a:lnTo>
                        <a:lnTo>
                          <a:pt x="54" y="371"/>
                        </a:lnTo>
                        <a:lnTo>
                          <a:pt x="46" y="325"/>
                        </a:lnTo>
                        <a:lnTo>
                          <a:pt x="40" y="279"/>
                        </a:lnTo>
                        <a:lnTo>
                          <a:pt x="37" y="232"/>
                        </a:lnTo>
                        <a:lnTo>
                          <a:pt x="37" y="184"/>
                        </a:lnTo>
                        <a:lnTo>
                          <a:pt x="40" y="90"/>
                        </a:lnTo>
                        <a:lnTo>
                          <a:pt x="52" y="0"/>
                        </a:lnTo>
                        <a:lnTo>
                          <a:pt x="29" y="28"/>
                        </a:lnTo>
                        <a:lnTo>
                          <a:pt x="7" y="57"/>
                        </a:lnTo>
                        <a:close/>
                      </a:path>
                    </a:pathLst>
                  </a:custGeom>
                  <a:solidFill>
                    <a:srgbClr val="121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8157960" y="4881960"/>
                    <a:ext cx="19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4" h="1173">
                        <a:moveTo>
                          <a:pt x="43" y="36"/>
                        </a:moveTo>
                        <a:lnTo>
                          <a:pt x="24" y="101"/>
                        </a:lnTo>
                        <a:lnTo>
                          <a:pt x="10" y="170"/>
                        </a:lnTo>
                        <a:lnTo>
                          <a:pt x="2" y="240"/>
                        </a:lnTo>
                        <a:lnTo>
                          <a:pt x="0" y="314"/>
                        </a:lnTo>
                        <a:lnTo>
                          <a:pt x="0" y="357"/>
                        </a:lnTo>
                        <a:lnTo>
                          <a:pt x="4" y="401"/>
                        </a:lnTo>
                        <a:lnTo>
                          <a:pt x="8" y="444"/>
                        </a:lnTo>
                        <a:lnTo>
                          <a:pt x="16" y="487"/>
                        </a:lnTo>
                        <a:lnTo>
                          <a:pt x="24" y="528"/>
                        </a:lnTo>
                        <a:lnTo>
                          <a:pt x="35" y="569"/>
                        </a:lnTo>
                        <a:lnTo>
                          <a:pt x="48" y="609"/>
                        </a:lnTo>
                        <a:lnTo>
                          <a:pt x="64" y="648"/>
                        </a:lnTo>
                        <a:lnTo>
                          <a:pt x="80" y="686"/>
                        </a:lnTo>
                        <a:lnTo>
                          <a:pt x="99" y="723"/>
                        </a:lnTo>
                        <a:lnTo>
                          <a:pt x="119" y="759"/>
                        </a:lnTo>
                        <a:lnTo>
                          <a:pt x="143" y="796"/>
                        </a:lnTo>
                        <a:lnTo>
                          <a:pt x="167" y="830"/>
                        </a:lnTo>
                        <a:lnTo>
                          <a:pt x="194" y="864"/>
                        </a:lnTo>
                        <a:lnTo>
                          <a:pt x="222" y="897"/>
                        </a:lnTo>
                        <a:lnTo>
                          <a:pt x="255" y="931"/>
                        </a:lnTo>
                        <a:lnTo>
                          <a:pt x="304" y="976"/>
                        </a:lnTo>
                        <a:lnTo>
                          <a:pt x="357" y="1019"/>
                        </a:lnTo>
                        <a:lnTo>
                          <a:pt x="412" y="1055"/>
                        </a:lnTo>
                        <a:lnTo>
                          <a:pt x="470" y="1089"/>
                        </a:lnTo>
                        <a:lnTo>
                          <a:pt x="527" y="1116"/>
                        </a:lnTo>
                        <a:lnTo>
                          <a:pt x="557" y="1129"/>
                        </a:lnTo>
                        <a:lnTo>
                          <a:pt x="589" y="1140"/>
                        </a:lnTo>
                        <a:lnTo>
                          <a:pt x="651" y="1158"/>
                        </a:lnTo>
                        <a:lnTo>
                          <a:pt x="684" y="1166"/>
                        </a:lnTo>
                        <a:lnTo>
                          <a:pt x="718" y="1173"/>
                        </a:lnTo>
                        <a:lnTo>
                          <a:pt x="745" y="1160"/>
                        </a:lnTo>
                        <a:lnTo>
                          <a:pt x="759" y="1152"/>
                        </a:lnTo>
                        <a:lnTo>
                          <a:pt x="774" y="1145"/>
                        </a:lnTo>
                        <a:lnTo>
                          <a:pt x="702" y="1133"/>
                        </a:lnTo>
                        <a:lnTo>
                          <a:pt x="635" y="1118"/>
                        </a:lnTo>
                        <a:lnTo>
                          <a:pt x="571" y="1095"/>
                        </a:lnTo>
                        <a:lnTo>
                          <a:pt x="539" y="1082"/>
                        </a:lnTo>
                        <a:lnTo>
                          <a:pt x="508" y="1069"/>
                        </a:lnTo>
                        <a:lnTo>
                          <a:pt x="448" y="1035"/>
                        </a:lnTo>
                        <a:lnTo>
                          <a:pt x="419" y="1017"/>
                        </a:lnTo>
                        <a:lnTo>
                          <a:pt x="390" y="997"/>
                        </a:lnTo>
                        <a:lnTo>
                          <a:pt x="362" y="976"/>
                        </a:lnTo>
                        <a:lnTo>
                          <a:pt x="335" y="953"/>
                        </a:lnTo>
                        <a:lnTo>
                          <a:pt x="307" y="929"/>
                        </a:lnTo>
                        <a:lnTo>
                          <a:pt x="281" y="905"/>
                        </a:lnTo>
                        <a:lnTo>
                          <a:pt x="251" y="873"/>
                        </a:lnTo>
                        <a:lnTo>
                          <a:pt x="224" y="841"/>
                        </a:lnTo>
                        <a:lnTo>
                          <a:pt x="197" y="808"/>
                        </a:lnTo>
                        <a:lnTo>
                          <a:pt x="174" y="775"/>
                        </a:lnTo>
                        <a:lnTo>
                          <a:pt x="151" y="740"/>
                        </a:lnTo>
                        <a:lnTo>
                          <a:pt x="132" y="705"/>
                        </a:lnTo>
                        <a:lnTo>
                          <a:pt x="112" y="669"/>
                        </a:lnTo>
                        <a:lnTo>
                          <a:pt x="98" y="634"/>
                        </a:lnTo>
                        <a:lnTo>
                          <a:pt x="83" y="595"/>
                        </a:lnTo>
                        <a:lnTo>
                          <a:pt x="70" y="558"/>
                        </a:lnTo>
                        <a:lnTo>
                          <a:pt x="59" y="518"/>
                        </a:lnTo>
                        <a:lnTo>
                          <a:pt x="51" y="479"/>
                        </a:lnTo>
                        <a:lnTo>
                          <a:pt x="43" y="439"/>
                        </a:lnTo>
                        <a:lnTo>
                          <a:pt x="40" y="398"/>
                        </a:lnTo>
                        <a:lnTo>
                          <a:pt x="36" y="356"/>
                        </a:lnTo>
                        <a:lnTo>
                          <a:pt x="36" y="314"/>
                        </a:lnTo>
                        <a:lnTo>
                          <a:pt x="36" y="271"/>
                        </a:lnTo>
                        <a:lnTo>
                          <a:pt x="40" y="230"/>
                        </a:lnTo>
                        <a:lnTo>
                          <a:pt x="43" y="189"/>
                        </a:lnTo>
                        <a:lnTo>
                          <a:pt x="51" y="151"/>
                        </a:lnTo>
                        <a:lnTo>
                          <a:pt x="59" y="111"/>
                        </a:lnTo>
                        <a:lnTo>
                          <a:pt x="69" y="74"/>
                        </a:lnTo>
                        <a:lnTo>
                          <a:pt x="95" y="0"/>
                        </a:lnTo>
                        <a:lnTo>
                          <a:pt x="68" y="17"/>
                        </a:lnTo>
                        <a:lnTo>
                          <a:pt x="43" y="36"/>
                        </a:lnTo>
                        <a:close/>
                      </a:path>
                    </a:pathLst>
                  </a:custGeom>
                  <a:solidFill>
                    <a:srgbClr val="1c2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8194680" y="4860000"/>
                    <a:ext cx="2037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127">
                        <a:moveTo>
                          <a:pt x="110" y="13"/>
                        </a:moveTo>
                        <a:lnTo>
                          <a:pt x="83" y="55"/>
                        </a:lnTo>
                        <a:lnTo>
                          <a:pt x="62" y="101"/>
                        </a:lnTo>
                        <a:lnTo>
                          <a:pt x="42" y="146"/>
                        </a:lnTo>
                        <a:lnTo>
                          <a:pt x="28" y="195"/>
                        </a:lnTo>
                        <a:lnTo>
                          <a:pt x="15" y="242"/>
                        </a:lnTo>
                        <a:lnTo>
                          <a:pt x="7" y="293"/>
                        </a:lnTo>
                        <a:lnTo>
                          <a:pt x="1" y="346"/>
                        </a:lnTo>
                        <a:lnTo>
                          <a:pt x="0" y="400"/>
                        </a:lnTo>
                        <a:lnTo>
                          <a:pt x="0" y="436"/>
                        </a:lnTo>
                        <a:lnTo>
                          <a:pt x="3" y="473"/>
                        </a:lnTo>
                        <a:lnTo>
                          <a:pt x="6" y="508"/>
                        </a:lnTo>
                        <a:lnTo>
                          <a:pt x="13" y="544"/>
                        </a:lnTo>
                        <a:lnTo>
                          <a:pt x="20" y="578"/>
                        </a:lnTo>
                        <a:lnTo>
                          <a:pt x="30" y="612"/>
                        </a:lnTo>
                        <a:lnTo>
                          <a:pt x="40" y="645"/>
                        </a:lnTo>
                        <a:lnTo>
                          <a:pt x="54" y="679"/>
                        </a:lnTo>
                        <a:lnTo>
                          <a:pt x="66" y="709"/>
                        </a:lnTo>
                        <a:lnTo>
                          <a:pt x="82" y="741"/>
                        </a:lnTo>
                        <a:lnTo>
                          <a:pt x="99" y="771"/>
                        </a:lnTo>
                        <a:lnTo>
                          <a:pt x="119" y="801"/>
                        </a:lnTo>
                        <a:lnTo>
                          <a:pt x="140" y="830"/>
                        </a:lnTo>
                        <a:lnTo>
                          <a:pt x="162" y="858"/>
                        </a:lnTo>
                        <a:lnTo>
                          <a:pt x="186" y="885"/>
                        </a:lnTo>
                        <a:lnTo>
                          <a:pt x="213" y="913"/>
                        </a:lnTo>
                        <a:lnTo>
                          <a:pt x="240" y="938"/>
                        </a:lnTo>
                        <a:lnTo>
                          <a:pt x="267" y="962"/>
                        </a:lnTo>
                        <a:lnTo>
                          <a:pt x="294" y="985"/>
                        </a:lnTo>
                        <a:lnTo>
                          <a:pt x="323" y="1006"/>
                        </a:lnTo>
                        <a:lnTo>
                          <a:pt x="384" y="1043"/>
                        </a:lnTo>
                        <a:lnTo>
                          <a:pt x="414" y="1059"/>
                        </a:lnTo>
                        <a:lnTo>
                          <a:pt x="447" y="1073"/>
                        </a:lnTo>
                        <a:lnTo>
                          <a:pt x="512" y="1096"/>
                        </a:lnTo>
                        <a:lnTo>
                          <a:pt x="546" y="1105"/>
                        </a:lnTo>
                        <a:lnTo>
                          <a:pt x="581" y="1113"/>
                        </a:lnTo>
                        <a:lnTo>
                          <a:pt x="616" y="1119"/>
                        </a:lnTo>
                        <a:lnTo>
                          <a:pt x="652" y="1123"/>
                        </a:lnTo>
                        <a:lnTo>
                          <a:pt x="689" y="1125"/>
                        </a:lnTo>
                        <a:lnTo>
                          <a:pt x="727" y="1127"/>
                        </a:lnTo>
                        <a:lnTo>
                          <a:pt x="766" y="1125"/>
                        </a:lnTo>
                        <a:lnTo>
                          <a:pt x="770" y="1121"/>
                        </a:lnTo>
                        <a:lnTo>
                          <a:pt x="802" y="1087"/>
                        </a:lnTo>
                        <a:lnTo>
                          <a:pt x="765" y="1089"/>
                        </a:lnTo>
                        <a:lnTo>
                          <a:pt x="745" y="1089"/>
                        </a:lnTo>
                        <a:lnTo>
                          <a:pt x="727" y="1090"/>
                        </a:lnTo>
                        <a:lnTo>
                          <a:pt x="691" y="1089"/>
                        </a:lnTo>
                        <a:lnTo>
                          <a:pt x="656" y="1087"/>
                        </a:lnTo>
                        <a:lnTo>
                          <a:pt x="622" y="1082"/>
                        </a:lnTo>
                        <a:lnTo>
                          <a:pt x="589" y="1077"/>
                        </a:lnTo>
                        <a:lnTo>
                          <a:pt x="524" y="1061"/>
                        </a:lnTo>
                        <a:lnTo>
                          <a:pt x="492" y="1051"/>
                        </a:lnTo>
                        <a:lnTo>
                          <a:pt x="462" y="1039"/>
                        </a:lnTo>
                        <a:lnTo>
                          <a:pt x="431" y="1026"/>
                        </a:lnTo>
                        <a:lnTo>
                          <a:pt x="402" y="1011"/>
                        </a:lnTo>
                        <a:lnTo>
                          <a:pt x="372" y="994"/>
                        </a:lnTo>
                        <a:lnTo>
                          <a:pt x="345" y="976"/>
                        </a:lnTo>
                        <a:lnTo>
                          <a:pt x="317" y="955"/>
                        </a:lnTo>
                        <a:lnTo>
                          <a:pt x="291" y="935"/>
                        </a:lnTo>
                        <a:lnTo>
                          <a:pt x="265" y="912"/>
                        </a:lnTo>
                        <a:lnTo>
                          <a:pt x="240" y="888"/>
                        </a:lnTo>
                        <a:lnTo>
                          <a:pt x="213" y="861"/>
                        </a:lnTo>
                        <a:lnTo>
                          <a:pt x="191" y="835"/>
                        </a:lnTo>
                        <a:lnTo>
                          <a:pt x="169" y="808"/>
                        </a:lnTo>
                        <a:lnTo>
                          <a:pt x="150" y="781"/>
                        </a:lnTo>
                        <a:lnTo>
                          <a:pt x="131" y="751"/>
                        </a:lnTo>
                        <a:lnTo>
                          <a:pt x="115" y="723"/>
                        </a:lnTo>
                        <a:lnTo>
                          <a:pt x="99" y="694"/>
                        </a:lnTo>
                        <a:lnTo>
                          <a:pt x="86" y="664"/>
                        </a:lnTo>
                        <a:lnTo>
                          <a:pt x="74" y="632"/>
                        </a:lnTo>
                        <a:lnTo>
                          <a:pt x="64" y="602"/>
                        </a:lnTo>
                        <a:lnTo>
                          <a:pt x="55" y="569"/>
                        </a:lnTo>
                        <a:lnTo>
                          <a:pt x="49" y="537"/>
                        </a:lnTo>
                        <a:lnTo>
                          <a:pt x="42" y="503"/>
                        </a:lnTo>
                        <a:lnTo>
                          <a:pt x="39" y="469"/>
                        </a:lnTo>
                        <a:lnTo>
                          <a:pt x="37" y="434"/>
                        </a:lnTo>
                        <a:lnTo>
                          <a:pt x="37" y="400"/>
                        </a:lnTo>
                        <a:lnTo>
                          <a:pt x="38" y="343"/>
                        </a:lnTo>
                        <a:lnTo>
                          <a:pt x="45" y="290"/>
                        </a:lnTo>
                        <a:lnTo>
                          <a:pt x="54" y="237"/>
                        </a:lnTo>
                        <a:lnTo>
                          <a:pt x="68" y="187"/>
                        </a:lnTo>
                        <a:lnTo>
                          <a:pt x="85" y="137"/>
                        </a:lnTo>
                        <a:lnTo>
                          <a:pt x="108" y="89"/>
                        </a:lnTo>
                        <a:lnTo>
                          <a:pt x="133" y="43"/>
                        </a:lnTo>
                        <a:lnTo>
                          <a:pt x="164" y="0"/>
                        </a:lnTo>
                        <a:lnTo>
                          <a:pt x="110" y="13"/>
                        </a:lnTo>
                        <a:close/>
                      </a:path>
                    </a:pathLst>
                  </a:custGeom>
                  <a:solidFill>
                    <a:srgbClr val="293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8241120" y="4858200"/>
                    <a:ext cx="1904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954">
                        <a:moveTo>
                          <a:pt x="186" y="50"/>
                        </a:moveTo>
                        <a:lnTo>
                          <a:pt x="210" y="26"/>
                        </a:lnTo>
                        <a:lnTo>
                          <a:pt x="236" y="5"/>
                        </a:lnTo>
                        <a:lnTo>
                          <a:pt x="186" y="0"/>
                        </a:lnTo>
                        <a:lnTo>
                          <a:pt x="160" y="24"/>
                        </a:lnTo>
                        <a:lnTo>
                          <a:pt x="121" y="63"/>
                        </a:lnTo>
                        <a:lnTo>
                          <a:pt x="88" y="106"/>
                        </a:lnTo>
                        <a:lnTo>
                          <a:pt x="61" y="151"/>
                        </a:lnTo>
                        <a:lnTo>
                          <a:pt x="39" y="199"/>
                        </a:lnTo>
                        <a:lnTo>
                          <a:pt x="21" y="248"/>
                        </a:lnTo>
                        <a:lnTo>
                          <a:pt x="9" y="299"/>
                        </a:lnTo>
                        <a:lnTo>
                          <a:pt x="2" y="352"/>
                        </a:lnTo>
                        <a:lnTo>
                          <a:pt x="0" y="409"/>
                        </a:lnTo>
                        <a:lnTo>
                          <a:pt x="2" y="463"/>
                        </a:lnTo>
                        <a:lnTo>
                          <a:pt x="4" y="489"/>
                        </a:lnTo>
                        <a:lnTo>
                          <a:pt x="9" y="517"/>
                        </a:lnTo>
                        <a:lnTo>
                          <a:pt x="13" y="542"/>
                        </a:lnTo>
                        <a:lnTo>
                          <a:pt x="21" y="568"/>
                        </a:lnTo>
                        <a:lnTo>
                          <a:pt x="39" y="618"/>
                        </a:lnTo>
                        <a:lnTo>
                          <a:pt x="49" y="640"/>
                        </a:lnTo>
                        <a:lnTo>
                          <a:pt x="61" y="664"/>
                        </a:lnTo>
                        <a:lnTo>
                          <a:pt x="88" y="709"/>
                        </a:lnTo>
                        <a:lnTo>
                          <a:pt x="121" y="752"/>
                        </a:lnTo>
                        <a:lnTo>
                          <a:pt x="139" y="773"/>
                        </a:lnTo>
                        <a:lnTo>
                          <a:pt x="160" y="794"/>
                        </a:lnTo>
                        <a:lnTo>
                          <a:pt x="199" y="831"/>
                        </a:lnTo>
                        <a:lnTo>
                          <a:pt x="220" y="848"/>
                        </a:lnTo>
                        <a:lnTo>
                          <a:pt x="242" y="863"/>
                        </a:lnTo>
                        <a:lnTo>
                          <a:pt x="287" y="891"/>
                        </a:lnTo>
                        <a:lnTo>
                          <a:pt x="335" y="913"/>
                        </a:lnTo>
                        <a:lnTo>
                          <a:pt x="359" y="922"/>
                        </a:lnTo>
                        <a:lnTo>
                          <a:pt x="384" y="930"/>
                        </a:lnTo>
                        <a:lnTo>
                          <a:pt x="435" y="944"/>
                        </a:lnTo>
                        <a:lnTo>
                          <a:pt x="489" y="951"/>
                        </a:lnTo>
                        <a:lnTo>
                          <a:pt x="516" y="953"/>
                        </a:lnTo>
                        <a:lnTo>
                          <a:pt x="545" y="954"/>
                        </a:lnTo>
                        <a:lnTo>
                          <a:pt x="557" y="953"/>
                        </a:lnTo>
                        <a:lnTo>
                          <a:pt x="569" y="953"/>
                        </a:lnTo>
                        <a:lnTo>
                          <a:pt x="594" y="952"/>
                        </a:lnTo>
                        <a:lnTo>
                          <a:pt x="642" y="946"/>
                        </a:lnTo>
                        <a:lnTo>
                          <a:pt x="687" y="936"/>
                        </a:lnTo>
                        <a:lnTo>
                          <a:pt x="708" y="929"/>
                        </a:lnTo>
                        <a:lnTo>
                          <a:pt x="731" y="924"/>
                        </a:lnTo>
                        <a:lnTo>
                          <a:pt x="740" y="900"/>
                        </a:lnTo>
                        <a:lnTo>
                          <a:pt x="749" y="877"/>
                        </a:lnTo>
                        <a:lnTo>
                          <a:pt x="724" y="886"/>
                        </a:lnTo>
                        <a:lnTo>
                          <a:pt x="718" y="887"/>
                        </a:lnTo>
                        <a:lnTo>
                          <a:pt x="712" y="890"/>
                        </a:lnTo>
                        <a:lnTo>
                          <a:pt x="701" y="894"/>
                        </a:lnTo>
                        <a:lnTo>
                          <a:pt x="651" y="908"/>
                        </a:lnTo>
                        <a:lnTo>
                          <a:pt x="598" y="914"/>
                        </a:lnTo>
                        <a:lnTo>
                          <a:pt x="571" y="917"/>
                        </a:lnTo>
                        <a:lnTo>
                          <a:pt x="558" y="917"/>
                        </a:lnTo>
                        <a:lnTo>
                          <a:pt x="551" y="917"/>
                        </a:lnTo>
                        <a:lnTo>
                          <a:pt x="547" y="917"/>
                        </a:lnTo>
                        <a:lnTo>
                          <a:pt x="545" y="918"/>
                        </a:lnTo>
                        <a:lnTo>
                          <a:pt x="518" y="917"/>
                        </a:lnTo>
                        <a:lnTo>
                          <a:pt x="492" y="914"/>
                        </a:lnTo>
                        <a:lnTo>
                          <a:pt x="443" y="908"/>
                        </a:lnTo>
                        <a:lnTo>
                          <a:pt x="394" y="896"/>
                        </a:lnTo>
                        <a:lnTo>
                          <a:pt x="349" y="880"/>
                        </a:lnTo>
                        <a:lnTo>
                          <a:pt x="305" y="858"/>
                        </a:lnTo>
                        <a:lnTo>
                          <a:pt x="263" y="833"/>
                        </a:lnTo>
                        <a:lnTo>
                          <a:pt x="223" y="803"/>
                        </a:lnTo>
                        <a:lnTo>
                          <a:pt x="186" y="769"/>
                        </a:lnTo>
                        <a:lnTo>
                          <a:pt x="166" y="749"/>
                        </a:lnTo>
                        <a:lnTo>
                          <a:pt x="149" y="730"/>
                        </a:lnTo>
                        <a:lnTo>
                          <a:pt x="134" y="709"/>
                        </a:lnTo>
                        <a:lnTo>
                          <a:pt x="120" y="690"/>
                        </a:lnTo>
                        <a:lnTo>
                          <a:pt x="105" y="669"/>
                        </a:lnTo>
                        <a:lnTo>
                          <a:pt x="94" y="648"/>
                        </a:lnTo>
                        <a:lnTo>
                          <a:pt x="83" y="625"/>
                        </a:lnTo>
                        <a:lnTo>
                          <a:pt x="73" y="604"/>
                        </a:lnTo>
                        <a:lnTo>
                          <a:pt x="63" y="580"/>
                        </a:lnTo>
                        <a:lnTo>
                          <a:pt x="56" y="557"/>
                        </a:lnTo>
                        <a:lnTo>
                          <a:pt x="45" y="510"/>
                        </a:lnTo>
                        <a:lnTo>
                          <a:pt x="38" y="460"/>
                        </a:lnTo>
                        <a:lnTo>
                          <a:pt x="36" y="434"/>
                        </a:lnTo>
                        <a:lnTo>
                          <a:pt x="36" y="409"/>
                        </a:lnTo>
                        <a:lnTo>
                          <a:pt x="38" y="356"/>
                        </a:lnTo>
                        <a:lnTo>
                          <a:pt x="45" y="307"/>
                        </a:lnTo>
                        <a:lnTo>
                          <a:pt x="56" y="258"/>
                        </a:lnTo>
                        <a:lnTo>
                          <a:pt x="73" y="214"/>
                        </a:lnTo>
                        <a:lnTo>
                          <a:pt x="94" y="170"/>
                        </a:lnTo>
                        <a:lnTo>
                          <a:pt x="120" y="128"/>
                        </a:lnTo>
                        <a:lnTo>
                          <a:pt x="149" y="87"/>
                        </a:lnTo>
                        <a:lnTo>
                          <a:pt x="186" y="50"/>
                        </a:lnTo>
                        <a:close/>
                      </a:path>
                    </a:pathLst>
                  </a:custGeom>
                  <a:solidFill>
                    <a:srgbClr val="395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8250120" y="4859640"/>
                    <a:ext cx="1843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7" h="913">
                        <a:moveTo>
                          <a:pt x="200" y="0"/>
                        </a:moveTo>
                        <a:lnTo>
                          <a:pt x="174" y="21"/>
                        </a:lnTo>
                        <a:lnTo>
                          <a:pt x="150" y="45"/>
                        </a:lnTo>
                        <a:lnTo>
                          <a:pt x="113" y="82"/>
                        </a:lnTo>
                        <a:lnTo>
                          <a:pt x="84" y="123"/>
                        </a:lnTo>
                        <a:lnTo>
                          <a:pt x="58" y="165"/>
                        </a:lnTo>
                        <a:lnTo>
                          <a:pt x="37" y="209"/>
                        </a:lnTo>
                        <a:lnTo>
                          <a:pt x="20" y="253"/>
                        </a:lnTo>
                        <a:lnTo>
                          <a:pt x="9" y="302"/>
                        </a:lnTo>
                        <a:lnTo>
                          <a:pt x="2" y="351"/>
                        </a:lnTo>
                        <a:lnTo>
                          <a:pt x="0" y="404"/>
                        </a:lnTo>
                        <a:lnTo>
                          <a:pt x="0" y="429"/>
                        </a:lnTo>
                        <a:lnTo>
                          <a:pt x="2" y="455"/>
                        </a:lnTo>
                        <a:lnTo>
                          <a:pt x="9" y="505"/>
                        </a:lnTo>
                        <a:lnTo>
                          <a:pt x="20" y="552"/>
                        </a:lnTo>
                        <a:lnTo>
                          <a:pt x="27" y="575"/>
                        </a:lnTo>
                        <a:lnTo>
                          <a:pt x="37" y="599"/>
                        </a:lnTo>
                        <a:lnTo>
                          <a:pt x="47" y="620"/>
                        </a:lnTo>
                        <a:lnTo>
                          <a:pt x="58" y="643"/>
                        </a:lnTo>
                        <a:lnTo>
                          <a:pt x="69" y="664"/>
                        </a:lnTo>
                        <a:lnTo>
                          <a:pt x="84" y="685"/>
                        </a:lnTo>
                        <a:lnTo>
                          <a:pt x="98" y="704"/>
                        </a:lnTo>
                        <a:lnTo>
                          <a:pt x="113" y="725"/>
                        </a:lnTo>
                        <a:lnTo>
                          <a:pt x="130" y="744"/>
                        </a:lnTo>
                        <a:lnTo>
                          <a:pt x="150" y="764"/>
                        </a:lnTo>
                        <a:lnTo>
                          <a:pt x="187" y="798"/>
                        </a:lnTo>
                        <a:lnTo>
                          <a:pt x="227" y="828"/>
                        </a:lnTo>
                        <a:lnTo>
                          <a:pt x="269" y="853"/>
                        </a:lnTo>
                        <a:lnTo>
                          <a:pt x="313" y="875"/>
                        </a:lnTo>
                        <a:lnTo>
                          <a:pt x="358" y="891"/>
                        </a:lnTo>
                        <a:lnTo>
                          <a:pt x="407" y="903"/>
                        </a:lnTo>
                        <a:lnTo>
                          <a:pt x="456" y="909"/>
                        </a:lnTo>
                        <a:lnTo>
                          <a:pt x="482" y="912"/>
                        </a:lnTo>
                        <a:lnTo>
                          <a:pt x="509" y="913"/>
                        </a:lnTo>
                        <a:lnTo>
                          <a:pt x="511" y="912"/>
                        </a:lnTo>
                        <a:lnTo>
                          <a:pt x="515" y="912"/>
                        </a:lnTo>
                        <a:lnTo>
                          <a:pt x="522" y="912"/>
                        </a:lnTo>
                        <a:lnTo>
                          <a:pt x="535" y="912"/>
                        </a:lnTo>
                        <a:lnTo>
                          <a:pt x="562" y="909"/>
                        </a:lnTo>
                        <a:lnTo>
                          <a:pt x="615" y="903"/>
                        </a:lnTo>
                        <a:lnTo>
                          <a:pt x="665" y="889"/>
                        </a:lnTo>
                        <a:lnTo>
                          <a:pt x="676" y="885"/>
                        </a:lnTo>
                        <a:lnTo>
                          <a:pt x="682" y="882"/>
                        </a:lnTo>
                        <a:lnTo>
                          <a:pt x="688" y="881"/>
                        </a:lnTo>
                        <a:lnTo>
                          <a:pt x="713" y="872"/>
                        </a:lnTo>
                        <a:lnTo>
                          <a:pt x="720" y="848"/>
                        </a:lnTo>
                        <a:lnTo>
                          <a:pt x="727" y="824"/>
                        </a:lnTo>
                        <a:lnTo>
                          <a:pt x="701" y="836"/>
                        </a:lnTo>
                        <a:lnTo>
                          <a:pt x="676" y="846"/>
                        </a:lnTo>
                        <a:lnTo>
                          <a:pt x="649" y="855"/>
                        </a:lnTo>
                        <a:lnTo>
                          <a:pt x="635" y="858"/>
                        </a:lnTo>
                        <a:lnTo>
                          <a:pt x="623" y="863"/>
                        </a:lnTo>
                        <a:lnTo>
                          <a:pt x="608" y="865"/>
                        </a:lnTo>
                        <a:lnTo>
                          <a:pt x="594" y="869"/>
                        </a:lnTo>
                        <a:lnTo>
                          <a:pt x="567" y="873"/>
                        </a:lnTo>
                        <a:lnTo>
                          <a:pt x="538" y="875"/>
                        </a:lnTo>
                        <a:lnTo>
                          <a:pt x="523" y="875"/>
                        </a:lnTo>
                        <a:lnTo>
                          <a:pt x="509" y="877"/>
                        </a:lnTo>
                        <a:lnTo>
                          <a:pt x="460" y="874"/>
                        </a:lnTo>
                        <a:lnTo>
                          <a:pt x="414" y="868"/>
                        </a:lnTo>
                        <a:lnTo>
                          <a:pt x="369" y="856"/>
                        </a:lnTo>
                        <a:lnTo>
                          <a:pt x="327" y="841"/>
                        </a:lnTo>
                        <a:lnTo>
                          <a:pt x="285" y="821"/>
                        </a:lnTo>
                        <a:lnTo>
                          <a:pt x="246" y="798"/>
                        </a:lnTo>
                        <a:lnTo>
                          <a:pt x="209" y="770"/>
                        </a:lnTo>
                        <a:lnTo>
                          <a:pt x="175" y="738"/>
                        </a:lnTo>
                        <a:lnTo>
                          <a:pt x="141" y="702"/>
                        </a:lnTo>
                        <a:lnTo>
                          <a:pt x="126" y="683"/>
                        </a:lnTo>
                        <a:lnTo>
                          <a:pt x="113" y="665"/>
                        </a:lnTo>
                        <a:lnTo>
                          <a:pt x="90" y="625"/>
                        </a:lnTo>
                        <a:lnTo>
                          <a:pt x="79" y="605"/>
                        </a:lnTo>
                        <a:lnTo>
                          <a:pt x="71" y="585"/>
                        </a:lnTo>
                        <a:lnTo>
                          <a:pt x="56" y="542"/>
                        </a:lnTo>
                        <a:lnTo>
                          <a:pt x="45" y="498"/>
                        </a:lnTo>
                        <a:lnTo>
                          <a:pt x="41" y="474"/>
                        </a:lnTo>
                        <a:lnTo>
                          <a:pt x="39" y="452"/>
                        </a:lnTo>
                        <a:lnTo>
                          <a:pt x="37" y="404"/>
                        </a:lnTo>
                        <a:lnTo>
                          <a:pt x="39" y="355"/>
                        </a:lnTo>
                        <a:lnTo>
                          <a:pt x="45" y="310"/>
                        </a:lnTo>
                        <a:lnTo>
                          <a:pt x="56" y="265"/>
                        </a:lnTo>
                        <a:lnTo>
                          <a:pt x="71" y="223"/>
                        </a:lnTo>
                        <a:lnTo>
                          <a:pt x="90" y="181"/>
                        </a:lnTo>
                        <a:lnTo>
                          <a:pt x="113" y="142"/>
                        </a:lnTo>
                        <a:lnTo>
                          <a:pt x="141" y="105"/>
                        </a:lnTo>
                        <a:lnTo>
                          <a:pt x="175" y="71"/>
                        </a:lnTo>
                        <a:lnTo>
                          <a:pt x="210" y="38"/>
                        </a:lnTo>
                        <a:lnTo>
                          <a:pt x="247" y="11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3c5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8259840" y="4862160"/>
                    <a:ext cx="177840" cy="21996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866">
                        <a:moveTo>
                          <a:pt x="210" y="0"/>
                        </a:moveTo>
                        <a:lnTo>
                          <a:pt x="173" y="27"/>
                        </a:lnTo>
                        <a:lnTo>
                          <a:pt x="138" y="60"/>
                        </a:lnTo>
                        <a:lnTo>
                          <a:pt x="104" y="94"/>
                        </a:lnTo>
                        <a:lnTo>
                          <a:pt x="76" y="131"/>
                        </a:lnTo>
                        <a:lnTo>
                          <a:pt x="53" y="170"/>
                        </a:lnTo>
                        <a:lnTo>
                          <a:pt x="34" y="212"/>
                        </a:lnTo>
                        <a:lnTo>
                          <a:pt x="19" y="254"/>
                        </a:lnTo>
                        <a:lnTo>
                          <a:pt x="8" y="299"/>
                        </a:lnTo>
                        <a:lnTo>
                          <a:pt x="2" y="344"/>
                        </a:lnTo>
                        <a:lnTo>
                          <a:pt x="0" y="393"/>
                        </a:lnTo>
                        <a:lnTo>
                          <a:pt x="2" y="441"/>
                        </a:lnTo>
                        <a:lnTo>
                          <a:pt x="4" y="463"/>
                        </a:lnTo>
                        <a:lnTo>
                          <a:pt x="8" y="487"/>
                        </a:lnTo>
                        <a:lnTo>
                          <a:pt x="19" y="531"/>
                        </a:lnTo>
                        <a:lnTo>
                          <a:pt x="34" y="574"/>
                        </a:lnTo>
                        <a:lnTo>
                          <a:pt x="42" y="594"/>
                        </a:lnTo>
                        <a:lnTo>
                          <a:pt x="53" y="614"/>
                        </a:lnTo>
                        <a:lnTo>
                          <a:pt x="76" y="654"/>
                        </a:lnTo>
                        <a:lnTo>
                          <a:pt x="89" y="672"/>
                        </a:lnTo>
                        <a:lnTo>
                          <a:pt x="104" y="691"/>
                        </a:lnTo>
                        <a:lnTo>
                          <a:pt x="138" y="727"/>
                        </a:lnTo>
                        <a:lnTo>
                          <a:pt x="172" y="759"/>
                        </a:lnTo>
                        <a:lnTo>
                          <a:pt x="209" y="787"/>
                        </a:lnTo>
                        <a:lnTo>
                          <a:pt x="248" y="810"/>
                        </a:lnTo>
                        <a:lnTo>
                          <a:pt x="290" y="830"/>
                        </a:lnTo>
                        <a:lnTo>
                          <a:pt x="332" y="845"/>
                        </a:lnTo>
                        <a:lnTo>
                          <a:pt x="377" y="857"/>
                        </a:lnTo>
                        <a:lnTo>
                          <a:pt x="423" y="863"/>
                        </a:lnTo>
                        <a:lnTo>
                          <a:pt x="472" y="866"/>
                        </a:lnTo>
                        <a:lnTo>
                          <a:pt x="486" y="864"/>
                        </a:lnTo>
                        <a:lnTo>
                          <a:pt x="501" y="864"/>
                        </a:lnTo>
                        <a:lnTo>
                          <a:pt x="530" y="862"/>
                        </a:lnTo>
                        <a:lnTo>
                          <a:pt x="557" y="858"/>
                        </a:lnTo>
                        <a:lnTo>
                          <a:pt x="571" y="854"/>
                        </a:lnTo>
                        <a:lnTo>
                          <a:pt x="586" y="852"/>
                        </a:lnTo>
                        <a:lnTo>
                          <a:pt x="598" y="847"/>
                        </a:lnTo>
                        <a:lnTo>
                          <a:pt x="612" y="844"/>
                        </a:lnTo>
                        <a:lnTo>
                          <a:pt x="639" y="835"/>
                        </a:lnTo>
                        <a:lnTo>
                          <a:pt x="664" y="825"/>
                        </a:lnTo>
                        <a:lnTo>
                          <a:pt x="690" y="813"/>
                        </a:lnTo>
                        <a:lnTo>
                          <a:pt x="694" y="790"/>
                        </a:lnTo>
                        <a:lnTo>
                          <a:pt x="700" y="767"/>
                        </a:lnTo>
                        <a:lnTo>
                          <a:pt x="673" y="781"/>
                        </a:lnTo>
                        <a:lnTo>
                          <a:pt x="659" y="786"/>
                        </a:lnTo>
                        <a:lnTo>
                          <a:pt x="647" y="793"/>
                        </a:lnTo>
                        <a:lnTo>
                          <a:pt x="620" y="803"/>
                        </a:lnTo>
                        <a:lnTo>
                          <a:pt x="592" y="813"/>
                        </a:lnTo>
                        <a:lnTo>
                          <a:pt x="563" y="819"/>
                        </a:lnTo>
                        <a:lnTo>
                          <a:pt x="533" y="825"/>
                        </a:lnTo>
                        <a:lnTo>
                          <a:pt x="518" y="826"/>
                        </a:lnTo>
                        <a:lnTo>
                          <a:pt x="503" y="828"/>
                        </a:lnTo>
                        <a:lnTo>
                          <a:pt x="487" y="828"/>
                        </a:lnTo>
                        <a:lnTo>
                          <a:pt x="479" y="828"/>
                        </a:lnTo>
                        <a:lnTo>
                          <a:pt x="472" y="829"/>
                        </a:lnTo>
                        <a:lnTo>
                          <a:pt x="427" y="827"/>
                        </a:lnTo>
                        <a:lnTo>
                          <a:pt x="385" y="820"/>
                        </a:lnTo>
                        <a:lnTo>
                          <a:pt x="343" y="810"/>
                        </a:lnTo>
                        <a:lnTo>
                          <a:pt x="304" y="796"/>
                        </a:lnTo>
                        <a:lnTo>
                          <a:pt x="266" y="778"/>
                        </a:lnTo>
                        <a:lnTo>
                          <a:pt x="231" y="757"/>
                        </a:lnTo>
                        <a:lnTo>
                          <a:pt x="196" y="731"/>
                        </a:lnTo>
                        <a:lnTo>
                          <a:pt x="164" y="701"/>
                        </a:lnTo>
                        <a:lnTo>
                          <a:pt x="132" y="667"/>
                        </a:lnTo>
                        <a:lnTo>
                          <a:pt x="107" y="633"/>
                        </a:lnTo>
                        <a:lnTo>
                          <a:pt x="84" y="597"/>
                        </a:lnTo>
                        <a:lnTo>
                          <a:pt x="67" y="560"/>
                        </a:lnTo>
                        <a:lnTo>
                          <a:pt x="53" y="520"/>
                        </a:lnTo>
                        <a:lnTo>
                          <a:pt x="44" y="479"/>
                        </a:lnTo>
                        <a:lnTo>
                          <a:pt x="37" y="436"/>
                        </a:lnTo>
                        <a:lnTo>
                          <a:pt x="36" y="393"/>
                        </a:lnTo>
                        <a:lnTo>
                          <a:pt x="37" y="348"/>
                        </a:lnTo>
                        <a:lnTo>
                          <a:pt x="44" y="306"/>
                        </a:lnTo>
                        <a:lnTo>
                          <a:pt x="53" y="264"/>
                        </a:lnTo>
                        <a:lnTo>
                          <a:pt x="67" y="225"/>
                        </a:lnTo>
                        <a:lnTo>
                          <a:pt x="84" y="187"/>
                        </a:lnTo>
                        <a:lnTo>
                          <a:pt x="107" y="152"/>
                        </a:lnTo>
                        <a:lnTo>
                          <a:pt x="132" y="116"/>
                        </a:lnTo>
                        <a:lnTo>
                          <a:pt x="164" y="85"/>
                        </a:lnTo>
                        <a:lnTo>
                          <a:pt x="185" y="63"/>
                        </a:lnTo>
                        <a:lnTo>
                          <a:pt x="209" y="45"/>
                        </a:lnTo>
                        <a:lnTo>
                          <a:pt x="233" y="28"/>
                        </a:lnTo>
                        <a:lnTo>
                          <a:pt x="258" y="13"/>
                        </a:lnTo>
                        <a:lnTo>
                          <a:pt x="210" y="0"/>
                        </a:lnTo>
                        <a:close/>
                      </a:path>
                    </a:pathLst>
                  </a:custGeom>
                  <a:solidFill>
                    <a:srgbClr val="3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8268480" y="4865760"/>
                    <a:ext cx="17064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71" h="816">
                        <a:moveTo>
                          <a:pt x="154" y="98"/>
                        </a:moveTo>
                        <a:lnTo>
                          <a:pt x="180" y="73"/>
                        </a:lnTo>
                        <a:lnTo>
                          <a:pt x="208" y="51"/>
                        </a:lnTo>
                        <a:lnTo>
                          <a:pt x="237" y="32"/>
                        </a:lnTo>
                        <a:lnTo>
                          <a:pt x="267" y="17"/>
                        </a:lnTo>
                        <a:lnTo>
                          <a:pt x="222" y="0"/>
                        </a:lnTo>
                        <a:lnTo>
                          <a:pt x="197" y="15"/>
                        </a:lnTo>
                        <a:lnTo>
                          <a:pt x="173" y="32"/>
                        </a:lnTo>
                        <a:lnTo>
                          <a:pt x="149" y="50"/>
                        </a:lnTo>
                        <a:lnTo>
                          <a:pt x="128" y="72"/>
                        </a:lnTo>
                        <a:lnTo>
                          <a:pt x="96" y="103"/>
                        </a:lnTo>
                        <a:lnTo>
                          <a:pt x="71" y="139"/>
                        </a:lnTo>
                        <a:lnTo>
                          <a:pt x="48" y="174"/>
                        </a:lnTo>
                        <a:lnTo>
                          <a:pt x="31" y="212"/>
                        </a:lnTo>
                        <a:lnTo>
                          <a:pt x="17" y="251"/>
                        </a:lnTo>
                        <a:lnTo>
                          <a:pt x="8" y="293"/>
                        </a:lnTo>
                        <a:lnTo>
                          <a:pt x="1" y="335"/>
                        </a:lnTo>
                        <a:lnTo>
                          <a:pt x="0" y="380"/>
                        </a:lnTo>
                        <a:lnTo>
                          <a:pt x="1" y="423"/>
                        </a:lnTo>
                        <a:lnTo>
                          <a:pt x="8" y="466"/>
                        </a:lnTo>
                        <a:lnTo>
                          <a:pt x="17" y="507"/>
                        </a:lnTo>
                        <a:lnTo>
                          <a:pt x="31" y="547"/>
                        </a:lnTo>
                        <a:lnTo>
                          <a:pt x="48" y="584"/>
                        </a:lnTo>
                        <a:lnTo>
                          <a:pt x="71" y="620"/>
                        </a:lnTo>
                        <a:lnTo>
                          <a:pt x="96" y="654"/>
                        </a:lnTo>
                        <a:lnTo>
                          <a:pt x="128" y="688"/>
                        </a:lnTo>
                        <a:lnTo>
                          <a:pt x="160" y="718"/>
                        </a:lnTo>
                        <a:lnTo>
                          <a:pt x="195" y="744"/>
                        </a:lnTo>
                        <a:lnTo>
                          <a:pt x="230" y="765"/>
                        </a:lnTo>
                        <a:lnTo>
                          <a:pt x="268" y="783"/>
                        </a:lnTo>
                        <a:lnTo>
                          <a:pt x="307" y="797"/>
                        </a:lnTo>
                        <a:lnTo>
                          <a:pt x="349" y="807"/>
                        </a:lnTo>
                        <a:lnTo>
                          <a:pt x="391" y="814"/>
                        </a:lnTo>
                        <a:lnTo>
                          <a:pt x="436" y="816"/>
                        </a:lnTo>
                        <a:lnTo>
                          <a:pt x="443" y="815"/>
                        </a:lnTo>
                        <a:lnTo>
                          <a:pt x="451" y="815"/>
                        </a:lnTo>
                        <a:lnTo>
                          <a:pt x="467" y="815"/>
                        </a:lnTo>
                        <a:lnTo>
                          <a:pt x="482" y="813"/>
                        </a:lnTo>
                        <a:lnTo>
                          <a:pt x="497" y="812"/>
                        </a:lnTo>
                        <a:lnTo>
                          <a:pt x="527" y="806"/>
                        </a:lnTo>
                        <a:lnTo>
                          <a:pt x="556" y="800"/>
                        </a:lnTo>
                        <a:lnTo>
                          <a:pt x="584" y="790"/>
                        </a:lnTo>
                        <a:lnTo>
                          <a:pt x="611" y="780"/>
                        </a:lnTo>
                        <a:lnTo>
                          <a:pt x="623" y="773"/>
                        </a:lnTo>
                        <a:lnTo>
                          <a:pt x="637" y="768"/>
                        </a:lnTo>
                        <a:lnTo>
                          <a:pt x="664" y="754"/>
                        </a:lnTo>
                        <a:lnTo>
                          <a:pt x="671" y="705"/>
                        </a:lnTo>
                        <a:lnTo>
                          <a:pt x="644" y="722"/>
                        </a:lnTo>
                        <a:lnTo>
                          <a:pt x="630" y="729"/>
                        </a:lnTo>
                        <a:lnTo>
                          <a:pt x="623" y="732"/>
                        </a:lnTo>
                        <a:lnTo>
                          <a:pt x="618" y="737"/>
                        </a:lnTo>
                        <a:lnTo>
                          <a:pt x="610" y="739"/>
                        </a:lnTo>
                        <a:lnTo>
                          <a:pt x="603" y="743"/>
                        </a:lnTo>
                        <a:lnTo>
                          <a:pt x="589" y="749"/>
                        </a:lnTo>
                        <a:lnTo>
                          <a:pt x="581" y="752"/>
                        </a:lnTo>
                        <a:lnTo>
                          <a:pt x="575" y="755"/>
                        </a:lnTo>
                        <a:lnTo>
                          <a:pt x="561" y="761"/>
                        </a:lnTo>
                        <a:lnTo>
                          <a:pt x="545" y="764"/>
                        </a:lnTo>
                        <a:lnTo>
                          <a:pt x="530" y="769"/>
                        </a:lnTo>
                        <a:lnTo>
                          <a:pt x="514" y="771"/>
                        </a:lnTo>
                        <a:lnTo>
                          <a:pt x="510" y="771"/>
                        </a:lnTo>
                        <a:lnTo>
                          <a:pt x="508" y="771"/>
                        </a:lnTo>
                        <a:lnTo>
                          <a:pt x="507" y="772"/>
                        </a:lnTo>
                        <a:lnTo>
                          <a:pt x="500" y="774"/>
                        </a:lnTo>
                        <a:lnTo>
                          <a:pt x="468" y="778"/>
                        </a:lnTo>
                        <a:lnTo>
                          <a:pt x="436" y="780"/>
                        </a:lnTo>
                        <a:lnTo>
                          <a:pt x="394" y="778"/>
                        </a:lnTo>
                        <a:lnTo>
                          <a:pt x="356" y="772"/>
                        </a:lnTo>
                        <a:lnTo>
                          <a:pt x="317" y="763"/>
                        </a:lnTo>
                        <a:lnTo>
                          <a:pt x="282" y="751"/>
                        </a:lnTo>
                        <a:lnTo>
                          <a:pt x="247" y="734"/>
                        </a:lnTo>
                        <a:lnTo>
                          <a:pt x="214" y="713"/>
                        </a:lnTo>
                        <a:lnTo>
                          <a:pt x="182" y="689"/>
                        </a:lnTo>
                        <a:lnTo>
                          <a:pt x="154" y="663"/>
                        </a:lnTo>
                        <a:lnTo>
                          <a:pt x="125" y="633"/>
                        </a:lnTo>
                        <a:lnTo>
                          <a:pt x="102" y="601"/>
                        </a:lnTo>
                        <a:lnTo>
                          <a:pt x="81" y="567"/>
                        </a:lnTo>
                        <a:lnTo>
                          <a:pt x="65" y="533"/>
                        </a:lnTo>
                        <a:lnTo>
                          <a:pt x="52" y="497"/>
                        </a:lnTo>
                        <a:lnTo>
                          <a:pt x="44" y="459"/>
                        </a:lnTo>
                        <a:lnTo>
                          <a:pt x="38" y="420"/>
                        </a:lnTo>
                        <a:lnTo>
                          <a:pt x="37" y="380"/>
                        </a:lnTo>
                        <a:lnTo>
                          <a:pt x="38" y="338"/>
                        </a:lnTo>
                        <a:lnTo>
                          <a:pt x="44" y="299"/>
                        </a:lnTo>
                        <a:lnTo>
                          <a:pt x="52" y="261"/>
                        </a:lnTo>
                        <a:lnTo>
                          <a:pt x="65" y="226"/>
                        </a:lnTo>
                        <a:lnTo>
                          <a:pt x="81" y="191"/>
                        </a:lnTo>
                        <a:lnTo>
                          <a:pt x="102" y="158"/>
                        </a:lnTo>
                        <a:lnTo>
                          <a:pt x="125" y="126"/>
                        </a:lnTo>
                        <a:lnTo>
                          <a:pt x="154" y="98"/>
                        </a:lnTo>
                        <a:close/>
                      </a:path>
                    </a:pathLst>
                  </a:custGeom>
                  <a:solidFill>
                    <a:srgbClr val="426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8278200" y="4869720"/>
                    <a:ext cx="1620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763">
                        <a:moveTo>
                          <a:pt x="230" y="0"/>
                        </a:moveTo>
                        <a:lnTo>
                          <a:pt x="200" y="15"/>
                        </a:lnTo>
                        <a:lnTo>
                          <a:pt x="171" y="34"/>
                        </a:lnTo>
                        <a:lnTo>
                          <a:pt x="143" y="56"/>
                        </a:lnTo>
                        <a:lnTo>
                          <a:pt x="117" y="81"/>
                        </a:lnTo>
                        <a:lnTo>
                          <a:pt x="88" y="109"/>
                        </a:lnTo>
                        <a:lnTo>
                          <a:pt x="65" y="141"/>
                        </a:lnTo>
                        <a:lnTo>
                          <a:pt x="44" y="174"/>
                        </a:lnTo>
                        <a:lnTo>
                          <a:pt x="28" y="209"/>
                        </a:lnTo>
                        <a:lnTo>
                          <a:pt x="15" y="244"/>
                        </a:lnTo>
                        <a:lnTo>
                          <a:pt x="7" y="282"/>
                        </a:lnTo>
                        <a:lnTo>
                          <a:pt x="1" y="321"/>
                        </a:lnTo>
                        <a:lnTo>
                          <a:pt x="0" y="363"/>
                        </a:lnTo>
                        <a:lnTo>
                          <a:pt x="1" y="403"/>
                        </a:lnTo>
                        <a:lnTo>
                          <a:pt x="7" y="442"/>
                        </a:lnTo>
                        <a:lnTo>
                          <a:pt x="15" y="480"/>
                        </a:lnTo>
                        <a:lnTo>
                          <a:pt x="28" y="516"/>
                        </a:lnTo>
                        <a:lnTo>
                          <a:pt x="44" y="550"/>
                        </a:lnTo>
                        <a:lnTo>
                          <a:pt x="65" y="584"/>
                        </a:lnTo>
                        <a:lnTo>
                          <a:pt x="88" y="616"/>
                        </a:lnTo>
                        <a:lnTo>
                          <a:pt x="117" y="646"/>
                        </a:lnTo>
                        <a:lnTo>
                          <a:pt x="145" y="672"/>
                        </a:lnTo>
                        <a:lnTo>
                          <a:pt x="177" y="696"/>
                        </a:lnTo>
                        <a:lnTo>
                          <a:pt x="210" y="717"/>
                        </a:lnTo>
                        <a:lnTo>
                          <a:pt x="245" y="734"/>
                        </a:lnTo>
                        <a:lnTo>
                          <a:pt x="280" y="746"/>
                        </a:lnTo>
                        <a:lnTo>
                          <a:pt x="319" y="755"/>
                        </a:lnTo>
                        <a:lnTo>
                          <a:pt x="357" y="761"/>
                        </a:lnTo>
                        <a:lnTo>
                          <a:pt x="399" y="763"/>
                        </a:lnTo>
                        <a:lnTo>
                          <a:pt x="431" y="761"/>
                        </a:lnTo>
                        <a:lnTo>
                          <a:pt x="463" y="757"/>
                        </a:lnTo>
                        <a:lnTo>
                          <a:pt x="470" y="755"/>
                        </a:lnTo>
                        <a:lnTo>
                          <a:pt x="471" y="754"/>
                        </a:lnTo>
                        <a:lnTo>
                          <a:pt x="473" y="754"/>
                        </a:lnTo>
                        <a:lnTo>
                          <a:pt x="477" y="754"/>
                        </a:lnTo>
                        <a:lnTo>
                          <a:pt x="493" y="752"/>
                        </a:lnTo>
                        <a:lnTo>
                          <a:pt x="508" y="747"/>
                        </a:lnTo>
                        <a:lnTo>
                          <a:pt x="524" y="744"/>
                        </a:lnTo>
                        <a:lnTo>
                          <a:pt x="538" y="738"/>
                        </a:lnTo>
                        <a:lnTo>
                          <a:pt x="544" y="735"/>
                        </a:lnTo>
                        <a:lnTo>
                          <a:pt x="552" y="732"/>
                        </a:lnTo>
                        <a:lnTo>
                          <a:pt x="566" y="726"/>
                        </a:lnTo>
                        <a:lnTo>
                          <a:pt x="573" y="722"/>
                        </a:lnTo>
                        <a:lnTo>
                          <a:pt x="581" y="720"/>
                        </a:lnTo>
                        <a:lnTo>
                          <a:pt x="586" y="715"/>
                        </a:lnTo>
                        <a:lnTo>
                          <a:pt x="593" y="712"/>
                        </a:lnTo>
                        <a:lnTo>
                          <a:pt x="607" y="705"/>
                        </a:lnTo>
                        <a:lnTo>
                          <a:pt x="634" y="688"/>
                        </a:lnTo>
                        <a:lnTo>
                          <a:pt x="637" y="638"/>
                        </a:lnTo>
                        <a:lnTo>
                          <a:pt x="610" y="658"/>
                        </a:lnTo>
                        <a:lnTo>
                          <a:pt x="583" y="676"/>
                        </a:lnTo>
                        <a:lnTo>
                          <a:pt x="568" y="683"/>
                        </a:lnTo>
                        <a:lnTo>
                          <a:pt x="555" y="691"/>
                        </a:lnTo>
                        <a:lnTo>
                          <a:pt x="540" y="697"/>
                        </a:lnTo>
                        <a:lnTo>
                          <a:pt x="526" y="704"/>
                        </a:lnTo>
                        <a:lnTo>
                          <a:pt x="510" y="709"/>
                        </a:lnTo>
                        <a:lnTo>
                          <a:pt x="496" y="713"/>
                        </a:lnTo>
                        <a:lnTo>
                          <a:pt x="480" y="717"/>
                        </a:lnTo>
                        <a:lnTo>
                          <a:pt x="465" y="721"/>
                        </a:lnTo>
                        <a:lnTo>
                          <a:pt x="456" y="721"/>
                        </a:lnTo>
                        <a:lnTo>
                          <a:pt x="451" y="721"/>
                        </a:lnTo>
                        <a:lnTo>
                          <a:pt x="449" y="721"/>
                        </a:lnTo>
                        <a:lnTo>
                          <a:pt x="448" y="722"/>
                        </a:lnTo>
                        <a:lnTo>
                          <a:pt x="432" y="725"/>
                        </a:lnTo>
                        <a:lnTo>
                          <a:pt x="423" y="725"/>
                        </a:lnTo>
                        <a:lnTo>
                          <a:pt x="418" y="725"/>
                        </a:lnTo>
                        <a:lnTo>
                          <a:pt x="416" y="725"/>
                        </a:lnTo>
                        <a:lnTo>
                          <a:pt x="415" y="726"/>
                        </a:lnTo>
                        <a:lnTo>
                          <a:pt x="399" y="727"/>
                        </a:lnTo>
                        <a:lnTo>
                          <a:pt x="361" y="725"/>
                        </a:lnTo>
                        <a:lnTo>
                          <a:pt x="325" y="720"/>
                        </a:lnTo>
                        <a:lnTo>
                          <a:pt x="290" y="711"/>
                        </a:lnTo>
                        <a:lnTo>
                          <a:pt x="259" y="700"/>
                        </a:lnTo>
                        <a:lnTo>
                          <a:pt x="227" y="684"/>
                        </a:lnTo>
                        <a:lnTo>
                          <a:pt x="197" y="666"/>
                        </a:lnTo>
                        <a:lnTo>
                          <a:pt x="168" y="644"/>
                        </a:lnTo>
                        <a:lnTo>
                          <a:pt x="142" y="620"/>
                        </a:lnTo>
                        <a:lnTo>
                          <a:pt x="116" y="592"/>
                        </a:lnTo>
                        <a:lnTo>
                          <a:pt x="94" y="564"/>
                        </a:lnTo>
                        <a:lnTo>
                          <a:pt x="84" y="548"/>
                        </a:lnTo>
                        <a:lnTo>
                          <a:pt x="76" y="533"/>
                        </a:lnTo>
                        <a:lnTo>
                          <a:pt x="61" y="502"/>
                        </a:lnTo>
                        <a:lnTo>
                          <a:pt x="49" y="468"/>
                        </a:lnTo>
                        <a:lnTo>
                          <a:pt x="41" y="434"/>
                        </a:lnTo>
                        <a:lnTo>
                          <a:pt x="37" y="416"/>
                        </a:lnTo>
                        <a:lnTo>
                          <a:pt x="36" y="399"/>
                        </a:lnTo>
                        <a:lnTo>
                          <a:pt x="35" y="363"/>
                        </a:lnTo>
                        <a:lnTo>
                          <a:pt x="36" y="326"/>
                        </a:lnTo>
                        <a:lnTo>
                          <a:pt x="41" y="290"/>
                        </a:lnTo>
                        <a:lnTo>
                          <a:pt x="49" y="255"/>
                        </a:lnTo>
                        <a:lnTo>
                          <a:pt x="61" y="224"/>
                        </a:lnTo>
                        <a:lnTo>
                          <a:pt x="76" y="192"/>
                        </a:lnTo>
                        <a:lnTo>
                          <a:pt x="94" y="162"/>
                        </a:lnTo>
                        <a:lnTo>
                          <a:pt x="116" y="133"/>
                        </a:lnTo>
                        <a:lnTo>
                          <a:pt x="142" y="107"/>
                        </a:lnTo>
                        <a:lnTo>
                          <a:pt x="171" y="77"/>
                        </a:lnTo>
                        <a:lnTo>
                          <a:pt x="204" y="55"/>
                        </a:lnTo>
                        <a:lnTo>
                          <a:pt x="238" y="34"/>
                        </a:lnTo>
                        <a:lnTo>
                          <a:pt x="276" y="21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466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8203680" y="4858200"/>
                    <a:ext cx="203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99" h="1098">
                        <a:moveTo>
                          <a:pt x="179" y="0"/>
                        </a:moveTo>
                        <a:lnTo>
                          <a:pt x="127" y="8"/>
                        </a:lnTo>
                        <a:lnTo>
                          <a:pt x="96" y="51"/>
                        </a:lnTo>
                        <a:lnTo>
                          <a:pt x="71" y="97"/>
                        </a:lnTo>
                        <a:lnTo>
                          <a:pt x="48" y="145"/>
                        </a:lnTo>
                        <a:lnTo>
                          <a:pt x="31" y="195"/>
                        </a:lnTo>
                        <a:lnTo>
                          <a:pt x="17" y="245"/>
                        </a:lnTo>
                        <a:lnTo>
                          <a:pt x="8" y="298"/>
                        </a:lnTo>
                        <a:lnTo>
                          <a:pt x="1" y="351"/>
                        </a:lnTo>
                        <a:lnTo>
                          <a:pt x="0" y="408"/>
                        </a:lnTo>
                        <a:lnTo>
                          <a:pt x="0" y="442"/>
                        </a:lnTo>
                        <a:lnTo>
                          <a:pt x="2" y="477"/>
                        </a:lnTo>
                        <a:lnTo>
                          <a:pt x="5" y="511"/>
                        </a:lnTo>
                        <a:lnTo>
                          <a:pt x="12" y="545"/>
                        </a:lnTo>
                        <a:lnTo>
                          <a:pt x="18" y="577"/>
                        </a:lnTo>
                        <a:lnTo>
                          <a:pt x="27" y="610"/>
                        </a:lnTo>
                        <a:lnTo>
                          <a:pt x="37" y="640"/>
                        </a:lnTo>
                        <a:lnTo>
                          <a:pt x="49" y="672"/>
                        </a:lnTo>
                        <a:lnTo>
                          <a:pt x="62" y="702"/>
                        </a:lnTo>
                        <a:lnTo>
                          <a:pt x="78" y="731"/>
                        </a:lnTo>
                        <a:lnTo>
                          <a:pt x="94" y="759"/>
                        </a:lnTo>
                        <a:lnTo>
                          <a:pt x="113" y="789"/>
                        </a:lnTo>
                        <a:lnTo>
                          <a:pt x="132" y="816"/>
                        </a:lnTo>
                        <a:lnTo>
                          <a:pt x="154" y="843"/>
                        </a:lnTo>
                        <a:lnTo>
                          <a:pt x="176" y="869"/>
                        </a:lnTo>
                        <a:lnTo>
                          <a:pt x="203" y="896"/>
                        </a:lnTo>
                        <a:lnTo>
                          <a:pt x="228" y="920"/>
                        </a:lnTo>
                        <a:lnTo>
                          <a:pt x="254" y="943"/>
                        </a:lnTo>
                        <a:lnTo>
                          <a:pt x="280" y="963"/>
                        </a:lnTo>
                        <a:lnTo>
                          <a:pt x="308" y="984"/>
                        </a:lnTo>
                        <a:lnTo>
                          <a:pt x="335" y="1002"/>
                        </a:lnTo>
                        <a:lnTo>
                          <a:pt x="365" y="1019"/>
                        </a:lnTo>
                        <a:lnTo>
                          <a:pt x="394" y="1034"/>
                        </a:lnTo>
                        <a:lnTo>
                          <a:pt x="425" y="1047"/>
                        </a:lnTo>
                        <a:lnTo>
                          <a:pt x="455" y="1059"/>
                        </a:lnTo>
                        <a:lnTo>
                          <a:pt x="487" y="1069"/>
                        </a:lnTo>
                        <a:lnTo>
                          <a:pt x="552" y="1085"/>
                        </a:lnTo>
                        <a:lnTo>
                          <a:pt x="585" y="1090"/>
                        </a:lnTo>
                        <a:lnTo>
                          <a:pt x="619" y="1095"/>
                        </a:lnTo>
                        <a:lnTo>
                          <a:pt x="654" y="1097"/>
                        </a:lnTo>
                        <a:lnTo>
                          <a:pt x="690" y="1098"/>
                        </a:lnTo>
                        <a:lnTo>
                          <a:pt x="708" y="1097"/>
                        </a:lnTo>
                        <a:lnTo>
                          <a:pt x="728" y="1097"/>
                        </a:lnTo>
                        <a:lnTo>
                          <a:pt x="765" y="1095"/>
                        </a:lnTo>
                        <a:lnTo>
                          <a:pt x="799" y="1054"/>
                        </a:lnTo>
                        <a:lnTo>
                          <a:pt x="745" y="1060"/>
                        </a:lnTo>
                        <a:lnTo>
                          <a:pt x="690" y="1062"/>
                        </a:lnTo>
                        <a:lnTo>
                          <a:pt x="656" y="1061"/>
                        </a:lnTo>
                        <a:lnTo>
                          <a:pt x="623" y="1059"/>
                        </a:lnTo>
                        <a:lnTo>
                          <a:pt x="559" y="1050"/>
                        </a:lnTo>
                        <a:lnTo>
                          <a:pt x="496" y="1034"/>
                        </a:lnTo>
                        <a:lnTo>
                          <a:pt x="438" y="1013"/>
                        </a:lnTo>
                        <a:lnTo>
                          <a:pt x="381" y="986"/>
                        </a:lnTo>
                        <a:lnTo>
                          <a:pt x="353" y="970"/>
                        </a:lnTo>
                        <a:lnTo>
                          <a:pt x="327" y="953"/>
                        </a:lnTo>
                        <a:lnTo>
                          <a:pt x="276" y="915"/>
                        </a:lnTo>
                        <a:lnTo>
                          <a:pt x="251" y="893"/>
                        </a:lnTo>
                        <a:lnTo>
                          <a:pt x="228" y="870"/>
                        </a:lnTo>
                        <a:lnTo>
                          <a:pt x="203" y="844"/>
                        </a:lnTo>
                        <a:lnTo>
                          <a:pt x="181" y="819"/>
                        </a:lnTo>
                        <a:lnTo>
                          <a:pt x="161" y="793"/>
                        </a:lnTo>
                        <a:lnTo>
                          <a:pt x="142" y="768"/>
                        </a:lnTo>
                        <a:lnTo>
                          <a:pt x="124" y="741"/>
                        </a:lnTo>
                        <a:lnTo>
                          <a:pt x="110" y="714"/>
                        </a:lnTo>
                        <a:lnTo>
                          <a:pt x="95" y="686"/>
                        </a:lnTo>
                        <a:lnTo>
                          <a:pt x="84" y="658"/>
                        </a:lnTo>
                        <a:lnTo>
                          <a:pt x="71" y="628"/>
                        </a:lnTo>
                        <a:lnTo>
                          <a:pt x="62" y="598"/>
                        </a:lnTo>
                        <a:lnTo>
                          <a:pt x="53" y="568"/>
                        </a:lnTo>
                        <a:lnTo>
                          <a:pt x="47" y="537"/>
                        </a:lnTo>
                        <a:lnTo>
                          <a:pt x="42" y="504"/>
                        </a:lnTo>
                        <a:lnTo>
                          <a:pt x="38" y="473"/>
                        </a:lnTo>
                        <a:lnTo>
                          <a:pt x="36" y="440"/>
                        </a:lnTo>
                        <a:lnTo>
                          <a:pt x="36" y="408"/>
                        </a:lnTo>
                        <a:lnTo>
                          <a:pt x="37" y="350"/>
                        </a:lnTo>
                        <a:lnTo>
                          <a:pt x="44" y="295"/>
                        </a:lnTo>
                        <a:lnTo>
                          <a:pt x="55" y="240"/>
                        </a:lnTo>
                        <a:lnTo>
                          <a:pt x="71" y="189"/>
                        </a:lnTo>
                        <a:lnTo>
                          <a:pt x="90" y="138"/>
                        </a:lnTo>
                        <a:lnTo>
                          <a:pt x="115" y="91"/>
                        </a:lnTo>
                        <a:lnTo>
                          <a:pt x="145" y="44"/>
                        </a:lnTo>
                        <a:lnTo>
                          <a:pt x="179" y="0"/>
                        </a:lnTo>
                        <a:close/>
                      </a:path>
                    </a:pathLst>
                  </a:custGeom>
                  <a:solidFill>
                    <a:srgbClr val="2c4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8305560" y="4889160"/>
                    <a:ext cx="13284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4" h="579">
                        <a:moveTo>
                          <a:pt x="36" y="288"/>
                        </a:moveTo>
                        <a:lnTo>
                          <a:pt x="37" y="261"/>
                        </a:lnTo>
                        <a:lnTo>
                          <a:pt x="41" y="236"/>
                        </a:lnTo>
                        <a:lnTo>
                          <a:pt x="46" y="212"/>
                        </a:lnTo>
                        <a:lnTo>
                          <a:pt x="54" y="189"/>
                        </a:lnTo>
                        <a:lnTo>
                          <a:pt x="65" y="167"/>
                        </a:lnTo>
                        <a:lnTo>
                          <a:pt x="77" y="146"/>
                        </a:lnTo>
                        <a:lnTo>
                          <a:pt x="92" y="127"/>
                        </a:lnTo>
                        <a:lnTo>
                          <a:pt x="110" y="109"/>
                        </a:lnTo>
                        <a:lnTo>
                          <a:pt x="128" y="90"/>
                        </a:lnTo>
                        <a:lnTo>
                          <a:pt x="148" y="75"/>
                        </a:lnTo>
                        <a:lnTo>
                          <a:pt x="169" y="62"/>
                        </a:lnTo>
                        <a:lnTo>
                          <a:pt x="192" y="52"/>
                        </a:lnTo>
                        <a:lnTo>
                          <a:pt x="214" y="44"/>
                        </a:lnTo>
                        <a:lnTo>
                          <a:pt x="238" y="39"/>
                        </a:lnTo>
                        <a:lnTo>
                          <a:pt x="263" y="35"/>
                        </a:lnTo>
                        <a:lnTo>
                          <a:pt x="290" y="34"/>
                        </a:lnTo>
                        <a:lnTo>
                          <a:pt x="296" y="34"/>
                        </a:lnTo>
                        <a:lnTo>
                          <a:pt x="253" y="0"/>
                        </a:lnTo>
                        <a:lnTo>
                          <a:pt x="228" y="3"/>
                        </a:lnTo>
                        <a:lnTo>
                          <a:pt x="205" y="9"/>
                        </a:lnTo>
                        <a:lnTo>
                          <a:pt x="182" y="16"/>
                        </a:lnTo>
                        <a:lnTo>
                          <a:pt x="162" y="26"/>
                        </a:lnTo>
                        <a:lnTo>
                          <a:pt x="141" y="36"/>
                        </a:lnTo>
                        <a:lnTo>
                          <a:pt x="121" y="50"/>
                        </a:lnTo>
                        <a:lnTo>
                          <a:pt x="102" y="65"/>
                        </a:lnTo>
                        <a:lnTo>
                          <a:pt x="85" y="83"/>
                        </a:lnTo>
                        <a:lnTo>
                          <a:pt x="63" y="103"/>
                        </a:lnTo>
                        <a:lnTo>
                          <a:pt x="46" y="126"/>
                        </a:lnTo>
                        <a:lnTo>
                          <a:pt x="32" y="150"/>
                        </a:lnTo>
                        <a:lnTo>
                          <a:pt x="20" y="176"/>
                        </a:lnTo>
                        <a:lnTo>
                          <a:pt x="10" y="202"/>
                        </a:lnTo>
                        <a:lnTo>
                          <a:pt x="4" y="229"/>
                        </a:lnTo>
                        <a:lnTo>
                          <a:pt x="1" y="257"/>
                        </a:lnTo>
                        <a:lnTo>
                          <a:pt x="0" y="288"/>
                        </a:lnTo>
                        <a:lnTo>
                          <a:pt x="1" y="316"/>
                        </a:lnTo>
                        <a:lnTo>
                          <a:pt x="4" y="345"/>
                        </a:lnTo>
                        <a:lnTo>
                          <a:pt x="10" y="372"/>
                        </a:lnTo>
                        <a:lnTo>
                          <a:pt x="20" y="399"/>
                        </a:lnTo>
                        <a:lnTo>
                          <a:pt x="32" y="424"/>
                        </a:lnTo>
                        <a:lnTo>
                          <a:pt x="46" y="449"/>
                        </a:lnTo>
                        <a:lnTo>
                          <a:pt x="63" y="472"/>
                        </a:lnTo>
                        <a:lnTo>
                          <a:pt x="85" y="494"/>
                        </a:lnTo>
                        <a:lnTo>
                          <a:pt x="105" y="514"/>
                        </a:lnTo>
                        <a:lnTo>
                          <a:pt x="128" y="531"/>
                        </a:lnTo>
                        <a:lnTo>
                          <a:pt x="152" y="545"/>
                        </a:lnTo>
                        <a:lnTo>
                          <a:pt x="178" y="558"/>
                        </a:lnTo>
                        <a:lnTo>
                          <a:pt x="204" y="566"/>
                        </a:lnTo>
                        <a:lnTo>
                          <a:pt x="231" y="574"/>
                        </a:lnTo>
                        <a:lnTo>
                          <a:pt x="260" y="577"/>
                        </a:lnTo>
                        <a:lnTo>
                          <a:pt x="290" y="579"/>
                        </a:lnTo>
                        <a:lnTo>
                          <a:pt x="304" y="578"/>
                        </a:lnTo>
                        <a:lnTo>
                          <a:pt x="311" y="577"/>
                        </a:lnTo>
                        <a:lnTo>
                          <a:pt x="319" y="577"/>
                        </a:lnTo>
                        <a:lnTo>
                          <a:pt x="332" y="575"/>
                        </a:lnTo>
                        <a:lnTo>
                          <a:pt x="339" y="574"/>
                        </a:lnTo>
                        <a:lnTo>
                          <a:pt x="347" y="574"/>
                        </a:lnTo>
                        <a:lnTo>
                          <a:pt x="374" y="566"/>
                        </a:lnTo>
                        <a:lnTo>
                          <a:pt x="401" y="558"/>
                        </a:lnTo>
                        <a:lnTo>
                          <a:pt x="413" y="551"/>
                        </a:lnTo>
                        <a:lnTo>
                          <a:pt x="415" y="549"/>
                        </a:lnTo>
                        <a:lnTo>
                          <a:pt x="416" y="548"/>
                        </a:lnTo>
                        <a:lnTo>
                          <a:pt x="418" y="548"/>
                        </a:lnTo>
                        <a:lnTo>
                          <a:pt x="425" y="545"/>
                        </a:lnTo>
                        <a:lnTo>
                          <a:pt x="450" y="531"/>
                        </a:lnTo>
                        <a:lnTo>
                          <a:pt x="473" y="514"/>
                        </a:lnTo>
                        <a:lnTo>
                          <a:pt x="495" y="494"/>
                        </a:lnTo>
                        <a:lnTo>
                          <a:pt x="502" y="485"/>
                        </a:lnTo>
                        <a:lnTo>
                          <a:pt x="506" y="481"/>
                        </a:lnTo>
                        <a:lnTo>
                          <a:pt x="510" y="477"/>
                        </a:lnTo>
                        <a:lnTo>
                          <a:pt x="524" y="461"/>
                        </a:lnTo>
                        <a:lnTo>
                          <a:pt x="516" y="407"/>
                        </a:lnTo>
                        <a:lnTo>
                          <a:pt x="510" y="414"/>
                        </a:lnTo>
                        <a:lnTo>
                          <a:pt x="506" y="422"/>
                        </a:lnTo>
                        <a:lnTo>
                          <a:pt x="495" y="438"/>
                        </a:lnTo>
                        <a:lnTo>
                          <a:pt x="489" y="444"/>
                        </a:lnTo>
                        <a:lnTo>
                          <a:pt x="486" y="446"/>
                        </a:lnTo>
                        <a:lnTo>
                          <a:pt x="485" y="448"/>
                        </a:lnTo>
                        <a:lnTo>
                          <a:pt x="483" y="452"/>
                        </a:lnTo>
                        <a:lnTo>
                          <a:pt x="471" y="468"/>
                        </a:lnTo>
                        <a:lnTo>
                          <a:pt x="450" y="485"/>
                        </a:lnTo>
                        <a:lnTo>
                          <a:pt x="440" y="492"/>
                        </a:lnTo>
                        <a:lnTo>
                          <a:pt x="431" y="500"/>
                        </a:lnTo>
                        <a:lnTo>
                          <a:pt x="419" y="506"/>
                        </a:lnTo>
                        <a:lnTo>
                          <a:pt x="409" y="512"/>
                        </a:lnTo>
                        <a:lnTo>
                          <a:pt x="398" y="517"/>
                        </a:lnTo>
                        <a:lnTo>
                          <a:pt x="392" y="519"/>
                        </a:lnTo>
                        <a:lnTo>
                          <a:pt x="388" y="523"/>
                        </a:lnTo>
                        <a:lnTo>
                          <a:pt x="381" y="524"/>
                        </a:lnTo>
                        <a:lnTo>
                          <a:pt x="375" y="526"/>
                        </a:lnTo>
                        <a:lnTo>
                          <a:pt x="364" y="531"/>
                        </a:lnTo>
                        <a:lnTo>
                          <a:pt x="351" y="533"/>
                        </a:lnTo>
                        <a:lnTo>
                          <a:pt x="340" y="536"/>
                        </a:lnTo>
                        <a:lnTo>
                          <a:pt x="315" y="540"/>
                        </a:lnTo>
                        <a:lnTo>
                          <a:pt x="290" y="542"/>
                        </a:lnTo>
                        <a:lnTo>
                          <a:pt x="263" y="540"/>
                        </a:lnTo>
                        <a:lnTo>
                          <a:pt x="238" y="536"/>
                        </a:lnTo>
                        <a:lnTo>
                          <a:pt x="214" y="531"/>
                        </a:lnTo>
                        <a:lnTo>
                          <a:pt x="192" y="523"/>
                        </a:lnTo>
                        <a:lnTo>
                          <a:pt x="169" y="512"/>
                        </a:lnTo>
                        <a:lnTo>
                          <a:pt x="148" y="500"/>
                        </a:lnTo>
                        <a:lnTo>
                          <a:pt x="128" y="485"/>
                        </a:lnTo>
                        <a:lnTo>
                          <a:pt x="110" y="468"/>
                        </a:lnTo>
                        <a:lnTo>
                          <a:pt x="92" y="448"/>
                        </a:lnTo>
                        <a:lnTo>
                          <a:pt x="77" y="429"/>
                        </a:lnTo>
                        <a:lnTo>
                          <a:pt x="65" y="407"/>
                        </a:lnTo>
                        <a:lnTo>
                          <a:pt x="54" y="385"/>
                        </a:lnTo>
                        <a:lnTo>
                          <a:pt x="46" y="362"/>
                        </a:lnTo>
                        <a:lnTo>
                          <a:pt x="41" y="338"/>
                        </a:lnTo>
                        <a:lnTo>
                          <a:pt x="37" y="313"/>
                        </a:lnTo>
                        <a:lnTo>
                          <a:pt x="36" y="288"/>
                        </a:lnTo>
                        <a:close/>
                      </a:path>
                    </a:pathLst>
                  </a:custGeom>
                  <a:solidFill>
                    <a:srgbClr val="4f7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8315280" y="4897800"/>
                    <a:ext cx="1213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508">
                        <a:moveTo>
                          <a:pt x="74" y="75"/>
                        </a:moveTo>
                        <a:lnTo>
                          <a:pt x="56" y="93"/>
                        </a:lnTo>
                        <a:lnTo>
                          <a:pt x="41" y="112"/>
                        </a:lnTo>
                        <a:lnTo>
                          <a:pt x="29" y="133"/>
                        </a:lnTo>
                        <a:lnTo>
                          <a:pt x="18" y="155"/>
                        </a:lnTo>
                        <a:lnTo>
                          <a:pt x="10" y="178"/>
                        </a:lnTo>
                        <a:lnTo>
                          <a:pt x="5" y="202"/>
                        </a:lnTo>
                        <a:lnTo>
                          <a:pt x="1" y="227"/>
                        </a:lnTo>
                        <a:lnTo>
                          <a:pt x="0" y="254"/>
                        </a:lnTo>
                        <a:lnTo>
                          <a:pt x="1" y="279"/>
                        </a:lnTo>
                        <a:lnTo>
                          <a:pt x="5" y="304"/>
                        </a:lnTo>
                        <a:lnTo>
                          <a:pt x="10" y="328"/>
                        </a:lnTo>
                        <a:lnTo>
                          <a:pt x="18" y="351"/>
                        </a:lnTo>
                        <a:lnTo>
                          <a:pt x="29" y="373"/>
                        </a:lnTo>
                        <a:lnTo>
                          <a:pt x="41" y="395"/>
                        </a:lnTo>
                        <a:lnTo>
                          <a:pt x="56" y="414"/>
                        </a:lnTo>
                        <a:lnTo>
                          <a:pt x="74" y="434"/>
                        </a:lnTo>
                        <a:lnTo>
                          <a:pt x="92" y="451"/>
                        </a:lnTo>
                        <a:lnTo>
                          <a:pt x="112" y="466"/>
                        </a:lnTo>
                        <a:lnTo>
                          <a:pt x="133" y="478"/>
                        </a:lnTo>
                        <a:lnTo>
                          <a:pt x="156" y="489"/>
                        </a:lnTo>
                        <a:lnTo>
                          <a:pt x="178" y="497"/>
                        </a:lnTo>
                        <a:lnTo>
                          <a:pt x="202" y="502"/>
                        </a:lnTo>
                        <a:lnTo>
                          <a:pt x="227" y="506"/>
                        </a:lnTo>
                        <a:lnTo>
                          <a:pt x="254" y="508"/>
                        </a:lnTo>
                        <a:lnTo>
                          <a:pt x="279" y="506"/>
                        </a:lnTo>
                        <a:lnTo>
                          <a:pt x="304" y="502"/>
                        </a:lnTo>
                        <a:lnTo>
                          <a:pt x="315" y="499"/>
                        </a:lnTo>
                        <a:lnTo>
                          <a:pt x="328" y="497"/>
                        </a:lnTo>
                        <a:lnTo>
                          <a:pt x="339" y="492"/>
                        </a:lnTo>
                        <a:lnTo>
                          <a:pt x="345" y="490"/>
                        </a:lnTo>
                        <a:lnTo>
                          <a:pt x="352" y="489"/>
                        </a:lnTo>
                        <a:lnTo>
                          <a:pt x="356" y="485"/>
                        </a:lnTo>
                        <a:lnTo>
                          <a:pt x="362" y="483"/>
                        </a:lnTo>
                        <a:lnTo>
                          <a:pt x="373" y="478"/>
                        </a:lnTo>
                        <a:lnTo>
                          <a:pt x="383" y="472"/>
                        </a:lnTo>
                        <a:lnTo>
                          <a:pt x="395" y="466"/>
                        </a:lnTo>
                        <a:lnTo>
                          <a:pt x="404" y="458"/>
                        </a:lnTo>
                        <a:lnTo>
                          <a:pt x="414" y="451"/>
                        </a:lnTo>
                        <a:lnTo>
                          <a:pt x="435" y="434"/>
                        </a:lnTo>
                        <a:lnTo>
                          <a:pt x="447" y="418"/>
                        </a:lnTo>
                        <a:lnTo>
                          <a:pt x="449" y="414"/>
                        </a:lnTo>
                        <a:lnTo>
                          <a:pt x="450" y="412"/>
                        </a:lnTo>
                        <a:lnTo>
                          <a:pt x="453" y="410"/>
                        </a:lnTo>
                        <a:lnTo>
                          <a:pt x="459" y="404"/>
                        </a:lnTo>
                        <a:lnTo>
                          <a:pt x="470" y="388"/>
                        </a:lnTo>
                        <a:lnTo>
                          <a:pt x="474" y="380"/>
                        </a:lnTo>
                        <a:lnTo>
                          <a:pt x="480" y="373"/>
                        </a:lnTo>
                        <a:lnTo>
                          <a:pt x="473" y="341"/>
                        </a:lnTo>
                        <a:lnTo>
                          <a:pt x="465" y="312"/>
                        </a:lnTo>
                        <a:lnTo>
                          <a:pt x="461" y="324"/>
                        </a:lnTo>
                        <a:lnTo>
                          <a:pt x="456" y="338"/>
                        </a:lnTo>
                        <a:lnTo>
                          <a:pt x="444" y="363"/>
                        </a:lnTo>
                        <a:lnTo>
                          <a:pt x="428" y="385"/>
                        </a:lnTo>
                        <a:lnTo>
                          <a:pt x="408" y="408"/>
                        </a:lnTo>
                        <a:lnTo>
                          <a:pt x="399" y="415"/>
                        </a:lnTo>
                        <a:lnTo>
                          <a:pt x="395" y="418"/>
                        </a:lnTo>
                        <a:lnTo>
                          <a:pt x="391" y="423"/>
                        </a:lnTo>
                        <a:lnTo>
                          <a:pt x="382" y="429"/>
                        </a:lnTo>
                        <a:lnTo>
                          <a:pt x="374" y="435"/>
                        </a:lnTo>
                        <a:lnTo>
                          <a:pt x="356" y="446"/>
                        </a:lnTo>
                        <a:lnTo>
                          <a:pt x="338" y="456"/>
                        </a:lnTo>
                        <a:lnTo>
                          <a:pt x="318" y="463"/>
                        </a:lnTo>
                        <a:lnTo>
                          <a:pt x="297" y="468"/>
                        </a:lnTo>
                        <a:lnTo>
                          <a:pt x="286" y="469"/>
                        </a:lnTo>
                        <a:lnTo>
                          <a:pt x="276" y="472"/>
                        </a:lnTo>
                        <a:lnTo>
                          <a:pt x="264" y="472"/>
                        </a:lnTo>
                        <a:lnTo>
                          <a:pt x="259" y="472"/>
                        </a:lnTo>
                        <a:lnTo>
                          <a:pt x="254" y="473"/>
                        </a:lnTo>
                        <a:lnTo>
                          <a:pt x="232" y="472"/>
                        </a:lnTo>
                        <a:lnTo>
                          <a:pt x="210" y="468"/>
                        </a:lnTo>
                        <a:lnTo>
                          <a:pt x="190" y="463"/>
                        </a:lnTo>
                        <a:lnTo>
                          <a:pt x="170" y="456"/>
                        </a:lnTo>
                        <a:lnTo>
                          <a:pt x="151" y="446"/>
                        </a:lnTo>
                        <a:lnTo>
                          <a:pt x="133" y="435"/>
                        </a:lnTo>
                        <a:lnTo>
                          <a:pt x="116" y="423"/>
                        </a:lnTo>
                        <a:lnTo>
                          <a:pt x="100" y="408"/>
                        </a:lnTo>
                        <a:lnTo>
                          <a:pt x="84" y="391"/>
                        </a:lnTo>
                        <a:lnTo>
                          <a:pt x="72" y="374"/>
                        </a:lnTo>
                        <a:lnTo>
                          <a:pt x="60" y="356"/>
                        </a:lnTo>
                        <a:lnTo>
                          <a:pt x="52" y="338"/>
                        </a:lnTo>
                        <a:lnTo>
                          <a:pt x="44" y="317"/>
                        </a:lnTo>
                        <a:lnTo>
                          <a:pt x="40" y="297"/>
                        </a:lnTo>
                        <a:lnTo>
                          <a:pt x="36" y="276"/>
                        </a:lnTo>
                        <a:lnTo>
                          <a:pt x="36" y="254"/>
                        </a:lnTo>
                        <a:lnTo>
                          <a:pt x="40" y="210"/>
                        </a:lnTo>
                        <a:lnTo>
                          <a:pt x="52" y="170"/>
                        </a:lnTo>
                        <a:lnTo>
                          <a:pt x="72" y="133"/>
                        </a:lnTo>
                        <a:lnTo>
                          <a:pt x="100" y="100"/>
                        </a:lnTo>
                        <a:lnTo>
                          <a:pt x="133" y="71"/>
                        </a:lnTo>
                        <a:lnTo>
                          <a:pt x="170" y="52"/>
                        </a:lnTo>
                        <a:lnTo>
                          <a:pt x="210" y="40"/>
                        </a:lnTo>
                        <a:lnTo>
                          <a:pt x="254" y="36"/>
                        </a:lnTo>
                        <a:lnTo>
                          <a:pt x="279" y="37"/>
                        </a:lnTo>
                        <a:lnTo>
                          <a:pt x="290" y="39"/>
                        </a:lnTo>
                        <a:lnTo>
                          <a:pt x="303" y="42"/>
                        </a:lnTo>
                        <a:lnTo>
                          <a:pt x="297" y="35"/>
                        </a:lnTo>
                        <a:lnTo>
                          <a:pt x="260" y="0"/>
                        </a:lnTo>
                        <a:lnTo>
                          <a:pt x="254" y="0"/>
                        </a:lnTo>
                        <a:lnTo>
                          <a:pt x="227" y="1"/>
                        </a:lnTo>
                        <a:lnTo>
                          <a:pt x="202" y="5"/>
                        </a:lnTo>
                        <a:lnTo>
                          <a:pt x="178" y="10"/>
                        </a:lnTo>
                        <a:lnTo>
                          <a:pt x="156" y="18"/>
                        </a:lnTo>
                        <a:lnTo>
                          <a:pt x="133" y="28"/>
                        </a:lnTo>
                        <a:lnTo>
                          <a:pt x="112" y="41"/>
                        </a:lnTo>
                        <a:lnTo>
                          <a:pt x="92" y="56"/>
                        </a:lnTo>
                        <a:lnTo>
                          <a:pt x="74" y="75"/>
                        </a:lnTo>
                        <a:close/>
                      </a:path>
                    </a:pathLst>
                  </a:custGeom>
                  <a:solidFill>
                    <a:srgbClr val="52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8296560" y="4881600"/>
                    <a:ext cx="14292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645">
                        <a:moveTo>
                          <a:pt x="36" y="317"/>
                        </a:moveTo>
                        <a:lnTo>
                          <a:pt x="37" y="286"/>
                        </a:lnTo>
                        <a:lnTo>
                          <a:pt x="40" y="258"/>
                        </a:lnTo>
                        <a:lnTo>
                          <a:pt x="46" y="231"/>
                        </a:lnTo>
                        <a:lnTo>
                          <a:pt x="56" y="205"/>
                        </a:lnTo>
                        <a:lnTo>
                          <a:pt x="68" y="179"/>
                        </a:lnTo>
                        <a:lnTo>
                          <a:pt x="82" y="155"/>
                        </a:lnTo>
                        <a:lnTo>
                          <a:pt x="99" y="132"/>
                        </a:lnTo>
                        <a:lnTo>
                          <a:pt x="121" y="112"/>
                        </a:lnTo>
                        <a:lnTo>
                          <a:pt x="138" y="94"/>
                        </a:lnTo>
                        <a:lnTo>
                          <a:pt x="157" y="79"/>
                        </a:lnTo>
                        <a:lnTo>
                          <a:pt x="177" y="65"/>
                        </a:lnTo>
                        <a:lnTo>
                          <a:pt x="198" y="55"/>
                        </a:lnTo>
                        <a:lnTo>
                          <a:pt x="218" y="45"/>
                        </a:lnTo>
                        <a:lnTo>
                          <a:pt x="241" y="38"/>
                        </a:lnTo>
                        <a:lnTo>
                          <a:pt x="264" y="32"/>
                        </a:lnTo>
                        <a:lnTo>
                          <a:pt x="289" y="29"/>
                        </a:lnTo>
                        <a:lnTo>
                          <a:pt x="246" y="0"/>
                        </a:lnTo>
                        <a:lnTo>
                          <a:pt x="204" y="12"/>
                        </a:lnTo>
                        <a:lnTo>
                          <a:pt x="183" y="20"/>
                        </a:lnTo>
                        <a:lnTo>
                          <a:pt x="165" y="31"/>
                        </a:lnTo>
                        <a:lnTo>
                          <a:pt x="128" y="55"/>
                        </a:lnTo>
                        <a:lnTo>
                          <a:pt x="95" y="86"/>
                        </a:lnTo>
                        <a:lnTo>
                          <a:pt x="72" y="110"/>
                        </a:lnTo>
                        <a:lnTo>
                          <a:pt x="53" y="136"/>
                        </a:lnTo>
                        <a:lnTo>
                          <a:pt x="36" y="162"/>
                        </a:lnTo>
                        <a:lnTo>
                          <a:pt x="23" y="191"/>
                        </a:lnTo>
                        <a:lnTo>
                          <a:pt x="12" y="219"/>
                        </a:lnTo>
                        <a:lnTo>
                          <a:pt x="5" y="251"/>
                        </a:lnTo>
                        <a:lnTo>
                          <a:pt x="1" y="283"/>
                        </a:lnTo>
                        <a:lnTo>
                          <a:pt x="0" y="317"/>
                        </a:lnTo>
                        <a:lnTo>
                          <a:pt x="1" y="350"/>
                        </a:lnTo>
                        <a:lnTo>
                          <a:pt x="5" y="382"/>
                        </a:lnTo>
                        <a:lnTo>
                          <a:pt x="8" y="396"/>
                        </a:lnTo>
                        <a:lnTo>
                          <a:pt x="12" y="412"/>
                        </a:lnTo>
                        <a:lnTo>
                          <a:pt x="17" y="427"/>
                        </a:lnTo>
                        <a:lnTo>
                          <a:pt x="23" y="443"/>
                        </a:lnTo>
                        <a:lnTo>
                          <a:pt x="36" y="470"/>
                        </a:lnTo>
                        <a:lnTo>
                          <a:pt x="53" y="497"/>
                        </a:lnTo>
                        <a:lnTo>
                          <a:pt x="72" y="523"/>
                        </a:lnTo>
                        <a:lnTo>
                          <a:pt x="95" y="548"/>
                        </a:lnTo>
                        <a:lnTo>
                          <a:pt x="119" y="570"/>
                        </a:lnTo>
                        <a:lnTo>
                          <a:pt x="145" y="589"/>
                        </a:lnTo>
                        <a:lnTo>
                          <a:pt x="171" y="605"/>
                        </a:lnTo>
                        <a:lnTo>
                          <a:pt x="200" y="620"/>
                        </a:lnTo>
                        <a:lnTo>
                          <a:pt x="229" y="630"/>
                        </a:lnTo>
                        <a:lnTo>
                          <a:pt x="260" y="638"/>
                        </a:lnTo>
                        <a:lnTo>
                          <a:pt x="292" y="642"/>
                        </a:lnTo>
                        <a:lnTo>
                          <a:pt x="326" y="645"/>
                        </a:lnTo>
                        <a:lnTo>
                          <a:pt x="342" y="643"/>
                        </a:lnTo>
                        <a:lnTo>
                          <a:pt x="343" y="642"/>
                        </a:lnTo>
                        <a:lnTo>
                          <a:pt x="345" y="642"/>
                        </a:lnTo>
                        <a:lnTo>
                          <a:pt x="350" y="642"/>
                        </a:lnTo>
                        <a:lnTo>
                          <a:pt x="359" y="642"/>
                        </a:lnTo>
                        <a:lnTo>
                          <a:pt x="391" y="638"/>
                        </a:lnTo>
                        <a:lnTo>
                          <a:pt x="406" y="633"/>
                        </a:lnTo>
                        <a:lnTo>
                          <a:pt x="421" y="630"/>
                        </a:lnTo>
                        <a:lnTo>
                          <a:pt x="428" y="626"/>
                        </a:lnTo>
                        <a:lnTo>
                          <a:pt x="436" y="624"/>
                        </a:lnTo>
                        <a:lnTo>
                          <a:pt x="452" y="620"/>
                        </a:lnTo>
                        <a:lnTo>
                          <a:pt x="479" y="605"/>
                        </a:lnTo>
                        <a:lnTo>
                          <a:pt x="507" y="589"/>
                        </a:lnTo>
                        <a:lnTo>
                          <a:pt x="509" y="586"/>
                        </a:lnTo>
                        <a:lnTo>
                          <a:pt x="512" y="583"/>
                        </a:lnTo>
                        <a:lnTo>
                          <a:pt x="519" y="579"/>
                        </a:lnTo>
                        <a:lnTo>
                          <a:pt x="533" y="570"/>
                        </a:lnTo>
                        <a:lnTo>
                          <a:pt x="558" y="548"/>
                        </a:lnTo>
                        <a:lnTo>
                          <a:pt x="563" y="543"/>
                        </a:lnTo>
                        <a:lnTo>
                          <a:pt x="562" y="515"/>
                        </a:lnTo>
                        <a:lnTo>
                          <a:pt x="560" y="490"/>
                        </a:lnTo>
                        <a:lnTo>
                          <a:pt x="546" y="506"/>
                        </a:lnTo>
                        <a:lnTo>
                          <a:pt x="542" y="510"/>
                        </a:lnTo>
                        <a:lnTo>
                          <a:pt x="538" y="514"/>
                        </a:lnTo>
                        <a:lnTo>
                          <a:pt x="531" y="523"/>
                        </a:lnTo>
                        <a:lnTo>
                          <a:pt x="509" y="543"/>
                        </a:lnTo>
                        <a:lnTo>
                          <a:pt x="486" y="560"/>
                        </a:lnTo>
                        <a:lnTo>
                          <a:pt x="461" y="574"/>
                        </a:lnTo>
                        <a:lnTo>
                          <a:pt x="454" y="577"/>
                        </a:lnTo>
                        <a:lnTo>
                          <a:pt x="452" y="577"/>
                        </a:lnTo>
                        <a:lnTo>
                          <a:pt x="451" y="578"/>
                        </a:lnTo>
                        <a:lnTo>
                          <a:pt x="449" y="580"/>
                        </a:lnTo>
                        <a:lnTo>
                          <a:pt x="437" y="587"/>
                        </a:lnTo>
                        <a:lnTo>
                          <a:pt x="410" y="595"/>
                        </a:lnTo>
                        <a:lnTo>
                          <a:pt x="383" y="603"/>
                        </a:lnTo>
                        <a:lnTo>
                          <a:pt x="375" y="603"/>
                        </a:lnTo>
                        <a:lnTo>
                          <a:pt x="368" y="604"/>
                        </a:lnTo>
                        <a:lnTo>
                          <a:pt x="355" y="606"/>
                        </a:lnTo>
                        <a:lnTo>
                          <a:pt x="347" y="606"/>
                        </a:lnTo>
                        <a:lnTo>
                          <a:pt x="340" y="607"/>
                        </a:lnTo>
                        <a:lnTo>
                          <a:pt x="326" y="608"/>
                        </a:lnTo>
                        <a:lnTo>
                          <a:pt x="296" y="606"/>
                        </a:lnTo>
                        <a:lnTo>
                          <a:pt x="267" y="603"/>
                        </a:lnTo>
                        <a:lnTo>
                          <a:pt x="240" y="595"/>
                        </a:lnTo>
                        <a:lnTo>
                          <a:pt x="214" y="587"/>
                        </a:lnTo>
                        <a:lnTo>
                          <a:pt x="188" y="574"/>
                        </a:lnTo>
                        <a:lnTo>
                          <a:pt x="164" y="560"/>
                        </a:lnTo>
                        <a:lnTo>
                          <a:pt x="141" y="543"/>
                        </a:lnTo>
                        <a:lnTo>
                          <a:pt x="121" y="523"/>
                        </a:lnTo>
                        <a:lnTo>
                          <a:pt x="99" y="501"/>
                        </a:lnTo>
                        <a:lnTo>
                          <a:pt x="82" y="478"/>
                        </a:lnTo>
                        <a:lnTo>
                          <a:pt x="68" y="453"/>
                        </a:lnTo>
                        <a:lnTo>
                          <a:pt x="56" y="428"/>
                        </a:lnTo>
                        <a:lnTo>
                          <a:pt x="46" y="401"/>
                        </a:lnTo>
                        <a:lnTo>
                          <a:pt x="40" y="374"/>
                        </a:lnTo>
                        <a:lnTo>
                          <a:pt x="37" y="345"/>
                        </a:lnTo>
                        <a:lnTo>
                          <a:pt x="36" y="317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8287200" y="4874760"/>
                    <a:ext cx="15300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706">
                        <a:moveTo>
                          <a:pt x="38" y="342"/>
                        </a:moveTo>
                        <a:lnTo>
                          <a:pt x="39" y="308"/>
                        </a:lnTo>
                        <a:lnTo>
                          <a:pt x="43" y="276"/>
                        </a:lnTo>
                        <a:lnTo>
                          <a:pt x="50" y="244"/>
                        </a:lnTo>
                        <a:lnTo>
                          <a:pt x="61" y="216"/>
                        </a:lnTo>
                        <a:lnTo>
                          <a:pt x="74" y="187"/>
                        </a:lnTo>
                        <a:lnTo>
                          <a:pt x="91" y="161"/>
                        </a:lnTo>
                        <a:lnTo>
                          <a:pt x="110" y="135"/>
                        </a:lnTo>
                        <a:lnTo>
                          <a:pt x="133" y="111"/>
                        </a:lnTo>
                        <a:lnTo>
                          <a:pt x="166" y="80"/>
                        </a:lnTo>
                        <a:lnTo>
                          <a:pt x="203" y="56"/>
                        </a:lnTo>
                        <a:lnTo>
                          <a:pt x="221" y="45"/>
                        </a:lnTo>
                        <a:lnTo>
                          <a:pt x="242" y="37"/>
                        </a:lnTo>
                        <a:lnTo>
                          <a:pt x="284" y="25"/>
                        </a:lnTo>
                        <a:lnTo>
                          <a:pt x="241" y="0"/>
                        </a:lnTo>
                        <a:lnTo>
                          <a:pt x="203" y="13"/>
                        </a:lnTo>
                        <a:lnTo>
                          <a:pt x="169" y="34"/>
                        </a:lnTo>
                        <a:lnTo>
                          <a:pt x="136" y="56"/>
                        </a:lnTo>
                        <a:lnTo>
                          <a:pt x="107" y="86"/>
                        </a:lnTo>
                        <a:lnTo>
                          <a:pt x="81" y="112"/>
                        </a:lnTo>
                        <a:lnTo>
                          <a:pt x="59" y="141"/>
                        </a:lnTo>
                        <a:lnTo>
                          <a:pt x="41" y="171"/>
                        </a:lnTo>
                        <a:lnTo>
                          <a:pt x="26" y="203"/>
                        </a:lnTo>
                        <a:lnTo>
                          <a:pt x="14" y="234"/>
                        </a:lnTo>
                        <a:lnTo>
                          <a:pt x="6" y="269"/>
                        </a:lnTo>
                        <a:lnTo>
                          <a:pt x="1" y="305"/>
                        </a:lnTo>
                        <a:lnTo>
                          <a:pt x="0" y="342"/>
                        </a:lnTo>
                        <a:lnTo>
                          <a:pt x="1" y="378"/>
                        </a:lnTo>
                        <a:lnTo>
                          <a:pt x="2" y="395"/>
                        </a:lnTo>
                        <a:lnTo>
                          <a:pt x="6" y="413"/>
                        </a:lnTo>
                        <a:lnTo>
                          <a:pt x="14" y="447"/>
                        </a:lnTo>
                        <a:lnTo>
                          <a:pt x="26" y="481"/>
                        </a:lnTo>
                        <a:lnTo>
                          <a:pt x="41" y="512"/>
                        </a:lnTo>
                        <a:lnTo>
                          <a:pt x="49" y="527"/>
                        </a:lnTo>
                        <a:lnTo>
                          <a:pt x="59" y="543"/>
                        </a:lnTo>
                        <a:lnTo>
                          <a:pt x="81" y="571"/>
                        </a:lnTo>
                        <a:lnTo>
                          <a:pt x="107" y="599"/>
                        </a:lnTo>
                        <a:lnTo>
                          <a:pt x="133" y="623"/>
                        </a:lnTo>
                        <a:lnTo>
                          <a:pt x="162" y="645"/>
                        </a:lnTo>
                        <a:lnTo>
                          <a:pt x="192" y="663"/>
                        </a:lnTo>
                        <a:lnTo>
                          <a:pt x="224" y="679"/>
                        </a:lnTo>
                        <a:lnTo>
                          <a:pt x="255" y="690"/>
                        </a:lnTo>
                        <a:lnTo>
                          <a:pt x="290" y="699"/>
                        </a:lnTo>
                        <a:lnTo>
                          <a:pt x="326" y="704"/>
                        </a:lnTo>
                        <a:lnTo>
                          <a:pt x="364" y="706"/>
                        </a:lnTo>
                        <a:lnTo>
                          <a:pt x="380" y="705"/>
                        </a:lnTo>
                        <a:lnTo>
                          <a:pt x="381" y="704"/>
                        </a:lnTo>
                        <a:lnTo>
                          <a:pt x="383" y="704"/>
                        </a:lnTo>
                        <a:lnTo>
                          <a:pt x="388" y="704"/>
                        </a:lnTo>
                        <a:lnTo>
                          <a:pt x="397" y="704"/>
                        </a:lnTo>
                        <a:lnTo>
                          <a:pt x="413" y="701"/>
                        </a:lnTo>
                        <a:lnTo>
                          <a:pt x="414" y="700"/>
                        </a:lnTo>
                        <a:lnTo>
                          <a:pt x="416" y="700"/>
                        </a:lnTo>
                        <a:lnTo>
                          <a:pt x="421" y="700"/>
                        </a:lnTo>
                        <a:lnTo>
                          <a:pt x="430" y="700"/>
                        </a:lnTo>
                        <a:lnTo>
                          <a:pt x="445" y="696"/>
                        </a:lnTo>
                        <a:lnTo>
                          <a:pt x="461" y="692"/>
                        </a:lnTo>
                        <a:lnTo>
                          <a:pt x="475" y="688"/>
                        </a:lnTo>
                        <a:lnTo>
                          <a:pt x="491" y="683"/>
                        </a:lnTo>
                        <a:lnTo>
                          <a:pt x="505" y="676"/>
                        </a:lnTo>
                        <a:lnTo>
                          <a:pt x="520" y="670"/>
                        </a:lnTo>
                        <a:lnTo>
                          <a:pt x="533" y="662"/>
                        </a:lnTo>
                        <a:lnTo>
                          <a:pt x="548" y="655"/>
                        </a:lnTo>
                        <a:lnTo>
                          <a:pt x="575" y="637"/>
                        </a:lnTo>
                        <a:lnTo>
                          <a:pt x="602" y="617"/>
                        </a:lnTo>
                        <a:lnTo>
                          <a:pt x="602" y="594"/>
                        </a:lnTo>
                        <a:lnTo>
                          <a:pt x="601" y="568"/>
                        </a:lnTo>
                        <a:lnTo>
                          <a:pt x="596" y="573"/>
                        </a:lnTo>
                        <a:lnTo>
                          <a:pt x="571" y="595"/>
                        </a:lnTo>
                        <a:lnTo>
                          <a:pt x="557" y="604"/>
                        </a:lnTo>
                        <a:lnTo>
                          <a:pt x="550" y="608"/>
                        </a:lnTo>
                        <a:lnTo>
                          <a:pt x="547" y="611"/>
                        </a:lnTo>
                        <a:lnTo>
                          <a:pt x="545" y="614"/>
                        </a:lnTo>
                        <a:lnTo>
                          <a:pt x="517" y="630"/>
                        </a:lnTo>
                        <a:lnTo>
                          <a:pt x="490" y="645"/>
                        </a:lnTo>
                        <a:lnTo>
                          <a:pt x="474" y="649"/>
                        </a:lnTo>
                        <a:lnTo>
                          <a:pt x="466" y="651"/>
                        </a:lnTo>
                        <a:lnTo>
                          <a:pt x="459" y="655"/>
                        </a:lnTo>
                        <a:lnTo>
                          <a:pt x="444" y="658"/>
                        </a:lnTo>
                        <a:lnTo>
                          <a:pt x="429" y="663"/>
                        </a:lnTo>
                        <a:lnTo>
                          <a:pt x="397" y="667"/>
                        </a:lnTo>
                        <a:lnTo>
                          <a:pt x="388" y="667"/>
                        </a:lnTo>
                        <a:lnTo>
                          <a:pt x="383" y="667"/>
                        </a:lnTo>
                        <a:lnTo>
                          <a:pt x="381" y="667"/>
                        </a:lnTo>
                        <a:lnTo>
                          <a:pt x="380" y="668"/>
                        </a:lnTo>
                        <a:lnTo>
                          <a:pt x="364" y="670"/>
                        </a:lnTo>
                        <a:lnTo>
                          <a:pt x="330" y="667"/>
                        </a:lnTo>
                        <a:lnTo>
                          <a:pt x="298" y="663"/>
                        </a:lnTo>
                        <a:lnTo>
                          <a:pt x="267" y="655"/>
                        </a:lnTo>
                        <a:lnTo>
                          <a:pt x="238" y="645"/>
                        </a:lnTo>
                        <a:lnTo>
                          <a:pt x="209" y="630"/>
                        </a:lnTo>
                        <a:lnTo>
                          <a:pt x="183" y="614"/>
                        </a:lnTo>
                        <a:lnTo>
                          <a:pt x="157" y="595"/>
                        </a:lnTo>
                        <a:lnTo>
                          <a:pt x="133" y="573"/>
                        </a:lnTo>
                        <a:lnTo>
                          <a:pt x="110" y="548"/>
                        </a:lnTo>
                        <a:lnTo>
                          <a:pt x="91" y="522"/>
                        </a:lnTo>
                        <a:lnTo>
                          <a:pt x="74" y="495"/>
                        </a:lnTo>
                        <a:lnTo>
                          <a:pt x="61" y="468"/>
                        </a:lnTo>
                        <a:lnTo>
                          <a:pt x="55" y="452"/>
                        </a:lnTo>
                        <a:lnTo>
                          <a:pt x="50" y="437"/>
                        </a:lnTo>
                        <a:lnTo>
                          <a:pt x="46" y="421"/>
                        </a:lnTo>
                        <a:lnTo>
                          <a:pt x="43" y="407"/>
                        </a:lnTo>
                        <a:lnTo>
                          <a:pt x="39" y="375"/>
                        </a:lnTo>
                        <a:lnTo>
                          <a:pt x="38" y="342"/>
                        </a:lnTo>
                        <a:close/>
                      </a:path>
                    </a:pathLst>
                  </a:custGeom>
                  <a:solidFill>
                    <a:srgbClr val="496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8213040" y="4857480"/>
                    <a:ext cx="20160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793" h="1065">
                        <a:moveTo>
                          <a:pt x="143" y="3"/>
                        </a:moveTo>
                        <a:lnTo>
                          <a:pt x="109" y="47"/>
                        </a:lnTo>
                        <a:lnTo>
                          <a:pt x="79" y="94"/>
                        </a:lnTo>
                        <a:lnTo>
                          <a:pt x="54" y="141"/>
                        </a:lnTo>
                        <a:lnTo>
                          <a:pt x="35" y="192"/>
                        </a:lnTo>
                        <a:lnTo>
                          <a:pt x="19" y="243"/>
                        </a:lnTo>
                        <a:lnTo>
                          <a:pt x="8" y="298"/>
                        </a:lnTo>
                        <a:lnTo>
                          <a:pt x="1" y="353"/>
                        </a:lnTo>
                        <a:lnTo>
                          <a:pt x="0" y="411"/>
                        </a:lnTo>
                        <a:lnTo>
                          <a:pt x="0" y="443"/>
                        </a:lnTo>
                        <a:lnTo>
                          <a:pt x="2" y="476"/>
                        </a:lnTo>
                        <a:lnTo>
                          <a:pt x="6" y="507"/>
                        </a:lnTo>
                        <a:lnTo>
                          <a:pt x="11" y="540"/>
                        </a:lnTo>
                        <a:lnTo>
                          <a:pt x="17" y="571"/>
                        </a:lnTo>
                        <a:lnTo>
                          <a:pt x="26" y="601"/>
                        </a:lnTo>
                        <a:lnTo>
                          <a:pt x="35" y="631"/>
                        </a:lnTo>
                        <a:lnTo>
                          <a:pt x="48" y="661"/>
                        </a:lnTo>
                        <a:lnTo>
                          <a:pt x="59" y="689"/>
                        </a:lnTo>
                        <a:lnTo>
                          <a:pt x="74" y="717"/>
                        </a:lnTo>
                        <a:lnTo>
                          <a:pt x="88" y="744"/>
                        </a:lnTo>
                        <a:lnTo>
                          <a:pt x="106" y="771"/>
                        </a:lnTo>
                        <a:lnTo>
                          <a:pt x="125" y="796"/>
                        </a:lnTo>
                        <a:lnTo>
                          <a:pt x="145" y="822"/>
                        </a:lnTo>
                        <a:lnTo>
                          <a:pt x="167" y="847"/>
                        </a:lnTo>
                        <a:lnTo>
                          <a:pt x="192" y="873"/>
                        </a:lnTo>
                        <a:lnTo>
                          <a:pt x="215" y="896"/>
                        </a:lnTo>
                        <a:lnTo>
                          <a:pt x="240" y="918"/>
                        </a:lnTo>
                        <a:lnTo>
                          <a:pt x="291" y="956"/>
                        </a:lnTo>
                        <a:lnTo>
                          <a:pt x="317" y="973"/>
                        </a:lnTo>
                        <a:lnTo>
                          <a:pt x="345" y="989"/>
                        </a:lnTo>
                        <a:lnTo>
                          <a:pt x="402" y="1016"/>
                        </a:lnTo>
                        <a:lnTo>
                          <a:pt x="460" y="1037"/>
                        </a:lnTo>
                        <a:lnTo>
                          <a:pt x="523" y="1053"/>
                        </a:lnTo>
                        <a:lnTo>
                          <a:pt x="587" y="1062"/>
                        </a:lnTo>
                        <a:lnTo>
                          <a:pt x="620" y="1064"/>
                        </a:lnTo>
                        <a:lnTo>
                          <a:pt x="654" y="1065"/>
                        </a:lnTo>
                        <a:lnTo>
                          <a:pt x="709" y="1063"/>
                        </a:lnTo>
                        <a:lnTo>
                          <a:pt x="763" y="1057"/>
                        </a:lnTo>
                        <a:lnTo>
                          <a:pt x="793" y="1015"/>
                        </a:lnTo>
                        <a:lnTo>
                          <a:pt x="759" y="1021"/>
                        </a:lnTo>
                        <a:lnTo>
                          <a:pt x="725" y="1025"/>
                        </a:lnTo>
                        <a:lnTo>
                          <a:pt x="689" y="1028"/>
                        </a:lnTo>
                        <a:lnTo>
                          <a:pt x="671" y="1028"/>
                        </a:lnTo>
                        <a:lnTo>
                          <a:pt x="662" y="1028"/>
                        </a:lnTo>
                        <a:lnTo>
                          <a:pt x="658" y="1028"/>
                        </a:lnTo>
                        <a:lnTo>
                          <a:pt x="655" y="1028"/>
                        </a:lnTo>
                        <a:lnTo>
                          <a:pt x="654" y="1028"/>
                        </a:lnTo>
                        <a:lnTo>
                          <a:pt x="654" y="1029"/>
                        </a:lnTo>
                        <a:lnTo>
                          <a:pt x="621" y="1028"/>
                        </a:lnTo>
                        <a:lnTo>
                          <a:pt x="590" y="1025"/>
                        </a:lnTo>
                        <a:lnTo>
                          <a:pt x="559" y="1022"/>
                        </a:lnTo>
                        <a:lnTo>
                          <a:pt x="529" y="1017"/>
                        </a:lnTo>
                        <a:lnTo>
                          <a:pt x="500" y="1011"/>
                        </a:lnTo>
                        <a:lnTo>
                          <a:pt x="472" y="1003"/>
                        </a:lnTo>
                        <a:lnTo>
                          <a:pt x="443" y="994"/>
                        </a:lnTo>
                        <a:lnTo>
                          <a:pt x="416" y="983"/>
                        </a:lnTo>
                        <a:lnTo>
                          <a:pt x="389" y="971"/>
                        </a:lnTo>
                        <a:lnTo>
                          <a:pt x="363" y="957"/>
                        </a:lnTo>
                        <a:lnTo>
                          <a:pt x="337" y="943"/>
                        </a:lnTo>
                        <a:lnTo>
                          <a:pt x="312" y="927"/>
                        </a:lnTo>
                        <a:lnTo>
                          <a:pt x="287" y="909"/>
                        </a:lnTo>
                        <a:lnTo>
                          <a:pt x="263" y="889"/>
                        </a:lnTo>
                        <a:lnTo>
                          <a:pt x="239" y="869"/>
                        </a:lnTo>
                        <a:lnTo>
                          <a:pt x="218" y="847"/>
                        </a:lnTo>
                        <a:lnTo>
                          <a:pt x="195" y="824"/>
                        </a:lnTo>
                        <a:lnTo>
                          <a:pt x="175" y="801"/>
                        </a:lnTo>
                        <a:lnTo>
                          <a:pt x="155" y="776"/>
                        </a:lnTo>
                        <a:lnTo>
                          <a:pt x="138" y="752"/>
                        </a:lnTo>
                        <a:lnTo>
                          <a:pt x="121" y="726"/>
                        </a:lnTo>
                        <a:lnTo>
                          <a:pt x="106" y="701"/>
                        </a:lnTo>
                        <a:lnTo>
                          <a:pt x="93" y="674"/>
                        </a:lnTo>
                        <a:lnTo>
                          <a:pt x="82" y="648"/>
                        </a:lnTo>
                        <a:lnTo>
                          <a:pt x="70" y="620"/>
                        </a:lnTo>
                        <a:lnTo>
                          <a:pt x="61" y="591"/>
                        </a:lnTo>
                        <a:lnTo>
                          <a:pt x="53" y="562"/>
                        </a:lnTo>
                        <a:lnTo>
                          <a:pt x="48" y="533"/>
                        </a:lnTo>
                        <a:lnTo>
                          <a:pt x="42" y="503"/>
                        </a:lnTo>
                        <a:lnTo>
                          <a:pt x="38" y="473"/>
                        </a:lnTo>
                        <a:lnTo>
                          <a:pt x="36" y="442"/>
                        </a:lnTo>
                        <a:lnTo>
                          <a:pt x="36" y="411"/>
                        </a:lnTo>
                        <a:lnTo>
                          <a:pt x="38" y="351"/>
                        </a:lnTo>
                        <a:lnTo>
                          <a:pt x="45" y="295"/>
                        </a:lnTo>
                        <a:lnTo>
                          <a:pt x="58" y="240"/>
                        </a:lnTo>
                        <a:lnTo>
                          <a:pt x="76" y="189"/>
                        </a:lnTo>
                        <a:lnTo>
                          <a:pt x="97" y="138"/>
                        </a:lnTo>
                        <a:lnTo>
                          <a:pt x="125" y="89"/>
                        </a:lnTo>
                        <a:lnTo>
                          <a:pt x="156" y="43"/>
                        </a:lnTo>
                        <a:lnTo>
                          <a:pt x="195" y="0"/>
                        </a:lnTo>
                        <a:lnTo>
                          <a:pt x="143" y="3"/>
                        </a:lnTo>
                        <a:close/>
                      </a:path>
                    </a:pathLst>
                  </a:custGeom>
                  <a:solidFill>
                    <a:srgbClr val="2f4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8324280" y="4906800"/>
                    <a:ext cx="10872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9" h="437">
                        <a:moveTo>
                          <a:pt x="267" y="6"/>
                        </a:moveTo>
                        <a:lnTo>
                          <a:pt x="254" y="3"/>
                        </a:lnTo>
                        <a:lnTo>
                          <a:pt x="243" y="1"/>
                        </a:lnTo>
                        <a:lnTo>
                          <a:pt x="218" y="0"/>
                        </a:lnTo>
                        <a:lnTo>
                          <a:pt x="174" y="4"/>
                        </a:lnTo>
                        <a:lnTo>
                          <a:pt x="134" y="16"/>
                        </a:lnTo>
                        <a:lnTo>
                          <a:pt x="97" y="35"/>
                        </a:lnTo>
                        <a:lnTo>
                          <a:pt x="64" y="64"/>
                        </a:lnTo>
                        <a:lnTo>
                          <a:pt x="36" y="97"/>
                        </a:lnTo>
                        <a:lnTo>
                          <a:pt x="16" y="134"/>
                        </a:lnTo>
                        <a:lnTo>
                          <a:pt x="4" y="174"/>
                        </a:lnTo>
                        <a:lnTo>
                          <a:pt x="0" y="218"/>
                        </a:lnTo>
                        <a:lnTo>
                          <a:pt x="0" y="240"/>
                        </a:lnTo>
                        <a:lnTo>
                          <a:pt x="4" y="261"/>
                        </a:lnTo>
                        <a:lnTo>
                          <a:pt x="8" y="281"/>
                        </a:lnTo>
                        <a:lnTo>
                          <a:pt x="16" y="302"/>
                        </a:lnTo>
                        <a:lnTo>
                          <a:pt x="24" y="320"/>
                        </a:lnTo>
                        <a:lnTo>
                          <a:pt x="36" y="338"/>
                        </a:lnTo>
                        <a:lnTo>
                          <a:pt x="48" y="355"/>
                        </a:lnTo>
                        <a:lnTo>
                          <a:pt x="64" y="372"/>
                        </a:lnTo>
                        <a:lnTo>
                          <a:pt x="80" y="387"/>
                        </a:lnTo>
                        <a:lnTo>
                          <a:pt x="97" y="399"/>
                        </a:lnTo>
                        <a:lnTo>
                          <a:pt x="115" y="410"/>
                        </a:lnTo>
                        <a:lnTo>
                          <a:pt x="134" y="420"/>
                        </a:lnTo>
                        <a:lnTo>
                          <a:pt x="154" y="427"/>
                        </a:lnTo>
                        <a:lnTo>
                          <a:pt x="174" y="432"/>
                        </a:lnTo>
                        <a:lnTo>
                          <a:pt x="196" y="436"/>
                        </a:lnTo>
                        <a:lnTo>
                          <a:pt x="218" y="437"/>
                        </a:lnTo>
                        <a:lnTo>
                          <a:pt x="223" y="436"/>
                        </a:lnTo>
                        <a:lnTo>
                          <a:pt x="228" y="436"/>
                        </a:lnTo>
                        <a:lnTo>
                          <a:pt x="240" y="436"/>
                        </a:lnTo>
                        <a:lnTo>
                          <a:pt x="250" y="433"/>
                        </a:lnTo>
                        <a:lnTo>
                          <a:pt x="261" y="432"/>
                        </a:lnTo>
                        <a:lnTo>
                          <a:pt x="282" y="427"/>
                        </a:lnTo>
                        <a:lnTo>
                          <a:pt x="302" y="420"/>
                        </a:lnTo>
                        <a:lnTo>
                          <a:pt x="320" y="410"/>
                        </a:lnTo>
                        <a:lnTo>
                          <a:pt x="338" y="399"/>
                        </a:lnTo>
                        <a:lnTo>
                          <a:pt x="346" y="393"/>
                        </a:lnTo>
                        <a:lnTo>
                          <a:pt x="355" y="387"/>
                        </a:lnTo>
                        <a:lnTo>
                          <a:pt x="359" y="382"/>
                        </a:lnTo>
                        <a:lnTo>
                          <a:pt x="363" y="379"/>
                        </a:lnTo>
                        <a:lnTo>
                          <a:pt x="372" y="372"/>
                        </a:lnTo>
                        <a:lnTo>
                          <a:pt x="392" y="349"/>
                        </a:lnTo>
                        <a:lnTo>
                          <a:pt x="408" y="327"/>
                        </a:lnTo>
                        <a:lnTo>
                          <a:pt x="420" y="302"/>
                        </a:lnTo>
                        <a:lnTo>
                          <a:pt x="425" y="288"/>
                        </a:lnTo>
                        <a:lnTo>
                          <a:pt x="429" y="276"/>
                        </a:lnTo>
                        <a:lnTo>
                          <a:pt x="414" y="234"/>
                        </a:lnTo>
                        <a:lnTo>
                          <a:pt x="399" y="193"/>
                        </a:lnTo>
                        <a:lnTo>
                          <a:pt x="400" y="218"/>
                        </a:lnTo>
                        <a:lnTo>
                          <a:pt x="399" y="218"/>
                        </a:lnTo>
                        <a:lnTo>
                          <a:pt x="399" y="219"/>
                        </a:lnTo>
                        <a:lnTo>
                          <a:pt x="399" y="221"/>
                        </a:lnTo>
                        <a:lnTo>
                          <a:pt x="399" y="226"/>
                        </a:lnTo>
                        <a:lnTo>
                          <a:pt x="399" y="235"/>
                        </a:lnTo>
                        <a:lnTo>
                          <a:pt x="396" y="253"/>
                        </a:lnTo>
                        <a:lnTo>
                          <a:pt x="392" y="270"/>
                        </a:lnTo>
                        <a:lnTo>
                          <a:pt x="389" y="274"/>
                        </a:lnTo>
                        <a:lnTo>
                          <a:pt x="388" y="278"/>
                        </a:lnTo>
                        <a:lnTo>
                          <a:pt x="386" y="287"/>
                        </a:lnTo>
                        <a:lnTo>
                          <a:pt x="381" y="294"/>
                        </a:lnTo>
                        <a:lnTo>
                          <a:pt x="379" y="297"/>
                        </a:lnTo>
                        <a:lnTo>
                          <a:pt x="378" y="302"/>
                        </a:lnTo>
                        <a:lnTo>
                          <a:pt x="369" y="318"/>
                        </a:lnTo>
                        <a:lnTo>
                          <a:pt x="358" y="332"/>
                        </a:lnTo>
                        <a:lnTo>
                          <a:pt x="346" y="347"/>
                        </a:lnTo>
                        <a:lnTo>
                          <a:pt x="332" y="359"/>
                        </a:lnTo>
                        <a:lnTo>
                          <a:pt x="318" y="369"/>
                        </a:lnTo>
                        <a:lnTo>
                          <a:pt x="302" y="378"/>
                        </a:lnTo>
                        <a:lnTo>
                          <a:pt x="298" y="379"/>
                        </a:lnTo>
                        <a:lnTo>
                          <a:pt x="294" y="381"/>
                        </a:lnTo>
                        <a:lnTo>
                          <a:pt x="287" y="386"/>
                        </a:lnTo>
                        <a:lnTo>
                          <a:pt x="278" y="388"/>
                        </a:lnTo>
                        <a:lnTo>
                          <a:pt x="274" y="389"/>
                        </a:lnTo>
                        <a:lnTo>
                          <a:pt x="270" y="391"/>
                        </a:lnTo>
                        <a:lnTo>
                          <a:pt x="253" y="396"/>
                        </a:lnTo>
                        <a:lnTo>
                          <a:pt x="235" y="398"/>
                        </a:lnTo>
                        <a:lnTo>
                          <a:pt x="226" y="398"/>
                        </a:lnTo>
                        <a:lnTo>
                          <a:pt x="222" y="398"/>
                        </a:lnTo>
                        <a:lnTo>
                          <a:pt x="219" y="398"/>
                        </a:lnTo>
                        <a:lnTo>
                          <a:pt x="218" y="398"/>
                        </a:lnTo>
                        <a:lnTo>
                          <a:pt x="218" y="399"/>
                        </a:lnTo>
                        <a:lnTo>
                          <a:pt x="199" y="398"/>
                        </a:lnTo>
                        <a:lnTo>
                          <a:pt x="181" y="396"/>
                        </a:lnTo>
                        <a:lnTo>
                          <a:pt x="164" y="391"/>
                        </a:lnTo>
                        <a:lnTo>
                          <a:pt x="148" y="386"/>
                        </a:lnTo>
                        <a:lnTo>
                          <a:pt x="132" y="378"/>
                        </a:lnTo>
                        <a:lnTo>
                          <a:pt x="117" y="369"/>
                        </a:lnTo>
                        <a:lnTo>
                          <a:pt x="103" y="359"/>
                        </a:lnTo>
                        <a:lnTo>
                          <a:pt x="90" y="347"/>
                        </a:lnTo>
                        <a:lnTo>
                          <a:pt x="76" y="332"/>
                        </a:lnTo>
                        <a:lnTo>
                          <a:pt x="66" y="318"/>
                        </a:lnTo>
                        <a:lnTo>
                          <a:pt x="56" y="302"/>
                        </a:lnTo>
                        <a:lnTo>
                          <a:pt x="49" y="287"/>
                        </a:lnTo>
                        <a:lnTo>
                          <a:pt x="42" y="270"/>
                        </a:lnTo>
                        <a:lnTo>
                          <a:pt x="39" y="253"/>
                        </a:lnTo>
                        <a:lnTo>
                          <a:pt x="37" y="235"/>
                        </a:lnTo>
                        <a:lnTo>
                          <a:pt x="37" y="218"/>
                        </a:lnTo>
                        <a:lnTo>
                          <a:pt x="39" y="181"/>
                        </a:lnTo>
                        <a:lnTo>
                          <a:pt x="49" y="148"/>
                        </a:lnTo>
                        <a:lnTo>
                          <a:pt x="66" y="117"/>
                        </a:lnTo>
                        <a:lnTo>
                          <a:pt x="76" y="102"/>
                        </a:lnTo>
                        <a:lnTo>
                          <a:pt x="90" y="90"/>
                        </a:lnTo>
                        <a:lnTo>
                          <a:pt x="103" y="76"/>
                        </a:lnTo>
                        <a:lnTo>
                          <a:pt x="117" y="66"/>
                        </a:lnTo>
                        <a:lnTo>
                          <a:pt x="148" y="49"/>
                        </a:lnTo>
                        <a:lnTo>
                          <a:pt x="181" y="39"/>
                        </a:lnTo>
                        <a:lnTo>
                          <a:pt x="218" y="37"/>
                        </a:lnTo>
                        <a:lnTo>
                          <a:pt x="247" y="38"/>
                        </a:lnTo>
                        <a:lnTo>
                          <a:pt x="274" y="45"/>
                        </a:lnTo>
                        <a:lnTo>
                          <a:pt x="286" y="48"/>
                        </a:lnTo>
                        <a:lnTo>
                          <a:pt x="300" y="54"/>
                        </a:lnTo>
                        <a:lnTo>
                          <a:pt x="311" y="60"/>
                        </a:lnTo>
                        <a:lnTo>
                          <a:pt x="324" y="69"/>
                        </a:lnTo>
                        <a:lnTo>
                          <a:pt x="295" y="37"/>
                        </a:lnTo>
                        <a:lnTo>
                          <a:pt x="267" y="6"/>
                        </a:lnTo>
                        <a:close/>
                      </a:path>
                    </a:pathLst>
                  </a:custGeom>
                  <a:solidFill>
                    <a:srgbClr val="568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8333640" y="4916160"/>
                    <a:ext cx="9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362">
                        <a:moveTo>
                          <a:pt x="309" y="310"/>
                        </a:moveTo>
                        <a:lnTo>
                          <a:pt x="321" y="295"/>
                        </a:lnTo>
                        <a:lnTo>
                          <a:pt x="332" y="281"/>
                        </a:lnTo>
                        <a:lnTo>
                          <a:pt x="341" y="265"/>
                        </a:lnTo>
                        <a:lnTo>
                          <a:pt x="342" y="260"/>
                        </a:lnTo>
                        <a:lnTo>
                          <a:pt x="344" y="257"/>
                        </a:lnTo>
                        <a:lnTo>
                          <a:pt x="349" y="250"/>
                        </a:lnTo>
                        <a:lnTo>
                          <a:pt x="351" y="241"/>
                        </a:lnTo>
                        <a:lnTo>
                          <a:pt x="352" y="237"/>
                        </a:lnTo>
                        <a:lnTo>
                          <a:pt x="355" y="233"/>
                        </a:lnTo>
                        <a:lnTo>
                          <a:pt x="359" y="216"/>
                        </a:lnTo>
                        <a:lnTo>
                          <a:pt x="362" y="198"/>
                        </a:lnTo>
                        <a:lnTo>
                          <a:pt x="362" y="189"/>
                        </a:lnTo>
                        <a:lnTo>
                          <a:pt x="362" y="184"/>
                        </a:lnTo>
                        <a:lnTo>
                          <a:pt x="362" y="182"/>
                        </a:lnTo>
                        <a:lnTo>
                          <a:pt x="362" y="181"/>
                        </a:lnTo>
                        <a:lnTo>
                          <a:pt x="363" y="181"/>
                        </a:lnTo>
                        <a:lnTo>
                          <a:pt x="362" y="156"/>
                        </a:lnTo>
                        <a:lnTo>
                          <a:pt x="344" y="123"/>
                        </a:lnTo>
                        <a:lnTo>
                          <a:pt x="327" y="93"/>
                        </a:lnTo>
                        <a:lnTo>
                          <a:pt x="308" y="62"/>
                        </a:lnTo>
                        <a:lnTo>
                          <a:pt x="287" y="32"/>
                        </a:lnTo>
                        <a:lnTo>
                          <a:pt x="274" y="23"/>
                        </a:lnTo>
                        <a:lnTo>
                          <a:pt x="263" y="17"/>
                        </a:lnTo>
                        <a:lnTo>
                          <a:pt x="249" y="11"/>
                        </a:lnTo>
                        <a:lnTo>
                          <a:pt x="237" y="8"/>
                        </a:lnTo>
                        <a:lnTo>
                          <a:pt x="210" y="1"/>
                        </a:lnTo>
                        <a:lnTo>
                          <a:pt x="181" y="0"/>
                        </a:lnTo>
                        <a:lnTo>
                          <a:pt x="144" y="2"/>
                        </a:lnTo>
                        <a:lnTo>
                          <a:pt x="111" y="12"/>
                        </a:lnTo>
                        <a:lnTo>
                          <a:pt x="80" y="29"/>
                        </a:lnTo>
                        <a:lnTo>
                          <a:pt x="66" y="39"/>
                        </a:lnTo>
                        <a:lnTo>
                          <a:pt x="53" y="53"/>
                        </a:lnTo>
                        <a:lnTo>
                          <a:pt x="39" y="65"/>
                        </a:lnTo>
                        <a:lnTo>
                          <a:pt x="29" y="80"/>
                        </a:lnTo>
                        <a:lnTo>
                          <a:pt x="12" y="111"/>
                        </a:lnTo>
                        <a:lnTo>
                          <a:pt x="2" y="144"/>
                        </a:lnTo>
                        <a:lnTo>
                          <a:pt x="0" y="181"/>
                        </a:lnTo>
                        <a:lnTo>
                          <a:pt x="0" y="198"/>
                        </a:lnTo>
                        <a:lnTo>
                          <a:pt x="2" y="216"/>
                        </a:lnTo>
                        <a:lnTo>
                          <a:pt x="5" y="233"/>
                        </a:lnTo>
                        <a:lnTo>
                          <a:pt x="12" y="250"/>
                        </a:lnTo>
                        <a:lnTo>
                          <a:pt x="19" y="265"/>
                        </a:lnTo>
                        <a:lnTo>
                          <a:pt x="29" y="281"/>
                        </a:lnTo>
                        <a:lnTo>
                          <a:pt x="39" y="295"/>
                        </a:lnTo>
                        <a:lnTo>
                          <a:pt x="53" y="310"/>
                        </a:lnTo>
                        <a:lnTo>
                          <a:pt x="66" y="322"/>
                        </a:lnTo>
                        <a:lnTo>
                          <a:pt x="80" y="332"/>
                        </a:lnTo>
                        <a:lnTo>
                          <a:pt x="95" y="341"/>
                        </a:lnTo>
                        <a:lnTo>
                          <a:pt x="111" y="349"/>
                        </a:lnTo>
                        <a:lnTo>
                          <a:pt x="127" y="354"/>
                        </a:lnTo>
                        <a:lnTo>
                          <a:pt x="144" y="359"/>
                        </a:lnTo>
                        <a:lnTo>
                          <a:pt x="162" y="361"/>
                        </a:lnTo>
                        <a:lnTo>
                          <a:pt x="181" y="362"/>
                        </a:lnTo>
                        <a:lnTo>
                          <a:pt x="181" y="361"/>
                        </a:lnTo>
                        <a:lnTo>
                          <a:pt x="182" y="361"/>
                        </a:lnTo>
                        <a:lnTo>
                          <a:pt x="185" y="361"/>
                        </a:lnTo>
                        <a:lnTo>
                          <a:pt x="189" y="361"/>
                        </a:lnTo>
                        <a:lnTo>
                          <a:pt x="198" y="361"/>
                        </a:lnTo>
                        <a:lnTo>
                          <a:pt x="216" y="359"/>
                        </a:lnTo>
                        <a:lnTo>
                          <a:pt x="233" y="354"/>
                        </a:lnTo>
                        <a:lnTo>
                          <a:pt x="237" y="352"/>
                        </a:lnTo>
                        <a:lnTo>
                          <a:pt x="241" y="351"/>
                        </a:lnTo>
                        <a:lnTo>
                          <a:pt x="250" y="349"/>
                        </a:lnTo>
                        <a:lnTo>
                          <a:pt x="257" y="344"/>
                        </a:lnTo>
                        <a:lnTo>
                          <a:pt x="261" y="342"/>
                        </a:lnTo>
                        <a:lnTo>
                          <a:pt x="265" y="341"/>
                        </a:lnTo>
                        <a:lnTo>
                          <a:pt x="281" y="332"/>
                        </a:lnTo>
                        <a:lnTo>
                          <a:pt x="295" y="322"/>
                        </a:lnTo>
                        <a:lnTo>
                          <a:pt x="309" y="310"/>
                        </a:lnTo>
                        <a:close/>
                        <a:moveTo>
                          <a:pt x="78" y="284"/>
                        </a:moveTo>
                        <a:lnTo>
                          <a:pt x="67" y="272"/>
                        </a:lnTo>
                        <a:lnTo>
                          <a:pt x="59" y="260"/>
                        </a:lnTo>
                        <a:lnTo>
                          <a:pt x="51" y="248"/>
                        </a:lnTo>
                        <a:lnTo>
                          <a:pt x="46" y="237"/>
                        </a:lnTo>
                        <a:lnTo>
                          <a:pt x="38" y="209"/>
                        </a:lnTo>
                        <a:lnTo>
                          <a:pt x="36" y="195"/>
                        </a:lnTo>
                        <a:lnTo>
                          <a:pt x="36" y="181"/>
                        </a:lnTo>
                        <a:lnTo>
                          <a:pt x="38" y="150"/>
                        </a:lnTo>
                        <a:lnTo>
                          <a:pt x="46" y="124"/>
                        </a:lnTo>
                        <a:lnTo>
                          <a:pt x="59" y="100"/>
                        </a:lnTo>
                        <a:lnTo>
                          <a:pt x="78" y="79"/>
                        </a:lnTo>
                        <a:lnTo>
                          <a:pt x="100" y="60"/>
                        </a:lnTo>
                        <a:lnTo>
                          <a:pt x="125" y="46"/>
                        </a:lnTo>
                        <a:lnTo>
                          <a:pt x="151" y="38"/>
                        </a:lnTo>
                        <a:lnTo>
                          <a:pt x="181" y="36"/>
                        </a:lnTo>
                        <a:lnTo>
                          <a:pt x="195" y="36"/>
                        </a:lnTo>
                        <a:lnTo>
                          <a:pt x="210" y="38"/>
                        </a:lnTo>
                        <a:lnTo>
                          <a:pt x="237" y="46"/>
                        </a:lnTo>
                        <a:lnTo>
                          <a:pt x="248" y="52"/>
                        </a:lnTo>
                        <a:lnTo>
                          <a:pt x="261" y="60"/>
                        </a:lnTo>
                        <a:lnTo>
                          <a:pt x="272" y="68"/>
                        </a:lnTo>
                        <a:lnTo>
                          <a:pt x="284" y="79"/>
                        </a:lnTo>
                        <a:lnTo>
                          <a:pt x="293" y="89"/>
                        </a:lnTo>
                        <a:lnTo>
                          <a:pt x="301" y="100"/>
                        </a:lnTo>
                        <a:lnTo>
                          <a:pt x="315" y="124"/>
                        </a:lnTo>
                        <a:lnTo>
                          <a:pt x="320" y="137"/>
                        </a:lnTo>
                        <a:lnTo>
                          <a:pt x="323" y="150"/>
                        </a:lnTo>
                        <a:lnTo>
                          <a:pt x="325" y="165"/>
                        </a:lnTo>
                        <a:lnTo>
                          <a:pt x="326" y="181"/>
                        </a:lnTo>
                        <a:lnTo>
                          <a:pt x="325" y="195"/>
                        </a:lnTo>
                        <a:lnTo>
                          <a:pt x="323" y="209"/>
                        </a:lnTo>
                        <a:lnTo>
                          <a:pt x="320" y="223"/>
                        </a:lnTo>
                        <a:lnTo>
                          <a:pt x="315" y="237"/>
                        </a:lnTo>
                        <a:lnTo>
                          <a:pt x="308" y="248"/>
                        </a:lnTo>
                        <a:lnTo>
                          <a:pt x="301" y="260"/>
                        </a:lnTo>
                        <a:lnTo>
                          <a:pt x="293" y="272"/>
                        </a:lnTo>
                        <a:lnTo>
                          <a:pt x="284" y="284"/>
                        </a:lnTo>
                        <a:lnTo>
                          <a:pt x="272" y="293"/>
                        </a:lnTo>
                        <a:lnTo>
                          <a:pt x="261" y="302"/>
                        </a:lnTo>
                        <a:lnTo>
                          <a:pt x="248" y="309"/>
                        </a:lnTo>
                        <a:lnTo>
                          <a:pt x="237" y="316"/>
                        </a:lnTo>
                        <a:lnTo>
                          <a:pt x="223" y="320"/>
                        </a:lnTo>
                        <a:lnTo>
                          <a:pt x="210" y="324"/>
                        </a:lnTo>
                        <a:lnTo>
                          <a:pt x="195" y="326"/>
                        </a:lnTo>
                        <a:lnTo>
                          <a:pt x="181" y="327"/>
                        </a:lnTo>
                        <a:lnTo>
                          <a:pt x="165" y="326"/>
                        </a:lnTo>
                        <a:lnTo>
                          <a:pt x="151" y="324"/>
                        </a:lnTo>
                        <a:lnTo>
                          <a:pt x="137" y="320"/>
                        </a:lnTo>
                        <a:lnTo>
                          <a:pt x="125" y="316"/>
                        </a:lnTo>
                        <a:lnTo>
                          <a:pt x="100" y="302"/>
                        </a:lnTo>
                        <a:lnTo>
                          <a:pt x="78" y="284"/>
                        </a:lnTo>
                        <a:close/>
                      </a:path>
                    </a:pathLst>
                  </a:custGeom>
                  <a:solidFill>
                    <a:srgbClr val="598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8342640" y="4925160"/>
                    <a:ext cx="7344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91">
                        <a:moveTo>
                          <a:pt x="0" y="145"/>
                        </a:moveTo>
                        <a:lnTo>
                          <a:pt x="0" y="159"/>
                        </a:lnTo>
                        <a:lnTo>
                          <a:pt x="2" y="173"/>
                        </a:lnTo>
                        <a:lnTo>
                          <a:pt x="10" y="201"/>
                        </a:lnTo>
                        <a:lnTo>
                          <a:pt x="15" y="212"/>
                        </a:lnTo>
                        <a:lnTo>
                          <a:pt x="23" y="224"/>
                        </a:lnTo>
                        <a:lnTo>
                          <a:pt x="31" y="236"/>
                        </a:lnTo>
                        <a:lnTo>
                          <a:pt x="42" y="248"/>
                        </a:lnTo>
                        <a:lnTo>
                          <a:pt x="64" y="266"/>
                        </a:lnTo>
                        <a:lnTo>
                          <a:pt x="89" y="280"/>
                        </a:lnTo>
                        <a:lnTo>
                          <a:pt x="101" y="284"/>
                        </a:lnTo>
                        <a:lnTo>
                          <a:pt x="115" y="288"/>
                        </a:lnTo>
                        <a:lnTo>
                          <a:pt x="129" y="290"/>
                        </a:lnTo>
                        <a:lnTo>
                          <a:pt x="145" y="291"/>
                        </a:lnTo>
                        <a:lnTo>
                          <a:pt x="159" y="290"/>
                        </a:lnTo>
                        <a:lnTo>
                          <a:pt x="174" y="288"/>
                        </a:lnTo>
                        <a:lnTo>
                          <a:pt x="187" y="284"/>
                        </a:lnTo>
                        <a:lnTo>
                          <a:pt x="201" y="280"/>
                        </a:lnTo>
                        <a:lnTo>
                          <a:pt x="212" y="273"/>
                        </a:lnTo>
                        <a:lnTo>
                          <a:pt x="225" y="266"/>
                        </a:lnTo>
                        <a:lnTo>
                          <a:pt x="236" y="257"/>
                        </a:lnTo>
                        <a:lnTo>
                          <a:pt x="248" y="248"/>
                        </a:lnTo>
                        <a:lnTo>
                          <a:pt x="257" y="236"/>
                        </a:lnTo>
                        <a:lnTo>
                          <a:pt x="265" y="224"/>
                        </a:lnTo>
                        <a:lnTo>
                          <a:pt x="272" y="212"/>
                        </a:lnTo>
                        <a:lnTo>
                          <a:pt x="279" y="201"/>
                        </a:lnTo>
                        <a:lnTo>
                          <a:pt x="284" y="187"/>
                        </a:lnTo>
                        <a:lnTo>
                          <a:pt x="287" y="173"/>
                        </a:lnTo>
                        <a:lnTo>
                          <a:pt x="289" y="159"/>
                        </a:lnTo>
                        <a:lnTo>
                          <a:pt x="290" y="145"/>
                        </a:lnTo>
                        <a:lnTo>
                          <a:pt x="289" y="129"/>
                        </a:lnTo>
                        <a:lnTo>
                          <a:pt x="287" y="114"/>
                        </a:lnTo>
                        <a:lnTo>
                          <a:pt x="284" y="101"/>
                        </a:lnTo>
                        <a:lnTo>
                          <a:pt x="279" y="88"/>
                        </a:lnTo>
                        <a:lnTo>
                          <a:pt x="265" y="64"/>
                        </a:lnTo>
                        <a:lnTo>
                          <a:pt x="257" y="53"/>
                        </a:lnTo>
                        <a:lnTo>
                          <a:pt x="248" y="43"/>
                        </a:lnTo>
                        <a:lnTo>
                          <a:pt x="236" y="32"/>
                        </a:lnTo>
                        <a:lnTo>
                          <a:pt x="225" y="24"/>
                        </a:lnTo>
                        <a:lnTo>
                          <a:pt x="212" y="16"/>
                        </a:lnTo>
                        <a:lnTo>
                          <a:pt x="201" y="10"/>
                        </a:lnTo>
                        <a:lnTo>
                          <a:pt x="174" y="2"/>
                        </a:lnTo>
                        <a:lnTo>
                          <a:pt x="159" y="0"/>
                        </a:lnTo>
                        <a:lnTo>
                          <a:pt x="145" y="0"/>
                        </a:lnTo>
                        <a:lnTo>
                          <a:pt x="115" y="2"/>
                        </a:lnTo>
                        <a:lnTo>
                          <a:pt x="89" y="10"/>
                        </a:lnTo>
                        <a:lnTo>
                          <a:pt x="64" y="24"/>
                        </a:lnTo>
                        <a:lnTo>
                          <a:pt x="42" y="43"/>
                        </a:lnTo>
                        <a:lnTo>
                          <a:pt x="23" y="64"/>
                        </a:lnTo>
                        <a:lnTo>
                          <a:pt x="10" y="88"/>
                        </a:lnTo>
                        <a:lnTo>
                          <a:pt x="2" y="114"/>
                        </a:lnTo>
                        <a:lnTo>
                          <a:pt x="0" y="145"/>
                        </a:lnTo>
                        <a:close/>
                        <a:moveTo>
                          <a:pt x="68" y="222"/>
                        </a:moveTo>
                        <a:lnTo>
                          <a:pt x="53" y="205"/>
                        </a:lnTo>
                        <a:lnTo>
                          <a:pt x="44" y="187"/>
                        </a:lnTo>
                        <a:lnTo>
                          <a:pt x="37" y="167"/>
                        </a:lnTo>
                        <a:lnTo>
                          <a:pt x="36" y="145"/>
                        </a:lnTo>
                        <a:lnTo>
                          <a:pt x="37" y="122"/>
                        </a:lnTo>
                        <a:lnTo>
                          <a:pt x="44" y="103"/>
                        </a:lnTo>
                        <a:lnTo>
                          <a:pt x="53" y="84"/>
                        </a:lnTo>
                        <a:lnTo>
                          <a:pt x="68" y="68"/>
                        </a:lnTo>
                        <a:lnTo>
                          <a:pt x="84" y="53"/>
                        </a:lnTo>
                        <a:lnTo>
                          <a:pt x="103" y="44"/>
                        </a:lnTo>
                        <a:lnTo>
                          <a:pt x="123" y="37"/>
                        </a:lnTo>
                        <a:lnTo>
                          <a:pt x="145" y="36"/>
                        </a:lnTo>
                        <a:lnTo>
                          <a:pt x="167" y="37"/>
                        </a:lnTo>
                        <a:lnTo>
                          <a:pt x="187" y="44"/>
                        </a:lnTo>
                        <a:lnTo>
                          <a:pt x="205" y="53"/>
                        </a:lnTo>
                        <a:lnTo>
                          <a:pt x="222" y="68"/>
                        </a:lnTo>
                        <a:lnTo>
                          <a:pt x="236" y="84"/>
                        </a:lnTo>
                        <a:lnTo>
                          <a:pt x="246" y="103"/>
                        </a:lnTo>
                        <a:lnTo>
                          <a:pt x="252" y="122"/>
                        </a:lnTo>
                        <a:lnTo>
                          <a:pt x="254" y="145"/>
                        </a:lnTo>
                        <a:lnTo>
                          <a:pt x="253" y="150"/>
                        </a:lnTo>
                        <a:lnTo>
                          <a:pt x="253" y="155"/>
                        </a:lnTo>
                        <a:lnTo>
                          <a:pt x="252" y="167"/>
                        </a:lnTo>
                        <a:lnTo>
                          <a:pt x="246" y="187"/>
                        </a:lnTo>
                        <a:lnTo>
                          <a:pt x="236" y="205"/>
                        </a:lnTo>
                        <a:lnTo>
                          <a:pt x="229" y="213"/>
                        </a:lnTo>
                        <a:lnTo>
                          <a:pt x="222" y="222"/>
                        </a:lnTo>
                        <a:lnTo>
                          <a:pt x="213" y="229"/>
                        </a:lnTo>
                        <a:lnTo>
                          <a:pt x="205" y="236"/>
                        </a:lnTo>
                        <a:lnTo>
                          <a:pt x="187" y="246"/>
                        </a:lnTo>
                        <a:lnTo>
                          <a:pt x="167" y="252"/>
                        </a:lnTo>
                        <a:lnTo>
                          <a:pt x="155" y="253"/>
                        </a:lnTo>
                        <a:lnTo>
                          <a:pt x="150" y="253"/>
                        </a:lnTo>
                        <a:lnTo>
                          <a:pt x="145" y="254"/>
                        </a:lnTo>
                        <a:lnTo>
                          <a:pt x="123" y="252"/>
                        </a:lnTo>
                        <a:lnTo>
                          <a:pt x="103" y="246"/>
                        </a:lnTo>
                        <a:lnTo>
                          <a:pt x="84" y="236"/>
                        </a:lnTo>
                        <a:lnTo>
                          <a:pt x="68" y="222"/>
                        </a:lnTo>
                        <a:close/>
                      </a:path>
                    </a:pathLst>
                  </a:custGeom>
                  <a:solidFill>
                    <a:srgbClr val="5c8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8351640" y="4934160"/>
                    <a:ext cx="554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18">
                        <a:moveTo>
                          <a:pt x="0" y="109"/>
                        </a:moveTo>
                        <a:lnTo>
                          <a:pt x="1" y="131"/>
                        </a:lnTo>
                        <a:lnTo>
                          <a:pt x="8" y="151"/>
                        </a:lnTo>
                        <a:lnTo>
                          <a:pt x="17" y="169"/>
                        </a:lnTo>
                        <a:lnTo>
                          <a:pt x="32" y="186"/>
                        </a:lnTo>
                        <a:lnTo>
                          <a:pt x="48" y="200"/>
                        </a:lnTo>
                        <a:lnTo>
                          <a:pt x="67" y="210"/>
                        </a:lnTo>
                        <a:lnTo>
                          <a:pt x="87" y="216"/>
                        </a:lnTo>
                        <a:lnTo>
                          <a:pt x="109" y="218"/>
                        </a:lnTo>
                        <a:lnTo>
                          <a:pt x="114" y="217"/>
                        </a:lnTo>
                        <a:lnTo>
                          <a:pt x="119" y="217"/>
                        </a:lnTo>
                        <a:lnTo>
                          <a:pt x="131" y="216"/>
                        </a:lnTo>
                        <a:lnTo>
                          <a:pt x="151" y="210"/>
                        </a:lnTo>
                        <a:lnTo>
                          <a:pt x="169" y="200"/>
                        </a:lnTo>
                        <a:lnTo>
                          <a:pt x="177" y="193"/>
                        </a:lnTo>
                        <a:lnTo>
                          <a:pt x="186" y="186"/>
                        </a:lnTo>
                        <a:lnTo>
                          <a:pt x="193" y="177"/>
                        </a:lnTo>
                        <a:lnTo>
                          <a:pt x="200" y="169"/>
                        </a:lnTo>
                        <a:lnTo>
                          <a:pt x="210" y="151"/>
                        </a:lnTo>
                        <a:lnTo>
                          <a:pt x="216" y="131"/>
                        </a:lnTo>
                        <a:lnTo>
                          <a:pt x="217" y="119"/>
                        </a:lnTo>
                        <a:lnTo>
                          <a:pt x="217" y="114"/>
                        </a:lnTo>
                        <a:lnTo>
                          <a:pt x="218" y="109"/>
                        </a:lnTo>
                        <a:lnTo>
                          <a:pt x="216" y="86"/>
                        </a:lnTo>
                        <a:lnTo>
                          <a:pt x="210" y="67"/>
                        </a:lnTo>
                        <a:lnTo>
                          <a:pt x="200" y="48"/>
                        </a:lnTo>
                        <a:lnTo>
                          <a:pt x="186" y="32"/>
                        </a:lnTo>
                        <a:lnTo>
                          <a:pt x="169" y="17"/>
                        </a:lnTo>
                        <a:lnTo>
                          <a:pt x="151" y="8"/>
                        </a:lnTo>
                        <a:lnTo>
                          <a:pt x="131" y="1"/>
                        </a:lnTo>
                        <a:lnTo>
                          <a:pt x="109" y="0"/>
                        </a:lnTo>
                        <a:lnTo>
                          <a:pt x="87" y="1"/>
                        </a:lnTo>
                        <a:lnTo>
                          <a:pt x="67" y="8"/>
                        </a:lnTo>
                        <a:lnTo>
                          <a:pt x="48" y="17"/>
                        </a:lnTo>
                        <a:lnTo>
                          <a:pt x="32" y="32"/>
                        </a:lnTo>
                        <a:lnTo>
                          <a:pt x="17" y="48"/>
                        </a:lnTo>
                        <a:lnTo>
                          <a:pt x="8" y="67"/>
                        </a:lnTo>
                        <a:lnTo>
                          <a:pt x="1" y="86"/>
                        </a:lnTo>
                        <a:lnTo>
                          <a:pt x="0" y="109"/>
                        </a:lnTo>
                        <a:close/>
                        <a:moveTo>
                          <a:pt x="109" y="36"/>
                        </a:moveTo>
                        <a:lnTo>
                          <a:pt x="123" y="38"/>
                        </a:lnTo>
                        <a:lnTo>
                          <a:pt x="136" y="41"/>
                        </a:lnTo>
                        <a:lnTo>
                          <a:pt x="142" y="43"/>
                        </a:lnTo>
                        <a:lnTo>
                          <a:pt x="149" y="48"/>
                        </a:lnTo>
                        <a:lnTo>
                          <a:pt x="160" y="58"/>
                        </a:lnTo>
                        <a:lnTo>
                          <a:pt x="168" y="68"/>
                        </a:lnTo>
                        <a:lnTo>
                          <a:pt x="176" y="81"/>
                        </a:lnTo>
                        <a:lnTo>
                          <a:pt x="180" y="94"/>
                        </a:lnTo>
                        <a:lnTo>
                          <a:pt x="182" y="109"/>
                        </a:lnTo>
                        <a:lnTo>
                          <a:pt x="180" y="123"/>
                        </a:lnTo>
                        <a:lnTo>
                          <a:pt x="176" y="136"/>
                        </a:lnTo>
                        <a:lnTo>
                          <a:pt x="172" y="142"/>
                        </a:lnTo>
                        <a:lnTo>
                          <a:pt x="168" y="149"/>
                        </a:lnTo>
                        <a:lnTo>
                          <a:pt x="164" y="154"/>
                        </a:lnTo>
                        <a:lnTo>
                          <a:pt x="160" y="161"/>
                        </a:lnTo>
                        <a:lnTo>
                          <a:pt x="149" y="169"/>
                        </a:lnTo>
                        <a:lnTo>
                          <a:pt x="142" y="172"/>
                        </a:lnTo>
                        <a:lnTo>
                          <a:pt x="140" y="172"/>
                        </a:lnTo>
                        <a:lnTo>
                          <a:pt x="139" y="172"/>
                        </a:lnTo>
                        <a:lnTo>
                          <a:pt x="139" y="174"/>
                        </a:lnTo>
                        <a:lnTo>
                          <a:pt x="136" y="176"/>
                        </a:lnTo>
                        <a:lnTo>
                          <a:pt x="123" y="179"/>
                        </a:lnTo>
                        <a:lnTo>
                          <a:pt x="109" y="182"/>
                        </a:lnTo>
                        <a:lnTo>
                          <a:pt x="94" y="179"/>
                        </a:lnTo>
                        <a:lnTo>
                          <a:pt x="81" y="176"/>
                        </a:lnTo>
                        <a:lnTo>
                          <a:pt x="68" y="169"/>
                        </a:lnTo>
                        <a:lnTo>
                          <a:pt x="58" y="161"/>
                        </a:lnTo>
                        <a:lnTo>
                          <a:pt x="48" y="149"/>
                        </a:lnTo>
                        <a:lnTo>
                          <a:pt x="43" y="142"/>
                        </a:lnTo>
                        <a:lnTo>
                          <a:pt x="41" y="136"/>
                        </a:lnTo>
                        <a:lnTo>
                          <a:pt x="38" y="123"/>
                        </a:lnTo>
                        <a:lnTo>
                          <a:pt x="37" y="109"/>
                        </a:lnTo>
                        <a:lnTo>
                          <a:pt x="38" y="94"/>
                        </a:lnTo>
                        <a:lnTo>
                          <a:pt x="41" y="81"/>
                        </a:lnTo>
                        <a:lnTo>
                          <a:pt x="48" y="68"/>
                        </a:lnTo>
                        <a:lnTo>
                          <a:pt x="58" y="58"/>
                        </a:lnTo>
                        <a:lnTo>
                          <a:pt x="68" y="48"/>
                        </a:lnTo>
                        <a:lnTo>
                          <a:pt x="81" y="41"/>
                        </a:lnTo>
                        <a:lnTo>
                          <a:pt x="94" y="38"/>
                        </a:lnTo>
                        <a:lnTo>
                          <a:pt x="109" y="36"/>
                        </a:lnTo>
                        <a:close/>
                      </a:path>
                    </a:pathLst>
                  </a:custGeom>
                  <a:solidFill>
                    <a:srgbClr val="5f8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8361000" y="4943520"/>
                    <a:ext cx="37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46">
                        <a:moveTo>
                          <a:pt x="123" y="22"/>
                        </a:moveTo>
                        <a:lnTo>
                          <a:pt x="112" y="12"/>
                        </a:lnTo>
                        <a:lnTo>
                          <a:pt x="105" y="7"/>
                        </a:lnTo>
                        <a:lnTo>
                          <a:pt x="99" y="5"/>
                        </a:lnTo>
                        <a:lnTo>
                          <a:pt x="86" y="2"/>
                        </a:lnTo>
                        <a:lnTo>
                          <a:pt x="72" y="0"/>
                        </a:lnTo>
                        <a:lnTo>
                          <a:pt x="57" y="2"/>
                        </a:lnTo>
                        <a:lnTo>
                          <a:pt x="44" y="5"/>
                        </a:lnTo>
                        <a:lnTo>
                          <a:pt x="31" y="12"/>
                        </a:lnTo>
                        <a:lnTo>
                          <a:pt x="21" y="22"/>
                        </a:lnTo>
                        <a:lnTo>
                          <a:pt x="11" y="32"/>
                        </a:lnTo>
                        <a:lnTo>
                          <a:pt x="4" y="45"/>
                        </a:lnTo>
                        <a:lnTo>
                          <a:pt x="1" y="58"/>
                        </a:lnTo>
                        <a:lnTo>
                          <a:pt x="0" y="73"/>
                        </a:lnTo>
                        <a:lnTo>
                          <a:pt x="1" y="87"/>
                        </a:lnTo>
                        <a:lnTo>
                          <a:pt x="4" y="100"/>
                        </a:lnTo>
                        <a:lnTo>
                          <a:pt x="6" y="106"/>
                        </a:lnTo>
                        <a:lnTo>
                          <a:pt x="11" y="113"/>
                        </a:lnTo>
                        <a:lnTo>
                          <a:pt x="21" y="125"/>
                        </a:lnTo>
                        <a:lnTo>
                          <a:pt x="31" y="133"/>
                        </a:lnTo>
                        <a:lnTo>
                          <a:pt x="44" y="140"/>
                        </a:lnTo>
                        <a:lnTo>
                          <a:pt x="57" y="143"/>
                        </a:lnTo>
                        <a:lnTo>
                          <a:pt x="72" y="146"/>
                        </a:lnTo>
                        <a:lnTo>
                          <a:pt x="86" y="143"/>
                        </a:lnTo>
                        <a:lnTo>
                          <a:pt x="99" y="140"/>
                        </a:lnTo>
                        <a:lnTo>
                          <a:pt x="102" y="138"/>
                        </a:lnTo>
                        <a:lnTo>
                          <a:pt x="102" y="136"/>
                        </a:lnTo>
                        <a:lnTo>
                          <a:pt x="103" y="136"/>
                        </a:lnTo>
                        <a:lnTo>
                          <a:pt x="105" y="136"/>
                        </a:lnTo>
                        <a:lnTo>
                          <a:pt x="112" y="133"/>
                        </a:lnTo>
                        <a:lnTo>
                          <a:pt x="123" y="125"/>
                        </a:lnTo>
                        <a:lnTo>
                          <a:pt x="127" y="118"/>
                        </a:lnTo>
                        <a:lnTo>
                          <a:pt x="131" y="113"/>
                        </a:lnTo>
                        <a:lnTo>
                          <a:pt x="135" y="106"/>
                        </a:lnTo>
                        <a:lnTo>
                          <a:pt x="139" y="100"/>
                        </a:lnTo>
                        <a:lnTo>
                          <a:pt x="143" y="87"/>
                        </a:lnTo>
                        <a:lnTo>
                          <a:pt x="145" y="73"/>
                        </a:lnTo>
                        <a:lnTo>
                          <a:pt x="143" y="58"/>
                        </a:lnTo>
                        <a:lnTo>
                          <a:pt x="139" y="45"/>
                        </a:lnTo>
                        <a:lnTo>
                          <a:pt x="131" y="32"/>
                        </a:lnTo>
                        <a:lnTo>
                          <a:pt x="123" y="22"/>
                        </a:lnTo>
                        <a:close/>
                        <a:moveTo>
                          <a:pt x="72" y="37"/>
                        </a:moveTo>
                        <a:lnTo>
                          <a:pt x="79" y="37"/>
                        </a:lnTo>
                        <a:lnTo>
                          <a:pt x="86" y="39"/>
                        </a:lnTo>
                        <a:lnTo>
                          <a:pt x="91" y="42"/>
                        </a:lnTo>
                        <a:lnTo>
                          <a:pt x="98" y="48"/>
                        </a:lnTo>
                        <a:lnTo>
                          <a:pt x="105" y="58"/>
                        </a:lnTo>
                        <a:lnTo>
                          <a:pt x="107" y="65"/>
                        </a:lnTo>
                        <a:lnTo>
                          <a:pt x="108" y="73"/>
                        </a:lnTo>
                        <a:lnTo>
                          <a:pt x="107" y="80"/>
                        </a:lnTo>
                        <a:lnTo>
                          <a:pt x="105" y="87"/>
                        </a:lnTo>
                        <a:lnTo>
                          <a:pt x="103" y="89"/>
                        </a:lnTo>
                        <a:lnTo>
                          <a:pt x="102" y="89"/>
                        </a:lnTo>
                        <a:lnTo>
                          <a:pt x="102" y="90"/>
                        </a:lnTo>
                        <a:lnTo>
                          <a:pt x="102" y="92"/>
                        </a:lnTo>
                        <a:lnTo>
                          <a:pt x="98" y="99"/>
                        </a:lnTo>
                        <a:lnTo>
                          <a:pt x="91" y="102"/>
                        </a:lnTo>
                        <a:lnTo>
                          <a:pt x="89" y="102"/>
                        </a:lnTo>
                        <a:lnTo>
                          <a:pt x="88" y="102"/>
                        </a:lnTo>
                        <a:lnTo>
                          <a:pt x="88" y="104"/>
                        </a:lnTo>
                        <a:lnTo>
                          <a:pt x="86" y="106"/>
                        </a:lnTo>
                        <a:lnTo>
                          <a:pt x="79" y="108"/>
                        </a:lnTo>
                        <a:lnTo>
                          <a:pt x="72" y="109"/>
                        </a:lnTo>
                        <a:lnTo>
                          <a:pt x="64" y="108"/>
                        </a:lnTo>
                        <a:lnTo>
                          <a:pt x="57" y="106"/>
                        </a:lnTo>
                        <a:lnTo>
                          <a:pt x="46" y="99"/>
                        </a:lnTo>
                        <a:lnTo>
                          <a:pt x="40" y="92"/>
                        </a:lnTo>
                        <a:lnTo>
                          <a:pt x="38" y="87"/>
                        </a:lnTo>
                        <a:lnTo>
                          <a:pt x="36" y="80"/>
                        </a:lnTo>
                        <a:lnTo>
                          <a:pt x="36" y="73"/>
                        </a:lnTo>
                        <a:lnTo>
                          <a:pt x="38" y="58"/>
                        </a:lnTo>
                        <a:lnTo>
                          <a:pt x="46" y="48"/>
                        </a:lnTo>
                        <a:lnTo>
                          <a:pt x="57" y="39"/>
                        </a:lnTo>
                        <a:lnTo>
                          <a:pt x="72" y="37"/>
                        </a:lnTo>
                        <a:close/>
                      </a:path>
                    </a:pathLst>
                  </a:custGeom>
                  <a:solidFill>
                    <a:srgbClr val="629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8370000" y="4952520"/>
                    <a:ext cx="187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62" y="11"/>
                        </a:moveTo>
                        <a:lnTo>
                          <a:pt x="55" y="5"/>
                        </a:lnTo>
                        <a:lnTo>
                          <a:pt x="50" y="2"/>
                        </a:ln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1" y="2"/>
                        </a:lnTo>
                        <a:lnTo>
                          <a:pt x="10" y="11"/>
                        </a:lnTo>
                        <a:lnTo>
                          <a:pt x="2" y="21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lnTo>
                          <a:pt x="4" y="55"/>
                        </a:lnTo>
                        <a:lnTo>
                          <a:pt x="10" y="62"/>
                        </a:lnTo>
                        <a:lnTo>
                          <a:pt x="21" y="69"/>
                        </a:lnTo>
                        <a:lnTo>
                          <a:pt x="28" y="71"/>
                        </a:lnTo>
                        <a:lnTo>
                          <a:pt x="36" y="72"/>
                        </a:lnTo>
                        <a:lnTo>
                          <a:pt x="43" y="71"/>
                        </a:lnTo>
                        <a:lnTo>
                          <a:pt x="50" y="69"/>
                        </a:lnTo>
                        <a:lnTo>
                          <a:pt x="52" y="67"/>
                        </a:lnTo>
                        <a:lnTo>
                          <a:pt x="52" y="65"/>
                        </a:lnTo>
                        <a:lnTo>
                          <a:pt x="53" y="65"/>
                        </a:lnTo>
                        <a:lnTo>
                          <a:pt x="55" y="65"/>
                        </a:lnTo>
                        <a:lnTo>
                          <a:pt x="62" y="62"/>
                        </a:lnTo>
                        <a:lnTo>
                          <a:pt x="66" y="55"/>
                        </a:lnTo>
                        <a:lnTo>
                          <a:pt x="66" y="53"/>
                        </a:lnTo>
                        <a:lnTo>
                          <a:pt x="66" y="52"/>
                        </a:lnTo>
                        <a:lnTo>
                          <a:pt x="67" y="52"/>
                        </a:lnTo>
                        <a:lnTo>
                          <a:pt x="69" y="50"/>
                        </a:lnTo>
                        <a:lnTo>
                          <a:pt x="71" y="43"/>
                        </a:lnTo>
                        <a:lnTo>
                          <a:pt x="72" y="36"/>
                        </a:lnTo>
                        <a:lnTo>
                          <a:pt x="71" y="28"/>
                        </a:lnTo>
                        <a:lnTo>
                          <a:pt x="69" y="21"/>
                        </a:lnTo>
                        <a:lnTo>
                          <a:pt x="62" y="11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8102880" y="5038200"/>
                    <a:ext cx="7956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519">
                        <a:moveTo>
                          <a:pt x="314" y="519"/>
                        </a:moveTo>
                        <a:lnTo>
                          <a:pt x="292" y="498"/>
                        </a:lnTo>
                        <a:lnTo>
                          <a:pt x="238" y="441"/>
                        </a:lnTo>
                        <a:lnTo>
                          <a:pt x="213" y="412"/>
                        </a:lnTo>
                        <a:lnTo>
                          <a:pt x="190" y="383"/>
                        </a:lnTo>
                        <a:lnTo>
                          <a:pt x="167" y="353"/>
                        </a:lnTo>
                        <a:lnTo>
                          <a:pt x="147" y="323"/>
                        </a:lnTo>
                        <a:lnTo>
                          <a:pt x="127" y="293"/>
                        </a:lnTo>
                        <a:lnTo>
                          <a:pt x="108" y="263"/>
                        </a:lnTo>
                        <a:lnTo>
                          <a:pt x="74" y="200"/>
                        </a:lnTo>
                        <a:lnTo>
                          <a:pt x="59" y="167"/>
                        </a:lnTo>
                        <a:lnTo>
                          <a:pt x="45" y="135"/>
                        </a:lnTo>
                        <a:lnTo>
                          <a:pt x="31" y="101"/>
                        </a:lnTo>
                        <a:lnTo>
                          <a:pt x="20" y="68"/>
                        </a:lnTo>
                        <a:lnTo>
                          <a:pt x="0" y="0"/>
                        </a:lnTo>
                        <a:lnTo>
                          <a:pt x="5" y="59"/>
                        </a:lnTo>
                        <a:lnTo>
                          <a:pt x="10" y="87"/>
                        </a:lnTo>
                        <a:lnTo>
                          <a:pt x="17" y="117"/>
                        </a:lnTo>
                        <a:lnTo>
                          <a:pt x="23" y="144"/>
                        </a:lnTo>
                        <a:lnTo>
                          <a:pt x="32" y="172"/>
                        </a:lnTo>
                        <a:lnTo>
                          <a:pt x="55" y="227"/>
                        </a:lnTo>
                        <a:lnTo>
                          <a:pt x="66" y="252"/>
                        </a:lnTo>
                        <a:lnTo>
                          <a:pt x="81" y="278"/>
                        </a:lnTo>
                        <a:lnTo>
                          <a:pt x="113" y="328"/>
                        </a:lnTo>
                        <a:lnTo>
                          <a:pt x="149" y="375"/>
                        </a:lnTo>
                        <a:lnTo>
                          <a:pt x="170" y="398"/>
                        </a:lnTo>
                        <a:lnTo>
                          <a:pt x="192" y="422"/>
                        </a:lnTo>
                        <a:lnTo>
                          <a:pt x="221" y="448"/>
                        </a:lnTo>
                        <a:lnTo>
                          <a:pt x="251" y="474"/>
                        </a:lnTo>
                        <a:lnTo>
                          <a:pt x="282" y="498"/>
                        </a:lnTo>
                        <a:lnTo>
                          <a:pt x="314" y="519"/>
                        </a:lnTo>
                        <a:close/>
                      </a:path>
                    </a:pathLst>
                  </a:custGeom>
                  <a:solidFill>
                    <a:srgbClr val="020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8102160" y="4997520"/>
                    <a:ext cx="1134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741">
                        <a:moveTo>
                          <a:pt x="295" y="658"/>
                        </a:moveTo>
                        <a:lnTo>
                          <a:pt x="317" y="679"/>
                        </a:lnTo>
                        <a:lnTo>
                          <a:pt x="347" y="696"/>
                        </a:lnTo>
                        <a:lnTo>
                          <a:pt x="379" y="713"/>
                        </a:lnTo>
                        <a:lnTo>
                          <a:pt x="412" y="728"/>
                        </a:lnTo>
                        <a:lnTo>
                          <a:pt x="446" y="741"/>
                        </a:lnTo>
                        <a:lnTo>
                          <a:pt x="381" y="688"/>
                        </a:lnTo>
                        <a:lnTo>
                          <a:pt x="350" y="660"/>
                        </a:lnTo>
                        <a:lnTo>
                          <a:pt x="320" y="632"/>
                        </a:lnTo>
                        <a:lnTo>
                          <a:pt x="286" y="597"/>
                        </a:lnTo>
                        <a:lnTo>
                          <a:pt x="255" y="561"/>
                        </a:lnTo>
                        <a:lnTo>
                          <a:pt x="225" y="525"/>
                        </a:lnTo>
                        <a:lnTo>
                          <a:pt x="199" y="490"/>
                        </a:lnTo>
                        <a:lnTo>
                          <a:pt x="173" y="453"/>
                        </a:lnTo>
                        <a:lnTo>
                          <a:pt x="149" y="415"/>
                        </a:lnTo>
                        <a:lnTo>
                          <a:pt x="126" y="377"/>
                        </a:lnTo>
                        <a:lnTo>
                          <a:pt x="107" y="339"/>
                        </a:lnTo>
                        <a:lnTo>
                          <a:pt x="88" y="298"/>
                        </a:lnTo>
                        <a:lnTo>
                          <a:pt x="72" y="258"/>
                        </a:lnTo>
                        <a:lnTo>
                          <a:pt x="56" y="216"/>
                        </a:lnTo>
                        <a:lnTo>
                          <a:pt x="43" y="175"/>
                        </a:lnTo>
                        <a:lnTo>
                          <a:pt x="31" y="132"/>
                        </a:lnTo>
                        <a:lnTo>
                          <a:pt x="22" y="89"/>
                        </a:lnTo>
                        <a:lnTo>
                          <a:pt x="14" y="45"/>
                        </a:lnTo>
                        <a:lnTo>
                          <a:pt x="9" y="0"/>
                        </a:lnTo>
                        <a:lnTo>
                          <a:pt x="3" y="55"/>
                        </a:lnTo>
                        <a:lnTo>
                          <a:pt x="0" y="113"/>
                        </a:lnTo>
                        <a:lnTo>
                          <a:pt x="3" y="160"/>
                        </a:lnTo>
                        <a:lnTo>
                          <a:pt x="23" y="228"/>
                        </a:lnTo>
                        <a:lnTo>
                          <a:pt x="34" y="261"/>
                        </a:lnTo>
                        <a:lnTo>
                          <a:pt x="48" y="295"/>
                        </a:lnTo>
                        <a:lnTo>
                          <a:pt x="62" y="327"/>
                        </a:lnTo>
                        <a:lnTo>
                          <a:pt x="77" y="360"/>
                        </a:lnTo>
                        <a:lnTo>
                          <a:pt x="111" y="423"/>
                        </a:lnTo>
                        <a:lnTo>
                          <a:pt x="130" y="453"/>
                        </a:lnTo>
                        <a:lnTo>
                          <a:pt x="150" y="483"/>
                        </a:lnTo>
                        <a:lnTo>
                          <a:pt x="170" y="513"/>
                        </a:lnTo>
                        <a:lnTo>
                          <a:pt x="193" y="543"/>
                        </a:lnTo>
                        <a:lnTo>
                          <a:pt x="216" y="572"/>
                        </a:lnTo>
                        <a:lnTo>
                          <a:pt x="241" y="601"/>
                        </a:lnTo>
                        <a:lnTo>
                          <a:pt x="295" y="658"/>
                        </a:lnTo>
                        <a:close/>
                      </a:path>
                    </a:pathLst>
                  </a:custGeom>
                  <a:solidFill>
                    <a:srgbClr val="060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8104680" y="4968720"/>
                    <a:ext cx="13644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9" h="879">
                        <a:moveTo>
                          <a:pt x="311" y="744"/>
                        </a:moveTo>
                        <a:lnTo>
                          <a:pt x="341" y="772"/>
                        </a:lnTo>
                        <a:lnTo>
                          <a:pt x="372" y="800"/>
                        </a:lnTo>
                        <a:lnTo>
                          <a:pt x="437" y="853"/>
                        </a:lnTo>
                        <a:lnTo>
                          <a:pt x="486" y="867"/>
                        </a:lnTo>
                        <a:lnTo>
                          <a:pt x="539" y="879"/>
                        </a:lnTo>
                        <a:lnTo>
                          <a:pt x="485" y="843"/>
                        </a:lnTo>
                        <a:lnTo>
                          <a:pt x="434" y="805"/>
                        </a:lnTo>
                        <a:lnTo>
                          <a:pt x="384" y="763"/>
                        </a:lnTo>
                        <a:lnTo>
                          <a:pt x="337" y="718"/>
                        </a:lnTo>
                        <a:lnTo>
                          <a:pt x="300" y="679"/>
                        </a:lnTo>
                        <a:lnTo>
                          <a:pt x="267" y="641"/>
                        </a:lnTo>
                        <a:lnTo>
                          <a:pt x="234" y="600"/>
                        </a:lnTo>
                        <a:lnTo>
                          <a:pt x="206" y="560"/>
                        </a:lnTo>
                        <a:lnTo>
                          <a:pt x="177" y="518"/>
                        </a:lnTo>
                        <a:lnTo>
                          <a:pt x="153" y="476"/>
                        </a:lnTo>
                        <a:lnTo>
                          <a:pt x="130" y="432"/>
                        </a:lnTo>
                        <a:lnTo>
                          <a:pt x="110" y="389"/>
                        </a:lnTo>
                        <a:lnTo>
                          <a:pt x="91" y="342"/>
                        </a:lnTo>
                        <a:lnTo>
                          <a:pt x="76" y="297"/>
                        </a:lnTo>
                        <a:lnTo>
                          <a:pt x="62" y="250"/>
                        </a:lnTo>
                        <a:lnTo>
                          <a:pt x="51" y="202"/>
                        </a:lnTo>
                        <a:lnTo>
                          <a:pt x="41" y="152"/>
                        </a:lnTo>
                        <a:lnTo>
                          <a:pt x="36" y="102"/>
                        </a:lnTo>
                        <a:lnTo>
                          <a:pt x="30" y="51"/>
                        </a:lnTo>
                        <a:lnTo>
                          <a:pt x="29" y="0"/>
                        </a:lnTo>
                        <a:lnTo>
                          <a:pt x="12" y="55"/>
                        </a:lnTo>
                        <a:lnTo>
                          <a:pt x="0" y="112"/>
                        </a:lnTo>
                        <a:lnTo>
                          <a:pt x="5" y="157"/>
                        </a:lnTo>
                        <a:lnTo>
                          <a:pt x="13" y="201"/>
                        </a:lnTo>
                        <a:lnTo>
                          <a:pt x="22" y="244"/>
                        </a:lnTo>
                        <a:lnTo>
                          <a:pt x="34" y="287"/>
                        </a:lnTo>
                        <a:lnTo>
                          <a:pt x="47" y="328"/>
                        </a:lnTo>
                        <a:lnTo>
                          <a:pt x="63" y="370"/>
                        </a:lnTo>
                        <a:lnTo>
                          <a:pt x="79" y="410"/>
                        </a:lnTo>
                        <a:lnTo>
                          <a:pt x="98" y="451"/>
                        </a:lnTo>
                        <a:lnTo>
                          <a:pt x="117" y="489"/>
                        </a:lnTo>
                        <a:lnTo>
                          <a:pt x="140" y="527"/>
                        </a:lnTo>
                        <a:lnTo>
                          <a:pt x="164" y="565"/>
                        </a:lnTo>
                        <a:lnTo>
                          <a:pt x="190" y="602"/>
                        </a:lnTo>
                        <a:lnTo>
                          <a:pt x="216" y="637"/>
                        </a:lnTo>
                        <a:lnTo>
                          <a:pt x="246" y="673"/>
                        </a:lnTo>
                        <a:lnTo>
                          <a:pt x="277" y="709"/>
                        </a:lnTo>
                        <a:lnTo>
                          <a:pt x="311" y="744"/>
                        </a:lnTo>
                        <a:close/>
                      </a:path>
                    </a:pathLst>
                  </a:custGeom>
                  <a:solidFill>
                    <a:srgbClr val="090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8102160" y="4857120"/>
                    <a:ext cx="338040" cy="33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9" h="1328">
                        <a:moveTo>
                          <a:pt x="195" y="194"/>
                        </a:moveTo>
                        <a:lnTo>
                          <a:pt x="149" y="243"/>
                        </a:lnTo>
                        <a:lnTo>
                          <a:pt x="109" y="296"/>
                        </a:lnTo>
                        <a:lnTo>
                          <a:pt x="91" y="322"/>
                        </a:lnTo>
                        <a:lnTo>
                          <a:pt x="75" y="351"/>
                        </a:lnTo>
                        <a:lnTo>
                          <a:pt x="49" y="408"/>
                        </a:lnTo>
                        <a:lnTo>
                          <a:pt x="26" y="469"/>
                        </a:lnTo>
                        <a:lnTo>
                          <a:pt x="12" y="531"/>
                        </a:lnTo>
                        <a:lnTo>
                          <a:pt x="3" y="595"/>
                        </a:lnTo>
                        <a:lnTo>
                          <a:pt x="0" y="665"/>
                        </a:lnTo>
                        <a:lnTo>
                          <a:pt x="0" y="697"/>
                        </a:lnTo>
                        <a:lnTo>
                          <a:pt x="3" y="731"/>
                        </a:lnTo>
                        <a:lnTo>
                          <a:pt x="6" y="763"/>
                        </a:lnTo>
                        <a:lnTo>
                          <a:pt x="12" y="796"/>
                        </a:lnTo>
                        <a:lnTo>
                          <a:pt x="17" y="827"/>
                        </a:lnTo>
                        <a:lnTo>
                          <a:pt x="26" y="858"/>
                        </a:lnTo>
                        <a:lnTo>
                          <a:pt x="37" y="888"/>
                        </a:lnTo>
                        <a:lnTo>
                          <a:pt x="49" y="918"/>
                        </a:lnTo>
                        <a:lnTo>
                          <a:pt x="60" y="947"/>
                        </a:lnTo>
                        <a:lnTo>
                          <a:pt x="75" y="975"/>
                        </a:lnTo>
                        <a:lnTo>
                          <a:pt x="91" y="1002"/>
                        </a:lnTo>
                        <a:lnTo>
                          <a:pt x="109" y="1031"/>
                        </a:lnTo>
                        <a:lnTo>
                          <a:pt x="127" y="1057"/>
                        </a:lnTo>
                        <a:lnTo>
                          <a:pt x="149" y="1083"/>
                        </a:lnTo>
                        <a:lnTo>
                          <a:pt x="170" y="1108"/>
                        </a:lnTo>
                        <a:lnTo>
                          <a:pt x="195" y="1134"/>
                        </a:lnTo>
                        <a:lnTo>
                          <a:pt x="219" y="1157"/>
                        </a:lnTo>
                        <a:lnTo>
                          <a:pt x="244" y="1178"/>
                        </a:lnTo>
                        <a:lnTo>
                          <a:pt x="270" y="1198"/>
                        </a:lnTo>
                        <a:lnTo>
                          <a:pt x="297" y="1218"/>
                        </a:lnTo>
                        <a:lnTo>
                          <a:pt x="323" y="1235"/>
                        </a:lnTo>
                        <a:lnTo>
                          <a:pt x="352" y="1251"/>
                        </a:lnTo>
                        <a:lnTo>
                          <a:pt x="380" y="1265"/>
                        </a:lnTo>
                        <a:lnTo>
                          <a:pt x="410" y="1279"/>
                        </a:lnTo>
                        <a:lnTo>
                          <a:pt x="470" y="1299"/>
                        </a:lnTo>
                        <a:lnTo>
                          <a:pt x="532" y="1315"/>
                        </a:lnTo>
                        <a:lnTo>
                          <a:pt x="597" y="1324"/>
                        </a:lnTo>
                        <a:lnTo>
                          <a:pt x="630" y="1327"/>
                        </a:lnTo>
                        <a:lnTo>
                          <a:pt x="665" y="1328"/>
                        </a:lnTo>
                        <a:lnTo>
                          <a:pt x="681" y="1327"/>
                        </a:lnTo>
                        <a:lnTo>
                          <a:pt x="698" y="1327"/>
                        </a:lnTo>
                        <a:lnTo>
                          <a:pt x="732" y="1324"/>
                        </a:lnTo>
                        <a:lnTo>
                          <a:pt x="763" y="1320"/>
                        </a:lnTo>
                        <a:lnTo>
                          <a:pt x="796" y="1315"/>
                        </a:lnTo>
                        <a:lnTo>
                          <a:pt x="811" y="1311"/>
                        </a:lnTo>
                        <a:lnTo>
                          <a:pt x="827" y="1307"/>
                        </a:lnTo>
                        <a:lnTo>
                          <a:pt x="859" y="1299"/>
                        </a:lnTo>
                        <a:lnTo>
                          <a:pt x="888" y="1289"/>
                        </a:lnTo>
                        <a:lnTo>
                          <a:pt x="895" y="1286"/>
                        </a:lnTo>
                        <a:lnTo>
                          <a:pt x="903" y="1283"/>
                        </a:lnTo>
                        <a:lnTo>
                          <a:pt x="919" y="1279"/>
                        </a:lnTo>
                        <a:lnTo>
                          <a:pt x="947" y="1265"/>
                        </a:lnTo>
                        <a:lnTo>
                          <a:pt x="961" y="1257"/>
                        </a:lnTo>
                        <a:lnTo>
                          <a:pt x="976" y="1251"/>
                        </a:lnTo>
                        <a:lnTo>
                          <a:pt x="1003" y="1235"/>
                        </a:lnTo>
                        <a:lnTo>
                          <a:pt x="1016" y="1226"/>
                        </a:lnTo>
                        <a:lnTo>
                          <a:pt x="1023" y="1221"/>
                        </a:lnTo>
                        <a:lnTo>
                          <a:pt x="1027" y="1219"/>
                        </a:lnTo>
                        <a:lnTo>
                          <a:pt x="1031" y="1218"/>
                        </a:lnTo>
                        <a:lnTo>
                          <a:pt x="1033" y="1214"/>
                        </a:lnTo>
                        <a:lnTo>
                          <a:pt x="1037" y="1212"/>
                        </a:lnTo>
                        <a:lnTo>
                          <a:pt x="1044" y="1208"/>
                        </a:lnTo>
                        <a:lnTo>
                          <a:pt x="1057" y="1198"/>
                        </a:lnTo>
                        <a:lnTo>
                          <a:pt x="1083" y="1178"/>
                        </a:lnTo>
                        <a:lnTo>
                          <a:pt x="1108" y="1157"/>
                        </a:lnTo>
                        <a:lnTo>
                          <a:pt x="1134" y="1134"/>
                        </a:lnTo>
                        <a:lnTo>
                          <a:pt x="1157" y="1108"/>
                        </a:lnTo>
                        <a:lnTo>
                          <a:pt x="1180" y="1083"/>
                        </a:lnTo>
                        <a:lnTo>
                          <a:pt x="1200" y="1057"/>
                        </a:lnTo>
                        <a:lnTo>
                          <a:pt x="1209" y="1043"/>
                        </a:lnTo>
                        <a:lnTo>
                          <a:pt x="1214" y="1036"/>
                        </a:lnTo>
                        <a:lnTo>
                          <a:pt x="1216" y="1033"/>
                        </a:lnTo>
                        <a:lnTo>
                          <a:pt x="1219" y="1031"/>
                        </a:lnTo>
                        <a:lnTo>
                          <a:pt x="1220" y="1026"/>
                        </a:lnTo>
                        <a:lnTo>
                          <a:pt x="1223" y="1023"/>
                        </a:lnTo>
                        <a:lnTo>
                          <a:pt x="1227" y="1016"/>
                        </a:lnTo>
                        <a:lnTo>
                          <a:pt x="1236" y="1002"/>
                        </a:lnTo>
                        <a:lnTo>
                          <a:pt x="1252" y="975"/>
                        </a:lnTo>
                        <a:lnTo>
                          <a:pt x="1259" y="960"/>
                        </a:lnTo>
                        <a:lnTo>
                          <a:pt x="1267" y="947"/>
                        </a:lnTo>
                        <a:lnTo>
                          <a:pt x="1281" y="918"/>
                        </a:lnTo>
                        <a:lnTo>
                          <a:pt x="1285" y="903"/>
                        </a:lnTo>
                        <a:lnTo>
                          <a:pt x="1287" y="895"/>
                        </a:lnTo>
                        <a:lnTo>
                          <a:pt x="1291" y="888"/>
                        </a:lnTo>
                        <a:lnTo>
                          <a:pt x="1301" y="858"/>
                        </a:lnTo>
                        <a:lnTo>
                          <a:pt x="1309" y="827"/>
                        </a:lnTo>
                        <a:lnTo>
                          <a:pt x="1312" y="811"/>
                        </a:lnTo>
                        <a:lnTo>
                          <a:pt x="1317" y="796"/>
                        </a:lnTo>
                        <a:lnTo>
                          <a:pt x="1321" y="763"/>
                        </a:lnTo>
                        <a:lnTo>
                          <a:pt x="1326" y="731"/>
                        </a:lnTo>
                        <a:lnTo>
                          <a:pt x="1328" y="697"/>
                        </a:lnTo>
                        <a:lnTo>
                          <a:pt x="1328" y="680"/>
                        </a:lnTo>
                        <a:lnTo>
                          <a:pt x="1329" y="665"/>
                        </a:lnTo>
                        <a:lnTo>
                          <a:pt x="1328" y="629"/>
                        </a:lnTo>
                        <a:lnTo>
                          <a:pt x="1326" y="595"/>
                        </a:lnTo>
                        <a:lnTo>
                          <a:pt x="1317" y="531"/>
                        </a:lnTo>
                        <a:lnTo>
                          <a:pt x="1301" y="469"/>
                        </a:lnTo>
                        <a:lnTo>
                          <a:pt x="1281" y="408"/>
                        </a:lnTo>
                        <a:lnTo>
                          <a:pt x="1267" y="379"/>
                        </a:lnTo>
                        <a:lnTo>
                          <a:pt x="1252" y="351"/>
                        </a:lnTo>
                        <a:lnTo>
                          <a:pt x="1236" y="322"/>
                        </a:lnTo>
                        <a:lnTo>
                          <a:pt x="1219" y="296"/>
                        </a:lnTo>
                        <a:lnTo>
                          <a:pt x="1200" y="269"/>
                        </a:lnTo>
                        <a:lnTo>
                          <a:pt x="1180" y="243"/>
                        </a:lnTo>
                        <a:lnTo>
                          <a:pt x="1134" y="194"/>
                        </a:lnTo>
                        <a:lnTo>
                          <a:pt x="1108" y="169"/>
                        </a:lnTo>
                        <a:lnTo>
                          <a:pt x="1083" y="148"/>
                        </a:lnTo>
                        <a:lnTo>
                          <a:pt x="1057" y="126"/>
                        </a:lnTo>
                        <a:lnTo>
                          <a:pt x="1031" y="108"/>
                        </a:lnTo>
                        <a:lnTo>
                          <a:pt x="1003" y="90"/>
                        </a:lnTo>
                        <a:lnTo>
                          <a:pt x="976" y="74"/>
                        </a:lnTo>
                        <a:lnTo>
                          <a:pt x="947" y="59"/>
                        </a:lnTo>
                        <a:lnTo>
                          <a:pt x="919" y="48"/>
                        </a:lnTo>
                        <a:lnTo>
                          <a:pt x="888" y="36"/>
                        </a:lnTo>
                        <a:lnTo>
                          <a:pt x="859" y="26"/>
                        </a:lnTo>
                        <a:lnTo>
                          <a:pt x="827" y="17"/>
                        </a:lnTo>
                        <a:lnTo>
                          <a:pt x="796" y="12"/>
                        </a:lnTo>
                        <a:lnTo>
                          <a:pt x="763" y="6"/>
                        </a:lnTo>
                        <a:lnTo>
                          <a:pt x="732" y="3"/>
                        </a:lnTo>
                        <a:lnTo>
                          <a:pt x="698" y="0"/>
                        </a:lnTo>
                        <a:lnTo>
                          <a:pt x="665" y="0"/>
                        </a:lnTo>
                        <a:lnTo>
                          <a:pt x="630" y="0"/>
                        </a:lnTo>
                        <a:lnTo>
                          <a:pt x="597" y="3"/>
                        </a:lnTo>
                        <a:lnTo>
                          <a:pt x="532" y="12"/>
                        </a:lnTo>
                        <a:lnTo>
                          <a:pt x="470" y="26"/>
                        </a:lnTo>
                        <a:lnTo>
                          <a:pt x="410" y="48"/>
                        </a:lnTo>
                        <a:lnTo>
                          <a:pt x="352" y="74"/>
                        </a:lnTo>
                        <a:lnTo>
                          <a:pt x="323" y="90"/>
                        </a:lnTo>
                        <a:lnTo>
                          <a:pt x="297" y="108"/>
                        </a:lnTo>
                        <a:lnTo>
                          <a:pt x="244" y="148"/>
                        </a:lnTo>
                        <a:lnTo>
                          <a:pt x="195" y="194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8190720" y="4950720"/>
                    <a:ext cx="1692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612">
                        <a:moveTo>
                          <a:pt x="666" y="361"/>
                        </a:moveTo>
                        <a:lnTo>
                          <a:pt x="666" y="230"/>
                        </a:lnTo>
                        <a:lnTo>
                          <a:pt x="383" y="230"/>
                        </a:lnTo>
                        <a:lnTo>
                          <a:pt x="383" y="0"/>
                        </a:lnTo>
                        <a:lnTo>
                          <a:pt x="261" y="0"/>
                        </a:lnTo>
                        <a:lnTo>
                          <a:pt x="261" y="230"/>
                        </a:lnTo>
                        <a:lnTo>
                          <a:pt x="0" y="230"/>
                        </a:lnTo>
                        <a:lnTo>
                          <a:pt x="0" y="361"/>
                        </a:lnTo>
                        <a:lnTo>
                          <a:pt x="261" y="361"/>
                        </a:lnTo>
                        <a:lnTo>
                          <a:pt x="261" y="612"/>
                        </a:lnTo>
                        <a:lnTo>
                          <a:pt x="383" y="612"/>
                        </a:lnTo>
                        <a:lnTo>
                          <a:pt x="383" y="361"/>
                        </a:lnTo>
                        <a:lnTo>
                          <a:pt x="666" y="3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8190720" y="4950720"/>
                    <a:ext cx="1692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612">
                        <a:moveTo>
                          <a:pt x="666" y="230"/>
                        </a:moveTo>
                        <a:lnTo>
                          <a:pt x="383" y="230"/>
                        </a:lnTo>
                        <a:lnTo>
                          <a:pt x="383" y="0"/>
                        </a:lnTo>
                        <a:lnTo>
                          <a:pt x="261" y="0"/>
                        </a:lnTo>
                        <a:lnTo>
                          <a:pt x="261" y="230"/>
                        </a:lnTo>
                        <a:lnTo>
                          <a:pt x="0" y="230"/>
                        </a:lnTo>
                        <a:lnTo>
                          <a:pt x="0" y="361"/>
                        </a:lnTo>
                        <a:lnTo>
                          <a:pt x="261" y="361"/>
                        </a:lnTo>
                        <a:lnTo>
                          <a:pt x="261" y="612"/>
                        </a:lnTo>
                        <a:lnTo>
                          <a:pt x="383" y="612"/>
                        </a:lnTo>
                        <a:lnTo>
                          <a:pt x="383" y="361"/>
                        </a:lnTo>
                        <a:lnTo>
                          <a:pt x="666" y="361"/>
                        </a:lnTo>
                        <a:lnTo>
                          <a:pt x="666" y="23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6659280" y="4792320"/>
                    <a:ext cx="310320" cy="44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3" h="1754">
                        <a:moveTo>
                          <a:pt x="225" y="0"/>
                        </a:moveTo>
                        <a:lnTo>
                          <a:pt x="183" y="13"/>
                        </a:lnTo>
                        <a:lnTo>
                          <a:pt x="142" y="28"/>
                        </a:lnTo>
                        <a:lnTo>
                          <a:pt x="108" y="90"/>
                        </a:lnTo>
                        <a:lnTo>
                          <a:pt x="79" y="157"/>
                        </a:lnTo>
                        <a:lnTo>
                          <a:pt x="54" y="224"/>
                        </a:lnTo>
                        <a:lnTo>
                          <a:pt x="35" y="294"/>
                        </a:lnTo>
                        <a:lnTo>
                          <a:pt x="20" y="364"/>
                        </a:lnTo>
                        <a:lnTo>
                          <a:pt x="8" y="438"/>
                        </a:lnTo>
                        <a:lnTo>
                          <a:pt x="1" y="512"/>
                        </a:lnTo>
                        <a:lnTo>
                          <a:pt x="0" y="590"/>
                        </a:lnTo>
                        <a:lnTo>
                          <a:pt x="1" y="649"/>
                        </a:lnTo>
                        <a:lnTo>
                          <a:pt x="5" y="708"/>
                        </a:lnTo>
                        <a:lnTo>
                          <a:pt x="11" y="764"/>
                        </a:lnTo>
                        <a:lnTo>
                          <a:pt x="21" y="821"/>
                        </a:lnTo>
                        <a:lnTo>
                          <a:pt x="32" y="875"/>
                        </a:lnTo>
                        <a:lnTo>
                          <a:pt x="47" y="930"/>
                        </a:lnTo>
                        <a:lnTo>
                          <a:pt x="64" y="982"/>
                        </a:lnTo>
                        <a:lnTo>
                          <a:pt x="85" y="1035"/>
                        </a:lnTo>
                        <a:lnTo>
                          <a:pt x="107" y="1085"/>
                        </a:lnTo>
                        <a:lnTo>
                          <a:pt x="133" y="1135"/>
                        </a:lnTo>
                        <a:lnTo>
                          <a:pt x="161" y="1184"/>
                        </a:lnTo>
                        <a:lnTo>
                          <a:pt x="192" y="1232"/>
                        </a:lnTo>
                        <a:lnTo>
                          <a:pt x="225" y="1278"/>
                        </a:lnTo>
                        <a:lnTo>
                          <a:pt x="261" y="1323"/>
                        </a:lnTo>
                        <a:lnTo>
                          <a:pt x="301" y="1367"/>
                        </a:lnTo>
                        <a:lnTo>
                          <a:pt x="343" y="1412"/>
                        </a:lnTo>
                        <a:lnTo>
                          <a:pt x="385" y="1451"/>
                        </a:lnTo>
                        <a:lnTo>
                          <a:pt x="429" y="1491"/>
                        </a:lnTo>
                        <a:lnTo>
                          <a:pt x="473" y="1526"/>
                        </a:lnTo>
                        <a:lnTo>
                          <a:pt x="520" y="1560"/>
                        </a:lnTo>
                        <a:lnTo>
                          <a:pt x="566" y="1589"/>
                        </a:lnTo>
                        <a:lnTo>
                          <a:pt x="615" y="1618"/>
                        </a:lnTo>
                        <a:lnTo>
                          <a:pt x="665" y="1643"/>
                        </a:lnTo>
                        <a:lnTo>
                          <a:pt x="716" y="1667"/>
                        </a:lnTo>
                        <a:lnTo>
                          <a:pt x="767" y="1686"/>
                        </a:lnTo>
                        <a:lnTo>
                          <a:pt x="820" y="1704"/>
                        </a:lnTo>
                        <a:lnTo>
                          <a:pt x="874" y="1719"/>
                        </a:lnTo>
                        <a:lnTo>
                          <a:pt x="929" y="1731"/>
                        </a:lnTo>
                        <a:lnTo>
                          <a:pt x="985" y="1739"/>
                        </a:lnTo>
                        <a:lnTo>
                          <a:pt x="1042" y="1747"/>
                        </a:lnTo>
                        <a:lnTo>
                          <a:pt x="1100" y="1750"/>
                        </a:lnTo>
                        <a:lnTo>
                          <a:pt x="1160" y="1754"/>
                        </a:lnTo>
                        <a:lnTo>
                          <a:pt x="1167" y="1746"/>
                        </a:lnTo>
                        <a:lnTo>
                          <a:pt x="1175" y="1739"/>
                        </a:lnTo>
                        <a:lnTo>
                          <a:pt x="1191" y="1725"/>
                        </a:lnTo>
                        <a:lnTo>
                          <a:pt x="1223" y="1697"/>
                        </a:lnTo>
                        <a:lnTo>
                          <a:pt x="1165" y="1697"/>
                        </a:lnTo>
                        <a:lnTo>
                          <a:pt x="1107" y="1695"/>
                        </a:lnTo>
                        <a:lnTo>
                          <a:pt x="1052" y="1691"/>
                        </a:lnTo>
                        <a:lnTo>
                          <a:pt x="996" y="1685"/>
                        </a:lnTo>
                        <a:lnTo>
                          <a:pt x="943" y="1677"/>
                        </a:lnTo>
                        <a:lnTo>
                          <a:pt x="889" y="1664"/>
                        </a:lnTo>
                        <a:lnTo>
                          <a:pt x="838" y="1651"/>
                        </a:lnTo>
                        <a:lnTo>
                          <a:pt x="787" y="1634"/>
                        </a:lnTo>
                        <a:lnTo>
                          <a:pt x="739" y="1616"/>
                        </a:lnTo>
                        <a:lnTo>
                          <a:pt x="689" y="1593"/>
                        </a:lnTo>
                        <a:lnTo>
                          <a:pt x="641" y="1569"/>
                        </a:lnTo>
                        <a:lnTo>
                          <a:pt x="595" y="1542"/>
                        </a:lnTo>
                        <a:lnTo>
                          <a:pt x="550" y="1514"/>
                        </a:lnTo>
                        <a:lnTo>
                          <a:pt x="505" y="1481"/>
                        </a:lnTo>
                        <a:lnTo>
                          <a:pt x="462" y="1448"/>
                        </a:lnTo>
                        <a:lnTo>
                          <a:pt x="420" y="1410"/>
                        </a:lnTo>
                        <a:lnTo>
                          <a:pt x="380" y="1373"/>
                        </a:lnTo>
                        <a:lnTo>
                          <a:pt x="341" y="1331"/>
                        </a:lnTo>
                        <a:lnTo>
                          <a:pt x="303" y="1289"/>
                        </a:lnTo>
                        <a:lnTo>
                          <a:pt x="268" y="1245"/>
                        </a:lnTo>
                        <a:lnTo>
                          <a:pt x="237" y="1202"/>
                        </a:lnTo>
                        <a:lnTo>
                          <a:pt x="221" y="1178"/>
                        </a:lnTo>
                        <a:lnTo>
                          <a:pt x="208" y="1155"/>
                        </a:lnTo>
                        <a:lnTo>
                          <a:pt x="182" y="1110"/>
                        </a:lnTo>
                        <a:lnTo>
                          <a:pt x="158" y="1062"/>
                        </a:lnTo>
                        <a:lnTo>
                          <a:pt x="138" y="1015"/>
                        </a:lnTo>
                        <a:lnTo>
                          <a:pt x="118" y="965"/>
                        </a:lnTo>
                        <a:lnTo>
                          <a:pt x="101" y="915"/>
                        </a:lnTo>
                        <a:lnTo>
                          <a:pt x="87" y="863"/>
                        </a:lnTo>
                        <a:lnTo>
                          <a:pt x="76" y="811"/>
                        </a:lnTo>
                        <a:lnTo>
                          <a:pt x="67" y="756"/>
                        </a:lnTo>
                        <a:lnTo>
                          <a:pt x="62" y="702"/>
                        </a:lnTo>
                        <a:lnTo>
                          <a:pt x="58" y="645"/>
                        </a:lnTo>
                        <a:lnTo>
                          <a:pt x="57" y="590"/>
                        </a:lnTo>
                        <a:lnTo>
                          <a:pt x="59" y="507"/>
                        </a:lnTo>
                        <a:lnTo>
                          <a:pt x="67" y="429"/>
                        </a:lnTo>
                        <a:lnTo>
                          <a:pt x="80" y="351"/>
                        </a:lnTo>
                        <a:lnTo>
                          <a:pt x="99" y="277"/>
                        </a:lnTo>
                        <a:lnTo>
                          <a:pt x="122" y="203"/>
                        </a:lnTo>
                        <a:lnTo>
                          <a:pt x="151" y="134"/>
                        </a:lnTo>
                        <a:lnTo>
                          <a:pt x="185" y="65"/>
                        </a:lnTo>
                        <a:lnTo>
                          <a:pt x="225" y="0"/>
                        </a:lnTo>
                        <a:close/>
                      </a:path>
                    </a:pathLst>
                  </a:custGeom>
                  <a:solidFill>
                    <a:srgbClr val="ff391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6701760" y="4782240"/>
                    <a:ext cx="307440" cy="41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10" h="1625">
                        <a:moveTo>
                          <a:pt x="297" y="0"/>
                        </a:moveTo>
                        <a:lnTo>
                          <a:pt x="255" y="1"/>
                        </a:lnTo>
                        <a:lnTo>
                          <a:pt x="218" y="5"/>
                        </a:lnTo>
                        <a:lnTo>
                          <a:pt x="167" y="72"/>
                        </a:lnTo>
                        <a:lnTo>
                          <a:pt x="143" y="106"/>
                        </a:lnTo>
                        <a:lnTo>
                          <a:pt x="123" y="143"/>
                        </a:lnTo>
                        <a:lnTo>
                          <a:pt x="85" y="216"/>
                        </a:lnTo>
                        <a:lnTo>
                          <a:pt x="68" y="254"/>
                        </a:lnTo>
                        <a:lnTo>
                          <a:pt x="54" y="293"/>
                        </a:lnTo>
                        <a:lnTo>
                          <a:pt x="31" y="372"/>
                        </a:lnTo>
                        <a:lnTo>
                          <a:pt x="14" y="454"/>
                        </a:lnTo>
                        <a:lnTo>
                          <a:pt x="3" y="539"/>
                        </a:lnTo>
                        <a:lnTo>
                          <a:pt x="0" y="582"/>
                        </a:lnTo>
                        <a:lnTo>
                          <a:pt x="0" y="628"/>
                        </a:lnTo>
                        <a:lnTo>
                          <a:pt x="1" y="678"/>
                        </a:lnTo>
                        <a:lnTo>
                          <a:pt x="5" y="729"/>
                        </a:lnTo>
                        <a:lnTo>
                          <a:pt x="10" y="777"/>
                        </a:lnTo>
                        <a:lnTo>
                          <a:pt x="18" y="826"/>
                        </a:lnTo>
                        <a:lnTo>
                          <a:pt x="28" y="873"/>
                        </a:lnTo>
                        <a:lnTo>
                          <a:pt x="41" y="920"/>
                        </a:lnTo>
                        <a:lnTo>
                          <a:pt x="56" y="966"/>
                        </a:lnTo>
                        <a:lnTo>
                          <a:pt x="73" y="1011"/>
                        </a:lnTo>
                        <a:lnTo>
                          <a:pt x="92" y="1054"/>
                        </a:lnTo>
                        <a:lnTo>
                          <a:pt x="113" y="1097"/>
                        </a:lnTo>
                        <a:lnTo>
                          <a:pt x="137" y="1138"/>
                        </a:lnTo>
                        <a:lnTo>
                          <a:pt x="163" y="1180"/>
                        </a:lnTo>
                        <a:lnTo>
                          <a:pt x="192" y="1218"/>
                        </a:lnTo>
                        <a:lnTo>
                          <a:pt x="222" y="1258"/>
                        </a:lnTo>
                        <a:lnTo>
                          <a:pt x="255" y="1295"/>
                        </a:lnTo>
                        <a:lnTo>
                          <a:pt x="291" y="1334"/>
                        </a:lnTo>
                        <a:lnTo>
                          <a:pt x="328" y="1369"/>
                        </a:lnTo>
                        <a:lnTo>
                          <a:pt x="365" y="1402"/>
                        </a:lnTo>
                        <a:lnTo>
                          <a:pt x="404" y="1433"/>
                        </a:lnTo>
                        <a:lnTo>
                          <a:pt x="445" y="1461"/>
                        </a:lnTo>
                        <a:lnTo>
                          <a:pt x="484" y="1487"/>
                        </a:lnTo>
                        <a:lnTo>
                          <a:pt x="526" y="1511"/>
                        </a:lnTo>
                        <a:lnTo>
                          <a:pt x="569" y="1532"/>
                        </a:lnTo>
                        <a:lnTo>
                          <a:pt x="614" y="1552"/>
                        </a:lnTo>
                        <a:lnTo>
                          <a:pt x="658" y="1569"/>
                        </a:lnTo>
                        <a:lnTo>
                          <a:pt x="703" y="1583"/>
                        </a:lnTo>
                        <a:lnTo>
                          <a:pt x="750" y="1596"/>
                        </a:lnTo>
                        <a:lnTo>
                          <a:pt x="797" y="1606"/>
                        </a:lnTo>
                        <a:lnTo>
                          <a:pt x="845" y="1614"/>
                        </a:lnTo>
                        <a:lnTo>
                          <a:pt x="895" y="1620"/>
                        </a:lnTo>
                        <a:lnTo>
                          <a:pt x="946" y="1623"/>
                        </a:lnTo>
                        <a:lnTo>
                          <a:pt x="998" y="1625"/>
                        </a:lnTo>
                        <a:lnTo>
                          <a:pt x="1018" y="1624"/>
                        </a:lnTo>
                        <a:lnTo>
                          <a:pt x="1040" y="1624"/>
                        </a:lnTo>
                        <a:lnTo>
                          <a:pt x="1082" y="1622"/>
                        </a:lnTo>
                        <a:lnTo>
                          <a:pt x="1123" y="1618"/>
                        </a:lnTo>
                        <a:lnTo>
                          <a:pt x="1164" y="1614"/>
                        </a:lnTo>
                        <a:lnTo>
                          <a:pt x="1186" y="1580"/>
                        </a:lnTo>
                        <a:lnTo>
                          <a:pt x="1198" y="1563"/>
                        </a:lnTo>
                        <a:lnTo>
                          <a:pt x="1210" y="1547"/>
                        </a:lnTo>
                        <a:lnTo>
                          <a:pt x="1158" y="1556"/>
                        </a:lnTo>
                        <a:lnTo>
                          <a:pt x="1106" y="1564"/>
                        </a:lnTo>
                        <a:lnTo>
                          <a:pt x="1051" y="1567"/>
                        </a:lnTo>
                        <a:lnTo>
                          <a:pt x="1024" y="1569"/>
                        </a:lnTo>
                        <a:lnTo>
                          <a:pt x="1010" y="1569"/>
                        </a:lnTo>
                        <a:lnTo>
                          <a:pt x="1004" y="1569"/>
                        </a:lnTo>
                        <a:lnTo>
                          <a:pt x="1000" y="1569"/>
                        </a:lnTo>
                        <a:lnTo>
                          <a:pt x="998" y="1570"/>
                        </a:lnTo>
                        <a:lnTo>
                          <a:pt x="949" y="1569"/>
                        </a:lnTo>
                        <a:lnTo>
                          <a:pt x="902" y="1565"/>
                        </a:lnTo>
                        <a:lnTo>
                          <a:pt x="855" y="1559"/>
                        </a:lnTo>
                        <a:lnTo>
                          <a:pt x="810" y="1552"/>
                        </a:lnTo>
                        <a:lnTo>
                          <a:pt x="764" y="1541"/>
                        </a:lnTo>
                        <a:lnTo>
                          <a:pt x="720" y="1530"/>
                        </a:lnTo>
                        <a:lnTo>
                          <a:pt x="677" y="1515"/>
                        </a:lnTo>
                        <a:lnTo>
                          <a:pt x="636" y="1501"/>
                        </a:lnTo>
                        <a:lnTo>
                          <a:pt x="594" y="1481"/>
                        </a:lnTo>
                        <a:lnTo>
                          <a:pt x="553" y="1461"/>
                        </a:lnTo>
                        <a:lnTo>
                          <a:pt x="514" y="1437"/>
                        </a:lnTo>
                        <a:lnTo>
                          <a:pt x="476" y="1413"/>
                        </a:lnTo>
                        <a:lnTo>
                          <a:pt x="438" y="1385"/>
                        </a:lnTo>
                        <a:lnTo>
                          <a:pt x="401" y="1357"/>
                        </a:lnTo>
                        <a:lnTo>
                          <a:pt x="365" y="1326"/>
                        </a:lnTo>
                        <a:lnTo>
                          <a:pt x="331" y="1293"/>
                        </a:lnTo>
                        <a:lnTo>
                          <a:pt x="296" y="1257"/>
                        </a:lnTo>
                        <a:lnTo>
                          <a:pt x="265" y="1222"/>
                        </a:lnTo>
                        <a:lnTo>
                          <a:pt x="236" y="1184"/>
                        </a:lnTo>
                        <a:lnTo>
                          <a:pt x="210" y="1147"/>
                        </a:lnTo>
                        <a:lnTo>
                          <a:pt x="184" y="1107"/>
                        </a:lnTo>
                        <a:lnTo>
                          <a:pt x="162" y="1069"/>
                        </a:lnTo>
                        <a:lnTo>
                          <a:pt x="141" y="1028"/>
                        </a:lnTo>
                        <a:lnTo>
                          <a:pt x="124" y="988"/>
                        </a:lnTo>
                        <a:lnTo>
                          <a:pt x="107" y="945"/>
                        </a:lnTo>
                        <a:lnTo>
                          <a:pt x="93" y="903"/>
                        </a:lnTo>
                        <a:lnTo>
                          <a:pt x="81" y="859"/>
                        </a:lnTo>
                        <a:lnTo>
                          <a:pt x="73" y="815"/>
                        </a:lnTo>
                        <a:lnTo>
                          <a:pt x="65" y="768"/>
                        </a:lnTo>
                        <a:lnTo>
                          <a:pt x="59" y="723"/>
                        </a:lnTo>
                        <a:lnTo>
                          <a:pt x="56" y="675"/>
                        </a:lnTo>
                        <a:lnTo>
                          <a:pt x="56" y="628"/>
                        </a:lnTo>
                        <a:lnTo>
                          <a:pt x="56" y="581"/>
                        </a:lnTo>
                        <a:lnTo>
                          <a:pt x="59" y="537"/>
                        </a:lnTo>
                        <a:lnTo>
                          <a:pt x="62" y="493"/>
                        </a:lnTo>
                        <a:lnTo>
                          <a:pt x="70" y="451"/>
                        </a:lnTo>
                        <a:lnTo>
                          <a:pt x="78" y="408"/>
                        </a:lnTo>
                        <a:lnTo>
                          <a:pt x="88" y="367"/>
                        </a:lnTo>
                        <a:lnTo>
                          <a:pt x="101" y="326"/>
                        </a:lnTo>
                        <a:lnTo>
                          <a:pt x="116" y="288"/>
                        </a:lnTo>
                        <a:lnTo>
                          <a:pt x="130" y="248"/>
                        </a:lnTo>
                        <a:lnTo>
                          <a:pt x="149" y="211"/>
                        </a:lnTo>
                        <a:lnTo>
                          <a:pt x="191" y="137"/>
                        </a:lnTo>
                        <a:lnTo>
                          <a:pt x="213" y="101"/>
                        </a:lnTo>
                        <a:lnTo>
                          <a:pt x="239" y="67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ff47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6687000" y="4783680"/>
                    <a:ext cx="309960" cy="42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1" h="1676">
                        <a:moveTo>
                          <a:pt x="275" y="0"/>
                        </a:moveTo>
                        <a:lnTo>
                          <a:pt x="233" y="5"/>
                        </a:lnTo>
                        <a:lnTo>
                          <a:pt x="194" y="13"/>
                        </a:lnTo>
                        <a:lnTo>
                          <a:pt x="148" y="80"/>
                        </a:lnTo>
                        <a:lnTo>
                          <a:pt x="126" y="114"/>
                        </a:lnTo>
                        <a:lnTo>
                          <a:pt x="108" y="150"/>
                        </a:lnTo>
                        <a:lnTo>
                          <a:pt x="74" y="222"/>
                        </a:lnTo>
                        <a:lnTo>
                          <a:pt x="48" y="297"/>
                        </a:lnTo>
                        <a:lnTo>
                          <a:pt x="35" y="335"/>
                        </a:lnTo>
                        <a:lnTo>
                          <a:pt x="26" y="375"/>
                        </a:lnTo>
                        <a:lnTo>
                          <a:pt x="12" y="455"/>
                        </a:lnTo>
                        <a:lnTo>
                          <a:pt x="3" y="538"/>
                        </a:lnTo>
                        <a:lnTo>
                          <a:pt x="0" y="623"/>
                        </a:lnTo>
                        <a:lnTo>
                          <a:pt x="1" y="676"/>
                        </a:lnTo>
                        <a:lnTo>
                          <a:pt x="5" y="729"/>
                        </a:lnTo>
                        <a:lnTo>
                          <a:pt x="11" y="780"/>
                        </a:lnTo>
                        <a:lnTo>
                          <a:pt x="20" y="832"/>
                        </a:lnTo>
                        <a:lnTo>
                          <a:pt x="30" y="881"/>
                        </a:lnTo>
                        <a:lnTo>
                          <a:pt x="43" y="931"/>
                        </a:lnTo>
                        <a:lnTo>
                          <a:pt x="58" y="979"/>
                        </a:lnTo>
                        <a:lnTo>
                          <a:pt x="77" y="1026"/>
                        </a:lnTo>
                        <a:lnTo>
                          <a:pt x="97" y="1072"/>
                        </a:lnTo>
                        <a:lnTo>
                          <a:pt x="121" y="1117"/>
                        </a:lnTo>
                        <a:lnTo>
                          <a:pt x="145" y="1160"/>
                        </a:lnTo>
                        <a:lnTo>
                          <a:pt x="174" y="1204"/>
                        </a:lnTo>
                        <a:lnTo>
                          <a:pt x="204" y="1245"/>
                        </a:lnTo>
                        <a:lnTo>
                          <a:pt x="237" y="1287"/>
                        </a:lnTo>
                        <a:lnTo>
                          <a:pt x="272" y="1327"/>
                        </a:lnTo>
                        <a:lnTo>
                          <a:pt x="291" y="1346"/>
                        </a:lnTo>
                        <a:lnTo>
                          <a:pt x="311" y="1366"/>
                        </a:lnTo>
                        <a:lnTo>
                          <a:pt x="348" y="1403"/>
                        </a:lnTo>
                        <a:lnTo>
                          <a:pt x="388" y="1438"/>
                        </a:lnTo>
                        <a:lnTo>
                          <a:pt x="429" y="1471"/>
                        </a:lnTo>
                        <a:lnTo>
                          <a:pt x="472" y="1501"/>
                        </a:lnTo>
                        <a:lnTo>
                          <a:pt x="514" y="1527"/>
                        </a:lnTo>
                        <a:lnTo>
                          <a:pt x="558" y="1553"/>
                        </a:lnTo>
                        <a:lnTo>
                          <a:pt x="604" y="1576"/>
                        </a:lnTo>
                        <a:lnTo>
                          <a:pt x="650" y="1598"/>
                        </a:lnTo>
                        <a:lnTo>
                          <a:pt x="697" y="1615"/>
                        </a:lnTo>
                        <a:lnTo>
                          <a:pt x="744" y="1630"/>
                        </a:lnTo>
                        <a:lnTo>
                          <a:pt x="793" y="1643"/>
                        </a:lnTo>
                        <a:lnTo>
                          <a:pt x="844" y="1655"/>
                        </a:lnTo>
                        <a:lnTo>
                          <a:pt x="894" y="1663"/>
                        </a:lnTo>
                        <a:lnTo>
                          <a:pt x="946" y="1670"/>
                        </a:lnTo>
                        <a:lnTo>
                          <a:pt x="999" y="1673"/>
                        </a:lnTo>
                        <a:lnTo>
                          <a:pt x="1055" y="1676"/>
                        </a:lnTo>
                        <a:lnTo>
                          <a:pt x="1112" y="1673"/>
                        </a:lnTo>
                        <a:lnTo>
                          <a:pt x="1168" y="1670"/>
                        </a:lnTo>
                        <a:lnTo>
                          <a:pt x="1181" y="1654"/>
                        </a:lnTo>
                        <a:lnTo>
                          <a:pt x="1194" y="1639"/>
                        </a:lnTo>
                        <a:lnTo>
                          <a:pt x="1207" y="1624"/>
                        </a:lnTo>
                        <a:lnTo>
                          <a:pt x="1221" y="1609"/>
                        </a:lnTo>
                        <a:lnTo>
                          <a:pt x="1180" y="1613"/>
                        </a:lnTo>
                        <a:lnTo>
                          <a:pt x="1139" y="1617"/>
                        </a:lnTo>
                        <a:lnTo>
                          <a:pt x="1097" y="1619"/>
                        </a:lnTo>
                        <a:lnTo>
                          <a:pt x="1075" y="1619"/>
                        </a:lnTo>
                        <a:lnTo>
                          <a:pt x="1055" y="1620"/>
                        </a:lnTo>
                        <a:lnTo>
                          <a:pt x="1003" y="1618"/>
                        </a:lnTo>
                        <a:lnTo>
                          <a:pt x="952" y="1615"/>
                        </a:lnTo>
                        <a:lnTo>
                          <a:pt x="902" y="1609"/>
                        </a:lnTo>
                        <a:lnTo>
                          <a:pt x="854" y="1601"/>
                        </a:lnTo>
                        <a:lnTo>
                          <a:pt x="807" y="1591"/>
                        </a:lnTo>
                        <a:lnTo>
                          <a:pt x="760" y="1578"/>
                        </a:lnTo>
                        <a:lnTo>
                          <a:pt x="715" y="1564"/>
                        </a:lnTo>
                        <a:lnTo>
                          <a:pt x="671" y="1547"/>
                        </a:lnTo>
                        <a:lnTo>
                          <a:pt x="626" y="1527"/>
                        </a:lnTo>
                        <a:lnTo>
                          <a:pt x="583" y="1506"/>
                        </a:lnTo>
                        <a:lnTo>
                          <a:pt x="541" y="1482"/>
                        </a:lnTo>
                        <a:lnTo>
                          <a:pt x="502" y="1456"/>
                        </a:lnTo>
                        <a:lnTo>
                          <a:pt x="461" y="1428"/>
                        </a:lnTo>
                        <a:lnTo>
                          <a:pt x="422" y="1397"/>
                        </a:lnTo>
                        <a:lnTo>
                          <a:pt x="385" y="1364"/>
                        </a:lnTo>
                        <a:lnTo>
                          <a:pt x="348" y="1329"/>
                        </a:lnTo>
                        <a:lnTo>
                          <a:pt x="312" y="1290"/>
                        </a:lnTo>
                        <a:lnTo>
                          <a:pt x="279" y="1253"/>
                        </a:lnTo>
                        <a:lnTo>
                          <a:pt x="249" y="1213"/>
                        </a:lnTo>
                        <a:lnTo>
                          <a:pt x="220" y="1175"/>
                        </a:lnTo>
                        <a:lnTo>
                          <a:pt x="194" y="1133"/>
                        </a:lnTo>
                        <a:lnTo>
                          <a:pt x="170" y="1092"/>
                        </a:lnTo>
                        <a:lnTo>
                          <a:pt x="149" y="1049"/>
                        </a:lnTo>
                        <a:lnTo>
                          <a:pt x="130" y="1006"/>
                        </a:lnTo>
                        <a:lnTo>
                          <a:pt x="113" y="961"/>
                        </a:lnTo>
                        <a:lnTo>
                          <a:pt x="98" y="915"/>
                        </a:lnTo>
                        <a:lnTo>
                          <a:pt x="85" y="868"/>
                        </a:lnTo>
                        <a:lnTo>
                          <a:pt x="75" y="821"/>
                        </a:lnTo>
                        <a:lnTo>
                          <a:pt x="67" y="772"/>
                        </a:lnTo>
                        <a:lnTo>
                          <a:pt x="62" y="724"/>
                        </a:lnTo>
                        <a:lnTo>
                          <a:pt x="58" y="673"/>
                        </a:lnTo>
                        <a:lnTo>
                          <a:pt x="57" y="623"/>
                        </a:lnTo>
                        <a:lnTo>
                          <a:pt x="57" y="577"/>
                        </a:lnTo>
                        <a:lnTo>
                          <a:pt x="60" y="534"/>
                        </a:lnTo>
                        <a:lnTo>
                          <a:pt x="71" y="449"/>
                        </a:lnTo>
                        <a:lnTo>
                          <a:pt x="88" y="367"/>
                        </a:lnTo>
                        <a:lnTo>
                          <a:pt x="111" y="288"/>
                        </a:lnTo>
                        <a:lnTo>
                          <a:pt x="125" y="249"/>
                        </a:lnTo>
                        <a:lnTo>
                          <a:pt x="142" y="211"/>
                        </a:lnTo>
                        <a:lnTo>
                          <a:pt x="180" y="138"/>
                        </a:lnTo>
                        <a:lnTo>
                          <a:pt x="200" y="101"/>
                        </a:lnTo>
                        <a:lnTo>
                          <a:pt x="224" y="67"/>
                        </a:lnTo>
                        <a:lnTo>
                          <a:pt x="275" y="0"/>
                        </a:lnTo>
                        <a:close/>
                      </a:path>
                    </a:pathLst>
                  </a:custGeom>
                  <a:solidFill>
                    <a:srgbClr val="ff42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6674040" y="4786920"/>
                    <a:ext cx="30996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1" h="1717">
                        <a:moveTo>
                          <a:pt x="247" y="0"/>
                        </a:moveTo>
                        <a:lnTo>
                          <a:pt x="205" y="8"/>
                        </a:lnTo>
                        <a:lnTo>
                          <a:pt x="168" y="20"/>
                        </a:lnTo>
                        <a:lnTo>
                          <a:pt x="128" y="85"/>
                        </a:lnTo>
                        <a:lnTo>
                          <a:pt x="94" y="154"/>
                        </a:lnTo>
                        <a:lnTo>
                          <a:pt x="65" y="223"/>
                        </a:lnTo>
                        <a:lnTo>
                          <a:pt x="42" y="297"/>
                        </a:lnTo>
                        <a:lnTo>
                          <a:pt x="23" y="371"/>
                        </a:lnTo>
                        <a:lnTo>
                          <a:pt x="10" y="449"/>
                        </a:lnTo>
                        <a:lnTo>
                          <a:pt x="2" y="527"/>
                        </a:lnTo>
                        <a:lnTo>
                          <a:pt x="0" y="610"/>
                        </a:lnTo>
                        <a:lnTo>
                          <a:pt x="1" y="665"/>
                        </a:lnTo>
                        <a:lnTo>
                          <a:pt x="5" y="722"/>
                        </a:lnTo>
                        <a:lnTo>
                          <a:pt x="10" y="776"/>
                        </a:lnTo>
                        <a:lnTo>
                          <a:pt x="19" y="831"/>
                        </a:lnTo>
                        <a:lnTo>
                          <a:pt x="30" y="883"/>
                        </a:lnTo>
                        <a:lnTo>
                          <a:pt x="44" y="935"/>
                        </a:lnTo>
                        <a:lnTo>
                          <a:pt x="61" y="985"/>
                        </a:lnTo>
                        <a:lnTo>
                          <a:pt x="81" y="1035"/>
                        </a:lnTo>
                        <a:lnTo>
                          <a:pt x="101" y="1082"/>
                        </a:lnTo>
                        <a:lnTo>
                          <a:pt x="125" y="1130"/>
                        </a:lnTo>
                        <a:lnTo>
                          <a:pt x="151" y="1175"/>
                        </a:lnTo>
                        <a:lnTo>
                          <a:pt x="164" y="1198"/>
                        </a:lnTo>
                        <a:lnTo>
                          <a:pt x="180" y="1222"/>
                        </a:lnTo>
                        <a:lnTo>
                          <a:pt x="211" y="1265"/>
                        </a:lnTo>
                        <a:lnTo>
                          <a:pt x="246" y="1309"/>
                        </a:lnTo>
                        <a:lnTo>
                          <a:pt x="284" y="1351"/>
                        </a:lnTo>
                        <a:lnTo>
                          <a:pt x="323" y="1393"/>
                        </a:lnTo>
                        <a:lnTo>
                          <a:pt x="363" y="1430"/>
                        </a:lnTo>
                        <a:lnTo>
                          <a:pt x="405" y="1468"/>
                        </a:lnTo>
                        <a:lnTo>
                          <a:pt x="448" y="1501"/>
                        </a:lnTo>
                        <a:lnTo>
                          <a:pt x="493" y="1534"/>
                        </a:lnTo>
                        <a:lnTo>
                          <a:pt x="538" y="1562"/>
                        </a:lnTo>
                        <a:lnTo>
                          <a:pt x="584" y="1589"/>
                        </a:lnTo>
                        <a:lnTo>
                          <a:pt x="632" y="1613"/>
                        </a:lnTo>
                        <a:lnTo>
                          <a:pt x="682" y="1636"/>
                        </a:lnTo>
                        <a:lnTo>
                          <a:pt x="730" y="1654"/>
                        </a:lnTo>
                        <a:lnTo>
                          <a:pt x="781" y="1671"/>
                        </a:lnTo>
                        <a:lnTo>
                          <a:pt x="832" y="1684"/>
                        </a:lnTo>
                        <a:lnTo>
                          <a:pt x="886" y="1697"/>
                        </a:lnTo>
                        <a:lnTo>
                          <a:pt x="939" y="1705"/>
                        </a:lnTo>
                        <a:lnTo>
                          <a:pt x="995" y="1711"/>
                        </a:lnTo>
                        <a:lnTo>
                          <a:pt x="1050" y="1715"/>
                        </a:lnTo>
                        <a:lnTo>
                          <a:pt x="1108" y="1717"/>
                        </a:lnTo>
                        <a:lnTo>
                          <a:pt x="1166" y="1717"/>
                        </a:lnTo>
                        <a:lnTo>
                          <a:pt x="1174" y="1709"/>
                        </a:lnTo>
                        <a:lnTo>
                          <a:pt x="1221" y="1657"/>
                        </a:lnTo>
                        <a:lnTo>
                          <a:pt x="1165" y="1660"/>
                        </a:lnTo>
                        <a:lnTo>
                          <a:pt x="1108" y="1663"/>
                        </a:lnTo>
                        <a:lnTo>
                          <a:pt x="1052" y="1660"/>
                        </a:lnTo>
                        <a:lnTo>
                          <a:pt x="999" y="1657"/>
                        </a:lnTo>
                        <a:lnTo>
                          <a:pt x="947" y="1650"/>
                        </a:lnTo>
                        <a:lnTo>
                          <a:pt x="897" y="1642"/>
                        </a:lnTo>
                        <a:lnTo>
                          <a:pt x="846" y="1630"/>
                        </a:lnTo>
                        <a:lnTo>
                          <a:pt x="797" y="1617"/>
                        </a:lnTo>
                        <a:lnTo>
                          <a:pt x="750" y="1602"/>
                        </a:lnTo>
                        <a:lnTo>
                          <a:pt x="703" y="1585"/>
                        </a:lnTo>
                        <a:lnTo>
                          <a:pt x="657" y="1563"/>
                        </a:lnTo>
                        <a:lnTo>
                          <a:pt x="611" y="1540"/>
                        </a:lnTo>
                        <a:lnTo>
                          <a:pt x="567" y="1514"/>
                        </a:lnTo>
                        <a:lnTo>
                          <a:pt x="525" y="1488"/>
                        </a:lnTo>
                        <a:lnTo>
                          <a:pt x="482" y="1458"/>
                        </a:lnTo>
                        <a:lnTo>
                          <a:pt x="441" y="1425"/>
                        </a:lnTo>
                        <a:lnTo>
                          <a:pt x="401" y="1390"/>
                        </a:lnTo>
                        <a:lnTo>
                          <a:pt x="364" y="1353"/>
                        </a:lnTo>
                        <a:lnTo>
                          <a:pt x="344" y="1333"/>
                        </a:lnTo>
                        <a:lnTo>
                          <a:pt x="325" y="1314"/>
                        </a:lnTo>
                        <a:lnTo>
                          <a:pt x="290" y="1274"/>
                        </a:lnTo>
                        <a:lnTo>
                          <a:pt x="257" y="1232"/>
                        </a:lnTo>
                        <a:lnTo>
                          <a:pt x="227" y="1191"/>
                        </a:lnTo>
                        <a:lnTo>
                          <a:pt x="198" y="1147"/>
                        </a:lnTo>
                        <a:lnTo>
                          <a:pt x="174" y="1104"/>
                        </a:lnTo>
                        <a:lnTo>
                          <a:pt x="150" y="1059"/>
                        </a:lnTo>
                        <a:lnTo>
                          <a:pt x="130" y="1013"/>
                        </a:lnTo>
                        <a:lnTo>
                          <a:pt x="111" y="966"/>
                        </a:lnTo>
                        <a:lnTo>
                          <a:pt x="96" y="918"/>
                        </a:lnTo>
                        <a:lnTo>
                          <a:pt x="83" y="868"/>
                        </a:lnTo>
                        <a:lnTo>
                          <a:pt x="73" y="819"/>
                        </a:lnTo>
                        <a:lnTo>
                          <a:pt x="64" y="767"/>
                        </a:lnTo>
                        <a:lnTo>
                          <a:pt x="58" y="716"/>
                        </a:lnTo>
                        <a:lnTo>
                          <a:pt x="54" y="663"/>
                        </a:lnTo>
                        <a:lnTo>
                          <a:pt x="53" y="610"/>
                        </a:lnTo>
                        <a:lnTo>
                          <a:pt x="56" y="525"/>
                        </a:lnTo>
                        <a:lnTo>
                          <a:pt x="65" y="442"/>
                        </a:lnTo>
                        <a:lnTo>
                          <a:pt x="79" y="362"/>
                        </a:lnTo>
                        <a:lnTo>
                          <a:pt x="88" y="322"/>
                        </a:lnTo>
                        <a:lnTo>
                          <a:pt x="101" y="284"/>
                        </a:lnTo>
                        <a:lnTo>
                          <a:pt x="127" y="209"/>
                        </a:lnTo>
                        <a:lnTo>
                          <a:pt x="161" y="137"/>
                        </a:lnTo>
                        <a:lnTo>
                          <a:pt x="179" y="101"/>
                        </a:lnTo>
                        <a:lnTo>
                          <a:pt x="201" y="67"/>
                        </a:lnTo>
                        <a:lnTo>
                          <a:pt x="247" y="0"/>
                        </a:lnTo>
                        <a:close/>
                      </a:path>
                    </a:pathLst>
                  </a:custGeom>
                  <a:solidFill>
                    <a:srgbClr val="ff3d1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617160" y="4820400"/>
                    <a:ext cx="300240" cy="45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1791">
                        <a:moveTo>
                          <a:pt x="146" y="0"/>
                        </a:moveTo>
                        <a:lnTo>
                          <a:pt x="104" y="26"/>
                        </a:lnTo>
                        <a:lnTo>
                          <a:pt x="66" y="56"/>
                        </a:lnTo>
                        <a:lnTo>
                          <a:pt x="49" y="105"/>
                        </a:lnTo>
                        <a:lnTo>
                          <a:pt x="36" y="156"/>
                        </a:lnTo>
                        <a:lnTo>
                          <a:pt x="24" y="207"/>
                        </a:lnTo>
                        <a:lnTo>
                          <a:pt x="16" y="260"/>
                        </a:lnTo>
                        <a:lnTo>
                          <a:pt x="3" y="368"/>
                        </a:lnTo>
                        <a:lnTo>
                          <a:pt x="0" y="480"/>
                        </a:lnTo>
                        <a:lnTo>
                          <a:pt x="1" y="547"/>
                        </a:lnTo>
                        <a:lnTo>
                          <a:pt x="2" y="580"/>
                        </a:lnTo>
                        <a:lnTo>
                          <a:pt x="5" y="614"/>
                        </a:lnTo>
                        <a:lnTo>
                          <a:pt x="12" y="679"/>
                        </a:lnTo>
                        <a:lnTo>
                          <a:pt x="17" y="711"/>
                        </a:lnTo>
                        <a:lnTo>
                          <a:pt x="24" y="744"/>
                        </a:lnTo>
                        <a:lnTo>
                          <a:pt x="29" y="774"/>
                        </a:lnTo>
                        <a:lnTo>
                          <a:pt x="37" y="806"/>
                        </a:lnTo>
                        <a:lnTo>
                          <a:pt x="54" y="869"/>
                        </a:lnTo>
                        <a:lnTo>
                          <a:pt x="73" y="929"/>
                        </a:lnTo>
                        <a:lnTo>
                          <a:pt x="97" y="989"/>
                        </a:lnTo>
                        <a:lnTo>
                          <a:pt x="109" y="1017"/>
                        </a:lnTo>
                        <a:lnTo>
                          <a:pt x="122" y="1046"/>
                        </a:lnTo>
                        <a:lnTo>
                          <a:pt x="152" y="1103"/>
                        </a:lnTo>
                        <a:lnTo>
                          <a:pt x="166" y="1130"/>
                        </a:lnTo>
                        <a:lnTo>
                          <a:pt x="183" y="1159"/>
                        </a:lnTo>
                        <a:lnTo>
                          <a:pt x="219" y="1214"/>
                        </a:lnTo>
                        <a:lnTo>
                          <a:pt x="256" y="1266"/>
                        </a:lnTo>
                        <a:lnTo>
                          <a:pt x="298" y="1319"/>
                        </a:lnTo>
                        <a:lnTo>
                          <a:pt x="342" y="1370"/>
                        </a:lnTo>
                        <a:lnTo>
                          <a:pt x="390" y="1419"/>
                        </a:lnTo>
                        <a:lnTo>
                          <a:pt x="427" y="1456"/>
                        </a:lnTo>
                        <a:lnTo>
                          <a:pt x="467" y="1491"/>
                        </a:lnTo>
                        <a:lnTo>
                          <a:pt x="507" y="1524"/>
                        </a:lnTo>
                        <a:lnTo>
                          <a:pt x="547" y="1557"/>
                        </a:lnTo>
                        <a:lnTo>
                          <a:pt x="588" y="1585"/>
                        </a:lnTo>
                        <a:lnTo>
                          <a:pt x="630" y="1613"/>
                        </a:lnTo>
                        <a:lnTo>
                          <a:pt x="673" y="1639"/>
                        </a:lnTo>
                        <a:lnTo>
                          <a:pt x="718" y="1664"/>
                        </a:lnTo>
                        <a:lnTo>
                          <a:pt x="761" y="1686"/>
                        </a:lnTo>
                        <a:lnTo>
                          <a:pt x="806" y="1706"/>
                        </a:lnTo>
                        <a:lnTo>
                          <a:pt x="851" y="1725"/>
                        </a:lnTo>
                        <a:lnTo>
                          <a:pt x="899" y="1742"/>
                        </a:lnTo>
                        <a:lnTo>
                          <a:pt x="946" y="1757"/>
                        </a:lnTo>
                        <a:lnTo>
                          <a:pt x="994" y="1770"/>
                        </a:lnTo>
                        <a:lnTo>
                          <a:pt x="1043" y="1781"/>
                        </a:lnTo>
                        <a:lnTo>
                          <a:pt x="1094" y="1791"/>
                        </a:lnTo>
                        <a:lnTo>
                          <a:pt x="1137" y="1769"/>
                        </a:lnTo>
                        <a:lnTo>
                          <a:pt x="1180" y="1745"/>
                        </a:lnTo>
                        <a:lnTo>
                          <a:pt x="1126" y="1737"/>
                        </a:lnTo>
                        <a:lnTo>
                          <a:pt x="1073" y="1729"/>
                        </a:lnTo>
                        <a:lnTo>
                          <a:pt x="1020" y="1716"/>
                        </a:lnTo>
                        <a:lnTo>
                          <a:pt x="970" y="1704"/>
                        </a:lnTo>
                        <a:lnTo>
                          <a:pt x="919" y="1688"/>
                        </a:lnTo>
                        <a:lnTo>
                          <a:pt x="871" y="1671"/>
                        </a:lnTo>
                        <a:lnTo>
                          <a:pt x="822" y="1652"/>
                        </a:lnTo>
                        <a:lnTo>
                          <a:pt x="775" y="1630"/>
                        </a:lnTo>
                        <a:lnTo>
                          <a:pt x="728" y="1606"/>
                        </a:lnTo>
                        <a:lnTo>
                          <a:pt x="682" y="1580"/>
                        </a:lnTo>
                        <a:lnTo>
                          <a:pt x="637" y="1552"/>
                        </a:lnTo>
                        <a:lnTo>
                          <a:pt x="594" y="1523"/>
                        </a:lnTo>
                        <a:lnTo>
                          <a:pt x="550" y="1490"/>
                        </a:lnTo>
                        <a:lnTo>
                          <a:pt x="508" y="1456"/>
                        </a:lnTo>
                        <a:lnTo>
                          <a:pt x="467" y="1418"/>
                        </a:lnTo>
                        <a:lnTo>
                          <a:pt x="427" y="1381"/>
                        </a:lnTo>
                        <a:lnTo>
                          <a:pt x="403" y="1356"/>
                        </a:lnTo>
                        <a:lnTo>
                          <a:pt x="382" y="1332"/>
                        </a:lnTo>
                        <a:lnTo>
                          <a:pt x="340" y="1283"/>
                        </a:lnTo>
                        <a:lnTo>
                          <a:pt x="300" y="1234"/>
                        </a:lnTo>
                        <a:lnTo>
                          <a:pt x="264" y="1184"/>
                        </a:lnTo>
                        <a:lnTo>
                          <a:pt x="246" y="1156"/>
                        </a:lnTo>
                        <a:lnTo>
                          <a:pt x="230" y="1130"/>
                        </a:lnTo>
                        <a:lnTo>
                          <a:pt x="199" y="1077"/>
                        </a:lnTo>
                        <a:lnTo>
                          <a:pt x="172" y="1023"/>
                        </a:lnTo>
                        <a:lnTo>
                          <a:pt x="148" y="968"/>
                        </a:lnTo>
                        <a:lnTo>
                          <a:pt x="136" y="939"/>
                        </a:lnTo>
                        <a:lnTo>
                          <a:pt x="126" y="910"/>
                        </a:lnTo>
                        <a:lnTo>
                          <a:pt x="106" y="853"/>
                        </a:lnTo>
                        <a:lnTo>
                          <a:pt x="90" y="794"/>
                        </a:lnTo>
                        <a:lnTo>
                          <a:pt x="78" y="734"/>
                        </a:lnTo>
                        <a:lnTo>
                          <a:pt x="68" y="671"/>
                        </a:lnTo>
                        <a:lnTo>
                          <a:pt x="63" y="640"/>
                        </a:lnTo>
                        <a:lnTo>
                          <a:pt x="61" y="609"/>
                        </a:lnTo>
                        <a:lnTo>
                          <a:pt x="58" y="576"/>
                        </a:lnTo>
                        <a:lnTo>
                          <a:pt x="56" y="544"/>
                        </a:lnTo>
                        <a:lnTo>
                          <a:pt x="55" y="480"/>
                        </a:lnTo>
                        <a:lnTo>
                          <a:pt x="56" y="415"/>
                        </a:lnTo>
                        <a:lnTo>
                          <a:pt x="61" y="353"/>
                        </a:lnTo>
                        <a:lnTo>
                          <a:pt x="68" y="290"/>
                        </a:lnTo>
                        <a:lnTo>
                          <a:pt x="78" y="230"/>
                        </a:lnTo>
                        <a:lnTo>
                          <a:pt x="90" y="170"/>
                        </a:lnTo>
                        <a:lnTo>
                          <a:pt x="106" y="113"/>
                        </a:lnTo>
                        <a:lnTo>
                          <a:pt x="125" y="55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ff2a0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6631200" y="4808160"/>
                    <a:ext cx="305280" cy="45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1" h="1791">
                        <a:moveTo>
                          <a:pt x="170" y="0"/>
                        </a:moveTo>
                        <a:lnTo>
                          <a:pt x="128" y="21"/>
                        </a:lnTo>
                        <a:lnTo>
                          <a:pt x="91" y="46"/>
                        </a:lnTo>
                        <a:lnTo>
                          <a:pt x="70" y="101"/>
                        </a:lnTo>
                        <a:lnTo>
                          <a:pt x="51" y="159"/>
                        </a:lnTo>
                        <a:lnTo>
                          <a:pt x="35" y="216"/>
                        </a:lnTo>
                        <a:lnTo>
                          <a:pt x="23" y="276"/>
                        </a:lnTo>
                        <a:lnTo>
                          <a:pt x="13" y="336"/>
                        </a:lnTo>
                        <a:lnTo>
                          <a:pt x="6" y="399"/>
                        </a:lnTo>
                        <a:lnTo>
                          <a:pt x="1" y="461"/>
                        </a:lnTo>
                        <a:lnTo>
                          <a:pt x="0" y="526"/>
                        </a:lnTo>
                        <a:lnTo>
                          <a:pt x="1" y="590"/>
                        </a:lnTo>
                        <a:lnTo>
                          <a:pt x="3" y="622"/>
                        </a:lnTo>
                        <a:lnTo>
                          <a:pt x="6" y="655"/>
                        </a:lnTo>
                        <a:lnTo>
                          <a:pt x="8" y="686"/>
                        </a:lnTo>
                        <a:lnTo>
                          <a:pt x="13" y="717"/>
                        </a:lnTo>
                        <a:lnTo>
                          <a:pt x="23" y="780"/>
                        </a:lnTo>
                        <a:lnTo>
                          <a:pt x="35" y="840"/>
                        </a:lnTo>
                        <a:lnTo>
                          <a:pt x="51" y="899"/>
                        </a:lnTo>
                        <a:lnTo>
                          <a:pt x="71" y="956"/>
                        </a:lnTo>
                        <a:lnTo>
                          <a:pt x="81" y="985"/>
                        </a:lnTo>
                        <a:lnTo>
                          <a:pt x="93" y="1014"/>
                        </a:lnTo>
                        <a:lnTo>
                          <a:pt x="117" y="1069"/>
                        </a:lnTo>
                        <a:lnTo>
                          <a:pt x="144" y="1123"/>
                        </a:lnTo>
                        <a:lnTo>
                          <a:pt x="175" y="1176"/>
                        </a:lnTo>
                        <a:lnTo>
                          <a:pt x="191" y="1202"/>
                        </a:lnTo>
                        <a:lnTo>
                          <a:pt x="209" y="1230"/>
                        </a:lnTo>
                        <a:lnTo>
                          <a:pt x="245" y="1280"/>
                        </a:lnTo>
                        <a:lnTo>
                          <a:pt x="285" y="1329"/>
                        </a:lnTo>
                        <a:lnTo>
                          <a:pt x="327" y="1378"/>
                        </a:lnTo>
                        <a:lnTo>
                          <a:pt x="348" y="1402"/>
                        </a:lnTo>
                        <a:lnTo>
                          <a:pt x="372" y="1427"/>
                        </a:lnTo>
                        <a:lnTo>
                          <a:pt x="412" y="1464"/>
                        </a:lnTo>
                        <a:lnTo>
                          <a:pt x="453" y="1502"/>
                        </a:lnTo>
                        <a:lnTo>
                          <a:pt x="495" y="1536"/>
                        </a:lnTo>
                        <a:lnTo>
                          <a:pt x="539" y="1569"/>
                        </a:lnTo>
                        <a:lnTo>
                          <a:pt x="582" y="1598"/>
                        </a:lnTo>
                        <a:lnTo>
                          <a:pt x="627" y="1626"/>
                        </a:lnTo>
                        <a:lnTo>
                          <a:pt x="673" y="1652"/>
                        </a:lnTo>
                        <a:lnTo>
                          <a:pt x="720" y="1676"/>
                        </a:lnTo>
                        <a:lnTo>
                          <a:pt x="767" y="1698"/>
                        </a:lnTo>
                        <a:lnTo>
                          <a:pt x="816" y="1717"/>
                        </a:lnTo>
                        <a:lnTo>
                          <a:pt x="864" y="1734"/>
                        </a:lnTo>
                        <a:lnTo>
                          <a:pt x="915" y="1750"/>
                        </a:lnTo>
                        <a:lnTo>
                          <a:pt x="965" y="1762"/>
                        </a:lnTo>
                        <a:lnTo>
                          <a:pt x="1018" y="1775"/>
                        </a:lnTo>
                        <a:lnTo>
                          <a:pt x="1071" y="1783"/>
                        </a:lnTo>
                        <a:lnTo>
                          <a:pt x="1125" y="1791"/>
                        </a:lnTo>
                        <a:lnTo>
                          <a:pt x="1163" y="1767"/>
                        </a:lnTo>
                        <a:lnTo>
                          <a:pt x="1201" y="1743"/>
                        </a:lnTo>
                        <a:lnTo>
                          <a:pt x="1143" y="1737"/>
                        </a:lnTo>
                        <a:lnTo>
                          <a:pt x="1088" y="1731"/>
                        </a:lnTo>
                        <a:lnTo>
                          <a:pt x="1033" y="1720"/>
                        </a:lnTo>
                        <a:lnTo>
                          <a:pt x="980" y="1710"/>
                        </a:lnTo>
                        <a:lnTo>
                          <a:pt x="927" y="1696"/>
                        </a:lnTo>
                        <a:lnTo>
                          <a:pt x="875" y="1680"/>
                        </a:lnTo>
                        <a:lnTo>
                          <a:pt x="824" y="1660"/>
                        </a:lnTo>
                        <a:lnTo>
                          <a:pt x="775" y="1641"/>
                        </a:lnTo>
                        <a:lnTo>
                          <a:pt x="725" y="1617"/>
                        </a:lnTo>
                        <a:lnTo>
                          <a:pt x="677" y="1591"/>
                        </a:lnTo>
                        <a:lnTo>
                          <a:pt x="631" y="1563"/>
                        </a:lnTo>
                        <a:lnTo>
                          <a:pt x="585" y="1533"/>
                        </a:lnTo>
                        <a:lnTo>
                          <a:pt x="540" y="1499"/>
                        </a:lnTo>
                        <a:lnTo>
                          <a:pt x="497" y="1464"/>
                        </a:lnTo>
                        <a:lnTo>
                          <a:pt x="454" y="1427"/>
                        </a:lnTo>
                        <a:lnTo>
                          <a:pt x="413" y="1387"/>
                        </a:lnTo>
                        <a:lnTo>
                          <a:pt x="369" y="1341"/>
                        </a:lnTo>
                        <a:lnTo>
                          <a:pt x="347" y="1317"/>
                        </a:lnTo>
                        <a:lnTo>
                          <a:pt x="328" y="1294"/>
                        </a:lnTo>
                        <a:lnTo>
                          <a:pt x="291" y="1247"/>
                        </a:lnTo>
                        <a:lnTo>
                          <a:pt x="255" y="1199"/>
                        </a:lnTo>
                        <a:lnTo>
                          <a:pt x="223" y="1149"/>
                        </a:lnTo>
                        <a:lnTo>
                          <a:pt x="207" y="1123"/>
                        </a:lnTo>
                        <a:lnTo>
                          <a:pt x="193" y="1098"/>
                        </a:lnTo>
                        <a:lnTo>
                          <a:pt x="167" y="1046"/>
                        </a:lnTo>
                        <a:lnTo>
                          <a:pt x="144" y="994"/>
                        </a:lnTo>
                        <a:lnTo>
                          <a:pt x="123" y="938"/>
                        </a:lnTo>
                        <a:lnTo>
                          <a:pt x="113" y="910"/>
                        </a:lnTo>
                        <a:lnTo>
                          <a:pt x="105" y="883"/>
                        </a:lnTo>
                        <a:lnTo>
                          <a:pt x="89" y="826"/>
                        </a:lnTo>
                        <a:lnTo>
                          <a:pt x="76" y="768"/>
                        </a:lnTo>
                        <a:lnTo>
                          <a:pt x="66" y="708"/>
                        </a:lnTo>
                        <a:lnTo>
                          <a:pt x="62" y="678"/>
                        </a:lnTo>
                        <a:lnTo>
                          <a:pt x="59" y="648"/>
                        </a:lnTo>
                        <a:lnTo>
                          <a:pt x="56" y="587"/>
                        </a:lnTo>
                        <a:lnTo>
                          <a:pt x="55" y="526"/>
                        </a:lnTo>
                        <a:lnTo>
                          <a:pt x="56" y="453"/>
                        </a:lnTo>
                        <a:lnTo>
                          <a:pt x="62" y="384"/>
                        </a:lnTo>
                        <a:lnTo>
                          <a:pt x="70" y="316"/>
                        </a:lnTo>
                        <a:lnTo>
                          <a:pt x="83" y="250"/>
                        </a:lnTo>
                        <a:lnTo>
                          <a:pt x="99" y="185"/>
                        </a:lnTo>
                        <a:lnTo>
                          <a:pt x="119" y="121"/>
                        </a:lnTo>
                        <a:lnTo>
                          <a:pt x="142" y="59"/>
                        </a:lnTo>
                        <a:lnTo>
                          <a:pt x="170" y="0"/>
                        </a:lnTo>
                        <a:close/>
                      </a:path>
                    </a:pathLst>
                  </a:custGeom>
                  <a:solidFill>
                    <a:srgbClr val="ff2f0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574680" y="4870440"/>
                    <a:ext cx="268200" cy="42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7" h="1674">
                        <a:moveTo>
                          <a:pt x="83" y="0"/>
                        </a:moveTo>
                        <a:lnTo>
                          <a:pt x="45" y="41"/>
                        </a:lnTo>
                        <a:lnTo>
                          <a:pt x="13" y="88"/>
                        </a:lnTo>
                        <a:lnTo>
                          <a:pt x="6" y="134"/>
                        </a:lnTo>
                        <a:lnTo>
                          <a:pt x="2" y="183"/>
                        </a:lnTo>
                        <a:lnTo>
                          <a:pt x="0" y="282"/>
                        </a:lnTo>
                        <a:lnTo>
                          <a:pt x="1" y="358"/>
                        </a:lnTo>
                        <a:lnTo>
                          <a:pt x="7" y="433"/>
                        </a:lnTo>
                        <a:lnTo>
                          <a:pt x="15" y="506"/>
                        </a:lnTo>
                        <a:lnTo>
                          <a:pt x="27" y="579"/>
                        </a:lnTo>
                        <a:lnTo>
                          <a:pt x="42" y="649"/>
                        </a:lnTo>
                        <a:lnTo>
                          <a:pt x="61" y="719"/>
                        </a:lnTo>
                        <a:lnTo>
                          <a:pt x="83" y="787"/>
                        </a:lnTo>
                        <a:lnTo>
                          <a:pt x="109" y="855"/>
                        </a:lnTo>
                        <a:lnTo>
                          <a:pt x="137" y="920"/>
                        </a:lnTo>
                        <a:lnTo>
                          <a:pt x="170" y="985"/>
                        </a:lnTo>
                        <a:lnTo>
                          <a:pt x="205" y="1047"/>
                        </a:lnTo>
                        <a:lnTo>
                          <a:pt x="246" y="1108"/>
                        </a:lnTo>
                        <a:lnTo>
                          <a:pt x="288" y="1167"/>
                        </a:lnTo>
                        <a:lnTo>
                          <a:pt x="335" y="1226"/>
                        </a:lnTo>
                        <a:lnTo>
                          <a:pt x="385" y="1283"/>
                        </a:lnTo>
                        <a:lnTo>
                          <a:pt x="439" y="1339"/>
                        </a:lnTo>
                        <a:lnTo>
                          <a:pt x="494" y="1393"/>
                        </a:lnTo>
                        <a:lnTo>
                          <a:pt x="553" y="1444"/>
                        </a:lnTo>
                        <a:lnTo>
                          <a:pt x="614" y="1491"/>
                        </a:lnTo>
                        <a:lnTo>
                          <a:pt x="676" y="1535"/>
                        </a:lnTo>
                        <a:lnTo>
                          <a:pt x="738" y="1575"/>
                        </a:lnTo>
                        <a:lnTo>
                          <a:pt x="803" y="1611"/>
                        </a:lnTo>
                        <a:lnTo>
                          <a:pt x="869" y="1644"/>
                        </a:lnTo>
                        <a:lnTo>
                          <a:pt x="937" y="1674"/>
                        </a:lnTo>
                        <a:lnTo>
                          <a:pt x="966" y="1670"/>
                        </a:lnTo>
                        <a:lnTo>
                          <a:pt x="981" y="1668"/>
                        </a:lnTo>
                        <a:lnTo>
                          <a:pt x="997" y="1667"/>
                        </a:lnTo>
                        <a:lnTo>
                          <a:pt x="1026" y="1661"/>
                        </a:lnTo>
                        <a:lnTo>
                          <a:pt x="1057" y="1657"/>
                        </a:lnTo>
                        <a:lnTo>
                          <a:pt x="1016" y="1643"/>
                        </a:lnTo>
                        <a:lnTo>
                          <a:pt x="976" y="1628"/>
                        </a:lnTo>
                        <a:lnTo>
                          <a:pt x="899" y="1597"/>
                        </a:lnTo>
                        <a:lnTo>
                          <a:pt x="823" y="1558"/>
                        </a:lnTo>
                        <a:lnTo>
                          <a:pt x="751" y="1517"/>
                        </a:lnTo>
                        <a:lnTo>
                          <a:pt x="678" y="1470"/>
                        </a:lnTo>
                        <a:lnTo>
                          <a:pt x="609" y="1417"/>
                        </a:lnTo>
                        <a:lnTo>
                          <a:pt x="541" y="1361"/>
                        </a:lnTo>
                        <a:lnTo>
                          <a:pt x="476" y="1300"/>
                        </a:lnTo>
                        <a:lnTo>
                          <a:pt x="424" y="1245"/>
                        </a:lnTo>
                        <a:lnTo>
                          <a:pt x="377" y="1191"/>
                        </a:lnTo>
                        <a:lnTo>
                          <a:pt x="332" y="1134"/>
                        </a:lnTo>
                        <a:lnTo>
                          <a:pt x="292" y="1077"/>
                        </a:lnTo>
                        <a:lnTo>
                          <a:pt x="271" y="1047"/>
                        </a:lnTo>
                        <a:lnTo>
                          <a:pt x="253" y="1017"/>
                        </a:lnTo>
                        <a:lnTo>
                          <a:pt x="235" y="987"/>
                        </a:lnTo>
                        <a:lnTo>
                          <a:pt x="219" y="957"/>
                        </a:lnTo>
                        <a:lnTo>
                          <a:pt x="188" y="896"/>
                        </a:lnTo>
                        <a:lnTo>
                          <a:pt x="174" y="864"/>
                        </a:lnTo>
                        <a:lnTo>
                          <a:pt x="161" y="834"/>
                        </a:lnTo>
                        <a:lnTo>
                          <a:pt x="147" y="801"/>
                        </a:lnTo>
                        <a:lnTo>
                          <a:pt x="136" y="769"/>
                        </a:lnTo>
                        <a:lnTo>
                          <a:pt x="115" y="703"/>
                        </a:lnTo>
                        <a:lnTo>
                          <a:pt x="104" y="669"/>
                        </a:lnTo>
                        <a:lnTo>
                          <a:pt x="96" y="637"/>
                        </a:lnTo>
                        <a:lnTo>
                          <a:pt x="83" y="569"/>
                        </a:lnTo>
                        <a:lnTo>
                          <a:pt x="70" y="498"/>
                        </a:lnTo>
                        <a:lnTo>
                          <a:pt x="62" y="427"/>
                        </a:lnTo>
                        <a:lnTo>
                          <a:pt x="58" y="354"/>
                        </a:lnTo>
                        <a:lnTo>
                          <a:pt x="57" y="282"/>
                        </a:lnTo>
                        <a:lnTo>
                          <a:pt x="58" y="208"/>
                        </a:lnTo>
                        <a:lnTo>
                          <a:pt x="62" y="138"/>
                        </a:lnTo>
                        <a:lnTo>
                          <a:pt x="70" y="68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solidFill>
                    <a:srgbClr val="ff1c0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589080" y="4851360"/>
                    <a:ext cx="280800" cy="43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5" h="1731">
                        <a:moveTo>
                          <a:pt x="26" y="74"/>
                        </a:moveTo>
                        <a:lnTo>
                          <a:pt x="13" y="142"/>
                        </a:lnTo>
                        <a:lnTo>
                          <a:pt x="5" y="212"/>
                        </a:lnTo>
                        <a:lnTo>
                          <a:pt x="1" y="282"/>
                        </a:lnTo>
                        <a:lnTo>
                          <a:pt x="0" y="356"/>
                        </a:lnTo>
                        <a:lnTo>
                          <a:pt x="1" y="428"/>
                        </a:lnTo>
                        <a:lnTo>
                          <a:pt x="5" y="501"/>
                        </a:lnTo>
                        <a:lnTo>
                          <a:pt x="13" y="572"/>
                        </a:lnTo>
                        <a:lnTo>
                          <a:pt x="26" y="643"/>
                        </a:lnTo>
                        <a:lnTo>
                          <a:pt x="39" y="711"/>
                        </a:lnTo>
                        <a:lnTo>
                          <a:pt x="47" y="743"/>
                        </a:lnTo>
                        <a:lnTo>
                          <a:pt x="58" y="777"/>
                        </a:lnTo>
                        <a:lnTo>
                          <a:pt x="79" y="843"/>
                        </a:lnTo>
                        <a:lnTo>
                          <a:pt x="90" y="875"/>
                        </a:lnTo>
                        <a:lnTo>
                          <a:pt x="104" y="908"/>
                        </a:lnTo>
                        <a:lnTo>
                          <a:pt x="117" y="938"/>
                        </a:lnTo>
                        <a:lnTo>
                          <a:pt x="131" y="970"/>
                        </a:lnTo>
                        <a:lnTo>
                          <a:pt x="162" y="1031"/>
                        </a:lnTo>
                        <a:lnTo>
                          <a:pt x="178" y="1061"/>
                        </a:lnTo>
                        <a:lnTo>
                          <a:pt x="196" y="1091"/>
                        </a:lnTo>
                        <a:lnTo>
                          <a:pt x="214" y="1121"/>
                        </a:lnTo>
                        <a:lnTo>
                          <a:pt x="235" y="1151"/>
                        </a:lnTo>
                        <a:lnTo>
                          <a:pt x="275" y="1208"/>
                        </a:lnTo>
                        <a:lnTo>
                          <a:pt x="320" y="1265"/>
                        </a:lnTo>
                        <a:lnTo>
                          <a:pt x="367" y="1319"/>
                        </a:lnTo>
                        <a:lnTo>
                          <a:pt x="419" y="1374"/>
                        </a:lnTo>
                        <a:lnTo>
                          <a:pt x="484" y="1435"/>
                        </a:lnTo>
                        <a:lnTo>
                          <a:pt x="552" y="1491"/>
                        </a:lnTo>
                        <a:lnTo>
                          <a:pt x="621" y="1544"/>
                        </a:lnTo>
                        <a:lnTo>
                          <a:pt x="694" y="1591"/>
                        </a:lnTo>
                        <a:lnTo>
                          <a:pt x="766" y="1632"/>
                        </a:lnTo>
                        <a:lnTo>
                          <a:pt x="842" y="1671"/>
                        </a:lnTo>
                        <a:lnTo>
                          <a:pt x="919" y="1702"/>
                        </a:lnTo>
                        <a:lnTo>
                          <a:pt x="959" y="1717"/>
                        </a:lnTo>
                        <a:lnTo>
                          <a:pt x="1000" y="1731"/>
                        </a:lnTo>
                        <a:lnTo>
                          <a:pt x="1052" y="1718"/>
                        </a:lnTo>
                        <a:lnTo>
                          <a:pt x="1065" y="1714"/>
                        </a:lnTo>
                        <a:lnTo>
                          <a:pt x="1078" y="1710"/>
                        </a:lnTo>
                        <a:lnTo>
                          <a:pt x="1105" y="1703"/>
                        </a:lnTo>
                        <a:lnTo>
                          <a:pt x="1059" y="1691"/>
                        </a:lnTo>
                        <a:lnTo>
                          <a:pt x="1015" y="1679"/>
                        </a:lnTo>
                        <a:lnTo>
                          <a:pt x="970" y="1664"/>
                        </a:lnTo>
                        <a:lnTo>
                          <a:pt x="927" y="1648"/>
                        </a:lnTo>
                        <a:lnTo>
                          <a:pt x="884" y="1630"/>
                        </a:lnTo>
                        <a:lnTo>
                          <a:pt x="842" y="1611"/>
                        </a:lnTo>
                        <a:lnTo>
                          <a:pt x="800" y="1589"/>
                        </a:lnTo>
                        <a:lnTo>
                          <a:pt x="761" y="1567"/>
                        </a:lnTo>
                        <a:lnTo>
                          <a:pt x="680" y="1518"/>
                        </a:lnTo>
                        <a:lnTo>
                          <a:pt x="604" y="1463"/>
                        </a:lnTo>
                        <a:lnTo>
                          <a:pt x="530" y="1402"/>
                        </a:lnTo>
                        <a:lnTo>
                          <a:pt x="494" y="1369"/>
                        </a:lnTo>
                        <a:lnTo>
                          <a:pt x="459" y="1335"/>
                        </a:lnTo>
                        <a:lnTo>
                          <a:pt x="409" y="1283"/>
                        </a:lnTo>
                        <a:lnTo>
                          <a:pt x="363" y="1230"/>
                        </a:lnTo>
                        <a:lnTo>
                          <a:pt x="320" y="1175"/>
                        </a:lnTo>
                        <a:lnTo>
                          <a:pt x="281" y="1121"/>
                        </a:lnTo>
                        <a:lnTo>
                          <a:pt x="244" y="1064"/>
                        </a:lnTo>
                        <a:lnTo>
                          <a:pt x="211" y="1006"/>
                        </a:lnTo>
                        <a:lnTo>
                          <a:pt x="180" y="947"/>
                        </a:lnTo>
                        <a:lnTo>
                          <a:pt x="154" y="887"/>
                        </a:lnTo>
                        <a:lnTo>
                          <a:pt x="140" y="856"/>
                        </a:lnTo>
                        <a:lnTo>
                          <a:pt x="129" y="825"/>
                        </a:lnTo>
                        <a:lnTo>
                          <a:pt x="109" y="762"/>
                        </a:lnTo>
                        <a:lnTo>
                          <a:pt x="92" y="697"/>
                        </a:lnTo>
                        <a:lnTo>
                          <a:pt x="78" y="631"/>
                        </a:lnTo>
                        <a:lnTo>
                          <a:pt x="67" y="563"/>
                        </a:lnTo>
                        <a:lnTo>
                          <a:pt x="59" y="495"/>
                        </a:lnTo>
                        <a:lnTo>
                          <a:pt x="55" y="460"/>
                        </a:lnTo>
                        <a:lnTo>
                          <a:pt x="54" y="426"/>
                        </a:lnTo>
                        <a:lnTo>
                          <a:pt x="53" y="356"/>
                        </a:lnTo>
                        <a:lnTo>
                          <a:pt x="55" y="262"/>
                        </a:lnTo>
                        <a:lnTo>
                          <a:pt x="63" y="172"/>
                        </a:lnTo>
                        <a:lnTo>
                          <a:pt x="77" y="85"/>
                        </a:lnTo>
                        <a:lnTo>
                          <a:pt x="97" y="0"/>
                        </a:lnTo>
                        <a:lnTo>
                          <a:pt x="84" y="11"/>
                        </a:lnTo>
                        <a:lnTo>
                          <a:pt x="73" y="24"/>
                        </a:lnTo>
                        <a:lnTo>
                          <a:pt x="47" y="47"/>
                        </a:lnTo>
                        <a:lnTo>
                          <a:pt x="26" y="74"/>
                        </a:lnTo>
                        <a:close/>
                      </a:path>
                    </a:pathLst>
                  </a:custGeom>
                  <a:solidFill>
                    <a:srgbClr val="ff210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602760" y="4834080"/>
                    <a:ext cx="29268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1" h="1771">
                        <a:moveTo>
                          <a:pt x="44" y="68"/>
                        </a:moveTo>
                        <a:lnTo>
                          <a:pt x="24" y="153"/>
                        </a:lnTo>
                        <a:lnTo>
                          <a:pt x="10" y="240"/>
                        </a:lnTo>
                        <a:lnTo>
                          <a:pt x="2" y="330"/>
                        </a:lnTo>
                        <a:lnTo>
                          <a:pt x="0" y="424"/>
                        </a:lnTo>
                        <a:lnTo>
                          <a:pt x="1" y="494"/>
                        </a:lnTo>
                        <a:lnTo>
                          <a:pt x="2" y="528"/>
                        </a:lnTo>
                        <a:lnTo>
                          <a:pt x="6" y="563"/>
                        </a:lnTo>
                        <a:lnTo>
                          <a:pt x="14" y="631"/>
                        </a:lnTo>
                        <a:lnTo>
                          <a:pt x="25" y="699"/>
                        </a:lnTo>
                        <a:lnTo>
                          <a:pt x="39" y="765"/>
                        </a:lnTo>
                        <a:lnTo>
                          <a:pt x="56" y="830"/>
                        </a:lnTo>
                        <a:lnTo>
                          <a:pt x="76" y="893"/>
                        </a:lnTo>
                        <a:lnTo>
                          <a:pt x="87" y="924"/>
                        </a:lnTo>
                        <a:lnTo>
                          <a:pt x="101" y="955"/>
                        </a:lnTo>
                        <a:lnTo>
                          <a:pt x="127" y="1015"/>
                        </a:lnTo>
                        <a:lnTo>
                          <a:pt x="158" y="1074"/>
                        </a:lnTo>
                        <a:lnTo>
                          <a:pt x="191" y="1132"/>
                        </a:lnTo>
                        <a:lnTo>
                          <a:pt x="228" y="1189"/>
                        </a:lnTo>
                        <a:lnTo>
                          <a:pt x="267" y="1243"/>
                        </a:lnTo>
                        <a:lnTo>
                          <a:pt x="310" y="1298"/>
                        </a:lnTo>
                        <a:lnTo>
                          <a:pt x="356" y="1351"/>
                        </a:lnTo>
                        <a:lnTo>
                          <a:pt x="406" y="1403"/>
                        </a:lnTo>
                        <a:lnTo>
                          <a:pt x="441" y="1437"/>
                        </a:lnTo>
                        <a:lnTo>
                          <a:pt x="477" y="1470"/>
                        </a:lnTo>
                        <a:lnTo>
                          <a:pt x="551" y="1531"/>
                        </a:lnTo>
                        <a:lnTo>
                          <a:pt x="627" y="1586"/>
                        </a:lnTo>
                        <a:lnTo>
                          <a:pt x="708" y="1635"/>
                        </a:lnTo>
                        <a:lnTo>
                          <a:pt x="747" y="1657"/>
                        </a:lnTo>
                        <a:lnTo>
                          <a:pt x="789" y="1679"/>
                        </a:lnTo>
                        <a:lnTo>
                          <a:pt x="831" y="1698"/>
                        </a:lnTo>
                        <a:lnTo>
                          <a:pt x="874" y="1716"/>
                        </a:lnTo>
                        <a:lnTo>
                          <a:pt x="917" y="1732"/>
                        </a:lnTo>
                        <a:lnTo>
                          <a:pt x="962" y="1747"/>
                        </a:lnTo>
                        <a:lnTo>
                          <a:pt x="1006" y="1759"/>
                        </a:lnTo>
                        <a:lnTo>
                          <a:pt x="1052" y="1771"/>
                        </a:lnTo>
                        <a:lnTo>
                          <a:pt x="1076" y="1762"/>
                        </a:lnTo>
                        <a:lnTo>
                          <a:pt x="1101" y="1754"/>
                        </a:lnTo>
                        <a:lnTo>
                          <a:pt x="1151" y="1735"/>
                        </a:lnTo>
                        <a:lnTo>
                          <a:pt x="1100" y="1725"/>
                        </a:lnTo>
                        <a:lnTo>
                          <a:pt x="1051" y="1714"/>
                        </a:lnTo>
                        <a:lnTo>
                          <a:pt x="1003" y="1701"/>
                        </a:lnTo>
                        <a:lnTo>
                          <a:pt x="956" y="1686"/>
                        </a:lnTo>
                        <a:lnTo>
                          <a:pt x="908" y="1669"/>
                        </a:lnTo>
                        <a:lnTo>
                          <a:pt x="863" y="1650"/>
                        </a:lnTo>
                        <a:lnTo>
                          <a:pt x="818" y="1630"/>
                        </a:lnTo>
                        <a:lnTo>
                          <a:pt x="775" y="1608"/>
                        </a:lnTo>
                        <a:lnTo>
                          <a:pt x="730" y="1583"/>
                        </a:lnTo>
                        <a:lnTo>
                          <a:pt x="687" y="1557"/>
                        </a:lnTo>
                        <a:lnTo>
                          <a:pt x="645" y="1529"/>
                        </a:lnTo>
                        <a:lnTo>
                          <a:pt x="604" y="1501"/>
                        </a:lnTo>
                        <a:lnTo>
                          <a:pt x="564" y="1468"/>
                        </a:lnTo>
                        <a:lnTo>
                          <a:pt x="524" y="1435"/>
                        </a:lnTo>
                        <a:lnTo>
                          <a:pt x="484" y="1400"/>
                        </a:lnTo>
                        <a:lnTo>
                          <a:pt x="447" y="1363"/>
                        </a:lnTo>
                        <a:lnTo>
                          <a:pt x="399" y="1314"/>
                        </a:lnTo>
                        <a:lnTo>
                          <a:pt x="355" y="1263"/>
                        </a:lnTo>
                        <a:lnTo>
                          <a:pt x="313" y="1210"/>
                        </a:lnTo>
                        <a:lnTo>
                          <a:pt x="276" y="1158"/>
                        </a:lnTo>
                        <a:lnTo>
                          <a:pt x="240" y="1103"/>
                        </a:lnTo>
                        <a:lnTo>
                          <a:pt x="223" y="1074"/>
                        </a:lnTo>
                        <a:lnTo>
                          <a:pt x="209" y="1047"/>
                        </a:lnTo>
                        <a:lnTo>
                          <a:pt x="179" y="990"/>
                        </a:lnTo>
                        <a:lnTo>
                          <a:pt x="166" y="961"/>
                        </a:lnTo>
                        <a:lnTo>
                          <a:pt x="154" y="933"/>
                        </a:lnTo>
                        <a:lnTo>
                          <a:pt x="130" y="873"/>
                        </a:lnTo>
                        <a:lnTo>
                          <a:pt x="111" y="813"/>
                        </a:lnTo>
                        <a:lnTo>
                          <a:pt x="94" y="750"/>
                        </a:lnTo>
                        <a:lnTo>
                          <a:pt x="86" y="718"/>
                        </a:lnTo>
                        <a:lnTo>
                          <a:pt x="81" y="688"/>
                        </a:lnTo>
                        <a:lnTo>
                          <a:pt x="74" y="655"/>
                        </a:lnTo>
                        <a:lnTo>
                          <a:pt x="69" y="623"/>
                        </a:lnTo>
                        <a:lnTo>
                          <a:pt x="62" y="558"/>
                        </a:lnTo>
                        <a:lnTo>
                          <a:pt x="59" y="524"/>
                        </a:lnTo>
                        <a:lnTo>
                          <a:pt x="58" y="491"/>
                        </a:lnTo>
                        <a:lnTo>
                          <a:pt x="57" y="424"/>
                        </a:lnTo>
                        <a:lnTo>
                          <a:pt x="60" y="312"/>
                        </a:lnTo>
                        <a:lnTo>
                          <a:pt x="73" y="204"/>
                        </a:lnTo>
                        <a:lnTo>
                          <a:pt x="81" y="151"/>
                        </a:lnTo>
                        <a:lnTo>
                          <a:pt x="93" y="100"/>
                        </a:lnTo>
                        <a:lnTo>
                          <a:pt x="106" y="49"/>
                        </a:lnTo>
                        <a:lnTo>
                          <a:pt x="123" y="0"/>
                        </a:lnTo>
                        <a:lnTo>
                          <a:pt x="83" y="33"/>
                        </a:lnTo>
                        <a:lnTo>
                          <a:pt x="44" y="68"/>
                        </a:lnTo>
                        <a:close/>
                      </a:path>
                    </a:pathLst>
                  </a:custGeom>
                  <a:solidFill>
                    <a:srgbClr val="ff250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6644880" y="4799160"/>
                    <a:ext cx="308880" cy="45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1779">
                        <a:moveTo>
                          <a:pt x="115" y="36"/>
                        </a:moveTo>
                        <a:lnTo>
                          <a:pt x="87" y="95"/>
                        </a:lnTo>
                        <a:lnTo>
                          <a:pt x="64" y="157"/>
                        </a:lnTo>
                        <a:lnTo>
                          <a:pt x="44" y="221"/>
                        </a:lnTo>
                        <a:lnTo>
                          <a:pt x="28" y="286"/>
                        </a:lnTo>
                        <a:lnTo>
                          <a:pt x="15" y="352"/>
                        </a:lnTo>
                        <a:lnTo>
                          <a:pt x="7" y="420"/>
                        </a:lnTo>
                        <a:lnTo>
                          <a:pt x="1" y="489"/>
                        </a:lnTo>
                        <a:lnTo>
                          <a:pt x="0" y="562"/>
                        </a:lnTo>
                        <a:lnTo>
                          <a:pt x="1" y="623"/>
                        </a:lnTo>
                        <a:lnTo>
                          <a:pt x="4" y="684"/>
                        </a:lnTo>
                        <a:lnTo>
                          <a:pt x="7" y="714"/>
                        </a:lnTo>
                        <a:lnTo>
                          <a:pt x="11" y="744"/>
                        </a:lnTo>
                        <a:lnTo>
                          <a:pt x="21" y="804"/>
                        </a:lnTo>
                        <a:lnTo>
                          <a:pt x="34" y="862"/>
                        </a:lnTo>
                        <a:lnTo>
                          <a:pt x="50" y="919"/>
                        </a:lnTo>
                        <a:lnTo>
                          <a:pt x="58" y="946"/>
                        </a:lnTo>
                        <a:lnTo>
                          <a:pt x="68" y="974"/>
                        </a:lnTo>
                        <a:lnTo>
                          <a:pt x="89" y="1030"/>
                        </a:lnTo>
                        <a:lnTo>
                          <a:pt x="112" y="1082"/>
                        </a:lnTo>
                        <a:lnTo>
                          <a:pt x="138" y="1134"/>
                        </a:lnTo>
                        <a:lnTo>
                          <a:pt x="152" y="1159"/>
                        </a:lnTo>
                        <a:lnTo>
                          <a:pt x="168" y="1185"/>
                        </a:lnTo>
                        <a:lnTo>
                          <a:pt x="200" y="1235"/>
                        </a:lnTo>
                        <a:lnTo>
                          <a:pt x="236" y="1283"/>
                        </a:lnTo>
                        <a:lnTo>
                          <a:pt x="273" y="1330"/>
                        </a:lnTo>
                        <a:lnTo>
                          <a:pt x="292" y="1353"/>
                        </a:lnTo>
                        <a:lnTo>
                          <a:pt x="314" y="1377"/>
                        </a:lnTo>
                        <a:lnTo>
                          <a:pt x="358" y="1423"/>
                        </a:lnTo>
                        <a:lnTo>
                          <a:pt x="399" y="1463"/>
                        </a:lnTo>
                        <a:lnTo>
                          <a:pt x="442" y="1500"/>
                        </a:lnTo>
                        <a:lnTo>
                          <a:pt x="485" y="1535"/>
                        </a:lnTo>
                        <a:lnTo>
                          <a:pt x="530" y="1569"/>
                        </a:lnTo>
                        <a:lnTo>
                          <a:pt x="576" y="1599"/>
                        </a:lnTo>
                        <a:lnTo>
                          <a:pt x="622" y="1627"/>
                        </a:lnTo>
                        <a:lnTo>
                          <a:pt x="670" y="1653"/>
                        </a:lnTo>
                        <a:lnTo>
                          <a:pt x="720" y="1677"/>
                        </a:lnTo>
                        <a:lnTo>
                          <a:pt x="769" y="1696"/>
                        </a:lnTo>
                        <a:lnTo>
                          <a:pt x="820" y="1716"/>
                        </a:lnTo>
                        <a:lnTo>
                          <a:pt x="872" y="1732"/>
                        </a:lnTo>
                        <a:lnTo>
                          <a:pt x="925" y="1746"/>
                        </a:lnTo>
                        <a:lnTo>
                          <a:pt x="978" y="1756"/>
                        </a:lnTo>
                        <a:lnTo>
                          <a:pt x="1033" y="1767"/>
                        </a:lnTo>
                        <a:lnTo>
                          <a:pt x="1088" y="1773"/>
                        </a:lnTo>
                        <a:lnTo>
                          <a:pt x="1146" y="1779"/>
                        </a:lnTo>
                        <a:lnTo>
                          <a:pt x="1215" y="1726"/>
                        </a:lnTo>
                        <a:lnTo>
                          <a:pt x="1155" y="1722"/>
                        </a:lnTo>
                        <a:lnTo>
                          <a:pt x="1097" y="1719"/>
                        </a:lnTo>
                        <a:lnTo>
                          <a:pt x="1040" y="1711"/>
                        </a:lnTo>
                        <a:lnTo>
                          <a:pt x="984" y="1703"/>
                        </a:lnTo>
                        <a:lnTo>
                          <a:pt x="929" y="1691"/>
                        </a:lnTo>
                        <a:lnTo>
                          <a:pt x="875" y="1676"/>
                        </a:lnTo>
                        <a:lnTo>
                          <a:pt x="822" y="1658"/>
                        </a:lnTo>
                        <a:lnTo>
                          <a:pt x="771" y="1639"/>
                        </a:lnTo>
                        <a:lnTo>
                          <a:pt x="720" y="1615"/>
                        </a:lnTo>
                        <a:lnTo>
                          <a:pt x="670" y="1590"/>
                        </a:lnTo>
                        <a:lnTo>
                          <a:pt x="621" y="1561"/>
                        </a:lnTo>
                        <a:lnTo>
                          <a:pt x="575" y="1532"/>
                        </a:lnTo>
                        <a:lnTo>
                          <a:pt x="528" y="1498"/>
                        </a:lnTo>
                        <a:lnTo>
                          <a:pt x="484" y="1463"/>
                        </a:lnTo>
                        <a:lnTo>
                          <a:pt x="440" y="1423"/>
                        </a:lnTo>
                        <a:lnTo>
                          <a:pt x="398" y="1384"/>
                        </a:lnTo>
                        <a:lnTo>
                          <a:pt x="356" y="1339"/>
                        </a:lnTo>
                        <a:lnTo>
                          <a:pt x="316" y="1295"/>
                        </a:lnTo>
                        <a:lnTo>
                          <a:pt x="280" y="1250"/>
                        </a:lnTo>
                        <a:lnTo>
                          <a:pt x="247" y="1204"/>
                        </a:lnTo>
                        <a:lnTo>
                          <a:pt x="216" y="1156"/>
                        </a:lnTo>
                        <a:lnTo>
                          <a:pt x="188" y="1107"/>
                        </a:lnTo>
                        <a:lnTo>
                          <a:pt x="162" y="1057"/>
                        </a:lnTo>
                        <a:lnTo>
                          <a:pt x="140" y="1007"/>
                        </a:lnTo>
                        <a:lnTo>
                          <a:pt x="119" y="954"/>
                        </a:lnTo>
                        <a:lnTo>
                          <a:pt x="102" y="902"/>
                        </a:lnTo>
                        <a:lnTo>
                          <a:pt x="87" y="847"/>
                        </a:lnTo>
                        <a:lnTo>
                          <a:pt x="76" y="793"/>
                        </a:lnTo>
                        <a:lnTo>
                          <a:pt x="66" y="736"/>
                        </a:lnTo>
                        <a:lnTo>
                          <a:pt x="60" y="680"/>
                        </a:lnTo>
                        <a:lnTo>
                          <a:pt x="56" y="621"/>
                        </a:lnTo>
                        <a:lnTo>
                          <a:pt x="55" y="562"/>
                        </a:lnTo>
                        <a:lnTo>
                          <a:pt x="56" y="484"/>
                        </a:lnTo>
                        <a:lnTo>
                          <a:pt x="63" y="410"/>
                        </a:lnTo>
                        <a:lnTo>
                          <a:pt x="75" y="336"/>
                        </a:lnTo>
                        <a:lnTo>
                          <a:pt x="90" y="266"/>
                        </a:lnTo>
                        <a:lnTo>
                          <a:pt x="109" y="196"/>
                        </a:lnTo>
                        <a:lnTo>
                          <a:pt x="134" y="129"/>
                        </a:lnTo>
                        <a:lnTo>
                          <a:pt x="163" y="62"/>
                        </a:lnTo>
                        <a:lnTo>
                          <a:pt x="197" y="0"/>
                        </a:lnTo>
                        <a:lnTo>
                          <a:pt x="155" y="17"/>
                        </a:lnTo>
                        <a:lnTo>
                          <a:pt x="115" y="36"/>
                        </a:lnTo>
                        <a:close/>
                      </a:path>
                    </a:pathLst>
                  </a:custGeom>
                  <a:solidFill>
                    <a:srgbClr val="ff34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6715440" y="4781880"/>
                    <a:ext cx="30348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4" h="1572">
                        <a:moveTo>
                          <a:pt x="241" y="2"/>
                        </a:moveTo>
                        <a:lnTo>
                          <a:pt x="183" y="69"/>
                        </a:lnTo>
                        <a:lnTo>
                          <a:pt x="157" y="103"/>
                        </a:lnTo>
                        <a:lnTo>
                          <a:pt x="135" y="139"/>
                        </a:lnTo>
                        <a:lnTo>
                          <a:pt x="93" y="213"/>
                        </a:lnTo>
                        <a:lnTo>
                          <a:pt x="74" y="250"/>
                        </a:lnTo>
                        <a:lnTo>
                          <a:pt x="60" y="290"/>
                        </a:lnTo>
                        <a:lnTo>
                          <a:pt x="45" y="328"/>
                        </a:lnTo>
                        <a:lnTo>
                          <a:pt x="32" y="369"/>
                        </a:lnTo>
                        <a:lnTo>
                          <a:pt x="22" y="410"/>
                        </a:lnTo>
                        <a:lnTo>
                          <a:pt x="14" y="453"/>
                        </a:lnTo>
                        <a:lnTo>
                          <a:pt x="6" y="495"/>
                        </a:lnTo>
                        <a:lnTo>
                          <a:pt x="3" y="539"/>
                        </a:lnTo>
                        <a:lnTo>
                          <a:pt x="0" y="583"/>
                        </a:lnTo>
                        <a:lnTo>
                          <a:pt x="0" y="630"/>
                        </a:lnTo>
                        <a:lnTo>
                          <a:pt x="0" y="677"/>
                        </a:lnTo>
                        <a:lnTo>
                          <a:pt x="3" y="725"/>
                        </a:lnTo>
                        <a:lnTo>
                          <a:pt x="9" y="770"/>
                        </a:lnTo>
                        <a:lnTo>
                          <a:pt x="17" y="817"/>
                        </a:lnTo>
                        <a:lnTo>
                          <a:pt x="25" y="861"/>
                        </a:lnTo>
                        <a:lnTo>
                          <a:pt x="37" y="905"/>
                        </a:lnTo>
                        <a:lnTo>
                          <a:pt x="51" y="947"/>
                        </a:lnTo>
                        <a:lnTo>
                          <a:pt x="68" y="990"/>
                        </a:lnTo>
                        <a:lnTo>
                          <a:pt x="85" y="1030"/>
                        </a:lnTo>
                        <a:lnTo>
                          <a:pt x="106" y="1071"/>
                        </a:lnTo>
                        <a:lnTo>
                          <a:pt x="128" y="1109"/>
                        </a:lnTo>
                        <a:lnTo>
                          <a:pt x="154" y="1149"/>
                        </a:lnTo>
                        <a:lnTo>
                          <a:pt x="180" y="1186"/>
                        </a:lnTo>
                        <a:lnTo>
                          <a:pt x="209" y="1224"/>
                        </a:lnTo>
                        <a:lnTo>
                          <a:pt x="240" y="1259"/>
                        </a:lnTo>
                        <a:lnTo>
                          <a:pt x="275" y="1295"/>
                        </a:lnTo>
                        <a:lnTo>
                          <a:pt x="309" y="1328"/>
                        </a:lnTo>
                        <a:lnTo>
                          <a:pt x="345" y="1359"/>
                        </a:lnTo>
                        <a:lnTo>
                          <a:pt x="382" y="1387"/>
                        </a:lnTo>
                        <a:lnTo>
                          <a:pt x="420" y="1415"/>
                        </a:lnTo>
                        <a:lnTo>
                          <a:pt x="458" y="1439"/>
                        </a:lnTo>
                        <a:lnTo>
                          <a:pt x="497" y="1463"/>
                        </a:lnTo>
                        <a:lnTo>
                          <a:pt x="538" y="1483"/>
                        </a:lnTo>
                        <a:lnTo>
                          <a:pt x="580" y="1503"/>
                        </a:lnTo>
                        <a:lnTo>
                          <a:pt x="621" y="1517"/>
                        </a:lnTo>
                        <a:lnTo>
                          <a:pt x="664" y="1532"/>
                        </a:lnTo>
                        <a:lnTo>
                          <a:pt x="708" y="1543"/>
                        </a:lnTo>
                        <a:lnTo>
                          <a:pt x="754" y="1554"/>
                        </a:lnTo>
                        <a:lnTo>
                          <a:pt x="799" y="1561"/>
                        </a:lnTo>
                        <a:lnTo>
                          <a:pt x="846" y="1567"/>
                        </a:lnTo>
                        <a:lnTo>
                          <a:pt x="893" y="1571"/>
                        </a:lnTo>
                        <a:lnTo>
                          <a:pt x="942" y="1572"/>
                        </a:lnTo>
                        <a:lnTo>
                          <a:pt x="944" y="1571"/>
                        </a:lnTo>
                        <a:lnTo>
                          <a:pt x="948" y="1571"/>
                        </a:lnTo>
                        <a:lnTo>
                          <a:pt x="954" y="1571"/>
                        </a:lnTo>
                        <a:lnTo>
                          <a:pt x="968" y="1571"/>
                        </a:lnTo>
                        <a:lnTo>
                          <a:pt x="995" y="1569"/>
                        </a:lnTo>
                        <a:lnTo>
                          <a:pt x="1050" y="1566"/>
                        </a:lnTo>
                        <a:lnTo>
                          <a:pt x="1102" y="1558"/>
                        </a:lnTo>
                        <a:lnTo>
                          <a:pt x="1154" y="1549"/>
                        </a:lnTo>
                        <a:lnTo>
                          <a:pt x="1194" y="1483"/>
                        </a:lnTo>
                        <a:lnTo>
                          <a:pt x="1132" y="1497"/>
                        </a:lnTo>
                        <a:lnTo>
                          <a:pt x="1101" y="1501"/>
                        </a:lnTo>
                        <a:lnTo>
                          <a:pt x="1085" y="1504"/>
                        </a:lnTo>
                        <a:lnTo>
                          <a:pt x="1080" y="1504"/>
                        </a:lnTo>
                        <a:lnTo>
                          <a:pt x="1078" y="1504"/>
                        </a:lnTo>
                        <a:lnTo>
                          <a:pt x="1077" y="1505"/>
                        </a:lnTo>
                        <a:lnTo>
                          <a:pt x="1070" y="1507"/>
                        </a:lnTo>
                        <a:lnTo>
                          <a:pt x="1007" y="1513"/>
                        </a:lnTo>
                        <a:lnTo>
                          <a:pt x="990" y="1513"/>
                        </a:lnTo>
                        <a:lnTo>
                          <a:pt x="974" y="1514"/>
                        </a:lnTo>
                        <a:lnTo>
                          <a:pt x="942" y="1515"/>
                        </a:lnTo>
                        <a:lnTo>
                          <a:pt x="895" y="1514"/>
                        </a:lnTo>
                        <a:lnTo>
                          <a:pt x="850" y="1510"/>
                        </a:lnTo>
                        <a:lnTo>
                          <a:pt x="806" y="1505"/>
                        </a:lnTo>
                        <a:lnTo>
                          <a:pt x="763" y="1498"/>
                        </a:lnTo>
                        <a:lnTo>
                          <a:pt x="720" y="1488"/>
                        </a:lnTo>
                        <a:lnTo>
                          <a:pt x="679" y="1478"/>
                        </a:lnTo>
                        <a:lnTo>
                          <a:pt x="638" y="1465"/>
                        </a:lnTo>
                        <a:lnTo>
                          <a:pt x="599" y="1450"/>
                        </a:lnTo>
                        <a:lnTo>
                          <a:pt x="560" y="1432"/>
                        </a:lnTo>
                        <a:lnTo>
                          <a:pt x="522" y="1413"/>
                        </a:lnTo>
                        <a:lnTo>
                          <a:pt x="485" y="1391"/>
                        </a:lnTo>
                        <a:lnTo>
                          <a:pt x="450" y="1369"/>
                        </a:lnTo>
                        <a:lnTo>
                          <a:pt x="414" y="1343"/>
                        </a:lnTo>
                        <a:lnTo>
                          <a:pt x="379" y="1317"/>
                        </a:lnTo>
                        <a:lnTo>
                          <a:pt x="345" y="1288"/>
                        </a:lnTo>
                        <a:lnTo>
                          <a:pt x="314" y="1258"/>
                        </a:lnTo>
                        <a:lnTo>
                          <a:pt x="281" y="1224"/>
                        </a:lnTo>
                        <a:lnTo>
                          <a:pt x="252" y="1190"/>
                        </a:lnTo>
                        <a:lnTo>
                          <a:pt x="224" y="1155"/>
                        </a:lnTo>
                        <a:lnTo>
                          <a:pt x="200" y="1119"/>
                        </a:lnTo>
                        <a:lnTo>
                          <a:pt x="177" y="1082"/>
                        </a:lnTo>
                        <a:lnTo>
                          <a:pt x="155" y="1046"/>
                        </a:lnTo>
                        <a:lnTo>
                          <a:pt x="136" y="1007"/>
                        </a:lnTo>
                        <a:lnTo>
                          <a:pt x="120" y="970"/>
                        </a:lnTo>
                        <a:lnTo>
                          <a:pt x="103" y="929"/>
                        </a:lnTo>
                        <a:lnTo>
                          <a:pt x="90" y="889"/>
                        </a:lnTo>
                        <a:lnTo>
                          <a:pt x="79" y="847"/>
                        </a:lnTo>
                        <a:lnTo>
                          <a:pt x="71" y="807"/>
                        </a:lnTo>
                        <a:lnTo>
                          <a:pt x="63" y="762"/>
                        </a:lnTo>
                        <a:lnTo>
                          <a:pt x="59" y="719"/>
                        </a:lnTo>
                        <a:lnTo>
                          <a:pt x="55" y="674"/>
                        </a:lnTo>
                        <a:lnTo>
                          <a:pt x="55" y="630"/>
                        </a:lnTo>
                        <a:lnTo>
                          <a:pt x="59" y="538"/>
                        </a:lnTo>
                        <a:lnTo>
                          <a:pt x="71" y="451"/>
                        </a:lnTo>
                        <a:lnTo>
                          <a:pt x="79" y="408"/>
                        </a:lnTo>
                        <a:lnTo>
                          <a:pt x="90" y="367"/>
                        </a:lnTo>
                        <a:lnTo>
                          <a:pt x="103" y="326"/>
                        </a:lnTo>
                        <a:lnTo>
                          <a:pt x="120" y="287"/>
                        </a:lnTo>
                        <a:lnTo>
                          <a:pt x="136" y="248"/>
                        </a:lnTo>
                        <a:lnTo>
                          <a:pt x="155" y="210"/>
                        </a:lnTo>
                        <a:lnTo>
                          <a:pt x="177" y="173"/>
                        </a:lnTo>
                        <a:lnTo>
                          <a:pt x="200" y="138"/>
                        </a:lnTo>
                        <a:lnTo>
                          <a:pt x="224" y="102"/>
                        </a:lnTo>
                        <a:lnTo>
                          <a:pt x="252" y="68"/>
                        </a:lnTo>
                        <a:lnTo>
                          <a:pt x="281" y="34"/>
                        </a:lnTo>
                        <a:lnTo>
                          <a:pt x="314" y="2"/>
                        </a:lnTo>
                        <a:lnTo>
                          <a:pt x="314" y="1"/>
                        </a:lnTo>
                        <a:lnTo>
                          <a:pt x="316" y="0"/>
                        </a:lnTo>
                        <a:lnTo>
                          <a:pt x="292" y="0"/>
                        </a:lnTo>
                        <a:lnTo>
                          <a:pt x="241" y="2"/>
                        </a:lnTo>
                        <a:close/>
                      </a:path>
                    </a:pathLst>
                  </a:custGeom>
                  <a:solidFill>
                    <a:srgbClr val="ff4c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6546240" y="4919400"/>
                    <a:ext cx="23328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1485">
                        <a:moveTo>
                          <a:pt x="58" y="0"/>
                        </a:moveTo>
                        <a:lnTo>
                          <a:pt x="26" y="63"/>
                        </a:lnTo>
                        <a:lnTo>
                          <a:pt x="0" y="129"/>
                        </a:lnTo>
                        <a:lnTo>
                          <a:pt x="0" y="168"/>
                        </a:lnTo>
                        <a:lnTo>
                          <a:pt x="2" y="208"/>
                        </a:lnTo>
                        <a:lnTo>
                          <a:pt x="4" y="246"/>
                        </a:lnTo>
                        <a:lnTo>
                          <a:pt x="9" y="286"/>
                        </a:lnTo>
                        <a:lnTo>
                          <a:pt x="19" y="362"/>
                        </a:lnTo>
                        <a:lnTo>
                          <a:pt x="34" y="438"/>
                        </a:lnTo>
                        <a:lnTo>
                          <a:pt x="51" y="510"/>
                        </a:lnTo>
                        <a:lnTo>
                          <a:pt x="73" y="583"/>
                        </a:lnTo>
                        <a:lnTo>
                          <a:pt x="96" y="653"/>
                        </a:lnTo>
                        <a:lnTo>
                          <a:pt x="125" y="723"/>
                        </a:lnTo>
                        <a:lnTo>
                          <a:pt x="155" y="790"/>
                        </a:lnTo>
                        <a:lnTo>
                          <a:pt x="190" y="857"/>
                        </a:lnTo>
                        <a:lnTo>
                          <a:pt x="228" y="922"/>
                        </a:lnTo>
                        <a:lnTo>
                          <a:pt x="270" y="985"/>
                        </a:lnTo>
                        <a:lnTo>
                          <a:pt x="314" y="1046"/>
                        </a:lnTo>
                        <a:lnTo>
                          <a:pt x="363" y="1108"/>
                        </a:lnTo>
                        <a:lnTo>
                          <a:pt x="415" y="1167"/>
                        </a:lnTo>
                        <a:lnTo>
                          <a:pt x="472" y="1225"/>
                        </a:lnTo>
                        <a:lnTo>
                          <a:pt x="507" y="1261"/>
                        </a:lnTo>
                        <a:lnTo>
                          <a:pt x="544" y="1295"/>
                        </a:lnTo>
                        <a:lnTo>
                          <a:pt x="582" y="1328"/>
                        </a:lnTo>
                        <a:lnTo>
                          <a:pt x="620" y="1359"/>
                        </a:lnTo>
                        <a:lnTo>
                          <a:pt x="698" y="1418"/>
                        </a:lnTo>
                        <a:lnTo>
                          <a:pt x="738" y="1445"/>
                        </a:lnTo>
                        <a:lnTo>
                          <a:pt x="780" y="1471"/>
                        </a:lnTo>
                        <a:lnTo>
                          <a:pt x="847" y="1479"/>
                        </a:lnTo>
                        <a:lnTo>
                          <a:pt x="881" y="1482"/>
                        </a:lnTo>
                        <a:lnTo>
                          <a:pt x="917" y="1485"/>
                        </a:lnTo>
                        <a:lnTo>
                          <a:pt x="862" y="1454"/>
                        </a:lnTo>
                        <a:lnTo>
                          <a:pt x="808" y="1424"/>
                        </a:lnTo>
                        <a:lnTo>
                          <a:pt x="756" y="1390"/>
                        </a:lnTo>
                        <a:lnTo>
                          <a:pt x="705" y="1355"/>
                        </a:lnTo>
                        <a:lnTo>
                          <a:pt x="654" y="1315"/>
                        </a:lnTo>
                        <a:lnTo>
                          <a:pt x="604" y="1275"/>
                        </a:lnTo>
                        <a:lnTo>
                          <a:pt x="556" y="1231"/>
                        </a:lnTo>
                        <a:lnTo>
                          <a:pt x="509" y="1187"/>
                        </a:lnTo>
                        <a:lnTo>
                          <a:pt x="454" y="1128"/>
                        </a:lnTo>
                        <a:lnTo>
                          <a:pt x="403" y="1069"/>
                        </a:lnTo>
                        <a:lnTo>
                          <a:pt x="354" y="1008"/>
                        </a:lnTo>
                        <a:lnTo>
                          <a:pt x="311" y="947"/>
                        </a:lnTo>
                        <a:lnTo>
                          <a:pt x="269" y="883"/>
                        </a:lnTo>
                        <a:lnTo>
                          <a:pt x="249" y="850"/>
                        </a:lnTo>
                        <a:lnTo>
                          <a:pt x="232" y="819"/>
                        </a:lnTo>
                        <a:lnTo>
                          <a:pt x="214" y="785"/>
                        </a:lnTo>
                        <a:lnTo>
                          <a:pt x="198" y="752"/>
                        </a:lnTo>
                        <a:lnTo>
                          <a:pt x="183" y="718"/>
                        </a:lnTo>
                        <a:lnTo>
                          <a:pt x="169" y="685"/>
                        </a:lnTo>
                        <a:lnTo>
                          <a:pt x="142" y="615"/>
                        </a:lnTo>
                        <a:lnTo>
                          <a:pt x="119" y="544"/>
                        </a:lnTo>
                        <a:lnTo>
                          <a:pt x="99" y="472"/>
                        </a:lnTo>
                        <a:lnTo>
                          <a:pt x="84" y="398"/>
                        </a:lnTo>
                        <a:lnTo>
                          <a:pt x="76" y="360"/>
                        </a:lnTo>
                        <a:lnTo>
                          <a:pt x="70" y="322"/>
                        </a:lnTo>
                        <a:lnTo>
                          <a:pt x="62" y="246"/>
                        </a:lnTo>
                        <a:lnTo>
                          <a:pt x="57" y="168"/>
                        </a:lnTo>
                        <a:lnTo>
                          <a:pt x="56" y="90"/>
                        </a:lnTo>
                        <a:lnTo>
                          <a:pt x="56" y="43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ff12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560640" y="4892760"/>
                    <a:ext cx="2520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1589">
                        <a:moveTo>
                          <a:pt x="2" y="104"/>
                        </a:moveTo>
                        <a:lnTo>
                          <a:pt x="0" y="147"/>
                        </a:lnTo>
                        <a:lnTo>
                          <a:pt x="0" y="194"/>
                        </a:lnTo>
                        <a:lnTo>
                          <a:pt x="1" y="272"/>
                        </a:lnTo>
                        <a:lnTo>
                          <a:pt x="6" y="350"/>
                        </a:lnTo>
                        <a:lnTo>
                          <a:pt x="14" y="426"/>
                        </a:lnTo>
                        <a:lnTo>
                          <a:pt x="20" y="464"/>
                        </a:lnTo>
                        <a:lnTo>
                          <a:pt x="28" y="502"/>
                        </a:lnTo>
                        <a:lnTo>
                          <a:pt x="43" y="576"/>
                        </a:lnTo>
                        <a:lnTo>
                          <a:pt x="63" y="648"/>
                        </a:lnTo>
                        <a:lnTo>
                          <a:pt x="86" y="719"/>
                        </a:lnTo>
                        <a:lnTo>
                          <a:pt x="113" y="789"/>
                        </a:lnTo>
                        <a:lnTo>
                          <a:pt x="127" y="822"/>
                        </a:lnTo>
                        <a:lnTo>
                          <a:pt x="142" y="856"/>
                        </a:lnTo>
                        <a:lnTo>
                          <a:pt x="158" y="889"/>
                        </a:lnTo>
                        <a:lnTo>
                          <a:pt x="176" y="923"/>
                        </a:lnTo>
                        <a:lnTo>
                          <a:pt x="193" y="954"/>
                        </a:lnTo>
                        <a:lnTo>
                          <a:pt x="213" y="987"/>
                        </a:lnTo>
                        <a:lnTo>
                          <a:pt x="255" y="1051"/>
                        </a:lnTo>
                        <a:lnTo>
                          <a:pt x="298" y="1112"/>
                        </a:lnTo>
                        <a:lnTo>
                          <a:pt x="347" y="1173"/>
                        </a:lnTo>
                        <a:lnTo>
                          <a:pt x="398" y="1232"/>
                        </a:lnTo>
                        <a:lnTo>
                          <a:pt x="453" y="1291"/>
                        </a:lnTo>
                        <a:lnTo>
                          <a:pt x="500" y="1335"/>
                        </a:lnTo>
                        <a:lnTo>
                          <a:pt x="548" y="1379"/>
                        </a:lnTo>
                        <a:lnTo>
                          <a:pt x="598" y="1419"/>
                        </a:lnTo>
                        <a:lnTo>
                          <a:pt x="649" y="1459"/>
                        </a:lnTo>
                        <a:lnTo>
                          <a:pt x="700" y="1494"/>
                        </a:lnTo>
                        <a:lnTo>
                          <a:pt x="752" y="1528"/>
                        </a:lnTo>
                        <a:lnTo>
                          <a:pt x="806" y="1558"/>
                        </a:lnTo>
                        <a:lnTo>
                          <a:pt x="861" y="1589"/>
                        </a:lnTo>
                        <a:lnTo>
                          <a:pt x="902" y="1589"/>
                        </a:lnTo>
                        <a:lnTo>
                          <a:pt x="907" y="1588"/>
                        </a:lnTo>
                        <a:lnTo>
                          <a:pt x="912" y="1588"/>
                        </a:lnTo>
                        <a:lnTo>
                          <a:pt x="924" y="1588"/>
                        </a:lnTo>
                        <a:lnTo>
                          <a:pt x="946" y="1588"/>
                        </a:lnTo>
                        <a:lnTo>
                          <a:pt x="992" y="1586"/>
                        </a:lnTo>
                        <a:lnTo>
                          <a:pt x="924" y="1556"/>
                        </a:lnTo>
                        <a:lnTo>
                          <a:pt x="858" y="1523"/>
                        </a:lnTo>
                        <a:lnTo>
                          <a:pt x="793" y="1487"/>
                        </a:lnTo>
                        <a:lnTo>
                          <a:pt x="731" y="1447"/>
                        </a:lnTo>
                        <a:lnTo>
                          <a:pt x="669" y="1403"/>
                        </a:lnTo>
                        <a:lnTo>
                          <a:pt x="608" y="1356"/>
                        </a:lnTo>
                        <a:lnTo>
                          <a:pt x="549" y="1305"/>
                        </a:lnTo>
                        <a:lnTo>
                          <a:pt x="494" y="1251"/>
                        </a:lnTo>
                        <a:lnTo>
                          <a:pt x="440" y="1195"/>
                        </a:lnTo>
                        <a:lnTo>
                          <a:pt x="390" y="1138"/>
                        </a:lnTo>
                        <a:lnTo>
                          <a:pt x="343" y="1079"/>
                        </a:lnTo>
                        <a:lnTo>
                          <a:pt x="301" y="1020"/>
                        </a:lnTo>
                        <a:lnTo>
                          <a:pt x="260" y="959"/>
                        </a:lnTo>
                        <a:lnTo>
                          <a:pt x="225" y="897"/>
                        </a:lnTo>
                        <a:lnTo>
                          <a:pt x="192" y="832"/>
                        </a:lnTo>
                        <a:lnTo>
                          <a:pt x="164" y="767"/>
                        </a:lnTo>
                        <a:lnTo>
                          <a:pt x="138" y="699"/>
                        </a:lnTo>
                        <a:lnTo>
                          <a:pt x="116" y="631"/>
                        </a:lnTo>
                        <a:lnTo>
                          <a:pt x="97" y="561"/>
                        </a:lnTo>
                        <a:lnTo>
                          <a:pt x="82" y="491"/>
                        </a:lnTo>
                        <a:lnTo>
                          <a:pt x="70" y="418"/>
                        </a:lnTo>
                        <a:lnTo>
                          <a:pt x="62" y="345"/>
                        </a:lnTo>
                        <a:lnTo>
                          <a:pt x="56" y="270"/>
                        </a:lnTo>
                        <a:lnTo>
                          <a:pt x="55" y="194"/>
                        </a:lnTo>
                        <a:lnTo>
                          <a:pt x="57" y="95"/>
                        </a:lnTo>
                        <a:lnTo>
                          <a:pt x="61" y="46"/>
                        </a:lnTo>
                        <a:lnTo>
                          <a:pt x="68" y="0"/>
                        </a:lnTo>
                        <a:lnTo>
                          <a:pt x="32" y="51"/>
                        </a:lnTo>
                        <a:lnTo>
                          <a:pt x="2" y="104"/>
                        </a:lnTo>
                        <a:close/>
                      </a:path>
                    </a:pathLst>
                  </a:custGeom>
                  <a:solidFill>
                    <a:srgbClr val="ff1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6532200" y="4995000"/>
                    <a:ext cx="173160" cy="288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3" h="1136">
                        <a:moveTo>
                          <a:pt x="0" y="177"/>
                        </a:moveTo>
                        <a:lnTo>
                          <a:pt x="3" y="245"/>
                        </a:lnTo>
                        <a:lnTo>
                          <a:pt x="16" y="297"/>
                        </a:lnTo>
                        <a:lnTo>
                          <a:pt x="33" y="349"/>
                        </a:lnTo>
                        <a:lnTo>
                          <a:pt x="50" y="400"/>
                        </a:lnTo>
                        <a:lnTo>
                          <a:pt x="72" y="452"/>
                        </a:lnTo>
                        <a:lnTo>
                          <a:pt x="93" y="501"/>
                        </a:lnTo>
                        <a:lnTo>
                          <a:pt x="117" y="551"/>
                        </a:lnTo>
                        <a:lnTo>
                          <a:pt x="142" y="600"/>
                        </a:lnTo>
                        <a:lnTo>
                          <a:pt x="170" y="649"/>
                        </a:lnTo>
                        <a:lnTo>
                          <a:pt x="199" y="695"/>
                        </a:lnTo>
                        <a:lnTo>
                          <a:pt x="229" y="741"/>
                        </a:lnTo>
                        <a:lnTo>
                          <a:pt x="261" y="787"/>
                        </a:lnTo>
                        <a:lnTo>
                          <a:pt x="296" y="833"/>
                        </a:lnTo>
                        <a:lnTo>
                          <a:pt x="331" y="876"/>
                        </a:lnTo>
                        <a:lnTo>
                          <a:pt x="370" y="921"/>
                        </a:lnTo>
                        <a:lnTo>
                          <a:pt x="408" y="964"/>
                        </a:lnTo>
                        <a:lnTo>
                          <a:pt x="450" y="1007"/>
                        </a:lnTo>
                        <a:lnTo>
                          <a:pt x="470" y="1025"/>
                        </a:lnTo>
                        <a:lnTo>
                          <a:pt x="490" y="1044"/>
                        </a:lnTo>
                        <a:lnTo>
                          <a:pt x="535" y="1070"/>
                        </a:lnTo>
                        <a:lnTo>
                          <a:pt x="583" y="1095"/>
                        </a:lnTo>
                        <a:lnTo>
                          <a:pt x="632" y="1117"/>
                        </a:lnTo>
                        <a:lnTo>
                          <a:pt x="683" y="1136"/>
                        </a:lnTo>
                        <a:lnTo>
                          <a:pt x="632" y="1096"/>
                        </a:lnTo>
                        <a:lnTo>
                          <a:pt x="583" y="1055"/>
                        </a:lnTo>
                        <a:lnTo>
                          <a:pt x="534" y="1012"/>
                        </a:lnTo>
                        <a:lnTo>
                          <a:pt x="489" y="968"/>
                        </a:lnTo>
                        <a:lnTo>
                          <a:pt x="438" y="915"/>
                        </a:lnTo>
                        <a:lnTo>
                          <a:pt x="413" y="888"/>
                        </a:lnTo>
                        <a:lnTo>
                          <a:pt x="390" y="862"/>
                        </a:lnTo>
                        <a:lnTo>
                          <a:pt x="346" y="807"/>
                        </a:lnTo>
                        <a:lnTo>
                          <a:pt x="304" y="753"/>
                        </a:lnTo>
                        <a:lnTo>
                          <a:pt x="264" y="695"/>
                        </a:lnTo>
                        <a:lnTo>
                          <a:pt x="245" y="666"/>
                        </a:lnTo>
                        <a:lnTo>
                          <a:pt x="228" y="637"/>
                        </a:lnTo>
                        <a:lnTo>
                          <a:pt x="195" y="578"/>
                        </a:lnTo>
                        <a:lnTo>
                          <a:pt x="165" y="519"/>
                        </a:lnTo>
                        <a:lnTo>
                          <a:pt x="136" y="457"/>
                        </a:lnTo>
                        <a:lnTo>
                          <a:pt x="110" y="395"/>
                        </a:lnTo>
                        <a:lnTo>
                          <a:pt x="88" y="331"/>
                        </a:lnTo>
                        <a:lnTo>
                          <a:pt x="68" y="268"/>
                        </a:lnTo>
                        <a:lnTo>
                          <a:pt x="50" y="202"/>
                        </a:lnTo>
                        <a:lnTo>
                          <a:pt x="35" y="136"/>
                        </a:lnTo>
                        <a:lnTo>
                          <a:pt x="23" y="68"/>
                        </a:lnTo>
                        <a:lnTo>
                          <a:pt x="15" y="0"/>
                        </a:lnTo>
                        <a:lnTo>
                          <a:pt x="7" y="42"/>
                        </a:lnTo>
                        <a:lnTo>
                          <a:pt x="4" y="86"/>
                        </a:lnTo>
                        <a:lnTo>
                          <a:pt x="0" y="131"/>
                        </a:lnTo>
                        <a:lnTo>
                          <a:pt x="0" y="177"/>
                        </a:lnTo>
                        <a:close/>
                      </a:path>
                    </a:pathLst>
                  </a:custGeom>
                  <a:solidFill>
                    <a:srgbClr val="ff0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532560" y="5057280"/>
                    <a:ext cx="12384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799">
                        <a:moveTo>
                          <a:pt x="0" y="0"/>
                        </a:moveTo>
                        <a:lnTo>
                          <a:pt x="2" y="45"/>
                        </a:lnTo>
                        <a:lnTo>
                          <a:pt x="7" y="91"/>
                        </a:lnTo>
                        <a:lnTo>
                          <a:pt x="14" y="135"/>
                        </a:lnTo>
                        <a:lnTo>
                          <a:pt x="24" y="179"/>
                        </a:lnTo>
                        <a:lnTo>
                          <a:pt x="35" y="221"/>
                        </a:lnTo>
                        <a:lnTo>
                          <a:pt x="49" y="264"/>
                        </a:lnTo>
                        <a:lnTo>
                          <a:pt x="64" y="306"/>
                        </a:lnTo>
                        <a:lnTo>
                          <a:pt x="83" y="348"/>
                        </a:lnTo>
                        <a:lnTo>
                          <a:pt x="103" y="387"/>
                        </a:lnTo>
                        <a:lnTo>
                          <a:pt x="124" y="426"/>
                        </a:lnTo>
                        <a:lnTo>
                          <a:pt x="147" y="465"/>
                        </a:lnTo>
                        <a:lnTo>
                          <a:pt x="173" y="503"/>
                        </a:lnTo>
                        <a:lnTo>
                          <a:pt x="199" y="540"/>
                        </a:lnTo>
                        <a:lnTo>
                          <a:pt x="230" y="576"/>
                        </a:lnTo>
                        <a:lnTo>
                          <a:pt x="260" y="611"/>
                        </a:lnTo>
                        <a:lnTo>
                          <a:pt x="295" y="647"/>
                        </a:lnTo>
                        <a:lnTo>
                          <a:pt x="340" y="689"/>
                        </a:lnTo>
                        <a:lnTo>
                          <a:pt x="387" y="729"/>
                        </a:lnTo>
                        <a:lnTo>
                          <a:pt x="436" y="765"/>
                        </a:lnTo>
                        <a:lnTo>
                          <a:pt x="487" y="799"/>
                        </a:lnTo>
                        <a:lnTo>
                          <a:pt x="467" y="780"/>
                        </a:lnTo>
                        <a:lnTo>
                          <a:pt x="447" y="762"/>
                        </a:lnTo>
                        <a:lnTo>
                          <a:pt x="405" y="719"/>
                        </a:lnTo>
                        <a:lnTo>
                          <a:pt x="367" y="676"/>
                        </a:lnTo>
                        <a:lnTo>
                          <a:pt x="328" y="631"/>
                        </a:lnTo>
                        <a:lnTo>
                          <a:pt x="293" y="588"/>
                        </a:lnTo>
                        <a:lnTo>
                          <a:pt x="258" y="542"/>
                        </a:lnTo>
                        <a:lnTo>
                          <a:pt x="226" y="496"/>
                        </a:lnTo>
                        <a:lnTo>
                          <a:pt x="196" y="450"/>
                        </a:lnTo>
                        <a:lnTo>
                          <a:pt x="167" y="404"/>
                        </a:lnTo>
                        <a:lnTo>
                          <a:pt x="139" y="355"/>
                        </a:lnTo>
                        <a:lnTo>
                          <a:pt x="114" y="306"/>
                        </a:lnTo>
                        <a:lnTo>
                          <a:pt x="90" y="256"/>
                        </a:lnTo>
                        <a:lnTo>
                          <a:pt x="69" y="207"/>
                        </a:lnTo>
                        <a:lnTo>
                          <a:pt x="47" y="155"/>
                        </a:lnTo>
                        <a:lnTo>
                          <a:pt x="30" y="104"/>
                        </a:lnTo>
                        <a:lnTo>
                          <a:pt x="13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535800" y="4952160"/>
                    <a:ext cx="20916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822" h="1342">
                        <a:moveTo>
                          <a:pt x="42" y="0"/>
                        </a:moveTo>
                        <a:lnTo>
                          <a:pt x="27" y="40"/>
                        </a:lnTo>
                        <a:lnTo>
                          <a:pt x="17" y="82"/>
                        </a:lnTo>
                        <a:lnTo>
                          <a:pt x="7" y="124"/>
                        </a:lnTo>
                        <a:lnTo>
                          <a:pt x="0" y="168"/>
                        </a:lnTo>
                        <a:lnTo>
                          <a:pt x="8" y="236"/>
                        </a:lnTo>
                        <a:lnTo>
                          <a:pt x="20" y="304"/>
                        </a:lnTo>
                        <a:lnTo>
                          <a:pt x="35" y="370"/>
                        </a:lnTo>
                        <a:lnTo>
                          <a:pt x="53" y="436"/>
                        </a:lnTo>
                        <a:lnTo>
                          <a:pt x="73" y="499"/>
                        </a:lnTo>
                        <a:lnTo>
                          <a:pt x="95" y="563"/>
                        </a:lnTo>
                        <a:lnTo>
                          <a:pt x="121" y="625"/>
                        </a:lnTo>
                        <a:lnTo>
                          <a:pt x="150" y="687"/>
                        </a:lnTo>
                        <a:lnTo>
                          <a:pt x="180" y="746"/>
                        </a:lnTo>
                        <a:lnTo>
                          <a:pt x="213" y="805"/>
                        </a:lnTo>
                        <a:lnTo>
                          <a:pt x="230" y="834"/>
                        </a:lnTo>
                        <a:lnTo>
                          <a:pt x="249" y="863"/>
                        </a:lnTo>
                        <a:lnTo>
                          <a:pt x="289" y="921"/>
                        </a:lnTo>
                        <a:lnTo>
                          <a:pt x="331" y="975"/>
                        </a:lnTo>
                        <a:lnTo>
                          <a:pt x="375" y="1030"/>
                        </a:lnTo>
                        <a:lnTo>
                          <a:pt x="398" y="1056"/>
                        </a:lnTo>
                        <a:lnTo>
                          <a:pt x="423" y="1083"/>
                        </a:lnTo>
                        <a:lnTo>
                          <a:pt x="474" y="1136"/>
                        </a:lnTo>
                        <a:lnTo>
                          <a:pt x="519" y="1180"/>
                        </a:lnTo>
                        <a:lnTo>
                          <a:pt x="568" y="1223"/>
                        </a:lnTo>
                        <a:lnTo>
                          <a:pt x="617" y="1264"/>
                        </a:lnTo>
                        <a:lnTo>
                          <a:pt x="668" y="1304"/>
                        </a:lnTo>
                        <a:lnTo>
                          <a:pt x="704" y="1314"/>
                        </a:lnTo>
                        <a:lnTo>
                          <a:pt x="743" y="1324"/>
                        </a:lnTo>
                        <a:lnTo>
                          <a:pt x="781" y="1333"/>
                        </a:lnTo>
                        <a:lnTo>
                          <a:pt x="822" y="1342"/>
                        </a:lnTo>
                        <a:lnTo>
                          <a:pt x="780" y="1316"/>
                        </a:lnTo>
                        <a:lnTo>
                          <a:pt x="740" y="1289"/>
                        </a:lnTo>
                        <a:lnTo>
                          <a:pt x="662" y="1230"/>
                        </a:lnTo>
                        <a:lnTo>
                          <a:pt x="624" y="1199"/>
                        </a:lnTo>
                        <a:lnTo>
                          <a:pt x="586" y="1166"/>
                        </a:lnTo>
                        <a:lnTo>
                          <a:pt x="549" y="1132"/>
                        </a:lnTo>
                        <a:lnTo>
                          <a:pt x="514" y="1096"/>
                        </a:lnTo>
                        <a:lnTo>
                          <a:pt x="457" y="1038"/>
                        </a:lnTo>
                        <a:lnTo>
                          <a:pt x="405" y="979"/>
                        </a:lnTo>
                        <a:lnTo>
                          <a:pt x="356" y="917"/>
                        </a:lnTo>
                        <a:lnTo>
                          <a:pt x="312" y="856"/>
                        </a:lnTo>
                        <a:lnTo>
                          <a:pt x="270" y="793"/>
                        </a:lnTo>
                        <a:lnTo>
                          <a:pt x="232" y="728"/>
                        </a:lnTo>
                        <a:lnTo>
                          <a:pt x="197" y="661"/>
                        </a:lnTo>
                        <a:lnTo>
                          <a:pt x="167" y="594"/>
                        </a:lnTo>
                        <a:lnTo>
                          <a:pt x="138" y="524"/>
                        </a:lnTo>
                        <a:lnTo>
                          <a:pt x="115" y="454"/>
                        </a:lnTo>
                        <a:lnTo>
                          <a:pt x="93" y="381"/>
                        </a:lnTo>
                        <a:lnTo>
                          <a:pt x="76" y="309"/>
                        </a:lnTo>
                        <a:lnTo>
                          <a:pt x="61" y="233"/>
                        </a:lnTo>
                        <a:lnTo>
                          <a:pt x="51" y="157"/>
                        </a:lnTo>
                        <a:lnTo>
                          <a:pt x="46" y="117"/>
                        </a:lnTo>
                        <a:lnTo>
                          <a:pt x="44" y="79"/>
                        </a:lnTo>
                        <a:lnTo>
                          <a:pt x="42" y="39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ff0d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870600" y="4857480"/>
                    <a:ext cx="16668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4" h="664">
                        <a:moveTo>
                          <a:pt x="654" y="420"/>
                        </a:moveTo>
                        <a:lnTo>
                          <a:pt x="643" y="387"/>
                        </a:lnTo>
                        <a:lnTo>
                          <a:pt x="631" y="357"/>
                        </a:lnTo>
                        <a:lnTo>
                          <a:pt x="619" y="326"/>
                        </a:lnTo>
                        <a:lnTo>
                          <a:pt x="608" y="298"/>
                        </a:lnTo>
                        <a:lnTo>
                          <a:pt x="609" y="314"/>
                        </a:lnTo>
                        <a:lnTo>
                          <a:pt x="610" y="332"/>
                        </a:lnTo>
                        <a:lnTo>
                          <a:pt x="608" y="359"/>
                        </a:lnTo>
                        <a:lnTo>
                          <a:pt x="604" y="386"/>
                        </a:lnTo>
                        <a:lnTo>
                          <a:pt x="597" y="411"/>
                        </a:lnTo>
                        <a:lnTo>
                          <a:pt x="593" y="424"/>
                        </a:lnTo>
                        <a:lnTo>
                          <a:pt x="589" y="437"/>
                        </a:lnTo>
                        <a:lnTo>
                          <a:pt x="577" y="460"/>
                        </a:lnTo>
                        <a:lnTo>
                          <a:pt x="570" y="471"/>
                        </a:lnTo>
                        <a:lnTo>
                          <a:pt x="563" y="484"/>
                        </a:lnTo>
                        <a:lnTo>
                          <a:pt x="554" y="494"/>
                        </a:lnTo>
                        <a:lnTo>
                          <a:pt x="546" y="505"/>
                        </a:lnTo>
                        <a:lnTo>
                          <a:pt x="528" y="528"/>
                        </a:lnTo>
                        <a:lnTo>
                          <a:pt x="505" y="546"/>
                        </a:lnTo>
                        <a:lnTo>
                          <a:pt x="494" y="554"/>
                        </a:lnTo>
                        <a:lnTo>
                          <a:pt x="484" y="563"/>
                        </a:lnTo>
                        <a:lnTo>
                          <a:pt x="471" y="570"/>
                        </a:lnTo>
                        <a:lnTo>
                          <a:pt x="460" y="577"/>
                        </a:lnTo>
                        <a:lnTo>
                          <a:pt x="437" y="589"/>
                        </a:lnTo>
                        <a:lnTo>
                          <a:pt x="424" y="592"/>
                        </a:lnTo>
                        <a:lnTo>
                          <a:pt x="411" y="597"/>
                        </a:lnTo>
                        <a:lnTo>
                          <a:pt x="386" y="604"/>
                        </a:lnTo>
                        <a:lnTo>
                          <a:pt x="359" y="607"/>
                        </a:lnTo>
                        <a:lnTo>
                          <a:pt x="332" y="609"/>
                        </a:lnTo>
                        <a:lnTo>
                          <a:pt x="302" y="607"/>
                        </a:lnTo>
                        <a:lnTo>
                          <a:pt x="275" y="604"/>
                        </a:lnTo>
                        <a:lnTo>
                          <a:pt x="249" y="597"/>
                        </a:lnTo>
                        <a:lnTo>
                          <a:pt x="225" y="589"/>
                        </a:lnTo>
                        <a:lnTo>
                          <a:pt x="200" y="577"/>
                        </a:lnTo>
                        <a:lnTo>
                          <a:pt x="178" y="563"/>
                        </a:lnTo>
                        <a:lnTo>
                          <a:pt x="156" y="546"/>
                        </a:lnTo>
                        <a:lnTo>
                          <a:pt x="136" y="528"/>
                        </a:lnTo>
                        <a:lnTo>
                          <a:pt x="116" y="505"/>
                        </a:lnTo>
                        <a:lnTo>
                          <a:pt x="99" y="484"/>
                        </a:lnTo>
                        <a:lnTo>
                          <a:pt x="85" y="460"/>
                        </a:lnTo>
                        <a:lnTo>
                          <a:pt x="75" y="437"/>
                        </a:lnTo>
                        <a:lnTo>
                          <a:pt x="64" y="411"/>
                        </a:lnTo>
                        <a:lnTo>
                          <a:pt x="59" y="386"/>
                        </a:lnTo>
                        <a:lnTo>
                          <a:pt x="55" y="359"/>
                        </a:lnTo>
                        <a:lnTo>
                          <a:pt x="54" y="332"/>
                        </a:lnTo>
                        <a:lnTo>
                          <a:pt x="55" y="302"/>
                        </a:lnTo>
                        <a:lnTo>
                          <a:pt x="59" y="275"/>
                        </a:lnTo>
                        <a:lnTo>
                          <a:pt x="64" y="249"/>
                        </a:lnTo>
                        <a:lnTo>
                          <a:pt x="75" y="225"/>
                        </a:lnTo>
                        <a:lnTo>
                          <a:pt x="85" y="200"/>
                        </a:lnTo>
                        <a:lnTo>
                          <a:pt x="99" y="178"/>
                        </a:lnTo>
                        <a:lnTo>
                          <a:pt x="116" y="156"/>
                        </a:lnTo>
                        <a:lnTo>
                          <a:pt x="136" y="136"/>
                        </a:lnTo>
                        <a:lnTo>
                          <a:pt x="156" y="116"/>
                        </a:lnTo>
                        <a:lnTo>
                          <a:pt x="178" y="99"/>
                        </a:lnTo>
                        <a:lnTo>
                          <a:pt x="200" y="85"/>
                        </a:lnTo>
                        <a:lnTo>
                          <a:pt x="225" y="74"/>
                        </a:lnTo>
                        <a:lnTo>
                          <a:pt x="249" y="64"/>
                        </a:lnTo>
                        <a:lnTo>
                          <a:pt x="275" y="59"/>
                        </a:lnTo>
                        <a:lnTo>
                          <a:pt x="302" y="55"/>
                        </a:lnTo>
                        <a:lnTo>
                          <a:pt x="332" y="54"/>
                        </a:lnTo>
                        <a:lnTo>
                          <a:pt x="352" y="54"/>
                        </a:lnTo>
                        <a:lnTo>
                          <a:pt x="374" y="56"/>
                        </a:lnTo>
                        <a:lnTo>
                          <a:pt x="394" y="60"/>
                        </a:lnTo>
                        <a:lnTo>
                          <a:pt x="416" y="67"/>
                        </a:lnTo>
                        <a:lnTo>
                          <a:pt x="435" y="73"/>
                        </a:lnTo>
                        <a:lnTo>
                          <a:pt x="454" y="82"/>
                        </a:lnTo>
                        <a:lnTo>
                          <a:pt x="473" y="93"/>
                        </a:lnTo>
                        <a:lnTo>
                          <a:pt x="492" y="106"/>
                        </a:lnTo>
                        <a:lnTo>
                          <a:pt x="450" y="55"/>
                        </a:lnTo>
                        <a:lnTo>
                          <a:pt x="428" y="30"/>
                        </a:lnTo>
                        <a:lnTo>
                          <a:pt x="408" y="8"/>
                        </a:lnTo>
                        <a:lnTo>
                          <a:pt x="369" y="1"/>
                        </a:lnTo>
                        <a:lnTo>
                          <a:pt x="332" y="0"/>
                        </a:lnTo>
                        <a:lnTo>
                          <a:pt x="297" y="1"/>
                        </a:lnTo>
                        <a:lnTo>
                          <a:pt x="265" y="5"/>
                        </a:lnTo>
                        <a:lnTo>
                          <a:pt x="233" y="12"/>
                        </a:lnTo>
                        <a:lnTo>
                          <a:pt x="204" y="23"/>
                        </a:lnTo>
                        <a:lnTo>
                          <a:pt x="174" y="36"/>
                        </a:lnTo>
                        <a:lnTo>
                          <a:pt x="147" y="53"/>
                        </a:lnTo>
                        <a:lnTo>
                          <a:pt x="120" y="72"/>
                        </a:lnTo>
                        <a:lnTo>
                          <a:pt x="96" y="96"/>
                        </a:lnTo>
                        <a:lnTo>
                          <a:pt x="72" y="120"/>
                        </a:lnTo>
                        <a:lnTo>
                          <a:pt x="53" y="147"/>
                        </a:lnTo>
                        <a:lnTo>
                          <a:pt x="36" y="174"/>
                        </a:lnTo>
                        <a:lnTo>
                          <a:pt x="24" y="204"/>
                        </a:lnTo>
                        <a:lnTo>
                          <a:pt x="12" y="233"/>
                        </a:lnTo>
                        <a:lnTo>
                          <a:pt x="5" y="265"/>
                        </a:lnTo>
                        <a:lnTo>
                          <a:pt x="1" y="297"/>
                        </a:lnTo>
                        <a:lnTo>
                          <a:pt x="0" y="332"/>
                        </a:lnTo>
                        <a:lnTo>
                          <a:pt x="1" y="365"/>
                        </a:lnTo>
                        <a:lnTo>
                          <a:pt x="2" y="381"/>
                        </a:lnTo>
                        <a:lnTo>
                          <a:pt x="5" y="398"/>
                        </a:lnTo>
                        <a:lnTo>
                          <a:pt x="12" y="429"/>
                        </a:lnTo>
                        <a:lnTo>
                          <a:pt x="17" y="444"/>
                        </a:lnTo>
                        <a:lnTo>
                          <a:pt x="24" y="460"/>
                        </a:lnTo>
                        <a:lnTo>
                          <a:pt x="36" y="488"/>
                        </a:lnTo>
                        <a:lnTo>
                          <a:pt x="53" y="515"/>
                        </a:lnTo>
                        <a:lnTo>
                          <a:pt x="72" y="541"/>
                        </a:lnTo>
                        <a:lnTo>
                          <a:pt x="96" y="568"/>
                        </a:lnTo>
                        <a:lnTo>
                          <a:pt x="120" y="589"/>
                        </a:lnTo>
                        <a:lnTo>
                          <a:pt x="147" y="608"/>
                        </a:lnTo>
                        <a:lnTo>
                          <a:pt x="174" y="624"/>
                        </a:lnTo>
                        <a:lnTo>
                          <a:pt x="204" y="639"/>
                        </a:lnTo>
                        <a:lnTo>
                          <a:pt x="233" y="649"/>
                        </a:lnTo>
                        <a:lnTo>
                          <a:pt x="265" y="657"/>
                        </a:lnTo>
                        <a:lnTo>
                          <a:pt x="297" y="662"/>
                        </a:lnTo>
                        <a:lnTo>
                          <a:pt x="332" y="664"/>
                        </a:lnTo>
                        <a:lnTo>
                          <a:pt x="348" y="663"/>
                        </a:lnTo>
                        <a:lnTo>
                          <a:pt x="349" y="662"/>
                        </a:lnTo>
                        <a:lnTo>
                          <a:pt x="351" y="662"/>
                        </a:lnTo>
                        <a:lnTo>
                          <a:pt x="356" y="662"/>
                        </a:lnTo>
                        <a:lnTo>
                          <a:pt x="365" y="662"/>
                        </a:lnTo>
                        <a:lnTo>
                          <a:pt x="381" y="659"/>
                        </a:lnTo>
                        <a:lnTo>
                          <a:pt x="398" y="657"/>
                        </a:lnTo>
                        <a:lnTo>
                          <a:pt x="429" y="649"/>
                        </a:lnTo>
                        <a:lnTo>
                          <a:pt x="436" y="646"/>
                        </a:lnTo>
                        <a:lnTo>
                          <a:pt x="444" y="643"/>
                        </a:lnTo>
                        <a:lnTo>
                          <a:pt x="460" y="639"/>
                        </a:lnTo>
                        <a:lnTo>
                          <a:pt x="474" y="631"/>
                        </a:lnTo>
                        <a:lnTo>
                          <a:pt x="488" y="624"/>
                        </a:lnTo>
                        <a:lnTo>
                          <a:pt x="516" y="608"/>
                        </a:lnTo>
                        <a:lnTo>
                          <a:pt x="518" y="605"/>
                        </a:lnTo>
                        <a:lnTo>
                          <a:pt x="521" y="603"/>
                        </a:lnTo>
                        <a:lnTo>
                          <a:pt x="528" y="598"/>
                        </a:lnTo>
                        <a:lnTo>
                          <a:pt x="542" y="589"/>
                        </a:lnTo>
                        <a:lnTo>
                          <a:pt x="554" y="578"/>
                        </a:lnTo>
                        <a:lnTo>
                          <a:pt x="568" y="568"/>
                        </a:lnTo>
                        <a:lnTo>
                          <a:pt x="583" y="549"/>
                        </a:lnTo>
                        <a:lnTo>
                          <a:pt x="596" y="532"/>
                        </a:lnTo>
                        <a:lnTo>
                          <a:pt x="609" y="514"/>
                        </a:lnTo>
                        <a:lnTo>
                          <a:pt x="614" y="505"/>
                        </a:lnTo>
                        <a:lnTo>
                          <a:pt x="621" y="497"/>
                        </a:lnTo>
                        <a:lnTo>
                          <a:pt x="630" y="478"/>
                        </a:lnTo>
                        <a:lnTo>
                          <a:pt x="639" y="460"/>
                        </a:lnTo>
                        <a:lnTo>
                          <a:pt x="647" y="439"/>
                        </a:lnTo>
                        <a:lnTo>
                          <a:pt x="654" y="420"/>
                        </a:lnTo>
                        <a:close/>
                      </a:path>
                    </a:pathLst>
                  </a:custGeom>
                  <a:solidFill>
                    <a:srgbClr val="ff81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6885000" y="4871880"/>
                    <a:ext cx="14040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555">
                        <a:moveTo>
                          <a:pt x="556" y="278"/>
                        </a:moveTo>
                        <a:lnTo>
                          <a:pt x="555" y="260"/>
                        </a:lnTo>
                        <a:lnTo>
                          <a:pt x="554" y="244"/>
                        </a:lnTo>
                        <a:lnTo>
                          <a:pt x="529" y="193"/>
                        </a:lnTo>
                        <a:lnTo>
                          <a:pt x="501" y="144"/>
                        </a:lnTo>
                        <a:lnTo>
                          <a:pt x="471" y="96"/>
                        </a:lnTo>
                        <a:lnTo>
                          <a:pt x="438" y="52"/>
                        </a:lnTo>
                        <a:lnTo>
                          <a:pt x="419" y="39"/>
                        </a:lnTo>
                        <a:lnTo>
                          <a:pt x="400" y="28"/>
                        </a:lnTo>
                        <a:lnTo>
                          <a:pt x="381" y="19"/>
                        </a:lnTo>
                        <a:lnTo>
                          <a:pt x="362" y="13"/>
                        </a:lnTo>
                        <a:lnTo>
                          <a:pt x="340" y="6"/>
                        </a:lnTo>
                        <a:lnTo>
                          <a:pt x="320" y="2"/>
                        </a:lnTo>
                        <a:lnTo>
                          <a:pt x="298" y="0"/>
                        </a:lnTo>
                        <a:lnTo>
                          <a:pt x="278" y="0"/>
                        </a:lnTo>
                        <a:lnTo>
                          <a:pt x="248" y="1"/>
                        </a:lnTo>
                        <a:lnTo>
                          <a:pt x="221" y="5"/>
                        </a:lnTo>
                        <a:lnTo>
                          <a:pt x="195" y="10"/>
                        </a:lnTo>
                        <a:lnTo>
                          <a:pt x="171" y="20"/>
                        </a:lnTo>
                        <a:lnTo>
                          <a:pt x="146" y="31"/>
                        </a:lnTo>
                        <a:lnTo>
                          <a:pt x="124" y="45"/>
                        </a:lnTo>
                        <a:lnTo>
                          <a:pt x="102" y="62"/>
                        </a:lnTo>
                        <a:lnTo>
                          <a:pt x="82" y="82"/>
                        </a:lnTo>
                        <a:lnTo>
                          <a:pt x="62" y="102"/>
                        </a:lnTo>
                        <a:lnTo>
                          <a:pt x="45" y="124"/>
                        </a:lnTo>
                        <a:lnTo>
                          <a:pt x="31" y="146"/>
                        </a:lnTo>
                        <a:lnTo>
                          <a:pt x="21" y="171"/>
                        </a:lnTo>
                        <a:lnTo>
                          <a:pt x="10" y="195"/>
                        </a:lnTo>
                        <a:lnTo>
                          <a:pt x="5" y="221"/>
                        </a:lnTo>
                        <a:lnTo>
                          <a:pt x="1" y="248"/>
                        </a:lnTo>
                        <a:lnTo>
                          <a:pt x="0" y="278"/>
                        </a:lnTo>
                        <a:lnTo>
                          <a:pt x="1" y="305"/>
                        </a:lnTo>
                        <a:lnTo>
                          <a:pt x="5" y="332"/>
                        </a:lnTo>
                        <a:lnTo>
                          <a:pt x="10" y="357"/>
                        </a:lnTo>
                        <a:lnTo>
                          <a:pt x="21" y="383"/>
                        </a:lnTo>
                        <a:lnTo>
                          <a:pt x="31" y="406"/>
                        </a:lnTo>
                        <a:lnTo>
                          <a:pt x="45" y="430"/>
                        </a:lnTo>
                        <a:lnTo>
                          <a:pt x="62" y="451"/>
                        </a:lnTo>
                        <a:lnTo>
                          <a:pt x="82" y="474"/>
                        </a:lnTo>
                        <a:lnTo>
                          <a:pt x="102" y="492"/>
                        </a:lnTo>
                        <a:lnTo>
                          <a:pt x="124" y="509"/>
                        </a:lnTo>
                        <a:lnTo>
                          <a:pt x="146" y="523"/>
                        </a:lnTo>
                        <a:lnTo>
                          <a:pt x="171" y="535"/>
                        </a:lnTo>
                        <a:lnTo>
                          <a:pt x="195" y="543"/>
                        </a:lnTo>
                        <a:lnTo>
                          <a:pt x="221" y="550"/>
                        </a:lnTo>
                        <a:lnTo>
                          <a:pt x="248" y="553"/>
                        </a:lnTo>
                        <a:lnTo>
                          <a:pt x="278" y="555"/>
                        </a:lnTo>
                        <a:lnTo>
                          <a:pt x="305" y="553"/>
                        </a:lnTo>
                        <a:lnTo>
                          <a:pt x="332" y="550"/>
                        </a:lnTo>
                        <a:lnTo>
                          <a:pt x="357" y="543"/>
                        </a:lnTo>
                        <a:lnTo>
                          <a:pt x="370" y="538"/>
                        </a:lnTo>
                        <a:lnTo>
                          <a:pt x="383" y="535"/>
                        </a:lnTo>
                        <a:lnTo>
                          <a:pt x="406" y="523"/>
                        </a:lnTo>
                        <a:lnTo>
                          <a:pt x="417" y="516"/>
                        </a:lnTo>
                        <a:lnTo>
                          <a:pt x="430" y="509"/>
                        </a:lnTo>
                        <a:lnTo>
                          <a:pt x="440" y="500"/>
                        </a:lnTo>
                        <a:lnTo>
                          <a:pt x="451" y="492"/>
                        </a:lnTo>
                        <a:lnTo>
                          <a:pt x="474" y="474"/>
                        </a:lnTo>
                        <a:lnTo>
                          <a:pt x="492" y="451"/>
                        </a:lnTo>
                        <a:lnTo>
                          <a:pt x="500" y="440"/>
                        </a:lnTo>
                        <a:lnTo>
                          <a:pt x="509" y="430"/>
                        </a:lnTo>
                        <a:lnTo>
                          <a:pt x="516" y="417"/>
                        </a:lnTo>
                        <a:lnTo>
                          <a:pt x="523" y="406"/>
                        </a:lnTo>
                        <a:lnTo>
                          <a:pt x="535" y="383"/>
                        </a:lnTo>
                        <a:lnTo>
                          <a:pt x="539" y="370"/>
                        </a:lnTo>
                        <a:lnTo>
                          <a:pt x="543" y="357"/>
                        </a:lnTo>
                        <a:lnTo>
                          <a:pt x="550" y="332"/>
                        </a:lnTo>
                        <a:lnTo>
                          <a:pt x="554" y="305"/>
                        </a:lnTo>
                        <a:lnTo>
                          <a:pt x="556" y="278"/>
                        </a:lnTo>
                        <a:close/>
                        <a:moveTo>
                          <a:pt x="433" y="121"/>
                        </a:moveTo>
                        <a:lnTo>
                          <a:pt x="448" y="137"/>
                        </a:lnTo>
                        <a:lnTo>
                          <a:pt x="462" y="154"/>
                        </a:lnTo>
                        <a:lnTo>
                          <a:pt x="473" y="172"/>
                        </a:lnTo>
                        <a:lnTo>
                          <a:pt x="483" y="192"/>
                        </a:lnTo>
                        <a:lnTo>
                          <a:pt x="490" y="211"/>
                        </a:lnTo>
                        <a:lnTo>
                          <a:pt x="496" y="232"/>
                        </a:lnTo>
                        <a:lnTo>
                          <a:pt x="499" y="254"/>
                        </a:lnTo>
                        <a:lnTo>
                          <a:pt x="500" y="278"/>
                        </a:lnTo>
                        <a:lnTo>
                          <a:pt x="499" y="282"/>
                        </a:lnTo>
                        <a:lnTo>
                          <a:pt x="499" y="288"/>
                        </a:lnTo>
                        <a:lnTo>
                          <a:pt x="499" y="299"/>
                        </a:lnTo>
                        <a:lnTo>
                          <a:pt x="497" y="309"/>
                        </a:lnTo>
                        <a:lnTo>
                          <a:pt x="496" y="321"/>
                        </a:lnTo>
                        <a:lnTo>
                          <a:pt x="490" y="341"/>
                        </a:lnTo>
                        <a:lnTo>
                          <a:pt x="483" y="362"/>
                        </a:lnTo>
                        <a:lnTo>
                          <a:pt x="473" y="380"/>
                        </a:lnTo>
                        <a:lnTo>
                          <a:pt x="462" y="399"/>
                        </a:lnTo>
                        <a:lnTo>
                          <a:pt x="448" y="416"/>
                        </a:lnTo>
                        <a:lnTo>
                          <a:pt x="433" y="434"/>
                        </a:lnTo>
                        <a:lnTo>
                          <a:pt x="424" y="441"/>
                        </a:lnTo>
                        <a:lnTo>
                          <a:pt x="420" y="444"/>
                        </a:lnTo>
                        <a:lnTo>
                          <a:pt x="416" y="449"/>
                        </a:lnTo>
                        <a:lnTo>
                          <a:pt x="399" y="463"/>
                        </a:lnTo>
                        <a:lnTo>
                          <a:pt x="389" y="467"/>
                        </a:lnTo>
                        <a:lnTo>
                          <a:pt x="380" y="473"/>
                        </a:lnTo>
                        <a:lnTo>
                          <a:pt x="362" y="483"/>
                        </a:lnTo>
                        <a:lnTo>
                          <a:pt x="341" y="490"/>
                        </a:lnTo>
                        <a:lnTo>
                          <a:pt x="321" y="495"/>
                        </a:lnTo>
                        <a:lnTo>
                          <a:pt x="310" y="497"/>
                        </a:lnTo>
                        <a:lnTo>
                          <a:pt x="300" y="499"/>
                        </a:lnTo>
                        <a:lnTo>
                          <a:pt x="288" y="499"/>
                        </a:lnTo>
                        <a:lnTo>
                          <a:pt x="282" y="499"/>
                        </a:lnTo>
                        <a:lnTo>
                          <a:pt x="278" y="500"/>
                        </a:lnTo>
                        <a:lnTo>
                          <a:pt x="254" y="499"/>
                        </a:lnTo>
                        <a:lnTo>
                          <a:pt x="233" y="495"/>
                        </a:lnTo>
                        <a:lnTo>
                          <a:pt x="211" y="490"/>
                        </a:lnTo>
                        <a:lnTo>
                          <a:pt x="192" y="483"/>
                        </a:lnTo>
                        <a:lnTo>
                          <a:pt x="172" y="473"/>
                        </a:lnTo>
                        <a:lnTo>
                          <a:pt x="154" y="463"/>
                        </a:lnTo>
                        <a:lnTo>
                          <a:pt x="137" y="449"/>
                        </a:lnTo>
                        <a:lnTo>
                          <a:pt x="121" y="434"/>
                        </a:lnTo>
                        <a:lnTo>
                          <a:pt x="104" y="416"/>
                        </a:lnTo>
                        <a:lnTo>
                          <a:pt x="92" y="399"/>
                        </a:lnTo>
                        <a:lnTo>
                          <a:pt x="80" y="380"/>
                        </a:lnTo>
                        <a:lnTo>
                          <a:pt x="72" y="362"/>
                        </a:lnTo>
                        <a:lnTo>
                          <a:pt x="64" y="341"/>
                        </a:lnTo>
                        <a:lnTo>
                          <a:pt x="59" y="321"/>
                        </a:lnTo>
                        <a:lnTo>
                          <a:pt x="56" y="299"/>
                        </a:lnTo>
                        <a:lnTo>
                          <a:pt x="56" y="278"/>
                        </a:lnTo>
                        <a:lnTo>
                          <a:pt x="56" y="254"/>
                        </a:lnTo>
                        <a:lnTo>
                          <a:pt x="59" y="232"/>
                        </a:lnTo>
                        <a:lnTo>
                          <a:pt x="64" y="211"/>
                        </a:lnTo>
                        <a:lnTo>
                          <a:pt x="72" y="192"/>
                        </a:lnTo>
                        <a:lnTo>
                          <a:pt x="80" y="172"/>
                        </a:lnTo>
                        <a:lnTo>
                          <a:pt x="92" y="154"/>
                        </a:lnTo>
                        <a:lnTo>
                          <a:pt x="104" y="137"/>
                        </a:lnTo>
                        <a:lnTo>
                          <a:pt x="121" y="121"/>
                        </a:lnTo>
                        <a:lnTo>
                          <a:pt x="137" y="104"/>
                        </a:lnTo>
                        <a:lnTo>
                          <a:pt x="154" y="92"/>
                        </a:lnTo>
                        <a:lnTo>
                          <a:pt x="172" y="79"/>
                        </a:lnTo>
                        <a:lnTo>
                          <a:pt x="192" y="71"/>
                        </a:lnTo>
                        <a:lnTo>
                          <a:pt x="211" y="64"/>
                        </a:lnTo>
                        <a:lnTo>
                          <a:pt x="233" y="59"/>
                        </a:lnTo>
                        <a:lnTo>
                          <a:pt x="254" y="56"/>
                        </a:lnTo>
                        <a:lnTo>
                          <a:pt x="278" y="56"/>
                        </a:lnTo>
                        <a:lnTo>
                          <a:pt x="300" y="56"/>
                        </a:lnTo>
                        <a:lnTo>
                          <a:pt x="321" y="59"/>
                        </a:lnTo>
                        <a:lnTo>
                          <a:pt x="341" y="64"/>
                        </a:lnTo>
                        <a:lnTo>
                          <a:pt x="362" y="71"/>
                        </a:lnTo>
                        <a:lnTo>
                          <a:pt x="380" y="79"/>
                        </a:lnTo>
                        <a:lnTo>
                          <a:pt x="399" y="92"/>
                        </a:lnTo>
                        <a:lnTo>
                          <a:pt x="416" y="104"/>
                        </a:lnTo>
                        <a:lnTo>
                          <a:pt x="433" y="121"/>
                        </a:lnTo>
                        <a:close/>
                      </a:path>
                    </a:pathLst>
                  </a:custGeom>
                  <a:solidFill>
                    <a:srgbClr val="ff85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898680" y="4885560"/>
                    <a:ext cx="11304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4">
                        <a:moveTo>
                          <a:pt x="444" y="222"/>
                        </a:moveTo>
                        <a:lnTo>
                          <a:pt x="443" y="198"/>
                        </a:lnTo>
                        <a:lnTo>
                          <a:pt x="440" y="176"/>
                        </a:lnTo>
                        <a:lnTo>
                          <a:pt x="434" y="155"/>
                        </a:lnTo>
                        <a:lnTo>
                          <a:pt x="427" y="136"/>
                        </a:lnTo>
                        <a:lnTo>
                          <a:pt x="417" y="116"/>
                        </a:lnTo>
                        <a:lnTo>
                          <a:pt x="406" y="98"/>
                        </a:lnTo>
                        <a:lnTo>
                          <a:pt x="392" y="81"/>
                        </a:lnTo>
                        <a:lnTo>
                          <a:pt x="377" y="65"/>
                        </a:lnTo>
                        <a:lnTo>
                          <a:pt x="360" y="48"/>
                        </a:lnTo>
                        <a:lnTo>
                          <a:pt x="343" y="36"/>
                        </a:lnTo>
                        <a:lnTo>
                          <a:pt x="324" y="23"/>
                        </a:lnTo>
                        <a:lnTo>
                          <a:pt x="306" y="15"/>
                        </a:lnTo>
                        <a:lnTo>
                          <a:pt x="285" y="8"/>
                        </a:lnTo>
                        <a:lnTo>
                          <a:pt x="265" y="3"/>
                        </a:lnTo>
                        <a:lnTo>
                          <a:pt x="244" y="0"/>
                        </a:lnTo>
                        <a:lnTo>
                          <a:pt x="222" y="0"/>
                        </a:lnTo>
                        <a:lnTo>
                          <a:pt x="198" y="0"/>
                        </a:lnTo>
                        <a:lnTo>
                          <a:pt x="177" y="3"/>
                        </a:lnTo>
                        <a:lnTo>
                          <a:pt x="155" y="8"/>
                        </a:lnTo>
                        <a:lnTo>
                          <a:pt x="136" y="15"/>
                        </a:lnTo>
                        <a:lnTo>
                          <a:pt x="116" y="23"/>
                        </a:lnTo>
                        <a:lnTo>
                          <a:pt x="98" y="36"/>
                        </a:lnTo>
                        <a:lnTo>
                          <a:pt x="81" y="48"/>
                        </a:lnTo>
                        <a:lnTo>
                          <a:pt x="65" y="65"/>
                        </a:lnTo>
                        <a:lnTo>
                          <a:pt x="48" y="81"/>
                        </a:lnTo>
                        <a:lnTo>
                          <a:pt x="36" y="98"/>
                        </a:lnTo>
                        <a:lnTo>
                          <a:pt x="24" y="116"/>
                        </a:lnTo>
                        <a:lnTo>
                          <a:pt x="16" y="136"/>
                        </a:lnTo>
                        <a:lnTo>
                          <a:pt x="8" y="155"/>
                        </a:lnTo>
                        <a:lnTo>
                          <a:pt x="3" y="176"/>
                        </a:lnTo>
                        <a:lnTo>
                          <a:pt x="0" y="198"/>
                        </a:lnTo>
                        <a:lnTo>
                          <a:pt x="0" y="222"/>
                        </a:lnTo>
                        <a:lnTo>
                          <a:pt x="0" y="243"/>
                        </a:lnTo>
                        <a:lnTo>
                          <a:pt x="3" y="265"/>
                        </a:lnTo>
                        <a:lnTo>
                          <a:pt x="8" y="285"/>
                        </a:lnTo>
                        <a:lnTo>
                          <a:pt x="16" y="306"/>
                        </a:lnTo>
                        <a:lnTo>
                          <a:pt x="24" y="324"/>
                        </a:lnTo>
                        <a:lnTo>
                          <a:pt x="36" y="343"/>
                        </a:lnTo>
                        <a:lnTo>
                          <a:pt x="48" y="360"/>
                        </a:lnTo>
                        <a:lnTo>
                          <a:pt x="65" y="378"/>
                        </a:lnTo>
                        <a:lnTo>
                          <a:pt x="81" y="393"/>
                        </a:lnTo>
                        <a:lnTo>
                          <a:pt x="98" y="407"/>
                        </a:lnTo>
                        <a:lnTo>
                          <a:pt x="116" y="417"/>
                        </a:lnTo>
                        <a:lnTo>
                          <a:pt x="136" y="427"/>
                        </a:lnTo>
                        <a:lnTo>
                          <a:pt x="155" y="434"/>
                        </a:lnTo>
                        <a:lnTo>
                          <a:pt x="177" y="439"/>
                        </a:lnTo>
                        <a:lnTo>
                          <a:pt x="198" y="443"/>
                        </a:lnTo>
                        <a:lnTo>
                          <a:pt x="222" y="444"/>
                        </a:lnTo>
                        <a:lnTo>
                          <a:pt x="226" y="443"/>
                        </a:lnTo>
                        <a:lnTo>
                          <a:pt x="232" y="443"/>
                        </a:lnTo>
                        <a:lnTo>
                          <a:pt x="244" y="443"/>
                        </a:lnTo>
                        <a:lnTo>
                          <a:pt x="254" y="441"/>
                        </a:lnTo>
                        <a:lnTo>
                          <a:pt x="265" y="439"/>
                        </a:lnTo>
                        <a:lnTo>
                          <a:pt x="285" y="434"/>
                        </a:lnTo>
                        <a:lnTo>
                          <a:pt x="306" y="427"/>
                        </a:lnTo>
                        <a:lnTo>
                          <a:pt x="324" y="417"/>
                        </a:lnTo>
                        <a:lnTo>
                          <a:pt x="333" y="411"/>
                        </a:lnTo>
                        <a:lnTo>
                          <a:pt x="343" y="407"/>
                        </a:lnTo>
                        <a:lnTo>
                          <a:pt x="360" y="393"/>
                        </a:lnTo>
                        <a:lnTo>
                          <a:pt x="364" y="388"/>
                        </a:lnTo>
                        <a:lnTo>
                          <a:pt x="368" y="385"/>
                        </a:lnTo>
                        <a:lnTo>
                          <a:pt x="377" y="378"/>
                        </a:lnTo>
                        <a:lnTo>
                          <a:pt x="392" y="360"/>
                        </a:lnTo>
                        <a:lnTo>
                          <a:pt x="406" y="343"/>
                        </a:lnTo>
                        <a:lnTo>
                          <a:pt x="417" y="324"/>
                        </a:lnTo>
                        <a:lnTo>
                          <a:pt x="427" y="306"/>
                        </a:lnTo>
                        <a:lnTo>
                          <a:pt x="434" y="285"/>
                        </a:lnTo>
                        <a:lnTo>
                          <a:pt x="440" y="265"/>
                        </a:lnTo>
                        <a:lnTo>
                          <a:pt x="441" y="253"/>
                        </a:lnTo>
                        <a:lnTo>
                          <a:pt x="443" y="243"/>
                        </a:lnTo>
                        <a:lnTo>
                          <a:pt x="443" y="232"/>
                        </a:lnTo>
                        <a:lnTo>
                          <a:pt x="443" y="226"/>
                        </a:lnTo>
                        <a:lnTo>
                          <a:pt x="444" y="222"/>
                        </a:lnTo>
                        <a:close/>
                        <a:moveTo>
                          <a:pt x="222" y="56"/>
                        </a:moveTo>
                        <a:lnTo>
                          <a:pt x="238" y="56"/>
                        </a:lnTo>
                        <a:lnTo>
                          <a:pt x="255" y="59"/>
                        </a:lnTo>
                        <a:lnTo>
                          <a:pt x="270" y="62"/>
                        </a:lnTo>
                        <a:lnTo>
                          <a:pt x="285" y="68"/>
                        </a:lnTo>
                        <a:lnTo>
                          <a:pt x="299" y="73"/>
                        </a:lnTo>
                        <a:lnTo>
                          <a:pt x="314" y="82"/>
                        </a:lnTo>
                        <a:lnTo>
                          <a:pt x="326" y="91"/>
                        </a:lnTo>
                        <a:lnTo>
                          <a:pt x="340" y="104"/>
                        </a:lnTo>
                        <a:lnTo>
                          <a:pt x="360" y="130"/>
                        </a:lnTo>
                        <a:lnTo>
                          <a:pt x="368" y="144"/>
                        </a:lnTo>
                        <a:lnTo>
                          <a:pt x="375" y="158"/>
                        </a:lnTo>
                        <a:lnTo>
                          <a:pt x="384" y="189"/>
                        </a:lnTo>
                        <a:lnTo>
                          <a:pt x="386" y="205"/>
                        </a:lnTo>
                        <a:lnTo>
                          <a:pt x="388" y="222"/>
                        </a:lnTo>
                        <a:lnTo>
                          <a:pt x="386" y="238"/>
                        </a:lnTo>
                        <a:lnTo>
                          <a:pt x="384" y="255"/>
                        </a:lnTo>
                        <a:lnTo>
                          <a:pt x="380" y="269"/>
                        </a:lnTo>
                        <a:lnTo>
                          <a:pt x="375" y="285"/>
                        </a:lnTo>
                        <a:lnTo>
                          <a:pt x="368" y="299"/>
                        </a:lnTo>
                        <a:lnTo>
                          <a:pt x="364" y="306"/>
                        </a:lnTo>
                        <a:lnTo>
                          <a:pt x="361" y="309"/>
                        </a:lnTo>
                        <a:lnTo>
                          <a:pt x="360" y="314"/>
                        </a:lnTo>
                        <a:lnTo>
                          <a:pt x="357" y="316"/>
                        </a:lnTo>
                        <a:lnTo>
                          <a:pt x="355" y="319"/>
                        </a:lnTo>
                        <a:lnTo>
                          <a:pt x="350" y="326"/>
                        </a:lnTo>
                        <a:lnTo>
                          <a:pt x="340" y="340"/>
                        </a:lnTo>
                        <a:lnTo>
                          <a:pt x="326" y="350"/>
                        </a:lnTo>
                        <a:lnTo>
                          <a:pt x="319" y="354"/>
                        </a:lnTo>
                        <a:lnTo>
                          <a:pt x="316" y="357"/>
                        </a:lnTo>
                        <a:lnTo>
                          <a:pt x="314" y="360"/>
                        </a:lnTo>
                        <a:lnTo>
                          <a:pt x="309" y="361"/>
                        </a:lnTo>
                        <a:lnTo>
                          <a:pt x="306" y="363"/>
                        </a:lnTo>
                        <a:lnTo>
                          <a:pt x="299" y="368"/>
                        </a:lnTo>
                        <a:lnTo>
                          <a:pt x="285" y="375"/>
                        </a:lnTo>
                        <a:lnTo>
                          <a:pt x="270" y="379"/>
                        </a:lnTo>
                        <a:lnTo>
                          <a:pt x="255" y="384"/>
                        </a:lnTo>
                        <a:lnTo>
                          <a:pt x="238" y="386"/>
                        </a:lnTo>
                        <a:lnTo>
                          <a:pt x="222" y="387"/>
                        </a:lnTo>
                        <a:lnTo>
                          <a:pt x="205" y="386"/>
                        </a:lnTo>
                        <a:lnTo>
                          <a:pt x="189" y="384"/>
                        </a:lnTo>
                        <a:lnTo>
                          <a:pt x="158" y="375"/>
                        </a:lnTo>
                        <a:lnTo>
                          <a:pt x="144" y="368"/>
                        </a:lnTo>
                        <a:lnTo>
                          <a:pt x="130" y="360"/>
                        </a:lnTo>
                        <a:lnTo>
                          <a:pt x="104" y="340"/>
                        </a:lnTo>
                        <a:lnTo>
                          <a:pt x="92" y="326"/>
                        </a:lnTo>
                        <a:lnTo>
                          <a:pt x="81" y="314"/>
                        </a:lnTo>
                        <a:lnTo>
                          <a:pt x="72" y="299"/>
                        </a:lnTo>
                        <a:lnTo>
                          <a:pt x="67" y="285"/>
                        </a:lnTo>
                        <a:lnTo>
                          <a:pt x="61" y="269"/>
                        </a:lnTo>
                        <a:lnTo>
                          <a:pt x="58" y="255"/>
                        </a:lnTo>
                        <a:lnTo>
                          <a:pt x="55" y="238"/>
                        </a:lnTo>
                        <a:lnTo>
                          <a:pt x="55" y="222"/>
                        </a:lnTo>
                        <a:lnTo>
                          <a:pt x="58" y="189"/>
                        </a:lnTo>
                        <a:lnTo>
                          <a:pt x="67" y="158"/>
                        </a:lnTo>
                        <a:lnTo>
                          <a:pt x="81" y="130"/>
                        </a:lnTo>
                        <a:lnTo>
                          <a:pt x="104" y="104"/>
                        </a:lnTo>
                        <a:lnTo>
                          <a:pt x="130" y="82"/>
                        </a:lnTo>
                        <a:lnTo>
                          <a:pt x="158" y="68"/>
                        </a:lnTo>
                        <a:lnTo>
                          <a:pt x="189" y="59"/>
                        </a:lnTo>
                        <a:lnTo>
                          <a:pt x="222" y="56"/>
                        </a:lnTo>
                        <a:close/>
                      </a:path>
                    </a:pathLst>
                  </a:custGeom>
                  <a:solidFill>
                    <a:srgbClr val="ff8a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6912720" y="4900320"/>
                    <a:ext cx="8424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331">
                        <a:moveTo>
                          <a:pt x="285" y="48"/>
                        </a:moveTo>
                        <a:lnTo>
                          <a:pt x="271" y="35"/>
                        </a:lnTo>
                        <a:lnTo>
                          <a:pt x="259" y="26"/>
                        </a:lnTo>
                        <a:lnTo>
                          <a:pt x="244" y="17"/>
                        </a:lnTo>
                        <a:lnTo>
                          <a:pt x="230" y="12"/>
                        </a:lnTo>
                        <a:lnTo>
                          <a:pt x="215" y="6"/>
                        </a:lnTo>
                        <a:lnTo>
                          <a:pt x="200" y="3"/>
                        </a:lnTo>
                        <a:lnTo>
                          <a:pt x="183" y="0"/>
                        </a:lnTo>
                        <a:lnTo>
                          <a:pt x="167" y="0"/>
                        </a:lnTo>
                        <a:lnTo>
                          <a:pt x="134" y="3"/>
                        </a:lnTo>
                        <a:lnTo>
                          <a:pt x="103" y="12"/>
                        </a:lnTo>
                        <a:lnTo>
                          <a:pt x="75" y="26"/>
                        </a:lnTo>
                        <a:lnTo>
                          <a:pt x="49" y="48"/>
                        </a:lnTo>
                        <a:lnTo>
                          <a:pt x="26" y="74"/>
                        </a:lnTo>
                        <a:lnTo>
                          <a:pt x="12" y="102"/>
                        </a:lnTo>
                        <a:lnTo>
                          <a:pt x="3" y="133"/>
                        </a:lnTo>
                        <a:lnTo>
                          <a:pt x="0" y="166"/>
                        </a:lnTo>
                        <a:lnTo>
                          <a:pt x="0" y="182"/>
                        </a:lnTo>
                        <a:lnTo>
                          <a:pt x="3" y="199"/>
                        </a:lnTo>
                        <a:lnTo>
                          <a:pt x="6" y="213"/>
                        </a:lnTo>
                        <a:lnTo>
                          <a:pt x="12" y="229"/>
                        </a:lnTo>
                        <a:lnTo>
                          <a:pt x="17" y="243"/>
                        </a:lnTo>
                        <a:lnTo>
                          <a:pt x="26" y="258"/>
                        </a:lnTo>
                        <a:lnTo>
                          <a:pt x="37" y="270"/>
                        </a:lnTo>
                        <a:lnTo>
                          <a:pt x="49" y="284"/>
                        </a:lnTo>
                        <a:lnTo>
                          <a:pt x="75" y="304"/>
                        </a:lnTo>
                        <a:lnTo>
                          <a:pt x="89" y="312"/>
                        </a:lnTo>
                        <a:lnTo>
                          <a:pt x="103" y="319"/>
                        </a:lnTo>
                        <a:lnTo>
                          <a:pt x="134" y="328"/>
                        </a:lnTo>
                        <a:lnTo>
                          <a:pt x="150" y="330"/>
                        </a:lnTo>
                        <a:lnTo>
                          <a:pt x="167" y="331"/>
                        </a:lnTo>
                        <a:lnTo>
                          <a:pt x="183" y="330"/>
                        </a:lnTo>
                        <a:lnTo>
                          <a:pt x="200" y="328"/>
                        </a:lnTo>
                        <a:lnTo>
                          <a:pt x="215" y="323"/>
                        </a:lnTo>
                        <a:lnTo>
                          <a:pt x="230" y="319"/>
                        </a:lnTo>
                        <a:lnTo>
                          <a:pt x="244" y="312"/>
                        </a:lnTo>
                        <a:lnTo>
                          <a:pt x="251" y="307"/>
                        </a:lnTo>
                        <a:lnTo>
                          <a:pt x="254" y="305"/>
                        </a:lnTo>
                        <a:lnTo>
                          <a:pt x="259" y="304"/>
                        </a:lnTo>
                        <a:lnTo>
                          <a:pt x="261" y="301"/>
                        </a:lnTo>
                        <a:lnTo>
                          <a:pt x="264" y="298"/>
                        </a:lnTo>
                        <a:lnTo>
                          <a:pt x="271" y="294"/>
                        </a:lnTo>
                        <a:lnTo>
                          <a:pt x="285" y="284"/>
                        </a:lnTo>
                        <a:lnTo>
                          <a:pt x="295" y="270"/>
                        </a:lnTo>
                        <a:lnTo>
                          <a:pt x="300" y="263"/>
                        </a:lnTo>
                        <a:lnTo>
                          <a:pt x="302" y="260"/>
                        </a:lnTo>
                        <a:lnTo>
                          <a:pt x="305" y="258"/>
                        </a:lnTo>
                        <a:lnTo>
                          <a:pt x="306" y="253"/>
                        </a:lnTo>
                        <a:lnTo>
                          <a:pt x="309" y="250"/>
                        </a:lnTo>
                        <a:lnTo>
                          <a:pt x="313" y="243"/>
                        </a:lnTo>
                        <a:lnTo>
                          <a:pt x="320" y="229"/>
                        </a:lnTo>
                        <a:lnTo>
                          <a:pt x="325" y="213"/>
                        </a:lnTo>
                        <a:lnTo>
                          <a:pt x="329" y="199"/>
                        </a:lnTo>
                        <a:lnTo>
                          <a:pt x="331" y="182"/>
                        </a:lnTo>
                        <a:lnTo>
                          <a:pt x="333" y="166"/>
                        </a:lnTo>
                        <a:lnTo>
                          <a:pt x="331" y="149"/>
                        </a:lnTo>
                        <a:lnTo>
                          <a:pt x="329" y="133"/>
                        </a:lnTo>
                        <a:lnTo>
                          <a:pt x="320" y="102"/>
                        </a:lnTo>
                        <a:lnTo>
                          <a:pt x="313" y="88"/>
                        </a:lnTo>
                        <a:lnTo>
                          <a:pt x="305" y="74"/>
                        </a:lnTo>
                        <a:lnTo>
                          <a:pt x="285" y="48"/>
                        </a:lnTo>
                        <a:close/>
                        <a:moveTo>
                          <a:pt x="57" y="166"/>
                        </a:moveTo>
                        <a:lnTo>
                          <a:pt x="58" y="142"/>
                        </a:lnTo>
                        <a:lnTo>
                          <a:pt x="65" y="123"/>
                        </a:lnTo>
                        <a:lnTo>
                          <a:pt x="74" y="103"/>
                        </a:lnTo>
                        <a:lnTo>
                          <a:pt x="89" y="88"/>
                        </a:lnTo>
                        <a:lnTo>
                          <a:pt x="105" y="73"/>
                        </a:lnTo>
                        <a:lnTo>
                          <a:pt x="124" y="64"/>
                        </a:lnTo>
                        <a:lnTo>
                          <a:pt x="143" y="57"/>
                        </a:lnTo>
                        <a:lnTo>
                          <a:pt x="167" y="56"/>
                        </a:lnTo>
                        <a:lnTo>
                          <a:pt x="189" y="57"/>
                        </a:lnTo>
                        <a:lnTo>
                          <a:pt x="209" y="64"/>
                        </a:lnTo>
                        <a:lnTo>
                          <a:pt x="227" y="73"/>
                        </a:lnTo>
                        <a:lnTo>
                          <a:pt x="245" y="88"/>
                        </a:lnTo>
                        <a:lnTo>
                          <a:pt x="259" y="103"/>
                        </a:lnTo>
                        <a:lnTo>
                          <a:pt x="269" y="123"/>
                        </a:lnTo>
                        <a:lnTo>
                          <a:pt x="275" y="142"/>
                        </a:lnTo>
                        <a:lnTo>
                          <a:pt x="277" y="166"/>
                        </a:lnTo>
                        <a:lnTo>
                          <a:pt x="276" y="170"/>
                        </a:lnTo>
                        <a:lnTo>
                          <a:pt x="276" y="176"/>
                        </a:lnTo>
                        <a:lnTo>
                          <a:pt x="275" y="187"/>
                        </a:lnTo>
                        <a:lnTo>
                          <a:pt x="269" y="208"/>
                        </a:lnTo>
                        <a:lnTo>
                          <a:pt x="263" y="217"/>
                        </a:lnTo>
                        <a:lnTo>
                          <a:pt x="259" y="227"/>
                        </a:lnTo>
                        <a:lnTo>
                          <a:pt x="252" y="235"/>
                        </a:lnTo>
                        <a:lnTo>
                          <a:pt x="245" y="244"/>
                        </a:lnTo>
                        <a:lnTo>
                          <a:pt x="227" y="258"/>
                        </a:lnTo>
                        <a:lnTo>
                          <a:pt x="209" y="268"/>
                        </a:lnTo>
                        <a:lnTo>
                          <a:pt x="189" y="273"/>
                        </a:lnTo>
                        <a:lnTo>
                          <a:pt x="177" y="275"/>
                        </a:lnTo>
                        <a:lnTo>
                          <a:pt x="171" y="275"/>
                        </a:lnTo>
                        <a:lnTo>
                          <a:pt x="167" y="276"/>
                        </a:lnTo>
                        <a:lnTo>
                          <a:pt x="143" y="273"/>
                        </a:lnTo>
                        <a:lnTo>
                          <a:pt x="124" y="268"/>
                        </a:lnTo>
                        <a:lnTo>
                          <a:pt x="105" y="258"/>
                        </a:lnTo>
                        <a:lnTo>
                          <a:pt x="89" y="244"/>
                        </a:lnTo>
                        <a:lnTo>
                          <a:pt x="74" y="227"/>
                        </a:lnTo>
                        <a:lnTo>
                          <a:pt x="68" y="217"/>
                        </a:lnTo>
                        <a:lnTo>
                          <a:pt x="65" y="208"/>
                        </a:lnTo>
                        <a:lnTo>
                          <a:pt x="58" y="187"/>
                        </a:lnTo>
                        <a:lnTo>
                          <a:pt x="57" y="166"/>
                        </a:lnTo>
                        <a:close/>
                      </a:path>
                    </a:pathLst>
                  </a:custGeom>
                  <a:solidFill>
                    <a:srgbClr val="ff8f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6927120" y="4914000"/>
                    <a:ext cx="558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220">
                        <a:moveTo>
                          <a:pt x="32" y="32"/>
                        </a:moveTo>
                        <a:lnTo>
                          <a:pt x="17" y="47"/>
                        </a:lnTo>
                        <a:lnTo>
                          <a:pt x="8" y="67"/>
                        </a:lnTo>
                        <a:lnTo>
                          <a:pt x="1" y="86"/>
                        </a:lnTo>
                        <a:lnTo>
                          <a:pt x="0" y="110"/>
                        </a:lnTo>
                        <a:lnTo>
                          <a:pt x="1" y="131"/>
                        </a:lnTo>
                        <a:lnTo>
                          <a:pt x="8" y="152"/>
                        </a:lnTo>
                        <a:lnTo>
                          <a:pt x="11" y="161"/>
                        </a:lnTo>
                        <a:lnTo>
                          <a:pt x="17" y="171"/>
                        </a:lnTo>
                        <a:lnTo>
                          <a:pt x="32" y="188"/>
                        </a:lnTo>
                        <a:lnTo>
                          <a:pt x="48" y="202"/>
                        </a:lnTo>
                        <a:lnTo>
                          <a:pt x="67" y="212"/>
                        </a:lnTo>
                        <a:lnTo>
                          <a:pt x="86" y="217"/>
                        </a:lnTo>
                        <a:lnTo>
                          <a:pt x="110" y="220"/>
                        </a:lnTo>
                        <a:lnTo>
                          <a:pt x="114" y="219"/>
                        </a:lnTo>
                        <a:lnTo>
                          <a:pt x="120" y="219"/>
                        </a:lnTo>
                        <a:lnTo>
                          <a:pt x="132" y="217"/>
                        </a:lnTo>
                        <a:lnTo>
                          <a:pt x="152" y="212"/>
                        </a:lnTo>
                        <a:lnTo>
                          <a:pt x="170" y="202"/>
                        </a:lnTo>
                        <a:lnTo>
                          <a:pt x="188" y="188"/>
                        </a:lnTo>
                        <a:lnTo>
                          <a:pt x="195" y="179"/>
                        </a:lnTo>
                        <a:lnTo>
                          <a:pt x="202" y="171"/>
                        </a:lnTo>
                        <a:lnTo>
                          <a:pt x="206" y="161"/>
                        </a:lnTo>
                        <a:lnTo>
                          <a:pt x="212" y="152"/>
                        </a:lnTo>
                        <a:lnTo>
                          <a:pt x="218" y="131"/>
                        </a:lnTo>
                        <a:lnTo>
                          <a:pt x="219" y="120"/>
                        </a:lnTo>
                        <a:lnTo>
                          <a:pt x="219" y="114"/>
                        </a:lnTo>
                        <a:lnTo>
                          <a:pt x="220" y="110"/>
                        </a:lnTo>
                        <a:lnTo>
                          <a:pt x="218" y="86"/>
                        </a:lnTo>
                        <a:lnTo>
                          <a:pt x="212" y="67"/>
                        </a:lnTo>
                        <a:lnTo>
                          <a:pt x="202" y="47"/>
                        </a:lnTo>
                        <a:lnTo>
                          <a:pt x="188" y="32"/>
                        </a:lnTo>
                        <a:lnTo>
                          <a:pt x="170" y="17"/>
                        </a:lnTo>
                        <a:lnTo>
                          <a:pt x="152" y="8"/>
                        </a:lnTo>
                        <a:lnTo>
                          <a:pt x="132" y="1"/>
                        </a:lnTo>
                        <a:lnTo>
                          <a:pt x="110" y="0"/>
                        </a:lnTo>
                        <a:lnTo>
                          <a:pt x="86" y="1"/>
                        </a:lnTo>
                        <a:lnTo>
                          <a:pt x="67" y="8"/>
                        </a:lnTo>
                        <a:lnTo>
                          <a:pt x="48" y="17"/>
                        </a:lnTo>
                        <a:lnTo>
                          <a:pt x="32" y="32"/>
                        </a:lnTo>
                        <a:close/>
                        <a:moveTo>
                          <a:pt x="150" y="70"/>
                        </a:moveTo>
                        <a:lnTo>
                          <a:pt x="155" y="79"/>
                        </a:lnTo>
                        <a:lnTo>
                          <a:pt x="161" y="88"/>
                        </a:lnTo>
                        <a:lnTo>
                          <a:pt x="164" y="98"/>
                        </a:lnTo>
                        <a:lnTo>
                          <a:pt x="166" y="110"/>
                        </a:lnTo>
                        <a:lnTo>
                          <a:pt x="164" y="119"/>
                        </a:lnTo>
                        <a:lnTo>
                          <a:pt x="161" y="130"/>
                        </a:lnTo>
                        <a:lnTo>
                          <a:pt x="155" y="139"/>
                        </a:lnTo>
                        <a:lnTo>
                          <a:pt x="152" y="144"/>
                        </a:lnTo>
                        <a:lnTo>
                          <a:pt x="150" y="149"/>
                        </a:lnTo>
                        <a:lnTo>
                          <a:pt x="144" y="152"/>
                        </a:lnTo>
                        <a:lnTo>
                          <a:pt x="139" y="155"/>
                        </a:lnTo>
                        <a:lnTo>
                          <a:pt x="130" y="161"/>
                        </a:lnTo>
                        <a:lnTo>
                          <a:pt x="119" y="164"/>
                        </a:lnTo>
                        <a:lnTo>
                          <a:pt x="110" y="165"/>
                        </a:lnTo>
                        <a:lnTo>
                          <a:pt x="99" y="164"/>
                        </a:lnTo>
                        <a:lnTo>
                          <a:pt x="88" y="161"/>
                        </a:lnTo>
                        <a:lnTo>
                          <a:pt x="78" y="155"/>
                        </a:lnTo>
                        <a:lnTo>
                          <a:pt x="70" y="149"/>
                        </a:lnTo>
                        <a:lnTo>
                          <a:pt x="62" y="139"/>
                        </a:lnTo>
                        <a:lnTo>
                          <a:pt x="57" y="130"/>
                        </a:lnTo>
                        <a:lnTo>
                          <a:pt x="53" y="110"/>
                        </a:lnTo>
                        <a:lnTo>
                          <a:pt x="57" y="88"/>
                        </a:lnTo>
                        <a:lnTo>
                          <a:pt x="62" y="79"/>
                        </a:lnTo>
                        <a:lnTo>
                          <a:pt x="70" y="70"/>
                        </a:lnTo>
                        <a:lnTo>
                          <a:pt x="78" y="62"/>
                        </a:lnTo>
                        <a:lnTo>
                          <a:pt x="88" y="58"/>
                        </a:lnTo>
                        <a:lnTo>
                          <a:pt x="110" y="54"/>
                        </a:lnTo>
                        <a:lnTo>
                          <a:pt x="130" y="58"/>
                        </a:lnTo>
                        <a:lnTo>
                          <a:pt x="139" y="62"/>
                        </a:lnTo>
                        <a:lnTo>
                          <a:pt x="150" y="70"/>
                        </a:lnTo>
                        <a:close/>
                      </a:path>
                    </a:pathLst>
                  </a:custGeom>
                  <a:solidFill>
                    <a:srgbClr val="ff94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6940800" y="4928040"/>
                    <a:ext cx="284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11">
                        <a:moveTo>
                          <a:pt x="113" y="56"/>
                        </a:moveTo>
                        <a:lnTo>
                          <a:pt x="111" y="44"/>
                        </a:lnTo>
                        <a:lnTo>
                          <a:pt x="108" y="34"/>
                        </a:lnTo>
                        <a:lnTo>
                          <a:pt x="102" y="25"/>
                        </a:lnTo>
                        <a:lnTo>
                          <a:pt x="97" y="16"/>
                        </a:lnTo>
                        <a:lnTo>
                          <a:pt x="86" y="8"/>
                        </a:lnTo>
                        <a:lnTo>
                          <a:pt x="77" y="4"/>
                        </a:lnTo>
                        <a:lnTo>
                          <a:pt x="57" y="0"/>
                        </a:lnTo>
                        <a:lnTo>
                          <a:pt x="35" y="4"/>
                        </a:lnTo>
                        <a:lnTo>
                          <a:pt x="25" y="8"/>
                        </a:lnTo>
                        <a:lnTo>
                          <a:pt x="17" y="16"/>
                        </a:lnTo>
                        <a:lnTo>
                          <a:pt x="9" y="25"/>
                        </a:lnTo>
                        <a:lnTo>
                          <a:pt x="4" y="34"/>
                        </a:lnTo>
                        <a:lnTo>
                          <a:pt x="0" y="56"/>
                        </a:lnTo>
                        <a:lnTo>
                          <a:pt x="4" y="76"/>
                        </a:lnTo>
                        <a:lnTo>
                          <a:pt x="9" y="85"/>
                        </a:lnTo>
                        <a:lnTo>
                          <a:pt x="17" y="95"/>
                        </a:lnTo>
                        <a:lnTo>
                          <a:pt x="25" y="101"/>
                        </a:lnTo>
                        <a:lnTo>
                          <a:pt x="35" y="107"/>
                        </a:lnTo>
                        <a:lnTo>
                          <a:pt x="46" y="110"/>
                        </a:lnTo>
                        <a:lnTo>
                          <a:pt x="57" y="111"/>
                        </a:lnTo>
                        <a:lnTo>
                          <a:pt x="66" y="110"/>
                        </a:lnTo>
                        <a:lnTo>
                          <a:pt x="77" y="107"/>
                        </a:lnTo>
                        <a:lnTo>
                          <a:pt x="86" y="101"/>
                        </a:lnTo>
                        <a:lnTo>
                          <a:pt x="91" y="98"/>
                        </a:lnTo>
                        <a:lnTo>
                          <a:pt x="97" y="95"/>
                        </a:lnTo>
                        <a:lnTo>
                          <a:pt x="99" y="90"/>
                        </a:lnTo>
                        <a:lnTo>
                          <a:pt x="102" y="85"/>
                        </a:lnTo>
                        <a:lnTo>
                          <a:pt x="108" y="76"/>
                        </a:lnTo>
                        <a:lnTo>
                          <a:pt x="111" y="65"/>
                        </a:lnTo>
                        <a:lnTo>
                          <a:pt x="113" y="56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6814080" y="4809600"/>
                    <a:ext cx="23328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19" h="1076">
                        <a:moveTo>
                          <a:pt x="432" y="38"/>
                        </a:moveTo>
                        <a:lnTo>
                          <a:pt x="364" y="0"/>
                        </a:lnTo>
                        <a:lnTo>
                          <a:pt x="309" y="22"/>
                        </a:lnTo>
                        <a:lnTo>
                          <a:pt x="282" y="36"/>
                        </a:lnTo>
                        <a:lnTo>
                          <a:pt x="257" y="51"/>
                        </a:lnTo>
                        <a:lnTo>
                          <a:pt x="208" y="87"/>
                        </a:lnTo>
                        <a:lnTo>
                          <a:pt x="184" y="107"/>
                        </a:lnTo>
                        <a:lnTo>
                          <a:pt x="163" y="130"/>
                        </a:lnTo>
                        <a:lnTo>
                          <a:pt x="124" y="169"/>
                        </a:lnTo>
                        <a:lnTo>
                          <a:pt x="91" y="213"/>
                        </a:lnTo>
                        <a:lnTo>
                          <a:pt x="63" y="259"/>
                        </a:lnTo>
                        <a:lnTo>
                          <a:pt x="40" y="308"/>
                        </a:lnTo>
                        <a:lnTo>
                          <a:pt x="22" y="356"/>
                        </a:lnTo>
                        <a:lnTo>
                          <a:pt x="10" y="410"/>
                        </a:lnTo>
                        <a:lnTo>
                          <a:pt x="3" y="464"/>
                        </a:lnTo>
                        <a:lnTo>
                          <a:pt x="0" y="522"/>
                        </a:lnTo>
                        <a:lnTo>
                          <a:pt x="0" y="549"/>
                        </a:lnTo>
                        <a:lnTo>
                          <a:pt x="3" y="577"/>
                        </a:lnTo>
                        <a:lnTo>
                          <a:pt x="10" y="632"/>
                        </a:lnTo>
                        <a:lnTo>
                          <a:pt x="14" y="657"/>
                        </a:lnTo>
                        <a:lnTo>
                          <a:pt x="22" y="683"/>
                        </a:lnTo>
                        <a:lnTo>
                          <a:pt x="30" y="708"/>
                        </a:lnTo>
                        <a:lnTo>
                          <a:pt x="40" y="734"/>
                        </a:lnTo>
                        <a:lnTo>
                          <a:pt x="63" y="781"/>
                        </a:lnTo>
                        <a:lnTo>
                          <a:pt x="75" y="804"/>
                        </a:lnTo>
                        <a:lnTo>
                          <a:pt x="91" y="828"/>
                        </a:lnTo>
                        <a:lnTo>
                          <a:pt x="106" y="849"/>
                        </a:lnTo>
                        <a:lnTo>
                          <a:pt x="124" y="872"/>
                        </a:lnTo>
                        <a:lnTo>
                          <a:pt x="142" y="892"/>
                        </a:lnTo>
                        <a:lnTo>
                          <a:pt x="163" y="914"/>
                        </a:lnTo>
                        <a:lnTo>
                          <a:pt x="202" y="950"/>
                        </a:lnTo>
                        <a:lnTo>
                          <a:pt x="247" y="984"/>
                        </a:lnTo>
                        <a:lnTo>
                          <a:pt x="292" y="1011"/>
                        </a:lnTo>
                        <a:lnTo>
                          <a:pt x="316" y="1024"/>
                        </a:lnTo>
                        <a:lnTo>
                          <a:pt x="341" y="1035"/>
                        </a:lnTo>
                        <a:lnTo>
                          <a:pt x="364" y="1044"/>
                        </a:lnTo>
                        <a:lnTo>
                          <a:pt x="389" y="1052"/>
                        </a:lnTo>
                        <a:lnTo>
                          <a:pt x="443" y="1066"/>
                        </a:lnTo>
                        <a:lnTo>
                          <a:pt x="497" y="1073"/>
                        </a:lnTo>
                        <a:lnTo>
                          <a:pt x="525" y="1075"/>
                        </a:lnTo>
                        <a:lnTo>
                          <a:pt x="555" y="1076"/>
                        </a:lnTo>
                        <a:lnTo>
                          <a:pt x="580" y="1075"/>
                        </a:lnTo>
                        <a:lnTo>
                          <a:pt x="582" y="1074"/>
                        </a:lnTo>
                        <a:lnTo>
                          <a:pt x="586" y="1074"/>
                        </a:lnTo>
                        <a:lnTo>
                          <a:pt x="592" y="1074"/>
                        </a:lnTo>
                        <a:lnTo>
                          <a:pt x="606" y="1074"/>
                        </a:lnTo>
                        <a:lnTo>
                          <a:pt x="656" y="1067"/>
                        </a:lnTo>
                        <a:lnTo>
                          <a:pt x="704" y="1056"/>
                        </a:lnTo>
                        <a:lnTo>
                          <a:pt x="726" y="1049"/>
                        </a:lnTo>
                        <a:lnTo>
                          <a:pt x="750" y="1042"/>
                        </a:lnTo>
                        <a:lnTo>
                          <a:pt x="755" y="1039"/>
                        </a:lnTo>
                        <a:lnTo>
                          <a:pt x="760" y="1036"/>
                        </a:lnTo>
                        <a:lnTo>
                          <a:pt x="772" y="1032"/>
                        </a:lnTo>
                        <a:lnTo>
                          <a:pt x="794" y="1022"/>
                        </a:lnTo>
                        <a:lnTo>
                          <a:pt x="815" y="1010"/>
                        </a:lnTo>
                        <a:lnTo>
                          <a:pt x="836" y="999"/>
                        </a:lnTo>
                        <a:lnTo>
                          <a:pt x="877" y="972"/>
                        </a:lnTo>
                        <a:lnTo>
                          <a:pt x="896" y="956"/>
                        </a:lnTo>
                        <a:lnTo>
                          <a:pt x="917" y="941"/>
                        </a:lnTo>
                        <a:lnTo>
                          <a:pt x="919" y="906"/>
                        </a:lnTo>
                        <a:lnTo>
                          <a:pt x="918" y="883"/>
                        </a:lnTo>
                        <a:lnTo>
                          <a:pt x="917" y="864"/>
                        </a:lnTo>
                        <a:lnTo>
                          <a:pt x="912" y="867"/>
                        </a:lnTo>
                        <a:lnTo>
                          <a:pt x="906" y="873"/>
                        </a:lnTo>
                        <a:lnTo>
                          <a:pt x="868" y="907"/>
                        </a:lnTo>
                        <a:lnTo>
                          <a:pt x="848" y="922"/>
                        </a:lnTo>
                        <a:lnTo>
                          <a:pt x="837" y="929"/>
                        </a:lnTo>
                        <a:lnTo>
                          <a:pt x="828" y="937"/>
                        </a:lnTo>
                        <a:lnTo>
                          <a:pt x="817" y="942"/>
                        </a:lnTo>
                        <a:lnTo>
                          <a:pt x="807" y="949"/>
                        </a:lnTo>
                        <a:lnTo>
                          <a:pt x="786" y="962"/>
                        </a:lnTo>
                        <a:lnTo>
                          <a:pt x="775" y="966"/>
                        </a:lnTo>
                        <a:lnTo>
                          <a:pt x="769" y="968"/>
                        </a:lnTo>
                        <a:lnTo>
                          <a:pt x="765" y="972"/>
                        </a:lnTo>
                        <a:lnTo>
                          <a:pt x="744" y="982"/>
                        </a:lnTo>
                        <a:lnTo>
                          <a:pt x="699" y="998"/>
                        </a:lnTo>
                        <a:lnTo>
                          <a:pt x="687" y="1000"/>
                        </a:lnTo>
                        <a:lnTo>
                          <a:pt x="675" y="1003"/>
                        </a:lnTo>
                        <a:lnTo>
                          <a:pt x="652" y="1009"/>
                        </a:lnTo>
                        <a:lnTo>
                          <a:pt x="628" y="1013"/>
                        </a:lnTo>
                        <a:lnTo>
                          <a:pt x="621" y="1013"/>
                        </a:lnTo>
                        <a:lnTo>
                          <a:pt x="617" y="1013"/>
                        </a:lnTo>
                        <a:lnTo>
                          <a:pt x="615" y="1014"/>
                        </a:lnTo>
                        <a:lnTo>
                          <a:pt x="604" y="1016"/>
                        </a:lnTo>
                        <a:lnTo>
                          <a:pt x="579" y="1018"/>
                        </a:lnTo>
                        <a:lnTo>
                          <a:pt x="566" y="1018"/>
                        </a:lnTo>
                        <a:lnTo>
                          <a:pt x="555" y="1019"/>
                        </a:lnTo>
                        <a:lnTo>
                          <a:pt x="529" y="1018"/>
                        </a:lnTo>
                        <a:lnTo>
                          <a:pt x="504" y="1016"/>
                        </a:lnTo>
                        <a:lnTo>
                          <a:pt x="455" y="1009"/>
                        </a:lnTo>
                        <a:lnTo>
                          <a:pt x="408" y="998"/>
                        </a:lnTo>
                        <a:lnTo>
                          <a:pt x="363" y="982"/>
                        </a:lnTo>
                        <a:lnTo>
                          <a:pt x="319" y="962"/>
                        </a:lnTo>
                        <a:lnTo>
                          <a:pt x="278" y="937"/>
                        </a:lnTo>
                        <a:lnTo>
                          <a:pt x="239" y="907"/>
                        </a:lnTo>
                        <a:lnTo>
                          <a:pt x="202" y="873"/>
                        </a:lnTo>
                        <a:lnTo>
                          <a:pt x="184" y="854"/>
                        </a:lnTo>
                        <a:lnTo>
                          <a:pt x="168" y="836"/>
                        </a:lnTo>
                        <a:lnTo>
                          <a:pt x="152" y="815"/>
                        </a:lnTo>
                        <a:lnTo>
                          <a:pt x="139" y="796"/>
                        </a:lnTo>
                        <a:lnTo>
                          <a:pt x="125" y="775"/>
                        </a:lnTo>
                        <a:lnTo>
                          <a:pt x="114" y="754"/>
                        </a:lnTo>
                        <a:lnTo>
                          <a:pt x="102" y="733"/>
                        </a:lnTo>
                        <a:lnTo>
                          <a:pt x="93" y="712"/>
                        </a:lnTo>
                        <a:lnTo>
                          <a:pt x="78" y="667"/>
                        </a:lnTo>
                        <a:lnTo>
                          <a:pt x="71" y="643"/>
                        </a:lnTo>
                        <a:lnTo>
                          <a:pt x="66" y="620"/>
                        </a:lnTo>
                        <a:lnTo>
                          <a:pt x="62" y="595"/>
                        </a:lnTo>
                        <a:lnTo>
                          <a:pt x="59" y="572"/>
                        </a:lnTo>
                        <a:lnTo>
                          <a:pt x="57" y="522"/>
                        </a:lnTo>
                        <a:lnTo>
                          <a:pt x="59" y="471"/>
                        </a:lnTo>
                        <a:lnTo>
                          <a:pt x="66" y="422"/>
                        </a:lnTo>
                        <a:lnTo>
                          <a:pt x="78" y="374"/>
                        </a:lnTo>
                        <a:lnTo>
                          <a:pt x="93" y="330"/>
                        </a:lnTo>
                        <a:lnTo>
                          <a:pt x="114" y="286"/>
                        </a:lnTo>
                        <a:lnTo>
                          <a:pt x="139" y="245"/>
                        </a:lnTo>
                        <a:lnTo>
                          <a:pt x="168" y="206"/>
                        </a:lnTo>
                        <a:lnTo>
                          <a:pt x="202" y="169"/>
                        </a:lnTo>
                        <a:lnTo>
                          <a:pt x="253" y="123"/>
                        </a:lnTo>
                        <a:lnTo>
                          <a:pt x="281" y="104"/>
                        </a:lnTo>
                        <a:lnTo>
                          <a:pt x="310" y="87"/>
                        </a:lnTo>
                        <a:lnTo>
                          <a:pt x="338" y="70"/>
                        </a:lnTo>
                        <a:lnTo>
                          <a:pt x="369" y="57"/>
                        </a:lnTo>
                        <a:lnTo>
                          <a:pt x="400" y="46"/>
                        </a:lnTo>
                        <a:lnTo>
                          <a:pt x="432" y="38"/>
                        </a:lnTo>
                        <a:close/>
                      </a:path>
                    </a:pathLst>
                  </a:custGeom>
                  <a:solidFill>
                    <a:srgbClr val="ff6d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6800040" y="4800960"/>
                    <a:ext cx="246960" cy="2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72" h="1165">
                        <a:moveTo>
                          <a:pt x="419" y="33"/>
                        </a:moveTo>
                        <a:lnTo>
                          <a:pt x="351" y="0"/>
                        </a:lnTo>
                        <a:lnTo>
                          <a:pt x="305" y="23"/>
                        </a:lnTo>
                        <a:lnTo>
                          <a:pt x="261" y="53"/>
                        </a:lnTo>
                        <a:lnTo>
                          <a:pt x="218" y="84"/>
                        </a:lnTo>
                        <a:lnTo>
                          <a:pt x="178" y="123"/>
                        </a:lnTo>
                        <a:lnTo>
                          <a:pt x="135" y="167"/>
                        </a:lnTo>
                        <a:lnTo>
                          <a:pt x="99" y="216"/>
                        </a:lnTo>
                        <a:lnTo>
                          <a:pt x="68" y="267"/>
                        </a:lnTo>
                        <a:lnTo>
                          <a:pt x="44" y="320"/>
                        </a:lnTo>
                        <a:lnTo>
                          <a:pt x="24" y="375"/>
                        </a:lnTo>
                        <a:lnTo>
                          <a:pt x="10" y="432"/>
                        </a:lnTo>
                        <a:lnTo>
                          <a:pt x="2" y="492"/>
                        </a:lnTo>
                        <a:lnTo>
                          <a:pt x="0" y="555"/>
                        </a:lnTo>
                        <a:lnTo>
                          <a:pt x="0" y="584"/>
                        </a:lnTo>
                        <a:lnTo>
                          <a:pt x="2" y="615"/>
                        </a:lnTo>
                        <a:lnTo>
                          <a:pt x="4" y="644"/>
                        </a:lnTo>
                        <a:lnTo>
                          <a:pt x="10" y="675"/>
                        </a:lnTo>
                        <a:lnTo>
                          <a:pt x="16" y="703"/>
                        </a:lnTo>
                        <a:lnTo>
                          <a:pt x="24" y="733"/>
                        </a:lnTo>
                        <a:lnTo>
                          <a:pt x="33" y="760"/>
                        </a:lnTo>
                        <a:lnTo>
                          <a:pt x="44" y="788"/>
                        </a:lnTo>
                        <a:lnTo>
                          <a:pt x="68" y="840"/>
                        </a:lnTo>
                        <a:lnTo>
                          <a:pt x="82" y="865"/>
                        </a:lnTo>
                        <a:lnTo>
                          <a:pt x="99" y="891"/>
                        </a:lnTo>
                        <a:lnTo>
                          <a:pt x="116" y="915"/>
                        </a:lnTo>
                        <a:lnTo>
                          <a:pt x="135" y="940"/>
                        </a:lnTo>
                        <a:lnTo>
                          <a:pt x="155" y="963"/>
                        </a:lnTo>
                        <a:lnTo>
                          <a:pt x="178" y="987"/>
                        </a:lnTo>
                        <a:lnTo>
                          <a:pt x="222" y="1027"/>
                        </a:lnTo>
                        <a:lnTo>
                          <a:pt x="271" y="1064"/>
                        </a:lnTo>
                        <a:lnTo>
                          <a:pt x="322" y="1093"/>
                        </a:lnTo>
                        <a:lnTo>
                          <a:pt x="348" y="1107"/>
                        </a:lnTo>
                        <a:lnTo>
                          <a:pt x="375" y="1119"/>
                        </a:lnTo>
                        <a:lnTo>
                          <a:pt x="402" y="1129"/>
                        </a:lnTo>
                        <a:lnTo>
                          <a:pt x="430" y="1138"/>
                        </a:lnTo>
                        <a:lnTo>
                          <a:pt x="458" y="1146"/>
                        </a:lnTo>
                        <a:lnTo>
                          <a:pt x="487" y="1153"/>
                        </a:lnTo>
                        <a:lnTo>
                          <a:pt x="517" y="1158"/>
                        </a:lnTo>
                        <a:lnTo>
                          <a:pt x="548" y="1161"/>
                        </a:lnTo>
                        <a:lnTo>
                          <a:pt x="578" y="1163"/>
                        </a:lnTo>
                        <a:lnTo>
                          <a:pt x="610" y="1165"/>
                        </a:lnTo>
                        <a:lnTo>
                          <a:pt x="621" y="1163"/>
                        </a:lnTo>
                        <a:lnTo>
                          <a:pt x="634" y="1163"/>
                        </a:lnTo>
                        <a:lnTo>
                          <a:pt x="659" y="1162"/>
                        </a:lnTo>
                        <a:lnTo>
                          <a:pt x="670" y="1160"/>
                        </a:lnTo>
                        <a:lnTo>
                          <a:pt x="672" y="1159"/>
                        </a:lnTo>
                        <a:lnTo>
                          <a:pt x="676" y="1159"/>
                        </a:lnTo>
                        <a:lnTo>
                          <a:pt x="683" y="1159"/>
                        </a:lnTo>
                        <a:lnTo>
                          <a:pt x="707" y="1157"/>
                        </a:lnTo>
                        <a:lnTo>
                          <a:pt x="730" y="1152"/>
                        </a:lnTo>
                        <a:lnTo>
                          <a:pt x="754" y="1148"/>
                        </a:lnTo>
                        <a:lnTo>
                          <a:pt x="777" y="1141"/>
                        </a:lnTo>
                        <a:lnTo>
                          <a:pt x="788" y="1137"/>
                        </a:lnTo>
                        <a:lnTo>
                          <a:pt x="800" y="1135"/>
                        </a:lnTo>
                        <a:lnTo>
                          <a:pt x="844" y="1118"/>
                        </a:lnTo>
                        <a:lnTo>
                          <a:pt x="887" y="1099"/>
                        </a:lnTo>
                        <a:lnTo>
                          <a:pt x="927" y="1076"/>
                        </a:lnTo>
                        <a:lnTo>
                          <a:pt x="968" y="1050"/>
                        </a:lnTo>
                        <a:lnTo>
                          <a:pt x="972" y="974"/>
                        </a:lnTo>
                        <a:lnTo>
                          <a:pt x="951" y="989"/>
                        </a:lnTo>
                        <a:lnTo>
                          <a:pt x="932" y="1005"/>
                        </a:lnTo>
                        <a:lnTo>
                          <a:pt x="891" y="1032"/>
                        </a:lnTo>
                        <a:lnTo>
                          <a:pt x="870" y="1043"/>
                        </a:lnTo>
                        <a:lnTo>
                          <a:pt x="849" y="1055"/>
                        </a:lnTo>
                        <a:lnTo>
                          <a:pt x="827" y="1065"/>
                        </a:lnTo>
                        <a:lnTo>
                          <a:pt x="815" y="1069"/>
                        </a:lnTo>
                        <a:lnTo>
                          <a:pt x="810" y="1072"/>
                        </a:lnTo>
                        <a:lnTo>
                          <a:pt x="805" y="1075"/>
                        </a:lnTo>
                        <a:lnTo>
                          <a:pt x="781" y="1082"/>
                        </a:lnTo>
                        <a:lnTo>
                          <a:pt x="759" y="1089"/>
                        </a:lnTo>
                        <a:lnTo>
                          <a:pt x="711" y="1100"/>
                        </a:lnTo>
                        <a:lnTo>
                          <a:pt x="661" y="1107"/>
                        </a:lnTo>
                        <a:lnTo>
                          <a:pt x="647" y="1107"/>
                        </a:lnTo>
                        <a:lnTo>
                          <a:pt x="641" y="1107"/>
                        </a:lnTo>
                        <a:lnTo>
                          <a:pt x="637" y="1107"/>
                        </a:lnTo>
                        <a:lnTo>
                          <a:pt x="635" y="1108"/>
                        </a:lnTo>
                        <a:lnTo>
                          <a:pt x="610" y="1109"/>
                        </a:lnTo>
                        <a:lnTo>
                          <a:pt x="580" y="1108"/>
                        </a:lnTo>
                        <a:lnTo>
                          <a:pt x="552" y="1106"/>
                        </a:lnTo>
                        <a:lnTo>
                          <a:pt x="498" y="1099"/>
                        </a:lnTo>
                        <a:lnTo>
                          <a:pt x="444" y="1085"/>
                        </a:lnTo>
                        <a:lnTo>
                          <a:pt x="419" y="1077"/>
                        </a:lnTo>
                        <a:lnTo>
                          <a:pt x="396" y="1068"/>
                        </a:lnTo>
                        <a:lnTo>
                          <a:pt x="371" y="1057"/>
                        </a:lnTo>
                        <a:lnTo>
                          <a:pt x="347" y="1044"/>
                        </a:lnTo>
                        <a:lnTo>
                          <a:pt x="302" y="1017"/>
                        </a:lnTo>
                        <a:lnTo>
                          <a:pt x="257" y="983"/>
                        </a:lnTo>
                        <a:lnTo>
                          <a:pt x="218" y="947"/>
                        </a:lnTo>
                        <a:lnTo>
                          <a:pt x="197" y="925"/>
                        </a:lnTo>
                        <a:lnTo>
                          <a:pt x="179" y="905"/>
                        </a:lnTo>
                        <a:lnTo>
                          <a:pt x="161" y="882"/>
                        </a:lnTo>
                        <a:lnTo>
                          <a:pt x="146" y="861"/>
                        </a:lnTo>
                        <a:lnTo>
                          <a:pt x="130" y="837"/>
                        </a:lnTo>
                        <a:lnTo>
                          <a:pt x="118" y="814"/>
                        </a:lnTo>
                        <a:lnTo>
                          <a:pt x="95" y="767"/>
                        </a:lnTo>
                        <a:lnTo>
                          <a:pt x="85" y="741"/>
                        </a:lnTo>
                        <a:lnTo>
                          <a:pt x="77" y="716"/>
                        </a:lnTo>
                        <a:lnTo>
                          <a:pt x="69" y="690"/>
                        </a:lnTo>
                        <a:lnTo>
                          <a:pt x="65" y="665"/>
                        </a:lnTo>
                        <a:lnTo>
                          <a:pt x="58" y="610"/>
                        </a:lnTo>
                        <a:lnTo>
                          <a:pt x="55" y="582"/>
                        </a:lnTo>
                        <a:lnTo>
                          <a:pt x="55" y="555"/>
                        </a:lnTo>
                        <a:lnTo>
                          <a:pt x="58" y="497"/>
                        </a:lnTo>
                        <a:lnTo>
                          <a:pt x="65" y="443"/>
                        </a:lnTo>
                        <a:lnTo>
                          <a:pt x="77" y="389"/>
                        </a:lnTo>
                        <a:lnTo>
                          <a:pt x="95" y="341"/>
                        </a:lnTo>
                        <a:lnTo>
                          <a:pt x="118" y="292"/>
                        </a:lnTo>
                        <a:lnTo>
                          <a:pt x="146" y="246"/>
                        </a:lnTo>
                        <a:lnTo>
                          <a:pt x="179" y="202"/>
                        </a:lnTo>
                        <a:lnTo>
                          <a:pt x="218" y="163"/>
                        </a:lnTo>
                        <a:lnTo>
                          <a:pt x="239" y="140"/>
                        </a:lnTo>
                        <a:lnTo>
                          <a:pt x="263" y="120"/>
                        </a:lnTo>
                        <a:lnTo>
                          <a:pt x="312" y="84"/>
                        </a:lnTo>
                        <a:lnTo>
                          <a:pt x="337" y="69"/>
                        </a:lnTo>
                        <a:lnTo>
                          <a:pt x="364" y="55"/>
                        </a:lnTo>
                        <a:lnTo>
                          <a:pt x="419" y="33"/>
                        </a:lnTo>
                        <a:close/>
                      </a:path>
                    </a:pathLst>
                  </a:custGeom>
                  <a:solidFill>
                    <a:srgbClr val="ff69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6842160" y="4830120"/>
                    <a:ext cx="2041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3" h="884">
                        <a:moveTo>
                          <a:pt x="445" y="52"/>
                        </a:moveTo>
                        <a:lnTo>
                          <a:pt x="453" y="52"/>
                        </a:lnTo>
                        <a:lnTo>
                          <a:pt x="419" y="24"/>
                        </a:lnTo>
                        <a:lnTo>
                          <a:pt x="387" y="0"/>
                        </a:lnTo>
                        <a:lnTo>
                          <a:pt x="350" y="6"/>
                        </a:lnTo>
                        <a:lnTo>
                          <a:pt x="315" y="14"/>
                        </a:lnTo>
                        <a:lnTo>
                          <a:pt x="279" y="25"/>
                        </a:lnTo>
                        <a:lnTo>
                          <a:pt x="248" y="40"/>
                        </a:lnTo>
                        <a:lnTo>
                          <a:pt x="216" y="57"/>
                        </a:lnTo>
                        <a:lnTo>
                          <a:pt x="186" y="77"/>
                        </a:lnTo>
                        <a:lnTo>
                          <a:pt x="157" y="100"/>
                        </a:lnTo>
                        <a:lnTo>
                          <a:pt x="131" y="126"/>
                        </a:lnTo>
                        <a:lnTo>
                          <a:pt x="99" y="158"/>
                        </a:lnTo>
                        <a:lnTo>
                          <a:pt x="73" y="193"/>
                        </a:lnTo>
                        <a:lnTo>
                          <a:pt x="50" y="229"/>
                        </a:lnTo>
                        <a:lnTo>
                          <a:pt x="32" y="269"/>
                        </a:lnTo>
                        <a:lnTo>
                          <a:pt x="17" y="308"/>
                        </a:lnTo>
                        <a:lnTo>
                          <a:pt x="8" y="350"/>
                        </a:lnTo>
                        <a:lnTo>
                          <a:pt x="2" y="393"/>
                        </a:lnTo>
                        <a:lnTo>
                          <a:pt x="0" y="440"/>
                        </a:lnTo>
                        <a:lnTo>
                          <a:pt x="2" y="484"/>
                        </a:lnTo>
                        <a:lnTo>
                          <a:pt x="8" y="527"/>
                        </a:lnTo>
                        <a:lnTo>
                          <a:pt x="12" y="547"/>
                        </a:lnTo>
                        <a:lnTo>
                          <a:pt x="17" y="569"/>
                        </a:lnTo>
                        <a:lnTo>
                          <a:pt x="32" y="610"/>
                        </a:lnTo>
                        <a:lnTo>
                          <a:pt x="40" y="628"/>
                        </a:lnTo>
                        <a:lnTo>
                          <a:pt x="50" y="647"/>
                        </a:lnTo>
                        <a:lnTo>
                          <a:pt x="61" y="665"/>
                        </a:lnTo>
                        <a:lnTo>
                          <a:pt x="73" y="685"/>
                        </a:lnTo>
                        <a:lnTo>
                          <a:pt x="99" y="720"/>
                        </a:lnTo>
                        <a:lnTo>
                          <a:pt x="131" y="754"/>
                        </a:lnTo>
                        <a:lnTo>
                          <a:pt x="163" y="783"/>
                        </a:lnTo>
                        <a:lnTo>
                          <a:pt x="198" y="809"/>
                        </a:lnTo>
                        <a:lnTo>
                          <a:pt x="234" y="832"/>
                        </a:lnTo>
                        <a:lnTo>
                          <a:pt x="274" y="851"/>
                        </a:lnTo>
                        <a:lnTo>
                          <a:pt x="313" y="865"/>
                        </a:lnTo>
                        <a:lnTo>
                          <a:pt x="355" y="875"/>
                        </a:lnTo>
                        <a:lnTo>
                          <a:pt x="398" y="882"/>
                        </a:lnTo>
                        <a:lnTo>
                          <a:pt x="445" y="884"/>
                        </a:lnTo>
                        <a:lnTo>
                          <a:pt x="449" y="883"/>
                        </a:lnTo>
                        <a:lnTo>
                          <a:pt x="455" y="883"/>
                        </a:lnTo>
                        <a:lnTo>
                          <a:pt x="467" y="883"/>
                        </a:lnTo>
                        <a:lnTo>
                          <a:pt x="489" y="882"/>
                        </a:lnTo>
                        <a:lnTo>
                          <a:pt x="532" y="875"/>
                        </a:lnTo>
                        <a:lnTo>
                          <a:pt x="553" y="869"/>
                        </a:lnTo>
                        <a:lnTo>
                          <a:pt x="574" y="865"/>
                        </a:lnTo>
                        <a:lnTo>
                          <a:pt x="615" y="851"/>
                        </a:lnTo>
                        <a:lnTo>
                          <a:pt x="633" y="841"/>
                        </a:lnTo>
                        <a:lnTo>
                          <a:pt x="652" y="832"/>
                        </a:lnTo>
                        <a:lnTo>
                          <a:pt x="671" y="821"/>
                        </a:lnTo>
                        <a:lnTo>
                          <a:pt x="690" y="809"/>
                        </a:lnTo>
                        <a:lnTo>
                          <a:pt x="707" y="796"/>
                        </a:lnTo>
                        <a:lnTo>
                          <a:pt x="725" y="783"/>
                        </a:lnTo>
                        <a:lnTo>
                          <a:pt x="759" y="754"/>
                        </a:lnTo>
                        <a:lnTo>
                          <a:pt x="782" y="729"/>
                        </a:lnTo>
                        <a:lnTo>
                          <a:pt x="803" y="706"/>
                        </a:lnTo>
                        <a:lnTo>
                          <a:pt x="795" y="662"/>
                        </a:lnTo>
                        <a:lnTo>
                          <a:pt x="789" y="621"/>
                        </a:lnTo>
                        <a:lnTo>
                          <a:pt x="774" y="644"/>
                        </a:lnTo>
                        <a:lnTo>
                          <a:pt x="765" y="655"/>
                        </a:lnTo>
                        <a:lnTo>
                          <a:pt x="760" y="661"/>
                        </a:lnTo>
                        <a:lnTo>
                          <a:pt x="757" y="668"/>
                        </a:lnTo>
                        <a:lnTo>
                          <a:pt x="738" y="690"/>
                        </a:lnTo>
                        <a:lnTo>
                          <a:pt x="727" y="702"/>
                        </a:lnTo>
                        <a:lnTo>
                          <a:pt x="718" y="714"/>
                        </a:lnTo>
                        <a:lnTo>
                          <a:pt x="689" y="740"/>
                        </a:lnTo>
                        <a:lnTo>
                          <a:pt x="673" y="751"/>
                        </a:lnTo>
                        <a:lnTo>
                          <a:pt x="658" y="763"/>
                        </a:lnTo>
                        <a:lnTo>
                          <a:pt x="641" y="772"/>
                        </a:lnTo>
                        <a:lnTo>
                          <a:pt x="625" y="782"/>
                        </a:lnTo>
                        <a:lnTo>
                          <a:pt x="616" y="785"/>
                        </a:lnTo>
                        <a:lnTo>
                          <a:pt x="608" y="790"/>
                        </a:lnTo>
                        <a:lnTo>
                          <a:pt x="592" y="799"/>
                        </a:lnTo>
                        <a:lnTo>
                          <a:pt x="574" y="805"/>
                        </a:lnTo>
                        <a:lnTo>
                          <a:pt x="565" y="807"/>
                        </a:lnTo>
                        <a:lnTo>
                          <a:pt x="561" y="808"/>
                        </a:lnTo>
                        <a:lnTo>
                          <a:pt x="557" y="810"/>
                        </a:lnTo>
                        <a:lnTo>
                          <a:pt x="521" y="819"/>
                        </a:lnTo>
                        <a:lnTo>
                          <a:pt x="502" y="822"/>
                        </a:lnTo>
                        <a:lnTo>
                          <a:pt x="484" y="825"/>
                        </a:lnTo>
                        <a:lnTo>
                          <a:pt x="445" y="827"/>
                        </a:lnTo>
                        <a:lnTo>
                          <a:pt x="404" y="825"/>
                        </a:lnTo>
                        <a:lnTo>
                          <a:pt x="367" y="819"/>
                        </a:lnTo>
                        <a:lnTo>
                          <a:pt x="329" y="810"/>
                        </a:lnTo>
                        <a:lnTo>
                          <a:pt x="295" y="799"/>
                        </a:lnTo>
                        <a:lnTo>
                          <a:pt x="261" y="782"/>
                        </a:lnTo>
                        <a:lnTo>
                          <a:pt x="229" y="763"/>
                        </a:lnTo>
                        <a:lnTo>
                          <a:pt x="199" y="740"/>
                        </a:lnTo>
                        <a:lnTo>
                          <a:pt x="171" y="714"/>
                        </a:lnTo>
                        <a:lnTo>
                          <a:pt x="156" y="698"/>
                        </a:lnTo>
                        <a:lnTo>
                          <a:pt x="143" y="683"/>
                        </a:lnTo>
                        <a:lnTo>
                          <a:pt x="131" y="668"/>
                        </a:lnTo>
                        <a:lnTo>
                          <a:pt x="121" y="653"/>
                        </a:lnTo>
                        <a:lnTo>
                          <a:pt x="109" y="636"/>
                        </a:lnTo>
                        <a:lnTo>
                          <a:pt x="100" y="620"/>
                        </a:lnTo>
                        <a:lnTo>
                          <a:pt x="85" y="587"/>
                        </a:lnTo>
                        <a:lnTo>
                          <a:pt x="78" y="569"/>
                        </a:lnTo>
                        <a:lnTo>
                          <a:pt x="72" y="552"/>
                        </a:lnTo>
                        <a:lnTo>
                          <a:pt x="64" y="516"/>
                        </a:lnTo>
                        <a:lnTo>
                          <a:pt x="58" y="478"/>
                        </a:lnTo>
                        <a:lnTo>
                          <a:pt x="57" y="440"/>
                        </a:lnTo>
                        <a:lnTo>
                          <a:pt x="58" y="399"/>
                        </a:lnTo>
                        <a:lnTo>
                          <a:pt x="64" y="362"/>
                        </a:lnTo>
                        <a:lnTo>
                          <a:pt x="72" y="324"/>
                        </a:lnTo>
                        <a:lnTo>
                          <a:pt x="85" y="290"/>
                        </a:lnTo>
                        <a:lnTo>
                          <a:pt x="100" y="256"/>
                        </a:lnTo>
                        <a:lnTo>
                          <a:pt x="121" y="224"/>
                        </a:lnTo>
                        <a:lnTo>
                          <a:pt x="143" y="194"/>
                        </a:lnTo>
                        <a:lnTo>
                          <a:pt x="171" y="165"/>
                        </a:lnTo>
                        <a:lnTo>
                          <a:pt x="199" y="138"/>
                        </a:lnTo>
                        <a:lnTo>
                          <a:pt x="229" y="116"/>
                        </a:lnTo>
                        <a:lnTo>
                          <a:pt x="261" y="95"/>
                        </a:lnTo>
                        <a:lnTo>
                          <a:pt x="295" y="80"/>
                        </a:lnTo>
                        <a:lnTo>
                          <a:pt x="329" y="67"/>
                        </a:lnTo>
                        <a:lnTo>
                          <a:pt x="367" y="59"/>
                        </a:lnTo>
                        <a:lnTo>
                          <a:pt x="404" y="53"/>
                        </a:lnTo>
                        <a:lnTo>
                          <a:pt x="445" y="52"/>
                        </a:lnTo>
                        <a:close/>
                      </a:path>
                    </a:pathLst>
                  </a:custGeom>
                  <a:solidFill>
                    <a:srgbClr val="ff77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6856920" y="4843800"/>
                    <a:ext cx="18540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32" h="775">
                        <a:moveTo>
                          <a:pt x="396" y="0"/>
                        </a:moveTo>
                        <a:lnTo>
                          <a:pt x="388" y="0"/>
                        </a:lnTo>
                        <a:lnTo>
                          <a:pt x="347" y="1"/>
                        </a:lnTo>
                        <a:lnTo>
                          <a:pt x="310" y="7"/>
                        </a:lnTo>
                        <a:lnTo>
                          <a:pt x="272" y="15"/>
                        </a:lnTo>
                        <a:lnTo>
                          <a:pt x="238" y="28"/>
                        </a:lnTo>
                        <a:lnTo>
                          <a:pt x="204" y="43"/>
                        </a:lnTo>
                        <a:lnTo>
                          <a:pt x="172" y="64"/>
                        </a:lnTo>
                        <a:lnTo>
                          <a:pt x="142" y="86"/>
                        </a:lnTo>
                        <a:lnTo>
                          <a:pt x="114" y="113"/>
                        </a:lnTo>
                        <a:lnTo>
                          <a:pt x="86" y="142"/>
                        </a:lnTo>
                        <a:lnTo>
                          <a:pt x="64" y="172"/>
                        </a:lnTo>
                        <a:lnTo>
                          <a:pt x="43" y="204"/>
                        </a:lnTo>
                        <a:lnTo>
                          <a:pt x="28" y="238"/>
                        </a:lnTo>
                        <a:lnTo>
                          <a:pt x="15" y="272"/>
                        </a:lnTo>
                        <a:lnTo>
                          <a:pt x="7" y="310"/>
                        </a:lnTo>
                        <a:lnTo>
                          <a:pt x="1" y="347"/>
                        </a:lnTo>
                        <a:lnTo>
                          <a:pt x="0" y="388"/>
                        </a:lnTo>
                        <a:lnTo>
                          <a:pt x="1" y="426"/>
                        </a:lnTo>
                        <a:lnTo>
                          <a:pt x="7" y="464"/>
                        </a:lnTo>
                        <a:lnTo>
                          <a:pt x="15" y="500"/>
                        </a:lnTo>
                        <a:lnTo>
                          <a:pt x="21" y="517"/>
                        </a:lnTo>
                        <a:lnTo>
                          <a:pt x="28" y="535"/>
                        </a:lnTo>
                        <a:lnTo>
                          <a:pt x="43" y="568"/>
                        </a:lnTo>
                        <a:lnTo>
                          <a:pt x="52" y="584"/>
                        </a:lnTo>
                        <a:lnTo>
                          <a:pt x="64" y="601"/>
                        </a:lnTo>
                        <a:lnTo>
                          <a:pt x="74" y="616"/>
                        </a:lnTo>
                        <a:lnTo>
                          <a:pt x="86" y="631"/>
                        </a:lnTo>
                        <a:lnTo>
                          <a:pt x="99" y="646"/>
                        </a:lnTo>
                        <a:lnTo>
                          <a:pt x="114" y="662"/>
                        </a:lnTo>
                        <a:lnTo>
                          <a:pt x="142" y="688"/>
                        </a:lnTo>
                        <a:lnTo>
                          <a:pt x="172" y="711"/>
                        </a:lnTo>
                        <a:lnTo>
                          <a:pt x="204" y="730"/>
                        </a:lnTo>
                        <a:lnTo>
                          <a:pt x="238" y="747"/>
                        </a:lnTo>
                        <a:lnTo>
                          <a:pt x="272" y="758"/>
                        </a:lnTo>
                        <a:lnTo>
                          <a:pt x="310" y="767"/>
                        </a:lnTo>
                        <a:lnTo>
                          <a:pt x="347" y="773"/>
                        </a:lnTo>
                        <a:lnTo>
                          <a:pt x="388" y="775"/>
                        </a:lnTo>
                        <a:lnTo>
                          <a:pt x="427" y="773"/>
                        </a:lnTo>
                        <a:lnTo>
                          <a:pt x="445" y="770"/>
                        </a:lnTo>
                        <a:lnTo>
                          <a:pt x="464" y="767"/>
                        </a:lnTo>
                        <a:lnTo>
                          <a:pt x="500" y="758"/>
                        </a:lnTo>
                        <a:lnTo>
                          <a:pt x="504" y="756"/>
                        </a:lnTo>
                        <a:lnTo>
                          <a:pt x="508" y="755"/>
                        </a:lnTo>
                        <a:lnTo>
                          <a:pt x="517" y="753"/>
                        </a:lnTo>
                        <a:lnTo>
                          <a:pt x="535" y="747"/>
                        </a:lnTo>
                        <a:lnTo>
                          <a:pt x="551" y="738"/>
                        </a:lnTo>
                        <a:lnTo>
                          <a:pt x="559" y="733"/>
                        </a:lnTo>
                        <a:lnTo>
                          <a:pt x="568" y="730"/>
                        </a:lnTo>
                        <a:lnTo>
                          <a:pt x="584" y="720"/>
                        </a:lnTo>
                        <a:lnTo>
                          <a:pt x="601" y="711"/>
                        </a:lnTo>
                        <a:lnTo>
                          <a:pt x="616" y="699"/>
                        </a:lnTo>
                        <a:lnTo>
                          <a:pt x="632" y="688"/>
                        </a:lnTo>
                        <a:lnTo>
                          <a:pt x="661" y="662"/>
                        </a:lnTo>
                        <a:lnTo>
                          <a:pt x="670" y="650"/>
                        </a:lnTo>
                        <a:lnTo>
                          <a:pt x="681" y="638"/>
                        </a:lnTo>
                        <a:lnTo>
                          <a:pt x="700" y="616"/>
                        </a:lnTo>
                        <a:lnTo>
                          <a:pt x="703" y="609"/>
                        </a:lnTo>
                        <a:lnTo>
                          <a:pt x="708" y="603"/>
                        </a:lnTo>
                        <a:lnTo>
                          <a:pt x="717" y="592"/>
                        </a:lnTo>
                        <a:lnTo>
                          <a:pt x="732" y="569"/>
                        </a:lnTo>
                        <a:lnTo>
                          <a:pt x="720" y="520"/>
                        </a:lnTo>
                        <a:lnTo>
                          <a:pt x="710" y="476"/>
                        </a:lnTo>
                        <a:lnTo>
                          <a:pt x="703" y="495"/>
                        </a:lnTo>
                        <a:lnTo>
                          <a:pt x="695" y="516"/>
                        </a:lnTo>
                        <a:lnTo>
                          <a:pt x="686" y="534"/>
                        </a:lnTo>
                        <a:lnTo>
                          <a:pt x="677" y="553"/>
                        </a:lnTo>
                        <a:lnTo>
                          <a:pt x="670" y="561"/>
                        </a:lnTo>
                        <a:lnTo>
                          <a:pt x="665" y="570"/>
                        </a:lnTo>
                        <a:lnTo>
                          <a:pt x="652" y="588"/>
                        </a:lnTo>
                        <a:lnTo>
                          <a:pt x="639" y="605"/>
                        </a:lnTo>
                        <a:lnTo>
                          <a:pt x="624" y="624"/>
                        </a:lnTo>
                        <a:lnTo>
                          <a:pt x="610" y="634"/>
                        </a:lnTo>
                        <a:lnTo>
                          <a:pt x="598" y="645"/>
                        </a:lnTo>
                        <a:lnTo>
                          <a:pt x="584" y="654"/>
                        </a:lnTo>
                        <a:lnTo>
                          <a:pt x="577" y="659"/>
                        </a:lnTo>
                        <a:lnTo>
                          <a:pt x="574" y="661"/>
                        </a:lnTo>
                        <a:lnTo>
                          <a:pt x="572" y="664"/>
                        </a:lnTo>
                        <a:lnTo>
                          <a:pt x="544" y="680"/>
                        </a:lnTo>
                        <a:lnTo>
                          <a:pt x="530" y="687"/>
                        </a:lnTo>
                        <a:lnTo>
                          <a:pt x="516" y="695"/>
                        </a:lnTo>
                        <a:lnTo>
                          <a:pt x="500" y="699"/>
                        </a:lnTo>
                        <a:lnTo>
                          <a:pt x="492" y="702"/>
                        </a:lnTo>
                        <a:lnTo>
                          <a:pt x="485" y="705"/>
                        </a:lnTo>
                        <a:lnTo>
                          <a:pt x="454" y="713"/>
                        </a:lnTo>
                        <a:lnTo>
                          <a:pt x="437" y="715"/>
                        </a:lnTo>
                        <a:lnTo>
                          <a:pt x="421" y="718"/>
                        </a:lnTo>
                        <a:lnTo>
                          <a:pt x="412" y="718"/>
                        </a:lnTo>
                        <a:lnTo>
                          <a:pt x="407" y="718"/>
                        </a:lnTo>
                        <a:lnTo>
                          <a:pt x="405" y="718"/>
                        </a:lnTo>
                        <a:lnTo>
                          <a:pt x="404" y="719"/>
                        </a:lnTo>
                        <a:lnTo>
                          <a:pt x="388" y="720"/>
                        </a:lnTo>
                        <a:lnTo>
                          <a:pt x="353" y="718"/>
                        </a:lnTo>
                        <a:lnTo>
                          <a:pt x="321" y="713"/>
                        </a:lnTo>
                        <a:lnTo>
                          <a:pt x="289" y="705"/>
                        </a:lnTo>
                        <a:lnTo>
                          <a:pt x="260" y="695"/>
                        </a:lnTo>
                        <a:lnTo>
                          <a:pt x="230" y="680"/>
                        </a:lnTo>
                        <a:lnTo>
                          <a:pt x="203" y="664"/>
                        </a:lnTo>
                        <a:lnTo>
                          <a:pt x="176" y="645"/>
                        </a:lnTo>
                        <a:lnTo>
                          <a:pt x="152" y="624"/>
                        </a:lnTo>
                        <a:lnTo>
                          <a:pt x="128" y="597"/>
                        </a:lnTo>
                        <a:lnTo>
                          <a:pt x="109" y="571"/>
                        </a:lnTo>
                        <a:lnTo>
                          <a:pt x="92" y="544"/>
                        </a:lnTo>
                        <a:lnTo>
                          <a:pt x="80" y="516"/>
                        </a:lnTo>
                        <a:lnTo>
                          <a:pt x="73" y="500"/>
                        </a:lnTo>
                        <a:lnTo>
                          <a:pt x="68" y="485"/>
                        </a:lnTo>
                        <a:lnTo>
                          <a:pt x="61" y="454"/>
                        </a:lnTo>
                        <a:lnTo>
                          <a:pt x="58" y="437"/>
                        </a:lnTo>
                        <a:lnTo>
                          <a:pt x="57" y="421"/>
                        </a:lnTo>
                        <a:lnTo>
                          <a:pt x="56" y="388"/>
                        </a:lnTo>
                        <a:lnTo>
                          <a:pt x="57" y="353"/>
                        </a:lnTo>
                        <a:lnTo>
                          <a:pt x="61" y="321"/>
                        </a:lnTo>
                        <a:lnTo>
                          <a:pt x="68" y="289"/>
                        </a:lnTo>
                        <a:lnTo>
                          <a:pt x="80" y="260"/>
                        </a:lnTo>
                        <a:lnTo>
                          <a:pt x="92" y="230"/>
                        </a:lnTo>
                        <a:lnTo>
                          <a:pt x="109" y="203"/>
                        </a:lnTo>
                        <a:lnTo>
                          <a:pt x="128" y="176"/>
                        </a:lnTo>
                        <a:lnTo>
                          <a:pt x="152" y="152"/>
                        </a:lnTo>
                        <a:lnTo>
                          <a:pt x="176" y="128"/>
                        </a:lnTo>
                        <a:lnTo>
                          <a:pt x="203" y="109"/>
                        </a:lnTo>
                        <a:lnTo>
                          <a:pt x="230" y="92"/>
                        </a:lnTo>
                        <a:lnTo>
                          <a:pt x="260" y="79"/>
                        </a:lnTo>
                        <a:lnTo>
                          <a:pt x="289" y="68"/>
                        </a:lnTo>
                        <a:lnTo>
                          <a:pt x="321" y="61"/>
                        </a:lnTo>
                        <a:lnTo>
                          <a:pt x="353" y="57"/>
                        </a:lnTo>
                        <a:lnTo>
                          <a:pt x="388" y="56"/>
                        </a:lnTo>
                        <a:lnTo>
                          <a:pt x="425" y="57"/>
                        </a:lnTo>
                        <a:lnTo>
                          <a:pt x="464" y="64"/>
                        </a:lnTo>
                        <a:lnTo>
                          <a:pt x="454" y="56"/>
                        </a:lnTo>
                        <a:lnTo>
                          <a:pt x="424" y="26"/>
                        </a:lnTo>
                        <a:lnTo>
                          <a:pt x="396" y="0"/>
                        </a:lnTo>
                        <a:close/>
                      </a:path>
                    </a:pathLst>
                  </a:custGeom>
                  <a:solidFill>
                    <a:srgbClr val="ff7c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6828840" y="4818960"/>
                    <a:ext cx="217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0" h="981">
                        <a:moveTo>
                          <a:pt x="440" y="44"/>
                        </a:moveTo>
                        <a:lnTo>
                          <a:pt x="375" y="0"/>
                        </a:lnTo>
                        <a:lnTo>
                          <a:pt x="343" y="8"/>
                        </a:lnTo>
                        <a:lnTo>
                          <a:pt x="312" y="19"/>
                        </a:lnTo>
                        <a:lnTo>
                          <a:pt x="281" y="32"/>
                        </a:lnTo>
                        <a:lnTo>
                          <a:pt x="253" y="49"/>
                        </a:lnTo>
                        <a:lnTo>
                          <a:pt x="224" y="66"/>
                        </a:lnTo>
                        <a:lnTo>
                          <a:pt x="196" y="85"/>
                        </a:lnTo>
                        <a:lnTo>
                          <a:pt x="145" y="131"/>
                        </a:lnTo>
                        <a:lnTo>
                          <a:pt x="111" y="168"/>
                        </a:lnTo>
                        <a:lnTo>
                          <a:pt x="82" y="207"/>
                        </a:lnTo>
                        <a:lnTo>
                          <a:pt x="57" y="248"/>
                        </a:lnTo>
                        <a:lnTo>
                          <a:pt x="36" y="292"/>
                        </a:lnTo>
                        <a:lnTo>
                          <a:pt x="21" y="336"/>
                        </a:lnTo>
                        <a:lnTo>
                          <a:pt x="9" y="384"/>
                        </a:lnTo>
                        <a:lnTo>
                          <a:pt x="2" y="433"/>
                        </a:lnTo>
                        <a:lnTo>
                          <a:pt x="0" y="484"/>
                        </a:lnTo>
                        <a:lnTo>
                          <a:pt x="2" y="534"/>
                        </a:lnTo>
                        <a:lnTo>
                          <a:pt x="5" y="557"/>
                        </a:lnTo>
                        <a:lnTo>
                          <a:pt x="9" y="582"/>
                        </a:lnTo>
                        <a:lnTo>
                          <a:pt x="14" y="605"/>
                        </a:lnTo>
                        <a:lnTo>
                          <a:pt x="21" y="629"/>
                        </a:lnTo>
                        <a:lnTo>
                          <a:pt x="36" y="674"/>
                        </a:lnTo>
                        <a:lnTo>
                          <a:pt x="45" y="695"/>
                        </a:lnTo>
                        <a:lnTo>
                          <a:pt x="57" y="716"/>
                        </a:lnTo>
                        <a:lnTo>
                          <a:pt x="68" y="737"/>
                        </a:lnTo>
                        <a:lnTo>
                          <a:pt x="82" y="758"/>
                        </a:lnTo>
                        <a:lnTo>
                          <a:pt x="95" y="777"/>
                        </a:lnTo>
                        <a:lnTo>
                          <a:pt x="111" y="798"/>
                        </a:lnTo>
                        <a:lnTo>
                          <a:pt x="127" y="816"/>
                        </a:lnTo>
                        <a:lnTo>
                          <a:pt x="145" y="835"/>
                        </a:lnTo>
                        <a:lnTo>
                          <a:pt x="182" y="869"/>
                        </a:lnTo>
                        <a:lnTo>
                          <a:pt x="221" y="899"/>
                        </a:lnTo>
                        <a:lnTo>
                          <a:pt x="262" y="924"/>
                        </a:lnTo>
                        <a:lnTo>
                          <a:pt x="306" y="944"/>
                        </a:lnTo>
                        <a:lnTo>
                          <a:pt x="351" y="960"/>
                        </a:lnTo>
                        <a:lnTo>
                          <a:pt x="398" y="971"/>
                        </a:lnTo>
                        <a:lnTo>
                          <a:pt x="447" y="978"/>
                        </a:lnTo>
                        <a:lnTo>
                          <a:pt x="472" y="980"/>
                        </a:lnTo>
                        <a:lnTo>
                          <a:pt x="498" y="981"/>
                        </a:lnTo>
                        <a:lnTo>
                          <a:pt x="509" y="980"/>
                        </a:lnTo>
                        <a:lnTo>
                          <a:pt x="522" y="980"/>
                        </a:lnTo>
                        <a:lnTo>
                          <a:pt x="547" y="978"/>
                        </a:lnTo>
                        <a:lnTo>
                          <a:pt x="558" y="976"/>
                        </a:lnTo>
                        <a:lnTo>
                          <a:pt x="560" y="975"/>
                        </a:lnTo>
                        <a:lnTo>
                          <a:pt x="564" y="975"/>
                        </a:lnTo>
                        <a:lnTo>
                          <a:pt x="571" y="975"/>
                        </a:lnTo>
                        <a:lnTo>
                          <a:pt x="595" y="971"/>
                        </a:lnTo>
                        <a:lnTo>
                          <a:pt x="618" y="965"/>
                        </a:lnTo>
                        <a:lnTo>
                          <a:pt x="630" y="962"/>
                        </a:lnTo>
                        <a:lnTo>
                          <a:pt x="642" y="960"/>
                        </a:lnTo>
                        <a:lnTo>
                          <a:pt x="687" y="944"/>
                        </a:lnTo>
                        <a:lnTo>
                          <a:pt x="708" y="934"/>
                        </a:lnTo>
                        <a:lnTo>
                          <a:pt x="712" y="930"/>
                        </a:lnTo>
                        <a:lnTo>
                          <a:pt x="718" y="928"/>
                        </a:lnTo>
                        <a:lnTo>
                          <a:pt x="729" y="924"/>
                        </a:lnTo>
                        <a:lnTo>
                          <a:pt x="750" y="911"/>
                        </a:lnTo>
                        <a:lnTo>
                          <a:pt x="760" y="904"/>
                        </a:lnTo>
                        <a:lnTo>
                          <a:pt x="771" y="899"/>
                        </a:lnTo>
                        <a:lnTo>
                          <a:pt x="780" y="891"/>
                        </a:lnTo>
                        <a:lnTo>
                          <a:pt x="791" y="884"/>
                        </a:lnTo>
                        <a:lnTo>
                          <a:pt x="811" y="869"/>
                        </a:lnTo>
                        <a:lnTo>
                          <a:pt x="849" y="835"/>
                        </a:lnTo>
                        <a:lnTo>
                          <a:pt x="855" y="829"/>
                        </a:lnTo>
                        <a:lnTo>
                          <a:pt x="860" y="826"/>
                        </a:lnTo>
                        <a:lnTo>
                          <a:pt x="857" y="786"/>
                        </a:lnTo>
                        <a:lnTo>
                          <a:pt x="856" y="750"/>
                        </a:lnTo>
                        <a:lnTo>
                          <a:pt x="835" y="773"/>
                        </a:lnTo>
                        <a:lnTo>
                          <a:pt x="812" y="798"/>
                        </a:lnTo>
                        <a:lnTo>
                          <a:pt x="778" y="827"/>
                        </a:lnTo>
                        <a:lnTo>
                          <a:pt x="760" y="840"/>
                        </a:lnTo>
                        <a:lnTo>
                          <a:pt x="743" y="853"/>
                        </a:lnTo>
                        <a:lnTo>
                          <a:pt x="724" y="865"/>
                        </a:lnTo>
                        <a:lnTo>
                          <a:pt x="705" y="876"/>
                        </a:lnTo>
                        <a:lnTo>
                          <a:pt x="686" y="885"/>
                        </a:lnTo>
                        <a:lnTo>
                          <a:pt x="668" y="895"/>
                        </a:lnTo>
                        <a:lnTo>
                          <a:pt x="627" y="909"/>
                        </a:lnTo>
                        <a:lnTo>
                          <a:pt x="606" y="913"/>
                        </a:lnTo>
                        <a:lnTo>
                          <a:pt x="585" y="919"/>
                        </a:lnTo>
                        <a:lnTo>
                          <a:pt x="542" y="926"/>
                        </a:lnTo>
                        <a:lnTo>
                          <a:pt x="520" y="927"/>
                        </a:lnTo>
                        <a:lnTo>
                          <a:pt x="508" y="927"/>
                        </a:lnTo>
                        <a:lnTo>
                          <a:pt x="502" y="927"/>
                        </a:lnTo>
                        <a:lnTo>
                          <a:pt x="498" y="928"/>
                        </a:lnTo>
                        <a:lnTo>
                          <a:pt x="451" y="926"/>
                        </a:lnTo>
                        <a:lnTo>
                          <a:pt x="408" y="919"/>
                        </a:lnTo>
                        <a:lnTo>
                          <a:pt x="366" y="909"/>
                        </a:lnTo>
                        <a:lnTo>
                          <a:pt x="327" y="895"/>
                        </a:lnTo>
                        <a:lnTo>
                          <a:pt x="287" y="876"/>
                        </a:lnTo>
                        <a:lnTo>
                          <a:pt x="251" y="853"/>
                        </a:lnTo>
                        <a:lnTo>
                          <a:pt x="216" y="827"/>
                        </a:lnTo>
                        <a:lnTo>
                          <a:pt x="184" y="798"/>
                        </a:lnTo>
                        <a:lnTo>
                          <a:pt x="152" y="764"/>
                        </a:lnTo>
                        <a:lnTo>
                          <a:pt x="126" y="729"/>
                        </a:lnTo>
                        <a:lnTo>
                          <a:pt x="114" y="709"/>
                        </a:lnTo>
                        <a:lnTo>
                          <a:pt x="103" y="691"/>
                        </a:lnTo>
                        <a:lnTo>
                          <a:pt x="93" y="672"/>
                        </a:lnTo>
                        <a:lnTo>
                          <a:pt x="85" y="654"/>
                        </a:lnTo>
                        <a:lnTo>
                          <a:pt x="70" y="613"/>
                        </a:lnTo>
                        <a:lnTo>
                          <a:pt x="65" y="591"/>
                        </a:lnTo>
                        <a:lnTo>
                          <a:pt x="61" y="571"/>
                        </a:lnTo>
                        <a:lnTo>
                          <a:pt x="55" y="528"/>
                        </a:lnTo>
                        <a:lnTo>
                          <a:pt x="53" y="484"/>
                        </a:lnTo>
                        <a:lnTo>
                          <a:pt x="55" y="437"/>
                        </a:lnTo>
                        <a:lnTo>
                          <a:pt x="61" y="394"/>
                        </a:lnTo>
                        <a:lnTo>
                          <a:pt x="70" y="352"/>
                        </a:lnTo>
                        <a:lnTo>
                          <a:pt x="85" y="313"/>
                        </a:lnTo>
                        <a:lnTo>
                          <a:pt x="103" y="273"/>
                        </a:lnTo>
                        <a:lnTo>
                          <a:pt x="126" y="237"/>
                        </a:lnTo>
                        <a:lnTo>
                          <a:pt x="152" y="202"/>
                        </a:lnTo>
                        <a:lnTo>
                          <a:pt x="184" y="170"/>
                        </a:lnTo>
                        <a:lnTo>
                          <a:pt x="210" y="144"/>
                        </a:lnTo>
                        <a:lnTo>
                          <a:pt x="239" y="121"/>
                        </a:lnTo>
                        <a:lnTo>
                          <a:pt x="269" y="101"/>
                        </a:lnTo>
                        <a:lnTo>
                          <a:pt x="301" y="84"/>
                        </a:lnTo>
                        <a:lnTo>
                          <a:pt x="332" y="69"/>
                        </a:lnTo>
                        <a:lnTo>
                          <a:pt x="368" y="58"/>
                        </a:lnTo>
                        <a:lnTo>
                          <a:pt x="403" y="50"/>
                        </a:lnTo>
                        <a:lnTo>
                          <a:pt x="440" y="44"/>
                        </a:lnTo>
                        <a:close/>
                      </a:path>
                    </a:pathLst>
                  </a:custGeom>
                  <a:solidFill>
                    <a:srgbClr val="ff7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6729840" y="4781880"/>
                    <a:ext cx="297360" cy="38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0" h="1515">
                        <a:moveTo>
                          <a:pt x="261" y="0"/>
                        </a:moveTo>
                        <a:lnTo>
                          <a:pt x="259" y="1"/>
                        </a:lnTo>
                        <a:lnTo>
                          <a:pt x="259" y="2"/>
                        </a:lnTo>
                        <a:lnTo>
                          <a:pt x="226" y="34"/>
                        </a:lnTo>
                        <a:lnTo>
                          <a:pt x="197" y="68"/>
                        </a:lnTo>
                        <a:lnTo>
                          <a:pt x="169" y="102"/>
                        </a:lnTo>
                        <a:lnTo>
                          <a:pt x="145" y="138"/>
                        </a:lnTo>
                        <a:lnTo>
                          <a:pt x="122" y="173"/>
                        </a:lnTo>
                        <a:lnTo>
                          <a:pt x="100" y="210"/>
                        </a:lnTo>
                        <a:lnTo>
                          <a:pt x="81" y="248"/>
                        </a:lnTo>
                        <a:lnTo>
                          <a:pt x="65" y="287"/>
                        </a:lnTo>
                        <a:lnTo>
                          <a:pt x="48" y="326"/>
                        </a:lnTo>
                        <a:lnTo>
                          <a:pt x="35" y="367"/>
                        </a:lnTo>
                        <a:lnTo>
                          <a:pt x="24" y="408"/>
                        </a:lnTo>
                        <a:lnTo>
                          <a:pt x="16" y="451"/>
                        </a:lnTo>
                        <a:lnTo>
                          <a:pt x="4" y="538"/>
                        </a:lnTo>
                        <a:lnTo>
                          <a:pt x="0" y="630"/>
                        </a:lnTo>
                        <a:lnTo>
                          <a:pt x="0" y="674"/>
                        </a:lnTo>
                        <a:lnTo>
                          <a:pt x="4" y="719"/>
                        </a:lnTo>
                        <a:lnTo>
                          <a:pt x="8" y="762"/>
                        </a:lnTo>
                        <a:lnTo>
                          <a:pt x="16" y="807"/>
                        </a:lnTo>
                        <a:lnTo>
                          <a:pt x="24" y="847"/>
                        </a:lnTo>
                        <a:lnTo>
                          <a:pt x="35" y="889"/>
                        </a:lnTo>
                        <a:lnTo>
                          <a:pt x="48" y="929"/>
                        </a:lnTo>
                        <a:lnTo>
                          <a:pt x="65" y="970"/>
                        </a:lnTo>
                        <a:lnTo>
                          <a:pt x="81" y="1007"/>
                        </a:lnTo>
                        <a:lnTo>
                          <a:pt x="100" y="1046"/>
                        </a:lnTo>
                        <a:lnTo>
                          <a:pt x="122" y="1082"/>
                        </a:lnTo>
                        <a:lnTo>
                          <a:pt x="145" y="1119"/>
                        </a:lnTo>
                        <a:lnTo>
                          <a:pt x="169" y="1155"/>
                        </a:lnTo>
                        <a:lnTo>
                          <a:pt x="197" y="1190"/>
                        </a:lnTo>
                        <a:lnTo>
                          <a:pt x="226" y="1224"/>
                        </a:lnTo>
                        <a:lnTo>
                          <a:pt x="259" y="1258"/>
                        </a:lnTo>
                        <a:lnTo>
                          <a:pt x="290" y="1288"/>
                        </a:lnTo>
                        <a:lnTo>
                          <a:pt x="324" y="1317"/>
                        </a:lnTo>
                        <a:lnTo>
                          <a:pt x="359" y="1343"/>
                        </a:lnTo>
                        <a:lnTo>
                          <a:pt x="395" y="1369"/>
                        </a:lnTo>
                        <a:lnTo>
                          <a:pt x="430" y="1391"/>
                        </a:lnTo>
                        <a:lnTo>
                          <a:pt x="467" y="1413"/>
                        </a:lnTo>
                        <a:lnTo>
                          <a:pt x="505" y="1432"/>
                        </a:lnTo>
                        <a:lnTo>
                          <a:pt x="544" y="1450"/>
                        </a:lnTo>
                        <a:lnTo>
                          <a:pt x="583" y="1465"/>
                        </a:lnTo>
                        <a:lnTo>
                          <a:pt x="624" y="1478"/>
                        </a:lnTo>
                        <a:lnTo>
                          <a:pt x="665" y="1488"/>
                        </a:lnTo>
                        <a:lnTo>
                          <a:pt x="708" y="1498"/>
                        </a:lnTo>
                        <a:lnTo>
                          <a:pt x="751" y="1505"/>
                        </a:lnTo>
                        <a:lnTo>
                          <a:pt x="795" y="1510"/>
                        </a:lnTo>
                        <a:lnTo>
                          <a:pt x="840" y="1514"/>
                        </a:lnTo>
                        <a:lnTo>
                          <a:pt x="887" y="1515"/>
                        </a:lnTo>
                        <a:lnTo>
                          <a:pt x="919" y="1514"/>
                        </a:lnTo>
                        <a:lnTo>
                          <a:pt x="935" y="1513"/>
                        </a:lnTo>
                        <a:lnTo>
                          <a:pt x="952" y="1513"/>
                        </a:lnTo>
                        <a:lnTo>
                          <a:pt x="1015" y="1507"/>
                        </a:lnTo>
                        <a:lnTo>
                          <a:pt x="1022" y="1505"/>
                        </a:lnTo>
                        <a:lnTo>
                          <a:pt x="1023" y="1504"/>
                        </a:lnTo>
                        <a:lnTo>
                          <a:pt x="1025" y="1504"/>
                        </a:lnTo>
                        <a:lnTo>
                          <a:pt x="1030" y="1504"/>
                        </a:lnTo>
                        <a:lnTo>
                          <a:pt x="1046" y="1501"/>
                        </a:lnTo>
                        <a:lnTo>
                          <a:pt x="1077" y="1497"/>
                        </a:lnTo>
                        <a:lnTo>
                          <a:pt x="1139" y="1483"/>
                        </a:lnTo>
                        <a:lnTo>
                          <a:pt x="1156" y="1449"/>
                        </a:lnTo>
                        <a:lnTo>
                          <a:pt x="1170" y="1415"/>
                        </a:lnTo>
                        <a:lnTo>
                          <a:pt x="1136" y="1425"/>
                        </a:lnTo>
                        <a:lnTo>
                          <a:pt x="1102" y="1435"/>
                        </a:lnTo>
                        <a:lnTo>
                          <a:pt x="1084" y="1438"/>
                        </a:lnTo>
                        <a:lnTo>
                          <a:pt x="1067" y="1442"/>
                        </a:lnTo>
                        <a:lnTo>
                          <a:pt x="1033" y="1449"/>
                        </a:lnTo>
                        <a:lnTo>
                          <a:pt x="997" y="1454"/>
                        </a:lnTo>
                        <a:lnTo>
                          <a:pt x="961" y="1458"/>
                        </a:lnTo>
                        <a:lnTo>
                          <a:pt x="923" y="1461"/>
                        </a:lnTo>
                        <a:lnTo>
                          <a:pt x="887" y="1462"/>
                        </a:lnTo>
                        <a:lnTo>
                          <a:pt x="844" y="1461"/>
                        </a:lnTo>
                        <a:lnTo>
                          <a:pt x="802" y="1457"/>
                        </a:lnTo>
                        <a:lnTo>
                          <a:pt x="760" y="1452"/>
                        </a:lnTo>
                        <a:lnTo>
                          <a:pt x="720" y="1446"/>
                        </a:lnTo>
                        <a:lnTo>
                          <a:pt x="681" y="1437"/>
                        </a:lnTo>
                        <a:lnTo>
                          <a:pt x="642" y="1427"/>
                        </a:lnTo>
                        <a:lnTo>
                          <a:pt x="603" y="1414"/>
                        </a:lnTo>
                        <a:lnTo>
                          <a:pt x="567" y="1401"/>
                        </a:lnTo>
                        <a:lnTo>
                          <a:pt x="530" y="1384"/>
                        </a:lnTo>
                        <a:lnTo>
                          <a:pt x="495" y="1365"/>
                        </a:lnTo>
                        <a:lnTo>
                          <a:pt x="459" y="1345"/>
                        </a:lnTo>
                        <a:lnTo>
                          <a:pt x="425" y="1323"/>
                        </a:lnTo>
                        <a:lnTo>
                          <a:pt x="391" y="1300"/>
                        </a:lnTo>
                        <a:lnTo>
                          <a:pt x="360" y="1274"/>
                        </a:lnTo>
                        <a:lnTo>
                          <a:pt x="328" y="1246"/>
                        </a:lnTo>
                        <a:lnTo>
                          <a:pt x="298" y="1218"/>
                        </a:lnTo>
                        <a:lnTo>
                          <a:pt x="268" y="1186"/>
                        </a:lnTo>
                        <a:lnTo>
                          <a:pt x="241" y="1155"/>
                        </a:lnTo>
                        <a:lnTo>
                          <a:pt x="214" y="1122"/>
                        </a:lnTo>
                        <a:lnTo>
                          <a:pt x="191" y="1089"/>
                        </a:lnTo>
                        <a:lnTo>
                          <a:pt x="168" y="1054"/>
                        </a:lnTo>
                        <a:lnTo>
                          <a:pt x="149" y="1020"/>
                        </a:lnTo>
                        <a:lnTo>
                          <a:pt x="129" y="983"/>
                        </a:lnTo>
                        <a:lnTo>
                          <a:pt x="115" y="948"/>
                        </a:lnTo>
                        <a:lnTo>
                          <a:pt x="100" y="910"/>
                        </a:lnTo>
                        <a:lnTo>
                          <a:pt x="87" y="872"/>
                        </a:lnTo>
                        <a:lnTo>
                          <a:pt x="77" y="833"/>
                        </a:lnTo>
                        <a:lnTo>
                          <a:pt x="69" y="794"/>
                        </a:lnTo>
                        <a:lnTo>
                          <a:pt x="61" y="753"/>
                        </a:lnTo>
                        <a:lnTo>
                          <a:pt x="58" y="713"/>
                        </a:lnTo>
                        <a:lnTo>
                          <a:pt x="55" y="671"/>
                        </a:lnTo>
                        <a:lnTo>
                          <a:pt x="55" y="630"/>
                        </a:lnTo>
                        <a:lnTo>
                          <a:pt x="58" y="545"/>
                        </a:lnTo>
                        <a:lnTo>
                          <a:pt x="61" y="503"/>
                        </a:lnTo>
                        <a:lnTo>
                          <a:pt x="69" y="463"/>
                        </a:lnTo>
                        <a:lnTo>
                          <a:pt x="77" y="423"/>
                        </a:lnTo>
                        <a:lnTo>
                          <a:pt x="87" y="385"/>
                        </a:lnTo>
                        <a:lnTo>
                          <a:pt x="100" y="346"/>
                        </a:lnTo>
                        <a:lnTo>
                          <a:pt x="115" y="310"/>
                        </a:lnTo>
                        <a:lnTo>
                          <a:pt x="129" y="273"/>
                        </a:lnTo>
                        <a:lnTo>
                          <a:pt x="149" y="238"/>
                        </a:lnTo>
                        <a:lnTo>
                          <a:pt x="168" y="202"/>
                        </a:lnTo>
                        <a:lnTo>
                          <a:pt x="191" y="170"/>
                        </a:lnTo>
                        <a:lnTo>
                          <a:pt x="214" y="136"/>
                        </a:lnTo>
                        <a:lnTo>
                          <a:pt x="241" y="104"/>
                        </a:lnTo>
                        <a:lnTo>
                          <a:pt x="298" y="41"/>
                        </a:lnTo>
                        <a:lnTo>
                          <a:pt x="318" y="22"/>
                        </a:lnTo>
                        <a:lnTo>
                          <a:pt x="338" y="6"/>
                        </a:lnTo>
                        <a:lnTo>
                          <a:pt x="300" y="2"/>
                        </a:lnTo>
                        <a:lnTo>
                          <a:pt x="261" y="0"/>
                        </a:lnTo>
                        <a:close/>
                      </a:path>
                    </a:pathLst>
                  </a:custGeom>
                  <a:solidFill>
                    <a:srgbClr val="ff51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6771960" y="4789800"/>
                    <a:ext cx="27180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1320">
                        <a:moveTo>
                          <a:pt x="249" y="129"/>
                        </a:moveTo>
                        <a:lnTo>
                          <a:pt x="282" y="96"/>
                        </a:lnTo>
                        <a:lnTo>
                          <a:pt x="317" y="68"/>
                        </a:lnTo>
                        <a:lnTo>
                          <a:pt x="354" y="42"/>
                        </a:lnTo>
                        <a:lnTo>
                          <a:pt x="392" y="19"/>
                        </a:lnTo>
                        <a:lnTo>
                          <a:pt x="320" y="0"/>
                        </a:lnTo>
                        <a:lnTo>
                          <a:pt x="290" y="19"/>
                        </a:lnTo>
                        <a:lnTo>
                          <a:pt x="263" y="41"/>
                        </a:lnTo>
                        <a:lnTo>
                          <a:pt x="210" y="90"/>
                        </a:lnTo>
                        <a:lnTo>
                          <a:pt x="159" y="143"/>
                        </a:lnTo>
                        <a:lnTo>
                          <a:pt x="136" y="170"/>
                        </a:lnTo>
                        <a:lnTo>
                          <a:pt x="117" y="200"/>
                        </a:lnTo>
                        <a:lnTo>
                          <a:pt x="80" y="260"/>
                        </a:lnTo>
                        <a:lnTo>
                          <a:pt x="52" y="322"/>
                        </a:lnTo>
                        <a:lnTo>
                          <a:pt x="28" y="387"/>
                        </a:lnTo>
                        <a:lnTo>
                          <a:pt x="19" y="420"/>
                        </a:lnTo>
                        <a:lnTo>
                          <a:pt x="12" y="455"/>
                        </a:lnTo>
                        <a:lnTo>
                          <a:pt x="2" y="526"/>
                        </a:lnTo>
                        <a:lnTo>
                          <a:pt x="0" y="600"/>
                        </a:lnTo>
                        <a:lnTo>
                          <a:pt x="0" y="635"/>
                        </a:lnTo>
                        <a:lnTo>
                          <a:pt x="2" y="671"/>
                        </a:lnTo>
                        <a:lnTo>
                          <a:pt x="6" y="706"/>
                        </a:lnTo>
                        <a:lnTo>
                          <a:pt x="12" y="743"/>
                        </a:lnTo>
                        <a:lnTo>
                          <a:pt x="19" y="775"/>
                        </a:lnTo>
                        <a:lnTo>
                          <a:pt x="28" y="809"/>
                        </a:lnTo>
                        <a:lnTo>
                          <a:pt x="38" y="842"/>
                        </a:lnTo>
                        <a:lnTo>
                          <a:pt x="52" y="875"/>
                        </a:lnTo>
                        <a:lnTo>
                          <a:pt x="65" y="906"/>
                        </a:lnTo>
                        <a:lnTo>
                          <a:pt x="80" y="938"/>
                        </a:lnTo>
                        <a:lnTo>
                          <a:pt x="97" y="967"/>
                        </a:lnTo>
                        <a:lnTo>
                          <a:pt x="117" y="998"/>
                        </a:lnTo>
                        <a:lnTo>
                          <a:pt x="136" y="1026"/>
                        </a:lnTo>
                        <a:lnTo>
                          <a:pt x="159" y="1054"/>
                        </a:lnTo>
                        <a:lnTo>
                          <a:pt x="182" y="1081"/>
                        </a:lnTo>
                        <a:lnTo>
                          <a:pt x="210" y="1110"/>
                        </a:lnTo>
                        <a:lnTo>
                          <a:pt x="236" y="1135"/>
                        </a:lnTo>
                        <a:lnTo>
                          <a:pt x="263" y="1159"/>
                        </a:lnTo>
                        <a:lnTo>
                          <a:pt x="290" y="1180"/>
                        </a:lnTo>
                        <a:lnTo>
                          <a:pt x="320" y="1201"/>
                        </a:lnTo>
                        <a:lnTo>
                          <a:pt x="349" y="1219"/>
                        </a:lnTo>
                        <a:lnTo>
                          <a:pt x="380" y="1236"/>
                        </a:lnTo>
                        <a:lnTo>
                          <a:pt x="410" y="1252"/>
                        </a:lnTo>
                        <a:lnTo>
                          <a:pt x="442" y="1266"/>
                        </a:lnTo>
                        <a:lnTo>
                          <a:pt x="507" y="1289"/>
                        </a:lnTo>
                        <a:lnTo>
                          <a:pt x="540" y="1298"/>
                        </a:lnTo>
                        <a:lnTo>
                          <a:pt x="575" y="1306"/>
                        </a:lnTo>
                        <a:lnTo>
                          <a:pt x="610" y="1312"/>
                        </a:lnTo>
                        <a:lnTo>
                          <a:pt x="646" y="1316"/>
                        </a:lnTo>
                        <a:lnTo>
                          <a:pt x="683" y="1318"/>
                        </a:lnTo>
                        <a:lnTo>
                          <a:pt x="720" y="1320"/>
                        </a:lnTo>
                        <a:lnTo>
                          <a:pt x="724" y="1318"/>
                        </a:lnTo>
                        <a:lnTo>
                          <a:pt x="730" y="1318"/>
                        </a:lnTo>
                        <a:lnTo>
                          <a:pt x="742" y="1318"/>
                        </a:lnTo>
                        <a:lnTo>
                          <a:pt x="764" y="1317"/>
                        </a:lnTo>
                        <a:lnTo>
                          <a:pt x="786" y="1315"/>
                        </a:lnTo>
                        <a:lnTo>
                          <a:pt x="808" y="1314"/>
                        </a:lnTo>
                        <a:lnTo>
                          <a:pt x="829" y="1310"/>
                        </a:lnTo>
                        <a:lnTo>
                          <a:pt x="839" y="1308"/>
                        </a:lnTo>
                        <a:lnTo>
                          <a:pt x="850" y="1307"/>
                        </a:lnTo>
                        <a:lnTo>
                          <a:pt x="893" y="1299"/>
                        </a:lnTo>
                        <a:lnTo>
                          <a:pt x="913" y="1292"/>
                        </a:lnTo>
                        <a:lnTo>
                          <a:pt x="933" y="1287"/>
                        </a:lnTo>
                        <a:lnTo>
                          <a:pt x="974" y="1274"/>
                        </a:lnTo>
                        <a:lnTo>
                          <a:pt x="1013" y="1258"/>
                        </a:lnTo>
                        <a:lnTo>
                          <a:pt x="1032" y="1249"/>
                        </a:lnTo>
                        <a:lnTo>
                          <a:pt x="1052" y="1241"/>
                        </a:lnTo>
                        <a:lnTo>
                          <a:pt x="1068" y="1170"/>
                        </a:lnTo>
                        <a:lnTo>
                          <a:pt x="1048" y="1180"/>
                        </a:lnTo>
                        <a:lnTo>
                          <a:pt x="1028" y="1191"/>
                        </a:lnTo>
                        <a:lnTo>
                          <a:pt x="988" y="1211"/>
                        </a:lnTo>
                        <a:lnTo>
                          <a:pt x="976" y="1214"/>
                        </a:lnTo>
                        <a:lnTo>
                          <a:pt x="966" y="1219"/>
                        </a:lnTo>
                        <a:lnTo>
                          <a:pt x="946" y="1227"/>
                        </a:lnTo>
                        <a:lnTo>
                          <a:pt x="924" y="1233"/>
                        </a:lnTo>
                        <a:lnTo>
                          <a:pt x="904" y="1241"/>
                        </a:lnTo>
                        <a:lnTo>
                          <a:pt x="858" y="1250"/>
                        </a:lnTo>
                        <a:lnTo>
                          <a:pt x="813" y="1258"/>
                        </a:lnTo>
                        <a:lnTo>
                          <a:pt x="789" y="1261"/>
                        </a:lnTo>
                        <a:lnTo>
                          <a:pt x="766" y="1263"/>
                        </a:lnTo>
                        <a:lnTo>
                          <a:pt x="754" y="1263"/>
                        </a:lnTo>
                        <a:lnTo>
                          <a:pt x="743" y="1264"/>
                        </a:lnTo>
                        <a:lnTo>
                          <a:pt x="720" y="1265"/>
                        </a:lnTo>
                        <a:lnTo>
                          <a:pt x="685" y="1264"/>
                        </a:lnTo>
                        <a:lnTo>
                          <a:pt x="651" y="1262"/>
                        </a:lnTo>
                        <a:lnTo>
                          <a:pt x="586" y="1253"/>
                        </a:lnTo>
                        <a:lnTo>
                          <a:pt x="524" y="1237"/>
                        </a:lnTo>
                        <a:lnTo>
                          <a:pt x="493" y="1227"/>
                        </a:lnTo>
                        <a:lnTo>
                          <a:pt x="464" y="1215"/>
                        </a:lnTo>
                        <a:lnTo>
                          <a:pt x="434" y="1202"/>
                        </a:lnTo>
                        <a:lnTo>
                          <a:pt x="406" y="1187"/>
                        </a:lnTo>
                        <a:lnTo>
                          <a:pt x="377" y="1171"/>
                        </a:lnTo>
                        <a:lnTo>
                          <a:pt x="350" y="1154"/>
                        </a:lnTo>
                        <a:lnTo>
                          <a:pt x="323" y="1135"/>
                        </a:lnTo>
                        <a:lnTo>
                          <a:pt x="298" y="1114"/>
                        </a:lnTo>
                        <a:lnTo>
                          <a:pt x="249" y="1069"/>
                        </a:lnTo>
                        <a:lnTo>
                          <a:pt x="224" y="1043"/>
                        </a:lnTo>
                        <a:lnTo>
                          <a:pt x="202" y="1018"/>
                        </a:lnTo>
                        <a:lnTo>
                          <a:pt x="180" y="992"/>
                        </a:lnTo>
                        <a:lnTo>
                          <a:pt x="162" y="966"/>
                        </a:lnTo>
                        <a:lnTo>
                          <a:pt x="144" y="938"/>
                        </a:lnTo>
                        <a:lnTo>
                          <a:pt x="128" y="910"/>
                        </a:lnTo>
                        <a:lnTo>
                          <a:pt x="113" y="882"/>
                        </a:lnTo>
                        <a:lnTo>
                          <a:pt x="102" y="854"/>
                        </a:lnTo>
                        <a:lnTo>
                          <a:pt x="89" y="823"/>
                        </a:lnTo>
                        <a:lnTo>
                          <a:pt x="79" y="794"/>
                        </a:lnTo>
                        <a:lnTo>
                          <a:pt x="70" y="762"/>
                        </a:lnTo>
                        <a:lnTo>
                          <a:pt x="65" y="731"/>
                        </a:lnTo>
                        <a:lnTo>
                          <a:pt x="59" y="698"/>
                        </a:lnTo>
                        <a:lnTo>
                          <a:pt x="55" y="667"/>
                        </a:lnTo>
                        <a:lnTo>
                          <a:pt x="53" y="633"/>
                        </a:lnTo>
                        <a:lnTo>
                          <a:pt x="53" y="600"/>
                        </a:lnTo>
                        <a:lnTo>
                          <a:pt x="55" y="531"/>
                        </a:lnTo>
                        <a:lnTo>
                          <a:pt x="65" y="466"/>
                        </a:lnTo>
                        <a:lnTo>
                          <a:pt x="79" y="404"/>
                        </a:lnTo>
                        <a:lnTo>
                          <a:pt x="102" y="344"/>
                        </a:lnTo>
                        <a:lnTo>
                          <a:pt x="128" y="286"/>
                        </a:lnTo>
                        <a:lnTo>
                          <a:pt x="144" y="257"/>
                        </a:lnTo>
                        <a:lnTo>
                          <a:pt x="162" y="231"/>
                        </a:lnTo>
                        <a:lnTo>
                          <a:pt x="202" y="178"/>
                        </a:lnTo>
                        <a:lnTo>
                          <a:pt x="249" y="129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6785640" y="4794480"/>
                    <a:ext cx="26064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5" h="1246">
                        <a:moveTo>
                          <a:pt x="339" y="0"/>
                        </a:moveTo>
                        <a:lnTo>
                          <a:pt x="301" y="23"/>
                        </a:lnTo>
                        <a:lnTo>
                          <a:pt x="264" y="49"/>
                        </a:lnTo>
                        <a:lnTo>
                          <a:pt x="229" y="77"/>
                        </a:lnTo>
                        <a:lnTo>
                          <a:pt x="196" y="110"/>
                        </a:lnTo>
                        <a:lnTo>
                          <a:pt x="149" y="159"/>
                        </a:lnTo>
                        <a:lnTo>
                          <a:pt x="109" y="212"/>
                        </a:lnTo>
                        <a:lnTo>
                          <a:pt x="91" y="238"/>
                        </a:lnTo>
                        <a:lnTo>
                          <a:pt x="75" y="267"/>
                        </a:lnTo>
                        <a:lnTo>
                          <a:pt x="49" y="325"/>
                        </a:lnTo>
                        <a:lnTo>
                          <a:pt x="26" y="385"/>
                        </a:lnTo>
                        <a:lnTo>
                          <a:pt x="12" y="447"/>
                        </a:lnTo>
                        <a:lnTo>
                          <a:pt x="2" y="512"/>
                        </a:lnTo>
                        <a:lnTo>
                          <a:pt x="0" y="581"/>
                        </a:lnTo>
                        <a:lnTo>
                          <a:pt x="0" y="614"/>
                        </a:lnTo>
                        <a:lnTo>
                          <a:pt x="2" y="648"/>
                        </a:lnTo>
                        <a:lnTo>
                          <a:pt x="6" y="679"/>
                        </a:lnTo>
                        <a:lnTo>
                          <a:pt x="12" y="712"/>
                        </a:lnTo>
                        <a:lnTo>
                          <a:pt x="17" y="743"/>
                        </a:lnTo>
                        <a:lnTo>
                          <a:pt x="26" y="775"/>
                        </a:lnTo>
                        <a:lnTo>
                          <a:pt x="36" y="804"/>
                        </a:lnTo>
                        <a:lnTo>
                          <a:pt x="49" y="835"/>
                        </a:lnTo>
                        <a:lnTo>
                          <a:pt x="60" y="863"/>
                        </a:lnTo>
                        <a:lnTo>
                          <a:pt x="75" y="891"/>
                        </a:lnTo>
                        <a:lnTo>
                          <a:pt x="91" y="919"/>
                        </a:lnTo>
                        <a:lnTo>
                          <a:pt x="109" y="947"/>
                        </a:lnTo>
                        <a:lnTo>
                          <a:pt x="127" y="973"/>
                        </a:lnTo>
                        <a:lnTo>
                          <a:pt x="149" y="999"/>
                        </a:lnTo>
                        <a:lnTo>
                          <a:pt x="171" y="1024"/>
                        </a:lnTo>
                        <a:lnTo>
                          <a:pt x="196" y="1050"/>
                        </a:lnTo>
                        <a:lnTo>
                          <a:pt x="245" y="1095"/>
                        </a:lnTo>
                        <a:lnTo>
                          <a:pt x="270" y="1116"/>
                        </a:lnTo>
                        <a:lnTo>
                          <a:pt x="297" y="1135"/>
                        </a:lnTo>
                        <a:lnTo>
                          <a:pt x="324" y="1152"/>
                        </a:lnTo>
                        <a:lnTo>
                          <a:pt x="353" y="1168"/>
                        </a:lnTo>
                        <a:lnTo>
                          <a:pt x="381" y="1183"/>
                        </a:lnTo>
                        <a:lnTo>
                          <a:pt x="411" y="1196"/>
                        </a:lnTo>
                        <a:lnTo>
                          <a:pt x="440" y="1208"/>
                        </a:lnTo>
                        <a:lnTo>
                          <a:pt x="471" y="1218"/>
                        </a:lnTo>
                        <a:lnTo>
                          <a:pt x="533" y="1234"/>
                        </a:lnTo>
                        <a:lnTo>
                          <a:pt x="598" y="1243"/>
                        </a:lnTo>
                        <a:lnTo>
                          <a:pt x="632" y="1245"/>
                        </a:lnTo>
                        <a:lnTo>
                          <a:pt x="667" y="1246"/>
                        </a:lnTo>
                        <a:lnTo>
                          <a:pt x="690" y="1245"/>
                        </a:lnTo>
                        <a:lnTo>
                          <a:pt x="701" y="1244"/>
                        </a:lnTo>
                        <a:lnTo>
                          <a:pt x="713" y="1244"/>
                        </a:lnTo>
                        <a:lnTo>
                          <a:pt x="736" y="1242"/>
                        </a:lnTo>
                        <a:lnTo>
                          <a:pt x="760" y="1239"/>
                        </a:lnTo>
                        <a:lnTo>
                          <a:pt x="805" y="1231"/>
                        </a:lnTo>
                        <a:lnTo>
                          <a:pt x="851" y="1222"/>
                        </a:lnTo>
                        <a:lnTo>
                          <a:pt x="871" y="1214"/>
                        </a:lnTo>
                        <a:lnTo>
                          <a:pt x="893" y="1208"/>
                        </a:lnTo>
                        <a:lnTo>
                          <a:pt x="913" y="1200"/>
                        </a:lnTo>
                        <a:lnTo>
                          <a:pt x="923" y="1195"/>
                        </a:lnTo>
                        <a:lnTo>
                          <a:pt x="935" y="1192"/>
                        </a:lnTo>
                        <a:lnTo>
                          <a:pt x="975" y="1172"/>
                        </a:lnTo>
                        <a:lnTo>
                          <a:pt x="995" y="1161"/>
                        </a:lnTo>
                        <a:lnTo>
                          <a:pt x="1015" y="1151"/>
                        </a:lnTo>
                        <a:lnTo>
                          <a:pt x="1020" y="1113"/>
                        </a:lnTo>
                        <a:lnTo>
                          <a:pt x="1022" y="1094"/>
                        </a:lnTo>
                        <a:lnTo>
                          <a:pt x="1025" y="1076"/>
                        </a:lnTo>
                        <a:lnTo>
                          <a:pt x="984" y="1102"/>
                        </a:lnTo>
                        <a:lnTo>
                          <a:pt x="944" y="1125"/>
                        </a:lnTo>
                        <a:lnTo>
                          <a:pt x="901" y="1144"/>
                        </a:lnTo>
                        <a:lnTo>
                          <a:pt x="857" y="1161"/>
                        </a:lnTo>
                        <a:lnTo>
                          <a:pt x="845" y="1163"/>
                        </a:lnTo>
                        <a:lnTo>
                          <a:pt x="834" y="1167"/>
                        </a:lnTo>
                        <a:lnTo>
                          <a:pt x="811" y="1174"/>
                        </a:lnTo>
                        <a:lnTo>
                          <a:pt x="787" y="1178"/>
                        </a:lnTo>
                        <a:lnTo>
                          <a:pt x="764" y="1183"/>
                        </a:lnTo>
                        <a:lnTo>
                          <a:pt x="740" y="1185"/>
                        </a:lnTo>
                        <a:lnTo>
                          <a:pt x="733" y="1185"/>
                        </a:lnTo>
                        <a:lnTo>
                          <a:pt x="729" y="1185"/>
                        </a:lnTo>
                        <a:lnTo>
                          <a:pt x="727" y="1186"/>
                        </a:lnTo>
                        <a:lnTo>
                          <a:pt x="716" y="1188"/>
                        </a:lnTo>
                        <a:lnTo>
                          <a:pt x="691" y="1189"/>
                        </a:lnTo>
                        <a:lnTo>
                          <a:pt x="678" y="1189"/>
                        </a:lnTo>
                        <a:lnTo>
                          <a:pt x="667" y="1191"/>
                        </a:lnTo>
                        <a:lnTo>
                          <a:pt x="635" y="1189"/>
                        </a:lnTo>
                        <a:lnTo>
                          <a:pt x="605" y="1187"/>
                        </a:lnTo>
                        <a:lnTo>
                          <a:pt x="574" y="1184"/>
                        </a:lnTo>
                        <a:lnTo>
                          <a:pt x="544" y="1179"/>
                        </a:lnTo>
                        <a:lnTo>
                          <a:pt x="515" y="1172"/>
                        </a:lnTo>
                        <a:lnTo>
                          <a:pt x="487" y="1164"/>
                        </a:lnTo>
                        <a:lnTo>
                          <a:pt x="459" y="1155"/>
                        </a:lnTo>
                        <a:lnTo>
                          <a:pt x="432" y="1145"/>
                        </a:lnTo>
                        <a:lnTo>
                          <a:pt x="405" y="1133"/>
                        </a:lnTo>
                        <a:lnTo>
                          <a:pt x="379" y="1119"/>
                        </a:lnTo>
                        <a:lnTo>
                          <a:pt x="328" y="1090"/>
                        </a:lnTo>
                        <a:lnTo>
                          <a:pt x="279" y="1053"/>
                        </a:lnTo>
                        <a:lnTo>
                          <a:pt x="235" y="1013"/>
                        </a:lnTo>
                        <a:lnTo>
                          <a:pt x="212" y="989"/>
                        </a:lnTo>
                        <a:lnTo>
                          <a:pt x="192" y="966"/>
                        </a:lnTo>
                        <a:lnTo>
                          <a:pt x="173" y="941"/>
                        </a:lnTo>
                        <a:lnTo>
                          <a:pt x="156" y="917"/>
                        </a:lnTo>
                        <a:lnTo>
                          <a:pt x="139" y="891"/>
                        </a:lnTo>
                        <a:lnTo>
                          <a:pt x="125" y="866"/>
                        </a:lnTo>
                        <a:lnTo>
                          <a:pt x="101" y="814"/>
                        </a:lnTo>
                        <a:lnTo>
                          <a:pt x="90" y="786"/>
                        </a:lnTo>
                        <a:lnTo>
                          <a:pt x="81" y="759"/>
                        </a:lnTo>
                        <a:lnTo>
                          <a:pt x="73" y="729"/>
                        </a:lnTo>
                        <a:lnTo>
                          <a:pt x="67" y="701"/>
                        </a:lnTo>
                        <a:lnTo>
                          <a:pt x="61" y="670"/>
                        </a:lnTo>
                        <a:lnTo>
                          <a:pt x="59" y="641"/>
                        </a:lnTo>
                        <a:lnTo>
                          <a:pt x="57" y="610"/>
                        </a:lnTo>
                        <a:lnTo>
                          <a:pt x="57" y="581"/>
                        </a:lnTo>
                        <a:lnTo>
                          <a:pt x="59" y="518"/>
                        </a:lnTo>
                        <a:lnTo>
                          <a:pt x="67" y="458"/>
                        </a:lnTo>
                        <a:lnTo>
                          <a:pt x="81" y="401"/>
                        </a:lnTo>
                        <a:lnTo>
                          <a:pt x="101" y="346"/>
                        </a:lnTo>
                        <a:lnTo>
                          <a:pt x="125" y="293"/>
                        </a:lnTo>
                        <a:lnTo>
                          <a:pt x="156" y="242"/>
                        </a:lnTo>
                        <a:lnTo>
                          <a:pt x="192" y="193"/>
                        </a:lnTo>
                        <a:lnTo>
                          <a:pt x="235" y="149"/>
                        </a:lnTo>
                        <a:lnTo>
                          <a:pt x="275" y="110"/>
                        </a:lnTo>
                        <a:lnTo>
                          <a:pt x="318" y="79"/>
                        </a:lnTo>
                        <a:lnTo>
                          <a:pt x="362" y="49"/>
                        </a:lnTo>
                        <a:lnTo>
                          <a:pt x="408" y="26"/>
                        </a:lnTo>
                        <a:lnTo>
                          <a:pt x="339" y="0"/>
                        </a:lnTo>
                        <a:close/>
                      </a:path>
                    </a:pathLst>
                  </a:custGeom>
                  <a:solidFill>
                    <a:srgbClr val="ff64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757920" y="4785840"/>
                    <a:ext cx="281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1391">
                        <a:moveTo>
                          <a:pt x="267" y="106"/>
                        </a:moveTo>
                        <a:lnTo>
                          <a:pt x="320" y="57"/>
                        </a:lnTo>
                        <a:lnTo>
                          <a:pt x="347" y="35"/>
                        </a:lnTo>
                        <a:lnTo>
                          <a:pt x="377" y="16"/>
                        </a:lnTo>
                        <a:lnTo>
                          <a:pt x="340" y="6"/>
                        </a:lnTo>
                        <a:lnTo>
                          <a:pt x="305" y="0"/>
                        </a:lnTo>
                        <a:lnTo>
                          <a:pt x="266" y="33"/>
                        </a:lnTo>
                        <a:lnTo>
                          <a:pt x="228" y="68"/>
                        </a:lnTo>
                        <a:lnTo>
                          <a:pt x="200" y="95"/>
                        </a:lnTo>
                        <a:lnTo>
                          <a:pt x="174" y="125"/>
                        </a:lnTo>
                        <a:lnTo>
                          <a:pt x="149" y="154"/>
                        </a:lnTo>
                        <a:lnTo>
                          <a:pt x="127" y="186"/>
                        </a:lnTo>
                        <a:lnTo>
                          <a:pt x="106" y="217"/>
                        </a:lnTo>
                        <a:lnTo>
                          <a:pt x="87" y="250"/>
                        </a:lnTo>
                        <a:lnTo>
                          <a:pt x="70" y="283"/>
                        </a:lnTo>
                        <a:lnTo>
                          <a:pt x="57" y="318"/>
                        </a:lnTo>
                        <a:lnTo>
                          <a:pt x="31" y="387"/>
                        </a:lnTo>
                        <a:lnTo>
                          <a:pt x="14" y="460"/>
                        </a:lnTo>
                        <a:lnTo>
                          <a:pt x="4" y="536"/>
                        </a:lnTo>
                        <a:lnTo>
                          <a:pt x="0" y="575"/>
                        </a:lnTo>
                        <a:lnTo>
                          <a:pt x="0" y="616"/>
                        </a:lnTo>
                        <a:lnTo>
                          <a:pt x="0" y="654"/>
                        </a:lnTo>
                        <a:lnTo>
                          <a:pt x="4" y="694"/>
                        </a:lnTo>
                        <a:lnTo>
                          <a:pt x="7" y="731"/>
                        </a:lnTo>
                        <a:lnTo>
                          <a:pt x="14" y="770"/>
                        </a:lnTo>
                        <a:lnTo>
                          <a:pt x="21" y="806"/>
                        </a:lnTo>
                        <a:lnTo>
                          <a:pt x="31" y="842"/>
                        </a:lnTo>
                        <a:lnTo>
                          <a:pt x="42" y="878"/>
                        </a:lnTo>
                        <a:lnTo>
                          <a:pt x="57" y="913"/>
                        </a:lnTo>
                        <a:lnTo>
                          <a:pt x="70" y="946"/>
                        </a:lnTo>
                        <a:lnTo>
                          <a:pt x="87" y="978"/>
                        </a:lnTo>
                        <a:lnTo>
                          <a:pt x="106" y="1010"/>
                        </a:lnTo>
                        <a:lnTo>
                          <a:pt x="127" y="1043"/>
                        </a:lnTo>
                        <a:lnTo>
                          <a:pt x="149" y="1074"/>
                        </a:lnTo>
                        <a:lnTo>
                          <a:pt x="174" y="1104"/>
                        </a:lnTo>
                        <a:lnTo>
                          <a:pt x="200" y="1134"/>
                        </a:lnTo>
                        <a:lnTo>
                          <a:pt x="228" y="1163"/>
                        </a:lnTo>
                        <a:lnTo>
                          <a:pt x="256" y="1189"/>
                        </a:lnTo>
                        <a:lnTo>
                          <a:pt x="286" y="1215"/>
                        </a:lnTo>
                        <a:lnTo>
                          <a:pt x="315" y="1239"/>
                        </a:lnTo>
                        <a:lnTo>
                          <a:pt x="347" y="1262"/>
                        </a:lnTo>
                        <a:lnTo>
                          <a:pt x="378" y="1281"/>
                        </a:lnTo>
                        <a:lnTo>
                          <a:pt x="411" y="1300"/>
                        </a:lnTo>
                        <a:lnTo>
                          <a:pt x="444" y="1317"/>
                        </a:lnTo>
                        <a:lnTo>
                          <a:pt x="479" y="1333"/>
                        </a:lnTo>
                        <a:lnTo>
                          <a:pt x="513" y="1346"/>
                        </a:lnTo>
                        <a:lnTo>
                          <a:pt x="548" y="1357"/>
                        </a:lnTo>
                        <a:lnTo>
                          <a:pt x="584" y="1367"/>
                        </a:lnTo>
                        <a:lnTo>
                          <a:pt x="622" y="1376"/>
                        </a:lnTo>
                        <a:lnTo>
                          <a:pt x="659" y="1382"/>
                        </a:lnTo>
                        <a:lnTo>
                          <a:pt x="698" y="1387"/>
                        </a:lnTo>
                        <a:lnTo>
                          <a:pt x="736" y="1390"/>
                        </a:lnTo>
                        <a:lnTo>
                          <a:pt x="777" y="1391"/>
                        </a:lnTo>
                        <a:lnTo>
                          <a:pt x="818" y="1390"/>
                        </a:lnTo>
                        <a:lnTo>
                          <a:pt x="859" y="1387"/>
                        </a:lnTo>
                        <a:lnTo>
                          <a:pt x="868" y="1384"/>
                        </a:lnTo>
                        <a:lnTo>
                          <a:pt x="872" y="1383"/>
                        </a:lnTo>
                        <a:lnTo>
                          <a:pt x="878" y="1383"/>
                        </a:lnTo>
                        <a:lnTo>
                          <a:pt x="898" y="1381"/>
                        </a:lnTo>
                        <a:lnTo>
                          <a:pt x="907" y="1379"/>
                        </a:lnTo>
                        <a:lnTo>
                          <a:pt x="912" y="1377"/>
                        </a:lnTo>
                        <a:lnTo>
                          <a:pt x="918" y="1377"/>
                        </a:lnTo>
                        <a:lnTo>
                          <a:pt x="938" y="1375"/>
                        </a:lnTo>
                        <a:lnTo>
                          <a:pt x="975" y="1366"/>
                        </a:lnTo>
                        <a:lnTo>
                          <a:pt x="1014" y="1356"/>
                        </a:lnTo>
                        <a:lnTo>
                          <a:pt x="1032" y="1349"/>
                        </a:lnTo>
                        <a:lnTo>
                          <a:pt x="1041" y="1346"/>
                        </a:lnTo>
                        <a:lnTo>
                          <a:pt x="1051" y="1343"/>
                        </a:lnTo>
                        <a:lnTo>
                          <a:pt x="1089" y="1330"/>
                        </a:lnTo>
                        <a:lnTo>
                          <a:pt x="1109" y="1257"/>
                        </a:lnTo>
                        <a:lnTo>
                          <a:pt x="1089" y="1265"/>
                        </a:lnTo>
                        <a:lnTo>
                          <a:pt x="1070" y="1274"/>
                        </a:lnTo>
                        <a:lnTo>
                          <a:pt x="1031" y="1290"/>
                        </a:lnTo>
                        <a:lnTo>
                          <a:pt x="990" y="1303"/>
                        </a:lnTo>
                        <a:lnTo>
                          <a:pt x="970" y="1308"/>
                        </a:lnTo>
                        <a:lnTo>
                          <a:pt x="950" y="1315"/>
                        </a:lnTo>
                        <a:lnTo>
                          <a:pt x="907" y="1323"/>
                        </a:lnTo>
                        <a:lnTo>
                          <a:pt x="896" y="1324"/>
                        </a:lnTo>
                        <a:lnTo>
                          <a:pt x="886" y="1326"/>
                        </a:lnTo>
                        <a:lnTo>
                          <a:pt x="865" y="1330"/>
                        </a:lnTo>
                        <a:lnTo>
                          <a:pt x="843" y="1331"/>
                        </a:lnTo>
                        <a:lnTo>
                          <a:pt x="821" y="1333"/>
                        </a:lnTo>
                        <a:lnTo>
                          <a:pt x="799" y="1334"/>
                        </a:lnTo>
                        <a:lnTo>
                          <a:pt x="787" y="1334"/>
                        </a:lnTo>
                        <a:lnTo>
                          <a:pt x="781" y="1334"/>
                        </a:lnTo>
                        <a:lnTo>
                          <a:pt x="777" y="1336"/>
                        </a:lnTo>
                        <a:lnTo>
                          <a:pt x="740" y="1334"/>
                        </a:lnTo>
                        <a:lnTo>
                          <a:pt x="703" y="1332"/>
                        </a:lnTo>
                        <a:lnTo>
                          <a:pt x="667" y="1328"/>
                        </a:lnTo>
                        <a:lnTo>
                          <a:pt x="632" y="1322"/>
                        </a:lnTo>
                        <a:lnTo>
                          <a:pt x="597" y="1314"/>
                        </a:lnTo>
                        <a:lnTo>
                          <a:pt x="564" y="1305"/>
                        </a:lnTo>
                        <a:lnTo>
                          <a:pt x="499" y="1282"/>
                        </a:lnTo>
                        <a:lnTo>
                          <a:pt x="467" y="1268"/>
                        </a:lnTo>
                        <a:lnTo>
                          <a:pt x="437" y="1252"/>
                        </a:lnTo>
                        <a:lnTo>
                          <a:pt x="406" y="1235"/>
                        </a:lnTo>
                        <a:lnTo>
                          <a:pt x="377" y="1217"/>
                        </a:lnTo>
                        <a:lnTo>
                          <a:pt x="347" y="1196"/>
                        </a:lnTo>
                        <a:lnTo>
                          <a:pt x="320" y="1175"/>
                        </a:lnTo>
                        <a:lnTo>
                          <a:pt x="293" y="1151"/>
                        </a:lnTo>
                        <a:lnTo>
                          <a:pt x="267" y="1126"/>
                        </a:lnTo>
                        <a:lnTo>
                          <a:pt x="239" y="1097"/>
                        </a:lnTo>
                        <a:lnTo>
                          <a:pt x="216" y="1070"/>
                        </a:lnTo>
                        <a:lnTo>
                          <a:pt x="193" y="1042"/>
                        </a:lnTo>
                        <a:lnTo>
                          <a:pt x="174" y="1014"/>
                        </a:lnTo>
                        <a:lnTo>
                          <a:pt x="154" y="983"/>
                        </a:lnTo>
                        <a:lnTo>
                          <a:pt x="137" y="954"/>
                        </a:lnTo>
                        <a:lnTo>
                          <a:pt x="122" y="922"/>
                        </a:lnTo>
                        <a:lnTo>
                          <a:pt x="109" y="891"/>
                        </a:lnTo>
                        <a:lnTo>
                          <a:pt x="95" y="858"/>
                        </a:lnTo>
                        <a:lnTo>
                          <a:pt x="85" y="825"/>
                        </a:lnTo>
                        <a:lnTo>
                          <a:pt x="76" y="791"/>
                        </a:lnTo>
                        <a:lnTo>
                          <a:pt x="69" y="759"/>
                        </a:lnTo>
                        <a:lnTo>
                          <a:pt x="63" y="722"/>
                        </a:lnTo>
                        <a:lnTo>
                          <a:pt x="59" y="687"/>
                        </a:lnTo>
                        <a:lnTo>
                          <a:pt x="57" y="651"/>
                        </a:lnTo>
                        <a:lnTo>
                          <a:pt x="57" y="616"/>
                        </a:lnTo>
                        <a:lnTo>
                          <a:pt x="59" y="542"/>
                        </a:lnTo>
                        <a:lnTo>
                          <a:pt x="69" y="471"/>
                        </a:lnTo>
                        <a:lnTo>
                          <a:pt x="76" y="436"/>
                        </a:lnTo>
                        <a:lnTo>
                          <a:pt x="85" y="403"/>
                        </a:lnTo>
                        <a:lnTo>
                          <a:pt x="109" y="338"/>
                        </a:lnTo>
                        <a:lnTo>
                          <a:pt x="137" y="276"/>
                        </a:lnTo>
                        <a:lnTo>
                          <a:pt x="174" y="216"/>
                        </a:lnTo>
                        <a:lnTo>
                          <a:pt x="193" y="186"/>
                        </a:lnTo>
                        <a:lnTo>
                          <a:pt x="216" y="159"/>
                        </a:lnTo>
                        <a:lnTo>
                          <a:pt x="267" y="106"/>
                        </a:lnTo>
                        <a:close/>
                      </a:path>
                    </a:pathLst>
                  </a:custGeom>
                  <a:solidFill>
                    <a:srgbClr val="ff5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6743520" y="4783680"/>
                    <a:ext cx="29052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4" h="1456">
                        <a:moveTo>
                          <a:pt x="283" y="76"/>
                        </a:moveTo>
                        <a:lnTo>
                          <a:pt x="321" y="41"/>
                        </a:lnTo>
                        <a:lnTo>
                          <a:pt x="360" y="8"/>
                        </a:lnTo>
                        <a:lnTo>
                          <a:pt x="322" y="3"/>
                        </a:lnTo>
                        <a:lnTo>
                          <a:pt x="283" y="0"/>
                        </a:lnTo>
                        <a:lnTo>
                          <a:pt x="263" y="16"/>
                        </a:lnTo>
                        <a:lnTo>
                          <a:pt x="243" y="35"/>
                        </a:lnTo>
                        <a:lnTo>
                          <a:pt x="186" y="98"/>
                        </a:lnTo>
                        <a:lnTo>
                          <a:pt x="159" y="130"/>
                        </a:lnTo>
                        <a:lnTo>
                          <a:pt x="136" y="164"/>
                        </a:lnTo>
                        <a:lnTo>
                          <a:pt x="113" y="196"/>
                        </a:lnTo>
                        <a:lnTo>
                          <a:pt x="94" y="232"/>
                        </a:lnTo>
                        <a:lnTo>
                          <a:pt x="74" y="267"/>
                        </a:lnTo>
                        <a:lnTo>
                          <a:pt x="60" y="304"/>
                        </a:lnTo>
                        <a:lnTo>
                          <a:pt x="45" y="340"/>
                        </a:lnTo>
                        <a:lnTo>
                          <a:pt x="32" y="379"/>
                        </a:lnTo>
                        <a:lnTo>
                          <a:pt x="22" y="417"/>
                        </a:lnTo>
                        <a:lnTo>
                          <a:pt x="14" y="457"/>
                        </a:lnTo>
                        <a:lnTo>
                          <a:pt x="6" y="497"/>
                        </a:lnTo>
                        <a:lnTo>
                          <a:pt x="3" y="539"/>
                        </a:lnTo>
                        <a:lnTo>
                          <a:pt x="0" y="624"/>
                        </a:lnTo>
                        <a:lnTo>
                          <a:pt x="0" y="665"/>
                        </a:lnTo>
                        <a:lnTo>
                          <a:pt x="3" y="707"/>
                        </a:lnTo>
                        <a:lnTo>
                          <a:pt x="6" y="747"/>
                        </a:lnTo>
                        <a:lnTo>
                          <a:pt x="14" y="788"/>
                        </a:lnTo>
                        <a:lnTo>
                          <a:pt x="22" y="827"/>
                        </a:lnTo>
                        <a:lnTo>
                          <a:pt x="32" y="866"/>
                        </a:lnTo>
                        <a:lnTo>
                          <a:pt x="45" y="904"/>
                        </a:lnTo>
                        <a:lnTo>
                          <a:pt x="60" y="942"/>
                        </a:lnTo>
                        <a:lnTo>
                          <a:pt x="74" y="977"/>
                        </a:lnTo>
                        <a:lnTo>
                          <a:pt x="94" y="1014"/>
                        </a:lnTo>
                        <a:lnTo>
                          <a:pt x="113" y="1048"/>
                        </a:lnTo>
                        <a:lnTo>
                          <a:pt x="136" y="1083"/>
                        </a:lnTo>
                        <a:lnTo>
                          <a:pt x="159" y="1116"/>
                        </a:lnTo>
                        <a:lnTo>
                          <a:pt x="186" y="1149"/>
                        </a:lnTo>
                        <a:lnTo>
                          <a:pt x="213" y="1180"/>
                        </a:lnTo>
                        <a:lnTo>
                          <a:pt x="243" y="1212"/>
                        </a:lnTo>
                        <a:lnTo>
                          <a:pt x="273" y="1240"/>
                        </a:lnTo>
                        <a:lnTo>
                          <a:pt x="305" y="1268"/>
                        </a:lnTo>
                        <a:lnTo>
                          <a:pt x="336" y="1294"/>
                        </a:lnTo>
                        <a:lnTo>
                          <a:pt x="370" y="1317"/>
                        </a:lnTo>
                        <a:lnTo>
                          <a:pt x="404" y="1339"/>
                        </a:lnTo>
                        <a:lnTo>
                          <a:pt x="440" y="1359"/>
                        </a:lnTo>
                        <a:lnTo>
                          <a:pt x="475" y="1378"/>
                        </a:lnTo>
                        <a:lnTo>
                          <a:pt x="512" y="1395"/>
                        </a:lnTo>
                        <a:lnTo>
                          <a:pt x="548" y="1408"/>
                        </a:lnTo>
                        <a:lnTo>
                          <a:pt x="587" y="1421"/>
                        </a:lnTo>
                        <a:lnTo>
                          <a:pt x="626" y="1431"/>
                        </a:lnTo>
                        <a:lnTo>
                          <a:pt x="665" y="1440"/>
                        </a:lnTo>
                        <a:lnTo>
                          <a:pt x="705" y="1446"/>
                        </a:lnTo>
                        <a:lnTo>
                          <a:pt x="747" y="1451"/>
                        </a:lnTo>
                        <a:lnTo>
                          <a:pt x="789" y="1455"/>
                        </a:lnTo>
                        <a:lnTo>
                          <a:pt x="832" y="1456"/>
                        </a:lnTo>
                        <a:lnTo>
                          <a:pt x="868" y="1455"/>
                        </a:lnTo>
                        <a:lnTo>
                          <a:pt x="906" y="1452"/>
                        </a:lnTo>
                        <a:lnTo>
                          <a:pt x="942" y="1448"/>
                        </a:lnTo>
                        <a:lnTo>
                          <a:pt x="978" y="1443"/>
                        </a:lnTo>
                        <a:lnTo>
                          <a:pt x="1012" y="1436"/>
                        </a:lnTo>
                        <a:lnTo>
                          <a:pt x="1029" y="1432"/>
                        </a:lnTo>
                        <a:lnTo>
                          <a:pt x="1047" y="1429"/>
                        </a:lnTo>
                        <a:lnTo>
                          <a:pt x="1081" y="1419"/>
                        </a:lnTo>
                        <a:lnTo>
                          <a:pt x="1115" y="1409"/>
                        </a:lnTo>
                        <a:lnTo>
                          <a:pt x="1144" y="1338"/>
                        </a:lnTo>
                        <a:lnTo>
                          <a:pt x="1106" y="1351"/>
                        </a:lnTo>
                        <a:lnTo>
                          <a:pt x="1096" y="1354"/>
                        </a:lnTo>
                        <a:lnTo>
                          <a:pt x="1087" y="1357"/>
                        </a:lnTo>
                        <a:lnTo>
                          <a:pt x="1069" y="1364"/>
                        </a:lnTo>
                        <a:lnTo>
                          <a:pt x="1030" y="1374"/>
                        </a:lnTo>
                        <a:lnTo>
                          <a:pt x="993" y="1383"/>
                        </a:lnTo>
                        <a:lnTo>
                          <a:pt x="973" y="1385"/>
                        </a:lnTo>
                        <a:lnTo>
                          <a:pt x="967" y="1385"/>
                        </a:lnTo>
                        <a:lnTo>
                          <a:pt x="962" y="1387"/>
                        </a:lnTo>
                        <a:lnTo>
                          <a:pt x="953" y="1389"/>
                        </a:lnTo>
                        <a:lnTo>
                          <a:pt x="933" y="1391"/>
                        </a:lnTo>
                        <a:lnTo>
                          <a:pt x="927" y="1391"/>
                        </a:lnTo>
                        <a:lnTo>
                          <a:pt x="923" y="1392"/>
                        </a:lnTo>
                        <a:lnTo>
                          <a:pt x="914" y="1395"/>
                        </a:lnTo>
                        <a:lnTo>
                          <a:pt x="873" y="1398"/>
                        </a:lnTo>
                        <a:lnTo>
                          <a:pt x="832" y="1399"/>
                        </a:lnTo>
                        <a:lnTo>
                          <a:pt x="791" y="1398"/>
                        </a:lnTo>
                        <a:lnTo>
                          <a:pt x="753" y="1395"/>
                        </a:lnTo>
                        <a:lnTo>
                          <a:pt x="714" y="1390"/>
                        </a:lnTo>
                        <a:lnTo>
                          <a:pt x="677" y="1384"/>
                        </a:lnTo>
                        <a:lnTo>
                          <a:pt x="639" y="1375"/>
                        </a:lnTo>
                        <a:lnTo>
                          <a:pt x="603" y="1365"/>
                        </a:lnTo>
                        <a:lnTo>
                          <a:pt x="568" y="1354"/>
                        </a:lnTo>
                        <a:lnTo>
                          <a:pt x="534" y="1341"/>
                        </a:lnTo>
                        <a:lnTo>
                          <a:pt x="499" y="1325"/>
                        </a:lnTo>
                        <a:lnTo>
                          <a:pt x="466" y="1308"/>
                        </a:lnTo>
                        <a:lnTo>
                          <a:pt x="433" y="1289"/>
                        </a:lnTo>
                        <a:lnTo>
                          <a:pt x="402" y="1270"/>
                        </a:lnTo>
                        <a:lnTo>
                          <a:pt x="370" y="1247"/>
                        </a:lnTo>
                        <a:lnTo>
                          <a:pt x="341" y="1223"/>
                        </a:lnTo>
                        <a:lnTo>
                          <a:pt x="311" y="1197"/>
                        </a:lnTo>
                        <a:lnTo>
                          <a:pt x="283" y="1171"/>
                        </a:lnTo>
                        <a:lnTo>
                          <a:pt x="255" y="1142"/>
                        </a:lnTo>
                        <a:lnTo>
                          <a:pt x="229" y="1112"/>
                        </a:lnTo>
                        <a:lnTo>
                          <a:pt x="204" y="1082"/>
                        </a:lnTo>
                        <a:lnTo>
                          <a:pt x="182" y="1051"/>
                        </a:lnTo>
                        <a:lnTo>
                          <a:pt x="161" y="1018"/>
                        </a:lnTo>
                        <a:lnTo>
                          <a:pt x="142" y="986"/>
                        </a:lnTo>
                        <a:lnTo>
                          <a:pt x="125" y="954"/>
                        </a:lnTo>
                        <a:lnTo>
                          <a:pt x="112" y="921"/>
                        </a:lnTo>
                        <a:lnTo>
                          <a:pt x="97" y="886"/>
                        </a:lnTo>
                        <a:lnTo>
                          <a:pt x="86" y="850"/>
                        </a:lnTo>
                        <a:lnTo>
                          <a:pt x="76" y="814"/>
                        </a:lnTo>
                        <a:lnTo>
                          <a:pt x="69" y="778"/>
                        </a:lnTo>
                        <a:lnTo>
                          <a:pt x="62" y="739"/>
                        </a:lnTo>
                        <a:lnTo>
                          <a:pt x="59" y="702"/>
                        </a:lnTo>
                        <a:lnTo>
                          <a:pt x="55" y="662"/>
                        </a:lnTo>
                        <a:lnTo>
                          <a:pt x="55" y="624"/>
                        </a:lnTo>
                        <a:lnTo>
                          <a:pt x="55" y="583"/>
                        </a:lnTo>
                        <a:lnTo>
                          <a:pt x="59" y="544"/>
                        </a:lnTo>
                        <a:lnTo>
                          <a:pt x="69" y="468"/>
                        </a:lnTo>
                        <a:lnTo>
                          <a:pt x="86" y="395"/>
                        </a:lnTo>
                        <a:lnTo>
                          <a:pt x="112" y="326"/>
                        </a:lnTo>
                        <a:lnTo>
                          <a:pt x="125" y="291"/>
                        </a:lnTo>
                        <a:lnTo>
                          <a:pt x="142" y="258"/>
                        </a:lnTo>
                        <a:lnTo>
                          <a:pt x="161" y="225"/>
                        </a:lnTo>
                        <a:lnTo>
                          <a:pt x="182" y="194"/>
                        </a:lnTo>
                        <a:lnTo>
                          <a:pt x="204" y="162"/>
                        </a:lnTo>
                        <a:lnTo>
                          <a:pt x="229" y="133"/>
                        </a:lnTo>
                        <a:lnTo>
                          <a:pt x="255" y="103"/>
                        </a:lnTo>
                        <a:lnTo>
                          <a:pt x="283" y="76"/>
                        </a:lnTo>
                        <a:close/>
                      </a:path>
                    </a:pathLst>
                  </a:custGeom>
                  <a:solidFill>
                    <a:srgbClr val="ff55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532200" y="4781880"/>
                    <a:ext cx="51516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9" h="2025">
                        <a:moveTo>
                          <a:pt x="298" y="1729"/>
                        </a:moveTo>
                        <a:lnTo>
                          <a:pt x="335" y="1764"/>
                        </a:lnTo>
                        <a:lnTo>
                          <a:pt x="373" y="1797"/>
                        </a:lnTo>
                        <a:lnTo>
                          <a:pt x="413" y="1828"/>
                        </a:lnTo>
                        <a:lnTo>
                          <a:pt x="454" y="1857"/>
                        </a:lnTo>
                        <a:lnTo>
                          <a:pt x="495" y="1883"/>
                        </a:lnTo>
                        <a:lnTo>
                          <a:pt x="537" y="1907"/>
                        </a:lnTo>
                        <a:lnTo>
                          <a:pt x="580" y="1929"/>
                        </a:lnTo>
                        <a:lnTo>
                          <a:pt x="625" y="1950"/>
                        </a:lnTo>
                        <a:lnTo>
                          <a:pt x="669" y="1967"/>
                        </a:lnTo>
                        <a:lnTo>
                          <a:pt x="716" y="1982"/>
                        </a:lnTo>
                        <a:lnTo>
                          <a:pt x="763" y="1994"/>
                        </a:lnTo>
                        <a:lnTo>
                          <a:pt x="812" y="2006"/>
                        </a:lnTo>
                        <a:lnTo>
                          <a:pt x="861" y="2014"/>
                        </a:lnTo>
                        <a:lnTo>
                          <a:pt x="911" y="2019"/>
                        </a:lnTo>
                        <a:lnTo>
                          <a:pt x="962" y="2023"/>
                        </a:lnTo>
                        <a:lnTo>
                          <a:pt x="1015" y="2025"/>
                        </a:lnTo>
                        <a:lnTo>
                          <a:pt x="1040" y="2024"/>
                        </a:lnTo>
                        <a:lnTo>
                          <a:pt x="1046" y="2023"/>
                        </a:lnTo>
                        <a:lnTo>
                          <a:pt x="1053" y="2023"/>
                        </a:lnTo>
                        <a:lnTo>
                          <a:pt x="1066" y="2023"/>
                        </a:lnTo>
                        <a:lnTo>
                          <a:pt x="1091" y="2021"/>
                        </a:lnTo>
                        <a:lnTo>
                          <a:pt x="1097" y="2019"/>
                        </a:lnTo>
                        <a:lnTo>
                          <a:pt x="1104" y="2019"/>
                        </a:lnTo>
                        <a:lnTo>
                          <a:pt x="1117" y="2019"/>
                        </a:lnTo>
                        <a:lnTo>
                          <a:pt x="1129" y="2017"/>
                        </a:lnTo>
                        <a:lnTo>
                          <a:pt x="1134" y="2016"/>
                        </a:lnTo>
                        <a:lnTo>
                          <a:pt x="1141" y="2016"/>
                        </a:lnTo>
                        <a:lnTo>
                          <a:pt x="1166" y="2014"/>
                        </a:lnTo>
                        <a:lnTo>
                          <a:pt x="1216" y="2006"/>
                        </a:lnTo>
                        <a:lnTo>
                          <a:pt x="1239" y="2000"/>
                        </a:lnTo>
                        <a:lnTo>
                          <a:pt x="1250" y="1997"/>
                        </a:lnTo>
                        <a:lnTo>
                          <a:pt x="1262" y="1994"/>
                        </a:lnTo>
                        <a:lnTo>
                          <a:pt x="1310" y="1982"/>
                        </a:lnTo>
                        <a:lnTo>
                          <a:pt x="1355" y="1967"/>
                        </a:lnTo>
                        <a:lnTo>
                          <a:pt x="1378" y="1958"/>
                        </a:lnTo>
                        <a:lnTo>
                          <a:pt x="1389" y="1954"/>
                        </a:lnTo>
                        <a:lnTo>
                          <a:pt x="1395" y="1951"/>
                        </a:lnTo>
                        <a:lnTo>
                          <a:pt x="1402" y="1950"/>
                        </a:lnTo>
                        <a:lnTo>
                          <a:pt x="1445" y="1929"/>
                        </a:lnTo>
                        <a:lnTo>
                          <a:pt x="1467" y="1917"/>
                        </a:lnTo>
                        <a:lnTo>
                          <a:pt x="1489" y="1907"/>
                        </a:lnTo>
                        <a:lnTo>
                          <a:pt x="1510" y="1895"/>
                        </a:lnTo>
                        <a:lnTo>
                          <a:pt x="1531" y="1883"/>
                        </a:lnTo>
                        <a:lnTo>
                          <a:pt x="1552" y="1870"/>
                        </a:lnTo>
                        <a:lnTo>
                          <a:pt x="1562" y="1863"/>
                        </a:lnTo>
                        <a:lnTo>
                          <a:pt x="1573" y="1857"/>
                        </a:lnTo>
                        <a:lnTo>
                          <a:pt x="1582" y="1849"/>
                        </a:lnTo>
                        <a:lnTo>
                          <a:pt x="1592" y="1843"/>
                        </a:lnTo>
                        <a:lnTo>
                          <a:pt x="1613" y="1828"/>
                        </a:lnTo>
                        <a:lnTo>
                          <a:pt x="1654" y="1797"/>
                        </a:lnTo>
                        <a:lnTo>
                          <a:pt x="1692" y="1764"/>
                        </a:lnTo>
                        <a:lnTo>
                          <a:pt x="1731" y="1729"/>
                        </a:lnTo>
                        <a:lnTo>
                          <a:pt x="1766" y="1691"/>
                        </a:lnTo>
                        <a:lnTo>
                          <a:pt x="1799" y="1652"/>
                        </a:lnTo>
                        <a:lnTo>
                          <a:pt x="1829" y="1611"/>
                        </a:lnTo>
                        <a:lnTo>
                          <a:pt x="1844" y="1591"/>
                        </a:lnTo>
                        <a:lnTo>
                          <a:pt x="1860" y="1572"/>
                        </a:lnTo>
                        <a:lnTo>
                          <a:pt x="1866" y="1560"/>
                        </a:lnTo>
                        <a:lnTo>
                          <a:pt x="1872" y="1550"/>
                        </a:lnTo>
                        <a:lnTo>
                          <a:pt x="1886" y="1530"/>
                        </a:lnTo>
                        <a:lnTo>
                          <a:pt x="1897" y="1508"/>
                        </a:lnTo>
                        <a:lnTo>
                          <a:pt x="1910" y="1488"/>
                        </a:lnTo>
                        <a:lnTo>
                          <a:pt x="1920" y="1465"/>
                        </a:lnTo>
                        <a:lnTo>
                          <a:pt x="1931" y="1444"/>
                        </a:lnTo>
                        <a:lnTo>
                          <a:pt x="1953" y="1401"/>
                        </a:lnTo>
                        <a:lnTo>
                          <a:pt x="1954" y="1394"/>
                        </a:lnTo>
                        <a:lnTo>
                          <a:pt x="1956" y="1388"/>
                        </a:lnTo>
                        <a:lnTo>
                          <a:pt x="1961" y="1377"/>
                        </a:lnTo>
                        <a:lnTo>
                          <a:pt x="1970" y="1354"/>
                        </a:lnTo>
                        <a:lnTo>
                          <a:pt x="1985" y="1309"/>
                        </a:lnTo>
                        <a:lnTo>
                          <a:pt x="1997" y="1261"/>
                        </a:lnTo>
                        <a:lnTo>
                          <a:pt x="1999" y="1249"/>
                        </a:lnTo>
                        <a:lnTo>
                          <a:pt x="2003" y="1237"/>
                        </a:lnTo>
                        <a:lnTo>
                          <a:pt x="2009" y="1215"/>
                        </a:lnTo>
                        <a:lnTo>
                          <a:pt x="2016" y="1165"/>
                        </a:lnTo>
                        <a:lnTo>
                          <a:pt x="2019" y="1140"/>
                        </a:lnTo>
                        <a:lnTo>
                          <a:pt x="2019" y="1133"/>
                        </a:lnTo>
                        <a:lnTo>
                          <a:pt x="2020" y="1127"/>
                        </a:lnTo>
                        <a:lnTo>
                          <a:pt x="2022" y="1116"/>
                        </a:lnTo>
                        <a:lnTo>
                          <a:pt x="2022" y="1102"/>
                        </a:lnTo>
                        <a:lnTo>
                          <a:pt x="2022" y="1096"/>
                        </a:lnTo>
                        <a:lnTo>
                          <a:pt x="2023" y="1090"/>
                        </a:lnTo>
                        <a:lnTo>
                          <a:pt x="2026" y="1065"/>
                        </a:lnTo>
                        <a:lnTo>
                          <a:pt x="2026" y="1051"/>
                        </a:lnTo>
                        <a:lnTo>
                          <a:pt x="2026" y="1045"/>
                        </a:lnTo>
                        <a:lnTo>
                          <a:pt x="2027" y="1039"/>
                        </a:lnTo>
                        <a:lnTo>
                          <a:pt x="2029" y="1014"/>
                        </a:lnTo>
                        <a:lnTo>
                          <a:pt x="2026" y="961"/>
                        </a:lnTo>
                        <a:lnTo>
                          <a:pt x="2022" y="910"/>
                        </a:lnTo>
                        <a:lnTo>
                          <a:pt x="2016" y="860"/>
                        </a:lnTo>
                        <a:lnTo>
                          <a:pt x="2009" y="811"/>
                        </a:lnTo>
                        <a:lnTo>
                          <a:pt x="1997" y="762"/>
                        </a:lnTo>
                        <a:lnTo>
                          <a:pt x="1985" y="715"/>
                        </a:lnTo>
                        <a:lnTo>
                          <a:pt x="1970" y="668"/>
                        </a:lnTo>
                        <a:lnTo>
                          <a:pt x="1953" y="624"/>
                        </a:lnTo>
                        <a:lnTo>
                          <a:pt x="1931" y="579"/>
                        </a:lnTo>
                        <a:lnTo>
                          <a:pt x="1910" y="536"/>
                        </a:lnTo>
                        <a:lnTo>
                          <a:pt x="1886" y="494"/>
                        </a:lnTo>
                        <a:lnTo>
                          <a:pt x="1860" y="453"/>
                        </a:lnTo>
                        <a:lnTo>
                          <a:pt x="1829" y="412"/>
                        </a:lnTo>
                        <a:lnTo>
                          <a:pt x="1799" y="372"/>
                        </a:lnTo>
                        <a:lnTo>
                          <a:pt x="1766" y="334"/>
                        </a:lnTo>
                        <a:lnTo>
                          <a:pt x="1731" y="298"/>
                        </a:lnTo>
                        <a:lnTo>
                          <a:pt x="1692" y="260"/>
                        </a:lnTo>
                        <a:lnTo>
                          <a:pt x="1654" y="227"/>
                        </a:lnTo>
                        <a:lnTo>
                          <a:pt x="1613" y="195"/>
                        </a:lnTo>
                        <a:lnTo>
                          <a:pt x="1573" y="166"/>
                        </a:lnTo>
                        <a:lnTo>
                          <a:pt x="1531" y="138"/>
                        </a:lnTo>
                        <a:lnTo>
                          <a:pt x="1489" y="114"/>
                        </a:lnTo>
                        <a:lnTo>
                          <a:pt x="1445" y="92"/>
                        </a:lnTo>
                        <a:lnTo>
                          <a:pt x="1402" y="73"/>
                        </a:lnTo>
                        <a:lnTo>
                          <a:pt x="1378" y="63"/>
                        </a:lnTo>
                        <a:lnTo>
                          <a:pt x="1355" y="55"/>
                        </a:lnTo>
                        <a:lnTo>
                          <a:pt x="1310" y="40"/>
                        </a:lnTo>
                        <a:lnTo>
                          <a:pt x="1262" y="28"/>
                        </a:lnTo>
                        <a:lnTo>
                          <a:pt x="1216" y="18"/>
                        </a:lnTo>
                        <a:lnTo>
                          <a:pt x="1166" y="10"/>
                        </a:lnTo>
                        <a:lnTo>
                          <a:pt x="1117" y="4"/>
                        </a:lnTo>
                        <a:lnTo>
                          <a:pt x="1066" y="1"/>
                        </a:lnTo>
                        <a:lnTo>
                          <a:pt x="1015" y="0"/>
                        </a:lnTo>
                        <a:lnTo>
                          <a:pt x="962" y="1"/>
                        </a:lnTo>
                        <a:lnTo>
                          <a:pt x="911" y="4"/>
                        </a:lnTo>
                        <a:lnTo>
                          <a:pt x="861" y="10"/>
                        </a:lnTo>
                        <a:lnTo>
                          <a:pt x="812" y="18"/>
                        </a:lnTo>
                        <a:lnTo>
                          <a:pt x="763" y="28"/>
                        </a:lnTo>
                        <a:lnTo>
                          <a:pt x="716" y="40"/>
                        </a:lnTo>
                        <a:lnTo>
                          <a:pt x="669" y="55"/>
                        </a:lnTo>
                        <a:lnTo>
                          <a:pt x="625" y="73"/>
                        </a:lnTo>
                        <a:lnTo>
                          <a:pt x="580" y="92"/>
                        </a:lnTo>
                        <a:lnTo>
                          <a:pt x="537" y="114"/>
                        </a:lnTo>
                        <a:lnTo>
                          <a:pt x="495" y="138"/>
                        </a:lnTo>
                        <a:lnTo>
                          <a:pt x="454" y="166"/>
                        </a:lnTo>
                        <a:lnTo>
                          <a:pt x="413" y="195"/>
                        </a:lnTo>
                        <a:lnTo>
                          <a:pt x="373" y="227"/>
                        </a:lnTo>
                        <a:lnTo>
                          <a:pt x="335" y="260"/>
                        </a:lnTo>
                        <a:lnTo>
                          <a:pt x="298" y="298"/>
                        </a:lnTo>
                        <a:lnTo>
                          <a:pt x="261" y="334"/>
                        </a:lnTo>
                        <a:lnTo>
                          <a:pt x="228" y="372"/>
                        </a:lnTo>
                        <a:lnTo>
                          <a:pt x="195" y="412"/>
                        </a:lnTo>
                        <a:lnTo>
                          <a:pt x="167" y="453"/>
                        </a:lnTo>
                        <a:lnTo>
                          <a:pt x="139" y="494"/>
                        </a:lnTo>
                        <a:lnTo>
                          <a:pt x="115" y="536"/>
                        </a:lnTo>
                        <a:lnTo>
                          <a:pt x="93" y="579"/>
                        </a:lnTo>
                        <a:lnTo>
                          <a:pt x="74" y="624"/>
                        </a:lnTo>
                        <a:lnTo>
                          <a:pt x="56" y="668"/>
                        </a:lnTo>
                        <a:lnTo>
                          <a:pt x="41" y="715"/>
                        </a:lnTo>
                        <a:lnTo>
                          <a:pt x="29" y="762"/>
                        </a:lnTo>
                        <a:lnTo>
                          <a:pt x="18" y="811"/>
                        </a:lnTo>
                        <a:lnTo>
                          <a:pt x="10" y="860"/>
                        </a:lnTo>
                        <a:lnTo>
                          <a:pt x="5" y="910"/>
                        </a:lnTo>
                        <a:lnTo>
                          <a:pt x="1" y="961"/>
                        </a:lnTo>
                        <a:lnTo>
                          <a:pt x="0" y="1014"/>
                        </a:lnTo>
                        <a:lnTo>
                          <a:pt x="1" y="1065"/>
                        </a:lnTo>
                        <a:lnTo>
                          <a:pt x="5" y="1116"/>
                        </a:lnTo>
                        <a:lnTo>
                          <a:pt x="10" y="1165"/>
                        </a:lnTo>
                        <a:lnTo>
                          <a:pt x="18" y="1215"/>
                        </a:lnTo>
                        <a:lnTo>
                          <a:pt x="29" y="1261"/>
                        </a:lnTo>
                        <a:lnTo>
                          <a:pt x="41" y="1309"/>
                        </a:lnTo>
                        <a:lnTo>
                          <a:pt x="56" y="1354"/>
                        </a:lnTo>
                        <a:lnTo>
                          <a:pt x="64" y="1377"/>
                        </a:lnTo>
                        <a:lnTo>
                          <a:pt x="74" y="1401"/>
                        </a:lnTo>
                        <a:lnTo>
                          <a:pt x="93" y="1444"/>
                        </a:lnTo>
                        <a:lnTo>
                          <a:pt x="115" y="1488"/>
                        </a:lnTo>
                        <a:lnTo>
                          <a:pt x="139" y="1530"/>
                        </a:lnTo>
                        <a:lnTo>
                          <a:pt x="167" y="1572"/>
                        </a:lnTo>
                        <a:lnTo>
                          <a:pt x="195" y="1611"/>
                        </a:lnTo>
                        <a:lnTo>
                          <a:pt x="228" y="1652"/>
                        </a:lnTo>
                        <a:lnTo>
                          <a:pt x="261" y="1691"/>
                        </a:lnTo>
                        <a:lnTo>
                          <a:pt x="298" y="1729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6667560" y="4925160"/>
                    <a:ext cx="2584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7" h="934">
                        <a:moveTo>
                          <a:pt x="1017" y="550"/>
                        </a:moveTo>
                        <a:lnTo>
                          <a:pt x="1017" y="350"/>
                        </a:lnTo>
                        <a:lnTo>
                          <a:pt x="584" y="350"/>
                        </a:lnTo>
                        <a:lnTo>
                          <a:pt x="584" y="0"/>
                        </a:lnTo>
                        <a:lnTo>
                          <a:pt x="400" y="0"/>
                        </a:lnTo>
                        <a:lnTo>
                          <a:pt x="400" y="350"/>
                        </a:lnTo>
                        <a:lnTo>
                          <a:pt x="0" y="350"/>
                        </a:lnTo>
                        <a:lnTo>
                          <a:pt x="0" y="550"/>
                        </a:lnTo>
                        <a:lnTo>
                          <a:pt x="400" y="550"/>
                        </a:lnTo>
                        <a:lnTo>
                          <a:pt x="400" y="934"/>
                        </a:lnTo>
                        <a:lnTo>
                          <a:pt x="584" y="934"/>
                        </a:lnTo>
                        <a:lnTo>
                          <a:pt x="584" y="550"/>
                        </a:lnTo>
                        <a:lnTo>
                          <a:pt x="1017" y="5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6667560" y="4925160"/>
                    <a:ext cx="2584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7" h="934">
                        <a:moveTo>
                          <a:pt x="1017" y="350"/>
                        </a:moveTo>
                        <a:lnTo>
                          <a:pt x="584" y="350"/>
                        </a:lnTo>
                        <a:lnTo>
                          <a:pt x="584" y="0"/>
                        </a:lnTo>
                        <a:lnTo>
                          <a:pt x="400" y="0"/>
                        </a:lnTo>
                        <a:lnTo>
                          <a:pt x="400" y="350"/>
                        </a:lnTo>
                        <a:lnTo>
                          <a:pt x="0" y="350"/>
                        </a:lnTo>
                        <a:lnTo>
                          <a:pt x="0" y="550"/>
                        </a:lnTo>
                        <a:lnTo>
                          <a:pt x="400" y="550"/>
                        </a:lnTo>
                        <a:lnTo>
                          <a:pt x="400" y="934"/>
                        </a:lnTo>
                        <a:lnTo>
                          <a:pt x="584" y="934"/>
                        </a:lnTo>
                        <a:lnTo>
                          <a:pt x="584" y="550"/>
                        </a:lnTo>
                        <a:lnTo>
                          <a:pt x="1017" y="550"/>
                        </a:lnTo>
                        <a:lnTo>
                          <a:pt x="1017" y="35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6834240" y="3660480"/>
                    <a:ext cx="14580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4" h="529">
                        <a:moveTo>
                          <a:pt x="114" y="45"/>
                        </a:moveTo>
                        <a:lnTo>
                          <a:pt x="133" y="26"/>
                        </a:lnTo>
                        <a:lnTo>
                          <a:pt x="157" y="11"/>
                        </a:lnTo>
                        <a:lnTo>
                          <a:pt x="107" y="0"/>
                        </a:lnTo>
                        <a:lnTo>
                          <a:pt x="87" y="19"/>
                        </a:lnTo>
                        <a:lnTo>
                          <a:pt x="65" y="41"/>
                        </a:lnTo>
                        <a:lnTo>
                          <a:pt x="47" y="65"/>
                        </a:lnTo>
                        <a:lnTo>
                          <a:pt x="32" y="88"/>
                        </a:lnTo>
                        <a:lnTo>
                          <a:pt x="21" y="115"/>
                        </a:lnTo>
                        <a:lnTo>
                          <a:pt x="11" y="141"/>
                        </a:lnTo>
                        <a:lnTo>
                          <a:pt x="4" y="169"/>
                        </a:lnTo>
                        <a:lnTo>
                          <a:pt x="1" y="198"/>
                        </a:lnTo>
                        <a:lnTo>
                          <a:pt x="0" y="230"/>
                        </a:lnTo>
                        <a:lnTo>
                          <a:pt x="1" y="260"/>
                        </a:lnTo>
                        <a:lnTo>
                          <a:pt x="4" y="289"/>
                        </a:lnTo>
                        <a:lnTo>
                          <a:pt x="6" y="303"/>
                        </a:lnTo>
                        <a:lnTo>
                          <a:pt x="11" y="317"/>
                        </a:lnTo>
                        <a:lnTo>
                          <a:pt x="21" y="345"/>
                        </a:lnTo>
                        <a:lnTo>
                          <a:pt x="32" y="370"/>
                        </a:lnTo>
                        <a:lnTo>
                          <a:pt x="47" y="395"/>
                        </a:lnTo>
                        <a:lnTo>
                          <a:pt x="55" y="406"/>
                        </a:lnTo>
                        <a:lnTo>
                          <a:pt x="65" y="418"/>
                        </a:lnTo>
                        <a:lnTo>
                          <a:pt x="87" y="442"/>
                        </a:lnTo>
                        <a:lnTo>
                          <a:pt x="108" y="461"/>
                        </a:lnTo>
                        <a:lnTo>
                          <a:pt x="132" y="480"/>
                        </a:lnTo>
                        <a:lnTo>
                          <a:pt x="156" y="494"/>
                        </a:lnTo>
                        <a:lnTo>
                          <a:pt x="182" y="507"/>
                        </a:lnTo>
                        <a:lnTo>
                          <a:pt x="208" y="516"/>
                        </a:lnTo>
                        <a:lnTo>
                          <a:pt x="237" y="524"/>
                        </a:lnTo>
                        <a:lnTo>
                          <a:pt x="266" y="527"/>
                        </a:lnTo>
                        <a:lnTo>
                          <a:pt x="298" y="529"/>
                        </a:lnTo>
                        <a:lnTo>
                          <a:pt x="327" y="527"/>
                        </a:lnTo>
                        <a:lnTo>
                          <a:pt x="357" y="524"/>
                        </a:lnTo>
                        <a:lnTo>
                          <a:pt x="370" y="519"/>
                        </a:lnTo>
                        <a:lnTo>
                          <a:pt x="377" y="517"/>
                        </a:lnTo>
                        <a:lnTo>
                          <a:pt x="378" y="516"/>
                        </a:lnTo>
                        <a:lnTo>
                          <a:pt x="381" y="516"/>
                        </a:lnTo>
                        <a:lnTo>
                          <a:pt x="385" y="516"/>
                        </a:lnTo>
                        <a:lnTo>
                          <a:pt x="412" y="507"/>
                        </a:lnTo>
                        <a:lnTo>
                          <a:pt x="437" y="494"/>
                        </a:lnTo>
                        <a:lnTo>
                          <a:pt x="462" y="480"/>
                        </a:lnTo>
                        <a:lnTo>
                          <a:pt x="474" y="470"/>
                        </a:lnTo>
                        <a:lnTo>
                          <a:pt x="486" y="461"/>
                        </a:lnTo>
                        <a:lnTo>
                          <a:pt x="497" y="451"/>
                        </a:lnTo>
                        <a:lnTo>
                          <a:pt x="510" y="442"/>
                        </a:lnTo>
                        <a:lnTo>
                          <a:pt x="529" y="419"/>
                        </a:lnTo>
                        <a:lnTo>
                          <a:pt x="547" y="397"/>
                        </a:lnTo>
                        <a:lnTo>
                          <a:pt x="562" y="372"/>
                        </a:lnTo>
                        <a:lnTo>
                          <a:pt x="574" y="347"/>
                        </a:lnTo>
                        <a:lnTo>
                          <a:pt x="562" y="324"/>
                        </a:lnTo>
                        <a:lnTo>
                          <a:pt x="550" y="304"/>
                        </a:lnTo>
                        <a:lnTo>
                          <a:pt x="538" y="333"/>
                        </a:lnTo>
                        <a:lnTo>
                          <a:pt x="530" y="347"/>
                        </a:lnTo>
                        <a:lnTo>
                          <a:pt x="523" y="362"/>
                        </a:lnTo>
                        <a:lnTo>
                          <a:pt x="505" y="389"/>
                        </a:lnTo>
                        <a:lnTo>
                          <a:pt x="494" y="401"/>
                        </a:lnTo>
                        <a:lnTo>
                          <a:pt x="483" y="415"/>
                        </a:lnTo>
                        <a:lnTo>
                          <a:pt x="462" y="432"/>
                        </a:lnTo>
                        <a:lnTo>
                          <a:pt x="442" y="448"/>
                        </a:lnTo>
                        <a:lnTo>
                          <a:pt x="419" y="460"/>
                        </a:lnTo>
                        <a:lnTo>
                          <a:pt x="408" y="466"/>
                        </a:lnTo>
                        <a:lnTo>
                          <a:pt x="398" y="473"/>
                        </a:lnTo>
                        <a:lnTo>
                          <a:pt x="391" y="474"/>
                        </a:lnTo>
                        <a:lnTo>
                          <a:pt x="385" y="476"/>
                        </a:lnTo>
                        <a:lnTo>
                          <a:pt x="374" y="481"/>
                        </a:lnTo>
                        <a:lnTo>
                          <a:pt x="361" y="483"/>
                        </a:lnTo>
                        <a:lnTo>
                          <a:pt x="350" y="486"/>
                        </a:lnTo>
                        <a:lnTo>
                          <a:pt x="336" y="487"/>
                        </a:lnTo>
                        <a:lnTo>
                          <a:pt x="324" y="490"/>
                        </a:lnTo>
                        <a:lnTo>
                          <a:pt x="310" y="491"/>
                        </a:lnTo>
                        <a:lnTo>
                          <a:pt x="303" y="491"/>
                        </a:lnTo>
                        <a:lnTo>
                          <a:pt x="300" y="491"/>
                        </a:lnTo>
                        <a:lnTo>
                          <a:pt x="298" y="492"/>
                        </a:lnTo>
                        <a:lnTo>
                          <a:pt x="271" y="490"/>
                        </a:lnTo>
                        <a:lnTo>
                          <a:pt x="244" y="486"/>
                        </a:lnTo>
                        <a:lnTo>
                          <a:pt x="220" y="481"/>
                        </a:lnTo>
                        <a:lnTo>
                          <a:pt x="197" y="473"/>
                        </a:lnTo>
                        <a:lnTo>
                          <a:pt x="174" y="460"/>
                        </a:lnTo>
                        <a:lnTo>
                          <a:pt x="153" y="448"/>
                        </a:lnTo>
                        <a:lnTo>
                          <a:pt x="132" y="432"/>
                        </a:lnTo>
                        <a:lnTo>
                          <a:pt x="114" y="415"/>
                        </a:lnTo>
                        <a:lnTo>
                          <a:pt x="95" y="395"/>
                        </a:lnTo>
                        <a:lnTo>
                          <a:pt x="80" y="374"/>
                        </a:lnTo>
                        <a:lnTo>
                          <a:pt x="66" y="351"/>
                        </a:lnTo>
                        <a:lnTo>
                          <a:pt x="56" y="330"/>
                        </a:lnTo>
                        <a:lnTo>
                          <a:pt x="51" y="317"/>
                        </a:lnTo>
                        <a:lnTo>
                          <a:pt x="47" y="306"/>
                        </a:lnTo>
                        <a:lnTo>
                          <a:pt x="42" y="282"/>
                        </a:lnTo>
                        <a:lnTo>
                          <a:pt x="38" y="256"/>
                        </a:lnTo>
                        <a:lnTo>
                          <a:pt x="37" y="230"/>
                        </a:lnTo>
                        <a:lnTo>
                          <a:pt x="38" y="203"/>
                        </a:lnTo>
                        <a:lnTo>
                          <a:pt x="42" y="177"/>
                        </a:lnTo>
                        <a:lnTo>
                          <a:pt x="47" y="152"/>
                        </a:lnTo>
                        <a:lnTo>
                          <a:pt x="56" y="129"/>
                        </a:lnTo>
                        <a:lnTo>
                          <a:pt x="66" y="107"/>
                        </a:lnTo>
                        <a:lnTo>
                          <a:pt x="80" y="85"/>
                        </a:lnTo>
                        <a:lnTo>
                          <a:pt x="95" y="65"/>
                        </a:lnTo>
                        <a:lnTo>
                          <a:pt x="114" y="45"/>
                        </a:lnTo>
                        <a:close/>
                      </a:path>
                    </a:pathLst>
                  </a:custGeom>
                  <a:solidFill>
                    <a:srgbClr val="00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6843240" y="3663000"/>
                    <a:ext cx="13068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481">
                        <a:moveTo>
                          <a:pt x="120" y="0"/>
                        </a:moveTo>
                        <a:lnTo>
                          <a:pt x="96" y="15"/>
                        </a:lnTo>
                        <a:lnTo>
                          <a:pt x="77" y="34"/>
                        </a:lnTo>
                        <a:lnTo>
                          <a:pt x="58" y="54"/>
                        </a:lnTo>
                        <a:lnTo>
                          <a:pt x="43" y="74"/>
                        </a:lnTo>
                        <a:lnTo>
                          <a:pt x="29" y="96"/>
                        </a:lnTo>
                        <a:lnTo>
                          <a:pt x="19" y="118"/>
                        </a:lnTo>
                        <a:lnTo>
                          <a:pt x="10" y="141"/>
                        </a:lnTo>
                        <a:lnTo>
                          <a:pt x="5" y="166"/>
                        </a:lnTo>
                        <a:lnTo>
                          <a:pt x="1" y="192"/>
                        </a:lnTo>
                        <a:lnTo>
                          <a:pt x="0" y="219"/>
                        </a:lnTo>
                        <a:lnTo>
                          <a:pt x="1" y="245"/>
                        </a:lnTo>
                        <a:lnTo>
                          <a:pt x="5" y="271"/>
                        </a:lnTo>
                        <a:lnTo>
                          <a:pt x="10" y="295"/>
                        </a:lnTo>
                        <a:lnTo>
                          <a:pt x="14" y="306"/>
                        </a:lnTo>
                        <a:lnTo>
                          <a:pt x="19" y="319"/>
                        </a:lnTo>
                        <a:lnTo>
                          <a:pt x="29" y="340"/>
                        </a:lnTo>
                        <a:lnTo>
                          <a:pt x="43" y="363"/>
                        </a:lnTo>
                        <a:lnTo>
                          <a:pt x="58" y="384"/>
                        </a:lnTo>
                        <a:lnTo>
                          <a:pt x="77" y="404"/>
                        </a:lnTo>
                        <a:lnTo>
                          <a:pt x="95" y="421"/>
                        </a:lnTo>
                        <a:lnTo>
                          <a:pt x="116" y="437"/>
                        </a:lnTo>
                        <a:lnTo>
                          <a:pt x="137" y="449"/>
                        </a:lnTo>
                        <a:lnTo>
                          <a:pt x="160" y="462"/>
                        </a:lnTo>
                        <a:lnTo>
                          <a:pt x="183" y="470"/>
                        </a:lnTo>
                        <a:lnTo>
                          <a:pt x="207" y="475"/>
                        </a:lnTo>
                        <a:lnTo>
                          <a:pt x="234" y="479"/>
                        </a:lnTo>
                        <a:lnTo>
                          <a:pt x="261" y="481"/>
                        </a:lnTo>
                        <a:lnTo>
                          <a:pt x="263" y="480"/>
                        </a:lnTo>
                        <a:lnTo>
                          <a:pt x="266" y="480"/>
                        </a:lnTo>
                        <a:lnTo>
                          <a:pt x="273" y="480"/>
                        </a:lnTo>
                        <a:lnTo>
                          <a:pt x="287" y="479"/>
                        </a:lnTo>
                        <a:lnTo>
                          <a:pt x="299" y="476"/>
                        </a:lnTo>
                        <a:lnTo>
                          <a:pt x="313" y="475"/>
                        </a:lnTo>
                        <a:lnTo>
                          <a:pt x="324" y="472"/>
                        </a:lnTo>
                        <a:lnTo>
                          <a:pt x="337" y="470"/>
                        </a:lnTo>
                        <a:lnTo>
                          <a:pt x="348" y="465"/>
                        </a:lnTo>
                        <a:lnTo>
                          <a:pt x="354" y="463"/>
                        </a:lnTo>
                        <a:lnTo>
                          <a:pt x="361" y="462"/>
                        </a:lnTo>
                        <a:lnTo>
                          <a:pt x="371" y="455"/>
                        </a:lnTo>
                        <a:lnTo>
                          <a:pt x="382" y="449"/>
                        </a:lnTo>
                        <a:lnTo>
                          <a:pt x="405" y="437"/>
                        </a:lnTo>
                        <a:lnTo>
                          <a:pt x="425" y="421"/>
                        </a:lnTo>
                        <a:lnTo>
                          <a:pt x="446" y="404"/>
                        </a:lnTo>
                        <a:lnTo>
                          <a:pt x="457" y="390"/>
                        </a:lnTo>
                        <a:lnTo>
                          <a:pt x="468" y="378"/>
                        </a:lnTo>
                        <a:lnTo>
                          <a:pt x="486" y="351"/>
                        </a:lnTo>
                        <a:lnTo>
                          <a:pt x="493" y="336"/>
                        </a:lnTo>
                        <a:lnTo>
                          <a:pt x="501" y="322"/>
                        </a:lnTo>
                        <a:lnTo>
                          <a:pt x="513" y="293"/>
                        </a:lnTo>
                        <a:lnTo>
                          <a:pt x="484" y="250"/>
                        </a:lnTo>
                        <a:lnTo>
                          <a:pt x="482" y="258"/>
                        </a:lnTo>
                        <a:lnTo>
                          <a:pt x="481" y="267"/>
                        </a:lnTo>
                        <a:lnTo>
                          <a:pt x="476" y="285"/>
                        </a:lnTo>
                        <a:lnTo>
                          <a:pt x="469" y="301"/>
                        </a:lnTo>
                        <a:lnTo>
                          <a:pt x="463" y="318"/>
                        </a:lnTo>
                        <a:lnTo>
                          <a:pt x="454" y="333"/>
                        </a:lnTo>
                        <a:lnTo>
                          <a:pt x="443" y="348"/>
                        </a:lnTo>
                        <a:lnTo>
                          <a:pt x="432" y="363"/>
                        </a:lnTo>
                        <a:lnTo>
                          <a:pt x="425" y="370"/>
                        </a:lnTo>
                        <a:lnTo>
                          <a:pt x="423" y="371"/>
                        </a:lnTo>
                        <a:lnTo>
                          <a:pt x="422" y="373"/>
                        </a:lnTo>
                        <a:lnTo>
                          <a:pt x="420" y="378"/>
                        </a:lnTo>
                        <a:lnTo>
                          <a:pt x="401" y="393"/>
                        </a:lnTo>
                        <a:lnTo>
                          <a:pt x="384" y="406"/>
                        </a:lnTo>
                        <a:lnTo>
                          <a:pt x="374" y="411"/>
                        </a:lnTo>
                        <a:lnTo>
                          <a:pt x="365" y="416"/>
                        </a:lnTo>
                        <a:lnTo>
                          <a:pt x="347" y="427"/>
                        </a:lnTo>
                        <a:lnTo>
                          <a:pt x="325" y="433"/>
                        </a:lnTo>
                        <a:lnTo>
                          <a:pt x="305" y="439"/>
                        </a:lnTo>
                        <a:lnTo>
                          <a:pt x="282" y="442"/>
                        </a:lnTo>
                        <a:lnTo>
                          <a:pt x="271" y="442"/>
                        </a:lnTo>
                        <a:lnTo>
                          <a:pt x="265" y="442"/>
                        </a:lnTo>
                        <a:lnTo>
                          <a:pt x="261" y="444"/>
                        </a:lnTo>
                        <a:lnTo>
                          <a:pt x="237" y="442"/>
                        </a:lnTo>
                        <a:lnTo>
                          <a:pt x="215" y="439"/>
                        </a:lnTo>
                        <a:lnTo>
                          <a:pt x="194" y="433"/>
                        </a:lnTo>
                        <a:lnTo>
                          <a:pt x="175" y="427"/>
                        </a:lnTo>
                        <a:lnTo>
                          <a:pt x="155" y="416"/>
                        </a:lnTo>
                        <a:lnTo>
                          <a:pt x="137" y="406"/>
                        </a:lnTo>
                        <a:lnTo>
                          <a:pt x="119" y="393"/>
                        </a:lnTo>
                        <a:lnTo>
                          <a:pt x="103" y="378"/>
                        </a:lnTo>
                        <a:lnTo>
                          <a:pt x="86" y="360"/>
                        </a:lnTo>
                        <a:lnTo>
                          <a:pt x="74" y="343"/>
                        </a:lnTo>
                        <a:lnTo>
                          <a:pt x="61" y="323"/>
                        </a:lnTo>
                        <a:lnTo>
                          <a:pt x="53" y="305"/>
                        </a:lnTo>
                        <a:lnTo>
                          <a:pt x="45" y="284"/>
                        </a:lnTo>
                        <a:lnTo>
                          <a:pt x="41" y="263"/>
                        </a:lnTo>
                        <a:lnTo>
                          <a:pt x="37" y="241"/>
                        </a:lnTo>
                        <a:lnTo>
                          <a:pt x="37" y="219"/>
                        </a:lnTo>
                        <a:lnTo>
                          <a:pt x="37" y="195"/>
                        </a:lnTo>
                        <a:lnTo>
                          <a:pt x="41" y="174"/>
                        </a:lnTo>
                        <a:lnTo>
                          <a:pt x="45" y="152"/>
                        </a:lnTo>
                        <a:lnTo>
                          <a:pt x="53" y="133"/>
                        </a:lnTo>
                        <a:lnTo>
                          <a:pt x="61" y="113"/>
                        </a:lnTo>
                        <a:lnTo>
                          <a:pt x="74" y="94"/>
                        </a:lnTo>
                        <a:lnTo>
                          <a:pt x="86" y="77"/>
                        </a:lnTo>
                        <a:lnTo>
                          <a:pt x="103" y="62"/>
                        </a:lnTo>
                        <a:lnTo>
                          <a:pt x="118" y="47"/>
                        </a:lnTo>
                        <a:lnTo>
                          <a:pt x="134" y="34"/>
                        </a:lnTo>
                        <a:lnTo>
                          <a:pt x="169" y="15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00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6824520" y="3658320"/>
                    <a:ext cx="16092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574">
                        <a:moveTo>
                          <a:pt x="125" y="26"/>
                        </a:moveTo>
                        <a:lnTo>
                          <a:pt x="145" y="7"/>
                        </a:lnTo>
                        <a:lnTo>
                          <a:pt x="98" y="0"/>
                        </a:lnTo>
                        <a:lnTo>
                          <a:pt x="74" y="24"/>
                        </a:lnTo>
                        <a:lnTo>
                          <a:pt x="55" y="51"/>
                        </a:lnTo>
                        <a:lnTo>
                          <a:pt x="38" y="78"/>
                        </a:lnTo>
                        <a:lnTo>
                          <a:pt x="24" y="108"/>
                        </a:lnTo>
                        <a:lnTo>
                          <a:pt x="13" y="137"/>
                        </a:lnTo>
                        <a:lnTo>
                          <a:pt x="6" y="169"/>
                        </a:lnTo>
                        <a:lnTo>
                          <a:pt x="1" y="202"/>
                        </a:lnTo>
                        <a:lnTo>
                          <a:pt x="0" y="237"/>
                        </a:lnTo>
                        <a:lnTo>
                          <a:pt x="1" y="270"/>
                        </a:lnTo>
                        <a:lnTo>
                          <a:pt x="2" y="286"/>
                        </a:lnTo>
                        <a:lnTo>
                          <a:pt x="6" y="303"/>
                        </a:lnTo>
                        <a:lnTo>
                          <a:pt x="13" y="335"/>
                        </a:lnTo>
                        <a:lnTo>
                          <a:pt x="17" y="349"/>
                        </a:lnTo>
                        <a:lnTo>
                          <a:pt x="24" y="365"/>
                        </a:lnTo>
                        <a:lnTo>
                          <a:pt x="30" y="379"/>
                        </a:lnTo>
                        <a:lnTo>
                          <a:pt x="38" y="394"/>
                        </a:lnTo>
                        <a:lnTo>
                          <a:pt x="55" y="422"/>
                        </a:lnTo>
                        <a:lnTo>
                          <a:pt x="75" y="449"/>
                        </a:lnTo>
                        <a:lnTo>
                          <a:pt x="99" y="475"/>
                        </a:lnTo>
                        <a:lnTo>
                          <a:pt x="123" y="497"/>
                        </a:lnTo>
                        <a:lnTo>
                          <a:pt x="150" y="517"/>
                        </a:lnTo>
                        <a:lnTo>
                          <a:pt x="177" y="534"/>
                        </a:lnTo>
                        <a:lnTo>
                          <a:pt x="207" y="549"/>
                        </a:lnTo>
                        <a:lnTo>
                          <a:pt x="236" y="559"/>
                        </a:lnTo>
                        <a:lnTo>
                          <a:pt x="268" y="567"/>
                        </a:lnTo>
                        <a:lnTo>
                          <a:pt x="301" y="572"/>
                        </a:lnTo>
                        <a:lnTo>
                          <a:pt x="336" y="574"/>
                        </a:lnTo>
                        <a:lnTo>
                          <a:pt x="352" y="573"/>
                        </a:lnTo>
                        <a:lnTo>
                          <a:pt x="353" y="572"/>
                        </a:lnTo>
                        <a:lnTo>
                          <a:pt x="355" y="572"/>
                        </a:lnTo>
                        <a:lnTo>
                          <a:pt x="360" y="572"/>
                        </a:lnTo>
                        <a:lnTo>
                          <a:pt x="369" y="572"/>
                        </a:lnTo>
                        <a:lnTo>
                          <a:pt x="385" y="569"/>
                        </a:lnTo>
                        <a:lnTo>
                          <a:pt x="402" y="567"/>
                        </a:lnTo>
                        <a:lnTo>
                          <a:pt x="433" y="559"/>
                        </a:lnTo>
                        <a:lnTo>
                          <a:pt x="440" y="556"/>
                        </a:lnTo>
                        <a:lnTo>
                          <a:pt x="448" y="553"/>
                        </a:lnTo>
                        <a:lnTo>
                          <a:pt x="464" y="549"/>
                        </a:lnTo>
                        <a:lnTo>
                          <a:pt x="478" y="541"/>
                        </a:lnTo>
                        <a:lnTo>
                          <a:pt x="492" y="534"/>
                        </a:lnTo>
                        <a:lnTo>
                          <a:pt x="506" y="525"/>
                        </a:lnTo>
                        <a:lnTo>
                          <a:pt x="513" y="521"/>
                        </a:lnTo>
                        <a:lnTo>
                          <a:pt x="516" y="518"/>
                        </a:lnTo>
                        <a:lnTo>
                          <a:pt x="521" y="517"/>
                        </a:lnTo>
                        <a:lnTo>
                          <a:pt x="548" y="497"/>
                        </a:lnTo>
                        <a:lnTo>
                          <a:pt x="560" y="485"/>
                        </a:lnTo>
                        <a:lnTo>
                          <a:pt x="574" y="475"/>
                        </a:lnTo>
                        <a:lnTo>
                          <a:pt x="574" y="473"/>
                        </a:lnTo>
                        <a:lnTo>
                          <a:pt x="574" y="472"/>
                        </a:lnTo>
                        <a:lnTo>
                          <a:pt x="575" y="472"/>
                        </a:lnTo>
                        <a:lnTo>
                          <a:pt x="577" y="470"/>
                        </a:lnTo>
                        <a:lnTo>
                          <a:pt x="582" y="465"/>
                        </a:lnTo>
                        <a:lnTo>
                          <a:pt x="591" y="456"/>
                        </a:lnTo>
                        <a:lnTo>
                          <a:pt x="607" y="437"/>
                        </a:lnTo>
                        <a:lnTo>
                          <a:pt x="622" y="416"/>
                        </a:lnTo>
                        <a:lnTo>
                          <a:pt x="624" y="411"/>
                        </a:lnTo>
                        <a:lnTo>
                          <a:pt x="627" y="406"/>
                        </a:lnTo>
                        <a:lnTo>
                          <a:pt x="634" y="397"/>
                        </a:lnTo>
                        <a:lnTo>
                          <a:pt x="623" y="374"/>
                        </a:lnTo>
                        <a:lnTo>
                          <a:pt x="612" y="354"/>
                        </a:lnTo>
                        <a:lnTo>
                          <a:pt x="600" y="379"/>
                        </a:lnTo>
                        <a:lnTo>
                          <a:pt x="585" y="404"/>
                        </a:lnTo>
                        <a:lnTo>
                          <a:pt x="567" y="426"/>
                        </a:lnTo>
                        <a:lnTo>
                          <a:pt x="548" y="449"/>
                        </a:lnTo>
                        <a:lnTo>
                          <a:pt x="535" y="458"/>
                        </a:lnTo>
                        <a:lnTo>
                          <a:pt x="524" y="468"/>
                        </a:lnTo>
                        <a:lnTo>
                          <a:pt x="512" y="477"/>
                        </a:lnTo>
                        <a:lnTo>
                          <a:pt x="500" y="487"/>
                        </a:lnTo>
                        <a:lnTo>
                          <a:pt x="475" y="501"/>
                        </a:lnTo>
                        <a:lnTo>
                          <a:pt x="450" y="514"/>
                        </a:lnTo>
                        <a:lnTo>
                          <a:pt x="423" y="523"/>
                        </a:lnTo>
                        <a:lnTo>
                          <a:pt x="419" y="523"/>
                        </a:lnTo>
                        <a:lnTo>
                          <a:pt x="416" y="523"/>
                        </a:lnTo>
                        <a:lnTo>
                          <a:pt x="415" y="524"/>
                        </a:lnTo>
                        <a:lnTo>
                          <a:pt x="408" y="526"/>
                        </a:lnTo>
                        <a:lnTo>
                          <a:pt x="395" y="531"/>
                        </a:lnTo>
                        <a:lnTo>
                          <a:pt x="365" y="534"/>
                        </a:lnTo>
                        <a:lnTo>
                          <a:pt x="336" y="536"/>
                        </a:lnTo>
                        <a:lnTo>
                          <a:pt x="304" y="534"/>
                        </a:lnTo>
                        <a:lnTo>
                          <a:pt x="275" y="531"/>
                        </a:lnTo>
                        <a:lnTo>
                          <a:pt x="246" y="523"/>
                        </a:lnTo>
                        <a:lnTo>
                          <a:pt x="220" y="514"/>
                        </a:lnTo>
                        <a:lnTo>
                          <a:pt x="194" y="501"/>
                        </a:lnTo>
                        <a:lnTo>
                          <a:pt x="170" y="487"/>
                        </a:lnTo>
                        <a:lnTo>
                          <a:pt x="146" y="468"/>
                        </a:lnTo>
                        <a:lnTo>
                          <a:pt x="125" y="449"/>
                        </a:lnTo>
                        <a:lnTo>
                          <a:pt x="103" y="425"/>
                        </a:lnTo>
                        <a:lnTo>
                          <a:pt x="93" y="413"/>
                        </a:lnTo>
                        <a:lnTo>
                          <a:pt x="85" y="402"/>
                        </a:lnTo>
                        <a:lnTo>
                          <a:pt x="70" y="377"/>
                        </a:lnTo>
                        <a:lnTo>
                          <a:pt x="59" y="352"/>
                        </a:lnTo>
                        <a:lnTo>
                          <a:pt x="49" y="324"/>
                        </a:lnTo>
                        <a:lnTo>
                          <a:pt x="44" y="310"/>
                        </a:lnTo>
                        <a:lnTo>
                          <a:pt x="42" y="296"/>
                        </a:lnTo>
                        <a:lnTo>
                          <a:pt x="39" y="267"/>
                        </a:lnTo>
                        <a:lnTo>
                          <a:pt x="38" y="237"/>
                        </a:lnTo>
                        <a:lnTo>
                          <a:pt x="39" y="205"/>
                        </a:lnTo>
                        <a:lnTo>
                          <a:pt x="42" y="176"/>
                        </a:lnTo>
                        <a:lnTo>
                          <a:pt x="49" y="148"/>
                        </a:lnTo>
                        <a:lnTo>
                          <a:pt x="59" y="122"/>
                        </a:lnTo>
                        <a:lnTo>
                          <a:pt x="70" y="95"/>
                        </a:lnTo>
                        <a:lnTo>
                          <a:pt x="85" y="72"/>
                        </a:lnTo>
                        <a:lnTo>
                          <a:pt x="103" y="48"/>
                        </a:lnTo>
                        <a:lnTo>
                          <a:pt x="125" y="26"/>
                        </a:lnTo>
                        <a:close/>
                      </a:path>
                    </a:pathLst>
                  </a:custGeom>
                  <a:solidFill>
                    <a:srgbClr val="00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805440" y="3657600"/>
                    <a:ext cx="18720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0" h="652">
                        <a:moveTo>
                          <a:pt x="97" y="0"/>
                        </a:moveTo>
                        <a:lnTo>
                          <a:pt x="77" y="0"/>
                        </a:lnTo>
                        <a:lnTo>
                          <a:pt x="58" y="26"/>
                        </a:lnTo>
                        <a:lnTo>
                          <a:pt x="43" y="53"/>
                        </a:lnTo>
                        <a:lnTo>
                          <a:pt x="30" y="81"/>
                        </a:lnTo>
                        <a:lnTo>
                          <a:pt x="20" y="112"/>
                        </a:lnTo>
                        <a:lnTo>
                          <a:pt x="10" y="142"/>
                        </a:lnTo>
                        <a:lnTo>
                          <a:pt x="5" y="173"/>
                        </a:lnTo>
                        <a:lnTo>
                          <a:pt x="1" y="206"/>
                        </a:lnTo>
                        <a:lnTo>
                          <a:pt x="0" y="240"/>
                        </a:lnTo>
                        <a:lnTo>
                          <a:pt x="1" y="281"/>
                        </a:lnTo>
                        <a:lnTo>
                          <a:pt x="7" y="322"/>
                        </a:lnTo>
                        <a:lnTo>
                          <a:pt x="16" y="360"/>
                        </a:lnTo>
                        <a:lnTo>
                          <a:pt x="22" y="378"/>
                        </a:lnTo>
                        <a:lnTo>
                          <a:pt x="30" y="398"/>
                        </a:lnTo>
                        <a:lnTo>
                          <a:pt x="37" y="415"/>
                        </a:lnTo>
                        <a:lnTo>
                          <a:pt x="46" y="433"/>
                        </a:lnTo>
                        <a:lnTo>
                          <a:pt x="67" y="467"/>
                        </a:lnTo>
                        <a:lnTo>
                          <a:pt x="91" y="500"/>
                        </a:lnTo>
                        <a:lnTo>
                          <a:pt x="120" y="531"/>
                        </a:lnTo>
                        <a:lnTo>
                          <a:pt x="150" y="559"/>
                        </a:lnTo>
                        <a:lnTo>
                          <a:pt x="183" y="584"/>
                        </a:lnTo>
                        <a:lnTo>
                          <a:pt x="217" y="604"/>
                        </a:lnTo>
                        <a:lnTo>
                          <a:pt x="253" y="621"/>
                        </a:lnTo>
                        <a:lnTo>
                          <a:pt x="289" y="633"/>
                        </a:lnTo>
                        <a:lnTo>
                          <a:pt x="328" y="644"/>
                        </a:lnTo>
                        <a:lnTo>
                          <a:pt x="368" y="649"/>
                        </a:lnTo>
                        <a:lnTo>
                          <a:pt x="411" y="652"/>
                        </a:lnTo>
                        <a:lnTo>
                          <a:pt x="452" y="649"/>
                        </a:lnTo>
                        <a:lnTo>
                          <a:pt x="492" y="644"/>
                        </a:lnTo>
                        <a:lnTo>
                          <a:pt x="531" y="633"/>
                        </a:lnTo>
                        <a:lnTo>
                          <a:pt x="549" y="627"/>
                        </a:lnTo>
                        <a:lnTo>
                          <a:pt x="558" y="623"/>
                        </a:lnTo>
                        <a:lnTo>
                          <a:pt x="568" y="621"/>
                        </a:lnTo>
                        <a:lnTo>
                          <a:pt x="585" y="612"/>
                        </a:lnTo>
                        <a:lnTo>
                          <a:pt x="604" y="604"/>
                        </a:lnTo>
                        <a:lnTo>
                          <a:pt x="638" y="584"/>
                        </a:lnTo>
                        <a:lnTo>
                          <a:pt x="653" y="571"/>
                        </a:lnTo>
                        <a:lnTo>
                          <a:pt x="661" y="564"/>
                        </a:lnTo>
                        <a:lnTo>
                          <a:pt x="670" y="559"/>
                        </a:lnTo>
                        <a:lnTo>
                          <a:pt x="702" y="531"/>
                        </a:lnTo>
                        <a:lnTo>
                          <a:pt x="711" y="520"/>
                        </a:lnTo>
                        <a:lnTo>
                          <a:pt x="716" y="514"/>
                        </a:lnTo>
                        <a:lnTo>
                          <a:pt x="722" y="510"/>
                        </a:lnTo>
                        <a:lnTo>
                          <a:pt x="740" y="490"/>
                        </a:lnTo>
                        <a:lnTo>
                          <a:pt x="726" y="443"/>
                        </a:lnTo>
                        <a:lnTo>
                          <a:pt x="719" y="450"/>
                        </a:lnTo>
                        <a:lnTo>
                          <a:pt x="717" y="451"/>
                        </a:lnTo>
                        <a:lnTo>
                          <a:pt x="716" y="453"/>
                        </a:lnTo>
                        <a:lnTo>
                          <a:pt x="714" y="458"/>
                        </a:lnTo>
                        <a:lnTo>
                          <a:pt x="702" y="474"/>
                        </a:lnTo>
                        <a:lnTo>
                          <a:pt x="689" y="488"/>
                        </a:lnTo>
                        <a:lnTo>
                          <a:pt x="675" y="504"/>
                        </a:lnTo>
                        <a:lnTo>
                          <a:pt x="670" y="507"/>
                        </a:lnTo>
                        <a:lnTo>
                          <a:pt x="668" y="508"/>
                        </a:lnTo>
                        <a:lnTo>
                          <a:pt x="667" y="510"/>
                        </a:lnTo>
                        <a:lnTo>
                          <a:pt x="660" y="517"/>
                        </a:lnTo>
                        <a:lnTo>
                          <a:pt x="647" y="529"/>
                        </a:lnTo>
                        <a:lnTo>
                          <a:pt x="617" y="552"/>
                        </a:lnTo>
                        <a:lnTo>
                          <a:pt x="585" y="570"/>
                        </a:lnTo>
                        <a:lnTo>
                          <a:pt x="554" y="586"/>
                        </a:lnTo>
                        <a:lnTo>
                          <a:pt x="520" y="597"/>
                        </a:lnTo>
                        <a:lnTo>
                          <a:pt x="502" y="602"/>
                        </a:lnTo>
                        <a:lnTo>
                          <a:pt x="484" y="606"/>
                        </a:lnTo>
                        <a:lnTo>
                          <a:pt x="448" y="612"/>
                        </a:lnTo>
                        <a:lnTo>
                          <a:pt x="438" y="612"/>
                        </a:lnTo>
                        <a:lnTo>
                          <a:pt x="429" y="613"/>
                        </a:lnTo>
                        <a:lnTo>
                          <a:pt x="411" y="614"/>
                        </a:lnTo>
                        <a:lnTo>
                          <a:pt x="372" y="612"/>
                        </a:lnTo>
                        <a:lnTo>
                          <a:pt x="336" y="606"/>
                        </a:lnTo>
                        <a:lnTo>
                          <a:pt x="301" y="597"/>
                        </a:lnTo>
                        <a:lnTo>
                          <a:pt x="268" y="586"/>
                        </a:lnTo>
                        <a:lnTo>
                          <a:pt x="235" y="570"/>
                        </a:lnTo>
                        <a:lnTo>
                          <a:pt x="204" y="552"/>
                        </a:lnTo>
                        <a:lnTo>
                          <a:pt x="175" y="529"/>
                        </a:lnTo>
                        <a:lnTo>
                          <a:pt x="148" y="504"/>
                        </a:lnTo>
                        <a:lnTo>
                          <a:pt x="133" y="490"/>
                        </a:lnTo>
                        <a:lnTo>
                          <a:pt x="120" y="476"/>
                        </a:lnTo>
                        <a:lnTo>
                          <a:pt x="99" y="446"/>
                        </a:lnTo>
                        <a:lnTo>
                          <a:pt x="80" y="415"/>
                        </a:lnTo>
                        <a:lnTo>
                          <a:pt x="65" y="383"/>
                        </a:lnTo>
                        <a:lnTo>
                          <a:pt x="52" y="349"/>
                        </a:lnTo>
                        <a:lnTo>
                          <a:pt x="45" y="314"/>
                        </a:lnTo>
                        <a:lnTo>
                          <a:pt x="39" y="278"/>
                        </a:lnTo>
                        <a:lnTo>
                          <a:pt x="38" y="240"/>
                        </a:lnTo>
                        <a:lnTo>
                          <a:pt x="39" y="205"/>
                        </a:lnTo>
                        <a:lnTo>
                          <a:pt x="42" y="172"/>
                        </a:lnTo>
                        <a:lnTo>
                          <a:pt x="49" y="140"/>
                        </a:lnTo>
                        <a:lnTo>
                          <a:pt x="59" y="111"/>
                        </a:lnTo>
                        <a:lnTo>
                          <a:pt x="71" y="80"/>
                        </a:lnTo>
                        <a:lnTo>
                          <a:pt x="85" y="52"/>
                        </a:lnTo>
                        <a:lnTo>
                          <a:pt x="103" y="25"/>
                        </a:lnTo>
                        <a:lnTo>
                          <a:pt x="125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6814800" y="3657600"/>
                    <a:ext cx="17532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614">
                        <a:moveTo>
                          <a:pt x="135" y="3"/>
                        </a:moveTo>
                        <a:lnTo>
                          <a:pt x="87" y="0"/>
                        </a:lnTo>
                        <a:lnTo>
                          <a:pt x="65" y="25"/>
                        </a:lnTo>
                        <a:lnTo>
                          <a:pt x="47" y="52"/>
                        </a:lnTo>
                        <a:lnTo>
                          <a:pt x="33" y="80"/>
                        </a:lnTo>
                        <a:lnTo>
                          <a:pt x="21" y="111"/>
                        </a:lnTo>
                        <a:lnTo>
                          <a:pt x="11" y="140"/>
                        </a:lnTo>
                        <a:lnTo>
                          <a:pt x="4" y="172"/>
                        </a:lnTo>
                        <a:lnTo>
                          <a:pt x="1" y="205"/>
                        </a:lnTo>
                        <a:lnTo>
                          <a:pt x="0" y="240"/>
                        </a:lnTo>
                        <a:lnTo>
                          <a:pt x="1" y="278"/>
                        </a:lnTo>
                        <a:lnTo>
                          <a:pt x="7" y="314"/>
                        </a:lnTo>
                        <a:lnTo>
                          <a:pt x="14" y="349"/>
                        </a:lnTo>
                        <a:lnTo>
                          <a:pt x="27" y="383"/>
                        </a:lnTo>
                        <a:lnTo>
                          <a:pt x="42" y="415"/>
                        </a:lnTo>
                        <a:lnTo>
                          <a:pt x="61" y="446"/>
                        </a:lnTo>
                        <a:lnTo>
                          <a:pt x="82" y="476"/>
                        </a:lnTo>
                        <a:lnTo>
                          <a:pt x="95" y="490"/>
                        </a:lnTo>
                        <a:lnTo>
                          <a:pt x="110" y="504"/>
                        </a:lnTo>
                        <a:lnTo>
                          <a:pt x="137" y="529"/>
                        </a:lnTo>
                        <a:lnTo>
                          <a:pt x="166" y="552"/>
                        </a:lnTo>
                        <a:lnTo>
                          <a:pt x="197" y="570"/>
                        </a:lnTo>
                        <a:lnTo>
                          <a:pt x="230" y="586"/>
                        </a:lnTo>
                        <a:lnTo>
                          <a:pt x="263" y="597"/>
                        </a:lnTo>
                        <a:lnTo>
                          <a:pt x="298" y="606"/>
                        </a:lnTo>
                        <a:lnTo>
                          <a:pt x="334" y="612"/>
                        </a:lnTo>
                        <a:lnTo>
                          <a:pt x="373" y="614"/>
                        </a:lnTo>
                        <a:lnTo>
                          <a:pt x="391" y="613"/>
                        </a:lnTo>
                        <a:lnTo>
                          <a:pt x="400" y="612"/>
                        </a:lnTo>
                        <a:lnTo>
                          <a:pt x="410" y="612"/>
                        </a:lnTo>
                        <a:lnTo>
                          <a:pt x="446" y="606"/>
                        </a:lnTo>
                        <a:lnTo>
                          <a:pt x="464" y="602"/>
                        </a:lnTo>
                        <a:lnTo>
                          <a:pt x="482" y="597"/>
                        </a:lnTo>
                        <a:lnTo>
                          <a:pt x="516" y="586"/>
                        </a:lnTo>
                        <a:lnTo>
                          <a:pt x="547" y="570"/>
                        </a:lnTo>
                        <a:lnTo>
                          <a:pt x="579" y="552"/>
                        </a:lnTo>
                        <a:lnTo>
                          <a:pt x="609" y="529"/>
                        </a:lnTo>
                        <a:lnTo>
                          <a:pt x="622" y="517"/>
                        </a:lnTo>
                        <a:lnTo>
                          <a:pt x="629" y="510"/>
                        </a:lnTo>
                        <a:lnTo>
                          <a:pt x="630" y="508"/>
                        </a:lnTo>
                        <a:lnTo>
                          <a:pt x="632" y="507"/>
                        </a:lnTo>
                        <a:lnTo>
                          <a:pt x="637" y="504"/>
                        </a:lnTo>
                        <a:lnTo>
                          <a:pt x="651" y="488"/>
                        </a:lnTo>
                        <a:lnTo>
                          <a:pt x="664" y="474"/>
                        </a:lnTo>
                        <a:lnTo>
                          <a:pt x="676" y="458"/>
                        </a:lnTo>
                        <a:lnTo>
                          <a:pt x="678" y="453"/>
                        </a:lnTo>
                        <a:lnTo>
                          <a:pt x="679" y="451"/>
                        </a:lnTo>
                        <a:lnTo>
                          <a:pt x="681" y="450"/>
                        </a:lnTo>
                        <a:lnTo>
                          <a:pt x="688" y="443"/>
                        </a:lnTo>
                        <a:lnTo>
                          <a:pt x="679" y="420"/>
                        </a:lnTo>
                        <a:lnTo>
                          <a:pt x="671" y="400"/>
                        </a:lnTo>
                        <a:lnTo>
                          <a:pt x="664" y="409"/>
                        </a:lnTo>
                        <a:lnTo>
                          <a:pt x="661" y="414"/>
                        </a:lnTo>
                        <a:lnTo>
                          <a:pt x="659" y="419"/>
                        </a:lnTo>
                        <a:lnTo>
                          <a:pt x="644" y="440"/>
                        </a:lnTo>
                        <a:lnTo>
                          <a:pt x="628" y="459"/>
                        </a:lnTo>
                        <a:lnTo>
                          <a:pt x="619" y="468"/>
                        </a:lnTo>
                        <a:lnTo>
                          <a:pt x="614" y="473"/>
                        </a:lnTo>
                        <a:lnTo>
                          <a:pt x="612" y="475"/>
                        </a:lnTo>
                        <a:lnTo>
                          <a:pt x="611" y="475"/>
                        </a:lnTo>
                        <a:lnTo>
                          <a:pt x="611" y="476"/>
                        </a:lnTo>
                        <a:lnTo>
                          <a:pt x="611" y="478"/>
                        </a:lnTo>
                        <a:lnTo>
                          <a:pt x="597" y="488"/>
                        </a:lnTo>
                        <a:lnTo>
                          <a:pt x="585" y="500"/>
                        </a:lnTo>
                        <a:lnTo>
                          <a:pt x="558" y="520"/>
                        </a:lnTo>
                        <a:lnTo>
                          <a:pt x="553" y="521"/>
                        </a:lnTo>
                        <a:lnTo>
                          <a:pt x="550" y="524"/>
                        </a:lnTo>
                        <a:lnTo>
                          <a:pt x="543" y="528"/>
                        </a:lnTo>
                        <a:lnTo>
                          <a:pt x="529" y="537"/>
                        </a:lnTo>
                        <a:lnTo>
                          <a:pt x="515" y="544"/>
                        </a:lnTo>
                        <a:lnTo>
                          <a:pt x="501" y="552"/>
                        </a:lnTo>
                        <a:lnTo>
                          <a:pt x="485" y="556"/>
                        </a:lnTo>
                        <a:lnTo>
                          <a:pt x="477" y="559"/>
                        </a:lnTo>
                        <a:lnTo>
                          <a:pt x="470" y="562"/>
                        </a:lnTo>
                        <a:lnTo>
                          <a:pt x="439" y="570"/>
                        </a:lnTo>
                        <a:lnTo>
                          <a:pt x="422" y="572"/>
                        </a:lnTo>
                        <a:lnTo>
                          <a:pt x="406" y="575"/>
                        </a:lnTo>
                        <a:lnTo>
                          <a:pt x="397" y="575"/>
                        </a:lnTo>
                        <a:lnTo>
                          <a:pt x="392" y="575"/>
                        </a:lnTo>
                        <a:lnTo>
                          <a:pt x="390" y="575"/>
                        </a:lnTo>
                        <a:lnTo>
                          <a:pt x="389" y="576"/>
                        </a:lnTo>
                        <a:lnTo>
                          <a:pt x="373" y="577"/>
                        </a:lnTo>
                        <a:lnTo>
                          <a:pt x="338" y="575"/>
                        </a:lnTo>
                        <a:lnTo>
                          <a:pt x="305" y="570"/>
                        </a:lnTo>
                        <a:lnTo>
                          <a:pt x="273" y="562"/>
                        </a:lnTo>
                        <a:lnTo>
                          <a:pt x="244" y="552"/>
                        </a:lnTo>
                        <a:lnTo>
                          <a:pt x="214" y="537"/>
                        </a:lnTo>
                        <a:lnTo>
                          <a:pt x="187" y="520"/>
                        </a:lnTo>
                        <a:lnTo>
                          <a:pt x="160" y="500"/>
                        </a:lnTo>
                        <a:lnTo>
                          <a:pt x="136" y="478"/>
                        </a:lnTo>
                        <a:lnTo>
                          <a:pt x="112" y="452"/>
                        </a:lnTo>
                        <a:lnTo>
                          <a:pt x="92" y="425"/>
                        </a:lnTo>
                        <a:lnTo>
                          <a:pt x="75" y="397"/>
                        </a:lnTo>
                        <a:lnTo>
                          <a:pt x="67" y="382"/>
                        </a:lnTo>
                        <a:lnTo>
                          <a:pt x="61" y="368"/>
                        </a:lnTo>
                        <a:lnTo>
                          <a:pt x="54" y="352"/>
                        </a:lnTo>
                        <a:lnTo>
                          <a:pt x="50" y="338"/>
                        </a:lnTo>
                        <a:lnTo>
                          <a:pt x="43" y="306"/>
                        </a:lnTo>
                        <a:lnTo>
                          <a:pt x="39" y="289"/>
                        </a:lnTo>
                        <a:lnTo>
                          <a:pt x="38" y="273"/>
                        </a:lnTo>
                        <a:lnTo>
                          <a:pt x="37" y="240"/>
                        </a:lnTo>
                        <a:lnTo>
                          <a:pt x="38" y="205"/>
                        </a:lnTo>
                        <a:lnTo>
                          <a:pt x="43" y="172"/>
                        </a:lnTo>
                        <a:lnTo>
                          <a:pt x="50" y="140"/>
                        </a:lnTo>
                        <a:lnTo>
                          <a:pt x="61" y="111"/>
                        </a:lnTo>
                        <a:lnTo>
                          <a:pt x="75" y="81"/>
                        </a:lnTo>
                        <a:lnTo>
                          <a:pt x="92" y="54"/>
                        </a:lnTo>
                        <a:lnTo>
                          <a:pt x="111" y="27"/>
                        </a:lnTo>
                        <a:lnTo>
                          <a:pt x="135" y="3"/>
                        </a:lnTo>
                        <a:close/>
                      </a:path>
                    </a:pathLst>
                  </a:custGeom>
                  <a:solidFill>
                    <a:srgbClr val="00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852960" y="3666960"/>
                    <a:ext cx="1137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429">
                        <a:moveTo>
                          <a:pt x="38" y="204"/>
                        </a:moveTo>
                        <a:lnTo>
                          <a:pt x="41" y="167"/>
                        </a:lnTo>
                        <a:lnTo>
                          <a:pt x="45" y="149"/>
                        </a:lnTo>
                        <a:lnTo>
                          <a:pt x="51" y="133"/>
                        </a:lnTo>
                        <a:lnTo>
                          <a:pt x="58" y="116"/>
                        </a:lnTo>
                        <a:lnTo>
                          <a:pt x="68" y="101"/>
                        </a:lnTo>
                        <a:lnTo>
                          <a:pt x="92" y="73"/>
                        </a:lnTo>
                        <a:lnTo>
                          <a:pt x="113" y="53"/>
                        </a:lnTo>
                        <a:lnTo>
                          <a:pt x="135" y="39"/>
                        </a:lnTo>
                        <a:lnTo>
                          <a:pt x="159" y="27"/>
                        </a:lnTo>
                        <a:lnTo>
                          <a:pt x="186" y="22"/>
                        </a:lnTo>
                        <a:lnTo>
                          <a:pt x="132" y="0"/>
                        </a:lnTo>
                        <a:lnTo>
                          <a:pt x="97" y="19"/>
                        </a:lnTo>
                        <a:lnTo>
                          <a:pt x="81" y="32"/>
                        </a:lnTo>
                        <a:lnTo>
                          <a:pt x="66" y="47"/>
                        </a:lnTo>
                        <a:lnTo>
                          <a:pt x="49" y="62"/>
                        </a:lnTo>
                        <a:lnTo>
                          <a:pt x="37" y="79"/>
                        </a:lnTo>
                        <a:lnTo>
                          <a:pt x="24" y="98"/>
                        </a:lnTo>
                        <a:lnTo>
                          <a:pt x="16" y="118"/>
                        </a:lnTo>
                        <a:lnTo>
                          <a:pt x="8" y="137"/>
                        </a:lnTo>
                        <a:lnTo>
                          <a:pt x="4" y="159"/>
                        </a:lnTo>
                        <a:lnTo>
                          <a:pt x="0" y="180"/>
                        </a:lnTo>
                        <a:lnTo>
                          <a:pt x="0" y="204"/>
                        </a:lnTo>
                        <a:lnTo>
                          <a:pt x="0" y="226"/>
                        </a:lnTo>
                        <a:lnTo>
                          <a:pt x="4" y="248"/>
                        </a:lnTo>
                        <a:lnTo>
                          <a:pt x="8" y="269"/>
                        </a:lnTo>
                        <a:lnTo>
                          <a:pt x="16" y="290"/>
                        </a:lnTo>
                        <a:lnTo>
                          <a:pt x="24" y="308"/>
                        </a:lnTo>
                        <a:lnTo>
                          <a:pt x="37" y="328"/>
                        </a:lnTo>
                        <a:lnTo>
                          <a:pt x="49" y="345"/>
                        </a:lnTo>
                        <a:lnTo>
                          <a:pt x="66" y="363"/>
                        </a:lnTo>
                        <a:lnTo>
                          <a:pt x="82" y="378"/>
                        </a:lnTo>
                        <a:lnTo>
                          <a:pt x="100" y="391"/>
                        </a:lnTo>
                        <a:lnTo>
                          <a:pt x="118" y="401"/>
                        </a:lnTo>
                        <a:lnTo>
                          <a:pt x="138" y="412"/>
                        </a:lnTo>
                        <a:lnTo>
                          <a:pt x="157" y="418"/>
                        </a:lnTo>
                        <a:lnTo>
                          <a:pt x="178" y="424"/>
                        </a:lnTo>
                        <a:lnTo>
                          <a:pt x="200" y="427"/>
                        </a:lnTo>
                        <a:lnTo>
                          <a:pt x="224" y="429"/>
                        </a:lnTo>
                        <a:lnTo>
                          <a:pt x="228" y="427"/>
                        </a:lnTo>
                        <a:lnTo>
                          <a:pt x="234" y="427"/>
                        </a:lnTo>
                        <a:lnTo>
                          <a:pt x="245" y="427"/>
                        </a:lnTo>
                        <a:lnTo>
                          <a:pt x="268" y="424"/>
                        </a:lnTo>
                        <a:lnTo>
                          <a:pt x="288" y="418"/>
                        </a:lnTo>
                        <a:lnTo>
                          <a:pt x="310" y="412"/>
                        </a:lnTo>
                        <a:lnTo>
                          <a:pt x="328" y="401"/>
                        </a:lnTo>
                        <a:lnTo>
                          <a:pt x="337" y="396"/>
                        </a:lnTo>
                        <a:lnTo>
                          <a:pt x="347" y="391"/>
                        </a:lnTo>
                        <a:lnTo>
                          <a:pt x="364" y="378"/>
                        </a:lnTo>
                        <a:lnTo>
                          <a:pt x="383" y="363"/>
                        </a:lnTo>
                        <a:lnTo>
                          <a:pt x="385" y="358"/>
                        </a:lnTo>
                        <a:lnTo>
                          <a:pt x="386" y="356"/>
                        </a:lnTo>
                        <a:lnTo>
                          <a:pt x="388" y="355"/>
                        </a:lnTo>
                        <a:lnTo>
                          <a:pt x="395" y="348"/>
                        </a:lnTo>
                        <a:lnTo>
                          <a:pt x="406" y="333"/>
                        </a:lnTo>
                        <a:lnTo>
                          <a:pt x="417" y="318"/>
                        </a:lnTo>
                        <a:lnTo>
                          <a:pt x="426" y="303"/>
                        </a:lnTo>
                        <a:lnTo>
                          <a:pt x="432" y="286"/>
                        </a:lnTo>
                        <a:lnTo>
                          <a:pt x="439" y="270"/>
                        </a:lnTo>
                        <a:lnTo>
                          <a:pt x="444" y="252"/>
                        </a:lnTo>
                        <a:lnTo>
                          <a:pt x="445" y="243"/>
                        </a:lnTo>
                        <a:lnTo>
                          <a:pt x="447" y="235"/>
                        </a:lnTo>
                        <a:lnTo>
                          <a:pt x="411" y="192"/>
                        </a:lnTo>
                        <a:lnTo>
                          <a:pt x="411" y="204"/>
                        </a:lnTo>
                        <a:lnTo>
                          <a:pt x="410" y="222"/>
                        </a:lnTo>
                        <a:lnTo>
                          <a:pt x="407" y="240"/>
                        </a:lnTo>
                        <a:lnTo>
                          <a:pt x="403" y="257"/>
                        </a:lnTo>
                        <a:lnTo>
                          <a:pt x="397" y="276"/>
                        </a:lnTo>
                        <a:lnTo>
                          <a:pt x="393" y="282"/>
                        </a:lnTo>
                        <a:lnTo>
                          <a:pt x="390" y="286"/>
                        </a:lnTo>
                        <a:lnTo>
                          <a:pt x="389" y="290"/>
                        </a:lnTo>
                        <a:lnTo>
                          <a:pt x="380" y="306"/>
                        </a:lnTo>
                        <a:lnTo>
                          <a:pt x="369" y="321"/>
                        </a:lnTo>
                        <a:lnTo>
                          <a:pt x="356" y="337"/>
                        </a:lnTo>
                        <a:lnTo>
                          <a:pt x="341" y="349"/>
                        </a:lnTo>
                        <a:lnTo>
                          <a:pt x="326" y="361"/>
                        </a:lnTo>
                        <a:lnTo>
                          <a:pt x="310" y="370"/>
                        </a:lnTo>
                        <a:lnTo>
                          <a:pt x="305" y="371"/>
                        </a:lnTo>
                        <a:lnTo>
                          <a:pt x="302" y="373"/>
                        </a:lnTo>
                        <a:lnTo>
                          <a:pt x="295" y="378"/>
                        </a:lnTo>
                        <a:lnTo>
                          <a:pt x="277" y="383"/>
                        </a:lnTo>
                        <a:lnTo>
                          <a:pt x="260" y="388"/>
                        </a:lnTo>
                        <a:lnTo>
                          <a:pt x="242" y="390"/>
                        </a:lnTo>
                        <a:lnTo>
                          <a:pt x="224" y="391"/>
                        </a:lnTo>
                        <a:lnTo>
                          <a:pt x="205" y="390"/>
                        </a:lnTo>
                        <a:lnTo>
                          <a:pt x="186" y="388"/>
                        </a:lnTo>
                        <a:lnTo>
                          <a:pt x="168" y="383"/>
                        </a:lnTo>
                        <a:lnTo>
                          <a:pt x="152" y="378"/>
                        </a:lnTo>
                        <a:lnTo>
                          <a:pt x="135" y="370"/>
                        </a:lnTo>
                        <a:lnTo>
                          <a:pt x="121" y="361"/>
                        </a:lnTo>
                        <a:lnTo>
                          <a:pt x="106" y="349"/>
                        </a:lnTo>
                        <a:lnTo>
                          <a:pt x="92" y="337"/>
                        </a:lnTo>
                        <a:lnTo>
                          <a:pt x="79" y="321"/>
                        </a:lnTo>
                        <a:lnTo>
                          <a:pt x="68" y="306"/>
                        </a:lnTo>
                        <a:lnTo>
                          <a:pt x="58" y="290"/>
                        </a:lnTo>
                        <a:lnTo>
                          <a:pt x="51" y="276"/>
                        </a:lnTo>
                        <a:lnTo>
                          <a:pt x="45" y="257"/>
                        </a:lnTo>
                        <a:lnTo>
                          <a:pt x="41" y="240"/>
                        </a:lnTo>
                        <a:lnTo>
                          <a:pt x="38" y="222"/>
                        </a:lnTo>
                        <a:lnTo>
                          <a:pt x="38" y="204"/>
                        </a:lnTo>
                        <a:close/>
                      </a:path>
                    </a:pathLst>
                  </a:custGeom>
                  <a:solidFill>
                    <a:srgbClr val="00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6862680" y="3672360"/>
                    <a:ext cx="94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369">
                        <a:moveTo>
                          <a:pt x="54" y="51"/>
                        </a:moveTo>
                        <a:lnTo>
                          <a:pt x="30" y="79"/>
                        </a:lnTo>
                        <a:lnTo>
                          <a:pt x="20" y="94"/>
                        </a:lnTo>
                        <a:lnTo>
                          <a:pt x="13" y="111"/>
                        </a:lnTo>
                        <a:lnTo>
                          <a:pt x="7" y="127"/>
                        </a:lnTo>
                        <a:lnTo>
                          <a:pt x="3" y="145"/>
                        </a:lnTo>
                        <a:lnTo>
                          <a:pt x="0" y="182"/>
                        </a:lnTo>
                        <a:lnTo>
                          <a:pt x="0" y="200"/>
                        </a:lnTo>
                        <a:lnTo>
                          <a:pt x="3" y="218"/>
                        </a:lnTo>
                        <a:lnTo>
                          <a:pt x="7" y="235"/>
                        </a:lnTo>
                        <a:lnTo>
                          <a:pt x="13" y="254"/>
                        </a:lnTo>
                        <a:lnTo>
                          <a:pt x="20" y="268"/>
                        </a:lnTo>
                        <a:lnTo>
                          <a:pt x="30" y="284"/>
                        </a:lnTo>
                        <a:lnTo>
                          <a:pt x="41" y="299"/>
                        </a:lnTo>
                        <a:lnTo>
                          <a:pt x="54" y="315"/>
                        </a:lnTo>
                        <a:lnTo>
                          <a:pt x="68" y="327"/>
                        </a:lnTo>
                        <a:lnTo>
                          <a:pt x="83" y="339"/>
                        </a:lnTo>
                        <a:lnTo>
                          <a:pt x="97" y="348"/>
                        </a:lnTo>
                        <a:lnTo>
                          <a:pt x="114" y="356"/>
                        </a:lnTo>
                        <a:lnTo>
                          <a:pt x="130" y="361"/>
                        </a:lnTo>
                        <a:lnTo>
                          <a:pt x="148" y="366"/>
                        </a:lnTo>
                        <a:lnTo>
                          <a:pt x="167" y="368"/>
                        </a:lnTo>
                        <a:lnTo>
                          <a:pt x="186" y="369"/>
                        </a:lnTo>
                        <a:lnTo>
                          <a:pt x="204" y="368"/>
                        </a:lnTo>
                        <a:lnTo>
                          <a:pt x="222" y="366"/>
                        </a:lnTo>
                        <a:lnTo>
                          <a:pt x="239" y="361"/>
                        </a:lnTo>
                        <a:lnTo>
                          <a:pt x="257" y="356"/>
                        </a:lnTo>
                        <a:lnTo>
                          <a:pt x="264" y="351"/>
                        </a:lnTo>
                        <a:lnTo>
                          <a:pt x="267" y="349"/>
                        </a:lnTo>
                        <a:lnTo>
                          <a:pt x="272" y="348"/>
                        </a:lnTo>
                        <a:lnTo>
                          <a:pt x="288" y="339"/>
                        </a:lnTo>
                        <a:lnTo>
                          <a:pt x="303" y="327"/>
                        </a:lnTo>
                        <a:lnTo>
                          <a:pt x="318" y="315"/>
                        </a:lnTo>
                        <a:lnTo>
                          <a:pt x="331" y="299"/>
                        </a:lnTo>
                        <a:lnTo>
                          <a:pt x="342" y="284"/>
                        </a:lnTo>
                        <a:lnTo>
                          <a:pt x="351" y="268"/>
                        </a:lnTo>
                        <a:lnTo>
                          <a:pt x="352" y="264"/>
                        </a:lnTo>
                        <a:lnTo>
                          <a:pt x="355" y="260"/>
                        </a:lnTo>
                        <a:lnTo>
                          <a:pt x="359" y="254"/>
                        </a:lnTo>
                        <a:lnTo>
                          <a:pt x="365" y="235"/>
                        </a:lnTo>
                        <a:lnTo>
                          <a:pt x="369" y="218"/>
                        </a:lnTo>
                        <a:lnTo>
                          <a:pt x="372" y="200"/>
                        </a:lnTo>
                        <a:lnTo>
                          <a:pt x="373" y="182"/>
                        </a:lnTo>
                        <a:lnTo>
                          <a:pt x="373" y="170"/>
                        </a:lnTo>
                        <a:lnTo>
                          <a:pt x="341" y="136"/>
                        </a:lnTo>
                        <a:lnTo>
                          <a:pt x="321" y="115"/>
                        </a:lnTo>
                        <a:lnTo>
                          <a:pt x="326" y="130"/>
                        </a:lnTo>
                        <a:lnTo>
                          <a:pt x="331" y="147"/>
                        </a:lnTo>
                        <a:lnTo>
                          <a:pt x="334" y="164"/>
                        </a:lnTo>
                        <a:lnTo>
                          <a:pt x="335" y="182"/>
                        </a:lnTo>
                        <a:lnTo>
                          <a:pt x="334" y="196"/>
                        </a:lnTo>
                        <a:lnTo>
                          <a:pt x="332" y="211"/>
                        </a:lnTo>
                        <a:lnTo>
                          <a:pt x="329" y="224"/>
                        </a:lnTo>
                        <a:lnTo>
                          <a:pt x="324" y="239"/>
                        </a:lnTo>
                        <a:lnTo>
                          <a:pt x="317" y="251"/>
                        </a:lnTo>
                        <a:lnTo>
                          <a:pt x="311" y="264"/>
                        </a:lnTo>
                        <a:lnTo>
                          <a:pt x="301" y="275"/>
                        </a:lnTo>
                        <a:lnTo>
                          <a:pt x="292" y="288"/>
                        </a:lnTo>
                        <a:lnTo>
                          <a:pt x="280" y="297"/>
                        </a:lnTo>
                        <a:lnTo>
                          <a:pt x="269" y="306"/>
                        </a:lnTo>
                        <a:lnTo>
                          <a:pt x="255" y="314"/>
                        </a:lnTo>
                        <a:lnTo>
                          <a:pt x="242" y="320"/>
                        </a:lnTo>
                        <a:lnTo>
                          <a:pt x="228" y="325"/>
                        </a:lnTo>
                        <a:lnTo>
                          <a:pt x="214" y="328"/>
                        </a:lnTo>
                        <a:lnTo>
                          <a:pt x="199" y="331"/>
                        </a:lnTo>
                        <a:lnTo>
                          <a:pt x="186" y="332"/>
                        </a:lnTo>
                        <a:lnTo>
                          <a:pt x="170" y="331"/>
                        </a:lnTo>
                        <a:lnTo>
                          <a:pt x="155" y="328"/>
                        </a:lnTo>
                        <a:lnTo>
                          <a:pt x="142" y="325"/>
                        </a:lnTo>
                        <a:lnTo>
                          <a:pt x="128" y="320"/>
                        </a:lnTo>
                        <a:lnTo>
                          <a:pt x="114" y="314"/>
                        </a:lnTo>
                        <a:lnTo>
                          <a:pt x="102" y="306"/>
                        </a:lnTo>
                        <a:lnTo>
                          <a:pt x="80" y="288"/>
                        </a:lnTo>
                        <a:lnTo>
                          <a:pt x="69" y="275"/>
                        </a:lnTo>
                        <a:lnTo>
                          <a:pt x="61" y="264"/>
                        </a:lnTo>
                        <a:lnTo>
                          <a:pt x="53" y="251"/>
                        </a:lnTo>
                        <a:lnTo>
                          <a:pt x="47" y="239"/>
                        </a:lnTo>
                        <a:lnTo>
                          <a:pt x="42" y="224"/>
                        </a:lnTo>
                        <a:lnTo>
                          <a:pt x="39" y="211"/>
                        </a:lnTo>
                        <a:lnTo>
                          <a:pt x="37" y="196"/>
                        </a:lnTo>
                        <a:lnTo>
                          <a:pt x="37" y="182"/>
                        </a:lnTo>
                        <a:lnTo>
                          <a:pt x="39" y="152"/>
                        </a:lnTo>
                        <a:lnTo>
                          <a:pt x="47" y="124"/>
                        </a:lnTo>
                        <a:lnTo>
                          <a:pt x="61" y="98"/>
                        </a:lnTo>
                        <a:lnTo>
                          <a:pt x="80" y="77"/>
                        </a:lnTo>
                        <a:lnTo>
                          <a:pt x="102" y="57"/>
                        </a:lnTo>
                        <a:lnTo>
                          <a:pt x="128" y="44"/>
                        </a:lnTo>
                        <a:lnTo>
                          <a:pt x="155" y="36"/>
                        </a:lnTo>
                        <a:lnTo>
                          <a:pt x="186" y="34"/>
                        </a:lnTo>
                        <a:lnTo>
                          <a:pt x="201" y="34"/>
                        </a:lnTo>
                        <a:lnTo>
                          <a:pt x="216" y="36"/>
                        </a:lnTo>
                        <a:lnTo>
                          <a:pt x="182" y="17"/>
                        </a:lnTo>
                        <a:lnTo>
                          <a:pt x="148" y="0"/>
                        </a:lnTo>
                        <a:lnTo>
                          <a:pt x="121" y="5"/>
                        </a:lnTo>
                        <a:lnTo>
                          <a:pt x="97" y="17"/>
                        </a:lnTo>
                        <a:lnTo>
                          <a:pt x="75" y="31"/>
                        </a:lnTo>
                        <a:lnTo>
                          <a:pt x="54" y="51"/>
                        </a:lnTo>
                        <a:close/>
                      </a:path>
                    </a:pathLst>
                  </a:custGeom>
                  <a:solidFill>
                    <a:srgbClr val="00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6872040" y="3681000"/>
                    <a:ext cx="7560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298">
                        <a:moveTo>
                          <a:pt x="179" y="2"/>
                        </a:moveTo>
                        <a:lnTo>
                          <a:pt x="164" y="0"/>
                        </a:lnTo>
                        <a:lnTo>
                          <a:pt x="149" y="0"/>
                        </a:lnTo>
                        <a:lnTo>
                          <a:pt x="118" y="2"/>
                        </a:lnTo>
                        <a:lnTo>
                          <a:pt x="91" y="10"/>
                        </a:lnTo>
                        <a:lnTo>
                          <a:pt x="65" y="23"/>
                        </a:lnTo>
                        <a:lnTo>
                          <a:pt x="43" y="43"/>
                        </a:lnTo>
                        <a:lnTo>
                          <a:pt x="24" y="64"/>
                        </a:lnTo>
                        <a:lnTo>
                          <a:pt x="10" y="90"/>
                        </a:lnTo>
                        <a:lnTo>
                          <a:pt x="2" y="118"/>
                        </a:lnTo>
                        <a:lnTo>
                          <a:pt x="0" y="148"/>
                        </a:lnTo>
                        <a:lnTo>
                          <a:pt x="0" y="162"/>
                        </a:lnTo>
                        <a:lnTo>
                          <a:pt x="2" y="177"/>
                        </a:lnTo>
                        <a:lnTo>
                          <a:pt x="5" y="190"/>
                        </a:lnTo>
                        <a:lnTo>
                          <a:pt x="10" y="205"/>
                        </a:lnTo>
                        <a:lnTo>
                          <a:pt x="16" y="217"/>
                        </a:lnTo>
                        <a:lnTo>
                          <a:pt x="24" y="230"/>
                        </a:lnTo>
                        <a:lnTo>
                          <a:pt x="32" y="241"/>
                        </a:lnTo>
                        <a:lnTo>
                          <a:pt x="43" y="254"/>
                        </a:lnTo>
                        <a:lnTo>
                          <a:pt x="65" y="272"/>
                        </a:lnTo>
                        <a:lnTo>
                          <a:pt x="77" y="280"/>
                        </a:lnTo>
                        <a:lnTo>
                          <a:pt x="91" y="286"/>
                        </a:lnTo>
                        <a:lnTo>
                          <a:pt x="105" y="291"/>
                        </a:lnTo>
                        <a:lnTo>
                          <a:pt x="118" y="294"/>
                        </a:lnTo>
                        <a:lnTo>
                          <a:pt x="133" y="297"/>
                        </a:lnTo>
                        <a:lnTo>
                          <a:pt x="149" y="298"/>
                        </a:lnTo>
                        <a:lnTo>
                          <a:pt x="162" y="297"/>
                        </a:lnTo>
                        <a:lnTo>
                          <a:pt x="177" y="294"/>
                        </a:lnTo>
                        <a:lnTo>
                          <a:pt x="191" y="291"/>
                        </a:lnTo>
                        <a:lnTo>
                          <a:pt x="205" y="286"/>
                        </a:lnTo>
                        <a:lnTo>
                          <a:pt x="218" y="280"/>
                        </a:lnTo>
                        <a:lnTo>
                          <a:pt x="232" y="272"/>
                        </a:lnTo>
                        <a:lnTo>
                          <a:pt x="243" y="263"/>
                        </a:lnTo>
                        <a:lnTo>
                          <a:pt x="255" y="254"/>
                        </a:lnTo>
                        <a:lnTo>
                          <a:pt x="264" y="241"/>
                        </a:lnTo>
                        <a:lnTo>
                          <a:pt x="274" y="230"/>
                        </a:lnTo>
                        <a:lnTo>
                          <a:pt x="280" y="217"/>
                        </a:lnTo>
                        <a:lnTo>
                          <a:pt x="287" y="205"/>
                        </a:lnTo>
                        <a:lnTo>
                          <a:pt x="292" y="190"/>
                        </a:lnTo>
                        <a:lnTo>
                          <a:pt x="295" y="177"/>
                        </a:lnTo>
                        <a:lnTo>
                          <a:pt x="297" y="162"/>
                        </a:lnTo>
                        <a:lnTo>
                          <a:pt x="298" y="148"/>
                        </a:lnTo>
                        <a:lnTo>
                          <a:pt x="297" y="130"/>
                        </a:lnTo>
                        <a:lnTo>
                          <a:pt x="294" y="113"/>
                        </a:lnTo>
                        <a:lnTo>
                          <a:pt x="289" y="96"/>
                        </a:lnTo>
                        <a:lnTo>
                          <a:pt x="284" y="81"/>
                        </a:lnTo>
                        <a:lnTo>
                          <a:pt x="258" y="59"/>
                        </a:lnTo>
                        <a:lnTo>
                          <a:pt x="233" y="38"/>
                        </a:lnTo>
                        <a:lnTo>
                          <a:pt x="205" y="19"/>
                        </a:lnTo>
                        <a:lnTo>
                          <a:pt x="179" y="2"/>
                        </a:lnTo>
                        <a:close/>
                        <a:moveTo>
                          <a:pt x="38" y="148"/>
                        </a:moveTo>
                        <a:lnTo>
                          <a:pt x="39" y="124"/>
                        </a:lnTo>
                        <a:lnTo>
                          <a:pt x="46" y="104"/>
                        </a:lnTo>
                        <a:lnTo>
                          <a:pt x="55" y="85"/>
                        </a:lnTo>
                        <a:lnTo>
                          <a:pt x="71" y="69"/>
                        </a:lnTo>
                        <a:lnTo>
                          <a:pt x="86" y="54"/>
                        </a:lnTo>
                        <a:lnTo>
                          <a:pt x="106" y="45"/>
                        </a:lnTo>
                        <a:lnTo>
                          <a:pt x="126" y="38"/>
                        </a:lnTo>
                        <a:lnTo>
                          <a:pt x="149" y="37"/>
                        </a:lnTo>
                        <a:lnTo>
                          <a:pt x="170" y="38"/>
                        </a:lnTo>
                        <a:lnTo>
                          <a:pt x="191" y="45"/>
                        </a:lnTo>
                        <a:lnTo>
                          <a:pt x="200" y="48"/>
                        </a:lnTo>
                        <a:lnTo>
                          <a:pt x="210" y="54"/>
                        </a:lnTo>
                        <a:lnTo>
                          <a:pt x="228" y="69"/>
                        </a:lnTo>
                        <a:lnTo>
                          <a:pt x="242" y="85"/>
                        </a:lnTo>
                        <a:lnTo>
                          <a:pt x="252" y="104"/>
                        </a:lnTo>
                        <a:lnTo>
                          <a:pt x="259" y="124"/>
                        </a:lnTo>
                        <a:lnTo>
                          <a:pt x="261" y="148"/>
                        </a:lnTo>
                        <a:lnTo>
                          <a:pt x="260" y="153"/>
                        </a:lnTo>
                        <a:lnTo>
                          <a:pt x="260" y="158"/>
                        </a:lnTo>
                        <a:lnTo>
                          <a:pt x="259" y="170"/>
                        </a:lnTo>
                        <a:lnTo>
                          <a:pt x="252" y="190"/>
                        </a:lnTo>
                        <a:lnTo>
                          <a:pt x="246" y="199"/>
                        </a:lnTo>
                        <a:lnTo>
                          <a:pt x="242" y="209"/>
                        </a:lnTo>
                        <a:lnTo>
                          <a:pt x="228" y="228"/>
                        </a:lnTo>
                        <a:lnTo>
                          <a:pt x="210" y="241"/>
                        </a:lnTo>
                        <a:lnTo>
                          <a:pt x="200" y="246"/>
                        </a:lnTo>
                        <a:lnTo>
                          <a:pt x="191" y="251"/>
                        </a:lnTo>
                        <a:lnTo>
                          <a:pt x="170" y="258"/>
                        </a:lnTo>
                        <a:lnTo>
                          <a:pt x="159" y="259"/>
                        </a:lnTo>
                        <a:lnTo>
                          <a:pt x="153" y="259"/>
                        </a:lnTo>
                        <a:lnTo>
                          <a:pt x="149" y="260"/>
                        </a:lnTo>
                        <a:lnTo>
                          <a:pt x="126" y="258"/>
                        </a:lnTo>
                        <a:lnTo>
                          <a:pt x="106" y="251"/>
                        </a:lnTo>
                        <a:lnTo>
                          <a:pt x="86" y="241"/>
                        </a:lnTo>
                        <a:lnTo>
                          <a:pt x="71" y="228"/>
                        </a:lnTo>
                        <a:lnTo>
                          <a:pt x="55" y="209"/>
                        </a:lnTo>
                        <a:lnTo>
                          <a:pt x="49" y="199"/>
                        </a:lnTo>
                        <a:lnTo>
                          <a:pt x="46" y="190"/>
                        </a:lnTo>
                        <a:lnTo>
                          <a:pt x="39" y="170"/>
                        </a:lnTo>
                        <a:lnTo>
                          <a:pt x="38" y="148"/>
                        </a:lnTo>
                        <a:close/>
                      </a:path>
                    </a:pathLst>
                  </a:custGeom>
                  <a:solidFill>
                    <a:srgbClr val="00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6881400" y="369036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23">
                        <a:moveTo>
                          <a:pt x="33" y="32"/>
                        </a:moveTo>
                        <a:lnTo>
                          <a:pt x="17" y="48"/>
                        </a:lnTo>
                        <a:lnTo>
                          <a:pt x="8" y="67"/>
                        </a:lnTo>
                        <a:lnTo>
                          <a:pt x="1" y="87"/>
                        </a:lnTo>
                        <a:lnTo>
                          <a:pt x="0" y="111"/>
                        </a:lnTo>
                        <a:lnTo>
                          <a:pt x="1" y="133"/>
                        </a:lnTo>
                        <a:lnTo>
                          <a:pt x="8" y="153"/>
                        </a:lnTo>
                        <a:lnTo>
                          <a:pt x="11" y="162"/>
                        </a:lnTo>
                        <a:lnTo>
                          <a:pt x="17" y="172"/>
                        </a:lnTo>
                        <a:lnTo>
                          <a:pt x="33" y="191"/>
                        </a:lnTo>
                        <a:lnTo>
                          <a:pt x="48" y="204"/>
                        </a:lnTo>
                        <a:lnTo>
                          <a:pt x="68" y="214"/>
                        </a:lnTo>
                        <a:lnTo>
                          <a:pt x="88" y="221"/>
                        </a:lnTo>
                        <a:lnTo>
                          <a:pt x="111" y="223"/>
                        </a:lnTo>
                        <a:lnTo>
                          <a:pt x="115" y="222"/>
                        </a:lnTo>
                        <a:lnTo>
                          <a:pt x="121" y="222"/>
                        </a:lnTo>
                        <a:lnTo>
                          <a:pt x="132" y="221"/>
                        </a:lnTo>
                        <a:lnTo>
                          <a:pt x="153" y="214"/>
                        </a:lnTo>
                        <a:lnTo>
                          <a:pt x="162" y="209"/>
                        </a:lnTo>
                        <a:lnTo>
                          <a:pt x="172" y="204"/>
                        </a:lnTo>
                        <a:lnTo>
                          <a:pt x="190" y="191"/>
                        </a:lnTo>
                        <a:lnTo>
                          <a:pt x="204" y="172"/>
                        </a:lnTo>
                        <a:lnTo>
                          <a:pt x="208" y="162"/>
                        </a:lnTo>
                        <a:lnTo>
                          <a:pt x="214" y="153"/>
                        </a:lnTo>
                        <a:lnTo>
                          <a:pt x="221" y="133"/>
                        </a:lnTo>
                        <a:lnTo>
                          <a:pt x="222" y="121"/>
                        </a:lnTo>
                        <a:lnTo>
                          <a:pt x="222" y="116"/>
                        </a:lnTo>
                        <a:lnTo>
                          <a:pt x="223" y="111"/>
                        </a:lnTo>
                        <a:lnTo>
                          <a:pt x="221" y="87"/>
                        </a:lnTo>
                        <a:lnTo>
                          <a:pt x="214" y="67"/>
                        </a:lnTo>
                        <a:lnTo>
                          <a:pt x="204" y="48"/>
                        </a:lnTo>
                        <a:lnTo>
                          <a:pt x="190" y="32"/>
                        </a:lnTo>
                        <a:lnTo>
                          <a:pt x="172" y="17"/>
                        </a:lnTo>
                        <a:lnTo>
                          <a:pt x="162" y="11"/>
                        </a:lnTo>
                        <a:lnTo>
                          <a:pt x="153" y="8"/>
                        </a:lnTo>
                        <a:lnTo>
                          <a:pt x="132" y="1"/>
                        </a:lnTo>
                        <a:lnTo>
                          <a:pt x="111" y="0"/>
                        </a:lnTo>
                        <a:lnTo>
                          <a:pt x="88" y="1"/>
                        </a:lnTo>
                        <a:lnTo>
                          <a:pt x="68" y="8"/>
                        </a:lnTo>
                        <a:lnTo>
                          <a:pt x="48" y="17"/>
                        </a:lnTo>
                        <a:lnTo>
                          <a:pt x="33" y="32"/>
                        </a:lnTo>
                        <a:close/>
                        <a:moveTo>
                          <a:pt x="36" y="111"/>
                        </a:moveTo>
                        <a:lnTo>
                          <a:pt x="37" y="95"/>
                        </a:lnTo>
                        <a:lnTo>
                          <a:pt x="42" y="82"/>
                        </a:lnTo>
                        <a:lnTo>
                          <a:pt x="48" y="69"/>
                        </a:lnTo>
                        <a:lnTo>
                          <a:pt x="59" y="59"/>
                        </a:lnTo>
                        <a:lnTo>
                          <a:pt x="69" y="49"/>
                        </a:lnTo>
                        <a:lnTo>
                          <a:pt x="81" y="42"/>
                        </a:lnTo>
                        <a:lnTo>
                          <a:pt x="95" y="37"/>
                        </a:lnTo>
                        <a:lnTo>
                          <a:pt x="111" y="36"/>
                        </a:lnTo>
                        <a:lnTo>
                          <a:pt x="126" y="37"/>
                        </a:lnTo>
                        <a:lnTo>
                          <a:pt x="139" y="42"/>
                        </a:lnTo>
                        <a:lnTo>
                          <a:pt x="145" y="44"/>
                        </a:lnTo>
                        <a:lnTo>
                          <a:pt x="152" y="49"/>
                        </a:lnTo>
                        <a:lnTo>
                          <a:pt x="164" y="59"/>
                        </a:lnTo>
                        <a:lnTo>
                          <a:pt x="173" y="69"/>
                        </a:lnTo>
                        <a:lnTo>
                          <a:pt x="181" y="82"/>
                        </a:lnTo>
                        <a:lnTo>
                          <a:pt x="184" y="95"/>
                        </a:lnTo>
                        <a:lnTo>
                          <a:pt x="187" y="111"/>
                        </a:lnTo>
                        <a:lnTo>
                          <a:pt x="186" y="118"/>
                        </a:lnTo>
                        <a:lnTo>
                          <a:pt x="184" y="118"/>
                        </a:lnTo>
                        <a:lnTo>
                          <a:pt x="184" y="119"/>
                        </a:lnTo>
                        <a:lnTo>
                          <a:pt x="184" y="121"/>
                        </a:lnTo>
                        <a:lnTo>
                          <a:pt x="184" y="126"/>
                        </a:lnTo>
                        <a:lnTo>
                          <a:pt x="181" y="140"/>
                        </a:lnTo>
                        <a:lnTo>
                          <a:pt x="177" y="145"/>
                        </a:lnTo>
                        <a:lnTo>
                          <a:pt x="173" y="152"/>
                        </a:lnTo>
                        <a:lnTo>
                          <a:pt x="169" y="158"/>
                        </a:lnTo>
                        <a:lnTo>
                          <a:pt x="164" y="164"/>
                        </a:lnTo>
                        <a:lnTo>
                          <a:pt x="157" y="168"/>
                        </a:lnTo>
                        <a:lnTo>
                          <a:pt x="152" y="172"/>
                        </a:lnTo>
                        <a:lnTo>
                          <a:pt x="145" y="176"/>
                        </a:lnTo>
                        <a:lnTo>
                          <a:pt x="139" y="180"/>
                        </a:lnTo>
                        <a:lnTo>
                          <a:pt x="126" y="184"/>
                        </a:lnTo>
                        <a:lnTo>
                          <a:pt x="121" y="184"/>
                        </a:lnTo>
                        <a:lnTo>
                          <a:pt x="119" y="184"/>
                        </a:lnTo>
                        <a:lnTo>
                          <a:pt x="118" y="184"/>
                        </a:lnTo>
                        <a:lnTo>
                          <a:pt x="118" y="185"/>
                        </a:lnTo>
                        <a:lnTo>
                          <a:pt x="111" y="186"/>
                        </a:lnTo>
                        <a:lnTo>
                          <a:pt x="95" y="184"/>
                        </a:lnTo>
                        <a:lnTo>
                          <a:pt x="81" y="180"/>
                        </a:lnTo>
                        <a:lnTo>
                          <a:pt x="69" y="172"/>
                        </a:lnTo>
                        <a:lnTo>
                          <a:pt x="59" y="164"/>
                        </a:lnTo>
                        <a:lnTo>
                          <a:pt x="48" y="152"/>
                        </a:lnTo>
                        <a:lnTo>
                          <a:pt x="44" y="145"/>
                        </a:lnTo>
                        <a:lnTo>
                          <a:pt x="42" y="140"/>
                        </a:lnTo>
                        <a:lnTo>
                          <a:pt x="37" y="126"/>
                        </a:lnTo>
                        <a:lnTo>
                          <a:pt x="36" y="111"/>
                        </a:lnTo>
                        <a:close/>
                      </a:path>
                    </a:pathLst>
                  </a:custGeom>
                  <a:solidFill>
                    <a:srgbClr val="00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6890400" y="3699720"/>
                    <a:ext cx="38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50">
                        <a:moveTo>
                          <a:pt x="23" y="23"/>
                        </a:moveTo>
                        <a:lnTo>
                          <a:pt x="12" y="33"/>
                        </a:lnTo>
                        <a:lnTo>
                          <a:pt x="6" y="46"/>
                        </a:lnTo>
                        <a:lnTo>
                          <a:pt x="1" y="59"/>
                        </a:lnTo>
                        <a:lnTo>
                          <a:pt x="0" y="75"/>
                        </a:lnTo>
                        <a:lnTo>
                          <a:pt x="1" y="90"/>
                        </a:lnTo>
                        <a:lnTo>
                          <a:pt x="6" y="104"/>
                        </a:lnTo>
                        <a:lnTo>
                          <a:pt x="8" y="109"/>
                        </a:lnTo>
                        <a:lnTo>
                          <a:pt x="12" y="116"/>
                        </a:lnTo>
                        <a:lnTo>
                          <a:pt x="23" y="128"/>
                        </a:lnTo>
                        <a:lnTo>
                          <a:pt x="33" y="136"/>
                        </a:lnTo>
                        <a:lnTo>
                          <a:pt x="45" y="144"/>
                        </a:lnTo>
                        <a:lnTo>
                          <a:pt x="59" y="148"/>
                        </a:lnTo>
                        <a:lnTo>
                          <a:pt x="75" y="150"/>
                        </a:lnTo>
                        <a:lnTo>
                          <a:pt x="82" y="149"/>
                        </a:lnTo>
                        <a:lnTo>
                          <a:pt x="82" y="148"/>
                        </a:lnTo>
                        <a:lnTo>
                          <a:pt x="83" y="148"/>
                        </a:lnTo>
                        <a:lnTo>
                          <a:pt x="85" y="148"/>
                        </a:lnTo>
                        <a:lnTo>
                          <a:pt x="90" y="148"/>
                        </a:lnTo>
                        <a:lnTo>
                          <a:pt x="103" y="144"/>
                        </a:lnTo>
                        <a:lnTo>
                          <a:pt x="109" y="140"/>
                        </a:lnTo>
                        <a:lnTo>
                          <a:pt x="116" y="136"/>
                        </a:lnTo>
                        <a:lnTo>
                          <a:pt x="121" y="132"/>
                        </a:lnTo>
                        <a:lnTo>
                          <a:pt x="128" y="128"/>
                        </a:lnTo>
                        <a:lnTo>
                          <a:pt x="133" y="122"/>
                        </a:lnTo>
                        <a:lnTo>
                          <a:pt x="137" y="116"/>
                        </a:lnTo>
                        <a:lnTo>
                          <a:pt x="141" y="109"/>
                        </a:lnTo>
                        <a:lnTo>
                          <a:pt x="145" y="104"/>
                        </a:lnTo>
                        <a:lnTo>
                          <a:pt x="148" y="90"/>
                        </a:lnTo>
                        <a:lnTo>
                          <a:pt x="148" y="85"/>
                        </a:lnTo>
                        <a:lnTo>
                          <a:pt x="148" y="83"/>
                        </a:lnTo>
                        <a:lnTo>
                          <a:pt x="148" y="82"/>
                        </a:lnTo>
                        <a:lnTo>
                          <a:pt x="150" y="82"/>
                        </a:lnTo>
                        <a:lnTo>
                          <a:pt x="151" y="75"/>
                        </a:lnTo>
                        <a:lnTo>
                          <a:pt x="148" y="59"/>
                        </a:lnTo>
                        <a:lnTo>
                          <a:pt x="145" y="46"/>
                        </a:lnTo>
                        <a:lnTo>
                          <a:pt x="137" y="33"/>
                        </a:lnTo>
                        <a:lnTo>
                          <a:pt x="128" y="23"/>
                        </a:lnTo>
                        <a:lnTo>
                          <a:pt x="116" y="13"/>
                        </a:lnTo>
                        <a:lnTo>
                          <a:pt x="109" y="8"/>
                        </a:lnTo>
                        <a:lnTo>
                          <a:pt x="103" y="6"/>
                        </a:lnTo>
                        <a:lnTo>
                          <a:pt x="90" y="1"/>
                        </a:lnTo>
                        <a:lnTo>
                          <a:pt x="75" y="0"/>
                        </a:lnTo>
                        <a:lnTo>
                          <a:pt x="59" y="1"/>
                        </a:lnTo>
                        <a:lnTo>
                          <a:pt x="45" y="6"/>
                        </a:lnTo>
                        <a:lnTo>
                          <a:pt x="33" y="13"/>
                        </a:lnTo>
                        <a:lnTo>
                          <a:pt x="23" y="23"/>
                        </a:lnTo>
                        <a:close/>
                        <a:moveTo>
                          <a:pt x="38" y="75"/>
                        </a:moveTo>
                        <a:lnTo>
                          <a:pt x="41" y="60"/>
                        </a:lnTo>
                        <a:lnTo>
                          <a:pt x="49" y="49"/>
                        </a:lnTo>
                        <a:lnTo>
                          <a:pt x="60" y="41"/>
                        </a:lnTo>
                        <a:lnTo>
                          <a:pt x="75" y="39"/>
                        </a:lnTo>
                        <a:lnTo>
                          <a:pt x="82" y="39"/>
                        </a:lnTo>
                        <a:lnTo>
                          <a:pt x="90" y="41"/>
                        </a:lnTo>
                        <a:lnTo>
                          <a:pt x="95" y="43"/>
                        </a:lnTo>
                        <a:lnTo>
                          <a:pt x="102" y="49"/>
                        </a:lnTo>
                        <a:lnTo>
                          <a:pt x="109" y="60"/>
                        </a:lnTo>
                        <a:lnTo>
                          <a:pt x="111" y="67"/>
                        </a:lnTo>
                        <a:lnTo>
                          <a:pt x="112" y="75"/>
                        </a:lnTo>
                        <a:lnTo>
                          <a:pt x="111" y="82"/>
                        </a:lnTo>
                        <a:lnTo>
                          <a:pt x="109" y="89"/>
                        </a:lnTo>
                        <a:lnTo>
                          <a:pt x="107" y="91"/>
                        </a:lnTo>
                        <a:lnTo>
                          <a:pt x="105" y="91"/>
                        </a:lnTo>
                        <a:lnTo>
                          <a:pt x="105" y="92"/>
                        </a:lnTo>
                        <a:lnTo>
                          <a:pt x="105" y="94"/>
                        </a:lnTo>
                        <a:lnTo>
                          <a:pt x="102" y="101"/>
                        </a:lnTo>
                        <a:lnTo>
                          <a:pt x="95" y="106"/>
                        </a:lnTo>
                        <a:lnTo>
                          <a:pt x="93" y="106"/>
                        </a:lnTo>
                        <a:lnTo>
                          <a:pt x="92" y="106"/>
                        </a:lnTo>
                        <a:lnTo>
                          <a:pt x="92" y="107"/>
                        </a:lnTo>
                        <a:lnTo>
                          <a:pt x="90" y="109"/>
                        </a:lnTo>
                        <a:lnTo>
                          <a:pt x="82" y="111"/>
                        </a:lnTo>
                        <a:lnTo>
                          <a:pt x="75" y="113"/>
                        </a:lnTo>
                        <a:lnTo>
                          <a:pt x="67" y="111"/>
                        </a:lnTo>
                        <a:lnTo>
                          <a:pt x="60" y="109"/>
                        </a:lnTo>
                        <a:lnTo>
                          <a:pt x="53" y="106"/>
                        </a:lnTo>
                        <a:lnTo>
                          <a:pt x="49" y="101"/>
                        </a:lnTo>
                        <a:lnTo>
                          <a:pt x="43" y="94"/>
                        </a:lnTo>
                        <a:lnTo>
                          <a:pt x="41" y="89"/>
                        </a:lnTo>
                        <a:lnTo>
                          <a:pt x="38" y="82"/>
                        </a:lnTo>
                        <a:lnTo>
                          <a:pt x="38" y="75"/>
                        </a:lnTo>
                        <a:close/>
                      </a:path>
                    </a:pathLst>
                  </a:custGeom>
                  <a:solidFill>
                    <a:srgbClr val="00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6900840" y="3709440"/>
                    <a:ext cx="187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4">
                        <a:moveTo>
                          <a:pt x="11" y="10"/>
                        </a:moveTo>
                        <a:lnTo>
                          <a:pt x="3" y="21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lnTo>
                          <a:pt x="5" y="55"/>
                        </a:lnTo>
                        <a:lnTo>
                          <a:pt x="11" y="62"/>
                        </a:lnTo>
                        <a:lnTo>
                          <a:pt x="15" y="67"/>
                        </a:lnTo>
                        <a:lnTo>
                          <a:pt x="22" y="70"/>
                        </a:lnTo>
                        <a:lnTo>
                          <a:pt x="29" y="72"/>
                        </a:lnTo>
                        <a:lnTo>
                          <a:pt x="37" y="74"/>
                        </a:lnTo>
                        <a:lnTo>
                          <a:pt x="44" y="72"/>
                        </a:lnTo>
                        <a:lnTo>
                          <a:pt x="52" y="70"/>
                        </a:lnTo>
                        <a:lnTo>
                          <a:pt x="54" y="68"/>
                        </a:lnTo>
                        <a:lnTo>
                          <a:pt x="54" y="67"/>
                        </a:lnTo>
                        <a:lnTo>
                          <a:pt x="55" y="67"/>
                        </a:lnTo>
                        <a:lnTo>
                          <a:pt x="57" y="67"/>
                        </a:lnTo>
                        <a:lnTo>
                          <a:pt x="64" y="62"/>
                        </a:lnTo>
                        <a:lnTo>
                          <a:pt x="67" y="55"/>
                        </a:lnTo>
                        <a:lnTo>
                          <a:pt x="67" y="53"/>
                        </a:lnTo>
                        <a:lnTo>
                          <a:pt x="67" y="52"/>
                        </a:lnTo>
                        <a:lnTo>
                          <a:pt x="69" y="52"/>
                        </a:lnTo>
                        <a:lnTo>
                          <a:pt x="71" y="50"/>
                        </a:lnTo>
                        <a:lnTo>
                          <a:pt x="73" y="43"/>
                        </a:lnTo>
                        <a:lnTo>
                          <a:pt x="74" y="36"/>
                        </a:lnTo>
                        <a:lnTo>
                          <a:pt x="73" y="28"/>
                        </a:lnTo>
                        <a:lnTo>
                          <a:pt x="71" y="21"/>
                        </a:lnTo>
                        <a:lnTo>
                          <a:pt x="64" y="10"/>
                        </a:lnTo>
                        <a:lnTo>
                          <a:pt x="57" y="4"/>
                        </a:lnTo>
                        <a:lnTo>
                          <a:pt x="52" y="2"/>
                        </a:lnTo>
                        <a:lnTo>
                          <a:pt x="44" y="0"/>
                        </a:lnTo>
                        <a:lnTo>
                          <a:pt x="37" y="0"/>
                        </a:lnTo>
                        <a:lnTo>
                          <a:pt x="22" y="2"/>
                        </a:lnTo>
                        <a:lnTo>
                          <a:pt x="11" y="10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6691680" y="3717360"/>
                    <a:ext cx="279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863">
                        <a:moveTo>
                          <a:pt x="36" y="4"/>
                        </a:moveTo>
                        <a:lnTo>
                          <a:pt x="36" y="0"/>
                        </a:lnTo>
                        <a:lnTo>
                          <a:pt x="0" y="46"/>
                        </a:lnTo>
                        <a:lnTo>
                          <a:pt x="2" y="86"/>
                        </a:lnTo>
                        <a:lnTo>
                          <a:pt x="6" y="125"/>
                        </a:lnTo>
                        <a:lnTo>
                          <a:pt x="12" y="164"/>
                        </a:lnTo>
                        <a:lnTo>
                          <a:pt x="21" y="204"/>
                        </a:lnTo>
                        <a:lnTo>
                          <a:pt x="29" y="241"/>
                        </a:lnTo>
                        <a:lnTo>
                          <a:pt x="41" y="278"/>
                        </a:lnTo>
                        <a:lnTo>
                          <a:pt x="54" y="315"/>
                        </a:lnTo>
                        <a:lnTo>
                          <a:pt x="70" y="351"/>
                        </a:lnTo>
                        <a:lnTo>
                          <a:pt x="84" y="385"/>
                        </a:lnTo>
                        <a:lnTo>
                          <a:pt x="104" y="419"/>
                        </a:lnTo>
                        <a:lnTo>
                          <a:pt x="123" y="452"/>
                        </a:lnTo>
                        <a:lnTo>
                          <a:pt x="146" y="486"/>
                        </a:lnTo>
                        <a:lnTo>
                          <a:pt x="168" y="518"/>
                        </a:lnTo>
                        <a:lnTo>
                          <a:pt x="194" y="549"/>
                        </a:lnTo>
                        <a:lnTo>
                          <a:pt x="220" y="580"/>
                        </a:lnTo>
                        <a:lnTo>
                          <a:pt x="250" y="612"/>
                        </a:lnTo>
                        <a:lnTo>
                          <a:pt x="281" y="641"/>
                        </a:lnTo>
                        <a:lnTo>
                          <a:pt x="313" y="670"/>
                        </a:lnTo>
                        <a:lnTo>
                          <a:pt x="346" y="696"/>
                        </a:lnTo>
                        <a:lnTo>
                          <a:pt x="382" y="721"/>
                        </a:lnTo>
                        <a:lnTo>
                          <a:pt x="417" y="742"/>
                        </a:lnTo>
                        <a:lnTo>
                          <a:pt x="453" y="764"/>
                        </a:lnTo>
                        <a:lnTo>
                          <a:pt x="489" y="783"/>
                        </a:lnTo>
                        <a:lnTo>
                          <a:pt x="528" y="800"/>
                        </a:lnTo>
                        <a:lnTo>
                          <a:pt x="565" y="815"/>
                        </a:lnTo>
                        <a:lnTo>
                          <a:pt x="605" y="827"/>
                        </a:lnTo>
                        <a:lnTo>
                          <a:pt x="645" y="837"/>
                        </a:lnTo>
                        <a:lnTo>
                          <a:pt x="685" y="847"/>
                        </a:lnTo>
                        <a:lnTo>
                          <a:pt x="726" y="853"/>
                        </a:lnTo>
                        <a:lnTo>
                          <a:pt x="769" y="859"/>
                        </a:lnTo>
                        <a:lnTo>
                          <a:pt x="812" y="862"/>
                        </a:lnTo>
                        <a:lnTo>
                          <a:pt x="858" y="863"/>
                        </a:lnTo>
                        <a:lnTo>
                          <a:pt x="910" y="861"/>
                        </a:lnTo>
                        <a:lnTo>
                          <a:pt x="962" y="858"/>
                        </a:lnTo>
                        <a:lnTo>
                          <a:pt x="987" y="853"/>
                        </a:lnTo>
                        <a:lnTo>
                          <a:pt x="1000" y="851"/>
                        </a:lnTo>
                        <a:lnTo>
                          <a:pt x="1013" y="850"/>
                        </a:lnTo>
                        <a:lnTo>
                          <a:pt x="1038" y="845"/>
                        </a:lnTo>
                        <a:lnTo>
                          <a:pt x="1064" y="841"/>
                        </a:lnTo>
                        <a:lnTo>
                          <a:pt x="1100" y="793"/>
                        </a:lnTo>
                        <a:lnTo>
                          <a:pt x="1041" y="807"/>
                        </a:lnTo>
                        <a:lnTo>
                          <a:pt x="1011" y="811"/>
                        </a:lnTo>
                        <a:lnTo>
                          <a:pt x="981" y="817"/>
                        </a:lnTo>
                        <a:lnTo>
                          <a:pt x="920" y="824"/>
                        </a:lnTo>
                        <a:lnTo>
                          <a:pt x="888" y="825"/>
                        </a:lnTo>
                        <a:lnTo>
                          <a:pt x="873" y="825"/>
                        </a:lnTo>
                        <a:lnTo>
                          <a:pt x="865" y="825"/>
                        </a:lnTo>
                        <a:lnTo>
                          <a:pt x="858" y="826"/>
                        </a:lnTo>
                        <a:lnTo>
                          <a:pt x="815" y="825"/>
                        </a:lnTo>
                        <a:lnTo>
                          <a:pt x="774" y="821"/>
                        </a:lnTo>
                        <a:lnTo>
                          <a:pt x="733" y="816"/>
                        </a:lnTo>
                        <a:lnTo>
                          <a:pt x="693" y="810"/>
                        </a:lnTo>
                        <a:lnTo>
                          <a:pt x="654" y="801"/>
                        </a:lnTo>
                        <a:lnTo>
                          <a:pt x="616" y="791"/>
                        </a:lnTo>
                        <a:lnTo>
                          <a:pt x="579" y="778"/>
                        </a:lnTo>
                        <a:lnTo>
                          <a:pt x="543" y="766"/>
                        </a:lnTo>
                        <a:lnTo>
                          <a:pt x="506" y="749"/>
                        </a:lnTo>
                        <a:lnTo>
                          <a:pt x="471" y="731"/>
                        </a:lnTo>
                        <a:lnTo>
                          <a:pt x="436" y="711"/>
                        </a:lnTo>
                        <a:lnTo>
                          <a:pt x="403" y="690"/>
                        </a:lnTo>
                        <a:lnTo>
                          <a:pt x="370" y="666"/>
                        </a:lnTo>
                        <a:lnTo>
                          <a:pt x="338" y="641"/>
                        </a:lnTo>
                        <a:lnTo>
                          <a:pt x="307" y="614"/>
                        </a:lnTo>
                        <a:lnTo>
                          <a:pt x="277" y="586"/>
                        </a:lnTo>
                        <a:lnTo>
                          <a:pt x="247" y="554"/>
                        </a:lnTo>
                        <a:lnTo>
                          <a:pt x="219" y="523"/>
                        </a:lnTo>
                        <a:lnTo>
                          <a:pt x="193" y="490"/>
                        </a:lnTo>
                        <a:lnTo>
                          <a:pt x="171" y="459"/>
                        </a:lnTo>
                        <a:lnTo>
                          <a:pt x="148" y="424"/>
                        </a:lnTo>
                        <a:lnTo>
                          <a:pt x="129" y="390"/>
                        </a:lnTo>
                        <a:lnTo>
                          <a:pt x="110" y="354"/>
                        </a:lnTo>
                        <a:lnTo>
                          <a:pt x="96" y="319"/>
                        </a:lnTo>
                        <a:lnTo>
                          <a:pt x="81" y="282"/>
                        </a:lnTo>
                        <a:lnTo>
                          <a:pt x="69" y="244"/>
                        </a:lnTo>
                        <a:lnTo>
                          <a:pt x="58" y="206"/>
                        </a:lnTo>
                        <a:lnTo>
                          <a:pt x="50" y="167"/>
                        </a:lnTo>
                        <a:lnTo>
                          <a:pt x="42" y="127"/>
                        </a:lnTo>
                        <a:lnTo>
                          <a:pt x="39" y="87"/>
                        </a:lnTo>
                        <a:lnTo>
                          <a:pt x="36" y="45"/>
                        </a:lnTo>
                        <a:lnTo>
                          <a:pt x="36" y="4"/>
                        </a:lnTo>
                        <a:close/>
                      </a:path>
                    </a:pathLst>
                  </a:custGeom>
                  <a:solidFill>
                    <a:srgbClr val="00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701040" y="3706920"/>
                    <a:ext cx="27828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5" h="868">
                        <a:moveTo>
                          <a:pt x="0" y="42"/>
                        </a:moveTo>
                        <a:lnTo>
                          <a:pt x="0" y="46"/>
                        </a:lnTo>
                        <a:lnTo>
                          <a:pt x="0" y="87"/>
                        </a:lnTo>
                        <a:lnTo>
                          <a:pt x="3" y="129"/>
                        </a:lnTo>
                        <a:lnTo>
                          <a:pt x="6" y="169"/>
                        </a:lnTo>
                        <a:lnTo>
                          <a:pt x="14" y="209"/>
                        </a:lnTo>
                        <a:lnTo>
                          <a:pt x="22" y="248"/>
                        </a:lnTo>
                        <a:lnTo>
                          <a:pt x="33" y="286"/>
                        </a:lnTo>
                        <a:lnTo>
                          <a:pt x="45" y="324"/>
                        </a:lnTo>
                        <a:lnTo>
                          <a:pt x="60" y="361"/>
                        </a:lnTo>
                        <a:lnTo>
                          <a:pt x="74" y="396"/>
                        </a:lnTo>
                        <a:lnTo>
                          <a:pt x="93" y="432"/>
                        </a:lnTo>
                        <a:lnTo>
                          <a:pt x="112" y="466"/>
                        </a:lnTo>
                        <a:lnTo>
                          <a:pt x="135" y="501"/>
                        </a:lnTo>
                        <a:lnTo>
                          <a:pt x="157" y="532"/>
                        </a:lnTo>
                        <a:lnTo>
                          <a:pt x="183" y="565"/>
                        </a:lnTo>
                        <a:lnTo>
                          <a:pt x="211" y="596"/>
                        </a:lnTo>
                        <a:lnTo>
                          <a:pt x="241" y="628"/>
                        </a:lnTo>
                        <a:lnTo>
                          <a:pt x="271" y="656"/>
                        </a:lnTo>
                        <a:lnTo>
                          <a:pt x="302" y="683"/>
                        </a:lnTo>
                        <a:lnTo>
                          <a:pt x="334" y="708"/>
                        </a:lnTo>
                        <a:lnTo>
                          <a:pt x="367" y="732"/>
                        </a:lnTo>
                        <a:lnTo>
                          <a:pt x="400" y="753"/>
                        </a:lnTo>
                        <a:lnTo>
                          <a:pt x="435" y="773"/>
                        </a:lnTo>
                        <a:lnTo>
                          <a:pt x="470" y="791"/>
                        </a:lnTo>
                        <a:lnTo>
                          <a:pt x="507" y="808"/>
                        </a:lnTo>
                        <a:lnTo>
                          <a:pt x="543" y="820"/>
                        </a:lnTo>
                        <a:lnTo>
                          <a:pt x="580" y="833"/>
                        </a:lnTo>
                        <a:lnTo>
                          <a:pt x="618" y="843"/>
                        </a:lnTo>
                        <a:lnTo>
                          <a:pt x="657" y="852"/>
                        </a:lnTo>
                        <a:lnTo>
                          <a:pt x="697" y="858"/>
                        </a:lnTo>
                        <a:lnTo>
                          <a:pt x="738" y="863"/>
                        </a:lnTo>
                        <a:lnTo>
                          <a:pt x="779" y="867"/>
                        </a:lnTo>
                        <a:lnTo>
                          <a:pt x="822" y="868"/>
                        </a:lnTo>
                        <a:lnTo>
                          <a:pt x="829" y="867"/>
                        </a:lnTo>
                        <a:lnTo>
                          <a:pt x="837" y="867"/>
                        </a:lnTo>
                        <a:lnTo>
                          <a:pt x="852" y="867"/>
                        </a:lnTo>
                        <a:lnTo>
                          <a:pt x="884" y="866"/>
                        </a:lnTo>
                        <a:lnTo>
                          <a:pt x="945" y="859"/>
                        </a:lnTo>
                        <a:lnTo>
                          <a:pt x="975" y="853"/>
                        </a:lnTo>
                        <a:lnTo>
                          <a:pt x="1005" y="849"/>
                        </a:lnTo>
                        <a:lnTo>
                          <a:pt x="1064" y="835"/>
                        </a:lnTo>
                        <a:lnTo>
                          <a:pt x="1080" y="810"/>
                        </a:lnTo>
                        <a:lnTo>
                          <a:pt x="1095" y="785"/>
                        </a:lnTo>
                        <a:lnTo>
                          <a:pt x="1078" y="790"/>
                        </a:lnTo>
                        <a:lnTo>
                          <a:pt x="1062" y="795"/>
                        </a:lnTo>
                        <a:lnTo>
                          <a:pt x="1029" y="804"/>
                        </a:lnTo>
                        <a:lnTo>
                          <a:pt x="995" y="812"/>
                        </a:lnTo>
                        <a:lnTo>
                          <a:pt x="962" y="819"/>
                        </a:lnTo>
                        <a:lnTo>
                          <a:pt x="927" y="824"/>
                        </a:lnTo>
                        <a:lnTo>
                          <a:pt x="893" y="827"/>
                        </a:lnTo>
                        <a:lnTo>
                          <a:pt x="857" y="829"/>
                        </a:lnTo>
                        <a:lnTo>
                          <a:pt x="839" y="829"/>
                        </a:lnTo>
                        <a:lnTo>
                          <a:pt x="830" y="829"/>
                        </a:lnTo>
                        <a:lnTo>
                          <a:pt x="825" y="829"/>
                        </a:lnTo>
                        <a:lnTo>
                          <a:pt x="823" y="829"/>
                        </a:lnTo>
                        <a:lnTo>
                          <a:pt x="822" y="831"/>
                        </a:lnTo>
                        <a:lnTo>
                          <a:pt x="781" y="829"/>
                        </a:lnTo>
                        <a:lnTo>
                          <a:pt x="741" y="826"/>
                        </a:lnTo>
                        <a:lnTo>
                          <a:pt x="702" y="821"/>
                        </a:lnTo>
                        <a:lnTo>
                          <a:pt x="664" y="816"/>
                        </a:lnTo>
                        <a:lnTo>
                          <a:pt x="627" y="807"/>
                        </a:lnTo>
                        <a:lnTo>
                          <a:pt x="590" y="797"/>
                        </a:lnTo>
                        <a:lnTo>
                          <a:pt x="554" y="785"/>
                        </a:lnTo>
                        <a:lnTo>
                          <a:pt x="520" y="773"/>
                        </a:lnTo>
                        <a:lnTo>
                          <a:pt x="485" y="757"/>
                        </a:lnTo>
                        <a:lnTo>
                          <a:pt x="452" y="740"/>
                        </a:lnTo>
                        <a:lnTo>
                          <a:pt x="419" y="721"/>
                        </a:lnTo>
                        <a:lnTo>
                          <a:pt x="387" y="701"/>
                        </a:lnTo>
                        <a:lnTo>
                          <a:pt x="356" y="679"/>
                        </a:lnTo>
                        <a:lnTo>
                          <a:pt x="325" y="655"/>
                        </a:lnTo>
                        <a:lnTo>
                          <a:pt x="296" y="629"/>
                        </a:lnTo>
                        <a:lnTo>
                          <a:pt x="267" y="602"/>
                        </a:lnTo>
                        <a:lnTo>
                          <a:pt x="239" y="571"/>
                        </a:lnTo>
                        <a:lnTo>
                          <a:pt x="213" y="542"/>
                        </a:lnTo>
                        <a:lnTo>
                          <a:pt x="188" y="510"/>
                        </a:lnTo>
                        <a:lnTo>
                          <a:pt x="166" y="479"/>
                        </a:lnTo>
                        <a:lnTo>
                          <a:pt x="145" y="446"/>
                        </a:lnTo>
                        <a:lnTo>
                          <a:pt x="127" y="413"/>
                        </a:lnTo>
                        <a:lnTo>
                          <a:pt x="110" y="379"/>
                        </a:lnTo>
                        <a:lnTo>
                          <a:pt x="95" y="347"/>
                        </a:lnTo>
                        <a:lnTo>
                          <a:pt x="80" y="310"/>
                        </a:lnTo>
                        <a:lnTo>
                          <a:pt x="69" y="275"/>
                        </a:lnTo>
                        <a:lnTo>
                          <a:pt x="59" y="238"/>
                        </a:lnTo>
                        <a:lnTo>
                          <a:pt x="52" y="201"/>
                        </a:lnTo>
                        <a:lnTo>
                          <a:pt x="45" y="163"/>
                        </a:lnTo>
                        <a:lnTo>
                          <a:pt x="42" y="124"/>
                        </a:lnTo>
                        <a:lnTo>
                          <a:pt x="38" y="85"/>
                        </a:lnTo>
                        <a:lnTo>
                          <a:pt x="38" y="46"/>
                        </a:lnTo>
                        <a:lnTo>
                          <a:pt x="39" y="0"/>
                        </a:lnTo>
                        <a:lnTo>
                          <a:pt x="38" y="0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6738840" y="3675240"/>
                    <a:ext cx="25740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843">
                        <a:moveTo>
                          <a:pt x="59" y="0"/>
                        </a:moveTo>
                        <a:lnTo>
                          <a:pt x="15" y="25"/>
                        </a:lnTo>
                        <a:lnTo>
                          <a:pt x="7" y="59"/>
                        </a:lnTo>
                        <a:lnTo>
                          <a:pt x="4" y="95"/>
                        </a:lnTo>
                        <a:lnTo>
                          <a:pt x="0" y="171"/>
                        </a:lnTo>
                        <a:lnTo>
                          <a:pt x="0" y="204"/>
                        </a:lnTo>
                        <a:lnTo>
                          <a:pt x="3" y="238"/>
                        </a:lnTo>
                        <a:lnTo>
                          <a:pt x="6" y="271"/>
                        </a:lnTo>
                        <a:lnTo>
                          <a:pt x="12" y="305"/>
                        </a:lnTo>
                        <a:lnTo>
                          <a:pt x="17" y="336"/>
                        </a:lnTo>
                        <a:lnTo>
                          <a:pt x="27" y="367"/>
                        </a:lnTo>
                        <a:lnTo>
                          <a:pt x="37" y="398"/>
                        </a:lnTo>
                        <a:lnTo>
                          <a:pt x="49" y="430"/>
                        </a:lnTo>
                        <a:lnTo>
                          <a:pt x="61" y="458"/>
                        </a:lnTo>
                        <a:lnTo>
                          <a:pt x="75" y="487"/>
                        </a:lnTo>
                        <a:lnTo>
                          <a:pt x="91" y="515"/>
                        </a:lnTo>
                        <a:lnTo>
                          <a:pt x="109" y="543"/>
                        </a:lnTo>
                        <a:lnTo>
                          <a:pt x="127" y="569"/>
                        </a:lnTo>
                        <a:lnTo>
                          <a:pt x="149" y="596"/>
                        </a:lnTo>
                        <a:lnTo>
                          <a:pt x="172" y="621"/>
                        </a:lnTo>
                        <a:lnTo>
                          <a:pt x="197" y="647"/>
                        </a:lnTo>
                        <a:lnTo>
                          <a:pt x="220" y="670"/>
                        </a:lnTo>
                        <a:lnTo>
                          <a:pt x="247" y="693"/>
                        </a:lnTo>
                        <a:lnTo>
                          <a:pt x="273" y="713"/>
                        </a:lnTo>
                        <a:lnTo>
                          <a:pt x="300" y="732"/>
                        </a:lnTo>
                        <a:lnTo>
                          <a:pt x="327" y="749"/>
                        </a:lnTo>
                        <a:lnTo>
                          <a:pt x="355" y="765"/>
                        </a:lnTo>
                        <a:lnTo>
                          <a:pt x="384" y="780"/>
                        </a:lnTo>
                        <a:lnTo>
                          <a:pt x="413" y="793"/>
                        </a:lnTo>
                        <a:lnTo>
                          <a:pt x="443" y="805"/>
                        </a:lnTo>
                        <a:lnTo>
                          <a:pt x="473" y="815"/>
                        </a:lnTo>
                        <a:lnTo>
                          <a:pt x="504" y="823"/>
                        </a:lnTo>
                        <a:lnTo>
                          <a:pt x="537" y="831"/>
                        </a:lnTo>
                        <a:lnTo>
                          <a:pt x="569" y="835"/>
                        </a:lnTo>
                        <a:lnTo>
                          <a:pt x="603" y="840"/>
                        </a:lnTo>
                        <a:lnTo>
                          <a:pt x="637" y="842"/>
                        </a:lnTo>
                        <a:lnTo>
                          <a:pt x="672" y="843"/>
                        </a:lnTo>
                        <a:lnTo>
                          <a:pt x="676" y="842"/>
                        </a:lnTo>
                        <a:lnTo>
                          <a:pt x="682" y="842"/>
                        </a:lnTo>
                        <a:lnTo>
                          <a:pt x="693" y="842"/>
                        </a:lnTo>
                        <a:lnTo>
                          <a:pt x="716" y="841"/>
                        </a:lnTo>
                        <a:lnTo>
                          <a:pt x="738" y="839"/>
                        </a:lnTo>
                        <a:lnTo>
                          <a:pt x="760" y="838"/>
                        </a:lnTo>
                        <a:lnTo>
                          <a:pt x="803" y="830"/>
                        </a:lnTo>
                        <a:lnTo>
                          <a:pt x="846" y="822"/>
                        </a:lnTo>
                        <a:lnTo>
                          <a:pt x="866" y="815"/>
                        </a:lnTo>
                        <a:lnTo>
                          <a:pt x="886" y="809"/>
                        </a:lnTo>
                        <a:lnTo>
                          <a:pt x="905" y="803"/>
                        </a:lnTo>
                        <a:lnTo>
                          <a:pt x="926" y="796"/>
                        </a:lnTo>
                        <a:lnTo>
                          <a:pt x="964" y="779"/>
                        </a:lnTo>
                        <a:lnTo>
                          <a:pt x="1003" y="759"/>
                        </a:lnTo>
                        <a:lnTo>
                          <a:pt x="1013" y="710"/>
                        </a:lnTo>
                        <a:lnTo>
                          <a:pt x="993" y="720"/>
                        </a:lnTo>
                        <a:lnTo>
                          <a:pt x="973" y="731"/>
                        </a:lnTo>
                        <a:lnTo>
                          <a:pt x="953" y="741"/>
                        </a:lnTo>
                        <a:lnTo>
                          <a:pt x="943" y="746"/>
                        </a:lnTo>
                        <a:lnTo>
                          <a:pt x="934" y="752"/>
                        </a:lnTo>
                        <a:lnTo>
                          <a:pt x="893" y="767"/>
                        </a:lnTo>
                        <a:lnTo>
                          <a:pt x="852" y="782"/>
                        </a:lnTo>
                        <a:lnTo>
                          <a:pt x="829" y="787"/>
                        </a:lnTo>
                        <a:lnTo>
                          <a:pt x="818" y="789"/>
                        </a:lnTo>
                        <a:lnTo>
                          <a:pt x="815" y="789"/>
                        </a:lnTo>
                        <a:lnTo>
                          <a:pt x="812" y="790"/>
                        </a:lnTo>
                        <a:lnTo>
                          <a:pt x="808" y="792"/>
                        </a:lnTo>
                        <a:lnTo>
                          <a:pt x="785" y="796"/>
                        </a:lnTo>
                        <a:lnTo>
                          <a:pt x="764" y="800"/>
                        </a:lnTo>
                        <a:lnTo>
                          <a:pt x="718" y="805"/>
                        </a:lnTo>
                        <a:lnTo>
                          <a:pt x="706" y="805"/>
                        </a:lnTo>
                        <a:lnTo>
                          <a:pt x="694" y="806"/>
                        </a:lnTo>
                        <a:lnTo>
                          <a:pt x="672" y="807"/>
                        </a:lnTo>
                        <a:lnTo>
                          <a:pt x="639" y="806"/>
                        </a:lnTo>
                        <a:lnTo>
                          <a:pt x="607" y="804"/>
                        </a:lnTo>
                        <a:lnTo>
                          <a:pt x="545" y="795"/>
                        </a:lnTo>
                        <a:lnTo>
                          <a:pt x="514" y="788"/>
                        </a:lnTo>
                        <a:lnTo>
                          <a:pt x="485" y="780"/>
                        </a:lnTo>
                        <a:lnTo>
                          <a:pt x="455" y="771"/>
                        </a:lnTo>
                        <a:lnTo>
                          <a:pt x="428" y="761"/>
                        </a:lnTo>
                        <a:lnTo>
                          <a:pt x="372" y="733"/>
                        </a:lnTo>
                        <a:lnTo>
                          <a:pt x="345" y="718"/>
                        </a:lnTo>
                        <a:lnTo>
                          <a:pt x="320" y="702"/>
                        </a:lnTo>
                        <a:lnTo>
                          <a:pt x="294" y="684"/>
                        </a:lnTo>
                        <a:lnTo>
                          <a:pt x="269" y="664"/>
                        </a:lnTo>
                        <a:lnTo>
                          <a:pt x="223" y="621"/>
                        </a:lnTo>
                        <a:lnTo>
                          <a:pt x="199" y="596"/>
                        </a:lnTo>
                        <a:lnTo>
                          <a:pt x="178" y="572"/>
                        </a:lnTo>
                        <a:lnTo>
                          <a:pt x="158" y="546"/>
                        </a:lnTo>
                        <a:lnTo>
                          <a:pt x="141" y="521"/>
                        </a:lnTo>
                        <a:lnTo>
                          <a:pt x="123" y="494"/>
                        </a:lnTo>
                        <a:lnTo>
                          <a:pt x="108" y="468"/>
                        </a:lnTo>
                        <a:lnTo>
                          <a:pt x="95" y="441"/>
                        </a:lnTo>
                        <a:lnTo>
                          <a:pt x="83" y="415"/>
                        </a:lnTo>
                        <a:lnTo>
                          <a:pt x="71" y="385"/>
                        </a:lnTo>
                        <a:lnTo>
                          <a:pt x="62" y="357"/>
                        </a:lnTo>
                        <a:lnTo>
                          <a:pt x="54" y="326"/>
                        </a:lnTo>
                        <a:lnTo>
                          <a:pt x="48" y="297"/>
                        </a:lnTo>
                        <a:lnTo>
                          <a:pt x="42" y="265"/>
                        </a:lnTo>
                        <a:lnTo>
                          <a:pt x="39" y="235"/>
                        </a:lnTo>
                        <a:lnTo>
                          <a:pt x="37" y="203"/>
                        </a:lnTo>
                        <a:lnTo>
                          <a:pt x="37" y="171"/>
                        </a:lnTo>
                        <a:lnTo>
                          <a:pt x="38" y="126"/>
                        </a:lnTo>
                        <a:lnTo>
                          <a:pt x="42" y="83"/>
                        </a:lnTo>
                        <a:lnTo>
                          <a:pt x="49" y="4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6710400" y="3697560"/>
                    <a:ext cx="2743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869">
                        <a:moveTo>
                          <a:pt x="1" y="38"/>
                        </a:moveTo>
                        <a:lnTo>
                          <a:pt x="0" y="84"/>
                        </a:lnTo>
                        <a:lnTo>
                          <a:pt x="0" y="123"/>
                        </a:lnTo>
                        <a:lnTo>
                          <a:pt x="4" y="162"/>
                        </a:lnTo>
                        <a:lnTo>
                          <a:pt x="7" y="201"/>
                        </a:lnTo>
                        <a:lnTo>
                          <a:pt x="14" y="239"/>
                        </a:lnTo>
                        <a:lnTo>
                          <a:pt x="21" y="276"/>
                        </a:lnTo>
                        <a:lnTo>
                          <a:pt x="31" y="313"/>
                        </a:lnTo>
                        <a:lnTo>
                          <a:pt x="42" y="348"/>
                        </a:lnTo>
                        <a:lnTo>
                          <a:pt x="57" y="385"/>
                        </a:lnTo>
                        <a:lnTo>
                          <a:pt x="72" y="417"/>
                        </a:lnTo>
                        <a:lnTo>
                          <a:pt x="89" y="451"/>
                        </a:lnTo>
                        <a:lnTo>
                          <a:pt x="107" y="484"/>
                        </a:lnTo>
                        <a:lnTo>
                          <a:pt x="128" y="517"/>
                        </a:lnTo>
                        <a:lnTo>
                          <a:pt x="150" y="548"/>
                        </a:lnTo>
                        <a:lnTo>
                          <a:pt x="175" y="580"/>
                        </a:lnTo>
                        <a:lnTo>
                          <a:pt x="201" y="609"/>
                        </a:lnTo>
                        <a:lnTo>
                          <a:pt x="229" y="640"/>
                        </a:lnTo>
                        <a:lnTo>
                          <a:pt x="258" y="667"/>
                        </a:lnTo>
                        <a:lnTo>
                          <a:pt x="287" y="693"/>
                        </a:lnTo>
                        <a:lnTo>
                          <a:pt x="318" y="717"/>
                        </a:lnTo>
                        <a:lnTo>
                          <a:pt x="349" y="739"/>
                        </a:lnTo>
                        <a:lnTo>
                          <a:pt x="381" y="759"/>
                        </a:lnTo>
                        <a:lnTo>
                          <a:pt x="414" y="778"/>
                        </a:lnTo>
                        <a:lnTo>
                          <a:pt x="447" y="795"/>
                        </a:lnTo>
                        <a:lnTo>
                          <a:pt x="482" y="811"/>
                        </a:lnTo>
                        <a:lnTo>
                          <a:pt x="516" y="823"/>
                        </a:lnTo>
                        <a:lnTo>
                          <a:pt x="552" y="835"/>
                        </a:lnTo>
                        <a:lnTo>
                          <a:pt x="589" y="845"/>
                        </a:lnTo>
                        <a:lnTo>
                          <a:pt x="626" y="854"/>
                        </a:lnTo>
                        <a:lnTo>
                          <a:pt x="664" y="859"/>
                        </a:lnTo>
                        <a:lnTo>
                          <a:pt x="703" y="864"/>
                        </a:lnTo>
                        <a:lnTo>
                          <a:pt x="743" y="867"/>
                        </a:lnTo>
                        <a:lnTo>
                          <a:pt x="784" y="869"/>
                        </a:lnTo>
                        <a:lnTo>
                          <a:pt x="785" y="867"/>
                        </a:lnTo>
                        <a:lnTo>
                          <a:pt x="787" y="867"/>
                        </a:lnTo>
                        <a:lnTo>
                          <a:pt x="792" y="867"/>
                        </a:lnTo>
                        <a:lnTo>
                          <a:pt x="801" y="867"/>
                        </a:lnTo>
                        <a:lnTo>
                          <a:pt x="819" y="867"/>
                        </a:lnTo>
                        <a:lnTo>
                          <a:pt x="855" y="865"/>
                        </a:lnTo>
                        <a:lnTo>
                          <a:pt x="889" y="862"/>
                        </a:lnTo>
                        <a:lnTo>
                          <a:pt x="924" y="857"/>
                        </a:lnTo>
                        <a:lnTo>
                          <a:pt x="957" y="850"/>
                        </a:lnTo>
                        <a:lnTo>
                          <a:pt x="991" y="842"/>
                        </a:lnTo>
                        <a:lnTo>
                          <a:pt x="1024" y="833"/>
                        </a:lnTo>
                        <a:lnTo>
                          <a:pt x="1040" y="828"/>
                        </a:lnTo>
                        <a:lnTo>
                          <a:pt x="1057" y="823"/>
                        </a:lnTo>
                        <a:lnTo>
                          <a:pt x="1081" y="773"/>
                        </a:lnTo>
                        <a:lnTo>
                          <a:pt x="1063" y="779"/>
                        </a:lnTo>
                        <a:lnTo>
                          <a:pt x="1046" y="786"/>
                        </a:lnTo>
                        <a:lnTo>
                          <a:pt x="1011" y="797"/>
                        </a:lnTo>
                        <a:lnTo>
                          <a:pt x="974" y="807"/>
                        </a:lnTo>
                        <a:lnTo>
                          <a:pt x="938" y="816"/>
                        </a:lnTo>
                        <a:lnTo>
                          <a:pt x="899" y="822"/>
                        </a:lnTo>
                        <a:lnTo>
                          <a:pt x="862" y="827"/>
                        </a:lnTo>
                        <a:lnTo>
                          <a:pt x="842" y="828"/>
                        </a:lnTo>
                        <a:lnTo>
                          <a:pt x="822" y="830"/>
                        </a:lnTo>
                        <a:lnTo>
                          <a:pt x="784" y="831"/>
                        </a:lnTo>
                        <a:lnTo>
                          <a:pt x="745" y="830"/>
                        </a:lnTo>
                        <a:lnTo>
                          <a:pt x="708" y="828"/>
                        </a:lnTo>
                        <a:lnTo>
                          <a:pt x="670" y="823"/>
                        </a:lnTo>
                        <a:lnTo>
                          <a:pt x="634" y="818"/>
                        </a:lnTo>
                        <a:lnTo>
                          <a:pt x="598" y="810"/>
                        </a:lnTo>
                        <a:lnTo>
                          <a:pt x="564" y="801"/>
                        </a:lnTo>
                        <a:lnTo>
                          <a:pt x="530" y="789"/>
                        </a:lnTo>
                        <a:lnTo>
                          <a:pt x="497" y="777"/>
                        </a:lnTo>
                        <a:lnTo>
                          <a:pt x="464" y="762"/>
                        </a:lnTo>
                        <a:lnTo>
                          <a:pt x="432" y="746"/>
                        </a:lnTo>
                        <a:lnTo>
                          <a:pt x="400" y="728"/>
                        </a:lnTo>
                        <a:lnTo>
                          <a:pt x="370" y="709"/>
                        </a:lnTo>
                        <a:lnTo>
                          <a:pt x="339" y="687"/>
                        </a:lnTo>
                        <a:lnTo>
                          <a:pt x="311" y="665"/>
                        </a:lnTo>
                        <a:lnTo>
                          <a:pt x="283" y="640"/>
                        </a:lnTo>
                        <a:lnTo>
                          <a:pt x="255" y="614"/>
                        </a:lnTo>
                        <a:lnTo>
                          <a:pt x="227" y="584"/>
                        </a:lnTo>
                        <a:lnTo>
                          <a:pt x="203" y="556"/>
                        </a:lnTo>
                        <a:lnTo>
                          <a:pt x="179" y="526"/>
                        </a:lnTo>
                        <a:lnTo>
                          <a:pt x="159" y="497"/>
                        </a:lnTo>
                        <a:lnTo>
                          <a:pt x="139" y="465"/>
                        </a:lnTo>
                        <a:lnTo>
                          <a:pt x="122" y="434"/>
                        </a:lnTo>
                        <a:lnTo>
                          <a:pt x="105" y="403"/>
                        </a:lnTo>
                        <a:lnTo>
                          <a:pt x="91" y="371"/>
                        </a:lnTo>
                        <a:lnTo>
                          <a:pt x="77" y="336"/>
                        </a:lnTo>
                        <a:lnTo>
                          <a:pt x="67" y="302"/>
                        </a:lnTo>
                        <a:lnTo>
                          <a:pt x="57" y="267"/>
                        </a:lnTo>
                        <a:lnTo>
                          <a:pt x="50" y="233"/>
                        </a:lnTo>
                        <a:lnTo>
                          <a:pt x="43" y="195"/>
                        </a:lnTo>
                        <a:lnTo>
                          <a:pt x="40" y="159"/>
                        </a:lnTo>
                        <a:lnTo>
                          <a:pt x="36" y="122"/>
                        </a:lnTo>
                        <a:lnTo>
                          <a:pt x="36" y="84"/>
                        </a:lnTo>
                        <a:lnTo>
                          <a:pt x="38" y="41"/>
                        </a:lnTo>
                        <a:lnTo>
                          <a:pt x="41" y="0"/>
                        </a:lnTo>
                        <a:lnTo>
                          <a:pt x="1" y="38"/>
                        </a:lnTo>
                        <a:close/>
                      </a:path>
                    </a:pathLst>
                  </a:custGeom>
                  <a:solidFill>
                    <a:srgbClr val="00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6719760" y="3688920"/>
                    <a:ext cx="270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864">
                        <a:moveTo>
                          <a:pt x="38" y="117"/>
                        </a:moveTo>
                        <a:lnTo>
                          <a:pt x="40" y="57"/>
                        </a:lnTo>
                        <a:lnTo>
                          <a:pt x="47" y="0"/>
                        </a:lnTo>
                        <a:lnTo>
                          <a:pt x="5" y="33"/>
                        </a:lnTo>
                        <a:lnTo>
                          <a:pt x="2" y="74"/>
                        </a:lnTo>
                        <a:lnTo>
                          <a:pt x="0" y="117"/>
                        </a:lnTo>
                        <a:lnTo>
                          <a:pt x="0" y="155"/>
                        </a:lnTo>
                        <a:lnTo>
                          <a:pt x="4" y="192"/>
                        </a:lnTo>
                        <a:lnTo>
                          <a:pt x="7" y="228"/>
                        </a:lnTo>
                        <a:lnTo>
                          <a:pt x="14" y="266"/>
                        </a:lnTo>
                        <a:lnTo>
                          <a:pt x="21" y="300"/>
                        </a:lnTo>
                        <a:lnTo>
                          <a:pt x="31" y="335"/>
                        </a:lnTo>
                        <a:lnTo>
                          <a:pt x="41" y="369"/>
                        </a:lnTo>
                        <a:lnTo>
                          <a:pt x="55" y="404"/>
                        </a:lnTo>
                        <a:lnTo>
                          <a:pt x="69" y="436"/>
                        </a:lnTo>
                        <a:lnTo>
                          <a:pt x="86" y="467"/>
                        </a:lnTo>
                        <a:lnTo>
                          <a:pt x="103" y="498"/>
                        </a:lnTo>
                        <a:lnTo>
                          <a:pt x="123" y="530"/>
                        </a:lnTo>
                        <a:lnTo>
                          <a:pt x="143" y="559"/>
                        </a:lnTo>
                        <a:lnTo>
                          <a:pt x="167" y="589"/>
                        </a:lnTo>
                        <a:lnTo>
                          <a:pt x="191" y="617"/>
                        </a:lnTo>
                        <a:lnTo>
                          <a:pt x="219" y="647"/>
                        </a:lnTo>
                        <a:lnTo>
                          <a:pt x="247" y="673"/>
                        </a:lnTo>
                        <a:lnTo>
                          <a:pt x="275" y="698"/>
                        </a:lnTo>
                        <a:lnTo>
                          <a:pt x="303" y="720"/>
                        </a:lnTo>
                        <a:lnTo>
                          <a:pt x="334" y="742"/>
                        </a:lnTo>
                        <a:lnTo>
                          <a:pt x="364" y="761"/>
                        </a:lnTo>
                        <a:lnTo>
                          <a:pt x="396" y="779"/>
                        </a:lnTo>
                        <a:lnTo>
                          <a:pt x="428" y="795"/>
                        </a:lnTo>
                        <a:lnTo>
                          <a:pt x="461" y="810"/>
                        </a:lnTo>
                        <a:lnTo>
                          <a:pt x="494" y="822"/>
                        </a:lnTo>
                        <a:lnTo>
                          <a:pt x="528" y="834"/>
                        </a:lnTo>
                        <a:lnTo>
                          <a:pt x="562" y="843"/>
                        </a:lnTo>
                        <a:lnTo>
                          <a:pt x="598" y="851"/>
                        </a:lnTo>
                        <a:lnTo>
                          <a:pt x="634" y="856"/>
                        </a:lnTo>
                        <a:lnTo>
                          <a:pt x="672" y="861"/>
                        </a:lnTo>
                        <a:lnTo>
                          <a:pt x="709" y="863"/>
                        </a:lnTo>
                        <a:lnTo>
                          <a:pt x="748" y="864"/>
                        </a:lnTo>
                        <a:lnTo>
                          <a:pt x="786" y="863"/>
                        </a:lnTo>
                        <a:lnTo>
                          <a:pt x="806" y="861"/>
                        </a:lnTo>
                        <a:lnTo>
                          <a:pt x="826" y="860"/>
                        </a:lnTo>
                        <a:lnTo>
                          <a:pt x="863" y="855"/>
                        </a:lnTo>
                        <a:lnTo>
                          <a:pt x="902" y="849"/>
                        </a:lnTo>
                        <a:lnTo>
                          <a:pt x="938" y="840"/>
                        </a:lnTo>
                        <a:lnTo>
                          <a:pt x="975" y="830"/>
                        </a:lnTo>
                        <a:lnTo>
                          <a:pt x="1010" y="819"/>
                        </a:lnTo>
                        <a:lnTo>
                          <a:pt x="1027" y="812"/>
                        </a:lnTo>
                        <a:lnTo>
                          <a:pt x="1045" y="806"/>
                        </a:lnTo>
                        <a:lnTo>
                          <a:pt x="1054" y="780"/>
                        </a:lnTo>
                        <a:lnTo>
                          <a:pt x="1064" y="755"/>
                        </a:lnTo>
                        <a:lnTo>
                          <a:pt x="1061" y="755"/>
                        </a:lnTo>
                        <a:lnTo>
                          <a:pt x="1059" y="756"/>
                        </a:lnTo>
                        <a:lnTo>
                          <a:pt x="1054" y="759"/>
                        </a:lnTo>
                        <a:lnTo>
                          <a:pt x="1045" y="763"/>
                        </a:lnTo>
                        <a:lnTo>
                          <a:pt x="1027" y="772"/>
                        </a:lnTo>
                        <a:lnTo>
                          <a:pt x="990" y="787"/>
                        </a:lnTo>
                        <a:lnTo>
                          <a:pt x="952" y="800"/>
                        </a:lnTo>
                        <a:lnTo>
                          <a:pt x="913" y="810"/>
                        </a:lnTo>
                        <a:lnTo>
                          <a:pt x="873" y="818"/>
                        </a:lnTo>
                        <a:lnTo>
                          <a:pt x="832" y="823"/>
                        </a:lnTo>
                        <a:lnTo>
                          <a:pt x="820" y="823"/>
                        </a:lnTo>
                        <a:lnTo>
                          <a:pt x="815" y="823"/>
                        </a:lnTo>
                        <a:lnTo>
                          <a:pt x="810" y="824"/>
                        </a:lnTo>
                        <a:lnTo>
                          <a:pt x="790" y="827"/>
                        </a:lnTo>
                        <a:lnTo>
                          <a:pt x="768" y="827"/>
                        </a:lnTo>
                        <a:lnTo>
                          <a:pt x="748" y="828"/>
                        </a:lnTo>
                        <a:lnTo>
                          <a:pt x="710" y="827"/>
                        </a:lnTo>
                        <a:lnTo>
                          <a:pt x="674" y="824"/>
                        </a:lnTo>
                        <a:lnTo>
                          <a:pt x="639" y="820"/>
                        </a:lnTo>
                        <a:lnTo>
                          <a:pt x="605" y="814"/>
                        </a:lnTo>
                        <a:lnTo>
                          <a:pt x="571" y="806"/>
                        </a:lnTo>
                        <a:lnTo>
                          <a:pt x="538" y="797"/>
                        </a:lnTo>
                        <a:lnTo>
                          <a:pt x="505" y="787"/>
                        </a:lnTo>
                        <a:lnTo>
                          <a:pt x="474" y="776"/>
                        </a:lnTo>
                        <a:lnTo>
                          <a:pt x="443" y="761"/>
                        </a:lnTo>
                        <a:lnTo>
                          <a:pt x="412" y="745"/>
                        </a:lnTo>
                        <a:lnTo>
                          <a:pt x="383" y="728"/>
                        </a:lnTo>
                        <a:lnTo>
                          <a:pt x="354" y="710"/>
                        </a:lnTo>
                        <a:lnTo>
                          <a:pt x="326" y="690"/>
                        </a:lnTo>
                        <a:lnTo>
                          <a:pt x="299" y="668"/>
                        </a:lnTo>
                        <a:lnTo>
                          <a:pt x="272" y="644"/>
                        </a:lnTo>
                        <a:lnTo>
                          <a:pt x="247" y="619"/>
                        </a:lnTo>
                        <a:lnTo>
                          <a:pt x="220" y="592"/>
                        </a:lnTo>
                        <a:lnTo>
                          <a:pt x="197" y="565"/>
                        </a:lnTo>
                        <a:lnTo>
                          <a:pt x="174" y="537"/>
                        </a:lnTo>
                        <a:lnTo>
                          <a:pt x="155" y="509"/>
                        </a:lnTo>
                        <a:lnTo>
                          <a:pt x="135" y="479"/>
                        </a:lnTo>
                        <a:lnTo>
                          <a:pt x="118" y="449"/>
                        </a:lnTo>
                        <a:lnTo>
                          <a:pt x="103" y="419"/>
                        </a:lnTo>
                        <a:lnTo>
                          <a:pt x="90" y="389"/>
                        </a:lnTo>
                        <a:lnTo>
                          <a:pt x="76" y="356"/>
                        </a:lnTo>
                        <a:lnTo>
                          <a:pt x="66" y="325"/>
                        </a:lnTo>
                        <a:lnTo>
                          <a:pt x="57" y="292"/>
                        </a:lnTo>
                        <a:lnTo>
                          <a:pt x="50" y="259"/>
                        </a:lnTo>
                        <a:lnTo>
                          <a:pt x="44" y="224"/>
                        </a:lnTo>
                        <a:lnTo>
                          <a:pt x="40" y="189"/>
                        </a:lnTo>
                        <a:lnTo>
                          <a:pt x="38" y="152"/>
                        </a:lnTo>
                        <a:lnTo>
                          <a:pt x="38" y="117"/>
                        </a:lnTo>
                        <a:close/>
                      </a:path>
                    </a:pathLst>
                  </a:custGeom>
                  <a:solidFill>
                    <a:srgbClr val="00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6729120" y="3681360"/>
                    <a:ext cx="2642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1" h="857">
                        <a:moveTo>
                          <a:pt x="9" y="29"/>
                        </a:moveTo>
                        <a:lnTo>
                          <a:pt x="2" y="86"/>
                        </a:lnTo>
                        <a:lnTo>
                          <a:pt x="0" y="146"/>
                        </a:lnTo>
                        <a:lnTo>
                          <a:pt x="0" y="181"/>
                        </a:lnTo>
                        <a:lnTo>
                          <a:pt x="2" y="218"/>
                        </a:lnTo>
                        <a:lnTo>
                          <a:pt x="6" y="253"/>
                        </a:lnTo>
                        <a:lnTo>
                          <a:pt x="12" y="288"/>
                        </a:lnTo>
                        <a:lnTo>
                          <a:pt x="19" y="321"/>
                        </a:lnTo>
                        <a:lnTo>
                          <a:pt x="28" y="354"/>
                        </a:lnTo>
                        <a:lnTo>
                          <a:pt x="38" y="385"/>
                        </a:lnTo>
                        <a:lnTo>
                          <a:pt x="52" y="418"/>
                        </a:lnTo>
                        <a:lnTo>
                          <a:pt x="65" y="448"/>
                        </a:lnTo>
                        <a:lnTo>
                          <a:pt x="80" y="478"/>
                        </a:lnTo>
                        <a:lnTo>
                          <a:pt x="97" y="508"/>
                        </a:lnTo>
                        <a:lnTo>
                          <a:pt x="117" y="538"/>
                        </a:lnTo>
                        <a:lnTo>
                          <a:pt x="136" y="566"/>
                        </a:lnTo>
                        <a:lnTo>
                          <a:pt x="159" y="594"/>
                        </a:lnTo>
                        <a:lnTo>
                          <a:pt x="182" y="621"/>
                        </a:lnTo>
                        <a:lnTo>
                          <a:pt x="209" y="648"/>
                        </a:lnTo>
                        <a:lnTo>
                          <a:pt x="234" y="673"/>
                        </a:lnTo>
                        <a:lnTo>
                          <a:pt x="261" y="697"/>
                        </a:lnTo>
                        <a:lnTo>
                          <a:pt x="288" y="719"/>
                        </a:lnTo>
                        <a:lnTo>
                          <a:pt x="316" y="739"/>
                        </a:lnTo>
                        <a:lnTo>
                          <a:pt x="345" y="757"/>
                        </a:lnTo>
                        <a:lnTo>
                          <a:pt x="374" y="774"/>
                        </a:lnTo>
                        <a:lnTo>
                          <a:pt x="405" y="790"/>
                        </a:lnTo>
                        <a:lnTo>
                          <a:pt x="436" y="805"/>
                        </a:lnTo>
                        <a:lnTo>
                          <a:pt x="467" y="816"/>
                        </a:lnTo>
                        <a:lnTo>
                          <a:pt x="500" y="826"/>
                        </a:lnTo>
                        <a:lnTo>
                          <a:pt x="533" y="835"/>
                        </a:lnTo>
                        <a:lnTo>
                          <a:pt x="567" y="843"/>
                        </a:lnTo>
                        <a:lnTo>
                          <a:pt x="601" y="849"/>
                        </a:lnTo>
                        <a:lnTo>
                          <a:pt x="636" y="853"/>
                        </a:lnTo>
                        <a:lnTo>
                          <a:pt x="672" y="856"/>
                        </a:lnTo>
                        <a:lnTo>
                          <a:pt x="710" y="857"/>
                        </a:lnTo>
                        <a:lnTo>
                          <a:pt x="730" y="856"/>
                        </a:lnTo>
                        <a:lnTo>
                          <a:pt x="752" y="856"/>
                        </a:lnTo>
                        <a:lnTo>
                          <a:pt x="772" y="853"/>
                        </a:lnTo>
                        <a:lnTo>
                          <a:pt x="777" y="852"/>
                        </a:lnTo>
                        <a:lnTo>
                          <a:pt x="782" y="852"/>
                        </a:lnTo>
                        <a:lnTo>
                          <a:pt x="794" y="852"/>
                        </a:lnTo>
                        <a:lnTo>
                          <a:pt x="835" y="847"/>
                        </a:lnTo>
                        <a:lnTo>
                          <a:pt x="875" y="839"/>
                        </a:lnTo>
                        <a:lnTo>
                          <a:pt x="914" y="829"/>
                        </a:lnTo>
                        <a:lnTo>
                          <a:pt x="952" y="816"/>
                        </a:lnTo>
                        <a:lnTo>
                          <a:pt x="989" y="801"/>
                        </a:lnTo>
                        <a:lnTo>
                          <a:pt x="1007" y="792"/>
                        </a:lnTo>
                        <a:lnTo>
                          <a:pt x="1016" y="788"/>
                        </a:lnTo>
                        <a:lnTo>
                          <a:pt x="1021" y="785"/>
                        </a:lnTo>
                        <a:lnTo>
                          <a:pt x="1023" y="784"/>
                        </a:lnTo>
                        <a:lnTo>
                          <a:pt x="1026" y="784"/>
                        </a:lnTo>
                        <a:lnTo>
                          <a:pt x="1041" y="734"/>
                        </a:lnTo>
                        <a:lnTo>
                          <a:pt x="1002" y="754"/>
                        </a:lnTo>
                        <a:lnTo>
                          <a:pt x="964" y="771"/>
                        </a:lnTo>
                        <a:lnTo>
                          <a:pt x="943" y="778"/>
                        </a:lnTo>
                        <a:lnTo>
                          <a:pt x="924" y="784"/>
                        </a:lnTo>
                        <a:lnTo>
                          <a:pt x="904" y="790"/>
                        </a:lnTo>
                        <a:lnTo>
                          <a:pt x="884" y="797"/>
                        </a:lnTo>
                        <a:lnTo>
                          <a:pt x="841" y="805"/>
                        </a:lnTo>
                        <a:lnTo>
                          <a:pt x="798" y="813"/>
                        </a:lnTo>
                        <a:lnTo>
                          <a:pt x="776" y="814"/>
                        </a:lnTo>
                        <a:lnTo>
                          <a:pt x="754" y="816"/>
                        </a:lnTo>
                        <a:lnTo>
                          <a:pt x="731" y="817"/>
                        </a:lnTo>
                        <a:lnTo>
                          <a:pt x="720" y="817"/>
                        </a:lnTo>
                        <a:lnTo>
                          <a:pt x="714" y="817"/>
                        </a:lnTo>
                        <a:lnTo>
                          <a:pt x="710" y="818"/>
                        </a:lnTo>
                        <a:lnTo>
                          <a:pt x="675" y="817"/>
                        </a:lnTo>
                        <a:lnTo>
                          <a:pt x="641" y="815"/>
                        </a:lnTo>
                        <a:lnTo>
                          <a:pt x="607" y="810"/>
                        </a:lnTo>
                        <a:lnTo>
                          <a:pt x="575" y="806"/>
                        </a:lnTo>
                        <a:lnTo>
                          <a:pt x="542" y="798"/>
                        </a:lnTo>
                        <a:lnTo>
                          <a:pt x="511" y="790"/>
                        </a:lnTo>
                        <a:lnTo>
                          <a:pt x="481" y="780"/>
                        </a:lnTo>
                        <a:lnTo>
                          <a:pt x="451" y="768"/>
                        </a:lnTo>
                        <a:lnTo>
                          <a:pt x="422" y="755"/>
                        </a:lnTo>
                        <a:lnTo>
                          <a:pt x="393" y="740"/>
                        </a:lnTo>
                        <a:lnTo>
                          <a:pt x="365" y="724"/>
                        </a:lnTo>
                        <a:lnTo>
                          <a:pt x="338" y="707"/>
                        </a:lnTo>
                        <a:lnTo>
                          <a:pt x="311" y="688"/>
                        </a:lnTo>
                        <a:lnTo>
                          <a:pt x="285" y="668"/>
                        </a:lnTo>
                        <a:lnTo>
                          <a:pt x="258" y="645"/>
                        </a:lnTo>
                        <a:lnTo>
                          <a:pt x="235" y="622"/>
                        </a:lnTo>
                        <a:lnTo>
                          <a:pt x="210" y="596"/>
                        </a:lnTo>
                        <a:lnTo>
                          <a:pt x="187" y="571"/>
                        </a:lnTo>
                        <a:lnTo>
                          <a:pt x="165" y="544"/>
                        </a:lnTo>
                        <a:lnTo>
                          <a:pt x="147" y="518"/>
                        </a:lnTo>
                        <a:lnTo>
                          <a:pt x="129" y="490"/>
                        </a:lnTo>
                        <a:lnTo>
                          <a:pt x="113" y="462"/>
                        </a:lnTo>
                        <a:lnTo>
                          <a:pt x="99" y="433"/>
                        </a:lnTo>
                        <a:lnTo>
                          <a:pt x="87" y="405"/>
                        </a:lnTo>
                        <a:lnTo>
                          <a:pt x="75" y="373"/>
                        </a:lnTo>
                        <a:lnTo>
                          <a:pt x="65" y="342"/>
                        </a:lnTo>
                        <a:lnTo>
                          <a:pt x="55" y="311"/>
                        </a:lnTo>
                        <a:lnTo>
                          <a:pt x="50" y="280"/>
                        </a:lnTo>
                        <a:lnTo>
                          <a:pt x="44" y="246"/>
                        </a:lnTo>
                        <a:lnTo>
                          <a:pt x="41" y="213"/>
                        </a:lnTo>
                        <a:lnTo>
                          <a:pt x="38" y="179"/>
                        </a:lnTo>
                        <a:lnTo>
                          <a:pt x="38" y="146"/>
                        </a:lnTo>
                        <a:lnTo>
                          <a:pt x="42" y="70"/>
                        </a:lnTo>
                        <a:lnTo>
                          <a:pt x="45" y="34"/>
                        </a:lnTo>
                        <a:lnTo>
                          <a:pt x="53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6748200" y="3669480"/>
                    <a:ext cx="24984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983" h="829">
                        <a:moveTo>
                          <a:pt x="22" y="22"/>
                        </a:moveTo>
                        <a:lnTo>
                          <a:pt x="12" y="62"/>
                        </a:lnTo>
                        <a:lnTo>
                          <a:pt x="5" y="105"/>
                        </a:lnTo>
                        <a:lnTo>
                          <a:pt x="1" y="148"/>
                        </a:lnTo>
                        <a:lnTo>
                          <a:pt x="0" y="193"/>
                        </a:lnTo>
                        <a:lnTo>
                          <a:pt x="0" y="225"/>
                        </a:lnTo>
                        <a:lnTo>
                          <a:pt x="2" y="257"/>
                        </a:lnTo>
                        <a:lnTo>
                          <a:pt x="5" y="287"/>
                        </a:lnTo>
                        <a:lnTo>
                          <a:pt x="11" y="319"/>
                        </a:lnTo>
                        <a:lnTo>
                          <a:pt x="17" y="348"/>
                        </a:lnTo>
                        <a:lnTo>
                          <a:pt x="25" y="379"/>
                        </a:lnTo>
                        <a:lnTo>
                          <a:pt x="34" y="407"/>
                        </a:lnTo>
                        <a:lnTo>
                          <a:pt x="46" y="437"/>
                        </a:lnTo>
                        <a:lnTo>
                          <a:pt x="58" y="463"/>
                        </a:lnTo>
                        <a:lnTo>
                          <a:pt x="71" y="490"/>
                        </a:lnTo>
                        <a:lnTo>
                          <a:pt x="86" y="516"/>
                        </a:lnTo>
                        <a:lnTo>
                          <a:pt x="104" y="543"/>
                        </a:lnTo>
                        <a:lnTo>
                          <a:pt x="121" y="568"/>
                        </a:lnTo>
                        <a:lnTo>
                          <a:pt x="141" y="594"/>
                        </a:lnTo>
                        <a:lnTo>
                          <a:pt x="162" y="618"/>
                        </a:lnTo>
                        <a:lnTo>
                          <a:pt x="186" y="643"/>
                        </a:lnTo>
                        <a:lnTo>
                          <a:pt x="232" y="686"/>
                        </a:lnTo>
                        <a:lnTo>
                          <a:pt x="257" y="706"/>
                        </a:lnTo>
                        <a:lnTo>
                          <a:pt x="283" y="724"/>
                        </a:lnTo>
                        <a:lnTo>
                          <a:pt x="308" y="740"/>
                        </a:lnTo>
                        <a:lnTo>
                          <a:pt x="335" y="755"/>
                        </a:lnTo>
                        <a:lnTo>
                          <a:pt x="391" y="783"/>
                        </a:lnTo>
                        <a:lnTo>
                          <a:pt x="418" y="793"/>
                        </a:lnTo>
                        <a:lnTo>
                          <a:pt x="448" y="802"/>
                        </a:lnTo>
                        <a:lnTo>
                          <a:pt x="477" y="810"/>
                        </a:lnTo>
                        <a:lnTo>
                          <a:pt x="508" y="817"/>
                        </a:lnTo>
                        <a:lnTo>
                          <a:pt x="570" y="826"/>
                        </a:lnTo>
                        <a:lnTo>
                          <a:pt x="602" y="828"/>
                        </a:lnTo>
                        <a:lnTo>
                          <a:pt x="635" y="829"/>
                        </a:lnTo>
                        <a:lnTo>
                          <a:pt x="657" y="828"/>
                        </a:lnTo>
                        <a:lnTo>
                          <a:pt x="669" y="827"/>
                        </a:lnTo>
                        <a:lnTo>
                          <a:pt x="681" y="827"/>
                        </a:lnTo>
                        <a:lnTo>
                          <a:pt x="727" y="822"/>
                        </a:lnTo>
                        <a:lnTo>
                          <a:pt x="748" y="818"/>
                        </a:lnTo>
                        <a:lnTo>
                          <a:pt x="771" y="814"/>
                        </a:lnTo>
                        <a:lnTo>
                          <a:pt x="775" y="812"/>
                        </a:lnTo>
                        <a:lnTo>
                          <a:pt x="778" y="811"/>
                        </a:lnTo>
                        <a:lnTo>
                          <a:pt x="781" y="811"/>
                        </a:lnTo>
                        <a:lnTo>
                          <a:pt x="792" y="809"/>
                        </a:lnTo>
                        <a:lnTo>
                          <a:pt x="815" y="804"/>
                        </a:lnTo>
                        <a:lnTo>
                          <a:pt x="856" y="789"/>
                        </a:lnTo>
                        <a:lnTo>
                          <a:pt x="897" y="774"/>
                        </a:lnTo>
                        <a:lnTo>
                          <a:pt x="906" y="768"/>
                        </a:lnTo>
                        <a:lnTo>
                          <a:pt x="916" y="763"/>
                        </a:lnTo>
                        <a:lnTo>
                          <a:pt x="936" y="753"/>
                        </a:lnTo>
                        <a:lnTo>
                          <a:pt x="956" y="742"/>
                        </a:lnTo>
                        <a:lnTo>
                          <a:pt x="976" y="732"/>
                        </a:lnTo>
                        <a:lnTo>
                          <a:pt x="983" y="681"/>
                        </a:lnTo>
                        <a:lnTo>
                          <a:pt x="963" y="693"/>
                        </a:lnTo>
                        <a:lnTo>
                          <a:pt x="957" y="695"/>
                        </a:lnTo>
                        <a:lnTo>
                          <a:pt x="952" y="699"/>
                        </a:lnTo>
                        <a:lnTo>
                          <a:pt x="943" y="706"/>
                        </a:lnTo>
                        <a:lnTo>
                          <a:pt x="923" y="717"/>
                        </a:lnTo>
                        <a:lnTo>
                          <a:pt x="904" y="728"/>
                        </a:lnTo>
                        <a:lnTo>
                          <a:pt x="882" y="737"/>
                        </a:lnTo>
                        <a:lnTo>
                          <a:pt x="862" y="747"/>
                        </a:lnTo>
                        <a:lnTo>
                          <a:pt x="850" y="751"/>
                        </a:lnTo>
                        <a:lnTo>
                          <a:pt x="840" y="755"/>
                        </a:lnTo>
                        <a:lnTo>
                          <a:pt x="820" y="763"/>
                        </a:lnTo>
                        <a:lnTo>
                          <a:pt x="797" y="769"/>
                        </a:lnTo>
                        <a:lnTo>
                          <a:pt x="786" y="771"/>
                        </a:lnTo>
                        <a:lnTo>
                          <a:pt x="782" y="771"/>
                        </a:lnTo>
                        <a:lnTo>
                          <a:pt x="780" y="772"/>
                        </a:lnTo>
                        <a:lnTo>
                          <a:pt x="775" y="775"/>
                        </a:lnTo>
                        <a:lnTo>
                          <a:pt x="730" y="784"/>
                        </a:lnTo>
                        <a:lnTo>
                          <a:pt x="682" y="789"/>
                        </a:lnTo>
                        <a:lnTo>
                          <a:pt x="635" y="792"/>
                        </a:lnTo>
                        <a:lnTo>
                          <a:pt x="603" y="791"/>
                        </a:lnTo>
                        <a:lnTo>
                          <a:pt x="572" y="788"/>
                        </a:lnTo>
                        <a:lnTo>
                          <a:pt x="543" y="785"/>
                        </a:lnTo>
                        <a:lnTo>
                          <a:pt x="515" y="780"/>
                        </a:lnTo>
                        <a:lnTo>
                          <a:pt x="486" y="774"/>
                        </a:lnTo>
                        <a:lnTo>
                          <a:pt x="459" y="766"/>
                        </a:lnTo>
                        <a:lnTo>
                          <a:pt x="406" y="747"/>
                        </a:lnTo>
                        <a:lnTo>
                          <a:pt x="379" y="735"/>
                        </a:lnTo>
                        <a:lnTo>
                          <a:pt x="352" y="721"/>
                        </a:lnTo>
                        <a:lnTo>
                          <a:pt x="304" y="692"/>
                        </a:lnTo>
                        <a:lnTo>
                          <a:pt x="257" y="656"/>
                        </a:lnTo>
                        <a:lnTo>
                          <a:pt x="234" y="636"/>
                        </a:lnTo>
                        <a:lnTo>
                          <a:pt x="213" y="616"/>
                        </a:lnTo>
                        <a:lnTo>
                          <a:pt x="190" y="592"/>
                        </a:lnTo>
                        <a:lnTo>
                          <a:pt x="171" y="569"/>
                        </a:lnTo>
                        <a:lnTo>
                          <a:pt x="152" y="546"/>
                        </a:lnTo>
                        <a:lnTo>
                          <a:pt x="136" y="523"/>
                        </a:lnTo>
                        <a:lnTo>
                          <a:pt x="119" y="498"/>
                        </a:lnTo>
                        <a:lnTo>
                          <a:pt x="105" y="473"/>
                        </a:lnTo>
                        <a:lnTo>
                          <a:pt x="92" y="447"/>
                        </a:lnTo>
                        <a:lnTo>
                          <a:pt x="81" y="422"/>
                        </a:lnTo>
                        <a:lnTo>
                          <a:pt x="70" y="394"/>
                        </a:lnTo>
                        <a:lnTo>
                          <a:pt x="62" y="367"/>
                        </a:lnTo>
                        <a:lnTo>
                          <a:pt x="54" y="338"/>
                        </a:lnTo>
                        <a:lnTo>
                          <a:pt x="49" y="311"/>
                        </a:lnTo>
                        <a:lnTo>
                          <a:pt x="43" y="282"/>
                        </a:lnTo>
                        <a:lnTo>
                          <a:pt x="41" y="253"/>
                        </a:lnTo>
                        <a:lnTo>
                          <a:pt x="38" y="223"/>
                        </a:lnTo>
                        <a:lnTo>
                          <a:pt x="38" y="193"/>
                        </a:lnTo>
                        <a:lnTo>
                          <a:pt x="39" y="142"/>
                        </a:lnTo>
                        <a:lnTo>
                          <a:pt x="45" y="93"/>
                        </a:lnTo>
                        <a:lnTo>
                          <a:pt x="54" y="46"/>
                        </a:lnTo>
                        <a:lnTo>
                          <a:pt x="69" y="0"/>
                        </a:lnTo>
                        <a:lnTo>
                          <a:pt x="22" y="22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6758280" y="3665520"/>
                    <a:ext cx="24012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7" h="809">
                        <a:moveTo>
                          <a:pt x="76" y="0"/>
                        </a:moveTo>
                        <a:lnTo>
                          <a:pt x="31" y="17"/>
                        </a:lnTo>
                        <a:lnTo>
                          <a:pt x="16" y="63"/>
                        </a:lnTo>
                        <a:lnTo>
                          <a:pt x="7" y="110"/>
                        </a:lnTo>
                        <a:lnTo>
                          <a:pt x="1" y="159"/>
                        </a:lnTo>
                        <a:lnTo>
                          <a:pt x="0" y="210"/>
                        </a:lnTo>
                        <a:lnTo>
                          <a:pt x="0" y="240"/>
                        </a:lnTo>
                        <a:lnTo>
                          <a:pt x="3" y="270"/>
                        </a:lnTo>
                        <a:lnTo>
                          <a:pt x="5" y="299"/>
                        </a:lnTo>
                        <a:lnTo>
                          <a:pt x="11" y="328"/>
                        </a:lnTo>
                        <a:lnTo>
                          <a:pt x="16" y="355"/>
                        </a:lnTo>
                        <a:lnTo>
                          <a:pt x="24" y="384"/>
                        </a:lnTo>
                        <a:lnTo>
                          <a:pt x="32" y="411"/>
                        </a:lnTo>
                        <a:lnTo>
                          <a:pt x="43" y="439"/>
                        </a:lnTo>
                        <a:lnTo>
                          <a:pt x="54" y="464"/>
                        </a:lnTo>
                        <a:lnTo>
                          <a:pt x="67" y="490"/>
                        </a:lnTo>
                        <a:lnTo>
                          <a:pt x="81" y="515"/>
                        </a:lnTo>
                        <a:lnTo>
                          <a:pt x="98" y="540"/>
                        </a:lnTo>
                        <a:lnTo>
                          <a:pt x="114" y="563"/>
                        </a:lnTo>
                        <a:lnTo>
                          <a:pt x="133" y="586"/>
                        </a:lnTo>
                        <a:lnTo>
                          <a:pt x="152" y="609"/>
                        </a:lnTo>
                        <a:lnTo>
                          <a:pt x="175" y="633"/>
                        </a:lnTo>
                        <a:lnTo>
                          <a:pt x="196" y="653"/>
                        </a:lnTo>
                        <a:lnTo>
                          <a:pt x="219" y="673"/>
                        </a:lnTo>
                        <a:lnTo>
                          <a:pt x="266" y="709"/>
                        </a:lnTo>
                        <a:lnTo>
                          <a:pt x="314" y="738"/>
                        </a:lnTo>
                        <a:lnTo>
                          <a:pt x="341" y="752"/>
                        </a:lnTo>
                        <a:lnTo>
                          <a:pt x="368" y="764"/>
                        </a:lnTo>
                        <a:lnTo>
                          <a:pt x="421" y="783"/>
                        </a:lnTo>
                        <a:lnTo>
                          <a:pt x="448" y="791"/>
                        </a:lnTo>
                        <a:lnTo>
                          <a:pt x="477" y="797"/>
                        </a:lnTo>
                        <a:lnTo>
                          <a:pt x="505" y="802"/>
                        </a:lnTo>
                        <a:lnTo>
                          <a:pt x="534" y="805"/>
                        </a:lnTo>
                        <a:lnTo>
                          <a:pt x="565" y="808"/>
                        </a:lnTo>
                        <a:lnTo>
                          <a:pt x="597" y="809"/>
                        </a:lnTo>
                        <a:lnTo>
                          <a:pt x="644" y="806"/>
                        </a:lnTo>
                        <a:lnTo>
                          <a:pt x="692" y="801"/>
                        </a:lnTo>
                        <a:lnTo>
                          <a:pt x="737" y="792"/>
                        </a:lnTo>
                        <a:lnTo>
                          <a:pt x="742" y="789"/>
                        </a:lnTo>
                        <a:lnTo>
                          <a:pt x="744" y="788"/>
                        </a:lnTo>
                        <a:lnTo>
                          <a:pt x="748" y="788"/>
                        </a:lnTo>
                        <a:lnTo>
                          <a:pt x="759" y="786"/>
                        </a:lnTo>
                        <a:lnTo>
                          <a:pt x="782" y="780"/>
                        </a:lnTo>
                        <a:lnTo>
                          <a:pt x="802" y="772"/>
                        </a:lnTo>
                        <a:lnTo>
                          <a:pt x="812" y="768"/>
                        </a:lnTo>
                        <a:lnTo>
                          <a:pt x="824" y="764"/>
                        </a:lnTo>
                        <a:lnTo>
                          <a:pt x="844" y="754"/>
                        </a:lnTo>
                        <a:lnTo>
                          <a:pt x="866" y="745"/>
                        </a:lnTo>
                        <a:lnTo>
                          <a:pt x="885" y="734"/>
                        </a:lnTo>
                        <a:lnTo>
                          <a:pt x="905" y="723"/>
                        </a:lnTo>
                        <a:lnTo>
                          <a:pt x="914" y="716"/>
                        </a:lnTo>
                        <a:lnTo>
                          <a:pt x="919" y="712"/>
                        </a:lnTo>
                        <a:lnTo>
                          <a:pt x="925" y="710"/>
                        </a:lnTo>
                        <a:lnTo>
                          <a:pt x="945" y="698"/>
                        </a:lnTo>
                        <a:lnTo>
                          <a:pt x="946" y="673"/>
                        </a:lnTo>
                        <a:lnTo>
                          <a:pt x="946" y="660"/>
                        </a:lnTo>
                        <a:lnTo>
                          <a:pt x="947" y="649"/>
                        </a:lnTo>
                        <a:lnTo>
                          <a:pt x="909" y="676"/>
                        </a:lnTo>
                        <a:lnTo>
                          <a:pt x="888" y="688"/>
                        </a:lnTo>
                        <a:lnTo>
                          <a:pt x="883" y="691"/>
                        </a:lnTo>
                        <a:lnTo>
                          <a:pt x="878" y="694"/>
                        </a:lnTo>
                        <a:lnTo>
                          <a:pt x="869" y="701"/>
                        </a:lnTo>
                        <a:lnTo>
                          <a:pt x="858" y="706"/>
                        </a:lnTo>
                        <a:lnTo>
                          <a:pt x="852" y="708"/>
                        </a:lnTo>
                        <a:lnTo>
                          <a:pt x="847" y="711"/>
                        </a:lnTo>
                        <a:lnTo>
                          <a:pt x="827" y="721"/>
                        </a:lnTo>
                        <a:lnTo>
                          <a:pt x="784" y="740"/>
                        </a:lnTo>
                        <a:lnTo>
                          <a:pt x="739" y="752"/>
                        </a:lnTo>
                        <a:lnTo>
                          <a:pt x="693" y="762"/>
                        </a:lnTo>
                        <a:lnTo>
                          <a:pt x="646" y="768"/>
                        </a:lnTo>
                        <a:lnTo>
                          <a:pt x="621" y="769"/>
                        </a:lnTo>
                        <a:lnTo>
                          <a:pt x="608" y="769"/>
                        </a:lnTo>
                        <a:lnTo>
                          <a:pt x="597" y="770"/>
                        </a:lnTo>
                        <a:lnTo>
                          <a:pt x="567" y="769"/>
                        </a:lnTo>
                        <a:lnTo>
                          <a:pt x="539" y="767"/>
                        </a:lnTo>
                        <a:lnTo>
                          <a:pt x="485" y="760"/>
                        </a:lnTo>
                        <a:lnTo>
                          <a:pt x="431" y="746"/>
                        </a:lnTo>
                        <a:lnTo>
                          <a:pt x="406" y="738"/>
                        </a:lnTo>
                        <a:lnTo>
                          <a:pt x="381" y="729"/>
                        </a:lnTo>
                        <a:lnTo>
                          <a:pt x="356" y="718"/>
                        </a:lnTo>
                        <a:lnTo>
                          <a:pt x="333" y="706"/>
                        </a:lnTo>
                        <a:lnTo>
                          <a:pt x="286" y="678"/>
                        </a:lnTo>
                        <a:lnTo>
                          <a:pt x="242" y="644"/>
                        </a:lnTo>
                        <a:lnTo>
                          <a:pt x="221" y="626"/>
                        </a:lnTo>
                        <a:lnTo>
                          <a:pt x="201" y="607"/>
                        </a:lnTo>
                        <a:lnTo>
                          <a:pt x="161" y="564"/>
                        </a:lnTo>
                        <a:lnTo>
                          <a:pt x="143" y="541"/>
                        </a:lnTo>
                        <a:lnTo>
                          <a:pt x="128" y="520"/>
                        </a:lnTo>
                        <a:lnTo>
                          <a:pt x="113" y="496"/>
                        </a:lnTo>
                        <a:lnTo>
                          <a:pt x="100" y="473"/>
                        </a:lnTo>
                        <a:lnTo>
                          <a:pt x="88" y="448"/>
                        </a:lnTo>
                        <a:lnTo>
                          <a:pt x="77" y="424"/>
                        </a:lnTo>
                        <a:lnTo>
                          <a:pt x="67" y="398"/>
                        </a:lnTo>
                        <a:lnTo>
                          <a:pt x="59" y="373"/>
                        </a:lnTo>
                        <a:lnTo>
                          <a:pt x="47" y="321"/>
                        </a:lnTo>
                        <a:lnTo>
                          <a:pt x="41" y="293"/>
                        </a:lnTo>
                        <a:lnTo>
                          <a:pt x="39" y="266"/>
                        </a:lnTo>
                        <a:lnTo>
                          <a:pt x="37" y="237"/>
                        </a:lnTo>
                        <a:lnTo>
                          <a:pt x="37" y="210"/>
                        </a:lnTo>
                        <a:lnTo>
                          <a:pt x="39" y="155"/>
                        </a:lnTo>
                        <a:lnTo>
                          <a:pt x="46" y="101"/>
                        </a:lnTo>
                        <a:lnTo>
                          <a:pt x="58" y="49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00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6786360" y="3658320"/>
                    <a:ext cx="21132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2" h="722">
                        <a:moveTo>
                          <a:pt x="38" y="237"/>
                        </a:moveTo>
                        <a:lnTo>
                          <a:pt x="38" y="203"/>
                        </a:lnTo>
                        <a:lnTo>
                          <a:pt x="41" y="171"/>
                        </a:lnTo>
                        <a:lnTo>
                          <a:pt x="54" y="111"/>
                        </a:lnTo>
                        <a:lnTo>
                          <a:pt x="62" y="82"/>
                        </a:lnTo>
                        <a:lnTo>
                          <a:pt x="74" y="54"/>
                        </a:lnTo>
                        <a:lnTo>
                          <a:pt x="105" y="0"/>
                        </a:lnTo>
                        <a:lnTo>
                          <a:pt x="59" y="5"/>
                        </a:lnTo>
                        <a:lnTo>
                          <a:pt x="33" y="58"/>
                        </a:lnTo>
                        <a:lnTo>
                          <a:pt x="23" y="85"/>
                        </a:lnTo>
                        <a:lnTo>
                          <a:pt x="15" y="115"/>
                        </a:lnTo>
                        <a:lnTo>
                          <a:pt x="7" y="144"/>
                        </a:lnTo>
                        <a:lnTo>
                          <a:pt x="4" y="175"/>
                        </a:lnTo>
                        <a:lnTo>
                          <a:pt x="0" y="237"/>
                        </a:lnTo>
                        <a:lnTo>
                          <a:pt x="2" y="286"/>
                        </a:lnTo>
                        <a:lnTo>
                          <a:pt x="8" y="334"/>
                        </a:lnTo>
                        <a:lnTo>
                          <a:pt x="20" y="379"/>
                        </a:lnTo>
                        <a:lnTo>
                          <a:pt x="27" y="400"/>
                        </a:lnTo>
                        <a:lnTo>
                          <a:pt x="36" y="423"/>
                        </a:lnTo>
                        <a:lnTo>
                          <a:pt x="55" y="465"/>
                        </a:lnTo>
                        <a:lnTo>
                          <a:pt x="66" y="484"/>
                        </a:lnTo>
                        <a:lnTo>
                          <a:pt x="80" y="505"/>
                        </a:lnTo>
                        <a:lnTo>
                          <a:pt x="109" y="543"/>
                        </a:lnTo>
                        <a:lnTo>
                          <a:pt x="125" y="561"/>
                        </a:lnTo>
                        <a:lnTo>
                          <a:pt x="143" y="581"/>
                        </a:lnTo>
                        <a:lnTo>
                          <a:pt x="178" y="612"/>
                        </a:lnTo>
                        <a:lnTo>
                          <a:pt x="217" y="642"/>
                        </a:lnTo>
                        <a:lnTo>
                          <a:pt x="257" y="666"/>
                        </a:lnTo>
                        <a:lnTo>
                          <a:pt x="299" y="686"/>
                        </a:lnTo>
                        <a:lnTo>
                          <a:pt x="342" y="702"/>
                        </a:lnTo>
                        <a:lnTo>
                          <a:pt x="388" y="713"/>
                        </a:lnTo>
                        <a:lnTo>
                          <a:pt x="435" y="720"/>
                        </a:lnTo>
                        <a:lnTo>
                          <a:pt x="486" y="722"/>
                        </a:lnTo>
                        <a:lnTo>
                          <a:pt x="497" y="721"/>
                        </a:lnTo>
                        <a:lnTo>
                          <a:pt x="510" y="721"/>
                        </a:lnTo>
                        <a:lnTo>
                          <a:pt x="535" y="720"/>
                        </a:lnTo>
                        <a:lnTo>
                          <a:pt x="582" y="713"/>
                        </a:lnTo>
                        <a:lnTo>
                          <a:pt x="628" y="702"/>
                        </a:lnTo>
                        <a:lnTo>
                          <a:pt x="638" y="697"/>
                        </a:lnTo>
                        <a:lnTo>
                          <a:pt x="649" y="694"/>
                        </a:lnTo>
                        <a:lnTo>
                          <a:pt x="672" y="686"/>
                        </a:lnTo>
                        <a:lnTo>
                          <a:pt x="692" y="676"/>
                        </a:lnTo>
                        <a:lnTo>
                          <a:pt x="697" y="672"/>
                        </a:lnTo>
                        <a:lnTo>
                          <a:pt x="702" y="670"/>
                        </a:lnTo>
                        <a:lnTo>
                          <a:pt x="714" y="666"/>
                        </a:lnTo>
                        <a:lnTo>
                          <a:pt x="723" y="659"/>
                        </a:lnTo>
                        <a:lnTo>
                          <a:pt x="727" y="655"/>
                        </a:lnTo>
                        <a:lnTo>
                          <a:pt x="733" y="653"/>
                        </a:lnTo>
                        <a:lnTo>
                          <a:pt x="753" y="642"/>
                        </a:lnTo>
                        <a:lnTo>
                          <a:pt x="792" y="612"/>
                        </a:lnTo>
                        <a:lnTo>
                          <a:pt x="810" y="596"/>
                        </a:lnTo>
                        <a:lnTo>
                          <a:pt x="829" y="581"/>
                        </a:lnTo>
                        <a:lnTo>
                          <a:pt x="832" y="578"/>
                        </a:lnTo>
                        <a:lnTo>
                          <a:pt x="825" y="532"/>
                        </a:lnTo>
                        <a:lnTo>
                          <a:pt x="803" y="555"/>
                        </a:lnTo>
                        <a:lnTo>
                          <a:pt x="769" y="584"/>
                        </a:lnTo>
                        <a:lnTo>
                          <a:pt x="751" y="598"/>
                        </a:lnTo>
                        <a:lnTo>
                          <a:pt x="734" y="611"/>
                        </a:lnTo>
                        <a:lnTo>
                          <a:pt x="715" y="623"/>
                        </a:lnTo>
                        <a:lnTo>
                          <a:pt x="697" y="634"/>
                        </a:lnTo>
                        <a:lnTo>
                          <a:pt x="658" y="653"/>
                        </a:lnTo>
                        <a:lnTo>
                          <a:pt x="617" y="667"/>
                        </a:lnTo>
                        <a:lnTo>
                          <a:pt x="596" y="671"/>
                        </a:lnTo>
                        <a:lnTo>
                          <a:pt x="575" y="677"/>
                        </a:lnTo>
                        <a:lnTo>
                          <a:pt x="553" y="680"/>
                        </a:lnTo>
                        <a:lnTo>
                          <a:pt x="541" y="681"/>
                        </a:lnTo>
                        <a:lnTo>
                          <a:pt x="531" y="684"/>
                        </a:lnTo>
                        <a:lnTo>
                          <a:pt x="486" y="686"/>
                        </a:lnTo>
                        <a:lnTo>
                          <a:pt x="439" y="684"/>
                        </a:lnTo>
                        <a:lnTo>
                          <a:pt x="396" y="677"/>
                        </a:lnTo>
                        <a:lnTo>
                          <a:pt x="353" y="667"/>
                        </a:lnTo>
                        <a:lnTo>
                          <a:pt x="313" y="653"/>
                        </a:lnTo>
                        <a:lnTo>
                          <a:pt x="274" y="634"/>
                        </a:lnTo>
                        <a:lnTo>
                          <a:pt x="237" y="611"/>
                        </a:lnTo>
                        <a:lnTo>
                          <a:pt x="202" y="584"/>
                        </a:lnTo>
                        <a:lnTo>
                          <a:pt x="169" y="555"/>
                        </a:lnTo>
                        <a:lnTo>
                          <a:pt x="138" y="521"/>
                        </a:lnTo>
                        <a:lnTo>
                          <a:pt x="112" y="485"/>
                        </a:lnTo>
                        <a:lnTo>
                          <a:pt x="99" y="466"/>
                        </a:lnTo>
                        <a:lnTo>
                          <a:pt x="89" y="448"/>
                        </a:lnTo>
                        <a:lnTo>
                          <a:pt x="71" y="409"/>
                        </a:lnTo>
                        <a:lnTo>
                          <a:pt x="55" y="369"/>
                        </a:lnTo>
                        <a:lnTo>
                          <a:pt x="49" y="347"/>
                        </a:lnTo>
                        <a:lnTo>
                          <a:pt x="46" y="327"/>
                        </a:lnTo>
                        <a:lnTo>
                          <a:pt x="41" y="304"/>
                        </a:lnTo>
                        <a:lnTo>
                          <a:pt x="39" y="283"/>
                        </a:lnTo>
                        <a:lnTo>
                          <a:pt x="38" y="237"/>
                        </a:lnTo>
                        <a:close/>
                      </a:path>
                    </a:pathLst>
                  </a:custGeom>
                  <a:solidFill>
                    <a:srgbClr val="00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6796080" y="3657600"/>
                    <a:ext cx="19944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787" h="689">
                        <a:moveTo>
                          <a:pt x="67" y="3"/>
                        </a:moveTo>
                        <a:lnTo>
                          <a:pt x="36" y="57"/>
                        </a:lnTo>
                        <a:lnTo>
                          <a:pt x="24" y="85"/>
                        </a:lnTo>
                        <a:lnTo>
                          <a:pt x="16" y="114"/>
                        </a:lnTo>
                        <a:lnTo>
                          <a:pt x="3" y="174"/>
                        </a:lnTo>
                        <a:lnTo>
                          <a:pt x="0" y="206"/>
                        </a:lnTo>
                        <a:lnTo>
                          <a:pt x="0" y="240"/>
                        </a:lnTo>
                        <a:lnTo>
                          <a:pt x="1" y="286"/>
                        </a:lnTo>
                        <a:lnTo>
                          <a:pt x="3" y="307"/>
                        </a:lnTo>
                        <a:lnTo>
                          <a:pt x="8" y="330"/>
                        </a:lnTo>
                        <a:lnTo>
                          <a:pt x="11" y="350"/>
                        </a:lnTo>
                        <a:lnTo>
                          <a:pt x="17" y="372"/>
                        </a:lnTo>
                        <a:lnTo>
                          <a:pt x="33" y="412"/>
                        </a:lnTo>
                        <a:lnTo>
                          <a:pt x="51" y="451"/>
                        </a:lnTo>
                        <a:lnTo>
                          <a:pt x="61" y="469"/>
                        </a:lnTo>
                        <a:lnTo>
                          <a:pt x="74" y="488"/>
                        </a:lnTo>
                        <a:lnTo>
                          <a:pt x="100" y="524"/>
                        </a:lnTo>
                        <a:lnTo>
                          <a:pt x="131" y="558"/>
                        </a:lnTo>
                        <a:lnTo>
                          <a:pt x="164" y="587"/>
                        </a:lnTo>
                        <a:lnTo>
                          <a:pt x="199" y="614"/>
                        </a:lnTo>
                        <a:lnTo>
                          <a:pt x="236" y="637"/>
                        </a:lnTo>
                        <a:lnTo>
                          <a:pt x="275" y="656"/>
                        </a:lnTo>
                        <a:lnTo>
                          <a:pt x="315" y="670"/>
                        </a:lnTo>
                        <a:lnTo>
                          <a:pt x="358" y="680"/>
                        </a:lnTo>
                        <a:lnTo>
                          <a:pt x="401" y="687"/>
                        </a:lnTo>
                        <a:lnTo>
                          <a:pt x="448" y="689"/>
                        </a:lnTo>
                        <a:lnTo>
                          <a:pt x="493" y="687"/>
                        </a:lnTo>
                        <a:lnTo>
                          <a:pt x="503" y="684"/>
                        </a:lnTo>
                        <a:lnTo>
                          <a:pt x="515" y="683"/>
                        </a:lnTo>
                        <a:lnTo>
                          <a:pt x="537" y="680"/>
                        </a:lnTo>
                        <a:lnTo>
                          <a:pt x="558" y="674"/>
                        </a:lnTo>
                        <a:lnTo>
                          <a:pt x="579" y="670"/>
                        </a:lnTo>
                        <a:lnTo>
                          <a:pt x="620" y="656"/>
                        </a:lnTo>
                        <a:lnTo>
                          <a:pt x="659" y="637"/>
                        </a:lnTo>
                        <a:lnTo>
                          <a:pt x="677" y="626"/>
                        </a:lnTo>
                        <a:lnTo>
                          <a:pt x="696" y="614"/>
                        </a:lnTo>
                        <a:lnTo>
                          <a:pt x="713" y="601"/>
                        </a:lnTo>
                        <a:lnTo>
                          <a:pt x="731" y="587"/>
                        </a:lnTo>
                        <a:lnTo>
                          <a:pt x="765" y="558"/>
                        </a:lnTo>
                        <a:lnTo>
                          <a:pt x="787" y="535"/>
                        </a:lnTo>
                        <a:lnTo>
                          <a:pt x="781" y="511"/>
                        </a:lnTo>
                        <a:lnTo>
                          <a:pt x="777" y="490"/>
                        </a:lnTo>
                        <a:lnTo>
                          <a:pt x="759" y="510"/>
                        </a:lnTo>
                        <a:lnTo>
                          <a:pt x="753" y="514"/>
                        </a:lnTo>
                        <a:lnTo>
                          <a:pt x="748" y="520"/>
                        </a:lnTo>
                        <a:lnTo>
                          <a:pt x="739" y="531"/>
                        </a:lnTo>
                        <a:lnTo>
                          <a:pt x="707" y="559"/>
                        </a:lnTo>
                        <a:lnTo>
                          <a:pt x="698" y="564"/>
                        </a:lnTo>
                        <a:lnTo>
                          <a:pt x="690" y="571"/>
                        </a:lnTo>
                        <a:lnTo>
                          <a:pt x="675" y="584"/>
                        </a:lnTo>
                        <a:lnTo>
                          <a:pt x="641" y="604"/>
                        </a:lnTo>
                        <a:lnTo>
                          <a:pt x="622" y="612"/>
                        </a:lnTo>
                        <a:lnTo>
                          <a:pt x="605" y="621"/>
                        </a:lnTo>
                        <a:lnTo>
                          <a:pt x="595" y="623"/>
                        </a:lnTo>
                        <a:lnTo>
                          <a:pt x="586" y="627"/>
                        </a:lnTo>
                        <a:lnTo>
                          <a:pt x="568" y="633"/>
                        </a:lnTo>
                        <a:lnTo>
                          <a:pt x="529" y="644"/>
                        </a:lnTo>
                        <a:lnTo>
                          <a:pt x="489" y="649"/>
                        </a:lnTo>
                        <a:lnTo>
                          <a:pt x="448" y="652"/>
                        </a:lnTo>
                        <a:lnTo>
                          <a:pt x="405" y="649"/>
                        </a:lnTo>
                        <a:lnTo>
                          <a:pt x="365" y="644"/>
                        </a:lnTo>
                        <a:lnTo>
                          <a:pt x="326" y="633"/>
                        </a:lnTo>
                        <a:lnTo>
                          <a:pt x="290" y="621"/>
                        </a:lnTo>
                        <a:lnTo>
                          <a:pt x="254" y="604"/>
                        </a:lnTo>
                        <a:lnTo>
                          <a:pt x="220" y="584"/>
                        </a:lnTo>
                        <a:lnTo>
                          <a:pt x="187" y="559"/>
                        </a:lnTo>
                        <a:lnTo>
                          <a:pt x="157" y="531"/>
                        </a:lnTo>
                        <a:lnTo>
                          <a:pt x="128" y="500"/>
                        </a:lnTo>
                        <a:lnTo>
                          <a:pt x="104" y="467"/>
                        </a:lnTo>
                        <a:lnTo>
                          <a:pt x="83" y="433"/>
                        </a:lnTo>
                        <a:lnTo>
                          <a:pt x="74" y="415"/>
                        </a:lnTo>
                        <a:lnTo>
                          <a:pt x="67" y="398"/>
                        </a:lnTo>
                        <a:lnTo>
                          <a:pt x="59" y="378"/>
                        </a:lnTo>
                        <a:lnTo>
                          <a:pt x="53" y="360"/>
                        </a:lnTo>
                        <a:lnTo>
                          <a:pt x="44" y="322"/>
                        </a:lnTo>
                        <a:lnTo>
                          <a:pt x="38" y="281"/>
                        </a:lnTo>
                        <a:lnTo>
                          <a:pt x="37" y="240"/>
                        </a:lnTo>
                        <a:lnTo>
                          <a:pt x="38" y="206"/>
                        </a:lnTo>
                        <a:lnTo>
                          <a:pt x="42" y="173"/>
                        </a:lnTo>
                        <a:lnTo>
                          <a:pt x="47" y="142"/>
                        </a:lnTo>
                        <a:lnTo>
                          <a:pt x="57" y="112"/>
                        </a:lnTo>
                        <a:lnTo>
                          <a:pt x="67" y="81"/>
                        </a:lnTo>
                        <a:lnTo>
                          <a:pt x="80" y="53"/>
                        </a:lnTo>
                        <a:lnTo>
                          <a:pt x="95" y="26"/>
                        </a:lnTo>
                        <a:lnTo>
                          <a:pt x="114" y="0"/>
                        </a:lnTo>
                        <a:lnTo>
                          <a:pt x="67" y="3"/>
                        </a:lnTo>
                        <a:close/>
                      </a:path>
                    </a:pathLst>
                  </a:custGeom>
                  <a:solidFill>
                    <a:srgbClr val="00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6777000" y="3659400"/>
                    <a:ext cx="22140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3" h="756">
                        <a:moveTo>
                          <a:pt x="37" y="232"/>
                        </a:moveTo>
                        <a:lnTo>
                          <a:pt x="41" y="170"/>
                        </a:lnTo>
                        <a:lnTo>
                          <a:pt x="44" y="139"/>
                        </a:lnTo>
                        <a:lnTo>
                          <a:pt x="52" y="110"/>
                        </a:lnTo>
                        <a:lnTo>
                          <a:pt x="60" y="80"/>
                        </a:lnTo>
                        <a:lnTo>
                          <a:pt x="70" y="53"/>
                        </a:lnTo>
                        <a:lnTo>
                          <a:pt x="96" y="0"/>
                        </a:lnTo>
                        <a:lnTo>
                          <a:pt x="49" y="10"/>
                        </a:lnTo>
                        <a:lnTo>
                          <a:pt x="26" y="61"/>
                        </a:lnTo>
                        <a:lnTo>
                          <a:pt x="17" y="87"/>
                        </a:lnTo>
                        <a:lnTo>
                          <a:pt x="11" y="115"/>
                        </a:lnTo>
                        <a:lnTo>
                          <a:pt x="6" y="143"/>
                        </a:lnTo>
                        <a:lnTo>
                          <a:pt x="2" y="172"/>
                        </a:lnTo>
                        <a:lnTo>
                          <a:pt x="0" y="232"/>
                        </a:lnTo>
                        <a:lnTo>
                          <a:pt x="2" y="284"/>
                        </a:lnTo>
                        <a:lnTo>
                          <a:pt x="5" y="309"/>
                        </a:lnTo>
                        <a:lnTo>
                          <a:pt x="9" y="335"/>
                        </a:lnTo>
                        <a:lnTo>
                          <a:pt x="14" y="359"/>
                        </a:lnTo>
                        <a:lnTo>
                          <a:pt x="20" y="384"/>
                        </a:lnTo>
                        <a:lnTo>
                          <a:pt x="37" y="432"/>
                        </a:lnTo>
                        <a:lnTo>
                          <a:pt x="47" y="453"/>
                        </a:lnTo>
                        <a:lnTo>
                          <a:pt x="58" y="476"/>
                        </a:lnTo>
                        <a:lnTo>
                          <a:pt x="70" y="497"/>
                        </a:lnTo>
                        <a:lnTo>
                          <a:pt x="85" y="520"/>
                        </a:lnTo>
                        <a:lnTo>
                          <a:pt x="100" y="540"/>
                        </a:lnTo>
                        <a:lnTo>
                          <a:pt x="117" y="562"/>
                        </a:lnTo>
                        <a:lnTo>
                          <a:pt x="134" y="581"/>
                        </a:lnTo>
                        <a:lnTo>
                          <a:pt x="153" y="602"/>
                        </a:lnTo>
                        <a:lnTo>
                          <a:pt x="171" y="620"/>
                        </a:lnTo>
                        <a:lnTo>
                          <a:pt x="192" y="637"/>
                        </a:lnTo>
                        <a:lnTo>
                          <a:pt x="234" y="669"/>
                        </a:lnTo>
                        <a:lnTo>
                          <a:pt x="254" y="682"/>
                        </a:lnTo>
                        <a:lnTo>
                          <a:pt x="276" y="695"/>
                        </a:lnTo>
                        <a:lnTo>
                          <a:pt x="322" y="717"/>
                        </a:lnTo>
                        <a:lnTo>
                          <a:pt x="369" y="733"/>
                        </a:lnTo>
                        <a:lnTo>
                          <a:pt x="394" y="740"/>
                        </a:lnTo>
                        <a:lnTo>
                          <a:pt x="418" y="746"/>
                        </a:lnTo>
                        <a:lnTo>
                          <a:pt x="469" y="752"/>
                        </a:lnTo>
                        <a:lnTo>
                          <a:pt x="496" y="755"/>
                        </a:lnTo>
                        <a:lnTo>
                          <a:pt x="523" y="756"/>
                        </a:lnTo>
                        <a:lnTo>
                          <a:pt x="534" y="755"/>
                        </a:lnTo>
                        <a:lnTo>
                          <a:pt x="547" y="755"/>
                        </a:lnTo>
                        <a:lnTo>
                          <a:pt x="572" y="754"/>
                        </a:lnTo>
                        <a:lnTo>
                          <a:pt x="619" y="747"/>
                        </a:lnTo>
                        <a:lnTo>
                          <a:pt x="642" y="741"/>
                        </a:lnTo>
                        <a:lnTo>
                          <a:pt x="653" y="738"/>
                        </a:lnTo>
                        <a:lnTo>
                          <a:pt x="666" y="735"/>
                        </a:lnTo>
                        <a:lnTo>
                          <a:pt x="711" y="722"/>
                        </a:lnTo>
                        <a:lnTo>
                          <a:pt x="731" y="712"/>
                        </a:lnTo>
                        <a:lnTo>
                          <a:pt x="753" y="703"/>
                        </a:lnTo>
                        <a:lnTo>
                          <a:pt x="773" y="691"/>
                        </a:lnTo>
                        <a:lnTo>
                          <a:pt x="795" y="680"/>
                        </a:lnTo>
                        <a:lnTo>
                          <a:pt x="814" y="666"/>
                        </a:lnTo>
                        <a:lnTo>
                          <a:pt x="835" y="653"/>
                        </a:lnTo>
                        <a:lnTo>
                          <a:pt x="873" y="622"/>
                        </a:lnTo>
                        <a:lnTo>
                          <a:pt x="869" y="573"/>
                        </a:lnTo>
                        <a:lnTo>
                          <a:pt x="866" y="576"/>
                        </a:lnTo>
                        <a:lnTo>
                          <a:pt x="847" y="591"/>
                        </a:lnTo>
                        <a:lnTo>
                          <a:pt x="829" y="607"/>
                        </a:lnTo>
                        <a:lnTo>
                          <a:pt x="790" y="637"/>
                        </a:lnTo>
                        <a:lnTo>
                          <a:pt x="770" y="648"/>
                        </a:lnTo>
                        <a:lnTo>
                          <a:pt x="764" y="650"/>
                        </a:lnTo>
                        <a:lnTo>
                          <a:pt x="760" y="654"/>
                        </a:lnTo>
                        <a:lnTo>
                          <a:pt x="751" y="661"/>
                        </a:lnTo>
                        <a:lnTo>
                          <a:pt x="739" y="665"/>
                        </a:lnTo>
                        <a:lnTo>
                          <a:pt x="734" y="667"/>
                        </a:lnTo>
                        <a:lnTo>
                          <a:pt x="729" y="671"/>
                        </a:lnTo>
                        <a:lnTo>
                          <a:pt x="709" y="681"/>
                        </a:lnTo>
                        <a:lnTo>
                          <a:pt x="686" y="689"/>
                        </a:lnTo>
                        <a:lnTo>
                          <a:pt x="675" y="692"/>
                        </a:lnTo>
                        <a:lnTo>
                          <a:pt x="665" y="697"/>
                        </a:lnTo>
                        <a:lnTo>
                          <a:pt x="619" y="708"/>
                        </a:lnTo>
                        <a:lnTo>
                          <a:pt x="572" y="715"/>
                        </a:lnTo>
                        <a:lnTo>
                          <a:pt x="547" y="716"/>
                        </a:lnTo>
                        <a:lnTo>
                          <a:pt x="534" y="716"/>
                        </a:lnTo>
                        <a:lnTo>
                          <a:pt x="523" y="717"/>
                        </a:lnTo>
                        <a:lnTo>
                          <a:pt x="472" y="715"/>
                        </a:lnTo>
                        <a:lnTo>
                          <a:pt x="425" y="708"/>
                        </a:lnTo>
                        <a:lnTo>
                          <a:pt x="379" y="697"/>
                        </a:lnTo>
                        <a:lnTo>
                          <a:pt x="336" y="681"/>
                        </a:lnTo>
                        <a:lnTo>
                          <a:pt x="294" y="661"/>
                        </a:lnTo>
                        <a:lnTo>
                          <a:pt x="254" y="637"/>
                        </a:lnTo>
                        <a:lnTo>
                          <a:pt x="215" y="607"/>
                        </a:lnTo>
                        <a:lnTo>
                          <a:pt x="180" y="576"/>
                        </a:lnTo>
                        <a:lnTo>
                          <a:pt x="162" y="556"/>
                        </a:lnTo>
                        <a:lnTo>
                          <a:pt x="146" y="538"/>
                        </a:lnTo>
                        <a:lnTo>
                          <a:pt x="117" y="500"/>
                        </a:lnTo>
                        <a:lnTo>
                          <a:pt x="103" y="479"/>
                        </a:lnTo>
                        <a:lnTo>
                          <a:pt x="92" y="460"/>
                        </a:lnTo>
                        <a:lnTo>
                          <a:pt x="73" y="418"/>
                        </a:lnTo>
                        <a:lnTo>
                          <a:pt x="64" y="395"/>
                        </a:lnTo>
                        <a:lnTo>
                          <a:pt x="57" y="374"/>
                        </a:lnTo>
                        <a:lnTo>
                          <a:pt x="45" y="329"/>
                        </a:lnTo>
                        <a:lnTo>
                          <a:pt x="39" y="281"/>
                        </a:lnTo>
                        <a:lnTo>
                          <a:pt x="37" y="232"/>
                        </a:lnTo>
                        <a:close/>
                      </a:path>
                    </a:pathLst>
                  </a:custGeom>
                  <a:solidFill>
                    <a:srgbClr val="00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6767280" y="3662640"/>
                    <a:ext cx="2311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10" h="782">
                        <a:moveTo>
                          <a:pt x="37" y="222"/>
                        </a:moveTo>
                        <a:lnTo>
                          <a:pt x="39" y="162"/>
                        </a:lnTo>
                        <a:lnTo>
                          <a:pt x="43" y="133"/>
                        </a:lnTo>
                        <a:lnTo>
                          <a:pt x="48" y="105"/>
                        </a:lnTo>
                        <a:lnTo>
                          <a:pt x="54" y="77"/>
                        </a:lnTo>
                        <a:lnTo>
                          <a:pt x="63" y="51"/>
                        </a:lnTo>
                        <a:lnTo>
                          <a:pt x="86" y="0"/>
                        </a:lnTo>
                        <a:lnTo>
                          <a:pt x="39" y="12"/>
                        </a:lnTo>
                        <a:lnTo>
                          <a:pt x="21" y="61"/>
                        </a:lnTo>
                        <a:lnTo>
                          <a:pt x="9" y="113"/>
                        </a:lnTo>
                        <a:lnTo>
                          <a:pt x="2" y="167"/>
                        </a:lnTo>
                        <a:lnTo>
                          <a:pt x="0" y="222"/>
                        </a:lnTo>
                        <a:lnTo>
                          <a:pt x="0" y="249"/>
                        </a:lnTo>
                        <a:lnTo>
                          <a:pt x="2" y="278"/>
                        </a:lnTo>
                        <a:lnTo>
                          <a:pt x="4" y="305"/>
                        </a:lnTo>
                        <a:lnTo>
                          <a:pt x="10" y="333"/>
                        </a:lnTo>
                        <a:lnTo>
                          <a:pt x="22" y="385"/>
                        </a:lnTo>
                        <a:lnTo>
                          <a:pt x="30" y="410"/>
                        </a:lnTo>
                        <a:lnTo>
                          <a:pt x="40" y="436"/>
                        </a:lnTo>
                        <a:lnTo>
                          <a:pt x="51" y="460"/>
                        </a:lnTo>
                        <a:lnTo>
                          <a:pt x="63" y="485"/>
                        </a:lnTo>
                        <a:lnTo>
                          <a:pt x="76" y="508"/>
                        </a:lnTo>
                        <a:lnTo>
                          <a:pt x="91" y="532"/>
                        </a:lnTo>
                        <a:lnTo>
                          <a:pt x="106" y="553"/>
                        </a:lnTo>
                        <a:lnTo>
                          <a:pt x="124" y="576"/>
                        </a:lnTo>
                        <a:lnTo>
                          <a:pt x="164" y="619"/>
                        </a:lnTo>
                        <a:lnTo>
                          <a:pt x="184" y="638"/>
                        </a:lnTo>
                        <a:lnTo>
                          <a:pt x="205" y="656"/>
                        </a:lnTo>
                        <a:lnTo>
                          <a:pt x="249" y="690"/>
                        </a:lnTo>
                        <a:lnTo>
                          <a:pt x="296" y="718"/>
                        </a:lnTo>
                        <a:lnTo>
                          <a:pt x="319" y="730"/>
                        </a:lnTo>
                        <a:lnTo>
                          <a:pt x="344" y="741"/>
                        </a:lnTo>
                        <a:lnTo>
                          <a:pt x="369" y="750"/>
                        </a:lnTo>
                        <a:lnTo>
                          <a:pt x="394" y="758"/>
                        </a:lnTo>
                        <a:lnTo>
                          <a:pt x="448" y="772"/>
                        </a:lnTo>
                        <a:lnTo>
                          <a:pt x="502" y="779"/>
                        </a:lnTo>
                        <a:lnTo>
                          <a:pt x="530" y="781"/>
                        </a:lnTo>
                        <a:lnTo>
                          <a:pt x="560" y="782"/>
                        </a:lnTo>
                        <a:lnTo>
                          <a:pt x="571" y="781"/>
                        </a:lnTo>
                        <a:lnTo>
                          <a:pt x="584" y="781"/>
                        </a:lnTo>
                        <a:lnTo>
                          <a:pt x="609" y="780"/>
                        </a:lnTo>
                        <a:lnTo>
                          <a:pt x="656" y="774"/>
                        </a:lnTo>
                        <a:lnTo>
                          <a:pt x="702" y="764"/>
                        </a:lnTo>
                        <a:lnTo>
                          <a:pt x="747" y="752"/>
                        </a:lnTo>
                        <a:lnTo>
                          <a:pt x="790" y="733"/>
                        </a:lnTo>
                        <a:lnTo>
                          <a:pt x="810" y="723"/>
                        </a:lnTo>
                        <a:lnTo>
                          <a:pt x="815" y="720"/>
                        </a:lnTo>
                        <a:lnTo>
                          <a:pt x="821" y="718"/>
                        </a:lnTo>
                        <a:lnTo>
                          <a:pt x="832" y="713"/>
                        </a:lnTo>
                        <a:lnTo>
                          <a:pt x="841" y="706"/>
                        </a:lnTo>
                        <a:lnTo>
                          <a:pt x="846" y="703"/>
                        </a:lnTo>
                        <a:lnTo>
                          <a:pt x="851" y="700"/>
                        </a:lnTo>
                        <a:lnTo>
                          <a:pt x="872" y="688"/>
                        </a:lnTo>
                        <a:lnTo>
                          <a:pt x="910" y="661"/>
                        </a:lnTo>
                        <a:lnTo>
                          <a:pt x="910" y="645"/>
                        </a:lnTo>
                        <a:lnTo>
                          <a:pt x="910" y="612"/>
                        </a:lnTo>
                        <a:lnTo>
                          <a:pt x="872" y="643"/>
                        </a:lnTo>
                        <a:lnTo>
                          <a:pt x="851" y="656"/>
                        </a:lnTo>
                        <a:lnTo>
                          <a:pt x="832" y="670"/>
                        </a:lnTo>
                        <a:lnTo>
                          <a:pt x="810" y="681"/>
                        </a:lnTo>
                        <a:lnTo>
                          <a:pt x="790" y="693"/>
                        </a:lnTo>
                        <a:lnTo>
                          <a:pt x="768" y="702"/>
                        </a:lnTo>
                        <a:lnTo>
                          <a:pt x="748" y="712"/>
                        </a:lnTo>
                        <a:lnTo>
                          <a:pt x="703" y="725"/>
                        </a:lnTo>
                        <a:lnTo>
                          <a:pt x="690" y="728"/>
                        </a:lnTo>
                        <a:lnTo>
                          <a:pt x="679" y="731"/>
                        </a:lnTo>
                        <a:lnTo>
                          <a:pt x="656" y="737"/>
                        </a:lnTo>
                        <a:lnTo>
                          <a:pt x="609" y="744"/>
                        </a:lnTo>
                        <a:lnTo>
                          <a:pt x="584" y="745"/>
                        </a:lnTo>
                        <a:lnTo>
                          <a:pt x="571" y="745"/>
                        </a:lnTo>
                        <a:lnTo>
                          <a:pt x="560" y="746"/>
                        </a:lnTo>
                        <a:lnTo>
                          <a:pt x="533" y="745"/>
                        </a:lnTo>
                        <a:lnTo>
                          <a:pt x="506" y="742"/>
                        </a:lnTo>
                        <a:lnTo>
                          <a:pt x="455" y="736"/>
                        </a:lnTo>
                        <a:lnTo>
                          <a:pt x="431" y="730"/>
                        </a:lnTo>
                        <a:lnTo>
                          <a:pt x="406" y="723"/>
                        </a:lnTo>
                        <a:lnTo>
                          <a:pt x="359" y="707"/>
                        </a:lnTo>
                        <a:lnTo>
                          <a:pt x="313" y="685"/>
                        </a:lnTo>
                        <a:lnTo>
                          <a:pt x="291" y="672"/>
                        </a:lnTo>
                        <a:lnTo>
                          <a:pt x="271" y="659"/>
                        </a:lnTo>
                        <a:lnTo>
                          <a:pt x="229" y="627"/>
                        </a:lnTo>
                        <a:lnTo>
                          <a:pt x="208" y="610"/>
                        </a:lnTo>
                        <a:lnTo>
                          <a:pt x="190" y="592"/>
                        </a:lnTo>
                        <a:lnTo>
                          <a:pt x="171" y="571"/>
                        </a:lnTo>
                        <a:lnTo>
                          <a:pt x="154" y="552"/>
                        </a:lnTo>
                        <a:lnTo>
                          <a:pt x="137" y="530"/>
                        </a:lnTo>
                        <a:lnTo>
                          <a:pt x="122" y="510"/>
                        </a:lnTo>
                        <a:lnTo>
                          <a:pt x="107" y="487"/>
                        </a:lnTo>
                        <a:lnTo>
                          <a:pt x="95" y="466"/>
                        </a:lnTo>
                        <a:lnTo>
                          <a:pt x="84" y="443"/>
                        </a:lnTo>
                        <a:lnTo>
                          <a:pt x="74" y="422"/>
                        </a:lnTo>
                        <a:lnTo>
                          <a:pt x="57" y="374"/>
                        </a:lnTo>
                        <a:lnTo>
                          <a:pt x="51" y="349"/>
                        </a:lnTo>
                        <a:lnTo>
                          <a:pt x="46" y="325"/>
                        </a:lnTo>
                        <a:lnTo>
                          <a:pt x="42" y="299"/>
                        </a:lnTo>
                        <a:lnTo>
                          <a:pt x="39" y="274"/>
                        </a:lnTo>
                        <a:lnTo>
                          <a:pt x="37" y="222"/>
                        </a:lnTo>
                        <a:close/>
                      </a:path>
                    </a:pathLst>
                  </a:custGeom>
                  <a:solidFill>
                    <a:srgbClr val="00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6661440" y="3816000"/>
                    <a:ext cx="23004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689">
                        <a:moveTo>
                          <a:pt x="0" y="40"/>
                        </a:moveTo>
                        <a:lnTo>
                          <a:pt x="1" y="94"/>
                        </a:lnTo>
                        <a:lnTo>
                          <a:pt x="21" y="132"/>
                        </a:lnTo>
                        <a:lnTo>
                          <a:pt x="43" y="170"/>
                        </a:lnTo>
                        <a:lnTo>
                          <a:pt x="66" y="207"/>
                        </a:lnTo>
                        <a:lnTo>
                          <a:pt x="92" y="244"/>
                        </a:lnTo>
                        <a:lnTo>
                          <a:pt x="118" y="279"/>
                        </a:lnTo>
                        <a:lnTo>
                          <a:pt x="148" y="314"/>
                        </a:lnTo>
                        <a:lnTo>
                          <a:pt x="178" y="348"/>
                        </a:lnTo>
                        <a:lnTo>
                          <a:pt x="212" y="383"/>
                        </a:lnTo>
                        <a:lnTo>
                          <a:pt x="244" y="414"/>
                        </a:lnTo>
                        <a:lnTo>
                          <a:pt x="277" y="443"/>
                        </a:lnTo>
                        <a:lnTo>
                          <a:pt x="310" y="471"/>
                        </a:lnTo>
                        <a:lnTo>
                          <a:pt x="345" y="498"/>
                        </a:lnTo>
                        <a:lnTo>
                          <a:pt x="416" y="545"/>
                        </a:lnTo>
                        <a:lnTo>
                          <a:pt x="453" y="567"/>
                        </a:lnTo>
                        <a:lnTo>
                          <a:pt x="490" y="587"/>
                        </a:lnTo>
                        <a:lnTo>
                          <a:pt x="528" y="606"/>
                        </a:lnTo>
                        <a:lnTo>
                          <a:pt x="566" y="623"/>
                        </a:lnTo>
                        <a:lnTo>
                          <a:pt x="605" y="637"/>
                        </a:lnTo>
                        <a:lnTo>
                          <a:pt x="646" y="651"/>
                        </a:lnTo>
                        <a:lnTo>
                          <a:pt x="685" y="662"/>
                        </a:lnTo>
                        <a:lnTo>
                          <a:pt x="727" y="672"/>
                        </a:lnTo>
                        <a:lnTo>
                          <a:pt x="769" y="682"/>
                        </a:lnTo>
                        <a:lnTo>
                          <a:pt x="812" y="689"/>
                        </a:lnTo>
                        <a:lnTo>
                          <a:pt x="835" y="683"/>
                        </a:lnTo>
                        <a:lnTo>
                          <a:pt x="846" y="679"/>
                        </a:lnTo>
                        <a:lnTo>
                          <a:pt x="859" y="677"/>
                        </a:lnTo>
                        <a:lnTo>
                          <a:pt x="881" y="669"/>
                        </a:lnTo>
                        <a:lnTo>
                          <a:pt x="893" y="665"/>
                        </a:lnTo>
                        <a:lnTo>
                          <a:pt x="898" y="662"/>
                        </a:lnTo>
                        <a:lnTo>
                          <a:pt x="905" y="661"/>
                        </a:lnTo>
                        <a:lnTo>
                          <a:pt x="856" y="655"/>
                        </a:lnTo>
                        <a:lnTo>
                          <a:pt x="809" y="650"/>
                        </a:lnTo>
                        <a:lnTo>
                          <a:pt x="762" y="642"/>
                        </a:lnTo>
                        <a:lnTo>
                          <a:pt x="717" y="632"/>
                        </a:lnTo>
                        <a:lnTo>
                          <a:pt x="672" y="619"/>
                        </a:lnTo>
                        <a:lnTo>
                          <a:pt x="629" y="606"/>
                        </a:lnTo>
                        <a:lnTo>
                          <a:pt x="585" y="590"/>
                        </a:lnTo>
                        <a:lnTo>
                          <a:pt x="545" y="573"/>
                        </a:lnTo>
                        <a:lnTo>
                          <a:pt x="503" y="551"/>
                        </a:lnTo>
                        <a:lnTo>
                          <a:pt x="462" y="530"/>
                        </a:lnTo>
                        <a:lnTo>
                          <a:pt x="422" y="506"/>
                        </a:lnTo>
                        <a:lnTo>
                          <a:pt x="384" y="480"/>
                        </a:lnTo>
                        <a:lnTo>
                          <a:pt x="345" y="451"/>
                        </a:lnTo>
                        <a:lnTo>
                          <a:pt x="309" y="422"/>
                        </a:lnTo>
                        <a:lnTo>
                          <a:pt x="272" y="390"/>
                        </a:lnTo>
                        <a:lnTo>
                          <a:pt x="238" y="357"/>
                        </a:lnTo>
                        <a:lnTo>
                          <a:pt x="199" y="315"/>
                        </a:lnTo>
                        <a:lnTo>
                          <a:pt x="179" y="294"/>
                        </a:lnTo>
                        <a:lnTo>
                          <a:pt x="162" y="273"/>
                        </a:lnTo>
                        <a:lnTo>
                          <a:pt x="144" y="251"/>
                        </a:lnTo>
                        <a:lnTo>
                          <a:pt x="128" y="229"/>
                        </a:lnTo>
                        <a:lnTo>
                          <a:pt x="98" y="186"/>
                        </a:lnTo>
                        <a:lnTo>
                          <a:pt x="69" y="141"/>
                        </a:lnTo>
                        <a:lnTo>
                          <a:pt x="43" y="95"/>
                        </a:lnTo>
                        <a:lnTo>
                          <a:pt x="21" y="48"/>
                        </a:lnTo>
                        <a:lnTo>
                          <a:pt x="1" y="0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6661800" y="3794400"/>
                    <a:ext cx="248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0" h="748">
                        <a:moveTo>
                          <a:pt x="11" y="0"/>
                        </a:moveTo>
                        <a:lnTo>
                          <a:pt x="3" y="42"/>
                        </a:lnTo>
                        <a:lnTo>
                          <a:pt x="0" y="87"/>
                        </a:lnTo>
                        <a:lnTo>
                          <a:pt x="20" y="135"/>
                        </a:lnTo>
                        <a:lnTo>
                          <a:pt x="42" y="182"/>
                        </a:lnTo>
                        <a:lnTo>
                          <a:pt x="68" y="228"/>
                        </a:lnTo>
                        <a:lnTo>
                          <a:pt x="97" y="273"/>
                        </a:lnTo>
                        <a:lnTo>
                          <a:pt x="127" y="316"/>
                        </a:lnTo>
                        <a:lnTo>
                          <a:pt x="143" y="338"/>
                        </a:lnTo>
                        <a:lnTo>
                          <a:pt x="161" y="360"/>
                        </a:lnTo>
                        <a:lnTo>
                          <a:pt x="178" y="381"/>
                        </a:lnTo>
                        <a:lnTo>
                          <a:pt x="198" y="402"/>
                        </a:lnTo>
                        <a:lnTo>
                          <a:pt x="237" y="444"/>
                        </a:lnTo>
                        <a:lnTo>
                          <a:pt x="271" y="477"/>
                        </a:lnTo>
                        <a:lnTo>
                          <a:pt x="308" y="509"/>
                        </a:lnTo>
                        <a:lnTo>
                          <a:pt x="344" y="538"/>
                        </a:lnTo>
                        <a:lnTo>
                          <a:pt x="383" y="567"/>
                        </a:lnTo>
                        <a:lnTo>
                          <a:pt x="421" y="593"/>
                        </a:lnTo>
                        <a:lnTo>
                          <a:pt x="461" y="617"/>
                        </a:lnTo>
                        <a:lnTo>
                          <a:pt x="502" y="638"/>
                        </a:lnTo>
                        <a:lnTo>
                          <a:pt x="544" y="660"/>
                        </a:lnTo>
                        <a:lnTo>
                          <a:pt x="584" y="677"/>
                        </a:lnTo>
                        <a:lnTo>
                          <a:pt x="628" y="693"/>
                        </a:lnTo>
                        <a:lnTo>
                          <a:pt x="671" y="706"/>
                        </a:lnTo>
                        <a:lnTo>
                          <a:pt x="716" y="719"/>
                        </a:lnTo>
                        <a:lnTo>
                          <a:pt x="761" y="729"/>
                        </a:lnTo>
                        <a:lnTo>
                          <a:pt x="808" y="737"/>
                        </a:lnTo>
                        <a:lnTo>
                          <a:pt x="855" y="742"/>
                        </a:lnTo>
                        <a:lnTo>
                          <a:pt x="904" y="748"/>
                        </a:lnTo>
                        <a:lnTo>
                          <a:pt x="943" y="731"/>
                        </a:lnTo>
                        <a:lnTo>
                          <a:pt x="961" y="722"/>
                        </a:lnTo>
                        <a:lnTo>
                          <a:pt x="980" y="713"/>
                        </a:lnTo>
                        <a:lnTo>
                          <a:pt x="977" y="713"/>
                        </a:lnTo>
                        <a:lnTo>
                          <a:pt x="925" y="711"/>
                        </a:lnTo>
                        <a:lnTo>
                          <a:pt x="874" y="707"/>
                        </a:lnTo>
                        <a:lnTo>
                          <a:pt x="824" y="702"/>
                        </a:lnTo>
                        <a:lnTo>
                          <a:pt x="775" y="694"/>
                        </a:lnTo>
                        <a:lnTo>
                          <a:pt x="726" y="682"/>
                        </a:lnTo>
                        <a:lnTo>
                          <a:pt x="680" y="670"/>
                        </a:lnTo>
                        <a:lnTo>
                          <a:pt x="633" y="655"/>
                        </a:lnTo>
                        <a:lnTo>
                          <a:pt x="589" y="638"/>
                        </a:lnTo>
                        <a:lnTo>
                          <a:pt x="544" y="617"/>
                        </a:lnTo>
                        <a:lnTo>
                          <a:pt x="501" y="595"/>
                        </a:lnTo>
                        <a:lnTo>
                          <a:pt x="459" y="571"/>
                        </a:lnTo>
                        <a:lnTo>
                          <a:pt x="418" y="545"/>
                        </a:lnTo>
                        <a:lnTo>
                          <a:pt x="377" y="516"/>
                        </a:lnTo>
                        <a:lnTo>
                          <a:pt x="338" y="485"/>
                        </a:lnTo>
                        <a:lnTo>
                          <a:pt x="300" y="452"/>
                        </a:lnTo>
                        <a:lnTo>
                          <a:pt x="263" y="417"/>
                        </a:lnTo>
                        <a:lnTo>
                          <a:pt x="218" y="370"/>
                        </a:lnTo>
                        <a:lnTo>
                          <a:pt x="197" y="345"/>
                        </a:lnTo>
                        <a:lnTo>
                          <a:pt x="177" y="321"/>
                        </a:lnTo>
                        <a:lnTo>
                          <a:pt x="140" y="271"/>
                        </a:lnTo>
                        <a:lnTo>
                          <a:pt x="107" y="220"/>
                        </a:lnTo>
                        <a:lnTo>
                          <a:pt x="76" y="167"/>
                        </a:lnTo>
                        <a:lnTo>
                          <a:pt x="51" y="112"/>
                        </a:lnTo>
                        <a:lnTo>
                          <a:pt x="39" y="84"/>
                        </a:lnTo>
                        <a:lnTo>
                          <a:pt x="29" y="57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7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664320" y="3774960"/>
                    <a:ext cx="26208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2" h="789">
                        <a:moveTo>
                          <a:pt x="18" y="0"/>
                        </a:moveTo>
                        <a:lnTo>
                          <a:pt x="8" y="36"/>
                        </a:lnTo>
                        <a:lnTo>
                          <a:pt x="0" y="76"/>
                        </a:lnTo>
                        <a:lnTo>
                          <a:pt x="18" y="133"/>
                        </a:lnTo>
                        <a:lnTo>
                          <a:pt x="28" y="160"/>
                        </a:lnTo>
                        <a:lnTo>
                          <a:pt x="40" y="188"/>
                        </a:lnTo>
                        <a:lnTo>
                          <a:pt x="65" y="243"/>
                        </a:lnTo>
                        <a:lnTo>
                          <a:pt x="96" y="296"/>
                        </a:lnTo>
                        <a:lnTo>
                          <a:pt x="129" y="347"/>
                        </a:lnTo>
                        <a:lnTo>
                          <a:pt x="166" y="397"/>
                        </a:lnTo>
                        <a:lnTo>
                          <a:pt x="186" y="421"/>
                        </a:lnTo>
                        <a:lnTo>
                          <a:pt x="207" y="446"/>
                        </a:lnTo>
                        <a:lnTo>
                          <a:pt x="252" y="493"/>
                        </a:lnTo>
                        <a:lnTo>
                          <a:pt x="289" y="528"/>
                        </a:lnTo>
                        <a:lnTo>
                          <a:pt x="327" y="561"/>
                        </a:lnTo>
                        <a:lnTo>
                          <a:pt x="366" y="592"/>
                        </a:lnTo>
                        <a:lnTo>
                          <a:pt x="407" y="621"/>
                        </a:lnTo>
                        <a:lnTo>
                          <a:pt x="448" y="647"/>
                        </a:lnTo>
                        <a:lnTo>
                          <a:pt x="490" y="671"/>
                        </a:lnTo>
                        <a:lnTo>
                          <a:pt x="533" y="693"/>
                        </a:lnTo>
                        <a:lnTo>
                          <a:pt x="578" y="714"/>
                        </a:lnTo>
                        <a:lnTo>
                          <a:pt x="622" y="731"/>
                        </a:lnTo>
                        <a:lnTo>
                          <a:pt x="669" y="746"/>
                        </a:lnTo>
                        <a:lnTo>
                          <a:pt x="715" y="758"/>
                        </a:lnTo>
                        <a:lnTo>
                          <a:pt x="764" y="770"/>
                        </a:lnTo>
                        <a:lnTo>
                          <a:pt x="813" y="778"/>
                        </a:lnTo>
                        <a:lnTo>
                          <a:pt x="863" y="783"/>
                        </a:lnTo>
                        <a:lnTo>
                          <a:pt x="914" y="787"/>
                        </a:lnTo>
                        <a:lnTo>
                          <a:pt x="966" y="789"/>
                        </a:lnTo>
                        <a:lnTo>
                          <a:pt x="969" y="789"/>
                        </a:lnTo>
                        <a:lnTo>
                          <a:pt x="976" y="783"/>
                        </a:lnTo>
                        <a:lnTo>
                          <a:pt x="984" y="779"/>
                        </a:lnTo>
                        <a:lnTo>
                          <a:pt x="1000" y="770"/>
                        </a:lnTo>
                        <a:lnTo>
                          <a:pt x="1032" y="750"/>
                        </a:lnTo>
                        <a:lnTo>
                          <a:pt x="966" y="752"/>
                        </a:lnTo>
                        <a:lnTo>
                          <a:pt x="915" y="750"/>
                        </a:lnTo>
                        <a:lnTo>
                          <a:pt x="866" y="747"/>
                        </a:lnTo>
                        <a:lnTo>
                          <a:pt x="818" y="741"/>
                        </a:lnTo>
                        <a:lnTo>
                          <a:pt x="772" y="733"/>
                        </a:lnTo>
                        <a:lnTo>
                          <a:pt x="725" y="723"/>
                        </a:lnTo>
                        <a:lnTo>
                          <a:pt x="680" y="711"/>
                        </a:lnTo>
                        <a:lnTo>
                          <a:pt x="636" y="696"/>
                        </a:lnTo>
                        <a:lnTo>
                          <a:pt x="593" y="680"/>
                        </a:lnTo>
                        <a:lnTo>
                          <a:pt x="550" y="661"/>
                        </a:lnTo>
                        <a:lnTo>
                          <a:pt x="508" y="639"/>
                        </a:lnTo>
                        <a:lnTo>
                          <a:pt x="467" y="616"/>
                        </a:lnTo>
                        <a:lnTo>
                          <a:pt x="428" y="591"/>
                        </a:lnTo>
                        <a:lnTo>
                          <a:pt x="389" y="562"/>
                        </a:lnTo>
                        <a:lnTo>
                          <a:pt x="351" y="533"/>
                        </a:lnTo>
                        <a:lnTo>
                          <a:pt x="315" y="500"/>
                        </a:lnTo>
                        <a:lnTo>
                          <a:pt x="280" y="467"/>
                        </a:lnTo>
                        <a:lnTo>
                          <a:pt x="254" y="440"/>
                        </a:lnTo>
                        <a:lnTo>
                          <a:pt x="230" y="414"/>
                        </a:lnTo>
                        <a:lnTo>
                          <a:pt x="207" y="387"/>
                        </a:lnTo>
                        <a:lnTo>
                          <a:pt x="187" y="361"/>
                        </a:lnTo>
                        <a:lnTo>
                          <a:pt x="165" y="332"/>
                        </a:lnTo>
                        <a:lnTo>
                          <a:pt x="146" y="305"/>
                        </a:lnTo>
                        <a:lnTo>
                          <a:pt x="112" y="248"/>
                        </a:lnTo>
                        <a:lnTo>
                          <a:pt x="95" y="218"/>
                        </a:lnTo>
                        <a:lnTo>
                          <a:pt x="80" y="188"/>
                        </a:lnTo>
                        <a:lnTo>
                          <a:pt x="55" y="127"/>
                        </a:lnTo>
                        <a:lnTo>
                          <a:pt x="43" y="95"/>
                        </a:lnTo>
                        <a:lnTo>
                          <a:pt x="34" y="65"/>
                        </a:lnTo>
                        <a:lnTo>
                          <a:pt x="25" y="3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7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6669000" y="3757680"/>
                    <a:ext cx="27072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7" h="819">
                        <a:moveTo>
                          <a:pt x="26" y="0"/>
                        </a:moveTo>
                        <a:lnTo>
                          <a:pt x="11" y="32"/>
                        </a:lnTo>
                        <a:lnTo>
                          <a:pt x="0" y="67"/>
                        </a:lnTo>
                        <a:lnTo>
                          <a:pt x="7" y="99"/>
                        </a:lnTo>
                        <a:lnTo>
                          <a:pt x="16" y="132"/>
                        </a:lnTo>
                        <a:lnTo>
                          <a:pt x="25" y="162"/>
                        </a:lnTo>
                        <a:lnTo>
                          <a:pt x="37" y="194"/>
                        </a:lnTo>
                        <a:lnTo>
                          <a:pt x="62" y="255"/>
                        </a:lnTo>
                        <a:lnTo>
                          <a:pt x="77" y="285"/>
                        </a:lnTo>
                        <a:lnTo>
                          <a:pt x="94" y="315"/>
                        </a:lnTo>
                        <a:lnTo>
                          <a:pt x="128" y="372"/>
                        </a:lnTo>
                        <a:lnTo>
                          <a:pt x="147" y="399"/>
                        </a:lnTo>
                        <a:lnTo>
                          <a:pt x="169" y="428"/>
                        </a:lnTo>
                        <a:lnTo>
                          <a:pt x="189" y="454"/>
                        </a:lnTo>
                        <a:lnTo>
                          <a:pt x="212" y="481"/>
                        </a:lnTo>
                        <a:lnTo>
                          <a:pt x="236" y="507"/>
                        </a:lnTo>
                        <a:lnTo>
                          <a:pt x="262" y="534"/>
                        </a:lnTo>
                        <a:lnTo>
                          <a:pt x="297" y="567"/>
                        </a:lnTo>
                        <a:lnTo>
                          <a:pt x="333" y="600"/>
                        </a:lnTo>
                        <a:lnTo>
                          <a:pt x="371" y="629"/>
                        </a:lnTo>
                        <a:lnTo>
                          <a:pt x="410" y="658"/>
                        </a:lnTo>
                        <a:lnTo>
                          <a:pt x="449" y="683"/>
                        </a:lnTo>
                        <a:lnTo>
                          <a:pt x="490" y="706"/>
                        </a:lnTo>
                        <a:lnTo>
                          <a:pt x="532" y="728"/>
                        </a:lnTo>
                        <a:lnTo>
                          <a:pt x="575" y="747"/>
                        </a:lnTo>
                        <a:lnTo>
                          <a:pt x="618" y="763"/>
                        </a:lnTo>
                        <a:lnTo>
                          <a:pt x="662" y="778"/>
                        </a:lnTo>
                        <a:lnTo>
                          <a:pt x="707" y="790"/>
                        </a:lnTo>
                        <a:lnTo>
                          <a:pt x="754" y="800"/>
                        </a:lnTo>
                        <a:lnTo>
                          <a:pt x="800" y="808"/>
                        </a:lnTo>
                        <a:lnTo>
                          <a:pt x="848" y="814"/>
                        </a:lnTo>
                        <a:lnTo>
                          <a:pt x="897" y="817"/>
                        </a:lnTo>
                        <a:lnTo>
                          <a:pt x="948" y="819"/>
                        </a:lnTo>
                        <a:lnTo>
                          <a:pt x="1014" y="817"/>
                        </a:lnTo>
                        <a:lnTo>
                          <a:pt x="1067" y="774"/>
                        </a:lnTo>
                        <a:lnTo>
                          <a:pt x="1008" y="779"/>
                        </a:lnTo>
                        <a:lnTo>
                          <a:pt x="992" y="779"/>
                        </a:lnTo>
                        <a:lnTo>
                          <a:pt x="984" y="779"/>
                        </a:lnTo>
                        <a:lnTo>
                          <a:pt x="977" y="780"/>
                        </a:lnTo>
                        <a:lnTo>
                          <a:pt x="948" y="781"/>
                        </a:lnTo>
                        <a:lnTo>
                          <a:pt x="899" y="780"/>
                        </a:lnTo>
                        <a:lnTo>
                          <a:pt x="851" y="777"/>
                        </a:lnTo>
                        <a:lnTo>
                          <a:pt x="805" y="771"/>
                        </a:lnTo>
                        <a:lnTo>
                          <a:pt x="761" y="763"/>
                        </a:lnTo>
                        <a:lnTo>
                          <a:pt x="715" y="753"/>
                        </a:lnTo>
                        <a:lnTo>
                          <a:pt x="672" y="741"/>
                        </a:lnTo>
                        <a:lnTo>
                          <a:pt x="629" y="727"/>
                        </a:lnTo>
                        <a:lnTo>
                          <a:pt x="588" y="712"/>
                        </a:lnTo>
                        <a:lnTo>
                          <a:pt x="546" y="693"/>
                        </a:lnTo>
                        <a:lnTo>
                          <a:pt x="507" y="673"/>
                        </a:lnTo>
                        <a:lnTo>
                          <a:pt x="468" y="651"/>
                        </a:lnTo>
                        <a:lnTo>
                          <a:pt x="431" y="627"/>
                        </a:lnTo>
                        <a:lnTo>
                          <a:pt x="393" y="600"/>
                        </a:lnTo>
                        <a:lnTo>
                          <a:pt x="357" y="571"/>
                        </a:lnTo>
                        <a:lnTo>
                          <a:pt x="322" y="541"/>
                        </a:lnTo>
                        <a:lnTo>
                          <a:pt x="288" y="508"/>
                        </a:lnTo>
                        <a:lnTo>
                          <a:pt x="234" y="451"/>
                        </a:lnTo>
                        <a:lnTo>
                          <a:pt x="210" y="422"/>
                        </a:lnTo>
                        <a:lnTo>
                          <a:pt x="188" y="394"/>
                        </a:lnTo>
                        <a:lnTo>
                          <a:pt x="166" y="363"/>
                        </a:lnTo>
                        <a:lnTo>
                          <a:pt x="147" y="333"/>
                        </a:lnTo>
                        <a:lnTo>
                          <a:pt x="128" y="302"/>
                        </a:lnTo>
                        <a:lnTo>
                          <a:pt x="112" y="271"/>
                        </a:lnTo>
                        <a:lnTo>
                          <a:pt x="95" y="238"/>
                        </a:lnTo>
                        <a:lnTo>
                          <a:pt x="81" y="206"/>
                        </a:lnTo>
                        <a:lnTo>
                          <a:pt x="68" y="172"/>
                        </a:lnTo>
                        <a:lnTo>
                          <a:pt x="58" y="140"/>
                        </a:lnTo>
                        <a:lnTo>
                          <a:pt x="46" y="104"/>
                        </a:lnTo>
                        <a:lnTo>
                          <a:pt x="38" y="7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007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675480" y="3742560"/>
                    <a:ext cx="276480" cy="21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7" h="841">
                        <a:moveTo>
                          <a:pt x="30" y="0"/>
                        </a:moveTo>
                        <a:lnTo>
                          <a:pt x="13" y="30"/>
                        </a:lnTo>
                        <a:lnTo>
                          <a:pt x="0" y="60"/>
                        </a:lnTo>
                        <a:lnTo>
                          <a:pt x="12" y="130"/>
                        </a:lnTo>
                        <a:lnTo>
                          <a:pt x="20" y="164"/>
                        </a:lnTo>
                        <a:lnTo>
                          <a:pt x="32" y="200"/>
                        </a:lnTo>
                        <a:lnTo>
                          <a:pt x="42" y="232"/>
                        </a:lnTo>
                        <a:lnTo>
                          <a:pt x="55" y="266"/>
                        </a:lnTo>
                        <a:lnTo>
                          <a:pt x="69" y="298"/>
                        </a:lnTo>
                        <a:lnTo>
                          <a:pt x="86" y="331"/>
                        </a:lnTo>
                        <a:lnTo>
                          <a:pt x="102" y="362"/>
                        </a:lnTo>
                        <a:lnTo>
                          <a:pt x="121" y="393"/>
                        </a:lnTo>
                        <a:lnTo>
                          <a:pt x="140" y="423"/>
                        </a:lnTo>
                        <a:lnTo>
                          <a:pt x="162" y="454"/>
                        </a:lnTo>
                        <a:lnTo>
                          <a:pt x="184" y="482"/>
                        </a:lnTo>
                        <a:lnTo>
                          <a:pt x="208" y="511"/>
                        </a:lnTo>
                        <a:lnTo>
                          <a:pt x="262" y="568"/>
                        </a:lnTo>
                        <a:lnTo>
                          <a:pt x="296" y="601"/>
                        </a:lnTo>
                        <a:lnTo>
                          <a:pt x="331" y="631"/>
                        </a:lnTo>
                        <a:lnTo>
                          <a:pt x="367" y="660"/>
                        </a:lnTo>
                        <a:lnTo>
                          <a:pt x="405" y="687"/>
                        </a:lnTo>
                        <a:lnTo>
                          <a:pt x="442" y="711"/>
                        </a:lnTo>
                        <a:lnTo>
                          <a:pt x="481" y="733"/>
                        </a:lnTo>
                        <a:lnTo>
                          <a:pt x="520" y="753"/>
                        </a:lnTo>
                        <a:lnTo>
                          <a:pt x="562" y="772"/>
                        </a:lnTo>
                        <a:lnTo>
                          <a:pt x="603" y="787"/>
                        </a:lnTo>
                        <a:lnTo>
                          <a:pt x="646" y="801"/>
                        </a:lnTo>
                        <a:lnTo>
                          <a:pt x="689" y="813"/>
                        </a:lnTo>
                        <a:lnTo>
                          <a:pt x="735" y="823"/>
                        </a:lnTo>
                        <a:lnTo>
                          <a:pt x="779" y="831"/>
                        </a:lnTo>
                        <a:lnTo>
                          <a:pt x="825" y="837"/>
                        </a:lnTo>
                        <a:lnTo>
                          <a:pt x="873" y="840"/>
                        </a:lnTo>
                        <a:lnTo>
                          <a:pt x="922" y="841"/>
                        </a:lnTo>
                        <a:lnTo>
                          <a:pt x="951" y="840"/>
                        </a:lnTo>
                        <a:lnTo>
                          <a:pt x="958" y="839"/>
                        </a:lnTo>
                        <a:lnTo>
                          <a:pt x="966" y="839"/>
                        </a:lnTo>
                        <a:lnTo>
                          <a:pt x="982" y="839"/>
                        </a:lnTo>
                        <a:lnTo>
                          <a:pt x="1041" y="834"/>
                        </a:lnTo>
                        <a:lnTo>
                          <a:pt x="1077" y="800"/>
                        </a:lnTo>
                        <a:lnTo>
                          <a:pt x="1087" y="790"/>
                        </a:lnTo>
                        <a:lnTo>
                          <a:pt x="1047" y="796"/>
                        </a:lnTo>
                        <a:lnTo>
                          <a:pt x="1006" y="800"/>
                        </a:lnTo>
                        <a:lnTo>
                          <a:pt x="964" y="803"/>
                        </a:lnTo>
                        <a:lnTo>
                          <a:pt x="942" y="803"/>
                        </a:lnTo>
                        <a:lnTo>
                          <a:pt x="922" y="804"/>
                        </a:lnTo>
                        <a:lnTo>
                          <a:pt x="875" y="803"/>
                        </a:lnTo>
                        <a:lnTo>
                          <a:pt x="830" y="799"/>
                        </a:lnTo>
                        <a:lnTo>
                          <a:pt x="786" y="794"/>
                        </a:lnTo>
                        <a:lnTo>
                          <a:pt x="743" y="787"/>
                        </a:lnTo>
                        <a:lnTo>
                          <a:pt x="700" y="777"/>
                        </a:lnTo>
                        <a:lnTo>
                          <a:pt x="658" y="766"/>
                        </a:lnTo>
                        <a:lnTo>
                          <a:pt x="617" y="753"/>
                        </a:lnTo>
                        <a:lnTo>
                          <a:pt x="577" y="738"/>
                        </a:lnTo>
                        <a:lnTo>
                          <a:pt x="537" y="720"/>
                        </a:lnTo>
                        <a:lnTo>
                          <a:pt x="499" y="701"/>
                        </a:lnTo>
                        <a:lnTo>
                          <a:pt x="461" y="679"/>
                        </a:lnTo>
                        <a:lnTo>
                          <a:pt x="425" y="655"/>
                        </a:lnTo>
                        <a:lnTo>
                          <a:pt x="389" y="629"/>
                        </a:lnTo>
                        <a:lnTo>
                          <a:pt x="355" y="602"/>
                        </a:lnTo>
                        <a:lnTo>
                          <a:pt x="321" y="573"/>
                        </a:lnTo>
                        <a:lnTo>
                          <a:pt x="288" y="542"/>
                        </a:lnTo>
                        <a:lnTo>
                          <a:pt x="258" y="511"/>
                        </a:lnTo>
                        <a:lnTo>
                          <a:pt x="232" y="482"/>
                        </a:lnTo>
                        <a:lnTo>
                          <a:pt x="207" y="451"/>
                        </a:lnTo>
                        <a:lnTo>
                          <a:pt x="185" y="421"/>
                        </a:lnTo>
                        <a:lnTo>
                          <a:pt x="162" y="388"/>
                        </a:lnTo>
                        <a:lnTo>
                          <a:pt x="143" y="356"/>
                        </a:lnTo>
                        <a:lnTo>
                          <a:pt x="125" y="323"/>
                        </a:lnTo>
                        <a:lnTo>
                          <a:pt x="109" y="290"/>
                        </a:lnTo>
                        <a:lnTo>
                          <a:pt x="92" y="255"/>
                        </a:lnTo>
                        <a:lnTo>
                          <a:pt x="78" y="221"/>
                        </a:lnTo>
                        <a:lnTo>
                          <a:pt x="66" y="185"/>
                        </a:lnTo>
                        <a:lnTo>
                          <a:pt x="57" y="150"/>
                        </a:lnTo>
                        <a:lnTo>
                          <a:pt x="46" y="112"/>
                        </a:lnTo>
                        <a:lnTo>
                          <a:pt x="40" y="76"/>
                        </a:lnTo>
                        <a:lnTo>
                          <a:pt x="34" y="38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683040" y="3729600"/>
                    <a:ext cx="27900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855">
                        <a:moveTo>
                          <a:pt x="34" y="0"/>
                        </a:moveTo>
                        <a:lnTo>
                          <a:pt x="15" y="25"/>
                        </a:lnTo>
                        <a:lnTo>
                          <a:pt x="0" y="51"/>
                        </a:lnTo>
                        <a:lnTo>
                          <a:pt x="4" y="89"/>
                        </a:lnTo>
                        <a:lnTo>
                          <a:pt x="10" y="127"/>
                        </a:lnTo>
                        <a:lnTo>
                          <a:pt x="16" y="163"/>
                        </a:lnTo>
                        <a:lnTo>
                          <a:pt x="27" y="201"/>
                        </a:lnTo>
                        <a:lnTo>
                          <a:pt x="36" y="236"/>
                        </a:lnTo>
                        <a:lnTo>
                          <a:pt x="48" y="272"/>
                        </a:lnTo>
                        <a:lnTo>
                          <a:pt x="62" y="306"/>
                        </a:lnTo>
                        <a:lnTo>
                          <a:pt x="79" y="341"/>
                        </a:lnTo>
                        <a:lnTo>
                          <a:pt x="95" y="374"/>
                        </a:lnTo>
                        <a:lnTo>
                          <a:pt x="113" y="407"/>
                        </a:lnTo>
                        <a:lnTo>
                          <a:pt x="132" y="439"/>
                        </a:lnTo>
                        <a:lnTo>
                          <a:pt x="155" y="472"/>
                        </a:lnTo>
                        <a:lnTo>
                          <a:pt x="177" y="502"/>
                        </a:lnTo>
                        <a:lnTo>
                          <a:pt x="202" y="533"/>
                        </a:lnTo>
                        <a:lnTo>
                          <a:pt x="228" y="562"/>
                        </a:lnTo>
                        <a:lnTo>
                          <a:pt x="258" y="593"/>
                        </a:lnTo>
                        <a:lnTo>
                          <a:pt x="291" y="624"/>
                        </a:lnTo>
                        <a:lnTo>
                          <a:pt x="325" y="653"/>
                        </a:lnTo>
                        <a:lnTo>
                          <a:pt x="359" y="680"/>
                        </a:lnTo>
                        <a:lnTo>
                          <a:pt x="395" y="706"/>
                        </a:lnTo>
                        <a:lnTo>
                          <a:pt x="431" y="730"/>
                        </a:lnTo>
                        <a:lnTo>
                          <a:pt x="469" y="752"/>
                        </a:lnTo>
                        <a:lnTo>
                          <a:pt x="507" y="771"/>
                        </a:lnTo>
                        <a:lnTo>
                          <a:pt x="547" y="789"/>
                        </a:lnTo>
                        <a:lnTo>
                          <a:pt x="587" y="804"/>
                        </a:lnTo>
                        <a:lnTo>
                          <a:pt x="628" y="817"/>
                        </a:lnTo>
                        <a:lnTo>
                          <a:pt x="670" y="828"/>
                        </a:lnTo>
                        <a:lnTo>
                          <a:pt x="713" y="838"/>
                        </a:lnTo>
                        <a:lnTo>
                          <a:pt x="756" y="845"/>
                        </a:lnTo>
                        <a:lnTo>
                          <a:pt x="800" y="850"/>
                        </a:lnTo>
                        <a:lnTo>
                          <a:pt x="845" y="854"/>
                        </a:lnTo>
                        <a:lnTo>
                          <a:pt x="892" y="855"/>
                        </a:lnTo>
                        <a:lnTo>
                          <a:pt x="912" y="854"/>
                        </a:lnTo>
                        <a:lnTo>
                          <a:pt x="934" y="854"/>
                        </a:lnTo>
                        <a:lnTo>
                          <a:pt x="976" y="851"/>
                        </a:lnTo>
                        <a:lnTo>
                          <a:pt x="1017" y="847"/>
                        </a:lnTo>
                        <a:lnTo>
                          <a:pt x="1057" y="841"/>
                        </a:lnTo>
                        <a:lnTo>
                          <a:pt x="1078" y="817"/>
                        </a:lnTo>
                        <a:lnTo>
                          <a:pt x="1098" y="795"/>
                        </a:lnTo>
                        <a:lnTo>
                          <a:pt x="1072" y="799"/>
                        </a:lnTo>
                        <a:lnTo>
                          <a:pt x="1047" y="804"/>
                        </a:lnTo>
                        <a:lnTo>
                          <a:pt x="1034" y="805"/>
                        </a:lnTo>
                        <a:lnTo>
                          <a:pt x="1021" y="807"/>
                        </a:lnTo>
                        <a:lnTo>
                          <a:pt x="996" y="812"/>
                        </a:lnTo>
                        <a:lnTo>
                          <a:pt x="944" y="815"/>
                        </a:lnTo>
                        <a:lnTo>
                          <a:pt x="892" y="817"/>
                        </a:lnTo>
                        <a:lnTo>
                          <a:pt x="846" y="816"/>
                        </a:lnTo>
                        <a:lnTo>
                          <a:pt x="803" y="813"/>
                        </a:lnTo>
                        <a:lnTo>
                          <a:pt x="760" y="807"/>
                        </a:lnTo>
                        <a:lnTo>
                          <a:pt x="719" y="801"/>
                        </a:lnTo>
                        <a:lnTo>
                          <a:pt x="679" y="791"/>
                        </a:lnTo>
                        <a:lnTo>
                          <a:pt x="639" y="781"/>
                        </a:lnTo>
                        <a:lnTo>
                          <a:pt x="599" y="769"/>
                        </a:lnTo>
                        <a:lnTo>
                          <a:pt x="562" y="754"/>
                        </a:lnTo>
                        <a:lnTo>
                          <a:pt x="523" y="737"/>
                        </a:lnTo>
                        <a:lnTo>
                          <a:pt x="487" y="718"/>
                        </a:lnTo>
                        <a:lnTo>
                          <a:pt x="451" y="696"/>
                        </a:lnTo>
                        <a:lnTo>
                          <a:pt x="416" y="675"/>
                        </a:lnTo>
                        <a:lnTo>
                          <a:pt x="380" y="650"/>
                        </a:lnTo>
                        <a:lnTo>
                          <a:pt x="347" y="624"/>
                        </a:lnTo>
                        <a:lnTo>
                          <a:pt x="315" y="595"/>
                        </a:lnTo>
                        <a:lnTo>
                          <a:pt x="284" y="566"/>
                        </a:lnTo>
                        <a:lnTo>
                          <a:pt x="254" y="534"/>
                        </a:lnTo>
                        <a:lnTo>
                          <a:pt x="228" y="503"/>
                        </a:lnTo>
                        <a:lnTo>
                          <a:pt x="202" y="472"/>
                        </a:lnTo>
                        <a:lnTo>
                          <a:pt x="180" y="440"/>
                        </a:lnTo>
                        <a:lnTo>
                          <a:pt x="157" y="406"/>
                        </a:lnTo>
                        <a:lnTo>
                          <a:pt x="138" y="373"/>
                        </a:lnTo>
                        <a:lnTo>
                          <a:pt x="118" y="339"/>
                        </a:lnTo>
                        <a:lnTo>
                          <a:pt x="104" y="305"/>
                        </a:lnTo>
                        <a:lnTo>
                          <a:pt x="88" y="269"/>
                        </a:lnTo>
                        <a:lnTo>
                          <a:pt x="75" y="232"/>
                        </a:lnTo>
                        <a:lnTo>
                          <a:pt x="63" y="195"/>
                        </a:lnTo>
                        <a:lnTo>
                          <a:pt x="55" y="158"/>
                        </a:lnTo>
                        <a:lnTo>
                          <a:pt x="46" y="118"/>
                        </a:lnTo>
                        <a:lnTo>
                          <a:pt x="40" y="79"/>
                        </a:lnTo>
                        <a:lnTo>
                          <a:pt x="36" y="40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00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677640" y="3899880"/>
                    <a:ext cx="1213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365">
                        <a:moveTo>
                          <a:pt x="95" y="107"/>
                        </a:moveTo>
                        <a:lnTo>
                          <a:pt x="69" y="79"/>
                        </a:lnTo>
                        <a:lnTo>
                          <a:pt x="45" y="53"/>
                        </a:lnTo>
                        <a:lnTo>
                          <a:pt x="21" y="26"/>
                        </a:lnTo>
                        <a:lnTo>
                          <a:pt x="0" y="0"/>
                        </a:lnTo>
                        <a:lnTo>
                          <a:pt x="11" y="23"/>
                        </a:lnTo>
                        <a:lnTo>
                          <a:pt x="25" y="47"/>
                        </a:lnTo>
                        <a:lnTo>
                          <a:pt x="55" y="93"/>
                        </a:lnTo>
                        <a:lnTo>
                          <a:pt x="71" y="115"/>
                        </a:lnTo>
                        <a:lnTo>
                          <a:pt x="89" y="137"/>
                        </a:lnTo>
                        <a:lnTo>
                          <a:pt x="130" y="180"/>
                        </a:lnTo>
                        <a:lnTo>
                          <a:pt x="168" y="215"/>
                        </a:lnTo>
                        <a:lnTo>
                          <a:pt x="207" y="247"/>
                        </a:lnTo>
                        <a:lnTo>
                          <a:pt x="248" y="276"/>
                        </a:lnTo>
                        <a:lnTo>
                          <a:pt x="292" y="300"/>
                        </a:lnTo>
                        <a:lnTo>
                          <a:pt x="335" y="321"/>
                        </a:lnTo>
                        <a:lnTo>
                          <a:pt x="382" y="339"/>
                        </a:lnTo>
                        <a:lnTo>
                          <a:pt x="428" y="354"/>
                        </a:lnTo>
                        <a:lnTo>
                          <a:pt x="478" y="365"/>
                        </a:lnTo>
                        <a:lnTo>
                          <a:pt x="425" y="341"/>
                        </a:lnTo>
                        <a:lnTo>
                          <a:pt x="374" y="316"/>
                        </a:lnTo>
                        <a:lnTo>
                          <a:pt x="324" y="288"/>
                        </a:lnTo>
                        <a:lnTo>
                          <a:pt x="276" y="257"/>
                        </a:lnTo>
                        <a:lnTo>
                          <a:pt x="229" y="222"/>
                        </a:lnTo>
                        <a:lnTo>
                          <a:pt x="183" y="187"/>
                        </a:lnTo>
                        <a:lnTo>
                          <a:pt x="138" y="147"/>
                        </a:lnTo>
                        <a:lnTo>
                          <a:pt x="95" y="107"/>
                        </a:lnTo>
                        <a:close/>
                      </a:path>
                    </a:pathLst>
                  </a:custGeom>
                  <a:solidFill>
                    <a:srgbClr val="006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665760" y="3867120"/>
                    <a:ext cx="171720" cy="12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504">
                        <a:moveTo>
                          <a:pt x="47" y="130"/>
                        </a:moveTo>
                        <a:lnTo>
                          <a:pt x="68" y="156"/>
                        </a:lnTo>
                        <a:lnTo>
                          <a:pt x="92" y="183"/>
                        </a:lnTo>
                        <a:lnTo>
                          <a:pt x="116" y="209"/>
                        </a:lnTo>
                        <a:lnTo>
                          <a:pt x="142" y="237"/>
                        </a:lnTo>
                        <a:lnTo>
                          <a:pt x="185" y="277"/>
                        </a:lnTo>
                        <a:lnTo>
                          <a:pt x="230" y="317"/>
                        </a:lnTo>
                        <a:lnTo>
                          <a:pt x="276" y="352"/>
                        </a:lnTo>
                        <a:lnTo>
                          <a:pt x="323" y="387"/>
                        </a:lnTo>
                        <a:lnTo>
                          <a:pt x="371" y="418"/>
                        </a:lnTo>
                        <a:lnTo>
                          <a:pt x="421" y="446"/>
                        </a:lnTo>
                        <a:lnTo>
                          <a:pt x="472" y="471"/>
                        </a:lnTo>
                        <a:lnTo>
                          <a:pt x="525" y="495"/>
                        </a:lnTo>
                        <a:lnTo>
                          <a:pt x="584" y="502"/>
                        </a:lnTo>
                        <a:lnTo>
                          <a:pt x="647" y="504"/>
                        </a:lnTo>
                        <a:lnTo>
                          <a:pt x="677" y="504"/>
                        </a:lnTo>
                        <a:lnTo>
                          <a:pt x="641" y="494"/>
                        </a:lnTo>
                        <a:lnTo>
                          <a:pt x="606" y="483"/>
                        </a:lnTo>
                        <a:lnTo>
                          <a:pt x="538" y="458"/>
                        </a:lnTo>
                        <a:lnTo>
                          <a:pt x="471" y="428"/>
                        </a:lnTo>
                        <a:lnTo>
                          <a:pt x="406" y="394"/>
                        </a:lnTo>
                        <a:lnTo>
                          <a:pt x="343" y="353"/>
                        </a:lnTo>
                        <a:lnTo>
                          <a:pt x="283" y="310"/>
                        </a:lnTo>
                        <a:lnTo>
                          <a:pt x="253" y="287"/>
                        </a:lnTo>
                        <a:lnTo>
                          <a:pt x="224" y="262"/>
                        </a:lnTo>
                        <a:lnTo>
                          <a:pt x="168" y="209"/>
                        </a:lnTo>
                        <a:lnTo>
                          <a:pt x="119" y="158"/>
                        </a:lnTo>
                        <a:lnTo>
                          <a:pt x="97" y="132"/>
                        </a:lnTo>
                        <a:lnTo>
                          <a:pt x="76" y="107"/>
                        </a:lnTo>
                        <a:lnTo>
                          <a:pt x="55" y="80"/>
                        </a:lnTo>
                        <a:lnTo>
                          <a:pt x="35" y="54"/>
                        </a:lnTo>
                        <a:lnTo>
                          <a:pt x="0" y="0"/>
                        </a:lnTo>
                        <a:lnTo>
                          <a:pt x="8" y="33"/>
                        </a:lnTo>
                        <a:lnTo>
                          <a:pt x="20" y="66"/>
                        </a:lnTo>
                        <a:lnTo>
                          <a:pt x="32" y="97"/>
                        </a:lnTo>
                        <a:lnTo>
                          <a:pt x="47" y="130"/>
                        </a:lnTo>
                        <a:close/>
                      </a:path>
                    </a:pathLst>
                  </a:custGeom>
                  <a:solidFill>
                    <a:srgbClr val="00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661800" y="3840120"/>
                    <a:ext cx="20556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1" h="610">
                        <a:moveTo>
                          <a:pt x="16" y="106"/>
                        </a:moveTo>
                        <a:lnTo>
                          <a:pt x="51" y="160"/>
                        </a:lnTo>
                        <a:lnTo>
                          <a:pt x="71" y="186"/>
                        </a:lnTo>
                        <a:lnTo>
                          <a:pt x="92" y="213"/>
                        </a:lnTo>
                        <a:lnTo>
                          <a:pt x="113" y="238"/>
                        </a:lnTo>
                        <a:lnTo>
                          <a:pt x="135" y="264"/>
                        </a:lnTo>
                        <a:lnTo>
                          <a:pt x="184" y="315"/>
                        </a:lnTo>
                        <a:lnTo>
                          <a:pt x="240" y="368"/>
                        </a:lnTo>
                        <a:lnTo>
                          <a:pt x="269" y="393"/>
                        </a:lnTo>
                        <a:lnTo>
                          <a:pt x="299" y="416"/>
                        </a:lnTo>
                        <a:lnTo>
                          <a:pt x="359" y="459"/>
                        </a:lnTo>
                        <a:lnTo>
                          <a:pt x="422" y="500"/>
                        </a:lnTo>
                        <a:lnTo>
                          <a:pt x="487" y="534"/>
                        </a:lnTo>
                        <a:lnTo>
                          <a:pt x="554" y="564"/>
                        </a:lnTo>
                        <a:lnTo>
                          <a:pt x="622" y="589"/>
                        </a:lnTo>
                        <a:lnTo>
                          <a:pt x="657" y="600"/>
                        </a:lnTo>
                        <a:lnTo>
                          <a:pt x="693" y="610"/>
                        </a:lnTo>
                        <a:lnTo>
                          <a:pt x="723" y="608"/>
                        </a:lnTo>
                        <a:lnTo>
                          <a:pt x="738" y="606"/>
                        </a:lnTo>
                        <a:lnTo>
                          <a:pt x="753" y="605"/>
                        </a:lnTo>
                        <a:lnTo>
                          <a:pt x="782" y="600"/>
                        </a:lnTo>
                        <a:lnTo>
                          <a:pt x="811" y="595"/>
                        </a:lnTo>
                        <a:lnTo>
                          <a:pt x="768" y="588"/>
                        </a:lnTo>
                        <a:lnTo>
                          <a:pt x="726" y="578"/>
                        </a:lnTo>
                        <a:lnTo>
                          <a:pt x="684" y="568"/>
                        </a:lnTo>
                        <a:lnTo>
                          <a:pt x="645" y="557"/>
                        </a:lnTo>
                        <a:lnTo>
                          <a:pt x="604" y="543"/>
                        </a:lnTo>
                        <a:lnTo>
                          <a:pt x="565" y="529"/>
                        </a:lnTo>
                        <a:lnTo>
                          <a:pt x="527" y="512"/>
                        </a:lnTo>
                        <a:lnTo>
                          <a:pt x="489" y="493"/>
                        </a:lnTo>
                        <a:lnTo>
                          <a:pt x="452" y="473"/>
                        </a:lnTo>
                        <a:lnTo>
                          <a:pt x="415" y="451"/>
                        </a:lnTo>
                        <a:lnTo>
                          <a:pt x="344" y="404"/>
                        </a:lnTo>
                        <a:lnTo>
                          <a:pt x="309" y="377"/>
                        </a:lnTo>
                        <a:lnTo>
                          <a:pt x="276" y="349"/>
                        </a:lnTo>
                        <a:lnTo>
                          <a:pt x="243" y="320"/>
                        </a:lnTo>
                        <a:lnTo>
                          <a:pt x="211" y="289"/>
                        </a:lnTo>
                        <a:lnTo>
                          <a:pt x="177" y="254"/>
                        </a:lnTo>
                        <a:lnTo>
                          <a:pt x="147" y="220"/>
                        </a:lnTo>
                        <a:lnTo>
                          <a:pt x="117" y="185"/>
                        </a:lnTo>
                        <a:lnTo>
                          <a:pt x="91" y="150"/>
                        </a:lnTo>
                        <a:lnTo>
                          <a:pt x="65" y="113"/>
                        </a:lnTo>
                        <a:lnTo>
                          <a:pt x="42" y="76"/>
                        </a:lnTo>
                        <a:lnTo>
                          <a:pt x="20" y="38"/>
                        </a:lnTo>
                        <a:lnTo>
                          <a:pt x="0" y="0"/>
                        </a:lnTo>
                        <a:lnTo>
                          <a:pt x="6" y="53"/>
                        </a:lnTo>
                        <a:lnTo>
                          <a:pt x="16" y="106"/>
                        </a:lnTo>
                        <a:close/>
                      </a:path>
                    </a:pathLst>
                  </a:custGeom>
                  <a:solidFill>
                    <a:srgbClr val="006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661440" y="3657600"/>
                    <a:ext cx="337320" cy="33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8" h="1327">
                        <a:moveTo>
                          <a:pt x="664" y="0"/>
                        </a:moveTo>
                        <a:lnTo>
                          <a:pt x="629" y="0"/>
                        </a:lnTo>
                        <a:lnTo>
                          <a:pt x="596" y="2"/>
                        </a:lnTo>
                        <a:lnTo>
                          <a:pt x="531" y="11"/>
                        </a:lnTo>
                        <a:lnTo>
                          <a:pt x="469" y="26"/>
                        </a:lnTo>
                        <a:lnTo>
                          <a:pt x="409" y="47"/>
                        </a:lnTo>
                        <a:lnTo>
                          <a:pt x="351" y="74"/>
                        </a:lnTo>
                        <a:lnTo>
                          <a:pt x="322" y="89"/>
                        </a:lnTo>
                        <a:lnTo>
                          <a:pt x="296" y="108"/>
                        </a:lnTo>
                        <a:lnTo>
                          <a:pt x="243" y="147"/>
                        </a:lnTo>
                        <a:lnTo>
                          <a:pt x="194" y="194"/>
                        </a:lnTo>
                        <a:lnTo>
                          <a:pt x="148" y="242"/>
                        </a:lnTo>
                        <a:lnTo>
                          <a:pt x="108" y="296"/>
                        </a:lnTo>
                        <a:lnTo>
                          <a:pt x="90" y="322"/>
                        </a:lnTo>
                        <a:lnTo>
                          <a:pt x="74" y="350"/>
                        </a:lnTo>
                        <a:lnTo>
                          <a:pt x="48" y="408"/>
                        </a:lnTo>
                        <a:lnTo>
                          <a:pt x="26" y="468"/>
                        </a:lnTo>
                        <a:lnTo>
                          <a:pt x="12" y="530"/>
                        </a:lnTo>
                        <a:lnTo>
                          <a:pt x="3" y="595"/>
                        </a:lnTo>
                        <a:lnTo>
                          <a:pt x="0" y="628"/>
                        </a:lnTo>
                        <a:lnTo>
                          <a:pt x="0" y="663"/>
                        </a:lnTo>
                        <a:lnTo>
                          <a:pt x="0" y="696"/>
                        </a:lnTo>
                        <a:lnTo>
                          <a:pt x="3" y="730"/>
                        </a:lnTo>
                        <a:lnTo>
                          <a:pt x="6" y="762"/>
                        </a:lnTo>
                        <a:lnTo>
                          <a:pt x="12" y="794"/>
                        </a:lnTo>
                        <a:lnTo>
                          <a:pt x="17" y="825"/>
                        </a:lnTo>
                        <a:lnTo>
                          <a:pt x="26" y="857"/>
                        </a:lnTo>
                        <a:lnTo>
                          <a:pt x="35" y="887"/>
                        </a:lnTo>
                        <a:lnTo>
                          <a:pt x="48" y="918"/>
                        </a:lnTo>
                        <a:lnTo>
                          <a:pt x="59" y="946"/>
                        </a:lnTo>
                        <a:lnTo>
                          <a:pt x="74" y="975"/>
                        </a:lnTo>
                        <a:lnTo>
                          <a:pt x="90" y="1002"/>
                        </a:lnTo>
                        <a:lnTo>
                          <a:pt x="108" y="1030"/>
                        </a:lnTo>
                        <a:lnTo>
                          <a:pt x="126" y="1056"/>
                        </a:lnTo>
                        <a:lnTo>
                          <a:pt x="148" y="1082"/>
                        </a:lnTo>
                        <a:lnTo>
                          <a:pt x="169" y="1107"/>
                        </a:lnTo>
                        <a:lnTo>
                          <a:pt x="194" y="1133"/>
                        </a:lnTo>
                        <a:lnTo>
                          <a:pt x="218" y="1156"/>
                        </a:lnTo>
                        <a:lnTo>
                          <a:pt x="243" y="1178"/>
                        </a:lnTo>
                        <a:lnTo>
                          <a:pt x="269" y="1198"/>
                        </a:lnTo>
                        <a:lnTo>
                          <a:pt x="296" y="1217"/>
                        </a:lnTo>
                        <a:lnTo>
                          <a:pt x="322" y="1234"/>
                        </a:lnTo>
                        <a:lnTo>
                          <a:pt x="351" y="1250"/>
                        </a:lnTo>
                        <a:lnTo>
                          <a:pt x="379" y="1265"/>
                        </a:lnTo>
                        <a:lnTo>
                          <a:pt x="409" y="1278"/>
                        </a:lnTo>
                        <a:lnTo>
                          <a:pt x="469" y="1299"/>
                        </a:lnTo>
                        <a:lnTo>
                          <a:pt x="531" y="1315"/>
                        </a:lnTo>
                        <a:lnTo>
                          <a:pt x="596" y="1324"/>
                        </a:lnTo>
                        <a:lnTo>
                          <a:pt x="629" y="1326"/>
                        </a:lnTo>
                        <a:lnTo>
                          <a:pt x="664" y="1327"/>
                        </a:lnTo>
                        <a:lnTo>
                          <a:pt x="680" y="1326"/>
                        </a:lnTo>
                        <a:lnTo>
                          <a:pt x="697" y="1326"/>
                        </a:lnTo>
                        <a:lnTo>
                          <a:pt x="731" y="1324"/>
                        </a:lnTo>
                        <a:lnTo>
                          <a:pt x="762" y="1319"/>
                        </a:lnTo>
                        <a:lnTo>
                          <a:pt x="795" y="1315"/>
                        </a:lnTo>
                        <a:lnTo>
                          <a:pt x="810" y="1310"/>
                        </a:lnTo>
                        <a:lnTo>
                          <a:pt x="826" y="1307"/>
                        </a:lnTo>
                        <a:lnTo>
                          <a:pt x="858" y="1299"/>
                        </a:lnTo>
                        <a:lnTo>
                          <a:pt x="887" y="1289"/>
                        </a:lnTo>
                        <a:lnTo>
                          <a:pt x="894" y="1285"/>
                        </a:lnTo>
                        <a:lnTo>
                          <a:pt x="902" y="1283"/>
                        </a:lnTo>
                        <a:lnTo>
                          <a:pt x="918" y="1278"/>
                        </a:lnTo>
                        <a:lnTo>
                          <a:pt x="946" y="1265"/>
                        </a:lnTo>
                        <a:lnTo>
                          <a:pt x="960" y="1257"/>
                        </a:lnTo>
                        <a:lnTo>
                          <a:pt x="974" y="1250"/>
                        </a:lnTo>
                        <a:lnTo>
                          <a:pt x="1002" y="1234"/>
                        </a:lnTo>
                        <a:lnTo>
                          <a:pt x="1015" y="1225"/>
                        </a:lnTo>
                        <a:lnTo>
                          <a:pt x="1022" y="1221"/>
                        </a:lnTo>
                        <a:lnTo>
                          <a:pt x="1025" y="1218"/>
                        </a:lnTo>
                        <a:lnTo>
                          <a:pt x="1030" y="1217"/>
                        </a:lnTo>
                        <a:lnTo>
                          <a:pt x="1032" y="1214"/>
                        </a:lnTo>
                        <a:lnTo>
                          <a:pt x="1036" y="1212"/>
                        </a:lnTo>
                        <a:lnTo>
                          <a:pt x="1042" y="1207"/>
                        </a:lnTo>
                        <a:lnTo>
                          <a:pt x="1056" y="1198"/>
                        </a:lnTo>
                        <a:lnTo>
                          <a:pt x="1082" y="1178"/>
                        </a:lnTo>
                        <a:lnTo>
                          <a:pt x="1107" y="1156"/>
                        </a:lnTo>
                        <a:lnTo>
                          <a:pt x="1133" y="1133"/>
                        </a:lnTo>
                        <a:lnTo>
                          <a:pt x="1156" y="1107"/>
                        </a:lnTo>
                        <a:lnTo>
                          <a:pt x="1179" y="1082"/>
                        </a:lnTo>
                        <a:lnTo>
                          <a:pt x="1199" y="1056"/>
                        </a:lnTo>
                        <a:lnTo>
                          <a:pt x="1208" y="1043"/>
                        </a:lnTo>
                        <a:lnTo>
                          <a:pt x="1213" y="1036"/>
                        </a:lnTo>
                        <a:lnTo>
                          <a:pt x="1215" y="1032"/>
                        </a:lnTo>
                        <a:lnTo>
                          <a:pt x="1218" y="1030"/>
                        </a:lnTo>
                        <a:lnTo>
                          <a:pt x="1219" y="1026"/>
                        </a:lnTo>
                        <a:lnTo>
                          <a:pt x="1222" y="1022"/>
                        </a:lnTo>
                        <a:lnTo>
                          <a:pt x="1226" y="1015"/>
                        </a:lnTo>
                        <a:lnTo>
                          <a:pt x="1235" y="1002"/>
                        </a:lnTo>
                        <a:lnTo>
                          <a:pt x="1251" y="975"/>
                        </a:lnTo>
                        <a:lnTo>
                          <a:pt x="1258" y="960"/>
                        </a:lnTo>
                        <a:lnTo>
                          <a:pt x="1266" y="946"/>
                        </a:lnTo>
                        <a:lnTo>
                          <a:pt x="1279" y="918"/>
                        </a:lnTo>
                        <a:lnTo>
                          <a:pt x="1284" y="902"/>
                        </a:lnTo>
                        <a:lnTo>
                          <a:pt x="1286" y="894"/>
                        </a:lnTo>
                        <a:lnTo>
                          <a:pt x="1290" y="887"/>
                        </a:lnTo>
                        <a:lnTo>
                          <a:pt x="1294" y="872"/>
                        </a:lnTo>
                        <a:lnTo>
                          <a:pt x="1296" y="864"/>
                        </a:lnTo>
                        <a:lnTo>
                          <a:pt x="1300" y="857"/>
                        </a:lnTo>
                        <a:lnTo>
                          <a:pt x="1308" y="825"/>
                        </a:lnTo>
                        <a:lnTo>
                          <a:pt x="1311" y="809"/>
                        </a:lnTo>
                        <a:lnTo>
                          <a:pt x="1316" y="794"/>
                        </a:lnTo>
                        <a:lnTo>
                          <a:pt x="1320" y="762"/>
                        </a:lnTo>
                        <a:lnTo>
                          <a:pt x="1325" y="730"/>
                        </a:lnTo>
                        <a:lnTo>
                          <a:pt x="1327" y="696"/>
                        </a:lnTo>
                        <a:lnTo>
                          <a:pt x="1327" y="679"/>
                        </a:lnTo>
                        <a:lnTo>
                          <a:pt x="1328" y="663"/>
                        </a:lnTo>
                        <a:lnTo>
                          <a:pt x="1327" y="628"/>
                        </a:lnTo>
                        <a:lnTo>
                          <a:pt x="1325" y="595"/>
                        </a:lnTo>
                        <a:lnTo>
                          <a:pt x="1316" y="530"/>
                        </a:lnTo>
                        <a:lnTo>
                          <a:pt x="1300" y="468"/>
                        </a:lnTo>
                        <a:lnTo>
                          <a:pt x="1279" y="408"/>
                        </a:lnTo>
                        <a:lnTo>
                          <a:pt x="1266" y="378"/>
                        </a:lnTo>
                        <a:lnTo>
                          <a:pt x="1251" y="350"/>
                        </a:lnTo>
                        <a:lnTo>
                          <a:pt x="1235" y="322"/>
                        </a:lnTo>
                        <a:lnTo>
                          <a:pt x="1218" y="296"/>
                        </a:lnTo>
                        <a:lnTo>
                          <a:pt x="1199" y="269"/>
                        </a:lnTo>
                        <a:lnTo>
                          <a:pt x="1179" y="242"/>
                        </a:lnTo>
                        <a:lnTo>
                          <a:pt x="1133" y="194"/>
                        </a:lnTo>
                        <a:lnTo>
                          <a:pt x="1107" y="169"/>
                        </a:lnTo>
                        <a:lnTo>
                          <a:pt x="1082" y="147"/>
                        </a:lnTo>
                        <a:lnTo>
                          <a:pt x="1056" y="126"/>
                        </a:lnTo>
                        <a:lnTo>
                          <a:pt x="1030" y="108"/>
                        </a:lnTo>
                        <a:lnTo>
                          <a:pt x="1002" y="89"/>
                        </a:lnTo>
                        <a:lnTo>
                          <a:pt x="974" y="74"/>
                        </a:lnTo>
                        <a:lnTo>
                          <a:pt x="946" y="59"/>
                        </a:lnTo>
                        <a:lnTo>
                          <a:pt x="918" y="47"/>
                        </a:lnTo>
                        <a:lnTo>
                          <a:pt x="887" y="35"/>
                        </a:lnTo>
                        <a:lnTo>
                          <a:pt x="858" y="26"/>
                        </a:lnTo>
                        <a:lnTo>
                          <a:pt x="826" y="17"/>
                        </a:lnTo>
                        <a:lnTo>
                          <a:pt x="795" y="11"/>
                        </a:lnTo>
                        <a:lnTo>
                          <a:pt x="762" y="6"/>
                        </a:lnTo>
                        <a:lnTo>
                          <a:pt x="731" y="2"/>
                        </a:lnTo>
                        <a:lnTo>
                          <a:pt x="697" y="0"/>
                        </a:lnTo>
                        <a:lnTo>
                          <a:pt x="66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751080" y="3810600"/>
                    <a:ext cx="155160" cy="38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756120" y="3815640"/>
                    <a:ext cx="145080" cy="288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795000" y="6193440"/>
                    <a:ext cx="14580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5" h="529">
                        <a:moveTo>
                          <a:pt x="115" y="45"/>
                        </a:moveTo>
                        <a:lnTo>
                          <a:pt x="134" y="26"/>
                        </a:lnTo>
                        <a:lnTo>
                          <a:pt x="158" y="11"/>
                        </a:lnTo>
                        <a:lnTo>
                          <a:pt x="108" y="0"/>
                        </a:lnTo>
                        <a:lnTo>
                          <a:pt x="88" y="19"/>
                        </a:lnTo>
                        <a:lnTo>
                          <a:pt x="66" y="41"/>
                        </a:lnTo>
                        <a:lnTo>
                          <a:pt x="48" y="65"/>
                        </a:lnTo>
                        <a:lnTo>
                          <a:pt x="33" y="89"/>
                        </a:lnTo>
                        <a:lnTo>
                          <a:pt x="22" y="115"/>
                        </a:lnTo>
                        <a:lnTo>
                          <a:pt x="12" y="141"/>
                        </a:lnTo>
                        <a:lnTo>
                          <a:pt x="5" y="169"/>
                        </a:lnTo>
                        <a:lnTo>
                          <a:pt x="1" y="199"/>
                        </a:lnTo>
                        <a:lnTo>
                          <a:pt x="0" y="230"/>
                        </a:lnTo>
                        <a:lnTo>
                          <a:pt x="1" y="260"/>
                        </a:lnTo>
                        <a:lnTo>
                          <a:pt x="5" y="289"/>
                        </a:lnTo>
                        <a:lnTo>
                          <a:pt x="7" y="303"/>
                        </a:lnTo>
                        <a:lnTo>
                          <a:pt x="12" y="318"/>
                        </a:lnTo>
                        <a:lnTo>
                          <a:pt x="22" y="345"/>
                        </a:lnTo>
                        <a:lnTo>
                          <a:pt x="33" y="370"/>
                        </a:lnTo>
                        <a:lnTo>
                          <a:pt x="48" y="395"/>
                        </a:lnTo>
                        <a:lnTo>
                          <a:pt x="56" y="406"/>
                        </a:lnTo>
                        <a:lnTo>
                          <a:pt x="66" y="418"/>
                        </a:lnTo>
                        <a:lnTo>
                          <a:pt x="88" y="442"/>
                        </a:lnTo>
                        <a:lnTo>
                          <a:pt x="109" y="461"/>
                        </a:lnTo>
                        <a:lnTo>
                          <a:pt x="133" y="480"/>
                        </a:lnTo>
                        <a:lnTo>
                          <a:pt x="157" y="494"/>
                        </a:lnTo>
                        <a:lnTo>
                          <a:pt x="183" y="507"/>
                        </a:lnTo>
                        <a:lnTo>
                          <a:pt x="209" y="516"/>
                        </a:lnTo>
                        <a:lnTo>
                          <a:pt x="237" y="524"/>
                        </a:lnTo>
                        <a:lnTo>
                          <a:pt x="267" y="527"/>
                        </a:lnTo>
                        <a:lnTo>
                          <a:pt x="299" y="529"/>
                        </a:lnTo>
                        <a:lnTo>
                          <a:pt x="328" y="527"/>
                        </a:lnTo>
                        <a:lnTo>
                          <a:pt x="358" y="524"/>
                        </a:lnTo>
                        <a:lnTo>
                          <a:pt x="371" y="519"/>
                        </a:lnTo>
                        <a:lnTo>
                          <a:pt x="378" y="517"/>
                        </a:lnTo>
                        <a:lnTo>
                          <a:pt x="379" y="516"/>
                        </a:lnTo>
                        <a:lnTo>
                          <a:pt x="381" y="516"/>
                        </a:lnTo>
                        <a:lnTo>
                          <a:pt x="386" y="516"/>
                        </a:lnTo>
                        <a:lnTo>
                          <a:pt x="413" y="507"/>
                        </a:lnTo>
                        <a:lnTo>
                          <a:pt x="438" y="494"/>
                        </a:lnTo>
                        <a:lnTo>
                          <a:pt x="463" y="480"/>
                        </a:lnTo>
                        <a:lnTo>
                          <a:pt x="474" y="471"/>
                        </a:lnTo>
                        <a:lnTo>
                          <a:pt x="487" y="461"/>
                        </a:lnTo>
                        <a:lnTo>
                          <a:pt x="498" y="451"/>
                        </a:lnTo>
                        <a:lnTo>
                          <a:pt x="511" y="442"/>
                        </a:lnTo>
                        <a:lnTo>
                          <a:pt x="530" y="420"/>
                        </a:lnTo>
                        <a:lnTo>
                          <a:pt x="548" y="397"/>
                        </a:lnTo>
                        <a:lnTo>
                          <a:pt x="563" y="372"/>
                        </a:lnTo>
                        <a:lnTo>
                          <a:pt x="575" y="347"/>
                        </a:lnTo>
                        <a:lnTo>
                          <a:pt x="563" y="324"/>
                        </a:lnTo>
                        <a:lnTo>
                          <a:pt x="550" y="304"/>
                        </a:lnTo>
                        <a:lnTo>
                          <a:pt x="539" y="333"/>
                        </a:lnTo>
                        <a:lnTo>
                          <a:pt x="531" y="347"/>
                        </a:lnTo>
                        <a:lnTo>
                          <a:pt x="524" y="362"/>
                        </a:lnTo>
                        <a:lnTo>
                          <a:pt x="506" y="389"/>
                        </a:lnTo>
                        <a:lnTo>
                          <a:pt x="495" y="401"/>
                        </a:lnTo>
                        <a:lnTo>
                          <a:pt x="483" y="415"/>
                        </a:lnTo>
                        <a:lnTo>
                          <a:pt x="463" y="432"/>
                        </a:lnTo>
                        <a:lnTo>
                          <a:pt x="443" y="448"/>
                        </a:lnTo>
                        <a:lnTo>
                          <a:pt x="420" y="460"/>
                        </a:lnTo>
                        <a:lnTo>
                          <a:pt x="409" y="466"/>
                        </a:lnTo>
                        <a:lnTo>
                          <a:pt x="398" y="473"/>
                        </a:lnTo>
                        <a:lnTo>
                          <a:pt x="392" y="474"/>
                        </a:lnTo>
                        <a:lnTo>
                          <a:pt x="386" y="476"/>
                        </a:lnTo>
                        <a:lnTo>
                          <a:pt x="375" y="481"/>
                        </a:lnTo>
                        <a:lnTo>
                          <a:pt x="362" y="483"/>
                        </a:lnTo>
                        <a:lnTo>
                          <a:pt x="351" y="486"/>
                        </a:lnTo>
                        <a:lnTo>
                          <a:pt x="337" y="488"/>
                        </a:lnTo>
                        <a:lnTo>
                          <a:pt x="325" y="490"/>
                        </a:lnTo>
                        <a:lnTo>
                          <a:pt x="311" y="491"/>
                        </a:lnTo>
                        <a:lnTo>
                          <a:pt x="304" y="491"/>
                        </a:lnTo>
                        <a:lnTo>
                          <a:pt x="301" y="491"/>
                        </a:lnTo>
                        <a:lnTo>
                          <a:pt x="299" y="492"/>
                        </a:lnTo>
                        <a:lnTo>
                          <a:pt x="271" y="490"/>
                        </a:lnTo>
                        <a:lnTo>
                          <a:pt x="245" y="486"/>
                        </a:lnTo>
                        <a:lnTo>
                          <a:pt x="220" y="481"/>
                        </a:lnTo>
                        <a:lnTo>
                          <a:pt x="198" y="473"/>
                        </a:lnTo>
                        <a:lnTo>
                          <a:pt x="175" y="460"/>
                        </a:lnTo>
                        <a:lnTo>
                          <a:pt x="153" y="448"/>
                        </a:lnTo>
                        <a:lnTo>
                          <a:pt x="133" y="432"/>
                        </a:lnTo>
                        <a:lnTo>
                          <a:pt x="115" y="415"/>
                        </a:lnTo>
                        <a:lnTo>
                          <a:pt x="96" y="395"/>
                        </a:lnTo>
                        <a:lnTo>
                          <a:pt x="81" y="374"/>
                        </a:lnTo>
                        <a:lnTo>
                          <a:pt x="67" y="352"/>
                        </a:lnTo>
                        <a:lnTo>
                          <a:pt x="57" y="330"/>
                        </a:lnTo>
                        <a:lnTo>
                          <a:pt x="51" y="318"/>
                        </a:lnTo>
                        <a:lnTo>
                          <a:pt x="48" y="306"/>
                        </a:lnTo>
                        <a:lnTo>
                          <a:pt x="42" y="282"/>
                        </a:lnTo>
                        <a:lnTo>
                          <a:pt x="39" y="256"/>
                        </a:lnTo>
                        <a:lnTo>
                          <a:pt x="38" y="230"/>
                        </a:lnTo>
                        <a:lnTo>
                          <a:pt x="39" y="203"/>
                        </a:lnTo>
                        <a:lnTo>
                          <a:pt x="42" y="177"/>
                        </a:lnTo>
                        <a:lnTo>
                          <a:pt x="48" y="152"/>
                        </a:lnTo>
                        <a:lnTo>
                          <a:pt x="57" y="129"/>
                        </a:lnTo>
                        <a:lnTo>
                          <a:pt x="67" y="107"/>
                        </a:lnTo>
                        <a:lnTo>
                          <a:pt x="81" y="85"/>
                        </a:lnTo>
                        <a:lnTo>
                          <a:pt x="96" y="65"/>
                        </a:lnTo>
                        <a:lnTo>
                          <a:pt x="115" y="45"/>
                        </a:lnTo>
                        <a:close/>
                      </a:path>
                    </a:pathLst>
                  </a:custGeom>
                  <a:solidFill>
                    <a:srgbClr val="00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804000" y="6195960"/>
                    <a:ext cx="13032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481">
                        <a:moveTo>
                          <a:pt x="120" y="0"/>
                        </a:moveTo>
                        <a:lnTo>
                          <a:pt x="96" y="15"/>
                        </a:lnTo>
                        <a:lnTo>
                          <a:pt x="77" y="34"/>
                        </a:lnTo>
                        <a:lnTo>
                          <a:pt x="58" y="54"/>
                        </a:lnTo>
                        <a:lnTo>
                          <a:pt x="43" y="74"/>
                        </a:lnTo>
                        <a:lnTo>
                          <a:pt x="29" y="96"/>
                        </a:lnTo>
                        <a:lnTo>
                          <a:pt x="19" y="118"/>
                        </a:lnTo>
                        <a:lnTo>
                          <a:pt x="10" y="141"/>
                        </a:lnTo>
                        <a:lnTo>
                          <a:pt x="4" y="166"/>
                        </a:lnTo>
                        <a:lnTo>
                          <a:pt x="1" y="192"/>
                        </a:lnTo>
                        <a:lnTo>
                          <a:pt x="0" y="219"/>
                        </a:lnTo>
                        <a:lnTo>
                          <a:pt x="1" y="245"/>
                        </a:lnTo>
                        <a:lnTo>
                          <a:pt x="4" y="271"/>
                        </a:lnTo>
                        <a:lnTo>
                          <a:pt x="10" y="295"/>
                        </a:lnTo>
                        <a:lnTo>
                          <a:pt x="13" y="307"/>
                        </a:lnTo>
                        <a:lnTo>
                          <a:pt x="19" y="319"/>
                        </a:lnTo>
                        <a:lnTo>
                          <a:pt x="29" y="341"/>
                        </a:lnTo>
                        <a:lnTo>
                          <a:pt x="43" y="363"/>
                        </a:lnTo>
                        <a:lnTo>
                          <a:pt x="58" y="384"/>
                        </a:lnTo>
                        <a:lnTo>
                          <a:pt x="77" y="404"/>
                        </a:lnTo>
                        <a:lnTo>
                          <a:pt x="95" y="421"/>
                        </a:lnTo>
                        <a:lnTo>
                          <a:pt x="115" y="437"/>
                        </a:lnTo>
                        <a:lnTo>
                          <a:pt x="137" y="449"/>
                        </a:lnTo>
                        <a:lnTo>
                          <a:pt x="160" y="462"/>
                        </a:lnTo>
                        <a:lnTo>
                          <a:pt x="182" y="470"/>
                        </a:lnTo>
                        <a:lnTo>
                          <a:pt x="207" y="475"/>
                        </a:lnTo>
                        <a:lnTo>
                          <a:pt x="233" y="479"/>
                        </a:lnTo>
                        <a:lnTo>
                          <a:pt x="261" y="481"/>
                        </a:lnTo>
                        <a:lnTo>
                          <a:pt x="263" y="480"/>
                        </a:lnTo>
                        <a:lnTo>
                          <a:pt x="266" y="480"/>
                        </a:lnTo>
                        <a:lnTo>
                          <a:pt x="273" y="480"/>
                        </a:lnTo>
                        <a:lnTo>
                          <a:pt x="287" y="479"/>
                        </a:lnTo>
                        <a:lnTo>
                          <a:pt x="299" y="477"/>
                        </a:lnTo>
                        <a:lnTo>
                          <a:pt x="313" y="475"/>
                        </a:lnTo>
                        <a:lnTo>
                          <a:pt x="324" y="472"/>
                        </a:lnTo>
                        <a:lnTo>
                          <a:pt x="337" y="470"/>
                        </a:lnTo>
                        <a:lnTo>
                          <a:pt x="348" y="465"/>
                        </a:lnTo>
                        <a:lnTo>
                          <a:pt x="354" y="463"/>
                        </a:lnTo>
                        <a:lnTo>
                          <a:pt x="360" y="462"/>
                        </a:lnTo>
                        <a:lnTo>
                          <a:pt x="371" y="455"/>
                        </a:lnTo>
                        <a:lnTo>
                          <a:pt x="382" y="449"/>
                        </a:lnTo>
                        <a:lnTo>
                          <a:pt x="405" y="437"/>
                        </a:lnTo>
                        <a:lnTo>
                          <a:pt x="425" y="421"/>
                        </a:lnTo>
                        <a:lnTo>
                          <a:pt x="445" y="404"/>
                        </a:lnTo>
                        <a:lnTo>
                          <a:pt x="457" y="390"/>
                        </a:lnTo>
                        <a:lnTo>
                          <a:pt x="468" y="378"/>
                        </a:lnTo>
                        <a:lnTo>
                          <a:pt x="486" y="351"/>
                        </a:lnTo>
                        <a:lnTo>
                          <a:pt x="493" y="336"/>
                        </a:lnTo>
                        <a:lnTo>
                          <a:pt x="501" y="322"/>
                        </a:lnTo>
                        <a:lnTo>
                          <a:pt x="512" y="293"/>
                        </a:lnTo>
                        <a:lnTo>
                          <a:pt x="484" y="250"/>
                        </a:lnTo>
                        <a:lnTo>
                          <a:pt x="482" y="258"/>
                        </a:lnTo>
                        <a:lnTo>
                          <a:pt x="481" y="267"/>
                        </a:lnTo>
                        <a:lnTo>
                          <a:pt x="476" y="285"/>
                        </a:lnTo>
                        <a:lnTo>
                          <a:pt x="469" y="301"/>
                        </a:lnTo>
                        <a:lnTo>
                          <a:pt x="462" y="318"/>
                        </a:lnTo>
                        <a:lnTo>
                          <a:pt x="453" y="333"/>
                        </a:lnTo>
                        <a:lnTo>
                          <a:pt x="443" y="348"/>
                        </a:lnTo>
                        <a:lnTo>
                          <a:pt x="432" y="363"/>
                        </a:lnTo>
                        <a:lnTo>
                          <a:pt x="425" y="370"/>
                        </a:lnTo>
                        <a:lnTo>
                          <a:pt x="423" y="371"/>
                        </a:lnTo>
                        <a:lnTo>
                          <a:pt x="422" y="373"/>
                        </a:lnTo>
                        <a:lnTo>
                          <a:pt x="419" y="378"/>
                        </a:lnTo>
                        <a:lnTo>
                          <a:pt x="401" y="393"/>
                        </a:lnTo>
                        <a:lnTo>
                          <a:pt x="384" y="406"/>
                        </a:lnTo>
                        <a:lnTo>
                          <a:pt x="374" y="411"/>
                        </a:lnTo>
                        <a:lnTo>
                          <a:pt x="365" y="416"/>
                        </a:lnTo>
                        <a:lnTo>
                          <a:pt x="347" y="427"/>
                        </a:lnTo>
                        <a:lnTo>
                          <a:pt x="325" y="433"/>
                        </a:lnTo>
                        <a:lnTo>
                          <a:pt x="305" y="439"/>
                        </a:lnTo>
                        <a:lnTo>
                          <a:pt x="282" y="443"/>
                        </a:lnTo>
                        <a:lnTo>
                          <a:pt x="271" y="443"/>
                        </a:lnTo>
                        <a:lnTo>
                          <a:pt x="265" y="443"/>
                        </a:lnTo>
                        <a:lnTo>
                          <a:pt x="261" y="444"/>
                        </a:lnTo>
                        <a:lnTo>
                          <a:pt x="237" y="443"/>
                        </a:lnTo>
                        <a:lnTo>
                          <a:pt x="215" y="439"/>
                        </a:lnTo>
                        <a:lnTo>
                          <a:pt x="194" y="433"/>
                        </a:lnTo>
                        <a:lnTo>
                          <a:pt x="174" y="427"/>
                        </a:lnTo>
                        <a:lnTo>
                          <a:pt x="155" y="416"/>
                        </a:lnTo>
                        <a:lnTo>
                          <a:pt x="137" y="406"/>
                        </a:lnTo>
                        <a:lnTo>
                          <a:pt x="119" y="393"/>
                        </a:lnTo>
                        <a:lnTo>
                          <a:pt x="103" y="378"/>
                        </a:lnTo>
                        <a:lnTo>
                          <a:pt x="86" y="360"/>
                        </a:lnTo>
                        <a:lnTo>
                          <a:pt x="73" y="343"/>
                        </a:lnTo>
                        <a:lnTo>
                          <a:pt x="61" y="324"/>
                        </a:lnTo>
                        <a:lnTo>
                          <a:pt x="53" y="305"/>
                        </a:lnTo>
                        <a:lnTo>
                          <a:pt x="45" y="284"/>
                        </a:lnTo>
                        <a:lnTo>
                          <a:pt x="41" y="263"/>
                        </a:lnTo>
                        <a:lnTo>
                          <a:pt x="37" y="241"/>
                        </a:lnTo>
                        <a:lnTo>
                          <a:pt x="37" y="219"/>
                        </a:lnTo>
                        <a:lnTo>
                          <a:pt x="37" y="195"/>
                        </a:lnTo>
                        <a:lnTo>
                          <a:pt x="41" y="174"/>
                        </a:lnTo>
                        <a:lnTo>
                          <a:pt x="45" y="152"/>
                        </a:lnTo>
                        <a:lnTo>
                          <a:pt x="53" y="133"/>
                        </a:lnTo>
                        <a:lnTo>
                          <a:pt x="61" y="113"/>
                        </a:lnTo>
                        <a:lnTo>
                          <a:pt x="73" y="95"/>
                        </a:lnTo>
                        <a:lnTo>
                          <a:pt x="86" y="78"/>
                        </a:lnTo>
                        <a:lnTo>
                          <a:pt x="103" y="62"/>
                        </a:lnTo>
                        <a:lnTo>
                          <a:pt x="118" y="47"/>
                        </a:lnTo>
                        <a:lnTo>
                          <a:pt x="134" y="34"/>
                        </a:lnTo>
                        <a:lnTo>
                          <a:pt x="169" y="15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00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785280" y="6191280"/>
                    <a:ext cx="16092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574">
                        <a:moveTo>
                          <a:pt x="125" y="26"/>
                        </a:moveTo>
                        <a:lnTo>
                          <a:pt x="145" y="7"/>
                        </a:lnTo>
                        <a:lnTo>
                          <a:pt x="97" y="0"/>
                        </a:lnTo>
                        <a:lnTo>
                          <a:pt x="74" y="24"/>
                        </a:lnTo>
                        <a:lnTo>
                          <a:pt x="54" y="51"/>
                        </a:lnTo>
                        <a:lnTo>
                          <a:pt x="37" y="79"/>
                        </a:lnTo>
                        <a:lnTo>
                          <a:pt x="24" y="108"/>
                        </a:lnTo>
                        <a:lnTo>
                          <a:pt x="12" y="138"/>
                        </a:lnTo>
                        <a:lnTo>
                          <a:pt x="6" y="169"/>
                        </a:lnTo>
                        <a:lnTo>
                          <a:pt x="1" y="202"/>
                        </a:lnTo>
                        <a:lnTo>
                          <a:pt x="0" y="237"/>
                        </a:lnTo>
                        <a:lnTo>
                          <a:pt x="1" y="270"/>
                        </a:lnTo>
                        <a:lnTo>
                          <a:pt x="2" y="286"/>
                        </a:lnTo>
                        <a:lnTo>
                          <a:pt x="6" y="303"/>
                        </a:lnTo>
                        <a:lnTo>
                          <a:pt x="12" y="335"/>
                        </a:lnTo>
                        <a:lnTo>
                          <a:pt x="17" y="349"/>
                        </a:lnTo>
                        <a:lnTo>
                          <a:pt x="24" y="365"/>
                        </a:lnTo>
                        <a:lnTo>
                          <a:pt x="29" y="379"/>
                        </a:lnTo>
                        <a:lnTo>
                          <a:pt x="37" y="394"/>
                        </a:lnTo>
                        <a:lnTo>
                          <a:pt x="54" y="422"/>
                        </a:lnTo>
                        <a:lnTo>
                          <a:pt x="75" y="449"/>
                        </a:lnTo>
                        <a:lnTo>
                          <a:pt x="99" y="475"/>
                        </a:lnTo>
                        <a:lnTo>
                          <a:pt x="122" y="497"/>
                        </a:lnTo>
                        <a:lnTo>
                          <a:pt x="150" y="517"/>
                        </a:lnTo>
                        <a:lnTo>
                          <a:pt x="177" y="534"/>
                        </a:lnTo>
                        <a:lnTo>
                          <a:pt x="206" y="549"/>
                        </a:lnTo>
                        <a:lnTo>
                          <a:pt x="236" y="559"/>
                        </a:lnTo>
                        <a:lnTo>
                          <a:pt x="268" y="567"/>
                        </a:lnTo>
                        <a:lnTo>
                          <a:pt x="300" y="572"/>
                        </a:lnTo>
                        <a:lnTo>
                          <a:pt x="336" y="574"/>
                        </a:lnTo>
                        <a:lnTo>
                          <a:pt x="351" y="573"/>
                        </a:lnTo>
                        <a:lnTo>
                          <a:pt x="353" y="572"/>
                        </a:lnTo>
                        <a:lnTo>
                          <a:pt x="355" y="572"/>
                        </a:lnTo>
                        <a:lnTo>
                          <a:pt x="359" y="572"/>
                        </a:lnTo>
                        <a:lnTo>
                          <a:pt x="368" y="572"/>
                        </a:lnTo>
                        <a:lnTo>
                          <a:pt x="384" y="569"/>
                        </a:lnTo>
                        <a:lnTo>
                          <a:pt x="401" y="567"/>
                        </a:lnTo>
                        <a:lnTo>
                          <a:pt x="433" y="559"/>
                        </a:lnTo>
                        <a:lnTo>
                          <a:pt x="440" y="556"/>
                        </a:lnTo>
                        <a:lnTo>
                          <a:pt x="448" y="553"/>
                        </a:lnTo>
                        <a:lnTo>
                          <a:pt x="464" y="549"/>
                        </a:lnTo>
                        <a:lnTo>
                          <a:pt x="477" y="541"/>
                        </a:lnTo>
                        <a:lnTo>
                          <a:pt x="492" y="534"/>
                        </a:lnTo>
                        <a:lnTo>
                          <a:pt x="506" y="525"/>
                        </a:lnTo>
                        <a:lnTo>
                          <a:pt x="512" y="521"/>
                        </a:lnTo>
                        <a:lnTo>
                          <a:pt x="516" y="518"/>
                        </a:lnTo>
                        <a:lnTo>
                          <a:pt x="520" y="517"/>
                        </a:lnTo>
                        <a:lnTo>
                          <a:pt x="548" y="497"/>
                        </a:lnTo>
                        <a:lnTo>
                          <a:pt x="560" y="485"/>
                        </a:lnTo>
                        <a:lnTo>
                          <a:pt x="574" y="475"/>
                        </a:lnTo>
                        <a:lnTo>
                          <a:pt x="574" y="473"/>
                        </a:lnTo>
                        <a:lnTo>
                          <a:pt x="574" y="472"/>
                        </a:lnTo>
                        <a:lnTo>
                          <a:pt x="575" y="472"/>
                        </a:lnTo>
                        <a:lnTo>
                          <a:pt x="577" y="470"/>
                        </a:lnTo>
                        <a:lnTo>
                          <a:pt x="582" y="465"/>
                        </a:lnTo>
                        <a:lnTo>
                          <a:pt x="591" y="456"/>
                        </a:lnTo>
                        <a:lnTo>
                          <a:pt x="607" y="437"/>
                        </a:lnTo>
                        <a:lnTo>
                          <a:pt x="621" y="416"/>
                        </a:lnTo>
                        <a:lnTo>
                          <a:pt x="624" y="411"/>
                        </a:lnTo>
                        <a:lnTo>
                          <a:pt x="627" y="406"/>
                        </a:lnTo>
                        <a:lnTo>
                          <a:pt x="634" y="397"/>
                        </a:lnTo>
                        <a:lnTo>
                          <a:pt x="622" y="374"/>
                        </a:lnTo>
                        <a:lnTo>
                          <a:pt x="612" y="354"/>
                        </a:lnTo>
                        <a:lnTo>
                          <a:pt x="600" y="379"/>
                        </a:lnTo>
                        <a:lnTo>
                          <a:pt x="585" y="404"/>
                        </a:lnTo>
                        <a:lnTo>
                          <a:pt x="567" y="427"/>
                        </a:lnTo>
                        <a:lnTo>
                          <a:pt x="548" y="449"/>
                        </a:lnTo>
                        <a:lnTo>
                          <a:pt x="535" y="458"/>
                        </a:lnTo>
                        <a:lnTo>
                          <a:pt x="524" y="468"/>
                        </a:lnTo>
                        <a:lnTo>
                          <a:pt x="511" y="478"/>
                        </a:lnTo>
                        <a:lnTo>
                          <a:pt x="500" y="487"/>
                        </a:lnTo>
                        <a:lnTo>
                          <a:pt x="475" y="501"/>
                        </a:lnTo>
                        <a:lnTo>
                          <a:pt x="450" y="514"/>
                        </a:lnTo>
                        <a:lnTo>
                          <a:pt x="423" y="523"/>
                        </a:lnTo>
                        <a:lnTo>
                          <a:pt x="418" y="523"/>
                        </a:lnTo>
                        <a:lnTo>
                          <a:pt x="416" y="523"/>
                        </a:lnTo>
                        <a:lnTo>
                          <a:pt x="415" y="524"/>
                        </a:lnTo>
                        <a:lnTo>
                          <a:pt x="408" y="526"/>
                        </a:lnTo>
                        <a:lnTo>
                          <a:pt x="395" y="531"/>
                        </a:lnTo>
                        <a:lnTo>
                          <a:pt x="365" y="534"/>
                        </a:lnTo>
                        <a:lnTo>
                          <a:pt x="336" y="536"/>
                        </a:lnTo>
                        <a:lnTo>
                          <a:pt x="304" y="534"/>
                        </a:lnTo>
                        <a:lnTo>
                          <a:pt x="274" y="531"/>
                        </a:lnTo>
                        <a:lnTo>
                          <a:pt x="246" y="523"/>
                        </a:lnTo>
                        <a:lnTo>
                          <a:pt x="220" y="514"/>
                        </a:lnTo>
                        <a:lnTo>
                          <a:pt x="194" y="501"/>
                        </a:lnTo>
                        <a:lnTo>
                          <a:pt x="170" y="487"/>
                        </a:lnTo>
                        <a:lnTo>
                          <a:pt x="146" y="468"/>
                        </a:lnTo>
                        <a:lnTo>
                          <a:pt x="125" y="449"/>
                        </a:lnTo>
                        <a:lnTo>
                          <a:pt x="103" y="425"/>
                        </a:lnTo>
                        <a:lnTo>
                          <a:pt x="93" y="413"/>
                        </a:lnTo>
                        <a:lnTo>
                          <a:pt x="85" y="402"/>
                        </a:lnTo>
                        <a:lnTo>
                          <a:pt x="70" y="377"/>
                        </a:lnTo>
                        <a:lnTo>
                          <a:pt x="59" y="352"/>
                        </a:lnTo>
                        <a:lnTo>
                          <a:pt x="49" y="325"/>
                        </a:lnTo>
                        <a:lnTo>
                          <a:pt x="44" y="310"/>
                        </a:lnTo>
                        <a:lnTo>
                          <a:pt x="42" y="296"/>
                        </a:lnTo>
                        <a:lnTo>
                          <a:pt x="38" y="267"/>
                        </a:lnTo>
                        <a:lnTo>
                          <a:pt x="37" y="237"/>
                        </a:lnTo>
                        <a:lnTo>
                          <a:pt x="38" y="206"/>
                        </a:lnTo>
                        <a:lnTo>
                          <a:pt x="42" y="176"/>
                        </a:lnTo>
                        <a:lnTo>
                          <a:pt x="49" y="148"/>
                        </a:lnTo>
                        <a:lnTo>
                          <a:pt x="59" y="122"/>
                        </a:lnTo>
                        <a:lnTo>
                          <a:pt x="70" y="96"/>
                        </a:lnTo>
                        <a:lnTo>
                          <a:pt x="85" y="72"/>
                        </a:lnTo>
                        <a:lnTo>
                          <a:pt x="103" y="48"/>
                        </a:lnTo>
                        <a:lnTo>
                          <a:pt x="125" y="26"/>
                        </a:lnTo>
                        <a:close/>
                      </a:path>
                    </a:pathLst>
                  </a:custGeom>
                  <a:solidFill>
                    <a:srgbClr val="00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766560" y="6190200"/>
                    <a:ext cx="18756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652">
                        <a:moveTo>
                          <a:pt x="96" y="0"/>
                        </a:moveTo>
                        <a:lnTo>
                          <a:pt x="77" y="0"/>
                        </a:lnTo>
                        <a:lnTo>
                          <a:pt x="58" y="26"/>
                        </a:lnTo>
                        <a:lnTo>
                          <a:pt x="43" y="53"/>
                        </a:lnTo>
                        <a:lnTo>
                          <a:pt x="30" y="82"/>
                        </a:lnTo>
                        <a:lnTo>
                          <a:pt x="19" y="112"/>
                        </a:lnTo>
                        <a:lnTo>
                          <a:pt x="10" y="142"/>
                        </a:lnTo>
                        <a:lnTo>
                          <a:pt x="5" y="173"/>
                        </a:lnTo>
                        <a:lnTo>
                          <a:pt x="1" y="206"/>
                        </a:lnTo>
                        <a:lnTo>
                          <a:pt x="0" y="240"/>
                        </a:lnTo>
                        <a:lnTo>
                          <a:pt x="1" y="281"/>
                        </a:lnTo>
                        <a:lnTo>
                          <a:pt x="7" y="322"/>
                        </a:lnTo>
                        <a:lnTo>
                          <a:pt x="16" y="360"/>
                        </a:lnTo>
                        <a:lnTo>
                          <a:pt x="22" y="379"/>
                        </a:lnTo>
                        <a:lnTo>
                          <a:pt x="30" y="398"/>
                        </a:lnTo>
                        <a:lnTo>
                          <a:pt x="36" y="415"/>
                        </a:lnTo>
                        <a:lnTo>
                          <a:pt x="45" y="433"/>
                        </a:lnTo>
                        <a:lnTo>
                          <a:pt x="67" y="467"/>
                        </a:lnTo>
                        <a:lnTo>
                          <a:pt x="91" y="500"/>
                        </a:lnTo>
                        <a:lnTo>
                          <a:pt x="120" y="532"/>
                        </a:lnTo>
                        <a:lnTo>
                          <a:pt x="150" y="559"/>
                        </a:lnTo>
                        <a:lnTo>
                          <a:pt x="183" y="584"/>
                        </a:lnTo>
                        <a:lnTo>
                          <a:pt x="217" y="604"/>
                        </a:lnTo>
                        <a:lnTo>
                          <a:pt x="253" y="621"/>
                        </a:lnTo>
                        <a:lnTo>
                          <a:pt x="289" y="634"/>
                        </a:lnTo>
                        <a:lnTo>
                          <a:pt x="328" y="644"/>
                        </a:lnTo>
                        <a:lnTo>
                          <a:pt x="367" y="649"/>
                        </a:lnTo>
                        <a:lnTo>
                          <a:pt x="411" y="652"/>
                        </a:lnTo>
                        <a:lnTo>
                          <a:pt x="451" y="649"/>
                        </a:lnTo>
                        <a:lnTo>
                          <a:pt x="492" y="644"/>
                        </a:lnTo>
                        <a:lnTo>
                          <a:pt x="531" y="634"/>
                        </a:lnTo>
                        <a:lnTo>
                          <a:pt x="549" y="627"/>
                        </a:lnTo>
                        <a:lnTo>
                          <a:pt x="558" y="623"/>
                        </a:lnTo>
                        <a:lnTo>
                          <a:pt x="568" y="621"/>
                        </a:lnTo>
                        <a:lnTo>
                          <a:pt x="585" y="612"/>
                        </a:lnTo>
                        <a:lnTo>
                          <a:pt x="603" y="604"/>
                        </a:lnTo>
                        <a:lnTo>
                          <a:pt x="637" y="584"/>
                        </a:lnTo>
                        <a:lnTo>
                          <a:pt x="653" y="571"/>
                        </a:lnTo>
                        <a:lnTo>
                          <a:pt x="661" y="564"/>
                        </a:lnTo>
                        <a:lnTo>
                          <a:pt x="670" y="559"/>
                        </a:lnTo>
                        <a:lnTo>
                          <a:pt x="702" y="532"/>
                        </a:lnTo>
                        <a:lnTo>
                          <a:pt x="711" y="520"/>
                        </a:lnTo>
                        <a:lnTo>
                          <a:pt x="716" y="515"/>
                        </a:lnTo>
                        <a:lnTo>
                          <a:pt x="721" y="510"/>
                        </a:lnTo>
                        <a:lnTo>
                          <a:pt x="739" y="490"/>
                        </a:lnTo>
                        <a:lnTo>
                          <a:pt x="726" y="443"/>
                        </a:lnTo>
                        <a:lnTo>
                          <a:pt x="719" y="450"/>
                        </a:lnTo>
                        <a:lnTo>
                          <a:pt x="717" y="451"/>
                        </a:lnTo>
                        <a:lnTo>
                          <a:pt x="716" y="453"/>
                        </a:lnTo>
                        <a:lnTo>
                          <a:pt x="713" y="458"/>
                        </a:lnTo>
                        <a:lnTo>
                          <a:pt x="702" y="474"/>
                        </a:lnTo>
                        <a:lnTo>
                          <a:pt x="688" y="488"/>
                        </a:lnTo>
                        <a:lnTo>
                          <a:pt x="675" y="504"/>
                        </a:lnTo>
                        <a:lnTo>
                          <a:pt x="670" y="507"/>
                        </a:lnTo>
                        <a:lnTo>
                          <a:pt x="668" y="508"/>
                        </a:lnTo>
                        <a:lnTo>
                          <a:pt x="667" y="510"/>
                        </a:lnTo>
                        <a:lnTo>
                          <a:pt x="660" y="517"/>
                        </a:lnTo>
                        <a:lnTo>
                          <a:pt x="646" y="529"/>
                        </a:lnTo>
                        <a:lnTo>
                          <a:pt x="617" y="552"/>
                        </a:lnTo>
                        <a:lnTo>
                          <a:pt x="585" y="570"/>
                        </a:lnTo>
                        <a:lnTo>
                          <a:pt x="553" y="586"/>
                        </a:lnTo>
                        <a:lnTo>
                          <a:pt x="519" y="597"/>
                        </a:lnTo>
                        <a:lnTo>
                          <a:pt x="501" y="602"/>
                        </a:lnTo>
                        <a:lnTo>
                          <a:pt x="484" y="606"/>
                        </a:lnTo>
                        <a:lnTo>
                          <a:pt x="448" y="612"/>
                        </a:lnTo>
                        <a:lnTo>
                          <a:pt x="438" y="612"/>
                        </a:lnTo>
                        <a:lnTo>
                          <a:pt x="429" y="613"/>
                        </a:lnTo>
                        <a:lnTo>
                          <a:pt x="411" y="614"/>
                        </a:lnTo>
                        <a:lnTo>
                          <a:pt x="372" y="612"/>
                        </a:lnTo>
                        <a:lnTo>
                          <a:pt x="336" y="606"/>
                        </a:lnTo>
                        <a:lnTo>
                          <a:pt x="301" y="597"/>
                        </a:lnTo>
                        <a:lnTo>
                          <a:pt x="268" y="586"/>
                        </a:lnTo>
                        <a:lnTo>
                          <a:pt x="235" y="570"/>
                        </a:lnTo>
                        <a:lnTo>
                          <a:pt x="204" y="552"/>
                        </a:lnTo>
                        <a:lnTo>
                          <a:pt x="175" y="529"/>
                        </a:lnTo>
                        <a:lnTo>
                          <a:pt x="147" y="504"/>
                        </a:lnTo>
                        <a:lnTo>
                          <a:pt x="133" y="490"/>
                        </a:lnTo>
                        <a:lnTo>
                          <a:pt x="120" y="476"/>
                        </a:lnTo>
                        <a:lnTo>
                          <a:pt x="99" y="447"/>
                        </a:lnTo>
                        <a:lnTo>
                          <a:pt x="79" y="415"/>
                        </a:lnTo>
                        <a:lnTo>
                          <a:pt x="65" y="383"/>
                        </a:lnTo>
                        <a:lnTo>
                          <a:pt x="52" y="349"/>
                        </a:lnTo>
                        <a:lnTo>
                          <a:pt x="44" y="314"/>
                        </a:lnTo>
                        <a:lnTo>
                          <a:pt x="39" y="278"/>
                        </a:lnTo>
                        <a:lnTo>
                          <a:pt x="37" y="240"/>
                        </a:lnTo>
                        <a:lnTo>
                          <a:pt x="39" y="205"/>
                        </a:lnTo>
                        <a:lnTo>
                          <a:pt x="42" y="172"/>
                        </a:lnTo>
                        <a:lnTo>
                          <a:pt x="49" y="141"/>
                        </a:lnTo>
                        <a:lnTo>
                          <a:pt x="59" y="111"/>
                        </a:lnTo>
                        <a:lnTo>
                          <a:pt x="70" y="80"/>
                        </a:lnTo>
                        <a:lnTo>
                          <a:pt x="85" y="52"/>
                        </a:lnTo>
                        <a:lnTo>
                          <a:pt x="103" y="25"/>
                        </a:lnTo>
                        <a:lnTo>
                          <a:pt x="125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00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6775560" y="6190200"/>
                    <a:ext cx="17460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614">
                        <a:moveTo>
                          <a:pt x="135" y="3"/>
                        </a:moveTo>
                        <a:lnTo>
                          <a:pt x="88" y="0"/>
                        </a:lnTo>
                        <a:lnTo>
                          <a:pt x="66" y="25"/>
                        </a:lnTo>
                        <a:lnTo>
                          <a:pt x="48" y="52"/>
                        </a:lnTo>
                        <a:lnTo>
                          <a:pt x="33" y="80"/>
                        </a:lnTo>
                        <a:lnTo>
                          <a:pt x="22" y="111"/>
                        </a:lnTo>
                        <a:lnTo>
                          <a:pt x="12" y="141"/>
                        </a:lnTo>
                        <a:lnTo>
                          <a:pt x="5" y="172"/>
                        </a:lnTo>
                        <a:lnTo>
                          <a:pt x="2" y="205"/>
                        </a:lnTo>
                        <a:lnTo>
                          <a:pt x="0" y="240"/>
                        </a:lnTo>
                        <a:lnTo>
                          <a:pt x="2" y="278"/>
                        </a:lnTo>
                        <a:lnTo>
                          <a:pt x="7" y="314"/>
                        </a:lnTo>
                        <a:lnTo>
                          <a:pt x="15" y="349"/>
                        </a:lnTo>
                        <a:lnTo>
                          <a:pt x="28" y="383"/>
                        </a:lnTo>
                        <a:lnTo>
                          <a:pt x="42" y="415"/>
                        </a:lnTo>
                        <a:lnTo>
                          <a:pt x="62" y="447"/>
                        </a:lnTo>
                        <a:lnTo>
                          <a:pt x="83" y="476"/>
                        </a:lnTo>
                        <a:lnTo>
                          <a:pt x="96" y="490"/>
                        </a:lnTo>
                        <a:lnTo>
                          <a:pt x="110" y="504"/>
                        </a:lnTo>
                        <a:lnTo>
                          <a:pt x="138" y="529"/>
                        </a:lnTo>
                        <a:lnTo>
                          <a:pt x="167" y="552"/>
                        </a:lnTo>
                        <a:lnTo>
                          <a:pt x="198" y="570"/>
                        </a:lnTo>
                        <a:lnTo>
                          <a:pt x="231" y="586"/>
                        </a:lnTo>
                        <a:lnTo>
                          <a:pt x="264" y="597"/>
                        </a:lnTo>
                        <a:lnTo>
                          <a:pt x="299" y="606"/>
                        </a:lnTo>
                        <a:lnTo>
                          <a:pt x="335" y="612"/>
                        </a:lnTo>
                        <a:lnTo>
                          <a:pt x="374" y="614"/>
                        </a:lnTo>
                        <a:lnTo>
                          <a:pt x="392" y="613"/>
                        </a:lnTo>
                        <a:lnTo>
                          <a:pt x="401" y="612"/>
                        </a:lnTo>
                        <a:lnTo>
                          <a:pt x="411" y="612"/>
                        </a:lnTo>
                        <a:lnTo>
                          <a:pt x="447" y="606"/>
                        </a:lnTo>
                        <a:lnTo>
                          <a:pt x="464" y="602"/>
                        </a:lnTo>
                        <a:lnTo>
                          <a:pt x="482" y="597"/>
                        </a:lnTo>
                        <a:lnTo>
                          <a:pt x="516" y="586"/>
                        </a:lnTo>
                        <a:lnTo>
                          <a:pt x="548" y="570"/>
                        </a:lnTo>
                        <a:lnTo>
                          <a:pt x="580" y="552"/>
                        </a:lnTo>
                        <a:lnTo>
                          <a:pt x="609" y="529"/>
                        </a:lnTo>
                        <a:lnTo>
                          <a:pt x="623" y="517"/>
                        </a:lnTo>
                        <a:lnTo>
                          <a:pt x="630" y="510"/>
                        </a:lnTo>
                        <a:lnTo>
                          <a:pt x="631" y="508"/>
                        </a:lnTo>
                        <a:lnTo>
                          <a:pt x="633" y="507"/>
                        </a:lnTo>
                        <a:lnTo>
                          <a:pt x="638" y="504"/>
                        </a:lnTo>
                        <a:lnTo>
                          <a:pt x="651" y="488"/>
                        </a:lnTo>
                        <a:lnTo>
                          <a:pt x="665" y="474"/>
                        </a:lnTo>
                        <a:lnTo>
                          <a:pt x="676" y="458"/>
                        </a:lnTo>
                        <a:lnTo>
                          <a:pt x="679" y="453"/>
                        </a:lnTo>
                        <a:lnTo>
                          <a:pt x="680" y="451"/>
                        </a:lnTo>
                        <a:lnTo>
                          <a:pt x="682" y="450"/>
                        </a:lnTo>
                        <a:lnTo>
                          <a:pt x="689" y="443"/>
                        </a:lnTo>
                        <a:lnTo>
                          <a:pt x="680" y="420"/>
                        </a:lnTo>
                        <a:lnTo>
                          <a:pt x="672" y="400"/>
                        </a:lnTo>
                        <a:lnTo>
                          <a:pt x="665" y="409"/>
                        </a:lnTo>
                        <a:lnTo>
                          <a:pt x="662" y="414"/>
                        </a:lnTo>
                        <a:lnTo>
                          <a:pt x="659" y="419"/>
                        </a:lnTo>
                        <a:lnTo>
                          <a:pt x="645" y="440"/>
                        </a:lnTo>
                        <a:lnTo>
                          <a:pt x="629" y="459"/>
                        </a:lnTo>
                        <a:lnTo>
                          <a:pt x="620" y="468"/>
                        </a:lnTo>
                        <a:lnTo>
                          <a:pt x="615" y="473"/>
                        </a:lnTo>
                        <a:lnTo>
                          <a:pt x="613" y="475"/>
                        </a:lnTo>
                        <a:lnTo>
                          <a:pt x="612" y="475"/>
                        </a:lnTo>
                        <a:lnTo>
                          <a:pt x="612" y="476"/>
                        </a:lnTo>
                        <a:lnTo>
                          <a:pt x="612" y="478"/>
                        </a:lnTo>
                        <a:lnTo>
                          <a:pt x="598" y="488"/>
                        </a:lnTo>
                        <a:lnTo>
                          <a:pt x="586" y="500"/>
                        </a:lnTo>
                        <a:lnTo>
                          <a:pt x="558" y="520"/>
                        </a:lnTo>
                        <a:lnTo>
                          <a:pt x="554" y="521"/>
                        </a:lnTo>
                        <a:lnTo>
                          <a:pt x="550" y="524"/>
                        </a:lnTo>
                        <a:lnTo>
                          <a:pt x="544" y="528"/>
                        </a:lnTo>
                        <a:lnTo>
                          <a:pt x="530" y="537"/>
                        </a:lnTo>
                        <a:lnTo>
                          <a:pt x="515" y="544"/>
                        </a:lnTo>
                        <a:lnTo>
                          <a:pt x="502" y="552"/>
                        </a:lnTo>
                        <a:lnTo>
                          <a:pt x="486" y="556"/>
                        </a:lnTo>
                        <a:lnTo>
                          <a:pt x="478" y="559"/>
                        </a:lnTo>
                        <a:lnTo>
                          <a:pt x="471" y="562"/>
                        </a:lnTo>
                        <a:lnTo>
                          <a:pt x="439" y="570"/>
                        </a:lnTo>
                        <a:lnTo>
                          <a:pt x="422" y="572"/>
                        </a:lnTo>
                        <a:lnTo>
                          <a:pt x="406" y="575"/>
                        </a:lnTo>
                        <a:lnTo>
                          <a:pt x="397" y="575"/>
                        </a:lnTo>
                        <a:lnTo>
                          <a:pt x="393" y="575"/>
                        </a:lnTo>
                        <a:lnTo>
                          <a:pt x="391" y="575"/>
                        </a:lnTo>
                        <a:lnTo>
                          <a:pt x="389" y="576"/>
                        </a:lnTo>
                        <a:lnTo>
                          <a:pt x="374" y="577"/>
                        </a:lnTo>
                        <a:lnTo>
                          <a:pt x="338" y="575"/>
                        </a:lnTo>
                        <a:lnTo>
                          <a:pt x="306" y="570"/>
                        </a:lnTo>
                        <a:lnTo>
                          <a:pt x="274" y="562"/>
                        </a:lnTo>
                        <a:lnTo>
                          <a:pt x="244" y="552"/>
                        </a:lnTo>
                        <a:lnTo>
                          <a:pt x="215" y="537"/>
                        </a:lnTo>
                        <a:lnTo>
                          <a:pt x="188" y="520"/>
                        </a:lnTo>
                        <a:lnTo>
                          <a:pt x="160" y="500"/>
                        </a:lnTo>
                        <a:lnTo>
                          <a:pt x="137" y="478"/>
                        </a:lnTo>
                        <a:lnTo>
                          <a:pt x="113" y="452"/>
                        </a:lnTo>
                        <a:lnTo>
                          <a:pt x="92" y="425"/>
                        </a:lnTo>
                        <a:lnTo>
                          <a:pt x="75" y="397"/>
                        </a:lnTo>
                        <a:lnTo>
                          <a:pt x="67" y="382"/>
                        </a:lnTo>
                        <a:lnTo>
                          <a:pt x="62" y="368"/>
                        </a:lnTo>
                        <a:lnTo>
                          <a:pt x="55" y="352"/>
                        </a:lnTo>
                        <a:lnTo>
                          <a:pt x="50" y="338"/>
                        </a:lnTo>
                        <a:lnTo>
                          <a:pt x="44" y="306"/>
                        </a:lnTo>
                        <a:lnTo>
                          <a:pt x="40" y="289"/>
                        </a:lnTo>
                        <a:lnTo>
                          <a:pt x="39" y="273"/>
                        </a:lnTo>
                        <a:lnTo>
                          <a:pt x="38" y="240"/>
                        </a:lnTo>
                        <a:lnTo>
                          <a:pt x="39" y="205"/>
                        </a:lnTo>
                        <a:lnTo>
                          <a:pt x="44" y="172"/>
                        </a:lnTo>
                        <a:lnTo>
                          <a:pt x="50" y="141"/>
                        </a:lnTo>
                        <a:lnTo>
                          <a:pt x="62" y="111"/>
                        </a:lnTo>
                        <a:lnTo>
                          <a:pt x="75" y="82"/>
                        </a:lnTo>
                        <a:lnTo>
                          <a:pt x="92" y="54"/>
                        </a:lnTo>
                        <a:lnTo>
                          <a:pt x="112" y="27"/>
                        </a:lnTo>
                        <a:lnTo>
                          <a:pt x="135" y="3"/>
                        </a:lnTo>
                        <a:close/>
                      </a:path>
                    </a:pathLst>
                  </a:custGeom>
                  <a:solidFill>
                    <a:srgbClr val="00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6813720" y="6199920"/>
                    <a:ext cx="113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429">
                        <a:moveTo>
                          <a:pt x="38" y="204"/>
                        </a:moveTo>
                        <a:lnTo>
                          <a:pt x="41" y="167"/>
                        </a:lnTo>
                        <a:lnTo>
                          <a:pt x="44" y="149"/>
                        </a:lnTo>
                        <a:lnTo>
                          <a:pt x="51" y="133"/>
                        </a:lnTo>
                        <a:lnTo>
                          <a:pt x="58" y="116"/>
                        </a:lnTo>
                        <a:lnTo>
                          <a:pt x="68" y="101"/>
                        </a:lnTo>
                        <a:lnTo>
                          <a:pt x="92" y="73"/>
                        </a:lnTo>
                        <a:lnTo>
                          <a:pt x="112" y="54"/>
                        </a:lnTo>
                        <a:lnTo>
                          <a:pt x="135" y="39"/>
                        </a:lnTo>
                        <a:lnTo>
                          <a:pt x="159" y="27"/>
                        </a:lnTo>
                        <a:lnTo>
                          <a:pt x="186" y="22"/>
                        </a:lnTo>
                        <a:lnTo>
                          <a:pt x="132" y="0"/>
                        </a:lnTo>
                        <a:lnTo>
                          <a:pt x="97" y="19"/>
                        </a:lnTo>
                        <a:lnTo>
                          <a:pt x="81" y="32"/>
                        </a:lnTo>
                        <a:lnTo>
                          <a:pt x="66" y="47"/>
                        </a:lnTo>
                        <a:lnTo>
                          <a:pt x="49" y="63"/>
                        </a:lnTo>
                        <a:lnTo>
                          <a:pt x="36" y="80"/>
                        </a:lnTo>
                        <a:lnTo>
                          <a:pt x="24" y="98"/>
                        </a:lnTo>
                        <a:lnTo>
                          <a:pt x="16" y="118"/>
                        </a:lnTo>
                        <a:lnTo>
                          <a:pt x="8" y="137"/>
                        </a:lnTo>
                        <a:lnTo>
                          <a:pt x="4" y="159"/>
                        </a:lnTo>
                        <a:lnTo>
                          <a:pt x="0" y="180"/>
                        </a:lnTo>
                        <a:lnTo>
                          <a:pt x="0" y="204"/>
                        </a:lnTo>
                        <a:lnTo>
                          <a:pt x="0" y="226"/>
                        </a:lnTo>
                        <a:lnTo>
                          <a:pt x="4" y="248"/>
                        </a:lnTo>
                        <a:lnTo>
                          <a:pt x="8" y="269"/>
                        </a:lnTo>
                        <a:lnTo>
                          <a:pt x="16" y="290"/>
                        </a:lnTo>
                        <a:lnTo>
                          <a:pt x="24" y="309"/>
                        </a:lnTo>
                        <a:lnTo>
                          <a:pt x="36" y="328"/>
                        </a:lnTo>
                        <a:lnTo>
                          <a:pt x="49" y="345"/>
                        </a:lnTo>
                        <a:lnTo>
                          <a:pt x="66" y="363"/>
                        </a:lnTo>
                        <a:lnTo>
                          <a:pt x="82" y="378"/>
                        </a:lnTo>
                        <a:lnTo>
                          <a:pt x="100" y="391"/>
                        </a:lnTo>
                        <a:lnTo>
                          <a:pt x="118" y="401"/>
                        </a:lnTo>
                        <a:lnTo>
                          <a:pt x="137" y="412"/>
                        </a:lnTo>
                        <a:lnTo>
                          <a:pt x="157" y="418"/>
                        </a:lnTo>
                        <a:lnTo>
                          <a:pt x="178" y="424"/>
                        </a:lnTo>
                        <a:lnTo>
                          <a:pt x="200" y="428"/>
                        </a:lnTo>
                        <a:lnTo>
                          <a:pt x="224" y="429"/>
                        </a:lnTo>
                        <a:lnTo>
                          <a:pt x="228" y="428"/>
                        </a:lnTo>
                        <a:lnTo>
                          <a:pt x="234" y="428"/>
                        </a:lnTo>
                        <a:lnTo>
                          <a:pt x="245" y="428"/>
                        </a:lnTo>
                        <a:lnTo>
                          <a:pt x="268" y="424"/>
                        </a:lnTo>
                        <a:lnTo>
                          <a:pt x="288" y="418"/>
                        </a:lnTo>
                        <a:lnTo>
                          <a:pt x="310" y="412"/>
                        </a:lnTo>
                        <a:lnTo>
                          <a:pt x="328" y="401"/>
                        </a:lnTo>
                        <a:lnTo>
                          <a:pt x="337" y="396"/>
                        </a:lnTo>
                        <a:lnTo>
                          <a:pt x="347" y="391"/>
                        </a:lnTo>
                        <a:lnTo>
                          <a:pt x="364" y="378"/>
                        </a:lnTo>
                        <a:lnTo>
                          <a:pt x="382" y="363"/>
                        </a:lnTo>
                        <a:lnTo>
                          <a:pt x="385" y="358"/>
                        </a:lnTo>
                        <a:lnTo>
                          <a:pt x="386" y="356"/>
                        </a:lnTo>
                        <a:lnTo>
                          <a:pt x="388" y="355"/>
                        </a:lnTo>
                        <a:lnTo>
                          <a:pt x="395" y="348"/>
                        </a:lnTo>
                        <a:lnTo>
                          <a:pt x="406" y="333"/>
                        </a:lnTo>
                        <a:lnTo>
                          <a:pt x="416" y="318"/>
                        </a:lnTo>
                        <a:lnTo>
                          <a:pt x="425" y="303"/>
                        </a:lnTo>
                        <a:lnTo>
                          <a:pt x="432" y="286"/>
                        </a:lnTo>
                        <a:lnTo>
                          <a:pt x="439" y="270"/>
                        </a:lnTo>
                        <a:lnTo>
                          <a:pt x="444" y="252"/>
                        </a:lnTo>
                        <a:lnTo>
                          <a:pt x="445" y="243"/>
                        </a:lnTo>
                        <a:lnTo>
                          <a:pt x="447" y="235"/>
                        </a:lnTo>
                        <a:lnTo>
                          <a:pt x="411" y="192"/>
                        </a:lnTo>
                        <a:lnTo>
                          <a:pt x="411" y="204"/>
                        </a:lnTo>
                        <a:lnTo>
                          <a:pt x="410" y="222"/>
                        </a:lnTo>
                        <a:lnTo>
                          <a:pt x="407" y="241"/>
                        </a:lnTo>
                        <a:lnTo>
                          <a:pt x="403" y="258"/>
                        </a:lnTo>
                        <a:lnTo>
                          <a:pt x="397" y="276"/>
                        </a:lnTo>
                        <a:lnTo>
                          <a:pt x="393" y="282"/>
                        </a:lnTo>
                        <a:lnTo>
                          <a:pt x="390" y="286"/>
                        </a:lnTo>
                        <a:lnTo>
                          <a:pt x="389" y="290"/>
                        </a:lnTo>
                        <a:lnTo>
                          <a:pt x="380" y="306"/>
                        </a:lnTo>
                        <a:lnTo>
                          <a:pt x="369" y="321"/>
                        </a:lnTo>
                        <a:lnTo>
                          <a:pt x="356" y="337"/>
                        </a:lnTo>
                        <a:lnTo>
                          <a:pt x="340" y="349"/>
                        </a:lnTo>
                        <a:lnTo>
                          <a:pt x="326" y="361"/>
                        </a:lnTo>
                        <a:lnTo>
                          <a:pt x="310" y="370"/>
                        </a:lnTo>
                        <a:lnTo>
                          <a:pt x="305" y="371"/>
                        </a:lnTo>
                        <a:lnTo>
                          <a:pt x="302" y="373"/>
                        </a:lnTo>
                        <a:lnTo>
                          <a:pt x="295" y="378"/>
                        </a:lnTo>
                        <a:lnTo>
                          <a:pt x="277" y="383"/>
                        </a:lnTo>
                        <a:lnTo>
                          <a:pt x="260" y="388"/>
                        </a:lnTo>
                        <a:lnTo>
                          <a:pt x="242" y="390"/>
                        </a:lnTo>
                        <a:lnTo>
                          <a:pt x="224" y="391"/>
                        </a:lnTo>
                        <a:lnTo>
                          <a:pt x="204" y="390"/>
                        </a:lnTo>
                        <a:lnTo>
                          <a:pt x="186" y="388"/>
                        </a:lnTo>
                        <a:lnTo>
                          <a:pt x="168" y="383"/>
                        </a:lnTo>
                        <a:lnTo>
                          <a:pt x="152" y="378"/>
                        </a:lnTo>
                        <a:lnTo>
                          <a:pt x="135" y="370"/>
                        </a:lnTo>
                        <a:lnTo>
                          <a:pt x="120" y="361"/>
                        </a:lnTo>
                        <a:lnTo>
                          <a:pt x="106" y="349"/>
                        </a:lnTo>
                        <a:lnTo>
                          <a:pt x="92" y="337"/>
                        </a:lnTo>
                        <a:lnTo>
                          <a:pt x="78" y="321"/>
                        </a:lnTo>
                        <a:lnTo>
                          <a:pt x="68" y="306"/>
                        </a:lnTo>
                        <a:lnTo>
                          <a:pt x="58" y="290"/>
                        </a:lnTo>
                        <a:lnTo>
                          <a:pt x="51" y="276"/>
                        </a:lnTo>
                        <a:lnTo>
                          <a:pt x="44" y="258"/>
                        </a:lnTo>
                        <a:lnTo>
                          <a:pt x="41" y="241"/>
                        </a:lnTo>
                        <a:lnTo>
                          <a:pt x="38" y="222"/>
                        </a:lnTo>
                        <a:lnTo>
                          <a:pt x="38" y="204"/>
                        </a:lnTo>
                        <a:close/>
                      </a:path>
                    </a:pathLst>
                  </a:custGeom>
                  <a:solidFill>
                    <a:srgbClr val="00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6823440" y="6204960"/>
                    <a:ext cx="94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369">
                        <a:moveTo>
                          <a:pt x="54" y="51"/>
                        </a:moveTo>
                        <a:lnTo>
                          <a:pt x="30" y="79"/>
                        </a:lnTo>
                        <a:lnTo>
                          <a:pt x="20" y="94"/>
                        </a:lnTo>
                        <a:lnTo>
                          <a:pt x="13" y="111"/>
                        </a:lnTo>
                        <a:lnTo>
                          <a:pt x="6" y="127"/>
                        </a:lnTo>
                        <a:lnTo>
                          <a:pt x="3" y="145"/>
                        </a:lnTo>
                        <a:lnTo>
                          <a:pt x="0" y="182"/>
                        </a:lnTo>
                        <a:lnTo>
                          <a:pt x="0" y="200"/>
                        </a:lnTo>
                        <a:lnTo>
                          <a:pt x="3" y="219"/>
                        </a:lnTo>
                        <a:lnTo>
                          <a:pt x="6" y="236"/>
                        </a:lnTo>
                        <a:lnTo>
                          <a:pt x="13" y="254"/>
                        </a:lnTo>
                        <a:lnTo>
                          <a:pt x="20" y="268"/>
                        </a:lnTo>
                        <a:lnTo>
                          <a:pt x="30" y="284"/>
                        </a:lnTo>
                        <a:lnTo>
                          <a:pt x="40" y="299"/>
                        </a:lnTo>
                        <a:lnTo>
                          <a:pt x="54" y="315"/>
                        </a:lnTo>
                        <a:lnTo>
                          <a:pt x="68" y="327"/>
                        </a:lnTo>
                        <a:lnTo>
                          <a:pt x="82" y="339"/>
                        </a:lnTo>
                        <a:lnTo>
                          <a:pt x="97" y="348"/>
                        </a:lnTo>
                        <a:lnTo>
                          <a:pt x="114" y="356"/>
                        </a:lnTo>
                        <a:lnTo>
                          <a:pt x="130" y="361"/>
                        </a:lnTo>
                        <a:lnTo>
                          <a:pt x="148" y="366"/>
                        </a:lnTo>
                        <a:lnTo>
                          <a:pt x="166" y="368"/>
                        </a:lnTo>
                        <a:lnTo>
                          <a:pt x="186" y="369"/>
                        </a:lnTo>
                        <a:lnTo>
                          <a:pt x="204" y="368"/>
                        </a:lnTo>
                        <a:lnTo>
                          <a:pt x="222" y="366"/>
                        </a:lnTo>
                        <a:lnTo>
                          <a:pt x="239" y="361"/>
                        </a:lnTo>
                        <a:lnTo>
                          <a:pt x="257" y="356"/>
                        </a:lnTo>
                        <a:lnTo>
                          <a:pt x="264" y="351"/>
                        </a:lnTo>
                        <a:lnTo>
                          <a:pt x="267" y="349"/>
                        </a:lnTo>
                        <a:lnTo>
                          <a:pt x="272" y="348"/>
                        </a:lnTo>
                        <a:lnTo>
                          <a:pt x="288" y="339"/>
                        </a:lnTo>
                        <a:lnTo>
                          <a:pt x="302" y="327"/>
                        </a:lnTo>
                        <a:lnTo>
                          <a:pt x="318" y="315"/>
                        </a:lnTo>
                        <a:lnTo>
                          <a:pt x="331" y="299"/>
                        </a:lnTo>
                        <a:lnTo>
                          <a:pt x="342" y="284"/>
                        </a:lnTo>
                        <a:lnTo>
                          <a:pt x="351" y="268"/>
                        </a:lnTo>
                        <a:lnTo>
                          <a:pt x="352" y="264"/>
                        </a:lnTo>
                        <a:lnTo>
                          <a:pt x="355" y="260"/>
                        </a:lnTo>
                        <a:lnTo>
                          <a:pt x="359" y="254"/>
                        </a:lnTo>
                        <a:lnTo>
                          <a:pt x="365" y="236"/>
                        </a:lnTo>
                        <a:lnTo>
                          <a:pt x="369" y="219"/>
                        </a:lnTo>
                        <a:lnTo>
                          <a:pt x="372" y="200"/>
                        </a:lnTo>
                        <a:lnTo>
                          <a:pt x="373" y="182"/>
                        </a:lnTo>
                        <a:lnTo>
                          <a:pt x="373" y="170"/>
                        </a:lnTo>
                        <a:lnTo>
                          <a:pt x="341" y="136"/>
                        </a:lnTo>
                        <a:lnTo>
                          <a:pt x="321" y="115"/>
                        </a:lnTo>
                        <a:lnTo>
                          <a:pt x="326" y="130"/>
                        </a:lnTo>
                        <a:lnTo>
                          <a:pt x="331" y="147"/>
                        </a:lnTo>
                        <a:lnTo>
                          <a:pt x="334" y="164"/>
                        </a:lnTo>
                        <a:lnTo>
                          <a:pt x="335" y="182"/>
                        </a:lnTo>
                        <a:lnTo>
                          <a:pt x="334" y="196"/>
                        </a:lnTo>
                        <a:lnTo>
                          <a:pt x="332" y="211"/>
                        </a:lnTo>
                        <a:lnTo>
                          <a:pt x="328" y="224"/>
                        </a:lnTo>
                        <a:lnTo>
                          <a:pt x="324" y="239"/>
                        </a:lnTo>
                        <a:lnTo>
                          <a:pt x="317" y="251"/>
                        </a:lnTo>
                        <a:lnTo>
                          <a:pt x="310" y="264"/>
                        </a:lnTo>
                        <a:lnTo>
                          <a:pt x="301" y="275"/>
                        </a:lnTo>
                        <a:lnTo>
                          <a:pt x="292" y="288"/>
                        </a:lnTo>
                        <a:lnTo>
                          <a:pt x="280" y="297"/>
                        </a:lnTo>
                        <a:lnTo>
                          <a:pt x="268" y="306"/>
                        </a:lnTo>
                        <a:lnTo>
                          <a:pt x="255" y="314"/>
                        </a:lnTo>
                        <a:lnTo>
                          <a:pt x="242" y="321"/>
                        </a:lnTo>
                        <a:lnTo>
                          <a:pt x="228" y="325"/>
                        </a:lnTo>
                        <a:lnTo>
                          <a:pt x="214" y="328"/>
                        </a:lnTo>
                        <a:lnTo>
                          <a:pt x="199" y="331"/>
                        </a:lnTo>
                        <a:lnTo>
                          <a:pt x="186" y="332"/>
                        </a:lnTo>
                        <a:lnTo>
                          <a:pt x="170" y="331"/>
                        </a:lnTo>
                        <a:lnTo>
                          <a:pt x="155" y="328"/>
                        </a:lnTo>
                        <a:lnTo>
                          <a:pt x="141" y="325"/>
                        </a:lnTo>
                        <a:lnTo>
                          <a:pt x="128" y="321"/>
                        </a:lnTo>
                        <a:lnTo>
                          <a:pt x="114" y="314"/>
                        </a:lnTo>
                        <a:lnTo>
                          <a:pt x="102" y="306"/>
                        </a:lnTo>
                        <a:lnTo>
                          <a:pt x="80" y="288"/>
                        </a:lnTo>
                        <a:lnTo>
                          <a:pt x="69" y="275"/>
                        </a:lnTo>
                        <a:lnTo>
                          <a:pt x="61" y="264"/>
                        </a:lnTo>
                        <a:lnTo>
                          <a:pt x="53" y="251"/>
                        </a:lnTo>
                        <a:lnTo>
                          <a:pt x="47" y="239"/>
                        </a:lnTo>
                        <a:lnTo>
                          <a:pt x="42" y="224"/>
                        </a:lnTo>
                        <a:lnTo>
                          <a:pt x="39" y="211"/>
                        </a:lnTo>
                        <a:lnTo>
                          <a:pt x="37" y="196"/>
                        </a:lnTo>
                        <a:lnTo>
                          <a:pt x="37" y="182"/>
                        </a:lnTo>
                        <a:lnTo>
                          <a:pt x="39" y="152"/>
                        </a:lnTo>
                        <a:lnTo>
                          <a:pt x="47" y="124"/>
                        </a:lnTo>
                        <a:lnTo>
                          <a:pt x="61" y="98"/>
                        </a:lnTo>
                        <a:lnTo>
                          <a:pt x="80" y="77"/>
                        </a:lnTo>
                        <a:lnTo>
                          <a:pt x="102" y="58"/>
                        </a:lnTo>
                        <a:lnTo>
                          <a:pt x="128" y="44"/>
                        </a:lnTo>
                        <a:lnTo>
                          <a:pt x="155" y="36"/>
                        </a:lnTo>
                        <a:lnTo>
                          <a:pt x="186" y="34"/>
                        </a:lnTo>
                        <a:lnTo>
                          <a:pt x="200" y="34"/>
                        </a:lnTo>
                        <a:lnTo>
                          <a:pt x="216" y="36"/>
                        </a:lnTo>
                        <a:lnTo>
                          <a:pt x="182" y="17"/>
                        </a:lnTo>
                        <a:lnTo>
                          <a:pt x="148" y="0"/>
                        </a:lnTo>
                        <a:lnTo>
                          <a:pt x="121" y="5"/>
                        </a:lnTo>
                        <a:lnTo>
                          <a:pt x="97" y="17"/>
                        </a:lnTo>
                        <a:lnTo>
                          <a:pt x="74" y="32"/>
                        </a:lnTo>
                        <a:lnTo>
                          <a:pt x="54" y="51"/>
                        </a:lnTo>
                        <a:close/>
                      </a:path>
                    </a:pathLst>
                  </a:custGeom>
                  <a:solidFill>
                    <a:srgbClr val="00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6833160" y="6213600"/>
                    <a:ext cx="7560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298">
                        <a:moveTo>
                          <a:pt x="179" y="2"/>
                        </a:moveTo>
                        <a:lnTo>
                          <a:pt x="163" y="0"/>
                        </a:lnTo>
                        <a:lnTo>
                          <a:pt x="149" y="0"/>
                        </a:lnTo>
                        <a:lnTo>
                          <a:pt x="118" y="2"/>
                        </a:lnTo>
                        <a:lnTo>
                          <a:pt x="91" y="10"/>
                        </a:lnTo>
                        <a:lnTo>
                          <a:pt x="65" y="24"/>
                        </a:lnTo>
                        <a:lnTo>
                          <a:pt x="43" y="43"/>
                        </a:lnTo>
                        <a:lnTo>
                          <a:pt x="24" y="64"/>
                        </a:lnTo>
                        <a:lnTo>
                          <a:pt x="10" y="90"/>
                        </a:lnTo>
                        <a:lnTo>
                          <a:pt x="2" y="118"/>
                        </a:lnTo>
                        <a:lnTo>
                          <a:pt x="0" y="148"/>
                        </a:lnTo>
                        <a:lnTo>
                          <a:pt x="0" y="162"/>
                        </a:lnTo>
                        <a:lnTo>
                          <a:pt x="2" y="177"/>
                        </a:lnTo>
                        <a:lnTo>
                          <a:pt x="5" y="190"/>
                        </a:lnTo>
                        <a:lnTo>
                          <a:pt x="10" y="205"/>
                        </a:lnTo>
                        <a:lnTo>
                          <a:pt x="16" y="217"/>
                        </a:lnTo>
                        <a:lnTo>
                          <a:pt x="24" y="230"/>
                        </a:lnTo>
                        <a:lnTo>
                          <a:pt x="32" y="241"/>
                        </a:lnTo>
                        <a:lnTo>
                          <a:pt x="43" y="254"/>
                        </a:lnTo>
                        <a:lnTo>
                          <a:pt x="65" y="272"/>
                        </a:lnTo>
                        <a:lnTo>
                          <a:pt x="77" y="280"/>
                        </a:lnTo>
                        <a:lnTo>
                          <a:pt x="91" y="287"/>
                        </a:lnTo>
                        <a:lnTo>
                          <a:pt x="104" y="291"/>
                        </a:lnTo>
                        <a:lnTo>
                          <a:pt x="118" y="294"/>
                        </a:lnTo>
                        <a:lnTo>
                          <a:pt x="133" y="297"/>
                        </a:lnTo>
                        <a:lnTo>
                          <a:pt x="149" y="298"/>
                        </a:lnTo>
                        <a:lnTo>
                          <a:pt x="162" y="297"/>
                        </a:lnTo>
                        <a:lnTo>
                          <a:pt x="177" y="294"/>
                        </a:lnTo>
                        <a:lnTo>
                          <a:pt x="191" y="291"/>
                        </a:lnTo>
                        <a:lnTo>
                          <a:pt x="205" y="287"/>
                        </a:lnTo>
                        <a:lnTo>
                          <a:pt x="218" y="280"/>
                        </a:lnTo>
                        <a:lnTo>
                          <a:pt x="231" y="272"/>
                        </a:lnTo>
                        <a:lnTo>
                          <a:pt x="243" y="263"/>
                        </a:lnTo>
                        <a:lnTo>
                          <a:pt x="255" y="254"/>
                        </a:lnTo>
                        <a:lnTo>
                          <a:pt x="264" y="241"/>
                        </a:lnTo>
                        <a:lnTo>
                          <a:pt x="273" y="230"/>
                        </a:lnTo>
                        <a:lnTo>
                          <a:pt x="280" y="217"/>
                        </a:lnTo>
                        <a:lnTo>
                          <a:pt x="287" y="205"/>
                        </a:lnTo>
                        <a:lnTo>
                          <a:pt x="291" y="190"/>
                        </a:lnTo>
                        <a:lnTo>
                          <a:pt x="295" y="177"/>
                        </a:lnTo>
                        <a:lnTo>
                          <a:pt x="297" y="162"/>
                        </a:lnTo>
                        <a:lnTo>
                          <a:pt x="298" y="148"/>
                        </a:lnTo>
                        <a:lnTo>
                          <a:pt x="297" y="130"/>
                        </a:lnTo>
                        <a:lnTo>
                          <a:pt x="294" y="113"/>
                        </a:lnTo>
                        <a:lnTo>
                          <a:pt x="289" y="96"/>
                        </a:lnTo>
                        <a:lnTo>
                          <a:pt x="284" y="81"/>
                        </a:lnTo>
                        <a:lnTo>
                          <a:pt x="257" y="59"/>
                        </a:lnTo>
                        <a:lnTo>
                          <a:pt x="232" y="38"/>
                        </a:lnTo>
                        <a:lnTo>
                          <a:pt x="205" y="19"/>
                        </a:lnTo>
                        <a:lnTo>
                          <a:pt x="179" y="2"/>
                        </a:lnTo>
                        <a:close/>
                        <a:moveTo>
                          <a:pt x="37" y="148"/>
                        </a:moveTo>
                        <a:lnTo>
                          <a:pt x="39" y="124"/>
                        </a:lnTo>
                        <a:lnTo>
                          <a:pt x="45" y="104"/>
                        </a:lnTo>
                        <a:lnTo>
                          <a:pt x="54" y="85"/>
                        </a:lnTo>
                        <a:lnTo>
                          <a:pt x="70" y="69"/>
                        </a:lnTo>
                        <a:lnTo>
                          <a:pt x="86" y="54"/>
                        </a:lnTo>
                        <a:lnTo>
                          <a:pt x="105" y="45"/>
                        </a:lnTo>
                        <a:lnTo>
                          <a:pt x="126" y="38"/>
                        </a:lnTo>
                        <a:lnTo>
                          <a:pt x="149" y="37"/>
                        </a:lnTo>
                        <a:lnTo>
                          <a:pt x="170" y="38"/>
                        </a:lnTo>
                        <a:lnTo>
                          <a:pt x="191" y="45"/>
                        </a:lnTo>
                        <a:lnTo>
                          <a:pt x="200" y="49"/>
                        </a:lnTo>
                        <a:lnTo>
                          <a:pt x="210" y="54"/>
                        </a:lnTo>
                        <a:lnTo>
                          <a:pt x="228" y="69"/>
                        </a:lnTo>
                        <a:lnTo>
                          <a:pt x="242" y="85"/>
                        </a:lnTo>
                        <a:lnTo>
                          <a:pt x="252" y="104"/>
                        </a:lnTo>
                        <a:lnTo>
                          <a:pt x="259" y="124"/>
                        </a:lnTo>
                        <a:lnTo>
                          <a:pt x="261" y="148"/>
                        </a:lnTo>
                        <a:lnTo>
                          <a:pt x="260" y="153"/>
                        </a:lnTo>
                        <a:lnTo>
                          <a:pt x="260" y="158"/>
                        </a:lnTo>
                        <a:lnTo>
                          <a:pt x="259" y="170"/>
                        </a:lnTo>
                        <a:lnTo>
                          <a:pt x="252" y="190"/>
                        </a:lnTo>
                        <a:lnTo>
                          <a:pt x="246" y="199"/>
                        </a:lnTo>
                        <a:lnTo>
                          <a:pt x="242" y="209"/>
                        </a:lnTo>
                        <a:lnTo>
                          <a:pt x="228" y="228"/>
                        </a:lnTo>
                        <a:lnTo>
                          <a:pt x="210" y="241"/>
                        </a:lnTo>
                        <a:lnTo>
                          <a:pt x="200" y="246"/>
                        </a:lnTo>
                        <a:lnTo>
                          <a:pt x="191" y="251"/>
                        </a:lnTo>
                        <a:lnTo>
                          <a:pt x="170" y="258"/>
                        </a:lnTo>
                        <a:lnTo>
                          <a:pt x="159" y="259"/>
                        </a:lnTo>
                        <a:lnTo>
                          <a:pt x="153" y="259"/>
                        </a:lnTo>
                        <a:lnTo>
                          <a:pt x="149" y="260"/>
                        </a:lnTo>
                        <a:lnTo>
                          <a:pt x="126" y="258"/>
                        </a:lnTo>
                        <a:lnTo>
                          <a:pt x="105" y="251"/>
                        </a:lnTo>
                        <a:lnTo>
                          <a:pt x="86" y="241"/>
                        </a:lnTo>
                        <a:lnTo>
                          <a:pt x="70" y="228"/>
                        </a:lnTo>
                        <a:lnTo>
                          <a:pt x="54" y="209"/>
                        </a:lnTo>
                        <a:lnTo>
                          <a:pt x="49" y="199"/>
                        </a:lnTo>
                        <a:lnTo>
                          <a:pt x="45" y="190"/>
                        </a:lnTo>
                        <a:lnTo>
                          <a:pt x="39" y="170"/>
                        </a:lnTo>
                        <a:lnTo>
                          <a:pt x="37" y="148"/>
                        </a:lnTo>
                        <a:close/>
                      </a:path>
                    </a:pathLst>
                  </a:custGeom>
                  <a:solidFill>
                    <a:srgbClr val="00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6842160" y="62233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223">
                        <a:moveTo>
                          <a:pt x="33" y="32"/>
                        </a:moveTo>
                        <a:lnTo>
                          <a:pt x="17" y="48"/>
                        </a:lnTo>
                        <a:lnTo>
                          <a:pt x="8" y="67"/>
                        </a:lnTo>
                        <a:lnTo>
                          <a:pt x="2" y="87"/>
                        </a:lnTo>
                        <a:lnTo>
                          <a:pt x="0" y="111"/>
                        </a:lnTo>
                        <a:lnTo>
                          <a:pt x="2" y="133"/>
                        </a:lnTo>
                        <a:lnTo>
                          <a:pt x="8" y="153"/>
                        </a:lnTo>
                        <a:lnTo>
                          <a:pt x="12" y="162"/>
                        </a:lnTo>
                        <a:lnTo>
                          <a:pt x="17" y="172"/>
                        </a:lnTo>
                        <a:lnTo>
                          <a:pt x="33" y="191"/>
                        </a:lnTo>
                        <a:lnTo>
                          <a:pt x="49" y="204"/>
                        </a:lnTo>
                        <a:lnTo>
                          <a:pt x="68" y="214"/>
                        </a:lnTo>
                        <a:lnTo>
                          <a:pt x="89" y="221"/>
                        </a:lnTo>
                        <a:lnTo>
                          <a:pt x="112" y="223"/>
                        </a:lnTo>
                        <a:lnTo>
                          <a:pt x="116" y="222"/>
                        </a:lnTo>
                        <a:lnTo>
                          <a:pt x="122" y="222"/>
                        </a:lnTo>
                        <a:lnTo>
                          <a:pt x="133" y="221"/>
                        </a:lnTo>
                        <a:lnTo>
                          <a:pt x="154" y="214"/>
                        </a:lnTo>
                        <a:lnTo>
                          <a:pt x="163" y="209"/>
                        </a:lnTo>
                        <a:lnTo>
                          <a:pt x="173" y="204"/>
                        </a:lnTo>
                        <a:lnTo>
                          <a:pt x="191" y="191"/>
                        </a:lnTo>
                        <a:lnTo>
                          <a:pt x="205" y="172"/>
                        </a:lnTo>
                        <a:lnTo>
                          <a:pt x="209" y="162"/>
                        </a:lnTo>
                        <a:lnTo>
                          <a:pt x="215" y="153"/>
                        </a:lnTo>
                        <a:lnTo>
                          <a:pt x="222" y="133"/>
                        </a:lnTo>
                        <a:lnTo>
                          <a:pt x="223" y="121"/>
                        </a:lnTo>
                        <a:lnTo>
                          <a:pt x="223" y="116"/>
                        </a:lnTo>
                        <a:lnTo>
                          <a:pt x="224" y="111"/>
                        </a:lnTo>
                        <a:lnTo>
                          <a:pt x="222" y="87"/>
                        </a:lnTo>
                        <a:lnTo>
                          <a:pt x="215" y="67"/>
                        </a:lnTo>
                        <a:lnTo>
                          <a:pt x="205" y="48"/>
                        </a:lnTo>
                        <a:lnTo>
                          <a:pt x="191" y="32"/>
                        </a:lnTo>
                        <a:lnTo>
                          <a:pt x="173" y="17"/>
                        </a:lnTo>
                        <a:lnTo>
                          <a:pt x="163" y="12"/>
                        </a:lnTo>
                        <a:lnTo>
                          <a:pt x="154" y="8"/>
                        </a:lnTo>
                        <a:lnTo>
                          <a:pt x="133" y="1"/>
                        </a:lnTo>
                        <a:lnTo>
                          <a:pt x="112" y="0"/>
                        </a:lnTo>
                        <a:lnTo>
                          <a:pt x="89" y="1"/>
                        </a:lnTo>
                        <a:lnTo>
                          <a:pt x="68" y="8"/>
                        </a:lnTo>
                        <a:lnTo>
                          <a:pt x="49" y="17"/>
                        </a:lnTo>
                        <a:lnTo>
                          <a:pt x="33" y="32"/>
                        </a:lnTo>
                        <a:close/>
                        <a:moveTo>
                          <a:pt x="37" y="111"/>
                        </a:moveTo>
                        <a:lnTo>
                          <a:pt x="38" y="95"/>
                        </a:lnTo>
                        <a:lnTo>
                          <a:pt x="42" y="82"/>
                        </a:lnTo>
                        <a:lnTo>
                          <a:pt x="49" y="69"/>
                        </a:lnTo>
                        <a:lnTo>
                          <a:pt x="59" y="59"/>
                        </a:lnTo>
                        <a:lnTo>
                          <a:pt x="70" y="49"/>
                        </a:lnTo>
                        <a:lnTo>
                          <a:pt x="82" y="42"/>
                        </a:lnTo>
                        <a:lnTo>
                          <a:pt x="96" y="38"/>
                        </a:lnTo>
                        <a:lnTo>
                          <a:pt x="112" y="36"/>
                        </a:lnTo>
                        <a:lnTo>
                          <a:pt x="126" y="38"/>
                        </a:lnTo>
                        <a:lnTo>
                          <a:pt x="140" y="42"/>
                        </a:lnTo>
                        <a:lnTo>
                          <a:pt x="146" y="44"/>
                        </a:lnTo>
                        <a:lnTo>
                          <a:pt x="152" y="49"/>
                        </a:lnTo>
                        <a:lnTo>
                          <a:pt x="165" y="59"/>
                        </a:lnTo>
                        <a:lnTo>
                          <a:pt x="174" y="69"/>
                        </a:lnTo>
                        <a:lnTo>
                          <a:pt x="182" y="82"/>
                        </a:lnTo>
                        <a:lnTo>
                          <a:pt x="185" y="95"/>
                        </a:lnTo>
                        <a:lnTo>
                          <a:pt x="188" y="111"/>
                        </a:lnTo>
                        <a:lnTo>
                          <a:pt x="186" y="118"/>
                        </a:lnTo>
                        <a:lnTo>
                          <a:pt x="185" y="118"/>
                        </a:lnTo>
                        <a:lnTo>
                          <a:pt x="185" y="119"/>
                        </a:lnTo>
                        <a:lnTo>
                          <a:pt x="185" y="121"/>
                        </a:lnTo>
                        <a:lnTo>
                          <a:pt x="185" y="126"/>
                        </a:lnTo>
                        <a:lnTo>
                          <a:pt x="182" y="140"/>
                        </a:lnTo>
                        <a:lnTo>
                          <a:pt x="177" y="145"/>
                        </a:lnTo>
                        <a:lnTo>
                          <a:pt x="174" y="152"/>
                        </a:lnTo>
                        <a:lnTo>
                          <a:pt x="169" y="158"/>
                        </a:lnTo>
                        <a:lnTo>
                          <a:pt x="165" y="165"/>
                        </a:lnTo>
                        <a:lnTo>
                          <a:pt x="158" y="168"/>
                        </a:lnTo>
                        <a:lnTo>
                          <a:pt x="152" y="172"/>
                        </a:lnTo>
                        <a:lnTo>
                          <a:pt x="146" y="176"/>
                        </a:lnTo>
                        <a:lnTo>
                          <a:pt x="140" y="180"/>
                        </a:lnTo>
                        <a:lnTo>
                          <a:pt x="126" y="184"/>
                        </a:lnTo>
                        <a:lnTo>
                          <a:pt x="122" y="184"/>
                        </a:lnTo>
                        <a:lnTo>
                          <a:pt x="119" y="184"/>
                        </a:lnTo>
                        <a:lnTo>
                          <a:pt x="118" y="184"/>
                        </a:lnTo>
                        <a:lnTo>
                          <a:pt x="118" y="185"/>
                        </a:lnTo>
                        <a:lnTo>
                          <a:pt x="112" y="186"/>
                        </a:lnTo>
                        <a:lnTo>
                          <a:pt x="96" y="184"/>
                        </a:lnTo>
                        <a:lnTo>
                          <a:pt x="82" y="180"/>
                        </a:lnTo>
                        <a:lnTo>
                          <a:pt x="70" y="172"/>
                        </a:lnTo>
                        <a:lnTo>
                          <a:pt x="59" y="165"/>
                        </a:lnTo>
                        <a:lnTo>
                          <a:pt x="49" y="152"/>
                        </a:lnTo>
                        <a:lnTo>
                          <a:pt x="45" y="145"/>
                        </a:lnTo>
                        <a:lnTo>
                          <a:pt x="42" y="140"/>
                        </a:lnTo>
                        <a:lnTo>
                          <a:pt x="38" y="126"/>
                        </a:lnTo>
                        <a:lnTo>
                          <a:pt x="37" y="111"/>
                        </a:lnTo>
                        <a:close/>
                      </a:path>
                    </a:pathLst>
                  </a:custGeom>
                  <a:solidFill>
                    <a:srgbClr val="00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6851520" y="6232680"/>
                    <a:ext cx="38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50">
                        <a:moveTo>
                          <a:pt x="22" y="23"/>
                        </a:moveTo>
                        <a:lnTo>
                          <a:pt x="12" y="33"/>
                        </a:lnTo>
                        <a:lnTo>
                          <a:pt x="5" y="46"/>
                        </a:lnTo>
                        <a:lnTo>
                          <a:pt x="1" y="59"/>
                        </a:lnTo>
                        <a:lnTo>
                          <a:pt x="0" y="75"/>
                        </a:lnTo>
                        <a:lnTo>
                          <a:pt x="1" y="90"/>
                        </a:lnTo>
                        <a:lnTo>
                          <a:pt x="5" y="104"/>
                        </a:lnTo>
                        <a:lnTo>
                          <a:pt x="8" y="109"/>
                        </a:lnTo>
                        <a:lnTo>
                          <a:pt x="12" y="116"/>
                        </a:lnTo>
                        <a:lnTo>
                          <a:pt x="22" y="129"/>
                        </a:lnTo>
                        <a:lnTo>
                          <a:pt x="33" y="136"/>
                        </a:lnTo>
                        <a:lnTo>
                          <a:pt x="45" y="144"/>
                        </a:lnTo>
                        <a:lnTo>
                          <a:pt x="59" y="148"/>
                        </a:lnTo>
                        <a:lnTo>
                          <a:pt x="75" y="150"/>
                        </a:lnTo>
                        <a:lnTo>
                          <a:pt x="81" y="149"/>
                        </a:lnTo>
                        <a:lnTo>
                          <a:pt x="81" y="148"/>
                        </a:lnTo>
                        <a:lnTo>
                          <a:pt x="82" y="148"/>
                        </a:lnTo>
                        <a:lnTo>
                          <a:pt x="85" y="148"/>
                        </a:lnTo>
                        <a:lnTo>
                          <a:pt x="89" y="148"/>
                        </a:lnTo>
                        <a:lnTo>
                          <a:pt x="103" y="144"/>
                        </a:lnTo>
                        <a:lnTo>
                          <a:pt x="109" y="140"/>
                        </a:lnTo>
                        <a:lnTo>
                          <a:pt x="115" y="136"/>
                        </a:lnTo>
                        <a:lnTo>
                          <a:pt x="121" y="132"/>
                        </a:lnTo>
                        <a:lnTo>
                          <a:pt x="128" y="129"/>
                        </a:lnTo>
                        <a:lnTo>
                          <a:pt x="132" y="122"/>
                        </a:lnTo>
                        <a:lnTo>
                          <a:pt x="137" y="116"/>
                        </a:lnTo>
                        <a:lnTo>
                          <a:pt x="140" y="109"/>
                        </a:lnTo>
                        <a:lnTo>
                          <a:pt x="145" y="104"/>
                        </a:lnTo>
                        <a:lnTo>
                          <a:pt x="148" y="90"/>
                        </a:lnTo>
                        <a:lnTo>
                          <a:pt x="148" y="85"/>
                        </a:lnTo>
                        <a:lnTo>
                          <a:pt x="148" y="83"/>
                        </a:lnTo>
                        <a:lnTo>
                          <a:pt x="148" y="82"/>
                        </a:lnTo>
                        <a:lnTo>
                          <a:pt x="149" y="82"/>
                        </a:lnTo>
                        <a:lnTo>
                          <a:pt x="151" y="75"/>
                        </a:lnTo>
                        <a:lnTo>
                          <a:pt x="148" y="59"/>
                        </a:lnTo>
                        <a:lnTo>
                          <a:pt x="145" y="46"/>
                        </a:lnTo>
                        <a:lnTo>
                          <a:pt x="137" y="33"/>
                        </a:lnTo>
                        <a:lnTo>
                          <a:pt x="128" y="23"/>
                        </a:lnTo>
                        <a:lnTo>
                          <a:pt x="115" y="13"/>
                        </a:lnTo>
                        <a:lnTo>
                          <a:pt x="109" y="8"/>
                        </a:lnTo>
                        <a:lnTo>
                          <a:pt x="103" y="6"/>
                        </a:lnTo>
                        <a:lnTo>
                          <a:pt x="89" y="2"/>
                        </a:lnTo>
                        <a:lnTo>
                          <a:pt x="75" y="0"/>
                        </a:lnTo>
                        <a:lnTo>
                          <a:pt x="59" y="2"/>
                        </a:lnTo>
                        <a:lnTo>
                          <a:pt x="45" y="6"/>
                        </a:lnTo>
                        <a:lnTo>
                          <a:pt x="33" y="13"/>
                        </a:lnTo>
                        <a:lnTo>
                          <a:pt x="22" y="23"/>
                        </a:lnTo>
                        <a:close/>
                        <a:moveTo>
                          <a:pt x="38" y="75"/>
                        </a:moveTo>
                        <a:lnTo>
                          <a:pt x="41" y="61"/>
                        </a:lnTo>
                        <a:lnTo>
                          <a:pt x="48" y="49"/>
                        </a:lnTo>
                        <a:lnTo>
                          <a:pt x="60" y="41"/>
                        </a:lnTo>
                        <a:lnTo>
                          <a:pt x="75" y="39"/>
                        </a:lnTo>
                        <a:lnTo>
                          <a:pt x="81" y="39"/>
                        </a:lnTo>
                        <a:lnTo>
                          <a:pt x="89" y="41"/>
                        </a:lnTo>
                        <a:lnTo>
                          <a:pt x="95" y="44"/>
                        </a:lnTo>
                        <a:lnTo>
                          <a:pt x="102" y="49"/>
                        </a:lnTo>
                        <a:lnTo>
                          <a:pt x="109" y="61"/>
                        </a:lnTo>
                        <a:lnTo>
                          <a:pt x="111" y="67"/>
                        </a:lnTo>
                        <a:lnTo>
                          <a:pt x="112" y="75"/>
                        </a:lnTo>
                        <a:lnTo>
                          <a:pt x="111" y="82"/>
                        </a:lnTo>
                        <a:lnTo>
                          <a:pt x="109" y="89"/>
                        </a:lnTo>
                        <a:lnTo>
                          <a:pt x="106" y="91"/>
                        </a:lnTo>
                        <a:lnTo>
                          <a:pt x="105" y="91"/>
                        </a:lnTo>
                        <a:lnTo>
                          <a:pt x="105" y="92"/>
                        </a:lnTo>
                        <a:lnTo>
                          <a:pt x="105" y="95"/>
                        </a:lnTo>
                        <a:lnTo>
                          <a:pt x="102" y="101"/>
                        </a:lnTo>
                        <a:lnTo>
                          <a:pt x="95" y="106"/>
                        </a:lnTo>
                        <a:lnTo>
                          <a:pt x="93" y="106"/>
                        </a:lnTo>
                        <a:lnTo>
                          <a:pt x="92" y="106"/>
                        </a:lnTo>
                        <a:lnTo>
                          <a:pt x="92" y="107"/>
                        </a:lnTo>
                        <a:lnTo>
                          <a:pt x="89" y="109"/>
                        </a:lnTo>
                        <a:lnTo>
                          <a:pt x="81" y="112"/>
                        </a:lnTo>
                        <a:lnTo>
                          <a:pt x="75" y="113"/>
                        </a:lnTo>
                        <a:lnTo>
                          <a:pt x="67" y="112"/>
                        </a:lnTo>
                        <a:lnTo>
                          <a:pt x="60" y="109"/>
                        </a:lnTo>
                        <a:lnTo>
                          <a:pt x="53" y="106"/>
                        </a:lnTo>
                        <a:lnTo>
                          <a:pt x="48" y="101"/>
                        </a:lnTo>
                        <a:lnTo>
                          <a:pt x="43" y="95"/>
                        </a:lnTo>
                        <a:lnTo>
                          <a:pt x="41" y="89"/>
                        </a:lnTo>
                        <a:lnTo>
                          <a:pt x="38" y="82"/>
                        </a:lnTo>
                        <a:lnTo>
                          <a:pt x="38" y="75"/>
                        </a:lnTo>
                        <a:close/>
                      </a:path>
                    </a:pathLst>
                  </a:custGeom>
                  <a:solidFill>
                    <a:srgbClr val="00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6861600" y="6242040"/>
                    <a:ext cx="180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4">
                        <a:moveTo>
                          <a:pt x="10" y="10"/>
                        </a:moveTo>
                        <a:lnTo>
                          <a:pt x="3" y="22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lnTo>
                          <a:pt x="5" y="56"/>
                        </a:lnTo>
                        <a:lnTo>
                          <a:pt x="10" y="62"/>
                        </a:lnTo>
                        <a:lnTo>
                          <a:pt x="15" y="67"/>
                        </a:lnTo>
                        <a:lnTo>
                          <a:pt x="22" y="70"/>
                        </a:lnTo>
                        <a:lnTo>
                          <a:pt x="29" y="73"/>
                        </a:lnTo>
                        <a:lnTo>
                          <a:pt x="37" y="74"/>
                        </a:lnTo>
                        <a:lnTo>
                          <a:pt x="43" y="73"/>
                        </a:lnTo>
                        <a:lnTo>
                          <a:pt x="51" y="70"/>
                        </a:lnTo>
                        <a:lnTo>
                          <a:pt x="54" y="68"/>
                        </a:lnTo>
                        <a:lnTo>
                          <a:pt x="54" y="67"/>
                        </a:lnTo>
                        <a:lnTo>
                          <a:pt x="55" y="67"/>
                        </a:lnTo>
                        <a:lnTo>
                          <a:pt x="57" y="67"/>
                        </a:lnTo>
                        <a:lnTo>
                          <a:pt x="64" y="62"/>
                        </a:lnTo>
                        <a:lnTo>
                          <a:pt x="67" y="56"/>
                        </a:lnTo>
                        <a:lnTo>
                          <a:pt x="67" y="53"/>
                        </a:lnTo>
                        <a:lnTo>
                          <a:pt x="67" y="52"/>
                        </a:lnTo>
                        <a:lnTo>
                          <a:pt x="68" y="52"/>
                        </a:lnTo>
                        <a:lnTo>
                          <a:pt x="71" y="50"/>
                        </a:lnTo>
                        <a:lnTo>
                          <a:pt x="73" y="43"/>
                        </a:lnTo>
                        <a:lnTo>
                          <a:pt x="74" y="36"/>
                        </a:lnTo>
                        <a:lnTo>
                          <a:pt x="73" y="28"/>
                        </a:lnTo>
                        <a:lnTo>
                          <a:pt x="71" y="22"/>
                        </a:lnTo>
                        <a:lnTo>
                          <a:pt x="64" y="10"/>
                        </a:lnTo>
                        <a:lnTo>
                          <a:pt x="57" y="5"/>
                        </a:lnTo>
                        <a:lnTo>
                          <a:pt x="51" y="2"/>
                        </a:lnTo>
                        <a:lnTo>
                          <a:pt x="43" y="0"/>
                        </a:lnTo>
                        <a:lnTo>
                          <a:pt x="37" y="0"/>
                        </a:lnTo>
                        <a:lnTo>
                          <a:pt x="22" y="2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6652800" y="6250320"/>
                    <a:ext cx="279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863">
                        <a:moveTo>
                          <a:pt x="35" y="4"/>
                        </a:moveTo>
                        <a:lnTo>
                          <a:pt x="35" y="0"/>
                        </a:lnTo>
                        <a:lnTo>
                          <a:pt x="0" y="46"/>
                        </a:lnTo>
                        <a:lnTo>
                          <a:pt x="1" y="86"/>
                        </a:lnTo>
                        <a:lnTo>
                          <a:pt x="6" y="126"/>
                        </a:lnTo>
                        <a:lnTo>
                          <a:pt x="12" y="164"/>
                        </a:lnTo>
                        <a:lnTo>
                          <a:pt x="21" y="204"/>
                        </a:lnTo>
                        <a:lnTo>
                          <a:pt x="29" y="241"/>
                        </a:lnTo>
                        <a:lnTo>
                          <a:pt x="41" y="279"/>
                        </a:lnTo>
                        <a:lnTo>
                          <a:pt x="54" y="315"/>
                        </a:lnTo>
                        <a:lnTo>
                          <a:pt x="69" y="351"/>
                        </a:lnTo>
                        <a:lnTo>
                          <a:pt x="84" y="385"/>
                        </a:lnTo>
                        <a:lnTo>
                          <a:pt x="103" y="419"/>
                        </a:lnTo>
                        <a:lnTo>
                          <a:pt x="123" y="452"/>
                        </a:lnTo>
                        <a:lnTo>
                          <a:pt x="145" y="486"/>
                        </a:lnTo>
                        <a:lnTo>
                          <a:pt x="168" y="518"/>
                        </a:lnTo>
                        <a:lnTo>
                          <a:pt x="194" y="549"/>
                        </a:lnTo>
                        <a:lnTo>
                          <a:pt x="220" y="580"/>
                        </a:lnTo>
                        <a:lnTo>
                          <a:pt x="250" y="612"/>
                        </a:lnTo>
                        <a:lnTo>
                          <a:pt x="280" y="641"/>
                        </a:lnTo>
                        <a:lnTo>
                          <a:pt x="313" y="670"/>
                        </a:lnTo>
                        <a:lnTo>
                          <a:pt x="346" y="696"/>
                        </a:lnTo>
                        <a:lnTo>
                          <a:pt x="381" y="721"/>
                        </a:lnTo>
                        <a:lnTo>
                          <a:pt x="416" y="742"/>
                        </a:lnTo>
                        <a:lnTo>
                          <a:pt x="453" y="764"/>
                        </a:lnTo>
                        <a:lnTo>
                          <a:pt x="489" y="783"/>
                        </a:lnTo>
                        <a:lnTo>
                          <a:pt x="528" y="800"/>
                        </a:lnTo>
                        <a:lnTo>
                          <a:pt x="565" y="815"/>
                        </a:lnTo>
                        <a:lnTo>
                          <a:pt x="605" y="827"/>
                        </a:lnTo>
                        <a:lnTo>
                          <a:pt x="644" y="837"/>
                        </a:lnTo>
                        <a:lnTo>
                          <a:pt x="685" y="848"/>
                        </a:lnTo>
                        <a:lnTo>
                          <a:pt x="726" y="853"/>
                        </a:lnTo>
                        <a:lnTo>
                          <a:pt x="769" y="859"/>
                        </a:lnTo>
                        <a:lnTo>
                          <a:pt x="812" y="862"/>
                        </a:lnTo>
                        <a:lnTo>
                          <a:pt x="858" y="863"/>
                        </a:lnTo>
                        <a:lnTo>
                          <a:pt x="910" y="861"/>
                        </a:lnTo>
                        <a:lnTo>
                          <a:pt x="962" y="858"/>
                        </a:lnTo>
                        <a:lnTo>
                          <a:pt x="987" y="853"/>
                        </a:lnTo>
                        <a:lnTo>
                          <a:pt x="999" y="851"/>
                        </a:lnTo>
                        <a:lnTo>
                          <a:pt x="1013" y="850"/>
                        </a:lnTo>
                        <a:lnTo>
                          <a:pt x="1038" y="845"/>
                        </a:lnTo>
                        <a:lnTo>
                          <a:pt x="1064" y="841"/>
                        </a:lnTo>
                        <a:lnTo>
                          <a:pt x="1100" y="793"/>
                        </a:lnTo>
                        <a:lnTo>
                          <a:pt x="1041" y="807"/>
                        </a:lnTo>
                        <a:lnTo>
                          <a:pt x="1011" y="811"/>
                        </a:lnTo>
                        <a:lnTo>
                          <a:pt x="981" y="817"/>
                        </a:lnTo>
                        <a:lnTo>
                          <a:pt x="920" y="824"/>
                        </a:lnTo>
                        <a:lnTo>
                          <a:pt x="888" y="825"/>
                        </a:lnTo>
                        <a:lnTo>
                          <a:pt x="872" y="825"/>
                        </a:lnTo>
                        <a:lnTo>
                          <a:pt x="864" y="825"/>
                        </a:lnTo>
                        <a:lnTo>
                          <a:pt x="858" y="826"/>
                        </a:lnTo>
                        <a:lnTo>
                          <a:pt x="814" y="825"/>
                        </a:lnTo>
                        <a:lnTo>
                          <a:pt x="774" y="821"/>
                        </a:lnTo>
                        <a:lnTo>
                          <a:pt x="733" y="816"/>
                        </a:lnTo>
                        <a:lnTo>
                          <a:pt x="693" y="810"/>
                        </a:lnTo>
                        <a:lnTo>
                          <a:pt x="653" y="801"/>
                        </a:lnTo>
                        <a:lnTo>
                          <a:pt x="616" y="791"/>
                        </a:lnTo>
                        <a:lnTo>
                          <a:pt x="579" y="778"/>
                        </a:lnTo>
                        <a:lnTo>
                          <a:pt x="542" y="766"/>
                        </a:lnTo>
                        <a:lnTo>
                          <a:pt x="506" y="749"/>
                        </a:lnTo>
                        <a:lnTo>
                          <a:pt x="471" y="731"/>
                        </a:lnTo>
                        <a:lnTo>
                          <a:pt x="436" y="712"/>
                        </a:lnTo>
                        <a:lnTo>
                          <a:pt x="403" y="690"/>
                        </a:lnTo>
                        <a:lnTo>
                          <a:pt x="370" y="666"/>
                        </a:lnTo>
                        <a:lnTo>
                          <a:pt x="338" y="641"/>
                        </a:lnTo>
                        <a:lnTo>
                          <a:pt x="306" y="614"/>
                        </a:lnTo>
                        <a:lnTo>
                          <a:pt x="277" y="586"/>
                        </a:lnTo>
                        <a:lnTo>
                          <a:pt x="246" y="554"/>
                        </a:lnTo>
                        <a:lnTo>
                          <a:pt x="219" y="523"/>
                        </a:lnTo>
                        <a:lnTo>
                          <a:pt x="193" y="491"/>
                        </a:lnTo>
                        <a:lnTo>
                          <a:pt x="170" y="459"/>
                        </a:lnTo>
                        <a:lnTo>
                          <a:pt x="148" y="424"/>
                        </a:lnTo>
                        <a:lnTo>
                          <a:pt x="128" y="390"/>
                        </a:lnTo>
                        <a:lnTo>
                          <a:pt x="110" y="354"/>
                        </a:lnTo>
                        <a:lnTo>
                          <a:pt x="96" y="319"/>
                        </a:lnTo>
                        <a:lnTo>
                          <a:pt x="81" y="282"/>
                        </a:lnTo>
                        <a:lnTo>
                          <a:pt x="68" y="245"/>
                        </a:lnTo>
                        <a:lnTo>
                          <a:pt x="58" y="206"/>
                        </a:lnTo>
                        <a:lnTo>
                          <a:pt x="50" y="167"/>
                        </a:lnTo>
                        <a:lnTo>
                          <a:pt x="42" y="127"/>
                        </a:lnTo>
                        <a:lnTo>
                          <a:pt x="39" y="87"/>
                        </a:lnTo>
                        <a:lnTo>
                          <a:pt x="35" y="45"/>
                        </a:lnTo>
                        <a:lnTo>
                          <a:pt x="35" y="4"/>
                        </a:lnTo>
                        <a:close/>
                      </a:path>
                    </a:pathLst>
                  </a:custGeom>
                  <a:solidFill>
                    <a:srgbClr val="00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6661800" y="6239520"/>
                    <a:ext cx="277920" cy="22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6" h="868">
                        <a:moveTo>
                          <a:pt x="0" y="42"/>
                        </a:moveTo>
                        <a:lnTo>
                          <a:pt x="0" y="46"/>
                        </a:lnTo>
                        <a:lnTo>
                          <a:pt x="0" y="87"/>
                        </a:lnTo>
                        <a:lnTo>
                          <a:pt x="4" y="129"/>
                        </a:lnTo>
                        <a:lnTo>
                          <a:pt x="7" y="169"/>
                        </a:lnTo>
                        <a:lnTo>
                          <a:pt x="15" y="209"/>
                        </a:lnTo>
                        <a:lnTo>
                          <a:pt x="23" y="248"/>
                        </a:lnTo>
                        <a:lnTo>
                          <a:pt x="33" y="287"/>
                        </a:lnTo>
                        <a:lnTo>
                          <a:pt x="46" y="324"/>
                        </a:lnTo>
                        <a:lnTo>
                          <a:pt x="61" y="361"/>
                        </a:lnTo>
                        <a:lnTo>
                          <a:pt x="75" y="396"/>
                        </a:lnTo>
                        <a:lnTo>
                          <a:pt x="93" y="432"/>
                        </a:lnTo>
                        <a:lnTo>
                          <a:pt x="113" y="466"/>
                        </a:lnTo>
                        <a:lnTo>
                          <a:pt x="135" y="501"/>
                        </a:lnTo>
                        <a:lnTo>
                          <a:pt x="158" y="533"/>
                        </a:lnTo>
                        <a:lnTo>
                          <a:pt x="184" y="565"/>
                        </a:lnTo>
                        <a:lnTo>
                          <a:pt x="211" y="596"/>
                        </a:lnTo>
                        <a:lnTo>
                          <a:pt x="242" y="628"/>
                        </a:lnTo>
                        <a:lnTo>
                          <a:pt x="271" y="656"/>
                        </a:lnTo>
                        <a:lnTo>
                          <a:pt x="303" y="683"/>
                        </a:lnTo>
                        <a:lnTo>
                          <a:pt x="335" y="708"/>
                        </a:lnTo>
                        <a:lnTo>
                          <a:pt x="368" y="732"/>
                        </a:lnTo>
                        <a:lnTo>
                          <a:pt x="401" y="754"/>
                        </a:lnTo>
                        <a:lnTo>
                          <a:pt x="436" y="773"/>
                        </a:lnTo>
                        <a:lnTo>
                          <a:pt x="471" y="791"/>
                        </a:lnTo>
                        <a:lnTo>
                          <a:pt x="507" y="808"/>
                        </a:lnTo>
                        <a:lnTo>
                          <a:pt x="544" y="820"/>
                        </a:lnTo>
                        <a:lnTo>
                          <a:pt x="581" y="833"/>
                        </a:lnTo>
                        <a:lnTo>
                          <a:pt x="618" y="843"/>
                        </a:lnTo>
                        <a:lnTo>
                          <a:pt x="658" y="852"/>
                        </a:lnTo>
                        <a:lnTo>
                          <a:pt x="698" y="858"/>
                        </a:lnTo>
                        <a:lnTo>
                          <a:pt x="739" y="863"/>
                        </a:lnTo>
                        <a:lnTo>
                          <a:pt x="779" y="867"/>
                        </a:lnTo>
                        <a:lnTo>
                          <a:pt x="823" y="868"/>
                        </a:lnTo>
                        <a:lnTo>
                          <a:pt x="829" y="867"/>
                        </a:lnTo>
                        <a:lnTo>
                          <a:pt x="837" y="867"/>
                        </a:lnTo>
                        <a:lnTo>
                          <a:pt x="853" y="867"/>
                        </a:lnTo>
                        <a:lnTo>
                          <a:pt x="885" y="866"/>
                        </a:lnTo>
                        <a:lnTo>
                          <a:pt x="946" y="859"/>
                        </a:lnTo>
                        <a:lnTo>
                          <a:pt x="976" y="853"/>
                        </a:lnTo>
                        <a:lnTo>
                          <a:pt x="1006" y="849"/>
                        </a:lnTo>
                        <a:lnTo>
                          <a:pt x="1065" y="835"/>
                        </a:lnTo>
                        <a:lnTo>
                          <a:pt x="1081" y="810"/>
                        </a:lnTo>
                        <a:lnTo>
                          <a:pt x="1096" y="785"/>
                        </a:lnTo>
                        <a:lnTo>
                          <a:pt x="1079" y="790"/>
                        </a:lnTo>
                        <a:lnTo>
                          <a:pt x="1063" y="795"/>
                        </a:lnTo>
                        <a:lnTo>
                          <a:pt x="1030" y="805"/>
                        </a:lnTo>
                        <a:lnTo>
                          <a:pt x="996" y="812"/>
                        </a:lnTo>
                        <a:lnTo>
                          <a:pt x="963" y="819"/>
                        </a:lnTo>
                        <a:lnTo>
                          <a:pt x="928" y="824"/>
                        </a:lnTo>
                        <a:lnTo>
                          <a:pt x="894" y="827"/>
                        </a:lnTo>
                        <a:lnTo>
                          <a:pt x="858" y="829"/>
                        </a:lnTo>
                        <a:lnTo>
                          <a:pt x="840" y="829"/>
                        </a:lnTo>
                        <a:lnTo>
                          <a:pt x="830" y="829"/>
                        </a:lnTo>
                        <a:lnTo>
                          <a:pt x="826" y="829"/>
                        </a:lnTo>
                        <a:lnTo>
                          <a:pt x="824" y="829"/>
                        </a:lnTo>
                        <a:lnTo>
                          <a:pt x="823" y="831"/>
                        </a:lnTo>
                        <a:lnTo>
                          <a:pt x="782" y="829"/>
                        </a:lnTo>
                        <a:lnTo>
                          <a:pt x="742" y="826"/>
                        </a:lnTo>
                        <a:lnTo>
                          <a:pt x="702" y="822"/>
                        </a:lnTo>
                        <a:lnTo>
                          <a:pt x="665" y="816"/>
                        </a:lnTo>
                        <a:lnTo>
                          <a:pt x="628" y="807"/>
                        </a:lnTo>
                        <a:lnTo>
                          <a:pt x="591" y="797"/>
                        </a:lnTo>
                        <a:lnTo>
                          <a:pt x="555" y="785"/>
                        </a:lnTo>
                        <a:lnTo>
                          <a:pt x="521" y="773"/>
                        </a:lnTo>
                        <a:lnTo>
                          <a:pt x="486" y="757"/>
                        </a:lnTo>
                        <a:lnTo>
                          <a:pt x="453" y="740"/>
                        </a:lnTo>
                        <a:lnTo>
                          <a:pt x="420" y="721"/>
                        </a:lnTo>
                        <a:lnTo>
                          <a:pt x="388" y="701"/>
                        </a:lnTo>
                        <a:lnTo>
                          <a:pt x="356" y="679"/>
                        </a:lnTo>
                        <a:lnTo>
                          <a:pt x="326" y="655"/>
                        </a:lnTo>
                        <a:lnTo>
                          <a:pt x="296" y="629"/>
                        </a:lnTo>
                        <a:lnTo>
                          <a:pt x="268" y="602"/>
                        </a:lnTo>
                        <a:lnTo>
                          <a:pt x="240" y="571"/>
                        </a:lnTo>
                        <a:lnTo>
                          <a:pt x="214" y="542"/>
                        </a:lnTo>
                        <a:lnTo>
                          <a:pt x="189" y="510"/>
                        </a:lnTo>
                        <a:lnTo>
                          <a:pt x="167" y="479"/>
                        </a:lnTo>
                        <a:lnTo>
                          <a:pt x="146" y="446"/>
                        </a:lnTo>
                        <a:lnTo>
                          <a:pt x="127" y="414"/>
                        </a:lnTo>
                        <a:lnTo>
                          <a:pt x="110" y="379"/>
                        </a:lnTo>
                        <a:lnTo>
                          <a:pt x="96" y="347"/>
                        </a:lnTo>
                        <a:lnTo>
                          <a:pt x="81" y="310"/>
                        </a:lnTo>
                        <a:lnTo>
                          <a:pt x="70" y="275"/>
                        </a:lnTo>
                        <a:lnTo>
                          <a:pt x="59" y="238"/>
                        </a:lnTo>
                        <a:lnTo>
                          <a:pt x="53" y="202"/>
                        </a:lnTo>
                        <a:lnTo>
                          <a:pt x="46" y="163"/>
                        </a:lnTo>
                        <a:lnTo>
                          <a:pt x="42" y="124"/>
                        </a:lnTo>
                        <a:lnTo>
                          <a:pt x="39" y="85"/>
                        </a:lnTo>
                        <a:lnTo>
                          <a:pt x="39" y="46"/>
                        </a:lnTo>
                        <a:lnTo>
                          <a:pt x="40" y="0"/>
                        </a:lnTo>
                        <a:lnTo>
                          <a:pt x="39" y="0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6699960" y="6208200"/>
                    <a:ext cx="25704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843">
                        <a:moveTo>
                          <a:pt x="59" y="0"/>
                        </a:moveTo>
                        <a:lnTo>
                          <a:pt x="15" y="25"/>
                        </a:lnTo>
                        <a:lnTo>
                          <a:pt x="7" y="59"/>
                        </a:lnTo>
                        <a:lnTo>
                          <a:pt x="4" y="95"/>
                        </a:lnTo>
                        <a:lnTo>
                          <a:pt x="0" y="171"/>
                        </a:lnTo>
                        <a:lnTo>
                          <a:pt x="0" y="204"/>
                        </a:lnTo>
                        <a:lnTo>
                          <a:pt x="2" y="238"/>
                        </a:lnTo>
                        <a:lnTo>
                          <a:pt x="6" y="271"/>
                        </a:lnTo>
                        <a:lnTo>
                          <a:pt x="12" y="305"/>
                        </a:lnTo>
                        <a:lnTo>
                          <a:pt x="17" y="336"/>
                        </a:lnTo>
                        <a:lnTo>
                          <a:pt x="26" y="367"/>
                        </a:lnTo>
                        <a:lnTo>
                          <a:pt x="37" y="398"/>
                        </a:lnTo>
                        <a:lnTo>
                          <a:pt x="49" y="430"/>
                        </a:lnTo>
                        <a:lnTo>
                          <a:pt x="60" y="458"/>
                        </a:lnTo>
                        <a:lnTo>
                          <a:pt x="75" y="487"/>
                        </a:lnTo>
                        <a:lnTo>
                          <a:pt x="91" y="515"/>
                        </a:lnTo>
                        <a:lnTo>
                          <a:pt x="109" y="543"/>
                        </a:lnTo>
                        <a:lnTo>
                          <a:pt x="127" y="569"/>
                        </a:lnTo>
                        <a:lnTo>
                          <a:pt x="149" y="596"/>
                        </a:lnTo>
                        <a:lnTo>
                          <a:pt x="171" y="621"/>
                        </a:lnTo>
                        <a:lnTo>
                          <a:pt x="196" y="647"/>
                        </a:lnTo>
                        <a:lnTo>
                          <a:pt x="220" y="670"/>
                        </a:lnTo>
                        <a:lnTo>
                          <a:pt x="246" y="693"/>
                        </a:lnTo>
                        <a:lnTo>
                          <a:pt x="272" y="713"/>
                        </a:lnTo>
                        <a:lnTo>
                          <a:pt x="300" y="732"/>
                        </a:lnTo>
                        <a:lnTo>
                          <a:pt x="327" y="749"/>
                        </a:lnTo>
                        <a:lnTo>
                          <a:pt x="355" y="765"/>
                        </a:lnTo>
                        <a:lnTo>
                          <a:pt x="384" y="780"/>
                        </a:lnTo>
                        <a:lnTo>
                          <a:pt x="413" y="794"/>
                        </a:lnTo>
                        <a:lnTo>
                          <a:pt x="442" y="805"/>
                        </a:lnTo>
                        <a:lnTo>
                          <a:pt x="473" y="815"/>
                        </a:lnTo>
                        <a:lnTo>
                          <a:pt x="504" y="823"/>
                        </a:lnTo>
                        <a:lnTo>
                          <a:pt x="537" y="831"/>
                        </a:lnTo>
                        <a:lnTo>
                          <a:pt x="568" y="835"/>
                        </a:lnTo>
                        <a:lnTo>
                          <a:pt x="602" y="840"/>
                        </a:lnTo>
                        <a:lnTo>
                          <a:pt x="636" y="842"/>
                        </a:lnTo>
                        <a:lnTo>
                          <a:pt x="672" y="843"/>
                        </a:lnTo>
                        <a:lnTo>
                          <a:pt x="676" y="842"/>
                        </a:lnTo>
                        <a:lnTo>
                          <a:pt x="682" y="842"/>
                        </a:lnTo>
                        <a:lnTo>
                          <a:pt x="693" y="842"/>
                        </a:lnTo>
                        <a:lnTo>
                          <a:pt x="716" y="841"/>
                        </a:lnTo>
                        <a:lnTo>
                          <a:pt x="737" y="839"/>
                        </a:lnTo>
                        <a:lnTo>
                          <a:pt x="760" y="838"/>
                        </a:lnTo>
                        <a:lnTo>
                          <a:pt x="803" y="830"/>
                        </a:lnTo>
                        <a:lnTo>
                          <a:pt x="846" y="822"/>
                        </a:lnTo>
                        <a:lnTo>
                          <a:pt x="865" y="815"/>
                        </a:lnTo>
                        <a:lnTo>
                          <a:pt x="886" y="809"/>
                        </a:lnTo>
                        <a:lnTo>
                          <a:pt x="905" y="803"/>
                        </a:lnTo>
                        <a:lnTo>
                          <a:pt x="926" y="796"/>
                        </a:lnTo>
                        <a:lnTo>
                          <a:pt x="964" y="779"/>
                        </a:lnTo>
                        <a:lnTo>
                          <a:pt x="1003" y="760"/>
                        </a:lnTo>
                        <a:lnTo>
                          <a:pt x="1013" y="710"/>
                        </a:lnTo>
                        <a:lnTo>
                          <a:pt x="992" y="720"/>
                        </a:lnTo>
                        <a:lnTo>
                          <a:pt x="973" y="731"/>
                        </a:lnTo>
                        <a:lnTo>
                          <a:pt x="953" y="741"/>
                        </a:lnTo>
                        <a:lnTo>
                          <a:pt x="943" y="746"/>
                        </a:lnTo>
                        <a:lnTo>
                          <a:pt x="934" y="752"/>
                        </a:lnTo>
                        <a:lnTo>
                          <a:pt x="893" y="767"/>
                        </a:lnTo>
                        <a:lnTo>
                          <a:pt x="852" y="782"/>
                        </a:lnTo>
                        <a:lnTo>
                          <a:pt x="829" y="787"/>
                        </a:lnTo>
                        <a:lnTo>
                          <a:pt x="818" y="789"/>
                        </a:lnTo>
                        <a:lnTo>
                          <a:pt x="814" y="789"/>
                        </a:lnTo>
                        <a:lnTo>
                          <a:pt x="812" y="790"/>
                        </a:lnTo>
                        <a:lnTo>
                          <a:pt x="808" y="792"/>
                        </a:lnTo>
                        <a:lnTo>
                          <a:pt x="785" y="796"/>
                        </a:lnTo>
                        <a:lnTo>
                          <a:pt x="763" y="800"/>
                        </a:lnTo>
                        <a:lnTo>
                          <a:pt x="718" y="805"/>
                        </a:lnTo>
                        <a:lnTo>
                          <a:pt x="706" y="805"/>
                        </a:lnTo>
                        <a:lnTo>
                          <a:pt x="694" y="806"/>
                        </a:lnTo>
                        <a:lnTo>
                          <a:pt x="672" y="807"/>
                        </a:lnTo>
                        <a:lnTo>
                          <a:pt x="639" y="806"/>
                        </a:lnTo>
                        <a:lnTo>
                          <a:pt x="607" y="804"/>
                        </a:lnTo>
                        <a:lnTo>
                          <a:pt x="545" y="795"/>
                        </a:lnTo>
                        <a:lnTo>
                          <a:pt x="514" y="788"/>
                        </a:lnTo>
                        <a:lnTo>
                          <a:pt x="484" y="780"/>
                        </a:lnTo>
                        <a:lnTo>
                          <a:pt x="455" y="771"/>
                        </a:lnTo>
                        <a:lnTo>
                          <a:pt x="428" y="761"/>
                        </a:lnTo>
                        <a:lnTo>
                          <a:pt x="372" y="733"/>
                        </a:lnTo>
                        <a:lnTo>
                          <a:pt x="345" y="718"/>
                        </a:lnTo>
                        <a:lnTo>
                          <a:pt x="320" y="702"/>
                        </a:lnTo>
                        <a:lnTo>
                          <a:pt x="294" y="684"/>
                        </a:lnTo>
                        <a:lnTo>
                          <a:pt x="269" y="664"/>
                        </a:lnTo>
                        <a:lnTo>
                          <a:pt x="222" y="621"/>
                        </a:lnTo>
                        <a:lnTo>
                          <a:pt x="199" y="596"/>
                        </a:lnTo>
                        <a:lnTo>
                          <a:pt x="178" y="573"/>
                        </a:lnTo>
                        <a:lnTo>
                          <a:pt x="158" y="546"/>
                        </a:lnTo>
                        <a:lnTo>
                          <a:pt x="141" y="521"/>
                        </a:lnTo>
                        <a:lnTo>
                          <a:pt x="123" y="494"/>
                        </a:lnTo>
                        <a:lnTo>
                          <a:pt x="108" y="468"/>
                        </a:lnTo>
                        <a:lnTo>
                          <a:pt x="94" y="441"/>
                        </a:lnTo>
                        <a:lnTo>
                          <a:pt x="83" y="415"/>
                        </a:lnTo>
                        <a:lnTo>
                          <a:pt x="71" y="385"/>
                        </a:lnTo>
                        <a:lnTo>
                          <a:pt x="61" y="357"/>
                        </a:lnTo>
                        <a:lnTo>
                          <a:pt x="54" y="327"/>
                        </a:lnTo>
                        <a:lnTo>
                          <a:pt x="48" y="297"/>
                        </a:lnTo>
                        <a:lnTo>
                          <a:pt x="42" y="265"/>
                        </a:lnTo>
                        <a:lnTo>
                          <a:pt x="39" y="235"/>
                        </a:lnTo>
                        <a:lnTo>
                          <a:pt x="37" y="203"/>
                        </a:lnTo>
                        <a:lnTo>
                          <a:pt x="37" y="171"/>
                        </a:lnTo>
                        <a:lnTo>
                          <a:pt x="38" y="126"/>
                        </a:lnTo>
                        <a:lnTo>
                          <a:pt x="42" y="83"/>
                        </a:lnTo>
                        <a:lnTo>
                          <a:pt x="49" y="4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6671520" y="6230520"/>
                    <a:ext cx="27432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869">
                        <a:moveTo>
                          <a:pt x="1" y="38"/>
                        </a:moveTo>
                        <a:lnTo>
                          <a:pt x="0" y="84"/>
                        </a:lnTo>
                        <a:lnTo>
                          <a:pt x="0" y="123"/>
                        </a:lnTo>
                        <a:lnTo>
                          <a:pt x="3" y="162"/>
                        </a:lnTo>
                        <a:lnTo>
                          <a:pt x="7" y="201"/>
                        </a:lnTo>
                        <a:lnTo>
                          <a:pt x="14" y="240"/>
                        </a:lnTo>
                        <a:lnTo>
                          <a:pt x="20" y="276"/>
                        </a:lnTo>
                        <a:lnTo>
                          <a:pt x="31" y="313"/>
                        </a:lnTo>
                        <a:lnTo>
                          <a:pt x="42" y="348"/>
                        </a:lnTo>
                        <a:lnTo>
                          <a:pt x="57" y="385"/>
                        </a:lnTo>
                        <a:lnTo>
                          <a:pt x="71" y="417"/>
                        </a:lnTo>
                        <a:lnTo>
                          <a:pt x="88" y="452"/>
                        </a:lnTo>
                        <a:lnTo>
                          <a:pt x="107" y="484"/>
                        </a:lnTo>
                        <a:lnTo>
                          <a:pt x="128" y="517"/>
                        </a:lnTo>
                        <a:lnTo>
                          <a:pt x="150" y="548"/>
                        </a:lnTo>
                        <a:lnTo>
                          <a:pt x="175" y="580"/>
                        </a:lnTo>
                        <a:lnTo>
                          <a:pt x="201" y="609"/>
                        </a:lnTo>
                        <a:lnTo>
                          <a:pt x="229" y="640"/>
                        </a:lnTo>
                        <a:lnTo>
                          <a:pt x="257" y="667"/>
                        </a:lnTo>
                        <a:lnTo>
                          <a:pt x="287" y="693"/>
                        </a:lnTo>
                        <a:lnTo>
                          <a:pt x="317" y="717"/>
                        </a:lnTo>
                        <a:lnTo>
                          <a:pt x="349" y="739"/>
                        </a:lnTo>
                        <a:lnTo>
                          <a:pt x="381" y="759"/>
                        </a:lnTo>
                        <a:lnTo>
                          <a:pt x="414" y="778"/>
                        </a:lnTo>
                        <a:lnTo>
                          <a:pt x="447" y="795"/>
                        </a:lnTo>
                        <a:lnTo>
                          <a:pt x="482" y="811"/>
                        </a:lnTo>
                        <a:lnTo>
                          <a:pt x="516" y="823"/>
                        </a:lnTo>
                        <a:lnTo>
                          <a:pt x="552" y="835"/>
                        </a:lnTo>
                        <a:lnTo>
                          <a:pt x="589" y="845"/>
                        </a:lnTo>
                        <a:lnTo>
                          <a:pt x="626" y="854"/>
                        </a:lnTo>
                        <a:lnTo>
                          <a:pt x="663" y="860"/>
                        </a:lnTo>
                        <a:lnTo>
                          <a:pt x="703" y="864"/>
                        </a:lnTo>
                        <a:lnTo>
                          <a:pt x="743" y="867"/>
                        </a:lnTo>
                        <a:lnTo>
                          <a:pt x="784" y="869"/>
                        </a:lnTo>
                        <a:lnTo>
                          <a:pt x="785" y="867"/>
                        </a:lnTo>
                        <a:lnTo>
                          <a:pt x="787" y="867"/>
                        </a:lnTo>
                        <a:lnTo>
                          <a:pt x="791" y="867"/>
                        </a:lnTo>
                        <a:lnTo>
                          <a:pt x="801" y="867"/>
                        </a:lnTo>
                        <a:lnTo>
                          <a:pt x="819" y="867"/>
                        </a:lnTo>
                        <a:lnTo>
                          <a:pt x="855" y="865"/>
                        </a:lnTo>
                        <a:lnTo>
                          <a:pt x="889" y="862"/>
                        </a:lnTo>
                        <a:lnTo>
                          <a:pt x="924" y="857"/>
                        </a:lnTo>
                        <a:lnTo>
                          <a:pt x="957" y="850"/>
                        </a:lnTo>
                        <a:lnTo>
                          <a:pt x="991" y="843"/>
                        </a:lnTo>
                        <a:lnTo>
                          <a:pt x="1024" y="833"/>
                        </a:lnTo>
                        <a:lnTo>
                          <a:pt x="1040" y="828"/>
                        </a:lnTo>
                        <a:lnTo>
                          <a:pt x="1057" y="823"/>
                        </a:lnTo>
                        <a:lnTo>
                          <a:pt x="1081" y="773"/>
                        </a:lnTo>
                        <a:lnTo>
                          <a:pt x="1063" y="779"/>
                        </a:lnTo>
                        <a:lnTo>
                          <a:pt x="1046" y="786"/>
                        </a:lnTo>
                        <a:lnTo>
                          <a:pt x="1010" y="797"/>
                        </a:lnTo>
                        <a:lnTo>
                          <a:pt x="974" y="807"/>
                        </a:lnTo>
                        <a:lnTo>
                          <a:pt x="938" y="816"/>
                        </a:lnTo>
                        <a:lnTo>
                          <a:pt x="899" y="822"/>
                        </a:lnTo>
                        <a:lnTo>
                          <a:pt x="862" y="827"/>
                        </a:lnTo>
                        <a:lnTo>
                          <a:pt x="841" y="828"/>
                        </a:lnTo>
                        <a:lnTo>
                          <a:pt x="822" y="830"/>
                        </a:lnTo>
                        <a:lnTo>
                          <a:pt x="784" y="831"/>
                        </a:lnTo>
                        <a:lnTo>
                          <a:pt x="745" y="830"/>
                        </a:lnTo>
                        <a:lnTo>
                          <a:pt x="708" y="828"/>
                        </a:lnTo>
                        <a:lnTo>
                          <a:pt x="670" y="823"/>
                        </a:lnTo>
                        <a:lnTo>
                          <a:pt x="634" y="818"/>
                        </a:lnTo>
                        <a:lnTo>
                          <a:pt x="598" y="810"/>
                        </a:lnTo>
                        <a:lnTo>
                          <a:pt x="564" y="801"/>
                        </a:lnTo>
                        <a:lnTo>
                          <a:pt x="530" y="789"/>
                        </a:lnTo>
                        <a:lnTo>
                          <a:pt x="497" y="777"/>
                        </a:lnTo>
                        <a:lnTo>
                          <a:pt x="464" y="762"/>
                        </a:lnTo>
                        <a:lnTo>
                          <a:pt x="432" y="746"/>
                        </a:lnTo>
                        <a:lnTo>
                          <a:pt x="400" y="728"/>
                        </a:lnTo>
                        <a:lnTo>
                          <a:pt x="370" y="709"/>
                        </a:lnTo>
                        <a:lnTo>
                          <a:pt x="339" y="687"/>
                        </a:lnTo>
                        <a:lnTo>
                          <a:pt x="311" y="665"/>
                        </a:lnTo>
                        <a:lnTo>
                          <a:pt x="282" y="640"/>
                        </a:lnTo>
                        <a:lnTo>
                          <a:pt x="255" y="614"/>
                        </a:lnTo>
                        <a:lnTo>
                          <a:pt x="227" y="584"/>
                        </a:lnTo>
                        <a:lnTo>
                          <a:pt x="203" y="556"/>
                        </a:lnTo>
                        <a:lnTo>
                          <a:pt x="179" y="526"/>
                        </a:lnTo>
                        <a:lnTo>
                          <a:pt x="159" y="497"/>
                        </a:lnTo>
                        <a:lnTo>
                          <a:pt x="138" y="465"/>
                        </a:lnTo>
                        <a:lnTo>
                          <a:pt x="121" y="434"/>
                        </a:lnTo>
                        <a:lnTo>
                          <a:pt x="104" y="403"/>
                        </a:lnTo>
                        <a:lnTo>
                          <a:pt x="91" y="371"/>
                        </a:lnTo>
                        <a:lnTo>
                          <a:pt x="77" y="336"/>
                        </a:lnTo>
                        <a:lnTo>
                          <a:pt x="67" y="302"/>
                        </a:lnTo>
                        <a:lnTo>
                          <a:pt x="57" y="267"/>
                        </a:lnTo>
                        <a:lnTo>
                          <a:pt x="50" y="233"/>
                        </a:lnTo>
                        <a:lnTo>
                          <a:pt x="43" y="195"/>
                        </a:lnTo>
                        <a:lnTo>
                          <a:pt x="40" y="159"/>
                        </a:lnTo>
                        <a:lnTo>
                          <a:pt x="36" y="122"/>
                        </a:lnTo>
                        <a:lnTo>
                          <a:pt x="36" y="84"/>
                        </a:lnTo>
                        <a:lnTo>
                          <a:pt x="37" y="41"/>
                        </a:lnTo>
                        <a:lnTo>
                          <a:pt x="41" y="0"/>
                        </a:lnTo>
                        <a:lnTo>
                          <a:pt x="1" y="38"/>
                        </a:lnTo>
                        <a:close/>
                      </a:path>
                    </a:pathLst>
                  </a:custGeom>
                  <a:solidFill>
                    <a:srgbClr val="00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6680520" y="6221880"/>
                    <a:ext cx="270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863">
                        <a:moveTo>
                          <a:pt x="38" y="116"/>
                        </a:moveTo>
                        <a:lnTo>
                          <a:pt x="40" y="56"/>
                        </a:lnTo>
                        <a:lnTo>
                          <a:pt x="47" y="0"/>
                        </a:lnTo>
                        <a:lnTo>
                          <a:pt x="5" y="32"/>
                        </a:lnTo>
                        <a:lnTo>
                          <a:pt x="1" y="73"/>
                        </a:lnTo>
                        <a:lnTo>
                          <a:pt x="0" y="116"/>
                        </a:lnTo>
                        <a:lnTo>
                          <a:pt x="0" y="154"/>
                        </a:lnTo>
                        <a:lnTo>
                          <a:pt x="4" y="191"/>
                        </a:lnTo>
                        <a:lnTo>
                          <a:pt x="7" y="227"/>
                        </a:lnTo>
                        <a:lnTo>
                          <a:pt x="14" y="265"/>
                        </a:lnTo>
                        <a:lnTo>
                          <a:pt x="21" y="299"/>
                        </a:lnTo>
                        <a:lnTo>
                          <a:pt x="31" y="334"/>
                        </a:lnTo>
                        <a:lnTo>
                          <a:pt x="41" y="368"/>
                        </a:lnTo>
                        <a:lnTo>
                          <a:pt x="55" y="403"/>
                        </a:lnTo>
                        <a:lnTo>
                          <a:pt x="68" y="435"/>
                        </a:lnTo>
                        <a:lnTo>
                          <a:pt x="85" y="466"/>
                        </a:lnTo>
                        <a:lnTo>
                          <a:pt x="102" y="497"/>
                        </a:lnTo>
                        <a:lnTo>
                          <a:pt x="123" y="529"/>
                        </a:lnTo>
                        <a:lnTo>
                          <a:pt x="143" y="558"/>
                        </a:lnTo>
                        <a:lnTo>
                          <a:pt x="167" y="588"/>
                        </a:lnTo>
                        <a:lnTo>
                          <a:pt x="191" y="616"/>
                        </a:lnTo>
                        <a:lnTo>
                          <a:pt x="219" y="646"/>
                        </a:lnTo>
                        <a:lnTo>
                          <a:pt x="246" y="672"/>
                        </a:lnTo>
                        <a:lnTo>
                          <a:pt x="275" y="697"/>
                        </a:lnTo>
                        <a:lnTo>
                          <a:pt x="303" y="719"/>
                        </a:lnTo>
                        <a:lnTo>
                          <a:pt x="334" y="741"/>
                        </a:lnTo>
                        <a:lnTo>
                          <a:pt x="364" y="760"/>
                        </a:lnTo>
                        <a:lnTo>
                          <a:pt x="396" y="778"/>
                        </a:lnTo>
                        <a:lnTo>
                          <a:pt x="428" y="794"/>
                        </a:lnTo>
                        <a:lnTo>
                          <a:pt x="461" y="809"/>
                        </a:lnTo>
                        <a:lnTo>
                          <a:pt x="494" y="821"/>
                        </a:lnTo>
                        <a:lnTo>
                          <a:pt x="528" y="833"/>
                        </a:lnTo>
                        <a:lnTo>
                          <a:pt x="562" y="842"/>
                        </a:lnTo>
                        <a:lnTo>
                          <a:pt x="598" y="850"/>
                        </a:lnTo>
                        <a:lnTo>
                          <a:pt x="634" y="855"/>
                        </a:lnTo>
                        <a:lnTo>
                          <a:pt x="672" y="860"/>
                        </a:lnTo>
                        <a:lnTo>
                          <a:pt x="709" y="862"/>
                        </a:lnTo>
                        <a:lnTo>
                          <a:pt x="748" y="863"/>
                        </a:lnTo>
                        <a:lnTo>
                          <a:pt x="786" y="862"/>
                        </a:lnTo>
                        <a:lnTo>
                          <a:pt x="805" y="860"/>
                        </a:lnTo>
                        <a:lnTo>
                          <a:pt x="826" y="859"/>
                        </a:lnTo>
                        <a:lnTo>
                          <a:pt x="863" y="854"/>
                        </a:lnTo>
                        <a:lnTo>
                          <a:pt x="902" y="848"/>
                        </a:lnTo>
                        <a:lnTo>
                          <a:pt x="938" y="839"/>
                        </a:lnTo>
                        <a:lnTo>
                          <a:pt x="974" y="829"/>
                        </a:lnTo>
                        <a:lnTo>
                          <a:pt x="1010" y="818"/>
                        </a:lnTo>
                        <a:lnTo>
                          <a:pt x="1027" y="811"/>
                        </a:lnTo>
                        <a:lnTo>
                          <a:pt x="1045" y="805"/>
                        </a:lnTo>
                        <a:lnTo>
                          <a:pt x="1054" y="779"/>
                        </a:lnTo>
                        <a:lnTo>
                          <a:pt x="1064" y="754"/>
                        </a:lnTo>
                        <a:lnTo>
                          <a:pt x="1061" y="754"/>
                        </a:lnTo>
                        <a:lnTo>
                          <a:pt x="1058" y="756"/>
                        </a:lnTo>
                        <a:lnTo>
                          <a:pt x="1054" y="758"/>
                        </a:lnTo>
                        <a:lnTo>
                          <a:pt x="1045" y="762"/>
                        </a:lnTo>
                        <a:lnTo>
                          <a:pt x="1027" y="771"/>
                        </a:lnTo>
                        <a:lnTo>
                          <a:pt x="990" y="786"/>
                        </a:lnTo>
                        <a:lnTo>
                          <a:pt x="952" y="799"/>
                        </a:lnTo>
                        <a:lnTo>
                          <a:pt x="913" y="809"/>
                        </a:lnTo>
                        <a:lnTo>
                          <a:pt x="872" y="817"/>
                        </a:lnTo>
                        <a:lnTo>
                          <a:pt x="831" y="822"/>
                        </a:lnTo>
                        <a:lnTo>
                          <a:pt x="820" y="822"/>
                        </a:lnTo>
                        <a:lnTo>
                          <a:pt x="814" y="822"/>
                        </a:lnTo>
                        <a:lnTo>
                          <a:pt x="810" y="824"/>
                        </a:lnTo>
                        <a:lnTo>
                          <a:pt x="790" y="826"/>
                        </a:lnTo>
                        <a:lnTo>
                          <a:pt x="768" y="826"/>
                        </a:lnTo>
                        <a:lnTo>
                          <a:pt x="748" y="827"/>
                        </a:lnTo>
                        <a:lnTo>
                          <a:pt x="710" y="826"/>
                        </a:lnTo>
                        <a:lnTo>
                          <a:pt x="674" y="824"/>
                        </a:lnTo>
                        <a:lnTo>
                          <a:pt x="639" y="819"/>
                        </a:lnTo>
                        <a:lnTo>
                          <a:pt x="605" y="813"/>
                        </a:lnTo>
                        <a:lnTo>
                          <a:pt x="571" y="805"/>
                        </a:lnTo>
                        <a:lnTo>
                          <a:pt x="538" y="796"/>
                        </a:lnTo>
                        <a:lnTo>
                          <a:pt x="505" y="786"/>
                        </a:lnTo>
                        <a:lnTo>
                          <a:pt x="474" y="775"/>
                        </a:lnTo>
                        <a:lnTo>
                          <a:pt x="443" y="760"/>
                        </a:lnTo>
                        <a:lnTo>
                          <a:pt x="412" y="744"/>
                        </a:lnTo>
                        <a:lnTo>
                          <a:pt x="382" y="727"/>
                        </a:lnTo>
                        <a:lnTo>
                          <a:pt x="354" y="709"/>
                        </a:lnTo>
                        <a:lnTo>
                          <a:pt x="326" y="689"/>
                        </a:lnTo>
                        <a:lnTo>
                          <a:pt x="298" y="667"/>
                        </a:lnTo>
                        <a:lnTo>
                          <a:pt x="271" y="643"/>
                        </a:lnTo>
                        <a:lnTo>
                          <a:pt x="246" y="618"/>
                        </a:lnTo>
                        <a:lnTo>
                          <a:pt x="220" y="591"/>
                        </a:lnTo>
                        <a:lnTo>
                          <a:pt x="196" y="564"/>
                        </a:lnTo>
                        <a:lnTo>
                          <a:pt x="174" y="536"/>
                        </a:lnTo>
                        <a:lnTo>
                          <a:pt x="154" y="508"/>
                        </a:lnTo>
                        <a:lnTo>
                          <a:pt x="135" y="478"/>
                        </a:lnTo>
                        <a:lnTo>
                          <a:pt x="118" y="448"/>
                        </a:lnTo>
                        <a:lnTo>
                          <a:pt x="102" y="418"/>
                        </a:lnTo>
                        <a:lnTo>
                          <a:pt x="90" y="388"/>
                        </a:lnTo>
                        <a:lnTo>
                          <a:pt x="76" y="355"/>
                        </a:lnTo>
                        <a:lnTo>
                          <a:pt x="66" y="324"/>
                        </a:lnTo>
                        <a:lnTo>
                          <a:pt x="57" y="291"/>
                        </a:lnTo>
                        <a:lnTo>
                          <a:pt x="50" y="258"/>
                        </a:lnTo>
                        <a:lnTo>
                          <a:pt x="43" y="223"/>
                        </a:lnTo>
                        <a:lnTo>
                          <a:pt x="40" y="188"/>
                        </a:lnTo>
                        <a:lnTo>
                          <a:pt x="38" y="151"/>
                        </a:lnTo>
                        <a:lnTo>
                          <a:pt x="38" y="116"/>
                        </a:lnTo>
                        <a:close/>
                      </a:path>
                    </a:pathLst>
                  </a:custGeom>
                  <a:solidFill>
                    <a:srgbClr val="00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6690240" y="6214680"/>
                    <a:ext cx="264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1" h="857">
                        <a:moveTo>
                          <a:pt x="9" y="30"/>
                        </a:moveTo>
                        <a:lnTo>
                          <a:pt x="2" y="86"/>
                        </a:lnTo>
                        <a:lnTo>
                          <a:pt x="0" y="146"/>
                        </a:lnTo>
                        <a:lnTo>
                          <a:pt x="0" y="181"/>
                        </a:lnTo>
                        <a:lnTo>
                          <a:pt x="2" y="218"/>
                        </a:lnTo>
                        <a:lnTo>
                          <a:pt x="5" y="253"/>
                        </a:lnTo>
                        <a:lnTo>
                          <a:pt x="12" y="288"/>
                        </a:lnTo>
                        <a:lnTo>
                          <a:pt x="19" y="321"/>
                        </a:lnTo>
                        <a:lnTo>
                          <a:pt x="28" y="354"/>
                        </a:lnTo>
                        <a:lnTo>
                          <a:pt x="38" y="385"/>
                        </a:lnTo>
                        <a:lnTo>
                          <a:pt x="52" y="418"/>
                        </a:lnTo>
                        <a:lnTo>
                          <a:pt x="64" y="448"/>
                        </a:lnTo>
                        <a:lnTo>
                          <a:pt x="80" y="478"/>
                        </a:lnTo>
                        <a:lnTo>
                          <a:pt x="97" y="508"/>
                        </a:lnTo>
                        <a:lnTo>
                          <a:pt x="116" y="538"/>
                        </a:lnTo>
                        <a:lnTo>
                          <a:pt x="136" y="566"/>
                        </a:lnTo>
                        <a:lnTo>
                          <a:pt x="158" y="594"/>
                        </a:lnTo>
                        <a:lnTo>
                          <a:pt x="182" y="621"/>
                        </a:lnTo>
                        <a:lnTo>
                          <a:pt x="208" y="648"/>
                        </a:lnTo>
                        <a:lnTo>
                          <a:pt x="233" y="673"/>
                        </a:lnTo>
                        <a:lnTo>
                          <a:pt x="260" y="697"/>
                        </a:lnTo>
                        <a:lnTo>
                          <a:pt x="288" y="719"/>
                        </a:lnTo>
                        <a:lnTo>
                          <a:pt x="316" y="739"/>
                        </a:lnTo>
                        <a:lnTo>
                          <a:pt x="344" y="757"/>
                        </a:lnTo>
                        <a:lnTo>
                          <a:pt x="374" y="774"/>
                        </a:lnTo>
                        <a:lnTo>
                          <a:pt x="405" y="790"/>
                        </a:lnTo>
                        <a:lnTo>
                          <a:pt x="436" y="805"/>
                        </a:lnTo>
                        <a:lnTo>
                          <a:pt x="467" y="816"/>
                        </a:lnTo>
                        <a:lnTo>
                          <a:pt x="500" y="826"/>
                        </a:lnTo>
                        <a:lnTo>
                          <a:pt x="533" y="835"/>
                        </a:lnTo>
                        <a:lnTo>
                          <a:pt x="567" y="843"/>
                        </a:lnTo>
                        <a:lnTo>
                          <a:pt x="601" y="849"/>
                        </a:lnTo>
                        <a:lnTo>
                          <a:pt x="636" y="854"/>
                        </a:lnTo>
                        <a:lnTo>
                          <a:pt x="672" y="856"/>
                        </a:lnTo>
                        <a:lnTo>
                          <a:pt x="710" y="857"/>
                        </a:lnTo>
                        <a:lnTo>
                          <a:pt x="730" y="856"/>
                        </a:lnTo>
                        <a:lnTo>
                          <a:pt x="752" y="856"/>
                        </a:lnTo>
                        <a:lnTo>
                          <a:pt x="772" y="854"/>
                        </a:lnTo>
                        <a:lnTo>
                          <a:pt x="776" y="852"/>
                        </a:lnTo>
                        <a:lnTo>
                          <a:pt x="782" y="852"/>
                        </a:lnTo>
                        <a:lnTo>
                          <a:pt x="793" y="852"/>
                        </a:lnTo>
                        <a:lnTo>
                          <a:pt x="834" y="847"/>
                        </a:lnTo>
                        <a:lnTo>
                          <a:pt x="875" y="839"/>
                        </a:lnTo>
                        <a:lnTo>
                          <a:pt x="914" y="829"/>
                        </a:lnTo>
                        <a:lnTo>
                          <a:pt x="952" y="816"/>
                        </a:lnTo>
                        <a:lnTo>
                          <a:pt x="989" y="801"/>
                        </a:lnTo>
                        <a:lnTo>
                          <a:pt x="1007" y="792"/>
                        </a:lnTo>
                        <a:lnTo>
                          <a:pt x="1016" y="788"/>
                        </a:lnTo>
                        <a:lnTo>
                          <a:pt x="1020" y="786"/>
                        </a:lnTo>
                        <a:lnTo>
                          <a:pt x="1023" y="784"/>
                        </a:lnTo>
                        <a:lnTo>
                          <a:pt x="1026" y="784"/>
                        </a:lnTo>
                        <a:lnTo>
                          <a:pt x="1041" y="735"/>
                        </a:lnTo>
                        <a:lnTo>
                          <a:pt x="1002" y="754"/>
                        </a:lnTo>
                        <a:lnTo>
                          <a:pt x="964" y="771"/>
                        </a:lnTo>
                        <a:lnTo>
                          <a:pt x="943" y="778"/>
                        </a:lnTo>
                        <a:lnTo>
                          <a:pt x="924" y="784"/>
                        </a:lnTo>
                        <a:lnTo>
                          <a:pt x="903" y="790"/>
                        </a:lnTo>
                        <a:lnTo>
                          <a:pt x="884" y="797"/>
                        </a:lnTo>
                        <a:lnTo>
                          <a:pt x="841" y="805"/>
                        </a:lnTo>
                        <a:lnTo>
                          <a:pt x="798" y="813"/>
                        </a:lnTo>
                        <a:lnTo>
                          <a:pt x="775" y="814"/>
                        </a:lnTo>
                        <a:lnTo>
                          <a:pt x="754" y="816"/>
                        </a:lnTo>
                        <a:lnTo>
                          <a:pt x="731" y="817"/>
                        </a:lnTo>
                        <a:lnTo>
                          <a:pt x="720" y="817"/>
                        </a:lnTo>
                        <a:lnTo>
                          <a:pt x="714" y="817"/>
                        </a:lnTo>
                        <a:lnTo>
                          <a:pt x="710" y="818"/>
                        </a:lnTo>
                        <a:lnTo>
                          <a:pt x="674" y="817"/>
                        </a:lnTo>
                        <a:lnTo>
                          <a:pt x="640" y="815"/>
                        </a:lnTo>
                        <a:lnTo>
                          <a:pt x="606" y="810"/>
                        </a:lnTo>
                        <a:lnTo>
                          <a:pt x="575" y="806"/>
                        </a:lnTo>
                        <a:lnTo>
                          <a:pt x="542" y="798"/>
                        </a:lnTo>
                        <a:lnTo>
                          <a:pt x="511" y="790"/>
                        </a:lnTo>
                        <a:lnTo>
                          <a:pt x="480" y="780"/>
                        </a:lnTo>
                        <a:lnTo>
                          <a:pt x="451" y="769"/>
                        </a:lnTo>
                        <a:lnTo>
                          <a:pt x="422" y="755"/>
                        </a:lnTo>
                        <a:lnTo>
                          <a:pt x="393" y="740"/>
                        </a:lnTo>
                        <a:lnTo>
                          <a:pt x="365" y="724"/>
                        </a:lnTo>
                        <a:lnTo>
                          <a:pt x="338" y="707"/>
                        </a:lnTo>
                        <a:lnTo>
                          <a:pt x="310" y="688"/>
                        </a:lnTo>
                        <a:lnTo>
                          <a:pt x="284" y="668"/>
                        </a:lnTo>
                        <a:lnTo>
                          <a:pt x="258" y="645"/>
                        </a:lnTo>
                        <a:lnTo>
                          <a:pt x="234" y="622"/>
                        </a:lnTo>
                        <a:lnTo>
                          <a:pt x="209" y="596"/>
                        </a:lnTo>
                        <a:lnTo>
                          <a:pt x="187" y="571"/>
                        </a:lnTo>
                        <a:lnTo>
                          <a:pt x="165" y="544"/>
                        </a:lnTo>
                        <a:lnTo>
                          <a:pt x="147" y="518"/>
                        </a:lnTo>
                        <a:lnTo>
                          <a:pt x="129" y="490"/>
                        </a:lnTo>
                        <a:lnTo>
                          <a:pt x="113" y="462"/>
                        </a:lnTo>
                        <a:lnTo>
                          <a:pt x="98" y="433"/>
                        </a:lnTo>
                        <a:lnTo>
                          <a:pt x="87" y="405"/>
                        </a:lnTo>
                        <a:lnTo>
                          <a:pt x="75" y="373"/>
                        </a:lnTo>
                        <a:lnTo>
                          <a:pt x="64" y="342"/>
                        </a:lnTo>
                        <a:lnTo>
                          <a:pt x="55" y="311"/>
                        </a:lnTo>
                        <a:lnTo>
                          <a:pt x="50" y="280"/>
                        </a:lnTo>
                        <a:lnTo>
                          <a:pt x="44" y="246"/>
                        </a:lnTo>
                        <a:lnTo>
                          <a:pt x="40" y="213"/>
                        </a:lnTo>
                        <a:lnTo>
                          <a:pt x="38" y="179"/>
                        </a:lnTo>
                        <a:lnTo>
                          <a:pt x="38" y="146"/>
                        </a:lnTo>
                        <a:lnTo>
                          <a:pt x="42" y="70"/>
                        </a:lnTo>
                        <a:lnTo>
                          <a:pt x="45" y="34"/>
                        </a:lnTo>
                        <a:lnTo>
                          <a:pt x="53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00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6708960" y="6202440"/>
                    <a:ext cx="24984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983" h="828">
                        <a:moveTo>
                          <a:pt x="22" y="21"/>
                        </a:moveTo>
                        <a:lnTo>
                          <a:pt x="12" y="61"/>
                        </a:lnTo>
                        <a:lnTo>
                          <a:pt x="5" y="104"/>
                        </a:lnTo>
                        <a:lnTo>
                          <a:pt x="1" y="147"/>
                        </a:lnTo>
                        <a:lnTo>
                          <a:pt x="0" y="192"/>
                        </a:lnTo>
                        <a:lnTo>
                          <a:pt x="0" y="224"/>
                        </a:lnTo>
                        <a:lnTo>
                          <a:pt x="2" y="256"/>
                        </a:lnTo>
                        <a:lnTo>
                          <a:pt x="5" y="286"/>
                        </a:lnTo>
                        <a:lnTo>
                          <a:pt x="11" y="318"/>
                        </a:lnTo>
                        <a:lnTo>
                          <a:pt x="17" y="348"/>
                        </a:lnTo>
                        <a:lnTo>
                          <a:pt x="24" y="378"/>
                        </a:lnTo>
                        <a:lnTo>
                          <a:pt x="34" y="406"/>
                        </a:lnTo>
                        <a:lnTo>
                          <a:pt x="46" y="436"/>
                        </a:lnTo>
                        <a:lnTo>
                          <a:pt x="57" y="462"/>
                        </a:lnTo>
                        <a:lnTo>
                          <a:pt x="71" y="489"/>
                        </a:lnTo>
                        <a:lnTo>
                          <a:pt x="86" y="515"/>
                        </a:lnTo>
                        <a:lnTo>
                          <a:pt x="104" y="542"/>
                        </a:lnTo>
                        <a:lnTo>
                          <a:pt x="121" y="567"/>
                        </a:lnTo>
                        <a:lnTo>
                          <a:pt x="141" y="594"/>
                        </a:lnTo>
                        <a:lnTo>
                          <a:pt x="162" y="617"/>
                        </a:lnTo>
                        <a:lnTo>
                          <a:pt x="185" y="642"/>
                        </a:lnTo>
                        <a:lnTo>
                          <a:pt x="232" y="685"/>
                        </a:lnTo>
                        <a:lnTo>
                          <a:pt x="257" y="705"/>
                        </a:lnTo>
                        <a:lnTo>
                          <a:pt x="283" y="723"/>
                        </a:lnTo>
                        <a:lnTo>
                          <a:pt x="308" y="739"/>
                        </a:lnTo>
                        <a:lnTo>
                          <a:pt x="335" y="754"/>
                        </a:lnTo>
                        <a:lnTo>
                          <a:pt x="391" y="782"/>
                        </a:lnTo>
                        <a:lnTo>
                          <a:pt x="418" y="792"/>
                        </a:lnTo>
                        <a:lnTo>
                          <a:pt x="447" y="801"/>
                        </a:lnTo>
                        <a:lnTo>
                          <a:pt x="477" y="809"/>
                        </a:lnTo>
                        <a:lnTo>
                          <a:pt x="508" y="816"/>
                        </a:lnTo>
                        <a:lnTo>
                          <a:pt x="570" y="825"/>
                        </a:lnTo>
                        <a:lnTo>
                          <a:pt x="602" y="827"/>
                        </a:lnTo>
                        <a:lnTo>
                          <a:pt x="635" y="828"/>
                        </a:lnTo>
                        <a:lnTo>
                          <a:pt x="657" y="827"/>
                        </a:lnTo>
                        <a:lnTo>
                          <a:pt x="669" y="826"/>
                        </a:lnTo>
                        <a:lnTo>
                          <a:pt x="681" y="826"/>
                        </a:lnTo>
                        <a:lnTo>
                          <a:pt x="726" y="821"/>
                        </a:lnTo>
                        <a:lnTo>
                          <a:pt x="748" y="817"/>
                        </a:lnTo>
                        <a:lnTo>
                          <a:pt x="771" y="813"/>
                        </a:lnTo>
                        <a:lnTo>
                          <a:pt x="775" y="811"/>
                        </a:lnTo>
                        <a:lnTo>
                          <a:pt x="777" y="810"/>
                        </a:lnTo>
                        <a:lnTo>
                          <a:pt x="781" y="810"/>
                        </a:lnTo>
                        <a:lnTo>
                          <a:pt x="792" y="808"/>
                        </a:lnTo>
                        <a:lnTo>
                          <a:pt x="815" y="803"/>
                        </a:lnTo>
                        <a:lnTo>
                          <a:pt x="856" y="788"/>
                        </a:lnTo>
                        <a:lnTo>
                          <a:pt x="897" y="773"/>
                        </a:lnTo>
                        <a:lnTo>
                          <a:pt x="906" y="767"/>
                        </a:lnTo>
                        <a:lnTo>
                          <a:pt x="916" y="762"/>
                        </a:lnTo>
                        <a:lnTo>
                          <a:pt x="936" y="752"/>
                        </a:lnTo>
                        <a:lnTo>
                          <a:pt x="955" y="741"/>
                        </a:lnTo>
                        <a:lnTo>
                          <a:pt x="976" y="731"/>
                        </a:lnTo>
                        <a:lnTo>
                          <a:pt x="983" y="680"/>
                        </a:lnTo>
                        <a:lnTo>
                          <a:pt x="962" y="692"/>
                        </a:lnTo>
                        <a:lnTo>
                          <a:pt x="957" y="694"/>
                        </a:lnTo>
                        <a:lnTo>
                          <a:pt x="952" y="698"/>
                        </a:lnTo>
                        <a:lnTo>
                          <a:pt x="943" y="705"/>
                        </a:lnTo>
                        <a:lnTo>
                          <a:pt x="923" y="716"/>
                        </a:lnTo>
                        <a:lnTo>
                          <a:pt x="903" y="727"/>
                        </a:lnTo>
                        <a:lnTo>
                          <a:pt x="882" y="736"/>
                        </a:lnTo>
                        <a:lnTo>
                          <a:pt x="861" y="747"/>
                        </a:lnTo>
                        <a:lnTo>
                          <a:pt x="850" y="750"/>
                        </a:lnTo>
                        <a:lnTo>
                          <a:pt x="840" y="754"/>
                        </a:lnTo>
                        <a:lnTo>
                          <a:pt x="819" y="762"/>
                        </a:lnTo>
                        <a:lnTo>
                          <a:pt x="797" y="768"/>
                        </a:lnTo>
                        <a:lnTo>
                          <a:pt x="785" y="770"/>
                        </a:lnTo>
                        <a:lnTo>
                          <a:pt x="782" y="770"/>
                        </a:lnTo>
                        <a:lnTo>
                          <a:pt x="780" y="771"/>
                        </a:lnTo>
                        <a:lnTo>
                          <a:pt x="775" y="774"/>
                        </a:lnTo>
                        <a:lnTo>
                          <a:pt x="730" y="783"/>
                        </a:lnTo>
                        <a:lnTo>
                          <a:pt x="682" y="788"/>
                        </a:lnTo>
                        <a:lnTo>
                          <a:pt x="635" y="791"/>
                        </a:lnTo>
                        <a:lnTo>
                          <a:pt x="603" y="790"/>
                        </a:lnTo>
                        <a:lnTo>
                          <a:pt x="572" y="787"/>
                        </a:lnTo>
                        <a:lnTo>
                          <a:pt x="543" y="784"/>
                        </a:lnTo>
                        <a:lnTo>
                          <a:pt x="514" y="779"/>
                        </a:lnTo>
                        <a:lnTo>
                          <a:pt x="486" y="773"/>
                        </a:lnTo>
                        <a:lnTo>
                          <a:pt x="459" y="765"/>
                        </a:lnTo>
                        <a:lnTo>
                          <a:pt x="405" y="747"/>
                        </a:lnTo>
                        <a:lnTo>
                          <a:pt x="378" y="734"/>
                        </a:lnTo>
                        <a:lnTo>
                          <a:pt x="352" y="720"/>
                        </a:lnTo>
                        <a:lnTo>
                          <a:pt x="303" y="691"/>
                        </a:lnTo>
                        <a:lnTo>
                          <a:pt x="257" y="655"/>
                        </a:lnTo>
                        <a:lnTo>
                          <a:pt x="234" y="635"/>
                        </a:lnTo>
                        <a:lnTo>
                          <a:pt x="213" y="615"/>
                        </a:lnTo>
                        <a:lnTo>
                          <a:pt x="190" y="591"/>
                        </a:lnTo>
                        <a:lnTo>
                          <a:pt x="171" y="569"/>
                        </a:lnTo>
                        <a:lnTo>
                          <a:pt x="151" y="545"/>
                        </a:lnTo>
                        <a:lnTo>
                          <a:pt x="136" y="522"/>
                        </a:lnTo>
                        <a:lnTo>
                          <a:pt x="119" y="497"/>
                        </a:lnTo>
                        <a:lnTo>
                          <a:pt x="105" y="472"/>
                        </a:lnTo>
                        <a:lnTo>
                          <a:pt x="91" y="446"/>
                        </a:lnTo>
                        <a:lnTo>
                          <a:pt x="81" y="421"/>
                        </a:lnTo>
                        <a:lnTo>
                          <a:pt x="70" y="393"/>
                        </a:lnTo>
                        <a:lnTo>
                          <a:pt x="62" y="366"/>
                        </a:lnTo>
                        <a:lnTo>
                          <a:pt x="54" y="337"/>
                        </a:lnTo>
                        <a:lnTo>
                          <a:pt x="48" y="310"/>
                        </a:lnTo>
                        <a:lnTo>
                          <a:pt x="43" y="281"/>
                        </a:lnTo>
                        <a:lnTo>
                          <a:pt x="40" y="252"/>
                        </a:lnTo>
                        <a:lnTo>
                          <a:pt x="38" y="222"/>
                        </a:lnTo>
                        <a:lnTo>
                          <a:pt x="38" y="192"/>
                        </a:lnTo>
                        <a:lnTo>
                          <a:pt x="39" y="141"/>
                        </a:lnTo>
                        <a:lnTo>
                          <a:pt x="45" y="93"/>
                        </a:lnTo>
                        <a:lnTo>
                          <a:pt x="54" y="45"/>
                        </a:lnTo>
                        <a:lnTo>
                          <a:pt x="69" y="0"/>
                        </a:lnTo>
                        <a:lnTo>
                          <a:pt x="22" y="21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6719040" y="6198480"/>
                    <a:ext cx="24012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7" h="808">
                        <a:moveTo>
                          <a:pt x="76" y="0"/>
                        </a:moveTo>
                        <a:lnTo>
                          <a:pt x="31" y="17"/>
                        </a:lnTo>
                        <a:lnTo>
                          <a:pt x="16" y="62"/>
                        </a:lnTo>
                        <a:lnTo>
                          <a:pt x="7" y="110"/>
                        </a:lnTo>
                        <a:lnTo>
                          <a:pt x="1" y="158"/>
                        </a:lnTo>
                        <a:lnTo>
                          <a:pt x="0" y="209"/>
                        </a:lnTo>
                        <a:lnTo>
                          <a:pt x="0" y="239"/>
                        </a:lnTo>
                        <a:lnTo>
                          <a:pt x="2" y="269"/>
                        </a:lnTo>
                        <a:lnTo>
                          <a:pt x="5" y="298"/>
                        </a:lnTo>
                        <a:lnTo>
                          <a:pt x="10" y="327"/>
                        </a:lnTo>
                        <a:lnTo>
                          <a:pt x="16" y="354"/>
                        </a:lnTo>
                        <a:lnTo>
                          <a:pt x="24" y="383"/>
                        </a:lnTo>
                        <a:lnTo>
                          <a:pt x="32" y="410"/>
                        </a:lnTo>
                        <a:lnTo>
                          <a:pt x="43" y="438"/>
                        </a:lnTo>
                        <a:lnTo>
                          <a:pt x="53" y="463"/>
                        </a:lnTo>
                        <a:lnTo>
                          <a:pt x="67" y="489"/>
                        </a:lnTo>
                        <a:lnTo>
                          <a:pt x="81" y="514"/>
                        </a:lnTo>
                        <a:lnTo>
                          <a:pt x="98" y="539"/>
                        </a:lnTo>
                        <a:lnTo>
                          <a:pt x="113" y="562"/>
                        </a:lnTo>
                        <a:lnTo>
                          <a:pt x="133" y="586"/>
                        </a:lnTo>
                        <a:lnTo>
                          <a:pt x="152" y="608"/>
                        </a:lnTo>
                        <a:lnTo>
                          <a:pt x="175" y="632"/>
                        </a:lnTo>
                        <a:lnTo>
                          <a:pt x="196" y="652"/>
                        </a:lnTo>
                        <a:lnTo>
                          <a:pt x="219" y="672"/>
                        </a:lnTo>
                        <a:lnTo>
                          <a:pt x="265" y="708"/>
                        </a:lnTo>
                        <a:lnTo>
                          <a:pt x="314" y="737"/>
                        </a:lnTo>
                        <a:lnTo>
                          <a:pt x="340" y="751"/>
                        </a:lnTo>
                        <a:lnTo>
                          <a:pt x="367" y="764"/>
                        </a:lnTo>
                        <a:lnTo>
                          <a:pt x="421" y="782"/>
                        </a:lnTo>
                        <a:lnTo>
                          <a:pt x="448" y="790"/>
                        </a:lnTo>
                        <a:lnTo>
                          <a:pt x="476" y="796"/>
                        </a:lnTo>
                        <a:lnTo>
                          <a:pt x="505" y="801"/>
                        </a:lnTo>
                        <a:lnTo>
                          <a:pt x="534" y="804"/>
                        </a:lnTo>
                        <a:lnTo>
                          <a:pt x="565" y="807"/>
                        </a:lnTo>
                        <a:lnTo>
                          <a:pt x="597" y="808"/>
                        </a:lnTo>
                        <a:lnTo>
                          <a:pt x="644" y="805"/>
                        </a:lnTo>
                        <a:lnTo>
                          <a:pt x="692" y="800"/>
                        </a:lnTo>
                        <a:lnTo>
                          <a:pt x="737" y="791"/>
                        </a:lnTo>
                        <a:lnTo>
                          <a:pt x="742" y="788"/>
                        </a:lnTo>
                        <a:lnTo>
                          <a:pt x="744" y="787"/>
                        </a:lnTo>
                        <a:lnTo>
                          <a:pt x="747" y="787"/>
                        </a:lnTo>
                        <a:lnTo>
                          <a:pt x="759" y="785"/>
                        </a:lnTo>
                        <a:lnTo>
                          <a:pt x="781" y="779"/>
                        </a:lnTo>
                        <a:lnTo>
                          <a:pt x="802" y="771"/>
                        </a:lnTo>
                        <a:lnTo>
                          <a:pt x="812" y="767"/>
                        </a:lnTo>
                        <a:lnTo>
                          <a:pt x="823" y="764"/>
                        </a:lnTo>
                        <a:lnTo>
                          <a:pt x="844" y="753"/>
                        </a:lnTo>
                        <a:lnTo>
                          <a:pt x="865" y="744"/>
                        </a:lnTo>
                        <a:lnTo>
                          <a:pt x="885" y="733"/>
                        </a:lnTo>
                        <a:lnTo>
                          <a:pt x="905" y="722"/>
                        </a:lnTo>
                        <a:lnTo>
                          <a:pt x="914" y="715"/>
                        </a:lnTo>
                        <a:lnTo>
                          <a:pt x="919" y="711"/>
                        </a:lnTo>
                        <a:lnTo>
                          <a:pt x="924" y="709"/>
                        </a:lnTo>
                        <a:lnTo>
                          <a:pt x="945" y="697"/>
                        </a:lnTo>
                        <a:lnTo>
                          <a:pt x="946" y="672"/>
                        </a:lnTo>
                        <a:lnTo>
                          <a:pt x="946" y="659"/>
                        </a:lnTo>
                        <a:lnTo>
                          <a:pt x="947" y="648"/>
                        </a:lnTo>
                        <a:lnTo>
                          <a:pt x="908" y="675"/>
                        </a:lnTo>
                        <a:lnTo>
                          <a:pt x="888" y="688"/>
                        </a:lnTo>
                        <a:lnTo>
                          <a:pt x="882" y="690"/>
                        </a:lnTo>
                        <a:lnTo>
                          <a:pt x="878" y="693"/>
                        </a:lnTo>
                        <a:lnTo>
                          <a:pt x="869" y="700"/>
                        </a:lnTo>
                        <a:lnTo>
                          <a:pt x="857" y="705"/>
                        </a:lnTo>
                        <a:lnTo>
                          <a:pt x="852" y="707"/>
                        </a:lnTo>
                        <a:lnTo>
                          <a:pt x="847" y="710"/>
                        </a:lnTo>
                        <a:lnTo>
                          <a:pt x="827" y="720"/>
                        </a:lnTo>
                        <a:lnTo>
                          <a:pt x="784" y="739"/>
                        </a:lnTo>
                        <a:lnTo>
                          <a:pt x="738" y="751"/>
                        </a:lnTo>
                        <a:lnTo>
                          <a:pt x="693" y="761"/>
                        </a:lnTo>
                        <a:lnTo>
                          <a:pt x="645" y="767"/>
                        </a:lnTo>
                        <a:lnTo>
                          <a:pt x="620" y="768"/>
                        </a:lnTo>
                        <a:lnTo>
                          <a:pt x="608" y="768"/>
                        </a:lnTo>
                        <a:lnTo>
                          <a:pt x="597" y="769"/>
                        </a:lnTo>
                        <a:lnTo>
                          <a:pt x="567" y="768"/>
                        </a:lnTo>
                        <a:lnTo>
                          <a:pt x="539" y="766"/>
                        </a:lnTo>
                        <a:lnTo>
                          <a:pt x="484" y="759"/>
                        </a:lnTo>
                        <a:lnTo>
                          <a:pt x="431" y="745"/>
                        </a:lnTo>
                        <a:lnTo>
                          <a:pt x="406" y="737"/>
                        </a:lnTo>
                        <a:lnTo>
                          <a:pt x="381" y="728"/>
                        </a:lnTo>
                        <a:lnTo>
                          <a:pt x="356" y="717"/>
                        </a:lnTo>
                        <a:lnTo>
                          <a:pt x="332" y="705"/>
                        </a:lnTo>
                        <a:lnTo>
                          <a:pt x="286" y="677"/>
                        </a:lnTo>
                        <a:lnTo>
                          <a:pt x="242" y="643"/>
                        </a:lnTo>
                        <a:lnTo>
                          <a:pt x="221" y="625"/>
                        </a:lnTo>
                        <a:lnTo>
                          <a:pt x="201" y="606"/>
                        </a:lnTo>
                        <a:lnTo>
                          <a:pt x="161" y="563"/>
                        </a:lnTo>
                        <a:lnTo>
                          <a:pt x="143" y="540"/>
                        </a:lnTo>
                        <a:lnTo>
                          <a:pt x="128" y="519"/>
                        </a:lnTo>
                        <a:lnTo>
                          <a:pt x="112" y="495"/>
                        </a:lnTo>
                        <a:lnTo>
                          <a:pt x="100" y="472"/>
                        </a:lnTo>
                        <a:lnTo>
                          <a:pt x="87" y="447"/>
                        </a:lnTo>
                        <a:lnTo>
                          <a:pt x="77" y="423"/>
                        </a:lnTo>
                        <a:lnTo>
                          <a:pt x="67" y="397"/>
                        </a:lnTo>
                        <a:lnTo>
                          <a:pt x="59" y="372"/>
                        </a:lnTo>
                        <a:lnTo>
                          <a:pt x="47" y="320"/>
                        </a:lnTo>
                        <a:lnTo>
                          <a:pt x="41" y="292"/>
                        </a:lnTo>
                        <a:lnTo>
                          <a:pt x="39" y="265"/>
                        </a:lnTo>
                        <a:lnTo>
                          <a:pt x="36" y="236"/>
                        </a:lnTo>
                        <a:lnTo>
                          <a:pt x="36" y="209"/>
                        </a:lnTo>
                        <a:lnTo>
                          <a:pt x="39" y="154"/>
                        </a:lnTo>
                        <a:lnTo>
                          <a:pt x="45" y="100"/>
                        </a:lnTo>
                        <a:lnTo>
                          <a:pt x="58" y="48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00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6747120" y="6191280"/>
                    <a:ext cx="21132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1" h="722">
                        <a:moveTo>
                          <a:pt x="38" y="237"/>
                        </a:moveTo>
                        <a:lnTo>
                          <a:pt x="38" y="203"/>
                        </a:lnTo>
                        <a:lnTo>
                          <a:pt x="41" y="172"/>
                        </a:lnTo>
                        <a:lnTo>
                          <a:pt x="54" y="111"/>
                        </a:lnTo>
                        <a:lnTo>
                          <a:pt x="61" y="82"/>
                        </a:lnTo>
                        <a:lnTo>
                          <a:pt x="74" y="54"/>
                        </a:lnTo>
                        <a:lnTo>
                          <a:pt x="105" y="0"/>
                        </a:lnTo>
                        <a:lnTo>
                          <a:pt x="59" y="5"/>
                        </a:lnTo>
                        <a:lnTo>
                          <a:pt x="33" y="58"/>
                        </a:lnTo>
                        <a:lnTo>
                          <a:pt x="23" y="85"/>
                        </a:lnTo>
                        <a:lnTo>
                          <a:pt x="15" y="115"/>
                        </a:lnTo>
                        <a:lnTo>
                          <a:pt x="7" y="144"/>
                        </a:lnTo>
                        <a:lnTo>
                          <a:pt x="4" y="175"/>
                        </a:lnTo>
                        <a:lnTo>
                          <a:pt x="0" y="237"/>
                        </a:lnTo>
                        <a:lnTo>
                          <a:pt x="1" y="286"/>
                        </a:lnTo>
                        <a:lnTo>
                          <a:pt x="8" y="334"/>
                        </a:lnTo>
                        <a:lnTo>
                          <a:pt x="19" y="379"/>
                        </a:lnTo>
                        <a:lnTo>
                          <a:pt x="26" y="400"/>
                        </a:lnTo>
                        <a:lnTo>
                          <a:pt x="35" y="423"/>
                        </a:lnTo>
                        <a:lnTo>
                          <a:pt x="55" y="465"/>
                        </a:lnTo>
                        <a:lnTo>
                          <a:pt x="66" y="484"/>
                        </a:lnTo>
                        <a:lnTo>
                          <a:pt x="80" y="505"/>
                        </a:lnTo>
                        <a:lnTo>
                          <a:pt x="109" y="543"/>
                        </a:lnTo>
                        <a:lnTo>
                          <a:pt x="125" y="561"/>
                        </a:lnTo>
                        <a:lnTo>
                          <a:pt x="143" y="581"/>
                        </a:lnTo>
                        <a:lnTo>
                          <a:pt x="178" y="612"/>
                        </a:lnTo>
                        <a:lnTo>
                          <a:pt x="217" y="642"/>
                        </a:lnTo>
                        <a:lnTo>
                          <a:pt x="256" y="666"/>
                        </a:lnTo>
                        <a:lnTo>
                          <a:pt x="298" y="686"/>
                        </a:lnTo>
                        <a:lnTo>
                          <a:pt x="342" y="702"/>
                        </a:lnTo>
                        <a:lnTo>
                          <a:pt x="388" y="713"/>
                        </a:lnTo>
                        <a:lnTo>
                          <a:pt x="435" y="720"/>
                        </a:lnTo>
                        <a:lnTo>
                          <a:pt x="486" y="722"/>
                        </a:lnTo>
                        <a:lnTo>
                          <a:pt x="497" y="721"/>
                        </a:lnTo>
                        <a:lnTo>
                          <a:pt x="509" y="721"/>
                        </a:lnTo>
                        <a:lnTo>
                          <a:pt x="534" y="720"/>
                        </a:lnTo>
                        <a:lnTo>
                          <a:pt x="582" y="713"/>
                        </a:lnTo>
                        <a:lnTo>
                          <a:pt x="627" y="702"/>
                        </a:lnTo>
                        <a:lnTo>
                          <a:pt x="638" y="697"/>
                        </a:lnTo>
                        <a:lnTo>
                          <a:pt x="649" y="694"/>
                        </a:lnTo>
                        <a:lnTo>
                          <a:pt x="672" y="686"/>
                        </a:lnTo>
                        <a:lnTo>
                          <a:pt x="692" y="676"/>
                        </a:lnTo>
                        <a:lnTo>
                          <a:pt x="696" y="673"/>
                        </a:lnTo>
                        <a:lnTo>
                          <a:pt x="702" y="670"/>
                        </a:lnTo>
                        <a:lnTo>
                          <a:pt x="713" y="666"/>
                        </a:lnTo>
                        <a:lnTo>
                          <a:pt x="723" y="659"/>
                        </a:lnTo>
                        <a:lnTo>
                          <a:pt x="727" y="656"/>
                        </a:lnTo>
                        <a:lnTo>
                          <a:pt x="733" y="653"/>
                        </a:lnTo>
                        <a:lnTo>
                          <a:pt x="753" y="642"/>
                        </a:lnTo>
                        <a:lnTo>
                          <a:pt x="792" y="612"/>
                        </a:lnTo>
                        <a:lnTo>
                          <a:pt x="810" y="597"/>
                        </a:lnTo>
                        <a:lnTo>
                          <a:pt x="829" y="581"/>
                        </a:lnTo>
                        <a:lnTo>
                          <a:pt x="831" y="578"/>
                        </a:lnTo>
                        <a:lnTo>
                          <a:pt x="825" y="532"/>
                        </a:lnTo>
                        <a:lnTo>
                          <a:pt x="803" y="555"/>
                        </a:lnTo>
                        <a:lnTo>
                          <a:pt x="769" y="584"/>
                        </a:lnTo>
                        <a:lnTo>
                          <a:pt x="751" y="598"/>
                        </a:lnTo>
                        <a:lnTo>
                          <a:pt x="734" y="611"/>
                        </a:lnTo>
                        <a:lnTo>
                          <a:pt x="715" y="623"/>
                        </a:lnTo>
                        <a:lnTo>
                          <a:pt x="696" y="634"/>
                        </a:lnTo>
                        <a:lnTo>
                          <a:pt x="658" y="653"/>
                        </a:lnTo>
                        <a:lnTo>
                          <a:pt x="617" y="667"/>
                        </a:lnTo>
                        <a:lnTo>
                          <a:pt x="596" y="671"/>
                        </a:lnTo>
                        <a:lnTo>
                          <a:pt x="575" y="677"/>
                        </a:lnTo>
                        <a:lnTo>
                          <a:pt x="552" y="680"/>
                        </a:lnTo>
                        <a:lnTo>
                          <a:pt x="541" y="682"/>
                        </a:lnTo>
                        <a:lnTo>
                          <a:pt x="531" y="684"/>
                        </a:lnTo>
                        <a:lnTo>
                          <a:pt x="486" y="686"/>
                        </a:lnTo>
                        <a:lnTo>
                          <a:pt x="439" y="684"/>
                        </a:lnTo>
                        <a:lnTo>
                          <a:pt x="396" y="677"/>
                        </a:lnTo>
                        <a:lnTo>
                          <a:pt x="353" y="667"/>
                        </a:lnTo>
                        <a:lnTo>
                          <a:pt x="313" y="653"/>
                        </a:lnTo>
                        <a:lnTo>
                          <a:pt x="274" y="634"/>
                        </a:lnTo>
                        <a:lnTo>
                          <a:pt x="237" y="611"/>
                        </a:lnTo>
                        <a:lnTo>
                          <a:pt x="202" y="584"/>
                        </a:lnTo>
                        <a:lnTo>
                          <a:pt x="169" y="555"/>
                        </a:lnTo>
                        <a:lnTo>
                          <a:pt x="137" y="521"/>
                        </a:lnTo>
                        <a:lnTo>
                          <a:pt x="111" y="485"/>
                        </a:lnTo>
                        <a:lnTo>
                          <a:pt x="99" y="466"/>
                        </a:lnTo>
                        <a:lnTo>
                          <a:pt x="89" y="448"/>
                        </a:lnTo>
                        <a:lnTo>
                          <a:pt x="71" y="410"/>
                        </a:lnTo>
                        <a:lnTo>
                          <a:pt x="55" y="369"/>
                        </a:lnTo>
                        <a:lnTo>
                          <a:pt x="49" y="347"/>
                        </a:lnTo>
                        <a:lnTo>
                          <a:pt x="46" y="327"/>
                        </a:lnTo>
                        <a:lnTo>
                          <a:pt x="41" y="304"/>
                        </a:lnTo>
                        <a:lnTo>
                          <a:pt x="39" y="283"/>
                        </a:lnTo>
                        <a:lnTo>
                          <a:pt x="38" y="237"/>
                        </a:lnTo>
                        <a:close/>
                      </a:path>
                    </a:pathLst>
                  </a:custGeom>
                  <a:solidFill>
                    <a:srgbClr val="00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6756840" y="6190200"/>
                    <a:ext cx="19944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787" h="689">
                        <a:moveTo>
                          <a:pt x="67" y="3"/>
                        </a:moveTo>
                        <a:lnTo>
                          <a:pt x="36" y="57"/>
                        </a:lnTo>
                        <a:lnTo>
                          <a:pt x="23" y="85"/>
                        </a:lnTo>
                        <a:lnTo>
                          <a:pt x="16" y="114"/>
                        </a:lnTo>
                        <a:lnTo>
                          <a:pt x="3" y="175"/>
                        </a:lnTo>
                        <a:lnTo>
                          <a:pt x="0" y="206"/>
                        </a:lnTo>
                        <a:lnTo>
                          <a:pt x="0" y="240"/>
                        </a:lnTo>
                        <a:lnTo>
                          <a:pt x="1" y="286"/>
                        </a:lnTo>
                        <a:lnTo>
                          <a:pt x="3" y="307"/>
                        </a:lnTo>
                        <a:lnTo>
                          <a:pt x="8" y="330"/>
                        </a:lnTo>
                        <a:lnTo>
                          <a:pt x="11" y="350"/>
                        </a:lnTo>
                        <a:lnTo>
                          <a:pt x="17" y="372"/>
                        </a:lnTo>
                        <a:lnTo>
                          <a:pt x="33" y="413"/>
                        </a:lnTo>
                        <a:lnTo>
                          <a:pt x="51" y="451"/>
                        </a:lnTo>
                        <a:lnTo>
                          <a:pt x="61" y="469"/>
                        </a:lnTo>
                        <a:lnTo>
                          <a:pt x="73" y="488"/>
                        </a:lnTo>
                        <a:lnTo>
                          <a:pt x="99" y="524"/>
                        </a:lnTo>
                        <a:lnTo>
                          <a:pt x="131" y="558"/>
                        </a:lnTo>
                        <a:lnTo>
                          <a:pt x="164" y="587"/>
                        </a:lnTo>
                        <a:lnTo>
                          <a:pt x="199" y="614"/>
                        </a:lnTo>
                        <a:lnTo>
                          <a:pt x="236" y="637"/>
                        </a:lnTo>
                        <a:lnTo>
                          <a:pt x="275" y="656"/>
                        </a:lnTo>
                        <a:lnTo>
                          <a:pt x="315" y="670"/>
                        </a:lnTo>
                        <a:lnTo>
                          <a:pt x="358" y="680"/>
                        </a:lnTo>
                        <a:lnTo>
                          <a:pt x="401" y="687"/>
                        </a:lnTo>
                        <a:lnTo>
                          <a:pt x="448" y="689"/>
                        </a:lnTo>
                        <a:lnTo>
                          <a:pt x="493" y="687"/>
                        </a:lnTo>
                        <a:lnTo>
                          <a:pt x="503" y="685"/>
                        </a:lnTo>
                        <a:lnTo>
                          <a:pt x="514" y="683"/>
                        </a:lnTo>
                        <a:lnTo>
                          <a:pt x="537" y="680"/>
                        </a:lnTo>
                        <a:lnTo>
                          <a:pt x="558" y="674"/>
                        </a:lnTo>
                        <a:lnTo>
                          <a:pt x="579" y="670"/>
                        </a:lnTo>
                        <a:lnTo>
                          <a:pt x="620" y="656"/>
                        </a:lnTo>
                        <a:lnTo>
                          <a:pt x="658" y="637"/>
                        </a:lnTo>
                        <a:lnTo>
                          <a:pt x="677" y="626"/>
                        </a:lnTo>
                        <a:lnTo>
                          <a:pt x="696" y="614"/>
                        </a:lnTo>
                        <a:lnTo>
                          <a:pt x="713" y="601"/>
                        </a:lnTo>
                        <a:lnTo>
                          <a:pt x="731" y="587"/>
                        </a:lnTo>
                        <a:lnTo>
                          <a:pt x="765" y="558"/>
                        </a:lnTo>
                        <a:lnTo>
                          <a:pt x="787" y="535"/>
                        </a:lnTo>
                        <a:lnTo>
                          <a:pt x="781" y="511"/>
                        </a:lnTo>
                        <a:lnTo>
                          <a:pt x="776" y="490"/>
                        </a:lnTo>
                        <a:lnTo>
                          <a:pt x="758" y="510"/>
                        </a:lnTo>
                        <a:lnTo>
                          <a:pt x="753" y="515"/>
                        </a:lnTo>
                        <a:lnTo>
                          <a:pt x="748" y="520"/>
                        </a:lnTo>
                        <a:lnTo>
                          <a:pt x="739" y="532"/>
                        </a:lnTo>
                        <a:lnTo>
                          <a:pt x="707" y="559"/>
                        </a:lnTo>
                        <a:lnTo>
                          <a:pt x="698" y="564"/>
                        </a:lnTo>
                        <a:lnTo>
                          <a:pt x="690" y="571"/>
                        </a:lnTo>
                        <a:lnTo>
                          <a:pt x="674" y="584"/>
                        </a:lnTo>
                        <a:lnTo>
                          <a:pt x="640" y="604"/>
                        </a:lnTo>
                        <a:lnTo>
                          <a:pt x="622" y="612"/>
                        </a:lnTo>
                        <a:lnTo>
                          <a:pt x="605" y="621"/>
                        </a:lnTo>
                        <a:lnTo>
                          <a:pt x="595" y="623"/>
                        </a:lnTo>
                        <a:lnTo>
                          <a:pt x="586" y="627"/>
                        </a:lnTo>
                        <a:lnTo>
                          <a:pt x="568" y="634"/>
                        </a:lnTo>
                        <a:lnTo>
                          <a:pt x="529" y="644"/>
                        </a:lnTo>
                        <a:lnTo>
                          <a:pt x="488" y="649"/>
                        </a:lnTo>
                        <a:lnTo>
                          <a:pt x="448" y="652"/>
                        </a:lnTo>
                        <a:lnTo>
                          <a:pt x="404" y="649"/>
                        </a:lnTo>
                        <a:lnTo>
                          <a:pt x="365" y="644"/>
                        </a:lnTo>
                        <a:lnTo>
                          <a:pt x="326" y="634"/>
                        </a:lnTo>
                        <a:lnTo>
                          <a:pt x="290" y="621"/>
                        </a:lnTo>
                        <a:lnTo>
                          <a:pt x="254" y="604"/>
                        </a:lnTo>
                        <a:lnTo>
                          <a:pt x="220" y="584"/>
                        </a:lnTo>
                        <a:lnTo>
                          <a:pt x="187" y="559"/>
                        </a:lnTo>
                        <a:lnTo>
                          <a:pt x="157" y="532"/>
                        </a:lnTo>
                        <a:lnTo>
                          <a:pt x="128" y="500"/>
                        </a:lnTo>
                        <a:lnTo>
                          <a:pt x="104" y="467"/>
                        </a:lnTo>
                        <a:lnTo>
                          <a:pt x="82" y="433"/>
                        </a:lnTo>
                        <a:lnTo>
                          <a:pt x="73" y="415"/>
                        </a:lnTo>
                        <a:lnTo>
                          <a:pt x="67" y="398"/>
                        </a:lnTo>
                        <a:lnTo>
                          <a:pt x="59" y="379"/>
                        </a:lnTo>
                        <a:lnTo>
                          <a:pt x="53" y="360"/>
                        </a:lnTo>
                        <a:lnTo>
                          <a:pt x="44" y="322"/>
                        </a:lnTo>
                        <a:lnTo>
                          <a:pt x="38" y="281"/>
                        </a:lnTo>
                        <a:lnTo>
                          <a:pt x="37" y="240"/>
                        </a:lnTo>
                        <a:lnTo>
                          <a:pt x="38" y="206"/>
                        </a:lnTo>
                        <a:lnTo>
                          <a:pt x="42" y="173"/>
                        </a:lnTo>
                        <a:lnTo>
                          <a:pt x="47" y="142"/>
                        </a:lnTo>
                        <a:lnTo>
                          <a:pt x="56" y="112"/>
                        </a:lnTo>
                        <a:lnTo>
                          <a:pt x="67" y="82"/>
                        </a:lnTo>
                        <a:lnTo>
                          <a:pt x="80" y="53"/>
                        </a:lnTo>
                        <a:lnTo>
                          <a:pt x="95" y="26"/>
                        </a:lnTo>
                        <a:lnTo>
                          <a:pt x="114" y="0"/>
                        </a:lnTo>
                        <a:lnTo>
                          <a:pt x="67" y="3"/>
                        </a:lnTo>
                        <a:close/>
                      </a:path>
                    </a:pathLst>
                  </a:custGeom>
                  <a:solidFill>
                    <a:srgbClr val="00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6737400" y="6192360"/>
                    <a:ext cx="22176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3" h="756">
                        <a:moveTo>
                          <a:pt x="37" y="232"/>
                        </a:moveTo>
                        <a:lnTo>
                          <a:pt x="41" y="170"/>
                        </a:lnTo>
                        <a:lnTo>
                          <a:pt x="44" y="139"/>
                        </a:lnTo>
                        <a:lnTo>
                          <a:pt x="52" y="110"/>
                        </a:lnTo>
                        <a:lnTo>
                          <a:pt x="60" y="80"/>
                        </a:lnTo>
                        <a:lnTo>
                          <a:pt x="70" y="53"/>
                        </a:lnTo>
                        <a:lnTo>
                          <a:pt x="96" y="0"/>
                        </a:lnTo>
                        <a:lnTo>
                          <a:pt x="49" y="10"/>
                        </a:lnTo>
                        <a:lnTo>
                          <a:pt x="26" y="61"/>
                        </a:lnTo>
                        <a:lnTo>
                          <a:pt x="17" y="87"/>
                        </a:lnTo>
                        <a:lnTo>
                          <a:pt x="11" y="116"/>
                        </a:lnTo>
                        <a:lnTo>
                          <a:pt x="5" y="143"/>
                        </a:lnTo>
                        <a:lnTo>
                          <a:pt x="2" y="172"/>
                        </a:lnTo>
                        <a:lnTo>
                          <a:pt x="0" y="232"/>
                        </a:lnTo>
                        <a:lnTo>
                          <a:pt x="2" y="284"/>
                        </a:lnTo>
                        <a:lnTo>
                          <a:pt x="4" y="309"/>
                        </a:lnTo>
                        <a:lnTo>
                          <a:pt x="9" y="335"/>
                        </a:lnTo>
                        <a:lnTo>
                          <a:pt x="13" y="359"/>
                        </a:lnTo>
                        <a:lnTo>
                          <a:pt x="20" y="384"/>
                        </a:lnTo>
                        <a:lnTo>
                          <a:pt x="37" y="432"/>
                        </a:lnTo>
                        <a:lnTo>
                          <a:pt x="46" y="453"/>
                        </a:lnTo>
                        <a:lnTo>
                          <a:pt x="58" y="476"/>
                        </a:lnTo>
                        <a:lnTo>
                          <a:pt x="70" y="497"/>
                        </a:lnTo>
                        <a:lnTo>
                          <a:pt x="85" y="520"/>
                        </a:lnTo>
                        <a:lnTo>
                          <a:pt x="100" y="541"/>
                        </a:lnTo>
                        <a:lnTo>
                          <a:pt x="117" y="562"/>
                        </a:lnTo>
                        <a:lnTo>
                          <a:pt x="134" y="581"/>
                        </a:lnTo>
                        <a:lnTo>
                          <a:pt x="153" y="602"/>
                        </a:lnTo>
                        <a:lnTo>
                          <a:pt x="171" y="620"/>
                        </a:lnTo>
                        <a:lnTo>
                          <a:pt x="191" y="637"/>
                        </a:lnTo>
                        <a:lnTo>
                          <a:pt x="233" y="669"/>
                        </a:lnTo>
                        <a:lnTo>
                          <a:pt x="254" y="682"/>
                        </a:lnTo>
                        <a:lnTo>
                          <a:pt x="275" y="695"/>
                        </a:lnTo>
                        <a:lnTo>
                          <a:pt x="322" y="717"/>
                        </a:lnTo>
                        <a:lnTo>
                          <a:pt x="368" y="733"/>
                        </a:lnTo>
                        <a:lnTo>
                          <a:pt x="393" y="740"/>
                        </a:lnTo>
                        <a:lnTo>
                          <a:pt x="418" y="746"/>
                        </a:lnTo>
                        <a:lnTo>
                          <a:pt x="469" y="753"/>
                        </a:lnTo>
                        <a:lnTo>
                          <a:pt x="495" y="755"/>
                        </a:lnTo>
                        <a:lnTo>
                          <a:pt x="523" y="756"/>
                        </a:lnTo>
                        <a:lnTo>
                          <a:pt x="534" y="755"/>
                        </a:lnTo>
                        <a:lnTo>
                          <a:pt x="546" y="755"/>
                        </a:lnTo>
                        <a:lnTo>
                          <a:pt x="571" y="754"/>
                        </a:lnTo>
                        <a:lnTo>
                          <a:pt x="619" y="747"/>
                        </a:lnTo>
                        <a:lnTo>
                          <a:pt x="642" y="741"/>
                        </a:lnTo>
                        <a:lnTo>
                          <a:pt x="653" y="738"/>
                        </a:lnTo>
                        <a:lnTo>
                          <a:pt x="665" y="736"/>
                        </a:lnTo>
                        <a:lnTo>
                          <a:pt x="711" y="722"/>
                        </a:lnTo>
                        <a:lnTo>
                          <a:pt x="731" y="712"/>
                        </a:lnTo>
                        <a:lnTo>
                          <a:pt x="753" y="703"/>
                        </a:lnTo>
                        <a:lnTo>
                          <a:pt x="773" y="691"/>
                        </a:lnTo>
                        <a:lnTo>
                          <a:pt x="795" y="680"/>
                        </a:lnTo>
                        <a:lnTo>
                          <a:pt x="814" y="666"/>
                        </a:lnTo>
                        <a:lnTo>
                          <a:pt x="834" y="653"/>
                        </a:lnTo>
                        <a:lnTo>
                          <a:pt x="873" y="622"/>
                        </a:lnTo>
                        <a:lnTo>
                          <a:pt x="868" y="573"/>
                        </a:lnTo>
                        <a:lnTo>
                          <a:pt x="866" y="576"/>
                        </a:lnTo>
                        <a:lnTo>
                          <a:pt x="847" y="592"/>
                        </a:lnTo>
                        <a:lnTo>
                          <a:pt x="829" y="607"/>
                        </a:lnTo>
                        <a:lnTo>
                          <a:pt x="790" y="637"/>
                        </a:lnTo>
                        <a:lnTo>
                          <a:pt x="770" y="648"/>
                        </a:lnTo>
                        <a:lnTo>
                          <a:pt x="764" y="651"/>
                        </a:lnTo>
                        <a:lnTo>
                          <a:pt x="760" y="654"/>
                        </a:lnTo>
                        <a:lnTo>
                          <a:pt x="750" y="661"/>
                        </a:lnTo>
                        <a:lnTo>
                          <a:pt x="739" y="665"/>
                        </a:lnTo>
                        <a:lnTo>
                          <a:pt x="733" y="668"/>
                        </a:lnTo>
                        <a:lnTo>
                          <a:pt x="729" y="671"/>
                        </a:lnTo>
                        <a:lnTo>
                          <a:pt x="709" y="681"/>
                        </a:lnTo>
                        <a:lnTo>
                          <a:pt x="686" y="689"/>
                        </a:lnTo>
                        <a:lnTo>
                          <a:pt x="675" y="692"/>
                        </a:lnTo>
                        <a:lnTo>
                          <a:pt x="664" y="697"/>
                        </a:lnTo>
                        <a:lnTo>
                          <a:pt x="619" y="708"/>
                        </a:lnTo>
                        <a:lnTo>
                          <a:pt x="571" y="715"/>
                        </a:lnTo>
                        <a:lnTo>
                          <a:pt x="546" y="716"/>
                        </a:lnTo>
                        <a:lnTo>
                          <a:pt x="534" y="716"/>
                        </a:lnTo>
                        <a:lnTo>
                          <a:pt x="523" y="717"/>
                        </a:lnTo>
                        <a:lnTo>
                          <a:pt x="472" y="715"/>
                        </a:lnTo>
                        <a:lnTo>
                          <a:pt x="425" y="708"/>
                        </a:lnTo>
                        <a:lnTo>
                          <a:pt x="379" y="697"/>
                        </a:lnTo>
                        <a:lnTo>
                          <a:pt x="335" y="681"/>
                        </a:lnTo>
                        <a:lnTo>
                          <a:pt x="293" y="661"/>
                        </a:lnTo>
                        <a:lnTo>
                          <a:pt x="254" y="637"/>
                        </a:lnTo>
                        <a:lnTo>
                          <a:pt x="215" y="607"/>
                        </a:lnTo>
                        <a:lnTo>
                          <a:pt x="180" y="576"/>
                        </a:lnTo>
                        <a:lnTo>
                          <a:pt x="162" y="556"/>
                        </a:lnTo>
                        <a:lnTo>
                          <a:pt x="146" y="538"/>
                        </a:lnTo>
                        <a:lnTo>
                          <a:pt x="117" y="500"/>
                        </a:lnTo>
                        <a:lnTo>
                          <a:pt x="103" y="479"/>
                        </a:lnTo>
                        <a:lnTo>
                          <a:pt x="92" y="460"/>
                        </a:lnTo>
                        <a:lnTo>
                          <a:pt x="72" y="418"/>
                        </a:lnTo>
                        <a:lnTo>
                          <a:pt x="63" y="395"/>
                        </a:lnTo>
                        <a:lnTo>
                          <a:pt x="56" y="374"/>
                        </a:lnTo>
                        <a:lnTo>
                          <a:pt x="45" y="329"/>
                        </a:lnTo>
                        <a:lnTo>
                          <a:pt x="38" y="281"/>
                        </a:lnTo>
                        <a:lnTo>
                          <a:pt x="37" y="232"/>
                        </a:lnTo>
                        <a:close/>
                      </a:path>
                    </a:pathLst>
                  </a:custGeom>
                  <a:solidFill>
                    <a:srgbClr val="00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6728400" y="6195240"/>
                    <a:ext cx="2311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782">
                        <a:moveTo>
                          <a:pt x="38" y="222"/>
                        </a:moveTo>
                        <a:lnTo>
                          <a:pt x="40" y="162"/>
                        </a:lnTo>
                        <a:lnTo>
                          <a:pt x="43" y="133"/>
                        </a:lnTo>
                        <a:lnTo>
                          <a:pt x="49" y="106"/>
                        </a:lnTo>
                        <a:lnTo>
                          <a:pt x="55" y="77"/>
                        </a:lnTo>
                        <a:lnTo>
                          <a:pt x="64" y="51"/>
                        </a:lnTo>
                        <a:lnTo>
                          <a:pt x="87" y="0"/>
                        </a:lnTo>
                        <a:lnTo>
                          <a:pt x="40" y="13"/>
                        </a:lnTo>
                        <a:lnTo>
                          <a:pt x="22" y="61"/>
                        </a:lnTo>
                        <a:lnTo>
                          <a:pt x="9" y="113"/>
                        </a:lnTo>
                        <a:lnTo>
                          <a:pt x="3" y="167"/>
                        </a:lnTo>
                        <a:lnTo>
                          <a:pt x="0" y="222"/>
                        </a:lnTo>
                        <a:lnTo>
                          <a:pt x="0" y="249"/>
                        </a:lnTo>
                        <a:lnTo>
                          <a:pt x="3" y="278"/>
                        </a:lnTo>
                        <a:lnTo>
                          <a:pt x="5" y="305"/>
                        </a:lnTo>
                        <a:lnTo>
                          <a:pt x="11" y="333"/>
                        </a:lnTo>
                        <a:lnTo>
                          <a:pt x="23" y="385"/>
                        </a:lnTo>
                        <a:lnTo>
                          <a:pt x="31" y="410"/>
                        </a:lnTo>
                        <a:lnTo>
                          <a:pt x="41" y="436"/>
                        </a:lnTo>
                        <a:lnTo>
                          <a:pt x="51" y="460"/>
                        </a:lnTo>
                        <a:lnTo>
                          <a:pt x="64" y="485"/>
                        </a:lnTo>
                        <a:lnTo>
                          <a:pt x="76" y="508"/>
                        </a:lnTo>
                        <a:lnTo>
                          <a:pt x="92" y="532"/>
                        </a:lnTo>
                        <a:lnTo>
                          <a:pt x="107" y="553"/>
                        </a:lnTo>
                        <a:lnTo>
                          <a:pt x="125" y="576"/>
                        </a:lnTo>
                        <a:lnTo>
                          <a:pt x="165" y="619"/>
                        </a:lnTo>
                        <a:lnTo>
                          <a:pt x="185" y="638"/>
                        </a:lnTo>
                        <a:lnTo>
                          <a:pt x="206" y="656"/>
                        </a:lnTo>
                        <a:lnTo>
                          <a:pt x="250" y="690"/>
                        </a:lnTo>
                        <a:lnTo>
                          <a:pt x="296" y="718"/>
                        </a:lnTo>
                        <a:lnTo>
                          <a:pt x="320" y="730"/>
                        </a:lnTo>
                        <a:lnTo>
                          <a:pt x="345" y="741"/>
                        </a:lnTo>
                        <a:lnTo>
                          <a:pt x="370" y="750"/>
                        </a:lnTo>
                        <a:lnTo>
                          <a:pt x="395" y="758"/>
                        </a:lnTo>
                        <a:lnTo>
                          <a:pt x="448" y="772"/>
                        </a:lnTo>
                        <a:lnTo>
                          <a:pt x="503" y="779"/>
                        </a:lnTo>
                        <a:lnTo>
                          <a:pt x="531" y="781"/>
                        </a:lnTo>
                        <a:lnTo>
                          <a:pt x="561" y="782"/>
                        </a:lnTo>
                        <a:lnTo>
                          <a:pt x="572" y="781"/>
                        </a:lnTo>
                        <a:lnTo>
                          <a:pt x="584" y="781"/>
                        </a:lnTo>
                        <a:lnTo>
                          <a:pt x="609" y="780"/>
                        </a:lnTo>
                        <a:lnTo>
                          <a:pt x="657" y="774"/>
                        </a:lnTo>
                        <a:lnTo>
                          <a:pt x="702" y="764"/>
                        </a:lnTo>
                        <a:lnTo>
                          <a:pt x="748" y="752"/>
                        </a:lnTo>
                        <a:lnTo>
                          <a:pt x="791" y="733"/>
                        </a:lnTo>
                        <a:lnTo>
                          <a:pt x="811" y="723"/>
                        </a:lnTo>
                        <a:lnTo>
                          <a:pt x="816" y="720"/>
                        </a:lnTo>
                        <a:lnTo>
                          <a:pt x="821" y="718"/>
                        </a:lnTo>
                        <a:lnTo>
                          <a:pt x="833" y="713"/>
                        </a:lnTo>
                        <a:lnTo>
                          <a:pt x="842" y="706"/>
                        </a:lnTo>
                        <a:lnTo>
                          <a:pt x="846" y="703"/>
                        </a:lnTo>
                        <a:lnTo>
                          <a:pt x="852" y="701"/>
                        </a:lnTo>
                        <a:lnTo>
                          <a:pt x="872" y="688"/>
                        </a:lnTo>
                        <a:lnTo>
                          <a:pt x="911" y="661"/>
                        </a:lnTo>
                        <a:lnTo>
                          <a:pt x="911" y="645"/>
                        </a:lnTo>
                        <a:lnTo>
                          <a:pt x="911" y="612"/>
                        </a:lnTo>
                        <a:lnTo>
                          <a:pt x="872" y="643"/>
                        </a:lnTo>
                        <a:lnTo>
                          <a:pt x="852" y="656"/>
                        </a:lnTo>
                        <a:lnTo>
                          <a:pt x="833" y="670"/>
                        </a:lnTo>
                        <a:lnTo>
                          <a:pt x="811" y="681"/>
                        </a:lnTo>
                        <a:lnTo>
                          <a:pt x="791" y="693"/>
                        </a:lnTo>
                        <a:lnTo>
                          <a:pt x="769" y="702"/>
                        </a:lnTo>
                        <a:lnTo>
                          <a:pt x="749" y="712"/>
                        </a:lnTo>
                        <a:lnTo>
                          <a:pt x="703" y="726"/>
                        </a:lnTo>
                        <a:lnTo>
                          <a:pt x="691" y="728"/>
                        </a:lnTo>
                        <a:lnTo>
                          <a:pt x="680" y="731"/>
                        </a:lnTo>
                        <a:lnTo>
                          <a:pt x="657" y="737"/>
                        </a:lnTo>
                        <a:lnTo>
                          <a:pt x="609" y="744"/>
                        </a:lnTo>
                        <a:lnTo>
                          <a:pt x="584" y="745"/>
                        </a:lnTo>
                        <a:lnTo>
                          <a:pt x="572" y="745"/>
                        </a:lnTo>
                        <a:lnTo>
                          <a:pt x="561" y="746"/>
                        </a:lnTo>
                        <a:lnTo>
                          <a:pt x="533" y="745"/>
                        </a:lnTo>
                        <a:lnTo>
                          <a:pt x="507" y="743"/>
                        </a:lnTo>
                        <a:lnTo>
                          <a:pt x="456" y="736"/>
                        </a:lnTo>
                        <a:lnTo>
                          <a:pt x="431" y="730"/>
                        </a:lnTo>
                        <a:lnTo>
                          <a:pt x="406" y="723"/>
                        </a:lnTo>
                        <a:lnTo>
                          <a:pt x="360" y="707"/>
                        </a:lnTo>
                        <a:lnTo>
                          <a:pt x="313" y="685"/>
                        </a:lnTo>
                        <a:lnTo>
                          <a:pt x="292" y="672"/>
                        </a:lnTo>
                        <a:lnTo>
                          <a:pt x="271" y="659"/>
                        </a:lnTo>
                        <a:lnTo>
                          <a:pt x="229" y="627"/>
                        </a:lnTo>
                        <a:lnTo>
                          <a:pt x="209" y="610"/>
                        </a:lnTo>
                        <a:lnTo>
                          <a:pt x="191" y="592"/>
                        </a:lnTo>
                        <a:lnTo>
                          <a:pt x="172" y="571"/>
                        </a:lnTo>
                        <a:lnTo>
                          <a:pt x="155" y="552"/>
                        </a:lnTo>
                        <a:lnTo>
                          <a:pt x="138" y="531"/>
                        </a:lnTo>
                        <a:lnTo>
                          <a:pt x="123" y="510"/>
                        </a:lnTo>
                        <a:lnTo>
                          <a:pt x="108" y="487"/>
                        </a:lnTo>
                        <a:lnTo>
                          <a:pt x="96" y="466"/>
                        </a:lnTo>
                        <a:lnTo>
                          <a:pt x="84" y="443"/>
                        </a:lnTo>
                        <a:lnTo>
                          <a:pt x="75" y="422"/>
                        </a:lnTo>
                        <a:lnTo>
                          <a:pt x="58" y="374"/>
                        </a:lnTo>
                        <a:lnTo>
                          <a:pt x="51" y="349"/>
                        </a:lnTo>
                        <a:lnTo>
                          <a:pt x="47" y="325"/>
                        </a:lnTo>
                        <a:lnTo>
                          <a:pt x="42" y="299"/>
                        </a:lnTo>
                        <a:lnTo>
                          <a:pt x="40" y="274"/>
                        </a:lnTo>
                        <a:lnTo>
                          <a:pt x="38" y="222"/>
                        </a:lnTo>
                        <a:close/>
                      </a:path>
                    </a:pathLst>
                  </a:custGeom>
                  <a:solidFill>
                    <a:srgbClr val="00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6622200" y="6348960"/>
                    <a:ext cx="22968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690">
                        <a:moveTo>
                          <a:pt x="0" y="40"/>
                        </a:moveTo>
                        <a:lnTo>
                          <a:pt x="1" y="94"/>
                        </a:lnTo>
                        <a:lnTo>
                          <a:pt x="20" y="132"/>
                        </a:lnTo>
                        <a:lnTo>
                          <a:pt x="43" y="170"/>
                        </a:lnTo>
                        <a:lnTo>
                          <a:pt x="66" y="207"/>
                        </a:lnTo>
                        <a:lnTo>
                          <a:pt x="92" y="244"/>
                        </a:lnTo>
                        <a:lnTo>
                          <a:pt x="118" y="279"/>
                        </a:lnTo>
                        <a:lnTo>
                          <a:pt x="147" y="314"/>
                        </a:lnTo>
                        <a:lnTo>
                          <a:pt x="178" y="348"/>
                        </a:lnTo>
                        <a:lnTo>
                          <a:pt x="212" y="383"/>
                        </a:lnTo>
                        <a:lnTo>
                          <a:pt x="244" y="414"/>
                        </a:lnTo>
                        <a:lnTo>
                          <a:pt x="277" y="444"/>
                        </a:lnTo>
                        <a:lnTo>
                          <a:pt x="310" y="471"/>
                        </a:lnTo>
                        <a:lnTo>
                          <a:pt x="345" y="498"/>
                        </a:lnTo>
                        <a:lnTo>
                          <a:pt x="416" y="546"/>
                        </a:lnTo>
                        <a:lnTo>
                          <a:pt x="453" y="567"/>
                        </a:lnTo>
                        <a:lnTo>
                          <a:pt x="490" y="588"/>
                        </a:lnTo>
                        <a:lnTo>
                          <a:pt x="527" y="606"/>
                        </a:lnTo>
                        <a:lnTo>
                          <a:pt x="566" y="623"/>
                        </a:lnTo>
                        <a:lnTo>
                          <a:pt x="604" y="637"/>
                        </a:lnTo>
                        <a:lnTo>
                          <a:pt x="645" y="651"/>
                        </a:lnTo>
                        <a:lnTo>
                          <a:pt x="685" y="662"/>
                        </a:lnTo>
                        <a:lnTo>
                          <a:pt x="727" y="673"/>
                        </a:lnTo>
                        <a:lnTo>
                          <a:pt x="769" y="682"/>
                        </a:lnTo>
                        <a:lnTo>
                          <a:pt x="812" y="690"/>
                        </a:lnTo>
                        <a:lnTo>
                          <a:pt x="835" y="683"/>
                        </a:lnTo>
                        <a:lnTo>
                          <a:pt x="846" y="679"/>
                        </a:lnTo>
                        <a:lnTo>
                          <a:pt x="858" y="677"/>
                        </a:lnTo>
                        <a:lnTo>
                          <a:pt x="881" y="669"/>
                        </a:lnTo>
                        <a:lnTo>
                          <a:pt x="893" y="665"/>
                        </a:lnTo>
                        <a:lnTo>
                          <a:pt x="898" y="662"/>
                        </a:lnTo>
                        <a:lnTo>
                          <a:pt x="905" y="661"/>
                        </a:lnTo>
                        <a:lnTo>
                          <a:pt x="856" y="656"/>
                        </a:lnTo>
                        <a:lnTo>
                          <a:pt x="809" y="650"/>
                        </a:lnTo>
                        <a:lnTo>
                          <a:pt x="762" y="642"/>
                        </a:lnTo>
                        <a:lnTo>
                          <a:pt x="717" y="632"/>
                        </a:lnTo>
                        <a:lnTo>
                          <a:pt x="671" y="619"/>
                        </a:lnTo>
                        <a:lnTo>
                          <a:pt x="628" y="606"/>
                        </a:lnTo>
                        <a:lnTo>
                          <a:pt x="585" y="590"/>
                        </a:lnTo>
                        <a:lnTo>
                          <a:pt x="544" y="573"/>
                        </a:lnTo>
                        <a:lnTo>
                          <a:pt x="502" y="551"/>
                        </a:lnTo>
                        <a:lnTo>
                          <a:pt x="462" y="530"/>
                        </a:lnTo>
                        <a:lnTo>
                          <a:pt x="422" y="506"/>
                        </a:lnTo>
                        <a:lnTo>
                          <a:pt x="383" y="480"/>
                        </a:lnTo>
                        <a:lnTo>
                          <a:pt x="345" y="451"/>
                        </a:lnTo>
                        <a:lnTo>
                          <a:pt x="308" y="422"/>
                        </a:lnTo>
                        <a:lnTo>
                          <a:pt x="272" y="390"/>
                        </a:lnTo>
                        <a:lnTo>
                          <a:pt x="238" y="357"/>
                        </a:lnTo>
                        <a:lnTo>
                          <a:pt x="199" y="315"/>
                        </a:lnTo>
                        <a:lnTo>
                          <a:pt x="179" y="294"/>
                        </a:lnTo>
                        <a:lnTo>
                          <a:pt x="162" y="274"/>
                        </a:lnTo>
                        <a:lnTo>
                          <a:pt x="144" y="251"/>
                        </a:lnTo>
                        <a:lnTo>
                          <a:pt x="128" y="229"/>
                        </a:lnTo>
                        <a:lnTo>
                          <a:pt x="98" y="186"/>
                        </a:lnTo>
                        <a:lnTo>
                          <a:pt x="69" y="141"/>
                        </a:lnTo>
                        <a:lnTo>
                          <a:pt x="43" y="96"/>
                        </a:lnTo>
                        <a:lnTo>
                          <a:pt x="20" y="48"/>
                        </a:lnTo>
                        <a:lnTo>
                          <a:pt x="1" y="0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6622560" y="6327360"/>
                    <a:ext cx="24840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0" h="748">
                        <a:moveTo>
                          <a:pt x="10" y="0"/>
                        </a:moveTo>
                        <a:lnTo>
                          <a:pt x="2" y="42"/>
                        </a:lnTo>
                        <a:lnTo>
                          <a:pt x="0" y="87"/>
                        </a:lnTo>
                        <a:lnTo>
                          <a:pt x="19" y="135"/>
                        </a:lnTo>
                        <a:lnTo>
                          <a:pt x="42" y="183"/>
                        </a:lnTo>
                        <a:lnTo>
                          <a:pt x="68" y="228"/>
                        </a:lnTo>
                        <a:lnTo>
                          <a:pt x="97" y="273"/>
                        </a:lnTo>
                        <a:lnTo>
                          <a:pt x="127" y="316"/>
                        </a:lnTo>
                        <a:lnTo>
                          <a:pt x="143" y="338"/>
                        </a:lnTo>
                        <a:lnTo>
                          <a:pt x="161" y="361"/>
                        </a:lnTo>
                        <a:lnTo>
                          <a:pt x="178" y="381"/>
                        </a:lnTo>
                        <a:lnTo>
                          <a:pt x="198" y="402"/>
                        </a:lnTo>
                        <a:lnTo>
                          <a:pt x="237" y="444"/>
                        </a:lnTo>
                        <a:lnTo>
                          <a:pt x="271" y="477"/>
                        </a:lnTo>
                        <a:lnTo>
                          <a:pt x="307" y="509"/>
                        </a:lnTo>
                        <a:lnTo>
                          <a:pt x="344" y="538"/>
                        </a:lnTo>
                        <a:lnTo>
                          <a:pt x="382" y="567"/>
                        </a:lnTo>
                        <a:lnTo>
                          <a:pt x="421" y="593"/>
                        </a:lnTo>
                        <a:lnTo>
                          <a:pt x="461" y="617"/>
                        </a:lnTo>
                        <a:lnTo>
                          <a:pt x="501" y="638"/>
                        </a:lnTo>
                        <a:lnTo>
                          <a:pt x="543" y="660"/>
                        </a:lnTo>
                        <a:lnTo>
                          <a:pt x="584" y="677"/>
                        </a:lnTo>
                        <a:lnTo>
                          <a:pt x="627" y="693"/>
                        </a:lnTo>
                        <a:lnTo>
                          <a:pt x="670" y="706"/>
                        </a:lnTo>
                        <a:lnTo>
                          <a:pt x="716" y="719"/>
                        </a:lnTo>
                        <a:lnTo>
                          <a:pt x="761" y="729"/>
                        </a:lnTo>
                        <a:lnTo>
                          <a:pt x="808" y="737"/>
                        </a:lnTo>
                        <a:lnTo>
                          <a:pt x="855" y="743"/>
                        </a:lnTo>
                        <a:lnTo>
                          <a:pt x="904" y="748"/>
                        </a:lnTo>
                        <a:lnTo>
                          <a:pt x="943" y="731"/>
                        </a:lnTo>
                        <a:lnTo>
                          <a:pt x="961" y="722"/>
                        </a:lnTo>
                        <a:lnTo>
                          <a:pt x="980" y="713"/>
                        </a:lnTo>
                        <a:lnTo>
                          <a:pt x="977" y="713"/>
                        </a:lnTo>
                        <a:lnTo>
                          <a:pt x="924" y="711"/>
                        </a:lnTo>
                        <a:lnTo>
                          <a:pt x="873" y="707"/>
                        </a:lnTo>
                        <a:lnTo>
                          <a:pt x="823" y="702"/>
                        </a:lnTo>
                        <a:lnTo>
                          <a:pt x="775" y="694"/>
                        </a:lnTo>
                        <a:lnTo>
                          <a:pt x="726" y="682"/>
                        </a:lnTo>
                        <a:lnTo>
                          <a:pt x="679" y="670"/>
                        </a:lnTo>
                        <a:lnTo>
                          <a:pt x="633" y="655"/>
                        </a:lnTo>
                        <a:lnTo>
                          <a:pt x="589" y="638"/>
                        </a:lnTo>
                        <a:lnTo>
                          <a:pt x="543" y="617"/>
                        </a:lnTo>
                        <a:lnTo>
                          <a:pt x="500" y="595"/>
                        </a:lnTo>
                        <a:lnTo>
                          <a:pt x="458" y="571"/>
                        </a:lnTo>
                        <a:lnTo>
                          <a:pt x="417" y="545"/>
                        </a:lnTo>
                        <a:lnTo>
                          <a:pt x="377" y="516"/>
                        </a:lnTo>
                        <a:lnTo>
                          <a:pt x="338" y="485"/>
                        </a:lnTo>
                        <a:lnTo>
                          <a:pt x="300" y="452"/>
                        </a:lnTo>
                        <a:lnTo>
                          <a:pt x="263" y="417"/>
                        </a:lnTo>
                        <a:lnTo>
                          <a:pt x="218" y="370"/>
                        </a:lnTo>
                        <a:lnTo>
                          <a:pt x="196" y="345"/>
                        </a:lnTo>
                        <a:lnTo>
                          <a:pt x="177" y="321"/>
                        </a:lnTo>
                        <a:lnTo>
                          <a:pt x="140" y="271"/>
                        </a:lnTo>
                        <a:lnTo>
                          <a:pt x="107" y="220"/>
                        </a:lnTo>
                        <a:lnTo>
                          <a:pt x="76" y="167"/>
                        </a:lnTo>
                        <a:lnTo>
                          <a:pt x="51" y="112"/>
                        </a:lnTo>
                        <a:lnTo>
                          <a:pt x="39" y="84"/>
                        </a:lnTo>
                        <a:lnTo>
                          <a:pt x="29" y="57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7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6625080" y="6307920"/>
                    <a:ext cx="26208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2" h="789">
                        <a:moveTo>
                          <a:pt x="19" y="0"/>
                        </a:moveTo>
                        <a:lnTo>
                          <a:pt x="8" y="36"/>
                        </a:lnTo>
                        <a:lnTo>
                          <a:pt x="0" y="76"/>
                        </a:lnTo>
                        <a:lnTo>
                          <a:pt x="19" y="133"/>
                        </a:lnTo>
                        <a:lnTo>
                          <a:pt x="29" y="160"/>
                        </a:lnTo>
                        <a:lnTo>
                          <a:pt x="41" y="188"/>
                        </a:lnTo>
                        <a:lnTo>
                          <a:pt x="66" y="243"/>
                        </a:lnTo>
                        <a:lnTo>
                          <a:pt x="97" y="296"/>
                        </a:lnTo>
                        <a:lnTo>
                          <a:pt x="130" y="347"/>
                        </a:lnTo>
                        <a:lnTo>
                          <a:pt x="167" y="397"/>
                        </a:lnTo>
                        <a:lnTo>
                          <a:pt x="186" y="421"/>
                        </a:lnTo>
                        <a:lnTo>
                          <a:pt x="208" y="446"/>
                        </a:lnTo>
                        <a:lnTo>
                          <a:pt x="253" y="493"/>
                        </a:lnTo>
                        <a:lnTo>
                          <a:pt x="290" y="528"/>
                        </a:lnTo>
                        <a:lnTo>
                          <a:pt x="328" y="561"/>
                        </a:lnTo>
                        <a:lnTo>
                          <a:pt x="367" y="592"/>
                        </a:lnTo>
                        <a:lnTo>
                          <a:pt x="407" y="621"/>
                        </a:lnTo>
                        <a:lnTo>
                          <a:pt x="448" y="647"/>
                        </a:lnTo>
                        <a:lnTo>
                          <a:pt x="490" y="671"/>
                        </a:lnTo>
                        <a:lnTo>
                          <a:pt x="533" y="693"/>
                        </a:lnTo>
                        <a:lnTo>
                          <a:pt x="579" y="714"/>
                        </a:lnTo>
                        <a:lnTo>
                          <a:pt x="623" y="731"/>
                        </a:lnTo>
                        <a:lnTo>
                          <a:pt x="669" y="746"/>
                        </a:lnTo>
                        <a:lnTo>
                          <a:pt x="716" y="758"/>
                        </a:lnTo>
                        <a:lnTo>
                          <a:pt x="765" y="770"/>
                        </a:lnTo>
                        <a:lnTo>
                          <a:pt x="813" y="778"/>
                        </a:lnTo>
                        <a:lnTo>
                          <a:pt x="863" y="783"/>
                        </a:lnTo>
                        <a:lnTo>
                          <a:pt x="914" y="787"/>
                        </a:lnTo>
                        <a:lnTo>
                          <a:pt x="967" y="789"/>
                        </a:lnTo>
                        <a:lnTo>
                          <a:pt x="970" y="789"/>
                        </a:lnTo>
                        <a:lnTo>
                          <a:pt x="977" y="783"/>
                        </a:lnTo>
                        <a:lnTo>
                          <a:pt x="985" y="779"/>
                        </a:lnTo>
                        <a:lnTo>
                          <a:pt x="1001" y="770"/>
                        </a:lnTo>
                        <a:lnTo>
                          <a:pt x="1032" y="751"/>
                        </a:lnTo>
                        <a:lnTo>
                          <a:pt x="967" y="752"/>
                        </a:lnTo>
                        <a:lnTo>
                          <a:pt x="916" y="751"/>
                        </a:lnTo>
                        <a:lnTo>
                          <a:pt x="867" y="747"/>
                        </a:lnTo>
                        <a:lnTo>
                          <a:pt x="819" y="741"/>
                        </a:lnTo>
                        <a:lnTo>
                          <a:pt x="773" y="734"/>
                        </a:lnTo>
                        <a:lnTo>
                          <a:pt x="726" y="723"/>
                        </a:lnTo>
                        <a:lnTo>
                          <a:pt x="681" y="711"/>
                        </a:lnTo>
                        <a:lnTo>
                          <a:pt x="637" y="696"/>
                        </a:lnTo>
                        <a:lnTo>
                          <a:pt x="593" y="680"/>
                        </a:lnTo>
                        <a:lnTo>
                          <a:pt x="550" y="661"/>
                        </a:lnTo>
                        <a:lnTo>
                          <a:pt x="508" y="639"/>
                        </a:lnTo>
                        <a:lnTo>
                          <a:pt x="468" y="616"/>
                        </a:lnTo>
                        <a:lnTo>
                          <a:pt x="429" y="591"/>
                        </a:lnTo>
                        <a:lnTo>
                          <a:pt x="389" y="562"/>
                        </a:lnTo>
                        <a:lnTo>
                          <a:pt x="352" y="533"/>
                        </a:lnTo>
                        <a:lnTo>
                          <a:pt x="316" y="500"/>
                        </a:lnTo>
                        <a:lnTo>
                          <a:pt x="280" y="467"/>
                        </a:lnTo>
                        <a:lnTo>
                          <a:pt x="254" y="440"/>
                        </a:lnTo>
                        <a:lnTo>
                          <a:pt x="231" y="414"/>
                        </a:lnTo>
                        <a:lnTo>
                          <a:pt x="208" y="387"/>
                        </a:lnTo>
                        <a:lnTo>
                          <a:pt x="188" y="361"/>
                        </a:lnTo>
                        <a:lnTo>
                          <a:pt x="166" y="332"/>
                        </a:lnTo>
                        <a:lnTo>
                          <a:pt x="147" y="305"/>
                        </a:lnTo>
                        <a:lnTo>
                          <a:pt x="113" y="248"/>
                        </a:lnTo>
                        <a:lnTo>
                          <a:pt x="96" y="218"/>
                        </a:lnTo>
                        <a:lnTo>
                          <a:pt x="81" y="188"/>
                        </a:lnTo>
                        <a:lnTo>
                          <a:pt x="56" y="127"/>
                        </a:lnTo>
                        <a:lnTo>
                          <a:pt x="43" y="95"/>
                        </a:lnTo>
                        <a:lnTo>
                          <a:pt x="34" y="65"/>
                        </a:lnTo>
                        <a:lnTo>
                          <a:pt x="25" y="32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7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6629760" y="6290640"/>
                    <a:ext cx="27072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7" h="819">
                        <a:moveTo>
                          <a:pt x="26" y="0"/>
                        </a:moveTo>
                        <a:lnTo>
                          <a:pt x="11" y="32"/>
                        </a:lnTo>
                        <a:lnTo>
                          <a:pt x="0" y="67"/>
                        </a:lnTo>
                        <a:lnTo>
                          <a:pt x="6" y="99"/>
                        </a:lnTo>
                        <a:lnTo>
                          <a:pt x="15" y="132"/>
                        </a:lnTo>
                        <a:lnTo>
                          <a:pt x="24" y="162"/>
                        </a:lnTo>
                        <a:lnTo>
                          <a:pt x="37" y="194"/>
                        </a:lnTo>
                        <a:lnTo>
                          <a:pt x="62" y="255"/>
                        </a:lnTo>
                        <a:lnTo>
                          <a:pt x="77" y="285"/>
                        </a:lnTo>
                        <a:lnTo>
                          <a:pt x="94" y="315"/>
                        </a:lnTo>
                        <a:lnTo>
                          <a:pt x="128" y="372"/>
                        </a:lnTo>
                        <a:lnTo>
                          <a:pt x="147" y="399"/>
                        </a:lnTo>
                        <a:lnTo>
                          <a:pt x="169" y="428"/>
                        </a:lnTo>
                        <a:lnTo>
                          <a:pt x="189" y="454"/>
                        </a:lnTo>
                        <a:lnTo>
                          <a:pt x="212" y="481"/>
                        </a:lnTo>
                        <a:lnTo>
                          <a:pt x="235" y="507"/>
                        </a:lnTo>
                        <a:lnTo>
                          <a:pt x="261" y="534"/>
                        </a:lnTo>
                        <a:lnTo>
                          <a:pt x="297" y="567"/>
                        </a:lnTo>
                        <a:lnTo>
                          <a:pt x="333" y="600"/>
                        </a:lnTo>
                        <a:lnTo>
                          <a:pt x="370" y="629"/>
                        </a:lnTo>
                        <a:lnTo>
                          <a:pt x="410" y="658"/>
                        </a:lnTo>
                        <a:lnTo>
                          <a:pt x="449" y="683"/>
                        </a:lnTo>
                        <a:lnTo>
                          <a:pt x="489" y="706"/>
                        </a:lnTo>
                        <a:lnTo>
                          <a:pt x="531" y="728"/>
                        </a:lnTo>
                        <a:lnTo>
                          <a:pt x="574" y="747"/>
                        </a:lnTo>
                        <a:lnTo>
                          <a:pt x="618" y="763"/>
                        </a:lnTo>
                        <a:lnTo>
                          <a:pt x="662" y="778"/>
                        </a:lnTo>
                        <a:lnTo>
                          <a:pt x="707" y="790"/>
                        </a:lnTo>
                        <a:lnTo>
                          <a:pt x="754" y="801"/>
                        </a:lnTo>
                        <a:lnTo>
                          <a:pt x="800" y="808"/>
                        </a:lnTo>
                        <a:lnTo>
                          <a:pt x="848" y="814"/>
                        </a:lnTo>
                        <a:lnTo>
                          <a:pt x="897" y="818"/>
                        </a:lnTo>
                        <a:lnTo>
                          <a:pt x="948" y="819"/>
                        </a:lnTo>
                        <a:lnTo>
                          <a:pt x="1013" y="818"/>
                        </a:lnTo>
                        <a:lnTo>
                          <a:pt x="1067" y="774"/>
                        </a:lnTo>
                        <a:lnTo>
                          <a:pt x="1008" y="779"/>
                        </a:lnTo>
                        <a:lnTo>
                          <a:pt x="992" y="779"/>
                        </a:lnTo>
                        <a:lnTo>
                          <a:pt x="984" y="779"/>
                        </a:lnTo>
                        <a:lnTo>
                          <a:pt x="977" y="780"/>
                        </a:lnTo>
                        <a:lnTo>
                          <a:pt x="948" y="781"/>
                        </a:lnTo>
                        <a:lnTo>
                          <a:pt x="899" y="780"/>
                        </a:lnTo>
                        <a:lnTo>
                          <a:pt x="851" y="777"/>
                        </a:lnTo>
                        <a:lnTo>
                          <a:pt x="805" y="771"/>
                        </a:lnTo>
                        <a:lnTo>
                          <a:pt x="760" y="763"/>
                        </a:lnTo>
                        <a:lnTo>
                          <a:pt x="715" y="753"/>
                        </a:lnTo>
                        <a:lnTo>
                          <a:pt x="672" y="742"/>
                        </a:lnTo>
                        <a:lnTo>
                          <a:pt x="629" y="727"/>
                        </a:lnTo>
                        <a:lnTo>
                          <a:pt x="588" y="712"/>
                        </a:lnTo>
                        <a:lnTo>
                          <a:pt x="546" y="693"/>
                        </a:lnTo>
                        <a:lnTo>
                          <a:pt x="506" y="674"/>
                        </a:lnTo>
                        <a:lnTo>
                          <a:pt x="468" y="651"/>
                        </a:lnTo>
                        <a:lnTo>
                          <a:pt x="430" y="627"/>
                        </a:lnTo>
                        <a:lnTo>
                          <a:pt x="393" y="600"/>
                        </a:lnTo>
                        <a:lnTo>
                          <a:pt x="357" y="572"/>
                        </a:lnTo>
                        <a:lnTo>
                          <a:pt x="322" y="541"/>
                        </a:lnTo>
                        <a:lnTo>
                          <a:pt x="288" y="508"/>
                        </a:lnTo>
                        <a:lnTo>
                          <a:pt x="234" y="451"/>
                        </a:lnTo>
                        <a:lnTo>
                          <a:pt x="209" y="422"/>
                        </a:lnTo>
                        <a:lnTo>
                          <a:pt x="188" y="394"/>
                        </a:lnTo>
                        <a:lnTo>
                          <a:pt x="166" y="363"/>
                        </a:lnTo>
                        <a:lnTo>
                          <a:pt x="147" y="334"/>
                        </a:lnTo>
                        <a:lnTo>
                          <a:pt x="128" y="302"/>
                        </a:lnTo>
                        <a:lnTo>
                          <a:pt x="112" y="271"/>
                        </a:lnTo>
                        <a:lnTo>
                          <a:pt x="95" y="238"/>
                        </a:lnTo>
                        <a:lnTo>
                          <a:pt x="81" y="207"/>
                        </a:lnTo>
                        <a:lnTo>
                          <a:pt x="68" y="173"/>
                        </a:lnTo>
                        <a:lnTo>
                          <a:pt x="57" y="140"/>
                        </a:lnTo>
                        <a:lnTo>
                          <a:pt x="46" y="105"/>
                        </a:lnTo>
                        <a:lnTo>
                          <a:pt x="38" y="71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007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6636240" y="6275160"/>
                    <a:ext cx="276120" cy="21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7" h="841">
                        <a:moveTo>
                          <a:pt x="30" y="0"/>
                        </a:moveTo>
                        <a:lnTo>
                          <a:pt x="13" y="30"/>
                        </a:lnTo>
                        <a:lnTo>
                          <a:pt x="0" y="60"/>
                        </a:lnTo>
                        <a:lnTo>
                          <a:pt x="12" y="131"/>
                        </a:lnTo>
                        <a:lnTo>
                          <a:pt x="20" y="165"/>
                        </a:lnTo>
                        <a:lnTo>
                          <a:pt x="31" y="200"/>
                        </a:lnTo>
                        <a:lnTo>
                          <a:pt x="42" y="233"/>
                        </a:lnTo>
                        <a:lnTo>
                          <a:pt x="55" y="267"/>
                        </a:lnTo>
                        <a:lnTo>
                          <a:pt x="69" y="298"/>
                        </a:lnTo>
                        <a:lnTo>
                          <a:pt x="86" y="331"/>
                        </a:lnTo>
                        <a:lnTo>
                          <a:pt x="102" y="362"/>
                        </a:lnTo>
                        <a:lnTo>
                          <a:pt x="121" y="394"/>
                        </a:lnTo>
                        <a:lnTo>
                          <a:pt x="140" y="423"/>
                        </a:lnTo>
                        <a:lnTo>
                          <a:pt x="162" y="454"/>
                        </a:lnTo>
                        <a:lnTo>
                          <a:pt x="183" y="482"/>
                        </a:lnTo>
                        <a:lnTo>
                          <a:pt x="208" y="511"/>
                        </a:lnTo>
                        <a:lnTo>
                          <a:pt x="262" y="568"/>
                        </a:lnTo>
                        <a:lnTo>
                          <a:pt x="296" y="601"/>
                        </a:lnTo>
                        <a:lnTo>
                          <a:pt x="331" y="632"/>
                        </a:lnTo>
                        <a:lnTo>
                          <a:pt x="367" y="660"/>
                        </a:lnTo>
                        <a:lnTo>
                          <a:pt x="404" y="687"/>
                        </a:lnTo>
                        <a:lnTo>
                          <a:pt x="442" y="711"/>
                        </a:lnTo>
                        <a:lnTo>
                          <a:pt x="480" y="734"/>
                        </a:lnTo>
                        <a:lnTo>
                          <a:pt x="520" y="753"/>
                        </a:lnTo>
                        <a:lnTo>
                          <a:pt x="562" y="772"/>
                        </a:lnTo>
                        <a:lnTo>
                          <a:pt x="603" y="787"/>
                        </a:lnTo>
                        <a:lnTo>
                          <a:pt x="646" y="802"/>
                        </a:lnTo>
                        <a:lnTo>
                          <a:pt x="689" y="813"/>
                        </a:lnTo>
                        <a:lnTo>
                          <a:pt x="734" y="823"/>
                        </a:lnTo>
                        <a:lnTo>
                          <a:pt x="779" y="831"/>
                        </a:lnTo>
                        <a:lnTo>
                          <a:pt x="825" y="837"/>
                        </a:lnTo>
                        <a:lnTo>
                          <a:pt x="873" y="840"/>
                        </a:lnTo>
                        <a:lnTo>
                          <a:pt x="922" y="841"/>
                        </a:lnTo>
                        <a:lnTo>
                          <a:pt x="951" y="840"/>
                        </a:lnTo>
                        <a:lnTo>
                          <a:pt x="958" y="839"/>
                        </a:lnTo>
                        <a:lnTo>
                          <a:pt x="966" y="839"/>
                        </a:lnTo>
                        <a:lnTo>
                          <a:pt x="982" y="839"/>
                        </a:lnTo>
                        <a:lnTo>
                          <a:pt x="1041" y="834"/>
                        </a:lnTo>
                        <a:lnTo>
                          <a:pt x="1077" y="800"/>
                        </a:lnTo>
                        <a:lnTo>
                          <a:pt x="1087" y="790"/>
                        </a:lnTo>
                        <a:lnTo>
                          <a:pt x="1046" y="796"/>
                        </a:lnTo>
                        <a:lnTo>
                          <a:pt x="1005" y="800"/>
                        </a:lnTo>
                        <a:lnTo>
                          <a:pt x="964" y="803"/>
                        </a:lnTo>
                        <a:lnTo>
                          <a:pt x="942" y="803"/>
                        </a:lnTo>
                        <a:lnTo>
                          <a:pt x="922" y="804"/>
                        </a:lnTo>
                        <a:lnTo>
                          <a:pt x="875" y="803"/>
                        </a:lnTo>
                        <a:lnTo>
                          <a:pt x="830" y="799"/>
                        </a:lnTo>
                        <a:lnTo>
                          <a:pt x="785" y="794"/>
                        </a:lnTo>
                        <a:lnTo>
                          <a:pt x="742" y="787"/>
                        </a:lnTo>
                        <a:lnTo>
                          <a:pt x="699" y="777"/>
                        </a:lnTo>
                        <a:lnTo>
                          <a:pt x="657" y="766"/>
                        </a:lnTo>
                        <a:lnTo>
                          <a:pt x="617" y="753"/>
                        </a:lnTo>
                        <a:lnTo>
                          <a:pt x="577" y="738"/>
                        </a:lnTo>
                        <a:lnTo>
                          <a:pt x="537" y="720"/>
                        </a:lnTo>
                        <a:lnTo>
                          <a:pt x="499" y="701"/>
                        </a:lnTo>
                        <a:lnTo>
                          <a:pt x="461" y="679"/>
                        </a:lnTo>
                        <a:lnTo>
                          <a:pt x="425" y="655"/>
                        </a:lnTo>
                        <a:lnTo>
                          <a:pt x="389" y="629"/>
                        </a:lnTo>
                        <a:lnTo>
                          <a:pt x="355" y="602"/>
                        </a:lnTo>
                        <a:lnTo>
                          <a:pt x="321" y="573"/>
                        </a:lnTo>
                        <a:lnTo>
                          <a:pt x="288" y="542"/>
                        </a:lnTo>
                        <a:lnTo>
                          <a:pt x="258" y="511"/>
                        </a:lnTo>
                        <a:lnTo>
                          <a:pt x="232" y="482"/>
                        </a:lnTo>
                        <a:lnTo>
                          <a:pt x="207" y="451"/>
                        </a:lnTo>
                        <a:lnTo>
                          <a:pt x="184" y="421"/>
                        </a:lnTo>
                        <a:lnTo>
                          <a:pt x="162" y="388"/>
                        </a:lnTo>
                        <a:lnTo>
                          <a:pt x="143" y="356"/>
                        </a:lnTo>
                        <a:lnTo>
                          <a:pt x="124" y="323"/>
                        </a:lnTo>
                        <a:lnTo>
                          <a:pt x="108" y="290"/>
                        </a:lnTo>
                        <a:lnTo>
                          <a:pt x="91" y="255"/>
                        </a:lnTo>
                        <a:lnTo>
                          <a:pt x="78" y="221"/>
                        </a:lnTo>
                        <a:lnTo>
                          <a:pt x="65" y="185"/>
                        </a:lnTo>
                        <a:lnTo>
                          <a:pt x="56" y="150"/>
                        </a:lnTo>
                        <a:lnTo>
                          <a:pt x="46" y="112"/>
                        </a:lnTo>
                        <a:lnTo>
                          <a:pt x="39" y="76"/>
                        </a:lnTo>
                        <a:lnTo>
                          <a:pt x="34" y="38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6644160" y="6262560"/>
                    <a:ext cx="27900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855">
                        <a:moveTo>
                          <a:pt x="34" y="0"/>
                        </a:moveTo>
                        <a:lnTo>
                          <a:pt x="15" y="25"/>
                        </a:lnTo>
                        <a:lnTo>
                          <a:pt x="0" y="51"/>
                        </a:lnTo>
                        <a:lnTo>
                          <a:pt x="4" y="89"/>
                        </a:lnTo>
                        <a:lnTo>
                          <a:pt x="9" y="127"/>
                        </a:lnTo>
                        <a:lnTo>
                          <a:pt x="16" y="163"/>
                        </a:lnTo>
                        <a:lnTo>
                          <a:pt x="26" y="201"/>
                        </a:lnTo>
                        <a:lnTo>
                          <a:pt x="35" y="236"/>
                        </a:lnTo>
                        <a:lnTo>
                          <a:pt x="48" y="272"/>
                        </a:lnTo>
                        <a:lnTo>
                          <a:pt x="61" y="306"/>
                        </a:lnTo>
                        <a:lnTo>
                          <a:pt x="78" y="341"/>
                        </a:lnTo>
                        <a:lnTo>
                          <a:pt x="94" y="374"/>
                        </a:lnTo>
                        <a:lnTo>
                          <a:pt x="113" y="407"/>
                        </a:lnTo>
                        <a:lnTo>
                          <a:pt x="132" y="439"/>
                        </a:lnTo>
                        <a:lnTo>
                          <a:pt x="154" y="472"/>
                        </a:lnTo>
                        <a:lnTo>
                          <a:pt x="177" y="502"/>
                        </a:lnTo>
                        <a:lnTo>
                          <a:pt x="202" y="533"/>
                        </a:lnTo>
                        <a:lnTo>
                          <a:pt x="228" y="562"/>
                        </a:lnTo>
                        <a:lnTo>
                          <a:pt x="258" y="593"/>
                        </a:lnTo>
                        <a:lnTo>
                          <a:pt x="291" y="624"/>
                        </a:lnTo>
                        <a:lnTo>
                          <a:pt x="325" y="653"/>
                        </a:lnTo>
                        <a:lnTo>
                          <a:pt x="359" y="680"/>
                        </a:lnTo>
                        <a:lnTo>
                          <a:pt x="395" y="706"/>
                        </a:lnTo>
                        <a:lnTo>
                          <a:pt x="431" y="730"/>
                        </a:lnTo>
                        <a:lnTo>
                          <a:pt x="469" y="752"/>
                        </a:lnTo>
                        <a:lnTo>
                          <a:pt x="507" y="771"/>
                        </a:lnTo>
                        <a:lnTo>
                          <a:pt x="547" y="789"/>
                        </a:lnTo>
                        <a:lnTo>
                          <a:pt x="587" y="804"/>
                        </a:lnTo>
                        <a:lnTo>
                          <a:pt x="627" y="817"/>
                        </a:lnTo>
                        <a:lnTo>
                          <a:pt x="669" y="828"/>
                        </a:lnTo>
                        <a:lnTo>
                          <a:pt x="712" y="838"/>
                        </a:lnTo>
                        <a:lnTo>
                          <a:pt x="755" y="845"/>
                        </a:lnTo>
                        <a:lnTo>
                          <a:pt x="800" y="850"/>
                        </a:lnTo>
                        <a:lnTo>
                          <a:pt x="845" y="854"/>
                        </a:lnTo>
                        <a:lnTo>
                          <a:pt x="892" y="855"/>
                        </a:lnTo>
                        <a:lnTo>
                          <a:pt x="912" y="854"/>
                        </a:lnTo>
                        <a:lnTo>
                          <a:pt x="934" y="854"/>
                        </a:lnTo>
                        <a:lnTo>
                          <a:pt x="975" y="851"/>
                        </a:lnTo>
                        <a:lnTo>
                          <a:pt x="1016" y="847"/>
                        </a:lnTo>
                        <a:lnTo>
                          <a:pt x="1057" y="841"/>
                        </a:lnTo>
                        <a:lnTo>
                          <a:pt x="1078" y="817"/>
                        </a:lnTo>
                        <a:lnTo>
                          <a:pt x="1098" y="795"/>
                        </a:lnTo>
                        <a:lnTo>
                          <a:pt x="1072" y="799"/>
                        </a:lnTo>
                        <a:lnTo>
                          <a:pt x="1047" y="804"/>
                        </a:lnTo>
                        <a:lnTo>
                          <a:pt x="1033" y="805"/>
                        </a:lnTo>
                        <a:lnTo>
                          <a:pt x="1021" y="807"/>
                        </a:lnTo>
                        <a:lnTo>
                          <a:pt x="996" y="812"/>
                        </a:lnTo>
                        <a:lnTo>
                          <a:pt x="944" y="815"/>
                        </a:lnTo>
                        <a:lnTo>
                          <a:pt x="892" y="817"/>
                        </a:lnTo>
                        <a:lnTo>
                          <a:pt x="846" y="816"/>
                        </a:lnTo>
                        <a:lnTo>
                          <a:pt x="803" y="813"/>
                        </a:lnTo>
                        <a:lnTo>
                          <a:pt x="760" y="807"/>
                        </a:lnTo>
                        <a:lnTo>
                          <a:pt x="719" y="802"/>
                        </a:lnTo>
                        <a:lnTo>
                          <a:pt x="678" y="791"/>
                        </a:lnTo>
                        <a:lnTo>
                          <a:pt x="639" y="781"/>
                        </a:lnTo>
                        <a:lnTo>
                          <a:pt x="599" y="769"/>
                        </a:lnTo>
                        <a:lnTo>
                          <a:pt x="562" y="754"/>
                        </a:lnTo>
                        <a:lnTo>
                          <a:pt x="523" y="737"/>
                        </a:lnTo>
                        <a:lnTo>
                          <a:pt x="487" y="718"/>
                        </a:lnTo>
                        <a:lnTo>
                          <a:pt x="450" y="696"/>
                        </a:lnTo>
                        <a:lnTo>
                          <a:pt x="415" y="675"/>
                        </a:lnTo>
                        <a:lnTo>
                          <a:pt x="380" y="650"/>
                        </a:lnTo>
                        <a:lnTo>
                          <a:pt x="347" y="624"/>
                        </a:lnTo>
                        <a:lnTo>
                          <a:pt x="314" y="595"/>
                        </a:lnTo>
                        <a:lnTo>
                          <a:pt x="284" y="566"/>
                        </a:lnTo>
                        <a:lnTo>
                          <a:pt x="254" y="534"/>
                        </a:lnTo>
                        <a:lnTo>
                          <a:pt x="228" y="503"/>
                        </a:lnTo>
                        <a:lnTo>
                          <a:pt x="202" y="472"/>
                        </a:lnTo>
                        <a:lnTo>
                          <a:pt x="179" y="440"/>
                        </a:lnTo>
                        <a:lnTo>
                          <a:pt x="157" y="406"/>
                        </a:lnTo>
                        <a:lnTo>
                          <a:pt x="137" y="373"/>
                        </a:lnTo>
                        <a:lnTo>
                          <a:pt x="118" y="339"/>
                        </a:lnTo>
                        <a:lnTo>
                          <a:pt x="103" y="305"/>
                        </a:lnTo>
                        <a:lnTo>
                          <a:pt x="88" y="269"/>
                        </a:lnTo>
                        <a:lnTo>
                          <a:pt x="75" y="233"/>
                        </a:lnTo>
                        <a:lnTo>
                          <a:pt x="63" y="195"/>
                        </a:lnTo>
                        <a:lnTo>
                          <a:pt x="55" y="158"/>
                        </a:lnTo>
                        <a:lnTo>
                          <a:pt x="46" y="118"/>
                        </a:lnTo>
                        <a:lnTo>
                          <a:pt x="40" y="80"/>
                        </a:lnTo>
                        <a:lnTo>
                          <a:pt x="35" y="40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00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638400" y="6432840"/>
                    <a:ext cx="1213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365">
                        <a:moveTo>
                          <a:pt x="95" y="107"/>
                        </a:moveTo>
                        <a:lnTo>
                          <a:pt x="69" y="80"/>
                        </a:lnTo>
                        <a:lnTo>
                          <a:pt x="45" y="53"/>
                        </a:lnTo>
                        <a:lnTo>
                          <a:pt x="21" y="26"/>
                        </a:lnTo>
                        <a:lnTo>
                          <a:pt x="0" y="0"/>
                        </a:lnTo>
                        <a:lnTo>
                          <a:pt x="11" y="23"/>
                        </a:lnTo>
                        <a:lnTo>
                          <a:pt x="25" y="47"/>
                        </a:lnTo>
                        <a:lnTo>
                          <a:pt x="55" y="93"/>
                        </a:lnTo>
                        <a:lnTo>
                          <a:pt x="71" y="115"/>
                        </a:lnTo>
                        <a:lnTo>
                          <a:pt x="89" y="137"/>
                        </a:lnTo>
                        <a:lnTo>
                          <a:pt x="130" y="180"/>
                        </a:lnTo>
                        <a:lnTo>
                          <a:pt x="167" y="216"/>
                        </a:lnTo>
                        <a:lnTo>
                          <a:pt x="207" y="247"/>
                        </a:lnTo>
                        <a:lnTo>
                          <a:pt x="248" y="276"/>
                        </a:lnTo>
                        <a:lnTo>
                          <a:pt x="292" y="301"/>
                        </a:lnTo>
                        <a:lnTo>
                          <a:pt x="335" y="321"/>
                        </a:lnTo>
                        <a:lnTo>
                          <a:pt x="382" y="339"/>
                        </a:lnTo>
                        <a:lnTo>
                          <a:pt x="428" y="354"/>
                        </a:lnTo>
                        <a:lnTo>
                          <a:pt x="478" y="365"/>
                        </a:lnTo>
                        <a:lnTo>
                          <a:pt x="425" y="341"/>
                        </a:lnTo>
                        <a:lnTo>
                          <a:pt x="374" y="316"/>
                        </a:lnTo>
                        <a:lnTo>
                          <a:pt x="324" y="288"/>
                        </a:lnTo>
                        <a:lnTo>
                          <a:pt x="276" y="258"/>
                        </a:lnTo>
                        <a:lnTo>
                          <a:pt x="229" y="222"/>
                        </a:lnTo>
                        <a:lnTo>
                          <a:pt x="183" y="187"/>
                        </a:lnTo>
                        <a:lnTo>
                          <a:pt x="138" y="148"/>
                        </a:lnTo>
                        <a:lnTo>
                          <a:pt x="95" y="107"/>
                        </a:lnTo>
                        <a:close/>
                      </a:path>
                    </a:pathLst>
                  </a:custGeom>
                  <a:solidFill>
                    <a:srgbClr val="006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626880" y="6399720"/>
                    <a:ext cx="1717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504">
                        <a:moveTo>
                          <a:pt x="47" y="130"/>
                        </a:moveTo>
                        <a:lnTo>
                          <a:pt x="68" y="156"/>
                        </a:lnTo>
                        <a:lnTo>
                          <a:pt x="92" y="183"/>
                        </a:lnTo>
                        <a:lnTo>
                          <a:pt x="116" y="210"/>
                        </a:lnTo>
                        <a:lnTo>
                          <a:pt x="142" y="237"/>
                        </a:lnTo>
                        <a:lnTo>
                          <a:pt x="185" y="278"/>
                        </a:lnTo>
                        <a:lnTo>
                          <a:pt x="230" y="317"/>
                        </a:lnTo>
                        <a:lnTo>
                          <a:pt x="276" y="352"/>
                        </a:lnTo>
                        <a:lnTo>
                          <a:pt x="323" y="388"/>
                        </a:lnTo>
                        <a:lnTo>
                          <a:pt x="371" y="418"/>
                        </a:lnTo>
                        <a:lnTo>
                          <a:pt x="421" y="446"/>
                        </a:lnTo>
                        <a:lnTo>
                          <a:pt x="472" y="471"/>
                        </a:lnTo>
                        <a:lnTo>
                          <a:pt x="525" y="495"/>
                        </a:lnTo>
                        <a:lnTo>
                          <a:pt x="584" y="502"/>
                        </a:lnTo>
                        <a:lnTo>
                          <a:pt x="646" y="504"/>
                        </a:lnTo>
                        <a:lnTo>
                          <a:pt x="677" y="504"/>
                        </a:lnTo>
                        <a:lnTo>
                          <a:pt x="641" y="494"/>
                        </a:lnTo>
                        <a:lnTo>
                          <a:pt x="606" y="483"/>
                        </a:lnTo>
                        <a:lnTo>
                          <a:pt x="538" y="458"/>
                        </a:lnTo>
                        <a:lnTo>
                          <a:pt x="471" y="428"/>
                        </a:lnTo>
                        <a:lnTo>
                          <a:pt x="406" y="394"/>
                        </a:lnTo>
                        <a:lnTo>
                          <a:pt x="343" y="354"/>
                        </a:lnTo>
                        <a:lnTo>
                          <a:pt x="282" y="310"/>
                        </a:lnTo>
                        <a:lnTo>
                          <a:pt x="253" y="287"/>
                        </a:lnTo>
                        <a:lnTo>
                          <a:pt x="223" y="262"/>
                        </a:lnTo>
                        <a:lnTo>
                          <a:pt x="168" y="210"/>
                        </a:lnTo>
                        <a:lnTo>
                          <a:pt x="119" y="159"/>
                        </a:lnTo>
                        <a:lnTo>
                          <a:pt x="96" y="132"/>
                        </a:lnTo>
                        <a:lnTo>
                          <a:pt x="76" y="108"/>
                        </a:lnTo>
                        <a:lnTo>
                          <a:pt x="54" y="80"/>
                        </a:lnTo>
                        <a:lnTo>
                          <a:pt x="35" y="54"/>
                        </a:lnTo>
                        <a:lnTo>
                          <a:pt x="0" y="0"/>
                        </a:lnTo>
                        <a:lnTo>
                          <a:pt x="8" y="33"/>
                        </a:lnTo>
                        <a:lnTo>
                          <a:pt x="19" y="66"/>
                        </a:lnTo>
                        <a:lnTo>
                          <a:pt x="32" y="97"/>
                        </a:lnTo>
                        <a:lnTo>
                          <a:pt x="47" y="130"/>
                        </a:lnTo>
                        <a:close/>
                      </a:path>
                    </a:pathLst>
                  </a:custGeom>
                  <a:solidFill>
                    <a:srgbClr val="00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622560" y="6372720"/>
                    <a:ext cx="20556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1" h="610">
                        <a:moveTo>
                          <a:pt x="16" y="106"/>
                        </a:moveTo>
                        <a:lnTo>
                          <a:pt x="51" y="160"/>
                        </a:lnTo>
                        <a:lnTo>
                          <a:pt x="70" y="186"/>
                        </a:lnTo>
                        <a:lnTo>
                          <a:pt x="92" y="214"/>
                        </a:lnTo>
                        <a:lnTo>
                          <a:pt x="112" y="238"/>
                        </a:lnTo>
                        <a:lnTo>
                          <a:pt x="135" y="265"/>
                        </a:lnTo>
                        <a:lnTo>
                          <a:pt x="184" y="316"/>
                        </a:lnTo>
                        <a:lnTo>
                          <a:pt x="239" y="368"/>
                        </a:lnTo>
                        <a:lnTo>
                          <a:pt x="269" y="393"/>
                        </a:lnTo>
                        <a:lnTo>
                          <a:pt x="298" y="416"/>
                        </a:lnTo>
                        <a:lnTo>
                          <a:pt x="359" y="460"/>
                        </a:lnTo>
                        <a:lnTo>
                          <a:pt x="422" y="500"/>
                        </a:lnTo>
                        <a:lnTo>
                          <a:pt x="487" y="534"/>
                        </a:lnTo>
                        <a:lnTo>
                          <a:pt x="554" y="564"/>
                        </a:lnTo>
                        <a:lnTo>
                          <a:pt x="622" y="589"/>
                        </a:lnTo>
                        <a:lnTo>
                          <a:pt x="657" y="600"/>
                        </a:lnTo>
                        <a:lnTo>
                          <a:pt x="693" y="610"/>
                        </a:lnTo>
                        <a:lnTo>
                          <a:pt x="723" y="608"/>
                        </a:lnTo>
                        <a:lnTo>
                          <a:pt x="737" y="606"/>
                        </a:lnTo>
                        <a:lnTo>
                          <a:pt x="753" y="605"/>
                        </a:lnTo>
                        <a:lnTo>
                          <a:pt x="782" y="600"/>
                        </a:lnTo>
                        <a:lnTo>
                          <a:pt x="811" y="596"/>
                        </a:lnTo>
                        <a:lnTo>
                          <a:pt x="768" y="588"/>
                        </a:lnTo>
                        <a:lnTo>
                          <a:pt x="726" y="579"/>
                        </a:lnTo>
                        <a:lnTo>
                          <a:pt x="684" y="568"/>
                        </a:lnTo>
                        <a:lnTo>
                          <a:pt x="644" y="557"/>
                        </a:lnTo>
                        <a:lnTo>
                          <a:pt x="603" y="543"/>
                        </a:lnTo>
                        <a:lnTo>
                          <a:pt x="565" y="529"/>
                        </a:lnTo>
                        <a:lnTo>
                          <a:pt x="526" y="512"/>
                        </a:lnTo>
                        <a:lnTo>
                          <a:pt x="489" y="494"/>
                        </a:lnTo>
                        <a:lnTo>
                          <a:pt x="452" y="473"/>
                        </a:lnTo>
                        <a:lnTo>
                          <a:pt x="415" y="452"/>
                        </a:lnTo>
                        <a:lnTo>
                          <a:pt x="344" y="404"/>
                        </a:lnTo>
                        <a:lnTo>
                          <a:pt x="309" y="377"/>
                        </a:lnTo>
                        <a:lnTo>
                          <a:pt x="276" y="350"/>
                        </a:lnTo>
                        <a:lnTo>
                          <a:pt x="243" y="320"/>
                        </a:lnTo>
                        <a:lnTo>
                          <a:pt x="211" y="289"/>
                        </a:lnTo>
                        <a:lnTo>
                          <a:pt x="177" y="254"/>
                        </a:lnTo>
                        <a:lnTo>
                          <a:pt x="146" y="220"/>
                        </a:lnTo>
                        <a:lnTo>
                          <a:pt x="117" y="185"/>
                        </a:lnTo>
                        <a:lnTo>
                          <a:pt x="91" y="150"/>
                        </a:lnTo>
                        <a:lnTo>
                          <a:pt x="65" y="113"/>
                        </a:lnTo>
                        <a:lnTo>
                          <a:pt x="42" y="76"/>
                        </a:lnTo>
                        <a:lnTo>
                          <a:pt x="19" y="38"/>
                        </a:lnTo>
                        <a:lnTo>
                          <a:pt x="0" y="0"/>
                        </a:lnTo>
                        <a:lnTo>
                          <a:pt x="6" y="53"/>
                        </a:lnTo>
                        <a:lnTo>
                          <a:pt x="16" y="106"/>
                        </a:lnTo>
                        <a:close/>
                      </a:path>
                    </a:pathLst>
                  </a:custGeom>
                  <a:solidFill>
                    <a:srgbClr val="006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6622200" y="6190200"/>
                    <a:ext cx="337320" cy="33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8" h="1327">
                        <a:moveTo>
                          <a:pt x="663" y="0"/>
                        </a:moveTo>
                        <a:lnTo>
                          <a:pt x="628" y="0"/>
                        </a:lnTo>
                        <a:lnTo>
                          <a:pt x="595" y="2"/>
                        </a:lnTo>
                        <a:lnTo>
                          <a:pt x="531" y="11"/>
                        </a:lnTo>
                        <a:lnTo>
                          <a:pt x="468" y="26"/>
                        </a:lnTo>
                        <a:lnTo>
                          <a:pt x="408" y="48"/>
                        </a:lnTo>
                        <a:lnTo>
                          <a:pt x="350" y="74"/>
                        </a:lnTo>
                        <a:lnTo>
                          <a:pt x="322" y="90"/>
                        </a:lnTo>
                        <a:lnTo>
                          <a:pt x="296" y="108"/>
                        </a:lnTo>
                        <a:lnTo>
                          <a:pt x="243" y="147"/>
                        </a:lnTo>
                        <a:lnTo>
                          <a:pt x="194" y="194"/>
                        </a:lnTo>
                        <a:lnTo>
                          <a:pt x="147" y="243"/>
                        </a:lnTo>
                        <a:lnTo>
                          <a:pt x="108" y="296"/>
                        </a:lnTo>
                        <a:lnTo>
                          <a:pt x="90" y="322"/>
                        </a:lnTo>
                        <a:lnTo>
                          <a:pt x="74" y="350"/>
                        </a:lnTo>
                        <a:lnTo>
                          <a:pt x="48" y="408"/>
                        </a:lnTo>
                        <a:lnTo>
                          <a:pt x="26" y="468"/>
                        </a:lnTo>
                        <a:lnTo>
                          <a:pt x="11" y="530"/>
                        </a:lnTo>
                        <a:lnTo>
                          <a:pt x="2" y="595"/>
                        </a:lnTo>
                        <a:lnTo>
                          <a:pt x="0" y="628"/>
                        </a:lnTo>
                        <a:lnTo>
                          <a:pt x="0" y="663"/>
                        </a:lnTo>
                        <a:lnTo>
                          <a:pt x="0" y="696"/>
                        </a:lnTo>
                        <a:lnTo>
                          <a:pt x="2" y="730"/>
                        </a:lnTo>
                        <a:lnTo>
                          <a:pt x="6" y="762"/>
                        </a:lnTo>
                        <a:lnTo>
                          <a:pt x="11" y="795"/>
                        </a:lnTo>
                        <a:lnTo>
                          <a:pt x="17" y="825"/>
                        </a:lnTo>
                        <a:lnTo>
                          <a:pt x="26" y="857"/>
                        </a:lnTo>
                        <a:lnTo>
                          <a:pt x="35" y="887"/>
                        </a:lnTo>
                        <a:lnTo>
                          <a:pt x="48" y="918"/>
                        </a:lnTo>
                        <a:lnTo>
                          <a:pt x="59" y="946"/>
                        </a:lnTo>
                        <a:lnTo>
                          <a:pt x="74" y="975"/>
                        </a:lnTo>
                        <a:lnTo>
                          <a:pt x="90" y="1002"/>
                        </a:lnTo>
                        <a:lnTo>
                          <a:pt x="108" y="1030"/>
                        </a:lnTo>
                        <a:lnTo>
                          <a:pt x="126" y="1056"/>
                        </a:lnTo>
                        <a:lnTo>
                          <a:pt x="147" y="1082"/>
                        </a:lnTo>
                        <a:lnTo>
                          <a:pt x="169" y="1107"/>
                        </a:lnTo>
                        <a:lnTo>
                          <a:pt x="194" y="1133"/>
                        </a:lnTo>
                        <a:lnTo>
                          <a:pt x="218" y="1156"/>
                        </a:lnTo>
                        <a:lnTo>
                          <a:pt x="243" y="1178"/>
                        </a:lnTo>
                        <a:lnTo>
                          <a:pt x="269" y="1198"/>
                        </a:lnTo>
                        <a:lnTo>
                          <a:pt x="296" y="1217"/>
                        </a:lnTo>
                        <a:lnTo>
                          <a:pt x="322" y="1234"/>
                        </a:lnTo>
                        <a:lnTo>
                          <a:pt x="350" y="1250"/>
                        </a:lnTo>
                        <a:lnTo>
                          <a:pt x="379" y="1265"/>
                        </a:lnTo>
                        <a:lnTo>
                          <a:pt x="408" y="1279"/>
                        </a:lnTo>
                        <a:lnTo>
                          <a:pt x="468" y="1299"/>
                        </a:lnTo>
                        <a:lnTo>
                          <a:pt x="531" y="1315"/>
                        </a:lnTo>
                        <a:lnTo>
                          <a:pt x="595" y="1324"/>
                        </a:lnTo>
                        <a:lnTo>
                          <a:pt x="628" y="1326"/>
                        </a:lnTo>
                        <a:lnTo>
                          <a:pt x="663" y="1327"/>
                        </a:lnTo>
                        <a:lnTo>
                          <a:pt x="679" y="1326"/>
                        </a:lnTo>
                        <a:lnTo>
                          <a:pt x="696" y="1326"/>
                        </a:lnTo>
                        <a:lnTo>
                          <a:pt x="730" y="1324"/>
                        </a:lnTo>
                        <a:lnTo>
                          <a:pt x="762" y="1319"/>
                        </a:lnTo>
                        <a:lnTo>
                          <a:pt x="795" y="1315"/>
                        </a:lnTo>
                        <a:lnTo>
                          <a:pt x="810" y="1310"/>
                        </a:lnTo>
                        <a:lnTo>
                          <a:pt x="826" y="1307"/>
                        </a:lnTo>
                        <a:lnTo>
                          <a:pt x="857" y="1299"/>
                        </a:lnTo>
                        <a:lnTo>
                          <a:pt x="887" y="1289"/>
                        </a:lnTo>
                        <a:lnTo>
                          <a:pt x="894" y="1285"/>
                        </a:lnTo>
                        <a:lnTo>
                          <a:pt x="902" y="1283"/>
                        </a:lnTo>
                        <a:lnTo>
                          <a:pt x="917" y="1279"/>
                        </a:lnTo>
                        <a:lnTo>
                          <a:pt x="946" y="1265"/>
                        </a:lnTo>
                        <a:lnTo>
                          <a:pt x="959" y="1257"/>
                        </a:lnTo>
                        <a:lnTo>
                          <a:pt x="974" y="1250"/>
                        </a:lnTo>
                        <a:lnTo>
                          <a:pt x="1001" y="1234"/>
                        </a:lnTo>
                        <a:lnTo>
                          <a:pt x="1015" y="1225"/>
                        </a:lnTo>
                        <a:lnTo>
                          <a:pt x="1022" y="1221"/>
                        </a:lnTo>
                        <a:lnTo>
                          <a:pt x="1025" y="1218"/>
                        </a:lnTo>
                        <a:lnTo>
                          <a:pt x="1030" y="1217"/>
                        </a:lnTo>
                        <a:lnTo>
                          <a:pt x="1032" y="1214"/>
                        </a:lnTo>
                        <a:lnTo>
                          <a:pt x="1035" y="1212"/>
                        </a:lnTo>
                        <a:lnTo>
                          <a:pt x="1042" y="1207"/>
                        </a:lnTo>
                        <a:lnTo>
                          <a:pt x="1056" y="1198"/>
                        </a:lnTo>
                        <a:lnTo>
                          <a:pt x="1082" y="1178"/>
                        </a:lnTo>
                        <a:lnTo>
                          <a:pt x="1107" y="1156"/>
                        </a:lnTo>
                        <a:lnTo>
                          <a:pt x="1133" y="1133"/>
                        </a:lnTo>
                        <a:lnTo>
                          <a:pt x="1156" y="1107"/>
                        </a:lnTo>
                        <a:lnTo>
                          <a:pt x="1178" y="1082"/>
                        </a:lnTo>
                        <a:lnTo>
                          <a:pt x="1199" y="1056"/>
                        </a:lnTo>
                        <a:lnTo>
                          <a:pt x="1208" y="1043"/>
                        </a:lnTo>
                        <a:lnTo>
                          <a:pt x="1212" y="1036"/>
                        </a:lnTo>
                        <a:lnTo>
                          <a:pt x="1215" y="1033"/>
                        </a:lnTo>
                        <a:lnTo>
                          <a:pt x="1218" y="1030"/>
                        </a:lnTo>
                        <a:lnTo>
                          <a:pt x="1219" y="1026"/>
                        </a:lnTo>
                        <a:lnTo>
                          <a:pt x="1221" y="1022"/>
                        </a:lnTo>
                        <a:lnTo>
                          <a:pt x="1226" y="1016"/>
                        </a:lnTo>
                        <a:lnTo>
                          <a:pt x="1235" y="1002"/>
                        </a:lnTo>
                        <a:lnTo>
                          <a:pt x="1251" y="975"/>
                        </a:lnTo>
                        <a:lnTo>
                          <a:pt x="1258" y="960"/>
                        </a:lnTo>
                        <a:lnTo>
                          <a:pt x="1266" y="946"/>
                        </a:lnTo>
                        <a:lnTo>
                          <a:pt x="1279" y="918"/>
                        </a:lnTo>
                        <a:lnTo>
                          <a:pt x="1284" y="902"/>
                        </a:lnTo>
                        <a:lnTo>
                          <a:pt x="1286" y="894"/>
                        </a:lnTo>
                        <a:lnTo>
                          <a:pt x="1289" y="887"/>
                        </a:lnTo>
                        <a:lnTo>
                          <a:pt x="1294" y="872"/>
                        </a:lnTo>
                        <a:lnTo>
                          <a:pt x="1296" y="864"/>
                        </a:lnTo>
                        <a:lnTo>
                          <a:pt x="1300" y="857"/>
                        </a:lnTo>
                        <a:lnTo>
                          <a:pt x="1308" y="825"/>
                        </a:lnTo>
                        <a:lnTo>
                          <a:pt x="1311" y="809"/>
                        </a:lnTo>
                        <a:lnTo>
                          <a:pt x="1315" y="795"/>
                        </a:lnTo>
                        <a:lnTo>
                          <a:pt x="1320" y="762"/>
                        </a:lnTo>
                        <a:lnTo>
                          <a:pt x="1325" y="730"/>
                        </a:lnTo>
                        <a:lnTo>
                          <a:pt x="1327" y="696"/>
                        </a:lnTo>
                        <a:lnTo>
                          <a:pt x="1327" y="679"/>
                        </a:lnTo>
                        <a:lnTo>
                          <a:pt x="1328" y="663"/>
                        </a:lnTo>
                        <a:lnTo>
                          <a:pt x="1327" y="628"/>
                        </a:lnTo>
                        <a:lnTo>
                          <a:pt x="1325" y="595"/>
                        </a:lnTo>
                        <a:lnTo>
                          <a:pt x="1315" y="530"/>
                        </a:lnTo>
                        <a:lnTo>
                          <a:pt x="1300" y="468"/>
                        </a:lnTo>
                        <a:lnTo>
                          <a:pt x="1279" y="408"/>
                        </a:lnTo>
                        <a:lnTo>
                          <a:pt x="1266" y="379"/>
                        </a:lnTo>
                        <a:lnTo>
                          <a:pt x="1251" y="350"/>
                        </a:lnTo>
                        <a:lnTo>
                          <a:pt x="1235" y="322"/>
                        </a:lnTo>
                        <a:lnTo>
                          <a:pt x="1218" y="296"/>
                        </a:lnTo>
                        <a:lnTo>
                          <a:pt x="1199" y="269"/>
                        </a:lnTo>
                        <a:lnTo>
                          <a:pt x="1178" y="243"/>
                        </a:lnTo>
                        <a:lnTo>
                          <a:pt x="1133" y="194"/>
                        </a:lnTo>
                        <a:lnTo>
                          <a:pt x="1107" y="169"/>
                        </a:lnTo>
                        <a:lnTo>
                          <a:pt x="1082" y="147"/>
                        </a:lnTo>
                        <a:lnTo>
                          <a:pt x="1056" y="126"/>
                        </a:lnTo>
                        <a:lnTo>
                          <a:pt x="1030" y="108"/>
                        </a:lnTo>
                        <a:lnTo>
                          <a:pt x="1001" y="90"/>
                        </a:lnTo>
                        <a:lnTo>
                          <a:pt x="974" y="74"/>
                        </a:lnTo>
                        <a:lnTo>
                          <a:pt x="946" y="59"/>
                        </a:lnTo>
                        <a:lnTo>
                          <a:pt x="917" y="48"/>
                        </a:lnTo>
                        <a:lnTo>
                          <a:pt x="887" y="35"/>
                        </a:lnTo>
                        <a:lnTo>
                          <a:pt x="857" y="26"/>
                        </a:lnTo>
                        <a:lnTo>
                          <a:pt x="826" y="17"/>
                        </a:lnTo>
                        <a:lnTo>
                          <a:pt x="795" y="11"/>
                        </a:lnTo>
                        <a:lnTo>
                          <a:pt x="762" y="6"/>
                        </a:lnTo>
                        <a:lnTo>
                          <a:pt x="730" y="2"/>
                        </a:lnTo>
                        <a:lnTo>
                          <a:pt x="696" y="0"/>
                        </a:lnTo>
                        <a:lnTo>
                          <a:pt x="663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6712200" y="6343920"/>
                    <a:ext cx="155160" cy="38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717240" y="6348960"/>
                    <a:ext cx="145080" cy="284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911560" y="4108680"/>
                    <a:ext cx="19836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1030">
                        <a:moveTo>
                          <a:pt x="191" y="0"/>
                        </a:moveTo>
                        <a:lnTo>
                          <a:pt x="158" y="1"/>
                        </a:lnTo>
                        <a:lnTo>
                          <a:pt x="120" y="44"/>
                        </a:lnTo>
                        <a:lnTo>
                          <a:pt x="88" y="90"/>
                        </a:lnTo>
                        <a:lnTo>
                          <a:pt x="61" y="139"/>
                        </a:lnTo>
                        <a:lnTo>
                          <a:pt x="39" y="190"/>
                        </a:lnTo>
                        <a:lnTo>
                          <a:pt x="21" y="241"/>
                        </a:lnTo>
                        <a:lnTo>
                          <a:pt x="9" y="297"/>
                        </a:lnTo>
                        <a:lnTo>
                          <a:pt x="2" y="352"/>
                        </a:lnTo>
                        <a:lnTo>
                          <a:pt x="0" y="412"/>
                        </a:lnTo>
                        <a:lnTo>
                          <a:pt x="0" y="443"/>
                        </a:lnTo>
                        <a:lnTo>
                          <a:pt x="2" y="475"/>
                        </a:lnTo>
                        <a:lnTo>
                          <a:pt x="5" y="504"/>
                        </a:lnTo>
                        <a:lnTo>
                          <a:pt x="11" y="535"/>
                        </a:lnTo>
                        <a:lnTo>
                          <a:pt x="17" y="563"/>
                        </a:lnTo>
                        <a:lnTo>
                          <a:pt x="25" y="592"/>
                        </a:lnTo>
                        <a:lnTo>
                          <a:pt x="34" y="621"/>
                        </a:lnTo>
                        <a:lnTo>
                          <a:pt x="45" y="649"/>
                        </a:lnTo>
                        <a:lnTo>
                          <a:pt x="56" y="675"/>
                        </a:lnTo>
                        <a:lnTo>
                          <a:pt x="70" y="702"/>
                        </a:lnTo>
                        <a:lnTo>
                          <a:pt x="85" y="727"/>
                        </a:lnTo>
                        <a:lnTo>
                          <a:pt x="102" y="753"/>
                        </a:lnTo>
                        <a:lnTo>
                          <a:pt x="119" y="777"/>
                        </a:lnTo>
                        <a:lnTo>
                          <a:pt x="138" y="802"/>
                        </a:lnTo>
                        <a:lnTo>
                          <a:pt x="158" y="825"/>
                        </a:lnTo>
                        <a:lnTo>
                          <a:pt x="181" y="849"/>
                        </a:lnTo>
                        <a:lnTo>
                          <a:pt x="203" y="870"/>
                        </a:lnTo>
                        <a:lnTo>
                          <a:pt x="226" y="891"/>
                        </a:lnTo>
                        <a:lnTo>
                          <a:pt x="250" y="910"/>
                        </a:lnTo>
                        <a:lnTo>
                          <a:pt x="275" y="928"/>
                        </a:lnTo>
                        <a:lnTo>
                          <a:pt x="300" y="944"/>
                        </a:lnTo>
                        <a:lnTo>
                          <a:pt x="326" y="959"/>
                        </a:lnTo>
                        <a:lnTo>
                          <a:pt x="352" y="972"/>
                        </a:lnTo>
                        <a:lnTo>
                          <a:pt x="379" y="985"/>
                        </a:lnTo>
                        <a:lnTo>
                          <a:pt x="407" y="995"/>
                        </a:lnTo>
                        <a:lnTo>
                          <a:pt x="435" y="1004"/>
                        </a:lnTo>
                        <a:lnTo>
                          <a:pt x="463" y="1012"/>
                        </a:lnTo>
                        <a:lnTo>
                          <a:pt x="493" y="1019"/>
                        </a:lnTo>
                        <a:lnTo>
                          <a:pt x="522" y="1023"/>
                        </a:lnTo>
                        <a:lnTo>
                          <a:pt x="553" y="1027"/>
                        </a:lnTo>
                        <a:lnTo>
                          <a:pt x="585" y="1029"/>
                        </a:lnTo>
                        <a:lnTo>
                          <a:pt x="618" y="1030"/>
                        </a:lnTo>
                        <a:lnTo>
                          <a:pt x="618" y="1029"/>
                        </a:lnTo>
                        <a:lnTo>
                          <a:pt x="619" y="1029"/>
                        </a:lnTo>
                        <a:lnTo>
                          <a:pt x="621" y="1029"/>
                        </a:lnTo>
                        <a:lnTo>
                          <a:pt x="626" y="1029"/>
                        </a:lnTo>
                        <a:lnTo>
                          <a:pt x="635" y="1029"/>
                        </a:lnTo>
                        <a:lnTo>
                          <a:pt x="653" y="1029"/>
                        </a:lnTo>
                        <a:lnTo>
                          <a:pt x="688" y="1027"/>
                        </a:lnTo>
                        <a:lnTo>
                          <a:pt x="722" y="1022"/>
                        </a:lnTo>
                        <a:lnTo>
                          <a:pt x="756" y="1016"/>
                        </a:lnTo>
                        <a:lnTo>
                          <a:pt x="768" y="994"/>
                        </a:lnTo>
                        <a:lnTo>
                          <a:pt x="782" y="972"/>
                        </a:lnTo>
                        <a:lnTo>
                          <a:pt x="741" y="980"/>
                        </a:lnTo>
                        <a:lnTo>
                          <a:pt x="721" y="983"/>
                        </a:lnTo>
                        <a:lnTo>
                          <a:pt x="702" y="988"/>
                        </a:lnTo>
                        <a:lnTo>
                          <a:pt x="690" y="988"/>
                        </a:lnTo>
                        <a:lnTo>
                          <a:pt x="685" y="988"/>
                        </a:lnTo>
                        <a:lnTo>
                          <a:pt x="680" y="989"/>
                        </a:lnTo>
                        <a:lnTo>
                          <a:pt x="660" y="991"/>
                        </a:lnTo>
                        <a:lnTo>
                          <a:pt x="648" y="991"/>
                        </a:lnTo>
                        <a:lnTo>
                          <a:pt x="643" y="991"/>
                        </a:lnTo>
                        <a:lnTo>
                          <a:pt x="638" y="993"/>
                        </a:lnTo>
                        <a:lnTo>
                          <a:pt x="618" y="994"/>
                        </a:lnTo>
                        <a:lnTo>
                          <a:pt x="587" y="993"/>
                        </a:lnTo>
                        <a:lnTo>
                          <a:pt x="558" y="990"/>
                        </a:lnTo>
                        <a:lnTo>
                          <a:pt x="528" y="987"/>
                        </a:lnTo>
                        <a:lnTo>
                          <a:pt x="501" y="982"/>
                        </a:lnTo>
                        <a:lnTo>
                          <a:pt x="445" y="969"/>
                        </a:lnTo>
                        <a:lnTo>
                          <a:pt x="394" y="951"/>
                        </a:lnTo>
                        <a:lnTo>
                          <a:pt x="343" y="926"/>
                        </a:lnTo>
                        <a:lnTo>
                          <a:pt x="318" y="912"/>
                        </a:lnTo>
                        <a:lnTo>
                          <a:pt x="296" y="897"/>
                        </a:lnTo>
                        <a:lnTo>
                          <a:pt x="272" y="880"/>
                        </a:lnTo>
                        <a:lnTo>
                          <a:pt x="249" y="862"/>
                        </a:lnTo>
                        <a:lnTo>
                          <a:pt x="207" y="824"/>
                        </a:lnTo>
                        <a:lnTo>
                          <a:pt x="186" y="801"/>
                        </a:lnTo>
                        <a:lnTo>
                          <a:pt x="166" y="779"/>
                        </a:lnTo>
                        <a:lnTo>
                          <a:pt x="148" y="756"/>
                        </a:lnTo>
                        <a:lnTo>
                          <a:pt x="132" y="733"/>
                        </a:lnTo>
                        <a:lnTo>
                          <a:pt x="116" y="708"/>
                        </a:lnTo>
                        <a:lnTo>
                          <a:pt x="103" y="684"/>
                        </a:lnTo>
                        <a:lnTo>
                          <a:pt x="89" y="659"/>
                        </a:lnTo>
                        <a:lnTo>
                          <a:pt x="79" y="636"/>
                        </a:lnTo>
                        <a:lnTo>
                          <a:pt x="68" y="608"/>
                        </a:lnTo>
                        <a:lnTo>
                          <a:pt x="60" y="582"/>
                        </a:lnTo>
                        <a:lnTo>
                          <a:pt x="47" y="528"/>
                        </a:lnTo>
                        <a:lnTo>
                          <a:pt x="42" y="498"/>
                        </a:lnTo>
                        <a:lnTo>
                          <a:pt x="39" y="470"/>
                        </a:lnTo>
                        <a:lnTo>
                          <a:pt x="37" y="441"/>
                        </a:lnTo>
                        <a:lnTo>
                          <a:pt x="37" y="412"/>
                        </a:lnTo>
                        <a:lnTo>
                          <a:pt x="39" y="352"/>
                        </a:lnTo>
                        <a:lnTo>
                          <a:pt x="47" y="295"/>
                        </a:lnTo>
                        <a:lnTo>
                          <a:pt x="60" y="240"/>
                        </a:lnTo>
                        <a:lnTo>
                          <a:pt x="79" y="189"/>
                        </a:lnTo>
                        <a:lnTo>
                          <a:pt x="103" y="138"/>
                        </a:lnTo>
                        <a:lnTo>
                          <a:pt x="132" y="90"/>
                        </a:lnTo>
                        <a:lnTo>
                          <a:pt x="166" y="44"/>
                        </a:lnTo>
                        <a:lnTo>
                          <a:pt x="207" y="2"/>
                        </a:lnTo>
                        <a:lnTo>
                          <a:pt x="208" y="0"/>
                        </a:lnTo>
                        <a:lnTo>
                          <a:pt x="191" y="0"/>
                        </a:lnTo>
                        <a:close/>
                      </a:path>
                    </a:pathLst>
                  </a:custGeom>
                  <a:solidFill>
                    <a:srgbClr val="324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921280" y="4108680"/>
                    <a:ext cx="19440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994">
                        <a:moveTo>
                          <a:pt x="171" y="0"/>
                        </a:moveTo>
                        <a:lnTo>
                          <a:pt x="170" y="2"/>
                        </a:lnTo>
                        <a:lnTo>
                          <a:pt x="129" y="44"/>
                        </a:lnTo>
                        <a:lnTo>
                          <a:pt x="95" y="90"/>
                        </a:lnTo>
                        <a:lnTo>
                          <a:pt x="66" y="138"/>
                        </a:lnTo>
                        <a:lnTo>
                          <a:pt x="42" y="189"/>
                        </a:lnTo>
                        <a:lnTo>
                          <a:pt x="23" y="240"/>
                        </a:lnTo>
                        <a:lnTo>
                          <a:pt x="10" y="295"/>
                        </a:lnTo>
                        <a:lnTo>
                          <a:pt x="2" y="352"/>
                        </a:lnTo>
                        <a:lnTo>
                          <a:pt x="0" y="412"/>
                        </a:lnTo>
                        <a:lnTo>
                          <a:pt x="0" y="441"/>
                        </a:lnTo>
                        <a:lnTo>
                          <a:pt x="2" y="470"/>
                        </a:lnTo>
                        <a:lnTo>
                          <a:pt x="5" y="498"/>
                        </a:lnTo>
                        <a:lnTo>
                          <a:pt x="10" y="528"/>
                        </a:lnTo>
                        <a:lnTo>
                          <a:pt x="23" y="582"/>
                        </a:lnTo>
                        <a:lnTo>
                          <a:pt x="31" y="608"/>
                        </a:lnTo>
                        <a:lnTo>
                          <a:pt x="42" y="636"/>
                        </a:lnTo>
                        <a:lnTo>
                          <a:pt x="52" y="659"/>
                        </a:lnTo>
                        <a:lnTo>
                          <a:pt x="66" y="684"/>
                        </a:lnTo>
                        <a:lnTo>
                          <a:pt x="79" y="708"/>
                        </a:lnTo>
                        <a:lnTo>
                          <a:pt x="95" y="733"/>
                        </a:lnTo>
                        <a:lnTo>
                          <a:pt x="111" y="756"/>
                        </a:lnTo>
                        <a:lnTo>
                          <a:pt x="129" y="779"/>
                        </a:lnTo>
                        <a:lnTo>
                          <a:pt x="149" y="801"/>
                        </a:lnTo>
                        <a:lnTo>
                          <a:pt x="170" y="824"/>
                        </a:lnTo>
                        <a:lnTo>
                          <a:pt x="212" y="862"/>
                        </a:lnTo>
                        <a:lnTo>
                          <a:pt x="235" y="880"/>
                        </a:lnTo>
                        <a:lnTo>
                          <a:pt x="259" y="897"/>
                        </a:lnTo>
                        <a:lnTo>
                          <a:pt x="281" y="912"/>
                        </a:lnTo>
                        <a:lnTo>
                          <a:pt x="306" y="926"/>
                        </a:lnTo>
                        <a:lnTo>
                          <a:pt x="357" y="951"/>
                        </a:lnTo>
                        <a:lnTo>
                          <a:pt x="408" y="969"/>
                        </a:lnTo>
                        <a:lnTo>
                          <a:pt x="464" y="982"/>
                        </a:lnTo>
                        <a:lnTo>
                          <a:pt x="491" y="987"/>
                        </a:lnTo>
                        <a:lnTo>
                          <a:pt x="521" y="990"/>
                        </a:lnTo>
                        <a:lnTo>
                          <a:pt x="550" y="993"/>
                        </a:lnTo>
                        <a:lnTo>
                          <a:pt x="581" y="994"/>
                        </a:lnTo>
                        <a:lnTo>
                          <a:pt x="601" y="993"/>
                        </a:lnTo>
                        <a:lnTo>
                          <a:pt x="606" y="991"/>
                        </a:lnTo>
                        <a:lnTo>
                          <a:pt x="611" y="991"/>
                        </a:lnTo>
                        <a:lnTo>
                          <a:pt x="623" y="991"/>
                        </a:lnTo>
                        <a:lnTo>
                          <a:pt x="643" y="989"/>
                        </a:lnTo>
                        <a:lnTo>
                          <a:pt x="648" y="988"/>
                        </a:lnTo>
                        <a:lnTo>
                          <a:pt x="653" y="988"/>
                        </a:lnTo>
                        <a:lnTo>
                          <a:pt x="665" y="988"/>
                        </a:lnTo>
                        <a:lnTo>
                          <a:pt x="684" y="983"/>
                        </a:lnTo>
                        <a:lnTo>
                          <a:pt x="704" y="980"/>
                        </a:lnTo>
                        <a:lnTo>
                          <a:pt x="745" y="972"/>
                        </a:lnTo>
                        <a:lnTo>
                          <a:pt x="767" y="927"/>
                        </a:lnTo>
                        <a:lnTo>
                          <a:pt x="744" y="932"/>
                        </a:lnTo>
                        <a:lnTo>
                          <a:pt x="722" y="939"/>
                        </a:lnTo>
                        <a:lnTo>
                          <a:pt x="677" y="949"/>
                        </a:lnTo>
                        <a:lnTo>
                          <a:pt x="629" y="955"/>
                        </a:lnTo>
                        <a:lnTo>
                          <a:pt x="604" y="956"/>
                        </a:lnTo>
                        <a:lnTo>
                          <a:pt x="592" y="956"/>
                        </a:lnTo>
                        <a:lnTo>
                          <a:pt x="581" y="957"/>
                        </a:lnTo>
                        <a:lnTo>
                          <a:pt x="551" y="956"/>
                        </a:lnTo>
                        <a:lnTo>
                          <a:pt x="524" y="954"/>
                        </a:lnTo>
                        <a:lnTo>
                          <a:pt x="471" y="947"/>
                        </a:lnTo>
                        <a:lnTo>
                          <a:pt x="420" y="934"/>
                        </a:lnTo>
                        <a:lnTo>
                          <a:pt x="395" y="926"/>
                        </a:lnTo>
                        <a:lnTo>
                          <a:pt x="371" y="917"/>
                        </a:lnTo>
                        <a:lnTo>
                          <a:pt x="322" y="894"/>
                        </a:lnTo>
                        <a:lnTo>
                          <a:pt x="278" y="867"/>
                        </a:lnTo>
                        <a:lnTo>
                          <a:pt x="255" y="851"/>
                        </a:lnTo>
                        <a:lnTo>
                          <a:pt x="235" y="834"/>
                        </a:lnTo>
                        <a:lnTo>
                          <a:pt x="195" y="798"/>
                        </a:lnTo>
                        <a:lnTo>
                          <a:pt x="175" y="776"/>
                        </a:lnTo>
                        <a:lnTo>
                          <a:pt x="157" y="756"/>
                        </a:lnTo>
                        <a:lnTo>
                          <a:pt x="124" y="713"/>
                        </a:lnTo>
                        <a:lnTo>
                          <a:pt x="96" y="667"/>
                        </a:lnTo>
                        <a:lnTo>
                          <a:pt x="84" y="643"/>
                        </a:lnTo>
                        <a:lnTo>
                          <a:pt x="75" y="621"/>
                        </a:lnTo>
                        <a:lnTo>
                          <a:pt x="57" y="571"/>
                        </a:lnTo>
                        <a:lnTo>
                          <a:pt x="49" y="545"/>
                        </a:lnTo>
                        <a:lnTo>
                          <a:pt x="44" y="520"/>
                        </a:lnTo>
                        <a:lnTo>
                          <a:pt x="40" y="493"/>
                        </a:lnTo>
                        <a:lnTo>
                          <a:pt x="37" y="467"/>
                        </a:lnTo>
                        <a:lnTo>
                          <a:pt x="35" y="412"/>
                        </a:lnTo>
                        <a:lnTo>
                          <a:pt x="37" y="356"/>
                        </a:lnTo>
                        <a:lnTo>
                          <a:pt x="44" y="302"/>
                        </a:lnTo>
                        <a:lnTo>
                          <a:pt x="57" y="251"/>
                        </a:lnTo>
                        <a:lnTo>
                          <a:pt x="75" y="203"/>
                        </a:lnTo>
                        <a:lnTo>
                          <a:pt x="96" y="154"/>
                        </a:lnTo>
                        <a:lnTo>
                          <a:pt x="124" y="110"/>
                        </a:lnTo>
                        <a:lnTo>
                          <a:pt x="157" y="67"/>
                        </a:lnTo>
                        <a:lnTo>
                          <a:pt x="195" y="27"/>
                        </a:lnTo>
                        <a:lnTo>
                          <a:pt x="221" y="3"/>
                        </a:lnTo>
                        <a:lnTo>
                          <a:pt x="196" y="0"/>
                        </a:lnTo>
                        <a:lnTo>
                          <a:pt x="171" y="0"/>
                        </a:lnTo>
                        <a:close/>
                      </a:path>
                    </a:pathLst>
                  </a:custGeom>
                  <a:solidFill>
                    <a:srgbClr val="365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874480" y="4115160"/>
                    <a:ext cx="20376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149">
                        <a:moveTo>
                          <a:pt x="147" y="0"/>
                        </a:moveTo>
                        <a:lnTo>
                          <a:pt x="93" y="18"/>
                        </a:lnTo>
                        <a:lnTo>
                          <a:pt x="71" y="59"/>
                        </a:lnTo>
                        <a:lnTo>
                          <a:pt x="51" y="102"/>
                        </a:lnTo>
                        <a:lnTo>
                          <a:pt x="36" y="145"/>
                        </a:lnTo>
                        <a:lnTo>
                          <a:pt x="23" y="191"/>
                        </a:lnTo>
                        <a:lnTo>
                          <a:pt x="13" y="238"/>
                        </a:lnTo>
                        <a:lnTo>
                          <a:pt x="6" y="286"/>
                        </a:lnTo>
                        <a:lnTo>
                          <a:pt x="2" y="335"/>
                        </a:lnTo>
                        <a:lnTo>
                          <a:pt x="0" y="386"/>
                        </a:lnTo>
                        <a:lnTo>
                          <a:pt x="0" y="424"/>
                        </a:lnTo>
                        <a:lnTo>
                          <a:pt x="4" y="462"/>
                        </a:lnTo>
                        <a:lnTo>
                          <a:pt x="7" y="500"/>
                        </a:lnTo>
                        <a:lnTo>
                          <a:pt x="14" y="537"/>
                        </a:lnTo>
                        <a:lnTo>
                          <a:pt x="21" y="572"/>
                        </a:lnTo>
                        <a:lnTo>
                          <a:pt x="31" y="608"/>
                        </a:lnTo>
                        <a:lnTo>
                          <a:pt x="41" y="644"/>
                        </a:lnTo>
                        <a:lnTo>
                          <a:pt x="56" y="679"/>
                        </a:lnTo>
                        <a:lnTo>
                          <a:pt x="70" y="710"/>
                        </a:lnTo>
                        <a:lnTo>
                          <a:pt x="87" y="743"/>
                        </a:lnTo>
                        <a:lnTo>
                          <a:pt x="104" y="775"/>
                        </a:lnTo>
                        <a:lnTo>
                          <a:pt x="125" y="807"/>
                        </a:lnTo>
                        <a:lnTo>
                          <a:pt x="147" y="836"/>
                        </a:lnTo>
                        <a:lnTo>
                          <a:pt x="171" y="867"/>
                        </a:lnTo>
                        <a:lnTo>
                          <a:pt x="195" y="896"/>
                        </a:lnTo>
                        <a:lnTo>
                          <a:pt x="224" y="926"/>
                        </a:lnTo>
                        <a:lnTo>
                          <a:pt x="251" y="952"/>
                        </a:lnTo>
                        <a:lnTo>
                          <a:pt x="281" y="977"/>
                        </a:lnTo>
                        <a:lnTo>
                          <a:pt x="310" y="1001"/>
                        </a:lnTo>
                        <a:lnTo>
                          <a:pt x="341" y="1022"/>
                        </a:lnTo>
                        <a:lnTo>
                          <a:pt x="371" y="1041"/>
                        </a:lnTo>
                        <a:lnTo>
                          <a:pt x="403" y="1059"/>
                        </a:lnTo>
                        <a:lnTo>
                          <a:pt x="435" y="1076"/>
                        </a:lnTo>
                        <a:lnTo>
                          <a:pt x="469" y="1092"/>
                        </a:lnTo>
                        <a:lnTo>
                          <a:pt x="502" y="1105"/>
                        </a:lnTo>
                        <a:lnTo>
                          <a:pt x="537" y="1116"/>
                        </a:lnTo>
                        <a:lnTo>
                          <a:pt x="572" y="1125"/>
                        </a:lnTo>
                        <a:lnTo>
                          <a:pt x="608" y="1133"/>
                        </a:lnTo>
                        <a:lnTo>
                          <a:pt x="645" y="1139"/>
                        </a:lnTo>
                        <a:lnTo>
                          <a:pt x="683" y="1143"/>
                        </a:lnTo>
                        <a:lnTo>
                          <a:pt x="722" y="1147"/>
                        </a:lnTo>
                        <a:lnTo>
                          <a:pt x="761" y="1149"/>
                        </a:lnTo>
                        <a:lnTo>
                          <a:pt x="782" y="1131"/>
                        </a:lnTo>
                        <a:lnTo>
                          <a:pt x="802" y="1112"/>
                        </a:lnTo>
                        <a:lnTo>
                          <a:pt x="764" y="1113"/>
                        </a:lnTo>
                        <a:lnTo>
                          <a:pt x="725" y="1112"/>
                        </a:lnTo>
                        <a:lnTo>
                          <a:pt x="689" y="1109"/>
                        </a:lnTo>
                        <a:lnTo>
                          <a:pt x="652" y="1105"/>
                        </a:lnTo>
                        <a:lnTo>
                          <a:pt x="617" y="1099"/>
                        </a:lnTo>
                        <a:lnTo>
                          <a:pt x="582" y="1091"/>
                        </a:lnTo>
                        <a:lnTo>
                          <a:pt x="548" y="1082"/>
                        </a:lnTo>
                        <a:lnTo>
                          <a:pt x="484" y="1059"/>
                        </a:lnTo>
                        <a:lnTo>
                          <a:pt x="451" y="1045"/>
                        </a:lnTo>
                        <a:lnTo>
                          <a:pt x="420" y="1029"/>
                        </a:lnTo>
                        <a:lnTo>
                          <a:pt x="360" y="993"/>
                        </a:lnTo>
                        <a:lnTo>
                          <a:pt x="330" y="971"/>
                        </a:lnTo>
                        <a:lnTo>
                          <a:pt x="303" y="948"/>
                        </a:lnTo>
                        <a:lnTo>
                          <a:pt x="276" y="925"/>
                        </a:lnTo>
                        <a:lnTo>
                          <a:pt x="250" y="900"/>
                        </a:lnTo>
                        <a:lnTo>
                          <a:pt x="223" y="871"/>
                        </a:lnTo>
                        <a:lnTo>
                          <a:pt x="199" y="844"/>
                        </a:lnTo>
                        <a:lnTo>
                          <a:pt x="176" y="816"/>
                        </a:lnTo>
                        <a:lnTo>
                          <a:pt x="156" y="787"/>
                        </a:lnTo>
                        <a:lnTo>
                          <a:pt x="135" y="757"/>
                        </a:lnTo>
                        <a:lnTo>
                          <a:pt x="118" y="727"/>
                        </a:lnTo>
                        <a:lnTo>
                          <a:pt x="103" y="696"/>
                        </a:lnTo>
                        <a:lnTo>
                          <a:pt x="90" y="665"/>
                        </a:lnTo>
                        <a:lnTo>
                          <a:pt x="76" y="631"/>
                        </a:lnTo>
                        <a:lnTo>
                          <a:pt x="66" y="598"/>
                        </a:lnTo>
                        <a:lnTo>
                          <a:pt x="56" y="564"/>
                        </a:lnTo>
                        <a:lnTo>
                          <a:pt x="49" y="530"/>
                        </a:lnTo>
                        <a:lnTo>
                          <a:pt x="42" y="494"/>
                        </a:lnTo>
                        <a:lnTo>
                          <a:pt x="39" y="459"/>
                        </a:lnTo>
                        <a:lnTo>
                          <a:pt x="37" y="422"/>
                        </a:lnTo>
                        <a:lnTo>
                          <a:pt x="37" y="386"/>
                        </a:lnTo>
                        <a:lnTo>
                          <a:pt x="38" y="332"/>
                        </a:lnTo>
                        <a:lnTo>
                          <a:pt x="44" y="280"/>
                        </a:lnTo>
                        <a:lnTo>
                          <a:pt x="51" y="229"/>
                        </a:lnTo>
                        <a:lnTo>
                          <a:pt x="64" y="181"/>
                        </a:lnTo>
                        <a:lnTo>
                          <a:pt x="79" y="132"/>
                        </a:lnTo>
                        <a:lnTo>
                          <a:pt x="98" y="87"/>
                        </a:lnTo>
                        <a:lnTo>
                          <a:pt x="120" y="42"/>
                        </a:lnTo>
                        <a:lnTo>
                          <a:pt x="147" y="0"/>
                        </a:lnTo>
                        <a:close/>
                      </a:path>
                    </a:pathLst>
                  </a:custGeom>
                  <a:solidFill>
                    <a:srgbClr val="263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865120" y="4119840"/>
                    <a:ext cx="20268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97" h="1166">
                        <a:moveTo>
                          <a:pt x="129" y="0"/>
                        </a:moveTo>
                        <a:lnTo>
                          <a:pt x="76" y="24"/>
                        </a:lnTo>
                        <a:lnTo>
                          <a:pt x="57" y="62"/>
                        </a:lnTo>
                        <a:lnTo>
                          <a:pt x="42" y="103"/>
                        </a:lnTo>
                        <a:lnTo>
                          <a:pt x="29" y="145"/>
                        </a:lnTo>
                        <a:lnTo>
                          <a:pt x="18" y="188"/>
                        </a:lnTo>
                        <a:lnTo>
                          <a:pt x="10" y="231"/>
                        </a:lnTo>
                        <a:lnTo>
                          <a:pt x="5" y="275"/>
                        </a:lnTo>
                        <a:lnTo>
                          <a:pt x="1" y="321"/>
                        </a:lnTo>
                        <a:lnTo>
                          <a:pt x="0" y="368"/>
                        </a:lnTo>
                        <a:lnTo>
                          <a:pt x="0" y="408"/>
                        </a:lnTo>
                        <a:lnTo>
                          <a:pt x="4" y="449"/>
                        </a:lnTo>
                        <a:lnTo>
                          <a:pt x="7" y="487"/>
                        </a:lnTo>
                        <a:lnTo>
                          <a:pt x="14" y="527"/>
                        </a:lnTo>
                        <a:lnTo>
                          <a:pt x="22" y="564"/>
                        </a:lnTo>
                        <a:lnTo>
                          <a:pt x="32" y="602"/>
                        </a:lnTo>
                        <a:lnTo>
                          <a:pt x="43" y="638"/>
                        </a:lnTo>
                        <a:lnTo>
                          <a:pt x="58" y="674"/>
                        </a:lnTo>
                        <a:lnTo>
                          <a:pt x="73" y="708"/>
                        </a:lnTo>
                        <a:lnTo>
                          <a:pt x="91" y="742"/>
                        </a:lnTo>
                        <a:lnTo>
                          <a:pt x="110" y="775"/>
                        </a:lnTo>
                        <a:lnTo>
                          <a:pt x="132" y="809"/>
                        </a:lnTo>
                        <a:lnTo>
                          <a:pt x="153" y="841"/>
                        </a:lnTo>
                        <a:lnTo>
                          <a:pt x="179" y="873"/>
                        </a:lnTo>
                        <a:lnTo>
                          <a:pt x="205" y="903"/>
                        </a:lnTo>
                        <a:lnTo>
                          <a:pt x="235" y="934"/>
                        </a:lnTo>
                        <a:lnTo>
                          <a:pt x="261" y="959"/>
                        </a:lnTo>
                        <a:lnTo>
                          <a:pt x="289" y="984"/>
                        </a:lnTo>
                        <a:lnTo>
                          <a:pt x="318" y="1006"/>
                        </a:lnTo>
                        <a:lnTo>
                          <a:pt x="347" y="1028"/>
                        </a:lnTo>
                        <a:lnTo>
                          <a:pt x="407" y="1066"/>
                        </a:lnTo>
                        <a:lnTo>
                          <a:pt x="439" y="1083"/>
                        </a:lnTo>
                        <a:lnTo>
                          <a:pt x="472" y="1099"/>
                        </a:lnTo>
                        <a:lnTo>
                          <a:pt x="504" y="1113"/>
                        </a:lnTo>
                        <a:lnTo>
                          <a:pt x="537" y="1125"/>
                        </a:lnTo>
                        <a:lnTo>
                          <a:pt x="571" y="1136"/>
                        </a:lnTo>
                        <a:lnTo>
                          <a:pt x="606" y="1145"/>
                        </a:lnTo>
                        <a:lnTo>
                          <a:pt x="677" y="1158"/>
                        </a:lnTo>
                        <a:lnTo>
                          <a:pt x="713" y="1163"/>
                        </a:lnTo>
                        <a:lnTo>
                          <a:pt x="752" y="1166"/>
                        </a:lnTo>
                        <a:lnTo>
                          <a:pt x="775" y="1149"/>
                        </a:lnTo>
                        <a:lnTo>
                          <a:pt x="797" y="1131"/>
                        </a:lnTo>
                        <a:lnTo>
                          <a:pt x="758" y="1129"/>
                        </a:lnTo>
                        <a:lnTo>
                          <a:pt x="719" y="1125"/>
                        </a:lnTo>
                        <a:lnTo>
                          <a:pt x="681" y="1121"/>
                        </a:lnTo>
                        <a:lnTo>
                          <a:pt x="644" y="1115"/>
                        </a:lnTo>
                        <a:lnTo>
                          <a:pt x="608" y="1107"/>
                        </a:lnTo>
                        <a:lnTo>
                          <a:pt x="573" y="1098"/>
                        </a:lnTo>
                        <a:lnTo>
                          <a:pt x="538" y="1087"/>
                        </a:lnTo>
                        <a:lnTo>
                          <a:pt x="505" y="1074"/>
                        </a:lnTo>
                        <a:lnTo>
                          <a:pt x="471" y="1058"/>
                        </a:lnTo>
                        <a:lnTo>
                          <a:pt x="439" y="1041"/>
                        </a:lnTo>
                        <a:lnTo>
                          <a:pt x="407" y="1023"/>
                        </a:lnTo>
                        <a:lnTo>
                          <a:pt x="377" y="1004"/>
                        </a:lnTo>
                        <a:lnTo>
                          <a:pt x="346" y="983"/>
                        </a:lnTo>
                        <a:lnTo>
                          <a:pt x="317" y="959"/>
                        </a:lnTo>
                        <a:lnTo>
                          <a:pt x="287" y="934"/>
                        </a:lnTo>
                        <a:lnTo>
                          <a:pt x="260" y="908"/>
                        </a:lnTo>
                        <a:lnTo>
                          <a:pt x="231" y="878"/>
                        </a:lnTo>
                        <a:lnTo>
                          <a:pt x="207" y="849"/>
                        </a:lnTo>
                        <a:lnTo>
                          <a:pt x="183" y="818"/>
                        </a:lnTo>
                        <a:lnTo>
                          <a:pt x="161" y="789"/>
                        </a:lnTo>
                        <a:lnTo>
                          <a:pt x="140" y="757"/>
                        </a:lnTo>
                        <a:lnTo>
                          <a:pt x="123" y="725"/>
                        </a:lnTo>
                        <a:lnTo>
                          <a:pt x="106" y="692"/>
                        </a:lnTo>
                        <a:lnTo>
                          <a:pt x="92" y="661"/>
                        </a:lnTo>
                        <a:lnTo>
                          <a:pt x="77" y="626"/>
                        </a:lnTo>
                        <a:lnTo>
                          <a:pt x="67" y="590"/>
                        </a:lnTo>
                        <a:lnTo>
                          <a:pt x="57" y="554"/>
                        </a:lnTo>
                        <a:lnTo>
                          <a:pt x="50" y="519"/>
                        </a:lnTo>
                        <a:lnTo>
                          <a:pt x="43" y="482"/>
                        </a:lnTo>
                        <a:lnTo>
                          <a:pt x="40" y="444"/>
                        </a:lnTo>
                        <a:lnTo>
                          <a:pt x="36" y="406"/>
                        </a:lnTo>
                        <a:lnTo>
                          <a:pt x="36" y="368"/>
                        </a:lnTo>
                        <a:lnTo>
                          <a:pt x="38" y="317"/>
                        </a:lnTo>
                        <a:lnTo>
                          <a:pt x="42" y="268"/>
                        </a:lnTo>
                        <a:lnTo>
                          <a:pt x="49" y="220"/>
                        </a:lnTo>
                        <a:lnTo>
                          <a:pt x="59" y="173"/>
                        </a:lnTo>
                        <a:lnTo>
                          <a:pt x="72" y="127"/>
                        </a:lnTo>
                        <a:lnTo>
                          <a:pt x="87" y="84"/>
                        </a:lnTo>
                        <a:lnTo>
                          <a:pt x="107" y="41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223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856120" y="4125960"/>
                    <a:ext cx="200160" cy="29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1175">
                        <a:moveTo>
                          <a:pt x="112" y="0"/>
                        </a:moveTo>
                        <a:lnTo>
                          <a:pt x="59" y="30"/>
                        </a:lnTo>
                        <a:lnTo>
                          <a:pt x="33" y="104"/>
                        </a:lnTo>
                        <a:lnTo>
                          <a:pt x="23" y="141"/>
                        </a:lnTo>
                        <a:lnTo>
                          <a:pt x="15" y="181"/>
                        </a:lnTo>
                        <a:lnTo>
                          <a:pt x="7" y="220"/>
                        </a:lnTo>
                        <a:lnTo>
                          <a:pt x="3" y="260"/>
                        </a:lnTo>
                        <a:lnTo>
                          <a:pt x="0" y="301"/>
                        </a:lnTo>
                        <a:lnTo>
                          <a:pt x="0" y="344"/>
                        </a:lnTo>
                        <a:lnTo>
                          <a:pt x="0" y="386"/>
                        </a:lnTo>
                        <a:lnTo>
                          <a:pt x="3" y="428"/>
                        </a:lnTo>
                        <a:lnTo>
                          <a:pt x="7" y="469"/>
                        </a:lnTo>
                        <a:lnTo>
                          <a:pt x="15" y="510"/>
                        </a:lnTo>
                        <a:lnTo>
                          <a:pt x="23" y="548"/>
                        </a:lnTo>
                        <a:lnTo>
                          <a:pt x="34" y="588"/>
                        </a:lnTo>
                        <a:lnTo>
                          <a:pt x="46" y="625"/>
                        </a:lnTo>
                        <a:lnTo>
                          <a:pt x="61" y="664"/>
                        </a:lnTo>
                        <a:lnTo>
                          <a:pt x="76" y="699"/>
                        </a:lnTo>
                        <a:lnTo>
                          <a:pt x="95" y="735"/>
                        </a:lnTo>
                        <a:lnTo>
                          <a:pt x="114" y="770"/>
                        </a:lnTo>
                        <a:lnTo>
                          <a:pt x="137" y="806"/>
                        </a:lnTo>
                        <a:lnTo>
                          <a:pt x="161" y="838"/>
                        </a:lnTo>
                        <a:lnTo>
                          <a:pt x="187" y="871"/>
                        </a:lnTo>
                        <a:lnTo>
                          <a:pt x="214" y="903"/>
                        </a:lnTo>
                        <a:lnTo>
                          <a:pt x="245" y="935"/>
                        </a:lnTo>
                        <a:lnTo>
                          <a:pt x="271" y="960"/>
                        </a:lnTo>
                        <a:lnTo>
                          <a:pt x="298" y="983"/>
                        </a:lnTo>
                        <a:lnTo>
                          <a:pt x="325" y="1006"/>
                        </a:lnTo>
                        <a:lnTo>
                          <a:pt x="354" y="1028"/>
                        </a:lnTo>
                        <a:lnTo>
                          <a:pt x="382" y="1047"/>
                        </a:lnTo>
                        <a:lnTo>
                          <a:pt x="412" y="1065"/>
                        </a:lnTo>
                        <a:lnTo>
                          <a:pt x="472" y="1099"/>
                        </a:lnTo>
                        <a:lnTo>
                          <a:pt x="502" y="1113"/>
                        </a:lnTo>
                        <a:lnTo>
                          <a:pt x="534" y="1125"/>
                        </a:lnTo>
                        <a:lnTo>
                          <a:pt x="599" y="1148"/>
                        </a:lnTo>
                        <a:lnTo>
                          <a:pt x="666" y="1164"/>
                        </a:lnTo>
                        <a:lnTo>
                          <a:pt x="737" y="1175"/>
                        </a:lnTo>
                        <a:lnTo>
                          <a:pt x="762" y="1159"/>
                        </a:lnTo>
                        <a:lnTo>
                          <a:pt x="774" y="1150"/>
                        </a:lnTo>
                        <a:lnTo>
                          <a:pt x="788" y="1142"/>
                        </a:lnTo>
                        <a:lnTo>
                          <a:pt x="749" y="1139"/>
                        </a:lnTo>
                        <a:lnTo>
                          <a:pt x="713" y="1134"/>
                        </a:lnTo>
                        <a:lnTo>
                          <a:pt x="642" y="1121"/>
                        </a:lnTo>
                        <a:lnTo>
                          <a:pt x="607" y="1112"/>
                        </a:lnTo>
                        <a:lnTo>
                          <a:pt x="573" y="1101"/>
                        </a:lnTo>
                        <a:lnTo>
                          <a:pt x="540" y="1089"/>
                        </a:lnTo>
                        <a:lnTo>
                          <a:pt x="508" y="1075"/>
                        </a:lnTo>
                        <a:lnTo>
                          <a:pt x="475" y="1059"/>
                        </a:lnTo>
                        <a:lnTo>
                          <a:pt x="443" y="1042"/>
                        </a:lnTo>
                        <a:lnTo>
                          <a:pt x="383" y="1004"/>
                        </a:lnTo>
                        <a:lnTo>
                          <a:pt x="354" y="982"/>
                        </a:lnTo>
                        <a:lnTo>
                          <a:pt x="325" y="960"/>
                        </a:lnTo>
                        <a:lnTo>
                          <a:pt x="297" y="935"/>
                        </a:lnTo>
                        <a:lnTo>
                          <a:pt x="271" y="910"/>
                        </a:lnTo>
                        <a:lnTo>
                          <a:pt x="241" y="879"/>
                        </a:lnTo>
                        <a:lnTo>
                          <a:pt x="215" y="849"/>
                        </a:lnTo>
                        <a:lnTo>
                          <a:pt x="189" y="817"/>
                        </a:lnTo>
                        <a:lnTo>
                          <a:pt x="168" y="785"/>
                        </a:lnTo>
                        <a:lnTo>
                          <a:pt x="146" y="751"/>
                        </a:lnTo>
                        <a:lnTo>
                          <a:pt x="127" y="718"/>
                        </a:lnTo>
                        <a:lnTo>
                          <a:pt x="109" y="684"/>
                        </a:lnTo>
                        <a:lnTo>
                          <a:pt x="94" y="650"/>
                        </a:lnTo>
                        <a:lnTo>
                          <a:pt x="79" y="614"/>
                        </a:lnTo>
                        <a:lnTo>
                          <a:pt x="68" y="578"/>
                        </a:lnTo>
                        <a:lnTo>
                          <a:pt x="58" y="540"/>
                        </a:lnTo>
                        <a:lnTo>
                          <a:pt x="50" y="503"/>
                        </a:lnTo>
                        <a:lnTo>
                          <a:pt x="43" y="463"/>
                        </a:lnTo>
                        <a:lnTo>
                          <a:pt x="40" y="425"/>
                        </a:lnTo>
                        <a:lnTo>
                          <a:pt x="36" y="384"/>
                        </a:lnTo>
                        <a:lnTo>
                          <a:pt x="36" y="344"/>
                        </a:lnTo>
                        <a:lnTo>
                          <a:pt x="37" y="297"/>
                        </a:lnTo>
                        <a:lnTo>
                          <a:pt x="41" y="251"/>
                        </a:lnTo>
                        <a:lnTo>
                          <a:pt x="46" y="207"/>
                        </a:lnTo>
                        <a:lnTo>
                          <a:pt x="54" y="164"/>
                        </a:lnTo>
                        <a:lnTo>
                          <a:pt x="65" y="121"/>
                        </a:lnTo>
                        <a:lnTo>
                          <a:pt x="78" y="79"/>
                        </a:lnTo>
                        <a:lnTo>
                          <a:pt x="93" y="38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1f2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828760" y="4153680"/>
                    <a:ext cx="183960" cy="28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26" h="1135">
                        <a:moveTo>
                          <a:pt x="49" y="14"/>
                        </a:moveTo>
                        <a:lnTo>
                          <a:pt x="16" y="50"/>
                        </a:lnTo>
                        <a:lnTo>
                          <a:pt x="3" y="139"/>
                        </a:lnTo>
                        <a:lnTo>
                          <a:pt x="0" y="233"/>
                        </a:lnTo>
                        <a:lnTo>
                          <a:pt x="0" y="281"/>
                        </a:lnTo>
                        <a:lnTo>
                          <a:pt x="3" y="328"/>
                        </a:lnTo>
                        <a:lnTo>
                          <a:pt x="9" y="374"/>
                        </a:lnTo>
                        <a:lnTo>
                          <a:pt x="17" y="420"/>
                        </a:lnTo>
                        <a:lnTo>
                          <a:pt x="25" y="464"/>
                        </a:lnTo>
                        <a:lnTo>
                          <a:pt x="37" y="509"/>
                        </a:lnTo>
                        <a:lnTo>
                          <a:pt x="52" y="552"/>
                        </a:lnTo>
                        <a:lnTo>
                          <a:pt x="69" y="595"/>
                        </a:lnTo>
                        <a:lnTo>
                          <a:pt x="86" y="636"/>
                        </a:lnTo>
                        <a:lnTo>
                          <a:pt x="108" y="676"/>
                        </a:lnTo>
                        <a:lnTo>
                          <a:pt x="129" y="715"/>
                        </a:lnTo>
                        <a:lnTo>
                          <a:pt x="155" y="755"/>
                        </a:lnTo>
                        <a:lnTo>
                          <a:pt x="181" y="792"/>
                        </a:lnTo>
                        <a:lnTo>
                          <a:pt x="211" y="829"/>
                        </a:lnTo>
                        <a:lnTo>
                          <a:pt x="242" y="865"/>
                        </a:lnTo>
                        <a:lnTo>
                          <a:pt x="277" y="901"/>
                        </a:lnTo>
                        <a:lnTo>
                          <a:pt x="319" y="940"/>
                        </a:lnTo>
                        <a:lnTo>
                          <a:pt x="363" y="978"/>
                        </a:lnTo>
                        <a:lnTo>
                          <a:pt x="407" y="1012"/>
                        </a:lnTo>
                        <a:lnTo>
                          <a:pt x="455" y="1044"/>
                        </a:lnTo>
                        <a:lnTo>
                          <a:pt x="502" y="1071"/>
                        </a:lnTo>
                        <a:lnTo>
                          <a:pt x="552" y="1096"/>
                        </a:lnTo>
                        <a:lnTo>
                          <a:pt x="602" y="1116"/>
                        </a:lnTo>
                        <a:lnTo>
                          <a:pt x="655" y="1135"/>
                        </a:lnTo>
                        <a:lnTo>
                          <a:pt x="691" y="1126"/>
                        </a:lnTo>
                        <a:lnTo>
                          <a:pt x="726" y="1117"/>
                        </a:lnTo>
                        <a:lnTo>
                          <a:pt x="666" y="1100"/>
                        </a:lnTo>
                        <a:lnTo>
                          <a:pt x="609" y="1080"/>
                        </a:lnTo>
                        <a:lnTo>
                          <a:pt x="553" y="1055"/>
                        </a:lnTo>
                        <a:lnTo>
                          <a:pt x="500" y="1028"/>
                        </a:lnTo>
                        <a:lnTo>
                          <a:pt x="447" y="995"/>
                        </a:lnTo>
                        <a:lnTo>
                          <a:pt x="397" y="959"/>
                        </a:lnTo>
                        <a:lnTo>
                          <a:pt x="348" y="919"/>
                        </a:lnTo>
                        <a:lnTo>
                          <a:pt x="303" y="876"/>
                        </a:lnTo>
                        <a:lnTo>
                          <a:pt x="270" y="841"/>
                        </a:lnTo>
                        <a:lnTo>
                          <a:pt x="239" y="807"/>
                        </a:lnTo>
                        <a:lnTo>
                          <a:pt x="211" y="770"/>
                        </a:lnTo>
                        <a:lnTo>
                          <a:pt x="185" y="735"/>
                        </a:lnTo>
                        <a:lnTo>
                          <a:pt x="160" y="697"/>
                        </a:lnTo>
                        <a:lnTo>
                          <a:pt x="138" y="659"/>
                        </a:lnTo>
                        <a:lnTo>
                          <a:pt x="119" y="620"/>
                        </a:lnTo>
                        <a:lnTo>
                          <a:pt x="102" y="581"/>
                        </a:lnTo>
                        <a:lnTo>
                          <a:pt x="85" y="539"/>
                        </a:lnTo>
                        <a:lnTo>
                          <a:pt x="73" y="498"/>
                        </a:lnTo>
                        <a:lnTo>
                          <a:pt x="60" y="455"/>
                        </a:lnTo>
                        <a:lnTo>
                          <a:pt x="52" y="413"/>
                        </a:lnTo>
                        <a:lnTo>
                          <a:pt x="44" y="369"/>
                        </a:lnTo>
                        <a:lnTo>
                          <a:pt x="40" y="325"/>
                        </a:lnTo>
                        <a:lnTo>
                          <a:pt x="36" y="279"/>
                        </a:lnTo>
                        <a:lnTo>
                          <a:pt x="36" y="233"/>
                        </a:lnTo>
                        <a:lnTo>
                          <a:pt x="37" y="172"/>
                        </a:lnTo>
                        <a:lnTo>
                          <a:pt x="43" y="113"/>
                        </a:lnTo>
                        <a:lnTo>
                          <a:pt x="51" y="55"/>
                        </a:lnTo>
                        <a:lnTo>
                          <a:pt x="65" y="0"/>
                        </a:lnTo>
                        <a:lnTo>
                          <a:pt x="49" y="14"/>
                        </a:lnTo>
                        <a:close/>
                      </a:path>
                    </a:pathLst>
                  </a:custGeom>
                  <a:solidFill>
                    <a:srgbClr val="162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5837760" y="4142520"/>
                    <a:ext cx="19152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4" h="1161">
                        <a:moveTo>
                          <a:pt x="80" y="0"/>
                        </a:moveTo>
                        <a:lnTo>
                          <a:pt x="29" y="44"/>
                        </a:lnTo>
                        <a:lnTo>
                          <a:pt x="15" y="99"/>
                        </a:lnTo>
                        <a:lnTo>
                          <a:pt x="7" y="157"/>
                        </a:lnTo>
                        <a:lnTo>
                          <a:pt x="1" y="216"/>
                        </a:lnTo>
                        <a:lnTo>
                          <a:pt x="0" y="277"/>
                        </a:lnTo>
                        <a:lnTo>
                          <a:pt x="0" y="323"/>
                        </a:lnTo>
                        <a:lnTo>
                          <a:pt x="4" y="369"/>
                        </a:lnTo>
                        <a:lnTo>
                          <a:pt x="8" y="413"/>
                        </a:lnTo>
                        <a:lnTo>
                          <a:pt x="16" y="457"/>
                        </a:lnTo>
                        <a:lnTo>
                          <a:pt x="24" y="499"/>
                        </a:lnTo>
                        <a:lnTo>
                          <a:pt x="37" y="542"/>
                        </a:lnTo>
                        <a:lnTo>
                          <a:pt x="49" y="583"/>
                        </a:lnTo>
                        <a:lnTo>
                          <a:pt x="66" y="625"/>
                        </a:lnTo>
                        <a:lnTo>
                          <a:pt x="83" y="664"/>
                        </a:lnTo>
                        <a:lnTo>
                          <a:pt x="102" y="703"/>
                        </a:lnTo>
                        <a:lnTo>
                          <a:pt x="124" y="741"/>
                        </a:lnTo>
                        <a:lnTo>
                          <a:pt x="149" y="779"/>
                        </a:lnTo>
                        <a:lnTo>
                          <a:pt x="175" y="814"/>
                        </a:lnTo>
                        <a:lnTo>
                          <a:pt x="203" y="851"/>
                        </a:lnTo>
                        <a:lnTo>
                          <a:pt x="234" y="885"/>
                        </a:lnTo>
                        <a:lnTo>
                          <a:pt x="267" y="920"/>
                        </a:lnTo>
                        <a:lnTo>
                          <a:pt x="312" y="963"/>
                        </a:lnTo>
                        <a:lnTo>
                          <a:pt x="361" y="1003"/>
                        </a:lnTo>
                        <a:lnTo>
                          <a:pt x="411" y="1039"/>
                        </a:lnTo>
                        <a:lnTo>
                          <a:pt x="464" y="1072"/>
                        </a:lnTo>
                        <a:lnTo>
                          <a:pt x="517" y="1099"/>
                        </a:lnTo>
                        <a:lnTo>
                          <a:pt x="573" y="1124"/>
                        </a:lnTo>
                        <a:lnTo>
                          <a:pt x="630" y="1144"/>
                        </a:lnTo>
                        <a:lnTo>
                          <a:pt x="690" y="1161"/>
                        </a:lnTo>
                        <a:lnTo>
                          <a:pt x="722" y="1149"/>
                        </a:lnTo>
                        <a:lnTo>
                          <a:pt x="737" y="1142"/>
                        </a:lnTo>
                        <a:lnTo>
                          <a:pt x="741" y="1140"/>
                        </a:lnTo>
                        <a:lnTo>
                          <a:pt x="745" y="1139"/>
                        </a:lnTo>
                        <a:lnTo>
                          <a:pt x="754" y="1136"/>
                        </a:lnTo>
                        <a:lnTo>
                          <a:pt x="720" y="1130"/>
                        </a:lnTo>
                        <a:lnTo>
                          <a:pt x="687" y="1122"/>
                        </a:lnTo>
                        <a:lnTo>
                          <a:pt x="625" y="1104"/>
                        </a:lnTo>
                        <a:lnTo>
                          <a:pt x="593" y="1092"/>
                        </a:lnTo>
                        <a:lnTo>
                          <a:pt x="564" y="1080"/>
                        </a:lnTo>
                        <a:lnTo>
                          <a:pt x="506" y="1053"/>
                        </a:lnTo>
                        <a:lnTo>
                          <a:pt x="448" y="1019"/>
                        </a:lnTo>
                        <a:lnTo>
                          <a:pt x="394" y="982"/>
                        </a:lnTo>
                        <a:lnTo>
                          <a:pt x="340" y="939"/>
                        </a:lnTo>
                        <a:lnTo>
                          <a:pt x="292" y="894"/>
                        </a:lnTo>
                        <a:lnTo>
                          <a:pt x="259" y="860"/>
                        </a:lnTo>
                        <a:lnTo>
                          <a:pt x="230" y="827"/>
                        </a:lnTo>
                        <a:lnTo>
                          <a:pt x="203" y="793"/>
                        </a:lnTo>
                        <a:lnTo>
                          <a:pt x="179" y="759"/>
                        </a:lnTo>
                        <a:lnTo>
                          <a:pt x="156" y="723"/>
                        </a:lnTo>
                        <a:lnTo>
                          <a:pt x="135" y="686"/>
                        </a:lnTo>
                        <a:lnTo>
                          <a:pt x="116" y="649"/>
                        </a:lnTo>
                        <a:lnTo>
                          <a:pt x="100" y="612"/>
                        </a:lnTo>
                        <a:lnTo>
                          <a:pt x="84" y="572"/>
                        </a:lnTo>
                        <a:lnTo>
                          <a:pt x="72" y="532"/>
                        </a:lnTo>
                        <a:lnTo>
                          <a:pt x="60" y="491"/>
                        </a:lnTo>
                        <a:lnTo>
                          <a:pt x="52" y="451"/>
                        </a:lnTo>
                        <a:lnTo>
                          <a:pt x="45" y="408"/>
                        </a:lnTo>
                        <a:lnTo>
                          <a:pt x="40" y="364"/>
                        </a:lnTo>
                        <a:lnTo>
                          <a:pt x="37" y="320"/>
                        </a:lnTo>
                        <a:lnTo>
                          <a:pt x="37" y="277"/>
                        </a:lnTo>
                        <a:lnTo>
                          <a:pt x="39" y="204"/>
                        </a:lnTo>
                        <a:lnTo>
                          <a:pt x="47" y="133"/>
                        </a:lnTo>
                        <a:lnTo>
                          <a:pt x="60" y="64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192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800680" y="4198320"/>
                    <a:ext cx="15264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974">
                        <a:moveTo>
                          <a:pt x="36" y="59"/>
                        </a:moveTo>
                        <a:lnTo>
                          <a:pt x="38" y="0"/>
                        </a:lnTo>
                        <a:lnTo>
                          <a:pt x="17" y="42"/>
                        </a:lnTo>
                        <a:lnTo>
                          <a:pt x="0" y="86"/>
                        </a:lnTo>
                        <a:lnTo>
                          <a:pt x="1" y="137"/>
                        </a:lnTo>
                        <a:lnTo>
                          <a:pt x="7" y="188"/>
                        </a:lnTo>
                        <a:lnTo>
                          <a:pt x="13" y="238"/>
                        </a:lnTo>
                        <a:lnTo>
                          <a:pt x="23" y="288"/>
                        </a:lnTo>
                        <a:lnTo>
                          <a:pt x="33" y="336"/>
                        </a:lnTo>
                        <a:lnTo>
                          <a:pt x="48" y="383"/>
                        </a:lnTo>
                        <a:lnTo>
                          <a:pt x="63" y="429"/>
                        </a:lnTo>
                        <a:lnTo>
                          <a:pt x="82" y="475"/>
                        </a:lnTo>
                        <a:lnTo>
                          <a:pt x="101" y="518"/>
                        </a:lnTo>
                        <a:lnTo>
                          <a:pt x="125" y="562"/>
                        </a:lnTo>
                        <a:lnTo>
                          <a:pt x="149" y="604"/>
                        </a:lnTo>
                        <a:lnTo>
                          <a:pt x="177" y="646"/>
                        </a:lnTo>
                        <a:lnTo>
                          <a:pt x="205" y="686"/>
                        </a:lnTo>
                        <a:lnTo>
                          <a:pt x="238" y="727"/>
                        </a:lnTo>
                        <a:lnTo>
                          <a:pt x="271" y="765"/>
                        </a:lnTo>
                        <a:lnTo>
                          <a:pt x="309" y="804"/>
                        </a:lnTo>
                        <a:lnTo>
                          <a:pt x="355" y="849"/>
                        </a:lnTo>
                        <a:lnTo>
                          <a:pt x="405" y="891"/>
                        </a:lnTo>
                        <a:lnTo>
                          <a:pt x="456" y="930"/>
                        </a:lnTo>
                        <a:lnTo>
                          <a:pt x="510" y="965"/>
                        </a:lnTo>
                        <a:lnTo>
                          <a:pt x="555" y="971"/>
                        </a:lnTo>
                        <a:lnTo>
                          <a:pt x="601" y="974"/>
                        </a:lnTo>
                        <a:lnTo>
                          <a:pt x="565" y="955"/>
                        </a:lnTo>
                        <a:lnTo>
                          <a:pt x="530" y="934"/>
                        </a:lnTo>
                        <a:lnTo>
                          <a:pt x="495" y="912"/>
                        </a:lnTo>
                        <a:lnTo>
                          <a:pt x="462" y="889"/>
                        </a:lnTo>
                        <a:lnTo>
                          <a:pt x="397" y="837"/>
                        </a:lnTo>
                        <a:lnTo>
                          <a:pt x="365" y="808"/>
                        </a:lnTo>
                        <a:lnTo>
                          <a:pt x="335" y="779"/>
                        </a:lnTo>
                        <a:lnTo>
                          <a:pt x="297" y="740"/>
                        </a:lnTo>
                        <a:lnTo>
                          <a:pt x="264" y="702"/>
                        </a:lnTo>
                        <a:lnTo>
                          <a:pt x="231" y="661"/>
                        </a:lnTo>
                        <a:lnTo>
                          <a:pt x="203" y="621"/>
                        </a:lnTo>
                        <a:lnTo>
                          <a:pt x="175" y="578"/>
                        </a:lnTo>
                        <a:lnTo>
                          <a:pt x="151" y="536"/>
                        </a:lnTo>
                        <a:lnTo>
                          <a:pt x="129" y="492"/>
                        </a:lnTo>
                        <a:lnTo>
                          <a:pt x="110" y="449"/>
                        </a:lnTo>
                        <a:lnTo>
                          <a:pt x="100" y="425"/>
                        </a:lnTo>
                        <a:lnTo>
                          <a:pt x="92" y="403"/>
                        </a:lnTo>
                        <a:lnTo>
                          <a:pt x="77" y="357"/>
                        </a:lnTo>
                        <a:lnTo>
                          <a:pt x="65" y="310"/>
                        </a:lnTo>
                        <a:lnTo>
                          <a:pt x="55" y="262"/>
                        </a:lnTo>
                        <a:lnTo>
                          <a:pt x="47" y="212"/>
                        </a:lnTo>
                        <a:lnTo>
                          <a:pt x="41" y="162"/>
                        </a:lnTo>
                        <a:lnTo>
                          <a:pt x="38" y="110"/>
                        </a:lnTo>
                        <a:lnTo>
                          <a:pt x="36" y="59"/>
                        </a:lnTo>
                        <a:close/>
                      </a:path>
                    </a:pathLst>
                  </a:custGeom>
                  <a:solidFill>
                    <a:srgbClr val="0c1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809680" y="4181040"/>
                    <a:ext cx="16488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1042">
                        <a:moveTo>
                          <a:pt x="2" y="68"/>
                        </a:moveTo>
                        <a:lnTo>
                          <a:pt x="0" y="127"/>
                        </a:lnTo>
                        <a:lnTo>
                          <a:pt x="2" y="178"/>
                        </a:lnTo>
                        <a:lnTo>
                          <a:pt x="5" y="230"/>
                        </a:lnTo>
                        <a:lnTo>
                          <a:pt x="11" y="280"/>
                        </a:lnTo>
                        <a:lnTo>
                          <a:pt x="19" y="330"/>
                        </a:lnTo>
                        <a:lnTo>
                          <a:pt x="29" y="378"/>
                        </a:lnTo>
                        <a:lnTo>
                          <a:pt x="41" y="425"/>
                        </a:lnTo>
                        <a:lnTo>
                          <a:pt x="56" y="471"/>
                        </a:lnTo>
                        <a:lnTo>
                          <a:pt x="64" y="493"/>
                        </a:lnTo>
                        <a:lnTo>
                          <a:pt x="74" y="517"/>
                        </a:lnTo>
                        <a:lnTo>
                          <a:pt x="93" y="560"/>
                        </a:lnTo>
                        <a:lnTo>
                          <a:pt x="115" y="604"/>
                        </a:lnTo>
                        <a:lnTo>
                          <a:pt x="139" y="646"/>
                        </a:lnTo>
                        <a:lnTo>
                          <a:pt x="167" y="689"/>
                        </a:lnTo>
                        <a:lnTo>
                          <a:pt x="195" y="729"/>
                        </a:lnTo>
                        <a:lnTo>
                          <a:pt x="228" y="770"/>
                        </a:lnTo>
                        <a:lnTo>
                          <a:pt x="261" y="808"/>
                        </a:lnTo>
                        <a:lnTo>
                          <a:pt x="299" y="847"/>
                        </a:lnTo>
                        <a:lnTo>
                          <a:pt x="329" y="876"/>
                        </a:lnTo>
                        <a:lnTo>
                          <a:pt x="361" y="905"/>
                        </a:lnTo>
                        <a:lnTo>
                          <a:pt x="426" y="957"/>
                        </a:lnTo>
                        <a:lnTo>
                          <a:pt x="459" y="980"/>
                        </a:lnTo>
                        <a:lnTo>
                          <a:pt x="494" y="1002"/>
                        </a:lnTo>
                        <a:lnTo>
                          <a:pt x="529" y="1023"/>
                        </a:lnTo>
                        <a:lnTo>
                          <a:pt x="565" y="1042"/>
                        </a:lnTo>
                        <a:lnTo>
                          <a:pt x="591" y="1042"/>
                        </a:lnTo>
                        <a:lnTo>
                          <a:pt x="650" y="1040"/>
                        </a:lnTo>
                        <a:lnTo>
                          <a:pt x="605" y="1020"/>
                        </a:lnTo>
                        <a:lnTo>
                          <a:pt x="562" y="999"/>
                        </a:lnTo>
                        <a:lnTo>
                          <a:pt x="520" y="975"/>
                        </a:lnTo>
                        <a:lnTo>
                          <a:pt x="479" y="949"/>
                        </a:lnTo>
                        <a:lnTo>
                          <a:pt x="438" y="920"/>
                        </a:lnTo>
                        <a:lnTo>
                          <a:pt x="398" y="889"/>
                        </a:lnTo>
                        <a:lnTo>
                          <a:pt x="360" y="856"/>
                        </a:lnTo>
                        <a:lnTo>
                          <a:pt x="324" y="821"/>
                        </a:lnTo>
                        <a:lnTo>
                          <a:pt x="288" y="783"/>
                        </a:lnTo>
                        <a:lnTo>
                          <a:pt x="256" y="746"/>
                        </a:lnTo>
                        <a:lnTo>
                          <a:pt x="225" y="708"/>
                        </a:lnTo>
                        <a:lnTo>
                          <a:pt x="197" y="669"/>
                        </a:lnTo>
                        <a:lnTo>
                          <a:pt x="171" y="628"/>
                        </a:lnTo>
                        <a:lnTo>
                          <a:pt x="147" y="587"/>
                        </a:lnTo>
                        <a:lnTo>
                          <a:pt x="125" y="545"/>
                        </a:lnTo>
                        <a:lnTo>
                          <a:pt x="108" y="504"/>
                        </a:lnTo>
                        <a:lnTo>
                          <a:pt x="91" y="458"/>
                        </a:lnTo>
                        <a:lnTo>
                          <a:pt x="76" y="414"/>
                        </a:lnTo>
                        <a:lnTo>
                          <a:pt x="64" y="368"/>
                        </a:lnTo>
                        <a:lnTo>
                          <a:pt x="54" y="322"/>
                        </a:lnTo>
                        <a:lnTo>
                          <a:pt x="46" y="273"/>
                        </a:lnTo>
                        <a:lnTo>
                          <a:pt x="40" y="226"/>
                        </a:lnTo>
                        <a:lnTo>
                          <a:pt x="37" y="176"/>
                        </a:lnTo>
                        <a:lnTo>
                          <a:pt x="37" y="127"/>
                        </a:lnTo>
                        <a:lnTo>
                          <a:pt x="38" y="63"/>
                        </a:lnTo>
                        <a:lnTo>
                          <a:pt x="44" y="0"/>
                        </a:lnTo>
                        <a:lnTo>
                          <a:pt x="21" y="33"/>
                        </a:lnTo>
                        <a:lnTo>
                          <a:pt x="2" y="68"/>
                        </a:lnTo>
                        <a:close/>
                      </a:path>
                    </a:pathLst>
                  </a:custGeom>
                  <a:solidFill>
                    <a:srgbClr val="0f1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5819040" y="4166640"/>
                    <a:ext cx="17568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91" h="1096">
                        <a:moveTo>
                          <a:pt x="7" y="56"/>
                        </a:moveTo>
                        <a:lnTo>
                          <a:pt x="1" y="119"/>
                        </a:lnTo>
                        <a:lnTo>
                          <a:pt x="0" y="183"/>
                        </a:lnTo>
                        <a:lnTo>
                          <a:pt x="0" y="232"/>
                        </a:lnTo>
                        <a:lnTo>
                          <a:pt x="3" y="282"/>
                        </a:lnTo>
                        <a:lnTo>
                          <a:pt x="9" y="329"/>
                        </a:lnTo>
                        <a:lnTo>
                          <a:pt x="17" y="378"/>
                        </a:lnTo>
                        <a:lnTo>
                          <a:pt x="27" y="424"/>
                        </a:lnTo>
                        <a:lnTo>
                          <a:pt x="39" y="470"/>
                        </a:lnTo>
                        <a:lnTo>
                          <a:pt x="54" y="514"/>
                        </a:lnTo>
                        <a:lnTo>
                          <a:pt x="71" y="560"/>
                        </a:lnTo>
                        <a:lnTo>
                          <a:pt x="88" y="601"/>
                        </a:lnTo>
                        <a:lnTo>
                          <a:pt x="110" y="643"/>
                        </a:lnTo>
                        <a:lnTo>
                          <a:pt x="134" y="684"/>
                        </a:lnTo>
                        <a:lnTo>
                          <a:pt x="160" y="725"/>
                        </a:lnTo>
                        <a:lnTo>
                          <a:pt x="188" y="764"/>
                        </a:lnTo>
                        <a:lnTo>
                          <a:pt x="219" y="802"/>
                        </a:lnTo>
                        <a:lnTo>
                          <a:pt x="251" y="839"/>
                        </a:lnTo>
                        <a:lnTo>
                          <a:pt x="287" y="877"/>
                        </a:lnTo>
                        <a:lnTo>
                          <a:pt x="323" y="912"/>
                        </a:lnTo>
                        <a:lnTo>
                          <a:pt x="361" y="945"/>
                        </a:lnTo>
                        <a:lnTo>
                          <a:pt x="401" y="976"/>
                        </a:lnTo>
                        <a:lnTo>
                          <a:pt x="442" y="1005"/>
                        </a:lnTo>
                        <a:lnTo>
                          <a:pt x="483" y="1031"/>
                        </a:lnTo>
                        <a:lnTo>
                          <a:pt x="525" y="1055"/>
                        </a:lnTo>
                        <a:lnTo>
                          <a:pt x="568" y="1076"/>
                        </a:lnTo>
                        <a:lnTo>
                          <a:pt x="613" y="1096"/>
                        </a:lnTo>
                        <a:lnTo>
                          <a:pt x="652" y="1091"/>
                        </a:lnTo>
                        <a:lnTo>
                          <a:pt x="661" y="1089"/>
                        </a:lnTo>
                        <a:lnTo>
                          <a:pt x="665" y="1088"/>
                        </a:lnTo>
                        <a:lnTo>
                          <a:pt x="671" y="1088"/>
                        </a:lnTo>
                        <a:lnTo>
                          <a:pt x="691" y="1085"/>
                        </a:lnTo>
                        <a:lnTo>
                          <a:pt x="638" y="1066"/>
                        </a:lnTo>
                        <a:lnTo>
                          <a:pt x="588" y="1046"/>
                        </a:lnTo>
                        <a:lnTo>
                          <a:pt x="538" y="1021"/>
                        </a:lnTo>
                        <a:lnTo>
                          <a:pt x="491" y="994"/>
                        </a:lnTo>
                        <a:lnTo>
                          <a:pt x="443" y="962"/>
                        </a:lnTo>
                        <a:lnTo>
                          <a:pt x="399" y="928"/>
                        </a:lnTo>
                        <a:lnTo>
                          <a:pt x="355" y="890"/>
                        </a:lnTo>
                        <a:lnTo>
                          <a:pt x="313" y="851"/>
                        </a:lnTo>
                        <a:lnTo>
                          <a:pt x="278" y="815"/>
                        </a:lnTo>
                        <a:lnTo>
                          <a:pt x="247" y="779"/>
                        </a:lnTo>
                        <a:lnTo>
                          <a:pt x="217" y="742"/>
                        </a:lnTo>
                        <a:lnTo>
                          <a:pt x="191" y="705"/>
                        </a:lnTo>
                        <a:lnTo>
                          <a:pt x="165" y="665"/>
                        </a:lnTo>
                        <a:lnTo>
                          <a:pt x="144" y="626"/>
                        </a:lnTo>
                        <a:lnTo>
                          <a:pt x="122" y="586"/>
                        </a:lnTo>
                        <a:lnTo>
                          <a:pt x="105" y="545"/>
                        </a:lnTo>
                        <a:lnTo>
                          <a:pt x="88" y="502"/>
                        </a:lnTo>
                        <a:lnTo>
                          <a:pt x="73" y="459"/>
                        </a:lnTo>
                        <a:lnTo>
                          <a:pt x="61" y="414"/>
                        </a:lnTo>
                        <a:lnTo>
                          <a:pt x="53" y="370"/>
                        </a:lnTo>
                        <a:lnTo>
                          <a:pt x="45" y="324"/>
                        </a:lnTo>
                        <a:lnTo>
                          <a:pt x="39" y="278"/>
                        </a:lnTo>
                        <a:lnTo>
                          <a:pt x="36" y="231"/>
                        </a:lnTo>
                        <a:lnTo>
                          <a:pt x="36" y="183"/>
                        </a:lnTo>
                        <a:lnTo>
                          <a:pt x="39" y="89"/>
                        </a:lnTo>
                        <a:lnTo>
                          <a:pt x="52" y="0"/>
                        </a:lnTo>
                        <a:lnTo>
                          <a:pt x="28" y="27"/>
                        </a:lnTo>
                        <a:lnTo>
                          <a:pt x="7" y="56"/>
                        </a:lnTo>
                        <a:close/>
                      </a:path>
                    </a:pathLst>
                  </a:custGeom>
                  <a:solidFill>
                    <a:srgbClr val="121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5847120" y="4133520"/>
                    <a:ext cx="19584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3" h="1173">
                        <a:moveTo>
                          <a:pt x="43" y="37"/>
                        </a:moveTo>
                        <a:lnTo>
                          <a:pt x="23" y="101"/>
                        </a:lnTo>
                        <a:lnTo>
                          <a:pt x="10" y="170"/>
                        </a:lnTo>
                        <a:lnTo>
                          <a:pt x="2" y="241"/>
                        </a:lnTo>
                        <a:lnTo>
                          <a:pt x="0" y="314"/>
                        </a:lnTo>
                        <a:lnTo>
                          <a:pt x="0" y="357"/>
                        </a:lnTo>
                        <a:lnTo>
                          <a:pt x="3" y="401"/>
                        </a:lnTo>
                        <a:lnTo>
                          <a:pt x="8" y="445"/>
                        </a:lnTo>
                        <a:lnTo>
                          <a:pt x="15" y="488"/>
                        </a:lnTo>
                        <a:lnTo>
                          <a:pt x="23" y="528"/>
                        </a:lnTo>
                        <a:lnTo>
                          <a:pt x="35" y="569"/>
                        </a:lnTo>
                        <a:lnTo>
                          <a:pt x="47" y="609"/>
                        </a:lnTo>
                        <a:lnTo>
                          <a:pt x="63" y="649"/>
                        </a:lnTo>
                        <a:lnTo>
                          <a:pt x="79" y="686"/>
                        </a:lnTo>
                        <a:lnTo>
                          <a:pt x="98" y="723"/>
                        </a:lnTo>
                        <a:lnTo>
                          <a:pt x="119" y="760"/>
                        </a:lnTo>
                        <a:lnTo>
                          <a:pt x="142" y="796"/>
                        </a:lnTo>
                        <a:lnTo>
                          <a:pt x="166" y="830"/>
                        </a:lnTo>
                        <a:lnTo>
                          <a:pt x="193" y="864"/>
                        </a:lnTo>
                        <a:lnTo>
                          <a:pt x="222" y="897"/>
                        </a:lnTo>
                        <a:lnTo>
                          <a:pt x="255" y="931"/>
                        </a:lnTo>
                        <a:lnTo>
                          <a:pt x="303" y="976"/>
                        </a:lnTo>
                        <a:lnTo>
                          <a:pt x="357" y="1019"/>
                        </a:lnTo>
                        <a:lnTo>
                          <a:pt x="411" y="1056"/>
                        </a:lnTo>
                        <a:lnTo>
                          <a:pt x="469" y="1090"/>
                        </a:lnTo>
                        <a:lnTo>
                          <a:pt x="527" y="1117"/>
                        </a:lnTo>
                        <a:lnTo>
                          <a:pt x="556" y="1129"/>
                        </a:lnTo>
                        <a:lnTo>
                          <a:pt x="588" y="1141"/>
                        </a:lnTo>
                        <a:lnTo>
                          <a:pt x="650" y="1159"/>
                        </a:lnTo>
                        <a:lnTo>
                          <a:pt x="683" y="1167"/>
                        </a:lnTo>
                        <a:lnTo>
                          <a:pt x="717" y="1173"/>
                        </a:lnTo>
                        <a:lnTo>
                          <a:pt x="745" y="1160"/>
                        </a:lnTo>
                        <a:lnTo>
                          <a:pt x="758" y="1152"/>
                        </a:lnTo>
                        <a:lnTo>
                          <a:pt x="773" y="1145"/>
                        </a:lnTo>
                        <a:lnTo>
                          <a:pt x="702" y="1134"/>
                        </a:lnTo>
                        <a:lnTo>
                          <a:pt x="635" y="1118"/>
                        </a:lnTo>
                        <a:lnTo>
                          <a:pt x="570" y="1095"/>
                        </a:lnTo>
                        <a:lnTo>
                          <a:pt x="538" y="1083"/>
                        </a:lnTo>
                        <a:lnTo>
                          <a:pt x="508" y="1069"/>
                        </a:lnTo>
                        <a:lnTo>
                          <a:pt x="448" y="1035"/>
                        </a:lnTo>
                        <a:lnTo>
                          <a:pt x="418" y="1017"/>
                        </a:lnTo>
                        <a:lnTo>
                          <a:pt x="390" y="998"/>
                        </a:lnTo>
                        <a:lnTo>
                          <a:pt x="361" y="976"/>
                        </a:lnTo>
                        <a:lnTo>
                          <a:pt x="334" y="953"/>
                        </a:lnTo>
                        <a:lnTo>
                          <a:pt x="307" y="930"/>
                        </a:lnTo>
                        <a:lnTo>
                          <a:pt x="281" y="905"/>
                        </a:lnTo>
                        <a:lnTo>
                          <a:pt x="250" y="873"/>
                        </a:lnTo>
                        <a:lnTo>
                          <a:pt x="223" y="841"/>
                        </a:lnTo>
                        <a:lnTo>
                          <a:pt x="197" y="808"/>
                        </a:lnTo>
                        <a:lnTo>
                          <a:pt x="173" y="776"/>
                        </a:lnTo>
                        <a:lnTo>
                          <a:pt x="150" y="740"/>
                        </a:lnTo>
                        <a:lnTo>
                          <a:pt x="131" y="705"/>
                        </a:lnTo>
                        <a:lnTo>
                          <a:pt x="112" y="669"/>
                        </a:lnTo>
                        <a:lnTo>
                          <a:pt x="97" y="634"/>
                        </a:lnTo>
                        <a:lnTo>
                          <a:pt x="82" y="595"/>
                        </a:lnTo>
                        <a:lnTo>
                          <a:pt x="70" y="558"/>
                        </a:lnTo>
                        <a:lnTo>
                          <a:pt x="59" y="518"/>
                        </a:lnTo>
                        <a:lnTo>
                          <a:pt x="51" y="480"/>
                        </a:lnTo>
                        <a:lnTo>
                          <a:pt x="43" y="439"/>
                        </a:lnTo>
                        <a:lnTo>
                          <a:pt x="39" y="398"/>
                        </a:lnTo>
                        <a:lnTo>
                          <a:pt x="36" y="356"/>
                        </a:lnTo>
                        <a:lnTo>
                          <a:pt x="36" y="314"/>
                        </a:lnTo>
                        <a:lnTo>
                          <a:pt x="36" y="271"/>
                        </a:lnTo>
                        <a:lnTo>
                          <a:pt x="39" y="230"/>
                        </a:lnTo>
                        <a:lnTo>
                          <a:pt x="43" y="190"/>
                        </a:lnTo>
                        <a:lnTo>
                          <a:pt x="51" y="151"/>
                        </a:lnTo>
                        <a:lnTo>
                          <a:pt x="59" y="111"/>
                        </a:lnTo>
                        <a:lnTo>
                          <a:pt x="69" y="74"/>
                        </a:lnTo>
                        <a:lnTo>
                          <a:pt x="95" y="0"/>
                        </a:lnTo>
                        <a:lnTo>
                          <a:pt x="68" y="17"/>
                        </a:lnTo>
                        <a:lnTo>
                          <a:pt x="43" y="37"/>
                        </a:lnTo>
                        <a:close/>
                      </a:path>
                    </a:pathLst>
                  </a:custGeom>
                  <a:solidFill>
                    <a:srgbClr val="1c2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883480" y="4111560"/>
                    <a:ext cx="2037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1127">
                        <a:moveTo>
                          <a:pt x="110" y="14"/>
                        </a:moveTo>
                        <a:lnTo>
                          <a:pt x="83" y="56"/>
                        </a:lnTo>
                        <a:lnTo>
                          <a:pt x="61" y="101"/>
                        </a:lnTo>
                        <a:lnTo>
                          <a:pt x="42" y="146"/>
                        </a:lnTo>
                        <a:lnTo>
                          <a:pt x="27" y="195"/>
                        </a:lnTo>
                        <a:lnTo>
                          <a:pt x="14" y="243"/>
                        </a:lnTo>
                        <a:lnTo>
                          <a:pt x="7" y="294"/>
                        </a:lnTo>
                        <a:lnTo>
                          <a:pt x="1" y="346"/>
                        </a:lnTo>
                        <a:lnTo>
                          <a:pt x="0" y="400"/>
                        </a:lnTo>
                        <a:lnTo>
                          <a:pt x="0" y="436"/>
                        </a:lnTo>
                        <a:lnTo>
                          <a:pt x="2" y="473"/>
                        </a:lnTo>
                        <a:lnTo>
                          <a:pt x="5" y="508"/>
                        </a:lnTo>
                        <a:lnTo>
                          <a:pt x="12" y="544"/>
                        </a:lnTo>
                        <a:lnTo>
                          <a:pt x="19" y="578"/>
                        </a:lnTo>
                        <a:lnTo>
                          <a:pt x="29" y="612"/>
                        </a:lnTo>
                        <a:lnTo>
                          <a:pt x="39" y="645"/>
                        </a:lnTo>
                        <a:lnTo>
                          <a:pt x="53" y="679"/>
                        </a:lnTo>
                        <a:lnTo>
                          <a:pt x="66" y="710"/>
                        </a:lnTo>
                        <a:lnTo>
                          <a:pt x="81" y="741"/>
                        </a:lnTo>
                        <a:lnTo>
                          <a:pt x="98" y="771"/>
                        </a:lnTo>
                        <a:lnTo>
                          <a:pt x="119" y="801"/>
                        </a:lnTo>
                        <a:lnTo>
                          <a:pt x="139" y="830"/>
                        </a:lnTo>
                        <a:lnTo>
                          <a:pt x="162" y="858"/>
                        </a:lnTo>
                        <a:lnTo>
                          <a:pt x="186" y="885"/>
                        </a:lnTo>
                        <a:lnTo>
                          <a:pt x="213" y="914"/>
                        </a:lnTo>
                        <a:lnTo>
                          <a:pt x="239" y="939"/>
                        </a:lnTo>
                        <a:lnTo>
                          <a:pt x="266" y="962"/>
                        </a:lnTo>
                        <a:lnTo>
                          <a:pt x="293" y="985"/>
                        </a:lnTo>
                        <a:lnTo>
                          <a:pt x="323" y="1007"/>
                        </a:lnTo>
                        <a:lnTo>
                          <a:pt x="383" y="1043"/>
                        </a:lnTo>
                        <a:lnTo>
                          <a:pt x="414" y="1059"/>
                        </a:lnTo>
                        <a:lnTo>
                          <a:pt x="447" y="1073"/>
                        </a:lnTo>
                        <a:lnTo>
                          <a:pt x="511" y="1096"/>
                        </a:lnTo>
                        <a:lnTo>
                          <a:pt x="545" y="1105"/>
                        </a:lnTo>
                        <a:lnTo>
                          <a:pt x="580" y="1113"/>
                        </a:lnTo>
                        <a:lnTo>
                          <a:pt x="615" y="1119"/>
                        </a:lnTo>
                        <a:lnTo>
                          <a:pt x="652" y="1123"/>
                        </a:lnTo>
                        <a:lnTo>
                          <a:pt x="688" y="1126"/>
                        </a:lnTo>
                        <a:lnTo>
                          <a:pt x="727" y="1127"/>
                        </a:lnTo>
                        <a:lnTo>
                          <a:pt x="765" y="1126"/>
                        </a:lnTo>
                        <a:lnTo>
                          <a:pt x="770" y="1121"/>
                        </a:lnTo>
                        <a:lnTo>
                          <a:pt x="801" y="1087"/>
                        </a:lnTo>
                        <a:lnTo>
                          <a:pt x="764" y="1089"/>
                        </a:lnTo>
                        <a:lnTo>
                          <a:pt x="745" y="1089"/>
                        </a:lnTo>
                        <a:lnTo>
                          <a:pt x="727" y="1090"/>
                        </a:lnTo>
                        <a:lnTo>
                          <a:pt x="690" y="1089"/>
                        </a:lnTo>
                        <a:lnTo>
                          <a:pt x="655" y="1087"/>
                        </a:lnTo>
                        <a:lnTo>
                          <a:pt x="621" y="1083"/>
                        </a:lnTo>
                        <a:lnTo>
                          <a:pt x="588" y="1077"/>
                        </a:lnTo>
                        <a:lnTo>
                          <a:pt x="524" y="1061"/>
                        </a:lnTo>
                        <a:lnTo>
                          <a:pt x="492" y="1051"/>
                        </a:lnTo>
                        <a:lnTo>
                          <a:pt x="461" y="1039"/>
                        </a:lnTo>
                        <a:lnTo>
                          <a:pt x="431" y="1026"/>
                        </a:lnTo>
                        <a:lnTo>
                          <a:pt x="401" y="1011"/>
                        </a:lnTo>
                        <a:lnTo>
                          <a:pt x="372" y="994"/>
                        </a:lnTo>
                        <a:lnTo>
                          <a:pt x="344" y="976"/>
                        </a:lnTo>
                        <a:lnTo>
                          <a:pt x="316" y="956"/>
                        </a:lnTo>
                        <a:lnTo>
                          <a:pt x="290" y="935"/>
                        </a:lnTo>
                        <a:lnTo>
                          <a:pt x="264" y="913"/>
                        </a:lnTo>
                        <a:lnTo>
                          <a:pt x="239" y="889"/>
                        </a:lnTo>
                        <a:lnTo>
                          <a:pt x="213" y="862"/>
                        </a:lnTo>
                        <a:lnTo>
                          <a:pt x="190" y="835"/>
                        </a:lnTo>
                        <a:lnTo>
                          <a:pt x="169" y="808"/>
                        </a:lnTo>
                        <a:lnTo>
                          <a:pt x="149" y="781"/>
                        </a:lnTo>
                        <a:lnTo>
                          <a:pt x="130" y="752"/>
                        </a:lnTo>
                        <a:lnTo>
                          <a:pt x="114" y="723"/>
                        </a:lnTo>
                        <a:lnTo>
                          <a:pt x="98" y="694"/>
                        </a:lnTo>
                        <a:lnTo>
                          <a:pt x="86" y="664"/>
                        </a:lnTo>
                        <a:lnTo>
                          <a:pt x="73" y="633"/>
                        </a:lnTo>
                        <a:lnTo>
                          <a:pt x="63" y="602"/>
                        </a:lnTo>
                        <a:lnTo>
                          <a:pt x="54" y="569"/>
                        </a:lnTo>
                        <a:lnTo>
                          <a:pt x="48" y="537"/>
                        </a:lnTo>
                        <a:lnTo>
                          <a:pt x="42" y="503"/>
                        </a:lnTo>
                        <a:lnTo>
                          <a:pt x="38" y="469"/>
                        </a:lnTo>
                        <a:lnTo>
                          <a:pt x="36" y="434"/>
                        </a:lnTo>
                        <a:lnTo>
                          <a:pt x="36" y="400"/>
                        </a:lnTo>
                        <a:lnTo>
                          <a:pt x="37" y="344"/>
                        </a:lnTo>
                        <a:lnTo>
                          <a:pt x="44" y="290"/>
                        </a:lnTo>
                        <a:lnTo>
                          <a:pt x="53" y="237"/>
                        </a:lnTo>
                        <a:lnTo>
                          <a:pt x="68" y="187"/>
                        </a:lnTo>
                        <a:lnTo>
                          <a:pt x="85" y="137"/>
                        </a:lnTo>
                        <a:lnTo>
                          <a:pt x="107" y="90"/>
                        </a:lnTo>
                        <a:lnTo>
                          <a:pt x="132" y="43"/>
                        </a:lnTo>
                        <a:lnTo>
                          <a:pt x="163" y="0"/>
                        </a:lnTo>
                        <a:lnTo>
                          <a:pt x="110" y="14"/>
                        </a:lnTo>
                        <a:close/>
                      </a:path>
                    </a:pathLst>
                  </a:custGeom>
                  <a:solidFill>
                    <a:srgbClr val="293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5929920" y="4109400"/>
                    <a:ext cx="1904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0" h="954">
                        <a:moveTo>
                          <a:pt x="186" y="50"/>
                        </a:moveTo>
                        <a:lnTo>
                          <a:pt x="210" y="26"/>
                        </a:lnTo>
                        <a:lnTo>
                          <a:pt x="236" y="6"/>
                        </a:lnTo>
                        <a:lnTo>
                          <a:pt x="186" y="0"/>
                        </a:lnTo>
                        <a:lnTo>
                          <a:pt x="160" y="24"/>
                        </a:lnTo>
                        <a:lnTo>
                          <a:pt x="122" y="64"/>
                        </a:lnTo>
                        <a:lnTo>
                          <a:pt x="89" y="107"/>
                        </a:lnTo>
                        <a:lnTo>
                          <a:pt x="61" y="151"/>
                        </a:lnTo>
                        <a:lnTo>
                          <a:pt x="40" y="200"/>
                        </a:lnTo>
                        <a:lnTo>
                          <a:pt x="22" y="248"/>
                        </a:lnTo>
                        <a:lnTo>
                          <a:pt x="9" y="299"/>
                        </a:lnTo>
                        <a:lnTo>
                          <a:pt x="2" y="353"/>
                        </a:lnTo>
                        <a:lnTo>
                          <a:pt x="0" y="409"/>
                        </a:lnTo>
                        <a:lnTo>
                          <a:pt x="2" y="464"/>
                        </a:lnTo>
                        <a:lnTo>
                          <a:pt x="5" y="490"/>
                        </a:lnTo>
                        <a:lnTo>
                          <a:pt x="9" y="517"/>
                        </a:lnTo>
                        <a:lnTo>
                          <a:pt x="14" y="542"/>
                        </a:lnTo>
                        <a:lnTo>
                          <a:pt x="22" y="568"/>
                        </a:lnTo>
                        <a:lnTo>
                          <a:pt x="40" y="618"/>
                        </a:lnTo>
                        <a:lnTo>
                          <a:pt x="49" y="640"/>
                        </a:lnTo>
                        <a:lnTo>
                          <a:pt x="61" y="664"/>
                        </a:lnTo>
                        <a:lnTo>
                          <a:pt x="89" y="710"/>
                        </a:lnTo>
                        <a:lnTo>
                          <a:pt x="122" y="753"/>
                        </a:lnTo>
                        <a:lnTo>
                          <a:pt x="140" y="773"/>
                        </a:lnTo>
                        <a:lnTo>
                          <a:pt x="160" y="795"/>
                        </a:lnTo>
                        <a:lnTo>
                          <a:pt x="200" y="831"/>
                        </a:lnTo>
                        <a:lnTo>
                          <a:pt x="220" y="848"/>
                        </a:lnTo>
                        <a:lnTo>
                          <a:pt x="243" y="864"/>
                        </a:lnTo>
                        <a:lnTo>
                          <a:pt x="287" y="891"/>
                        </a:lnTo>
                        <a:lnTo>
                          <a:pt x="336" y="914"/>
                        </a:lnTo>
                        <a:lnTo>
                          <a:pt x="360" y="923"/>
                        </a:lnTo>
                        <a:lnTo>
                          <a:pt x="385" y="931"/>
                        </a:lnTo>
                        <a:lnTo>
                          <a:pt x="436" y="944"/>
                        </a:lnTo>
                        <a:lnTo>
                          <a:pt x="489" y="951"/>
                        </a:lnTo>
                        <a:lnTo>
                          <a:pt x="516" y="953"/>
                        </a:lnTo>
                        <a:lnTo>
                          <a:pt x="546" y="954"/>
                        </a:lnTo>
                        <a:lnTo>
                          <a:pt x="557" y="953"/>
                        </a:lnTo>
                        <a:lnTo>
                          <a:pt x="569" y="953"/>
                        </a:lnTo>
                        <a:lnTo>
                          <a:pt x="594" y="952"/>
                        </a:lnTo>
                        <a:lnTo>
                          <a:pt x="642" y="946"/>
                        </a:lnTo>
                        <a:lnTo>
                          <a:pt x="687" y="936"/>
                        </a:lnTo>
                        <a:lnTo>
                          <a:pt x="709" y="929"/>
                        </a:lnTo>
                        <a:lnTo>
                          <a:pt x="732" y="924"/>
                        </a:lnTo>
                        <a:lnTo>
                          <a:pt x="741" y="900"/>
                        </a:lnTo>
                        <a:lnTo>
                          <a:pt x="750" y="877"/>
                        </a:lnTo>
                        <a:lnTo>
                          <a:pt x="725" y="886"/>
                        </a:lnTo>
                        <a:lnTo>
                          <a:pt x="718" y="888"/>
                        </a:lnTo>
                        <a:lnTo>
                          <a:pt x="712" y="890"/>
                        </a:lnTo>
                        <a:lnTo>
                          <a:pt x="701" y="894"/>
                        </a:lnTo>
                        <a:lnTo>
                          <a:pt x="651" y="908"/>
                        </a:lnTo>
                        <a:lnTo>
                          <a:pt x="599" y="915"/>
                        </a:lnTo>
                        <a:lnTo>
                          <a:pt x="572" y="917"/>
                        </a:lnTo>
                        <a:lnTo>
                          <a:pt x="558" y="917"/>
                        </a:lnTo>
                        <a:lnTo>
                          <a:pt x="551" y="917"/>
                        </a:lnTo>
                        <a:lnTo>
                          <a:pt x="548" y="917"/>
                        </a:lnTo>
                        <a:lnTo>
                          <a:pt x="546" y="918"/>
                        </a:lnTo>
                        <a:lnTo>
                          <a:pt x="518" y="917"/>
                        </a:lnTo>
                        <a:lnTo>
                          <a:pt x="492" y="915"/>
                        </a:lnTo>
                        <a:lnTo>
                          <a:pt x="444" y="908"/>
                        </a:lnTo>
                        <a:lnTo>
                          <a:pt x="395" y="897"/>
                        </a:lnTo>
                        <a:lnTo>
                          <a:pt x="349" y="881"/>
                        </a:lnTo>
                        <a:lnTo>
                          <a:pt x="305" y="858"/>
                        </a:lnTo>
                        <a:lnTo>
                          <a:pt x="263" y="833"/>
                        </a:lnTo>
                        <a:lnTo>
                          <a:pt x="224" y="804"/>
                        </a:lnTo>
                        <a:lnTo>
                          <a:pt x="186" y="770"/>
                        </a:lnTo>
                        <a:lnTo>
                          <a:pt x="167" y="749"/>
                        </a:lnTo>
                        <a:lnTo>
                          <a:pt x="150" y="730"/>
                        </a:lnTo>
                        <a:lnTo>
                          <a:pt x="134" y="710"/>
                        </a:lnTo>
                        <a:lnTo>
                          <a:pt x="120" y="690"/>
                        </a:lnTo>
                        <a:lnTo>
                          <a:pt x="106" y="669"/>
                        </a:lnTo>
                        <a:lnTo>
                          <a:pt x="94" y="648"/>
                        </a:lnTo>
                        <a:lnTo>
                          <a:pt x="83" y="626"/>
                        </a:lnTo>
                        <a:lnTo>
                          <a:pt x="74" y="604"/>
                        </a:lnTo>
                        <a:lnTo>
                          <a:pt x="64" y="580"/>
                        </a:lnTo>
                        <a:lnTo>
                          <a:pt x="57" y="558"/>
                        </a:lnTo>
                        <a:lnTo>
                          <a:pt x="46" y="510"/>
                        </a:lnTo>
                        <a:lnTo>
                          <a:pt x="39" y="460"/>
                        </a:lnTo>
                        <a:lnTo>
                          <a:pt x="36" y="434"/>
                        </a:lnTo>
                        <a:lnTo>
                          <a:pt x="36" y="409"/>
                        </a:lnTo>
                        <a:lnTo>
                          <a:pt x="39" y="356"/>
                        </a:lnTo>
                        <a:lnTo>
                          <a:pt x="46" y="307"/>
                        </a:lnTo>
                        <a:lnTo>
                          <a:pt x="57" y="258"/>
                        </a:lnTo>
                        <a:lnTo>
                          <a:pt x="74" y="214"/>
                        </a:lnTo>
                        <a:lnTo>
                          <a:pt x="94" y="170"/>
                        </a:lnTo>
                        <a:lnTo>
                          <a:pt x="120" y="128"/>
                        </a:lnTo>
                        <a:lnTo>
                          <a:pt x="150" y="87"/>
                        </a:lnTo>
                        <a:lnTo>
                          <a:pt x="186" y="50"/>
                        </a:lnTo>
                        <a:close/>
                      </a:path>
                    </a:pathLst>
                  </a:custGeom>
                  <a:solidFill>
                    <a:srgbClr val="395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5938920" y="4110480"/>
                    <a:ext cx="1850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27" h="912">
                        <a:moveTo>
                          <a:pt x="200" y="0"/>
                        </a:moveTo>
                        <a:lnTo>
                          <a:pt x="174" y="20"/>
                        </a:lnTo>
                        <a:lnTo>
                          <a:pt x="150" y="44"/>
                        </a:lnTo>
                        <a:lnTo>
                          <a:pt x="114" y="81"/>
                        </a:lnTo>
                        <a:lnTo>
                          <a:pt x="84" y="122"/>
                        </a:lnTo>
                        <a:lnTo>
                          <a:pt x="58" y="164"/>
                        </a:lnTo>
                        <a:lnTo>
                          <a:pt x="38" y="208"/>
                        </a:lnTo>
                        <a:lnTo>
                          <a:pt x="21" y="252"/>
                        </a:lnTo>
                        <a:lnTo>
                          <a:pt x="10" y="301"/>
                        </a:lnTo>
                        <a:lnTo>
                          <a:pt x="3" y="350"/>
                        </a:lnTo>
                        <a:lnTo>
                          <a:pt x="0" y="403"/>
                        </a:lnTo>
                        <a:lnTo>
                          <a:pt x="0" y="428"/>
                        </a:lnTo>
                        <a:lnTo>
                          <a:pt x="3" y="454"/>
                        </a:lnTo>
                        <a:lnTo>
                          <a:pt x="10" y="504"/>
                        </a:lnTo>
                        <a:lnTo>
                          <a:pt x="21" y="552"/>
                        </a:lnTo>
                        <a:lnTo>
                          <a:pt x="28" y="574"/>
                        </a:lnTo>
                        <a:lnTo>
                          <a:pt x="38" y="598"/>
                        </a:lnTo>
                        <a:lnTo>
                          <a:pt x="47" y="620"/>
                        </a:lnTo>
                        <a:lnTo>
                          <a:pt x="58" y="642"/>
                        </a:lnTo>
                        <a:lnTo>
                          <a:pt x="70" y="663"/>
                        </a:lnTo>
                        <a:lnTo>
                          <a:pt x="84" y="684"/>
                        </a:lnTo>
                        <a:lnTo>
                          <a:pt x="98" y="704"/>
                        </a:lnTo>
                        <a:lnTo>
                          <a:pt x="114" y="724"/>
                        </a:lnTo>
                        <a:lnTo>
                          <a:pt x="131" y="743"/>
                        </a:lnTo>
                        <a:lnTo>
                          <a:pt x="150" y="764"/>
                        </a:lnTo>
                        <a:lnTo>
                          <a:pt x="188" y="798"/>
                        </a:lnTo>
                        <a:lnTo>
                          <a:pt x="227" y="827"/>
                        </a:lnTo>
                        <a:lnTo>
                          <a:pt x="269" y="852"/>
                        </a:lnTo>
                        <a:lnTo>
                          <a:pt x="313" y="875"/>
                        </a:lnTo>
                        <a:lnTo>
                          <a:pt x="359" y="891"/>
                        </a:lnTo>
                        <a:lnTo>
                          <a:pt x="408" y="902"/>
                        </a:lnTo>
                        <a:lnTo>
                          <a:pt x="456" y="909"/>
                        </a:lnTo>
                        <a:lnTo>
                          <a:pt x="482" y="911"/>
                        </a:lnTo>
                        <a:lnTo>
                          <a:pt x="510" y="912"/>
                        </a:lnTo>
                        <a:lnTo>
                          <a:pt x="512" y="911"/>
                        </a:lnTo>
                        <a:lnTo>
                          <a:pt x="515" y="911"/>
                        </a:lnTo>
                        <a:lnTo>
                          <a:pt x="522" y="911"/>
                        </a:lnTo>
                        <a:lnTo>
                          <a:pt x="536" y="911"/>
                        </a:lnTo>
                        <a:lnTo>
                          <a:pt x="563" y="909"/>
                        </a:lnTo>
                        <a:lnTo>
                          <a:pt x="615" y="902"/>
                        </a:lnTo>
                        <a:lnTo>
                          <a:pt x="665" y="888"/>
                        </a:lnTo>
                        <a:lnTo>
                          <a:pt x="676" y="884"/>
                        </a:lnTo>
                        <a:lnTo>
                          <a:pt x="682" y="882"/>
                        </a:lnTo>
                        <a:lnTo>
                          <a:pt x="689" y="880"/>
                        </a:lnTo>
                        <a:lnTo>
                          <a:pt x="714" y="871"/>
                        </a:lnTo>
                        <a:lnTo>
                          <a:pt x="721" y="848"/>
                        </a:lnTo>
                        <a:lnTo>
                          <a:pt x="727" y="824"/>
                        </a:lnTo>
                        <a:lnTo>
                          <a:pt x="701" y="835"/>
                        </a:lnTo>
                        <a:lnTo>
                          <a:pt x="676" y="845"/>
                        </a:lnTo>
                        <a:lnTo>
                          <a:pt x="649" y="854"/>
                        </a:lnTo>
                        <a:lnTo>
                          <a:pt x="636" y="858"/>
                        </a:lnTo>
                        <a:lnTo>
                          <a:pt x="623" y="862"/>
                        </a:lnTo>
                        <a:lnTo>
                          <a:pt x="608" y="865"/>
                        </a:lnTo>
                        <a:lnTo>
                          <a:pt x="595" y="868"/>
                        </a:lnTo>
                        <a:lnTo>
                          <a:pt x="567" y="872"/>
                        </a:lnTo>
                        <a:lnTo>
                          <a:pt x="538" y="875"/>
                        </a:lnTo>
                        <a:lnTo>
                          <a:pt x="523" y="875"/>
                        </a:lnTo>
                        <a:lnTo>
                          <a:pt x="510" y="876"/>
                        </a:lnTo>
                        <a:lnTo>
                          <a:pt x="461" y="874"/>
                        </a:lnTo>
                        <a:lnTo>
                          <a:pt x="414" y="867"/>
                        </a:lnTo>
                        <a:lnTo>
                          <a:pt x="369" y="855"/>
                        </a:lnTo>
                        <a:lnTo>
                          <a:pt x="327" y="841"/>
                        </a:lnTo>
                        <a:lnTo>
                          <a:pt x="285" y="820"/>
                        </a:lnTo>
                        <a:lnTo>
                          <a:pt x="247" y="798"/>
                        </a:lnTo>
                        <a:lnTo>
                          <a:pt x="209" y="769"/>
                        </a:lnTo>
                        <a:lnTo>
                          <a:pt x="175" y="738"/>
                        </a:lnTo>
                        <a:lnTo>
                          <a:pt x="141" y="701"/>
                        </a:lnTo>
                        <a:lnTo>
                          <a:pt x="126" y="682"/>
                        </a:lnTo>
                        <a:lnTo>
                          <a:pt x="114" y="664"/>
                        </a:lnTo>
                        <a:lnTo>
                          <a:pt x="90" y="624"/>
                        </a:lnTo>
                        <a:lnTo>
                          <a:pt x="80" y="604"/>
                        </a:lnTo>
                        <a:lnTo>
                          <a:pt x="72" y="585"/>
                        </a:lnTo>
                        <a:lnTo>
                          <a:pt x="56" y="541"/>
                        </a:lnTo>
                        <a:lnTo>
                          <a:pt x="46" y="497"/>
                        </a:lnTo>
                        <a:lnTo>
                          <a:pt x="41" y="473"/>
                        </a:lnTo>
                        <a:lnTo>
                          <a:pt x="39" y="451"/>
                        </a:lnTo>
                        <a:lnTo>
                          <a:pt x="38" y="403"/>
                        </a:lnTo>
                        <a:lnTo>
                          <a:pt x="39" y="354"/>
                        </a:lnTo>
                        <a:lnTo>
                          <a:pt x="46" y="309"/>
                        </a:lnTo>
                        <a:lnTo>
                          <a:pt x="56" y="264"/>
                        </a:lnTo>
                        <a:lnTo>
                          <a:pt x="72" y="222"/>
                        </a:lnTo>
                        <a:lnTo>
                          <a:pt x="90" y="180"/>
                        </a:lnTo>
                        <a:lnTo>
                          <a:pt x="114" y="141"/>
                        </a:lnTo>
                        <a:lnTo>
                          <a:pt x="141" y="104"/>
                        </a:lnTo>
                        <a:lnTo>
                          <a:pt x="175" y="70"/>
                        </a:lnTo>
                        <a:lnTo>
                          <a:pt x="210" y="37"/>
                        </a:lnTo>
                        <a:lnTo>
                          <a:pt x="248" y="10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3c5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948640" y="4113000"/>
                    <a:ext cx="177840" cy="21996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866">
                        <a:moveTo>
                          <a:pt x="210" y="0"/>
                        </a:moveTo>
                        <a:lnTo>
                          <a:pt x="172" y="27"/>
                        </a:lnTo>
                        <a:lnTo>
                          <a:pt x="137" y="60"/>
                        </a:lnTo>
                        <a:lnTo>
                          <a:pt x="103" y="94"/>
                        </a:lnTo>
                        <a:lnTo>
                          <a:pt x="76" y="131"/>
                        </a:lnTo>
                        <a:lnTo>
                          <a:pt x="52" y="170"/>
                        </a:lnTo>
                        <a:lnTo>
                          <a:pt x="34" y="212"/>
                        </a:lnTo>
                        <a:lnTo>
                          <a:pt x="18" y="254"/>
                        </a:lnTo>
                        <a:lnTo>
                          <a:pt x="8" y="299"/>
                        </a:lnTo>
                        <a:lnTo>
                          <a:pt x="1" y="344"/>
                        </a:lnTo>
                        <a:lnTo>
                          <a:pt x="0" y="393"/>
                        </a:lnTo>
                        <a:lnTo>
                          <a:pt x="1" y="441"/>
                        </a:lnTo>
                        <a:lnTo>
                          <a:pt x="3" y="463"/>
                        </a:lnTo>
                        <a:lnTo>
                          <a:pt x="8" y="487"/>
                        </a:lnTo>
                        <a:lnTo>
                          <a:pt x="18" y="531"/>
                        </a:lnTo>
                        <a:lnTo>
                          <a:pt x="34" y="575"/>
                        </a:lnTo>
                        <a:lnTo>
                          <a:pt x="42" y="594"/>
                        </a:lnTo>
                        <a:lnTo>
                          <a:pt x="52" y="614"/>
                        </a:lnTo>
                        <a:lnTo>
                          <a:pt x="76" y="654"/>
                        </a:lnTo>
                        <a:lnTo>
                          <a:pt x="88" y="672"/>
                        </a:lnTo>
                        <a:lnTo>
                          <a:pt x="103" y="691"/>
                        </a:lnTo>
                        <a:lnTo>
                          <a:pt x="137" y="728"/>
                        </a:lnTo>
                        <a:lnTo>
                          <a:pt x="171" y="759"/>
                        </a:lnTo>
                        <a:lnTo>
                          <a:pt x="209" y="788"/>
                        </a:lnTo>
                        <a:lnTo>
                          <a:pt x="247" y="810"/>
                        </a:lnTo>
                        <a:lnTo>
                          <a:pt x="289" y="831"/>
                        </a:lnTo>
                        <a:lnTo>
                          <a:pt x="331" y="845"/>
                        </a:lnTo>
                        <a:lnTo>
                          <a:pt x="376" y="857"/>
                        </a:lnTo>
                        <a:lnTo>
                          <a:pt x="423" y="864"/>
                        </a:lnTo>
                        <a:lnTo>
                          <a:pt x="472" y="866"/>
                        </a:lnTo>
                        <a:lnTo>
                          <a:pt x="485" y="865"/>
                        </a:lnTo>
                        <a:lnTo>
                          <a:pt x="500" y="865"/>
                        </a:lnTo>
                        <a:lnTo>
                          <a:pt x="529" y="862"/>
                        </a:lnTo>
                        <a:lnTo>
                          <a:pt x="557" y="858"/>
                        </a:lnTo>
                        <a:lnTo>
                          <a:pt x="570" y="855"/>
                        </a:lnTo>
                        <a:lnTo>
                          <a:pt x="585" y="852"/>
                        </a:lnTo>
                        <a:lnTo>
                          <a:pt x="598" y="848"/>
                        </a:lnTo>
                        <a:lnTo>
                          <a:pt x="611" y="844"/>
                        </a:lnTo>
                        <a:lnTo>
                          <a:pt x="638" y="835"/>
                        </a:lnTo>
                        <a:lnTo>
                          <a:pt x="663" y="825"/>
                        </a:lnTo>
                        <a:lnTo>
                          <a:pt x="689" y="814"/>
                        </a:lnTo>
                        <a:lnTo>
                          <a:pt x="694" y="790"/>
                        </a:lnTo>
                        <a:lnTo>
                          <a:pt x="700" y="767"/>
                        </a:lnTo>
                        <a:lnTo>
                          <a:pt x="672" y="781"/>
                        </a:lnTo>
                        <a:lnTo>
                          <a:pt x="659" y="787"/>
                        </a:lnTo>
                        <a:lnTo>
                          <a:pt x="646" y="793"/>
                        </a:lnTo>
                        <a:lnTo>
                          <a:pt x="619" y="804"/>
                        </a:lnTo>
                        <a:lnTo>
                          <a:pt x="592" y="814"/>
                        </a:lnTo>
                        <a:lnTo>
                          <a:pt x="562" y="819"/>
                        </a:lnTo>
                        <a:lnTo>
                          <a:pt x="533" y="825"/>
                        </a:lnTo>
                        <a:lnTo>
                          <a:pt x="517" y="826"/>
                        </a:lnTo>
                        <a:lnTo>
                          <a:pt x="502" y="828"/>
                        </a:lnTo>
                        <a:lnTo>
                          <a:pt x="486" y="828"/>
                        </a:lnTo>
                        <a:lnTo>
                          <a:pt x="478" y="828"/>
                        </a:lnTo>
                        <a:lnTo>
                          <a:pt x="472" y="830"/>
                        </a:lnTo>
                        <a:lnTo>
                          <a:pt x="426" y="827"/>
                        </a:lnTo>
                        <a:lnTo>
                          <a:pt x="384" y="821"/>
                        </a:lnTo>
                        <a:lnTo>
                          <a:pt x="342" y="810"/>
                        </a:lnTo>
                        <a:lnTo>
                          <a:pt x="304" y="797"/>
                        </a:lnTo>
                        <a:lnTo>
                          <a:pt x="265" y="779"/>
                        </a:lnTo>
                        <a:lnTo>
                          <a:pt x="230" y="757"/>
                        </a:lnTo>
                        <a:lnTo>
                          <a:pt x="195" y="731"/>
                        </a:lnTo>
                        <a:lnTo>
                          <a:pt x="163" y="702"/>
                        </a:lnTo>
                        <a:lnTo>
                          <a:pt x="131" y="668"/>
                        </a:lnTo>
                        <a:lnTo>
                          <a:pt x="106" y="634"/>
                        </a:lnTo>
                        <a:lnTo>
                          <a:pt x="84" y="597"/>
                        </a:lnTo>
                        <a:lnTo>
                          <a:pt x="67" y="560"/>
                        </a:lnTo>
                        <a:lnTo>
                          <a:pt x="52" y="520"/>
                        </a:lnTo>
                        <a:lnTo>
                          <a:pt x="43" y="479"/>
                        </a:lnTo>
                        <a:lnTo>
                          <a:pt x="36" y="436"/>
                        </a:lnTo>
                        <a:lnTo>
                          <a:pt x="35" y="393"/>
                        </a:lnTo>
                        <a:lnTo>
                          <a:pt x="36" y="348"/>
                        </a:lnTo>
                        <a:lnTo>
                          <a:pt x="43" y="306"/>
                        </a:lnTo>
                        <a:lnTo>
                          <a:pt x="52" y="264"/>
                        </a:lnTo>
                        <a:lnTo>
                          <a:pt x="67" y="225"/>
                        </a:lnTo>
                        <a:lnTo>
                          <a:pt x="84" y="187"/>
                        </a:lnTo>
                        <a:lnTo>
                          <a:pt x="106" y="152"/>
                        </a:lnTo>
                        <a:lnTo>
                          <a:pt x="131" y="117"/>
                        </a:lnTo>
                        <a:lnTo>
                          <a:pt x="163" y="85"/>
                        </a:lnTo>
                        <a:lnTo>
                          <a:pt x="185" y="63"/>
                        </a:lnTo>
                        <a:lnTo>
                          <a:pt x="209" y="45"/>
                        </a:lnTo>
                        <a:lnTo>
                          <a:pt x="232" y="28"/>
                        </a:lnTo>
                        <a:lnTo>
                          <a:pt x="257" y="13"/>
                        </a:lnTo>
                        <a:lnTo>
                          <a:pt x="210" y="0"/>
                        </a:lnTo>
                        <a:close/>
                      </a:path>
                    </a:pathLst>
                  </a:custGeom>
                  <a:solidFill>
                    <a:srgbClr val="3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5958000" y="4116600"/>
                    <a:ext cx="16992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71" h="817">
                        <a:moveTo>
                          <a:pt x="154" y="98"/>
                        </a:moveTo>
                        <a:lnTo>
                          <a:pt x="180" y="73"/>
                        </a:lnTo>
                        <a:lnTo>
                          <a:pt x="209" y="52"/>
                        </a:lnTo>
                        <a:lnTo>
                          <a:pt x="237" y="32"/>
                        </a:lnTo>
                        <a:lnTo>
                          <a:pt x="268" y="18"/>
                        </a:lnTo>
                        <a:lnTo>
                          <a:pt x="222" y="0"/>
                        </a:lnTo>
                        <a:lnTo>
                          <a:pt x="197" y="15"/>
                        </a:lnTo>
                        <a:lnTo>
                          <a:pt x="174" y="32"/>
                        </a:lnTo>
                        <a:lnTo>
                          <a:pt x="150" y="50"/>
                        </a:lnTo>
                        <a:lnTo>
                          <a:pt x="128" y="72"/>
                        </a:lnTo>
                        <a:lnTo>
                          <a:pt x="96" y="104"/>
                        </a:lnTo>
                        <a:lnTo>
                          <a:pt x="71" y="139"/>
                        </a:lnTo>
                        <a:lnTo>
                          <a:pt x="49" y="174"/>
                        </a:lnTo>
                        <a:lnTo>
                          <a:pt x="32" y="212"/>
                        </a:lnTo>
                        <a:lnTo>
                          <a:pt x="17" y="251"/>
                        </a:lnTo>
                        <a:lnTo>
                          <a:pt x="8" y="293"/>
                        </a:lnTo>
                        <a:lnTo>
                          <a:pt x="1" y="335"/>
                        </a:lnTo>
                        <a:lnTo>
                          <a:pt x="0" y="380"/>
                        </a:lnTo>
                        <a:lnTo>
                          <a:pt x="1" y="423"/>
                        </a:lnTo>
                        <a:lnTo>
                          <a:pt x="8" y="466"/>
                        </a:lnTo>
                        <a:lnTo>
                          <a:pt x="17" y="507"/>
                        </a:lnTo>
                        <a:lnTo>
                          <a:pt x="32" y="547"/>
                        </a:lnTo>
                        <a:lnTo>
                          <a:pt x="49" y="584"/>
                        </a:lnTo>
                        <a:lnTo>
                          <a:pt x="71" y="621"/>
                        </a:lnTo>
                        <a:lnTo>
                          <a:pt x="96" y="655"/>
                        </a:lnTo>
                        <a:lnTo>
                          <a:pt x="128" y="689"/>
                        </a:lnTo>
                        <a:lnTo>
                          <a:pt x="160" y="718"/>
                        </a:lnTo>
                        <a:lnTo>
                          <a:pt x="195" y="744"/>
                        </a:lnTo>
                        <a:lnTo>
                          <a:pt x="230" y="766"/>
                        </a:lnTo>
                        <a:lnTo>
                          <a:pt x="269" y="784"/>
                        </a:lnTo>
                        <a:lnTo>
                          <a:pt x="307" y="797"/>
                        </a:lnTo>
                        <a:lnTo>
                          <a:pt x="349" y="808"/>
                        </a:lnTo>
                        <a:lnTo>
                          <a:pt x="391" y="814"/>
                        </a:lnTo>
                        <a:lnTo>
                          <a:pt x="437" y="817"/>
                        </a:lnTo>
                        <a:lnTo>
                          <a:pt x="443" y="815"/>
                        </a:lnTo>
                        <a:lnTo>
                          <a:pt x="451" y="815"/>
                        </a:lnTo>
                        <a:lnTo>
                          <a:pt x="467" y="815"/>
                        </a:lnTo>
                        <a:lnTo>
                          <a:pt x="482" y="813"/>
                        </a:lnTo>
                        <a:lnTo>
                          <a:pt x="498" y="812"/>
                        </a:lnTo>
                        <a:lnTo>
                          <a:pt x="527" y="806"/>
                        </a:lnTo>
                        <a:lnTo>
                          <a:pt x="557" y="801"/>
                        </a:lnTo>
                        <a:lnTo>
                          <a:pt x="584" y="791"/>
                        </a:lnTo>
                        <a:lnTo>
                          <a:pt x="611" y="780"/>
                        </a:lnTo>
                        <a:lnTo>
                          <a:pt x="624" y="774"/>
                        </a:lnTo>
                        <a:lnTo>
                          <a:pt x="637" y="768"/>
                        </a:lnTo>
                        <a:lnTo>
                          <a:pt x="665" y="754"/>
                        </a:lnTo>
                        <a:lnTo>
                          <a:pt x="671" y="706"/>
                        </a:lnTo>
                        <a:lnTo>
                          <a:pt x="644" y="723"/>
                        </a:lnTo>
                        <a:lnTo>
                          <a:pt x="631" y="729"/>
                        </a:lnTo>
                        <a:lnTo>
                          <a:pt x="624" y="733"/>
                        </a:lnTo>
                        <a:lnTo>
                          <a:pt x="618" y="737"/>
                        </a:lnTo>
                        <a:lnTo>
                          <a:pt x="610" y="740"/>
                        </a:lnTo>
                        <a:lnTo>
                          <a:pt x="603" y="743"/>
                        </a:lnTo>
                        <a:lnTo>
                          <a:pt x="590" y="750"/>
                        </a:lnTo>
                        <a:lnTo>
                          <a:pt x="582" y="752"/>
                        </a:lnTo>
                        <a:lnTo>
                          <a:pt x="575" y="755"/>
                        </a:lnTo>
                        <a:lnTo>
                          <a:pt x="561" y="761"/>
                        </a:lnTo>
                        <a:lnTo>
                          <a:pt x="545" y="764"/>
                        </a:lnTo>
                        <a:lnTo>
                          <a:pt x="531" y="769"/>
                        </a:lnTo>
                        <a:lnTo>
                          <a:pt x="515" y="771"/>
                        </a:lnTo>
                        <a:lnTo>
                          <a:pt x="510" y="771"/>
                        </a:lnTo>
                        <a:lnTo>
                          <a:pt x="508" y="771"/>
                        </a:lnTo>
                        <a:lnTo>
                          <a:pt x="507" y="772"/>
                        </a:lnTo>
                        <a:lnTo>
                          <a:pt x="500" y="775"/>
                        </a:lnTo>
                        <a:lnTo>
                          <a:pt x="468" y="778"/>
                        </a:lnTo>
                        <a:lnTo>
                          <a:pt x="437" y="780"/>
                        </a:lnTo>
                        <a:lnTo>
                          <a:pt x="395" y="778"/>
                        </a:lnTo>
                        <a:lnTo>
                          <a:pt x="356" y="772"/>
                        </a:lnTo>
                        <a:lnTo>
                          <a:pt x="318" y="763"/>
                        </a:lnTo>
                        <a:lnTo>
                          <a:pt x="282" y="751"/>
                        </a:lnTo>
                        <a:lnTo>
                          <a:pt x="247" y="734"/>
                        </a:lnTo>
                        <a:lnTo>
                          <a:pt x="214" y="713"/>
                        </a:lnTo>
                        <a:lnTo>
                          <a:pt x="183" y="690"/>
                        </a:lnTo>
                        <a:lnTo>
                          <a:pt x="154" y="664"/>
                        </a:lnTo>
                        <a:lnTo>
                          <a:pt x="126" y="633"/>
                        </a:lnTo>
                        <a:lnTo>
                          <a:pt x="102" y="601"/>
                        </a:lnTo>
                        <a:lnTo>
                          <a:pt x="82" y="567"/>
                        </a:lnTo>
                        <a:lnTo>
                          <a:pt x="66" y="533"/>
                        </a:lnTo>
                        <a:lnTo>
                          <a:pt x="52" y="497"/>
                        </a:lnTo>
                        <a:lnTo>
                          <a:pt x="44" y="460"/>
                        </a:lnTo>
                        <a:lnTo>
                          <a:pt x="39" y="420"/>
                        </a:lnTo>
                        <a:lnTo>
                          <a:pt x="37" y="380"/>
                        </a:lnTo>
                        <a:lnTo>
                          <a:pt x="39" y="338"/>
                        </a:lnTo>
                        <a:lnTo>
                          <a:pt x="44" y="300"/>
                        </a:lnTo>
                        <a:lnTo>
                          <a:pt x="52" y="261"/>
                        </a:lnTo>
                        <a:lnTo>
                          <a:pt x="66" y="226"/>
                        </a:lnTo>
                        <a:lnTo>
                          <a:pt x="82" y="191"/>
                        </a:lnTo>
                        <a:lnTo>
                          <a:pt x="102" y="158"/>
                        </a:lnTo>
                        <a:lnTo>
                          <a:pt x="126" y="126"/>
                        </a:lnTo>
                        <a:lnTo>
                          <a:pt x="154" y="98"/>
                        </a:lnTo>
                        <a:close/>
                      </a:path>
                    </a:pathLst>
                  </a:custGeom>
                  <a:solidFill>
                    <a:srgbClr val="426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5967000" y="4121280"/>
                    <a:ext cx="162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762">
                        <a:moveTo>
                          <a:pt x="231" y="0"/>
                        </a:moveTo>
                        <a:lnTo>
                          <a:pt x="200" y="14"/>
                        </a:lnTo>
                        <a:lnTo>
                          <a:pt x="172" y="34"/>
                        </a:lnTo>
                        <a:lnTo>
                          <a:pt x="143" y="55"/>
                        </a:lnTo>
                        <a:lnTo>
                          <a:pt x="117" y="80"/>
                        </a:lnTo>
                        <a:lnTo>
                          <a:pt x="89" y="108"/>
                        </a:lnTo>
                        <a:lnTo>
                          <a:pt x="65" y="140"/>
                        </a:lnTo>
                        <a:lnTo>
                          <a:pt x="45" y="173"/>
                        </a:lnTo>
                        <a:lnTo>
                          <a:pt x="29" y="208"/>
                        </a:lnTo>
                        <a:lnTo>
                          <a:pt x="15" y="243"/>
                        </a:lnTo>
                        <a:lnTo>
                          <a:pt x="7" y="282"/>
                        </a:lnTo>
                        <a:lnTo>
                          <a:pt x="2" y="320"/>
                        </a:lnTo>
                        <a:lnTo>
                          <a:pt x="0" y="362"/>
                        </a:lnTo>
                        <a:lnTo>
                          <a:pt x="2" y="402"/>
                        </a:lnTo>
                        <a:lnTo>
                          <a:pt x="7" y="442"/>
                        </a:lnTo>
                        <a:lnTo>
                          <a:pt x="15" y="479"/>
                        </a:lnTo>
                        <a:lnTo>
                          <a:pt x="29" y="515"/>
                        </a:lnTo>
                        <a:lnTo>
                          <a:pt x="45" y="549"/>
                        </a:lnTo>
                        <a:lnTo>
                          <a:pt x="65" y="583"/>
                        </a:lnTo>
                        <a:lnTo>
                          <a:pt x="89" y="615"/>
                        </a:lnTo>
                        <a:lnTo>
                          <a:pt x="117" y="646"/>
                        </a:lnTo>
                        <a:lnTo>
                          <a:pt x="146" y="672"/>
                        </a:lnTo>
                        <a:lnTo>
                          <a:pt x="177" y="695"/>
                        </a:lnTo>
                        <a:lnTo>
                          <a:pt x="210" y="716"/>
                        </a:lnTo>
                        <a:lnTo>
                          <a:pt x="245" y="733"/>
                        </a:lnTo>
                        <a:lnTo>
                          <a:pt x="281" y="745"/>
                        </a:lnTo>
                        <a:lnTo>
                          <a:pt x="319" y="754"/>
                        </a:lnTo>
                        <a:lnTo>
                          <a:pt x="358" y="760"/>
                        </a:lnTo>
                        <a:lnTo>
                          <a:pt x="400" y="762"/>
                        </a:lnTo>
                        <a:lnTo>
                          <a:pt x="431" y="760"/>
                        </a:lnTo>
                        <a:lnTo>
                          <a:pt x="463" y="757"/>
                        </a:lnTo>
                        <a:lnTo>
                          <a:pt x="470" y="754"/>
                        </a:lnTo>
                        <a:lnTo>
                          <a:pt x="471" y="753"/>
                        </a:lnTo>
                        <a:lnTo>
                          <a:pt x="473" y="753"/>
                        </a:lnTo>
                        <a:lnTo>
                          <a:pt x="478" y="753"/>
                        </a:lnTo>
                        <a:lnTo>
                          <a:pt x="494" y="751"/>
                        </a:lnTo>
                        <a:lnTo>
                          <a:pt x="508" y="746"/>
                        </a:lnTo>
                        <a:lnTo>
                          <a:pt x="524" y="743"/>
                        </a:lnTo>
                        <a:lnTo>
                          <a:pt x="538" y="737"/>
                        </a:lnTo>
                        <a:lnTo>
                          <a:pt x="545" y="734"/>
                        </a:lnTo>
                        <a:lnTo>
                          <a:pt x="553" y="732"/>
                        </a:lnTo>
                        <a:lnTo>
                          <a:pt x="566" y="725"/>
                        </a:lnTo>
                        <a:lnTo>
                          <a:pt x="573" y="722"/>
                        </a:lnTo>
                        <a:lnTo>
                          <a:pt x="581" y="719"/>
                        </a:lnTo>
                        <a:lnTo>
                          <a:pt x="587" y="715"/>
                        </a:lnTo>
                        <a:lnTo>
                          <a:pt x="594" y="711"/>
                        </a:lnTo>
                        <a:lnTo>
                          <a:pt x="607" y="705"/>
                        </a:lnTo>
                        <a:lnTo>
                          <a:pt x="634" y="688"/>
                        </a:lnTo>
                        <a:lnTo>
                          <a:pt x="638" y="638"/>
                        </a:lnTo>
                        <a:lnTo>
                          <a:pt x="611" y="657"/>
                        </a:lnTo>
                        <a:lnTo>
                          <a:pt x="583" y="675"/>
                        </a:lnTo>
                        <a:lnTo>
                          <a:pt x="569" y="682"/>
                        </a:lnTo>
                        <a:lnTo>
                          <a:pt x="555" y="690"/>
                        </a:lnTo>
                        <a:lnTo>
                          <a:pt x="540" y="697"/>
                        </a:lnTo>
                        <a:lnTo>
                          <a:pt x="527" y="703"/>
                        </a:lnTo>
                        <a:lnTo>
                          <a:pt x="511" y="708"/>
                        </a:lnTo>
                        <a:lnTo>
                          <a:pt x="496" y="712"/>
                        </a:lnTo>
                        <a:lnTo>
                          <a:pt x="480" y="716"/>
                        </a:lnTo>
                        <a:lnTo>
                          <a:pt x="465" y="720"/>
                        </a:lnTo>
                        <a:lnTo>
                          <a:pt x="456" y="720"/>
                        </a:lnTo>
                        <a:lnTo>
                          <a:pt x="452" y="720"/>
                        </a:lnTo>
                        <a:lnTo>
                          <a:pt x="450" y="720"/>
                        </a:lnTo>
                        <a:lnTo>
                          <a:pt x="448" y="722"/>
                        </a:lnTo>
                        <a:lnTo>
                          <a:pt x="433" y="724"/>
                        </a:lnTo>
                        <a:lnTo>
                          <a:pt x="423" y="724"/>
                        </a:lnTo>
                        <a:lnTo>
                          <a:pt x="419" y="724"/>
                        </a:lnTo>
                        <a:lnTo>
                          <a:pt x="417" y="724"/>
                        </a:lnTo>
                        <a:lnTo>
                          <a:pt x="416" y="725"/>
                        </a:lnTo>
                        <a:lnTo>
                          <a:pt x="400" y="726"/>
                        </a:lnTo>
                        <a:lnTo>
                          <a:pt x="361" y="724"/>
                        </a:lnTo>
                        <a:lnTo>
                          <a:pt x="326" y="719"/>
                        </a:lnTo>
                        <a:lnTo>
                          <a:pt x="291" y="710"/>
                        </a:lnTo>
                        <a:lnTo>
                          <a:pt x="259" y="699"/>
                        </a:lnTo>
                        <a:lnTo>
                          <a:pt x="227" y="683"/>
                        </a:lnTo>
                        <a:lnTo>
                          <a:pt x="198" y="665"/>
                        </a:lnTo>
                        <a:lnTo>
                          <a:pt x="168" y="643"/>
                        </a:lnTo>
                        <a:lnTo>
                          <a:pt x="142" y="620"/>
                        </a:lnTo>
                        <a:lnTo>
                          <a:pt x="116" y="591"/>
                        </a:lnTo>
                        <a:lnTo>
                          <a:pt x="95" y="563"/>
                        </a:lnTo>
                        <a:lnTo>
                          <a:pt x="84" y="547"/>
                        </a:lnTo>
                        <a:lnTo>
                          <a:pt x="76" y="532"/>
                        </a:lnTo>
                        <a:lnTo>
                          <a:pt x="62" y="502"/>
                        </a:lnTo>
                        <a:lnTo>
                          <a:pt x="49" y="468"/>
                        </a:lnTo>
                        <a:lnTo>
                          <a:pt x="41" y="434"/>
                        </a:lnTo>
                        <a:lnTo>
                          <a:pt x="38" y="415"/>
                        </a:lnTo>
                        <a:lnTo>
                          <a:pt x="37" y="398"/>
                        </a:lnTo>
                        <a:lnTo>
                          <a:pt x="36" y="362"/>
                        </a:lnTo>
                        <a:lnTo>
                          <a:pt x="37" y="325"/>
                        </a:lnTo>
                        <a:lnTo>
                          <a:pt x="41" y="290"/>
                        </a:lnTo>
                        <a:lnTo>
                          <a:pt x="49" y="255"/>
                        </a:lnTo>
                        <a:lnTo>
                          <a:pt x="62" y="223"/>
                        </a:lnTo>
                        <a:lnTo>
                          <a:pt x="76" y="191"/>
                        </a:lnTo>
                        <a:lnTo>
                          <a:pt x="95" y="162"/>
                        </a:lnTo>
                        <a:lnTo>
                          <a:pt x="116" y="132"/>
                        </a:lnTo>
                        <a:lnTo>
                          <a:pt x="142" y="106"/>
                        </a:lnTo>
                        <a:lnTo>
                          <a:pt x="172" y="77"/>
                        </a:lnTo>
                        <a:lnTo>
                          <a:pt x="205" y="54"/>
                        </a:lnTo>
                        <a:lnTo>
                          <a:pt x="239" y="34"/>
                        </a:lnTo>
                        <a:lnTo>
                          <a:pt x="276" y="20"/>
                        </a:lnTo>
                        <a:lnTo>
                          <a:pt x="231" y="0"/>
                        </a:lnTo>
                        <a:close/>
                      </a:path>
                    </a:pathLst>
                  </a:custGeom>
                  <a:solidFill>
                    <a:srgbClr val="466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893200" y="4109400"/>
                    <a:ext cx="20268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799" h="1098">
                        <a:moveTo>
                          <a:pt x="179" y="0"/>
                        </a:moveTo>
                        <a:lnTo>
                          <a:pt x="127" y="8"/>
                        </a:lnTo>
                        <a:lnTo>
                          <a:pt x="96" y="51"/>
                        </a:lnTo>
                        <a:lnTo>
                          <a:pt x="71" y="98"/>
                        </a:lnTo>
                        <a:lnTo>
                          <a:pt x="49" y="145"/>
                        </a:lnTo>
                        <a:lnTo>
                          <a:pt x="32" y="195"/>
                        </a:lnTo>
                        <a:lnTo>
                          <a:pt x="17" y="245"/>
                        </a:lnTo>
                        <a:lnTo>
                          <a:pt x="8" y="298"/>
                        </a:lnTo>
                        <a:lnTo>
                          <a:pt x="1" y="352"/>
                        </a:lnTo>
                        <a:lnTo>
                          <a:pt x="0" y="408"/>
                        </a:lnTo>
                        <a:lnTo>
                          <a:pt x="0" y="442"/>
                        </a:lnTo>
                        <a:lnTo>
                          <a:pt x="2" y="477"/>
                        </a:lnTo>
                        <a:lnTo>
                          <a:pt x="6" y="511"/>
                        </a:lnTo>
                        <a:lnTo>
                          <a:pt x="12" y="545"/>
                        </a:lnTo>
                        <a:lnTo>
                          <a:pt x="18" y="577"/>
                        </a:lnTo>
                        <a:lnTo>
                          <a:pt x="27" y="610"/>
                        </a:lnTo>
                        <a:lnTo>
                          <a:pt x="37" y="641"/>
                        </a:lnTo>
                        <a:lnTo>
                          <a:pt x="50" y="672"/>
                        </a:lnTo>
                        <a:lnTo>
                          <a:pt x="62" y="702"/>
                        </a:lnTo>
                        <a:lnTo>
                          <a:pt x="78" y="731"/>
                        </a:lnTo>
                        <a:lnTo>
                          <a:pt x="94" y="760"/>
                        </a:lnTo>
                        <a:lnTo>
                          <a:pt x="113" y="789"/>
                        </a:lnTo>
                        <a:lnTo>
                          <a:pt x="133" y="816"/>
                        </a:lnTo>
                        <a:lnTo>
                          <a:pt x="154" y="843"/>
                        </a:lnTo>
                        <a:lnTo>
                          <a:pt x="177" y="870"/>
                        </a:lnTo>
                        <a:lnTo>
                          <a:pt x="203" y="897"/>
                        </a:lnTo>
                        <a:lnTo>
                          <a:pt x="228" y="921"/>
                        </a:lnTo>
                        <a:lnTo>
                          <a:pt x="254" y="943"/>
                        </a:lnTo>
                        <a:lnTo>
                          <a:pt x="280" y="964"/>
                        </a:lnTo>
                        <a:lnTo>
                          <a:pt x="308" y="984"/>
                        </a:lnTo>
                        <a:lnTo>
                          <a:pt x="336" y="1002"/>
                        </a:lnTo>
                        <a:lnTo>
                          <a:pt x="365" y="1019"/>
                        </a:lnTo>
                        <a:lnTo>
                          <a:pt x="395" y="1034"/>
                        </a:lnTo>
                        <a:lnTo>
                          <a:pt x="425" y="1047"/>
                        </a:lnTo>
                        <a:lnTo>
                          <a:pt x="456" y="1059"/>
                        </a:lnTo>
                        <a:lnTo>
                          <a:pt x="488" y="1069"/>
                        </a:lnTo>
                        <a:lnTo>
                          <a:pt x="552" y="1085"/>
                        </a:lnTo>
                        <a:lnTo>
                          <a:pt x="585" y="1091"/>
                        </a:lnTo>
                        <a:lnTo>
                          <a:pt x="619" y="1095"/>
                        </a:lnTo>
                        <a:lnTo>
                          <a:pt x="654" y="1097"/>
                        </a:lnTo>
                        <a:lnTo>
                          <a:pt x="691" y="1098"/>
                        </a:lnTo>
                        <a:lnTo>
                          <a:pt x="709" y="1097"/>
                        </a:lnTo>
                        <a:lnTo>
                          <a:pt x="728" y="1097"/>
                        </a:lnTo>
                        <a:lnTo>
                          <a:pt x="765" y="1095"/>
                        </a:lnTo>
                        <a:lnTo>
                          <a:pt x="799" y="1054"/>
                        </a:lnTo>
                        <a:lnTo>
                          <a:pt x="745" y="1060"/>
                        </a:lnTo>
                        <a:lnTo>
                          <a:pt x="691" y="1062"/>
                        </a:lnTo>
                        <a:lnTo>
                          <a:pt x="657" y="1061"/>
                        </a:lnTo>
                        <a:lnTo>
                          <a:pt x="624" y="1059"/>
                        </a:lnTo>
                        <a:lnTo>
                          <a:pt x="559" y="1050"/>
                        </a:lnTo>
                        <a:lnTo>
                          <a:pt x="497" y="1034"/>
                        </a:lnTo>
                        <a:lnTo>
                          <a:pt x="439" y="1013"/>
                        </a:lnTo>
                        <a:lnTo>
                          <a:pt x="381" y="986"/>
                        </a:lnTo>
                        <a:lnTo>
                          <a:pt x="354" y="970"/>
                        </a:lnTo>
                        <a:lnTo>
                          <a:pt x="328" y="953"/>
                        </a:lnTo>
                        <a:lnTo>
                          <a:pt x="277" y="915"/>
                        </a:lnTo>
                        <a:lnTo>
                          <a:pt x="252" y="893"/>
                        </a:lnTo>
                        <a:lnTo>
                          <a:pt x="228" y="871"/>
                        </a:lnTo>
                        <a:lnTo>
                          <a:pt x="203" y="845"/>
                        </a:lnTo>
                        <a:lnTo>
                          <a:pt x="181" y="820"/>
                        </a:lnTo>
                        <a:lnTo>
                          <a:pt x="161" y="794"/>
                        </a:lnTo>
                        <a:lnTo>
                          <a:pt x="143" y="769"/>
                        </a:lnTo>
                        <a:lnTo>
                          <a:pt x="125" y="741"/>
                        </a:lnTo>
                        <a:lnTo>
                          <a:pt x="110" y="714"/>
                        </a:lnTo>
                        <a:lnTo>
                          <a:pt x="95" y="686"/>
                        </a:lnTo>
                        <a:lnTo>
                          <a:pt x="84" y="659"/>
                        </a:lnTo>
                        <a:lnTo>
                          <a:pt x="71" y="628"/>
                        </a:lnTo>
                        <a:lnTo>
                          <a:pt x="62" y="599"/>
                        </a:lnTo>
                        <a:lnTo>
                          <a:pt x="53" y="568"/>
                        </a:lnTo>
                        <a:lnTo>
                          <a:pt x="48" y="537"/>
                        </a:lnTo>
                        <a:lnTo>
                          <a:pt x="42" y="505"/>
                        </a:lnTo>
                        <a:lnTo>
                          <a:pt x="39" y="473"/>
                        </a:lnTo>
                        <a:lnTo>
                          <a:pt x="36" y="440"/>
                        </a:lnTo>
                        <a:lnTo>
                          <a:pt x="36" y="408"/>
                        </a:lnTo>
                        <a:lnTo>
                          <a:pt x="37" y="350"/>
                        </a:lnTo>
                        <a:lnTo>
                          <a:pt x="44" y="295"/>
                        </a:lnTo>
                        <a:lnTo>
                          <a:pt x="56" y="240"/>
                        </a:lnTo>
                        <a:lnTo>
                          <a:pt x="71" y="189"/>
                        </a:lnTo>
                        <a:lnTo>
                          <a:pt x="91" y="138"/>
                        </a:lnTo>
                        <a:lnTo>
                          <a:pt x="116" y="91"/>
                        </a:lnTo>
                        <a:lnTo>
                          <a:pt x="145" y="44"/>
                        </a:lnTo>
                        <a:lnTo>
                          <a:pt x="179" y="0"/>
                        </a:lnTo>
                        <a:close/>
                      </a:path>
                    </a:pathLst>
                  </a:custGeom>
                  <a:solidFill>
                    <a:srgbClr val="2c4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5994720" y="4140000"/>
                    <a:ext cx="1332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24" h="580">
                        <a:moveTo>
                          <a:pt x="37" y="288"/>
                        </a:moveTo>
                        <a:lnTo>
                          <a:pt x="38" y="261"/>
                        </a:lnTo>
                        <a:lnTo>
                          <a:pt x="41" y="236"/>
                        </a:lnTo>
                        <a:lnTo>
                          <a:pt x="47" y="212"/>
                        </a:lnTo>
                        <a:lnTo>
                          <a:pt x="55" y="190"/>
                        </a:lnTo>
                        <a:lnTo>
                          <a:pt x="65" y="167"/>
                        </a:lnTo>
                        <a:lnTo>
                          <a:pt x="77" y="147"/>
                        </a:lnTo>
                        <a:lnTo>
                          <a:pt x="92" y="127"/>
                        </a:lnTo>
                        <a:lnTo>
                          <a:pt x="110" y="109"/>
                        </a:lnTo>
                        <a:lnTo>
                          <a:pt x="128" y="90"/>
                        </a:lnTo>
                        <a:lnTo>
                          <a:pt x="149" y="75"/>
                        </a:lnTo>
                        <a:lnTo>
                          <a:pt x="169" y="63"/>
                        </a:lnTo>
                        <a:lnTo>
                          <a:pt x="192" y="52"/>
                        </a:lnTo>
                        <a:lnTo>
                          <a:pt x="215" y="45"/>
                        </a:lnTo>
                        <a:lnTo>
                          <a:pt x="238" y="39"/>
                        </a:lnTo>
                        <a:lnTo>
                          <a:pt x="263" y="35"/>
                        </a:lnTo>
                        <a:lnTo>
                          <a:pt x="291" y="34"/>
                        </a:lnTo>
                        <a:lnTo>
                          <a:pt x="296" y="34"/>
                        </a:lnTo>
                        <a:lnTo>
                          <a:pt x="253" y="0"/>
                        </a:lnTo>
                        <a:lnTo>
                          <a:pt x="228" y="4"/>
                        </a:lnTo>
                        <a:lnTo>
                          <a:pt x="206" y="9"/>
                        </a:lnTo>
                        <a:lnTo>
                          <a:pt x="183" y="16"/>
                        </a:lnTo>
                        <a:lnTo>
                          <a:pt x="162" y="26"/>
                        </a:lnTo>
                        <a:lnTo>
                          <a:pt x="141" y="37"/>
                        </a:lnTo>
                        <a:lnTo>
                          <a:pt x="122" y="50"/>
                        </a:lnTo>
                        <a:lnTo>
                          <a:pt x="102" y="65"/>
                        </a:lnTo>
                        <a:lnTo>
                          <a:pt x="85" y="83"/>
                        </a:lnTo>
                        <a:lnTo>
                          <a:pt x="64" y="103"/>
                        </a:lnTo>
                        <a:lnTo>
                          <a:pt x="47" y="126"/>
                        </a:lnTo>
                        <a:lnTo>
                          <a:pt x="32" y="150"/>
                        </a:lnTo>
                        <a:lnTo>
                          <a:pt x="21" y="176"/>
                        </a:lnTo>
                        <a:lnTo>
                          <a:pt x="11" y="202"/>
                        </a:lnTo>
                        <a:lnTo>
                          <a:pt x="5" y="229"/>
                        </a:lnTo>
                        <a:lnTo>
                          <a:pt x="1" y="258"/>
                        </a:lnTo>
                        <a:lnTo>
                          <a:pt x="0" y="288"/>
                        </a:lnTo>
                        <a:lnTo>
                          <a:pt x="1" y="317"/>
                        </a:lnTo>
                        <a:lnTo>
                          <a:pt x="5" y="345"/>
                        </a:lnTo>
                        <a:lnTo>
                          <a:pt x="11" y="372"/>
                        </a:lnTo>
                        <a:lnTo>
                          <a:pt x="21" y="399"/>
                        </a:lnTo>
                        <a:lnTo>
                          <a:pt x="32" y="424"/>
                        </a:lnTo>
                        <a:lnTo>
                          <a:pt x="47" y="449"/>
                        </a:lnTo>
                        <a:lnTo>
                          <a:pt x="64" y="472"/>
                        </a:lnTo>
                        <a:lnTo>
                          <a:pt x="85" y="495"/>
                        </a:lnTo>
                        <a:lnTo>
                          <a:pt x="106" y="514"/>
                        </a:lnTo>
                        <a:lnTo>
                          <a:pt x="128" y="531"/>
                        </a:lnTo>
                        <a:lnTo>
                          <a:pt x="152" y="546"/>
                        </a:lnTo>
                        <a:lnTo>
                          <a:pt x="178" y="558"/>
                        </a:lnTo>
                        <a:lnTo>
                          <a:pt x="204" y="566"/>
                        </a:lnTo>
                        <a:lnTo>
                          <a:pt x="232" y="574"/>
                        </a:lnTo>
                        <a:lnTo>
                          <a:pt x="260" y="577"/>
                        </a:lnTo>
                        <a:lnTo>
                          <a:pt x="291" y="580"/>
                        </a:lnTo>
                        <a:lnTo>
                          <a:pt x="304" y="578"/>
                        </a:lnTo>
                        <a:lnTo>
                          <a:pt x="311" y="577"/>
                        </a:lnTo>
                        <a:lnTo>
                          <a:pt x="319" y="577"/>
                        </a:lnTo>
                        <a:lnTo>
                          <a:pt x="333" y="575"/>
                        </a:lnTo>
                        <a:lnTo>
                          <a:pt x="339" y="574"/>
                        </a:lnTo>
                        <a:lnTo>
                          <a:pt x="347" y="574"/>
                        </a:lnTo>
                        <a:lnTo>
                          <a:pt x="375" y="566"/>
                        </a:lnTo>
                        <a:lnTo>
                          <a:pt x="402" y="558"/>
                        </a:lnTo>
                        <a:lnTo>
                          <a:pt x="413" y="551"/>
                        </a:lnTo>
                        <a:lnTo>
                          <a:pt x="415" y="549"/>
                        </a:lnTo>
                        <a:lnTo>
                          <a:pt x="417" y="548"/>
                        </a:lnTo>
                        <a:lnTo>
                          <a:pt x="419" y="548"/>
                        </a:lnTo>
                        <a:lnTo>
                          <a:pt x="426" y="546"/>
                        </a:lnTo>
                        <a:lnTo>
                          <a:pt x="451" y="531"/>
                        </a:lnTo>
                        <a:lnTo>
                          <a:pt x="473" y="514"/>
                        </a:lnTo>
                        <a:lnTo>
                          <a:pt x="496" y="495"/>
                        </a:lnTo>
                        <a:lnTo>
                          <a:pt x="503" y="485"/>
                        </a:lnTo>
                        <a:lnTo>
                          <a:pt x="506" y="481"/>
                        </a:lnTo>
                        <a:lnTo>
                          <a:pt x="511" y="478"/>
                        </a:lnTo>
                        <a:lnTo>
                          <a:pt x="524" y="462"/>
                        </a:lnTo>
                        <a:lnTo>
                          <a:pt x="516" y="407"/>
                        </a:lnTo>
                        <a:lnTo>
                          <a:pt x="511" y="414"/>
                        </a:lnTo>
                        <a:lnTo>
                          <a:pt x="506" y="422"/>
                        </a:lnTo>
                        <a:lnTo>
                          <a:pt x="496" y="438"/>
                        </a:lnTo>
                        <a:lnTo>
                          <a:pt x="489" y="445"/>
                        </a:lnTo>
                        <a:lnTo>
                          <a:pt x="487" y="446"/>
                        </a:lnTo>
                        <a:lnTo>
                          <a:pt x="486" y="448"/>
                        </a:lnTo>
                        <a:lnTo>
                          <a:pt x="483" y="453"/>
                        </a:lnTo>
                        <a:lnTo>
                          <a:pt x="471" y="468"/>
                        </a:lnTo>
                        <a:lnTo>
                          <a:pt x="451" y="485"/>
                        </a:lnTo>
                        <a:lnTo>
                          <a:pt x="440" y="492"/>
                        </a:lnTo>
                        <a:lnTo>
                          <a:pt x="431" y="500"/>
                        </a:lnTo>
                        <a:lnTo>
                          <a:pt x="420" y="506"/>
                        </a:lnTo>
                        <a:lnTo>
                          <a:pt x="410" y="513"/>
                        </a:lnTo>
                        <a:lnTo>
                          <a:pt x="398" y="517"/>
                        </a:lnTo>
                        <a:lnTo>
                          <a:pt x="393" y="519"/>
                        </a:lnTo>
                        <a:lnTo>
                          <a:pt x="388" y="523"/>
                        </a:lnTo>
                        <a:lnTo>
                          <a:pt x="381" y="524"/>
                        </a:lnTo>
                        <a:lnTo>
                          <a:pt x="376" y="526"/>
                        </a:lnTo>
                        <a:lnTo>
                          <a:pt x="364" y="531"/>
                        </a:lnTo>
                        <a:lnTo>
                          <a:pt x="352" y="533"/>
                        </a:lnTo>
                        <a:lnTo>
                          <a:pt x="341" y="536"/>
                        </a:lnTo>
                        <a:lnTo>
                          <a:pt x="316" y="540"/>
                        </a:lnTo>
                        <a:lnTo>
                          <a:pt x="291" y="542"/>
                        </a:lnTo>
                        <a:lnTo>
                          <a:pt x="263" y="540"/>
                        </a:lnTo>
                        <a:lnTo>
                          <a:pt x="238" y="536"/>
                        </a:lnTo>
                        <a:lnTo>
                          <a:pt x="215" y="531"/>
                        </a:lnTo>
                        <a:lnTo>
                          <a:pt x="192" y="523"/>
                        </a:lnTo>
                        <a:lnTo>
                          <a:pt x="169" y="513"/>
                        </a:lnTo>
                        <a:lnTo>
                          <a:pt x="149" y="500"/>
                        </a:lnTo>
                        <a:lnTo>
                          <a:pt x="128" y="485"/>
                        </a:lnTo>
                        <a:lnTo>
                          <a:pt x="110" y="468"/>
                        </a:lnTo>
                        <a:lnTo>
                          <a:pt x="92" y="448"/>
                        </a:lnTo>
                        <a:lnTo>
                          <a:pt x="77" y="429"/>
                        </a:lnTo>
                        <a:lnTo>
                          <a:pt x="65" y="407"/>
                        </a:lnTo>
                        <a:lnTo>
                          <a:pt x="55" y="386"/>
                        </a:lnTo>
                        <a:lnTo>
                          <a:pt x="47" y="362"/>
                        </a:lnTo>
                        <a:lnTo>
                          <a:pt x="41" y="338"/>
                        </a:lnTo>
                        <a:lnTo>
                          <a:pt x="38" y="313"/>
                        </a:lnTo>
                        <a:lnTo>
                          <a:pt x="37" y="288"/>
                        </a:lnTo>
                        <a:close/>
                      </a:path>
                    </a:pathLst>
                  </a:custGeom>
                  <a:solidFill>
                    <a:srgbClr val="4f7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6004080" y="4148640"/>
                    <a:ext cx="1216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9" h="508">
                        <a:moveTo>
                          <a:pt x="73" y="75"/>
                        </a:moveTo>
                        <a:lnTo>
                          <a:pt x="55" y="93"/>
                        </a:lnTo>
                        <a:lnTo>
                          <a:pt x="40" y="113"/>
                        </a:lnTo>
                        <a:lnTo>
                          <a:pt x="28" y="133"/>
                        </a:lnTo>
                        <a:lnTo>
                          <a:pt x="18" y="156"/>
                        </a:lnTo>
                        <a:lnTo>
                          <a:pt x="10" y="178"/>
                        </a:lnTo>
                        <a:lnTo>
                          <a:pt x="4" y="202"/>
                        </a:lnTo>
                        <a:lnTo>
                          <a:pt x="1" y="227"/>
                        </a:lnTo>
                        <a:lnTo>
                          <a:pt x="0" y="254"/>
                        </a:lnTo>
                        <a:lnTo>
                          <a:pt x="1" y="279"/>
                        </a:lnTo>
                        <a:lnTo>
                          <a:pt x="4" y="304"/>
                        </a:lnTo>
                        <a:lnTo>
                          <a:pt x="10" y="328"/>
                        </a:lnTo>
                        <a:lnTo>
                          <a:pt x="18" y="352"/>
                        </a:lnTo>
                        <a:lnTo>
                          <a:pt x="28" y="373"/>
                        </a:lnTo>
                        <a:lnTo>
                          <a:pt x="40" y="395"/>
                        </a:lnTo>
                        <a:lnTo>
                          <a:pt x="55" y="414"/>
                        </a:lnTo>
                        <a:lnTo>
                          <a:pt x="73" y="434"/>
                        </a:lnTo>
                        <a:lnTo>
                          <a:pt x="91" y="451"/>
                        </a:lnTo>
                        <a:lnTo>
                          <a:pt x="112" y="466"/>
                        </a:lnTo>
                        <a:lnTo>
                          <a:pt x="132" y="479"/>
                        </a:lnTo>
                        <a:lnTo>
                          <a:pt x="155" y="489"/>
                        </a:lnTo>
                        <a:lnTo>
                          <a:pt x="178" y="497"/>
                        </a:lnTo>
                        <a:lnTo>
                          <a:pt x="201" y="502"/>
                        </a:lnTo>
                        <a:lnTo>
                          <a:pt x="226" y="506"/>
                        </a:lnTo>
                        <a:lnTo>
                          <a:pt x="254" y="508"/>
                        </a:lnTo>
                        <a:lnTo>
                          <a:pt x="279" y="506"/>
                        </a:lnTo>
                        <a:lnTo>
                          <a:pt x="304" y="502"/>
                        </a:lnTo>
                        <a:lnTo>
                          <a:pt x="315" y="499"/>
                        </a:lnTo>
                        <a:lnTo>
                          <a:pt x="327" y="497"/>
                        </a:lnTo>
                        <a:lnTo>
                          <a:pt x="339" y="492"/>
                        </a:lnTo>
                        <a:lnTo>
                          <a:pt x="344" y="490"/>
                        </a:lnTo>
                        <a:lnTo>
                          <a:pt x="351" y="489"/>
                        </a:lnTo>
                        <a:lnTo>
                          <a:pt x="356" y="485"/>
                        </a:lnTo>
                        <a:lnTo>
                          <a:pt x="361" y="483"/>
                        </a:lnTo>
                        <a:lnTo>
                          <a:pt x="373" y="479"/>
                        </a:lnTo>
                        <a:lnTo>
                          <a:pt x="383" y="472"/>
                        </a:lnTo>
                        <a:lnTo>
                          <a:pt x="394" y="466"/>
                        </a:lnTo>
                        <a:lnTo>
                          <a:pt x="403" y="458"/>
                        </a:lnTo>
                        <a:lnTo>
                          <a:pt x="414" y="451"/>
                        </a:lnTo>
                        <a:lnTo>
                          <a:pt x="434" y="434"/>
                        </a:lnTo>
                        <a:lnTo>
                          <a:pt x="446" y="419"/>
                        </a:lnTo>
                        <a:lnTo>
                          <a:pt x="449" y="414"/>
                        </a:lnTo>
                        <a:lnTo>
                          <a:pt x="450" y="412"/>
                        </a:lnTo>
                        <a:lnTo>
                          <a:pt x="452" y="411"/>
                        </a:lnTo>
                        <a:lnTo>
                          <a:pt x="459" y="404"/>
                        </a:lnTo>
                        <a:lnTo>
                          <a:pt x="469" y="388"/>
                        </a:lnTo>
                        <a:lnTo>
                          <a:pt x="474" y="380"/>
                        </a:lnTo>
                        <a:lnTo>
                          <a:pt x="479" y="373"/>
                        </a:lnTo>
                        <a:lnTo>
                          <a:pt x="472" y="341"/>
                        </a:lnTo>
                        <a:lnTo>
                          <a:pt x="465" y="312"/>
                        </a:lnTo>
                        <a:lnTo>
                          <a:pt x="460" y="324"/>
                        </a:lnTo>
                        <a:lnTo>
                          <a:pt x="455" y="338"/>
                        </a:lnTo>
                        <a:lnTo>
                          <a:pt x="443" y="363"/>
                        </a:lnTo>
                        <a:lnTo>
                          <a:pt x="427" y="386"/>
                        </a:lnTo>
                        <a:lnTo>
                          <a:pt x="408" y="408"/>
                        </a:lnTo>
                        <a:lnTo>
                          <a:pt x="399" y="415"/>
                        </a:lnTo>
                        <a:lnTo>
                          <a:pt x="394" y="419"/>
                        </a:lnTo>
                        <a:lnTo>
                          <a:pt x="391" y="423"/>
                        </a:lnTo>
                        <a:lnTo>
                          <a:pt x="382" y="429"/>
                        </a:lnTo>
                        <a:lnTo>
                          <a:pt x="374" y="436"/>
                        </a:lnTo>
                        <a:lnTo>
                          <a:pt x="356" y="446"/>
                        </a:lnTo>
                        <a:lnTo>
                          <a:pt x="338" y="456"/>
                        </a:lnTo>
                        <a:lnTo>
                          <a:pt x="317" y="463"/>
                        </a:lnTo>
                        <a:lnTo>
                          <a:pt x="297" y="468"/>
                        </a:lnTo>
                        <a:lnTo>
                          <a:pt x="285" y="470"/>
                        </a:lnTo>
                        <a:lnTo>
                          <a:pt x="275" y="472"/>
                        </a:lnTo>
                        <a:lnTo>
                          <a:pt x="264" y="472"/>
                        </a:lnTo>
                        <a:lnTo>
                          <a:pt x="258" y="472"/>
                        </a:lnTo>
                        <a:lnTo>
                          <a:pt x="254" y="473"/>
                        </a:lnTo>
                        <a:lnTo>
                          <a:pt x="231" y="472"/>
                        </a:lnTo>
                        <a:lnTo>
                          <a:pt x="209" y="468"/>
                        </a:lnTo>
                        <a:lnTo>
                          <a:pt x="189" y="463"/>
                        </a:lnTo>
                        <a:lnTo>
                          <a:pt x="170" y="456"/>
                        </a:lnTo>
                        <a:lnTo>
                          <a:pt x="150" y="446"/>
                        </a:lnTo>
                        <a:lnTo>
                          <a:pt x="132" y="436"/>
                        </a:lnTo>
                        <a:lnTo>
                          <a:pt x="115" y="423"/>
                        </a:lnTo>
                        <a:lnTo>
                          <a:pt x="99" y="408"/>
                        </a:lnTo>
                        <a:lnTo>
                          <a:pt x="84" y="391"/>
                        </a:lnTo>
                        <a:lnTo>
                          <a:pt x="71" y="374"/>
                        </a:lnTo>
                        <a:lnTo>
                          <a:pt x="60" y="356"/>
                        </a:lnTo>
                        <a:lnTo>
                          <a:pt x="52" y="338"/>
                        </a:lnTo>
                        <a:lnTo>
                          <a:pt x="44" y="318"/>
                        </a:lnTo>
                        <a:lnTo>
                          <a:pt x="39" y="297"/>
                        </a:lnTo>
                        <a:lnTo>
                          <a:pt x="36" y="276"/>
                        </a:lnTo>
                        <a:lnTo>
                          <a:pt x="36" y="254"/>
                        </a:lnTo>
                        <a:lnTo>
                          <a:pt x="39" y="210"/>
                        </a:lnTo>
                        <a:lnTo>
                          <a:pt x="52" y="170"/>
                        </a:lnTo>
                        <a:lnTo>
                          <a:pt x="71" y="133"/>
                        </a:lnTo>
                        <a:lnTo>
                          <a:pt x="99" y="100"/>
                        </a:lnTo>
                        <a:lnTo>
                          <a:pt x="132" y="72"/>
                        </a:lnTo>
                        <a:lnTo>
                          <a:pt x="170" y="52"/>
                        </a:lnTo>
                        <a:lnTo>
                          <a:pt x="209" y="40"/>
                        </a:lnTo>
                        <a:lnTo>
                          <a:pt x="254" y="37"/>
                        </a:lnTo>
                        <a:lnTo>
                          <a:pt x="279" y="38"/>
                        </a:lnTo>
                        <a:lnTo>
                          <a:pt x="290" y="39"/>
                        </a:lnTo>
                        <a:lnTo>
                          <a:pt x="302" y="42"/>
                        </a:lnTo>
                        <a:lnTo>
                          <a:pt x="297" y="35"/>
                        </a:lnTo>
                        <a:lnTo>
                          <a:pt x="259" y="0"/>
                        </a:lnTo>
                        <a:lnTo>
                          <a:pt x="254" y="0"/>
                        </a:lnTo>
                        <a:lnTo>
                          <a:pt x="226" y="1"/>
                        </a:lnTo>
                        <a:lnTo>
                          <a:pt x="201" y="5"/>
                        </a:lnTo>
                        <a:lnTo>
                          <a:pt x="178" y="11"/>
                        </a:lnTo>
                        <a:lnTo>
                          <a:pt x="155" y="18"/>
                        </a:lnTo>
                        <a:lnTo>
                          <a:pt x="132" y="29"/>
                        </a:lnTo>
                        <a:lnTo>
                          <a:pt x="112" y="41"/>
                        </a:lnTo>
                        <a:lnTo>
                          <a:pt x="91" y="56"/>
                        </a:lnTo>
                        <a:lnTo>
                          <a:pt x="73" y="75"/>
                        </a:lnTo>
                        <a:close/>
                      </a:path>
                    </a:pathLst>
                  </a:custGeom>
                  <a:solidFill>
                    <a:srgbClr val="52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5985720" y="4132440"/>
                    <a:ext cx="14256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645">
                        <a:moveTo>
                          <a:pt x="36" y="317"/>
                        </a:moveTo>
                        <a:lnTo>
                          <a:pt x="37" y="287"/>
                        </a:lnTo>
                        <a:lnTo>
                          <a:pt x="41" y="258"/>
                        </a:lnTo>
                        <a:lnTo>
                          <a:pt x="47" y="231"/>
                        </a:lnTo>
                        <a:lnTo>
                          <a:pt x="57" y="205"/>
                        </a:lnTo>
                        <a:lnTo>
                          <a:pt x="68" y="179"/>
                        </a:lnTo>
                        <a:lnTo>
                          <a:pt x="83" y="155"/>
                        </a:lnTo>
                        <a:lnTo>
                          <a:pt x="100" y="132"/>
                        </a:lnTo>
                        <a:lnTo>
                          <a:pt x="121" y="112"/>
                        </a:lnTo>
                        <a:lnTo>
                          <a:pt x="138" y="94"/>
                        </a:lnTo>
                        <a:lnTo>
                          <a:pt x="158" y="79"/>
                        </a:lnTo>
                        <a:lnTo>
                          <a:pt x="177" y="66"/>
                        </a:lnTo>
                        <a:lnTo>
                          <a:pt x="198" y="55"/>
                        </a:lnTo>
                        <a:lnTo>
                          <a:pt x="219" y="45"/>
                        </a:lnTo>
                        <a:lnTo>
                          <a:pt x="242" y="38"/>
                        </a:lnTo>
                        <a:lnTo>
                          <a:pt x="264" y="33"/>
                        </a:lnTo>
                        <a:lnTo>
                          <a:pt x="289" y="29"/>
                        </a:lnTo>
                        <a:lnTo>
                          <a:pt x="246" y="0"/>
                        </a:lnTo>
                        <a:lnTo>
                          <a:pt x="204" y="12"/>
                        </a:lnTo>
                        <a:lnTo>
                          <a:pt x="184" y="20"/>
                        </a:lnTo>
                        <a:lnTo>
                          <a:pt x="166" y="32"/>
                        </a:lnTo>
                        <a:lnTo>
                          <a:pt x="128" y="55"/>
                        </a:lnTo>
                        <a:lnTo>
                          <a:pt x="95" y="86"/>
                        </a:lnTo>
                        <a:lnTo>
                          <a:pt x="73" y="110"/>
                        </a:lnTo>
                        <a:lnTo>
                          <a:pt x="53" y="136"/>
                        </a:lnTo>
                        <a:lnTo>
                          <a:pt x="36" y="162"/>
                        </a:lnTo>
                        <a:lnTo>
                          <a:pt x="24" y="191"/>
                        </a:lnTo>
                        <a:lnTo>
                          <a:pt x="13" y="220"/>
                        </a:lnTo>
                        <a:lnTo>
                          <a:pt x="6" y="251"/>
                        </a:lnTo>
                        <a:lnTo>
                          <a:pt x="1" y="283"/>
                        </a:lnTo>
                        <a:lnTo>
                          <a:pt x="0" y="317"/>
                        </a:lnTo>
                        <a:lnTo>
                          <a:pt x="1" y="350"/>
                        </a:lnTo>
                        <a:lnTo>
                          <a:pt x="6" y="382"/>
                        </a:lnTo>
                        <a:lnTo>
                          <a:pt x="8" y="397"/>
                        </a:lnTo>
                        <a:lnTo>
                          <a:pt x="13" y="412"/>
                        </a:lnTo>
                        <a:lnTo>
                          <a:pt x="17" y="427"/>
                        </a:lnTo>
                        <a:lnTo>
                          <a:pt x="24" y="443"/>
                        </a:lnTo>
                        <a:lnTo>
                          <a:pt x="36" y="470"/>
                        </a:lnTo>
                        <a:lnTo>
                          <a:pt x="53" y="497"/>
                        </a:lnTo>
                        <a:lnTo>
                          <a:pt x="73" y="524"/>
                        </a:lnTo>
                        <a:lnTo>
                          <a:pt x="95" y="548"/>
                        </a:lnTo>
                        <a:lnTo>
                          <a:pt x="119" y="570"/>
                        </a:lnTo>
                        <a:lnTo>
                          <a:pt x="145" y="589"/>
                        </a:lnTo>
                        <a:lnTo>
                          <a:pt x="171" y="605"/>
                        </a:lnTo>
                        <a:lnTo>
                          <a:pt x="201" y="620"/>
                        </a:lnTo>
                        <a:lnTo>
                          <a:pt x="229" y="630"/>
                        </a:lnTo>
                        <a:lnTo>
                          <a:pt x="261" y="638"/>
                        </a:lnTo>
                        <a:lnTo>
                          <a:pt x="293" y="643"/>
                        </a:lnTo>
                        <a:lnTo>
                          <a:pt x="327" y="645"/>
                        </a:lnTo>
                        <a:lnTo>
                          <a:pt x="343" y="644"/>
                        </a:lnTo>
                        <a:lnTo>
                          <a:pt x="344" y="643"/>
                        </a:lnTo>
                        <a:lnTo>
                          <a:pt x="346" y="643"/>
                        </a:lnTo>
                        <a:lnTo>
                          <a:pt x="350" y="643"/>
                        </a:lnTo>
                        <a:lnTo>
                          <a:pt x="360" y="643"/>
                        </a:lnTo>
                        <a:lnTo>
                          <a:pt x="391" y="638"/>
                        </a:lnTo>
                        <a:lnTo>
                          <a:pt x="406" y="633"/>
                        </a:lnTo>
                        <a:lnTo>
                          <a:pt x="422" y="630"/>
                        </a:lnTo>
                        <a:lnTo>
                          <a:pt x="429" y="627"/>
                        </a:lnTo>
                        <a:lnTo>
                          <a:pt x="437" y="624"/>
                        </a:lnTo>
                        <a:lnTo>
                          <a:pt x="453" y="620"/>
                        </a:lnTo>
                        <a:lnTo>
                          <a:pt x="480" y="605"/>
                        </a:lnTo>
                        <a:lnTo>
                          <a:pt x="507" y="589"/>
                        </a:lnTo>
                        <a:lnTo>
                          <a:pt x="509" y="586"/>
                        </a:lnTo>
                        <a:lnTo>
                          <a:pt x="513" y="584"/>
                        </a:lnTo>
                        <a:lnTo>
                          <a:pt x="519" y="579"/>
                        </a:lnTo>
                        <a:lnTo>
                          <a:pt x="533" y="570"/>
                        </a:lnTo>
                        <a:lnTo>
                          <a:pt x="558" y="548"/>
                        </a:lnTo>
                        <a:lnTo>
                          <a:pt x="564" y="543"/>
                        </a:lnTo>
                        <a:lnTo>
                          <a:pt x="563" y="516"/>
                        </a:lnTo>
                        <a:lnTo>
                          <a:pt x="560" y="491"/>
                        </a:lnTo>
                        <a:lnTo>
                          <a:pt x="547" y="507"/>
                        </a:lnTo>
                        <a:lnTo>
                          <a:pt x="542" y="510"/>
                        </a:lnTo>
                        <a:lnTo>
                          <a:pt x="539" y="514"/>
                        </a:lnTo>
                        <a:lnTo>
                          <a:pt x="532" y="524"/>
                        </a:lnTo>
                        <a:lnTo>
                          <a:pt x="509" y="543"/>
                        </a:lnTo>
                        <a:lnTo>
                          <a:pt x="487" y="560"/>
                        </a:lnTo>
                        <a:lnTo>
                          <a:pt x="462" y="575"/>
                        </a:lnTo>
                        <a:lnTo>
                          <a:pt x="455" y="577"/>
                        </a:lnTo>
                        <a:lnTo>
                          <a:pt x="453" y="577"/>
                        </a:lnTo>
                        <a:lnTo>
                          <a:pt x="451" y="578"/>
                        </a:lnTo>
                        <a:lnTo>
                          <a:pt x="449" y="580"/>
                        </a:lnTo>
                        <a:lnTo>
                          <a:pt x="438" y="587"/>
                        </a:lnTo>
                        <a:lnTo>
                          <a:pt x="411" y="595"/>
                        </a:lnTo>
                        <a:lnTo>
                          <a:pt x="383" y="603"/>
                        </a:lnTo>
                        <a:lnTo>
                          <a:pt x="375" y="603"/>
                        </a:lnTo>
                        <a:lnTo>
                          <a:pt x="369" y="604"/>
                        </a:lnTo>
                        <a:lnTo>
                          <a:pt x="355" y="606"/>
                        </a:lnTo>
                        <a:lnTo>
                          <a:pt x="347" y="606"/>
                        </a:lnTo>
                        <a:lnTo>
                          <a:pt x="340" y="607"/>
                        </a:lnTo>
                        <a:lnTo>
                          <a:pt x="327" y="609"/>
                        </a:lnTo>
                        <a:lnTo>
                          <a:pt x="296" y="606"/>
                        </a:lnTo>
                        <a:lnTo>
                          <a:pt x="268" y="603"/>
                        </a:lnTo>
                        <a:lnTo>
                          <a:pt x="240" y="595"/>
                        </a:lnTo>
                        <a:lnTo>
                          <a:pt x="214" y="587"/>
                        </a:lnTo>
                        <a:lnTo>
                          <a:pt x="188" y="575"/>
                        </a:lnTo>
                        <a:lnTo>
                          <a:pt x="164" y="560"/>
                        </a:lnTo>
                        <a:lnTo>
                          <a:pt x="142" y="543"/>
                        </a:lnTo>
                        <a:lnTo>
                          <a:pt x="121" y="524"/>
                        </a:lnTo>
                        <a:lnTo>
                          <a:pt x="100" y="501"/>
                        </a:lnTo>
                        <a:lnTo>
                          <a:pt x="83" y="478"/>
                        </a:lnTo>
                        <a:lnTo>
                          <a:pt x="68" y="453"/>
                        </a:lnTo>
                        <a:lnTo>
                          <a:pt x="57" y="428"/>
                        </a:lnTo>
                        <a:lnTo>
                          <a:pt x="47" y="401"/>
                        </a:lnTo>
                        <a:lnTo>
                          <a:pt x="41" y="374"/>
                        </a:lnTo>
                        <a:lnTo>
                          <a:pt x="37" y="346"/>
                        </a:lnTo>
                        <a:lnTo>
                          <a:pt x="36" y="317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5976000" y="4126320"/>
                    <a:ext cx="15300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706">
                        <a:moveTo>
                          <a:pt x="37" y="342"/>
                        </a:moveTo>
                        <a:lnTo>
                          <a:pt x="38" y="308"/>
                        </a:lnTo>
                        <a:lnTo>
                          <a:pt x="43" y="276"/>
                        </a:lnTo>
                        <a:lnTo>
                          <a:pt x="50" y="245"/>
                        </a:lnTo>
                        <a:lnTo>
                          <a:pt x="61" y="216"/>
                        </a:lnTo>
                        <a:lnTo>
                          <a:pt x="73" y="187"/>
                        </a:lnTo>
                        <a:lnTo>
                          <a:pt x="90" y="161"/>
                        </a:lnTo>
                        <a:lnTo>
                          <a:pt x="110" y="135"/>
                        </a:lnTo>
                        <a:lnTo>
                          <a:pt x="132" y="111"/>
                        </a:lnTo>
                        <a:lnTo>
                          <a:pt x="165" y="80"/>
                        </a:lnTo>
                        <a:lnTo>
                          <a:pt x="203" y="57"/>
                        </a:lnTo>
                        <a:lnTo>
                          <a:pt x="221" y="45"/>
                        </a:lnTo>
                        <a:lnTo>
                          <a:pt x="241" y="37"/>
                        </a:lnTo>
                        <a:lnTo>
                          <a:pt x="283" y="25"/>
                        </a:lnTo>
                        <a:lnTo>
                          <a:pt x="240" y="0"/>
                        </a:lnTo>
                        <a:lnTo>
                          <a:pt x="203" y="14"/>
                        </a:lnTo>
                        <a:lnTo>
                          <a:pt x="169" y="34"/>
                        </a:lnTo>
                        <a:lnTo>
                          <a:pt x="136" y="57"/>
                        </a:lnTo>
                        <a:lnTo>
                          <a:pt x="106" y="86"/>
                        </a:lnTo>
                        <a:lnTo>
                          <a:pt x="80" y="112"/>
                        </a:lnTo>
                        <a:lnTo>
                          <a:pt x="59" y="142"/>
                        </a:lnTo>
                        <a:lnTo>
                          <a:pt x="40" y="171"/>
                        </a:lnTo>
                        <a:lnTo>
                          <a:pt x="26" y="203"/>
                        </a:lnTo>
                        <a:lnTo>
                          <a:pt x="13" y="235"/>
                        </a:lnTo>
                        <a:lnTo>
                          <a:pt x="5" y="270"/>
                        </a:lnTo>
                        <a:lnTo>
                          <a:pt x="1" y="305"/>
                        </a:lnTo>
                        <a:lnTo>
                          <a:pt x="0" y="342"/>
                        </a:lnTo>
                        <a:lnTo>
                          <a:pt x="1" y="378"/>
                        </a:lnTo>
                        <a:lnTo>
                          <a:pt x="2" y="395"/>
                        </a:lnTo>
                        <a:lnTo>
                          <a:pt x="5" y="414"/>
                        </a:lnTo>
                        <a:lnTo>
                          <a:pt x="13" y="448"/>
                        </a:lnTo>
                        <a:lnTo>
                          <a:pt x="26" y="482"/>
                        </a:lnTo>
                        <a:lnTo>
                          <a:pt x="40" y="512"/>
                        </a:lnTo>
                        <a:lnTo>
                          <a:pt x="48" y="527"/>
                        </a:lnTo>
                        <a:lnTo>
                          <a:pt x="59" y="543"/>
                        </a:lnTo>
                        <a:lnTo>
                          <a:pt x="80" y="571"/>
                        </a:lnTo>
                        <a:lnTo>
                          <a:pt x="106" y="600"/>
                        </a:lnTo>
                        <a:lnTo>
                          <a:pt x="132" y="623"/>
                        </a:lnTo>
                        <a:lnTo>
                          <a:pt x="162" y="645"/>
                        </a:lnTo>
                        <a:lnTo>
                          <a:pt x="191" y="663"/>
                        </a:lnTo>
                        <a:lnTo>
                          <a:pt x="223" y="679"/>
                        </a:lnTo>
                        <a:lnTo>
                          <a:pt x="255" y="690"/>
                        </a:lnTo>
                        <a:lnTo>
                          <a:pt x="290" y="699"/>
                        </a:lnTo>
                        <a:lnTo>
                          <a:pt x="325" y="704"/>
                        </a:lnTo>
                        <a:lnTo>
                          <a:pt x="364" y="706"/>
                        </a:lnTo>
                        <a:lnTo>
                          <a:pt x="380" y="705"/>
                        </a:lnTo>
                        <a:lnTo>
                          <a:pt x="381" y="704"/>
                        </a:lnTo>
                        <a:lnTo>
                          <a:pt x="383" y="704"/>
                        </a:lnTo>
                        <a:lnTo>
                          <a:pt x="387" y="704"/>
                        </a:lnTo>
                        <a:lnTo>
                          <a:pt x="397" y="704"/>
                        </a:lnTo>
                        <a:lnTo>
                          <a:pt x="412" y="702"/>
                        </a:lnTo>
                        <a:lnTo>
                          <a:pt x="414" y="700"/>
                        </a:lnTo>
                        <a:lnTo>
                          <a:pt x="416" y="700"/>
                        </a:lnTo>
                        <a:lnTo>
                          <a:pt x="420" y="700"/>
                        </a:lnTo>
                        <a:lnTo>
                          <a:pt x="429" y="700"/>
                        </a:lnTo>
                        <a:lnTo>
                          <a:pt x="444" y="696"/>
                        </a:lnTo>
                        <a:lnTo>
                          <a:pt x="460" y="692"/>
                        </a:lnTo>
                        <a:lnTo>
                          <a:pt x="475" y="688"/>
                        </a:lnTo>
                        <a:lnTo>
                          <a:pt x="491" y="683"/>
                        </a:lnTo>
                        <a:lnTo>
                          <a:pt x="504" y="677"/>
                        </a:lnTo>
                        <a:lnTo>
                          <a:pt x="519" y="670"/>
                        </a:lnTo>
                        <a:lnTo>
                          <a:pt x="533" y="662"/>
                        </a:lnTo>
                        <a:lnTo>
                          <a:pt x="547" y="655"/>
                        </a:lnTo>
                        <a:lnTo>
                          <a:pt x="575" y="637"/>
                        </a:lnTo>
                        <a:lnTo>
                          <a:pt x="602" y="618"/>
                        </a:lnTo>
                        <a:lnTo>
                          <a:pt x="602" y="594"/>
                        </a:lnTo>
                        <a:lnTo>
                          <a:pt x="601" y="568"/>
                        </a:lnTo>
                        <a:lnTo>
                          <a:pt x="595" y="573"/>
                        </a:lnTo>
                        <a:lnTo>
                          <a:pt x="570" y="595"/>
                        </a:lnTo>
                        <a:lnTo>
                          <a:pt x="556" y="604"/>
                        </a:lnTo>
                        <a:lnTo>
                          <a:pt x="550" y="609"/>
                        </a:lnTo>
                        <a:lnTo>
                          <a:pt x="546" y="611"/>
                        </a:lnTo>
                        <a:lnTo>
                          <a:pt x="544" y="614"/>
                        </a:lnTo>
                        <a:lnTo>
                          <a:pt x="517" y="630"/>
                        </a:lnTo>
                        <a:lnTo>
                          <a:pt x="490" y="645"/>
                        </a:lnTo>
                        <a:lnTo>
                          <a:pt x="474" y="649"/>
                        </a:lnTo>
                        <a:lnTo>
                          <a:pt x="466" y="652"/>
                        </a:lnTo>
                        <a:lnTo>
                          <a:pt x="459" y="655"/>
                        </a:lnTo>
                        <a:lnTo>
                          <a:pt x="443" y="658"/>
                        </a:lnTo>
                        <a:lnTo>
                          <a:pt x="428" y="663"/>
                        </a:lnTo>
                        <a:lnTo>
                          <a:pt x="397" y="668"/>
                        </a:lnTo>
                        <a:lnTo>
                          <a:pt x="387" y="668"/>
                        </a:lnTo>
                        <a:lnTo>
                          <a:pt x="383" y="668"/>
                        </a:lnTo>
                        <a:lnTo>
                          <a:pt x="381" y="668"/>
                        </a:lnTo>
                        <a:lnTo>
                          <a:pt x="380" y="669"/>
                        </a:lnTo>
                        <a:lnTo>
                          <a:pt x="364" y="670"/>
                        </a:lnTo>
                        <a:lnTo>
                          <a:pt x="330" y="668"/>
                        </a:lnTo>
                        <a:lnTo>
                          <a:pt x="298" y="663"/>
                        </a:lnTo>
                        <a:lnTo>
                          <a:pt x="266" y="655"/>
                        </a:lnTo>
                        <a:lnTo>
                          <a:pt x="238" y="645"/>
                        </a:lnTo>
                        <a:lnTo>
                          <a:pt x="208" y="630"/>
                        </a:lnTo>
                        <a:lnTo>
                          <a:pt x="182" y="614"/>
                        </a:lnTo>
                        <a:lnTo>
                          <a:pt x="156" y="595"/>
                        </a:lnTo>
                        <a:lnTo>
                          <a:pt x="132" y="573"/>
                        </a:lnTo>
                        <a:lnTo>
                          <a:pt x="110" y="549"/>
                        </a:lnTo>
                        <a:lnTo>
                          <a:pt x="90" y="522"/>
                        </a:lnTo>
                        <a:lnTo>
                          <a:pt x="73" y="495"/>
                        </a:lnTo>
                        <a:lnTo>
                          <a:pt x="61" y="468"/>
                        </a:lnTo>
                        <a:lnTo>
                          <a:pt x="54" y="452"/>
                        </a:lnTo>
                        <a:lnTo>
                          <a:pt x="50" y="437"/>
                        </a:lnTo>
                        <a:lnTo>
                          <a:pt x="45" y="422"/>
                        </a:lnTo>
                        <a:lnTo>
                          <a:pt x="43" y="407"/>
                        </a:lnTo>
                        <a:lnTo>
                          <a:pt x="38" y="375"/>
                        </a:lnTo>
                        <a:lnTo>
                          <a:pt x="37" y="342"/>
                        </a:lnTo>
                        <a:close/>
                      </a:path>
                    </a:pathLst>
                  </a:custGeom>
                  <a:solidFill>
                    <a:srgbClr val="496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5902560" y="4108680"/>
                    <a:ext cx="201240" cy="270720"/>
                  </a:xfrm>
                  <a:custGeom>
                    <a:avLst/>
                    <a:gdLst/>
                    <a:ahLst/>
                    <a:rect l="l" t="t" r="r" b="b"/>
                    <a:pathLst>
                      <a:path w="793" h="1065">
                        <a:moveTo>
                          <a:pt x="143" y="3"/>
                        </a:moveTo>
                        <a:lnTo>
                          <a:pt x="109" y="47"/>
                        </a:lnTo>
                        <a:lnTo>
                          <a:pt x="80" y="94"/>
                        </a:lnTo>
                        <a:lnTo>
                          <a:pt x="55" y="141"/>
                        </a:lnTo>
                        <a:lnTo>
                          <a:pt x="35" y="192"/>
                        </a:lnTo>
                        <a:lnTo>
                          <a:pt x="20" y="243"/>
                        </a:lnTo>
                        <a:lnTo>
                          <a:pt x="8" y="298"/>
                        </a:lnTo>
                        <a:lnTo>
                          <a:pt x="1" y="353"/>
                        </a:lnTo>
                        <a:lnTo>
                          <a:pt x="0" y="411"/>
                        </a:lnTo>
                        <a:lnTo>
                          <a:pt x="0" y="443"/>
                        </a:lnTo>
                        <a:lnTo>
                          <a:pt x="3" y="476"/>
                        </a:lnTo>
                        <a:lnTo>
                          <a:pt x="6" y="508"/>
                        </a:lnTo>
                        <a:lnTo>
                          <a:pt x="12" y="540"/>
                        </a:lnTo>
                        <a:lnTo>
                          <a:pt x="17" y="571"/>
                        </a:lnTo>
                        <a:lnTo>
                          <a:pt x="26" y="602"/>
                        </a:lnTo>
                        <a:lnTo>
                          <a:pt x="35" y="631"/>
                        </a:lnTo>
                        <a:lnTo>
                          <a:pt x="48" y="662"/>
                        </a:lnTo>
                        <a:lnTo>
                          <a:pt x="59" y="689"/>
                        </a:lnTo>
                        <a:lnTo>
                          <a:pt x="74" y="717"/>
                        </a:lnTo>
                        <a:lnTo>
                          <a:pt x="89" y="744"/>
                        </a:lnTo>
                        <a:lnTo>
                          <a:pt x="107" y="772"/>
                        </a:lnTo>
                        <a:lnTo>
                          <a:pt x="125" y="797"/>
                        </a:lnTo>
                        <a:lnTo>
                          <a:pt x="145" y="823"/>
                        </a:lnTo>
                        <a:lnTo>
                          <a:pt x="167" y="848"/>
                        </a:lnTo>
                        <a:lnTo>
                          <a:pt x="192" y="874"/>
                        </a:lnTo>
                        <a:lnTo>
                          <a:pt x="216" y="896"/>
                        </a:lnTo>
                        <a:lnTo>
                          <a:pt x="241" y="918"/>
                        </a:lnTo>
                        <a:lnTo>
                          <a:pt x="292" y="956"/>
                        </a:lnTo>
                        <a:lnTo>
                          <a:pt x="318" y="973"/>
                        </a:lnTo>
                        <a:lnTo>
                          <a:pt x="345" y="989"/>
                        </a:lnTo>
                        <a:lnTo>
                          <a:pt x="403" y="1016"/>
                        </a:lnTo>
                        <a:lnTo>
                          <a:pt x="461" y="1037"/>
                        </a:lnTo>
                        <a:lnTo>
                          <a:pt x="523" y="1053"/>
                        </a:lnTo>
                        <a:lnTo>
                          <a:pt x="588" y="1062"/>
                        </a:lnTo>
                        <a:lnTo>
                          <a:pt x="621" y="1064"/>
                        </a:lnTo>
                        <a:lnTo>
                          <a:pt x="655" y="1065"/>
                        </a:lnTo>
                        <a:lnTo>
                          <a:pt x="709" y="1063"/>
                        </a:lnTo>
                        <a:lnTo>
                          <a:pt x="763" y="1057"/>
                        </a:lnTo>
                        <a:lnTo>
                          <a:pt x="793" y="1015"/>
                        </a:lnTo>
                        <a:lnTo>
                          <a:pt x="759" y="1021"/>
                        </a:lnTo>
                        <a:lnTo>
                          <a:pt x="725" y="1026"/>
                        </a:lnTo>
                        <a:lnTo>
                          <a:pt x="690" y="1028"/>
                        </a:lnTo>
                        <a:lnTo>
                          <a:pt x="672" y="1028"/>
                        </a:lnTo>
                        <a:lnTo>
                          <a:pt x="663" y="1028"/>
                        </a:lnTo>
                        <a:lnTo>
                          <a:pt x="658" y="1028"/>
                        </a:lnTo>
                        <a:lnTo>
                          <a:pt x="656" y="1028"/>
                        </a:lnTo>
                        <a:lnTo>
                          <a:pt x="655" y="1028"/>
                        </a:lnTo>
                        <a:lnTo>
                          <a:pt x="655" y="1029"/>
                        </a:lnTo>
                        <a:lnTo>
                          <a:pt x="622" y="1028"/>
                        </a:lnTo>
                        <a:lnTo>
                          <a:pt x="590" y="1026"/>
                        </a:lnTo>
                        <a:lnTo>
                          <a:pt x="559" y="1022"/>
                        </a:lnTo>
                        <a:lnTo>
                          <a:pt x="530" y="1018"/>
                        </a:lnTo>
                        <a:lnTo>
                          <a:pt x="500" y="1011"/>
                        </a:lnTo>
                        <a:lnTo>
                          <a:pt x="472" y="1003"/>
                        </a:lnTo>
                        <a:lnTo>
                          <a:pt x="444" y="994"/>
                        </a:lnTo>
                        <a:lnTo>
                          <a:pt x="416" y="984"/>
                        </a:lnTo>
                        <a:lnTo>
                          <a:pt x="389" y="971"/>
                        </a:lnTo>
                        <a:lnTo>
                          <a:pt x="363" y="958"/>
                        </a:lnTo>
                        <a:lnTo>
                          <a:pt x="337" y="943"/>
                        </a:lnTo>
                        <a:lnTo>
                          <a:pt x="312" y="927"/>
                        </a:lnTo>
                        <a:lnTo>
                          <a:pt x="287" y="909"/>
                        </a:lnTo>
                        <a:lnTo>
                          <a:pt x="263" y="890"/>
                        </a:lnTo>
                        <a:lnTo>
                          <a:pt x="240" y="869"/>
                        </a:lnTo>
                        <a:lnTo>
                          <a:pt x="218" y="848"/>
                        </a:lnTo>
                        <a:lnTo>
                          <a:pt x="195" y="824"/>
                        </a:lnTo>
                        <a:lnTo>
                          <a:pt x="175" y="801"/>
                        </a:lnTo>
                        <a:lnTo>
                          <a:pt x="156" y="776"/>
                        </a:lnTo>
                        <a:lnTo>
                          <a:pt x="139" y="752"/>
                        </a:lnTo>
                        <a:lnTo>
                          <a:pt x="122" y="726"/>
                        </a:lnTo>
                        <a:lnTo>
                          <a:pt x="107" y="701"/>
                        </a:lnTo>
                        <a:lnTo>
                          <a:pt x="93" y="674"/>
                        </a:lnTo>
                        <a:lnTo>
                          <a:pt x="82" y="648"/>
                        </a:lnTo>
                        <a:lnTo>
                          <a:pt x="71" y="620"/>
                        </a:lnTo>
                        <a:lnTo>
                          <a:pt x="62" y="591"/>
                        </a:lnTo>
                        <a:lnTo>
                          <a:pt x="54" y="562"/>
                        </a:lnTo>
                        <a:lnTo>
                          <a:pt x="48" y="534"/>
                        </a:lnTo>
                        <a:lnTo>
                          <a:pt x="42" y="503"/>
                        </a:lnTo>
                        <a:lnTo>
                          <a:pt x="39" y="474"/>
                        </a:lnTo>
                        <a:lnTo>
                          <a:pt x="37" y="442"/>
                        </a:lnTo>
                        <a:lnTo>
                          <a:pt x="37" y="411"/>
                        </a:lnTo>
                        <a:lnTo>
                          <a:pt x="39" y="351"/>
                        </a:lnTo>
                        <a:lnTo>
                          <a:pt x="46" y="296"/>
                        </a:lnTo>
                        <a:lnTo>
                          <a:pt x="58" y="240"/>
                        </a:lnTo>
                        <a:lnTo>
                          <a:pt x="76" y="189"/>
                        </a:lnTo>
                        <a:lnTo>
                          <a:pt x="98" y="138"/>
                        </a:lnTo>
                        <a:lnTo>
                          <a:pt x="125" y="89"/>
                        </a:lnTo>
                        <a:lnTo>
                          <a:pt x="157" y="43"/>
                        </a:lnTo>
                        <a:lnTo>
                          <a:pt x="195" y="0"/>
                        </a:lnTo>
                        <a:lnTo>
                          <a:pt x="143" y="3"/>
                        </a:lnTo>
                        <a:close/>
                      </a:path>
                    </a:pathLst>
                  </a:custGeom>
                  <a:solidFill>
                    <a:srgbClr val="2f4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6013080" y="4158000"/>
                    <a:ext cx="10872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9" h="436">
                        <a:moveTo>
                          <a:pt x="266" y="5"/>
                        </a:moveTo>
                        <a:lnTo>
                          <a:pt x="254" y="2"/>
                        </a:lnTo>
                        <a:lnTo>
                          <a:pt x="243" y="1"/>
                        </a:lnTo>
                        <a:lnTo>
                          <a:pt x="218" y="0"/>
                        </a:lnTo>
                        <a:lnTo>
                          <a:pt x="173" y="3"/>
                        </a:lnTo>
                        <a:lnTo>
                          <a:pt x="134" y="15"/>
                        </a:lnTo>
                        <a:lnTo>
                          <a:pt x="96" y="35"/>
                        </a:lnTo>
                        <a:lnTo>
                          <a:pt x="63" y="63"/>
                        </a:lnTo>
                        <a:lnTo>
                          <a:pt x="35" y="96"/>
                        </a:lnTo>
                        <a:lnTo>
                          <a:pt x="16" y="133"/>
                        </a:lnTo>
                        <a:lnTo>
                          <a:pt x="3" y="173"/>
                        </a:lnTo>
                        <a:lnTo>
                          <a:pt x="0" y="217"/>
                        </a:lnTo>
                        <a:lnTo>
                          <a:pt x="0" y="239"/>
                        </a:lnTo>
                        <a:lnTo>
                          <a:pt x="3" y="260"/>
                        </a:lnTo>
                        <a:lnTo>
                          <a:pt x="8" y="281"/>
                        </a:lnTo>
                        <a:lnTo>
                          <a:pt x="16" y="301"/>
                        </a:lnTo>
                        <a:lnTo>
                          <a:pt x="24" y="319"/>
                        </a:lnTo>
                        <a:lnTo>
                          <a:pt x="35" y="337"/>
                        </a:lnTo>
                        <a:lnTo>
                          <a:pt x="48" y="354"/>
                        </a:lnTo>
                        <a:lnTo>
                          <a:pt x="63" y="371"/>
                        </a:lnTo>
                        <a:lnTo>
                          <a:pt x="79" y="386"/>
                        </a:lnTo>
                        <a:lnTo>
                          <a:pt x="96" y="399"/>
                        </a:lnTo>
                        <a:lnTo>
                          <a:pt x="114" y="409"/>
                        </a:lnTo>
                        <a:lnTo>
                          <a:pt x="134" y="419"/>
                        </a:lnTo>
                        <a:lnTo>
                          <a:pt x="153" y="426"/>
                        </a:lnTo>
                        <a:lnTo>
                          <a:pt x="173" y="431"/>
                        </a:lnTo>
                        <a:lnTo>
                          <a:pt x="195" y="435"/>
                        </a:lnTo>
                        <a:lnTo>
                          <a:pt x="218" y="436"/>
                        </a:lnTo>
                        <a:lnTo>
                          <a:pt x="222" y="435"/>
                        </a:lnTo>
                        <a:lnTo>
                          <a:pt x="228" y="435"/>
                        </a:lnTo>
                        <a:lnTo>
                          <a:pt x="239" y="435"/>
                        </a:lnTo>
                        <a:lnTo>
                          <a:pt x="249" y="433"/>
                        </a:lnTo>
                        <a:lnTo>
                          <a:pt x="261" y="431"/>
                        </a:lnTo>
                        <a:lnTo>
                          <a:pt x="281" y="426"/>
                        </a:lnTo>
                        <a:lnTo>
                          <a:pt x="302" y="419"/>
                        </a:lnTo>
                        <a:lnTo>
                          <a:pt x="320" y="409"/>
                        </a:lnTo>
                        <a:lnTo>
                          <a:pt x="338" y="399"/>
                        </a:lnTo>
                        <a:lnTo>
                          <a:pt x="346" y="392"/>
                        </a:lnTo>
                        <a:lnTo>
                          <a:pt x="355" y="386"/>
                        </a:lnTo>
                        <a:lnTo>
                          <a:pt x="358" y="382"/>
                        </a:lnTo>
                        <a:lnTo>
                          <a:pt x="363" y="378"/>
                        </a:lnTo>
                        <a:lnTo>
                          <a:pt x="372" y="371"/>
                        </a:lnTo>
                        <a:lnTo>
                          <a:pt x="391" y="349"/>
                        </a:lnTo>
                        <a:lnTo>
                          <a:pt x="407" y="326"/>
                        </a:lnTo>
                        <a:lnTo>
                          <a:pt x="419" y="301"/>
                        </a:lnTo>
                        <a:lnTo>
                          <a:pt x="424" y="287"/>
                        </a:lnTo>
                        <a:lnTo>
                          <a:pt x="429" y="275"/>
                        </a:lnTo>
                        <a:lnTo>
                          <a:pt x="414" y="233"/>
                        </a:lnTo>
                        <a:lnTo>
                          <a:pt x="398" y="192"/>
                        </a:lnTo>
                        <a:lnTo>
                          <a:pt x="399" y="217"/>
                        </a:lnTo>
                        <a:lnTo>
                          <a:pt x="398" y="217"/>
                        </a:lnTo>
                        <a:lnTo>
                          <a:pt x="398" y="218"/>
                        </a:lnTo>
                        <a:lnTo>
                          <a:pt x="398" y="221"/>
                        </a:lnTo>
                        <a:lnTo>
                          <a:pt x="398" y="225"/>
                        </a:lnTo>
                        <a:lnTo>
                          <a:pt x="398" y="234"/>
                        </a:lnTo>
                        <a:lnTo>
                          <a:pt x="396" y="252"/>
                        </a:lnTo>
                        <a:lnTo>
                          <a:pt x="391" y="269"/>
                        </a:lnTo>
                        <a:lnTo>
                          <a:pt x="389" y="273"/>
                        </a:lnTo>
                        <a:lnTo>
                          <a:pt x="388" y="277"/>
                        </a:lnTo>
                        <a:lnTo>
                          <a:pt x="385" y="286"/>
                        </a:lnTo>
                        <a:lnTo>
                          <a:pt x="381" y="293"/>
                        </a:lnTo>
                        <a:lnTo>
                          <a:pt x="379" y="297"/>
                        </a:lnTo>
                        <a:lnTo>
                          <a:pt x="378" y="301"/>
                        </a:lnTo>
                        <a:lnTo>
                          <a:pt x="368" y="317"/>
                        </a:lnTo>
                        <a:lnTo>
                          <a:pt x="357" y="332"/>
                        </a:lnTo>
                        <a:lnTo>
                          <a:pt x="346" y="346"/>
                        </a:lnTo>
                        <a:lnTo>
                          <a:pt x="331" y="358"/>
                        </a:lnTo>
                        <a:lnTo>
                          <a:pt x="317" y="368"/>
                        </a:lnTo>
                        <a:lnTo>
                          <a:pt x="302" y="377"/>
                        </a:lnTo>
                        <a:lnTo>
                          <a:pt x="297" y="378"/>
                        </a:lnTo>
                        <a:lnTo>
                          <a:pt x="294" y="380"/>
                        </a:lnTo>
                        <a:lnTo>
                          <a:pt x="287" y="385"/>
                        </a:lnTo>
                        <a:lnTo>
                          <a:pt x="278" y="387"/>
                        </a:lnTo>
                        <a:lnTo>
                          <a:pt x="273" y="388"/>
                        </a:lnTo>
                        <a:lnTo>
                          <a:pt x="270" y="391"/>
                        </a:lnTo>
                        <a:lnTo>
                          <a:pt x="253" y="395"/>
                        </a:lnTo>
                        <a:lnTo>
                          <a:pt x="235" y="397"/>
                        </a:lnTo>
                        <a:lnTo>
                          <a:pt x="226" y="397"/>
                        </a:lnTo>
                        <a:lnTo>
                          <a:pt x="221" y="397"/>
                        </a:lnTo>
                        <a:lnTo>
                          <a:pt x="219" y="397"/>
                        </a:lnTo>
                        <a:lnTo>
                          <a:pt x="218" y="397"/>
                        </a:lnTo>
                        <a:lnTo>
                          <a:pt x="218" y="399"/>
                        </a:lnTo>
                        <a:lnTo>
                          <a:pt x="198" y="397"/>
                        </a:lnTo>
                        <a:lnTo>
                          <a:pt x="180" y="395"/>
                        </a:lnTo>
                        <a:lnTo>
                          <a:pt x="163" y="391"/>
                        </a:lnTo>
                        <a:lnTo>
                          <a:pt x="147" y="385"/>
                        </a:lnTo>
                        <a:lnTo>
                          <a:pt x="131" y="377"/>
                        </a:lnTo>
                        <a:lnTo>
                          <a:pt x="117" y="368"/>
                        </a:lnTo>
                        <a:lnTo>
                          <a:pt x="102" y="358"/>
                        </a:lnTo>
                        <a:lnTo>
                          <a:pt x="89" y="346"/>
                        </a:lnTo>
                        <a:lnTo>
                          <a:pt x="76" y="332"/>
                        </a:lnTo>
                        <a:lnTo>
                          <a:pt x="66" y="317"/>
                        </a:lnTo>
                        <a:lnTo>
                          <a:pt x="55" y="301"/>
                        </a:lnTo>
                        <a:lnTo>
                          <a:pt x="49" y="286"/>
                        </a:lnTo>
                        <a:lnTo>
                          <a:pt x="42" y="269"/>
                        </a:lnTo>
                        <a:lnTo>
                          <a:pt x="38" y="252"/>
                        </a:lnTo>
                        <a:lnTo>
                          <a:pt x="36" y="234"/>
                        </a:lnTo>
                        <a:lnTo>
                          <a:pt x="36" y="217"/>
                        </a:lnTo>
                        <a:lnTo>
                          <a:pt x="38" y="180"/>
                        </a:lnTo>
                        <a:lnTo>
                          <a:pt x="49" y="147"/>
                        </a:lnTo>
                        <a:lnTo>
                          <a:pt x="66" y="116"/>
                        </a:lnTo>
                        <a:lnTo>
                          <a:pt x="76" y="102"/>
                        </a:lnTo>
                        <a:lnTo>
                          <a:pt x="89" y="89"/>
                        </a:lnTo>
                        <a:lnTo>
                          <a:pt x="102" y="76"/>
                        </a:lnTo>
                        <a:lnTo>
                          <a:pt x="117" y="65"/>
                        </a:lnTo>
                        <a:lnTo>
                          <a:pt x="147" y="48"/>
                        </a:lnTo>
                        <a:lnTo>
                          <a:pt x="180" y="38"/>
                        </a:lnTo>
                        <a:lnTo>
                          <a:pt x="218" y="36"/>
                        </a:lnTo>
                        <a:lnTo>
                          <a:pt x="246" y="37"/>
                        </a:lnTo>
                        <a:lnTo>
                          <a:pt x="273" y="44"/>
                        </a:lnTo>
                        <a:lnTo>
                          <a:pt x="286" y="47"/>
                        </a:lnTo>
                        <a:lnTo>
                          <a:pt x="299" y="53"/>
                        </a:lnTo>
                        <a:lnTo>
                          <a:pt x="311" y="60"/>
                        </a:lnTo>
                        <a:lnTo>
                          <a:pt x="323" y="69"/>
                        </a:lnTo>
                        <a:lnTo>
                          <a:pt x="295" y="36"/>
                        </a:lnTo>
                        <a:lnTo>
                          <a:pt x="266" y="5"/>
                        </a:lnTo>
                        <a:close/>
                      </a:path>
                    </a:pathLst>
                  </a:custGeom>
                  <a:solidFill>
                    <a:srgbClr val="568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6022440" y="4167000"/>
                    <a:ext cx="9216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363">
                        <a:moveTo>
                          <a:pt x="310" y="310"/>
                        </a:moveTo>
                        <a:lnTo>
                          <a:pt x="321" y="296"/>
                        </a:lnTo>
                        <a:lnTo>
                          <a:pt x="332" y="281"/>
                        </a:lnTo>
                        <a:lnTo>
                          <a:pt x="342" y="265"/>
                        </a:lnTo>
                        <a:lnTo>
                          <a:pt x="343" y="261"/>
                        </a:lnTo>
                        <a:lnTo>
                          <a:pt x="345" y="257"/>
                        </a:lnTo>
                        <a:lnTo>
                          <a:pt x="349" y="250"/>
                        </a:lnTo>
                        <a:lnTo>
                          <a:pt x="352" y="241"/>
                        </a:lnTo>
                        <a:lnTo>
                          <a:pt x="353" y="237"/>
                        </a:lnTo>
                        <a:lnTo>
                          <a:pt x="355" y="233"/>
                        </a:lnTo>
                        <a:lnTo>
                          <a:pt x="360" y="216"/>
                        </a:lnTo>
                        <a:lnTo>
                          <a:pt x="362" y="198"/>
                        </a:lnTo>
                        <a:lnTo>
                          <a:pt x="362" y="189"/>
                        </a:lnTo>
                        <a:lnTo>
                          <a:pt x="362" y="185"/>
                        </a:lnTo>
                        <a:lnTo>
                          <a:pt x="362" y="182"/>
                        </a:lnTo>
                        <a:lnTo>
                          <a:pt x="362" y="181"/>
                        </a:lnTo>
                        <a:lnTo>
                          <a:pt x="363" y="181"/>
                        </a:lnTo>
                        <a:lnTo>
                          <a:pt x="362" y="156"/>
                        </a:lnTo>
                        <a:lnTo>
                          <a:pt x="345" y="123"/>
                        </a:lnTo>
                        <a:lnTo>
                          <a:pt x="328" y="93"/>
                        </a:lnTo>
                        <a:lnTo>
                          <a:pt x="309" y="62"/>
                        </a:lnTo>
                        <a:lnTo>
                          <a:pt x="287" y="33"/>
                        </a:lnTo>
                        <a:lnTo>
                          <a:pt x="275" y="24"/>
                        </a:lnTo>
                        <a:lnTo>
                          <a:pt x="263" y="17"/>
                        </a:lnTo>
                        <a:lnTo>
                          <a:pt x="250" y="11"/>
                        </a:lnTo>
                        <a:lnTo>
                          <a:pt x="237" y="8"/>
                        </a:lnTo>
                        <a:lnTo>
                          <a:pt x="210" y="1"/>
                        </a:lnTo>
                        <a:lnTo>
                          <a:pt x="182" y="0"/>
                        </a:lnTo>
                        <a:lnTo>
                          <a:pt x="144" y="2"/>
                        </a:lnTo>
                        <a:lnTo>
                          <a:pt x="111" y="12"/>
                        </a:lnTo>
                        <a:lnTo>
                          <a:pt x="81" y="29"/>
                        </a:lnTo>
                        <a:lnTo>
                          <a:pt x="66" y="40"/>
                        </a:lnTo>
                        <a:lnTo>
                          <a:pt x="53" y="53"/>
                        </a:lnTo>
                        <a:lnTo>
                          <a:pt x="40" y="66"/>
                        </a:lnTo>
                        <a:lnTo>
                          <a:pt x="30" y="80"/>
                        </a:lnTo>
                        <a:lnTo>
                          <a:pt x="13" y="111"/>
                        </a:lnTo>
                        <a:lnTo>
                          <a:pt x="2" y="144"/>
                        </a:lnTo>
                        <a:lnTo>
                          <a:pt x="0" y="181"/>
                        </a:lnTo>
                        <a:lnTo>
                          <a:pt x="0" y="198"/>
                        </a:lnTo>
                        <a:lnTo>
                          <a:pt x="2" y="216"/>
                        </a:lnTo>
                        <a:lnTo>
                          <a:pt x="6" y="233"/>
                        </a:lnTo>
                        <a:lnTo>
                          <a:pt x="13" y="250"/>
                        </a:lnTo>
                        <a:lnTo>
                          <a:pt x="19" y="265"/>
                        </a:lnTo>
                        <a:lnTo>
                          <a:pt x="30" y="281"/>
                        </a:lnTo>
                        <a:lnTo>
                          <a:pt x="40" y="296"/>
                        </a:lnTo>
                        <a:lnTo>
                          <a:pt x="53" y="310"/>
                        </a:lnTo>
                        <a:lnTo>
                          <a:pt x="66" y="322"/>
                        </a:lnTo>
                        <a:lnTo>
                          <a:pt x="81" y="332"/>
                        </a:lnTo>
                        <a:lnTo>
                          <a:pt x="95" y="341"/>
                        </a:lnTo>
                        <a:lnTo>
                          <a:pt x="111" y="349"/>
                        </a:lnTo>
                        <a:lnTo>
                          <a:pt x="127" y="355"/>
                        </a:lnTo>
                        <a:lnTo>
                          <a:pt x="144" y="359"/>
                        </a:lnTo>
                        <a:lnTo>
                          <a:pt x="162" y="361"/>
                        </a:lnTo>
                        <a:lnTo>
                          <a:pt x="182" y="363"/>
                        </a:lnTo>
                        <a:lnTo>
                          <a:pt x="182" y="361"/>
                        </a:lnTo>
                        <a:lnTo>
                          <a:pt x="183" y="361"/>
                        </a:lnTo>
                        <a:lnTo>
                          <a:pt x="185" y="361"/>
                        </a:lnTo>
                        <a:lnTo>
                          <a:pt x="190" y="361"/>
                        </a:lnTo>
                        <a:lnTo>
                          <a:pt x="199" y="361"/>
                        </a:lnTo>
                        <a:lnTo>
                          <a:pt x="217" y="359"/>
                        </a:lnTo>
                        <a:lnTo>
                          <a:pt x="234" y="355"/>
                        </a:lnTo>
                        <a:lnTo>
                          <a:pt x="237" y="352"/>
                        </a:lnTo>
                        <a:lnTo>
                          <a:pt x="242" y="351"/>
                        </a:lnTo>
                        <a:lnTo>
                          <a:pt x="251" y="349"/>
                        </a:lnTo>
                        <a:lnTo>
                          <a:pt x="258" y="344"/>
                        </a:lnTo>
                        <a:lnTo>
                          <a:pt x="261" y="342"/>
                        </a:lnTo>
                        <a:lnTo>
                          <a:pt x="266" y="341"/>
                        </a:lnTo>
                        <a:lnTo>
                          <a:pt x="281" y="332"/>
                        </a:lnTo>
                        <a:lnTo>
                          <a:pt x="295" y="322"/>
                        </a:lnTo>
                        <a:lnTo>
                          <a:pt x="310" y="310"/>
                        </a:lnTo>
                        <a:close/>
                        <a:moveTo>
                          <a:pt x="78" y="284"/>
                        </a:moveTo>
                        <a:lnTo>
                          <a:pt x="67" y="272"/>
                        </a:lnTo>
                        <a:lnTo>
                          <a:pt x="59" y="261"/>
                        </a:lnTo>
                        <a:lnTo>
                          <a:pt x="51" y="248"/>
                        </a:lnTo>
                        <a:lnTo>
                          <a:pt x="47" y="237"/>
                        </a:lnTo>
                        <a:lnTo>
                          <a:pt x="39" y="210"/>
                        </a:lnTo>
                        <a:lnTo>
                          <a:pt x="36" y="195"/>
                        </a:lnTo>
                        <a:lnTo>
                          <a:pt x="36" y="181"/>
                        </a:lnTo>
                        <a:lnTo>
                          <a:pt x="39" y="151"/>
                        </a:lnTo>
                        <a:lnTo>
                          <a:pt x="47" y="125"/>
                        </a:lnTo>
                        <a:lnTo>
                          <a:pt x="59" y="101"/>
                        </a:lnTo>
                        <a:lnTo>
                          <a:pt x="78" y="79"/>
                        </a:lnTo>
                        <a:lnTo>
                          <a:pt x="100" y="60"/>
                        </a:lnTo>
                        <a:lnTo>
                          <a:pt x="125" y="46"/>
                        </a:lnTo>
                        <a:lnTo>
                          <a:pt x="151" y="38"/>
                        </a:lnTo>
                        <a:lnTo>
                          <a:pt x="182" y="36"/>
                        </a:lnTo>
                        <a:lnTo>
                          <a:pt x="195" y="36"/>
                        </a:lnTo>
                        <a:lnTo>
                          <a:pt x="210" y="38"/>
                        </a:lnTo>
                        <a:lnTo>
                          <a:pt x="237" y="46"/>
                        </a:lnTo>
                        <a:lnTo>
                          <a:pt x="249" y="52"/>
                        </a:lnTo>
                        <a:lnTo>
                          <a:pt x="261" y="60"/>
                        </a:lnTo>
                        <a:lnTo>
                          <a:pt x="272" y="68"/>
                        </a:lnTo>
                        <a:lnTo>
                          <a:pt x="285" y="79"/>
                        </a:lnTo>
                        <a:lnTo>
                          <a:pt x="294" y="89"/>
                        </a:lnTo>
                        <a:lnTo>
                          <a:pt x="302" y="101"/>
                        </a:lnTo>
                        <a:lnTo>
                          <a:pt x="315" y="125"/>
                        </a:lnTo>
                        <a:lnTo>
                          <a:pt x="320" y="137"/>
                        </a:lnTo>
                        <a:lnTo>
                          <a:pt x="323" y="151"/>
                        </a:lnTo>
                        <a:lnTo>
                          <a:pt x="326" y="165"/>
                        </a:lnTo>
                        <a:lnTo>
                          <a:pt x="327" y="181"/>
                        </a:lnTo>
                        <a:lnTo>
                          <a:pt x="326" y="195"/>
                        </a:lnTo>
                        <a:lnTo>
                          <a:pt x="323" y="210"/>
                        </a:lnTo>
                        <a:lnTo>
                          <a:pt x="320" y="223"/>
                        </a:lnTo>
                        <a:lnTo>
                          <a:pt x="315" y="237"/>
                        </a:lnTo>
                        <a:lnTo>
                          <a:pt x="309" y="248"/>
                        </a:lnTo>
                        <a:lnTo>
                          <a:pt x="302" y="261"/>
                        </a:lnTo>
                        <a:lnTo>
                          <a:pt x="294" y="272"/>
                        </a:lnTo>
                        <a:lnTo>
                          <a:pt x="285" y="284"/>
                        </a:lnTo>
                        <a:lnTo>
                          <a:pt x="272" y="293"/>
                        </a:lnTo>
                        <a:lnTo>
                          <a:pt x="261" y="302"/>
                        </a:lnTo>
                        <a:lnTo>
                          <a:pt x="249" y="309"/>
                        </a:lnTo>
                        <a:lnTo>
                          <a:pt x="237" y="316"/>
                        </a:lnTo>
                        <a:lnTo>
                          <a:pt x="224" y="321"/>
                        </a:lnTo>
                        <a:lnTo>
                          <a:pt x="210" y="324"/>
                        </a:lnTo>
                        <a:lnTo>
                          <a:pt x="195" y="326"/>
                        </a:lnTo>
                        <a:lnTo>
                          <a:pt x="182" y="327"/>
                        </a:lnTo>
                        <a:lnTo>
                          <a:pt x="166" y="326"/>
                        </a:lnTo>
                        <a:lnTo>
                          <a:pt x="151" y="324"/>
                        </a:lnTo>
                        <a:lnTo>
                          <a:pt x="137" y="321"/>
                        </a:lnTo>
                        <a:lnTo>
                          <a:pt x="125" y="316"/>
                        </a:lnTo>
                        <a:lnTo>
                          <a:pt x="100" y="302"/>
                        </a:lnTo>
                        <a:lnTo>
                          <a:pt x="78" y="284"/>
                        </a:lnTo>
                        <a:close/>
                      </a:path>
                    </a:pathLst>
                  </a:custGeom>
                  <a:solidFill>
                    <a:srgbClr val="598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6031440" y="4176720"/>
                    <a:ext cx="734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91">
                        <a:moveTo>
                          <a:pt x="0" y="145"/>
                        </a:moveTo>
                        <a:lnTo>
                          <a:pt x="0" y="159"/>
                        </a:lnTo>
                        <a:lnTo>
                          <a:pt x="3" y="174"/>
                        </a:lnTo>
                        <a:lnTo>
                          <a:pt x="11" y="201"/>
                        </a:lnTo>
                        <a:lnTo>
                          <a:pt x="15" y="212"/>
                        </a:lnTo>
                        <a:lnTo>
                          <a:pt x="23" y="225"/>
                        </a:lnTo>
                        <a:lnTo>
                          <a:pt x="31" y="236"/>
                        </a:lnTo>
                        <a:lnTo>
                          <a:pt x="42" y="248"/>
                        </a:lnTo>
                        <a:lnTo>
                          <a:pt x="64" y="266"/>
                        </a:lnTo>
                        <a:lnTo>
                          <a:pt x="89" y="280"/>
                        </a:lnTo>
                        <a:lnTo>
                          <a:pt x="101" y="285"/>
                        </a:lnTo>
                        <a:lnTo>
                          <a:pt x="115" y="288"/>
                        </a:lnTo>
                        <a:lnTo>
                          <a:pt x="130" y="290"/>
                        </a:lnTo>
                        <a:lnTo>
                          <a:pt x="146" y="291"/>
                        </a:lnTo>
                        <a:lnTo>
                          <a:pt x="159" y="290"/>
                        </a:lnTo>
                        <a:lnTo>
                          <a:pt x="174" y="288"/>
                        </a:lnTo>
                        <a:lnTo>
                          <a:pt x="188" y="285"/>
                        </a:lnTo>
                        <a:lnTo>
                          <a:pt x="201" y="280"/>
                        </a:lnTo>
                        <a:lnTo>
                          <a:pt x="213" y="273"/>
                        </a:lnTo>
                        <a:lnTo>
                          <a:pt x="225" y="266"/>
                        </a:lnTo>
                        <a:lnTo>
                          <a:pt x="236" y="257"/>
                        </a:lnTo>
                        <a:lnTo>
                          <a:pt x="249" y="248"/>
                        </a:lnTo>
                        <a:lnTo>
                          <a:pt x="258" y="236"/>
                        </a:lnTo>
                        <a:lnTo>
                          <a:pt x="266" y="225"/>
                        </a:lnTo>
                        <a:lnTo>
                          <a:pt x="273" y="212"/>
                        </a:lnTo>
                        <a:lnTo>
                          <a:pt x="279" y="201"/>
                        </a:lnTo>
                        <a:lnTo>
                          <a:pt x="284" y="187"/>
                        </a:lnTo>
                        <a:lnTo>
                          <a:pt x="287" y="174"/>
                        </a:lnTo>
                        <a:lnTo>
                          <a:pt x="290" y="159"/>
                        </a:lnTo>
                        <a:lnTo>
                          <a:pt x="291" y="145"/>
                        </a:lnTo>
                        <a:lnTo>
                          <a:pt x="290" y="129"/>
                        </a:lnTo>
                        <a:lnTo>
                          <a:pt x="287" y="115"/>
                        </a:lnTo>
                        <a:lnTo>
                          <a:pt x="284" y="101"/>
                        </a:lnTo>
                        <a:lnTo>
                          <a:pt x="279" y="89"/>
                        </a:lnTo>
                        <a:lnTo>
                          <a:pt x="266" y="65"/>
                        </a:lnTo>
                        <a:lnTo>
                          <a:pt x="258" y="53"/>
                        </a:lnTo>
                        <a:lnTo>
                          <a:pt x="249" y="43"/>
                        </a:lnTo>
                        <a:lnTo>
                          <a:pt x="236" y="32"/>
                        </a:lnTo>
                        <a:lnTo>
                          <a:pt x="225" y="24"/>
                        </a:lnTo>
                        <a:lnTo>
                          <a:pt x="213" y="16"/>
                        </a:lnTo>
                        <a:lnTo>
                          <a:pt x="201" y="10"/>
                        </a:lnTo>
                        <a:lnTo>
                          <a:pt x="174" y="2"/>
                        </a:lnTo>
                        <a:lnTo>
                          <a:pt x="159" y="0"/>
                        </a:lnTo>
                        <a:lnTo>
                          <a:pt x="146" y="0"/>
                        </a:lnTo>
                        <a:lnTo>
                          <a:pt x="115" y="2"/>
                        </a:lnTo>
                        <a:lnTo>
                          <a:pt x="89" y="10"/>
                        </a:lnTo>
                        <a:lnTo>
                          <a:pt x="64" y="24"/>
                        </a:lnTo>
                        <a:lnTo>
                          <a:pt x="42" y="43"/>
                        </a:lnTo>
                        <a:lnTo>
                          <a:pt x="23" y="65"/>
                        </a:lnTo>
                        <a:lnTo>
                          <a:pt x="11" y="89"/>
                        </a:lnTo>
                        <a:lnTo>
                          <a:pt x="3" y="115"/>
                        </a:lnTo>
                        <a:lnTo>
                          <a:pt x="0" y="145"/>
                        </a:lnTo>
                        <a:close/>
                        <a:moveTo>
                          <a:pt x="69" y="222"/>
                        </a:moveTo>
                        <a:lnTo>
                          <a:pt x="54" y="205"/>
                        </a:lnTo>
                        <a:lnTo>
                          <a:pt x="45" y="187"/>
                        </a:lnTo>
                        <a:lnTo>
                          <a:pt x="38" y="167"/>
                        </a:lnTo>
                        <a:lnTo>
                          <a:pt x="37" y="145"/>
                        </a:lnTo>
                        <a:lnTo>
                          <a:pt x="38" y="123"/>
                        </a:lnTo>
                        <a:lnTo>
                          <a:pt x="45" y="103"/>
                        </a:lnTo>
                        <a:lnTo>
                          <a:pt x="54" y="84"/>
                        </a:lnTo>
                        <a:lnTo>
                          <a:pt x="69" y="68"/>
                        </a:lnTo>
                        <a:lnTo>
                          <a:pt x="84" y="53"/>
                        </a:lnTo>
                        <a:lnTo>
                          <a:pt x="104" y="44"/>
                        </a:lnTo>
                        <a:lnTo>
                          <a:pt x="123" y="38"/>
                        </a:lnTo>
                        <a:lnTo>
                          <a:pt x="146" y="36"/>
                        </a:lnTo>
                        <a:lnTo>
                          <a:pt x="167" y="38"/>
                        </a:lnTo>
                        <a:lnTo>
                          <a:pt x="188" y="44"/>
                        </a:lnTo>
                        <a:lnTo>
                          <a:pt x="206" y="53"/>
                        </a:lnTo>
                        <a:lnTo>
                          <a:pt x="223" y="68"/>
                        </a:lnTo>
                        <a:lnTo>
                          <a:pt x="236" y="84"/>
                        </a:lnTo>
                        <a:lnTo>
                          <a:pt x="247" y="103"/>
                        </a:lnTo>
                        <a:lnTo>
                          <a:pt x="252" y="123"/>
                        </a:lnTo>
                        <a:lnTo>
                          <a:pt x="254" y="145"/>
                        </a:lnTo>
                        <a:lnTo>
                          <a:pt x="253" y="150"/>
                        </a:lnTo>
                        <a:lnTo>
                          <a:pt x="253" y="155"/>
                        </a:lnTo>
                        <a:lnTo>
                          <a:pt x="252" y="167"/>
                        </a:lnTo>
                        <a:lnTo>
                          <a:pt x="247" y="187"/>
                        </a:lnTo>
                        <a:lnTo>
                          <a:pt x="236" y="205"/>
                        </a:lnTo>
                        <a:lnTo>
                          <a:pt x="230" y="213"/>
                        </a:lnTo>
                        <a:lnTo>
                          <a:pt x="223" y="222"/>
                        </a:lnTo>
                        <a:lnTo>
                          <a:pt x="214" y="229"/>
                        </a:lnTo>
                        <a:lnTo>
                          <a:pt x="206" y="236"/>
                        </a:lnTo>
                        <a:lnTo>
                          <a:pt x="188" y="246"/>
                        </a:lnTo>
                        <a:lnTo>
                          <a:pt x="167" y="252"/>
                        </a:lnTo>
                        <a:lnTo>
                          <a:pt x="156" y="253"/>
                        </a:lnTo>
                        <a:lnTo>
                          <a:pt x="150" y="253"/>
                        </a:lnTo>
                        <a:lnTo>
                          <a:pt x="146" y="254"/>
                        </a:lnTo>
                        <a:lnTo>
                          <a:pt x="123" y="252"/>
                        </a:lnTo>
                        <a:lnTo>
                          <a:pt x="104" y="246"/>
                        </a:lnTo>
                        <a:lnTo>
                          <a:pt x="84" y="236"/>
                        </a:lnTo>
                        <a:lnTo>
                          <a:pt x="69" y="222"/>
                        </a:lnTo>
                        <a:close/>
                      </a:path>
                    </a:pathLst>
                  </a:custGeom>
                  <a:solidFill>
                    <a:srgbClr val="5c8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6040440" y="4185720"/>
                    <a:ext cx="554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18">
                        <a:moveTo>
                          <a:pt x="0" y="109"/>
                        </a:moveTo>
                        <a:lnTo>
                          <a:pt x="1" y="131"/>
                        </a:lnTo>
                        <a:lnTo>
                          <a:pt x="8" y="151"/>
                        </a:lnTo>
                        <a:lnTo>
                          <a:pt x="17" y="169"/>
                        </a:lnTo>
                        <a:lnTo>
                          <a:pt x="32" y="186"/>
                        </a:lnTo>
                        <a:lnTo>
                          <a:pt x="47" y="200"/>
                        </a:lnTo>
                        <a:lnTo>
                          <a:pt x="67" y="210"/>
                        </a:lnTo>
                        <a:lnTo>
                          <a:pt x="86" y="216"/>
                        </a:lnTo>
                        <a:lnTo>
                          <a:pt x="109" y="218"/>
                        </a:lnTo>
                        <a:lnTo>
                          <a:pt x="113" y="217"/>
                        </a:lnTo>
                        <a:lnTo>
                          <a:pt x="119" y="217"/>
                        </a:lnTo>
                        <a:lnTo>
                          <a:pt x="130" y="216"/>
                        </a:lnTo>
                        <a:lnTo>
                          <a:pt x="151" y="210"/>
                        </a:lnTo>
                        <a:lnTo>
                          <a:pt x="169" y="200"/>
                        </a:lnTo>
                        <a:lnTo>
                          <a:pt x="177" y="193"/>
                        </a:lnTo>
                        <a:lnTo>
                          <a:pt x="186" y="186"/>
                        </a:lnTo>
                        <a:lnTo>
                          <a:pt x="193" y="177"/>
                        </a:lnTo>
                        <a:lnTo>
                          <a:pt x="199" y="169"/>
                        </a:lnTo>
                        <a:lnTo>
                          <a:pt x="210" y="151"/>
                        </a:lnTo>
                        <a:lnTo>
                          <a:pt x="215" y="131"/>
                        </a:lnTo>
                        <a:lnTo>
                          <a:pt x="216" y="119"/>
                        </a:lnTo>
                        <a:lnTo>
                          <a:pt x="216" y="114"/>
                        </a:lnTo>
                        <a:lnTo>
                          <a:pt x="217" y="109"/>
                        </a:lnTo>
                        <a:lnTo>
                          <a:pt x="215" y="87"/>
                        </a:lnTo>
                        <a:lnTo>
                          <a:pt x="210" y="67"/>
                        </a:lnTo>
                        <a:lnTo>
                          <a:pt x="199" y="48"/>
                        </a:lnTo>
                        <a:lnTo>
                          <a:pt x="186" y="32"/>
                        </a:lnTo>
                        <a:lnTo>
                          <a:pt x="169" y="17"/>
                        </a:lnTo>
                        <a:lnTo>
                          <a:pt x="151" y="8"/>
                        </a:lnTo>
                        <a:lnTo>
                          <a:pt x="130" y="2"/>
                        </a:lnTo>
                        <a:lnTo>
                          <a:pt x="109" y="0"/>
                        </a:lnTo>
                        <a:lnTo>
                          <a:pt x="86" y="2"/>
                        </a:lnTo>
                        <a:lnTo>
                          <a:pt x="67" y="8"/>
                        </a:lnTo>
                        <a:lnTo>
                          <a:pt x="47" y="17"/>
                        </a:lnTo>
                        <a:lnTo>
                          <a:pt x="32" y="32"/>
                        </a:lnTo>
                        <a:lnTo>
                          <a:pt x="17" y="48"/>
                        </a:lnTo>
                        <a:lnTo>
                          <a:pt x="8" y="67"/>
                        </a:lnTo>
                        <a:lnTo>
                          <a:pt x="1" y="87"/>
                        </a:lnTo>
                        <a:lnTo>
                          <a:pt x="0" y="109"/>
                        </a:lnTo>
                        <a:close/>
                        <a:moveTo>
                          <a:pt x="109" y="37"/>
                        </a:moveTo>
                        <a:lnTo>
                          <a:pt x="122" y="38"/>
                        </a:lnTo>
                        <a:lnTo>
                          <a:pt x="136" y="41"/>
                        </a:lnTo>
                        <a:lnTo>
                          <a:pt x="142" y="43"/>
                        </a:lnTo>
                        <a:lnTo>
                          <a:pt x="148" y="48"/>
                        </a:lnTo>
                        <a:lnTo>
                          <a:pt x="160" y="58"/>
                        </a:lnTo>
                        <a:lnTo>
                          <a:pt x="168" y="68"/>
                        </a:lnTo>
                        <a:lnTo>
                          <a:pt x="176" y="81"/>
                        </a:lnTo>
                        <a:lnTo>
                          <a:pt x="179" y="94"/>
                        </a:lnTo>
                        <a:lnTo>
                          <a:pt x="181" y="109"/>
                        </a:lnTo>
                        <a:lnTo>
                          <a:pt x="179" y="123"/>
                        </a:lnTo>
                        <a:lnTo>
                          <a:pt x="176" y="136"/>
                        </a:lnTo>
                        <a:lnTo>
                          <a:pt x="171" y="142"/>
                        </a:lnTo>
                        <a:lnTo>
                          <a:pt x="168" y="149"/>
                        </a:lnTo>
                        <a:lnTo>
                          <a:pt x="163" y="155"/>
                        </a:lnTo>
                        <a:lnTo>
                          <a:pt x="160" y="161"/>
                        </a:lnTo>
                        <a:lnTo>
                          <a:pt x="148" y="169"/>
                        </a:lnTo>
                        <a:lnTo>
                          <a:pt x="142" y="173"/>
                        </a:lnTo>
                        <a:lnTo>
                          <a:pt x="139" y="173"/>
                        </a:lnTo>
                        <a:lnTo>
                          <a:pt x="138" y="173"/>
                        </a:lnTo>
                        <a:lnTo>
                          <a:pt x="138" y="174"/>
                        </a:lnTo>
                        <a:lnTo>
                          <a:pt x="136" y="176"/>
                        </a:lnTo>
                        <a:lnTo>
                          <a:pt x="122" y="179"/>
                        </a:lnTo>
                        <a:lnTo>
                          <a:pt x="109" y="182"/>
                        </a:lnTo>
                        <a:lnTo>
                          <a:pt x="94" y="179"/>
                        </a:lnTo>
                        <a:lnTo>
                          <a:pt x="80" y="176"/>
                        </a:lnTo>
                        <a:lnTo>
                          <a:pt x="68" y="169"/>
                        </a:lnTo>
                        <a:lnTo>
                          <a:pt x="58" y="161"/>
                        </a:lnTo>
                        <a:lnTo>
                          <a:pt x="47" y="149"/>
                        </a:lnTo>
                        <a:lnTo>
                          <a:pt x="43" y="142"/>
                        </a:lnTo>
                        <a:lnTo>
                          <a:pt x="41" y="136"/>
                        </a:lnTo>
                        <a:lnTo>
                          <a:pt x="37" y="123"/>
                        </a:lnTo>
                        <a:lnTo>
                          <a:pt x="36" y="109"/>
                        </a:lnTo>
                        <a:lnTo>
                          <a:pt x="37" y="94"/>
                        </a:lnTo>
                        <a:lnTo>
                          <a:pt x="41" y="81"/>
                        </a:lnTo>
                        <a:lnTo>
                          <a:pt x="47" y="68"/>
                        </a:lnTo>
                        <a:lnTo>
                          <a:pt x="58" y="58"/>
                        </a:lnTo>
                        <a:lnTo>
                          <a:pt x="68" y="48"/>
                        </a:lnTo>
                        <a:lnTo>
                          <a:pt x="80" y="41"/>
                        </a:lnTo>
                        <a:lnTo>
                          <a:pt x="94" y="38"/>
                        </a:lnTo>
                        <a:lnTo>
                          <a:pt x="109" y="37"/>
                        </a:lnTo>
                        <a:close/>
                      </a:path>
                    </a:pathLst>
                  </a:custGeom>
                  <a:solidFill>
                    <a:srgbClr val="5f8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6050160" y="4195080"/>
                    <a:ext cx="36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45">
                        <a:moveTo>
                          <a:pt x="124" y="21"/>
                        </a:moveTo>
                        <a:lnTo>
                          <a:pt x="112" y="11"/>
                        </a:lnTo>
                        <a:lnTo>
                          <a:pt x="106" y="6"/>
                        </a:lnTo>
                        <a:lnTo>
                          <a:pt x="100" y="4"/>
                        </a:lnTo>
                        <a:lnTo>
                          <a:pt x="86" y="1"/>
                        </a:lnTo>
                        <a:lnTo>
                          <a:pt x="73" y="0"/>
                        </a:lnTo>
                        <a:lnTo>
                          <a:pt x="58" y="1"/>
                        </a:lnTo>
                        <a:lnTo>
                          <a:pt x="44" y="4"/>
                        </a:lnTo>
                        <a:lnTo>
                          <a:pt x="32" y="11"/>
                        </a:lnTo>
                        <a:lnTo>
                          <a:pt x="22" y="21"/>
                        </a:lnTo>
                        <a:lnTo>
                          <a:pt x="11" y="31"/>
                        </a:lnTo>
                        <a:lnTo>
                          <a:pt x="5" y="44"/>
                        </a:lnTo>
                        <a:lnTo>
                          <a:pt x="1" y="57"/>
                        </a:lnTo>
                        <a:lnTo>
                          <a:pt x="0" y="72"/>
                        </a:lnTo>
                        <a:lnTo>
                          <a:pt x="1" y="86"/>
                        </a:lnTo>
                        <a:lnTo>
                          <a:pt x="5" y="99"/>
                        </a:lnTo>
                        <a:lnTo>
                          <a:pt x="7" y="105"/>
                        </a:lnTo>
                        <a:lnTo>
                          <a:pt x="11" y="112"/>
                        </a:lnTo>
                        <a:lnTo>
                          <a:pt x="22" y="124"/>
                        </a:lnTo>
                        <a:lnTo>
                          <a:pt x="32" y="132"/>
                        </a:lnTo>
                        <a:lnTo>
                          <a:pt x="44" y="139"/>
                        </a:lnTo>
                        <a:lnTo>
                          <a:pt x="58" y="142"/>
                        </a:lnTo>
                        <a:lnTo>
                          <a:pt x="73" y="145"/>
                        </a:lnTo>
                        <a:lnTo>
                          <a:pt x="86" y="142"/>
                        </a:lnTo>
                        <a:lnTo>
                          <a:pt x="100" y="139"/>
                        </a:lnTo>
                        <a:lnTo>
                          <a:pt x="102" y="137"/>
                        </a:lnTo>
                        <a:lnTo>
                          <a:pt x="102" y="136"/>
                        </a:lnTo>
                        <a:lnTo>
                          <a:pt x="103" y="136"/>
                        </a:lnTo>
                        <a:lnTo>
                          <a:pt x="106" y="136"/>
                        </a:lnTo>
                        <a:lnTo>
                          <a:pt x="112" y="132"/>
                        </a:lnTo>
                        <a:lnTo>
                          <a:pt x="124" y="124"/>
                        </a:lnTo>
                        <a:lnTo>
                          <a:pt x="127" y="118"/>
                        </a:lnTo>
                        <a:lnTo>
                          <a:pt x="132" y="112"/>
                        </a:lnTo>
                        <a:lnTo>
                          <a:pt x="135" y="105"/>
                        </a:lnTo>
                        <a:lnTo>
                          <a:pt x="140" y="99"/>
                        </a:lnTo>
                        <a:lnTo>
                          <a:pt x="143" y="86"/>
                        </a:lnTo>
                        <a:lnTo>
                          <a:pt x="145" y="72"/>
                        </a:lnTo>
                        <a:lnTo>
                          <a:pt x="143" y="57"/>
                        </a:lnTo>
                        <a:lnTo>
                          <a:pt x="140" y="44"/>
                        </a:lnTo>
                        <a:lnTo>
                          <a:pt x="132" y="31"/>
                        </a:lnTo>
                        <a:lnTo>
                          <a:pt x="124" y="21"/>
                        </a:lnTo>
                        <a:close/>
                        <a:moveTo>
                          <a:pt x="73" y="36"/>
                        </a:moveTo>
                        <a:lnTo>
                          <a:pt x="79" y="36"/>
                        </a:lnTo>
                        <a:lnTo>
                          <a:pt x="86" y="38"/>
                        </a:lnTo>
                        <a:lnTo>
                          <a:pt x="92" y="42"/>
                        </a:lnTo>
                        <a:lnTo>
                          <a:pt x="99" y="47"/>
                        </a:lnTo>
                        <a:lnTo>
                          <a:pt x="106" y="57"/>
                        </a:lnTo>
                        <a:lnTo>
                          <a:pt x="108" y="64"/>
                        </a:lnTo>
                        <a:lnTo>
                          <a:pt x="109" y="72"/>
                        </a:lnTo>
                        <a:lnTo>
                          <a:pt x="108" y="79"/>
                        </a:lnTo>
                        <a:lnTo>
                          <a:pt x="106" y="86"/>
                        </a:lnTo>
                        <a:lnTo>
                          <a:pt x="103" y="88"/>
                        </a:lnTo>
                        <a:lnTo>
                          <a:pt x="102" y="88"/>
                        </a:lnTo>
                        <a:lnTo>
                          <a:pt x="102" y="89"/>
                        </a:lnTo>
                        <a:lnTo>
                          <a:pt x="102" y="91"/>
                        </a:lnTo>
                        <a:lnTo>
                          <a:pt x="99" y="98"/>
                        </a:lnTo>
                        <a:lnTo>
                          <a:pt x="92" y="102"/>
                        </a:lnTo>
                        <a:lnTo>
                          <a:pt x="90" y="102"/>
                        </a:lnTo>
                        <a:lnTo>
                          <a:pt x="89" y="102"/>
                        </a:lnTo>
                        <a:lnTo>
                          <a:pt x="89" y="103"/>
                        </a:lnTo>
                        <a:lnTo>
                          <a:pt x="86" y="105"/>
                        </a:lnTo>
                        <a:lnTo>
                          <a:pt x="79" y="107"/>
                        </a:lnTo>
                        <a:lnTo>
                          <a:pt x="73" y="108"/>
                        </a:lnTo>
                        <a:lnTo>
                          <a:pt x="65" y="107"/>
                        </a:lnTo>
                        <a:lnTo>
                          <a:pt x="58" y="105"/>
                        </a:lnTo>
                        <a:lnTo>
                          <a:pt x="47" y="98"/>
                        </a:lnTo>
                        <a:lnTo>
                          <a:pt x="41" y="91"/>
                        </a:lnTo>
                        <a:lnTo>
                          <a:pt x="39" y="86"/>
                        </a:lnTo>
                        <a:lnTo>
                          <a:pt x="36" y="79"/>
                        </a:lnTo>
                        <a:lnTo>
                          <a:pt x="36" y="72"/>
                        </a:lnTo>
                        <a:lnTo>
                          <a:pt x="39" y="57"/>
                        </a:lnTo>
                        <a:lnTo>
                          <a:pt x="47" y="47"/>
                        </a:lnTo>
                        <a:lnTo>
                          <a:pt x="58" y="38"/>
                        </a:lnTo>
                        <a:lnTo>
                          <a:pt x="73" y="36"/>
                        </a:lnTo>
                        <a:close/>
                      </a:path>
                    </a:pathLst>
                  </a:custGeom>
                  <a:solidFill>
                    <a:srgbClr val="629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6059520" y="4204080"/>
                    <a:ext cx="180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72">
                        <a:moveTo>
                          <a:pt x="63" y="11"/>
                        </a:moveTo>
                        <a:lnTo>
                          <a:pt x="56" y="6"/>
                        </a:lnTo>
                        <a:lnTo>
                          <a:pt x="50" y="2"/>
                        </a:lnTo>
                        <a:lnTo>
                          <a:pt x="43" y="0"/>
                        </a:lnTo>
                        <a:lnTo>
                          <a:pt x="37" y="0"/>
                        </a:lnTo>
                        <a:lnTo>
                          <a:pt x="22" y="2"/>
                        </a:lnTo>
                        <a:lnTo>
                          <a:pt x="11" y="11"/>
                        </a:lnTo>
                        <a:lnTo>
                          <a:pt x="3" y="21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lnTo>
                          <a:pt x="5" y="55"/>
                        </a:lnTo>
                        <a:lnTo>
                          <a:pt x="11" y="62"/>
                        </a:lnTo>
                        <a:lnTo>
                          <a:pt x="22" y="69"/>
                        </a:lnTo>
                        <a:lnTo>
                          <a:pt x="29" y="71"/>
                        </a:lnTo>
                        <a:lnTo>
                          <a:pt x="37" y="72"/>
                        </a:lnTo>
                        <a:lnTo>
                          <a:pt x="43" y="71"/>
                        </a:lnTo>
                        <a:lnTo>
                          <a:pt x="50" y="69"/>
                        </a:lnTo>
                        <a:lnTo>
                          <a:pt x="53" y="67"/>
                        </a:lnTo>
                        <a:lnTo>
                          <a:pt x="53" y="66"/>
                        </a:lnTo>
                        <a:lnTo>
                          <a:pt x="54" y="66"/>
                        </a:lnTo>
                        <a:lnTo>
                          <a:pt x="56" y="66"/>
                        </a:lnTo>
                        <a:lnTo>
                          <a:pt x="63" y="62"/>
                        </a:lnTo>
                        <a:lnTo>
                          <a:pt x="66" y="55"/>
                        </a:lnTo>
                        <a:lnTo>
                          <a:pt x="66" y="53"/>
                        </a:lnTo>
                        <a:lnTo>
                          <a:pt x="66" y="52"/>
                        </a:lnTo>
                        <a:lnTo>
                          <a:pt x="67" y="52"/>
                        </a:lnTo>
                        <a:lnTo>
                          <a:pt x="70" y="50"/>
                        </a:lnTo>
                        <a:lnTo>
                          <a:pt x="72" y="43"/>
                        </a:lnTo>
                        <a:lnTo>
                          <a:pt x="73" y="36"/>
                        </a:lnTo>
                        <a:lnTo>
                          <a:pt x="72" y="28"/>
                        </a:lnTo>
                        <a:lnTo>
                          <a:pt x="70" y="21"/>
                        </a:lnTo>
                        <a:lnTo>
                          <a:pt x="63" y="11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5791680" y="4289400"/>
                    <a:ext cx="799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520">
                        <a:moveTo>
                          <a:pt x="314" y="520"/>
                        </a:moveTo>
                        <a:lnTo>
                          <a:pt x="293" y="498"/>
                        </a:lnTo>
                        <a:lnTo>
                          <a:pt x="238" y="441"/>
                        </a:lnTo>
                        <a:lnTo>
                          <a:pt x="213" y="412"/>
                        </a:lnTo>
                        <a:lnTo>
                          <a:pt x="191" y="384"/>
                        </a:lnTo>
                        <a:lnTo>
                          <a:pt x="168" y="353"/>
                        </a:lnTo>
                        <a:lnTo>
                          <a:pt x="147" y="323"/>
                        </a:lnTo>
                        <a:lnTo>
                          <a:pt x="127" y="293"/>
                        </a:lnTo>
                        <a:lnTo>
                          <a:pt x="109" y="263"/>
                        </a:lnTo>
                        <a:lnTo>
                          <a:pt x="75" y="200"/>
                        </a:lnTo>
                        <a:lnTo>
                          <a:pt x="59" y="167"/>
                        </a:lnTo>
                        <a:lnTo>
                          <a:pt x="45" y="135"/>
                        </a:lnTo>
                        <a:lnTo>
                          <a:pt x="32" y="101"/>
                        </a:lnTo>
                        <a:lnTo>
                          <a:pt x="20" y="68"/>
                        </a:lnTo>
                        <a:lnTo>
                          <a:pt x="0" y="0"/>
                        </a:lnTo>
                        <a:lnTo>
                          <a:pt x="6" y="59"/>
                        </a:lnTo>
                        <a:lnTo>
                          <a:pt x="10" y="88"/>
                        </a:lnTo>
                        <a:lnTo>
                          <a:pt x="17" y="117"/>
                        </a:lnTo>
                        <a:lnTo>
                          <a:pt x="24" y="144"/>
                        </a:lnTo>
                        <a:lnTo>
                          <a:pt x="33" y="173"/>
                        </a:lnTo>
                        <a:lnTo>
                          <a:pt x="56" y="227"/>
                        </a:lnTo>
                        <a:lnTo>
                          <a:pt x="67" y="252"/>
                        </a:lnTo>
                        <a:lnTo>
                          <a:pt x="82" y="278"/>
                        </a:lnTo>
                        <a:lnTo>
                          <a:pt x="113" y="328"/>
                        </a:lnTo>
                        <a:lnTo>
                          <a:pt x="150" y="376"/>
                        </a:lnTo>
                        <a:lnTo>
                          <a:pt x="170" y="398"/>
                        </a:lnTo>
                        <a:lnTo>
                          <a:pt x="193" y="422"/>
                        </a:lnTo>
                        <a:lnTo>
                          <a:pt x="221" y="448"/>
                        </a:lnTo>
                        <a:lnTo>
                          <a:pt x="252" y="474"/>
                        </a:lnTo>
                        <a:lnTo>
                          <a:pt x="282" y="498"/>
                        </a:lnTo>
                        <a:lnTo>
                          <a:pt x="314" y="520"/>
                        </a:lnTo>
                        <a:close/>
                      </a:path>
                    </a:pathLst>
                  </a:custGeom>
                  <a:solidFill>
                    <a:srgbClr val="020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5790960" y="4248720"/>
                    <a:ext cx="1134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740">
                        <a:moveTo>
                          <a:pt x="295" y="657"/>
                        </a:moveTo>
                        <a:lnTo>
                          <a:pt x="316" y="679"/>
                        </a:lnTo>
                        <a:lnTo>
                          <a:pt x="347" y="696"/>
                        </a:lnTo>
                        <a:lnTo>
                          <a:pt x="378" y="713"/>
                        </a:lnTo>
                        <a:lnTo>
                          <a:pt x="411" y="727"/>
                        </a:lnTo>
                        <a:lnTo>
                          <a:pt x="445" y="740"/>
                        </a:lnTo>
                        <a:lnTo>
                          <a:pt x="381" y="688"/>
                        </a:lnTo>
                        <a:lnTo>
                          <a:pt x="349" y="659"/>
                        </a:lnTo>
                        <a:lnTo>
                          <a:pt x="320" y="631"/>
                        </a:lnTo>
                        <a:lnTo>
                          <a:pt x="285" y="596"/>
                        </a:lnTo>
                        <a:lnTo>
                          <a:pt x="255" y="561"/>
                        </a:lnTo>
                        <a:lnTo>
                          <a:pt x="224" y="524"/>
                        </a:lnTo>
                        <a:lnTo>
                          <a:pt x="198" y="489"/>
                        </a:lnTo>
                        <a:lnTo>
                          <a:pt x="172" y="452"/>
                        </a:lnTo>
                        <a:lnTo>
                          <a:pt x="148" y="414"/>
                        </a:lnTo>
                        <a:lnTo>
                          <a:pt x="126" y="376"/>
                        </a:lnTo>
                        <a:lnTo>
                          <a:pt x="106" y="339"/>
                        </a:lnTo>
                        <a:lnTo>
                          <a:pt x="87" y="298"/>
                        </a:lnTo>
                        <a:lnTo>
                          <a:pt x="71" y="257"/>
                        </a:lnTo>
                        <a:lnTo>
                          <a:pt x="55" y="215"/>
                        </a:lnTo>
                        <a:lnTo>
                          <a:pt x="43" y="174"/>
                        </a:lnTo>
                        <a:lnTo>
                          <a:pt x="30" y="131"/>
                        </a:lnTo>
                        <a:lnTo>
                          <a:pt x="21" y="88"/>
                        </a:lnTo>
                        <a:lnTo>
                          <a:pt x="13" y="44"/>
                        </a:lnTo>
                        <a:lnTo>
                          <a:pt x="9" y="0"/>
                        </a:lnTo>
                        <a:lnTo>
                          <a:pt x="2" y="54"/>
                        </a:lnTo>
                        <a:lnTo>
                          <a:pt x="0" y="112"/>
                        </a:lnTo>
                        <a:lnTo>
                          <a:pt x="2" y="159"/>
                        </a:lnTo>
                        <a:lnTo>
                          <a:pt x="22" y="227"/>
                        </a:lnTo>
                        <a:lnTo>
                          <a:pt x="34" y="260"/>
                        </a:lnTo>
                        <a:lnTo>
                          <a:pt x="47" y="294"/>
                        </a:lnTo>
                        <a:lnTo>
                          <a:pt x="61" y="326"/>
                        </a:lnTo>
                        <a:lnTo>
                          <a:pt x="77" y="359"/>
                        </a:lnTo>
                        <a:lnTo>
                          <a:pt x="111" y="422"/>
                        </a:lnTo>
                        <a:lnTo>
                          <a:pt x="129" y="452"/>
                        </a:lnTo>
                        <a:lnTo>
                          <a:pt x="149" y="482"/>
                        </a:lnTo>
                        <a:lnTo>
                          <a:pt x="170" y="512"/>
                        </a:lnTo>
                        <a:lnTo>
                          <a:pt x="193" y="543"/>
                        </a:lnTo>
                        <a:lnTo>
                          <a:pt x="215" y="571"/>
                        </a:lnTo>
                        <a:lnTo>
                          <a:pt x="240" y="600"/>
                        </a:lnTo>
                        <a:lnTo>
                          <a:pt x="295" y="657"/>
                        </a:lnTo>
                        <a:close/>
                      </a:path>
                    </a:pathLst>
                  </a:custGeom>
                  <a:solidFill>
                    <a:srgbClr val="060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5793480" y="4220280"/>
                    <a:ext cx="13644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879">
                        <a:moveTo>
                          <a:pt x="311" y="744"/>
                        </a:moveTo>
                        <a:lnTo>
                          <a:pt x="340" y="772"/>
                        </a:lnTo>
                        <a:lnTo>
                          <a:pt x="372" y="801"/>
                        </a:lnTo>
                        <a:lnTo>
                          <a:pt x="436" y="853"/>
                        </a:lnTo>
                        <a:lnTo>
                          <a:pt x="485" y="868"/>
                        </a:lnTo>
                        <a:lnTo>
                          <a:pt x="538" y="879"/>
                        </a:lnTo>
                        <a:lnTo>
                          <a:pt x="484" y="844"/>
                        </a:lnTo>
                        <a:lnTo>
                          <a:pt x="433" y="805"/>
                        </a:lnTo>
                        <a:lnTo>
                          <a:pt x="383" y="763"/>
                        </a:lnTo>
                        <a:lnTo>
                          <a:pt x="337" y="718"/>
                        </a:lnTo>
                        <a:lnTo>
                          <a:pt x="299" y="679"/>
                        </a:lnTo>
                        <a:lnTo>
                          <a:pt x="266" y="641"/>
                        </a:lnTo>
                        <a:lnTo>
                          <a:pt x="233" y="600"/>
                        </a:lnTo>
                        <a:lnTo>
                          <a:pt x="205" y="560"/>
                        </a:lnTo>
                        <a:lnTo>
                          <a:pt x="177" y="518"/>
                        </a:lnTo>
                        <a:lnTo>
                          <a:pt x="153" y="476"/>
                        </a:lnTo>
                        <a:lnTo>
                          <a:pt x="129" y="432"/>
                        </a:lnTo>
                        <a:lnTo>
                          <a:pt x="110" y="389"/>
                        </a:lnTo>
                        <a:lnTo>
                          <a:pt x="91" y="343"/>
                        </a:lnTo>
                        <a:lnTo>
                          <a:pt x="76" y="297"/>
                        </a:lnTo>
                        <a:lnTo>
                          <a:pt x="61" y="250"/>
                        </a:lnTo>
                        <a:lnTo>
                          <a:pt x="51" y="202"/>
                        </a:lnTo>
                        <a:lnTo>
                          <a:pt x="41" y="152"/>
                        </a:lnTo>
                        <a:lnTo>
                          <a:pt x="35" y="102"/>
                        </a:lnTo>
                        <a:lnTo>
                          <a:pt x="29" y="51"/>
                        </a:lnTo>
                        <a:lnTo>
                          <a:pt x="28" y="0"/>
                        </a:lnTo>
                        <a:lnTo>
                          <a:pt x="11" y="55"/>
                        </a:lnTo>
                        <a:lnTo>
                          <a:pt x="0" y="113"/>
                        </a:lnTo>
                        <a:lnTo>
                          <a:pt x="4" y="157"/>
                        </a:lnTo>
                        <a:lnTo>
                          <a:pt x="12" y="201"/>
                        </a:lnTo>
                        <a:lnTo>
                          <a:pt x="21" y="244"/>
                        </a:lnTo>
                        <a:lnTo>
                          <a:pt x="34" y="287"/>
                        </a:lnTo>
                        <a:lnTo>
                          <a:pt x="46" y="328"/>
                        </a:lnTo>
                        <a:lnTo>
                          <a:pt x="62" y="370"/>
                        </a:lnTo>
                        <a:lnTo>
                          <a:pt x="78" y="411"/>
                        </a:lnTo>
                        <a:lnTo>
                          <a:pt x="97" y="452"/>
                        </a:lnTo>
                        <a:lnTo>
                          <a:pt x="117" y="489"/>
                        </a:lnTo>
                        <a:lnTo>
                          <a:pt x="139" y="527"/>
                        </a:lnTo>
                        <a:lnTo>
                          <a:pt x="163" y="565"/>
                        </a:lnTo>
                        <a:lnTo>
                          <a:pt x="189" y="602"/>
                        </a:lnTo>
                        <a:lnTo>
                          <a:pt x="215" y="637"/>
                        </a:lnTo>
                        <a:lnTo>
                          <a:pt x="246" y="674"/>
                        </a:lnTo>
                        <a:lnTo>
                          <a:pt x="276" y="709"/>
                        </a:lnTo>
                        <a:lnTo>
                          <a:pt x="311" y="744"/>
                        </a:lnTo>
                        <a:close/>
                      </a:path>
                    </a:pathLst>
                  </a:custGeom>
                  <a:solidFill>
                    <a:srgbClr val="090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790960" y="4108680"/>
                    <a:ext cx="338040" cy="33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9" h="1327">
                        <a:moveTo>
                          <a:pt x="195" y="193"/>
                        </a:moveTo>
                        <a:lnTo>
                          <a:pt x="148" y="242"/>
                        </a:lnTo>
                        <a:lnTo>
                          <a:pt x="109" y="295"/>
                        </a:lnTo>
                        <a:lnTo>
                          <a:pt x="90" y="322"/>
                        </a:lnTo>
                        <a:lnTo>
                          <a:pt x="75" y="350"/>
                        </a:lnTo>
                        <a:lnTo>
                          <a:pt x="48" y="408"/>
                        </a:lnTo>
                        <a:lnTo>
                          <a:pt x="26" y="468"/>
                        </a:lnTo>
                        <a:lnTo>
                          <a:pt x="11" y="530"/>
                        </a:lnTo>
                        <a:lnTo>
                          <a:pt x="2" y="595"/>
                        </a:lnTo>
                        <a:lnTo>
                          <a:pt x="0" y="664"/>
                        </a:lnTo>
                        <a:lnTo>
                          <a:pt x="0" y="697"/>
                        </a:lnTo>
                        <a:lnTo>
                          <a:pt x="2" y="731"/>
                        </a:lnTo>
                        <a:lnTo>
                          <a:pt x="5" y="762"/>
                        </a:lnTo>
                        <a:lnTo>
                          <a:pt x="11" y="795"/>
                        </a:lnTo>
                        <a:lnTo>
                          <a:pt x="17" y="826"/>
                        </a:lnTo>
                        <a:lnTo>
                          <a:pt x="26" y="858"/>
                        </a:lnTo>
                        <a:lnTo>
                          <a:pt x="36" y="887"/>
                        </a:lnTo>
                        <a:lnTo>
                          <a:pt x="48" y="918"/>
                        </a:lnTo>
                        <a:lnTo>
                          <a:pt x="60" y="946"/>
                        </a:lnTo>
                        <a:lnTo>
                          <a:pt x="75" y="974"/>
                        </a:lnTo>
                        <a:lnTo>
                          <a:pt x="90" y="1002"/>
                        </a:lnTo>
                        <a:lnTo>
                          <a:pt x="109" y="1030"/>
                        </a:lnTo>
                        <a:lnTo>
                          <a:pt x="127" y="1056"/>
                        </a:lnTo>
                        <a:lnTo>
                          <a:pt x="148" y="1082"/>
                        </a:lnTo>
                        <a:lnTo>
                          <a:pt x="170" y="1107"/>
                        </a:lnTo>
                        <a:lnTo>
                          <a:pt x="195" y="1133"/>
                        </a:lnTo>
                        <a:lnTo>
                          <a:pt x="219" y="1156"/>
                        </a:lnTo>
                        <a:lnTo>
                          <a:pt x="244" y="1177"/>
                        </a:lnTo>
                        <a:lnTo>
                          <a:pt x="270" y="1198"/>
                        </a:lnTo>
                        <a:lnTo>
                          <a:pt x="297" y="1217"/>
                        </a:lnTo>
                        <a:lnTo>
                          <a:pt x="323" y="1234"/>
                        </a:lnTo>
                        <a:lnTo>
                          <a:pt x="351" y="1250"/>
                        </a:lnTo>
                        <a:lnTo>
                          <a:pt x="380" y="1265"/>
                        </a:lnTo>
                        <a:lnTo>
                          <a:pt x="409" y="1278"/>
                        </a:lnTo>
                        <a:lnTo>
                          <a:pt x="469" y="1299"/>
                        </a:lnTo>
                        <a:lnTo>
                          <a:pt x="532" y="1314"/>
                        </a:lnTo>
                        <a:lnTo>
                          <a:pt x="596" y="1324"/>
                        </a:lnTo>
                        <a:lnTo>
                          <a:pt x="629" y="1326"/>
                        </a:lnTo>
                        <a:lnTo>
                          <a:pt x="664" y="1327"/>
                        </a:lnTo>
                        <a:lnTo>
                          <a:pt x="680" y="1326"/>
                        </a:lnTo>
                        <a:lnTo>
                          <a:pt x="697" y="1326"/>
                        </a:lnTo>
                        <a:lnTo>
                          <a:pt x="731" y="1324"/>
                        </a:lnTo>
                        <a:lnTo>
                          <a:pt x="763" y="1319"/>
                        </a:lnTo>
                        <a:lnTo>
                          <a:pt x="796" y="1314"/>
                        </a:lnTo>
                        <a:lnTo>
                          <a:pt x="811" y="1310"/>
                        </a:lnTo>
                        <a:lnTo>
                          <a:pt x="826" y="1307"/>
                        </a:lnTo>
                        <a:lnTo>
                          <a:pt x="858" y="1299"/>
                        </a:lnTo>
                        <a:lnTo>
                          <a:pt x="888" y="1288"/>
                        </a:lnTo>
                        <a:lnTo>
                          <a:pt x="894" y="1285"/>
                        </a:lnTo>
                        <a:lnTo>
                          <a:pt x="902" y="1283"/>
                        </a:lnTo>
                        <a:lnTo>
                          <a:pt x="918" y="1278"/>
                        </a:lnTo>
                        <a:lnTo>
                          <a:pt x="947" y="1265"/>
                        </a:lnTo>
                        <a:lnTo>
                          <a:pt x="960" y="1257"/>
                        </a:lnTo>
                        <a:lnTo>
                          <a:pt x="975" y="1250"/>
                        </a:lnTo>
                        <a:lnTo>
                          <a:pt x="1002" y="1234"/>
                        </a:lnTo>
                        <a:lnTo>
                          <a:pt x="1016" y="1225"/>
                        </a:lnTo>
                        <a:lnTo>
                          <a:pt x="1023" y="1220"/>
                        </a:lnTo>
                        <a:lnTo>
                          <a:pt x="1026" y="1218"/>
                        </a:lnTo>
                        <a:lnTo>
                          <a:pt x="1031" y="1217"/>
                        </a:lnTo>
                        <a:lnTo>
                          <a:pt x="1033" y="1214"/>
                        </a:lnTo>
                        <a:lnTo>
                          <a:pt x="1036" y="1211"/>
                        </a:lnTo>
                        <a:lnTo>
                          <a:pt x="1043" y="1207"/>
                        </a:lnTo>
                        <a:lnTo>
                          <a:pt x="1057" y="1198"/>
                        </a:lnTo>
                        <a:lnTo>
                          <a:pt x="1083" y="1177"/>
                        </a:lnTo>
                        <a:lnTo>
                          <a:pt x="1108" y="1156"/>
                        </a:lnTo>
                        <a:lnTo>
                          <a:pt x="1134" y="1133"/>
                        </a:lnTo>
                        <a:lnTo>
                          <a:pt x="1156" y="1107"/>
                        </a:lnTo>
                        <a:lnTo>
                          <a:pt x="1179" y="1082"/>
                        </a:lnTo>
                        <a:lnTo>
                          <a:pt x="1199" y="1056"/>
                        </a:lnTo>
                        <a:lnTo>
                          <a:pt x="1209" y="1042"/>
                        </a:lnTo>
                        <a:lnTo>
                          <a:pt x="1213" y="1036"/>
                        </a:lnTo>
                        <a:lnTo>
                          <a:pt x="1215" y="1032"/>
                        </a:lnTo>
                        <a:lnTo>
                          <a:pt x="1219" y="1030"/>
                        </a:lnTo>
                        <a:lnTo>
                          <a:pt x="1220" y="1025"/>
                        </a:lnTo>
                        <a:lnTo>
                          <a:pt x="1222" y="1022"/>
                        </a:lnTo>
                        <a:lnTo>
                          <a:pt x="1227" y="1015"/>
                        </a:lnTo>
                        <a:lnTo>
                          <a:pt x="1236" y="1002"/>
                        </a:lnTo>
                        <a:lnTo>
                          <a:pt x="1252" y="974"/>
                        </a:lnTo>
                        <a:lnTo>
                          <a:pt x="1258" y="960"/>
                        </a:lnTo>
                        <a:lnTo>
                          <a:pt x="1266" y="946"/>
                        </a:lnTo>
                        <a:lnTo>
                          <a:pt x="1280" y="918"/>
                        </a:lnTo>
                        <a:lnTo>
                          <a:pt x="1285" y="902"/>
                        </a:lnTo>
                        <a:lnTo>
                          <a:pt x="1287" y="894"/>
                        </a:lnTo>
                        <a:lnTo>
                          <a:pt x="1290" y="887"/>
                        </a:lnTo>
                        <a:lnTo>
                          <a:pt x="1300" y="858"/>
                        </a:lnTo>
                        <a:lnTo>
                          <a:pt x="1308" y="826"/>
                        </a:lnTo>
                        <a:lnTo>
                          <a:pt x="1312" y="810"/>
                        </a:lnTo>
                        <a:lnTo>
                          <a:pt x="1316" y="795"/>
                        </a:lnTo>
                        <a:lnTo>
                          <a:pt x="1321" y="762"/>
                        </a:lnTo>
                        <a:lnTo>
                          <a:pt x="1325" y="731"/>
                        </a:lnTo>
                        <a:lnTo>
                          <a:pt x="1328" y="697"/>
                        </a:lnTo>
                        <a:lnTo>
                          <a:pt x="1328" y="680"/>
                        </a:lnTo>
                        <a:lnTo>
                          <a:pt x="1329" y="664"/>
                        </a:lnTo>
                        <a:lnTo>
                          <a:pt x="1328" y="629"/>
                        </a:lnTo>
                        <a:lnTo>
                          <a:pt x="1325" y="595"/>
                        </a:lnTo>
                        <a:lnTo>
                          <a:pt x="1316" y="530"/>
                        </a:lnTo>
                        <a:lnTo>
                          <a:pt x="1300" y="468"/>
                        </a:lnTo>
                        <a:lnTo>
                          <a:pt x="1280" y="408"/>
                        </a:lnTo>
                        <a:lnTo>
                          <a:pt x="1266" y="378"/>
                        </a:lnTo>
                        <a:lnTo>
                          <a:pt x="1252" y="350"/>
                        </a:lnTo>
                        <a:lnTo>
                          <a:pt x="1236" y="322"/>
                        </a:lnTo>
                        <a:lnTo>
                          <a:pt x="1219" y="295"/>
                        </a:lnTo>
                        <a:lnTo>
                          <a:pt x="1199" y="268"/>
                        </a:lnTo>
                        <a:lnTo>
                          <a:pt x="1179" y="242"/>
                        </a:lnTo>
                        <a:lnTo>
                          <a:pt x="1134" y="193"/>
                        </a:lnTo>
                        <a:lnTo>
                          <a:pt x="1108" y="169"/>
                        </a:lnTo>
                        <a:lnTo>
                          <a:pt x="1083" y="147"/>
                        </a:lnTo>
                        <a:lnTo>
                          <a:pt x="1057" y="125"/>
                        </a:lnTo>
                        <a:lnTo>
                          <a:pt x="1031" y="107"/>
                        </a:lnTo>
                        <a:lnTo>
                          <a:pt x="1002" y="89"/>
                        </a:lnTo>
                        <a:lnTo>
                          <a:pt x="975" y="73"/>
                        </a:lnTo>
                        <a:lnTo>
                          <a:pt x="947" y="59"/>
                        </a:lnTo>
                        <a:lnTo>
                          <a:pt x="918" y="47"/>
                        </a:lnTo>
                        <a:lnTo>
                          <a:pt x="888" y="35"/>
                        </a:lnTo>
                        <a:lnTo>
                          <a:pt x="858" y="26"/>
                        </a:lnTo>
                        <a:lnTo>
                          <a:pt x="826" y="17"/>
                        </a:lnTo>
                        <a:lnTo>
                          <a:pt x="796" y="11"/>
                        </a:lnTo>
                        <a:lnTo>
                          <a:pt x="763" y="5"/>
                        </a:lnTo>
                        <a:lnTo>
                          <a:pt x="731" y="2"/>
                        </a:lnTo>
                        <a:lnTo>
                          <a:pt x="697" y="0"/>
                        </a:lnTo>
                        <a:lnTo>
                          <a:pt x="664" y="0"/>
                        </a:lnTo>
                        <a:lnTo>
                          <a:pt x="629" y="0"/>
                        </a:lnTo>
                        <a:lnTo>
                          <a:pt x="596" y="2"/>
                        </a:lnTo>
                        <a:lnTo>
                          <a:pt x="532" y="11"/>
                        </a:lnTo>
                        <a:lnTo>
                          <a:pt x="469" y="26"/>
                        </a:lnTo>
                        <a:lnTo>
                          <a:pt x="409" y="47"/>
                        </a:lnTo>
                        <a:lnTo>
                          <a:pt x="351" y="73"/>
                        </a:lnTo>
                        <a:lnTo>
                          <a:pt x="323" y="89"/>
                        </a:lnTo>
                        <a:lnTo>
                          <a:pt x="297" y="107"/>
                        </a:lnTo>
                        <a:lnTo>
                          <a:pt x="244" y="147"/>
                        </a:lnTo>
                        <a:lnTo>
                          <a:pt x="195" y="19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5879520" y="4201920"/>
                    <a:ext cx="1692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612">
                        <a:moveTo>
                          <a:pt x="666" y="362"/>
                        </a:moveTo>
                        <a:lnTo>
                          <a:pt x="666" y="230"/>
                        </a:lnTo>
                        <a:lnTo>
                          <a:pt x="382" y="230"/>
                        </a:lnTo>
                        <a:lnTo>
                          <a:pt x="382" y="0"/>
                        </a:lnTo>
                        <a:lnTo>
                          <a:pt x="261" y="0"/>
                        </a:lnTo>
                        <a:lnTo>
                          <a:pt x="261" y="230"/>
                        </a:lnTo>
                        <a:lnTo>
                          <a:pt x="0" y="230"/>
                        </a:lnTo>
                        <a:lnTo>
                          <a:pt x="0" y="362"/>
                        </a:lnTo>
                        <a:lnTo>
                          <a:pt x="261" y="362"/>
                        </a:lnTo>
                        <a:lnTo>
                          <a:pt x="261" y="612"/>
                        </a:lnTo>
                        <a:lnTo>
                          <a:pt x="382" y="612"/>
                        </a:lnTo>
                        <a:lnTo>
                          <a:pt x="382" y="362"/>
                        </a:lnTo>
                        <a:lnTo>
                          <a:pt x="666" y="3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5879520" y="4201920"/>
                    <a:ext cx="1692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612">
                        <a:moveTo>
                          <a:pt x="666" y="230"/>
                        </a:moveTo>
                        <a:lnTo>
                          <a:pt x="382" y="230"/>
                        </a:lnTo>
                        <a:lnTo>
                          <a:pt x="382" y="0"/>
                        </a:lnTo>
                        <a:lnTo>
                          <a:pt x="261" y="0"/>
                        </a:lnTo>
                        <a:lnTo>
                          <a:pt x="261" y="230"/>
                        </a:lnTo>
                        <a:lnTo>
                          <a:pt x="0" y="230"/>
                        </a:lnTo>
                        <a:lnTo>
                          <a:pt x="0" y="362"/>
                        </a:lnTo>
                        <a:lnTo>
                          <a:pt x="261" y="362"/>
                        </a:lnTo>
                        <a:lnTo>
                          <a:pt x="261" y="612"/>
                        </a:lnTo>
                        <a:lnTo>
                          <a:pt x="382" y="612"/>
                        </a:lnTo>
                        <a:lnTo>
                          <a:pt x="382" y="362"/>
                        </a:lnTo>
                        <a:lnTo>
                          <a:pt x="666" y="362"/>
                        </a:lnTo>
                        <a:lnTo>
                          <a:pt x="666" y="23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5766480" y="5606280"/>
                    <a:ext cx="19872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3" h="1030">
                        <a:moveTo>
                          <a:pt x="192" y="0"/>
                        </a:moveTo>
                        <a:lnTo>
                          <a:pt x="159" y="1"/>
                        </a:lnTo>
                        <a:lnTo>
                          <a:pt x="120" y="44"/>
                        </a:lnTo>
                        <a:lnTo>
                          <a:pt x="89" y="91"/>
                        </a:lnTo>
                        <a:lnTo>
                          <a:pt x="61" y="140"/>
                        </a:lnTo>
                        <a:lnTo>
                          <a:pt x="40" y="191"/>
                        </a:lnTo>
                        <a:lnTo>
                          <a:pt x="22" y="242"/>
                        </a:lnTo>
                        <a:lnTo>
                          <a:pt x="9" y="297"/>
                        </a:lnTo>
                        <a:lnTo>
                          <a:pt x="2" y="353"/>
                        </a:lnTo>
                        <a:lnTo>
                          <a:pt x="0" y="413"/>
                        </a:lnTo>
                        <a:lnTo>
                          <a:pt x="0" y="443"/>
                        </a:lnTo>
                        <a:lnTo>
                          <a:pt x="2" y="475"/>
                        </a:lnTo>
                        <a:lnTo>
                          <a:pt x="6" y="505"/>
                        </a:lnTo>
                        <a:lnTo>
                          <a:pt x="12" y="535"/>
                        </a:lnTo>
                        <a:lnTo>
                          <a:pt x="17" y="563"/>
                        </a:lnTo>
                        <a:lnTo>
                          <a:pt x="25" y="593"/>
                        </a:lnTo>
                        <a:lnTo>
                          <a:pt x="34" y="621"/>
                        </a:lnTo>
                        <a:lnTo>
                          <a:pt x="46" y="650"/>
                        </a:lnTo>
                        <a:lnTo>
                          <a:pt x="57" y="676"/>
                        </a:lnTo>
                        <a:lnTo>
                          <a:pt x="71" y="703"/>
                        </a:lnTo>
                        <a:lnTo>
                          <a:pt x="85" y="728"/>
                        </a:lnTo>
                        <a:lnTo>
                          <a:pt x="102" y="754"/>
                        </a:lnTo>
                        <a:lnTo>
                          <a:pt x="119" y="778"/>
                        </a:lnTo>
                        <a:lnTo>
                          <a:pt x="139" y="803"/>
                        </a:lnTo>
                        <a:lnTo>
                          <a:pt x="159" y="825"/>
                        </a:lnTo>
                        <a:lnTo>
                          <a:pt x="182" y="849"/>
                        </a:lnTo>
                        <a:lnTo>
                          <a:pt x="203" y="871"/>
                        </a:lnTo>
                        <a:lnTo>
                          <a:pt x="227" y="891"/>
                        </a:lnTo>
                        <a:lnTo>
                          <a:pt x="251" y="910"/>
                        </a:lnTo>
                        <a:lnTo>
                          <a:pt x="276" y="928"/>
                        </a:lnTo>
                        <a:lnTo>
                          <a:pt x="301" y="944"/>
                        </a:lnTo>
                        <a:lnTo>
                          <a:pt x="327" y="959"/>
                        </a:lnTo>
                        <a:lnTo>
                          <a:pt x="353" y="973"/>
                        </a:lnTo>
                        <a:lnTo>
                          <a:pt x="380" y="985"/>
                        </a:lnTo>
                        <a:lnTo>
                          <a:pt x="407" y="995"/>
                        </a:lnTo>
                        <a:lnTo>
                          <a:pt x="436" y="1004"/>
                        </a:lnTo>
                        <a:lnTo>
                          <a:pt x="464" y="1012"/>
                        </a:lnTo>
                        <a:lnTo>
                          <a:pt x="493" y="1019"/>
                        </a:lnTo>
                        <a:lnTo>
                          <a:pt x="523" y="1024"/>
                        </a:lnTo>
                        <a:lnTo>
                          <a:pt x="554" y="1027"/>
                        </a:lnTo>
                        <a:lnTo>
                          <a:pt x="585" y="1029"/>
                        </a:lnTo>
                        <a:lnTo>
                          <a:pt x="618" y="1030"/>
                        </a:lnTo>
                        <a:lnTo>
                          <a:pt x="618" y="1029"/>
                        </a:lnTo>
                        <a:lnTo>
                          <a:pt x="619" y="1029"/>
                        </a:lnTo>
                        <a:lnTo>
                          <a:pt x="622" y="1029"/>
                        </a:lnTo>
                        <a:lnTo>
                          <a:pt x="626" y="1029"/>
                        </a:lnTo>
                        <a:lnTo>
                          <a:pt x="635" y="1029"/>
                        </a:lnTo>
                        <a:lnTo>
                          <a:pt x="653" y="1029"/>
                        </a:lnTo>
                        <a:lnTo>
                          <a:pt x="689" y="1027"/>
                        </a:lnTo>
                        <a:lnTo>
                          <a:pt x="723" y="1023"/>
                        </a:lnTo>
                        <a:lnTo>
                          <a:pt x="757" y="1017"/>
                        </a:lnTo>
                        <a:lnTo>
                          <a:pt x="769" y="994"/>
                        </a:lnTo>
                        <a:lnTo>
                          <a:pt x="783" y="973"/>
                        </a:lnTo>
                        <a:lnTo>
                          <a:pt x="742" y="981"/>
                        </a:lnTo>
                        <a:lnTo>
                          <a:pt x="721" y="984"/>
                        </a:lnTo>
                        <a:lnTo>
                          <a:pt x="702" y="989"/>
                        </a:lnTo>
                        <a:lnTo>
                          <a:pt x="691" y="989"/>
                        </a:lnTo>
                        <a:lnTo>
                          <a:pt x="685" y="989"/>
                        </a:lnTo>
                        <a:lnTo>
                          <a:pt x="681" y="990"/>
                        </a:lnTo>
                        <a:lnTo>
                          <a:pt x="660" y="992"/>
                        </a:lnTo>
                        <a:lnTo>
                          <a:pt x="649" y="992"/>
                        </a:lnTo>
                        <a:lnTo>
                          <a:pt x="643" y="992"/>
                        </a:lnTo>
                        <a:lnTo>
                          <a:pt x="639" y="993"/>
                        </a:lnTo>
                        <a:lnTo>
                          <a:pt x="618" y="994"/>
                        </a:lnTo>
                        <a:lnTo>
                          <a:pt x="588" y="993"/>
                        </a:lnTo>
                        <a:lnTo>
                          <a:pt x="558" y="991"/>
                        </a:lnTo>
                        <a:lnTo>
                          <a:pt x="529" y="987"/>
                        </a:lnTo>
                        <a:lnTo>
                          <a:pt x="501" y="983"/>
                        </a:lnTo>
                        <a:lnTo>
                          <a:pt x="446" y="969"/>
                        </a:lnTo>
                        <a:lnTo>
                          <a:pt x="395" y="951"/>
                        </a:lnTo>
                        <a:lnTo>
                          <a:pt x="344" y="926"/>
                        </a:lnTo>
                        <a:lnTo>
                          <a:pt x="319" y="913"/>
                        </a:lnTo>
                        <a:lnTo>
                          <a:pt x="296" y="898"/>
                        </a:lnTo>
                        <a:lnTo>
                          <a:pt x="272" y="881"/>
                        </a:lnTo>
                        <a:lnTo>
                          <a:pt x="250" y="863"/>
                        </a:lnTo>
                        <a:lnTo>
                          <a:pt x="208" y="824"/>
                        </a:lnTo>
                        <a:lnTo>
                          <a:pt x="186" y="802"/>
                        </a:lnTo>
                        <a:lnTo>
                          <a:pt x="167" y="780"/>
                        </a:lnTo>
                        <a:lnTo>
                          <a:pt x="149" y="756"/>
                        </a:lnTo>
                        <a:lnTo>
                          <a:pt x="133" y="734"/>
                        </a:lnTo>
                        <a:lnTo>
                          <a:pt x="117" y="709"/>
                        </a:lnTo>
                        <a:lnTo>
                          <a:pt x="103" y="685"/>
                        </a:lnTo>
                        <a:lnTo>
                          <a:pt x="90" y="660"/>
                        </a:lnTo>
                        <a:lnTo>
                          <a:pt x="80" y="636"/>
                        </a:lnTo>
                        <a:lnTo>
                          <a:pt x="68" y="609"/>
                        </a:lnTo>
                        <a:lnTo>
                          <a:pt x="60" y="583"/>
                        </a:lnTo>
                        <a:lnTo>
                          <a:pt x="48" y="528"/>
                        </a:lnTo>
                        <a:lnTo>
                          <a:pt x="42" y="499"/>
                        </a:lnTo>
                        <a:lnTo>
                          <a:pt x="40" y="471"/>
                        </a:lnTo>
                        <a:lnTo>
                          <a:pt x="38" y="441"/>
                        </a:lnTo>
                        <a:lnTo>
                          <a:pt x="38" y="413"/>
                        </a:lnTo>
                        <a:lnTo>
                          <a:pt x="40" y="353"/>
                        </a:lnTo>
                        <a:lnTo>
                          <a:pt x="48" y="296"/>
                        </a:lnTo>
                        <a:lnTo>
                          <a:pt x="60" y="240"/>
                        </a:lnTo>
                        <a:lnTo>
                          <a:pt x="80" y="189"/>
                        </a:lnTo>
                        <a:lnTo>
                          <a:pt x="103" y="138"/>
                        </a:lnTo>
                        <a:lnTo>
                          <a:pt x="133" y="91"/>
                        </a:lnTo>
                        <a:lnTo>
                          <a:pt x="167" y="44"/>
                        </a:lnTo>
                        <a:lnTo>
                          <a:pt x="208" y="2"/>
                        </a:lnTo>
                        <a:lnTo>
                          <a:pt x="209" y="0"/>
                        </a:lnTo>
                        <a:lnTo>
                          <a:pt x="192" y="0"/>
                        </a:lnTo>
                        <a:close/>
                      </a:path>
                    </a:pathLst>
                  </a:custGeom>
                  <a:solidFill>
                    <a:srgbClr val="324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5775840" y="5606280"/>
                    <a:ext cx="1951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6" h="994">
                        <a:moveTo>
                          <a:pt x="171" y="0"/>
                        </a:moveTo>
                        <a:lnTo>
                          <a:pt x="170" y="2"/>
                        </a:lnTo>
                        <a:lnTo>
                          <a:pt x="129" y="44"/>
                        </a:lnTo>
                        <a:lnTo>
                          <a:pt x="95" y="91"/>
                        </a:lnTo>
                        <a:lnTo>
                          <a:pt x="65" y="138"/>
                        </a:lnTo>
                        <a:lnTo>
                          <a:pt x="42" y="189"/>
                        </a:lnTo>
                        <a:lnTo>
                          <a:pt x="22" y="240"/>
                        </a:lnTo>
                        <a:lnTo>
                          <a:pt x="10" y="296"/>
                        </a:lnTo>
                        <a:lnTo>
                          <a:pt x="2" y="353"/>
                        </a:lnTo>
                        <a:lnTo>
                          <a:pt x="0" y="413"/>
                        </a:lnTo>
                        <a:lnTo>
                          <a:pt x="0" y="441"/>
                        </a:lnTo>
                        <a:lnTo>
                          <a:pt x="2" y="471"/>
                        </a:lnTo>
                        <a:lnTo>
                          <a:pt x="4" y="499"/>
                        </a:lnTo>
                        <a:lnTo>
                          <a:pt x="10" y="528"/>
                        </a:lnTo>
                        <a:lnTo>
                          <a:pt x="22" y="583"/>
                        </a:lnTo>
                        <a:lnTo>
                          <a:pt x="30" y="609"/>
                        </a:lnTo>
                        <a:lnTo>
                          <a:pt x="42" y="636"/>
                        </a:lnTo>
                        <a:lnTo>
                          <a:pt x="52" y="660"/>
                        </a:lnTo>
                        <a:lnTo>
                          <a:pt x="65" y="685"/>
                        </a:lnTo>
                        <a:lnTo>
                          <a:pt x="79" y="709"/>
                        </a:lnTo>
                        <a:lnTo>
                          <a:pt x="95" y="734"/>
                        </a:lnTo>
                        <a:lnTo>
                          <a:pt x="111" y="756"/>
                        </a:lnTo>
                        <a:lnTo>
                          <a:pt x="129" y="780"/>
                        </a:lnTo>
                        <a:lnTo>
                          <a:pt x="148" y="802"/>
                        </a:lnTo>
                        <a:lnTo>
                          <a:pt x="170" y="824"/>
                        </a:lnTo>
                        <a:lnTo>
                          <a:pt x="212" y="863"/>
                        </a:lnTo>
                        <a:lnTo>
                          <a:pt x="234" y="881"/>
                        </a:lnTo>
                        <a:lnTo>
                          <a:pt x="258" y="898"/>
                        </a:lnTo>
                        <a:lnTo>
                          <a:pt x="281" y="913"/>
                        </a:lnTo>
                        <a:lnTo>
                          <a:pt x="306" y="926"/>
                        </a:lnTo>
                        <a:lnTo>
                          <a:pt x="357" y="951"/>
                        </a:lnTo>
                        <a:lnTo>
                          <a:pt x="408" y="969"/>
                        </a:lnTo>
                        <a:lnTo>
                          <a:pt x="463" y="983"/>
                        </a:lnTo>
                        <a:lnTo>
                          <a:pt x="491" y="987"/>
                        </a:lnTo>
                        <a:lnTo>
                          <a:pt x="520" y="991"/>
                        </a:lnTo>
                        <a:lnTo>
                          <a:pt x="550" y="993"/>
                        </a:lnTo>
                        <a:lnTo>
                          <a:pt x="580" y="994"/>
                        </a:lnTo>
                        <a:lnTo>
                          <a:pt x="601" y="993"/>
                        </a:lnTo>
                        <a:lnTo>
                          <a:pt x="605" y="992"/>
                        </a:lnTo>
                        <a:lnTo>
                          <a:pt x="611" y="992"/>
                        </a:lnTo>
                        <a:lnTo>
                          <a:pt x="622" y="992"/>
                        </a:lnTo>
                        <a:lnTo>
                          <a:pt x="643" y="990"/>
                        </a:lnTo>
                        <a:lnTo>
                          <a:pt x="647" y="989"/>
                        </a:lnTo>
                        <a:lnTo>
                          <a:pt x="653" y="989"/>
                        </a:lnTo>
                        <a:lnTo>
                          <a:pt x="664" y="989"/>
                        </a:lnTo>
                        <a:lnTo>
                          <a:pt x="683" y="984"/>
                        </a:lnTo>
                        <a:lnTo>
                          <a:pt x="704" y="981"/>
                        </a:lnTo>
                        <a:lnTo>
                          <a:pt x="745" y="973"/>
                        </a:lnTo>
                        <a:lnTo>
                          <a:pt x="766" y="927"/>
                        </a:lnTo>
                        <a:lnTo>
                          <a:pt x="744" y="933"/>
                        </a:lnTo>
                        <a:lnTo>
                          <a:pt x="722" y="940"/>
                        </a:lnTo>
                        <a:lnTo>
                          <a:pt x="677" y="950"/>
                        </a:lnTo>
                        <a:lnTo>
                          <a:pt x="629" y="956"/>
                        </a:lnTo>
                        <a:lnTo>
                          <a:pt x="604" y="957"/>
                        </a:lnTo>
                        <a:lnTo>
                          <a:pt x="592" y="957"/>
                        </a:lnTo>
                        <a:lnTo>
                          <a:pt x="580" y="958"/>
                        </a:lnTo>
                        <a:lnTo>
                          <a:pt x="551" y="957"/>
                        </a:lnTo>
                        <a:lnTo>
                          <a:pt x="524" y="955"/>
                        </a:lnTo>
                        <a:lnTo>
                          <a:pt x="470" y="948"/>
                        </a:lnTo>
                        <a:lnTo>
                          <a:pt x="419" y="934"/>
                        </a:lnTo>
                        <a:lnTo>
                          <a:pt x="394" y="926"/>
                        </a:lnTo>
                        <a:lnTo>
                          <a:pt x="370" y="917"/>
                        </a:lnTo>
                        <a:lnTo>
                          <a:pt x="322" y="894"/>
                        </a:lnTo>
                        <a:lnTo>
                          <a:pt x="277" y="867"/>
                        </a:lnTo>
                        <a:lnTo>
                          <a:pt x="255" y="851"/>
                        </a:lnTo>
                        <a:lnTo>
                          <a:pt x="234" y="834"/>
                        </a:lnTo>
                        <a:lnTo>
                          <a:pt x="195" y="798"/>
                        </a:lnTo>
                        <a:lnTo>
                          <a:pt x="174" y="777"/>
                        </a:lnTo>
                        <a:lnTo>
                          <a:pt x="156" y="756"/>
                        </a:lnTo>
                        <a:lnTo>
                          <a:pt x="123" y="713"/>
                        </a:lnTo>
                        <a:lnTo>
                          <a:pt x="96" y="668"/>
                        </a:lnTo>
                        <a:lnTo>
                          <a:pt x="84" y="644"/>
                        </a:lnTo>
                        <a:lnTo>
                          <a:pt x="74" y="621"/>
                        </a:lnTo>
                        <a:lnTo>
                          <a:pt x="56" y="571"/>
                        </a:lnTo>
                        <a:lnTo>
                          <a:pt x="48" y="545"/>
                        </a:lnTo>
                        <a:lnTo>
                          <a:pt x="44" y="520"/>
                        </a:lnTo>
                        <a:lnTo>
                          <a:pt x="39" y="493"/>
                        </a:lnTo>
                        <a:lnTo>
                          <a:pt x="37" y="467"/>
                        </a:lnTo>
                        <a:lnTo>
                          <a:pt x="35" y="413"/>
                        </a:lnTo>
                        <a:lnTo>
                          <a:pt x="37" y="356"/>
                        </a:lnTo>
                        <a:lnTo>
                          <a:pt x="44" y="303"/>
                        </a:lnTo>
                        <a:lnTo>
                          <a:pt x="56" y="252"/>
                        </a:lnTo>
                        <a:lnTo>
                          <a:pt x="74" y="203"/>
                        </a:lnTo>
                        <a:lnTo>
                          <a:pt x="96" y="154"/>
                        </a:lnTo>
                        <a:lnTo>
                          <a:pt x="123" y="110"/>
                        </a:lnTo>
                        <a:lnTo>
                          <a:pt x="156" y="67"/>
                        </a:lnTo>
                        <a:lnTo>
                          <a:pt x="195" y="27"/>
                        </a:lnTo>
                        <a:lnTo>
                          <a:pt x="221" y="4"/>
                        </a:lnTo>
                        <a:lnTo>
                          <a:pt x="196" y="0"/>
                        </a:lnTo>
                        <a:lnTo>
                          <a:pt x="171" y="0"/>
                        </a:lnTo>
                        <a:close/>
                      </a:path>
                    </a:pathLst>
                  </a:custGeom>
                  <a:solidFill>
                    <a:srgbClr val="365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5729760" y="5612760"/>
                    <a:ext cx="203760" cy="29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150">
                        <a:moveTo>
                          <a:pt x="146" y="0"/>
                        </a:moveTo>
                        <a:lnTo>
                          <a:pt x="93" y="18"/>
                        </a:lnTo>
                        <a:lnTo>
                          <a:pt x="70" y="59"/>
                        </a:lnTo>
                        <a:lnTo>
                          <a:pt x="51" y="102"/>
                        </a:lnTo>
                        <a:lnTo>
                          <a:pt x="35" y="145"/>
                        </a:lnTo>
                        <a:lnTo>
                          <a:pt x="23" y="192"/>
                        </a:lnTo>
                        <a:lnTo>
                          <a:pt x="13" y="238"/>
                        </a:lnTo>
                        <a:lnTo>
                          <a:pt x="6" y="287"/>
                        </a:lnTo>
                        <a:lnTo>
                          <a:pt x="1" y="336"/>
                        </a:lnTo>
                        <a:lnTo>
                          <a:pt x="0" y="387"/>
                        </a:lnTo>
                        <a:lnTo>
                          <a:pt x="0" y="424"/>
                        </a:lnTo>
                        <a:lnTo>
                          <a:pt x="3" y="463"/>
                        </a:lnTo>
                        <a:lnTo>
                          <a:pt x="7" y="500"/>
                        </a:lnTo>
                        <a:lnTo>
                          <a:pt x="14" y="537"/>
                        </a:lnTo>
                        <a:lnTo>
                          <a:pt x="20" y="573"/>
                        </a:lnTo>
                        <a:lnTo>
                          <a:pt x="31" y="609"/>
                        </a:lnTo>
                        <a:lnTo>
                          <a:pt x="41" y="644"/>
                        </a:lnTo>
                        <a:lnTo>
                          <a:pt x="56" y="679"/>
                        </a:lnTo>
                        <a:lnTo>
                          <a:pt x="69" y="711"/>
                        </a:lnTo>
                        <a:lnTo>
                          <a:pt x="86" y="744"/>
                        </a:lnTo>
                        <a:lnTo>
                          <a:pt x="103" y="776"/>
                        </a:lnTo>
                        <a:lnTo>
                          <a:pt x="125" y="807"/>
                        </a:lnTo>
                        <a:lnTo>
                          <a:pt x="146" y="837"/>
                        </a:lnTo>
                        <a:lnTo>
                          <a:pt x="170" y="867"/>
                        </a:lnTo>
                        <a:lnTo>
                          <a:pt x="195" y="897"/>
                        </a:lnTo>
                        <a:lnTo>
                          <a:pt x="223" y="926"/>
                        </a:lnTo>
                        <a:lnTo>
                          <a:pt x="251" y="952"/>
                        </a:lnTo>
                        <a:lnTo>
                          <a:pt x="280" y="977"/>
                        </a:lnTo>
                        <a:lnTo>
                          <a:pt x="310" y="1001"/>
                        </a:lnTo>
                        <a:lnTo>
                          <a:pt x="340" y="1023"/>
                        </a:lnTo>
                        <a:lnTo>
                          <a:pt x="371" y="1042"/>
                        </a:lnTo>
                        <a:lnTo>
                          <a:pt x="403" y="1060"/>
                        </a:lnTo>
                        <a:lnTo>
                          <a:pt x="434" y="1077"/>
                        </a:lnTo>
                        <a:lnTo>
                          <a:pt x="468" y="1093"/>
                        </a:lnTo>
                        <a:lnTo>
                          <a:pt x="501" y="1105"/>
                        </a:lnTo>
                        <a:lnTo>
                          <a:pt x="536" y="1117"/>
                        </a:lnTo>
                        <a:lnTo>
                          <a:pt x="572" y="1126"/>
                        </a:lnTo>
                        <a:lnTo>
                          <a:pt x="608" y="1134"/>
                        </a:lnTo>
                        <a:lnTo>
                          <a:pt x="644" y="1139"/>
                        </a:lnTo>
                        <a:lnTo>
                          <a:pt x="683" y="1144"/>
                        </a:lnTo>
                        <a:lnTo>
                          <a:pt x="721" y="1147"/>
                        </a:lnTo>
                        <a:lnTo>
                          <a:pt x="761" y="1150"/>
                        </a:lnTo>
                        <a:lnTo>
                          <a:pt x="781" y="1131"/>
                        </a:lnTo>
                        <a:lnTo>
                          <a:pt x="802" y="1112"/>
                        </a:lnTo>
                        <a:lnTo>
                          <a:pt x="763" y="1113"/>
                        </a:lnTo>
                        <a:lnTo>
                          <a:pt x="725" y="1112"/>
                        </a:lnTo>
                        <a:lnTo>
                          <a:pt x="688" y="1110"/>
                        </a:lnTo>
                        <a:lnTo>
                          <a:pt x="652" y="1105"/>
                        </a:lnTo>
                        <a:lnTo>
                          <a:pt x="617" y="1100"/>
                        </a:lnTo>
                        <a:lnTo>
                          <a:pt x="582" y="1092"/>
                        </a:lnTo>
                        <a:lnTo>
                          <a:pt x="548" y="1083"/>
                        </a:lnTo>
                        <a:lnTo>
                          <a:pt x="483" y="1060"/>
                        </a:lnTo>
                        <a:lnTo>
                          <a:pt x="450" y="1045"/>
                        </a:lnTo>
                        <a:lnTo>
                          <a:pt x="420" y="1029"/>
                        </a:lnTo>
                        <a:lnTo>
                          <a:pt x="360" y="993"/>
                        </a:lnTo>
                        <a:lnTo>
                          <a:pt x="330" y="972"/>
                        </a:lnTo>
                        <a:lnTo>
                          <a:pt x="303" y="949"/>
                        </a:lnTo>
                        <a:lnTo>
                          <a:pt x="276" y="925"/>
                        </a:lnTo>
                        <a:lnTo>
                          <a:pt x="250" y="900"/>
                        </a:lnTo>
                        <a:lnTo>
                          <a:pt x="222" y="872"/>
                        </a:lnTo>
                        <a:lnTo>
                          <a:pt x="198" y="845"/>
                        </a:lnTo>
                        <a:lnTo>
                          <a:pt x="176" y="816"/>
                        </a:lnTo>
                        <a:lnTo>
                          <a:pt x="155" y="788"/>
                        </a:lnTo>
                        <a:lnTo>
                          <a:pt x="135" y="757"/>
                        </a:lnTo>
                        <a:lnTo>
                          <a:pt x="118" y="728"/>
                        </a:lnTo>
                        <a:lnTo>
                          <a:pt x="102" y="696"/>
                        </a:lnTo>
                        <a:lnTo>
                          <a:pt x="90" y="666"/>
                        </a:lnTo>
                        <a:lnTo>
                          <a:pt x="76" y="632"/>
                        </a:lnTo>
                        <a:lnTo>
                          <a:pt x="66" y="599"/>
                        </a:lnTo>
                        <a:lnTo>
                          <a:pt x="56" y="565"/>
                        </a:lnTo>
                        <a:lnTo>
                          <a:pt x="49" y="531"/>
                        </a:lnTo>
                        <a:lnTo>
                          <a:pt x="42" y="494"/>
                        </a:lnTo>
                        <a:lnTo>
                          <a:pt x="39" y="459"/>
                        </a:lnTo>
                        <a:lnTo>
                          <a:pt x="36" y="423"/>
                        </a:lnTo>
                        <a:lnTo>
                          <a:pt x="36" y="387"/>
                        </a:lnTo>
                        <a:lnTo>
                          <a:pt x="37" y="332"/>
                        </a:lnTo>
                        <a:lnTo>
                          <a:pt x="43" y="280"/>
                        </a:lnTo>
                        <a:lnTo>
                          <a:pt x="51" y="229"/>
                        </a:lnTo>
                        <a:lnTo>
                          <a:pt x="64" y="182"/>
                        </a:lnTo>
                        <a:lnTo>
                          <a:pt x="78" y="133"/>
                        </a:lnTo>
                        <a:lnTo>
                          <a:pt x="98" y="87"/>
                        </a:lnTo>
                        <a:lnTo>
                          <a:pt x="119" y="42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263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720400" y="5617440"/>
                    <a:ext cx="20196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97" h="1167">
                        <a:moveTo>
                          <a:pt x="129" y="0"/>
                        </a:moveTo>
                        <a:lnTo>
                          <a:pt x="76" y="24"/>
                        </a:lnTo>
                        <a:lnTo>
                          <a:pt x="56" y="63"/>
                        </a:lnTo>
                        <a:lnTo>
                          <a:pt x="42" y="103"/>
                        </a:lnTo>
                        <a:lnTo>
                          <a:pt x="28" y="145"/>
                        </a:lnTo>
                        <a:lnTo>
                          <a:pt x="18" y="189"/>
                        </a:lnTo>
                        <a:lnTo>
                          <a:pt x="10" y="232"/>
                        </a:lnTo>
                        <a:lnTo>
                          <a:pt x="4" y="276"/>
                        </a:lnTo>
                        <a:lnTo>
                          <a:pt x="1" y="321"/>
                        </a:lnTo>
                        <a:lnTo>
                          <a:pt x="0" y="369"/>
                        </a:lnTo>
                        <a:lnTo>
                          <a:pt x="0" y="408"/>
                        </a:lnTo>
                        <a:lnTo>
                          <a:pt x="3" y="449"/>
                        </a:lnTo>
                        <a:lnTo>
                          <a:pt x="7" y="488"/>
                        </a:lnTo>
                        <a:lnTo>
                          <a:pt x="13" y="527"/>
                        </a:lnTo>
                        <a:lnTo>
                          <a:pt x="21" y="565"/>
                        </a:lnTo>
                        <a:lnTo>
                          <a:pt x="32" y="602"/>
                        </a:lnTo>
                        <a:lnTo>
                          <a:pt x="43" y="638"/>
                        </a:lnTo>
                        <a:lnTo>
                          <a:pt x="58" y="675"/>
                        </a:lnTo>
                        <a:lnTo>
                          <a:pt x="72" y="709"/>
                        </a:lnTo>
                        <a:lnTo>
                          <a:pt x="90" y="743"/>
                        </a:lnTo>
                        <a:lnTo>
                          <a:pt x="110" y="776"/>
                        </a:lnTo>
                        <a:lnTo>
                          <a:pt x="131" y="810"/>
                        </a:lnTo>
                        <a:lnTo>
                          <a:pt x="153" y="841"/>
                        </a:lnTo>
                        <a:lnTo>
                          <a:pt x="179" y="873"/>
                        </a:lnTo>
                        <a:lnTo>
                          <a:pt x="205" y="904"/>
                        </a:lnTo>
                        <a:lnTo>
                          <a:pt x="234" y="934"/>
                        </a:lnTo>
                        <a:lnTo>
                          <a:pt x="261" y="959"/>
                        </a:lnTo>
                        <a:lnTo>
                          <a:pt x="289" y="984"/>
                        </a:lnTo>
                        <a:lnTo>
                          <a:pt x="317" y="1007"/>
                        </a:lnTo>
                        <a:lnTo>
                          <a:pt x="347" y="1028"/>
                        </a:lnTo>
                        <a:lnTo>
                          <a:pt x="407" y="1067"/>
                        </a:lnTo>
                        <a:lnTo>
                          <a:pt x="439" y="1084"/>
                        </a:lnTo>
                        <a:lnTo>
                          <a:pt x="472" y="1100"/>
                        </a:lnTo>
                        <a:lnTo>
                          <a:pt x="503" y="1113"/>
                        </a:lnTo>
                        <a:lnTo>
                          <a:pt x="536" y="1126"/>
                        </a:lnTo>
                        <a:lnTo>
                          <a:pt x="570" y="1136"/>
                        </a:lnTo>
                        <a:lnTo>
                          <a:pt x="605" y="1145"/>
                        </a:lnTo>
                        <a:lnTo>
                          <a:pt x="677" y="1159"/>
                        </a:lnTo>
                        <a:lnTo>
                          <a:pt x="713" y="1163"/>
                        </a:lnTo>
                        <a:lnTo>
                          <a:pt x="752" y="1167"/>
                        </a:lnTo>
                        <a:lnTo>
                          <a:pt x="774" y="1150"/>
                        </a:lnTo>
                        <a:lnTo>
                          <a:pt x="797" y="1132"/>
                        </a:lnTo>
                        <a:lnTo>
                          <a:pt x="757" y="1129"/>
                        </a:lnTo>
                        <a:lnTo>
                          <a:pt x="719" y="1126"/>
                        </a:lnTo>
                        <a:lnTo>
                          <a:pt x="680" y="1121"/>
                        </a:lnTo>
                        <a:lnTo>
                          <a:pt x="644" y="1116"/>
                        </a:lnTo>
                        <a:lnTo>
                          <a:pt x="608" y="1108"/>
                        </a:lnTo>
                        <a:lnTo>
                          <a:pt x="572" y="1099"/>
                        </a:lnTo>
                        <a:lnTo>
                          <a:pt x="537" y="1087"/>
                        </a:lnTo>
                        <a:lnTo>
                          <a:pt x="504" y="1075"/>
                        </a:lnTo>
                        <a:lnTo>
                          <a:pt x="470" y="1059"/>
                        </a:lnTo>
                        <a:lnTo>
                          <a:pt x="439" y="1042"/>
                        </a:lnTo>
                        <a:lnTo>
                          <a:pt x="407" y="1024"/>
                        </a:lnTo>
                        <a:lnTo>
                          <a:pt x="376" y="1005"/>
                        </a:lnTo>
                        <a:lnTo>
                          <a:pt x="346" y="983"/>
                        </a:lnTo>
                        <a:lnTo>
                          <a:pt x="316" y="959"/>
                        </a:lnTo>
                        <a:lnTo>
                          <a:pt x="287" y="934"/>
                        </a:lnTo>
                        <a:lnTo>
                          <a:pt x="259" y="908"/>
                        </a:lnTo>
                        <a:lnTo>
                          <a:pt x="231" y="879"/>
                        </a:lnTo>
                        <a:lnTo>
                          <a:pt x="206" y="849"/>
                        </a:lnTo>
                        <a:lnTo>
                          <a:pt x="182" y="819"/>
                        </a:lnTo>
                        <a:lnTo>
                          <a:pt x="161" y="789"/>
                        </a:lnTo>
                        <a:lnTo>
                          <a:pt x="139" y="758"/>
                        </a:lnTo>
                        <a:lnTo>
                          <a:pt x="122" y="726"/>
                        </a:lnTo>
                        <a:lnTo>
                          <a:pt x="105" y="693"/>
                        </a:lnTo>
                        <a:lnTo>
                          <a:pt x="92" y="661"/>
                        </a:lnTo>
                        <a:lnTo>
                          <a:pt x="77" y="626"/>
                        </a:lnTo>
                        <a:lnTo>
                          <a:pt x="67" y="591"/>
                        </a:lnTo>
                        <a:lnTo>
                          <a:pt x="56" y="555"/>
                        </a:lnTo>
                        <a:lnTo>
                          <a:pt x="50" y="519"/>
                        </a:lnTo>
                        <a:lnTo>
                          <a:pt x="43" y="482"/>
                        </a:lnTo>
                        <a:lnTo>
                          <a:pt x="39" y="445"/>
                        </a:lnTo>
                        <a:lnTo>
                          <a:pt x="36" y="406"/>
                        </a:lnTo>
                        <a:lnTo>
                          <a:pt x="36" y="369"/>
                        </a:lnTo>
                        <a:lnTo>
                          <a:pt x="37" y="318"/>
                        </a:lnTo>
                        <a:lnTo>
                          <a:pt x="42" y="269"/>
                        </a:lnTo>
                        <a:lnTo>
                          <a:pt x="49" y="220"/>
                        </a:lnTo>
                        <a:lnTo>
                          <a:pt x="59" y="174"/>
                        </a:lnTo>
                        <a:lnTo>
                          <a:pt x="71" y="127"/>
                        </a:lnTo>
                        <a:lnTo>
                          <a:pt x="87" y="84"/>
                        </a:lnTo>
                        <a:lnTo>
                          <a:pt x="106" y="41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223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5711400" y="5623200"/>
                    <a:ext cx="20016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1176">
                        <a:moveTo>
                          <a:pt x="113" y="0"/>
                        </a:moveTo>
                        <a:lnTo>
                          <a:pt x="59" y="31"/>
                        </a:lnTo>
                        <a:lnTo>
                          <a:pt x="33" y="104"/>
                        </a:lnTo>
                        <a:lnTo>
                          <a:pt x="23" y="142"/>
                        </a:lnTo>
                        <a:lnTo>
                          <a:pt x="15" y="182"/>
                        </a:lnTo>
                        <a:lnTo>
                          <a:pt x="7" y="220"/>
                        </a:lnTo>
                        <a:lnTo>
                          <a:pt x="4" y="261"/>
                        </a:lnTo>
                        <a:lnTo>
                          <a:pt x="0" y="302"/>
                        </a:lnTo>
                        <a:lnTo>
                          <a:pt x="0" y="345"/>
                        </a:lnTo>
                        <a:lnTo>
                          <a:pt x="0" y="387"/>
                        </a:lnTo>
                        <a:lnTo>
                          <a:pt x="4" y="429"/>
                        </a:lnTo>
                        <a:lnTo>
                          <a:pt x="7" y="469"/>
                        </a:lnTo>
                        <a:lnTo>
                          <a:pt x="15" y="510"/>
                        </a:lnTo>
                        <a:lnTo>
                          <a:pt x="23" y="549"/>
                        </a:lnTo>
                        <a:lnTo>
                          <a:pt x="34" y="588"/>
                        </a:lnTo>
                        <a:lnTo>
                          <a:pt x="47" y="626"/>
                        </a:lnTo>
                        <a:lnTo>
                          <a:pt x="62" y="664"/>
                        </a:lnTo>
                        <a:lnTo>
                          <a:pt x="76" y="700"/>
                        </a:lnTo>
                        <a:lnTo>
                          <a:pt x="96" y="736"/>
                        </a:lnTo>
                        <a:lnTo>
                          <a:pt x="115" y="771"/>
                        </a:lnTo>
                        <a:lnTo>
                          <a:pt x="138" y="806"/>
                        </a:lnTo>
                        <a:lnTo>
                          <a:pt x="161" y="839"/>
                        </a:lnTo>
                        <a:lnTo>
                          <a:pt x="188" y="872"/>
                        </a:lnTo>
                        <a:lnTo>
                          <a:pt x="215" y="904"/>
                        </a:lnTo>
                        <a:lnTo>
                          <a:pt x="245" y="935"/>
                        </a:lnTo>
                        <a:lnTo>
                          <a:pt x="271" y="960"/>
                        </a:lnTo>
                        <a:lnTo>
                          <a:pt x="299" y="984"/>
                        </a:lnTo>
                        <a:lnTo>
                          <a:pt x="326" y="1007"/>
                        </a:lnTo>
                        <a:lnTo>
                          <a:pt x="354" y="1028"/>
                        </a:lnTo>
                        <a:lnTo>
                          <a:pt x="383" y="1047"/>
                        </a:lnTo>
                        <a:lnTo>
                          <a:pt x="412" y="1066"/>
                        </a:lnTo>
                        <a:lnTo>
                          <a:pt x="472" y="1100"/>
                        </a:lnTo>
                        <a:lnTo>
                          <a:pt x="503" y="1113"/>
                        </a:lnTo>
                        <a:lnTo>
                          <a:pt x="535" y="1126"/>
                        </a:lnTo>
                        <a:lnTo>
                          <a:pt x="599" y="1148"/>
                        </a:lnTo>
                        <a:lnTo>
                          <a:pt x="666" y="1164"/>
                        </a:lnTo>
                        <a:lnTo>
                          <a:pt x="738" y="1176"/>
                        </a:lnTo>
                        <a:lnTo>
                          <a:pt x="763" y="1160"/>
                        </a:lnTo>
                        <a:lnTo>
                          <a:pt x="775" y="1151"/>
                        </a:lnTo>
                        <a:lnTo>
                          <a:pt x="789" y="1143"/>
                        </a:lnTo>
                        <a:lnTo>
                          <a:pt x="750" y="1139"/>
                        </a:lnTo>
                        <a:lnTo>
                          <a:pt x="714" y="1135"/>
                        </a:lnTo>
                        <a:lnTo>
                          <a:pt x="642" y="1121"/>
                        </a:lnTo>
                        <a:lnTo>
                          <a:pt x="607" y="1112"/>
                        </a:lnTo>
                        <a:lnTo>
                          <a:pt x="573" y="1102"/>
                        </a:lnTo>
                        <a:lnTo>
                          <a:pt x="540" y="1089"/>
                        </a:lnTo>
                        <a:lnTo>
                          <a:pt x="509" y="1076"/>
                        </a:lnTo>
                        <a:lnTo>
                          <a:pt x="476" y="1060"/>
                        </a:lnTo>
                        <a:lnTo>
                          <a:pt x="444" y="1043"/>
                        </a:lnTo>
                        <a:lnTo>
                          <a:pt x="384" y="1004"/>
                        </a:lnTo>
                        <a:lnTo>
                          <a:pt x="354" y="983"/>
                        </a:lnTo>
                        <a:lnTo>
                          <a:pt x="326" y="960"/>
                        </a:lnTo>
                        <a:lnTo>
                          <a:pt x="298" y="935"/>
                        </a:lnTo>
                        <a:lnTo>
                          <a:pt x="271" y="910"/>
                        </a:lnTo>
                        <a:lnTo>
                          <a:pt x="242" y="880"/>
                        </a:lnTo>
                        <a:lnTo>
                          <a:pt x="216" y="849"/>
                        </a:lnTo>
                        <a:lnTo>
                          <a:pt x="190" y="817"/>
                        </a:lnTo>
                        <a:lnTo>
                          <a:pt x="168" y="786"/>
                        </a:lnTo>
                        <a:lnTo>
                          <a:pt x="147" y="752"/>
                        </a:lnTo>
                        <a:lnTo>
                          <a:pt x="127" y="719"/>
                        </a:lnTo>
                        <a:lnTo>
                          <a:pt x="109" y="685"/>
                        </a:lnTo>
                        <a:lnTo>
                          <a:pt x="95" y="651"/>
                        </a:lnTo>
                        <a:lnTo>
                          <a:pt x="80" y="614"/>
                        </a:lnTo>
                        <a:lnTo>
                          <a:pt x="69" y="578"/>
                        </a:lnTo>
                        <a:lnTo>
                          <a:pt x="58" y="541"/>
                        </a:lnTo>
                        <a:lnTo>
                          <a:pt x="50" y="503"/>
                        </a:lnTo>
                        <a:lnTo>
                          <a:pt x="44" y="464"/>
                        </a:lnTo>
                        <a:lnTo>
                          <a:pt x="40" y="425"/>
                        </a:lnTo>
                        <a:lnTo>
                          <a:pt x="37" y="384"/>
                        </a:lnTo>
                        <a:lnTo>
                          <a:pt x="37" y="345"/>
                        </a:lnTo>
                        <a:lnTo>
                          <a:pt x="38" y="297"/>
                        </a:lnTo>
                        <a:lnTo>
                          <a:pt x="41" y="252"/>
                        </a:lnTo>
                        <a:lnTo>
                          <a:pt x="47" y="208"/>
                        </a:lnTo>
                        <a:lnTo>
                          <a:pt x="55" y="165"/>
                        </a:lnTo>
                        <a:lnTo>
                          <a:pt x="65" y="121"/>
                        </a:lnTo>
                        <a:lnTo>
                          <a:pt x="79" y="79"/>
                        </a:lnTo>
                        <a:lnTo>
                          <a:pt x="93" y="39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1f2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5683320" y="5651280"/>
                    <a:ext cx="184320" cy="28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25" h="1136">
                        <a:moveTo>
                          <a:pt x="48" y="15"/>
                        </a:moveTo>
                        <a:lnTo>
                          <a:pt x="15" y="50"/>
                        </a:lnTo>
                        <a:lnTo>
                          <a:pt x="3" y="140"/>
                        </a:lnTo>
                        <a:lnTo>
                          <a:pt x="0" y="234"/>
                        </a:lnTo>
                        <a:lnTo>
                          <a:pt x="0" y="281"/>
                        </a:lnTo>
                        <a:lnTo>
                          <a:pt x="3" y="329"/>
                        </a:lnTo>
                        <a:lnTo>
                          <a:pt x="9" y="374"/>
                        </a:lnTo>
                        <a:lnTo>
                          <a:pt x="17" y="421"/>
                        </a:lnTo>
                        <a:lnTo>
                          <a:pt x="25" y="465"/>
                        </a:lnTo>
                        <a:lnTo>
                          <a:pt x="37" y="509"/>
                        </a:lnTo>
                        <a:lnTo>
                          <a:pt x="52" y="552"/>
                        </a:lnTo>
                        <a:lnTo>
                          <a:pt x="69" y="595"/>
                        </a:lnTo>
                        <a:lnTo>
                          <a:pt x="86" y="636"/>
                        </a:lnTo>
                        <a:lnTo>
                          <a:pt x="107" y="677"/>
                        </a:lnTo>
                        <a:lnTo>
                          <a:pt x="129" y="715"/>
                        </a:lnTo>
                        <a:lnTo>
                          <a:pt x="155" y="755"/>
                        </a:lnTo>
                        <a:lnTo>
                          <a:pt x="181" y="793"/>
                        </a:lnTo>
                        <a:lnTo>
                          <a:pt x="211" y="830"/>
                        </a:lnTo>
                        <a:lnTo>
                          <a:pt x="241" y="865"/>
                        </a:lnTo>
                        <a:lnTo>
                          <a:pt x="276" y="901"/>
                        </a:lnTo>
                        <a:lnTo>
                          <a:pt x="318" y="941"/>
                        </a:lnTo>
                        <a:lnTo>
                          <a:pt x="362" y="978"/>
                        </a:lnTo>
                        <a:lnTo>
                          <a:pt x="407" y="1012"/>
                        </a:lnTo>
                        <a:lnTo>
                          <a:pt x="454" y="1044"/>
                        </a:lnTo>
                        <a:lnTo>
                          <a:pt x="502" y="1071"/>
                        </a:lnTo>
                        <a:lnTo>
                          <a:pt x="552" y="1096"/>
                        </a:lnTo>
                        <a:lnTo>
                          <a:pt x="602" y="1117"/>
                        </a:lnTo>
                        <a:lnTo>
                          <a:pt x="655" y="1136"/>
                        </a:lnTo>
                        <a:lnTo>
                          <a:pt x="690" y="1127"/>
                        </a:lnTo>
                        <a:lnTo>
                          <a:pt x="725" y="1118"/>
                        </a:lnTo>
                        <a:lnTo>
                          <a:pt x="665" y="1101"/>
                        </a:lnTo>
                        <a:lnTo>
                          <a:pt x="609" y="1080"/>
                        </a:lnTo>
                        <a:lnTo>
                          <a:pt x="553" y="1055"/>
                        </a:lnTo>
                        <a:lnTo>
                          <a:pt x="500" y="1028"/>
                        </a:lnTo>
                        <a:lnTo>
                          <a:pt x="446" y="995"/>
                        </a:lnTo>
                        <a:lnTo>
                          <a:pt x="397" y="959"/>
                        </a:lnTo>
                        <a:lnTo>
                          <a:pt x="348" y="919"/>
                        </a:lnTo>
                        <a:lnTo>
                          <a:pt x="302" y="876"/>
                        </a:lnTo>
                        <a:lnTo>
                          <a:pt x="269" y="841"/>
                        </a:lnTo>
                        <a:lnTo>
                          <a:pt x="239" y="807"/>
                        </a:lnTo>
                        <a:lnTo>
                          <a:pt x="211" y="771"/>
                        </a:lnTo>
                        <a:lnTo>
                          <a:pt x="184" y="736"/>
                        </a:lnTo>
                        <a:lnTo>
                          <a:pt x="159" y="697"/>
                        </a:lnTo>
                        <a:lnTo>
                          <a:pt x="138" y="660"/>
                        </a:lnTo>
                        <a:lnTo>
                          <a:pt x="119" y="620"/>
                        </a:lnTo>
                        <a:lnTo>
                          <a:pt x="102" y="582"/>
                        </a:lnTo>
                        <a:lnTo>
                          <a:pt x="85" y="540"/>
                        </a:lnTo>
                        <a:lnTo>
                          <a:pt x="72" y="499"/>
                        </a:lnTo>
                        <a:lnTo>
                          <a:pt x="60" y="456"/>
                        </a:lnTo>
                        <a:lnTo>
                          <a:pt x="52" y="414"/>
                        </a:lnTo>
                        <a:lnTo>
                          <a:pt x="44" y="370"/>
                        </a:lnTo>
                        <a:lnTo>
                          <a:pt x="39" y="326"/>
                        </a:lnTo>
                        <a:lnTo>
                          <a:pt x="36" y="279"/>
                        </a:lnTo>
                        <a:lnTo>
                          <a:pt x="36" y="234"/>
                        </a:lnTo>
                        <a:lnTo>
                          <a:pt x="37" y="173"/>
                        </a:lnTo>
                        <a:lnTo>
                          <a:pt x="43" y="114"/>
                        </a:lnTo>
                        <a:lnTo>
                          <a:pt x="51" y="56"/>
                        </a:lnTo>
                        <a:lnTo>
                          <a:pt x="64" y="0"/>
                        </a:lnTo>
                        <a:lnTo>
                          <a:pt x="48" y="15"/>
                        </a:lnTo>
                        <a:close/>
                      </a:path>
                    </a:pathLst>
                  </a:custGeom>
                  <a:solidFill>
                    <a:srgbClr val="162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692320" y="5640120"/>
                    <a:ext cx="19188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4" h="1162">
                        <a:moveTo>
                          <a:pt x="79" y="0"/>
                        </a:moveTo>
                        <a:lnTo>
                          <a:pt x="28" y="44"/>
                        </a:lnTo>
                        <a:lnTo>
                          <a:pt x="15" y="100"/>
                        </a:lnTo>
                        <a:lnTo>
                          <a:pt x="7" y="158"/>
                        </a:lnTo>
                        <a:lnTo>
                          <a:pt x="1" y="217"/>
                        </a:lnTo>
                        <a:lnTo>
                          <a:pt x="0" y="278"/>
                        </a:lnTo>
                        <a:lnTo>
                          <a:pt x="0" y="323"/>
                        </a:lnTo>
                        <a:lnTo>
                          <a:pt x="3" y="370"/>
                        </a:lnTo>
                        <a:lnTo>
                          <a:pt x="8" y="414"/>
                        </a:lnTo>
                        <a:lnTo>
                          <a:pt x="16" y="458"/>
                        </a:lnTo>
                        <a:lnTo>
                          <a:pt x="24" y="500"/>
                        </a:lnTo>
                        <a:lnTo>
                          <a:pt x="36" y="543"/>
                        </a:lnTo>
                        <a:lnTo>
                          <a:pt x="49" y="584"/>
                        </a:lnTo>
                        <a:lnTo>
                          <a:pt x="66" y="626"/>
                        </a:lnTo>
                        <a:lnTo>
                          <a:pt x="83" y="664"/>
                        </a:lnTo>
                        <a:lnTo>
                          <a:pt x="102" y="704"/>
                        </a:lnTo>
                        <a:lnTo>
                          <a:pt x="123" y="741"/>
                        </a:lnTo>
                        <a:lnTo>
                          <a:pt x="148" y="780"/>
                        </a:lnTo>
                        <a:lnTo>
                          <a:pt x="175" y="815"/>
                        </a:lnTo>
                        <a:lnTo>
                          <a:pt x="203" y="851"/>
                        </a:lnTo>
                        <a:lnTo>
                          <a:pt x="233" y="885"/>
                        </a:lnTo>
                        <a:lnTo>
                          <a:pt x="266" y="920"/>
                        </a:lnTo>
                        <a:lnTo>
                          <a:pt x="312" y="963"/>
                        </a:lnTo>
                        <a:lnTo>
                          <a:pt x="361" y="1003"/>
                        </a:lnTo>
                        <a:lnTo>
                          <a:pt x="410" y="1039"/>
                        </a:lnTo>
                        <a:lnTo>
                          <a:pt x="464" y="1072"/>
                        </a:lnTo>
                        <a:lnTo>
                          <a:pt x="517" y="1099"/>
                        </a:lnTo>
                        <a:lnTo>
                          <a:pt x="573" y="1124"/>
                        </a:lnTo>
                        <a:lnTo>
                          <a:pt x="629" y="1145"/>
                        </a:lnTo>
                        <a:lnTo>
                          <a:pt x="689" y="1162"/>
                        </a:lnTo>
                        <a:lnTo>
                          <a:pt x="721" y="1149"/>
                        </a:lnTo>
                        <a:lnTo>
                          <a:pt x="737" y="1143"/>
                        </a:lnTo>
                        <a:lnTo>
                          <a:pt x="740" y="1140"/>
                        </a:lnTo>
                        <a:lnTo>
                          <a:pt x="745" y="1139"/>
                        </a:lnTo>
                        <a:lnTo>
                          <a:pt x="754" y="1137"/>
                        </a:lnTo>
                        <a:lnTo>
                          <a:pt x="720" y="1130"/>
                        </a:lnTo>
                        <a:lnTo>
                          <a:pt x="687" y="1122"/>
                        </a:lnTo>
                        <a:lnTo>
                          <a:pt x="625" y="1104"/>
                        </a:lnTo>
                        <a:lnTo>
                          <a:pt x="593" y="1093"/>
                        </a:lnTo>
                        <a:lnTo>
                          <a:pt x="563" y="1080"/>
                        </a:lnTo>
                        <a:lnTo>
                          <a:pt x="506" y="1053"/>
                        </a:lnTo>
                        <a:lnTo>
                          <a:pt x="448" y="1019"/>
                        </a:lnTo>
                        <a:lnTo>
                          <a:pt x="393" y="983"/>
                        </a:lnTo>
                        <a:lnTo>
                          <a:pt x="340" y="940"/>
                        </a:lnTo>
                        <a:lnTo>
                          <a:pt x="291" y="894"/>
                        </a:lnTo>
                        <a:lnTo>
                          <a:pt x="258" y="860"/>
                        </a:lnTo>
                        <a:lnTo>
                          <a:pt x="230" y="827"/>
                        </a:lnTo>
                        <a:lnTo>
                          <a:pt x="203" y="793"/>
                        </a:lnTo>
                        <a:lnTo>
                          <a:pt x="179" y="759"/>
                        </a:lnTo>
                        <a:lnTo>
                          <a:pt x="155" y="723"/>
                        </a:lnTo>
                        <a:lnTo>
                          <a:pt x="135" y="687"/>
                        </a:lnTo>
                        <a:lnTo>
                          <a:pt x="116" y="650"/>
                        </a:lnTo>
                        <a:lnTo>
                          <a:pt x="100" y="612"/>
                        </a:lnTo>
                        <a:lnTo>
                          <a:pt x="84" y="572"/>
                        </a:lnTo>
                        <a:lnTo>
                          <a:pt x="71" y="533"/>
                        </a:lnTo>
                        <a:lnTo>
                          <a:pt x="60" y="492"/>
                        </a:lnTo>
                        <a:lnTo>
                          <a:pt x="52" y="451"/>
                        </a:lnTo>
                        <a:lnTo>
                          <a:pt x="44" y="408"/>
                        </a:lnTo>
                        <a:lnTo>
                          <a:pt x="40" y="365"/>
                        </a:lnTo>
                        <a:lnTo>
                          <a:pt x="36" y="321"/>
                        </a:lnTo>
                        <a:lnTo>
                          <a:pt x="36" y="278"/>
                        </a:lnTo>
                        <a:lnTo>
                          <a:pt x="38" y="204"/>
                        </a:lnTo>
                        <a:lnTo>
                          <a:pt x="46" y="134"/>
                        </a:lnTo>
                        <a:lnTo>
                          <a:pt x="60" y="65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solidFill>
                    <a:srgbClr val="192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5655960" y="5695560"/>
                    <a:ext cx="1522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973">
                        <a:moveTo>
                          <a:pt x="36" y="59"/>
                        </a:moveTo>
                        <a:lnTo>
                          <a:pt x="37" y="0"/>
                        </a:lnTo>
                        <a:lnTo>
                          <a:pt x="17" y="42"/>
                        </a:lnTo>
                        <a:lnTo>
                          <a:pt x="0" y="86"/>
                        </a:lnTo>
                        <a:lnTo>
                          <a:pt x="1" y="137"/>
                        </a:lnTo>
                        <a:lnTo>
                          <a:pt x="7" y="188"/>
                        </a:lnTo>
                        <a:lnTo>
                          <a:pt x="12" y="238"/>
                        </a:lnTo>
                        <a:lnTo>
                          <a:pt x="22" y="288"/>
                        </a:lnTo>
                        <a:lnTo>
                          <a:pt x="33" y="335"/>
                        </a:lnTo>
                        <a:lnTo>
                          <a:pt x="47" y="383"/>
                        </a:lnTo>
                        <a:lnTo>
                          <a:pt x="62" y="428"/>
                        </a:lnTo>
                        <a:lnTo>
                          <a:pt x="81" y="475"/>
                        </a:lnTo>
                        <a:lnTo>
                          <a:pt x="101" y="518"/>
                        </a:lnTo>
                        <a:lnTo>
                          <a:pt x="124" y="562"/>
                        </a:lnTo>
                        <a:lnTo>
                          <a:pt x="148" y="604"/>
                        </a:lnTo>
                        <a:lnTo>
                          <a:pt x="177" y="646"/>
                        </a:lnTo>
                        <a:lnTo>
                          <a:pt x="205" y="686"/>
                        </a:lnTo>
                        <a:lnTo>
                          <a:pt x="238" y="726"/>
                        </a:lnTo>
                        <a:lnTo>
                          <a:pt x="271" y="765"/>
                        </a:lnTo>
                        <a:lnTo>
                          <a:pt x="308" y="803"/>
                        </a:lnTo>
                        <a:lnTo>
                          <a:pt x="355" y="849"/>
                        </a:lnTo>
                        <a:lnTo>
                          <a:pt x="405" y="891"/>
                        </a:lnTo>
                        <a:lnTo>
                          <a:pt x="456" y="929"/>
                        </a:lnTo>
                        <a:lnTo>
                          <a:pt x="510" y="964"/>
                        </a:lnTo>
                        <a:lnTo>
                          <a:pt x="554" y="970"/>
                        </a:lnTo>
                        <a:lnTo>
                          <a:pt x="601" y="973"/>
                        </a:lnTo>
                        <a:lnTo>
                          <a:pt x="564" y="954"/>
                        </a:lnTo>
                        <a:lnTo>
                          <a:pt x="529" y="934"/>
                        </a:lnTo>
                        <a:lnTo>
                          <a:pt x="494" y="911"/>
                        </a:lnTo>
                        <a:lnTo>
                          <a:pt x="461" y="888"/>
                        </a:lnTo>
                        <a:lnTo>
                          <a:pt x="397" y="836"/>
                        </a:lnTo>
                        <a:lnTo>
                          <a:pt x="365" y="808"/>
                        </a:lnTo>
                        <a:lnTo>
                          <a:pt x="334" y="778"/>
                        </a:lnTo>
                        <a:lnTo>
                          <a:pt x="297" y="740"/>
                        </a:lnTo>
                        <a:lnTo>
                          <a:pt x="264" y="701"/>
                        </a:lnTo>
                        <a:lnTo>
                          <a:pt x="231" y="661"/>
                        </a:lnTo>
                        <a:lnTo>
                          <a:pt x="203" y="621"/>
                        </a:lnTo>
                        <a:lnTo>
                          <a:pt x="174" y="578"/>
                        </a:lnTo>
                        <a:lnTo>
                          <a:pt x="151" y="536"/>
                        </a:lnTo>
                        <a:lnTo>
                          <a:pt x="129" y="492"/>
                        </a:lnTo>
                        <a:lnTo>
                          <a:pt x="110" y="449"/>
                        </a:lnTo>
                        <a:lnTo>
                          <a:pt x="100" y="425"/>
                        </a:lnTo>
                        <a:lnTo>
                          <a:pt x="92" y="402"/>
                        </a:lnTo>
                        <a:lnTo>
                          <a:pt x="77" y="357"/>
                        </a:lnTo>
                        <a:lnTo>
                          <a:pt x="64" y="309"/>
                        </a:lnTo>
                        <a:lnTo>
                          <a:pt x="54" y="262"/>
                        </a:lnTo>
                        <a:lnTo>
                          <a:pt x="46" y="212"/>
                        </a:lnTo>
                        <a:lnTo>
                          <a:pt x="41" y="162"/>
                        </a:lnTo>
                        <a:lnTo>
                          <a:pt x="37" y="110"/>
                        </a:lnTo>
                        <a:lnTo>
                          <a:pt x="36" y="59"/>
                        </a:lnTo>
                        <a:close/>
                      </a:path>
                    </a:pathLst>
                  </a:custGeom>
                  <a:solidFill>
                    <a:srgbClr val="0c1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5664960" y="5678280"/>
                    <a:ext cx="16488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1041">
                        <a:moveTo>
                          <a:pt x="1" y="68"/>
                        </a:moveTo>
                        <a:lnTo>
                          <a:pt x="0" y="127"/>
                        </a:lnTo>
                        <a:lnTo>
                          <a:pt x="1" y="178"/>
                        </a:lnTo>
                        <a:lnTo>
                          <a:pt x="5" y="230"/>
                        </a:lnTo>
                        <a:lnTo>
                          <a:pt x="10" y="280"/>
                        </a:lnTo>
                        <a:lnTo>
                          <a:pt x="18" y="330"/>
                        </a:lnTo>
                        <a:lnTo>
                          <a:pt x="28" y="377"/>
                        </a:lnTo>
                        <a:lnTo>
                          <a:pt x="41" y="425"/>
                        </a:lnTo>
                        <a:lnTo>
                          <a:pt x="56" y="470"/>
                        </a:lnTo>
                        <a:lnTo>
                          <a:pt x="64" y="493"/>
                        </a:lnTo>
                        <a:lnTo>
                          <a:pt x="74" y="517"/>
                        </a:lnTo>
                        <a:lnTo>
                          <a:pt x="93" y="560"/>
                        </a:lnTo>
                        <a:lnTo>
                          <a:pt x="115" y="604"/>
                        </a:lnTo>
                        <a:lnTo>
                          <a:pt x="138" y="646"/>
                        </a:lnTo>
                        <a:lnTo>
                          <a:pt x="167" y="689"/>
                        </a:lnTo>
                        <a:lnTo>
                          <a:pt x="195" y="729"/>
                        </a:lnTo>
                        <a:lnTo>
                          <a:pt x="228" y="769"/>
                        </a:lnTo>
                        <a:lnTo>
                          <a:pt x="261" y="808"/>
                        </a:lnTo>
                        <a:lnTo>
                          <a:pt x="298" y="846"/>
                        </a:lnTo>
                        <a:lnTo>
                          <a:pt x="329" y="876"/>
                        </a:lnTo>
                        <a:lnTo>
                          <a:pt x="361" y="904"/>
                        </a:lnTo>
                        <a:lnTo>
                          <a:pt x="425" y="956"/>
                        </a:lnTo>
                        <a:lnTo>
                          <a:pt x="458" y="979"/>
                        </a:lnTo>
                        <a:lnTo>
                          <a:pt x="493" y="1002"/>
                        </a:lnTo>
                        <a:lnTo>
                          <a:pt x="528" y="1022"/>
                        </a:lnTo>
                        <a:lnTo>
                          <a:pt x="565" y="1041"/>
                        </a:lnTo>
                        <a:lnTo>
                          <a:pt x="591" y="1041"/>
                        </a:lnTo>
                        <a:lnTo>
                          <a:pt x="650" y="1039"/>
                        </a:lnTo>
                        <a:lnTo>
                          <a:pt x="604" y="1020"/>
                        </a:lnTo>
                        <a:lnTo>
                          <a:pt x="561" y="998"/>
                        </a:lnTo>
                        <a:lnTo>
                          <a:pt x="519" y="975"/>
                        </a:lnTo>
                        <a:lnTo>
                          <a:pt x="479" y="948"/>
                        </a:lnTo>
                        <a:lnTo>
                          <a:pt x="438" y="919"/>
                        </a:lnTo>
                        <a:lnTo>
                          <a:pt x="398" y="888"/>
                        </a:lnTo>
                        <a:lnTo>
                          <a:pt x="360" y="856"/>
                        </a:lnTo>
                        <a:lnTo>
                          <a:pt x="323" y="820"/>
                        </a:lnTo>
                        <a:lnTo>
                          <a:pt x="288" y="783"/>
                        </a:lnTo>
                        <a:lnTo>
                          <a:pt x="255" y="746"/>
                        </a:lnTo>
                        <a:lnTo>
                          <a:pt x="225" y="707"/>
                        </a:lnTo>
                        <a:lnTo>
                          <a:pt x="196" y="669"/>
                        </a:lnTo>
                        <a:lnTo>
                          <a:pt x="170" y="628"/>
                        </a:lnTo>
                        <a:lnTo>
                          <a:pt x="146" y="587"/>
                        </a:lnTo>
                        <a:lnTo>
                          <a:pt x="125" y="545"/>
                        </a:lnTo>
                        <a:lnTo>
                          <a:pt x="108" y="503"/>
                        </a:lnTo>
                        <a:lnTo>
                          <a:pt x="91" y="458"/>
                        </a:lnTo>
                        <a:lnTo>
                          <a:pt x="76" y="413"/>
                        </a:lnTo>
                        <a:lnTo>
                          <a:pt x="64" y="367"/>
                        </a:lnTo>
                        <a:lnTo>
                          <a:pt x="53" y="322"/>
                        </a:lnTo>
                        <a:lnTo>
                          <a:pt x="45" y="273"/>
                        </a:lnTo>
                        <a:lnTo>
                          <a:pt x="40" y="225"/>
                        </a:lnTo>
                        <a:lnTo>
                          <a:pt x="36" y="175"/>
                        </a:lnTo>
                        <a:lnTo>
                          <a:pt x="36" y="127"/>
                        </a:lnTo>
                        <a:lnTo>
                          <a:pt x="37" y="62"/>
                        </a:lnTo>
                        <a:lnTo>
                          <a:pt x="43" y="0"/>
                        </a:lnTo>
                        <a:lnTo>
                          <a:pt x="20" y="33"/>
                        </a:lnTo>
                        <a:lnTo>
                          <a:pt x="1" y="68"/>
                        </a:lnTo>
                        <a:close/>
                      </a:path>
                    </a:pathLst>
                  </a:custGeom>
                  <a:solidFill>
                    <a:srgbClr val="0f1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5674320" y="5663880"/>
                    <a:ext cx="175680" cy="278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1096">
                        <a:moveTo>
                          <a:pt x="7" y="57"/>
                        </a:moveTo>
                        <a:lnTo>
                          <a:pt x="1" y="119"/>
                        </a:lnTo>
                        <a:lnTo>
                          <a:pt x="0" y="184"/>
                        </a:lnTo>
                        <a:lnTo>
                          <a:pt x="0" y="232"/>
                        </a:lnTo>
                        <a:lnTo>
                          <a:pt x="4" y="282"/>
                        </a:lnTo>
                        <a:lnTo>
                          <a:pt x="9" y="330"/>
                        </a:lnTo>
                        <a:lnTo>
                          <a:pt x="17" y="379"/>
                        </a:lnTo>
                        <a:lnTo>
                          <a:pt x="28" y="424"/>
                        </a:lnTo>
                        <a:lnTo>
                          <a:pt x="40" y="470"/>
                        </a:lnTo>
                        <a:lnTo>
                          <a:pt x="55" y="515"/>
                        </a:lnTo>
                        <a:lnTo>
                          <a:pt x="72" y="560"/>
                        </a:lnTo>
                        <a:lnTo>
                          <a:pt x="89" y="602"/>
                        </a:lnTo>
                        <a:lnTo>
                          <a:pt x="110" y="644"/>
                        </a:lnTo>
                        <a:lnTo>
                          <a:pt x="134" y="685"/>
                        </a:lnTo>
                        <a:lnTo>
                          <a:pt x="160" y="726"/>
                        </a:lnTo>
                        <a:lnTo>
                          <a:pt x="189" y="764"/>
                        </a:lnTo>
                        <a:lnTo>
                          <a:pt x="219" y="803"/>
                        </a:lnTo>
                        <a:lnTo>
                          <a:pt x="252" y="840"/>
                        </a:lnTo>
                        <a:lnTo>
                          <a:pt x="287" y="877"/>
                        </a:lnTo>
                        <a:lnTo>
                          <a:pt x="324" y="913"/>
                        </a:lnTo>
                        <a:lnTo>
                          <a:pt x="362" y="945"/>
                        </a:lnTo>
                        <a:lnTo>
                          <a:pt x="402" y="976"/>
                        </a:lnTo>
                        <a:lnTo>
                          <a:pt x="443" y="1005"/>
                        </a:lnTo>
                        <a:lnTo>
                          <a:pt x="483" y="1032"/>
                        </a:lnTo>
                        <a:lnTo>
                          <a:pt x="525" y="1055"/>
                        </a:lnTo>
                        <a:lnTo>
                          <a:pt x="568" y="1077"/>
                        </a:lnTo>
                        <a:lnTo>
                          <a:pt x="614" y="1096"/>
                        </a:lnTo>
                        <a:lnTo>
                          <a:pt x="652" y="1092"/>
                        </a:lnTo>
                        <a:lnTo>
                          <a:pt x="661" y="1089"/>
                        </a:lnTo>
                        <a:lnTo>
                          <a:pt x="666" y="1088"/>
                        </a:lnTo>
                        <a:lnTo>
                          <a:pt x="672" y="1088"/>
                        </a:lnTo>
                        <a:lnTo>
                          <a:pt x="692" y="1086"/>
                        </a:lnTo>
                        <a:lnTo>
                          <a:pt x="639" y="1067"/>
                        </a:lnTo>
                        <a:lnTo>
                          <a:pt x="589" y="1046"/>
                        </a:lnTo>
                        <a:lnTo>
                          <a:pt x="539" y="1021"/>
                        </a:lnTo>
                        <a:lnTo>
                          <a:pt x="491" y="994"/>
                        </a:lnTo>
                        <a:lnTo>
                          <a:pt x="444" y="962"/>
                        </a:lnTo>
                        <a:lnTo>
                          <a:pt x="399" y="928"/>
                        </a:lnTo>
                        <a:lnTo>
                          <a:pt x="355" y="891"/>
                        </a:lnTo>
                        <a:lnTo>
                          <a:pt x="313" y="851"/>
                        </a:lnTo>
                        <a:lnTo>
                          <a:pt x="278" y="815"/>
                        </a:lnTo>
                        <a:lnTo>
                          <a:pt x="248" y="780"/>
                        </a:lnTo>
                        <a:lnTo>
                          <a:pt x="218" y="743"/>
                        </a:lnTo>
                        <a:lnTo>
                          <a:pt x="192" y="705"/>
                        </a:lnTo>
                        <a:lnTo>
                          <a:pt x="166" y="665"/>
                        </a:lnTo>
                        <a:lnTo>
                          <a:pt x="144" y="627"/>
                        </a:lnTo>
                        <a:lnTo>
                          <a:pt x="123" y="586"/>
                        </a:lnTo>
                        <a:lnTo>
                          <a:pt x="106" y="545"/>
                        </a:lnTo>
                        <a:lnTo>
                          <a:pt x="89" y="502"/>
                        </a:lnTo>
                        <a:lnTo>
                          <a:pt x="74" y="459"/>
                        </a:lnTo>
                        <a:lnTo>
                          <a:pt x="62" y="415"/>
                        </a:lnTo>
                        <a:lnTo>
                          <a:pt x="54" y="371"/>
                        </a:lnTo>
                        <a:lnTo>
                          <a:pt x="46" y="324"/>
                        </a:lnTo>
                        <a:lnTo>
                          <a:pt x="40" y="279"/>
                        </a:lnTo>
                        <a:lnTo>
                          <a:pt x="37" y="231"/>
                        </a:lnTo>
                        <a:lnTo>
                          <a:pt x="37" y="184"/>
                        </a:lnTo>
                        <a:lnTo>
                          <a:pt x="40" y="90"/>
                        </a:lnTo>
                        <a:lnTo>
                          <a:pt x="52" y="0"/>
                        </a:lnTo>
                        <a:lnTo>
                          <a:pt x="29" y="27"/>
                        </a:lnTo>
                        <a:lnTo>
                          <a:pt x="7" y="57"/>
                        </a:lnTo>
                        <a:close/>
                      </a:path>
                    </a:pathLst>
                  </a:custGeom>
                  <a:solidFill>
                    <a:srgbClr val="121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5702040" y="5631120"/>
                    <a:ext cx="1962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774" h="1173">
                        <a:moveTo>
                          <a:pt x="43" y="36"/>
                        </a:moveTo>
                        <a:lnTo>
                          <a:pt x="24" y="101"/>
                        </a:lnTo>
                        <a:lnTo>
                          <a:pt x="10" y="170"/>
                        </a:lnTo>
                        <a:lnTo>
                          <a:pt x="2" y="240"/>
                        </a:lnTo>
                        <a:lnTo>
                          <a:pt x="0" y="314"/>
                        </a:lnTo>
                        <a:lnTo>
                          <a:pt x="0" y="357"/>
                        </a:lnTo>
                        <a:lnTo>
                          <a:pt x="4" y="401"/>
                        </a:lnTo>
                        <a:lnTo>
                          <a:pt x="8" y="444"/>
                        </a:lnTo>
                        <a:lnTo>
                          <a:pt x="16" y="487"/>
                        </a:lnTo>
                        <a:lnTo>
                          <a:pt x="24" y="528"/>
                        </a:lnTo>
                        <a:lnTo>
                          <a:pt x="35" y="569"/>
                        </a:lnTo>
                        <a:lnTo>
                          <a:pt x="48" y="608"/>
                        </a:lnTo>
                        <a:lnTo>
                          <a:pt x="64" y="648"/>
                        </a:lnTo>
                        <a:lnTo>
                          <a:pt x="80" y="686"/>
                        </a:lnTo>
                        <a:lnTo>
                          <a:pt x="99" y="723"/>
                        </a:lnTo>
                        <a:lnTo>
                          <a:pt x="119" y="759"/>
                        </a:lnTo>
                        <a:lnTo>
                          <a:pt x="143" y="795"/>
                        </a:lnTo>
                        <a:lnTo>
                          <a:pt x="167" y="829"/>
                        </a:lnTo>
                        <a:lnTo>
                          <a:pt x="194" y="863"/>
                        </a:lnTo>
                        <a:lnTo>
                          <a:pt x="222" y="896"/>
                        </a:lnTo>
                        <a:lnTo>
                          <a:pt x="255" y="930"/>
                        </a:lnTo>
                        <a:lnTo>
                          <a:pt x="304" y="976"/>
                        </a:lnTo>
                        <a:lnTo>
                          <a:pt x="357" y="1019"/>
                        </a:lnTo>
                        <a:lnTo>
                          <a:pt x="412" y="1055"/>
                        </a:lnTo>
                        <a:lnTo>
                          <a:pt x="470" y="1089"/>
                        </a:lnTo>
                        <a:lnTo>
                          <a:pt x="527" y="1116"/>
                        </a:lnTo>
                        <a:lnTo>
                          <a:pt x="557" y="1129"/>
                        </a:lnTo>
                        <a:lnTo>
                          <a:pt x="589" y="1140"/>
                        </a:lnTo>
                        <a:lnTo>
                          <a:pt x="651" y="1158"/>
                        </a:lnTo>
                        <a:lnTo>
                          <a:pt x="684" y="1166"/>
                        </a:lnTo>
                        <a:lnTo>
                          <a:pt x="718" y="1173"/>
                        </a:lnTo>
                        <a:lnTo>
                          <a:pt x="745" y="1159"/>
                        </a:lnTo>
                        <a:lnTo>
                          <a:pt x="759" y="1151"/>
                        </a:lnTo>
                        <a:lnTo>
                          <a:pt x="774" y="1145"/>
                        </a:lnTo>
                        <a:lnTo>
                          <a:pt x="702" y="1133"/>
                        </a:lnTo>
                        <a:lnTo>
                          <a:pt x="635" y="1117"/>
                        </a:lnTo>
                        <a:lnTo>
                          <a:pt x="571" y="1095"/>
                        </a:lnTo>
                        <a:lnTo>
                          <a:pt x="539" y="1082"/>
                        </a:lnTo>
                        <a:lnTo>
                          <a:pt x="508" y="1069"/>
                        </a:lnTo>
                        <a:lnTo>
                          <a:pt x="448" y="1035"/>
                        </a:lnTo>
                        <a:lnTo>
                          <a:pt x="419" y="1016"/>
                        </a:lnTo>
                        <a:lnTo>
                          <a:pt x="390" y="997"/>
                        </a:lnTo>
                        <a:lnTo>
                          <a:pt x="362" y="976"/>
                        </a:lnTo>
                        <a:lnTo>
                          <a:pt x="335" y="953"/>
                        </a:lnTo>
                        <a:lnTo>
                          <a:pt x="307" y="929"/>
                        </a:lnTo>
                        <a:lnTo>
                          <a:pt x="281" y="904"/>
                        </a:lnTo>
                        <a:lnTo>
                          <a:pt x="251" y="873"/>
                        </a:lnTo>
                        <a:lnTo>
                          <a:pt x="224" y="841"/>
                        </a:lnTo>
                        <a:lnTo>
                          <a:pt x="197" y="808"/>
                        </a:lnTo>
                        <a:lnTo>
                          <a:pt x="174" y="775"/>
                        </a:lnTo>
                        <a:lnTo>
                          <a:pt x="151" y="740"/>
                        </a:lnTo>
                        <a:lnTo>
                          <a:pt x="132" y="705"/>
                        </a:lnTo>
                        <a:lnTo>
                          <a:pt x="112" y="669"/>
                        </a:lnTo>
                        <a:lnTo>
                          <a:pt x="98" y="633"/>
                        </a:lnTo>
                        <a:lnTo>
                          <a:pt x="83" y="595"/>
                        </a:lnTo>
                        <a:lnTo>
                          <a:pt x="70" y="557"/>
                        </a:lnTo>
                        <a:lnTo>
                          <a:pt x="59" y="518"/>
                        </a:lnTo>
                        <a:lnTo>
                          <a:pt x="51" y="479"/>
                        </a:lnTo>
                        <a:lnTo>
                          <a:pt x="43" y="438"/>
                        </a:lnTo>
                        <a:lnTo>
                          <a:pt x="40" y="398"/>
                        </a:lnTo>
                        <a:lnTo>
                          <a:pt x="36" y="356"/>
                        </a:lnTo>
                        <a:lnTo>
                          <a:pt x="36" y="314"/>
                        </a:lnTo>
                        <a:lnTo>
                          <a:pt x="36" y="271"/>
                        </a:lnTo>
                        <a:lnTo>
                          <a:pt x="40" y="230"/>
                        </a:lnTo>
                        <a:lnTo>
                          <a:pt x="43" y="189"/>
                        </a:lnTo>
                        <a:lnTo>
                          <a:pt x="51" y="151"/>
                        </a:lnTo>
                        <a:lnTo>
                          <a:pt x="59" y="111"/>
                        </a:lnTo>
                        <a:lnTo>
                          <a:pt x="69" y="73"/>
                        </a:lnTo>
                        <a:lnTo>
                          <a:pt x="95" y="0"/>
                        </a:lnTo>
                        <a:lnTo>
                          <a:pt x="68" y="17"/>
                        </a:lnTo>
                        <a:lnTo>
                          <a:pt x="43" y="36"/>
                        </a:lnTo>
                        <a:close/>
                      </a:path>
                    </a:pathLst>
                  </a:custGeom>
                  <a:solidFill>
                    <a:srgbClr val="1c2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5738760" y="5609160"/>
                    <a:ext cx="2037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126">
                        <a:moveTo>
                          <a:pt x="110" y="13"/>
                        </a:moveTo>
                        <a:lnTo>
                          <a:pt x="83" y="55"/>
                        </a:lnTo>
                        <a:lnTo>
                          <a:pt x="62" y="100"/>
                        </a:lnTo>
                        <a:lnTo>
                          <a:pt x="42" y="146"/>
                        </a:lnTo>
                        <a:lnTo>
                          <a:pt x="28" y="195"/>
                        </a:lnTo>
                        <a:lnTo>
                          <a:pt x="15" y="242"/>
                        </a:lnTo>
                        <a:lnTo>
                          <a:pt x="7" y="293"/>
                        </a:lnTo>
                        <a:lnTo>
                          <a:pt x="1" y="345"/>
                        </a:lnTo>
                        <a:lnTo>
                          <a:pt x="0" y="400"/>
                        </a:lnTo>
                        <a:lnTo>
                          <a:pt x="0" y="436"/>
                        </a:lnTo>
                        <a:lnTo>
                          <a:pt x="3" y="472"/>
                        </a:lnTo>
                        <a:lnTo>
                          <a:pt x="6" y="507"/>
                        </a:lnTo>
                        <a:lnTo>
                          <a:pt x="13" y="544"/>
                        </a:lnTo>
                        <a:lnTo>
                          <a:pt x="20" y="578"/>
                        </a:lnTo>
                        <a:lnTo>
                          <a:pt x="30" y="612"/>
                        </a:lnTo>
                        <a:lnTo>
                          <a:pt x="40" y="645"/>
                        </a:lnTo>
                        <a:lnTo>
                          <a:pt x="54" y="679"/>
                        </a:lnTo>
                        <a:lnTo>
                          <a:pt x="66" y="709"/>
                        </a:lnTo>
                        <a:lnTo>
                          <a:pt x="82" y="741"/>
                        </a:lnTo>
                        <a:lnTo>
                          <a:pt x="99" y="770"/>
                        </a:lnTo>
                        <a:lnTo>
                          <a:pt x="119" y="801"/>
                        </a:lnTo>
                        <a:lnTo>
                          <a:pt x="140" y="829"/>
                        </a:lnTo>
                        <a:lnTo>
                          <a:pt x="162" y="858"/>
                        </a:lnTo>
                        <a:lnTo>
                          <a:pt x="186" y="885"/>
                        </a:lnTo>
                        <a:lnTo>
                          <a:pt x="214" y="913"/>
                        </a:lnTo>
                        <a:lnTo>
                          <a:pt x="240" y="938"/>
                        </a:lnTo>
                        <a:lnTo>
                          <a:pt x="267" y="962"/>
                        </a:lnTo>
                        <a:lnTo>
                          <a:pt x="294" y="985"/>
                        </a:lnTo>
                        <a:lnTo>
                          <a:pt x="324" y="1006"/>
                        </a:lnTo>
                        <a:lnTo>
                          <a:pt x="384" y="1042"/>
                        </a:lnTo>
                        <a:lnTo>
                          <a:pt x="414" y="1058"/>
                        </a:lnTo>
                        <a:lnTo>
                          <a:pt x="447" y="1073"/>
                        </a:lnTo>
                        <a:lnTo>
                          <a:pt x="512" y="1096"/>
                        </a:lnTo>
                        <a:lnTo>
                          <a:pt x="546" y="1105"/>
                        </a:lnTo>
                        <a:lnTo>
                          <a:pt x="581" y="1113"/>
                        </a:lnTo>
                        <a:lnTo>
                          <a:pt x="616" y="1118"/>
                        </a:lnTo>
                        <a:lnTo>
                          <a:pt x="652" y="1123"/>
                        </a:lnTo>
                        <a:lnTo>
                          <a:pt x="689" y="1125"/>
                        </a:lnTo>
                        <a:lnTo>
                          <a:pt x="727" y="1126"/>
                        </a:lnTo>
                        <a:lnTo>
                          <a:pt x="766" y="1125"/>
                        </a:lnTo>
                        <a:lnTo>
                          <a:pt x="770" y="1121"/>
                        </a:lnTo>
                        <a:lnTo>
                          <a:pt x="802" y="1087"/>
                        </a:lnTo>
                        <a:lnTo>
                          <a:pt x="765" y="1089"/>
                        </a:lnTo>
                        <a:lnTo>
                          <a:pt x="745" y="1089"/>
                        </a:lnTo>
                        <a:lnTo>
                          <a:pt x="727" y="1090"/>
                        </a:lnTo>
                        <a:lnTo>
                          <a:pt x="691" y="1089"/>
                        </a:lnTo>
                        <a:lnTo>
                          <a:pt x="656" y="1087"/>
                        </a:lnTo>
                        <a:lnTo>
                          <a:pt x="622" y="1082"/>
                        </a:lnTo>
                        <a:lnTo>
                          <a:pt x="589" y="1076"/>
                        </a:lnTo>
                        <a:lnTo>
                          <a:pt x="524" y="1061"/>
                        </a:lnTo>
                        <a:lnTo>
                          <a:pt x="492" y="1050"/>
                        </a:lnTo>
                        <a:lnTo>
                          <a:pt x="462" y="1039"/>
                        </a:lnTo>
                        <a:lnTo>
                          <a:pt x="431" y="1025"/>
                        </a:lnTo>
                        <a:lnTo>
                          <a:pt x="402" y="1011"/>
                        </a:lnTo>
                        <a:lnTo>
                          <a:pt x="372" y="994"/>
                        </a:lnTo>
                        <a:lnTo>
                          <a:pt x="345" y="976"/>
                        </a:lnTo>
                        <a:lnTo>
                          <a:pt x="317" y="955"/>
                        </a:lnTo>
                        <a:lnTo>
                          <a:pt x="291" y="935"/>
                        </a:lnTo>
                        <a:lnTo>
                          <a:pt x="265" y="912"/>
                        </a:lnTo>
                        <a:lnTo>
                          <a:pt x="240" y="888"/>
                        </a:lnTo>
                        <a:lnTo>
                          <a:pt x="214" y="861"/>
                        </a:lnTo>
                        <a:lnTo>
                          <a:pt x="191" y="835"/>
                        </a:lnTo>
                        <a:lnTo>
                          <a:pt x="169" y="808"/>
                        </a:lnTo>
                        <a:lnTo>
                          <a:pt x="150" y="781"/>
                        </a:lnTo>
                        <a:lnTo>
                          <a:pt x="131" y="751"/>
                        </a:lnTo>
                        <a:lnTo>
                          <a:pt x="115" y="723"/>
                        </a:lnTo>
                        <a:lnTo>
                          <a:pt x="99" y="693"/>
                        </a:lnTo>
                        <a:lnTo>
                          <a:pt x="87" y="664"/>
                        </a:lnTo>
                        <a:lnTo>
                          <a:pt x="74" y="632"/>
                        </a:lnTo>
                        <a:lnTo>
                          <a:pt x="64" y="601"/>
                        </a:lnTo>
                        <a:lnTo>
                          <a:pt x="55" y="569"/>
                        </a:lnTo>
                        <a:lnTo>
                          <a:pt x="49" y="537"/>
                        </a:lnTo>
                        <a:lnTo>
                          <a:pt x="42" y="503"/>
                        </a:lnTo>
                        <a:lnTo>
                          <a:pt x="39" y="469"/>
                        </a:lnTo>
                        <a:lnTo>
                          <a:pt x="37" y="434"/>
                        </a:lnTo>
                        <a:lnTo>
                          <a:pt x="37" y="400"/>
                        </a:lnTo>
                        <a:lnTo>
                          <a:pt x="38" y="343"/>
                        </a:lnTo>
                        <a:lnTo>
                          <a:pt x="45" y="290"/>
                        </a:lnTo>
                        <a:lnTo>
                          <a:pt x="54" y="237"/>
                        </a:lnTo>
                        <a:lnTo>
                          <a:pt x="68" y="187"/>
                        </a:lnTo>
                        <a:lnTo>
                          <a:pt x="85" y="137"/>
                        </a:lnTo>
                        <a:lnTo>
                          <a:pt x="108" y="89"/>
                        </a:lnTo>
                        <a:lnTo>
                          <a:pt x="133" y="43"/>
                        </a:lnTo>
                        <a:lnTo>
                          <a:pt x="164" y="0"/>
                        </a:lnTo>
                        <a:lnTo>
                          <a:pt x="110" y="13"/>
                        </a:lnTo>
                        <a:close/>
                      </a:path>
                    </a:pathLst>
                  </a:custGeom>
                  <a:solidFill>
                    <a:srgbClr val="293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5784840" y="5606640"/>
                    <a:ext cx="19044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954">
                        <a:moveTo>
                          <a:pt x="186" y="49"/>
                        </a:moveTo>
                        <a:lnTo>
                          <a:pt x="210" y="26"/>
                        </a:lnTo>
                        <a:lnTo>
                          <a:pt x="236" y="5"/>
                        </a:lnTo>
                        <a:lnTo>
                          <a:pt x="186" y="0"/>
                        </a:lnTo>
                        <a:lnTo>
                          <a:pt x="160" y="23"/>
                        </a:lnTo>
                        <a:lnTo>
                          <a:pt x="121" y="63"/>
                        </a:lnTo>
                        <a:lnTo>
                          <a:pt x="88" y="106"/>
                        </a:lnTo>
                        <a:lnTo>
                          <a:pt x="61" y="150"/>
                        </a:lnTo>
                        <a:lnTo>
                          <a:pt x="39" y="199"/>
                        </a:lnTo>
                        <a:lnTo>
                          <a:pt x="21" y="248"/>
                        </a:lnTo>
                        <a:lnTo>
                          <a:pt x="9" y="299"/>
                        </a:lnTo>
                        <a:lnTo>
                          <a:pt x="2" y="352"/>
                        </a:lnTo>
                        <a:lnTo>
                          <a:pt x="0" y="409"/>
                        </a:lnTo>
                        <a:lnTo>
                          <a:pt x="2" y="463"/>
                        </a:lnTo>
                        <a:lnTo>
                          <a:pt x="4" y="489"/>
                        </a:lnTo>
                        <a:lnTo>
                          <a:pt x="9" y="516"/>
                        </a:lnTo>
                        <a:lnTo>
                          <a:pt x="13" y="541"/>
                        </a:lnTo>
                        <a:lnTo>
                          <a:pt x="21" y="567"/>
                        </a:lnTo>
                        <a:lnTo>
                          <a:pt x="39" y="617"/>
                        </a:lnTo>
                        <a:lnTo>
                          <a:pt x="49" y="640"/>
                        </a:lnTo>
                        <a:lnTo>
                          <a:pt x="61" y="664"/>
                        </a:lnTo>
                        <a:lnTo>
                          <a:pt x="88" y="709"/>
                        </a:lnTo>
                        <a:lnTo>
                          <a:pt x="121" y="752"/>
                        </a:lnTo>
                        <a:lnTo>
                          <a:pt x="139" y="773"/>
                        </a:lnTo>
                        <a:lnTo>
                          <a:pt x="160" y="794"/>
                        </a:lnTo>
                        <a:lnTo>
                          <a:pt x="199" y="830"/>
                        </a:lnTo>
                        <a:lnTo>
                          <a:pt x="220" y="847"/>
                        </a:lnTo>
                        <a:lnTo>
                          <a:pt x="242" y="863"/>
                        </a:lnTo>
                        <a:lnTo>
                          <a:pt x="287" y="890"/>
                        </a:lnTo>
                        <a:lnTo>
                          <a:pt x="335" y="913"/>
                        </a:lnTo>
                        <a:lnTo>
                          <a:pt x="359" y="922"/>
                        </a:lnTo>
                        <a:lnTo>
                          <a:pt x="384" y="930"/>
                        </a:lnTo>
                        <a:lnTo>
                          <a:pt x="435" y="944"/>
                        </a:lnTo>
                        <a:lnTo>
                          <a:pt x="489" y="951"/>
                        </a:lnTo>
                        <a:lnTo>
                          <a:pt x="516" y="953"/>
                        </a:lnTo>
                        <a:lnTo>
                          <a:pt x="545" y="954"/>
                        </a:lnTo>
                        <a:lnTo>
                          <a:pt x="557" y="953"/>
                        </a:lnTo>
                        <a:lnTo>
                          <a:pt x="569" y="953"/>
                        </a:lnTo>
                        <a:lnTo>
                          <a:pt x="594" y="952"/>
                        </a:lnTo>
                        <a:lnTo>
                          <a:pt x="642" y="946"/>
                        </a:lnTo>
                        <a:lnTo>
                          <a:pt x="687" y="936"/>
                        </a:lnTo>
                        <a:lnTo>
                          <a:pt x="709" y="929"/>
                        </a:lnTo>
                        <a:lnTo>
                          <a:pt x="731" y="923"/>
                        </a:lnTo>
                        <a:lnTo>
                          <a:pt x="740" y="900"/>
                        </a:lnTo>
                        <a:lnTo>
                          <a:pt x="749" y="877"/>
                        </a:lnTo>
                        <a:lnTo>
                          <a:pt x="724" y="886"/>
                        </a:lnTo>
                        <a:lnTo>
                          <a:pt x="718" y="887"/>
                        </a:lnTo>
                        <a:lnTo>
                          <a:pt x="712" y="889"/>
                        </a:lnTo>
                        <a:lnTo>
                          <a:pt x="701" y="894"/>
                        </a:lnTo>
                        <a:lnTo>
                          <a:pt x="651" y="907"/>
                        </a:lnTo>
                        <a:lnTo>
                          <a:pt x="599" y="914"/>
                        </a:lnTo>
                        <a:lnTo>
                          <a:pt x="571" y="917"/>
                        </a:lnTo>
                        <a:lnTo>
                          <a:pt x="558" y="917"/>
                        </a:lnTo>
                        <a:lnTo>
                          <a:pt x="551" y="917"/>
                        </a:lnTo>
                        <a:lnTo>
                          <a:pt x="547" y="917"/>
                        </a:lnTo>
                        <a:lnTo>
                          <a:pt x="545" y="918"/>
                        </a:lnTo>
                        <a:lnTo>
                          <a:pt x="518" y="917"/>
                        </a:lnTo>
                        <a:lnTo>
                          <a:pt x="492" y="914"/>
                        </a:lnTo>
                        <a:lnTo>
                          <a:pt x="443" y="907"/>
                        </a:lnTo>
                        <a:lnTo>
                          <a:pt x="394" y="896"/>
                        </a:lnTo>
                        <a:lnTo>
                          <a:pt x="349" y="880"/>
                        </a:lnTo>
                        <a:lnTo>
                          <a:pt x="305" y="858"/>
                        </a:lnTo>
                        <a:lnTo>
                          <a:pt x="263" y="833"/>
                        </a:lnTo>
                        <a:lnTo>
                          <a:pt x="223" y="803"/>
                        </a:lnTo>
                        <a:lnTo>
                          <a:pt x="186" y="769"/>
                        </a:lnTo>
                        <a:lnTo>
                          <a:pt x="166" y="749"/>
                        </a:lnTo>
                        <a:lnTo>
                          <a:pt x="149" y="730"/>
                        </a:lnTo>
                        <a:lnTo>
                          <a:pt x="134" y="709"/>
                        </a:lnTo>
                        <a:lnTo>
                          <a:pt x="120" y="690"/>
                        </a:lnTo>
                        <a:lnTo>
                          <a:pt x="105" y="668"/>
                        </a:lnTo>
                        <a:lnTo>
                          <a:pt x="94" y="648"/>
                        </a:lnTo>
                        <a:lnTo>
                          <a:pt x="83" y="625"/>
                        </a:lnTo>
                        <a:lnTo>
                          <a:pt x="73" y="604"/>
                        </a:lnTo>
                        <a:lnTo>
                          <a:pt x="63" y="580"/>
                        </a:lnTo>
                        <a:lnTo>
                          <a:pt x="56" y="557"/>
                        </a:lnTo>
                        <a:lnTo>
                          <a:pt x="45" y="510"/>
                        </a:lnTo>
                        <a:lnTo>
                          <a:pt x="38" y="460"/>
                        </a:lnTo>
                        <a:lnTo>
                          <a:pt x="36" y="434"/>
                        </a:lnTo>
                        <a:lnTo>
                          <a:pt x="36" y="409"/>
                        </a:lnTo>
                        <a:lnTo>
                          <a:pt x="38" y="355"/>
                        </a:lnTo>
                        <a:lnTo>
                          <a:pt x="45" y="307"/>
                        </a:lnTo>
                        <a:lnTo>
                          <a:pt x="56" y="258"/>
                        </a:lnTo>
                        <a:lnTo>
                          <a:pt x="73" y="214"/>
                        </a:lnTo>
                        <a:lnTo>
                          <a:pt x="94" y="170"/>
                        </a:lnTo>
                        <a:lnTo>
                          <a:pt x="120" y="128"/>
                        </a:lnTo>
                        <a:lnTo>
                          <a:pt x="149" y="87"/>
                        </a:lnTo>
                        <a:lnTo>
                          <a:pt x="186" y="49"/>
                        </a:lnTo>
                        <a:close/>
                      </a:path>
                    </a:pathLst>
                  </a:custGeom>
                  <a:solidFill>
                    <a:srgbClr val="395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5794200" y="5608080"/>
                    <a:ext cx="1843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7" h="913">
                        <a:moveTo>
                          <a:pt x="200" y="0"/>
                        </a:moveTo>
                        <a:lnTo>
                          <a:pt x="174" y="21"/>
                        </a:lnTo>
                        <a:lnTo>
                          <a:pt x="150" y="44"/>
                        </a:lnTo>
                        <a:lnTo>
                          <a:pt x="113" y="82"/>
                        </a:lnTo>
                        <a:lnTo>
                          <a:pt x="84" y="123"/>
                        </a:lnTo>
                        <a:lnTo>
                          <a:pt x="58" y="165"/>
                        </a:lnTo>
                        <a:lnTo>
                          <a:pt x="37" y="209"/>
                        </a:lnTo>
                        <a:lnTo>
                          <a:pt x="20" y="253"/>
                        </a:lnTo>
                        <a:lnTo>
                          <a:pt x="9" y="302"/>
                        </a:lnTo>
                        <a:lnTo>
                          <a:pt x="2" y="350"/>
                        </a:lnTo>
                        <a:lnTo>
                          <a:pt x="0" y="404"/>
                        </a:lnTo>
                        <a:lnTo>
                          <a:pt x="0" y="429"/>
                        </a:lnTo>
                        <a:lnTo>
                          <a:pt x="2" y="455"/>
                        </a:lnTo>
                        <a:lnTo>
                          <a:pt x="9" y="505"/>
                        </a:lnTo>
                        <a:lnTo>
                          <a:pt x="20" y="552"/>
                        </a:lnTo>
                        <a:lnTo>
                          <a:pt x="27" y="575"/>
                        </a:lnTo>
                        <a:lnTo>
                          <a:pt x="37" y="599"/>
                        </a:lnTo>
                        <a:lnTo>
                          <a:pt x="47" y="620"/>
                        </a:lnTo>
                        <a:lnTo>
                          <a:pt x="58" y="643"/>
                        </a:lnTo>
                        <a:lnTo>
                          <a:pt x="69" y="663"/>
                        </a:lnTo>
                        <a:lnTo>
                          <a:pt x="84" y="685"/>
                        </a:lnTo>
                        <a:lnTo>
                          <a:pt x="98" y="704"/>
                        </a:lnTo>
                        <a:lnTo>
                          <a:pt x="113" y="725"/>
                        </a:lnTo>
                        <a:lnTo>
                          <a:pt x="130" y="744"/>
                        </a:lnTo>
                        <a:lnTo>
                          <a:pt x="150" y="764"/>
                        </a:lnTo>
                        <a:lnTo>
                          <a:pt x="187" y="798"/>
                        </a:lnTo>
                        <a:lnTo>
                          <a:pt x="227" y="828"/>
                        </a:lnTo>
                        <a:lnTo>
                          <a:pt x="269" y="853"/>
                        </a:lnTo>
                        <a:lnTo>
                          <a:pt x="313" y="875"/>
                        </a:lnTo>
                        <a:lnTo>
                          <a:pt x="358" y="891"/>
                        </a:lnTo>
                        <a:lnTo>
                          <a:pt x="407" y="902"/>
                        </a:lnTo>
                        <a:lnTo>
                          <a:pt x="456" y="909"/>
                        </a:lnTo>
                        <a:lnTo>
                          <a:pt x="482" y="912"/>
                        </a:lnTo>
                        <a:lnTo>
                          <a:pt x="509" y="913"/>
                        </a:lnTo>
                        <a:lnTo>
                          <a:pt x="511" y="912"/>
                        </a:lnTo>
                        <a:lnTo>
                          <a:pt x="515" y="912"/>
                        </a:lnTo>
                        <a:lnTo>
                          <a:pt x="522" y="912"/>
                        </a:lnTo>
                        <a:lnTo>
                          <a:pt x="535" y="912"/>
                        </a:lnTo>
                        <a:lnTo>
                          <a:pt x="563" y="909"/>
                        </a:lnTo>
                        <a:lnTo>
                          <a:pt x="615" y="902"/>
                        </a:lnTo>
                        <a:lnTo>
                          <a:pt x="665" y="889"/>
                        </a:lnTo>
                        <a:lnTo>
                          <a:pt x="676" y="884"/>
                        </a:lnTo>
                        <a:lnTo>
                          <a:pt x="682" y="882"/>
                        </a:lnTo>
                        <a:lnTo>
                          <a:pt x="688" y="881"/>
                        </a:lnTo>
                        <a:lnTo>
                          <a:pt x="713" y="872"/>
                        </a:lnTo>
                        <a:lnTo>
                          <a:pt x="720" y="848"/>
                        </a:lnTo>
                        <a:lnTo>
                          <a:pt x="727" y="824"/>
                        </a:lnTo>
                        <a:lnTo>
                          <a:pt x="701" y="836"/>
                        </a:lnTo>
                        <a:lnTo>
                          <a:pt x="676" y="846"/>
                        </a:lnTo>
                        <a:lnTo>
                          <a:pt x="649" y="855"/>
                        </a:lnTo>
                        <a:lnTo>
                          <a:pt x="635" y="858"/>
                        </a:lnTo>
                        <a:lnTo>
                          <a:pt x="623" y="863"/>
                        </a:lnTo>
                        <a:lnTo>
                          <a:pt x="608" y="865"/>
                        </a:lnTo>
                        <a:lnTo>
                          <a:pt x="594" y="868"/>
                        </a:lnTo>
                        <a:lnTo>
                          <a:pt x="567" y="873"/>
                        </a:lnTo>
                        <a:lnTo>
                          <a:pt x="538" y="875"/>
                        </a:lnTo>
                        <a:lnTo>
                          <a:pt x="523" y="875"/>
                        </a:lnTo>
                        <a:lnTo>
                          <a:pt x="509" y="876"/>
                        </a:lnTo>
                        <a:lnTo>
                          <a:pt x="460" y="874"/>
                        </a:lnTo>
                        <a:lnTo>
                          <a:pt x="414" y="867"/>
                        </a:lnTo>
                        <a:lnTo>
                          <a:pt x="369" y="856"/>
                        </a:lnTo>
                        <a:lnTo>
                          <a:pt x="327" y="841"/>
                        </a:lnTo>
                        <a:lnTo>
                          <a:pt x="285" y="821"/>
                        </a:lnTo>
                        <a:lnTo>
                          <a:pt x="246" y="798"/>
                        </a:lnTo>
                        <a:lnTo>
                          <a:pt x="209" y="770"/>
                        </a:lnTo>
                        <a:lnTo>
                          <a:pt x="175" y="738"/>
                        </a:lnTo>
                        <a:lnTo>
                          <a:pt x="141" y="702"/>
                        </a:lnTo>
                        <a:lnTo>
                          <a:pt x="126" y="683"/>
                        </a:lnTo>
                        <a:lnTo>
                          <a:pt x="113" y="664"/>
                        </a:lnTo>
                        <a:lnTo>
                          <a:pt x="90" y="625"/>
                        </a:lnTo>
                        <a:lnTo>
                          <a:pt x="79" y="604"/>
                        </a:lnTo>
                        <a:lnTo>
                          <a:pt x="72" y="585"/>
                        </a:lnTo>
                        <a:lnTo>
                          <a:pt x="56" y="542"/>
                        </a:lnTo>
                        <a:lnTo>
                          <a:pt x="45" y="498"/>
                        </a:lnTo>
                        <a:lnTo>
                          <a:pt x="41" y="474"/>
                        </a:lnTo>
                        <a:lnTo>
                          <a:pt x="39" y="451"/>
                        </a:lnTo>
                        <a:lnTo>
                          <a:pt x="37" y="404"/>
                        </a:lnTo>
                        <a:lnTo>
                          <a:pt x="39" y="355"/>
                        </a:lnTo>
                        <a:lnTo>
                          <a:pt x="45" y="310"/>
                        </a:lnTo>
                        <a:lnTo>
                          <a:pt x="56" y="264"/>
                        </a:lnTo>
                        <a:lnTo>
                          <a:pt x="72" y="222"/>
                        </a:lnTo>
                        <a:lnTo>
                          <a:pt x="90" y="180"/>
                        </a:lnTo>
                        <a:lnTo>
                          <a:pt x="113" y="142"/>
                        </a:lnTo>
                        <a:lnTo>
                          <a:pt x="141" y="104"/>
                        </a:lnTo>
                        <a:lnTo>
                          <a:pt x="175" y="70"/>
                        </a:lnTo>
                        <a:lnTo>
                          <a:pt x="210" y="38"/>
                        </a:lnTo>
                        <a:lnTo>
                          <a:pt x="247" y="10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3c5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5803560" y="5610600"/>
                    <a:ext cx="177840" cy="21996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866">
                        <a:moveTo>
                          <a:pt x="210" y="0"/>
                        </a:moveTo>
                        <a:lnTo>
                          <a:pt x="173" y="28"/>
                        </a:lnTo>
                        <a:lnTo>
                          <a:pt x="138" y="60"/>
                        </a:lnTo>
                        <a:lnTo>
                          <a:pt x="104" y="94"/>
                        </a:lnTo>
                        <a:lnTo>
                          <a:pt x="76" y="132"/>
                        </a:lnTo>
                        <a:lnTo>
                          <a:pt x="53" y="170"/>
                        </a:lnTo>
                        <a:lnTo>
                          <a:pt x="35" y="212"/>
                        </a:lnTo>
                        <a:lnTo>
                          <a:pt x="19" y="254"/>
                        </a:lnTo>
                        <a:lnTo>
                          <a:pt x="8" y="300"/>
                        </a:lnTo>
                        <a:lnTo>
                          <a:pt x="2" y="345"/>
                        </a:lnTo>
                        <a:lnTo>
                          <a:pt x="0" y="394"/>
                        </a:lnTo>
                        <a:lnTo>
                          <a:pt x="2" y="441"/>
                        </a:lnTo>
                        <a:lnTo>
                          <a:pt x="4" y="464"/>
                        </a:lnTo>
                        <a:lnTo>
                          <a:pt x="8" y="488"/>
                        </a:lnTo>
                        <a:lnTo>
                          <a:pt x="19" y="532"/>
                        </a:lnTo>
                        <a:lnTo>
                          <a:pt x="35" y="575"/>
                        </a:lnTo>
                        <a:lnTo>
                          <a:pt x="42" y="594"/>
                        </a:lnTo>
                        <a:lnTo>
                          <a:pt x="53" y="615"/>
                        </a:lnTo>
                        <a:lnTo>
                          <a:pt x="76" y="654"/>
                        </a:lnTo>
                        <a:lnTo>
                          <a:pt x="89" y="673"/>
                        </a:lnTo>
                        <a:lnTo>
                          <a:pt x="104" y="692"/>
                        </a:lnTo>
                        <a:lnTo>
                          <a:pt x="138" y="728"/>
                        </a:lnTo>
                        <a:lnTo>
                          <a:pt x="172" y="760"/>
                        </a:lnTo>
                        <a:lnTo>
                          <a:pt x="209" y="788"/>
                        </a:lnTo>
                        <a:lnTo>
                          <a:pt x="248" y="811"/>
                        </a:lnTo>
                        <a:lnTo>
                          <a:pt x="290" y="831"/>
                        </a:lnTo>
                        <a:lnTo>
                          <a:pt x="332" y="846"/>
                        </a:lnTo>
                        <a:lnTo>
                          <a:pt x="377" y="857"/>
                        </a:lnTo>
                        <a:lnTo>
                          <a:pt x="423" y="864"/>
                        </a:lnTo>
                        <a:lnTo>
                          <a:pt x="472" y="866"/>
                        </a:lnTo>
                        <a:lnTo>
                          <a:pt x="486" y="865"/>
                        </a:lnTo>
                        <a:lnTo>
                          <a:pt x="501" y="865"/>
                        </a:lnTo>
                        <a:lnTo>
                          <a:pt x="530" y="863"/>
                        </a:lnTo>
                        <a:lnTo>
                          <a:pt x="557" y="858"/>
                        </a:lnTo>
                        <a:lnTo>
                          <a:pt x="571" y="855"/>
                        </a:lnTo>
                        <a:lnTo>
                          <a:pt x="586" y="853"/>
                        </a:lnTo>
                        <a:lnTo>
                          <a:pt x="598" y="848"/>
                        </a:lnTo>
                        <a:lnTo>
                          <a:pt x="612" y="845"/>
                        </a:lnTo>
                        <a:lnTo>
                          <a:pt x="639" y="836"/>
                        </a:lnTo>
                        <a:lnTo>
                          <a:pt x="664" y="826"/>
                        </a:lnTo>
                        <a:lnTo>
                          <a:pt x="690" y="814"/>
                        </a:lnTo>
                        <a:lnTo>
                          <a:pt x="694" y="790"/>
                        </a:lnTo>
                        <a:lnTo>
                          <a:pt x="700" y="768"/>
                        </a:lnTo>
                        <a:lnTo>
                          <a:pt x="673" y="781"/>
                        </a:lnTo>
                        <a:lnTo>
                          <a:pt x="659" y="787"/>
                        </a:lnTo>
                        <a:lnTo>
                          <a:pt x="647" y="794"/>
                        </a:lnTo>
                        <a:lnTo>
                          <a:pt x="620" y="804"/>
                        </a:lnTo>
                        <a:lnTo>
                          <a:pt x="592" y="814"/>
                        </a:lnTo>
                        <a:lnTo>
                          <a:pt x="563" y="820"/>
                        </a:lnTo>
                        <a:lnTo>
                          <a:pt x="533" y="826"/>
                        </a:lnTo>
                        <a:lnTo>
                          <a:pt x="518" y="827"/>
                        </a:lnTo>
                        <a:lnTo>
                          <a:pt x="503" y="829"/>
                        </a:lnTo>
                        <a:lnTo>
                          <a:pt x="487" y="829"/>
                        </a:lnTo>
                        <a:lnTo>
                          <a:pt x="479" y="829"/>
                        </a:lnTo>
                        <a:lnTo>
                          <a:pt x="472" y="830"/>
                        </a:lnTo>
                        <a:lnTo>
                          <a:pt x="427" y="828"/>
                        </a:lnTo>
                        <a:lnTo>
                          <a:pt x="385" y="821"/>
                        </a:lnTo>
                        <a:lnTo>
                          <a:pt x="343" y="811"/>
                        </a:lnTo>
                        <a:lnTo>
                          <a:pt x="304" y="797"/>
                        </a:lnTo>
                        <a:lnTo>
                          <a:pt x="266" y="779"/>
                        </a:lnTo>
                        <a:lnTo>
                          <a:pt x="231" y="758"/>
                        </a:lnTo>
                        <a:lnTo>
                          <a:pt x="196" y="732"/>
                        </a:lnTo>
                        <a:lnTo>
                          <a:pt x="164" y="702"/>
                        </a:lnTo>
                        <a:lnTo>
                          <a:pt x="132" y="668"/>
                        </a:lnTo>
                        <a:lnTo>
                          <a:pt x="107" y="634"/>
                        </a:lnTo>
                        <a:lnTo>
                          <a:pt x="84" y="598"/>
                        </a:lnTo>
                        <a:lnTo>
                          <a:pt x="67" y="560"/>
                        </a:lnTo>
                        <a:lnTo>
                          <a:pt x="53" y="521"/>
                        </a:lnTo>
                        <a:lnTo>
                          <a:pt x="44" y="480"/>
                        </a:lnTo>
                        <a:lnTo>
                          <a:pt x="37" y="437"/>
                        </a:lnTo>
                        <a:lnTo>
                          <a:pt x="36" y="394"/>
                        </a:lnTo>
                        <a:lnTo>
                          <a:pt x="37" y="348"/>
                        </a:lnTo>
                        <a:lnTo>
                          <a:pt x="44" y="306"/>
                        </a:lnTo>
                        <a:lnTo>
                          <a:pt x="53" y="265"/>
                        </a:lnTo>
                        <a:lnTo>
                          <a:pt x="67" y="226"/>
                        </a:lnTo>
                        <a:lnTo>
                          <a:pt x="84" y="187"/>
                        </a:lnTo>
                        <a:lnTo>
                          <a:pt x="107" y="152"/>
                        </a:lnTo>
                        <a:lnTo>
                          <a:pt x="132" y="117"/>
                        </a:lnTo>
                        <a:lnTo>
                          <a:pt x="164" y="85"/>
                        </a:lnTo>
                        <a:lnTo>
                          <a:pt x="185" y="64"/>
                        </a:lnTo>
                        <a:lnTo>
                          <a:pt x="209" y="46"/>
                        </a:lnTo>
                        <a:lnTo>
                          <a:pt x="233" y="29"/>
                        </a:lnTo>
                        <a:lnTo>
                          <a:pt x="258" y="14"/>
                        </a:lnTo>
                        <a:lnTo>
                          <a:pt x="210" y="0"/>
                        </a:lnTo>
                        <a:close/>
                      </a:path>
                    </a:pathLst>
                  </a:custGeom>
                  <a:solidFill>
                    <a:srgbClr val="3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812200" y="5614200"/>
                    <a:ext cx="17064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71" h="816">
                        <a:moveTo>
                          <a:pt x="154" y="97"/>
                        </a:moveTo>
                        <a:lnTo>
                          <a:pt x="180" y="73"/>
                        </a:lnTo>
                        <a:lnTo>
                          <a:pt x="208" y="51"/>
                        </a:lnTo>
                        <a:lnTo>
                          <a:pt x="237" y="32"/>
                        </a:lnTo>
                        <a:lnTo>
                          <a:pt x="267" y="17"/>
                        </a:lnTo>
                        <a:lnTo>
                          <a:pt x="222" y="0"/>
                        </a:lnTo>
                        <a:lnTo>
                          <a:pt x="197" y="15"/>
                        </a:lnTo>
                        <a:lnTo>
                          <a:pt x="173" y="32"/>
                        </a:lnTo>
                        <a:lnTo>
                          <a:pt x="149" y="50"/>
                        </a:lnTo>
                        <a:lnTo>
                          <a:pt x="128" y="71"/>
                        </a:lnTo>
                        <a:lnTo>
                          <a:pt x="96" y="103"/>
                        </a:lnTo>
                        <a:lnTo>
                          <a:pt x="71" y="138"/>
                        </a:lnTo>
                        <a:lnTo>
                          <a:pt x="48" y="173"/>
                        </a:lnTo>
                        <a:lnTo>
                          <a:pt x="31" y="212"/>
                        </a:lnTo>
                        <a:lnTo>
                          <a:pt x="17" y="251"/>
                        </a:lnTo>
                        <a:lnTo>
                          <a:pt x="8" y="292"/>
                        </a:lnTo>
                        <a:lnTo>
                          <a:pt x="1" y="334"/>
                        </a:lnTo>
                        <a:lnTo>
                          <a:pt x="0" y="380"/>
                        </a:lnTo>
                        <a:lnTo>
                          <a:pt x="1" y="423"/>
                        </a:lnTo>
                        <a:lnTo>
                          <a:pt x="8" y="466"/>
                        </a:lnTo>
                        <a:lnTo>
                          <a:pt x="17" y="507"/>
                        </a:lnTo>
                        <a:lnTo>
                          <a:pt x="31" y="546"/>
                        </a:lnTo>
                        <a:lnTo>
                          <a:pt x="48" y="584"/>
                        </a:lnTo>
                        <a:lnTo>
                          <a:pt x="71" y="620"/>
                        </a:lnTo>
                        <a:lnTo>
                          <a:pt x="96" y="654"/>
                        </a:lnTo>
                        <a:lnTo>
                          <a:pt x="128" y="688"/>
                        </a:lnTo>
                        <a:lnTo>
                          <a:pt x="160" y="718"/>
                        </a:lnTo>
                        <a:lnTo>
                          <a:pt x="195" y="744"/>
                        </a:lnTo>
                        <a:lnTo>
                          <a:pt x="230" y="765"/>
                        </a:lnTo>
                        <a:lnTo>
                          <a:pt x="268" y="783"/>
                        </a:lnTo>
                        <a:lnTo>
                          <a:pt x="307" y="797"/>
                        </a:lnTo>
                        <a:lnTo>
                          <a:pt x="349" y="807"/>
                        </a:lnTo>
                        <a:lnTo>
                          <a:pt x="391" y="814"/>
                        </a:lnTo>
                        <a:lnTo>
                          <a:pt x="436" y="816"/>
                        </a:lnTo>
                        <a:lnTo>
                          <a:pt x="443" y="815"/>
                        </a:lnTo>
                        <a:lnTo>
                          <a:pt x="451" y="815"/>
                        </a:lnTo>
                        <a:lnTo>
                          <a:pt x="467" y="815"/>
                        </a:lnTo>
                        <a:lnTo>
                          <a:pt x="482" y="813"/>
                        </a:lnTo>
                        <a:lnTo>
                          <a:pt x="497" y="812"/>
                        </a:lnTo>
                        <a:lnTo>
                          <a:pt x="527" y="806"/>
                        </a:lnTo>
                        <a:lnTo>
                          <a:pt x="556" y="800"/>
                        </a:lnTo>
                        <a:lnTo>
                          <a:pt x="584" y="790"/>
                        </a:lnTo>
                        <a:lnTo>
                          <a:pt x="611" y="780"/>
                        </a:lnTo>
                        <a:lnTo>
                          <a:pt x="623" y="773"/>
                        </a:lnTo>
                        <a:lnTo>
                          <a:pt x="637" y="767"/>
                        </a:lnTo>
                        <a:lnTo>
                          <a:pt x="664" y="754"/>
                        </a:lnTo>
                        <a:lnTo>
                          <a:pt x="671" y="705"/>
                        </a:lnTo>
                        <a:lnTo>
                          <a:pt x="644" y="722"/>
                        </a:lnTo>
                        <a:lnTo>
                          <a:pt x="630" y="729"/>
                        </a:lnTo>
                        <a:lnTo>
                          <a:pt x="623" y="732"/>
                        </a:lnTo>
                        <a:lnTo>
                          <a:pt x="618" y="737"/>
                        </a:lnTo>
                        <a:lnTo>
                          <a:pt x="610" y="739"/>
                        </a:lnTo>
                        <a:lnTo>
                          <a:pt x="603" y="742"/>
                        </a:lnTo>
                        <a:lnTo>
                          <a:pt x="589" y="749"/>
                        </a:lnTo>
                        <a:lnTo>
                          <a:pt x="581" y="752"/>
                        </a:lnTo>
                        <a:lnTo>
                          <a:pt x="575" y="755"/>
                        </a:lnTo>
                        <a:lnTo>
                          <a:pt x="561" y="761"/>
                        </a:lnTo>
                        <a:lnTo>
                          <a:pt x="545" y="764"/>
                        </a:lnTo>
                        <a:lnTo>
                          <a:pt x="530" y="769"/>
                        </a:lnTo>
                        <a:lnTo>
                          <a:pt x="514" y="771"/>
                        </a:lnTo>
                        <a:lnTo>
                          <a:pt x="510" y="771"/>
                        </a:lnTo>
                        <a:lnTo>
                          <a:pt x="508" y="771"/>
                        </a:lnTo>
                        <a:lnTo>
                          <a:pt x="507" y="772"/>
                        </a:lnTo>
                        <a:lnTo>
                          <a:pt x="500" y="774"/>
                        </a:lnTo>
                        <a:lnTo>
                          <a:pt x="468" y="778"/>
                        </a:lnTo>
                        <a:lnTo>
                          <a:pt x="436" y="780"/>
                        </a:lnTo>
                        <a:lnTo>
                          <a:pt x="394" y="778"/>
                        </a:lnTo>
                        <a:lnTo>
                          <a:pt x="356" y="772"/>
                        </a:lnTo>
                        <a:lnTo>
                          <a:pt x="317" y="763"/>
                        </a:lnTo>
                        <a:lnTo>
                          <a:pt x="282" y="750"/>
                        </a:lnTo>
                        <a:lnTo>
                          <a:pt x="247" y="733"/>
                        </a:lnTo>
                        <a:lnTo>
                          <a:pt x="214" y="713"/>
                        </a:lnTo>
                        <a:lnTo>
                          <a:pt x="182" y="689"/>
                        </a:lnTo>
                        <a:lnTo>
                          <a:pt x="154" y="663"/>
                        </a:lnTo>
                        <a:lnTo>
                          <a:pt x="126" y="632"/>
                        </a:lnTo>
                        <a:lnTo>
                          <a:pt x="102" y="601"/>
                        </a:lnTo>
                        <a:lnTo>
                          <a:pt x="81" y="567"/>
                        </a:lnTo>
                        <a:lnTo>
                          <a:pt x="65" y="533"/>
                        </a:lnTo>
                        <a:lnTo>
                          <a:pt x="52" y="496"/>
                        </a:lnTo>
                        <a:lnTo>
                          <a:pt x="44" y="459"/>
                        </a:lnTo>
                        <a:lnTo>
                          <a:pt x="38" y="419"/>
                        </a:lnTo>
                        <a:lnTo>
                          <a:pt x="37" y="380"/>
                        </a:lnTo>
                        <a:lnTo>
                          <a:pt x="38" y="338"/>
                        </a:lnTo>
                        <a:lnTo>
                          <a:pt x="44" y="299"/>
                        </a:lnTo>
                        <a:lnTo>
                          <a:pt x="52" y="261"/>
                        </a:lnTo>
                        <a:lnTo>
                          <a:pt x="65" y="226"/>
                        </a:lnTo>
                        <a:lnTo>
                          <a:pt x="81" y="190"/>
                        </a:lnTo>
                        <a:lnTo>
                          <a:pt x="102" y="158"/>
                        </a:lnTo>
                        <a:lnTo>
                          <a:pt x="126" y="126"/>
                        </a:lnTo>
                        <a:lnTo>
                          <a:pt x="154" y="97"/>
                        </a:lnTo>
                        <a:close/>
                      </a:path>
                    </a:pathLst>
                  </a:custGeom>
                  <a:solidFill>
                    <a:srgbClr val="426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5821920" y="5618880"/>
                    <a:ext cx="162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763">
                        <a:moveTo>
                          <a:pt x="230" y="0"/>
                        </a:moveTo>
                        <a:lnTo>
                          <a:pt x="200" y="15"/>
                        </a:lnTo>
                        <a:lnTo>
                          <a:pt x="171" y="34"/>
                        </a:lnTo>
                        <a:lnTo>
                          <a:pt x="143" y="56"/>
                        </a:lnTo>
                        <a:lnTo>
                          <a:pt x="117" y="80"/>
                        </a:lnTo>
                        <a:lnTo>
                          <a:pt x="89" y="109"/>
                        </a:lnTo>
                        <a:lnTo>
                          <a:pt x="65" y="141"/>
                        </a:lnTo>
                        <a:lnTo>
                          <a:pt x="44" y="173"/>
                        </a:lnTo>
                        <a:lnTo>
                          <a:pt x="28" y="209"/>
                        </a:lnTo>
                        <a:lnTo>
                          <a:pt x="15" y="244"/>
                        </a:lnTo>
                        <a:lnTo>
                          <a:pt x="7" y="282"/>
                        </a:lnTo>
                        <a:lnTo>
                          <a:pt x="1" y="321"/>
                        </a:lnTo>
                        <a:lnTo>
                          <a:pt x="0" y="363"/>
                        </a:lnTo>
                        <a:lnTo>
                          <a:pt x="1" y="402"/>
                        </a:lnTo>
                        <a:lnTo>
                          <a:pt x="7" y="442"/>
                        </a:lnTo>
                        <a:lnTo>
                          <a:pt x="15" y="479"/>
                        </a:lnTo>
                        <a:lnTo>
                          <a:pt x="28" y="516"/>
                        </a:lnTo>
                        <a:lnTo>
                          <a:pt x="44" y="550"/>
                        </a:lnTo>
                        <a:lnTo>
                          <a:pt x="65" y="584"/>
                        </a:lnTo>
                        <a:lnTo>
                          <a:pt x="89" y="615"/>
                        </a:lnTo>
                        <a:lnTo>
                          <a:pt x="117" y="646"/>
                        </a:lnTo>
                        <a:lnTo>
                          <a:pt x="145" y="672"/>
                        </a:lnTo>
                        <a:lnTo>
                          <a:pt x="177" y="696"/>
                        </a:lnTo>
                        <a:lnTo>
                          <a:pt x="210" y="716"/>
                        </a:lnTo>
                        <a:lnTo>
                          <a:pt x="245" y="733"/>
                        </a:lnTo>
                        <a:lnTo>
                          <a:pt x="280" y="746"/>
                        </a:lnTo>
                        <a:lnTo>
                          <a:pt x="319" y="755"/>
                        </a:lnTo>
                        <a:lnTo>
                          <a:pt x="357" y="761"/>
                        </a:lnTo>
                        <a:lnTo>
                          <a:pt x="399" y="763"/>
                        </a:lnTo>
                        <a:lnTo>
                          <a:pt x="431" y="761"/>
                        </a:lnTo>
                        <a:lnTo>
                          <a:pt x="463" y="757"/>
                        </a:lnTo>
                        <a:lnTo>
                          <a:pt x="470" y="755"/>
                        </a:lnTo>
                        <a:lnTo>
                          <a:pt x="471" y="754"/>
                        </a:lnTo>
                        <a:lnTo>
                          <a:pt x="473" y="754"/>
                        </a:lnTo>
                        <a:lnTo>
                          <a:pt x="477" y="754"/>
                        </a:lnTo>
                        <a:lnTo>
                          <a:pt x="493" y="752"/>
                        </a:lnTo>
                        <a:lnTo>
                          <a:pt x="508" y="747"/>
                        </a:lnTo>
                        <a:lnTo>
                          <a:pt x="524" y="744"/>
                        </a:lnTo>
                        <a:lnTo>
                          <a:pt x="538" y="738"/>
                        </a:lnTo>
                        <a:lnTo>
                          <a:pt x="544" y="735"/>
                        </a:lnTo>
                        <a:lnTo>
                          <a:pt x="552" y="732"/>
                        </a:lnTo>
                        <a:lnTo>
                          <a:pt x="566" y="725"/>
                        </a:lnTo>
                        <a:lnTo>
                          <a:pt x="573" y="722"/>
                        </a:lnTo>
                        <a:lnTo>
                          <a:pt x="581" y="720"/>
                        </a:lnTo>
                        <a:lnTo>
                          <a:pt x="586" y="715"/>
                        </a:lnTo>
                        <a:lnTo>
                          <a:pt x="593" y="712"/>
                        </a:lnTo>
                        <a:lnTo>
                          <a:pt x="607" y="705"/>
                        </a:lnTo>
                        <a:lnTo>
                          <a:pt x="634" y="688"/>
                        </a:lnTo>
                        <a:lnTo>
                          <a:pt x="637" y="638"/>
                        </a:lnTo>
                        <a:lnTo>
                          <a:pt x="610" y="657"/>
                        </a:lnTo>
                        <a:lnTo>
                          <a:pt x="583" y="676"/>
                        </a:lnTo>
                        <a:lnTo>
                          <a:pt x="568" y="682"/>
                        </a:lnTo>
                        <a:lnTo>
                          <a:pt x="555" y="690"/>
                        </a:lnTo>
                        <a:lnTo>
                          <a:pt x="540" y="697"/>
                        </a:lnTo>
                        <a:lnTo>
                          <a:pt x="526" y="704"/>
                        </a:lnTo>
                        <a:lnTo>
                          <a:pt x="510" y="708"/>
                        </a:lnTo>
                        <a:lnTo>
                          <a:pt x="496" y="713"/>
                        </a:lnTo>
                        <a:lnTo>
                          <a:pt x="480" y="716"/>
                        </a:lnTo>
                        <a:lnTo>
                          <a:pt x="465" y="721"/>
                        </a:lnTo>
                        <a:lnTo>
                          <a:pt x="456" y="721"/>
                        </a:lnTo>
                        <a:lnTo>
                          <a:pt x="451" y="721"/>
                        </a:lnTo>
                        <a:lnTo>
                          <a:pt x="449" y="721"/>
                        </a:lnTo>
                        <a:lnTo>
                          <a:pt x="448" y="722"/>
                        </a:lnTo>
                        <a:lnTo>
                          <a:pt x="432" y="724"/>
                        </a:lnTo>
                        <a:lnTo>
                          <a:pt x="423" y="724"/>
                        </a:lnTo>
                        <a:lnTo>
                          <a:pt x="419" y="724"/>
                        </a:lnTo>
                        <a:lnTo>
                          <a:pt x="416" y="724"/>
                        </a:lnTo>
                        <a:lnTo>
                          <a:pt x="415" y="725"/>
                        </a:lnTo>
                        <a:lnTo>
                          <a:pt x="399" y="727"/>
                        </a:lnTo>
                        <a:lnTo>
                          <a:pt x="361" y="724"/>
                        </a:lnTo>
                        <a:lnTo>
                          <a:pt x="326" y="720"/>
                        </a:lnTo>
                        <a:lnTo>
                          <a:pt x="290" y="711"/>
                        </a:lnTo>
                        <a:lnTo>
                          <a:pt x="259" y="699"/>
                        </a:lnTo>
                        <a:lnTo>
                          <a:pt x="227" y="684"/>
                        </a:lnTo>
                        <a:lnTo>
                          <a:pt x="197" y="665"/>
                        </a:lnTo>
                        <a:lnTo>
                          <a:pt x="168" y="644"/>
                        </a:lnTo>
                        <a:lnTo>
                          <a:pt x="142" y="620"/>
                        </a:lnTo>
                        <a:lnTo>
                          <a:pt x="116" y="592"/>
                        </a:lnTo>
                        <a:lnTo>
                          <a:pt x="94" y="563"/>
                        </a:lnTo>
                        <a:lnTo>
                          <a:pt x="84" y="547"/>
                        </a:lnTo>
                        <a:lnTo>
                          <a:pt x="76" y="533"/>
                        </a:lnTo>
                        <a:lnTo>
                          <a:pt x="61" y="502"/>
                        </a:lnTo>
                        <a:lnTo>
                          <a:pt x="49" y="468"/>
                        </a:lnTo>
                        <a:lnTo>
                          <a:pt x="41" y="434"/>
                        </a:lnTo>
                        <a:lnTo>
                          <a:pt x="37" y="416"/>
                        </a:lnTo>
                        <a:lnTo>
                          <a:pt x="36" y="399"/>
                        </a:lnTo>
                        <a:lnTo>
                          <a:pt x="35" y="363"/>
                        </a:lnTo>
                        <a:lnTo>
                          <a:pt x="36" y="325"/>
                        </a:lnTo>
                        <a:lnTo>
                          <a:pt x="41" y="290"/>
                        </a:lnTo>
                        <a:lnTo>
                          <a:pt x="49" y="255"/>
                        </a:lnTo>
                        <a:lnTo>
                          <a:pt x="61" y="223"/>
                        </a:lnTo>
                        <a:lnTo>
                          <a:pt x="76" y="192"/>
                        </a:lnTo>
                        <a:lnTo>
                          <a:pt x="94" y="162"/>
                        </a:lnTo>
                        <a:lnTo>
                          <a:pt x="116" y="133"/>
                        </a:lnTo>
                        <a:lnTo>
                          <a:pt x="142" y="107"/>
                        </a:lnTo>
                        <a:lnTo>
                          <a:pt x="171" y="77"/>
                        </a:lnTo>
                        <a:lnTo>
                          <a:pt x="204" y="54"/>
                        </a:lnTo>
                        <a:lnTo>
                          <a:pt x="238" y="34"/>
                        </a:lnTo>
                        <a:lnTo>
                          <a:pt x="276" y="20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466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5747760" y="5607000"/>
                    <a:ext cx="203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799" h="1098">
                        <a:moveTo>
                          <a:pt x="179" y="0"/>
                        </a:moveTo>
                        <a:lnTo>
                          <a:pt x="127" y="8"/>
                        </a:lnTo>
                        <a:lnTo>
                          <a:pt x="96" y="51"/>
                        </a:lnTo>
                        <a:lnTo>
                          <a:pt x="71" y="97"/>
                        </a:lnTo>
                        <a:lnTo>
                          <a:pt x="48" y="145"/>
                        </a:lnTo>
                        <a:lnTo>
                          <a:pt x="31" y="195"/>
                        </a:lnTo>
                        <a:lnTo>
                          <a:pt x="17" y="245"/>
                        </a:lnTo>
                        <a:lnTo>
                          <a:pt x="8" y="298"/>
                        </a:lnTo>
                        <a:lnTo>
                          <a:pt x="1" y="351"/>
                        </a:lnTo>
                        <a:lnTo>
                          <a:pt x="0" y="408"/>
                        </a:lnTo>
                        <a:lnTo>
                          <a:pt x="0" y="442"/>
                        </a:lnTo>
                        <a:lnTo>
                          <a:pt x="2" y="477"/>
                        </a:lnTo>
                        <a:lnTo>
                          <a:pt x="5" y="511"/>
                        </a:lnTo>
                        <a:lnTo>
                          <a:pt x="12" y="545"/>
                        </a:lnTo>
                        <a:lnTo>
                          <a:pt x="18" y="577"/>
                        </a:lnTo>
                        <a:lnTo>
                          <a:pt x="27" y="609"/>
                        </a:lnTo>
                        <a:lnTo>
                          <a:pt x="37" y="640"/>
                        </a:lnTo>
                        <a:lnTo>
                          <a:pt x="50" y="672"/>
                        </a:lnTo>
                        <a:lnTo>
                          <a:pt x="62" y="701"/>
                        </a:lnTo>
                        <a:lnTo>
                          <a:pt x="78" y="731"/>
                        </a:lnTo>
                        <a:lnTo>
                          <a:pt x="94" y="759"/>
                        </a:lnTo>
                        <a:lnTo>
                          <a:pt x="113" y="789"/>
                        </a:lnTo>
                        <a:lnTo>
                          <a:pt x="132" y="816"/>
                        </a:lnTo>
                        <a:lnTo>
                          <a:pt x="154" y="843"/>
                        </a:lnTo>
                        <a:lnTo>
                          <a:pt x="177" y="869"/>
                        </a:lnTo>
                        <a:lnTo>
                          <a:pt x="203" y="896"/>
                        </a:lnTo>
                        <a:lnTo>
                          <a:pt x="228" y="920"/>
                        </a:lnTo>
                        <a:lnTo>
                          <a:pt x="254" y="943"/>
                        </a:lnTo>
                        <a:lnTo>
                          <a:pt x="280" y="963"/>
                        </a:lnTo>
                        <a:lnTo>
                          <a:pt x="308" y="984"/>
                        </a:lnTo>
                        <a:lnTo>
                          <a:pt x="335" y="1002"/>
                        </a:lnTo>
                        <a:lnTo>
                          <a:pt x="365" y="1019"/>
                        </a:lnTo>
                        <a:lnTo>
                          <a:pt x="394" y="1033"/>
                        </a:lnTo>
                        <a:lnTo>
                          <a:pt x="425" y="1047"/>
                        </a:lnTo>
                        <a:lnTo>
                          <a:pt x="455" y="1058"/>
                        </a:lnTo>
                        <a:lnTo>
                          <a:pt x="487" y="1069"/>
                        </a:lnTo>
                        <a:lnTo>
                          <a:pt x="552" y="1084"/>
                        </a:lnTo>
                        <a:lnTo>
                          <a:pt x="585" y="1090"/>
                        </a:lnTo>
                        <a:lnTo>
                          <a:pt x="619" y="1095"/>
                        </a:lnTo>
                        <a:lnTo>
                          <a:pt x="654" y="1097"/>
                        </a:lnTo>
                        <a:lnTo>
                          <a:pt x="690" y="1098"/>
                        </a:lnTo>
                        <a:lnTo>
                          <a:pt x="708" y="1097"/>
                        </a:lnTo>
                        <a:lnTo>
                          <a:pt x="728" y="1097"/>
                        </a:lnTo>
                        <a:lnTo>
                          <a:pt x="765" y="1095"/>
                        </a:lnTo>
                        <a:lnTo>
                          <a:pt x="799" y="1054"/>
                        </a:lnTo>
                        <a:lnTo>
                          <a:pt x="745" y="1059"/>
                        </a:lnTo>
                        <a:lnTo>
                          <a:pt x="690" y="1062"/>
                        </a:lnTo>
                        <a:lnTo>
                          <a:pt x="656" y="1061"/>
                        </a:lnTo>
                        <a:lnTo>
                          <a:pt x="623" y="1058"/>
                        </a:lnTo>
                        <a:lnTo>
                          <a:pt x="559" y="1049"/>
                        </a:lnTo>
                        <a:lnTo>
                          <a:pt x="496" y="1033"/>
                        </a:lnTo>
                        <a:lnTo>
                          <a:pt x="438" y="1013"/>
                        </a:lnTo>
                        <a:lnTo>
                          <a:pt x="381" y="986"/>
                        </a:lnTo>
                        <a:lnTo>
                          <a:pt x="353" y="970"/>
                        </a:lnTo>
                        <a:lnTo>
                          <a:pt x="327" y="953"/>
                        </a:lnTo>
                        <a:lnTo>
                          <a:pt x="276" y="914"/>
                        </a:lnTo>
                        <a:lnTo>
                          <a:pt x="251" y="893"/>
                        </a:lnTo>
                        <a:lnTo>
                          <a:pt x="228" y="870"/>
                        </a:lnTo>
                        <a:lnTo>
                          <a:pt x="203" y="844"/>
                        </a:lnTo>
                        <a:lnTo>
                          <a:pt x="181" y="819"/>
                        </a:lnTo>
                        <a:lnTo>
                          <a:pt x="161" y="793"/>
                        </a:lnTo>
                        <a:lnTo>
                          <a:pt x="143" y="768"/>
                        </a:lnTo>
                        <a:lnTo>
                          <a:pt x="124" y="741"/>
                        </a:lnTo>
                        <a:lnTo>
                          <a:pt x="110" y="714"/>
                        </a:lnTo>
                        <a:lnTo>
                          <a:pt x="95" y="685"/>
                        </a:lnTo>
                        <a:lnTo>
                          <a:pt x="84" y="658"/>
                        </a:lnTo>
                        <a:lnTo>
                          <a:pt x="71" y="628"/>
                        </a:lnTo>
                        <a:lnTo>
                          <a:pt x="62" y="598"/>
                        </a:lnTo>
                        <a:lnTo>
                          <a:pt x="53" y="568"/>
                        </a:lnTo>
                        <a:lnTo>
                          <a:pt x="47" y="537"/>
                        </a:lnTo>
                        <a:lnTo>
                          <a:pt x="42" y="504"/>
                        </a:lnTo>
                        <a:lnTo>
                          <a:pt x="38" y="472"/>
                        </a:lnTo>
                        <a:lnTo>
                          <a:pt x="36" y="439"/>
                        </a:lnTo>
                        <a:lnTo>
                          <a:pt x="36" y="408"/>
                        </a:lnTo>
                        <a:lnTo>
                          <a:pt x="37" y="350"/>
                        </a:lnTo>
                        <a:lnTo>
                          <a:pt x="44" y="294"/>
                        </a:lnTo>
                        <a:lnTo>
                          <a:pt x="55" y="240"/>
                        </a:lnTo>
                        <a:lnTo>
                          <a:pt x="71" y="189"/>
                        </a:lnTo>
                        <a:lnTo>
                          <a:pt x="90" y="138"/>
                        </a:lnTo>
                        <a:lnTo>
                          <a:pt x="115" y="90"/>
                        </a:lnTo>
                        <a:lnTo>
                          <a:pt x="145" y="44"/>
                        </a:lnTo>
                        <a:lnTo>
                          <a:pt x="179" y="0"/>
                        </a:lnTo>
                        <a:close/>
                      </a:path>
                    </a:pathLst>
                  </a:custGeom>
                  <a:solidFill>
                    <a:srgbClr val="2c4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849640" y="5637600"/>
                    <a:ext cx="1332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24" h="579">
                        <a:moveTo>
                          <a:pt x="36" y="288"/>
                        </a:moveTo>
                        <a:lnTo>
                          <a:pt x="37" y="261"/>
                        </a:lnTo>
                        <a:lnTo>
                          <a:pt x="41" y="236"/>
                        </a:lnTo>
                        <a:lnTo>
                          <a:pt x="46" y="212"/>
                        </a:lnTo>
                        <a:lnTo>
                          <a:pt x="54" y="189"/>
                        </a:lnTo>
                        <a:lnTo>
                          <a:pt x="65" y="166"/>
                        </a:lnTo>
                        <a:lnTo>
                          <a:pt x="77" y="146"/>
                        </a:lnTo>
                        <a:lnTo>
                          <a:pt x="92" y="127"/>
                        </a:lnTo>
                        <a:lnTo>
                          <a:pt x="110" y="109"/>
                        </a:lnTo>
                        <a:lnTo>
                          <a:pt x="128" y="89"/>
                        </a:lnTo>
                        <a:lnTo>
                          <a:pt x="148" y="75"/>
                        </a:lnTo>
                        <a:lnTo>
                          <a:pt x="169" y="62"/>
                        </a:lnTo>
                        <a:lnTo>
                          <a:pt x="192" y="52"/>
                        </a:lnTo>
                        <a:lnTo>
                          <a:pt x="214" y="44"/>
                        </a:lnTo>
                        <a:lnTo>
                          <a:pt x="238" y="38"/>
                        </a:lnTo>
                        <a:lnTo>
                          <a:pt x="263" y="35"/>
                        </a:lnTo>
                        <a:lnTo>
                          <a:pt x="290" y="34"/>
                        </a:lnTo>
                        <a:lnTo>
                          <a:pt x="296" y="34"/>
                        </a:lnTo>
                        <a:lnTo>
                          <a:pt x="253" y="0"/>
                        </a:lnTo>
                        <a:lnTo>
                          <a:pt x="228" y="3"/>
                        </a:lnTo>
                        <a:lnTo>
                          <a:pt x="205" y="9"/>
                        </a:lnTo>
                        <a:lnTo>
                          <a:pt x="182" y="16"/>
                        </a:lnTo>
                        <a:lnTo>
                          <a:pt x="162" y="26"/>
                        </a:lnTo>
                        <a:lnTo>
                          <a:pt x="141" y="36"/>
                        </a:lnTo>
                        <a:lnTo>
                          <a:pt x="121" y="50"/>
                        </a:lnTo>
                        <a:lnTo>
                          <a:pt x="102" y="64"/>
                        </a:lnTo>
                        <a:lnTo>
                          <a:pt x="85" y="83"/>
                        </a:lnTo>
                        <a:lnTo>
                          <a:pt x="63" y="103"/>
                        </a:lnTo>
                        <a:lnTo>
                          <a:pt x="46" y="126"/>
                        </a:lnTo>
                        <a:lnTo>
                          <a:pt x="32" y="149"/>
                        </a:lnTo>
                        <a:lnTo>
                          <a:pt x="20" y="176"/>
                        </a:lnTo>
                        <a:lnTo>
                          <a:pt x="10" y="202"/>
                        </a:lnTo>
                        <a:lnTo>
                          <a:pt x="4" y="229"/>
                        </a:lnTo>
                        <a:lnTo>
                          <a:pt x="1" y="257"/>
                        </a:lnTo>
                        <a:lnTo>
                          <a:pt x="0" y="288"/>
                        </a:lnTo>
                        <a:lnTo>
                          <a:pt x="1" y="316"/>
                        </a:lnTo>
                        <a:lnTo>
                          <a:pt x="4" y="344"/>
                        </a:lnTo>
                        <a:lnTo>
                          <a:pt x="10" y="372"/>
                        </a:lnTo>
                        <a:lnTo>
                          <a:pt x="20" y="399"/>
                        </a:lnTo>
                        <a:lnTo>
                          <a:pt x="32" y="424"/>
                        </a:lnTo>
                        <a:lnTo>
                          <a:pt x="46" y="449"/>
                        </a:lnTo>
                        <a:lnTo>
                          <a:pt x="63" y="471"/>
                        </a:lnTo>
                        <a:lnTo>
                          <a:pt x="85" y="494"/>
                        </a:lnTo>
                        <a:lnTo>
                          <a:pt x="105" y="513"/>
                        </a:lnTo>
                        <a:lnTo>
                          <a:pt x="128" y="530"/>
                        </a:lnTo>
                        <a:lnTo>
                          <a:pt x="152" y="545"/>
                        </a:lnTo>
                        <a:lnTo>
                          <a:pt x="178" y="557"/>
                        </a:lnTo>
                        <a:lnTo>
                          <a:pt x="204" y="565"/>
                        </a:lnTo>
                        <a:lnTo>
                          <a:pt x="231" y="573"/>
                        </a:lnTo>
                        <a:lnTo>
                          <a:pt x="260" y="577"/>
                        </a:lnTo>
                        <a:lnTo>
                          <a:pt x="290" y="579"/>
                        </a:lnTo>
                        <a:lnTo>
                          <a:pt x="304" y="578"/>
                        </a:lnTo>
                        <a:lnTo>
                          <a:pt x="311" y="577"/>
                        </a:lnTo>
                        <a:lnTo>
                          <a:pt x="319" y="577"/>
                        </a:lnTo>
                        <a:lnTo>
                          <a:pt x="332" y="574"/>
                        </a:lnTo>
                        <a:lnTo>
                          <a:pt x="339" y="573"/>
                        </a:lnTo>
                        <a:lnTo>
                          <a:pt x="347" y="573"/>
                        </a:lnTo>
                        <a:lnTo>
                          <a:pt x="374" y="565"/>
                        </a:lnTo>
                        <a:lnTo>
                          <a:pt x="401" y="557"/>
                        </a:lnTo>
                        <a:lnTo>
                          <a:pt x="413" y="551"/>
                        </a:lnTo>
                        <a:lnTo>
                          <a:pt x="415" y="548"/>
                        </a:lnTo>
                        <a:lnTo>
                          <a:pt x="416" y="547"/>
                        </a:lnTo>
                        <a:lnTo>
                          <a:pt x="418" y="547"/>
                        </a:lnTo>
                        <a:lnTo>
                          <a:pt x="425" y="545"/>
                        </a:lnTo>
                        <a:lnTo>
                          <a:pt x="450" y="530"/>
                        </a:lnTo>
                        <a:lnTo>
                          <a:pt x="473" y="513"/>
                        </a:lnTo>
                        <a:lnTo>
                          <a:pt x="495" y="494"/>
                        </a:lnTo>
                        <a:lnTo>
                          <a:pt x="502" y="485"/>
                        </a:lnTo>
                        <a:lnTo>
                          <a:pt x="506" y="480"/>
                        </a:lnTo>
                        <a:lnTo>
                          <a:pt x="510" y="477"/>
                        </a:lnTo>
                        <a:lnTo>
                          <a:pt x="524" y="461"/>
                        </a:lnTo>
                        <a:lnTo>
                          <a:pt x="516" y="407"/>
                        </a:lnTo>
                        <a:lnTo>
                          <a:pt x="510" y="414"/>
                        </a:lnTo>
                        <a:lnTo>
                          <a:pt x="506" y="421"/>
                        </a:lnTo>
                        <a:lnTo>
                          <a:pt x="495" y="437"/>
                        </a:lnTo>
                        <a:lnTo>
                          <a:pt x="489" y="444"/>
                        </a:lnTo>
                        <a:lnTo>
                          <a:pt x="486" y="445"/>
                        </a:lnTo>
                        <a:lnTo>
                          <a:pt x="485" y="448"/>
                        </a:lnTo>
                        <a:lnTo>
                          <a:pt x="483" y="452"/>
                        </a:lnTo>
                        <a:lnTo>
                          <a:pt x="471" y="468"/>
                        </a:lnTo>
                        <a:lnTo>
                          <a:pt x="450" y="485"/>
                        </a:lnTo>
                        <a:lnTo>
                          <a:pt x="440" y="492"/>
                        </a:lnTo>
                        <a:lnTo>
                          <a:pt x="431" y="500"/>
                        </a:lnTo>
                        <a:lnTo>
                          <a:pt x="420" y="505"/>
                        </a:lnTo>
                        <a:lnTo>
                          <a:pt x="409" y="512"/>
                        </a:lnTo>
                        <a:lnTo>
                          <a:pt x="398" y="517"/>
                        </a:lnTo>
                        <a:lnTo>
                          <a:pt x="392" y="519"/>
                        </a:lnTo>
                        <a:lnTo>
                          <a:pt x="388" y="522"/>
                        </a:lnTo>
                        <a:lnTo>
                          <a:pt x="381" y="523"/>
                        </a:lnTo>
                        <a:lnTo>
                          <a:pt x="375" y="526"/>
                        </a:lnTo>
                        <a:lnTo>
                          <a:pt x="364" y="530"/>
                        </a:lnTo>
                        <a:lnTo>
                          <a:pt x="351" y="533"/>
                        </a:lnTo>
                        <a:lnTo>
                          <a:pt x="340" y="536"/>
                        </a:lnTo>
                        <a:lnTo>
                          <a:pt x="315" y="539"/>
                        </a:lnTo>
                        <a:lnTo>
                          <a:pt x="290" y="542"/>
                        </a:lnTo>
                        <a:lnTo>
                          <a:pt x="263" y="539"/>
                        </a:lnTo>
                        <a:lnTo>
                          <a:pt x="238" y="536"/>
                        </a:lnTo>
                        <a:lnTo>
                          <a:pt x="214" y="530"/>
                        </a:lnTo>
                        <a:lnTo>
                          <a:pt x="192" y="522"/>
                        </a:lnTo>
                        <a:lnTo>
                          <a:pt x="169" y="512"/>
                        </a:lnTo>
                        <a:lnTo>
                          <a:pt x="148" y="500"/>
                        </a:lnTo>
                        <a:lnTo>
                          <a:pt x="128" y="485"/>
                        </a:lnTo>
                        <a:lnTo>
                          <a:pt x="110" y="468"/>
                        </a:lnTo>
                        <a:lnTo>
                          <a:pt x="92" y="448"/>
                        </a:lnTo>
                        <a:lnTo>
                          <a:pt x="77" y="428"/>
                        </a:lnTo>
                        <a:lnTo>
                          <a:pt x="65" y="407"/>
                        </a:lnTo>
                        <a:lnTo>
                          <a:pt x="54" y="385"/>
                        </a:lnTo>
                        <a:lnTo>
                          <a:pt x="46" y="361"/>
                        </a:lnTo>
                        <a:lnTo>
                          <a:pt x="41" y="338"/>
                        </a:lnTo>
                        <a:lnTo>
                          <a:pt x="37" y="313"/>
                        </a:lnTo>
                        <a:lnTo>
                          <a:pt x="36" y="288"/>
                        </a:lnTo>
                        <a:close/>
                      </a:path>
                    </a:pathLst>
                  </a:custGeom>
                  <a:solidFill>
                    <a:srgbClr val="4f7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5859000" y="5646240"/>
                    <a:ext cx="12132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508">
                        <a:moveTo>
                          <a:pt x="74" y="75"/>
                        </a:moveTo>
                        <a:lnTo>
                          <a:pt x="56" y="93"/>
                        </a:lnTo>
                        <a:lnTo>
                          <a:pt x="41" y="112"/>
                        </a:lnTo>
                        <a:lnTo>
                          <a:pt x="29" y="132"/>
                        </a:lnTo>
                        <a:lnTo>
                          <a:pt x="18" y="155"/>
                        </a:lnTo>
                        <a:lnTo>
                          <a:pt x="10" y="178"/>
                        </a:lnTo>
                        <a:lnTo>
                          <a:pt x="5" y="202"/>
                        </a:lnTo>
                        <a:lnTo>
                          <a:pt x="1" y="227"/>
                        </a:lnTo>
                        <a:lnTo>
                          <a:pt x="0" y="254"/>
                        </a:lnTo>
                        <a:lnTo>
                          <a:pt x="1" y="279"/>
                        </a:lnTo>
                        <a:lnTo>
                          <a:pt x="5" y="304"/>
                        </a:lnTo>
                        <a:lnTo>
                          <a:pt x="10" y="327"/>
                        </a:lnTo>
                        <a:lnTo>
                          <a:pt x="18" y="351"/>
                        </a:lnTo>
                        <a:lnTo>
                          <a:pt x="29" y="373"/>
                        </a:lnTo>
                        <a:lnTo>
                          <a:pt x="41" y="394"/>
                        </a:lnTo>
                        <a:lnTo>
                          <a:pt x="56" y="414"/>
                        </a:lnTo>
                        <a:lnTo>
                          <a:pt x="74" y="434"/>
                        </a:lnTo>
                        <a:lnTo>
                          <a:pt x="92" y="451"/>
                        </a:lnTo>
                        <a:lnTo>
                          <a:pt x="112" y="466"/>
                        </a:lnTo>
                        <a:lnTo>
                          <a:pt x="133" y="478"/>
                        </a:lnTo>
                        <a:lnTo>
                          <a:pt x="156" y="488"/>
                        </a:lnTo>
                        <a:lnTo>
                          <a:pt x="178" y="496"/>
                        </a:lnTo>
                        <a:lnTo>
                          <a:pt x="202" y="502"/>
                        </a:lnTo>
                        <a:lnTo>
                          <a:pt x="227" y="505"/>
                        </a:lnTo>
                        <a:lnTo>
                          <a:pt x="254" y="508"/>
                        </a:lnTo>
                        <a:lnTo>
                          <a:pt x="279" y="505"/>
                        </a:lnTo>
                        <a:lnTo>
                          <a:pt x="304" y="502"/>
                        </a:lnTo>
                        <a:lnTo>
                          <a:pt x="315" y="499"/>
                        </a:lnTo>
                        <a:lnTo>
                          <a:pt x="328" y="496"/>
                        </a:lnTo>
                        <a:lnTo>
                          <a:pt x="339" y="492"/>
                        </a:lnTo>
                        <a:lnTo>
                          <a:pt x="345" y="489"/>
                        </a:lnTo>
                        <a:lnTo>
                          <a:pt x="352" y="488"/>
                        </a:lnTo>
                        <a:lnTo>
                          <a:pt x="356" y="485"/>
                        </a:lnTo>
                        <a:lnTo>
                          <a:pt x="362" y="483"/>
                        </a:lnTo>
                        <a:lnTo>
                          <a:pt x="373" y="478"/>
                        </a:lnTo>
                        <a:lnTo>
                          <a:pt x="384" y="471"/>
                        </a:lnTo>
                        <a:lnTo>
                          <a:pt x="395" y="466"/>
                        </a:lnTo>
                        <a:lnTo>
                          <a:pt x="404" y="458"/>
                        </a:lnTo>
                        <a:lnTo>
                          <a:pt x="414" y="451"/>
                        </a:lnTo>
                        <a:lnTo>
                          <a:pt x="435" y="434"/>
                        </a:lnTo>
                        <a:lnTo>
                          <a:pt x="447" y="418"/>
                        </a:lnTo>
                        <a:lnTo>
                          <a:pt x="449" y="414"/>
                        </a:lnTo>
                        <a:lnTo>
                          <a:pt x="450" y="411"/>
                        </a:lnTo>
                        <a:lnTo>
                          <a:pt x="453" y="410"/>
                        </a:lnTo>
                        <a:lnTo>
                          <a:pt x="459" y="403"/>
                        </a:lnTo>
                        <a:lnTo>
                          <a:pt x="470" y="387"/>
                        </a:lnTo>
                        <a:lnTo>
                          <a:pt x="474" y="380"/>
                        </a:lnTo>
                        <a:lnTo>
                          <a:pt x="480" y="373"/>
                        </a:lnTo>
                        <a:lnTo>
                          <a:pt x="473" y="341"/>
                        </a:lnTo>
                        <a:lnTo>
                          <a:pt x="465" y="312"/>
                        </a:lnTo>
                        <a:lnTo>
                          <a:pt x="461" y="324"/>
                        </a:lnTo>
                        <a:lnTo>
                          <a:pt x="456" y="338"/>
                        </a:lnTo>
                        <a:lnTo>
                          <a:pt x="444" y="363"/>
                        </a:lnTo>
                        <a:lnTo>
                          <a:pt x="428" y="385"/>
                        </a:lnTo>
                        <a:lnTo>
                          <a:pt x="408" y="408"/>
                        </a:lnTo>
                        <a:lnTo>
                          <a:pt x="399" y="415"/>
                        </a:lnTo>
                        <a:lnTo>
                          <a:pt x="395" y="418"/>
                        </a:lnTo>
                        <a:lnTo>
                          <a:pt x="391" y="423"/>
                        </a:lnTo>
                        <a:lnTo>
                          <a:pt x="382" y="428"/>
                        </a:lnTo>
                        <a:lnTo>
                          <a:pt x="374" y="435"/>
                        </a:lnTo>
                        <a:lnTo>
                          <a:pt x="356" y="445"/>
                        </a:lnTo>
                        <a:lnTo>
                          <a:pt x="338" y="455"/>
                        </a:lnTo>
                        <a:lnTo>
                          <a:pt x="318" y="462"/>
                        </a:lnTo>
                        <a:lnTo>
                          <a:pt x="297" y="468"/>
                        </a:lnTo>
                        <a:lnTo>
                          <a:pt x="286" y="469"/>
                        </a:lnTo>
                        <a:lnTo>
                          <a:pt x="276" y="471"/>
                        </a:lnTo>
                        <a:lnTo>
                          <a:pt x="264" y="471"/>
                        </a:lnTo>
                        <a:lnTo>
                          <a:pt x="259" y="471"/>
                        </a:lnTo>
                        <a:lnTo>
                          <a:pt x="254" y="472"/>
                        </a:lnTo>
                        <a:lnTo>
                          <a:pt x="232" y="471"/>
                        </a:lnTo>
                        <a:lnTo>
                          <a:pt x="210" y="468"/>
                        </a:lnTo>
                        <a:lnTo>
                          <a:pt x="190" y="462"/>
                        </a:lnTo>
                        <a:lnTo>
                          <a:pt x="170" y="455"/>
                        </a:lnTo>
                        <a:lnTo>
                          <a:pt x="151" y="445"/>
                        </a:lnTo>
                        <a:lnTo>
                          <a:pt x="133" y="435"/>
                        </a:lnTo>
                        <a:lnTo>
                          <a:pt x="116" y="423"/>
                        </a:lnTo>
                        <a:lnTo>
                          <a:pt x="100" y="408"/>
                        </a:lnTo>
                        <a:lnTo>
                          <a:pt x="84" y="391"/>
                        </a:lnTo>
                        <a:lnTo>
                          <a:pt x="72" y="374"/>
                        </a:lnTo>
                        <a:lnTo>
                          <a:pt x="60" y="356"/>
                        </a:lnTo>
                        <a:lnTo>
                          <a:pt x="52" y="338"/>
                        </a:lnTo>
                        <a:lnTo>
                          <a:pt x="44" y="317"/>
                        </a:lnTo>
                        <a:lnTo>
                          <a:pt x="40" y="297"/>
                        </a:lnTo>
                        <a:lnTo>
                          <a:pt x="36" y="275"/>
                        </a:lnTo>
                        <a:lnTo>
                          <a:pt x="36" y="254"/>
                        </a:lnTo>
                        <a:lnTo>
                          <a:pt x="40" y="210"/>
                        </a:lnTo>
                        <a:lnTo>
                          <a:pt x="52" y="170"/>
                        </a:lnTo>
                        <a:lnTo>
                          <a:pt x="72" y="132"/>
                        </a:lnTo>
                        <a:lnTo>
                          <a:pt x="100" y="100"/>
                        </a:lnTo>
                        <a:lnTo>
                          <a:pt x="133" y="71"/>
                        </a:lnTo>
                        <a:lnTo>
                          <a:pt x="170" y="52"/>
                        </a:lnTo>
                        <a:lnTo>
                          <a:pt x="210" y="40"/>
                        </a:lnTo>
                        <a:lnTo>
                          <a:pt x="254" y="36"/>
                        </a:lnTo>
                        <a:lnTo>
                          <a:pt x="279" y="37"/>
                        </a:lnTo>
                        <a:lnTo>
                          <a:pt x="291" y="38"/>
                        </a:lnTo>
                        <a:lnTo>
                          <a:pt x="303" y="42"/>
                        </a:lnTo>
                        <a:lnTo>
                          <a:pt x="297" y="35"/>
                        </a:lnTo>
                        <a:lnTo>
                          <a:pt x="260" y="0"/>
                        </a:lnTo>
                        <a:lnTo>
                          <a:pt x="254" y="0"/>
                        </a:lnTo>
                        <a:lnTo>
                          <a:pt x="227" y="1"/>
                        </a:lnTo>
                        <a:lnTo>
                          <a:pt x="202" y="4"/>
                        </a:lnTo>
                        <a:lnTo>
                          <a:pt x="178" y="10"/>
                        </a:lnTo>
                        <a:lnTo>
                          <a:pt x="156" y="18"/>
                        </a:lnTo>
                        <a:lnTo>
                          <a:pt x="133" y="28"/>
                        </a:lnTo>
                        <a:lnTo>
                          <a:pt x="112" y="41"/>
                        </a:lnTo>
                        <a:lnTo>
                          <a:pt x="92" y="55"/>
                        </a:lnTo>
                        <a:lnTo>
                          <a:pt x="74" y="75"/>
                        </a:lnTo>
                        <a:close/>
                      </a:path>
                    </a:pathLst>
                  </a:custGeom>
                  <a:solidFill>
                    <a:srgbClr val="52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5840280" y="5630040"/>
                    <a:ext cx="14292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645">
                        <a:moveTo>
                          <a:pt x="36" y="318"/>
                        </a:moveTo>
                        <a:lnTo>
                          <a:pt x="37" y="287"/>
                        </a:lnTo>
                        <a:lnTo>
                          <a:pt x="40" y="259"/>
                        </a:lnTo>
                        <a:lnTo>
                          <a:pt x="46" y="232"/>
                        </a:lnTo>
                        <a:lnTo>
                          <a:pt x="56" y="206"/>
                        </a:lnTo>
                        <a:lnTo>
                          <a:pt x="68" y="179"/>
                        </a:lnTo>
                        <a:lnTo>
                          <a:pt x="82" y="156"/>
                        </a:lnTo>
                        <a:lnTo>
                          <a:pt x="99" y="133"/>
                        </a:lnTo>
                        <a:lnTo>
                          <a:pt x="121" y="113"/>
                        </a:lnTo>
                        <a:lnTo>
                          <a:pt x="138" y="94"/>
                        </a:lnTo>
                        <a:lnTo>
                          <a:pt x="157" y="80"/>
                        </a:lnTo>
                        <a:lnTo>
                          <a:pt x="177" y="66"/>
                        </a:lnTo>
                        <a:lnTo>
                          <a:pt x="198" y="56"/>
                        </a:lnTo>
                        <a:lnTo>
                          <a:pt x="218" y="46"/>
                        </a:lnTo>
                        <a:lnTo>
                          <a:pt x="241" y="39"/>
                        </a:lnTo>
                        <a:lnTo>
                          <a:pt x="264" y="33"/>
                        </a:lnTo>
                        <a:lnTo>
                          <a:pt x="289" y="30"/>
                        </a:lnTo>
                        <a:lnTo>
                          <a:pt x="246" y="0"/>
                        </a:lnTo>
                        <a:lnTo>
                          <a:pt x="204" y="13"/>
                        </a:lnTo>
                        <a:lnTo>
                          <a:pt x="183" y="21"/>
                        </a:lnTo>
                        <a:lnTo>
                          <a:pt x="165" y="32"/>
                        </a:lnTo>
                        <a:lnTo>
                          <a:pt x="128" y="56"/>
                        </a:lnTo>
                        <a:lnTo>
                          <a:pt x="95" y="87"/>
                        </a:lnTo>
                        <a:lnTo>
                          <a:pt x="72" y="110"/>
                        </a:lnTo>
                        <a:lnTo>
                          <a:pt x="53" y="136"/>
                        </a:lnTo>
                        <a:lnTo>
                          <a:pt x="36" y="162"/>
                        </a:lnTo>
                        <a:lnTo>
                          <a:pt x="23" y="192"/>
                        </a:lnTo>
                        <a:lnTo>
                          <a:pt x="12" y="220"/>
                        </a:lnTo>
                        <a:lnTo>
                          <a:pt x="5" y="252"/>
                        </a:lnTo>
                        <a:lnTo>
                          <a:pt x="1" y="284"/>
                        </a:lnTo>
                        <a:lnTo>
                          <a:pt x="0" y="318"/>
                        </a:lnTo>
                        <a:lnTo>
                          <a:pt x="1" y="351"/>
                        </a:lnTo>
                        <a:lnTo>
                          <a:pt x="5" y="382"/>
                        </a:lnTo>
                        <a:lnTo>
                          <a:pt x="8" y="397"/>
                        </a:lnTo>
                        <a:lnTo>
                          <a:pt x="12" y="413"/>
                        </a:lnTo>
                        <a:lnTo>
                          <a:pt x="17" y="428"/>
                        </a:lnTo>
                        <a:lnTo>
                          <a:pt x="23" y="444"/>
                        </a:lnTo>
                        <a:lnTo>
                          <a:pt x="36" y="471"/>
                        </a:lnTo>
                        <a:lnTo>
                          <a:pt x="53" y="498"/>
                        </a:lnTo>
                        <a:lnTo>
                          <a:pt x="72" y="524"/>
                        </a:lnTo>
                        <a:lnTo>
                          <a:pt x="95" y="549"/>
                        </a:lnTo>
                        <a:lnTo>
                          <a:pt x="119" y="570"/>
                        </a:lnTo>
                        <a:lnTo>
                          <a:pt x="145" y="590"/>
                        </a:lnTo>
                        <a:lnTo>
                          <a:pt x="171" y="606"/>
                        </a:lnTo>
                        <a:lnTo>
                          <a:pt x="200" y="620"/>
                        </a:lnTo>
                        <a:lnTo>
                          <a:pt x="229" y="631"/>
                        </a:lnTo>
                        <a:lnTo>
                          <a:pt x="260" y="639"/>
                        </a:lnTo>
                        <a:lnTo>
                          <a:pt x="292" y="643"/>
                        </a:lnTo>
                        <a:lnTo>
                          <a:pt x="326" y="645"/>
                        </a:lnTo>
                        <a:lnTo>
                          <a:pt x="342" y="644"/>
                        </a:lnTo>
                        <a:lnTo>
                          <a:pt x="343" y="643"/>
                        </a:lnTo>
                        <a:lnTo>
                          <a:pt x="346" y="643"/>
                        </a:lnTo>
                        <a:lnTo>
                          <a:pt x="350" y="643"/>
                        </a:lnTo>
                        <a:lnTo>
                          <a:pt x="359" y="643"/>
                        </a:lnTo>
                        <a:lnTo>
                          <a:pt x="391" y="639"/>
                        </a:lnTo>
                        <a:lnTo>
                          <a:pt x="406" y="634"/>
                        </a:lnTo>
                        <a:lnTo>
                          <a:pt x="421" y="631"/>
                        </a:lnTo>
                        <a:lnTo>
                          <a:pt x="428" y="627"/>
                        </a:lnTo>
                        <a:lnTo>
                          <a:pt x="436" y="625"/>
                        </a:lnTo>
                        <a:lnTo>
                          <a:pt x="452" y="620"/>
                        </a:lnTo>
                        <a:lnTo>
                          <a:pt x="479" y="606"/>
                        </a:lnTo>
                        <a:lnTo>
                          <a:pt x="507" y="590"/>
                        </a:lnTo>
                        <a:lnTo>
                          <a:pt x="509" y="586"/>
                        </a:lnTo>
                        <a:lnTo>
                          <a:pt x="512" y="584"/>
                        </a:lnTo>
                        <a:lnTo>
                          <a:pt x="519" y="580"/>
                        </a:lnTo>
                        <a:lnTo>
                          <a:pt x="533" y="570"/>
                        </a:lnTo>
                        <a:lnTo>
                          <a:pt x="558" y="549"/>
                        </a:lnTo>
                        <a:lnTo>
                          <a:pt x="563" y="543"/>
                        </a:lnTo>
                        <a:lnTo>
                          <a:pt x="562" y="516"/>
                        </a:lnTo>
                        <a:lnTo>
                          <a:pt x="560" y="491"/>
                        </a:lnTo>
                        <a:lnTo>
                          <a:pt x="546" y="507"/>
                        </a:lnTo>
                        <a:lnTo>
                          <a:pt x="542" y="510"/>
                        </a:lnTo>
                        <a:lnTo>
                          <a:pt x="538" y="515"/>
                        </a:lnTo>
                        <a:lnTo>
                          <a:pt x="531" y="524"/>
                        </a:lnTo>
                        <a:lnTo>
                          <a:pt x="509" y="543"/>
                        </a:lnTo>
                        <a:lnTo>
                          <a:pt x="486" y="560"/>
                        </a:lnTo>
                        <a:lnTo>
                          <a:pt x="461" y="575"/>
                        </a:lnTo>
                        <a:lnTo>
                          <a:pt x="454" y="577"/>
                        </a:lnTo>
                        <a:lnTo>
                          <a:pt x="452" y="577"/>
                        </a:lnTo>
                        <a:lnTo>
                          <a:pt x="451" y="578"/>
                        </a:lnTo>
                        <a:lnTo>
                          <a:pt x="449" y="581"/>
                        </a:lnTo>
                        <a:lnTo>
                          <a:pt x="437" y="587"/>
                        </a:lnTo>
                        <a:lnTo>
                          <a:pt x="410" y="595"/>
                        </a:lnTo>
                        <a:lnTo>
                          <a:pt x="383" y="603"/>
                        </a:lnTo>
                        <a:lnTo>
                          <a:pt x="375" y="603"/>
                        </a:lnTo>
                        <a:lnTo>
                          <a:pt x="368" y="604"/>
                        </a:lnTo>
                        <a:lnTo>
                          <a:pt x="355" y="607"/>
                        </a:lnTo>
                        <a:lnTo>
                          <a:pt x="347" y="607"/>
                        </a:lnTo>
                        <a:lnTo>
                          <a:pt x="340" y="608"/>
                        </a:lnTo>
                        <a:lnTo>
                          <a:pt x="326" y="609"/>
                        </a:lnTo>
                        <a:lnTo>
                          <a:pt x="296" y="607"/>
                        </a:lnTo>
                        <a:lnTo>
                          <a:pt x="267" y="603"/>
                        </a:lnTo>
                        <a:lnTo>
                          <a:pt x="240" y="595"/>
                        </a:lnTo>
                        <a:lnTo>
                          <a:pt x="214" y="587"/>
                        </a:lnTo>
                        <a:lnTo>
                          <a:pt x="188" y="575"/>
                        </a:lnTo>
                        <a:lnTo>
                          <a:pt x="164" y="560"/>
                        </a:lnTo>
                        <a:lnTo>
                          <a:pt x="141" y="543"/>
                        </a:lnTo>
                        <a:lnTo>
                          <a:pt x="121" y="524"/>
                        </a:lnTo>
                        <a:lnTo>
                          <a:pt x="99" y="501"/>
                        </a:lnTo>
                        <a:lnTo>
                          <a:pt x="82" y="479"/>
                        </a:lnTo>
                        <a:lnTo>
                          <a:pt x="68" y="454"/>
                        </a:lnTo>
                        <a:lnTo>
                          <a:pt x="56" y="429"/>
                        </a:lnTo>
                        <a:lnTo>
                          <a:pt x="46" y="402"/>
                        </a:lnTo>
                        <a:lnTo>
                          <a:pt x="40" y="374"/>
                        </a:lnTo>
                        <a:lnTo>
                          <a:pt x="37" y="346"/>
                        </a:lnTo>
                        <a:lnTo>
                          <a:pt x="36" y="318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5831280" y="5623920"/>
                    <a:ext cx="15264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707">
                        <a:moveTo>
                          <a:pt x="38" y="343"/>
                        </a:moveTo>
                        <a:lnTo>
                          <a:pt x="39" y="309"/>
                        </a:lnTo>
                        <a:lnTo>
                          <a:pt x="43" y="277"/>
                        </a:lnTo>
                        <a:lnTo>
                          <a:pt x="50" y="245"/>
                        </a:lnTo>
                        <a:lnTo>
                          <a:pt x="61" y="217"/>
                        </a:lnTo>
                        <a:lnTo>
                          <a:pt x="74" y="187"/>
                        </a:lnTo>
                        <a:lnTo>
                          <a:pt x="91" y="161"/>
                        </a:lnTo>
                        <a:lnTo>
                          <a:pt x="110" y="135"/>
                        </a:lnTo>
                        <a:lnTo>
                          <a:pt x="133" y="112"/>
                        </a:lnTo>
                        <a:lnTo>
                          <a:pt x="166" y="81"/>
                        </a:lnTo>
                        <a:lnTo>
                          <a:pt x="203" y="57"/>
                        </a:lnTo>
                        <a:lnTo>
                          <a:pt x="221" y="46"/>
                        </a:lnTo>
                        <a:lnTo>
                          <a:pt x="242" y="38"/>
                        </a:lnTo>
                        <a:lnTo>
                          <a:pt x="284" y="25"/>
                        </a:lnTo>
                        <a:lnTo>
                          <a:pt x="241" y="0"/>
                        </a:lnTo>
                        <a:lnTo>
                          <a:pt x="203" y="14"/>
                        </a:lnTo>
                        <a:lnTo>
                          <a:pt x="169" y="34"/>
                        </a:lnTo>
                        <a:lnTo>
                          <a:pt x="136" y="57"/>
                        </a:lnTo>
                        <a:lnTo>
                          <a:pt x="107" y="87"/>
                        </a:lnTo>
                        <a:lnTo>
                          <a:pt x="81" y="113"/>
                        </a:lnTo>
                        <a:lnTo>
                          <a:pt x="59" y="142"/>
                        </a:lnTo>
                        <a:lnTo>
                          <a:pt x="41" y="172"/>
                        </a:lnTo>
                        <a:lnTo>
                          <a:pt x="26" y="203"/>
                        </a:lnTo>
                        <a:lnTo>
                          <a:pt x="14" y="235"/>
                        </a:lnTo>
                        <a:lnTo>
                          <a:pt x="6" y="270"/>
                        </a:lnTo>
                        <a:lnTo>
                          <a:pt x="1" y="305"/>
                        </a:lnTo>
                        <a:lnTo>
                          <a:pt x="0" y="343"/>
                        </a:lnTo>
                        <a:lnTo>
                          <a:pt x="1" y="379"/>
                        </a:lnTo>
                        <a:lnTo>
                          <a:pt x="2" y="396"/>
                        </a:lnTo>
                        <a:lnTo>
                          <a:pt x="6" y="414"/>
                        </a:lnTo>
                        <a:lnTo>
                          <a:pt x="14" y="448"/>
                        </a:lnTo>
                        <a:lnTo>
                          <a:pt x="26" y="482"/>
                        </a:lnTo>
                        <a:lnTo>
                          <a:pt x="41" y="513"/>
                        </a:lnTo>
                        <a:lnTo>
                          <a:pt x="49" y="527"/>
                        </a:lnTo>
                        <a:lnTo>
                          <a:pt x="59" y="543"/>
                        </a:lnTo>
                        <a:lnTo>
                          <a:pt x="81" y="572"/>
                        </a:lnTo>
                        <a:lnTo>
                          <a:pt x="107" y="600"/>
                        </a:lnTo>
                        <a:lnTo>
                          <a:pt x="133" y="624"/>
                        </a:lnTo>
                        <a:lnTo>
                          <a:pt x="162" y="645"/>
                        </a:lnTo>
                        <a:lnTo>
                          <a:pt x="192" y="664"/>
                        </a:lnTo>
                        <a:lnTo>
                          <a:pt x="224" y="679"/>
                        </a:lnTo>
                        <a:lnTo>
                          <a:pt x="255" y="691"/>
                        </a:lnTo>
                        <a:lnTo>
                          <a:pt x="291" y="700"/>
                        </a:lnTo>
                        <a:lnTo>
                          <a:pt x="326" y="704"/>
                        </a:lnTo>
                        <a:lnTo>
                          <a:pt x="364" y="707"/>
                        </a:lnTo>
                        <a:lnTo>
                          <a:pt x="380" y="705"/>
                        </a:lnTo>
                        <a:lnTo>
                          <a:pt x="381" y="704"/>
                        </a:lnTo>
                        <a:lnTo>
                          <a:pt x="384" y="704"/>
                        </a:lnTo>
                        <a:lnTo>
                          <a:pt x="388" y="704"/>
                        </a:lnTo>
                        <a:lnTo>
                          <a:pt x="397" y="704"/>
                        </a:lnTo>
                        <a:lnTo>
                          <a:pt x="413" y="702"/>
                        </a:lnTo>
                        <a:lnTo>
                          <a:pt x="414" y="701"/>
                        </a:lnTo>
                        <a:lnTo>
                          <a:pt x="416" y="701"/>
                        </a:lnTo>
                        <a:lnTo>
                          <a:pt x="421" y="701"/>
                        </a:lnTo>
                        <a:lnTo>
                          <a:pt x="430" y="701"/>
                        </a:lnTo>
                        <a:lnTo>
                          <a:pt x="445" y="696"/>
                        </a:lnTo>
                        <a:lnTo>
                          <a:pt x="461" y="693"/>
                        </a:lnTo>
                        <a:lnTo>
                          <a:pt x="475" y="688"/>
                        </a:lnTo>
                        <a:lnTo>
                          <a:pt x="491" y="684"/>
                        </a:lnTo>
                        <a:lnTo>
                          <a:pt x="505" y="677"/>
                        </a:lnTo>
                        <a:lnTo>
                          <a:pt x="520" y="670"/>
                        </a:lnTo>
                        <a:lnTo>
                          <a:pt x="533" y="662"/>
                        </a:lnTo>
                        <a:lnTo>
                          <a:pt x="548" y="656"/>
                        </a:lnTo>
                        <a:lnTo>
                          <a:pt x="575" y="637"/>
                        </a:lnTo>
                        <a:lnTo>
                          <a:pt x="602" y="618"/>
                        </a:lnTo>
                        <a:lnTo>
                          <a:pt x="602" y="594"/>
                        </a:lnTo>
                        <a:lnTo>
                          <a:pt x="601" y="568"/>
                        </a:lnTo>
                        <a:lnTo>
                          <a:pt x="596" y="574"/>
                        </a:lnTo>
                        <a:lnTo>
                          <a:pt x="571" y="595"/>
                        </a:lnTo>
                        <a:lnTo>
                          <a:pt x="557" y="605"/>
                        </a:lnTo>
                        <a:lnTo>
                          <a:pt x="550" y="609"/>
                        </a:lnTo>
                        <a:lnTo>
                          <a:pt x="547" y="611"/>
                        </a:lnTo>
                        <a:lnTo>
                          <a:pt x="545" y="615"/>
                        </a:lnTo>
                        <a:lnTo>
                          <a:pt x="517" y="631"/>
                        </a:lnTo>
                        <a:lnTo>
                          <a:pt x="490" y="645"/>
                        </a:lnTo>
                        <a:lnTo>
                          <a:pt x="474" y="650"/>
                        </a:lnTo>
                        <a:lnTo>
                          <a:pt x="466" y="652"/>
                        </a:lnTo>
                        <a:lnTo>
                          <a:pt x="459" y="656"/>
                        </a:lnTo>
                        <a:lnTo>
                          <a:pt x="444" y="659"/>
                        </a:lnTo>
                        <a:lnTo>
                          <a:pt x="429" y="664"/>
                        </a:lnTo>
                        <a:lnTo>
                          <a:pt x="397" y="668"/>
                        </a:lnTo>
                        <a:lnTo>
                          <a:pt x="388" y="668"/>
                        </a:lnTo>
                        <a:lnTo>
                          <a:pt x="384" y="668"/>
                        </a:lnTo>
                        <a:lnTo>
                          <a:pt x="381" y="668"/>
                        </a:lnTo>
                        <a:lnTo>
                          <a:pt x="380" y="669"/>
                        </a:lnTo>
                        <a:lnTo>
                          <a:pt x="364" y="670"/>
                        </a:lnTo>
                        <a:lnTo>
                          <a:pt x="330" y="668"/>
                        </a:lnTo>
                        <a:lnTo>
                          <a:pt x="298" y="664"/>
                        </a:lnTo>
                        <a:lnTo>
                          <a:pt x="267" y="656"/>
                        </a:lnTo>
                        <a:lnTo>
                          <a:pt x="238" y="645"/>
                        </a:lnTo>
                        <a:lnTo>
                          <a:pt x="209" y="631"/>
                        </a:lnTo>
                        <a:lnTo>
                          <a:pt x="183" y="615"/>
                        </a:lnTo>
                        <a:lnTo>
                          <a:pt x="157" y="595"/>
                        </a:lnTo>
                        <a:lnTo>
                          <a:pt x="133" y="574"/>
                        </a:lnTo>
                        <a:lnTo>
                          <a:pt x="110" y="549"/>
                        </a:lnTo>
                        <a:lnTo>
                          <a:pt x="91" y="523"/>
                        </a:lnTo>
                        <a:lnTo>
                          <a:pt x="74" y="496"/>
                        </a:lnTo>
                        <a:lnTo>
                          <a:pt x="61" y="469"/>
                        </a:lnTo>
                        <a:lnTo>
                          <a:pt x="55" y="453"/>
                        </a:lnTo>
                        <a:lnTo>
                          <a:pt x="50" y="438"/>
                        </a:lnTo>
                        <a:lnTo>
                          <a:pt x="46" y="422"/>
                        </a:lnTo>
                        <a:lnTo>
                          <a:pt x="43" y="407"/>
                        </a:lnTo>
                        <a:lnTo>
                          <a:pt x="39" y="376"/>
                        </a:lnTo>
                        <a:lnTo>
                          <a:pt x="38" y="343"/>
                        </a:lnTo>
                        <a:close/>
                      </a:path>
                    </a:pathLst>
                  </a:custGeom>
                  <a:solidFill>
                    <a:srgbClr val="496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5757120" y="5606280"/>
                    <a:ext cx="201600" cy="270720"/>
                  </a:xfrm>
                  <a:custGeom>
                    <a:avLst/>
                    <a:gdLst/>
                    <a:ahLst/>
                    <a:rect l="l" t="t" r="r" b="b"/>
                    <a:pathLst>
                      <a:path w="793" h="1066">
                        <a:moveTo>
                          <a:pt x="143" y="4"/>
                        </a:moveTo>
                        <a:lnTo>
                          <a:pt x="109" y="48"/>
                        </a:lnTo>
                        <a:lnTo>
                          <a:pt x="79" y="94"/>
                        </a:lnTo>
                        <a:lnTo>
                          <a:pt x="54" y="142"/>
                        </a:lnTo>
                        <a:lnTo>
                          <a:pt x="35" y="193"/>
                        </a:lnTo>
                        <a:lnTo>
                          <a:pt x="19" y="244"/>
                        </a:lnTo>
                        <a:lnTo>
                          <a:pt x="8" y="298"/>
                        </a:lnTo>
                        <a:lnTo>
                          <a:pt x="1" y="354"/>
                        </a:lnTo>
                        <a:lnTo>
                          <a:pt x="0" y="412"/>
                        </a:lnTo>
                        <a:lnTo>
                          <a:pt x="0" y="443"/>
                        </a:lnTo>
                        <a:lnTo>
                          <a:pt x="2" y="476"/>
                        </a:lnTo>
                        <a:lnTo>
                          <a:pt x="6" y="508"/>
                        </a:lnTo>
                        <a:lnTo>
                          <a:pt x="11" y="541"/>
                        </a:lnTo>
                        <a:lnTo>
                          <a:pt x="17" y="572"/>
                        </a:lnTo>
                        <a:lnTo>
                          <a:pt x="26" y="602"/>
                        </a:lnTo>
                        <a:lnTo>
                          <a:pt x="35" y="632"/>
                        </a:lnTo>
                        <a:lnTo>
                          <a:pt x="48" y="662"/>
                        </a:lnTo>
                        <a:lnTo>
                          <a:pt x="59" y="689"/>
                        </a:lnTo>
                        <a:lnTo>
                          <a:pt x="74" y="718"/>
                        </a:lnTo>
                        <a:lnTo>
                          <a:pt x="88" y="745"/>
                        </a:lnTo>
                        <a:lnTo>
                          <a:pt x="107" y="772"/>
                        </a:lnTo>
                        <a:lnTo>
                          <a:pt x="125" y="797"/>
                        </a:lnTo>
                        <a:lnTo>
                          <a:pt x="145" y="823"/>
                        </a:lnTo>
                        <a:lnTo>
                          <a:pt x="167" y="848"/>
                        </a:lnTo>
                        <a:lnTo>
                          <a:pt x="192" y="874"/>
                        </a:lnTo>
                        <a:lnTo>
                          <a:pt x="215" y="897"/>
                        </a:lnTo>
                        <a:lnTo>
                          <a:pt x="240" y="918"/>
                        </a:lnTo>
                        <a:lnTo>
                          <a:pt x="291" y="957"/>
                        </a:lnTo>
                        <a:lnTo>
                          <a:pt x="317" y="974"/>
                        </a:lnTo>
                        <a:lnTo>
                          <a:pt x="345" y="990"/>
                        </a:lnTo>
                        <a:lnTo>
                          <a:pt x="402" y="1017"/>
                        </a:lnTo>
                        <a:lnTo>
                          <a:pt x="460" y="1037"/>
                        </a:lnTo>
                        <a:lnTo>
                          <a:pt x="523" y="1053"/>
                        </a:lnTo>
                        <a:lnTo>
                          <a:pt x="587" y="1062"/>
                        </a:lnTo>
                        <a:lnTo>
                          <a:pt x="620" y="1065"/>
                        </a:lnTo>
                        <a:lnTo>
                          <a:pt x="654" y="1066"/>
                        </a:lnTo>
                        <a:lnTo>
                          <a:pt x="709" y="1063"/>
                        </a:lnTo>
                        <a:lnTo>
                          <a:pt x="763" y="1058"/>
                        </a:lnTo>
                        <a:lnTo>
                          <a:pt x="793" y="1016"/>
                        </a:lnTo>
                        <a:lnTo>
                          <a:pt x="759" y="1022"/>
                        </a:lnTo>
                        <a:lnTo>
                          <a:pt x="725" y="1026"/>
                        </a:lnTo>
                        <a:lnTo>
                          <a:pt x="689" y="1028"/>
                        </a:lnTo>
                        <a:lnTo>
                          <a:pt x="671" y="1028"/>
                        </a:lnTo>
                        <a:lnTo>
                          <a:pt x="662" y="1028"/>
                        </a:lnTo>
                        <a:lnTo>
                          <a:pt x="658" y="1028"/>
                        </a:lnTo>
                        <a:lnTo>
                          <a:pt x="655" y="1028"/>
                        </a:lnTo>
                        <a:lnTo>
                          <a:pt x="654" y="1028"/>
                        </a:lnTo>
                        <a:lnTo>
                          <a:pt x="654" y="1029"/>
                        </a:lnTo>
                        <a:lnTo>
                          <a:pt x="621" y="1028"/>
                        </a:lnTo>
                        <a:lnTo>
                          <a:pt x="590" y="1026"/>
                        </a:lnTo>
                        <a:lnTo>
                          <a:pt x="559" y="1023"/>
                        </a:lnTo>
                        <a:lnTo>
                          <a:pt x="529" y="1018"/>
                        </a:lnTo>
                        <a:lnTo>
                          <a:pt x="500" y="1011"/>
                        </a:lnTo>
                        <a:lnTo>
                          <a:pt x="472" y="1003"/>
                        </a:lnTo>
                        <a:lnTo>
                          <a:pt x="443" y="994"/>
                        </a:lnTo>
                        <a:lnTo>
                          <a:pt x="416" y="984"/>
                        </a:lnTo>
                        <a:lnTo>
                          <a:pt x="389" y="972"/>
                        </a:lnTo>
                        <a:lnTo>
                          <a:pt x="363" y="958"/>
                        </a:lnTo>
                        <a:lnTo>
                          <a:pt x="337" y="943"/>
                        </a:lnTo>
                        <a:lnTo>
                          <a:pt x="312" y="927"/>
                        </a:lnTo>
                        <a:lnTo>
                          <a:pt x="287" y="909"/>
                        </a:lnTo>
                        <a:lnTo>
                          <a:pt x="263" y="890"/>
                        </a:lnTo>
                        <a:lnTo>
                          <a:pt x="239" y="870"/>
                        </a:lnTo>
                        <a:lnTo>
                          <a:pt x="218" y="848"/>
                        </a:lnTo>
                        <a:lnTo>
                          <a:pt x="195" y="824"/>
                        </a:lnTo>
                        <a:lnTo>
                          <a:pt x="175" y="802"/>
                        </a:lnTo>
                        <a:lnTo>
                          <a:pt x="155" y="777"/>
                        </a:lnTo>
                        <a:lnTo>
                          <a:pt x="138" y="753"/>
                        </a:lnTo>
                        <a:lnTo>
                          <a:pt x="121" y="727"/>
                        </a:lnTo>
                        <a:lnTo>
                          <a:pt x="107" y="702"/>
                        </a:lnTo>
                        <a:lnTo>
                          <a:pt x="93" y="675"/>
                        </a:lnTo>
                        <a:lnTo>
                          <a:pt x="82" y="649"/>
                        </a:lnTo>
                        <a:lnTo>
                          <a:pt x="70" y="620"/>
                        </a:lnTo>
                        <a:lnTo>
                          <a:pt x="61" y="592"/>
                        </a:lnTo>
                        <a:lnTo>
                          <a:pt x="53" y="562"/>
                        </a:lnTo>
                        <a:lnTo>
                          <a:pt x="48" y="534"/>
                        </a:lnTo>
                        <a:lnTo>
                          <a:pt x="42" y="504"/>
                        </a:lnTo>
                        <a:lnTo>
                          <a:pt x="38" y="474"/>
                        </a:lnTo>
                        <a:lnTo>
                          <a:pt x="36" y="442"/>
                        </a:lnTo>
                        <a:lnTo>
                          <a:pt x="36" y="412"/>
                        </a:lnTo>
                        <a:lnTo>
                          <a:pt x="38" y="352"/>
                        </a:lnTo>
                        <a:lnTo>
                          <a:pt x="45" y="296"/>
                        </a:lnTo>
                        <a:lnTo>
                          <a:pt x="58" y="241"/>
                        </a:lnTo>
                        <a:lnTo>
                          <a:pt x="76" y="190"/>
                        </a:lnTo>
                        <a:lnTo>
                          <a:pt x="97" y="139"/>
                        </a:lnTo>
                        <a:lnTo>
                          <a:pt x="125" y="90"/>
                        </a:lnTo>
                        <a:lnTo>
                          <a:pt x="156" y="43"/>
                        </a:lnTo>
                        <a:lnTo>
                          <a:pt x="195" y="0"/>
                        </a:lnTo>
                        <a:lnTo>
                          <a:pt x="143" y="4"/>
                        </a:lnTo>
                        <a:close/>
                      </a:path>
                    </a:pathLst>
                  </a:custGeom>
                  <a:solidFill>
                    <a:srgbClr val="2f4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5868360" y="5655240"/>
                    <a:ext cx="1087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29" h="436">
                        <a:moveTo>
                          <a:pt x="267" y="6"/>
                        </a:moveTo>
                        <a:lnTo>
                          <a:pt x="255" y="2"/>
                        </a:lnTo>
                        <a:lnTo>
                          <a:pt x="243" y="1"/>
                        </a:lnTo>
                        <a:lnTo>
                          <a:pt x="218" y="0"/>
                        </a:lnTo>
                        <a:lnTo>
                          <a:pt x="174" y="4"/>
                        </a:lnTo>
                        <a:lnTo>
                          <a:pt x="134" y="16"/>
                        </a:lnTo>
                        <a:lnTo>
                          <a:pt x="97" y="35"/>
                        </a:lnTo>
                        <a:lnTo>
                          <a:pt x="64" y="64"/>
                        </a:lnTo>
                        <a:lnTo>
                          <a:pt x="36" y="96"/>
                        </a:lnTo>
                        <a:lnTo>
                          <a:pt x="16" y="134"/>
                        </a:lnTo>
                        <a:lnTo>
                          <a:pt x="4" y="174"/>
                        </a:lnTo>
                        <a:lnTo>
                          <a:pt x="0" y="218"/>
                        </a:lnTo>
                        <a:lnTo>
                          <a:pt x="0" y="239"/>
                        </a:lnTo>
                        <a:lnTo>
                          <a:pt x="4" y="261"/>
                        </a:lnTo>
                        <a:lnTo>
                          <a:pt x="8" y="281"/>
                        </a:lnTo>
                        <a:lnTo>
                          <a:pt x="16" y="302"/>
                        </a:lnTo>
                        <a:lnTo>
                          <a:pt x="24" y="320"/>
                        </a:lnTo>
                        <a:lnTo>
                          <a:pt x="36" y="338"/>
                        </a:lnTo>
                        <a:lnTo>
                          <a:pt x="48" y="355"/>
                        </a:lnTo>
                        <a:lnTo>
                          <a:pt x="64" y="372"/>
                        </a:lnTo>
                        <a:lnTo>
                          <a:pt x="80" y="387"/>
                        </a:lnTo>
                        <a:lnTo>
                          <a:pt x="97" y="399"/>
                        </a:lnTo>
                        <a:lnTo>
                          <a:pt x="115" y="409"/>
                        </a:lnTo>
                        <a:lnTo>
                          <a:pt x="134" y="419"/>
                        </a:lnTo>
                        <a:lnTo>
                          <a:pt x="154" y="426"/>
                        </a:lnTo>
                        <a:lnTo>
                          <a:pt x="174" y="432"/>
                        </a:lnTo>
                        <a:lnTo>
                          <a:pt x="196" y="435"/>
                        </a:lnTo>
                        <a:lnTo>
                          <a:pt x="218" y="436"/>
                        </a:lnTo>
                        <a:lnTo>
                          <a:pt x="223" y="435"/>
                        </a:lnTo>
                        <a:lnTo>
                          <a:pt x="228" y="435"/>
                        </a:lnTo>
                        <a:lnTo>
                          <a:pt x="240" y="435"/>
                        </a:lnTo>
                        <a:lnTo>
                          <a:pt x="250" y="433"/>
                        </a:lnTo>
                        <a:lnTo>
                          <a:pt x="261" y="432"/>
                        </a:lnTo>
                        <a:lnTo>
                          <a:pt x="282" y="426"/>
                        </a:lnTo>
                        <a:lnTo>
                          <a:pt x="302" y="419"/>
                        </a:lnTo>
                        <a:lnTo>
                          <a:pt x="320" y="409"/>
                        </a:lnTo>
                        <a:lnTo>
                          <a:pt x="338" y="399"/>
                        </a:lnTo>
                        <a:lnTo>
                          <a:pt x="346" y="392"/>
                        </a:lnTo>
                        <a:lnTo>
                          <a:pt x="355" y="387"/>
                        </a:lnTo>
                        <a:lnTo>
                          <a:pt x="359" y="382"/>
                        </a:lnTo>
                        <a:lnTo>
                          <a:pt x="363" y="379"/>
                        </a:lnTo>
                        <a:lnTo>
                          <a:pt x="372" y="372"/>
                        </a:lnTo>
                        <a:lnTo>
                          <a:pt x="392" y="349"/>
                        </a:lnTo>
                        <a:lnTo>
                          <a:pt x="408" y="327"/>
                        </a:lnTo>
                        <a:lnTo>
                          <a:pt x="420" y="302"/>
                        </a:lnTo>
                        <a:lnTo>
                          <a:pt x="425" y="288"/>
                        </a:lnTo>
                        <a:lnTo>
                          <a:pt x="429" y="276"/>
                        </a:lnTo>
                        <a:lnTo>
                          <a:pt x="414" y="234"/>
                        </a:lnTo>
                        <a:lnTo>
                          <a:pt x="399" y="193"/>
                        </a:lnTo>
                        <a:lnTo>
                          <a:pt x="400" y="218"/>
                        </a:lnTo>
                        <a:lnTo>
                          <a:pt x="399" y="218"/>
                        </a:lnTo>
                        <a:lnTo>
                          <a:pt x="399" y="219"/>
                        </a:lnTo>
                        <a:lnTo>
                          <a:pt x="399" y="221"/>
                        </a:lnTo>
                        <a:lnTo>
                          <a:pt x="399" y="226"/>
                        </a:lnTo>
                        <a:lnTo>
                          <a:pt x="399" y="235"/>
                        </a:lnTo>
                        <a:lnTo>
                          <a:pt x="396" y="253"/>
                        </a:lnTo>
                        <a:lnTo>
                          <a:pt x="392" y="270"/>
                        </a:lnTo>
                        <a:lnTo>
                          <a:pt x="389" y="273"/>
                        </a:lnTo>
                        <a:lnTo>
                          <a:pt x="388" y="278"/>
                        </a:lnTo>
                        <a:lnTo>
                          <a:pt x="386" y="287"/>
                        </a:lnTo>
                        <a:lnTo>
                          <a:pt x="382" y="294"/>
                        </a:lnTo>
                        <a:lnTo>
                          <a:pt x="379" y="297"/>
                        </a:lnTo>
                        <a:lnTo>
                          <a:pt x="378" y="302"/>
                        </a:lnTo>
                        <a:lnTo>
                          <a:pt x="369" y="317"/>
                        </a:lnTo>
                        <a:lnTo>
                          <a:pt x="358" y="332"/>
                        </a:lnTo>
                        <a:lnTo>
                          <a:pt x="346" y="347"/>
                        </a:lnTo>
                        <a:lnTo>
                          <a:pt x="332" y="358"/>
                        </a:lnTo>
                        <a:lnTo>
                          <a:pt x="318" y="368"/>
                        </a:lnTo>
                        <a:lnTo>
                          <a:pt x="302" y="378"/>
                        </a:lnTo>
                        <a:lnTo>
                          <a:pt x="298" y="379"/>
                        </a:lnTo>
                        <a:lnTo>
                          <a:pt x="294" y="381"/>
                        </a:lnTo>
                        <a:lnTo>
                          <a:pt x="287" y="385"/>
                        </a:lnTo>
                        <a:lnTo>
                          <a:pt x="278" y="388"/>
                        </a:lnTo>
                        <a:lnTo>
                          <a:pt x="274" y="389"/>
                        </a:lnTo>
                        <a:lnTo>
                          <a:pt x="270" y="391"/>
                        </a:lnTo>
                        <a:lnTo>
                          <a:pt x="253" y="396"/>
                        </a:lnTo>
                        <a:lnTo>
                          <a:pt x="235" y="398"/>
                        </a:lnTo>
                        <a:lnTo>
                          <a:pt x="226" y="398"/>
                        </a:lnTo>
                        <a:lnTo>
                          <a:pt x="222" y="398"/>
                        </a:lnTo>
                        <a:lnTo>
                          <a:pt x="219" y="398"/>
                        </a:lnTo>
                        <a:lnTo>
                          <a:pt x="218" y="398"/>
                        </a:lnTo>
                        <a:lnTo>
                          <a:pt x="218" y="399"/>
                        </a:lnTo>
                        <a:lnTo>
                          <a:pt x="199" y="398"/>
                        </a:lnTo>
                        <a:lnTo>
                          <a:pt x="181" y="396"/>
                        </a:lnTo>
                        <a:lnTo>
                          <a:pt x="164" y="391"/>
                        </a:lnTo>
                        <a:lnTo>
                          <a:pt x="148" y="385"/>
                        </a:lnTo>
                        <a:lnTo>
                          <a:pt x="132" y="378"/>
                        </a:lnTo>
                        <a:lnTo>
                          <a:pt x="117" y="368"/>
                        </a:lnTo>
                        <a:lnTo>
                          <a:pt x="103" y="358"/>
                        </a:lnTo>
                        <a:lnTo>
                          <a:pt x="90" y="347"/>
                        </a:lnTo>
                        <a:lnTo>
                          <a:pt x="76" y="332"/>
                        </a:lnTo>
                        <a:lnTo>
                          <a:pt x="66" y="317"/>
                        </a:lnTo>
                        <a:lnTo>
                          <a:pt x="56" y="302"/>
                        </a:lnTo>
                        <a:lnTo>
                          <a:pt x="49" y="287"/>
                        </a:lnTo>
                        <a:lnTo>
                          <a:pt x="42" y="270"/>
                        </a:lnTo>
                        <a:lnTo>
                          <a:pt x="39" y="253"/>
                        </a:lnTo>
                        <a:lnTo>
                          <a:pt x="37" y="235"/>
                        </a:lnTo>
                        <a:lnTo>
                          <a:pt x="37" y="218"/>
                        </a:lnTo>
                        <a:lnTo>
                          <a:pt x="39" y="180"/>
                        </a:lnTo>
                        <a:lnTo>
                          <a:pt x="49" y="147"/>
                        </a:lnTo>
                        <a:lnTo>
                          <a:pt x="66" y="117"/>
                        </a:lnTo>
                        <a:lnTo>
                          <a:pt x="76" y="102"/>
                        </a:lnTo>
                        <a:lnTo>
                          <a:pt x="90" y="90"/>
                        </a:lnTo>
                        <a:lnTo>
                          <a:pt x="103" y="76"/>
                        </a:lnTo>
                        <a:lnTo>
                          <a:pt x="117" y="66"/>
                        </a:lnTo>
                        <a:lnTo>
                          <a:pt x="148" y="49"/>
                        </a:lnTo>
                        <a:lnTo>
                          <a:pt x="181" y="39"/>
                        </a:lnTo>
                        <a:lnTo>
                          <a:pt x="218" y="36"/>
                        </a:lnTo>
                        <a:lnTo>
                          <a:pt x="247" y="38"/>
                        </a:lnTo>
                        <a:lnTo>
                          <a:pt x="274" y="44"/>
                        </a:lnTo>
                        <a:lnTo>
                          <a:pt x="286" y="48"/>
                        </a:lnTo>
                        <a:lnTo>
                          <a:pt x="300" y="53"/>
                        </a:lnTo>
                        <a:lnTo>
                          <a:pt x="311" y="60"/>
                        </a:lnTo>
                        <a:lnTo>
                          <a:pt x="324" y="69"/>
                        </a:lnTo>
                        <a:lnTo>
                          <a:pt x="295" y="36"/>
                        </a:lnTo>
                        <a:lnTo>
                          <a:pt x="267" y="6"/>
                        </a:lnTo>
                        <a:close/>
                      </a:path>
                    </a:pathLst>
                  </a:custGeom>
                  <a:solidFill>
                    <a:srgbClr val="568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877360" y="5664600"/>
                    <a:ext cx="9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363">
                        <a:moveTo>
                          <a:pt x="309" y="311"/>
                        </a:moveTo>
                        <a:lnTo>
                          <a:pt x="321" y="296"/>
                        </a:lnTo>
                        <a:lnTo>
                          <a:pt x="332" y="281"/>
                        </a:lnTo>
                        <a:lnTo>
                          <a:pt x="341" y="266"/>
                        </a:lnTo>
                        <a:lnTo>
                          <a:pt x="342" y="261"/>
                        </a:lnTo>
                        <a:lnTo>
                          <a:pt x="345" y="258"/>
                        </a:lnTo>
                        <a:lnTo>
                          <a:pt x="349" y="251"/>
                        </a:lnTo>
                        <a:lnTo>
                          <a:pt x="351" y="242"/>
                        </a:lnTo>
                        <a:lnTo>
                          <a:pt x="352" y="237"/>
                        </a:lnTo>
                        <a:lnTo>
                          <a:pt x="355" y="234"/>
                        </a:lnTo>
                        <a:lnTo>
                          <a:pt x="359" y="217"/>
                        </a:lnTo>
                        <a:lnTo>
                          <a:pt x="362" y="199"/>
                        </a:lnTo>
                        <a:lnTo>
                          <a:pt x="362" y="190"/>
                        </a:lnTo>
                        <a:lnTo>
                          <a:pt x="362" y="185"/>
                        </a:lnTo>
                        <a:lnTo>
                          <a:pt x="362" y="183"/>
                        </a:lnTo>
                        <a:lnTo>
                          <a:pt x="362" y="182"/>
                        </a:lnTo>
                        <a:lnTo>
                          <a:pt x="363" y="182"/>
                        </a:lnTo>
                        <a:lnTo>
                          <a:pt x="362" y="157"/>
                        </a:lnTo>
                        <a:lnTo>
                          <a:pt x="345" y="124"/>
                        </a:lnTo>
                        <a:lnTo>
                          <a:pt x="328" y="93"/>
                        </a:lnTo>
                        <a:lnTo>
                          <a:pt x="308" y="63"/>
                        </a:lnTo>
                        <a:lnTo>
                          <a:pt x="287" y="33"/>
                        </a:lnTo>
                        <a:lnTo>
                          <a:pt x="274" y="24"/>
                        </a:lnTo>
                        <a:lnTo>
                          <a:pt x="263" y="17"/>
                        </a:lnTo>
                        <a:lnTo>
                          <a:pt x="249" y="12"/>
                        </a:lnTo>
                        <a:lnTo>
                          <a:pt x="237" y="8"/>
                        </a:lnTo>
                        <a:lnTo>
                          <a:pt x="210" y="2"/>
                        </a:lnTo>
                        <a:lnTo>
                          <a:pt x="181" y="0"/>
                        </a:lnTo>
                        <a:lnTo>
                          <a:pt x="144" y="3"/>
                        </a:lnTo>
                        <a:lnTo>
                          <a:pt x="111" y="13"/>
                        </a:lnTo>
                        <a:lnTo>
                          <a:pt x="80" y="30"/>
                        </a:lnTo>
                        <a:lnTo>
                          <a:pt x="66" y="40"/>
                        </a:lnTo>
                        <a:lnTo>
                          <a:pt x="53" y="54"/>
                        </a:lnTo>
                        <a:lnTo>
                          <a:pt x="39" y="66"/>
                        </a:lnTo>
                        <a:lnTo>
                          <a:pt x="29" y="81"/>
                        </a:lnTo>
                        <a:lnTo>
                          <a:pt x="12" y="111"/>
                        </a:lnTo>
                        <a:lnTo>
                          <a:pt x="2" y="144"/>
                        </a:lnTo>
                        <a:lnTo>
                          <a:pt x="0" y="182"/>
                        </a:lnTo>
                        <a:lnTo>
                          <a:pt x="0" y="199"/>
                        </a:lnTo>
                        <a:lnTo>
                          <a:pt x="2" y="217"/>
                        </a:lnTo>
                        <a:lnTo>
                          <a:pt x="5" y="234"/>
                        </a:lnTo>
                        <a:lnTo>
                          <a:pt x="12" y="251"/>
                        </a:lnTo>
                        <a:lnTo>
                          <a:pt x="19" y="266"/>
                        </a:lnTo>
                        <a:lnTo>
                          <a:pt x="29" y="281"/>
                        </a:lnTo>
                        <a:lnTo>
                          <a:pt x="39" y="296"/>
                        </a:lnTo>
                        <a:lnTo>
                          <a:pt x="53" y="311"/>
                        </a:lnTo>
                        <a:lnTo>
                          <a:pt x="66" y="322"/>
                        </a:lnTo>
                        <a:lnTo>
                          <a:pt x="80" y="332"/>
                        </a:lnTo>
                        <a:lnTo>
                          <a:pt x="95" y="342"/>
                        </a:lnTo>
                        <a:lnTo>
                          <a:pt x="111" y="349"/>
                        </a:lnTo>
                        <a:lnTo>
                          <a:pt x="127" y="355"/>
                        </a:lnTo>
                        <a:lnTo>
                          <a:pt x="144" y="360"/>
                        </a:lnTo>
                        <a:lnTo>
                          <a:pt x="162" y="362"/>
                        </a:lnTo>
                        <a:lnTo>
                          <a:pt x="181" y="363"/>
                        </a:lnTo>
                        <a:lnTo>
                          <a:pt x="181" y="362"/>
                        </a:lnTo>
                        <a:lnTo>
                          <a:pt x="182" y="362"/>
                        </a:lnTo>
                        <a:lnTo>
                          <a:pt x="185" y="362"/>
                        </a:lnTo>
                        <a:lnTo>
                          <a:pt x="189" y="362"/>
                        </a:lnTo>
                        <a:lnTo>
                          <a:pt x="198" y="362"/>
                        </a:lnTo>
                        <a:lnTo>
                          <a:pt x="216" y="360"/>
                        </a:lnTo>
                        <a:lnTo>
                          <a:pt x="233" y="355"/>
                        </a:lnTo>
                        <a:lnTo>
                          <a:pt x="237" y="353"/>
                        </a:lnTo>
                        <a:lnTo>
                          <a:pt x="241" y="352"/>
                        </a:lnTo>
                        <a:lnTo>
                          <a:pt x="250" y="349"/>
                        </a:lnTo>
                        <a:lnTo>
                          <a:pt x="257" y="345"/>
                        </a:lnTo>
                        <a:lnTo>
                          <a:pt x="261" y="343"/>
                        </a:lnTo>
                        <a:lnTo>
                          <a:pt x="265" y="342"/>
                        </a:lnTo>
                        <a:lnTo>
                          <a:pt x="281" y="332"/>
                        </a:lnTo>
                        <a:lnTo>
                          <a:pt x="295" y="322"/>
                        </a:lnTo>
                        <a:lnTo>
                          <a:pt x="309" y="311"/>
                        </a:lnTo>
                        <a:close/>
                        <a:moveTo>
                          <a:pt x="78" y="285"/>
                        </a:moveTo>
                        <a:lnTo>
                          <a:pt x="67" y="272"/>
                        </a:lnTo>
                        <a:lnTo>
                          <a:pt x="59" y="261"/>
                        </a:lnTo>
                        <a:lnTo>
                          <a:pt x="51" y="249"/>
                        </a:lnTo>
                        <a:lnTo>
                          <a:pt x="46" y="237"/>
                        </a:lnTo>
                        <a:lnTo>
                          <a:pt x="38" y="210"/>
                        </a:lnTo>
                        <a:lnTo>
                          <a:pt x="36" y="195"/>
                        </a:lnTo>
                        <a:lnTo>
                          <a:pt x="36" y="182"/>
                        </a:lnTo>
                        <a:lnTo>
                          <a:pt x="38" y="151"/>
                        </a:lnTo>
                        <a:lnTo>
                          <a:pt x="46" y="125"/>
                        </a:lnTo>
                        <a:lnTo>
                          <a:pt x="59" y="101"/>
                        </a:lnTo>
                        <a:lnTo>
                          <a:pt x="78" y="80"/>
                        </a:lnTo>
                        <a:lnTo>
                          <a:pt x="100" y="60"/>
                        </a:lnTo>
                        <a:lnTo>
                          <a:pt x="125" y="47"/>
                        </a:lnTo>
                        <a:lnTo>
                          <a:pt x="151" y="39"/>
                        </a:lnTo>
                        <a:lnTo>
                          <a:pt x="181" y="37"/>
                        </a:lnTo>
                        <a:lnTo>
                          <a:pt x="195" y="37"/>
                        </a:lnTo>
                        <a:lnTo>
                          <a:pt x="210" y="39"/>
                        </a:lnTo>
                        <a:lnTo>
                          <a:pt x="237" y="47"/>
                        </a:lnTo>
                        <a:lnTo>
                          <a:pt x="248" y="53"/>
                        </a:lnTo>
                        <a:lnTo>
                          <a:pt x="261" y="60"/>
                        </a:lnTo>
                        <a:lnTo>
                          <a:pt x="272" y="68"/>
                        </a:lnTo>
                        <a:lnTo>
                          <a:pt x="284" y="80"/>
                        </a:lnTo>
                        <a:lnTo>
                          <a:pt x="293" y="90"/>
                        </a:lnTo>
                        <a:lnTo>
                          <a:pt x="301" y="101"/>
                        </a:lnTo>
                        <a:lnTo>
                          <a:pt x="315" y="125"/>
                        </a:lnTo>
                        <a:lnTo>
                          <a:pt x="320" y="138"/>
                        </a:lnTo>
                        <a:lnTo>
                          <a:pt x="323" y="151"/>
                        </a:lnTo>
                        <a:lnTo>
                          <a:pt x="325" y="166"/>
                        </a:lnTo>
                        <a:lnTo>
                          <a:pt x="326" y="182"/>
                        </a:lnTo>
                        <a:lnTo>
                          <a:pt x="325" y="195"/>
                        </a:lnTo>
                        <a:lnTo>
                          <a:pt x="323" y="210"/>
                        </a:lnTo>
                        <a:lnTo>
                          <a:pt x="320" y="224"/>
                        </a:lnTo>
                        <a:lnTo>
                          <a:pt x="315" y="237"/>
                        </a:lnTo>
                        <a:lnTo>
                          <a:pt x="308" y="249"/>
                        </a:lnTo>
                        <a:lnTo>
                          <a:pt x="301" y="261"/>
                        </a:lnTo>
                        <a:lnTo>
                          <a:pt x="293" y="272"/>
                        </a:lnTo>
                        <a:lnTo>
                          <a:pt x="284" y="285"/>
                        </a:lnTo>
                        <a:lnTo>
                          <a:pt x="272" y="294"/>
                        </a:lnTo>
                        <a:lnTo>
                          <a:pt x="261" y="303"/>
                        </a:lnTo>
                        <a:lnTo>
                          <a:pt x="248" y="310"/>
                        </a:lnTo>
                        <a:lnTo>
                          <a:pt x="237" y="317"/>
                        </a:lnTo>
                        <a:lnTo>
                          <a:pt x="223" y="321"/>
                        </a:lnTo>
                        <a:lnTo>
                          <a:pt x="210" y="325"/>
                        </a:lnTo>
                        <a:lnTo>
                          <a:pt x="195" y="327"/>
                        </a:lnTo>
                        <a:lnTo>
                          <a:pt x="181" y="328"/>
                        </a:lnTo>
                        <a:lnTo>
                          <a:pt x="165" y="327"/>
                        </a:lnTo>
                        <a:lnTo>
                          <a:pt x="151" y="325"/>
                        </a:lnTo>
                        <a:lnTo>
                          <a:pt x="137" y="321"/>
                        </a:lnTo>
                        <a:lnTo>
                          <a:pt x="125" y="317"/>
                        </a:lnTo>
                        <a:lnTo>
                          <a:pt x="100" y="303"/>
                        </a:lnTo>
                        <a:lnTo>
                          <a:pt x="78" y="285"/>
                        </a:lnTo>
                        <a:close/>
                      </a:path>
                    </a:pathLst>
                  </a:custGeom>
                  <a:solidFill>
                    <a:srgbClr val="598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5886720" y="5673600"/>
                    <a:ext cx="7344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91">
                        <a:moveTo>
                          <a:pt x="0" y="145"/>
                        </a:moveTo>
                        <a:lnTo>
                          <a:pt x="0" y="158"/>
                        </a:lnTo>
                        <a:lnTo>
                          <a:pt x="2" y="173"/>
                        </a:lnTo>
                        <a:lnTo>
                          <a:pt x="10" y="200"/>
                        </a:lnTo>
                        <a:lnTo>
                          <a:pt x="15" y="212"/>
                        </a:lnTo>
                        <a:lnTo>
                          <a:pt x="23" y="224"/>
                        </a:lnTo>
                        <a:lnTo>
                          <a:pt x="31" y="235"/>
                        </a:lnTo>
                        <a:lnTo>
                          <a:pt x="42" y="248"/>
                        </a:lnTo>
                        <a:lnTo>
                          <a:pt x="64" y="266"/>
                        </a:lnTo>
                        <a:lnTo>
                          <a:pt x="89" y="280"/>
                        </a:lnTo>
                        <a:lnTo>
                          <a:pt x="101" y="284"/>
                        </a:lnTo>
                        <a:lnTo>
                          <a:pt x="115" y="288"/>
                        </a:lnTo>
                        <a:lnTo>
                          <a:pt x="129" y="290"/>
                        </a:lnTo>
                        <a:lnTo>
                          <a:pt x="145" y="291"/>
                        </a:lnTo>
                        <a:lnTo>
                          <a:pt x="159" y="290"/>
                        </a:lnTo>
                        <a:lnTo>
                          <a:pt x="174" y="288"/>
                        </a:lnTo>
                        <a:lnTo>
                          <a:pt x="187" y="284"/>
                        </a:lnTo>
                        <a:lnTo>
                          <a:pt x="201" y="280"/>
                        </a:lnTo>
                        <a:lnTo>
                          <a:pt x="212" y="273"/>
                        </a:lnTo>
                        <a:lnTo>
                          <a:pt x="225" y="266"/>
                        </a:lnTo>
                        <a:lnTo>
                          <a:pt x="236" y="257"/>
                        </a:lnTo>
                        <a:lnTo>
                          <a:pt x="248" y="248"/>
                        </a:lnTo>
                        <a:lnTo>
                          <a:pt x="257" y="235"/>
                        </a:lnTo>
                        <a:lnTo>
                          <a:pt x="265" y="224"/>
                        </a:lnTo>
                        <a:lnTo>
                          <a:pt x="272" y="212"/>
                        </a:lnTo>
                        <a:lnTo>
                          <a:pt x="279" y="200"/>
                        </a:lnTo>
                        <a:lnTo>
                          <a:pt x="284" y="187"/>
                        </a:lnTo>
                        <a:lnTo>
                          <a:pt x="287" y="173"/>
                        </a:lnTo>
                        <a:lnTo>
                          <a:pt x="289" y="158"/>
                        </a:lnTo>
                        <a:lnTo>
                          <a:pt x="290" y="145"/>
                        </a:lnTo>
                        <a:lnTo>
                          <a:pt x="289" y="129"/>
                        </a:lnTo>
                        <a:lnTo>
                          <a:pt x="287" y="114"/>
                        </a:lnTo>
                        <a:lnTo>
                          <a:pt x="284" y="101"/>
                        </a:lnTo>
                        <a:lnTo>
                          <a:pt x="279" y="88"/>
                        </a:lnTo>
                        <a:lnTo>
                          <a:pt x="265" y="64"/>
                        </a:lnTo>
                        <a:lnTo>
                          <a:pt x="257" y="53"/>
                        </a:lnTo>
                        <a:lnTo>
                          <a:pt x="248" y="43"/>
                        </a:lnTo>
                        <a:lnTo>
                          <a:pt x="236" y="31"/>
                        </a:lnTo>
                        <a:lnTo>
                          <a:pt x="225" y="23"/>
                        </a:lnTo>
                        <a:lnTo>
                          <a:pt x="212" y="16"/>
                        </a:lnTo>
                        <a:lnTo>
                          <a:pt x="201" y="10"/>
                        </a:lnTo>
                        <a:lnTo>
                          <a:pt x="174" y="2"/>
                        </a:lnTo>
                        <a:lnTo>
                          <a:pt x="159" y="0"/>
                        </a:lnTo>
                        <a:lnTo>
                          <a:pt x="145" y="0"/>
                        </a:lnTo>
                        <a:lnTo>
                          <a:pt x="115" y="2"/>
                        </a:lnTo>
                        <a:lnTo>
                          <a:pt x="89" y="10"/>
                        </a:lnTo>
                        <a:lnTo>
                          <a:pt x="64" y="23"/>
                        </a:lnTo>
                        <a:lnTo>
                          <a:pt x="42" y="43"/>
                        </a:lnTo>
                        <a:lnTo>
                          <a:pt x="23" y="64"/>
                        </a:lnTo>
                        <a:lnTo>
                          <a:pt x="10" y="88"/>
                        </a:lnTo>
                        <a:lnTo>
                          <a:pt x="2" y="114"/>
                        </a:lnTo>
                        <a:lnTo>
                          <a:pt x="0" y="145"/>
                        </a:lnTo>
                        <a:close/>
                        <a:moveTo>
                          <a:pt x="68" y="222"/>
                        </a:moveTo>
                        <a:lnTo>
                          <a:pt x="53" y="205"/>
                        </a:lnTo>
                        <a:lnTo>
                          <a:pt x="44" y="187"/>
                        </a:lnTo>
                        <a:lnTo>
                          <a:pt x="37" y="166"/>
                        </a:lnTo>
                        <a:lnTo>
                          <a:pt x="36" y="145"/>
                        </a:lnTo>
                        <a:lnTo>
                          <a:pt x="37" y="122"/>
                        </a:lnTo>
                        <a:lnTo>
                          <a:pt x="44" y="103"/>
                        </a:lnTo>
                        <a:lnTo>
                          <a:pt x="53" y="84"/>
                        </a:lnTo>
                        <a:lnTo>
                          <a:pt x="68" y="68"/>
                        </a:lnTo>
                        <a:lnTo>
                          <a:pt x="84" y="53"/>
                        </a:lnTo>
                        <a:lnTo>
                          <a:pt x="103" y="44"/>
                        </a:lnTo>
                        <a:lnTo>
                          <a:pt x="123" y="37"/>
                        </a:lnTo>
                        <a:lnTo>
                          <a:pt x="145" y="36"/>
                        </a:lnTo>
                        <a:lnTo>
                          <a:pt x="167" y="37"/>
                        </a:lnTo>
                        <a:lnTo>
                          <a:pt x="187" y="44"/>
                        </a:lnTo>
                        <a:lnTo>
                          <a:pt x="205" y="53"/>
                        </a:lnTo>
                        <a:lnTo>
                          <a:pt x="222" y="68"/>
                        </a:lnTo>
                        <a:lnTo>
                          <a:pt x="236" y="84"/>
                        </a:lnTo>
                        <a:lnTo>
                          <a:pt x="246" y="103"/>
                        </a:lnTo>
                        <a:lnTo>
                          <a:pt x="252" y="122"/>
                        </a:lnTo>
                        <a:lnTo>
                          <a:pt x="254" y="145"/>
                        </a:lnTo>
                        <a:lnTo>
                          <a:pt x="253" y="149"/>
                        </a:lnTo>
                        <a:lnTo>
                          <a:pt x="253" y="155"/>
                        </a:lnTo>
                        <a:lnTo>
                          <a:pt x="252" y="166"/>
                        </a:lnTo>
                        <a:lnTo>
                          <a:pt x="246" y="187"/>
                        </a:lnTo>
                        <a:lnTo>
                          <a:pt x="236" y="205"/>
                        </a:lnTo>
                        <a:lnTo>
                          <a:pt x="229" y="213"/>
                        </a:lnTo>
                        <a:lnTo>
                          <a:pt x="222" y="222"/>
                        </a:lnTo>
                        <a:lnTo>
                          <a:pt x="213" y="229"/>
                        </a:lnTo>
                        <a:lnTo>
                          <a:pt x="205" y="235"/>
                        </a:lnTo>
                        <a:lnTo>
                          <a:pt x="187" y="246"/>
                        </a:lnTo>
                        <a:lnTo>
                          <a:pt x="167" y="251"/>
                        </a:lnTo>
                        <a:lnTo>
                          <a:pt x="155" y="252"/>
                        </a:lnTo>
                        <a:lnTo>
                          <a:pt x="150" y="252"/>
                        </a:lnTo>
                        <a:lnTo>
                          <a:pt x="145" y="254"/>
                        </a:lnTo>
                        <a:lnTo>
                          <a:pt x="123" y="251"/>
                        </a:lnTo>
                        <a:lnTo>
                          <a:pt x="103" y="246"/>
                        </a:lnTo>
                        <a:lnTo>
                          <a:pt x="84" y="235"/>
                        </a:lnTo>
                        <a:lnTo>
                          <a:pt x="68" y="222"/>
                        </a:lnTo>
                        <a:close/>
                      </a:path>
                    </a:pathLst>
                  </a:custGeom>
                  <a:solidFill>
                    <a:srgbClr val="5c8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5895720" y="5682960"/>
                    <a:ext cx="550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18">
                        <a:moveTo>
                          <a:pt x="0" y="109"/>
                        </a:moveTo>
                        <a:lnTo>
                          <a:pt x="1" y="130"/>
                        </a:lnTo>
                        <a:lnTo>
                          <a:pt x="8" y="151"/>
                        </a:lnTo>
                        <a:lnTo>
                          <a:pt x="17" y="169"/>
                        </a:lnTo>
                        <a:lnTo>
                          <a:pt x="32" y="186"/>
                        </a:lnTo>
                        <a:lnTo>
                          <a:pt x="48" y="199"/>
                        </a:lnTo>
                        <a:lnTo>
                          <a:pt x="67" y="210"/>
                        </a:lnTo>
                        <a:lnTo>
                          <a:pt x="87" y="215"/>
                        </a:lnTo>
                        <a:lnTo>
                          <a:pt x="109" y="218"/>
                        </a:lnTo>
                        <a:lnTo>
                          <a:pt x="114" y="216"/>
                        </a:lnTo>
                        <a:lnTo>
                          <a:pt x="119" y="216"/>
                        </a:lnTo>
                        <a:lnTo>
                          <a:pt x="131" y="215"/>
                        </a:lnTo>
                        <a:lnTo>
                          <a:pt x="151" y="210"/>
                        </a:lnTo>
                        <a:lnTo>
                          <a:pt x="169" y="199"/>
                        </a:lnTo>
                        <a:lnTo>
                          <a:pt x="177" y="193"/>
                        </a:lnTo>
                        <a:lnTo>
                          <a:pt x="186" y="186"/>
                        </a:lnTo>
                        <a:lnTo>
                          <a:pt x="193" y="177"/>
                        </a:lnTo>
                        <a:lnTo>
                          <a:pt x="200" y="169"/>
                        </a:lnTo>
                        <a:lnTo>
                          <a:pt x="210" y="151"/>
                        </a:lnTo>
                        <a:lnTo>
                          <a:pt x="216" y="130"/>
                        </a:lnTo>
                        <a:lnTo>
                          <a:pt x="217" y="119"/>
                        </a:lnTo>
                        <a:lnTo>
                          <a:pt x="217" y="113"/>
                        </a:lnTo>
                        <a:lnTo>
                          <a:pt x="218" y="109"/>
                        </a:lnTo>
                        <a:lnTo>
                          <a:pt x="216" y="86"/>
                        </a:lnTo>
                        <a:lnTo>
                          <a:pt x="210" y="67"/>
                        </a:lnTo>
                        <a:lnTo>
                          <a:pt x="200" y="48"/>
                        </a:lnTo>
                        <a:lnTo>
                          <a:pt x="186" y="32"/>
                        </a:lnTo>
                        <a:lnTo>
                          <a:pt x="169" y="17"/>
                        </a:lnTo>
                        <a:lnTo>
                          <a:pt x="151" y="8"/>
                        </a:lnTo>
                        <a:lnTo>
                          <a:pt x="131" y="1"/>
                        </a:lnTo>
                        <a:lnTo>
                          <a:pt x="109" y="0"/>
                        </a:lnTo>
                        <a:lnTo>
                          <a:pt x="87" y="1"/>
                        </a:lnTo>
                        <a:lnTo>
                          <a:pt x="67" y="8"/>
                        </a:lnTo>
                        <a:lnTo>
                          <a:pt x="48" y="17"/>
                        </a:lnTo>
                        <a:lnTo>
                          <a:pt x="32" y="32"/>
                        </a:lnTo>
                        <a:lnTo>
                          <a:pt x="17" y="48"/>
                        </a:lnTo>
                        <a:lnTo>
                          <a:pt x="8" y="67"/>
                        </a:lnTo>
                        <a:lnTo>
                          <a:pt x="1" y="86"/>
                        </a:lnTo>
                        <a:lnTo>
                          <a:pt x="0" y="109"/>
                        </a:lnTo>
                        <a:close/>
                        <a:moveTo>
                          <a:pt x="109" y="36"/>
                        </a:moveTo>
                        <a:lnTo>
                          <a:pt x="123" y="37"/>
                        </a:lnTo>
                        <a:lnTo>
                          <a:pt x="136" y="41"/>
                        </a:lnTo>
                        <a:lnTo>
                          <a:pt x="142" y="43"/>
                        </a:lnTo>
                        <a:lnTo>
                          <a:pt x="149" y="48"/>
                        </a:lnTo>
                        <a:lnTo>
                          <a:pt x="160" y="58"/>
                        </a:lnTo>
                        <a:lnTo>
                          <a:pt x="168" y="68"/>
                        </a:lnTo>
                        <a:lnTo>
                          <a:pt x="176" y="80"/>
                        </a:lnTo>
                        <a:lnTo>
                          <a:pt x="180" y="94"/>
                        </a:lnTo>
                        <a:lnTo>
                          <a:pt x="182" y="109"/>
                        </a:lnTo>
                        <a:lnTo>
                          <a:pt x="180" y="122"/>
                        </a:lnTo>
                        <a:lnTo>
                          <a:pt x="176" y="136"/>
                        </a:lnTo>
                        <a:lnTo>
                          <a:pt x="172" y="142"/>
                        </a:lnTo>
                        <a:lnTo>
                          <a:pt x="168" y="148"/>
                        </a:lnTo>
                        <a:lnTo>
                          <a:pt x="164" y="154"/>
                        </a:lnTo>
                        <a:lnTo>
                          <a:pt x="160" y="161"/>
                        </a:lnTo>
                        <a:lnTo>
                          <a:pt x="149" y="169"/>
                        </a:lnTo>
                        <a:lnTo>
                          <a:pt x="142" y="172"/>
                        </a:lnTo>
                        <a:lnTo>
                          <a:pt x="140" y="172"/>
                        </a:lnTo>
                        <a:lnTo>
                          <a:pt x="139" y="172"/>
                        </a:lnTo>
                        <a:lnTo>
                          <a:pt x="139" y="173"/>
                        </a:lnTo>
                        <a:lnTo>
                          <a:pt x="136" y="176"/>
                        </a:lnTo>
                        <a:lnTo>
                          <a:pt x="123" y="179"/>
                        </a:lnTo>
                        <a:lnTo>
                          <a:pt x="109" y="181"/>
                        </a:lnTo>
                        <a:lnTo>
                          <a:pt x="94" y="179"/>
                        </a:lnTo>
                        <a:lnTo>
                          <a:pt x="81" y="176"/>
                        </a:lnTo>
                        <a:lnTo>
                          <a:pt x="68" y="169"/>
                        </a:lnTo>
                        <a:lnTo>
                          <a:pt x="58" y="161"/>
                        </a:lnTo>
                        <a:lnTo>
                          <a:pt x="48" y="148"/>
                        </a:lnTo>
                        <a:lnTo>
                          <a:pt x="43" y="142"/>
                        </a:lnTo>
                        <a:lnTo>
                          <a:pt x="41" y="136"/>
                        </a:lnTo>
                        <a:lnTo>
                          <a:pt x="38" y="122"/>
                        </a:lnTo>
                        <a:lnTo>
                          <a:pt x="37" y="109"/>
                        </a:lnTo>
                        <a:lnTo>
                          <a:pt x="38" y="94"/>
                        </a:lnTo>
                        <a:lnTo>
                          <a:pt x="41" y="80"/>
                        </a:lnTo>
                        <a:lnTo>
                          <a:pt x="48" y="68"/>
                        </a:lnTo>
                        <a:lnTo>
                          <a:pt x="58" y="58"/>
                        </a:lnTo>
                        <a:lnTo>
                          <a:pt x="68" y="48"/>
                        </a:lnTo>
                        <a:lnTo>
                          <a:pt x="81" y="41"/>
                        </a:lnTo>
                        <a:lnTo>
                          <a:pt x="94" y="37"/>
                        </a:lnTo>
                        <a:lnTo>
                          <a:pt x="109" y="36"/>
                        </a:lnTo>
                        <a:close/>
                      </a:path>
                    </a:pathLst>
                  </a:custGeom>
                  <a:solidFill>
                    <a:srgbClr val="5f8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5905080" y="5692320"/>
                    <a:ext cx="37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45">
                        <a:moveTo>
                          <a:pt x="123" y="22"/>
                        </a:moveTo>
                        <a:lnTo>
                          <a:pt x="112" y="12"/>
                        </a:lnTo>
                        <a:lnTo>
                          <a:pt x="105" y="7"/>
                        </a:lnTo>
                        <a:lnTo>
                          <a:pt x="99" y="5"/>
                        </a:lnTo>
                        <a:lnTo>
                          <a:pt x="86" y="1"/>
                        </a:lnTo>
                        <a:lnTo>
                          <a:pt x="72" y="0"/>
                        </a:lnTo>
                        <a:lnTo>
                          <a:pt x="57" y="1"/>
                        </a:lnTo>
                        <a:lnTo>
                          <a:pt x="44" y="5"/>
                        </a:lnTo>
                        <a:lnTo>
                          <a:pt x="31" y="12"/>
                        </a:lnTo>
                        <a:lnTo>
                          <a:pt x="21" y="22"/>
                        </a:lnTo>
                        <a:lnTo>
                          <a:pt x="11" y="32"/>
                        </a:lnTo>
                        <a:lnTo>
                          <a:pt x="4" y="44"/>
                        </a:lnTo>
                        <a:lnTo>
                          <a:pt x="1" y="58"/>
                        </a:lnTo>
                        <a:lnTo>
                          <a:pt x="0" y="73"/>
                        </a:lnTo>
                        <a:lnTo>
                          <a:pt x="1" y="86"/>
                        </a:lnTo>
                        <a:lnTo>
                          <a:pt x="4" y="100"/>
                        </a:lnTo>
                        <a:lnTo>
                          <a:pt x="6" y="106"/>
                        </a:lnTo>
                        <a:lnTo>
                          <a:pt x="11" y="112"/>
                        </a:lnTo>
                        <a:lnTo>
                          <a:pt x="21" y="125"/>
                        </a:lnTo>
                        <a:lnTo>
                          <a:pt x="31" y="133"/>
                        </a:lnTo>
                        <a:lnTo>
                          <a:pt x="44" y="140"/>
                        </a:lnTo>
                        <a:lnTo>
                          <a:pt x="57" y="143"/>
                        </a:lnTo>
                        <a:lnTo>
                          <a:pt x="72" y="145"/>
                        </a:lnTo>
                        <a:lnTo>
                          <a:pt x="86" y="143"/>
                        </a:lnTo>
                        <a:lnTo>
                          <a:pt x="99" y="140"/>
                        </a:lnTo>
                        <a:lnTo>
                          <a:pt x="102" y="137"/>
                        </a:lnTo>
                        <a:lnTo>
                          <a:pt x="102" y="136"/>
                        </a:lnTo>
                        <a:lnTo>
                          <a:pt x="103" y="136"/>
                        </a:lnTo>
                        <a:lnTo>
                          <a:pt x="105" y="136"/>
                        </a:lnTo>
                        <a:lnTo>
                          <a:pt x="112" y="133"/>
                        </a:lnTo>
                        <a:lnTo>
                          <a:pt x="123" y="125"/>
                        </a:lnTo>
                        <a:lnTo>
                          <a:pt x="127" y="118"/>
                        </a:lnTo>
                        <a:lnTo>
                          <a:pt x="131" y="112"/>
                        </a:lnTo>
                        <a:lnTo>
                          <a:pt x="135" y="106"/>
                        </a:lnTo>
                        <a:lnTo>
                          <a:pt x="139" y="100"/>
                        </a:lnTo>
                        <a:lnTo>
                          <a:pt x="143" y="86"/>
                        </a:lnTo>
                        <a:lnTo>
                          <a:pt x="145" y="73"/>
                        </a:lnTo>
                        <a:lnTo>
                          <a:pt x="143" y="58"/>
                        </a:lnTo>
                        <a:lnTo>
                          <a:pt x="139" y="44"/>
                        </a:lnTo>
                        <a:lnTo>
                          <a:pt x="131" y="32"/>
                        </a:lnTo>
                        <a:lnTo>
                          <a:pt x="123" y="22"/>
                        </a:lnTo>
                        <a:close/>
                        <a:moveTo>
                          <a:pt x="72" y="36"/>
                        </a:moveTo>
                        <a:lnTo>
                          <a:pt x="79" y="36"/>
                        </a:lnTo>
                        <a:lnTo>
                          <a:pt x="86" y="39"/>
                        </a:lnTo>
                        <a:lnTo>
                          <a:pt x="92" y="42"/>
                        </a:lnTo>
                        <a:lnTo>
                          <a:pt x="98" y="48"/>
                        </a:lnTo>
                        <a:lnTo>
                          <a:pt x="105" y="58"/>
                        </a:lnTo>
                        <a:lnTo>
                          <a:pt x="107" y="65"/>
                        </a:lnTo>
                        <a:lnTo>
                          <a:pt x="109" y="73"/>
                        </a:lnTo>
                        <a:lnTo>
                          <a:pt x="107" y="80"/>
                        </a:lnTo>
                        <a:lnTo>
                          <a:pt x="105" y="86"/>
                        </a:lnTo>
                        <a:lnTo>
                          <a:pt x="103" y="89"/>
                        </a:lnTo>
                        <a:lnTo>
                          <a:pt x="102" y="89"/>
                        </a:lnTo>
                        <a:lnTo>
                          <a:pt x="102" y="90"/>
                        </a:lnTo>
                        <a:lnTo>
                          <a:pt x="102" y="92"/>
                        </a:lnTo>
                        <a:lnTo>
                          <a:pt x="98" y="99"/>
                        </a:lnTo>
                        <a:lnTo>
                          <a:pt x="92" y="102"/>
                        </a:lnTo>
                        <a:lnTo>
                          <a:pt x="89" y="102"/>
                        </a:lnTo>
                        <a:lnTo>
                          <a:pt x="88" y="102"/>
                        </a:lnTo>
                        <a:lnTo>
                          <a:pt x="88" y="103"/>
                        </a:lnTo>
                        <a:lnTo>
                          <a:pt x="86" y="106"/>
                        </a:lnTo>
                        <a:lnTo>
                          <a:pt x="79" y="108"/>
                        </a:lnTo>
                        <a:lnTo>
                          <a:pt x="72" y="109"/>
                        </a:lnTo>
                        <a:lnTo>
                          <a:pt x="64" y="108"/>
                        </a:lnTo>
                        <a:lnTo>
                          <a:pt x="57" y="106"/>
                        </a:lnTo>
                        <a:lnTo>
                          <a:pt x="46" y="99"/>
                        </a:lnTo>
                        <a:lnTo>
                          <a:pt x="40" y="92"/>
                        </a:lnTo>
                        <a:lnTo>
                          <a:pt x="38" y="86"/>
                        </a:lnTo>
                        <a:lnTo>
                          <a:pt x="36" y="80"/>
                        </a:lnTo>
                        <a:lnTo>
                          <a:pt x="36" y="73"/>
                        </a:lnTo>
                        <a:lnTo>
                          <a:pt x="38" y="58"/>
                        </a:lnTo>
                        <a:lnTo>
                          <a:pt x="46" y="48"/>
                        </a:lnTo>
                        <a:lnTo>
                          <a:pt x="57" y="39"/>
                        </a:lnTo>
                        <a:lnTo>
                          <a:pt x="72" y="36"/>
                        </a:lnTo>
                        <a:close/>
                      </a:path>
                    </a:pathLst>
                  </a:custGeom>
                  <a:solidFill>
                    <a:srgbClr val="629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5914080" y="5701680"/>
                    <a:ext cx="187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73">
                        <a:moveTo>
                          <a:pt x="62" y="12"/>
                        </a:moveTo>
                        <a:lnTo>
                          <a:pt x="56" y="6"/>
                        </a:lnTo>
                        <a:lnTo>
                          <a:pt x="50" y="3"/>
                        </a:ln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1" y="3"/>
                        </a:lnTo>
                        <a:lnTo>
                          <a:pt x="10" y="12"/>
                        </a:lnTo>
                        <a:lnTo>
                          <a:pt x="2" y="22"/>
                        </a:lnTo>
                        <a:lnTo>
                          <a:pt x="0" y="37"/>
                        </a:lnTo>
                        <a:lnTo>
                          <a:pt x="0" y="44"/>
                        </a:lnTo>
                        <a:lnTo>
                          <a:pt x="2" y="50"/>
                        </a:lnTo>
                        <a:lnTo>
                          <a:pt x="4" y="56"/>
                        </a:lnTo>
                        <a:lnTo>
                          <a:pt x="10" y="63"/>
                        </a:lnTo>
                        <a:lnTo>
                          <a:pt x="21" y="70"/>
                        </a:lnTo>
                        <a:lnTo>
                          <a:pt x="28" y="72"/>
                        </a:lnTo>
                        <a:lnTo>
                          <a:pt x="36" y="73"/>
                        </a:lnTo>
                        <a:lnTo>
                          <a:pt x="43" y="72"/>
                        </a:lnTo>
                        <a:lnTo>
                          <a:pt x="50" y="70"/>
                        </a:lnTo>
                        <a:lnTo>
                          <a:pt x="52" y="67"/>
                        </a:lnTo>
                        <a:lnTo>
                          <a:pt x="52" y="66"/>
                        </a:lnTo>
                        <a:lnTo>
                          <a:pt x="53" y="66"/>
                        </a:lnTo>
                        <a:lnTo>
                          <a:pt x="56" y="66"/>
                        </a:lnTo>
                        <a:lnTo>
                          <a:pt x="62" y="63"/>
                        </a:lnTo>
                        <a:lnTo>
                          <a:pt x="66" y="56"/>
                        </a:lnTo>
                        <a:lnTo>
                          <a:pt x="66" y="54"/>
                        </a:lnTo>
                        <a:lnTo>
                          <a:pt x="66" y="53"/>
                        </a:lnTo>
                        <a:lnTo>
                          <a:pt x="67" y="53"/>
                        </a:lnTo>
                        <a:lnTo>
                          <a:pt x="69" y="50"/>
                        </a:lnTo>
                        <a:lnTo>
                          <a:pt x="71" y="44"/>
                        </a:lnTo>
                        <a:lnTo>
                          <a:pt x="73" y="37"/>
                        </a:lnTo>
                        <a:lnTo>
                          <a:pt x="71" y="29"/>
                        </a:lnTo>
                        <a:lnTo>
                          <a:pt x="69" y="22"/>
                        </a:lnTo>
                        <a:lnTo>
                          <a:pt x="62" y="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5646600" y="5786640"/>
                    <a:ext cx="7956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519">
                        <a:moveTo>
                          <a:pt x="314" y="519"/>
                        </a:moveTo>
                        <a:lnTo>
                          <a:pt x="292" y="498"/>
                        </a:lnTo>
                        <a:lnTo>
                          <a:pt x="238" y="441"/>
                        </a:lnTo>
                        <a:lnTo>
                          <a:pt x="213" y="411"/>
                        </a:lnTo>
                        <a:lnTo>
                          <a:pt x="190" y="383"/>
                        </a:lnTo>
                        <a:lnTo>
                          <a:pt x="167" y="352"/>
                        </a:lnTo>
                        <a:lnTo>
                          <a:pt x="147" y="323"/>
                        </a:lnTo>
                        <a:lnTo>
                          <a:pt x="127" y="292"/>
                        </a:lnTo>
                        <a:lnTo>
                          <a:pt x="108" y="263"/>
                        </a:lnTo>
                        <a:lnTo>
                          <a:pt x="74" y="199"/>
                        </a:lnTo>
                        <a:lnTo>
                          <a:pt x="59" y="167"/>
                        </a:lnTo>
                        <a:lnTo>
                          <a:pt x="45" y="135"/>
                        </a:lnTo>
                        <a:lnTo>
                          <a:pt x="31" y="101"/>
                        </a:lnTo>
                        <a:lnTo>
                          <a:pt x="20" y="68"/>
                        </a:lnTo>
                        <a:lnTo>
                          <a:pt x="0" y="0"/>
                        </a:lnTo>
                        <a:lnTo>
                          <a:pt x="5" y="59"/>
                        </a:lnTo>
                        <a:lnTo>
                          <a:pt x="10" y="87"/>
                        </a:lnTo>
                        <a:lnTo>
                          <a:pt x="17" y="117"/>
                        </a:lnTo>
                        <a:lnTo>
                          <a:pt x="23" y="144"/>
                        </a:lnTo>
                        <a:lnTo>
                          <a:pt x="32" y="172"/>
                        </a:lnTo>
                        <a:lnTo>
                          <a:pt x="55" y="227"/>
                        </a:lnTo>
                        <a:lnTo>
                          <a:pt x="66" y="252"/>
                        </a:lnTo>
                        <a:lnTo>
                          <a:pt x="81" y="278"/>
                        </a:lnTo>
                        <a:lnTo>
                          <a:pt x="113" y="328"/>
                        </a:lnTo>
                        <a:lnTo>
                          <a:pt x="149" y="375"/>
                        </a:lnTo>
                        <a:lnTo>
                          <a:pt x="170" y="398"/>
                        </a:lnTo>
                        <a:lnTo>
                          <a:pt x="192" y="422"/>
                        </a:lnTo>
                        <a:lnTo>
                          <a:pt x="221" y="448"/>
                        </a:lnTo>
                        <a:lnTo>
                          <a:pt x="251" y="474"/>
                        </a:lnTo>
                        <a:lnTo>
                          <a:pt x="282" y="498"/>
                        </a:lnTo>
                        <a:lnTo>
                          <a:pt x="314" y="519"/>
                        </a:lnTo>
                        <a:close/>
                      </a:path>
                    </a:pathLst>
                  </a:custGeom>
                  <a:solidFill>
                    <a:srgbClr val="020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5646240" y="5746320"/>
                    <a:ext cx="1134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740">
                        <a:moveTo>
                          <a:pt x="295" y="658"/>
                        </a:moveTo>
                        <a:lnTo>
                          <a:pt x="317" y="679"/>
                        </a:lnTo>
                        <a:lnTo>
                          <a:pt x="347" y="696"/>
                        </a:lnTo>
                        <a:lnTo>
                          <a:pt x="379" y="713"/>
                        </a:lnTo>
                        <a:lnTo>
                          <a:pt x="412" y="728"/>
                        </a:lnTo>
                        <a:lnTo>
                          <a:pt x="446" y="740"/>
                        </a:lnTo>
                        <a:lnTo>
                          <a:pt x="381" y="688"/>
                        </a:lnTo>
                        <a:lnTo>
                          <a:pt x="350" y="660"/>
                        </a:lnTo>
                        <a:lnTo>
                          <a:pt x="320" y="631"/>
                        </a:lnTo>
                        <a:lnTo>
                          <a:pt x="286" y="596"/>
                        </a:lnTo>
                        <a:lnTo>
                          <a:pt x="255" y="561"/>
                        </a:lnTo>
                        <a:lnTo>
                          <a:pt x="225" y="525"/>
                        </a:lnTo>
                        <a:lnTo>
                          <a:pt x="199" y="490"/>
                        </a:lnTo>
                        <a:lnTo>
                          <a:pt x="173" y="452"/>
                        </a:lnTo>
                        <a:lnTo>
                          <a:pt x="149" y="415"/>
                        </a:lnTo>
                        <a:lnTo>
                          <a:pt x="126" y="376"/>
                        </a:lnTo>
                        <a:lnTo>
                          <a:pt x="107" y="339"/>
                        </a:lnTo>
                        <a:lnTo>
                          <a:pt x="88" y="298"/>
                        </a:lnTo>
                        <a:lnTo>
                          <a:pt x="72" y="257"/>
                        </a:lnTo>
                        <a:lnTo>
                          <a:pt x="56" y="216"/>
                        </a:lnTo>
                        <a:lnTo>
                          <a:pt x="43" y="175"/>
                        </a:lnTo>
                        <a:lnTo>
                          <a:pt x="31" y="132"/>
                        </a:lnTo>
                        <a:lnTo>
                          <a:pt x="22" y="89"/>
                        </a:lnTo>
                        <a:lnTo>
                          <a:pt x="14" y="44"/>
                        </a:lnTo>
                        <a:lnTo>
                          <a:pt x="9" y="0"/>
                        </a:lnTo>
                        <a:lnTo>
                          <a:pt x="3" y="55"/>
                        </a:lnTo>
                        <a:lnTo>
                          <a:pt x="0" y="112"/>
                        </a:lnTo>
                        <a:lnTo>
                          <a:pt x="3" y="160"/>
                        </a:lnTo>
                        <a:lnTo>
                          <a:pt x="23" y="228"/>
                        </a:lnTo>
                        <a:lnTo>
                          <a:pt x="34" y="261"/>
                        </a:lnTo>
                        <a:lnTo>
                          <a:pt x="48" y="295"/>
                        </a:lnTo>
                        <a:lnTo>
                          <a:pt x="62" y="327"/>
                        </a:lnTo>
                        <a:lnTo>
                          <a:pt x="77" y="359"/>
                        </a:lnTo>
                        <a:lnTo>
                          <a:pt x="111" y="423"/>
                        </a:lnTo>
                        <a:lnTo>
                          <a:pt x="130" y="452"/>
                        </a:lnTo>
                        <a:lnTo>
                          <a:pt x="150" y="483"/>
                        </a:lnTo>
                        <a:lnTo>
                          <a:pt x="170" y="512"/>
                        </a:lnTo>
                        <a:lnTo>
                          <a:pt x="193" y="543"/>
                        </a:lnTo>
                        <a:lnTo>
                          <a:pt x="216" y="571"/>
                        </a:lnTo>
                        <a:lnTo>
                          <a:pt x="241" y="601"/>
                        </a:lnTo>
                        <a:lnTo>
                          <a:pt x="295" y="658"/>
                        </a:lnTo>
                        <a:close/>
                      </a:path>
                    </a:pathLst>
                  </a:custGeom>
                  <a:solidFill>
                    <a:srgbClr val="060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648760" y="5717520"/>
                    <a:ext cx="13680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9" h="878">
                        <a:moveTo>
                          <a:pt x="311" y="743"/>
                        </a:moveTo>
                        <a:lnTo>
                          <a:pt x="341" y="772"/>
                        </a:lnTo>
                        <a:lnTo>
                          <a:pt x="372" y="800"/>
                        </a:lnTo>
                        <a:lnTo>
                          <a:pt x="437" y="852"/>
                        </a:lnTo>
                        <a:lnTo>
                          <a:pt x="486" y="867"/>
                        </a:lnTo>
                        <a:lnTo>
                          <a:pt x="539" y="878"/>
                        </a:lnTo>
                        <a:lnTo>
                          <a:pt x="485" y="843"/>
                        </a:lnTo>
                        <a:lnTo>
                          <a:pt x="434" y="805"/>
                        </a:lnTo>
                        <a:lnTo>
                          <a:pt x="384" y="763"/>
                        </a:lnTo>
                        <a:lnTo>
                          <a:pt x="337" y="717"/>
                        </a:lnTo>
                        <a:lnTo>
                          <a:pt x="300" y="679"/>
                        </a:lnTo>
                        <a:lnTo>
                          <a:pt x="267" y="640"/>
                        </a:lnTo>
                        <a:lnTo>
                          <a:pt x="234" y="600"/>
                        </a:lnTo>
                        <a:lnTo>
                          <a:pt x="206" y="560"/>
                        </a:lnTo>
                        <a:lnTo>
                          <a:pt x="177" y="518"/>
                        </a:lnTo>
                        <a:lnTo>
                          <a:pt x="153" y="476"/>
                        </a:lnTo>
                        <a:lnTo>
                          <a:pt x="130" y="432"/>
                        </a:lnTo>
                        <a:lnTo>
                          <a:pt x="110" y="389"/>
                        </a:lnTo>
                        <a:lnTo>
                          <a:pt x="91" y="342"/>
                        </a:lnTo>
                        <a:lnTo>
                          <a:pt x="76" y="297"/>
                        </a:lnTo>
                        <a:lnTo>
                          <a:pt x="62" y="249"/>
                        </a:lnTo>
                        <a:lnTo>
                          <a:pt x="51" y="202"/>
                        </a:lnTo>
                        <a:lnTo>
                          <a:pt x="41" y="152"/>
                        </a:lnTo>
                        <a:lnTo>
                          <a:pt x="36" y="102"/>
                        </a:lnTo>
                        <a:lnTo>
                          <a:pt x="30" y="51"/>
                        </a:lnTo>
                        <a:lnTo>
                          <a:pt x="29" y="0"/>
                        </a:lnTo>
                        <a:lnTo>
                          <a:pt x="12" y="54"/>
                        </a:lnTo>
                        <a:lnTo>
                          <a:pt x="0" y="112"/>
                        </a:lnTo>
                        <a:lnTo>
                          <a:pt x="5" y="156"/>
                        </a:lnTo>
                        <a:lnTo>
                          <a:pt x="13" y="201"/>
                        </a:lnTo>
                        <a:lnTo>
                          <a:pt x="22" y="244"/>
                        </a:lnTo>
                        <a:lnTo>
                          <a:pt x="34" y="287"/>
                        </a:lnTo>
                        <a:lnTo>
                          <a:pt x="47" y="328"/>
                        </a:lnTo>
                        <a:lnTo>
                          <a:pt x="63" y="369"/>
                        </a:lnTo>
                        <a:lnTo>
                          <a:pt x="79" y="410"/>
                        </a:lnTo>
                        <a:lnTo>
                          <a:pt x="98" y="451"/>
                        </a:lnTo>
                        <a:lnTo>
                          <a:pt x="117" y="488"/>
                        </a:lnTo>
                        <a:lnTo>
                          <a:pt x="140" y="527"/>
                        </a:lnTo>
                        <a:lnTo>
                          <a:pt x="164" y="564"/>
                        </a:lnTo>
                        <a:lnTo>
                          <a:pt x="190" y="602"/>
                        </a:lnTo>
                        <a:lnTo>
                          <a:pt x="216" y="637"/>
                        </a:lnTo>
                        <a:lnTo>
                          <a:pt x="246" y="673"/>
                        </a:lnTo>
                        <a:lnTo>
                          <a:pt x="277" y="708"/>
                        </a:lnTo>
                        <a:lnTo>
                          <a:pt x="311" y="743"/>
                        </a:lnTo>
                        <a:close/>
                      </a:path>
                    </a:pathLst>
                  </a:custGeom>
                  <a:solidFill>
                    <a:srgbClr val="090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5646240" y="5606280"/>
                    <a:ext cx="338040" cy="33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9" h="1327">
                        <a:moveTo>
                          <a:pt x="195" y="194"/>
                        </a:moveTo>
                        <a:lnTo>
                          <a:pt x="149" y="243"/>
                        </a:lnTo>
                        <a:lnTo>
                          <a:pt x="109" y="296"/>
                        </a:lnTo>
                        <a:lnTo>
                          <a:pt x="91" y="322"/>
                        </a:lnTo>
                        <a:lnTo>
                          <a:pt x="75" y="350"/>
                        </a:lnTo>
                        <a:lnTo>
                          <a:pt x="49" y="408"/>
                        </a:lnTo>
                        <a:lnTo>
                          <a:pt x="26" y="468"/>
                        </a:lnTo>
                        <a:lnTo>
                          <a:pt x="12" y="531"/>
                        </a:lnTo>
                        <a:lnTo>
                          <a:pt x="3" y="595"/>
                        </a:lnTo>
                        <a:lnTo>
                          <a:pt x="0" y="664"/>
                        </a:lnTo>
                        <a:lnTo>
                          <a:pt x="0" y="697"/>
                        </a:lnTo>
                        <a:lnTo>
                          <a:pt x="3" y="731"/>
                        </a:lnTo>
                        <a:lnTo>
                          <a:pt x="6" y="763"/>
                        </a:lnTo>
                        <a:lnTo>
                          <a:pt x="12" y="796"/>
                        </a:lnTo>
                        <a:lnTo>
                          <a:pt x="17" y="826"/>
                        </a:lnTo>
                        <a:lnTo>
                          <a:pt x="26" y="858"/>
                        </a:lnTo>
                        <a:lnTo>
                          <a:pt x="37" y="888"/>
                        </a:lnTo>
                        <a:lnTo>
                          <a:pt x="49" y="918"/>
                        </a:lnTo>
                        <a:lnTo>
                          <a:pt x="60" y="947"/>
                        </a:lnTo>
                        <a:lnTo>
                          <a:pt x="75" y="975"/>
                        </a:lnTo>
                        <a:lnTo>
                          <a:pt x="91" y="1002"/>
                        </a:lnTo>
                        <a:lnTo>
                          <a:pt x="109" y="1030"/>
                        </a:lnTo>
                        <a:lnTo>
                          <a:pt x="127" y="1057"/>
                        </a:lnTo>
                        <a:lnTo>
                          <a:pt x="149" y="1083"/>
                        </a:lnTo>
                        <a:lnTo>
                          <a:pt x="170" y="1108"/>
                        </a:lnTo>
                        <a:lnTo>
                          <a:pt x="195" y="1134"/>
                        </a:lnTo>
                        <a:lnTo>
                          <a:pt x="219" y="1156"/>
                        </a:lnTo>
                        <a:lnTo>
                          <a:pt x="244" y="1178"/>
                        </a:lnTo>
                        <a:lnTo>
                          <a:pt x="270" y="1198"/>
                        </a:lnTo>
                        <a:lnTo>
                          <a:pt x="297" y="1217"/>
                        </a:lnTo>
                        <a:lnTo>
                          <a:pt x="324" y="1234"/>
                        </a:lnTo>
                        <a:lnTo>
                          <a:pt x="352" y="1250"/>
                        </a:lnTo>
                        <a:lnTo>
                          <a:pt x="380" y="1265"/>
                        </a:lnTo>
                        <a:lnTo>
                          <a:pt x="410" y="1279"/>
                        </a:lnTo>
                        <a:lnTo>
                          <a:pt x="470" y="1299"/>
                        </a:lnTo>
                        <a:lnTo>
                          <a:pt x="532" y="1315"/>
                        </a:lnTo>
                        <a:lnTo>
                          <a:pt x="597" y="1324"/>
                        </a:lnTo>
                        <a:lnTo>
                          <a:pt x="630" y="1326"/>
                        </a:lnTo>
                        <a:lnTo>
                          <a:pt x="665" y="1327"/>
                        </a:lnTo>
                        <a:lnTo>
                          <a:pt x="681" y="1326"/>
                        </a:lnTo>
                        <a:lnTo>
                          <a:pt x="698" y="1326"/>
                        </a:lnTo>
                        <a:lnTo>
                          <a:pt x="732" y="1324"/>
                        </a:lnTo>
                        <a:lnTo>
                          <a:pt x="764" y="1320"/>
                        </a:lnTo>
                        <a:lnTo>
                          <a:pt x="796" y="1315"/>
                        </a:lnTo>
                        <a:lnTo>
                          <a:pt x="811" y="1310"/>
                        </a:lnTo>
                        <a:lnTo>
                          <a:pt x="827" y="1307"/>
                        </a:lnTo>
                        <a:lnTo>
                          <a:pt x="859" y="1299"/>
                        </a:lnTo>
                        <a:lnTo>
                          <a:pt x="888" y="1289"/>
                        </a:lnTo>
                        <a:lnTo>
                          <a:pt x="895" y="1286"/>
                        </a:lnTo>
                        <a:lnTo>
                          <a:pt x="903" y="1283"/>
                        </a:lnTo>
                        <a:lnTo>
                          <a:pt x="919" y="1279"/>
                        </a:lnTo>
                        <a:lnTo>
                          <a:pt x="947" y="1265"/>
                        </a:lnTo>
                        <a:lnTo>
                          <a:pt x="961" y="1257"/>
                        </a:lnTo>
                        <a:lnTo>
                          <a:pt x="976" y="1250"/>
                        </a:lnTo>
                        <a:lnTo>
                          <a:pt x="1003" y="1234"/>
                        </a:lnTo>
                        <a:lnTo>
                          <a:pt x="1016" y="1225"/>
                        </a:lnTo>
                        <a:lnTo>
                          <a:pt x="1023" y="1221"/>
                        </a:lnTo>
                        <a:lnTo>
                          <a:pt x="1027" y="1219"/>
                        </a:lnTo>
                        <a:lnTo>
                          <a:pt x="1031" y="1217"/>
                        </a:lnTo>
                        <a:lnTo>
                          <a:pt x="1033" y="1214"/>
                        </a:lnTo>
                        <a:lnTo>
                          <a:pt x="1037" y="1212"/>
                        </a:lnTo>
                        <a:lnTo>
                          <a:pt x="1044" y="1207"/>
                        </a:lnTo>
                        <a:lnTo>
                          <a:pt x="1057" y="1198"/>
                        </a:lnTo>
                        <a:lnTo>
                          <a:pt x="1083" y="1178"/>
                        </a:lnTo>
                        <a:lnTo>
                          <a:pt x="1108" y="1156"/>
                        </a:lnTo>
                        <a:lnTo>
                          <a:pt x="1134" y="1134"/>
                        </a:lnTo>
                        <a:lnTo>
                          <a:pt x="1157" y="1108"/>
                        </a:lnTo>
                        <a:lnTo>
                          <a:pt x="1180" y="1083"/>
                        </a:lnTo>
                        <a:lnTo>
                          <a:pt x="1200" y="1057"/>
                        </a:lnTo>
                        <a:lnTo>
                          <a:pt x="1209" y="1043"/>
                        </a:lnTo>
                        <a:lnTo>
                          <a:pt x="1214" y="1036"/>
                        </a:lnTo>
                        <a:lnTo>
                          <a:pt x="1216" y="1033"/>
                        </a:lnTo>
                        <a:lnTo>
                          <a:pt x="1219" y="1030"/>
                        </a:lnTo>
                        <a:lnTo>
                          <a:pt x="1221" y="1026"/>
                        </a:lnTo>
                        <a:lnTo>
                          <a:pt x="1223" y="1023"/>
                        </a:lnTo>
                        <a:lnTo>
                          <a:pt x="1227" y="1016"/>
                        </a:lnTo>
                        <a:lnTo>
                          <a:pt x="1236" y="1002"/>
                        </a:lnTo>
                        <a:lnTo>
                          <a:pt x="1252" y="975"/>
                        </a:lnTo>
                        <a:lnTo>
                          <a:pt x="1259" y="960"/>
                        </a:lnTo>
                        <a:lnTo>
                          <a:pt x="1267" y="947"/>
                        </a:lnTo>
                        <a:lnTo>
                          <a:pt x="1281" y="918"/>
                        </a:lnTo>
                        <a:lnTo>
                          <a:pt x="1285" y="902"/>
                        </a:lnTo>
                        <a:lnTo>
                          <a:pt x="1287" y="894"/>
                        </a:lnTo>
                        <a:lnTo>
                          <a:pt x="1291" y="888"/>
                        </a:lnTo>
                        <a:lnTo>
                          <a:pt x="1301" y="858"/>
                        </a:lnTo>
                        <a:lnTo>
                          <a:pt x="1309" y="826"/>
                        </a:lnTo>
                        <a:lnTo>
                          <a:pt x="1312" y="811"/>
                        </a:lnTo>
                        <a:lnTo>
                          <a:pt x="1317" y="796"/>
                        </a:lnTo>
                        <a:lnTo>
                          <a:pt x="1321" y="763"/>
                        </a:lnTo>
                        <a:lnTo>
                          <a:pt x="1326" y="731"/>
                        </a:lnTo>
                        <a:lnTo>
                          <a:pt x="1328" y="697"/>
                        </a:lnTo>
                        <a:lnTo>
                          <a:pt x="1328" y="680"/>
                        </a:lnTo>
                        <a:lnTo>
                          <a:pt x="1329" y="664"/>
                        </a:lnTo>
                        <a:lnTo>
                          <a:pt x="1328" y="629"/>
                        </a:lnTo>
                        <a:lnTo>
                          <a:pt x="1326" y="595"/>
                        </a:lnTo>
                        <a:lnTo>
                          <a:pt x="1317" y="531"/>
                        </a:lnTo>
                        <a:lnTo>
                          <a:pt x="1301" y="468"/>
                        </a:lnTo>
                        <a:lnTo>
                          <a:pt x="1281" y="408"/>
                        </a:lnTo>
                        <a:lnTo>
                          <a:pt x="1267" y="379"/>
                        </a:lnTo>
                        <a:lnTo>
                          <a:pt x="1252" y="350"/>
                        </a:lnTo>
                        <a:lnTo>
                          <a:pt x="1236" y="322"/>
                        </a:lnTo>
                        <a:lnTo>
                          <a:pt x="1219" y="296"/>
                        </a:lnTo>
                        <a:lnTo>
                          <a:pt x="1200" y="269"/>
                        </a:lnTo>
                        <a:lnTo>
                          <a:pt x="1180" y="243"/>
                        </a:lnTo>
                        <a:lnTo>
                          <a:pt x="1134" y="194"/>
                        </a:lnTo>
                        <a:lnTo>
                          <a:pt x="1108" y="169"/>
                        </a:lnTo>
                        <a:lnTo>
                          <a:pt x="1083" y="147"/>
                        </a:lnTo>
                        <a:lnTo>
                          <a:pt x="1057" y="126"/>
                        </a:lnTo>
                        <a:lnTo>
                          <a:pt x="1031" y="108"/>
                        </a:lnTo>
                        <a:lnTo>
                          <a:pt x="1003" y="90"/>
                        </a:lnTo>
                        <a:lnTo>
                          <a:pt x="976" y="74"/>
                        </a:lnTo>
                        <a:lnTo>
                          <a:pt x="947" y="59"/>
                        </a:lnTo>
                        <a:lnTo>
                          <a:pt x="919" y="48"/>
                        </a:lnTo>
                        <a:lnTo>
                          <a:pt x="888" y="35"/>
                        </a:lnTo>
                        <a:lnTo>
                          <a:pt x="859" y="26"/>
                        </a:lnTo>
                        <a:lnTo>
                          <a:pt x="827" y="17"/>
                        </a:lnTo>
                        <a:lnTo>
                          <a:pt x="796" y="11"/>
                        </a:lnTo>
                        <a:lnTo>
                          <a:pt x="764" y="6"/>
                        </a:lnTo>
                        <a:lnTo>
                          <a:pt x="732" y="2"/>
                        </a:lnTo>
                        <a:lnTo>
                          <a:pt x="698" y="0"/>
                        </a:lnTo>
                        <a:lnTo>
                          <a:pt x="665" y="0"/>
                        </a:lnTo>
                        <a:lnTo>
                          <a:pt x="630" y="0"/>
                        </a:lnTo>
                        <a:lnTo>
                          <a:pt x="597" y="2"/>
                        </a:lnTo>
                        <a:lnTo>
                          <a:pt x="532" y="11"/>
                        </a:lnTo>
                        <a:lnTo>
                          <a:pt x="470" y="26"/>
                        </a:lnTo>
                        <a:lnTo>
                          <a:pt x="410" y="48"/>
                        </a:lnTo>
                        <a:lnTo>
                          <a:pt x="352" y="74"/>
                        </a:lnTo>
                        <a:lnTo>
                          <a:pt x="324" y="90"/>
                        </a:lnTo>
                        <a:lnTo>
                          <a:pt x="297" y="108"/>
                        </a:lnTo>
                        <a:lnTo>
                          <a:pt x="244" y="147"/>
                        </a:lnTo>
                        <a:lnTo>
                          <a:pt x="195" y="194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5734800" y="5699520"/>
                    <a:ext cx="1692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612">
                        <a:moveTo>
                          <a:pt x="666" y="361"/>
                        </a:moveTo>
                        <a:lnTo>
                          <a:pt x="666" y="230"/>
                        </a:lnTo>
                        <a:lnTo>
                          <a:pt x="383" y="230"/>
                        </a:lnTo>
                        <a:lnTo>
                          <a:pt x="383" y="0"/>
                        </a:lnTo>
                        <a:lnTo>
                          <a:pt x="261" y="0"/>
                        </a:lnTo>
                        <a:lnTo>
                          <a:pt x="261" y="230"/>
                        </a:lnTo>
                        <a:lnTo>
                          <a:pt x="0" y="230"/>
                        </a:lnTo>
                        <a:lnTo>
                          <a:pt x="0" y="361"/>
                        </a:lnTo>
                        <a:lnTo>
                          <a:pt x="261" y="361"/>
                        </a:lnTo>
                        <a:lnTo>
                          <a:pt x="261" y="612"/>
                        </a:lnTo>
                        <a:lnTo>
                          <a:pt x="383" y="612"/>
                        </a:lnTo>
                        <a:lnTo>
                          <a:pt x="383" y="361"/>
                        </a:lnTo>
                        <a:lnTo>
                          <a:pt x="666" y="3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5734800" y="5699520"/>
                    <a:ext cx="1692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612">
                        <a:moveTo>
                          <a:pt x="666" y="230"/>
                        </a:moveTo>
                        <a:lnTo>
                          <a:pt x="383" y="230"/>
                        </a:lnTo>
                        <a:lnTo>
                          <a:pt x="383" y="0"/>
                        </a:lnTo>
                        <a:lnTo>
                          <a:pt x="261" y="0"/>
                        </a:lnTo>
                        <a:lnTo>
                          <a:pt x="261" y="230"/>
                        </a:lnTo>
                        <a:lnTo>
                          <a:pt x="0" y="230"/>
                        </a:lnTo>
                        <a:lnTo>
                          <a:pt x="0" y="361"/>
                        </a:lnTo>
                        <a:lnTo>
                          <a:pt x="261" y="361"/>
                        </a:lnTo>
                        <a:lnTo>
                          <a:pt x="261" y="612"/>
                        </a:lnTo>
                        <a:lnTo>
                          <a:pt x="383" y="612"/>
                        </a:lnTo>
                        <a:lnTo>
                          <a:pt x="383" y="361"/>
                        </a:lnTo>
                        <a:lnTo>
                          <a:pt x="666" y="361"/>
                        </a:lnTo>
                        <a:lnTo>
                          <a:pt x="666" y="23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7638480" y="4207680"/>
                    <a:ext cx="14580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75" h="529">
                        <a:moveTo>
                          <a:pt x="114" y="45"/>
                        </a:moveTo>
                        <a:lnTo>
                          <a:pt x="133" y="26"/>
                        </a:lnTo>
                        <a:lnTo>
                          <a:pt x="157" y="11"/>
                        </a:lnTo>
                        <a:lnTo>
                          <a:pt x="107" y="0"/>
                        </a:lnTo>
                        <a:lnTo>
                          <a:pt x="87" y="19"/>
                        </a:lnTo>
                        <a:lnTo>
                          <a:pt x="65" y="40"/>
                        </a:lnTo>
                        <a:lnTo>
                          <a:pt x="47" y="64"/>
                        </a:lnTo>
                        <a:lnTo>
                          <a:pt x="33" y="88"/>
                        </a:lnTo>
                        <a:lnTo>
                          <a:pt x="21" y="114"/>
                        </a:lnTo>
                        <a:lnTo>
                          <a:pt x="11" y="140"/>
                        </a:lnTo>
                        <a:lnTo>
                          <a:pt x="4" y="169"/>
                        </a:lnTo>
                        <a:lnTo>
                          <a:pt x="1" y="198"/>
                        </a:lnTo>
                        <a:lnTo>
                          <a:pt x="0" y="230"/>
                        </a:lnTo>
                        <a:lnTo>
                          <a:pt x="1" y="259"/>
                        </a:lnTo>
                        <a:lnTo>
                          <a:pt x="4" y="289"/>
                        </a:lnTo>
                        <a:lnTo>
                          <a:pt x="6" y="302"/>
                        </a:lnTo>
                        <a:lnTo>
                          <a:pt x="11" y="317"/>
                        </a:lnTo>
                        <a:lnTo>
                          <a:pt x="21" y="344"/>
                        </a:lnTo>
                        <a:lnTo>
                          <a:pt x="33" y="369"/>
                        </a:lnTo>
                        <a:lnTo>
                          <a:pt x="47" y="394"/>
                        </a:lnTo>
                        <a:lnTo>
                          <a:pt x="55" y="405"/>
                        </a:lnTo>
                        <a:lnTo>
                          <a:pt x="65" y="418"/>
                        </a:lnTo>
                        <a:lnTo>
                          <a:pt x="87" y="442"/>
                        </a:lnTo>
                        <a:lnTo>
                          <a:pt x="109" y="461"/>
                        </a:lnTo>
                        <a:lnTo>
                          <a:pt x="132" y="479"/>
                        </a:lnTo>
                        <a:lnTo>
                          <a:pt x="156" y="494"/>
                        </a:lnTo>
                        <a:lnTo>
                          <a:pt x="182" y="506"/>
                        </a:lnTo>
                        <a:lnTo>
                          <a:pt x="208" y="515"/>
                        </a:lnTo>
                        <a:lnTo>
                          <a:pt x="237" y="523"/>
                        </a:lnTo>
                        <a:lnTo>
                          <a:pt x="266" y="527"/>
                        </a:lnTo>
                        <a:lnTo>
                          <a:pt x="298" y="529"/>
                        </a:lnTo>
                        <a:lnTo>
                          <a:pt x="327" y="527"/>
                        </a:lnTo>
                        <a:lnTo>
                          <a:pt x="357" y="523"/>
                        </a:lnTo>
                        <a:lnTo>
                          <a:pt x="370" y="519"/>
                        </a:lnTo>
                        <a:lnTo>
                          <a:pt x="377" y="517"/>
                        </a:lnTo>
                        <a:lnTo>
                          <a:pt x="378" y="515"/>
                        </a:lnTo>
                        <a:lnTo>
                          <a:pt x="381" y="515"/>
                        </a:lnTo>
                        <a:lnTo>
                          <a:pt x="385" y="515"/>
                        </a:lnTo>
                        <a:lnTo>
                          <a:pt x="412" y="506"/>
                        </a:lnTo>
                        <a:lnTo>
                          <a:pt x="437" y="494"/>
                        </a:lnTo>
                        <a:lnTo>
                          <a:pt x="462" y="479"/>
                        </a:lnTo>
                        <a:lnTo>
                          <a:pt x="474" y="470"/>
                        </a:lnTo>
                        <a:lnTo>
                          <a:pt x="486" y="461"/>
                        </a:lnTo>
                        <a:lnTo>
                          <a:pt x="498" y="451"/>
                        </a:lnTo>
                        <a:lnTo>
                          <a:pt x="510" y="442"/>
                        </a:lnTo>
                        <a:lnTo>
                          <a:pt x="529" y="419"/>
                        </a:lnTo>
                        <a:lnTo>
                          <a:pt x="547" y="396"/>
                        </a:lnTo>
                        <a:lnTo>
                          <a:pt x="562" y="371"/>
                        </a:lnTo>
                        <a:lnTo>
                          <a:pt x="575" y="347"/>
                        </a:lnTo>
                        <a:lnTo>
                          <a:pt x="562" y="324"/>
                        </a:lnTo>
                        <a:lnTo>
                          <a:pt x="550" y="303"/>
                        </a:lnTo>
                        <a:lnTo>
                          <a:pt x="538" y="333"/>
                        </a:lnTo>
                        <a:lnTo>
                          <a:pt x="530" y="347"/>
                        </a:lnTo>
                        <a:lnTo>
                          <a:pt x="524" y="361"/>
                        </a:lnTo>
                        <a:lnTo>
                          <a:pt x="505" y="388"/>
                        </a:lnTo>
                        <a:lnTo>
                          <a:pt x="494" y="401"/>
                        </a:lnTo>
                        <a:lnTo>
                          <a:pt x="483" y="415"/>
                        </a:lnTo>
                        <a:lnTo>
                          <a:pt x="462" y="432"/>
                        </a:lnTo>
                        <a:lnTo>
                          <a:pt x="442" y="447"/>
                        </a:lnTo>
                        <a:lnTo>
                          <a:pt x="419" y="460"/>
                        </a:lnTo>
                        <a:lnTo>
                          <a:pt x="408" y="466"/>
                        </a:lnTo>
                        <a:lnTo>
                          <a:pt x="398" y="472"/>
                        </a:lnTo>
                        <a:lnTo>
                          <a:pt x="391" y="473"/>
                        </a:lnTo>
                        <a:lnTo>
                          <a:pt x="385" y="476"/>
                        </a:lnTo>
                        <a:lnTo>
                          <a:pt x="374" y="480"/>
                        </a:lnTo>
                        <a:lnTo>
                          <a:pt x="361" y="483"/>
                        </a:lnTo>
                        <a:lnTo>
                          <a:pt x="350" y="486"/>
                        </a:lnTo>
                        <a:lnTo>
                          <a:pt x="336" y="487"/>
                        </a:lnTo>
                        <a:lnTo>
                          <a:pt x="324" y="489"/>
                        </a:lnTo>
                        <a:lnTo>
                          <a:pt x="310" y="490"/>
                        </a:lnTo>
                        <a:lnTo>
                          <a:pt x="304" y="490"/>
                        </a:lnTo>
                        <a:lnTo>
                          <a:pt x="300" y="490"/>
                        </a:lnTo>
                        <a:lnTo>
                          <a:pt x="298" y="492"/>
                        </a:lnTo>
                        <a:lnTo>
                          <a:pt x="271" y="489"/>
                        </a:lnTo>
                        <a:lnTo>
                          <a:pt x="245" y="486"/>
                        </a:lnTo>
                        <a:lnTo>
                          <a:pt x="220" y="480"/>
                        </a:lnTo>
                        <a:lnTo>
                          <a:pt x="197" y="472"/>
                        </a:lnTo>
                        <a:lnTo>
                          <a:pt x="174" y="460"/>
                        </a:lnTo>
                        <a:lnTo>
                          <a:pt x="153" y="447"/>
                        </a:lnTo>
                        <a:lnTo>
                          <a:pt x="132" y="432"/>
                        </a:lnTo>
                        <a:lnTo>
                          <a:pt x="114" y="415"/>
                        </a:lnTo>
                        <a:lnTo>
                          <a:pt x="95" y="394"/>
                        </a:lnTo>
                        <a:lnTo>
                          <a:pt x="80" y="374"/>
                        </a:lnTo>
                        <a:lnTo>
                          <a:pt x="67" y="351"/>
                        </a:lnTo>
                        <a:lnTo>
                          <a:pt x="56" y="330"/>
                        </a:lnTo>
                        <a:lnTo>
                          <a:pt x="51" y="317"/>
                        </a:lnTo>
                        <a:lnTo>
                          <a:pt x="47" y="306"/>
                        </a:lnTo>
                        <a:lnTo>
                          <a:pt x="42" y="282"/>
                        </a:lnTo>
                        <a:lnTo>
                          <a:pt x="38" y="256"/>
                        </a:lnTo>
                        <a:lnTo>
                          <a:pt x="37" y="230"/>
                        </a:lnTo>
                        <a:lnTo>
                          <a:pt x="38" y="203"/>
                        </a:lnTo>
                        <a:lnTo>
                          <a:pt x="42" y="176"/>
                        </a:lnTo>
                        <a:lnTo>
                          <a:pt x="47" y="152"/>
                        </a:lnTo>
                        <a:lnTo>
                          <a:pt x="56" y="129"/>
                        </a:lnTo>
                        <a:lnTo>
                          <a:pt x="67" y="106"/>
                        </a:lnTo>
                        <a:lnTo>
                          <a:pt x="80" y="85"/>
                        </a:lnTo>
                        <a:lnTo>
                          <a:pt x="95" y="64"/>
                        </a:lnTo>
                        <a:lnTo>
                          <a:pt x="114" y="45"/>
                        </a:lnTo>
                        <a:close/>
                      </a:path>
                    </a:pathLst>
                  </a:custGeom>
                  <a:solidFill>
                    <a:srgbClr val="00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7648200" y="4210560"/>
                    <a:ext cx="129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481">
                        <a:moveTo>
                          <a:pt x="120" y="0"/>
                        </a:moveTo>
                        <a:lnTo>
                          <a:pt x="96" y="15"/>
                        </a:lnTo>
                        <a:lnTo>
                          <a:pt x="77" y="34"/>
                        </a:lnTo>
                        <a:lnTo>
                          <a:pt x="58" y="53"/>
                        </a:lnTo>
                        <a:lnTo>
                          <a:pt x="43" y="74"/>
                        </a:lnTo>
                        <a:lnTo>
                          <a:pt x="30" y="95"/>
                        </a:lnTo>
                        <a:lnTo>
                          <a:pt x="19" y="118"/>
                        </a:lnTo>
                        <a:lnTo>
                          <a:pt x="10" y="141"/>
                        </a:lnTo>
                        <a:lnTo>
                          <a:pt x="5" y="165"/>
                        </a:lnTo>
                        <a:lnTo>
                          <a:pt x="1" y="192"/>
                        </a:lnTo>
                        <a:lnTo>
                          <a:pt x="0" y="219"/>
                        </a:lnTo>
                        <a:lnTo>
                          <a:pt x="1" y="245"/>
                        </a:lnTo>
                        <a:lnTo>
                          <a:pt x="5" y="271"/>
                        </a:lnTo>
                        <a:lnTo>
                          <a:pt x="10" y="295"/>
                        </a:lnTo>
                        <a:lnTo>
                          <a:pt x="14" y="306"/>
                        </a:lnTo>
                        <a:lnTo>
                          <a:pt x="19" y="319"/>
                        </a:lnTo>
                        <a:lnTo>
                          <a:pt x="30" y="340"/>
                        </a:lnTo>
                        <a:lnTo>
                          <a:pt x="43" y="363"/>
                        </a:lnTo>
                        <a:lnTo>
                          <a:pt x="58" y="383"/>
                        </a:lnTo>
                        <a:lnTo>
                          <a:pt x="77" y="404"/>
                        </a:lnTo>
                        <a:lnTo>
                          <a:pt x="95" y="421"/>
                        </a:lnTo>
                        <a:lnTo>
                          <a:pt x="116" y="436"/>
                        </a:lnTo>
                        <a:lnTo>
                          <a:pt x="137" y="449"/>
                        </a:lnTo>
                        <a:lnTo>
                          <a:pt x="160" y="461"/>
                        </a:lnTo>
                        <a:lnTo>
                          <a:pt x="183" y="469"/>
                        </a:lnTo>
                        <a:lnTo>
                          <a:pt x="208" y="475"/>
                        </a:lnTo>
                        <a:lnTo>
                          <a:pt x="234" y="478"/>
                        </a:lnTo>
                        <a:lnTo>
                          <a:pt x="261" y="481"/>
                        </a:lnTo>
                        <a:lnTo>
                          <a:pt x="263" y="479"/>
                        </a:lnTo>
                        <a:lnTo>
                          <a:pt x="267" y="479"/>
                        </a:lnTo>
                        <a:lnTo>
                          <a:pt x="273" y="479"/>
                        </a:lnTo>
                        <a:lnTo>
                          <a:pt x="287" y="478"/>
                        </a:lnTo>
                        <a:lnTo>
                          <a:pt x="299" y="476"/>
                        </a:lnTo>
                        <a:lnTo>
                          <a:pt x="313" y="475"/>
                        </a:lnTo>
                        <a:lnTo>
                          <a:pt x="324" y="472"/>
                        </a:lnTo>
                        <a:lnTo>
                          <a:pt x="337" y="469"/>
                        </a:lnTo>
                        <a:lnTo>
                          <a:pt x="348" y="465"/>
                        </a:lnTo>
                        <a:lnTo>
                          <a:pt x="354" y="462"/>
                        </a:lnTo>
                        <a:lnTo>
                          <a:pt x="361" y="461"/>
                        </a:lnTo>
                        <a:lnTo>
                          <a:pt x="371" y="455"/>
                        </a:lnTo>
                        <a:lnTo>
                          <a:pt x="382" y="449"/>
                        </a:lnTo>
                        <a:lnTo>
                          <a:pt x="405" y="436"/>
                        </a:lnTo>
                        <a:lnTo>
                          <a:pt x="425" y="421"/>
                        </a:lnTo>
                        <a:lnTo>
                          <a:pt x="446" y="404"/>
                        </a:lnTo>
                        <a:lnTo>
                          <a:pt x="457" y="390"/>
                        </a:lnTo>
                        <a:lnTo>
                          <a:pt x="468" y="377"/>
                        </a:lnTo>
                        <a:lnTo>
                          <a:pt x="487" y="350"/>
                        </a:lnTo>
                        <a:lnTo>
                          <a:pt x="493" y="336"/>
                        </a:lnTo>
                        <a:lnTo>
                          <a:pt x="501" y="322"/>
                        </a:lnTo>
                        <a:lnTo>
                          <a:pt x="513" y="292"/>
                        </a:lnTo>
                        <a:lnTo>
                          <a:pt x="484" y="249"/>
                        </a:lnTo>
                        <a:lnTo>
                          <a:pt x="482" y="257"/>
                        </a:lnTo>
                        <a:lnTo>
                          <a:pt x="481" y="266"/>
                        </a:lnTo>
                        <a:lnTo>
                          <a:pt x="476" y="285"/>
                        </a:lnTo>
                        <a:lnTo>
                          <a:pt x="470" y="300"/>
                        </a:lnTo>
                        <a:lnTo>
                          <a:pt x="463" y="317"/>
                        </a:lnTo>
                        <a:lnTo>
                          <a:pt x="454" y="332"/>
                        </a:lnTo>
                        <a:lnTo>
                          <a:pt x="443" y="348"/>
                        </a:lnTo>
                        <a:lnTo>
                          <a:pt x="432" y="363"/>
                        </a:lnTo>
                        <a:lnTo>
                          <a:pt x="425" y="370"/>
                        </a:lnTo>
                        <a:lnTo>
                          <a:pt x="423" y="371"/>
                        </a:lnTo>
                        <a:lnTo>
                          <a:pt x="422" y="373"/>
                        </a:lnTo>
                        <a:lnTo>
                          <a:pt x="420" y="377"/>
                        </a:lnTo>
                        <a:lnTo>
                          <a:pt x="402" y="392"/>
                        </a:lnTo>
                        <a:lnTo>
                          <a:pt x="385" y="406"/>
                        </a:lnTo>
                        <a:lnTo>
                          <a:pt x="374" y="410"/>
                        </a:lnTo>
                        <a:lnTo>
                          <a:pt x="365" y="416"/>
                        </a:lnTo>
                        <a:lnTo>
                          <a:pt x="347" y="426"/>
                        </a:lnTo>
                        <a:lnTo>
                          <a:pt x="326" y="433"/>
                        </a:lnTo>
                        <a:lnTo>
                          <a:pt x="305" y="439"/>
                        </a:lnTo>
                        <a:lnTo>
                          <a:pt x="282" y="442"/>
                        </a:lnTo>
                        <a:lnTo>
                          <a:pt x="271" y="442"/>
                        </a:lnTo>
                        <a:lnTo>
                          <a:pt x="265" y="442"/>
                        </a:lnTo>
                        <a:lnTo>
                          <a:pt x="261" y="443"/>
                        </a:lnTo>
                        <a:lnTo>
                          <a:pt x="237" y="442"/>
                        </a:lnTo>
                        <a:lnTo>
                          <a:pt x="216" y="439"/>
                        </a:lnTo>
                        <a:lnTo>
                          <a:pt x="194" y="433"/>
                        </a:lnTo>
                        <a:lnTo>
                          <a:pt x="175" y="426"/>
                        </a:lnTo>
                        <a:lnTo>
                          <a:pt x="155" y="416"/>
                        </a:lnTo>
                        <a:lnTo>
                          <a:pt x="137" y="406"/>
                        </a:lnTo>
                        <a:lnTo>
                          <a:pt x="119" y="392"/>
                        </a:lnTo>
                        <a:lnTo>
                          <a:pt x="103" y="377"/>
                        </a:lnTo>
                        <a:lnTo>
                          <a:pt x="86" y="359"/>
                        </a:lnTo>
                        <a:lnTo>
                          <a:pt x="74" y="342"/>
                        </a:lnTo>
                        <a:lnTo>
                          <a:pt x="61" y="323"/>
                        </a:lnTo>
                        <a:lnTo>
                          <a:pt x="53" y="305"/>
                        </a:lnTo>
                        <a:lnTo>
                          <a:pt x="45" y="283"/>
                        </a:lnTo>
                        <a:lnTo>
                          <a:pt x="41" y="263"/>
                        </a:lnTo>
                        <a:lnTo>
                          <a:pt x="38" y="240"/>
                        </a:lnTo>
                        <a:lnTo>
                          <a:pt x="38" y="219"/>
                        </a:lnTo>
                        <a:lnTo>
                          <a:pt x="38" y="195"/>
                        </a:lnTo>
                        <a:lnTo>
                          <a:pt x="41" y="173"/>
                        </a:lnTo>
                        <a:lnTo>
                          <a:pt x="45" y="152"/>
                        </a:lnTo>
                        <a:lnTo>
                          <a:pt x="53" y="133"/>
                        </a:lnTo>
                        <a:lnTo>
                          <a:pt x="61" y="112"/>
                        </a:lnTo>
                        <a:lnTo>
                          <a:pt x="74" y="94"/>
                        </a:lnTo>
                        <a:lnTo>
                          <a:pt x="86" y="77"/>
                        </a:lnTo>
                        <a:lnTo>
                          <a:pt x="103" y="61"/>
                        </a:lnTo>
                        <a:lnTo>
                          <a:pt x="118" y="46"/>
                        </a:lnTo>
                        <a:lnTo>
                          <a:pt x="134" y="34"/>
                        </a:lnTo>
                        <a:lnTo>
                          <a:pt x="169" y="15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00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7629120" y="4206240"/>
                    <a:ext cx="16092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573">
                        <a:moveTo>
                          <a:pt x="125" y="26"/>
                        </a:moveTo>
                        <a:lnTo>
                          <a:pt x="145" y="7"/>
                        </a:lnTo>
                        <a:lnTo>
                          <a:pt x="98" y="0"/>
                        </a:lnTo>
                        <a:lnTo>
                          <a:pt x="74" y="24"/>
                        </a:lnTo>
                        <a:lnTo>
                          <a:pt x="55" y="51"/>
                        </a:lnTo>
                        <a:lnTo>
                          <a:pt x="38" y="78"/>
                        </a:lnTo>
                        <a:lnTo>
                          <a:pt x="24" y="108"/>
                        </a:lnTo>
                        <a:lnTo>
                          <a:pt x="13" y="137"/>
                        </a:lnTo>
                        <a:lnTo>
                          <a:pt x="6" y="169"/>
                        </a:lnTo>
                        <a:lnTo>
                          <a:pt x="1" y="202"/>
                        </a:lnTo>
                        <a:lnTo>
                          <a:pt x="0" y="237"/>
                        </a:lnTo>
                        <a:lnTo>
                          <a:pt x="1" y="270"/>
                        </a:lnTo>
                        <a:lnTo>
                          <a:pt x="3" y="286"/>
                        </a:lnTo>
                        <a:lnTo>
                          <a:pt x="6" y="303"/>
                        </a:lnTo>
                        <a:lnTo>
                          <a:pt x="13" y="334"/>
                        </a:lnTo>
                        <a:lnTo>
                          <a:pt x="17" y="349"/>
                        </a:lnTo>
                        <a:lnTo>
                          <a:pt x="24" y="365"/>
                        </a:lnTo>
                        <a:lnTo>
                          <a:pt x="30" y="378"/>
                        </a:lnTo>
                        <a:lnTo>
                          <a:pt x="38" y="393"/>
                        </a:lnTo>
                        <a:lnTo>
                          <a:pt x="55" y="422"/>
                        </a:lnTo>
                        <a:lnTo>
                          <a:pt x="75" y="449"/>
                        </a:lnTo>
                        <a:lnTo>
                          <a:pt x="99" y="475"/>
                        </a:lnTo>
                        <a:lnTo>
                          <a:pt x="123" y="496"/>
                        </a:lnTo>
                        <a:lnTo>
                          <a:pt x="150" y="517"/>
                        </a:lnTo>
                        <a:lnTo>
                          <a:pt x="177" y="534"/>
                        </a:lnTo>
                        <a:lnTo>
                          <a:pt x="207" y="548"/>
                        </a:lnTo>
                        <a:lnTo>
                          <a:pt x="236" y="559"/>
                        </a:lnTo>
                        <a:lnTo>
                          <a:pt x="268" y="567"/>
                        </a:lnTo>
                        <a:lnTo>
                          <a:pt x="301" y="571"/>
                        </a:lnTo>
                        <a:lnTo>
                          <a:pt x="336" y="573"/>
                        </a:lnTo>
                        <a:lnTo>
                          <a:pt x="352" y="572"/>
                        </a:lnTo>
                        <a:lnTo>
                          <a:pt x="353" y="571"/>
                        </a:lnTo>
                        <a:lnTo>
                          <a:pt x="355" y="571"/>
                        </a:lnTo>
                        <a:lnTo>
                          <a:pt x="360" y="571"/>
                        </a:lnTo>
                        <a:lnTo>
                          <a:pt x="369" y="571"/>
                        </a:lnTo>
                        <a:lnTo>
                          <a:pt x="385" y="569"/>
                        </a:lnTo>
                        <a:lnTo>
                          <a:pt x="402" y="567"/>
                        </a:lnTo>
                        <a:lnTo>
                          <a:pt x="433" y="559"/>
                        </a:lnTo>
                        <a:lnTo>
                          <a:pt x="440" y="555"/>
                        </a:lnTo>
                        <a:lnTo>
                          <a:pt x="448" y="553"/>
                        </a:lnTo>
                        <a:lnTo>
                          <a:pt x="464" y="548"/>
                        </a:lnTo>
                        <a:lnTo>
                          <a:pt x="478" y="541"/>
                        </a:lnTo>
                        <a:lnTo>
                          <a:pt x="492" y="534"/>
                        </a:lnTo>
                        <a:lnTo>
                          <a:pt x="506" y="525"/>
                        </a:lnTo>
                        <a:lnTo>
                          <a:pt x="513" y="520"/>
                        </a:lnTo>
                        <a:lnTo>
                          <a:pt x="516" y="518"/>
                        </a:lnTo>
                        <a:lnTo>
                          <a:pt x="521" y="517"/>
                        </a:lnTo>
                        <a:lnTo>
                          <a:pt x="548" y="496"/>
                        </a:lnTo>
                        <a:lnTo>
                          <a:pt x="560" y="485"/>
                        </a:lnTo>
                        <a:lnTo>
                          <a:pt x="574" y="475"/>
                        </a:lnTo>
                        <a:lnTo>
                          <a:pt x="574" y="473"/>
                        </a:lnTo>
                        <a:lnTo>
                          <a:pt x="574" y="471"/>
                        </a:lnTo>
                        <a:lnTo>
                          <a:pt x="575" y="471"/>
                        </a:lnTo>
                        <a:lnTo>
                          <a:pt x="577" y="469"/>
                        </a:lnTo>
                        <a:lnTo>
                          <a:pt x="582" y="465"/>
                        </a:lnTo>
                        <a:lnTo>
                          <a:pt x="591" y="456"/>
                        </a:lnTo>
                        <a:lnTo>
                          <a:pt x="607" y="436"/>
                        </a:lnTo>
                        <a:lnTo>
                          <a:pt x="622" y="416"/>
                        </a:lnTo>
                        <a:lnTo>
                          <a:pt x="624" y="410"/>
                        </a:lnTo>
                        <a:lnTo>
                          <a:pt x="627" y="406"/>
                        </a:lnTo>
                        <a:lnTo>
                          <a:pt x="634" y="397"/>
                        </a:lnTo>
                        <a:lnTo>
                          <a:pt x="623" y="374"/>
                        </a:lnTo>
                        <a:lnTo>
                          <a:pt x="613" y="354"/>
                        </a:lnTo>
                        <a:lnTo>
                          <a:pt x="600" y="378"/>
                        </a:lnTo>
                        <a:lnTo>
                          <a:pt x="585" y="403"/>
                        </a:lnTo>
                        <a:lnTo>
                          <a:pt x="567" y="426"/>
                        </a:lnTo>
                        <a:lnTo>
                          <a:pt x="548" y="449"/>
                        </a:lnTo>
                        <a:lnTo>
                          <a:pt x="536" y="458"/>
                        </a:lnTo>
                        <a:lnTo>
                          <a:pt x="524" y="468"/>
                        </a:lnTo>
                        <a:lnTo>
                          <a:pt x="512" y="477"/>
                        </a:lnTo>
                        <a:lnTo>
                          <a:pt x="500" y="486"/>
                        </a:lnTo>
                        <a:lnTo>
                          <a:pt x="475" y="501"/>
                        </a:lnTo>
                        <a:lnTo>
                          <a:pt x="450" y="513"/>
                        </a:lnTo>
                        <a:lnTo>
                          <a:pt x="423" y="522"/>
                        </a:lnTo>
                        <a:lnTo>
                          <a:pt x="419" y="522"/>
                        </a:lnTo>
                        <a:lnTo>
                          <a:pt x="416" y="522"/>
                        </a:lnTo>
                        <a:lnTo>
                          <a:pt x="415" y="524"/>
                        </a:lnTo>
                        <a:lnTo>
                          <a:pt x="408" y="526"/>
                        </a:lnTo>
                        <a:lnTo>
                          <a:pt x="395" y="530"/>
                        </a:lnTo>
                        <a:lnTo>
                          <a:pt x="365" y="534"/>
                        </a:lnTo>
                        <a:lnTo>
                          <a:pt x="336" y="536"/>
                        </a:lnTo>
                        <a:lnTo>
                          <a:pt x="304" y="534"/>
                        </a:lnTo>
                        <a:lnTo>
                          <a:pt x="275" y="530"/>
                        </a:lnTo>
                        <a:lnTo>
                          <a:pt x="246" y="522"/>
                        </a:lnTo>
                        <a:lnTo>
                          <a:pt x="220" y="513"/>
                        </a:lnTo>
                        <a:lnTo>
                          <a:pt x="194" y="501"/>
                        </a:lnTo>
                        <a:lnTo>
                          <a:pt x="170" y="486"/>
                        </a:lnTo>
                        <a:lnTo>
                          <a:pt x="147" y="468"/>
                        </a:lnTo>
                        <a:lnTo>
                          <a:pt x="125" y="449"/>
                        </a:lnTo>
                        <a:lnTo>
                          <a:pt x="103" y="425"/>
                        </a:lnTo>
                        <a:lnTo>
                          <a:pt x="93" y="412"/>
                        </a:lnTo>
                        <a:lnTo>
                          <a:pt x="85" y="401"/>
                        </a:lnTo>
                        <a:lnTo>
                          <a:pt x="71" y="376"/>
                        </a:lnTo>
                        <a:lnTo>
                          <a:pt x="59" y="351"/>
                        </a:lnTo>
                        <a:lnTo>
                          <a:pt x="49" y="324"/>
                        </a:lnTo>
                        <a:lnTo>
                          <a:pt x="44" y="309"/>
                        </a:lnTo>
                        <a:lnTo>
                          <a:pt x="42" y="296"/>
                        </a:lnTo>
                        <a:lnTo>
                          <a:pt x="39" y="266"/>
                        </a:lnTo>
                        <a:lnTo>
                          <a:pt x="38" y="237"/>
                        </a:lnTo>
                        <a:lnTo>
                          <a:pt x="39" y="205"/>
                        </a:lnTo>
                        <a:lnTo>
                          <a:pt x="42" y="176"/>
                        </a:lnTo>
                        <a:lnTo>
                          <a:pt x="49" y="147"/>
                        </a:lnTo>
                        <a:lnTo>
                          <a:pt x="59" y="121"/>
                        </a:lnTo>
                        <a:lnTo>
                          <a:pt x="71" y="95"/>
                        </a:lnTo>
                        <a:lnTo>
                          <a:pt x="85" y="71"/>
                        </a:lnTo>
                        <a:lnTo>
                          <a:pt x="103" y="47"/>
                        </a:lnTo>
                        <a:lnTo>
                          <a:pt x="125" y="26"/>
                        </a:lnTo>
                        <a:close/>
                      </a:path>
                    </a:pathLst>
                  </a:custGeom>
                  <a:solidFill>
                    <a:srgbClr val="00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7610400" y="4205160"/>
                    <a:ext cx="18720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0" h="652">
                        <a:moveTo>
                          <a:pt x="97" y="0"/>
                        </a:moveTo>
                        <a:lnTo>
                          <a:pt x="78" y="0"/>
                        </a:lnTo>
                        <a:lnTo>
                          <a:pt x="58" y="27"/>
                        </a:lnTo>
                        <a:lnTo>
                          <a:pt x="44" y="54"/>
                        </a:lnTo>
                        <a:lnTo>
                          <a:pt x="30" y="82"/>
                        </a:lnTo>
                        <a:lnTo>
                          <a:pt x="20" y="113"/>
                        </a:lnTo>
                        <a:lnTo>
                          <a:pt x="11" y="142"/>
                        </a:lnTo>
                        <a:lnTo>
                          <a:pt x="5" y="174"/>
                        </a:lnTo>
                        <a:lnTo>
                          <a:pt x="2" y="207"/>
                        </a:lnTo>
                        <a:lnTo>
                          <a:pt x="0" y="241"/>
                        </a:lnTo>
                        <a:lnTo>
                          <a:pt x="2" y="282"/>
                        </a:lnTo>
                        <a:lnTo>
                          <a:pt x="7" y="322"/>
                        </a:lnTo>
                        <a:lnTo>
                          <a:pt x="16" y="361"/>
                        </a:lnTo>
                        <a:lnTo>
                          <a:pt x="22" y="379"/>
                        </a:lnTo>
                        <a:lnTo>
                          <a:pt x="30" y="398"/>
                        </a:lnTo>
                        <a:lnTo>
                          <a:pt x="37" y="415"/>
                        </a:lnTo>
                        <a:lnTo>
                          <a:pt x="46" y="433"/>
                        </a:lnTo>
                        <a:lnTo>
                          <a:pt x="67" y="467"/>
                        </a:lnTo>
                        <a:lnTo>
                          <a:pt x="91" y="500"/>
                        </a:lnTo>
                        <a:lnTo>
                          <a:pt x="121" y="532"/>
                        </a:lnTo>
                        <a:lnTo>
                          <a:pt x="150" y="559"/>
                        </a:lnTo>
                        <a:lnTo>
                          <a:pt x="183" y="584"/>
                        </a:lnTo>
                        <a:lnTo>
                          <a:pt x="217" y="605"/>
                        </a:lnTo>
                        <a:lnTo>
                          <a:pt x="253" y="622"/>
                        </a:lnTo>
                        <a:lnTo>
                          <a:pt x="290" y="634"/>
                        </a:lnTo>
                        <a:lnTo>
                          <a:pt x="328" y="644"/>
                        </a:lnTo>
                        <a:lnTo>
                          <a:pt x="368" y="650"/>
                        </a:lnTo>
                        <a:lnTo>
                          <a:pt x="411" y="652"/>
                        </a:lnTo>
                        <a:lnTo>
                          <a:pt x="452" y="650"/>
                        </a:lnTo>
                        <a:lnTo>
                          <a:pt x="493" y="644"/>
                        </a:lnTo>
                        <a:lnTo>
                          <a:pt x="531" y="634"/>
                        </a:lnTo>
                        <a:lnTo>
                          <a:pt x="549" y="627"/>
                        </a:lnTo>
                        <a:lnTo>
                          <a:pt x="558" y="624"/>
                        </a:lnTo>
                        <a:lnTo>
                          <a:pt x="569" y="622"/>
                        </a:lnTo>
                        <a:lnTo>
                          <a:pt x="586" y="613"/>
                        </a:lnTo>
                        <a:lnTo>
                          <a:pt x="604" y="605"/>
                        </a:lnTo>
                        <a:lnTo>
                          <a:pt x="638" y="584"/>
                        </a:lnTo>
                        <a:lnTo>
                          <a:pt x="654" y="572"/>
                        </a:lnTo>
                        <a:lnTo>
                          <a:pt x="662" y="565"/>
                        </a:lnTo>
                        <a:lnTo>
                          <a:pt x="671" y="559"/>
                        </a:lnTo>
                        <a:lnTo>
                          <a:pt x="702" y="532"/>
                        </a:lnTo>
                        <a:lnTo>
                          <a:pt x="711" y="521"/>
                        </a:lnTo>
                        <a:lnTo>
                          <a:pt x="716" y="515"/>
                        </a:lnTo>
                        <a:lnTo>
                          <a:pt x="722" y="511"/>
                        </a:lnTo>
                        <a:lnTo>
                          <a:pt x="740" y="490"/>
                        </a:lnTo>
                        <a:lnTo>
                          <a:pt x="726" y="444"/>
                        </a:lnTo>
                        <a:lnTo>
                          <a:pt x="719" y="450"/>
                        </a:lnTo>
                        <a:lnTo>
                          <a:pt x="717" y="452"/>
                        </a:lnTo>
                        <a:lnTo>
                          <a:pt x="716" y="454"/>
                        </a:lnTo>
                        <a:lnTo>
                          <a:pt x="714" y="458"/>
                        </a:lnTo>
                        <a:lnTo>
                          <a:pt x="702" y="474"/>
                        </a:lnTo>
                        <a:lnTo>
                          <a:pt x="689" y="489"/>
                        </a:lnTo>
                        <a:lnTo>
                          <a:pt x="675" y="505"/>
                        </a:lnTo>
                        <a:lnTo>
                          <a:pt x="671" y="507"/>
                        </a:lnTo>
                        <a:lnTo>
                          <a:pt x="668" y="508"/>
                        </a:lnTo>
                        <a:lnTo>
                          <a:pt x="667" y="511"/>
                        </a:lnTo>
                        <a:lnTo>
                          <a:pt x="660" y="517"/>
                        </a:lnTo>
                        <a:lnTo>
                          <a:pt x="647" y="530"/>
                        </a:lnTo>
                        <a:lnTo>
                          <a:pt x="617" y="552"/>
                        </a:lnTo>
                        <a:lnTo>
                          <a:pt x="586" y="571"/>
                        </a:lnTo>
                        <a:lnTo>
                          <a:pt x="554" y="586"/>
                        </a:lnTo>
                        <a:lnTo>
                          <a:pt x="520" y="598"/>
                        </a:lnTo>
                        <a:lnTo>
                          <a:pt x="502" y="602"/>
                        </a:lnTo>
                        <a:lnTo>
                          <a:pt x="485" y="607"/>
                        </a:lnTo>
                        <a:lnTo>
                          <a:pt x="448" y="613"/>
                        </a:lnTo>
                        <a:lnTo>
                          <a:pt x="438" y="613"/>
                        </a:lnTo>
                        <a:lnTo>
                          <a:pt x="429" y="614"/>
                        </a:lnTo>
                        <a:lnTo>
                          <a:pt x="411" y="615"/>
                        </a:lnTo>
                        <a:lnTo>
                          <a:pt x="372" y="613"/>
                        </a:lnTo>
                        <a:lnTo>
                          <a:pt x="336" y="607"/>
                        </a:lnTo>
                        <a:lnTo>
                          <a:pt x="301" y="598"/>
                        </a:lnTo>
                        <a:lnTo>
                          <a:pt x="268" y="586"/>
                        </a:lnTo>
                        <a:lnTo>
                          <a:pt x="235" y="571"/>
                        </a:lnTo>
                        <a:lnTo>
                          <a:pt x="205" y="552"/>
                        </a:lnTo>
                        <a:lnTo>
                          <a:pt x="175" y="530"/>
                        </a:lnTo>
                        <a:lnTo>
                          <a:pt x="148" y="505"/>
                        </a:lnTo>
                        <a:lnTo>
                          <a:pt x="133" y="490"/>
                        </a:lnTo>
                        <a:lnTo>
                          <a:pt x="121" y="477"/>
                        </a:lnTo>
                        <a:lnTo>
                          <a:pt x="99" y="447"/>
                        </a:lnTo>
                        <a:lnTo>
                          <a:pt x="80" y="415"/>
                        </a:lnTo>
                        <a:lnTo>
                          <a:pt x="65" y="384"/>
                        </a:lnTo>
                        <a:lnTo>
                          <a:pt x="53" y="350"/>
                        </a:lnTo>
                        <a:lnTo>
                          <a:pt x="45" y="314"/>
                        </a:lnTo>
                        <a:lnTo>
                          <a:pt x="39" y="278"/>
                        </a:lnTo>
                        <a:lnTo>
                          <a:pt x="38" y="241"/>
                        </a:lnTo>
                        <a:lnTo>
                          <a:pt x="39" y="206"/>
                        </a:lnTo>
                        <a:lnTo>
                          <a:pt x="42" y="173"/>
                        </a:lnTo>
                        <a:lnTo>
                          <a:pt x="49" y="141"/>
                        </a:lnTo>
                        <a:lnTo>
                          <a:pt x="59" y="112"/>
                        </a:lnTo>
                        <a:lnTo>
                          <a:pt x="71" y="81"/>
                        </a:lnTo>
                        <a:lnTo>
                          <a:pt x="85" y="53"/>
                        </a:lnTo>
                        <a:lnTo>
                          <a:pt x="104" y="25"/>
                        </a:lnTo>
                        <a:lnTo>
                          <a:pt x="125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7619400" y="4205160"/>
                    <a:ext cx="1749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615">
                        <a:moveTo>
                          <a:pt x="135" y="4"/>
                        </a:moveTo>
                        <a:lnTo>
                          <a:pt x="87" y="0"/>
                        </a:lnTo>
                        <a:lnTo>
                          <a:pt x="66" y="25"/>
                        </a:lnTo>
                        <a:lnTo>
                          <a:pt x="47" y="53"/>
                        </a:lnTo>
                        <a:lnTo>
                          <a:pt x="33" y="81"/>
                        </a:lnTo>
                        <a:lnTo>
                          <a:pt x="21" y="112"/>
                        </a:lnTo>
                        <a:lnTo>
                          <a:pt x="11" y="141"/>
                        </a:lnTo>
                        <a:lnTo>
                          <a:pt x="4" y="173"/>
                        </a:lnTo>
                        <a:lnTo>
                          <a:pt x="1" y="206"/>
                        </a:lnTo>
                        <a:lnTo>
                          <a:pt x="0" y="241"/>
                        </a:lnTo>
                        <a:lnTo>
                          <a:pt x="1" y="278"/>
                        </a:lnTo>
                        <a:lnTo>
                          <a:pt x="7" y="314"/>
                        </a:lnTo>
                        <a:lnTo>
                          <a:pt x="15" y="350"/>
                        </a:lnTo>
                        <a:lnTo>
                          <a:pt x="27" y="384"/>
                        </a:lnTo>
                        <a:lnTo>
                          <a:pt x="42" y="415"/>
                        </a:lnTo>
                        <a:lnTo>
                          <a:pt x="61" y="447"/>
                        </a:lnTo>
                        <a:lnTo>
                          <a:pt x="83" y="477"/>
                        </a:lnTo>
                        <a:lnTo>
                          <a:pt x="95" y="490"/>
                        </a:lnTo>
                        <a:lnTo>
                          <a:pt x="110" y="505"/>
                        </a:lnTo>
                        <a:lnTo>
                          <a:pt x="137" y="530"/>
                        </a:lnTo>
                        <a:lnTo>
                          <a:pt x="167" y="552"/>
                        </a:lnTo>
                        <a:lnTo>
                          <a:pt x="197" y="571"/>
                        </a:lnTo>
                        <a:lnTo>
                          <a:pt x="230" y="586"/>
                        </a:lnTo>
                        <a:lnTo>
                          <a:pt x="263" y="598"/>
                        </a:lnTo>
                        <a:lnTo>
                          <a:pt x="298" y="607"/>
                        </a:lnTo>
                        <a:lnTo>
                          <a:pt x="334" y="613"/>
                        </a:lnTo>
                        <a:lnTo>
                          <a:pt x="373" y="615"/>
                        </a:lnTo>
                        <a:lnTo>
                          <a:pt x="391" y="614"/>
                        </a:lnTo>
                        <a:lnTo>
                          <a:pt x="400" y="613"/>
                        </a:lnTo>
                        <a:lnTo>
                          <a:pt x="410" y="613"/>
                        </a:lnTo>
                        <a:lnTo>
                          <a:pt x="447" y="607"/>
                        </a:lnTo>
                        <a:lnTo>
                          <a:pt x="464" y="602"/>
                        </a:lnTo>
                        <a:lnTo>
                          <a:pt x="482" y="598"/>
                        </a:lnTo>
                        <a:lnTo>
                          <a:pt x="516" y="586"/>
                        </a:lnTo>
                        <a:lnTo>
                          <a:pt x="548" y="571"/>
                        </a:lnTo>
                        <a:lnTo>
                          <a:pt x="579" y="552"/>
                        </a:lnTo>
                        <a:lnTo>
                          <a:pt x="609" y="530"/>
                        </a:lnTo>
                        <a:lnTo>
                          <a:pt x="622" y="517"/>
                        </a:lnTo>
                        <a:lnTo>
                          <a:pt x="629" y="511"/>
                        </a:lnTo>
                        <a:lnTo>
                          <a:pt x="630" y="508"/>
                        </a:lnTo>
                        <a:lnTo>
                          <a:pt x="633" y="507"/>
                        </a:lnTo>
                        <a:lnTo>
                          <a:pt x="637" y="505"/>
                        </a:lnTo>
                        <a:lnTo>
                          <a:pt x="651" y="489"/>
                        </a:lnTo>
                        <a:lnTo>
                          <a:pt x="664" y="474"/>
                        </a:lnTo>
                        <a:lnTo>
                          <a:pt x="676" y="458"/>
                        </a:lnTo>
                        <a:lnTo>
                          <a:pt x="678" y="454"/>
                        </a:lnTo>
                        <a:lnTo>
                          <a:pt x="679" y="452"/>
                        </a:lnTo>
                        <a:lnTo>
                          <a:pt x="681" y="450"/>
                        </a:lnTo>
                        <a:lnTo>
                          <a:pt x="688" y="444"/>
                        </a:lnTo>
                        <a:lnTo>
                          <a:pt x="679" y="421"/>
                        </a:lnTo>
                        <a:lnTo>
                          <a:pt x="671" y="401"/>
                        </a:lnTo>
                        <a:lnTo>
                          <a:pt x="664" y="410"/>
                        </a:lnTo>
                        <a:lnTo>
                          <a:pt x="661" y="414"/>
                        </a:lnTo>
                        <a:lnTo>
                          <a:pt x="659" y="420"/>
                        </a:lnTo>
                        <a:lnTo>
                          <a:pt x="644" y="440"/>
                        </a:lnTo>
                        <a:lnTo>
                          <a:pt x="628" y="460"/>
                        </a:lnTo>
                        <a:lnTo>
                          <a:pt x="619" y="469"/>
                        </a:lnTo>
                        <a:lnTo>
                          <a:pt x="614" y="473"/>
                        </a:lnTo>
                        <a:lnTo>
                          <a:pt x="612" y="475"/>
                        </a:lnTo>
                        <a:lnTo>
                          <a:pt x="611" y="475"/>
                        </a:lnTo>
                        <a:lnTo>
                          <a:pt x="611" y="477"/>
                        </a:lnTo>
                        <a:lnTo>
                          <a:pt x="611" y="479"/>
                        </a:lnTo>
                        <a:lnTo>
                          <a:pt x="597" y="489"/>
                        </a:lnTo>
                        <a:lnTo>
                          <a:pt x="585" y="500"/>
                        </a:lnTo>
                        <a:lnTo>
                          <a:pt x="558" y="521"/>
                        </a:lnTo>
                        <a:lnTo>
                          <a:pt x="553" y="522"/>
                        </a:lnTo>
                        <a:lnTo>
                          <a:pt x="550" y="524"/>
                        </a:lnTo>
                        <a:lnTo>
                          <a:pt x="543" y="529"/>
                        </a:lnTo>
                        <a:lnTo>
                          <a:pt x="529" y="538"/>
                        </a:lnTo>
                        <a:lnTo>
                          <a:pt x="515" y="545"/>
                        </a:lnTo>
                        <a:lnTo>
                          <a:pt x="501" y="552"/>
                        </a:lnTo>
                        <a:lnTo>
                          <a:pt x="485" y="557"/>
                        </a:lnTo>
                        <a:lnTo>
                          <a:pt x="477" y="559"/>
                        </a:lnTo>
                        <a:lnTo>
                          <a:pt x="470" y="563"/>
                        </a:lnTo>
                        <a:lnTo>
                          <a:pt x="439" y="571"/>
                        </a:lnTo>
                        <a:lnTo>
                          <a:pt x="422" y="573"/>
                        </a:lnTo>
                        <a:lnTo>
                          <a:pt x="406" y="575"/>
                        </a:lnTo>
                        <a:lnTo>
                          <a:pt x="397" y="575"/>
                        </a:lnTo>
                        <a:lnTo>
                          <a:pt x="392" y="575"/>
                        </a:lnTo>
                        <a:lnTo>
                          <a:pt x="390" y="575"/>
                        </a:lnTo>
                        <a:lnTo>
                          <a:pt x="389" y="576"/>
                        </a:lnTo>
                        <a:lnTo>
                          <a:pt x="373" y="577"/>
                        </a:lnTo>
                        <a:lnTo>
                          <a:pt x="338" y="575"/>
                        </a:lnTo>
                        <a:lnTo>
                          <a:pt x="305" y="571"/>
                        </a:lnTo>
                        <a:lnTo>
                          <a:pt x="273" y="563"/>
                        </a:lnTo>
                        <a:lnTo>
                          <a:pt x="244" y="552"/>
                        </a:lnTo>
                        <a:lnTo>
                          <a:pt x="214" y="538"/>
                        </a:lnTo>
                        <a:lnTo>
                          <a:pt x="187" y="521"/>
                        </a:lnTo>
                        <a:lnTo>
                          <a:pt x="160" y="500"/>
                        </a:lnTo>
                        <a:lnTo>
                          <a:pt x="136" y="479"/>
                        </a:lnTo>
                        <a:lnTo>
                          <a:pt x="112" y="453"/>
                        </a:lnTo>
                        <a:lnTo>
                          <a:pt x="92" y="426"/>
                        </a:lnTo>
                        <a:lnTo>
                          <a:pt x="75" y="397"/>
                        </a:lnTo>
                        <a:lnTo>
                          <a:pt x="67" y="382"/>
                        </a:lnTo>
                        <a:lnTo>
                          <a:pt x="61" y="369"/>
                        </a:lnTo>
                        <a:lnTo>
                          <a:pt x="54" y="353"/>
                        </a:lnTo>
                        <a:lnTo>
                          <a:pt x="50" y="338"/>
                        </a:lnTo>
                        <a:lnTo>
                          <a:pt x="43" y="307"/>
                        </a:lnTo>
                        <a:lnTo>
                          <a:pt x="40" y="290"/>
                        </a:lnTo>
                        <a:lnTo>
                          <a:pt x="38" y="274"/>
                        </a:lnTo>
                        <a:lnTo>
                          <a:pt x="37" y="241"/>
                        </a:lnTo>
                        <a:lnTo>
                          <a:pt x="38" y="206"/>
                        </a:lnTo>
                        <a:lnTo>
                          <a:pt x="43" y="173"/>
                        </a:lnTo>
                        <a:lnTo>
                          <a:pt x="50" y="141"/>
                        </a:lnTo>
                        <a:lnTo>
                          <a:pt x="61" y="112"/>
                        </a:lnTo>
                        <a:lnTo>
                          <a:pt x="75" y="82"/>
                        </a:lnTo>
                        <a:lnTo>
                          <a:pt x="92" y="55"/>
                        </a:lnTo>
                        <a:lnTo>
                          <a:pt x="111" y="28"/>
                        </a:lnTo>
                        <a:lnTo>
                          <a:pt x="135" y="4"/>
                        </a:lnTo>
                        <a:close/>
                      </a:path>
                    </a:pathLst>
                  </a:custGeom>
                  <a:solidFill>
                    <a:srgbClr val="00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7657560" y="4214160"/>
                    <a:ext cx="11376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428">
                        <a:moveTo>
                          <a:pt x="37" y="204"/>
                        </a:moveTo>
                        <a:lnTo>
                          <a:pt x="40" y="166"/>
                        </a:lnTo>
                        <a:lnTo>
                          <a:pt x="44" y="148"/>
                        </a:lnTo>
                        <a:lnTo>
                          <a:pt x="51" y="132"/>
                        </a:lnTo>
                        <a:lnTo>
                          <a:pt x="57" y="115"/>
                        </a:lnTo>
                        <a:lnTo>
                          <a:pt x="68" y="101"/>
                        </a:lnTo>
                        <a:lnTo>
                          <a:pt x="91" y="72"/>
                        </a:lnTo>
                        <a:lnTo>
                          <a:pt x="112" y="53"/>
                        </a:lnTo>
                        <a:lnTo>
                          <a:pt x="134" y="38"/>
                        </a:lnTo>
                        <a:lnTo>
                          <a:pt x="158" y="27"/>
                        </a:lnTo>
                        <a:lnTo>
                          <a:pt x="185" y="21"/>
                        </a:lnTo>
                        <a:lnTo>
                          <a:pt x="131" y="0"/>
                        </a:lnTo>
                        <a:lnTo>
                          <a:pt x="96" y="19"/>
                        </a:lnTo>
                        <a:lnTo>
                          <a:pt x="80" y="31"/>
                        </a:lnTo>
                        <a:lnTo>
                          <a:pt x="65" y="46"/>
                        </a:lnTo>
                        <a:lnTo>
                          <a:pt x="48" y="62"/>
                        </a:lnTo>
                        <a:lnTo>
                          <a:pt x="36" y="79"/>
                        </a:lnTo>
                        <a:lnTo>
                          <a:pt x="23" y="97"/>
                        </a:lnTo>
                        <a:lnTo>
                          <a:pt x="15" y="118"/>
                        </a:lnTo>
                        <a:lnTo>
                          <a:pt x="7" y="137"/>
                        </a:lnTo>
                        <a:lnTo>
                          <a:pt x="3" y="158"/>
                        </a:lnTo>
                        <a:lnTo>
                          <a:pt x="0" y="180"/>
                        </a:lnTo>
                        <a:lnTo>
                          <a:pt x="0" y="204"/>
                        </a:lnTo>
                        <a:lnTo>
                          <a:pt x="0" y="225"/>
                        </a:lnTo>
                        <a:lnTo>
                          <a:pt x="3" y="248"/>
                        </a:lnTo>
                        <a:lnTo>
                          <a:pt x="7" y="268"/>
                        </a:lnTo>
                        <a:lnTo>
                          <a:pt x="15" y="290"/>
                        </a:lnTo>
                        <a:lnTo>
                          <a:pt x="23" y="308"/>
                        </a:lnTo>
                        <a:lnTo>
                          <a:pt x="36" y="327"/>
                        </a:lnTo>
                        <a:lnTo>
                          <a:pt x="48" y="344"/>
                        </a:lnTo>
                        <a:lnTo>
                          <a:pt x="65" y="362"/>
                        </a:lnTo>
                        <a:lnTo>
                          <a:pt x="81" y="377"/>
                        </a:lnTo>
                        <a:lnTo>
                          <a:pt x="99" y="391"/>
                        </a:lnTo>
                        <a:lnTo>
                          <a:pt x="117" y="401"/>
                        </a:lnTo>
                        <a:lnTo>
                          <a:pt x="137" y="411"/>
                        </a:lnTo>
                        <a:lnTo>
                          <a:pt x="156" y="418"/>
                        </a:lnTo>
                        <a:lnTo>
                          <a:pt x="178" y="424"/>
                        </a:lnTo>
                        <a:lnTo>
                          <a:pt x="199" y="427"/>
                        </a:lnTo>
                        <a:lnTo>
                          <a:pt x="223" y="428"/>
                        </a:lnTo>
                        <a:lnTo>
                          <a:pt x="227" y="427"/>
                        </a:lnTo>
                        <a:lnTo>
                          <a:pt x="233" y="427"/>
                        </a:lnTo>
                        <a:lnTo>
                          <a:pt x="244" y="427"/>
                        </a:lnTo>
                        <a:lnTo>
                          <a:pt x="267" y="424"/>
                        </a:lnTo>
                        <a:lnTo>
                          <a:pt x="288" y="418"/>
                        </a:lnTo>
                        <a:lnTo>
                          <a:pt x="309" y="411"/>
                        </a:lnTo>
                        <a:lnTo>
                          <a:pt x="327" y="401"/>
                        </a:lnTo>
                        <a:lnTo>
                          <a:pt x="336" y="395"/>
                        </a:lnTo>
                        <a:lnTo>
                          <a:pt x="347" y="391"/>
                        </a:lnTo>
                        <a:lnTo>
                          <a:pt x="364" y="377"/>
                        </a:lnTo>
                        <a:lnTo>
                          <a:pt x="382" y="362"/>
                        </a:lnTo>
                        <a:lnTo>
                          <a:pt x="384" y="358"/>
                        </a:lnTo>
                        <a:lnTo>
                          <a:pt x="385" y="356"/>
                        </a:lnTo>
                        <a:lnTo>
                          <a:pt x="387" y="355"/>
                        </a:lnTo>
                        <a:lnTo>
                          <a:pt x="394" y="348"/>
                        </a:lnTo>
                        <a:lnTo>
                          <a:pt x="405" y="333"/>
                        </a:lnTo>
                        <a:lnTo>
                          <a:pt x="416" y="317"/>
                        </a:lnTo>
                        <a:lnTo>
                          <a:pt x="425" y="302"/>
                        </a:lnTo>
                        <a:lnTo>
                          <a:pt x="432" y="285"/>
                        </a:lnTo>
                        <a:lnTo>
                          <a:pt x="438" y="270"/>
                        </a:lnTo>
                        <a:lnTo>
                          <a:pt x="443" y="251"/>
                        </a:lnTo>
                        <a:lnTo>
                          <a:pt x="444" y="242"/>
                        </a:lnTo>
                        <a:lnTo>
                          <a:pt x="446" y="234"/>
                        </a:lnTo>
                        <a:lnTo>
                          <a:pt x="410" y="191"/>
                        </a:lnTo>
                        <a:lnTo>
                          <a:pt x="410" y="204"/>
                        </a:lnTo>
                        <a:lnTo>
                          <a:pt x="409" y="222"/>
                        </a:lnTo>
                        <a:lnTo>
                          <a:pt x="407" y="240"/>
                        </a:lnTo>
                        <a:lnTo>
                          <a:pt x="402" y="257"/>
                        </a:lnTo>
                        <a:lnTo>
                          <a:pt x="396" y="275"/>
                        </a:lnTo>
                        <a:lnTo>
                          <a:pt x="392" y="282"/>
                        </a:lnTo>
                        <a:lnTo>
                          <a:pt x="390" y="285"/>
                        </a:lnTo>
                        <a:lnTo>
                          <a:pt x="388" y="290"/>
                        </a:lnTo>
                        <a:lnTo>
                          <a:pt x="379" y="306"/>
                        </a:lnTo>
                        <a:lnTo>
                          <a:pt x="368" y="321"/>
                        </a:lnTo>
                        <a:lnTo>
                          <a:pt x="356" y="336"/>
                        </a:lnTo>
                        <a:lnTo>
                          <a:pt x="340" y="349"/>
                        </a:lnTo>
                        <a:lnTo>
                          <a:pt x="325" y="360"/>
                        </a:lnTo>
                        <a:lnTo>
                          <a:pt x="309" y="369"/>
                        </a:lnTo>
                        <a:lnTo>
                          <a:pt x="305" y="370"/>
                        </a:lnTo>
                        <a:lnTo>
                          <a:pt x="301" y="373"/>
                        </a:lnTo>
                        <a:lnTo>
                          <a:pt x="294" y="377"/>
                        </a:lnTo>
                        <a:lnTo>
                          <a:pt x="276" y="383"/>
                        </a:lnTo>
                        <a:lnTo>
                          <a:pt x="259" y="387"/>
                        </a:lnTo>
                        <a:lnTo>
                          <a:pt x="241" y="390"/>
                        </a:lnTo>
                        <a:lnTo>
                          <a:pt x="223" y="391"/>
                        </a:lnTo>
                        <a:lnTo>
                          <a:pt x="204" y="390"/>
                        </a:lnTo>
                        <a:lnTo>
                          <a:pt x="185" y="387"/>
                        </a:lnTo>
                        <a:lnTo>
                          <a:pt x="167" y="383"/>
                        </a:lnTo>
                        <a:lnTo>
                          <a:pt x="151" y="377"/>
                        </a:lnTo>
                        <a:lnTo>
                          <a:pt x="134" y="369"/>
                        </a:lnTo>
                        <a:lnTo>
                          <a:pt x="120" y="360"/>
                        </a:lnTo>
                        <a:lnTo>
                          <a:pt x="105" y="349"/>
                        </a:lnTo>
                        <a:lnTo>
                          <a:pt x="91" y="336"/>
                        </a:lnTo>
                        <a:lnTo>
                          <a:pt x="78" y="321"/>
                        </a:lnTo>
                        <a:lnTo>
                          <a:pt x="68" y="306"/>
                        </a:lnTo>
                        <a:lnTo>
                          <a:pt x="57" y="290"/>
                        </a:lnTo>
                        <a:lnTo>
                          <a:pt x="51" y="275"/>
                        </a:lnTo>
                        <a:lnTo>
                          <a:pt x="44" y="257"/>
                        </a:lnTo>
                        <a:lnTo>
                          <a:pt x="40" y="240"/>
                        </a:lnTo>
                        <a:lnTo>
                          <a:pt x="37" y="222"/>
                        </a:lnTo>
                        <a:lnTo>
                          <a:pt x="37" y="204"/>
                        </a:lnTo>
                        <a:close/>
                      </a:path>
                    </a:pathLst>
                  </a:custGeom>
                  <a:solidFill>
                    <a:srgbClr val="00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7666920" y="4219920"/>
                    <a:ext cx="9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370">
                        <a:moveTo>
                          <a:pt x="54" y="51"/>
                        </a:moveTo>
                        <a:lnTo>
                          <a:pt x="31" y="80"/>
                        </a:lnTo>
                        <a:lnTo>
                          <a:pt x="20" y="94"/>
                        </a:lnTo>
                        <a:lnTo>
                          <a:pt x="14" y="111"/>
                        </a:lnTo>
                        <a:lnTo>
                          <a:pt x="7" y="127"/>
                        </a:lnTo>
                        <a:lnTo>
                          <a:pt x="3" y="145"/>
                        </a:lnTo>
                        <a:lnTo>
                          <a:pt x="0" y="183"/>
                        </a:lnTo>
                        <a:lnTo>
                          <a:pt x="0" y="201"/>
                        </a:lnTo>
                        <a:lnTo>
                          <a:pt x="3" y="219"/>
                        </a:lnTo>
                        <a:lnTo>
                          <a:pt x="7" y="236"/>
                        </a:lnTo>
                        <a:lnTo>
                          <a:pt x="14" y="254"/>
                        </a:lnTo>
                        <a:lnTo>
                          <a:pt x="20" y="269"/>
                        </a:lnTo>
                        <a:lnTo>
                          <a:pt x="31" y="285"/>
                        </a:lnTo>
                        <a:lnTo>
                          <a:pt x="41" y="300"/>
                        </a:lnTo>
                        <a:lnTo>
                          <a:pt x="54" y="315"/>
                        </a:lnTo>
                        <a:lnTo>
                          <a:pt x="68" y="328"/>
                        </a:lnTo>
                        <a:lnTo>
                          <a:pt x="83" y="339"/>
                        </a:lnTo>
                        <a:lnTo>
                          <a:pt x="97" y="348"/>
                        </a:lnTo>
                        <a:lnTo>
                          <a:pt x="114" y="356"/>
                        </a:lnTo>
                        <a:lnTo>
                          <a:pt x="130" y="362"/>
                        </a:lnTo>
                        <a:lnTo>
                          <a:pt x="148" y="366"/>
                        </a:lnTo>
                        <a:lnTo>
                          <a:pt x="167" y="369"/>
                        </a:lnTo>
                        <a:lnTo>
                          <a:pt x="186" y="370"/>
                        </a:lnTo>
                        <a:lnTo>
                          <a:pt x="204" y="369"/>
                        </a:lnTo>
                        <a:lnTo>
                          <a:pt x="222" y="366"/>
                        </a:lnTo>
                        <a:lnTo>
                          <a:pt x="239" y="362"/>
                        </a:lnTo>
                        <a:lnTo>
                          <a:pt x="257" y="356"/>
                        </a:lnTo>
                        <a:lnTo>
                          <a:pt x="264" y="352"/>
                        </a:lnTo>
                        <a:lnTo>
                          <a:pt x="268" y="349"/>
                        </a:lnTo>
                        <a:lnTo>
                          <a:pt x="272" y="348"/>
                        </a:lnTo>
                        <a:lnTo>
                          <a:pt x="288" y="339"/>
                        </a:lnTo>
                        <a:lnTo>
                          <a:pt x="303" y="328"/>
                        </a:lnTo>
                        <a:lnTo>
                          <a:pt x="319" y="315"/>
                        </a:lnTo>
                        <a:lnTo>
                          <a:pt x="331" y="300"/>
                        </a:lnTo>
                        <a:lnTo>
                          <a:pt x="342" y="285"/>
                        </a:lnTo>
                        <a:lnTo>
                          <a:pt x="351" y="269"/>
                        </a:lnTo>
                        <a:lnTo>
                          <a:pt x="353" y="264"/>
                        </a:lnTo>
                        <a:lnTo>
                          <a:pt x="355" y="261"/>
                        </a:lnTo>
                        <a:lnTo>
                          <a:pt x="359" y="254"/>
                        </a:lnTo>
                        <a:lnTo>
                          <a:pt x="365" y="236"/>
                        </a:lnTo>
                        <a:lnTo>
                          <a:pt x="370" y="219"/>
                        </a:lnTo>
                        <a:lnTo>
                          <a:pt x="372" y="201"/>
                        </a:lnTo>
                        <a:lnTo>
                          <a:pt x="373" y="183"/>
                        </a:lnTo>
                        <a:lnTo>
                          <a:pt x="373" y="170"/>
                        </a:lnTo>
                        <a:lnTo>
                          <a:pt x="341" y="136"/>
                        </a:lnTo>
                        <a:lnTo>
                          <a:pt x="321" y="116"/>
                        </a:lnTo>
                        <a:lnTo>
                          <a:pt x="327" y="131"/>
                        </a:lnTo>
                        <a:lnTo>
                          <a:pt x="331" y="148"/>
                        </a:lnTo>
                        <a:lnTo>
                          <a:pt x="334" y="165"/>
                        </a:lnTo>
                        <a:lnTo>
                          <a:pt x="336" y="183"/>
                        </a:lnTo>
                        <a:lnTo>
                          <a:pt x="334" y="196"/>
                        </a:lnTo>
                        <a:lnTo>
                          <a:pt x="332" y="211"/>
                        </a:lnTo>
                        <a:lnTo>
                          <a:pt x="329" y="225"/>
                        </a:lnTo>
                        <a:lnTo>
                          <a:pt x="324" y="239"/>
                        </a:lnTo>
                        <a:lnTo>
                          <a:pt x="317" y="252"/>
                        </a:lnTo>
                        <a:lnTo>
                          <a:pt x="311" y="264"/>
                        </a:lnTo>
                        <a:lnTo>
                          <a:pt x="302" y="276"/>
                        </a:lnTo>
                        <a:lnTo>
                          <a:pt x="293" y="288"/>
                        </a:lnTo>
                        <a:lnTo>
                          <a:pt x="280" y="297"/>
                        </a:lnTo>
                        <a:lnTo>
                          <a:pt x="269" y="306"/>
                        </a:lnTo>
                        <a:lnTo>
                          <a:pt x="255" y="314"/>
                        </a:lnTo>
                        <a:lnTo>
                          <a:pt x="243" y="321"/>
                        </a:lnTo>
                        <a:lnTo>
                          <a:pt x="228" y="326"/>
                        </a:lnTo>
                        <a:lnTo>
                          <a:pt x="214" y="329"/>
                        </a:lnTo>
                        <a:lnTo>
                          <a:pt x="200" y="331"/>
                        </a:lnTo>
                        <a:lnTo>
                          <a:pt x="186" y="332"/>
                        </a:lnTo>
                        <a:lnTo>
                          <a:pt x="170" y="331"/>
                        </a:lnTo>
                        <a:lnTo>
                          <a:pt x="155" y="329"/>
                        </a:lnTo>
                        <a:lnTo>
                          <a:pt x="142" y="326"/>
                        </a:lnTo>
                        <a:lnTo>
                          <a:pt x="128" y="321"/>
                        </a:lnTo>
                        <a:lnTo>
                          <a:pt x="114" y="314"/>
                        </a:lnTo>
                        <a:lnTo>
                          <a:pt x="102" y="306"/>
                        </a:lnTo>
                        <a:lnTo>
                          <a:pt x="80" y="288"/>
                        </a:lnTo>
                        <a:lnTo>
                          <a:pt x="69" y="276"/>
                        </a:lnTo>
                        <a:lnTo>
                          <a:pt x="61" y="264"/>
                        </a:lnTo>
                        <a:lnTo>
                          <a:pt x="53" y="252"/>
                        </a:lnTo>
                        <a:lnTo>
                          <a:pt x="48" y="239"/>
                        </a:lnTo>
                        <a:lnTo>
                          <a:pt x="42" y="225"/>
                        </a:lnTo>
                        <a:lnTo>
                          <a:pt x="40" y="211"/>
                        </a:lnTo>
                        <a:lnTo>
                          <a:pt x="37" y="196"/>
                        </a:lnTo>
                        <a:lnTo>
                          <a:pt x="37" y="183"/>
                        </a:lnTo>
                        <a:lnTo>
                          <a:pt x="40" y="152"/>
                        </a:lnTo>
                        <a:lnTo>
                          <a:pt x="48" y="125"/>
                        </a:lnTo>
                        <a:lnTo>
                          <a:pt x="61" y="99"/>
                        </a:lnTo>
                        <a:lnTo>
                          <a:pt x="80" y="77"/>
                        </a:lnTo>
                        <a:lnTo>
                          <a:pt x="102" y="58"/>
                        </a:lnTo>
                        <a:lnTo>
                          <a:pt x="128" y="44"/>
                        </a:lnTo>
                        <a:lnTo>
                          <a:pt x="155" y="37"/>
                        </a:lnTo>
                        <a:lnTo>
                          <a:pt x="186" y="34"/>
                        </a:lnTo>
                        <a:lnTo>
                          <a:pt x="201" y="34"/>
                        </a:lnTo>
                        <a:lnTo>
                          <a:pt x="217" y="37"/>
                        </a:lnTo>
                        <a:lnTo>
                          <a:pt x="183" y="17"/>
                        </a:lnTo>
                        <a:lnTo>
                          <a:pt x="148" y="0"/>
                        </a:lnTo>
                        <a:lnTo>
                          <a:pt x="121" y="6"/>
                        </a:lnTo>
                        <a:lnTo>
                          <a:pt x="97" y="17"/>
                        </a:lnTo>
                        <a:lnTo>
                          <a:pt x="75" y="32"/>
                        </a:lnTo>
                        <a:lnTo>
                          <a:pt x="54" y="51"/>
                        </a:lnTo>
                        <a:close/>
                      </a:path>
                    </a:pathLst>
                  </a:custGeom>
                  <a:solidFill>
                    <a:srgbClr val="00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7676640" y="4228560"/>
                    <a:ext cx="7560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298">
                        <a:moveTo>
                          <a:pt x="180" y="3"/>
                        </a:moveTo>
                        <a:lnTo>
                          <a:pt x="164" y="0"/>
                        </a:lnTo>
                        <a:lnTo>
                          <a:pt x="149" y="0"/>
                        </a:lnTo>
                        <a:lnTo>
                          <a:pt x="118" y="3"/>
                        </a:lnTo>
                        <a:lnTo>
                          <a:pt x="91" y="10"/>
                        </a:lnTo>
                        <a:lnTo>
                          <a:pt x="65" y="24"/>
                        </a:lnTo>
                        <a:lnTo>
                          <a:pt x="43" y="43"/>
                        </a:lnTo>
                        <a:lnTo>
                          <a:pt x="24" y="65"/>
                        </a:lnTo>
                        <a:lnTo>
                          <a:pt x="11" y="91"/>
                        </a:lnTo>
                        <a:lnTo>
                          <a:pt x="3" y="118"/>
                        </a:lnTo>
                        <a:lnTo>
                          <a:pt x="0" y="149"/>
                        </a:lnTo>
                        <a:lnTo>
                          <a:pt x="0" y="162"/>
                        </a:lnTo>
                        <a:lnTo>
                          <a:pt x="3" y="177"/>
                        </a:lnTo>
                        <a:lnTo>
                          <a:pt x="5" y="191"/>
                        </a:lnTo>
                        <a:lnTo>
                          <a:pt x="11" y="205"/>
                        </a:lnTo>
                        <a:lnTo>
                          <a:pt x="16" y="218"/>
                        </a:lnTo>
                        <a:lnTo>
                          <a:pt x="24" y="230"/>
                        </a:lnTo>
                        <a:lnTo>
                          <a:pt x="32" y="242"/>
                        </a:lnTo>
                        <a:lnTo>
                          <a:pt x="43" y="254"/>
                        </a:lnTo>
                        <a:lnTo>
                          <a:pt x="65" y="272"/>
                        </a:lnTo>
                        <a:lnTo>
                          <a:pt x="77" y="280"/>
                        </a:lnTo>
                        <a:lnTo>
                          <a:pt x="91" y="287"/>
                        </a:lnTo>
                        <a:lnTo>
                          <a:pt x="105" y="292"/>
                        </a:lnTo>
                        <a:lnTo>
                          <a:pt x="118" y="295"/>
                        </a:lnTo>
                        <a:lnTo>
                          <a:pt x="133" y="297"/>
                        </a:lnTo>
                        <a:lnTo>
                          <a:pt x="149" y="298"/>
                        </a:lnTo>
                        <a:lnTo>
                          <a:pt x="163" y="297"/>
                        </a:lnTo>
                        <a:lnTo>
                          <a:pt x="177" y="295"/>
                        </a:lnTo>
                        <a:lnTo>
                          <a:pt x="191" y="292"/>
                        </a:lnTo>
                        <a:lnTo>
                          <a:pt x="206" y="287"/>
                        </a:lnTo>
                        <a:lnTo>
                          <a:pt x="218" y="280"/>
                        </a:lnTo>
                        <a:lnTo>
                          <a:pt x="232" y="272"/>
                        </a:lnTo>
                        <a:lnTo>
                          <a:pt x="243" y="263"/>
                        </a:lnTo>
                        <a:lnTo>
                          <a:pt x="256" y="254"/>
                        </a:lnTo>
                        <a:lnTo>
                          <a:pt x="265" y="242"/>
                        </a:lnTo>
                        <a:lnTo>
                          <a:pt x="274" y="230"/>
                        </a:lnTo>
                        <a:lnTo>
                          <a:pt x="280" y="218"/>
                        </a:lnTo>
                        <a:lnTo>
                          <a:pt x="287" y="205"/>
                        </a:lnTo>
                        <a:lnTo>
                          <a:pt x="292" y="191"/>
                        </a:lnTo>
                        <a:lnTo>
                          <a:pt x="295" y="177"/>
                        </a:lnTo>
                        <a:lnTo>
                          <a:pt x="297" y="162"/>
                        </a:lnTo>
                        <a:lnTo>
                          <a:pt x="299" y="149"/>
                        </a:lnTo>
                        <a:lnTo>
                          <a:pt x="297" y="131"/>
                        </a:lnTo>
                        <a:lnTo>
                          <a:pt x="294" y="114"/>
                        </a:lnTo>
                        <a:lnTo>
                          <a:pt x="290" y="97"/>
                        </a:lnTo>
                        <a:lnTo>
                          <a:pt x="284" y="82"/>
                        </a:lnTo>
                        <a:lnTo>
                          <a:pt x="258" y="59"/>
                        </a:lnTo>
                        <a:lnTo>
                          <a:pt x="233" y="39"/>
                        </a:lnTo>
                        <a:lnTo>
                          <a:pt x="206" y="20"/>
                        </a:lnTo>
                        <a:lnTo>
                          <a:pt x="180" y="3"/>
                        </a:lnTo>
                        <a:close/>
                        <a:moveTo>
                          <a:pt x="38" y="149"/>
                        </a:moveTo>
                        <a:lnTo>
                          <a:pt x="39" y="125"/>
                        </a:lnTo>
                        <a:lnTo>
                          <a:pt x="46" y="105"/>
                        </a:lnTo>
                        <a:lnTo>
                          <a:pt x="55" y="85"/>
                        </a:lnTo>
                        <a:lnTo>
                          <a:pt x="71" y="69"/>
                        </a:lnTo>
                        <a:lnTo>
                          <a:pt x="87" y="55"/>
                        </a:lnTo>
                        <a:lnTo>
                          <a:pt x="106" y="46"/>
                        </a:lnTo>
                        <a:lnTo>
                          <a:pt x="126" y="39"/>
                        </a:lnTo>
                        <a:lnTo>
                          <a:pt x="149" y="38"/>
                        </a:lnTo>
                        <a:lnTo>
                          <a:pt x="170" y="39"/>
                        </a:lnTo>
                        <a:lnTo>
                          <a:pt x="191" y="46"/>
                        </a:lnTo>
                        <a:lnTo>
                          <a:pt x="200" y="49"/>
                        </a:lnTo>
                        <a:lnTo>
                          <a:pt x="210" y="55"/>
                        </a:lnTo>
                        <a:lnTo>
                          <a:pt x="228" y="69"/>
                        </a:lnTo>
                        <a:lnTo>
                          <a:pt x="242" y="85"/>
                        </a:lnTo>
                        <a:lnTo>
                          <a:pt x="252" y="105"/>
                        </a:lnTo>
                        <a:lnTo>
                          <a:pt x="259" y="125"/>
                        </a:lnTo>
                        <a:lnTo>
                          <a:pt x="261" y="149"/>
                        </a:lnTo>
                        <a:lnTo>
                          <a:pt x="260" y="153"/>
                        </a:lnTo>
                        <a:lnTo>
                          <a:pt x="260" y="159"/>
                        </a:lnTo>
                        <a:lnTo>
                          <a:pt x="259" y="170"/>
                        </a:lnTo>
                        <a:lnTo>
                          <a:pt x="252" y="191"/>
                        </a:lnTo>
                        <a:lnTo>
                          <a:pt x="246" y="200"/>
                        </a:lnTo>
                        <a:lnTo>
                          <a:pt x="242" y="210"/>
                        </a:lnTo>
                        <a:lnTo>
                          <a:pt x="228" y="228"/>
                        </a:lnTo>
                        <a:lnTo>
                          <a:pt x="210" y="242"/>
                        </a:lnTo>
                        <a:lnTo>
                          <a:pt x="200" y="246"/>
                        </a:lnTo>
                        <a:lnTo>
                          <a:pt x="191" y="252"/>
                        </a:lnTo>
                        <a:lnTo>
                          <a:pt x="170" y="259"/>
                        </a:lnTo>
                        <a:lnTo>
                          <a:pt x="159" y="260"/>
                        </a:lnTo>
                        <a:lnTo>
                          <a:pt x="153" y="260"/>
                        </a:lnTo>
                        <a:lnTo>
                          <a:pt x="149" y="261"/>
                        </a:lnTo>
                        <a:lnTo>
                          <a:pt x="126" y="259"/>
                        </a:lnTo>
                        <a:lnTo>
                          <a:pt x="106" y="252"/>
                        </a:lnTo>
                        <a:lnTo>
                          <a:pt x="87" y="242"/>
                        </a:lnTo>
                        <a:lnTo>
                          <a:pt x="71" y="228"/>
                        </a:lnTo>
                        <a:lnTo>
                          <a:pt x="55" y="210"/>
                        </a:lnTo>
                        <a:lnTo>
                          <a:pt x="49" y="200"/>
                        </a:lnTo>
                        <a:lnTo>
                          <a:pt x="46" y="191"/>
                        </a:lnTo>
                        <a:lnTo>
                          <a:pt x="39" y="170"/>
                        </a:lnTo>
                        <a:lnTo>
                          <a:pt x="38" y="149"/>
                        </a:lnTo>
                        <a:close/>
                      </a:path>
                    </a:pathLst>
                  </a:custGeom>
                  <a:solidFill>
                    <a:srgbClr val="00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7686000" y="4238280"/>
                    <a:ext cx="5652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23">
                        <a:moveTo>
                          <a:pt x="33" y="31"/>
                        </a:moveTo>
                        <a:lnTo>
                          <a:pt x="17" y="47"/>
                        </a:lnTo>
                        <a:lnTo>
                          <a:pt x="8" y="67"/>
                        </a:lnTo>
                        <a:lnTo>
                          <a:pt x="1" y="87"/>
                        </a:lnTo>
                        <a:lnTo>
                          <a:pt x="0" y="111"/>
                        </a:lnTo>
                        <a:lnTo>
                          <a:pt x="1" y="132"/>
                        </a:lnTo>
                        <a:lnTo>
                          <a:pt x="8" y="153"/>
                        </a:lnTo>
                        <a:lnTo>
                          <a:pt x="11" y="162"/>
                        </a:lnTo>
                        <a:lnTo>
                          <a:pt x="17" y="172"/>
                        </a:lnTo>
                        <a:lnTo>
                          <a:pt x="33" y="190"/>
                        </a:lnTo>
                        <a:lnTo>
                          <a:pt x="49" y="204"/>
                        </a:lnTo>
                        <a:lnTo>
                          <a:pt x="68" y="214"/>
                        </a:lnTo>
                        <a:lnTo>
                          <a:pt x="88" y="221"/>
                        </a:lnTo>
                        <a:lnTo>
                          <a:pt x="111" y="223"/>
                        </a:lnTo>
                        <a:lnTo>
                          <a:pt x="115" y="222"/>
                        </a:lnTo>
                        <a:lnTo>
                          <a:pt x="121" y="222"/>
                        </a:lnTo>
                        <a:lnTo>
                          <a:pt x="132" y="221"/>
                        </a:lnTo>
                        <a:lnTo>
                          <a:pt x="153" y="214"/>
                        </a:lnTo>
                        <a:lnTo>
                          <a:pt x="162" y="208"/>
                        </a:lnTo>
                        <a:lnTo>
                          <a:pt x="172" y="204"/>
                        </a:lnTo>
                        <a:lnTo>
                          <a:pt x="190" y="190"/>
                        </a:lnTo>
                        <a:lnTo>
                          <a:pt x="204" y="172"/>
                        </a:lnTo>
                        <a:lnTo>
                          <a:pt x="208" y="162"/>
                        </a:lnTo>
                        <a:lnTo>
                          <a:pt x="214" y="153"/>
                        </a:lnTo>
                        <a:lnTo>
                          <a:pt x="221" y="132"/>
                        </a:lnTo>
                        <a:lnTo>
                          <a:pt x="222" y="121"/>
                        </a:lnTo>
                        <a:lnTo>
                          <a:pt x="222" y="115"/>
                        </a:lnTo>
                        <a:lnTo>
                          <a:pt x="223" y="111"/>
                        </a:lnTo>
                        <a:lnTo>
                          <a:pt x="221" y="87"/>
                        </a:lnTo>
                        <a:lnTo>
                          <a:pt x="214" y="67"/>
                        </a:lnTo>
                        <a:lnTo>
                          <a:pt x="204" y="47"/>
                        </a:lnTo>
                        <a:lnTo>
                          <a:pt x="190" y="31"/>
                        </a:lnTo>
                        <a:lnTo>
                          <a:pt x="172" y="17"/>
                        </a:lnTo>
                        <a:lnTo>
                          <a:pt x="162" y="11"/>
                        </a:lnTo>
                        <a:lnTo>
                          <a:pt x="153" y="8"/>
                        </a:lnTo>
                        <a:lnTo>
                          <a:pt x="132" y="1"/>
                        </a:lnTo>
                        <a:lnTo>
                          <a:pt x="111" y="0"/>
                        </a:lnTo>
                        <a:lnTo>
                          <a:pt x="88" y="1"/>
                        </a:lnTo>
                        <a:lnTo>
                          <a:pt x="68" y="8"/>
                        </a:lnTo>
                        <a:lnTo>
                          <a:pt x="49" y="17"/>
                        </a:lnTo>
                        <a:lnTo>
                          <a:pt x="33" y="31"/>
                        </a:lnTo>
                        <a:close/>
                        <a:moveTo>
                          <a:pt x="36" y="111"/>
                        </a:moveTo>
                        <a:lnTo>
                          <a:pt x="37" y="95"/>
                        </a:lnTo>
                        <a:lnTo>
                          <a:pt x="42" y="81"/>
                        </a:lnTo>
                        <a:lnTo>
                          <a:pt x="49" y="69"/>
                        </a:lnTo>
                        <a:lnTo>
                          <a:pt x="59" y="59"/>
                        </a:lnTo>
                        <a:lnTo>
                          <a:pt x="69" y="48"/>
                        </a:lnTo>
                        <a:lnTo>
                          <a:pt x="81" y="42"/>
                        </a:lnTo>
                        <a:lnTo>
                          <a:pt x="95" y="37"/>
                        </a:lnTo>
                        <a:lnTo>
                          <a:pt x="111" y="36"/>
                        </a:lnTo>
                        <a:lnTo>
                          <a:pt x="126" y="37"/>
                        </a:lnTo>
                        <a:lnTo>
                          <a:pt x="139" y="42"/>
                        </a:lnTo>
                        <a:lnTo>
                          <a:pt x="145" y="44"/>
                        </a:lnTo>
                        <a:lnTo>
                          <a:pt x="152" y="48"/>
                        </a:lnTo>
                        <a:lnTo>
                          <a:pt x="164" y="59"/>
                        </a:lnTo>
                        <a:lnTo>
                          <a:pt x="173" y="69"/>
                        </a:lnTo>
                        <a:lnTo>
                          <a:pt x="181" y="81"/>
                        </a:lnTo>
                        <a:lnTo>
                          <a:pt x="185" y="95"/>
                        </a:lnTo>
                        <a:lnTo>
                          <a:pt x="187" y="111"/>
                        </a:lnTo>
                        <a:lnTo>
                          <a:pt x="186" y="118"/>
                        </a:lnTo>
                        <a:lnTo>
                          <a:pt x="185" y="118"/>
                        </a:lnTo>
                        <a:lnTo>
                          <a:pt x="185" y="119"/>
                        </a:lnTo>
                        <a:lnTo>
                          <a:pt x="185" y="121"/>
                        </a:lnTo>
                        <a:lnTo>
                          <a:pt x="185" y="126"/>
                        </a:lnTo>
                        <a:lnTo>
                          <a:pt x="181" y="139"/>
                        </a:lnTo>
                        <a:lnTo>
                          <a:pt x="177" y="145"/>
                        </a:lnTo>
                        <a:lnTo>
                          <a:pt x="173" y="152"/>
                        </a:lnTo>
                        <a:lnTo>
                          <a:pt x="169" y="157"/>
                        </a:lnTo>
                        <a:lnTo>
                          <a:pt x="164" y="164"/>
                        </a:lnTo>
                        <a:lnTo>
                          <a:pt x="157" y="167"/>
                        </a:lnTo>
                        <a:lnTo>
                          <a:pt x="152" y="172"/>
                        </a:lnTo>
                        <a:lnTo>
                          <a:pt x="145" y="175"/>
                        </a:lnTo>
                        <a:lnTo>
                          <a:pt x="139" y="180"/>
                        </a:lnTo>
                        <a:lnTo>
                          <a:pt x="126" y="183"/>
                        </a:lnTo>
                        <a:lnTo>
                          <a:pt x="121" y="183"/>
                        </a:lnTo>
                        <a:lnTo>
                          <a:pt x="119" y="183"/>
                        </a:lnTo>
                        <a:lnTo>
                          <a:pt x="118" y="183"/>
                        </a:lnTo>
                        <a:lnTo>
                          <a:pt x="118" y="184"/>
                        </a:lnTo>
                        <a:lnTo>
                          <a:pt x="111" y="186"/>
                        </a:lnTo>
                        <a:lnTo>
                          <a:pt x="95" y="183"/>
                        </a:lnTo>
                        <a:lnTo>
                          <a:pt x="81" y="180"/>
                        </a:lnTo>
                        <a:lnTo>
                          <a:pt x="69" y="172"/>
                        </a:lnTo>
                        <a:lnTo>
                          <a:pt x="59" y="164"/>
                        </a:lnTo>
                        <a:lnTo>
                          <a:pt x="49" y="152"/>
                        </a:lnTo>
                        <a:lnTo>
                          <a:pt x="44" y="145"/>
                        </a:lnTo>
                        <a:lnTo>
                          <a:pt x="42" y="139"/>
                        </a:lnTo>
                        <a:lnTo>
                          <a:pt x="37" y="126"/>
                        </a:lnTo>
                        <a:lnTo>
                          <a:pt x="36" y="111"/>
                        </a:lnTo>
                        <a:close/>
                      </a:path>
                    </a:pathLst>
                  </a:custGeom>
                  <a:solidFill>
                    <a:srgbClr val="00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7695720" y="4247280"/>
                    <a:ext cx="37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50">
                        <a:moveTo>
                          <a:pt x="23" y="23"/>
                        </a:moveTo>
                        <a:lnTo>
                          <a:pt x="13" y="33"/>
                        </a:lnTo>
                        <a:lnTo>
                          <a:pt x="6" y="45"/>
                        </a:lnTo>
                        <a:lnTo>
                          <a:pt x="1" y="59"/>
                        </a:lnTo>
                        <a:lnTo>
                          <a:pt x="0" y="75"/>
                        </a:lnTo>
                        <a:lnTo>
                          <a:pt x="1" y="90"/>
                        </a:lnTo>
                        <a:lnTo>
                          <a:pt x="6" y="103"/>
                        </a:lnTo>
                        <a:lnTo>
                          <a:pt x="8" y="109"/>
                        </a:lnTo>
                        <a:lnTo>
                          <a:pt x="13" y="116"/>
                        </a:lnTo>
                        <a:lnTo>
                          <a:pt x="23" y="128"/>
                        </a:lnTo>
                        <a:lnTo>
                          <a:pt x="33" y="136"/>
                        </a:lnTo>
                        <a:lnTo>
                          <a:pt x="45" y="144"/>
                        </a:lnTo>
                        <a:lnTo>
                          <a:pt x="59" y="147"/>
                        </a:lnTo>
                        <a:lnTo>
                          <a:pt x="75" y="150"/>
                        </a:lnTo>
                        <a:lnTo>
                          <a:pt x="82" y="148"/>
                        </a:lnTo>
                        <a:lnTo>
                          <a:pt x="82" y="147"/>
                        </a:lnTo>
                        <a:lnTo>
                          <a:pt x="83" y="147"/>
                        </a:lnTo>
                        <a:lnTo>
                          <a:pt x="85" y="147"/>
                        </a:lnTo>
                        <a:lnTo>
                          <a:pt x="90" y="147"/>
                        </a:lnTo>
                        <a:lnTo>
                          <a:pt x="103" y="144"/>
                        </a:lnTo>
                        <a:lnTo>
                          <a:pt x="109" y="139"/>
                        </a:lnTo>
                        <a:lnTo>
                          <a:pt x="116" y="136"/>
                        </a:lnTo>
                        <a:lnTo>
                          <a:pt x="121" y="131"/>
                        </a:lnTo>
                        <a:lnTo>
                          <a:pt x="128" y="128"/>
                        </a:lnTo>
                        <a:lnTo>
                          <a:pt x="133" y="121"/>
                        </a:lnTo>
                        <a:lnTo>
                          <a:pt x="137" y="116"/>
                        </a:lnTo>
                        <a:lnTo>
                          <a:pt x="141" y="109"/>
                        </a:lnTo>
                        <a:lnTo>
                          <a:pt x="145" y="103"/>
                        </a:lnTo>
                        <a:lnTo>
                          <a:pt x="149" y="90"/>
                        </a:lnTo>
                        <a:lnTo>
                          <a:pt x="149" y="85"/>
                        </a:lnTo>
                        <a:lnTo>
                          <a:pt x="149" y="83"/>
                        </a:lnTo>
                        <a:lnTo>
                          <a:pt x="149" y="82"/>
                        </a:lnTo>
                        <a:lnTo>
                          <a:pt x="150" y="82"/>
                        </a:lnTo>
                        <a:lnTo>
                          <a:pt x="151" y="75"/>
                        </a:lnTo>
                        <a:lnTo>
                          <a:pt x="149" y="59"/>
                        </a:lnTo>
                        <a:lnTo>
                          <a:pt x="145" y="45"/>
                        </a:lnTo>
                        <a:lnTo>
                          <a:pt x="137" y="33"/>
                        </a:lnTo>
                        <a:lnTo>
                          <a:pt x="128" y="23"/>
                        </a:lnTo>
                        <a:lnTo>
                          <a:pt x="116" y="12"/>
                        </a:lnTo>
                        <a:lnTo>
                          <a:pt x="109" y="8"/>
                        </a:lnTo>
                        <a:lnTo>
                          <a:pt x="103" y="6"/>
                        </a:lnTo>
                        <a:lnTo>
                          <a:pt x="90" y="1"/>
                        </a:lnTo>
                        <a:lnTo>
                          <a:pt x="75" y="0"/>
                        </a:lnTo>
                        <a:lnTo>
                          <a:pt x="59" y="1"/>
                        </a:lnTo>
                        <a:lnTo>
                          <a:pt x="45" y="6"/>
                        </a:lnTo>
                        <a:lnTo>
                          <a:pt x="33" y="12"/>
                        </a:lnTo>
                        <a:lnTo>
                          <a:pt x="23" y="23"/>
                        </a:lnTo>
                        <a:close/>
                        <a:moveTo>
                          <a:pt x="39" y="75"/>
                        </a:moveTo>
                        <a:lnTo>
                          <a:pt x="41" y="60"/>
                        </a:lnTo>
                        <a:lnTo>
                          <a:pt x="49" y="49"/>
                        </a:lnTo>
                        <a:lnTo>
                          <a:pt x="60" y="41"/>
                        </a:lnTo>
                        <a:lnTo>
                          <a:pt x="75" y="38"/>
                        </a:lnTo>
                        <a:lnTo>
                          <a:pt x="82" y="38"/>
                        </a:lnTo>
                        <a:lnTo>
                          <a:pt x="90" y="41"/>
                        </a:lnTo>
                        <a:lnTo>
                          <a:pt x="95" y="43"/>
                        </a:lnTo>
                        <a:lnTo>
                          <a:pt x="102" y="49"/>
                        </a:lnTo>
                        <a:lnTo>
                          <a:pt x="109" y="60"/>
                        </a:lnTo>
                        <a:lnTo>
                          <a:pt x="111" y="67"/>
                        </a:lnTo>
                        <a:lnTo>
                          <a:pt x="112" y="75"/>
                        </a:lnTo>
                        <a:lnTo>
                          <a:pt x="111" y="82"/>
                        </a:lnTo>
                        <a:lnTo>
                          <a:pt x="109" y="88"/>
                        </a:lnTo>
                        <a:lnTo>
                          <a:pt x="107" y="91"/>
                        </a:lnTo>
                        <a:lnTo>
                          <a:pt x="106" y="91"/>
                        </a:lnTo>
                        <a:lnTo>
                          <a:pt x="106" y="92"/>
                        </a:lnTo>
                        <a:lnTo>
                          <a:pt x="106" y="94"/>
                        </a:lnTo>
                        <a:lnTo>
                          <a:pt x="102" y="101"/>
                        </a:lnTo>
                        <a:lnTo>
                          <a:pt x="95" y="105"/>
                        </a:lnTo>
                        <a:lnTo>
                          <a:pt x="93" y="105"/>
                        </a:lnTo>
                        <a:lnTo>
                          <a:pt x="92" y="105"/>
                        </a:lnTo>
                        <a:lnTo>
                          <a:pt x="92" y="107"/>
                        </a:lnTo>
                        <a:lnTo>
                          <a:pt x="90" y="109"/>
                        </a:lnTo>
                        <a:lnTo>
                          <a:pt x="82" y="111"/>
                        </a:lnTo>
                        <a:lnTo>
                          <a:pt x="75" y="112"/>
                        </a:lnTo>
                        <a:lnTo>
                          <a:pt x="67" y="111"/>
                        </a:lnTo>
                        <a:lnTo>
                          <a:pt x="60" y="109"/>
                        </a:lnTo>
                        <a:lnTo>
                          <a:pt x="53" y="105"/>
                        </a:lnTo>
                        <a:lnTo>
                          <a:pt x="49" y="101"/>
                        </a:lnTo>
                        <a:lnTo>
                          <a:pt x="43" y="94"/>
                        </a:lnTo>
                        <a:lnTo>
                          <a:pt x="41" y="88"/>
                        </a:lnTo>
                        <a:lnTo>
                          <a:pt x="39" y="82"/>
                        </a:lnTo>
                        <a:lnTo>
                          <a:pt x="39" y="75"/>
                        </a:lnTo>
                        <a:close/>
                      </a:path>
                    </a:pathLst>
                  </a:custGeom>
                  <a:solidFill>
                    <a:srgbClr val="00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7705080" y="4257000"/>
                    <a:ext cx="187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74">
                        <a:moveTo>
                          <a:pt x="10" y="11"/>
                        </a:moveTo>
                        <a:lnTo>
                          <a:pt x="2" y="22"/>
                        </a:lnTo>
                        <a:lnTo>
                          <a:pt x="0" y="37"/>
                        </a:lnTo>
                        <a:lnTo>
                          <a:pt x="0" y="44"/>
                        </a:lnTo>
                        <a:lnTo>
                          <a:pt x="2" y="50"/>
                        </a:lnTo>
                        <a:lnTo>
                          <a:pt x="4" y="56"/>
                        </a:lnTo>
                        <a:lnTo>
                          <a:pt x="10" y="63"/>
                        </a:lnTo>
                        <a:lnTo>
                          <a:pt x="14" y="67"/>
                        </a:lnTo>
                        <a:lnTo>
                          <a:pt x="21" y="71"/>
                        </a:lnTo>
                        <a:lnTo>
                          <a:pt x="28" y="73"/>
                        </a:lnTo>
                        <a:lnTo>
                          <a:pt x="36" y="74"/>
                        </a:lnTo>
                        <a:lnTo>
                          <a:pt x="43" y="73"/>
                        </a:lnTo>
                        <a:lnTo>
                          <a:pt x="51" y="71"/>
                        </a:lnTo>
                        <a:lnTo>
                          <a:pt x="53" y="69"/>
                        </a:lnTo>
                        <a:lnTo>
                          <a:pt x="53" y="67"/>
                        </a:lnTo>
                        <a:lnTo>
                          <a:pt x="54" y="67"/>
                        </a:lnTo>
                        <a:lnTo>
                          <a:pt x="56" y="67"/>
                        </a:lnTo>
                        <a:lnTo>
                          <a:pt x="63" y="63"/>
                        </a:lnTo>
                        <a:lnTo>
                          <a:pt x="67" y="56"/>
                        </a:lnTo>
                        <a:lnTo>
                          <a:pt x="67" y="54"/>
                        </a:lnTo>
                        <a:lnTo>
                          <a:pt x="67" y="53"/>
                        </a:lnTo>
                        <a:lnTo>
                          <a:pt x="68" y="53"/>
                        </a:lnTo>
                        <a:lnTo>
                          <a:pt x="70" y="50"/>
                        </a:lnTo>
                        <a:lnTo>
                          <a:pt x="72" y="44"/>
                        </a:lnTo>
                        <a:lnTo>
                          <a:pt x="73" y="37"/>
                        </a:lnTo>
                        <a:lnTo>
                          <a:pt x="72" y="29"/>
                        </a:lnTo>
                        <a:lnTo>
                          <a:pt x="70" y="22"/>
                        </a:lnTo>
                        <a:lnTo>
                          <a:pt x="63" y="11"/>
                        </a:lnTo>
                        <a:lnTo>
                          <a:pt x="56" y="5"/>
                        </a:lnTo>
                        <a:lnTo>
                          <a:pt x="51" y="3"/>
                        </a:lnTo>
                        <a:lnTo>
                          <a:pt x="43" y="0"/>
                        </a:lnTo>
                        <a:lnTo>
                          <a:pt x="36" y="0"/>
                        </a:lnTo>
                        <a:lnTo>
                          <a:pt x="21" y="3"/>
                        </a:lnTo>
                        <a:lnTo>
                          <a:pt x="10" y="11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7496280" y="4265280"/>
                    <a:ext cx="279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864">
                        <a:moveTo>
                          <a:pt x="35" y="5"/>
                        </a:moveTo>
                        <a:lnTo>
                          <a:pt x="35" y="0"/>
                        </a:lnTo>
                        <a:lnTo>
                          <a:pt x="0" y="47"/>
                        </a:lnTo>
                        <a:lnTo>
                          <a:pt x="1" y="86"/>
                        </a:lnTo>
                        <a:lnTo>
                          <a:pt x="5" y="126"/>
                        </a:lnTo>
                        <a:lnTo>
                          <a:pt x="11" y="165"/>
                        </a:lnTo>
                        <a:lnTo>
                          <a:pt x="20" y="204"/>
                        </a:lnTo>
                        <a:lnTo>
                          <a:pt x="28" y="242"/>
                        </a:lnTo>
                        <a:lnTo>
                          <a:pt x="40" y="279"/>
                        </a:lnTo>
                        <a:lnTo>
                          <a:pt x="53" y="315"/>
                        </a:lnTo>
                        <a:lnTo>
                          <a:pt x="69" y="352"/>
                        </a:lnTo>
                        <a:lnTo>
                          <a:pt x="84" y="386"/>
                        </a:lnTo>
                        <a:lnTo>
                          <a:pt x="103" y="420"/>
                        </a:lnTo>
                        <a:lnTo>
                          <a:pt x="122" y="452"/>
                        </a:lnTo>
                        <a:lnTo>
                          <a:pt x="145" y="486"/>
                        </a:lnTo>
                        <a:lnTo>
                          <a:pt x="167" y="518"/>
                        </a:lnTo>
                        <a:lnTo>
                          <a:pt x="194" y="550"/>
                        </a:lnTo>
                        <a:lnTo>
                          <a:pt x="220" y="581"/>
                        </a:lnTo>
                        <a:lnTo>
                          <a:pt x="249" y="612"/>
                        </a:lnTo>
                        <a:lnTo>
                          <a:pt x="280" y="642"/>
                        </a:lnTo>
                        <a:lnTo>
                          <a:pt x="313" y="670"/>
                        </a:lnTo>
                        <a:lnTo>
                          <a:pt x="345" y="696"/>
                        </a:lnTo>
                        <a:lnTo>
                          <a:pt x="381" y="721"/>
                        </a:lnTo>
                        <a:lnTo>
                          <a:pt x="416" y="743"/>
                        </a:lnTo>
                        <a:lnTo>
                          <a:pt x="452" y="764"/>
                        </a:lnTo>
                        <a:lnTo>
                          <a:pt x="488" y="783"/>
                        </a:lnTo>
                        <a:lnTo>
                          <a:pt x="527" y="800"/>
                        </a:lnTo>
                        <a:lnTo>
                          <a:pt x="564" y="815"/>
                        </a:lnTo>
                        <a:lnTo>
                          <a:pt x="604" y="828"/>
                        </a:lnTo>
                        <a:lnTo>
                          <a:pt x="644" y="838"/>
                        </a:lnTo>
                        <a:lnTo>
                          <a:pt x="685" y="848"/>
                        </a:lnTo>
                        <a:lnTo>
                          <a:pt x="725" y="854"/>
                        </a:lnTo>
                        <a:lnTo>
                          <a:pt x="768" y="859"/>
                        </a:lnTo>
                        <a:lnTo>
                          <a:pt x="812" y="863"/>
                        </a:lnTo>
                        <a:lnTo>
                          <a:pt x="857" y="864"/>
                        </a:lnTo>
                        <a:lnTo>
                          <a:pt x="909" y="862"/>
                        </a:lnTo>
                        <a:lnTo>
                          <a:pt x="961" y="858"/>
                        </a:lnTo>
                        <a:lnTo>
                          <a:pt x="986" y="854"/>
                        </a:lnTo>
                        <a:lnTo>
                          <a:pt x="999" y="851"/>
                        </a:lnTo>
                        <a:lnTo>
                          <a:pt x="1012" y="850"/>
                        </a:lnTo>
                        <a:lnTo>
                          <a:pt x="1037" y="846"/>
                        </a:lnTo>
                        <a:lnTo>
                          <a:pt x="1063" y="841"/>
                        </a:lnTo>
                        <a:lnTo>
                          <a:pt x="1100" y="794"/>
                        </a:lnTo>
                        <a:lnTo>
                          <a:pt x="1041" y="807"/>
                        </a:lnTo>
                        <a:lnTo>
                          <a:pt x="1010" y="812"/>
                        </a:lnTo>
                        <a:lnTo>
                          <a:pt x="981" y="817"/>
                        </a:lnTo>
                        <a:lnTo>
                          <a:pt x="919" y="824"/>
                        </a:lnTo>
                        <a:lnTo>
                          <a:pt x="888" y="825"/>
                        </a:lnTo>
                        <a:lnTo>
                          <a:pt x="872" y="825"/>
                        </a:lnTo>
                        <a:lnTo>
                          <a:pt x="864" y="825"/>
                        </a:lnTo>
                        <a:lnTo>
                          <a:pt x="857" y="827"/>
                        </a:lnTo>
                        <a:lnTo>
                          <a:pt x="814" y="825"/>
                        </a:lnTo>
                        <a:lnTo>
                          <a:pt x="773" y="822"/>
                        </a:lnTo>
                        <a:lnTo>
                          <a:pt x="732" y="816"/>
                        </a:lnTo>
                        <a:lnTo>
                          <a:pt x="692" y="811"/>
                        </a:lnTo>
                        <a:lnTo>
                          <a:pt x="653" y="802"/>
                        </a:lnTo>
                        <a:lnTo>
                          <a:pt x="615" y="791"/>
                        </a:lnTo>
                        <a:lnTo>
                          <a:pt x="578" y="779"/>
                        </a:lnTo>
                        <a:lnTo>
                          <a:pt x="542" y="766"/>
                        </a:lnTo>
                        <a:lnTo>
                          <a:pt x="505" y="749"/>
                        </a:lnTo>
                        <a:lnTo>
                          <a:pt x="470" y="731"/>
                        </a:lnTo>
                        <a:lnTo>
                          <a:pt x="435" y="712"/>
                        </a:lnTo>
                        <a:lnTo>
                          <a:pt x="402" y="691"/>
                        </a:lnTo>
                        <a:lnTo>
                          <a:pt x="369" y="667"/>
                        </a:lnTo>
                        <a:lnTo>
                          <a:pt x="338" y="642"/>
                        </a:lnTo>
                        <a:lnTo>
                          <a:pt x="306" y="615"/>
                        </a:lnTo>
                        <a:lnTo>
                          <a:pt x="276" y="586"/>
                        </a:lnTo>
                        <a:lnTo>
                          <a:pt x="246" y="555"/>
                        </a:lnTo>
                        <a:lnTo>
                          <a:pt x="218" y="524"/>
                        </a:lnTo>
                        <a:lnTo>
                          <a:pt x="192" y="491"/>
                        </a:lnTo>
                        <a:lnTo>
                          <a:pt x="170" y="459"/>
                        </a:lnTo>
                        <a:lnTo>
                          <a:pt x="147" y="424"/>
                        </a:lnTo>
                        <a:lnTo>
                          <a:pt x="128" y="390"/>
                        </a:lnTo>
                        <a:lnTo>
                          <a:pt x="110" y="355"/>
                        </a:lnTo>
                        <a:lnTo>
                          <a:pt x="95" y="320"/>
                        </a:lnTo>
                        <a:lnTo>
                          <a:pt x="80" y="282"/>
                        </a:lnTo>
                        <a:lnTo>
                          <a:pt x="68" y="245"/>
                        </a:lnTo>
                        <a:lnTo>
                          <a:pt x="57" y="207"/>
                        </a:lnTo>
                        <a:lnTo>
                          <a:pt x="50" y="168"/>
                        </a:lnTo>
                        <a:lnTo>
                          <a:pt x="42" y="127"/>
                        </a:lnTo>
                        <a:lnTo>
                          <a:pt x="38" y="88"/>
                        </a:lnTo>
                        <a:lnTo>
                          <a:pt x="35" y="46"/>
                        </a:lnTo>
                        <a:lnTo>
                          <a:pt x="35" y="5"/>
                        </a:lnTo>
                        <a:close/>
                      </a:path>
                    </a:pathLst>
                  </a:custGeom>
                  <a:solidFill>
                    <a:srgbClr val="00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7505640" y="4254480"/>
                    <a:ext cx="27828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5" h="869">
                        <a:moveTo>
                          <a:pt x="0" y="42"/>
                        </a:moveTo>
                        <a:lnTo>
                          <a:pt x="0" y="47"/>
                        </a:lnTo>
                        <a:lnTo>
                          <a:pt x="0" y="88"/>
                        </a:lnTo>
                        <a:lnTo>
                          <a:pt x="3" y="130"/>
                        </a:lnTo>
                        <a:lnTo>
                          <a:pt x="7" y="169"/>
                        </a:lnTo>
                        <a:lnTo>
                          <a:pt x="15" y="210"/>
                        </a:lnTo>
                        <a:lnTo>
                          <a:pt x="22" y="249"/>
                        </a:lnTo>
                        <a:lnTo>
                          <a:pt x="33" y="287"/>
                        </a:lnTo>
                        <a:lnTo>
                          <a:pt x="45" y="324"/>
                        </a:lnTo>
                        <a:lnTo>
                          <a:pt x="60" y="362"/>
                        </a:lnTo>
                        <a:lnTo>
                          <a:pt x="75" y="397"/>
                        </a:lnTo>
                        <a:lnTo>
                          <a:pt x="93" y="432"/>
                        </a:lnTo>
                        <a:lnTo>
                          <a:pt x="112" y="466"/>
                        </a:lnTo>
                        <a:lnTo>
                          <a:pt x="135" y="501"/>
                        </a:lnTo>
                        <a:lnTo>
                          <a:pt x="157" y="533"/>
                        </a:lnTo>
                        <a:lnTo>
                          <a:pt x="183" y="566"/>
                        </a:lnTo>
                        <a:lnTo>
                          <a:pt x="211" y="597"/>
                        </a:lnTo>
                        <a:lnTo>
                          <a:pt x="241" y="628"/>
                        </a:lnTo>
                        <a:lnTo>
                          <a:pt x="271" y="657"/>
                        </a:lnTo>
                        <a:lnTo>
                          <a:pt x="303" y="684"/>
                        </a:lnTo>
                        <a:lnTo>
                          <a:pt x="334" y="709"/>
                        </a:lnTo>
                        <a:lnTo>
                          <a:pt x="367" y="733"/>
                        </a:lnTo>
                        <a:lnTo>
                          <a:pt x="400" y="754"/>
                        </a:lnTo>
                        <a:lnTo>
                          <a:pt x="435" y="773"/>
                        </a:lnTo>
                        <a:lnTo>
                          <a:pt x="470" y="791"/>
                        </a:lnTo>
                        <a:lnTo>
                          <a:pt x="507" y="808"/>
                        </a:lnTo>
                        <a:lnTo>
                          <a:pt x="543" y="821"/>
                        </a:lnTo>
                        <a:lnTo>
                          <a:pt x="580" y="833"/>
                        </a:lnTo>
                        <a:lnTo>
                          <a:pt x="618" y="844"/>
                        </a:lnTo>
                        <a:lnTo>
                          <a:pt x="657" y="853"/>
                        </a:lnTo>
                        <a:lnTo>
                          <a:pt x="697" y="858"/>
                        </a:lnTo>
                        <a:lnTo>
                          <a:pt x="738" y="864"/>
                        </a:lnTo>
                        <a:lnTo>
                          <a:pt x="779" y="867"/>
                        </a:lnTo>
                        <a:lnTo>
                          <a:pt x="822" y="869"/>
                        </a:lnTo>
                        <a:lnTo>
                          <a:pt x="829" y="867"/>
                        </a:lnTo>
                        <a:lnTo>
                          <a:pt x="837" y="867"/>
                        </a:lnTo>
                        <a:lnTo>
                          <a:pt x="853" y="867"/>
                        </a:lnTo>
                        <a:lnTo>
                          <a:pt x="884" y="866"/>
                        </a:lnTo>
                        <a:lnTo>
                          <a:pt x="946" y="859"/>
                        </a:lnTo>
                        <a:lnTo>
                          <a:pt x="975" y="854"/>
                        </a:lnTo>
                        <a:lnTo>
                          <a:pt x="1006" y="849"/>
                        </a:lnTo>
                        <a:lnTo>
                          <a:pt x="1065" y="836"/>
                        </a:lnTo>
                        <a:lnTo>
                          <a:pt x="1080" y="811"/>
                        </a:lnTo>
                        <a:lnTo>
                          <a:pt x="1095" y="786"/>
                        </a:lnTo>
                        <a:lnTo>
                          <a:pt x="1078" y="790"/>
                        </a:lnTo>
                        <a:lnTo>
                          <a:pt x="1062" y="796"/>
                        </a:lnTo>
                        <a:lnTo>
                          <a:pt x="1029" y="805"/>
                        </a:lnTo>
                        <a:lnTo>
                          <a:pt x="995" y="813"/>
                        </a:lnTo>
                        <a:lnTo>
                          <a:pt x="963" y="820"/>
                        </a:lnTo>
                        <a:lnTo>
                          <a:pt x="927" y="824"/>
                        </a:lnTo>
                        <a:lnTo>
                          <a:pt x="893" y="828"/>
                        </a:lnTo>
                        <a:lnTo>
                          <a:pt x="857" y="830"/>
                        </a:lnTo>
                        <a:lnTo>
                          <a:pt x="839" y="830"/>
                        </a:lnTo>
                        <a:lnTo>
                          <a:pt x="830" y="830"/>
                        </a:lnTo>
                        <a:lnTo>
                          <a:pt x="825" y="830"/>
                        </a:lnTo>
                        <a:lnTo>
                          <a:pt x="823" y="830"/>
                        </a:lnTo>
                        <a:lnTo>
                          <a:pt x="822" y="831"/>
                        </a:lnTo>
                        <a:lnTo>
                          <a:pt x="781" y="830"/>
                        </a:lnTo>
                        <a:lnTo>
                          <a:pt x="741" y="827"/>
                        </a:lnTo>
                        <a:lnTo>
                          <a:pt x="702" y="822"/>
                        </a:lnTo>
                        <a:lnTo>
                          <a:pt x="664" y="816"/>
                        </a:lnTo>
                        <a:lnTo>
                          <a:pt x="627" y="807"/>
                        </a:lnTo>
                        <a:lnTo>
                          <a:pt x="591" y="797"/>
                        </a:lnTo>
                        <a:lnTo>
                          <a:pt x="554" y="786"/>
                        </a:lnTo>
                        <a:lnTo>
                          <a:pt x="520" y="773"/>
                        </a:lnTo>
                        <a:lnTo>
                          <a:pt x="485" y="757"/>
                        </a:lnTo>
                        <a:lnTo>
                          <a:pt x="452" y="740"/>
                        </a:lnTo>
                        <a:lnTo>
                          <a:pt x="419" y="721"/>
                        </a:lnTo>
                        <a:lnTo>
                          <a:pt x="388" y="702"/>
                        </a:lnTo>
                        <a:lnTo>
                          <a:pt x="356" y="679"/>
                        </a:lnTo>
                        <a:lnTo>
                          <a:pt x="325" y="655"/>
                        </a:lnTo>
                        <a:lnTo>
                          <a:pt x="296" y="629"/>
                        </a:lnTo>
                        <a:lnTo>
                          <a:pt x="267" y="602"/>
                        </a:lnTo>
                        <a:lnTo>
                          <a:pt x="239" y="572"/>
                        </a:lnTo>
                        <a:lnTo>
                          <a:pt x="213" y="542"/>
                        </a:lnTo>
                        <a:lnTo>
                          <a:pt x="188" y="510"/>
                        </a:lnTo>
                        <a:lnTo>
                          <a:pt x="166" y="480"/>
                        </a:lnTo>
                        <a:lnTo>
                          <a:pt x="145" y="447"/>
                        </a:lnTo>
                        <a:lnTo>
                          <a:pt x="127" y="414"/>
                        </a:lnTo>
                        <a:lnTo>
                          <a:pt x="110" y="380"/>
                        </a:lnTo>
                        <a:lnTo>
                          <a:pt x="95" y="347"/>
                        </a:lnTo>
                        <a:lnTo>
                          <a:pt x="80" y="311"/>
                        </a:lnTo>
                        <a:lnTo>
                          <a:pt x="69" y="276"/>
                        </a:lnTo>
                        <a:lnTo>
                          <a:pt x="59" y="238"/>
                        </a:lnTo>
                        <a:lnTo>
                          <a:pt x="52" y="202"/>
                        </a:lnTo>
                        <a:lnTo>
                          <a:pt x="45" y="164"/>
                        </a:lnTo>
                        <a:lnTo>
                          <a:pt x="42" y="125"/>
                        </a:lnTo>
                        <a:lnTo>
                          <a:pt x="38" y="85"/>
                        </a:lnTo>
                        <a:lnTo>
                          <a:pt x="38" y="47"/>
                        </a:lnTo>
                        <a:lnTo>
                          <a:pt x="39" y="0"/>
                        </a:lnTo>
                        <a:lnTo>
                          <a:pt x="38" y="0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7543800" y="4222800"/>
                    <a:ext cx="257400" cy="21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843">
                        <a:moveTo>
                          <a:pt x="59" y="0"/>
                        </a:moveTo>
                        <a:lnTo>
                          <a:pt x="14" y="25"/>
                        </a:lnTo>
                        <a:lnTo>
                          <a:pt x="6" y="59"/>
                        </a:lnTo>
                        <a:lnTo>
                          <a:pt x="3" y="95"/>
                        </a:lnTo>
                        <a:lnTo>
                          <a:pt x="0" y="171"/>
                        </a:lnTo>
                        <a:lnTo>
                          <a:pt x="0" y="204"/>
                        </a:lnTo>
                        <a:lnTo>
                          <a:pt x="2" y="238"/>
                        </a:lnTo>
                        <a:lnTo>
                          <a:pt x="5" y="271"/>
                        </a:lnTo>
                        <a:lnTo>
                          <a:pt x="11" y="305"/>
                        </a:lnTo>
                        <a:lnTo>
                          <a:pt x="17" y="335"/>
                        </a:lnTo>
                        <a:lnTo>
                          <a:pt x="26" y="367"/>
                        </a:lnTo>
                        <a:lnTo>
                          <a:pt x="36" y="397"/>
                        </a:lnTo>
                        <a:lnTo>
                          <a:pt x="48" y="429"/>
                        </a:lnTo>
                        <a:lnTo>
                          <a:pt x="60" y="458"/>
                        </a:lnTo>
                        <a:lnTo>
                          <a:pt x="74" y="487"/>
                        </a:lnTo>
                        <a:lnTo>
                          <a:pt x="90" y="514"/>
                        </a:lnTo>
                        <a:lnTo>
                          <a:pt x="108" y="543"/>
                        </a:lnTo>
                        <a:lnTo>
                          <a:pt x="127" y="569"/>
                        </a:lnTo>
                        <a:lnTo>
                          <a:pt x="148" y="596"/>
                        </a:lnTo>
                        <a:lnTo>
                          <a:pt x="171" y="621"/>
                        </a:lnTo>
                        <a:lnTo>
                          <a:pt x="196" y="647"/>
                        </a:lnTo>
                        <a:lnTo>
                          <a:pt x="220" y="669"/>
                        </a:lnTo>
                        <a:lnTo>
                          <a:pt x="246" y="692"/>
                        </a:lnTo>
                        <a:lnTo>
                          <a:pt x="272" y="713"/>
                        </a:lnTo>
                        <a:lnTo>
                          <a:pt x="299" y="732"/>
                        </a:lnTo>
                        <a:lnTo>
                          <a:pt x="326" y="749"/>
                        </a:lnTo>
                        <a:lnTo>
                          <a:pt x="355" y="765"/>
                        </a:lnTo>
                        <a:lnTo>
                          <a:pt x="383" y="779"/>
                        </a:lnTo>
                        <a:lnTo>
                          <a:pt x="412" y="793"/>
                        </a:lnTo>
                        <a:lnTo>
                          <a:pt x="442" y="804"/>
                        </a:lnTo>
                        <a:lnTo>
                          <a:pt x="472" y="815"/>
                        </a:lnTo>
                        <a:lnTo>
                          <a:pt x="503" y="823"/>
                        </a:lnTo>
                        <a:lnTo>
                          <a:pt x="536" y="830"/>
                        </a:lnTo>
                        <a:lnTo>
                          <a:pt x="568" y="835"/>
                        </a:lnTo>
                        <a:lnTo>
                          <a:pt x="602" y="840"/>
                        </a:lnTo>
                        <a:lnTo>
                          <a:pt x="636" y="842"/>
                        </a:lnTo>
                        <a:lnTo>
                          <a:pt x="671" y="843"/>
                        </a:lnTo>
                        <a:lnTo>
                          <a:pt x="675" y="842"/>
                        </a:lnTo>
                        <a:lnTo>
                          <a:pt x="681" y="842"/>
                        </a:lnTo>
                        <a:lnTo>
                          <a:pt x="692" y="842"/>
                        </a:lnTo>
                        <a:lnTo>
                          <a:pt x="715" y="841"/>
                        </a:lnTo>
                        <a:lnTo>
                          <a:pt x="737" y="838"/>
                        </a:lnTo>
                        <a:lnTo>
                          <a:pt x="759" y="837"/>
                        </a:lnTo>
                        <a:lnTo>
                          <a:pt x="802" y="829"/>
                        </a:lnTo>
                        <a:lnTo>
                          <a:pt x="846" y="821"/>
                        </a:lnTo>
                        <a:lnTo>
                          <a:pt x="865" y="815"/>
                        </a:lnTo>
                        <a:lnTo>
                          <a:pt x="885" y="809"/>
                        </a:lnTo>
                        <a:lnTo>
                          <a:pt x="905" y="802"/>
                        </a:lnTo>
                        <a:lnTo>
                          <a:pt x="925" y="795"/>
                        </a:lnTo>
                        <a:lnTo>
                          <a:pt x="963" y="778"/>
                        </a:lnTo>
                        <a:lnTo>
                          <a:pt x="1002" y="759"/>
                        </a:lnTo>
                        <a:lnTo>
                          <a:pt x="1012" y="709"/>
                        </a:lnTo>
                        <a:lnTo>
                          <a:pt x="992" y="719"/>
                        </a:lnTo>
                        <a:lnTo>
                          <a:pt x="973" y="731"/>
                        </a:lnTo>
                        <a:lnTo>
                          <a:pt x="952" y="741"/>
                        </a:lnTo>
                        <a:lnTo>
                          <a:pt x="942" y="745"/>
                        </a:lnTo>
                        <a:lnTo>
                          <a:pt x="933" y="751"/>
                        </a:lnTo>
                        <a:lnTo>
                          <a:pt x="892" y="767"/>
                        </a:lnTo>
                        <a:lnTo>
                          <a:pt x="851" y="782"/>
                        </a:lnTo>
                        <a:lnTo>
                          <a:pt x="829" y="786"/>
                        </a:lnTo>
                        <a:lnTo>
                          <a:pt x="817" y="789"/>
                        </a:lnTo>
                        <a:lnTo>
                          <a:pt x="814" y="789"/>
                        </a:lnTo>
                        <a:lnTo>
                          <a:pt x="812" y="790"/>
                        </a:lnTo>
                        <a:lnTo>
                          <a:pt x="807" y="792"/>
                        </a:lnTo>
                        <a:lnTo>
                          <a:pt x="784" y="795"/>
                        </a:lnTo>
                        <a:lnTo>
                          <a:pt x="763" y="800"/>
                        </a:lnTo>
                        <a:lnTo>
                          <a:pt x="717" y="804"/>
                        </a:lnTo>
                        <a:lnTo>
                          <a:pt x="705" y="804"/>
                        </a:lnTo>
                        <a:lnTo>
                          <a:pt x="694" y="806"/>
                        </a:lnTo>
                        <a:lnTo>
                          <a:pt x="671" y="807"/>
                        </a:lnTo>
                        <a:lnTo>
                          <a:pt x="638" y="806"/>
                        </a:lnTo>
                        <a:lnTo>
                          <a:pt x="606" y="803"/>
                        </a:lnTo>
                        <a:lnTo>
                          <a:pt x="544" y="794"/>
                        </a:lnTo>
                        <a:lnTo>
                          <a:pt x="513" y="787"/>
                        </a:lnTo>
                        <a:lnTo>
                          <a:pt x="484" y="779"/>
                        </a:lnTo>
                        <a:lnTo>
                          <a:pt x="454" y="770"/>
                        </a:lnTo>
                        <a:lnTo>
                          <a:pt x="427" y="760"/>
                        </a:lnTo>
                        <a:lnTo>
                          <a:pt x="372" y="733"/>
                        </a:lnTo>
                        <a:lnTo>
                          <a:pt x="344" y="717"/>
                        </a:lnTo>
                        <a:lnTo>
                          <a:pt x="319" y="701"/>
                        </a:lnTo>
                        <a:lnTo>
                          <a:pt x="293" y="683"/>
                        </a:lnTo>
                        <a:lnTo>
                          <a:pt x="268" y="664"/>
                        </a:lnTo>
                        <a:lnTo>
                          <a:pt x="222" y="621"/>
                        </a:lnTo>
                        <a:lnTo>
                          <a:pt x="198" y="596"/>
                        </a:lnTo>
                        <a:lnTo>
                          <a:pt x="178" y="572"/>
                        </a:lnTo>
                        <a:lnTo>
                          <a:pt x="157" y="546"/>
                        </a:lnTo>
                        <a:lnTo>
                          <a:pt x="140" y="521"/>
                        </a:lnTo>
                        <a:lnTo>
                          <a:pt x="122" y="494"/>
                        </a:lnTo>
                        <a:lnTo>
                          <a:pt x="107" y="468"/>
                        </a:lnTo>
                        <a:lnTo>
                          <a:pt x="94" y="441"/>
                        </a:lnTo>
                        <a:lnTo>
                          <a:pt x="82" y="414"/>
                        </a:lnTo>
                        <a:lnTo>
                          <a:pt x="70" y="385"/>
                        </a:lnTo>
                        <a:lnTo>
                          <a:pt x="61" y="357"/>
                        </a:lnTo>
                        <a:lnTo>
                          <a:pt x="53" y="326"/>
                        </a:lnTo>
                        <a:lnTo>
                          <a:pt x="47" y="297"/>
                        </a:lnTo>
                        <a:lnTo>
                          <a:pt x="42" y="265"/>
                        </a:lnTo>
                        <a:lnTo>
                          <a:pt x="38" y="234"/>
                        </a:lnTo>
                        <a:lnTo>
                          <a:pt x="36" y="203"/>
                        </a:lnTo>
                        <a:lnTo>
                          <a:pt x="36" y="171"/>
                        </a:lnTo>
                        <a:lnTo>
                          <a:pt x="37" y="125"/>
                        </a:lnTo>
                        <a:lnTo>
                          <a:pt x="42" y="82"/>
                        </a:lnTo>
                        <a:lnTo>
                          <a:pt x="48" y="39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7515000" y="4244760"/>
                    <a:ext cx="274680" cy="22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868">
                        <a:moveTo>
                          <a:pt x="1" y="37"/>
                        </a:moveTo>
                        <a:lnTo>
                          <a:pt x="0" y="84"/>
                        </a:lnTo>
                        <a:lnTo>
                          <a:pt x="0" y="122"/>
                        </a:lnTo>
                        <a:lnTo>
                          <a:pt x="4" y="162"/>
                        </a:lnTo>
                        <a:lnTo>
                          <a:pt x="7" y="201"/>
                        </a:lnTo>
                        <a:lnTo>
                          <a:pt x="14" y="239"/>
                        </a:lnTo>
                        <a:lnTo>
                          <a:pt x="21" y="275"/>
                        </a:lnTo>
                        <a:lnTo>
                          <a:pt x="31" y="313"/>
                        </a:lnTo>
                        <a:lnTo>
                          <a:pt x="42" y="348"/>
                        </a:lnTo>
                        <a:lnTo>
                          <a:pt x="57" y="384"/>
                        </a:lnTo>
                        <a:lnTo>
                          <a:pt x="72" y="417"/>
                        </a:lnTo>
                        <a:lnTo>
                          <a:pt x="89" y="451"/>
                        </a:lnTo>
                        <a:lnTo>
                          <a:pt x="107" y="484"/>
                        </a:lnTo>
                        <a:lnTo>
                          <a:pt x="128" y="517"/>
                        </a:lnTo>
                        <a:lnTo>
                          <a:pt x="150" y="547"/>
                        </a:lnTo>
                        <a:lnTo>
                          <a:pt x="175" y="579"/>
                        </a:lnTo>
                        <a:lnTo>
                          <a:pt x="201" y="609"/>
                        </a:lnTo>
                        <a:lnTo>
                          <a:pt x="229" y="639"/>
                        </a:lnTo>
                        <a:lnTo>
                          <a:pt x="258" y="666"/>
                        </a:lnTo>
                        <a:lnTo>
                          <a:pt x="287" y="692"/>
                        </a:lnTo>
                        <a:lnTo>
                          <a:pt x="318" y="716"/>
                        </a:lnTo>
                        <a:lnTo>
                          <a:pt x="350" y="739"/>
                        </a:lnTo>
                        <a:lnTo>
                          <a:pt x="381" y="758"/>
                        </a:lnTo>
                        <a:lnTo>
                          <a:pt x="414" y="777"/>
                        </a:lnTo>
                        <a:lnTo>
                          <a:pt x="447" y="794"/>
                        </a:lnTo>
                        <a:lnTo>
                          <a:pt x="482" y="810"/>
                        </a:lnTo>
                        <a:lnTo>
                          <a:pt x="516" y="823"/>
                        </a:lnTo>
                        <a:lnTo>
                          <a:pt x="553" y="834"/>
                        </a:lnTo>
                        <a:lnTo>
                          <a:pt x="589" y="844"/>
                        </a:lnTo>
                        <a:lnTo>
                          <a:pt x="626" y="853"/>
                        </a:lnTo>
                        <a:lnTo>
                          <a:pt x="664" y="859"/>
                        </a:lnTo>
                        <a:lnTo>
                          <a:pt x="703" y="864"/>
                        </a:lnTo>
                        <a:lnTo>
                          <a:pt x="743" y="867"/>
                        </a:lnTo>
                        <a:lnTo>
                          <a:pt x="784" y="868"/>
                        </a:lnTo>
                        <a:lnTo>
                          <a:pt x="785" y="867"/>
                        </a:lnTo>
                        <a:lnTo>
                          <a:pt x="787" y="867"/>
                        </a:lnTo>
                        <a:lnTo>
                          <a:pt x="792" y="867"/>
                        </a:lnTo>
                        <a:lnTo>
                          <a:pt x="801" y="867"/>
                        </a:lnTo>
                        <a:lnTo>
                          <a:pt x="819" y="867"/>
                        </a:lnTo>
                        <a:lnTo>
                          <a:pt x="855" y="865"/>
                        </a:lnTo>
                        <a:lnTo>
                          <a:pt x="889" y="861"/>
                        </a:lnTo>
                        <a:lnTo>
                          <a:pt x="925" y="857"/>
                        </a:lnTo>
                        <a:lnTo>
                          <a:pt x="957" y="850"/>
                        </a:lnTo>
                        <a:lnTo>
                          <a:pt x="991" y="842"/>
                        </a:lnTo>
                        <a:lnTo>
                          <a:pt x="1024" y="833"/>
                        </a:lnTo>
                        <a:lnTo>
                          <a:pt x="1040" y="827"/>
                        </a:lnTo>
                        <a:lnTo>
                          <a:pt x="1057" y="823"/>
                        </a:lnTo>
                        <a:lnTo>
                          <a:pt x="1081" y="773"/>
                        </a:lnTo>
                        <a:lnTo>
                          <a:pt x="1063" y="779"/>
                        </a:lnTo>
                        <a:lnTo>
                          <a:pt x="1046" y="785"/>
                        </a:lnTo>
                        <a:lnTo>
                          <a:pt x="1011" y="797"/>
                        </a:lnTo>
                        <a:lnTo>
                          <a:pt x="974" y="807"/>
                        </a:lnTo>
                        <a:lnTo>
                          <a:pt x="938" y="816"/>
                        </a:lnTo>
                        <a:lnTo>
                          <a:pt x="900" y="822"/>
                        </a:lnTo>
                        <a:lnTo>
                          <a:pt x="862" y="826"/>
                        </a:lnTo>
                        <a:lnTo>
                          <a:pt x="842" y="827"/>
                        </a:lnTo>
                        <a:lnTo>
                          <a:pt x="822" y="830"/>
                        </a:lnTo>
                        <a:lnTo>
                          <a:pt x="784" y="831"/>
                        </a:lnTo>
                        <a:lnTo>
                          <a:pt x="745" y="830"/>
                        </a:lnTo>
                        <a:lnTo>
                          <a:pt x="708" y="827"/>
                        </a:lnTo>
                        <a:lnTo>
                          <a:pt x="671" y="823"/>
                        </a:lnTo>
                        <a:lnTo>
                          <a:pt x="634" y="817"/>
                        </a:lnTo>
                        <a:lnTo>
                          <a:pt x="598" y="809"/>
                        </a:lnTo>
                        <a:lnTo>
                          <a:pt x="564" y="800"/>
                        </a:lnTo>
                        <a:lnTo>
                          <a:pt x="530" y="789"/>
                        </a:lnTo>
                        <a:lnTo>
                          <a:pt x="497" y="776"/>
                        </a:lnTo>
                        <a:lnTo>
                          <a:pt x="464" y="762"/>
                        </a:lnTo>
                        <a:lnTo>
                          <a:pt x="432" y="746"/>
                        </a:lnTo>
                        <a:lnTo>
                          <a:pt x="401" y="728"/>
                        </a:lnTo>
                        <a:lnTo>
                          <a:pt x="370" y="708"/>
                        </a:lnTo>
                        <a:lnTo>
                          <a:pt x="339" y="687"/>
                        </a:lnTo>
                        <a:lnTo>
                          <a:pt x="311" y="664"/>
                        </a:lnTo>
                        <a:lnTo>
                          <a:pt x="283" y="639"/>
                        </a:lnTo>
                        <a:lnTo>
                          <a:pt x="255" y="613"/>
                        </a:lnTo>
                        <a:lnTo>
                          <a:pt x="227" y="584"/>
                        </a:lnTo>
                        <a:lnTo>
                          <a:pt x="203" y="555"/>
                        </a:lnTo>
                        <a:lnTo>
                          <a:pt x="179" y="526"/>
                        </a:lnTo>
                        <a:lnTo>
                          <a:pt x="159" y="496"/>
                        </a:lnTo>
                        <a:lnTo>
                          <a:pt x="139" y="465"/>
                        </a:lnTo>
                        <a:lnTo>
                          <a:pt x="122" y="434"/>
                        </a:lnTo>
                        <a:lnTo>
                          <a:pt x="105" y="402"/>
                        </a:lnTo>
                        <a:lnTo>
                          <a:pt x="91" y="371"/>
                        </a:lnTo>
                        <a:lnTo>
                          <a:pt x="77" y="335"/>
                        </a:lnTo>
                        <a:lnTo>
                          <a:pt x="67" y="301"/>
                        </a:lnTo>
                        <a:lnTo>
                          <a:pt x="57" y="266"/>
                        </a:lnTo>
                        <a:lnTo>
                          <a:pt x="50" y="232"/>
                        </a:lnTo>
                        <a:lnTo>
                          <a:pt x="43" y="195"/>
                        </a:lnTo>
                        <a:lnTo>
                          <a:pt x="40" y="159"/>
                        </a:lnTo>
                        <a:lnTo>
                          <a:pt x="37" y="121"/>
                        </a:lnTo>
                        <a:lnTo>
                          <a:pt x="37" y="84"/>
                        </a:lnTo>
                        <a:lnTo>
                          <a:pt x="38" y="41"/>
                        </a:lnTo>
                        <a:lnTo>
                          <a:pt x="41" y="0"/>
                        </a:lnTo>
                        <a:lnTo>
                          <a:pt x="1" y="37"/>
                        </a:lnTo>
                        <a:close/>
                      </a:path>
                    </a:pathLst>
                  </a:custGeom>
                  <a:solidFill>
                    <a:srgbClr val="00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524360" y="4236480"/>
                    <a:ext cx="270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3" h="864">
                        <a:moveTo>
                          <a:pt x="37" y="117"/>
                        </a:moveTo>
                        <a:lnTo>
                          <a:pt x="39" y="57"/>
                        </a:lnTo>
                        <a:lnTo>
                          <a:pt x="46" y="0"/>
                        </a:lnTo>
                        <a:lnTo>
                          <a:pt x="4" y="33"/>
                        </a:lnTo>
                        <a:lnTo>
                          <a:pt x="1" y="74"/>
                        </a:lnTo>
                        <a:lnTo>
                          <a:pt x="0" y="117"/>
                        </a:lnTo>
                        <a:lnTo>
                          <a:pt x="0" y="154"/>
                        </a:lnTo>
                        <a:lnTo>
                          <a:pt x="3" y="192"/>
                        </a:lnTo>
                        <a:lnTo>
                          <a:pt x="6" y="228"/>
                        </a:lnTo>
                        <a:lnTo>
                          <a:pt x="13" y="265"/>
                        </a:lnTo>
                        <a:lnTo>
                          <a:pt x="20" y="299"/>
                        </a:lnTo>
                        <a:lnTo>
                          <a:pt x="30" y="334"/>
                        </a:lnTo>
                        <a:lnTo>
                          <a:pt x="40" y="368"/>
                        </a:lnTo>
                        <a:lnTo>
                          <a:pt x="54" y="404"/>
                        </a:lnTo>
                        <a:lnTo>
                          <a:pt x="68" y="435"/>
                        </a:lnTo>
                        <a:lnTo>
                          <a:pt x="85" y="467"/>
                        </a:lnTo>
                        <a:lnTo>
                          <a:pt x="102" y="498"/>
                        </a:lnTo>
                        <a:lnTo>
                          <a:pt x="122" y="529"/>
                        </a:lnTo>
                        <a:lnTo>
                          <a:pt x="142" y="559"/>
                        </a:lnTo>
                        <a:lnTo>
                          <a:pt x="166" y="588"/>
                        </a:lnTo>
                        <a:lnTo>
                          <a:pt x="190" y="617"/>
                        </a:lnTo>
                        <a:lnTo>
                          <a:pt x="218" y="646"/>
                        </a:lnTo>
                        <a:lnTo>
                          <a:pt x="246" y="672"/>
                        </a:lnTo>
                        <a:lnTo>
                          <a:pt x="274" y="697"/>
                        </a:lnTo>
                        <a:lnTo>
                          <a:pt x="302" y="720"/>
                        </a:lnTo>
                        <a:lnTo>
                          <a:pt x="333" y="741"/>
                        </a:lnTo>
                        <a:lnTo>
                          <a:pt x="364" y="761"/>
                        </a:lnTo>
                        <a:lnTo>
                          <a:pt x="395" y="779"/>
                        </a:lnTo>
                        <a:lnTo>
                          <a:pt x="427" y="795"/>
                        </a:lnTo>
                        <a:lnTo>
                          <a:pt x="460" y="809"/>
                        </a:lnTo>
                        <a:lnTo>
                          <a:pt x="493" y="822"/>
                        </a:lnTo>
                        <a:lnTo>
                          <a:pt x="527" y="833"/>
                        </a:lnTo>
                        <a:lnTo>
                          <a:pt x="561" y="842"/>
                        </a:lnTo>
                        <a:lnTo>
                          <a:pt x="597" y="850"/>
                        </a:lnTo>
                        <a:lnTo>
                          <a:pt x="634" y="856"/>
                        </a:lnTo>
                        <a:lnTo>
                          <a:pt x="671" y="860"/>
                        </a:lnTo>
                        <a:lnTo>
                          <a:pt x="708" y="863"/>
                        </a:lnTo>
                        <a:lnTo>
                          <a:pt x="747" y="864"/>
                        </a:lnTo>
                        <a:lnTo>
                          <a:pt x="785" y="863"/>
                        </a:lnTo>
                        <a:lnTo>
                          <a:pt x="805" y="860"/>
                        </a:lnTo>
                        <a:lnTo>
                          <a:pt x="825" y="859"/>
                        </a:lnTo>
                        <a:lnTo>
                          <a:pt x="863" y="855"/>
                        </a:lnTo>
                        <a:lnTo>
                          <a:pt x="901" y="849"/>
                        </a:lnTo>
                        <a:lnTo>
                          <a:pt x="937" y="840"/>
                        </a:lnTo>
                        <a:lnTo>
                          <a:pt x="974" y="830"/>
                        </a:lnTo>
                        <a:lnTo>
                          <a:pt x="1009" y="818"/>
                        </a:lnTo>
                        <a:lnTo>
                          <a:pt x="1026" y="812"/>
                        </a:lnTo>
                        <a:lnTo>
                          <a:pt x="1044" y="806"/>
                        </a:lnTo>
                        <a:lnTo>
                          <a:pt x="1053" y="780"/>
                        </a:lnTo>
                        <a:lnTo>
                          <a:pt x="1063" y="755"/>
                        </a:lnTo>
                        <a:lnTo>
                          <a:pt x="1060" y="755"/>
                        </a:lnTo>
                        <a:lnTo>
                          <a:pt x="1058" y="756"/>
                        </a:lnTo>
                        <a:lnTo>
                          <a:pt x="1053" y="758"/>
                        </a:lnTo>
                        <a:lnTo>
                          <a:pt x="1044" y="763"/>
                        </a:lnTo>
                        <a:lnTo>
                          <a:pt x="1026" y="772"/>
                        </a:lnTo>
                        <a:lnTo>
                          <a:pt x="990" y="787"/>
                        </a:lnTo>
                        <a:lnTo>
                          <a:pt x="951" y="799"/>
                        </a:lnTo>
                        <a:lnTo>
                          <a:pt x="912" y="809"/>
                        </a:lnTo>
                        <a:lnTo>
                          <a:pt x="872" y="817"/>
                        </a:lnTo>
                        <a:lnTo>
                          <a:pt x="831" y="823"/>
                        </a:lnTo>
                        <a:lnTo>
                          <a:pt x="819" y="823"/>
                        </a:lnTo>
                        <a:lnTo>
                          <a:pt x="814" y="823"/>
                        </a:lnTo>
                        <a:lnTo>
                          <a:pt x="809" y="824"/>
                        </a:lnTo>
                        <a:lnTo>
                          <a:pt x="789" y="826"/>
                        </a:lnTo>
                        <a:lnTo>
                          <a:pt x="767" y="826"/>
                        </a:lnTo>
                        <a:lnTo>
                          <a:pt x="747" y="827"/>
                        </a:lnTo>
                        <a:lnTo>
                          <a:pt x="709" y="826"/>
                        </a:lnTo>
                        <a:lnTo>
                          <a:pt x="673" y="824"/>
                        </a:lnTo>
                        <a:lnTo>
                          <a:pt x="638" y="820"/>
                        </a:lnTo>
                        <a:lnTo>
                          <a:pt x="604" y="814"/>
                        </a:lnTo>
                        <a:lnTo>
                          <a:pt x="570" y="806"/>
                        </a:lnTo>
                        <a:lnTo>
                          <a:pt x="537" y="797"/>
                        </a:lnTo>
                        <a:lnTo>
                          <a:pt x="504" y="787"/>
                        </a:lnTo>
                        <a:lnTo>
                          <a:pt x="474" y="775"/>
                        </a:lnTo>
                        <a:lnTo>
                          <a:pt x="442" y="761"/>
                        </a:lnTo>
                        <a:lnTo>
                          <a:pt x="411" y="745"/>
                        </a:lnTo>
                        <a:lnTo>
                          <a:pt x="382" y="728"/>
                        </a:lnTo>
                        <a:lnTo>
                          <a:pt x="353" y="710"/>
                        </a:lnTo>
                        <a:lnTo>
                          <a:pt x="325" y="689"/>
                        </a:lnTo>
                        <a:lnTo>
                          <a:pt x="298" y="668"/>
                        </a:lnTo>
                        <a:lnTo>
                          <a:pt x="271" y="644"/>
                        </a:lnTo>
                        <a:lnTo>
                          <a:pt x="246" y="619"/>
                        </a:lnTo>
                        <a:lnTo>
                          <a:pt x="220" y="592"/>
                        </a:lnTo>
                        <a:lnTo>
                          <a:pt x="196" y="564"/>
                        </a:lnTo>
                        <a:lnTo>
                          <a:pt x="173" y="536"/>
                        </a:lnTo>
                        <a:lnTo>
                          <a:pt x="154" y="509"/>
                        </a:lnTo>
                        <a:lnTo>
                          <a:pt x="135" y="478"/>
                        </a:lnTo>
                        <a:lnTo>
                          <a:pt x="118" y="449"/>
                        </a:lnTo>
                        <a:lnTo>
                          <a:pt x="102" y="418"/>
                        </a:lnTo>
                        <a:lnTo>
                          <a:pt x="89" y="389"/>
                        </a:lnTo>
                        <a:lnTo>
                          <a:pt x="76" y="356"/>
                        </a:lnTo>
                        <a:lnTo>
                          <a:pt x="65" y="324"/>
                        </a:lnTo>
                        <a:lnTo>
                          <a:pt x="56" y="291"/>
                        </a:lnTo>
                        <a:lnTo>
                          <a:pt x="50" y="258"/>
                        </a:lnTo>
                        <a:lnTo>
                          <a:pt x="43" y="223"/>
                        </a:lnTo>
                        <a:lnTo>
                          <a:pt x="39" y="188"/>
                        </a:lnTo>
                        <a:lnTo>
                          <a:pt x="37" y="152"/>
                        </a:lnTo>
                        <a:lnTo>
                          <a:pt x="37" y="117"/>
                        </a:lnTo>
                        <a:close/>
                      </a:path>
                    </a:pathLst>
                  </a:custGeom>
                  <a:solidFill>
                    <a:srgbClr val="00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7534080" y="4228920"/>
                    <a:ext cx="26460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1" h="856">
                        <a:moveTo>
                          <a:pt x="9" y="29"/>
                        </a:moveTo>
                        <a:lnTo>
                          <a:pt x="2" y="86"/>
                        </a:lnTo>
                        <a:lnTo>
                          <a:pt x="0" y="146"/>
                        </a:lnTo>
                        <a:lnTo>
                          <a:pt x="0" y="181"/>
                        </a:lnTo>
                        <a:lnTo>
                          <a:pt x="2" y="217"/>
                        </a:lnTo>
                        <a:lnTo>
                          <a:pt x="6" y="252"/>
                        </a:lnTo>
                        <a:lnTo>
                          <a:pt x="13" y="287"/>
                        </a:lnTo>
                        <a:lnTo>
                          <a:pt x="19" y="320"/>
                        </a:lnTo>
                        <a:lnTo>
                          <a:pt x="28" y="353"/>
                        </a:lnTo>
                        <a:lnTo>
                          <a:pt x="39" y="385"/>
                        </a:lnTo>
                        <a:lnTo>
                          <a:pt x="52" y="418"/>
                        </a:lnTo>
                        <a:lnTo>
                          <a:pt x="65" y="447"/>
                        </a:lnTo>
                        <a:lnTo>
                          <a:pt x="81" y="478"/>
                        </a:lnTo>
                        <a:lnTo>
                          <a:pt x="98" y="507"/>
                        </a:lnTo>
                        <a:lnTo>
                          <a:pt x="117" y="538"/>
                        </a:lnTo>
                        <a:lnTo>
                          <a:pt x="136" y="565"/>
                        </a:lnTo>
                        <a:lnTo>
                          <a:pt x="159" y="593"/>
                        </a:lnTo>
                        <a:lnTo>
                          <a:pt x="183" y="621"/>
                        </a:lnTo>
                        <a:lnTo>
                          <a:pt x="209" y="648"/>
                        </a:lnTo>
                        <a:lnTo>
                          <a:pt x="234" y="673"/>
                        </a:lnTo>
                        <a:lnTo>
                          <a:pt x="261" y="697"/>
                        </a:lnTo>
                        <a:lnTo>
                          <a:pt x="288" y="718"/>
                        </a:lnTo>
                        <a:lnTo>
                          <a:pt x="316" y="739"/>
                        </a:lnTo>
                        <a:lnTo>
                          <a:pt x="345" y="757"/>
                        </a:lnTo>
                        <a:lnTo>
                          <a:pt x="374" y="774"/>
                        </a:lnTo>
                        <a:lnTo>
                          <a:pt x="405" y="790"/>
                        </a:lnTo>
                        <a:lnTo>
                          <a:pt x="437" y="804"/>
                        </a:lnTo>
                        <a:lnTo>
                          <a:pt x="467" y="816"/>
                        </a:lnTo>
                        <a:lnTo>
                          <a:pt x="500" y="826"/>
                        </a:lnTo>
                        <a:lnTo>
                          <a:pt x="533" y="835"/>
                        </a:lnTo>
                        <a:lnTo>
                          <a:pt x="567" y="843"/>
                        </a:lnTo>
                        <a:lnTo>
                          <a:pt x="601" y="849"/>
                        </a:lnTo>
                        <a:lnTo>
                          <a:pt x="636" y="853"/>
                        </a:lnTo>
                        <a:lnTo>
                          <a:pt x="672" y="855"/>
                        </a:lnTo>
                        <a:lnTo>
                          <a:pt x="710" y="856"/>
                        </a:lnTo>
                        <a:lnTo>
                          <a:pt x="730" y="855"/>
                        </a:lnTo>
                        <a:lnTo>
                          <a:pt x="752" y="855"/>
                        </a:lnTo>
                        <a:lnTo>
                          <a:pt x="772" y="853"/>
                        </a:lnTo>
                        <a:lnTo>
                          <a:pt x="777" y="852"/>
                        </a:lnTo>
                        <a:lnTo>
                          <a:pt x="782" y="852"/>
                        </a:lnTo>
                        <a:lnTo>
                          <a:pt x="794" y="852"/>
                        </a:lnTo>
                        <a:lnTo>
                          <a:pt x="835" y="846"/>
                        </a:lnTo>
                        <a:lnTo>
                          <a:pt x="875" y="838"/>
                        </a:lnTo>
                        <a:lnTo>
                          <a:pt x="914" y="828"/>
                        </a:lnTo>
                        <a:lnTo>
                          <a:pt x="953" y="816"/>
                        </a:lnTo>
                        <a:lnTo>
                          <a:pt x="989" y="801"/>
                        </a:lnTo>
                        <a:lnTo>
                          <a:pt x="1007" y="792"/>
                        </a:lnTo>
                        <a:lnTo>
                          <a:pt x="1016" y="787"/>
                        </a:lnTo>
                        <a:lnTo>
                          <a:pt x="1021" y="785"/>
                        </a:lnTo>
                        <a:lnTo>
                          <a:pt x="1023" y="784"/>
                        </a:lnTo>
                        <a:lnTo>
                          <a:pt x="1026" y="784"/>
                        </a:lnTo>
                        <a:lnTo>
                          <a:pt x="1041" y="734"/>
                        </a:lnTo>
                        <a:lnTo>
                          <a:pt x="1002" y="753"/>
                        </a:lnTo>
                        <a:lnTo>
                          <a:pt x="964" y="770"/>
                        </a:lnTo>
                        <a:lnTo>
                          <a:pt x="944" y="777"/>
                        </a:lnTo>
                        <a:lnTo>
                          <a:pt x="924" y="784"/>
                        </a:lnTo>
                        <a:lnTo>
                          <a:pt x="904" y="790"/>
                        </a:lnTo>
                        <a:lnTo>
                          <a:pt x="885" y="796"/>
                        </a:lnTo>
                        <a:lnTo>
                          <a:pt x="841" y="804"/>
                        </a:lnTo>
                        <a:lnTo>
                          <a:pt x="798" y="812"/>
                        </a:lnTo>
                        <a:lnTo>
                          <a:pt x="776" y="813"/>
                        </a:lnTo>
                        <a:lnTo>
                          <a:pt x="754" y="816"/>
                        </a:lnTo>
                        <a:lnTo>
                          <a:pt x="731" y="817"/>
                        </a:lnTo>
                        <a:lnTo>
                          <a:pt x="720" y="817"/>
                        </a:lnTo>
                        <a:lnTo>
                          <a:pt x="714" y="817"/>
                        </a:lnTo>
                        <a:lnTo>
                          <a:pt x="710" y="818"/>
                        </a:lnTo>
                        <a:lnTo>
                          <a:pt x="675" y="817"/>
                        </a:lnTo>
                        <a:lnTo>
                          <a:pt x="641" y="815"/>
                        </a:lnTo>
                        <a:lnTo>
                          <a:pt x="607" y="810"/>
                        </a:lnTo>
                        <a:lnTo>
                          <a:pt x="575" y="805"/>
                        </a:lnTo>
                        <a:lnTo>
                          <a:pt x="542" y="798"/>
                        </a:lnTo>
                        <a:lnTo>
                          <a:pt x="511" y="790"/>
                        </a:lnTo>
                        <a:lnTo>
                          <a:pt x="481" y="779"/>
                        </a:lnTo>
                        <a:lnTo>
                          <a:pt x="451" y="768"/>
                        </a:lnTo>
                        <a:lnTo>
                          <a:pt x="422" y="754"/>
                        </a:lnTo>
                        <a:lnTo>
                          <a:pt x="394" y="740"/>
                        </a:lnTo>
                        <a:lnTo>
                          <a:pt x="365" y="724"/>
                        </a:lnTo>
                        <a:lnTo>
                          <a:pt x="338" y="707"/>
                        </a:lnTo>
                        <a:lnTo>
                          <a:pt x="311" y="688"/>
                        </a:lnTo>
                        <a:lnTo>
                          <a:pt x="285" y="667"/>
                        </a:lnTo>
                        <a:lnTo>
                          <a:pt x="259" y="644"/>
                        </a:lnTo>
                        <a:lnTo>
                          <a:pt x="235" y="622"/>
                        </a:lnTo>
                        <a:lnTo>
                          <a:pt x="210" y="596"/>
                        </a:lnTo>
                        <a:lnTo>
                          <a:pt x="187" y="571"/>
                        </a:lnTo>
                        <a:lnTo>
                          <a:pt x="166" y="544"/>
                        </a:lnTo>
                        <a:lnTo>
                          <a:pt x="147" y="518"/>
                        </a:lnTo>
                        <a:lnTo>
                          <a:pt x="129" y="489"/>
                        </a:lnTo>
                        <a:lnTo>
                          <a:pt x="113" y="462"/>
                        </a:lnTo>
                        <a:lnTo>
                          <a:pt x="99" y="433"/>
                        </a:lnTo>
                        <a:lnTo>
                          <a:pt x="87" y="404"/>
                        </a:lnTo>
                        <a:lnTo>
                          <a:pt x="75" y="372"/>
                        </a:lnTo>
                        <a:lnTo>
                          <a:pt x="65" y="342"/>
                        </a:lnTo>
                        <a:lnTo>
                          <a:pt x="56" y="310"/>
                        </a:lnTo>
                        <a:lnTo>
                          <a:pt x="50" y="280"/>
                        </a:lnTo>
                        <a:lnTo>
                          <a:pt x="44" y="246"/>
                        </a:lnTo>
                        <a:lnTo>
                          <a:pt x="41" y="213"/>
                        </a:lnTo>
                        <a:lnTo>
                          <a:pt x="39" y="179"/>
                        </a:lnTo>
                        <a:lnTo>
                          <a:pt x="39" y="146"/>
                        </a:lnTo>
                        <a:lnTo>
                          <a:pt x="42" y="70"/>
                        </a:lnTo>
                        <a:lnTo>
                          <a:pt x="45" y="34"/>
                        </a:lnTo>
                        <a:lnTo>
                          <a:pt x="53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7552800" y="4217400"/>
                    <a:ext cx="24984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3" h="829">
                        <a:moveTo>
                          <a:pt x="23" y="22"/>
                        </a:moveTo>
                        <a:lnTo>
                          <a:pt x="12" y="61"/>
                        </a:lnTo>
                        <a:lnTo>
                          <a:pt x="6" y="104"/>
                        </a:lnTo>
                        <a:lnTo>
                          <a:pt x="1" y="147"/>
                        </a:lnTo>
                        <a:lnTo>
                          <a:pt x="0" y="193"/>
                        </a:lnTo>
                        <a:lnTo>
                          <a:pt x="0" y="225"/>
                        </a:lnTo>
                        <a:lnTo>
                          <a:pt x="2" y="256"/>
                        </a:lnTo>
                        <a:lnTo>
                          <a:pt x="6" y="287"/>
                        </a:lnTo>
                        <a:lnTo>
                          <a:pt x="11" y="319"/>
                        </a:lnTo>
                        <a:lnTo>
                          <a:pt x="17" y="348"/>
                        </a:lnTo>
                        <a:lnTo>
                          <a:pt x="25" y="379"/>
                        </a:lnTo>
                        <a:lnTo>
                          <a:pt x="34" y="407"/>
                        </a:lnTo>
                        <a:lnTo>
                          <a:pt x="46" y="436"/>
                        </a:lnTo>
                        <a:lnTo>
                          <a:pt x="58" y="463"/>
                        </a:lnTo>
                        <a:lnTo>
                          <a:pt x="71" y="490"/>
                        </a:lnTo>
                        <a:lnTo>
                          <a:pt x="86" y="516"/>
                        </a:lnTo>
                        <a:lnTo>
                          <a:pt x="104" y="543"/>
                        </a:lnTo>
                        <a:lnTo>
                          <a:pt x="121" y="568"/>
                        </a:lnTo>
                        <a:lnTo>
                          <a:pt x="142" y="594"/>
                        </a:lnTo>
                        <a:lnTo>
                          <a:pt x="162" y="618"/>
                        </a:lnTo>
                        <a:lnTo>
                          <a:pt x="186" y="643"/>
                        </a:lnTo>
                        <a:lnTo>
                          <a:pt x="232" y="686"/>
                        </a:lnTo>
                        <a:lnTo>
                          <a:pt x="257" y="705"/>
                        </a:lnTo>
                        <a:lnTo>
                          <a:pt x="283" y="723"/>
                        </a:lnTo>
                        <a:lnTo>
                          <a:pt x="308" y="739"/>
                        </a:lnTo>
                        <a:lnTo>
                          <a:pt x="336" y="755"/>
                        </a:lnTo>
                        <a:lnTo>
                          <a:pt x="391" y="782"/>
                        </a:lnTo>
                        <a:lnTo>
                          <a:pt x="418" y="792"/>
                        </a:lnTo>
                        <a:lnTo>
                          <a:pt x="448" y="801"/>
                        </a:lnTo>
                        <a:lnTo>
                          <a:pt x="477" y="809"/>
                        </a:lnTo>
                        <a:lnTo>
                          <a:pt x="508" y="816"/>
                        </a:lnTo>
                        <a:lnTo>
                          <a:pt x="570" y="825"/>
                        </a:lnTo>
                        <a:lnTo>
                          <a:pt x="602" y="828"/>
                        </a:lnTo>
                        <a:lnTo>
                          <a:pt x="635" y="829"/>
                        </a:lnTo>
                        <a:lnTo>
                          <a:pt x="658" y="828"/>
                        </a:lnTo>
                        <a:lnTo>
                          <a:pt x="669" y="826"/>
                        </a:lnTo>
                        <a:lnTo>
                          <a:pt x="681" y="826"/>
                        </a:lnTo>
                        <a:lnTo>
                          <a:pt x="727" y="822"/>
                        </a:lnTo>
                        <a:lnTo>
                          <a:pt x="748" y="817"/>
                        </a:lnTo>
                        <a:lnTo>
                          <a:pt x="771" y="814"/>
                        </a:lnTo>
                        <a:lnTo>
                          <a:pt x="776" y="812"/>
                        </a:lnTo>
                        <a:lnTo>
                          <a:pt x="778" y="811"/>
                        </a:lnTo>
                        <a:lnTo>
                          <a:pt x="781" y="811"/>
                        </a:lnTo>
                        <a:lnTo>
                          <a:pt x="793" y="808"/>
                        </a:lnTo>
                        <a:lnTo>
                          <a:pt x="815" y="804"/>
                        </a:lnTo>
                        <a:lnTo>
                          <a:pt x="856" y="789"/>
                        </a:lnTo>
                        <a:lnTo>
                          <a:pt x="897" y="773"/>
                        </a:lnTo>
                        <a:lnTo>
                          <a:pt x="906" y="767"/>
                        </a:lnTo>
                        <a:lnTo>
                          <a:pt x="916" y="763"/>
                        </a:lnTo>
                        <a:lnTo>
                          <a:pt x="937" y="753"/>
                        </a:lnTo>
                        <a:lnTo>
                          <a:pt x="956" y="741"/>
                        </a:lnTo>
                        <a:lnTo>
                          <a:pt x="976" y="731"/>
                        </a:lnTo>
                        <a:lnTo>
                          <a:pt x="983" y="680"/>
                        </a:lnTo>
                        <a:lnTo>
                          <a:pt x="963" y="693"/>
                        </a:lnTo>
                        <a:lnTo>
                          <a:pt x="957" y="695"/>
                        </a:lnTo>
                        <a:lnTo>
                          <a:pt x="952" y="698"/>
                        </a:lnTo>
                        <a:lnTo>
                          <a:pt x="943" y="705"/>
                        </a:lnTo>
                        <a:lnTo>
                          <a:pt x="923" y="716"/>
                        </a:lnTo>
                        <a:lnTo>
                          <a:pt x="904" y="728"/>
                        </a:lnTo>
                        <a:lnTo>
                          <a:pt x="882" y="737"/>
                        </a:lnTo>
                        <a:lnTo>
                          <a:pt x="862" y="747"/>
                        </a:lnTo>
                        <a:lnTo>
                          <a:pt x="850" y="750"/>
                        </a:lnTo>
                        <a:lnTo>
                          <a:pt x="840" y="755"/>
                        </a:lnTo>
                        <a:lnTo>
                          <a:pt x="820" y="763"/>
                        </a:lnTo>
                        <a:lnTo>
                          <a:pt x="797" y="769"/>
                        </a:lnTo>
                        <a:lnTo>
                          <a:pt x="786" y="771"/>
                        </a:lnTo>
                        <a:lnTo>
                          <a:pt x="782" y="771"/>
                        </a:lnTo>
                        <a:lnTo>
                          <a:pt x="780" y="772"/>
                        </a:lnTo>
                        <a:lnTo>
                          <a:pt x="776" y="774"/>
                        </a:lnTo>
                        <a:lnTo>
                          <a:pt x="730" y="783"/>
                        </a:lnTo>
                        <a:lnTo>
                          <a:pt x="683" y="789"/>
                        </a:lnTo>
                        <a:lnTo>
                          <a:pt x="635" y="791"/>
                        </a:lnTo>
                        <a:lnTo>
                          <a:pt x="603" y="790"/>
                        </a:lnTo>
                        <a:lnTo>
                          <a:pt x="573" y="788"/>
                        </a:lnTo>
                        <a:lnTo>
                          <a:pt x="543" y="784"/>
                        </a:lnTo>
                        <a:lnTo>
                          <a:pt x="515" y="780"/>
                        </a:lnTo>
                        <a:lnTo>
                          <a:pt x="486" y="773"/>
                        </a:lnTo>
                        <a:lnTo>
                          <a:pt x="459" y="765"/>
                        </a:lnTo>
                        <a:lnTo>
                          <a:pt x="406" y="747"/>
                        </a:lnTo>
                        <a:lnTo>
                          <a:pt x="379" y="735"/>
                        </a:lnTo>
                        <a:lnTo>
                          <a:pt x="353" y="721"/>
                        </a:lnTo>
                        <a:lnTo>
                          <a:pt x="304" y="691"/>
                        </a:lnTo>
                        <a:lnTo>
                          <a:pt x="257" y="655"/>
                        </a:lnTo>
                        <a:lnTo>
                          <a:pt x="235" y="636"/>
                        </a:lnTo>
                        <a:lnTo>
                          <a:pt x="213" y="616"/>
                        </a:lnTo>
                        <a:lnTo>
                          <a:pt x="190" y="592"/>
                        </a:lnTo>
                        <a:lnTo>
                          <a:pt x="171" y="569"/>
                        </a:lnTo>
                        <a:lnTo>
                          <a:pt x="152" y="545"/>
                        </a:lnTo>
                        <a:lnTo>
                          <a:pt x="136" y="523"/>
                        </a:lnTo>
                        <a:lnTo>
                          <a:pt x="119" y="498"/>
                        </a:lnTo>
                        <a:lnTo>
                          <a:pt x="105" y="473"/>
                        </a:lnTo>
                        <a:lnTo>
                          <a:pt x="92" y="447"/>
                        </a:lnTo>
                        <a:lnTo>
                          <a:pt x="82" y="422"/>
                        </a:lnTo>
                        <a:lnTo>
                          <a:pt x="70" y="393"/>
                        </a:lnTo>
                        <a:lnTo>
                          <a:pt x="62" y="366"/>
                        </a:lnTo>
                        <a:lnTo>
                          <a:pt x="54" y="338"/>
                        </a:lnTo>
                        <a:lnTo>
                          <a:pt x="49" y="311"/>
                        </a:lnTo>
                        <a:lnTo>
                          <a:pt x="43" y="281"/>
                        </a:lnTo>
                        <a:lnTo>
                          <a:pt x="41" y="253"/>
                        </a:lnTo>
                        <a:lnTo>
                          <a:pt x="38" y="222"/>
                        </a:lnTo>
                        <a:lnTo>
                          <a:pt x="38" y="193"/>
                        </a:lnTo>
                        <a:lnTo>
                          <a:pt x="40" y="142"/>
                        </a:lnTo>
                        <a:lnTo>
                          <a:pt x="45" y="93"/>
                        </a:lnTo>
                        <a:lnTo>
                          <a:pt x="54" y="45"/>
                        </a:lnTo>
                        <a:lnTo>
                          <a:pt x="69" y="0"/>
                        </a:lnTo>
                        <a:lnTo>
                          <a:pt x="23" y="22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7562880" y="4213080"/>
                    <a:ext cx="24012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7" h="808">
                        <a:moveTo>
                          <a:pt x="76" y="0"/>
                        </a:moveTo>
                        <a:lnTo>
                          <a:pt x="31" y="17"/>
                        </a:lnTo>
                        <a:lnTo>
                          <a:pt x="16" y="62"/>
                        </a:lnTo>
                        <a:lnTo>
                          <a:pt x="7" y="110"/>
                        </a:lnTo>
                        <a:lnTo>
                          <a:pt x="2" y="159"/>
                        </a:lnTo>
                        <a:lnTo>
                          <a:pt x="0" y="210"/>
                        </a:lnTo>
                        <a:lnTo>
                          <a:pt x="0" y="239"/>
                        </a:lnTo>
                        <a:lnTo>
                          <a:pt x="3" y="270"/>
                        </a:lnTo>
                        <a:lnTo>
                          <a:pt x="5" y="298"/>
                        </a:lnTo>
                        <a:lnTo>
                          <a:pt x="11" y="328"/>
                        </a:lnTo>
                        <a:lnTo>
                          <a:pt x="16" y="355"/>
                        </a:lnTo>
                        <a:lnTo>
                          <a:pt x="24" y="383"/>
                        </a:lnTo>
                        <a:lnTo>
                          <a:pt x="32" y="410"/>
                        </a:lnTo>
                        <a:lnTo>
                          <a:pt x="44" y="439"/>
                        </a:lnTo>
                        <a:lnTo>
                          <a:pt x="54" y="464"/>
                        </a:lnTo>
                        <a:lnTo>
                          <a:pt x="67" y="490"/>
                        </a:lnTo>
                        <a:lnTo>
                          <a:pt x="81" y="515"/>
                        </a:lnTo>
                        <a:lnTo>
                          <a:pt x="98" y="540"/>
                        </a:lnTo>
                        <a:lnTo>
                          <a:pt x="114" y="562"/>
                        </a:lnTo>
                        <a:lnTo>
                          <a:pt x="133" y="586"/>
                        </a:lnTo>
                        <a:lnTo>
                          <a:pt x="152" y="609"/>
                        </a:lnTo>
                        <a:lnTo>
                          <a:pt x="175" y="633"/>
                        </a:lnTo>
                        <a:lnTo>
                          <a:pt x="197" y="653"/>
                        </a:lnTo>
                        <a:lnTo>
                          <a:pt x="219" y="672"/>
                        </a:lnTo>
                        <a:lnTo>
                          <a:pt x="266" y="708"/>
                        </a:lnTo>
                        <a:lnTo>
                          <a:pt x="315" y="738"/>
                        </a:lnTo>
                        <a:lnTo>
                          <a:pt x="341" y="752"/>
                        </a:lnTo>
                        <a:lnTo>
                          <a:pt x="368" y="764"/>
                        </a:lnTo>
                        <a:lnTo>
                          <a:pt x="421" y="782"/>
                        </a:lnTo>
                        <a:lnTo>
                          <a:pt x="448" y="790"/>
                        </a:lnTo>
                        <a:lnTo>
                          <a:pt x="477" y="797"/>
                        </a:lnTo>
                        <a:lnTo>
                          <a:pt x="505" y="801"/>
                        </a:lnTo>
                        <a:lnTo>
                          <a:pt x="535" y="805"/>
                        </a:lnTo>
                        <a:lnTo>
                          <a:pt x="565" y="807"/>
                        </a:lnTo>
                        <a:lnTo>
                          <a:pt x="597" y="808"/>
                        </a:lnTo>
                        <a:lnTo>
                          <a:pt x="645" y="806"/>
                        </a:lnTo>
                        <a:lnTo>
                          <a:pt x="692" y="800"/>
                        </a:lnTo>
                        <a:lnTo>
                          <a:pt x="738" y="791"/>
                        </a:lnTo>
                        <a:lnTo>
                          <a:pt x="742" y="789"/>
                        </a:lnTo>
                        <a:lnTo>
                          <a:pt x="744" y="788"/>
                        </a:lnTo>
                        <a:lnTo>
                          <a:pt x="748" y="788"/>
                        </a:lnTo>
                        <a:lnTo>
                          <a:pt x="759" y="786"/>
                        </a:lnTo>
                        <a:lnTo>
                          <a:pt x="782" y="780"/>
                        </a:lnTo>
                        <a:lnTo>
                          <a:pt x="802" y="772"/>
                        </a:lnTo>
                        <a:lnTo>
                          <a:pt x="812" y="767"/>
                        </a:lnTo>
                        <a:lnTo>
                          <a:pt x="824" y="764"/>
                        </a:lnTo>
                        <a:lnTo>
                          <a:pt x="844" y="754"/>
                        </a:lnTo>
                        <a:lnTo>
                          <a:pt x="866" y="745"/>
                        </a:lnTo>
                        <a:lnTo>
                          <a:pt x="885" y="733"/>
                        </a:lnTo>
                        <a:lnTo>
                          <a:pt x="905" y="722"/>
                        </a:lnTo>
                        <a:lnTo>
                          <a:pt x="914" y="715"/>
                        </a:lnTo>
                        <a:lnTo>
                          <a:pt x="919" y="712"/>
                        </a:lnTo>
                        <a:lnTo>
                          <a:pt x="925" y="710"/>
                        </a:lnTo>
                        <a:lnTo>
                          <a:pt x="945" y="697"/>
                        </a:lnTo>
                        <a:lnTo>
                          <a:pt x="946" y="672"/>
                        </a:lnTo>
                        <a:lnTo>
                          <a:pt x="946" y="660"/>
                        </a:lnTo>
                        <a:lnTo>
                          <a:pt x="947" y="648"/>
                        </a:lnTo>
                        <a:lnTo>
                          <a:pt x="909" y="676"/>
                        </a:lnTo>
                        <a:lnTo>
                          <a:pt x="888" y="688"/>
                        </a:lnTo>
                        <a:lnTo>
                          <a:pt x="883" y="690"/>
                        </a:lnTo>
                        <a:lnTo>
                          <a:pt x="878" y="694"/>
                        </a:lnTo>
                        <a:lnTo>
                          <a:pt x="869" y="701"/>
                        </a:lnTo>
                        <a:lnTo>
                          <a:pt x="858" y="705"/>
                        </a:lnTo>
                        <a:lnTo>
                          <a:pt x="852" y="707"/>
                        </a:lnTo>
                        <a:lnTo>
                          <a:pt x="848" y="711"/>
                        </a:lnTo>
                        <a:lnTo>
                          <a:pt x="827" y="721"/>
                        </a:lnTo>
                        <a:lnTo>
                          <a:pt x="784" y="739"/>
                        </a:lnTo>
                        <a:lnTo>
                          <a:pt x="739" y="752"/>
                        </a:lnTo>
                        <a:lnTo>
                          <a:pt x="693" y="762"/>
                        </a:lnTo>
                        <a:lnTo>
                          <a:pt x="646" y="767"/>
                        </a:lnTo>
                        <a:lnTo>
                          <a:pt x="621" y="769"/>
                        </a:lnTo>
                        <a:lnTo>
                          <a:pt x="608" y="769"/>
                        </a:lnTo>
                        <a:lnTo>
                          <a:pt x="597" y="770"/>
                        </a:lnTo>
                        <a:lnTo>
                          <a:pt x="567" y="769"/>
                        </a:lnTo>
                        <a:lnTo>
                          <a:pt x="539" y="766"/>
                        </a:lnTo>
                        <a:lnTo>
                          <a:pt x="485" y="760"/>
                        </a:lnTo>
                        <a:lnTo>
                          <a:pt x="431" y="746"/>
                        </a:lnTo>
                        <a:lnTo>
                          <a:pt x="406" y="738"/>
                        </a:lnTo>
                        <a:lnTo>
                          <a:pt x="381" y="729"/>
                        </a:lnTo>
                        <a:lnTo>
                          <a:pt x="357" y="718"/>
                        </a:lnTo>
                        <a:lnTo>
                          <a:pt x="333" y="705"/>
                        </a:lnTo>
                        <a:lnTo>
                          <a:pt x="286" y="678"/>
                        </a:lnTo>
                        <a:lnTo>
                          <a:pt x="242" y="644"/>
                        </a:lnTo>
                        <a:lnTo>
                          <a:pt x="222" y="626"/>
                        </a:lnTo>
                        <a:lnTo>
                          <a:pt x="201" y="606"/>
                        </a:lnTo>
                        <a:lnTo>
                          <a:pt x="161" y="563"/>
                        </a:lnTo>
                        <a:lnTo>
                          <a:pt x="143" y="541"/>
                        </a:lnTo>
                        <a:lnTo>
                          <a:pt x="129" y="519"/>
                        </a:lnTo>
                        <a:lnTo>
                          <a:pt x="113" y="495"/>
                        </a:lnTo>
                        <a:lnTo>
                          <a:pt x="100" y="473"/>
                        </a:lnTo>
                        <a:lnTo>
                          <a:pt x="88" y="448"/>
                        </a:lnTo>
                        <a:lnTo>
                          <a:pt x="78" y="424"/>
                        </a:lnTo>
                        <a:lnTo>
                          <a:pt x="67" y="398"/>
                        </a:lnTo>
                        <a:lnTo>
                          <a:pt x="59" y="373"/>
                        </a:lnTo>
                        <a:lnTo>
                          <a:pt x="47" y="321"/>
                        </a:lnTo>
                        <a:lnTo>
                          <a:pt x="41" y="293"/>
                        </a:lnTo>
                        <a:lnTo>
                          <a:pt x="39" y="265"/>
                        </a:lnTo>
                        <a:lnTo>
                          <a:pt x="37" y="237"/>
                        </a:lnTo>
                        <a:lnTo>
                          <a:pt x="37" y="210"/>
                        </a:lnTo>
                        <a:lnTo>
                          <a:pt x="39" y="154"/>
                        </a:lnTo>
                        <a:lnTo>
                          <a:pt x="46" y="101"/>
                        </a:lnTo>
                        <a:lnTo>
                          <a:pt x="58" y="49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00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7590960" y="4206240"/>
                    <a:ext cx="21132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1" h="722">
                        <a:moveTo>
                          <a:pt x="37" y="237"/>
                        </a:moveTo>
                        <a:lnTo>
                          <a:pt x="37" y="203"/>
                        </a:lnTo>
                        <a:lnTo>
                          <a:pt x="40" y="171"/>
                        </a:lnTo>
                        <a:lnTo>
                          <a:pt x="53" y="111"/>
                        </a:lnTo>
                        <a:lnTo>
                          <a:pt x="61" y="81"/>
                        </a:lnTo>
                        <a:lnTo>
                          <a:pt x="73" y="53"/>
                        </a:lnTo>
                        <a:lnTo>
                          <a:pt x="104" y="0"/>
                        </a:lnTo>
                        <a:lnTo>
                          <a:pt x="59" y="4"/>
                        </a:lnTo>
                        <a:lnTo>
                          <a:pt x="32" y="58"/>
                        </a:lnTo>
                        <a:lnTo>
                          <a:pt x="22" y="85"/>
                        </a:lnTo>
                        <a:lnTo>
                          <a:pt x="14" y="114"/>
                        </a:lnTo>
                        <a:lnTo>
                          <a:pt x="6" y="144"/>
                        </a:lnTo>
                        <a:lnTo>
                          <a:pt x="3" y="174"/>
                        </a:lnTo>
                        <a:lnTo>
                          <a:pt x="0" y="237"/>
                        </a:lnTo>
                        <a:lnTo>
                          <a:pt x="1" y="286"/>
                        </a:lnTo>
                        <a:lnTo>
                          <a:pt x="8" y="333"/>
                        </a:lnTo>
                        <a:lnTo>
                          <a:pt x="19" y="378"/>
                        </a:lnTo>
                        <a:lnTo>
                          <a:pt x="26" y="400"/>
                        </a:lnTo>
                        <a:lnTo>
                          <a:pt x="35" y="423"/>
                        </a:lnTo>
                        <a:lnTo>
                          <a:pt x="54" y="465"/>
                        </a:lnTo>
                        <a:lnTo>
                          <a:pt x="65" y="484"/>
                        </a:lnTo>
                        <a:lnTo>
                          <a:pt x="79" y="504"/>
                        </a:lnTo>
                        <a:lnTo>
                          <a:pt x="108" y="543"/>
                        </a:lnTo>
                        <a:lnTo>
                          <a:pt x="124" y="561"/>
                        </a:lnTo>
                        <a:lnTo>
                          <a:pt x="142" y="580"/>
                        </a:lnTo>
                        <a:lnTo>
                          <a:pt x="178" y="612"/>
                        </a:lnTo>
                        <a:lnTo>
                          <a:pt x="216" y="641"/>
                        </a:lnTo>
                        <a:lnTo>
                          <a:pt x="256" y="665"/>
                        </a:lnTo>
                        <a:lnTo>
                          <a:pt x="298" y="686"/>
                        </a:lnTo>
                        <a:lnTo>
                          <a:pt x="341" y="701"/>
                        </a:lnTo>
                        <a:lnTo>
                          <a:pt x="387" y="713"/>
                        </a:lnTo>
                        <a:lnTo>
                          <a:pt x="434" y="720"/>
                        </a:lnTo>
                        <a:lnTo>
                          <a:pt x="485" y="722"/>
                        </a:lnTo>
                        <a:lnTo>
                          <a:pt x="496" y="721"/>
                        </a:lnTo>
                        <a:lnTo>
                          <a:pt x="509" y="721"/>
                        </a:lnTo>
                        <a:lnTo>
                          <a:pt x="534" y="720"/>
                        </a:lnTo>
                        <a:lnTo>
                          <a:pt x="581" y="713"/>
                        </a:lnTo>
                        <a:lnTo>
                          <a:pt x="627" y="701"/>
                        </a:lnTo>
                        <a:lnTo>
                          <a:pt x="637" y="697"/>
                        </a:lnTo>
                        <a:lnTo>
                          <a:pt x="648" y="694"/>
                        </a:lnTo>
                        <a:lnTo>
                          <a:pt x="671" y="686"/>
                        </a:lnTo>
                        <a:lnTo>
                          <a:pt x="691" y="675"/>
                        </a:lnTo>
                        <a:lnTo>
                          <a:pt x="696" y="672"/>
                        </a:lnTo>
                        <a:lnTo>
                          <a:pt x="702" y="670"/>
                        </a:lnTo>
                        <a:lnTo>
                          <a:pt x="713" y="665"/>
                        </a:lnTo>
                        <a:lnTo>
                          <a:pt x="722" y="658"/>
                        </a:lnTo>
                        <a:lnTo>
                          <a:pt x="726" y="655"/>
                        </a:lnTo>
                        <a:lnTo>
                          <a:pt x="732" y="653"/>
                        </a:lnTo>
                        <a:lnTo>
                          <a:pt x="753" y="641"/>
                        </a:lnTo>
                        <a:lnTo>
                          <a:pt x="791" y="612"/>
                        </a:lnTo>
                        <a:lnTo>
                          <a:pt x="809" y="596"/>
                        </a:lnTo>
                        <a:lnTo>
                          <a:pt x="829" y="580"/>
                        </a:lnTo>
                        <a:lnTo>
                          <a:pt x="831" y="578"/>
                        </a:lnTo>
                        <a:lnTo>
                          <a:pt x="824" y="531"/>
                        </a:lnTo>
                        <a:lnTo>
                          <a:pt x="802" y="554"/>
                        </a:lnTo>
                        <a:lnTo>
                          <a:pt x="768" y="584"/>
                        </a:lnTo>
                        <a:lnTo>
                          <a:pt x="750" y="597"/>
                        </a:lnTo>
                        <a:lnTo>
                          <a:pt x="733" y="611"/>
                        </a:lnTo>
                        <a:lnTo>
                          <a:pt x="714" y="622"/>
                        </a:lnTo>
                        <a:lnTo>
                          <a:pt x="696" y="633"/>
                        </a:lnTo>
                        <a:lnTo>
                          <a:pt x="657" y="653"/>
                        </a:lnTo>
                        <a:lnTo>
                          <a:pt x="616" y="666"/>
                        </a:lnTo>
                        <a:lnTo>
                          <a:pt x="595" y="671"/>
                        </a:lnTo>
                        <a:lnTo>
                          <a:pt x="575" y="677"/>
                        </a:lnTo>
                        <a:lnTo>
                          <a:pt x="552" y="680"/>
                        </a:lnTo>
                        <a:lnTo>
                          <a:pt x="540" y="681"/>
                        </a:lnTo>
                        <a:lnTo>
                          <a:pt x="530" y="683"/>
                        </a:lnTo>
                        <a:lnTo>
                          <a:pt x="485" y="686"/>
                        </a:lnTo>
                        <a:lnTo>
                          <a:pt x="438" y="683"/>
                        </a:lnTo>
                        <a:lnTo>
                          <a:pt x="395" y="677"/>
                        </a:lnTo>
                        <a:lnTo>
                          <a:pt x="352" y="666"/>
                        </a:lnTo>
                        <a:lnTo>
                          <a:pt x="313" y="653"/>
                        </a:lnTo>
                        <a:lnTo>
                          <a:pt x="273" y="633"/>
                        </a:lnTo>
                        <a:lnTo>
                          <a:pt x="237" y="611"/>
                        </a:lnTo>
                        <a:lnTo>
                          <a:pt x="201" y="584"/>
                        </a:lnTo>
                        <a:lnTo>
                          <a:pt x="169" y="554"/>
                        </a:lnTo>
                        <a:lnTo>
                          <a:pt x="137" y="520"/>
                        </a:lnTo>
                        <a:lnTo>
                          <a:pt x="111" y="485"/>
                        </a:lnTo>
                        <a:lnTo>
                          <a:pt x="98" y="466"/>
                        </a:lnTo>
                        <a:lnTo>
                          <a:pt x="88" y="448"/>
                        </a:lnTo>
                        <a:lnTo>
                          <a:pt x="70" y="409"/>
                        </a:lnTo>
                        <a:lnTo>
                          <a:pt x="54" y="368"/>
                        </a:lnTo>
                        <a:lnTo>
                          <a:pt x="48" y="347"/>
                        </a:lnTo>
                        <a:lnTo>
                          <a:pt x="45" y="326"/>
                        </a:lnTo>
                        <a:lnTo>
                          <a:pt x="40" y="304"/>
                        </a:lnTo>
                        <a:lnTo>
                          <a:pt x="38" y="282"/>
                        </a:lnTo>
                        <a:lnTo>
                          <a:pt x="37" y="237"/>
                        </a:lnTo>
                        <a:close/>
                      </a:path>
                    </a:pathLst>
                  </a:custGeom>
                  <a:solidFill>
                    <a:srgbClr val="00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7600680" y="4205160"/>
                    <a:ext cx="19944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787" h="690">
                        <a:moveTo>
                          <a:pt x="67" y="4"/>
                        </a:moveTo>
                        <a:lnTo>
                          <a:pt x="36" y="57"/>
                        </a:lnTo>
                        <a:lnTo>
                          <a:pt x="24" y="85"/>
                        </a:lnTo>
                        <a:lnTo>
                          <a:pt x="16" y="115"/>
                        </a:lnTo>
                        <a:lnTo>
                          <a:pt x="3" y="175"/>
                        </a:lnTo>
                        <a:lnTo>
                          <a:pt x="0" y="207"/>
                        </a:lnTo>
                        <a:lnTo>
                          <a:pt x="0" y="241"/>
                        </a:lnTo>
                        <a:lnTo>
                          <a:pt x="1" y="286"/>
                        </a:lnTo>
                        <a:lnTo>
                          <a:pt x="3" y="308"/>
                        </a:lnTo>
                        <a:lnTo>
                          <a:pt x="8" y="330"/>
                        </a:lnTo>
                        <a:lnTo>
                          <a:pt x="11" y="351"/>
                        </a:lnTo>
                        <a:lnTo>
                          <a:pt x="17" y="372"/>
                        </a:lnTo>
                        <a:lnTo>
                          <a:pt x="33" y="413"/>
                        </a:lnTo>
                        <a:lnTo>
                          <a:pt x="51" y="452"/>
                        </a:lnTo>
                        <a:lnTo>
                          <a:pt x="61" y="470"/>
                        </a:lnTo>
                        <a:lnTo>
                          <a:pt x="74" y="489"/>
                        </a:lnTo>
                        <a:lnTo>
                          <a:pt x="100" y="524"/>
                        </a:lnTo>
                        <a:lnTo>
                          <a:pt x="132" y="558"/>
                        </a:lnTo>
                        <a:lnTo>
                          <a:pt x="164" y="588"/>
                        </a:lnTo>
                        <a:lnTo>
                          <a:pt x="200" y="615"/>
                        </a:lnTo>
                        <a:lnTo>
                          <a:pt x="236" y="637"/>
                        </a:lnTo>
                        <a:lnTo>
                          <a:pt x="276" y="657"/>
                        </a:lnTo>
                        <a:lnTo>
                          <a:pt x="315" y="670"/>
                        </a:lnTo>
                        <a:lnTo>
                          <a:pt x="358" y="681"/>
                        </a:lnTo>
                        <a:lnTo>
                          <a:pt x="401" y="687"/>
                        </a:lnTo>
                        <a:lnTo>
                          <a:pt x="448" y="690"/>
                        </a:lnTo>
                        <a:lnTo>
                          <a:pt x="493" y="687"/>
                        </a:lnTo>
                        <a:lnTo>
                          <a:pt x="503" y="685"/>
                        </a:lnTo>
                        <a:lnTo>
                          <a:pt x="515" y="684"/>
                        </a:lnTo>
                        <a:lnTo>
                          <a:pt x="538" y="681"/>
                        </a:lnTo>
                        <a:lnTo>
                          <a:pt x="558" y="675"/>
                        </a:lnTo>
                        <a:lnTo>
                          <a:pt x="579" y="670"/>
                        </a:lnTo>
                        <a:lnTo>
                          <a:pt x="620" y="657"/>
                        </a:lnTo>
                        <a:lnTo>
                          <a:pt x="659" y="637"/>
                        </a:lnTo>
                        <a:lnTo>
                          <a:pt x="677" y="626"/>
                        </a:lnTo>
                        <a:lnTo>
                          <a:pt x="696" y="615"/>
                        </a:lnTo>
                        <a:lnTo>
                          <a:pt x="713" y="601"/>
                        </a:lnTo>
                        <a:lnTo>
                          <a:pt x="731" y="588"/>
                        </a:lnTo>
                        <a:lnTo>
                          <a:pt x="765" y="558"/>
                        </a:lnTo>
                        <a:lnTo>
                          <a:pt x="787" y="535"/>
                        </a:lnTo>
                        <a:lnTo>
                          <a:pt x="781" y="512"/>
                        </a:lnTo>
                        <a:lnTo>
                          <a:pt x="777" y="490"/>
                        </a:lnTo>
                        <a:lnTo>
                          <a:pt x="759" y="511"/>
                        </a:lnTo>
                        <a:lnTo>
                          <a:pt x="753" y="515"/>
                        </a:lnTo>
                        <a:lnTo>
                          <a:pt x="748" y="521"/>
                        </a:lnTo>
                        <a:lnTo>
                          <a:pt x="739" y="532"/>
                        </a:lnTo>
                        <a:lnTo>
                          <a:pt x="708" y="559"/>
                        </a:lnTo>
                        <a:lnTo>
                          <a:pt x="699" y="565"/>
                        </a:lnTo>
                        <a:lnTo>
                          <a:pt x="691" y="572"/>
                        </a:lnTo>
                        <a:lnTo>
                          <a:pt x="675" y="584"/>
                        </a:lnTo>
                        <a:lnTo>
                          <a:pt x="641" y="605"/>
                        </a:lnTo>
                        <a:lnTo>
                          <a:pt x="623" y="613"/>
                        </a:lnTo>
                        <a:lnTo>
                          <a:pt x="606" y="622"/>
                        </a:lnTo>
                        <a:lnTo>
                          <a:pt x="595" y="624"/>
                        </a:lnTo>
                        <a:lnTo>
                          <a:pt x="586" y="627"/>
                        </a:lnTo>
                        <a:lnTo>
                          <a:pt x="568" y="634"/>
                        </a:lnTo>
                        <a:lnTo>
                          <a:pt x="530" y="644"/>
                        </a:lnTo>
                        <a:lnTo>
                          <a:pt x="489" y="650"/>
                        </a:lnTo>
                        <a:lnTo>
                          <a:pt x="448" y="652"/>
                        </a:lnTo>
                        <a:lnTo>
                          <a:pt x="405" y="650"/>
                        </a:lnTo>
                        <a:lnTo>
                          <a:pt x="365" y="644"/>
                        </a:lnTo>
                        <a:lnTo>
                          <a:pt x="327" y="634"/>
                        </a:lnTo>
                        <a:lnTo>
                          <a:pt x="290" y="622"/>
                        </a:lnTo>
                        <a:lnTo>
                          <a:pt x="254" y="605"/>
                        </a:lnTo>
                        <a:lnTo>
                          <a:pt x="220" y="584"/>
                        </a:lnTo>
                        <a:lnTo>
                          <a:pt x="187" y="559"/>
                        </a:lnTo>
                        <a:lnTo>
                          <a:pt x="158" y="532"/>
                        </a:lnTo>
                        <a:lnTo>
                          <a:pt x="128" y="500"/>
                        </a:lnTo>
                        <a:lnTo>
                          <a:pt x="104" y="467"/>
                        </a:lnTo>
                        <a:lnTo>
                          <a:pt x="83" y="433"/>
                        </a:lnTo>
                        <a:lnTo>
                          <a:pt x="74" y="415"/>
                        </a:lnTo>
                        <a:lnTo>
                          <a:pt x="67" y="398"/>
                        </a:lnTo>
                        <a:lnTo>
                          <a:pt x="59" y="379"/>
                        </a:lnTo>
                        <a:lnTo>
                          <a:pt x="53" y="361"/>
                        </a:lnTo>
                        <a:lnTo>
                          <a:pt x="44" y="322"/>
                        </a:lnTo>
                        <a:lnTo>
                          <a:pt x="39" y="282"/>
                        </a:lnTo>
                        <a:lnTo>
                          <a:pt x="37" y="241"/>
                        </a:lnTo>
                        <a:lnTo>
                          <a:pt x="39" y="207"/>
                        </a:lnTo>
                        <a:lnTo>
                          <a:pt x="42" y="174"/>
                        </a:lnTo>
                        <a:lnTo>
                          <a:pt x="48" y="142"/>
                        </a:lnTo>
                        <a:lnTo>
                          <a:pt x="57" y="113"/>
                        </a:lnTo>
                        <a:lnTo>
                          <a:pt x="67" y="82"/>
                        </a:lnTo>
                        <a:lnTo>
                          <a:pt x="81" y="54"/>
                        </a:lnTo>
                        <a:lnTo>
                          <a:pt x="95" y="27"/>
                        </a:lnTo>
                        <a:lnTo>
                          <a:pt x="115" y="0"/>
                        </a:lnTo>
                        <a:lnTo>
                          <a:pt x="67" y="4"/>
                        </a:lnTo>
                        <a:close/>
                      </a:path>
                    </a:pathLst>
                  </a:custGeom>
                  <a:solidFill>
                    <a:srgbClr val="00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7581960" y="4206960"/>
                    <a:ext cx="22140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3" h="756">
                        <a:moveTo>
                          <a:pt x="38" y="233"/>
                        </a:moveTo>
                        <a:lnTo>
                          <a:pt x="41" y="170"/>
                        </a:lnTo>
                        <a:lnTo>
                          <a:pt x="44" y="140"/>
                        </a:lnTo>
                        <a:lnTo>
                          <a:pt x="52" y="110"/>
                        </a:lnTo>
                        <a:lnTo>
                          <a:pt x="60" y="81"/>
                        </a:lnTo>
                        <a:lnTo>
                          <a:pt x="70" y="54"/>
                        </a:lnTo>
                        <a:lnTo>
                          <a:pt x="97" y="0"/>
                        </a:lnTo>
                        <a:lnTo>
                          <a:pt x="49" y="11"/>
                        </a:lnTo>
                        <a:lnTo>
                          <a:pt x="26" y="62"/>
                        </a:lnTo>
                        <a:lnTo>
                          <a:pt x="17" y="88"/>
                        </a:lnTo>
                        <a:lnTo>
                          <a:pt x="11" y="116"/>
                        </a:lnTo>
                        <a:lnTo>
                          <a:pt x="6" y="143"/>
                        </a:lnTo>
                        <a:lnTo>
                          <a:pt x="2" y="173"/>
                        </a:lnTo>
                        <a:lnTo>
                          <a:pt x="0" y="233"/>
                        </a:lnTo>
                        <a:lnTo>
                          <a:pt x="2" y="285"/>
                        </a:lnTo>
                        <a:lnTo>
                          <a:pt x="5" y="310"/>
                        </a:lnTo>
                        <a:lnTo>
                          <a:pt x="9" y="336"/>
                        </a:lnTo>
                        <a:lnTo>
                          <a:pt x="14" y="360"/>
                        </a:lnTo>
                        <a:lnTo>
                          <a:pt x="21" y="385"/>
                        </a:lnTo>
                        <a:lnTo>
                          <a:pt x="38" y="432"/>
                        </a:lnTo>
                        <a:lnTo>
                          <a:pt x="47" y="454"/>
                        </a:lnTo>
                        <a:lnTo>
                          <a:pt x="58" y="476"/>
                        </a:lnTo>
                        <a:lnTo>
                          <a:pt x="70" y="498"/>
                        </a:lnTo>
                        <a:lnTo>
                          <a:pt x="85" y="521"/>
                        </a:lnTo>
                        <a:lnTo>
                          <a:pt x="100" y="541"/>
                        </a:lnTo>
                        <a:lnTo>
                          <a:pt x="117" y="563"/>
                        </a:lnTo>
                        <a:lnTo>
                          <a:pt x="134" y="582"/>
                        </a:lnTo>
                        <a:lnTo>
                          <a:pt x="153" y="602"/>
                        </a:lnTo>
                        <a:lnTo>
                          <a:pt x="171" y="620"/>
                        </a:lnTo>
                        <a:lnTo>
                          <a:pt x="192" y="637"/>
                        </a:lnTo>
                        <a:lnTo>
                          <a:pt x="234" y="669"/>
                        </a:lnTo>
                        <a:lnTo>
                          <a:pt x="254" y="683"/>
                        </a:lnTo>
                        <a:lnTo>
                          <a:pt x="276" y="695"/>
                        </a:lnTo>
                        <a:lnTo>
                          <a:pt x="322" y="718"/>
                        </a:lnTo>
                        <a:lnTo>
                          <a:pt x="369" y="734"/>
                        </a:lnTo>
                        <a:lnTo>
                          <a:pt x="394" y="741"/>
                        </a:lnTo>
                        <a:lnTo>
                          <a:pt x="419" y="746"/>
                        </a:lnTo>
                        <a:lnTo>
                          <a:pt x="470" y="753"/>
                        </a:lnTo>
                        <a:lnTo>
                          <a:pt x="496" y="755"/>
                        </a:lnTo>
                        <a:lnTo>
                          <a:pt x="523" y="756"/>
                        </a:lnTo>
                        <a:lnTo>
                          <a:pt x="534" y="755"/>
                        </a:lnTo>
                        <a:lnTo>
                          <a:pt x="547" y="755"/>
                        </a:lnTo>
                        <a:lnTo>
                          <a:pt x="572" y="754"/>
                        </a:lnTo>
                        <a:lnTo>
                          <a:pt x="619" y="747"/>
                        </a:lnTo>
                        <a:lnTo>
                          <a:pt x="642" y="742"/>
                        </a:lnTo>
                        <a:lnTo>
                          <a:pt x="653" y="738"/>
                        </a:lnTo>
                        <a:lnTo>
                          <a:pt x="666" y="736"/>
                        </a:lnTo>
                        <a:lnTo>
                          <a:pt x="711" y="722"/>
                        </a:lnTo>
                        <a:lnTo>
                          <a:pt x="732" y="712"/>
                        </a:lnTo>
                        <a:lnTo>
                          <a:pt x="753" y="703"/>
                        </a:lnTo>
                        <a:lnTo>
                          <a:pt x="774" y="692"/>
                        </a:lnTo>
                        <a:lnTo>
                          <a:pt x="795" y="680"/>
                        </a:lnTo>
                        <a:lnTo>
                          <a:pt x="814" y="667"/>
                        </a:lnTo>
                        <a:lnTo>
                          <a:pt x="835" y="653"/>
                        </a:lnTo>
                        <a:lnTo>
                          <a:pt x="873" y="623"/>
                        </a:lnTo>
                        <a:lnTo>
                          <a:pt x="869" y="574"/>
                        </a:lnTo>
                        <a:lnTo>
                          <a:pt x="867" y="576"/>
                        </a:lnTo>
                        <a:lnTo>
                          <a:pt x="847" y="592"/>
                        </a:lnTo>
                        <a:lnTo>
                          <a:pt x="829" y="608"/>
                        </a:lnTo>
                        <a:lnTo>
                          <a:pt x="791" y="637"/>
                        </a:lnTo>
                        <a:lnTo>
                          <a:pt x="770" y="649"/>
                        </a:lnTo>
                        <a:lnTo>
                          <a:pt x="764" y="651"/>
                        </a:lnTo>
                        <a:lnTo>
                          <a:pt x="760" y="654"/>
                        </a:lnTo>
                        <a:lnTo>
                          <a:pt x="751" y="661"/>
                        </a:lnTo>
                        <a:lnTo>
                          <a:pt x="740" y="666"/>
                        </a:lnTo>
                        <a:lnTo>
                          <a:pt x="734" y="668"/>
                        </a:lnTo>
                        <a:lnTo>
                          <a:pt x="729" y="671"/>
                        </a:lnTo>
                        <a:lnTo>
                          <a:pt x="709" y="682"/>
                        </a:lnTo>
                        <a:lnTo>
                          <a:pt x="686" y="690"/>
                        </a:lnTo>
                        <a:lnTo>
                          <a:pt x="675" y="693"/>
                        </a:lnTo>
                        <a:lnTo>
                          <a:pt x="665" y="697"/>
                        </a:lnTo>
                        <a:lnTo>
                          <a:pt x="619" y="709"/>
                        </a:lnTo>
                        <a:lnTo>
                          <a:pt x="572" y="716"/>
                        </a:lnTo>
                        <a:lnTo>
                          <a:pt x="547" y="717"/>
                        </a:lnTo>
                        <a:lnTo>
                          <a:pt x="534" y="717"/>
                        </a:lnTo>
                        <a:lnTo>
                          <a:pt x="523" y="718"/>
                        </a:lnTo>
                        <a:lnTo>
                          <a:pt x="472" y="716"/>
                        </a:lnTo>
                        <a:lnTo>
                          <a:pt x="425" y="709"/>
                        </a:lnTo>
                        <a:lnTo>
                          <a:pt x="379" y="697"/>
                        </a:lnTo>
                        <a:lnTo>
                          <a:pt x="336" y="682"/>
                        </a:lnTo>
                        <a:lnTo>
                          <a:pt x="294" y="661"/>
                        </a:lnTo>
                        <a:lnTo>
                          <a:pt x="254" y="637"/>
                        </a:lnTo>
                        <a:lnTo>
                          <a:pt x="216" y="608"/>
                        </a:lnTo>
                        <a:lnTo>
                          <a:pt x="180" y="576"/>
                        </a:lnTo>
                        <a:lnTo>
                          <a:pt x="162" y="557"/>
                        </a:lnTo>
                        <a:lnTo>
                          <a:pt x="146" y="539"/>
                        </a:lnTo>
                        <a:lnTo>
                          <a:pt x="117" y="500"/>
                        </a:lnTo>
                        <a:lnTo>
                          <a:pt x="103" y="480"/>
                        </a:lnTo>
                        <a:lnTo>
                          <a:pt x="92" y="461"/>
                        </a:lnTo>
                        <a:lnTo>
                          <a:pt x="73" y="419"/>
                        </a:lnTo>
                        <a:lnTo>
                          <a:pt x="64" y="396"/>
                        </a:lnTo>
                        <a:lnTo>
                          <a:pt x="57" y="374"/>
                        </a:lnTo>
                        <a:lnTo>
                          <a:pt x="46" y="329"/>
                        </a:lnTo>
                        <a:lnTo>
                          <a:pt x="39" y="282"/>
                        </a:lnTo>
                        <a:lnTo>
                          <a:pt x="38" y="233"/>
                        </a:lnTo>
                        <a:close/>
                      </a:path>
                    </a:pathLst>
                  </a:custGeom>
                  <a:solidFill>
                    <a:srgbClr val="00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7572240" y="4209840"/>
                    <a:ext cx="2311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10" h="782">
                        <a:moveTo>
                          <a:pt x="37" y="222"/>
                        </a:moveTo>
                        <a:lnTo>
                          <a:pt x="39" y="162"/>
                        </a:lnTo>
                        <a:lnTo>
                          <a:pt x="43" y="132"/>
                        </a:lnTo>
                        <a:lnTo>
                          <a:pt x="48" y="105"/>
                        </a:lnTo>
                        <a:lnTo>
                          <a:pt x="54" y="77"/>
                        </a:lnTo>
                        <a:lnTo>
                          <a:pt x="63" y="51"/>
                        </a:lnTo>
                        <a:lnTo>
                          <a:pt x="86" y="0"/>
                        </a:lnTo>
                        <a:lnTo>
                          <a:pt x="39" y="12"/>
                        </a:lnTo>
                        <a:lnTo>
                          <a:pt x="21" y="61"/>
                        </a:lnTo>
                        <a:lnTo>
                          <a:pt x="9" y="113"/>
                        </a:lnTo>
                        <a:lnTo>
                          <a:pt x="2" y="166"/>
                        </a:lnTo>
                        <a:lnTo>
                          <a:pt x="0" y="222"/>
                        </a:lnTo>
                        <a:lnTo>
                          <a:pt x="0" y="249"/>
                        </a:lnTo>
                        <a:lnTo>
                          <a:pt x="2" y="277"/>
                        </a:lnTo>
                        <a:lnTo>
                          <a:pt x="4" y="305"/>
                        </a:lnTo>
                        <a:lnTo>
                          <a:pt x="10" y="333"/>
                        </a:lnTo>
                        <a:lnTo>
                          <a:pt x="22" y="385"/>
                        </a:lnTo>
                        <a:lnTo>
                          <a:pt x="30" y="410"/>
                        </a:lnTo>
                        <a:lnTo>
                          <a:pt x="41" y="436"/>
                        </a:lnTo>
                        <a:lnTo>
                          <a:pt x="51" y="460"/>
                        </a:lnTo>
                        <a:lnTo>
                          <a:pt x="63" y="485"/>
                        </a:lnTo>
                        <a:lnTo>
                          <a:pt x="76" y="507"/>
                        </a:lnTo>
                        <a:lnTo>
                          <a:pt x="92" y="531"/>
                        </a:lnTo>
                        <a:lnTo>
                          <a:pt x="106" y="553"/>
                        </a:lnTo>
                        <a:lnTo>
                          <a:pt x="124" y="575"/>
                        </a:lnTo>
                        <a:lnTo>
                          <a:pt x="164" y="618"/>
                        </a:lnTo>
                        <a:lnTo>
                          <a:pt x="185" y="638"/>
                        </a:lnTo>
                        <a:lnTo>
                          <a:pt x="205" y="656"/>
                        </a:lnTo>
                        <a:lnTo>
                          <a:pt x="249" y="690"/>
                        </a:lnTo>
                        <a:lnTo>
                          <a:pt x="296" y="717"/>
                        </a:lnTo>
                        <a:lnTo>
                          <a:pt x="320" y="730"/>
                        </a:lnTo>
                        <a:lnTo>
                          <a:pt x="344" y="741"/>
                        </a:lnTo>
                        <a:lnTo>
                          <a:pt x="369" y="750"/>
                        </a:lnTo>
                        <a:lnTo>
                          <a:pt x="394" y="758"/>
                        </a:lnTo>
                        <a:lnTo>
                          <a:pt x="448" y="772"/>
                        </a:lnTo>
                        <a:lnTo>
                          <a:pt x="502" y="778"/>
                        </a:lnTo>
                        <a:lnTo>
                          <a:pt x="530" y="781"/>
                        </a:lnTo>
                        <a:lnTo>
                          <a:pt x="560" y="782"/>
                        </a:lnTo>
                        <a:lnTo>
                          <a:pt x="571" y="781"/>
                        </a:lnTo>
                        <a:lnTo>
                          <a:pt x="584" y="781"/>
                        </a:lnTo>
                        <a:lnTo>
                          <a:pt x="609" y="779"/>
                        </a:lnTo>
                        <a:lnTo>
                          <a:pt x="656" y="774"/>
                        </a:lnTo>
                        <a:lnTo>
                          <a:pt x="702" y="764"/>
                        </a:lnTo>
                        <a:lnTo>
                          <a:pt x="747" y="751"/>
                        </a:lnTo>
                        <a:lnTo>
                          <a:pt x="790" y="733"/>
                        </a:lnTo>
                        <a:lnTo>
                          <a:pt x="811" y="723"/>
                        </a:lnTo>
                        <a:lnTo>
                          <a:pt x="815" y="719"/>
                        </a:lnTo>
                        <a:lnTo>
                          <a:pt x="821" y="717"/>
                        </a:lnTo>
                        <a:lnTo>
                          <a:pt x="832" y="713"/>
                        </a:lnTo>
                        <a:lnTo>
                          <a:pt x="841" y="706"/>
                        </a:lnTo>
                        <a:lnTo>
                          <a:pt x="846" y="702"/>
                        </a:lnTo>
                        <a:lnTo>
                          <a:pt x="851" y="700"/>
                        </a:lnTo>
                        <a:lnTo>
                          <a:pt x="872" y="688"/>
                        </a:lnTo>
                        <a:lnTo>
                          <a:pt x="910" y="660"/>
                        </a:lnTo>
                        <a:lnTo>
                          <a:pt x="910" y="645"/>
                        </a:lnTo>
                        <a:lnTo>
                          <a:pt x="910" y="612"/>
                        </a:lnTo>
                        <a:lnTo>
                          <a:pt x="872" y="642"/>
                        </a:lnTo>
                        <a:lnTo>
                          <a:pt x="851" y="656"/>
                        </a:lnTo>
                        <a:lnTo>
                          <a:pt x="832" y="669"/>
                        </a:lnTo>
                        <a:lnTo>
                          <a:pt x="811" y="681"/>
                        </a:lnTo>
                        <a:lnTo>
                          <a:pt x="790" y="692"/>
                        </a:lnTo>
                        <a:lnTo>
                          <a:pt x="769" y="701"/>
                        </a:lnTo>
                        <a:lnTo>
                          <a:pt x="748" y="711"/>
                        </a:lnTo>
                        <a:lnTo>
                          <a:pt x="703" y="725"/>
                        </a:lnTo>
                        <a:lnTo>
                          <a:pt x="690" y="727"/>
                        </a:lnTo>
                        <a:lnTo>
                          <a:pt x="679" y="731"/>
                        </a:lnTo>
                        <a:lnTo>
                          <a:pt x="656" y="736"/>
                        </a:lnTo>
                        <a:lnTo>
                          <a:pt x="609" y="743"/>
                        </a:lnTo>
                        <a:lnTo>
                          <a:pt x="584" y="744"/>
                        </a:lnTo>
                        <a:lnTo>
                          <a:pt x="571" y="744"/>
                        </a:lnTo>
                        <a:lnTo>
                          <a:pt x="560" y="745"/>
                        </a:lnTo>
                        <a:lnTo>
                          <a:pt x="533" y="744"/>
                        </a:lnTo>
                        <a:lnTo>
                          <a:pt x="507" y="742"/>
                        </a:lnTo>
                        <a:lnTo>
                          <a:pt x="456" y="735"/>
                        </a:lnTo>
                        <a:lnTo>
                          <a:pt x="431" y="730"/>
                        </a:lnTo>
                        <a:lnTo>
                          <a:pt x="406" y="723"/>
                        </a:lnTo>
                        <a:lnTo>
                          <a:pt x="359" y="707"/>
                        </a:lnTo>
                        <a:lnTo>
                          <a:pt x="313" y="684"/>
                        </a:lnTo>
                        <a:lnTo>
                          <a:pt x="291" y="672"/>
                        </a:lnTo>
                        <a:lnTo>
                          <a:pt x="271" y="658"/>
                        </a:lnTo>
                        <a:lnTo>
                          <a:pt x="229" y="626"/>
                        </a:lnTo>
                        <a:lnTo>
                          <a:pt x="208" y="609"/>
                        </a:lnTo>
                        <a:lnTo>
                          <a:pt x="190" y="591"/>
                        </a:lnTo>
                        <a:lnTo>
                          <a:pt x="171" y="571"/>
                        </a:lnTo>
                        <a:lnTo>
                          <a:pt x="154" y="552"/>
                        </a:lnTo>
                        <a:lnTo>
                          <a:pt x="137" y="530"/>
                        </a:lnTo>
                        <a:lnTo>
                          <a:pt x="122" y="510"/>
                        </a:lnTo>
                        <a:lnTo>
                          <a:pt x="107" y="487"/>
                        </a:lnTo>
                        <a:lnTo>
                          <a:pt x="95" y="465"/>
                        </a:lnTo>
                        <a:lnTo>
                          <a:pt x="84" y="443"/>
                        </a:lnTo>
                        <a:lnTo>
                          <a:pt x="75" y="421"/>
                        </a:lnTo>
                        <a:lnTo>
                          <a:pt x="58" y="374"/>
                        </a:lnTo>
                        <a:lnTo>
                          <a:pt x="51" y="349"/>
                        </a:lnTo>
                        <a:lnTo>
                          <a:pt x="46" y="325"/>
                        </a:lnTo>
                        <a:lnTo>
                          <a:pt x="42" y="299"/>
                        </a:lnTo>
                        <a:lnTo>
                          <a:pt x="39" y="274"/>
                        </a:lnTo>
                        <a:lnTo>
                          <a:pt x="37" y="222"/>
                        </a:lnTo>
                        <a:close/>
                      </a:path>
                    </a:pathLst>
                  </a:custGeom>
                  <a:solidFill>
                    <a:srgbClr val="00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465680" y="4363920"/>
                    <a:ext cx="23004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689">
                        <a:moveTo>
                          <a:pt x="0" y="40"/>
                        </a:moveTo>
                        <a:lnTo>
                          <a:pt x="2" y="94"/>
                        </a:lnTo>
                        <a:lnTo>
                          <a:pt x="21" y="131"/>
                        </a:lnTo>
                        <a:lnTo>
                          <a:pt x="44" y="170"/>
                        </a:lnTo>
                        <a:lnTo>
                          <a:pt x="66" y="206"/>
                        </a:lnTo>
                        <a:lnTo>
                          <a:pt x="92" y="244"/>
                        </a:lnTo>
                        <a:lnTo>
                          <a:pt x="118" y="279"/>
                        </a:lnTo>
                        <a:lnTo>
                          <a:pt x="148" y="314"/>
                        </a:lnTo>
                        <a:lnTo>
                          <a:pt x="178" y="348"/>
                        </a:lnTo>
                        <a:lnTo>
                          <a:pt x="212" y="383"/>
                        </a:lnTo>
                        <a:lnTo>
                          <a:pt x="244" y="414"/>
                        </a:lnTo>
                        <a:lnTo>
                          <a:pt x="277" y="443"/>
                        </a:lnTo>
                        <a:lnTo>
                          <a:pt x="310" y="470"/>
                        </a:lnTo>
                        <a:lnTo>
                          <a:pt x="345" y="497"/>
                        </a:lnTo>
                        <a:lnTo>
                          <a:pt x="417" y="545"/>
                        </a:lnTo>
                        <a:lnTo>
                          <a:pt x="453" y="567"/>
                        </a:lnTo>
                        <a:lnTo>
                          <a:pt x="490" y="587"/>
                        </a:lnTo>
                        <a:lnTo>
                          <a:pt x="528" y="605"/>
                        </a:lnTo>
                        <a:lnTo>
                          <a:pt x="566" y="622"/>
                        </a:lnTo>
                        <a:lnTo>
                          <a:pt x="605" y="637"/>
                        </a:lnTo>
                        <a:lnTo>
                          <a:pt x="646" y="650"/>
                        </a:lnTo>
                        <a:lnTo>
                          <a:pt x="685" y="662"/>
                        </a:lnTo>
                        <a:lnTo>
                          <a:pt x="727" y="672"/>
                        </a:lnTo>
                        <a:lnTo>
                          <a:pt x="769" y="681"/>
                        </a:lnTo>
                        <a:lnTo>
                          <a:pt x="812" y="689"/>
                        </a:lnTo>
                        <a:lnTo>
                          <a:pt x="835" y="682"/>
                        </a:lnTo>
                        <a:lnTo>
                          <a:pt x="846" y="679"/>
                        </a:lnTo>
                        <a:lnTo>
                          <a:pt x="859" y="677"/>
                        </a:lnTo>
                        <a:lnTo>
                          <a:pt x="882" y="669"/>
                        </a:lnTo>
                        <a:lnTo>
                          <a:pt x="893" y="664"/>
                        </a:lnTo>
                        <a:lnTo>
                          <a:pt x="899" y="662"/>
                        </a:lnTo>
                        <a:lnTo>
                          <a:pt x="905" y="661"/>
                        </a:lnTo>
                        <a:lnTo>
                          <a:pt x="857" y="655"/>
                        </a:lnTo>
                        <a:lnTo>
                          <a:pt x="809" y="649"/>
                        </a:lnTo>
                        <a:lnTo>
                          <a:pt x="762" y="641"/>
                        </a:lnTo>
                        <a:lnTo>
                          <a:pt x="717" y="631"/>
                        </a:lnTo>
                        <a:lnTo>
                          <a:pt x="672" y="619"/>
                        </a:lnTo>
                        <a:lnTo>
                          <a:pt x="629" y="605"/>
                        </a:lnTo>
                        <a:lnTo>
                          <a:pt x="586" y="589"/>
                        </a:lnTo>
                        <a:lnTo>
                          <a:pt x="545" y="572"/>
                        </a:lnTo>
                        <a:lnTo>
                          <a:pt x="503" y="551"/>
                        </a:lnTo>
                        <a:lnTo>
                          <a:pt x="462" y="529"/>
                        </a:lnTo>
                        <a:lnTo>
                          <a:pt x="422" y="505"/>
                        </a:lnTo>
                        <a:lnTo>
                          <a:pt x="384" y="479"/>
                        </a:lnTo>
                        <a:lnTo>
                          <a:pt x="345" y="451"/>
                        </a:lnTo>
                        <a:lnTo>
                          <a:pt x="309" y="422"/>
                        </a:lnTo>
                        <a:lnTo>
                          <a:pt x="273" y="390"/>
                        </a:lnTo>
                        <a:lnTo>
                          <a:pt x="239" y="357"/>
                        </a:lnTo>
                        <a:lnTo>
                          <a:pt x="199" y="315"/>
                        </a:lnTo>
                        <a:lnTo>
                          <a:pt x="180" y="293"/>
                        </a:lnTo>
                        <a:lnTo>
                          <a:pt x="163" y="273"/>
                        </a:lnTo>
                        <a:lnTo>
                          <a:pt x="144" y="250"/>
                        </a:lnTo>
                        <a:lnTo>
                          <a:pt x="129" y="229"/>
                        </a:lnTo>
                        <a:lnTo>
                          <a:pt x="98" y="186"/>
                        </a:lnTo>
                        <a:lnTo>
                          <a:pt x="70" y="140"/>
                        </a:lnTo>
                        <a:lnTo>
                          <a:pt x="44" y="95"/>
                        </a:lnTo>
                        <a:lnTo>
                          <a:pt x="21" y="47"/>
                        </a:lnTo>
                        <a:lnTo>
                          <a:pt x="2" y="0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7466400" y="4341600"/>
                    <a:ext cx="248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79" h="748">
                        <a:moveTo>
                          <a:pt x="10" y="0"/>
                        </a:moveTo>
                        <a:lnTo>
                          <a:pt x="2" y="42"/>
                        </a:lnTo>
                        <a:lnTo>
                          <a:pt x="0" y="87"/>
                        </a:lnTo>
                        <a:lnTo>
                          <a:pt x="19" y="134"/>
                        </a:lnTo>
                        <a:lnTo>
                          <a:pt x="42" y="182"/>
                        </a:lnTo>
                        <a:lnTo>
                          <a:pt x="68" y="227"/>
                        </a:lnTo>
                        <a:lnTo>
                          <a:pt x="96" y="273"/>
                        </a:lnTo>
                        <a:lnTo>
                          <a:pt x="127" y="316"/>
                        </a:lnTo>
                        <a:lnTo>
                          <a:pt x="142" y="337"/>
                        </a:lnTo>
                        <a:lnTo>
                          <a:pt x="161" y="360"/>
                        </a:lnTo>
                        <a:lnTo>
                          <a:pt x="178" y="380"/>
                        </a:lnTo>
                        <a:lnTo>
                          <a:pt x="197" y="402"/>
                        </a:lnTo>
                        <a:lnTo>
                          <a:pt x="237" y="444"/>
                        </a:lnTo>
                        <a:lnTo>
                          <a:pt x="271" y="477"/>
                        </a:lnTo>
                        <a:lnTo>
                          <a:pt x="307" y="509"/>
                        </a:lnTo>
                        <a:lnTo>
                          <a:pt x="343" y="538"/>
                        </a:lnTo>
                        <a:lnTo>
                          <a:pt x="382" y="566"/>
                        </a:lnTo>
                        <a:lnTo>
                          <a:pt x="420" y="592"/>
                        </a:lnTo>
                        <a:lnTo>
                          <a:pt x="460" y="616"/>
                        </a:lnTo>
                        <a:lnTo>
                          <a:pt x="501" y="638"/>
                        </a:lnTo>
                        <a:lnTo>
                          <a:pt x="543" y="659"/>
                        </a:lnTo>
                        <a:lnTo>
                          <a:pt x="584" y="676"/>
                        </a:lnTo>
                        <a:lnTo>
                          <a:pt x="627" y="692"/>
                        </a:lnTo>
                        <a:lnTo>
                          <a:pt x="670" y="706"/>
                        </a:lnTo>
                        <a:lnTo>
                          <a:pt x="715" y="718"/>
                        </a:lnTo>
                        <a:lnTo>
                          <a:pt x="760" y="728"/>
                        </a:lnTo>
                        <a:lnTo>
                          <a:pt x="807" y="736"/>
                        </a:lnTo>
                        <a:lnTo>
                          <a:pt x="855" y="742"/>
                        </a:lnTo>
                        <a:lnTo>
                          <a:pt x="903" y="748"/>
                        </a:lnTo>
                        <a:lnTo>
                          <a:pt x="942" y="731"/>
                        </a:lnTo>
                        <a:lnTo>
                          <a:pt x="960" y="722"/>
                        </a:lnTo>
                        <a:lnTo>
                          <a:pt x="979" y="713"/>
                        </a:lnTo>
                        <a:lnTo>
                          <a:pt x="976" y="713"/>
                        </a:lnTo>
                        <a:lnTo>
                          <a:pt x="924" y="710"/>
                        </a:lnTo>
                        <a:lnTo>
                          <a:pt x="873" y="707"/>
                        </a:lnTo>
                        <a:lnTo>
                          <a:pt x="823" y="701"/>
                        </a:lnTo>
                        <a:lnTo>
                          <a:pt x="774" y="693"/>
                        </a:lnTo>
                        <a:lnTo>
                          <a:pt x="725" y="682"/>
                        </a:lnTo>
                        <a:lnTo>
                          <a:pt x="679" y="669"/>
                        </a:lnTo>
                        <a:lnTo>
                          <a:pt x="632" y="655"/>
                        </a:lnTo>
                        <a:lnTo>
                          <a:pt x="588" y="638"/>
                        </a:lnTo>
                        <a:lnTo>
                          <a:pt x="543" y="616"/>
                        </a:lnTo>
                        <a:lnTo>
                          <a:pt x="500" y="595"/>
                        </a:lnTo>
                        <a:lnTo>
                          <a:pt x="458" y="571"/>
                        </a:lnTo>
                        <a:lnTo>
                          <a:pt x="417" y="545"/>
                        </a:lnTo>
                        <a:lnTo>
                          <a:pt x="376" y="515"/>
                        </a:lnTo>
                        <a:lnTo>
                          <a:pt x="337" y="485"/>
                        </a:lnTo>
                        <a:lnTo>
                          <a:pt x="299" y="452"/>
                        </a:lnTo>
                        <a:lnTo>
                          <a:pt x="263" y="417"/>
                        </a:lnTo>
                        <a:lnTo>
                          <a:pt x="217" y="369"/>
                        </a:lnTo>
                        <a:lnTo>
                          <a:pt x="196" y="344"/>
                        </a:lnTo>
                        <a:lnTo>
                          <a:pt x="176" y="320"/>
                        </a:lnTo>
                        <a:lnTo>
                          <a:pt x="139" y="271"/>
                        </a:lnTo>
                        <a:lnTo>
                          <a:pt x="106" y="220"/>
                        </a:lnTo>
                        <a:lnTo>
                          <a:pt x="76" y="166"/>
                        </a:lnTo>
                        <a:lnTo>
                          <a:pt x="51" y="112"/>
                        </a:lnTo>
                        <a:lnTo>
                          <a:pt x="38" y="83"/>
                        </a:lnTo>
                        <a:lnTo>
                          <a:pt x="28" y="56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7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468920" y="4322160"/>
                    <a:ext cx="26208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2" h="789">
                        <a:moveTo>
                          <a:pt x="18" y="0"/>
                        </a:moveTo>
                        <a:lnTo>
                          <a:pt x="8" y="36"/>
                        </a:lnTo>
                        <a:lnTo>
                          <a:pt x="0" y="76"/>
                        </a:lnTo>
                        <a:lnTo>
                          <a:pt x="18" y="132"/>
                        </a:lnTo>
                        <a:lnTo>
                          <a:pt x="28" y="159"/>
                        </a:lnTo>
                        <a:lnTo>
                          <a:pt x="41" y="188"/>
                        </a:lnTo>
                        <a:lnTo>
                          <a:pt x="66" y="242"/>
                        </a:lnTo>
                        <a:lnTo>
                          <a:pt x="96" y="296"/>
                        </a:lnTo>
                        <a:lnTo>
                          <a:pt x="129" y="347"/>
                        </a:lnTo>
                        <a:lnTo>
                          <a:pt x="166" y="396"/>
                        </a:lnTo>
                        <a:lnTo>
                          <a:pt x="186" y="420"/>
                        </a:lnTo>
                        <a:lnTo>
                          <a:pt x="207" y="445"/>
                        </a:lnTo>
                        <a:lnTo>
                          <a:pt x="253" y="493"/>
                        </a:lnTo>
                        <a:lnTo>
                          <a:pt x="289" y="528"/>
                        </a:lnTo>
                        <a:lnTo>
                          <a:pt x="327" y="561"/>
                        </a:lnTo>
                        <a:lnTo>
                          <a:pt x="366" y="591"/>
                        </a:lnTo>
                        <a:lnTo>
                          <a:pt x="407" y="621"/>
                        </a:lnTo>
                        <a:lnTo>
                          <a:pt x="448" y="647"/>
                        </a:lnTo>
                        <a:lnTo>
                          <a:pt x="490" y="671"/>
                        </a:lnTo>
                        <a:lnTo>
                          <a:pt x="533" y="692"/>
                        </a:lnTo>
                        <a:lnTo>
                          <a:pt x="578" y="714"/>
                        </a:lnTo>
                        <a:lnTo>
                          <a:pt x="622" y="731"/>
                        </a:lnTo>
                        <a:lnTo>
                          <a:pt x="669" y="745"/>
                        </a:lnTo>
                        <a:lnTo>
                          <a:pt x="715" y="758"/>
                        </a:lnTo>
                        <a:lnTo>
                          <a:pt x="764" y="769"/>
                        </a:lnTo>
                        <a:lnTo>
                          <a:pt x="813" y="777"/>
                        </a:lnTo>
                        <a:lnTo>
                          <a:pt x="863" y="783"/>
                        </a:lnTo>
                        <a:lnTo>
                          <a:pt x="914" y="786"/>
                        </a:lnTo>
                        <a:lnTo>
                          <a:pt x="966" y="789"/>
                        </a:lnTo>
                        <a:lnTo>
                          <a:pt x="969" y="789"/>
                        </a:lnTo>
                        <a:lnTo>
                          <a:pt x="976" y="783"/>
                        </a:lnTo>
                        <a:lnTo>
                          <a:pt x="984" y="778"/>
                        </a:lnTo>
                        <a:lnTo>
                          <a:pt x="1000" y="769"/>
                        </a:lnTo>
                        <a:lnTo>
                          <a:pt x="1032" y="750"/>
                        </a:lnTo>
                        <a:lnTo>
                          <a:pt x="966" y="751"/>
                        </a:lnTo>
                        <a:lnTo>
                          <a:pt x="915" y="750"/>
                        </a:lnTo>
                        <a:lnTo>
                          <a:pt x="866" y="747"/>
                        </a:lnTo>
                        <a:lnTo>
                          <a:pt x="819" y="741"/>
                        </a:lnTo>
                        <a:lnTo>
                          <a:pt x="772" y="733"/>
                        </a:lnTo>
                        <a:lnTo>
                          <a:pt x="726" y="723"/>
                        </a:lnTo>
                        <a:lnTo>
                          <a:pt x="680" y="710"/>
                        </a:lnTo>
                        <a:lnTo>
                          <a:pt x="636" y="696"/>
                        </a:lnTo>
                        <a:lnTo>
                          <a:pt x="593" y="680"/>
                        </a:lnTo>
                        <a:lnTo>
                          <a:pt x="550" y="660"/>
                        </a:lnTo>
                        <a:lnTo>
                          <a:pt x="508" y="639"/>
                        </a:lnTo>
                        <a:lnTo>
                          <a:pt x="467" y="615"/>
                        </a:lnTo>
                        <a:lnTo>
                          <a:pt x="428" y="590"/>
                        </a:lnTo>
                        <a:lnTo>
                          <a:pt x="389" y="562"/>
                        </a:lnTo>
                        <a:lnTo>
                          <a:pt x="351" y="532"/>
                        </a:lnTo>
                        <a:lnTo>
                          <a:pt x="315" y="500"/>
                        </a:lnTo>
                        <a:lnTo>
                          <a:pt x="280" y="467"/>
                        </a:lnTo>
                        <a:lnTo>
                          <a:pt x="254" y="439"/>
                        </a:lnTo>
                        <a:lnTo>
                          <a:pt x="230" y="413"/>
                        </a:lnTo>
                        <a:lnTo>
                          <a:pt x="207" y="386"/>
                        </a:lnTo>
                        <a:lnTo>
                          <a:pt x="187" y="360"/>
                        </a:lnTo>
                        <a:lnTo>
                          <a:pt x="165" y="332"/>
                        </a:lnTo>
                        <a:lnTo>
                          <a:pt x="146" y="305"/>
                        </a:lnTo>
                        <a:lnTo>
                          <a:pt x="112" y="248"/>
                        </a:lnTo>
                        <a:lnTo>
                          <a:pt x="95" y="217"/>
                        </a:lnTo>
                        <a:lnTo>
                          <a:pt x="80" y="188"/>
                        </a:lnTo>
                        <a:lnTo>
                          <a:pt x="55" y="127"/>
                        </a:lnTo>
                        <a:lnTo>
                          <a:pt x="43" y="95"/>
                        </a:lnTo>
                        <a:lnTo>
                          <a:pt x="34" y="64"/>
                        </a:lnTo>
                        <a:lnTo>
                          <a:pt x="25" y="31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7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7473600" y="4305240"/>
                    <a:ext cx="27072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7" h="818">
                        <a:moveTo>
                          <a:pt x="26" y="0"/>
                        </a:moveTo>
                        <a:lnTo>
                          <a:pt x="11" y="32"/>
                        </a:lnTo>
                        <a:lnTo>
                          <a:pt x="0" y="67"/>
                        </a:lnTo>
                        <a:lnTo>
                          <a:pt x="7" y="98"/>
                        </a:lnTo>
                        <a:lnTo>
                          <a:pt x="16" y="131"/>
                        </a:lnTo>
                        <a:lnTo>
                          <a:pt x="25" y="162"/>
                        </a:lnTo>
                        <a:lnTo>
                          <a:pt x="37" y="194"/>
                        </a:lnTo>
                        <a:lnTo>
                          <a:pt x="62" y="255"/>
                        </a:lnTo>
                        <a:lnTo>
                          <a:pt x="77" y="284"/>
                        </a:lnTo>
                        <a:lnTo>
                          <a:pt x="94" y="315"/>
                        </a:lnTo>
                        <a:lnTo>
                          <a:pt x="128" y="372"/>
                        </a:lnTo>
                        <a:lnTo>
                          <a:pt x="147" y="399"/>
                        </a:lnTo>
                        <a:lnTo>
                          <a:pt x="169" y="427"/>
                        </a:lnTo>
                        <a:lnTo>
                          <a:pt x="189" y="453"/>
                        </a:lnTo>
                        <a:lnTo>
                          <a:pt x="212" y="480"/>
                        </a:lnTo>
                        <a:lnTo>
                          <a:pt x="236" y="506"/>
                        </a:lnTo>
                        <a:lnTo>
                          <a:pt x="262" y="534"/>
                        </a:lnTo>
                        <a:lnTo>
                          <a:pt x="297" y="567"/>
                        </a:lnTo>
                        <a:lnTo>
                          <a:pt x="333" y="599"/>
                        </a:lnTo>
                        <a:lnTo>
                          <a:pt x="371" y="629"/>
                        </a:lnTo>
                        <a:lnTo>
                          <a:pt x="410" y="657"/>
                        </a:lnTo>
                        <a:lnTo>
                          <a:pt x="449" y="682"/>
                        </a:lnTo>
                        <a:lnTo>
                          <a:pt x="490" y="706"/>
                        </a:lnTo>
                        <a:lnTo>
                          <a:pt x="532" y="727"/>
                        </a:lnTo>
                        <a:lnTo>
                          <a:pt x="575" y="747"/>
                        </a:lnTo>
                        <a:lnTo>
                          <a:pt x="618" y="763"/>
                        </a:lnTo>
                        <a:lnTo>
                          <a:pt x="662" y="777"/>
                        </a:lnTo>
                        <a:lnTo>
                          <a:pt x="708" y="790"/>
                        </a:lnTo>
                        <a:lnTo>
                          <a:pt x="754" y="800"/>
                        </a:lnTo>
                        <a:lnTo>
                          <a:pt x="801" y="808"/>
                        </a:lnTo>
                        <a:lnTo>
                          <a:pt x="848" y="814"/>
                        </a:lnTo>
                        <a:lnTo>
                          <a:pt x="897" y="817"/>
                        </a:lnTo>
                        <a:lnTo>
                          <a:pt x="948" y="818"/>
                        </a:lnTo>
                        <a:lnTo>
                          <a:pt x="1014" y="817"/>
                        </a:lnTo>
                        <a:lnTo>
                          <a:pt x="1067" y="774"/>
                        </a:lnTo>
                        <a:lnTo>
                          <a:pt x="1008" y="778"/>
                        </a:lnTo>
                        <a:lnTo>
                          <a:pt x="992" y="778"/>
                        </a:lnTo>
                        <a:lnTo>
                          <a:pt x="984" y="778"/>
                        </a:lnTo>
                        <a:lnTo>
                          <a:pt x="977" y="780"/>
                        </a:lnTo>
                        <a:lnTo>
                          <a:pt x="948" y="781"/>
                        </a:lnTo>
                        <a:lnTo>
                          <a:pt x="899" y="780"/>
                        </a:lnTo>
                        <a:lnTo>
                          <a:pt x="852" y="776"/>
                        </a:lnTo>
                        <a:lnTo>
                          <a:pt x="805" y="771"/>
                        </a:lnTo>
                        <a:lnTo>
                          <a:pt x="761" y="763"/>
                        </a:lnTo>
                        <a:lnTo>
                          <a:pt x="715" y="752"/>
                        </a:lnTo>
                        <a:lnTo>
                          <a:pt x="672" y="741"/>
                        </a:lnTo>
                        <a:lnTo>
                          <a:pt x="629" y="726"/>
                        </a:lnTo>
                        <a:lnTo>
                          <a:pt x="588" y="712"/>
                        </a:lnTo>
                        <a:lnTo>
                          <a:pt x="546" y="692"/>
                        </a:lnTo>
                        <a:lnTo>
                          <a:pt x="507" y="673"/>
                        </a:lnTo>
                        <a:lnTo>
                          <a:pt x="468" y="650"/>
                        </a:lnTo>
                        <a:lnTo>
                          <a:pt x="431" y="627"/>
                        </a:lnTo>
                        <a:lnTo>
                          <a:pt x="393" y="599"/>
                        </a:lnTo>
                        <a:lnTo>
                          <a:pt x="357" y="571"/>
                        </a:lnTo>
                        <a:lnTo>
                          <a:pt x="322" y="540"/>
                        </a:lnTo>
                        <a:lnTo>
                          <a:pt x="288" y="508"/>
                        </a:lnTo>
                        <a:lnTo>
                          <a:pt x="235" y="451"/>
                        </a:lnTo>
                        <a:lnTo>
                          <a:pt x="210" y="421"/>
                        </a:lnTo>
                        <a:lnTo>
                          <a:pt x="188" y="393"/>
                        </a:lnTo>
                        <a:lnTo>
                          <a:pt x="167" y="363"/>
                        </a:lnTo>
                        <a:lnTo>
                          <a:pt x="147" y="333"/>
                        </a:lnTo>
                        <a:lnTo>
                          <a:pt x="128" y="301"/>
                        </a:lnTo>
                        <a:lnTo>
                          <a:pt x="112" y="271"/>
                        </a:lnTo>
                        <a:lnTo>
                          <a:pt x="95" y="238"/>
                        </a:lnTo>
                        <a:lnTo>
                          <a:pt x="82" y="206"/>
                        </a:lnTo>
                        <a:lnTo>
                          <a:pt x="68" y="172"/>
                        </a:lnTo>
                        <a:lnTo>
                          <a:pt x="58" y="139"/>
                        </a:lnTo>
                        <a:lnTo>
                          <a:pt x="46" y="104"/>
                        </a:lnTo>
                        <a:lnTo>
                          <a:pt x="38" y="70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007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7480080" y="4290120"/>
                    <a:ext cx="2764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7" h="841">
                        <a:moveTo>
                          <a:pt x="31" y="0"/>
                        </a:moveTo>
                        <a:lnTo>
                          <a:pt x="14" y="29"/>
                        </a:lnTo>
                        <a:lnTo>
                          <a:pt x="0" y="60"/>
                        </a:lnTo>
                        <a:lnTo>
                          <a:pt x="12" y="130"/>
                        </a:lnTo>
                        <a:lnTo>
                          <a:pt x="20" y="164"/>
                        </a:lnTo>
                        <a:lnTo>
                          <a:pt x="32" y="199"/>
                        </a:lnTo>
                        <a:lnTo>
                          <a:pt x="42" y="232"/>
                        </a:lnTo>
                        <a:lnTo>
                          <a:pt x="56" y="266"/>
                        </a:lnTo>
                        <a:lnTo>
                          <a:pt x="69" y="298"/>
                        </a:lnTo>
                        <a:lnTo>
                          <a:pt x="86" y="331"/>
                        </a:lnTo>
                        <a:lnTo>
                          <a:pt x="102" y="361"/>
                        </a:lnTo>
                        <a:lnTo>
                          <a:pt x="121" y="393"/>
                        </a:lnTo>
                        <a:lnTo>
                          <a:pt x="141" y="423"/>
                        </a:lnTo>
                        <a:lnTo>
                          <a:pt x="162" y="453"/>
                        </a:lnTo>
                        <a:lnTo>
                          <a:pt x="184" y="481"/>
                        </a:lnTo>
                        <a:lnTo>
                          <a:pt x="209" y="511"/>
                        </a:lnTo>
                        <a:lnTo>
                          <a:pt x="262" y="568"/>
                        </a:lnTo>
                        <a:lnTo>
                          <a:pt x="296" y="600"/>
                        </a:lnTo>
                        <a:lnTo>
                          <a:pt x="331" y="631"/>
                        </a:lnTo>
                        <a:lnTo>
                          <a:pt x="367" y="659"/>
                        </a:lnTo>
                        <a:lnTo>
                          <a:pt x="405" y="687"/>
                        </a:lnTo>
                        <a:lnTo>
                          <a:pt x="442" y="710"/>
                        </a:lnTo>
                        <a:lnTo>
                          <a:pt x="481" y="733"/>
                        </a:lnTo>
                        <a:lnTo>
                          <a:pt x="520" y="752"/>
                        </a:lnTo>
                        <a:lnTo>
                          <a:pt x="562" y="772"/>
                        </a:lnTo>
                        <a:lnTo>
                          <a:pt x="603" y="786"/>
                        </a:lnTo>
                        <a:lnTo>
                          <a:pt x="646" y="801"/>
                        </a:lnTo>
                        <a:lnTo>
                          <a:pt x="689" y="812"/>
                        </a:lnTo>
                        <a:lnTo>
                          <a:pt x="735" y="823"/>
                        </a:lnTo>
                        <a:lnTo>
                          <a:pt x="779" y="831"/>
                        </a:lnTo>
                        <a:lnTo>
                          <a:pt x="826" y="836"/>
                        </a:lnTo>
                        <a:lnTo>
                          <a:pt x="873" y="840"/>
                        </a:lnTo>
                        <a:lnTo>
                          <a:pt x="922" y="841"/>
                        </a:lnTo>
                        <a:lnTo>
                          <a:pt x="951" y="840"/>
                        </a:lnTo>
                        <a:lnTo>
                          <a:pt x="958" y="838"/>
                        </a:lnTo>
                        <a:lnTo>
                          <a:pt x="966" y="838"/>
                        </a:lnTo>
                        <a:lnTo>
                          <a:pt x="982" y="838"/>
                        </a:lnTo>
                        <a:lnTo>
                          <a:pt x="1041" y="834"/>
                        </a:lnTo>
                        <a:lnTo>
                          <a:pt x="1077" y="800"/>
                        </a:lnTo>
                        <a:lnTo>
                          <a:pt x="1087" y="790"/>
                        </a:lnTo>
                        <a:lnTo>
                          <a:pt x="1047" y="795"/>
                        </a:lnTo>
                        <a:lnTo>
                          <a:pt x="1006" y="800"/>
                        </a:lnTo>
                        <a:lnTo>
                          <a:pt x="964" y="802"/>
                        </a:lnTo>
                        <a:lnTo>
                          <a:pt x="942" y="802"/>
                        </a:lnTo>
                        <a:lnTo>
                          <a:pt x="922" y="803"/>
                        </a:lnTo>
                        <a:lnTo>
                          <a:pt x="875" y="802"/>
                        </a:lnTo>
                        <a:lnTo>
                          <a:pt x="830" y="799"/>
                        </a:lnTo>
                        <a:lnTo>
                          <a:pt x="786" y="793"/>
                        </a:lnTo>
                        <a:lnTo>
                          <a:pt x="743" y="786"/>
                        </a:lnTo>
                        <a:lnTo>
                          <a:pt x="700" y="776"/>
                        </a:lnTo>
                        <a:lnTo>
                          <a:pt x="658" y="766"/>
                        </a:lnTo>
                        <a:lnTo>
                          <a:pt x="617" y="752"/>
                        </a:lnTo>
                        <a:lnTo>
                          <a:pt x="577" y="738"/>
                        </a:lnTo>
                        <a:lnTo>
                          <a:pt x="537" y="719"/>
                        </a:lnTo>
                        <a:lnTo>
                          <a:pt x="499" y="700"/>
                        </a:lnTo>
                        <a:lnTo>
                          <a:pt x="462" y="679"/>
                        </a:lnTo>
                        <a:lnTo>
                          <a:pt x="425" y="655"/>
                        </a:lnTo>
                        <a:lnTo>
                          <a:pt x="389" y="629"/>
                        </a:lnTo>
                        <a:lnTo>
                          <a:pt x="355" y="602"/>
                        </a:lnTo>
                        <a:lnTo>
                          <a:pt x="321" y="572"/>
                        </a:lnTo>
                        <a:lnTo>
                          <a:pt x="288" y="542"/>
                        </a:lnTo>
                        <a:lnTo>
                          <a:pt x="259" y="511"/>
                        </a:lnTo>
                        <a:lnTo>
                          <a:pt x="232" y="481"/>
                        </a:lnTo>
                        <a:lnTo>
                          <a:pt x="208" y="451"/>
                        </a:lnTo>
                        <a:lnTo>
                          <a:pt x="185" y="420"/>
                        </a:lnTo>
                        <a:lnTo>
                          <a:pt x="162" y="387"/>
                        </a:lnTo>
                        <a:lnTo>
                          <a:pt x="143" y="356"/>
                        </a:lnTo>
                        <a:lnTo>
                          <a:pt x="125" y="323"/>
                        </a:lnTo>
                        <a:lnTo>
                          <a:pt x="109" y="290"/>
                        </a:lnTo>
                        <a:lnTo>
                          <a:pt x="92" y="255"/>
                        </a:lnTo>
                        <a:lnTo>
                          <a:pt x="78" y="221"/>
                        </a:lnTo>
                        <a:lnTo>
                          <a:pt x="66" y="184"/>
                        </a:lnTo>
                        <a:lnTo>
                          <a:pt x="57" y="149"/>
                        </a:lnTo>
                        <a:lnTo>
                          <a:pt x="46" y="112"/>
                        </a:lnTo>
                        <a:lnTo>
                          <a:pt x="40" y="76"/>
                        </a:lnTo>
                        <a:lnTo>
                          <a:pt x="34" y="37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7487640" y="4276800"/>
                    <a:ext cx="2790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854">
                        <a:moveTo>
                          <a:pt x="34" y="0"/>
                        </a:moveTo>
                        <a:lnTo>
                          <a:pt x="14" y="25"/>
                        </a:lnTo>
                        <a:lnTo>
                          <a:pt x="0" y="51"/>
                        </a:lnTo>
                        <a:lnTo>
                          <a:pt x="3" y="88"/>
                        </a:lnTo>
                        <a:lnTo>
                          <a:pt x="9" y="127"/>
                        </a:lnTo>
                        <a:lnTo>
                          <a:pt x="15" y="163"/>
                        </a:lnTo>
                        <a:lnTo>
                          <a:pt x="26" y="200"/>
                        </a:lnTo>
                        <a:lnTo>
                          <a:pt x="35" y="235"/>
                        </a:lnTo>
                        <a:lnTo>
                          <a:pt x="47" y="272"/>
                        </a:lnTo>
                        <a:lnTo>
                          <a:pt x="61" y="306"/>
                        </a:lnTo>
                        <a:lnTo>
                          <a:pt x="78" y="341"/>
                        </a:lnTo>
                        <a:lnTo>
                          <a:pt x="94" y="374"/>
                        </a:lnTo>
                        <a:lnTo>
                          <a:pt x="112" y="407"/>
                        </a:lnTo>
                        <a:lnTo>
                          <a:pt x="131" y="438"/>
                        </a:lnTo>
                        <a:lnTo>
                          <a:pt x="154" y="471"/>
                        </a:lnTo>
                        <a:lnTo>
                          <a:pt x="177" y="502"/>
                        </a:lnTo>
                        <a:lnTo>
                          <a:pt x="201" y="532"/>
                        </a:lnTo>
                        <a:lnTo>
                          <a:pt x="228" y="562"/>
                        </a:lnTo>
                        <a:lnTo>
                          <a:pt x="257" y="593"/>
                        </a:lnTo>
                        <a:lnTo>
                          <a:pt x="290" y="623"/>
                        </a:lnTo>
                        <a:lnTo>
                          <a:pt x="324" y="653"/>
                        </a:lnTo>
                        <a:lnTo>
                          <a:pt x="358" y="680"/>
                        </a:lnTo>
                        <a:lnTo>
                          <a:pt x="394" y="706"/>
                        </a:lnTo>
                        <a:lnTo>
                          <a:pt x="431" y="730"/>
                        </a:lnTo>
                        <a:lnTo>
                          <a:pt x="468" y="751"/>
                        </a:lnTo>
                        <a:lnTo>
                          <a:pt x="506" y="770"/>
                        </a:lnTo>
                        <a:lnTo>
                          <a:pt x="546" y="789"/>
                        </a:lnTo>
                        <a:lnTo>
                          <a:pt x="586" y="803"/>
                        </a:lnTo>
                        <a:lnTo>
                          <a:pt x="627" y="817"/>
                        </a:lnTo>
                        <a:lnTo>
                          <a:pt x="669" y="827"/>
                        </a:lnTo>
                        <a:lnTo>
                          <a:pt x="712" y="837"/>
                        </a:lnTo>
                        <a:lnTo>
                          <a:pt x="755" y="844"/>
                        </a:lnTo>
                        <a:lnTo>
                          <a:pt x="799" y="850"/>
                        </a:lnTo>
                        <a:lnTo>
                          <a:pt x="844" y="853"/>
                        </a:lnTo>
                        <a:lnTo>
                          <a:pt x="891" y="854"/>
                        </a:lnTo>
                        <a:lnTo>
                          <a:pt x="911" y="853"/>
                        </a:lnTo>
                        <a:lnTo>
                          <a:pt x="933" y="853"/>
                        </a:lnTo>
                        <a:lnTo>
                          <a:pt x="975" y="851"/>
                        </a:lnTo>
                        <a:lnTo>
                          <a:pt x="1016" y="846"/>
                        </a:lnTo>
                        <a:lnTo>
                          <a:pt x="1056" y="841"/>
                        </a:lnTo>
                        <a:lnTo>
                          <a:pt x="1077" y="817"/>
                        </a:lnTo>
                        <a:lnTo>
                          <a:pt x="1097" y="794"/>
                        </a:lnTo>
                        <a:lnTo>
                          <a:pt x="1071" y="799"/>
                        </a:lnTo>
                        <a:lnTo>
                          <a:pt x="1046" y="803"/>
                        </a:lnTo>
                        <a:lnTo>
                          <a:pt x="1033" y="804"/>
                        </a:lnTo>
                        <a:lnTo>
                          <a:pt x="1020" y="807"/>
                        </a:lnTo>
                        <a:lnTo>
                          <a:pt x="995" y="811"/>
                        </a:lnTo>
                        <a:lnTo>
                          <a:pt x="943" y="815"/>
                        </a:lnTo>
                        <a:lnTo>
                          <a:pt x="891" y="817"/>
                        </a:lnTo>
                        <a:lnTo>
                          <a:pt x="846" y="816"/>
                        </a:lnTo>
                        <a:lnTo>
                          <a:pt x="802" y="812"/>
                        </a:lnTo>
                        <a:lnTo>
                          <a:pt x="759" y="807"/>
                        </a:lnTo>
                        <a:lnTo>
                          <a:pt x="719" y="801"/>
                        </a:lnTo>
                        <a:lnTo>
                          <a:pt x="678" y="791"/>
                        </a:lnTo>
                        <a:lnTo>
                          <a:pt x="638" y="781"/>
                        </a:lnTo>
                        <a:lnTo>
                          <a:pt x="598" y="768"/>
                        </a:lnTo>
                        <a:lnTo>
                          <a:pt x="561" y="753"/>
                        </a:lnTo>
                        <a:lnTo>
                          <a:pt x="522" y="736"/>
                        </a:lnTo>
                        <a:lnTo>
                          <a:pt x="486" y="717"/>
                        </a:lnTo>
                        <a:lnTo>
                          <a:pt x="450" y="696"/>
                        </a:lnTo>
                        <a:lnTo>
                          <a:pt x="415" y="674"/>
                        </a:lnTo>
                        <a:lnTo>
                          <a:pt x="379" y="649"/>
                        </a:lnTo>
                        <a:lnTo>
                          <a:pt x="347" y="623"/>
                        </a:lnTo>
                        <a:lnTo>
                          <a:pt x="314" y="595"/>
                        </a:lnTo>
                        <a:lnTo>
                          <a:pt x="283" y="565"/>
                        </a:lnTo>
                        <a:lnTo>
                          <a:pt x="254" y="534"/>
                        </a:lnTo>
                        <a:lnTo>
                          <a:pt x="228" y="503"/>
                        </a:lnTo>
                        <a:lnTo>
                          <a:pt x="201" y="471"/>
                        </a:lnTo>
                        <a:lnTo>
                          <a:pt x="179" y="439"/>
                        </a:lnTo>
                        <a:lnTo>
                          <a:pt x="156" y="405"/>
                        </a:lnTo>
                        <a:lnTo>
                          <a:pt x="137" y="373"/>
                        </a:lnTo>
                        <a:lnTo>
                          <a:pt x="118" y="339"/>
                        </a:lnTo>
                        <a:lnTo>
                          <a:pt x="103" y="305"/>
                        </a:lnTo>
                        <a:lnTo>
                          <a:pt x="87" y="268"/>
                        </a:lnTo>
                        <a:lnTo>
                          <a:pt x="74" y="232"/>
                        </a:lnTo>
                        <a:lnTo>
                          <a:pt x="62" y="195"/>
                        </a:lnTo>
                        <a:lnTo>
                          <a:pt x="54" y="157"/>
                        </a:lnTo>
                        <a:lnTo>
                          <a:pt x="45" y="118"/>
                        </a:lnTo>
                        <a:lnTo>
                          <a:pt x="39" y="79"/>
                        </a:lnTo>
                        <a:lnTo>
                          <a:pt x="35" y="39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00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7482240" y="4447800"/>
                    <a:ext cx="12132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365">
                        <a:moveTo>
                          <a:pt x="95" y="106"/>
                        </a:moveTo>
                        <a:lnTo>
                          <a:pt x="69" y="79"/>
                        </a:lnTo>
                        <a:lnTo>
                          <a:pt x="45" y="53"/>
                        </a:lnTo>
                        <a:lnTo>
                          <a:pt x="21" y="26"/>
                        </a:lnTo>
                        <a:lnTo>
                          <a:pt x="0" y="0"/>
                        </a:lnTo>
                        <a:lnTo>
                          <a:pt x="11" y="22"/>
                        </a:lnTo>
                        <a:lnTo>
                          <a:pt x="25" y="46"/>
                        </a:lnTo>
                        <a:lnTo>
                          <a:pt x="55" y="93"/>
                        </a:lnTo>
                        <a:lnTo>
                          <a:pt x="71" y="114"/>
                        </a:lnTo>
                        <a:lnTo>
                          <a:pt x="90" y="137"/>
                        </a:lnTo>
                        <a:lnTo>
                          <a:pt x="130" y="180"/>
                        </a:lnTo>
                        <a:lnTo>
                          <a:pt x="168" y="215"/>
                        </a:lnTo>
                        <a:lnTo>
                          <a:pt x="207" y="247"/>
                        </a:lnTo>
                        <a:lnTo>
                          <a:pt x="248" y="275"/>
                        </a:lnTo>
                        <a:lnTo>
                          <a:pt x="292" y="300"/>
                        </a:lnTo>
                        <a:lnTo>
                          <a:pt x="336" y="320"/>
                        </a:lnTo>
                        <a:lnTo>
                          <a:pt x="382" y="339"/>
                        </a:lnTo>
                        <a:lnTo>
                          <a:pt x="429" y="353"/>
                        </a:lnTo>
                        <a:lnTo>
                          <a:pt x="478" y="365"/>
                        </a:lnTo>
                        <a:lnTo>
                          <a:pt x="425" y="341"/>
                        </a:lnTo>
                        <a:lnTo>
                          <a:pt x="374" y="316"/>
                        </a:lnTo>
                        <a:lnTo>
                          <a:pt x="324" y="288"/>
                        </a:lnTo>
                        <a:lnTo>
                          <a:pt x="277" y="257"/>
                        </a:lnTo>
                        <a:lnTo>
                          <a:pt x="229" y="222"/>
                        </a:lnTo>
                        <a:lnTo>
                          <a:pt x="184" y="187"/>
                        </a:lnTo>
                        <a:lnTo>
                          <a:pt x="138" y="147"/>
                        </a:lnTo>
                        <a:lnTo>
                          <a:pt x="95" y="106"/>
                        </a:lnTo>
                        <a:close/>
                      </a:path>
                    </a:pathLst>
                  </a:custGeom>
                  <a:solidFill>
                    <a:srgbClr val="006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7470360" y="4414680"/>
                    <a:ext cx="1717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505">
                        <a:moveTo>
                          <a:pt x="47" y="131"/>
                        </a:moveTo>
                        <a:lnTo>
                          <a:pt x="68" y="157"/>
                        </a:lnTo>
                        <a:lnTo>
                          <a:pt x="92" y="184"/>
                        </a:lnTo>
                        <a:lnTo>
                          <a:pt x="116" y="210"/>
                        </a:lnTo>
                        <a:lnTo>
                          <a:pt x="142" y="237"/>
                        </a:lnTo>
                        <a:lnTo>
                          <a:pt x="185" y="278"/>
                        </a:lnTo>
                        <a:lnTo>
                          <a:pt x="231" y="318"/>
                        </a:lnTo>
                        <a:lnTo>
                          <a:pt x="276" y="353"/>
                        </a:lnTo>
                        <a:lnTo>
                          <a:pt x="324" y="388"/>
                        </a:lnTo>
                        <a:lnTo>
                          <a:pt x="371" y="419"/>
                        </a:lnTo>
                        <a:lnTo>
                          <a:pt x="421" y="447"/>
                        </a:lnTo>
                        <a:lnTo>
                          <a:pt x="472" y="472"/>
                        </a:lnTo>
                        <a:lnTo>
                          <a:pt x="525" y="496"/>
                        </a:lnTo>
                        <a:lnTo>
                          <a:pt x="584" y="503"/>
                        </a:lnTo>
                        <a:lnTo>
                          <a:pt x="647" y="505"/>
                        </a:lnTo>
                        <a:lnTo>
                          <a:pt x="677" y="505"/>
                        </a:lnTo>
                        <a:lnTo>
                          <a:pt x="641" y="495"/>
                        </a:lnTo>
                        <a:lnTo>
                          <a:pt x="606" y="483"/>
                        </a:lnTo>
                        <a:lnTo>
                          <a:pt x="538" y="458"/>
                        </a:lnTo>
                        <a:lnTo>
                          <a:pt x="471" y="429"/>
                        </a:lnTo>
                        <a:lnTo>
                          <a:pt x="406" y="395"/>
                        </a:lnTo>
                        <a:lnTo>
                          <a:pt x="343" y="354"/>
                        </a:lnTo>
                        <a:lnTo>
                          <a:pt x="283" y="311"/>
                        </a:lnTo>
                        <a:lnTo>
                          <a:pt x="253" y="287"/>
                        </a:lnTo>
                        <a:lnTo>
                          <a:pt x="224" y="262"/>
                        </a:lnTo>
                        <a:lnTo>
                          <a:pt x="168" y="210"/>
                        </a:lnTo>
                        <a:lnTo>
                          <a:pt x="119" y="159"/>
                        </a:lnTo>
                        <a:lnTo>
                          <a:pt x="97" y="133"/>
                        </a:lnTo>
                        <a:lnTo>
                          <a:pt x="76" y="108"/>
                        </a:lnTo>
                        <a:lnTo>
                          <a:pt x="55" y="81"/>
                        </a:lnTo>
                        <a:lnTo>
                          <a:pt x="36" y="55"/>
                        </a:lnTo>
                        <a:lnTo>
                          <a:pt x="0" y="0"/>
                        </a:lnTo>
                        <a:lnTo>
                          <a:pt x="8" y="33"/>
                        </a:lnTo>
                        <a:lnTo>
                          <a:pt x="20" y="66"/>
                        </a:lnTo>
                        <a:lnTo>
                          <a:pt x="32" y="98"/>
                        </a:lnTo>
                        <a:lnTo>
                          <a:pt x="47" y="131"/>
                        </a:lnTo>
                        <a:close/>
                      </a:path>
                    </a:pathLst>
                  </a:custGeom>
                  <a:solidFill>
                    <a:srgbClr val="00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7466400" y="4387680"/>
                    <a:ext cx="20556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610">
                        <a:moveTo>
                          <a:pt x="15" y="105"/>
                        </a:moveTo>
                        <a:lnTo>
                          <a:pt x="51" y="160"/>
                        </a:lnTo>
                        <a:lnTo>
                          <a:pt x="70" y="186"/>
                        </a:lnTo>
                        <a:lnTo>
                          <a:pt x="91" y="213"/>
                        </a:lnTo>
                        <a:lnTo>
                          <a:pt x="112" y="238"/>
                        </a:lnTo>
                        <a:lnTo>
                          <a:pt x="134" y="264"/>
                        </a:lnTo>
                        <a:lnTo>
                          <a:pt x="183" y="315"/>
                        </a:lnTo>
                        <a:lnTo>
                          <a:pt x="239" y="367"/>
                        </a:lnTo>
                        <a:lnTo>
                          <a:pt x="268" y="392"/>
                        </a:lnTo>
                        <a:lnTo>
                          <a:pt x="298" y="416"/>
                        </a:lnTo>
                        <a:lnTo>
                          <a:pt x="358" y="459"/>
                        </a:lnTo>
                        <a:lnTo>
                          <a:pt x="421" y="500"/>
                        </a:lnTo>
                        <a:lnTo>
                          <a:pt x="486" y="534"/>
                        </a:lnTo>
                        <a:lnTo>
                          <a:pt x="553" y="563"/>
                        </a:lnTo>
                        <a:lnTo>
                          <a:pt x="621" y="588"/>
                        </a:lnTo>
                        <a:lnTo>
                          <a:pt x="656" y="600"/>
                        </a:lnTo>
                        <a:lnTo>
                          <a:pt x="692" y="610"/>
                        </a:lnTo>
                        <a:lnTo>
                          <a:pt x="722" y="608"/>
                        </a:lnTo>
                        <a:lnTo>
                          <a:pt x="737" y="605"/>
                        </a:lnTo>
                        <a:lnTo>
                          <a:pt x="753" y="604"/>
                        </a:lnTo>
                        <a:lnTo>
                          <a:pt x="781" y="600"/>
                        </a:lnTo>
                        <a:lnTo>
                          <a:pt x="810" y="595"/>
                        </a:lnTo>
                        <a:lnTo>
                          <a:pt x="767" y="587"/>
                        </a:lnTo>
                        <a:lnTo>
                          <a:pt x="725" y="578"/>
                        </a:lnTo>
                        <a:lnTo>
                          <a:pt x="683" y="568"/>
                        </a:lnTo>
                        <a:lnTo>
                          <a:pt x="644" y="556"/>
                        </a:lnTo>
                        <a:lnTo>
                          <a:pt x="603" y="543"/>
                        </a:lnTo>
                        <a:lnTo>
                          <a:pt x="564" y="528"/>
                        </a:lnTo>
                        <a:lnTo>
                          <a:pt x="526" y="511"/>
                        </a:lnTo>
                        <a:lnTo>
                          <a:pt x="488" y="493"/>
                        </a:lnTo>
                        <a:lnTo>
                          <a:pt x="451" y="473"/>
                        </a:lnTo>
                        <a:lnTo>
                          <a:pt x="415" y="451"/>
                        </a:lnTo>
                        <a:lnTo>
                          <a:pt x="343" y="403"/>
                        </a:lnTo>
                        <a:lnTo>
                          <a:pt x="308" y="376"/>
                        </a:lnTo>
                        <a:lnTo>
                          <a:pt x="275" y="349"/>
                        </a:lnTo>
                        <a:lnTo>
                          <a:pt x="242" y="320"/>
                        </a:lnTo>
                        <a:lnTo>
                          <a:pt x="210" y="289"/>
                        </a:lnTo>
                        <a:lnTo>
                          <a:pt x="176" y="254"/>
                        </a:lnTo>
                        <a:lnTo>
                          <a:pt x="146" y="220"/>
                        </a:lnTo>
                        <a:lnTo>
                          <a:pt x="116" y="185"/>
                        </a:lnTo>
                        <a:lnTo>
                          <a:pt x="90" y="150"/>
                        </a:lnTo>
                        <a:lnTo>
                          <a:pt x="64" y="112"/>
                        </a:lnTo>
                        <a:lnTo>
                          <a:pt x="42" y="76"/>
                        </a:lnTo>
                        <a:lnTo>
                          <a:pt x="19" y="37"/>
                        </a:lnTo>
                        <a:lnTo>
                          <a:pt x="0" y="0"/>
                        </a:lnTo>
                        <a:lnTo>
                          <a:pt x="5" y="52"/>
                        </a:lnTo>
                        <a:lnTo>
                          <a:pt x="15" y="105"/>
                        </a:lnTo>
                        <a:close/>
                      </a:path>
                    </a:pathLst>
                  </a:custGeom>
                  <a:solidFill>
                    <a:srgbClr val="006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7465680" y="4205160"/>
                    <a:ext cx="337320" cy="33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8" h="1328">
                        <a:moveTo>
                          <a:pt x="664" y="0"/>
                        </a:moveTo>
                        <a:lnTo>
                          <a:pt x="629" y="0"/>
                        </a:lnTo>
                        <a:lnTo>
                          <a:pt x="596" y="3"/>
                        </a:lnTo>
                        <a:lnTo>
                          <a:pt x="531" y="12"/>
                        </a:lnTo>
                        <a:lnTo>
                          <a:pt x="469" y="27"/>
                        </a:lnTo>
                        <a:lnTo>
                          <a:pt x="409" y="48"/>
                        </a:lnTo>
                        <a:lnTo>
                          <a:pt x="351" y="74"/>
                        </a:lnTo>
                        <a:lnTo>
                          <a:pt x="322" y="90"/>
                        </a:lnTo>
                        <a:lnTo>
                          <a:pt x="296" y="108"/>
                        </a:lnTo>
                        <a:lnTo>
                          <a:pt x="243" y="148"/>
                        </a:lnTo>
                        <a:lnTo>
                          <a:pt x="194" y="194"/>
                        </a:lnTo>
                        <a:lnTo>
                          <a:pt x="148" y="243"/>
                        </a:lnTo>
                        <a:lnTo>
                          <a:pt x="108" y="296"/>
                        </a:lnTo>
                        <a:lnTo>
                          <a:pt x="90" y="322"/>
                        </a:lnTo>
                        <a:lnTo>
                          <a:pt x="74" y="351"/>
                        </a:lnTo>
                        <a:lnTo>
                          <a:pt x="48" y="409"/>
                        </a:lnTo>
                        <a:lnTo>
                          <a:pt x="26" y="469"/>
                        </a:lnTo>
                        <a:lnTo>
                          <a:pt x="12" y="531"/>
                        </a:lnTo>
                        <a:lnTo>
                          <a:pt x="3" y="596"/>
                        </a:lnTo>
                        <a:lnTo>
                          <a:pt x="0" y="628"/>
                        </a:lnTo>
                        <a:lnTo>
                          <a:pt x="0" y="664"/>
                        </a:lnTo>
                        <a:lnTo>
                          <a:pt x="0" y="696"/>
                        </a:lnTo>
                        <a:lnTo>
                          <a:pt x="3" y="730"/>
                        </a:lnTo>
                        <a:lnTo>
                          <a:pt x="6" y="762"/>
                        </a:lnTo>
                        <a:lnTo>
                          <a:pt x="12" y="795"/>
                        </a:lnTo>
                        <a:lnTo>
                          <a:pt x="17" y="826"/>
                        </a:lnTo>
                        <a:lnTo>
                          <a:pt x="26" y="857"/>
                        </a:lnTo>
                        <a:lnTo>
                          <a:pt x="36" y="888"/>
                        </a:lnTo>
                        <a:lnTo>
                          <a:pt x="48" y="919"/>
                        </a:lnTo>
                        <a:lnTo>
                          <a:pt x="59" y="947"/>
                        </a:lnTo>
                        <a:lnTo>
                          <a:pt x="74" y="975"/>
                        </a:lnTo>
                        <a:lnTo>
                          <a:pt x="90" y="1002"/>
                        </a:lnTo>
                        <a:lnTo>
                          <a:pt x="108" y="1031"/>
                        </a:lnTo>
                        <a:lnTo>
                          <a:pt x="126" y="1057"/>
                        </a:lnTo>
                        <a:lnTo>
                          <a:pt x="148" y="1083"/>
                        </a:lnTo>
                        <a:lnTo>
                          <a:pt x="169" y="1108"/>
                        </a:lnTo>
                        <a:lnTo>
                          <a:pt x="194" y="1134"/>
                        </a:lnTo>
                        <a:lnTo>
                          <a:pt x="218" y="1157"/>
                        </a:lnTo>
                        <a:lnTo>
                          <a:pt x="243" y="1178"/>
                        </a:lnTo>
                        <a:lnTo>
                          <a:pt x="269" y="1199"/>
                        </a:lnTo>
                        <a:lnTo>
                          <a:pt x="296" y="1218"/>
                        </a:lnTo>
                        <a:lnTo>
                          <a:pt x="322" y="1235"/>
                        </a:lnTo>
                        <a:lnTo>
                          <a:pt x="351" y="1251"/>
                        </a:lnTo>
                        <a:lnTo>
                          <a:pt x="379" y="1265"/>
                        </a:lnTo>
                        <a:lnTo>
                          <a:pt x="409" y="1279"/>
                        </a:lnTo>
                        <a:lnTo>
                          <a:pt x="469" y="1299"/>
                        </a:lnTo>
                        <a:lnTo>
                          <a:pt x="531" y="1315"/>
                        </a:lnTo>
                        <a:lnTo>
                          <a:pt x="596" y="1324"/>
                        </a:lnTo>
                        <a:lnTo>
                          <a:pt x="629" y="1327"/>
                        </a:lnTo>
                        <a:lnTo>
                          <a:pt x="664" y="1328"/>
                        </a:lnTo>
                        <a:lnTo>
                          <a:pt x="680" y="1327"/>
                        </a:lnTo>
                        <a:lnTo>
                          <a:pt x="697" y="1327"/>
                        </a:lnTo>
                        <a:lnTo>
                          <a:pt x="731" y="1324"/>
                        </a:lnTo>
                        <a:lnTo>
                          <a:pt x="762" y="1320"/>
                        </a:lnTo>
                        <a:lnTo>
                          <a:pt x="795" y="1315"/>
                        </a:lnTo>
                        <a:lnTo>
                          <a:pt x="810" y="1311"/>
                        </a:lnTo>
                        <a:lnTo>
                          <a:pt x="826" y="1307"/>
                        </a:lnTo>
                        <a:lnTo>
                          <a:pt x="858" y="1299"/>
                        </a:lnTo>
                        <a:lnTo>
                          <a:pt x="887" y="1289"/>
                        </a:lnTo>
                        <a:lnTo>
                          <a:pt x="894" y="1286"/>
                        </a:lnTo>
                        <a:lnTo>
                          <a:pt x="902" y="1284"/>
                        </a:lnTo>
                        <a:lnTo>
                          <a:pt x="918" y="1279"/>
                        </a:lnTo>
                        <a:lnTo>
                          <a:pt x="946" y="1265"/>
                        </a:lnTo>
                        <a:lnTo>
                          <a:pt x="960" y="1257"/>
                        </a:lnTo>
                        <a:lnTo>
                          <a:pt x="975" y="1251"/>
                        </a:lnTo>
                        <a:lnTo>
                          <a:pt x="1002" y="1235"/>
                        </a:lnTo>
                        <a:lnTo>
                          <a:pt x="1015" y="1226"/>
                        </a:lnTo>
                        <a:lnTo>
                          <a:pt x="1022" y="1221"/>
                        </a:lnTo>
                        <a:lnTo>
                          <a:pt x="1026" y="1219"/>
                        </a:lnTo>
                        <a:lnTo>
                          <a:pt x="1030" y="1218"/>
                        </a:lnTo>
                        <a:lnTo>
                          <a:pt x="1032" y="1214"/>
                        </a:lnTo>
                        <a:lnTo>
                          <a:pt x="1036" y="1212"/>
                        </a:lnTo>
                        <a:lnTo>
                          <a:pt x="1043" y="1208"/>
                        </a:lnTo>
                        <a:lnTo>
                          <a:pt x="1056" y="1199"/>
                        </a:lnTo>
                        <a:lnTo>
                          <a:pt x="1082" y="1178"/>
                        </a:lnTo>
                        <a:lnTo>
                          <a:pt x="1107" y="1157"/>
                        </a:lnTo>
                        <a:lnTo>
                          <a:pt x="1133" y="1134"/>
                        </a:lnTo>
                        <a:lnTo>
                          <a:pt x="1156" y="1108"/>
                        </a:lnTo>
                        <a:lnTo>
                          <a:pt x="1179" y="1083"/>
                        </a:lnTo>
                        <a:lnTo>
                          <a:pt x="1199" y="1057"/>
                        </a:lnTo>
                        <a:lnTo>
                          <a:pt x="1208" y="1043"/>
                        </a:lnTo>
                        <a:lnTo>
                          <a:pt x="1213" y="1036"/>
                        </a:lnTo>
                        <a:lnTo>
                          <a:pt x="1215" y="1033"/>
                        </a:lnTo>
                        <a:lnTo>
                          <a:pt x="1218" y="1031"/>
                        </a:lnTo>
                        <a:lnTo>
                          <a:pt x="1219" y="1026"/>
                        </a:lnTo>
                        <a:lnTo>
                          <a:pt x="1222" y="1023"/>
                        </a:lnTo>
                        <a:lnTo>
                          <a:pt x="1226" y="1016"/>
                        </a:lnTo>
                        <a:lnTo>
                          <a:pt x="1235" y="1002"/>
                        </a:lnTo>
                        <a:lnTo>
                          <a:pt x="1251" y="975"/>
                        </a:lnTo>
                        <a:lnTo>
                          <a:pt x="1258" y="961"/>
                        </a:lnTo>
                        <a:lnTo>
                          <a:pt x="1266" y="947"/>
                        </a:lnTo>
                        <a:lnTo>
                          <a:pt x="1280" y="919"/>
                        </a:lnTo>
                        <a:lnTo>
                          <a:pt x="1284" y="903"/>
                        </a:lnTo>
                        <a:lnTo>
                          <a:pt x="1286" y="895"/>
                        </a:lnTo>
                        <a:lnTo>
                          <a:pt x="1290" y="888"/>
                        </a:lnTo>
                        <a:lnTo>
                          <a:pt x="1294" y="872"/>
                        </a:lnTo>
                        <a:lnTo>
                          <a:pt x="1297" y="864"/>
                        </a:lnTo>
                        <a:lnTo>
                          <a:pt x="1300" y="857"/>
                        </a:lnTo>
                        <a:lnTo>
                          <a:pt x="1308" y="826"/>
                        </a:lnTo>
                        <a:lnTo>
                          <a:pt x="1311" y="810"/>
                        </a:lnTo>
                        <a:lnTo>
                          <a:pt x="1316" y="795"/>
                        </a:lnTo>
                        <a:lnTo>
                          <a:pt x="1320" y="762"/>
                        </a:lnTo>
                        <a:lnTo>
                          <a:pt x="1325" y="730"/>
                        </a:lnTo>
                        <a:lnTo>
                          <a:pt x="1327" y="696"/>
                        </a:lnTo>
                        <a:lnTo>
                          <a:pt x="1327" y="679"/>
                        </a:lnTo>
                        <a:lnTo>
                          <a:pt x="1328" y="664"/>
                        </a:lnTo>
                        <a:lnTo>
                          <a:pt x="1327" y="628"/>
                        </a:lnTo>
                        <a:lnTo>
                          <a:pt x="1325" y="596"/>
                        </a:lnTo>
                        <a:lnTo>
                          <a:pt x="1316" y="531"/>
                        </a:lnTo>
                        <a:lnTo>
                          <a:pt x="1300" y="469"/>
                        </a:lnTo>
                        <a:lnTo>
                          <a:pt x="1280" y="409"/>
                        </a:lnTo>
                        <a:lnTo>
                          <a:pt x="1266" y="379"/>
                        </a:lnTo>
                        <a:lnTo>
                          <a:pt x="1251" y="351"/>
                        </a:lnTo>
                        <a:lnTo>
                          <a:pt x="1235" y="322"/>
                        </a:lnTo>
                        <a:lnTo>
                          <a:pt x="1218" y="296"/>
                        </a:lnTo>
                        <a:lnTo>
                          <a:pt x="1199" y="269"/>
                        </a:lnTo>
                        <a:lnTo>
                          <a:pt x="1179" y="243"/>
                        </a:lnTo>
                        <a:lnTo>
                          <a:pt x="1133" y="194"/>
                        </a:lnTo>
                        <a:lnTo>
                          <a:pt x="1107" y="169"/>
                        </a:lnTo>
                        <a:lnTo>
                          <a:pt x="1082" y="148"/>
                        </a:lnTo>
                        <a:lnTo>
                          <a:pt x="1056" y="126"/>
                        </a:lnTo>
                        <a:lnTo>
                          <a:pt x="1030" y="108"/>
                        </a:lnTo>
                        <a:lnTo>
                          <a:pt x="1002" y="90"/>
                        </a:lnTo>
                        <a:lnTo>
                          <a:pt x="975" y="74"/>
                        </a:lnTo>
                        <a:lnTo>
                          <a:pt x="946" y="59"/>
                        </a:lnTo>
                        <a:lnTo>
                          <a:pt x="918" y="48"/>
                        </a:lnTo>
                        <a:lnTo>
                          <a:pt x="887" y="36"/>
                        </a:lnTo>
                        <a:lnTo>
                          <a:pt x="858" y="27"/>
                        </a:lnTo>
                        <a:lnTo>
                          <a:pt x="826" y="17"/>
                        </a:lnTo>
                        <a:lnTo>
                          <a:pt x="795" y="12"/>
                        </a:lnTo>
                        <a:lnTo>
                          <a:pt x="762" y="6"/>
                        </a:lnTo>
                        <a:lnTo>
                          <a:pt x="731" y="3"/>
                        </a:lnTo>
                        <a:lnTo>
                          <a:pt x="697" y="0"/>
                        </a:lnTo>
                        <a:lnTo>
                          <a:pt x="66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7556400" y="4358160"/>
                    <a:ext cx="154800" cy="38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7561440" y="4363200"/>
                    <a:ext cx="144720" cy="288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7687440" y="5616720"/>
                    <a:ext cx="14580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75" h="530">
                        <a:moveTo>
                          <a:pt x="115" y="46"/>
                        </a:moveTo>
                        <a:lnTo>
                          <a:pt x="134" y="26"/>
                        </a:lnTo>
                        <a:lnTo>
                          <a:pt x="158" y="12"/>
                        </a:lnTo>
                        <a:lnTo>
                          <a:pt x="108" y="0"/>
                        </a:lnTo>
                        <a:lnTo>
                          <a:pt x="88" y="19"/>
                        </a:lnTo>
                        <a:lnTo>
                          <a:pt x="66" y="41"/>
                        </a:lnTo>
                        <a:lnTo>
                          <a:pt x="48" y="65"/>
                        </a:lnTo>
                        <a:lnTo>
                          <a:pt x="33" y="89"/>
                        </a:lnTo>
                        <a:lnTo>
                          <a:pt x="22" y="115"/>
                        </a:lnTo>
                        <a:lnTo>
                          <a:pt x="12" y="141"/>
                        </a:lnTo>
                        <a:lnTo>
                          <a:pt x="5" y="169"/>
                        </a:lnTo>
                        <a:lnTo>
                          <a:pt x="1" y="199"/>
                        </a:lnTo>
                        <a:lnTo>
                          <a:pt x="0" y="230"/>
                        </a:lnTo>
                        <a:lnTo>
                          <a:pt x="1" y="260"/>
                        </a:lnTo>
                        <a:lnTo>
                          <a:pt x="5" y="289"/>
                        </a:lnTo>
                        <a:lnTo>
                          <a:pt x="7" y="303"/>
                        </a:lnTo>
                        <a:lnTo>
                          <a:pt x="12" y="318"/>
                        </a:lnTo>
                        <a:lnTo>
                          <a:pt x="22" y="345"/>
                        </a:lnTo>
                        <a:lnTo>
                          <a:pt x="33" y="370"/>
                        </a:lnTo>
                        <a:lnTo>
                          <a:pt x="48" y="395"/>
                        </a:lnTo>
                        <a:lnTo>
                          <a:pt x="56" y="406"/>
                        </a:lnTo>
                        <a:lnTo>
                          <a:pt x="66" y="418"/>
                        </a:lnTo>
                        <a:lnTo>
                          <a:pt x="88" y="442"/>
                        </a:lnTo>
                        <a:lnTo>
                          <a:pt x="109" y="462"/>
                        </a:lnTo>
                        <a:lnTo>
                          <a:pt x="133" y="480"/>
                        </a:lnTo>
                        <a:lnTo>
                          <a:pt x="157" y="494"/>
                        </a:lnTo>
                        <a:lnTo>
                          <a:pt x="183" y="507"/>
                        </a:lnTo>
                        <a:lnTo>
                          <a:pt x="209" y="516"/>
                        </a:lnTo>
                        <a:lnTo>
                          <a:pt x="237" y="524"/>
                        </a:lnTo>
                        <a:lnTo>
                          <a:pt x="267" y="527"/>
                        </a:lnTo>
                        <a:lnTo>
                          <a:pt x="299" y="530"/>
                        </a:lnTo>
                        <a:lnTo>
                          <a:pt x="328" y="527"/>
                        </a:lnTo>
                        <a:lnTo>
                          <a:pt x="358" y="524"/>
                        </a:lnTo>
                        <a:lnTo>
                          <a:pt x="371" y="519"/>
                        </a:lnTo>
                        <a:lnTo>
                          <a:pt x="378" y="517"/>
                        </a:lnTo>
                        <a:lnTo>
                          <a:pt x="379" y="516"/>
                        </a:lnTo>
                        <a:lnTo>
                          <a:pt x="381" y="516"/>
                        </a:lnTo>
                        <a:lnTo>
                          <a:pt x="386" y="516"/>
                        </a:lnTo>
                        <a:lnTo>
                          <a:pt x="413" y="507"/>
                        </a:lnTo>
                        <a:lnTo>
                          <a:pt x="438" y="494"/>
                        </a:lnTo>
                        <a:lnTo>
                          <a:pt x="463" y="480"/>
                        </a:lnTo>
                        <a:lnTo>
                          <a:pt x="474" y="471"/>
                        </a:lnTo>
                        <a:lnTo>
                          <a:pt x="487" y="462"/>
                        </a:lnTo>
                        <a:lnTo>
                          <a:pt x="498" y="451"/>
                        </a:lnTo>
                        <a:lnTo>
                          <a:pt x="511" y="442"/>
                        </a:lnTo>
                        <a:lnTo>
                          <a:pt x="530" y="420"/>
                        </a:lnTo>
                        <a:lnTo>
                          <a:pt x="548" y="397"/>
                        </a:lnTo>
                        <a:lnTo>
                          <a:pt x="563" y="372"/>
                        </a:lnTo>
                        <a:lnTo>
                          <a:pt x="575" y="347"/>
                        </a:lnTo>
                        <a:lnTo>
                          <a:pt x="563" y="324"/>
                        </a:lnTo>
                        <a:lnTo>
                          <a:pt x="550" y="304"/>
                        </a:lnTo>
                        <a:lnTo>
                          <a:pt x="539" y="333"/>
                        </a:lnTo>
                        <a:lnTo>
                          <a:pt x="531" y="347"/>
                        </a:lnTo>
                        <a:lnTo>
                          <a:pt x="524" y="362"/>
                        </a:lnTo>
                        <a:lnTo>
                          <a:pt x="506" y="389"/>
                        </a:lnTo>
                        <a:lnTo>
                          <a:pt x="495" y="401"/>
                        </a:lnTo>
                        <a:lnTo>
                          <a:pt x="483" y="415"/>
                        </a:lnTo>
                        <a:lnTo>
                          <a:pt x="463" y="432"/>
                        </a:lnTo>
                        <a:lnTo>
                          <a:pt x="443" y="448"/>
                        </a:lnTo>
                        <a:lnTo>
                          <a:pt x="420" y="460"/>
                        </a:lnTo>
                        <a:lnTo>
                          <a:pt x="409" y="466"/>
                        </a:lnTo>
                        <a:lnTo>
                          <a:pt x="398" y="473"/>
                        </a:lnTo>
                        <a:lnTo>
                          <a:pt x="392" y="474"/>
                        </a:lnTo>
                        <a:lnTo>
                          <a:pt x="386" y="476"/>
                        </a:lnTo>
                        <a:lnTo>
                          <a:pt x="375" y="481"/>
                        </a:lnTo>
                        <a:lnTo>
                          <a:pt x="362" y="483"/>
                        </a:lnTo>
                        <a:lnTo>
                          <a:pt x="351" y="486"/>
                        </a:lnTo>
                        <a:lnTo>
                          <a:pt x="337" y="488"/>
                        </a:lnTo>
                        <a:lnTo>
                          <a:pt x="325" y="490"/>
                        </a:lnTo>
                        <a:lnTo>
                          <a:pt x="311" y="491"/>
                        </a:lnTo>
                        <a:lnTo>
                          <a:pt x="304" y="491"/>
                        </a:lnTo>
                        <a:lnTo>
                          <a:pt x="301" y="491"/>
                        </a:lnTo>
                        <a:lnTo>
                          <a:pt x="299" y="492"/>
                        </a:lnTo>
                        <a:lnTo>
                          <a:pt x="271" y="490"/>
                        </a:lnTo>
                        <a:lnTo>
                          <a:pt x="245" y="486"/>
                        </a:lnTo>
                        <a:lnTo>
                          <a:pt x="220" y="481"/>
                        </a:lnTo>
                        <a:lnTo>
                          <a:pt x="198" y="473"/>
                        </a:lnTo>
                        <a:lnTo>
                          <a:pt x="175" y="460"/>
                        </a:lnTo>
                        <a:lnTo>
                          <a:pt x="153" y="448"/>
                        </a:lnTo>
                        <a:lnTo>
                          <a:pt x="133" y="432"/>
                        </a:lnTo>
                        <a:lnTo>
                          <a:pt x="115" y="415"/>
                        </a:lnTo>
                        <a:lnTo>
                          <a:pt x="96" y="395"/>
                        </a:lnTo>
                        <a:lnTo>
                          <a:pt x="81" y="374"/>
                        </a:lnTo>
                        <a:lnTo>
                          <a:pt x="67" y="352"/>
                        </a:lnTo>
                        <a:lnTo>
                          <a:pt x="57" y="330"/>
                        </a:lnTo>
                        <a:lnTo>
                          <a:pt x="51" y="318"/>
                        </a:lnTo>
                        <a:lnTo>
                          <a:pt x="48" y="306"/>
                        </a:lnTo>
                        <a:lnTo>
                          <a:pt x="42" y="282"/>
                        </a:lnTo>
                        <a:lnTo>
                          <a:pt x="39" y="256"/>
                        </a:lnTo>
                        <a:lnTo>
                          <a:pt x="38" y="230"/>
                        </a:lnTo>
                        <a:lnTo>
                          <a:pt x="39" y="203"/>
                        </a:lnTo>
                        <a:lnTo>
                          <a:pt x="42" y="177"/>
                        </a:lnTo>
                        <a:lnTo>
                          <a:pt x="48" y="152"/>
                        </a:lnTo>
                        <a:lnTo>
                          <a:pt x="57" y="129"/>
                        </a:lnTo>
                        <a:lnTo>
                          <a:pt x="67" y="107"/>
                        </a:lnTo>
                        <a:lnTo>
                          <a:pt x="81" y="85"/>
                        </a:lnTo>
                        <a:lnTo>
                          <a:pt x="96" y="65"/>
                        </a:lnTo>
                        <a:lnTo>
                          <a:pt x="115" y="46"/>
                        </a:lnTo>
                        <a:close/>
                      </a:path>
                    </a:pathLst>
                  </a:custGeom>
                  <a:solidFill>
                    <a:srgbClr val="00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7696440" y="5619960"/>
                    <a:ext cx="1303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480">
                        <a:moveTo>
                          <a:pt x="120" y="0"/>
                        </a:moveTo>
                        <a:lnTo>
                          <a:pt x="96" y="14"/>
                        </a:lnTo>
                        <a:lnTo>
                          <a:pt x="77" y="34"/>
                        </a:lnTo>
                        <a:lnTo>
                          <a:pt x="58" y="53"/>
                        </a:lnTo>
                        <a:lnTo>
                          <a:pt x="43" y="73"/>
                        </a:lnTo>
                        <a:lnTo>
                          <a:pt x="29" y="95"/>
                        </a:lnTo>
                        <a:lnTo>
                          <a:pt x="19" y="117"/>
                        </a:lnTo>
                        <a:lnTo>
                          <a:pt x="10" y="140"/>
                        </a:lnTo>
                        <a:lnTo>
                          <a:pt x="4" y="165"/>
                        </a:lnTo>
                        <a:lnTo>
                          <a:pt x="1" y="191"/>
                        </a:lnTo>
                        <a:lnTo>
                          <a:pt x="0" y="218"/>
                        </a:lnTo>
                        <a:lnTo>
                          <a:pt x="1" y="244"/>
                        </a:lnTo>
                        <a:lnTo>
                          <a:pt x="4" y="270"/>
                        </a:lnTo>
                        <a:lnTo>
                          <a:pt x="10" y="294"/>
                        </a:lnTo>
                        <a:lnTo>
                          <a:pt x="13" y="306"/>
                        </a:lnTo>
                        <a:lnTo>
                          <a:pt x="19" y="318"/>
                        </a:lnTo>
                        <a:lnTo>
                          <a:pt x="29" y="340"/>
                        </a:lnTo>
                        <a:lnTo>
                          <a:pt x="43" y="362"/>
                        </a:lnTo>
                        <a:lnTo>
                          <a:pt x="58" y="383"/>
                        </a:lnTo>
                        <a:lnTo>
                          <a:pt x="77" y="403"/>
                        </a:lnTo>
                        <a:lnTo>
                          <a:pt x="95" y="420"/>
                        </a:lnTo>
                        <a:lnTo>
                          <a:pt x="115" y="436"/>
                        </a:lnTo>
                        <a:lnTo>
                          <a:pt x="137" y="448"/>
                        </a:lnTo>
                        <a:lnTo>
                          <a:pt x="160" y="461"/>
                        </a:lnTo>
                        <a:lnTo>
                          <a:pt x="182" y="469"/>
                        </a:lnTo>
                        <a:lnTo>
                          <a:pt x="207" y="474"/>
                        </a:lnTo>
                        <a:lnTo>
                          <a:pt x="233" y="478"/>
                        </a:lnTo>
                        <a:lnTo>
                          <a:pt x="261" y="480"/>
                        </a:lnTo>
                        <a:lnTo>
                          <a:pt x="263" y="479"/>
                        </a:lnTo>
                        <a:lnTo>
                          <a:pt x="266" y="479"/>
                        </a:lnTo>
                        <a:lnTo>
                          <a:pt x="273" y="479"/>
                        </a:lnTo>
                        <a:lnTo>
                          <a:pt x="287" y="478"/>
                        </a:lnTo>
                        <a:lnTo>
                          <a:pt x="299" y="476"/>
                        </a:lnTo>
                        <a:lnTo>
                          <a:pt x="313" y="474"/>
                        </a:lnTo>
                        <a:lnTo>
                          <a:pt x="324" y="471"/>
                        </a:lnTo>
                        <a:lnTo>
                          <a:pt x="337" y="469"/>
                        </a:lnTo>
                        <a:lnTo>
                          <a:pt x="348" y="464"/>
                        </a:lnTo>
                        <a:lnTo>
                          <a:pt x="354" y="462"/>
                        </a:lnTo>
                        <a:lnTo>
                          <a:pt x="360" y="461"/>
                        </a:lnTo>
                        <a:lnTo>
                          <a:pt x="371" y="454"/>
                        </a:lnTo>
                        <a:lnTo>
                          <a:pt x="382" y="448"/>
                        </a:lnTo>
                        <a:lnTo>
                          <a:pt x="405" y="436"/>
                        </a:lnTo>
                        <a:lnTo>
                          <a:pt x="425" y="420"/>
                        </a:lnTo>
                        <a:lnTo>
                          <a:pt x="445" y="403"/>
                        </a:lnTo>
                        <a:lnTo>
                          <a:pt x="457" y="389"/>
                        </a:lnTo>
                        <a:lnTo>
                          <a:pt x="468" y="377"/>
                        </a:lnTo>
                        <a:lnTo>
                          <a:pt x="486" y="350"/>
                        </a:lnTo>
                        <a:lnTo>
                          <a:pt x="493" y="335"/>
                        </a:lnTo>
                        <a:lnTo>
                          <a:pt x="501" y="321"/>
                        </a:lnTo>
                        <a:lnTo>
                          <a:pt x="512" y="292"/>
                        </a:lnTo>
                        <a:lnTo>
                          <a:pt x="484" y="249"/>
                        </a:lnTo>
                        <a:lnTo>
                          <a:pt x="482" y="257"/>
                        </a:lnTo>
                        <a:lnTo>
                          <a:pt x="481" y="266"/>
                        </a:lnTo>
                        <a:lnTo>
                          <a:pt x="476" y="284"/>
                        </a:lnTo>
                        <a:lnTo>
                          <a:pt x="469" y="300"/>
                        </a:lnTo>
                        <a:lnTo>
                          <a:pt x="462" y="317"/>
                        </a:lnTo>
                        <a:lnTo>
                          <a:pt x="453" y="332"/>
                        </a:lnTo>
                        <a:lnTo>
                          <a:pt x="443" y="348"/>
                        </a:lnTo>
                        <a:lnTo>
                          <a:pt x="432" y="362"/>
                        </a:lnTo>
                        <a:lnTo>
                          <a:pt x="425" y="369"/>
                        </a:lnTo>
                        <a:lnTo>
                          <a:pt x="423" y="370"/>
                        </a:lnTo>
                        <a:lnTo>
                          <a:pt x="422" y="372"/>
                        </a:lnTo>
                        <a:lnTo>
                          <a:pt x="419" y="377"/>
                        </a:lnTo>
                        <a:lnTo>
                          <a:pt x="401" y="392"/>
                        </a:lnTo>
                        <a:lnTo>
                          <a:pt x="384" y="405"/>
                        </a:lnTo>
                        <a:lnTo>
                          <a:pt x="374" y="410"/>
                        </a:lnTo>
                        <a:lnTo>
                          <a:pt x="365" y="416"/>
                        </a:lnTo>
                        <a:lnTo>
                          <a:pt x="347" y="426"/>
                        </a:lnTo>
                        <a:lnTo>
                          <a:pt x="325" y="433"/>
                        </a:lnTo>
                        <a:lnTo>
                          <a:pt x="305" y="438"/>
                        </a:lnTo>
                        <a:lnTo>
                          <a:pt x="282" y="442"/>
                        </a:lnTo>
                        <a:lnTo>
                          <a:pt x="271" y="442"/>
                        </a:lnTo>
                        <a:lnTo>
                          <a:pt x="265" y="442"/>
                        </a:lnTo>
                        <a:lnTo>
                          <a:pt x="261" y="443"/>
                        </a:lnTo>
                        <a:lnTo>
                          <a:pt x="237" y="442"/>
                        </a:lnTo>
                        <a:lnTo>
                          <a:pt x="215" y="438"/>
                        </a:lnTo>
                        <a:lnTo>
                          <a:pt x="194" y="433"/>
                        </a:lnTo>
                        <a:lnTo>
                          <a:pt x="174" y="426"/>
                        </a:lnTo>
                        <a:lnTo>
                          <a:pt x="155" y="416"/>
                        </a:lnTo>
                        <a:lnTo>
                          <a:pt x="137" y="405"/>
                        </a:lnTo>
                        <a:lnTo>
                          <a:pt x="119" y="392"/>
                        </a:lnTo>
                        <a:lnTo>
                          <a:pt x="103" y="377"/>
                        </a:lnTo>
                        <a:lnTo>
                          <a:pt x="86" y="359"/>
                        </a:lnTo>
                        <a:lnTo>
                          <a:pt x="73" y="342"/>
                        </a:lnTo>
                        <a:lnTo>
                          <a:pt x="61" y="323"/>
                        </a:lnTo>
                        <a:lnTo>
                          <a:pt x="53" y="304"/>
                        </a:lnTo>
                        <a:lnTo>
                          <a:pt x="45" y="283"/>
                        </a:lnTo>
                        <a:lnTo>
                          <a:pt x="41" y="263"/>
                        </a:lnTo>
                        <a:lnTo>
                          <a:pt x="37" y="240"/>
                        </a:lnTo>
                        <a:lnTo>
                          <a:pt x="37" y="218"/>
                        </a:lnTo>
                        <a:lnTo>
                          <a:pt x="37" y="195"/>
                        </a:lnTo>
                        <a:lnTo>
                          <a:pt x="41" y="173"/>
                        </a:lnTo>
                        <a:lnTo>
                          <a:pt x="45" y="151"/>
                        </a:lnTo>
                        <a:lnTo>
                          <a:pt x="53" y="132"/>
                        </a:lnTo>
                        <a:lnTo>
                          <a:pt x="61" y="112"/>
                        </a:lnTo>
                        <a:lnTo>
                          <a:pt x="73" y="94"/>
                        </a:lnTo>
                        <a:lnTo>
                          <a:pt x="86" y="77"/>
                        </a:lnTo>
                        <a:lnTo>
                          <a:pt x="103" y="61"/>
                        </a:lnTo>
                        <a:lnTo>
                          <a:pt x="118" y="46"/>
                        </a:lnTo>
                        <a:lnTo>
                          <a:pt x="134" y="34"/>
                        </a:lnTo>
                        <a:lnTo>
                          <a:pt x="169" y="14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00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7677720" y="5615280"/>
                    <a:ext cx="16092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574">
                        <a:moveTo>
                          <a:pt x="125" y="26"/>
                        </a:moveTo>
                        <a:lnTo>
                          <a:pt x="145" y="7"/>
                        </a:lnTo>
                        <a:lnTo>
                          <a:pt x="97" y="0"/>
                        </a:lnTo>
                        <a:lnTo>
                          <a:pt x="74" y="24"/>
                        </a:lnTo>
                        <a:lnTo>
                          <a:pt x="54" y="51"/>
                        </a:lnTo>
                        <a:lnTo>
                          <a:pt x="37" y="79"/>
                        </a:lnTo>
                        <a:lnTo>
                          <a:pt x="24" y="108"/>
                        </a:lnTo>
                        <a:lnTo>
                          <a:pt x="12" y="138"/>
                        </a:lnTo>
                        <a:lnTo>
                          <a:pt x="6" y="169"/>
                        </a:lnTo>
                        <a:lnTo>
                          <a:pt x="1" y="202"/>
                        </a:lnTo>
                        <a:lnTo>
                          <a:pt x="0" y="237"/>
                        </a:lnTo>
                        <a:lnTo>
                          <a:pt x="1" y="270"/>
                        </a:lnTo>
                        <a:lnTo>
                          <a:pt x="2" y="286"/>
                        </a:lnTo>
                        <a:lnTo>
                          <a:pt x="6" y="303"/>
                        </a:lnTo>
                        <a:lnTo>
                          <a:pt x="12" y="335"/>
                        </a:lnTo>
                        <a:lnTo>
                          <a:pt x="17" y="350"/>
                        </a:lnTo>
                        <a:lnTo>
                          <a:pt x="24" y="365"/>
                        </a:lnTo>
                        <a:lnTo>
                          <a:pt x="29" y="379"/>
                        </a:lnTo>
                        <a:lnTo>
                          <a:pt x="37" y="394"/>
                        </a:lnTo>
                        <a:lnTo>
                          <a:pt x="54" y="422"/>
                        </a:lnTo>
                        <a:lnTo>
                          <a:pt x="75" y="449"/>
                        </a:lnTo>
                        <a:lnTo>
                          <a:pt x="99" y="475"/>
                        </a:lnTo>
                        <a:lnTo>
                          <a:pt x="122" y="497"/>
                        </a:lnTo>
                        <a:lnTo>
                          <a:pt x="150" y="517"/>
                        </a:lnTo>
                        <a:lnTo>
                          <a:pt x="177" y="534"/>
                        </a:lnTo>
                        <a:lnTo>
                          <a:pt x="206" y="549"/>
                        </a:lnTo>
                        <a:lnTo>
                          <a:pt x="236" y="559"/>
                        </a:lnTo>
                        <a:lnTo>
                          <a:pt x="268" y="567"/>
                        </a:lnTo>
                        <a:lnTo>
                          <a:pt x="300" y="572"/>
                        </a:lnTo>
                        <a:lnTo>
                          <a:pt x="336" y="574"/>
                        </a:lnTo>
                        <a:lnTo>
                          <a:pt x="351" y="573"/>
                        </a:lnTo>
                        <a:lnTo>
                          <a:pt x="353" y="572"/>
                        </a:lnTo>
                        <a:lnTo>
                          <a:pt x="355" y="572"/>
                        </a:lnTo>
                        <a:lnTo>
                          <a:pt x="359" y="572"/>
                        </a:lnTo>
                        <a:lnTo>
                          <a:pt x="368" y="572"/>
                        </a:lnTo>
                        <a:lnTo>
                          <a:pt x="384" y="569"/>
                        </a:lnTo>
                        <a:lnTo>
                          <a:pt x="401" y="567"/>
                        </a:lnTo>
                        <a:lnTo>
                          <a:pt x="433" y="559"/>
                        </a:lnTo>
                        <a:lnTo>
                          <a:pt x="440" y="556"/>
                        </a:lnTo>
                        <a:lnTo>
                          <a:pt x="448" y="554"/>
                        </a:lnTo>
                        <a:lnTo>
                          <a:pt x="464" y="549"/>
                        </a:lnTo>
                        <a:lnTo>
                          <a:pt x="477" y="541"/>
                        </a:lnTo>
                        <a:lnTo>
                          <a:pt x="492" y="534"/>
                        </a:lnTo>
                        <a:lnTo>
                          <a:pt x="506" y="525"/>
                        </a:lnTo>
                        <a:lnTo>
                          <a:pt x="512" y="521"/>
                        </a:lnTo>
                        <a:lnTo>
                          <a:pt x="516" y="518"/>
                        </a:lnTo>
                        <a:lnTo>
                          <a:pt x="520" y="517"/>
                        </a:lnTo>
                        <a:lnTo>
                          <a:pt x="548" y="497"/>
                        </a:lnTo>
                        <a:lnTo>
                          <a:pt x="560" y="486"/>
                        </a:lnTo>
                        <a:lnTo>
                          <a:pt x="574" y="475"/>
                        </a:lnTo>
                        <a:lnTo>
                          <a:pt x="574" y="473"/>
                        </a:lnTo>
                        <a:lnTo>
                          <a:pt x="574" y="472"/>
                        </a:lnTo>
                        <a:lnTo>
                          <a:pt x="575" y="472"/>
                        </a:lnTo>
                        <a:lnTo>
                          <a:pt x="577" y="470"/>
                        </a:lnTo>
                        <a:lnTo>
                          <a:pt x="582" y="465"/>
                        </a:lnTo>
                        <a:lnTo>
                          <a:pt x="591" y="456"/>
                        </a:lnTo>
                        <a:lnTo>
                          <a:pt x="607" y="437"/>
                        </a:lnTo>
                        <a:lnTo>
                          <a:pt x="621" y="416"/>
                        </a:lnTo>
                        <a:lnTo>
                          <a:pt x="624" y="411"/>
                        </a:lnTo>
                        <a:lnTo>
                          <a:pt x="627" y="406"/>
                        </a:lnTo>
                        <a:lnTo>
                          <a:pt x="634" y="397"/>
                        </a:lnTo>
                        <a:lnTo>
                          <a:pt x="622" y="374"/>
                        </a:lnTo>
                        <a:lnTo>
                          <a:pt x="612" y="354"/>
                        </a:lnTo>
                        <a:lnTo>
                          <a:pt x="600" y="379"/>
                        </a:lnTo>
                        <a:lnTo>
                          <a:pt x="585" y="404"/>
                        </a:lnTo>
                        <a:lnTo>
                          <a:pt x="567" y="427"/>
                        </a:lnTo>
                        <a:lnTo>
                          <a:pt x="548" y="449"/>
                        </a:lnTo>
                        <a:lnTo>
                          <a:pt x="535" y="458"/>
                        </a:lnTo>
                        <a:lnTo>
                          <a:pt x="524" y="469"/>
                        </a:lnTo>
                        <a:lnTo>
                          <a:pt x="511" y="478"/>
                        </a:lnTo>
                        <a:lnTo>
                          <a:pt x="500" y="487"/>
                        </a:lnTo>
                        <a:lnTo>
                          <a:pt x="475" y="501"/>
                        </a:lnTo>
                        <a:lnTo>
                          <a:pt x="450" y="514"/>
                        </a:lnTo>
                        <a:lnTo>
                          <a:pt x="423" y="523"/>
                        </a:lnTo>
                        <a:lnTo>
                          <a:pt x="418" y="523"/>
                        </a:lnTo>
                        <a:lnTo>
                          <a:pt x="416" y="523"/>
                        </a:lnTo>
                        <a:lnTo>
                          <a:pt x="415" y="524"/>
                        </a:lnTo>
                        <a:lnTo>
                          <a:pt x="408" y="526"/>
                        </a:lnTo>
                        <a:lnTo>
                          <a:pt x="395" y="531"/>
                        </a:lnTo>
                        <a:lnTo>
                          <a:pt x="365" y="534"/>
                        </a:lnTo>
                        <a:lnTo>
                          <a:pt x="336" y="537"/>
                        </a:lnTo>
                        <a:lnTo>
                          <a:pt x="304" y="534"/>
                        </a:lnTo>
                        <a:lnTo>
                          <a:pt x="274" y="531"/>
                        </a:lnTo>
                        <a:lnTo>
                          <a:pt x="246" y="523"/>
                        </a:lnTo>
                        <a:lnTo>
                          <a:pt x="220" y="514"/>
                        </a:lnTo>
                        <a:lnTo>
                          <a:pt x="194" y="501"/>
                        </a:lnTo>
                        <a:lnTo>
                          <a:pt x="170" y="487"/>
                        </a:lnTo>
                        <a:lnTo>
                          <a:pt x="146" y="469"/>
                        </a:lnTo>
                        <a:lnTo>
                          <a:pt x="125" y="449"/>
                        </a:lnTo>
                        <a:lnTo>
                          <a:pt x="103" y="425"/>
                        </a:lnTo>
                        <a:lnTo>
                          <a:pt x="93" y="413"/>
                        </a:lnTo>
                        <a:lnTo>
                          <a:pt x="85" y="402"/>
                        </a:lnTo>
                        <a:lnTo>
                          <a:pt x="70" y="377"/>
                        </a:lnTo>
                        <a:lnTo>
                          <a:pt x="59" y="352"/>
                        </a:lnTo>
                        <a:lnTo>
                          <a:pt x="49" y="325"/>
                        </a:lnTo>
                        <a:lnTo>
                          <a:pt x="44" y="310"/>
                        </a:lnTo>
                        <a:lnTo>
                          <a:pt x="42" y="296"/>
                        </a:lnTo>
                        <a:lnTo>
                          <a:pt x="38" y="267"/>
                        </a:lnTo>
                        <a:lnTo>
                          <a:pt x="37" y="237"/>
                        </a:lnTo>
                        <a:lnTo>
                          <a:pt x="38" y="206"/>
                        </a:lnTo>
                        <a:lnTo>
                          <a:pt x="42" y="176"/>
                        </a:lnTo>
                        <a:lnTo>
                          <a:pt x="49" y="148"/>
                        </a:lnTo>
                        <a:lnTo>
                          <a:pt x="59" y="122"/>
                        </a:lnTo>
                        <a:lnTo>
                          <a:pt x="70" y="96"/>
                        </a:lnTo>
                        <a:lnTo>
                          <a:pt x="85" y="72"/>
                        </a:lnTo>
                        <a:lnTo>
                          <a:pt x="103" y="48"/>
                        </a:lnTo>
                        <a:lnTo>
                          <a:pt x="125" y="26"/>
                        </a:lnTo>
                        <a:close/>
                      </a:path>
                    </a:pathLst>
                  </a:custGeom>
                  <a:solidFill>
                    <a:srgbClr val="00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7659000" y="5614200"/>
                    <a:ext cx="18720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652">
                        <a:moveTo>
                          <a:pt x="96" y="0"/>
                        </a:moveTo>
                        <a:lnTo>
                          <a:pt x="77" y="0"/>
                        </a:lnTo>
                        <a:lnTo>
                          <a:pt x="58" y="26"/>
                        </a:lnTo>
                        <a:lnTo>
                          <a:pt x="43" y="53"/>
                        </a:lnTo>
                        <a:lnTo>
                          <a:pt x="30" y="82"/>
                        </a:lnTo>
                        <a:lnTo>
                          <a:pt x="19" y="112"/>
                        </a:lnTo>
                        <a:lnTo>
                          <a:pt x="10" y="142"/>
                        </a:lnTo>
                        <a:lnTo>
                          <a:pt x="5" y="173"/>
                        </a:lnTo>
                        <a:lnTo>
                          <a:pt x="1" y="206"/>
                        </a:lnTo>
                        <a:lnTo>
                          <a:pt x="0" y="240"/>
                        </a:lnTo>
                        <a:lnTo>
                          <a:pt x="1" y="281"/>
                        </a:lnTo>
                        <a:lnTo>
                          <a:pt x="7" y="322"/>
                        </a:lnTo>
                        <a:lnTo>
                          <a:pt x="16" y="360"/>
                        </a:lnTo>
                        <a:lnTo>
                          <a:pt x="22" y="379"/>
                        </a:lnTo>
                        <a:lnTo>
                          <a:pt x="30" y="398"/>
                        </a:lnTo>
                        <a:lnTo>
                          <a:pt x="36" y="415"/>
                        </a:lnTo>
                        <a:lnTo>
                          <a:pt x="45" y="433"/>
                        </a:lnTo>
                        <a:lnTo>
                          <a:pt x="67" y="467"/>
                        </a:lnTo>
                        <a:lnTo>
                          <a:pt x="91" y="500"/>
                        </a:lnTo>
                        <a:lnTo>
                          <a:pt x="120" y="532"/>
                        </a:lnTo>
                        <a:lnTo>
                          <a:pt x="150" y="559"/>
                        </a:lnTo>
                        <a:lnTo>
                          <a:pt x="183" y="584"/>
                        </a:lnTo>
                        <a:lnTo>
                          <a:pt x="217" y="604"/>
                        </a:lnTo>
                        <a:lnTo>
                          <a:pt x="253" y="621"/>
                        </a:lnTo>
                        <a:lnTo>
                          <a:pt x="289" y="634"/>
                        </a:lnTo>
                        <a:lnTo>
                          <a:pt x="328" y="644"/>
                        </a:lnTo>
                        <a:lnTo>
                          <a:pt x="367" y="649"/>
                        </a:lnTo>
                        <a:lnTo>
                          <a:pt x="411" y="652"/>
                        </a:lnTo>
                        <a:lnTo>
                          <a:pt x="451" y="649"/>
                        </a:lnTo>
                        <a:lnTo>
                          <a:pt x="492" y="644"/>
                        </a:lnTo>
                        <a:lnTo>
                          <a:pt x="531" y="634"/>
                        </a:lnTo>
                        <a:lnTo>
                          <a:pt x="549" y="627"/>
                        </a:lnTo>
                        <a:lnTo>
                          <a:pt x="558" y="623"/>
                        </a:lnTo>
                        <a:lnTo>
                          <a:pt x="568" y="621"/>
                        </a:lnTo>
                        <a:lnTo>
                          <a:pt x="585" y="612"/>
                        </a:lnTo>
                        <a:lnTo>
                          <a:pt x="603" y="604"/>
                        </a:lnTo>
                        <a:lnTo>
                          <a:pt x="637" y="584"/>
                        </a:lnTo>
                        <a:lnTo>
                          <a:pt x="653" y="571"/>
                        </a:lnTo>
                        <a:lnTo>
                          <a:pt x="661" y="564"/>
                        </a:lnTo>
                        <a:lnTo>
                          <a:pt x="670" y="559"/>
                        </a:lnTo>
                        <a:lnTo>
                          <a:pt x="702" y="532"/>
                        </a:lnTo>
                        <a:lnTo>
                          <a:pt x="711" y="520"/>
                        </a:lnTo>
                        <a:lnTo>
                          <a:pt x="716" y="515"/>
                        </a:lnTo>
                        <a:lnTo>
                          <a:pt x="721" y="510"/>
                        </a:lnTo>
                        <a:lnTo>
                          <a:pt x="739" y="490"/>
                        </a:lnTo>
                        <a:lnTo>
                          <a:pt x="726" y="443"/>
                        </a:lnTo>
                        <a:lnTo>
                          <a:pt x="719" y="450"/>
                        </a:lnTo>
                        <a:lnTo>
                          <a:pt x="717" y="451"/>
                        </a:lnTo>
                        <a:lnTo>
                          <a:pt x="716" y="453"/>
                        </a:lnTo>
                        <a:lnTo>
                          <a:pt x="713" y="458"/>
                        </a:lnTo>
                        <a:lnTo>
                          <a:pt x="702" y="474"/>
                        </a:lnTo>
                        <a:lnTo>
                          <a:pt x="688" y="489"/>
                        </a:lnTo>
                        <a:lnTo>
                          <a:pt x="675" y="504"/>
                        </a:lnTo>
                        <a:lnTo>
                          <a:pt x="670" y="507"/>
                        </a:lnTo>
                        <a:lnTo>
                          <a:pt x="668" y="508"/>
                        </a:lnTo>
                        <a:lnTo>
                          <a:pt x="667" y="510"/>
                        </a:lnTo>
                        <a:lnTo>
                          <a:pt x="660" y="517"/>
                        </a:lnTo>
                        <a:lnTo>
                          <a:pt x="646" y="529"/>
                        </a:lnTo>
                        <a:lnTo>
                          <a:pt x="617" y="552"/>
                        </a:lnTo>
                        <a:lnTo>
                          <a:pt x="585" y="570"/>
                        </a:lnTo>
                        <a:lnTo>
                          <a:pt x="553" y="586"/>
                        </a:lnTo>
                        <a:lnTo>
                          <a:pt x="519" y="597"/>
                        </a:lnTo>
                        <a:lnTo>
                          <a:pt x="501" y="602"/>
                        </a:lnTo>
                        <a:lnTo>
                          <a:pt x="484" y="606"/>
                        </a:lnTo>
                        <a:lnTo>
                          <a:pt x="448" y="612"/>
                        </a:lnTo>
                        <a:lnTo>
                          <a:pt x="438" y="612"/>
                        </a:lnTo>
                        <a:lnTo>
                          <a:pt x="429" y="613"/>
                        </a:lnTo>
                        <a:lnTo>
                          <a:pt x="411" y="614"/>
                        </a:lnTo>
                        <a:lnTo>
                          <a:pt x="372" y="612"/>
                        </a:lnTo>
                        <a:lnTo>
                          <a:pt x="336" y="606"/>
                        </a:lnTo>
                        <a:lnTo>
                          <a:pt x="301" y="597"/>
                        </a:lnTo>
                        <a:lnTo>
                          <a:pt x="268" y="586"/>
                        </a:lnTo>
                        <a:lnTo>
                          <a:pt x="235" y="570"/>
                        </a:lnTo>
                        <a:lnTo>
                          <a:pt x="204" y="552"/>
                        </a:lnTo>
                        <a:lnTo>
                          <a:pt x="175" y="529"/>
                        </a:lnTo>
                        <a:lnTo>
                          <a:pt x="147" y="504"/>
                        </a:lnTo>
                        <a:lnTo>
                          <a:pt x="133" y="490"/>
                        </a:lnTo>
                        <a:lnTo>
                          <a:pt x="120" y="476"/>
                        </a:lnTo>
                        <a:lnTo>
                          <a:pt x="99" y="447"/>
                        </a:lnTo>
                        <a:lnTo>
                          <a:pt x="79" y="415"/>
                        </a:lnTo>
                        <a:lnTo>
                          <a:pt x="65" y="383"/>
                        </a:lnTo>
                        <a:lnTo>
                          <a:pt x="52" y="349"/>
                        </a:lnTo>
                        <a:lnTo>
                          <a:pt x="44" y="314"/>
                        </a:lnTo>
                        <a:lnTo>
                          <a:pt x="39" y="278"/>
                        </a:lnTo>
                        <a:lnTo>
                          <a:pt x="37" y="240"/>
                        </a:lnTo>
                        <a:lnTo>
                          <a:pt x="39" y="205"/>
                        </a:lnTo>
                        <a:lnTo>
                          <a:pt x="42" y="172"/>
                        </a:lnTo>
                        <a:lnTo>
                          <a:pt x="49" y="141"/>
                        </a:lnTo>
                        <a:lnTo>
                          <a:pt x="59" y="111"/>
                        </a:lnTo>
                        <a:lnTo>
                          <a:pt x="70" y="80"/>
                        </a:lnTo>
                        <a:lnTo>
                          <a:pt x="85" y="52"/>
                        </a:lnTo>
                        <a:lnTo>
                          <a:pt x="103" y="25"/>
                        </a:lnTo>
                        <a:lnTo>
                          <a:pt x="125" y="0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00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7668000" y="5614200"/>
                    <a:ext cx="17460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614">
                        <a:moveTo>
                          <a:pt x="135" y="3"/>
                        </a:moveTo>
                        <a:lnTo>
                          <a:pt x="88" y="0"/>
                        </a:lnTo>
                        <a:lnTo>
                          <a:pt x="66" y="25"/>
                        </a:lnTo>
                        <a:lnTo>
                          <a:pt x="48" y="52"/>
                        </a:lnTo>
                        <a:lnTo>
                          <a:pt x="33" y="80"/>
                        </a:lnTo>
                        <a:lnTo>
                          <a:pt x="22" y="111"/>
                        </a:lnTo>
                        <a:lnTo>
                          <a:pt x="12" y="141"/>
                        </a:lnTo>
                        <a:lnTo>
                          <a:pt x="5" y="172"/>
                        </a:lnTo>
                        <a:lnTo>
                          <a:pt x="2" y="205"/>
                        </a:lnTo>
                        <a:lnTo>
                          <a:pt x="0" y="240"/>
                        </a:lnTo>
                        <a:lnTo>
                          <a:pt x="2" y="278"/>
                        </a:lnTo>
                        <a:lnTo>
                          <a:pt x="7" y="314"/>
                        </a:lnTo>
                        <a:lnTo>
                          <a:pt x="15" y="349"/>
                        </a:lnTo>
                        <a:lnTo>
                          <a:pt x="28" y="383"/>
                        </a:lnTo>
                        <a:lnTo>
                          <a:pt x="42" y="415"/>
                        </a:lnTo>
                        <a:lnTo>
                          <a:pt x="62" y="447"/>
                        </a:lnTo>
                        <a:lnTo>
                          <a:pt x="83" y="476"/>
                        </a:lnTo>
                        <a:lnTo>
                          <a:pt x="96" y="490"/>
                        </a:lnTo>
                        <a:lnTo>
                          <a:pt x="110" y="504"/>
                        </a:lnTo>
                        <a:lnTo>
                          <a:pt x="138" y="529"/>
                        </a:lnTo>
                        <a:lnTo>
                          <a:pt x="167" y="552"/>
                        </a:lnTo>
                        <a:lnTo>
                          <a:pt x="198" y="570"/>
                        </a:lnTo>
                        <a:lnTo>
                          <a:pt x="231" y="586"/>
                        </a:lnTo>
                        <a:lnTo>
                          <a:pt x="264" y="597"/>
                        </a:lnTo>
                        <a:lnTo>
                          <a:pt x="299" y="606"/>
                        </a:lnTo>
                        <a:lnTo>
                          <a:pt x="335" y="612"/>
                        </a:lnTo>
                        <a:lnTo>
                          <a:pt x="374" y="614"/>
                        </a:lnTo>
                        <a:lnTo>
                          <a:pt x="392" y="613"/>
                        </a:lnTo>
                        <a:lnTo>
                          <a:pt x="401" y="612"/>
                        </a:lnTo>
                        <a:lnTo>
                          <a:pt x="411" y="612"/>
                        </a:lnTo>
                        <a:lnTo>
                          <a:pt x="447" y="606"/>
                        </a:lnTo>
                        <a:lnTo>
                          <a:pt x="464" y="602"/>
                        </a:lnTo>
                        <a:lnTo>
                          <a:pt x="482" y="597"/>
                        </a:lnTo>
                        <a:lnTo>
                          <a:pt x="516" y="586"/>
                        </a:lnTo>
                        <a:lnTo>
                          <a:pt x="548" y="570"/>
                        </a:lnTo>
                        <a:lnTo>
                          <a:pt x="580" y="552"/>
                        </a:lnTo>
                        <a:lnTo>
                          <a:pt x="609" y="529"/>
                        </a:lnTo>
                        <a:lnTo>
                          <a:pt x="623" y="517"/>
                        </a:lnTo>
                        <a:lnTo>
                          <a:pt x="630" y="510"/>
                        </a:lnTo>
                        <a:lnTo>
                          <a:pt x="631" y="508"/>
                        </a:lnTo>
                        <a:lnTo>
                          <a:pt x="633" y="507"/>
                        </a:lnTo>
                        <a:lnTo>
                          <a:pt x="638" y="504"/>
                        </a:lnTo>
                        <a:lnTo>
                          <a:pt x="651" y="489"/>
                        </a:lnTo>
                        <a:lnTo>
                          <a:pt x="665" y="474"/>
                        </a:lnTo>
                        <a:lnTo>
                          <a:pt x="676" y="458"/>
                        </a:lnTo>
                        <a:lnTo>
                          <a:pt x="679" y="453"/>
                        </a:lnTo>
                        <a:lnTo>
                          <a:pt x="680" y="451"/>
                        </a:lnTo>
                        <a:lnTo>
                          <a:pt x="682" y="450"/>
                        </a:lnTo>
                        <a:lnTo>
                          <a:pt x="689" y="443"/>
                        </a:lnTo>
                        <a:lnTo>
                          <a:pt x="680" y="421"/>
                        </a:lnTo>
                        <a:lnTo>
                          <a:pt x="672" y="400"/>
                        </a:lnTo>
                        <a:lnTo>
                          <a:pt x="665" y="409"/>
                        </a:lnTo>
                        <a:lnTo>
                          <a:pt x="662" y="414"/>
                        </a:lnTo>
                        <a:lnTo>
                          <a:pt x="659" y="419"/>
                        </a:lnTo>
                        <a:lnTo>
                          <a:pt x="645" y="440"/>
                        </a:lnTo>
                        <a:lnTo>
                          <a:pt x="629" y="459"/>
                        </a:lnTo>
                        <a:lnTo>
                          <a:pt x="620" y="468"/>
                        </a:lnTo>
                        <a:lnTo>
                          <a:pt x="615" y="473"/>
                        </a:lnTo>
                        <a:lnTo>
                          <a:pt x="613" y="475"/>
                        </a:lnTo>
                        <a:lnTo>
                          <a:pt x="612" y="475"/>
                        </a:lnTo>
                        <a:lnTo>
                          <a:pt x="612" y="476"/>
                        </a:lnTo>
                        <a:lnTo>
                          <a:pt x="612" y="478"/>
                        </a:lnTo>
                        <a:lnTo>
                          <a:pt x="598" y="489"/>
                        </a:lnTo>
                        <a:lnTo>
                          <a:pt x="586" y="500"/>
                        </a:lnTo>
                        <a:lnTo>
                          <a:pt x="558" y="520"/>
                        </a:lnTo>
                        <a:lnTo>
                          <a:pt x="554" y="521"/>
                        </a:lnTo>
                        <a:lnTo>
                          <a:pt x="550" y="524"/>
                        </a:lnTo>
                        <a:lnTo>
                          <a:pt x="544" y="528"/>
                        </a:lnTo>
                        <a:lnTo>
                          <a:pt x="530" y="537"/>
                        </a:lnTo>
                        <a:lnTo>
                          <a:pt x="515" y="544"/>
                        </a:lnTo>
                        <a:lnTo>
                          <a:pt x="502" y="552"/>
                        </a:lnTo>
                        <a:lnTo>
                          <a:pt x="486" y="557"/>
                        </a:lnTo>
                        <a:lnTo>
                          <a:pt x="478" y="559"/>
                        </a:lnTo>
                        <a:lnTo>
                          <a:pt x="471" y="562"/>
                        </a:lnTo>
                        <a:lnTo>
                          <a:pt x="439" y="570"/>
                        </a:lnTo>
                        <a:lnTo>
                          <a:pt x="422" y="572"/>
                        </a:lnTo>
                        <a:lnTo>
                          <a:pt x="406" y="575"/>
                        </a:lnTo>
                        <a:lnTo>
                          <a:pt x="397" y="575"/>
                        </a:lnTo>
                        <a:lnTo>
                          <a:pt x="393" y="575"/>
                        </a:lnTo>
                        <a:lnTo>
                          <a:pt x="391" y="575"/>
                        </a:lnTo>
                        <a:lnTo>
                          <a:pt x="389" y="576"/>
                        </a:lnTo>
                        <a:lnTo>
                          <a:pt x="374" y="577"/>
                        </a:lnTo>
                        <a:lnTo>
                          <a:pt x="338" y="575"/>
                        </a:lnTo>
                        <a:lnTo>
                          <a:pt x="306" y="570"/>
                        </a:lnTo>
                        <a:lnTo>
                          <a:pt x="274" y="562"/>
                        </a:lnTo>
                        <a:lnTo>
                          <a:pt x="244" y="552"/>
                        </a:lnTo>
                        <a:lnTo>
                          <a:pt x="215" y="537"/>
                        </a:lnTo>
                        <a:lnTo>
                          <a:pt x="188" y="520"/>
                        </a:lnTo>
                        <a:lnTo>
                          <a:pt x="160" y="500"/>
                        </a:lnTo>
                        <a:lnTo>
                          <a:pt x="137" y="478"/>
                        </a:lnTo>
                        <a:lnTo>
                          <a:pt x="113" y="452"/>
                        </a:lnTo>
                        <a:lnTo>
                          <a:pt x="92" y="425"/>
                        </a:lnTo>
                        <a:lnTo>
                          <a:pt x="75" y="397"/>
                        </a:lnTo>
                        <a:lnTo>
                          <a:pt x="67" y="382"/>
                        </a:lnTo>
                        <a:lnTo>
                          <a:pt x="62" y="368"/>
                        </a:lnTo>
                        <a:lnTo>
                          <a:pt x="55" y="353"/>
                        </a:lnTo>
                        <a:lnTo>
                          <a:pt x="50" y="338"/>
                        </a:lnTo>
                        <a:lnTo>
                          <a:pt x="44" y="306"/>
                        </a:lnTo>
                        <a:lnTo>
                          <a:pt x="40" y="289"/>
                        </a:lnTo>
                        <a:lnTo>
                          <a:pt x="39" y="273"/>
                        </a:lnTo>
                        <a:lnTo>
                          <a:pt x="38" y="240"/>
                        </a:lnTo>
                        <a:lnTo>
                          <a:pt x="39" y="205"/>
                        </a:lnTo>
                        <a:lnTo>
                          <a:pt x="44" y="172"/>
                        </a:lnTo>
                        <a:lnTo>
                          <a:pt x="50" y="141"/>
                        </a:lnTo>
                        <a:lnTo>
                          <a:pt x="62" y="111"/>
                        </a:lnTo>
                        <a:lnTo>
                          <a:pt x="75" y="82"/>
                        </a:lnTo>
                        <a:lnTo>
                          <a:pt x="92" y="54"/>
                        </a:lnTo>
                        <a:lnTo>
                          <a:pt x="112" y="27"/>
                        </a:lnTo>
                        <a:lnTo>
                          <a:pt x="135" y="3"/>
                        </a:lnTo>
                        <a:close/>
                      </a:path>
                    </a:pathLst>
                  </a:custGeom>
                  <a:solidFill>
                    <a:srgbClr val="00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7706160" y="5623200"/>
                    <a:ext cx="113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429">
                        <a:moveTo>
                          <a:pt x="38" y="204"/>
                        </a:moveTo>
                        <a:lnTo>
                          <a:pt x="41" y="167"/>
                        </a:lnTo>
                        <a:lnTo>
                          <a:pt x="44" y="149"/>
                        </a:lnTo>
                        <a:lnTo>
                          <a:pt x="51" y="133"/>
                        </a:lnTo>
                        <a:lnTo>
                          <a:pt x="58" y="116"/>
                        </a:lnTo>
                        <a:lnTo>
                          <a:pt x="68" y="101"/>
                        </a:lnTo>
                        <a:lnTo>
                          <a:pt x="92" y="73"/>
                        </a:lnTo>
                        <a:lnTo>
                          <a:pt x="112" y="54"/>
                        </a:lnTo>
                        <a:lnTo>
                          <a:pt x="135" y="39"/>
                        </a:lnTo>
                        <a:lnTo>
                          <a:pt x="159" y="27"/>
                        </a:lnTo>
                        <a:lnTo>
                          <a:pt x="186" y="22"/>
                        </a:lnTo>
                        <a:lnTo>
                          <a:pt x="132" y="0"/>
                        </a:lnTo>
                        <a:lnTo>
                          <a:pt x="97" y="20"/>
                        </a:lnTo>
                        <a:lnTo>
                          <a:pt x="81" y="32"/>
                        </a:lnTo>
                        <a:lnTo>
                          <a:pt x="66" y="47"/>
                        </a:lnTo>
                        <a:lnTo>
                          <a:pt x="49" y="63"/>
                        </a:lnTo>
                        <a:lnTo>
                          <a:pt x="36" y="80"/>
                        </a:lnTo>
                        <a:lnTo>
                          <a:pt x="24" y="98"/>
                        </a:lnTo>
                        <a:lnTo>
                          <a:pt x="16" y="118"/>
                        </a:lnTo>
                        <a:lnTo>
                          <a:pt x="8" y="137"/>
                        </a:lnTo>
                        <a:lnTo>
                          <a:pt x="4" y="159"/>
                        </a:lnTo>
                        <a:lnTo>
                          <a:pt x="0" y="181"/>
                        </a:lnTo>
                        <a:lnTo>
                          <a:pt x="0" y="204"/>
                        </a:lnTo>
                        <a:lnTo>
                          <a:pt x="0" y="226"/>
                        </a:lnTo>
                        <a:lnTo>
                          <a:pt x="4" y="249"/>
                        </a:lnTo>
                        <a:lnTo>
                          <a:pt x="8" y="269"/>
                        </a:lnTo>
                        <a:lnTo>
                          <a:pt x="16" y="290"/>
                        </a:lnTo>
                        <a:lnTo>
                          <a:pt x="24" y="309"/>
                        </a:lnTo>
                        <a:lnTo>
                          <a:pt x="36" y="328"/>
                        </a:lnTo>
                        <a:lnTo>
                          <a:pt x="49" y="345"/>
                        </a:lnTo>
                        <a:lnTo>
                          <a:pt x="66" y="363"/>
                        </a:lnTo>
                        <a:lnTo>
                          <a:pt x="82" y="378"/>
                        </a:lnTo>
                        <a:lnTo>
                          <a:pt x="100" y="391"/>
                        </a:lnTo>
                        <a:lnTo>
                          <a:pt x="118" y="402"/>
                        </a:lnTo>
                        <a:lnTo>
                          <a:pt x="137" y="412"/>
                        </a:lnTo>
                        <a:lnTo>
                          <a:pt x="157" y="419"/>
                        </a:lnTo>
                        <a:lnTo>
                          <a:pt x="178" y="424"/>
                        </a:lnTo>
                        <a:lnTo>
                          <a:pt x="200" y="428"/>
                        </a:lnTo>
                        <a:lnTo>
                          <a:pt x="224" y="429"/>
                        </a:lnTo>
                        <a:lnTo>
                          <a:pt x="228" y="428"/>
                        </a:lnTo>
                        <a:lnTo>
                          <a:pt x="234" y="428"/>
                        </a:lnTo>
                        <a:lnTo>
                          <a:pt x="245" y="428"/>
                        </a:lnTo>
                        <a:lnTo>
                          <a:pt x="268" y="424"/>
                        </a:lnTo>
                        <a:lnTo>
                          <a:pt x="288" y="419"/>
                        </a:lnTo>
                        <a:lnTo>
                          <a:pt x="310" y="412"/>
                        </a:lnTo>
                        <a:lnTo>
                          <a:pt x="328" y="402"/>
                        </a:lnTo>
                        <a:lnTo>
                          <a:pt x="337" y="396"/>
                        </a:lnTo>
                        <a:lnTo>
                          <a:pt x="347" y="391"/>
                        </a:lnTo>
                        <a:lnTo>
                          <a:pt x="364" y="378"/>
                        </a:lnTo>
                        <a:lnTo>
                          <a:pt x="382" y="363"/>
                        </a:lnTo>
                        <a:lnTo>
                          <a:pt x="385" y="358"/>
                        </a:lnTo>
                        <a:lnTo>
                          <a:pt x="386" y="356"/>
                        </a:lnTo>
                        <a:lnTo>
                          <a:pt x="388" y="355"/>
                        </a:lnTo>
                        <a:lnTo>
                          <a:pt x="395" y="348"/>
                        </a:lnTo>
                        <a:lnTo>
                          <a:pt x="406" y="334"/>
                        </a:lnTo>
                        <a:lnTo>
                          <a:pt x="416" y="318"/>
                        </a:lnTo>
                        <a:lnTo>
                          <a:pt x="425" y="303"/>
                        </a:lnTo>
                        <a:lnTo>
                          <a:pt x="432" y="286"/>
                        </a:lnTo>
                        <a:lnTo>
                          <a:pt x="439" y="270"/>
                        </a:lnTo>
                        <a:lnTo>
                          <a:pt x="444" y="252"/>
                        </a:lnTo>
                        <a:lnTo>
                          <a:pt x="445" y="243"/>
                        </a:lnTo>
                        <a:lnTo>
                          <a:pt x="447" y="235"/>
                        </a:lnTo>
                        <a:lnTo>
                          <a:pt x="411" y="192"/>
                        </a:lnTo>
                        <a:lnTo>
                          <a:pt x="411" y="204"/>
                        </a:lnTo>
                        <a:lnTo>
                          <a:pt x="410" y="222"/>
                        </a:lnTo>
                        <a:lnTo>
                          <a:pt x="407" y="241"/>
                        </a:lnTo>
                        <a:lnTo>
                          <a:pt x="403" y="258"/>
                        </a:lnTo>
                        <a:lnTo>
                          <a:pt x="397" y="276"/>
                        </a:lnTo>
                        <a:lnTo>
                          <a:pt x="393" y="283"/>
                        </a:lnTo>
                        <a:lnTo>
                          <a:pt x="390" y="286"/>
                        </a:lnTo>
                        <a:lnTo>
                          <a:pt x="389" y="290"/>
                        </a:lnTo>
                        <a:lnTo>
                          <a:pt x="380" y="306"/>
                        </a:lnTo>
                        <a:lnTo>
                          <a:pt x="369" y="321"/>
                        </a:lnTo>
                        <a:lnTo>
                          <a:pt x="356" y="337"/>
                        </a:lnTo>
                        <a:lnTo>
                          <a:pt x="340" y="349"/>
                        </a:lnTo>
                        <a:lnTo>
                          <a:pt x="326" y="361"/>
                        </a:lnTo>
                        <a:lnTo>
                          <a:pt x="310" y="370"/>
                        </a:lnTo>
                        <a:lnTo>
                          <a:pt x="305" y="371"/>
                        </a:lnTo>
                        <a:lnTo>
                          <a:pt x="302" y="373"/>
                        </a:lnTo>
                        <a:lnTo>
                          <a:pt x="295" y="378"/>
                        </a:lnTo>
                        <a:lnTo>
                          <a:pt x="277" y="383"/>
                        </a:lnTo>
                        <a:lnTo>
                          <a:pt x="260" y="388"/>
                        </a:lnTo>
                        <a:lnTo>
                          <a:pt x="242" y="390"/>
                        </a:lnTo>
                        <a:lnTo>
                          <a:pt x="224" y="391"/>
                        </a:lnTo>
                        <a:lnTo>
                          <a:pt x="204" y="390"/>
                        </a:lnTo>
                        <a:lnTo>
                          <a:pt x="186" y="388"/>
                        </a:lnTo>
                        <a:lnTo>
                          <a:pt x="168" y="383"/>
                        </a:lnTo>
                        <a:lnTo>
                          <a:pt x="152" y="378"/>
                        </a:lnTo>
                        <a:lnTo>
                          <a:pt x="135" y="370"/>
                        </a:lnTo>
                        <a:lnTo>
                          <a:pt x="120" y="361"/>
                        </a:lnTo>
                        <a:lnTo>
                          <a:pt x="106" y="349"/>
                        </a:lnTo>
                        <a:lnTo>
                          <a:pt x="92" y="337"/>
                        </a:lnTo>
                        <a:lnTo>
                          <a:pt x="78" y="321"/>
                        </a:lnTo>
                        <a:lnTo>
                          <a:pt x="68" y="306"/>
                        </a:lnTo>
                        <a:lnTo>
                          <a:pt x="58" y="290"/>
                        </a:lnTo>
                        <a:lnTo>
                          <a:pt x="51" y="276"/>
                        </a:lnTo>
                        <a:lnTo>
                          <a:pt x="44" y="258"/>
                        </a:lnTo>
                        <a:lnTo>
                          <a:pt x="41" y="241"/>
                        </a:lnTo>
                        <a:lnTo>
                          <a:pt x="38" y="222"/>
                        </a:lnTo>
                        <a:lnTo>
                          <a:pt x="38" y="204"/>
                        </a:lnTo>
                        <a:close/>
                      </a:path>
                    </a:pathLst>
                  </a:custGeom>
                  <a:solidFill>
                    <a:srgbClr val="00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7715880" y="5628960"/>
                    <a:ext cx="94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369">
                        <a:moveTo>
                          <a:pt x="54" y="51"/>
                        </a:moveTo>
                        <a:lnTo>
                          <a:pt x="30" y="79"/>
                        </a:lnTo>
                        <a:lnTo>
                          <a:pt x="20" y="94"/>
                        </a:lnTo>
                        <a:lnTo>
                          <a:pt x="13" y="111"/>
                        </a:lnTo>
                        <a:lnTo>
                          <a:pt x="6" y="127"/>
                        </a:lnTo>
                        <a:lnTo>
                          <a:pt x="3" y="145"/>
                        </a:lnTo>
                        <a:lnTo>
                          <a:pt x="0" y="182"/>
                        </a:lnTo>
                        <a:lnTo>
                          <a:pt x="0" y="200"/>
                        </a:lnTo>
                        <a:lnTo>
                          <a:pt x="3" y="219"/>
                        </a:lnTo>
                        <a:lnTo>
                          <a:pt x="6" y="236"/>
                        </a:lnTo>
                        <a:lnTo>
                          <a:pt x="13" y="254"/>
                        </a:lnTo>
                        <a:lnTo>
                          <a:pt x="20" y="268"/>
                        </a:lnTo>
                        <a:lnTo>
                          <a:pt x="30" y="284"/>
                        </a:lnTo>
                        <a:lnTo>
                          <a:pt x="40" y="299"/>
                        </a:lnTo>
                        <a:lnTo>
                          <a:pt x="54" y="315"/>
                        </a:lnTo>
                        <a:lnTo>
                          <a:pt x="68" y="327"/>
                        </a:lnTo>
                        <a:lnTo>
                          <a:pt x="82" y="339"/>
                        </a:lnTo>
                        <a:lnTo>
                          <a:pt x="97" y="348"/>
                        </a:lnTo>
                        <a:lnTo>
                          <a:pt x="114" y="356"/>
                        </a:lnTo>
                        <a:lnTo>
                          <a:pt x="130" y="361"/>
                        </a:lnTo>
                        <a:lnTo>
                          <a:pt x="148" y="366"/>
                        </a:lnTo>
                        <a:lnTo>
                          <a:pt x="166" y="368"/>
                        </a:lnTo>
                        <a:lnTo>
                          <a:pt x="186" y="369"/>
                        </a:lnTo>
                        <a:lnTo>
                          <a:pt x="204" y="368"/>
                        </a:lnTo>
                        <a:lnTo>
                          <a:pt x="222" y="366"/>
                        </a:lnTo>
                        <a:lnTo>
                          <a:pt x="239" y="361"/>
                        </a:lnTo>
                        <a:lnTo>
                          <a:pt x="257" y="356"/>
                        </a:lnTo>
                        <a:lnTo>
                          <a:pt x="264" y="351"/>
                        </a:lnTo>
                        <a:lnTo>
                          <a:pt x="267" y="349"/>
                        </a:lnTo>
                        <a:lnTo>
                          <a:pt x="272" y="348"/>
                        </a:lnTo>
                        <a:lnTo>
                          <a:pt x="288" y="339"/>
                        </a:lnTo>
                        <a:lnTo>
                          <a:pt x="302" y="327"/>
                        </a:lnTo>
                        <a:lnTo>
                          <a:pt x="318" y="315"/>
                        </a:lnTo>
                        <a:lnTo>
                          <a:pt x="331" y="299"/>
                        </a:lnTo>
                        <a:lnTo>
                          <a:pt x="342" y="284"/>
                        </a:lnTo>
                        <a:lnTo>
                          <a:pt x="351" y="268"/>
                        </a:lnTo>
                        <a:lnTo>
                          <a:pt x="352" y="264"/>
                        </a:lnTo>
                        <a:lnTo>
                          <a:pt x="355" y="261"/>
                        </a:lnTo>
                        <a:lnTo>
                          <a:pt x="359" y="254"/>
                        </a:lnTo>
                        <a:lnTo>
                          <a:pt x="365" y="236"/>
                        </a:lnTo>
                        <a:lnTo>
                          <a:pt x="369" y="219"/>
                        </a:lnTo>
                        <a:lnTo>
                          <a:pt x="372" y="200"/>
                        </a:lnTo>
                        <a:lnTo>
                          <a:pt x="373" y="182"/>
                        </a:lnTo>
                        <a:lnTo>
                          <a:pt x="373" y="170"/>
                        </a:lnTo>
                        <a:lnTo>
                          <a:pt x="341" y="136"/>
                        </a:lnTo>
                        <a:lnTo>
                          <a:pt x="321" y="115"/>
                        </a:lnTo>
                        <a:lnTo>
                          <a:pt x="326" y="130"/>
                        </a:lnTo>
                        <a:lnTo>
                          <a:pt x="331" y="147"/>
                        </a:lnTo>
                        <a:lnTo>
                          <a:pt x="334" y="164"/>
                        </a:lnTo>
                        <a:lnTo>
                          <a:pt x="335" y="182"/>
                        </a:lnTo>
                        <a:lnTo>
                          <a:pt x="334" y="196"/>
                        </a:lnTo>
                        <a:lnTo>
                          <a:pt x="332" y="211"/>
                        </a:lnTo>
                        <a:lnTo>
                          <a:pt x="328" y="224"/>
                        </a:lnTo>
                        <a:lnTo>
                          <a:pt x="324" y="239"/>
                        </a:lnTo>
                        <a:lnTo>
                          <a:pt x="317" y="251"/>
                        </a:lnTo>
                        <a:lnTo>
                          <a:pt x="310" y="264"/>
                        </a:lnTo>
                        <a:lnTo>
                          <a:pt x="301" y="275"/>
                        </a:lnTo>
                        <a:lnTo>
                          <a:pt x="292" y="288"/>
                        </a:lnTo>
                        <a:lnTo>
                          <a:pt x="280" y="297"/>
                        </a:lnTo>
                        <a:lnTo>
                          <a:pt x="268" y="306"/>
                        </a:lnTo>
                        <a:lnTo>
                          <a:pt x="255" y="314"/>
                        </a:lnTo>
                        <a:lnTo>
                          <a:pt x="242" y="321"/>
                        </a:lnTo>
                        <a:lnTo>
                          <a:pt x="228" y="325"/>
                        </a:lnTo>
                        <a:lnTo>
                          <a:pt x="214" y="329"/>
                        </a:lnTo>
                        <a:lnTo>
                          <a:pt x="199" y="331"/>
                        </a:lnTo>
                        <a:lnTo>
                          <a:pt x="186" y="332"/>
                        </a:lnTo>
                        <a:lnTo>
                          <a:pt x="170" y="331"/>
                        </a:lnTo>
                        <a:lnTo>
                          <a:pt x="155" y="329"/>
                        </a:lnTo>
                        <a:lnTo>
                          <a:pt x="141" y="325"/>
                        </a:lnTo>
                        <a:lnTo>
                          <a:pt x="128" y="321"/>
                        </a:lnTo>
                        <a:lnTo>
                          <a:pt x="114" y="314"/>
                        </a:lnTo>
                        <a:lnTo>
                          <a:pt x="102" y="306"/>
                        </a:lnTo>
                        <a:lnTo>
                          <a:pt x="80" y="288"/>
                        </a:lnTo>
                        <a:lnTo>
                          <a:pt x="69" y="275"/>
                        </a:lnTo>
                        <a:lnTo>
                          <a:pt x="61" y="264"/>
                        </a:lnTo>
                        <a:lnTo>
                          <a:pt x="53" y="251"/>
                        </a:lnTo>
                        <a:lnTo>
                          <a:pt x="47" y="239"/>
                        </a:lnTo>
                        <a:lnTo>
                          <a:pt x="42" y="224"/>
                        </a:lnTo>
                        <a:lnTo>
                          <a:pt x="39" y="211"/>
                        </a:lnTo>
                        <a:lnTo>
                          <a:pt x="37" y="196"/>
                        </a:lnTo>
                        <a:lnTo>
                          <a:pt x="37" y="182"/>
                        </a:lnTo>
                        <a:lnTo>
                          <a:pt x="39" y="152"/>
                        </a:lnTo>
                        <a:lnTo>
                          <a:pt x="47" y="125"/>
                        </a:lnTo>
                        <a:lnTo>
                          <a:pt x="61" y="98"/>
                        </a:lnTo>
                        <a:lnTo>
                          <a:pt x="80" y="77"/>
                        </a:lnTo>
                        <a:lnTo>
                          <a:pt x="102" y="58"/>
                        </a:lnTo>
                        <a:lnTo>
                          <a:pt x="128" y="44"/>
                        </a:lnTo>
                        <a:lnTo>
                          <a:pt x="155" y="36"/>
                        </a:lnTo>
                        <a:lnTo>
                          <a:pt x="186" y="34"/>
                        </a:lnTo>
                        <a:lnTo>
                          <a:pt x="200" y="34"/>
                        </a:lnTo>
                        <a:lnTo>
                          <a:pt x="216" y="36"/>
                        </a:lnTo>
                        <a:lnTo>
                          <a:pt x="182" y="17"/>
                        </a:lnTo>
                        <a:lnTo>
                          <a:pt x="148" y="0"/>
                        </a:lnTo>
                        <a:lnTo>
                          <a:pt x="121" y="5"/>
                        </a:lnTo>
                        <a:lnTo>
                          <a:pt x="97" y="17"/>
                        </a:lnTo>
                        <a:lnTo>
                          <a:pt x="74" y="32"/>
                        </a:lnTo>
                        <a:lnTo>
                          <a:pt x="54" y="51"/>
                        </a:lnTo>
                        <a:close/>
                      </a:path>
                    </a:pathLst>
                  </a:custGeom>
                  <a:solidFill>
                    <a:srgbClr val="00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7725600" y="5637600"/>
                    <a:ext cx="7560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298">
                        <a:moveTo>
                          <a:pt x="179" y="2"/>
                        </a:moveTo>
                        <a:lnTo>
                          <a:pt x="163" y="0"/>
                        </a:lnTo>
                        <a:lnTo>
                          <a:pt x="149" y="0"/>
                        </a:lnTo>
                        <a:lnTo>
                          <a:pt x="118" y="2"/>
                        </a:lnTo>
                        <a:lnTo>
                          <a:pt x="91" y="10"/>
                        </a:lnTo>
                        <a:lnTo>
                          <a:pt x="65" y="24"/>
                        </a:lnTo>
                        <a:lnTo>
                          <a:pt x="43" y="43"/>
                        </a:lnTo>
                        <a:lnTo>
                          <a:pt x="24" y="64"/>
                        </a:lnTo>
                        <a:lnTo>
                          <a:pt x="10" y="91"/>
                        </a:lnTo>
                        <a:lnTo>
                          <a:pt x="2" y="118"/>
                        </a:lnTo>
                        <a:lnTo>
                          <a:pt x="0" y="148"/>
                        </a:lnTo>
                        <a:lnTo>
                          <a:pt x="0" y="162"/>
                        </a:lnTo>
                        <a:lnTo>
                          <a:pt x="2" y="177"/>
                        </a:lnTo>
                        <a:lnTo>
                          <a:pt x="5" y="190"/>
                        </a:lnTo>
                        <a:lnTo>
                          <a:pt x="10" y="205"/>
                        </a:lnTo>
                        <a:lnTo>
                          <a:pt x="16" y="217"/>
                        </a:lnTo>
                        <a:lnTo>
                          <a:pt x="24" y="230"/>
                        </a:lnTo>
                        <a:lnTo>
                          <a:pt x="32" y="241"/>
                        </a:lnTo>
                        <a:lnTo>
                          <a:pt x="43" y="254"/>
                        </a:lnTo>
                        <a:lnTo>
                          <a:pt x="65" y="272"/>
                        </a:lnTo>
                        <a:lnTo>
                          <a:pt x="77" y="280"/>
                        </a:lnTo>
                        <a:lnTo>
                          <a:pt x="91" y="287"/>
                        </a:lnTo>
                        <a:lnTo>
                          <a:pt x="104" y="291"/>
                        </a:lnTo>
                        <a:lnTo>
                          <a:pt x="118" y="295"/>
                        </a:lnTo>
                        <a:lnTo>
                          <a:pt x="133" y="297"/>
                        </a:lnTo>
                        <a:lnTo>
                          <a:pt x="149" y="298"/>
                        </a:lnTo>
                        <a:lnTo>
                          <a:pt x="162" y="297"/>
                        </a:lnTo>
                        <a:lnTo>
                          <a:pt x="177" y="295"/>
                        </a:lnTo>
                        <a:lnTo>
                          <a:pt x="191" y="291"/>
                        </a:lnTo>
                        <a:lnTo>
                          <a:pt x="205" y="287"/>
                        </a:lnTo>
                        <a:lnTo>
                          <a:pt x="218" y="280"/>
                        </a:lnTo>
                        <a:lnTo>
                          <a:pt x="231" y="272"/>
                        </a:lnTo>
                        <a:lnTo>
                          <a:pt x="243" y="263"/>
                        </a:lnTo>
                        <a:lnTo>
                          <a:pt x="255" y="254"/>
                        </a:lnTo>
                        <a:lnTo>
                          <a:pt x="264" y="241"/>
                        </a:lnTo>
                        <a:lnTo>
                          <a:pt x="273" y="230"/>
                        </a:lnTo>
                        <a:lnTo>
                          <a:pt x="280" y="217"/>
                        </a:lnTo>
                        <a:lnTo>
                          <a:pt x="287" y="205"/>
                        </a:lnTo>
                        <a:lnTo>
                          <a:pt x="291" y="190"/>
                        </a:lnTo>
                        <a:lnTo>
                          <a:pt x="295" y="177"/>
                        </a:lnTo>
                        <a:lnTo>
                          <a:pt x="297" y="162"/>
                        </a:lnTo>
                        <a:lnTo>
                          <a:pt x="298" y="148"/>
                        </a:lnTo>
                        <a:lnTo>
                          <a:pt x="297" y="130"/>
                        </a:lnTo>
                        <a:lnTo>
                          <a:pt x="294" y="113"/>
                        </a:lnTo>
                        <a:lnTo>
                          <a:pt x="289" y="96"/>
                        </a:lnTo>
                        <a:lnTo>
                          <a:pt x="284" y="81"/>
                        </a:lnTo>
                        <a:lnTo>
                          <a:pt x="257" y="59"/>
                        </a:lnTo>
                        <a:lnTo>
                          <a:pt x="232" y="38"/>
                        </a:lnTo>
                        <a:lnTo>
                          <a:pt x="205" y="19"/>
                        </a:lnTo>
                        <a:lnTo>
                          <a:pt x="179" y="2"/>
                        </a:lnTo>
                        <a:close/>
                        <a:moveTo>
                          <a:pt x="37" y="148"/>
                        </a:moveTo>
                        <a:lnTo>
                          <a:pt x="39" y="125"/>
                        </a:lnTo>
                        <a:lnTo>
                          <a:pt x="45" y="104"/>
                        </a:lnTo>
                        <a:lnTo>
                          <a:pt x="54" y="85"/>
                        </a:lnTo>
                        <a:lnTo>
                          <a:pt x="70" y="69"/>
                        </a:lnTo>
                        <a:lnTo>
                          <a:pt x="86" y="54"/>
                        </a:lnTo>
                        <a:lnTo>
                          <a:pt x="105" y="45"/>
                        </a:lnTo>
                        <a:lnTo>
                          <a:pt x="126" y="38"/>
                        </a:lnTo>
                        <a:lnTo>
                          <a:pt x="149" y="37"/>
                        </a:lnTo>
                        <a:lnTo>
                          <a:pt x="170" y="38"/>
                        </a:lnTo>
                        <a:lnTo>
                          <a:pt x="191" y="45"/>
                        </a:lnTo>
                        <a:lnTo>
                          <a:pt x="200" y="49"/>
                        </a:lnTo>
                        <a:lnTo>
                          <a:pt x="210" y="54"/>
                        </a:lnTo>
                        <a:lnTo>
                          <a:pt x="228" y="69"/>
                        </a:lnTo>
                        <a:lnTo>
                          <a:pt x="242" y="85"/>
                        </a:lnTo>
                        <a:lnTo>
                          <a:pt x="252" y="104"/>
                        </a:lnTo>
                        <a:lnTo>
                          <a:pt x="259" y="125"/>
                        </a:lnTo>
                        <a:lnTo>
                          <a:pt x="261" y="148"/>
                        </a:lnTo>
                        <a:lnTo>
                          <a:pt x="260" y="153"/>
                        </a:lnTo>
                        <a:lnTo>
                          <a:pt x="260" y="159"/>
                        </a:lnTo>
                        <a:lnTo>
                          <a:pt x="259" y="170"/>
                        </a:lnTo>
                        <a:lnTo>
                          <a:pt x="252" y="190"/>
                        </a:lnTo>
                        <a:lnTo>
                          <a:pt x="246" y="199"/>
                        </a:lnTo>
                        <a:lnTo>
                          <a:pt x="242" y="210"/>
                        </a:lnTo>
                        <a:lnTo>
                          <a:pt x="228" y="228"/>
                        </a:lnTo>
                        <a:lnTo>
                          <a:pt x="210" y="241"/>
                        </a:lnTo>
                        <a:lnTo>
                          <a:pt x="200" y="246"/>
                        </a:lnTo>
                        <a:lnTo>
                          <a:pt x="191" y="251"/>
                        </a:lnTo>
                        <a:lnTo>
                          <a:pt x="170" y="258"/>
                        </a:lnTo>
                        <a:lnTo>
                          <a:pt x="159" y="259"/>
                        </a:lnTo>
                        <a:lnTo>
                          <a:pt x="153" y="259"/>
                        </a:lnTo>
                        <a:lnTo>
                          <a:pt x="149" y="261"/>
                        </a:lnTo>
                        <a:lnTo>
                          <a:pt x="126" y="258"/>
                        </a:lnTo>
                        <a:lnTo>
                          <a:pt x="105" y="251"/>
                        </a:lnTo>
                        <a:lnTo>
                          <a:pt x="86" y="241"/>
                        </a:lnTo>
                        <a:lnTo>
                          <a:pt x="70" y="228"/>
                        </a:lnTo>
                        <a:lnTo>
                          <a:pt x="54" y="210"/>
                        </a:lnTo>
                        <a:lnTo>
                          <a:pt x="49" y="199"/>
                        </a:lnTo>
                        <a:lnTo>
                          <a:pt x="45" y="190"/>
                        </a:lnTo>
                        <a:lnTo>
                          <a:pt x="39" y="170"/>
                        </a:lnTo>
                        <a:lnTo>
                          <a:pt x="37" y="148"/>
                        </a:lnTo>
                        <a:close/>
                      </a:path>
                    </a:pathLst>
                  </a:custGeom>
                  <a:solidFill>
                    <a:srgbClr val="00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7734600" y="564732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224">
                        <a:moveTo>
                          <a:pt x="33" y="32"/>
                        </a:moveTo>
                        <a:lnTo>
                          <a:pt x="17" y="48"/>
                        </a:lnTo>
                        <a:lnTo>
                          <a:pt x="8" y="67"/>
                        </a:lnTo>
                        <a:lnTo>
                          <a:pt x="2" y="88"/>
                        </a:lnTo>
                        <a:lnTo>
                          <a:pt x="0" y="111"/>
                        </a:lnTo>
                        <a:lnTo>
                          <a:pt x="2" y="133"/>
                        </a:lnTo>
                        <a:lnTo>
                          <a:pt x="8" y="153"/>
                        </a:lnTo>
                        <a:lnTo>
                          <a:pt x="12" y="162"/>
                        </a:lnTo>
                        <a:lnTo>
                          <a:pt x="17" y="173"/>
                        </a:lnTo>
                        <a:lnTo>
                          <a:pt x="33" y="191"/>
                        </a:lnTo>
                        <a:lnTo>
                          <a:pt x="49" y="204"/>
                        </a:lnTo>
                        <a:lnTo>
                          <a:pt x="68" y="214"/>
                        </a:lnTo>
                        <a:lnTo>
                          <a:pt x="89" y="221"/>
                        </a:lnTo>
                        <a:lnTo>
                          <a:pt x="112" y="224"/>
                        </a:lnTo>
                        <a:lnTo>
                          <a:pt x="116" y="222"/>
                        </a:lnTo>
                        <a:lnTo>
                          <a:pt x="122" y="222"/>
                        </a:lnTo>
                        <a:lnTo>
                          <a:pt x="133" y="221"/>
                        </a:lnTo>
                        <a:lnTo>
                          <a:pt x="154" y="214"/>
                        </a:lnTo>
                        <a:lnTo>
                          <a:pt x="163" y="209"/>
                        </a:lnTo>
                        <a:lnTo>
                          <a:pt x="173" y="204"/>
                        </a:lnTo>
                        <a:lnTo>
                          <a:pt x="191" y="191"/>
                        </a:lnTo>
                        <a:lnTo>
                          <a:pt x="205" y="173"/>
                        </a:lnTo>
                        <a:lnTo>
                          <a:pt x="209" y="162"/>
                        </a:lnTo>
                        <a:lnTo>
                          <a:pt x="215" y="153"/>
                        </a:lnTo>
                        <a:lnTo>
                          <a:pt x="222" y="133"/>
                        </a:lnTo>
                        <a:lnTo>
                          <a:pt x="223" y="122"/>
                        </a:lnTo>
                        <a:lnTo>
                          <a:pt x="223" y="116"/>
                        </a:lnTo>
                        <a:lnTo>
                          <a:pt x="224" y="111"/>
                        </a:lnTo>
                        <a:lnTo>
                          <a:pt x="222" y="88"/>
                        </a:lnTo>
                        <a:lnTo>
                          <a:pt x="215" y="67"/>
                        </a:lnTo>
                        <a:lnTo>
                          <a:pt x="205" y="48"/>
                        </a:lnTo>
                        <a:lnTo>
                          <a:pt x="191" y="32"/>
                        </a:lnTo>
                        <a:lnTo>
                          <a:pt x="173" y="17"/>
                        </a:lnTo>
                        <a:lnTo>
                          <a:pt x="163" y="12"/>
                        </a:lnTo>
                        <a:lnTo>
                          <a:pt x="154" y="8"/>
                        </a:lnTo>
                        <a:lnTo>
                          <a:pt x="133" y="1"/>
                        </a:lnTo>
                        <a:lnTo>
                          <a:pt x="112" y="0"/>
                        </a:lnTo>
                        <a:lnTo>
                          <a:pt x="89" y="1"/>
                        </a:lnTo>
                        <a:lnTo>
                          <a:pt x="68" y="8"/>
                        </a:lnTo>
                        <a:lnTo>
                          <a:pt x="49" y="17"/>
                        </a:lnTo>
                        <a:lnTo>
                          <a:pt x="33" y="32"/>
                        </a:lnTo>
                        <a:close/>
                        <a:moveTo>
                          <a:pt x="37" y="111"/>
                        </a:moveTo>
                        <a:lnTo>
                          <a:pt x="38" y="95"/>
                        </a:lnTo>
                        <a:lnTo>
                          <a:pt x="42" y="82"/>
                        </a:lnTo>
                        <a:lnTo>
                          <a:pt x="49" y="69"/>
                        </a:lnTo>
                        <a:lnTo>
                          <a:pt x="59" y="59"/>
                        </a:lnTo>
                        <a:lnTo>
                          <a:pt x="70" y="49"/>
                        </a:lnTo>
                        <a:lnTo>
                          <a:pt x="82" y="42"/>
                        </a:lnTo>
                        <a:lnTo>
                          <a:pt x="96" y="38"/>
                        </a:lnTo>
                        <a:lnTo>
                          <a:pt x="112" y="37"/>
                        </a:lnTo>
                        <a:lnTo>
                          <a:pt x="126" y="38"/>
                        </a:lnTo>
                        <a:lnTo>
                          <a:pt x="140" y="42"/>
                        </a:lnTo>
                        <a:lnTo>
                          <a:pt x="146" y="44"/>
                        </a:lnTo>
                        <a:lnTo>
                          <a:pt x="152" y="49"/>
                        </a:lnTo>
                        <a:lnTo>
                          <a:pt x="165" y="59"/>
                        </a:lnTo>
                        <a:lnTo>
                          <a:pt x="174" y="69"/>
                        </a:lnTo>
                        <a:lnTo>
                          <a:pt x="182" y="82"/>
                        </a:lnTo>
                        <a:lnTo>
                          <a:pt x="185" y="95"/>
                        </a:lnTo>
                        <a:lnTo>
                          <a:pt x="188" y="111"/>
                        </a:lnTo>
                        <a:lnTo>
                          <a:pt x="186" y="118"/>
                        </a:lnTo>
                        <a:lnTo>
                          <a:pt x="185" y="118"/>
                        </a:lnTo>
                        <a:lnTo>
                          <a:pt x="185" y="119"/>
                        </a:lnTo>
                        <a:lnTo>
                          <a:pt x="185" y="122"/>
                        </a:lnTo>
                        <a:lnTo>
                          <a:pt x="185" y="126"/>
                        </a:lnTo>
                        <a:lnTo>
                          <a:pt x="182" y="140"/>
                        </a:lnTo>
                        <a:lnTo>
                          <a:pt x="177" y="145"/>
                        </a:lnTo>
                        <a:lnTo>
                          <a:pt x="174" y="152"/>
                        </a:lnTo>
                        <a:lnTo>
                          <a:pt x="169" y="158"/>
                        </a:lnTo>
                        <a:lnTo>
                          <a:pt x="165" y="165"/>
                        </a:lnTo>
                        <a:lnTo>
                          <a:pt x="158" y="168"/>
                        </a:lnTo>
                        <a:lnTo>
                          <a:pt x="152" y="173"/>
                        </a:lnTo>
                        <a:lnTo>
                          <a:pt x="146" y="176"/>
                        </a:lnTo>
                        <a:lnTo>
                          <a:pt x="140" y="180"/>
                        </a:lnTo>
                        <a:lnTo>
                          <a:pt x="126" y="184"/>
                        </a:lnTo>
                        <a:lnTo>
                          <a:pt x="122" y="184"/>
                        </a:lnTo>
                        <a:lnTo>
                          <a:pt x="120" y="184"/>
                        </a:lnTo>
                        <a:lnTo>
                          <a:pt x="118" y="184"/>
                        </a:lnTo>
                        <a:lnTo>
                          <a:pt x="118" y="185"/>
                        </a:lnTo>
                        <a:lnTo>
                          <a:pt x="112" y="186"/>
                        </a:lnTo>
                        <a:lnTo>
                          <a:pt x="96" y="184"/>
                        </a:lnTo>
                        <a:lnTo>
                          <a:pt x="82" y="180"/>
                        </a:lnTo>
                        <a:lnTo>
                          <a:pt x="70" y="173"/>
                        </a:lnTo>
                        <a:lnTo>
                          <a:pt x="59" y="165"/>
                        </a:lnTo>
                        <a:lnTo>
                          <a:pt x="49" y="152"/>
                        </a:lnTo>
                        <a:lnTo>
                          <a:pt x="45" y="145"/>
                        </a:lnTo>
                        <a:lnTo>
                          <a:pt x="42" y="140"/>
                        </a:lnTo>
                        <a:lnTo>
                          <a:pt x="38" y="126"/>
                        </a:lnTo>
                        <a:lnTo>
                          <a:pt x="37" y="111"/>
                        </a:lnTo>
                        <a:close/>
                      </a:path>
                    </a:pathLst>
                  </a:custGeom>
                  <a:solidFill>
                    <a:srgbClr val="00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7743960" y="5656320"/>
                    <a:ext cx="38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49">
                        <a:moveTo>
                          <a:pt x="22" y="22"/>
                        </a:moveTo>
                        <a:lnTo>
                          <a:pt x="12" y="32"/>
                        </a:lnTo>
                        <a:lnTo>
                          <a:pt x="5" y="45"/>
                        </a:lnTo>
                        <a:lnTo>
                          <a:pt x="1" y="58"/>
                        </a:lnTo>
                        <a:lnTo>
                          <a:pt x="0" y="74"/>
                        </a:lnTo>
                        <a:lnTo>
                          <a:pt x="1" y="89"/>
                        </a:lnTo>
                        <a:lnTo>
                          <a:pt x="5" y="103"/>
                        </a:lnTo>
                        <a:lnTo>
                          <a:pt x="8" y="108"/>
                        </a:lnTo>
                        <a:lnTo>
                          <a:pt x="12" y="115"/>
                        </a:lnTo>
                        <a:lnTo>
                          <a:pt x="22" y="128"/>
                        </a:lnTo>
                        <a:lnTo>
                          <a:pt x="33" y="136"/>
                        </a:lnTo>
                        <a:lnTo>
                          <a:pt x="45" y="143"/>
                        </a:lnTo>
                        <a:lnTo>
                          <a:pt x="59" y="147"/>
                        </a:lnTo>
                        <a:lnTo>
                          <a:pt x="75" y="149"/>
                        </a:lnTo>
                        <a:lnTo>
                          <a:pt x="81" y="148"/>
                        </a:lnTo>
                        <a:lnTo>
                          <a:pt x="81" y="147"/>
                        </a:lnTo>
                        <a:lnTo>
                          <a:pt x="83" y="147"/>
                        </a:lnTo>
                        <a:lnTo>
                          <a:pt x="85" y="147"/>
                        </a:lnTo>
                        <a:lnTo>
                          <a:pt x="89" y="147"/>
                        </a:lnTo>
                        <a:lnTo>
                          <a:pt x="103" y="143"/>
                        </a:lnTo>
                        <a:lnTo>
                          <a:pt x="109" y="139"/>
                        </a:lnTo>
                        <a:lnTo>
                          <a:pt x="115" y="136"/>
                        </a:lnTo>
                        <a:lnTo>
                          <a:pt x="121" y="131"/>
                        </a:lnTo>
                        <a:lnTo>
                          <a:pt x="128" y="128"/>
                        </a:lnTo>
                        <a:lnTo>
                          <a:pt x="132" y="121"/>
                        </a:lnTo>
                        <a:lnTo>
                          <a:pt x="137" y="115"/>
                        </a:lnTo>
                        <a:lnTo>
                          <a:pt x="140" y="108"/>
                        </a:lnTo>
                        <a:lnTo>
                          <a:pt x="145" y="103"/>
                        </a:lnTo>
                        <a:lnTo>
                          <a:pt x="148" y="89"/>
                        </a:lnTo>
                        <a:lnTo>
                          <a:pt x="148" y="85"/>
                        </a:lnTo>
                        <a:lnTo>
                          <a:pt x="148" y="82"/>
                        </a:lnTo>
                        <a:lnTo>
                          <a:pt x="148" y="81"/>
                        </a:lnTo>
                        <a:lnTo>
                          <a:pt x="149" y="81"/>
                        </a:lnTo>
                        <a:lnTo>
                          <a:pt x="151" y="74"/>
                        </a:lnTo>
                        <a:lnTo>
                          <a:pt x="148" y="58"/>
                        </a:lnTo>
                        <a:lnTo>
                          <a:pt x="145" y="45"/>
                        </a:lnTo>
                        <a:lnTo>
                          <a:pt x="137" y="32"/>
                        </a:lnTo>
                        <a:lnTo>
                          <a:pt x="128" y="22"/>
                        </a:lnTo>
                        <a:lnTo>
                          <a:pt x="115" y="12"/>
                        </a:lnTo>
                        <a:lnTo>
                          <a:pt x="109" y="7"/>
                        </a:lnTo>
                        <a:lnTo>
                          <a:pt x="103" y="5"/>
                        </a:lnTo>
                        <a:lnTo>
                          <a:pt x="89" y="1"/>
                        </a:lnTo>
                        <a:lnTo>
                          <a:pt x="75" y="0"/>
                        </a:lnTo>
                        <a:lnTo>
                          <a:pt x="59" y="1"/>
                        </a:lnTo>
                        <a:lnTo>
                          <a:pt x="45" y="5"/>
                        </a:lnTo>
                        <a:lnTo>
                          <a:pt x="33" y="12"/>
                        </a:lnTo>
                        <a:lnTo>
                          <a:pt x="22" y="22"/>
                        </a:lnTo>
                        <a:close/>
                        <a:moveTo>
                          <a:pt x="38" y="74"/>
                        </a:moveTo>
                        <a:lnTo>
                          <a:pt x="41" y="60"/>
                        </a:lnTo>
                        <a:lnTo>
                          <a:pt x="48" y="48"/>
                        </a:lnTo>
                        <a:lnTo>
                          <a:pt x="60" y="40"/>
                        </a:lnTo>
                        <a:lnTo>
                          <a:pt x="75" y="38"/>
                        </a:lnTo>
                        <a:lnTo>
                          <a:pt x="81" y="38"/>
                        </a:lnTo>
                        <a:lnTo>
                          <a:pt x="89" y="40"/>
                        </a:lnTo>
                        <a:lnTo>
                          <a:pt x="95" y="43"/>
                        </a:lnTo>
                        <a:lnTo>
                          <a:pt x="102" y="48"/>
                        </a:lnTo>
                        <a:lnTo>
                          <a:pt x="109" y="60"/>
                        </a:lnTo>
                        <a:lnTo>
                          <a:pt x="111" y="66"/>
                        </a:lnTo>
                        <a:lnTo>
                          <a:pt x="112" y="74"/>
                        </a:lnTo>
                        <a:lnTo>
                          <a:pt x="111" y="81"/>
                        </a:lnTo>
                        <a:lnTo>
                          <a:pt x="109" y="88"/>
                        </a:lnTo>
                        <a:lnTo>
                          <a:pt x="106" y="90"/>
                        </a:lnTo>
                        <a:lnTo>
                          <a:pt x="105" y="90"/>
                        </a:lnTo>
                        <a:lnTo>
                          <a:pt x="105" y="91"/>
                        </a:lnTo>
                        <a:lnTo>
                          <a:pt x="105" y="94"/>
                        </a:lnTo>
                        <a:lnTo>
                          <a:pt x="102" y="100"/>
                        </a:lnTo>
                        <a:lnTo>
                          <a:pt x="95" y="105"/>
                        </a:lnTo>
                        <a:lnTo>
                          <a:pt x="93" y="105"/>
                        </a:lnTo>
                        <a:lnTo>
                          <a:pt x="92" y="105"/>
                        </a:lnTo>
                        <a:lnTo>
                          <a:pt x="92" y="106"/>
                        </a:lnTo>
                        <a:lnTo>
                          <a:pt x="89" y="108"/>
                        </a:lnTo>
                        <a:lnTo>
                          <a:pt x="81" y="111"/>
                        </a:lnTo>
                        <a:lnTo>
                          <a:pt x="75" y="112"/>
                        </a:lnTo>
                        <a:lnTo>
                          <a:pt x="67" y="111"/>
                        </a:lnTo>
                        <a:lnTo>
                          <a:pt x="60" y="108"/>
                        </a:lnTo>
                        <a:lnTo>
                          <a:pt x="53" y="105"/>
                        </a:lnTo>
                        <a:lnTo>
                          <a:pt x="48" y="100"/>
                        </a:lnTo>
                        <a:lnTo>
                          <a:pt x="43" y="94"/>
                        </a:lnTo>
                        <a:lnTo>
                          <a:pt x="41" y="88"/>
                        </a:lnTo>
                        <a:lnTo>
                          <a:pt x="38" y="81"/>
                        </a:lnTo>
                        <a:lnTo>
                          <a:pt x="38" y="74"/>
                        </a:lnTo>
                        <a:close/>
                      </a:path>
                    </a:pathLst>
                  </a:custGeom>
                  <a:solidFill>
                    <a:srgbClr val="00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7754040" y="5666040"/>
                    <a:ext cx="180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4">
                        <a:moveTo>
                          <a:pt x="10" y="10"/>
                        </a:moveTo>
                        <a:lnTo>
                          <a:pt x="3" y="22"/>
                        </a:lnTo>
                        <a:lnTo>
                          <a:pt x="0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lnTo>
                          <a:pt x="5" y="56"/>
                        </a:lnTo>
                        <a:lnTo>
                          <a:pt x="10" y="62"/>
                        </a:lnTo>
                        <a:lnTo>
                          <a:pt x="15" y="67"/>
                        </a:lnTo>
                        <a:lnTo>
                          <a:pt x="22" y="70"/>
                        </a:lnTo>
                        <a:lnTo>
                          <a:pt x="29" y="73"/>
                        </a:lnTo>
                        <a:lnTo>
                          <a:pt x="37" y="74"/>
                        </a:lnTo>
                        <a:lnTo>
                          <a:pt x="43" y="73"/>
                        </a:lnTo>
                        <a:lnTo>
                          <a:pt x="51" y="70"/>
                        </a:lnTo>
                        <a:lnTo>
                          <a:pt x="54" y="68"/>
                        </a:lnTo>
                        <a:lnTo>
                          <a:pt x="54" y="67"/>
                        </a:lnTo>
                        <a:lnTo>
                          <a:pt x="55" y="67"/>
                        </a:lnTo>
                        <a:lnTo>
                          <a:pt x="57" y="67"/>
                        </a:lnTo>
                        <a:lnTo>
                          <a:pt x="64" y="62"/>
                        </a:lnTo>
                        <a:lnTo>
                          <a:pt x="67" y="56"/>
                        </a:lnTo>
                        <a:lnTo>
                          <a:pt x="67" y="53"/>
                        </a:lnTo>
                        <a:lnTo>
                          <a:pt x="67" y="52"/>
                        </a:lnTo>
                        <a:lnTo>
                          <a:pt x="68" y="52"/>
                        </a:lnTo>
                        <a:lnTo>
                          <a:pt x="71" y="50"/>
                        </a:lnTo>
                        <a:lnTo>
                          <a:pt x="73" y="43"/>
                        </a:lnTo>
                        <a:lnTo>
                          <a:pt x="74" y="36"/>
                        </a:lnTo>
                        <a:lnTo>
                          <a:pt x="73" y="28"/>
                        </a:lnTo>
                        <a:lnTo>
                          <a:pt x="71" y="22"/>
                        </a:lnTo>
                        <a:lnTo>
                          <a:pt x="64" y="10"/>
                        </a:lnTo>
                        <a:lnTo>
                          <a:pt x="57" y="5"/>
                        </a:lnTo>
                        <a:lnTo>
                          <a:pt x="51" y="2"/>
                        </a:lnTo>
                        <a:lnTo>
                          <a:pt x="43" y="0"/>
                        </a:lnTo>
                        <a:lnTo>
                          <a:pt x="37" y="0"/>
                        </a:lnTo>
                        <a:lnTo>
                          <a:pt x="22" y="2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7545240" y="5674320"/>
                    <a:ext cx="279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863">
                        <a:moveTo>
                          <a:pt x="35" y="4"/>
                        </a:moveTo>
                        <a:lnTo>
                          <a:pt x="35" y="0"/>
                        </a:lnTo>
                        <a:lnTo>
                          <a:pt x="0" y="46"/>
                        </a:lnTo>
                        <a:lnTo>
                          <a:pt x="1" y="86"/>
                        </a:lnTo>
                        <a:lnTo>
                          <a:pt x="6" y="126"/>
                        </a:lnTo>
                        <a:lnTo>
                          <a:pt x="12" y="164"/>
                        </a:lnTo>
                        <a:lnTo>
                          <a:pt x="21" y="204"/>
                        </a:lnTo>
                        <a:lnTo>
                          <a:pt x="29" y="241"/>
                        </a:lnTo>
                        <a:lnTo>
                          <a:pt x="41" y="279"/>
                        </a:lnTo>
                        <a:lnTo>
                          <a:pt x="54" y="315"/>
                        </a:lnTo>
                        <a:lnTo>
                          <a:pt x="69" y="351"/>
                        </a:lnTo>
                        <a:lnTo>
                          <a:pt x="84" y="385"/>
                        </a:lnTo>
                        <a:lnTo>
                          <a:pt x="103" y="419"/>
                        </a:lnTo>
                        <a:lnTo>
                          <a:pt x="123" y="452"/>
                        </a:lnTo>
                        <a:lnTo>
                          <a:pt x="145" y="486"/>
                        </a:lnTo>
                        <a:lnTo>
                          <a:pt x="168" y="518"/>
                        </a:lnTo>
                        <a:lnTo>
                          <a:pt x="194" y="550"/>
                        </a:lnTo>
                        <a:lnTo>
                          <a:pt x="220" y="580"/>
                        </a:lnTo>
                        <a:lnTo>
                          <a:pt x="250" y="612"/>
                        </a:lnTo>
                        <a:lnTo>
                          <a:pt x="280" y="641"/>
                        </a:lnTo>
                        <a:lnTo>
                          <a:pt x="313" y="670"/>
                        </a:lnTo>
                        <a:lnTo>
                          <a:pt x="346" y="696"/>
                        </a:lnTo>
                        <a:lnTo>
                          <a:pt x="381" y="721"/>
                        </a:lnTo>
                        <a:lnTo>
                          <a:pt x="416" y="742"/>
                        </a:lnTo>
                        <a:lnTo>
                          <a:pt x="453" y="764"/>
                        </a:lnTo>
                        <a:lnTo>
                          <a:pt x="489" y="783"/>
                        </a:lnTo>
                        <a:lnTo>
                          <a:pt x="528" y="800"/>
                        </a:lnTo>
                        <a:lnTo>
                          <a:pt x="565" y="815"/>
                        </a:lnTo>
                        <a:lnTo>
                          <a:pt x="605" y="827"/>
                        </a:lnTo>
                        <a:lnTo>
                          <a:pt x="644" y="837"/>
                        </a:lnTo>
                        <a:lnTo>
                          <a:pt x="685" y="848"/>
                        </a:lnTo>
                        <a:lnTo>
                          <a:pt x="726" y="853"/>
                        </a:lnTo>
                        <a:lnTo>
                          <a:pt x="769" y="859"/>
                        </a:lnTo>
                        <a:lnTo>
                          <a:pt x="812" y="862"/>
                        </a:lnTo>
                        <a:lnTo>
                          <a:pt x="858" y="863"/>
                        </a:lnTo>
                        <a:lnTo>
                          <a:pt x="910" y="861"/>
                        </a:lnTo>
                        <a:lnTo>
                          <a:pt x="962" y="858"/>
                        </a:lnTo>
                        <a:lnTo>
                          <a:pt x="987" y="853"/>
                        </a:lnTo>
                        <a:lnTo>
                          <a:pt x="999" y="851"/>
                        </a:lnTo>
                        <a:lnTo>
                          <a:pt x="1013" y="850"/>
                        </a:lnTo>
                        <a:lnTo>
                          <a:pt x="1038" y="845"/>
                        </a:lnTo>
                        <a:lnTo>
                          <a:pt x="1064" y="841"/>
                        </a:lnTo>
                        <a:lnTo>
                          <a:pt x="1100" y="793"/>
                        </a:lnTo>
                        <a:lnTo>
                          <a:pt x="1041" y="807"/>
                        </a:lnTo>
                        <a:lnTo>
                          <a:pt x="1011" y="811"/>
                        </a:lnTo>
                        <a:lnTo>
                          <a:pt x="981" y="817"/>
                        </a:lnTo>
                        <a:lnTo>
                          <a:pt x="920" y="824"/>
                        </a:lnTo>
                        <a:lnTo>
                          <a:pt x="888" y="825"/>
                        </a:lnTo>
                        <a:lnTo>
                          <a:pt x="872" y="825"/>
                        </a:lnTo>
                        <a:lnTo>
                          <a:pt x="864" y="825"/>
                        </a:lnTo>
                        <a:lnTo>
                          <a:pt x="858" y="826"/>
                        </a:lnTo>
                        <a:lnTo>
                          <a:pt x="814" y="825"/>
                        </a:lnTo>
                        <a:lnTo>
                          <a:pt x="774" y="822"/>
                        </a:lnTo>
                        <a:lnTo>
                          <a:pt x="733" y="816"/>
                        </a:lnTo>
                        <a:lnTo>
                          <a:pt x="693" y="810"/>
                        </a:lnTo>
                        <a:lnTo>
                          <a:pt x="653" y="801"/>
                        </a:lnTo>
                        <a:lnTo>
                          <a:pt x="616" y="791"/>
                        </a:lnTo>
                        <a:lnTo>
                          <a:pt x="579" y="778"/>
                        </a:lnTo>
                        <a:lnTo>
                          <a:pt x="542" y="766"/>
                        </a:lnTo>
                        <a:lnTo>
                          <a:pt x="506" y="749"/>
                        </a:lnTo>
                        <a:lnTo>
                          <a:pt x="471" y="731"/>
                        </a:lnTo>
                        <a:lnTo>
                          <a:pt x="436" y="712"/>
                        </a:lnTo>
                        <a:lnTo>
                          <a:pt x="403" y="690"/>
                        </a:lnTo>
                        <a:lnTo>
                          <a:pt x="370" y="666"/>
                        </a:lnTo>
                        <a:lnTo>
                          <a:pt x="338" y="641"/>
                        </a:lnTo>
                        <a:lnTo>
                          <a:pt x="306" y="614"/>
                        </a:lnTo>
                        <a:lnTo>
                          <a:pt x="277" y="586"/>
                        </a:lnTo>
                        <a:lnTo>
                          <a:pt x="246" y="554"/>
                        </a:lnTo>
                        <a:lnTo>
                          <a:pt x="219" y="523"/>
                        </a:lnTo>
                        <a:lnTo>
                          <a:pt x="193" y="491"/>
                        </a:lnTo>
                        <a:lnTo>
                          <a:pt x="170" y="459"/>
                        </a:lnTo>
                        <a:lnTo>
                          <a:pt x="148" y="424"/>
                        </a:lnTo>
                        <a:lnTo>
                          <a:pt x="128" y="390"/>
                        </a:lnTo>
                        <a:lnTo>
                          <a:pt x="110" y="355"/>
                        </a:lnTo>
                        <a:lnTo>
                          <a:pt x="96" y="319"/>
                        </a:lnTo>
                        <a:lnTo>
                          <a:pt x="81" y="282"/>
                        </a:lnTo>
                        <a:lnTo>
                          <a:pt x="68" y="245"/>
                        </a:lnTo>
                        <a:lnTo>
                          <a:pt x="58" y="206"/>
                        </a:lnTo>
                        <a:lnTo>
                          <a:pt x="50" y="168"/>
                        </a:lnTo>
                        <a:lnTo>
                          <a:pt x="42" y="127"/>
                        </a:lnTo>
                        <a:lnTo>
                          <a:pt x="39" y="87"/>
                        </a:lnTo>
                        <a:lnTo>
                          <a:pt x="35" y="45"/>
                        </a:lnTo>
                        <a:lnTo>
                          <a:pt x="35" y="4"/>
                        </a:lnTo>
                        <a:close/>
                      </a:path>
                    </a:pathLst>
                  </a:custGeom>
                  <a:solidFill>
                    <a:srgbClr val="00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7554240" y="5663520"/>
                    <a:ext cx="2779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6" h="868">
                        <a:moveTo>
                          <a:pt x="0" y="42"/>
                        </a:moveTo>
                        <a:lnTo>
                          <a:pt x="0" y="46"/>
                        </a:lnTo>
                        <a:lnTo>
                          <a:pt x="0" y="87"/>
                        </a:lnTo>
                        <a:lnTo>
                          <a:pt x="4" y="129"/>
                        </a:lnTo>
                        <a:lnTo>
                          <a:pt x="7" y="169"/>
                        </a:lnTo>
                        <a:lnTo>
                          <a:pt x="15" y="210"/>
                        </a:lnTo>
                        <a:lnTo>
                          <a:pt x="23" y="248"/>
                        </a:lnTo>
                        <a:lnTo>
                          <a:pt x="33" y="287"/>
                        </a:lnTo>
                        <a:lnTo>
                          <a:pt x="46" y="324"/>
                        </a:lnTo>
                        <a:lnTo>
                          <a:pt x="61" y="361"/>
                        </a:lnTo>
                        <a:lnTo>
                          <a:pt x="75" y="397"/>
                        </a:lnTo>
                        <a:lnTo>
                          <a:pt x="93" y="432"/>
                        </a:lnTo>
                        <a:lnTo>
                          <a:pt x="113" y="466"/>
                        </a:lnTo>
                        <a:lnTo>
                          <a:pt x="135" y="501"/>
                        </a:lnTo>
                        <a:lnTo>
                          <a:pt x="158" y="533"/>
                        </a:lnTo>
                        <a:lnTo>
                          <a:pt x="184" y="565"/>
                        </a:lnTo>
                        <a:lnTo>
                          <a:pt x="211" y="596"/>
                        </a:lnTo>
                        <a:lnTo>
                          <a:pt x="242" y="628"/>
                        </a:lnTo>
                        <a:lnTo>
                          <a:pt x="271" y="656"/>
                        </a:lnTo>
                        <a:lnTo>
                          <a:pt x="303" y="683"/>
                        </a:lnTo>
                        <a:lnTo>
                          <a:pt x="335" y="708"/>
                        </a:lnTo>
                        <a:lnTo>
                          <a:pt x="368" y="732"/>
                        </a:lnTo>
                        <a:lnTo>
                          <a:pt x="401" y="754"/>
                        </a:lnTo>
                        <a:lnTo>
                          <a:pt x="436" y="773"/>
                        </a:lnTo>
                        <a:lnTo>
                          <a:pt x="471" y="791"/>
                        </a:lnTo>
                        <a:lnTo>
                          <a:pt x="507" y="808"/>
                        </a:lnTo>
                        <a:lnTo>
                          <a:pt x="544" y="820"/>
                        </a:lnTo>
                        <a:lnTo>
                          <a:pt x="581" y="833"/>
                        </a:lnTo>
                        <a:lnTo>
                          <a:pt x="618" y="843"/>
                        </a:lnTo>
                        <a:lnTo>
                          <a:pt x="658" y="852"/>
                        </a:lnTo>
                        <a:lnTo>
                          <a:pt x="698" y="858"/>
                        </a:lnTo>
                        <a:lnTo>
                          <a:pt x="739" y="864"/>
                        </a:lnTo>
                        <a:lnTo>
                          <a:pt x="779" y="867"/>
                        </a:lnTo>
                        <a:lnTo>
                          <a:pt x="823" y="868"/>
                        </a:lnTo>
                        <a:lnTo>
                          <a:pt x="829" y="867"/>
                        </a:lnTo>
                        <a:lnTo>
                          <a:pt x="837" y="867"/>
                        </a:lnTo>
                        <a:lnTo>
                          <a:pt x="853" y="867"/>
                        </a:lnTo>
                        <a:lnTo>
                          <a:pt x="885" y="866"/>
                        </a:lnTo>
                        <a:lnTo>
                          <a:pt x="946" y="859"/>
                        </a:lnTo>
                        <a:lnTo>
                          <a:pt x="976" y="853"/>
                        </a:lnTo>
                        <a:lnTo>
                          <a:pt x="1006" y="849"/>
                        </a:lnTo>
                        <a:lnTo>
                          <a:pt x="1065" y="835"/>
                        </a:lnTo>
                        <a:lnTo>
                          <a:pt x="1081" y="810"/>
                        </a:lnTo>
                        <a:lnTo>
                          <a:pt x="1096" y="785"/>
                        </a:lnTo>
                        <a:lnTo>
                          <a:pt x="1079" y="790"/>
                        </a:lnTo>
                        <a:lnTo>
                          <a:pt x="1063" y="796"/>
                        </a:lnTo>
                        <a:lnTo>
                          <a:pt x="1030" y="805"/>
                        </a:lnTo>
                        <a:lnTo>
                          <a:pt x="996" y="813"/>
                        </a:lnTo>
                        <a:lnTo>
                          <a:pt x="963" y="819"/>
                        </a:lnTo>
                        <a:lnTo>
                          <a:pt x="928" y="824"/>
                        </a:lnTo>
                        <a:lnTo>
                          <a:pt x="894" y="827"/>
                        </a:lnTo>
                        <a:lnTo>
                          <a:pt x="858" y="830"/>
                        </a:lnTo>
                        <a:lnTo>
                          <a:pt x="840" y="830"/>
                        </a:lnTo>
                        <a:lnTo>
                          <a:pt x="831" y="830"/>
                        </a:lnTo>
                        <a:lnTo>
                          <a:pt x="826" y="830"/>
                        </a:lnTo>
                        <a:lnTo>
                          <a:pt x="824" y="830"/>
                        </a:lnTo>
                        <a:lnTo>
                          <a:pt x="823" y="831"/>
                        </a:lnTo>
                        <a:lnTo>
                          <a:pt x="782" y="830"/>
                        </a:lnTo>
                        <a:lnTo>
                          <a:pt x="742" y="826"/>
                        </a:lnTo>
                        <a:lnTo>
                          <a:pt x="702" y="822"/>
                        </a:lnTo>
                        <a:lnTo>
                          <a:pt x="665" y="816"/>
                        </a:lnTo>
                        <a:lnTo>
                          <a:pt x="628" y="807"/>
                        </a:lnTo>
                        <a:lnTo>
                          <a:pt x="591" y="797"/>
                        </a:lnTo>
                        <a:lnTo>
                          <a:pt x="555" y="785"/>
                        </a:lnTo>
                        <a:lnTo>
                          <a:pt x="521" y="773"/>
                        </a:lnTo>
                        <a:lnTo>
                          <a:pt x="486" y="757"/>
                        </a:lnTo>
                        <a:lnTo>
                          <a:pt x="453" y="740"/>
                        </a:lnTo>
                        <a:lnTo>
                          <a:pt x="420" y="721"/>
                        </a:lnTo>
                        <a:lnTo>
                          <a:pt x="388" y="701"/>
                        </a:lnTo>
                        <a:lnTo>
                          <a:pt x="356" y="679"/>
                        </a:lnTo>
                        <a:lnTo>
                          <a:pt x="326" y="655"/>
                        </a:lnTo>
                        <a:lnTo>
                          <a:pt x="296" y="629"/>
                        </a:lnTo>
                        <a:lnTo>
                          <a:pt x="268" y="602"/>
                        </a:lnTo>
                        <a:lnTo>
                          <a:pt x="240" y="571"/>
                        </a:lnTo>
                        <a:lnTo>
                          <a:pt x="214" y="542"/>
                        </a:lnTo>
                        <a:lnTo>
                          <a:pt x="189" y="510"/>
                        </a:lnTo>
                        <a:lnTo>
                          <a:pt x="167" y="479"/>
                        </a:lnTo>
                        <a:lnTo>
                          <a:pt x="146" y="446"/>
                        </a:lnTo>
                        <a:lnTo>
                          <a:pt x="127" y="414"/>
                        </a:lnTo>
                        <a:lnTo>
                          <a:pt x="110" y="380"/>
                        </a:lnTo>
                        <a:lnTo>
                          <a:pt x="96" y="347"/>
                        </a:lnTo>
                        <a:lnTo>
                          <a:pt x="81" y="310"/>
                        </a:lnTo>
                        <a:lnTo>
                          <a:pt x="70" y="275"/>
                        </a:lnTo>
                        <a:lnTo>
                          <a:pt x="59" y="238"/>
                        </a:lnTo>
                        <a:lnTo>
                          <a:pt x="53" y="202"/>
                        </a:lnTo>
                        <a:lnTo>
                          <a:pt x="46" y="163"/>
                        </a:lnTo>
                        <a:lnTo>
                          <a:pt x="42" y="125"/>
                        </a:lnTo>
                        <a:lnTo>
                          <a:pt x="39" y="85"/>
                        </a:lnTo>
                        <a:lnTo>
                          <a:pt x="39" y="46"/>
                        </a:lnTo>
                        <a:lnTo>
                          <a:pt x="40" y="0"/>
                        </a:lnTo>
                        <a:lnTo>
                          <a:pt x="39" y="0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7592400" y="5631840"/>
                    <a:ext cx="257040" cy="21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843">
                        <a:moveTo>
                          <a:pt x="59" y="0"/>
                        </a:moveTo>
                        <a:lnTo>
                          <a:pt x="15" y="25"/>
                        </a:lnTo>
                        <a:lnTo>
                          <a:pt x="7" y="59"/>
                        </a:lnTo>
                        <a:lnTo>
                          <a:pt x="4" y="95"/>
                        </a:lnTo>
                        <a:lnTo>
                          <a:pt x="0" y="171"/>
                        </a:lnTo>
                        <a:lnTo>
                          <a:pt x="0" y="204"/>
                        </a:lnTo>
                        <a:lnTo>
                          <a:pt x="3" y="238"/>
                        </a:lnTo>
                        <a:lnTo>
                          <a:pt x="6" y="271"/>
                        </a:lnTo>
                        <a:lnTo>
                          <a:pt x="12" y="305"/>
                        </a:lnTo>
                        <a:lnTo>
                          <a:pt x="17" y="336"/>
                        </a:lnTo>
                        <a:lnTo>
                          <a:pt x="26" y="367"/>
                        </a:lnTo>
                        <a:lnTo>
                          <a:pt x="37" y="398"/>
                        </a:lnTo>
                        <a:lnTo>
                          <a:pt x="49" y="430"/>
                        </a:lnTo>
                        <a:lnTo>
                          <a:pt x="60" y="458"/>
                        </a:lnTo>
                        <a:lnTo>
                          <a:pt x="75" y="488"/>
                        </a:lnTo>
                        <a:lnTo>
                          <a:pt x="91" y="515"/>
                        </a:lnTo>
                        <a:lnTo>
                          <a:pt x="109" y="543"/>
                        </a:lnTo>
                        <a:lnTo>
                          <a:pt x="127" y="569"/>
                        </a:lnTo>
                        <a:lnTo>
                          <a:pt x="149" y="596"/>
                        </a:lnTo>
                        <a:lnTo>
                          <a:pt x="171" y="621"/>
                        </a:lnTo>
                        <a:lnTo>
                          <a:pt x="196" y="647"/>
                        </a:lnTo>
                        <a:lnTo>
                          <a:pt x="220" y="670"/>
                        </a:lnTo>
                        <a:lnTo>
                          <a:pt x="246" y="693"/>
                        </a:lnTo>
                        <a:lnTo>
                          <a:pt x="272" y="713"/>
                        </a:lnTo>
                        <a:lnTo>
                          <a:pt x="300" y="732"/>
                        </a:lnTo>
                        <a:lnTo>
                          <a:pt x="327" y="749"/>
                        </a:lnTo>
                        <a:lnTo>
                          <a:pt x="355" y="765"/>
                        </a:lnTo>
                        <a:lnTo>
                          <a:pt x="384" y="780"/>
                        </a:lnTo>
                        <a:lnTo>
                          <a:pt x="413" y="794"/>
                        </a:lnTo>
                        <a:lnTo>
                          <a:pt x="442" y="805"/>
                        </a:lnTo>
                        <a:lnTo>
                          <a:pt x="473" y="815"/>
                        </a:lnTo>
                        <a:lnTo>
                          <a:pt x="504" y="823"/>
                        </a:lnTo>
                        <a:lnTo>
                          <a:pt x="537" y="831"/>
                        </a:lnTo>
                        <a:lnTo>
                          <a:pt x="568" y="836"/>
                        </a:lnTo>
                        <a:lnTo>
                          <a:pt x="602" y="840"/>
                        </a:lnTo>
                        <a:lnTo>
                          <a:pt x="636" y="842"/>
                        </a:lnTo>
                        <a:lnTo>
                          <a:pt x="672" y="843"/>
                        </a:lnTo>
                        <a:lnTo>
                          <a:pt x="676" y="842"/>
                        </a:lnTo>
                        <a:lnTo>
                          <a:pt x="682" y="842"/>
                        </a:lnTo>
                        <a:lnTo>
                          <a:pt x="693" y="842"/>
                        </a:lnTo>
                        <a:lnTo>
                          <a:pt x="716" y="841"/>
                        </a:lnTo>
                        <a:lnTo>
                          <a:pt x="737" y="839"/>
                        </a:lnTo>
                        <a:lnTo>
                          <a:pt x="760" y="838"/>
                        </a:lnTo>
                        <a:lnTo>
                          <a:pt x="803" y="830"/>
                        </a:lnTo>
                        <a:lnTo>
                          <a:pt x="846" y="822"/>
                        </a:lnTo>
                        <a:lnTo>
                          <a:pt x="865" y="815"/>
                        </a:lnTo>
                        <a:lnTo>
                          <a:pt x="886" y="809"/>
                        </a:lnTo>
                        <a:lnTo>
                          <a:pt x="905" y="803"/>
                        </a:lnTo>
                        <a:lnTo>
                          <a:pt x="926" y="796"/>
                        </a:lnTo>
                        <a:lnTo>
                          <a:pt x="964" y="779"/>
                        </a:lnTo>
                        <a:lnTo>
                          <a:pt x="1003" y="760"/>
                        </a:lnTo>
                        <a:lnTo>
                          <a:pt x="1013" y="710"/>
                        </a:lnTo>
                        <a:lnTo>
                          <a:pt x="992" y="720"/>
                        </a:lnTo>
                        <a:lnTo>
                          <a:pt x="973" y="731"/>
                        </a:lnTo>
                        <a:lnTo>
                          <a:pt x="953" y="741"/>
                        </a:lnTo>
                        <a:lnTo>
                          <a:pt x="943" y="746"/>
                        </a:lnTo>
                        <a:lnTo>
                          <a:pt x="934" y="752"/>
                        </a:lnTo>
                        <a:lnTo>
                          <a:pt x="893" y="768"/>
                        </a:lnTo>
                        <a:lnTo>
                          <a:pt x="852" y="782"/>
                        </a:lnTo>
                        <a:lnTo>
                          <a:pt x="829" y="787"/>
                        </a:lnTo>
                        <a:lnTo>
                          <a:pt x="818" y="789"/>
                        </a:lnTo>
                        <a:lnTo>
                          <a:pt x="814" y="789"/>
                        </a:lnTo>
                        <a:lnTo>
                          <a:pt x="812" y="790"/>
                        </a:lnTo>
                        <a:lnTo>
                          <a:pt x="808" y="792"/>
                        </a:lnTo>
                        <a:lnTo>
                          <a:pt x="785" y="796"/>
                        </a:lnTo>
                        <a:lnTo>
                          <a:pt x="763" y="800"/>
                        </a:lnTo>
                        <a:lnTo>
                          <a:pt x="718" y="805"/>
                        </a:lnTo>
                        <a:lnTo>
                          <a:pt x="706" y="805"/>
                        </a:lnTo>
                        <a:lnTo>
                          <a:pt x="694" y="806"/>
                        </a:lnTo>
                        <a:lnTo>
                          <a:pt x="672" y="807"/>
                        </a:lnTo>
                        <a:lnTo>
                          <a:pt x="639" y="806"/>
                        </a:lnTo>
                        <a:lnTo>
                          <a:pt x="607" y="804"/>
                        </a:lnTo>
                        <a:lnTo>
                          <a:pt x="545" y="795"/>
                        </a:lnTo>
                        <a:lnTo>
                          <a:pt x="514" y="788"/>
                        </a:lnTo>
                        <a:lnTo>
                          <a:pt x="484" y="780"/>
                        </a:lnTo>
                        <a:lnTo>
                          <a:pt x="455" y="771"/>
                        </a:lnTo>
                        <a:lnTo>
                          <a:pt x="428" y="761"/>
                        </a:lnTo>
                        <a:lnTo>
                          <a:pt x="372" y="734"/>
                        </a:lnTo>
                        <a:lnTo>
                          <a:pt x="345" y="718"/>
                        </a:lnTo>
                        <a:lnTo>
                          <a:pt x="320" y="702"/>
                        </a:lnTo>
                        <a:lnTo>
                          <a:pt x="294" y="684"/>
                        </a:lnTo>
                        <a:lnTo>
                          <a:pt x="269" y="664"/>
                        </a:lnTo>
                        <a:lnTo>
                          <a:pt x="223" y="621"/>
                        </a:lnTo>
                        <a:lnTo>
                          <a:pt x="199" y="596"/>
                        </a:lnTo>
                        <a:lnTo>
                          <a:pt x="178" y="573"/>
                        </a:lnTo>
                        <a:lnTo>
                          <a:pt x="158" y="546"/>
                        </a:lnTo>
                        <a:lnTo>
                          <a:pt x="141" y="522"/>
                        </a:lnTo>
                        <a:lnTo>
                          <a:pt x="123" y="494"/>
                        </a:lnTo>
                        <a:lnTo>
                          <a:pt x="108" y="468"/>
                        </a:lnTo>
                        <a:lnTo>
                          <a:pt x="94" y="441"/>
                        </a:lnTo>
                        <a:lnTo>
                          <a:pt x="83" y="415"/>
                        </a:lnTo>
                        <a:lnTo>
                          <a:pt x="71" y="386"/>
                        </a:lnTo>
                        <a:lnTo>
                          <a:pt x="61" y="357"/>
                        </a:lnTo>
                        <a:lnTo>
                          <a:pt x="54" y="327"/>
                        </a:lnTo>
                        <a:lnTo>
                          <a:pt x="48" y="297"/>
                        </a:lnTo>
                        <a:lnTo>
                          <a:pt x="42" y="265"/>
                        </a:lnTo>
                        <a:lnTo>
                          <a:pt x="39" y="235"/>
                        </a:lnTo>
                        <a:lnTo>
                          <a:pt x="37" y="203"/>
                        </a:lnTo>
                        <a:lnTo>
                          <a:pt x="37" y="171"/>
                        </a:lnTo>
                        <a:lnTo>
                          <a:pt x="38" y="126"/>
                        </a:lnTo>
                        <a:lnTo>
                          <a:pt x="42" y="83"/>
                        </a:lnTo>
                        <a:lnTo>
                          <a:pt x="49" y="4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7563960" y="5653800"/>
                    <a:ext cx="2743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869">
                        <a:moveTo>
                          <a:pt x="1" y="38"/>
                        </a:moveTo>
                        <a:lnTo>
                          <a:pt x="0" y="84"/>
                        </a:lnTo>
                        <a:lnTo>
                          <a:pt x="0" y="123"/>
                        </a:lnTo>
                        <a:lnTo>
                          <a:pt x="3" y="163"/>
                        </a:lnTo>
                        <a:lnTo>
                          <a:pt x="7" y="201"/>
                        </a:lnTo>
                        <a:lnTo>
                          <a:pt x="14" y="240"/>
                        </a:lnTo>
                        <a:lnTo>
                          <a:pt x="20" y="276"/>
                        </a:lnTo>
                        <a:lnTo>
                          <a:pt x="31" y="313"/>
                        </a:lnTo>
                        <a:lnTo>
                          <a:pt x="42" y="348"/>
                        </a:lnTo>
                        <a:lnTo>
                          <a:pt x="57" y="385"/>
                        </a:lnTo>
                        <a:lnTo>
                          <a:pt x="71" y="418"/>
                        </a:lnTo>
                        <a:lnTo>
                          <a:pt x="88" y="452"/>
                        </a:lnTo>
                        <a:lnTo>
                          <a:pt x="107" y="484"/>
                        </a:lnTo>
                        <a:lnTo>
                          <a:pt x="128" y="517"/>
                        </a:lnTo>
                        <a:lnTo>
                          <a:pt x="150" y="548"/>
                        </a:lnTo>
                        <a:lnTo>
                          <a:pt x="175" y="580"/>
                        </a:lnTo>
                        <a:lnTo>
                          <a:pt x="201" y="609"/>
                        </a:lnTo>
                        <a:lnTo>
                          <a:pt x="229" y="640"/>
                        </a:lnTo>
                        <a:lnTo>
                          <a:pt x="257" y="667"/>
                        </a:lnTo>
                        <a:lnTo>
                          <a:pt x="287" y="693"/>
                        </a:lnTo>
                        <a:lnTo>
                          <a:pt x="317" y="717"/>
                        </a:lnTo>
                        <a:lnTo>
                          <a:pt x="349" y="739"/>
                        </a:lnTo>
                        <a:lnTo>
                          <a:pt x="381" y="759"/>
                        </a:lnTo>
                        <a:lnTo>
                          <a:pt x="414" y="778"/>
                        </a:lnTo>
                        <a:lnTo>
                          <a:pt x="447" y="795"/>
                        </a:lnTo>
                        <a:lnTo>
                          <a:pt x="482" y="811"/>
                        </a:lnTo>
                        <a:lnTo>
                          <a:pt x="516" y="823"/>
                        </a:lnTo>
                        <a:lnTo>
                          <a:pt x="552" y="835"/>
                        </a:lnTo>
                        <a:lnTo>
                          <a:pt x="589" y="845"/>
                        </a:lnTo>
                        <a:lnTo>
                          <a:pt x="626" y="854"/>
                        </a:lnTo>
                        <a:lnTo>
                          <a:pt x="663" y="860"/>
                        </a:lnTo>
                        <a:lnTo>
                          <a:pt x="703" y="864"/>
                        </a:lnTo>
                        <a:lnTo>
                          <a:pt x="743" y="868"/>
                        </a:lnTo>
                        <a:lnTo>
                          <a:pt x="784" y="869"/>
                        </a:lnTo>
                        <a:lnTo>
                          <a:pt x="785" y="868"/>
                        </a:lnTo>
                        <a:lnTo>
                          <a:pt x="787" y="868"/>
                        </a:lnTo>
                        <a:lnTo>
                          <a:pt x="792" y="868"/>
                        </a:lnTo>
                        <a:lnTo>
                          <a:pt x="801" y="868"/>
                        </a:lnTo>
                        <a:lnTo>
                          <a:pt x="819" y="868"/>
                        </a:lnTo>
                        <a:lnTo>
                          <a:pt x="855" y="865"/>
                        </a:lnTo>
                        <a:lnTo>
                          <a:pt x="889" y="862"/>
                        </a:lnTo>
                        <a:lnTo>
                          <a:pt x="924" y="857"/>
                        </a:lnTo>
                        <a:lnTo>
                          <a:pt x="957" y="851"/>
                        </a:lnTo>
                        <a:lnTo>
                          <a:pt x="991" y="843"/>
                        </a:lnTo>
                        <a:lnTo>
                          <a:pt x="1024" y="834"/>
                        </a:lnTo>
                        <a:lnTo>
                          <a:pt x="1040" y="828"/>
                        </a:lnTo>
                        <a:lnTo>
                          <a:pt x="1057" y="823"/>
                        </a:lnTo>
                        <a:lnTo>
                          <a:pt x="1081" y="773"/>
                        </a:lnTo>
                        <a:lnTo>
                          <a:pt x="1063" y="779"/>
                        </a:lnTo>
                        <a:lnTo>
                          <a:pt x="1046" y="786"/>
                        </a:lnTo>
                        <a:lnTo>
                          <a:pt x="1010" y="797"/>
                        </a:lnTo>
                        <a:lnTo>
                          <a:pt x="974" y="807"/>
                        </a:lnTo>
                        <a:lnTo>
                          <a:pt x="938" y="817"/>
                        </a:lnTo>
                        <a:lnTo>
                          <a:pt x="899" y="822"/>
                        </a:lnTo>
                        <a:lnTo>
                          <a:pt x="862" y="827"/>
                        </a:lnTo>
                        <a:lnTo>
                          <a:pt x="841" y="828"/>
                        </a:lnTo>
                        <a:lnTo>
                          <a:pt x="822" y="830"/>
                        </a:lnTo>
                        <a:lnTo>
                          <a:pt x="784" y="831"/>
                        </a:lnTo>
                        <a:lnTo>
                          <a:pt x="745" y="830"/>
                        </a:lnTo>
                        <a:lnTo>
                          <a:pt x="708" y="828"/>
                        </a:lnTo>
                        <a:lnTo>
                          <a:pt x="670" y="823"/>
                        </a:lnTo>
                        <a:lnTo>
                          <a:pt x="634" y="818"/>
                        </a:lnTo>
                        <a:lnTo>
                          <a:pt x="598" y="810"/>
                        </a:lnTo>
                        <a:lnTo>
                          <a:pt x="564" y="801"/>
                        </a:lnTo>
                        <a:lnTo>
                          <a:pt x="530" y="789"/>
                        </a:lnTo>
                        <a:lnTo>
                          <a:pt x="497" y="777"/>
                        </a:lnTo>
                        <a:lnTo>
                          <a:pt x="464" y="762"/>
                        </a:lnTo>
                        <a:lnTo>
                          <a:pt x="432" y="746"/>
                        </a:lnTo>
                        <a:lnTo>
                          <a:pt x="400" y="728"/>
                        </a:lnTo>
                        <a:lnTo>
                          <a:pt x="370" y="709"/>
                        </a:lnTo>
                        <a:lnTo>
                          <a:pt x="339" y="687"/>
                        </a:lnTo>
                        <a:lnTo>
                          <a:pt x="311" y="665"/>
                        </a:lnTo>
                        <a:lnTo>
                          <a:pt x="282" y="640"/>
                        </a:lnTo>
                        <a:lnTo>
                          <a:pt x="255" y="614"/>
                        </a:lnTo>
                        <a:lnTo>
                          <a:pt x="227" y="584"/>
                        </a:lnTo>
                        <a:lnTo>
                          <a:pt x="203" y="556"/>
                        </a:lnTo>
                        <a:lnTo>
                          <a:pt x="179" y="526"/>
                        </a:lnTo>
                        <a:lnTo>
                          <a:pt x="159" y="497"/>
                        </a:lnTo>
                        <a:lnTo>
                          <a:pt x="138" y="465"/>
                        </a:lnTo>
                        <a:lnTo>
                          <a:pt x="121" y="435"/>
                        </a:lnTo>
                        <a:lnTo>
                          <a:pt x="104" y="403"/>
                        </a:lnTo>
                        <a:lnTo>
                          <a:pt x="91" y="371"/>
                        </a:lnTo>
                        <a:lnTo>
                          <a:pt x="77" y="336"/>
                        </a:lnTo>
                        <a:lnTo>
                          <a:pt x="67" y="302"/>
                        </a:lnTo>
                        <a:lnTo>
                          <a:pt x="57" y="267"/>
                        </a:lnTo>
                        <a:lnTo>
                          <a:pt x="50" y="233"/>
                        </a:lnTo>
                        <a:lnTo>
                          <a:pt x="43" y="195"/>
                        </a:lnTo>
                        <a:lnTo>
                          <a:pt x="40" y="159"/>
                        </a:lnTo>
                        <a:lnTo>
                          <a:pt x="36" y="122"/>
                        </a:lnTo>
                        <a:lnTo>
                          <a:pt x="36" y="84"/>
                        </a:lnTo>
                        <a:lnTo>
                          <a:pt x="37" y="41"/>
                        </a:lnTo>
                        <a:lnTo>
                          <a:pt x="41" y="0"/>
                        </a:lnTo>
                        <a:lnTo>
                          <a:pt x="1" y="38"/>
                        </a:lnTo>
                        <a:close/>
                      </a:path>
                    </a:pathLst>
                  </a:custGeom>
                  <a:solidFill>
                    <a:srgbClr val="00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7572960" y="5645520"/>
                    <a:ext cx="270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863">
                        <a:moveTo>
                          <a:pt x="38" y="116"/>
                        </a:moveTo>
                        <a:lnTo>
                          <a:pt x="40" y="56"/>
                        </a:lnTo>
                        <a:lnTo>
                          <a:pt x="47" y="0"/>
                        </a:lnTo>
                        <a:lnTo>
                          <a:pt x="5" y="32"/>
                        </a:lnTo>
                        <a:lnTo>
                          <a:pt x="1" y="73"/>
                        </a:lnTo>
                        <a:lnTo>
                          <a:pt x="0" y="116"/>
                        </a:lnTo>
                        <a:lnTo>
                          <a:pt x="0" y="154"/>
                        </a:lnTo>
                        <a:lnTo>
                          <a:pt x="4" y="191"/>
                        </a:lnTo>
                        <a:lnTo>
                          <a:pt x="7" y="227"/>
                        </a:lnTo>
                        <a:lnTo>
                          <a:pt x="14" y="265"/>
                        </a:lnTo>
                        <a:lnTo>
                          <a:pt x="21" y="299"/>
                        </a:lnTo>
                        <a:lnTo>
                          <a:pt x="31" y="334"/>
                        </a:lnTo>
                        <a:lnTo>
                          <a:pt x="41" y="368"/>
                        </a:lnTo>
                        <a:lnTo>
                          <a:pt x="55" y="403"/>
                        </a:lnTo>
                        <a:lnTo>
                          <a:pt x="68" y="435"/>
                        </a:lnTo>
                        <a:lnTo>
                          <a:pt x="85" y="467"/>
                        </a:lnTo>
                        <a:lnTo>
                          <a:pt x="102" y="497"/>
                        </a:lnTo>
                        <a:lnTo>
                          <a:pt x="123" y="529"/>
                        </a:lnTo>
                        <a:lnTo>
                          <a:pt x="143" y="558"/>
                        </a:lnTo>
                        <a:lnTo>
                          <a:pt x="167" y="588"/>
                        </a:lnTo>
                        <a:lnTo>
                          <a:pt x="191" y="616"/>
                        </a:lnTo>
                        <a:lnTo>
                          <a:pt x="219" y="646"/>
                        </a:lnTo>
                        <a:lnTo>
                          <a:pt x="246" y="672"/>
                        </a:lnTo>
                        <a:lnTo>
                          <a:pt x="275" y="697"/>
                        </a:lnTo>
                        <a:lnTo>
                          <a:pt x="303" y="719"/>
                        </a:lnTo>
                        <a:lnTo>
                          <a:pt x="334" y="741"/>
                        </a:lnTo>
                        <a:lnTo>
                          <a:pt x="364" y="760"/>
                        </a:lnTo>
                        <a:lnTo>
                          <a:pt x="396" y="778"/>
                        </a:lnTo>
                        <a:lnTo>
                          <a:pt x="428" y="794"/>
                        </a:lnTo>
                        <a:lnTo>
                          <a:pt x="461" y="809"/>
                        </a:lnTo>
                        <a:lnTo>
                          <a:pt x="494" y="821"/>
                        </a:lnTo>
                        <a:lnTo>
                          <a:pt x="528" y="833"/>
                        </a:lnTo>
                        <a:lnTo>
                          <a:pt x="562" y="842"/>
                        </a:lnTo>
                        <a:lnTo>
                          <a:pt x="598" y="850"/>
                        </a:lnTo>
                        <a:lnTo>
                          <a:pt x="634" y="855"/>
                        </a:lnTo>
                        <a:lnTo>
                          <a:pt x="672" y="860"/>
                        </a:lnTo>
                        <a:lnTo>
                          <a:pt x="709" y="862"/>
                        </a:lnTo>
                        <a:lnTo>
                          <a:pt x="748" y="863"/>
                        </a:lnTo>
                        <a:lnTo>
                          <a:pt x="786" y="862"/>
                        </a:lnTo>
                        <a:lnTo>
                          <a:pt x="805" y="860"/>
                        </a:lnTo>
                        <a:lnTo>
                          <a:pt x="826" y="859"/>
                        </a:lnTo>
                        <a:lnTo>
                          <a:pt x="863" y="854"/>
                        </a:lnTo>
                        <a:lnTo>
                          <a:pt x="902" y="849"/>
                        </a:lnTo>
                        <a:lnTo>
                          <a:pt x="938" y="839"/>
                        </a:lnTo>
                        <a:lnTo>
                          <a:pt x="974" y="829"/>
                        </a:lnTo>
                        <a:lnTo>
                          <a:pt x="1010" y="818"/>
                        </a:lnTo>
                        <a:lnTo>
                          <a:pt x="1027" y="811"/>
                        </a:lnTo>
                        <a:lnTo>
                          <a:pt x="1045" y="805"/>
                        </a:lnTo>
                        <a:lnTo>
                          <a:pt x="1054" y="779"/>
                        </a:lnTo>
                        <a:lnTo>
                          <a:pt x="1064" y="754"/>
                        </a:lnTo>
                        <a:lnTo>
                          <a:pt x="1061" y="754"/>
                        </a:lnTo>
                        <a:lnTo>
                          <a:pt x="1058" y="756"/>
                        </a:lnTo>
                        <a:lnTo>
                          <a:pt x="1054" y="758"/>
                        </a:lnTo>
                        <a:lnTo>
                          <a:pt x="1045" y="762"/>
                        </a:lnTo>
                        <a:lnTo>
                          <a:pt x="1027" y="771"/>
                        </a:lnTo>
                        <a:lnTo>
                          <a:pt x="990" y="786"/>
                        </a:lnTo>
                        <a:lnTo>
                          <a:pt x="952" y="799"/>
                        </a:lnTo>
                        <a:lnTo>
                          <a:pt x="913" y="809"/>
                        </a:lnTo>
                        <a:lnTo>
                          <a:pt x="872" y="817"/>
                        </a:lnTo>
                        <a:lnTo>
                          <a:pt x="831" y="822"/>
                        </a:lnTo>
                        <a:lnTo>
                          <a:pt x="820" y="822"/>
                        </a:lnTo>
                        <a:lnTo>
                          <a:pt x="814" y="822"/>
                        </a:lnTo>
                        <a:lnTo>
                          <a:pt x="810" y="824"/>
                        </a:lnTo>
                        <a:lnTo>
                          <a:pt x="790" y="826"/>
                        </a:lnTo>
                        <a:lnTo>
                          <a:pt x="768" y="826"/>
                        </a:lnTo>
                        <a:lnTo>
                          <a:pt x="748" y="827"/>
                        </a:lnTo>
                        <a:lnTo>
                          <a:pt x="710" y="826"/>
                        </a:lnTo>
                        <a:lnTo>
                          <a:pt x="674" y="824"/>
                        </a:lnTo>
                        <a:lnTo>
                          <a:pt x="639" y="819"/>
                        </a:lnTo>
                        <a:lnTo>
                          <a:pt x="605" y="813"/>
                        </a:lnTo>
                        <a:lnTo>
                          <a:pt x="571" y="805"/>
                        </a:lnTo>
                        <a:lnTo>
                          <a:pt x="538" y="796"/>
                        </a:lnTo>
                        <a:lnTo>
                          <a:pt x="505" y="786"/>
                        </a:lnTo>
                        <a:lnTo>
                          <a:pt x="474" y="775"/>
                        </a:lnTo>
                        <a:lnTo>
                          <a:pt x="443" y="760"/>
                        </a:lnTo>
                        <a:lnTo>
                          <a:pt x="412" y="744"/>
                        </a:lnTo>
                        <a:lnTo>
                          <a:pt x="382" y="727"/>
                        </a:lnTo>
                        <a:lnTo>
                          <a:pt x="354" y="709"/>
                        </a:lnTo>
                        <a:lnTo>
                          <a:pt x="326" y="689"/>
                        </a:lnTo>
                        <a:lnTo>
                          <a:pt x="299" y="667"/>
                        </a:lnTo>
                        <a:lnTo>
                          <a:pt x="271" y="643"/>
                        </a:lnTo>
                        <a:lnTo>
                          <a:pt x="246" y="618"/>
                        </a:lnTo>
                        <a:lnTo>
                          <a:pt x="220" y="591"/>
                        </a:lnTo>
                        <a:lnTo>
                          <a:pt x="196" y="564"/>
                        </a:lnTo>
                        <a:lnTo>
                          <a:pt x="174" y="536"/>
                        </a:lnTo>
                        <a:lnTo>
                          <a:pt x="154" y="508"/>
                        </a:lnTo>
                        <a:lnTo>
                          <a:pt x="135" y="478"/>
                        </a:lnTo>
                        <a:lnTo>
                          <a:pt x="118" y="448"/>
                        </a:lnTo>
                        <a:lnTo>
                          <a:pt x="102" y="418"/>
                        </a:lnTo>
                        <a:lnTo>
                          <a:pt x="90" y="388"/>
                        </a:lnTo>
                        <a:lnTo>
                          <a:pt x="76" y="355"/>
                        </a:lnTo>
                        <a:lnTo>
                          <a:pt x="66" y="324"/>
                        </a:lnTo>
                        <a:lnTo>
                          <a:pt x="57" y="291"/>
                        </a:lnTo>
                        <a:lnTo>
                          <a:pt x="50" y="258"/>
                        </a:lnTo>
                        <a:lnTo>
                          <a:pt x="43" y="223"/>
                        </a:lnTo>
                        <a:lnTo>
                          <a:pt x="40" y="188"/>
                        </a:lnTo>
                        <a:lnTo>
                          <a:pt x="38" y="151"/>
                        </a:lnTo>
                        <a:lnTo>
                          <a:pt x="38" y="116"/>
                        </a:lnTo>
                        <a:close/>
                      </a:path>
                    </a:pathLst>
                  </a:custGeom>
                  <a:solidFill>
                    <a:srgbClr val="00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7582680" y="5637960"/>
                    <a:ext cx="264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1" h="857">
                        <a:moveTo>
                          <a:pt x="9" y="30"/>
                        </a:moveTo>
                        <a:lnTo>
                          <a:pt x="2" y="86"/>
                        </a:lnTo>
                        <a:lnTo>
                          <a:pt x="0" y="146"/>
                        </a:lnTo>
                        <a:lnTo>
                          <a:pt x="0" y="181"/>
                        </a:lnTo>
                        <a:lnTo>
                          <a:pt x="2" y="218"/>
                        </a:lnTo>
                        <a:lnTo>
                          <a:pt x="5" y="253"/>
                        </a:lnTo>
                        <a:lnTo>
                          <a:pt x="12" y="288"/>
                        </a:lnTo>
                        <a:lnTo>
                          <a:pt x="19" y="321"/>
                        </a:lnTo>
                        <a:lnTo>
                          <a:pt x="28" y="354"/>
                        </a:lnTo>
                        <a:lnTo>
                          <a:pt x="38" y="385"/>
                        </a:lnTo>
                        <a:lnTo>
                          <a:pt x="52" y="418"/>
                        </a:lnTo>
                        <a:lnTo>
                          <a:pt x="64" y="448"/>
                        </a:lnTo>
                        <a:lnTo>
                          <a:pt x="80" y="478"/>
                        </a:lnTo>
                        <a:lnTo>
                          <a:pt x="97" y="508"/>
                        </a:lnTo>
                        <a:lnTo>
                          <a:pt x="116" y="538"/>
                        </a:lnTo>
                        <a:lnTo>
                          <a:pt x="136" y="566"/>
                        </a:lnTo>
                        <a:lnTo>
                          <a:pt x="158" y="594"/>
                        </a:lnTo>
                        <a:lnTo>
                          <a:pt x="182" y="621"/>
                        </a:lnTo>
                        <a:lnTo>
                          <a:pt x="208" y="648"/>
                        </a:lnTo>
                        <a:lnTo>
                          <a:pt x="233" y="673"/>
                        </a:lnTo>
                        <a:lnTo>
                          <a:pt x="261" y="697"/>
                        </a:lnTo>
                        <a:lnTo>
                          <a:pt x="288" y="719"/>
                        </a:lnTo>
                        <a:lnTo>
                          <a:pt x="316" y="739"/>
                        </a:lnTo>
                        <a:lnTo>
                          <a:pt x="344" y="757"/>
                        </a:lnTo>
                        <a:lnTo>
                          <a:pt x="374" y="774"/>
                        </a:lnTo>
                        <a:lnTo>
                          <a:pt x="405" y="790"/>
                        </a:lnTo>
                        <a:lnTo>
                          <a:pt x="436" y="805"/>
                        </a:lnTo>
                        <a:lnTo>
                          <a:pt x="467" y="816"/>
                        </a:lnTo>
                        <a:lnTo>
                          <a:pt x="500" y="826"/>
                        </a:lnTo>
                        <a:lnTo>
                          <a:pt x="533" y="835"/>
                        </a:lnTo>
                        <a:lnTo>
                          <a:pt x="567" y="843"/>
                        </a:lnTo>
                        <a:lnTo>
                          <a:pt x="601" y="849"/>
                        </a:lnTo>
                        <a:lnTo>
                          <a:pt x="636" y="854"/>
                        </a:lnTo>
                        <a:lnTo>
                          <a:pt x="672" y="856"/>
                        </a:lnTo>
                        <a:lnTo>
                          <a:pt x="710" y="857"/>
                        </a:lnTo>
                        <a:lnTo>
                          <a:pt x="730" y="856"/>
                        </a:lnTo>
                        <a:lnTo>
                          <a:pt x="752" y="856"/>
                        </a:lnTo>
                        <a:lnTo>
                          <a:pt x="772" y="854"/>
                        </a:lnTo>
                        <a:lnTo>
                          <a:pt x="776" y="852"/>
                        </a:lnTo>
                        <a:lnTo>
                          <a:pt x="782" y="852"/>
                        </a:lnTo>
                        <a:lnTo>
                          <a:pt x="793" y="852"/>
                        </a:lnTo>
                        <a:lnTo>
                          <a:pt x="834" y="847"/>
                        </a:lnTo>
                        <a:lnTo>
                          <a:pt x="875" y="839"/>
                        </a:lnTo>
                        <a:lnTo>
                          <a:pt x="914" y="829"/>
                        </a:lnTo>
                        <a:lnTo>
                          <a:pt x="952" y="816"/>
                        </a:lnTo>
                        <a:lnTo>
                          <a:pt x="989" y="801"/>
                        </a:lnTo>
                        <a:lnTo>
                          <a:pt x="1007" y="792"/>
                        </a:lnTo>
                        <a:lnTo>
                          <a:pt x="1016" y="788"/>
                        </a:lnTo>
                        <a:lnTo>
                          <a:pt x="1020" y="786"/>
                        </a:lnTo>
                        <a:lnTo>
                          <a:pt x="1023" y="784"/>
                        </a:lnTo>
                        <a:lnTo>
                          <a:pt x="1026" y="784"/>
                        </a:lnTo>
                        <a:lnTo>
                          <a:pt x="1041" y="735"/>
                        </a:lnTo>
                        <a:lnTo>
                          <a:pt x="1002" y="754"/>
                        </a:lnTo>
                        <a:lnTo>
                          <a:pt x="964" y="771"/>
                        </a:lnTo>
                        <a:lnTo>
                          <a:pt x="943" y="778"/>
                        </a:lnTo>
                        <a:lnTo>
                          <a:pt x="924" y="784"/>
                        </a:lnTo>
                        <a:lnTo>
                          <a:pt x="903" y="790"/>
                        </a:lnTo>
                        <a:lnTo>
                          <a:pt x="884" y="797"/>
                        </a:lnTo>
                        <a:lnTo>
                          <a:pt x="841" y="805"/>
                        </a:lnTo>
                        <a:lnTo>
                          <a:pt x="798" y="813"/>
                        </a:lnTo>
                        <a:lnTo>
                          <a:pt x="775" y="814"/>
                        </a:lnTo>
                        <a:lnTo>
                          <a:pt x="754" y="816"/>
                        </a:lnTo>
                        <a:lnTo>
                          <a:pt x="731" y="817"/>
                        </a:lnTo>
                        <a:lnTo>
                          <a:pt x="720" y="817"/>
                        </a:lnTo>
                        <a:lnTo>
                          <a:pt x="714" y="817"/>
                        </a:lnTo>
                        <a:lnTo>
                          <a:pt x="710" y="818"/>
                        </a:lnTo>
                        <a:lnTo>
                          <a:pt x="674" y="817"/>
                        </a:lnTo>
                        <a:lnTo>
                          <a:pt x="640" y="815"/>
                        </a:lnTo>
                        <a:lnTo>
                          <a:pt x="606" y="811"/>
                        </a:lnTo>
                        <a:lnTo>
                          <a:pt x="575" y="806"/>
                        </a:lnTo>
                        <a:lnTo>
                          <a:pt x="542" y="798"/>
                        </a:lnTo>
                        <a:lnTo>
                          <a:pt x="511" y="790"/>
                        </a:lnTo>
                        <a:lnTo>
                          <a:pt x="480" y="780"/>
                        </a:lnTo>
                        <a:lnTo>
                          <a:pt x="451" y="769"/>
                        </a:lnTo>
                        <a:lnTo>
                          <a:pt x="422" y="755"/>
                        </a:lnTo>
                        <a:lnTo>
                          <a:pt x="393" y="740"/>
                        </a:lnTo>
                        <a:lnTo>
                          <a:pt x="365" y="724"/>
                        </a:lnTo>
                        <a:lnTo>
                          <a:pt x="338" y="707"/>
                        </a:lnTo>
                        <a:lnTo>
                          <a:pt x="310" y="688"/>
                        </a:lnTo>
                        <a:lnTo>
                          <a:pt x="284" y="668"/>
                        </a:lnTo>
                        <a:lnTo>
                          <a:pt x="258" y="645"/>
                        </a:lnTo>
                        <a:lnTo>
                          <a:pt x="234" y="622"/>
                        </a:lnTo>
                        <a:lnTo>
                          <a:pt x="209" y="596"/>
                        </a:lnTo>
                        <a:lnTo>
                          <a:pt x="187" y="571"/>
                        </a:lnTo>
                        <a:lnTo>
                          <a:pt x="165" y="544"/>
                        </a:lnTo>
                        <a:lnTo>
                          <a:pt x="147" y="518"/>
                        </a:lnTo>
                        <a:lnTo>
                          <a:pt x="129" y="490"/>
                        </a:lnTo>
                        <a:lnTo>
                          <a:pt x="113" y="463"/>
                        </a:lnTo>
                        <a:lnTo>
                          <a:pt x="98" y="433"/>
                        </a:lnTo>
                        <a:lnTo>
                          <a:pt x="87" y="405"/>
                        </a:lnTo>
                        <a:lnTo>
                          <a:pt x="75" y="373"/>
                        </a:lnTo>
                        <a:lnTo>
                          <a:pt x="64" y="342"/>
                        </a:lnTo>
                        <a:lnTo>
                          <a:pt x="55" y="311"/>
                        </a:lnTo>
                        <a:lnTo>
                          <a:pt x="50" y="280"/>
                        </a:lnTo>
                        <a:lnTo>
                          <a:pt x="44" y="246"/>
                        </a:lnTo>
                        <a:lnTo>
                          <a:pt x="41" y="213"/>
                        </a:lnTo>
                        <a:lnTo>
                          <a:pt x="38" y="179"/>
                        </a:lnTo>
                        <a:lnTo>
                          <a:pt x="38" y="146"/>
                        </a:lnTo>
                        <a:lnTo>
                          <a:pt x="42" y="70"/>
                        </a:lnTo>
                        <a:lnTo>
                          <a:pt x="45" y="34"/>
                        </a:lnTo>
                        <a:lnTo>
                          <a:pt x="53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00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7601760" y="5626440"/>
                    <a:ext cx="24984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3" h="828">
                        <a:moveTo>
                          <a:pt x="22" y="21"/>
                        </a:moveTo>
                        <a:lnTo>
                          <a:pt x="12" y="61"/>
                        </a:lnTo>
                        <a:lnTo>
                          <a:pt x="5" y="104"/>
                        </a:lnTo>
                        <a:lnTo>
                          <a:pt x="1" y="147"/>
                        </a:lnTo>
                        <a:lnTo>
                          <a:pt x="0" y="192"/>
                        </a:lnTo>
                        <a:lnTo>
                          <a:pt x="0" y="224"/>
                        </a:lnTo>
                        <a:lnTo>
                          <a:pt x="2" y="256"/>
                        </a:lnTo>
                        <a:lnTo>
                          <a:pt x="5" y="286"/>
                        </a:lnTo>
                        <a:lnTo>
                          <a:pt x="11" y="318"/>
                        </a:lnTo>
                        <a:lnTo>
                          <a:pt x="17" y="348"/>
                        </a:lnTo>
                        <a:lnTo>
                          <a:pt x="24" y="378"/>
                        </a:lnTo>
                        <a:lnTo>
                          <a:pt x="34" y="407"/>
                        </a:lnTo>
                        <a:lnTo>
                          <a:pt x="46" y="436"/>
                        </a:lnTo>
                        <a:lnTo>
                          <a:pt x="57" y="462"/>
                        </a:lnTo>
                        <a:lnTo>
                          <a:pt x="71" y="489"/>
                        </a:lnTo>
                        <a:lnTo>
                          <a:pt x="86" y="515"/>
                        </a:lnTo>
                        <a:lnTo>
                          <a:pt x="104" y="543"/>
                        </a:lnTo>
                        <a:lnTo>
                          <a:pt x="121" y="567"/>
                        </a:lnTo>
                        <a:lnTo>
                          <a:pt x="141" y="594"/>
                        </a:lnTo>
                        <a:lnTo>
                          <a:pt x="162" y="617"/>
                        </a:lnTo>
                        <a:lnTo>
                          <a:pt x="186" y="642"/>
                        </a:lnTo>
                        <a:lnTo>
                          <a:pt x="232" y="685"/>
                        </a:lnTo>
                        <a:lnTo>
                          <a:pt x="257" y="705"/>
                        </a:lnTo>
                        <a:lnTo>
                          <a:pt x="283" y="723"/>
                        </a:lnTo>
                        <a:lnTo>
                          <a:pt x="308" y="739"/>
                        </a:lnTo>
                        <a:lnTo>
                          <a:pt x="335" y="755"/>
                        </a:lnTo>
                        <a:lnTo>
                          <a:pt x="391" y="782"/>
                        </a:lnTo>
                        <a:lnTo>
                          <a:pt x="418" y="792"/>
                        </a:lnTo>
                        <a:lnTo>
                          <a:pt x="447" y="801"/>
                        </a:lnTo>
                        <a:lnTo>
                          <a:pt x="477" y="809"/>
                        </a:lnTo>
                        <a:lnTo>
                          <a:pt x="508" y="816"/>
                        </a:lnTo>
                        <a:lnTo>
                          <a:pt x="570" y="825"/>
                        </a:lnTo>
                        <a:lnTo>
                          <a:pt x="602" y="827"/>
                        </a:lnTo>
                        <a:lnTo>
                          <a:pt x="635" y="828"/>
                        </a:lnTo>
                        <a:lnTo>
                          <a:pt x="657" y="827"/>
                        </a:lnTo>
                        <a:lnTo>
                          <a:pt x="669" y="826"/>
                        </a:lnTo>
                        <a:lnTo>
                          <a:pt x="681" y="826"/>
                        </a:lnTo>
                        <a:lnTo>
                          <a:pt x="726" y="821"/>
                        </a:lnTo>
                        <a:lnTo>
                          <a:pt x="748" y="817"/>
                        </a:lnTo>
                        <a:lnTo>
                          <a:pt x="771" y="813"/>
                        </a:lnTo>
                        <a:lnTo>
                          <a:pt x="775" y="811"/>
                        </a:lnTo>
                        <a:lnTo>
                          <a:pt x="777" y="810"/>
                        </a:lnTo>
                        <a:lnTo>
                          <a:pt x="781" y="810"/>
                        </a:lnTo>
                        <a:lnTo>
                          <a:pt x="792" y="808"/>
                        </a:lnTo>
                        <a:lnTo>
                          <a:pt x="815" y="803"/>
                        </a:lnTo>
                        <a:lnTo>
                          <a:pt x="856" y="789"/>
                        </a:lnTo>
                        <a:lnTo>
                          <a:pt x="897" y="773"/>
                        </a:lnTo>
                        <a:lnTo>
                          <a:pt x="906" y="767"/>
                        </a:lnTo>
                        <a:lnTo>
                          <a:pt x="916" y="762"/>
                        </a:lnTo>
                        <a:lnTo>
                          <a:pt x="936" y="752"/>
                        </a:lnTo>
                        <a:lnTo>
                          <a:pt x="955" y="741"/>
                        </a:lnTo>
                        <a:lnTo>
                          <a:pt x="976" y="731"/>
                        </a:lnTo>
                        <a:lnTo>
                          <a:pt x="983" y="680"/>
                        </a:lnTo>
                        <a:lnTo>
                          <a:pt x="962" y="692"/>
                        </a:lnTo>
                        <a:lnTo>
                          <a:pt x="957" y="694"/>
                        </a:lnTo>
                        <a:lnTo>
                          <a:pt x="952" y="698"/>
                        </a:lnTo>
                        <a:lnTo>
                          <a:pt x="943" y="705"/>
                        </a:lnTo>
                        <a:lnTo>
                          <a:pt x="923" y="716"/>
                        </a:lnTo>
                        <a:lnTo>
                          <a:pt x="903" y="727"/>
                        </a:lnTo>
                        <a:lnTo>
                          <a:pt x="882" y="736"/>
                        </a:lnTo>
                        <a:lnTo>
                          <a:pt x="861" y="747"/>
                        </a:lnTo>
                        <a:lnTo>
                          <a:pt x="850" y="750"/>
                        </a:lnTo>
                        <a:lnTo>
                          <a:pt x="840" y="755"/>
                        </a:lnTo>
                        <a:lnTo>
                          <a:pt x="819" y="762"/>
                        </a:lnTo>
                        <a:lnTo>
                          <a:pt x="797" y="768"/>
                        </a:lnTo>
                        <a:lnTo>
                          <a:pt x="785" y="770"/>
                        </a:lnTo>
                        <a:lnTo>
                          <a:pt x="782" y="770"/>
                        </a:lnTo>
                        <a:lnTo>
                          <a:pt x="780" y="772"/>
                        </a:lnTo>
                        <a:lnTo>
                          <a:pt x="775" y="774"/>
                        </a:lnTo>
                        <a:lnTo>
                          <a:pt x="730" y="783"/>
                        </a:lnTo>
                        <a:lnTo>
                          <a:pt x="682" y="789"/>
                        </a:lnTo>
                        <a:lnTo>
                          <a:pt x="635" y="791"/>
                        </a:lnTo>
                        <a:lnTo>
                          <a:pt x="603" y="790"/>
                        </a:lnTo>
                        <a:lnTo>
                          <a:pt x="572" y="787"/>
                        </a:lnTo>
                        <a:lnTo>
                          <a:pt x="543" y="784"/>
                        </a:lnTo>
                        <a:lnTo>
                          <a:pt x="514" y="779"/>
                        </a:lnTo>
                        <a:lnTo>
                          <a:pt x="486" y="773"/>
                        </a:lnTo>
                        <a:lnTo>
                          <a:pt x="459" y="765"/>
                        </a:lnTo>
                        <a:lnTo>
                          <a:pt x="405" y="747"/>
                        </a:lnTo>
                        <a:lnTo>
                          <a:pt x="378" y="734"/>
                        </a:lnTo>
                        <a:lnTo>
                          <a:pt x="352" y="721"/>
                        </a:lnTo>
                        <a:lnTo>
                          <a:pt x="303" y="691"/>
                        </a:lnTo>
                        <a:lnTo>
                          <a:pt x="257" y="655"/>
                        </a:lnTo>
                        <a:lnTo>
                          <a:pt x="234" y="635"/>
                        </a:lnTo>
                        <a:lnTo>
                          <a:pt x="213" y="615"/>
                        </a:lnTo>
                        <a:lnTo>
                          <a:pt x="190" y="591"/>
                        </a:lnTo>
                        <a:lnTo>
                          <a:pt x="171" y="569"/>
                        </a:lnTo>
                        <a:lnTo>
                          <a:pt x="151" y="545"/>
                        </a:lnTo>
                        <a:lnTo>
                          <a:pt x="136" y="522"/>
                        </a:lnTo>
                        <a:lnTo>
                          <a:pt x="119" y="497"/>
                        </a:lnTo>
                        <a:lnTo>
                          <a:pt x="105" y="472"/>
                        </a:lnTo>
                        <a:lnTo>
                          <a:pt x="91" y="446"/>
                        </a:lnTo>
                        <a:lnTo>
                          <a:pt x="81" y="421"/>
                        </a:lnTo>
                        <a:lnTo>
                          <a:pt x="70" y="393"/>
                        </a:lnTo>
                        <a:lnTo>
                          <a:pt x="62" y="366"/>
                        </a:lnTo>
                        <a:lnTo>
                          <a:pt x="54" y="337"/>
                        </a:lnTo>
                        <a:lnTo>
                          <a:pt x="48" y="310"/>
                        </a:lnTo>
                        <a:lnTo>
                          <a:pt x="43" y="281"/>
                        </a:lnTo>
                        <a:lnTo>
                          <a:pt x="40" y="252"/>
                        </a:lnTo>
                        <a:lnTo>
                          <a:pt x="38" y="222"/>
                        </a:lnTo>
                        <a:lnTo>
                          <a:pt x="38" y="192"/>
                        </a:lnTo>
                        <a:lnTo>
                          <a:pt x="39" y="141"/>
                        </a:lnTo>
                        <a:lnTo>
                          <a:pt x="45" y="93"/>
                        </a:lnTo>
                        <a:lnTo>
                          <a:pt x="54" y="45"/>
                        </a:lnTo>
                        <a:lnTo>
                          <a:pt x="69" y="0"/>
                        </a:lnTo>
                        <a:lnTo>
                          <a:pt x="22" y="21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7611840" y="5621760"/>
                    <a:ext cx="24012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7" h="808">
                        <a:moveTo>
                          <a:pt x="76" y="0"/>
                        </a:moveTo>
                        <a:lnTo>
                          <a:pt x="31" y="17"/>
                        </a:lnTo>
                        <a:lnTo>
                          <a:pt x="16" y="62"/>
                        </a:lnTo>
                        <a:lnTo>
                          <a:pt x="7" y="110"/>
                        </a:lnTo>
                        <a:lnTo>
                          <a:pt x="1" y="158"/>
                        </a:lnTo>
                        <a:lnTo>
                          <a:pt x="0" y="209"/>
                        </a:lnTo>
                        <a:lnTo>
                          <a:pt x="0" y="239"/>
                        </a:lnTo>
                        <a:lnTo>
                          <a:pt x="2" y="269"/>
                        </a:lnTo>
                        <a:lnTo>
                          <a:pt x="5" y="298"/>
                        </a:lnTo>
                        <a:lnTo>
                          <a:pt x="10" y="327"/>
                        </a:lnTo>
                        <a:lnTo>
                          <a:pt x="16" y="354"/>
                        </a:lnTo>
                        <a:lnTo>
                          <a:pt x="24" y="383"/>
                        </a:lnTo>
                        <a:lnTo>
                          <a:pt x="32" y="410"/>
                        </a:lnTo>
                        <a:lnTo>
                          <a:pt x="43" y="438"/>
                        </a:lnTo>
                        <a:lnTo>
                          <a:pt x="53" y="463"/>
                        </a:lnTo>
                        <a:lnTo>
                          <a:pt x="67" y="489"/>
                        </a:lnTo>
                        <a:lnTo>
                          <a:pt x="81" y="514"/>
                        </a:lnTo>
                        <a:lnTo>
                          <a:pt x="98" y="539"/>
                        </a:lnTo>
                        <a:lnTo>
                          <a:pt x="113" y="562"/>
                        </a:lnTo>
                        <a:lnTo>
                          <a:pt x="133" y="586"/>
                        </a:lnTo>
                        <a:lnTo>
                          <a:pt x="152" y="608"/>
                        </a:lnTo>
                        <a:lnTo>
                          <a:pt x="175" y="632"/>
                        </a:lnTo>
                        <a:lnTo>
                          <a:pt x="196" y="652"/>
                        </a:lnTo>
                        <a:lnTo>
                          <a:pt x="219" y="672"/>
                        </a:lnTo>
                        <a:lnTo>
                          <a:pt x="265" y="708"/>
                        </a:lnTo>
                        <a:lnTo>
                          <a:pt x="314" y="738"/>
                        </a:lnTo>
                        <a:lnTo>
                          <a:pt x="340" y="751"/>
                        </a:lnTo>
                        <a:lnTo>
                          <a:pt x="367" y="764"/>
                        </a:lnTo>
                        <a:lnTo>
                          <a:pt x="421" y="782"/>
                        </a:lnTo>
                        <a:lnTo>
                          <a:pt x="448" y="790"/>
                        </a:lnTo>
                        <a:lnTo>
                          <a:pt x="476" y="796"/>
                        </a:lnTo>
                        <a:lnTo>
                          <a:pt x="505" y="801"/>
                        </a:lnTo>
                        <a:lnTo>
                          <a:pt x="534" y="804"/>
                        </a:lnTo>
                        <a:lnTo>
                          <a:pt x="565" y="807"/>
                        </a:lnTo>
                        <a:lnTo>
                          <a:pt x="597" y="808"/>
                        </a:lnTo>
                        <a:lnTo>
                          <a:pt x="644" y="806"/>
                        </a:lnTo>
                        <a:lnTo>
                          <a:pt x="692" y="800"/>
                        </a:lnTo>
                        <a:lnTo>
                          <a:pt x="737" y="791"/>
                        </a:lnTo>
                        <a:lnTo>
                          <a:pt x="742" y="789"/>
                        </a:lnTo>
                        <a:lnTo>
                          <a:pt x="744" y="787"/>
                        </a:lnTo>
                        <a:lnTo>
                          <a:pt x="747" y="787"/>
                        </a:lnTo>
                        <a:lnTo>
                          <a:pt x="759" y="785"/>
                        </a:lnTo>
                        <a:lnTo>
                          <a:pt x="781" y="779"/>
                        </a:lnTo>
                        <a:lnTo>
                          <a:pt x="802" y="772"/>
                        </a:lnTo>
                        <a:lnTo>
                          <a:pt x="812" y="767"/>
                        </a:lnTo>
                        <a:lnTo>
                          <a:pt x="823" y="764"/>
                        </a:lnTo>
                        <a:lnTo>
                          <a:pt x="844" y="753"/>
                        </a:lnTo>
                        <a:lnTo>
                          <a:pt x="865" y="744"/>
                        </a:lnTo>
                        <a:lnTo>
                          <a:pt x="885" y="733"/>
                        </a:lnTo>
                        <a:lnTo>
                          <a:pt x="905" y="722"/>
                        </a:lnTo>
                        <a:lnTo>
                          <a:pt x="914" y="715"/>
                        </a:lnTo>
                        <a:lnTo>
                          <a:pt x="919" y="711"/>
                        </a:lnTo>
                        <a:lnTo>
                          <a:pt x="924" y="709"/>
                        </a:lnTo>
                        <a:lnTo>
                          <a:pt x="945" y="697"/>
                        </a:lnTo>
                        <a:lnTo>
                          <a:pt x="946" y="672"/>
                        </a:lnTo>
                        <a:lnTo>
                          <a:pt x="946" y="659"/>
                        </a:lnTo>
                        <a:lnTo>
                          <a:pt x="947" y="648"/>
                        </a:lnTo>
                        <a:lnTo>
                          <a:pt x="908" y="675"/>
                        </a:lnTo>
                        <a:lnTo>
                          <a:pt x="888" y="688"/>
                        </a:lnTo>
                        <a:lnTo>
                          <a:pt x="882" y="690"/>
                        </a:lnTo>
                        <a:lnTo>
                          <a:pt x="878" y="693"/>
                        </a:lnTo>
                        <a:lnTo>
                          <a:pt x="869" y="700"/>
                        </a:lnTo>
                        <a:lnTo>
                          <a:pt x="857" y="705"/>
                        </a:lnTo>
                        <a:lnTo>
                          <a:pt x="852" y="707"/>
                        </a:lnTo>
                        <a:lnTo>
                          <a:pt x="847" y="710"/>
                        </a:lnTo>
                        <a:lnTo>
                          <a:pt x="827" y="721"/>
                        </a:lnTo>
                        <a:lnTo>
                          <a:pt x="784" y="739"/>
                        </a:lnTo>
                        <a:lnTo>
                          <a:pt x="738" y="751"/>
                        </a:lnTo>
                        <a:lnTo>
                          <a:pt x="693" y="761"/>
                        </a:lnTo>
                        <a:lnTo>
                          <a:pt x="645" y="767"/>
                        </a:lnTo>
                        <a:lnTo>
                          <a:pt x="620" y="768"/>
                        </a:lnTo>
                        <a:lnTo>
                          <a:pt x="608" y="768"/>
                        </a:lnTo>
                        <a:lnTo>
                          <a:pt x="597" y="769"/>
                        </a:lnTo>
                        <a:lnTo>
                          <a:pt x="567" y="768"/>
                        </a:lnTo>
                        <a:lnTo>
                          <a:pt x="539" y="766"/>
                        </a:lnTo>
                        <a:lnTo>
                          <a:pt x="484" y="759"/>
                        </a:lnTo>
                        <a:lnTo>
                          <a:pt x="431" y="745"/>
                        </a:lnTo>
                        <a:lnTo>
                          <a:pt x="406" y="738"/>
                        </a:lnTo>
                        <a:lnTo>
                          <a:pt x="381" y="728"/>
                        </a:lnTo>
                        <a:lnTo>
                          <a:pt x="356" y="717"/>
                        </a:lnTo>
                        <a:lnTo>
                          <a:pt x="332" y="705"/>
                        </a:lnTo>
                        <a:lnTo>
                          <a:pt x="286" y="677"/>
                        </a:lnTo>
                        <a:lnTo>
                          <a:pt x="242" y="643"/>
                        </a:lnTo>
                        <a:lnTo>
                          <a:pt x="221" y="625"/>
                        </a:lnTo>
                        <a:lnTo>
                          <a:pt x="201" y="606"/>
                        </a:lnTo>
                        <a:lnTo>
                          <a:pt x="161" y="563"/>
                        </a:lnTo>
                        <a:lnTo>
                          <a:pt x="143" y="540"/>
                        </a:lnTo>
                        <a:lnTo>
                          <a:pt x="128" y="519"/>
                        </a:lnTo>
                        <a:lnTo>
                          <a:pt x="112" y="495"/>
                        </a:lnTo>
                        <a:lnTo>
                          <a:pt x="100" y="472"/>
                        </a:lnTo>
                        <a:lnTo>
                          <a:pt x="87" y="447"/>
                        </a:lnTo>
                        <a:lnTo>
                          <a:pt x="77" y="424"/>
                        </a:lnTo>
                        <a:lnTo>
                          <a:pt x="67" y="397"/>
                        </a:lnTo>
                        <a:lnTo>
                          <a:pt x="59" y="373"/>
                        </a:lnTo>
                        <a:lnTo>
                          <a:pt x="47" y="320"/>
                        </a:lnTo>
                        <a:lnTo>
                          <a:pt x="41" y="292"/>
                        </a:lnTo>
                        <a:lnTo>
                          <a:pt x="39" y="265"/>
                        </a:lnTo>
                        <a:lnTo>
                          <a:pt x="36" y="237"/>
                        </a:lnTo>
                        <a:lnTo>
                          <a:pt x="36" y="209"/>
                        </a:lnTo>
                        <a:lnTo>
                          <a:pt x="39" y="154"/>
                        </a:lnTo>
                        <a:lnTo>
                          <a:pt x="45" y="100"/>
                        </a:lnTo>
                        <a:lnTo>
                          <a:pt x="58" y="48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00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7639560" y="5615280"/>
                    <a:ext cx="21132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1" h="722">
                        <a:moveTo>
                          <a:pt x="38" y="237"/>
                        </a:moveTo>
                        <a:lnTo>
                          <a:pt x="38" y="203"/>
                        </a:lnTo>
                        <a:lnTo>
                          <a:pt x="41" y="172"/>
                        </a:lnTo>
                        <a:lnTo>
                          <a:pt x="54" y="111"/>
                        </a:lnTo>
                        <a:lnTo>
                          <a:pt x="61" y="82"/>
                        </a:lnTo>
                        <a:lnTo>
                          <a:pt x="74" y="54"/>
                        </a:lnTo>
                        <a:lnTo>
                          <a:pt x="105" y="0"/>
                        </a:lnTo>
                        <a:lnTo>
                          <a:pt x="59" y="5"/>
                        </a:lnTo>
                        <a:lnTo>
                          <a:pt x="33" y="58"/>
                        </a:lnTo>
                        <a:lnTo>
                          <a:pt x="23" y="85"/>
                        </a:lnTo>
                        <a:lnTo>
                          <a:pt x="15" y="115"/>
                        </a:lnTo>
                        <a:lnTo>
                          <a:pt x="7" y="144"/>
                        </a:lnTo>
                        <a:lnTo>
                          <a:pt x="4" y="175"/>
                        </a:lnTo>
                        <a:lnTo>
                          <a:pt x="0" y="237"/>
                        </a:lnTo>
                        <a:lnTo>
                          <a:pt x="1" y="286"/>
                        </a:lnTo>
                        <a:lnTo>
                          <a:pt x="8" y="334"/>
                        </a:lnTo>
                        <a:lnTo>
                          <a:pt x="19" y="379"/>
                        </a:lnTo>
                        <a:lnTo>
                          <a:pt x="26" y="401"/>
                        </a:lnTo>
                        <a:lnTo>
                          <a:pt x="35" y="423"/>
                        </a:lnTo>
                        <a:lnTo>
                          <a:pt x="55" y="465"/>
                        </a:lnTo>
                        <a:lnTo>
                          <a:pt x="66" y="484"/>
                        </a:lnTo>
                        <a:lnTo>
                          <a:pt x="80" y="505"/>
                        </a:lnTo>
                        <a:lnTo>
                          <a:pt x="109" y="543"/>
                        </a:lnTo>
                        <a:lnTo>
                          <a:pt x="125" y="561"/>
                        </a:lnTo>
                        <a:lnTo>
                          <a:pt x="143" y="581"/>
                        </a:lnTo>
                        <a:lnTo>
                          <a:pt x="178" y="612"/>
                        </a:lnTo>
                        <a:lnTo>
                          <a:pt x="217" y="642"/>
                        </a:lnTo>
                        <a:lnTo>
                          <a:pt x="256" y="666"/>
                        </a:lnTo>
                        <a:lnTo>
                          <a:pt x="298" y="686"/>
                        </a:lnTo>
                        <a:lnTo>
                          <a:pt x="342" y="702"/>
                        </a:lnTo>
                        <a:lnTo>
                          <a:pt x="388" y="713"/>
                        </a:lnTo>
                        <a:lnTo>
                          <a:pt x="435" y="720"/>
                        </a:lnTo>
                        <a:lnTo>
                          <a:pt x="486" y="722"/>
                        </a:lnTo>
                        <a:lnTo>
                          <a:pt x="497" y="721"/>
                        </a:lnTo>
                        <a:lnTo>
                          <a:pt x="509" y="721"/>
                        </a:lnTo>
                        <a:lnTo>
                          <a:pt x="534" y="720"/>
                        </a:lnTo>
                        <a:lnTo>
                          <a:pt x="582" y="713"/>
                        </a:lnTo>
                        <a:lnTo>
                          <a:pt x="627" y="702"/>
                        </a:lnTo>
                        <a:lnTo>
                          <a:pt x="638" y="698"/>
                        </a:lnTo>
                        <a:lnTo>
                          <a:pt x="649" y="694"/>
                        </a:lnTo>
                        <a:lnTo>
                          <a:pt x="672" y="686"/>
                        </a:lnTo>
                        <a:lnTo>
                          <a:pt x="692" y="676"/>
                        </a:lnTo>
                        <a:lnTo>
                          <a:pt x="696" y="673"/>
                        </a:lnTo>
                        <a:lnTo>
                          <a:pt x="702" y="670"/>
                        </a:lnTo>
                        <a:lnTo>
                          <a:pt x="714" y="666"/>
                        </a:lnTo>
                        <a:lnTo>
                          <a:pt x="723" y="659"/>
                        </a:lnTo>
                        <a:lnTo>
                          <a:pt x="727" y="656"/>
                        </a:lnTo>
                        <a:lnTo>
                          <a:pt x="733" y="653"/>
                        </a:lnTo>
                        <a:lnTo>
                          <a:pt x="753" y="642"/>
                        </a:lnTo>
                        <a:lnTo>
                          <a:pt x="792" y="612"/>
                        </a:lnTo>
                        <a:lnTo>
                          <a:pt x="810" y="597"/>
                        </a:lnTo>
                        <a:lnTo>
                          <a:pt x="829" y="581"/>
                        </a:lnTo>
                        <a:lnTo>
                          <a:pt x="831" y="578"/>
                        </a:lnTo>
                        <a:lnTo>
                          <a:pt x="825" y="532"/>
                        </a:lnTo>
                        <a:lnTo>
                          <a:pt x="803" y="555"/>
                        </a:lnTo>
                        <a:lnTo>
                          <a:pt x="769" y="584"/>
                        </a:lnTo>
                        <a:lnTo>
                          <a:pt x="751" y="598"/>
                        </a:lnTo>
                        <a:lnTo>
                          <a:pt x="734" y="611"/>
                        </a:lnTo>
                        <a:lnTo>
                          <a:pt x="715" y="623"/>
                        </a:lnTo>
                        <a:lnTo>
                          <a:pt x="696" y="634"/>
                        </a:lnTo>
                        <a:lnTo>
                          <a:pt x="658" y="653"/>
                        </a:lnTo>
                        <a:lnTo>
                          <a:pt x="617" y="667"/>
                        </a:lnTo>
                        <a:lnTo>
                          <a:pt x="596" y="671"/>
                        </a:lnTo>
                        <a:lnTo>
                          <a:pt x="575" y="677"/>
                        </a:lnTo>
                        <a:lnTo>
                          <a:pt x="552" y="680"/>
                        </a:lnTo>
                        <a:lnTo>
                          <a:pt x="541" y="682"/>
                        </a:lnTo>
                        <a:lnTo>
                          <a:pt x="531" y="684"/>
                        </a:lnTo>
                        <a:lnTo>
                          <a:pt x="486" y="686"/>
                        </a:lnTo>
                        <a:lnTo>
                          <a:pt x="439" y="684"/>
                        </a:lnTo>
                        <a:lnTo>
                          <a:pt x="396" y="677"/>
                        </a:lnTo>
                        <a:lnTo>
                          <a:pt x="353" y="667"/>
                        </a:lnTo>
                        <a:lnTo>
                          <a:pt x="313" y="653"/>
                        </a:lnTo>
                        <a:lnTo>
                          <a:pt x="274" y="634"/>
                        </a:lnTo>
                        <a:lnTo>
                          <a:pt x="237" y="611"/>
                        </a:lnTo>
                        <a:lnTo>
                          <a:pt x="202" y="584"/>
                        </a:lnTo>
                        <a:lnTo>
                          <a:pt x="169" y="555"/>
                        </a:lnTo>
                        <a:lnTo>
                          <a:pt x="137" y="521"/>
                        </a:lnTo>
                        <a:lnTo>
                          <a:pt x="111" y="486"/>
                        </a:lnTo>
                        <a:lnTo>
                          <a:pt x="99" y="466"/>
                        </a:lnTo>
                        <a:lnTo>
                          <a:pt x="89" y="448"/>
                        </a:lnTo>
                        <a:lnTo>
                          <a:pt x="71" y="410"/>
                        </a:lnTo>
                        <a:lnTo>
                          <a:pt x="55" y="369"/>
                        </a:lnTo>
                        <a:lnTo>
                          <a:pt x="49" y="347"/>
                        </a:lnTo>
                        <a:lnTo>
                          <a:pt x="46" y="327"/>
                        </a:lnTo>
                        <a:lnTo>
                          <a:pt x="41" y="304"/>
                        </a:lnTo>
                        <a:lnTo>
                          <a:pt x="39" y="283"/>
                        </a:lnTo>
                        <a:lnTo>
                          <a:pt x="38" y="237"/>
                        </a:lnTo>
                        <a:close/>
                      </a:path>
                    </a:pathLst>
                  </a:custGeom>
                  <a:solidFill>
                    <a:srgbClr val="00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7649280" y="5614200"/>
                    <a:ext cx="19944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787" h="689">
                        <a:moveTo>
                          <a:pt x="67" y="3"/>
                        </a:moveTo>
                        <a:lnTo>
                          <a:pt x="36" y="57"/>
                        </a:lnTo>
                        <a:lnTo>
                          <a:pt x="23" y="85"/>
                        </a:lnTo>
                        <a:lnTo>
                          <a:pt x="16" y="114"/>
                        </a:lnTo>
                        <a:lnTo>
                          <a:pt x="3" y="175"/>
                        </a:lnTo>
                        <a:lnTo>
                          <a:pt x="0" y="206"/>
                        </a:lnTo>
                        <a:lnTo>
                          <a:pt x="0" y="240"/>
                        </a:lnTo>
                        <a:lnTo>
                          <a:pt x="1" y="286"/>
                        </a:lnTo>
                        <a:lnTo>
                          <a:pt x="3" y="307"/>
                        </a:lnTo>
                        <a:lnTo>
                          <a:pt x="8" y="330"/>
                        </a:lnTo>
                        <a:lnTo>
                          <a:pt x="11" y="350"/>
                        </a:lnTo>
                        <a:lnTo>
                          <a:pt x="17" y="372"/>
                        </a:lnTo>
                        <a:lnTo>
                          <a:pt x="33" y="413"/>
                        </a:lnTo>
                        <a:lnTo>
                          <a:pt x="51" y="451"/>
                        </a:lnTo>
                        <a:lnTo>
                          <a:pt x="61" y="469"/>
                        </a:lnTo>
                        <a:lnTo>
                          <a:pt x="73" y="489"/>
                        </a:lnTo>
                        <a:lnTo>
                          <a:pt x="99" y="524"/>
                        </a:lnTo>
                        <a:lnTo>
                          <a:pt x="131" y="558"/>
                        </a:lnTo>
                        <a:lnTo>
                          <a:pt x="164" y="587"/>
                        </a:lnTo>
                        <a:lnTo>
                          <a:pt x="199" y="614"/>
                        </a:lnTo>
                        <a:lnTo>
                          <a:pt x="236" y="637"/>
                        </a:lnTo>
                        <a:lnTo>
                          <a:pt x="275" y="656"/>
                        </a:lnTo>
                        <a:lnTo>
                          <a:pt x="315" y="670"/>
                        </a:lnTo>
                        <a:lnTo>
                          <a:pt x="358" y="680"/>
                        </a:lnTo>
                        <a:lnTo>
                          <a:pt x="401" y="687"/>
                        </a:lnTo>
                        <a:lnTo>
                          <a:pt x="448" y="689"/>
                        </a:lnTo>
                        <a:lnTo>
                          <a:pt x="493" y="687"/>
                        </a:lnTo>
                        <a:lnTo>
                          <a:pt x="503" y="685"/>
                        </a:lnTo>
                        <a:lnTo>
                          <a:pt x="514" y="683"/>
                        </a:lnTo>
                        <a:lnTo>
                          <a:pt x="537" y="680"/>
                        </a:lnTo>
                        <a:lnTo>
                          <a:pt x="558" y="674"/>
                        </a:lnTo>
                        <a:lnTo>
                          <a:pt x="579" y="670"/>
                        </a:lnTo>
                        <a:lnTo>
                          <a:pt x="620" y="656"/>
                        </a:lnTo>
                        <a:lnTo>
                          <a:pt x="658" y="637"/>
                        </a:lnTo>
                        <a:lnTo>
                          <a:pt x="677" y="626"/>
                        </a:lnTo>
                        <a:lnTo>
                          <a:pt x="696" y="614"/>
                        </a:lnTo>
                        <a:lnTo>
                          <a:pt x="713" y="601"/>
                        </a:lnTo>
                        <a:lnTo>
                          <a:pt x="731" y="587"/>
                        </a:lnTo>
                        <a:lnTo>
                          <a:pt x="765" y="558"/>
                        </a:lnTo>
                        <a:lnTo>
                          <a:pt x="787" y="535"/>
                        </a:lnTo>
                        <a:lnTo>
                          <a:pt x="781" y="511"/>
                        </a:lnTo>
                        <a:lnTo>
                          <a:pt x="776" y="490"/>
                        </a:lnTo>
                        <a:lnTo>
                          <a:pt x="758" y="510"/>
                        </a:lnTo>
                        <a:lnTo>
                          <a:pt x="753" y="515"/>
                        </a:lnTo>
                        <a:lnTo>
                          <a:pt x="748" y="520"/>
                        </a:lnTo>
                        <a:lnTo>
                          <a:pt x="739" y="532"/>
                        </a:lnTo>
                        <a:lnTo>
                          <a:pt x="707" y="559"/>
                        </a:lnTo>
                        <a:lnTo>
                          <a:pt x="698" y="564"/>
                        </a:lnTo>
                        <a:lnTo>
                          <a:pt x="690" y="571"/>
                        </a:lnTo>
                        <a:lnTo>
                          <a:pt x="674" y="584"/>
                        </a:lnTo>
                        <a:lnTo>
                          <a:pt x="640" y="604"/>
                        </a:lnTo>
                        <a:lnTo>
                          <a:pt x="622" y="612"/>
                        </a:lnTo>
                        <a:lnTo>
                          <a:pt x="605" y="621"/>
                        </a:lnTo>
                        <a:lnTo>
                          <a:pt x="595" y="623"/>
                        </a:lnTo>
                        <a:lnTo>
                          <a:pt x="586" y="627"/>
                        </a:lnTo>
                        <a:lnTo>
                          <a:pt x="568" y="634"/>
                        </a:lnTo>
                        <a:lnTo>
                          <a:pt x="529" y="644"/>
                        </a:lnTo>
                        <a:lnTo>
                          <a:pt x="488" y="649"/>
                        </a:lnTo>
                        <a:lnTo>
                          <a:pt x="448" y="652"/>
                        </a:lnTo>
                        <a:lnTo>
                          <a:pt x="404" y="649"/>
                        </a:lnTo>
                        <a:lnTo>
                          <a:pt x="365" y="644"/>
                        </a:lnTo>
                        <a:lnTo>
                          <a:pt x="326" y="634"/>
                        </a:lnTo>
                        <a:lnTo>
                          <a:pt x="290" y="621"/>
                        </a:lnTo>
                        <a:lnTo>
                          <a:pt x="254" y="604"/>
                        </a:lnTo>
                        <a:lnTo>
                          <a:pt x="220" y="584"/>
                        </a:lnTo>
                        <a:lnTo>
                          <a:pt x="187" y="559"/>
                        </a:lnTo>
                        <a:lnTo>
                          <a:pt x="157" y="532"/>
                        </a:lnTo>
                        <a:lnTo>
                          <a:pt x="128" y="500"/>
                        </a:lnTo>
                        <a:lnTo>
                          <a:pt x="104" y="467"/>
                        </a:lnTo>
                        <a:lnTo>
                          <a:pt x="82" y="433"/>
                        </a:lnTo>
                        <a:lnTo>
                          <a:pt x="73" y="415"/>
                        </a:lnTo>
                        <a:lnTo>
                          <a:pt x="67" y="398"/>
                        </a:lnTo>
                        <a:lnTo>
                          <a:pt x="59" y="379"/>
                        </a:lnTo>
                        <a:lnTo>
                          <a:pt x="53" y="360"/>
                        </a:lnTo>
                        <a:lnTo>
                          <a:pt x="44" y="322"/>
                        </a:lnTo>
                        <a:lnTo>
                          <a:pt x="38" y="281"/>
                        </a:lnTo>
                        <a:lnTo>
                          <a:pt x="37" y="240"/>
                        </a:lnTo>
                        <a:lnTo>
                          <a:pt x="38" y="206"/>
                        </a:lnTo>
                        <a:lnTo>
                          <a:pt x="42" y="173"/>
                        </a:lnTo>
                        <a:lnTo>
                          <a:pt x="47" y="142"/>
                        </a:lnTo>
                        <a:lnTo>
                          <a:pt x="56" y="112"/>
                        </a:lnTo>
                        <a:lnTo>
                          <a:pt x="67" y="82"/>
                        </a:lnTo>
                        <a:lnTo>
                          <a:pt x="80" y="53"/>
                        </a:lnTo>
                        <a:lnTo>
                          <a:pt x="95" y="26"/>
                        </a:lnTo>
                        <a:lnTo>
                          <a:pt x="114" y="0"/>
                        </a:lnTo>
                        <a:lnTo>
                          <a:pt x="67" y="3"/>
                        </a:lnTo>
                        <a:close/>
                      </a:path>
                    </a:pathLst>
                  </a:custGeom>
                  <a:solidFill>
                    <a:srgbClr val="00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7630200" y="5616360"/>
                    <a:ext cx="22176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3" h="756">
                        <a:moveTo>
                          <a:pt x="37" y="232"/>
                        </a:moveTo>
                        <a:lnTo>
                          <a:pt x="41" y="170"/>
                        </a:lnTo>
                        <a:lnTo>
                          <a:pt x="44" y="139"/>
                        </a:lnTo>
                        <a:lnTo>
                          <a:pt x="52" y="110"/>
                        </a:lnTo>
                        <a:lnTo>
                          <a:pt x="60" y="80"/>
                        </a:lnTo>
                        <a:lnTo>
                          <a:pt x="70" y="53"/>
                        </a:lnTo>
                        <a:lnTo>
                          <a:pt x="96" y="0"/>
                        </a:lnTo>
                        <a:lnTo>
                          <a:pt x="49" y="10"/>
                        </a:lnTo>
                        <a:lnTo>
                          <a:pt x="26" y="61"/>
                        </a:lnTo>
                        <a:lnTo>
                          <a:pt x="17" y="87"/>
                        </a:lnTo>
                        <a:lnTo>
                          <a:pt x="11" y="116"/>
                        </a:lnTo>
                        <a:lnTo>
                          <a:pt x="5" y="143"/>
                        </a:lnTo>
                        <a:lnTo>
                          <a:pt x="2" y="172"/>
                        </a:lnTo>
                        <a:lnTo>
                          <a:pt x="0" y="232"/>
                        </a:lnTo>
                        <a:lnTo>
                          <a:pt x="2" y="284"/>
                        </a:lnTo>
                        <a:lnTo>
                          <a:pt x="4" y="309"/>
                        </a:lnTo>
                        <a:lnTo>
                          <a:pt x="9" y="335"/>
                        </a:lnTo>
                        <a:lnTo>
                          <a:pt x="13" y="359"/>
                        </a:lnTo>
                        <a:lnTo>
                          <a:pt x="20" y="384"/>
                        </a:lnTo>
                        <a:lnTo>
                          <a:pt x="37" y="432"/>
                        </a:lnTo>
                        <a:lnTo>
                          <a:pt x="46" y="453"/>
                        </a:lnTo>
                        <a:lnTo>
                          <a:pt x="58" y="476"/>
                        </a:lnTo>
                        <a:lnTo>
                          <a:pt x="70" y="498"/>
                        </a:lnTo>
                        <a:lnTo>
                          <a:pt x="85" y="520"/>
                        </a:lnTo>
                        <a:lnTo>
                          <a:pt x="100" y="541"/>
                        </a:lnTo>
                        <a:lnTo>
                          <a:pt x="117" y="562"/>
                        </a:lnTo>
                        <a:lnTo>
                          <a:pt x="134" y="581"/>
                        </a:lnTo>
                        <a:lnTo>
                          <a:pt x="153" y="602"/>
                        </a:lnTo>
                        <a:lnTo>
                          <a:pt x="171" y="620"/>
                        </a:lnTo>
                        <a:lnTo>
                          <a:pt x="191" y="637"/>
                        </a:lnTo>
                        <a:lnTo>
                          <a:pt x="233" y="669"/>
                        </a:lnTo>
                        <a:lnTo>
                          <a:pt x="254" y="682"/>
                        </a:lnTo>
                        <a:lnTo>
                          <a:pt x="275" y="695"/>
                        </a:lnTo>
                        <a:lnTo>
                          <a:pt x="322" y="717"/>
                        </a:lnTo>
                        <a:lnTo>
                          <a:pt x="368" y="733"/>
                        </a:lnTo>
                        <a:lnTo>
                          <a:pt x="393" y="740"/>
                        </a:lnTo>
                        <a:lnTo>
                          <a:pt x="418" y="746"/>
                        </a:lnTo>
                        <a:lnTo>
                          <a:pt x="469" y="753"/>
                        </a:lnTo>
                        <a:lnTo>
                          <a:pt x="495" y="755"/>
                        </a:lnTo>
                        <a:lnTo>
                          <a:pt x="523" y="756"/>
                        </a:lnTo>
                        <a:lnTo>
                          <a:pt x="534" y="755"/>
                        </a:lnTo>
                        <a:lnTo>
                          <a:pt x="546" y="755"/>
                        </a:lnTo>
                        <a:lnTo>
                          <a:pt x="571" y="754"/>
                        </a:lnTo>
                        <a:lnTo>
                          <a:pt x="619" y="747"/>
                        </a:lnTo>
                        <a:lnTo>
                          <a:pt x="642" y="741"/>
                        </a:lnTo>
                        <a:lnTo>
                          <a:pt x="653" y="738"/>
                        </a:lnTo>
                        <a:lnTo>
                          <a:pt x="665" y="736"/>
                        </a:lnTo>
                        <a:lnTo>
                          <a:pt x="711" y="722"/>
                        </a:lnTo>
                        <a:lnTo>
                          <a:pt x="731" y="712"/>
                        </a:lnTo>
                        <a:lnTo>
                          <a:pt x="753" y="703"/>
                        </a:lnTo>
                        <a:lnTo>
                          <a:pt x="773" y="691"/>
                        </a:lnTo>
                        <a:lnTo>
                          <a:pt x="795" y="680"/>
                        </a:lnTo>
                        <a:lnTo>
                          <a:pt x="814" y="666"/>
                        </a:lnTo>
                        <a:lnTo>
                          <a:pt x="834" y="653"/>
                        </a:lnTo>
                        <a:lnTo>
                          <a:pt x="873" y="622"/>
                        </a:lnTo>
                        <a:lnTo>
                          <a:pt x="868" y="573"/>
                        </a:lnTo>
                        <a:lnTo>
                          <a:pt x="866" y="576"/>
                        </a:lnTo>
                        <a:lnTo>
                          <a:pt x="847" y="592"/>
                        </a:lnTo>
                        <a:lnTo>
                          <a:pt x="829" y="607"/>
                        </a:lnTo>
                        <a:lnTo>
                          <a:pt x="790" y="637"/>
                        </a:lnTo>
                        <a:lnTo>
                          <a:pt x="770" y="648"/>
                        </a:lnTo>
                        <a:lnTo>
                          <a:pt x="764" y="651"/>
                        </a:lnTo>
                        <a:lnTo>
                          <a:pt x="760" y="654"/>
                        </a:lnTo>
                        <a:lnTo>
                          <a:pt x="751" y="661"/>
                        </a:lnTo>
                        <a:lnTo>
                          <a:pt x="739" y="665"/>
                        </a:lnTo>
                        <a:lnTo>
                          <a:pt x="733" y="668"/>
                        </a:lnTo>
                        <a:lnTo>
                          <a:pt x="729" y="671"/>
                        </a:lnTo>
                        <a:lnTo>
                          <a:pt x="709" y="681"/>
                        </a:lnTo>
                        <a:lnTo>
                          <a:pt x="686" y="689"/>
                        </a:lnTo>
                        <a:lnTo>
                          <a:pt x="675" y="693"/>
                        </a:lnTo>
                        <a:lnTo>
                          <a:pt x="664" y="697"/>
                        </a:lnTo>
                        <a:lnTo>
                          <a:pt x="619" y="708"/>
                        </a:lnTo>
                        <a:lnTo>
                          <a:pt x="571" y="715"/>
                        </a:lnTo>
                        <a:lnTo>
                          <a:pt x="546" y="716"/>
                        </a:lnTo>
                        <a:lnTo>
                          <a:pt x="534" y="716"/>
                        </a:lnTo>
                        <a:lnTo>
                          <a:pt x="523" y="717"/>
                        </a:lnTo>
                        <a:lnTo>
                          <a:pt x="472" y="715"/>
                        </a:lnTo>
                        <a:lnTo>
                          <a:pt x="425" y="708"/>
                        </a:lnTo>
                        <a:lnTo>
                          <a:pt x="379" y="697"/>
                        </a:lnTo>
                        <a:lnTo>
                          <a:pt x="335" y="681"/>
                        </a:lnTo>
                        <a:lnTo>
                          <a:pt x="293" y="661"/>
                        </a:lnTo>
                        <a:lnTo>
                          <a:pt x="254" y="637"/>
                        </a:lnTo>
                        <a:lnTo>
                          <a:pt x="215" y="607"/>
                        </a:lnTo>
                        <a:lnTo>
                          <a:pt x="180" y="576"/>
                        </a:lnTo>
                        <a:lnTo>
                          <a:pt x="162" y="556"/>
                        </a:lnTo>
                        <a:lnTo>
                          <a:pt x="146" y="538"/>
                        </a:lnTo>
                        <a:lnTo>
                          <a:pt x="117" y="500"/>
                        </a:lnTo>
                        <a:lnTo>
                          <a:pt x="103" y="479"/>
                        </a:lnTo>
                        <a:lnTo>
                          <a:pt x="92" y="460"/>
                        </a:lnTo>
                        <a:lnTo>
                          <a:pt x="72" y="418"/>
                        </a:lnTo>
                        <a:lnTo>
                          <a:pt x="63" y="396"/>
                        </a:lnTo>
                        <a:lnTo>
                          <a:pt x="56" y="374"/>
                        </a:lnTo>
                        <a:lnTo>
                          <a:pt x="45" y="329"/>
                        </a:lnTo>
                        <a:lnTo>
                          <a:pt x="38" y="281"/>
                        </a:lnTo>
                        <a:lnTo>
                          <a:pt x="37" y="232"/>
                        </a:lnTo>
                        <a:close/>
                      </a:path>
                    </a:pathLst>
                  </a:custGeom>
                  <a:solidFill>
                    <a:srgbClr val="00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7620840" y="5618880"/>
                    <a:ext cx="2311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782">
                        <a:moveTo>
                          <a:pt x="38" y="222"/>
                        </a:moveTo>
                        <a:lnTo>
                          <a:pt x="40" y="162"/>
                        </a:lnTo>
                        <a:lnTo>
                          <a:pt x="43" y="133"/>
                        </a:lnTo>
                        <a:lnTo>
                          <a:pt x="49" y="106"/>
                        </a:lnTo>
                        <a:lnTo>
                          <a:pt x="55" y="77"/>
                        </a:lnTo>
                        <a:lnTo>
                          <a:pt x="64" y="51"/>
                        </a:lnTo>
                        <a:lnTo>
                          <a:pt x="87" y="0"/>
                        </a:lnTo>
                        <a:lnTo>
                          <a:pt x="40" y="13"/>
                        </a:lnTo>
                        <a:lnTo>
                          <a:pt x="22" y="61"/>
                        </a:lnTo>
                        <a:lnTo>
                          <a:pt x="9" y="113"/>
                        </a:lnTo>
                        <a:lnTo>
                          <a:pt x="3" y="167"/>
                        </a:lnTo>
                        <a:lnTo>
                          <a:pt x="0" y="222"/>
                        </a:lnTo>
                        <a:lnTo>
                          <a:pt x="0" y="250"/>
                        </a:lnTo>
                        <a:lnTo>
                          <a:pt x="3" y="278"/>
                        </a:lnTo>
                        <a:lnTo>
                          <a:pt x="5" y="305"/>
                        </a:lnTo>
                        <a:lnTo>
                          <a:pt x="11" y="333"/>
                        </a:lnTo>
                        <a:lnTo>
                          <a:pt x="23" y="386"/>
                        </a:lnTo>
                        <a:lnTo>
                          <a:pt x="31" y="410"/>
                        </a:lnTo>
                        <a:lnTo>
                          <a:pt x="41" y="437"/>
                        </a:lnTo>
                        <a:lnTo>
                          <a:pt x="51" y="460"/>
                        </a:lnTo>
                        <a:lnTo>
                          <a:pt x="64" y="485"/>
                        </a:lnTo>
                        <a:lnTo>
                          <a:pt x="76" y="508"/>
                        </a:lnTo>
                        <a:lnTo>
                          <a:pt x="92" y="532"/>
                        </a:lnTo>
                        <a:lnTo>
                          <a:pt x="107" y="553"/>
                        </a:lnTo>
                        <a:lnTo>
                          <a:pt x="125" y="576"/>
                        </a:lnTo>
                        <a:lnTo>
                          <a:pt x="165" y="619"/>
                        </a:lnTo>
                        <a:lnTo>
                          <a:pt x="185" y="638"/>
                        </a:lnTo>
                        <a:lnTo>
                          <a:pt x="206" y="656"/>
                        </a:lnTo>
                        <a:lnTo>
                          <a:pt x="250" y="690"/>
                        </a:lnTo>
                        <a:lnTo>
                          <a:pt x="296" y="718"/>
                        </a:lnTo>
                        <a:lnTo>
                          <a:pt x="320" y="730"/>
                        </a:lnTo>
                        <a:lnTo>
                          <a:pt x="345" y="741"/>
                        </a:lnTo>
                        <a:lnTo>
                          <a:pt x="370" y="751"/>
                        </a:lnTo>
                        <a:lnTo>
                          <a:pt x="395" y="758"/>
                        </a:lnTo>
                        <a:lnTo>
                          <a:pt x="448" y="772"/>
                        </a:lnTo>
                        <a:lnTo>
                          <a:pt x="503" y="779"/>
                        </a:lnTo>
                        <a:lnTo>
                          <a:pt x="531" y="781"/>
                        </a:lnTo>
                        <a:lnTo>
                          <a:pt x="561" y="782"/>
                        </a:lnTo>
                        <a:lnTo>
                          <a:pt x="572" y="781"/>
                        </a:lnTo>
                        <a:lnTo>
                          <a:pt x="584" y="781"/>
                        </a:lnTo>
                        <a:lnTo>
                          <a:pt x="609" y="780"/>
                        </a:lnTo>
                        <a:lnTo>
                          <a:pt x="657" y="774"/>
                        </a:lnTo>
                        <a:lnTo>
                          <a:pt x="702" y="764"/>
                        </a:lnTo>
                        <a:lnTo>
                          <a:pt x="748" y="752"/>
                        </a:lnTo>
                        <a:lnTo>
                          <a:pt x="791" y="734"/>
                        </a:lnTo>
                        <a:lnTo>
                          <a:pt x="811" y="723"/>
                        </a:lnTo>
                        <a:lnTo>
                          <a:pt x="816" y="720"/>
                        </a:lnTo>
                        <a:lnTo>
                          <a:pt x="821" y="718"/>
                        </a:lnTo>
                        <a:lnTo>
                          <a:pt x="833" y="713"/>
                        </a:lnTo>
                        <a:lnTo>
                          <a:pt x="842" y="706"/>
                        </a:lnTo>
                        <a:lnTo>
                          <a:pt x="846" y="703"/>
                        </a:lnTo>
                        <a:lnTo>
                          <a:pt x="852" y="701"/>
                        </a:lnTo>
                        <a:lnTo>
                          <a:pt x="872" y="688"/>
                        </a:lnTo>
                        <a:lnTo>
                          <a:pt x="911" y="661"/>
                        </a:lnTo>
                        <a:lnTo>
                          <a:pt x="911" y="645"/>
                        </a:lnTo>
                        <a:lnTo>
                          <a:pt x="911" y="612"/>
                        </a:lnTo>
                        <a:lnTo>
                          <a:pt x="872" y="643"/>
                        </a:lnTo>
                        <a:lnTo>
                          <a:pt x="852" y="656"/>
                        </a:lnTo>
                        <a:lnTo>
                          <a:pt x="833" y="670"/>
                        </a:lnTo>
                        <a:lnTo>
                          <a:pt x="811" y="681"/>
                        </a:lnTo>
                        <a:lnTo>
                          <a:pt x="791" y="693"/>
                        </a:lnTo>
                        <a:lnTo>
                          <a:pt x="769" y="702"/>
                        </a:lnTo>
                        <a:lnTo>
                          <a:pt x="749" y="712"/>
                        </a:lnTo>
                        <a:lnTo>
                          <a:pt x="703" y="726"/>
                        </a:lnTo>
                        <a:lnTo>
                          <a:pt x="691" y="728"/>
                        </a:lnTo>
                        <a:lnTo>
                          <a:pt x="680" y="731"/>
                        </a:lnTo>
                        <a:lnTo>
                          <a:pt x="657" y="737"/>
                        </a:lnTo>
                        <a:lnTo>
                          <a:pt x="609" y="744"/>
                        </a:lnTo>
                        <a:lnTo>
                          <a:pt x="584" y="745"/>
                        </a:lnTo>
                        <a:lnTo>
                          <a:pt x="572" y="745"/>
                        </a:lnTo>
                        <a:lnTo>
                          <a:pt x="561" y="746"/>
                        </a:lnTo>
                        <a:lnTo>
                          <a:pt x="533" y="745"/>
                        </a:lnTo>
                        <a:lnTo>
                          <a:pt x="507" y="743"/>
                        </a:lnTo>
                        <a:lnTo>
                          <a:pt x="456" y="736"/>
                        </a:lnTo>
                        <a:lnTo>
                          <a:pt x="431" y="730"/>
                        </a:lnTo>
                        <a:lnTo>
                          <a:pt x="406" y="723"/>
                        </a:lnTo>
                        <a:lnTo>
                          <a:pt x="360" y="707"/>
                        </a:lnTo>
                        <a:lnTo>
                          <a:pt x="313" y="685"/>
                        </a:lnTo>
                        <a:lnTo>
                          <a:pt x="292" y="672"/>
                        </a:lnTo>
                        <a:lnTo>
                          <a:pt x="271" y="659"/>
                        </a:lnTo>
                        <a:lnTo>
                          <a:pt x="229" y="627"/>
                        </a:lnTo>
                        <a:lnTo>
                          <a:pt x="209" y="610"/>
                        </a:lnTo>
                        <a:lnTo>
                          <a:pt x="191" y="592"/>
                        </a:lnTo>
                        <a:lnTo>
                          <a:pt x="172" y="571"/>
                        </a:lnTo>
                        <a:lnTo>
                          <a:pt x="155" y="552"/>
                        </a:lnTo>
                        <a:lnTo>
                          <a:pt x="138" y="531"/>
                        </a:lnTo>
                        <a:lnTo>
                          <a:pt x="123" y="510"/>
                        </a:lnTo>
                        <a:lnTo>
                          <a:pt x="108" y="488"/>
                        </a:lnTo>
                        <a:lnTo>
                          <a:pt x="96" y="466"/>
                        </a:lnTo>
                        <a:lnTo>
                          <a:pt x="84" y="443"/>
                        </a:lnTo>
                        <a:lnTo>
                          <a:pt x="75" y="422"/>
                        </a:lnTo>
                        <a:lnTo>
                          <a:pt x="58" y="374"/>
                        </a:lnTo>
                        <a:lnTo>
                          <a:pt x="51" y="349"/>
                        </a:lnTo>
                        <a:lnTo>
                          <a:pt x="47" y="325"/>
                        </a:lnTo>
                        <a:lnTo>
                          <a:pt x="42" y="299"/>
                        </a:lnTo>
                        <a:lnTo>
                          <a:pt x="40" y="274"/>
                        </a:lnTo>
                        <a:lnTo>
                          <a:pt x="38" y="222"/>
                        </a:lnTo>
                        <a:close/>
                      </a:path>
                    </a:pathLst>
                  </a:custGeom>
                  <a:solidFill>
                    <a:srgbClr val="00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7514640" y="5772960"/>
                    <a:ext cx="22968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690">
                        <a:moveTo>
                          <a:pt x="0" y="40"/>
                        </a:moveTo>
                        <a:lnTo>
                          <a:pt x="1" y="95"/>
                        </a:lnTo>
                        <a:lnTo>
                          <a:pt x="20" y="132"/>
                        </a:lnTo>
                        <a:lnTo>
                          <a:pt x="43" y="170"/>
                        </a:lnTo>
                        <a:lnTo>
                          <a:pt x="66" y="207"/>
                        </a:lnTo>
                        <a:lnTo>
                          <a:pt x="92" y="244"/>
                        </a:lnTo>
                        <a:lnTo>
                          <a:pt x="118" y="279"/>
                        </a:lnTo>
                        <a:lnTo>
                          <a:pt x="147" y="314"/>
                        </a:lnTo>
                        <a:lnTo>
                          <a:pt x="178" y="348"/>
                        </a:lnTo>
                        <a:lnTo>
                          <a:pt x="212" y="384"/>
                        </a:lnTo>
                        <a:lnTo>
                          <a:pt x="244" y="414"/>
                        </a:lnTo>
                        <a:lnTo>
                          <a:pt x="277" y="444"/>
                        </a:lnTo>
                        <a:lnTo>
                          <a:pt x="310" y="471"/>
                        </a:lnTo>
                        <a:lnTo>
                          <a:pt x="345" y="498"/>
                        </a:lnTo>
                        <a:lnTo>
                          <a:pt x="416" y="546"/>
                        </a:lnTo>
                        <a:lnTo>
                          <a:pt x="453" y="567"/>
                        </a:lnTo>
                        <a:lnTo>
                          <a:pt x="490" y="588"/>
                        </a:lnTo>
                        <a:lnTo>
                          <a:pt x="527" y="606"/>
                        </a:lnTo>
                        <a:lnTo>
                          <a:pt x="566" y="623"/>
                        </a:lnTo>
                        <a:lnTo>
                          <a:pt x="604" y="637"/>
                        </a:lnTo>
                        <a:lnTo>
                          <a:pt x="645" y="651"/>
                        </a:lnTo>
                        <a:lnTo>
                          <a:pt x="685" y="662"/>
                        </a:lnTo>
                        <a:lnTo>
                          <a:pt x="727" y="673"/>
                        </a:lnTo>
                        <a:lnTo>
                          <a:pt x="769" y="682"/>
                        </a:lnTo>
                        <a:lnTo>
                          <a:pt x="812" y="690"/>
                        </a:lnTo>
                        <a:lnTo>
                          <a:pt x="835" y="683"/>
                        </a:lnTo>
                        <a:lnTo>
                          <a:pt x="846" y="679"/>
                        </a:lnTo>
                        <a:lnTo>
                          <a:pt x="858" y="677"/>
                        </a:lnTo>
                        <a:lnTo>
                          <a:pt x="881" y="669"/>
                        </a:lnTo>
                        <a:lnTo>
                          <a:pt x="893" y="665"/>
                        </a:lnTo>
                        <a:lnTo>
                          <a:pt x="898" y="662"/>
                        </a:lnTo>
                        <a:lnTo>
                          <a:pt x="905" y="661"/>
                        </a:lnTo>
                        <a:lnTo>
                          <a:pt x="856" y="656"/>
                        </a:lnTo>
                        <a:lnTo>
                          <a:pt x="809" y="650"/>
                        </a:lnTo>
                        <a:lnTo>
                          <a:pt x="762" y="642"/>
                        </a:lnTo>
                        <a:lnTo>
                          <a:pt x="717" y="632"/>
                        </a:lnTo>
                        <a:lnTo>
                          <a:pt x="671" y="619"/>
                        </a:lnTo>
                        <a:lnTo>
                          <a:pt x="628" y="606"/>
                        </a:lnTo>
                        <a:lnTo>
                          <a:pt x="585" y="590"/>
                        </a:lnTo>
                        <a:lnTo>
                          <a:pt x="544" y="573"/>
                        </a:lnTo>
                        <a:lnTo>
                          <a:pt x="502" y="551"/>
                        </a:lnTo>
                        <a:lnTo>
                          <a:pt x="462" y="530"/>
                        </a:lnTo>
                        <a:lnTo>
                          <a:pt x="422" y="506"/>
                        </a:lnTo>
                        <a:lnTo>
                          <a:pt x="383" y="480"/>
                        </a:lnTo>
                        <a:lnTo>
                          <a:pt x="345" y="452"/>
                        </a:lnTo>
                        <a:lnTo>
                          <a:pt x="309" y="422"/>
                        </a:lnTo>
                        <a:lnTo>
                          <a:pt x="272" y="390"/>
                        </a:lnTo>
                        <a:lnTo>
                          <a:pt x="238" y="357"/>
                        </a:lnTo>
                        <a:lnTo>
                          <a:pt x="199" y="316"/>
                        </a:lnTo>
                        <a:lnTo>
                          <a:pt x="179" y="294"/>
                        </a:lnTo>
                        <a:lnTo>
                          <a:pt x="162" y="274"/>
                        </a:lnTo>
                        <a:lnTo>
                          <a:pt x="144" y="251"/>
                        </a:lnTo>
                        <a:lnTo>
                          <a:pt x="128" y="229"/>
                        </a:lnTo>
                        <a:lnTo>
                          <a:pt x="98" y="186"/>
                        </a:lnTo>
                        <a:lnTo>
                          <a:pt x="69" y="141"/>
                        </a:lnTo>
                        <a:lnTo>
                          <a:pt x="43" y="96"/>
                        </a:lnTo>
                        <a:lnTo>
                          <a:pt x="20" y="48"/>
                        </a:lnTo>
                        <a:lnTo>
                          <a:pt x="1" y="0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7515000" y="5750640"/>
                    <a:ext cx="24840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0" h="748">
                        <a:moveTo>
                          <a:pt x="10" y="0"/>
                        </a:moveTo>
                        <a:lnTo>
                          <a:pt x="2" y="42"/>
                        </a:lnTo>
                        <a:lnTo>
                          <a:pt x="0" y="87"/>
                        </a:lnTo>
                        <a:lnTo>
                          <a:pt x="19" y="135"/>
                        </a:lnTo>
                        <a:lnTo>
                          <a:pt x="42" y="183"/>
                        </a:lnTo>
                        <a:lnTo>
                          <a:pt x="68" y="228"/>
                        </a:lnTo>
                        <a:lnTo>
                          <a:pt x="97" y="273"/>
                        </a:lnTo>
                        <a:lnTo>
                          <a:pt x="127" y="316"/>
                        </a:lnTo>
                        <a:lnTo>
                          <a:pt x="143" y="338"/>
                        </a:lnTo>
                        <a:lnTo>
                          <a:pt x="161" y="361"/>
                        </a:lnTo>
                        <a:lnTo>
                          <a:pt x="178" y="381"/>
                        </a:lnTo>
                        <a:lnTo>
                          <a:pt x="198" y="403"/>
                        </a:lnTo>
                        <a:lnTo>
                          <a:pt x="237" y="444"/>
                        </a:lnTo>
                        <a:lnTo>
                          <a:pt x="271" y="477"/>
                        </a:lnTo>
                        <a:lnTo>
                          <a:pt x="308" y="509"/>
                        </a:lnTo>
                        <a:lnTo>
                          <a:pt x="344" y="539"/>
                        </a:lnTo>
                        <a:lnTo>
                          <a:pt x="382" y="567"/>
                        </a:lnTo>
                        <a:lnTo>
                          <a:pt x="421" y="593"/>
                        </a:lnTo>
                        <a:lnTo>
                          <a:pt x="461" y="617"/>
                        </a:lnTo>
                        <a:lnTo>
                          <a:pt x="501" y="638"/>
                        </a:lnTo>
                        <a:lnTo>
                          <a:pt x="543" y="660"/>
                        </a:lnTo>
                        <a:lnTo>
                          <a:pt x="584" y="677"/>
                        </a:lnTo>
                        <a:lnTo>
                          <a:pt x="627" y="693"/>
                        </a:lnTo>
                        <a:lnTo>
                          <a:pt x="670" y="706"/>
                        </a:lnTo>
                        <a:lnTo>
                          <a:pt x="716" y="719"/>
                        </a:lnTo>
                        <a:lnTo>
                          <a:pt x="761" y="729"/>
                        </a:lnTo>
                        <a:lnTo>
                          <a:pt x="808" y="737"/>
                        </a:lnTo>
                        <a:lnTo>
                          <a:pt x="855" y="743"/>
                        </a:lnTo>
                        <a:lnTo>
                          <a:pt x="904" y="748"/>
                        </a:lnTo>
                        <a:lnTo>
                          <a:pt x="943" y="731"/>
                        </a:lnTo>
                        <a:lnTo>
                          <a:pt x="961" y="722"/>
                        </a:lnTo>
                        <a:lnTo>
                          <a:pt x="980" y="713"/>
                        </a:lnTo>
                        <a:lnTo>
                          <a:pt x="977" y="713"/>
                        </a:lnTo>
                        <a:lnTo>
                          <a:pt x="924" y="711"/>
                        </a:lnTo>
                        <a:lnTo>
                          <a:pt x="873" y="707"/>
                        </a:lnTo>
                        <a:lnTo>
                          <a:pt x="823" y="702"/>
                        </a:lnTo>
                        <a:lnTo>
                          <a:pt x="775" y="694"/>
                        </a:lnTo>
                        <a:lnTo>
                          <a:pt x="726" y="682"/>
                        </a:lnTo>
                        <a:lnTo>
                          <a:pt x="679" y="670"/>
                        </a:lnTo>
                        <a:lnTo>
                          <a:pt x="633" y="655"/>
                        </a:lnTo>
                        <a:lnTo>
                          <a:pt x="589" y="638"/>
                        </a:lnTo>
                        <a:lnTo>
                          <a:pt x="543" y="617"/>
                        </a:lnTo>
                        <a:lnTo>
                          <a:pt x="500" y="595"/>
                        </a:lnTo>
                        <a:lnTo>
                          <a:pt x="458" y="571"/>
                        </a:lnTo>
                        <a:lnTo>
                          <a:pt x="418" y="545"/>
                        </a:lnTo>
                        <a:lnTo>
                          <a:pt x="377" y="516"/>
                        </a:lnTo>
                        <a:lnTo>
                          <a:pt x="338" y="485"/>
                        </a:lnTo>
                        <a:lnTo>
                          <a:pt x="300" y="452"/>
                        </a:lnTo>
                        <a:lnTo>
                          <a:pt x="263" y="417"/>
                        </a:lnTo>
                        <a:lnTo>
                          <a:pt x="218" y="370"/>
                        </a:lnTo>
                        <a:lnTo>
                          <a:pt x="196" y="345"/>
                        </a:lnTo>
                        <a:lnTo>
                          <a:pt x="177" y="321"/>
                        </a:lnTo>
                        <a:lnTo>
                          <a:pt x="140" y="271"/>
                        </a:lnTo>
                        <a:lnTo>
                          <a:pt x="107" y="220"/>
                        </a:lnTo>
                        <a:lnTo>
                          <a:pt x="76" y="167"/>
                        </a:lnTo>
                        <a:lnTo>
                          <a:pt x="51" y="112"/>
                        </a:lnTo>
                        <a:lnTo>
                          <a:pt x="39" y="84"/>
                        </a:lnTo>
                        <a:lnTo>
                          <a:pt x="29" y="57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7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7517520" y="5731200"/>
                    <a:ext cx="26208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2" h="789">
                        <a:moveTo>
                          <a:pt x="19" y="0"/>
                        </a:moveTo>
                        <a:lnTo>
                          <a:pt x="8" y="36"/>
                        </a:lnTo>
                        <a:lnTo>
                          <a:pt x="0" y="76"/>
                        </a:lnTo>
                        <a:lnTo>
                          <a:pt x="19" y="133"/>
                        </a:lnTo>
                        <a:lnTo>
                          <a:pt x="29" y="160"/>
                        </a:lnTo>
                        <a:lnTo>
                          <a:pt x="41" y="188"/>
                        </a:lnTo>
                        <a:lnTo>
                          <a:pt x="66" y="243"/>
                        </a:lnTo>
                        <a:lnTo>
                          <a:pt x="97" y="296"/>
                        </a:lnTo>
                        <a:lnTo>
                          <a:pt x="130" y="347"/>
                        </a:lnTo>
                        <a:lnTo>
                          <a:pt x="167" y="397"/>
                        </a:lnTo>
                        <a:lnTo>
                          <a:pt x="186" y="421"/>
                        </a:lnTo>
                        <a:lnTo>
                          <a:pt x="208" y="446"/>
                        </a:lnTo>
                        <a:lnTo>
                          <a:pt x="253" y="493"/>
                        </a:lnTo>
                        <a:lnTo>
                          <a:pt x="290" y="528"/>
                        </a:lnTo>
                        <a:lnTo>
                          <a:pt x="328" y="561"/>
                        </a:lnTo>
                        <a:lnTo>
                          <a:pt x="367" y="592"/>
                        </a:lnTo>
                        <a:lnTo>
                          <a:pt x="408" y="621"/>
                        </a:lnTo>
                        <a:lnTo>
                          <a:pt x="448" y="647"/>
                        </a:lnTo>
                        <a:lnTo>
                          <a:pt x="490" y="671"/>
                        </a:lnTo>
                        <a:lnTo>
                          <a:pt x="533" y="693"/>
                        </a:lnTo>
                        <a:lnTo>
                          <a:pt x="579" y="714"/>
                        </a:lnTo>
                        <a:lnTo>
                          <a:pt x="623" y="731"/>
                        </a:lnTo>
                        <a:lnTo>
                          <a:pt x="669" y="746"/>
                        </a:lnTo>
                        <a:lnTo>
                          <a:pt x="716" y="758"/>
                        </a:lnTo>
                        <a:lnTo>
                          <a:pt x="765" y="770"/>
                        </a:lnTo>
                        <a:lnTo>
                          <a:pt x="813" y="778"/>
                        </a:lnTo>
                        <a:lnTo>
                          <a:pt x="863" y="783"/>
                        </a:lnTo>
                        <a:lnTo>
                          <a:pt x="914" y="787"/>
                        </a:lnTo>
                        <a:lnTo>
                          <a:pt x="967" y="789"/>
                        </a:lnTo>
                        <a:lnTo>
                          <a:pt x="970" y="789"/>
                        </a:lnTo>
                        <a:lnTo>
                          <a:pt x="977" y="783"/>
                        </a:lnTo>
                        <a:lnTo>
                          <a:pt x="985" y="779"/>
                        </a:lnTo>
                        <a:lnTo>
                          <a:pt x="1001" y="770"/>
                        </a:lnTo>
                        <a:lnTo>
                          <a:pt x="1032" y="751"/>
                        </a:lnTo>
                        <a:lnTo>
                          <a:pt x="967" y="752"/>
                        </a:lnTo>
                        <a:lnTo>
                          <a:pt x="916" y="751"/>
                        </a:lnTo>
                        <a:lnTo>
                          <a:pt x="867" y="747"/>
                        </a:lnTo>
                        <a:lnTo>
                          <a:pt x="819" y="741"/>
                        </a:lnTo>
                        <a:lnTo>
                          <a:pt x="773" y="734"/>
                        </a:lnTo>
                        <a:lnTo>
                          <a:pt x="726" y="723"/>
                        </a:lnTo>
                        <a:lnTo>
                          <a:pt x="681" y="711"/>
                        </a:lnTo>
                        <a:lnTo>
                          <a:pt x="637" y="696"/>
                        </a:lnTo>
                        <a:lnTo>
                          <a:pt x="593" y="680"/>
                        </a:lnTo>
                        <a:lnTo>
                          <a:pt x="550" y="661"/>
                        </a:lnTo>
                        <a:lnTo>
                          <a:pt x="508" y="639"/>
                        </a:lnTo>
                        <a:lnTo>
                          <a:pt x="468" y="616"/>
                        </a:lnTo>
                        <a:lnTo>
                          <a:pt x="429" y="591"/>
                        </a:lnTo>
                        <a:lnTo>
                          <a:pt x="389" y="562"/>
                        </a:lnTo>
                        <a:lnTo>
                          <a:pt x="352" y="533"/>
                        </a:lnTo>
                        <a:lnTo>
                          <a:pt x="316" y="500"/>
                        </a:lnTo>
                        <a:lnTo>
                          <a:pt x="280" y="467"/>
                        </a:lnTo>
                        <a:lnTo>
                          <a:pt x="254" y="440"/>
                        </a:lnTo>
                        <a:lnTo>
                          <a:pt x="231" y="414"/>
                        </a:lnTo>
                        <a:lnTo>
                          <a:pt x="208" y="387"/>
                        </a:lnTo>
                        <a:lnTo>
                          <a:pt x="188" y="361"/>
                        </a:lnTo>
                        <a:lnTo>
                          <a:pt x="166" y="332"/>
                        </a:lnTo>
                        <a:lnTo>
                          <a:pt x="147" y="305"/>
                        </a:lnTo>
                        <a:lnTo>
                          <a:pt x="113" y="248"/>
                        </a:lnTo>
                        <a:lnTo>
                          <a:pt x="96" y="218"/>
                        </a:lnTo>
                        <a:lnTo>
                          <a:pt x="81" y="188"/>
                        </a:lnTo>
                        <a:lnTo>
                          <a:pt x="56" y="127"/>
                        </a:lnTo>
                        <a:lnTo>
                          <a:pt x="43" y="95"/>
                        </a:lnTo>
                        <a:lnTo>
                          <a:pt x="34" y="65"/>
                        </a:lnTo>
                        <a:lnTo>
                          <a:pt x="25" y="32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7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7522200" y="5714280"/>
                    <a:ext cx="27072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7" h="819">
                        <a:moveTo>
                          <a:pt x="26" y="0"/>
                        </a:moveTo>
                        <a:lnTo>
                          <a:pt x="11" y="32"/>
                        </a:lnTo>
                        <a:lnTo>
                          <a:pt x="0" y="67"/>
                        </a:lnTo>
                        <a:lnTo>
                          <a:pt x="6" y="99"/>
                        </a:lnTo>
                        <a:lnTo>
                          <a:pt x="15" y="132"/>
                        </a:lnTo>
                        <a:lnTo>
                          <a:pt x="24" y="162"/>
                        </a:lnTo>
                        <a:lnTo>
                          <a:pt x="37" y="194"/>
                        </a:lnTo>
                        <a:lnTo>
                          <a:pt x="62" y="255"/>
                        </a:lnTo>
                        <a:lnTo>
                          <a:pt x="77" y="285"/>
                        </a:lnTo>
                        <a:lnTo>
                          <a:pt x="94" y="315"/>
                        </a:lnTo>
                        <a:lnTo>
                          <a:pt x="128" y="372"/>
                        </a:lnTo>
                        <a:lnTo>
                          <a:pt x="147" y="399"/>
                        </a:lnTo>
                        <a:lnTo>
                          <a:pt x="169" y="428"/>
                        </a:lnTo>
                        <a:lnTo>
                          <a:pt x="189" y="454"/>
                        </a:lnTo>
                        <a:lnTo>
                          <a:pt x="212" y="481"/>
                        </a:lnTo>
                        <a:lnTo>
                          <a:pt x="235" y="507"/>
                        </a:lnTo>
                        <a:lnTo>
                          <a:pt x="261" y="534"/>
                        </a:lnTo>
                        <a:lnTo>
                          <a:pt x="297" y="567"/>
                        </a:lnTo>
                        <a:lnTo>
                          <a:pt x="333" y="600"/>
                        </a:lnTo>
                        <a:lnTo>
                          <a:pt x="370" y="629"/>
                        </a:lnTo>
                        <a:lnTo>
                          <a:pt x="410" y="658"/>
                        </a:lnTo>
                        <a:lnTo>
                          <a:pt x="449" y="683"/>
                        </a:lnTo>
                        <a:lnTo>
                          <a:pt x="489" y="706"/>
                        </a:lnTo>
                        <a:lnTo>
                          <a:pt x="531" y="728"/>
                        </a:lnTo>
                        <a:lnTo>
                          <a:pt x="574" y="747"/>
                        </a:lnTo>
                        <a:lnTo>
                          <a:pt x="618" y="763"/>
                        </a:lnTo>
                        <a:lnTo>
                          <a:pt x="662" y="778"/>
                        </a:lnTo>
                        <a:lnTo>
                          <a:pt x="707" y="790"/>
                        </a:lnTo>
                        <a:lnTo>
                          <a:pt x="754" y="801"/>
                        </a:lnTo>
                        <a:lnTo>
                          <a:pt x="800" y="808"/>
                        </a:lnTo>
                        <a:lnTo>
                          <a:pt x="848" y="814"/>
                        </a:lnTo>
                        <a:lnTo>
                          <a:pt x="897" y="818"/>
                        </a:lnTo>
                        <a:lnTo>
                          <a:pt x="948" y="819"/>
                        </a:lnTo>
                        <a:lnTo>
                          <a:pt x="1013" y="818"/>
                        </a:lnTo>
                        <a:lnTo>
                          <a:pt x="1067" y="774"/>
                        </a:lnTo>
                        <a:lnTo>
                          <a:pt x="1008" y="779"/>
                        </a:lnTo>
                        <a:lnTo>
                          <a:pt x="992" y="779"/>
                        </a:lnTo>
                        <a:lnTo>
                          <a:pt x="984" y="779"/>
                        </a:lnTo>
                        <a:lnTo>
                          <a:pt x="977" y="780"/>
                        </a:lnTo>
                        <a:lnTo>
                          <a:pt x="948" y="781"/>
                        </a:lnTo>
                        <a:lnTo>
                          <a:pt x="899" y="780"/>
                        </a:lnTo>
                        <a:lnTo>
                          <a:pt x="851" y="777"/>
                        </a:lnTo>
                        <a:lnTo>
                          <a:pt x="805" y="771"/>
                        </a:lnTo>
                        <a:lnTo>
                          <a:pt x="760" y="763"/>
                        </a:lnTo>
                        <a:lnTo>
                          <a:pt x="715" y="753"/>
                        </a:lnTo>
                        <a:lnTo>
                          <a:pt x="672" y="742"/>
                        </a:lnTo>
                        <a:lnTo>
                          <a:pt x="629" y="727"/>
                        </a:lnTo>
                        <a:lnTo>
                          <a:pt x="588" y="712"/>
                        </a:lnTo>
                        <a:lnTo>
                          <a:pt x="546" y="693"/>
                        </a:lnTo>
                        <a:lnTo>
                          <a:pt x="506" y="674"/>
                        </a:lnTo>
                        <a:lnTo>
                          <a:pt x="468" y="651"/>
                        </a:lnTo>
                        <a:lnTo>
                          <a:pt x="430" y="627"/>
                        </a:lnTo>
                        <a:lnTo>
                          <a:pt x="393" y="600"/>
                        </a:lnTo>
                        <a:lnTo>
                          <a:pt x="357" y="572"/>
                        </a:lnTo>
                        <a:lnTo>
                          <a:pt x="322" y="541"/>
                        </a:lnTo>
                        <a:lnTo>
                          <a:pt x="288" y="508"/>
                        </a:lnTo>
                        <a:lnTo>
                          <a:pt x="234" y="451"/>
                        </a:lnTo>
                        <a:lnTo>
                          <a:pt x="209" y="422"/>
                        </a:lnTo>
                        <a:lnTo>
                          <a:pt x="188" y="394"/>
                        </a:lnTo>
                        <a:lnTo>
                          <a:pt x="166" y="363"/>
                        </a:lnTo>
                        <a:lnTo>
                          <a:pt x="147" y="334"/>
                        </a:lnTo>
                        <a:lnTo>
                          <a:pt x="128" y="302"/>
                        </a:lnTo>
                        <a:lnTo>
                          <a:pt x="112" y="271"/>
                        </a:lnTo>
                        <a:lnTo>
                          <a:pt x="95" y="238"/>
                        </a:lnTo>
                        <a:lnTo>
                          <a:pt x="81" y="207"/>
                        </a:lnTo>
                        <a:lnTo>
                          <a:pt x="68" y="173"/>
                        </a:lnTo>
                        <a:lnTo>
                          <a:pt x="57" y="140"/>
                        </a:lnTo>
                        <a:lnTo>
                          <a:pt x="46" y="105"/>
                        </a:lnTo>
                        <a:lnTo>
                          <a:pt x="38" y="71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007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7529040" y="5699160"/>
                    <a:ext cx="2764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7" h="841">
                        <a:moveTo>
                          <a:pt x="30" y="0"/>
                        </a:moveTo>
                        <a:lnTo>
                          <a:pt x="13" y="30"/>
                        </a:lnTo>
                        <a:lnTo>
                          <a:pt x="0" y="60"/>
                        </a:lnTo>
                        <a:lnTo>
                          <a:pt x="12" y="131"/>
                        </a:lnTo>
                        <a:lnTo>
                          <a:pt x="20" y="165"/>
                        </a:lnTo>
                        <a:lnTo>
                          <a:pt x="31" y="200"/>
                        </a:lnTo>
                        <a:lnTo>
                          <a:pt x="42" y="233"/>
                        </a:lnTo>
                        <a:lnTo>
                          <a:pt x="55" y="267"/>
                        </a:lnTo>
                        <a:lnTo>
                          <a:pt x="69" y="298"/>
                        </a:lnTo>
                        <a:lnTo>
                          <a:pt x="86" y="331"/>
                        </a:lnTo>
                        <a:lnTo>
                          <a:pt x="102" y="362"/>
                        </a:lnTo>
                        <a:lnTo>
                          <a:pt x="121" y="394"/>
                        </a:lnTo>
                        <a:lnTo>
                          <a:pt x="140" y="423"/>
                        </a:lnTo>
                        <a:lnTo>
                          <a:pt x="162" y="454"/>
                        </a:lnTo>
                        <a:lnTo>
                          <a:pt x="183" y="482"/>
                        </a:lnTo>
                        <a:lnTo>
                          <a:pt x="208" y="511"/>
                        </a:lnTo>
                        <a:lnTo>
                          <a:pt x="262" y="568"/>
                        </a:lnTo>
                        <a:lnTo>
                          <a:pt x="296" y="601"/>
                        </a:lnTo>
                        <a:lnTo>
                          <a:pt x="331" y="632"/>
                        </a:lnTo>
                        <a:lnTo>
                          <a:pt x="367" y="660"/>
                        </a:lnTo>
                        <a:lnTo>
                          <a:pt x="404" y="687"/>
                        </a:lnTo>
                        <a:lnTo>
                          <a:pt x="442" y="711"/>
                        </a:lnTo>
                        <a:lnTo>
                          <a:pt x="480" y="734"/>
                        </a:lnTo>
                        <a:lnTo>
                          <a:pt x="520" y="753"/>
                        </a:lnTo>
                        <a:lnTo>
                          <a:pt x="562" y="772"/>
                        </a:lnTo>
                        <a:lnTo>
                          <a:pt x="603" y="787"/>
                        </a:lnTo>
                        <a:lnTo>
                          <a:pt x="646" y="802"/>
                        </a:lnTo>
                        <a:lnTo>
                          <a:pt x="689" y="813"/>
                        </a:lnTo>
                        <a:lnTo>
                          <a:pt x="734" y="823"/>
                        </a:lnTo>
                        <a:lnTo>
                          <a:pt x="779" y="831"/>
                        </a:lnTo>
                        <a:lnTo>
                          <a:pt x="825" y="837"/>
                        </a:lnTo>
                        <a:lnTo>
                          <a:pt x="873" y="840"/>
                        </a:lnTo>
                        <a:lnTo>
                          <a:pt x="922" y="841"/>
                        </a:lnTo>
                        <a:lnTo>
                          <a:pt x="951" y="840"/>
                        </a:lnTo>
                        <a:lnTo>
                          <a:pt x="958" y="839"/>
                        </a:lnTo>
                        <a:lnTo>
                          <a:pt x="966" y="839"/>
                        </a:lnTo>
                        <a:lnTo>
                          <a:pt x="982" y="839"/>
                        </a:lnTo>
                        <a:lnTo>
                          <a:pt x="1041" y="834"/>
                        </a:lnTo>
                        <a:lnTo>
                          <a:pt x="1077" y="800"/>
                        </a:lnTo>
                        <a:lnTo>
                          <a:pt x="1087" y="790"/>
                        </a:lnTo>
                        <a:lnTo>
                          <a:pt x="1046" y="796"/>
                        </a:lnTo>
                        <a:lnTo>
                          <a:pt x="1005" y="800"/>
                        </a:lnTo>
                        <a:lnTo>
                          <a:pt x="964" y="803"/>
                        </a:lnTo>
                        <a:lnTo>
                          <a:pt x="942" y="803"/>
                        </a:lnTo>
                        <a:lnTo>
                          <a:pt x="922" y="804"/>
                        </a:lnTo>
                        <a:lnTo>
                          <a:pt x="875" y="803"/>
                        </a:lnTo>
                        <a:lnTo>
                          <a:pt x="830" y="799"/>
                        </a:lnTo>
                        <a:lnTo>
                          <a:pt x="785" y="794"/>
                        </a:lnTo>
                        <a:lnTo>
                          <a:pt x="742" y="787"/>
                        </a:lnTo>
                        <a:lnTo>
                          <a:pt x="699" y="777"/>
                        </a:lnTo>
                        <a:lnTo>
                          <a:pt x="657" y="766"/>
                        </a:lnTo>
                        <a:lnTo>
                          <a:pt x="617" y="753"/>
                        </a:lnTo>
                        <a:lnTo>
                          <a:pt x="577" y="738"/>
                        </a:lnTo>
                        <a:lnTo>
                          <a:pt x="537" y="720"/>
                        </a:lnTo>
                        <a:lnTo>
                          <a:pt x="499" y="701"/>
                        </a:lnTo>
                        <a:lnTo>
                          <a:pt x="461" y="679"/>
                        </a:lnTo>
                        <a:lnTo>
                          <a:pt x="425" y="655"/>
                        </a:lnTo>
                        <a:lnTo>
                          <a:pt x="389" y="629"/>
                        </a:lnTo>
                        <a:lnTo>
                          <a:pt x="355" y="602"/>
                        </a:lnTo>
                        <a:lnTo>
                          <a:pt x="321" y="573"/>
                        </a:lnTo>
                        <a:lnTo>
                          <a:pt x="288" y="542"/>
                        </a:lnTo>
                        <a:lnTo>
                          <a:pt x="258" y="511"/>
                        </a:lnTo>
                        <a:lnTo>
                          <a:pt x="232" y="482"/>
                        </a:lnTo>
                        <a:lnTo>
                          <a:pt x="207" y="451"/>
                        </a:lnTo>
                        <a:lnTo>
                          <a:pt x="184" y="421"/>
                        </a:lnTo>
                        <a:lnTo>
                          <a:pt x="162" y="388"/>
                        </a:lnTo>
                        <a:lnTo>
                          <a:pt x="143" y="356"/>
                        </a:lnTo>
                        <a:lnTo>
                          <a:pt x="124" y="323"/>
                        </a:lnTo>
                        <a:lnTo>
                          <a:pt x="108" y="290"/>
                        </a:lnTo>
                        <a:lnTo>
                          <a:pt x="91" y="255"/>
                        </a:lnTo>
                        <a:lnTo>
                          <a:pt x="78" y="221"/>
                        </a:lnTo>
                        <a:lnTo>
                          <a:pt x="65" y="185"/>
                        </a:lnTo>
                        <a:lnTo>
                          <a:pt x="56" y="150"/>
                        </a:lnTo>
                        <a:lnTo>
                          <a:pt x="46" y="112"/>
                        </a:lnTo>
                        <a:lnTo>
                          <a:pt x="39" y="76"/>
                        </a:lnTo>
                        <a:lnTo>
                          <a:pt x="34" y="38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7536600" y="5685840"/>
                    <a:ext cx="27900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8" h="855">
                        <a:moveTo>
                          <a:pt x="34" y="0"/>
                        </a:moveTo>
                        <a:lnTo>
                          <a:pt x="15" y="25"/>
                        </a:lnTo>
                        <a:lnTo>
                          <a:pt x="0" y="51"/>
                        </a:lnTo>
                        <a:lnTo>
                          <a:pt x="4" y="89"/>
                        </a:lnTo>
                        <a:lnTo>
                          <a:pt x="9" y="127"/>
                        </a:lnTo>
                        <a:lnTo>
                          <a:pt x="16" y="163"/>
                        </a:lnTo>
                        <a:lnTo>
                          <a:pt x="26" y="201"/>
                        </a:lnTo>
                        <a:lnTo>
                          <a:pt x="35" y="236"/>
                        </a:lnTo>
                        <a:lnTo>
                          <a:pt x="48" y="272"/>
                        </a:lnTo>
                        <a:lnTo>
                          <a:pt x="61" y="306"/>
                        </a:lnTo>
                        <a:lnTo>
                          <a:pt x="78" y="341"/>
                        </a:lnTo>
                        <a:lnTo>
                          <a:pt x="94" y="374"/>
                        </a:lnTo>
                        <a:lnTo>
                          <a:pt x="113" y="407"/>
                        </a:lnTo>
                        <a:lnTo>
                          <a:pt x="132" y="439"/>
                        </a:lnTo>
                        <a:lnTo>
                          <a:pt x="154" y="472"/>
                        </a:lnTo>
                        <a:lnTo>
                          <a:pt x="177" y="502"/>
                        </a:lnTo>
                        <a:lnTo>
                          <a:pt x="202" y="533"/>
                        </a:lnTo>
                        <a:lnTo>
                          <a:pt x="228" y="562"/>
                        </a:lnTo>
                        <a:lnTo>
                          <a:pt x="258" y="593"/>
                        </a:lnTo>
                        <a:lnTo>
                          <a:pt x="291" y="624"/>
                        </a:lnTo>
                        <a:lnTo>
                          <a:pt x="325" y="653"/>
                        </a:lnTo>
                        <a:lnTo>
                          <a:pt x="359" y="680"/>
                        </a:lnTo>
                        <a:lnTo>
                          <a:pt x="395" y="706"/>
                        </a:lnTo>
                        <a:lnTo>
                          <a:pt x="431" y="730"/>
                        </a:lnTo>
                        <a:lnTo>
                          <a:pt x="469" y="752"/>
                        </a:lnTo>
                        <a:lnTo>
                          <a:pt x="507" y="771"/>
                        </a:lnTo>
                        <a:lnTo>
                          <a:pt x="547" y="789"/>
                        </a:lnTo>
                        <a:lnTo>
                          <a:pt x="587" y="804"/>
                        </a:lnTo>
                        <a:lnTo>
                          <a:pt x="627" y="817"/>
                        </a:lnTo>
                        <a:lnTo>
                          <a:pt x="669" y="828"/>
                        </a:lnTo>
                        <a:lnTo>
                          <a:pt x="712" y="838"/>
                        </a:lnTo>
                        <a:lnTo>
                          <a:pt x="755" y="845"/>
                        </a:lnTo>
                        <a:lnTo>
                          <a:pt x="800" y="850"/>
                        </a:lnTo>
                        <a:lnTo>
                          <a:pt x="845" y="854"/>
                        </a:lnTo>
                        <a:lnTo>
                          <a:pt x="892" y="855"/>
                        </a:lnTo>
                        <a:lnTo>
                          <a:pt x="912" y="854"/>
                        </a:lnTo>
                        <a:lnTo>
                          <a:pt x="934" y="854"/>
                        </a:lnTo>
                        <a:lnTo>
                          <a:pt x="975" y="851"/>
                        </a:lnTo>
                        <a:lnTo>
                          <a:pt x="1016" y="847"/>
                        </a:lnTo>
                        <a:lnTo>
                          <a:pt x="1057" y="841"/>
                        </a:lnTo>
                        <a:lnTo>
                          <a:pt x="1078" y="817"/>
                        </a:lnTo>
                        <a:lnTo>
                          <a:pt x="1098" y="795"/>
                        </a:lnTo>
                        <a:lnTo>
                          <a:pt x="1072" y="799"/>
                        </a:lnTo>
                        <a:lnTo>
                          <a:pt x="1047" y="804"/>
                        </a:lnTo>
                        <a:lnTo>
                          <a:pt x="1033" y="805"/>
                        </a:lnTo>
                        <a:lnTo>
                          <a:pt x="1021" y="807"/>
                        </a:lnTo>
                        <a:lnTo>
                          <a:pt x="996" y="812"/>
                        </a:lnTo>
                        <a:lnTo>
                          <a:pt x="944" y="815"/>
                        </a:lnTo>
                        <a:lnTo>
                          <a:pt x="892" y="817"/>
                        </a:lnTo>
                        <a:lnTo>
                          <a:pt x="846" y="816"/>
                        </a:lnTo>
                        <a:lnTo>
                          <a:pt x="803" y="813"/>
                        </a:lnTo>
                        <a:lnTo>
                          <a:pt x="760" y="807"/>
                        </a:lnTo>
                        <a:lnTo>
                          <a:pt x="719" y="802"/>
                        </a:lnTo>
                        <a:lnTo>
                          <a:pt x="678" y="791"/>
                        </a:lnTo>
                        <a:lnTo>
                          <a:pt x="639" y="781"/>
                        </a:lnTo>
                        <a:lnTo>
                          <a:pt x="599" y="769"/>
                        </a:lnTo>
                        <a:lnTo>
                          <a:pt x="562" y="754"/>
                        </a:lnTo>
                        <a:lnTo>
                          <a:pt x="523" y="737"/>
                        </a:lnTo>
                        <a:lnTo>
                          <a:pt x="487" y="718"/>
                        </a:lnTo>
                        <a:lnTo>
                          <a:pt x="450" y="696"/>
                        </a:lnTo>
                        <a:lnTo>
                          <a:pt x="415" y="675"/>
                        </a:lnTo>
                        <a:lnTo>
                          <a:pt x="380" y="650"/>
                        </a:lnTo>
                        <a:lnTo>
                          <a:pt x="347" y="624"/>
                        </a:lnTo>
                        <a:lnTo>
                          <a:pt x="314" y="595"/>
                        </a:lnTo>
                        <a:lnTo>
                          <a:pt x="284" y="566"/>
                        </a:lnTo>
                        <a:lnTo>
                          <a:pt x="254" y="534"/>
                        </a:lnTo>
                        <a:lnTo>
                          <a:pt x="228" y="504"/>
                        </a:lnTo>
                        <a:lnTo>
                          <a:pt x="202" y="472"/>
                        </a:lnTo>
                        <a:lnTo>
                          <a:pt x="179" y="440"/>
                        </a:lnTo>
                        <a:lnTo>
                          <a:pt x="157" y="406"/>
                        </a:lnTo>
                        <a:lnTo>
                          <a:pt x="137" y="373"/>
                        </a:lnTo>
                        <a:lnTo>
                          <a:pt x="118" y="339"/>
                        </a:lnTo>
                        <a:lnTo>
                          <a:pt x="103" y="305"/>
                        </a:lnTo>
                        <a:lnTo>
                          <a:pt x="88" y="269"/>
                        </a:lnTo>
                        <a:lnTo>
                          <a:pt x="75" y="233"/>
                        </a:lnTo>
                        <a:lnTo>
                          <a:pt x="63" y="195"/>
                        </a:lnTo>
                        <a:lnTo>
                          <a:pt x="55" y="158"/>
                        </a:lnTo>
                        <a:lnTo>
                          <a:pt x="46" y="118"/>
                        </a:lnTo>
                        <a:lnTo>
                          <a:pt x="40" y="80"/>
                        </a:lnTo>
                        <a:lnTo>
                          <a:pt x="35" y="40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00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7530840" y="5856840"/>
                    <a:ext cx="1213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365">
                        <a:moveTo>
                          <a:pt x="95" y="107"/>
                        </a:moveTo>
                        <a:lnTo>
                          <a:pt x="69" y="80"/>
                        </a:lnTo>
                        <a:lnTo>
                          <a:pt x="45" y="54"/>
                        </a:lnTo>
                        <a:lnTo>
                          <a:pt x="21" y="26"/>
                        </a:lnTo>
                        <a:lnTo>
                          <a:pt x="0" y="0"/>
                        </a:lnTo>
                        <a:lnTo>
                          <a:pt x="11" y="23"/>
                        </a:lnTo>
                        <a:lnTo>
                          <a:pt x="25" y="47"/>
                        </a:lnTo>
                        <a:lnTo>
                          <a:pt x="55" y="93"/>
                        </a:lnTo>
                        <a:lnTo>
                          <a:pt x="71" y="115"/>
                        </a:lnTo>
                        <a:lnTo>
                          <a:pt x="89" y="137"/>
                        </a:lnTo>
                        <a:lnTo>
                          <a:pt x="130" y="180"/>
                        </a:lnTo>
                        <a:lnTo>
                          <a:pt x="167" y="216"/>
                        </a:lnTo>
                        <a:lnTo>
                          <a:pt x="207" y="247"/>
                        </a:lnTo>
                        <a:lnTo>
                          <a:pt x="248" y="276"/>
                        </a:lnTo>
                        <a:lnTo>
                          <a:pt x="292" y="301"/>
                        </a:lnTo>
                        <a:lnTo>
                          <a:pt x="335" y="321"/>
                        </a:lnTo>
                        <a:lnTo>
                          <a:pt x="382" y="339"/>
                        </a:lnTo>
                        <a:lnTo>
                          <a:pt x="428" y="354"/>
                        </a:lnTo>
                        <a:lnTo>
                          <a:pt x="478" y="365"/>
                        </a:lnTo>
                        <a:lnTo>
                          <a:pt x="425" y="341"/>
                        </a:lnTo>
                        <a:lnTo>
                          <a:pt x="374" y="317"/>
                        </a:lnTo>
                        <a:lnTo>
                          <a:pt x="324" y="288"/>
                        </a:lnTo>
                        <a:lnTo>
                          <a:pt x="276" y="258"/>
                        </a:lnTo>
                        <a:lnTo>
                          <a:pt x="229" y="222"/>
                        </a:lnTo>
                        <a:lnTo>
                          <a:pt x="183" y="187"/>
                        </a:lnTo>
                        <a:lnTo>
                          <a:pt x="138" y="148"/>
                        </a:lnTo>
                        <a:lnTo>
                          <a:pt x="95" y="107"/>
                        </a:lnTo>
                        <a:close/>
                      </a:path>
                    </a:pathLst>
                  </a:custGeom>
                  <a:solidFill>
                    <a:srgbClr val="006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7519320" y="5823000"/>
                    <a:ext cx="171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504">
                        <a:moveTo>
                          <a:pt x="47" y="130"/>
                        </a:moveTo>
                        <a:lnTo>
                          <a:pt x="68" y="156"/>
                        </a:lnTo>
                        <a:lnTo>
                          <a:pt x="92" y="184"/>
                        </a:lnTo>
                        <a:lnTo>
                          <a:pt x="116" y="210"/>
                        </a:lnTo>
                        <a:lnTo>
                          <a:pt x="142" y="237"/>
                        </a:lnTo>
                        <a:lnTo>
                          <a:pt x="185" y="278"/>
                        </a:lnTo>
                        <a:lnTo>
                          <a:pt x="230" y="317"/>
                        </a:lnTo>
                        <a:lnTo>
                          <a:pt x="276" y="352"/>
                        </a:lnTo>
                        <a:lnTo>
                          <a:pt x="323" y="388"/>
                        </a:lnTo>
                        <a:lnTo>
                          <a:pt x="371" y="418"/>
                        </a:lnTo>
                        <a:lnTo>
                          <a:pt x="421" y="447"/>
                        </a:lnTo>
                        <a:lnTo>
                          <a:pt x="472" y="471"/>
                        </a:lnTo>
                        <a:lnTo>
                          <a:pt x="525" y="495"/>
                        </a:lnTo>
                        <a:lnTo>
                          <a:pt x="584" y="502"/>
                        </a:lnTo>
                        <a:lnTo>
                          <a:pt x="646" y="504"/>
                        </a:lnTo>
                        <a:lnTo>
                          <a:pt x="677" y="504"/>
                        </a:lnTo>
                        <a:lnTo>
                          <a:pt x="641" y="494"/>
                        </a:lnTo>
                        <a:lnTo>
                          <a:pt x="606" y="483"/>
                        </a:lnTo>
                        <a:lnTo>
                          <a:pt x="538" y="458"/>
                        </a:lnTo>
                        <a:lnTo>
                          <a:pt x="471" y="428"/>
                        </a:lnTo>
                        <a:lnTo>
                          <a:pt x="406" y="394"/>
                        </a:lnTo>
                        <a:lnTo>
                          <a:pt x="343" y="354"/>
                        </a:lnTo>
                        <a:lnTo>
                          <a:pt x="282" y="310"/>
                        </a:lnTo>
                        <a:lnTo>
                          <a:pt x="253" y="287"/>
                        </a:lnTo>
                        <a:lnTo>
                          <a:pt x="223" y="262"/>
                        </a:lnTo>
                        <a:lnTo>
                          <a:pt x="168" y="210"/>
                        </a:lnTo>
                        <a:lnTo>
                          <a:pt x="119" y="159"/>
                        </a:lnTo>
                        <a:lnTo>
                          <a:pt x="96" y="133"/>
                        </a:lnTo>
                        <a:lnTo>
                          <a:pt x="76" y="108"/>
                        </a:lnTo>
                        <a:lnTo>
                          <a:pt x="55" y="80"/>
                        </a:lnTo>
                        <a:lnTo>
                          <a:pt x="35" y="54"/>
                        </a:lnTo>
                        <a:lnTo>
                          <a:pt x="0" y="0"/>
                        </a:lnTo>
                        <a:lnTo>
                          <a:pt x="8" y="33"/>
                        </a:lnTo>
                        <a:lnTo>
                          <a:pt x="19" y="66"/>
                        </a:lnTo>
                        <a:lnTo>
                          <a:pt x="32" y="97"/>
                        </a:lnTo>
                        <a:lnTo>
                          <a:pt x="47" y="130"/>
                        </a:lnTo>
                        <a:close/>
                      </a:path>
                    </a:pathLst>
                  </a:custGeom>
                  <a:solidFill>
                    <a:srgbClr val="00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7515000" y="5796720"/>
                    <a:ext cx="20556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1" h="609">
                        <a:moveTo>
                          <a:pt x="16" y="105"/>
                        </a:moveTo>
                        <a:lnTo>
                          <a:pt x="51" y="159"/>
                        </a:lnTo>
                        <a:lnTo>
                          <a:pt x="71" y="185"/>
                        </a:lnTo>
                        <a:lnTo>
                          <a:pt x="92" y="213"/>
                        </a:lnTo>
                        <a:lnTo>
                          <a:pt x="112" y="238"/>
                        </a:lnTo>
                        <a:lnTo>
                          <a:pt x="135" y="264"/>
                        </a:lnTo>
                        <a:lnTo>
                          <a:pt x="184" y="315"/>
                        </a:lnTo>
                        <a:lnTo>
                          <a:pt x="239" y="367"/>
                        </a:lnTo>
                        <a:lnTo>
                          <a:pt x="269" y="392"/>
                        </a:lnTo>
                        <a:lnTo>
                          <a:pt x="298" y="415"/>
                        </a:lnTo>
                        <a:lnTo>
                          <a:pt x="359" y="459"/>
                        </a:lnTo>
                        <a:lnTo>
                          <a:pt x="422" y="499"/>
                        </a:lnTo>
                        <a:lnTo>
                          <a:pt x="487" y="533"/>
                        </a:lnTo>
                        <a:lnTo>
                          <a:pt x="554" y="563"/>
                        </a:lnTo>
                        <a:lnTo>
                          <a:pt x="622" y="588"/>
                        </a:lnTo>
                        <a:lnTo>
                          <a:pt x="657" y="599"/>
                        </a:lnTo>
                        <a:lnTo>
                          <a:pt x="693" y="609"/>
                        </a:lnTo>
                        <a:lnTo>
                          <a:pt x="723" y="607"/>
                        </a:lnTo>
                        <a:lnTo>
                          <a:pt x="737" y="605"/>
                        </a:lnTo>
                        <a:lnTo>
                          <a:pt x="753" y="604"/>
                        </a:lnTo>
                        <a:lnTo>
                          <a:pt x="782" y="599"/>
                        </a:lnTo>
                        <a:lnTo>
                          <a:pt x="811" y="595"/>
                        </a:lnTo>
                        <a:lnTo>
                          <a:pt x="768" y="587"/>
                        </a:lnTo>
                        <a:lnTo>
                          <a:pt x="726" y="578"/>
                        </a:lnTo>
                        <a:lnTo>
                          <a:pt x="684" y="567"/>
                        </a:lnTo>
                        <a:lnTo>
                          <a:pt x="644" y="556"/>
                        </a:lnTo>
                        <a:lnTo>
                          <a:pt x="603" y="542"/>
                        </a:lnTo>
                        <a:lnTo>
                          <a:pt x="565" y="528"/>
                        </a:lnTo>
                        <a:lnTo>
                          <a:pt x="526" y="511"/>
                        </a:lnTo>
                        <a:lnTo>
                          <a:pt x="489" y="493"/>
                        </a:lnTo>
                        <a:lnTo>
                          <a:pt x="452" y="472"/>
                        </a:lnTo>
                        <a:lnTo>
                          <a:pt x="415" y="451"/>
                        </a:lnTo>
                        <a:lnTo>
                          <a:pt x="344" y="403"/>
                        </a:lnTo>
                        <a:lnTo>
                          <a:pt x="309" y="376"/>
                        </a:lnTo>
                        <a:lnTo>
                          <a:pt x="276" y="349"/>
                        </a:lnTo>
                        <a:lnTo>
                          <a:pt x="243" y="319"/>
                        </a:lnTo>
                        <a:lnTo>
                          <a:pt x="211" y="289"/>
                        </a:lnTo>
                        <a:lnTo>
                          <a:pt x="177" y="253"/>
                        </a:lnTo>
                        <a:lnTo>
                          <a:pt x="146" y="219"/>
                        </a:lnTo>
                        <a:lnTo>
                          <a:pt x="117" y="184"/>
                        </a:lnTo>
                        <a:lnTo>
                          <a:pt x="91" y="149"/>
                        </a:lnTo>
                        <a:lnTo>
                          <a:pt x="65" y="112"/>
                        </a:lnTo>
                        <a:lnTo>
                          <a:pt x="42" y="75"/>
                        </a:lnTo>
                        <a:lnTo>
                          <a:pt x="19" y="37"/>
                        </a:lnTo>
                        <a:lnTo>
                          <a:pt x="0" y="0"/>
                        </a:lnTo>
                        <a:lnTo>
                          <a:pt x="6" y="52"/>
                        </a:lnTo>
                        <a:lnTo>
                          <a:pt x="16" y="105"/>
                        </a:lnTo>
                        <a:close/>
                      </a:path>
                    </a:pathLst>
                  </a:custGeom>
                  <a:solidFill>
                    <a:srgbClr val="006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7514640" y="5614200"/>
                    <a:ext cx="337320" cy="33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8" h="1327">
                        <a:moveTo>
                          <a:pt x="663" y="0"/>
                        </a:moveTo>
                        <a:lnTo>
                          <a:pt x="628" y="0"/>
                        </a:lnTo>
                        <a:lnTo>
                          <a:pt x="595" y="2"/>
                        </a:lnTo>
                        <a:lnTo>
                          <a:pt x="531" y="11"/>
                        </a:lnTo>
                        <a:lnTo>
                          <a:pt x="468" y="26"/>
                        </a:lnTo>
                        <a:lnTo>
                          <a:pt x="408" y="48"/>
                        </a:lnTo>
                        <a:lnTo>
                          <a:pt x="350" y="74"/>
                        </a:lnTo>
                        <a:lnTo>
                          <a:pt x="322" y="90"/>
                        </a:lnTo>
                        <a:lnTo>
                          <a:pt x="296" y="108"/>
                        </a:lnTo>
                        <a:lnTo>
                          <a:pt x="243" y="147"/>
                        </a:lnTo>
                        <a:lnTo>
                          <a:pt x="194" y="194"/>
                        </a:lnTo>
                        <a:lnTo>
                          <a:pt x="147" y="243"/>
                        </a:lnTo>
                        <a:lnTo>
                          <a:pt x="108" y="296"/>
                        </a:lnTo>
                        <a:lnTo>
                          <a:pt x="90" y="322"/>
                        </a:lnTo>
                        <a:lnTo>
                          <a:pt x="74" y="350"/>
                        </a:lnTo>
                        <a:lnTo>
                          <a:pt x="48" y="408"/>
                        </a:lnTo>
                        <a:lnTo>
                          <a:pt x="26" y="468"/>
                        </a:lnTo>
                        <a:lnTo>
                          <a:pt x="11" y="530"/>
                        </a:lnTo>
                        <a:lnTo>
                          <a:pt x="2" y="595"/>
                        </a:lnTo>
                        <a:lnTo>
                          <a:pt x="0" y="628"/>
                        </a:lnTo>
                        <a:lnTo>
                          <a:pt x="0" y="663"/>
                        </a:lnTo>
                        <a:lnTo>
                          <a:pt x="0" y="696"/>
                        </a:lnTo>
                        <a:lnTo>
                          <a:pt x="2" y="730"/>
                        </a:lnTo>
                        <a:lnTo>
                          <a:pt x="6" y="762"/>
                        </a:lnTo>
                        <a:lnTo>
                          <a:pt x="11" y="795"/>
                        </a:lnTo>
                        <a:lnTo>
                          <a:pt x="17" y="825"/>
                        </a:lnTo>
                        <a:lnTo>
                          <a:pt x="26" y="857"/>
                        </a:lnTo>
                        <a:lnTo>
                          <a:pt x="35" y="888"/>
                        </a:lnTo>
                        <a:lnTo>
                          <a:pt x="48" y="918"/>
                        </a:lnTo>
                        <a:lnTo>
                          <a:pt x="59" y="946"/>
                        </a:lnTo>
                        <a:lnTo>
                          <a:pt x="74" y="975"/>
                        </a:lnTo>
                        <a:lnTo>
                          <a:pt x="90" y="1002"/>
                        </a:lnTo>
                        <a:lnTo>
                          <a:pt x="108" y="1030"/>
                        </a:lnTo>
                        <a:lnTo>
                          <a:pt x="126" y="1056"/>
                        </a:lnTo>
                        <a:lnTo>
                          <a:pt x="147" y="1082"/>
                        </a:lnTo>
                        <a:lnTo>
                          <a:pt x="169" y="1107"/>
                        </a:lnTo>
                        <a:lnTo>
                          <a:pt x="194" y="1133"/>
                        </a:lnTo>
                        <a:lnTo>
                          <a:pt x="218" y="1156"/>
                        </a:lnTo>
                        <a:lnTo>
                          <a:pt x="243" y="1178"/>
                        </a:lnTo>
                        <a:lnTo>
                          <a:pt x="269" y="1198"/>
                        </a:lnTo>
                        <a:lnTo>
                          <a:pt x="296" y="1217"/>
                        </a:lnTo>
                        <a:lnTo>
                          <a:pt x="322" y="1234"/>
                        </a:lnTo>
                        <a:lnTo>
                          <a:pt x="350" y="1250"/>
                        </a:lnTo>
                        <a:lnTo>
                          <a:pt x="379" y="1265"/>
                        </a:lnTo>
                        <a:lnTo>
                          <a:pt x="408" y="1279"/>
                        </a:lnTo>
                        <a:lnTo>
                          <a:pt x="468" y="1299"/>
                        </a:lnTo>
                        <a:lnTo>
                          <a:pt x="531" y="1315"/>
                        </a:lnTo>
                        <a:lnTo>
                          <a:pt x="595" y="1324"/>
                        </a:lnTo>
                        <a:lnTo>
                          <a:pt x="628" y="1326"/>
                        </a:lnTo>
                        <a:lnTo>
                          <a:pt x="663" y="1327"/>
                        </a:lnTo>
                        <a:lnTo>
                          <a:pt x="679" y="1326"/>
                        </a:lnTo>
                        <a:lnTo>
                          <a:pt x="696" y="1326"/>
                        </a:lnTo>
                        <a:lnTo>
                          <a:pt x="730" y="1324"/>
                        </a:lnTo>
                        <a:lnTo>
                          <a:pt x="762" y="1319"/>
                        </a:lnTo>
                        <a:lnTo>
                          <a:pt x="795" y="1315"/>
                        </a:lnTo>
                        <a:lnTo>
                          <a:pt x="810" y="1310"/>
                        </a:lnTo>
                        <a:lnTo>
                          <a:pt x="826" y="1307"/>
                        </a:lnTo>
                        <a:lnTo>
                          <a:pt x="857" y="1299"/>
                        </a:lnTo>
                        <a:lnTo>
                          <a:pt x="887" y="1289"/>
                        </a:lnTo>
                        <a:lnTo>
                          <a:pt x="894" y="1285"/>
                        </a:lnTo>
                        <a:lnTo>
                          <a:pt x="902" y="1283"/>
                        </a:lnTo>
                        <a:lnTo>
                          <a:pt x="917" y="1279"/>
                        </a:lnTo>
                        <a:lnTo>
                          <a:pt x="946" y="1265"/>
                        </a:lnTo>
                        <a:lnTo>
                          <a:pt x="959" y="1257"/>
                        </a:lnTo>
                        <a:lnTo>
                          <a:pt x="974" y="1250"/>
                        </a:lnTo>
                        <a:lnTo>
                          <a:pt x="1001" y="1234"/>
                        </a:lnTo>
                        <a:lnTo>
                          <a:pt x="1015" y="1225"/>
                        </a:lnTo>
                        <a:lnTo>
                          <a:pt x="1022" y="1221"/>
                        </a:lnTo>
                        <a:lnTo>
                          <a:pt x="1025" y="1218"/>
                        </a:lnTo>
                        <a:lnTo>
                          <a:pt x="1030" y="1217"/>
                        </a:lnTo>
                        <a:lnTo>
                          <a:pt x="1032" y="1214"/>
                        </a:lnTo>
                        <a:lnTo>
                          <a:pt x="1035" y="1212"/>
                        </a:lnTo>
                        <a:lnTo>
                          <a:pt x="1042" y="1207"/>
                        </a:lnTo>
                        <a:lnTo>
                          <a:pt x="1056" y="1198"/>
                        </a:lnTo>
                        <a:lnTo>
                          <a:pt x="1082" y="1178"/>
                        </a:lnTo>
                        <a:lnTo>
                          <a:pt x="1107" y="1156"/>
                        </a:lnTo>
                        <a:lnTo>
                          <a:pt x="1133" y="1133"/>
                        </a:lnTo>
                        <a:lnTo>
                          <a:pt x="1156" y="1107"/>
                        </a:lnTo>
                        <a:lnTo>
                          <a:pt x="1178" y="1082"/>
                        </a:lnTo>
                        <a:lnTo>
                          <a:pt x="1199" y="1056"/>
                        </a:lnTo>
                        <a:lnTo>
                          <a:pt x="1208" y="1043"/>
                        </a:lnTo>
                        <a:lnTo>
                          <a:pt x="1212" y="1036"/>
                        </a:lnTo>
                        <a:lnTo>
                          <a:pt x="1215" y="1033"/>
                        </a:lnTo>
                        <a:lnTo>
                          <a:pt x="1218" y="1030"/>
                        </a:lnTo>
                        <a:lnTo>
                          <a:pt x="1219" y="1026"/>
                        </a:lnTo>
                        <a:lnTo>
                          <a:pt x="1221" y="1022"/>
                        </a:lnTo>
                        <a:lnTo>
                          <a:pt x="1226" y="1016"/>
                        </a:lnTo>
                        <a:lnTo>
                          <a:pt x="1235" y="1002"/>
                        </a:lnTo>
                        <a:lnTo>
                          <a:pt x="1251" y="975"/>
                        </a:lnTo>
                        <a:lnTo>
                          <a:pt x="1258" y="960"/>
                        </a:lnTo>
                        <a:lnTo>
                          <a:pt x="1266" y="946"/>
                        </a:lnTo>
                        <a:lnTo>
                          <a:pt x="1279" y="918"/>
                        </a:lnTo>
                        <a:lnTo>
                          <a:pt x="1284" y="902"/>
                        </a:lnTo>
                        <a:lnTo>
                          <a:pt x="1286" y="894"/>
                        </a:lnTo>
                        <a:lnTo>
                          <a:pt x="1289" y="888"/>
                        </a:lnTo>
                        <a:lnTo>
                          <a:pt x="1294" y="872"/>
                        </a:lnTo>
                        <a:lnTo>
                          <a:pt x="1296" y="864"/>
                        </a:lnTo>
                        <a:lnTo>
                          <a:pt x="1300" y="857"/>
                        </a:lnTo>
                        <a:lnTo>
                          <a:pt x="1308" y="825"/>
                        </a:lnTo>
                        <a:lnTo>
                          <a:pt x="1311" y="809"/>
                        </a:lnTo>
                        <a:lnTo>
                          <a:pt x="1316" y="795"/>
                        </a:lnTo>
                        <a:lnTo>
                          <a:pt x="1320" y="762"/>
                        </a:lnTo>
                        <a:lnTo>
                          <a:pt x="1325" y="730"/>
                        </a:lnTo>
                        <a:lnTo>
                          <a:pt x="1327" y="696"/>
                        </a:lnTo>
                        <a:lnTo>
                          <a:pt x="1327" y="679"/>
                        </a:lnTo>
                        <a:lnTo>
                          <a:pt x="1328" y="663"/>
                        </a:lnTo>
                        <a:lnTo>
                          <a:pt x="1327" y="628"/>
                        </a:lnTo>
                        <a:lnTo>
                          <a:pt x="1325" y="595"/>
                        </a:lnTo>
                        <a:lnTo>
                          <a:pt x="1316" y="530"/>
                        </a:lnTo>
                        <a:lnTo>
                          <a:pt x="1300" y="468"/>
                        </a:lnTo>
                        <a:lnTo>
                          <a:pt x="1279" y="408"/>
                        </a:lnTo>
                        <a:lnTo>
                          <a:pt x="1266" y="379"/>
                        </a:lnTo>
                        <a:lnTo>
                          <a:pt x="1251" y="350"/>
                        </a:lnTo>
                        <a:lnTo>
                          <a:pt x="1235" y="322"/>
                        </a:lnTo>
                        <a:lnTo>
                          <a:pt x="1218" y="296"/>
                        </a:lnTo>
                        <a:lnTo>
                          <a:pt x="1199" y="269"/>
                        </a:lnTo>
                        <a:lnTo>
                          <a:pt x="1178" y="243"/>
                        </a:lnTo>
                        <a:lnTo>
                          <a:pt x="1133" y="194"/>
                        </a:lnTo>
                        <a:lnTo>
                          <a:pt x="1107" y="169"/>
                        </a:lnTo>
                        <a:lnTo>
                          <a:pt x="1082" y="147"/>
                        </a:lnTo>
                        <a:lnTo>
                          <a:pt x="1056" y="126"/>
                        </a:lnTo>
                        <a:lnTo>
                          <a:pt x="1030" y="108"/>
                        </a:lnTo>
                        <a:lnTo>
                          <a:pt x="1001" y="90"/>
                        </a:lnTo>
                        <a:lnTo>
                          <a:pt x="974" y="74"/>
                        </a:lnTo>
                        <a:lnTo>
                          <a:pt x="946" y="59"/>
                        </a:lnTo>
                        <a:lnTo>
                          <a:pt x="917" y="48"/>
                        </a:lnTo>
                        <a:lnTo>
                          <a:pt x="887" y="35"/>
                        </a:lnTo>
                        <a:lnTo>
                          <a:pt x="857" y="26"/>
                        </a:lnTo>
                        <a:lnTo>
                          <a:pt x="826" y="17"/>
                        </a:lnTo>
                        <a:lnTo>
                          <a:pt x="795" y="11"/>
                        </a:lnTo>
                        <a:lnTo>
                          <a:pt x="762" y="6"/>
                        </a:lnTo>
                        <a:lnTo>
                          <a:pt x="730" y="2"/>
                        </a:lnTo>
                        <a:lnTo>
                          <a:pt x="696" y="0"/>
                        </a:lnTo>
                        <a:lnTo>
                          <a:pt x="663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7605000" y="5767200"/>
                    <a:ext cx="154800" cy="38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7610400" y="5772240"/>
                    <a:ext cx="144720" cy="280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9" name=""/>
                <p:cNvSpPr/>
                <p:nvPr/>
              </p:nvSpPr>
              <p:spPr>
                <a:xfrm>
                  <a:off x="8446320" y="5035680"/>
                  <a:ext cx="640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>
                  <a:off x="5446080" y="503568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6818400" y="5675760"/>
                  <a:ext cx="0" cy="54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2" name=""/>
            <p:cNvSpPr/>
            <p:nvPr/>
          </p:nvSpPr>
          <p:spPr>
            <a:xfrm rot="1054800">
              <a:off x="7238880" y="1371600"/>
              <a:ext cx="1292400" cy="259092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093" y="6989"/>
                  </a:moveTo>
                  <a:arcTo wR="-6862" hR="-6862" stAng="-8775957" swAng="-8848214"/>
                  <a:lnTo>
                    <a:pt x="6453" y="914"/>
                  </a:lnTo>
                  <a:arcTo wR="10800" hR="10800" stAng="-6824171" swAng="8848214"/>
                  <a:lnTo>
                    <a:pt x="22027" y="18297"/>
                  </a:lnTo>
                  <a:lnTo>
                    <a:pt x="15551" y="19587"/>
                  </a:lnTo>
                  <a:lnTo>
                    <a:pt x="14261" y="13111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4:58:32Z</dcterms:created>
  <dc:creator>Marcelo</dc:creator>
  <dc:description/>
  <dc:language>en-US</dc:language>
  <cp:lastModifiedBy>marcelo</cp:lastModifiedBy>
  <dcterms:modified xsi:type="dcterms:W3CDTF">2006-05-23T11:48:59Z</dcterms:modified>
  <cp:revision>28</cp:revision>
  <dc:subject/>
  <dc:title>Apresentação do PowerPoint</dc:title>
</cp:coreProperties>
</file>