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DB1-0192-45DC-924B-C23F190C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353-E953-4C50-A90A-21E34F11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686-C8F8-4EAB-9918-47933E1C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BA8-856B-4B11-8DE1-2FD62DC5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25F3-BCEC-49A8-B918-5DA39A29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487C-3730-4C67-A638-E9993333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9F2E-E8B8-4361-8B19-AB1ACF2F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5676-1C1D-4FF2-AF50-EC48E07F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5BD0-E671-4A07-9F6F-B7865A8C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307C-347B-4644-8476-AC767FDC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B284-50F4-452F-A29A-F817787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04D-850A-4716-BC37-72823E45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AF46-961F-4642-A597-77075523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45E1-1419-41D6-AF7B-0099F98F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31D2-60D8-44A0-B85C-D56343E8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B0B9-92B9-40CE-96DD-2CBDEE48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5D9B-F629-486F-8175-4BD624A2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49D-506C-4C55-8F88-5A327407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685-F92B-4C3C-BA13-D8704F6F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F2B-6F4C-48AC-8CAB-942EAF45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D37-6663-4002-8D83-AD1D566F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F12-3FBC-4E78-80A1-519C202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DB2-5289-48D2-8A76-CD514607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5C4-AF54-41E5-B2AE-96ED4699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D463-B4F4-4B8D-8B39-F618595B3A3B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B43F-D02E-4D70-8242-9B122CFC8A2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7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C8ED-43F1-4196-8513-A6255ABB8D93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56B1-8B4E-4BE4-AEE1-061A300B553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5000" y="2282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cc"/>
                </a:solidFill>
                <a:latin typeface="Arial Narrow"/>
              </a:rPr>
              <a:t>Infrared Continuum of AGN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31640" y="2816280"/>
            <a:ext cx="4069080" cy="313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80000" y="2854440"/>
            <a:ext cx="3132360" cy="313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97080" y="234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irci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A415-18D3-4E1F-AF03-28908BE523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35760" cy="3622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58920" y="-10044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O Bremsstrahlu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6730200" y="4510440"/>
            <a:ext cx="252360" cy="609480"/>
          </a:xfrm>
          <a:custGeom>
            <a:avLst/>
            <a:gdLst>
              <a:gd name="textAreaLeft" fmla="*/ 161280 w 252360"/>
              <a:gd name="textAreaRight" fmla="*/ 252720 w 2523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1736640"/>
            <a:ext cx="792360" cy="865440"/>
          </a:xfrm>
          <a:prstGeom prst="ellipse">
            <a:avLst/>
          </a:prstGeom>
          <a:solidFill>
            <a:srgbClr val="777777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840" y="579132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ara nuvens dominadas por choques (M1 e M7), o bremss. mostra só um máximo a altas frequênci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5" idx="0"/>
            <a:endCxn id="164" idx="5"/>
          </p:cNvCxnSpPr>
          <p:nvPr/>
        </p:nvCxnSpPr>
        <p:spPr>
          <a:xfrm flipH="1" flipV="1" rot="5400000">
            <a:off x="4021560" y="2835720"/>
            <a:ext cx="3317040" cy="2594880"/>
          </a:xfrm>
          <a:prstGeom prst="curvedConnector5">
            <a:avLst>
              <a:gd name="adj1" fmla="val 48051"/>
              <a:gd name="adj2" fmla="val 49993"/>
              <a:gd name="adj3" fmla="val 4805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519280" y="2924280"/>
            <a:ext cx="792360" cy="865080"/>
          </a:xfrm>
          <a:prstGeom prst="ellipse">
            <a:avLst/>
          </a:prstGeom>
          <a:solidFill>
            <a:srgbClr val="777777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5" idx="0"/>
            <a:endCxn id="167" idx="6"/>
          </p:cNvCxnSpPr>
          <p:nvPr/>
        </p:nvCxnSpPr>
        <p:spPr>
          <a:xfrm flipV="1" rot="16200000">
            <a:off x="2630160" y="4038120"/>
            <a:ext cx="2434320" cy="10720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E57-9C76-49A4-8018-24BD95F08E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920" y="-6372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cc"/>
                </a:solidFill>
                <a:latin typeface="Arial Narrow"/>
              </a:rPr>
              <a:t>Código Suma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123840" y="399096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1655640"/>
            <a:ext cx="810108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fetua os cálculos com o modelo de Contini et 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arâmetros de entra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elocidade de Choque ( Vc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nsidade pré-choque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mpo magnético pré – choque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= 10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Gau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ectro de radiação ioniz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posição química (He, C,  N, O, Ne, Mg, Si, S, Ar e Fe 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azão poeira – g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ambém : modelos multi - nuv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31E-5BD4-4213-AF73-0290449687B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8920" y="-6372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cc"/>
                </a:solidFill>
                <a:latin typeface="Arial Narrow"/>
              </a:rPr>
              <a:t>Alguns Resultados com o Bremss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123840" y="399096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9280" y="1449360"/>
            <a:ext cx="810072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ara todos os tipos de galáxias, contínuo entre 1 e 10 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 : Bremss. térmico, alta densidade, aquecimento por V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choqu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baixa. Estas nuvens produzem linhas fra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plica os dados no rádio, no óptico e no raio -X mole, após a remoção da contribuição estelar de fundo  (Arp220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yfert tipo 1.5 – 1.0 – fluxos do IR óptico contínuo são mais inten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erfil do SED no 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5084640"/>
            <a:ext cx="647640" cy="1476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38160 h 1476360"/>
              <a:gd name="textAreaBottom" fmla="*/ 1438200 h 14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537372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ico de reirradiação por poei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53080" y="5769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missão bremm. 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03640" y="5769000"/>
            <a:ext cx="33130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1B7-30B8-4F5E-859A-B3F6AD49AC8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1509840"/>
            <a:ext cx="5506920" cy="4682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332400" y="2205000"/>
            <a:ext cx="28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juste da razão poeira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Gás ~10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-12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, em concordâ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om as observaçõ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2360" y="108900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D da ARP 220 – uso do M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B0C-AF2D-43DA-99B3-A47C6D49BD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19240" y="765000"/>
            <a:ext cx="6765840" cy="5451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42920" y="549360"/>
            <a:ext cx="26654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4C0-0804-4EB2-A5D2-D4A8844254A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26920" y="33300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Agradecimento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79640" y="28951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D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o 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os Cole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4D2-9ED9-4CE9-87B9-2AC096D4BEA4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32000" y="-6372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Introduçã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14600" y="1591920"/>
            <a:ext cx="31240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GN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68360" y="2313000"/>
            <a:ext cx="3124440" cy="3108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08720" y="2889360"/>
            <a:ext cx="34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NGC 774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Distância – 72.10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anos-Lu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onstelação de referência - Pégas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2FD-604E-4D7A-8EED-0013444171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39560" y="297000"/>
            <a:ext cx="694044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aláxias Seyfert – linhas largas de alta excit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ipo 1  (V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Arial"/>
              </a:rPr>
              <a:t>Doppler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~ 1000-5000 km/s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ipo 2   (V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Arial"/>
              </a:rPr>
              <a:t>Doppler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~ 500 km/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elos – Esquema de Unific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4583160"/>
            <a:ext cx="576360" cy="539640"/>
          </a:xfrm>
          <a:prstGeom prst="irregularSeal2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3970440"/>
            <a:ext cx="4140360" cy="16920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033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860000">
            <a:off x="4968720" y="4617720"/>
            <a:ext cx="900360" cy="5047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9860000">
            <a:off x="6659640" y="4832280"/>
            <a:ext cx="900000" cy="5047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6720" y="401148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.V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0360" y="4221000"/>
            <a:ext cx="6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.R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412920" y="4316400"/>
            <a:ext cx="17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oró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6720" y="4618080"/>
            <a:ext cx="1295280" cy="288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5646600"/>
            <a:ext cx="17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úc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700360" y="5014440"/>
            <a:ext cx="1620720" cy="8636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43640" y="2852640"/>
            <a:ext cx="36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96360" y="2852640"/>
            <a:ext cx="7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885080" y="288936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CCF-C6EE-4D95-9EF5-01027C568A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2920" y="-20844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Arial Narrow"/>
              </a:rPr>
              <a:t>Modelos Usuais na Literatur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4197240" y="2111400"/>
            <a:ext cx="576360" cy="539640"/>
          </a:xfrm>
          <a:prstGeom prst="irregularSeal2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0520" y="1535040"/>
            <a:ext cx="4140360" cy="1692360"/>
          </a:xfrm>
          <a:prstGeom prst="donut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0120" y="17114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&gt;&gt;1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48920" y="193824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oró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ompac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24240" y="4761000"/>
            <a:ext cx="576360" cy="539640"/>
          </a:xfrm>
          <a:prstGeom prst="irregularSeal2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6000" y="4184640"/>
            <a:ext cx="8316720" cy="1692360"/>
          </a:xfrm>
          <a:prstGeom prst="donut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480" y="393372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&lt; 1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77800" y="5805360"/>
            <a:ext cx="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oró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ten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27120" y="37386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 ~ centenas 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07120" y="1089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 ~ poucos  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713-D7A3-428C-964D-CF68413853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22400" y="333360"/>
            <a:ext cx="65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A Ineficiência dos Modelos Usu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150012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Alto número de Objetos Intermediários (steep SE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Alto número de índices espectra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Independem da razão poeira – gá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14400" y="3357720"/>
            <a:ext cx="65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A Necessidade de Novos Mode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46200" y="436572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Modelos com mais recursos Físicos. (mais variávei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Mais qualidade para explicar os SEDs dos AG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 Narrow"/>
              </a:rPr>
              <a:t>Idem para as linhas de emissã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30F-6040-4A7F-AD02-C5DDA181C5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0800000">
            <a:off x="971280" y="3680640"/>
            <a:ext cx="6877080" cy="1297080"/>
          </a:xfrm>
          <a:prstGeom prst="wedgeRectCallout">
            <a:avLst>
              <a:gd name="adj1" fmla="val 37509"/>
              <a:gd name="adj2" fmla="val 59055"/>
            </a:avLst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1480" y="333360"/>
            <a:ext cx="65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O Modelo de Contini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24000" y="1773360"/>
            <a:ext cx="6804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Hipóteses para a explicação  do IR – contínuo óp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Emissão de po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Emissão livre-livre  das nuve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60360" y="3681360"/>
            <a:ext cx="680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Radiação do núcl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Radiação dif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Choques (nuvem -gá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66080" y="418464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Aumentam a emissão livre-liv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43280" y="3860640"/>
            <a:ext cx="468360" cy="1008360"/>
          </a:xfrm>
          <a:custGeom>
            <a:avLst/>
            <a:gdLst>
              <a:gd name="textAreaLeft" fmla="*/ 0 w 468360"/>
              <a:gd name="textAreaRight" fmla="*/ 169200 w 46836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35640" y="2492280"/>
            <a:ext cx="287280" cy="111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800 h 1116000"/>
              <a:gd name="textAreaBottom" fmla="*/ 1087200 h 11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720" y="270828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adi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eprocess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CB2-896F-4293-95EE-D4C570B4CB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348000" y="5121360"/>
            <a:ext cx="5545080" cy="15112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6920" y="-387720"/>
            <a:ext cx="8628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cc"/>
                </a:solidFill>
                <a:latin typeface="Arial Narrow"/>
              </a:rPr>
              <a:t>Esquema do Modelo – A Emissão IR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 rot="18960000">
            <a:off x="4333680" y="2313000"/>
            <a:ext cx="320400" cy="712800"/>
          </a:xfrm>
          <a:prstGeom prst="irregularSeal2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68360" y="1952640"/>
            <a:ext cx="6205680" cy="144144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033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7640" y="39686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Fonte fotoioniz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464000" y="3032280"/>
            <a:ext cx="3672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1640" y="382428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oeira e gases aquecidos pela radiação primá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Domínio da radi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987640" y="2744640"/>
            <a:ext cx="0" cy="10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3480" y="979560"/>
            <a:ext cx="34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gora os efeitos da radiação difu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não são mais negligenci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76360" y="1627200"/>
            <a:ext cx="358920" cy="90000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92720" y="3968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quecimento colisional - gás aquecido a altas temperaturas pelo choqu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732720" y="3031920"/>
            <a:ext cx="34920" cy="828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0720" y="94464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Domínio dos cho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65440" y="1268280"/>
            <a:ext cx="142920" cy="11527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80000" y="2637000"/>
            <a:ext cx="936720" cy="252360"/>
          </a:xfrm>
          <a:custGeom>
            <a:avLst/>
            <a:gdLst>
              <a:gd name="textAreaLeft" fmla="*/ 146160 w 936720"/>
              <a:gd name="textAreaRight" fmla="*/ 819720 w 936720"/>
              <a:gd name="textAreaTop" fmla="*/ 63000 h 252360"/>
              <a:gd name="textAreaBottom" fmla="*/ 18936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66120" y="20890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adiação difu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164360" y="2347920"/>
            <a:ext cx="82728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" y="559584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Distribuição de T  afetada pela tx de resfriamen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5330880"/>
            <a:ext cx="4860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( poeira) – depende de V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imes New Roman"/>
              </a:rPr>
              <a:t>choque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imes New Roman"/>
              </a:rPr>
              <a:t>choque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-  determina </a:t>
            </a: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pico da reirradiação 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A9A-A843-4BBD-A942-171CF438FF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Bremsstrahlung - Noçõ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4920" y="1844280"/>
            <a:ext cx="6985080" cy="19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adiação de uma carga acelerada num campo coulômb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ambém chamada emissão livre – liv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aso Térmico : muitas partículas, com distribuição térmica de V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79280" y="4400640"/>
                <a:ext cx="32767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πe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,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,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995640" y="4437000"/>
                <a:ext cx="4348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πe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v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g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f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8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v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g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937-E31A-4A32-9B0A-FB10AECE51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-243360"/>
            <a:ext cx="74487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Arial Narrow"/>
              </a:rPr>
              <a:t>Bremsstrahlung -  IR das Galáxias Seyfert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24200"/>
            <a:ext cx="31244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duzidos nas nuvens quentes NL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de contribuir com o IR contín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missão Brem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 IR da poeira : F(d/g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82920" y="1305000"/>
            <a:ext cx="5437080" cy="4743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rot="16200000">
            <a:off x="7237440" y="5489280"/>
            <a:ext cx="360360" cy="934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87640" y="617220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Depende da v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g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85080" y="3400560"/>
            <a:ext cx="792000" cy="1054080"/>
          </a:xfrm>
          <a:prstGeom prst="ellipse">
            <a:avLst/>
          </a:prstGeom>
          <a:solidFill>
            <a:srgbClr val="777777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7" idx="3"/>
            <a:endCxn id="158" idx="5"/>
          </p:cNvCxnSpPr>
          <p:nvPr/>
        </p:nvCxnSpPr>
        <p:spPr>
          <a:xfrm flipH="1" flipV="1">
            <a:off x="7660800" y="4300200"/>
            <a:ext cx="591120" cy="2193120"/>
          </a:xfrm>
          <a:prstGeom prst="curvedConnector5">
            <a:avLst>
              <a:gd name="adj1" fmla="val -38695"/>
              <a:gd name="adj2" fmla="val 26892"/>
              <a:gd name="adj3" fmla="val -3869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5073840" y="116064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ara modelo M3 domin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or radiação  – nuvem simp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237-0881-44E7-A510-ED67293FF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06-01T01:04:12Z</dcterms:modified>
  <cp:revision>44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