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B12D-2DD8-4287-A578-3BAEF3CAF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554A-1FC6-4E5E-928F-5EF519394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9D32-A15E-4780-8BF8-C3EE334CA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4BBE-D93D-4257-98A3-8C21D761B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F58F-4830-4600-87B7-D25475D4A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D702-FB16-48E8-97F6-9D0BD817B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A1CA-6CAC-4979-B73A-58F191743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E565-E8B2-4887-B340-1AAB4DAC0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10CD-2304-4461-8D5B-32C1B4A3B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D41C-0AB3-428D-837B-BBA6CD6B1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1219-7ACA-49D3-86C4-E993A7D57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F037-888F-4D64-AC1D-0B17B9A92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2BEB7-6DF4-4CCE-84FD-D8B5A3FF784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09480" y="0"/>
            <a:ext cx="77724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Anisotropia do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Espalhamento Compt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Inverso na Galáxi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42" name="gamma" descr=""/>
          <p:cNvPicPr/>
          <p:nvPr/>
        </p:nvPicPr>
        <p:blipFill>
          <a:blip r:embed="rId1"/>
          <a:stretch/>
        </p:blipFill>
        <p:spPr>
          <a:xfrm>
            <a:off x="1066680" y="2895480"/>
            <a:ext cx="6553440" cy="32767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676520" y="6248520"/>
            <a:ext cx="56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2b2b2"/>
                </a:solidFill>
                <a:latin typeface="Times New Roman"/>
              </a:rPr>
              <a:t>Igor V. Moskalenko and Andrew W. Stro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183280" y="5943600"/>
            <a:ext cx="205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b2b2b2"/>
                </a:solidFill>
                <a:latin typeface="Arial Narrow"/>
              </a:rPr>
              <a:t>courtesy of: NASA GSF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666520" y="304920"/>
            <a:ext cx="385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5ed53"/>
                </a:solidFill>
                <a:uFillTx/>
                <a:latin typeface="Times New Roman"/>
              </a:rPr>
              <a:t>Integração em ângulo sól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35440" y="1195560"/>
            <a:ext cx="53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99"/>
                </a:solidFill>
                <a:latin typeface="Times New Roman"/>
              </a:rPr>
              <a:t>Facilitar os cálculos impondo dois limi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529640" y="2444760"/>
            <a:ext cx="51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5ed53"/>
                </a:solidFill>
                <a:latin typeface="Times New Roman"/>
              </a:rPr>
              <a:t>1) </a:t>
            </a:r>
            <a:r>
              <a:rPr b="0" lang="pt-BR" sz="2400" spc="-1" strike="noStrike" u="sng">
                <a:solidFill>
                  <a:srgbClr val="f5ed53"/>
                </a:solidFill>
                <a:uFillTx/>
                <a:latin typeface="Times New Roman"/>
              </a:rPr>
              <a:t>Limite cinemático</a:t>
            </a:r>
            <a:r>
              <a:rPr b="0" lang="pt-BR" sz="2400" spc="-1" strike="noStrike">
                <a:solidFill>
                  <a:srgbClr val="f5ed53"/>
                </a:solidFill>
                <a:latin typeface="Times New Roman"/>
              </a:rPr>
              <a:t> - efeito be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18840" y="3794040"/>
            <a:ext cx="47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5ed53"/>
                </a:solidFill>
                <a:latin typeface="Times New Roman"/>
              </a:rPr>
              <a:t>2) </a:t>
            </a:r>
            <a:r>
              <a:rPr b="0" lang="pt-BR" sz="2400" spc="-1" strike="noStrike" u="sng">
                <a:solidFill>
                  <a:srgbClr val="f5ed53"/>
                </a:solidFill>
                <a:uFillTx/>
                <a:latin typeface="Times New Roman"/>
              </a:rPr>
              <a:t>Limite geométrico</a:t>
            </a:r>
            <a:r>
              <a:rPr b="0" lang="pt-BR" sz="2400" spc="-1" strike="noStrike">
                <a:solidFill>
                  <a:srgbClr val="f5ed53"/>
                </a:solidFill>
                <a:latin typeface="Times New Roman"/>
              </a:rPr>
              <a:t> - disco galát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1447920" y="304920"/>
            <a:ext cx="52578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Cálculos e discussões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1190520"/>
            <a:ext cx="4495680" cy="0"/>
          </a:xfrm>
          <a:prstGeom prst="line">
            <a:avLst/>
          </a:prstGeom>
          <a:ln w="38160">
            <a:solidFill>
              <a:srgbClr val="f5ed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273320"/>
            <a:ext cx="8229600" cy="0"/>
          </a:xfrm>
          <a:prstGeom prst="line">
            <a:avLst/>
          </a:prstGeom>
          <a:ln w="38160">
            <a:solidFill>
              <a:srgbClr val="f5ed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457200"/>
            <a:ext cx="685800" cy="533520"/>
          </a:xfrm>
          <a:prstGeom prst="downArrowCallout">
            <a:avLst>
              <a:gd name="adj1" fmla="val 32138"/>
              <a:gd name="adj2" fmla="val 32136"/>
              <a:gd name="adj3" fmla="val 16667"/>
              <a:gd name="adj4" fmla="val 66667"/>
            </a:avLst>
          </a:prstGeom>
          <a:noFill/>
          <a:ln w="9360">
            <a:solidFill>
              <a:srgbClr val="f5ed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5257800"/>
            <a:ext cx="3657600" cy="1600200"/>
          </a:xfrm>
          <a:custGeom>
            <a:avLst/>
            <a:gdLst/>
            <a:ahLst/>
            <a:rect l="l" t="t" r="r" b="b"/>
            <a:pathLst>
              <a:path w="2304" h="1008">
                <a:moveTo>
                  <a:pt x="2304" y="0"/>
                </a:moveTo>
                <a:lnTo>
                  <a:pt x="2304" y="1008"/>
                </a:lnTo>
                <a:lnTo>
                  <a:pt x="0" y="1008"/>
                </a:lnTo>
              </a:path>
            </a:pathLst>
          </a:custGeom>
          <a:noFill/>
          <a:ln w="28440">
            <a:solidFill>
              <a:srgbClr val="f5ed5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1371600"/>
            <a:ext cx="733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Este efeito tem grandes implicações geométricas na distribuição da radiação, exceto para energias men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685800" y="2133720"/>
            <a:ext cx="8021520" cy="4647960"/>
            <a:chOff x="685800" y="2133720"/>
            <a:chExt cx="8021520" cy="4647960"/>
          </a:xfrm>
        </p:grpSpPr>
        <p:sp>
          <p:nvSpPr>
            <p:cNvPr id="136" name=""/>
            <p:cNvSpPr/>
            <p:nvPr/>
          </p:nvSpPr>
          <p:spPr>
            <a:xfrm>
              <a:off x="987480" y="2133720"/>
              <a:ext cx="5927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9999"/>
                  </a:solidFill>
                  <a:latin typeface="Times New Roman"/>
                </a:rPr>
                <a:t>Cálculo para três casos : 1) disco transparen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9999"/>
                  </a:solidFill>
                  <a:latin typeface="Times New Roman"/>
                </a:rPr>
                <a:t>                                        </a:t>
              </a:r>
              <a:r>
                <a:rPr b="0" lang="pt-BR" sz="2400" spc="-1" strike="noStrike">
                  <a:solidFill>
                    <a:srgbClr val="ff9999"/>
                  </a:solidFill>
                  <a:latin typeface="Times New Roman"/>
                </a:rPr>
                <a:t>2) superfície emissor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9999"/>
                  </a:solidFill>
                  <a:latin typeface="Times New Roman"/>
                </a:rPr>
                <a:t>                                        </a:t>
              </a:r>
              <a:r>
                <a:rPr b="0" lang="pt-BR" sz="2400" spc="-1" strike="noStrike">
                  <a:solidFill>
                    <a:srgbClr val="ff9999"/>
                  </a:solidFill>
                  <a:latin typeface="Times New Roman"/>
                </a:rPr>
                <a:t>3) disco isotrópico</a:t>
              </a:r>
              <a:r>
                <a:rPr b="0" lang="pt-BR" sz="24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7" name="" descr=""/>
            <p:cNvPicPr/>
            <p:nvPr/>
          </p:nvPicPr>
          <p:blipFill>
            <a:blip r:embed="rId3"/>
            <a:stretch/>
          </p:blipFill>
          <p:spPr>
            <a:xfrm>
              <a:off x="685800" y="3276720"/>
              <a:ext cx="8021520" cy="3504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1447920" y="304920"/>
            <a:ext cx="52578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Raios-gama galáticos difusos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1190520"/>
            <a:ext cx="4495680" cy="0"/>
          </a:xfrm>
          <a:prstGeom prst="line">
            <a:avLst/>
          </a:prstGeom>
          <a:ln w="38160">
            <a:solidFill>
              <a:srgbClr val="f5ed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" y="457200"/>
            <a:ext cx="685800" cy="533520"/>
          </a:xfrm>
          <a:prstGeom prst="downArrowCallout">
            <a:avLst>
              <a:gd name="adj1" fmla="val 32138"/>
              <a:gd name="adj2" fmla="val 32136"/>
              <a:gd name="adj3" fmla="val 16667"/>
              <a:gd name="adj4" fmla="val 66667"/>
            </a:avLst>
          </a:prstGeom>
          <a:noFill/>
          <a:ln w="9360">
            <a:solidFill>
              <a:srgbClr val="f5ed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05520" y="5257800"/>
            <a:ext cx="3657600" cy="1600200"/>
          </a:xfrm>
          <a:custGeom>
            <a:avLst/>
            <a:gdLst/>
            <a:ahLst/>
            <a:rect l="l" t="t" r="r" b="b"/>
            <a:pathLst>
              <a:path w="2304" h="1008">
                <a:moveTo>
                  <a:pt x="2304" y="0"/>
                </a:moveTo>
                <a:lnTo>
                  <a:pt x="2304" y="1008"/>
                </a:lnTo>
                <a:lnTo>
                  <a:pt x="0" y="1008"/>
                </a:lnTo>
              </a:path>
            </a:pathLst>
          </a:custGeom>
          <a:noFill/>
          <a:ln w="28440">
            <a:solidFill>
              <a:srgbClr val="f5ed5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9480" y="1371600"/>
            <a:ext cx="733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ccff"/>
                </a:solidFill>
                <a:latin typeface="Times New Roman"/>
              </a:rPr>
              <a:t>O </a:t>
            </a:r>
            <a:r>
              <a:rPr b="0" lang="pt-BR" sz="2400" spc="-1" strike="noStrike" u="sng">
                <a:solidFill>
                  <a:srgbClr val="ccccff"/>
                </a:solidFill>
                <a:uFillTx/>
                <a:latin typeface="Times New Roman"/>
              </a:rPr>
              <a:t>campo de radiação interestelar</a:t>
            </a:r>
            <a:r>
              <a:rPr b="0" lang="pt-BR" sz="2400" spc="-1" strike="noStrike">
                <a:solidFill>
                  <a:srgbClr val="ccccff"/>
                </a:solidFill>
                <a:latin typeface="Times New Roman"/>
              </a:rPr>
              <a:t> é essencial para propagação e produção de raios-g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2666880"/>
            <a:ext cx="733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A distribuição e o tipo de emissor é consider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Dados IRAS e C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4038480"/>
            <a:ext cx="733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ccff"/>
                </a:solidFill>
                <a:latin typeface="Times New Roman"/>
              </a:rPr>
              <a:t>Na prática calcula-se a taxa anisotr/isotr tomando em conta os diferentes tipos de emissores e intepolamos os dados na integração de uma linha de vis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295280" y="0"/>
            <a:ext cx="648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f5ed53"/>
                </a:solidFill>
                <a:uFillTx/>
                <a:latin typeface="Times New Roman"/>
              </a:rPr>
              <a:t>Relevância da radiação anisotrópica pa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f5ed53"/>
                </a:solidFill>
                <a:uFillTx/>
                <a:latin typeface="Times New Roman"/>
              </a:rPr>
              <a:t>várias coordenadas galát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compton-fig6" descr=""/>
          <p:cNvPicPr/>
          <p:nvPr/>
        </p:nvPicPr>
        <p:blipFill>
          <a:blip r:embed="rId1"/>
          <a:stretch/>
        </p:blipFill>
        <p:spPr>
          <a:xfrm>
            <a:off x="366840" y="1052640"/>
            <a:ext cx="84103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764640" y="228600"/>
            <a:ext cx="769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5ed53"/>
                </a:solidFill>
                <a:uFillTx/>
                <a:latin typeface="Times New Roman"/>
              </a:rPr>
              <a:t>Comparação com outros mecanismos de radi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compton-fig7" descr=""/>
          <p:cNvPicPr/>
          <p:nvPr/>
        </p:nvPicPr>
        <p:blipFill>
          <a:blip r:embed="rId1"/>
          <a:stretch/>
        </p:blipFill>
        <p:spPr>
          <a:xfrm>
            <a:off x="433440" y="928800"/>
            <a:ext cx="827712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222560" y="380880"/>
            <a:ext cx="655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5ed53"/>
                </a:solidFill>
                <a:uFillTx/>
                <a:latin typeface="Times New Roman"/>
              </a:rPr>
              <a:t>Comparação com observações do EGR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compton-fig9" descr=""/>
          <p:cNvPicPr/>
          <p:nvPr/>
        </p:nvPicPr>
        <p:blipFill>
          <a:blip r:embed="rId1"/>
          <a:stretch/>
        </p:blipFill>
        <p:spPr>
          <a:xfrm>
            <a:off x="1981080" y="1143000"/>
            <a:ext cx="510552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447920" y="304920"/>
            <a:ext cx="52578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Conclusão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1190520"/>
            <a:ext cx="4495680" cy="0"/>
          </a:xfrm>
          <a:prstGeom prst="line">
            <a:avLst/>
          </a:prstGeom>
          <a:ln w="38160">
            <a:solidFill>
              <a:srgbClr val="f5ed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" y="457200"/>
            <a:ext cx="685800" cy="533520"/>
          </a:xfrm>
          <a:prstGeom prst="downArrowCallout">
            <a:avLst>
              <a:gd name="adj1" fmla="val 32138"/>
              <a:gd name="adj2" fmla="val 32136"/>
              <a:gd name="adj3" fmla="val 16667"/>
              <a:gd name="adj4" fmla="val 66667"/>
            </a:avLst>
          </a:prstGeom>
          <a:noFill/>
          <a:ln w="9360">
            <a:solidFill>
              <a:srgbClr val="f5ed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105520" y="5257800"/>
            <a:ext cx="3657600" cy="1600200"/>
          </a:xfrm>
          <a:custGeom>
            <a:avLst/>
            <a:gdLst/>
            <a:ahLst/>
            <a:rect l="l" t="t" r="r" b="b"/>
            <a:pathLst>
              <a:path w="2304" h="1008">
                <a:moveTo>
                  <a:pt x="2304" y="0"/>
                </a:moveTo>
                <a:lnTo>
                  <a:pt x="2304" y="1008"/>
                </a:lnTo>
                <a:lnTo>
                  <a:pt x="0" y="1008"/>
                </a:lnTo>
              </a:path>
            </a:pathLst>
          </a:custGeom>
          <a:noFill/>
          <a:ln w="28440">
            <a:solidFill>
              <a:srgbClr val="f5ed5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1371600"/>
            <a:ext cx="7331040" cy="1191240"/>
          </a:xfrm>
          <a:prstGeom prst="rect">
            <a:avLst/>
          </a:prstGeom>
          <a:noFill/>
          <a:ln w="9360">
            <a:solidFill>
              <a:srgbClr val="f5ed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ccff"/>
                </a:solidFill>
                <a:latin typeface="Times New Roman"/>
              </a:rPr>
              <a:t>O ICS (Inverse Compton Scattering) é o maior responsável na emissão difusa da Galáxia em torno de 1Me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95440" y="2741760"/>
            <a:ext cx="7331040" cy="155700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5ed53"/>
                </a:solidFill>
                <a:latin typeface="Times New Roman"/>
              </a:rPr>
              <a:t>Foi mostrado que a anisotropia do Campo de Radiação Interestelar tem efeito significativo na intensidade e distribuição angular da radiação gama  e pode aumentar o fluxo a altas latitudes em até 40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480" y="4557600"/>
            <a:ext cx="7331040" cy="825480"/>
          </a:xfrm>
          <a:prstGeom prst="rect">
            <a:avLst/>
          </a:prstGeom>
          <a:noFill/>
          <a:ln w="9360">
            <a:solidFill>
              <a:srgbClr val="f5ed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ccff"/>
                </a:solidFill>
                <a:latin typeface="Times New Roman"/>
              </a:rPr>
              <a:t>Este efeito deveria ser levado em conta nas estimativas de cálculos da radiação extra-galática de fu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35040" y="5672160"/>
            <a:ext cx="7331040" cy="45972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5ed53"/>
                </a:solidFill>
                <a:latin typeface="Times New Roman"/>
              </a:rPr>
              <a:t>Aumento do entendimento dos raios-cósm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124080" y="228600"/>
            <a:ext cx="2714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Arial Black"/>
              </a:rPr>
              <a:t>Introdução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8245440" cy="82548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adiação Compton Invers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parece ter um papel importante na geração de radiação difusa pela Galáx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360" y="2514600"/>
            <a:ext cx="468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ccff"/>
                </a:solidFill>
                <a:latin typeface="Times New Roman"/>
              </a:rPr>
              <a:t>“</a:t>
            </a:r>
            <a:r>
              <a:rPr b="0" lang="pt-BR" sz="2400" spc="-1" strike="noStrike">
                <a:solidFill>
                  <a:srgbClr val="ccccff"/>
                </a:solidFill>
                <a:latin typeface="Times New Roman"/>
              </a:rPr>
              <a:t>GeV excess”  - medidas do EGR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27672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Modelo conhecido: observações locais do espectro de prótons e elétrons generalizadas para toda a Galáxia. Com restrições acima de 1 Ge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Em larga escala (para toda a galáxia) o espectro pode ser diferen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5257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99"/>
                </a:solidFill>
                <a:latin typeface="Times New Roman"/>
              </a:rPr>
              <a:t>Radiação Compton Inversa explicaria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124080" y="228600"/>
            <a:ext cx="2714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Arial Black"/>
              </a:rPr>
              <a:t>Introdução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1219320"/>
            <a:ext cx="8839440" cy="52056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ffffff"/>
                </a:solidFill>
                <a:uFillTx/>
                <a:latin typeface="Arial"/>
              </a:rPr>
              <a:t>Impacto nos estudos extra-galático e cosmoló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-304920" y="2362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Incluir essa radiação no cálculo da radiação de galáx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90720" y="3505320"/>
            <a:ext cx="6781680" cy="45972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A origem do fundo gama observado é desconhecida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1148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Modelos que tentam explicar:</a:t>
            </a:r>
            <a:r>
              <a:rPr b="0" lang="pt-BR" sz="24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ff9999"/>
                </a:solidFill>
                <a:latin typeface="Times New Roman"/>
              </a:rPr>
              <a:t>radiação Hawking, aniquilação de partículas exóticas no Universo primitivo, galáxias ativa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3124080" y="228600"/>
            <a:ext cx="2714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Arial Black"/>
              </a:rPr>
              <a:t>Introdução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6" name=""/>
          <p:cNvSpPr/>
          <p:nvPr/>
        </p:nvSpPr>
        <p:spPr>
          <a:xfrm>
            <a:off x="990720" y="1219320"/>
            <a:ext cx="69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álculos da Radiação Compton Inver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-152280" y="2057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Fórmula de Jones (1968) – espalhamento isotróp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2895480"/>
            <a:ext cx="6782040" cy="45972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A distribuição não é isotrópica: Disc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38862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smo para distribuições isotrópicas a radiação observada não é isotróp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4724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Portanto esse é um problema antigo que não foi calcul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920" y="5425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00"/>
                </a:solidFill>
                <a:latin typeface="Times New Roman"/>
              </a:rPr>
              <a:t>Então, como esse processo contribui consideravelmente para a radiação gama da galáxia é de interesse astrofísico incluir seus cálcul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1143000" y="228600"/>
            <a:ext cx="69343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O Espalhamento Compton Inverso em 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latin typeface="Arial"/>
              </a:rPr>
              <a:t>um campo anisotrópico de fótons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190520"/>
            <a:ext cx="4495680" cy="0"/>
          </a:xfrm>
          <a:prstGeom prst="line">
            <a:avLst/>
          </a:prstGeom>
          <a:ln w="38160">
            <a:solidFill>
              <a:srgbClr val="f5ed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273320"/>
            <a:ext cx="8229600" cy="0"/>
          </a:xfrm>
          <a:prstGeom prst="line">
            <a:avLst/>
          </a:prstGeom>
          <a:ln w="38160">
            <a:solidFill>
              <a:srgbClr val="f5ed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457200"/>
            <a:ext cx="685800" cy="533520"/>
          </a:xfrm>
          <a:prstGeom prst="downArrowCallout">
            <a:avLst>
              <a:gd name="adj1" fmla="val 32138"/>
              <a:gd name="adj2" fmla="val 32136"/>
              <a:gd name="adj3" fmla="val 16667"/>
              <a:gd name="adj4" fmla="val 66667"/>
            </a:avLst>
          </a:prstGeom>
          <a:noFill/>
          <a:ln w="9360">
            <a:solidFill>
              <a:srgbClr val="f5ed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8320" y="4648320"/>
            <a:ext cx="3657600" cy="1600200"/>
          </a:xfrm>
          <a:custGeom>
            <a:avLst/>
            <a:gdLst/>
            <a:ahLst/>
            <a:rect l="l" t="t" r="r" b="b"/>
            <a:pathLst>
              <a:path w="2304" h="1008">
                <a:moveTo>
                  <a:pt x="2304" y="0"/>
                </a:moveTo>
                <a:lnTo>
                  <a:pt x="2304" y="1008"/>
                </a:lnTo>
                <a:lnTo>
                  <a:pt x="0" y="1008"/>
                </a:lnTo>
              </a:path>
            </a:pathLst>
          </a:custGeom>
          <a:noFill/>
          <a:ln w="28440">
            <a:solidFill>
              <a:srgbClr val="f5ed5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2895480" y="1752480"/>
            <a:ext cx="4496040" cy="822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12840" y="1905120"/>
            <a:ext cx="238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Taxa de reaçõe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897200" y="4592520"/>
            <a:ext cx="1571400" cy="1463760"/>
            <a:chOff x="1897200" y="4592520"/>
            <a:chExt cx="1571400" cy="1463760"/>
          </a:xfrm>
        </p:grpSpPr>
        <p:sp>
          <p:nvSpPr>
            <p:cNvPr id="70" name=""/>
            <p:cNvSpPr/>
            <p:nvPr/>
          </p:nvSpPr>
          <p:spPr>
            <a:xfrm rot="2324400">
              <a:off x="2133360" y="4572000"/>
              <a:ext cx="228600" cy="83664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flipV="1">
              <a:off x="2511000" y="4678200"/>
              <a:ext cx="957240" cy="1378080"/>
            </a:xfrm>
            <a:prstGeom prst="line">
              <a:avLst/>
            </a:prstGeom>
            <a:ln w="1908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 flipV="1">
              <a:off x="2003400" y="5311800"/>
              <a:ext cx="1465200" cy="744480"/>
            </a:xfrm>
            <a:prstGeom prst="line">
              <a:avLst/>
            </a:prstGeom>
            <a:ln w="1908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5205600" y="4317480"/>
            <a:ext cx="1544760" cy="1497960"/>
            <a:chOff x="5205600" y="4317480"/>
            <a:chExt cx="1544760" cy="1497960"/>
          </a:xfrm>
        </p:grpSpPr>
        <p:sp>
          <p:nvSpPr>
            <p:cNvPr id="74" name=""/>
            <p:cNvSpPr/>
            <p:nvPr/>
          </p:nvSpPr>
          <p:spPr>
            <a:xfrm rot="13240800">
              <a:off x="6276600" y="5005080"/>
              <a:ext cx="228600" cy="83664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05960" y="4317480"/>
              <a:ext cx="910440" cy="1409400"/>
            </a:xfrm>
            <a:prstGeom prst="line">
              <a:avLst/>
            </a:prstGeom>
            <a:ln w="1908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205600" y="4317480"/>
              <a:ext cx="1439280" cy="793440"/>
            </a:xfrm>
            <a:prstGeom prst="line">
              <a:avLst/>
            </a:prstGeom>
            <a:ln w="1908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375840" y="2819520"/>
            <a:ext cx="6173640" cy="1835280"/>
            <a:chOff x="375840" y="2819520"/>
            <a:chExt cx="6173640" cy="1835280"/>
          </a:xfrm>
        </p:grpSpPr>
        <p:sp>
          <p:nvSpPr>
            <p:cNvPr id="78" name=""/>
            <p:cNvSpPr/>
            <p:nvPr/>
          </p:nvSpPr>
          <p:spPr>
            <a:xfrm>
              <a:off x="375840" y="2819520"/>
              <a:ext cx="461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ccccff"/>
                  </a:solidFill>
                  <a:uFillTx/>
                  <a:latin typeface="Times New Roman"/>
                </a:rPr>
                <a:t>Espalhamento por um único elétron</a:t>
              </a:r>
              <a:r>
                <a:rPr b="0" lang="en-US" sz="24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1182600" y="3998880"/>
              <a:ext cx="693360" cy="655920"/>
              <a:chOff x="1182600" y="3998880"/>
              <a:chExt cx="693360" cy="655920"/>
            </a:xfrm>
          </p:grpSpPr>
          <p:sp>
            <p:nvSpPr>
              <p:cNvPr id="80" name=""/>
              <p:cNvSpPr/>
              <p:nvPr/>
            </p:nvSpPr>
            <p:spPr>
              <a:xfrm>
                <a:off x="1182600" y="3998880"/>
                <a:ext cx="381240" cy="3812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flipV="1">
                <a:off x="1477080" y="4292640"/>
                <a:ext cx="398880" cy="36216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4846680" y="3983040"/>
              <a:ext cx="692280" cy="655920"/>
              <a:chOff x="4846680" y="3983040"/>
              <a:chExt cx="692280" cy="655920"/>
            </a:xfrm>
          </p:grpSpPr>
          <p:sp>
            <p:nvSpPr>
              <p:cNvPr id="83" name=""/>
              <p:cNvSpPr/>
              <p:nvPr/>
            </p:nvSpPr>
            <p:spPr>
              <a:xfrm>
                <a:off x="4846680" y="3983040"/>
                <a:ext cx="380880" cy="3812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flipV="1">
                <a:off x="5140440" y="4276800"/>
                <a:ext cx="398520" cy="36216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>
              <a:off x="916920" y="3505320"/>
              <a:ext cx="167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Arial"/>
                </a:rPr>
                <a:t>Ref. do elétr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492800" y="3505320"/>
              <a:ext cx="205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Arial"/>
                </a:rPr>
                <a:t>Ref. do laboratór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1933200" y="4697280"/>
            <a:ext cx="2445120" cy="1308240"/>
            <a:chOff x="1933200" y="4697280"/>
            <a:chExt cx="2445120" cy="1308240"/>
          </a:xfrm>
        </p:grpSpPr>
        <p:sp>
          <p:nvSpPr>
            <p:cNvPr id="88" name=""/>
            <p:cNvSpPr/>
            <p:nvPr/>
          </p:nvSpPr>
          <p:spPr>
            <a:xfrm flipH="1" flipV="1">
              <a:off x="1933200" y="4697280"/>
              <a:ext cx="1484280" cy="1308240"/>
            </a:xfrm>
            <a:prstGeom prst="line">
              <a:avLst/>
            </a:prstGeom>
            <a:ln w="38160">
              <a:solidFill>
                <a:srgbClr val="f5ed53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638440" y="496404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5ed53"/>
                  </a:solidFill>
                  <a:latin typeface="Arial"/>
                </a:rPr>
                <a:t>Fóton incide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5254560" y="4370760"/>
            <a:ext cx="2540880" cy="1356840"/>
            <a:chOff x="5254560" y="4370760"/>
            <a:chExt cx="2540880" cy="1356840"/>
          </a:xfrm>
        </p:grpSpPr>
        <p:sp>
          <p:nvSpPr>
            <p:cNvPr id="91" name=""/>
            <p:cNvSpPr/>
            <p:nvPr/>
          </p:nvSpPr>
          <p:spPr>
            <a:xfrm>
              <a:off x="5254560" y="4370760"/>
              <a:ext cx="1440000" cy="1356840"/>
            </a:xfrm>
            <a:prstGeom prst="line">
              <a:avLst/>
            </a:prstGeom>
            <a:ln w="38160">
              <a:solidFill>
                <a:srgbClr val="f5ed53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6960" y="4518000"/>
              <a:ext cx="187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5ed53"/>
                  </a:solidFill>
                  <a:latin typeface="Arial"/>
                </a:rPr>
                <a:t>Fóton espalha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214200" y="152280"/>
            <a:ext cx="8929800" cy="1632240"/>
            <a:chOff x="214200" y="152280"/>
            <a:chExt cx="8929800" cy="1632240"/>
          </a:xfrm>
        </p:grpSpPr>
        <p:pic>
          <p:nvPicPr>
            <p:cNvPr id="94" name="" descr=""/>
            <p:cNvPicPr/>
            <p:nvPr/>
          </p:nvPicPr>
          <p:blipFill>
            <a:blip r:embed="rId1"/>
            <a:stretch/>
          </p:blipFill>
          <p:spPr>
            <a:xfrm>
              <a:off x="214200" y="698400"/>
              <a:ext cx="3516480" cy="104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" descr=""/>
            <p:cNvPicPr/>
            <p:nvPr/>
          </p:nvPicPr>
          <p:blipFill>
            <a:blip r:embed="rId2"/>
            <a:stretch/>
          </p:blipFill>
          <p:spPr>
            <a:xfrm>
              <a:off x="5056200" y="685800"/>
              <a:ext cx="4087800" cy="109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3871800" y="1231920"/>
              <a:ext cx="914400" cy="0"/>
            </a:xfrm>
            <a:prstGeom prst="line">
              <a:avLst/>
            </a:prstGeom>
            <a:ln w="3816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746000" y="152280"/>
              <a:ext cx="52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5ed53"/>
                  </a:solidFill>
                  <a:latin typeface="Times New Roman"/>
                </a:rPr>
                <a:t>Distribuição de elétrons monoenergétic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1747080" y="2209680"/>
            <a:ext cx="5057640" cy="1497240"/>
            <a:chOff x="1747080" y="2209680"/>
            <a:chExt cx="5057640" cy="1497240"/>
          </a:xfrm>
        </p:grpSpPr>
        <p:pic>
          <p:nvPicPr>
            <p:cNvPr id="99" name="" descr=""/>
            <p:cNvPicPr/>
            <p:nvPr/>
          </p:nvPicPr>
          <p:blipFill>
            <a:blip r:embed="rId3"/>
            <a:stretch/>
          </p:blipFill>
          <p:spPr>
            <a:xfrm>
              <a:off x="2057400" y="2819520"/>
              <a:ext cx="4267080" cy="88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1747080" y="2209680"/>
              <a:ext cx="505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5ed53"/>
                  </a:solidFill>
                  <a:latin typeface="Times New Roman"/>
                </a:rPr>
                <a:t>Distribuição de fótons monoenergétic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0" y="4191120"/>
            <a:ext cx="8164440" cy="1295280"/>
            <a:chOff x="0" y="4191120"/>
            <a:chExt cx="8164440" cy="1295280"/>
          </a:xfrm>
        </p:grpSpPr>
        <p:pic>
          <p:nvPicPr>
            <p:cNvPr id="102" name="" descr=""/>
            <p:cNvPicPr/>
            <p:nvPr/>
          </p:nvPicPr>
          <p:blipFill>
            <a:blip r:embed="rId4"/>
            <a:stretch/>
          </p:blipFill>
          <p:spPr>
            <a:xfrm>
              <a:off x="457200" y="4572000"/>
              <a:ext cx="770724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0" y="4191120"/>
              <a:ext cx="6934320" cy="0"/>
            </a:xfrm>
            <a:prstGeom prst="line">
              <a:avLst/>
            </a:prstGeom>
            <a:ln w="38160">
              <a:solidFill>
                <a:srgbClr val="ccec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2512800" y="5409720"/>
            <a:ext cx="3215160" cy="1145880"/>
            <a:chOff x="2512800" y="5409720"/>
            <a:chExt cx="3215160" cy="1145880"/>
          </a:xfrm>
        </p:grpSpPr>
        <p:sp>
          <p:nvSpPr>
            <p:cNvPr id="105" name=""/>
            <p:cNvSpPr/>
            <p:nvPr/>
          </p:nvSpPr>
          <p:spPr>
            <a:xfrm flipV="1">
              <a:off x="3276720" y="5409720"/>
              <a:ext cx="0" cy="685800"/>
            </a:xfrm>
            <a:prstGeom prst="line">
              <a:avLst/>
            </a:prstGeom>
            <a:ln w="38160">
              <a:solidFill>
                <a:srgbClr val="cccc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512800" y="6095880"/>
              <a:ext cx="321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cc00"/>
                  </a:solidFill>
                  <a:latin typeface="Times New Roman"/>
                </a:rPr>
                <a:t>Ângulo de espalhamen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219320" y="533520"/>
            <a:ext cx="6906960" cy="6951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058760" y="0"/>
            <a:ext cx="715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9999"/>
                </a:solidFill>
                <a:latin typeface="Times New Roman"/>
              </a:rPr>
              <a:t>Distribuição dos fótons espalhados por energia (espetro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478320" y="2843280"/>
            <a:ext cx="4343400" cy="397836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1066680" y="1295280"/>
            <a:ext cx="7069320" cy="2486160"/>
            <a:chOff x="1066680" y="1295280"/>
            <a:chExt cx="7069320" cy="2486160"/>
          </a:xfrm>
        </p:grpSpPr>
        <p:grpSp>
          <p:nvGrpSpPr>
            <p:cNvPr id="111" name=""/>
            <p:cNvGrpSpPr/>
            <p:nvPr/>
          </p:nvGrpSpPr>
          <p:grpSpPr>
            <a:xfrm>
              <a:off x="1066680" y="1295280"/>
              <a:ext cx="7069320" cy="1419480"/>
              <a:chOff x="1066680" y="1295280"/>
              <a:chExt cx="7069320" cy="1419480"/>
            </a:xfrm>
          </p:grpSpPr>
          <p:sp>
            <p:nvSpPr>
              <p:cNvPr id="112" name=""/>
              <p:cNvSpPr/>
              <p:nvPr/>
            </p:nvSpPr>
            <p:spPr>
              <a:xfrm>
                <a:off x="4191120" y="1295280"/>
                <a:ext cx="0" cy="609840"/>
              </a:xfrm>
              <a:prstGeom prst="line">
                <a:avLst/>
              </a:prstGeom>
              <a:ln w="38160">
                <a:solidFill>
                  <a:srgbClr val="ff99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066680" y="1981080"/>
                <a:ext cx="7069320" cy="733680"/>
              </a:xfrm>
              <a:prstGeom prst="rect">
                <a:avLst/>
              </a:prstGeom>
              <a:ln w="9360">
                <a:solidFill>
                  <a:srgbClr val="ff9999"/>
                </a:solidFill>
                <a:miter/>
              </a:ln>
            </p:spPr>
          </p:pic>
          <p:sp>
            <p:nvSpPr>
              <p:cNvPr id="114" name=""/>
              <p:cNvSpPr/>
              <p:nvPr/>
            </p:nvSpPr>
            <p:spPr>
              <a:xfrm>
                <a:off x="4344840" y="1295280"/>
                <a:ext cx="3183120" cy="459720"/>
              </a:xfrm>
              <a:prstGeom prst="rect">
                <a:avLst/>
              </a:prstGeom>
              <a:noFill/>
              <a:ln w="9360">
                <a:solidFill>
                  <a:srgbClr val="ff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cc00"/>
                    </a:solidFill>
                    <a:latin typeface="Times New Roman"/>
                  </a:rPr>
                  <a:t>efetuando as integraçõ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15" name="" descr=""/>
            <p:cNvPicPr/>
            <p:nvPr/>
          </p:nvPicPr>
          <p:blipFill>
            <a:blip r:embed="rId4"/>
            <a:stretch/>
          </p:blipFill>
          <p:spPr>
            <a:xfrm>
              <a:off x="1066680" y="2743200"/>
              <a:ext cx="1828800" cy="50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" descr=""/>
            <p:cNvPicPr/>
            <p:nvPr/>
          </p:nvPicPr>
          <p:blipFill>
            <a:blip r:embed="rId5"/>
            <a:stretch/>
          </p:blipFill>
          <p:spPr>
            <a:xfrm>
              <a:off x="1066680" y="3276720"/>
              <a:ext cx="1828800" cy="504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21733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123720" y="99072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5ed53"/>
                </a:solidFill>
                <a:latin typeface="Times New Roman"/>
              </a:rPr>
              <a:t>Caso isotróp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37200" y="4724280"/>
            <a:ext cx="377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5ed53"/>
                </a:solidFill>
                <a:latin typeface="Times New Roman"/>
              </a:rPr>
              <a:t>Comparação dos dois caso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436840" y="380880"/>
            <a:ext cx="363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5ed53"/>
                </a:solidFill>
                <a:latin typeface="Times New Roman"/>
              </a:rPr>
              <a:t>Comparação dos dois cas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086600" cy="45039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601640" y="5715000"/>
            <a:ext cx="237816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diferença máx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quando zeta =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098960" y="5680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729320" y="5715000"/>
            <a:ext cx="262224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s médias nos do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asos são igua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31T06:00:16Z</dcterms:created>
  <dc:creator>eder</dc:creator>
  <dc:description/>
  <dc:language>en-US</dc:language>
  <cp:lastModifiedBy>José Carlos Neves de Araújo</cp:lastModifiedBy>
  <dcterms:modified xsi:type="dcterms:W3CDTF">2004-06-03T11:56:10Z</dcterms:modified>
  <cp:revision>14</cp:revision>
  <dc:subject/>
  <dc:title>Apresentação do PowerPoint</dc:title>
</cp:coreProperties>
</file>