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797E-5C71-405C-BD13-DCF39DF0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8FF-0099-4878-8986-C42B8BC9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D03B-C03F-455D-B3E7-E521A162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F7C0-B1DA-4A87-9585-7901131F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C800-9AB3-4C61-86F1-FF20B3C6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1F9-E83E-4D2F-A431-5D0E36B6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BCE9-116C-439F-9293-3CB58650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BEB-370C-4B50-B1FF-E5B491FD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5D59-F9B7-4F5F-A006-7AD5767A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51BC-DAEC-4C1C-A140-634E5AC1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78DA-32AE-4207-A90C-364F272B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14D-A075-4425-BEAA-A66023CD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DE40-86A5-4B0B-991D-5E729A1350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EVOLUCAO DO ESPECTRO SYNCHROTRON NO 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MARKARIAN 421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DURANTE A CAMPANHA 199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Procesos Radiativos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Julio T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TEIT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1600200"/>
            <a:ext cx="723888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33cc"/>
                </a:solidFill>
                <a:uFillTx/>
                <a:latin typeface="Times New Roman"/>
              </a:rPr>
              <a:t>BeppoSAX </a:t>
            </a: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Satellite per Astronomia X, "Beppo"</a:t>
            </a: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- Estende banda a baixas energ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Deteito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LECS (Low Energy Concentrator  Spectrome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0,12 – 4,0 K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MECS (Medium Energy Concentrator Spectrome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1,65 – 10 Ke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33cc"/>
                </a:solidFill>
                <a:uFillTx/>
                <a:latin typeface="Times New Roman"/>
              </a:rPr>
              <a:t>EUVE</a:t>
            </a: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xtreme Ultraviolet Explo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oram normalizados para ser consistentes 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utras observ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 ratio de contas dele fluxo EUVE foi esca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de modo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pt-BR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(EUVE) = 1,78  [ F (cts s</a:t>
            </a:r>
            <a:r>
              <a:rPr b="0" lang="pt-BR" sz="20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)/0,46] x 10</a:t>
            </a:r>
            <a:r>
              <a:rPr b="0" lang="pt-BR" sz="2000" spc="-1" strike="noStrike" baseline="30000">
                <a:solidFill>
                  <a:srgbClr val="3333cc"/>
                </a:solidFill>
                <a:latin typeface="Times New Roman"/>
              </a:rPr>
              <a:t>-10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rg cm</a:t>
            </a:r>
            <a:r>
              <a:rPr b="0" lang="pt-BR" sz="2000" spc="-1" strike="noStrike" baseline="30000">
                <a:solidFill>
                  <a:srgbClr val="3333cc"/>
                </a:solidFill>
                <a:latin typeface="Times New Roman"/>
              </a:rPr>
              <a:t>-2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pt-BR" sz="20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EUVE" descr=""/>
          <p:cNvPicPr/>
          <p:nvPr/>
        </p:nvPicPr>
        <p:blipFill>
          <a:blip r:embed="rId1"/>
          <a:stretch/>
        </p:blipFill>
        <p:spPr>
          <a:xfrm>
            <a:off x="6477120" y="3581280"/>
            <a:ext cx="2193840" cy="2052720"/>
          </a:xfrm>
          <a:prstGeom prst="rect">
            <a:avLst/>
          </a:prstGeom>
          <a:ln w="0">
            <a:noFill/>
          </a:ln>
        </p:spPr>
      </p:pic>
      <p:pic>
        <p:nvPicPr>
          <p:cNvPr id="70" name="Bepposax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219708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3. RESULTAD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1447920"/>
            <a:ext cx="6553440" cy="44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1. </a:t>
            </a: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A forma do Espectro 0,1 – 25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 Abril 24 as observações de RX (ASCA, BeppoSAX, RXTE) e EUVE se sobrepor por 7,44 h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juste do espectro para cada instru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---&gt;modelo de lei de potênci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s resultados sugerem que se precisa um modelo mais complexo para descrever o espec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La alta energia dele espectro Synchrotron no TEV Blazars está localizado no intervalo RX, por esso a alta calidad dos datas RX no pode ser descrito por uma simple lei de potê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3. RESULTAD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1447920"/>
            <a:ext cx="655344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1. </a:t>
            </a: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A forma do Espectro 0,1 – 25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Vários modelos foram considerados para reproduzir os datas observ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Lei de potências com um exponencial de cort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(E) = KE</a:t>
            </a:r>
            <a:r>
              <a:rPr b="0" lang="pt-BR" sz="20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pt-BR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pt-BR" sz="2000" spc="-1" strike="noStrike" baseline="30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exp (E/E</a:t>
            </a:r>
            <a:r>
              <a:rPr b="0" lang="pt-BR" sz="2000" spc="-1" strike="noStrike" baseline="-25000">
                <a:solidFill>
                  <a:srgbClr val="3333cc"/>
                </a:solidFill>
                <a:latin typeface="Times New Roman"/>
              </a:rPr>
              <a:t>br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Lei de potências quebrados :  F(E) = KE</a:t>
            </a:r>
            <a:r>
              <a:rPr b="0" lang="pt-BR" sz="20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pt-BR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pt-BR" sz="2000" spc="-1" strike="noStrike" baseline="30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[1+(E/E</a:t>
            </a:r>
            <a:r>
              <a:rPr b="0" lang="pt-BR" sz="2000" spc="-1" strike="noStrike" baseline="-25000">
                <a:solidFill>
                  <a:srgbClr val="3333cc"/>
                </a:solidFill>
                <a:latin typeface="Times New Roman"/>
              </a:rPr>
              <a:t>br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)]</a:t>
            </a:r>
            <a:r>
              <a:rPr b="0" lang="pt-BR" sz="20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pt-BR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pt-BR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Lei de potências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unção quadrática no plano log</a:t>
            </a: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 – log </a:t>
            </a: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pt-BR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log </a:t>
            </a: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pt-BR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(E) = log (log </a:t>
            </a: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pt-BR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 baseline="-25000">
                <a:solidFill>
                  <a:srgbClr val="3333cc"/>
                </a:solidFill>
                <a:latin typeface="Times New Roman"/>
              </a:rPr>
              <a:t>, peak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) – 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(LogE - log E</a:t>
            </a:r>
            <a:r>
              <a:rPr b="0" lang="pt-BR" sz="2000" spc="-1" strike="noStrike" baseline="-25000">
                <a:solidFill>
                  <a:srgbClr val="3333cc"/>
                </a:solidFill>
                <a:latin typeface="Times New Roman"/>
              </a:rPr>
              <a:t> peak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pt-BR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Lei de potências curva é o função quadrática são melh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fg1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5105160" cy="42973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3. RESULTAD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1143000"/>
            <a:ext cx="655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1.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 forma do Espectro 0,1 – 25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juste pel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unção quadr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20574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BeppoS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32767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BeppoS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19051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AS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2209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RX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2. O Espectro de Tempo Resolv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600200"/>
            <a:ext cx="6324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nergia total  cubierta:  0,13 – 7 K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ASCA   0,7 – 7 KeV ;   EUVE   0,13 – 0,18 K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UVE observação cubrió a campanha entera (Abril 19,4 – May 1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 ajuste de o espectro combinado EUVE/AS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(Ajuste de modelo quadrát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 evolução dos parâmetros derivados muestr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pico do energi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 mais alto cuando  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pico de flux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 mais a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2. O Espectro de Tempo Resolv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fg2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429080" cy="4952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19320" y="615636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pico do energi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 mais alto cuando  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pico de flux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 mais a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2. O Espectro de Tempo Resolv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60020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fg3" descr=""/>
          <p:cNvPicPr/>
          <p:nvPr/>
        </p:nvPicPr>
        <p:blipFill>
          <a:blip r:embed="rId1"/>
          <a:stretch/>
        </p:blipFill>
        <p:spPr>
          <a:xfrm>
            <a:off x="4191120" y="2514600"/>
            <a:ext cx="4343400" cy="4075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066680" y="4343400"/>
            <a:ext cx="304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mprova que a função quadrática ajusta a correlação entre pico de energia e pico de flux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71500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00"/>
                </a:solidFill>
                <a:latin typeface="Times New Roman"/>
              </a:rPr>
              <a:t>E</a:t>
            </a:r>
            <a:r>
              <a:rPr b="1" lang="pt-BR" sz="2400" spc="-1" strike="noStrike" baseline="-25000">
                <a:solidFill>
                  <a:srgbClr val="ff9900"/>
                </a:solidFill>
                <a:latin typeface="Times New Roman"/>
              </a:rPr>
              <a:t>peak</a:t>
            </a:r>
            <a:r>
              <a:rPr b="1" lang="pt-BR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99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ff9900"/>
                </a:solidFill>
                <a:latin typeface="Times New Roman"/>
              </a:rPr>
              <a:t> F </a:t>
            </a:r>
            <a:r>
              <a:rPr b="1" lang="pt-BR" sz="2400" spc="-1" strike="noStrike" baseline="-25000">
                <a:solidFill>
                  <a:srgbClr val="ff9900"/>
                </a:solidFill>
                <a:latin typeface="Times New Roman"/>
              </a:rPr>
              <a:t>(0.1-10 keV)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676520"/>
            <a:ext cx="746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unção quadrática no intervalo total de 0,1 – 25 KeV valida solo para a época cuandu as observações BeppoSAX, ASCA e RXTE foram disponibles.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2895480"/>
            <a:ext cx="2971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Datas ASCA/EUVE : Gap de energia para E&lt; 7 K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Datas de BeppoSAX não tem gap de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2. O Espectro de Tempo Resolv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160020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182880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s esta relação varia entre um ano e outro. Em alguns casos a correlação es mais fraca que em out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fg4" descr=""/>
          <p:cNvPicPr/>
          <p:nvPr/>
        </p:nvPicPr>
        <p:blipFill>
          <a:blip r:embed="rId1"/>
          <a:stretch/>
        </p:blipFill>
        <p:spPr>
          <a:xfrm>
            <a:off x="1828800" y="3200400"/>
            <a:ext cx="571500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3. Variações Espectrais no Flare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160020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1828800"/>
            <a:ext cx="6248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Intervalo amplio de energias: EUVE, ASCA e RX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(0,1 – 25 K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bservações de RXTE em mínimo de fla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nalises da parte de crescimento dele fl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pectro ASCA/RXTE ajustado por lei de potência curva, logo combinado com datas  de EU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volução de espectro para 2do, 4to e 5to flares (60, 260 e 340 k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pectro ASCA/EUVE depois de 40 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3. Variações Espectrais no Flare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160020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1828800"/>
            <a:ext cx="6248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Segundo flares (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k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pec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SCA/RXTE-EU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pec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SCA/EU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depois de 40 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fg5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3738600" cy="4684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172200" y="4343400"/>
            <a:ext cx="1371600" cy="45720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Times New Roman"/>
              </a:rPr>
              <a:t>Os 7 dias de observações no RX e UV do Blazar TeV Mrk 421 no 1998 reveló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905120"/>
            <a:ext cx="7772400" cy="44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s Flares no raios X acontecem repetid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nalisais espectral resuelto no tempo (satélites ASCA, RXTE, BeppoSAX e EUVE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tudio da evolução espectral dos fla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Correlacao entre o pico de energia E</a:t>
            </a:r>
            <a:r>
              <a:rPr b="0" lang="pt-BR" sz="2000" spc="-1" strike="noStrike" baseline="-25000">
                <a:solidFill>
                  <a:srgbClr val="3333cc"/>
                </a:solidFill>
                <a:latin typeface="Times New Roman"/>
              </a:rPr>
              <a:t>peak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 pico o Fluxo </a:t>
            </a: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pt-BR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 baseline="-25000">
                <a:solidFill>
                  <a:srgbClr val="3333cc"/>
                </a:solidFill>
                <a:latin typeface="Times New Roman"/>
              </a:rPr>
              <a:t> peak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s variações espectrales mudam de flare a flare no campanha 199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orma dos flares devido a aparição de um novo componente espect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Correlação entre o pico do Fluxo synchcrotron e o Fluxo Te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3. Variações Espectrais no Flare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160020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1828800"/>
            <a:ext cx="6248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Segundo flares (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260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k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pec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SCA/RXTE-EU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pec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SCA/EU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depois de 40 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fg6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3768840" cy="4724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248520" y="4419720"/>
            <a:ext cx="1371600" cy="53316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3. Variações Espectrais no Flare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160020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1828800"/>
            <a:ext cx="6248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Segundo flares (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340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k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pec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SCA/RXTE-EU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pec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SCA/EU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depois de 40 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fg7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3794400" cy="4843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095880" y="4114800"/>
            <a:ext cx="1371600" cy="45720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4. A Correlação dos RX e T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1600200"/>
            <a:ext cx="6248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TeV Blazars eletrones acelerados a altas energias (RX e T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s Blazars são variarei em corto temp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HEGRA  e Whipple 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    :              Te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SCA, RXTE, EUVE            :  0,1 –25 KeV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pectro combinado em RX e ajuste por função quadr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pectro de 0,1 a 25 KeV simultâneo com observação T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4. A Correlação dos RX e T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160020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5181480"/>
            <a:ext cx="579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O pico de espectro synchrotron es resolvida e pico acontece em intervalo de 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60958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HEGRA/ASCA/EUVE            Whipple/ASCA/EU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fg8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715000" cy="4038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52480" y="4952880"/>
            <a:ext cx="579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O pico de espectro synchrotron es resolvida e pico acontece em intervalo de 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160020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52388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Correlação da posição de o fluxo de pico synchrotron com o Fluxo Te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fg9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4953240" cy="3797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47920" y="6172200"/>
            <a:ext cx="5486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Ajuste com lei de potências F</a:t>
            </a:r>
            <a:r>
              <a:rPr b="0" lang="pt-BR" sz="2000" spc="-1" strike="noStrike" baseline="-25000">
                <a:solidFill>
                  <a:srgbClr val="ff0000"/>
                </a:solidFill>
                <a:latin typeface="Times New Roman"/>
              </a:rPr>
              <a:t>TeV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0" lang="pt-BR" sz="2000" spc="-1" strike="noStrike" baseline="-25000">
                <a:solidFill>
                  <a:srgbClr val="ff0000"/>
                </a:solidFill>
                <a:latin typeface="Times New Roman"/>
              </a:rPr>
              <a:t>Sy, P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4. A Correlação dos RX e T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4. DISC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160020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1523880"/>
            <a:ext cx="624852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Uma lei de potências curvada e uma função quadrática reproduzem o espectro combinado EUVE, BeppoSAX, ASCA, R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xiste uma correlação entre Energia e o Fluxo em o pico synchrotron de espectro </a:t>
            </a: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pt-BR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Relação cambia de flare a fl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 relativa amplitude de crescimento em diferentes energias também cambia de flare a flare. Esto não pode ser por distribuição de eletrones </a:t>
            </a:r>
            <a:r>
              <a:rPr b="0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concavidade indica 2 diferentes componentes espectrais coexistem a  o inicio dos f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4. DISC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160020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1523880"/>
            <a:ext cx="723888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Segundo Teoria em Mrk 42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Cambio em parâmetros (B, Emax dos eletrones, 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Incremento repentino de Emáx dos eletrones acel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lare em RX e Te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utras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Cada flare é resultado de uma distribuição de elétron  por separado (eletrones de jet e outras regiões generam diferentes componentes  de emiss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Outra: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Choques internos de camadas por sua diversa velocidade</a:t>
            </a:r>
            <a:r>
              <a:rPr b="0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superposição de muitos fla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NTRODUCA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143000"/>
            <a:ext cx="7620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Qué são os Blaza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98108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Núcleos Ativos de Galáxias (AG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Posem “jets” alinhado perto a linha de vi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048120"/>
            <a:ext cx="716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principal característica dos Blaza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Sua alto fluxo observado ( Radio a Raios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orte variabilidade e forte polariz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419720"/>
            <a:ext cx="716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 espectro consiste em 2 p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Pico no intervalo de </a:t>
            </a:r>
            <a:r>
              <a:rPr b="0" lang="pt-BR" sz="2000" spc="-1" strike="noStrike">
                <a:solidFill>
                  <a:srgbClr val="00cc00"/>
                </a:solidFill>
                <a:latin typeface="Times New Roman"/>
              </a:rPr>
              <a:t>Radio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Optico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pt-BR" sz="2000" spc="-1" strike="noStrike">
                <a:solidFill>
                  <a:srgbClr val="9933ff"/>
                </a:solidFill>
                <a:latin typeface="Times New Roman"/>
              </a:rPr>
              <a:t>UV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(e RX em alguns cas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Pico no intervalo </a:t>
            </a:r>
            <a:r>
              <a:rPr b="0" lang="pt-BR" sz="2000" spc="-1" strike="noStrike">
                <a:solidFill>
                  <a:srgbClr val="ff9900"/>
                </a:solidFill>
                <a:latin typeface="Times New Roman"/>
              </a:rPr>
              <a:t>Rx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9900"/>
                </a:solidFill>
                <a:latin typeface="Times New Roman"/>
              </a:rPr>
              <a:t>forte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pt-BR" sz="2000" spc="-1" strike="noStrike">
                <a:solidFill>
                  <a:srgbClr val="ff9900"/>
                </a:solidFill>
                <a:latin typeface="Times New Roman"/>
              </a:rPr>
              <a:t>R</a:t>
            </a:r>
            <a:r>
              <a:rPr b="0" lang="pt-BR" sz="2000" spc="-1" strike="noStrike">
                <a:solidFill>
                  <a:srgbClr val="ff99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ynchrotron_Radiation_med" descr=""/>
          <p:cNvPicPr/>
          <p:nvPr/>
        </p:nvPicPr>
        <p:blipFill>
          <a:blip r:embed="rId1"/>
          <a:stretch/>
        </p:blipFill>
        <p:spPr>
          <a:xfrm>
            <a:off x="6019920" y="1447920"/>
            <a:ext cx="2438280" cy="1917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miss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2133720"/>
            <a:ext cx="6248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cc00"/>
                </a:solidFill>
                <a:latin typeface="Times New Roman"/>
              </a:rPr>
              <a:t>Radio-Optico-UV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- Alta Polarização de emissão radio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óp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- O Pico é produzido via pro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Synchro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9900"/>
                </a:solidFill>
                <a:latin typeface="Times New Roman"/>
              </a:rPr>
              <a:t>Raio X - Raios </a:t>
            </a:r>
            <a:r>
              <a:rPr b="0" lang="pt-BR" sz="2000" spc="-1" strike="noStrike">
                <a:solidFill>
                  <a:srgbClr val="ff9900"/>
                </a:solidFill>
                <a:latin typeface="Symbol"/>
                <a:ea typeface="Symbol"/>
              </a:rPr>
              <a:t></a:t>
            </a:r>
            <a:r>
              <a:rPr b="0" lang="pt-BR" sz="2000" spc="-1" strike="noStrike">
                <a:solidFill>
                  <a:srgbClr val="ff99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- Pico com energias alt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(“Upscattering Compton”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otones “nascidos” pela mes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população de eletrones relativis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img12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00996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3880" y="1676520"/>
            <a:ext cx="6096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s Blazars pico Synchrotron em RX ---&gt;R </a:t>
            </a: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...TeV  Blazars !!!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s TeV Blazars tem o fluxo synchrotron variarei muito forte e rápido na banda RX (eletrones acelerados a alta energ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 pico Synchrotron e muito importante por 2 razo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luxo           --&gt;  Potência total emitida dos Bla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reqüência   -- &gt; máxima energia das partíc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                             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radiantes obtida em processos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               de acele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TeVblazar5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209680" cy="21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295280"/>
            <a:ext cx="6629400" cy="30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Times New Roman"/>
              </a:rPr>
              <a:t>Mrk 421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Blazars cercãos conhec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Foi o primeiro blazar descoberto que era emissor 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TeV (EGRET, Whipple 199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 variação de fluxo foi observado em diferentes escalas de tempo. (~Ho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rk421" descr=""/>
          <p:cNvPicPr/>
          <p:nvPr/>
        </p:nvPicPr>
        <p:blipFill>
          <a:blip r:embed="rId1"/>
          <a:stretch/>
        </p:blipFill>
        <p:spPr>
          <a:xfrm>
            <a:off x="6477120" y="6858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58" name="mkn421_TOO" descr=""/>
          <p:cNvPicPr/>
          <p:nvPr/>
        </p:nvPicPr>
        <p:blipFill>
          <a:blip r:embed="rId2"/>
          <a:stretch/>
        </p:blipFill>
        <p:spPr>
          <a:xfrm>
            <a:off x="5562720" y="4114800"/>
            <a:ext cx="277812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609480"/>
            <a:ext cx="4191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 campanha 1998 de observação de Mrk 421 no intervalo de TeV foi usando vários telescópios no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m outros comprimentos de onda se usarom satéli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R X (ASCA, RXTE,BeppoS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UV  (EU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Times New Roman"/>
              </a:rPr>
              <a:t>Optica (BVRI) WEBT  collab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Times New Roman"/>
              </a:rPr>
              <a:t>Radio  Metsähovi Radio Observatory</a:t>
            </a:r>
            <a:r>
              <a:rPr b="0" sz="20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kn421spectro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4091040" cy="32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. OBSERVAÇÃO E ANALISIS DE DAT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1836720"/>
            <a:ext cx="6400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-Estudar a evolução de espectro de alta energia como função de t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-Estudar correlação espectro synchcrotron com o Fluxo T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Da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RX  (ASCA, RXTE, BeppoSAX) e  UV   (EU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Observacoes :</a:t>
            </a:r>
            <a:r>
              <a:rPr b="0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Times New Roman"/>
              </a:rPr>
              <a:t>-Campanha de Abril 1998 em RX e 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-Descrição da variação de 7 dias de pico sychro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TEIT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523880"/>
            <a:ext cx="7238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33cc"/>
                </a:solidFill>
                <a:uFillTx/>
                <a:latin typeface="Times New Roman"/>
              </a:rPr>
              <a:t>ASCA (</a:t>
            </a: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Advanced Satellite for Cosmology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Astrophys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Observações: Abril 23.97-30.8 UT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Deteitor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2 Solid State Imaging Spectrometers (SI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2 Gas Imaging Spectrometers (GI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33cc"/>
                </a:solidFill>
                <a:uFillTx/>
                <a:latin typeface="Times New Roman"/>
              </a:rPr>
              <a:t>RXTE:</a:t>
            </a: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The Rossi X-ray Timing Explorer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stende a banda observada por ASCA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ltas energ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Deteitor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PCA (Proporcional Counter Array; 2-60 KeV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HEXTE (High Energy X-Ray Timming Experiment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15-200 K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asca_medium" descr=""/>
          <p:cNvPicPr/>
          <p:nvPr/>
        </p:nvPicPr>
        <p:blipFill>
          <a:blip r:embed="rId1"/>
          <a:stretch/>
        </p:blipFill>
        <p:spPr>
          <a:xfrm>
            <a:off x="6553080" y="1523880"/>
            <a:ext cx="2239920" cy="1855800"/>
          </a:xfrm>
          <a:prstGeom prst="rect">
            <a:avLst/>
          </a:prstGeom>
          <a:ln w="0">
            <a:noFill/>
          </a:ln>
        </p:spPr>
      </p:pic>
      <p:pic>
        <p:nvPicPr>
          <p:cNvPr id="66" name="Rxte" descr=""/>
          <p:cNvPicPr/>
          <p:nvPr/>
        </p:nvPicPr>
        <p:blipFill>
          <a:blip r:embed="rId2"/>
          <a:stretch/>
        </p:blipFill>
        <p:spPr>
          <a:xfrm>
            <a:off x="6553080" y="3429000"/>
            <a:ext cx="22734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1T19:57:45Z</dcterms:created>
  <dc:creator>julio</dc:creator>
  <dc:description/>
  <dc:language>en-US</dc:language>
  <cp:lastModifiedBy>José Carlos Neves de Araújo</cp:lastModifiedBy>
  <dcterms:modified xsi:type="dcterms:W3CDTF">2004-06-03T11:56:46Z</dcterms:modified>
  <cp:revision>12</cp:revision>
  <dc:subject/>
  <dc:title>EVOLUCAO DO ESPECTRO SYNCHROTRON NO  MARKARIAN 421 DURANTE A CAMPANHA 1998</dc:title>
</cp:coreProperties>
</file>