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B94-20CC-41FC-9360-870BC0C6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D17-8BEE-4F47-919D-C4D77DAF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6E6-F693-4EAC-AA60-7A3DA7C8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E83-E74C-4DF1-928E-2A183720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88C-1AE8-497E-A3D2-B3368C4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107-49CA-4C24-8F2F-3711E94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87E-DEA1-4FCA-BD48-8A5B3699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424-FA9E-4F3E-B6EB-12775F8C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885-4C68-4D6E-8934-905CDC3D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9CA-BAA5-4B22-8F63-78BF272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BA9-3549-4FFD-B448-F4CEBEB4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20F-4B39-4A4B-80E0-DB06C6D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DB2B-2CDD-406D-B578-66FF93F234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0"/>
            <a:ext cx="77724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isotropia d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spalhamento Compt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Inverso na Galáx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gamma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655344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62485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imes New Roman"/>
              </a:rPr>
              <a:t>Igor V. Moskalenko and Andrew W. St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3280" y="594360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b2b2b2"/>
                </a:solidFill>
                <a:latin typeface="Arial Narrow"/>
              </a:rPr>
              <a:t>courtesy of: NASA GS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66520" y="3049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5ed53"/>
                </a:solidFill>
                <a:uFillTx/>
                <a:latin typeface="Times New Roman"/>
              </a:rPr>
              <a:t>Integração em ângul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35440" y="119556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Facilitar os cálculos impondo dois limi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9640" y="244476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1) </a:t>
            </a:r>
            <a:r>
              <a:rPr b="0" lang="pt-BR" sz="2400" spc="-1" strike="noStrike" u="sng">
                <a:solidFill>
                  <a:srgbClr val="f5ed53"/>
                </a:solidFill>
                <a:uFillTx/>
                <a:latin typeface="Times New Roman"/>
              </a:rPr>
              <a:t>Limite cinemático</a:t>
            </a: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 - efeito be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8840" y="379404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2) </a:t>
            </a:r>
            <a:r>
              <a:rPr b="0" lang="pt-BR" sz="2400" spc="-1" strike="noStrike" u="sng">
                <a:solidFill>
                  <a:srgbClr val="f5ed53"/>
                </a:solidFill>
                <a:uFillTx/>
                <a:latin typeface="Times New Roman"/>
              </a:rPr>
              <a:t>Limite geométrico</a:t>
            </a: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 - disco galá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447920" y="304920"/>
            <a:ext cx="5257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Cálculos e discussõe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90520"/>
            <a:ext cx="449568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73320"/>
            <a:ext cx="822960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57200"/>
            <a:ext cx="685800" cy="533520"/>
          </a:xfrm>
          <a:prstGeom prst="downArrowCallout">
            <a:avLst>
              <a:gd name="adj1" fmla="val 32138"/>
              <a:gd name="adj2" fmla="val 32136"/>
              <a:gd name="adj3" fmla="val 16667"/>
              <a:gd name="adj4" fmla="val 66667"/>
            </a:avLst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5257800"/>
            <a:ext cx="3657600" cy="1600200"/>
          </a:xfrm>
          <a:custGeom>
            <a:avLst/>
            <a:gdLst/>
            <a:ahLst/>
            <a:rect l="l" t="t" r="r" b="b"/>
            <a:pathLst>
              <a:path w="2304" h="1008">
                <a:moveTo>
                  <a:pt x="2304" y="0"/>
                </a:moveTo>
                <a:lnTo>
                  <a:pt x="2304" y="1008"/>
                </a:lnTo>
                <a:lnTo>
                  <a:pt x="0" y="1008"/>
                </a:lnTo>
              </a:path>
            </a:pathLst>
          </a:custGeom>
          <a:noFill/>
          <a:ln w="28440">
            <a:solidFill>
              <a:srgbClr val="f5e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371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Este efeito tem grandes implicações geométricas na distribuição da radiação, exceto para energias men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2133720"/>
            <a:ext cx="8021520" cy="4647960"/>
            <a:chOff x="685800" y="2133720"/>
            <a:chExt cx="8021520" cy="4647960"/>
          </a:xfrm>
        </p:grpSpPr>
        <p:sp>
          <p:nvSpPr>
            <p:cNvPr id="136" name=""/>
            <p:cNvSpPr/>
            <p:nvPr/>
          </p:nvSpPr>
          <p:spPr>
            <a:xfrm>
              <a:off x="987480" y="2133720"/>
              <a:ext cx="592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Cálculo para três casos : 1) disco transpar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                                        </a:t>
              </a: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2) superfície emiss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                                        </a:t>
              </a: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3) disco isotrópico</a:t>
              </a:r>
              <a:r>
                <a:rPr b="0" lang="pt-BR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685800" y="3276720"/>
              <a:ext cx="8021520" cy="35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447920" y="304920"/>
            <a:ext cx="5257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Raios-gama galáticos difuso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90520"/>
            <a:ext cx="449568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57200"/>
            <a:ext cx="685800" cy="533520"/>
          </a:xfrm>
          <a:prstGeom prst="downArrowCallout">
            <a:avLst>
              <a:gd name="adj1" fmla="val 32138"/>
              <a:gd name="adj2" fmla="val 32136"/>
              <a:gd name="adj3" fmla="val 16667"/>
              <a:gd name="adj4" fmla="val 66667"/>
            </a:avLst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257800"/>
            <a:ext cx="3657600" cy="1600200"/>
          </a:xfrm>
          <a:custGeom>
            <a:avLst/>
            <a:gdLst/>
            <a:ahLst/>
            <a:rect l="l" t="t" r="r" b="b"/>
            <a:pathLst>
              <a:path w="2304" h="1008">
                <a:moveTo>
                  <a:pt x="2304" y="0"/>
                </a:moveTo>
                <a:lnTo>
                  <a:pt x="2304" y="1008"/>
                </a:lnTo>
                <a:lnTo>
                  <a:pt x="0" y="1008"/>
                </a:lnTo>
              </a:path>
            </a:pathLst>
          </a:custGeom>
          <a:noFill/>
          <a:ln w="28440">
            <a:solidFill>
              <a:srgbClr val="f5e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371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O 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</a:rPr>
              <a:t>campo de radiação interestelar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 é essencial para propagação e produção de raios-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66688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 distribuição e o tipo de emissor é consid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Dados IRAS e C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03848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Na prática calcula-se a taxa anisotr/isotr tomando em conta os diferentes tipos de emissores e intepolamos os dados na integração de uma linha de vis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95280" y="0"/>
            <a:ext cx="648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5ed53"/>
                </a:solidFill>
                <a:uFillTx/>
                <a:latin typeface="Times New Roman"/>
              </a:rPr>
              <a:t>Relevância da radiação anisotrópic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5ed53"/>
                </a:solidFill>
                <a:uFillTx/>
                <a:latin typeface="Times New Roman"/>
              </a:rPr>
              <a:t>várias coordenadas galá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mpton-fig6" descr=""/>
          <p:cNvPicPr/>
          <p:nvPr/>
        </p:nvPicPr>
        <p:blipFill>
          <a:blip r:embed="rId1"/>
          <a:stretch/>
        </p:blipFill>
        <p:spPr>
          <a:xfrm>
            <a:off x="366840" y="1052640"/>
            <a:ext cx="84103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4640" y="22860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5ed53"/>
                </a:solidFill>
                <a:uFillTx/>
                <a:latin typeface="Times New Roman"/>
              </a:rPr>
              <a:t>Comparação com outros mecanismos de radi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ompton-fig7" descr=""/>
          <p:cNvPicPr/>
          <p:nvPr/>
        </p:nvPicPr>
        <p:blipFill>
          <a:blip r:embed="rId1"/>
          <a:stretch/>
        </p:blipFill>
        <p:spPr>
          <a:xfrm>
            <a:off x="433440" y="928800"/>
            <a:ext cx="8277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22560" y="380880"/>
            <a:ext cx="65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5ed53"/>
                </a:solidFill>
                <a:uFillTx/>
                <a:latin typeface="Times New Roman"/>
              </a:rPr>
              <a:t>Comparação com observações do EG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ompton-fig9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105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47920" y="304920"/>
            <a:ext cx="5257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Conclusã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90520"/>
            <a:ext cx="449568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457200"/>
            <a:ext cx="685800" cy="533520"/>
          </a:xfrm>
          <a:prstGeom prst="downArrowCallout">
            <a:avLst>
              <a:gd name="adj1" fmla="val 32138"/>
              <a:gd name="adj2" fmla="val 32136"/>
              <a:gd name="adj3" fmla="val 16667"/>
              <a:gd name="adj4" fmla="val 66667"/>
            </a:avLst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5257800"/>
            <a:ext cx="3657600" cy="1600200"/>
          </a:xfrm>
          <a:custGeom>
            <a:avLst/>
            <a:gdLst/>
            <a:ahLst/>
            <a:rect l="l" t="t" r="r" b="b"/>
            <a:pathLst>
              <a:path w="2304" h="1008">
                <a:moveTo>
                  <a:pt x="2304" y="0"/>
                </a:moveTo>
                <a:lnTo>
                  <a:pt x="2304" y="1008"/>
                </a:lnTo>
                <a:lnTo>
                  <a:pt x="0" y="1008"/>
                </a:lnTo>
              </a:path>
            </a:pathLst>
          </a:custGeom>
          <a:noFill/>
          <a:ln w="28440">
            <a:solidFill>
              <a:srgbClr val="f5e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371600"/>
            <a:ext cx="7331040" cy="1191240"/>
          </a:xfrm>
          <a:prstGeom prst="rect">
            <a:avLst/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O ICS (Inverse Compton Scattering) é o maior responsável na emissão difusa da Galáxia em torno de 1M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440" y="2741760"/>
            <a:ext cx="7331040" cy="1557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Foi mostrado que a anisotropia do Campo de Radiação Interestelar tem efeito significativo na intensidade e distribuição angular da radiação gama  e pode aumentar o fluxo a altas latitudes em até 4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557600"/>
            <a:ext cx="7331040" cy="825480"/>
          </a:xfrm>
          <a:prstGeom prst="rect">
            <a:avLst/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Este efeito deveria ser levado em conta nas estimativas de cálculos da radiação extra-galática de 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5040" y="5672160"/>
            <a:ext cx="7331040" cy="459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ed53"/>
                </a:solidFill>
                <a:latin typeface="Times New Roman"/>
              </a:rPr>
              <a:t>Aumento do entendimento dos raios-cós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228600"/>
            <a:ext cx="27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roduçã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824544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ção Compton Invers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arece ter um papel importante na geração de radiação difusa pela Galáx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360" y="25146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GeV excess”  - medidas do EG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6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odelo conhecido: observações locais do espectro de prótons e elétrons generalizadas para toda a Galáxia. Com restrições acima de 1 G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Em larga escala (para toda a galáxia) o espectro pode ser difer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Radiação Compton Inversa explicaria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228600"/>
            <a:ext cx="27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roduçã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219320"/>
            <a:ext cx="8839440" cy="5205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Impacto nos estudos extra-galático e cosm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0492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ncluir essa radiação no cálculo da radiação de galáx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05320"/>
            <a:ext cx="67816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 origem do fundo gama observado é desconheci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os que tentam explicar: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9999"/>
                </a:solidFill>
                <a:latin typeface="Times New Roman"/>
              </a:rPr>
              <a:t>radiação Hawking, aniquilação de partículas exóticas no Universo primitivo, galáxias ativ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228600"/>
            <a:ext cx="27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roduçã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21932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álculos da Radiação Compton In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5228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órmula de Jones (1968) – espalhamento isotró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895480"/>
            <a:ext cx="678204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 distribuição não é isotrópica: Di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8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mo para distribuições isotrópicas a radiação observada não é isotróp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Portanto esse é um problema antigo que não foi calc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5425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ntão, como esse processo contribui consideravelmente para a radiação gama da galáxia é de interesse astrofísico incluir seus cálcu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14300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O Espalhamento Compton Inverso em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um campo anisotrópico de fóton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90520"/>
            <a:ext cx="449568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73320"/>
            <a:ext cx="822960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57200"/>
            <a:ext cx="685800" cy="533520"/>
          </a:xfrm>
          <a:prstGeom prst="downArrowCallout">
            <a:avLst>
              <a:gd name="adj1" fmla="val 32138"/>
              <a:gd name="adj2" fmla="val 32136"/>
              <a:gd name="adj3" fmla="val 16667"/>
              <a:gd name="adj4" fmla="val 66667"/>
            </a:avLst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4648320"/>
            <a:ext cx="3657600" cy="1600200"/>
          </a:xfrm>
          <a:custGeom>
            <a:avLst/>
            <a:gdLst/>
            <a:ahLst/>
            <a:rect l="l" t="t" r="r" b="b"/>
            <a:pathLst>
              <a:path w="2304" h="1008">
                <a:moveTo>
                  <a:pt x="2304" y="0"/>
                </a:moveTo>
                <a:lnTo>
                  <a:pt x="2304" y="1008"/>
                </a:lnTo>
                <a:lnTo>
                  <a:pt x="0" y="1008"/>
                </a:lnTo>
              </a:path>
            </a:pathLst>
          </a:custGeom>
          <a:noFill/>
          <a:ln w="28440">
            <a:solidFill>
              <a:srgbClr val="f5e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895480" y="1752480"/>
            <a:ext cx="4496040" cy="822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2840" y="19051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axa de reaçõ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97200" y="4592520"/>
            <a:ext cx="1571400" cy="1463760"/>
            <a:chOff x="1897200" y="4592520"/>
            <a:chExt cx="1571400" cy="1463760"/>
          </a:xfrm>
        </p:grpSpPr>
        <p:sp>
          <p:nvSpPr>
            <p:cNvPr id="70" name=""/>
            <p:cNvSpPr/>
            <p:nvPr/>
          </p:nvSpPr>
          <p:spPr>
            <a:xfrm rot="2324400">
              <a:off x="2133360" y="4572000"/>
              <a:ext cx="228600" cy="836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511000" y="4678200"/>
              <a:ext cx="957240" cy="1378080"/>
            </a:xfrm>
            <a:prstGeom prst="line">
              <a:avLst/>
            </a:prstGeom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2003400" y="5311800"/>
              <a:ext cx="1465200" cy="744480"/>
            </a:xfrm>
            <a:prstGeom prst="line">
              <a:avLst/>
            </a:prstGeom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205600" y="4317480"/>
            <a:ext cx="1544760" cy="1497960"/>
            <a:chOff x="5205600" y="4317480"/>
            <a:chExt cx="1544760" cy="1497960"/>
          </a:xfrm>
        </p:grpSpPr>
        <p:sp>
          <p:nvSpPr>
            <p:cNvPr id="74" name=""/>
            <p:cNvSpPr/>
            <p:nvPr/>
          </p:nvSpPr>
          <p:spPr>
            <a:xfrm rot="13240800">
              <a:off x="6276600" y="5005080"/>
              <a:ext cx="228600" cy="836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05960" y="4317480"/>
              <a:ext cx="910440" cy="1409400"/>
            </a:xfrm>
            <a:prstGeom prst="line">
              <a:avLst/>
            </a:prstGeom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05600" y="4317480"/>
              <a:ext cx="1439280" cy="793440"/>
            </a:xfrm>
            <a:prstGeom prst="line">
              <a:avLst/>
            </a:prstGeom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75840" y="2819520"/>
            <a:ext cx="6173640" cy="1835280"/>
            <a:chOff x="375840" y="2819520"/>
            <a:chExt cx="6173640" cy="1835280"/>
          </a:xfrm>
        </p:grpSpPr>
        <p:sp>
          <p:nvSpPr>
            <p:cNvPr id="78" name=""/>
            <p:cNvSpPr/>
            <p:nvPr/>
          </p:nvSpPr>
          <p:spPr>
            <a:xfrm>
              <a:off x="375840" y="2819520"/>
              <a:ext cx="46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Espalhamento por um único elétron</a:t>
              </a: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182600" y="3998880"/>
              <a:ext cx="693360" cy="655920"/>
              <a:chOff x="1182600" y="3998880"/>
              <a:chExt cx="693360" cy="655920"/>
            </a:xfrm>
          </p:grpSpPr>
          <p:sp>
            <p:nvSpPr>
              <p:cNvPr id="80" name=""/>
              <p:cNvSpPr/>
              <p:nvPr/>
            </p:nvSpPr>
            <p:spPr>
              <a:xfrm>
                <a:off x="1182600" y="3998880"/>
                <a:ext cx="38124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flipV="1">
                <a:off x="1477080" y="4292640"/>
                <a:ext cx="398880" cy="36216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846680" y="3983040"/>
              <a:ext cx="692280" cy="655920"/>
              <a:chOff x="4846680" y="3983040"/>
              <a:chExt cx="692280" cy="655920"/>
            </a:xfrm>
          </p:grpSpPr>
          <p:sp>
            <p:nvSpPr>
              <p:cNvPr id="83" name=""/>
              <p:cNvSpPr/>
              <p:nvPr/>
            </p:nvSpPr>
            <p:spPr>
              <a:xfrm>
                <a:off x="4846680" y="398304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5140440" y="4276800"/>
                <a:ext cx="398520" cy="36216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916920" y="35053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f. do elétr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2800" y="350532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f. do laborató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933200" y="4697280"/>
            <a:ext cx="2445120" cy="1308240"/>
            <a:chOff x="1933200" y="4697280"/>
            <a:chExt cx="2445120" cy="1308240"/>
          </a:xfrm>
        </p:grpSpPr>
        <p:sp>
          <p:nvSpPr>
            <p:cNvPr id="88" name=""/>
            <p:cNvSpPr/>
            <p:nvPr/>
          </p:nvSpPr>
          <p:spPr>
            <a:xfrm flipH="1" flipV="1">
              <a:off x="1933200" y="4697280"/>
              <a:ext cx="1484280" cy="1308240"/>
            </a:xfrm>
            <a:prstGeom prst="line">
              <a:avLst/>
            </a:prstGeom>
            <a:ln w="38160">
              <a:solidFill>
                <a:srgbClr val="f5ed5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38440" y="496404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5ed53"/>
                  </a:solidFill>
                  <a:latin typeface="Arial"/>
                </a:rPr>
                <a:t>Fóton incid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254560" y="4370760"/>
            <a:ext cx="2540880" cy="1356840"/>
            <a:chOff x="5254560" y="4370760"/>
            <a:chExt cx="2540880" cy="1356840"/>
          </a:xfrm>
        </p:grpSpPr>
        <p:sp>
          <p:nvSpPr>
            <p:cNvPr id="91" name=""/>
            <p:cNvSpPr/>
            <p:nvPr/>
          </p:nvSpPr>
          <p:spPr>
            <a:xfrm>
              <a:off x="5254560" y="4370760"/>
              <a:ext cx="1440000" cy="1356840"/>
            </a:xfrm>
            <a:prstGeom prst="line">
              <a:avLst/>
            </a:prstGeom>
            <a:ln w="38160">
              <a:solidFill>
                <a:srgbClr val="f5ed5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6960" y="4518000"/>
              <a:ext cx="187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5ed53"/>
                  </a:solidFill>
                  <a:latin typeface="Arial"/>
                </a:rPr>
                <a:t>Fóton espalh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14200" y="152280"/>
            <a:ext cx="8929800" cy="1632240"/>
            <a:chOff x="214200" y="152280"/>
            <a:chExt cx="8929800" cy="16322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14200" y="698400"/>
              <a:ext cx="351648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056200" y="685800"/>
              <a:ext cx="408780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871800" y="1231920"/>
              <a:ext cx="914400" cy="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46000" y="152280"/>
              <a:ext cx="52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5ed53"/>
                  </a:solidFill>
                  <a:latin typeface="Times New Roman"/>
                </a:rPr>
                <a:t>Distribuição de elétrons monoenergét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747080" y="2209680"/>
            <a:ext cx="5057640" cy="1497240"/>
            <a:chOff x="1747080" y="2209680"/>
            <a:chExt cx="5057640" cy="14972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2057400" y="2819520"/>
              <a:ext cx="42670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747080" y="2209680"/>
              <a:ext cx="505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5ed53"/>
                  </a:solidFill>
                  <a:latin typeface="Times New Roman"/>
                </a:rPr>
                <a:t>Distribuição de fótons monoenergét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0" y="4191120"/>
            <a:ext cx="8164440" cy="1295280"/>
            <a:chOff x="0" y="4191120"/>
            <a:chExt cx="8164440" cy="129528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57200" y="4572000"/>
              <a:ext cx="7707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191120"/>
              <a:ext cx="6934320" cy="0"/>
            </a:xfrm>
            <a:prstGeom prst="line">
              <a:avLst/>
            </a:prstGeom>
            <a:ln w="38160">
              <a:solidFill>
                <a:srgbClr val="cce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512800" y="5409720"/>
            <a:ext cx="3215160" cy="1145880"/>
            <a:chOff x="2512800" y="5409720"/>
            <a:chExt cx="3215160" cy="1145880"/>
          </a:xfrm>
        </p:grpSpPr>
        <p:sp>
          <p:nvSpPr>
            <p:cNvPr id="105" name=""/>
            <p:cNvSpPr/>
            <p:nvPr/>
          </p:nvSpPr>
          <p:spPr>
            <a:xfrm flipV="1">
              <a:off x="3276720" y="5409720"/>
              <a:ext cx="0" cy="685800"/>
            </a:xfrm>
            <a:prstGeom prst="line">
              <a:avLst/>
            </a:prstGeom>
            <a:ln w="38160">
              <a:solidFill>
                <a:srgbClr val="cc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12800" y="6095880"/>
              <a:ext cx="32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00"/>
                  </a:solidFill>
                  <a:latin typeface="Times New Roman"/>
                </a:rPr>
                <a:t>Ângulo de espalh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06960" cy="695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58760" y="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99"/>
                </a:solidFill>
                <a:latin typeface="Times New Roman"/>
              </a:rPr>
              <a:t>Distribuição dos fótons espalhados por energia (espetr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78320" y="2843280"/>
            <a:ext cx="4343400" cy="397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066680" y="1295280"/>
            <a:ext cx="7069320" cy="2486160"/>
            <a:chOff x="1066680" y="1295280"/>
            <a:chExt cx="7069320" cy="2486160"/>
          </a:xfrm>
        </p:grpSpPr>
        <p:grpSp>
          <p:nvGrpSpPr>
            <p:cNvPr id="111" name=""/>
            <p:cNvGrpSpPr/>
            <p:nvPr/>
          </p:nvGrpSpPr>
          <p:grpSpPr>
            <a:xfrm>
              <a:off x="1066680" y="1295280"/>
              <a:ext cx="7069320" cy="1419480"/>
              <a:chOff x="1066680" y="1295280"/>
              <a:chExt cx="7069320" cy="1419480"/>
            </a:xfrm>
          </p:grpSpPr>
          <p:sp>
            <p:nvSpPr>
              <p:cNvPr id="112" name=""/>
              <p:cNvSpPr/>
              <p:nvPr/>
            </p:nvSpPr>
            <p:spPr>
              <a:xfrm>
                <a:off x="4191120" y="1295280"/>
                <a:ext cx="0" cy="609840"/>
              </a:xfrm>
              <a:prstGeom prst="line">
                <a:avLst/>
              </a:prstGeom>
              <a:ln w="3816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1981080"/>
                <a:ext cx="7069320" cy="733680"/>
              </a:xfrm>
              <a:prstGeom prst="rect">
                <a:avLst/>
              </a:prstGeom>
              <a:ln w="9360">
                <a:solidFill>
                  <a:srgbClr val="ff9999"/>
                </a:solidFill>
                <a:miter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4344840" y="1295280"/>
                <a:ext cx="3183120" cy="459720"/>
              </a:xfrm>
              <a:prstGeom prst="rect">
                <a:avLst/>
              </a:prstGeom>
              <a:noFill/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00"/>
                    </a:solidFill>
                    <a:latin typeface="Times New Roman"/>
                  </a:rPr>
                  <a:t>efetuando as integraçõ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1066680" y="2743200"/>
              <a:ext cx="18288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1066680" y="3276720"/>
              <a:ext cx="1828800" cy="50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173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123720" y="990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Caso isotró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7200" y="472428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ed53"/>
                </a:solidFill>
                <a:latin typeface="Times New Roman"/>
              </a:rPr>
              <a:t>Comparação dos dois ca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36840" y="38088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ed53"/>
                </a:solidFill>
                <a:latin typeface="Times New Roman"/>
              </a:rPr>
              <a:t>Comparação dos dois 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4503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1640" y="5715000"/>
            <a:ext cx="23781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ferença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ndo zeta =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9896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9320" y="5715000"/>
            <a:ext cx="26222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médias nos do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sos são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06:00:16Z</dcterms:created>
  <dc:creator>eder</dc:creator>
  <dc:description/>
  <dc:language>en-US</dc:language>
  <cp:lastModifiedBy>José Carlos Neves de Araújo</cp:lastModifiedBy>
  <dcterms:modified xsi:type="dcterms:W3CDTF">2004-06-03T11:56:10Z</dcterms:modified>
  <cp:revision>14</cp:revision>
  <dc:subject/>
  <dc:title>Apresentação do PowerPoint</dc:title>
</cp:coreProperties>
</file>