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B93-73BF-4CB4-932E-77311112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19E-BE09-45C1-BB2D-73596F86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EF3-28B2-4802-9722-E69CC514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CD1-C0DE-42FE-B90B-A21E7AD2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BD0-69DE-4027-A3A6-BDACD27E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058-BC69-4219-9079-8F68DCB2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9D8-312C-41E5-8C28-11A6B705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913-B075-4A3A-B741-F70A0C76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E2E-AE0B-4B6F-80D4-890D5D4B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7A3-D31D-4B02-8172-DB28812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D2C-1B93-479A-8BD8-0FF0E12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7C7-3B3E-4ACB-81E0-A74566B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65D1-A6B9-4696-98A3-C27AC54C7A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EVOLUCAO DO ESPECTRO SYNCHROTRON NO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MARKARIAN 421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DURANTE A CAMPANHA 199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Procesos Radiativo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Julio 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TEI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600200"/>
            <a:ext cx="723888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BeppoSAX 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atellite per Astronomia X, "Beppo"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 Estende banda a baixas ener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tei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ECS (Low Energy Concentrator  Spectro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0,12 – 4,0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MECS (Medium Energy Concentrator Spectro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1,65 – 10 K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EUVE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xtreme Ultraviolet Explo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oram normalizados para ser consistentes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utras observ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ratio de contas dele fluxo EUVE foi esca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 modo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(EUVE) = 1,78  [ F (cts s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)/0,46] x 10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10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rg cm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2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EUVE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193840" cy="2052720"/>
          </a:xfrm>
          <a:prstGeom prst="rect">
            <a:avLst/>
          </a:prstGeom>
          <a:ln w="0">
            <a:noFill/>
          </a:ln>
        </p:spPr>
      </p:pic>
      <p:pic>
        <p:nvPicPr>
          <p:cNvPr id="70" name="Bepposax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19708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. RESULTAD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447920"/>
            <a:ext cx="655344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1. 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A forma do Espectro 0,1 – 25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Abril 24 as observações de RX (ASCA, BeppoSAX, RXTE) e EUVE se sobrepor por 7,44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juste do espectro para cada instru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--&gt;modelo de lei de potênc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s resultados sugerem que se precisa um modelo mais complexo para descrever o espec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a alta energia dele espectro Synchrotron no TEV Blazars está localizado no intervalo RX, por esso a alta calidad dos datas RX no pode ser descrito por uma simple lei de potê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. RESULTAD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1447920"/>
            <a:ext cx="655344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1. 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A forma do Espectro 0,1 – 25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Vários modelos foram considerados para reproduzir os datas observ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ei de potências com um exponencial de cor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(E) = KE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exp (E/E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br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ei de potências quebrados :  F(E) = KE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[1+(E/E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br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)]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ei de potências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unção quadrática no plano log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– log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og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(E) = log (log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, peak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) –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(LogE - log E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 peak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Lei de potências curva é o função quadrática são melh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g1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105160" cy="42973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. RESULTAD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143000"/>
            <a:ext cx="655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1.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 forma do Espectro 0,1 – 25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juste pel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unção quad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057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eppoS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3276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eppoS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19051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S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2209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X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2. O Espectro de Tempo Resolv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600200"/>
            <a:ext cx="6324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nergia total  cubierta:  0,13 – 7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ASCA   0,7 – 7 KeV ;   EUVE   0,13 – 0,18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UVE observação cubrió a campanha entera (Abril 19,4 – May 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ajuste de o espectro combinado EUVE/AS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(Ajuste de modelo quadrát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 evolução dos parâmetros derivados muestr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pico do energi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 mais alto cuando  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pico de flux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 mais 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2. O Espectro de Tempo Resolv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fg2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429080" cy="4952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615636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pico do energi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 mais alto cuando  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pico de flux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 mais 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2. O Espectro de Tempo Resolv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g3" descr=""/>
          <p:cNvPicPr/>
          <p:nvPr/>
        </p:nvPicPr>
        <p:blipFill>
          <a:blip r:embed="rId1"/>
          <a:stretch/>
        </p:blipFill>
        <p:spPr>
          <a:xfrm>
            <a:off x="4191120" y="2514600"/>
            <a:ext cx="4343400" cy="4075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66680" y="434340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mprova que a função quadrática ajusta a correlação entre pico de energia e pico de flu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71500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1" lang="pt-BR" sz="2400" spc="-1" strike="noStrike" baseline="-25000">
                <a:solidFill>
                  <a:srgbClr val="ff9900"/>
                </a:solidFill>
                <a:latin typeface="Times New Roman"/>
              </a:rPr>
              <a:t>peak</a:t>
            </a:r>
            <a:r>
              <a:rPr b="1" lang="pt-BR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ff9900"/>
                </a:solidFill>
                <a:latin typeface="Times New Roman"/>
              </a:rPr>
              <a:t> F </a:t>
            </a:r>
            <a:r>
              <a:rPr b="1" lang="pt-BR" sz="2400" spc="-1" strike="noStrike" baseline="-25000">
                <a:solidFill>
                  <a:srgbClr val="ff9900"/>
                </a:solidFill>
                <a:latin typeface="Times New Roman"/>
              </a:rPr>
              <a:t>(0.1-10 keV)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7652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unção quadrática no intervalo total de 0,1 – 25 KeV valida solo para a época cuandu as observações BeppoSAX, ASCA e RXTE foram disponibles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895480"/>
            <a:ext cx="2971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atas ASCA/EUVE : Gap de energia para E&lt; 7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atas de BeppoSAX não tem gap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2. O Espectro de Tempo Resolv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82880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s esta relação varia entre um ano e outro. Em alguns casos a correlação es mais fraca que em out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g4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571500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3. Variações Espectrais no Flar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828800"/>
            <a:ext cx="624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Intervalo amplio de energias: EUVE, ASCA e RX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(0,1 – 25 K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bservações de RXTE em mínimo de fla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nalises da parte de crescimento dele fl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ASCA/RXTE ajustado por lei de potência curva, logo combinado com datas  de EU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volução de espectro para 2do, 4to e 5to flares (60, 260 e 340 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ASCA/EUVE depois de 40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3. Variações Espectrais no Flar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828800"/>
            <a:ext cx="624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egundo flares (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RXTE-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EU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pois de 40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g5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738600" cy="4684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72200" y="4343400"/>
            <a:ext cx="1371600" cy="4572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imes New Roman"/>
              </a:rPr>
              <a:t>Os 7 dias de observações no RX e UV do Blazar TeV Mrk 421 no 1998 reveló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905120"/>
            <a:ext cx="7772400" cy="44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s Flares no raios X acontecem repetid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nalisais espectral resuelto no tempo (satélites ASCA, RXTE, BeppoSAX e EUVE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tudio da evolução espectral dos fla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Correlacao entre o pico de energia E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peak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 pico o Fluxo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 peak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 variações espectrales mudam de flare a flare no campanha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orma dos flares devido a aparição de um novo componente espec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Correlação entre o pico do Fluxo synchcrotron e o Fluxo Te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3. Variações Espectrais no Flar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1828800"/>
            <a:ext cx="624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egundo flares (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260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RXTE-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EU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pois de 40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g6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3768840" cy="4724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248520" y="4419720"/>
            <a:ext cx="1371600" cy="5331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3. Variações Espectrais no Flar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828800"/>
            <a:ext cx="624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egundo flares (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340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RXTE-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EU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pois de 40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fg7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379440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95880" y="4114800"/>
            <a:ext cx="1371600" cy="4572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4. A Correlação dos RX e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600200"/>
            <a:ext cx="6248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TeV Blazars eletrones acelerados a altas energias (RX e T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s Blazars são variarei em corto tem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HEGRA  e Whipple 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   :              T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, RXTE, EUVE            :  0,1 –25 KeV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combinado em RX e ajuste por função quad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de 0,1 a 25 KeV simultâneo com observação T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4. A Correlação dos RX e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18148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O pico de espectro synchrotron es resolvida e pico acontece em intervalo de 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095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HEGRA/ASCA/EUVE            Whipple/ASCA/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fg8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715000" cy="403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52480" y="495288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O pico de espectro synchrotron es resolvida e pico acontece em intervalo de 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5238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Correlação da posição de o fluxo de pico synchrotron com o Fluxo Te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fg9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953240" cy="379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6172200"/>
            <a:ext cx="548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Ajuste com lei de potências F</a:t>
            </a:r>
            <a:r>
              <a:rPr b="0" lang="pt-BR" sz="2000" spc="-1" strike="noStrike" baseline="-25000">
                <a:solidFill>
                  <a:srgbClr val="ff0000"/>
                </a:solidFill>
                <a:latin typeface="Times New Roman"/>
              </a:rPr>
              <a:t>TeV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0" lang="pt-BR" sz="2000" spc="-1" strike="noStrike" baseline="-25000">
                <a:solidFill>
                  <a:srgbClr val="ff0000"/>
                </a:solidFill>
                <a:latin typeface="Times New Roman"/>
              </a:rPr>
              <a:t>Sy,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4. A Correlação dos RX e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. DISC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1523880"/>
            <a:ext cx="624852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Uma lei de potências curvada e uma função quadrática reproduzem o espectro combinado EUVE, BeppoSAX, ASCA, R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xiste uma correlação entre Energia e o Fluxo em o pico synchrotron de espectro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Relação cambia de flare a fl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 relativa amplitude de crescimento em diferentes energias também cambia de flare a flare. Esto não pode ser por distribuição de eletrones </a:t>
            </a:r>
            <a:r>
              <a:rPr b="0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concavidade indica 2 diferentes componentes espectrais coexistem a  o inicio dos f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. DISC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1523880"/>
            <a:ext cx="72388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egundo Teoria em Mrk 42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Cambio em parâmetros (B, Emax dos eletrones, 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Incremento repentino de Emáx dos eletrones acel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lare em RX e T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utras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Cada flare é resultado de uma distribuição de elétron  por separado (eletrones de jet e outras regiões generam diferentes componentes  de emiss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Outra: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Choques internos de camadas por sua diversa velocidade</a:t>
            </a:r>
            <a:r>
              <a:rPr b="0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superposição de muitos fla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NTRODUCA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143000"/>
            <a:ext cx="7620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Qué são os Blaz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9810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Núcleos Ativos de Galáxias (AG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osem “jets” alinhado perto a linha de vi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048120"/>
            <a:ext cx="71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rincipal característica dos Blaza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ua alto fluxo observado ( Radio a Raios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orte variabilidade e forte polariz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419720"/>
            <a:ext cx="71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espectro consiste em 2 p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ico no intervalo de </a:t>
            </a:r>
            <a:r>
              <a:rPr b="0" lang="pt-BR" sz="2000" spc="-1" strike="noStrike">
                <a:solidFill>
                  <a:srgbClr val="00cc00"/>
                </a:solidFill>
                <a:latin typeface="Times New Roman"/>
              </a:rPr>
              <a:t>Radio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Optico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>
                <a:solidFill>
                  <a:srgbClr val="9933ff"/>
                </a:solidFill>
                <a:latin typeface="Times New Roman"/>
              </a:rPr>
              <a:t>UV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(e RX em alguns ca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ico no intervalo 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Rx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forte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R</a:t>
            </a:r>
            <a:r>
              <a:rPr b="0" lang="pt-BR" sz="2000" spc="-1" strike="noStrike">
                <a:solidFill>
                  <a:srgbClr val="ff99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ynchrotron_Radiation_med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438280" cy="1917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miss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2133720"/>
            <a:ext cx="624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00"/>
                </a:solidFill>
                <a:latin typeface="Times New Roman"/>
              </a:rPr>
              <a:t>Radio-Optico-U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 Alta Polarização de emissão radi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 O Pico é produzido via pro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ynchro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Raio X - Raios </a:t>
            </a:r>
            <a:r>
              <a:rPr b="0" lang="pt-BR" sz="2000" spc="-1" strike="noStrike">
                <a:solidFill>
                  <a:srgbClr val="ff9900"/>
                </a:solidFill>
                <a:latin typeface="Symbol"/>
                <a:ea typeface="Symbol"/>
              </a:rPr>
              <a:t>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 Pico com energias al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(“Upscattering Compton”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otones “nascidos” pela me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opulação de eletrones relativis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mg12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00996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3880" y="1676520"/>
            <a:ext cx="6096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s Blazars pico Synchrotron em RX ---&gt;R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...TeV  Blazars !!!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s TeV Blazars tem o fluxo synchrotron variarei muito forte e rápido na banda RX (eletrones acelerados a alta energ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pico Synchrotron e muito importante por 2 razo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luxo           --&gt;  Potência total emitida dos Bla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reqüência   -- &gt; máxima energia das partíc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                            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radiantes obtida em processos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              de acel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eVblazar5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209680" cy="21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295280"/>
            <a:ext cx="662940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imes New Roman"/>
              </a:rPr>
              <a:t>Mrk 421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Blazars cercãos conhec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oi o primeiro blazar descoberto que era emissor 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TeV (EGRET, Whipple 199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variação de fluxo foi observado em diferentes escalas de tempo. (~Ho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rk421" descr=""/>
          <p:cNvPicPr/>
          <p:nvPr/>
        </p:nvPicPr>
        <p:blipFill>
          <a:blip r:embed="rId1"/>
          <a:stretch/>
        </p:blipFill>
        <p:spPr>
          <a:xfrm>
            <a:off x="6477120" y="6858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8" name="mkn421_TOO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77812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609480"/>
            <a:ext cx="4191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 campanha 1998 de observação de Mrk 421 no intervalo de TeV foi usando vários telescópios no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m outros comprimentos de onda se usarom satéli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R X (ASCA, RXTE,BeppoS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UV  (EU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Optica (BVRI) WEBT  collab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Radio  Metsähovi Radio Observatory</a:t>
            </a:r>
            <a:r>
              <a:rPr b="0" sz="20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kn421spectro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091040" cy="32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. OBSERVAÇÃO E ANALISIS DE DA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183672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Estudar a evolução de espectro de alta energia como função de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Estudar correlação espectro synchcrotron com o Fluxo T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Da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RX  (ASCA, RXTE, BeppoSAX) e  UV   (EU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Observacoes :</a:t>
            </a: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-Campanha de Abril 1998 em RX e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Descrição da variação de 7 dias de pico sychro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TEI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523880"/>
            <a:ext cx="7238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ASCA (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Advanced Satellite for Cosmology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Astrophys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bservações: Abril 23.97-30.8 UT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teitor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2 Solid State Imaging Spectrometers (SI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2 Gas Imaging Spectrometers (GI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RXTE: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The Rossi X-ray Timing Explorer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tende a banda observada por ASCA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ltas energ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teitor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CA (Proporcional Counter Array; 2-60 KeV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HEXTE (High Energy X-Ray Timming Experime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15-200 K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sca_medium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2239920" cy="1855800"/>
          </a:xfrm>
          <a:prstGeom prst="rect">
            <a:avLst/>
          </a:prstGeom>
          <a:ln w="0">
            <a:noFill/>
          </a:ln>
        </p:spPr>
      </p:pic>
      <p:pic>
        <p:nvPicPr>
          <p:cNvPr id="66" name="Rxte" descr=""/>
          <p:cNvPicPr/>
          <p:nvPr/>
        </p:nvPicPr>
        <p:blipFill>
          <a:blip r:embed="rId2"/>
          <a:stretch/>
        </p:blipFill>
        <p:spPr>
          <a:xfrm>
            <a:off x="6553080" y="3429000"/>
            <a:ext cx="2273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19:57:45Z</dcterms:created>
  <dc:creator>julio</dc:creator>
  <dc:description/>
  <dc:language>en-US</dc:language>
  <cp:lastModifiedBy>José Carlos Neves de Araújo</cp:lastModifiedBy>
  <dcterms:modified xsi:type="dcterms:W3CDTF">2004-06-03T11:56:46Z</dcterms:modified>
  <cp:revision>12</cp:revision>
  <dc:subject/>
  <dc:title>EVOLUCAO DO ESPECTRO SYNCHROTRON NO  MARKARIAN 421 DURANTE A CAMPANHA 1998</dc:title>
</cp:coreProperties>
</file>